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31.wmf" ContentType="image/x-wmf"/>
  <Override PartName="/ppt/media/image35.wmf" ContentType="image/x-wmf"/>
  <Override PartName="/ppt/media/image15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5.png" ContentType="image/png"/>
  <Override PartName="/ppt/media/image1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AA7-3391-4AE1-A76E-2F825E75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054-D1BD-4CE0-89F9-7B78E74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EAB-6083-4797-B7FF-26D523EE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42F-84BB-4FE2-88AC-EFB2C11F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109-49F8-4E1B-93DB-7E59D90D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DC92-CB62-425E-9BF9-C214D3DF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7CD-115F-41C5-B2DD-1EE27C7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A69-EFD4-478C-AF5B-B4FB3515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E022-7512-4599-A36B-0BF1F16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52C1-CEB6-40CA-A30C-106119A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D99-123B-4EBB-B629-4116A6D0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573-49B9-48CA-9177-B629383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C550-D694-4107-A85B-DFBD1A6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CB6-C00B-4866-B534-264D0746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7940-08A8-4070-998E-A3E9EA2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6DCD-ADC0-48BF-8EDD-2AA638CA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094-AD7A-4788-852E-6A23A3A6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65-5CEF-4669-96D8-628B661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FCC-603D-42F4-A303-BDD5B2C2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E9E-3C40-483A-9813-47667BE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3A1-3341-4D66-BFE1-883A069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9E4-9932-42C2-98F6-983F8ED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645-B4E0-4FD5-9B7E-7DBE922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756-C246-423B-8DD2-499CB63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F93-AE51-4E43-B372-60E8FA6B4D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2166-92BB-4252-9F24-9AD6EDA027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0.png"/><Relationship Id="rId32" Type="http://schemas.openxmlformats.org/officeDocument/2006/relationships/image" Target="../media/image31.wmf"/><Relationship Id="rId33" Type="http://schemas.openxmlformats.org/officeDocument/2006/relationships/image" Target="../media/image32.wmf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24.png"/><Relationship Id="rId37" Type="http://schemas.openxmlformats.org/officeDocument/2006/relationships/image" Target="../media/image33.png"/><Relationship Id="rId38" Type="http://schemas.openxmlformats.org/officeDocument/2006/relationships/image" Target="../media/image14.png"/><Relationship Id="rId39" Type="http://schemas.openxmlformats.org/officeDocument/2006/relationships/image" Target="../media/image35.wmf"/><Relationship Id="rId40" Type="http://schemas.openxmlformats.org/officeDocument/2006/relationships/image" Target="../media/image36.wmf"/><Relationship Id="rId41" Type="http://schemas.openxmlformats.org/officeDocument/2006/relationships/image" Target="../media/image6.wmf"/><Relationship Id="rId42" Type="http://schemas.openxmlformats.org/officeDocument/2006/relationships/image" Target="../media/image7.wmf"/><Relationship Id="rId43" Type="http://schemas.openxmlformats.org/officeDocument/2006/relationships/image" Target="../media/image24.png"/><Relationship Id="rId44" Type="http://schemas.openxmlformats.org/officeDocument/2006/relationships/image" Target="../media/image25.wmf"/><Relationship Id="rId45" Type="http://schemas.openxmlformats.org/officeDocument/2006/relationships/image" Target="../media/image26.wmf"/><Relationship Id="rId46" Type="http://schemas.openxmlformats.org/officeDocument/2006/relationships/image" Target="../media/image27.wmf"/><Relationship Id="rId47" Type="http://schemas.openxmlformats.org/officeDocument/2006/relationships/image" Target="../media/image28.wmf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9.png"/><Relationship Id="rId52" Type="http://schemas.openxmlformats.org/officeDocument/2006/relationships/image" Target="../media/image22.png"/><Relationship Id="rId5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41WG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ort of the data collection experts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 April 2006, R41WG agre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 types of vehicles to be tes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 test protocols to be used (R41 (reference); ISO362-2; ASEP; roadside t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ere have been 2 meetings of data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sts have been done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M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rman test data added to database (+ 3 more IMMA MCs) on 1st Sept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98760" y="287280"/>
            <a:ext cx="60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120" y="316404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all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73640" y="3164040"/>
            <a:ext cx="179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g engine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8400" y="6165720"/>
            <a:ext cx="14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tility / Comf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440" y="268200"/>
            <a:ext cx="25560" cy="62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20000" y="293760"/>
            <a:ext cx="25560" cy="620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59400" y="503280"/>
            <a:ext cx="25200" cy="575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68200"/>
            <a:ext cx="8521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71760"/>
            <a:ext cx="8521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6477120"/>
            <a:ext cx="85215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3120" y="272520"/>
            <a:ext cx="8521920" cy="62089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547560" cy="358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594000" cy="399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284720" y="1844640"/>
            <a:ext cx="541440" cy="41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2852640"/>
            <a:ext cx="633600" cy="331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01" name=""/>
          <p:cNvGrpSpPr/>
          <p:nvPr/>
        </p:nvGrpSpPr>
        <p:grpSpPr>
          <a:xfrm>
            <a:off x="5219640" y="2781360"/>
            <a:ext cx="727200" cy="387360"/>
            <a:chOff x="5219640" y="2781360"/>
            <a:chExt cx="727200" cy="387360"/>
          </a:xfrm>
        </p:grpSpPr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5219640" y="2781360"/>
              <a:ext cx="727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5219640" y="2781360"/>
              <a:ext cx="727200" cy="38736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8028000" y="5229360"/>
            <a:ext cx="523800" cy="349200"/>
            <a:chOff x="8028000" y="5229360"/>
            <a:chExt cx="523800" cy="34920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9"/>
            <a:stretch/>
          </p:blipFill>
          <p:spPr>
            <a:xfrm>
              <a:off x="8028000" y="5229360"/>
              <a:ext cx="523800" cy="3492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236000" y="5013360"/>
            <a:ext cx="634680" cy="385560"/>
            <a:chOff x="7236000" y="5013360"/>
            <a:chExt cx="634680" cy="385560"/>
          </a:xfrm>
        </p:grpSpPr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7236000" y="5013360"/>
              <a:ext cx="634680" cy="385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3851280" y="4076640"/>
            <a:ext cx="522360" cy="351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4643280" y="5013360"/>
            <a:ext cx="649440" cy="409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5003640" y="2133720"/>
            <a:ext cx="649440" cy="4111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547640" y="1916280"/>
            <a:ext cx="5130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411280" y="1916280"/>
            <a:ext cx="50508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2340000" y="270828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3059280" y="5661000"/>
            <a:ext cx="409320" cy="262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1258920" y="5373720"/>
            <a:ext cx="504720" cy="325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468360" y="5300640"/>
            <a:ext cx="504720" cy="3189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1"/>
          <a:stretch/>
        </p:blipFill>
        <p:spPr>
          <a:xfrm>
            <a:off x="4572000" y="4365720"/>
            <a:ext cx="747720" cy="39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2"/>
          <a:stretch/>
        </p:blipFill>
        <p:spPr>
          <a:xfrm>
            <a:off x="468360" y="5877000"/>
            <a:ext cx="285840" cy="288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3"/>
          <a:stretch/>
        </p:blipFill>
        <p:spPr>
          <a:xfrm>
            <a:off x="3924360" y="4724280"/>
            <a:ext cx="581040" cy="331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4"/>
          <a:stretch/>
        </p:blipFill>
        <p:spPr>
          <a:xfrm>
            <a:off x="5940360" y="333360"/>
            <a:ext cx="539640" cy="355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812000" y="1628640"/>
            <a:ext cx="43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7080" y="765000"/>
            <a:ext cx="51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2708280"/>
            <a:ext cx="88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ON/OFF 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292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38920" y="3068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8200" y="551664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740720" y="1197000"/>
            <a:ext cx="576360" cy="380520"/>
            <a:chOff x="7740720" y="1197000"/>
            <a:chExt cx="576360" cy="380520"/>
          </a:xfrm>
        </p:grpSpPr>
        <p:pic>
          <p:nvPicPr>
            <p:cNvPr id="130" name="" descr=""/>
            <p:cNvPicPr/>
            <p:nvPr/>
          </p:nvPicPr>
          <p:blipFill>
            <a:blip r:embed="rId25"/>
            <a:stretch/>
          </p:blipFill>
          <p:spPr>
            <a:xfrm>
              <a:off x="7783920" y="119700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6"/>
            <a:stretch/>
          </p:blipFill>
          <p:spPr>
            <a:xfrm>
              <a:off x="7783920" y="1197000"/>
              <a:ext cx="533160" cy="3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7"/>
            <a:stretch/>
          </p:blipFill>
          <p:spPr>
            <a:xfrm>
              <a:off x="7740720" y="1242720"/>
              <a:ext cx="5331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8"/>
            <a:stretch/>
          </p:blipFill>
          <p:spPr>
            <a:xfrm>
              <a:off x="7740720" y="1242720"/>
              <a:ext cx="533160" cy="33480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5219640" y="1484280"/>
            <a:ext cx="60660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6156360" y="1484280"/>
            <a:ext cx="633240" cy="3603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8172360" y="1844640"/>
            <a:ext cx="600120" cy="378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386920" y="22766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99640" y="1916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9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86920" y="2637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4560" y="1916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6200" y="765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74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6200" y="5157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7280" y="2565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8560" y="321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9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6200" y="2637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8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364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7800" y="357336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CRUI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920" y="479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7280" y="5445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13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99640" y="5661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4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328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8200" y="2349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8560" y="6237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7840" y="573408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656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292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6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172360" y="4384800"/>
            <a:ext cx="644760" cy="412560"/>
            <a:chOff x="8172360" y="4384800"/>
            <a:chExt cx="644760" cy="412560"/>
          </a:xfrm>
        </p:grpSpPr>
        <p:pic>
          <p:nvPicPr>
            <p:cNvPr id="158" name="" descr=""/>
            <p:cNvPicPr/>
            <p:nvPr/>
          </p:nvPicPr>
          <p:blipFill>
            <a:blip r:embed="rId32"/>
            <a:stretch/>
          </p:blipFill>
          <p:spPr>
            <a:xfrm>
              <a:off x="8172360" y="4384800"/>
              <a:ext cx="64476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  <p:pic>
          <p:nvPicPr>
            <p:cNvPr id="159" name="" descr=""/>
            <p:cNvPicPr/>
            <p:nvPr/>
          </p:nvPicPr>
          <p:blipFill>
            <a:blip r:embed="rId33"/>
            <a:stretch/>
          </p:blipFill>
          <p:spPr>
            <a:xfrm>
              <a:off x="8172360" y="4384800"/>
              <a:ext cx="644760" cy="41256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60" name=""/>
          <p:cNvSpPr/>
          <p:nvPr/>
        </p:nvSpPr>
        <p:spPr>
          <a:xfrm>
            <a:off x="8242560" y="486900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9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3492360" y="5300640"/>
            <a:ext cx="447840" cy="258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3418200" y="558972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0560" y="27813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5"/>
          <a:stretch/>
        </p:blipFill>
        <p:spPr>
          <a:xfrm>
            <a:off x="4859280" y="836640"/>
            <a:ext cx="669960" cy="349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931280" y="12682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9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99640" y="41497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552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3280" y="450864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399 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6"/>
          <a:stretch/>
        </p:blipFill>
        <p:spPr>
          <a:xfrm>
            <a:off x="7236000" y="620640"/>
            <a:ext cx="647640" cy="426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7"/>
          <a:stretch/>
        </p:blipFill>
        <p:spPr>
          <a:xfrm>
            <a:off x="1187280" y="4797360"/>
            <a:ext cx="574920" cy="3254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8"/>
          <a:stretch/>
        </p:blipFill>
        <p:spPr>
          <a:xfrm>
            <a:off x="6445080" y="2467080"/>
            <a:ext cx="663840" cy="3794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7956720" y="3716280"/>
            <a:ext cx="685800" cy="360360"/>
            <a:chOff x="7956720" y="3716280"/>
            <a:chExt cx="685800" cy="360360"/>
          </a:xfrm>
        </p:grpSpPr>
        <p:pic>
          <p:nvPicPr>
            <p:cNvPr id="172" name="" descr=""/>
            <p:cNvPicPr/>
            <p:nvPr/>
          </p:nvPicPr>
          <p:blipFill>
            <a:blip r:embed="rId39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40"/>
            <a:stretch/>
          </p:blipFill>
          <p:spPr>
            <a:xfrm>
              <a:off x="7956720" y="3716280"/>
              <a:ext cx="685800" cy="360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sp>
        <p:nvSpPr>
          <p:cNvPr id="174" name=""/>
          <p:cNvSpPr/>
          <p:nvPr/>
        </p:nvSpPr>
        <p:spPr>
          <a:xfrm>
            <a:off x="6588000" y="1197000"/>
            <a:ext cx="43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99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7120" y="515772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x 12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33360"/>
            <a:ext cx="86364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844560"/>
            <a:ext cx="863640" cy="3682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427640" y="2781360"/>
            <a:ext cx="714240" cy="396720"/>
            <a:chOff x="4427640" y="2781360"/>
            <a:chExt cx="714240" cy="396720"/>
          </a:xfrm>
        </p:grpSpPr>
        <p:pic>
          <p:nvPicPr>
            <p:cNvPr id="179" name="" descr=""/>
            <p:cNvPicPr/>
            <p:nvPr/>
          </p:nvPicPr>
          <p:blipFill>
            <a:blip r:embed="rId41"/>
            <a:stretch/>
          </p:blipFill>
          <p:spPr>
            <a:xfrm>
              <a:off x="4427640" y="2781360"/>
              <a:ext cx="71424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2"/>
            <a:stretch/>
          </p:blipFill>
          <p:spPr>
            <a:xfrm>
              <a:off x="4427640" y="2781360"/>
              <a:ext cx="714240" cy="396720"/>
            </a:xfrm>
            <a:prstGeom prst="rect">
              <a:avLst/>
            </a:prstGeom>
            <a:ln w="57240">
              <a:solidFill>
                <a:srgbClr val="00ff00"/>
              </a:solidFill>
              <a:miter/>
            </a:ln>
          </p:spPr>
        </p:pic>
      </p:grpSp>
      <p:sp>
        <p:nvSpPr>
          <p:cNvPr id="181" name=""/>
          <p:cNvSpPr/>
          <p:nvPr/>
        </p:nvSpPr>
        <p:spPr>
          <a:xfrm>
            <a:off x="4643280" y="3213000"/>
            <a:ext cx="33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65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333360"/>
            <a:ext cx="792000" cy="3682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3"/>
          <a:stretch/>
        </p:blipFill>
        <p:spPr>
          <a:xfrm>
            <a:off x="6516720" y="765000"/>
            <a:ext cx="563400" cy="3715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7378920" y="11253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1000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836640"/>
            <a:ext cx="792000" cy="368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7800" y="69228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SUPERS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1700280"/>
            <a:ext cx="63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SPORT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TOUR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640" y="3716280"/>
            <a:ext cx="1335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UTILITY &amp; SCOO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740720" y="2276640"/>
            <a:ext cx="576360" cy="380520"/>
            <a:chOff x="7740720" y="2276640"/>
            <a:chExt cx="576360" cy="380520"/>
          </a:xfrm>
        </p:grpSpPr>
        <p:pic>
          <p:nvPicPr>
            <p:cNvPr id="190" name="" descr=""/>
            <p:cNvPicPr/>
            <p:nvPr/>
          </p:nvPicPr>
          <p:blipFill>
            <a:blip r:embed="rId44"/>
            <a:stretch/>
          </p:blipFill>
          <p:spPr>
            <a:xfrm>
              <a:off x="7783920" y="2276640"/>
              <a:ext cx="533160" cy="33552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1" name="" descr=""/>
            <p:cNvPicPr/>
            <p:nvPr/>
          </p:nvPicPr>
          <p:blipFill>
            <a:blip r:embed="rId45"/>
            <a:stretch/>
          </p:blipFill>
          <p:spPr>
            <a:xfrm>
              <a:off x="7783920" y="2276640"/>
              <a:ext cx="533160" cy="33552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46"/>
            <a:stretch/>
          </p:blipFill>
          <p:spPr>
            <a:xfrm>
              <a:off x="7740720" y="2322360"/>
              <a:ext cx="533160" cy="33480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pic>
          <p:nvPicPr>
            <p:cNvPr id="193" name="" descr=""/>
            <p:cNvPicPr/>
            <p:nvPr/>
          </p:nvPicPr>
          <p:blipFill>
            <a:blip r:embed="rId47"/>
            <a:stretch/>
          </p:blipFill>
          <p:spPr>
            <a:xfrm>
              <a:off x="7740720" y="2322360"/>
              <a:ext cx="533160" cy="334800"/>
            </a:xfrm>
            <a:prstGeom prst="rect">
              <a:avLst/>
            </a:prstGeom>
            <a:ln w="57240">
              <a:solidFill>
                <a:srgbClr val="3366ff"/>
              </a:solidFill>
              <a:miter/>
            </a:ln>
          </p:spPr>
        </p:pic>
      </p:grpSp>
      <p:pic>
        <p:nvPicPr>
          <p:cNvPr id="194" name="" descr=""/>
          <p:cNvPicPr/>
          <p:nvPr/>
        </p:nvPicPr>
        <p:blipFill>
          <a:blip r:embed="rId48"/>
          <a:stretch/>
        </p:blipFill>
        <p:spPr>
          <a:xfrm>
            <a:off x="3708360" y="5805360"/>
            <a:ext cx="397080" cy="254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707280" y="609300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3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328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5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9"/>
          <a:stretch/>
        </p:blipFill>
        <p:spPr>
          <a:xfrm>
            <a:off x="2484360" y="558972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0"/>
          <a:stretch/>
        </p:blipFill>
        <p:spPr>
          <a:xfrm>
            <a:off x="1908000" y="5589720"/>
            <a:ext cx="482760" cy="307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978560" y="5950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9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1"/>
          <a:stretch/>
        </p:blipFill>
        <p:spPr>
          <a:xfrm>
            <a:off x="1332000" y="5950080"/>
            <a:ext cx="433440" cy="279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1330920" y="623736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1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2"/>
          <a:stretch/>
        </p:blipFill>
        <p:spPr>
          <a:xfrm>
            <a:off x="900000" y="5877000"/>
            <a:ext cx="285840" cy="28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98920" y="62373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8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ISO362-2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results/experience proves that ISO362-2 is practical and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matches R41WG decisions but will be checked for ga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ts consider it is diverse and broad enough to be the basis for further discussions of ISO362-2, e.g. for limit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ASEP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posed ASEP test was subject to interpretation and resulted in large spread of test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ssues still to be resolved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lope of the limit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ment toler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cope of application, after analysis of test results, e.g. possible exclusion of CVT veh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ther the present database can validate the new ASEP concept or if extra tests are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monitor R51 ASEP TF discussions for new id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41WG to consider if the ASEP test should be a regular part of type approval or only used in case of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Roadside enforcemen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t agreement: stationary and possible drive-by enforcement tests would be options for CPs in R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posed roadside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 entry speeds and unstable accel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ability problems and variable 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group to review database for datasets that can be used as test parameters/reference values for enforcement testing, e.g. outputs from the basic ISO362-2 WOT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for R41WG and GRB to discu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eatment of OE and RESS (role of R41 and R9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ole of: type approval, CoP and roadside enforc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827f4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group to analyse enlarged database, to resolve remain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to be circulated by 31 Octob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Data group meeting: 22 Nov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ort and recommendations to R41WG as soon as possible after that, depending on results/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7:39:47Z</dcterms:created>
  <dc:creator>HME-A</dc:creator>
  <dc:description/>
  <dc:language>en-US</dc:language>
  <cp:lastModifiedBy>Administrator</cp:lastModifiedBy>
  <dcterms:modified xsi:type="dcterms:W3CDTF">2006-09-02T12:33:40Z</dcterms:modified>
  <cp:revision>38</cp:revision>
  <dc:subject/>
  <dc:title>ISO362-2</dc:title>
</cp:coreProperties>
</file>