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541-251A-4186-BE24-1CB02248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6BA-BEBA-4470-8088-F5B0A51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786-D382-46E7-A63F-BBF5C0DB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5C0-A244-4A5D-9D11-FD3C7D2B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036-FD36-4294-9851-FA982C6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D34-1F42-43BC-B328-1816712C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167-73A1-4380-BD2D-E348C95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605-15CD-494C-9EB7-D1C1F18F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B88-4EB1-4D16-993D-7CDECAF6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4A0-5D9A-446E-9549-B88B80D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A6F-A993-42F2-88D9-16B2DBD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F36-F077-4193-9933-15CF8BF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E4DA-B186-45B6-824E-3B08E3B9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vehicl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/R41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144360"/>
            <a:ext cx="72010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6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3:53:12Z</dcterms:created>
  <dc:creator>本田技研工業株式会社</dc:creator>
  <dc:description/>
  <dc:language>en-US</dc:language>
  <cp:lastModifiedBy>本田技研工業株式会社</cp:lastModifiedBy>
  <dcterms:modified xsi:type="dcterms:W3CDTF">2006-04-27T03:57:34Z</dcterms:modified>
  <cp:revision>1</cp:revision>
  <dc:subject/>
  <dc:title>Test vehicle selection</dc:title>
</cp:coreProperties>
</file>