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335-7F66-4830-BD7A-9B66DA85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409-7AA4-4B90-BA25-AA17A4F0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942-62BA-4819-B0DB-17BE3F16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7D5-3044-4425-95BD-66007D4E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890-DFE2-47B0-B00F-58B79E37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35F-43E3-4AB3-9338-BCEA7044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3E1-BB70-4255-8A76-F2367C37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004-F3AE-4CC6-BB68-6615058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369-6E8D-4AF7-8AF5-5119207B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BF5-C347-4F6D-8D1E-2842622F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674-3F14-48BA-9633-74AD7682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ED1-5B8C-460C-9F66-DD6B3CA6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BDD2-8E8C-4342-B478-84390F7EC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vehicle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6/R41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144360"/>
            <a:ext cx="72010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6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3:53:12Z</dcterms:created>
  <dc:creator>本田技研工業株式会社</dc:creator>
  <dc:description/>
  <dc:language>en-US</dc:language>
  <cp:lastModifiedBy>本田技研工業株式会社</cp:lastModifiedBy>
  <dcterms:modified xsi:type="dcterms:W3CDTF">2006-04-27T03:57:34Z</dcterms:modified>
  <cp:revision>1</cp:revision>
  <dc:subject/>
  <dc:title>Test vehicle selection</dc:title>
</cp:coreProperties>
</file>