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DEE-4D56-4B80-9F38-40EE4A3B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141-842F-43B1-B8DC-92B7BABF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F08-2208-4C5B-BF5D-010A0A4F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769-E566-4AA2-8DF8-93C54EA8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0A0-92FA-42AA-8F85-0F92C75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9D9-2A3D-4F09-A025-13E9D0D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A29-7D67-4BF3-B062-95646D5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B91-DAFD-47CB-88FE-19BB3217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29-0E60-4F1A-8573-612EF56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11E-23D0-46B1-AEF9-E314C0B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74B-26E8-4861-A1C5-2523BB1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BE2-B69D-4463-A80F-E749560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D1C-BB59-4F83-B190-4740034AD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ed Analysis of Pedestrian Accident Situation and Portion Addressed by this G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SP Ad Hoc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va, Switz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5-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705720" cy="384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6992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R Target Population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RA Data (AIS 2-6 Head and Leg Inju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864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to Hood/Fender: Adults = 40%, Children = 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267080" y="1752480"/>
            <a:ext cx="6480" cy="3075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7913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to Windshield: Adults = 19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57400" y="3276720"/>
            <a:ext cx="21780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2600" y="56386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638680"/>
            <a:ext cx="1371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609588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 to Bumper: Adults =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57400" y="3048120"/>
            <a:ext cx="2178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57400" y="3581280"/>
            <a:ext cx="217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89080" y="4238640"/>
            <a:ext cx="217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4419720" cy="209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943600" cy="2109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6812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R Target Population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ry Sourc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26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G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1148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73480" y="239220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Unicode MS"/>
              </a:rPr>
              <a:t>x 40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600" y="2666880"/>
            <a:ext cx="38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6720" y="2670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Unicode MS"/>
              </a:rPr>
              <a:t>x 19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4760" y="239076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Unicode MS"/>
              </a:rPr>
              <a:t>x 58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5040" y="428292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Unicode MS"/>
              </a:rPr>
              <a:t>x 50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17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24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32%</a:t>
            </a:r>
            <a:r>
              <a:rPr b="1" lang="en-US" sz="1500" spc="-1" strike="noStrike">
                <a:solidFill>
                  <a:srgbClr val="ccccff"/>
                </a:solidFill>
                <a:latin typeface="Arial Unicode MS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276720"/>
            <a:ext cx="68580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276720"/>
            <a:ext cx="68580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1520" y="593712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4647960"/>
            <a:ext cx="2743200" cy="1600200"/>
          </a:xfrm>
          <a:prstGeom prst="line">
            <a:avLst/>
          </a:prstGeom>
          <a:ln w="316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809880"/>
            <a:ext cx="2743200" cy="685800"/>
          </a:xfrm>
          <a:prstGeom prst="line">
            <a:avLst/>
          </a:prstGeom>
          <a:ln w="316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733920"/>
            <a:ext cx="1143000" cy="609480"/>
          </a:xfrm>
          <a:prstGeom prst="line">
            <a:avLst/>
          </a:prstGeom>
          <a:ln w="316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1600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Head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191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Leg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6:42:07Z</dcterms:created>
  <dc:creator>rsaul</dc:creator>
  <dc:description/>
  <dc:language>en-US</dc:language>
  <cp:lastModifiedBy>Hubert</cp:lastModifiedBy>
  <dcterms:modified xsi:type="dcterms:W3CDTF">2005-12-12T15:29:09Z</dcterms:modified>
  <cp:revision>7</cp:revision>
  <dc:subject/>
  <dc:title>Analysis of Pedestrian Accident Situation and Portion Addressed by this GTR</dc:title>
</cp:coreProperties>
</file>