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E865-CFD4-4EA6-B558-26CEC88E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34128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B4E5-36A0-473A-82F6-4416D114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34128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AECD-CAB2-4222-8F5D-624F2C33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34128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62A-C007-4A55-977B-0ECFDD56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DE68-DC2D-4633-9D0E-7F2A181E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34128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3868-372E-4983-AEA0-D9ED4125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34128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EB82-D65E-4BED-90EB-93410CB3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34128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0461-D5DB-4B03-BAA2-432DCF28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800" y="34128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F7FC-C8A7-461C-B30A-BFC97772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828800" y="380520"/>
            <a:ext cx="69343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6EFB-33D5-481F-AA85-0A651E3F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34128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3BB9-C37D-41B6-9F5D-D7E65F1B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34128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54E7-7C92-47CA-B038-001FD3A4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34128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59A7-8A5C-41D7-AB49-124873CD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34128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7ADB-8192-4BB8-A5E0-C161B00B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34128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359A-7A38-4717-8503-7258845B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34128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A5DB-A728-4A35-A3B4-A82D73F4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34128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44E5-D662-45E5-8DF0-56E1EA63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34128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519-4026-472C-B31B-3996A6CE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34128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D2D3-FBB4-481D-8BA9-EB1EDEDF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34128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F90-F35C-438F-A052-0D56B2DA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380520"/>
            <a:ext cx="69343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632-BDDF-43F5-B837-D7F67835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34128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019B-87D1-4B33-8AE9-10B323E6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34128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C64D-8537-46C5-BA98-6C7C6373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34128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68E5-9707-4AA7-9349-164CAC51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3EC209-E0F2-4B9E-9AED-BC14085C8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19320"/>
            <a:ext cx="7696080" cy="9504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50000">
                <a:srgbClr val="3251b1"/>
              </a:gs>
              <a:gs pos="100000">
                <a:srgbClr val="00279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228600" y="228600"/>
          <a:ext cx="1490760" cy="1309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149076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828800" y="38052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48342F-045C-4EA4-BB09-8FA5260583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219320"/>
            <a:ext cx="7696080" cy="9504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50000">
                <a:srgbClr val="3251b1"/>
              </a:gs>
              <a:gs pos="100000">
                <a:srgbClr val="00279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8600" y="228600"/>
          <a:ext cx="1490760" cy="1309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149076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752480" y="380880"/>
            <a:ext cx="3124080" cy="695520"/>
            <a:chOff x="1752480" y="380880"/>
            <a:chExt cx="3124080" cy="695520"/>
          </a:xfrm>
        </p:grpSpPr>
        <p:sp>
          <p:nvSpPr>
            <p:cNvPr id="52" name=""/>
            <p:cNvSpPr/>
            <p:nvPr/>
          </p:nvSpPr>
          <p:spPr>
            <a:xfrm>
              <a:off x="3284280" y="380880"/>
              <a:ext cx="773280" cy="695520"/>
            </a:xfrm>
            <a:custGeom>
              <a:avLst/>
              <a:gdLst/>
              <a:ahLst/>
              <a:rect l="l" t="t" r="r" b="b"/>
              <a:pathLst>
                <a:path w="1874" h="1680">
                  <a:moveTo>
                    <a:pt x="1" y="1181"/>
                  </a:moveTo>
                  <a:lnTo>
                    <a:pt x="1" y="1186"/>
                  </a:lnTo>
                  <a:lnTo>
                    <a:pt x="0" y="1200"/>
                  </a:lnTo>
                  <a:lnTo>
                    <a:pt x="0" y="1222"/>
                  </a:lnTo>
                  <a:lnTo>
                    <a:pt x="2" y="1251"/>
                  </a:lnTo>
                  <a:lnTo>
                    <a:pt x="5" y="1286"/>
                  </a:lnTo>
                  <a:lnTo>
                    <a:pt x="12" y="1324"/>
                  </a:lnTo>
                  <a:lnTo>
                    <a:pt x="24" y="1366"/>
                  </a:lnTo>
                  <a:lnTo>
                    <a:pt x="40" y="1410"/>
                  </a:lnTo>
                  <a:lnTo>
                    <a:pt x="62" y="1455"/>
                  </a:lnTo>
                  <a:lnTo>
                    <a:pt x="91" y="1498"/>
                  </a:lnTo>
                  <a:lnTo>
                    <a:pt x="128" y="1540"/>
                  </a:lnTo>
                  <a:lnTo>
                    <a:pt x="173" y="1579"/>
                  </a:lnTo>
                  <a:lnTo>
                    <a:pt x="227" y="1613"/>
                  </a:lnTo>
                  <a:lnTo>
                    <a:pt x="293" y="1643"/>
                  </a:lnTo>
                  <a:lnTo>
                    <a:pt x="367" y="1665"/>
                  </a:lnTo>
                  <a:lnTo>
                    <a:pt x="456" y="1680"/>
                  </a:lnTo>
                  <a:lnTo>
                    <a:pt x="1766" y="1677"/>
                  </a:lnTo>
                  <a:lnTo>
                    <a:pt x="1874" y="443"/>
                  </a:lnTo>
                  <a:lnTo>
                    <a:pt x="1874" y="439"/>
                  </a:lnTo>
                  <a:lnTo>
                    <a:pt x="1874" y="427"/>
                  </a:lnTo>
                  <a:lnTo>
                    <a:pt x="1873" y="410"/>
                  </a:lnTo>
                  <a:lnTo>
                    <a:pt x="1870" y="386"/>
                  </a:lnTo>
                  <a:lnTo>
                    <a:pt x="1865" y="358"/>
                  </a:lnTo>
                  <a:lnTo>
                    <a:pt x="1856" y="327"/>
                  </a:lnTo>
                  <a:lnTo>
                    <a:pt x="1845" y="291"/>
                  </a:lnTo>
                  <a:lnTo>
                    <a:pt x="1828" y="255"/>
                  </a:lnTo>
                  <a:lnTo>
                    <a:pt x="1807" y="218"/>
                  </a:lnTo>
                  <a:lnTo>
                    <a:pt x="1780" y="180"/>
                  </a:lnTo>
                  <a:lnTo>
                    <a:pt x="1746" y="143"/>
                  </a:lnTo>
                  <a:lnTo>
                    <a:pt x="1706" y="108"/>
                  </a:lnTo>
                  <a:lnTo>
                    <a:pt x="1657" y="76"/>
                  </a:lnTo>
                  <a:lnTo>
                    <a:pt x="1600" y="47"/>
                  </a:lnTo>
                  <a:lnTo>
                    <a:pt x="1533" y="22"/>
                  </a:lnTo>
                  <a:lnTo>
                    <a:pt x="1458" y="3"/>
                  </a:lnTo>
                  <a:lnTo>
                    <a:pt x="198" y="0"/>
                  </a:lnTo>
                  <a:lnTo>
                    <a:pt x="156" y="448"/>
                  </a:lnTo>
                  <a:lnTo>
                    <a:pt x="1419" y="448"/>
                  </a:lnTo>
                  <a:lnTo>
                    <a:pt x="1395" y="628"/>
                  </a:lnTo>
                  <a:lnTo>
                    <a:pt x="618" y="628"/>
                  </a:lnTo>
                  <a:lnTo>
                    <a:pt x="611" y="628"/>
                  </a:lnTo>
                  <a:lnTo>
                    <a:pt x="595" y="627"/>
                  </a:lnTo>
                  <a:lnTo>
                    <a:pt x="569" y="627"/>
                  </a:lnTo>
                  <a:lnTo>
                    <a:pt x="535" y="629"/>
                  </a:lnTo>
                  <a:lnTo>
                    <a:pt x="493" y="634"/>
                  </a:lnTo>
                  <a:lnTo>
                    <a:pt x="447" y="643"/>
                  </a:lnTo>
                  <a:lnTo>
                    <a:pt x="396" y="657"/>
                  </a:lnTo>
                  <a:lnTo>
                    <a:pt x="345" y="677"/>
                  </a:lnTo>
                  <a:lnTo>
                    <a:pt x="291" y="704"/>
                  </a:lnTo>
                  <a:lnTo>
                    <a:pt x="237" y="740"/>
                  </a:lnTo>
                  <a:lnTo>
                    <a:pt x="186" y="784"/>
                  </a:lnTo>
                  <a:lnTo>
                    <a:pt x="137" y="839"/>
                  </a:lnTo>
                  <a:lnTo>
                    <a:pt x="92" y="905"/>
                  </a:lnTo>
                  <a:lnTo>
                    <a:pt x="54" y="984"/>
                  </a:lnTo>
                  <a:lnTo>
                    <a:pt x="24" y="1075"/>
                  </a:lnTo>
                  <a:lnTo>
                    <a:pt x="1" y="1181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55280" y="380880"/>
              <a:ext cx="757080" cy="695520"/>
            </a:xfrm>
            <a:custGeom>
              <a:avLst/>
              <a:gdLst/>
              <a:ahLst/>
              <a:rect l="l" t="t" r="r" b="b"/>
              <a:pathLst>
                <a:path w="1838" h="1679">
                  <a:moveTo>
                    <a:pt x="1794" y="448"/>
                  </a:moveTo>
                  <a:lnTo>
                    <a:pt x="1131" y="448"/>
                  </a:lnTo>
                  <a:lnTo>
                    <a:pt x="1007" y="1679"/>
                  </a:lnTo>
                  <a:lnTo>
                    <a:pt x="977" y="1679"/>
                  </a:lnTo>
                  <a:lnTo>
                    <a:pt x="948" y="1679"/>
                  </a:lnTo>
                  <a:lnTo>
                    <a:pt x="919" y="1679"/>
                  </a:lnTo>
                  <a:lnTo>
                    <a:pt x="890" y="1679"/>
                  </a:lnTo>
                  <a:lnTo>
                    <a:pt x="860" y="1679"/>
                  </a:lnTo>
                  <a:lnTo>
                    <a:pt x="831" y="1679"/>
                  </a:lnTo>
                  <a:lnTo>
                    <a:pt x="802" y="1679"/>
                  </a:lnTo>
                  <a:lnTo>
                    <a:pt x="773" y="1679"/>
                  </a:lnTo>
                  <a:lnTo>
                    <a:pt x="744" y="1679"/>
                  </a:lnTo>
                  <a:lnTo>
                    <a:pt x="715" y="1679"/>
                  </a:lnTo>
                  <a:lnTo>
                    <a:pt x="686" y="1679"/>
                  </a:lnTo>
                  <a:lnTo>
                    <a:pt x="657" y="1679"/>
                  </a:lnTo>
                  <a:lnTo>
                    <a:pt x="627" y="1679"/>
                  </a:lnTo>
                  <a:lnTo>
                    <a:pt x="597" y="1679"/>
                  </a:lnTo>
                  <a:lnTo>
                    <a:pt x="567" y="1679"/>
                  </a:lnTo>
                  <a:lnTo>
                    <a:pt x="535" y="1679"/>
                  </a:lnTo>
                  <a:lnTo>
                    <a:pt x="660" y="448"/>
                  </a:lnTo>
                  <a:lnTo>
                    <a:pt x="0" y="448"/>
                  </a:lnTo>
                  <a:lnTo>
                    <a:pt x="48" y="1"/>
                  </a:lnTo>
                  <a:lnTo>
                    <a:pt x="1838" y="0"/>
                  </a:lnTo>
                  <a:lnTo>
                    <a:pt x="1794" y="448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80400" y="567000"/>
              <a:ext cx="34560" cy="322920"/>
            </a:xfrm>
            <a:custGeom>
              <a:avLst/>
              <a:gdLst/>
              <a:ahLst/>
              <a:rect l="l" t="t" r="r" b="b"/>
              <a:pathLst>
                <a:path w="84" h="782">
                  <a:moveTo>
                    <a:pt x="84" y="0"/>
                  </a:moveTo>
                  <a:lnTo>
                    <a:pt x="0" y="78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80400" y="567000"/>
              <a:ext cx="34560" cy="322920"/>
            </a:xfrm>
            <a:custGeom>
              <a:avLst/>
              <a:gdLst/>
              <a:ahLst/>
              <a:rect l="l" t="t" r="r" b="b"/>
              <a:pathLst>
                <a:path w="84" h="782">
                  <a:moveTo>
                    <a:pt x="84" y="0"/>
                  </a:moveTo>
                  <a:lnTo>
                    <a:pt x="0" y="78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89840" y="819360"/>
              <a:ext cx="348480" cy="61920"/>
            </a:xfrm>
            <a:custGeom>
              <a:avLst/>
              <a:gdLst/>
              <a:ahLst/>
              <a:rect l="l" t="t" r="r" b="b"/>
              <a:pathLst>
                <a:path w="844" h="150">
                  <a:moveTo>
                    <a:pt x="824" y="150"/>
                  </a:moveTo>
                  <a:lnTo>
                    <a:pt x="844" y="0"/>
                  </a:lnTo>
                  <a:lnTo>
                    <a:pt x="24" y="0"/>
                  </a:lnTo>
                  <a:lnTo>
                    <a:pt x="0" y="150"/>
                  </a:lnTo>
                  <a:lnTo>
                    <a:pt x="824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82400" y="381960"/>
              <a:ext cx="794160" cy="694440"/>
            </a:xfrm>
            <a:custGeom>
              <a:avLst/>
              <a:gdLst/>
              <a:ahLst/>
              <a:rect l="l" t="t" r="r" b="b"/>
              <a:pathLst>
                <a:path w="1927" h="1678">
                  <a:moveTo>
                    <a:pt x="0" y="1224"/>
                  </a:moveTo>
                  <a:lnTo>
                    <a:pt x="0" y="1229"/>
                  </a:lnTo>
                  <a:lnTo>
                    <a:pt x="0" y="1240"/>
                  </a:lnTo>
                  <a:lnTo>
                    <a:pt x="0" y="1258"/>
                  </a:lnTo>
                  <a:lnTo>
                    <a:pt x="2" y="1281"/>
                  </a:lnTo>
                  <a:lnTo>
                    <a:pt x="7" y="1309"/>
                  </a:lnTo>
                  <a:lnTo>
                    <a:pt x="15" y="1342"/>
                  </a:lnTo>
                  <a:lnTo>
                    <a:pt x="25" y="1376"/>
                  </a:lnTo>
                  <a:lnTo>
                    <a:pt x="41" y="1413"/>
                  </a:lnTo>
                  <a:lnTo>
                    <a:pt x="61" y="1451"/>
                  </a:lnTo>
                  <a:lnTo>
                    <a:pt x="87" y="1489"/>
                  </a:lnTo>
                  <a:lnTo>
                    <a:pt x="120" y="1527"/>
                  </a:lnTo>
                  <a:lnTo>
                    <a:pt x="160" y="1564"/>
                  </a:lnTo>
                  <a:lnTo>
                    <a:pt x="208" y="1597"/>
                  </a:lnTo>
                  <a:lnTo>
                    <a:pt x="264" y="1627"/>
                  </a:lnTo>
                  <a:lnTo>
                    <a:pt x="330" y="1654"/>
                  </a:lnTo>
                  <a:lnTo>
                    <a:pt x="406" y="1675"/>
                  </a:lnTo>
                  <a:lnTo>
                    <a:pt x="1760" y="1678"/>
                  </a:lnTo>
                  <a:lnTo>
                    <a:pt x="1803" y="1229"/>
                  </a:lnTo>
                  <a:lnTo>
                    <a:pt x="481" y="1229"/>
                  </a:lnTo>
                  <a:lnTo>
                    <a:pt x="565" y="447"/>
                  </a:lnTo>
                  <a:lnTo>
                    <a:pt x="1880" y="447"/>
                  </a:lnTo>
                  <a:lnTo>
                    <a:pt x="1927" y="0"/>
                  </a:lnTo>
                  <a:lnTo>
                    <a:pt x="1881" y="0"/>
                  </a:lnTo>
                  <a:lnTo>
                    <a:pt x="1837" y="0"/>
                  </a:lnTo>
                  <a:lnTo>
                    <a:pt x="1791" y="0"/>
                  </a:lnTo>
                  <a:lnTo>
                    <a:pt x="1746" y="0"/>
                  </a:lnTo>
                  <a:lnTo>
                    <a:pt x="1703" y="0"/>
                  </a:lnTo>
                  <a:lnTo>
                    <a:pt x="1659" y="0"/>
                  </a:lnTo>
                  <a:lnTo>
                    <a:pt x="1616" y="0"/>
                  </a:lnTo>
                  <a:lnTo>
                    <a:pt x="1572" y="1"/>
                  </a:lnTo>
                  <a:lnTo>
                    <a:pt x="1529" y="1"/>
                  </a:lnTo>
                  <a:lnTo>
                    <a:pt x="1486" y="1"/>
                  </a:lnTo>
                  <a:lnTo>
                    <a:pt x="1444" y="1"/>
                  </a:lnTo>
                  <a:lnTo>
                    <a:pt x="1402" y="1"/>
                  </a:lnTo>
                  <a:lnTo>
                    <a:pt x="1359" y="1"/>
                  </a:lnTo>
                  <a:lnTo>
                    <a:pt x="1318" y="1"/>
                  </a:lnTo>
                  <a:lnTo>
                    <a:pt x="1276" y="1"/>
                  </a:lnTo>
                  <a:lnTo>
                    <a:pt x="1236" y="1"/>
                  </a:lnTo>
                  <a:lnTo>
                    <a:pt x="1194" y="2"/>
                  </a:lnTo>
                  <a:lnTo>
                    <a:pt x="1154" y="2"/>
                  </a:lnTo>
                  <a:lnTo>
                    <a:pt x="1113" y="2"/>
                  </a:lnTo>
                  <a:lnTo>
                    <a:pt x="1073" y="2"/>
                  </a:lnTo>
                  <a:lnTo>
                    <a:pt x="1032" y="2"/>
                  </a:lnTo>
                  <a:lnTo>
                    <a:pt x="992" y="2"/>
                  </a:lnTo>
                  <a:lnTo>
                    <a:pt x="952" y="2"/>
                  </a:lnTo>
                  <a:lnTo>
                    <a:pt x="912" y="2"/>
                  </a:lnTo>
                  <a:lnTo>
                    <a:pt x="872" y="2"/>
                  </a:lnTo>
                  <a:lnTo>
                    <a:pt x="833" y="1"/>
                  </a:lnTo>
                  <a:lnTo>
                    <a:pt x="793" y="1"/>
                  </a:lnTo>
                  <a:lnTo>
                    <a:pt x="754" y="1"/>
                  </a:lnTo>
                  <a:lnTo>
                    <a:pt x="714" y="1"/>
                  </a:lnTo>
                  <a:lnTo>
                    <a:pt x="675" y="1"/>
                  </a:lnTo>
                  <a:lnTo>
                    <a:pt x="636" y="0"/>
                  </a:lnTo>
                  <a:lnTo>
                    <a:pt x="597" y="0"/>
                  </a:lnTo>
                  <a:lnTo>
                    <a:pt x="593" y="0"/>
                  </a:lnTo>
                  <a:lnTo>
                    <a:pt x="581" y="2"/>
                  </a:lnTo>
                  <a:lnTo>
                    <a:pt x="564" y="4"/>
                  </a:lnTo>
                  <a:lnTo>
                    <a:pt x="540" y="9"/>
                  </a:lnTo>
                  <a:lnTo>
                    <a:pt x="511" y="18"/>
                  </a:lnTo>
                  <a:lnTo>
                    <a:pt x="478" y="29"/>
                  </a:lnTo>
                  <a:lnTo>
                    <a:pt x="441" y="44"/>
                  </a:lnTo>
                  <a:lnTo>
                    <a:pt x="402" y="62"/>
                  </a:lnTo>
                  <a:lnTo>
                    <a:pt x="361" y="87"/>
                  </a:lnTo>
                  <a:lnTo>
                    <a:pt x="319" y="117"/>
                  </a:lnTo>
                  <a:lnTo>
                    <a:pt x="277" y="152"/>
                  </a:lnTo>
                  <a:lnTo>
                    <a:pt x="236" y="195"/>
                  </a:lnTo>
                  <a:lnTo>
                    <a:pt x="195" y="245"/>
                  </a:lnTo>
                  <a:lnTo>
                    <a:pt x="157" y="303"/>
                  </a:lnTo>
                  <a:lnTo>
                    <a:pt x="123" y="368"/>
                  </a:lnTo>
                  <a:lnTo>
                    <a:pt x="91" y="443"/>
                  </a:lnTo>
                  <a:lnTo>
                    <a:pt x="0" y="1224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52480" y="380880"/>
              <a:ext cx="769680" cy="695520"/>
            </a:xfrm>
            <a:custGeom>
              <a:avLst/>
              <a:gdLst/>
              <a:ahLst/>
              <a:rect l="l" t="t" r="r" b="b"/>
              <a:pathLst>
                <a:path w="1864" h="1678">
                  <a:moveTo>
                    <a:pt x="1740" y="1215"/>
                  </a:moveTo>
                  <a:lnTo>
                    <a:pt x="1739" y="1219"/>
                  </a:lnTo>
                  <a:lnTo>
                    <a:pt x="1736" y="1232"/>
                  </a:lnTo>
                  <a:lnTo>
                    <a:pt x="1730" y="1250"/>
                  </a:lnTo>
                  <a:lnTo>
                    <a:pt x="1720" y="1275"/>
                  </a:lnTo>
                  <a:lnTo>
                    <a:pt x="1708" y="1304"/>
                  </a:lnTo>
                  <a:lnTo>
                    <a:pt x="1690" y="1338"/>
                  </a:lnTo>
                  <a:lnTo>
                    <a:pt x="1670" y="1375"/>
                  </a:lnTo>
                  <a:lnTo>
                    <a:pt x="1644" y="1413"/>
                  </a:lnTo>
                  <a:lnTo>
                    <a:pt x="1613" y="1453"/>
                  </a:lnTo>
                  <a:lnTo>
                    <a:pt x="1576" y="1492"/>
                  </a:lnTo>
                  <a:lnTo>
                    <a:pt x="1534" y="1531"/>
                  </a:lnTo>
                  <a:lnTo>
                    <a:pt x="1484" y="1568"/>
                  </a:lnTo>
                  <a:lnTo>
                    <a:pt x="1428" y="1602"/>
                  </a:lnTo>
                  <a:lnTo>
                    <a:pt x="1364" y="1632"/>
                  </a:lnTo>
                  <a:lnTo>
                    <a:pt x="1294" y="1657"/>
                  </a:lnTo>
                  <a:lnTo>
                    <a:pt x="1215" y="1677"/>
                  </a:lnTo>
                  <a:lnTo>
                    <a:pt x="443" y="1678"/>
                  </a:lnTo>
                  <a:lnTo>
                    <a:pt x="439" y="1678"/>
                  </a:lnTo>
                  <a:lnTo>
                    <a:pt x="426" y="1677"/>
                  </a:lnTo>
                  <a:lnTo>
                    <a:pt x="406" y="1674"/>
                  </a:lnTo>
                  <a:lnTo>
                    <a:pt x="380" y="1668"/>
                  </a:lnTo>
                  <a:lnTo>
                    <a:pt x="350" y="1661"/>
                  </a:lnTo>
                  <a:lnTo>
                    <a:pt x="315" y="1650"/>
                  </a:lnTo>
                  <a:lnTo>
                    <a:pt x="277" y="1634"/>
                  </a:lnTo>
                  <a:lnTo>
                    <a:pt x="239" y="1615"/>
                  </a:lnTo>
                  <a:lnTo>
                    <a:pt x="199" y="1590"/>
                  </a:lnTo>
                  <a:lnTo>
                    <a:pt x="160" y="1558"/>
                  </a:lnTo>
                  <a:lnTo>
                    <a:pt x="123" y="1521"/>
                  </a:lnTo>
                  <a:lnTo>
                    <a:pt x="88" y="1476"/>
                  </a:lnTo>
                  <a:lnTo>
                    <a:pt x="57" y="1425"/>
                  </a:lnTo>
                  <a:lnTo>
                    <a:pt x="32" y="1363"/>
                  </a:lnTo>
                  <a:lnTo>
                    <a:pt x="13" y="1294"/>
                  </a:lnTo>
                  <a:lnTo>
                    <a:pt x="0" y="1215"/>
                  </a:lnTo>
                  <a:lnTo>
                    <a:pt x="132" y="1"/>
                  </a:lnTo>
                  <a:lnTo>
                    <a:pt x="586" y="1"/>
                  </a:lnTo>
                  <a:lnTo>
                    <a:pt x="454" y="1231"/>
                  </a:lnTo>
                  <a:lnTo>
                    <a:pt x="1272" y="1231"/>
                  </a:lnTo>
                  <a:lnTo>
                    <a:pt x="1410" y="0"/>
                  </a:lnTo>
                  <a:lnTo>
                    <a:pt x="1864" y="0"/>
                  </a:lnTo>
                  <a:lnTo>
                    <a:pt x="1740" y="1215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752480" y="380880"/>
            <a:ext cx="3124080" cy="695520"/>
            <a:chOff x="1752480" y="380880"/>
            <a:chExt cx="3124080" cy="695520"/>
          </a:xfrm>
        </p:grpSpPr>
        <p:sp>
          <p:nvSpPr>
            <p:cNvPr id="96" name=""/>
            <p:cNvSpPr/>
            <p:nvPr/>
          </p:nvSpPr>
          <p:spPr>
            <a:xfrm>
              <a:off x="3284280" y="380880"/>
              <a:ext cx="773280" cy="695520"/>
            </a:xfrm>
            <a:custGeom>
              <a:avLst/>
              <a:gdLst/>
              <a:ahLst/>
              <a:rect l="l" t="t" r="r" b="b"/>
              <a:pathLst>
                <a:path w="1874" h="1680">
                  <a:moveTo>
                    <a:pt x="1" y="1181"/>
                  </a:moveTo>
                  <a:lnTo>
                    <a:pt x="1" y="1186"/>
                  </a:lnTo>
                  <a:lnTo>
                    <a:pt x="0" y="1200"/>
                  </a:lnTo>
                  <a:lnTo>
                    <a:pt x="0" y="1222"/>
                  </a:lnTo>
                  <a:lnTo>
                    <a:pt x="2" y="1251"/>
                  </a:lnTo>
                  <a:lnTo>
                    <a:pt x="5" y="1286"/>
                  </a:lnTo>
                  <a:lnTo>
                    <a:pt x="12" y="1324"/>
                  </a:lnTo>
                  <a:lnTo>
                    <a:pt x="24" y="1366"/>
                  </a:lnTo>
                  <a:lnTo>
                    <a:pt x="40" y="1410"/>
                  </a:lnTo>
                  <a:lnTo>
                    <a:pt x="62" y="1455"/>
                  </a:lnTo>
                  <a:lnTo>
                    <a:pt x="91" y="1498"/>
                  </a:lnTo>
                  <a:lnTo>
                    <a:pt x="128" y="1540"/>
                  </a:lnTo>
                  <a:lnTo>
                    <a:pt x="173" y="1579"/>
                  </a:lnTo>
                  <a:lnTo>
                    <a:pt x="227" y="1613"/>
                  </a:lnTo>
                  <a:lnTo>
                    <a:pt x="293" y="1643"/>
                  </a:lnTo>
                  <a:lnTo>
                    <a:pt x="367" y="1665"/>
                  </a:lnTo>
                  <a:lnTo>
                    <a:pt x="456" y="1680"/>
                  </a:lnTo>
                  <a:lnTo>
                    <a:pt x="1766" y="1677"/>
                  </a:lnTo>
                  <a:lnTo>
                    <a:pt x="1874" y="443"/>
                  </a:lnTo>
                  <a:lnTo>
                    <a:pt x="1874" y="439"/>
                  </a:lnTo>
                  <a:lnTo>
                    <a:pt x="1874" y="427"/>
                  </a:lnTo>
                  <a:lnTo>
                    <a:pt x="1873" y="410"/>
                  </a:lnTo>
                  <a:lnTo>
                    <a:pt x="1870" y="386"/>
                  </a:lnTo>
                  <a:lnTo>
                    <a:pt x="1865" y="358"/>
                  </a:lnTo>
                  <a:lnTo>
                    <a:pt x="1856" y="327"/>
                  </a:lnTo>
                  <a:lnTo>
                    <a:pt x="1845" y="291"/>
                  </a:lnTo>
                  <a:lnTo>
                    <a:pt x="1828" y="255"/>
                  </a:lnTo>
                  <a:lnTo>
                    <a:pt x="1807" y="218"/>
                  </a:lnTo>
                  <a:lnTo>
                    <a:pt x="1780" y="180"/>
                  </a:lnTo>
                  <a:lnTo>
                    <a:pt x="1746" y="143"/>
                  </a:lnTo>
                  <a:lnTo>
                    <a:pt x="1706" y="108"/>
                  </a:lnTo>
                  <a:lnTo>
                    <a:pt x="1657" y="76"/>
                  </a:lnTo>
                  <a:lnTo>
                    <a:pt x="1600" y="47"/>
                  </a:lnTo>
                  <a:lnTo>
                    <a:pt x="1533" y="22"/>
                  </a:lnTo>
                  <a:lnTo>
                    <a:pt x="1458" y="3"/>
                  </a:lnTo>
                  <a:lnTo>
                    <a:pt x="198" y="0"/>
                  </a:lnTo>
                  <a:lnTo>
                    <a:pt x="156" y="448"/>
                  </a:lnTo>
                  <a:lnTo>
                    <a:pt x="1419" y="448"/>
                  </a:lnTo>
                  <a:lnTo>
                    <a:pt x="1395" y="628"/>
                  </a:lnTo>
                  <a:lnTo>
                    <a:pt x="618" y="628"/>
                  </a:lnTo>
                  <a:lnTo>
                    <a:pt x="611" y="628"/>
                  </a:lnTo>
                  <a:lnTo>
                    <a:pt x="595" y="627"/>
                  </a:lnTo>
                  <a:lnTo>
                    <a:pt x="569" y="627"/>
                  </a:lnTo>
                  <a:lnTo>
                    <a:pt x="535" y="629"/>
                  </a:lnTo>
                  <a:lnTo>
                    <a:pt x="493" y="634"/>
                  </a:lnTo>
                  <a:lnTo>
                    <a:pt x="447" y="643"/>
                  </a:lnTo>
                  <a:lnTo>
                    <a:pt x="396" y="657"/>
                  </a:lnTo>
                  <a:lnTo>
                    <a:pt x="345" y="677"/>
                  </a:lnTo>
                  <a:lnTo>
                    <a:pt x="291" y="704"/>
                  </a:lnTo>
                  <a:lnTo>
                    <a:pt x="237" y="740"/>
                  </a:lnTo>
                  <a:lnTo>
                    <a:pt x="186" y="784"/>
                  </a:lnTo>
                  <a:lnTo>
                    <a:pt x="137" y="839"/>
                  </a:lnTo>
                  <a:lnTo>
                    <a:pt x="92" y="905"/>
                  </a:lnTo>
                  <a:lnTo>
                    <a:pt x="54" y="984"/>
                  </a:lnTo>
                  <a:lnTo>
                    <a:pt x="24" y="1075"/>
                  </a:lnTo>
                  <a:lnTo>
                    <a:pt x="1" y="1181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55280" y="380880"/>
              <a:ext cx="757080" cy="695520"/>
            </a:xfrm>
            <a:custGeom>
              <a:avLst/>
              <a:gdLst/>
              <a:ahLst/>
              <a:rect l="l" t="t" r="r" b="b"/>
              <a:pathLst>
                <a:path w="1838" h="1679">
                  <a:moveTo>
                    <a:pt x="1794" y="448"/>
                  </a:moveTo>
                  <a:lnTo>
                    <a:pt x="1131" y="448"/>
                  </a:lnTo>
                  <a:lnTo>
                    <a:pt x="1007" y="1679"/>
                  </a:lnTo>
                  <a:lnTo>
                    <a:pt x="977" y="1679"/>
                  </a:lnTo>
                  <a:lnTo>
                    <a:pt x="948" y="1679"/>
                  </a:lnTo>
                  <a:lnTo>
                    <a:pt x="919" y="1679"/>
                  </a:lnTo>
                  <a:lnTo>
                    <a:pt x="890" y="1679"/>
                  </a:lnTo>
                  <a:lnTo>
                    <a:pt x="860" y="1679"/>
                  </a:lnTo>
                  <a:lnTo>
                    <a:pt x="831" y="1679"/>
                  </a:lnTo>
                  <a:lnTo>
                    <a:pt x="802" y="1679"/>
                  </a:lnTo>
                  <a:lnTo>
                    <a:pt x="773" y="1679"/>
                  </a:lnTo>
                  <a:lnTo>
                    <a:pt x="744" y="1679"/>
                  </a:lnTo>
                  <a:lnTo>
                    <a:pt x="715" y="1679"/>
                  </a:lnTo>
                  <a:lnTo>
                    <a:pt x="686" y="1679"/>
                  </a:lnTo>
                  <a:lnTo>
                    <a:pt x="657" y="1679"/>
                  </a:lnTo>
                  <a:lnTo>
                    <a:pt x="627" y="1679"/>
                  </a:lnTo>
                  <a:lnTo>
                    <a:pt x="597" y="1679"/>
                  </a:lnTo>
                  <a:lnTo>
                    <a:pt x="567" y="1679"/>
                  </a:lnTo>
                  <a:lnTo>
                    <a:pt x="535" y="1679"/>
                  </a:lnTo>
                  <a:lnTo>
                    <a:pt x="660" y="448"/>
                  </a:lnTo>
                  <a:lnTo>
                    <a:pt x="0" y="448"/>
                  </a:lnTo>
                  <a:lnTo>
                    <a:pt x="48" y="1"/>
                  </a:lnTo>
                  <a:lnTo>
                    <a:pt x="1838" y="0"/>
                  </a:lnTo>
                  <a:lnTo>
                    <a:pt x="1794" y="448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80400" y="567000"/>
              <a:ext cx="34560" cy="322920"/>
            </a:xfrm>
            <a:custGeom>
              <a:avLst/>
              <a:gdLst/>
              <a:ahLst/>
              <a:rect l="l" t="t" r="r" b="b"/>
              <a:pathLst>
                <a:path w="84" h="782">
                  <a:moveTo>
                    <a:pt x="84" y="0"/>
                  </a:moveTo>
                  <a:lnTo>
                    <a:pt x="0" y="78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80400" y="567000"/>
              <a:ext cx="34560" cy="322920"/>
            </a:xfrm>
            <a:custGeom>
              <a:avLst/>
              <a:gdLst/>
              <a:ahLst/>
              <a:rect l="l" t="t" r="r" b="b"/>
              <a:pathLst>
                <a:path w="84" h="782">
                  <a:moveTo>
                    <a:pt x="84" y="0"/>
                  </a:moveTo>
                  <a:lnTo>
                    <a:pt x="0" y="78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89840" y="819360"/>
              <a:ext cx="348480" cy="61920"/>
            </a:xfrm>
            <a:custGeom>
              <a:avLst/>
              <a:gdLst/>
              <a:ahLst/>
              <a:rect l="l" t="t" r="r" b="b"/>
              <a:pathLst>
                <a:path w="844" h="150">
                  <a:moveTo>
                    <a:pt x="824" y="150"/>
                  </a:moveTo>
                  <a:lnTo>
                    <a:pt x="844" y="0"/>
                  </a:lnTo>
                  <a:lnTo>
                    <a:pt x="24" y="0"/>
                  </a:lnTo>
                  <a:lnTo>
                    <a:pt x="0" y="150"/>
                  </a:lnTo>
                  <a:lnTo>
                    <a:pt x="824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82400" y="381960"/>
              <a:ext cx="794160" cy="694440"/>
            </a:xfrm>
            <a:custGeom>
              <a:avLst/>
              <a:gdLst/>
              <a:ahLst/>
              <a:rect l="l" t="t" r="r" b="b"/>
              <a:pathLst>
                <a:path w="1927" h="1678">
                  <a:moveTo>
                    <a:pt x="0" y="1224"/>
                  </a:moveTo>
                  <a:lnTo>
                    <a:pt x="0" y="1229"/>
                  </a:lnTo>
                  <a:lnTo>
                    <a:pt x="0" y="1240"/>
                  </a:lnTo>
                  <a:lnTo>
                    <a:pt x="0" y="1258"/>
                  </a:lnTo>
                  <a:lnTo>
                    <a:pt x="2" y="1281"/>
                  </a:lnTo>
                  <a:lnTo>
                    <a:pt x="7" y="1309"/>
                  </a:lnTo>
                  <a:lnTo>
                    <a:pt x="15" y="1342"/>
                  </a:lnTo>
                  <a:lnTo>
                    <a:pt x="25" y="1376"/>
                  </a:lnTo>
                  <a:lnTo>
                    <a:pt x="41" y="1413"/>
                  </a:lnTo>
                  <a:lnTo>
                    <a:pt x="61" y="1451"/>
                  </a:lnTo>
                  <a:lnTo>
                    <a:pt x="87" y="1489"/>
                  </a:lnTo>
                  <a:lnTo>
                    <a:pt x="120" y="1527"/>
                  </a:lnTo>
                  <a:lnTo>
                    <a:pt x="160" y="1564"/>
                  </a:lnTo>
                  <a:lnTo>
                    <a:pt x="208" y="1597"/>
                  </a:lnTo>
                  <a:lnTo>
                    <a:pt x="264" y="1627"/>
                  </a:lnTo>
                  <a:lnTo>
                    <a:pt x="330" y="1654"/>
                  </a:lnTo>
                  <a:lnTo>
                    <a:pt x="406" y="1675"/>
                  </a:lnTo>
                  <a:lnTo>
                    <a:pt x="1760" y="1678"/>
                  </a:lnTo>
                  <a:lnTo>
                    <a:pt x="1803" y="1229"/>
                  </a:lnTo>
                  <a:lnTo>
                    <a:pt x="481" y="1229"/>
                  </a:lnTo>
                  <a:lnTo>
                    <a:pt x="565" y="447"/>
                  </a:lnTo>
                  <a:lnTo>
                    <a:pt x="1880" y="447"/>
                  </a:lnTo>
                  <a:lnTo>
                    <a:pt x="1927" y="0"/>
                  </a:lnTo>
                  <a:lnTo>
                    <a:pt x="1881" y="0"/>
                  </a:lnTo>
                  <a:lnTo>
                    <a:pt x="1837" y="0"/>
                  </a:lnTo>
                  <a:lnTo>
                    <a:pt x="1791" y="0"/>
                  </a:lnTo>
                  <a:lnTo>
                    <a:pt x="1746" y="0"/>
                  </a:lnTo>
                  <a:lnTo>
                    <a:pt x="1703" y="0"/>
                  </a:lnTo>
                  <a:lnTo>
                    <a:pt x="1659" y="0"/>
                  </a:lnTo>
                  <a:lnTo>
                    <a:pt x="1616" y="0"/>
                  </a:lnTo>
                  <a:lnTo>
                    <a:pt x="1572" y="1"/>
                  </a:lnTo>
                  <a:lnTo>
                    <a:pt x="1529" y="1"/>
                  </a:lnTo>
                  <a:lnTo>
                    <a:pt x="1486" y="1"/>
                  </a:lnTo>
                  <a:lnTo>
                    <a:pt x="1444" y="1"/>
                  </a:lnTo>
                  <a:lnTo>
                    <a:pt x="1402" y="1"/>
                  </a:lnTo>
                  <a:lnTo>
                    <a:pt x="1359" y="1"/>
                  </a:lnTo>
                  <a:lnTo>
                    <a:pt x="1318" y="1"/>
                  </a:lnTo>
                  <a:lnTo>
                    <a:pt x="1276" y="1"/>
                  </a:lnTo>
                  <a:lnTo>
                    <a:pt x="1236" y="1"/>
                  </a:lnTo>
                  <a:lnTo>
                    <a:pt x="1194" y="2"/>
                  </a:lnTo>
                  <a:lnTo>
                    <a:pt x="1154" y="2"/>
                  </a:lnTo>
                  <a:lnTo>
                    <a:pt x="1113" y="2"/>
                  </a:lnTo>
                  <a:lnTo>
                    <a:pt x="1073" y="2"/>
                  </a:lnTo>
                  <a:lnTo>
                    <a:pt x="1032" y="2"/>
                  </a:lnTo>
                  <a:lnTo>
                    <a:pt x="992" y="2"/>
                  </a:lnTo>
                  <a:lnTo>
                    <a:pt x="952" y="2"/>
                  </a:lnTo>
                  <a:lnTo>
                    <a:pt x="912" y="2"/>
                  </a:lnTo>
                  <a:lnTo>
                    <a:pt x="872" y="2"/>
                  </a:lnTo>
                  <a:lnTo>
                    <a:pt x="833" y="1"/>
                  </a:lnTo>
                  <a:lnTo>
                    <a:pt x="793" y="1"/>
                  </a:lnTo>
                  <a:lnTo>
                    <a:pt x="754" y="1"/>
                  </a:lnTo>
                  <a:lnTo>
                    <a:pt x="714" y="1"/>
                  </a:lnTo>
                  <a:lnTo>
                    <a:pt x="675" y="1"/>
                  </a:lnTo>
                  <a:lnTo>
                    <a:pt x="636" y="0"/>
                  </a:lnTo>
                  <a:lnTo>
                    <a:pt x="597" y="0"/>
                  </a:lnTo>
                  <a:lnTo>
                    <a:pt x="593" y="0"/>
                  </a:lnTo>
                  <a:lnTo>
                    <a:pt x="581" y="2"/>
                  </a:lnTo>
                  <a:lnTo>
                    <a:pt x="564" y="4"/>
                  </a:lnTo>
                  <a:lnTo>
                    <a:pt x="540" y="9"/>
                  </a:lnTo>
                  <a:lnTo>
                    <a:pt x="511" y="18"/>
                  </a:lnTo>
                  <a:lnTo>
                    <a:pt x="478" y="29"/>
                  </a:lnTo>
                  <a:lnTo>
                    <a:pt x="441" y="44"/>
                  </a:lnTo>
                  <a:lnTo>
                    <a:pt x="402" y="62"/>
                  </a:lnTo>
                  <a:lnTo>
                    <a:pt x="361" y="87"/>
                  </a:lnTo>
                  <a:lnTo>
                    <a:pt x="319" y="117"/>
                  </a:lnTo>
                  <a:lnTo>
                    <a:pt x="277" y="152"/>
                  </a:lnTo>
                  <a:lnTo>
                    <a:pt x="236" y="195"/>
                  </a:lnTo>
                  <a:lnTo>
                    <a:pt x="195" y="245"/>
                  </a:lnTo>
                  <a:lnTo>
                    <a:pt x="157" y="303"/>
                  </a:lnTo>
                  <a:lnTo>
                    <a:pt x="123" y="368"/>
                  </a:lnTo>
                  <a:lnTo>
                    <a:pt x="91" y="443"/>
                  </a:lnTo>
                  <a:lnTo>
                    <a:pt x="0" y="1224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52480" y="380880"/>
              <a:ext cx="769680" cy="695520"/>
            </a:xfrm>
            <a:custGeom>
              <a:avLst/>
              <a:gdLst/>
              <a:ahLst/>
              <a:rect l="l" t="t" r="r" b="b"/>
              <a:pathLst>
                <a:path w="1864" h="1678">
                  <a:moveTo>
                    <a:pt x="1740" y="1215"/>
                  </a:moveTo>
                  <a:lnTo>
                    <a:pt x="1739" y="1219"/>
                  </a:lnTo>
                  <a:lnTo>
                    <a:pt x="1736" y="1232"/>
                  </a:lnTo>
                  <a:lnTo>
                    <a:pt x="1730" y="1250"/>
                  </a:lnTo>
                  <a:lnTo>
                    <a:pt x="1720" y="1275"/>
                  </a:lnTo>
                  <a:lnTo>
                    <a:pt x="1708" y="1304"/>
                  </a:lnTo>
                  <a:lnTo>
                    <a:pt x="1690" y="1338"/>
                  </a:lnTo>
                  <a:lnTo>
                    <a:pt x="1670" y="1375"/>
                  </a:lnTo>
                  <a:lnTo>
                    <a:pt x="1644" y="1413"/>
                  </a:lnTo>
                  <a:lnTo>
                    <a:pt x="1613" y="1453"/>
                  </a:lnTo>
                  <a:lnTo>
                    <a:pt x="1576" y="1492"/>
                  </a:lnTo>
                  <a:lnTo>
                    <a:pt x="1534" y="1531"/>
                  </a:lnTo>
                  <a:lnTo>
                    <a:pt x="1484" y="1568"/>
                  </a:lnTo>
                  <a:lnTo>
                    <a:pt x="1428" y="1602"/>
                  </a:lnTo>
                  <a:lnTo>
                    <a:pt x="1364" y="1632"/>
                  </a:lnTo>
                  <a:lnTo>
                    <a:pt x="1294" y="1657"/>
                  </a:lnTo>
                  <a:lnTo>
                    <a:pt x="1215" y="1677"/>
                  </a:lnTo>
                  <a:lnTo>
                    <a:pt x="443" y="1678"/>
                  </a:lnTo>
                  <a:lnTo>
                    <a:pt x="439" y="1678"/>
                  </a:lnTo>
                  <a:lnTo>
                    <a:pt x="426" y="1677"/>
                  </a:lnTo>
                  <a:lnTo>
                    <a:pt x="406" y="1674"/>
                  </a:lnTo>
                  <a:lnTo>
                    <a:pt x="380" y="1668"/>
                  </a:lnTo>
                  <a:lnTo>
                    <a:pt x="350" y="1661"/>
                  </a:lnTo>
                  <a:lnTo>
                    <a:pt x="315" y="1650"/>
                  </a:lnTo>
                  <a:lnTo>
                    <a:pt x="277" y="1634"/>
                  </a:lnTo>
                  <a:lnTo>
                    <a:pt x="239" y="1615"/>
                  </a:lnTo>
                  <a:lnTo>
                    <a:pt x="199" y="1590"/>
                  </a:lnTo>
                  <a:lnTo>
                    <a:pt x="160" y="1558"/>
                  </a:lnTo>
                  <a:lnTo>
                    <a:pt x="123" y="1521"/>
                  </a:lnTo>
                  <a:lnTo>
                    <a:pt x="88" y="1476"/>
                  </a:lnTo>
                  <a:lnTo>
                    <a:pt x="57" y="1425"/>
                  </a:lnTo>
                  <a:lnTo>
                    <a:pt x="32" y="1363"/>
                  </a:lnTo>
                  <a:lnTo>
                    <a:pt x="13" y="1294"/>
                  </a:lnTo>
                  <a:lnTo>
                    <a:pt x="0" y="1215"/>
                  </a:lnTo>
                  <a:lnTo>
                    <a:pt x="132" y="1"/>
                  </a:lnTo>
                  <a:lnTo>
                    <a:pt x="586" y="1"/>
                  </a:lnTo>
                  <a:lnTo>
                    <a:pt x="454" y="1231"/>
                  </a:lnTo>
                  <a:lnTo>
                    <a:pt x="1272" y="1231"/>
                  </a:lnTo>
                  <a:lnTo>
                    <a:pt x="1410" y="0"/>
                  </a:lnTo>
                  <a:lnTo>
                    <a:pt x="1864" y="0"/>
                  </a:lnTo>
                  <a:lnTo>
                    <a:pt x="1740" y="1215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0" y="1773360"/>
          <a:ext cx="9144000" cy="434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914400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8th GRSP Ad-Hoc 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5-06 Dec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5:39:15Z</dcterms:created>
  <dc:creator>castaing</dc:creator>
  <dc:description/>
  <dc:language>en-US</dc:language>
  <cp:lastModifiedBy>HME-A</cp:lastModifiedBy>
  <dcterms:modified xsi:type="dcterms:W3CDTF">2005-12-08T08:10:33Z</dcterms:modified>
  <cp:revision>2</cp:revision>
  <dc:subject/>
  <dc:title>Diapositive 1</dc:title>
</cp:coreProperties>
</file>