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C9F-A336-4171-BC70-1BDC4454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57B-3D72-4CC9-A1BF-30EED4B9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D3C-D153-4FDC-ADF7-0D5D33CA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D74-2B48-42BE-8978-788353DA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CC2-1F09-4EC8-900E-B5AE7CA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EF1-DC9D-4B8B-B8C3-A1873A29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9C6-4494-4A9F-BC35-2954278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4BE-9B4A-43E1-BA48-E61920D5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EB3-51CF-4387-9779-B8673BF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FE5-99F4-4359-ABF5-C21181C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B2C-24E5-4F86-965C-CC5B48C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559-6257-4664-963B-D9561D0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30F-231A-415F-B709-10291A46C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Feasibility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SP Ad Hoc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va,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5-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8 AGRE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TICLE 4 &amp; 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RY OF GLOBAL TECHNICAL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1.2.1. provide for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 levels of safe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nvironmental protection, energy efficiency or anti-theft performance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 In response to a proposal referred to it for developing a new global technical regulation, the Working Party shall us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parent proced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 develop recommendations regarding a new global technical regulation b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1. giving consideration to the objective of the proposed new global technical regulation and the need for establishing alternative levels of stringency or performa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2. considering technical feasibilit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3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sidering economic feasib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4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xamining benefi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cluding those of any alternative regulatory requirements and approaches consider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5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paring potential cost effectiven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recommended regulation to that of the alternative regulatory requirements and approaches consider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.4.1.6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ifying whether the new global technical regulation under development satisfies the stated objective of the Regulation and the criteria in Article 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ERMS OF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aim of the group is to present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performance-based propos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the testing and qualification of vehicles, including passenger cars, vans, and light trucks, with respect to pedestrian safety, which could reasonably be incorporated in a global technical regulation (gt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PSMT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bjective(s)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benefits of any new regul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or amendments to existing regulations) with reference to present levels and sources of knowled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PSMT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e of the best available technology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improvements in technology that will provide significant steps in developing methods and in achieving and improving benefits, including both active and passive safety measu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PSMT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cos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both monetary and social, that may be attendant to each level of regulatory stringency or performanc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PSMT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relationship or potential interaction of any proposed technical regulation to other regulations currently in for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r to be adopted either individually by any Contracting Party or under existing Agreements administered by WP.2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 informal group shall develop complete and detailed recommendation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in complianc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paragraph 6.3.4. of Article 6 of the 1998 Agreem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by the end of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R Feasibility - Leg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371600"/>
            <a:ext cx="40384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ve 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d Focus, Mazda MX-5, VW Beetle, Honda Civic, Volvo S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L and FlexPLI leg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TR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arious bumper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llaboration with Transport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ompare US and European versions of same vehicl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TCLeg%20073" descr=""/>
          <p:cNvPicPr/>
          <p:nvPr/>
        </p:nvPicPr>
        <p:blipFill>
          <a:blip r:embed="rId1">
            <a:lum bright="18000"/>
          </a:blip>
          <a:srcRect l="0" t="15894" r="15841" b="9689"/>
          <a:stretch/>
        </p:blipFill>
        <p:spPr>
          <a:xfrm>
            <a:off x="609480" y="1600200"/>
            <a:ext cx="3733920" cy="247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388600">
            <a:off x="1752480" y="274284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S_04 106" descr=""/>
          <p:cNvPicPr/>
          <p:nvPr/>
        </p:nvPicPr>
        <p:blipFill>
          <a:blip r:embed="rId2"/>
          <a:srcRect l="36563" t="15000" r="18281" b="3750"/>
          <a:stretch/>
        </p:blipFill>
        <p:spPr>
          <a:xfrm>
            <a:off x="380880" y="4419720"/>
            <a:ext cx="94932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TS_04 116" descr=""/>
          <p:cNvPicPr/>
          <p:nvPr/>
        </p:nvPicPr>
        <p:blipFill>
          <a:blip r:embed="rId3"/>
          <a:srcRect l="36563" t="15000" r="18281" b="3750"/>
          <a:stretch/>
        </p:blipFill>
        <p:spPr>
          <a:xfrm>
            <a:off x="1447920" y="4419720"/>
            <a:ext cx="94932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TS_04 121" descr=""/>
          <p:cNvPicPr/>
          <p:nvPr/>
        </p:nvPicPr>
        <p:blipFill>
          <a:blip r:embed="rId4"/>
          <a:srcRect l="36563" t="15000" r="18281" b="3750"/>
          <a:stretch/>
        </p:blipFill>
        <p:spPr>
          <a:xfrm>
            <a:off x="2514600" y="4419720"/>
            <a:ext cx="94932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TS_04 126" descr=""/>
          <p:cNvPicPr/>
          <p:nvPr/>
        </p:nvPicPr>
        <p:blipFill>
          <a:blip r:embed="rId5"/>
          <a:srcRect l="36563" t="15000" r="18281" b="3750"/>
          <a:stretch/>
        </p:blipFill>
        <p:spPr>
          <a:xfrm>
            <a:off x="3581280" y="4419720"/>
            <a:ext cx="94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R Feasibility - Leg Tests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5663" t="0" r="0" b="0"/>
          <a:stretch/>
        </p:blipFill>
        <p:spPr>
          <a:xfrm>
            <a:off x="762120" y="1752480"/>
            <a:ext cx="3504960" cy="2132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2971800"/>
            <a:ext cx="320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5663" t="0" r="0" b="0"/>
          <a:stretch/>
        </p:blipFill>
        <p:spPr>
          <a:xfrm>
            <a:off x="5105520" y="1739880"/>
            <a:ext cx="3581280" cy="217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2590920"/>
            <a:ext cx="3276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rcRect l="5584" t="0" r="0" b="0"/>
          <a:stretch/>
        </p:blipFill>
        <p:spPr>
          <a:xfrm>
            <a:off x="762120" y="4343400"/>
            <a:ext cx="3562200" cy="216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2160" y="5769000"/>
            <a:ext cx="320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962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eg Acceleration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 17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137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Knee Shear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 6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371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Knee Bending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 19 d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343400"/>
            <a:ext cx="3429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ut of ten vehicle models examined, only one would meet all 3 GTR requirements (European Civ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needed to assess cost/benefit of leg require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between leg biofidelity, injury parameters, and injur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fleet baselin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sibility data and cost to meet le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ources besides TRL re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on damageability and other standards/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6:42:07Z</dcterms:created>
  <dc:creator>rsaul</dc:creator>
  <dc:description/>
  <dc:language>en-US</dc:language>
  <cp:lastModifiedBy>Roger Saul</cp:lastModifiedBy>
  <dcterms:modified xsi:type="dcterms:W3CDTF">2005-12-05T09:51:43Z</dcterms:modified>
  <cp:revision>12</cp:revision>
  <dc:subject/>
  <dc:title>Analysis of Pedestrian Accident Situation and Portion Addressed by this GTR</dc:title>
</cp:coreProperties>
</file>