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5A06-280C-4B10-B849-4B7E6C0F9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40676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BAFB-1833-473F-B272-5B96A76F0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15998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40676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7440" y="40676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3508-224A-46DC-B839-FDFEF2783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5998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320" y="15998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40676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40676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320" y="40676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4513-3287-4760-82EA-D1AD84EBE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7440" y="15998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7440" y="15998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40676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CB8EF-1944-467E-A292-368C20EBF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5998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7440" y="40676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5998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40676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40676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7440" y="15998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40676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7440" y="40676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2360" y="15998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63320" y="15998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40676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2360" y="40676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63320" y="40676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157D-E9D2-454D-83FA-A518317BE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7440" y="15998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5B4D-8B5D-47FE-978A-12320897B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AE33-1A1E-45AF-8ABF-C951D2C93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E648-1FD0-4616-9147-0A0EF9A40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7440" y="15998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40676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EC6B-DE05-4A92-A638-BBDF0FA0B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7440" y="15998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7440" y="40676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0449-4407-4ADF-A196-497ABACBA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7440" y="15998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40676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B51F-F240-414B-BD27-74E2DA218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45b38"/>
                </a:solidFill>
                <a:latin typeface="Arial Black"/>
              </a:rPr>
              <a:t>Click to edit the title text format</a:t>
            </a: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5998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d7d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d7d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d7d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d7d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2b2b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d7d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d7d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d7d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772400" y="6299280"/>
            <a:ext cx="1371600" cy="4824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0" r="72692" b="49925"/>
          <a:stretch/>
        </p:blipFill>
        <p:spPr>
          <a:xfrm>
            <a:off x="7313760" y="6346800"/>
            <a:ext cx="458640" cy="4348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5659560"/>
            <a:ext cx="1676520" cy="1198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228600" y="6553080"/>
            <a:ext cx="8380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b1d7d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9C96-11CD-4C37-8EBD-9ED40901AF48}" type="slidenum">
              <a:rPr b="1" lang="en-US" sz="1400" spc="-1" strike="noStrike">
                <a:solidFill>
                  <a:srgbClr val="2b1d7d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b1d7d"/>
                </a:solidFill>
                <a:latin typeface="Arial Black"/>
              </a:rPr>
              <a:t>Click to edit the title text format</a:t>
            </a:r>
            <a:endParaRPr b="0" i="1" lang="en-US" sz="4000" spc="-1" strike="noStrike">
              <a:solidFill>
                <a:srgbClr val="2b1d7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645b38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45b38"/>
                </a:solidFill>
                <a:latin typeface="Arial Narrow"/>
              </a:rPr>
              <a:t>&lt;footer&gt;</a:t>
            </a:r>
            <a:r>
              <a:rPr b="1" lang="en-US" sz="1000" spc="-1" strike="noStrike">
                <a:solidFill>
                  <a:srgbClr val="645b38"/>
                </a:solidFill>
                <a:latin typeface="Arial Narrow"/>
              </a:rPr>
              <a:t>Draft - For Official Use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72400" y="6299280"/>
            <a:ext cx="1371600" cy="482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0" t="0" r="72692" b="49925"/>
          <a:stretch/>
        </p:blipFill>
        <p:spPr>
          <a:xfrm>
            <a:off x="7313760" y="6346800"/>
            <a:ext cx="458640" cy="434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5b38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645b38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b2b2b2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324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266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b1d7d"/>
                </a:solidFill>
                <a:latin typeface="Arial Black"/>
              </a:rPr>
              <a:t>Head Restraints Working Group Meeting</a:t>
            </a:r>
            <a:br>
              <a:rPr sz="2800"/>
            </a:br>
            <a:r>
              <a:rPr b="0" i="1" lang="en-US" sz="2800" spc="-1" strike="noStrike">
                <a:solidFill>
                  <a:srgbClr val="2b1d7d"/>
                </a:solidFill>
                <a:latin typeface="Arial Black"/>
              </a:rPr>
              <a:t>Paris, France</a:t>
            </a:r>
            <a:endParaRPr b="0" i="1" lang="en-US" sz="2800" spc="-1" strike="noStrike">
              <a:solidFill>
                <a:srgbClr val="2b1d7d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6171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1d7d"/>
                </a:solidFill>
                <a:latin typeface="Arial"/>
              </a:rPr>
              <a:t>February 1-2, 2005</a:t>
            </a:r>
            <a:endParaRPr b="1" lang="en-US" sz="20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828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b1d7d"/>
                </a:solidFill>
                <a:latin typeface="Arial Black"/>
              </a:rPr>
              <a:t>U.S. FMVSS No. 202 Final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304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ad Restraint IWG Document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-1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45b38"/>
                </a:solidFill>
                <a:latin typeface="Arial Black"/>
              </a:rPr>
              <a:t>Test Dummy</a:t>
            </a: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No consensus exists on the best test dummy for whiplash assessment.</a:t>
            </a: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BioRID II – Fully segmented spine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Narrow"/>
              </a:rPr>
              <a:t>Exhibits spurious acceleration spikes, ambiguous upper neck loads and incorrect seated height (Kim, 2000 and 2003)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RID 2 – Thor thorax and articulated neck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Narrow"/>
              </a:rPr>
              <a:t>Neck is too soft in flexion and needs support.  Less neck rotation than volunteer tests.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Hybrid III – Solid spine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Narrow"/>
              </a:rPr>
              <a:t>Criticized for its neck being too stiff.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Narrow"/>
              </a:rPr>
              <a:t>Head rotation vs. displacement similar to volunteers (Viano, 2002).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Narrow"/>
              </a:rPr>
              <a:t>Neck flexibility similar of tensed volunteers (Kim, 2003)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45b3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2E57-E82E-46E3-A80A-FCE6B88AEE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45b38"/>
                </a:solidFill>
                <a:latin typeface="Arial Black"/>
              </a:rPr>
              <a:t>Test Dummy</a:t>
            </a: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Hybrid III 50</a:t>
            </a:r>
            <a:r>
              <a:rPr b="1" lang="en-US" sz="2400" spc="-1" strike="noStrike" baseline="30000">
                <a:solidFill>
                  <a:srgbClr val="2b1d7d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 selected in Final Rule</a:t>
            </a: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Other dummies are not ready, as a regulatory tool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Narrow"/>
              </a:rPr>
              <a:t>BioRID II and RID 2 are still changing.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Shows sufficient correlation with human head-to-torso rotation (selected injury criterion)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Has been shown to rank OEM seats as a function of whiplash risk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Used by manufacturers as a seat design tool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NHTSA welcomes development of more biofidelic tools.</a:t>
            </a: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EEBF-EF56-4D46-B7C9-95DE30161B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45b38"/>
                </a:solidFill>
                <a:latin typeface="Arial Black"/>
              </a:rPr>
              <a:t>Probability of Whiplash vs. </a:t>
            </a:r>
            <a:br>
              <a:rPr sz="3600"/>
            </a:br>
            <a:r>
              <a:rPr b="0" i="1" lang="en-US" sz="3600" spc="-1" strike="noStrike">
                <a:solidFill>
                  <a:srgbClr val="645b38"/>
                </a:solidFill>
                <a:latin typeface="Arial Black"/>
              </a:rPr>
              <a:t>Head-to-Torso Rotation</a:t>
            </a: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Whiplash Probability Function</a:t>
            </a: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Using published data of whiplash injury risk of SAAB seats as compared to head-to-torso rotation of Hybrid III dummy, a logistic regression was used to develop a whiplash probability function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At 12 degrees of head-to-torso rotation the probability of whiplash is 7.3%.</a:t>
            </a: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D02C-4DF5-4C7C-9688-F8C65D10D5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04920" y="-7920"/>
          <a:ext cx="8839080" cy="66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-7920"/>
                    <a:ext cx="8839080" cy="66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4C16-1E24-46BB-8DB4-F66D026B7D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45b38"/>
                </a:solidFill>
                <a:latin typeface="Arial Black"/>
              </a:rPr>
              <a:t>Questions?</a:t>
            </a: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80769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d7d"/>
                </a:solidFill>
                <a:latin typeface="Arial"/>
              </a:rPr>
              <a:t>NHTSA FMVSS No. 202 Final Rule documents:</a:t>
            </a: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5b38"/>
                </a:solidFill>
                <a:latin typeface="Arial Narrow"/>
              </a:rPr>
              <a:t>http://dms.dot.gov </a:t>
            </a:r>
            <a:endParaRPr b="1" lang="en-US" sz="2800" spc="-1" strike="noStrike">
              <a:solidFill>
                <a:srgbClr val="645b38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5b38"/>
                </a:solidFill>
                <a:latin typeface="Arial Narrow"/>
              </a:rPr>
              <a:t>Search “19807”</a:t>
            </a:r>
            <a:endParaRPr b="1" lang="en-US" sz="2800" spc="-1" strike="noStrike">
              <a:solidFill>
                <a:srgbClr val="645b3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Narrow"/>
              </a:rPr>
              <a:t>Final rule = 19807-2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Narrow"/>
              </a:rPr>
              <a:t>Final Economic Assessment = 19807-1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C9FC-CD11-4E62-8A05-66CD6CE800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45b38"/>
                </a:solidFill>
                <a:latin typeface="Arial Black"/>
              </a:rPr>
              <a:t>Topics</a:t>
            </a: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d7d"/>
                </a:solidFill>
                <a:latin typeface="Arial"/>
              </a:rPr>
              <a:t>Backset Requirement</a:t>
            </a: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d7d"/>
                </a:solidFill>
                <a:latin typeface="Arial"/>
              </a:rPr>
              <a:t>Dynamic Compliance Option</a:t>
            </a:r>
            <a:endParaRPr b="1" lang="en-US" sz="28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62F3-AA1C-441B-B300-112E415076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45b38"/>
                </a:solidFill>
                <a:latin typeface="Arial Black"/>
              </a:rPr>
              <a:t>Backset Requirement</a:t>
            </a: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Definition of Backset:</a:t>
            </a: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Minimum horizontal distance between the back of a representation of the head of a seated 50th percentile male occupant and the head restraint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FMVSS No. 202 Final Rule Requirement</a:t>
            </a: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Front Outboard Seats – Maximum of 55 mm with head restraint height adjusted from 750 to 800 mm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Rear Seats – No limit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F8DC-9FE6-4801-A576-712EAFDE71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45b38"/>
                </a:solidFill>
                <a:latin typeface="Arial Black"/>
              </a:rPr>
              <a:t>Head Restraint Measurement Device</a:t>
            </a: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3886200" cy="2592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5880" y="304920"/>
            <a:ext cx="2732040" cy="4495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3520" y="434340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Measurement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Measured using the ICBC head form mounted on a SAE J826 mani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5b38"/>
                </a:solidFill>
                <a:latin typeface="Arial Narrow"/>
              </a:rPr>
              <a:t>At any head restraint height between 750 and 800 mm, inclus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5b38"/>
                </a:solidFill>
                <a:latin typeface="Arial Narrow"/>
              </a:rPr>
              <a:t>Seat back angle set at 25 deg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5b38"/>
                </a:solidFill>
                <a:latin typeface="Arial Narrow"/>
              </a:rPr>
              <a:t>Seat cushion at highest pos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2353-DE17-437A-8A3A-A5F6548529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45b38"/>
                </a:solidFill>
                <a:latin typeface="Arial Black"/>
              </a:rPr>
              <a:t>Need for Backset</a:t>
            </a: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Consensus of biomechanical community: </a:t>
            </a: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Backset is important in limiting internal neck forces and length of time a person is injured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Supporting Research:</a:t>
            </a: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Olsen, et al. (1990)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Narrow"/>
              </a:rPr>
              <a:t>Field data showed reduced backset coupled with greater height results in lower injury severity and shorter duration of symptoms.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Svensson, et al. (1993) 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Narrow"/>
              </a:rPr>
              <a:t>Sled test findings indicated that a reduction of backset from 100 to 40 mm would result in significant reduction in whiplash.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Eichenberger, et al. (1996)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Narrow"/>
              </a:rPr>
              <a:t>Field data and sled test showed positive correlation between head restraint backset and head rotation of volunteers and reported whiplash injury.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BB3F-FD66-4B8B-833E-9BAA3CBAB0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45b38"/>
                </a:solidFill>
                <a:latin typeface="Arial Black"/>
              </a:rPr>
              <a:t>Backset Philosophy</a:t>
            </a: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848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Closer is better for safety</a:t>
            </a: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Majority of estimated benefits are due to backset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Occupant comfort is a competing factor</a:t>
            </a: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When too close, it will prevent occupant from sitting in desired posture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55 mm is a compromise between these factors</a:t>
            </a: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50 mm is the target backset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Additional 5 mm is acknowledgement of ±5 mm measurement variability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55 mm will accommodate </a:t>
            </a:r>
            <a:r>
              <a:rPr b="1" lang="en-US" sz="2400" spc="-1" strike="noStrike">
                <a:solidFill>
                  <a:srgbClr val="645b38"/>
                </a:solidFill>
                <a:latin typeface="Arial Narrow"/>
                <a:ea typeface="Arial"/>
              </a:rPr>
              <a:t>≈ 90% of preferred head positions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Narrow"/>
                <a:ea typeface="Arial"/>
              </a:rPr>
              <a:t>Short stature occupants who prefer seat backs steeper than 25 degrees are most likely to have comfort issue.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Narrow"/>
                <a:ea typeface="Arial"/>
              </a:rPr>
              <a:t>Problem relieved by reclining seat back.  3 mm for every degree.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75CA6-BE62-4488-90C8-384E2BC44E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45b38"/>
                </a:solidFill>
                <a:latin typeface="Arial Black"/>
              </a:rPr>
              <a:t>Dynamic Compliance Option</a:t>
            </a: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Reasons for the option</a:t>
            </a: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Better represents real world events and provides greater assurance of effective performance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Encourages continued development of active systems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May also be used for static head restraint certification.</a:t>
            </a: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Dynamic performance criteria</a:t>
            </a: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Head-to-torso rotation limit - 12 degrees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HIC15 limit – 500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Measured with Hybrid III 50</a:t>
            </a:r>
            <a:r>
              <a:rPr b="1" lang="en-US" sz="2400" spc="-1" strike="noStrike" baseline="30000">
                <a:solidFill>
                  <a:srgbClr val="645b38"/>
                </a:solidFill>
                <a:latin typeface="Arial Narrow"/>
              </a:rPr>
              <a:t>th</a:t>
            </a: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 percentile male dummy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Static width minimum maintained</a:t>
            </a: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Dynamic test is only in the longitudinal direction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10B9-09CE-438D-834C-80BE66DC5F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45b38"/>
                </a:solidFill>
                <a:latin typeface="Arial Black"/>
              </a:rPr>
              <a:t>Dynamic Compliance Option</a:t>
            </a: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Full vehicle sled test</a:t>
            </a: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Target:  half sine pulse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Narrow"/>
              </a:rPr>
              <a:t>17.3 ± 0.6 km/h </a:t>
            </a:r>
            <a:r>
              <a:rPr b="0" lang="el-GR" sz="2000" spc="-1" strike="noStrike">
                <a:solidFill>
                  <a:srgbClr val="4d4d4d"/>
                </a:solidFill>
                <a:latin typeface="Arial Narrow"/>
              </a:rPr>
              <a:t>Δ</a:t>
            </a:r>
            <a:r>
              <a:rPr b="0" lang="en-US" sz="2000" spc="-1" strike="noStrike">
                <a:solidFill>
                  <a:srgbClr val="4d4d4d"/>
                </a:solidFill>
                <a:latin typeface="Arial Narrow"/>
              </a:rPr>
              <a:t>V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Narrow"/>
              </a:rPr>
              <a:t>86 m/s</a:t>
            </a:r>
            <a:r>
              <a:rPr b="0" lang="en-US" sz="2000" spc="-1" strike="noStrike" baseline="30000">
                <a:solidFill>
                  <a:srgbClr val="4d4d4d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4d4d4d"/>
                </a:solidFill>
                <a:latin typeface="Arial Narrow"/>
              </a:rPr>
              <a:t> (8.8 g) peak acceleration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Narrow"/>
              </a:rPr>
              <a:t>88 ms duration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Seat Setup</a:t>
            </a: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Seat back angle = 25 degrees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Head restraint height at mid-position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Any backset adjustment position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Separate seat cushion adjustment set to highest H-point position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E7C4-31FA-41D9-83D0-0D3A05EB9E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45b38"/>
                </a:solidFill>
                <a:latin typeface="Arial Black"/>
              </a:rPr>
              <a:t>Injury Criteria</a:t>
            </a:r>
            <a:endParaRPr b="0" i="1" lang="en-US" sz="3600" spc="-1" strike="noStrike">
              <a:solidFill>
                <a:srgbClr val="645b38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Whiplash injury criteria</a:t>
            </a: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Many injury criteria have been postulated, but there in no consensus, due to a lack of clear understanding of the whiplash mechanism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NIC, Nij, Nkm, NDC, LNL, individual upper and lower neck loads, moments and accelerations.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2b1d7d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d7d"/>
                </a:solidFill>
                <a:latin typeface="Arial"/>
              </a:rPr>
              <a:t>Head-to-torso rotation</a:t>
            </a:r>
            <a:endParaRPr b="1" lang="en-US" sz="2400" spc="-1" strike="noStrike">
              <a:solidFill>
                <a:srgbClr val="2b1d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45b38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5b38"/>
                </a:solidFill>
                <a:latin typeface="Arial Narrow"/>
              </a:rPr>
              <a:t>Consensus among researchers that reducing head-to-torso rotation will reduce neck injury.  (Viano, 2002; Yoganandan, 2000; Langweider, 2000)</a:t>
            </a:r>
            <a:endParaRPr b="1" lang="en-US" sz="2400" spc="-1" strike="noStrike">
              <a:solidFill>
                <a:srgbClr val="645b3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A17D-FFD4-4D0C-B14E-92F1718E3E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21:39:53Z</dcterms:created>
  <dc:creator>Associate Administrator/R&amp;D</dc:creator>
  <dc:description/>
  <dc:language>en-US</dc:language>
  <cp:lastModifiedBy>Juan Ramos</cp:lastModifiedBy>
  <cp:lastPrinted>2000-10-02T15:36:03Z</cp:lastPrinted>
  <dcterms:modified xsi:type="dcterms:W3CDTF">2005-03-30T14:51:29Z</dcterms:modified>
  <cp:revision>406</cp:revision>
  <dc:subject/>
  <dc:title>Advanced Airbags</dc:title>
</cp:coreProperties>
</file>