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33280" y="436860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2844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756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184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3328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756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184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33280" y="22856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39600" y="182160"/>
            <a:ext cx="814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33280" y="22856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2844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33280" y="436860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2844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6756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1840" y="228564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3328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6756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01840" y="4368600"/>
            <a:ext cx="26989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39600" y="182160"/>
            <a:ext cx="814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28440" y="436860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328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8440" y="2285640"/>
            <a:ext cx="409032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3280" y="4368600"/>
            <a:ext cx="838224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3280" y="22856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9327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3399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07600" y="6591240"/>
            <a:ext cx="5364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8B0C-B7DE-47BF-8A5B-31BA3C02F198}" type="slidenum">
              <a:rPr b="0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2600a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76120" y="5645160"/>
            <a:ext cx="123660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7000" y="337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64960" y="5246640"/>
            <a:ext cx="1177920" cy="1211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00a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ff9327"/>
              </a:buClr>
              <a:buSzPct val="69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339933"/>
              </a:buClr>
              <a:buSzPct val="69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9600" y="196488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BSTRACT from</a:t>
            </a:r>
            <a:br>
              <a:rPr sz="3400"/>
            </a:b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CEA Whiplash Test Series o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peatability and Reproducibility of Proposed Test Proced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98600" y="4520880"/>
            <a:ext cx="6400800" cy="14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00a0"/>
                </a:solidFill>
                <a:latin typeface="Arial"/>
              </a:rPr>
              <a:t>September 2004</a:t>
            </a: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00a0"/>
                </a:solidFill>
                <a:latin typeface="Arial"/>
              </a:rPr>
              <a:t>Céline Adalian &amp; Raimondo Sferco</a:t>
            </a:r>
            <a:endParaRPr b="0" lang="en-US" sz="2400" spc="-1" strike="noStrike">
              <a:solidFill>
                <a:srgbClr val="2600a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2560" y="133200"/>
            <a:ext cx="3392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54640" y="800280"/>
            <a:ext cx="3598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SP-Informal Head Restraints GTR</a:t>
            </a:r>
            <a:endParaRPr b="0" lang="en-US" sz="1600" spc="-1" strike="noStrike">
              <a:solidFill>
                <a:srgbClr val="2600a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ICA presentation</a:t>
            </a:r>
            <a:endParaRPr b="0" lang="en-US" sz="1600" spc="-1" strike="noStrike">
              <a:solidFill>
                <a:srgbClr val="2600a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February 2005</a:t>
            </a:r>
            <a:endParaRPr b="0" lang="en-US" sz="1600" spc="-1" strike="noStrike">
              <a:solidFill>
                <a:srgbClr val="2600a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67360" y="279360"/>
            <a:ext cx="37465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d Restraint IWG Document:  HR-1-7</a:t>
            </a:r>
            <a:endParaRPr b="0" lang="en-US" sz="1400" spc="-1" strike="noStrike">
              <a:solidFill>
                <a:srgbClr val="2600a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Purpose of the ACEA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3960" y="1828440"/>
            <a:ext cx="838224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series conducted in two ph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1: Repeata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different seat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repeat tests of each s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repeat testing conducted at Thatc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2: Reproducibility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different seat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ing conducted in five different labs (using the same tes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aa029a"/>
              </a:buClr>
              <a:buSzPct val="6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test per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280" y="45540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RMD Setup us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3280" y="1276200"/>
            <a:ext cx="407376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itial Geometric assessment with HRM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t = mid height / mid rail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R = mid position if locked or else fully dow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6680" y="1495440"/>
            <a:ext cx="4245120" cy="318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21360" y="5051520"/>
            <a:ext cx="5000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picture of HRMD measurement </a:t>
            </a:r>
            <a:endParaRPr b="0" lang="en-US" sz="1800" spc="-1" strike="noStrike">
              <a:solidFill>
                <a:srgbClr val="2600a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Parameters investigated with respect to test set-u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92320" y="1397160"/>
            <a:ext cx="7423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itial position of s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t back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restraint stem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itial position of SAE Manikin + HR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set and head restraint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at setup as results of HRMD measurements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at back and stem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9360" y="905040"/>
            <a:ext cx="7018200" cy="561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1800" y="6504120"/>
            <a:ext cx="7771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oints marked with a “+” are from the tests made at Thatcham (repeatability assessment)</a:t>
            </a:r>
            <a:endParaRPr b="0" lang="en-US" sz="1400" spc="-1" strike="noStrike">
              <a:solidFill>
                <a:srgbClr val="2600a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-3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RMD setup</a:t>
            </a:r>
            <a:br>
              <a:rPr sz="34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RMD H-point measurement result sc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90840" y="1135080"/>
            <a:ext cx="6872040" cy="538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61800" y="6504120"/>
            <a:ext cx="7771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oints marked with a “+” are from the tests made at Thatcham (repeatability assessment)</a:t>
            </a:r>
            <a:endParaRPr b="0" lang="en-US" sz="1400" spc="-1" strike="noStrike">
              <a:solidFill>
                <a:srgbClr val="2600a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RMD setup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RMD height and backset measurement result sca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1800" y="6504120"/>
            <a:ext cx="7771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oints marked with a “+” are from the tests made at Thatcham (repeatability assessment)</a:t>
            </a:r>
            <a:endParaRPr b="0" lang="en-US" sz="1400" spc="-1" strike="noStrike">
              <a:solidFill>
                <a:srgbClr val="2600a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482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RMD torso angle vs backset measurement result sca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66760"/>
            <a:ext cx="8848800" cy="473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9600" y="1821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Conclusions on HRMD measurements and set-up proced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3280" y="1346040"/>
            <a:ext cx="838224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shows that reproducibility and repeatability issues still exists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use of the HRMD procedure by the different labs caused seat back angle (stem angle) differences of up to 4 deg. This could be seen as significant. One degree change in the stem angle will lead in theory to 15 mm increase in backset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600a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practical measurement the maximum differences of backset and height for reproducibility were more than 20 mm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08:58:41Z</dcterms:created>
  <dc:creator/>
  <dc:description/>
  <dc:language>en-US</dc:language>
  <cp:lastModifiedBy>SMeyerson</cp:lastModifiedBy>
  <cp:lastPrinted>1998-03-08T00:55:10Z</cp:lastPrinted>
  <dcterms:modified xsi:type="dcterms:W3CDTF">2005-03-22T16:56:37Z</dcterms:modified>
  <cp:revision>188</cp:revision>
  <dc:subject/>
  <dc:title>Status report from ACEA  whiplash group</dc:title>
</cp:coreProperties>
</file>