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8834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915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988440"/>
            <a:ext cx="8915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1560" y="160020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1560" y="398844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87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7800" y="1600200"/>
            <a:ext cx="287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62440" y="1600200"/>
            <a:ext cx="287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988440"/>
            <a:ext cx="287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7800" y="3988440"/>
            <a:ext cx="287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62440" y="3988440"/>
            <a:ext cx="287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35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1560" y="1600200"/>
            <a:ext cx="435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533160"/>
            <a:ext cx="9372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1560" y="1600200"/>
            <a:ext cx="435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35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1560" y="160020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01560" y="398844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1560" y="160020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8915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915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3988440"/>
            <a:ext cx="8915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01560" y="160020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01560" y="398844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87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7800" y="1600200"/>
            <a:ext cx="287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62440" y="1600200"/>
            <a:ext cx="287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3988440"/>
            <a:ext cx="287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7800" y="3988440"/>
            <a:ext cx="287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62440" y="3988440"/>
            <a:ext cx="287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35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1560" y="1600200"/>
            <a:ext cx="435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533160"/>
            <a:ext cx="9372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1560" y="1600200"/>
            <a:ext cx="435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35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1560" y="160020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1560" y="398844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1560" y="1600200"/>
            <a:ext cx="4350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988440"/>
            <a:ext cx="8915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560" y="6571800"/>
            <a:ext cx="4299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0" tIns="44280" bIns="44280" anchor="b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ntwicklung Pkw  Mercedes-Ben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P/QZT, Rentsch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266760" y="149400"/>
            <a:ext cx="2143080" cy="210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66760" y="457200"/>
            <a:ext cx="937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66760" y="6477120"/>
            <a:ext cx="937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84320" y="6477120"/>
            <a:ext cx="1568160" cy="379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863AF4AE-81D1-4784-9F2B-49AFBB0C417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571356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638680"/>
            <a:ext cx="9906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419720"/>
            <a:ext cx="9906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457200"/>
            <a:ext cx="5105520" cy="500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560" y="6468480"/>
            <a:ext cx="42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0" tIns="44280" bIns="44280" anchor="b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ntwicklung Pkw Mercedes-Ben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P/QEM, MDS-Prozess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P 4 Teil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2"/>
          </p:nvPr>
        </p:nvSpPr>
        <p:spPr>
          <a:xfrm>
            <a:off x="184320" y="6477120"/>
            <a:ext cx="2635200" cy="379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, Seite </a:t>
            </a:r>
            <a:fld id="{1871B72E-B685-4BC3-A94B-29F779A3773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P4_Teil1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7000" y="644400"/>
            <a:ext cx="52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ff"/>
                </a:solidFill>
                <a:latin typeface="Arial"/>
              </a:rPr>
              <a:t>Head Restraints for Rear Seating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2880" y="3276720"/>
            <a:ext cx="9144000" cy="32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rope, ECE R-1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n-use position“ clearly recognizable to the occupant as not being included for the use of the head restrain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b2b2b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Practice: No intermediate position (notch) below 750 mm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b2b2b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b2b2b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SA, FMVSS 202 (Draf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b2b2b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cc3300"/>
                </a:solidFill>
                <a:latin typeface="Arial"/>
              </a:rPr>
              <a:t>Generate a torso angle  difference for the H-point manikin of &gt;1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b2b2b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turn to an “in use” posi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cally (</a:t>
            </a:r>
            <a:r>
              <a:rPr b="0" lang="de-DE" sz="1400" spc="-1" strike="noStrike">
                <a:solidFill>
                  <a:srgbClr val="cc3300"/>
                </a:solidFill>
                <a:latin typeface="Arial"/>
              </a:rPr>
              <a:t>occupant recognition system needed!!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b2b2b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b2b2b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011240"/>
            <a:ext cx="9296280" cy="537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734600">
            <a:off x="3123720" y="2257560"/>
            <a:ext cx="162000" cy="655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734600">
            <a:off x="5105160" y="2263680"/>
            <a:ext cx="161640" cy="655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734600">
            <a:off x="4038120" y="2257560"/>
            <a:ext cx="162000" cy="655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734600">
            <a:off x="6009840" y="2257560"/>
            <a:ext cx="162000" cy="655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38800">
            <a:off x="3433320" y="2684160"/>
            <a:ext cx="604800" cy="220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820000">
            <a:off x="3508200" y="2153880"/>
            <a:ext cx="127080" cy="324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8623400">
            <a:off x="5003640" y="2322720"/>
            <a:ext cx="272880" cy="824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298600">
            <a:off x="6095520" y="2227320"/>
            <a:ext cx="152640" cy="291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03800" y="2228760"/>
            <a:ext cx="282600" cy="74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010200" y="2111400"/>
            <a:ext cx="162000" cy="1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952880" y="2111400"/>
            <a:ext cx="162000" cy="1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24400" y="1965240"/>
            <a:ext cx="209520" cy="168480"/>
          </a:xfrm>
          <a:custGeom>
            <a:avLst/>
            <a:gdLst>
              <a:gd name="textAreaLeft" fmla="*/ 0 w 209520"/>
              <a:gd name="textAreaRight" fmla="*/ 209880 w 209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202000">
            <a:off x="4011480" y="1914120"/>
            <a:ext cx="112680" cy="246240"/>
          </a:xfrm>
          <a:custGeom>
            <a:avLst/>
            <a:gdLst>
              <a:gd name="textAreaLeft" fmla="*/ 15120 w 112680"/>
              <a:gd name="textAreaRight" fmla="*/ 97560 w 112680"/>
              <a:gd name="textAreaTop" fmla="*/ 42840 h 246240"/>
              <a:gd name="textAreaBottom" fmla="*/ 178560 h 24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85640" y="1143000"/>
            <a:ext cx="68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ldable / retractable head restraints in non use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rot="5820600">
            <a:off x="3278160" y="2054520"/>
            <a:ext cx="276480" cy="129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rot="5820600">
            <a:off x="4140000" y="2054520"/>
            <a:ext cx="276480" cy="128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8623400">
            <a:off x="5079960" y="2032200"/>
            <a:ext cx="272880" cy="824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80120" y="1938240"/>
            <a:ext cx="282600" cy="74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298600">
            <a:off x="6248520" y="1917360"/>
            <a:ext cx="152280" cy="291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196524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553080" y="1965240"/>
            <a:ext cx="25740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1828800"/>
            <a:ext cx="1682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west in use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96760" y="1752480"/>
            <a:ext cx="1938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50 mm above R-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asured along torso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38800">
            <a:off x="2518920" y="2674440"/>
            <a:ext cx="604800" cy="220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8800">
            <a:off x="5486040" y="2666520"/>
            <a:ext cx="604800" cy="220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38800">
            <a:off x="4576320" y="2666520"/>
            <a:ext cx="604800" cy="220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25909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250020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51460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251460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251460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3720" y="2438280"/>
            <a:ext cx="1191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68120" y="2438280"/>
            <a:ext cx="1191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34800" y="2438280"/>
            <a:ext cx="1191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49200" y="2438280"/>
            <a:ext cx="1191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rot="20806800">
            <a:off x="3961440" y="2209320"/>
            <a:ext cx="276120" cy="129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4280"/>
            <a:ext cx="2579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d Restraint IWG Document:  HR-1-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Jan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17:59:58Z</dcterms:created>
  <dc:creator>B. Endres</dc:creator>
  <dc:description/>
  <dc:language>en-US</dc:language>
  <cp:lastModifiedBy>SMeyerson</cp:lastModifiedBy>
  <cp:lastPrinted>2003-01-08T21:16:51Z</cp:lastPrinted>
  <dcterms:modified xsi:type="dcterms:W3CDTF">2005-03-22T16:52:43Z</dcterms:modified>
  <cp:revision>538</cp:revision>
  <dc:subject>Label Management Prozess</dc:subject>
  <dc:title>DC MCG Labeling</dc:title>
</cp:coreProperties>
</file>