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B60-D85E-4D23-8584-9DAEA462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BB6-71D2-44D1-806C-009440D4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59F-591A-43FC-9051-ACEB93A8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CDE-9EB3-48BD-870E-FB4E4696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E64F-64B9-4F11-9044-84816D92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03B-804E-4251-9AC2-F7328123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837-3255-499A-9882-56AF32EE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4D4-F376-483A-81A5-B26F68F0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745-A6BA-4D52-A733-F5B76A45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333-4919-43AC-82ED-F28B4F91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8E0-40EF-4951-A646-433D652B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1A9-43C4-4D9A-88C5-D437B6E6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5240-5D7E-4EEA-9401-E9FA95BD04F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16000" y="836640"/>
            <a:ext cx="8748720" cy="5832360"/>
            <a:chOff x="216000" y="836640"/>
            <a:chExt cx="8748720" cy="58323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0" t="26111" r="2682" b="7841"/>
            <a:stretch/>
          </p:blipFill>
          <p:spPr>
            <a:xfrm>
              <a:off x="4932360" y="836640"/>
              <a:ext cx="4032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6429" t="0" r="0" b="0"/>
            <a:stretch/>
          </p:blipFill>
          <p:spPr>
            <a:xfrm>
              <a:off x="5357880" y="2576520"/>
              <a:ext cx="3606840" cy="23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0" t="10788" r="8198" b="33542"/>
            <a:stretch/>
          </p:blipFill>
          <p:spPr>
            <a:xfrm>
              <a:off x="4282920" y="4878360"/>
              <a:ext cx="4681800" cy="17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rcRect l="0" t="19078" r="0" b="21057"/>
            <a:stretch/>
          </p:blipFill>
          <p:spPr>
            <a:xfrm>
              <a:off x="216000" y="836640"/>
              <a:ext cx="4757760" cy="21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rcRect l="4558" t="0" r="11867" b="32032"/>
            <a:stretch/>
          </p:blipFill>
          <p:spPr>
            <a:xfrm>
              <a:off x="216000" y="4616280"/>
              <a:ext cx="4221000" cy="20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rcRect l="0" t="8798" r="4494" b="20654"/>
            <a:stretch/>
          </p:blipFill>
          <p:spPr>
            <a:xfrm>
              <a:off x="216000" y="2651040"/>
              <a:ext cx="2301840" cy="24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rcRect l="6394" t="0" r="0" b="0"/>
            <a:stretch/>
          </p:blipFill>
          <p:spPr>
            <a:xfrm>
              <a:off x="2440080" y="2727360"/>
              <a:ext cx="3368520" cy="21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1187280" y="4046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RF EVSC Demonstrations at Boxberg 6th Jul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99240" y="44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VSC05-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3:24:09Z</dcterms:created>
  <dc:creator>jennison</dc:creator>
  <dc:description/>
  <dc:language>en-US</dc:language>
  <cp:lastModifiedBy>jennison</cp:lastModifiedBy>
  <dcterms:modified xsi:type="dcterms:W3CDTF">2006-09-20T07:24:42Z</dcterms:modified>
  <cp:revision>4</cp:revision>
  <dc:subject/>
  <dc:title>Slide 1</dc:title>
</cp:coreProperties>
</file>