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513-1C94-4532-913D-DD257E0C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3F6-1E29-40A2-96E6-DCC77BAA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0BA-2DC0-40F3-B9EF-23246E54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8B2-E641-450D-A563-1CB13EFB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28D-17EB-4AEC-A256-1AFB851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35C-9384-4F59-A54F-2245F69F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8BE-7F05-43C2-A61F-54E7C63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1DB-E585-45B3-BB6E-F3AB582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938-9D5C-4773-9A83-CE770637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CAD-F87F-4D41-81E5-C745120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28B-842B-4993-BE71-89F9B82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A09-45BE-4206-BC7B-F74D692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B01E-FD0E-44B8-BDE4-B0668C923B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6000" y="836640"/>
            <a:ext cx="8748720" cy="5832360"/>
            <a:chOff x="216000" y="836640"/>
            <a:chExt cx="8748720" cy="5832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26111" r="2682" b="7841"/>
            <a:stretch/>
          </p:blipFill>
          <p:spPr>
            <a:xfrm>
              <a:off x="4932360" y="836640"/>
              <a:ext cx="4032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6429" t="0" r="0" b="0"/>
            <a:stretch/>
          </p:blipFill>
          <p:spPr>
            <a:xfrm>
              <a:off x="5357880" y="2576520"/>
              <a:ext cx="3606840" cy="23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0788" r="8198" b="33542"/>
            <a:stretch/>
          </p:blipFill>
          <p:spPr>
            <a:xfrm>
              <a:off x="4282920" y="4878360"/>
              <a:ext cx="468180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0" t="19078" r="0" b="21057"/>
            <a:stretch/>
          </p:blipFill>
          <p:spPr>
            <a:xfrm>
              <a:off x="216000" y="836640"/>
              <a:ext cx="4757760" cy="21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rcRect l="4558" t="0" r="11867" b="32032"/>
            <a:stretch/>
          </p:blipFill>
          <p:spPr>
            <a:xfrm>
              <a:off x="216000" y="4616280"/>
              <a:ext cx="4221000" cy="20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rcRect l="0" t="8798" r="4494" b="20654"/>
            <a:stretch/>
          </p:blipFill>
          <p:spPr>
            <a:xfrm>
              <a:off x="216000" y="2651040"/>
              <a:ext cx="2301840" cy="24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rcRect l="6394" t="0" r="0" b="0"/>
            <a:stretch/>
          </p:blipFill>
          <p:spPr>
            <a:xfrm>
              <a:off x="2440080" y="2727360"/>
              <a:ext cx="33685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187280" y="404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RF EVSC Demonstrations at Boxberg 6th Jul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9240" y="44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VSC05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24:09Z</dcterms:created>
  <dc:creator>jennison</dc:creator>
  <dc:description/>
  <dc:language>en-US</dc:language>
  <cp:lastModifiedBy>jennison</cp:lastModifiedBy>
  <dcterms:modified xsi:type="dcterms:W3CDTF">2006-09-20T07:24:42Z</dcterms:modified>
  <cp:revision>4</cp:revision>
  <dc:subject/>
  <dc:title>Slide 1</dc:title>
</cp:coreProperties>
</file>