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CD1-5B82-4C2E-90A7-4EB392D5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151-3B1B-47BD-8F4C-912B1183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D63-9AD2-42DA-B527-E8A3BFF6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61B-C03D-493B-BDD5-93ADF62F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62E3-A8BE-4746-9E22-8ADC691D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E9D9-DEEF-4B51-A00D-582879E4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4934-78B9-4F10-8AB5-4B6F4143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D97F-411B-44B0-B5AE-0F6B8AAD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8C1A-6EA1-46D6-8CAC-727202F7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17680" y="546480"/>
            <a:ext cx="859608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AC44-7D40-47BE-B365-2FCDEDB8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149B-F8EF-4658-9ECB-3011ECA9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7DAF-8A52-4E63-AEF4-92D900A7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1E09-93D2-48AE-8AA8-22EF85FB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48B8-DFE9-44E9-B418-C1C4FF3F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4CE1-CDD6-480D-8A2A-B5DE62C1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B52E-B565-4CC0-8B3E-24BA7A3F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254E-0520-48A0-ACB3-9CB06895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FABD-A2CA-4E55-B52C-9BBAE412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8E6C-801D-445C-9138-FB886458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5486-7869-4CCD-9216-D1F60EE8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17680" y="546480"/>
            <a:ext cx="859608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8F4B-4D26-459B-89FC-13C5AA6B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69B-3ECA-4D68-BC20-9E62AD9B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E98B-55BE-40FB-84BC-A5EB4E1E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8746-A311-43BA-9A53-46113AA7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3760" y="176364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15740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1210-1D04-46FE-8593-DF6C17AA430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5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14800"/>
            <a:ext cx="777240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207F-2021-4B7F-9A8B-63735A8BF13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1736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EVSC Performance Evaluation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209680" y="6094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 No. EVSC05-18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4188600"/>
            <a:ext cx="777240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Proposed Approach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55609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repared by the Expert from Russian Fede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pril 200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Proposed test procedures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t high adhesion coefficien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steering in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onstant speed, increase of steering wheel angle from run to run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tering the cur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onstant radius, increase of speed from run to ru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288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t low adhesion coefficien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tering the curv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onstant radius, increase of speed from run to ru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SC Performance Evaluati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F97B-A458-482C-9A2A-4DA466009884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17680" y="249840"/>
            <a:ext cx="8596080" cy="13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Proposed test procedures </a:t>
            </a:r>
            <a:br>
              <a:rPr sz="4300"/>
            </a:b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(con‘d)</a:t>
            </a:r>
            <a:endParaRPr b="0" lang="en-US" sz="3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sides that, we have to b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ured that the EVSC does not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fere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riving a vehic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ne chang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set trajectory, increase of speed from run to run, reaching the maximum allowable speed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formed for the conditions when EVSC is activated and deactiva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SC Performance Evalu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26C9-97EB-44A9-96DA-D54F63E691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7680" y="220320"/>
            <a:ext cx="859608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Techniques for avoiding stability loss </a:t>
            </a: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(rolling over)</a:t>
            </a: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 when testing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14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ic tilting angle on the test platform can be corresponded with the critical value of lateral acceleration for the conditions of steady-state driving on a circle, when vehicle rolling over can be occurr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5000"/>
              </a:lnSpc>
              <a:spcBef>
                <a:spcPts val="14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the conditions of steady-state driving on a circle the steering wheel angle corresponding with the value of lateral acceleration can be determin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5000"/>
              </a:lnSpc>
              <a:spcBef>
                <a:spcPts val="14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ch steering wheel angle is used as the steering input for the step steering te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SC Performance Evalu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01F4-7071-40DC-BF75-6C4640704DC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7680" y="-108000"/>
            <a:ext cx="859608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Techniques for reducing driver’s influence and increasing safety for the Lane-change tes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ording of the driver’s steering inputs corresponding with the position of vehicle on the trajectory. The test runs with the incorrect inputs are excluded from the further consider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side observer informing the driver by radio in regards to vehicle behavior on the test trajec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SC Performance Evalu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286B-E769-422B-9F94-F0DF33571CF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SC Performance Evalu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D87A-7BDA-4F9D-AED5-F317D2E5D6A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7680" y="220320"/>
            <a:ext cx="859608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What do we try to avoid when driving a vehicle ?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28800" y="2666880"/>
            <a:ext cx="6324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Loss of stability…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SC Performance Evalu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402-11A4-472A-ABFD-46159D772D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Factors of stability loss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 ste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ver ste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ll o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4343400"/>
            <a:ext cx="7391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of the factors happens earlier than the other two. It depends on road adhesion coefficient, position of a vehicle center of mass, vehicle track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SC Performance Evalu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C3B4-F44F-4CB6-B114-D49EE2E2E6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Stability loss happens…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e to inadequate steering inpu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ering wheel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ering wheel rotation veloc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3657600"/>
            <a:ext cx="54104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utputs concer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aw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aw accel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teral forces on whe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teral acceleration on whe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ll 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te of roll 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SC Performance Evalu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09B-3525-4C89-997C-A9EB2F37C9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17680" y="5482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The objective is…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choose the the evaluation criteria for “good” stabil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” stability” means that there is enough reserve in increase of lateral forces on the front and the rear wheel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SC Performance Evalu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AA54-5AC9-42A2-A5CC-E4E4168371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manufacturer sets the value of lateral force which can be generated when driving a vehicle without its stability loss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SC Performance Evalu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8F70-D25C-4D93-A95C-703CD6590F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Why the EVSC is used?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matic application of brakes shall ensure that the limit value of lateral forces cannot be generat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kes shall be applied when certain set value of lateral force is reached only on wheels having enough reserve in increase of lateral for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ossibility of driving a vehicle on certain types of roads (characterized by minimum curve radius), taking into account the adhesion coefficient, shall exist. For determination of adhesion coefficient, ABS can be us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SC Performance Evalu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D653-99C8-4C24-81F7-62D80BF644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shall check by the tests what kind of improvements were reached by application of EVSC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SC Performance Evalu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3A1E-7237-4D8B-9AEE-83843401D63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Setting evaluation criterions…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666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condition of the particular adhesion coefficient vehicle allows driving on the certain trajectory with the certain speed and acceleration without stability lo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SC Performance Evalu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52C-DF2C-4044-8BDE-70FAC39520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0:30:56Z</dcterms:created>
  <dc:creator>Bocharov</dc:creator>
  <dc:description/>
  <dc:language>en-US</dc:language>
  <cp:lastModifiedBy>Roger</cp:lastModifiedBy>
  <dcterms:modified xsi:type="dcterms:W3CDTF">2005-04-14T14:08:25Z</dcterms:modified>
  <cp:revision>2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51104493</vt:r8>
  </property>
  <property fmtid="{D5CDD505-2E9C-101B-9397-08002B2CF9AE}" pid="3" name="_AuthorEmail">
    <vt:lpwstr>consult@clepa.be</vt:lpwstr>
  </property>
  <property fmtid="{D5CDD505-2E9C-101B-9397-08002B2CF9AE}" pid="4" name="_AuthorEmailDisplayName">
    <vt:lpwstr>Roland Gillebeert</vt:lpwstr>
  </property>
  <property fmtid="{D5CDD505-2E9C-101B-9397-08002B2CF9AE}" pid="5" name="_EmailSubject">
    <vt:lpwstr>Doc. EVSC05-18</vt:lpwstr>
  </property>
</Properties>
</file>