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B3F-1382-48BD-998F-8481E469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3CE-E22C-4788-BA08-94F902DC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717-A44D-4375-A0E5-3BD170E5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F30-D9B0-4606-9FDC-99EFE331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4840-99D8-4895-92D0-4E283163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76D2-EC9B-4802-AA23-F2241FB4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1E86-A3B0-4278-A6E5-54DC86AC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9D85-6FF9-4722-8C46-B93B310A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AF0B-79FE-4E4A-B7BB-FCF1C8F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3268-8A5F-4710-BB59-E336DDCA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5849-0DFB-4E79-ADEB-F3757ED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6CB-A36A-4608-8741-373F3239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131-1DAF-49FA-AFA2-F5223422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DAD7-7B96-4A35-923C-BFEE62A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53EC-A976-4641-AB25-16C170BE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FB5-C75F-4FA7-A527-2512B795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F226-45F8-4A2E-9E5F-C141C692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A18-BF49-4DF5-B911-2F8F3093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B27-8FA9-4740-919D-E11DA93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6CE-6C6E-4E01-9025-77E3D90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D07-3B1B-4B0A-BBAF-BE2B3F3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B60-6DC7-4BE1-8436-E6AB5CA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822-5586-4F61-8709-BEC55BA3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BFC-A7E1-4EC2-B1A6-FB9C9B7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C4B0-FB19-4692-9CF3-68E2154DAEA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9786-64A6-47C5-A2D4-A3FDE6FDB98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173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EVSC Performance Evaluation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09680" y="6094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No. EVSC05-18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188600"/>
            <a:ext cx="77724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Proposed Approach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560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epared by the Expert from Russian Fed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pril 20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Proposed test procedure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high adhesion coeffici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steering in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onstant speed, increase of steering wheel angle from run to ru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ing the cur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onstant radius, increase of speed from run to ru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 low adhesion coeffici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ing the curv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onstant radius, increase of speed from run to ru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592-7900-4AE8-8ED6-D983AC8D312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680" y="249840"/>
            <a:ext cx="8596080" cy="13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Proposed test procedures </a:t>
            </a:r>
            <a:br>
              <a:rPr sz="43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(con‘d)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sides that, we have to b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ured that the EVSC does not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riving a vehic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e chang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et trajectory, increase of speed from run to run, reaching the maximum allowable spee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ed for the conditions when EVSC is activated and deactiv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42E-5CC5-482B-8134-EB632F15E6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7680" y="2203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echniques for avoiding stability loss 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(rolling over)</a:t>
            </a: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 when testing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tilting angle on the test platform can be corresponded with the critical value of lateral acceleration for the conditions of steady-state driving on a circle, when vehicle rolling over can be occur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conditions of steady-state driving on a circle the steering wheel angle corresponding with the value of lateral acceleration can be determi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ch steering wheel angle is used as the steering input for the step steering t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5D3-6E90-4B16-BCA1-C27EDDC336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7680" y="-108000"/>
            <a:ext cx="859608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echniques for reducing driver’s influence and increasing safety for the Lane-change tes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ing of the driver’s steering inputs corresponding with the position of vehicle on the trajectory. The test runs with the incorrect inputs are excluded from the further conside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observer informing the driver by radio in regards to vehicle behavior on the test trajec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574-AEB3-4C97-AC06-4932EBB60E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ECB-3512-4386-8973-795CAD0401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7680" y="220320"/>
            <a:ext cx="859608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What do we try to avoid when driving a vehicle ?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Loss of stability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161-AAA5-442F-9F7B-C0E07F4E9A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Factors of stability loss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 st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st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343400"/>
            <a:ext cx="7391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factors happens earlier than the other two. It depends on road adhesion coefficient, position of a vehicle center of mass, vehicle tra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332-5877-42DC-B469-B77997308B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Stability loss happens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to inadequate steering inpu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ering wheel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ering wheel rotation velo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657600"/>
            <a:ext cx="5410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tputs concer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aw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aw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ral forces on whe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ral acceleration on whe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ll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e of roll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F9A-D7E0-427F-903B-6325B810D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7680" y="5482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The objective is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choose the the evaluation criteria for “good” stabil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” stability” means that there is enough reserve in increase of lateral forces on the front and the rear whee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BA3-BFE5-4595-AA9A-6FC111F834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anufacturer sets the value of lateral force which can be generated when driving a vehicle without its stability loss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FBA-0D5E-48C3-AEA7-CBE2C1DFB9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Why the EVSC is used?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 application of brakes shall ensure that the limit value of lateral forces cannot be genera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kes shall be applied when certain set value of lateral force is reached only on wheels having enough reserve in increase of lateral for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ossibility of driving a vehicle on certain types of roads (characterized by minimum curve radius), taking into account the adhesion coefficient, shall exist. For determination of adhesion coefficient, ABS can be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99C-020B-4517-91B7-4C8C251B42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shall check by the tests what kind of improvements were reached by application of EVSC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493-0407-483C-A7DC-E175F68CE5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Setting evaluation criterions…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condition of the particular adhesion coefficient vehicle allows driving on the certain trajectory with the certain speed and acceleration without stability lo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SC Performance Evalu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D7C-A4F3-4AD3-AC75-F61F064410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0:30:56Z</dcterms:created>
  <dc:creator>Bocharov</dc:creator>
  <dc:description/>
  <dc:language>en-US</dc:language>
  <cp:lastModifiedBy>Roger</cp:lastModifiedBy>
  <dcterms:modified xsi:type="dcterms:W3CDTF">2005-04-14T14:08:25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51104493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Doc. EVSC05-18</vt:lpwstr>
  </property>
</Properties>
</file>