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MWTypeRegular"/>
              </a:rPr>
              <a:t>Click to move the slide</a:t>
            </a: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MWType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2" name=""/>
          <p:cNvSpPr/>
          <p:nvPr/>
        </p:nvSpPr>
        <p:spPr>
          <a:xfrm>
            <a:off x="90720" y="2994120"/>
            <a:ext cx="923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AA23F00F-00EF-494A-BC65-1211FB007A29}" type="slidenum">
              <a:rPr b="0" lang="de-DE" sz="1200" spc="-1" strike="noStrike">
                <a:solidFill>
                  <a:srgbClr val="676767"/>
                </a:solidFill>
                <a:latin typeface="BMWTypeRegula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26080" y="4680"/>
            <a:ext cx="4302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6080" y="647208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680" y="647208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680" y="4680"/>
            <a:ext cx="4300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3240"/>
            <a:ext cx="43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6080" y="647064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BMWTypeRegular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680" y="647064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680" y="3240"/>
            <a:ext cx="4300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626080" y="4680"/>
            <a:ext cx="43020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6080" y="647208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680" y="647208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680" y="4680"/>
            <a:ext cx="43005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26080" y="3240"/>
            <a:ext cx="43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26080" y="6470640"/>
            <a:ext cx="430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BMWTypeRegular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4680" y="6470640"/>
            <a:ext cx="4300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4680" y="3240"/>
            <a:ext cx="4300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121200" y="51120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24080" y="3227400"/>
            <a:ext cx="72784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53680" y="287424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3480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896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03880" y="142092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5368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27896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103880" y="2874240"/>
            <a:ext cx="269028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2520" y="189000"/>
            <a:ext cx="8425080" cy="18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34800" y="287424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368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34800" y="1420920"/>
            <a:ext cx="407700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53680" y="2874240"/>
            <a:ext cx="83552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53680" y="1420920"/>
            <a:ext cx="835524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Click to edit the outline text format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1" marL="1742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econd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2" marL="3474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Third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3" marL="5216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Four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4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Fif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5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ix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  <a:p>
            <a:pPr lvl="6" marL="694440">
              <a:lnSpc>
                <a:spcPct val="90000"/>
              </a:lnSpc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900" spc="-1" strike="noStrike">
                <a:solidFill>
                  <a:srgbClr val="7b7b7b"/>
                </a:solidFill>
                <a:latin typeface="BMWTypeRegular"/>
              </a:rPr>
              <a:t>Seventh Outline Level</a:t>
            </a:r>
            <a:endParaRPr b="1" lang="en-US" sz="2900" spc="-1" strike="noStrike">
              <a:solidFill>
                <a:srgbClr val="7b7b7b"/>
              </a:solidFill>
              <a:latin typeface="BMWType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42520" y="189000"/>
            <a:ext cx="8425080" cy="3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MWTypeRegular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2" name=""/>
          <p:cNvSpPr/>
          <p:nvPr/>
        </p:nvSpPr>
        <p:spPr>
          <a:xfrm>
            <a:off x="-72720" y="222120"/>
            <a:ext cx="111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0" bIns="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BMW 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28.04.20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Seite </a:t>
            </a:r>
            <a:fld id="{868017B4-DFA5-4507-AF63-EAF63D8FFEAA}" type="slidenum">
              <a:rPr b="0" lang="en-US" sz="1000" spc="-1" strike="noStrike">
                <a:solidFill>
                  <a:srgbClr val="000000"/>
                </a:solidFill>
                <a:latin typeface="BMWTypeRegula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enaissancehotels.com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00" y="245880"/>
            <a:ext cx="84247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MWTypeRegular"/>
              </a:rPr>
              <a:t>BMW UX Motorrad</a:t>
            </a:r>
            <a:br>
              <a:rPr sz="3200"/>
            </a:br>
            <a:r>
              <a:rPr b="1" lang="en-US" sz="3200" spc="-1" strike="noStrike">
                <a:solidFill>
                  <a:srgbClr val="7b7b7b"/>
                </a:solidFill>
                <a:latin typeface="BMWTypeRegular"/>
              </a:rPr>
              <a:t>Hotel list</a:t>
            </a:r>
            <a:endParaRPr b="1" lang="en-US" sz="3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44" name=""/>
          <p:cNvSpPr/>
          <p:nvPr/>
        </p:nvSpPr>
        <p:spPr>
          <a:xfrm>
            <a:off x="1316160" y="1459080"/>
            <a:ext cx="82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3680" y="1577880"/>
            <a:ext cx="8542440" cy="29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Renaissance München Hot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Theodor-Dombart-Str.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80805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232323"/>
                </a:solidFill>
                <a:uFillTx/>
                <a:latin typeface="BMWTypeRegular"/>
                <a:hlinkClick r:id="rId1"/>
              </a:rPr>
              <a:t>www.renaissancehotels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20 deluxe single room: € 188,00 including breakf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Contingent „UX Motorrad“ til </a:t>
            </a: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20.05.2005 (til then the reservation has to be do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Meeting room (40qm) for 12 people on the 26.06.2005 (15.00h – 19.00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57640" y="22525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02160" y="1627200"/>
          <a:ext cx="240840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1627200"/>
                    <a:ext cx="24084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257640" y="22525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342200" y="1643040"/>
          <a:ext cx="2403360" cy="16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42200" y="1643040"/>
                    <a:ext cx="2403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0000" y="245880"/>
            <a:ext cx="84247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MWTypeRegular"/>
              </a:rPr>
              <a:t>BMW UX Motorrad </a:t>
            </a:r>
            <a:br>
              <a:rPr sz="3200"/>
            </a:br>
            <a:r>
              <a:rPr b="1" lang="en-US" sz="3200" spc="-1" strike="noStrike">
                <a:solidFill>
                  <a:srgbClr val="7b7b7b"/>
                </a:solidFill>
                <a:latin typeface="BMWTypeRegular"/>
              </a:rPr>
              <a:t>Hotel list</a:t>
            </a:r>
            <a:endParaRPr b="1" lang="en-US" sz="3200" spc="-1" strike="noStrike">
              <a:solidFill>
                <a:srgbClr val="000000"/>
              </a:solidFill>
              <a:latin typeface="BMWTypeRegular"/>
            </a:endParaRPr>
          </a:p>
        </p:txBody>
      </p:sp>
      <p:sp>
        <p:nvSpPr>
          <p:cNvPr id="53" name=""/>
          <p:cNvSpPr/>
          <p:nvPr/>
        </p:nvSpPr>
        <p:spPr>
          <a:xfrm>
            <a:off x="1316160" y="1459080"/>
            <a:ext cx="827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3680" y="1577880"/>
            <a:ext cx="830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Hilton München Pa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Am Tucherpark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80538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www.hilton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20 single room: € 275,00 including breakf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Contingent „UX Motorrad“ til </a:t>
            </a:r>
            <a:r>
              <a:rPr b="1" lang="de-DE" sz="1600" spc="-1" strike="noStrike">
                <a:solidFill>
                  <a:srgbClr val="232323"/>
                </a:solidFill>
                <a:latin typeface="BMWTypeRegular"/>
              </a:rPr>
              <a:t>27.05.2005 (til then the reservation has to be do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001"/>
              </a:spcBef>
              <a:buClr>
                <a:srgbClr val="232323"/>
              </a:buClr>
              <a:buFont typeface="BMWType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2323"/>
                </a:solidFill>
                <a:latin typeface="BMWTypeRegular"/>
              </a:rPr>
              <a:t>Meeting room (52qm) for 12 people on the 26.06.2005 (15.00h – 19.00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24240" y="2228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76720" y="1682640"/>
          <a:ext cx="2178000" cy="16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682640"/>
                    <a:ext cx="217800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181400" y="2657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61160" y="1704960"/>
          <a:ext cx="154332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1160" y="1704960"/>
                    <a:ext cx="15433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1:40:00Z</dcterms:created>
  <dc:creator/>
  <dc:description/>
  <dc:language>en-US</dc:language>
  <cp:lastModifiedBy>Q140935</cp:lastModifiedBy>
  <cp:lastPrinted>2000-02-10T17:53:49Z</cp:lastPrinted>
  <dcterms:modified xsi:type="dcterms:W3CDTF">2005-04-29T13:51:55Z</dcterms:modified>
  <cp:revision>274</cp:revision>
  <dc:subject/>
  <dc:title>Das ist der Titel der  Bildschirmpräsentation. Ziel, Zweck oder Über- sicht der Präsentation  in Form einer Synopse ergänzt den Titel in mehreren Zeilen. Dat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4684069</vt:r8>
  </property>
  <property fmtid="{D5CDD505-2E9C-101B-9397-08002B2CF9AE}" pid="3" name="_AuthorEmail">
    <vt:lpwstr>Roland.Stocker@bmw.de</vt:lpwstr>
  </property>
  <property fmtid="{D5CDD505-2E9C-101B-9397-08002B2CF9AE}" pid="4" name="_AuthorEmailDisplayName">
    <vt:lpwstr>Stocker Roland, UX-EF-2</vt:lpwstr>
  </property>
  <property fmtid="{D5CDD505-2E9C-101B-9397-08002B2CF9AE}" pid="5" name="_EmailSubject">
    <vt:lpwstr>Hotel list</vt:lpwstr>
  </property>
  <property fmtid="{D5CDD505-2E9C-101B-9397-08002B2CF9AE}" pid="6" name="_PreviousAdHocReviewCycleID">
    <vt:r8>-116976767</vt:r8>
  </property>
</Properties>
</file>