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5167-AD3D-498C-B7D8-060C89D23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84931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55800" y="4007520"/>
            <a:ext cx="84931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3B39-3840-4689-84D7-839FF1367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5800" y="40075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7840" y="40075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B979-0D82-4D47-9F14-6994C1CC8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7520" y="20653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99240" y="20653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55800" y="40075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27520" y="40075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99240" y="40075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AC86-8D87-41B0-8914-CF0BB3B70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E07A-7D26-46CC-953A-3ADC9EADAD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55800" y="2065320"/>
            <a:ext cx="8493120" cy="37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098D-7B9D-4EBB-AD07-AB878BE1DC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84931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FBB57-01FC-4937-9DF9-B34C8DE642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133A-90CE-41AA-97AB-C1B4C17E5F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B25C-B44A-4F2E-B476-34C03E346E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1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0D4B-87E3-45E8-B162-0A9F24002A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55800" y="40075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3D30-0AFF-4B64-8EBC-0118302A1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955800" y="2065320"/>
            <a:ext cx="8493120" cy="37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F7DB-CDA2-4C2C-B59E-157F8E680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07840" y="40075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457D9-BA50-4C94-909B-2A571501C3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55800" y="4007520"/>
            <a:ext cx="84931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50F2-74EF-4BD5-98DE-EA50A658CA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84931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55800" y="4007520"/>
            <a:ext cx="84931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5D68-180B-477C-BC96-DDD35911E9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55800" y="40075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07840" y="40075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15E5-C719-4D04-A895-CB3B58AB75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27520" y="20653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99240" y="20653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55800" y="40075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27520" y="40075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99240" y="4007520"/>
            <a:ext cx="273456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3E0B-87F7-4650-AE89-74B39E0A8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84931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BF7A-2234-4614-9CD9-A50DC6069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64D0-C897-4F3F-8B63-31764398D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0775-20B9-43F3-B36B-93E335368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1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A7AF-4EFC-4ACC-BA41-69C6AFAC3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5800" y="40075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7D64-C203-4E58-B644-688AB33B1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7840" y="40075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F7AC-AE9A-405E-AD3A-E4122233F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580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7840" y="2065320"/>
            <a:ext cx="41443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5800" y="4007520"/>
            <a:ext cx="8493120" cy="17733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32CA-4A99-4CDF-9B84-565F4D668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39080" y="165240"/>
            <a:ext cx="2387520" cy="66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26160" y="0"/>
            <a:ext cx="0" cy="6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55800" y="2065320"/>
            <a:ext cx="8493120" cy="371808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6676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31800" indent="-26640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22400" indent="-26496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22400" indent="-26496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22400" indent="-26496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9183600" y="6370200"/>
            <a:ext cx="44136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11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1600" spc="-1" strike="noStrike">
                <a:solidFill>
                  <a:srgbClr val="747474"/>
                </a:solidFill>
                <a:latin typeface="Arial"/>
              </a:defRPr>
            </a:lvl1pPr>
          </a:lstStyle>
          <a:p>
            <a:pPr indent="0" algn="r">
              <a:lnSpc>
                <a:spcPct val="111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FA085AD6-0ABF-4E8C-B87F-65C999EB9197}" type="slidenum">
              <a:rPr b="0" lang="de-DE" sz="1600" spc="-1" strike="noStrike">
                <a:solidFill>
                  <a:srgbClr val="74747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006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47760" y="165240"/>
            <a:ext cx="2433600" cy="879480"/>
            <a:chOff x="347760" y="165240"/>
            <a:chExt cx="2433600" cy="879480"/>
          </a:xfrm>
        </p:grpSpPr>
        <p:pic>
          <p:nvPicPr>
            <p:cNvPr id="6" name="ENGVAlogo" descr=""/>
            <p:cNvPicPr/>
            <p:nvPr/>
          </p:nvPicPr>
          <p:blipFill>
            <a:blip r:embed="rId2"/>
            <a:stretch/>
          </p:blipFill>
          <p:spPr>
            <a:xfrm>
              <a:off x="347760" y="165240"/>
              <a:ext cx="243360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 txBox="1"/>
            <p:nvPr/>
          </p:nvSpPr>
          <p:spPr>
            <a:xfrm>
              <a:off x="347760" y="165240"/>
              <a:ext cx="2433600" cy="87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9360" rIns="99360" tIns="49680" bIns="49680" anchor="ctr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2124000" y="168120"/>
            <a:ext cx="2387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LOGO%20AEGPL" descr=""/>
          <p:cNvPicPr/>
          <p:nvPr/>
        </p:nvPicPr>
        <p:blipFill>
          <a:blip r:embed="rId3"/>
          <a:stretch/>
        </p:blipFill>
        <p:spPr>
          <a:xfrm>
            <a:off x="6400800" y="0"/>
            <a:ext cx="1112760" cy="10746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97040" y="1015920"/>
            <a:ext cx="8578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82640" y="1487520"/>
            <a:ext cx="8400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Arial"/>
              </a:rPr>
              <a:t>OBD for bi-fuelled gas vehic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clepa_eps" descr=""/>
          <p:cNvPicPr/>
          <p:nvPr/>
        </p:nvPicPr>
        <p:blipFill>
          <a:blip r:embed="rId4"/>
          <a:stretch/>
        </p:blipFill>
        <p:spPr>
          <a:xfrm>
            <a:off x="2954160" y="165240"/>
            <a:ext cx="3148200" cy="6109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1405080"/>
            <a:ext cx="9906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997440" y="6022800"/>
            <a:ext cx="2606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nl-BE" sz="13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BE" sz="13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nl-BE" sz="1300" spc="-1" strike="noStrike">
                <a:solidFill>
                  <a:srgbClr val="000000"/>
                </a:solidFill>
                <a:latin typeface="Arial"/>
              </a:rPr>
              <a:t> GRPE – OBD bi-fuell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oicableu1" descr=""/>
          <p:cNvPicPr/>
          <p:nvPr/>
        </p:nvPicPr>
        <p:blipFill>
          <a:blip r:embed="rId5"/>
          <a:stretch/>
        </p:blipFill>
        <p:spPr>
          <a:xfrm>
            <a:off x="8077320" y="152280"/>
            <a:ext cx="1143000" cy="79704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18240" y="0"/>
            <a:ext cx="23878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600" y="6254640"/>
            <a:ext cx="675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900" spc="-1" strike="noStrike">
                <a:solidFill>
                  <a:srgbClr val="747474"/>
                </a:solidFill>
                <a:latin typeface="Arial"/>
              </a:rPr>
              <a:t>12.12.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900" spc="-1" strike="noStrike">
                <a:solidFill>
                  <a:srgbClr val="747474"/>
                </a:solidFill>
                <a:latin typeface="Arial"/>
              </a:rPr>
              <a:t>© Alle Rechte bei Robert Bosch GmbH, auch für den Fall von Schutzrechtsanmeldungen.                                                        Jede Verfügungsbefugnis, wie Kopier- und Weitergaberecht, bei u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OCO__LR" descr=""/>
          <p:cNvPicPr/>
          <p:nvPr/>
        </p:nvPicPr>
        <p:blipFill>
          <a:blip r:embed="rId2"/>
          <a:stretch/>
        </p:blipFill>
        <p:spPr>
          <a:xfrm>
            <a:off x="7916760" y="168120"/>
            <a:ext cx="1590840" cy="339840"/>
          </a:xfrm>
          <a:prstGeom prst="rect">
            <a:avLst/>
          </a:prstGeom>
          <a:ln w="0">
            <a:noFill/>
          </a:ln>
        </p:spPr>
      </p:pic>
      <p:pic>
        <p:nvPicPr>
          <p:cNvPr id="56" name="ANK_C256" descr=""/>
          <p:cNvPicPr/>
          <p:nvPr/>
        </p:nvPicPr>
        <p:blipFill>
          <a:blip r:embed="rId3"/>
          <a:stretch/>
        </p:blipFill>
        <p:spPr>
          <a:xfrm>
            <a:off x="0" y="0"/>
            <a:ext cx="1149480" cy="66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69960"/>
            <a:ext cx="9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26160" y="0"/>
            <a:ext cx="7525080" cy="6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7760" y="2285640"/>
            <a:ext cx="8489880" cy="676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Num" idx="2"/>
          </p:nvPr>
        </p:nvSpPr>
        <p:spPr>
          <a:xfrm>
            <a:off x="9183600" y="6370200"/>
            <a:ext cx="44136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11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1600" spc="-1" strike="noStrike">
                <a:solidFill>
                  <a:srgbClr val="747474"/>
                </a:solidFill>
                <a:latin typeface="Arial"/>
              </a:defRPr>
            </a:lvl1pPr>
          </a:lstStyle>
          <a:p>
            <a:pPr indent="0" algn="r">
              <a:lnSpc>
                <a:spcPct val="111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9101D466-8B4D-4BC3-9657-C57253390085}" type="slidenum">
              <a:rPr b="0" lang="de-DE" sz="1600" spc="-1" strike="noStrike">
                <a:solidFill>
                  <a:srgbClr val="74747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68320" y="2644560"/>
            <a:ext cx="8493120" cy="355284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EOBD for gas vehicles introduced in EC Legislation as from 2001</a:t>
            </a:r>
            <a:br>
              <a:rPr sz="2100"/>
            </a:b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Time constraints made EOBD requirements based on single technical solution, other technical possibilities as “allowed deficiencies”.</a:t>
            </a:r>
            <a:br>
              <a:rPr sz="2100"/>
            </a:b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The EU Directives were adopted as amendments to ECE Regulation No. 8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867960" y="2064960"/>
            <a:ext cx="8342280" cy="3301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History of (E)OBD for gas fuelled cars &amp; light comm. vehi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59C5-C2FA-4723-9748-DE01F33BED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5480" y="1828800"/>
            <a:ext cx="7472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asic principles of current 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68320" y="2313000"/>
            <a:ext cx="8493120" cy="396720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marL="317520" indent="0">
              <a:lnSpc>
                <a:spcPct val="111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ree basic princip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Different and individual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OBD systems for data evaluation and   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transmission</a:t>
            </a: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Different source addresses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on scan tool request</a:t>
            </a: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3.  MI (activated or de- activated) controlled according to the OB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111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data of the fuel type currently in use.</a:t>
            </a:r>
            <a:br>
              <a:rPr sz="1900"/>
            </a:b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Exception from the princip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For inspection/maintenance purposes,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readiness (status code) 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111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84E8-2236-48E6-A6EE-ABE001E662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82640" y="1900080"/>
            <a:ext cx="7472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Efforts to fulfil the bi-fuel (E)OBD 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55800" y="2395080"/>
            <a:ext cx="8493120" cy="348300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Because of the requir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Two separate OBD syste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Two different source addresses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additional efforts compared to a mono-fuel system are necessar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OBD related hardware to be nearly doubled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existing OBD software to be changed everywhere, additional development costs and implementation risk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Special functions for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readiness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setting requi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872D-0FC1-4D2E-8BAA-3884F43A58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82640" y="1982880"/>
            <a:ext cx="7472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Experiences with OBD develop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68320" y="2644560"/>
            <a:ext cx="8493120" cy="348300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After two years of developing OBD system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industry associations CLEPA, ENGVA and AEGPL, 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vehicle manufacturers who are members of AC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concluded that additional hardware and software is required without benefit for environment, vehicle owner and repair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current regulation for bi-fuel gas vehicles, although very clear and stringent, puts them at a disadvantage compared to mono-fuel gas vehicl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2329-F12C-4E18-BA58-0D945ECC5A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82640" y="2147760"/>
            <a:ext cx="7472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Proposal for an amendment of bi-fuel OB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55800" y="2975040"/>
            <a:ext cx="8493120" cy="239544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marL="360360"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amendment is based on the idea of allowing more technical possibilities instead of the single technical solution prescribed in the current legislation.  “allowed deficiencies” are no longer need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C885-62FB-4383-A2BB-07AB1187F3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82640" y="1900080"/>
            <a:ext cx="7472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Main items of amendment proposal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55800" y="2477880"/>
            <a:ext cx="8493120" cy="348300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In general for each of the fuel types the OBD requirements as for a mono-fuelled vehicle are applic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wo major technical solutions for fault code storage and erasure and MI activation and deactivatio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one OBD system for both fuel typ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wo separate OBD systems, one for each fuel type </a:t>
            </a: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Either one of these possibilities or any combination thereof can be used for the development of a bi-fuel OBD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11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8069-5AF3-43CB-A233-F0DA35B579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82640" y="2065320"/>
            <a:ext cx="7472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Main items of amendment proposal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55800" y="2809440"/>
            <a:ext cx="8493120" cy="29019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Specific requirements regard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transmission of diagnostic signals from bi-fuelled gas vehicles on one or more source addresses</a:t>
            </a: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identification of fuel specific information u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4444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source addresses and/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4444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fuel select switch and/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4444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fuel specific diagnostic trouble co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BD2E-64B3-46C8-8EA0-20ADA3719E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82640" y="1982880"/>
            <a:ext cx="7472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Main items of amendment proposal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55800" y="2282400"/>
            <a:ext cx="8493120" cy="348156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lvl="1" marL="750960"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wo options regarding the status code (readiness):</a:t>
            </a: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wo separate status codes, i.e. one for each fuel type</a:t>
            </a: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current requirement, where the status code indicates ready for both fuel systems when the control system is fully evaluated for one fuel typ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6C16-2235-4F35-8E19-3F6409EE5C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82640" y="2147760"/>
            <a:ext cx="7472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Proposal for an amendment of bi-fuel OB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55800" y="2809800"/>
            <a:ext cx="8493120" cy="239544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62280" bIns="0" anchor="t">
            <a:normAutofit/>
          </a:bodyPr>
          <a:p>
            <a:pPr marL="360360"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1000"/>
              </a:lnSpc>
              <a:buClr>
                <a:srgbClr val="588cda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Associations propose an amendment tha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fulfils all the primary goals of OBD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but removes unnecessary restrictions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65320">
              <a:lnSpc>
                <a:spcPct val="111000"/>
              </a:lnSpc>
              <a:buClr>
                <a:srgbClr val="588cda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and leads to similar costs as for mono-fuel gas vehicles, therefore reducing the barrier for the introduction of bi-fuel vehicles (OEM) into the marke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DA52-A46F-4BED-BEA2-9023F03C0A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9:37:12Z</dcterms:created>
  <dc:creator/>
  <dc:description/>
  <dc:language>en-US</dc:language>
  <cp:lastModifiedBy>Hubert</cp:lastModifiedBy>
  <dcterms:modified xsi:type="dcterms:W3CDTF">2005-06-24T14:46:45Z</dcterms:modified>
  <cp:revision>239</cp:revision>
  <dc:subject/>
  <dc:title>Kein Folientitel</dc:title>
</cp:coreProperties>
</file>