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AA6D-4002-4208-B551-D6CB738743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AED7-5017-49C0-896D-6C086004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6CD4-4F8D-4327-89F5-AE545FDB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B549-F844-4B78-8D46-4AED2C598F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9844-7653-4F23-A8CB-CC9E42C4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BB49-547B-407F-97ED-B3DA2CE7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A494-5235-4830-983E-ADD5C466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9EB0-746B-424B-9C0E-DA7BBDD5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BD08-3150-4A5D-933C-C8EEB399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6ED7-A826-4439-B154-D7FA4E3C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6F62-CC67-45E6-8991-6B41E6FF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B0B0-93A3-4AD1-9F9A-6DF27A05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9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B- 22/0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2DAB-71D5-4291-8D85-652E25D7B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182080" y="5811840"/>
            <a:ext cx="795240" cy="731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653320" y="154080"/>
            <a:ext cx="49068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E580-57AE-4204-9D9C-7972E3903DAC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5160" y="1571760"/>
            <a:ext cx="7780680" cy="2349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RTO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B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et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va 22/02/2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38720" y="228600"/>
            <a:ext cx="2362320" cy="56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GRB-41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41st GRB, 22-24 February 2005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da item 1.2.1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AA31-9A85-4398-9AC2-BD46D57913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8fca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Possible Impact of the German proposition on</a:t>
            </a:r>
            <a:br>
              <a:rPr sz="3200"/>
            </a:b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 Tyre Dir 2001/43 &amp; ECE/Reg 1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27120" y="2016000"/>
          <a:ext cx="7607160" cy="4389480"/>
        </p:xfrm>
        <a:graphic>
          <a:graphicData uri="http://schemas.openxmlformats.org/drawingml/2006/table">
            <a:tbl>
              <a:tblPr/>
              <a:tblGrid>
                <a:gridCol w="1901880"/>
                <a:gridCol w="1901880"/>
                <a:gridCol w="1901520"/>
                <a:gridCol w="190188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M1 veh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ound level 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tep 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MS PGothic"/>
                        </a:rPr>
                        <a:t>dB(A)</a:t>
                      </a:r>
                      <a:r>
                        <a:rPr b="0" lang="fr-FR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MS PGothic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ound level 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tep 2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MS PGothic"/>
                        </a:rPr>
                        <a:t>dB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ound level 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tep 3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MS PGothic"/>
                        </a:rPr>
                        <a:t>dB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s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 51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91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mpact on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g 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ighest Limit C1(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4 dB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~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5 dB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~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6 dB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~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ca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4D67-DD62-47C1-96B5-14E3FA8F43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13480" y="2208240"/>
            <a:ext cx="2419560" cy="1739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Is it realistic to require in the future that four tyres would have the same rolling sound emission as only one today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66720" y="701640"/>
          <a:ext cx="5829480" cy="54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701640"/>
                    <a:ext cx="582948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89D5-03BF-46A3-A24A-8A8EDA6967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asibility &amp; Economic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1640" y="2606760"/>
            <a:ext cx="7834320" cy="1922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lready practiced for many regulations we request that a feasibility study &amp; a cost benefit analysis be per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CDB1-5C51-4647-8434-A8CA0ED91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9700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ompromise to achi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45760" y="1157040"/>
            <a:ext cx="80773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hallenge is to build a tyre whose performance characteristics (especially safety related) are all maxim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89040" y="1892160"/>
            <a:ext cx="6804000" cy="4079880"/>
            <a:chOff x="1589040" y="1892160"/>
            <a:chExt cx="6804000" cy="4079880"/>
          </a:xfrm>
        </p:grpSpPr>
        <p:sp>
          <p:nvSpPr>
            <p:cNvPr id="91" name=""/>
            <p:cNvSpPr/>
            <p:nvPr/>
          </p:nvSpPr>
          <p:spPr>
            <a:xfrm flipV="1">
              <a:off x="3686040" y="3171600"/>
              <a:ext cx="1533600" cy="4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35480" y="4713120"/>
              <a:ext cx="3032280" cy="12589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ead w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lling res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yre we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yre/road no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7040" y="1892160"/>
              <a:ext cx="3186000" cy="2533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Endur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High speed cap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Dry and wet bra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quapla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Hand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Heat build 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08200" y="2085840"/>
              <a:ext cx="1933560" cy="2220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Times New Roman"/>
                </a:rPr>
                <a:t>Safe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9040" y="4665600"/>
              <a:ext cx="1990800" cy="12499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30600" y="5351400"/>
              <a:ext cx="1558800" cy="15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5561-91A5-496D-B2F0-48ACBB353E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71440"/>
            <a:ext cx="7870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gislation for Tyre Rolling Sound Emissi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to 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7680" y="1711440"/>
            <a:ext cx="824832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mprovements in technology allow today’s tyre industry to better manage the interactions between SPL &amp; wet braking d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f limits for SPL are reduced significantly then there is a risk that tomorrow’s tyre industry will no longer be able to manage the tradeof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cusing on SPL might jeopardise other safety or environmental  perform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evel of any performance criterion is the result of the compromise chosen for the other criteria whether legislated or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 has to be taken when fixing limits based only on  the analysis  of the tyre rolling sound emission  values of a sample of vehicles without considering the whole population of vehicles &amp; ty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E176-FCEF-49B2-9A05-4087CA667E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71440"/>
            <a:ext cx="7799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gislation for Tyre Rolling Sound Emissi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to 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1720" y="1611360"/>
            <a:ext cx="830736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&amp; future trends in vehicle design entail larger &amp; wider ty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 the moment the benefits in sound level reduction according to the UN-ECE Reg 51.03 have not been demonstrated on the public road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698B-A89D-47A6-AB39-B1CEB4FE8C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41240" y="252900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D268-EBAA-4ACC-A649-BDE3D03B29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mendment of UN/ECE Regulation 51-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2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TRTO Positio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tyre should not be doubly legislated unless the new amended vehicle noise regulation 51 takes into account the  limit(s) for the tyre in a harmonised way with the current Tyre/Road Noise Directive &amp; ECE/Regulation 11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444920"/>
            <a:ext cx="662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332240"/>
            <a:ext cx="76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y tyre type fulfilling the requirements of EC/Dir 2001/43 &amp; UN-ECE/Reg 117 must be acceptable for conducting the vehicle homolog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66A2-FBCA-4297-AE0F-3BF49ED6CB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NDMENT of UN/ECE REG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9720" y="1663200"/>
            <a:ext cx="761688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ferring to Paragraph  2.2.2  Footnot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tyre contribution for overall sound emission being important, this Regulation has taken into account the tyre/road sound emission regu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47760" y="3635280"/>
            <a:ext cx="686124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ull coherence between ECE/Regulations 51-03  and  ECE/Regulation 117 needs to be addr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0A49-09B8-4BBB-B90F-D6FAEE5FEA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imits for the New Amd. UN/ECE Reg. 51-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9720" y="166320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new method has a different approach for the evaluation of the vehicle sound overall emission &amp; is not correlated to the current 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refore the limits for the new method should be established taking into account the  new testing conditions only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9040" y="4052880"/>
            <a:ext cx="4249800" cy="1135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TRTO has established a proced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 evaluate the coh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etween the 2 Regu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DAB6-77C4-4BAD-97A5-7425B93FB6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19280" y="318960"/>
            <a:ext cx="778176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OHERENCY BETWEEN TYRE &amp; VEHICLE REG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70720" y="4714920"/>
            <a:ext cx="229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* To cover all tyre sizes that can fit M1 vehicles the highest tyre limits of  ECE/Reg 117 is conside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470320" y="4154400"/>
            <a:ext cx="4119480" cy="2347920"/>
            <a:chOff x="2470320" y="4154400"/>
            <a:chExt cx="4119480" cy="2347920"/>
          </a:xfrm>
        </p:grpSpPr>
        <p:sp>
          <p:nvSpPr>
            <p:cNvPr id="57" name=""/>
            <p:cNvSpPr/>
            <p:nvPr/>
          </p:nvSpPr>
          <p:spPr>
            <a:xfrm>
              <a:off x="4494240" y="4606920"/>
              <a:ext cx="1440" cy="403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89040" y="4154400"/>
              <a:ext cx="5040" cy="453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70320" y="4583160"/>
              <a:ext cx="4119480" cy="1116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50200" y="4211640"/>
              <a:ext cx="15840" cy="425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39960" y="5049720"/>
              <a:ext cx="3565440" cy="1452600"/>
            </a:xfrm>
            <a:prstGeom prst="rect">
              <a:avLst/>
            </a:prstGeom>
            <a:solidFill>
              <a:srgbClr val="ffccff"/>
            </a:solidFill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imit for the overal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hicle Sound E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Power Train / Tyres rati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0% -50%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75 dB(A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74720" y="866880"/>
            <a:ext cx="7778880" cy="3295440"/>
            <a:chOff x="774720" y="866880"/>
            <a:chExt cx="7778880" cy="3295440"/>
          </a:xfrm>
        </p:grpSpPr>
        <p:sp>
          <p:nvSpPr>
            <p:cNvPr id="63" name=""/>
            <p:cNvSpPr/>
            <p:nvPr/>
          </p:nvSpPr>
          <p:spPr>
            <a:xfrm>
              <a:off x="4567320" y="870120"/>
              <a:ext cx="3895560" cy="704520"/>
            </a:xfrm>
            <a:prstGeom prst="rect">
              <a:avLst/>
            </a:prstGeom>
            <a:solidFill>
              <a:srgbClr val="cc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Times New Roman"/>
                  <a:ea typeface="Arial"/>
                </a:rPr>
                <a:t>Tyre Contribu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Times New Roman"/>
                  <a:ea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606920" y="1614600"/>
              <a:ext cx="3946680" cy="2547720"/>
              <a:chOff x="4606920" y="1614600"/>
              <a:chExt cx="3946680" cy="2547720"/>
            </a:xfrm>
          </p:grpSpPr>
          <p:sp>
            <p:nvSpPr>
              <p:cNvPr id="65" name=""/>
              <p:cNvSpPr/>
              <p:nvPr/>
            </p:nvSpPr>
            <p:spPr>
              <a:xfrm>
                <a:off x="6473880" y="1614600"/>
                <a:ext cx="3240" cy="296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06920" y="1908000"/>
                <a:ext cx="3946680" cy="2254320"/>
              </a:xfrm>
              <a:prstGeom prst="rect">
                <a:avLst/>
              </a:prstGeom>
              <a:solidFill>
                <a:srgbClr val="ccffff"/>
              </a:solidFill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82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Times New Roman"/>
                    <a:ea typeface="Arial"/>
                  </a:rPr>
                  <a:t>Tyre Rolling sound Emi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2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Times New Roman"/>
                    <a:ea typeface="Arial"/>
                  </a:rPr>
                  <a:t>76 dB(A) *@ 80 k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2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2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Times New Roman"/>
                    <a:ea typeface="Arial"/>
                  </a:rPr>
                  <a:t>70dB(A) @  50 kph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2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+ (~1,5 to 2) dB(A) </a:t>
                </a:r>
                <a:r>
                  <a:rPr b="1" lang="en-US" sz="1800" spc="-1" strike="noStrike" baseline="30000">
                    <a:solidFill>
                      <a:srgbClr val="ff3300"/>
                    </a:solidFill>
                    <a:latin typeface="Times New Roman"/>
                    <a:ea typeface="Arial"/>
                  </a:rPr>
                  <a:t>(tyre torqu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2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2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Times New Roman"/>
                    <a:ea typeface="Arial"/>
                  </a:rPr>
                  <a:t>-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2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  <a:ea typeface="Arial"/>
                  </a:rPr>
                  <a:t>72 dB(A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455920" y="1555920"/>
              <a:ext cx="4680" cy="3808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3800" y="1944720"/>
              <a:ext cx="3373560" cy="217008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  <a:ea typeface="Arial"/>
                </a:rPr>
                <a:t>Power Train/Tyre rat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  <a:ea typeface="Arial"/>
                </a:rPr>
                <a:t>50% - 5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  <a:ea typeface="Arial"/>
                </a:rPr>
                <a:t>Corresponds  Power Tr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  <a:ea typeface="Arial"/>
                </a:rPr>
                <a:t>Contrib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Arial"/>
                </a:rPr>
                <a:t>72 dB(A)</a:t>
              </a: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4720" y="866880"/>
              <a:ext cx="3381480" cy="803160"/>
            </a:xfrm>
            <a:prstGeom prst="rect">
              <a:avLst/>
            </a:prstGeom>
            <a:solidFill>
              <a:srgbClr val="ffff66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Power Train  Contribu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352680" y="3811680"/>
            <a:ext cx="1943280" cy="0"/>
          </a:xfrm>
          <a:prstGeom prst="line">
            <a:avLst/>
          </a:prstGeom>
          <a:ln w="76320">
            <a:solidFill>
              <a:srgbClr val="99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40480" y="24969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8A3A-E813-4BF4-BD51-1B5BCEDA5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6480" y="1744200"/>
            <a:ext cx="7772400" cy="246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posed Limit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rsus </a:t>
            </a:r>
            <a:br>
              <a:rPr sz="32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/Dir 2001/43 &amp; ECE/Reg 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1CB5-DC77-4BD1-807C-8F773F6EEB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25560" y="1933200"/>
            <a:ext cx="732168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ique  limit for gasoline &amp; diesel vehicl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73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96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ff-road &amp; sports categor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9600" indent="0">
              <a:spcBef>
                <a:spcPts val="499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Times New Roman"/>
              </a:rPr>
              <a:t>Limits to be proposed after their definition  is clarified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3680" y="434880"/>
            <a:ext cx="78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ench proposition for M1 vehicle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9CCE-8F76-49B3-A506-3CA348B9BE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37840"/>
            <a:ext cx="7772400" cy="1143000"/>
          </a:xfrm>
          <a:prstGeom prst="rect">
            <a:avLst/>
          </a:prstGeom>
          <a:solidFill>
            <a:srgbClr val="f8fca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Possible Impact of the French proposition </a:t>
            </a:r>
            <a:br>
              <a:rPr sz="3200"/>
            </a:b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on  ECE/Reg 1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87520" y="1938240"/>
          <a:ext cx="5460840" cy="4195800"/>
        </p:xfrm>
        <a:graphic>
          <a:graphicData uri="http://schemas.openxmlformats.org/drawingml/2006/table">
            <a:tbl>
              <a:tblPr/>
              <a:tblGrid>
                <a:gridCol w="2401920"/>
                <a:gridCol w="3058920"/>
              </a:tblGrid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M1 veh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ound level lim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MS PGothic"/>
                        </a:rPr>
                        <a:t>dB(A)</a:t>
                      </a:r>
                      <a:r>
                        <a:rPr b="0" lang="fr-FR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MS PGothic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E/Reg 51-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spor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off-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To be 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To be defin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5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mpact on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g 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ighest Limit C1(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1 = -2 dB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~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ca2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6316560" y="2448000"/>
            <a:ext cx="2167200" cy="3240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ear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1 spor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1 off-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A59B-81F2-46EB-BFC1-6EFFFAED0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62000" y="896400"/>
            <a:ext cx="7027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erman proposition for M1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1239840"/>
                <a:tab algn="l" pos="2479680"/>
                <a:tab algn="l" pos="3719520"/>
                <a:tab algn="l" pos="4959360"/>
                <a:tab algn="l" pos="6199200"/>
                <a:tab algn="l" pos="7439040"/>
                <a:tab algn="l" pos="8678880"/>
                <a:tab algn="l" pos="9918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92000" y="2209680"/>
          <a:ext cx="7367760" cy="2413080"/>
        </p:xfrm>
        <a:graphic>
          <a:graphicData uri="http://schemas.openxmlformats.org/drawingml/2006/table">
            <a:tbl>
              <a:tblPr/>
              <a:tblGrid>
                <a:gridCol w="2097360"/>
                <a:gridCol w="1757160"/>
                <a:gridCol w="1755720"/>
                <a:gridCol w="1757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969840" y="5197320"/>
            <a:ext cx="72597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basis for the definition of M1s &amp; M1o  needs to be cla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CD2DC-9BDB-4628-9308-BFE45973B7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9:16:31Z</dcterms:created>
  <dc:creator>Michelin</dc:creator>
  <dc:description/>
  <dc:language>en-US</dc:language>
  <cp:lastModifiedBy>Hubert</cp:lastModifiedBy>
  <cp:lastPrinted>2005-02-21T08:57:47Z</cp:lastPrinted>
  <dcterms:modified xsi:type="dcterms:W3CDTF">2005-02-21T09:46:50Z</dcterms:modified>
  <cp:revision>223</cp:revision>
  <dc:subject/>
  <dc:title>GERMAN/ISO PROPOSAL</dc:title>
</cp:coreProperties>
</file>