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D9D-7819-4BA3-A378-3AEF0936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82B-68FC-4CD2-BDA4-5A847836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1C8-4F5F-4AAE-9837-1B47D96D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5E7-C82D-4E83-AC5A-EFDF2007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A0E-3FED-428E-A9BE-0D5F7CAA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A67-5A7E-4CB4-AEA8-6C93E116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CC3-5207-4EB9-864C-9F38F044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18F-D10C-4F56-B6AC-383C03E6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C57-CABA-4F06-AB95-358AA786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A44-CBD5-43E3-8D1B-88AC8029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751-D793-4A66-BA78-84B44498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614-B6E1-4267-95AC-46AD61C8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FA84-57F7-4AF2-938B-25CB4CDDA2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9280" y="173160"/>
            <a:ext cx="7705440" cy="6511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467560" y="4397400"/>
            <a:ext cx="547920" cy="22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RB-41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41st GRB, 22-24 February 200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da item 1.2.1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7:37:39Z</dcterms:created>
  <dc:creator>Heinz Steven</dc:creator>
  <dc:description/>
  <dc:language>en-US</dc:language>
  <cp:lastModifiedBy>Hubert</cp:lastModifiedBy>
  <dcterms:modified xsi:type="dcterms:W3CDTF">2005-02-17T15:48:29Z</dcterms:modified>
  <cp:revision>13</cp:revision>
  <dc:subject/>
  <dc:title>Folie 1</dc:title>
</cp:coreProperties>
</file>