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61FC3-1FF9-483D-AA8D-484A0DEBC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C4816-F781-4A25-A5B4-2896BA665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ED6C3-18C5-4D30-9ADC-FA9CCBEAD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1DE52-64C1-4EFC-A347-DEDA0D1B3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91685-ACFA-4BBD-A885-E0CC80024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8F415-8B99-4662-BCA8-8133266B5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25936-3AF6-4ED6-BE73-E834012C3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0412C-5A0A-488A-843B-C383F9014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FA953-0F9B-4EAE-AF16-81F602B7C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A2D82-273F-46E5-9A4A-5A350C1BC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956C-C25F-4B06-B183-1F121A804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FA61F-C59A-4E5F-911A-FAE124596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0EDC-B43C-4400-89D0-51E6E647F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1219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orcycle Noise Emissions</a:t>
            </a:r>
            <a:br>
              <a:rPr sz="4400"/>
            </a:br>
            <a:r>
              <a:rPr b="0" lang="en-US" sz="4400" spc="-1" strike="noStrike">
                <a:solidFill>
                  <a:srgbClr val="000000"/>
                </a:solidFill>
                <a:latin typeface="Times New Roman"/>
              </a:rPr>
              <a:t>- The German Position -</a:t>
            </a:r>
            <a:endParaRPr b="0" lang="en-US" sz="4400" spc="-1" strike="noStrike">
              <a:solidFill>
                <a:srgbClr val="000000"/>
              </a:solidFill>
              <a:latin typeface="Times New Roman"/>
            </a:endParaRPr>
          </a:p>
        </p:txBody>
      </p:sp>
      <p:sp>
        <p:nvSpPr>
          <p:cNvPr id="42" name=""/>
          <p:cNvSpPr/>
          <p:nvPr/>
        </p:nvSpPr>
        <p:spPr>
          <a:xfrm>
            <a:off x="1371600" y="35053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GRB Informal Group Meeting</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26. August 2005</a:t>
            </a:r>
            <a:endParaRPr b="0" lang="en-US" sz="24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wauke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762120"/>
            <a:ext cx="7772400" cy="4952880"/>
          </a:xfrm>
          <a:prstGeom prst="rect">
            <a:avLst/>
          </a:prstGeom>
          <a:noFill/>
          <a:ln w="0">
            <a:noFill/>
          </a:ln>
        </p:spPr>
        <p:style>
          <a:lnRef idx="0"/>
          <a:fillRef idx="0"/>
          <a:effectRef idx="0"/>
          <a:fontRef idx="minor"/>
        </p:style>
        <p: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t the 40</a:t>
            </a:r>
            <a:r>
              <a:rPr b="0" lang="en-GB" sz="2200" spc="-1" strike="noStrike" baseline="30000">
                <a:solidFill>
                  <a:srgbClr val="000000"/>
                </a:solidFill>
                <a:latin typeface="Times New Roman"/>
              </a:rPr>
              <a:t>th</a:t>
            </a:r>
            <a:r>
              <a:rPr b="0" lang="en-GB" sz="2200" spc="-1" strike="noStrike">
                <a:solidFill>
                  <a:srgbClr val="000000"/>
                </a:solidFill>
                <a:latin typeface="Times New Roman"/>
              </a:rPr>
              <a:t> GRB meeting in September 2005 an Informal Group has been established to revise ECE-R 41. The target was to prepare a draft amendment to the existing regulation on the base of a drive-by procedure developed by ISO.</a:t>
            </a:r>
            <a:endParaRPr b="0" lang="en-US" sz="2200" spc="-1" strike="noStrike">
              <a:solidFill>
                <a:srgbClr val="000000"/>
              </a:solidFill>
              <a:latin typeface="Times New Roman"/>
            </a:endParaRPr>
          </a:p>
          <a:p>
            <a:pPr>
              <a:spcBef>
                <a:spcPts val="550"/>
              </a:spcBef>
              <a:spcAft>
                <a:spcPts val="550"/>
              </a:spcAft>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uring the last meetings it became obvious that there are different national assessments on what the target of the revision of ECE-R 41 should be. </a:t>
            </a:r>
            <a:endParaRPr b="0" lang="en-US" sz="2200" spc="-1" strike="noStrike">
              <a:solidFill>
                <a:srgbClr val="000000"/>
              </a:solidFill>
              <a:latin typeface="Times New Roman"/>
            </a:endParaRPr>
          </a:p>
          <a:p>
            <a:pPr>
              <a:spcBef>
                <a:spcPts val="550"/>
              </a:spcBef>
              <a:spcAft>
                <a:spcPts val="550"/>
              </a:spcAft>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ith this position paper the German delegation wants to point out again what the main German concerns regarding the proposed test procedure by ISO are and which issues therefore should be covered by the ongoing revision of ECE-R 41.</a:t>
            </a:r>
            <a:endParaRPr b="0"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762120"/>
            <a:ext cx="7772400" cy="510516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concerns regarding the method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posed by ISO (1)</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asurement method mostly reflects urban driving conditions. Conditions with higher engine speeds, accelerations and corresponding high noise emissions, which occur at transitions between urban and rural areas and therefore affect peoples well-being and health, </a:t>
            </a:r>
            <a:r>
              <a:rPr b="0" lang="en-US" sz="2400" spc="-1" strike="noStrike">
                <a:solidFill>
                  <a:srgbClr val="000000"/>
                </a:solidFill>
                <a:latin typeface="Times New Roman"/>
              </a:rPr>
              <a:t>are not covered adequately.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posed method by ISO is not reproducible within the scope of roadside inspe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914400"/>
            <a:ext cx="7772400" cy="43434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concerns regarding the method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posed by ISO (2)</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posal does not contain construction requirements to prevent tampering.</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asures to prevent test-cycle-detection and the use of  defeat devices are not contained in the propos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powered and high-powered motorcycles are misbalanced within the proposed test meth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Issues to be covered by a revision of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CE-R 41 (1)</a:t>
            </a: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measurement method for type approval of motorcycles also has to cover driving conditions that are representative for transitions between urban and rural areas.</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E-R 41 has to be revised in a way that the type approval procedure can be reproduced within the scope of roadside inspections. Therefore a simple measurement method is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609480"/>
            <a:ext cx="7772400" cy="50292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Issues to be covered by a revision of </a:t>
            </a:r>
            <a:endParaRPr b="0" lang="en-US" sz="2800" spc="-1" strike="noStrike">
              <a:solidFill>
                <a:srgbClr val="000000"/>
              </a:solidFill>
              <a:latin typeface="Times New Roman"/>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CE-R 41 (2)</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truction requirements for example according to chapter 7 of 97/24/EG in order to prevent tampering have to be implemented in ECE-R 41.</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of measures to prevent test-cycle-detection and the use of  defeat devices during type approv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echnical differences between low-powered and high-powered motorcycles need to be reflected within the type approval test proced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762120"/>
            <a:ext cx="7772400" cy="49528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Open question</a:t>
            </a:r>
            <a:endParaRPr b="0" lang="en-US" sz="2800" spc="-1" strike="noStrike">
              <a:solidFill>
                <a:srgbClr val="000000"/>
              </a:solidFill>
              <a:latin typeface="Times New Roman"/>
            </a:endParaRPr>
          </a:p>
          <a:p>
            <a:pP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SO has not yet explained to the satisfaction of the German delegation why there is a need for a constant speed test for the type approval of motorcycles</a:t>
            </a:r>
            <a:r>
              <a:rPr b="0" lang="en-GB" sz="2200" spc="-1" strike="noStrike">
                <a:solidFill>
                  <a:srgbClr val="000000"/>
                </a:solidFill>
                <a:latin typeface="Times New Roman"/>
              </a:rPr>
              <a:t>.</a:t>
            </a:r>
            <a:endParaRPr b="0" lang="en-US" sz="2200" spc="-1" strike="noStrike">
              <a:solidFill>
                <a:srgbClr val="000000"/>
              </a:solidFill>
              <a:latin typeface="Times New Roman"/>
            </a:endParaRPr>
          </a:p>
          <a:p>
            <a:pPr>
              <a:spcBef>
                <a:spcPts val="550"/>
              </a:spcBef>
              <a:spcAft>
                <a:spcPts val="550"/>
              </a:spcAft>
              <a:buClr>
                <a:srgbClr val="00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09480" y="609480"/>
            <a:ext cx="7620120" cy="4267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Conclusion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rmany sees the need for a general discussion within the Informal group about the main targets of the revision of ECE-R 41 and about possibilities how to take into account the different national concerns and interest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so the important question about the need of a constant speed test for the type approval procedure for motorcycles has to be answered by I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0:48:29Z</dcterms:created>
  <dc:creator>Heike Schroeder</dc:creator>
  <dc:description/>
  <dc:language>en-US</dc:language>
  <cp:lastModifiedBy>Heike Schroeder</cp:lastModifiedBy>
  <dcterms:modified xsi:type="dcterms:W3CDTF">2005-08-02T11:53:46Z</dcterms:modified>
  <cp:revision>5</cp:revision>
  <dc:subject/>
  <dc:title>PowerPoint-Präsentation</dc:title>
</cp:coreProperties>
</file>