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6F4-7097-43AD-B1FF-8654DBFF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2E0-221D-4A4F-B0FF-F12F9FB2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017-CDF1-42BE-A713-81EF4274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442-B747-49BE-8FB2-2F23AC98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423-BC8E-44CC-B553-50F55CAE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D67-84CC-4B63-B9C9-4B67EBC7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7E9-3E5D-4BE9-ACB8-CB112D80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821-284F-41ED-AA79-EA661696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B63-3F8A-4748-B97C-6A78200C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DF3-B9F0-4726-B5E7-D7B7E800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002-E2FA-43AC-A742-FA099F89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D57-41B6-44FF-A79A-FAED2875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E6D1-91F9-48EF-8F54-79D55D460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engine speed during acceleration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Results of N/S 95 analysis by ISO/WG 16 &amp; reproducibility in track 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1989000"/>
            <a:ext cx="38098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d engine speed with new noise test method correctly reproduces 95% percentile of engine speed for accelerations in real world traffic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 such a circumstance, ISO/WG16 new test method could be considered to be most appropriate to reproduce real world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5656" t="0" r="12396" b="0"/>
          <a:stretch/>
        </p:blipFill>
        <p:spPr>
          <a:xfrm>
            <a:off x="34920" y="1341360"/>
            <a:ext cx="54738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5656" t="0" r="12396" b="0"/>
          <a:stretch/>
        </p:blipFill>
        <p:spPr>
          <a:xfrm>
            <a:off x="468360" y="7920"/>
            <a:ext cx="792144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9466" t="2404" r="6373" b="0"/>
          <a:stretch/>
        </p:blipFill>
        <p:spPr>
          <a:xfrm>
            <a:off x="0" y="9540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5:58:46Z</dcterms:created>
  <dc:creator>本田技研工業株式会社</dc:creator>
  <dc:description/>
  <dc:language>en-US</dc:language>
  <cp:lastModifiedBy>本田技研工業株式会社</cp:lastModifiedBy>
  <dcterms:modified xsi:type="dcterms:W3CDTF">2005-06-02T06:10:19Z</dcterms:modified>
  <cp:revision>2</cp:revision>
  <dc:subject/>
  <dc:title>Maximum engine speed during acceleration &lt;Results of N/S 95 analysis by ISO/WG 16 &amp; reproducibility in track test&gt;</dc:title>
</cp:coreProperties>
</file>