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523-532E-4529-9493-C9DA86CF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778-5877-4C8C-B509-00737C72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FDA-B085-4A5B-89CB-8DC984F0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F0F-7D92-4185-8093-0B2A0C19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7009-522A-4088-B6E6-128BA86F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253-7CE2-40C4-96B9-34D55816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DE8-C547-4970-8C11-CEBCD7BD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15E-8638-4482-8C67-249342FC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2F1-4654-4B26-B88F-3E31BE1E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F74-D59A-4882-BA4A-60540C54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5263-1D4A-467A-B74C-B76A7F85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B8F-C958-4AE4-BD21-22B212AA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734E-DAC5-481D-AF73-C57382387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engine speed during acceleration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Results of N/S 95 analysis by ISO/WG 16 &amp; reproducibility in track 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1989000"/>
            <a:ext cx="38098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d engine speed with new noise test method correctly reproduces 95% percentile of engine speed for accelerations in real world traffic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er such a circumstance, ISO/WG16 new test method could be considered to be most appropriate to reproduce real world traff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5656" t="0" r="12396" b="0"/>
          <a:stretch/>
        </p:blipFill>
        <p:spPr>
          <a:xfrm>
            <a:off x="34920" y="1341360"/>
            <a:ext cx="54738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5656" t="0" r="12396" b="0"/>
          <a:stretch/>
        </p:blipFill>
        <p:spPr>
          <a:xfrm>
            <a:off x="468360" y="7920"/>
            <a:ext cx="792144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9466" t="2404" r="6373" b="0"/>
          <a:stretch/>
        </p:blipFill>
        <p:spPr>
          <a:xfrm>
            <a:off x="0" y="95400"/>
            <a:ext cx="914400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05:58:46Z</dcterms:created>
  <dc:creator>本田技研工業株式会社</dc:creator>
  <dc:description/>
  <dc:language>en-US</dc:language>
  <cp:lastModifiedBy>本田技研工業株式会社</cp:lastModifiedBy>
  <dcterms:modified xsi:type="dcterms:W3CDTF">2005-06-02T06:10:19Z</dcterms:modified>
  <cp:revision>2</cp:revision>
  <dc:subject/>
  <dc:title>Maximum engine speed during acceleration &lt;Results of N/S 95 analysis by ISO/WG 16 &amp; reproducibility in track test&gt;</dc:title>
</cp:coreProperties>
</file>