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CD6-C895-44EE-8DBA-64C1BC16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ED2-6A2E-4EFA-9145-999F77A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C0B-5384-40E4-A5F7-BB4D6380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7B4-15B4-4E9E-870A-6D6A11BC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F91-6161-454A-B345-840B7720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12E-95C1-45D0-A30F-DC654299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775-10BE-4552-ADE8-E615D958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9EB-0AB8-479D-903E-9C170521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92D-52A6-4081-B59C-CC7DEFD7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3BC-FB85-4313-8833-416EFC4C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733-A6C0-4B68-AC5F-6E8A9A63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010-9858-4BF0-BD3A-7A23159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F68A-BFD6-4A8A-B07D-54774072E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oise nuisance statistics in The Neth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12144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Noise nuisance statistics in the U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33520" y="1484280"/>
            <a:ext cx="4759560" cy="2994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843280" y="4869000"/>
            <a:ext cx="40384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7:47:00Z</dcterms:created>
  <dc:creator>HME-A</dc:creator>
  <dc:description/>
  <dc:language>en-US</dc:language>
  <cp:lastModifiedBy>HME-A</cp:lastModifiedBy>
  <dcterms:modified xsi:type="dcterms:W3CDTF">2005-04-25T17:47:10Z</dcterms:modified>
  <cp:revision>1</cp:revision>
  <dc:subject/>
  <dc:title>Noise nuisance statistics in The Netherlands</dc:title>
</cp:coreProperties>
</file>