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2582-545E-4F47-BF20-80B74C27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948-D803-4239-A284-60F7E498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72DE-48C3-4720-B225-2FB69E36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D421-4CCF-47DF-BD83-5315BA6E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7CA-D8E5-494A-9B45-388DC56E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4C06-29A5-48C7-B569-2320A1A1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2A44-FB75-4DDD-9FB2-EB0CF8A4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A999-6FD9-488A-ABA1-90AD5D86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D7E8-6C37-4EA9-859A-DE04FEDE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5E4-CB1B-4F92-90CF-A034ECAE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DF4-C3B4-49A3-AE6B-E4AB01D8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AD5-CBB3-4840-A6A5-E572FFAC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708C-2F50-42EC-A408-B413D20061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1600200"/>
          <a:ext cx="8229600" cy="4221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ct simulation of noise source contribution at typical 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age of high(er) engine spee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ement for enforcement (in addition to stationary noise tes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OT tes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WTU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E R41 re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14:29:58Z</dcterms:created>
  <dc:creator>IMMA</dc:creator>
  <dc:description/>
  <dc:language>en-US</dc:language>
  <cp:lastModifiedBy>IMMA</cp:lastModifiedBy>
  <dcterms:modified xsi:type="dcterms:W3CDTF">2005-04-29T14:31:21Z</dcterms:modified>
  <cp:revision>2</cp:revision>
  <dc:subject/>
  <dc:title>Slide 1</dc:title>
</cp:coreProperties>
</file>