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0C3-B7D7-405A-B61F-D28EE1CF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553-77AB-4435-9F58-D6854E26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B7A-1214-474E-922C-2E7B2A5F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8B1-2D4C-4A5A-B4D0-F2650A9C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38C-C309-4C77-977D-352D1EF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1D7-E2C8-4637-9BC6-B74931E4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FF0-582A-4637-BAD2-E05AFBBD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602-8AC2-4557-A502-CC792FC8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9C2-4F57-4567-BABC-EA33D739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5F5-F3DE-4ABB-A9BC-69B2950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80E-4CBB-4AAD-B39E-0F7588A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9BC-4205-4BB0-B265-1610B63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BB7-68B5-4BA9-B842-0549B75E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In-use 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atabase exchange and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MTC vehicle specs review/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Consolidated database reanalysis as basis for WG16 realignment and R41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35280" y="1628640"/>
          <a:ext cx="5554440" cy="3629160"/>
        </p:xfrm>
        <a:graphic>
          <a:graphicData uri="http://schemas.openxmlformats.org/drawingml/2006/table">
            <a:tbl>
              <a:tblPr/>
              <a:tblGrid>
                <a:gridCol w="2098440"/>
                <a:gridCol w="1871640"/>
                <a:gridCol w="158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TC G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TC</a:t>
                      </a:r>
                      <a:r>
                        <a:rPr b="1" lang="nl-B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rb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TC</a:t>
                      </a:r>
                      <a:r>
                        <a:rPr b="1" lang="nl-B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16</a:t>
                      </a:r>
                      <a:r>
                        <a:rPr b="1" lang="nl-B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16</a:t>
                      </a:r>
                      <a:r>
                        <a:rPr b="1" lang="nl-B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S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TC</a:t>
                      </a:r>
                      <a:r>
                        <a:rPr b="1" lang="nl-B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Operating conditions coverage</a:t>
            </a:r>
            <a:br>
              <a:rPr sz="4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to be derived from consolidated in-use data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8120" y="580536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338120" y="1773360"/>
            <a:ext cx="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6120" y="60008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MR (kW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24200" y="3021120"/>
            <a:ext cx="5168880" cy="1631880"/>
          </a:xfrm>
          <a:custGeom>
            <a:avLst/>
            <a:gdLst/>
            <a:ahLst/>
            <a:rect l="l" t="t" r="r" b="b"/>
            <a:pathLst>
              <a:path w="3301" h="1028">
                <a:moveTo>
                  <a:pt x="3301" y="1028"/>
                </a:moveTo>
                <a:cubicBezTo>
                  <a:pt x="3113" y="1011"/>
                  <a:pt x="2552" y="983"/>
                  <a:pt x="2170" y="925"/>
                </a:cubicBezTo>
                <a:cubicBezTo>
                  <a:pt x="1788" y="867"/>
                  <a:pt x="1320" y="789"/>
                  <a:pt x="1008" y="679"/>
                </a:cubicBezTo>
                <a:cubicBezTo>
                  <a:pt x="696" y="569"/>
                  <a:pt x="467" y="379"/>
                  <a:pt x="299" y="266"/>
                </a:cubicBezTo>
                <a:cubicBezTo>
                  <a:pt x="131" y="153"/>
                  <a:pt x="62" y="56"/>
                  <a:pt x="0" y="0"/>
                </a:cubicBez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14480" y="2484360"/>
            <a:ext cx="5200560" cy="1162080"/>
          </a:xfrm>
          <a:custGeom>
            <a:avLst/>
            <a:gdLst/>
            <a:ahLst/>
            <a:rect l="l" t="t" r="r" b="b"/>
            <a:pathLst>
              <a:path w="3240" h="732">
                <a:moveTo>
                  <a:pt x="3240" y="720"/>
                </a:moveTo>
                <a:cubicBezTo>
                  <a:pt x="3079" y="717"/>
                  <a:pt x="2597" y="732"/>
                  <a:pt x="2273" y="699"/>
                </a:cubicBezTo>
                <a:cubicBezTo>
                  <a:pt x="1949" y="666"/>
                  <a:pt x="1580" y="589"/>
                  <a:pt x="1296" y="524"/>
                </a:cubicBezTo>
                <a:cubicBezTo>
                  <a:pt x="1012" y="459"/>
                  <a:pt x="782" y="395"/>
                  <a:pt x="566" y="308"/>
                </a:cubicBezTo>
                <a:cubicBezTo>
                  <a:pt x="350" y="221"/>
                  <a:pt x="118" y="64"/>
                  <a:pt x="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55600" y="32810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n/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8120" y="227664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4149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6600"/>
                </a:solidFill>
                <a:latin typeface="Arial"/>
              </a:rPr>
              <a:t>Typical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2924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0000"/>
                </a:solidFill>
                <a:latin typeface="Arial"/>
              </a:rPr>
              <a:t>Atypical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14480" y="2492280"/>
            <a:ext cx="5200560" cy="2125800"/>
          </a:xfrm>
          <a:custGeom>
            <a:avLst/>
            <a:gdLst/>
            <a:ahLst/>
            <a:rect l="l" t="t" r="r" b="b"/>
            <a:pathLst>
              <a:path w="3276" h="1339">
                <a:moveTo>
                  <a:pt x="0" y="318"/>
                </a:moveTo>
                <a:lnTo>
                  <a:pt x="378" y="638"/>
                </a:lnTo>
                <a:lnTo>
                  <a:pt x="877" y="945"/>
                </a:lnTo>
                <a:lnTo>
                  <a:pt x="1434" y="1099"/>
                </a:lnTo>
                <a:lnTo>
                  <a:pt x="2087" y="1224"/>
                </a:lnTo>
                <a:lnTo>
                  <a:pt x="2690" y="1287"/>
                </a:lnTo>
                <a:lnTo>
                  <a:pt x="3276" y="1339"/>
                </a:lnTo>
                <a:lnTo>
                  <a:pt x="3268" y="724"/>
                </a:lnTo>
                <a:lnTo>
                  <a:pt x="2814" y="742"/>
                </a:lnTo>
                <a:lnTo>
                  <a:pt x="2313" y="726"/>
                </a:lnTo>
                <a:lnTo>
                  <a:pt x="1497" y="590"/>
                </a:lnTo>
                <a:lnTo>
                  <a:pt x="953" y="454"/>
                </a:lnTo>
                <a:lnTo>
                  <a:pt x="582" y="341"/>
                </a:lnTo>
                <a:lnTo>
                  <a:pt x="242" y="166"/>
                </a:lnTo>
                <a:lnTo>
                  <a:pt x="0" y="0"/>
                </a:lnTo>
                <a:lnTo>
                  <a:pt x="0" y="31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600200"/>
          <a:ext cx="8229600" cy="4221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 simulation of noise source contribution at typical 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age of high(er) engine sp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ement for enforcement (in addition to stationary noise t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T t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TU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E R41 re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MTC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056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6:31:50Z</dcterms:created>
  <dc:creator>HME-A</dc:creator>
  <dc:description/>
  <dc:language>en-US</dc:language>
  <cp:lastModifiedBy>HME-A</cp:lastModifiedBy>
  <dcterms:modified xsi:type="dcterms:W3CDTF">2005-04-27T08:42:33Z</dcterms:modified>
  <cp:revision>6</cp:revision>
  <dc:subject/>
  <dc:title>Slide 1</dc:title>
</cp:coreProperties>
</file>