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7234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784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4920" y="37234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784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492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068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6080" y="3723480"/>
            <a:ext cx="2747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7234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723480"/>
            <a:ext cx="8534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47760">
              <a:spcBef>
                <a:spcPts val="7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7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74600" y="6613560"/>
            <a:ext cx="167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VATE/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6206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74600" y="6613560"/>
            <a:ext cx="167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VATE/PROPRIET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62064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9080" algn="ctr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Integrated Safety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y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re-Crash Triggering</a:t>
            </a:r>
            <a:br>
              <a:rPr sz="5400"/>
            </a:br>
            <a:br>
              <a:rPr sz="5400"/>
            </a:b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Yngve H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Adv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liv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E / WP 29 / ITS Inform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18, 2005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64240" y="241200"/>
            <a:ext cx="26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ITS-11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posed System Objectives (1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80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Crash activation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864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reversible systems (e.g. air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864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ble systems with potentially severe impacts on traffic (e.g. &gt; 0.5 g bra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idently dictating the most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s for the complete systems a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0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posed System Objectives (2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ing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ag activation decision 80 ms prior to impact for severe frontal impacts ( = 2,65 m at 12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reliability as with current sens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ags and inflators designed for ~120 ms deploy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for Very Low Risk deploy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ssible Occupant-Car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sing System Reliability vs. Performances (1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ing Reliability is measured 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 of “False Positive” decisions    (undesired firing deci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 of “False Negative” decisions               (no firing in severe crash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criteria depend 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impact point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identification of “target” (number of objects, type, size, mass, stiff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System Comparison - Short Range - Assuming adequate F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 and Accurac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a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-Cr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 (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 (Rang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came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eo V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 (Azimuth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ning Lida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D Camera (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 (Range?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High number of pixel requi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: At least two Sensing Technologies must be associated to provide desired performances and thus decision reli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7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0120" y="1778040"/>
            <a:ext cx="857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2540160"/>
            <a:ext cx="857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5560" y="1778040"/>
            <a:ext cx="0" cy="309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7780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91240" y="177804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6400" y="2540160"/>
            <a:ext cx="0" cy="21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0120" y="3149640"/>
            <a:ext cx="857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sing System Reliability vs. Performances (2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1295280"/>
            <a:ext cx="847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 Vision for Pedestrian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xample of Sensing Technologies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43280" y="2081160"/>
            <a:ext cx="549900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55880" y="3919680"/>
            <a:ext cx="548640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1295280"/>
            <a:ext cx="847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ar + Stereo Vision for Pre-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xample of Sensing Technologies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2880" y="4649760"/>
            <a:ext cx="9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82360" y="339264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Miss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03200" y="1990800"/>
            <a:ext cx="3686040" cy="2530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543560" y="3984480"/>
            <a:ext cx="3659040" cy="25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sor Reliability - General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04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general te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wer the actuators, the earlier the activation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r the decision, the lower its reliability (False Posi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eliability depends on annoyance and consequences of False Positiv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8728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are linked to potential safety impacts of a False Negativ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sor Reliability - Non Reversible Systems (1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74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development wor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671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sensor combinations (fusion) can provide  good accuracy in predicting the impact position and time (e.g. 20 cm @ -80 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erent weaknesses will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671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bility to evaluate mass/stiffness prio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671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zone (e.g. 20 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quences will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671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desirable activation for impacts against objects with “big” signature but low mass (e.g. bu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671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” fi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rashes with small overl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lvl="1" marL="70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ptance of weakn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1280" indent="-2527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tatistical probability and physical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1280" indent="-2527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ake reference to State-of-the-Art systems of which weaknesses are known and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of 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1280" indent="-2527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study about likelihood of impact against “zero mass”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1280" indent="-25272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backup (alternative) solutions in case of late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sor Reliability - Non Reversible Systems (2)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Frontal Pre-Crash Triggering 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Regulatory Consideration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96680" indent="-344160">
              <a:spcBef>
                <a:spcPts val="7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Crash activation of Restrai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844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n current regulatory and rating tests; no chang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7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Crash br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844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urrent test procedures specify impact speeds and obstac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844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# 1: change “impact speed” into “initial speed” and permit automatic intervention resulting in lower impac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844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# 2: time to automatic braking activation might be dependent on obstac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758000" y="998640"/>
            <a:ext cx="0" cy="506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Integrated Safety Chart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33360" y="7588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3240" y="595440"/>
            <a:ext cx="10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rash non avoid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40520" y="4703760"/>
            <a:ext cx="155736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7160" y="4122720"/>
            <a:ext cx="158904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cue,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5760" y="3543480"/>
            <a:ext cx="130824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Cr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15880" y="1012680"/>
            <a:ext cx="180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4320" y="1001880"/>
            <a:ext cx="12600" cy="525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608040"/>
            <a:ext cx="123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reatening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73920" y="9874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984240"/>
            <a:ext cx="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5960" y="63972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ld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12080" y="76680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922480"/>
            <a:ext cx="317484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’s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ht Vision, Blind Spot, Parking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10000"/>
            <a:ext cx="317664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eving Some Driv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 +, Queue Assist, Parking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4089240"/>
            <a:ext cx="348912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erting Th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e Departure Warning, Lane Change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3840" y="4664160"/>
            <a:ext cx="205128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, Pre Crash Br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5000" y="5243400"/>
            <a:ext cx="2040120" cy="76320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triggering of Re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 Safe, PR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44560"/>
            <a:ext cx="208116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ing the c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, Brakes, Tires, T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33520"/>
            <a:ext cx="208296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’s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, Drowsi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081080"/>
            <a:ext cx="4297320" cy="635040"/>
            <a:chOff x="0" y="1081080"/>
            <a:chExt cx="4297320" cy="635040"/>
          </a:xfrm>
        </p:grpSpPr>
        <p:grpSp>
          <p:nvGrpSpPr>
            <p:cNvPr id="105" name=""/>
            <p:cNvGrpSpPr/>
            <p:nvPr/>
          </p:nvGrpSpPr>
          <p:grpSpPr>
            <a:xfrm>
              <a:off x="0" y="1081080"/>
              <a:ext cx="4297320" cy="635040"/>
              <a:chOff x="0" y="1081080"/>
              <a:chExt cx="4297320" cy="63504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1096920"/>
                <a:ext cx="3230640" cy="6192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18040" y="1081080"/>
                <a:ext cx="1079280" cy="619200"/>
              </a:xfrm>
              <a:prstGeom prst="rtTriangl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41120" y="1095480"/>
              <a:ext cx="1680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Ac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04800" y="1085760"/>
            <a:ext cx="2735640" cy="625680"/>
            <a:chOff x="3304800" y="1085760"/>
            <a:chExt cx="2735640" cy="625680"/>
          </a:xfrm>
        </p:grpSpPr>
        <p:sp>
          <p:nvSpPr>
            <p:cNvPr id="110" name=""/>
            <p:cNvSpPr/>
            <p:nvPr/>
          </p:nvSpPr>
          <p:spPr>
            <a:xfrm rot="10800000">
              <a:off x="3304800" y="1092240"/>
              <a:ext cx="1057320" cy="61920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560" y="1098720"/>
              <a:ext cx="1712880" cy="6062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45080" y="1085760"/>
              <a:ext cx="1326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Pass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        </a:t>
              </a:r>
              <a:r>
                <a:rPr b="1" lang="en-US" sz="2000" spc="-1" strike="noStrike">
                  <a:solidFill>
                    <a:srgbClr val="fdfdfd"/>
                  </a:solidFill>
                  <a:latin typeface="Arial"/>
                </a:rPr>
                <a:t>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21440" y="1096920"/>
            <a:ext cx="3022560" cy="606600"/>
            <a:chOff x="6121440" y="1096920"/>
            <a:chExt cx="3022560" cy="606600"/>
          </a:xfrm>
        </p:grpSpPr>
        <p:sp>
          <p:nvSpPr>
            <p:cNvPr id="114" name=""/>
            <p:cNvSpPr/>
            <p:nvPr/>
          </p:nvSpPr>
          <p:spPr>
            <a:xfrm>
              <a:off x="6121440" y="1096920"/>
              <a:ext cx="3022560" cy="6066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9960" y="1203480"/>
              <a:ext cx="195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dfdfd"/>
                  </a:solidFill>
                  <a:latin typeface="Arial"/>
                </a:rPr>
                <a:t>Rescue &amp; H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95960" y="5249880"/>
            <a:ext cx="1609560" cy="51984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0"/>
            <a:endCxn id="116" idx="0"/>
          </p:cNvCxnSpPr>
          <p:nvPr/>
        </p:nvCxnSpPr>
        <p:spPr>
          <a:xfrm flipH="1" rot="16200000">
            <a:off x="4209840" y="4259160"/>
            <a:ext cx="7200" cy="1975320"/>
          </a:xfrm>
          <a:prstGeom prst="curvedConnector5">
            <a:avLst>
              <a:gd name="adj1" fmla="val -3600000"/>
              <a:gd name="adj2" fmla="val 50000"/>
              <a:gd name="adj3" fmla="val -3600000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6" idx="0"/>
            <a:endCxn id="87" idx="0"/>
          </p:cNvCxnSpPr>
          <p:nvPr/>
        </p:nvCxnSpPr>
        <p:spPr>
          <a:xfrm flipH="1" flipV="1" rot="5400000">
            <a:off x="5787000" y="4116600"/>
            <a:ext cx="546480" cy="1720080"/>
          </a:xfrm>
          <a:prstGeom prst="curvedConnector5">
            <a:avLst>
              <a:gd name="adj1" fmla="val 141924"/>
              <a:gd name="adj2" fmla="val 49989"/>
              <a:gd name="adj3" fmla="val 141924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87" idx="0"/>
            <a:endCxn id="98" idx="0"/>
          </p:cNvCxnSpPr>
          <p:nvPr/>
        </p:nvCxnSpPr>
        <p:spPr>
          <a:xfrm flipV="1" rot="16200000">
            <a:off x="3657240" y="1440720"/>
            <a:ext cx="1194480" cy="5331600"/>
          </a:xfrm>
          <a:prstGeom prst="curvedConnector5">
            <a:avLst>
              <a:gd name="adj1" fmla="val 119143"/>
              <a:gd name="adj2" fmla="val 49996"/>
              <a:gd name="adj3" fmla="val 119143"/>
            </a:avLst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ness and feasibility of Pre-Crash activation of Brakes and reversible Restraint Systems are widely recogniz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Crash activation of non reversible Restraint can provide substantial enhancement of protection perform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ility of Sensor decision is cru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developments indicate that Sensor Fusion techniques can provide adequate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approach of reliability issues is nevertheles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344160">
              <a:spcBef>
                <a:spcPts val="5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ions and Rating Test procedures must be revisited to accommodate Pre-Crash inter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</a:t>
            </a:r>
            <a:br>
              <a:rPr sz="36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Scope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ing Systems prior to the crash al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ision Avo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ision Severity Mit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pant and Pedestrian Protection Enhan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only Reversible Systems li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 Automatic Braking (~0.4 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orized Pretensioners, Sunroofs, Seat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also Non Reversible Systems li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 Automatic Braking (&gt;0.5 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56360" indent="-326880">
              <a:spcBef>
                <a:spcPts val="64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nt &amp; Side  Airbags, Hood Lifters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xample: Active Bumper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25760" y="1295280"/>
            <a:ext cx="5816520" cy="49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xample: Collision Mitigation by Braking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31840" y="1536840"/>
            <a:ext cx="5133960" cy="48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463" t="16686" r="6239" b="17252"/>
          <a:stretch/>
        </p:blipFill>
        <p:spPr>
          <a:xfrm>
            <a:off x="480960" y="1428840"/>
            <a:ext cx="7751880" cy="434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50960" y="5857920"/>
            <a:ext cx="60958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 : Real-world Crash Performance of Recent Model Cars – Next Steps in Injury Preven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ete Thomas, Richard Frampton – Vehicle Safety Research Centre, Loughborough University, 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IRCOBI Conference – Lisbon (Portugal), September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 of Restraints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Benefits in Side Impact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1168560"/>
          <a:ext cx="397332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68560"/>
                    <a:ext cx="397332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398840" y="1028880"/>
          <a:ext cx="3849840" cy="24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8840" y="1028880"/>
                    <a:ext cx="384984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 of Restraints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Benefits in Side Impact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654360"/>
            <a:ext cx="82454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speeds in regulatory or rating tests are lower than in real lif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90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fatalities in tree or pole impacts are with impact speeds above 3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70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fatalities in car-to-car impacts are with impact speed above 6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cting occupants at higher impact speeds requires new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s that need to be deployed earlier and even prior to the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52280" y="1143000"/>
            <a:ext cx="8972640" cy="4910040"/>
            <a:chOff x="152280" y="1143000"/>
            <a:chExt cx="8972640" cy="4910040"/>
          </a:xfrm>
        </p:grpSpPr>
        <p:graphicFrame>
          <p:nvGraphicFramePr>
            <p:cNvPr id="142" name=""/>
            <p:cNvGraphicFramePr/>
            <p:nvPr/>
          </p:nvGraphicFramePr>
          <p:xfrm>
            <a:off x="685800" y="3429000"/>
            <a:ext cx="7696080" cy="2624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7696080" cy="26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 flipH="1">
              <a:off x="1066680" y="3886200"/>
              <a:ext cx="4648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523880" y="3886200"/>
              <a:ext cx="4191120" cy="11448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19240" y="55148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080" y="374328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33"/>
                  </a:solidFill>
                  <a:latin typeface="Arial"/>
                </a:rPr>
                <a:t>V=48 km/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3"/>
            <a:srcRect l="15626" t="48964" r="36720" b="21878"/>
            <a:stretch/>
          </p:blipFill>
          <p:spPr>
            <a:xfrm>
              <a:off x="152280" y="4987800"/>
              <a:ext cx="99072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085760" y="3438360"/>
              <a:ext cx="691524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342900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981920" y="129492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085760" y="129492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390840" y="129492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686560" y="1294920"/>
              <a:ext cx="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52388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5080" y="1143000"/>
              <a:ext cx="236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vailable Ride-down 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15000" y="1577880"/>
              <a:ext cx="2133720" cy="1866960"/>
            </a:xfrm>
            <a:custGeom>
              <a:avLst/>
              <a:gdLst/>
              <a:ahLst/>
              <a:rect l="l" t="t" r="r" b="b"/>
              <a:pathLst>
                <a:path w="1400" h="1176">
                  <a:moveTo>
                    <a:pt x="0" y="1160"/>
                  </a:moveTo>
                  <a:cubicBezTo>
                    <a:pt x="36" y="1168"/>
                    <a:pt x="72" y="1176"/>
                    <a:pt x="96" y="1160"/>
                  </a:cubicBezTo>
                  <a:cubicBezTo>
                    <a:pt x="120" y="1144"/>
                    <a:pt x="112" y="1088"/>
                    <a:pt x="144" y="1064"/>
                  </a:cubicBezTo>
                  <a:cubicBezTo>
                    <a:pt x="176" y="1040"/>
                    <a:pt x="224" y="1072"/>
                    <a:pt x="288" y="1016"/>
                  </a:cubicBezTo>
                  <a:cubicBezTo>
                    <a:pt x="352" y="960"/>
                    <a:pt x="464" y="832"/>
                    <a:pt x="528" y="728"/>
                  </a:cubicBezTo>
                  <a:cubicBezTo>
                    <a:pt x="592" y="624"/>
                    <a:pt x="584" y="504"/>
                    <a:pt x="672" y="392"/>
                  </a:cubicBezTo>
                  <a:cubicBezTo>
                    <a:pt x="760" y="280"/>
                    <a:pt x="952" y="112"/>
                    <a:pt x="1056" y="56"/>
                  </a:cubicBezTo>
                  <a:cubicBezTo>
                    <a:pt x="1160" y="0"/>
                    <a:pt x="1240" y="32"/>
                    <a:pt x="1296" y="56"/>
                  </a:cubicBezTo>
                  <a:cubicBezTo>
                    <a:pt x="1352" y="80"/>
                    <a:pt x="1384" y="128"/>
                    <a:pt x="1392" y="200"/>
                  </a:cubicBezTo>
                  <a:cubicBezTo>
                    <a:pt x="1400" y="272"/>
                    <a:pt x="1352" y="400"/>
                    <a:pt x="1344" y="488"/>
                  </a:cubicBezTo>
                  <a:cubicBezTo>
                    <a:pt x="1336" y="576"/>
                    <a:pt x="1352" y="664"/>
                    <a:pt x="1344" y="728"/>
                  </a:cubicBezTo>
                  <a:cubicBezTo>
                    <a:pt x="1336" y="792"/>
                    <a:pt x="1312" y="832"/>
                    <a:pt x="1296" y="872"/>
                  </a:cubicBezTo>
                  <a:cubicBezTo>
                    <a:pt x="1280" y="912"/>
                    <a:pt x="1280" y="936"/>
                    <a:pt x="1248" y="968"/>
                  </a:cubicBezTo>
                  <a:cubicBezTo>
                    <a:pt x="1216" y="1000"/>
                    <a:pt x="1160" y="1032"/>
                    <a:pt x="1104" y="1064"/>
                  </a:cubicBezTo>
                  <a:cubicBezTo>
                    <a:pt x="1048" y="1096"/>
                    <a:pt x="976" y="1144"/>
                    <a:pt x="912" y="1160"/>
                  </a:cubicBezTo>
                  <a:cubicBezTo>
                    <a:pt x="848" y="1176"/>
                    <a:pt x="784" y="1168"/>
                    <a:pt x="720" y="116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78400" y="182880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ypical F-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Occup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848360" y="2133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848720" y="137124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8880" y="2438280"/>
            <a:ext cx="494640" cy="1295640"/>
            <a:chOff x="5258880" y="2438280"/>
            <a:chExt cx="494640" cy="1295640"/>
          </a:xfrm>
        </p:grpSpPr>
        <p:sp>
          <p:nvSpPr>
            <p:cNvPr id="162" name=""/>
            <p:cNvSpPr/>
            <p:nvPr/>
          </p:nvSpPr>
          <p:spPr>
            <a:xfrm>
              <a:off x="5258880" y="345744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dfdfd"/>
                  </a:solidFill>
                  <a:latin typeface="Arial"/>
                </a:rPr>
                <a:t>P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2438280"/>
              <a:ext cx="228600" cy="99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24382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031840" y="2133720"/>
            <a:ext cx="2311560" cy="1609920"/>
            <a:chOff x="2031840" y="2133720"/>
            <a:chExt cx="2311560" cy="1609920"/>
          </a:xfrm>
        </p:grpSpPr>
        <p:sp>
          <p:nvSpPr>
            <p:cNvPr id="166" name=""/>
            <p:cNvSpPr/>
            <p:nvPr/>
          </p:nvSpPr>
          <p:spPr>
            <a:xfrm>
              <a:off x="2031840" y="346716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dfdfd"/>
                  </a:solidFill>
                  <a:latin typeface="Arial"/>
                </a:rPr>
                <a:t>KA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3048120"/>
              <a:ext cx="205740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057400" y="2133720"/>
            <a:ext cx="1219320" cy="772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57400" y="2133720"/>
                      <a:ext cx="121932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2286000" y="3048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088400" y="403848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ri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320" y="42670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3429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19320" y="1143000"/>
            <a:ext cx="1961640" cy="4878720"/>
            <a:chOff x="1219320" y="1143000"/>
            <a:chExt cx="1961640" cy="4878720"/>
          </a:xfrm>
        </p:grpSpPr>
        <p:sp>
          <p:nvSpPr>
            <p:cNvPr id="175" name=""/>
            <p:cNvSpPr/>
            <p:nvPr/>
          </p:nvSpPr>
          <p:spPr>
            <a:xfrm>
              <a:off x="1351440" y="1143000"/>
              <a:ext cx="182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versible Actua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388620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9320" y="5562720"/>
              <a:ext cx="101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-impac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a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423240" y="1143000"/>
            <a:ext cx="2146680" cy="4343400"/>
            <a:chOff x="3423240" y="1143000"/>
            <a:chExt cx="2146680" cy="4343400"/>
          </a:xfrm>
        </p:grpSpPr>
        <p:grpSp>
          <p:nvGrpSpPr>
            <p:cNvPr id="179" name=""/>
            <p:cNvGrpSpPr/>
            <p:nvPr/>
          </p:nvGrpSpPr>
          <p:grpSpPr>
            <a:xfrm>
              <a:off x="3429000" y="4419720"/>
              <a:ext cx="838080" cy="1066680"/>
              <a:chOff x="3429000" y="4419720"/>
              <a:chExt cx="838080" cy="1066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505320" y="4419720"/>
                <a:ext cx="685800" cy="1066680"/>
              </a:xfrm>
              <a:prstGeom prst="downArrowCallout">
                <a:avLst>
                  <a:gd name="adj1" fmla="val 25002"/>
                  <a:gd name="adj2" fmla="val 25000"/>
                  <a:gd name="adj3" fmla="val 25923"/>
                  <a:gd name="adj4" fmla="val 6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29000" y="4572000"/>
                <a:ext cx="83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tiv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um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423240" y="1143000"/>
              <a:ext cx="214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-reversible Actua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9120" y="1750320"/>
            <a:ext cx="1676880" cy="1993320"/>
            <a:chOff x="609120" y="1750320"/>
            <a:chExt cx="1676880" cy="1993320"/>
          </a:xfrm>
        </p:grpSpPr>
        <p:sp>
          <p:nvSpPr>
            <p:cNvPr id="184" name=""/>
            <p:cNvSpPr/>
            <p:nvPr/>
          </p:nvSpPr>
          <p:spPr>
            <a:xfrm rot="10800000">
              <a:off x="609120" y="1750320"/>
              <a:ext cx="362880" cy="14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cupant Pre-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219320" y="2362320"/>
              <a:ext cx="1066680" cy="1381320"/>
              <a:chOff x="1219320" y="2362320"/>
              <a:chExt cx="1066680" cy="1381320"/>
            </a:xfrm>
          </p:grpSpPr>
          <p:sp>
            <p:nvSpPr>
              <p:cNvPr id="186" name=""/>
              <p:cNvSpPr/>
              <p:nvPr/>
            </p:nvSpPr>
            <p:spPr>
              <a:xfrm>
                <a:off x="1224000" y="34671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dfdfd"/>
                    </a:solidFill>
                    <a:latin typeface="Arial"/>
                  </a:rPr>
                  <a:t>Pre</a:t>
                </a:r>
                <a:r>
                  <a:rPr b="1" lang="en-US" sz="1200" spc="-1" strike="noStrike" baseline="30000">
                    <a:solidFill>
                      <a:srgbClr val="fdfdfd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47920" y="3200400"/>
                <a:ext cx="838080" cy="228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47920" y="32004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9320" y="2362320"/>
                <a:ext cx="534960" cy="69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715000" y="1752480"/>
            <a:ext cx="3349440" cy="1981440"/>
            <a:chOff x="5715000" y="1752480"/>
            <a:chExt cx="3349440" cy="1981440"/>
          </a:xfrm>
        </p:grpSpPr>
        <p:sp>
          <p:nvSpPr>
            <p:cNvPr id="191" name=""/>
            <p:cNvSpPr/>
            <p:nvPr/>
          </p:nvSpPr>
          <p:spPr>
            <a:xfrm>
              <a:off x="5715000" y="2438280"/>
              <a:ext cx="2133720" cy="990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79120" y="2514600"/>
              <a:ext cx="98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deal F-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Occup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772040" y="27432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793480" y="2438280"/>
              <a:ext cx="476280" cy="1295640"/>
              <a:chOff x="5793480" y="2438280"/>
              <a:chExt cx="476280" cy="129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6095880" y="243828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93480" y="345744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dfdfd"/>
                    </a:solidFill>
                    <a:latin typeface="Arial"/>
                  </a:rPr>
                  <a:t>LL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171480" y="2438280"/>
              <a:ext cx="1081440" cy="1295640"/>
              <a:chOff x="6171480" y="2438280"/>
              <a:chExt cx="1081440" cy="129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6553080" y="243828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71480" y="3457440"/>
                <a:ext cx="10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dfdfd"/>
                    </a:solidFill>
                    <a:latin typeface="Arial"/>
                  </a:rPr>
                  <a:t>Active v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0" name="" descr=""/>
            <p:cNvPicPr/>
            <p:nvPr/>
          </p:nvPicPr>
          <p:blipFill>
            <a:blip r:embed="rId8"/>
            <a:srcRect l="0" t="4037" r="0" b="0"/>
            <a:stretch/>
          </p:blipFill>
          <p:spPr>
            <a:xfrm>
              <a:off x="5867280" y="1752480"/>
              <a:ext cx="4780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5867280" y="1600200"/>
            <a:ext cx="1828800" cy="1545120"/>
            <a:chOff x="5867280" y="1600200"/>
            <a:chExt cx="1828800" cy="1545120"/>
          </a:xfrm>
        </p:grpSpPr>
        <p:sp>
          <p:nvSpPr>
            <p:cNvPr id="202" name=""/>
            <p:cNvSpPr/>
            <p:nvPr/>
          </p:nvSpPr>
          <p:spPr>
            <a:xfrm>
              <a:off x="7391520" y="16002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67280" y="2590920"/>
              <a:ext cx="1828800" cy="55440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Adaptive &amp; Optimiz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ergy Mg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505320" y="1447920"/>
            <a:ext cx="2209680" cy="2295720"/>
            <a:chOff x="3505320" y="1447920"/>
            <a:chExt cx="2209680" cy="2295720"/>
          </a:xfrm>
        </p:grpSpPr>
        <p:sp>
          <p:nvSpPr>
            <p:cNvPr id="205" name=""/>
            <p:cNvSpPr/>
            <p:nvPr/>
          </p:nvSpPr>
          <p:spPr>
            <a:xfrm flipH="1">
              <a:off x="4342680" y="2590920"/>
              <a:ext cx="1143000" cy="4572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3048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43400" y="3048120"/>
              <a:ext cx="114300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259092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528"/>
                  </a:moveTo>
                  <a:cubicBezTo>
                    <a:pt x="84" y="516"/>
                    <a:pt x="168" y="504"/>
                    <a:pt x="240" y="480"/>
                  </a:cubicBezTo>
                  <a:cubicBezTo>
                    <a:pt x="312" y="456"/>
                    <a:pt x="368" y="432"/>
                    <a:pt x="432" y="384"/>
                  </a:cubicBezTo>
                  <a:cubicBezTo>
                    <a:pt x="496" y="336"/>
                    <a:pt x="568" y="248"/>
                    <a:pt x="624" y="192"/>
                  </a:cubicBezTo>
                  <a:cubicBezTo>
                    <a:pt x="680" y="136"/>
                    <a:pt x="728" y="80"/>
                    <a:pt x="768" y="48"/>
                  </a:cubicBezTo>
                  <a:cubicBezTo>
                    <a:pt x="808" y="16"/>
                    <a:pt x="848" y="8"/>
                    <a:pt x="86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3240" y="346716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dfdfd"/>
                  </a:solidFill>
                  <a:latin typeface="Arial"/>
                </a:rPr>
                <a:t>Airb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5520" y="3124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257800" y="29714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2200" y="198108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OP-friendl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" name=""/>
            <p:cNvGraphicFramePr/>
            <p:nvPr/>
          </p:nvGraphicFramePr>
          <p:xfrm>
            <a:off x="3505320" y="2209680"/>
            <a:ext cx="761760" cy="7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2209680"/>
                      <a:ext cx="761760" cy="7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" descr=""/>
            <p:cNvPicPr/>
            <p:nvPr/>
          </p:nvPicPr>
          <p:blipFill>
            <a:blip r:embed="rId11"/>
            <a:stretch/>
          </p:blipFill>
          <p:spPr>
            <a:xfrm>
              <a:off x="4952880" y="1447920"/>
              <a:ext cx="6922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648320" y="236232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 of Restraints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Benefits in Frontal Impact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e-Crash Triggering of Restraints</a:t>
            </a:r>
            <a:br>
              <a:rPr sz="36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Benefits in Frontal Impact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3080" y="3505320"/>
            <a:ext cx="853416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Crash Triggering Restraint Systems allow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balance between non-aggressiveness and occupant coup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ployment-related inju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occupant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79360" y="1176480"/>
          <a:ext cx="417528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176480"/>
                    <a:ext cx="41752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37240" y="1184400"/>
          <a:ext cx="42559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184400"/>
                    <a:ext cx="42559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90800" y="649764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R/YH 051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3:31:05Z</dcterms:created>
  <dc:creator>MKOZYREFF</dc:creator>
  <dc:description/>
  <dc:language>en-US</dc:language>
  <cp:lastModifiedBy>Juan Ramos</cp:lastModifiedBy>
  <cp:lastPrinted>1999-03-17T17:36:04Z</cp:lastPrinted>
  <dcterms:modified xsi:type="dcterms:W3CDTF">2005-11-17T12:50:37Z</dcterms:modified>
  <cp:revision>47</cp:revision>
  <dc:subject/>
  <dc:title>Electronic Enablers for Integrated Safety </dc:title>
</cp:coreProperties>
</file>