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981F04-6AA1-4528-AEF9-8733E50A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3433AF-B52E-47B2-9D65-BF54B6EC3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B8F4B9-FB20-44D6-9268-811DA4DD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mponents of Total Brake Response Time (TBRT). Taken from Winters, J.J. (1998) AN INVESTIGATION OF AUDITORY ICONS AND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PONSE TIMES IN A COMMERCIAL TRUCK-CAB ENVIRONMENT, Viginia Tech, MSc 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EE0BC0-E644-4D99-8CE0-E991B581D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435CDD-C9F8-4D43-A285-9079A307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4ABE40-CC87-4830-96AE-E0401B06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BA1F7B-AA1F-4FF5-AB88-5E81984B9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E6949E-3D6D-4565-93D6-0B904CB30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ff"/>
                </a:solidFill>
                <a:latin typeface="Arial"/>
              </a:rPr>
              <a:t>ISO/TS 16951:2003(E)  ISO TC 22/ SC13/ WG8: Road Vehicles - Ergonomic aspects of transport information and control systems — Procedures for determining priority of on-board messages presented to 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5B1ADE-DDA7-45E1-9CA4-109F4DE42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852093-FC30-452D-8C20-B9ED90586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1F8571-FEEB-46F1-9BB1-A472F5F8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BFAB7E-789E-437A-9350-BA909869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BB28A3-05A5-439A-94A5-50F3EDA8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47385C-88CB-41AD-9317-4107B3EB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B56B0E-8BD9-4FB6-A272-31939D21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6ED63D-E0CF-472C-A4EE-0712F6DAF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4E1D4F-D41C-4595-B936-2431DB4D3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5F4105-D37D-42E0-A593-4AA0433F9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2FC7F6-9FD6-4474-BAE0-E9EA811A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New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8D2F67-0E3A-457C-A25E-5753FF28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25720" y="0"/>
            <a:ext cx="6186600" cy="635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3228840" y="8458200"/>
            <a:ext cx="1237284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2520" y="6400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1"/>
          </p:nvPr>
        </p:nvSpPr>
        <p:spPr>
          <a:xfrm>
            <a:off x="6629040" y="5866920"/>
            <a:ext cx="19810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1079640" cy="480960"/>
          </a:xfrm>
          <a:prstGeom prst="rect">
            <a:avLst/>
          </a:prstGeom>
          <a:ln w="0">
            <a:noFill/>
          </a:ln>
        </p:spPr>
      </p:pic>
      <p:pic>
        <p:nvPicPr>
          <p:cNvPr id="45" name="t_transport" descr=""/>
          <p:cNvPicPr/>
          <p:nvPr/>
        </p:nvPicPr>
        <p:blipFill>
          <a:blip r:embed="rId3"/>
          <a:stretch/>
        </p:blipFill>
        <p:spPr>
          <a:xfrm>
            <a:off x="1295280" y="228600"/>
            <a:ext cx="1303560" cy="263520"/>
          </a:xfrm>
          <a:prstGeom prst="rect">
            <a:avLst/>
          </a:prstGeom>
          <a:ln w="0">
            <a:noFill/>
          </a:ln>
        </p:spPr>
      </p:pic>
      <p:pic>
        <p:nvPicPr>
          <p:cNvPr id="46" name="flag" descr=""/>
          <p:cNvPicPr/>
          <p:nvPr/>
        </p:nvPicPr>
        <p:blipFill>
          <a:blip r:embed="rId4"/>
          <a:stretch/>
        </p:blipFill>
        <p:spPr>
          <a:xfrm>
            <a:off x="685800" y="228600"/>
            <a:ext cx="479520" cy="250920"/>
          </a:xfrm>
          <a:prstGeom prst="rect">
            <a:avLst/>
          </a:prstGeom>
          <a:ln w="0">
            <a:noFill/>
          </a:ln>
        </p:spPr>
      </p:pic>
      <p:pic>
        <p:nvPicPr>
          <p:cNvPr id="47" name="Canada" descr=""/>
          <p:cNvPicPr/>
          <p:nvPr/>
        </p:nvPicPr>
        <p:blipFill>
          <a:blip r:embed="rId5"/>
          <a:stretch/>
        </p:blipFill>
        <p:spPr>
          <a:xfrm>
            <a:off x="7620120" y="6477120"/>
            <a:ext cx="9255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64832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TS Warnings: Design and Performance Conside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eter C. Bur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HRA - ITS Working Grou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28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522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ITS-11-4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tages of perception-response time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6860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964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arning and/ or event stimulu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cision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15960" y="1092240"/>
            <a:ext cx="7905600" cy="5428800"/>
            <a:chOff x="615960" y="1092240"/>
            <a:chExt cx="7905600" cy="54288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15960" y="1168200"/>
              <a:ext cx="7905600" cy="53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44200" y="10922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Times New Roman"/>
                </a:rPr>
                <a:t>Warning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7000" y="40608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Total Brake Response Tim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703200" y="60958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inters (1998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819520"/>
            <a:ext cx="1523880" cy="0"/>
          </a:xfrm>
          <a:prstGeom prst="line">
            <a:avLst/>
          </a:prstGeom>
          <a:ln w="1778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52280" y="2830680"/>
            <a:ext cx="9324720" cy="303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76212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Frequency of Warn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1920" y="61722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Martin &amp; Burgett, 200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00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fety critical forward collision situations are relatively uncommon event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Perception-response times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049720" cy="601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62680" y="60199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(Olson et al. 1984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design considera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ivation criteria – When?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vels and priorities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ation modality, information and lo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Modeling System Performance: Signal Detection Theory</a:t>
            </a:r>
            <a:br>
              <a:rPr sz="2800"/>
            </a:b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057400"/>
          <a:ext cx="9144000" cy="3330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ning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rning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ff8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5bc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zard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 Alarm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b5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jection</a:t>
                      </a:r>
                      <a:endParaRPr b="0" lang="en-US" sz="3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ff8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Level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- such as indicators, tell the driver if they are on or off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CA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 such as fuel low that tell the driver the state of the vehicl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09640" indent="-41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 response is requir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317600" indent="-3938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ff9933"/>
                </a:solidFill>
                <a:latin typeface="Arial"/>
              </a:rPr>
              <a:t>Cautionar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317600" indent="-3938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min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Prioritization Procedur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iority helps to determine when, where and how system messages are to be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iority sets the relative importance of two or more messages, which determines their ranking in a time sequence or emphasis of presentation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messages are not managed properly, drivers may fail to obtain critical safety informa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procedure provides a basis for the management of messages competing for the driver’s limited atten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-3657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priority index is calculated according to message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riticalit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rgenc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ating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7124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570000" y="62326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SO TS 16951: 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28600" y="723960"/>
            <a:ext cx="8601120" cy="6134040"/>
            <a:chOff x="228600" y="723960"/>
            <a:chExt cx="8601120" cy="613404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228600" y="3495600"/>
              <a:ext cx="860112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28600" y="723960"/>
              <a:ext cx="8601120" cy="28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304920" y="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Criticality rat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0"/>
            <a:ext cx="3809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SO Urgency rat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760" y="1490760"/>
            <a:ext cx="86104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442520"/>
            <a:ext cx="91440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 of warning and example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portance of the warning HMI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design considerat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ors affecting warning effectivenes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essing warning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arch need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43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 Modality and Characteristic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udito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speech, tone, loudness, musicality, duration, direction…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isua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symbols, text, light, brightness, location, colour, flashing…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p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touch) – vibration, location, intensity, direction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Kinaesthe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body motion) – vehicle slowing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Visual Display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isual displays can be used to convey higher criticality and urgency by: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lou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red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umi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greater luminance and contrast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ink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shorter blinking cycle, smaller duty rate, (rather than continuous display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larger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Auditory Tone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er criticality and urgency can be indicated by: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ig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 sound pressure level (dB(A)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one frequenc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igher frequenci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eriodic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平成明朝"/>
              </a:rPr>
              <a:t>horter intermittent cycle, larger duty rate (rather than continuous tone display)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Crash avoidance response op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hard braking for evasion of crash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steering manoeuvre for evasion of crash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termination of initiated or initiating act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ek awareness of situation and perform one of the above response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mediate decision to retake control by the driver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ome factors mediating warning effectivenes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10058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picui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 frustration and annoyance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equency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 differences and condi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/ uncertain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ust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ngness and/or ability to comp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s Assessment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ndard performance tests that are practical, meaningful, reliable, and objective do not exist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quipment performance (sensor coverage, accuracy and reliability, detection performance)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-system performance (fast or timely, appropriate and successful response)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ge of scenarios (context, integration, prioritization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nge of potential users (typical, least informed most endangered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Warnings Research Need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ed for comprehensive science-based model of driver responses to warning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design guid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essment method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warning concepts (e.g., adaptive intelligent warnings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70120"/>
            <a:ext cx="8839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s interface design guide - 200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procedures and performance criteria - 20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088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Possible IHRA contributions with respect to warn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ummary and Conclus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425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face design is crucial for ITS warning system effectivenes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ory and models are needed to support the development of effective warning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arch is needed to gain a better understanding of warning parameters, particularly for a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1" marL="1143000" indent="-34272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arning design guide 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1" marL="1143000" indent="-34272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9960" y="2603520"/>
            <a:ext cx="8448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Thank you</a:t>
            </a: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582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HRA-ITS WG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8265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nd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exchange information on ITS safety research, present national safety-related interests in ITS, coordinate research and encourage collaborations.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earch Goals: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prove our understanding of the safety benefits and risks associated with ITS systems,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procedures and criteria for the evaluation of the safety of in-vehicle information, control and communication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826560" indent="-501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arenR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ordinate international policy-oriented research to optimize the safety performance of on-board ITS technologie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afety critical warning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signal informing the driver of a hazardous situation, which if not corrected by an immediate action, will result in equipment damage and/or personal injury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Exampl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" y="1066680"/>
            <a:ext cx="9010800" cy="4676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02840" y="60948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 system threat level ic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49116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utomotive Collision Avoidance System Field Operational Test (NHTSA, 200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3990960" cy="197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3440" y="3886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46748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6080" y="45720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s (FCW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MP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5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5640" y="5410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igh Head Down Displ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040" y="57150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304920" y="914400"/>
            <a:ext cx="9448920" cy="4533840"/>
            <a:chOff x="-304920" y="914400"/>
            <a:chExt cx="9448920" cy="45338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-38160" y="1143000"/>
              <a:ext cx="918216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-304920" y="914400"/>
              <a:ext cx="8915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2480" y="45720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ward collision warning system threat level ic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VE-IT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8516880" cy="357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4120" y="518148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029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arning comes with auditory crash alar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6800" y="74628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ane Departure Warning Displa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VE-IT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760" y="4800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eads-up Display (HU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5029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arning comes with rumble strip sou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76320" y="1752480"/>
            <a:ext cx="9296640" cy="2819520"/>
            <a:chOff x="-76320" y="1752480"/>
            <a:chExt cx="9296640" cy="28195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-76320" y="2019240"/>
              <a:ext cx="92966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371600" y="17524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17524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19810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1981080"/>
              <a:ext cx="22860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mportance of the Human-Machine Interface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2880"/>
            <a:ext cx="914400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systems sense the road traffic environment, filter this information for hazards, calculate their severity and then warn the driver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stem performance depends on sensor coverage, sensor reliability and accuracy, warning decision logic, the warning itself and the resulting human performance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ltimately, system performance depends on a timely and appropriate response from the driver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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this, a warning system can be no better than its interface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/>
  <dc:description/>
  <dc:language>en-US</dc:language>
  <cp:lastModifiedBy>Juan Ramos</cp:lastModifiedBy>
  <cp:lastPrinted>2000-12-19T20:25:35Z</cp:lastPrinted>
  <dcterms:modified xsi:type="dcterms:W3CDTF">2005-11-17T10:20:42Z</dcterms:modified>
  <cp:revision>369</cp:revision>
  <dc:subject/>
  <dc:title>PowerPoint Presentation</dc:title>
</cp:coreProperties>
</file>