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E6336E4-134D-472C-87BB-919B77B1D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DDC0D34-BE7E-40D5-8485-54FB07175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0C79147-6466-425D-A706-21AB06970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omponents of Total Brake Response Time (TBRT). Taken from Winters, J.J. (1998) AN INVESTIGATION OF AUDITORY ICONS AND BR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RESPONSE TIMES IN A COMMERCIAL TRUCK-CAB ENVIRONMENT, Viginia Tech, MSc 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566C244-8D7A-46F1-8337-DE060D4A2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46A2FF5-89E6-401F-B557-66895EF5B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30B2379-60F9-44DE-B28A-BC9EEA843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005599B-27FF-4989-9F83-FE35AE98C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0FD703E-2D6D-4892-A9ED-21230E22A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ff"/>
                </a:solidFill>
                <a:latin typeface="Arial"/>
              </a:rPr>
              <a:t>ISO/TS 16951:2003(E)  ISO TC 22/ SC13/ WG8: Road Vehicles - Ergonomic aspects of transport information and control systems — Procedures for determining priority of on-board messages presented to driv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DD3BDA2-3406-4518-B6DE-482420942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207ED17-3EA4-4270-872D-24934B233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012651F-D04B-4B1B-9ABA-572AFAD16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E190CA6-02FE-459A-809C-C05CB1DBA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03B5027-0B5C-4026-9263-60D0D455A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DEDE199-5776-4081-AAB9-1642C1DF6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57FCF6E-F13F-4C7F-9525-E59E81E36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06FB959-ECD1-4DEE-967F-CDDE7DBFE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0239429-93A9-4E15-8E8B-C3D9F4B9A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9709D2E-38F9-454A-91B2-94B570D1B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1BAF77D-0F47-4CD0-B8BE-C97EFA140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New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New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New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New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85C6668-B840-4D79-A45B-7963F14B7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925720" y="0"/>
            <a:ext cx="6186600" cy="6350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-3228840" y="8458200"/>
            <a:ext cx="12372840" cy="685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2520" y="640080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HRA-I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Marlett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SzPct val="75000"/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SzPct val="75000"/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66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66"/>
              </a:buClr>
              <a:buSzPct val="75000"/>
              <a:buFont typeface="Marlett" charset="2"/>
              <a:buChar char="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66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ccecff"/>
              </a:buClr>
              <a:buSzPct val="75000"/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66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ccecff"/>
              </a:buClr>
              <a:buSzPct val="75000"/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1"/>
          </p:nvPr>
        </p:nvSpPr>
        <p:spPr>
          <a:xfrm>
            <a:off x="6629040" y="5866920"/>
            <a:ext cx="19810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65440" y="6060960"/>
            <a:ext cx="47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6172200"/>
            <a:ext cx="1079640" cy="480960"/>
          </a:xfrm>
          <a:prstGeom prst="rect">
            <a:avLst/>
          </a:prstGeom>
          <a:ln w="0">
            <a:noFill/>
          </a:ln>
        </p:spPr>
      </p:pic>
      <p:pic>
        <p:nvPicPr>
          <p:cNvPr id="45" name="t_transport" descr=""/>
          <p:cNvPicPr/>
          <p:nvPr/>
        </p:nvPicPr>
        <p:blipFill>
          <a:blip r:embed="rId3"/>
          <a:stretch/>
        </p:blipFill>
        <p:spPr>
          <a:xfrm>
            <a:off x="1295280" y="228600"/>
            <a:ext cx="1303560" cy="263520"/>
          </a:xfrm>
          <a:prstGeom prst="rect">
            <a:avLst/>
          </a:prstGeom>
          <a:ln w="0">
            <a:noFill/>
          </a:ln>
        </p:spPr>
      </p:pic>
      <p:pic>
        <p:nvPicPr>
          <p:cNvPr id="46" name="flag" descr=""/>
          <p:cNvPicPr/>
          <p:nvPr/>
        </p:nvPicPr>
        <p:blipFill>
          <a:blip r:embed="rId4"/>
          <a:stretch/>
        </p:blipFill>
        <p:spPr>
          <a:xfrm>
            <a:off x="685800" y="228600"/>
            <a:ext cx="479520" cy="250920"/>
          </a:xfrm>
          <a:prstGeom prst="rect">
            <a:avLst/>
          </a:prstGeom>
          <a:ln w="0">
            <a:noFill/>
          </a:ln>
        </p:spPr>
      </p:pic>
      <p:pic>
        <p:nvPicPr>
          <p:cNvPr id="47" name="Canada" descr=""/>
          <p:cNvPicPr/>
          <p:nvPr/>
        </p:nvPicPr>
        <p:blipFill>
          <a:blip r:embed="rId5"/>
          <a:stretch/>
        </p:blipFill>
        <p:spPr>
          <a:xfrm>
            <a:off x="7620120" y="6477120"/>
            <a:ext cx="925560" cy="2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4648320"/>
            <a:ext cx="914400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ITS Warnings: Design and Performance Considera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Peter C. Burn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HRA - ITS Working Group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4800" y="228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15228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nformal Document No.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ITS-11-4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4582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Stages of perception-response time 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668600"/>
            <a:ext cx="9144000" cy="39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809640" indent="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arning and/ or event stimulu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809640" indent="-4158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tection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809640" indent="-4158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809640" indent="-4158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cision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809640" indent="-4158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615960" y="1092240"/>
            <a:ext cx="7905600" cy="5428800"/>
            <a:chOff x="615960" y="1092240"/>
            <a:chExt cx="7905600" cy="542880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615960" y="1168200"/>
              <a:ext cx="7905600" cy="53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44200" y="1092240"/>
              <a:ext cx="3352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Times New Roman"/>
                </a:rPr>
                <a:t>Warning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7000" y="406080"/>
            <a:ext cx="8458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Total Brake Response Time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6703200" y="6095880"/>
            <a:ext cx="13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inters (1998)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2819520"/>
            <a:ext cx="1523880" cy="0"/>
          </a:xfrm>
          <a:prstGeom prst="line">
            <a:avLst/>
          </a:prstGeom>
          <a:ln w="1778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52280" y="2830680"/>
            <a:ext cx="9324720" cy="3036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80880" y="762120"/>
            <a:ext cx="8458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Frequency of Warning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81920" y="6172200"/>
            <a:ext cx="28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(Martin &amp; Burgett, 2001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6002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afety critical forward collision situations are relatively uncommon events.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Perception-response times 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28800" y="533520"/>
            <a:ext cx="5049720" cy="60102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62680" y="6019920"/>
            <a:ext cx="165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(Olson et al. 1984)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4582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Warning design considerations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9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1003320" indent="-6094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ctivation criteria – When?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1003320" indent="-6094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evels and priorities of warnings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1003320" indent="-6094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esentation modality, information and location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1003320" indent="-6094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sponse option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1003320" indent="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4582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Modeling System Performance: Signal Detection Theory</a:t>
            </a:r>
            <a:br>
              <a:rPr sz="2800"/>
            </a:b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2057400"/>
          <a:ext cx="9144000" cy="33307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07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ning</a:t>
                      </a:r>
                      <a:endParaRPr b="0" lang="en-US" sz="3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Warning</a:t>
                      </a:r>
                      <a:endParaRPr b="0" lang="en-US" sz="3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zard</a:t>
                      </a:r>
                      <a:endParaRPr b="0" lang="en-US" sz="3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t</a:t>
                      </a:r>
                      <a:endParaRPr b="0" lang="en-US" sz="3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ff8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s</a:t>
                      </a:r>
                      <a:endParaRPr b="0" lang="en-US" sz="3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b5bc"/>
                    </a:solidFill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Hazard</a:t>
                      </a:r>
                      <a:endParaRPr b="0" lang="en-US" sz="3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 Alarm</a:t>
                      </a:r>
                      <a:endParaRPr b="0" lang="en-US" sz="3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b5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ct</a:t>
                      </a:r>
                      <a:endParaRPr b="0" lang="en-US" sz="3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jection</a:t>
                      </a:r>
                      <a:endParaRPr b="0" lang="en-US" sz="3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ff8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4582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Warning Levels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9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809640" indent="-4158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- such as indicators, tell the driver if they are on or off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809640" indent="-4158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Advisory</a:t>
            </a:r>
            <a:r>
              <a:rPr b="0" lang="en-CA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- such as fuel low that tell the driver the state of the vehicle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809640" indent="-4158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- response is required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lvl="1" marL="1317600" indent="-39384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"/>
              <a:tabLst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1" lang="en-CA" sz="2400" spc="-1" strike="noStrike">
                <a:solidFill>
                  <a:srgbClr val="ff9933"/>
                </a:solidFill>
                <a:latin typeface="Arial"/>
              </a:rPr>
              <a:t>Cautionary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lvl="1" marL="1317600" indent="-39384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"/>
              <a:tabLst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Imminen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4582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ISO Prioritization Procedure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9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8000"/>
          </a:bodyPr>
          <a:p>
            <a:pPr marL="712440" indent="-36576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iority helps to determine when, where and how system messages are to be.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712440" indent="-36576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iority sets the relative importance of two or more messages, which determines their ranking in a time sequence or emphasis of presentation.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712440" indent="-36576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f messages are not managed properly, drivers may fail to obtain critical safety information.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712440" indent="-36576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is procedure provides a basis for the management of messages competing for the driver’s limited attention.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712440" indent="-36576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 priority index is calculated according to message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criticality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urgency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ratings.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71244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6570000" y="6232680"/>
            <a:ext cx="24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SO TS 16951: 200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228600" y="723960"/>
            <a:ext cx="8601120" cy="6134040"/>
            <a:chOff x="228600" y="723960"/>
            <a:chExt cx="8601120" cy="613404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228600" y="3495600"/>
              <a:ext cx="8601120" cy="33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228600" y="723960"/>
              <a:ext cx="8601120" cy="28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"/>
          <p:cNvSpPr/>
          <p:nvPr/>
        </p:nvSpPr>
        <p:spPr>
          <a:xfrm>
            <a:off x="304920" y="0"/>
            <a:ext cx="3886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ISO Criticality rating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04920" y="0"/>
            <a:ext cx="38098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ISO Urgency rating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6760" y="1490760"/>
            <a:ext cx="861048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4582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442520"/>
            <a:ext cx="9144000" cy="397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44316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HRA-IT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4316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finition of warning and example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4316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mportance of the warning HMI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4316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arning design consideration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4316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actors affecting warning effectivenes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4316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ssessing warning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4316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search need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4316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Warning Modality and Characteristics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495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572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uditor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– speech, tone, loudness, musicality, duration, direction…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Visual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– symbols, text, light, brightness, location, colour, flashing…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Haptic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(touch) – vibration, location, intensity, direction.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Kinaesthetic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(body motion) – vehicle slowing 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Visual Displays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495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Visual displays can be used to convey higher criticality and urgency by: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olour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– red 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Luminanc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– greater luminance and contrast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Blinking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平成明朝"/>
              </a:rPr>
              <a:t>shorter blinking cycle, smaller duty rate, (rather than continuous display)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– larger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Auditory Tones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495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er criticality and urgency can be indicated by: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Intensit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平成明朝"/>
              </a:rPr>
              <a:t>high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平成明朝"/>
              </a:rPr>
              <a:t> sound pressure level (dB(A))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one frequenc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平成明朝"/>
              </a:rPr>
              <a:t>higher frequencie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Periodicit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- 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平成明朝"/>
              </a:rPr>
              <a:t>horter intermittent cycle, larger duty rate (rather than continuous tone display)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4582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Crash avoidance response options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9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927000" indent="-5331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mmediate hard braking for evasion of crash.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927000" indent="-5331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mmediate steering manoeuvre for evasion of crash.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927000" indent="-5331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mmediate termination of initiated or initiating action.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927000" indent="-5331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eek awareness of situation and perform one of the above responses.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927000" indent="-5331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mmediate decision to retake control by the driver.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Some factors mediating warning effectiveness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10058400" cy="39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6000"/>
          </a:bodyPr>
          <a:p>
            <a:pPr marL="3931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spicuity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931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mprehension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931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river frustration and annoyance 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931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ectancy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931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requency of warnings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931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dividual differences and condition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931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sponse options/ uncertainty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931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rust 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931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illingness and/or ability to comply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9312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Warnings Assessment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39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None/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tandard performance tests that are practical, meaningful, reliable, and objective do not exist.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2516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quipment performance (sensor coverage, accuracy and reliability, detection performance)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2516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river-system performance (fast or timely, appropriate and successful response).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2516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ange of scenarios (context, integration, prioritization)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2516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ange of potential users (typical, least informed most endangered)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25160" indent="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None/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Warnings Research Needs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39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57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ed for comprehensive science-based model of driver responses to warning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arning design guide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ssessment method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warning concepts (e.g., adaptive intelligent warnings)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1770120"/>
            <a:ext cx="883908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5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rnings interface design guide - 2007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ment procedures and performance criteria - 201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380880"/>
            <a:ext cx="8458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Possible IHRA contributions with respect to warning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4582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Summary and Conclusions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442520"/>
            <a:ext cx="9144000" cy="480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57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terface design is crucial for ITS warning system effectivenes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ory and models are needed to support the development of effective warning system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search is needed to gain a better understanding of warning parameters, particularly for a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lvl="1" marL="1143000" indent="-34272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d83900"/>
              </a:buClr>
              <a:buSzPct val="75000"/>
              <a:buFont typeface="Wingdings" charset="2"/>
              <a:buChar char="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arning design guide </a:t>
            </a:r>
            <a:endParaRPr b="0" lang="en-US" sz="2000" spc="-1" strike="noStrike">
              <a:solidFill>
                <a:srgbClr val="0066ff"/>
              </a:solidFill>
              <a:latin typeface="Tahoma"/>
            </a:endParaRPr>
          </a:p>
          <a:p>
            <a:pPr lvl="1" marL="1143000" indent="-34272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d83900"/>
              </a:buClr>
              <a:buSzPct val="75000"/>
              <a:buFont typeface="Wingdings" charset="2"/>
              <a:buChar char="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ssessment procedures</a:t>
            </a:r>
            <a:endParaRPr b="0" lang="en-US" sz="2000" spc="-1" strike="noStrike">
              <a:solidFill>
                <a:srgbClr val="0066ff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endParaRPr b="0" lang="en-US" sz="20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99960" y="2603520"/>
            <a:ext cx="84488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f4a2f"/>
                </a:solidFill>
                <a:uFillTx/>
                <a:latin typeface="Arial"/>
              </a:rPr>
              <a:t>Thank you</a:t>
            </a:r>
            <a:r>
              <a:rPr b="1" lang="en-US" sz="4000" spc="-1" strike="noStrike" u="sng">
                <a:solidFill>
                  <a:srgbClr val="cf4a2f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cf4a2f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cf4a2f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cf4a2f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cf4a2f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cf4a2f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cf4a2f"/>
                </a:solidFill>
                <a:uFillTx/>
                <a:latin typeface="Arial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5820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IHRA-ITS WG 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39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82656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Mandat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: exchange information on ITS safety research, present national safety-related interests in ITS, coordinate research and encourage collaborations. 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82656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esearch Goals: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826560" indent="-5014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Arial"/>
              <a:buAutoNum type="arabicParenR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mprove our understanding of the safety benefits and risks associated with ITS systems,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826560" indent="-5014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Arial"/>
              <a:buAutoNum type="arabicParenR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velop procedures and criteria for the evaluation of the safety of in-vehicle information, control and communication system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826560" indent="-5014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Arial"/>
              <a:buAutoNum type="arabicParenR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ordinate international policy-oriented research to optimize the safety performance of on-board ITS technologies.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4582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Safety critical warning 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397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3880" indent="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53880" indent="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 signal informing the driver of a hazardous situation, which if not corrected by an immediate action, will result in equipment damage and/or personal injury.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3808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Example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3200" y="1066680"/>
            <a:ext cx="9010800" cy="4676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202840" y="609480"/>
            <a:ext cx="64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Forward collision warning system threat level icon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6491160"/>
            <a:ext cx="853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Automotive Collision Avoidance System Field Operational Test (NHTSA, 2005)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523880" y="4495680"/>
            <a:ext cx="3990960" cy="1973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603440" y="3886200"/>
            <a:ext cx="36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Heads-up Display (HUD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467480" y="57150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06080" y="457200"/>
            <a:ext cx="429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Forward collision warnings (FCW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15200" y="6248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CAMP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(2005)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5640" y="541008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High Head Down Displa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61040" y="5715000"/>
            <a:ext cx="36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Heads-up Display (HUD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-304920" y="914400"/>
            <a:ext cx="9448920" cy="4533840"/>
            <a:chOff x="-304920" y="914400"/>
            <a:chExt cx="9448920" cy="453384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-38160" y="1143000"/>
              <a:ext cx="9182160" cy="430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-304920" y="914400"/>
              <a:ext cx="89154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12480" y="457200"/>
            <a:ext cx="64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Forward collision warning system threat level icon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6248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SAVE-IT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(2004)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4920" y="1380960"/>
            <a:ext cx="8516880" cy="3571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4120" y="5181480"/>
            <a:ext cx="36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Heads-up Display (HUD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502920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Warning comes with auditory crash alar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206800" y="746280"/>
            <a:ext cx="41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Lane Departure Warning Display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15200" y="6248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SAVE-IT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(2004)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6760" y="4800600"/>
            <a:ext cx="36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Heads-up Display (HUD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24280" y="502920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Warning comes with rumble strip soun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-76320" y="1752480"/>
            <a:ext cx="9296640" cy="2819520"/>
            <a:chOff x="-76320" y="1752480"/>
            <a:chExt cx="9296640" cy="28195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-76320" y="2019240"/>
              <a:ext cx="9296640" cy="23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371600" y="1752480"/>
              <a:ext cx="228600" cy="259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76720" y="1752480"/>
              <a:ext cx="228600" cy="259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57800" y="1981080"/>
              <a:ext cx="228600" cy="259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38880" y="1981080"/>
              <a:ext cx="228600" cy="259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Importance of the Human-Machine Interface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442880"/>
            <a:ext cx="9144000" cy="495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57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arning systems sense the road traffic environment, filter this information for hazards, calculate their severity and then warn the driver.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ystem performance depends on sensor coverage, sensor reliability and accuracy, warning decision logic, the warning itself and the resulting human performance.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ltimately, system performance depends on a timely and appropriate response from the driver.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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iven this, a warning system can be no better than its interface.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1:56:18Z</dcterms:created>
  <dc:creator/>
  <dc:description/>
  <dc:language>en-US</dc:language>
  <cp:lastModifiedBy>Juan Ramos</cp:lastModifiedBy>
  <cp:lastPrinted>2000-12-19T20:25:35Z</cp:lastPrinted>
  <dcterms:modified xsi:type="dcterms:W3CDTF">2005-11-17T10:20:42Z</dcterms:modified>
  <cp:revision>369</cp:revision>
  <dc:subject/>
  <dc:title>PowerPoint Presentation</dc:title>
</cp:coreProperties>
</file>