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4D2-AC12-49F4-88B5-2EEECE88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C83-5B50-4FF6-BAAD-DEB1EB82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B1E-7753-4D3E-8436-EE605C0D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3FD-54A5-4DC4-AD9E-CD510E11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CA3-156A-400D-AEBC-BEBD7513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77C-BD5F-46CE-8325-A87DE570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48E-A25F-4FC7-9F7E-9465E791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F78-2C06-4DD1-B099-EA38120D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12B-1D9E-405A-A275-771D1344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002-EF77-4F05-A099-AA9D678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D81-F865-41DD-B166-35347D90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594-50CF-42F2-A4D0-06343BCC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A4AE-0952-4B27-93CF-4F7F8F62CE3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" y="3809880"/>
            <a:ext cx="2368080" cy="2768760"/>
            <a:chOff x="360" y="3809880"/>
            <a:chExt cx="2368080" cy="2768760"/>
          </a:xfrm>
        </p:grpSpPr>
        <p:sp>
          <p:nvSpPr>
            <p:cNvPr id="42" name=""/>
            <p:cNvSpPr/>
            <p:nvPr/>
          </p:nvSpPr>
          <p:spPr>
            <a:xfrm>
              <a:off x="1112760" y="5108400"/>
              <a:ext cx="21744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12760" y="3813120"/>
              <a:ext cx="217440" cy="12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2200" y="48924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86040" y="4676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57320" y="5468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57320" y="4244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96760" y="633240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2200" y="654840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69840" y="48924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6160" y="554040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5120" y="4892400"/>
              <a:ext cx="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0" y="55656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5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0200" y="3813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33480" y="381312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63280" y="50371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41120" y="446076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85840" y="5073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73120" y="44607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3120" y="51084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74560" y="5756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9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02920" y="46051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633240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69840" y="63324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7560" y="3809880"/>
              <a:ext cx="380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362320" y="1447920"/>
            <a:ext cx="67816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@IHRA reports that test protocol should apply to the vehicle providing </a:t>
            </a:r>
            <a:r>
              <a:rPr b="1" i="1" lang="ja-JP" sz="2000" spc="-1" strike="noStrike">
                <a:solidFill>
                  <a:srgbClr val="ff0000"/>
                </a:solidFill>
                <a:latin typeface="Times New Roman"/>
              </a:rPr>
              <a:t>initial contact point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to the leg form impactor at 513mm aboove the ground (at knee level) or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LFI cannot simulate behavior of human leg when transmitted load at higher position than the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kne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LFI, because LFI does not have upper body mass.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JARI re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55600" y="1474200"/>
            <a:ext cx="1009800" cy="1458000"/>
            <a:chOff x="255600" y="1474200"/>
            <a:chExt cx="1009800" cy="1458000"/>
          </a:xfrm>
        </p:grpSpPr>
        <p:sp>
          <p:nvSpPr>
            <p:cNvPr id="68" name=""/>
            <p:cNvSpPr/>
            <p:nvPr/>
          </p:nvSpPr>
          <p:spPr>
            <a:xfrm>
              <a:off x="609840" y="1676520"/>
              <a:ext cx="380880" cy="152280"/>
            </a:xfrm>
            <a:prstGeom prst="leftArrow">
              <a:avLst>
                <a:gd name="adj1" fmla="val 50000"/>
                <a:gd name="adj2" fmla="val 62530"/>
              </a:avLst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2127240"/>
              <a:ext cx="73188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55600" y="1474200"/>
              <a:ext cx="707760" cy="1458000"/>
              <a:chOff x="255600" y="1474200"/>
              <a:chExt cx="707760" cy="1458000"/>
            </a:xfrm>
          </p:grpSpPr>
          <p:sp>
            <p:nvSpPr>
              <p:cNvPr id="71" name=""/>
              <p:cNvSpPr/>
              <p:nvPr/>
            </p:nvSpPr>
            <p:spPr>
              <a:xfrm rot="20278800">
                <a:off x="541080" y="1942920"/>
                <a:ext cx="44640" cy="2941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20278800">
                <a:off x="363600" y="1480680"/>
                <a:ext cx="152280" cy="6058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20278800">
                <a:off x="663480" y="2117520"/>
                <a:ext cx="152280" cy="8157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228600" y="3900600"/>
            <a:ext cx="30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47920" y="990720"/>
            <a:ext cx="990360" cy="1941480"/>
            <a:chOff x="1447920" y="990720"/>
            <a:chExt cx="990360" cy="1941480"/>
          </a:xfrm>
        </p:grpSpPr>
        <p:grpSp>
          <p:nvGrpSpPr>
            <p:cNvPr id="76" name=""/>
            <p:cNvGrpSpPr/>
            <p:nvPr/>
          </p:nvGrpSpPr>
          <p:grpSpPr>
            <a:xfrm>
              <a:off x="1505160" y="1443960"/>
              <a:ext cx="933120" cy="1488240"/>
              <a:chOff x="1505160" y="1443960"/>
              <a:chExt cx="933120" cy="1488240"/>
            </a:xfrm>
          </p:grpSpPr>
          <p:sp>
            <p:nvSpPr>
              <p:cNvPr id="77" name=""/>
              <p:cNvSpPr/>
              <p:nvPr/>
            </p:nvSpPr>
            <p:spPr>
              <a:xfrm>
                <a:off x="1752480" y="1752480"/>
                <a:ext cx="380880" cy="126720"/>
              </a:xfrm>
              <a:prstGeom prst="leftArrow">
                <a:avLst>
                  <a:gd name="adj1" fmla="val 50000"/>
                  <a:gd name="adj2" fmla="val 75142"/>
                </a:avLst>
              </a:prstGeom>
              <a:solidFill>
                <a:srgbClr val="ffcc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8440" y="2286000"/>
                <a:ext cx="609840" cy="38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0278800">
                <a:off x="1607760" y="1942920"/>
                <a:ext cx="44640" cy="2934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1386400">
                <a:off x="1523520" y="1447920"/>
                <a:ext cx="152280" cy="6062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0278800">
                <a:off x="1730160" y="2117520"/>
                <a:ext cx="152280" cy="8157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1447920" y="99072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3880" y="1219320"/>
              <a:ext cx="7632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286000" y="4572000"/>
            <a:ext cx="662940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 propose that “load path” should be used instead of “first contact point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est protocol should apply to the vehicle providing </a:t>
            </a:r>
            <a:r>
              <a:rPr b="1" i="1" lang="ja-JP" sz="2000" spc="-1" strike="noStrike">
                <a:solidFill>
                  <a:srgbClr val="ff0000"/>
                </a:solidFill>
                <a:latin typeface="Times New Roman"/>
              </a:rPr>
              <a:t>load path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to the leg form impactor at 513mm above the ground (at knee level) or bel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3152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mment for IHRA or GTR regarding Leg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228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 GR/PS/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60200" y="569880"/>
          <a:ext cx="5505480" cy="62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569880"/>
                    <a:ext cx="550548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0"/>
            <a:ext cx="78487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umperUpperRLH and BumperLowerRLH of Japan make Automob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609480"/>
            <a:ext cx="3429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@EU reg.  has definition of  high bumper vehicle as BLRLH&gt;500m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t limits to very small numbers of vehicle models.(Many of SUVs are not categorized to high bumper.)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105440"/>
            <a:ext cx="342900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There are many models with higher BURLH than knee position, 513m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models have a possibility to have load path higher than knee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@BURLH might be one of the appropriate dimensions defining the high bumper vehicl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400800" y="2057400"/>
            <a:ext cx="1600200" cy="1905120"/>
            <a:chOff x="6400800" y="2057400"/>
            <a:chExt cx="1600200" cy="1905120"/>
          </a:xfrm>
        </p:grpSpPr>
        <p:pic>
          <p:nvPicPr>
            <p:cNvPr id="93" name="" descr=""/>
            <p:cNvPicPr/>
            <p:nvPr/>
          </p:nvPicPr>
          <p:blipFill>
            <a:blip r:embed="rId3"/>
            <a:srcRect l="5553" t="38777" r="55563" b="8501"/>
            <a:stretch/>
          </p:blipFill>
          <p:spPr>
            <a:xfrm>
              <a:off x="6553080" y="2057400"/>
              <a:ext cx="14479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967440" y="3533760"/>
              <a:ext cx="206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00800" y="2743200"/>
              <a:ext cx="206280" cy="42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29600" y="3149640"/>
              <a:ext cx="4953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009560" y="2666880"/>
              <a:ext cx="104760" cy="944640"/>
              <a:chOff x="7009560" y="2666880"/>
              <a:chExt cx="104760" cy="944640"/>
            </a:xfrm>
          </p:grpSpPr>
          <p:sp>
            <p:nvSpPr>
              <p:cNvPr id="98" name=""/>
              <p:cNvSpPr/>
              <p:nvPr/>
            </p:nvSpPr>
            <p:spPr>
              <a:xfrm rot="21595800">
                <a:off x="7046280" y="2970720"/>
                <a:ext cx="30240" cy="1839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595800">
                <a:off x="7009560" y="2666520"/>
                <a:ext cx="103320" cy="3787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1595800">
                <a:off x="7010280" y="3101040"/>
                <a:ext cx="103320" cy="5101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53080" y="28195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3080" y="2286000"/>
              <a:ext cx="533520" cy="152280"/>
            </a:xfrm>
            <a:prstGeom prst="rightArrow">
              <a:avLst>
                <a:gd name="adj1" fmla="val 50000"/>
                <a:gd name="adj2" fmla="val 8758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3900600"/>
            <a:ext cx="30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52578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Path and BURLH, BLR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2440" y="5853240"/>
            <a:ext cx="640872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17600" y="3368520"/>
            <a:ext cx="2684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25760" y="3368520"/>
            <a:ext cx="3338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80400" y="2921040"/>
            <a:ext cx="7048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400800" y="990720"/>
            <a:ext cx="1830240" cy="2354040"/>
            <a:chOff x="6400800" y="990720"/>
            <a:chExt cx="1830240" cy="23540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6400800" y="990720"/>
              <a:ext cx="1830240" cy="23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391160" y="2077920"/>
              <a:ext cx="327240" cy="131760"/>
            </a:xfrm>
            <a:custGeom>
              <a:avLst/>
              <a:gdLst/>
              <a:ahLst/>
              <a:rect l="l" t="t" r="r" b="b"/>
              <a:pathLst>
                <a:path w="206" h="83">
                  <a:moveTo>
                    <a:pt x="52" y="0"/>
                  </a:moveTo>
                  <a:lnTo>
                    <a:pt x="52" y="21"/>
                  </a:lnTo>
                  <a:lnTo>
                    <a:pt x="206" y="21"/>
                  </a:lnTo>
                  <a:lnTo>
                    <a:pt x="206" y="62"/>
                  </a:lnTo>
                  <a:lnTo>
                    <a:pt x="52" y="62"/>
                  </a:lnTo>
                  <a:lnTo>
                    <a:pt x="52" y="83"/>
                  </a:lnTo>
                  <a:lnTo>
                    <a:pt x="0" y="4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99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6360" y="2666880"/>
              <a:ext cx="62856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086600" y="1905120"/>
              <a:ext cx="608040" cy="1252440"/>
              <a:chOff x="7086600" y="1905120"/>
              <a:chExt cx="608040" cy="1252440"/>
            </a:xfrm>
          </p:grpSpPr>
          <p:sp>
            <p:nvSpPr>
              <p:cNvPr id="114" name=""/>
              <p:cNvSpPr/>
              <p:nvPr/>
            </p:nvSpPr>
            <p:spPr>
              <a:xfrm>
                <a:off x="7288200" y="2309760"/>
                <a:ext cx="127080" cy="249120"/>
              </a:xfrm>
              <a:custGeom>
                <a:avLst/>
                <a:gdLst/>
                <a:ahLst/>
                <a:rect l="l" t="t" r="r" b="b"/>
                <a:pathLst>
                  <a:path w="80" h="157">
                    <a:moveTo>
                      <a:pt x="0" y="9"/>
                    </a:moveTo>
                    <a:lnTo>
                      <a:pt x="58" y="157"/>
                    </a:lnTo>
                    <a:lnTo>
                      <a:pt x="80" y="148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86600" y="1905120"/>
                <a:ext cx="319320" cy="529920"/>
              </a:xfrm>
              <a:custGeom>
                <a:avLst/>
                <a:gdLst/>
                <a:ahLst/>
                <a:rect l="l" t="t" r="r" b="b"/>
                <a:pathLst>
                  <a:path w="201" h="334">
                    <a:moveTo>
                      <a:pt x="0" y="30"/>
                    </a:moveTo>
                    <a:lnTo>
                      <a:pt x="123" y="334"/>
                    </a:lnTo>
                    <a:lnTo>
                      <a:pt x="201" y="303"/>
                    </a:lnTo>
                    <a:lnTo>
                      <a:pt x="7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11960" y="2457360"/>
                <a:ext cx="382680" cy="700200"/>
              </a:xfrm>
              <a:custGeom>
                <a:avLst/>
                <a:gdLst/>
                <a:ahLst/>
                <a:rect l="l" t="t" r="r" b="b"/>
                <a:pathLst>
                  <a:path w="241" h="441">
                    <a:moveTo>
                      <a:pt x="0" y="31"/>
                    </a:moveTo>
                    <a:lnTo>
                      <a:pt x="165" y="441"/>
                    </a:lnTo>
                    <a:lnTo>
                      <a:pt x="241" y="410"/>
                    </a:lnTo>
                    <a:lnTo>
                      <a:pt x="76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990720" y="228600"/>
            <a:ext cx="5757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42480" y="318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2040" y="318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990720"/>
            <a:ext cx="1831680" cy="2630520"/>
            <a:chOff x="762120" y="990720"/>
            <a:chExt cx="1831680" cy="2630520"/>
          </a:xfrm>
        </p:grpSpPr>
        <p:sp>
          <p:nvSpPr>
            <p:cNvPr id="121" name=""/>
            <p:cNvSpPr/>
            <p:nvPr/>
          </p:nvSpPr>
          <p:spPr>
            <a:xfrm>
              <a:off x="1491480" y="299880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Ｐゴシック"/>
                </a:rPr>
                <a:t>　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762120" y="990720"/>
              <a:ext cx="183168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297080" y="3029040"/>
              <a:ext cx="26352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2057400"/>
              <a:ext cx="326880" cy="123840"/>
            </a:xfrm>
            <a:custGeom>
              <a:avLst/>
              <a:gdLst/>
              <a:ahLst/>
              <a:rect l="l" t="t" r="r" b="b"/>
              <a:pathLst>
                <a:path w="206" h="69">
                  <a:moveTo>
                    <a:pt x="52" y="0"/>
                  </a:moveTo>
                  <a:lnTo>
                    <a:pt x="52" y="18"/>
                  </a:lnTo>
                  <a:lnTo>
                    <a:pt x="206" y="18"/>
                  </a:lnTo>
                  <a:lnTo>
                    <a:pt x="206" y="52"/>
                  </a:lnTo>
                  <a:lnTo>
                    <a:pt x="52" y="52"/>
                  </a:lnTo>
                  <a:lnTo>
                    <a:pt x="52" y="69"/>
                  </a:lnTo>
                  <a:lnTo>
                    <a:pt x="0" y="3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99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01800" y="2567160"/>
              <a:ext cx="52380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8520" y="2237040"/>
              <a:ext cx="128520" cy="280800"/>
            </a:xfrm>
            <a:custGeom>
              <a:avLst/>
              <a:gdLst/>
              <a:ahLst/>
              <a:rect l="l" t="t" r="r" b="b"/>
              <a:pathLst>
                <a:path w="81" h="157">
                  <a:moveTo>
                    <a:pt x="0" y="9"/>
                  </a:moveTo>
                  <a:lnTo>
                    <a:pt x="58" y="157"/>
                  </a:lnTo>
                  <a:lnTo>
                    <a:pt x="81" y="148"/>
                  </a:lnTo>
                  <a:lnTo>
                    <a:pt x="2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1752840"/>
              <a:ext cx="163800" cy="591840"/>
            </a:xfrm>
            <a:custGeom>
              <a:avLst/>
              <a:gdLst/>
              <a:ahLst/>
              <a:rect l="l" t="t" r="r" b="b"/>
              <a:pathLst>
                <a:path w="103" h="331">
                  <a:moveTo>
                    <a:pt x="0" y="5"/>
                  </a:moveTo>
                  <a:lnTo>
                    <a:pt x="21" y="331"/>
                  </a:lnTo>
                  <a:lnTo>
                    <a:pt x="103" y="326"/>
                  </a:lnTo>
                  <a:lnTo>
                    <a:pt x="8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2280" y="2403720"/>
              <a:ext cx="382680" cy="788760"/>
            </a:xfrm>
            <a:custGeom>
              <a:avLst/>
              <a:gdLst/>
              <a:ahLst/>
              <a:rect l="l" t="t" r="r" b="b"/>
              <a:pathLst>
                <a:path w="241" h="441">
                  <a:moveTo>
                    <a:pt x="0" y="31"/>
                  </a:moveTo>
                  <a:lnTo>
                    <a:pt x="165" y="441"/>
                  </a:lnTo>
                  <a:lnTo>
                    <a:pt x="241" y="410"/>
                  </a:lnTo>
                  <a:lnTo>
                    <a:pt x="7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8800" y="2210040"/>
              <a:ext cx="326880" cy="122040"/>
            </a:xfrm>
            <a:custGeom>
              <a:avLst/>
              <a:gdLst/>
              <a:ahLst/>
              <a:rect l="l" t="t" r="r" b="b"/>
              <a:pathLst>
                <a:path w="206" h="68">
                  <a:moveTo>
                    <a:pt x="52" y="0"/>
                  </a:moveTo>
                  <a:lnTo>
                    <a:pt x="52" y="17"/>
                  </a:lnTo>
                  <a:lnTo>
                    <a:pt x="206" y="17"/>
                  </a:lnTo>
                  <a:lnTo>
                    <a:pt x="206" y="51"/>
                  </a:lnTo>
                  <a:lnTo>
                    <a:pt x="52" y="51"/>
                  </a:lnTo>
                  <a:lnTo>
                    <a:pt x="52" y="68"/>
                  </a:lnTo>
                  <a:lnTo>
                    <a:pt x="0" y="3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99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2362320"/>
              <a:ext cx="326880" cy="122400"/>
            </a:xfrm>
            <a:custGeom>
              <a:avLst/>
              <a:gdLst/>
              <a:ahLst/>
              <a:rect l="l" t="t" r="r" b="b"/>
              <a:pathLst>
                <a:path w="206" h="69">
                  <a:moveTo>
                    <a:pt x="52" y="0"/>
                  </a:moveTo>
                  <a:lnTo>
                    <a:pt x="52" y="17"/>
                  </a:lnTo>
                  <a:lnTo>
                    <a:pt x="206" y="17"/>
                  </a:lnTo>
                  <a:lnTo>
                    <a:pt x="206" y="52"/>
                  </a:lnTo>
                  <a:lnTo>
                    <a:pt x="52" y="52"/>
                  </a:lnTo>
                  <a:lnTo>
                    <a:pt x="52" y="69"/>
                  </a:lnTo>
                  <a:lnTo>
                    <a:pt x="0" y="3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99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709640" y="1079640"/>
            <a:ext cx="20955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76800" y="1209600"/>
            <a:ext cx="1638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505320" y="990720"/>
            <a:ext cx="2065320" cy="2630520"/>
            <a:chOff x="3505320" y="990720"/>
            <a:chExt cx="2065320" cy="2630520"/>
          </a:xfrm>
        </p:grpSpPr>
        <p:sp>
          <p:nvSpPr>
            <p:cNvPr id="134" name=""/>
            <p:cNvSpPr/>
            <p:nvPr/>
          </p:nvSpPr>
          <p:spPr>
            <a:xfrm>
              <a:off x="5157000" y="292248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Ｐゴシック"/>
                </a:rPr>
                <a:t>　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07120" y="2354400"/>
              <a:ext cx="26352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34680" y="299880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Ｐゴシック"/>
                </a:rPr>
                <a:t>　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3505320" y="990720"/>
              <a:ext cx="1831680" cy="23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040280" y="3029040"/>
              <a:ext cx="26352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45000" y="2567160"/>
              <a:ext cx="52380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1720" y="2236680"/>
              <a:ext cx="128520" cy="281160"/>
            </a:xfrm>
            <a:custGeom>
              <a:avLst/>
              <a:gdLst/>
              <a:ahLst/>
              <a:rect l="l" t="t" r="r" b="b"/>
              <a:pathLst>
                <a:path w="81" h="157">
                  <a:moveTo>
                    <a:pt x="0" y="9"/>
                  </a:moveTo>
                  <a:lnTo>
                    <a:pt x="58" y="157"/>
                  </a:lnTo>
                  <a:lnTo>
                    <a:pt x="81" y="148"/>
                  </a:lnTo>
                  <a:lnTo>
                    <a:pt x="2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1752480"/>
              <a:ext cx="163800" cy="592200"/>
            </a:xfrm>
            <a:custGeom>
              <a:avLst/>
              <a:gdLst/>
              <a:ahLst/>
              <a:rect l="l" t="t" r="r" b="b"/>
              <a:pathLst>
                <a:path w="103" h="331">
                  <a:moveTo>
                    <a:pt x="0" y="5"/>
                  </a:moveTo>
                  <a:lnTo>
                    <a:pt x="21" y="331"/>
                  </a:lnTo>
                  <a:lnTo>
                    <a:pt x="103" y="326"/>
                  </a:lnTo>
                  <a:lnTo>
                    <a:pt x="8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35480" y="2403360"/>
              <a:ext cx="382680" cy="789120"/>
            </a:xfrm>
            <a:custGeom>
              <a:avLst/>
              <a:gdLst/>
              <a:ahLst/>
              <a:rect l="l" t="t" r="r" b="b"/>
              <a:pathLst>
                <a:path w="241" h="441">
                  <a:moveTo>
                    <a:pt x="0" y="31"/>
                  </a:moveTo>
                  <a:lnTo>
                    <a:pt x="165" y="441"/>
                  </a:lnTo>
                  <a:lnTo>
                    <a:pt x="241" y="410"/>
                  </a:lnTo>
                  <a:lnTo>
                    <a:pt x="7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2362320"/>
              <a:ext cx="326880" cy="122040"/>
            </a:xfrm>
            <a:custGeom>
              <a:avLst/>
              <a:gdLst/>
              <a:ahLst/>
              <a:rect l="l" t="t" r="r" b="b"/>
              <a:pathLst>
                <a:path w="206" h="69">
                  <a:moveTo>
                    <a:pt x="52" y="0"/>
                  </a:moveTo>
                  <a:lnTo>
                    <a:pt x="52" y="17"/>
                  </a:lnTo>
                  <a:lnTo>
                    <a:pt x="206" y="17"/>
                  </a:lnTo>
                  <a:lnTo>
                    <a:pt x="206" y="52"/>
                  </a:lnTo>
                  <a:lnTo>
                    <a:pt x="52" y="52"/>
                  </a:lnTo>
                  <a:lnTo>
                    <a:pt x="52" y="69"/>
                  </a:lnTo>
                  <a:lnTo>
                    <a:pt x="0" y="3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99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3520" y="5486400"/>
            <a:ext cx="8153280" cy="974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present, I propose that “position of load path” should be used as a difinition of high bumper instead of “first contact point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e need to consider and study more as regulatary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3429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load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load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oad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26708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umper external contour does not shows the position of load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t shows the probability where load path exi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5562720"/>
            <a:ext cx="2286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3:37:28Z</dcterms:created>
  <dc:creator>T412992</dc:creator>
  <dc:description/>
  <dc:language>en-US</dc:language>
  <cp:lastModifiedBy>Enonler</cp:lastModifiedBy>
  <dcterms:modified xsi:type="dcterms:W3CDTF">2004-10-19T12:24:39Z</dcterms:modified>
  <cp:revision>46</cp:revision>
  <dc:subject/>
  <dc:title>スライド 1</dc:title>
</cp:coreProperties>
</file>