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MWTypeCondensedRegular"/>
              </a:rPr>
              <a:t>Click to move the slide</a:t>
            </a: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45B-0519-4E1E-B575-18C3EE6FDE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ability and hand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s compared to other Side Impact Dum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usibility of responses (no flat tops, no internal load path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 dummy kine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13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IS: Draft Internationl Standard?, which must be agreed at the highest levels in 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13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SO/TR 15830  available by end of 2004, assuming editorial and technical approval s at each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13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IS: Draft Internationl Standard?, which must be agreed at the highest levels in 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13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SO/TR 15830  available by end of 2004, assuming editorial and technical approval s at each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13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IS: Draft Internationl Standard?, which must be agreed at the highest levels in 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135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SO/TR 15830  available by end of 2004, assuming editorial and technical approval s at each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8234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680" y="5162400"/>
            <a:ext cx="8234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268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224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6560" y="426672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0800" y="426672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2680" y="516240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6560" y="516240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0800" y="516240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72680" y="4266720"/>
            <a:ext cx="8234280" cy="1714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82342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680" y="2828520"/>
            <a:ext cx="8234280" cy="5299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268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2680" y="4266720"/>
            <a:ext cx="8234280" cy="1714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224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680" y="5162400"/>
            <a:ext cx="8234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8234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680" y="5162400"/>
            <a:ext cx="8234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268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224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6560" y="426672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0800" y="426672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680" y="516240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6560" y="516240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0800" y="5162400"/>
            <a:ext cx="26510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82342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2680" y="2828520"/>
            <a:ext cx="8234280" cy="5299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68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2240" y="516240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268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240" y="4266720"/>
            <a:ext cx="401832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2680" y="5162400"/>
            <a:ext cx="823428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MWTypeCondensedRegular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6e008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8160" y="6346800"/>
            <a:ext cx="987480" cy="46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" name=""/>
          <p:cNvSpPr/>
          <p:nvPr/>
        </p:nvSpPr>
        <p:spPr>
          <a:xfrm>
            <a:off x="1219320" y="6305400"/>
            <a:ext cx="79246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372440"/>
                <a:tab algn="r" pos="862956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Hautmann</a:t>
            </a: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WorldSID 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372440"/>
                <a:tab algn="r" pos="862956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BMW Group</a:t>
            </a: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34</a:t>
            </a:r>
            <a:r>
              <a:rPr b="1" lang="en-US" sz="1400" spc="-1" strike="noStrike" baseline="30000">
                <a:solidFill>
                  <a:srgbClr val="00ff00"/>
                </a:solidFill>
                <a:latin typeface="BMWTypeCondensedRegular"/>
              </a:rPr>
              <a:t>th</a:t>
            </a:r>
            <a:r>
              <a:rPr b="1" lang="en-US" sz="1400" spc="-1" strike="noStrike">
                <a:solidFill>
                  <a:srgbClr val="00ff00"/>
                </a:solidFill>
                <a:latin typeface="BMWTypeCondensedRegular"/>
              </a:rPr>
              <a:t> GRSP Session, Geneva, December, 8-12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64640" y="6629400"/>
            <a:ext cx="355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251-15D9-468A-858A-BF2861A90D5E}" type="slidenum">
              <a:rPr b="0" lang="de-DE" sz="900" spc="-1" strike="noStrike">
                <a:solidFill>
                  <a:srgbClr val="000000"/>
                </a:solidFill>
                <a:latin typeface="BMWTypeCondensedRegula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MWTypeCondensedRegular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611440" y="203040"/>
            <a:ext cx="3921120" cy="182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MWTypeCondensedRegular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  <a:p>
            <a:pPr lvl="1" marL="457200" indent="0" algn="ctr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BMWTypeCondensedRegular"/>
            </a:endParaRPr>
          </a:p>
          <a:p>
            <a:pPr lvl="2" marL="914400" algn="ctr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  <a:p>
            <a:pPr lvl="3" marL="1371600" algn="ctr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  <a:p>
            <a:pPr lvl="4" marL="1828800" algn="ctr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1800" y="2717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SID Update</a:t>
            </a:r>
            <a:endParaRPr b="0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8840" y="4566960"/>
            <a:ext cx="8234280" cy="149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Edmund Hautmann</a:t>
            </a:r>
            <a:endParaRPr b="1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Regular"/>
              </a:rPr>
              <a:t>BMW Group</a:t>
            </a:r>
            <a:endParaRPr b="1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MWTypeCondensedRegular"/>
              </a:rPr>
              <a:t>On behalf of the WorldSID Task Group</a:t>
            </a:r>
            <a:endParaRPr b="1" lang="en-US" sz="1800" spc="-1" strike="noStrike">
              <a:solidFill>
                <a:srgbClr val="ffffff"/>
              </a:solidFill>
              <a:latin typeface="BMWTypeCondensed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BMWTypeCondensed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MWTypeCondensedRegular"/>
              </a:rPr>
              <a:t>3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BMWTypeCondensedRegular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BMWTypeCondensedRegular"/>
              </a:rPr>
              <a:t> GRSP Session</a:t>
            </a:r>
            <a:endParaRPr b="1" lang="en-US" sz="1800" spc="-1" strike="noStrike">
              <a:solidFill>
                <a:srgbClr val="ffffff"/>
              </a:solidFill>
              <a:latin typeface="BMWTypeCondensed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MWTypeCondensedRegular"/>
              </a:rPr>
              <a:t>Geneva, December 8-12, 2003</a:t>
            </a:r>
            <a:endParaRPr b="1" lang="en-US" sz="1800" spc="-1" strike="noStrike">
              <a:solidFill>
                <a:srgbClr val="ffffff"/>
              </a:solidFill>
              <a:latin typeface="BMWTypeCondensed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90" name=""/>
          <p:cNvSpPr/>
          <p:nvPr/>
        </p:nvSpPr>
        <p:spPr>
          <a:xfrm>
            <a:off x="7097760" y="363600"/>
            <a:ext cx="2046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BMWTypeCondensedRegular"/>
              </a:rPr>
              <a:t>Informal document No. G</a:t>
            </a:r>
            <a:r>
              <a:rPr b="0" lang="en-GB" sz="1000" spc="-1" strike="noStrike">
                <a:solidFill>
                  <a:srgbClr val="000000"/>
                </a:solidFill>
                <a:latin typeface="BMWTypeCondensedRegular"/>
              </a:rPr>
              <a:t>RSP-34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92040"/>
            <a:ext cx="2438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ff3300"/>
                </a:solidFill>
                <a:uFillTx/>
                <a:latin typeface="Times New Roman"/>
              </a:rPr>
              <a:t>Informal document No.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 GRSP-34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genda item A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Tes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MVSS 201 p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MVSS 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LIN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ECE-R-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EURO-NCAP 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EURO-NCAP 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IIHS 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IHRA proposed oblique 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1240" indent="-10044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Analysis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920" indent="-1252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920" indent="-1252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920" indent="-1252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920" indent="-1252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hicle Tes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06520" y="153360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hicle Tes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44" name=""/>
          <p:cNvSpPr/>
          <p:nvPr/>
        </p:nvSpPr>
        <p:spPr>
          <a:xfrm>
            <a:off x="476280" y="114768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US LINCAP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MWTypeCondensedRegular"/>
              </a:rPr>
              <a:t>Crabbed b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MWTypeCondensedRegular"/>
              </a:rPr>
              <a:t>62 km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03400" y="1698480"/>
            <a:ext cx="218880" cy="628920"/>
            <a:chOff x="1103400" y="1698480"/>
            <a:chExt cx="218880" cy="628920"/>
          </a:xfrm>
        </p:grpSpPr>
        <p:sp>
          <p:nvSpPr>
            <p:cNvPr id="146" name=""/>
            <p:cNvSpPr/>
            <p:nvPr/>
          </p:nvSpPr>
          <p:spPr>
            <a:xfrm>
              <a:off x="1103400" y="1698480"/>
              <a:ext cx="218880" cy="252720"/>
            </a:xfrm>
            <a:prstGeom prst="ellipse">
              <a:avLst/>
            </a:prstGeom>
            <a:solidFill>
              <a:srgbClr val="450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03400" y="2075040"/>
              <a:ext cx="218880" cy="252360"/>
            </a:xfrm>
            <a:prstGeom prst="ellipse">
              <a:avLst/>
            </a:prstGeom>
            <a:solidFill>
              <a:srgbClr val="521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Two repeat ECE-R-95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62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hicle Tes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4360" y="2014560"/>
            <a:ext cx="6562800" cy="304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30640" y="3083040"/>
            <a:ext cx="5745240" cy="3016080"/>
          </a:xfrm>
          <a:prstGeom prst="rect">
            <a:avLst/>
          </a:prstGeom>
          <a:ln w="25560">
            <a:solidFill>
              <a:srgbClr val="b01de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33440" y="2235240"/>
            <a:ext cx="134604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36960" y="2063880"/>
            <a:ext cx="498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BMWTypeCondensedRegular"/>
              </a:rPr>
              <a:t>Thoracic spine accleration at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32080" y="3263760"/>
            <a:ext cx="1219320" cy="2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98920" y="3116160"/>
            <a:ext cx="5159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BMWTypeCondensedRegular"/>
              </a:rPr>
              <a:t>Thoracic spine accleration at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Two repeat ECE-R-95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62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hicle Tes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" y="2013120"/>
            <a:ext cx="6256440" cy="332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1680" y="2987640"/>
            <a:ext cx="5712120" cy="3117960"/>
          </a:xfrm>
          <a:prstGeom prst="rect">
            <a:avLst/>
          </a:prstGeom>
          <a:ln w="25560">
            <a:solidFill>
              <a:srgbClr val="b01de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547560" y="2235240"/>
            <a:ext cx="1941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86080" y="3232080"/>
            <a:ext cx="18939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2068560"/>
            <a:ext cx="467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BMWTypeCondensedRegular"/>
              </a:rPr>
              <a:t>Middle thoracic rib d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99440" y="3049560"/>
            <a:ext cx="491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00"/>
                </a:solidFill>
                <a:latin typeface="BMWTypeCondensedRegular"/>
              </a:rPr>
              <a:t>Upper thoracic rib 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2360" y="139680"/>
            <a:ext cx="8107200" cy="6070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WorldSID kinematic in 201 po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MWTypeCondensedRegular"/>
              </a:rPr>
              <a:t>Shoulder shrugs and f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hicle Tes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To date 52 sled tests condu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DC (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ACEA -SIBER (Fiat, Pors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SIBER  (MI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MWTypeCondensedRegular"/>
              </a:rPr>
              <a:t>Analysis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Sensitivity (impact location, offset, impact 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Repea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Repro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-14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000" indent="-1198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– Sled Testing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Verification tests conducted by world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Repea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Develop verification test corri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6200" indent="-2286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rification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0400" y="3538440"/>
            <a:ext cx="7419600" cy="1492200"/>
            <a:chOff x="860400" y="3538440"/>
            <a:chExt cx="7419600" cy="1492200"/>
          </a:xfrm>
        </p:grpSpPr>
        <p:sp>
          <p:nvSpPr>
            <p:cNvPr id="172" name=""/>
            <p:cNvSpPr/>
            <p:nvPr/>
          </p:nvSpPr>
          <p:spPr>
            <a:xfrm>
              <a:off x="3948120" y="3538440"/>
              <a:ext cx="1251720" cy="596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400" y="4230720"/>
              <a:ext cx="7419600" cy="79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BMWTypeCondensedRegular"/>
                </a:rPr>
                <a:t>Proposed corridors available in January 200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string%20pot%201" descr=""/>
          <p:cNvPicPr/>
          <p:nvPr/>
        </p:nvPicPr>
        <p:blipFill>
          <a:blip r:embed="rId1"/>
          <a:stretch/>
        </p:blipFill>
        <p:spPr>
          <a:xfrm>
            <a:off x="4618080" y="1317600"/>
            <a:ext cx="4429080" cy="336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Design Improvemen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76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Rib dou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5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Minimize rib inver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5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Reduce stress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Replace IR-Tracc with string 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Rubber covered rib s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280" indent="-1825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Protect string 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3360" y="4452840"/>
            <a:ext cx="5721120" cy="1492200"/>
            <a:chOff x="603360" y="4452840"/>
            <a:chExt cx="5721120" cy="1492200"/>
          </a:xfrm>
        </p:grpSpPr>
        <p:sp>
          <p:nvSpPr>
            <p:cNvPr id="178" name=""/>
            <p:cNvSpPr/>
            <p:nvPr/>
          </p:nvSpPr>
          <p:spPr>
            <a:xfrm>
              <a:off x="2984400" y="4452840"/>
              <a:ext cx="965160" cy="596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360" y="5145120"/>
              <a:ext cx="5721120" cy="79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BMWTypeCondensedRegular"/>
                </a:rPr>
                <a:t>Improve shoulder dur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32560" y="2354040"/>
            <a:ext cx="2893320" cy="1746000"/>
            <a:chOff x="5632560" y="2354040"/>
            <a:chExt cx="2893320" cy="1746000"/>
          </a:xfrm>
        </p:grpSpPr>
        <p:sp>
          <p:nvSpPr>
            <p:cNvPr id="181" name=""/>
            <p:cNvSpPr/>
            <p:nvPr/>
          </p:nvSpPr>
          <p:spPr>
            <a:xfrm flipV="1">
              <a:off x="5632560" y="4094640"/>
              <a:ext cx="513000" cy="5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286480" y="2354040"/>
              <a:ext cx="239400" cy="4755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 flipV="1">
            <a:off x="7487280" y="3513240"/>
            <a:ext cx="522720" cy="672120"/>
          </a:xfrm>
          <a:prstGeom prst="line">
            <a:avLst/>
          </a:prstGeom>
          <a:ln w="20304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43760" y="2310480"/>
            <a:ext cx="948600" cy="760680"/>
            <a:chOff x="6143760" y="2310480"/>
            <a:chExt cx="948600" cy="760680"/>
          </a:xfrm>
        </p:grpSpPr>
        <p:sp>
          <p:nvSpPr>
            <p:cNvPr id="185" name=""/>
            <p:cNvSpPr/>
            <p:nvPr/>
          </p:nvSpPr>
          <p:spPr>
            <a:xfrm flipH="1" flipV="1">
              <a:off x="6143760" y="2649960"/>
              <a:ext cx="284040" cy="4212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820200" y="2310480"/>
              <a:ext cx="272160" cy="4269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6828840" y="2818440"/>
            <a:ext cx="408600" cy="3308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126480" y="2340720"/>
            <a:ext cx="948600" cy="760680"/>
            <a:chOff x="6126480" y="2340720"/>
            <a:chExt cx="948600" cy="760680"/>
          </a:xfrm>
        </p:grpSpPr>
        <p:sp>
          <p:nvSpPr>
            <p:cNvPr id="189" name=""/>
            <p:cNvSpPr/>
            <p:nvPr/>
          </p:nvSpPr>
          <p:spPr>
            <a:xfrm flipH="1" flipV="1">
              <a:off x="6126480" y="2680200"/>
              <a:ext cx="284040" cy="4212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6802920" y="2340720"/>
              <a:ext cx="272160" cy="4269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ISO documentation to support G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7040" indent="-1454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January 3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BMWTypeCondensedRegular"/>
              </a:rPr>
              <a:t>th</a:t>
            </a: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: ISO/WD 15830-Rev 1 to ISO/TC22/SC12/WG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0520" indent="-1162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Request for consensus and comments no later as March 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BMWTypeCondensedRegular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0520" indent="-116280">
              <a:lnSpc>
                <a:spcPct val="10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7040" indent="-1454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April 2004: ISO/WD 15830 -Rev 2 to ISO/TC22/SC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0520" indent="-1162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Start process for ISO/CD 158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50520" indent="-116280">
              <a:lnSpc>
                <a:spcPct val="10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7040" indent="-1454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Autumn 2004: ISO/CD 15830 to ISO/TC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50520" indent="-1162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Start process for ISO DIS 158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7040" indent="-1454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Documentation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6280" y="4800600"/>
            <a:ext cx="8172360" cy="1492200"/>
            <a:chOff x="476280" y="4800600"/>
            <a:chExt cx="8172360" cy="1492200"/>
          </a:xfrm>
        </p:grpSpPr>
        <p:sp>
          <p:nvSpPr>
            <p:cNvPr id="194" name=""/>
            <p:cNvSpPr/>
            <p:nvPr/>
          </p:nvSpPr>
          <p:spPr>
            <a:xfrm>
              <a:off x="4102200" y="4800600"/>
              <a:ext cx="965160" cy="596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6280" y="5492880"/>
              <a:ext cx="8172360" cy="79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BMWTypeCondensedRegular"/>
                </a:rPr>
                <a:t>ISO 15830  available by end of 200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Injury risk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2840" indent="-1940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ISO/TC22/SC12/WG5 resolution to request ISO/TC22/SC12/WG6 to develop injury risk curves for the World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Seating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2840" indent="-1940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ISO/TC22/SC12/WG5 resolution to request ISO/TC22/SC10 to develop a seating procedure for the World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Other Activitie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BMWTypeCondensedRegular"/>
              </a:rPr>
              <a:t>Outline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Organization/Participants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Dummy Purchase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World Evaluation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Design Improvements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Documentation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Other Activities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MWTypeCondensedRegular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Complete biofidelity testing and analysis               Dec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Complete vehicle and sled test analysis                        January 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Complete accident reconstruction tests                      January 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Production design sign off                                             January 2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BMWTypeCondensedRegular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Production release into public domain                        March 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BMWTypeCondensedRegular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WorldSID La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360" indent="-1170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World-presentation showing the physical dummy and accompanied evaluation results in May/Jun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360" indent="-1170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Separate regional launches including full scal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Timeline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200" name=""/>
          <p:cNvSpPr/>
          <p:nvPr/>
        </p:nvSpPr>
        <p:spPr>
          <a:xfrm>
            <a:off x="6197760" y="1511280"/>
            <a:ext cx="0" cy="2249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P-WS-no-suit-bench_1" descr=""/>
          <p:cNvPicPr/>
          <p:nvPr/>
        </p:nvPicPr>
        <p:blipFill>
          <a:blip r:embed="rId1"/>
          <a:stretch/>
        </p:blipFill>
        <p:spPr>
          <a:xfrm>
            <a:off x="2238480" y="2100240"/>
            <a:ext cx="4700520" cy="44784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72680" y="2031480"/>
            <a:ext cx="8234280" cy="1714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MWTypeCondensedRegular"/>
              </a:rPr>
              <a:t>Thank you !</a:t>
            </a: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MWTypeCondensedRegular"/>
              </a:rPr>
              <a:t>www.worldsid.org</a:t>
            </a:r>
            <a:endParaRPr b="1" lang="en-US" sz="3200" spc="-1" strike="noStrike">
              <a:solidFill>
                <a:srgbClr val="ffffff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Background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Justification</a:t>
            </a: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lvl="1" marL="857160" indent="-285480"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Enhanced side occupant protection</a:t>
            </a:r>
            <a:endParaRPr b="0" lang="en-US" sz="2400" spc="-1" strike="noStrike">
              <a:solidFill>
                <a:srgbClr val="ffff00"/>
              </a:solidFill>
              <a:latin typeface="BMWTypeCondensedRegular"/>
            </a:endParaRPr>
          </a:p>
          <a:p>
            <a:pPr lvl="2" marL="1276200" indent="-228600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Improvement of side impact dummy biofidelity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  <a:p>
            <a:pPr lvl="1" marL="857160" indent="-285480"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Harmonization</a:t>
            </a:r>
            <a:endParaRPr b="0" lang="en-US" sz="2400" spc="-1" strike="noStrike">
              <a:solidFill>
                <a:srgbClr val="ffff00"/>
              </a:solidFill>
              <a:latin typeface="BMWTypeCondensedRegular"/>
            </a:endParaRPr>
          </a:p>
          <a:p>
            <a:pPr lvl="2" marL="1276200" indent="-228600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No biomechanical reason for having different dummies in different markets – no corresponding safety benefit</a:t>
            </a:r>
            <a:endParaRPr b="0" lang="en-US" sz="2000" spc="-1" strike="noStrike">
              <a:solidFill>
                <a:srgbClr val="ffff00"/>
              </a:solidFill>
              <a:latin typeface="BMWTypeCondensedRegula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MWTypeCondensedRegular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125000"/>
              <a:buFont typeface="BMWTypeCondensed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3573360"/>
            <a:ext cx="8172360" cy="28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  <a:ea typeface="Times New Roman"/>
              </a:rPr>
              <a:t>Worldwide program to design, develop, fabricate and test a mid-sized male side impact dum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  <a:ea typeface="Times New Roman"/>
              </a:rPr>
              <a:t>ISO TR 9790 Biofidelity classification: good to excel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  <a:ea typeface="Times New Roman"/>
              </a:rPr>
              <a:t>Design documentation public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Organization/Participan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125000"/>
              <a:buFont typeface="BMWTypeCondensed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4040" y="993600"/>
          <a:ext cx="756756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993600"/>
                    <a:ext cx="756756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76280" y="1504800"/>
            <a:ext cx="81723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Organizations from around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Agencies, research institutes,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A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A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Autol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A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B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B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CE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DaimlerChrys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DOTRS –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Participan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125000"/>
              <a:buFont typeface="BMWTypeCondensed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8680" y="2422440"/>
            <a:ext cx="1924200" cy="482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IN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J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JM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1800" y="2419200"/>
            <a:ext cx="2122560" cy="527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M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NH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Nis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OS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P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P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Pors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Ren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SIBER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000" y="56815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* EC Spons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5040" y="2324160"/>
            <a:ext cx="2340000" cy="527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2840" y="2419200"/>
            <a:ext cx="2543400" cy="527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oy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ransport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Vol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V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76280" y="1076400"/>
            <a:ext cx="8667720" cy="43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3 dummies in the Asia/Pacific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oy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Nis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3 dummies in the Europea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SIBER (AC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P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V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5 dummies in the America’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OSRP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Ford Moto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Transport Canad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9880" indent="-27972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Dummy Purchase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61880" y="5334120"/>
            <a:ext cx="8172360" cy="1136160"/>
            <a:chOff x="461880" y="5334120"/>
            <a:chExt cx="8172360" cy="1136160"/>
          </a:xfrm>
        </p:grpSpPr>
        <p:sp>
          <p:nvSpPr>
            <p:cNvPr id="113" name=""/>
            <p:cNvSpPr/>
            <p:nvPr/>
          </p:nvSpPr>
          <p:spPr>
            <a:xfrm>
              <a:off x="4087800" y="5334120"/>
              <a:ext cx="9651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1880" y="5670360"/>
              <a:ext cx="8172360" cy="79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BMWTypeCondensedRegular"/>
                </a:rPr>
                <a:t>Worldwide evaluation test progr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ISO TR 9790 testing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Transport Canada, OS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S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IHRA proposed tests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SIBER (BASt, T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No current ranking scheme for I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4600" indent="-12780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880" indent="-1598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Biofidelity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11800" y="2025720"/>
            <a:ext cx="3622680" cy="33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98400" y="2054160"/>
          <a:ext cx="8089920" cy="340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400" y="2054160"/>
                    <a:ext cx="808992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085760" y="3376440"/>
            <a:ext cx="522468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523880"/>
                <a:tab algn="l" pos="2857680"/>
                <a:tab algn="l" pos="4292640"/>
                <a:tab algn="l" pos="4381560"/>
                <a:tab algn="l" pos="5626080"/>
                <a:tab algn="l" pos="666756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MWTypeCondensedRegular"/>
              </a:rPr>
              <a:t>WorldSID   </a:t>
            </a:r>
            <a:r>
              <a:rPr b="1" i="1" lang="en-US" sz="2400" spc="-1" strike="noStrike">
                <a:solidFill>
                  <a:srgbClr val="ff0000"/>
                </a:solidFill>
                <a:latin typeface="BMWTypeCondensedRegular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BMWTypeCondensedRegular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BMWTypeCondensedRegular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523880"/>
                <a:tab algn="l" pos="2857680"/>
                <a:tab algn="l" pos="4292640"/>
                <a:tab algn="l" pos="4381560"/>
                <a:tab algn="l" pos="5626080"/>
                <a:tab algn="l" pos="666756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00640" y="3376440"/>
            <a:ext cx="7254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523880"/>
                <a:tab algn="l" pos="2857680"/>
                <a:tab algn="l" pos="4292640"/>
                <a:tab algn="l" pos="4381560"/>
                <a:tab algn="l" pos="5626080"/>
                <a:tab algn="l" pos="666756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84240" y="1687680"/>
            <a:ext cx="7842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1816200"/>
                <a:tab algn="l" pos="3149640"/>
                <a:tab algn="l" pos="4762440"/>
                <a:tab algn="l" pos="6286680"/>
                <a:tab algn="l" pos="723888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MWTypeCondensedRegular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1816200"/>
                <a:tab algn="l" pos="3149640"/>
                <a:tab algn="l" pos="4762440"/>
                <a:tab algn="l" pos="6286680"/>
                <a:tab algn="l" pos="723888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MWTypeCondensedRegular"/>
              </a:rPr>
              <a:t>          </a:t>
            </a:r>
            <a:r>
              <a:rPr b="1" i="1" lang="en-US" sz="1400" spc="-1" strike="noStrike">
                <a:solidFill>
                  <a:srgbClr val="ffffff"/>
                </a:solidFill>
                <a:latin typeface="BMWTypeCondensedRegular"/>
              </a:rPr>
              <a:t>unacceptable </a:t>
            </a:r>
            <a:r>
              <a:rPr b="1" i="1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BMWTypeCondensedRegular"/>
              </a:rPr>
              <a:t>                marginal                                  fair                                                 good                          excellent</a:t>
            </a:r>
            <a:endParaRPr b="0" lang="en-US" sz="1400" spc="-1" strike="noStrike">
              <a:solidFill>
                <a:srgbClr val="ffffff"/>
              </a:solidFill>
              <a:latin typeface="BMWTypeCondensedRegular"/>
            </a:endParaRPr>
          </a:p>
          <a:p>
            <a:pPr marL="305280" indent="0">
              <a:spcBef>
                <a:spcPts val="125"/>
              </a:spcBef>
              <a:buNone/>
              <a:tabLst>
                <a:tab algn="l" pos="0"/>
                <a:tab algn="l" pos="1816200"/>
                <a:tab algn="l" pos="3149640"/>
                <a:tab algn="l" pos="4762440"/>
                <a:tab algn="l" pos="6286680"/>
                <a:tab algn="l" pos="723888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MWTypeCondensedRegular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1816200"/>
                <a:tab algn="l" pos="3149640"/>
                <a:tab algn="l" pos="4762440"/>
                <a:tab algn="l" pos="6286680"/>
                <a:tab algn="l" pos="723888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0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2,6 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4,4 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6,5 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8,6 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BMWTypeCondensedRegular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1816200"/>
                <a:tab algn="l" pos="3149640"/>
                <a:tab algn="l" pos="4762440"/>
                <a:tab algn="l" pos="6286680"/>
                <a:tab algn="l" pos="723888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MWTypeCondensedRegular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BMWTypeCondensedRegular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22400" y="3987720"/>
            <a:ext cx="3565440" cy="1152720"/>
            <a:chOff x="1022400" y="3987720"/>
            <a:chExt cx="3565440" cy="1152720"/>
          </a:xfrm>
        </p:grpSpPr>
        <p:pic>
          <p:nvPicPr>
            <p:cNvPr id="124" name="eurosid%20clear%20black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512160" y="3987720"/>
              <a:ext cx="49644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22400" y="4345920"/>
              <a:ext cx="3565440" cy="347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523880"/>
                  <a:tab algn="l" pos="2857680"/>
                  <a:tab algn="l" pos="4292640"/>
                  <a:tab algn="l" pos="4381560"/>
                  <a:tab algn="l" pos="5626080"/>
                  <a:tab algn="l" pos="6667560"/>
                  <a:tab algn="l" pos="7531200"/>
                  <a:tab algn="l" pos="79884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ES-2  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    4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022400" y="4594320"/>
            <a:ext cx="2152440" cy="1441440"/>
            <a:chOff x="1022400" y="4594320"/>
            <a:chExt cx="2152440" cy="1441440"/>
          </a:xfrm>
        </p:grpSpPr>
        <p:pic>
          <p:nvPicPr>
            <p:cNvPr id="127" name="dotsid" descr=""/>
            <p:cNvPicPr/>
            <p:nvPr/>
          </p:nvPicPr>
          <p:blipFill>
            <a:blip r:embed="rId5"/>
            <a:srcRect l="0" t="0" r="45038" b="0"/>
            <a:stretch/>
          </p:blipFill>
          <p:spPr>
            <a:xfrm>
              <a:off x="1979280" y="4594320"/>
              <a:ext cx="5205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022400" y="4874040"/>
              <a:ext cx="2152440" cy="355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523880"/>
                  <a:tab algn="l" pos="2857680"/>
                  <a:tab algn="l" pos="4292640"/>
                  <a:tab algn="l" pos="4381560"/>
                  <a:tab algn="l" pos="5626080"/>
                  <a:tab algn="l" pos="6667560"/>
                  <a:tab algn="l" pos="7531200"/>
                  <a:tab algn="l" pos="79884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DOT-SID           2,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Biofidelity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  <p:sp>
        <p:nvSpPr>
          <p:cNvPr id="130" name=""/>
          <p:cNvSpPr/>
          <p:nvPr/>
        </p:nvSpPr>
        <p:spPr>
          <a:xfrm>
            <a:off x="476280" y="1504800"/>
            <a:ext cx="8667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Highest ISO TR 9790 Biofidelity Rating for World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15160" y="3386160"/>
            <a:ext cx="7254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523880"/>
                <a:tab algn="l" pos="2857680"/>
                <a:tab algn="l" pos="4292640"/>
                <a:tab algn="l" pos="4381560"/>
                <a:tab algn="l" pos="5626080"/>
                <a:tab algn="l" pos="666756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MWTypeCondensedRegular"/>
              </a:rPr>
              <a:t>7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523880"/>
                <a:tab algn="l" pos="2857680"/>
                <a:tab algn="l" pos="4292640"/>
                <a:tab algn="l" pos="4381560"/>
                <a:tab algn="l" pos="5626080"/>
                <a:tab algn="l" pos="6667560"/>
                <a:tab algn="l" pos="7531200"/>
                <a:tab algn="l" pos="79884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22400" y="3506760"/>
            <a:ext cx="5224320" cy="1165320"/>
            <a:chOff x="1022400" y="3506760"/>
            <a:chExt cx="5224320" cy="1165320"/>
          </a:xfrm>
        </p:grpSpPr>
        <p:sp>
          <p:nvSpPr>
            <p:cNvPr id="133" name=""/>
            <p:cNvSpPr/>
            <p:nvPr/>
          </p:nvSpPr>
          <p:spPr>
            <a:xfrm>
              <a:off x="1022400" y="3876120"/>
              <a:ext cx="5224320" cy="347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523880"/>
                  <a:tab algn="l" pos="2857680"/>
                  <a:tab algn="l" pos="4292640"/>
                  <a:tab algn="l" pos="4381560"/>
                  <a:tab algn="l" pos="5626080"/>
                  <a:tab algn="l" pos="6667560"/>
                  <a:tab algn="l" pos="7531200"/>
                  <a:tab algn="l" pos="79884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BioSID  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BMWTypeCondensedRegular"/>
                </a:rPr>
                <a:t>                       5,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1523880"/>
                  <a:tab algn="l" pos="2857680"/>
                  <a:tab algn="l" pos="4292640"/>
                  <a:tab algn="l" pos="4381560"/>
                  <a:tab algn="l" pos="5626080"/>
                  <a:tab algn="l" pos="6667560"/>
                  <a:tab algn="l" pos="7531200"/>
                  <a:tab algn="l" pos="79884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biosid-3" descr=""/>
            <p:cNvPicPr/>
            <p:nvPr/>
          </p:nvPicPr>
          <p:blipFill>
            <a:blip r:embed="rId6"/>
            <a:stretch/>
          </p:blipFill>
          <p:spPr>
            <a:xfrm>
              <a:off x="4352040" y="3506760"/>
              <a:ext cx="410040" cy="116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965160" y="5316480"/>
            <a:ext cx="7145280" cy="1174680"/>
            <a:chOff x="965160" y="5316480"/>
            <a:chExt cx="7145280" cy="1174680"/>
          </a:xfrm>
        </p:grpSpPr>
        <p:sp>
          <p:nvSpPr>
            <p:cNvPr id="136" name=""/>
            <p:cNvSpPr/>
            <p:nvPr/>
          </p:nvSpPr>
          <p:spPr>
            <a:xfrm>
              <a:off x="3938760" y="5316480"/>
              <a:ext cx="1206360" cy="451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5160" y="5691240"/>
              <a:ext cx="7145280" cy="79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BMWTypeCondensedRegular"/>
                </a:rPr>
                <a:t>Production version is expected to do even bet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6280" y="1504800"/>
            <a:ext cx="86677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To date 16 full scale crash t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Transport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ACEA -SIB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10480" indent="-914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BMWTypeCondensedRegular"/>
              </a:rPr>
              <a:t>Volvo, LAB-Utac, BMW, DC, VW, Fiat, Aud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MWTypeCondensedRegular"/>
              </a:rPr>
              <a:t>Further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Ford in Nov/Dec ´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Ford Australia in Nov/Dec ´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Accident reconstruction tests at BASt in Jan ´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720" indent="-11412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MWTypeCondensedRegular"/>
              </a:rPr>
              <a:t>JMLIT in Feb/March ´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MWTypeCondensedRegular"/>
              </a:rPr>
              <a:t>World Evaluation - Vehicle Tests</a:t>
            </a:r>
            <a:endParaRPr b="1" lang="en-US" sz="4800" spc="-1" strike="noStrike">
              <a:solidFill>
                <a:srgbClr val="ffff00"/>
              </a:solidFill>
              <a:latin typeface="BMWTypeCondensedRegular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23:43:56Z</dcterms:created>
  <dc:creator/>
  <dc:description/>
  <dc:language>en-US</dc:language>
  <cp:lastModifiedBy>Juan Ramos</cp:lastModifiedBy>
  <dcterms:modified xsi:type="dcterms:W3CDTF">2004-01-28T16:08:33Z</dcterms:modified>
  <cp:revision>478</cp:revision>
  <dc:subject/>
  <dc:title>WorldSID-Prototype Demonstration Workshop</dc:title>
</cp:coreProperties>
</file>