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E47-A37D-43FA-9EC6-012BCD26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180-4CAC-4029-A5A0-A92971A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160-A854-4A6C-BD06-2A49063B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139-1549-4849-BACA-B5AA0444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C96-9F79-4F6D-9A09-8152AF50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C3C-583F-4AA5-8F73-1785DA1B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EED-BA3D-44E4-AA35-AD6E3D2A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8FD-BE50-462D-9990-F217F342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243-956E-405A-83D6-3AA7ECC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3B5-DBE9-4FC8-BCA3-64D51AA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A70-7113-4048-A783-FB7FF5C6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91F-A9DC-4FEE-BF2A-345A6AA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7A40-4586-49D8-95BC-91944E8ADD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GTR for motorcycle bra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eliminary report from the Informa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56/GRRF, 2004/09/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Arial"/>
              </a:rPr>
              <a:t>Motorcycle GTR: background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998 Global Agreement – IMMA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46/GRRF (Sept 1999): project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51/GRRF: IMMA presented severity comparison + outline of G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eptember 2002: Canada becomes the GTR spon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ne 2003: Informal group se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Arial"/>
              </a:rPr>
              <a:t>Motorcycle GTR: background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Members: Canada, USA, Italy, Japan, India, IMMA and F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2003: 1st Informal group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004: 2nd Informal group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 2004: Preliminary report to GRR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2004: Preliminary report to AC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gulations consider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E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 FMVSS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an’s JSS 12-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agreement between IMMA and USA/Canada severity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d Informal group (April 2004) meeting able to agree the technical basis for the GTR and to appoint a draft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echnical basis: gener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e results of the severity compa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perience with repeatablity/practic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 combination of concepts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CE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MVSS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JSS 12-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echnical basis: te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y stop te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den: single brake tests following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aden: both brakes together, 100 km/h, following FMV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speed tes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160 km/h, to meet 5,8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llowing JSS and FMV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t fade tes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llowing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t tes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llowing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h45 tonight: GTR text group m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/11/08-10: 3rd Informal group meeting in Montreal,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phase 2 of the USA/Canadian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progress with the GTR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the basis for the cost/effectivenes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 schedu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7/GRR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resentation of the detailed table of technical proposals:  discussion/agreement (working version already on the UN webs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8/GRR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there is agreement at 57/GRRF, presentation of the draft GTR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/effectiveness study by 2005/12/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pproval of the GTR text by GRRF: preparation of the official technical report and final GTR text for AC3 and presentation in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14:12:34Z</dcterms:created>
  <dc:creator>IMMA</dc:creator>
  <dc:description/>
  <dc:language>en-US</dc:language>
  <cp:lastModifiedBy>Rogers</cp:lastModifiedBy>
  <dcterms:modified xsi:type="dcterms:W3CDTF">2004-09-24T12:31:27Z</dcterms:modified>
  <cp:revision>8</cp:revision>
  <dc:subject/>
  <dc:title>Slide 1</dc:title>
</cp:coreProperties>
</file>