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0BA-BA57-4BB7-A827-78A509C4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CABC-3426-4DF5-95E1-BC1528CF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706-660F-488E-90B0-49BBDFC3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B73-9D09-4D62-A66E-25A40B6C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996C-5DF6-4715-9F8B-60368B15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E77-B270-4F62-AC05-FD043C0C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E9B-F47A-4243-A7B4-6E2BDEBD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252-CD47-4BD1-B706-1AD11AD7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B3E-EE79-4141-B3E4-CDF96CA4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25F9-931D-4193-8F59-35225D5B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D38D-A151-483B-8625-FBF0DB86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1ED-A230-4584-A755-C93E8008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2F4E-06FB-4D3C-8384-029CC941D3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GTR for motorcycle brak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eliminary report from the Informal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56/GRRF, 2004/09/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Arial"/>
              </a:rPr>
              <a:t>Motorcycle GTR: background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1998 Global Agreement – IMMA prio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46/GRRF (Sept 1999): project int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51/GRRF: IMMA presented severity comparison + outline of GT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eptember 2002: Canada becomes the GTR spon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ne 2003: Informal group set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Arial"/>
              </a:rPr>
              <a:t>Motorcycle GTR: background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Members: Canada, USA, Italy, Japan, India, IMMA and F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 2003: 1st Informal group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004: 2nd Informal group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 2004: Preliminary report to GRR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ber 2004: Preliminary report to AC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gulations considere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E R7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 FMVSS 1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pan’s JSS 12-6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agreement between IMMA and USA/Canada severity assess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nd Informal group (April 2004) meeting able to agree the technical basis for the GTR and to appoint a draft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technical basis: gener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Based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he results of the severity compar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perience with repeatablity/practic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 combination of concepts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CE R7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MVSS 1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JSS 12-6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technical basis: tes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y stop tes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den: single brake tests following R7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laden: both brakes together, 100 km/h, following FMV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 speed test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160 km/h, to meet 5,8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llowing JSS and FMV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t fade test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llowing R7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t test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llowing R7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h45 tonight: GTR text group me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4/11/08-10: 3rd Informal group meeting in Montreal,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phase 2 of the USA/Canadian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progress with the GTR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the basis for the cost/effectiveness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uture schedu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7/GRR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presentation of the detailed table of technical proposals:  discussion/agreement (working version already on the UN websi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8/GRR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f there is agreement at 57/GRRF, presentation of the draft GTR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/effectiveness study by 2005/12/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pproval of the GTR text by GRRF: preparation of the official technical report and final GTR text for AC3 and presentation in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14:12:34Z</dcterms:created>
  <dc:creator>IMMA</dc:creator>
  <dc:description/>
  <dc:language>en-US</dc:language>
  <cp:lastModifiedBy>Rogers</cp:lastModifiedBy>
  <dcterms:modified xsi:type="dcterms:W3CDTF">2004-09-24T12:31:27Z</dcterms:modified>
  <cp:revision>8</cp:revision>
  <dc:subject/>
  <dc:title>Slide 1</dc:title>
</cp:coreProperties>
</file>