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EC7-C8F7-4F58-AE46-FD6068FC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8E5-11D4-42D0-AFDD-274D17B0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3A2-AD03-43E7-86F1-7943628A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7DB-B5C3-419C-94DE-E75446EF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865-7BE1-46E0-B743-8659E9BE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E8D-9A00-406F-AB8B-D25F4B6E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CF8-2B71-45BA-A814-5C172BA2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4C5-4DB7-4B65-A6CE-2BBD35D1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6F5-FB27-4DF8-8FF4-3A792B2B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E0B-5C96-47A1-8BCE-04CEE2BC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399-CD18-438B-ABBA-942955EE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EC0-33C9-4DBE-9A69-50F82F65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5C8A-D544-4D21-9E40-5C0DA8532F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4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92428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 hoc working group of GR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chnical University of Bud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nd 27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ov.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80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cument No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SC04-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osophy of Stability Contro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415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quirements for stability 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’s intention must be followed in every situation, which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ystem intervenes if the driver cannot control the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ptimal vehicle behavior is calculated from a reference model based on the measured driver’s in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vention should minimize the error between the measured and the calculated (optimal)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 silent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527280" cy="249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578560" y="4097160"/>
                <a:ext cx="18651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Δ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ψ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Δ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Δψ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Δψ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877160" y="447840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47040" y="4640400"/>
            <a:ext cx="31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5589720"/>
            <a:ext cx="504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ide derived from lecture Prof. Palkovics at 56th GR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ical State of art for existing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f physical state variables of motor vehicle (and traile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driver intention for direction (Steering wheel ang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driver intention longitudinal dynamics (speed, Bra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single wheel speeds via ABS-sensors (slip in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yaw-r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lateral acceler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State of Art for Existing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tro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braking of single wheels (or ax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engine pow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steering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or vehicl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irectional and roll stabilit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i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roll stabilit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36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quipme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th EV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ssenger- and Light Commercial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middle and high class passenger vehicles up to 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Van-type vehicles comm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vy Commercial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possibility for vehicles with electronicaly controlled    pneumatic braking systems (EP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Single Units (2- and 3 axle busses with EP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Tractors for semitrailers (today 2 axle vehicles with EP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Semitrailers (Roll-over stability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for a general equipment of CV‘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hicles with conventional brak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EVSC as add -on device including ABS for medium and heavy vehicles not yet available (in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EVSC for full-trailers not yet available (compatibility in combinations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sible Equipment of Commercial Vehicle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For HCV restricted to vehicles with electronicaly controlled pneumatic braking systems (E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Single Units (2- and 3 axle busses with E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Tractors for semitrailers (today 2 axle vehicles with E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Semitrailers (Roll-over stability control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eting EVSC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ronic vehicle stabi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xt steps for introduction of EV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. Question, i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quipment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 on a voluntary basis (with incentive excemption from R.111) 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as a mandatory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hicles for the transport of dangerous goods (A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tractors for semitrailers for category FL and OX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semitrailers with tanks for the transport of dangerous goods (FL and OX- vehic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Single Unit tank vehicles AD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quipment of long distance Touring Busses and C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 2 and 3 axle Busses with electronicaly controlled braking systems (E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quipment of light commerial vehicles &gt;3,5t to 5t (Category N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ehicles of Van-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G. Heess, DC AG, 19.11.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16:22:17Z</dcterms:created>
  <dc:creator>DaimlerChrysler</dc:creator>
  <dc:description/>
  <dc:language>en-US</dc:language>
  <cp:lastModifiedBy>Enonler</cp:lastModifiedBy>
  <dcterms:modified xsi:type="dcterms:W3CDTF">2005-01-12T09:17:06Z</dcterms:modified>
  <cp:revision>7</cp:revision>
  <dc:subject/>
  <dc:title>1st meeting EVSC electronic vehicle stability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96410148</vt:r8>
  </property>
  <property fmtid="{D5CDD505-2E9C-101B-9397-08002B2CF9AE}" pid="3" name="_AuthorEmail">
    <vt:lpwstr>consult@clepa.be</vt:lpwstr>
  </property>
  <property fmtid="{D5CDD505-2E9C-101B-9397-08002B2CF9AE}" pid="4" name="_AuthorEmailDisplayName">
    <vt:lpwstr>Roland Gillebeert</vt:lpwstr>
  </property>
  <property fmtid="{D5CDD505-2E9C-101B-9397-08002B2CF9AE}" pid="5" name="_EmailSubject">
    <vt:lpwstr>EVSC meetings </vt:lpwstr>
  </property>
</Properties>
</file>