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25B2-6F24-4CD3-9A76-E3947D96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F8D9-72A7-410C-B637-BAD15298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33CD-D77D-43A5-B3B4-85FE5E09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50BB-02A3-4203-A282-93547967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3D21-489A-4988-9CA4-3CB08AF6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0537-76D5-4046-B85F-61770F5E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87AA-EF20-47ED-9FAB-5CB67674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4B72-64A4-4310-8CBA-54380F41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90CD-81F5-4D98-A95E-CE3AA5FE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59D7-3299-459D-A9C0-FE0DB29D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B430-F0F8-4204-B25C-FE955573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E039-B74F-4680-81FF-1208ECF9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AC1D-8D5A-4302-869C-612FE32A166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4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meeting EVSC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lectronic vehicle stabi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2924280"/>
            <a:ext cx="64008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d hoc working group of GR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echnical University of Budap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ung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and 27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Nov.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380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cument No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VSC04-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G. Heess, DC AG, 19.11.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losophy of Stability Contro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280" y="981000"/>
            <a:ext cx="415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quirements for stability syst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’s intention must be followed in every situation, which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ystem intervenes if the driver cannot control the sit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ptimal vehicle behavior is calculated from a reference model based on the measured driver’s int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tervention should minimize the error between the measured and the calculated (optimal)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 silent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92720" y="1197000"/>
            <a:ext cx="3527280" cy="2495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578560" y="4097160"/>
                <a:ext cx="186516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ψ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ψ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v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Δ</m:t>
                              </m:r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ψ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t xml:space="preserve">Δ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ψ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v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v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Δψ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Δψ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7877160" y="4478400"/>
            <a:ext cx="81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47040" y="4640400"/>
            <a:ext cx="31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5589720"/>
            <a:ext cx="504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lide derived from lecture Prof. Palkovics at 56th GR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G. Heess, DC AG, 19.11.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eting EVSC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ectronic vehicle stabi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chnical State of art for existing sys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asurem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of physical state variables of motor vehicle (and trailer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driver intention for direction (Steering wheel ang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driver intention longitudinal dynamics (speed, Brak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single wheel speeds via ABS-sensors (slip inform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yaw-rat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lateral acceleratio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G. Heess, DC AG, 19.11.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eting EVSC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lectronic vehicle stabi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cal State of Art for Existing Sy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ntrol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braking of single wheels (or ax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engine power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steering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or vehicle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directional and roll stability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rai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roll stability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G. Heess, DC AG, 19.11.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36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eeting EVSC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electronic vehicle stabi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quipmen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ith EVS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ssenger- and Light Commercial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middle and high class passenger vehicles up to 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Van-type vehicles comm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avy Commercial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possibility for vehicles with electronicaly controlled    pneumatic braking systems (EP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Single Units (2- and 3 axle busses with EP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Tractors for semitrailers (today 2 axle vehicles with EP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Semitrailers (Roll-over stability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G. Heess, DC AG, 19.11.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eting EVSC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ectronic vehicle stabi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n questions for a general equipment of CV‘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hicles with conventional braking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EVSC as add -on device including ABS for medium and heavy vehicles not yet available (in develop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EVSC for full-trailers not yet available (compatibility in combinations 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ssible Equipment of Commercial Vehicle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For HCV restricted to vehicles with electronicaly controlled pneumatic braking systems (EP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Single Units (2- and 3 axle busses with EP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Tractors for semitrailers (today 2 axle vehicles with EP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Semitrailers (Roll-over stability control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G. Heess, DC AG, 19.11.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eting EVSC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lectronic vehicle stabi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xt steps for introduction of EVS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. Question, i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quipment should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  on a voluntary basis (with incentive excemption from R.111) 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 as a mandatory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hicles for the transport of dangerous goods (A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tractors for semitrailers for category FL and OX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semitrailers with tanks for the transport of dangerous goods (FL and OX- vehic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Single Unit tank vehicles AD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quipment of long distance Touring Busses and C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 2 and 3 axle Busses with electronicaly controlled braking systems (E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quipment of light commerial vehicles &gt;3,5t to 5t (Category N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ehicles of Van-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G. Heess, DC AG, 19.11.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9T16:22:17Z</dcterms:created>
  <dc:creator>DaimlerChrysler</dc:creator>
  <dc:description/>
  <dc:language>en-US</dc:language>
  <cp:lastModifiedBy>Enonler</cp:lastModifiedBy>
  <dcterms:modified xsi:type="dcterms:W3CDTF">2005-01-12T09:17:06Z</dcterms:modified>
  <cp:revision>7</cp:revision>
  <dc:subject/>
  <dc:title>1st meeting EVSC electronic vehicle stability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96410148</vt:r8>
  </property>
  <property fmtid="{D5CDD505-2E9C-101B-9397-08002B2CF9AE}" pid="3" name="_AuthorEmail">
    <vt:lpwstr>consult@clepa.be</vt:lpwstr>
  </property>
  <property fmtid="{D5CDD505-2E9C-101B-9397-08002B2CF9AE}" pid="4" name="_AuthorEmailDisplayName">
    <vt:lpwstr>Roland Gillebeert</vt:lpwstr>
  </property>
  <property fmtid="{D5CDD505-2E9C-101B-9397-08002B2CF9AE}" pid="5" name="_EmailSubject">
    <vt:lpwstr>EVSC meetings </vt:lpwstr>
  </property>
</Properties>
</file>