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23E-9947-41BD-8692-0ED1C28C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4E8-C75C-4DDD-B8DA-62CABEC7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99A-01A2-4EF1-91C4-EB7AB928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B71-DDB0-419E-B90A-46A6791D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B234-BA68-4436-8EBA-4C802135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A6A3-576C-44C1-92C8-DC544A9A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ADE8-B100-486E-A1F2-8F3F8C88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CB7D-C9B3-47A6-B0F7-F6CD008F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219E-ADC9-43C8-8F2F-734F1345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AB81-696C-475C-8B09-963F7ED2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3602-0FA7-49DF-98D2-F74F02F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C6E-EDDE-4388-9BD6-84C81E3D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63D-562B-427C-91BB-80438E4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0F0A-A3CC-49E5-AC70-9F7D4088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E2F0-0C4B-4F56-8277-9D446A05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0709-29E8-4C08-A1D9-3D768630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AC4B-D4FF-46E9-ADD1-383A79C8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C91-DB0F-4631-A80C-BA4284A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D4B-E4E1-482F-926D-49D7BA1E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A05-FE97-4CE5-99C9-4F8E827D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9E6-62D5-40E6-B2FA-4D2E181C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760-9806-4FF3-95CE-D9178B65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007-EF9E-4DBC-8C38-E848F46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406-228F-4028-9678-7A966545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1D94-4B2C-4131-8E44-5715B6A68483}" type="slidenum">
              <a:rPr b="0" lang="hu-H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129-C853-4E69-927A-F3AB5073B05A}" type="slidenum">
              <a:rPr b="0" lang="hu-H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9ff99"/>
                </a:solidFill>
                <a:latin typeface="Arial Narrow"/>
              </a:rPr>
              <a:t>Electronic Vehicle Stability Control Systems </a:t>
            </a:r>
            <a:r>
              <a:rPr b="1" lang="hu-HU" sz="3600" spc="-1" strike="noStrike">
                <a:solidFill>
                  <a:srgbClr val="ffff99"/>
                </a:solidFill>
                <a:latin typeface="Arial Narrow"/>
              </a:rPr>
              <a:t>EVSC…in what regulation to be considered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6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8672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20040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Possible Accomodation in Existing Regulations and Uncovered Area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943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.2004   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5105520"/>
            <a:ext cx="533520" cy="304560"/>
          </a:xfrm>
          <a:prstGeom prst="leftRightArrow">
            <a:avLst>
              <a:gd name="adj1" fmla="val 50000"/>
              <a:gd name="adj2" fmla="val 34873"/>
            </a:avLst>
          </a:prstGeom>
          <a:solidFill>
            <a:srgbClr val="0099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952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Modular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952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Stand-Alone Regulati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172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.2004   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0958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90920"/>
            <a:ext cx="822960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Approval of systems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(which systems?)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/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whole vehic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Scope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(passenger car         heavy vehicle        combination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2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7524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447920"/>
            <a:ext cx="7391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What</a:t>
            </a: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 should be accomodated in </a:t>
            </a:r>
            <a:r>
              <a:rPr b="1" lang="hu-HU" sz="2800" spc="-1" strike="noStrike">
                <a:solidFill>
                  <a:srgbClr val="00ccff"/>
                </a:solidFill>
                <a:latin typeface="Arial"/>
              </a:rPr>
              <a:t>what</a:t>
            </a: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desired output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main contentual componen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9718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9718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200400"/>
            <a:ext cx="396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EVSC specific definition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58128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Design requirements of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96252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Performance requirements of systems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34340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Interconnection of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72428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Performance requirements of vehicl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105520"/>
            <a:ext cx="601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Test methods of systems </a:t>
            </a: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(HIL etc…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281200">
            <a:off x="7276680" y="41526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5053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Full functionality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Failure mod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6640" y="5410080"/>
            <a:ext cx="249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(x-y-z coordinates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15000" y="3733920"/>
            <a:ext cx="838080" cy="45720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4191120"/>
            <a:ext cx="838080" cy="45720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105520"/>
            <a:ext cx="761760" cy="38088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562720" y="5486400"/>
            <a:ext cx="761760" cy="38088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33526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5867280"/>
            <a:ext cx="281952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320" y="5486400"/>
            <a:ext cx="32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Test methods of vehicl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105520"/>
            <a:ext cx="289584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51055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~ ISO method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HNORDQ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28800" cy="843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867280"/>
            <a:ext cx="474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601992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895480" y="4724280"/>
            <a:ext cx="144792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3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648320"/>
            <a:ext cx="380880" cy="22860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6576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723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8480" y="1523880"/>
            <a:ext cx="82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Possible Accomodation in Existing Regulation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590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Reg.13/09 (Braking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209680"/>
            <a:ext cx="236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vehicle approv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304812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97180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Reg.79/01s3 (Steering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209680"/>
            <a:ext cx="23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system approv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2590920"/>
            <a:ext cx="297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YES - brake approv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5909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test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report poss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9718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YES - steering appr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29718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test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report poss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20968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ffcc"/>
                </a:solidFill>
                <a:latin typeface="Arial"/>
              </a:rPr>
              <a:t>Focusing to systems: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42900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ffcc"/>
                </a:solidFill>
                <a:latin typeface="Arial"/>
              </a:rPr>
              <a:t>Focusing to whole vehicle performance: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26708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Reg.111/00 (Tank vehicle rollover stability)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620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9966"/>
                </a:solidFill>
                <a:latin typeface="Arial"/>
              </a:rPr>
              <a:t>Reg.107/01 (Buses, under reconsideration)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342900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STABILITY (static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2670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major aspect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88620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minor aspect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648320"/>
            <a:ext cx="144756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480060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CAN PROVIDE THE ARBITRARY BASIS FOR A STAND-ALONE EVSC REGULATION, SCOPE MAY BE CHANGED. A TOTAL REDRAFTING IS NECESSARY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8672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648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4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76920"/>
            <a:ext cx="236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0000" y="60948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1371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Where to modify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2200" y="1905120"/>
            <a:ext cx="26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ccff"/>
                </a:solidFill>
                <a:uFillTx/>
                <a:latin typeface="Arial"/>
              </a:rPr>
              <a:t>Reg.13/09 (Braking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9640" y="1905120"/>
            <a:ext cx="307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ccff"/>
                </a:solidFill>
                <a:uFillTx/>
                <a:latin typeface="Arial"/>
              </a:rPr>
              <a:t>Reg.79/01s3 (Steering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28600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2. Definit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3. Application for approv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5. Specificat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Annex 2. Communica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Annexes……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NEW Annex 16. or 21.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ff99"/>
                </a:solidFill>
                <a:latin typeface="Arial"/>
              </a:rPr>
              <a:t>„</a:t>
            </a:r>
            <a:r>
              <a:rPr b="1" lang="hu-HU" sz="2000" spc="-1" strike="noStrike">
                <a:solidFill>
                  <a:srgbClr val="99ff99"/>
                </a:solidFill>
                <a:latin typeface="Arial"/>
              </a:rPr>
              <a:t>Special requirements for vehicles equipped with EVSC…”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228600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2. Definit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3. Application for approv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5. Construction provis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6. Test provis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Annex 1. Communica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NEW Annex 7.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ff99"/>
                </a:solidFill>
                <a:latin typeface="Arial"/>
              </a:rPr>
              <a:t>„</a:t>
            </a:r>
            <a:r>
              <a:rPr b="1" lang="hu-HU" sz="2000" spc="-1" strike="noStrike">
                <a:solidFill>
                  <a:srgbClr val="99ff99"/>
                </a:solidFill>
                <a:latin typeface="Arial"/>
              </a:rPr>
              <a:t>Special requirements for vehicles equipped with EVSC…”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9000">
            <a:off x="4607640" y="1180080"/>
            <a:ext cx="191880" cy="7810560"/>
          </a:xfrm>
          <a:custGeom>
            <a:avLst/>
            <a:gdLst>
              <a:gd name="textAreaLeft" fmla="*/ 0 w 191880"/>
              <a:gd name="textAreaRight" fmla="*/ 69120 w 191880"/>
              <a:gd name="textAreaTop" fmla="*/ 203400 h 7810560"/>
              <a:gd name="textAreaBottom" fmla="*/ 7607160 h 781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1560" y="5257800"/>
            <a:ext cx="811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MAKES A SEPARATE EVSC REGULATION SUPERFLUOUS?</a:t>
            </a:r>
            <a:r>
              <a:rPr b="0" i="1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8672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3200400"/>
            <a:ext cx="129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657600"/>
            <a:ext cx="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57200" y="3657600"/>
            <a:ext cx="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5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8760" y="160020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Uncovered Area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362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9966"/>
                </a:solidFill>
                <a:latin typeface="Arial"/>
              </a:rPr>
              <a:t>Systems acting directly for stability enhancement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49568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9966"/>
                </a:solidFill>
                <a:latin typeface="Arial"/>
              </a:rPr>
              <a:t>Functions of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20040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ffcc"/>
                </a:solidFill>
                <a:latin typeface="Arial"/>
              </a:rPr>
              <a:t>interactio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9625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suspensio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320040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driver assistanc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358128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pre-crash system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5486040" y="32767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11400">
            <a:off x="4267080" y="388584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267080" y="25146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20040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braking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3581280"/>
            <a:ext cx="117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steering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514600"/>
            <a:ext cx="24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9966"/>
                </a:solidFill>
                <a:latin typeface="Arial"/>
              </a:rPr>
              <a:t>other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952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ANY FUNCTION RESULTING FROM THE COOPERATION OF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360" y="4343400"/>
            <a:ext cx="171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powertrain..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34340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396252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ACC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60958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49528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523880"/>
            <a:ext cx="8001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6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6172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.2004   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213372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Approaches from</a:t>
            </a: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 minimal 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to</a:t>
            </a: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maximal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74320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no special EVSC approv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20040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extension of 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brake and steering approvals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as far as these systems are concerned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(like in slide 4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5640" y="28828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274320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special EVSC approval possibl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267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MODULAR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3124080"/>
            <a:ext cx="914400" cy="15264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5812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VERTIC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200400"/>
            <a:ext cx="2971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hu-HU" sz="2200" spc="-1" strike="noStrike">
                <a:solidFill>
                  <a:srgbClr val="ff00ff"/>
                </a:solidFill>
                <a:latin typeface="Arial"/>
              </a:rPr>
              <a:t>EVSC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: definitions, vehicle performance, CEL, references..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hu-HU" sz="2200" spc="-1" strike="noStrike">
                <a:solidFill>
                  <a:srgbClr val="ff9966"/>
                </a:solidFill>
                <a:latin typeface="Arial"/>
              </a:rPr>
              <a:t>any other system    </a:t>
            </a:r>
            <a:r>
              <a:rPr b="0" lang="hu-HU" sz="2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9966"/>
                </a:solidFill>
                <a:latin typeface="Arial"/>
              </a:rPr>
              <a:t>appr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257800"/>
            <a:ext cx="51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STAND-ALONE EVSC APPROVAL 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for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34120" y="5028840"/>
            <a:ext cx="0" cy="30492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5029200"/>
            <a:ext cx="533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648320"/>
            <a:ext cx="443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 Reg. CEVCS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? (GRRF 56. I-25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95288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HORIZONT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3352680"/>
            <a:ext cx="0" cy="22860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541044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924320" y="3124080"/>
            <a:ext cx="762120" cy="15264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352680"/>
            <a:ext cx="0" cy="99072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15400" y="3886200"/>
            <a:ext cx="0" cy="16002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314840" y="5486400"/>
            <a:ext cx="1600200" cy="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886200"/>
            <a:ext cx="26668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124080"/>
            <a:ext cx="81532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15400" y="3124080"/>
            <a:ext cx="0" cy="76212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581280"/>
            <a:ext cx="12952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3886200"/>
            <a:ext cx="228600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5105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growth of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190760" y="5562720"/>
            <a:ext cx="1143000" cy="15228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562720"/>
            <a:ext cx="1143000" cy="15228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5638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Arial"/>
              </a:rPr>
              <a:t>vehicle typ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5638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3581280"/>
            <a:ext cx="26668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191120"/>
            <a:ext cx="26668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038120" y="5654160"/>
            <a:ext cx="48006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53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61722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7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600200"/>
            <a:ext cx="784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981080"/>
            <a:ext cx="8534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Like: Reg.10/02 (EMC), Complex Electronic Vehicle Control   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System concept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2666880"/>
            <a:ext cx="457200" cy="76320"/>
          </a:xfrm>
          <a:custGeom>
            <a:avLst/>
            <a:gdLst>
              <a:gd name="textAreaLeft" fmla="*/ 0 w 457200"/>
              <a:gd name="textAreaRight" fmla="*/ 164880 w 457200"/>
              <a:gd name="textAreaTop" fmla="*/ 1800 h 76320"/>
              <a:gd name="textAreaBottom" fmla="*/ 7452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A New Horizontal Regulation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228600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34340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For </a:t>
            </a: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EVSC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system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approval:</a:t>
            </a: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desirable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3124080"/>
            <a:ext cx="624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Brake, steering</a:t>
            </a:r>
            <a:r>
              <a:rPr b="0" lang="hu-HU" sz="2200" spc="-1" strike="noStrike">
                <a:solidFill>
                  <a:srgbClr val="ccff99"/>
                </a:solidFill>
                <a:latin typeface="Arial"/>
              </a:rPr>
              <a:t>: extended functionality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276720"/>
            <a:ext cx="75960" cy="914400"/>
          </a:xfrm>
          <a:custGeom>
            <a:avLst/>
            <a:gdLst>
              <a:gd name="textAreaLeft" fmla="*/ 0 w 75960"/>
              <a:gd name="textAreaRight" fmla="*/ 2736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228600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4648320"/>
            <a:ext cx="228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666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For </a:t>
            </a:r>
            <a:r>
              <a:rPr b="0" lang="hu-HU" sz="2200" spc="-1" strike="noStrike">
                <a:solidFill>
                  <a:srgbClr val="ff00ff"/>
                </a:solidFill>
                <a:latin typeface="Arial"/>
              </a:rPr>
              <a:t>vehicle type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approval: may be omitted in the first phase.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9360" y="6248520"/>
            <a:ext cx="82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50532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hu-HU" sz="2200" spc="-1" strike="noStrike">
                <a:solidFill>
                  <a:srgbClr val="ccff99"/>
                </a:solidFill>
                <a:latin typeface="Arial"/>
              </a:rPr>
              <a:t>Supplementary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00ff"/>
                </a:solidFill>
                <a:latin typeface="Arial"/>
              </a:rPr>
              <a:t>EVSC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ccff99"/>
                </a:solidFill>
                <a:latin typeface="Arial"/>
              </a:rPr>
              <a:t>vehicle approval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9560" y="3886200"/>
            <a:ext cx="247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CEVSC </a:t>
            </a:r>
            <a:r>
              <a:rPr b="0" lang="hu-HU" sz="2200" spc="-1" strike="noStrike">
                <a:solidFill>
                  <a:srgbClr val="ccff99"/>
                </a:solidFill>
                <a:latin typeface="Arial"/>
              </a:rPr>
              <a:t>approval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840" y="3276720"/>
            <a:ext cx="220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99"/>
                </a:solidFill>
                <a:latin typeface="Arial"/>
              </a:rPr>
              <a:t>Composition of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99"/>
                </a:solidFill>
                <a:latin typeface="Arial"/>
              </a:rPr>
              <a:t>single approval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8480" y="4800600"/>
            <a:ext cx="766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The composition of single approvals, granted to the vehicle,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is not appropriate; test reports based on provisions of single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regulations may be utilized, if they are modified accordingly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8672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648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8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4876920"/>
            <a:ext cx="236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666880"/>
            <a:ext cx="8637480" cy="1191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0000" y="60948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11:43:16Z</dcterms:created>
  <dc:creator>Brett Gábor</dc:creator>
  <dc:description/>
  <dc:language>en-US</dc:language>
  <cp:lastModifiedBy>Enonler</cp:lastModifiedBy>
  <cp:lastPrinted>2004-11-21T14:20:19Z</cp:lastPrinted>
  <dcterms:modified xsi:type="dcterms:W3CDTF">2005-01-12T09:10:42Z</dcterms:modified>
  <cp:revision>328</cp:revision>
  <dc:subject/>
  <dc:title>What_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91189961</vt:r8>
  </property>
  <property fmtid="{D5CDD505-2E9C-101B-9397-08002B2CF9AE}" pid="3" name="_AuthorEmail">
    <vt:lpwstr>consult@clepa.be</vt:lpwstr>
  </property>
  <property fmtid="{D5CDD505-2E9C-101B-9397-08002B2CF9AE}" pid="4" name="_AuthorEmailDisplayName">
    <vt:lpwstr>Roland Gillebeert</vt:lpwstr>
  </property>
  <property fmtid="{D5CDD505-2E9C-101B-9397-08002B2CF9AE}" pid="5" name="_EmailSubject">
    <vt:lpwstr>EVSC meetings </vt:lpwstr>
  </property>
</Properties>
</file>