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276-ED18-4408-8150-33036DFD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E19-41AB-4ACE-BC74-02C30D56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40A-B82A-4CF3-8188-B387F75D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998-8E8C-4398-B31A-6C6A7779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44AC-2714-4442-8EF9-B80E88DC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5D20-F631-49F1-8E7A-1E5039D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345E-46EF-4AD2-BA55-69D642F0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942A-C281-4A1E-BBEF-ED8C2DBD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0D52-89AB-4406-94CC-419B4FF5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E6B1-CA2B-4992-9B9D-0AFCBE68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A3F2-BFA2-4D83-9A26-C1F601B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A7D-B189-4F0E-9026-5ABCEB42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ACB9-245B-452F-BE7D-AB49692D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1945-2ACC-4B93-BE6E-48B81F65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9451-0E44-4D71-9791-71062E65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A593-B139-4480-B49B-D926C897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6841-F8A5-4668-8CA8-1E27BC75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2AB-B289-42A9-A7A4-493A1D19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981-3830-4051-AB08-61841AFD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47B-6260-482F-9256-EBA6196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D56-3A68-4BAA-8DD4-7DE4439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FB0-F124-48C7-BBC3-81BB7778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BAA-3051-4D8C-9D13-CE9A2107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8D7-6703-448D-B606-C618DA8D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EBEA-E858-4E96-B251-F03B8360EF99}" type="slidenum">
              <a:rPr b="0" lang="hu-H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48D6-61E0-4CB2-B424-B7BD70A90537}" type="slidenum">
              <a:rPr b="0" lang="hu-HU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9ff99"/>
                </a:solidFill>
                <a:latin typeface="Arial Narrow"/>
              </a:rPr>
              <a:t>Electronic Vehicle Stability Control Systems </a:t>
            </a:r>
            <a:r>
              <a:rPr b="1" lang="hu-HU" sz="3600" spc="-1" strike="noStrike">
                <a:solidFill>
                  <a:srgbClr val="ffff99"/>
                </a:solidFill>
                <a:latin typeface="Arial Narrow"/>
              </a:rPr>
              <a:t>EVSC…in what regulation to be considered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6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8672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20040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Possible Accomodation in Existing Regulations and Uncovered Area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943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.2004   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5105520"/>
            <a:ext cx="533520" cy="304560"/>
          </a:xfrm>
          <a:prstGeom prst="leftRightArrow">
            <a:avLst>
              <a:gd name="adj1" fmla="val 50000"/>
              <a:gd name="adj2" fmla="val 34873"/>
            </a:avLst>
          </a:prstGeom>
          <a:solidFill>
            <a:srgbClr val="0099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952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Modular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952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Stand-Alone Regulati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172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.2004   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0958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90920"/>
            <a:ext cx="822960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Approval of systems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(which systems?)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/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whole vehic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Scope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(passenger car         heavy vehicle        combination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2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7524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447920"/>
            <a:ext cx="7391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What</a:t>
            </a: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 should be accomodated in </a:t>
            </a:r>
            <a:r>
              <a:rPr b="1" lang="hu-HU" sz="2800" spc="-1" strike="noStrike">
                <a:solidFill>
                  <a:srgbClr val="00ccff"/>
                </a:solidFill>
                <a:latin typeface="Arial"/>
              </a:rPr>
              <a:t>what</a:t>
            </a: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ccff"/>
                </a:solidFill>
                <a:latin typeface="Arial"/>
              </a:rPr>
              <a:t>desired output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hu-HU" sz="2400" spc="-1" strike="noStrike">
                <a:solidFill>
                  <a:srgbClr val="ffffcc"/>
                </a:solidFill>
                <a:latin typeface="Arial"/>
              </a:rPr>
              <a:t> main contentual componen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9718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9718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200400"/>
            <a:ext cx="396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EVSC specific definition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58128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Design requirements of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96252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Performance requirements of systems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34340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Interconnection of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72428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Performance requirements of vehicl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105520"/>
            <a:ext cx="601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Test methods of systems </a:t>
            </a: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(HIL etc…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281200">
            <a:off x="7276680" y="41526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5053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Full functionality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Failure mod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6640" y="5410080"/>
            <a:ext cx="249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(x-y-z coordinates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15000" y="3733920"/>
            <a:ext cx="838080" cy="45720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4191120"/>
            <a:ext cx="838080" cy="45720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105520"/>
            <a:ext cx="761760" cy="38088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562720" y="5486400"/>
            <a:ext cx="761760" cy="38088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33526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5867280"/>
            <a:ext cx="281952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320" y="5486400"/>
            <a:ext cx="32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Test methods of vehicle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105520"/>
            <a:ext cx="289584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51055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~ ISO method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HNORDQ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28800" cy="843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867280"/>
            <a:ext cx="474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601992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895480" y="4724280"/>
            <a:ext cx="144792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3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648320"/>
            <a:ext cx="380880" cy="22860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6576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723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8480" y="1523880"/>
            <a:ext cx="82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Possible Accomodation in Existing Regulation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590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Reg.13/09 (Braking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209680"/>
            <a:ext cx="236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vehicle approv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304812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97180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Reg.79/01s3 (Steering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209680"/>
            <a:ext cx="236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system approv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2590920"/>
            <a:ext cx="297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YES - brake approv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5909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test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report poss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9718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YES - steering appr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29718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test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report poss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20968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ffcc"/>
                </a:solidFill>
                <a:latin typeface="Arial"/>
              </a:rPr>
              <a:t>Focusing to systems: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42900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ffcc"/>
                </a:solidFill>
                <a:latin typeface="Arial"/>
              </a:rPr>
              <a:t>Focusing to whole vehicle performance: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26708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Reg.111/00 (Tank vehicle rollover stability)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620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9966"/>
                </a:solidFill>
                <a:latin typeface="Arial"/>
              </a:rPr>
              <a:t>Reg.107/01 (Buses, under reconsideration)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342900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STABILITY (static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2670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major aspect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88620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ccecff"/>
                </a:solidFill>
                <a:latin typeface="Arial"/>
              </a:rPr>
              <a:t>minor aspect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648320"/>
            <a:ext cx="144756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480060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CAN PROVIDE THE ARBITRARY BASIS FOR A STAND-ALONE EVSC REGULATION, SCOPE MAY BE CHANGED. A TOTAL REDRAFTING IS NECESSARY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8672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648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4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76920"/>
            <a:ext cx="236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0000" y="60948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1371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Where to modify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2200" y="1905120"/>
            <a:ext cx="268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ccff"/>
                </a:solidFill>
                <a:uFillTx/>
                <a:latin typeface="Arial"/>
              </a:rPr>
              <a:t>Reg.13/09 (Braking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9640" y="1905120"/>
            <a:ext cx="307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 u="sng">
                <a:solidFill>
                  <a:srgbClr val="00ccff"/>
                </a:solidFill>
                <a:uFillTx/>
                <a:latin typeface="Arial"/>
              </a:rPr>
              <a:t>Reg.79/01s3 (Steering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28600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2. Definit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3. Application for approv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5. Specificat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Annex 2. Communica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Annexes……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NEW Annex 16. or 21.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ff99"/>
                </a:solidFill>
                <a:latin typeface="Arial"/>
              </a:rPr>
              <a:t>„</a:t>
            </a:r>
            <a:r>
              <a:rPr b="1" lang="hu-HU" sz="2000" spc="-1" strike="noStrike">
                <a:solidFill>
                  <a:srgbClr val="99ff99"/>
                </a:solidFill>
                <a:latin typeface="Arial"/>
              </a:rPr>
              <a:t>Special requirements for vehicles equipped with EVSC…”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228600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2. Definit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3. Application for approv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5. Construction provis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6. Test provisi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Annex 1. Communica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NEW Annex 7.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ff99"/>
                </a:solidFill>
                <a:latin typeface="Arial"/>
              </a:rPr>
              <a:t>„</a:t>
            </a:r>
            <a:r>
              <a:rPr b="1" lang="hu-HU" sz="2000" spc="-1" strike="noStrike">
                <a:solidFill>
                  <a:srgbClr val="99ff99"/>
                </a:solidFill>
                <a:latin typeface="Arial"/>
              </a:rPr>
              <a:t>Special requirements for vehicles equipped with EVSC…”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9000">
            <a:off x="4607640" y="1180080"/>
            <a:ext cx="191880" cy="7810560"/>
          </a:xfrm>
          <a:custGeom>
            <a:avLst/>
            <a:gdLst>
              <a:gd name="textAreaLeft" fmla="*/ 0 w 191880"/>
              <a:gd name="textAreaRight" fmla="*/ 69120 w 191880"/>
              <a:gd name="textAreaTop" fmla="*/ 203400 h 7810560"/>
              <a:gd name="textAreaBottom" fmla="*/ 7607160 h 781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1560" y="5257800"/>
            <a:ext cx="811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MAKES A SEPARATE EVSC REGULATION SUPERFLUOUS?</a:t>
            </a:r>
            <a:r>
              <a:rPr b="0" i="1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8672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3200400"/>
            <a:ext cx="129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657600"/>
            <a:ext cx="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57200" y="3657600"/>
            <a:ext cx="0" cy="18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5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8760" y="160020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Uncovered Area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362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9966"/>
                </a:solidFill>
                <a:latin typeface="Arial"/>
              </a:rPr>
              <a:t>Systems acting directly for stability enhancement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49568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9966"/>
                </a:solidFill>
                <a:latin typeface="Arial"/>
              </a:rPr>
              <a:t>Functions of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320040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ffcc"/>
                </a:solidFill>
                <a:latin typeface="Arial"/>
              </a:rPr>
              <a:t>interactio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9625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suspension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320040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driver assistanc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358128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pre-crash system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5486040" y="32767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11400">
            <a:off x="4267080" y="388584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267080" y="25146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320040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braking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3581280"/>
            <a:ext cx="117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steering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514600"/>
            <a:ext cx="24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ff9966"/>
                </a:solidFill>
                <a:latin typeface="Arial"/>
              </a:rPr>
              <a:t>other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952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ANY FUNCTION RESULTING FROM THE COOPERATION OF SYSTEM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360" y="4343400"/>
            <a:ext cx="171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powertrain..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34340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396252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ACC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60958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49528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523880"/>
            <a:ext cx="8001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6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6172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.2004   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213372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Approaches from</a:t>
            </a: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 minimal 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to</a:t>
            </a: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maximal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74320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no special EVSC approv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20040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extension of 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brake and steering approvals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as far as these systems are concerned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(like in slide 4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5640" y="28828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274320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special EVSC approval possible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267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MODULAR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3124080"/>
            <a:ext cx="914400" cy="15264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5812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VERTIC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200400"/>
            <a:ext cx="2971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hu-HU" sz="2200" spc="-1" strike="noStrike">
                <a:solidFill>
                  <a:srgbClr val="ff00ff"/>
                </a:solidFill>
                <a:latin typeface="Arial"/>
              </a:rPr>
              <a:t>EVSC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: definitions, vehicle performance, CEL, references..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hu-HU" sz="2200" spc="-1" strike="noStrike">
                <a:solidFill>
                  <a:srgbClr val="ff9966"/>
                </a:solidFill>
                <a:latin typeface="Arial"/>
              </a:rPr>
              <a:t>any other system    </a:t>
            </a:r>
            <a:r>
              <a:rPr b="0" lang="hu-HU" sz="22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9966"/>
                </a:solidFill>
                <a:latin typeface="Arial"/>
              </a:rPr>
              <a:t>appr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257800"/>
            <a:ext cx="51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STAND-ALONE EVSC APPROVAL 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for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34120" y="5028840"/>
            <a:ext cx="0" cy="30492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5029200"/>
            <a:ext cx="533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648320"/>
            <a:ext cx="443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 Reg. CEVCS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? (GRRF 56. I-25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95288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HORIZONTAL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3352680"/>
            <a:ext cx="0" cy="22860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181480"/>
            <a:ext cx="541044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924320" y="3124080"/>
            <a:ext cx="762120" cy="15264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352680"/>
            <a:ext cx="0" cy="99072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15400" y="3886200"/>
            <a:ext cx="0" cy="16002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314840" y="5486400"/>
            <a:ext cx="1600200" cy="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886200"/>
            <a:ext cx="26668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124080"/>
            <a:ext cx="81532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15400" y="3124080"/>
            <a:ext cx="0" cy="76212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581280"/>
            <a:ext cx="12952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3886200"/>
            <a:ext cx="228600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5105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growth of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190760" y="5562720"/>
            <a:ext cx="1143000" cy="15228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562720"/>
            <a:ext cx="1143000" cy="152280"/>
          </a:xfrm>
          <a:prstGeom prst="line">
            <a:avLst/>
          </a:prstGeom>
          <a:ln w="93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5638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Arial"/>
              </a:rPr>
              <a:t>vehicle typ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5638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3581280"/>
            <a:ext cx="26668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191120"/>
            <a:ext cx="2666880" cy="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038120" y="5654160"/>
            <a:ext cx="48006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53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61722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7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600200"/>
            <a:ext cx="784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981080"/>
            <a:ext cx="8534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Like: Reg.10/02 (EMC), Complex Electronic Vehicle Control   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System concept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2666880"/>
            <a:ext cx="457200" cy="76320"/>
          </a:xfrm>
          <a:custGeom>
            <a:avLst/>
            <a:gdLst>
              <a:gd name="textAreaLeft" fmla="*/ 0 w 457200"/>
              <a:gd name="textAreaRight" fmla="*/ 164880 w 457200"/>
              <a:gd name="textAreaTop" fmla="*/ 1800 h 76320"/>
              <a:gd name="textAreaBottom" fmla="*/ 7452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"/>
              </a:rPr>
              <a:t>A New Horizontal Regulation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228600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34340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For </a:t>
            </a: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EVSC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0000"/>
                </a:solidFill>
                <a:latin typeface="Arial"/>
              </a:rPr>
              <a:t>system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approval:</a:t>
            </a:r>
            <a:r>
              <a:rPr b="0" lang="hu-H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desirable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3124080"/>
            <a:ext cx="624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Brake, steering</a:t>
            </a:r>
            <a:r>
              <a:rPr b="0" lang="hu-HU" sz="2200" spc="-1" strike="noStrike">
                <a:solidFill>
                  <a:srgbClr val="ccff99"/>
                </a:solidFill>
                <a:latin typeface="Arial"/>
              </a:rPr>
              <a:t>: extended functionality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276720"/>
            <a:ext cx="75960" cy="914400"/>
          </a:xfrm>
          <a:custGeom>
            <a:avLst/>
            <a:gdLst>
              <a:gd name="textAreaLeft" fmla="*/ 0 w 75960"/>
              <a:gd name="textAreaRight" fmla="*/ 2736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228600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4648320"/>
            <a:ext cx="228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4560" y="68580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666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For </a:t>
            </a:r>
            <a:r>
              <a:rPr b="0" lang="hu-HU" sz="2200" spc="-1" strike="noStrike">
                <a:solidFill>
                  <a:srgbClr val="ff00ff"/>
                </a:solidFill>
                <a:latin typeface="Arial"/>
              </a:rPr>
              <a:t>vehicle type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 approval: may be omitted in the first phase.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9360" y="6248520"/>
            <a:ext cx="82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50532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hu-HU" sz="2200" spc="-1" strike="noStrike">
                <a:solidFill>
                  <a:srgbClr val="ccff99"/>
                </a:solidFill>
                <a:latin typeface="Arial"/>
              </a:rPr>
              <a:t>Supplementary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ff00ff"/>
                </a:solidFill>
                <a:latin typeface="Arial"/>
              </a:rPr>
              <a:t>EVSC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ccff99"/>
                </a:solidFill>
                <a:latin typeface="Arial"/>
              </a:rPr>
              <a:t>vehicle approval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9560" y="3886200"/>
            <a:ext cx="247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hu-HU" sz="2200" spc="-1" strike="noStrike">
                <a:solidFill>
                  <a:srgbClr val="00ccff"/>
                </a:solidFill>
                <a:latin typeface="Arial"/>
              </a:rPr>
              <a:t>CEVSC </a:t>
            </a:r>
            <a:r>
              <a:rPr b="0" lang="hu-HU" sz="2200" spc="-1" strike="noStrike">
                <a:solidFill>
                  <a:srgbClr val="ccff99"/>
                </a:solidFill>
                <a:latin typeface="Arial"/>
              </a:rPr>
              <a:t>approval</a:t>
            </a: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840" y="3276720"/>
            <a:ext cx="220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99"/>
                </a:solidFill>
                <a:latin typeface="Arial"/>
              </a:rPr>
              <a:t>Composition of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99"/>
                </a:solidFill>
                <a:latin typeface="Arial"/>
              </a:rPr>
              <a:t>single approvals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8480" y="4800600"/>
            <a:ext cx="766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The composition of single approvals, granted to the vehicle,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is not appropriate; test reports based on provisions of single 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99ff99"/>
                </a:solidFill>
                <a:latin typeface="Arial"/>
              </a:rPr>
              <a:t>regulations may be utilized, if they are modified accordingly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HNORDQ" descr=""/>
          <p:cNvPicPr/>
          <p:nvPr/>
        </p:nvPicPr>
        <p:blipFill>
          <a:blip r:embed="rId1"/>
          <a:stretch/>
        </p:blipFill>
        <p:spPr>
          <a:xfrm>
            <a:off x="7924680" y="30492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57200" y="137160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867280"/>
            <a:ext cx="8464680" cy="0"/>
          </a:xfrm>
          <a:prstGeom prst="line">
            <a:avLst/>
          </a:prstGeom>
          <a:ln w="507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648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cc"/>
                </a:solidFill>
                <a:latin typeface="Arial"/>
              </a:rPr>
              <a:t>8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4876920"/>
            <a:ext cx="236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666880"/>
            <a:ext cx="8637480" cy="1191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99"/>
                </a:solidFill>
                <a:latin typeface="Arial"/>
              </a:rPr>
              <a:t>THANK YOU FOR YOUR ATTENTION!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1143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cc"/>
                </a:solidFill>
                <a:latin typeface="Arial"/>
              </a:rPr>
              <a:t>TÜV NORD-KTI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ecff"/>
                </a:solidFill>
                <a:latin typeface="Arial"/>
              </a:rPr>
              <a:t>1st meeting, 25.11 2004    Gábor Brett  (+36-1-371-5950, brett@tuvnord.h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0000" y="60948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Arial"/>
              </a:rPr>
              <a:t>Document No.</a:t>
            </a: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ccecff"/>
                </a:solidFill>
                <a:latin typeface="Arial"/>
              </a:rPr>
              <a:t>EVSC04-0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11:43:16Z</dcterms:created>
  <dc:creator>Brett Gábor</dc:creator>
  <dc:description/>
  <dc:language>en-US</dc:language>
  <cp:lastModifiedBy>Enonler</cp:lastModifiedBy>
  <cp:lastPrinted>2004-11-21T14:20:19Z</cp:lastPrinted>
  <dcterms:modified xsi:type="dcterms:W3CDTF">2005-01-12T09:10:42Z</dcterms:modified>
  <cp:revision>328</cp:revision>
  <dc:subject/>
  <dc:title>What_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91189961</vt:r8>
  </property>
  <property fmtid="{D5CDD505-2E9C-101B-9397-08002B2CF9AE}" pid="3" name="_AuthorEmail">
    <vt:lpwstr>consult@clepa.be</vt:lpwstr>
  </property>
  <property fmtid="{D5CDD505-2E9C-101B-9397-08002B2CF9AE}" pid="4" name="_AuthorEmailDisplayName">
    <vt:lpwstr>Roland Gillebeert</vt:lpwstr>
  </property>
  <property fmtid="{D5CDD505-2E9C-101B-9397-08002B2CF9AE}" pid="5" name="_EmailSubject">
    <vt:lpwstr>EVSC meetings </vt:lpwstr>
  </property>
</Properties>
</file>