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501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85344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224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28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28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4520" y="452160"/>
            <a:ext cx="814068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224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1680" y="385344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224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016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8280" y="183816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168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016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8280" y="3853440"/>
            <a:ext cx="264564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452160"/>
            <a:ext cx="814068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2240" y="385344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2240" y="1838160"/>
            <a:ext cx="400968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853440"/>
            <a:ext cx="821700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6848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784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-317520"/>
            <a:ext cx="9144000" cy="765360"/>
            <a:chOff x="0" y="-317520"/>
            <a:chExt cx="9144000" cy="765360"/>
          </a:xfrm>
        </p:grpSpPr>
        <p:sp>
          <p:nvSpPr>
            <p:cNvPr id="3" name=""/>
            <p:cNvSpPr/>
            <p:nvPr/>
          </p:nvSpPr>
          <p:spPr>
            <a:xfrm>
              <a:off x="0" y="-12240"/>
              <a:ext cx="9144000" cy="4600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317520"/>
              <a:ext cx="9144000" cy="3207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1760" y="1068480"/>
            <a:ext cx="8442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43" name=""/>
            <p:cNvSpPr/>
            <p:nvPr/>
          </p:nvSpPr>
          <p:spPr>
            <a:xfrm>
              <a:off x="0" y="304920"/>
              <a:ext cx="9144000" cy="460080"/>
            </a:xfrm>
            <a:prstGeom prst="rect">
              <a:avLst/>
            </a:prstGeom>
            <a:solidFill>
              <a:srgbClr val="3ab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320760"/>
            </a:xfrm>
            <a:prstGeom prst="rect">
              <a:avLst/>
            </a:prstGeom>
            <a:solidFill>
              <a:srgbClr val="3ab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480" y="1031760"/>
            <a:ext cx="814068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nited Nations Round Table</a:t>
            </a:r>
            <a:br>
              <a:rPr sz="3600"/>
            </a:b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WP.29 Meeting – Novem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1680" y="220032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Harmonization of </a:t>
            </a:r>
            <a:br>
              <a:rPr sz="2800"/>
            </a:b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Regulations, Codes &amp; Standards (RC&amp;S)</a:t>
            </a:r>
            <a:br>
              <a:rPr sz="2800"/>
            </a:b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for Gaseous Fuels &amp; Vehic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d by Jeffrey Seisler, represen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uropean Natural Gas Vehicle Association (ENGVA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amp; the International Association for NGVs (IANG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ndy Dey (Global Cooperation Group),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national Standards Organisation (ISO)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P.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16720" y="203040"/>
            <a:ext cx="3120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P.29-13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13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P.29, 16-19 November 2004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enda item 10.2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3080" y="563400"/>
            <a:ext cx="84960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  <a:ea typeface="SimSun"/>
              </a:rPr>
              <a:t>Rationale for the Round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54000"/>
            <a:ext cx="777240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-1681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There are natural synergies between NGVs &amp; H2Vs (and their fuelling infrastructure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harmonization of RC&amp;S is a key factor in the introduction of hydrogen and hydrogen vehicles (H2Vs) into the market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SimSun"/>
              </a:rPr>
              <a:t>The development of the global natural gas vehicle (NGV) industry in the last two decades has resulted in a need to harmonize existing RC&amp;S developed in different countries and by different organizatio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52200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Scope of the Round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07732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SimSun"/>
              </a:rPr>
              <a:t>Global harmonization of RC&amp;S for gaseous fuels - which includes natural gas and hydrogen – and vehicles that use these fu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313920"/>
            <a:ext cx="824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articipants in the Round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40920"/>
            <a:ext cx="84582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SimSun"/>
              </a:rPr>
              <a:t>High Level Group on natural gas, hydrogen and fuel cell activities with participants represen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85000"/>
              </a:lnSpc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SimSun"/>
              </a:rPr>
              <a:t>Members of WP.29, including NGOs such as the International Organization of Motor Vehicle Manufacturers (OICA), ENGVA/IANGV, the International Organization for Standardization (ISO), the International Electrotechnical Commission (IEC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85000"/>
              </a:lnSpc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SimSun"/>
              </a:rPr>
              <a:t>Automotive and Infrastructure companies from Europe, Japan and the U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85000"/>
              </a:lnSpc>
              <a:spcBef>
                <a:spcPts val="8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SimSun"/>
              </a:rPr>
              <a:t>Global organizations such as the World Business Council for Sustainable Development (WBCSD), the International Association for Hydrogen Energy (IAHE) and the International Energy Agency (IEA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d Chairman: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SimSun"/>
              </a:rPr>
              <a:t>Mr. Bernard Gauv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545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Goals of the Round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90360"/>
            <a:ext cx="845820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63640" indent="-28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SimSun"/>
              </a:rPr>
              <a:t>Discuss the harmonization needs based on actual experie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SimSun"/>
              </a:rPr>
              <a:t>Present harmonization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SimSun"/>
              </a:rPr>
              <a:t>Reach an agreement on a path forward process for advancing harmonization of RC&amp;S for hydrogen and natural gas vehicl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520" y="45216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Harmonization strateg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1680" y="1838160"/>
            <a:ext cx="8217000" cy="38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-168120" algn="just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GVA/IANGV propos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68480" algn="just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ed at the 47</a:t>
            </a:r>
            <a:r>
              <a:rPr b="1" lang="en-CA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ssion of the GRPE on 16 January 2004 (see informal doc. No. GRPE-47-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just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operation Group (GCG)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684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, with a broad experience in consensus-building, which has been involved in the global harmonization of RC&amp;S in the field of hydrogen and fuel cell technologies since 20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684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ly involved in the harmonization of the SAEJ2600 and ISO/DIS 1726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240" y="807840"/>
            <a:ext cx="814068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 of the Round Tab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1600" y="1622160"/>
            <a:ext cx="864864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8120" indent="0" algn="just">
              <a:lnSpc>
                <a:spcPct val="85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presented in the form of recommendations to WP.29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5000"/>
              </a:lnSpc>
              <a:spcBef>
                <a:spcPts val="12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include a process for advancing harmonization of RC&amp;S for hydrogen and natural gas vehic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684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plan including milestones such as a standards gap analysis and identification &amp; prioritization of harmonization issues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5:23:32Z</dcterms:created>
  <dc:creator/>
  <dc:description/>
  <dc:language>en-US</dc:language>
  <cp:lastModifiedBy>Enonler</cp:lastModifiedBy>
  <cp:lastPrinted>2001-04-27T21:49:46Z</cp:lastPrinted>
  <dcterms:modified xsi:type="dcterms:W3CDTF">2004-11-04T13:11:43Z</dcterms:modified>
  <cp:revision>442</cp:revision>
  <dc:subject/>
  <dc:title>United Nations Round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0104712</vt:r8>
  </property>
  <property fmtid="{D5CDD505-2E9C-101B-9397-08002B2CF9AE}" pid="3" name="_AuthorEmail">
    <vt:lpwstr>randy@ccsglobal.com</vt:lpwstr>
  </property>
  <property fmtid="{D5CDD505-2E9C-101B-9397-08002B2CF9AE}" pid="4" name="_AuthorEmailDisplayName">
    <vt:lpwstr>Randy</vt:lpwstr>
  </property>
  <property fmtid="{D5CDD505-2E9C-101B-9397-08002B2CF9AE}" pid="5" name="_EmailSubject">
    <vt:lpwstr>UN Roundtable - Draft proposal and PP presentation.</vt:lpwstr>
  </property>
</Properties>
</file>