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5000" y="6407280"/>
            <a:ext cx="7570800" cy="220680"/>
          </a:xfrm>
          <a:custGeom>
            <a:avLst/>
            <a:gdLst/>
            <a:ahLst/>
            <a:rect l="l" t="t" r="r" b="b"/>
            <a:pathLst>
              <a:path w="4400" h="139">
                <a:moveTo>
                  <a:pt x="0" y="0"/>
                </a:moveTo>
                <a:lnTo>
                  <a:pt x="4399" y="0"/>
                </a:lnTo>
                <a:lnTo>
                  <a:pt x="4399" y="138"/>
                </a:lnTo>
                <a:lnTo>
                  <a:pt x="0" y="138"/>
                </a:lnTo>
                <a:lnTo>
                  <a:pt x="0" y="0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7240" y="6332400"/>
            <a:ext cx="7572600" cy="228600"/>
          </a:xfrm>
          <a:custGeom>
            <a:avLst/>
            <a:gdLst/>
            <a:ahLst/>
            <a:rect l="l" t="t" r="r" b="b"/>
            <a:pathLst>
              <a:path w="4403" h="144">
                <a:moveTo>
                  <a:pt x="0" y="0"/>
                </a:moveTo>
                <a:lnTo>
                  <a:pt x="4402" y="0"/>
                </a:lnTo>
                <a:lnTo>
                  <a:pt x="4402" y="143"/>
                </a:lnTo>
                <a:lnTo>
                  <a:pt x="0" y="14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0240" y="6324480"/>
            <a:ext cx="780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Bundesanstalt für Straßenwesen/Federal Highway Research Institute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www.bast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404200" y="5946840"/>
            <a:ext cx="1066680" cy="911880"/>
            <a:chOff x="8404200" y="5946840"/>
            <a:chExt cx="1066680" cy="911880"/>
          </a:xfrm>
        </p:grpSpPr>
        <p:sp>
          <p:nvSpPr>
            <p:cNvPr id="4" name=""/>
            <p:cNvSpPr/>
            <p:nvPr/>
          </p:nvSpPr>
          <p:spPr>
            <a:xfrm>
              <a:off x="8404200" y="6072120"/>
              <a:ext cx="0" cy="6573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470880" y="6048360"/>
              <a:ext cx="0" cy="6714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47040" y="5946840"/>
              <a:ext cx="3301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5400" spc="-1" strike="noStrike">
                  <a:solidFill>
                    <a:srgbClr val="00ae00"/>
                  </a:solidFill>
                  <a:latin typeface="Arial Narrow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24880" y="5946840"/>
              <a:ext cx="3301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5400" spc="-1" strike="noStrike">
                  <a:solidFill>
                    <a:srgbClr val="00ae00"/>
                  </a:solidFill>
                  <a:latin typeface="Arial Narrow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50320" y="5946840"/>
              <a:ext cx="3301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ae00"/>
                  </a:solidFill>
                  <a:latin typeface="Arial Narrow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32840" y="5946840"/>
              <a:ext cx="3301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ae00"/>
                  </a:solidFill>
                  <a:latin typeface="Arial Narrow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380880" y="380880"/>
            <a:ext cx="9144000" cy="38124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9524880" y="63244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BFE2E1-39F4-4707-9EB5-7425F32B1A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6920" y="1533600"/>
            <a:ext cx="970920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tivities of BASt in the area of 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r. Christhard Gel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undesanstalt für Straßenwesen/Federal Highway Research Institute (BA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epartment “Automotive Engineering”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it “Vehicle Safety Evaluation, Driver Assistance System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560" y="6407280"/>
            <a:ext cx="7570800" cy="220680"/>
          </a:xfrm>
          <a:custGeom>
            <a:avLst/>
            <a:gdLst/>
            <a:ahLst/>
            <a:rect l="l" t="t" r="r" b="b"/>
            <a:pathLst>
              <a:path w="4400" h="139">
                <a:moveTo>
                  <a:pt x="0" y="0"/>
                </a:moveTo>
                <a:lnTo>
                  <a:pt x="4399" y="0"/>
                </a:lnTo>
                <a:lnTo>
                  <a:pt x="4399" y="138"/>
                </a:lnTo>
                <a:lnTo>
                  <a:pt x="0" y="138"/>
                </a:lnTo>
                <a:lnTo>
                  <a:pt x="0" y="0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332400"/>
            <a:ext cx="7572240" cy="228600"/>
          </a:xfrm>
          <a:custGeom>
            <a:avLst/>
            <a:gdLst/>
            <a:ahLst/>
            <a:rect l="l" t="t" r="r" b="b"/>
            <a:pathLst>
              <a:path w="4403" h="144">
                <a:moveTo>
                  <a:pt x="0" y="0"/>
                </a:moveTo>
                <a:lnTo>
                  <a:pt x="4402" y="0"/>
                </a:lnTo>
                <a:lnTo>
                  <a:pt x="4402" y="143"/>
                </a:lnTo>
                <a:lnTo>
                  <a:pt x="0" y="14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" y="6324480"/>
            <a:ext cx="7802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e-mail: gelau@bast.de  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                 www.bast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402760" y="5946840"/>
            <a:ext cx="1066680" cy="911880"/>
            <a:chOff x="8402760" y="5946840"/>
            <a:chExt cx="1066680" cy="911880"/>
          </a:xfrm>
        </p:grpSpPr>
        <p:sp>
          <p:nvSpPr>
            <p:cNvPr id="55" name=""/>
            <p:cNvSpPr/>
            <p:nvPr/>
          </p:nvSpPr>
          <p:spPr>
            <a:xfrm>
              <a:off x="8402760" y="6072120"/>
              <a:ext cx="0" cy="6573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69440" y="6048360"/>
              <a:ext cx="0" cy="6714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45600" y="5946840"/>
              <a:ext cx="3301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5400" spc="-1" strike="noStrike">
                  <a:solidFill>
                    <a:srgbClr val="00ae00"/>
                  </a:solidFill>
                  <a:latin typeface="Arial Narrow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23440" y="5946840"/>
              <a:ext cx="3301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5400" spc="-1" strike="noStrike">
                  <a:solidFill>
                    <a:srgbClr val="00ae00"/>
                  </a:solidFill>
                  <a:latin typeface="Arial Narrow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48880" y="5946840"/>
              <a:ext cx="3301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ae00"/>
                  </a:solidFill>
                  <a:latin typeface="Arial Narrow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31400" y="5946840"/>
              <a:ext cx="3301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ae00"/>
                  </a:solidFill>
                  <a:latin typeface="Arial Narrow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676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Safety Working Group 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38088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in activities in the eSafety initi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1896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590920"/>
            <a:ext cx="8915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7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282600">
              <a:lnSpc>
                <a:spcPct val="10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, listing and clustering of HMI related problems from available Member State reports and other relevant sources, “Problem Statements” for each cluster elabo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282600">
              <a:lnSpc>
                <a:spcPct val="10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of a “Solution Matrix” (ongo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304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Activities in the International Harmonised Research Activities on ITS (IHRA-IT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819520"/>
            <a:ext cx="8305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07920" indent="-282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resentatives from Canada, France, Germany, Japan, Sweden, U.K., U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282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t contributes to regular activities (conceptual framework, workshops, survey of current research, priority proj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7524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orking Group IHRA-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304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Activities in the International Harmonised Research Activities on ITS (IHRA-IT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990720"/>
            <a:ext cx="8305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07920" indent="-282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048120"/>
            <a:ext cx="853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buClr>
                <a:srgbClr val="000000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int German/Swedish/Japanese project on secondary task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buClr>
                <a:srgbClr val="000000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essment of workload due to the use of in-vehicle information and communic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buClr>
                <a:srgbClr val="000000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s fit into the framework provided by projec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ke ADAM and CAMP (see 131st WP.29, Inf. Doc. No.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057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ority project: Development of a harmonised safety evaluation methodology frame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295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orking Group IHRA-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514600"/>
            <a:ext cx="76201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argeted at the assessment of safety-related effects of 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ority on HMI and the development of assessment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vide input for standardisation and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66840"/>
            <a:ext cx="8991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523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8088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ctivities of BASt in the area of 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2971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38088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ctivities of BASt in the area of 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90360" y="2971440"/>
            <a:ext cx="8496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Aft>
                <a:spcPts val="349"/>
              </a:spcAft>
              <a:buClr>
                <a:srgbClr val="000000"/>
              </a:buClr>
              <a:buFont typeface="Times New Roman"/>
              <a:buChar char="-"/>
              <a:tabLst>
                <a:tab algn="l" pos="10540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issues in the area of I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10540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in activities in the eSafety initia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000000"/>
              </a:buClr>
              <a:buFont typeface="Times New Roman"/>
              <a:buChar char="-"/>
              <a:tabLst>
                <a:tab algn="l" pos="10540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in activities in the International Harmonized Research Activities on ITS (IHRA-IT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10540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05740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8088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ctivities of BASt in the area of 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76520" y="3048120"/>
            <a:ext cx="60958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666720"/>
                <a:tab algn="l" pos="857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666720"/>
                <a:tab algn="l" pos="857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iver di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666720"/>
                <a:tab algn="l" pos="857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river workload, especially over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05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666720"/>
                <a:tab algn="l" pos="857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22860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rect safety risks, arising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8088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search issues in the area of 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19320" y="3124080"/>
            <a:ext cx="8076960" cy="17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666720"/>
                <a:tab algn="l" pos="857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666720"/>
                <a:tab algn="l" pos="857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arning, skill development and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666720"/>
                <a:tab algn="l" pos="857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ipulation and misuse of telematics and Advanced Driver Assistance Systems (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286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direct safety risks, arising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8088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search issues in the area of 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2666880"/>
            <a:ext cx="7696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666720"/>
                <a:tab algn="l" pos="857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lligent Speed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666720"/>
                <a:tab algn="l" pos="857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ial user groups (e.g. elderly driv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666720"/>
                <a:tab algn="l" pos="857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gal and organisa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Aft>
                <a:spcPts val="1749"/>
              </a:spcAft>
              <a:buClr>
                <a:srgbClr val="000000"/>
              </a:buClr>
              <a:buFont typeface="Times New Roman"/>
              <a:buChar char="-"/>
              <a:tabLst>
                <a:tab algn="l" pos="666720"/>
                <a:tab algn="l" pos="857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cation of safety potentials by accident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6002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quirements and implementation issues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38088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Research issues in the area of 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205740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-"/>
              <a:tabLst>
                <a:tab algn="l" pos="666720"/>
                <a:tab algn="l" pos="857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oint private-public sector initiative launched  by the European Commission in 2002 in order to increase road safety by means of modern information and communication technologies (50% reduction of fatalities by 20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8088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in activities in the eSafety initi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4197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objective: European strategy to accelerate research, development and deployment Intelligent Integrated Road Safet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295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he eSafety initi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12193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eSafety 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8088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in activities in the eSafety initi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21932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platform involving all road safety stakehold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ing with the problems of introduc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t vehicle safety systems including the business rationa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afety Working Groups to focus on the domain-specific priority area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afety Forum promotes and monitors the recommendations identified by the Working Grou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66680" y="10666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Safety Working Grou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8088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in activities in the eSafety initi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Cal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l Time Traffic Informa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HMI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national Coopera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cident Causation Analysi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earch and Developmen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ad Map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avy Vehicles (to be set up in 2004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blic Outreach (to be set up in 2004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219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Safety Working Group H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8088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in activities in the eSafety initi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1896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: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nie Pauzie, INRETS, F     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lan Stevens, TRL, UK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hristhard Gelau, BASt,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:  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dentify HMI related problems likely to negatively impact on safety or markets for in-vehicle systems including “Nomad System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282600">
              <a:lnSpc>
                <a:spcPct val="107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urther develop existing EU Statement of Principles (ESoP) based on latest and future technological developments and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5720" y="1295280"/>
            <a:ext cx="213336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3T15:57:22Z</dcterms:created>
  <dc:creator/>
  <dc:description/>
  <dc:language>en-US</dc:language>
  <cp:lastModifiedBy>Hubert</cp:lastModifiedBy>
  <cp:lastPrinted>2004-03-02T14:56:48Z</cp:lastPrinted>
  <dcterms:modified xsi:type="dcterms:W3CDTF">2004-03-12T14:34:59Z</dcterms:modified>
  <cp:revision>255</cp:revision>
  <dc:subject/>
  <dc:title>Kein Folientitel</dc:title>
</cp:coreProperties>
</file>