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28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44.png" ContentType="image/png"/>
  <Override PartName="/ppt/media/image32.wmf" ContentType="image/x-wmf"/>
  <Override PartName="/ppt/media/image12.png" ContentType="image/png"/>
  <Override PartName="/ppt/media/image10.png" ContentType="image/png"/>
  <Override PartName="/ppt/media/image47.png" ContentType="image/png"/>
  <Override PartName="/ppt/media/image33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29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D8F8-E972-41B6-88BB-5EA42EDD2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7AA6-46D3-4EC9-ADB4-7B7CA711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908A-CB09-4CE0-A18E-E6F2814F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F67A-7C63-42BB-AE31-AEE7738C80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65BF-9388-4B5B-8A43-2403B5D5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C20C-3D10-43E5-8A18-FA5BF9B8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EE25-0CCE-4635-94F5-B143D3F2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A5D5-AA23-4720-A446-543A2B1B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6AB3-EE4F-4783-B953-1C285C73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1660-7683-4A50-B17B-1C2306F4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8447-8417-4015-8D79-FD353980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6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66D3-ED61-48BF-B230-5AD316F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EB26-55D5-4EB7-BFDF-A7E0E60FC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1720"/>
            <a:ext cx="883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907920"/>
            <a:ext cx="88390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725600" y="62064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F5EBE9-55D7-4489-8084-6E5EA1938CF0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69800" y="1890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 GR / PS 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981000"/>
            <a:ext cx="8839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81720"/>
            <a:ext cx="883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13120" y="6453360"/>
            <a:ext cx="45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Meeting INF GR / PS                 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221080" y="645336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ttawa, Canad, 10 - 12 Sep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04920" y="907920"/>
            <a:ext cx="88390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7725600" y="620640"/>
            <a:ext cx="15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CA89A2-D216-4424-AFE5-319D6FAB406E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668360" y="18900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 GR / PS / 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304920" y="981000"/>
            <a:ext cx="8839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05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tents of Headform Test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91628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125360"/>
            <a:ext cx="8280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Shape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Shape Determ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for Computer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Head Mass at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Impact Speed Ratio for Bo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Impact Speed Ratio for Wind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net Impact Angle for Adult &amp;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shield Impact Angle for Adult &amp;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ef Ratio of Boundary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Comparing with Overlap Meth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07000" y="2136600"/>
            <a:ext cx="2836800" cy="100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67280" y="1125360"/>
            <a:ext cx="4201920" cy="2303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898880" y="1601640"/>
            <a:ext cx="106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3500280"/>
            <a:ext cx="4427640" cy="2233800"/>
            <a:chOff x="0" y="3500280"/>
            <a:chExt cx="4427640" cy="223380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673200" y="4494240"/>
              <a:ext cx="2379600" cy="96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0" y="3500280"/>
              <a:ext cx="4427640" cy="2233800"/>
              <a:chOff x="0" y="3500280"/>
              <a:chExt cx="4427640" cy="2233800"/>
            </a:xfrm>
          </p:grpSpPr>
          <p:pic>
            <p:nvPicPr>
              <p:cNvPr id="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00280"/>
                <a:ext cx="4427640" cy="22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715680" y="3616200"/>
                <a:ext cx="18108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998280" y="3997440"/>
              <a:ext cx="47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067280" y="3500280"/>
            <a:ext cx="4421160" cy="2233800"/>
            <a:chOff x="4067280" y="3500280"/>
            <a:chExt cx="4421160" cy="2233800"/>
          </a:xfrm>
        </p:grpSpPr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4740120" y="4435560"/>
              <a:ext cx="2886120" cy="98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"/>
            <p:cNvGrpSpPr/>
            <p:nvPr/>
          </p:nvGrpSpPr>
          <p:grpSpPr>
            <a:xfrm>
              <a:off x="4067280" y="3500280"/>
              <a:ext cx="4421160" cy="2233800"/>
              <a:chOff x="4067280" y="3500280"/>
              <a:chExt cx="4421160" cy="22338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67280" y="3500280"/>
                <a:ext cx="4421160" cy="22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4780080" y="3617640"/>
                <a:ext cx="18000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4948920" y="4014720"/>
              <a:ext cx="835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C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633240" y="2124000"/>
            <a:ext cx="2681640" cy="9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0" y="1125360"/>
            <a:ext cx="4440240" cy="223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79480" y="157788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912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8. Vehicle Shape Provided By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1052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153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09840" y="119052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an + Light vehicle + Sport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052640"/>
            <a:ext cx="4767120" cy="2663640"/>
            <a:chOff x="0" y="1052640"/>
            <a:chExt cx="4767120" cy="26636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733320" y="1962360"/>
              <a:ext cx="2878200" cy="138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0" y="1052640"/>
              <a:ext cx="4767120" cy="2663640"/>
              <a:chOff x="0" y="1052640"/>
              <a:chExt cx="4767120" cy="266364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052640"/>
                <a:ext cx="4767120" cy="26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771480" y="1191960"/>
                <a:ext cx="181080" cy="4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064160" y="1571760"/>
              <a:ext cx="867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E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40360" y="1052640"/>
            <a:ext cx="4535280" cy="2663640"/>
            <a:chOff x="4140360" y="1052640"/>
            <a:chExt cx="4535280" cy="266364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830120" y="2301480"/>
              <a:ext cx="312660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4"/>
            <a:stretch/>
          </p:blipFill>
          <p:spPr>
            <a:xfrm>
              <a:off x="4140360" y="1052640"/>
              <a:ext cx="453528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872600" y="1190880"/>
              <a:ext cx="18036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27840" y="1571040"/>
              <a:ext cx="103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UG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0" y="3645000"/>
            <a:ext cx="4748040" cy="2592360"/>
            <a:chOff x="0" y="3645000"/>
            <a:chExt cx="4748040" cy="2592360"/>
          </a:xfrm>
        </p:grpSpPr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722160" y="4737240"/>
              <a:ext cx="3363480" cy="114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0" y="3645000"/>
              <a:ext cx="4748040" cy="2592360"/>
              <a:chOff x="0" y="3645000"/>
              <a:chExt cx="4748040" cy="2592360"/>
            </a:xfrm>
          </p:grpSpPr>
          <p:pic>
            <p:nvPicPr>
              <p:cNvPr id="1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645000"/>
                <a:ext cx="4748040" cy="25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768240" y="3779280"/>
                <a:ext cx="180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945000" y="4130280"/>
              <a:ext cx="21747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UGEOT 406 COU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UGEOT 6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40360" y="3654360"/>
            <a:ext cx="5184360" cy="2583000"/>
            <a:chOff x="4140360" y="3654360"/>
            <a:chExt cx="5184360" cy="258300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4860360" y="4834440"/>
              <a:ext cx="2711160" cy="105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"/>
            <p:cNvGrpSpPr/>
            <p:nvPr/>
          </p:nvGrpSpPr>
          <p:grpSpPr>
            <a:xfrm>
              <a:off x="4140360" y="3654360"/>
              <a:ext cx="5184360" cy="2583000"/>
              <a:chOff x="4140360" y="3654360"/>
              <a:chExt cx="5184360" cy="2583000"/>
            </a:xfrm>
          </p:grpSpPr>
          <p:pic>
            <p:nvPicPr>
              <p:cNvPr id="13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40360" y="3654360"/>
                <a:ext cx="4636440" cy="258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4891680" y="3791160"/>
                <a:ext cx="4433040" cy="4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100120" y="4138200"/>
              <a:ext cx="1460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UGEOT 3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1992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9. Vehicle Shape Provided By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28000" y="119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153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2600" y="119700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an + Light vehicle + Sport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395280" y="1052640"/>
            <a:ext cx="3600360" cy="1655640"/>
            <a:chOff x="395280" y="1052640"/>
            <a:chExt cx="3600360" cy="165564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931320" y="1804320"/>
              <a:ext cx="1900080" cy="67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" name=""/>
            <p:cNvGrpSpPr/>
            <p:nvPr/>
          </p:nvGrpSpPr>
          <p:grpSpPr>
            <a:xfrm>
              <a:off x="395280" y="1052640"/>
              <a:ext cx="3600360" cy="1655640"/>
              <a:chOff x="395280" y="1052640"/>
              <a:chExt cx="3600360" cy="1655640"/>
            </a:xfrm>
          </p:grpSpPr>
          <p:pic>
            <p:nvPicPr>
              <p:cNvPr id="1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1052640"/>
                <a:ext cx="360036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945720" y="1139760"/>
                <a:ext cx="181080" cy="4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167480" y="1361880"/>
              <a:ext cx="1460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UGEOT 1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95280" y="2637000"/>
            <a:ext cx="3600360" cy="1655640"/>
            <a:chOff x="395280" y="2637000"/>
            <a:chExt cx="3600360" cy="165564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931320" y="3373920"/>
              <a:ext cx="2396160" cy="67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"/>
            <p:cNvGrpSpPr/>
            <p:nvPr/>
          </p:nvGrpSpPr>
          <p:grpSpPr>
            <a:xfrm>
              <a:off x="395280" y="2637000"/>
              <a:ext cx="3600360" cy="1655640"/>
              <a:chOff x="395280" y="2637000"/>
              <a:chExt cx="3600360" cy="1655640"/>
            </a:xfrm>
          </p:grpSpPr>
          <p:pic>
            <p:nvPicPr>
              <p:cNvPr id="1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95280" y="2637000"/>
                <a:ext cx="360036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945720" y="2724120"/>
                <a:ext cx="181080" cy="4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093680" y="2941560"/>
              <a:ext cx="1885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UGEOT 4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TROEN XANT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284720" y="1268280"/>
            <a:ext cx="4825800" cy="2448000"/>
            <a:chOff x="4284720" y="1268280"/>
            <a:chExt cx="4825800" cy="244800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4972680" y="2205360"/>
              <a:ext cx="3020760" cy="117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4284720" y="1268280"/>
              <a:ext cx="4825800" cy="2448000"/>
              <a:chOff x="4284720" y="1268280"/>
              <a:chExt cx="4825800" cy="2448000"/>
            </a:xfrm>
          </p:grpSpPr>
          <p:pic>
            <p:nvPicPr>
              <p:cNvPr id="1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84720" y="1268280"/>
                <a:ext cx="4825800" cy="24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5049360" y="1397160"/>
                <a:ext cx="181440" cy="4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108400" y="1857600"/>
              <a:ext cx="2545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TOEN XSARA PICAS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84720" y="3716280"/>
            <a:ext cx="4859280" cy="2592360"/>
            <a:chOff x="4284720" y="3716280"/>
            <a:chExt cx="4859280" cy="2592360"/>
          </a:xfrm>
        </p:grpSpPr>
        <p:pic>
          <p:nvPicPr>
            <p:cNvPr id="156" name="" descr=""/>
            <p:cNvPicPr/>
            <p:nvPr/>
          </p:nvPicPr>
          <p:blipFill>
            <a:blip r:embed="rId7"/>
            <a:stretch/>
          </p:blipFill>
          <p:spPr>
            <a:xfrm>
              <a:off x="5031720" y="4923720"/>
              <a:ext cx="2656800" cy="101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4284720" y="3716280"/>
              <a:ext cx="4859280" cy="2592360"/>
              <a:chOff x="4284720" y="3716280"/>
              <a:chExt cx="4859280" cy="2592360"/>
            </a:xfrm>
          </p:grpSpPr>
          <p:pic>
            <p:nvPicPr>
              <p:cNvPr id="15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84720" y="3716280"/>
                <a:ext cx="4859280" cy="25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5108760" y="3879360"/>
                <a:ext cx="18072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187240" y="4359600"/>
              <a:ext cx="1661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TROEN SAX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10. Vehicle Shape Provided By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0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153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360" y="4365720"/>
            <a:ext cx="3529080" cy="1942920"/>
            <a:chOff x="468360" y="4365720"/>
            <a:chExt cx="3529080" cy="1942920"/>
          </a:xfrm>
        </p:grpSpPr>
        <p:pic>
          <p:nvPicPr>
            <p:cNvPr id="164" name="" descr=""/>
            <p:cNvPicPr/>
            <p:nvPr/>
          </p:nvPicPr>
          <p:blipFill>
            <a:blip r:embed="rId9"/>
            <a:stretch/>
          </p:blipFill>
          <p:spPr>
            <a:xfrm>
              <a:off x="993960" y="5201640"/>
              <a:ext cx="2175480" cy="84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5" name=""/>
            <p:cNvGrpSpPr/>
            <p:nvPr/>
          </p:nvGrpSpPr>
          <p:grpSpPr>
            <a:xfrm>
              <a:off x="468360" y="4365720"/>
              <a:ext cx="3529080" cy="1942920"/>
              <a:chOff x="468360" y="4365720"/>
              <a:chExt cx="3529080" cy="194292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4365720"/>
                <a:ext cx="352908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1015560" y="4467240"/>
                <a:ext cx="18072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109160" y="4834080"/>
              <a:ext cx="1661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TOEN XSA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346560" y="98100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an + Light vehicle + Sport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7632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11. Vehicle Shape Provided By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835280" y="3316320"/>
            <a:ext cx="5638680" cy="1635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97200" y="1601640"/>
            <a:ext cx="5654520" cy="3341880"/>
          </a:xfrm>
          <a:custGeom>
            <a:avLst/>
            <a:gdLst/>
            <a:ahLst/>
            <a:rect l="l" t="t" r="r" b="b"/>
            <a:pathLst>
              <a:path w="3562" h="2105">
                <a:moveTo>
                  <a:pt x="0" y="0"/>
                </a:moveTo>
                <a:lnTo>
                  <a:pt x="3562" y="0"/>
                </a:lnTo>
                <a:lnTo>
                  <a:pt x="3562" y="2105"/>
                </a:lnTo>
                <a:lnTo>
                  <a:pt x="0" y="2105"/>
                </a:lnTo>
                <a:lnTo>
                  <a:pt x="0" y="0"/>
                </a:lnTo>
                <a:lnTo>
                  <a:pt x="0" y="2105"/>
                </a:lnTo>
                <a:lnTo>
                  <a:pt x="32" y="210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97200" y="3828960"/>
            <a:ext cx="50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97200" y="2716200"/>
            <a:ext cx="50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97200" y="1601640"/>
            <a:ext cx="50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97200" y="4943520"/>
            <a:ext cx="5654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97200" y="4905360"/>
            <a:ext cx="1440" cy="38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025800" y="4905360"/>
            <a:ext cx="1440" cy="38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65560" y="4905360"/>
            <a:ext cx="1800" cy="38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294160" y="4905360"/>
            <a:ext cx="1800" cy="38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23120" y="4905360"/>
            <a:ext cx="1440" cy="38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51720" y="4905360"/>
            <a:ext cx="1440" cy="38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84240" y="3184560"/>
            <a:ext cx="1597320" cy="1114560"/>
          </a:xfrm>
          <a:custGeom>
            <a:avLst/>
            <a:gdLst/>
            <a:ahLst/>
            <a:rect l="l" t="t" r="r" b="b"/>
            <a:pathLst>
              <a:path w="1006" h="702">
                <a:moveTo>
                  <a:pt x="0" y="702"/>
                </a:moveTo>
                <a:lnTo>
                  <a:pt x="8" y="702"/>
                </a:lnTo>
                <a:lnTo>
                  <a:pt x="24" y="686"/>
                </a:lnTo>
                <a:lnTo>
                  <a:pt x="24" y="670"/>
                </a:lnTo>
                <a:lnTo>
                  <a:pt x="40" y="646"/>
                </a:lnTo>
                <a:lnTo>
                  <a:pt x="48" y="606"/>
                </a:lnTo>
                <a:lnTo>
                  <a:pt x="56" y="582"/>
                </a:lnTo>
                <a:lnTo>
                  <a:pt x="64" y="558"/>
                </a:lnTo>
                <a:lnTo>
                  <a:pt x="72" y="534"/>
                </a:lnTo>
                <a:lnTo>
                  <a:pt x="80" y="526"/>
                </a:lnTo>
                <a:lnTo>
                  <a:pt x="96" y="510"/>
                </a:lnTo>
                <a:lnTo>
                  <a:pt x="96" y="510"/>
                </a:lnTo>
                <a:lnTo>
                  <a:pt x="112" y="502"/>
                </a:lnTo>
                <a:lnTo>
                  <a:pt x="128" y="486"/>
                </a:lnTo>
                <a:lnTo>
                  <a:pt x="144" y="486"/>
                </a:lnTo>
                <a:lnTo>
                  <a:pt x="167" y="478"/>
                </a:lnTo>
                <a:lnTo>
                  <a:pt x="183" y="470"/>
                </a:lnTo>
                <a:lnTo>
                  <a:pt x="199" y="462"/>
                </a:lnTo>
                <a:lnTo>
                  <a:pt x="215" y="462"/>
                </a:lnTo>
                <a:lnTo>
                  <a:pt x="239" y="454"/>
                </a:lnTo>
                <a:lnTo>
                  <a:pt x="255" y="446"/>
                </a:lnTo>
                <a:lnTo>
                  <a:pt x="271" y="438"/>
                </a:lnTo>
                <a:lnTo>
                  <a:pt x="287" y="438"/>
                </a:lnTo>
                <a:lnTo>
                  <a:pt x="311" y="430"/>
                </a:lnTo>
                <a:lnTo>
                  <a:pt x="327" y="422"/>
                </a:lnTo>
                <a:lnTo>
                  <a:pt x="343" y="414"/>
                </a:lnTo>
                <a:lnTo>
                  <a:pt x="359" y="406"/>
                </a:lnTo>
                <a:lnTo>
                  <a:pt x="383" y="398"/>
                </a:lnTo>
                <a:lnTo>
                  <a:pt x="399" y="391"/>
                </a:lnTo>
                <a:lnTo>
                  <a:pt x="415" y="391"/>
                </a:lnTo>
                <a:lnTo>
                  <a:pt x="431" y="391"/>
                </a:lnTo>
                <a:lnTo>
                  <a:pt x="455" y="383"/>
                </a:lnTo>
                <a:lnTo>
                  <a:pt x="471" y="375"/>
                </a:lnTo>
                <a:lnTo>
                  <a:pt x="487" y="375"/>
                </a:lnTo>
                <a:lnTo>
                  <a:pt x="503" y="367"/>
                </a:lnTo>
                <a:lnTo>
                  <a:pt x="527" y="367"/>
                </a:lnTo>
                <a:lnTo>
                  <a:pt x="543" y="351"/>
                </a:lnTo>
                <a:lnTo>
                  <a:pt x="559" y="335"/>
                </a:lnTo>
                <a:lnTo>
                  <a:pt x="575" y="319"/>
                </a:lnTo>
                <a:lnTo>
                  <a:pt x="599" y="295"/>
                </a:lnTo>
                <a:lnTo>
                  <a:pt x="615" y="287"/>
                </a:lnTo>
                <a:lnTo>
                  <a:pt x="631" y="271"/>
                </a:lnTo>
                <a:lnTo>
                  <a:pt x="647" y="247"/>
                </a:lnTo>
                <a:lnTo>
                  <a:pt x="655" y="239"/>
                </a:lnTo>
                <a:lnTo>
                  <a:pt x="671" y="231"/>
                </a:lnTo>
                <a:lnTo>
                  <a:pt x="671" y="223"/>
                </a:lnTo>
                <a:lnTo>
                  <a:pt x="687" y="223"/>
                </a:lnTo>
                <a:lnTo>
                  <a:pt x="695" y="223"/>
                </a:lnTo>
                <a:lnTo>
                  <a:pt x="703" y="207"/>
                </a:lnTo>
                <a:lnTo>
                  <a:pt x="719" y="199"/>
                </a:lnTo>
                <a:lnTo>
                  <a:pt x="727" y="183"/>
                </a:lnTo>
                <a:lnTo>
                  <a:pt x="743" y="183"/>
                </a:lnTo>
                <a:lnTo>
                  <a:pt x="759" y="167"/>
                </a:lnTo>
                <a:lnTo>
                  <a:pt x="767" y="159"/>
                </a:lnTo>
                <a:lnTo>
                  <a:pt x="775" y="151"/>
                </a:lnTo>
                <a:lnTo>
                  <a:pt x="790" y="135"/>
                </a:lnTo>
                <a:lnTo>
                  <a:pt x="798" y="127"/>
                </a:lnTo>
                <a:lnTo>
                  <a:pt x="814" y="119"/>
                </a:lnTo>
                <a:lnTo>
                  <a:pt x="830" y="111"/>
                </a:lnTo>
                <a:lnTo>
                  <a:pt x="846" y="95"/>
                </a:lnTo>
                <a:lnTo>
                  <a:pt x="862" y="87"/>
                </a:lnTo>
                <a:lnTo>
                  <a:pt x="870" y="71"/>
                </a:lnTo>
                <a:lnTo>
                  <a:pt x="886" y="63"/>
                </a:lnTo>
                <a:lnTo>
                  <a:pt x="902" y="56"/>
                </a:lnTo>
                <a:lnTo>
                  <a:pt x="918" y="40"/>
                </a:lnTo>
                <a:lnTo>
                  <a:pt x="934" y="32"/>
                </a:lnTo>
                <a:lnTo>
                  <a:pt x="958" y="16"/>
                </a:lnTo>
                <a:lnTo>
                  <a:pt x="974" y="16"/>
                </a:lnTo>
                <a:lnTo>
                  <a:pt x="990" y="8"/>
                </a:lnTo>
                <a:lnTo>
                  <a:pt x="1006" y="0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84240" y="3614760"/>
            <a:ext cx="2345040" cy="771480"/>
          </a:xfrm>
          <a:custGeom>
            <a:avLst/>
            <a:gdLst/>
            <a:ahLst/>
            <a:rect l="l" t="t" r="r" b="b"/>
            <a:pathLst>
              <a:path w="1477" h="486">
                <a:moveTo>
                  <a:pt x="0" y="486"/>
                </a:moveTo>
                <a:lnTo>
                  <a:pt x="24" y="478"/>
                </a:lnTo>
                <a:lnTo>
                  <a:pt x="40" y="462"/>
                </a:lnTo>
                <a:lnTo>
                  <a:pt x="56" y="455"/>
                </a:lnTo>
                <a:lnTo>
                  <a:pt x="72" y="447"/>
                </a:lnTo>
                <a:lnTo>
                  <a:pt x="96" y="439"/>
                </a:lnTo>
                <a:lnTo>
                  <a:pt x="112" y="431"/>
                </a:lnTo>
                <a:lnTo>
                  <a:pt x="128" y="431"/>
                </a:lnTo>
                <a:lnTo>
                  <a:pt x="144" y="415"/>
                </a:lnTo>
                <a:lnTo>
                  <a:pt x="167" y="407"/>
                </a:lnTo>
                <a:lnTo>
                  <a:pt x="183" y="407"/>
                </a:lnTo>
                <a:lnTo>
                  <a:pt x="199" y="391"/>
                </a:lnTo>
                <a:lnTo>
                  <a:pt x="215" y="383"/>
                </a:lnTo>
                <a:lnTo>
                  <a:pt x="239" y="383"/>
                </a:lnTo>
                <a:lnTo>
                  <a:pt x="255" y="375"/>
                </a:lnTo>
                <a:lnTo>
                  <a:pt x="271" y="367"/>
                </a:lnTo>
                <a:lnTo>
                  <a:pt x="287" y="359"/>
                </a:lnTo>
                <a:lnTo>
                  <a:pt x="311" y="351"/>
                </a:lnTo>
                <a:lnTo>
                  <a:pt x="327" y="343"/>
                </a:lnTo>
                <a:lnTo>
                  <a:pt x="343" y="335"/>
                </a:lnTo>
                <a:lnTo>
                  <a:pt x="359" y="335"/>
                </a:lnTo>
                <a:lnTo>
                  <a:pt x="383" y="335"/>
                </a:lnTo>
                <a:lnTo>
                  <a:pt x="399" y="327"/>
                </a:lnTo>
                <a:lnTo>
                  <a:pt x="415" y="319"/>
                </a:lnTo>
                <a:lnTo>
                  <a:pt x="431" y="319"/>
                </a:lnTo>
                <a:lnTo>
                  <a:pt x="455" y="311"/>
                </a:lnTo>
                <a:lnTo>
                  <a:pt x="471" y="311"/>
                </a:lnTo>
                <a:lnTo>
                  <a:pt x="487" y="303"/>
                </a:lnTo>
                <a:lnTo>
                  <a:pt x="503" y="295"/>
                </a:lnTo>
                <a:lnTo>
                  <a:pt x="527" y="295"/>
                </a:lnTo>
                <a:lnTo>
                  <a:pt x="527" y="287"/>
                </a:lnTo>
                <a:lnTo>
                  <a:pt x="543" y="287"/>
                </a:lnTo>
                <a:lnTo>
                  <a:pt x="559" y="287"/>
                </a:lnTo>
                <a:lnTo>
                  <a:pt x="567" y="287"/>
                </a:lnTo>
                <a:lnTo>
                  <a:pt x="575" y="287"/>
                </a:lnTo>
                <a:lnTo>
                  <a:pt x="599" y="287"/>
                </a:lnTo>
                <a:lnTo>
                  <a:pt x="615" y="287"/>
                </a:lnTo>
                <a:lnTo>
                  <a:pt x="623" y="279"/>
                </a:lnTo>
                <a:lnTo>
                  <a:pt x="631" y="279"/>
                </a:lnTo>
                <a:lnTo>
                  <a:pt x="647" y="279"/>
                </a:lnTo>
                <a:lnTo>
                  <a:pt x="655" y="271"/>
                </a:lnTo>
                <a:lnTo>
                  <a:pt x="671" y="271"/>
                </a:lnTo>
                <a:lnTo>
                  <a:pt x="687" y="271"/>
                </a:lnTo>
                <a:lnTo>
                  <a:pt x="703" y="271"/>
                </a:lnTo>
                <a:lnTo>
                  <a:pt x="719" y="271"/>
                </a:lnTo>
                <a:lnTo>
                  <a:pt x="743" y="271"/>
                </a:lnTo>
                <a:lnTo>
                  <a:pt x="743" y="263"/>
                </a:lnTo>
                <a:lnTo>
                  <a:pt x="759" y="263"/>
                </a:lnTo>
                <a:lnTo>
                  <a:pt x="775" y="263"/>
                </a:lnTo>
                <a:lnTo>
                  <a:pt x="790" y="263"/>
                </a:lnTo>
                <a:lnTo>
                  <a:pt x="814" y="263"/>
                </a:lnTo>
                <a:lnTo>
                  <a:pt x="830" y="263"/>
                </a:lnTo>
                <a:lnTo>
                  <a:pt x="838" y="263"/>
                </a:lnTo>
                <a:lnTo>
                  <a:pt x="846" y="263"/>
                </a:lnTo>
                <a:lnTo>
                  <a:pt x="862" y="263"/>
                </a:lnTo>
                <a:lnTo>
                  <a:pt x="886" y="263"/>
                </a:lnTo>
                <a:lnTo>
                  <a:pt x="902" y="263"/>
                </a:lnTo>
                <a:lnTo>
                  <a:pt x="918" y="263"/>
                </a:lnTo>
                <a:lnTo>
                  <a:pt x="934" y="263"/>
                </a:lnTo>
                <a:lnTo>
                  <a:pt x="942" y="263"/>
                </a:lnTo>
                <a:lnTo>
                  <a:pt x="958" y="263"/>
                </a:lnTo>
                <a:lnTo>
                  <a:pt x="958" y="255"/>
                </a:lnTo>
                <a:lnTo>
                  <a:pt x="974" y="239"/>
                </a:lnTo>
                <a:lnTo>
                  <a:pt x="990" y="231"/>
                </a:lnTo>
                <a:lnTo>
                  <a:pt x="1006" y="223"/>
                </a:lnTo>
                <a:lnTo>
                  <a:pt x="1030" y="215"/>
                </a:lnTo>
                <a:lnTo>
                  <a:pt x="1046" y="207"/>
                </a:lnTo>
                <a:lnTo>
                  <a:pt x="1062" y="191"/>
                </a:lnTo>
                <a:lnTo>
                  <a:pt x="1078" y="191"/>
                </a:lnTo>
                <a:lnTo>
                  <a:pt x="1102" y="175"/>
                </a:lnTo>
                <a:lnTo>
                  <a:pt x="1118" y="167"/>
                </a:lnTo>
                <a:lnTo>
                  <a:pt x="1134" y="159"/>
                </a:lnTo>
                <a:lnTo>
                  <a:pt x="1150" y="143"/>
                </a:lnTo>
                <a:lnTo>
                  <a:pt x="1174" y="135"/>
                </a:lnTo>
                <a:lnTo>
                  <a:pt x="1190" y="127"/>
                </a:lnTo>
                <a:lnTo>
                  <a:pt x="1206" y="120"/>
                </a:lnTo>
                <a:lnTo>
                  <a:pt x="1222" y="104"/>
                </a:lnTo>
                <a:lnTo>
                  <a:pt x="1246" y="96"/>
                </a:lnTo>
                <a:lnTo>
                  <a:pt x="1262" y="88"/>
                </a:lnTo>
                <a:lnTo>
                  <a:pt x="1278" y="80"/>
                </a:lnTo>
                <a:lnTo>
                  <a:pt x="1294" y="72"/>
                </a:lnTo>
                <a:lnTo>
                  <a:pt x="1318" y="64"/>
                </a:lnTo>
                <a:lnTo>
                  <a:pt x="1334" y="56"/>
                </a:lnTo>
                <a:lnTo>
                  <a:pt x="1342" y="48"/>
                </a:lnTo>
                <a:lnTo>
                  <a:pt x="1350" y="48"/>
                </a:lnTo>
                <a:lnTo>
                  <a:pt x="1358" y="48"/>
                </a:lnTo>
                <a:lnTo>
                  <a:pt x="1366" y="48"/>
                </a:lnTo>
                <a:lnTo>
                  <a:pt x="1374" y="40"/>
                </a:lnTo>
                <a:lnTo>
                  <a:pt x="1390" y="32"/>
                </a:lnTo>
                <a:lnTo>
                  <a:pt x="1406" y="24"/>
                </a:lnTo>
                <a:lnTo>
                  <a:pt x="1421" y="24"/>
                </a:lnTo>
                <a:lnTo>
                  <a:pt x="1437" y="16"/>
                </a:lnTo>
                <a:lnTo>
                  <a:pt x="1461" y="8"/>
                </a:lnTo>
                <a:lnTo>
                  <a:pt x="1477" y="0"/>
                </a:lnTo>
              </a:path>
            </a:pathLst>
          </a:custGeom>
          <a:noFill/>
          <a:ln w="30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8480" y="4861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33520" y="3733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440" y="3733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1360" y="3733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8480" y="3733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33520" y="2631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440" y="2631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1360" y="2631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8480" y="2631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33520" y="1504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440" y="1504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1360" y="1504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8480" y="1504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6372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416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308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420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8312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7204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096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2280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172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0064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8956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140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4032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2924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816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8036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928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820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45320" y="5087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83920" y="53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5800" y="53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87320" y="53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88840" y="53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90360" y="530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39680" y="5303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41200" y="5303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91960" y="5303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5680" y="530388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8320" y="530388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60240" y="5303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687960" y="2896560"/>
            <a:ext cx="98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eight (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1720" y="20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26880" y="1844640"/>
            <a:ext cx="25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HOLDEN COMMOD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FORD FAL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27840" y="43830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50760" y="438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8280" y="453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797080" y="453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59640" y="1197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&lt; IHRA PS155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09840" y="105264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an + Light vehicle + Sport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Vehicle Shape Clas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640720" cy="5232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459640" y="1700280"/>
            <a:ext cx="43344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08720" y="3284640"/>
            <a:ext cx="50328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00" y="1197000"/>
            <a:ext cx="3095640" cy="6426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oundary of LEH :83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839mm+832mm)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651280" y="1557000"/>
            <a:ext cx="2881080" cy="142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363640" y="1844640"/>
            <a:ext cx="2087640" cy="1440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59640" y="1989000"/>
            <a:ext cx="433440" cy="144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80360" y="3573360"/>
            <a:ext cx="433440" cy="142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41440" y="3860640"/>
            <a:ext cx="338292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 shape is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7000"/>
            <a:ext cx="655308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eep the IHRA computer simulation results as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003640" y="2133360"/>
            <a:ext cx="3456000" cy="17269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724360" y="3645000"/>
            <a:ext cx="1656000" cy="2887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981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&lt; IHRA PS152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20720" y="1268280"/>
            <a:ext cx="8423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rder of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Bonnet ang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0°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Z (≒ One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BLE heigh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35mm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Y (≒ SU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E heigh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835mm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X (≒ Se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(835mm: Boundary of BLE h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71992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Vehicle Shap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4067280" cy="3289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140360" y="1790640"/>
            <a:ext cx="4752720" cy="3367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987640" y="4292640"/>
            <a:ext cx="1513080" cy="192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P1-S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P1-S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△</a:t>
            </a:r>
            <a:r>
              <a:rPr b="0" lang="zh-CN" sz="1400" spc="-1" strike="noStrike">
                <a:solidFill>
                  <a:srgbClr val="ff66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P2-S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▲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P2-S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P3-S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P3-S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89000"/>
            <a:ext cx="69850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ameters for Computer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00720" y="11444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215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Effective Head Mass at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IHRA/PS167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fective head mass varies significantly according to the impact conditions such as vehicle shape, stiffness, walking stance and so 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erage effective head mass ≒ Head ma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Adult head: 4.5 kg (Ref. IHRA/PS150, ISO/N354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Child head: 3.5 kg (Ref. IHRA/PS178, SAE9733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IHRA/PS178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E9733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* 3-Year Child Head Mass = 2.7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* 6-Year Child Head Mass = 3.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*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% Adult Female Head Mass = 3.6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7559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Head Impact Speed Ratio for Bon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2560" y="1052640"/>
            <a:ext cx="7850160" cy="5207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588000" y="1125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237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052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und number =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 all vehicl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4000" y="18864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Head Impact Speed Ratio for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964720" cy="5008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589800" y="11905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237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-108000" y="12384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und number =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 all vehicl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893440" cy="388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Vehicle 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300640"/>
            <a:ext cx="864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wo sedans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EN COMMODOR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D FALC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 provided from Australia, and four sedans and three SUVs provided from USA are not included in this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812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1. Bonnet Impact Angle for Adult &amp;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2360" y="1052640"/>
            <a:ext cx="7848720" cy="5194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76360" y="3213000"/>
            <a:ext cx="57636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76360" y="29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2720" y="2421000"/>
            <a:ext cx="3589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272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03280" y="5589720"/>
            <a:ext cx="57636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5294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2720" y="5589720"/>
            <a:ext cx="57636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5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43640" y="29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530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201080" y="4797360"/>
            <a:ext cx="183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verage the values of bonnet contact and BLE/Grille Cont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6360" y="1052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237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242100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indshield Impact Angle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55240"/>
            <a:ext cx="7956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2. Bonnet Impact Angle for Child for 1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1473120"/>
            <a:ext cx="4038480" cy="3048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648320" y="1444680"/>
            <a:ext cx="4038480" cy="3106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195640" y="3110040"/>
            <a:ext cx="360360" cy="36036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00720" y="3614760"/>
            <a:ext cx="432000" cy="43164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76360" y="5616720"/>
            <a:ext cx="6335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ld Head Bonnet Impact Angle = 25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90560" y="2462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onnet Contact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4720" y="2462040"/>
            <a:ext cx="24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BLE/Grille Contact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56000" y="3325680"/>
            <a:ext cx="2232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003640" y="3975120"/>
            <a:ext cx="1368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5280" y="1090440"/>
            <a:ext cx="23050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d-6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35280" y="52228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h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32720" y="1052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237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55240"/>
            <a:ext cx="77407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Windshield Impact Angle for Adult &amp;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321160"/>
            <a:ext cx="3816360" cy="916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dan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UV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dult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0°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40°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ild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0°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40°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8208720" cy="4125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843280" y="5661000"/>
            <a:ext cx="3816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80000" y="530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3068640"/>
            <a:ext cx="649080" cy="21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36000" y="2997360"/>
            <a:ext cx="649080" cy="215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484360" y="3141720"/>
            <a:ext cx="2160720" cy="71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24000" y="3284640"/>
            <a:ext cx="0" cy="865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96360" y="3284640"/>
            <a:ext cx="0" cy="865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1280" y="3284640"/>
            <a:ext cx="2232000" cy="1081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8944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16360" y="44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44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53440" y="4437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84720" y="1052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237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92360" y="3429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4920" y="115920"/>
            <a:ext cx="76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Relief Ratio of Boundar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Comparing with Overlap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5975280" cy="5294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9280" y="1268280"/>
            <a:ext cx="25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IHRA PS209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verlap method and boundary line method differ not significa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ifference to the theoretical maximum of relief ratio is less than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6676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1. Vehicle Shap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&amp; 1Liter Ca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75640" cy="451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87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. :  PS152,153,1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6676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2. Vehicle Shape (Seda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g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3800" cy="461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87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. :  PS152,153,1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67676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3. Vehicle Shape (SU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640720" cy="404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87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. :  PS152,153,1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272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4. Vehicle Shape (Sport Typ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820000" cy="39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87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. :  PS152,153,1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48720" cy="4925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587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. :  PS152,153,1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6840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5. Vehicle Shape (One Bo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427640" y="1341360"/>
          <a:ext cx="424800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341360"/>
                    <a:ext cx="4248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79280" y="1773360"/>
          <a:ext cx="4248360" cy="308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773360"/>
                    <a:ext cx="4248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272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6. Vehicle Shape Provided By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98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153-2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380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7. Vehicle Shape Provided By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56000" y="1679400"/>
          <a:ext cx="4788000" cy="20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679400"/>
                    <a:ext cx="4788000" cy="20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356000" y="3551400"/>
          <a:ext cx="4788000" cy="23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551400"/>
                    <a:ext cx="478800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0" y="3968640"/>
          <a:ext cx="4500720" cy="181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68640"/>
                    <a:ext cx="450072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0" y="1608120"/>
          <a:ext cx="4427640" cy="21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08120"/>
                    <a:ext cx="44276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020000" y="98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lt; IHRA PS153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09840" y="105264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an + Light vehicle + Sport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4:03:18Z</dcterms:created>
  <dc:creator> </dc:creator>
  <dc:description/>
  <dc:language>en-US</dc:language>
  <cp:lastModifiedBy> </cp:lastModifiedBy>
  <dcterms:modified xsi:type="dcterms:W3CDTF">2003-09-16T11:23:16Z</dcterms:modified>
  <cp:revision>72</cp:revision>
  <dc:subject/>
  <dc:title>１．Effective Head Mass at Impact（IHRA/PS/167）</dc:title>
</cp:coreProperties>
</file>