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81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920" y="3893040"/>
            <a:ext cx="81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592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50480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2280" y="150480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920" y="389304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89304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2280" y="389304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628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592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920" y="3893040"/>
            <a:ext cx="81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81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920" y="3893040"/>
            <a:ext cx="81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92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50480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2280" y="150480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920" y="389304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89304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2280" y="3893040"/>
            <a:ext cx="2631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628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92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389304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504800"/>
            <a:ext cx="3988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920" y="3893040"/>
            <a:ext cx="81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6e008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8160" y="6346800"/>
            <a:ext cx="987480" cy="46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" name=""/>
          <p:cNvSpPr/>
          <p:nvPr/>
        </p:nvSpPr>
        <p:spPr>
          <a:xfrm>
            <a:off x="1219320" y="6305400"/>
            <a:ext cx="79246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372440"/>
                <a:tab algn="r" pos="862956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rebuchet MS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Trebuchet MS"/>
              </a:rPr>
              <a:t>WorldSID 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372440"/>
                <a:tab algn="r" pos="862956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64640" y="6629400"/>
            <a:ext cx="355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CCAF-2E53-488B-B7EF-610FB660DEAC}" type="slidenum">
              <a:rPr b="0" lang="de-DE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2680" y="2828520"/>
            <a:ext cx="823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611440" y="203040"/>
            <a:ext cx="3921120" cy="182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lvl="2" marL="914400" algn="ctr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3" marL="1371600" algn="ctr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4" marL="1828800" algn="ctr">
              <a:spcBef>
                <a:spcPts val="125"/>
              </a:spcBef>
              <a:spcAft>
                <a:spcPts val="125"/>
              </a:spcAft>
              <a:buClr>
                <a:srgbClr val="00ff00"/>
              </a:buClr>
              <a:buSzPct val="125000"/>
              <a:buFont typeface="Symbol" charset="2"/>
              <a:buChar char="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6560" y="214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WorldSID Update</a:t>
            </a:r>
            <a:endParaRPr b="0" lang="en-US" sz="4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3600" y="3919680"/>
            <a:ext cx="8234280" cy="1490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y WorldSID Task Grou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o GRS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rebuchet MS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– 6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June, 2003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e-Production Dummy Evalu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2560" y="1662120"/>
            <a:ext cx="8172360" cy="447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e-production dummies purchased by government and industry around worl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3 dummies purchased from Asia/Pacific Reg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4 dummies purchased from European Reg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5 dummies purchased from the America’s Region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ummy delivery began March 2003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11 dummies purchased with a minimum of 64 channels of DAS, 64 channels of instrument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dummy to be delivered by June 4, 2003.  (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dummy to be ordered late 2003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e-Production Evaluation Programm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3920" y="2143080"/>
          <a:ext cx="8696160" cy="25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143080"/>
                    <a:ext cx="869616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e-Production Evaluation (cont.)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3920" y="2143080"/>
          <a:ext cx="8696160" cy="25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143080"/>
                    <a:ext cx="869616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rebuchet MS"/>
              </a:rPr>
              <a:t>Next Steps </a:t>
            </a:r>
            <a:endParaRPr b="1" lang="en-US" sz="4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2600" y="1085760"/>
            <a:ext cx="7772400" cy="48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plete the delivery of pre-production dummi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orldwide regulatory bodies, OEMs, suppliers, and researchers evaluate pre-production dummi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prehensive evaluation to include biofidelit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ISO requirements and others eg. IHRA) &amp; all other aspect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oduction design freeze September 25, 2003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ummy design to production dummy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oduction dummies available March 2004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ummy is regulation read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Quarter 2004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rebuchet MS"/>
              </a:rPr>
              <a:t>Latest Vehicle Testing Experienc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1760" y="1299960"/>
            <a:ext cx="8172360" cy="21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Transport Canad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Toyota Camry – comparison with ES-2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Latest prototype dumm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536400" y="3381480"/>
            <a:ext cx="6921720" cy="26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IHS Barrier 1500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mry 2001 - no side airb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mpact 50 km/h 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at position 13/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01360" y="4525920"/>
            <a:ext cx="295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WorldSID/ES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4480" y="4003560"/>
            <a:ext cx="0" cy="19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82720" y="2538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General Im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2720" y="352908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orldSID easy to handle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issues with instrumentation or data acqui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2720" y="3376440"/>
            <a:ext cx="7467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7080" y="741240"/>
            <a:ext cx="7488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rebuchet MS"/>
              </a:rPr>
              <a:t>Transport Canada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457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447920"/>
            <a:ext cx="74674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orldSID abdominal and pelvic instrumentation enhance sensitivity to interior door geo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orldSID shoulder shrugs and flexes, ES-2 rotates out of th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orldSID seating posture causes initial head placement to be more fo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orldSID &amp; ES-2 display comparable thorax deflection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295280"/>
            <a:ext cx="7467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4280" y="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rebuchet MS"/>
              </a:rPr>
              <a:t>Transport Canada Observations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01d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152280"/>
            <a:ext cx="82296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577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Trebuchet MS"/>
              </a:rPr>
              <a:t>Complete Evaluation Result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5920" y="1504800"/>
            <a:ext cx="817236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rebuchet MS"/>
              </a:rPr>
              <a:t>Full results of comprehsive Pre-Production Dummy evaluation programme available autumn 2003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978120" y="4138560"/>
            <a:ext cx="71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81"/>
                </a:solidFill>
                <a:latin typeface="Trebuchet MS"/>
              </a:rPr>
              <a:t>www.worldsid.or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23:43:56Z</dcterms:created>
  <dc:creator/>
  <dc:description/>
  <dc:language>en-US</dc:language>
  <cp:lastModifiedBy>Page-m</cp:lastModifiedBy>
  <dcterms:modified xsi:type="dcterms:W3CDTF">2003-06-05T15:04:02Z</dcterms:modified>
  <cp:revision>313</cp:revision>
  <dc:subject/>
  <dc:title>WorldSID-Prototype Demonstration Workshop</dc:title>
</cp:coreProperties>
</file>