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773-2F00-4CF6-B30E-E711CB97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F8A-D757-442B-ACA1-426EE2B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E01-7CB5-4D71-8064-8EF13B93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96E-B9A9-47C9-83D2-FA2701CB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2E8-79FC-4EDC-9B7E-BBBCE0B1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270-E701-4D6C-89F5-A4D57AEE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808-0128-4CE8-A157-EF3E55B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28C-33CD-484E-B1F9-2509D7BE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27A-4385-4C70-B631-0F943D20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DE2-6BE7-4E0D-BFCF-D33C2808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EC6-8CB8-4A20-9163-69FB73C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F45-DAD6-42BA-9B18-CC9AF4C5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54E-D61C-4EB6-B622-1CA5311FE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evc%20logo" descr=""/>
          <p:cNvPicPr/>
          <p:nvPr/>
        </p:nvPicPr>
        <p:blipFill>
          <a:blip r:embed="rId1"/>
          <a:stretch/>
        </p:blipFill>
        <p:spPr>
          <a:xfrm>
            <a:off x="2604960" y="2516040"/>
            <a:ext cx="3724560" cy="124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53000" y="4114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82"/>
                </a:solidFill>
                <a:latin typeface="AvantGarde"/>
              </a:rPr>
              <a:t>WORKING GROUP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8160" y="5562720"/>
            <a:ext cx="2229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vantGarde"/>
              </a:rPr>
              <a:t>Jean-Yves LE C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vantGarde"/>
              </a:rPr>
              <a:t>Chair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304920" y="838080"/>
            <a:ext cx="9601200" cy="581400"/>
          </a:xfrm>
          <a:prstGeom prst="rect">
            <a:avLst/>
          </a:prstGeom>
          <a:gradFill rotWithShape="0">
            <a:gsLst>
              <a:gs pos="0">
                <a:srgbClr val="bfd4ff"/>
              </a:gs>
              <a:gs pos="50000">
                <a:srgbClr val="ffffff"/>
              </a:gs>
              <a:gs pos="100000">
                <a:srgbClr val="bfd4ff"/>
              </a:gs>
            </a:gsLst>
            <a:lin ang="10800000"/>
          </a:gradFill>
          <a:ln w="57240">
            <a:solidFill>
              <a:srgbClr val="002b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b82"/>
                </a:solidFill>
                <a:latin typeface="AvantGarde"/>
              </a:rPr>
              <a:t>CHILD OCCUPANT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30492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.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GRSP-34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447920"/>
            <a:ext cx="8686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CE R-44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nt thoracic acceleration and vertical component of this accel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d displac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US FMWSS213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+ limitation of the HIC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at is new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O/TC22/SC12/WG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chnical report with some injury risk cur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ST program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ILD program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0640" y="380880"/>
            <a:ext cx="46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Criteria and injury mechanis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12440" y="380880"/>
            <a:ext cx="53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Accidentology in coaches and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09640"/>
            <a:ext cx="81691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 official European database is avail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me countries have statistical data on situation of children in coaches and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protection of children in buses and coaches, specific legislations exist but there is no common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experts point of vie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cessity to limit the number of children transported to the number of seats available in the veh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t is better, as the major risk is the ejection, to have all children after a certain age restrained with a 3 pt belt than having them unrestrained. For younger ones the use of additional CRS should be requ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tractor systems should be better than static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%20dia02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814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76040" y="38088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82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2b82"/>
                </a:solidFill>
                <a:latin typeface="Arial"/>
              </a:rPr>
              <a:t>Main conclus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447920"/>
            <a:ext cx="81691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o many children are not / not properly restrained in EU. Information, misuse reduction, and police actions are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Knowledge both in accidents research and biomechanics has made a significant step these last years and this allows to think of a revision of R44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ep by step introduction of dummies and  criteria seems to be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rsuit of the development of a family of biofidelic dummies, integrating biomechanical criteria when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imate the importance and the effect of misuse, measure the impact of the introduction of ISOFIX devices on that sensible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6600" y="5562720"/>
            <a:ext cx="1690920" cy="1125360"/>
            <a:chOff x="246600" y="5562720"/>
            <a:chExt cx="1690920" cy="1125360"/>
          </a:xfrm>
        </p:grpSpPr>
        <p:pic>
          <p:nvPicPr>
            <p:cNvPr id="86" name="eevc%20logo%20ter" descr=""/>
            <p:cNvPicPr/>
            <p:nvPr/>
          </p:nvPicPr>
          <p:blipFill>
            <a:blip r:embed="rId1"/>
            <a:stretch/>
          </p:blipFill>
          <p:spPr>
            <a:xfrm>
              <a:off x="533520" y="5562720"/>
              <a:ext cx="121932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46600" y="6324480"/>
              <a:ext cx="169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2b82"/>
                  </a:solidFill>
                  <a:latin typeface="AvantGarde"/>
                </a:rPr>
                <a:t>WORKING GROUP 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72440" y="380880"/>
            <a:ext cx="36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Accidentology in cars..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95280"/>
            <a:ext cx="8169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1998 : 2 children killed each day as car passenger on European r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om 1995 to 1999, number of children killed or injured is decreasing, situations contrasted according to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3276720"/>
          <a:ext cx="3300480" cy="32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76720"/>
                    <a:ext cx="330048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19440" y="3505320"/>
            <a:ext cx="55245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database - I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comparison between 29 countries or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in-depth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any, France, United Kingdom, Sweden, Italy,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421020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national databases are not sufficiently focussed on child safety to have a clear &amp; detailled view of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rmonization of accidentological data in EU to have a significant base statistically usable, credible and represen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74960" y="380880"/>
            <a:ext cx="45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verview of existing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y dealing for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ST/CHIL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628 restrained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 representative of real world but focussed on severe crash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ry detailled f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restraint system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crash severity and configuration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injur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nly frontal and side impa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CIS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25 childre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 representative of real world but usefull for finding inju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e of restraint not alway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lete medical reports avail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DA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8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cases with severe injuries (AIS 2 +) are in the CR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tabase or to be input in the CHILD databa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73520" y="380880"/>
            <a:ext cx="47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verview of existing databases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553080" y="336600"/>
            <a:ext cx="2057400" cy="1647720"/>
            <a:chOff x="6553080" y="336600"/>
            <a:chExt cx="2057400" cy="1647720"/>
          </a:xfrm>
        </p:grpSpPr>
        <p:pic>
          <p:nvPicPr>
            <p:cNvPr id="58" name="screen10modif" descr=""/>
            <p:cNvPicPr/>
            <p:nvPr/>
          </p:nvPicPr>
          <p:blipFill>
            <a:blip r:embed="rId1"/>
            <a:stretch/>
          </p:blipFill>
          <p:spPr>
            <a:xfrm>
              <a:off x="6553080" y="336600"/>
              <a:ext cx="2057400" cy="16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01" descr=""/>
            <p:cNvPicPr/>
            <p:nvPr/>
          </p:nvPicPr>
          <p:blipFill>
            <a:blip r:embed="rId2"/>
            <a:stretch/>
          </p:blipFill>
          <p:spPr>
            <a:xfrm>
              <a:off x="6715080" y="1411200"/>
              <a:ext cx="37152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02" descr=""/>
            <p:cNvPicPr/>
            <p:nvPr/>
          </p:nvPicPr>
          <p:blipFill>
            <a:blip r:embed="rId3"/>
            <a:stretch/>
          </p:blipFill>
          <p:spPr>
            <a:xfrm>
              <a:off x="7094520" y="1411200"/>
              <a:ext cx="331920" cy="379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" name=""/>
            <p:cNvGraphicFramePr/>
            <p:nvPr/>
          </p:nvGraphicFramePr>
          <p:xfrm>
            <a:off x="6651720" y="842400"/>
            <a:ext cx="833040" cy="5158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51720" y="842400"/>
                      <a:ext cx="83304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Specific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ly dealing for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B gn96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27 childre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ative of car to car and car to obstacle crashes country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ashes in Fra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ry detailled f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restraint system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crash severity and configuration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injury descrip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ta on frontal, side, rear impacts and roll ov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naire 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30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 representative and injury level is defined by paren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ver-representativity of rear impa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DV 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re than 350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cases with severe injuries (AIS 2 +) are in the CRESTdb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be input in the CHILD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73520" y="380880"/>
            <a:ext cx="47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verview of existing databases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13893_gn03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29536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1143000"/>
            <a:ext cx="762948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strained children are better protected than unrestrained, especially when using an appropriate C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risk of severe injuries is small for properly restrained children up to a deltaV of 40 km/h in frontal impa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wedish experience shows good results with rearward facing systems for children up to 3 years of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ing CRS have been mainly designed for protection in frontal imp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S protection in side impacts is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ation of major injury mechanisms / type of CRS is possible for different type of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5680" y="380880"/>
            <a:ext cx="53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General conclusions from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7440" y="990720"/>
            <a:ext cx="816912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EVC WG 18 points ou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or frontal impac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st bench (geometrical + proper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rity of test (shape of pul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ofidelity and instrumentation of dumm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eria  based on  body segments on which injuries occ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or side impac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roduction of side require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ofidelity, instrumentation of dummies and associated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08840" y="380880"/>
            <a:ext cx="64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Background and development of dummie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600200"/>
            <a:ext cx="81691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-serie dummies are in R44 toda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milly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y were adapted for evaluation of prot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frontal imp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bably not the optimal dummies for all impact di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me criteria used are not relevant any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1half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374840" cy="154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3886200"/>
            <a:ext cx="816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-serie dummi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milly is not comple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3 in production, Q1 and Q6 ready for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0 is developped (first prototypes available in CHI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s under development, Q10 i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igned for all impact di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eria are available for some body segments in frontal impact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research programs are working on the sub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Q3-ftss%20caltalog" descr=""/>
          <p:cNvPicPr/>
          <p:nvPr/>
        </p:nvPicPr>
        <p:blipFill>
          <a:blip r:embed="rId2"/>
          <a:stretch/>
        </p:blipFill>
        <p:spPr>
          <a:xfrm>
            <a:off x="7391520" y="3962520"/>
            <a:ext cx="109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8840" y="380880"/>
            <a:ext cx="64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Background and development of dummie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2193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brid III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igned for evalu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ection in frontal imp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3, H6, H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rn in 1992, updated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eria are available for some body se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frontal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ABI dummies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m, 12m, 18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igned for all impact di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ith or without airbag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eria are available for some body se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frontal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rabi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858000" y="4267080"/>
            <a:ext cx="12002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h3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705720" y="1219320"/>
            <a:ext cx="1373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7:18:13Z</dcterms:created>
  <dc:creator>LAB</dc:creator>
  <dc:description/>
  <dc:language>en-US</dc:language>
  <cp:lastModifiedBy>Juan Ramos</cp:lastModifiedBy>
  <dcterms:modified xsi:type="dcterms:W3CDTF">2003-12-09T17:37:26Z</dcterms:modified>
  <cp:revision>38</cp:revision>
  <dc:subject/>
  <dc:title>Aucun titre de diapositive</dc:title>
</cp:coreProperties>
</file>