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5247-1DDF-4F5C-ABDF-FD1BF509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04E-DA3D-4BE8-84FB-A18F6EFE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646-BA98-4B6B-A107-C0577E2B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03A-BF0F-4B9B-8DFE-70FE6BEF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A84-8114-462B-80C4-F64122F0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E4F-3378-4A91-BACE-3042B69B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427-B22D-4896-9848-B0CB76B1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348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4E3F-E17D-43AD-9D46-41C6FE55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27A-2B57-4485-9F17-AC8669B9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3AF-7BD3-4461-9DEE-6E81A333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348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5E4-BFAD-4ED0-BDCE-39FDABCB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592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428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BDB2-25E4-4CD2-BA03-D0855C3F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400800" y="634356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7543800" y="6172200"/>
          <a:ext cx="124776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72200"/>
                    <a:ext cx="12477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6E95-49F8-450E-A932-171DA7564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609480"/>
            <a:ext cx="4267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00400" y="533520"/>
          <a:ext cx="2800440" cy="111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533520"/>
                    <a:ext cx="280044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i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Alan Lynch </a:t>
            </a:r>
            <a:endParaRPr b="0" i="1" lang="en-US" sz="32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ahoma"/>
              </a:rPr>
              <a:t>Head of Wheeled Mobility and </a:t>
            </a:r>
            <a:endParaRPr b="0" i="1" lang="en-US" sz="2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ahoma"/>
              </a:rPr>
              <a:t>Seating Centre Blackpool</a:t>
            </a:r>
            <a:endParaRPr b="0" i="1" lang="en-US" sz="2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ahoma"/>
              </a:rPr>
              <a:t>Chairman of International (ISO), European (CEN), British (BSI) Standards Groups</a:t>
            </a:r>
            <a:endParaRPr b="0" i="1" lang="en-US" sz="2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ahoma"/>
              </a:rPr>
              <a:t>for Wheelchairs and Seating</a:t>
            </a:r>
            <a:endParaRPr b="0" i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117440" y="5410080"/>
            <a:ext cx="711216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30 JUNE 2003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GSRG (Ad-hoc) Group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152280"/>
            <a:ext cx="297180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Times New Roman"/>
              </a:rPr>
              <a:t>Informal document No</a:t>
            </a:r>
            <a:r>
              <a:rPr b="1" lang="en-GB" sz="1600" spc="-1" strike="noStrike" u="sng">
                <a:solidFill>
                  <a:srgbClr val="ffff00"/>
                </a:solidFill>
                <a:uFillTx/>
                <a:latin typeface="Times New Roman"/>
              </a:rPr>
              <a:t>.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9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(85</a:t>
            </a:r>
            <a:r>
              <a:rPr b="1" lang="en-GB" sz="18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GRSG, 21-24 October 2003 agenda item 3.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711360" y="1600200"/>
            <a:ext cx="8432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6095880"/>
            <a:ext cx="71118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60948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762120"/>
            <a:ext cx="7467480" cy="58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RISKS/HAZARDS EXAMPLES (Wheelchair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tart with a description of the intended us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n identify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ALL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intended usag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isks/hazards both from and to :-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User, environment, construction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   materials, transport,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maintenance/repairs, electrical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afety, fire retardency,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biocompatibility, hygiene, 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ny other potential hazar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711360" y="914400"/>
            <a:ext cx="843264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MINIMISE OR REMOVE RISK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onsider:-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pecification/design of equip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nstructions/Warn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abelling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rai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6095880"/>
            <a:ext cx="71121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609480"/>
            <a:ext cx="7010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829480"/>
            <a:ext cx="71118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7440" y="1486080"/>
            <a:ext cx="7010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676520"/>
            <a:ext cx="772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n some cases standards can be used by manufacturers to show how they have reduced risks and met some of the essential requirements of the Medical Device Regulations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6095880"/>
            <a:ext cx="71121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91440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3029040"/>
            <a:ext cx="77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1219320"/>
            <a:ext cx="7010280" cy="58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For transportation elements of their risk management, many wheelchair and seating manufacturers look towards the available issued (or draft) standard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tandards (or draft standards) are available for the dynamic impact testing of,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- wheelchai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- wheelchair tie down and occupant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restraint systems (WTOR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- seating unit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6400800"/>
            <a:ext cx="7569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533520"/>
            <a:ext cx="72392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251460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685800"/>
            <a:ext cx="7696080" cy="59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SO 7176 Part 1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(issued) - Wheeled Mobility Devices for Use in Motor Vehic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SO 10542 Parts 1 to 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heelchair Tie-down and Occupant Restraint Systems (WTOR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(issued)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Part 1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General Requiremen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(issued)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Part 2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Four Point Strap Type Tie-dow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(draft)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Part 3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Docking Tie-down System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(draft)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Part 4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Clamping Tie-down System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(draft)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Part 5 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TORS for Specific Wheelchai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ISO 16840 Part 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(draft) Wheelchair Seating for Use in Motor Vehic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6019920"/>
            <a:ext cx="71121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0492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190512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457200"/>
            <a:ext cx="68580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ALL THESE STANDARDS INCLUD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 forward facing impact simulation at 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48km/h @ 20g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 lap and diagonal belt restraint for the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wheelchair occupant with an above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houlder ‘B’ pillar mounting or guide.                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 tie-down system for the wheelchair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Pass/fail criteria and design/labelling for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equipment itself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NOTE:  Only ISO 10542 Part 5 specifically includes children at this time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5943600"/>
            <a:ext cx="71121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17440" y="571680"/>
            <a:ext cx="7010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52388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838080"/>
            <a:ext cx="70102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standards concentrate on equipment pass/fail, dummy movement and the possibility of contact with the vehicle structure or other vehicle passenger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y do not at present include any form of injury level measurement for a wheelchair user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wheelchair could pass whilst the dummy occupant had been subject to high impact loading as confirmed by some of the TRL and other test results in this subject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015920" y="990720"/>
            <a:ext cx="69087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609480"/>
            <a:ext cx="7848720" cy="75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Occupant restraints provided by the WTORS manufacturer shall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have both pelvic and upper torso belts designed to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pply forces to the occupant’s skeletal reg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function independently of the wheelchair, such that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restraint belts anchor to either the vehicle or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wheelchair tiedown components so that occupant-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estraint loads are not transmitted through the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wheelchai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have belt restraints that can be adjusted in length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without the use of too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figure%204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7315200" cy="4648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38080" y="3808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ange of required angles for pelvic belts and locations of pelvic belt anchor poin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3520" y="609480"/>
            <a:ext cx="807696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f occupant restraints include structural components for the attachment of upper anchorages or guides for upper torso belts, locations for the upper anchor points shall be provided that are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djustable in height so they can be positioned at or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bove the shoulder level of the intended user(s), or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at ar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ocated at least 1 100mm above the wheelchair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ground pla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85800" y="571320"/>
            <a:ext cx="7442280" cy="37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5638680"/>
            <a:ext cx="75438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015920" y="990720"/>
            <a:ext cx="690876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Tahoma"/>
              </a:rPr>
              <a:t>On 1 April 2003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Tahoma"/>
              </a:rPr>
              <a:t>MDA joined with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Tahoma"/>
              </a:rPr>
              <a:t>MCA (Medicines Controls Agency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Tahoma"/>
              </a:rPr>
              <a:t>to become the MHRA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Tahoma"/>
              </a:rPr>
              <a:t>(Medicines and Healthcare products Regulatory Agency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Tahoma"/>
              </a:rPr>
              <a:t>MHRA is an Executive Agency of the Department of Health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5638680"/>
            <a:ext cx="71121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68580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117440" y="1981080"/>
            <a:ext cx="6909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049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lear zones for wheelchair seated occupan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914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new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59436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figure%207" descr=""/>
          <p:cNvPicPr/>
          <p:nvPr/>
        </p:nvPicPr>
        <p:blipFill>
          <a:blip r:embed="rId2"/>
          <a:stretch/>
        </p:blipFill>
        <p:spPr>
          <a:xfrm>
            <a:off x="1447920" y="1219320"/>
            <a:ext cx="5790960" cy="5092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09480" y="3808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Example of warning label illustrating improper positioning of occupant restraint bel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figure%208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5943600" cy="4496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371600" y="380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llustration of proper belt fi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5638680"/>
            <a:ext cx="71118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91440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1085760"/>
            <a:ext cx="739152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380880"/>
            <a:ext cx="7010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vast majority of wheelchairs and WTORS now being sold in the UK have been tested against these standard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Older wheelchairs have not been tested, but reports received so far do not reveal any major problem trends in the field when used with appropriate WTOR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990720"/>
            <a:ext cx="812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5562720"/>
            <a:ext cx="71121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066680"/>
            <a:ext cx="7010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914400"/>
            <a:ext cx="69343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ack of a “Test Certificate” for a wheelchair based on one of these standards does not mean it is totally unsafe in all situation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onversel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 Test Certificate does not mean it is totally safe for the wheelchair user in all situation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90720" y="53352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601992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685800"/>
            <a:ext cx="701064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wheelchair manufacturer should give information on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uitability for use in vehicles transpor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ny limit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f suitable should give information on how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o transport it safely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lso the WTORS manufacturer should give information on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ompatibil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how to use safel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ny limitations in u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533520"/>
            <a:ext cx="7010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6095880"/>
            <a:ext cx="7010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609480"/>
            <a:ext cx="693432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FUTUR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-  The standards are still evolving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-  The inclusion of children into these     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              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tandards will start soon (only 10542 Part 5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ncludes children at the moment)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-  Rear facing in a frontal impact and forward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facing in a rear impact are also under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onsideration.  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(Incorporating information 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obtained so 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far from provisional ISO Working Group tests plus the   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TRL research work.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-  Rear facing will probably be covered by a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WTORS standard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90720" y="579132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91440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1219320"/>
            <a:ext cx="7010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dverse incidents concerning wheelchair users should be reported to MHRA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ncidents can be reported on-line or by completing paper copies of adverse incident forms obtained from our web page at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www.mhra.gov.uk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ll adverse incident reports are registered on the MHRA (Devices) database for investigation or trending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62120" y="685800"/>
            <a:ext cx="7315200" cy="53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nstructions for downloading safety warnings or guidance from www.mhra.go.uk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go to Devic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go to publications/safety warn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hoose Device Bulletins to download further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opies of the Device Bulleti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hoose Safety Notices to download earlier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afety Warning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hoose Device Alerts for Safety Warnings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fter December 2002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533520"/>
            <a:ext cx="7010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594360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990720"/>
            <a:ext cx="812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6019920"/>
            <a:ext cx="71121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30492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53352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457200"/>
            <a:ext cx="7010640" cy="59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Old MDA Web pag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www.medical-devices.gov.u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New MHRA Web pag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www.mhra.gov.u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Wheeled Mobility and Seating Cent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E-mail: bav@mhra.gsi.gov.u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Tel no: 01253 59600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Fax No: 01253 596177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015920" y="1219320"/>
            <a:ext cx="69087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MHRA (Devices) is the primary source of expertise within the UK Department of Health for matters relating to the safety, quality and performance of all medical device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lso on behalf of the UK Secretary of State for Health MHRA (Devices) is the UK Competent Authority for the European Medical Devices Directive (CE marking)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5715000"/>
            <a:ext cx="71121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68580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711360" y="1600200"/>
            <a:ext cx="8432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5562720"/>
            <a:ext cx="71121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91440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219320"/>
            <a:ext cx="7467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Major areas of MHRA (Devices) workload:-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dverse Incident Investig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dvice &amp; Guida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European Affai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tandards Activ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Product Evalu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117440" y="1981080"/>
            <a:ext cx="6909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15920" y="5600880"/>
            <a:ext cx="71121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1219320"/>
            <a:ext cx="7010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1905120"/>
            <a:ext cx="69343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re are over 1,000,000 wheelchair users in the UK and thousands of vehicle journeys are completed every day with few reported problem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However, a small number of injuries and fatalities have been reported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507960" y="990720"/>
            <a:ext cx="802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143000" y="1218960"/>
            <a:ext cx="655308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8088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586728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33520"/>
            <a:ext cx="693396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MHRA has attempted to raise awareness and understanding for all concerned by producing two guidance documents on the Safe Transportation of Wheelchair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Guidance on the Safe Transportation of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Wheelchairs MDA DB 2001(03) June 200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Guidance on the Safe Use of Wheelchairs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nd Vehicle-mounted Passenger Lifts MDA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DB 2003(03) March 200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documents are available as a download from MHRA website www.mhra.gov.uk and in paper form from MHRA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11360" y="1981080"/>
            <a:ext cx="721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6019920"/>
            <a:ext cx="71118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68580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914400"/>
            <a:ext cx="685800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UK Medical Device Regulations 2002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I No 61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Disability Discrimination Act 199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European Union Directives on Vehicle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Manual Handling Regul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nternational Standard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ll have implications for wheelchair users, carers, prescribers, transport providers, vehicle and equipment manufacturers/supplier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91440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556272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990720"/>
            <a:ext cx="69343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n general the safety of wheelchair users in vehicles should compare with other vehicle user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When a wheelchair user is travelling in a vehicle where other seated passengers have an occupant restraint and/or headrest then an occupant restraint and/or headrest should be provided for the wheelchair user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990720"/>
            <a:ext cx="761976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s part of their CE marking process manufacturers of wheelchairs must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1. Undertake a risk analysi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2. Ensure that the device meets all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the requirements of the relevant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directive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3. Make a declaration of conformity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5638680"/>
            <a:ext cx="71118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066680"/>
            <a:ext cx="7010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07:38:36Z</dcterms:created>
  <dc:creator>Medical Devices Agency</dc:creator>
  <dc:description/>
  <dc:language>en-US</dc:language>
  <cp:lastModifiedBy>Rabar</cp:lastModifiedBy>
  <cp:lastPrinted>2003-06-27T09:00:29Z</cp:lastPrinted>
  <dcterms:modified xsi:type="dcterms:W3CDTF">2003-10-10T08:40:41Z</dcterms:modified>
  <cp:revision>105</cp:revision>
  <dc:subject/>
  <dc:title>Adverse Incident Investigation</dc:title>
</cp:coreProperties>
</file>