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62160" y="721800"/>
            <a:ext cx="4795920" cy="35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8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0C7740-5A1F-42EE-BF89-286A981E9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244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53640" y="4568760"/>
            <a:ext cx="542124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 base / HD07 control Inven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ally identical with three excep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U (electric power companies) uses a more recent IPM model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mall nation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moved emissions of residential incineration (cities stopped burning trash in apartment buildings in the 199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rowth projections for prescribed bu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forest service estimate seeme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tial increase in PM in south and west, even in the east with Georgia, Louisiana, Arkansas, and north Carolin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07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 1999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4B5-49BC-4740-8FEE-0529183D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2248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255-0681-4F6B-AEFC-0F65CA86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2248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2248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DF8-CD7B-4993-AD2A-24323D0D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37124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37124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2248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2248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2248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B67-576D-4D3C-BE16-65178252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7C0D-6EC8-413F-8BA1-A4AB5B67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C764-F995-4E73-B6FE-805E214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F367-69E2-48D5-98E4-32874E7A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8065-E411-4A99-BF75-7CC9A5D5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5780-1930-43F2-8CB0-0BA86AF1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99E9-9E81-4EC3-809D-344F980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382248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89D1-8CB7-4573-944C-D977948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659-A965-4A5E-8D82-BDAB5629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4800" y="382248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4C52-0108-40AB-87E8-01428D4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2120" y="382248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E98B-FC9E-439A-B4C1-CB29158C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2120" y="382248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45A7-EA12-4B5A-8BD5-649A21C8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382248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4800" y="382248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162A-864B-4C19-89E4-7ECDBCF3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90120" y="137124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37124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2120" y="382248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90120" y="382248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822480"/>
            <a:ext cx="25023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FE37-A06A-4658-BF3C-3849E64C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77C-8CB5-419A-BB0F-94A1F1FB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1C6-9928-4A2A-B421-9AFEE092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362-4C14-4993-96B1-FEB85D08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5F6-3153-4AFF-ADE8-50BA4B78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2248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5EF-FEA7-4076-80EB-E307D13B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2248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6C4-087F-49E6-9AE2-6BCE047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371240"/>
            <a:ext cx="37926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2248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E78-4AED-47E0-B4D2-4109AA32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9532-2B83-4D47-8149-2BF159BD881A}" type="slidenum">
              <a:rPr b="0" lang="en-US" sz="20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24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2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11B-43BD-406C-AB40-FA090DA0D2D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6002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a3d7a"/>
                </a:solidFill>
                <a:latin typeface="Arial"/>
              </a:rPr>
              <a:t>EPA’s Proposal for Nonroad </a:t>
            </a:r>
            <a:br>
              <a:rPr sz="4500"/>
            </a:br>
            <a:r>
              <a:rPr b="0" lang="en-US" sz="4500" spc="-1" strike="noStrike">
                <a:solidFill>
                  <a:srgbClr val="2a3d7a"/>
                </a:solidFill>
                <a:latin typeface="Arial"/>
              </a:rPr>
              <a:t>Diesel Engines &amp; Fuel</a:t>
            </a:r>
            <a:endParaRPr b="0" lang="en-US" sz="4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472428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01680" indent="-301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 Environmental Protection Agenc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of Transportation and Air Qual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60680" y="2816280"/>
            <a:ext cx="2178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19920" y="457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5b5249"/>
                </a:solidFill>
                <a:uFillTx/>
                <a:latin typeface="Times New Roman"/>
              </a:rPr>
              <a:t>Informal document No.   </a:t>
            </a:r>
            <a:r>
              <a:rPr b="1" lang="en-GB" sz="1400" spc="-1" strike="noStrike" u="sng">
                <a:solidFill>
                  <a:srgbClr val="5b5249"/>
                </a:solidFill>
                <a:uFillTx/>
                <a:latin typeface="Times New Roman"/>
              </a:rPr>
              <a:t>13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b5249"/>
                </a:solidFill>
                <a:latin typeface="Times New Roman"/>
              </a:rPr>
              <a:t>(46</a:t>
            </a:r>
            <a:r>
              <a:rPr b="0" lang="en-GB" sz="14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GB" sz="1400" spc="-1" strike="noStrike">
                <a:solidFill>
                  <a:srgbClr val="5b5249"/>
                </a:solidFill>
                <a:latin typeface="Times New Roman"/>
              </a:rPr>
              <a:t> GRPE, 19-23 May 2003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5b5249"/>
                </a:solidFill>
                <a:latin typeface="Times New Roman"/>
              </a:rPr>
              <a:t>agenda item 10.)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C0C-0FCF-4B4E-B736-BE39FF68B8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Scope of the Proposal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al applies to nonroad diesels of all sizes, from 3 to 3,000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a diversity of applications-- construction, farming, mining,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fuel provisions apply to fuel used in nonroad diesels, locomotives, and marine eng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not to home heating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road fuel is not currently regulated by 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al addresses serious health and welfare impacts from nonroad diesel fuel and equipment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, fine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diesel exhaust is likely to be carcinogenic to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ources currently contribute 44% of total mobile source diesel PM and 12% of total mobile source NOx nationw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contributions range even higher in many urban areas and will grow in the futur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D98-EFC8-42D5-AFE8-4B88610A39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Proposal Overview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s approach of reducing nonroad fuel sulfur levels to enable advanced emission control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870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2007 diesel truck and fuel ru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ppm maximum sulfur nonroad diesel fuel i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870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ubstantial health benefits from sulfate and PM redu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pm nonroad fuel in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870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able engine standar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standards representing reductions of &gt;95% PM and ~90% NO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8700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n starting in 2008, fully phased in by 201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certification test requirements to ensure in-use emissions r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16E-72E5-42E8-A001-38743251A7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30040" y="966960"/>
          <a:ext cx="9066240" cy="511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966960"/>
                    <a:ext cx="906624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F7D-2CAA-4777-926C-0EEF12FF80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Hubert</cp:lastModifiedBy>
  <cp:lastPrinted>2003-04-28T15:37:36Z</cp:lastPrinted>
  <dcterms:modified xsi:type="dcterms:W3CDTF">2003-05-15T08:05:10Z</dcterms:modified>
  <cp:revision>205</cp:revision>
  <dc:subject/>
  <dc:title>QALY’s in Analyses of Air Pollution Regulations</dc:title>
</cp:coreProperties>
</file>