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943-7F5B-4A03-82A2-8B976711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832-F9DE-4795-8CA0-BEB6134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C14-CA06-46C6-97A8-1C8688A9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B6B-F552-4165-ABBE-4360261C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123-ACBC-4AC6-8E53-C5694278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52E-C631-46C8-B0DE-E036F813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0B3-53EF-4FCB-B90F-AF974AFD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118-D556-441F-B1B4-9DE84D7E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5E4-D376-4991-B356-5751AC64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AB3-4CCB-4022-9DD1-C15BFB94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AA4-9E07-42E4-A813-F1BC3854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E3C-018A-4E7F-AD31-F29079F0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3501-0260-4C71-99A5-ACA7F8291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0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0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0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T-OFF” LI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FS DRAFT REGULATION</a:t>
            </a:r>
            <a:br>
              <a:rPr sz="3600"/>
            </a:br>
            <a:br>
              <a:rPr sz="36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 TO INFORMAL DOCUMENT No.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80320" y="4648320"/>
            <a:ext cx="29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sz Targosiń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79132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cument is distributed to the Experts on Lighting and Light-Signalling on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 as a whole or in parts cannot be used for other purposes than GRE without written permission of the aut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457200"/>
            <a:ext cx="213336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formal document No.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5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GRE, 7-11 April 200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da item 3.2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A4C-5A04-42BF-A7F8-C835B6D0AB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GSC-przykład%20dwóch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62920" cy="4687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DEPENDING ON USAGE OF „SHOULDER LINE PART” TOLER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41972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t-off” line can be aimed differently depending on using or not using 0.2 deg  tolerance of A and B li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If tolerances of lines A and B do not apply, green position “cut-off” line is obtai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If tolerances of lines A and B apply, red position “cut-off” line is obtai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lerances of A and B lines ±Δβ lead to different results of „cut-off” line aim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sal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emove A and B lines ±Δβ tolerances from Draft XX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as in TRANS/WP.29/GRE/2002/44rev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103-02EE-4FC5-BB22-B4A0E53D11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GSC-Rys1b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3791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OF 60DEG TANGENTIAL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572000"/>
            <a:ext cx="2361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952880"/>
            <a:ext cx="800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lighting units can have more than one „kink point” in „cut-off” line and it is difficult to decide which one is correct with respect to the tangential line inclined 60 deg to the „shoulder line part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7150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sal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„Shoulder part” shall be approximated by slant line.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Compare examples of “cut-off” line approxim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D8A-50CD-488E-A498-90F385C91E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DISCONTINUITY (THRESHOLD) OF „SHOULDER LINE PAR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GSC-Rys3ab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75400" cy="572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E2B-FD05-4021-8722-4D7A537049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re is discontinuity on the „shoulder line part” of „cut-off” line, there are two different possible ways of finding „kink point”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ing visual approximation by prolonging slant part of „cut-off” line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ing 60deg tangential l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rding to Draft XXX the quality of horizontal part of „cut-off” is checked in three points (1.5deg, 2.5deg, 3.5deg) only. Results will depend on this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962520"/>
            <a:ext cx="73152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f “horizontal part” of „cut-off” line has small blur part, then in one situation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„cut-off” line quality can be estimated as correct and in the other a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correct depending on chosen way of finding „kink point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762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DISCONTINUITY OF „SHOULDER LINE PAR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18F-74E8-486D-BD44-25B862D657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GSC-Rys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458200" cy="4809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RRED „KINK POI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571500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„kink point” is blurred it is difficult to locate correct place of „kink” and conclusion is similar to the previous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3DC-E36B-48F9-A31A-0FC452C3CB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„SHOULDER LINE PAR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GSC-Rys1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848720" cy="5135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5715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re is a double „shoulder line part”, there is a double „kink point”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BEE-798F-4AF1-915B-E66DFA8BEF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GSC-nowy-sposób2" descr=""/>
          <p:cNvPicPr/>
          <p:nvPr/>
        </p:nvPicPr>
        <p:blipFill>
          <a:blip r:embed="rId1"/>
          <a:stretch/>
        </p:blipFill>
        <p:spPr>
          <a:xfrm>
            <a:off x="0" y="533520"/>
            <a:ext cx="8839080" cy="4484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OF IMPROVING THE METHOD OF CUT-OFF LINE DETERMINING AND AI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876920"/>
            <a:ext cx="80773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s of chang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. Vertical scanning „cut-off” line every 0.1d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. Tolerance range of the most „horizontal part” should be ±0.1de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. 80% of „horizontal part” should be placed within ±0.2 deg tolerance ran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. „Shoulder line part” should be approximated  by slant 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12A-1837-493B-8E7E-F5EF268E59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DURE OF INSTRUMENTAL ADJUSTMENT OF „CUT-OFF” LI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roposed in TRANS/WP.29/GRE/2002/44 Rev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9B6-E72B-4C8B-B7DA-282E30B906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PRE-A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APPROXIMATION OF „CUT-OFF”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000tt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09604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53341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ven if visual pre-aiming is not enough precise, the result of the propos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cedure will be corr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34D-2944-4AFD-8C9B-6201A62101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IGINAL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original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01tt" descr=""/>
          <p:cNvPicPr/>
          <p:nvPr/>
        </p:nvPicPr>
        <p:blipFill>
          <a:blip r:embed="rId1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3AA-1671-44A2-B09C-9AB46B638A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TOLERANCES OF VERTICAL AI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LIGHTING RANG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S CLASS C (BASIC) PASSING B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495680"/>
            <a:ext cx="85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ording to Draft XXX proposal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nex 9  P. 1.2.1.   the "horizontal part" does not exceed a </a:t>
            </a:r>
            <a:r>
              <a:rPr b="0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vertical extent of </a:t>
            </a:r>
            <a:r>
              <a:rPr b="1" i="1" lang="en-GB" sz="1400" spc="-1" strike="noStrike" u="sng">
                <a:solidFill>
                  <a:srgbClr val="ff3300"/>
                </a:solidFill>
                <a:uFillTx/>
                <a:latin typeface="Symbol"/>
                <a:ea typeface="Symbol"/>
              </a:rPr>
              <a:t></a:t>
            </a:r>
            <a:r>
              <a:rPr b="1" i="1" lang="en-GB" sz="1400" spc="-1" strike="noStrike" u="sng">
                <a:solidFill>
                  <a:srgbClr val="ff3300"/>
                </a:solidFill>
                <a:uFillTx/>
                <a:latin typeface="Arial"/>
              </a:rPr>
              <a:t> = 0.2 deg</a:t>
            </a:r>
            <a:r>
              <a:rPr b="0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up or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nex 3  Table 2    Class C (basic): the “cut-off” shall be </a:t>
            </a:r>
            <a:r>
              <a:rPr b="0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ositioned at 0.57d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5562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ase of using a standard headlamp at standard mounting height at 0.75m, assuming „cut-off” line tolerance of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Δβ = 0.2de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lighting range will vary 56m to 116m, which can be accepte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Rys5a-pop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36120" cy="28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16A-49DB-42CC-9D5C-A93C9A4693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05" name="003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B32-05A1-4048-9DC7-B592293051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004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3D9-99EA-4046-9F73-448035DB6F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005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962-94D7-401D-9341-2D93676369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006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D93-B244-4659-B267-D2EDE6AC59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21" name="007tt" descr=""/>
          <p:cNvPicPr/>
          <p:nvPr/>
        </p:nvPicPr>
        <p:blipFill>
          <a:blip r:embed="rId2"/>
          <a:stretch/>
        </p:blipFill>
        <p:spPr>
          <a:xfrm>
            <a:off x="523800" y="1862280"/>
            <a:ext cx="8096400" cy="3133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1D1-07DA-48E3-857C-6E37AB048C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25" name="008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582-70A2-4A78-9163-0BCDD7C165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009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030-E2E7-4F45-B727-C09002EC88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010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AB9-3073-4CB6-8028-69717EA2FB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011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937-0288-4016-B941-F13AA19417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41" name="012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CB1-757B-4573-AA01-0CDF6DE297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TOLERANCES OF VERTICAL AI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LIGHTING RANG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S CLASS E (MOTORWAY) AND CLASS W (WET ROAD) PASSING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648320"/>
            <a:ext cx="845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ording of Draft XXX propos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nex 3  Table 2   Class E (motorway) and W(wet road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“cut-off” shall be </a:t>
            </a:r>
            <a:r>
              <a:rPr b="0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ositioned  not above 0.23deg and not below 0.57d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334120"/>
            <a:ext cx="4876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486400"/>
            <a:ext cx="845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ase of using AFS Class E and W passing beams of one pair of lighting unit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standard height of 0.75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lighting range will vary from 56m to 1430m (considering rising of the beam from 0.57degD to 0.23degD) when tolerance of vertical aiming is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Δβ = 0.2de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Rys5b-pop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0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774-2DB2-48DF-A9B5-6694F291FE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45" name="013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A8D-07E4-4725-8929-CEF3FF3D00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49" name="014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AL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502920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5BF-B4A2-4327-BC0D-BC35011CCB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09120" y="50292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„kink point” - horizontal place of visual pre-a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„kink point” - result of first loop of proced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approximation of „shoulder line part” and position of „kink point”, according to TRANS/WP.29/GRE/2002/44 Rev 1. Annex 9 p. 4.2.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position of initial “kink point” is very close to the po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f final “kink point”, independently of visual pre-aiming preci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015tt3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RIZONT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IGINAL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9B4-329C-442B-8BEE-65DA65C2C2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57" name="018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RIZONT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AL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02920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approximation of “shoulder line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94F-60F3-4E26-A6F2-FF40FF99F1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020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IGINAL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original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CAF-7C20-4C18-9E70-FF3D814964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65" name="020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DF5-0591-46DB-958D-695B31E4D9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021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9FD-2A8A-4A06-8921-998CFA3062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73" name="023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429-BC01-4FE5-B498-34E794E0C6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77" name="025%20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467-1A8F-466D-864F-A02E88B94A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81" name="026%20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approximation of “horizontal par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1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VERTIC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AL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30A-ABE2-45C0-9DFD-2EEF165106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TOLERANCES OF VERTICAL AI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LIGHTING RANG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S CLASS E (MOTORWAY) AND CLASS W (WET ROAD) PASSING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943600"/>
            <a:ext cx="83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„Horizontal part” of „cut-off” shall be aimed with tolerance of not more than 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Arial"/>
              </a:rPr>
              <a:t>Δβ = 0.1deg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038480"/>
            <a:ext cx="83055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obta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ame lighting ran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FS lighting units mounted a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 for AFS lighting units   mounted at standard mounting height 0.75m,  the “horizontal part” shall be positioned not below 0.23degD and not above 0.09deg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s considering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Δβ = 0.2de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ing range on the road surface can change from 40m to „infinit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t-off” can be positioned over 0.43degD and under 0.11degU over horizon. This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cause direct intensive g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ys5c-pop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915400" cy="25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BF9-D12D-45F7-AA1D-8941C039C1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85" name="026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HORIZONT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IGINAL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5105520"/>
            <a:ext cx="748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approximation of “shoulder line part” and position of “kink poin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2.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72B-35BC-49AE-8B83-68488D7BF0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89" name="027%20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HORIZONT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105520"/>
            <a:ext cx="792504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shoulder line part” and position of “kink poin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2.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206-6199-4266-812F-4C1240E038A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93" name="029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9480" y="5105520"/>
            <a:ext cx="792504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shoulder line part” and position of “kink poin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2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HORIZONT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A43-C2EF-44AD-B99A-277289EB0B3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031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9480" y="5105520"/>
            <a:ext cx="792504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next approximation of “shoulder line part” and position of “kink poin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2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HORIZONT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LLOWING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875-F5DC-4A9D-A78E-EDFDC1F6B7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201" name="032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HORIZONTAL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AL STEP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5059440"/>
            <a:ext cx="71625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approximation of “shoulder line part” and position of “kink poin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rding to TRANS/WP.29/GRE/2002/44 Rev 1. Annex 9 p. 4.2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D38-EF45-424A-84AB-4E89B65F00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205" name="033tt" descr=""/>
          <p:cNvPicPr/>
          <p:nvPr/>
        </p:nvPicPr>
        <p:blipFill>
          <a:blip r:embed="rId2"/>
          <a:stretch/>
        </p:blipFill>
        <p:spPr>
          <a:xfrm>
            <a:off x="523800" y="1857240"/>
            <a:ext cx="8096400" cy="3143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90720" y="5105520"/>
            <a:ext cx="716256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of instrumental adjustment procedure, according to TRANS/WP.29/GRE/2002/44 Rev 1. Annex 9 p. 4.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strumental approximation of “cut-off” line is very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sistent with average visual position of “cut-off” 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SULT OF TH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APPROXIMATION OF “CUT-OFF”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164-57EE-47D7-9B34-8A139D6D91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REAL „CUT - OFF” LIN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NDARD HEADLAMP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ING AMBIGUITIES OF DEFINITION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IN AFS DRAFT XXX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lease, pay attention to multiplied “kink points”, different kinds of 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kink points”, linear approximations of “shoulder line parts” and 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tances between “kink points” and maximums of illumination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22E-1D42-470E-8284-ACC45DC148C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1" descr=""/>
          <p:cNvPicPr/>
          <p:nvPr/>
        </p:nvPicPr>
        <p:blipFill>
          <a:blip r:embed="rId1"/>
          <a:stretch/>
        </p:blipFill>
        <p:spPr>
          <a:xfrm>
            <a:off x="898560" y="1438200"/>
            <a:ext cx="7620120" cy="38102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TINUITY ON „HORIZONTAL PAR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533412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Green 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instrumental approximation of „cut-off”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d poi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points described in Draft XXX Annex 9 which form real „cut-off”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lue poi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points of real cut-off line agreeing with approxi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4C1-9770-481B-84CC-F27C14AC182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98560" y="1438200"/>
          <a:ext cx="755964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438200"/>
                    <a:ext cx="755964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066680" y="914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B38-8ABF-4971-8DF5-10D91D762D6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odwójny%20kink" descr=""/>
          <p:cNvPicPr/>
          <p:nvPr/>
        </p:nvPicPr>
        <p:blipFill>
          <a:blip r:embed="rId1"/>
          <a:stretch/>
        </p:blipFill>
        <p:spPr>
          <a:xfrm>
            <a:off x="898560" y="1438200"/>
            <a:ext cx="75596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D0F-F6E7-48E0-998B-EE90CD0FEF8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ys4a-pop1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6858000" cy="4310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„CUT-OFF” LINE PHENOMEN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ING ON 25M MEASURING 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17220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257800"/>
            <a:ext cx="800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ording of Draft XXX propos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nex 9  P.3.1.  Measurements of the illumination E on the aiming screen are performed by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        vertical scanning through the “horizontal part” of “cut-off”(...) at a 10 m distance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        or at any greater distanc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B8A-9D8C-446B-8398-590D9E6C9D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uskok%20przes%20max" descr=""/>
          <p:cNvPicPr/>
          <p:nvPr/>
        </p:nvPicPr>
        <p:blipFill>
          <a:blip r:embed="rId1"/>
          <a:stretch/>
        </p:blipFill>
        <p:spPr>
          <a:xfrm>
            <a:off x="898560" y="1438200"/>
            <a:ext cx="7635960" cy="41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D41-F09C-47D2-8441-5A76B0F404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uskok%20odwrotny%20int" descr=""/>
          <p:cNvPicPr/>
          <p:nvPr/>
        </p:nvPicPr>
        <p:blipFill>
          <a:blip r:embed="rId1"/>
          <a:stretch/>
        </p:blipFill>
        <p:spPr>
          <a:xfrm>
            <a:off x="898560" y="1438200"/>
            <a:ext cx="7435800" cy="44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D31-C9EF-4B6D-BA6C-5953383D45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ypowa%2060%20st" descr=""/>
          <p:cNvPicPr/>
          <p:nvPr/>
        </p:nvPicPr>
        <p:blipFill>
          <a:blip r:embed="rId1"/>
          <a:stretch/>
        </p:blipFill>
        <p:spPr>
          <a:xfrm>
            <a:off x="898560" y="1438200"/>
            <a:ext cx="7559640" cy="448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E02-36D2-432F-9EF6-906B4AEE804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uskok%20odwrotny" descr=""/>
          <p:cNvPicPr/>
          <p:nvPr/>
        </p:nvPicPr>
        <p:blipFill>
          <a:blip r:embed="rId1"/>
          <a:stretch/>
        </p:blipFill>
        <p:spPr>
          <a:xfrm>
            <a:off x="898560" y="1438200"/>
            <a:ext cx="7483320" cy="41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3C6-40DA-41F7-956F-4ABBC72EBEE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krótki%20usk%20poziom" descr=""/>
          <p:cNvPicPr/>
          <p:nvPr/>
        </p:nvPicPr>
        <p:blipFill>
          <a:blip r:embed="rId1"/>
          <a:stretch/>
        </p:blipFill>
        <p:spPr>
          <a:xfrm>
            <a:off x="898560" y="1438200"/>
            <a:ext cx="7772400" cy="414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254-9143-480A-9E01-F20D565FE83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ukośna%20pozioma" descr=""/>
          <p:cNvPicPr/>
          <p:nvPr/>
        </p:nvPicPr>
        <p:blipFill>
          <a:blip r:embed="rId1"/>
          <a:stretch/>
        </p:blipFill>
        <p:spPr>
          <a:xfrm>
            <a:off x="898560" y="1438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AD3-A9C0-4CA9-BC18-A060D7DB5B7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ieregul" descr=""/>
          <p:cNvPicPr/>
          <p:nvPr/>
        </p:nvPicPr>
        <p:blipFill>
          <a:blip r:embed="rId1"/>
          <a:stretch/>
        </p:blipFill>
        <p:spPr>
          <a:xfrm>
            <a:off x="898560" y="1438200"/>
            <a:ext cx="7543800" cy="454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D97-1567-4B24-B27D-AC2EE0F61F9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ys4b-pop1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4221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„CUT-OFF” LINE PHENOMENON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ING ON 10M MEASURING 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79132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“Cut-off” line of each lighting unit, and not “cut-off” line of passing beam or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stallation unit, has to be aimed separately to avoid multiple „cut-off” line probl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6800" y="5334120"/>
            <a:ext cx="85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„cut-off” line can be the result of projection of „cut-off” lines coming from two or more lighting uni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529-7794-491D-9DCD-D83E5F6096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6782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OF OF “CUT-OFF” LINE AIMING BEFORE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15364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definition: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INITIAL LIGHTING UNIT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- lighting unit specified by an applicant used for aiming the „cut-off” line before photometric measurements (TRANS/WP.29/GRE/2002/44rev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ggested procedure of aiming of the “cut-off” li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Aiming the „cut-off” line for initial lighting un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Measuring the illumination E for lighting units incorporated in installation unit and not separately aimed.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Rys4c-pop1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1000" cy="30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EFB-F766-49D0-9B32-009C134B70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IGUITIES OF „CUT-OFF” LINE DESCRIPTION IN DRAFT 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371600"/>
            <a:ext cx="784872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many places of Draft XXX there is no clear distinction between “cut-off” line of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passing bea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“cut-off” line of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lighting unit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e.g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ording of Draft XXX proposal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nex 9 P.1.    </a:t>
            </a:r>
            <a:r>
              <a:rPr b="0" i="1" lang="en-GB" sz="1400" spc="-1" strike="noStrike" u="sng">
                <a:solidFill>
                  <a:srgbClr val="ff3300"/>
                </a:solidFill>
                <a:uFillTx/>
                <a:latin typeface="Arial"/>
              </a:rPr>
              <a:t>The "cut-off" line of a passing beam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shall comply with the following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quirements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nex 9 P.2.1  For </a:t>
            </a:r>
            <a:r>
              <a:rPr b="0" i="1" lang="en-GB" sz="1400" spc="-1" strike="noStrike" u="sng">
                <a:solidFill>
                  <a:srgbClr val="ff3300"/>
                </a:solidFill>
                <a:uFillTx/>
                <a:latin typeface="Arial"/>
              </a:rPr>
              <a:t>lighting units contributing to the passing beam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but providing 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                  “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ut-off” or a horizontal “cut-off” line only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nex 9 P.2.3. For each class, other than the class C (basic) </a:t>
            </a:r>
            <a:r>
              <a:rPr b="0" i="1" lang="en-GB" sz="1400" spc="-1" strike="noStrike" u="sng">
                <a:solidFill>
                  <a:srgbClr val="ff3300"/>
                </a:solidFill>
                <a:uFillTx/>
                <a:latin typeface="Arial"/>
              </a:rPr>
              <a:t>passing beam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the shape and position of the "cut-off", if any, shall comply ...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escription of “cut-off” line of lighting unit should only be used.</a:t>
            </a:r>
            <a:r>
              <a:rPr b="0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EF3-3B82-4112-8C63-81697BCA1A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.1.1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"cut-off" line shall consist of (...)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iii)   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clear "kink"</a:t>
            </a:r>
            <a:r>
              <a:rPr b="0" i="1" lang="en-GB" sz="12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ff"/>
                </a:solidFill>
                <a:latin typeface="Arial"/>
              </a:rPr>
              <a:t>[ambiguous definition]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P.1.3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f there is no </a:t>
            </a: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distinct "kink"</a:t>
            </a:r>
            <a:r>
              <a:rPr b="0" i="1" lang="en-GB" sz="1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the "kink point" shall be considered to be that point,                  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ere the 60 deg tangential line to the "shoulder line part" (...)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ff"/>
                </a:solidFill>
                <a:latin typeface="Arial"/>
              </a:rPr>
              <a:t>[proposal  in TRANS/WP.29/GRE/2002/44 rev.1]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1.2.1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.. "horizontal part" does not exceed a vertical extend of 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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 = 0.2 deg up or dow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within 0.5 deg and 4.5 deg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left from the "kink"; ...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ff"/>
                </a:solidFill>
                <a:latin typeface="Arial"/>
              </a:rPr>
              <a:t>[proposal  in TRANS/WP.29/GRE/2002/44 rev.1]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2.1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 the "horizontal part" of the "cut-off" line 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does no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provide sufficient linearity and/or sharpness 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for a visual 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vertical adjustme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the "cut-off" quality shall be evaluated for compliance with provisions laid down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aragraph 3. below,according to the 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discretion of the Technical Servic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ff"/>
                </a:solidFill>
                <a:latin typeface="Arial"/>
              </a:rPr>
              <a:t>[ambiguous description]</a:t>
            </a:r>
            <a:br>
              <a:rPr sz="1200"/>
            </a:b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br>
              <a:rPr sz="1200"/>
            </a:b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"cut-off" quality evaluation: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3.1.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fter visual horizontal adjustment according to paragraph 2.1. above, the scanning is done at 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1.5 deg, 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0" i="1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2.5 deg and 3.5 deg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left of V-V.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ff"/>
                </a:solidFill>
                <a:latin typeface="Arial"/>
              </a:rPr>
              <a:t>[proposal  in TRANS/WP.29/GRE/2002/44 rev.1]</a:t>
            </a:r>
            <a:br>
              <a:rPr sz="1200"/>
            </a:b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45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AND SUGG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257-EADE-445E-A416-D122895FF4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08:27:26Z</dcterms:created>
  <dc:creator>Piotr Kaźmierczak</dc:creator>
  <dc:description/>
  <dc:language>en-US</dc:language>
  <cp:lastModifiedBy>Hubert</cp:lastModifiedBy>
  <cp:lastPrinted>2003-03-24T14:30:43Z</cp:lastPrinted>
  <dcterms:modified xsi:type="dcterms:W3CDTF">2003-03-26T15:03:26Z</dcterms:modified>
  <cp:revision>496</cp:revision>
  <dc:subject/>
  <dc:title>Bez tytułu slajdu</dc:title>
</cp:coreProperties>
</file>