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95CD-51DA-40A7-8E99-169F4C74D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8DDB-C784-4988-8FA9-B2EDE0F7F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908B-8DEB-41CB-A4F7-881518704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21D2-2B78-4BD5-98A6-7018AE8E5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96916-978D-45C5-BDC7-D58DC3A1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6F33B-3E5E-4120-97E2-A205732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02FE7-3326-4188-8F26-F2A582D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25B0F-CBE9-41D7-9103-87C3160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5202-7764-4BE7-B5BA-903A9102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C5D79-8293-4625-8436-346BC99E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7B190-E467-42A5-8A2C-BEF5D594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5361-E8AE-4676-8CA6-9CEB14EEF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7A242-376A-47CD-957B-A4EC4C7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6DC27-534F-420F-9C37-F9651C1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6B0C-F210-4C72-92F2-C0D290DC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0497-E9F2-42C7-AEC3-CD3CE15B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C7064-5985-41AD-A85D-C63A546F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F2BE-8100-436C-922B-422C1469E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E61C-55E0-49EA-BA3A-2406AF359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E4FB-CBC8-43BE-81DA-120C21C76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EC30-5DF7-49E7-9DD3-A399045D6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07F9-3F63-4829-BFF2-B3CD7F665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CC40-8DBB-40EB-A0FD-77CD9CC21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7E57-A7C9-4B85-896D-CE409AB14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04920" y="5791320"/>
          <a:ext cx="129528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791320"/>
                    <a:ext cx="1295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 rot="16200000">
            <a:off x="3860640" y="-3861000"/>
            <a:ext cx="1422360" cy="9144000"/>
          </a:xfrm>
          <a:prstGeom prst="rect">
            <a:avLst/>
          </a:prstGeom>
          <a:gradFill rotWithShape="0">
            <a:gsLst>
              <a:gs pos="0">
                <a:srgbClr val="7c6a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" name="dot%20bullet" descr=""/>
          <p:cNvPicPr/>
          <p:nvPr/>
        </p:nvPicPr>
        <p:blipFill>
          <a:blip r:embed="rId5"/>
          <a:srcRect l="0" t="0" r="72692" b="49925"/>
          <a:stretch/>
        </p:blipFill>
        <p:spPr>
          <a:xfrm>
            <a:off x="7313760" y="6219720"/>
            <a:ext cx="458640" cy="435240"/>
          </a:xfrm>
          <a:prstGeom prst="rect">
            <a:avLst/>
          </a:prstGeom>
          <a:ln w="0">
            <a:noFill/>
          </a:ln>
        </p:spPr>
      </p:pic>
      <p:pic>
        <p:nvPicPr>
          <p:cNvPr id="6" name="nhtsa%20logo2" descr=""/>
          <p:cNvPicPr/>
          <p:nvPr/>
        </p:nvPicPr>
        <p:blipFill>
          <a:blip r:embed="rId6"/>
          <a:stretch/>
        </p:blipFill>
        <p:spPr>
          <a:xfrm>
            <a:off x="7772400" y="6172200"/>
            <a:ext cx="1371600" cy="482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5335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DA6-6C8E-4481-9B76-8DEE2B242E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860640" y="-3861000"/>
            <a:ext cx="1422360" cy="9144000"/>
          </a:xfrm>
          <a:prstGeom prst="rect">
            <a:avLst/>
          </a:prstGeom>
          <a:gradFill rotWithShape="0">
            <a:gsLst>
              <a:gs pos="0">
                <a:srgbClr val="7c6a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A69F-862A-4B59-888E-ADFCA63DF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NCHORAGE STRENGTH REQUIREMENT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George Mouchahoir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Office of Performance Standards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National Highway Traffic Safety Administration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May, 2002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DURATION OF FORCE FOR MISUSE CASE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Forward force direction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– Pull force as linearly as practicable to a full force application of 11 kN in    24 s </a:t>
            </a:r>
            <a:r>
              <a:rPr b="1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t </a:t>
            </a:r>
            <a:r>
              <a:rPr b="1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30 s, and maintain at an 11 kN level, currently, for 10 second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teral direction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– Pull force as linearly as practicable to a full force application of 5 kN in      24 s  </a:t>
            </a:r>
            <a:r>
              <a:rPr b="1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t </a:t>
            </a:r>
            <a:r>
              <a:rPr b="1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30 s, and maintain at a 5 kN level, currently, for 10 second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EC57-6B82-457A-84A0-1B094284D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28600" y="2057400"/>
          <a:ext cx="8381880" cy="3433680"/>
        </p:xfrm>
        <a:graphic>
          <a:graphicData uri="http://schemas.openxmlformats.org/drawingml/2006/table">
            <a:tbl>
              <a:tblPr/>
              <a:tblGrid>
                <a:gridCol w="3809880"/>
                <a:gridCol w="2210040"/>
                <a:gridCol w="236196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Te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aximum Force Lim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aximum Displac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im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Forward direction,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with tether attach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15.0 k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125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Forward direction,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ower anchorages on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11.0 k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125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ateral dir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5.0 k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125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DISPLACEMENT REQUIREMENT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85C6-2417-4036-B60D-225797703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BASIS FOR STRENGTH REQUIREMENT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URATION OF FORCE APPLIC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SPLACEMENT CRITERI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689A-AF3E-414C-9828-7CA4BB087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STRENGTH CALCULATION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ystem mass (child restraint system (CRS) and child)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Acceleration of vehicle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F3DB-63C7-441B-876B-D49AF5481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MASS ASSUMPTION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22.7 kg (50 lb) for child 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(Current mass limit of FMVSS No. 213)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7 kg (15.4 lb) for CRS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ystem Mass (m)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= CRS + chil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= 29.7 kg (65.4 lb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DCBC-0D27-4FE9-B138-3C184AAD28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914400" y="1752480"/>
          <a:ext cx="7086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086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752480" y="3048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99 Saturn SC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6520" y="3276360"/>
            <a:ext cx="38088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US VEHICLE FLEET CRASH PULSES PEAK VALUE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A070-44EE-4338-93F4-95BC894419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09480" y="1676520"/>
          <a:ext cx="81313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131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VERAGE PEAK VEHICLE ACCELERATION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6005-A934-4B09-ABD7-BE0923DAC0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FORCE COMPUTATION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ximum dynamic force expected to act through  the center of gravity (cg) of the CRS is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= [System mass]X[acceleration]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= [29.7 kg][(48.4 g)(9.81 m/s</a:t>
            </a:r>
            <a:r>
              <a:rPr b="1" lang="en-US" sz="2400" spc="-1" strike="noStrike" baseline="30000">
                <a:solidFill>
                  <a:srgbClr val="9966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= 14,101 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15 kN (3371 lb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1B0C-0336-4332-9F5C-195AB443A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MISUSE STRENGTH REQUIREMENT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isuse test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: Two lower anchorages of CRS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ttached onl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orce of 11 kN will assure that at least a  minimum level of protection is provided when the tether is not used to attach CRS to the vehicle in forward direction, and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orce of 5 kN in lateral direction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C2E6-2CDC-4CD4-9359-D1EEEBB89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DURATON OF FORCE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or 3 anchorages attached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Pull force as linearly as practicable to 15 kN in 24 s </a:t>
            </a:r>
            <a:r>
              <a:rPr b="1" lang="en-US" sz="2400" spc="-1" strike="noStrike">
                <a:solidFill>
                  <a:srgbClr val="996633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t  </a:t>
            </a:r>
            <a:r>
              <a:rPr b="1" lang="en-US" sz="2400" spc="-1" strike="noStrike">
                <a:solidFill>
                  <a:srgbClr val="996633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30 s, and maintain at a 15 kN level for 1 secon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9B09-32DD-4287-8A48-1CE1AB6AEA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2T19:39:17Z</dcterms:created>
  <dc:creator> </dc:creator>
  <dc:description/>
  <dc:language>en-US</dc:language>
  <cp:lastModifiedBy> </cp:lastModifiedBy>
  <dcterms:modified xsi:type="dcterms:W3CDTF">2002-05-08T12:47:59Z</dcterms:modified>
  <cp:revision>28</cp:revision>
  <dc:subject/>
  <dc:title>Anchorage Strength Requirements   for  Federal Motor Vehicle Safety Standard (FMVSS) No. 225</dc:title>
</cp:coreProperties>
</file>