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F643-4F89-40A1-9F6C-5D5C20987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4001-552A-4F08-9EDC-54BDCEBE4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D8F2-2076-44E8-A25C-FD9A8BFEC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3CAA-9A4A-49BD-9A14-5734D9D88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2D641-6CE1-4A74-97DE-AD948E6A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04609-7DE7-4C8B-BC46-1A81CE16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B499E-B951-40BB-9310-1681EDA1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6217F-F95F-4A28-8234-46970F13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F0E81-E44B-48C9-A65F-8BF7B35B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3C10A-8B41-4B50-9392-FF5F7776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34587-D15E-4439-BDBC-3D6F95A3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4200-0B40-466F-B061-A84CEE2A9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E017A-1650-4078-8120-F00E853E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1C2AF-B36F-4E77-BEBA-C7C74238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FCD12-25F0-40B7-9B04-B1DEC955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648EE-5E99-4C84-A669-2297FD55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21ED2-C76C-4656-A837-C8BEFAA8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4C3B-651B-4284-B64C-134679591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AE3D-4309-4724-923D-11E9233D0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C37C-D6F4-4F86-BEFE-4950E5B4D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B503-E0C0-4B50-B992-B73920787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7225-131E-4BD6-A3A4-77DC0A0C8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EB05-4ADA-4211-94F4-31FA53B7D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5631-6142-4F66-8DFE-E56BE6763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860640" y="-3861000"/>
            <a:ext cx="1422360" cy="9144000"/>
          </a:xfrm>
          <a:prstGeom prst="rect">
            <a:avLst/>
          </a:prstGeom>
          <a:gradFill rotWithShape="0">
            <a:gsLst>
              <a:gs pos="0">
                <a:srgbClr val="7c6a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" name="dot%20bullet" descr=""/>
          <p:cNvPicPr/>
          <p:nvPr/>
        </p:nvPicPr>
        <p:blipFill>
          <a:blip r:embed="rId3"/>
          <a:srcRect l="0" t="0" r="72692" b="49925"/>
          <a:stretch/>
        </p:blipFill>
        <p:spPr>
          <a:xfrm>
            <a:off x="7313760" y="6219720"/>
            <a:ext cx="458640" cy="435240"/>
          </a:xfrm>
          <a:prstGeom prst="rect">
            <a:avLst/>
          </a:prstGeom>
          <a:ln w="0">
            <a:noFill/>
          </a:ln>
        </p:spPr>
      </p:pic>
      <p:pic>
        <p:nvPicPr>
          <p:cNvPr id="4" name="nhtsa%20logo2" descr=""/>
          <p:cNvPicPr/>
          <p:nvPr/>
        </p:nvPicPr>
        <p:blipFill>
          <a:blip r:embed="rId4"/>
          <a:stretch/>
        </p:blipFill>
        <p:spPr>
          <a:xfrm>
            <a:off x="7772400" y="6172200"/>
            <a:ext cx="1371600" cy="482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495680" y="61722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carseat_collage2" descr=""/>
          <p:cNvPicPr/>
          <p:nvPr/>
        </p:nvPicPr>
        <p:blipFill>
          <a:blip r:embed="rId5"/>
          <a:stretch/>
        </p:blipFill>
        <p:spPr>
          <a:xfrm>
            <a:off x="0" y="5905440"/>
            <a:ext cx="4038480" cy="95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rot="16200000">
            <a:off x="3860640" y="-3861000"/>
            <a:ext cx="1422360" cy="9144000"/>
          </a:xfrm>
          <a:prstGeom prst="rect">
            <a:avLst/>
          </a:prstGeom>
          <a:gradFill rotWithShape="0">
            <a:gsLst>
              <a:gs pos="0">
                <a:srgbClr val="7c6a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A09A-C52E-4280-A4B0-606E3A238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nhtsa.gov/cars/rules/rulings/" TargetMode="External"/><Relationship Id="rId3" Type="http://schemas.openxmlformats.org/officeDocument/2006/relationships/hyperlink" Target="http://www.nhtsa.gov/cars/rules/rulings/" TargetMode="External"/><Relationship Id="rId4" Type="http://schemas.openxmlformats.org/officeDocument/2006/relationships/hyperlink" Target="http://www.nhtsa.gov/cars/rules/rulings/" TargetMode="External"/><Relationship Id="rId5" Type="http://schemas.openxmlformats.org/officeDocument/2006/relationships/hyperlink" Target="http://www.nhtsa.gov/cars/rules/rulings/" TargetMode="External"/><Relationship Id="rId6" Type="http://schemas.openxmlformats.org/officeDocument/2006/relationships/hyperlink" Target="http://www.nhtsa.gov/cars/rules/rulings/" TargetMode="External"/><Relationship Id="rId7" Type="http://schemas.openxmlformats.org/officeDocument/2006/relationships/hyperlink" Target="http://dms.dot.gov/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nhtsa.gov/cars/rules/rulings/" TargetMode="External"/><Relationship Id="rId4" Type="http://schemas.openxmlformats.org/officeDocument/2006/relationships/hyperlink" Target="http://www.nhtsa.gov/cars/rules/rulings/" TargetMode="External"/><Relationship Id="rId5" Type="http://schemas.openxmlformats.org/officeDocument/2006/relationships/hyperlink" Target="http://www.nhtsa.gov/cars/rules/rulings/" TargetMode="External"/><Relationship Id="rId6" Type="http://schemas.openxmlformats.org/officeDocument/2006/relationships/hyperlink" Target="http://www.nhtsa.gov/cars/rules/rulings/" TargetMode="External"/><Relationship Id="rId7" Type="http://schemas.openxmlformats.org/officeDocument/2006/relationships/hyperlink" Target="http://www.nhtsa.gov/cars/rules/rulings/" TargetMode="External"/><Relationship Id="rId8" Type="http://schemas.openxmlformats.org/officeDocument/2006/relationships/hyperlink" Target="http://dms.dot.gov/" TargetMode="External"/><Relationship Id="rId9" Type="http://schemas.openxmlformats.org/officeDocument/2006/relationships/hyperlink" Target="http://dms.dot.gov/" TargetMode="External"/><Relationship Id="rId10" Type="http://schemas.openxmlformats.org/officeDocument/2006/relationships/hyperlink" Target="http://dms.dot.gov/" TargetMode="External"/><Relationship Id="rId11" Type="http://schemas.openxmlformats.org/officeDocument/2006/relationships/hyperlink" Target="http://dms.dot.gov/" TargetMode="External"/><Relationship Id="rId12" Type="http://schemas.openxmlformats.org/officeDocument/2006/relationships/hyperlink" Target="http://dms.dot.gov/" TargetMode="Externa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Black"/>
              </a:rPr>
              <a:t>NOTICE OF PROPOSED RULEMAKING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pril 25, 2002, NHTSA proposed multiple revisions to the FMVSS for CRS in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Upgrading the test seat assembly 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Adding state-of-the-art infant and child test dummies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Heavier dummy for booster seats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New neck injury criteria, and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Extending the weight requirement to 65 pounds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website at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nhtsa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go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/cars/rules/rulings/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 or DOT’s docket management system at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dms.dot.gov/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 docket number: NHTSA-02-11707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DC96-03C6-4CBC-A04F-E5697F864A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Black"/>
              </a:rPr>
              <a:t>ADVANCED NOTICE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 Black"/>
              </a:rPr>
              <a:t>OF PROPOSED RULEMAKING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e child protection rulemaking initiative will require NHTSA to ensur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Suitable side impact test dummy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Appropriate side impact injury criteria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Determination of child injury mechanisms in side impact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Development of side impact test procedures, and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Crash characteristics associated with serious and fatal injuries to children in CRSs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e rulemaking initiative requests for public com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website at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nhtsa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go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cars/rules/rulings/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 or DOT’s docket management system at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dms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.dot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go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/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 docket number: NHTSA-02-112151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82E5-F94D-4C67-9D11-132CB7550F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2T19:39:17Z</dcterms:created>
  <dc:creator> </dc:creator>
  <dc:description/>
  <dc:language>en-US</dc:language>
  <cp:lastModifiedBy> </cp:lastModifiedBy>
  <dcterms:modified xsi:type="dcterms:W3CDTF">2002-05-08T12:45:30Z</dcterms:modified>
  <cp:revision>30</cp:revision>
  <dc:subject/>
  <dc:title>Anchorage Strength Requirements   for  Federal Motor Vehicle Safety Standard (FMVSS) No. 225</dc:title>
</cp:coreProperties>
</file>