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CAC3-4E64-4B5F-A34C-AC855F78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B03C-3B3D-44CE-801A-5B0D3679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1A6F-309C-4072-8121-64FF04D7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C614-7580-4033-B3F8-23768784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8E00-A255-4D55-8657-4FEDF1D4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30F5-6107-488E-A985-65BA784F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BBC7-8F41-4ACF-95A9-DD046928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D612-0038-4BAE-BC1E-0A2F671B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8E99-3E4F-4F47-BE58-ADD60886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29CA-F49A-4A32-AE49-366A06AC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B290-6C6F-4078-B792-C51B3BE2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FD67-A943-46CD-925F-46EC27E9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021280" y="6461280"/>
            <a:ext cx="36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1st session of GRSP - May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6400" y="640080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2A2F-EB1A-4AF4-8EE9-FC5015D142ED}" type="slidenum">
              <a:rPr b="0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ES2- Concer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OIC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31st session of GRS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May 200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oes ES2 improve real safety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greement on back pl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for further explanations on other key-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ES2 - Concerns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ES2 - Concer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EVC WG12 has reported on the « Development and evaluation of the ES2 dummy 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is report raises questions on some remaining key-po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ES2 - Concer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Variation of performance criteria between ES1 and ES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rectional sensi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ter-rib homogene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orax damping characteristics and stiff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teractions between body seg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80520" y="1885680"/>
            <a:ext cx="825516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EVE report: ES2 criteria has lower criteria than ES1 in biofidelity te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t is the contrary in pendulum te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nly 7.6 m/s sled tests are fully exploitable. Nevertheless, results on ES1 tests are highly spr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 10.3 m/s sled tests, maximum deflection is always reached for the uppermost rib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ES2 - Concerns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Variation of performance criteri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3520" y="3962520"/>
            <a:ext cx="40291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1905120"/>
            <a:ext cx="8178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ossible increase of deflection on ES2 at negative angles: 1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o data on ES1 at negative ang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ES2 - Concerns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Directional sensitivit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58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58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56600" y="458640"/>
            <a:ext cx="12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56600" y="458640"/>
            <a:ext cx="12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69800"/>
            <a:ext cx="11160" cy="592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56600" y="469800"/>
            <a:ext cx="12960" cy="592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3943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56600" y="6394320"/>
            <a:ext cx="12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56600" y="6394320"/>
            <a:ext cx="12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481320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6840" y="1886040"/>
            <a:ext cx="81788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nexpected lack of inter-rib homogeneity not explain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ppermost rib deflection often increase with ES2 whilst the mean deflection decreases; criteria is based on the higher defle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ES2 - Concerns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Inter-rib homogeneit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481320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riction is eliminated in ES2 and compensated by increasing tuning sp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S2 thorax stiffer and less dam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ES2 - Concerns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Thorax damping characteristics and stiffnes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9480" y="3581280"/>
            <a:ext cx="3886200" cy="2360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8320" y="3581280"/>
            <a:ext cx="388620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observed frequency in some FST is a consequence of elastic rebound of rib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is leads to high VC value due to high velocity at high deflectio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ES2 - Concerns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Thorax damping characteristics and stiffnes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7400" y="3352680"/>
            <a:ext cx="4410000" cy="2608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971800" y="3657600"/>
            <a:ext cx="106668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518148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S2 pelvis stiffness is low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S2 pelvis is highly sensitive to ang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ffects on thorax have to be investig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ES2 - Concerns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Interactions between body segmen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943600" y="1905120"/>
            <a:ext cx="2725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0:53:35Z</dcterms:created>
  <dc:creator>Huere</dc:creator>
  <dc:description/>
  <dc:language>en-US</dc:language>
  <cp:lastModifiedBy>Huere</cp:lastModifiedBy>
  <dcterms:modified xsi:type="dcterms:W3CDTF">2002-05-06T12:34:28Z</dcterms:modified>
  <cp:revision>7</cp:revision>
  <dc:subject/>
  <dc:title>ES2- Concerns</dc:title>
</cp:coreProperties>
</file>