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2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F90-B213-40C2-AB92-7AE4CC29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110-B743-41F3-B783-CEB93CD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0C4-8F2D-434C-8E06-137D523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17C-F444-4E18-898A-2D13EBFD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4FD-D374-493E-8C5F-41E985B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B18-9D96-4118-A01D-E694094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AC6-8870-409C-A6D5-566047A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1FD-197B-4925-8B57-5E82E35D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248-10E7-43C6-8DC9-15AC786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8B2-93E7-4F8E-92E4-9EE1244D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CE8-7483-45D4-AED8-76AB8E5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6BA-BBCF-4C88-BCCC-C3866E4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2FD-1D74-4FC4-80F4-B9F3B0E462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8680" y="63262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278080"/>
            <a:ext cx="716292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00"/>
                </a:solidFill>
                <a:latin typeface="Arial"/>
              </a:rPr>
              <a:t>Child Restraint Systems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00"/>
                </a:solidFill>
                <a:latin typeface="Arial"/>
              </a:rPr>
              <a:t>A Field study of Misus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30680" y="6121440"/>
            <a:ext cx="151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Helena Menez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José Dia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apsi_rosa_azul_4x_pb" descr=""/>
          <p:cNvPicPr/>
          <p:nvPr/>
        </p:nvPicPr>
        <p:blipFill>
          <a:blip r:embed="rId1"/>
          <a:stretch/>
        </p:blipFill>
        <p:spPr>
          <a:xfrm>
            <a:off x="2182680" y="225360"/>
            <a:ext cx="474372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44680" y="358920"/>
            <a:ext cx="727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Rearward Facing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versus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 Forward Facing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41200" y="115740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CRS group use according to ag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3320" y="1744560"/>
            <a:ext cx="171720" cy="171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10440" y="2101680"/>
            <a:ext cx="171360" cy="171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43360" y="1685880"/>
            <a:ext cx="101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0 and G0+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0/I and GI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17800" y="1542960"/>
          <a:ext cx="3274920" cy="165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7800" y="1542960"/>
                    <a:ext cx="327492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140280" y="311796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-6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15000" y="311616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6-9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3117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9-12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80920" y="311796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2-18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76560" y="1477800"/>
            <a:ext cx="82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8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6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4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2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35000" y="3664080"/>
            <a:ext cx="769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 0+ not being used much after 9 month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eat shells too small for childre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eg room insufficient to maintain rearward fac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1600200"/>
            <a:ext cx="28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Harness slot height versus 50%tile and 95%tile shoulder height when sitt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45000" y="1295280"/>
          <a:ext cx="3628800" cy="249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5000" y="1295280"/>
                    <a:ext cx="36288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040280" y="1913040"/>
            <a:ext cx="305748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779480"/>
            <a:ext cx="305748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40280" y="1617840"/>
            <a:ext cx="305748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62840" y="183024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0%tile   9 month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60680" y="16286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0%tile  18 month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68600" y="1419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95%tile  18 month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65160" y="1344600"/>
            <a:ext cx="261360" cy="216468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38440" y="3408480"/>
            <a:ext cx="749160" cy="27648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Model 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91120" y="3417840"/>
            <a:ext cx="749160" cy="27648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Model 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520" y="360360"/>
            <a:ext cx="793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0+ CRS Dimensions vs Child Dimens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7480" y="112716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7160" y="3800520"/>
            <a:ext cx="80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wo of the most popular seats in Portugal do not have harness slots at heights compatible with children up to 18 months ol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83240" y="2095560"/>
            <a:ext cx="176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00"/>
                </a:solidFill>
                <a:latin typeface="Arial"/>
              </a:rPr>
              <a:t>Source: CR 13387:1999 (CEN)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725480" y="1965240"/>
          <a:ext cx="432936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1965240"/>
                    <a:ext cx="432936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apsi_rosa_azul_8x_pb" descr=""/>
          <p:cNvPicPr/>
          <p:nvPr/>
        </p:nvPicPr>
        <p:blipFill>
          <a:blip r:embed="rId3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03560" y="3311640"/>
            <a:ext cx="3657600" cy="0"/>
          </a:xfrm>
          <a:prstGeom prst="line">
            <a:avLst/>
          </a:prstGeom>
          <a:ln w="22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3560" y="3038400"/>
            <a:ext cx="3657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3560" y="2847960"/>
            <a:ext cx="3657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3560" y="3063960"/>
            <a:ext cx="36576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7080" y="2784600"/>
            <a:ext cx="36576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3560" y="2619360"/>
            <a:ext cx="36576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311640"/>
            <a:ext cx="3517920" cy="0"/>
          </a:xfrm>
          <a:prstGeom prst="line">
            <a:avLst/>
          </a:prstGeom>
          <a:ln w="2232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20200" y="3170160"/>
            <a:ext cx="239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0%tile    9 m 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95%tile    6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2520" y="28926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0%tile  12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9280" y="270828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0%tile  18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47440" y="270036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95%tile  12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48880" y="249228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95%tile  18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48160" y="298116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95%tile    9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2200" y="137016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RS depth versus P50 and P95 leg leng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02880" y="1990800"/>
            <a:ext cx="261360" cy="359676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4640" y="5506920"/>
            <a:ext cx="749160" cy="27648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Model 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1600" y="5506920"/>
            <a:ext cx="749160" cy="27648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Model 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13440" y="1886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2520" y="360360"/>
            <a:ext cx="793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0+ CRS Dimensions vs Child Dimens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8720" y="5848200"/>
            <a:ext cx="78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dication that space for legs is key limiting factor cited by parents for keeping children rear facing in current produc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0040" y="3424320"/>
            <a:ext cx="176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00"/>
                </a:solidFill>
                <a:latin typeface="Arial"/>
              </a:rPr>
              <a:t>Source: CR 13387:1999 (CEN)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7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42520" y="360360"/>
            <a:ext cx="793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0+ CRS Dimensions vs Child Dimens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228680"/>
            <a:ext cx="808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7360" y="1857240"/>
            <a:ext cx="78674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CI recomme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GRSP reviews CRS shell size and legroom requirements for 0+ products to enable children to be kept rear facing long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GO_I_bebe_1" descr=""/>
          <p:cNvPicPr/>
          <p:nvPr/>
        </p:nvPicPr>
        <p:blipFill>
          <a:blip r:embed="rId1"/>
          <a:stretch/>
        </p:blipFill>
        <p:spPr>
          <a:xfrm>
            <a:off x="1057320" y="1676520"/>
            <a:ext cx="2857320" cy="4408200"/>
          </a:xfrm>
          <a:prstGeom prst="rect">
            <a:avLst/>
          </a:prstGeom>
          <a:ln w="0">
            <a:noFill/>
          </a:ln>
        </p:spPr>
      </p:pic>
      <p:pic>
        <p:nvPicPr>
          <p:cNvPr id="182" name="GO_I_bebe_2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2892240" cy="4405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apsi_rosa_azul_8x_pb" descr=""/>
          <p:cNvPicPr/>
          <p:nvPr/>
        </p:nvPicPr>
        <p:blipFill>
          <a:blip r:embed="rId3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47600" y="3142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Harness adjustment limited by yoke coming to end of tra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71680" y="1562040"/>
            <a:ext cx="813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280" y="971640"/>
            <a:ext cx="7610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CI recommend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GRSP introduces requirements that harness must be capable of being adjusted to all sizes of intended use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nstruções_TJ" descr=""/>
          <p:cNvPicPr/>
          <p:nvPr/>
        </p:nvPicPr>
        <p:blipFill>
          <a:blip r:embed="rId1"/>
          <a:stretch/>
        </p:blipFill>
        <p:spPr>
          <a:xfrm>
            <a:off x="442800" y="2133720"/>
            <a:ext cx="2932200" cy="217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42880" y="719280"/>
            <a:ext cx="451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Instructions on the C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apsi_rosa_azul_8x_pb" descr=""/>
          <p:cNvPicPr/>
          <p:nvPr/>
        </p:nvPicPr>
        <p:blipFill>
          <a:blip r:embed="rId2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pic>
        <p:nvPicPr>
          <p:cNvPr id="194" name="instruções_a4" descr=""/>
          <p:cNvPicPr/>
          <p:nvPr/>
        </p:nvPicPr>
        <p:blipFill>
          <a:blip r:embed="rId3"/>
          <a:srcRect l="0" t="50611" r="0" b="0"/>
          <a:stretch/>
        </p:blipFill>
        <p:spPr>
          <a:xfrm>
            <a:off x="3417840" y="3038400"/>
            <a:ext cx="2421000" cy="2449440"/>
          </a:xfrm>
          <a:prstGeom prst="rect">
            <a:avLst/>
          </a:prstGeom>
          <a:ln w="0">
            <a:noFill/>
          </a:ln>
        </p:spPr>
      </p:pic>
      <p:pic>
        <p:nvPicPr>
          <p:cNvPr id="195" name="instruções_dooby" descr=""/>
          <p:cNvPicPr/>
          <p:nvPr/>
        </p:nvPicPr>
        <p:blipFill>
          <a:blip r:embed="rId4"/>
          <a:stretch/>
        </p:blipFill>
        <p:spPr>
          <a:xfrm>
            <a:off x="5934240" y="4441680"/>
            <a:ext cx="2944800" cy="1644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60040" y="1547640"/>
            <a:ext cx="61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lear Specification of orientation of CRS in car need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04880" y="762120"/>
            <a:ext cx="7848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CI recommend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GRSP introduces improved requirements for seat marking to indicate forward and rearward orientation of CRS in c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23800" y="1066680"/>
            <a:ext cx="819144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 44.03 say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If the restraint is to be used in combination with an adult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afety belt the correct routing of the webbing shall be clearl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indicated by means of a drawing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permanently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attached to th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restraint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nstruções_TJ" descr=""/>
          <p:cNvPicPr/>
          <p:nvPr/>
        </p:nvPicPr>
        <p:blipFill>
          <a:blip r:embed="rId1"/>
          <a:stretch/>
        </p:blipFill>
        <p:spPr>
          <a:xfrm>
            <a:off x="5716440" y="295200"/>
            <a:ext cx="2932200" cy="217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42880" y="719280"/>
            <a:ext cx="451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Instructions on the C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1680" y="185904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3. “…Permanently attached”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7" name="apsi_rosa_azul_8x_pb" descr=""/>
          <p:cNvPicPr/>
          <p:nvPr/>
        </p:nvPicPr>
        <p:blipFill>
          <a:blip r:embed="rId2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pic>
        <p:nvPicPr>
          <p:cNvPr id="208" name="guia_dooby_2" descr=""/>
          <p:cNvPicPr/>
          <p:nvPr/>
        </p:nvPicPr>
        <p:blipFill>
          <a:blip r:embed="rId3"/>
          <a:stretch/>
        </p:blipFill>
        <p:spPr>
          <a:xfrm>
            <a:off x="4197240" y="3214800"/>
            <a:ext cx="440388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guia_dooby_1" descr=""/>
          <p:cNvPicPr/>
          <p:nvPr/>
        </p:nvPicPr>
        <p:blipFill>
          <a:blip r:embed="rId4"/>
          <a:stretch/>
        </p:blipFill>
        <p:spPr>
          <a:xfrm>
            <a:off x="606600" y="39276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>
            <a:off x="1765080" y="2540160"/>
            <a:ext cx="439560" cy="16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98920" y="2096640"/>
            <a:ext cx="241632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3840" y="2468520"/>
            <a:ext cx="671400" cy="493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27400" y="1270080"/>
            <a:ext cx="53766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Based on ISO-13215-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Misuse severity assess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pt-PT" sz="1800" spc="-1" strike="noStrike">
                <a:solidFill>
                  <a:srgbClr val="ffff00"/>
                </a:solidFill>
                <a:latin typeface="Arial"/>
              </a:rPr>
              <a:t>Based on consequences of misu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50080" y="406440"/>
            <a:ext cx="233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Field Stud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652840" y="3325680"/>
            <a:ext cx="2604960" cy="1448640"/>
            <a:chOff x="2652840" y="3325680"/>
            <a:chExt cx="2604960" cy="1448640"/>
          </a:xfrm>
        </p:grpSpPr>
        <p:sp>
          <p:nvSpPr>
            <p:cNvPr id="50" name=""/>
            <p:cNvSpPr/>
            <p:nvPr/>
          </p:nvSpPr>
          <p:spPr>
            <a:xfrm>
              <a:off x="2652840" y="3328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52840" y="3709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52840" y="409068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2840" y="447192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16440" y="3325680"/>
              <a:ext cx="224136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00"/>
                  </a:solidFill>
                  <a:latin typeface="Arial"/>
                </a:rPr>
                <a:t>No misu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00"/>
                  </a:solidFill>
                  <a:latin typeface="Arial"/>
                </a:rPr>
                <a:t>Slight misu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00"/>
                  </a:solidFill>
                  <a:latin typeface="Arial"/>
                </a:rPr>
                <a:t>Serious misu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00"/>
                  </a:solidFill>
                  <a:latin typeface="Arial"/>
                </a:rPr>
                <a:t>Very serious misu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14400" y="1009800"/>
            <a:ext cx="72388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CI recommends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GRSP ad hoc improves application of current requirement for permanent mar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ncompativel_a4_1" descr=""/>
          <p:cNvPicPr/>
          <p:nvPr/>
        </p:nvPicPr>
        <p:blipFill>
          <a:blip r:embed="rId1"/>
          <a:stretch/>
        </p:blipFill>
        <p:spPr>
          <a:xfrm>
            <a:off x="7335720" y="3786120"/>
            <a:ext cx="1808280" cy="2622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4320" y="358920"/>
            <a:ext cx="62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CRS and vehicle incompatibiliti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9" name="apsi_rosa_azul_8x_pb" descr=""/>
          <p:cNvPicPr/>
          <p:nvPr/>
        </p:nvPicPr>
        <p:blipFill>
          <a:blip r:embed="rId2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73600" y="35193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odel 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73520" y="35179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odel 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95760" y="35179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odel 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5880" y="1673280"/>
            <a:ext cx="61416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6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5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4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3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2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1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35179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odel 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679920" y="1733400"/>
          <a:ext cx="3620880" cy="183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9920" y="1733400"/>
                    <a:ext cx="36208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776760" y="1227240"/>
            <a:ext cx="345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hicle Incompatibility Rate for R44-03 Universal Categor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7640" y="2894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ut ..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9" name="incompativel_TJ_1" descr=""/>
          <p:cNvPicPr/>
          <p:nvPr/>
        </p:nvPicPr>
        <p:blipFill>
          <a:blip r:embed="rId5"/>
          <a:stretch/>
        </p:blipFill>
        <p:spPr>
          <a:xfrm>
            <a:off x="4586400" y="4643280"/>
            <a:ext cx="2619360" cy="1731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1440" y="1414440"/>
            <a:ext cx="1868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vision 03 marked a clear improvement over revision 0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440" y="3600360"/>
            <a:ext cx="199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till, in almost 20% of the cases it was impossible to install the CRS in the vehicl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2" name="incompativel_shuttle_1" descr=""/>
          <p:cNvPicPr/>
          <p:nvPr/>
        </p:nvPicPr>
        <p:blipFill>
          <a:blip r:embed="rId6"/>
          <a:stretch/>
        </p:blipFill>
        <p:spPr>
          <a:xfrm>
            <a:off x="2905200" y="4687920"/>
            <a:ext cx="2008080" cy="1928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>
            <a:off x="4373640" y="3836880"/>
            <a:ext cx="614160" cy="1231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83200" y="3892680"/>
            <a:ext cx="27000" cy="1376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7840" y="3819600"/>
            <a:ext cx="723960" cy="1095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7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23920" y="1190520"/>
            <a:ext cx="71722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SOFIX is intended to provide compatible mounting for the CRS in the vehic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 developing ISOFIX requirements, great emphasis needs to be placed on the ease of use of ISOFIX seats, and the provision of clear effective information to the consum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23920" y="1190520"/>
            <a:ext cx="778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mproved application of existing requirement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pplement 2 – Position of warnin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ermanence of all lab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3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066680" y="533520"/>
            <a:ext cx="7172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Upgraded requirements needed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pplement 2 warning – no fla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RS shell size and legroom for 0+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rness adjustment to fit all siz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ing orientation of seat in c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6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66680" y="533520"/>
            <a:ext cx="71722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experience with current Universal restraints implies that maximum care should be taken with the usability requirements for the new generation of ISOFIX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apsi_rosa_azul_4x_pb" descr=""/>
          <p:cNvPicPr/>
          <p:nvPr/>
        </p:nvPicPr>
        <p:blipFill>
          <a:blip r:embed="rId1"/>
          <a:stretch/>
        </p:blipFill>
        <p:spPr>
          <a:xfrm>
            <a:off x="801720" y="1701720"/>
            <a:ext cx="72072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40720" y="358920"/>
            <a:ext cx="441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Observations summar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1360" y="1200240"/>
            <a:ext cx="40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bout 500 CRS inspect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70 CRS mod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922480" y="2838600"/>
            <a:ext cx="3770640" cy="3278160"/>
            <a:chOff x="2922480" y="2838600"/>
            <a:chExt cx="3770640" cy="3278160"/>
          </a:xfrm>
        </p:grpSpPr>
        <p:graphicFrame>
          <p:nvGraphicFramePr>
            <p:cNvPr id="60" name=""/>
            <p:cNvGraphicFramePr/>
            <p:nvPr/>
          </p:nvGraphicFramePr>
          <p:xfrm>
            <a:off x="2922480" y="3084480"/>
            <a:ext cx="3228840" cy="28339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22480" y="3084480"/>
                      <a:ext cx="3228840" cy="28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"/>
            <p:cNvSpPr/>
            <p:nvPr/>
          </p:nvSpPr>
          <p:spPr>
            <a:xfrm>
              <a:off x="3354480" y="5657760"/>
              <a:ext cx="98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0/I and GI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62 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8840" y="3632400"/>
              <a:ext cx="1034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0 and G0+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20 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86960" y="2838600"/>
              <a:ext cx="64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I/II/III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12 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3400" y="289080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Not Identified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6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320" y="384120"/>
            <a:ext cx="367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Misuse distributio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8640" y="2433600"/>
            <a:ext cx="171360" cy="171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8640" y="2676600"/>
            <a:ext cx="171360" cy="169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8640" y="2919240"/>
            <a:ext cx="171360" cy="171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6840" y="3164040"/>
            <a:ext cx="171360" cy="171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2080" y="2411280"/>
            <a:ext cx="131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Arial"/>
              </a:rPr>
              <a:t>No misus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Arial"/>
              </a:rPr>
              <a:t>Slight misus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Arial"/>
              </a:rPr>
              <a:t>Serious misus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Arial"/>
              </a:rPr>
              <a:t>Very serious misus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2480" y="433872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CRS wi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Harnes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98960" y="436572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CRS wi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no Harnes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19440" y="2151000"/>
            <a:ext cx="6141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8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6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4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2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49360" y="2205000"/>
          <a:ext cx="4372200" cy="22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2205000"/>
                    <a:ext cx="43722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apsi_rosa_azul_8x_pb" descr=""/>
          <p:cNvPicPr/>
          <p:nvPr/>
        </p:nvPicPr>
        <p:blipFill>
          <a:blip r:embed="rId3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6400" y="100656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n CRSs with and without harn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3960" y="363600"/>
            <a:ext cx="34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R44 Supplement 2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aviso_airbag_baboo" descr=""/>
          <p:cNvPicPr/>
          <p:nvPr/>
        </p:nvPicPr>
        <p:blipFill>
          <a:blip r:embed="rId2"/>
          <a:stretch/>
        </p:blipFill>
        <p:spPr>
          <a:xfrm>
            <a:off x="5396040" y="3909960"/>
            <a:ext cx="2430360" cy="2266920"/>
          </a:xfrm>
          <a:prstGeom prst="rect">
            <a:avLst/>
          </a:prstGeom>
          <a:ln w="0">
            <a:noFill/>
          </a:ln>
        </p:spPr>
      </p:pic>
      <p:pic>
        <p:nvPicPr>
          <p:cNvPr id="84" name="aviso_airbag_a4" descr=""/>
          <p:cNvPicPr/>
          <p:nvPr/>
        </p:nvPicPr>
        <p:blipFill>
          <a:blip r:embed="rId3"/>
          <a:stretch/>
        </p:blipFill>
        <p:spPr>
          <a:xfrm>
            <a:off x="5622840" y="542880"/>
            <a:ext cx="2219400" cy="3143160"/>
          </a:xfrm>
          <a:prstGeom prst="rect">
            <a:avLst/>
          </a:prstGeom>
          <a:ln w="0">
            <a:noFill/>
          </a:ln>
        </p:spPr>
      </p:pic>
      <p:pic>
        <p:nvPicPr>
          <p:cNvPr id="85" name="aviso_airbag_SB" descr=""/>
          <p:cNvPicPr/>
          <p:nvPr/>
        </p:nvPicPr>
        <p:blipFill>
          <a:blip r:embed="rId4"/>
          <a:stretch/>
        </p:blipFill>
        <p:spPr>
          <a:xfrm>
            <a:off x="1436760" y="3765600"/>
            <a:ext cx="2844720" cy="241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81080" y="1249200"/>
            <a:ext cx="272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“…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in the immediate area where the child’s head rests within the child restraint and on the visible surface of the child restraint system,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rearward-facing restraints shall have the following label permanently attached…”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880" y="12445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4.5.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viso_airbag_iseos_01" descr=""/>
          <p:cNvPicPr/>
          <p:nvPr/>
        </p:nvPicPr>
        <p:blipFill>
          <a:blip r:embed="rId1"/>
          <a:stretch/>
        </p:blipFill>
        <p:spPr>
          <a:xfrm>
            <a:off x="4506840" y="252360"/>
            <a:ext cx="2157480" cy="3408480"/>
          </a:xfrm>
          <a:prstGeom prst="rect">
            <a:avLst/>
          </a:prstGeom>
          <a:ln w="0">
            <a:noFill/>
          </a:ln>
        </p:spPr>
      </p:pic>
      <p:pic>
        <p:nvPicPr>
          <p:cNvPr id="89" name="aviso_airbag_iseos_02" descr=""/>
          <p:cNvPicPr/>
          <p:nvPr/>
        </p:nvPicPr>
        <p:blipFill>
          <a:blip r:embed="rId2"/>
          <a:stretch/>
        </p:blipFill>
        <p:spPr>
          <a:xfrm>
            <a:off x="403200" y="4081320"/>
            <a:ext cx="3048120" cy="1928880"/>
          </a:xfrm>
          <a:prstGeom prst="rect">
            <a:avLst/>
          </a:prstGeom>
          <a:ln w="0">
            <a:noFill/>
          </a:ln>
        </p:spPr>
      </p:pic>
      <p:pic>
        <p:nvPicPr>
          <p:cNvPr id="90" name="aviso_airbag_iseos_03" descr=""/>
          <p:cNvPicPr/>
          <p:nvPr/>
        </p:nvPicPr>
        <p:blipFill>
          <a:blip r:embed="rId3"/>
          <a:stretch/>
        </p:blipFill>
        <p:spPr>
          <a:xfrm>
            <a:off x="6881760" y="3073320"/>
            <a:ext cx="1913040" cy="2967120"/>
          </a:xfrm>
          <a:prstGeom prst="rect">
            <a:avLst/>
          </a:prstGeom>
          <a:ln w="0">
            <a:noFill/>
          </a:ln>
        </p:spPr>
      </p:pic>
      <p:pic>
        <p:nvPicPr>
          <p:cNvPr id="91" name="aviso_airbag_iseos_04" descr=""/>
          <p:cNvPicPr/>
          <p:nvPr/>
        </p:nvPicPr>
        <p:blipFill>
          <a:blip r:embed="rId4"/>
          <a:stretch/>
        </p:blipFill>
        <p:spPr>
          <a:xfrm>
            <a:off x="3781440" y="4091040"/>
            <a:ext cx="2813040" cy="1922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apsi_rosa_azul_8x_pb" descr=""/>
          <p:cNvPicPr/>
          <p:nvPr/>
        </p:nvPicPr>
        <p:blipFill>
          <a:blip r:embed="rId5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3960" y="363600"/>
            <a:ext cx="34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R44 Supplement 2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1080" y="1249200"/>
            <a:ext cx="272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“…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in the immediate area where the child’s head rests within the child restraint and on the visible surface of the child restraint system,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rearward-facing restraints shall have the following label permanently attached…”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0880" y="12445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4.5.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0960" y="584280"/>
            <a:ext cx="77724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CI recommends</a:t>
            </a:r>
            <a:br>
              <a:rPr sz="44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1. GRSP ask Technical Services Group to tighten up application of current Supplement 2 requirements to ensure label position is corr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0960" y="584280"/>
            <a:ext cx="77724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CI recommend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2. Tightening of requirements to eliminate flag style labels.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41800" y="384120"/>
            <a:ext cx="695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Misuse Modes on CRSs with Harnes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2440" y="1963800"/>
            <a:ext cx="39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00"/>
                </a:solidFill>
                <a:latin typeface="Arial"/>
              </a:rPr>
              <a:t>Children facing forward too so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320" y="64692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apsi_rosa_azul_8x_pb" descr=""/>
          <p:cNvPicPr/>
          <p:nvPr/>
        </p:nvPicPr>
        <p:blipFill>
          <a:blip r:embed="rId1"/>
          <a:stretch/>
        </p:blipFill>
        <p:spPr>
          <a:xfrm>
            <a:off x="7699320" y="6186600"/>
            <a:ext cx="1190520" cy="49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54000" y="3343320"/>
            <a:ext cx="171360" cy="171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3700440"/>
            <a:ext cx="171720" cy="171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2240" y="3284640"/>
            <a:ext cx="129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arward fac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ward fac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33160" y="2738520"/>
            <a:ext cx="33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CRS orientation according to ag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37280" y="51721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-6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58240" y="51703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6-9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1721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9-12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9280" y="51721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2-18 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2951280"/>
            <a:ext cx="61416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8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6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4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2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00"/>
                </a:solidFill>
                <a:latin typeface="Arial"/>
              </a:rPr>
              <a:t>0 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29040" y="3021120"/>
          <a:ext cx="4378320" cy="221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29040" y="3021120"/>
                    <a:ext cx="43783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22:30:15Z</dcterms:created>
  <dc:creator>APSI</dc:creator>
  <dc:description/>
  <dc:language>en-US</dc:language>
  <cp:lastModifiedBy>James Roberts</cp:lastModifiedBy>
  <dcterms:modified xsi:type="dcterms:W3CDTF">2002-05-16T13:11:45Z</dcterms:modified>
  <cp:revision>85</cp:revision>
  <dc:subject/>
  <dc:title>No Slide Title</dc:title>
</cp:coreProperties>
</file>