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00AC-49F6-48D9-8E64-D755A66D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AEBC-3F9B-4E91-AC58-99506CF7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C6D1-14E4-4C24-905B-B57952F7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F19C-2B56-44BD-82EF-7BE81A09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79EB4-B62B-4A9B-86E6-897B890D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BFCD5-084C-4A97-943E-77CC372B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D21B4-BEA7-45C7-BAA6-05F70CF9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A4BE3-0A1D-4416-B1F1-1708C2F6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63ED5-C298-4282-9602-903EB47A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302CA-9A61-4388-86BE-06C46B49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33377-937F-4CB4-971B-B1333594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9F93-51F4-4BEC-9321-FE4E92A3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C77E7-DDD9-4F46-94A8-FF40AA32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4A498-819D-4A83-B1CF-BC09666A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99EF4-8964-4ED4-B74B-4C0E1C19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3D566-0287-4231-B6F2-CE5EBFC3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C1E0A-5A20-40EE-BBD7-1C8E3902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FC94-A241-4C46-8343-6392DC45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06C9-F253-456C-BEE3-8FAB75D1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BFA-4C3F-4EBA-A10A-7E2A038C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077-D9FD-4786-86EC-B06B7CFA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3572-940E-4911-942D-6F71EB6B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C85-E8A5-491C-9FA5-A80325E1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9E0D-FD25-4862-8EB4-E5CD8BCF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244920"/>
            <a:ext cx="4648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GRSP 13-17/05/200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F32C-7306-40C0-8550-9684BD359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BDD3-8BC3-41F1-AF50-166F08A910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1996920"/>
            <a:ext cx="84582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SOFIX</a:t>
            </a:r>
            <a:br>
              <a:rPr sz="2800"/>
            </a:br>
            <a:br>
              <a:rPr sz="2800"/>
            </a:b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FRENCH PROPOSAL</a:t>
            </a:r>
            <a:br>
              <a:rPr sz="18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(DOCUMENTS TRANS/WP29/GRSP/2001/14Rev1; 2001/15Rev1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2001/16Rev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GRSP 13-17/05/200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MAIN PRINCI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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ISOFIX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"universal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" type :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Forwar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Facing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Child Restraint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ystem (CRS) with two low anchorages + top tether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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ISOFIX "semi-universal" : Forward or Rearward Facing Child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Restraint System  with two low anchorages and other(s) anti-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rotation device(s) (legform, lower tether,…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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Keep the current R 44 criteria (dummies and criteria, pulse,…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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Only M1 vehicle type have to be equiped with anchorag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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To guarantee the setting of ISOFIX CRF in the car (fixture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ROVISIONS REQUIRED FOR CAR (1)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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2 ISOFIX positions (3 anchorages) for any M1 vehicle, except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for M1 with only 1 seat row (no ISOFIX position is required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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Each ISOFIX position shall permit the installation of fixture(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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 ISOFIX position has to be installed at the second seat row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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ISOFIX position not located on a vehicle seat is allowed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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Integrated "build in" CRS are taken into account for the 2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ISOFIX positions to be provided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ROVISIONS REQUIRED FOR CAR (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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Instructions for ISOFIX anchorages and restrictions for seat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djustment have to be indicated in the vehicle handboo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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ost-equipment anchorages have to fulfil the provision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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Each ISOFIX position is defined according fixtures : 3 rearward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facing and 2 forward facing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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If an ISOFIX position is provided on front side passenger seat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tected with a frontal airbag, a deactivation device shall be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fitted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ROVISIONS REQUIRED FOR CAR (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3 Static tests are performed to check the strength of the anchorages and the excursion of the S-FAD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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 test with the 3 anchorages, longitudinal, F= 8kN : no failure of anchorages and excursion limited to 125 m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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 test with the 2 low anchorages, longitudinal, F= 8kN : criteria idem test 1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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 test with the 2 low anchorages, oblique (75°), F= [5kN] :  no failure of anchorages and excursion limited to [125 mm]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OVISIONS FOR ISOFIX CHILD RESTRAINT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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 new mass group is introduced in Regulation 44 :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"1+" for 15-22 kg childre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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SOFIX CRS design have to comply within the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xternal dimensions of  fixture(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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wo tests are performed for Forward Facing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SOFIX Child Restraint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mall dummy with the shorter distance of the top tether strap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Heavier dummy with the longuer distance of the top tether strap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1996920"/>
            <a:ext cx="84582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SOFIX</a:t>
            </a:r>
            <a:br>
              <a:rPr sz="2800"/>
            </a:br>
            <a:br>
              <a:rPr sz="2800"/>
            </a:b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FRENCH PROPOSAL</a:t>
            </a:r>
            <a:br>
              <a:rPr sz="18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(DOCUMENTS TRANS/WP29/GRSP/2001/14Rev1; 2001/15Rev1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2001/16Rev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GRSP 13-17/05/200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15:21:47Z</dcterms:created>
  <dc:creator>acces_iti</dc:creator>
  <dc:description/>
  <dc:language>en-US</dc:language>
  <cp:lastModifiedBy>Juan Ramos Garcia</cp:lastModifiedBy>
  <dcterms:modified xsi:type="dcterms:W3CDTF">2002-05-16T12:17:16Z</dcterms:modified>
  <cp:revision>5</cp:revision>
  <dc:subject>ISOFIX</dc:subject>
  <dc:title>ISOFIX  FRENCH PROPOSAL (DOCUMENTS TRANS/WP29/GRSP/2001/14Rev1; 2001/15Rev1 and 2001/16Rev1)</dc:title>
</cp:coreProperties>
</file>