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CED-0CC5-4E66-ADD3-4F48C0C7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1E2-7645-46DD-A8AE-86155B9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492-6995-4427-939E-CB82CCAB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41C-1A03-43C7-8E24-0C1DC3C7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4040-1355-4B64-836F-679002AB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7953-8281-43DE-9F60-AF8B5528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4498-5891-428A-B11F-2501498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3A81-1BE1-4B77-8D1D-B626789A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A55-377C-48CB-A33A-3095CB0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2A1-D482-43B8-968C-4ECF971B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D33-CBE3-44EA-968D-1DA6F7B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F8E-A7A8-455B-80F1-3D4135F5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316F-98C1-4349-AB01-4655C2B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4B22-158A-4498-9CCA-99CC5F7E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B7E6-5EBF-40C9-B812-600F0BD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ED7D-A8FF-4C62-8BAC-926BC8C6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D96A-DF61-4129-AE05-4B6EB330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977-11EE-4995-BBD6-0186B1EE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095-7924-41D0-AFEE-E3D0CCF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2FF-8103-4269-BBB3-125F150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70D-B368-490B-A2E1-D989F40F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02F-8E84-4921-9BA8-760186B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0DE-AF5B-478C-8238-A8A9F1D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BBD-49C7-4B40-B5EE-62D72BF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ADF5-B173-45E0-BC48-26D5021DA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2E06-7771-489A-AA86-7C433B2FC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7315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br>
              <a:rPr sz="4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formal Document No. 1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RRF,16-18 September 200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da Item 6.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mission by the United States of America for information on the status of rulemaking on tire pressure monitoring systems 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ire Pressure Monitoring Systems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Final Rule </a:t>
            </a: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9FD1-4A98-4451-B9C1-6DA7114D53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etitions for Reconsider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jor Iss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placement ti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libration proced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ltale symb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rning activation within 10 min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ablement of TP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cerns of small volume manufactur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EF4-F26B-46C1-BF4A-CC2BAF048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cy to decide on issues in Final Rule -Petitions for Reconsid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pect to be issued by late-2002 or early-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ocket 8572 will remain open for public to submit any new data; web site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dms.dot.go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ire pressure survey is expected to be initiated in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cy decision on final requirement by March 200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8DD-5596-4653-985D-035BFD01F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.S. Congress mandated a final rule to require a warning system “in motor vehicles to indicate to the operator when a tire is significantly under-inflated” be completed by November 1, 200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gress mandated that this rule must take effect by November 1, 2003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9AE-BBA4-4458-8898-4A3FB323B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PMS Final Ru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nal Rule published on June 5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titions for Reconsideration period closed July 22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gency received 13 petitions for reconsideration on a variety of the issues in the final ru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gency preparing its response to these petitions for reconside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3E2-AC3D-4369-AB25-BD542CB183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ffective Da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nal rule is effective August 5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hicles must be equipped with TPMS based on a phase-in beginning November 1, 200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hase-in period ends October 31, 200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ginning November 1, 2006 all light vehicles are required to be equipped with a TPM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A59-02CC-4FF6-9F52-97C6326CB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liance Option 1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res driver to be notified when 1 to 4 tires are 25% under recommended inflation pressure or at 20 psi, whichever is grea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sentially requires direct systems to meet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choice requires the most-capable current system, so it both ensures the greatest safety benefits and costs more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F1B-BAFE-4024-B116-97F5FE7107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liance Option 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res driver to be notified when 1 tire is 30% under recommended inflation pressure or at 20 psi, whichever is grea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mits both direct systems and indirect syst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choice permits continued use of indirect systems, so it results in lower costs, but the lesser performance may result in lesser safety benefits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194-4C03-4EED-A804-5906EB2984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w Tire Pressure Activ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523880"/>
          <a:ext cx="7772400" cy="4923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re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. Inflation Pressure (kP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. Activation Pressure (kP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-metric - 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-metric – Extra 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FFD-E6A7-483A-AA0A-5A8EC6724D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hase-in Requirem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y of the two compliance options may be used for vehicles manufactured between November 1, 2003 and October 31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% production: November 1, 2003 – October 31, 200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5% production: November 1, 2004 – October 31, 20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5% production: November 1, 2005 – October 31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0% production: November 1, 2006 and af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ire pressure survey will be conducted to evaluate tire pressures of vehicles with indirect TPMS and without any TP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part of final rule to be issued by March 1, 2005, based on survey find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BA9-41F6-41F1-83D3-074BA51A33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cond Part of Final Ru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part of final rule will be issued by March 1,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cision on which compliance option becomes the sole requirement will be based on the findings of the tire pressure surv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gency tentatively believes that Compliance Option 1 would best meet Congressional int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025-F4CC-41BE-936D-4909BE735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6:04:28Z</dcterms:created>
  <dc:creator>Steve Kratzke</dc:creator>
  <dc:description/>
  <dc:language>en-US</dc:language>
  <cp:lastModifiedBy>Juan Ramos Garcia</cp:lastModifiedBy>
  <dcterms:modified xsi:type="dcterms:W3CDTF">2002-09-13T08:56:33Z</dcterms:modified>
  <cp:revision>46</cp:revision>
  <dc:subject/>
  <dc:title>Tire Pressure Monitoring Systems  The NHTSA Proposal </dc:title>
</cp:coreProperties>
</file>