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90E8-5B43-4DA9-B111-7ADC29A5A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D86B-DFAC-4334-AC44-921FBD0B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62CB-3943-4EA1-9FCA-0AD33C31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FA67-BF66-45DD-9B23-1BFEAD26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E59D-1DD1-48C2-B626-1C4BDCC3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E8A4-246F-4208-9745-F58FFC52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260B-B448-4749-AC48-9084B00E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5E01-A43A-4893-B0D2-BEF1DEE2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1471-6802-490F-A2CF-A4F978A0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FB4F-AE16-45D7-8FBF-91539C0C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0C46-AC5F-4EB6-A19B-EC1743FE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F600-4854-492E-B6F3-AA3A703A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2E13-9C04-4611-8F36-2EA0499F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384B-1924-4593-8D62-99ABC6BA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8497-9AD9-4FCA-92FF-14344802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0F78-030D-4DC6-AAE1-BA5C7E29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817D-4B10-4D2E-BB73-8A95BEB4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A4D3-8299-4A2B-BAF1-B2EECC49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FE35-767D-4334-B9B3-6DD4E497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6E7D-7671-47D1-8D34-41AED271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51D8-5066-4AE4-82D1-E8C980D3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538D-333B-4C65-98DE-7F779270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2FBE-53A4-499F-AB19-EE3D57F8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DF9D-BC05-4D57-9D6A-5978261A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3166-EDB0-4118-AD67-4712B875E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C9F2-00A4-4E1F-9902-F7EBAF0CA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73152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	</a:t>
            </a:r>
            <a:br>
              <a:rPr sz="44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Informal Document No. 16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5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GRRF,16-18 September 2002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genda Item 6.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bmission by the United States of America for information on the status of rulemaking on tire pressure monitoring systems </a:t>
            </a:r>
            <a:br>
              <a:rPr sz="2400"/>
            </a:b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Tire Pressure Monitoring Systems 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Final Rule </a:t>
            </a:r>
            <a:br>
              <a:rPr sz="4400"/>
            </a:b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30B3-3AA6-4F5C-B692-900F0BD92D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etitions for Reconsidera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jor Issu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placement ti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alibration procedu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ltale symbo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rning activation within 10 minu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ablement of TPM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cerns of small volume manufactur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691A-E159-403A-955F-AC27645C1D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gency to decide on issues in Final Rule -Petitions for Reconsider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xpect to be issued by late-2002 or early-200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ocket 8572 will remain open for public to submit any new data; web site 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dms.dot.gov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ire pressure survey is expected to be initiated in 200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gency decision on final requirement by March 2005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182E-D2B5-4C06-A08F-89F472356E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.S. Congress mandated a final rule to require a warning system “in motor vehicles to indicate to the operator when a tire is significantly under-inflated” be completed by November 1, 2001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gress mandated that this rule must take effect by November 1, 2003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D571-3844-440E-86C4-31CCF8F83B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TPMS Final Rul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nal Rule published on June 5, 2002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etitions for Reconsideration period closed July 22, 2002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gency received 13 petitions for reconsideration on a variety of the issues in the final ru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gency preparing its response to these petitions for reconsider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ABC7-B195-4945-BD60-0B90687421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Effective Dat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nal rule is effective August 5, 2002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ehicles must be equipped with TPMS based on a phase-in beginning November 1, 2003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hase-in period ends October 31, 2006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eginning November 1, 2006 all light vehicles are required to be equipped with a TPM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B9EB-359F-4967-99F8-92A12835F2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ompliance Option 1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quires driver to be notified when 1 to 4 tires are 25% under recommended inflation pressure or at 20 psi, whichever is great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ssentially requires direct systems to meet requirem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s choice requires the most-capable current system, so it both ensures the greatest safety benefits and costs more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C9C5-2B65-416E-B03B-61F7EF97AD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ompliance Option 2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quires driver to be notified when 1 tire is 30% under recommended inflation pressure or at 20 psi, whichever is great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ermits both direct systems and indirect system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s choice permits continued use of indirect systems, so it results in lower costs, but the lesser performance may result in lesser safety benefits 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979A-5E1F-49E7-8ECE-64D7CCFDF9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Low Tire Pressure Activa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1523880"/>
          <a:ext cx="7772400" cy="49230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ire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x. Inflation Pressure (kP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n. Activation Pressure (kP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-metric - Stand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-metric – Extra Lo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T load range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T load range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T load range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98B-6094-42E8-8536-A7FBF31A49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hase-in Requirement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y of the two compliance options may be used for vehicles manufactured between November 1, 2003 and October 31, 2006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% production: November 1, 2003 – October 31, 2004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35% production: November 1, 2004 – October 31, 2005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5% production: November 1, 2005 – October 31, 2006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0% production: November 1, 2006 and af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ire pressure survey will be conducted to evaluate tire pressures of vehicles with indirect TPMS and without any TPM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part of final rule to be issued by March 1, 2005, based on survey finding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919F-F0C1-449E-A3F1-D81A903ADA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econd Part of Final Rul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econd part of final rule will be issued by March 1, 2005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cision on which compliance option becomes the sole requirement will be based on the findings of the tire pressure surve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gency tentatively believes that Compliance Option 1 would best meet Congressional inten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FBB0-D446-4418-8280-24FC1B1956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6:04:28Z</dcterms:created>
  <dc:creator>Steve Kratzke</dc:creator>
  <dc:description/>
  <dc:language>en-US</dc:language>
  <cp:lastModifiedBy>Juan Ramos Garcia</cp:lastModifiedBy>
  <dcterms:modified xsi:type="dcterms:W3CDTF">2002-09-13T08:56:33Z</dcterms:modified>
  <cp:revision>46</cp:revision>
  <dc:subject/>
  <dc:title>Tire Pressure Monitoring Systems  The NHTSA Proposal </dc:title>
</cp:coreProperties>
</file>