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3.png" ContentType="image/png"/>
  <Override PartName="/ppt/media/image4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2.png" ContentType="image/png"/>
  <Override PartName="/ppt/media/image10.wmf" ContentType="image/x-wmf"/>
  <Override PartName="/ppt/media/image11.png" ContentType="image/png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5482-3207-4C73-BAEF-1AF0FDF5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6B1-F35A-4B9C-BBA8-2646C2C5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10D-3F7D-42E1-83E8-07A37AB2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525-8BFD-4559-8CA4-6CD97727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B1B-108C-4D07-97C7-F3D4C7BA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75E-6636-4A1C-A29F-27404CD7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235-6AF6-4C81-AD5C-C3257FD2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F126-EF3B-428F-8077-7F94873A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8C4-87A2-4713-90BE-3CA909D6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750-8E4E-442C-9E3A-13B2BAB7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D4B6-39B1-4A5E-A59A-66229ADE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45F-C0BD-4E15-ABF2-4201CD00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3DBE-2744-44EA-BE88-86D4618FF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hyperlink" Target="mailto:mkr@who.n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d8a"/>
            </a:gs>
            <a:gs pos="50000">
              <a:srgbClr val="0f219b"/>
            </a:gs>
            <a:gs pos="100000">
              <a:srgbClr val="0d1d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57280"/>
            <a:ext cx="8120160" cy="6118200"/>
            <a:chOff x="228600" y="557280"/>
            <a:chExt cx="8120160" cy="6118200"/>
          </a:xfrm>
        </p:grpSpPr>
        <p:sp>
          <p:nvSpPr>
            <p:cNvPr id="44" name=""/>
            <p:cNvSpPr/>
            <p:nvPr/>
          </p:nvSpPr>
          <p:spPr>
            <a:xfrm>
              <a:off x="2662200" y="20638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2" y="77"/>
                  </a:moveTo>
                  <a:lnTo>
                    <a:pt x="2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2" y="125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5" y="174"/>
                  </a:lnTo>
                  <a:lnTo>
                    <a:pt x="31" y="182"/>
                  </a:lnTo>
                  <a:lnTo>
                    <a:pt x="40" y="182"/>
                  </a:lnTo>
                  <a:lnTo>
                    <a:pt x="48" y="182"/>
                  </a:lnTo>
                  <a:lnTo>
                    <a:pt x="60" y="191"/>
                  </a:lnTo>
                  <a:lnTo>
                    <a:pt x="71" y="196"/>
                  </a:lnTo>
                  <a:lnTo>
                    <a:pt x="71" y="205"/>
                  </a:lnTo>
                  <a:lnTo>
                    <a:pt x="74" y="214"/>
                  </a:lnTo>
                  <a:lnTo>
                    <a:pt x="83" y="214"/>
                  </a:lnTo>
                  <a:lnTo>
                    <a:pt x="91" y="214"/>
                  </a:lnTo>
                  <a:lnTo>
                    <a:pt x="100" y="214"/>
                  </a:lnTo>
                  <a:lnTo>
                    <a:pt x="109" y="214"/>
                  </a:lnTo>
                  <a:lnTo>
                    <a:pt x="117" y="214"/>
                  </a:lnTo>
                  <a:lnTo>
                    <a:pt x="126" y="214"/>
                  </a:lnTo>
                  <a:lnTo>
                    <a:pt x="137" y="208"/>
                  </a:lnTo>
                  <a:lnTo>
                    <a:pt x="149" y="202"/>
                  </a:lnTo>
                  <a:lnTo>
                    <a:pt x="149" y="194"/>
                  </a:lnTo>
                  <a:lnTo>
                    <a:pt x="146" y="185"/>
                  </a:lnTo>
                  <a:lnTo>
                    <a:pt x="146" y="176"/>
                  </a:lnTo>
                  <a:lnTo>
                    <a:pt x="155" y="168"/>
                  </a:lnTo>
                  <a:lnTo>
                    <a:pt x="158" y="159"/>
                  </a:lnTo>
                  <a:lnTo>
                    <a:pt x="158" y="151"/>
                  </a:lnTo>
                  <a:lnTo>
                    <a:pt x="155" y="142"/>
                  </a:lnTo>
                  <a:lnTo>
                    <a:pt x="155" y="134"/>
                  </a:lnTo>
                  <a:lnTo>
                    <a:pt x="146" y="134"/>
                  </a:lnTo>
                  <a:lnTo>
                    <a:pt x="137" y="134"/>
                  </a:lnTo>
                  <a:lnTo>
                    <a:pt x="135" y="125"/>
                  </a:lnTo>
                  <a:lnTo>
                    <a:pt x="129" y="116"/>
                  </a:lnTo>
                  <a:lnTo>
                    <a:pt x="120" y="114"/>
                  </a:lnTo>
                  <a:lnTo>
                    <a:pt x="114" y="105"/>
                  </a:lnTo>
                  <a:lnTo>
                    <a:pt x="114" y="97"/>
                  </a:lnTo>
                  <a:lnTo>
                    <a:pt x="106" y="94"/>
                  </a:lnTo>
                  <a:lnTo>
                    <a:pt x="97" y="94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89" y="71"/>
                  </a:lnTo>
                  <a:lnTo>
                    <a:pt x="80" y="68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83" y="45"/>
                  </a:lnTo>
                  <a:lnTo>
                    <a:pt x="94" y="45"/>
                  </a:lnTo>
                  <a:lnTo>
                    <a:pt x="103" y="39"/>
                  </a:lnTo>
                  <a:lnTo>
                    <a:pt x="106" y="31"/>
                  </a:lnTo>
                  <a:lnTo>
                    <a:pt x="103" y="22"/>
                  </a:lnTo>
                  <a:lnTo>
                    <a:pt x="94" y="22"/>
                  </a:lnTo>
                  <a:lnTo>
                    <a:pt x="86" y="14"/>
                  </a:lnTo>
                  <a:lnTo>
                    <a:pt x="77" y="11"/>
                  </a:lnTo>
                  <a:lnTo>
                    <a:pt x="68" y="11"/>
                  </a:lnTo>
                  <a:lnTo>
                    <a:pt x="54" y="0"/>
                  </a:lnTo>
                  <a:lnTo>
                    <a:pt x="51" y="8"/>
                  </a:lnTo>
                  <a:lnTo>
                    <a:pt x="60" y="14"/>
                  </a:lnTo>
                  <a:lnTo>
                    <a:pt x="63" y="22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7" y="45"/>
                  </a:lnTo>
                  <a:lnTo>
                    <a:pt x="45" y="45"/>
                  </a:lnTo>
                  <a:lnTo>
                    <a:pt x="40" y="37"/>
                  </a:lnTo>
                  <a:lnTo>
                    <a:pt x="34" y="28"/>
                  </a:lnTo>
                  <a:lnTo>
                    <a:pt x="31" y="37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5" y="62"/>
                  </a:lnTo>
                  <a:lnTo>
                    <a:pt x="17" y="68"/>
                  </a:lnTo>
                  <a:lnTo>
                    <a:pt x="2" y="77"/>
                  </a:lnTo>
                  <a:lnTo>
                    <a:pt x="2" y="7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85760" y="557280"/>
              <a:ext cx="6975720" cy="5226120"/>
            </a:xfrm>
            <a:custGeom>
              <a:avLst/>
              <a:gdLst/>
              <a:ahLst/>
              <a:rect l="l" t="t" r="r" b="b"/>
              <a:pathLst>
                <a:path w="4394" h="3292">
                  <a:moveTo>
                    <a:pt x="4183" y="665"/>
                  </a:moveTo>
                  <a:lnTo>
                    <a:pt x="4174" y="685"/>
                  </a:lnTo>
                  <a:lnTo>
                    <a:pt x="4165" y="680"/>
                  </a:lnTo>
                  <a:lnTo>
                    <a:pt x="4154" y="671"/>
                  </a:lnTo>
                  <a:lnTo>
                    <a:pt x="4145" y="665"/>
                  </a:lnTo>
                  <a:lnTo>
                    <a:pt x="4136" y="657"/>
                  </a:lnTo>
                  <a:lnTo>
                    <a:pt x="4128" y="648"/>
                  </a:lnTo>
                  <a:lnTo>
                    <a:pt x="4122" y="639"/>
                  </a:lnTo>
                  <a:lnTo>
                    <a:pt x="4110" y="631"/>
                  </a:lnTo>
                  <a:lnTo>
                    <a:pt x="4104" y="622"/>
                  </a:lnTo>
                  <a:lnTo>
                    <a:pt x="4098" y="613"/>
                  </a:lnTo>
                  <a:lnTo>
                    <a:pt x="4093" y="605"/>
                  </a:lnTo>
                  <a:lnTo>
                    <a:pt x="4084" y="596"/>
                  </a:lnTo>
                  <a:lnTo>
                    <a:pt x="4075" y="593"/>
                  </a:lnTo>
                  <a:lnTo>
                    <a:pt x="4066" y="590"/>
                  </a:lnTo>
                  <a:lnTo>
                    <a:pt x="4058" y="587"/>
                  </a:lnTo>
                  <a:lnTo>
                    <a:pt x="4049" y="585"/>
                  </a:lnTo>
                  <a:lnTo>
                    <a:pt x="4037" y="585"/>
                  </a:lnTo>
                  <a:lnTo>
                    <a:pt x="4029" y="582"/>
                  </a:lnTo>
                  <a:lnTo>
                    <a:pt x="4023" y="573"/>
                  </a:lnTo>
                  <a:lnTo>
                    <a:pt x="4020" y="564"/>
                  </a:lnTo>
                  <a:lnTo>
                    <a:pt x="4011" y="556"/>
                  </a:lnTo>
                  <a:lnTo>
                    <a:pt x="4002" y="550"/>
                  </a:lnTo>
                  <a:lnTo>
                    <a:pt x="4002" y="541"/>
                  </a:lnTo>
                  <a:lnTo>
                    <a:pt x="3994" y="538"/>
                  </a:lnTo>
                  <a:lnTo>
                    <a:pt x="3982" y="538"/>
                  </a:lnTo>
                  <a:lnTo>
                    <a:pt x="3973" y="538"/>
                  </a:lnTo>
                  <a:lnTo>
                    <a:pt x="3965" y="538"/>
                  </a:lnTo>
                  <a:lnTo>
                    <a:pt x="3953" y="538"/>
                  </a:lnTo>
                  <a:lnTo>
                    <a:pt x="3947" y="530"/>
                  </a:lnTo>
                  <a:lnTo>
                    <a:pt x="3947" y="521"/>
                  </a:lnTo>
                  <a:lnTo>
                    <a:pt x="3938" y="512"/>
                  </a:lnTo>
                  <a:lnTo>
                    <a:pt x="3930" y="504"/>
                  </a:lnTo>
                  <a:lnTo>
                    <a:pt x="3930" y="495"/>
                  </a:lnTo>
                  <a:lnTo>
                    <a:pt x="3927" y="484"/>
                  </a:lnTo>
                  <a:lnTo>
                    <a:pt x="3918" y="481"/>
                  </a:lnTo>
                  <a:lnTo>
                    <a:pt x="3909" y="481"/>
                  </a:lnTo>
                  <a:lnTo>
                    <a:pt x="3901" y="481"/>
                  </a:lnTo>
                  <a:lnTo>
                    <a:pt x="3892" y="481"/>
                  </a:lnTo>
                  <a:lnTo>
                    <a:pt x="3883" y="481"/>
                  </a:lnTo>
                  <a:lnTo>
                    <a:pt x="3871" y="481"/>
                  </a:lnTo>
                  <a:lnTo>
                    <a:pt x="3863" y="481"/>
                  </a:lnTo>
                  <a:lnTo>
                    <a:pt x="3851" y="478"/>
                  </a:lnTo>
                  <a:lnTo>
                    <a:pt x="3842" y="472"/>
                  </a:lnTo>
                  <a:lnTo>
                    <a:pt x="3842" y="463"/>
                  </a:lnTo>
                  <a:lnTo>
                    <a:pt x="3842" y="455"/>
                  </a:lnTo>
                  <a:lnTo>
                    <a:pt x="3834" y="446"/>
                  </a:lnTo>
                  <a:lnTo>
                    <a:pt x="3825" y="446"/>
                  </a:lnTo>
                  <a:lnTo>
                    <a:pt x="3819" y="455"/>
                  </a:lnTo>
                  <a:lnTo>
                    <a:pt x="3810" y="458"/>
                  </a:lnTo>
                  <a:lnTo>
                    <a:pt x="3802" y="461"/>
                  </a:lnTo>
                  <a:lnTo>
                    <a:pt x="3793" y="461"/>
                  </a:lnTo>
                  <a:lnTo>
                    <a:pt x="3784" y="461"/>
                  </a:lnTo>
                  <a:lnTo>
                    <a:pt x="3775" y="461"/>
                  </a:lnTo>
                  <a:lnTo>
                    <a:pt x="3764" y="455"/>
                  </a:lnTo>
                  <a:lnTo>
                    <a:pt x="3755" y="452"/>
                  </a:lnTo>
                  <a:lnTo>
                    <a:pt x="3752" y="461"/>
                  </a:lnTo>
                  <a:lnTo>
                    <a:pt x="3755" y="469"/>
                  </a:lnTo>
                  <a:lnTo>
                    <a:pt x="3764" y="472"/>
                  </a:lnTo>
                  <a:lnTo>
                    <a:pt x="3755" y="475"/>
                  </a:lnTo>
                  <a:lnTo>
                    <a:pt x="3746" y="475"/>
                  </a:lnTo>
                  <a:lnTo>
                    <a:pt x="3737" y="478"/>
                  </a:lnTo>
                  <a:lnTo>
                    <a:pt x="3729" y="478"/>
                  </a:lnTo>
                  <a:lnTo>
                    <a:pt x="3720" y="478"/>
                  </a:lnTo>
                  <a:lnTo>
                    <a:pt x="3711" y="472"/>
                  </a:lnTo>
                  <a:lnTo>
                    <a:pt x="3703" y="463"/>
                  </a:lnTo>
                  <a:lnTo>
                    <a:pt x="3694" y="455"/>
                  </a:lnTo>
                  <a:lnTo>
                    <a:pt x="3685" y="452"/>
                  </a:lnTo>
                  <a:lnTo>
                    <a:pt x="3676" y="452"/>
                  </a:lnTo>
                  <a:lnTo>
                    <a:pt x="3668" y="449"/>
                  </a:lnTo>
                  <a:lnTo>
                    <a:pt x="3656" y="449"/>
                  </a:lnTo>
                  <a:lnTo>
                    <a:pt x="3647" y="449"/>
                  </a:lnTo>
                  <a:lnTo>
                    <a:pt x="3638" y="449"/>
                  </a:lnTo>
                  <a:lnTo>
                    <a:pt x="3636" y="440"/>
                  </a:lnTo>
                  <a:lnTo>
                    <a:pt x="3636" y="432"/>
                  </a:lnTo>
                  <a:lnTo>
                    <a:pt x="3630" y="423"/>
                  </a:lnTo>
                  <a:lnTo>
                    <a:pt x="3638" y="423"/>
                  </a:lnTo>
                  <a:lnTo>
                    <a:pt x="3636" y="414"/>
                  </a:lnTo>
                  <a:lnTo>
                    <a:pt x="3627" y="412"/>
                  </a:lnTo>
                  <a:lnTo>
                    <a:pt x="3618" y="409"/>
                  </a:lnTo>
                  <a:lnTo>
                    <a:pt x="3615" y="400"/>
                  </a:lnTo>
                  <a:lnTo>
                    <a:pt x="3609" y="391"/>
                  </a:lnTo>
                  <a:lnTo>
                    <a:pt x="3618" y="391"/>
                  </a:lnTo>
                  <a:lnTo>
                    <a:pt x="3627" y="391"/>
                  </a:lnTo>
                  <a:lnTo>
                    <a:pt x="3633" y="383"/>
                  </a:lnTo>
                  <a:lnTo>
                    <a:pt x="3624" y="377"/>
                  </a:lnTo>
                  <a:lnTo>
                    <a:pt x="3615" y="374"/>
                  </a:lnTo>
                  <a:lnTo>
                    <a:pt x="3606" y="363"/>
                  </a:lnTo>
                  <a:lnTo>
                    <a:pt x="3604" y="354"/>
                  </a:lnTo>
                  <a:lnTo>
                    <a:pt x="3598" y="345"/>
                  </a:lnTo>
                  <a:lnTo>
                    <a:pt x="3592" y="337"/>
                  </a:lnTo>
                  <a:lnTo>
                    <a:pt x="3583" y="322"/>
                  </a:lnTo>
                  <a:lnTo>
                    <a:pt x="3577" y="314"/>
                  </a:lnTo>
                  <a:lnTo>
                    <a:pt x="3586" y="305"/>
                  </a:lnTo>
                  <a:lnTo>
                    <a:pt x="3592" y="296"/>
                  </a:lnTo>
                  <a:lnTo>
                    <a:pt x="3595" y="288"/>
                  </a:lnTo>
                  <a:lnTo>
                    <a:pt x="3595" y="279"/>
                  </a:lnTo>
                  <a:lnTo>
                    <a:pt x="3586" y="276"/>
                  </a:lnTo>
                  <a:lnTo>
                    <a:pt x="3577" y="276"/>
                  </a:lnTo>
                  <a:lnTo>
                    <a:pt x="3569" y="276"/>
                  </a:lnTo>
                  <a:lnTo>
                    <a:pt x="3557" y="270"/>
                  </a:lnTo>
                  <a:lnTo>
                    <a:pt x="3548" y="259"/>
                  </a:lnTo>
                  <a:lnTo>
                    <a:pt x="3540" y="253"/>
                  </a:lnTo>
                  <a:lnTo>
                    <a:pt x="3531" y="250"/>
                  </a:lnTo>
                  <a:lnTo>
                    <a:pt x="3522" y="244"/>
                  </a:lnTo>
                  <a:lnTo>
                    <a:pt x="3510" y="236"/>
                  </a:lnTo>
                  <a:lnTo>
                    <a:pt x="3502" y="233"/>
                  </a:lnTo>
                  <a:lnTo>
                    <a:pt x="3493" y="227"/>
                  </a:lnTo>
                  <a:lnTo>
                    <a:pt x="3484" y="224"/>
                  </a:lnTo>
                  <a:lnTo>
                    <a:pt x="3475" y="219"/>
                  </a:lnTo>
                  <a:lnTo>
                    <a:pt x="3467" y="213"/>
                  </a:lnTo>
                  <a:lnTo>
                    <a:pt x="3458" y="207"/>
                  </a:lnTo>
                  <a:lnTo>
                    <a:pt x="3449" y="198"/>
                  </a:lnTo>
                  <a:lnTo>
                    <a:pt x="3441" y="193"/>
                  </a:lnTo>
                  <a:lnTo>
                    <a:pt x="3432" y="187"/>
                  </a:lnTo>
                  <a:lnTo>
                    <a:pt x="3423" y="184"/>
                  </a:lnTo>
                  <a:lnTo>
                    <a:pt x="3414" y="178"/>
                  </a:lnTo>
                  <a:lnTo>
                    <a:pt x="3406" y="172"/>
                  </a:lnTo>
                  <a:lnTo>
                    <a:pt x="3400" y="164"/>
                  </a:lnTo>
                  <a:lnTo>
                    <a:pt x="3397" y="155"/>
                  </a:lnTo>
                  <a:lnTo>
                    <a:pt x="3394" y="146"/>
                  </a:lnTo>
                  <a:lnTo>
                    <a:pt x="3388" y="138"/>
                  </a:lnTo>
                  <a:lnTo>
                    <a:pt x="3382" y="129"/>
                  </a:lnTo>
                  <a:lnTo>
                    <a:pt x="3388" y="121"/>
                  </a:lnTo>
                  <a:lnTo>
                    <a:pt x="3379" y="121"/>
                  </a:lnTo>
                  <a:lnTo>
                    <a:pt x="3371" y="121"/>
                  </a:lnTo>
                  <a:lnTo>
                    <a:pt x="3362" y="121"/>
                  </a:lnTo>
                  <a:lnTo>
                    <a:pt x="3359" y="129"/>
                  </a:lnTo>
                  <a:lnTo>
                    <a:pt x="3353" y="138"/>
                  </a:lnTo>
                  <a:lnTo>
                    <a:pt x="3347" y="146"/>
                  </a:lnTo>
                  <a:lnTo>
                    <a:pt x="3339" y="152"/>
                  </a:lnTo>
                  <a:lnTo>
                    <a:pt x="3327" y="158"/>
                  </a:lnTo>
                  <a:lnTo>
                    <a:pt x="3318" y="158"/>
                  </a:lnTo>
                  <a:lnTo>
                    <a:pt x="3310" y="167"/>
                  </a:lnTo>
                  <a:lnTo>
                    <a:pt x="3307" y="175"/>
                  </a:lnTo>
                  <a:lnTo>
                    <a:pt x="3307" y="184"/>
                  </a:lnTo>
                  <a:lnTo>
                    <a:pt x="3304" y="193"/>
                  </a:lnTo>
                  <a:lnTo>
                    <a:pt x="3295" y="195"/>
                  </a:lnTo>
                  <a:lnTo>
                    <a:pt x="3295" y="204"/>
                  </a:lnTo>
                  <a:lnTo>
                    <a:pt x="3298" y="213"/>
                  </a:lnTo>
                  <a:lnTo>
                    <a:pt x="3304" y="221"/>
                  </a:lnTo>
                  <a:lnTo>
                    <a:pt x="3310" y="230"/>
                  </a:lnTo>
                  <a:lnTo>
                    <a:pt x="3315" y="239"/>
                  </a:lnTo>
                  <a:lnTo>
                    <a:pt x="3318" y="250"/>
                  </a:lnTo>
                  <a:lnTo>
                    <a:pt x="3321" y="259"/>
                  </a:lnTo>
                  <a:lnTo>
                    <a:pt x="3321" y="247"/>
                  </a:lnTo>
                  <a:lnTo>
                    <a:pt x="3318" y="239"/>
                  </a:lnTo>
                  <a:lnTo>
                    <a:pt x="3315" y="230"/>
                  </a:lnTo>
                  <a:lnTo>
                    <a:pt x="3307" y="224"/>
                  </a:lnTo>
                  <a:lnTo>
                    <a:pt x="3298" y="216"/>
                  </a:lnTo>
                  <a:lnTo>
                    <a:pt x="3292" y="207"/>
                  </a:lnTo>
                  <a:lnTo>
                    <a:pt x="3292" y="198"/>
                  </a:lnTo>
                  <a:lnTo>
                    <a:pt x="3295" y="190"/>
                  </a:lnTo>
                  <a:lnTo>
                    <a:pt x="3292" y="181"/>
                  </a:lnTo>
                  <a:lnTo>
                    <a:pt x="3283" y="172"/>
                  </a:lnTo>
                  <a:lnTo>
                    <a:pt x="3275" y="170"/>
                  </a:lnTo>
                  <a:lnTo>
                    <a:pt x="3266" y="164"/>
                  </a:lnTo>
                  <a:lnTo>
                    <a:pt x="3257" y="161"/>
                  </a:lnTo>
                  <a:lnTo>
                    <a:pt x="3245" y="155"/>
                  </a:lnTo>
                  <a:lnTo>
                    <a:pt x="3237" y="155"/>
                  </a:lnTo>
                  <a:lnTo>
                    <a:pt x="3228" y="155"/>
                  </a:lnTo>
                  <a:lnTo>
                    <a:pt x="3219" y="155"/>
                  </a:lnTo>
                  <a:lnTo>
                    <a:pt x="3213" y="164"/>
                  </a:lnTo>
                  <a:lnTo>
                    <a:pt x="3208" y="172"/>
                  </a:lnTo>
                  <a:lnTo>
                    <a:pt x="3196" y="175"/>
                  </a:lnTo>
                  <a:lnTo>
                    <a:pt x="3184" y="175"/>
                  </a:lnTo>
                  <a:lnTo>
                    <a:pt x="3173" y="175"/>
                  </a:lnTo>
                  <a:lnTo>
                    <a:pt x="3167" y="167"/>
                  </a:lnTo>
                  <a:lnTo>
                    <a:pt x="3179" y="161"/>
                  </a:lnTo>
                  <a:lnTo>
                    <a:pt x="3187" y="161"/>
                  </a:lnTo>
                  <a:lnTo>
                    <a:pt x="3196" y="161"/>
                  </a:lnTo>
                  <a:lnTo>
                    <a:pt x="3205" y="155"/>
                  </a:lnTo>
                  <a:lnTo>
                    <a:pt x="3208" y="146"/>
                  </a:lnTo>
                  <a:lnTo>
                    <a:pt x="3208" y="138"/>
                  </a:lnTo>
                  <a:lnTo>
                    <a:pt x="3205" y="129"/>
                  </a:lnTo>
                  <a:lnTo>
                    <a:pt x="3199" y="121"/>
                  </a:lnTo>
                  <a:lnTo>
                    <a:pt x="3190" y="112"/>
                  </a:lnTo>
                  <a:lnTo>
                    <a:pt x="3184" y="103"/>
                  </a:lnTo>
                  <a:lnTo>
                    <a:pt x="3193" y="97"/>
                  </a:lnTo>
                  <a:lnTo>
                    <a:pt x="3202" y="92"/>
                  </a:lnTo>
                  <a:lnTo>
                    <a:pt x="3205" y="83"/>
                  </a:lnTo>
                  <a:lnTo>
                    <a:pt x="3208" y="74"/>
                  </a:lnTo>
                  <a:lnTo>
                    <a:pt x="3208" y="66"/>
                  </a:lnTo>
                  <a:lnTo>
                    <a:pt x="3202" y="57"/>
                  </a:lnTo>
                  <a:lnTo>
                    <a:pt x="3199" y="48"/>
                  </a:lnTo>
                  <a:lnTo>
                    <a:pt x="3199" y="40"/>
                  </a:lnTo>
                  <a:lnTo>
                    <a:pt x="3199" y="31"/>
                  </a:lnTo>
                  <a:lnTo>
                    <a:pt x="3196" y="23"/>
                  </a:lnTo>
                  <a:lnTo>
                    <a:pt x="3190" y="14"/>
                  </a:lnTo>
                  <a:lnTo>
                    <a:pt x="3184" y="5"/>
                  </a:lnTo>
                  <a:lnTo>
                    <a:pt x="3176" y="0"/>
                  </a:lnTo>
                  <a:lnTo>
                    <a:pt x="3167" y="2"/>
                  </a:lnTo>
                  <a:lnTo>
                    <a:pt x="3158" y="8"/>
                  </a:lnTo>
                  <a:lnTo>
                    <a:pt x="3149" y="14"/>
                  </a:lnTo>
                  <a:lnTo>
                    <a:pt x="3141" y="17"/>
                  </a:lnTo>
                  <a:lnTo>
                    <a:pt x="3132" y="23"/>
                  </a:lnTo>
                  <a:lnTo>
                    <a:pt x="3132" y="31"/>
                  </a:lnTo>
                  <a:lnTo>
                    <a:pt x="3123" y="25"/>
                  </a:lnTo>
                  <a:lnTo>
                    <a:pt x="3114" y="17"/>
                  </a:lnTo>
                  <a:lnTo>
                    <a:pt x="3106" y="14"/>
                  </a:lnTo>
                  <a:lnTo>
                    <a:pt x="3097" y="14"/>
                  </a:lnTo>
                  <a:lnTo>
                    <a:pt x="3088" y="14"/>
                  </a:lnTo>
                  <a:lnTo>
                    <a:pt x="3080" y="14"/>
                  </a:lnTo>
                  <a:lnTo>
                    <a:pt x="3071" y="14"/>
                  </a:lnTo>
                  <a:lnTo>
                    <a:pt x="3071" y="23"/>
                  </a:lnTo>
                  <a:lnTo>
                    <a:pt x="3071" y="31"/>
                  </a:lnTo>
                  <a:lnTo>
                    <a:pt x="3071" y="40"/>
                  </a:lnTo>
                  <a:lnTo>
                    <a:pt x="3068" y="48"/>
                  </a:lnTo>
                  <a:lnTo>
                    <a:pt x="3062" y="57"/>
                  </a:lnTo>
                  <a:lnTo>
                    <a:pt x="3059" y="66"/>
                  </a:lnTo>
                  <a:lnTo>
                    <a:pt x="3059" y="74"/>
                  </a:lnTo>
                  <a:lnTo>
                    <a:pt x="3059" y="83"/>
                  </a:lnTo>
                  <a:lnTo>
                    <a:pt x="3068" y="89"/>
                  </a:lnTo>
                  <a:lnTo>
                    <a:pt x="3077" y="92"/>
                  </a:lnTo>
                  <a:lnTo>
                    <a:pt x="3085" y="97"/>
                  </a:lnTo>
                  <a:lnTo>
                    <a:pt x="3097" y="103"/>
                  </a:lnTo>
                  <a:lnTo>
                    <a:pt x="3106" y="103"/>
                  </a:lnTo>
                  <a:lnTo>
                    <a:pt x="3114" y="103"/>
                  </a:lnTo>
                  <a:lnTo>
                    <a:pt x="3114" y="95"/>
                  </a:lnTo>
                  <a:lnTo>
                    <a:pt x="3123" y="95"/>
                  </a:lnTo>
                  <a:lnTo>
                    <a:pt x="3114" y="103"/>
                  </a:lnTo>
                  <a:lnTo>
                    <a:pt x="3106" y="103"/>
                  </a:lnTo>
                  <a:lnTo>
                    <a:pt x="3097" y="103"/>
                  </a:lnTo>
                  <a:lnTo>
                    <a:pt x="3088" y="109"/>
                  </a:lnTo>
                  <a:lnTo>
                    <a:pt x="3085" y="118"/>
                  </a:lnTo>
                  <a:lnTo>
                    <a:pt x="3085" y="126"/>
                  </a:lnTo>
                  <a:lnTo>
                    <a:pt x="3080" y="135"/>
                  </a:lnTo>
                  <a:lnTo>
                    <a:pt x="3088" y="138"/>
                  </a:lnTo>
                  <a:lnTo>
                    <a:pt x="3082" y="146"/>
                  </a:lnTo>
                  <a:lnTo>
                    <a:pt x="3080" y="155"/>
                  </a:lnTo>
                  <a:lnTo>
                    <a:pt x="3074" y="164"/>
                  </a:lnTo>
                  <a:lnTo>
                    <a:pt x="3074" y="172"/>
                  </a:lnTo>
                  <a:lnTo>
                    <a:pt x="3074" y="181"/>
                  </a:lnTo>
                  <a:lnTo>
                    <a:pt x="3074" y="190"/>
                  </a:lnTo>
                  <a:lnTo>
                    <a:pt x="3085" y="190"/>
                  </a:lnTo>
                  <a:lnTo>
                    <a:pt x="3094" y="190"/>
                  </a:lnTo>
                  <a:lnTo>
                    <a:pt x="3088" y="198"/>
                  </a:lnTo>
                  <a:lnTo>
                    <a:pt x="3080" y="204"/>
                  </a:lnTo>
                  <a:lnTo>
                    <a:pt x="3074" y="213"/>
                  </a:lnTo>
                  <a:lnTo>
                    <a:pt x="3071" y="221"/>
                  </a:lnTo>
                  <a:lnTo>
                    <a:pt x="3071" y="230"/>
                  </a:lnTo>
                  <a:lnTo>
                    <a:pt x="3071" y="239"/>
                  </a:lnTo>
                  <a:lnTo>
                    <a:pt x="3068" y="247"/>
                  </a:lnTo>
                  <a:lnTo>
                    <a:pt x="3062" y="256"/>
                  </a:lnTo>
                  <a:lnTo>
                    <a:pt x="3059" y="265"/>
                  </a:lnTo>
                  <a:lnTo>
                    <a:pt x="3059" y="273"/>
                  </a:lnTo>
                  <a:lnTo>
                    <a:pt x="3059" y="282"/>
                  </a:lnTo>
                  <a:lnTo>
                    <a:pt x="3059" y="291"/>
                  </a:lnTo>
                  <a:lnTo>
                    <a:pt x="3059" y="299"/>
                  </a:lnTo>
                  <a:lnTo>
                    <a:pt x="3059" y="311"/>
                  </a:lnTo>
                  <a:lnTo>
                    <a:pt x="3065" y="319"/>
                  </a:lnTo>
                  <a:lnTo>
                    <a:pt x="3074" y="325"/>
                  </a:lnTo>
                  <a:lnTo>
                    <a:pt x="3082" y="328"/>
                  </a:lnTo>
                  <a:lnTo>
                    <a:pt x="3082" y="337"/>
                  </a:lnTo>
                  <a:lnTo>
                    <a:pt x="3082" y="345"/>
                  </a:lnTo>
                  <a:lnTo>
                    <a:pt x="3085" y="354"/>
                  </a:lnTo>
                  <a:lnTo>
                    <a:pt x="3085" y="363"/>
                  </a:lnTo>
                  <a:lnTo>
                    <a:pt x="3088" y="371"/>
                  </a:lnTo>
                  <a:lnTo>
                    <a:pt x="3088" y="380"/>
                  </a:lnTo>
                  <a:lnTo>
                    <a:pt x="3091" y="389"/>
                  </a:lnTo>
                  <a:lnTo>
                    <a:pt x="3094" y="397"/>
                  </a:lnTo>
                  <a:lnTo>
                    <a:pt x="3097" y="406"/>
                  </a:lnTo>
                  <a:lnTo>
                    <a:pt x="3109" y="412"/>
                  </a:lnTo>
                  <a:lnTo>
                    <a:pt x="3117" y="412"/>
                  </a:lnTo>
                  <a:lnTo>
                    <a:pt x="3126" y="412"/>
                  </a:lnTo>
                  <a:lnTo>
                    <a:pt x="3135" y="412"/>
                  </a:lnTo>
                  <a:lnTo>
                    <a:pt x="3135" y="403"/>
                  </a:lnTo>
                  <a:lnTo>
                    <a:pt x="3138" y="394"/>
                  </a:lnTo>
                  <a:lnTo>
                    <a:pt x="3147" y="391"/>
                  </a:lnTo>
                  <a:lnTo>
                    <a:pt x="3155" y="391"/>
                  </a:lnTo>
                  <a:lnTo>
                    <a:pt x="3164" y="394"/>
                  </a:lnTo>
                  <a:lnTo>
                    <a:pt x="3167" y="403"/>
                  </a:lnTo>
                  <a:lnTo>
                    <a:pt x="3167" y="412"/>
                  </a:lnTo>
                  <a:lnTo>
                    <a:pt x="3164" y="420"/>
                  </a:lnTo>
                  <a:lnTo>
                    <a:pt x="3155" y="423"/>
                  </a:lnTo>
                  <a:lnTo>
                    <a:pt x="3152" y="432"/>
                  </a:lnTo>
                  <a:lnTo>
                    <a:pt x="3144" y="438"/>
                  </a:lnTo>
                  <a:lnTo>
                    <a:pt x="3138" y="429"/>
                  </a:lnTo>
                  <a:lnTo>
                    <a:pt x="3129" y="420"/>
                  </a:lnTo>
                  <a:lnTo>
                    <a:pt x="3120" y="420"/>
                  </a:lnTo>
                  <a:lnTo>
                    <a:pt x="3114" y="429"/>
                  </a:lnTo>
                  <a:lnTo>
                    <a:pt x="3114" y="438"/>
                  </a:lnTo>
                  <a:lnTo>
                    <a:pt x="3114" y="446"/>
                  </a:lnTo>
                  <a:lnTo>
                    <a:pt x="3123" y="452"/>
                  </a:lnTo>
                  <a:lnTo>
                    <a:pt x="3132" y="452"/>
                  </a:lnTo>
                  <a:lnTo>
                    <a:pt x="3141" y="452"/>
                  </a:lnTo>
                  <a:lnTo>
                    <a:pt x="3135" y="461"/>
                  </a:lnTo>
                  <a:lnTo>
                    <a:pt x="3138" y="469"/>
                  </a:lnTo>
                  <a:lnTo>
                    <a:pt x="3147" y="472"/>
                  </a:lnTo>
                  <a:lnTo>
                    <a:pt x="3147" y="463"/>
                  </a:lnTo>
                  <a:lnTo>
                    <a:pt x="3144" y="455"/>
                  </a:lnTo>
                  <a:lnTo>
                    <a:pt x="3144" y="466"/>
                  </a:lnTo>
                  <a:lnTo>
                    <a:pt x="3144" y="475"/>
                  </a:lnTo>
                  <a:lnTo>
                    <a:pt x="3144" y="484"/>
                  </a:lnTo>
                  <a:lnTo>
                    <a:pt x="3144" y="492"/>
                  </a:lnTo>
                  <a:lnTo>
                    <a:pt x="3144" y="501"/>
                  </a:lnTo>
                  <a:lnTo>
                    <a:pt x="3144" y="510"/>
                  </a:lnTo>
                  <a:lnTo>
                    <a:pt x="3152" y="518"/>
                  </a:lnTo>
                  <a:lnTo>
                    <a:pt x="3161" y="527"/>
                  </a:lnTo>
                  <a:lnTo>
                    <a:pt x="3167" y="538"/>
                  </a:lnTo>
                  <a:lnTo>
                    <a:pt x="3176" y="544"/>
                  </a:lnTo>
                  <a:lnTo>
                    <a:pt x="3184" y="550"/>
                  </a:lnTo>
                  <a:lnTo>
                    <a:pt x="3196" y="550"/>
                  </a:lnTo>
                  <a:lnTo>
                    <a:pt x="3205" y="550"/>
                  </a:lnTo>
                  <a:lnTo>
                    <a:pt x="3213" y="550"/>
                  </a:lnTo>
                  <a:lnTo>
                    <a:pt x="3205" y="550"/>
                  </a:lnTo>
                  <a:lnTo>
                    <a:pt x="3193" y="550"/>
                  </a:lnTo>
                  <a:lnTo>
                    <a:pt x="3184" y="553"/>
                  </a:lnTo>
                  <a:lnTo>
                    <a:pt x="3179" y="561"/>
                  </a:lnTo>
                  <a:lnTo>
                    <a:pt x="3176" y="570"/>
                  </a:lnTo>
                  <a:lnTo>
                    <a:pt x="3173" y="579"/>
                  </a:lnTo>
                  <a:lnTo>
                    <a:pt x="3164" y="582"/>
                  </a:lnTo>
                  <a:lnTo>
                    <a:pt x="3155" y="582"/>
                  </a:lnTo>
                  <a:lnTo>
                    <a:pt x="3147" y="582"/>
                  </a:lnTo>
                  <a:lnTo>
                    <a:pt x="3132" y="576"/>
                  </a:lnTo>
                  <a:lnTo>
                    <a:pt x="3120" y="576"/>
                  </a:lnTo>
                  <a:lnTo>
                    <a:pt x="3109" y="576"/>
                  </a:lnTo>
                  <a:lnTo>
                    <a:pt x="3103" y="585"/>
                  </a:lnTo>
                  <a:lnTo>
                    <a:pt x="3100" y="593"/>
                  </a:lnTo>
                  <a:lnTo>
                    <a:pt x="3100" y="602"/>
                  </a:lnTo>
                  <a:lnTo>
                    <a:pt x="3100" y="610"/>
                  </a:lnTo>
                  <a:lnTo>
                    <a:pt x="3100" y="619"/>
                  </a:lnTo>
                  <a:lnTo>
                    <a:pt x="3100" y="628"/>
                  </a:lnTo>
                  <a:lnTo>
                    <a:pt x="3103" y="636"/>
                  </a:lnTo>
                  <a:lnTo>
                    <a:pt x="3106" y="645"/>
                  </a:lnTo>
                  <a:lnTo>
                    <a:pt x="3112" y="654"/>
                  </a:lnTo>
                  <a:lnTo>
                    <a:pt x="3117" y="662"/>
                  </a:lnTo>
                  <a:lnTo>
                    <a:pt x="3120" y="671"/>
                  </a:lnTo>
                  <a:lnTo>
                    <a:pt x="3123" y="680"/>
                  </a:lnTo>
                  <a:lnTo>
                    <a:pt x="3123" y="688"/>
                  </a:lnTo>
                  <a:lnTo>
                    <a:pt x="3123" y="697"/>
                  </a:lnTo>
                  <a:lnTo>
                    <a:pt x="3123" y="706"/>
                  </a:lnTo>
                  <a:lnTo>
                    <a:pt x="3114" y="711"/>
                  </a:lnTo>
                  <a:lnTo>
                    <a:pt x="3106" y="720"/>
                  </a:lnTo>
                  <a:lnTo>
                    <a:pt x="3103" y="729"/>
                  </a:lnTo>
                  <a:lnTo>
                    <a:pt x="3103" y="737"/>
                  </a:lnTo>
                  <a:lnTo>
                    <a:pt x="3094" y="740"/>
                  </a:lnTo>
                  <a:lnTo>
                    <a:pt x="3085" y="743"/>
                  </a:lnTo>
                  <a:lnTo>
                    <a:pt x="3077" y="746"/>
                  </a:lnTo>
                  <a:lnTo>
                    <a:pt x="3068" y="746"/>
                  </a:lnTo>
                  <a:lnTo>
                    <a:pt x="3059" y="752"/>
                  </a:lnTo>
                  <a:lnTo>
                    <a:pt x="3050" y="760"/>
                  </a:lnTo>
                  <a:lnTo>
                    <a:pt x="3050" y="769"/>
                  </a:lnTo>
                  <a:lnTo>
                    <a:pt x="3050" y="778"/>
                  </a:lnTo>
                  <a:lnTo>
                    <a:pt x="3056" y="786"/>
                  </a:lnTo>
                  <a:lnTo>
                    <a:pt x="3065" y="789"/>
                  </a:lnTo>
                  <a:lnTo>
                    <a:pt x="3074" y="795"/>
                  </a:lnTo>
                  <a:lnTo>
                    <a:pt x="3074" y="804"/>
                  </a:lnTo>
                  <a:lnTo>
                    <a:pt x="3062" y="806"/>
                  </a:lnTo>
                  <a:lnTo>
                    <a:pt x="3050" y="806"/>
                  </a:lnTo>
                  <a:lnTo>
                    <a:pt x="3053" y="798"/>
                  </a:lnTo>
                  <a:lnTo>
                    <a:pt x="3045" y="792"/>
                  </a:lnTo>
                  <a:lnTo>
                    <a:pt x="3036" y="798"/>
                  </a:lnTo>
                  <a:lnTo>
                    <a:pt x="3036" y="809"/>
                  </a:lnTo>
                  <a:lnTo>
                    <a:pt x="3036" y="818"/>
                  </a:lnTo>
                  <a:lnTo>
                    <a:pt x="3033" y="827"/>
                  </a:lnTo>
                  <a:lnTo>
                    <a:pt x="3030" y="835"/>
                  </a:lnTo>
                  <a:lnTo>
                    <a:pt x="3024" y="844"/>
                  </a:lnTo>
                  <a:lnTo>
                    <a:pt x="3016" y="853"/>
                  </a:lnTo>
                  <a:lnTo>
                    <a:pt x="3013" y="861"/>
                  </a:lnTo>
                  <a:lnTo>
                    <a:pt x="3021" y="864"/>
                  </a:lnTo>
                  <a:lnTo>
                    <a:pt x="3030" y="864"/>
                  </a:lnTo>
                  <a:lnTo>
                    <a:pt x="3033" y="873"/>
                  </a:lnTo>
                  <a:lnTo>
                    <a:pt x="3033" y="881"/>
                  </a:lnTo>
                  <a:lnTo>
                    <a:pt x="3042" y="890"/>
                  </a:lnTo>
                  <a:lnTo>
                    <a:pt x="3050" y="893"/>
                  </a:lnTo>
                  <a:lnTo>
                    <a:pt x="3062" y="893"/>
                  </a:lnTo>
                  <a:lnTo>
                    <a:pt x="3071" y="887"/>
                  </a:lnTo>
                  <a:lnTo>
                    <a:pt x="3080" y="887"/>
                  </a:lnTo>
                  <a:lnTo>
                    <a:pt x="3088" y="887"/>
                  </a:lnTo>
                  <a:lnTo>
                    <a:pt x="3085" y="896"/>
                  </a:lnTo>
                  <a:lnTo>
                    <a:pt x="3082" y="904"/>
                  </a:lnTo>
                  <a:lnTo>
                    <a:pt x="3080" y="913"/>
                  </a:lnTo>
                  <a:lnTo>
                    <a:pt x="3088" y="919"/>
                  </a:lnTo>
                  <a:lnTo>
                    <a:pt x="3088" y="927"/>
                  </a:lnTo>
                  <a:lnTo>
                    <a:pt x="3080" y="933"/>
                  </a:lnTo>
                  <a:lnTo>
                    <a:pt x="3077" y="942"/>
                  </a:lnTo>
                  <a:lnTo>
                    <a:pt x="3077" y="950"/>
                  </a:lnTo>
                  <a:lnTo>
                    <a:pt x="3074" y="959"/>
                  </a:lnTo>
                  <a:lnTo>
                    <a:pt x="3074" y="968"/>
                  </a:lnTo>
                  <a:lnTo>
                    <a:pt x="3077" y="959"/>
                  </a:lnTo>
                  <a:lnTo>
                    <a:pt x="3065" y="942"/>
                  </a:lnTo>
                  <a:lnTo>
                    <a:pt x="3071" y="962"/>
                  </a:lnTo>
                  <a:lnTo>
                    <a:pt x="3062" y="962"/>
                  </a:lnTo>
                  <a:lnTo>
                    <a:pt x="3074" y="968"/>
                  </a:lnTo>
                  <a:lnTo>
                    <a:pt x="3074" y="976"/>
                  </a:lnTo>
                  <a:lnTo>
                    <a:pt x="3059" y="976"/>
                  </a:lnTo>
                  <a:lnTo>
                    <a:pt x="3050" y="979"/>
                  </a:lnTo>
                  <a:lnTo>
                    <a:pt x="3039" y="979"/>
                  </a:lnTo>
                  <a:lnTo>
                    <a:pt x="3039" y="988"/>
                  </a:lnTo>
                  <a:lnTo>
                    <a:pt x="3048" y="991"/>
                  </a:lnTo>
                  <a:lnTo>
                    <a:pt x="3056" y="991"/>
                  </a:lnTo>
                  <a:lnTo>
                    <a:pt x="3065" y="997"/>
                  </a:lnTo>
                  <a:lnTo>
                    <a:pt x="3074" y="1005"/>
                  </a:lnTo>
                  <a:lnTo>
                    <a:pt x="3077" y="1014"/>
                  </a:lnTo>
                  <a:lnTo>
                    <a:pt x="3082" y="1023"/>
                  </a:lnTo>
                  <a:lnTo>
                    <a:pt x="3088" y="1031"/>
                  </a:lnTo>
                  <a:lnTo>
                    <a:pt x="3080" y="1034"/>
                  </a:lnTo>
                  <a:lnTo>
                    <a:pt x="3071" y="1034"/>
                  </a:lnTo>
                  <a:lnTo>
                    <a:pt x="3062" y="1040"/>
                  </a:lnTo>
                  <a:lnTo>
                    <a:pt x="3050" y="1043"/>
                  </a:lnTo>
                  <a:lnTo>
                    <a:pt x="3039" y="1046"/>
                  </a:lnTo>
                  <a:lnTo>
                    <a:pt x="3030" y="1046"/>
                  </a:lnTo>
                  <a:lnTo>
                    <a:pt x="3018" y="1046"/>
                  </a:lnTo>
                  <a:lnTo>
                    <a:pt x="3010" y="1037"/>
                  </a:lnTo>
                  <a:lnTo>
                    <a:pt x="3007" y="1028"/>
                  </a:lnTo>
                  <a:lnTo>
                    <a:pt x="3010" y="1020"/>
                  </a:lnTo>
                  <a:lnTo>
                    <a:pt x="3013" y="1011"/>
                  </a:lnTo>
                  <a:lnTo>
                    <a:pt x="3004" y="1011"/>
                  </a:lnTo>
                  <a:lnTo>
                    <a:pt x="2992" y="1008"/>
                  </a:lnTo>
                  <a:lnTo>
                    <a:pt x="2983" y="1008"/>
                  </a:lnTo>
                  <a:lnTo>
                    <a:pt x="2978" y="1017"/>
                  </a:lnTo>
                  <a:lnTo>
                    <a:pt x="2978" y="1025"/>
                  </a:lnTo>
                  <a:lnTo>
                    <a:pt x="2983" y="1034"/>
                  </a:lnTo>
                  <a:lnTo>
                    <a:pt x="2989" y="1043"/>
                  </a:lnTo>
                  <a:lnTo>
                    <a:pt x="2992" y="1051"/>
                  </a:lnTo>
                  <a:lnTo>
                    <a:pt x="3001" y="1054"/>
                  </a:lnTo>
                  <a:lnTo>
                    <a:pt x="3010" y="1060"/>
                  </a:lnTo>
                  <a:lnTo>
                    <a:pt x="3018" y="1063"/>
                  </a:lnTo>
                  <a:lnTo>
                    <a:pt x="3027" y="1063"/>
                  </a:lnTo>
                  <a:lnTo>
                    <a:pt x="3036" y="1060"/>
                  </a:lnTo>
                  <a:lnTo>
                    <a:pt x="3027" y="1060"/>
                  </a:lnTo>
                  <a:lnTo>
                    <a:pt x="3018" y="1057"/>
                  </a:lnTo>
                  <a:lnTo>
                    <a:pt x="3010" y="1054"/>
                  </a:lnTo>
                  <a:lnTo>
                    <a:pt x="3004" y="1046"/>
                  </a:lnTo>
                  <a:lnTo>
                    <a:pt x="2995" y="1040"/>
                  </a:lnTo>
                  <a:lnTo>
                    <a:pt x="2992" y="1031"/>
                  </a:lnTo>
                  <a:lnTo>
                    <a:pt x="2983" y="1023"/>
                  </a:lnTo>
                  <a:lnTo>
                    <a:pt x="2978" y="1014"/>
                  </a:lnTo>
                  <a:lnTo>
                    <a:pt x="2969" y="1005"/>
                  </a:lnTo>
                  <a:lnTo>
                    <a:pt x="2966" y="1014"/>
                  </a:lnTo>
                  <a:lnTo>
                    <a:pt x="2954" y="1023"/>
                  </a:lnTo>
                  <a:lnTo>
                    <a:pt x="2946" y="1023"/>
                  </a:lnTo>
                  <a:lnTo>
                    <a:pt x="2943" y="1034"/>
                  </a:lnTo>
                  <a:lnTo>
                    <a:pt x="2943" y="1043"/>
                  </a:lnTo>
                  <a:lnTo>
                    <a:pt x="2951" y="1051"/>
                  </a:lnTo>
                  <a:lnTo>
                    <a:pt x="2963" y="1051"/>
                  </a:lnTo>
                  <a:lnTo>
                    <a:pt x="2975" y="1054"/>
                  </a:lnTo>
                  <a:lnTo>
                    <a:pt x="2963" y="1051"/>
                  </a:lnTo>
                  <a:lnTo>
                    <a:pt x="2951" y="1046"/>
                  </a:lnTo>
                  <a:lnTo>
                    <a:pt x="2943" y="1043"/>
                  </a:lnTo>
                  <a:lnTo>
                    <a:pt x="2934" y="1051"/>
                  </a:lnTo>
                  <a:lnTo>
                    <a:pt x="2928" y="1060"/>
                  </a:lnTo>
                  <a:lnTo>
                    <a:pt x="2919" y="1060"/>
                  </a:lnTo>
                  <a:lnTo>
                    <a:pt x="2919" y="1069"/>
                  </a:lnTo>
                  <a:lnTo>
                    <a:pt x="2931" y="1077"/>
                  </a:lnTo>
                  <a:lnTo>
                    <a:pt x="2943" y="1086"/>
                  </a:lnTo>
                  <a:lnTo>
                    <a:pt x="2951" y="1089"/>
                  </a:lnTo>
                  <a:lnTo>
                    <a:pt x="2960" y="1089"/>
                  </a:lnTo>
                  <a:lnTo>
                    <a:pt x="2969" y="1089"/>
                  </a:lnTo>
                  <a:lnTo>
                    <a:pt x="2972" y="1080"/>
                  </a:lnTo>
                  <a:lnTo>
                    <a:pt x="2975" y="1072"/>
                  </a:lnTo>
                  <a:lnTo>
                    <a:pt x="2975" y="1063"/>
                  </a:lnTo>
                  <a:lnTo>
                    <a:pt x="2978" y="1054"/>
                  </a:lnTo>
                  <a:lnTo>
                    <a:pt x="2981" y="1063"/>
                  </a:lnTo>
                  <a:lnTo>
                    <a:pt x="2981" y="1072"/>
                  </a:lnTo>
                  <a:lnTo>
                    <a:pt x="2975" y="1080"/>
                  </a:lnTo>
                  <a:lnTo>
                    <a:pt x="2969" y="1089"/>
                  </a:lnTo>
                  <a:lnTo>
                    <a:pt x="2957" y="1089"/>
                  </a:lnTo>
                  <a:lnTo>
                    <a:pt x="2949" y="1089"/>
                  </a:lnTo>
                  <a:lnTo>
                    <a:pt x="2940" y="1097"/>
                  </a:lnTo>
                  <a:lnTo>
                    <a:pt x="2937" y="1106"/>
                  </a:lnTo>
                  <a:lnTo>
                    <a:pt x="2934" y="1115"/>
                  </a:lnTo>
                  <a:lnTo>
                    <a:pt x="2934" y="1123"/>
                  </a:lnTo>
                  <a:lnTo>
                    <a:pt x="2925" y="1129"/>
                  </a:lnTo>
                  <a:lnTo>
                    <a:pt x="2917" y="1135"/>
                  </a:lnTo>
                  <a:lnTo>
                    <a:pt x="2908" y="1138"/>
                  </a:lnTo>
                  <a:lnTo>
                    <a:pt x="2899" y="1138"/>
                  </a:lnTo>
                  <a:lnTo>
                    <a:pt x="2893" y="1129"/>
                  </a:lnTo>
                  <a:lnTo>
                    <a:pt x="2884" y="1129"/>
                  </a:lnTo>
                  <a:lnTo>
                    <a:pt x="2876" y="1129"/>
                  </a:lnTo>
                  <a:lnTo>
                    <a:pt x="2867" y="1135"/>
                  </a:lnTo>
                  <a:lnTo>
                    <a:pt x="2864" y="1144"/>
                  </a:lnTo>
                  <a:lnTo>
                    <a:pt x="2861" y="1152"/>
                  </a:lnTo>
                  <a:lnTo>
                    <a:pt x="2861" y="1161"/>
                  </a:lnTo>
                  <a:lnTo>
                    <a:pt x="2858" y="1170"/>
                  </a:lnTo>
                  <a:lnTo>
                    <a:pt x="2852" y="1178"/>
                  </a:lnTo>
                  <a:lnTo>
                    <a:pt x="2844" y="1181"/>
                  </a:lnTo>
                  <a:lnTo>
                    <a:pt x="2835" y="1181"/>
                  </a:lnTo>
                  <a:lnTo>
                    <a:pt x="2826" y="1184"/>
                  </a:lnTo>
                  <a:lnTo>
                    <a:pt x="2818" y="1175"/>
                  </a:lnTo>
                  <a:lnTo>
                    <a:pt x="2809" y="1167"/>
                  </a:lnTo>
                  <a:lnTo>
                    <a:pt x="2806" y="1175"/>
                  </a:lnTo>
                  <a:lnTo>
                    <a:pt x="2806" y="1184"/>
                  </a:lnTo>
                  <a:lnTo>
                    <a:pt x="2806" y="1193"/>
                  </a:lnTo>
                  <a:lnTo>
                    <a:pt x="2806" y="1204"/>
                  </a:lnTo>
                  <a:lnTo>
                    <a:pt x="2806" y="1213"/>
                  </a:lnTo>
                  <a:lnTo>
                    <a:pt x="2815" y="1213"/>
                  </a:lnTo>
                  <a:lnTo>
                    <a:pt x="2823" y="1216"/>
                  </a:lnTo>
                  <a:lnTo>
                    <a:pt x="2826" y="1224"/>
                  </a:lnTo>
                  <a:lnTo>
                    <a:pt x="2826" y="1233"/>
                  </a:lnTo>
                  <a:lnTo>
                    <a:pt x="2826" y="1242"/>
                  </a:lnTo>
                  <a:lnTo>
                    <a:pt x="2823" y="1250"/>
                  </a:lnTo>
                  <a:lnTo>
                    <a:pt x="2815" y="1253"/>
                  </a:lnTo>
                  <a:lnTo>
                    <a:pt x="2809" y="1262"/>
                  </a:lnTo>
                  <a:lnTo>
                    <a:pt x="2809" y="1270"/>
                  </a:lnTo>
                  <a:lnTo>
                    <a:pt x="2809" y="1279"/>
                  </a:lnTo>
                  <a:lnTo>
                    <a:pt x="2809" y="1288"/>
                  </a:lnTo>
                  <a:lnTo>
                    <a:pt x="2809" y="1279"/>
                  </a:lnTo>
                  <a:lnTo>
                    <a:pt x="2806" y="1270"/>
                  </a:lnTo>
                  <a:lnTo>
                    <a:pt x="2806" y="1262"/>
                  </a:lnTo>
                  <a:lnTo>
                    <a:pt x="2800" y="1253"/>
                  </a:lnTo>
                  <a:lnTo>
                    <a:pt x="2797" y="1244"/>
                  </a:lnTo>
                  <a:lnTo>
                    <a:pt x="2794" y="1236"/>
                  </a:lnTo>
                  <a:lnTo>
                    <a:pt x="2794" y="1227"/>
                  </a:lnTo>
                  <a:lnTo>
                    <a:pt x="2794" y="1218"/>
                  </a:lnTo>
                  <a:lnTo>
                    <a:pt x="2800" y="1210"/>
                  </a:lnTo>
                  <a:lnTo>
                    <a:pt x="2803" y="1201"/>
                  </a:lnTo>
                  <a:lnTo>
                    <a:pt x="2800" y="1193"/>
                  </a:lnTo>
                  <a:lnTo>
                    <a:pt x="2791" y="1187"/>
                  </a:lnTo>
                  <a:lnTo>
                    <a:pt x="2788" y="1178"/>
                  </a:lnTo>
                  <a:lnTo>
                    <a:pt x="2788" y="1170"/>
                  </a:lnTo>
                  <a:lnTo>
                    <a:pt x="2788" y="1161"/>
                  </a:lnTo>
                  <a:lnTo>
                    <a:pt x="2788" y="1152"/>
                  </a:lnTo>
                  <a:lnTo>
                    <a:pt x="2786" y="1144"/>
                  </a:lnTo>
                  <a:lnTo>
                    <a:pt x="2786" y="1135"/>
                  </a:lnTo>
                  <a:lnTo>
                    <a:pt x="2780" y="1126"/>
                  </a:lnTo>
                  <a:lnTo>
                    <a:pt x="2768" y="1121"/>
                  </a:lnTo>
                  <a:lnTo>
                    <a:pt x="2759" y="1115"/>
                  </a:lnTo>
                  <a:lnTo>
                    <a:pt x="2748" y="1112"/>
                  </a:lnTo>
                  <a:lnTo>
                    <a:pt x="2736" y="1109"/>
                  </a:lnTo>
                  <a:lnTo>
                    <a:pt x="2724" y="1106"/>
                  </a:lnTo>
                  <a:lnTo>
                    <a:pt x="2716" y="1106"/>
                  </a:lnTo>
                  <a:lnTo>
                    <a:pt x="2710" y="1115"/>
                  </a:lnTo>
                  <a:lnTo>
                    <a:pt x="2704" y="1123"/>
                  </a:lnTo>
                  <a:lnTo>
                    <a:pt x="2698" y="1132"/>
                  </a:lnTo>
                  <a:lnTo>
                    <a:pt x="2692" y="1126"/>
                  </a:lnTo>
                  <a:lnTo>
                    <a:pt x="2695" y="1112"/>
                  </a:lnTo>
                  <a:lnTo>
                    <a:pt x="2695" y="1121"/>
                  </a:lnTo>
                  <a:lnTo>
                    <a:pt x="2692" y="1129"/>
                  </a:lnTo>
                  <a:lnTo>
                    <a:pt x="2692" y="1138"/>
                  </a:lnTo>
                  <a:lnTo>
                    <a:pt x="2687" y="1146"/>
                  </a:lnTo>
                  <a:lnTo>
                    <a:pt x="2687" y="1155"/>
                  </a:lnTo>
                  <a:lnTo>
                    <a:pt x="2687" y="1164"/>
                  </a:lnTo>
                  <a:lnTo>
                    <a:pt x="2678" y="1167"/>
                  </a:lnTo>
                  <a:lnTo>
                    <a:pt x="2669" y="1167"/>
                  </a:lnTo>
                  <a:lnTo>
                    <a:pt x="2666" y="1158"/>
                  </a:lnTo>
                  <a:lnTo>
                    <a:pt x="2666" y="1149"/>
                  </a:lnTo>
                  <a:lnTo>
                    <a:pt x="2657" y="1146"/>
                  </a:lnTo>
                  <a:lnTo>
                    <a:pt x="2649" y="1152"/>
                  </a:lnTo>
                  <a:lnTo>
                    <a:pt x="2646" y="1141"/>
                  </a:lnTo>
                  <a:lnTo>
                    <a:pt x="2634" y="1135"/>
                  </a:lnTo>
                  <a:lnTo>
                    <a:pt x="2625" y="1135"/>
                  </a:lnTo>
                  <a:lnTo>
                    <a:pt x="2617" y="1135"/>
                  </a:lnTo>
                  <a:lnTo>
                    <a:pt x="2614" y="1144"/>
                  </a:lnTo>
                  <a:lnTo>
                    <a:pt x="2614" y="1152"/>
                  </a:lnTo>
                  <a:lnTo>
                    <a:pt x="2614" y="1161"/>
                  </a:lnTo>
                  <a:lnTo>
                    <a:pt x="2617" y="1170"/>
                  </a:lnTo>
                  <a:lnTo>
                    <a:pt x="2617" y="1178"/>
                  </a:lnTo>
                  <a:lnTo>
                    <a:pt x="2620" y="1187"/>
                  </a:lnTo>
                  <a:lnTo>
                    <a:pt x="2625" y="1195"/>
                  </a:lnTo>
                  <a:lnTo>
                    <a:pt x="2634" y="1201"/>
                  </a:lnTo>
                  <a:lnTo>
                    <a:pt x="2643" y="1201"/>
                  </a:lnTo>
                  <a:lnTo>
                    <a:pt x="2652" y="1201"/>
                  </a:lnTo>
                  <a:lnTo>
                    <a:pt x="2643" y="1201"/>
                  </a:lnTo>
                  <a:lnTo>
                    <a:pt x="2634" y="1207"/>
                  </a:lnTo>
                  <a:lnTo>
                    <a:pt x="2625" y="1216"/>
                  </a:lnTo>
                  <a:lnTo>
                    <a:pt x="2625" y="1224"/>
                  </a:lnTo>
                  <a:lnTo>
                    <a:pt x="2634" y="1224"/>
                  </a:lnTo>
                  <a:lnTo>
                    <a:pt x="2643" y="1230"/>
                  </a:lnTo>
                  <a:lnTo>
                    <a:pt x="2646" y="1242"/>
                  </a:lnTo>
                  <a:lnTo>
                    <a:pt x="2652" y="1253"/>
                  </a:lnTo>
                  <a:lnTo>
                    <a:pt x="2660" y="1259"/>
                  </a:lnTo>
                  <a:lnTo>
                    <a:pt x="2672" y="1265"/>
                  </a:lnTo>
                  <a:lnTo>
                    <a:pt x="2663" y="1262"/>
                  </a:lnTo>
                  <a:lnTo>
                    <a:pt x="2655" y="1256"/>
                  </a:lnTo>
                  <a:lnTo>
                    <a:pt x="2663" y="1250"/>
                  </a:lnTo>
                  <a:lnTo>
                    <a:pt x="2672" y="1250"/>
                  </a:lnTo>
                  <a:lnTo>
                    <a:pt x="2681" y="1253"/>
                  </a:lnTo>
                  <a:lnTo>
                    <a:pt x="2669" y="1256"/>
                  </a:lnTo>
                  <a:lnTo>
                    <a:pt x="2655" y="1256"/>
                  </a:lnTo>
                  <a:lnTo>
                    <a:pt x="2646" y="1247"/>
                  </a:lnTo>
                  <a:lnTo>
                    <a:pt x="2643" y="1236"/>
                  </a:lnTo>
                  <a:lnTo>
                    <a:pt x="2640" y="1227"/>
                  </a:lnTo>
                  <a:lnTo>
                    <a:pt x="2631" y="1227"/>
                  </a:lnTo>
                  <a:lnTo>
                    <a:pt x="2625" y="1236"/>
                  </a:lnTo>
                  <a:lnTo>
                    <a:pt x="2625" y="1247"/>
                  </a:lnTo>
                  <a:lnTo>
                    <a:pt x="2625" y="1259"/>
                  </a:lnTo>
                  <a:lnTo>
                    <a:pt x="2617" y="1259"/>
                  </a:lnTo>
                  <a:lnTo>
                    <a:pt x="2608" y="1256"/>
                  </a:lnTo>
                  <a:lnTo>
                    <a:pt x="2605" y="1247"/>
                  </a:lnTo>
                  <a:lnTo>
                    <a:pt x="2596" y="1253"/>
                  </a:lnTo>
                  <a:lnTo>
                    <a:pt x="2588" y="1262"/>
                  </a:lnTo>
                  <a:lnTo>
                    <a:pt x="2582" y="1270"/>
                  </a:lnTo>
                  <a:lnTo>
                    <a:pt x="2582" y="1279"/>
                  </a:lnTo>
                  <a:lnTo>
                    <a:pt x="2582" y="1288"/>
                  </a:lnTo>
                  <a:lnTo>
                    <a:pt x="2576" y="1296"/>
                  </a:lnTo>
                  <a:lnTo>
                    <a:pt x="2573" y="1305"/>
                  </a:lnTo>
                  <a:lnTo>
                    <a:pt x="2567" y="1314"/>
                  </a:lnTo>
                  <a:lnTo>
                    <a:pt x="2553" y="1311"/>
                  </a:lnTo>
                  <a:lnTo>
                    <a:pt x="2567" y="1305"/>
                  </a:lnTo>
                  <a:lnTo>
                    <a:pt x="2561" y="1314"/>
                  </a:lnTo>
                  <a:lnTo>
                    <a:pt x="2558" y="1322"/>
                  </a:lnTo>
                  <a:lnTo>
                    <a:pt x="2558" y="1331"/>
                  </a:lnTo>
                  <a:lnTo>
                    <a:pt x="2558" y="1340"/>
                  </a:lnTo>
                  <a:lnTo>
                    <a:pt x="2558" y="1348"/>
                  </a:lnTo>
                  <a:lnTo>
                    <a:pt x="2558" y="1360"/>
                  </a:lnTo>
                  <a:lnTo>
                    <a:pt x="2558" y="1368"/>
                  </a:lnTo>
                  <a:lnTo>
                    <a:pt x="2550" y="1380"/>
                  </a:lnTo>
                  <a:lnTo>
                    <a:pt x="2547" y="1389"/>
                  </a:lnTo>
                  <a:lnTo>
                    <a:pt x="2544" y="1397"/>
                  </a:lnTo>
                  <a:lnTo>
                    <a:pt x="2538" y="1406"/>
                  </a:lnTo>
                  <a:lnTo>
                    <a:pt x="2529" y="1412"/>
                  </a:lnTo>
                  <a:lnTo>
                    <a:pt x="2538" y="1414"/>
                  </a:lnTo>
                  <a:lnTo>
                    <a:pt x="2547" y="1414"/>
                  </a:lnTo>
                  <a:lnTo>
                    <a:pt x="2553" y="1406"/>
                  </a:lnTo>
                  <a:lnTo>
                    <a:pt x="2553" y="1397"/>
                  </a:lnTo>
                  <a:lnTo>
                    <a:pt x="2561" y="1391"/>
                  </a:lnTo>
                  <a:lnTo>
                    <a:pt x="2567" y="1400"/>
                  </a:lnTo>
                  <a:lnTo>
                    <a:pt x="2567" y="1412"/>
                  </a:lnTo>
                  <a:lnTo>
                    <a:pt x="2570" y="1420"/>
                  </a:lnTo>
                  <a:lnTo>
                    <a:pt x="2579" y="1429"/>
                  </a:lnTo>
                  <a:lnTo>
                    <a:pt x="2588" y="1435"/>
                  </a:lnTo>
                  <a:lnTo>
                    <a:pt x="2599" y="1435"/>
                  </a:lnTo>
                  <a:lnTo>
                    <a:pt x="2593" y="1426"/>
                  </a:lnTo>
                  <a:lnTo>
                    <a:pt x="2585" y="1417"/>
                  </a:lnTo>
                  <a:lnTo>
                    <a:pt x="2582" y="1406"/>
                  </a:lnTo>
                  <a:lnTo>
                    <a:pt x="2579" y="1397"/>
                  </a:lnTo>
                  <a:lnTo>
                    <a:pt x="2573" y="1406"/>
                  </a:lnTo>
                  <a:lnTo>
                    <a:pt x="2570" y="1414"/>
                  </a:lnTo>
                  <a:lnTo>
                    <a:pt x="2561" y="1426"/>
                  </a:lnTo>
                  <a:lnTo>
                    <a:pt x="2553" y="1432"/>
                  </a:lnTo>
                  <a:lnTo>
                    <a:pt x="2544" y="1432"/>
                  </a:lnTo>
                  <a:lnTo>
                    <a:pt x="2535" y="1432"/>
                  </a:lnTo>
                  <a:lnTo>
                    <a:pt x="2526" y="1432"/>
                  </a:lnTo>
                  <a:lnTo>
                    <a:pt x="2515" y="1438"/>
                  </a:lnTo>
                  <a:lnTo>
                    <a:pt x="2506" y="1443"/>
                  </a:lnTo>
                  <a:lnTo>
                    <a:pt x="2503" y="1452"/>
                  </a:lnTo>
                  <a:lnTo>
                    <a:pt x="2509" y="1461"/>
                  </a:lnTo>
                  <a:lnTo>
                    <a:pt x="2515" y="1472"/>
                  </a:lnTo>
                  <a:lnTo>
                    <a:pt x="2521" y="1484"/>
                  </a:lnTo>
                  <a:lnTo>
                    <a:pt x="2529" y="1489"/>
                  </a:lnTo>
                  <a:lnTo>
                    <a:pt x="2538" y="1495"/>
                  </a:lnTo>
                  <a:lnTo>
                    <a:pt x="2544" y="1504"/>
                  </a:lnTo>
                  <a:lnTo>
                    <a:pt x="2553" y="1507"/>
                  </a:lnTo>
                  <a:lnTo>
                    <a:pt x="2561" y="1507"/>
                  </a:lnTo>
                  <a:lnTo>
                    <a:pt x="2570" y="1510"/>
                  </a:lnTo>
                  <a:lnTo>
                    <a:pt x="2576" y="1518"/>
                  </a:lnTo>
                  <a:lnTo>
                    <a:pt x="2585" y="1527"/>
                  </a:lnTo>
                  <a:lnTo>
                    <a:pt x="2588" y="1535"/>
                  </a:lnTo>
                  <a:lnTo>
                    <a:pt x="2588" y="1544"/>
                  </a:lnTo>
                  <a:lnTo>
                    <a:pt x="2588" y="1556"/>
                  </a:lnTo>
                  <a:lnTo>
                    <a:pt x="2590" y="1564"/>
                  </a:lnTo>
                  <a:lnTo>
                    <a:pt x="2599" y="1564"/>
                  </a:lnTo>
                  <a:lnTo>
                    <a:pt x="2614" y="1567"/>
                  </a:lnTo>
                  <a:lnTo>
                    <a:pt x="2617" y="1576"/>
                  </a:lnTo>
                  <a:lnTo>
                    <a:pt x="2617" y="1584"/>
                  </a:lnTo>
                  <a:lnTo>
                    <a:pt x="2608" y="1587"/>
                  </a:lnTo>
                  <a:lnTo>
                    <a:pt x="2596" y="1579"/>
                  </a:lnTo>
                  <a:lnTo>
                    <a:pt x="2588" y="1570"/>
                  </a:lnTo>
                  <a:lnTo>
                    <a:pt x="2582" y="1561"/>
                  </a:lnTo>
                  <a:lnTo>
                    <a:pt x="2582" y="1553"/>
                  </a:lnTo>
                  <a:lnTo>
                    <a:pt x="2582" y="1541"/>
                  </a:lnTo>
                  <a:lnTo>
                    <a:pt x="2579" y="1533"/>
                  </a:lnTo>
                  <a:lnTo>
                    <a:pt x="2573" y="1524"/>
                  </a:lnTo>
                  <a:lnTo>
                    <a:pt x="2564" y="1515"/>
                  </a:lnTo>
                  <a:lnTo>
                    <a:pt x="2556" y="1512"/>
                  </a:lnTo>
                  <a:lnTo>
                    <a:pt x="2550" y="1521"/>
                  </a:lnTo>
                  <a:lnTo>
                    <a:pt x="2541" y="1521"/>
                  </a:lnTo>
                  <a:lnTo>
                    <a:pt x="2532" y="1515"/>
                  </a:lnTo>
                  <a:lnTo>
                    <a:pt x="2524" y="1510"/>
                  </a:lnTo>
                  <a:lnTo>
                    <a:pt x="2515" y="1507"/>
                  </a:lnTo>
                  <a:lnTo>
                    <a:pt x="2506" y="1504"/>
                  </a:lnTo>
                  <a:lnTo>
                    <a:pt x="2497" y="1504"/>
                  </a:lnTo>
                  <a:lnTo>
                    <a:pt x="2489" y="1504"/>
                  </a:lnTo>
                  <a:lnTo>
                    <a:pt x="2486" y="1512"/>
                  </a:lnTo>
                  <a:lnTo>
                    <a:pt x="2486" y="1521"/>
                  </a:lnTo>
                  <a:lnTo>
                    <a:pt x="2491" y="1530"/>
                  </a:lnTo>
                  <a:lnTo>
                    <a:pt x="2486" y="1538"/>
                  </a:lnTo>
                  <a:lnTo>
                    <a:pt x="2477" y="1538"/>
                  </a:lnTo>
                  <a:lnTo>
                    <a:pt x="2474" y="1547"/>
                  </a:lnTo>
                  <a:lnTo>
                    <a:pt x="2489" y="1550"/>
                  </a:lnTo>
                  <a:lnTo>
                    <a:pt x="2497" y="1553"/>
                  </a:lnTo>
                  <a:lnTo>
                    <a:pt x="2506" y="1553"/>
                  </a:lnTo>
                  <a:lnTo>
                    <a:pt x="2515" y="1559"/>
                  </a:lnTo>
                  <a:lnTo>
                    <a:pt x="2521" y="1570"/>
                  </a:lnTo>
                  <a:lnTo>
                    <a:pt x="2529" y="1576"/>
                  </a:lnTo>
                  <a:lnTo>
                    <a:pt x="2521" y="1567"/>
                  </a:lnTo>
                  <a:lnTo>
                    <a:pt x="2509" y="1561"/>
                  </a:lnTo>
                  <a:lnTo>
                    <a:pt x="2500" y="1559"/>
                  </a:lnTo>
                  <a:lnTo>
                    <a:pt x="2491" y="1567"/>
                  </a:lnTo>
                  <a:lnTo>
                    <a:pt x="2483" y="1570"/>
                  </a:lnTo>
                  <a:lnTo>
                    <a:pt x="2474" y="1570"/>
                  </a:lnTo>
                  <a:lnTo>
                    <a:pt x="2471" y="1561"/>
                  </a:lnTo>
                  <a:lnTo>
                    <a:pt x="2471" y="1553"/>
                  </a:lnTo>
                  <a:lnTo>
                    <a:pt x="2465" y="1544"/>
                  </a:lnTo>
                  <a:lnTo>
                    <a:pt x="2462" y="1535"/>
                  </a:lnTo>
                  <a:lnTo>
                    <a:pt x="2459" y="1524"/>
                  </a:lnTo>
                  <a:lnTo>
                    <a:pt x="2457" y="1515"/>
                  </a:lnTo>
                  <a:lnTo>
                    <a:pt x="2448" y="1510"/>
                  </a:lnTo>
                  <a:lnTo>
                    <a:pt x="2439" y="1504"/>
                  </a:lnTo>
                  <a:lnTo>
                    <a:pt x="2439" y="1512"/>
                  </a:lnTo>
                  <a:lnTo>
                    <a:pt x="2439" y="1521"/>
                  </a:lnTo>
                  <a:lnTo>
                    <a:pt x="2439" y="1530"/>
                  </a:lnTo>
                  <a:lnTo>
                    <a:pt x="2439" y="1538"/>
                  </a:lnTo>
                  <a:lnTo>
                    <a:pt x="2439" y="1547"/>
                  </a:lnTo>
                  <a:lnTo>
                    <a:pt x="2439" y="1556"/>
                  </a:lnTo>
                  <a:lnTo>
                    <a:pt x="2442" y="1564"/>
                  </a:lnTo>
                  <a:lnTo>
                    <a:pt x="2436" y="1573"/>
                  </a:lnTo>
                  <a:lnTo>
                    <a:pt x="2433" y="1582"/>
                  </a:lnTo>
                  <a:lnTo>
                    <a:pt x="2430" y="1590"/>
                  </a:lnTo>
                  <a:lnTo>
                    <a:pt x="2433" y="1599"/>
                  </a:lnTo>
                  <a:lnTo>
                    <a:pt x="2442" y="1602"/>
                  </a:lnTo>
                  <a:lnTo>
                    <a:pt x="2451" y="1605"/>
                  </a:lnTo>
                  <a:lnTo>
                    <a:pt x="2459" y="1608"/>
                  </a:lnTo>
                  <a:lnTo>
                    <a:pt x="2465" y="1616"/>
                  </a:lnTo>
                  <a:lnTo>
                    <a:pt x="2474" y="1628"/>
                  </a:lnTo>
                  <a:lnTo>
                    <a:pt x="2474" y="1636"/>
                  </a:lnTo>
                  <a:lnTo>
                    <a:pt x="2474" y="1648"/>
                  </a:lnTo>
                  <a:lnTo>
                    <a:pt x="2474" y="1657"/>
                  </a:lnTo>
                  <a:lnTo>
                    <a:pt x="2474" y="1665"/>
                  </a:lnTo>
                  <a:lnTo>
                    <a:pt x="2474" y="1674"/>
                  </a:lnTo>
                  <a:lnTo>
                    <a:pt x="2483" y="1680"/>
                  </a:lnTo>
                  <a:lnTo>
                    <a:pt x="2491" y="1682"/>
                  </a:lnTo>
                  <a:lnTo>
                    <a:pt x="2500" y="1682"/>
                  </a:lnTo>
                  <a:lnTo>
                    <a:pt x="2509" y="1680"/>
                  </a:lnTo>
                  <a:lnTo>
                    <a:pt x="2515" y="1671"/>
                  </a:lnTo>
                  <a:lnTo>
                    <a:pt x="2524" y="1671"/>
                  </a:lnTo>
                  <a:lnTo>
                    <a:pt x="2532" y="1668"/>
                  </a:lnTo>
                  <a:lnTo>
                    <a:pt x="2541" y="1671"/>
                  </a:lnTo>
                  <a:lnTo>
                    <a:pt x="2544" y="1680"/>
                  </a:lnTo>
                  <a:lnTo>
                    <a:pt x="2547" y="1688"/>
                  </a:lnTo>
                  <a:lnTo>
                    <a:pt x="2547" y="1697"/>
                  </a:lnTo>
                  <a:lnTo>
                    <a:pt x="2547" y="1706"/>
                  </a:lnTo>
                  <a:lnTo>
                    <a:pt x="2556" y="1714"/>
                  </a:lnTo>
                  <a:lnTo>
                    <a:pt x="2564" y="1720"/>
                  </a:lnTo>
                  <a:lnTo>
                    <a:pt x="2576" y="1726"/>
                  </a:lnTo>
                  <a:lnTo>
                    <a:pt x="2588" y="1726"/>
                  </a:lnTo>
                  <a:lnTo>
                    <a:pt x="2596" y="1726"/>
                  </a:lnTo>
                  <a:lnTo>
                    <a:pt x="2588" y="1723"/>
                  </a:lnTo>
                  <a:lnTo>
                    <a:pt x="2579" y="1720"/>
                  </a:lnTo>
                  <a:lnTo>
                    <a:pt x="2570" y="1717"/>
                  </a:lnTo>
                  <a:lnTo>
                    <a:pt x="2567" y="1708"/>
                  </a:lnTo>
                  <a:lnTo>
                    <a:pt x="2564" y="1697"/>
                  </a:lnTo>
                  <a:lnTo>
                    <a:pt x="2564" y="1688"/>
                  </a:lnTo>
                  <a:lnTo>
                    <a:pt x="2561" y="1680"/>
                  </a:lnTo>
                  <a:lnTo>
                    <a:pt x="2550" y="1671"/>
                  </a:lnTo>
                  <a:lnTo>
                    <a:pt x="2538" y="1665"/>
                  </a:lnTo>
                  <a:lnTo>
                    <a:pt x="2529" y="1662"/>
                  </a:lnTo>
                  <a:lnTo>
                    <a:pt x="2521" y="1659"/>
                  </a:lnTo>
                  <a:lnTo>
                    <a:pt x="2512" y="1662"/>
                  </a:lnTo>
                  <a:lnTo>
                    <a:pt x="2506" y="1671"/>
                  </a:lnTo>
                  <a:lnTo>
                    <a:pt x="2506" y="1680"/>
                  </a:lnTo>
                  <a:lnTo>
                    <a:pt x="2503" y="1688"/>
                  </a:lnTo>
                  <a:lnTo>
                    <a:pt x="2500" y="1697"/>
                  </a:lnTo>
                  <a:lnTo>
                    <a:pt x="2500" y="1706"/>
                  </a:lnTo>
                  <a:lnTo>
                    <a:pt x="2500" y="1714"/>
                  </a:lnTo>
                  <a:lnTo>
                    <a:pt x="2509" y="1723"/>
                  </a:lnTo>
                  <a:lnTo>
                    <a:pt x="2509" y="1731"/>
                  </a:lnTo>
                  <a:lnTo>
                    <a:pt x="2509" y="1740"/>
                  </a:lnTo>
                  <a:lnTo>
                    <a:pt x="2509" y="1749"/>
                  </a:lnTo>
                  <a:lnTo>
                    <a:pt x="2509" y="1757"/>
                  </a:lnTo>
                  <a:lnTo>
                    <a:pt x="2509" y="1766"/>
                  </a:lnTo>
                  <a:lnTo>
                    <a:pt x="2509" y="1775"/>
                  </a:lnTo>
                  <a:lnTo>
                    <a:pt x="2509" y="1783"/>
                  </a:lnTo>
                  <a:lnTo>
                    <a:pt x="2506" y="1772"/>
                  </a:lnTo>
                  <a:lnTo>
                    <a:pt x="2515" y="1757"/>
                  </a:lnTo>
                  <a:lnTo>
                    <a:pt x="2509" y="1766"/>
                  </a:lnTo>
                  <a:lnTo>
                    <a:pt x="2506" y="1775"/>
                  </a:lnTo>
                  <a:lnTo>
                    <a:pt x="2503" y="1783"/>
                  </a:lnTo>
                  <a:lnTo>
                    <a:pt x="2497" y="1792"/>
                  </a:lnTo>
                  <a:lnTo>
                    <a:pt x="2494" y="1801"/>
                  </a:lnTo>
                  <a:lnTo>
                    <a:pt x="2494" y="1809"/>
                  </a:lnTo>
                  <a:lnTo>
                    <a:pt x="2494" y="1818"/>
                  </a:lnTo>
                  <a:lnTo>
                    <a:pt x="2483" y="1824"/>
                  </a:lnTo>
                  <a:lnTo>
                    <a:pt x="2465" y="1824"/>
                  </a:lnTo>
                  <a:lnTo>
                    <a:pt x="2457" y="1821"/>
                  </a:lnTo>
                  <a:lnTo>
                    <a:pt x="2448" y="1812"/>
                  </a:lnTo>
                  <a:lnTo>
                    <a:pt x="2439" y="1809"/>
                  </a:lnTo>
                  <a:lnTo>
                    <a:pt x="2430" y="1809"/>
                  </a:lnTo>
                  <a:lnTo>
                    <a:pt x="2427" y="1798"/>
                  </a:lnTo>
                  <a:lnTo>
                    <a:pt x="2439" y="1795"/>
                  </a:lnTo>
                  <a:lnTo>
                    <a:pt x="2454" y="1792"/>
                  </a:lnTo>
                  <a:lnTo>
                    <a:pt x="2462" y="1792"/>
                  </a:lnTo>
                  <a:lnTo>
                    <a:pt x="2471" y="1792"/>
                  </a:lnTo>
                  <a:lnTo>
                    <a:pt x="2477" y="1783"/>
                  </a:lnTo>
                  <a:lnTo>
                    <a:pt x="2480" y="1775"/>
                  </a:lnTo>
                  <a:lnTo>
                    <a:pt x="2480" y="1766"/>
                  </a:lnTo>
                  <a:lnTo>
                    <a:pt x="2483" y="1757"/>
                  </a:lnTo>
                  <a:lnTo>
                    <a:pt x="2486" y="1749"/>
                  </a:lnTo>
                  <a:lnTo>
                    <a:pt x="2489" y="1740"/>
                  </a:lnTo>
                  <a:lnTo>
                    <a:pt x="2491" y="1731"/>
                  </a:lnTo>
                  <a:lnTo>
                    <a:pt x="2489" y="1723"/>
                  </a:lnTo>
                  <a:lnTo>
                    <a:pt x="2489" y="1714"/>
                  </a:lnTo>
                  <a:lnTo>
                    <a:pt x="2480" y="1708"/>
                  </a:lnTo>
                  <a:lnTo>
                    <a:pt x="2474" y="1700"/>
                  </a:lnTo>
                  <a:lnTo>
                    <a:pt x="2468" y="1691"/>
                  </a:lnTo>
                  <a:lnTo>
                    <a:pt x="2465" y="1682"/>
                  </a:lnTo>
                  <a:lnTo>
                    <a:pt x="2459" y="1674"/>
                  </a:lnTo>
                  <a:lnTo>
                    <a:pt x="2454" y="1665"/>
                  </a:lnTo>
                  <a:lnTo>
                    <a:pt x="2454" y="1657"/>
                  </a:lnTo>
                  <a:lnTo>
                    <a:pt x="2454" y="1648"/>
                  </a:lnTo>
                  <a:lnTo>
                    <a:pt x="2454" y="1639"/>
                  </a:lnTo>
                  <a:lnTo>
                    <a:pt x="2451" y="1631"/>
                  </a:lnTo>
                  <a:lnTo>
                    <a:pt x="2448" y="1622"/>
                  </a:lnTo>
                  <a:lnTo>
                    <a:pt x="2442" y="1613"/>
                  </a:lnTo>
                  <a:lnTo>
                    <a:pt x="2433" y="1608"/>
                  </a:lnTo>
                  <a:lnTo>
                    <a:pt x="2427" y="1599"/>
                  </a:lnTo>
                  <a:lnTo>
                    <a:pt x="2422" y="1590"/>
                  </a:lnTo>
                  <a:lnTo>
                    <a:pt x="2419" y="1582"/>
                  </a:lnTo>
                  <a:lnTo>
                    <a:pt x="2419" y="1573"/>
                  </a:lnTo>
                  <a:lnTo>
                    <a:pt x="2416" y="1564"/>
                  </a:lnTo>
                  <a:lnTo>
                    <a:pt x="2416" y="1556"/>
                  </a:lnTo>
                  <a:lnTo>
                    <a:pt x="2416" y="1547"/>
                  </a:lnTo>
                  <a:lnTo>
                    <a:pt x="2416" y="1538"/>
                  </a:lnTo>
                  <a:lnTo>
                    <a:pt x="2416" y="1530"/>
                  </a:lnTo>
                  <a:lnTo>
                    <a:pt x="2407" y="1521"/>
                  </a:lnTo>
                  <a:lnTo>
                    <a:pt x="2395" y="1518"/>
                  </a:lnTo>
                  <a:lnTo>
                    <a:pt x="2390" y="1510"/>
                  </a:lnTo>
                  <a:lnTo>
                    <a:pt x="2390" y="1501"/>
                  </a:lnTo>
                  <a:lnTo>
                    <a:pt x="2381" y="1498"/>
                  </a:lnTo>
                  <a:lnTo>
                    <a:pt x="2390" y="1504"/>
                  </a:lnTo>
                  <a:lnTo>
                    <a:pt x="2381" y="1510"/>
                  </a:lnTo>
                  <a:lnTo>
                    <a:pt x="2372" y="1515"/>
                  </a:lnTo>
                  <a:lnTo>
                    <a:pt x="2372" y="1524"/>
                  </a:lnTo>
                  <a:lnTo>
                    <a:pt x="2366" y="1533"/>
                  </a:lnTo>
                  <a:lnTo>
                    <a:pt x="2366" y="1541"/>
                  </a:lnTo>
                  <a:lnTo>
                    <a:pt x="2366" y="1550"/>
                  </a:lnTo>
                  <a:lnTo>
                    <a:pt x="2366" y="1559"/>
                  </a:lnTo>
                  <a:lnTo>
                    <a:pt x="2366" y="1567"/>
                  </a:lnTo>
                  <a:lnTo>
                    <a:pt x="2363" y="1576"/>
                  </a:lnTo>
                  <a:lnTo>
                    <a:pt x="2360" y="1584"/>
                  </a:lnTo>
                  <a:lnTo>
                    <a:pt x="2358" y="1593"/>
                  </a:lnTo>
                  <a:lnTo>
                    <a:pt x="2352" y="1602"/>
                  </a:lnTo>
                  <a:lnTo>
                    <a:pt x="2349" y="1610"/>
                  </a:lnTo>
                  <a:lnTo>
                    <a:pt x="2346" y="1619"/>
                  </a:lnTo>
                  <a:lnTo>
                    <a:pt x="2346" y="1628"/>
                  </a:lnTo>
                  <a:lnTo>
                    <a:pt x="2346" y="1636"/>
                  </a:lnTo>
                  <a:lnTo>
                    <a:pt x="2355" y="1639"/>
                  </a:lnTo>
                  <a:lnTo>
                    <a:pt x="2363" y="1639"/>
                  </a:lnTo>
                  <a:lnTo>
                    <a:pt x="2372" y="1636"/>
                  </a:lnTo>
                  <a:lnTo>
                    <a:pt x="2372" y="1645"/>
                  </a:lnTo>
                  <a:lnTo>
                    <a:pt x="2372" y="1654"/>
                  </a:lnTo>
                  <a:lnTo>
                    <a:pt x="2372" y="1662"/>
                  </a:lnTo>
                  <a:lnTo>
                    <a:pt x="2372" y="1671"/>
                  </a:lnTo>
                  <a:lnTo>
                    <a:pt x="2372" y="1682"/>
                  </a:lnTo>
                  <a:lnTo>
                    <a:pt x="2369" y="1691"/>
                  </a:lnTo>
                  <a:lnTo>
                    <a:pt x="2378" y="1697"/>
                  </a:lnTo>
                  <a:lnTo>
                    <a:pt x="2381" y="1706"/>
                  </a:lnTo>
                  <a:lnTo>
                    <a:pt x="2390" y="1711"/>
                  </a:lnTo>
                  <a:lnTo>
                    <a:pt x="2401" y="1714"/>
                  </a:lnTo>
                  <a:lnTo>
                    <a:pt x="2404" y="1723"/>
                  </a:lnTo>
                  <a:lnTo>
                    <a:pt x="2404" y="1731"/>
                  </a:lnTo>
                  <a:lnTo>
                    <a:pt x="2404" y="1740"/>
                  </a:lnTo>
                  <a:lnTo>
                    <a:pt x="2404" y="1749"/>
                  </a:lnTo>
                  <a:lnTo>
                    <a:pt x="2395" y="1743"/>
                  </a:lnTo>
                  <a:lnTo>
                    <a:pt x="2393" y="1734"/>
                  </a:lnTo>
                  <a:lnTo>
                    <a:pt x="2387" y="1723"/>
                  </a:lnTo>
                  <a:lnTo>
                    <a:pt x="2381" y="1714"/>
                  </a:lnTo>
                  <a:lnTo>
                    <a:pt x="2372" y="1711"/>
                  </a:lnTo>
                  <a:lnTo>
                    <a:pt x="2363" y="1708"/>
                  </a:lnTo>
                  <a:lnTo>
                    <a:pt x="2355" y="1708"/>
                  </a:lnTo>
                  <a:lnTo>
                    <a:pt x="2340" y="1706"/>
                  </a:lnTo>
                  <a:lnTo>
                    <a:pt x="2328" y="1703"/>
                  </a:lnTo>
                  <a:lnTo>
                    <a:pt x="2320" y="1697"/>
                  </a:lnTo>
                  <a:lnTo>
                    <a:pt x="2311" y="1694"/>
                  </a:lnTo>
                  <a:lnTo>
                    <a:pt x="2302" y="1691"/>
                  </a:lnTo>
                  <a:lnTo>
                    <a:pt x="2294" y="1688"/>
                  </a:lnTo>
                  <a:lnTo>
                    <a:pt x="2285" y="1685"/>
                  </a:lnTo>
                  <a:lnTo>
                    <a:pt x="2276" y="1685"/>
                  </a:lnTo>
                  <a:lnTo>
                    <a:pt x="2267" y="1685"/>
                  </a:lnTo>
                  <a:lnTo>
                    <a:pt x="2273" y="1680"/>
                  </a:lnTo>
                  <a:lnTo>
                    <a:pt x="2262" y="1671"/>
                  </a:lnTo>
                  <a:lnTo>
                    <a:pt x="2262" y="1662"/>
                  </a:lnTo>
                  <a:lnTo>
                    <a:pt x="2256" y="1671"/>
                  </a:lnTo>
                  <a:lnTo>
                    <a:pt x="2247" y="1671"/>
                  </a:lnTo>
                  <a:lnTo>
                    <a:pt x="2235" y="1671"/>
                  </a:lnTo>
                  <a:lnTo>
                    <a:pt x="2227" y="1668"/>
                  </a:lnTo>
                  <a:lnTo>
                    <a:pt x="2227" y="1659"/>
                  </a:lnTo>
                  <a:lnTo>
                    <a:pt x="2221" y="1668"/>
                  </a:lnTo>
                  <a:lnTo>
                    <a:pt x="2221" y="1677"/>
                  </a:lnTo>
                  <a:lnTo>
                    <a:pt x="2232" y="1680"/>
                  </a:lnTo>
                  <a:lnTo>
                    <a:pt x="2241" y="1682"/>
                  </a:lnTo>
                  <a:lnTo>
                    <a:pt x="2244" y="1691"/>
                  </a:lnTo>
                  <a:lnTo>
                    <a:pt x="2247" y="1700"/>
                  </a:lnTo>
                  <a:lnTo>
                    <a:pt x="2250" y="1708"/>
                  </a:lnTo>
                  <a:lnTo>
                    <a:pt x="2259" y="1711"/>
                  </a:lnTo>
                  <a:lnTo>
                    <a:pt x="2262" y="1720"/>
                  </a:lnTo>
                  <a:lnTo>
                    <a:pt x="2262" y="1729"/>
                  </a:lnTo>
                  <a:lnTo>
                    <a:pt x="2262" y="1737"/>
                  </a:lnTo>
                  <a:lnTo>
                    <a:pt x="2253" y="1743"/>
                  </a:lnTo>
                  <a:lnTo>
                    <a:pt x="2250" y="1752"/>
                  </a:lnTo>
                  <a:lnTo>
                    <a:pt x="2250" y="1760"/>
                  </a:lnTo>
                  <a:lnTo>
                    <a:pt x="2244" y="1752"/>
                  </a:lnTo>
                  <a:lnTo>
                    <a:pt x="2241" y="1743"/>
                  </a:lnTo>
                  <a:lnTo>
                    <a:pt x="2232" y="1743"/>
                  </a:lnTo>
                  <a:lnTo>
                    <a:pt x="2232" y="1734"/>
                  </a:lnTo>
                  <a:lnTo>
                    <a:pt x="2221" y="1729"/>
                  </a:lnTo>
                  <a:lnTo>
                    <a:pt x="2209" y="1731"/>
                  </a:lnTo>
                  <a:lnTo>
                    <a:pt x="2200" y="1734"/>
                  </a:lnTo>
                  <a:lnTo>
                    <a:pt x="2192" y="1737"/>
                  </a:lnTo>
                  <a:lnTo>
                    <a:pt x="2183" y="1746"/>
                  </a:lnTo>
                  <a:lnTo>
                    <a:pt x="2177" y="1755"/>
                  </a:lnTo>
                  <a:lnTo>
                    <a:pt x="2168" y="1755"/>
                  </a:lnTo>
                  <a:lnTo>
                    <a:pt x="2160" y="1760"/>
                  </a:lnTo>
                  <a:lnTo>
                    <a:pt x="2151" y="1769"/>
                  </a:lnTo>
                  <a:lnTo>
                    <a:pt x="2142" y="1772"/>
                  </a:lnTo>
                  <a:lnTo>
                    <a:pt x="2133" y="1772"/>
                  </a:lnTo>
                  <a:lnTo>
                    <a:pt x="2133" y="1763"/>
                  </a:lnTo>
                  <a:lnTo>
                    <a:pt x="2142" y="1755"/>
                  </a:lnTo>
                  <a:lnTo>
                    <a:pt x="2151" y="1752"/>
                  </a:lnTo>
                  <a:lnTo>
                    <a:pt x="2160" y="1749"/>
                  </a:lnTo>
                  <a:lnTo>
                    <a:pt x="2160" y="1737"/>
                  </a:lnTo>
                  <a:lnTo>
                    <a:pt x="2154" y="1729"/>
                  </a:lnTo>
                  <a:lnTo>
                    <a:pt x="2145" y="1729"/>
                  </a:lnTo>
                  <a:lnTo>
                    <a:pt x="2136" y="1734"/>
                  </a:lnTo>
                  <a:lnTo>
                    <a:pt x="2128" y="1740"/>
                  </a:lnTo>
                  <a:lnTo>
                    <a:pt x="2122" y="1749"/>
                  </a:lnTo>
                  <a:lnTo>
                    <a:pt x="2113" y="1755"/>
                  </a:lnTo>
                  <a:lnTo>
                    <a:pt x="2104" y="1757"/>
                  </a:lnTo>
                  <a:lnTo>
                    <a:pt x="2096" y="1763"/>
                  </a:lnTo>
                  <a:lnTo>
                    <a:pt x="2087" y="1763"/>
                  </a:lnTo>
                  <a:lnTo>
                    <a:pt x="2078" y="1766"/>
                  </a:lnTo>
                  <a:lnTo>
                    <a:pt x="2069" y="1769"/>
                  </a:lnTo>
                  <a:lnTo>
                    <a:pt x="2061" y="1772"/>
                  </a:lnTo>
                  <a:lnTo>
                    <a:pt x="2055" y="1780"/>
                  </a:lnTo>
                  <a:lnTo>
                    <a:pt x="2052" y="1789"/>
                  </a:lnTo>
                  <a:lnTo>
                    <a:pt x="2040" y="1792"/>
                  </a:lnTo>
                  <a:lnTo>
                    <a:pt x="2034" y="1801"/>
                  </a:lnTo>
                  <a:lnTo>
                    <a:pt x="2034" y="1809"/>
                  </a:lnTo>
                  <a:lnTo>
                    <a:pt x="2029" y="1818"/>
                  </a:lnTo>
                  <a:lnTo>
                    <a:pt x="2020" y="1824"/>
                  </a:lnTo>
                  <a:lnTo>
                    <a:pt x="2011" y="1827"/>
                  </a:lnTo>
                  <a:lnTo>
                    <a:pt x="2008" y="1815"/>
                  </a:lnTo>
                  <a:lnTo>
                    <a:pt x="2005" y="1806"/>
                  </a:lnTo>
                  <a:lnTo>
                    <a:pt x="2005" y="1798"/>
                  </a:lnTo>
                  <a:lnTo>
                    <a:pt x="1997" y="1789"/>
                  </a:lnTo>
                  <a:lnTo>
                    <a:pt x="1988" y="1780"/>
                  </a:lnTo>
                  <a:lnTo>
                    <a:pt x="1999" y="1780"/>
                  </a:lnTo>
                  <a:lnTo>
                    <a:pt x="2011" y="1778"/>
                  </a:lnTo>
                  <a:lnTo>
                    <a:pt x="2020" y="1775"/>
                  </a:lnTo>
                  <a:lnTo>
                    <a:pt x="2020" y="1766"/>
                  </a:lnTo>
                  <a:lnTo>
                    <a:pt x="2023" y="1757"/>
                  </a:lnTo>
                  <a:lnTo>
                    <a:pt x="2023" y="1749"/>
                  </a:lnTo>
                  <a:lnTo>
                    <a:pt x="2014" y="1743"/>
                  </a:lnTo>
                  <a:lnTo>
                    <a:pt x="2005" y="1740"/>
                  </a:lnTo>
                  <a:lnTo>
                    <a:pt x="1994" y="1740"/>
                  </a:lnTo>
                  <a:lnTo>
                    <a:pt x="1985" y="1737"/>
                  </a:lnTo>
                  <a:lnTo>
                    <a:pt x="1976" y="1731"/>
                  </a:lnTo>
                  <a:lnTo>
                    <a:pt x="1967" y="1729"/>
                  </a:lnTo>
                  <a:lnTo>
                    <a:pt x="1967" y="1737"/>
                  </a:lnTo>
                  <a:lnTo>
                    <a:pt x="1970" y="1746"/>
                  </a:lnTo>
                  <a:lnTo>
                    <a:pt x="1976" y="1755"/>
                  </a:lnTo>
                  <a:lnTo>
                    <a:pt x="1976" y="1763"/>
                  </a:lnTo>
                  <a:lnTo>
                    <a:pt x="1976" y="1772"/>
                  </a:lnTo>
                  <a:lnTo>
                    <a:pt x="1973" y="1780"/>
                  </a:lnTo>
                  <a:lnTo>
                    <a:pt x="1965" y="1789"/>
                  </a:lnTo>
                  <a:lnTo>
                    <a:pt x="1956" y="1795"/>
                  </a:lnTo>
                  <a:lnTo>
                    <a:pt x="1953" y="1803"/>
                  </a:lnTo>
                  <a:lnTo>
                    <a:pt x="1962" y="1806"/>
                  </a:lnTo>
                  <a:lnTo>
                    <a:pt x="1970" y="1806"/>
                  </a:lnTo>
                  <a:lnTo>
                    <a:pt x="1979" y="1806"/>
                  </a:lnTo>
                  <a:lnTo>
                    <a:pt x="1982" y="1815"/>
                  </a:lnTo>
                  <a:lnTo>
                    <a:pt x="1976" y="1824"/>
                  </a:lnTo>
                  <a:lnTo>
                    <a:pt x="1965" y="1832"/>
                  </a:lnTo>
                  <a:lnTo>
                    <a:pt x="1959" y="1841"/>
                  </a:lnTo>
                  <a:lnTo>
                    <a:pt x="1959" y="1850"/>
                  </a:lnTo>
                  <a:lnTo>
                    <a:pt x="1947" y="1838"/>
                  </a:lnTo>
                  <a:lnTo>
                    <a:pt x="1938" y="1835"/>
                  </a:lnTo>
                  <a:lnTo>
                    <a:pt x="1933" y="1827"/>
                  </a:lnTo>
                  <a:lnTo>
                    <a:pt x="1924" y="1821"/>
                  </a:lnTo>
                  <a:lnTo>
                    <a:pt x="1915" y="1821"/>
                  </a:lnTo>
                  <a:lnTo>
                    <a:pt x="1906" y="1829"/>
                  </a:lnTo>
                  <a:lnTo>
                    <a:pt x="1898" y="1835"/>
                  </a:lnTo>
                  <a:lnTo>
                    <a:pt x="1889" y="1838"/>
                  </a:lnTo>
                  <a:lnTo>
                    <a:pt x="1880" y="1841"/>
                  </a:lnTo>
                  <a:lnTo>
                    <a:pt x="1874" y="1850"/>
                  </a:lnTo>
                  <a:lnTo>
                    <a:pt x="1871" y="1858"/>
                  </a:lnTo>
                  <a:lnTo>
                    <a:pt x="1868" y="1867"/>
                  </a:lnTo>
                  <a:lnTo>
                    <a:pt x="1868" y="1876"/>
                  </a:lnTo>
                  <a:lnTo>
                    <a:pt x="1868" y="1884"/>
                  </a:lnTo>
                  <a:lnTo>
                    <a:pt x="1868" y="1893"/>
                  </a:lnTo>
                  <a:lnTo>
                    <a:pt x="1868" y="1901"/>
                  </a:lnTo>
                  <a:lnTo>
                    <a:pt x="1860" y="1907"/>
                  </a:lnTo>
                  <a:lnTo>
                    <a:pt x="1848" y="1901"/>
                  </a:lnTo>
                  <a:lnTo>
                    <a:pt x="1845" y="1893"/>
                  </a:lnTo>
                  <a:lnTo>
                    <a:pt x="1839" y="1884"/>
                  </a:lnTo>
                  <a:lnTo>
                    <a:pt x="1831" y="1876"/>
                  </a:lnTo>
                  <a:lnTo>
                    <a:pt x="1822" y="1870"/>
                  </a:lnTo>
                  <a:lnTo>
                    <a:pt x="1813" y="1867"/>
                  </a:lnTo>
                  <a:lnTo>
                    <a:pt x="1804" y="1867"/>
                  </a:lnTo>
                  <a:lnTo>
                    <a:pt x="1799" y="1876"/>
                  </a:lnTo>
                  <a:lnTo>
                    <a:pt x="1796" y="1884"/>
                  </a:lnTo>
                  <a:lnTo>
                    <a:pt x="1796" y="1893"/>
                  </a:lnTo>
                  <a:lnTo>
                    <a:pt x="1804" y="1899"/>
                  </a:lnTo>
                  <a:lnTo>
                    <a:pt x="1816" y="1901"/>
                  </a:lnTo>
                  <a:lnTo>
                    <a:pt x="1819" y="1910"/>
                  </a:lnTo>
                  <a:lnTo>
                    <a:pt x="1807" y="1910"/>
                  </a:lnTo>
                  <a:lnTo>
                    <a:pt x="1819" y="1893"/>
                  </a:lnTo>
                  <a:lnTo>
                    <a:pt x="1810" y="1896"/>
                  </a:lnTo>
                  <a:lnTo>
                    <a:pt x="1822" y="1899"/>
                  </a:lnTo>
                  <a:lnTo>
                    <a:pt x="1822" y="1910"/>
                  </a:lnTo>
                  <a:lnTo>
                    <a:pt x="1822" y="1919"/>
                  </a:lnTo>
                  <a:lnTo>
                    <a:pt x="1816" y="1927"/>
                  </a:lnTo>
                  <a:lnTo>
                    <a:pt x="1802" y="1927"/>
                  </a:lnTo>
                  <a:lnTo>
                    <a:pt x="1793" y="1922"/>
                  </a:lnTo>
                  <a:lnTo>
                    <a:pt x="1790" y="1913"/>
                  </a:lnTo>
                  <a:lnTo>
                    <a:pt x="1790" y="1904"/>
                  </a:lnTo>
                  <a:lnTo>
                    <a:pt x="1784" y="1896"/>
                  </a:lnTo>
                  <a:lnTo>
                    <a:pt x="1778" y="1887"/>
                  </a:lnTo>
                  <a:lnTo>
                    <a:pt x="1770" y="1878"/>
                  </a:lnTo>
                  <a:lnTo>
                    <a:pt x="1767" y="1870"/>
                  </a:lnTo>
                  <a:lnTo>
                    <a:pt x="1764" y="1861"/>
                  </a:lnTo>
                  <a:lnTo>
                    <a:pt x="1764" y="1850"/>
                  </a:lnTo>
                  <a:lnTo>
                    <a:pt x="1764" y="1841"/>
                  </a:lnTo>
                  <a:lnTo>
                    <a:pt x="1764" y="1832"/>
                  </a:lnTo>
                  <a:lnTo>
                    <a:pt x="1772" y="1827"/>
                  </a:lnTo>
                  <a:lnTo>
                    <a:pt x="1778" y="1818"/>
                  </a:lnTo>
                  <a:lnTo>
                    <a:pt x="1778" y="1809"/>
                  </a:lnTo>
                  <a:lnTo>
                    <a:pt x="1778" y="1801"/>
                  </a:lnTo>
                  <a:lnTo>
                    <a:pt x="1778" y="1792"/>
                  </a:lnTo>
                  <a:lnTo>
                    <a:pt x="1770" y="1783"/>
                  </a:lnTo>
                  <a:lnTo>
                    <a:pt x="1761" y="1778"/>
                  </a:lnTo>
                  <a:lnTo>
                    <a:pt x="1752" y="1772"/>
                  </a:lnTo>
                  <a:lnTo>
                    <a:pt x="1752" y="1763"/>
                  </a:lnTo>
                  <a:lnTo>
                    <a:pt x="1752" y="1752"/>
                  </a:lnTo>
                  <a:lnTo>
                    <a:pt x="1752" y="1743"/>
                  </a:lnTo>
                  <a:lnTo>
                    <a:pt x="1764" y="1749"/>
                  </a:lnTo>
                  <a:lnTo>
                    <a:pt x="1772" y="1757"/>
                  </a:lnTo>
                  <a:lnTo>
                    <a:pt x="1781" y="1763"/>
                  </a:lnTo>
                  <a:lnTo>
                    <a:pt x="1781" y="1772"/>
                  </a:lnTo>
                  <a:lnTo>
                    <a:pt x="1787" y="1783"/>
                  </a:lnTo>
                  <a:lnTo>
                    <a:pt x="1796" y="1789"/>
                  </a:lnTo>
                  <a:lnTo>
                    <a:pt x="1804" y="1795"/>
                  </a:lnTo>
                  <a:lnTo>
                    <a:pt x="1816" y="1801"/>
                  </a:lnTo>
                  <a:lnTo>
                    <a:pt x="1822" y="1809"/>
                  </a:lnTo>
                  <a:lnTo>
                    <a:pt x="1831" y="1815"/>
                  </a:lnTo>
                  <a:lnTo>
                    <a:pt x="1836" y="1824"/>
                  </a:lnTo>
                  <a:lnTo>
                    <a:pt x="1845" y="1829"/>
                  </a:lnTo>
                  <a:lnTo>
                    <a:pt x="1854" y="1835"/>
                  </a:lnTo>
                  <a:lnTo>
                    <a:pt x="1866" y="1835"/>
                  </a:lnTo>
                  <a:lnTo>
                    <a:pt x="1874" y="1835"/>
                  </a:lnTo>
                  <a:lnTo>
                    <a:pt x="1883" y="1835"/>
                  </a:lnTo>
                  <a:lnTo>
                    <a:pt x="1892" y="1829"/>
                  </a:lnTo>
                  <a:lnTo>
                    <a:pt x="1901" y="1827"/>
                  </a:lnTo>
                  <a:lnTo>
                    <a:pt x="1909" y="1818"/>
                  </a:lnTo>
                  <a:lnTo>
                    <a:pt x="1909" y="1809"/>
                  </a:lnTo>
                  <a:lnTo>
                    <a:pt x="1909" y="1801"/>
                  </a:lnTo>
                  <a:lnTo>
                    <a:pt x="1909" y="1792"/>
                  </a:lnTo>
                  <a:lnTo>
                    <a:pt x="1915" y="1783"/>
                  </a:lnTo>
                  <a:lnTo>
                    <a:pt x="1918" y="1775"/>
                  </a:lnTo>
                  <a:lnTo>
                    <a:pt x="1918" y="1766"/>
                  </a:lnTo>
                  <a:lnTo>
                    <a:pt x="1915" y="1757"/>
                  </a:lnTo>
                  <a:lnTo>
                    <a:pt x="1909" y="1749"/>
                  </a:lnTo>
                  <a:lnTo>
                    <a:pt x="1901" y="1740"/>
                  </a:lnTo>
                  <a:lnTo>
                    <a:pt x="1895" y="1731"/>
                  </a:lnTo>
                  <a:lnTo>
                    <a:pt x="1892" y="1720"/>
                  </a:lnTo>
                  <a:lnTo>
                    <a:pt x="1889" y="1711"/>
                  </a:lnTo>
                  <a:lnTo>
                    <a:pt x="1880" y="1706"/>
                  </a:lnTo>
                  <a:lnTo>
                    <a:pt x="1871" y="1697"/>
                  </a:lnTo>
                  <a:lnTo>
                    <a:pt x="1866" y="1688"/>
                  </a:lnTo>
                  <a:lnTo>
                    <a:pt x="1860" y="1680"/>
                  </a:lnTo>
                  <a:lnTo>
                    <a:pt x="1851" y="1671"/>
                  </a:lnTo>
                  <a:lnTo>
                    <a:pt x="1842" y="1665"/>
                  </a:lnTo>
                  <a:lnTo>
                    <a:pt x="1831" y="1662"/>
                  </a:lnTo>
                  <a:lnTo>
                    <a:pt x="1819" y="1657"/>
                  </a:lnTo>
                  <a:lnTo>
                    <a:pt x="1813" y="1648"/>
                  </a:lnTo>
                  <a:lnTo>
                    <a:pt x="1810" y="1639"/>
                  </a:lnTo>
                  <a:lnTo>
                    <a:pt x="1807" y="1631"/>
                  </a:lnTo>
                  <a:lnTo>
                    <a:pt x="1799" y="1622"/>
                  </a:lnTo>
                  <a:lnTo>
                    <a:pt x="1793" y="1613"/>
                  </a:lnTo>
                  <a:lnTo>
                    <a:pt x="1784" y="1613"/>
                  </a:lnTo>
                  <a:lnTo>
                    <a:pt x="1772" y="1613"/>
                  </a:lnTo>
                  <a:lnTo>
                    <a:pt x="1764" y="1608"/>
                  </a:lnTo>
                  <a:lnTo>
                    <a:pt x="1761" y="1599"/>
                  </a:lnTo>
                  <a:lnTo>
                    <a:pt x="1772" y="1596"/>
                  </a:lnTo>
                  <a:lnTo>
                    <a:pt x="1781" y="1596"/>
                  </a:lnTo>
                  <a:lnTo>
                    <a:pt x="1787" y="1587"/>
                  </a:lnTo>
                  <a:lnTo>
                    <a:pt x="1778" y="1579"/>
                  </a:lnTo>
                  <a:lnTo>
                    <a:pt x="1770" y="1576"/>
                  </a:lnTo>
                  <a:lnTo>
                    <a:pt x="1761" y="1573"/>
                  </a:lnTo>
                  <a:lnTo>
                    <a:pt x="1758" y="1564"/>
                  </a:lnTo>
                  <a:lnTo>
                    <a:pt x="1758" y="1556"/>
                  </a:lnTo>
                  <a:lnTo>
                    <a:pt x="1758" y="1547"/>
                  </a:lnTo>
                  <a:lnTo>
                    <a:pt x="1749" y="1547"/>
                  </a:lnTo>
                  <a:lnTo>
                    <a:pt x="1737" y="1553"/>
                  </a:lnTo>
                  <a:lnTo>
                    <a:pt x="1729" y="1553"/>
                  </a:lnTo>
                  <a:lnTo>
                    <a:pt x="1720" y="1556"/>
                  </a:lnTo>
                  <a:lnTo>
                    <a:pt x="1720" y="1547"/>
                  </a:lnTo>
                  <a:lnTo>
                    <a:pt x="1723" y="1538"/>
                  </a:lnTo>
                  <a:lnTo>
                    <a:pt x="1726" y="1550"/>
                  </a:lnTo>
                  <a:lnTo>
                    <a:pt x="1723" y="1559"/>
                  </a:lnTo>
                  <a:lnTo>
                    <a:pt x="1723" y="1567"/>
                  </a:lnTo>
                  <a:lnTo>
                    <a:pt x="1732" y="1567"/>
                  </a:lnTo>
                  <a:lnTo>
                    <a:pt x="1740" y="1556"/>
                  </a:lnTo>
                  <a:lnTo>
                    <a:pt x="1726" y="1553"/>
                  </a:lnTo>
                  <a:lnTo>
                    <a:pt x="1717" y="1553"/>
                  </a:lnTo>
                  <a:lnTo>
                    <a:pt x="1705" y="1553"/>
                  </a:lnTo>
                  <a:lnTo>
                    <a:pt x="1705" y="1541"/>
                  </a:lnTo>
                  <a:lnTo>
                    <a:pt x="1711" y="1533"/>
                  </a:lnTo>
                  <a:lnTo>
                    <a:pt x="1700" y="1535"/>
                  </a:lnTo>
                  <a:lnTo>
                    <a:pt x="1691" y="1541"/>
                  </a:lnTo>
                  <a:lnTo>
                    <a:pt x="1679" y="1544"/>
                  </a:lnTo>
                  <a:lnTo>
                    <a:pt x="1685" y="1533"/>
                  </a:lnTo>
                  <a:lnTo>
                    <a:pt x="1685" y="1524"/>
                  </a:lnTo>
                  <a:lnTo>
                    <a:pt x="1676" y="1524"/>
                  </a:lnTo>
                  <a:lnTo>
                    <a:pt x="1668" y="1533"/>
                  </a:lnTo>
                  <a:lnTo>
                    <a:pt x="1662" y="1541"/>
                  </a:lnTo>
                  <a:lnTo>
                    <a:pt x="1653" y="1544"/>
                  </a:lnTo>
                  <a:lnTo>
                    <a:pt x="1653" y="1535"/>
                  </a:lnTo>
                  <a:lnTo>
                    <a:pt x="1644" y="1541"/>
                  </a:lnTo>
                  <a:lnTo>
                    <a:pt x="1641" y="1550"/>
                  </a:lnTo>
                  <a:lnTo>
                    <a:pt x="1633" y="1547"/>
                  </a:lnTo>
                  <a:lnTo>
                    <a:pt x="1633" y="1538"/>
                  </a:lnTo>
                  <a:lnTo>
                    <a:pt x="1624" y="1538"/>
                  </a:lnTo>
                  <a:lnTo>
                    <a:pt x="1615" y="1541"/>
                  </a:lnTo>
                  <a:lnTo>
                    <a:pt x="1609" y="1550"/>
                  </a:lnTo>
                  <a:lnTo>
                    <a:pt x="1601" y="1541"/>
                  </a:lnTo>
                  <a:lnTo>
                    <a:pt x="1598" y="1533"/>
                  </a:lnTo>
                  <a:lnTo>
                    <a:pt x="1589" y="1535"/>
                  </a:lnTo>
                  <a:lnTo>
                    <a:pt x="1580" y="1541"/>
                  </a:lnTo>
                  <a:lnTo>
                    <a:pt x="1569" y="1538"/>
                  </a:lnTo>
                  <a:lnTo>
                    <a:pt x="1563" y="1547"/>
                  </a:lnTo>
                  <a:lnTo>
                    <a:pt x="1557" y="1559"/>
                  </a:lnTo>
                  <a:lnTo>
                    <a:pt x="1554" y="1567"/>
                  </a:lnTo>
                  <a:lnTo>
                    <a:pt x="1548" y="1576"/>
                  </a:lnTo>
                  <a:lnTo>
                    <a:pt x="1540" y="1576"/>
                  </a:lnTo>
                  <a:lnTo>
                    <a:pt x="1531" y="1576"/>
                  </a:lnTo>
                  <a:lnTo>
                    <a:pt x="1525" y="1564"/>
                  </a:lnTo>
                  <a:lnTo>
                    <a:pt x="1525" y="1556"/>
                  </a:lnTo>
                  <a:lnTo>
                    <a:pt x="1525" y="1547"/>
                  </a:lnTo>
                  <a:lnTo>
                    <a:pt x="1516" y="1544"/>
                  </a:lnTo>
                  <a:lnTo>
                    <a:pt x="1513" y="1553"/>
                  </a:lnTo>
                  <a:lnTo>
                    <a:pt x="1528" y="1541"/>
                  </a:lnTo>
                  <a:lnTo>
                    <a:pt x="1510" y="1530"/>
                  </a:lnTo>
                  <a:lnTo>
                    <a:pt x="1502" y="1530"/>
                  </a:lnTo>
                  <a:lnTo>
                    <a:pt x="1493" y="1538"/>
                  </a:lnTo>
                  <a:lnTo>
                    <a:pt x="1484" y="1544"/>
                  </a:lnTo>
                  <a:lnTo>
                    <a:pt x="1481" y="1553"/>
                  </a:lnTo>
                  <a:lnTo>
                    <a:pt x="1481" y="1561"/>
                  </a:lnTo>
                  <a:lnTo>
                    <a:pt x="1487" y="1570"/>
                  </a:lnTo>
                  <a:lnTo>
                    <a:pt x="1487" y="1579"/>
                  </a:lnTo>
                  <a:lnTo>
                    <a:pt x="1478" y="1587"/>
                  </a:lnTo>
                  <a:lnTo>
                    <a:pt x="1470" y="1590"/>
                  </a:lnTo>
                  <a:lnTo>
                    <a:pt x="1461" y="1599"/>
                  </a:lnTo>
                  <a:lnTo>
                    <a:pt x="1443" y="1599"/>
                  </a:lnTo>
                  <a:lnTo>
                    <a:pt x="1432" y="1599"/>
                  </a:lnTo>
                  <a:lnTo>
                    <a:pt x="1426" y="1610"/>
                  </a:lnTo>
                  <a:lnTo>
                    <a:pt x="1420" y="1619"/>
                  </a:lnTo>
                  <a:lnTo>
                    <a:pt x="1429" y="1619"/>
                  </a:lnTo>
                  <a:lnTo>
                    <a:pt x="1417" y="1628"/>
                  </a:lnTo>
                  <a:lnTo>
                    <a:pt x="1406" y="1628"/>
                  </a:lnTo>
                  <a:lnTo>
                    <a:pt x="1397" y="1628"/>
                  </a:lnTo>
                  <a:lnTo>
                    <a:pt x="1388" y="1628"/>
                  </a:lnTo>
                  <a:lnTo>
                    <a:pt x="1382" y="1636"/>
                  </a:lnTo>
                  <a:lnTo>
                    <a:pt x="1379" y="1645"/>
                  </a:lnTo>
                  <a:lnTo>
                    <a:pt x="1371" y="1645"/>
                  </a:lnTo>
                  <a:lnTo>
                    <a:pt x="1362" y="1645"/>
                  </a:lnTo>
                  <a:lnTo>
                    <a:pt x="1356" y="1654"/>
                  </a:lnTo>
                  <a:lnTo>
                    <a:pt x="1347" y="1657"/>
                  </a:lnTo>
                  <a:lnTo>
                    <a:pt x="1336" y="1659"/>
                  </a:lnTo>
                  <a:lnTo>
                    <a:pt x="1327" y="1659"/>
                  </a:lnTo>
                  <a:lnTo>
                    <a:pt x="1318" y="1662"/>
                  </a:lnTo>
                  <a:lnTo>
                    <a:pt x="1310" y="1662"/>
                  </a:lnTo>
                  <a:lnTo>
                    <a:pt x="1298" y="1662"/>
                  </a:lnTo>
                  <a:lnTo>
                    <a:pt x="1289" y="1665"/>
                  </a:lnTo>
                  <a:lnTo>
                    <a:pt x="1280" y="1671"/>
                  </a:lnTo>
                  <a:lnTo>
                    <a:pt x="1278" y="1680"/>
                  </a:lnTo>
                  <a:lnTo>
                    <a:pt x="1280" y="1691"/>
                  </a:lnTo>
                  <a:lnTo>
                    <a:pt x="1289" y="1694"/>
                  </a:lnTo>
                  <a:lnTo>
                    <a:pt x="1301" y="1697"/>
                  </a:lnTo>
                  <a:lnTo>
                    <a:pt x="1312" y="1697"/>
                  </a:lnTo>
                  <a:lnTo>
                    <a:pt x="1321" y="1697"/>
                  </a:lnTo>
                  <a:lnTo>
                    <a:pt x="1310" y="1694"/>
                  </a:lnTo>
                  <a:lnTo>
                    <a:pt x="1298" y="1694"/>
                  </a:lnTo>
                  <a:lnTo>
                    <a:pt x="1289" y="1691"/>
                  </a:lnTo>
                  <a:lnTo>
                    <a:pt x="1304" y="1685"/>
                  </a:lnTo>
                  <a:lnTo>
                    <a:pt x="1312" y="1685"/>
                  </a:lnTo>
                  <a:lnTo>
                    <a:pt x="1321" y="1685"/>
                  </a:lnTo>
                  <a:lnTo>
                    <a:pt x="1312" y="1682"/>
                  </a:lnTo>
                  <a:lnTo>
                    <a:pt x="1301" y="1685"/>
                  </a:lnTo>
                  <a:lnTo>
                    <a:pt x="1292" y="1685"/>
                  </a:lnTo>
                  <a:lnTo>
                    <a:pt x="1286" y="1677"/>
                  </a:lnTo>
                  <a:lnTo>
                    <a:pt x="1275" y="1668"/>
                  </a:lnTo>
                  <a:lnTo>
                    <a:pt x="1266" y="1665"/>
                  </a:lnTo>
                  <a:lnTo>
                    <a:pt x="1248" y="1659"/>
                  </a:lnTo>
                  <a:lnTo>
                    <a:pt x="1240" y="1659"/>
                  </a:lnTo>
                  <a:lnTo>
                    <a:pt x="1234" y="1668"/>
                  </a:lnTo>
                  <a:lnTo>
                    <a:pt x="1225" y="1671"/>
                  </a:lnTo>
                  <a:lnTo>
                    <a:pt x="1216" y="1674"/>
                  </a:lnTo>
                  <a:lnTo>
                    <a:pt x="1208" y="1674"/>
                  </a:lnTo>
                  <a:lnTo>
                    <a:pt x="1199" y="1671"/>
                  </a:lnTo>
                  <a:lnTo>
                    <a:pt x="1190" y="1674"/>
                  </a:lnTo>
                  <a:lnTo>
                    <a:pt x="1176" y="1671"/>
                  </a:lnTo>
                  <a:lnTo>
                    <a:pt x="1167" y="1668"/>
                  </a:lnTo>
                  <a:lnTo>
                    <a:pt x="1161" y="1677"/>
                  </a:lnTo>
                  <a:lnTo>
                    <a:pt x="1152" y="1682"/>
                  </a:lnTo>
                  <a:lnTo>
                    <a:pt x="1144" y="1682"/>
                  </a:lnTo>
                  <a:lnTo>
                    <a:pt x="1132" y="1682"/>
                  </a:lnTo>
                  <a:lnTo>
                    <a:pt x="1132" y="1691"/>
                  </a:lnTo>
                  <a:lnTo>
                    <a:pt x="1132" y="1700"/>
                  </a:lnTo>
                  <a:lnTo>
                    <a:pt x="1147" y="1708"/>
                  </a:lnTo>
                  <a:lnTo>
                    <a:pt x="1155" y="1720"/>
                  </a:lnTo>
                  <a:lnTo>
                    <a:pt x="1158" y="1729"/>
                  </a:lnTo>
                  <a:lnTo>
                    <a:pt x="1158" y="1737"/>
                  </a:lnTo>
                  <a:lnTo>
                    <a:pt x="1161" y="1746"/>
                  </a:lnTo>
                  <a:lnTo>
                    <a:pt x="1161" y="1737"/>
                  </a:lnTo>
                  <a:lnTo>
                    <a:pt x="1155" y="1726"/>
                  </a:lnTo>
                  <a:lnTo>
                    <a:pt x="1152" y="1717"/>
                  </a:lnTo>
                  <a:lnTo>
                    <a:pt x="1138" y="1717"/>
                  </a:lnTo>
                  <a:lnTo>
                    <a:pt x="1129" y="1711"/>
                  </a:lnTo>
                  <a:lnTo>
                    <a:pt x="1120" y="1711"/>
                  </a:lnTo>
                  <a:lnTo>
                    <a:pt x="1117" y="1720"/>
                  </a:lnTo>
                  <a:lnTo>
                    <a:pt x="1114" y="1731"/>
                  </a:lnTo>
                  <a:lnTo>
                    <a:pt x="1114" y="1740"/>
                  </a:lnTo>
                  <a:lnTo>
                    <a:pt x="1126" y="1740"/>
                  </a:lnTo>
                  <a:lnTo>
                    <a:pt x="1138" y="1743"/>
                  </a:lnTo>
                  <a:lnTo>
                    <a:pt x="1129" y="1743"/>
                  </a:lnTo>
                  <a:lnTo>
                    <a:pt x="1120" y="1743"/>
                  </a:lnTo>
                  <a:lnTo>
                    <a:pt x="1112" y="1746"/>
                  </a:lnTo>
                  <a:lnTo>
                    <a:pt x="1103" y="1752"/>
                  </a:lnTo>
                  <a:lnTo>
                    <a:pt x="1094" y="1755"/>
                  </a:lnTo>
                  <a:lnTo>
                    <a:pt x="1085" y="1763"/>
                  </a:lnTo>
                  <a:lnTo>
                    <a:pt x="1077" y="1766"/>
                  </a:lnTo>
                  <a:lnTo>
                    <a:pt x="1068" y="1766"/>
                  </a:lnTo>
                  <a:lnTo>
                    <a:pt x="1077" y="1772"/>
                  </a:lnTo>
                  <a:lnTo>
                    <a:pt x="1085" y="1772"/>
                  </a:lnTo>
                  <a:lnTo>
                    <a:pt x="1097" y="1775"/>
                  </a:lnTo>
                  <a:lnTo>
                    <a:pt x="1091" y="1783"/>
                  </a:lnTo>
                  <a:lnTo>
                    <a:pt x="1080" y="1786"/>
                  </a:lnTo>
                  <a:lnTo>
                    <a:pt x="1071" y="1786"/>
                  </a:lnTo>
                  <a:lnTo>
                    <a:pt x="1062" y="1789"/>
                  </a:lnTo>
                  <a:lnTo>
                    <a:pt x="1056" y="1798"/>
                  </a:lnTo>
                  <a:lnTo>
                    <a:pt x="1056" y="1806"/>
                  </a:lnTo>
                  <a:lnTo>
                    <a:pt x="1056" y="1815"/>
                  </a:lnTo>
                  <a:lnTo>
                    <a:pt x="1056" y="1824"/>
                  </a:lnTo>
                  <a:lnTo>
                    <a:pt x="1056" y="1832"/>
                  </a:lnTo>
                  <a:lnTo>
                    <a:pt x="1056" y="1841"/>
                  </a:lnTo>
                  <a:lnTo>
                    <a:pt x="1062" y="1850"/>
                  </a:lnTo>
                  <a:lnTo>
                    <a:pt x="1074" y="1855"/>
                  </a:lnTo>
                  <a:lnTo>
                    <a:pt x="1082" y="1855"/>
                  </a:lnTo>
                  <a:lnTo>
                    <a:pt x="1091" y="1855"/>
                  </a:lnTo>
                  <a:lnTo>
                    <a:pt x="1103" y="1855"/>
                  </a:lnTo>
                  <a:lnTo>
                    <a:pt x="1112" y="1855"/>
                  </a:lnTo>
                  <a:lnTo>
                    <a:pt x="1120" y="1855"/>
                  </a:lnTo>
                  <a:lnTo>
                    <a:pt x="1132" y="1855"/>
                  </a:lnTo>
                  <a:lnTo>
                    <a:pt x="1144" y="1855"/>
                  </a:lnTo>
                  <a:lnTo>
                    <a:pt x="1152" y="1852"/>
                  </a:lnTo>
                  <a:lnTo>
                    <a:pt x="1167" y="1852"/>
                  </a:lnTo>
                  <a:lnTo>
                    <a:pt x="1176" y="1844"/>
                  </a:lnTo>
                  <a:lnTo>
                    <a:pt x="1179" y="1835"/>
                  </a:lnTo>
                  <a:lnTo>
                    <a:pt x="1181" y="1827"/>
                  </a:lnTo>
                  <a:lnTo>
                    <a:pt x="1184" y="1835"/>
                  </a:lnTo>
                  <a:lnTo>
                    <a:pt x="1184" y="1844"/>
                  </a:lnTo>
                  <a:lnTo>
                    <a:pt x="1181" y="1852"/>
                  </a:lnTo>
                  <a:lnTo>
                    <a:pt x="1170" y="1858"/>
                  </a:lnTo>
                  <a:lnTo>
                    <a:pt x="1173" y="1867"/>
                  </a:lnTo>
                  <a:lnTo>
                    <a:pt x="1170" y="1876"/>
                  </a:lnTo>
                  <a:lnTo>
                    <a:pt x="1164" y="1884"/>
                  </a:lnTo>
                  <a:lnTo>
                    <a:pt x="1161" y="1893"/>
                  </a:lnTo>
                  <a:lnTo>
                    <a:pt x="1161" y="1901"/>
                  </a:lnTo>
                  <a:lnTo>
                    <a:pt x="1158" y="1910"/>
                  </a:lnTo>
                  <a:lnTo>
                    <a:pt x="1149" y="1913"/>
                  </a:lnTo>
                  <a:lnTo>
                    <a:pt x="1147" y="1922"/>
                  </a:lnTo>
                  <a:lnTo>
                    <a:pt x="1147" y="1930"/>
                  </a:lnTo>
                  <a:lnTo>
                    <a:pt x="1144" y="1939"/>
                  </a:lnTo>
                  <a:lnTo>
                    <a:pt x="1144" y="1948"/>
                  </a:lnTo>
                  <a:lnTo>
                    <a:pt x="1141" y="1956"/>
                  </a:lnTo>
                  <a:lnTo>
                    <a:pt x="1141" y="1968"/>
                  </a:lnTo>
                  <a:lnTo>
                    <a:pt x="1141" y="1976"/>
                  </a:lnTo>
                  <a:lnTo>
                    <a:pt x="1155" y="1956"/>
                  </a:lnTo>
                  <a:lnTo>
                    <a:pt x="1144" y="1956"/>
                  </a:lnTo>
                  <a:lnTo>
                    <a:pt x="1144" y="1965"/>
                  </a:lnTo>
                  <a:lnTo>
                    <a:pt x="1144" y="1974"/>
                  </a:lnTo>
                  <a:lnTo>
                    <a:pt x="1144" y="1982"/>
                  </a:lnTo>
                  <a:lnTo>
                    <a:pt x="1138" y="1991"/>
                  </a:lnTo>
                  <a:lnTo>
                    <a:pt x="1129" y="1997"/>
                  </a:lnTo>
                  <a:lnTo>
                    <a:pt x="1120" y="1997"/>
                  </a:lnTo>
                  <a:lnTo>
                    <a:pt x="1117" y="2005"/>
                  </a:lnTo>
                  <a:lnTo>
                    <a:pt x="1117" y="2014"/>
                  </a:lnTo>
                  <a:lnTo>
                    <a:pt x="1117" y="2023"/>
                  </a:lnTo>
                  <a:lnTo>
                    <a:pt x="1117" y="2031"/>
                  </a:lnTo>
                  <a:lnTo>
                    <a:pt x="1120" y="2040"/>
                  </a:lnTo>
                  <a:lnTo>
                    <a:pt x="1129" y="2046"/>
                  </a:lnTo>
                  <a:lnTo>
                    <a:pt x="1144" y="2054"/>
                  </a:lnTo>
                  <a:lnTo>
                    <a:pt x="1152" y="2054"/>
                  </a:lnTo>
                  <a:lnTo>
                    <a:pt x="1158" y="2046"/>
                  </a:lnTo>
                  <a:lnTo>
                    <a:pt x="1158" y="2037"/>
                  </a:lnTo>
                  <a:lnTo>
                    <a:pt x="1170" y="2037"/>
                  </a:lnTo>
                  <a:lnTo>
                    <a:pt x="1179" y="2037"/>
                  </a:lnTo>
                  <a:lnTo>
                    <a:pt x="1187" y="2037"/>
                  </a:lnTo>
                  <a:lnTo>
                    <a:pt x="1199" y="2037"/>
                  </a:lnTo>
                  <a:lnTo>
                    <a:pt x="1208" y="2040"/>
                  </a:lnTo>
                  <a:lnTo>
                    <a:pt x="1216" y="2043"/>
                  </a:lnTo>
                  <a:lnTo>
                    <a:pt x="1225" y="2040"/>
                  </a:lnTo>
                  <a:lnTo>
                    <a:pt x="1228" y="2031"/>
                  </a:lnTo>
                  <a:lnTo>
                    <a:pt x="1231" y="2023"/>
                  </a:lnTo>
                  <a:lnTo>
                    <a:pt x="1237" y="2014"/>
                  </a:lnTo>
                  <a:lnTo>
                    <a:pt x="1245" y="2005"/>
                  </a:lnTo>
                  <a:lnTo>
                    <a:pt x="1251" y="1997"/>
                  </a:lnTo>
                  <a:lnTo>
                    <a:pt x="1260" y="1991"/>
                  </a:lnTo>
                  <a:lnTo>
                    <a:pt x="1266" y="1982"/>
                  </a:lnTo>
                  <a:lnTo>
                    <a:pt x="1269" y="1974"/>
                  </a:lnTo>
                  <a:lnTo>
                    <a:pt x="1272" y="1965"/>
                  </a:lnTo>
                  <a:lnTo>
                    <a:pt x="1280" y="1962"/>
                  </a:lnTo>
                  <a:lnTo>
                    <a:pt x="1289" y="1962"/>
                  </a:lnTo>
                  <a:lnTo>
                    <a:pt x="1298" y="1959"/>
                  </a:lnTo>
                  <a:lnTo>
                    <a:pt x="1301" y="1950"/>
                  </a:lnTo>
                  <a:lnTo>
                    <a:pt x="1304" y="1942"/>
                  </a:lnTo>
                  <a:lnTo>
                    <a:pt x="1301" y="1933"/>
                  </a:lnTo>
                  <a:lnTo>
                    <a:pt x="1292" y="1925"/>
                  </a:lnTo>
                  <a:lnTo>
                    <a:pt x="1301" y="1919"/>
                  </a:lnTo>
                  <a:lnTo>
                    <a:pt x="1310" y="1927"/>
                  </a:lnTo>
                  <a:lnTo>
                    <a:pt x="1318" y="1933"/>
                  </a:lnTo>
                  <a:lnTo>
                    <a:pt x="1324" y="1942"/>
                  </a:lnTo>
                  <a:lnTo>
                    <a:pt x="1333" y="1950"/>
                  </a:lnTo>
                  <a:lnTo>
                    <a:pt x="1342" y="1950"/>
                  </a:lnTo>
                  <a:lnTo>
                    <a:pt x="1350" y="1950"/>
                  </a:lnTo>
                  <a:lnTo>
                    <a:pt x="1353" y="1942"/>
                  </a:lnTo>
                  <a:lnTo>
                    <a:pt x="1353" y="1933"/>
                  </a:lnTo>
                  <a:lnTo>
                    <a:pt x="1356" y="1925"/>
                  </a:lnTo>
                  <a:lnTo>
                    <a:pt x="1356" y="1916"/>
                  </a:lnTo>
                  <a:lnTo>
                    <a:pt x="1359" y="1907"/>
                  </a:lnTo>
                  <a:lnTo>
                    <a:pt x="1359" y="1899"/>
                  </a:lnTo>
                  <a:lnTo>
                    <a:pt x="1356" y="1890"/>
                  </a:lnTo>
                  <a:lnTo>
                    <a:pt x="1347" y="1881"/>
                  </a:lnTo>
                  <a:lnTo>
                    <a:pt x="1347" y="1870"/>
                  </a:lnTo>
                  <a:lnTo>
                    <a:pt x="1347" y="1861"/>
                  </a:lnTo>
                  <a:lnTo>
                    <a:pt x="1356" y="1855"/>
                  </a:lnTo>
                  <a:lnTo>
                    <a:pt x="1362" y="1847"/>
                  </a:lnTo>
                  <a:lnTo>
                    <a:pt x="1371" y="1844"/>
                  </a:lnTo>
                  <a:lnTo>
                    <a:pt x="1379" y="1835"/>
                  </a:lnTo>
                  <a:lnTo>
                    <a:pt x="1382" y="1827"/>
                  </a:lnTo>
                  <a:lnTo>
                    <a:pt x="1391" y="1821"/>
                  </a:lnTo>
                  <a:lnTo>
                    <a:pt x="1400" y="1815"/>
                  </a:lnTo>
                  <a:lnTo>
                    <a:pt x="1406" y="1806"/>
                  </a:lnTo>
                  <a:lnTo>
                    <a:pt x="1414" y="1801"/>
                  </a:lnTo>
                  <a:lnTo>
                    <a:pt x="1423" y="1801"/>
                  </a:lnTo>
                  <a:lnTo>
                    <a:pt x="1435" y="1798"/>
                  </a:lnTo>
                  <a:lnTo>
                    <a:pt x="1443" y="1792"/>
                  </a:lnTo>
                  <a:lnTo>
                    <a:pt x="1452" y="1792"/>
                  </a:lnTo>
                  <a:lnTo>
                    <a:pt x="1464" y="1789"/>
                  </a:lnTo>
                  <a:lnTo>
                    <a:pt x="1473" y="1789"/>
                  </a:lnTo>
                  <a:lnTo>
                    <a:pt x="1481" y="1789"/>
                  </a:lnTo>
                  <a:lnTo>
                    <a:pt x="1490" y="1786"/>
                  </a:lnTo>
                  <a:lnTo>
                    <a:pt x="1499" y="1786"/>
                  </a:lnTo>
                  <a:lnTo>
                    <a:pt x="1508" y="1786"/>
                  </a:lnTo>
                  <a:lnTo>
                    <a:pt x="1516" y="1783"/>
                  </a:lnTo>
                  <a:lnTo>
                    <a:pt x="1516" y="1775"/>
                  </a:lnTo>
                  <a:lnTo>
                    <a:pt x="1516" y="1766"/>
                  </a:lnTo>
                  <a:lnTo>
                    <a:pt x="1513" y="1757"/>
                  </a:lnTo>
                  <a:lnTo>
                    <a:pt x="1522" y="1752"/>
                  </a:lnTo>
                  <a:lnTo>
                    <a:pt x="1528" y="1743"/>
                  </a:lnTo>
                  <a:lnTo>
                    <a:pt x="1537" y="1737"/>
                  </a:lnTo>
                  <a:lnTo>
                    <a:pt x="1545" y="1737"/>
                  </a:lnTo>
                  <a:lnTo>
                    <a:pt x="1554" y="1734"/>
                  </a:lnTo>
                  <a:lnTo>
                    <a:pt x="1563" y="1729"/>
                  </a:lnTo>
                  <a:lnTo>
                    <a:pt x="1572" y="1729"/>
                  </a:lnTo>
                  <a:lnTo>
                    <a:pt x="1580" y="1737"/>
                  </a:lnTo>
                  <a:lnTo>
                    <a:pt x="1589" y="1743"/>
                  </a:lnTo>
                  <a:lnTo>
                    <a:pt x="1598" y="1749"/>
                  </a:lnTo>
                  <a:lnTo>
                    <a:pt x="1601" y="1757"/>
                  </a:lnTo>
                  <a:lnTo>
                    <a:pt x="1601" y="1766"/>
                  </a:lnTo>
                  <a:lnTo>
                    <a:pt x="1604" y="1775"/>
                  </a:lnTo>
                  <a:lnTo>
                    <a:pt x="1604" y="1783"/>
                  </a:lnTo>
                  <a:lnTo>
                    <a:pt x="1592" y="1789"/>
                  </a:lnTo>
                  <a:lnTo>
                    <a:pt x="1580" y="1789"/>
                  </a:lnTo>
                  <a:lnTo>
                    <a:pt x="1572" y="1792"/>
                  </a:lnTo>
                  <a:lnTo>
                    <a:pt x="1566" y="1801"/>
                  </a:lnTo>
                  <a:lnTo>
                    <a:pt x="1557" y="1806"/>
                  </a:lnTo>
                  <a:lnTo>
                    <a:pt x="1548" y="1812"/>
                  </a:lnTo>
                  <a:lnTo>
                    <a:pt x="1537" y="1815"/>
                  </a:lnTo>
                  <a:lnTo>
                    <a:pt x="1528" y="1818"/>
                  </a:lnTo>
                  <a:lnTo>
                    <a:pt x="1519" y="1824"/>
                  </a:lnTo>
                  <a:lnTo>
                    <a:pt x="1510" y="1829"/>
                  </a:lnTo>
                  <a:lnTo>
                    <a:pt x="1502" y="1829"/>
                  </a:lnTo>
                  <a:lnTo>
                    <a:pt x="1490" y="1832"/>
                  </a:lnTo>
                  <a:lnTo>
                    <a:pt x="1481" y="1835"/>
                  </a:lnTo>
                  <a:lnTo>
                    <a:pt x="1473" y="1835"/>
                  </a:lnTo>
                  <a:lnTo>
                    <a:pt x="1464" y="1841"/>
                  </a:lnTo>
                  <a:lnTo>
                    <a:pt x="1458" y="1850"/>
                  </a:lnTo>
                  <a:lnTo>
                    <a:pt x="1452" y="1858"/>
                  </a:lnTo>
                  <a:lnTo>
                    <a:pt x="1449" y="1867"/>
                  </a:lnTo>
                  <a:lnTo>
                    <a:pt x="1449" y="1876"/>
                  </a:lnTo>
                  <a:lnTo>
                    <a:pt x="1446" y="1884"/>
                  </a:lnTo>
                  <a:lnTo>
                    <a:pt x="1443" y="1893"/>
                  </a:lnTo>
                  <a:lnTo>
                    <a:pt x="1438" y="1901"/>
                  </a:lnTo>
                  <a:lnTo>
                    <a:pt x="1435" y="1910"/>
                  </a:lnTo>
                  <a:lnTo>
                    <a:pt x="1429" y="1919"/>
                  </a:lnTo>
                  <a:lnTo>
                    <a:pt x="1426" y="1927"/>
                  </a:lnTo>
                  <a:lnTo>
                    <a:pt x="1423" y="1936"/>
                  </a:lnTo>
                  <a:lnTo>
                    <a:pt x="1423" y="1945"/>
                  </a:lnTo>
                  <a:lnTo>
                    <a:pt x="1417" y="1953"/>
                  </a:lnTo>
                  <a:lnTo>
                    <a:pt x="1417" y="1962"/>
                  </a:lnTo>
                  <a:lnTo>
                    <a:pt x="1426" y="1962"/>
                  </a:lnTo>
                  <a:lnTo>
                    <a:pt x="1435" y="1974"/>
                  </a:lnTo>
                  <a:lnTo>
                    <a:pt x="1441" y="1982"/>
                  </a:lnTo>
                  <a:lnTo>
                    <a:pt x="1441" y="1991"/>
                  </a:lnTo>
                  <a:lnTo>
                    <a:pt x="1449" y="1991"/>
                  </a:lnTo>
                  <a:lnTo>
                    <a:pt x="1461" y="1991"/>
                  </a:lnTo>
                  <a:lnTo>
                    <a:pt x="1470" y="1991"/>
                  </a:lnTo>
                  <a:lnTo>
                    <a:pt x="1484" y="1994"/>
                  </a:lnTo>
                  <a:lnTo>
                    <a:pt x="1493" y="1994"/>
                  </a:lnTo>
                  <a:lnTo>
                    <a:pt x="1502" y="1994"/>
                  </a:lnTo>
                  <a:lnTo>
                    <a:pt x="1510" y="1991"/>
                  </a:lnTo>
                  <a:lnTo>
                    <a:pt x="1519" y="1997"/>
                  </a:lnTo>
                  <a:lnTo>
                    <a:pt x="1531" y="1988"/>
                  </a:lnTo>
                  <a:lnTo>
                    <a:pt x="1540" y="1991"/>
                  </a:lnTo>
                  <a:lnTo>
                    <a:pt x="1548" y="1994"/>
                  </a:lnTo>
                  <a:lnTo>
                    <a:pt x="1557" y="1997"/>
                  </a:lnTo>
                  <a:lnTo>
                    <a:pt x="1566" y="1997"/>
                  </a:lnTo>
                  <a:lnTo>
                    <a:pt x="1569" y="2005"/>
                  </a:lnTo>
                  <a:lnTo>
                    <a:pt x="1569" y="2014"/>
                  </a:lnTo>
                  <a:lnTo>
                    <a:pt x="1569" y="2023"/>
                  </a:lnTo>
                  <a:lnTo>
                    <a:pt x="1572" y="2031"/>
                  </a:lnTo>
                  <a:lnTo>
                    <a:pt x="1577" y="2040"/>
                  </a:lnTo>
                  <a:lnTo>
                    <a:pt x="1586" y="2048"/>
                  </a:lnTo>
                  <a:lnTo>
                    <a:pt x="1577" y="2040"/>
                  </a:lnTo>
                  <a:lnTo>
                    <a:pt x="1569" y="2037"/>
                  </a:lnTo>
                  <a:lnTo>
                    <a:pt x="1557" y="2037"/>
                  </a:lnTo>
                  <a:lnTo>
                    <a:pt x="1548" y="2040"/>
                  </a:lnTo>
                  <a:lnTo>
                    <a:pt x="1548" y="2048"/>
                  </a:lnTo>
                  <a:lnTo>
                    <a:pt x="1540" y="2054"/>
                  </a:lnTo>
                  <a:lnTo>
                    <a:pt x="1531" y="2051"/>
                  </a:lnTo>
                  <a:lnTo>
                    <a:pt x="1522" y="2043"/>
                  </a:lnTo>
                  <a:lnTo>
                    <a:pt x="1513" y="2034"/>
                  </a:lnTo>
                  <a:lnTo>
                    <a:pt x="1505" y="2031"/>
                  </a:lnTo>
                  <a:lnTo>
                    <a:pt x="1496" y="2031"/>
                  </a:lnTo>
                  <a:lnTo>
                    <a:pt x="1487" y="2028"/>
                  </a:lnTo>
                  <a:lnTo>
                    <a:pt x="1478" y="2025"/>
                  </a:lnTo>
                  <a:lnTo>
                    <a:pt x="1470" y="2023"/>
                  </a:lnTo>
                  <a:lnTo>
                    <a:pt x="1461" y="2020"/>
                  </a:lnTo>
                  <a:lnTo>
                    <a:pt x="1452" y="2017"/>
                  </a:lnTo>
                  <a:lnTo>
                    <a:pt x="1441" y="2011"/>
                  </a:lnTo>
                  <a:lnTo>
                    <a:pt x="1432" y="2011"/>
                  </a:lnTo>
                  <a:lnTo>
                    <a:pt x="1426" y="2020"/>
                  </a:lnTo>
                  <a:lnTo>
                    <a:pt x="1426" y="2028"/>
                  </a:lnTo>
                  <a:lnTo>
                    <a:pt x="1423" y="2037"/>
                  </a:lnTo>
                  <a:lnTo>
                    <a:pt x="1417" y="2046"/>
                  </a:lnTo>
                  <a:lnTo>
                    <a:pt x="1414" y="2054"/>
                  </a:lnTo>
                  <a:lnTo>
                    <a:pt x="1426" y="2060"/>
                  </a:lnTo>
                  <a:lnTo>
                    <a:pt x="1432" y="2069"/>
                  </a:lnTo>
                  <a:lnTo>
                    <a:pt x="1429" y="2077"/>
                  </a:lnTo>
                  <a:lnTo>
                    <a:pt x="1423" y="2086"/>
                  </a:lnTo>
                  <a:lnTo>
                    <a:pt x="1414" y="2089"/>
                  </a:lnTo>
                  <a:lnTo>
                    <a:pt x="1409" y="2097"/>
                  </a:lnTo>
                  <a:lnTo>
                    <a:pt x="1403" y="2106"/>
                  </a:lnTo>
                  <a:lnTo>
                    <a:pt x="1400" y="2115"/>
                  </a:lnTo>
                  <a:lnTo>
                    <a:pt x="1391" y="2112"/>
                  </a:lnTo>
                  <a:lnTo>
                    <a:pt x="1388" y="2103"/>
                  </a:lnTo>
                  <a:lnTo>
                    <a:pt x="1385" y="2095"/>
                  </a:lnTo>
                  <a:lnTo>
                    <a:pt x="1382" y="2086"/>
                  </a:lnTo>
                  <a:lnTo>
                    <a:pt x="1382" y="2077"/>
                  </a:lnTo>
                  <a:lnTo>
                    <a:pt x="1379" y="2069"/>
                  </a:lnTo>
                  <a:lnTo>
                    <a:pt x="1371" y="2063"/>
                  </a:lnTo>
                  <a:lnTo>
                    <a:pt x="1359" y="2063"/>
                  </a:lnTo>
                  <a:lnTo>
                    <a:pt x="1350" y="2063"/>
                  </a:lnTo>
                  <a:lnTo>
                    <a:pt x="1344" y="2072"/>
                  </a:lnTo>
                  <a:lnTo>
                    <a:pt x="1339" y="2080"/>
                  </a:lnTo>
                  <a:lnTo>
                    <a:pt x="1333" y="2089"/>
                  </a:lnTo>
                  <a:lnTo>
                    <a:pt x="1327" y="2097"/>
                  </a:lnTo>
                  <a:lnTo>
                    <a:pt x="1321" y="2106"/>
                  </a:lnTo>
                  <a:lnTo>
                    <a:pt x="1312" y="2109"/>
                  </a:lnTo>
                  <a:lnTo>
                    <a:pt x="1304" y="2112"/>
                  </a:lnTo>
                  <a:lnTo>
                    <a:pt x="1304" y="2120"/>
                  </a:lnTo>
                  <a:lnTo>
                    <a:pt x="1301" y="2129"/>
                  </a:lnTo>
                  <a:lnTo>
                    <a:pt x="1298" y="2138"/>
                  </a:lnTo>
                  <a:lnTo>
                    <a:pt x="1295" y="2146"/>
                  </a:lnTo>
                  <a:lnTo>
                    <a:pt x="1295" y="2095"/>
                  </a:lnTo>
                  <a:lnTo>
                    <a:pt x="1304" y="2103"/>
                  </a:lnTo>
                  <a:lnTo>
                    <a:pt x="1304" y="2115"/>
                  </a:lnTo>
                  <a:lnTo>
                    <a:pt x="1301" y="2123"/>
                  </a:lnTo>
                  <a:lnTo>
                    <a:pt x="1298" y="2132"/>
                  </a:lnTo>
                  <a:lnTo>
                    <a:pt x="1298" y="2141"/>
                  </a:lnTo>
                  <a:lnTo>
                    <a:pt x="1295" y="2149"/>
                  </a:lnTo>
                  <a:lnTo>
                    <a:pt x="1292" y="2161"/>
                  </a:lnTo>
                  <a:lnTo>
                    <a:pt x="1289" y="2169"/>
                  </a:lnTo>
                  <a:lnTo>
                    <a:pt x="1280" y="2175"/>
                  </a:lnTo>
                  <a:lnTo>
                    <a:pt x="1278" y="2167"/>
                  </a:lnTo>
                  <a:lnTo>
                    <a:pt x="1275" y="2155"/>
                  </a:lnTo>
                  <a:lnTo>
                    <a:pt x="1272" y="2146"/>
                  </a:lnTo>
                  <a:lnTo>
                    <a:pt x="1263" y="2146"/>
                  </a:lnTo>
                  <a:lnTo>
                    <a:pt x="1251" y="2149"/>
                  </a:lnTo>
                  <a:lnTo>
                    <a:pt x="1245" y="2158"/>
                  </a:lnTo>
                  <a:lnTo>
                    <a:pt x="1240" y="2167"/>
                  </a:lnTo>
                  <a:lnTo>
                    <a:pt x="1228" y="2167"/>
                  </a:lnTo>
                  <a:lnTo>
                    <a:pt x="1216" y="2167"/>
                  </a:lnTo>
                  <a:lnTo>
                    <a:pt x="1213" y="2155"/>
                  </a:lnTo>
                  <a:lnTo>
                    <a:pt x="1213" y="2144"/>
                  </a:lnTo>
                  <a:lnTo>
                    <a:pt x="1205" y="2138"/>
                  </a:lnTo>
                  <a:lnTo>
                    <a:pt x="1196" y="2132"/>
                  </a:lnTo>
                  <a:lnTo>
                    <a:pt x="1179" y="2126"/>
                  </a:lnTo>
                  <a:lnTo>
                    <a:pt x="1170" y="2123"/>
                  </a:lnTo>
                  <a:lnTo>
                    <a:pt x="1158" y="2123"/>
                  </a:lnTo>
                  <a:lnTo>
                    <a:pt x="1152" y="2132"/>
                  </a:lnTo>
                  <a:lnTo>
                    <a:pt x="1141" y="2135"/>
                  </a:lnTo>
                  <a:lnTo>
                    <a:pt x="1132" y="2132"/>
                  </a:lnTo>
                  <a:lnTo>
                    <a:pt x="1123" y="2123"/>
                  </a:lnTo>
                  <a:lnTo>
                    <a:pt x="1114" y="2118"/>
                  </a:lnTo>
                  <a:lnTo>
                    <a:pt x="1106" y="2115"/>
                  </a:lnTo>
                  <a:lnTo>
                    <a:pt x="1097" y="2115"/>
                  </a:lnTo>
                  <a:lnTo>
                    <a:pt x="1094" y="2106"/>
                  </a:lnTo>
                  <a:lnTo>
                    <a:pt x="1094" y="2097"/>
                  </a:lnTo>
                  <a:lnTo>
                    <a:pt x="1094" y="2089"/>
                  </a:lnTo>
                  <a:lnTo>
                    <a:pt x="1091" y="2077"/>
                  </a:lnTo>
                  <a:lnTo>
                    <a:pt x="1091" y="2069"/>
                  </a:lnTo>
                  <a:lnTo>
                    <a:pt x="1082" y="2066"/>
                  </a:lnTo>
                  <a:lnTo>
                    <a:pt x="1074" y="2066"/>
                  </a:lnTo>
                  <a:lnTo>
                    <a:pt x="1065" y="2066"/>
                  </a:lnTo>
                  <a:lnTo>
                    <a:pt x="1056" y="2066"/>
                  </a:lnTo>
                  <a:lnTo>
                    <a:pt x="1048" y="2066"/>
                  </a:lnTo>
                  <a:lnTo>
                    <a:pt x="1039" y="2066"/>
                  </a:lnTo>
                  <a:lnTo>
                    <a:pt x="1027" y="2063"/>
                  </a:lnTo>
                  <a:lnTo>
                    <a:pt x="1021" y="2054"/>
                  </a:lnTo>
                  <a:lnTo>
                    <a:pt x="1021" y="2046"/>
                  </a:lnTo>
                  <a:lnTo>
                    <a:pt x="1016" y="2048"/>
                  </a:lnTo>
                  <a:lnTo>
                    <a:pt x="1036" y="2031"/>
                  </a:lnTo>
                  <a:lnTo>
                    <a:pt x="1048" y="2020"/>
                  </a:lnTo>
                  <a:lnTo>
                    <a:pt x="1059" y="2017"/>
                  </a:lnTo>
                  <a:lnTo>
                    <a:pt x="1062" y="2025"/>
                  </a:lnTo>
                  <a:lnTo>
                    <a:pt x="1050" y="2025"/>
                  </a:lnTo>
                  <a:lnTo>
                    <a:pt x="1059" y="2025"/>
                  </a:lnTo>
                  <a:lnTo>
                    <a:pt x="1071" y="2025"/>
                  </a:lnTo>
                  <a:lnTo>
                    <a:pt x="1080" y="2025"/>
                  </a:lnTo>
                  <a:lnTo>
                    <a:pt x="1088" y="2028"/>
                  </a:lnTo>
                  <a:lnTo>
                    <a:pt x="1097" y="2028"/>
                  </a:lnTo>
                  <a:lnTo>
                    <a:pt x="1106" y="2025"/>
                  </a:lnTo>
                  <a:lnTo>
                    <a:pt x="1109" y="2017"/>
                  </a:lnTo>
                  <a:lnTo>
                    <a:pt x="1112" y="2008"/>
                  </a:lnTo>
                  <a:lnTo>
                    <a:pt x="1103" y="1999"/>
                  </a:lnTo>
                  <a:lnTo>
                    <a:pt x="1100" y="1991"/>
                  </a:lnTo>
                  <a:lnTo>
                    <a:pt x="1094" y="1982"/>
                  </a:lnTo>
                  <a:lnTo>
                    <a:pt x="1091" y="1974"/>
                  </a:lnTo>
                  <a:lnTo>
                    <a:pt x="1082" y="1971"/>
                  </a:lnTo>
                  <a:lnTo>
                    <a:pt x="1077" y="1979"/>
                  </a:lnTo>
                  <a:lnTo>
                    <a:pt x="1077" y="1991"/>
                  </a:lnTo>
                  <a:lnTo>
                    <a:pt x="1077" y="1999"/>
                  </a:lnTo>
                  <a:lnTo>
                    <a:pt x="1071" y="2008"/>
                  </a:lnTo>
                  <a:lnTo>
                    <a:pt x="1068" y="2020"/>
                  </a:lnTo>
                  <a:lnTo>
                    <a:pt x="1068" y="2028"/>
                  </a:lnTo>
                  <a:lnTo>
                    <a:pt x="1059" y="2031"/>
                  </a:lnTo>
                  <a:lnTo>
                    <a:pt x="1048" y="2031"/>
                  </a:lnTo>
                  <a:lnTo>
                    <a:pt x="1039" y="2031"/>
                  </a:lnTo>
                  <a:lnTo>
                    <a:pt x="1030" y="2031"/>
                  </a:lnTo>
                  <a:lnTo>
                    <a:pt x="1027" y="2020"/>
                  </a:lnTo>
                  <a:lnTo>
                    <a:pt x="1027" y="2011"/>
                  </a:lnTo>
                  <a:lnTo>
                    <a:pt x="1027" y="2002"/>
                  </a:lnTo>
                  <a:lnTo>
                    <a:pt x="1027" y="1994"/>
                  </a:lnTo>
                  <a:lnTo>
                    <a:pt x="1027" y="1985"/>
                  </a:lnTo>
                  <a:lnTo>
                    <a:pt x="1030" y="1976"/>
                  </a:lnTo>
                  <a:lnTo>
                    <a:pt x="1039" y="1974"/>
                  </a:lnTo>
                  <a:lnTo>
                    <a:pt x="1042" y="1982"/>
                  </a:lnTo>
                  <a:lnTo>
                    <a:pt x="1042" y="1994"/>
                  </a:lnTo>
                  <a:lnTo>
                    <a:pt x="1045" y="2002"/>
                  </a:lnTo>
                  <a:lnTo>
                    <a:pt x="1050" y="2011"/>
                  </a:lnTo>
                  <a:lnTo>
                    <a:pt x="1062" y="2014"/>
                  </a:lnTo>
                  <a:lnTo>
                    <a:pt x="1074" y="2014"/>
                  </a:lnTo>
                  <a:lnTo>
                    <a:pt x="1082" y="2005"/>
                  </a:lnTo>
                  <a:lnTo>
                    <a:pt x="1082" y="1997"/>
                  </a:lnTo>
                  <a:lnTo>
                    <a:pt x="1074" y="1985"/>
                  </a:lnTo>
                  <a:lnTo>
                    <a:pt x="1065" y="1979"/>
                  </a:lnTo>
                  <a:lnTo>
                    <a:pt x="1065" y="1971"/>
                  </a:lnTo>
                  <a:lnTo>
                    <a:pt x="1074" y="1968"/>
                  </a:lnTo>
                  <a:lnTo>
                    <a:pt x="1082" y="1968"/>
                  </a:lnTo>
                  <a:lnTo>
                    <a:pt x="1091" y="1962"/>
                  </a:lnTo>
                  <a:lnTo>
                    <a:pt x="1091" y="1953"/>
                  </a:lnTo>
                  <a:lnTo>
                    <a:pt x="1091" y="1945"/>
                  </a:lnTo>
                  <a:lnTo>
                    <a:pt x="1100" y="1939"/>
                  </a:lnTo>
                  <a:lnTo>
                    <a:pt x="1109" y="1936"/>
                  </a:lnTo>
                  <a:lnTo>
                    <a:pt x="1117" y="1936"/>
                  </a:lnTo>
                  <a:lnTo>
                    <a:pt x="1123" y="1927"/>
                  </a:lnTo>
                  <a:lnTo>
                    <a:pt x="1126" y="1919"/>
                  </a:lnTo>
                  <a:lnTo>
                    <a:pt x="1126" y="1910"/>
                  </a:lnTo>
                  <a:lnTo>
                    <a:pt x="1126" y="1901"/>
                  </a:lnTo>
                  <a:lnTo>
                    <a:pt x="1114" y="1901"/>
                  </a:lnTo>
                  <a:lnTo>
                    <a:pt x="1106" y="1901"/>
                  </a:lnTo>
                  <a:lnTo>
                    <a:pt x="1097" y="1901"/>
                  </a:lnTo>
                  <a:lnTo>
                    <a:pt x="1088" y="1904"/>
                  </a:lnTo>
                  <a:lnTo>
                    <a:pt x="1080" y="1910"/>
                  </a:lnTo>
                  <a:lnTo>
                    <a:pt x="1077" y="1925"/>
                  </a:lnTo>
                  <a:lnTo>
                    <a:pt x="1077" y="1933"/>
                  </a:lnTo>
                  <a:lnTo>
                    <a:pt x="1068" y="1933"/>
                  </a:lnTo>
                  <a:lnTo>
                    <a:pt x="1059" y="1922"/>
                  </a:lnTo>
                  <a:lnTo>
                    <a:pt x="1056" y="1913"/>
                  </a:lnTo>
                  <a:lnTo>
                    <a:pt x="1068" y="1910"/>
                  </a:lnTo>
                  <a:lnTo>
                    <a:pt x="1077" y="1910"/>
                  </a:lnTo>
                  <a:lnTo>
                    <a:pt x="1065" y="1901"/>
                  </a:lnTo>
                  <a:lnTo>
                    <a:pt x="1056" y="1896"/>
                  </a:lnTo>
                  <a:lnTo>
                    <a:pt x="1056" y="1904"/>
                  </a:lnTo>
                  <a:lnTo>
                    <a:pt x="1048" y="1910"/>
                  </a:lnTo>
                  <a:lnTo>
                    <a:pt x="1039" y="1919"/>
                  </a:lnTo>
                  <a:lnTo>
                    <a:pt x="1036" y="1927"/>
                  </a:lnTo>
                  <a:lnTo>
                    <a:pt x="1030" y="1936"/>
                  </a:lnTo>
                  <a:lnTo>
                    <a:pt x="1024" y="1945"/>
                  </a:lnTo>
                  <a:lnTo>
                    <a:pt x="1016" y="1950"/>
                  </a:lnTo>
                  <a:lnTo>
                    <a:pt x="1004" y="1953"/>
                  </a:lnTo>
                  <a:lnTo>
                    <a:pt x="1001" y="1962"/>
                  </a:lnTo>
                  <a:lnTo>
                    <a:pt x="1001" y="1971"/>
                  </a:lnTo>
                  <a:lnTo>
                    <a:pt x="1001" y="1979"/>
                  </a:lnTo>
                  <a:lnTo>
                    <a:pt x="1001" y="1988"/>
                  </a:lnTo>
                  <a:lnTo>
                    <a:pt x="1001" y="1997"/>
                  </a:lnTo>
                  <a:lnTo>
                    <a:pt x="995" y="2005"/>
                  </a:lnTo>
                  <a:lnTo>
                    <a:pt x="986" y="2011"/>
                  </a:lnTo>
                  <a:lnTo>
                    <a:pt x="981" y="2020"/>
                  </a:lnTo>
                  <a:lnTo>
                    <a:pt x="981" y="2028"/>
                  </a:lnTo>
                  <a:lnTo>
                    <a:pt x="981" y="2037"/>
                  </a:lnTo>
                  <a:lnTo>
                    <a:pt x="978" y="2046"/>
                  </a:lnTo>
                  <a:lnTo>
                    <a:pt x="978" y="2054"/>
                  </a:lnTo>
                  <a:lnTo>
                    <a:pt x="983" y="2046"/>
                  </a:lnTo>
                  <a:lnTo>
                    <a:pt x="983" y="2037"/>
                  </a:lnTo>
                  <a:lnTo>
                    <a:pt x="975" y="2034"/>
                  </a:lnTo>
                  <a:lnTo>
                    <a:pt x="966" y="2034"/>
                  </a:lnTo>
                  <a:lnTo>
                    <a:pt x="957" y="2034"/>
                  </a:lnTo>
                  <a:lnTo>
                    <a:pt x="949" y="2023"/>
                  </a:lnTo>
                  <a:lnTo>
                    <a:pt x="949" y="2011"/>
                  </a:lnTo>
                  <a:lnTo>
                    <a:pt x="940" y="2008"/>
                  </a:lnTo>
                  <a:lnTo>
                    <a:pt x="931" y="2008"/>
                  </a:lnTo>
                  <a:lnTo>
                    <a:pt x="922" y="2011"/>
                  </a:lnTo>
                  <a:lnTo>
                    <a:pt x="914" y="2008"/>
                  </a:lnTo>
                  <a:lnTo>
                    <a:pt x="899" y="2002"/>
                  </a:lnTo>
                  <a:lnTo>
                    <a:pt x="890" y="1988"/>
                  </a:lnTo>
                  <a:lnTo>
                    <a:pt x="885" y="1976"/>
                  </a:lnTo>
                  <a:lnTo>
                    <a:pt x="876" y="1976"/>
                  </a:lnTo>
                  <a:lnTo>
                    <a:pt x="867" y="1979"/>
                  </a:lnTo>
                  <a:lnTo>
                    <a:pt x="861" y="1988"/>
                  </a:lnTo>
                  <a:lnTo>
                    <a:pt x="852" y="1994"/>
                  </a:lnTo>
                  <a:lnTo>
                    <a:pt x="844" y="1999"/>
                  </a:lnTo>
                  <a:lnTo>
                    <a:pt x="835" y="2002"/>
                  </a:lnTo>
                  <a:lnTo>
                    <a:pt x="826" y="2005"/>
                  </a:lnTo>
                  <a:lnTo>
                    <a:pt x="818" y="2008"/>
                  </a:lnTo>
                  <a:lnTo>
                    <a:pt x="809" y="2008"/>
                  </a:lnTo>
                  <a:lnTo>
                    <a:pt x="797" y="2011"/>
                  </a:lnTo>
                  <a:lnTo>
                    <a:pt x="788" y="2011"/>
                  </a:lnTo>
                  <a:lnTo>
                    <a:pt x="797" y="2011"/>
                  </a:lnTo>
                  <a:lnTo>
                    <a:pt x="812" y="2014"/>
                  </a:lnTo>
                  <a:lnTo>
                    <a:pt x="803" y="2017"/>
                  </a:lnTo>
                  <a:lnTo>
                    <a:pt x="794" y="2020"/>
                  </a:lnTo>
                  <a:lnTo>
                    <a:pt x="803" y="2031"/>
                  </a:lnTo>
                  <a:lnTo>
                    <a:pt x="794" y="2031"/>
                  </a:lnTo>
                  <a:lnTo>
                    <a:pt x="786" y="2028"/>
                  </a:lnTo>
                  <a:lnTo>
                    <a:pt x="777" y="2023"/>
                  </a:lnTo>
                  <a:lnTo>
                    <a:pt x="771" y="2014"/>
                  </a:lnTo>
                  <a:lnTo>
                    <a:pt x="762" y="2011"/>
                  </a:lnTo>
                  <a:lnTo>
                    <a:pt x="751" y="2008"/>
                  </a:lnTo>
                  <a:lnTo>
                    <a:pt x="742" y="2008"/>
                  </a:lnTo>
                  <a:lnTo>
                    <a:pt x="733" y="2005"/>
                  </a:lnTo>
                  <a:lnTo>
                    <a:pt x="736" y="2002"/>
                  </a:lnTo>
                  <a:lnTo>
                    <a:pt x="721" y="1985"/>
                  </a:lnTo>
                  <a:lnTo>
                    <a:pt x="713" y="1985"/>
                  </a:lnTo>
                  <a:lnTo>
                    <a:pt x="710" y="1994"/>
                  </a:lnTo>
                  <a:lnTo>
                    <a:pt x="716" y="2005"/>
                  </a:lnTo>
                  <a:lnTo>
                    <a:pt x="713" y="2014"/>
                  </a:lnTo>
                  <a:lnTo>
                    <a:pt x="704" y="2020"/>
                  </a:lnTo>
                  <a:lnTo>
                    <a:pt x="704" y="2028"/>
                  </a:lnTo>
                  <a:lnTo>
                    <a:pt x="692" y="2031"/>
                  </a:lnTo>
                  <a:lnTo>
                    <a:pt x="684" y="2025"/>
                  </a:lnTo>
                  <a:lnTo>
                    <a:pt x="672" y="2020"/>
                  </a:lnTo>
                  <a:lnTo>
                    <a:pt x="660" y="2017"/>
                  </a:lnTo>
                  <a:lnTo>
                    <a:pt x="646" y="2011"/>
                  </a:lnTo>
                  <a:lnTo>
                    <a:pt x="634" y="2008"/>
                  </a:lnTo>
                  <a:lnTo>
                    <a:pt x="625" y="2005"/>
                  </a:lnTo>
                  <a:lnTo>
                    <a:pt x="622" y="1997"/>
                  </a:lnTo>
                  <a:lnTo>
                    <a:pt x="620" y="1988"/>
                  </a:lnTo>
                  <a:lnTo>
                    <a:pt x="611" y="1979"/>
                  </a:lnTo>
                  <a:lnTo>
                    <a:pt x="608" y="1971"/>
                  </a:lnTo>
                  <a:lnTo>
                    <a:pt x="599" y="1968"/>
                  </a:lnTo>
                  <a:lnTo>
                    <a:pt x="590" y="1974"/>
                  </a:lnTo>
                  <a:lnTo>
                    <a:pt x="588" y="1985"/>
                  </a:lnTo>
                  <a:lnTo>
                    <a:pt x="585" y="1997"/>
                  </a:lnTo>
                  <a:lnTo>
                    <a:pt x="576" y="2002"/>
                  </a:lnTo>
                  <a:lnTo>
                    <a:pt x="567" y="1991"/>
                  </a:lnTo>
                  <a:lnTo>
                    <a:pt x="561" y="1982"/>
                  </a:lnTo>
                  <a:lnTo>
                    <a:pt x="553" y="1976"/>
                  </a:lnTo>
                  <a:lnTo>
                    <a:pt x="547" y="1968"/>
                  </a:lnTo>
                  <a:lnTo>
                    <a:pt x="541" y="1959"/>
                  </a:lnTo>
                  <a:lnTo>
                    <a:pt x="532" y="1956"/>
                  </a:lnTo>
                  <a:lnTo>
                    <a:pt x="524" y="1953"/>
                  </a:lnTo>
                  <a:lnTo>
                    <a:pt x="518" y="1945"/>
                  </a:lnTo>
                  <a:lnTo>
                    <a:pt x="509" y="1939"/>
                  </a:lnTo>
                  <a:lnTo>
                    <a:pt x="500" y="1939"/>
                  </a:lnTo>
                  <a:lnTo>
                    <a:pt x="494" y="1948"/>
                  </a:lnTo>
                  <a:lnTo>
                    <a:pt x="491" y="1956"/>
                  </a:lnTo>
                  <a:lnTo>
                    <a:pt x="486" y="1965"/>
                  </a:lnTo>
                  <a:lnTo>
                    <a:pt x="491" y="1974"/>
                  </a:lnTo>
                  <a:lnTo>
                    <a:pt x="500" y="1976"/>
                  </a:lnTo>
                  <a:lnTo>
                    <a:pt x="503" y="1985"/>
                  </a:lnTo>
                  <a:lnTo>
                    <a:pt x="506" y="1994"/>
                  </a:lnTo>
                  <a:lnTo>
                    <a:pt x="509" y="2002"/>
                  </a:lnTo>
                  <a:lnTo>
                    <a:pt x="512" y="2011"/>
                  </a:lnTo>
                  <a:lnTo>
                    <a:pt x="515" y="2020"/>
                  </a:lnTo>
                  <a:lnTo>
                    <a:pt x="518" y="2028"/>
                  </a:lnTo>
                  <a:lnTo>
                    <a:pt x="518" y="2037"/>
                  </a:lnTo>
                  <a:lnTo>
                    <a:pt x="518" y="2046"/>
                  </a:lnTo>
                  <a:lnTo>
                    <a:pt x="518" y="2054"/>
                  </a:lnTo>
                  <a:lnTo>
                    <a:pt x="515" y="2063"/>
                  </a:lnTo>
                  <a:lnTo>
                    <a:pt x="506" y="2072"/>
                  </a:lnTo>
                  <a:lnTo>
                    <a:pt x="503" y="2080"/>
                  </a:lnTo>
                  <a:lnTo>
                    <a:pt x="503" y="2089"/>
                  </a:lnTo>
                  <a:lnTo>
                    <a:pt x="503" y="2097"/>
                  </a:lnTo>
                  <a:lnTo>
                    <a:pt x="500" y="2106"/>
                  </a:lnTo>
                  <a:lnTo>
                    <a:pt x="491" y="2112"/>
                  </a:lnTo>
                  <a:lnTo>
                    <a:pt x="483" y="2118"/>
                  </a:lnTo>
                  <a:lnTo>
                    <a:pt x="483" y="2126"/>
                  </a:lnTo>
                  <a:lnTo>
                    <a:pt x="480" y="2138"/>
                  </a:lnTo>
                  <a:lnTo>
                    <a:pt x="477" y="2149"/>
                  </a:lnTo>
                  <a:lnTo>
                    <a:pt x="468" y="2144"/>
                  </a:lnTo>
                  <a:lnTo>
                    <a:pt x="459" y="2144"/>
                  </a:lnTo>
                  <a:lnTo>
                    <a:pt x="451" y="2144"/>
                  </a:lnTo>
                  <a:lnTo>
                    <a:pt x="442" y="2152"/>
                  </a:lnTo>
                  <a:lnTo>
                    <a:pt x="436" y="2161"/>
                  </a:lnTo>
                  <a:lnTo>
                    <a:pt x="427" y="2167"/>
                  </a:lnTo>
                  <a:lnTo>
                    <a:pt x="419" y="2175"/>
                  </a:lnTo>
                  <a:lnTo>
                    <a:pt x="407" y="2181"/>
                  </a:lnTo>
                  <a:lnTo>
                    <a:pt x="398" y="2184"/>
                  </a:lnTo>
                  <a:lnTo>
                    <a:pt x="393" y="2175"/>
                  </a:lnTo>
                  <a:lnTo>
                    <a:pt x="390" y="2167"/>
                  </a:lnTo>
                  <a:lnTo>
                    <a:pt x="384" y="2158"/>
                  </a:lnTo>
                  <a:lnTo>
                    <a:pt x="369" y="2149"/>
                  </a:lnTo>
                  <a:lnTo>
                    <a:pt x="358" y="2144"/>
                  </a:lnTo>
                  <a:lnTo>
                    <a:pt x="355" y="2135"/>
                  </a:lnTo>
                  <a:lnTo>
                    <a:pt x="349" y="2126"/>
                  </a:lnTo>
                  <a:lnTo>
                    <a:pt x="343" y="2118"/>
                  </a:lnTo>
                  <a:lnTo>
                    <a:pt x="334" y="2109"/>
                  </a:lnTo>
                  <a:lnTo>
                    <a:pt x="328" y="2100"/>
                  </a:lnTo>
                  <a:lnTo>
                    <a:pt x="320" y="2092"/>
                  </a:lnTo>
                  <a:lnTo>
                    <a:pt x="317" y="2080"/>
                  </a:lnTo>
                  <a:lnTo>
                    <a:pt x="317" y="2048"/>
                  </a:lnTo>
                  <a:lnTo>
                    <a:pt x="311" y="2060"/>
                  </a:lnTo>
                  <a:lnTo>
                    <a:pt x="302" y="2057"/>
                  </a:lnTo>
                  <a:lnTo>
                    <a:pt x="294" y="2051"/>
                  </a:lnTo>
                  <a:lnTo>
                    <a:pt x="282" y="2048"/>
                  </a:lnTo>
                  <a:lnTo>
                    <a:pt x="276" y="2040"/>
                  </a:lnTo>
                  <a:lnTo>
                    <a:pt x="270" y="2031"/>
                  </a:lnTo>
                  <a:lnTo>
                    <a:pt x="264" y="2023"/>
                  </a:lnTo>
                  <a:lnTo>
                    <a:pt x="259" y="2014"/>
                  </a:lnTo>
                  <a:lnTo>
                    <a:pt x="250" y="2008"/>
                  </a:lnTo>
                  <a:lnTo>
                    <a:pt x="241" y="2011"/>
                  </a:lnTo>
                  <a:lnTo>
                    <a:pt x="232" y="2011"/>
                  </a:lnTo>
                  <a:lnTo>
                    <a:pt x="227" y="2002"/>
                  </a:lnTo>
                  <a:lnTo>
                    <a:pt x="218" y="2002"/>
                  </a:lnTo>
                  <a:lnTo>
                    <a:pt x="209" y="2002"/>
                  </a:lnTo>
                  <a:lnTo>
                    <a:pt x="200" y="2002"/>
                  </a:lnTo>
                  <a:lnTo>
                    <a:pt x="203" y="2014"/>
                  </a:lnTo>
                  <a:lnTo>
                    <a:pt x="203" y="2025"/>
                  </a:lnTo>
                  <a:lnTo>
                    <a:pt x="200" y="2034"/>
                  </a:lnTo>
                  <a:lnTo>
                    <a:pt x="189" y="2037"/>
                  </a:lnTo>
                  <a:lnTo>
                    <a:pt x="180" y="2043"/>
                  </a:lnTo>
                  <a:lnTo>
                    <a:pt x="171" y="2051"/>
                  </a:lnTo>
                  <a:lnTo>
                    <a:pt x="168" y="2060"/>
                  </a:lnTo>
                  <a:lnTo>
                    <a:pt x="163" y="2072"/>
                  </a:lnTo>
                  <a:lnTo>
                    <a:pt x="154" y="2077"/>
                  </a:lnTo>
                  <a:lnTo>
                    <a:pt x="145" y="2083"/>
                  </a:lnTo>
                  <a:lnTo>
                    <a:pt x="136" y="2086"/>
                  </a:lnTo>
                  <a:lnTo>
                    <a:pt x="122" y="2092"/>
                  </a:lnTo>
                  <a:lnTo>
                    <a:pt x="113" y="2095"/>
                  </a:lnTo>
                  <a:lnTo>
                    <a:pt x="104" y="2097"/>
                  </a:lnTo>
                  <a:lnTo>
                    <a:pt x="96" y="2103"/>
                  </a:lnTo>
                  <a:lnTo>
                    <a:pt x="87" y="2109"/>
                  </a:lnTo>
                  <a:lnTo>
                    <a:pt x="78" y="2112"/>
                  </a:lnTo>
                  <a:lnTo>
                    <a:pt x="66" y="2112"/>
                  </a:lnTo>
                  <a:lnTo>
                    <a:pt x="58" y="2115"/>
                  </a:lnTo>
                  <a:lnTo>
                    <a:pt x="55" y="2123"/>
                  </a:lnTo>
                  <a:lnTo>
                    <a:pt x="49" y="2132"/>
                  </a:lnTo>
                  <a:lnTo>
                    <a:pt x="46" y="2141"/>
                  </a:lnTo>
                  <a:lnTo>
                    <a:pt x="58" y="2146"/>
                  </a:lnTo>
                  <a:lnTo>
                    <a:pt x="66" y="2146"/>
                  </a:lnTo>
                  <a:lnTo>
                    <a:pt x="75" y="2146"/>
                  </a:lnTo>
                  <a:lnTo>
                    <a:pt x="66" y="2158"/>
                  </a:lnTo>
                  <a:lnTo>
                    <a:pt x="55" y="2164"/>
                  </a:lnTo>
                  <a:lnTo>
                    <a:pt x="43" y="2169"/>
                  </a:lnTo>
                  <a:lnTo>
                    <a:pt x="34" y="2175"/>
                  </a:lnTo>
                  <a:lnTo>
                    <a:pt x="26" y="2181"/>
                  </a:lnTo>
                  <a:lnTo>
                    <a:pt x="23" y="2190"/>
                  </a:lnTo>
                  <a:lnTo>
                    <a:pt x="23" y="2198"/>
                  </a:lnTo>
                  <a:lnTo>
                    <a:pt x="14" y="2207"/>
                  </a:lnTo>
                  <a:lnTo>
                    <a:pt x="5" y="2210"/>
                  </a:lnTo>
                  <a:lnTo>
                    <a:pt x="0" y="2218"/>
                  </a:lnTo>
                  <a:lnTo>
                    <a:pt x="5" y="2227"/>
                  </a:lnTo>
                  <a:lnTo>
                    <a:pt x="14" y="2236"/>
                  </a:lnTo>
                  <a:lnTo>
                    <a:pt x="23" y="2244"/>
                  </a:lnTo>
                  <a:lnTo>
                    <a:pt x="37" y="2233"/>
                  </a:lnTo>
                  <a:lnTo>
                    <a:pt x="46" y="2230"/>
                  </a:lnTo>
                  <a:lnTo>
                    <a:pt x="49" y="2239"/>
                  </a:lnTo>
                  <a:lnTo>
                    <a:pt x="49" y="2247"/>
                  </a:lnTo>
                  <a:lnTo>
                    <a:pt x="52" y="2256"/>
                  </a:lnTo>
                  <a:lnTo>
                    <a:pt x="55" y="2265"/>
                  </a:lnTo>
                  <a:lnTo>
                    <a:pt x="58" y="2273"/>
                  </a:lnTo>
                  <a:lnTo>
                    <a:pt x="58" y="2282"/>
                  </a:lnTo>
                  <a:lnTo>
                    <a:pt x="61" y="2291"/>
                  </a:lnTo>
                  <a:lnTo>
                    <a:pt x="61" y="2299"/>
                  </a:lnTo>
                  <a:lnTo>
                    <a:pt x="58" y="2308"/>
                  </a:lnTo>
                  <a:lnTo>
                    <a:pt x="52" y="2316"/>
                  </a:lnTo>
                  <a:lnTo>
                    <a:pt x="52" y="2325"/>
                  </a:lnTo>
                  <a:lnTo>
                    <a:pt x="52" y="2334"/>
                  </a:lnTo>
                  <a:lnTo>
                    <a:pt x="49" y="2342"/>
                  </a:lnTo>
                  <a:lnTo>
                    <a:pt x="58" y="2348"/>
                  </a:lnTo>
                  <a:lnTo>
                    <a:pt x="69" y="2348"/>
                  </a:lnTo>
                  <a:lnTo>
                    <a:pt x="78" y="2348"/>
                  </a:lnTo>
                  <a:lnTo>
                    <a:pt x="87" y="2357"/>
                  </a:lnTo>
                  <a:lnTo>
                    <a:pt x="96" y="2360"/>
                  </a:lnTo>
                  <a:lnTo>
                    <a:pt x="104" y="2360"/>
                  </a:lnTo>
                  <a:lnTo>
                    <a:pt x="113" y="2365"/>
                  </a:lnTo>
                  <a:lnTo>
                    <a:pt x="122" y="2371"/>
                  </a:lnTo>
                  <a:lnTo>
                    <a:pt x="128" y="2380"/>
                  </a:lnTo>
                  <a:lnTo>
                    <a:pt x="139" y="2389"/>
                  </a:lnTo>
                  <a:lnTo>
                    <a:pt x="142" y="2397"/>
                  </a:lnTo>
                  <a:lnTo>
                    <a:pt x="151" y="2406"/>
                  </a:lnTo>
                  <a:lnTo>
                    <a:pt x="160" y="2414"/>
                  </a:lnTo>
                  <a:lnTo>
                    <a:pt x="168" y="2417"/>
                  </a:lnTo>
                  <a:lnTo>
                    <a:pt x="177" y="2420"/>
                  </a:lnTo>
                  <a:lnTo>
                    <a:pt x="186" y="2423"/>
                  </a:lnTo>
                  <a:lnTo>
                    <a:pt x="195" y="2423"/>
                  </a:lnTo>
                  <a:lnTo>
                    <a:pt x="203" y="2423"/>
                  </a:lnTo>
                  <a:lnTo>
                    <a:pt x="212" y="2423"/>
                  </a:lnTo>
                  <a:lnTo>
                    <a:pt x="221" y="2420"/>
                  </a:lnTo>
                  <a:lnTo>
                    <a:pt x="229" y="2420"/>
                  </a:lnTo>
                  <a:lnTo>
                    <a:pt x="238" y="2420"/>
                  </a:lnTo>
                  <a:lnTo>
                    <a:pt x="247" y="2417"/>
                  </a:lnTo>
                  <a:lnTo>
                    <a:pt x="256" y="2412"/>
                  </a:lnTo>
                  <a:lnTo>
                    <a:pt x="264" y="2412"/>
                  </a:lnTo>
                  <a:lnTo>
                    <a:pt x="276" y="2412"/>
                  </a:lnTo>
                  <a:lnTo>
                    <a:pt x="285" y="2412"/>
                  </a:lnTo>
                  <a:lnTo>
                    <a:pt x="294" y="2414"/>
                  </a:lnTo>
                  <a:lnTo>
                    <a:pt x="302" y="2414"/>
                  </a:lnTo>
                  <a:lnTo>
                    <a:pt x="305" y="2406"/>
                  </a:lnTo>
                  <a:lnTo>
                    <a:pt x="305" y="2397"/>
                  </a:lnTo>
                  <a:lnTo>
                    <a:pt x="302" y="2389"/>
                  </a:lnTo>
                  <a:lnTo>
                    <a:pt x="299" y="2380"/>
                  </a:lnTo>
                  <a:lnTo>
                    <a:pt x="302" y="2371"/>
                  </a:lnTo>
                  <a:lnTo>
                    <a:pt x="314" y="2368"/>
                  </a:lnTo>
                  <a:lnTo>
                    <a:pt x="323" y="2368"/>
                  </a:lnTo>
                  <a:lnTo>
                    <a:pt x="331" y="2368"/>
                  </a:lnTo>
                  <a:lnTo>
                    <a:pt x="343" y="2368"/>
                  </a:lnTo>
                  <a:lnTo>
                    <a:pt x="346" y="2360"/>
                  </a:lnTo>
                  <a:lnTo>
                    <a:pt x="355" y="2354"/>
                  </a:lnTo>
                  <a:lnTo>
                    <a:pt x="363" y="2351"/>
                  </a:lnTo>
                  <a:lnTo>
                    <a:pt x="372" y="2351"/>
                  </a:lnTo>
                  <a:lnTo>
                    <a:pt x="381" y="2348"/>
                  </a:lnTo>
                  <a:lnTo>
                    <a:pt x="390" y="2348"/>
                  </a:lnTo>
                  <a:lnTo>
                    <a:pt x="398" y="2348"/>
                  </a:lnTo>
                  <a:lnTo>
                    <a:pt x="407" y="2348"/>
                  </a:lnTo>
                  <a:lnTo>
                    <a:pt x="419" y="2354"/>
                  </a:lnTo>
                  <a:lnTo>
                    <a:pt x="427" y="2360"/>
                  </a:lnTo>
                  <a:lnTo>
                    <a:pt x="436" y="2360"/>
                  </a:lnTo>
                  <a:lnTo>
                    <a:pt x="445" y="2360"/>
                  </a:lnTo>
                  <a:lnTo>
                    <a:pt x="454" y="2363"/>
                  </a:lnTo>
                  <a:lnTo>
                    <a:pt x="462" y="2363"/>
                  </a:lnTo>
                  <a:lnTo>
                    <a:pt x="471" y="2363"/>
                  </a:lnTo>
                  <a:lnTo>
                    <a:pt x="480" y="2363"/>
                  </a:lnTo>
                  <a:lnTo>
                    <a:pt x="489" y="2360"/>
                  </a:lnTo>
                  <a:lnTo>
                    <a:pt x="494" y="2351"/>
                  </a:lnTo>
                  <a:lnTo>
                    <a:pt x="494" y="2342"/>
                  </a:lnTo>
                  <a:lnTo>
                    <a:pt x="494" y="2334"/>
                  </a:lnTo>
                  <a:lnTo>
                    <a:pt x="497" y="2325"/>
                  </a:lnTo>
                  <a:lnTo>
                    <a:pt x="506" y="2322"/>
                  </a:lnTo>
                  <a:lnTo>
                    <a:pt x="515" y="2322"/>
                  </a:lnTo>
                  <a:lnTo>
                    <a:pt x="524" y="2322"/>
                  </a:lnTo>
                  <a:lnTo>
                    <a:pt x="532" y="2322"/>
                  </a:lnTo>
                  <a:lnTo>
                    <a:pt x="541" y="2322"/>
                  </a:lnTo>
                  <a:lnTo>
                    <a:pt x="550" y="2328"/>
                  </a:lnTo>
                  <a:lnTo>
                    <a:pt x="556" y="2337"/>
                  </a:lnTo>
                  <a:lnTo>
                    <a:pt x="564" y="2342"/>
                  </a:lnTo>
                  <a:lnTo>
                    <a:pt x="570" y="2351"/>
                  </a:lnTo>
                  <a:lnTo>
                    <a:pt x="576" y="2360"/>
                  </a:lnTo>
                  <a:lnTo>
                    <a:pt x="585" y="2368"/>
                  </a:lnTo>
                  <a:lnTo>
                    <a:pt x="590" y="2377"/>
                  </a:lnTo>
                  <a:lnTo>
                    <a:pt x="599" y="2383"/>
                  </a:lnTo>
                  <a:lnTo>
                    <a:pt x="611" y="2386"/>
                  </a:lnTo>
                  <a:lnTo>
                    <a:pt x="620" y="2386"/>
                  </a:lnTo>
                  <a:lnTo>
                    <a:pt x="628" y="2386"/>
                  </a:lnTo>
                  <a:lnTo>
                    <a:pt x="637" y="2386"/>
                  </a:lnTo>
                  <a:lnTo>
                    <a:pt x="646" y="2386"/>
                  </a:lnTo>
                  <a:lnTo>
                    <a:pt x="655" y="2386"/>
                  </a:lnTo>
                  <a:lnTo>
                    <a:pt x="663" y="2389"/>
                  </a:lnTo>
                  <a:lnTo>
                    <a:pt x="672" y="2389"/>
                  </a:lnTo>
                  <a:lnTo>
                    <a:pt x="681" y="2389"/>
                  </a:lnTo>
                  <a:lnTo>
                    <a:pt x="689" y="2389"/>
                  </a:lnTo>
                  <a:lnTo>
                    <a:pt x="698" y="2394"/>
                  </a:lnTo>
                  <a:lnTo>
                    <a:pt x="707" y="2403"/>
                  </a:lnTo>
                  <a:lnTo>
                    <a:pt x="713" y="2412"/>
                  </a:lnTo>
                  <a:lnTo>
                    <a:pt x="716" y="2420"/>
                  </a:lnTo>
                  <a:lnTo>
                    <a:pt x="716" y="2429"/>
                  </a:lnTo>
                  <a:lnTo>
                    <a:pt x="716" y="2437"/>
                  </a:lnTo>
                  <a:lnTo>
                    <a:pt x="719" y="2446"/>
                  </a:lnTo>
                  <a:lnTo>
                    <a:pt x="719" y="2455"/>
                  </a:lnTo>
                  <a:lnTo>
                    <a:pt x="721" y="2463"/>
                  </a:lnTo>
                  <a:lnTo>
                    <a:pt x="721" y="2472"/>
                  </a:lnTo>
                  <a:lnTo>
                    <a:pt x="721" y="2481"/>
                  </a:lnTo>
                  <a:lnTo>
                    <a:pt x="721" y="2489"/>
                  </a:lnTo>
                  <a:lnTo>
                    <a:pt x="713" y="2492"/>
                  </a:lnTo>
                  <a:lnTo>
                    <a:pt x="704" y="2492"/>
                  </a:lnTo>
                  <a:lnTo>
                    <a:pt x="698" y="2501"/>
                  </a:lnTo>
                  <a:lnTo>
                    <a:pt x="707" y="2507"/>
                  </a:lnTo>
                  <a:lnTo>
                    <a:pt x="716" y="2512"/>
                  </a:lnTo>
                  <a:lnTo>
                    <a:pt x="721" y="2521"/>
                  </a:lnTo>
                  <a:lnTo>
                    <a:pt x="721" y="2530"/>
                  </a:lnTo>
                  <a:lnTo>
                    <a:pt x="719" y="2538"/>
                  </a:lnTo>
                  <a:lnTo>
                    <a:pt x="719" y="2547"/>
                  </a:lnTo>
                  <a:lnTo>
                    <a:pt x="719" y="2556"/>
                  </a:lnTo>
                  <a:lnTo>
                    <a:pt x="719" y="2564"/>
                  </a:lnTo>
                  <a:lnTo>
                    <a:pt x="721" y="2576"/>
                  </a:lnTo>
                  <a:lnTo>
                    <a:pt x="721" y="2584"/>
                  </a:lnTo>
                  <a:lnTo>
                    <a:pt x="727" y="2593"/>
                  </a:lnTo>
                  <a:lnTo>
                    <a:pt x="736" y="2602"/>
                  </a:lnTo>
                  <a:lnTo>
                    <a:pt x="742" y="2613"/>
                  </a:lnTo>
                  <a:lnTo>
                    <a:pt x="745" y="2625"/>
                  </a:lnTo>
                  <a:lnTo>
                    <a:pt x="756" y="2633"/>
                  </a:lnTo>
                  <a:lnTo>
                    <a:pt x="765" y="2642"/>
                  </a:lnTo>
                  <a:lnTo>
                    <a:pt x="768" y="2654"/>
                  </a:lnTo>
                  <a:lnTo>
                    <a:pt x="768" y="2662"/>
                  </a:lnTo>
                  <a:lnTo>
                    <a:pt x="768" y="2671"/>
                  </a:lnTo>
                  <a:lnTo>
                    <a:pt x="771" y="2682"/>
                  </a:lnTo>
                  <a:lnTo>
                    <a:pt x="780" y="2688"/>
                  </a:lnTo>
                  <a:lnTo>
                    <a:pt x="783" y="2697"/>
                  </a:lnTo>
                  <a:lnTo>
                    <a:pt x="786" y="2705"/>
                  </a:lnTo>
                  <a:lnTo>
                    <a:pt x="788" y="2714"/>
                  </a:lnTo>
                  <a:lnTo>
                    <a:pt x="788" y="2723"/>
                  </a:lnTo>
                  <a:lnTo>
                    <a:pt x="788" y="2731"/>
                  </a:lnTo>
                  <a:lnTo>
                    <a:pt x="788" y="2740"/>
                  </a:lnTo>
                  <a:lnTo>
                    <a:pt x="788" y="2749"/>
                  </a:lnTo>
                  <a:lnTo>
                    <a:pt x="788" y="2757"/>
                  </a:lnTo>
                  <a:lnTo>
                    <a:pt x="788" y="2769"/>
                  </a:lnTo>
                  <a:lnTo>
                    <a:pt x="783" y="2778"/>
                  </a:lnTo>
                  <a:lnTo>
                    <a:pt x="774" y="2778"/>
                  </a:lnTo>
                  <a:lnTo>
                    <a:pt x="765" y="2783"/>
                  </a:lnTo>
                  <a:lnTo>
                    <a:pt x="759" y="2792"/>
                  </a:lnTo>
                  <a:lnTo>
                    <a:pt x="751" y="2795"/>
                  </a:lnTo>
                  <a:lnTo>
                    <a:pt x="742" y="2789"/>
                  </a:lnTo>
                  <a:lnTo>
                    <a:pt x="730" y="2786"/>
                  </a:lnTo>
                  <a:lnTo>
                    <a:pt x="721" y="2780"/>
                  </a:lnTo>
                  <a:lnTo>
                    <a:pt x="713" y="2778"/>
                  </a:lnTo>
                  <a:lnTo>
                    <a:pt x="710" y="2766"/>
                  </a:lnTo>
                  <a:lnTo>
                    <a:pt x="707" y="2757"/>
                  </a:lnTo>
                  <a:lnTo>
                    <a:pt x="698" y="2754"/>
                  </a:lnTo>
                  <a:lnTo>
                    <a:pt x="687" y="2754"/>
                  </a:lnTo>
                  <a:lnTo>
                    <a:pt x="678" y="2746"/>
                  </a:lnTo>
                  <a:lnTo>
                    <a:pt x="672" y="2737"/>
                  </a:lnTo>
                  <a:lnTo>
                    <a:pt x="660" y="2731"/>
                  </a:lnTo>
                  <a:lnTo>
                    <a:pt x="652" y="2729"/>
                  </a:lnTo>
                  <a:lnTo>
                    <a:pt x="643" y="2729"/>
                  </a:lnTo>
                  <a:lnTo>
                    <a:pt x="634" y="2729"/>
                  </a:lnTo>
                  <a:lnTo>
                    <a:pt x="628" y="2737"/>
                  </a:lnTo>
                  <a:lnTo>
                    <a:pt x="628" y="2746"/>
                  </a:lnTo>
                  <a:lnTo>
                    <a:pt x="631" y="2754"/>
                  </a:lnTo>
                  <a:lnTo>
                    <a:pt x="640" y="2763"/>
                  </a:lnTo>
                  <a:lnTo>
                    <a:pt x="652" y="2769"/>
                  </a:lnTo>
                  <a:lnTo>
                    <a:pt x="660" y="2775"/>
                  </a:lnTo>
                  <a:lnTo>
                    <a:pt x="666" y="2783"/>
                  </a:lnTo>
                  <a:lnTo>
                    <a:pt x="669" y="2792"/>
                  </a:lnTo>
                  <a:lnTo>
                    <a:pt x="672" y="2801"/>
                  </a:lnTo>
                  <a:lnTo>
                    <a:pt x="675" y="2809"/>
                  </a:lnTo>
                  <a:lnTo>
                    <a:pt x="678" y="2818"/>
                  </a:lnTo>
                  <a:lnTo>
                    <a:pt x="687" y="2827"/>
                  </a:lnTo>
                  <a:lnTo>
                    <a:pt x="695" y="2829"/>
                  </a:lnTo>
                  <a:lnTo>
                    <a:pt x="707" y="2829"/>
                  </a:lnTo>
                  <a:lnTo>
                    <a:pt x="713" y="2818"/>
                  </a:lnTo>
                  <a:lnTo>
                    <a:pt x="713" y="2809"/>
                  </a:lnTo>
                  <a:lnTo>
                    <a:pt x="716" y="2801"/>
                  </a:lnTo>
                  <a:lnTo>
                    <a:pt x="724" y="2795"/>
                  </a:lnTo>
                  <a:lnTo>
                    <a:pt x="733" y="2795"/>
                  </a:lnTo>
                  <a:lnTo>
                    <a:pt x="742" y="2792"/>
                  </a:lnTo>
                  <a:lnTo>
                    <a:pt x="751" y="2801"/>
                  </a:lnTo>
                  <a:lnTo>
                    <a:pt x="762" y="2803"/>
                  </a:lnTo>
                  <a:lnTo>
                    <a:pt x="771" y="2803"/>
                  </a:lnTo>
                  <a:lnTo>
                    <a:pt x="780" y="2803"/>
                  </a:lnTo>
                  <a:lnTo>
                    <a:pt x="788" y="2803"/>
                  </a:lnTo>
                  <a:lnTo>
                    <a:pt x="788" y="2795"/>
                  </a:lnTo>
                  <a:lnTo>
                    <a:pt x="788" y="2786"/>
                  </a:lnTo>
                  <a:lnTo>
                    <a:pt x="797" y="2780"/>
                  </a:lnTo>
                  <a:lnTo>
                    <a:pt x="806" y="2780"/>
                  </a:lnTo>
                  <a:lnTo>
                    <a:pt x="815" y="2772"/>
                  </a:lnTo>
                  <a:lnTo>
                    <a:pt x="815" y="2763"/>
                  </a:lnTo>
                  <a:lnTo>
                    <a:pt x="815" y="2754"/>
                  </a:lnTo>
                  <a:lnTo>
                    <a:pt x="815" y="2746"/>
                  </a:lnTo>
                  <a:lnTo>
                    <a:pt x="815" y="2737"/>
                  </a:lnTo>
                  <a:lnTo>
                    <a:pt x="818" y="2729"/>
                  </a:lnTo>
                  <a:lnTo>
                    <a:pt x="826" y="2726"/>
                  </a:lnTo>
                  <a:lnTo>
                    <a:pt x="835" y="2720"/>
                  </a:lnTo>
                  <a:lnTo>
                    <a:pt x="844" y="2717"/>
                  </a:lnTo>
                  <a:lnTo>
                    <a:pt x="852" y="2720"/>
                  </a:lnTo>
                  <a:lnTo>
                    <a:pt x="855" y="2729"/>
                  </a:lnTo>
                  <a:lnTo>
                    <a:pt x="858" y="2740"/>
                  </a:lnTo>
                  <a:lnTo>
                    <a:pt x="858" y="2749"/>
                  </a:lnTo>
                  <a:lnTo>
                    <a:pt x="861" y="2757"/>
                  </a:lnTo>
                  <a:lnTo>
                    <a:pt x="870" y="2763"/>
                  </a:lnTo>
                  <a:lnTo>
                    <a:pt x="882" y="2766"/>
                  </a:lnTo>
                  <a:lnTo>
                    <a:pt x="887" y="2757"/>
                  </a:lnTo>
                  <a:lnTo>
                    <a:pt x="887" y="2749"/>
                  </a:lnTo>
                  <a:lnTo>
                    <a:pt x="887" y="2740"/>
                  </a:lnTo>
                  <a:lnTo>
                    <a:pt x="887" y="2731"/>
                  </a:lnTo>
                  <a:lnTo>
                    <a:pt x="885" y="2723"/>
                  </a:lnTo>
                  <a:lnTo>
                    <a:pt x="876" y="2714"/>
                  </a:lnTo>
                  <a:lnTo>
                    <a:pt x="870" y="2705"/>
                  </a:lnTo>
                  <a:lnTo>
                    <a:pt x="864" y="2697"/>
                  </a:lnTo>
                  <a:lnTo>
                    <a:pt x="855" y="2691"/>
                  </a:lnTo>
                  <a:lnTo>
                    <a:pt x="847" y="2682"/>
                  </a:lnTo>
                  <a:lnTo>
                    <a:pt x="838" y="2674"/>
                  </a:lnTo>
                  <a:lnTo>
                    <a:pt x="835" y="2665"/>
                  </a:lnTo>
                  <a:lnTo>
                    <a:pt x="832" y="2657"/>
                  </a:lnTo>
                  <a:lnTo>
                    <a:pt x="832" y="2648"/>
                  </a:lnTo>
                  <a:lnTo>
                    <a:pt x="841" y="2642"/>
                  </a:lnTo>
                  <a:lnTo>
                    <a:pt x="850" y="2642"/>
                  </a:lnTo>
                  <a:lnTo>
                    <a:pt x="852" y="2633"/>
                  </a:lnTo>
                  <a:lnTo>
                    <a:pt x="844" y="2628"/>
                  </a:lnTo>
                  <a:lnTo>
                    <a:pt x="835" y="2622"/>
                  </a:lnTo>
                  <a:lnTo>
                    <a:pt x="826" y="2619"/>
                  </a:lnTo>
                  <a:lnTo>
                    <a:pt x="820" y="2610"/>
                  </a:lnTo>
                  <a:lnTo>
                    <a:pt x="818" y="2602"/>
                  </a:lnTo>
                  <a:lnTo>
                    <a:pt x="812" y="2593"/>
                  </a:lnTo>
                  <a:lnTo>
                    <a:pt x="812" y="2584"/>
                  </a:lnTo>
                  <a:lnTo>
                    <a:pt x="809" y="2576"/>
                  </a:lnTo>
                  <a:lnTo>
                    <a:pt x="806" y="2564"/>
                  </a:lnTo>
                  <a:lnTo>
                    <a:pt x="806" y="2556"/>
                  </a:lnTo>
                  <a:lnTo>
                    <a:pt x="806" y="2547"/>
                  </a:lnTo>
                  <a:lnTo>
                    <a:pt x="806" y="2538"/>
                  </a:lnTo>
                  <a:lnTo>
                    <a:pt x="806" y="2530"/>
                  </a:lnTo>
                  <a:lnTo>
                    <a:pt x="806" y="2521"/>
                  </a:lnTo>
                  <a:lnTo>
                    <a:pt x="806" y="2512"/>
                  </a:lnTo>
                  <a:lnTo>
                    <a:pt x="806" y="2504"/>
                  </a:lnTo>
                  <a:lnTo>
                    <a:pt x="803" y="2495"/>
                  </a:lnTo>
                  <a:lnTo>
                    <a:pt x="800" y="2486"/>
                  </a:lnTo>
                  <a:lnTo>
                    <a:pt x="800" y="2478"/>
                  </a:lnTo>
                  <a:lnTo>
                    <a:pt x="800" y="2469"/>
                  </a:lnTo>
                  <a:lnTo>
                    <a:pt x="800" y="2461"/>
                  </a:lnTo>
                  <a:lnTo>
                    <a:pt x="800" y="2452"/>
                  </a:lnTo>
                  <a:lnTo>
                    <a:pt x="809" y="2452"/>
                  </a:lnTo>
                  <a:lnTo>
                    <a:pt x="818" y="2452"/>
                  </a:lnTo>
                  <a:lnTo>
                    <a:pt x="818" y="2443"/>
                  </a:lnTo>
                  <a:lnTo>
                    <a:pt x="820" y="2435"/>
                  </a:lnTo>
                  <a:lnTo>
                    <a:pt x="826" y="2426"/>
                  </a:lnTo>
                  <a:lnTo>
                    <a:pt x="835" y="2426"/>
                  </a:lnTo>
                  <a:lnTo>
                    <a:pt x="838" y="2435"/>
                  </a:lnTo>
                  <a:lnTo>
                    <a:pt x="847" y="2440"/>
                  </a:lnTo>
                  <a:lnTo>
                    <a:pt x="855" y="2435"/>
                  </a:lnTo>
                  <a:lnTo>
                    <a:pt x="864" y="2432"/>
                  </a:lnTo>
                  <a:lnTo>
                    <a:pt x="864" y="2440"/>
                  </a:lnTo>
                  <a:lnTo>
                    <a:pt x="864" y="2449"/>
                  </a:lnTo>
                  <a:lnTo>
                    <a:pt x="858" y="2458"/>
                  </a:lnTo>
                  <a:lnTo>
                    <a:pt x="850" y="2466"/>
                  </a:lnTo>
                  <a:lnTo>
                    <a:pt x="847" y="2475"/>
                  </a:lnTo>
                  <a:lnTo>
                    <a:pt x="855" y="2478"/>
                  </a:lnTo>
                  <a:lnTo>
                    <a:pt x="864" y="2478"/>
                  </a:lnTo>
                  <a:lnTo>
                    <a:pt x="864" y="2486"/>
                  </a:lnTo>
                  <a:lnTo>
                    <a:pt x="864" y="2495"/>
                  </a:lnTo>
                  <a:lnTo>
                    <a:pt x="873" y="2498"/>
                  </a:lnTo>
                  <a:lnTo>
                    <a:pt x="882" y="2498"/>
                  </a:lnTo>
                  <a:lnTo>
                    <a:pt x="882" y="2507"/>
                  </a:lnTo>
                  <a:lnTo>
                    <a:pt x="882" y="2515"/>
                  </a:lnTo>
                  <a:lnTo>
                    <a:pt x="879" y="2524"/>
                  </a:lnTo>
                  <a:lnTo>
                    <a:pt x="870" y="2527"/>
                  </a:lnTo>
                  <a:lnTo>
                    <a:pt x="864" y="2535"/>
                  </a:lnTo>
                  <a:lnTo>
                    <a:pt x="867" y="2544"/>
                  </a:lnTo>
                  <a:lnTo>
                    <a:pt x="870" y="2553"/>
                  </a:lnTo>
                  <a:lnTo>
                    <a:pt x="876" y="2561"/>
                  </a:lnTo>
                  <a:lnTo>
                    <a:pt x="882" y="2573"/>
                  </a:lnTo>
                  <a:lnTo>
                    <a:pt x="890" y="2584"/>
                  </a:lnTo>
                  <a:lnTo>
                    <a:pt x="893" y="2593"/>
                  </a:lnTo>
                  <a:lnTo>
                    <a:pt x="896" y="2602"/>
                  </a:lnTo>
                  <a:lnTo>
                    <a:pt x="899" y="2613"/>
                  </a:lnTo>
                  <a:lnTo>
                    <a:pt x="899" y="2622"/>
                  </a:lnTo>
                  <a:lnTo>
                    <a:pt x="902" y="2631"/>
                  </a:lnTo>
                  <a:lnTo>
                    <a:pt x="905" y="2639"/>
                  </a:lnTo>
                  <a:lnTo>
                    <a:pt x="911" y="2648"/>
                  </a:lnTo>
                  <a:lnTo>
                    <a:pt x="919" y="2657"/>
                  </a:lnTo>
                  <a:lnTo>
                    <a:pt x="928" y="2662"/>
                  </a:lnTo>
                  <a:lnTo>
                    <a:pt x="937" y="2671"/>
                  </a:lnTo>
                  <a:lnTo>
                    <a:pt x="943" y="2680"/>
                  </a:lnTo>
                  <a:lnTo>
                    <a:pt x="946" y="2688"/>
                  </a:lnTo>
                  <a:lnTo>
                    <a:pt x="949" y="2697"/>
                  </a:lnTo>
                  <a:lnTo>
                    <a:pt x="949" y="2705"/>
                  </a:lnTo>
                  <a:lnTo>
                    <a:pt x="949" y="2714"/>
                  </a:lnTo>
                  <a:lnTo>
                    <a:pt x="949" y="2723"/>
                  </a:lnTo>
                  <a:lnTo>
                    <a:pt x="943" y="2731"/>
                  </a:lnTo>
                  <a:lnTo>
                    <a:pt x="934" y="2734"/>
                  </a:lnTo>
                  <a:lnTo>
                    <a:pt x="928" y="2743"/>
                  </a:lnTo>
                  <a:lnTo>
                    <a:pt x="925" y="2752"/>
                  </a:lnTo>
                  <a:lnTo>
                    <a:pt x="925" y="2760"/>
                  </a:lnTo>
                  <a:lnTo>
                    <a:pt x="922" y="2769"/>
                  </a:lnTo>
                  <a:lnTo>
                    <a:pt x="922" y="2778"/>
                  </a:lnTo>
                  <a:lnTo>
                    <a:pt x="919" y="2786"/>
                  </a:lnTo>
                  <a:lnTo>
                    <a:pt x="911" y="2795"/>
                  </a:lnTo>
                  <a:lnTo>
                    <a:pt x="908" y="2803"/>
                  </a:lnTo>
                  <a:lnTo>
                    <a:pt x="908" y="2812"/>
                  </a:lnTo>
                  <a:lnTo>
                    <a:pt x="911" y="2821"/>
                  </a:lnTo>
                  <a:lnTo>
                    <a:pt x="922" y="2827"/>
                  </a:lnTo>
                  <a:lnTo>
                    <a:pt x="934" y="2832"/>
                  </a:lnTo>
                  <a:lnTo>
                    <a:pt x="940" y="2841"/>
                  </a:lnTo>
                  <a:lnTo>
                    <a:pt x="922" y="2832"/>
                  </a:lnTo>
                  <a:lnTo>
                    <a:pt x="946" y="2824"/>
                  </a:lnTo>
                  <a:lnTo>
                    <a:pt x="946" y="2832"/>
                  </a:lnTo>
                  <a:lnTo>
                    <a:pt x="946" y="2841"/>
                  </a:lnTo>
                  <a:lnTo>
                    <a:pt x="946" y="2850"/>
                  </a:lnTo>
                  <a:lnTo>
                    <a:pt x="940" y="2858"/>
                  </a:lnTo>
                  <a:lnTo>
                    <a:pt x="931" y="2861"/>
                  </a:lnTo>
                  <a:lnTo>
                    <a:pt x="922" y="2867"/>
                  </a:lnTo>
                  <a:lnTo>
                    <a:pt x="917" y="2876"/>
                  </a:lnTo>
                  <a:lnTo>
                    <a:pt x="919" y="2884"/>
                  </a:lnTo>
                  <a:lnTo>
                    <a:pt x="922" y="2893"/>
                  </a:lnTo>
                  <a:lnTo>
                    <a:pt x="917" y="2901"/>
                  </a:lnTo>
                  <a:lnTo>
                    <a:pt x="925" y="2904"/>
                  </a:lnTo>
                  <a:lnTo>
                    <a:pt x="934" y="2904"/>
                  </a:lnTo>
                  <a:lnTo>
                    <a:pt x="943" y="2904"/>
                  </a:lnTo>
                  <a:lnTo>
                    <a:pt x="951" y="2899"/>
                  </a:lnTo>
                  <a:lnTo>
                    <a:pt x="960" y="2893"/>
                  </a:lnTo>
                  <a:lnTo>
                    <a:pt x="969" y="2893"/>
                  </a:lnTo>
                  <a:lnTo>
                    <a:pt x="978" y="2899"/>
                  </a:lnTo>
                  <a:lnTo>
                    <a:pt x="983" y="2907"/>
                  </a:lnTo>
                  <a:lnTo>
                    <a:pt x="975" y="2904"/>
                  </a:lnTo>
                  <a:lnTo>
                    <a:pt x="966" y="2899"/>
                  </a:lnTo>
                  <a:lnTo>
                    <a:pt x="954" y="2896"/>
                  </a:lnTo>
                  <a:lnTo>
                    <a:pt x="940" y="2893"/>
                  </a:lnTo>
                  <a:lnTo>
                    <a:pt x="943" y="2910"/>
                  </a:lnTo>
                  <a:lnTo>
                    <a:pt x="951" y="2930"/>
                  </a:lnTo>
                  <a:lnTo>
                    <a:pt x="943" y="2933"/>
                  </a:lnTo>
                  <a:lnTo>
                    <a:pt x="940" y="2942"/>
                  </a:lnTo>
                  <a:lnTo>
                    <a:pt x="937" y="2950"/>
                  </a:lnTo>
                  <a:lnTo>
                    <a:pt x="946" y="2956"/>
                  </a:lnTo>
                  <a:lnTo>
                    <a:pt x="949" y="2965"/>
                  </a:lnTo>
                  <a:lnTo>
                    <a:pt x="951" y="2974"/>
                  </a:lnTo>
                  <a:lnTo>
                    <a:pt x="951" y="2982"/>
                  </a:lnTo>
                  <a:lnTo>
                    <a:pt x="951" y="2991"/>
                  </a:lnTo>
                  <a:lnTo>
                    <a:pt x="954" y="2999"/>
                  </a:lnTo>
                  <a:lnTo>
                    <a:pt x="957" y="3011"/>
                  </a:lnTo>
                  <a:lnTo>
                    <a:pt x="963" y="3002"/>
                  </a:lnTo>
                  <a:lnTo>
                    <a:pt x="963" y="2994"/>
                  </a:lnTo>
                  <a:lnTo>
                    <a:pt x="963" y="2985"/>
                  </a:lnTo>
                  <a:lnTo>
                    <a:pt x="963" y="2976"/>
                  </a:lnTo>
                  <a:lnTo>
                    <a:pt x="963" y="2968"/>
                  </a:lnTo>
                  <a:lnTo>
                    <a:pt x="969" y="2959"/>
                  </a:lnTo>
                  <a:lnTo>
                    <a:pt x="978" y="2953"/>
                  </a:lnTo>
                  <a:lnTo>
                    <a:pt x="983" y="2945"/>
                  </a:lnTo>
                  <a:lnTo>
                    <a:pt x="992" y="2942"/>
                  </a:lnTo>
                  <a:lnTo>
                    <a:pt x="1004" y="2945"/>
                  </a:lnTo>
                  <a:lnTo>
                    <a:pt x="1016" y="2945"/>
                  </a:lnTo>
                  <a:lnTo>
                    <a:pt x="1024" y="2945"/>
                  </a:lnTo>
                  <a:lnTo>
                    <a:pt x="1027" y="2936"/>
                  </a:lnTo>
                  <a:lnTo>
                    <a:pt x="1036" y="2945"/>
                  </a:lnTo>
                  <a:lnTo>
                    <a:pt x="1042" y="2953"/>
                  </a:lnTo>
                  <a:lnTo>
                    <a:pt x="1050" y="2962"/>
                  </a:lnTo>
                  <a:lnTo>
                    <a:pt x="1059" y="2971"/>
                  </a:lnTo>
                  <a:lnTo>
                    <a:pt x="1045" y="2959"/>
                  </a:lnTo>
                  <a:lnTo>
                    <a:pt x="1042" y="2950"/>
                  </a:lnTo>
                  <a:lnTo>
                    <a:pt x="1042" y="2942"/>
                  </a:lnTo>
                  <a:lnTo>
                    <a:pt x="1042" y="2933"/>
                  </a:lnTo>
                  <a:lnTo>
                    <a:pt x="1042" y="2925"/>
                  </a:lnTo>
                  <a:lnTo>
                    <a:pt x="1033" y="2916"/>
                  </a:lnTo>
                  <a:lnTo>
                    <a:pt x="1021" y="2907"/>
                  </a:lnTo>
                  <a:lnTo>
                    <a:pt x="1013" y="2899"/>
                  </a:lnTo>
                  <a:lnTo>
                    <a:pt x="1007" y="2890"/>
                  </a:lnTo>
                  <a:lnTo>
                    <a:pt x="1018" y="2893"/>
                  </a:lnTo>
                  <a:lnTo>
                    <a:pt x="1027" y="2896"/>
                  </a:lnTo>
                  <a:lnTo>
                    <a:pt x="1036" y="2901"/>
                  </a:lnTo>
                  <a:lnTo>
                    <a:pt x="1045" y="2907"/>
                  </a:lnTo>
                  <a:lnTo>
                    <a:pt x="1050" y="2916"/>
                  </a:lnTo>
                  <a:lnTo>
                    <a:pt x="1042" y="2913"/>
                  </a:lnTo>
                  <a:lnTo>
                    <a:pt x="1033" y="2907"/>
                  </a:lnTo>
                  <a:lnTo>
                    <a:pt x="1021" y="2899"/>
                  </a:lnTo>
                  <a:lnTo>
                    <a:pt x="1010" y="2896"/>
                  </a:lnTo>
                  <a:lnTo>
                    <a:pt x="1004" y="2887"/>
                  </a:lnTo>
                  <a:lnTo>
                    <a:pt x="1013" y="2881"/>
                  </a:lnTo>
                  <a:lnTo>
                    <a:pt x="1018" y="2873"/>
                  </a:lnTo>
                  <a:lnTo>
                    <a:pt x="1018" y="2864"/>
                  </a:lnTo>
                  <a:lnTo>
                    <a:pt x="1021" y="2855"/>
                  </a:lnTo>
                  <a:lnTo>
                    <a:pt x="1021" y="2847"/>
                  </a:lnTo>
                  <a:lnTo>
                    <a:pt x="1021" y="2838"/>
                  </a:lnTo>
                  <a:lnTo>
                    <a:pt x="1021" y="2829"/>
                  </a:lnTo>
                  <a:lnTo>
                    <a:pt x="1021" y="2821"/>
                  </a:lnTo>
                  <a:lnTo>
                    <a:pt x="1024" y="2812"/>
                  </a:lnTo>
                  <a:lnTo>
                    <a:pt x="1033" y="2812"/>
                  </a:lnTo>
                  <a:lnTo>
                    <a:pt x="1042" y="2809"/>
                  </a:lnTo>
                  <a:lnTo>
                    <a:pt x="1042" y="2818"/>
                  </a:lnTo>
                  <a:lnTo>
                    <a:pt x="1042" y="2827"/>
                  </a:lnTo>
                  <a:lnTo>
                    <a:pt x="1042" y="2835"/>
                  </a:lnTo>
                  <a:lnTo>
                    <a:pt x="1042" y="2844"/>
                  </a:lnTo>
                  <a:lnTo>
                    <a:pt x="1050" y="2850"/>
                  </a:lnTo>
                  <a:lnTo>
                    <a:pt x="1056" y="2841"/>
                  </a:lnTo>
                  <a:lnTo>
                    <a:pt x="1065" y="2841"/>
                  </a:lnTo>
                  <a:lnTo>
                    <a:pt x="1068" y="2850"/>
                  </a:lnTo>
                  <a:lnTo>
                    <a:pt x="1071" y="2841"/>
                  </a:lnTo>
                  <a:lnTo>
                    <a:pt x="1071" y="2832"/>
                  </a:lnTo>
                  <a:lnTo>
                    <a:pt x="1080" y="2827"/>
                  </a:lnTo>
                  <a:lnTo>
                    <a:pt x="1088" y="2827"/>
                  </a:lnTo>
                  <a:lnTo>
                    <a:pt x="1100" y="2835"/>
                  </a:lnTo>
                  <a:lnTo>
                    <a:pt x="1109" y="2835"/>
                  </a:lnTo>
                  <a:lnTo>
                    <a:pt x="1120" y="2835"/>
                  </a:lnTo>
                  <a:lnTo>
                    <a:pt x="1129" y="2835"/>
                  </a:lnTo>
                  <a:lnTo>
                    <a:pt x="1138" y="2838"/>
                  </a:lnTo>
                  <a:lnTo>
                    <a:pt x="1147" y="2841"/>
                  </a:lnTo>
                  <a:lnTo>
                    <a:pt x="1155" y="2844"/>
                  </a:lnTo>
                  <a:lnTo>
                    <a:pt x="1149" y="2852"/>
                  </a:lnTo>
                  <a:lnTo>
                    <a:pt x="1149" y="2861"/>
                  </a:lnTo>
                  <a:lnTo>
                    <a:pt x="1149" y="2870"/>
                  </a:lnTo>
                  <a:lnTo>
                    <a:pt x="1158" y="2878"/>
                  </a:lnTo>
                  <a:lnTo>
                    <a:pt x="1170" y="2878"/>
                  </a:lnTo>
                  <a:lnTo>
                    <a:pt x="1179" y="2878"/>
                  </a:lnTo>
                  <a:lnTo>
                    <a:pt x="1187" y="2878"/>
                  </a:lnTo>
                  <a:lnTo>
                    <a:pt x="1196" y="2878"/>
                  </a:lnTo>
                  <a:lnTo>
                    <a:pt x="1205" y="2876"/>
                  </a:lnTo>
                  <a:lnTo>
                    <a:pt x="1216" y="2873"/>
                  </a:lnTo>
                  <a:lnTo>
                    <a:pt x="1225" y="2873"/>
                  </a:lnTo>
                  <a:lnTo>
                    <a:pt x="1234" y="2873"/>
                  </a:lnTo>
                  <a:lnTo>
                    <a:pt x="1243" y="2873"/>
                  </a:lnTo>
                  <a:lnTo>
                    <a:pt x="1251" y="2873"/>
                  </a:lnTo>
                  <a:lnTo>
                    <a:pt x="1254" y="2884"/>
                  </a:lnTo>
                  <a:lnTo>
                    <a:pt x="1257" y="2893"/>
                  </a:lnTo>
                  <a:lnTo>
                    <a:pt x="1257" y="2901"/>
                  </a:lnTo>
                  <a:lnTo>
                    <a:pt x="1272" y="2907"/>
                  </a:lnTo>
                  <a:lnTo>
                    <a:pt x="1263" y="2913"/>
                  </a:lnTo>
                  <a:lnTo>
                    <a:pt x="1254" y="2913"/>
                  </a:lnTo>
                  <a:lnTo>
                    <a:pt x="1245" y="2913"/>
                  </a:lnTo>
                  <a:lnTo>
                    <a:pt x="1248" y="2878"/>
                  </a:lnTo>
                  <a:lnTo>
                    <a:pt x="1245" y="2896"/>
                  </a:lnTo>
                  <a:lnTo>
                    <a:pt x="1237" y="2896"/>
                  </a:lnTo>
                  <a:lnTo>
                    <a:pt x="1228" y="2893"/>
                  </a:lnTo>
                  <a:lnTo>
                    <a:pt x="1219" y="2896"/>
                  </a:lnTo>
                  <a:lnTo>
                    <a:pt x="1211" y="2896"/>
                  </a:lnTo>
                  <a:lnTo>
                    <a:pt x="1202" y="2896"/>
                  </a:lnTo>
                  <a:lnTo>
                    <a:pt x="1193" y="2893"/>
                  </a:lnTo>
                  <a:lnTo>
                    <a:pt x="1184" y="2890"/>
                  </a:lnTo>
                  <a:lnTo>
                    <a:pt x="1176" y="2890"/>
                  </a:lnTo>
                  <a:lnTo>
                    <a:pt x="1167" y="2887"/>
                  </a:lnTo>
                  <a:lnTo>
                    <a:pt x="1155" y="2887"/>
                  </a:lnTo>
                  <a:lnTo>
                    <a:pt x="1147" y="2887"/>
                  </a:lnTo>
                  <a:lnTo>
                    <a:pt x="1135" y="2887"/>
                  </a:lnTo>
                  <a:lnTo>
                    <a:pt x="1132" y="2896"/>
                  </a:lnTo>
                  <a:lnTo>
                    <a:pt x="1132" y="2904"/>
                  </a:lnTo>
                  <a:lnTo>
                    <a:pt x="1132" y="2913"/>
                  </a:lnTo>
                  <a:lnTo>
                    <a:pt x="1144" y="2916"/>
                  </a:lnTo>
                  <a:lnTo>
                    <a:pt x="1144" y="2925"/>
                  </a:lnTo>
                  <a:lnTo>
                    <a:pt x="1129" y="2927"/>
                  </a:lnTo>
                  <a:lnTo>
                    <a:pt x="1120" y="2927"/>
                  </a:lnTo>
                  <a:lnTo>
                    <a:pt x="1112" y="2927"/>
                  </a:lnTo>
                  <a:lnTo>
                    <a:pt x="1114" y="2936"/>
                  </a:lnTo>
                  <a:lnTo>
                    <a:pt x="1123" y="2936"/>
                  </a:lnTo>
                  <a:lnTo>
                    <a:pt x="1132" y="2942"/>
                  </a:lnTo>
                  <a:lnTo>
                    <a:pt x="1144" y="2948"/>
                  </a:lnTo>
                  <a:lnTo>
                    <a:pt x="1135" y="2953"/>
                  </a:lnTo>
                  <a:lnTo>
                    <a:pt x="1123" y="2953"/>
                  </a:lnTo>
                  <a:lnTo>
                    <a:pt x="1112" y="2953"/>
                  </a:lnTo>
                  <a:lnTo>
                    <a:pt x="1103" y="2953"/>
                  </a:lnTo>
                  <a:lnTo>
                    <a:pt x="1106" y="2962"/>
                  </a:lnTo>
                  <a:lnTo>
                    <a:pt x="1114" y="2965"/>
                  </a:lnTo>
                  <a:lnTo>
                    <a:pt x="1123" y="2974"/>
                  </a:lnTo>
                  <a:lnTo>
                    <a:pt x="1114" y="2982"/>
                  </a:lnTo>
                  <a:lnTo>
                    <a:pt x="1117" y="2991"/>
                  </a:lnTo>
                  <a:lnTo>
                    <a:pt x="1126" y="2994"/>
                  </a:lnTo>
                  <a:lnTo>
                    <a:pt x="1114" y="2999"/>
                  </a:lnTo>
                  <a:lnTo>
                    <a:pt x="1106" y="2999"/>
                  </a:lnTo>
                  <a:lnTo>
                    <a:pt x="1117" y="3005"/>
                  </a:lnTo>
                  <a:lnTo>
                    <a:pt x="1132" y="3008"/>
                  </a:lnTo>
                  <a:lnTo>
                    <a:pt x="1135" y="3017"/>
                  </a:lnTo>
                  <a:lnTo>
                    <a:pt x="1126" y="3022"/>
                  </a:lnTo>
                  <a:lnTo>
                    <a:pt x="1126" y="3034"/>
                  </a:lnTo>
                  <a:lnTo>
                    <a:pt x="1126" y="3046"/>
                  </a:lnTo>
                  <a:lnTo>
                    <a:pt x="1126" y="3054"/>
                  </a:lnTo>
                  <a:lnTo>
                    <a:pt x="1135" y="3054"/>
                  </a:lnTo>
                  <a:lnTo>
                    <a:pt x="1144" y="3054"/>
                  </a:lnTo>
                  <a:lnTo>
                    <a:pt x="1155" y="3054"/>
                  </a:lnTo>
                  <a:lnTo>
                    <a:pt x="1164" y="3054"/>
                  </a:lnTo>
                  <a:lnTo>
                    <a:pt x="1167" y="3063"/>
                  </a:lnTo>
                  <a:lnTo>
                    <a:pt x="1179" y="3069"/>
                  </a:lnTo>
                  <a:lnTo>
                    <a:pt x="1187" y="3069"/>
                  </a:lnTo>
                  <a:lnTo>
                    <a:pt x="1190" y="3080"/>
                  </a:lnTo>
                  <a:lnTo>
                    <a:pt x="1193" y="3089"/>
                  </a:lnTo>
                  <a:lnTo>
                    <a:pt x="1199" y="3097"/>
                  </a:lnTo>
                  <a:lnTo>
                    <a:pt x="1211" y="3103"/>
                  </a:lnTo>
                  <a:lnTo>
                    <a:pt x="1219" y="3103"/>
                  </a:lnTo>
                  <a:lnTo>
                    <a:pt x="1231" y="3103"/>
                  </a:lnTo>
                  <a:lnTo>
                    <a:pt x="1240" y="3100"/>
                  </a:lnTo>
                  <a:lnTo>
                    <a:pt x="1243" y="3092"/>
                  </a:lnTo>
                  <a:lnTo>
                    <a:pt x="1248" y="3083"/>
                  </a:lnTo>
                  <a:lnTo>
                    <a:pt x="1257" y="3083"/>
                  </a:lnTo>
                  <a:lnTo>
                    <a:pt x="1278" y="3097"/>
                  </a:lnTo>
                  <a:lnTo>
                    <a:pt x="1286" y="3103"/>
                  </a:lnTo>
                  <a:lnTo>
                    <a:pt x="1289" y="3112"/>
                  </a:lnTo>
                  <a:lnTo>
                    <a:pt x="1295" y="3120"/>
                  </a:lnTo>
                  <a:lnTo>
                    <a:pt x="1301" y="3129"/>
                  </a:lnTo>
                  <a:lnTo>
                    <a:pt x="1312" y="3141"/>
                  </a:lnTo>
                  <a:lnTo>
                    <a:pt x="1324" y="3146"/>
                  </a:lnTo>
                  <a:lnTo>
                    <a:pt x="1336" y="3152"/>
                  </a:lnTo>
                  <a:lnTo>
                    <a:pt x="1347" y="3155"/>
                  </a:lnTo>
                  <a:lnTo>
                    <a:pt x="1356" y="3155"/>
                  </a:lnTo>
                  <a:lnTo>
                    <a:pt x="1365" y="3155"/>
                  </a:lnTo>
                  <a:lnTo>
                    <a:pt x="1374" y="3155"/>
                  </a:lnTo>
                  <a:lnTo>
                    <a:pt x="1376" y="3146"/>
                  </a:lnTo>
                  <a:lnTo>
                    <a:pt x="1385" y="3138"/>
                  </a:lnTo>
                  <a:lnTo>
                    <a:pt x="1391" y="3129"/>
                  </a:lnTo>
                  <a:lnTo>
                    <a:pt x="1400" y="3132"/>
                  </a:lnTo>
                  <a:lnTo>
                    <a:pt x="1409" y="3138"/>
                  </a:lnTo>
                  <a:lnTo>
                    <a:pt x="1417" y="3149"/>
                  </a:lnTo>
                  <a:lnTo>
                    <a:pt x="1429" y="3152"/>
                  </a:lnTo>
                  <a:lnTo>
                    <a:pt x="1435" y="3155"/>
                  </a:lnTo>
                  <a:lnTo>
                    <a:pt x="1438" y="3164"/>
                  </a:lnTo>
                  <a:lnTo>
                    <a:pt x="1441" y="3172"/>
                  </a:lnTo>
                  <a:lnTo>
                    <a:pt x="1449" y="3178"/>
                  </a:lnTo>
                  <a:lnTo>
                    <a:pt x="1458" y="3178"/>
                  </a:lnTo>
                  <a:lnTo>
                    <a:pt x="1464" y="3169"/>
                  </a:lnTo>
                  <a:lnTo>
                    <a:pt x="1464" y="3161"/>
                  </a:lnTo>
                  <a:lnTo>
                    <a:pt x="1470" y="3152"/>
                  </a:lnTo>
                  <a:lnTo>
                    <a:pt x="1478" y="3152"/>
                  </a:lnTo>
                  <a:lnTo>
                    <a:pt x="1487" y="3155"/>
                  </a:lnTo>
                  <a:lnTo>
                    <a:pt x="1499" y="3161"/>
                  </a:lnTo>
                  <a:lnTo>
                    <a:pt x="1510" y="3161"/>
                  </a:lnTo>
                  <a:lnTo>
                    <a:pt x="1519" y="3161"/>
                  </a:lnTo>
                  <a:lnTo>
                    <a:pt x="1528" y="3161"/>
                  </a:lnTo>
                  <a:lnTo>
                    <a:pt x="1537" y="3158"/>
                  </a:lnTo>
                  <a:lnTo>
                    <a:pt x="1545" y="3158"/>
                  </a:lnTo>
                  <a:lnTo>
                    <a:pt x="1554" y="3164"/>
                  </a:lnTo>
                  <a:lnTo>
                    <a:pt x="1569" y="3169"/>
                  </a:lnTo>
                  <a:lnTo>
                    <a:pt x="1580" y="3169"/>
                  </a:lnTo>
                  <a:lnTo>
                    <a:pt x="1592" y="3169"/>
                  </a:lnTo>
                  <a:lnTo>
                    <a:pt x="1601" y="3169"/>
                  </a:lnTo>
                  <a:lnTo>
                    <a:pt x="1609" y="3169"/>
                  </a:lnTo>
                  <a:lnTo>
                    <a:pt x="1618" y="3169"/>
                  </a:lnTo>
                  <a:lnTo>
                    <a:pt x="1627" y="3169"/>
                  </a:lnTo>
                  <a:lnTo>
                    <a:pt x="1636" y="3169"/>
                  </a:lnTo>
                  <a:lnTo>
                    <a:pt x="1644" y="3169"/>
                  </a:lnTo>
                  <a:lnTo>
                    <a:pt x="1653" y="3169"/>
                  </a:lnTo>
                  <a:lnTo>
                    <a:pt x="1662" y="3169"/>
                  </a:lnTo>
                  <a:lnTo>
                    <a:pt x="1671" y="3169"/>
                  </a:lnTo>
                  <a:lnTo>
                    <a:pt x="1679" y="3169"/>
                  </a:lnTo>
                  <a:lnTo>
                    <a:pt x="1688" y="3169"/>
                  </a:lnTo>
                  <a:lnTo>
                    <a:pt x="1703" y="3169"/>
                  </a:lnTo>
                  <a:lnTo>
                    <a:pt x="1714" y="3172"/>
                  </a:lnTo>
                  <a:lnTo>
                    <a:pt x="1726" y="3175"/>
                  </a:lnTo>
                  <a:lnTo>
                    <a:pt x="1735" y="3175"/>
                  </a:lnTo>
                  <a:lnTo>
                    <a:pt x="1743" y="3175"/>
                  </a:lnTo>
                  <a:lnTo>
                    <a:pt x="1758" y="3175"/>
                  </a:lnTo>
                  <a:lnTo>
                    <a:pt x="1767" y="3175"/>
                  </a:lnTo>
                  <a:lnTo>
                    <a:pt x="1772" y="3167"/>
                  </a:lnTo>
                  <a:lnTo>
                    <a:pt x="1772" y="3158"/>
                  </a:lnTo>
                  <a:lnTo>
                    <a:pt x="1772" y="3149"/>
                  </a:lnTo>
                  <a:lnTo>
                    <a:pt x="1772" y="3141"/>
                  </a:lnTo>
                  <a:lnTo>
                    <a:pt x="1772" y="3132"/>
                  </a:lnTo>
                  <a:lnTo>
                    <a:pt x="1772" y="3123"/>
                  </a:lnTo>
                  <a:lnTo>
                    <a:pt x="1772" y="3112"/>
                  </a:lnTo>
                  <a:lnTo>
                    <a:pt x="1770" y="3103"/>
                  </a:lnTo>
                  <a:lnTo>
                    <a:pt x="1770" y="3095"/>
                  </a:lnTo>
                  <a:lnTo>
                    <a:pt x="1770" y="3086"/>
                  </a:lnTo>
                  <a:lnTo>
                    <a:pt x="1778" y="3080"/>
                  </a:lnTo>
                  <a:lnTo>
                    <a:pt x="1787" y="3080"/>
                  </a:lnTo>
                  <a:lnTo>
                    <a:pt x="1796" y="3089"/>
                  </a:lnTo>
                  <a:lnTo>
                    <a:pt x="1802" y="3097"/>
                  </a:lnTo>
                  <a:lnTo>
                    <a:pt x="1813" y="3103"/>
                  </a:lnTo>
                  <a:lnTo>
                    <a:pt x="1825" y="3112"/>
                  </a:lnTo>
                  <a:lnTo>
                    <a:pt x="1854" y="3109"/>
                  </a:lnTo>
                  <a:lnTo>
                    <a:pt x="1836" y="3103"/>
                  </a:lnTo>
                  <a:lnTo>
                    <a:pt x="1854" y="3103"/>
                  </a:lnTo>
                  <a:lnTo>
                    <a:pt x="1863" y="3103"/>
                  </a:lnTo>
                  <a:lnTo>
                    <a:pt x="1871" y="3103"/>
                  </a:lnTo>
                  <a:lnTo>
                    <a:pt x="1880" y="3106"/>
                  </a:lnTo>
                  <a:lnTo>
                    <a:pt x="1889" y="3100"/>
                  </a:lnTo>
                  <a:lnTo>
                    <a:pt x="1898" y="3097"/>
                  </a:lnTo>
                  <a:lnTo>
                    <a:pt x="1906" y="3095"/>
                  </a:lnTo>
                  <a:lnTo>
                    <a:pt x="1918" y="3103"/>
                  </a:lnTo>
                  <a:lnTo>
                    <a:pt x="1924" y="3112"/>
                  </a:lnTo>
                  <a:lnTo>
                    <a:pt x="1924" y="3120"/>
                  </a:lnTo>
                  <a:lnTo>
                    <a:pt x="1921" y="3129"/>
                  </a:lnTo>
                  <a:lnTo>
                    <a:pt x="1924" y="3138"/>
                  </a:lnTo>
                  <a:lnTo>
                    <a:pt x="1933" y="3144"/>
                  </a:lnTo>
                  <a:lnTo>
                    <a:pt x="1944" y="3152"/>
                  </a:lnTo>
                  <a:lnTo>
                    <a:pt x="1947" y="3144"/>
                  </a:lnTo>
                  <a:lnTo>
                    <a:pt x="1947" y="3135"/>
                  </a:lnTo>
                  <a:lnTo>
                    <a:pt x="1947" y="3126"/>
                  </a:lnTo>
                  <a:lnTo>
                    <a:pt x="1947" y="3118"/>
                  </a:lnTo>
                  <a:lnTo>
                    <a:pt x="1956" y="3115"/>
                  </a:lnTo>
                  <a:lnTo>
                    <a:pt x="1962" y="3106"/>
                  </a:lnTo>
                  <a:lnTo>
                    <a:pt x="1962" y="3097"/>
                  </a:lnTo>
                  <a:lnTo>
                    <a:pt x="1962" y="3089"/>
                  </a:lnTo>
                  <a:lnTo>
                    <a:pt x="1962" y="3080"/>
                  </a:lnTo>
                  <a:lnTo>
                    <a:pt x="1962" y="3071"/>
                  </a:lnTo>
                  <a:lnTo>
                    <a:pt x="1967" y="3063"/>
                  </a:lnTo>
                  <a:lnTo>
                    <a:pt x="1976" y="3060"/>
                  </a:lnTo>
                  <a:lnTo>
                    <a:pt x="1988" y="3060"/>
                  </a:lnTo>
                  <a:lnTo>
                    <a:pt x="2002" y="3063"/>
                  </a:lnTo>
                  <a:lnTo>
                    <a:pt x="2011" y="3063"/>
                  </a:lnTo>
                  <a:lnTo>
                    <a:pt x="2002" y="3054"/>
                  </a:lnTo>
                  <a:lnTo>
                    <a:pt x="1994" y="3048"/>
                  </a:lnTo>
                  <a:lnTo>
                    <a:pt x="1979" y="3043"/>
                  </a:lnTo>
                  <a:lnTo>
                    <a:pt x="1967" y="3034"/>
                  </a:lnTo>
                  <a:lnTo>
                    <a:pt x="1962" y="3025"/>
                  </a:lnTo>
                  <a:lnTo>
                    <a:pt x="1959" y="3017"/>
                  </a:lnTo>
                  <a:lnTo>
                    <a:pt x="1956" y="3008"/>
                  </a:lnTo>
                  <a:lnTo>
                    <a:pt x="1950" y="2999"/>
                  </a:lnTo>
                  <a:lnTo>
                    <a:pt x="1944" y="2991"/>
                  </a:lnTo>
                  <a:lnTo>
                    <a:pt x="1938" y="2982"/>
                  </a:lnTo>
                  <a:lnTo>
                    <a:pt x="1933" y="2974"/>
                  </a:lnTo>
                  <a:lnTo>
                    <a:pt x="1927" y="2965"/>
                  </a:lnTo>
                  <a:lnTo>
                    <a:pt x="1924" y="2956"/>
                  </a:lnTo>
                  <a:lnTo>
                    <a:pt x="1921" y="2948"/>
                  </a:lnTo>
                  <a:lnTo>
                    <a:pt x="1918" y="2939"/>
                  </a:lnTo>
                  <a:lnTo>
                    <a:pt x="1915" y="2930"/>
                  </a:lnTo>
                  <a:lnTo>
                    <a:pt x="1912" y="2922"/>
                  </a:lnTo>
                  <a:lnTo>
                    <a:pt x="1915" y="2913"/>
                  </a:lnTo>
                  <a:lnTo>
                    <a:pt x="1915" y="2904"/>
                  </a:lnTo>
                  <a:lnTo>
                    <a:pt x="1915" y="2896"/>
                  </a:lnTo>
                  <a:lnTo>
                    <a:pt x="1915" y="2887"/>
                  </a:lnTo>
                  <a:lnTo>
                    <a:pt x="1912" y="2878"/>
                  </a:lnTo>
                  <a:lnTo>
                    <a:pt x="1909" y="2870"/>
                  </a:lnTo>
                  <a:lnTo>
                    <a:pt x="1903" y="2861"/>
                  </a:lnTo>
                  <a:lnTo>
                    <a:pt x="1895" y="2852"/>
                  </a:lnTo>
                  <a:lnTo>
                    <a:pt x="1892" y="2844"/>
                  </a:lnTo>
                  <a:lnTo>
                    <a:pt x="1892" y="2835"/>
                  </a:lnTo>
                  <a:lnTo>
                    <a:pt x="1898" y="2827"/>
                  </a:lnTo>
                  <a:lnTo>
                    <a:pt x="1906" y="2824"/>
                  </a:lnTo>
                  <a:lnTo>
                    <a:pt x="1918" y="2821"/>
                  </a:lnTo>
                  <a:lnTo>
                    <a:pt x="1930" y="2818"/>
                  </a:lnTo>
                  <a:lnTo>
                    <a:pt x="1938" y="2812"/>
                  </a:lnTo>
                  <a:lnTo>
                    <a:pt x="1944" y="2803"/>
                  </a:lnTo>
                  <a:lnTo>
                    <a:pt x="1953" y="2798"/>
                  </a:lnTo>
                  <a:lnTo>
                    <a:pt x="1962" y="2798"/>
                  </a:lnTo>
                  <a:lnTo>
                    <a:pt x="1970" y="2798"/>
                  </a:lnTo>
                  <a:lnTo>
                    <a:pt x="1976" y="2789"/>
                  </a:lnTo>
                  <a:lnTo>
                    <a:pt x="1982" y="2780"/>
                  </a:lnTo>
                  <a:lnTo>
                    <a:pt x="1991" y="2775"/>
                  </a:lnTo>
                  <a:lnTo>
                    <a:pt x="1999" y="2775"/>
                  </a:lnTo>
                  <a:lnTo>
                    <a:pt x="2008" y="2769"/>
                  </a:lnTo>
                  <a:lnTo>
                    <a:pt x="2017" y="2763"/>
                  </a:lnTo>
                  <a:lnTo>
                    <a:pt x="2026" y="2760"/>
                  </a:lnTo>
                  <a:lnTo>
                    <a:pt x="2034" y="2760"/>
                  </a:lnTo>
                  <a:lnTo>
                    <a:pt x="2043" y="2760"/>
                  </a:lnTo>
                  <a:lnTo>
                    <a:pt x="2052" y="2754"/>
                  </a:lnTo>
                  <a:lnTo>
                    <a:pt x="2061" y="2754"/>
                  </a:lnTo>
                  <a:lnTo>
                    <a:pt x="2069" y="2757"/>
                  </a:lnTo>
                  <a:lnTo>
                    <a:pt x="2078" y="2757"/>
                  </a:lnTo>
                  <a:lnTo>
                    <a:pt x="2093" y="2760"/>
                  </a:lnTo>
                  <a:lnTo>
                    <a:pt x="2101" y="2760"/>
                  </a:lnTo>
                  <a:lnTo>
                    <a:pt x="2101" y="2769"/>
                  </a:lnTo>
                  <a:lnTo>
                    <a:pt x="2101" y="2778"/>
                  </a:lnTo>
                  <a:lnTo>
                    <a:pt x="2101" y="2786"/>
                  </a:lnTo>
                  <a:lnTo>
                    <a:pt x="2104" y="2795"/>
                  </a:lnTo>
                  <a:lnTo>
                    <a:pt x="2104" y="2803"/>
                  </a:lnTo>
                  <a:lnTo>
                    <a:pt x="2104" y="2812"/>
                  </a:lnTo>
                  <a:lnTo>
                    <a:pt x="2104" y="2821"/>
                  </a:lnTo>
                  <a:lnTo>
                    <a:pt x="2104" y="2829"/>
                  </a:lnTo>
                  <a:lnTo>
                    <a:pt x="2104" y="2838"/>
                  </a:lnTo>
                  <a:lnTo>
                    <a:pt x="2096" y="2841"/>
                  </a:lnTo>
                  <a:lnTo>
                    <a:pt x="2087" y="2841"/>
                  </a:lnTo>
                  <a:lnTo>
                    <a:pt x="2078" y="2841"/>
                  </a:lnTo>
                  <a:lnTo>
                    <a:pt x="2069" y="2841"/>
                  </a:lnTo>
                  <a:lnTo>
                    <a:pt x="2061" y="2841"/>
                  </a:lnTo>
                  <a:lnTo>
                    <a:pt x="2069" y="2841"/>
                  </a:lnTo>
                  <a:lnTo>
                    <a:pt x="2078" y="2835"/>
                  </a:lnTo>
                  <a:lnTo>
                    <a:pt x="2090" y="2835"/>
                  </a:lnTo>
                  <a:lnTo>
                    <a:pt x="2081" y="2832"/>
                  </a:lnTo>
                  <a:lnTo>
                    <a:pt x="2072" y="2832"/>
                  </a:lnTo>
                  <a:lnTo>
                    <a:pt x="2064" y="2832"/>
                  </a:lnTo>
                  <a:lnTo>
                    <a:pt x="2058" y="2841"/>
                  </a:lnTo>
                  <a:lnTo>
                    <a:pt x="2049" y="2844"/>
                  </a:lnTo>
                  <a:lnTo>
                    <a:pt x="2040" y="2847"/>
                  </a:lnTo>
                  <a:lnTo>
                    <a:pt x="2040" y="2855"/>
                  </a:lnTo>
                  <a:lnTo>
                    <a:pt x="2040" y="2864"/>
                  </a:lnTo>
                  <a:lnTo>
                    <a:pt x="2032" y="2870"/>
                  </a:lnTo>
                  <a:lnTo>
                    <a:pt x="2020" y="2870"/>
                  </a:lnTo>
                  <a:lnTo>
                    <a:pt x="2017" y="2861"/>
                  </a:lnTo>
                  <a:lnTo>
                    <a:pt x="2008" y="2858"/>
                  </a:lnTo>
                  <a:lnTo>
                    <a:pt x="2002" y="2867"/>
                  </a:lnTo>
                  <a:lnTo>
                    <a:pt x="2002" y="2876"/>
                  </a:lnTo>
                  <a:lnTo>
                    <a:pt x="2011" y="2878"/>
                  </a:lnTo>
                  <a:lnTo>
                    <a:pt x="2020" y="2884"/>
                  </a:lnTo>
                  <a:lnTo>
                    <a:pt x="2029" y="2896"/>
                  </a:lnTo>
                  <a:lnTo>
                    <a:pt x="2034" y="2907"/>
                  </a:lnTo>
                  <a:lnTo>
                    <a:pt x="2037" y="2916"/>
                  </a:lnTo>
                  <a:lnTo>
                    <a:pt x="2037" y="2925"/>
                  </a:lnTo>
                  <a:lnTo>
                    <a:pt x="2040" y="2933"/>
                  </a:lnTo>
                  <a:lnTo>
                    <a:pt x="2040" y="2942"/>
                  </a:lnTo>
                  <a:lnTo>
                    <a:pt x="2052" y="2945"/>
                  </a:lnTo>
                  <a:lnTo>
                    <a:pt x="2061" y="2953"/>
                  </a:lnTo>
                  <a:lnTo>
                    <a:pt x="2069" y="2959"/>
                  </a:lnTo>
                  <a:lnTo>
                    <a:pt x="2078" y="2965"/>
                  </a:lnTo>
                  <a:lnTo>
                    <a:pt x="2087" y="2965"/>
                  </a:lnTo>
                  <a:lnTo>
                    <a:pt x="2093" y="2976"/>
                  </a:lnTo>
                  <a:lnTo>
                    <a:pt x="2087" y="2985"/>
                  </a:lnTo>
                  <a:lnTo>
                    <a:pt x="2084" y="2994"/>
                  </a:lnTo>
                  <a:lnTo>
                    <a:pt x="2084" y="3005"/>
                  </a:lnTo>
                  <a:lnTo>
                    <a:pt x="2090" y="3017"/>
                  </a:lnTo>
                  <a:lnTo>
                    <a:pt x="2090" y="3025"/>
                  </a:lnTo>
                  <a:lnTo>
                    <a:pt x="2093" y="3017"/>
                  </a:lnTo>
                  <a:lnTo>
                    <a:pt x="2093" y="3008"/>
                  </a:lnTo>
                  <a:lnTo>
                    <a:pt x="2096" y="2999"/>
                  </a:lnTo>
                  <a:lnTo>
                    <a:pt x="2096" y="2991"/>
                  </a:lnTo>
                  <a:lnTo>
                    <a:pt x="2104" y="2988"/>
                  </a:lnTo>
                  <a:lnTo>
                    <a:pt x="2113" y="2988"/>
                  </a:lnTo>
                  <a:lnTo>
                    <a:pt x="2125" y="2988"/>
                  </a:lnTo>
                  <a:lnTo>
                    <a:pt x="2130" y="2999"/>
                  </a:lnTo>
                  <a:lnTo>
                    <a:pt x="2130" y="3008"/>
                  </a:lnTo>
                  <a:lnTo>
                    <a:pt x="2133" y="3017"/>
                  </a:lnTo>
                  <a:lnTo>
                    <a:pt x="2139" y="3028"/>
                  </a:lnTo>
                  <a:lnTo>
                    <a:pt x="2148" y="3034"/>
                  </a:lnTo>
                  <a:lnTo>
                    <a:pt x="2160" y="3040"/>
                  </a:lnTo>
                  <a:lnTo>
                    <a:pt x="2151" y="3043"/>
                  </a:lnTo>
                  <a:lnTo>
                    <a:pt x="2148" y="3051"/>
                  </a:lnTo>
                  <a:lnTo>
                    <a:pt x="2133" y="3054"/>
                  </a:lnTo>
                  <a:lnTo>
                    <a:pt x="2125" y="3051"/>
                  </a:lnTo>
                  <a:lnTo>
                    <a:pt x="2116" y="3051"/>
                  </a:lnTo>
                  <a:lnTo>
                    <a:pt x="2101" y="3046"/>
                  </a:lnTo>
                  <a:lnTo>
                    <a:pt x="2093" y="3037"/>
                  </a:lnTo>
                  <a:lnTo>
                    <a:pt x="2090" y="3046"/>
                  </a:lnTo>
                  <a:lnTo>
                    <a:pt x="2090" y="3054"/>
                  </a:lnTo>
                  <a:lnTo>
                    <a:pt x="2090" y="3063"/>
                  </a:lnTo>
                  <a:lnTo>
                    <a:pt x="2090" y="3071"/>
                  </a:lnTo>
                  <a:lnTo>
                    <a:pt x="2087" y="3080"/>
                  </a:lnTo>
                  <a:lnTo>
                    <a:pt x="2084" y="3089"/>
                  </a:lnTo>
                  <a:lnTo>
                    <a:pt x="2084" y="3097"/>
                  </a:lnTo>
                  <a:lnTo>
                    <a:pt x="2096" y="3097"/>
                  </a:lnTo>
                  <a:lnTo>
                    <a:pt x="2104" y="3092"/>
                  </a:lnTo>
                  <a:lnTo>
                    <a:pt x="2110" y="3100"/>
                  </a:lnTo>
                  <a:lnTo>
                    <a:pt x="2107" y="3109"/>
                  </a:lnTo>
                  <a:lnTo>
                    <a:pt x="2098" y="3118"/>
                  </a:lnTo>
                  <a:lnTo>
                    <a:pt x="2090" y="3123"/>
                  </a:lnTo>
                  <a:lnTo>
                    <a:pt x="2087" y="3109"/>
                  </a:lnTo>
                  <a:lnTo>
                    <a:pt x="2087" y="3132"/>
                  </a:lnTo>
                  <a:lnTo>
                    <a:pt x="2096" y="3126"/>
                  </a:lnTo>
                  <a:lnTo>
                    <a:pt x="2087" y="3109"/>
                  </a:lnTo>
                  <a:lnTo>
                    <a:pt x="2104" y="3112"/>
                  </a:lnTo>
                  <a:lnTo>
                    <a:pt x="2110" y="3103"/>
                  </a:lnTo>
                  <a:lnTo>
                    <a:pt x="2110" y="3112"/>
                  </a:lnTo>
                  <a:lnTo>
                    <a:pt x="2110" y="3120"/>
                  </a:lnTo>
                  <a:lnTo>
                    <a:pt x="2116" y="3129"/>
                  </a:lnTo>
                  <a:lnTo>
                    <a:pt x="2119" y="3138"/>
                  </a:lnTo>
                  <a:lnTo>
                    <a:pt x="2122" y="3149"/>
                  </a:lnTo>
                  <a:lnTo>
                    <a:pt x="2122" y="3158"/>
                  </a:lnTo>
                  <a:lnTo>
                    <a:pt x="2125" y="3167"/>
                  </a:lnTo>
                  <a:lnTo>
                    <a:pt x="2125" y="3175"/>
                  </a:lnTo>
                  <a:lnTo>
                    <a:pt x="2125" y="3184"/>
                  </a:lnTo>
                  <a:lnTo>
                    <a:pt x="2125" y="3193"/>
                  </a:lnTo>
                  <a:lnTo>
                    <a:pt x="2128" y="3201"/>
                  </a:lnTo>
                  <a:lnTo>
                    <a:pt x="2130" y="3210"/>
                  </a:lnTo>
                  <a:lnTo>
                    <a:pt x="2139" y="3210"/>
                  </a:lnTo>
                  <a:lnTo>
                    <a:pt x="2148" y="3210"/>
                  </a:lnTo>
                  <a:lnTo>
                    <a:pt x="2157" y="3207"/>
                  </a:lnTo>
                  <a:lnTo>
                    <a:pt x="2163" y="3198"/>
                  </a:lnTo>
                  <a:lnTo>
                    <a:pt x="2171" y="3195"/>
                  </a:lnTo>
                  <a:lnTo>
                    <a:pt x="2183" y="3193"/>
                  </a:lnTo>
                  <a:lnTo>
                    <a:pt x="2192" y="3190"/>
                  </a:lnTo>
                  <a:lnTo>
                    <a:pt x="2200" y="3184"/>
                  </a:lnTo>
                  <a:lnTo>
                    <a:pt x="2209" y="3181"/>
                  </a:lnTo>
                  <a:lnTo>
                    <a:pt x="2218" y="3181"/>
                  </a:lnTo>
                  <a:lnTo>
                    <a:pt x="2224" y="3172"/>
                  </a:lnTo>
                  <a:lnTo>
                    <a:pt x="2232" y="3169"/>
                  </a:lnTo>
                  <a:lnTo>
                    <a:pt x="2241" y="3169"/>
                  </a:lnTo>
                  <a:lnTo>
                    <a:pt x="2256" y="3169"/>
                  </a:lnTo>
                  <a:lnTo>
                    <a:pt x="2264" y="3169"/>
                  </a:lnTo>
                  <a:lnTo>
                    <a:pt x="2276" y="3178"/>
                  </a:lnTo>
                  <a:lnTo>
                    <a:pt x="2288" y="3184"/>
                  </a:lnTo>
                  <a:lnTo>
                    <a:pt x="2296" y="3187"/>
                  </a:lnTo>
                  <a:lnTo>
                    <a:pt x="2308" y="3190"/>
                  </a:lnTo>
                  <a:lnTo>
                    <a:pt x="2317" y="3195"/>
                  </a:lnTo>
                  <a:lnTo>
                    <a:pt x="2328" y="3198"/>
                  </a:lnTo>
                  <a:lnTo>
                    <a:pt x="2340" y="3201"/>
                  </a:lnTo>
                  <a:lnTo>
                    <a:pt x="2349" y="3207"/>
                  </a:lnTo>
                  <a:lnTo>
                    <a:pt x="2358" y="3216"/>
                  </a:lnTo>
                  <a:lnTo>
                    <a:pt x="2366" y="3221"/>
                  </a:lnTo>
                  <a:lnTo>
                    <a:pt x="2375" y="3227"/>
                  </a:lnTo>
                  <a:lnTo>
                    <a:pt x="2387" y="3230"/>
                  </a:lnTo>
                  <a:lnTo>
                    <a:pt x="2395" y="3230"/>
                  </a:lnTo>
                  <a:lnTo>
                    <a:pt x="2404" y="3230"/>
                  </a:lnTo>
                  <a:lnTo>
                    <a:pt x="2407" y="3239"/>
                  </a:lnTo>
                  <a:lnTo>
                    <a:pt x="2407" y="3247"/>
                  </a:lnTo>
                  <a:lnTo>
                    <a:pt x="2413" y="3256"/>
                  </a:lnTo>
                  <a:lnTo>
                    <a:pt x="2422" y="3262"/>
                  </a:lnTo>
                  <a:lnTo>
                    <a:pt x="2436" y="3265"/>
                  </a:lnTo>
                  <a:lnTo>
                    <a:pt x="2451" y="3270"/>
                  </a:lnTo>
                  <a:lnTo>
                    <a:pt x="2457" y="3279"/>
                  </a:lnTo>
                  <a:lnTo>
                    <a:pt x="2457" y="3288"/>
                  </a:lnTo>
                  <a:lnTo>
                    <a:pt x="2468" y="3291"/>
                  </a:lnTo>
                  <a:lnTo>
                    <a:pt x="2483" y="3288"/>
                  </a:lnTo>
                  <a:lnTo>
                    <a:pt x="2491" y="3285"/>
                  </a:lnTo>
                  <a:lnTo>
                    <a:pt x="2500" y="3276"/>
                  </a:lnTo>
                  <a:lnTo>
                    <a:pt x="2509" y="3270"/>
                  </a:lnTo>
                  <a:lnTo>
                    <a:pt x="2515" y="3262"/>
                  </a:lnTo>
                  <a:lnTo>
                    <a:pt x="2521" y="3253"/>
                  </a:lnTo>
                  <a:lnTo>
                    <a:pt x="2526" y="3244"/>
                  </a:lnTo>
                  <a:lnTo>
                    <a:pt x="2532" y="3236"/>
                  </a:lnTo>
                  <a:lnTo>
                    <a:pt x="2535" y="3227"/>
                  </a:lnTo>
                  <a:lnTo>
                    <a:pt x="2541" y="3218"/>
                  </a:lnTo>
                  <a:lnTo>
                    <a:pt x="2544" y="3210"/>
                  </a:lnTo>
                  <a:lnTo>
                    <a:pt x="2544" y="3198"/>
                  </a:lnTo>
                  <a:lnTo>
                    <a:pt x="2544" y="3190"/>
                  </a:lnTo>
                  <a:lnTo>
                    <a:pt x="2553" y="3181"/>
                  </a:lnTo>
                  <a:lnTo>
                    <a:pt x="2567" y="3181"/>
                  </a:lnTo>
                  <a:lnTo>
                    <a:pt x="2599" y="3155"/>
                  </a:lnTo>
                  <a:lnTo>
                    <a:pt x="2599" y="3164"/>
                  </a:lnTo>
                  <a:lnTo>
                    <a:pt x="2608" y="3169"/>
                  </a:lnTo>
                  <a:lnTo>
                    <a:pt x="2617" y="3178"/>
                  </a:lnTo>
                  <a:lnTo>
                    <a:pt x="2625" y="3181"/>
                  </a:lnTo>
                  <a:lnTo>
                    <a:pt x="2634" y="3178"/>
                  </a:lnTo>
                  <a:lnTo>
                    <a:pt x="2643" y="3172"/>
                  </a:lnTo>
                  <a:lnTo>
                    <a:pt x="2657" y="3169"/>
                  </a:lnTo>
                  <a:lnTo>
                    <a:pt x="2666" y="3169"/>
                  </a:lnTo>
                  <a:lnTo>
                    <a:pt x="2675" y="3169"/>
                  </a:lnTo>
                  <a:lnTo>
                    <a:pt x="2684" y="3164"/>
                  </a:lnTo>
                  <a:lnTo>
                    <a:pt x="2692" y="3155"/>
                  </a:lnTo>
                  <a:lnTo>
                    <a:pt x="2739" y="3155"/>
                  </a:lnTo>
                  <a:lnTo>
                    <a:pt x="2733" y="3138"/>
                  </a:lnTo>
                  <a:lnTo>
                    <a:pt x="2733" y="3126"/>
                  </a:lnTo>
                  <a:lnTo>
                    <a:pt x="2730" y="3118"/>
                  </a:lnTo>
                  <a:lnTo>
                    <a:pt x="2739" y="3112"/>
                  </a:lnTo>
                  <a:lnTo>
                    <a:pt x="2748" y="3106"/>
                  </a:lnTo>
                  <a:lnTo>
                    <a:pt x="2753" y="3097"/>
                  </a:lnTo>
                  <a:lnTo>
                    <a:pt x="2762" y="3092"/>
                  </a:lnTo>
                  <a:lnTo>
                    <a:pt x="2771" y="3092"/>
                  </a:lnTo>
                  <a:lnTo>
                    <a:pt x="2780" y="3095"/>
                  </a:lnTo>
                  <a:lnTo>
                    <a:pt x="2783" y="3103"/>
                  </a:lnTo>
                  <a:lnTo>
                    <a:pt x="2786" y="3112"/>
                  </a:lnTo>
                  <a:lnTo>
                    <a:pt x="2786" y="3126"/>
                  </a:lnTo>
                  <a:lnTo>
                    <a:pt x="2788" y="3135"/>
                  </a:lnTo>
                  <a:lnTo>
                    <a:pt x="2791" y="3144"/>
                  </a:lnTo>
                  <a:lnTo>
                    <a:pt x="2794" y="3152"/>
                  </a:lnTo>
                  <a:lnTo>
                    <a:pt x="2800" y="3161"/>
                  </a:lnTo>
                  <a:lnTo>
                    <a:pt x="2809" y="3167"/>
                  </a:lnTo>
                  <a:lnTo>
                    <a:pt x="2818" y="3167"/>
                  </a:lnTo>
                  <a:lnTo>
                    <a:pt x="2826" y="3167"/>
                  </a:lnTo>
                  <a:lnTo>
                    <a:pt x="2832" y="3158"/>
                  </a:lnTo>
                  <a:lnTo>
                    <a:pt x="2841" y="3152"/>
                  </a:lnTo>
                  <a:lnTo>
                    <a:pt x="2844" y="3144"/>
                  </a:lnTo>
                  <a:lnTo>
                    <a:pt x="2847" y="3135"/>
                  </a:lnTo>
                  <a:lnTo>
                    <a:pt x="2850" y="3123"/>
                  </a:lnTo>
                  <a:lnTo>
                    <a:pt x="2858" y="3115"/>
                  </a:lnTo>
                  <a:lnTo>
                    <a:pt x="2870" y="3115"/>
                  </a:lnTo>
                  <a:lnTo>
                    <a:pt x="2879" y="3115"/>
                  </a:lnTo>
                  <a:lnTo>
                    <a:pt x="2887" y="3115"/>
                  </a:lnTo>
                  <a:lnTo>
                    <a:pt x="2896" y="3115"/>
                  </a:lnTo>
                  <a:lnTo>
                    <a:pt x="2902" y="3106"/>
                  </a:lnTo>
                  <a:lnTo>
                    <a:pt x="2914" y="3103"/>
                  </a:lnTo>
                  <a:lnTo>
                    <a:pt x="2922" y="3103"/>
                  </a:lnTo>
                  <a:lnTo>
                    <a:pt x="2925" y="3095"/>
                  </a:lnTo>
                  <a:lnTo>
                    <a:pt x="2925" y="3086"/>
                  </a:lnTo>
                  <a:lnTo>
                    <a:pt x="2922" y="3077"/>
                  </a:lnTo>
                  <a:lnTo>
                    <a:pt x="2917" y="3066"/>
                  </a:lnTo>
                  <a:lnTo>
                    <a:pt x="2911" y="3057"/>
                  </a:lnTo>
                  <a:lnTo>
                    <a:pt x="2905" y="3048"/>
                  </a:lnTo>
                  <a:lnTo>
                    <a:pt x="2896" y="3046"/>
                  </a:lnTo>
                  <a:lnTo>
                    <a:pt x="2887" y="3048"/>
                  </a:lnTo>
                  <a:lnTo>
                    <a:pt x="2879" y="3051"/>
                  </a:lnTo>
                  <a:lnTo>
                    <a:pt x="2876" y="3060"/>
                  </a:lnTo>
                  <a:lnTo>
                    <a:pt x="2873" y="3069"/>
                  </a:lnTo>
                  <a:lnTo>
                    <a:pt x="2864" y="3066"/>
                  </a:lnTo>
                  <a:lnTo>
                    <a:pt x="2861" y="3054"/>
                  </a:lnTo>
                  <a:lnTo>
                    <a:pt x="2858" y="3043"/>
                  </a:lnTo>
                  <a:lnTo>
                    <a:pt x="2858" y="3034"/>
                  </a:lnTo>
                  <a:lnTo>
                    <a:pt x="2855" y="3025"/>
                  </a:lnTo>
                  <a:lnTo>
                    <a:pt x="2850" y="3017"/>
                  </a:lnTo>
                  <a:lnTo>
                    <a:pt x="2850" y="3008"/>
                  </a:lnTo>
                  <a:lnTo>
                    <a:pt x="2850" y="2997"/>
                  </a:lnTo>
                  <a:lnTo>
                    <a:pt x="2850" y="2988"/>
                  </a:lnTo>
                  <a:lnTo>
                    <a:pt x="2858" y="2982"/>
                  </a:lnTo>
                  <a:lnTo>
                    <a:pt x="2867" y="2982"/>
                  </a:lnTo>
                  <a:lnTo>
                    <a:pt x="2876" y="2979"/>
                  </a:lnTo>
                  <a:lnTo>
                    <a:pt x="2884" y="2974"/>
                  </a:lnTo>
                  <a:lnTo>
                    <a:pt x="2887" y="2962"/>
                  </a:lnTo>
                  <a:lnTo>
                    <a:pt x="2896" y="2962"/>
                  </a:lnTo>
                  <a:lnTo>
                    <a:pt x="2905" y="2962"/>
                  </a:lnTo>
                  <a:lnTo>
                    <a:pt x="2914" y="2962"/>
                  </a:lnTo>
                  <a:lnTo>
                    <a:pt x="2922" y="2959"/>
                  </a:lnTo>
                  <a:lnTo>
                    <a:pt x="2931" y="2956"/>
                  </a:lnTo>
                  <a:lnTo>
                    <a:pt x="2937" y="2948"/>
                  </a:lnTo>
                  <a:lnTo>
                    <a:pt x="2943" y="2939"/>
                  </a:lnTo>
                  <a:lnTo>
                    <a:pt x="2946" y="2930"/>
                  </a:lnTo>
                  <a:lnTo>
                    <a:pt x="2954" y="2925"/>
                  </a:lnTo>
                  <a:lnTo>
                    <a:pt x="2963" y="2919"/>
                  </a:lnTo>
                  <a:lnTo>
                    <a:pt x="2972" y="2916"/>
                  </a:lnTo>
                  <a:lnTo>
                    <a:pt x="2981" y="2913"/>
                  </a:lnTo>
                  <a:lnTo>
                    <a:pt x="2983" y="2904"/>
                  </a:lnTo>
                  <a:lnTo>
                    <a:pt x="2989" y="2893"/>
                  </a:lnTo>
                  <a:lnTo>
                    <a:pt x="2998" y="2881"/>
                  </a:lnTo>
                  <a:lnTo>
                    <a:pt x="3004" y="2873"/>
                  </a:lnTo>
                  <a:lnTo>
                    <a:pt x="3010" y="2864"/>
                  </a:lnTo>
                  <a:lnTo>
                    <a:pt x="3018" y="2858"/>
                  </a:lnTo>
                  <a:lnTo>
                    <a:pt x="3027" y="2852"/>
                  </a:lnTo>
                  <a:lnTo>
                    <a:pt x="3036" y="2847"/>
                  </a:lnTo>
                  <a:lnTo>
                    <a:pt x="3045" y="2847"/>
                  </a:lnTo>
                  <a:lnTo>
                    <a:pt x="3053" y="2844"/>
                  </a:lnTo>
                  <a:lnTo>
                    <a:pt x="3053" y="2835"/>
                  </a:lnTo>
                  <a:lnTo>
                    <a:pt x="3053" y="2827"/>
                  </a:lnTo>
                  <a:lnTo>
                    <a:pt x="3053" y="2818"/>
                  </a:lnTo>
                  <a:lnTo>
                    <a:pt x="3053" y="2809"/>
                  </a:lnTo>
                  <a:lnTo>
                    <a:pt x="3050" y="2801"/>
                  </a:lnTo>
                  <a:lnTo>
                    <a:pt x="3045" y="2789"/>
                  </a:lnTo>
                  <a:lnTo>
                    <a:pt x="3045" y="2780"/>
                  </a:lnTo>
                  <a:lnTo>
                    <a:pt x="3045" y="2772"/>
                  </a:lnTo>
                  <a:lnTo>
                    <a:pt x="3045" y="2763"/>
                  </a:lnTo>
                  <a:lnTo>
                    <a:pt x="3036" y="2754"/>
                  </a:lnTo>
                  <a:lnTo>
                    <a:pt x="3027" y="2743"/>
                  </a:lnTo>
                  <a:lnTo>
                    <a:pt x="3024" y="2734"/>
                  </a:lnTo>
                  <a:lnTo>
                    <a:pt x="3021" y="2726"/>
                  </a:lnTo>
                  <a:lnTo>
                    <a:pt x="3018" y="2717"/>
                  </a:lnTo>
                  <a:lnTo>
                    <a:pt x="3010" y="2708"/>
                  </a:lnTo>
                  <a:lnTo>
                    <a:pt x="3001" y="2705"/>
                  </a:lnTo>
                  <a:lnTo>
                    <a:pt x="3001" y="2697"/>
                  </a:lnTo>
                  <a:lnTo>
                    <a:pt x="3010" y="2694"/>
                  </a:lnTo>
                  <a:lnTo>
                    <a:pt x="3018" y="2688"/>
                  </a:lnTo>
                  <a:lnTo>
                    <a:pt x="3027" y="2682"/>
                  </a:lnTo>
                  <a:lnTo>
                    <a:pt x="3030" y="2674"/>
                  </a:lnTo>
                  <a:lnTo>
                    <a:pt x="3039" y="2665"/>
                  </a:lnTo>
                  <a:lnTo>
                    <a:pt x="3045" y="2657"/>
                  </a:lnTo>
                  <a:lnTo>
                    <a:pt x="3056" y="2659"/>
                  </a:lnTo>
                  <a:lnTo>
                    <a:pt x="3065" y="2665"/>
                  </a:lnTo>
                  <a:lnTo>
                    <a:pt x="3074" y="2665"/>
                  </a:lnTo>
                  <a:lnTo>
                    <a:pt x="3077" y="2657"/>
                  </a:lnTo>
                  <a:lnTo>
                    <a:pt x="3077" y="2645"/>
                  </a:lnTo>
                  <a:lnTo>
                    <a:pt x="3077" y="2636"/>
                  </a:lnTo>
                  <a:lnTo>
                    <a:pt x="3077" y="2628"/>
                  </a:lnTo>
                  <a:lnTo>
                    <a:pt x="3071" y="2619"/>
                  </a:lnTo>
                  <a:lnTo>
                    <a:pt x="3062" y="2613"/>
                  </a:lnTo>
                  <a:lnTo>
                    <a:pt x="3056" y="2605"/>
                  </a:lnTo>
                  <a:lnTo>
                    <a:pt x="3056" y="2596"/>
                  </a:lnTo>
                  <a:lnTo>
                    <a:pt x="3053" y="2582"/>
                  </a:lnTo>
                  <a:lnTo>
                    <a:pt x="3053" y="2573"/>
                  </a:lnTo>
                  <a:lnTo>
                    <a:pt x="3062" y="2567"/>
                  </a:lnTo>
                  <a:lnTo>
                    <a:pt x="3071" y="2567"/>
                  </a:lnTo>
                  <a:lnTo>
                    <a:pt x="3080" y="2564"/>
                  </a:lnTo>
                  <a:lnTo>
                    <a:pt x="3088" y="2564"/>
                  </a:lnTo>
                  <a:lnTo>
                    <a:pt x="3097" y="2561"/>
                  </a:lnTo>
                  <a:lnTo>
                    <a:pt x="3109" y="2556"/>
                  </a:lnTo>
                  <a:lnTo>
                    <a:pt x="3117" y="2547"/>
                  </a:lnTo>
                  <a:lnTo>
                    <a:pt x="3120" y="2538"/>
                  </a:lnTo>
                  <a:lnTo>
                    <a:pt x="3120" y="2530"/>
                  </a:lnTo>
                  <a:lnTo>
                    <a:pt x="3120" y="2521"/>
                  </a:lnTo>
                  <a:lnTo>
                    <a:pt x="3120" y="2512"/>
                  </a:lnTo>
                  <a:lnTo>
                    <a:pt x="3114" y="2501"/>
                  </a:lnTo>
                  <a:lnTo>
                    <a:pt x="3112" y="2489"/>
                  </a:lnTo>
                  <a:lnTo>
                    <a:pt x="3112" y="2481"/>
                  </a:lnTo>
                  <a:lnTo>
                    <a:pt x="3112" y="2472"/>
                  </a:lnTo>
                  <a:lnTo>
                    <a:pt x="3120" y="2463"/>
                  </a:lnTo>
                  <a:lnTo>
                    <a:pt x="3129" y="2461"/>
                  </a:lnTo>
                  <a:lnTo>
                    <a:pt x="3135" y="2452"/>
                  </a:lnTo>
                  <a:lnTo>
                    <a:pt x="3135" y="2443"/>
                  </a:lnTo>
                  <a:lnTo>
                    <a:pt x="3135" y="2435"/>
                  </a:lnTo>
                  <a:lnTo>
                    <a:pt x="3144" y="2429"/>
                  </a:lnTo>
                  <a:lnTo>
                    <a:pt x="3152" y="2420"/>
                  </a:lnTo>
                  <a:lnTo>
                    <a:pt x="3155" y="2412"/>
                  </a:lnTo>
                  <a:lnTo>
                    <a:pt x="3158" y="2403"/>
                  </a:lnTo>
                  <a:lnTo>
                    <a:pt x="3167" y="2394"/>
                  </a:lnTo>
                  <a:lnTo>
                    <a:pt x="3176" y="2386"/>
                  </a:lnTo>
                  <a:lnTo>
                    <a:pt x="3184" y="2380"/>
                  </a:lnTo>
                  <a:lnTo>
                    <a:pt x="3184" y="2371"/>
                  </a:lnTo>
                  <a:lnTo>
                    <a:pt x="3187" y="2363"/>
                  </a:lnTo>
                  <a:lnTo>
                    <a:pt x="3193" y="2354"/>
                  </a:lnTo>
                  <a:lnTo>
                    <a:pt x="3202" y="2348"/>
                  </a:lnTo>
                  <a:lnTo>
                    <a:pt x="3208" y="2340"/>
                  </a:lnTo>
                  <a:lnTo>
                    <a:pt x="3213" y="2331"/>
                  </a:lnTo>
                  <a:lnTo>
                    <a:pt x="3216" y="2322"/>
                  </a:lnTo>
                  <a:lnTo>
                    <a:pt x="3219" y="2314"/>
                  </a:lnTo>
                  <a:lnTo>
                    <a:pt x="3222" y="2305"/>
                  </a:lnTo>
                  <a:lnTo>
                    <a:pt x="3228" y="2296"/>
                  </a:lnTo>
                  <a:lnTo>
                    <a:pt x="3237" y="2291"/>
                  </a:lnTo>
                  <a:lnTo>
                    <a:pt x="3245" y="2291"/>
                  </a:lnTo>
                  <a:lnTo>
                    <a:pt x="3254" y="2285"/>
                  </a:lnTo>
                  <a:lnTo>
                    <a:pt x="3263" y="2282"/>
                  </a:lnTo>
                  <a:lnTo>
                    <a:pt x="3272" y="2279"/>
                  </a:lnTo>
                  <a:lnTo>
                    <a:pt x="3280" y="2279"/>
                  </a:lnTo>
                  <a:lnTo>
                    <a:pt x="3289" y="2276"/>
                  </a:lnTo>
                  <a:lnTo>
                    <a:pt x="3298" y="2273"/>
                  </a:lnTo>
                  <a:lnTo>
                    <a:pt x="3307" y="2273"/>
                  </a:lnTo>
                  <a:lnTo>
                    <a:pt x="3318" y="2276"/>
                  </a:lnTo>
                  <a:lnTo>
                    <a:pt x="3327" y="2276"/>
                  </a:lnTo>
                  <a:lnTo>
                    <a:pt x="3336" y="2276"/>
                  </a:lnTo>
                  <a:lnTo>
                    <a:pt x="3344" y="2276"/>
                  </a:lnTo>
                  <a:lnTo>
                    <a:pt x="3344" y="2279"/>
                  </a:lnTo>
                  <a:lnTo>
                    <a:pt x="3356" y="2265"/>
                  </a:lnTo>
                  <a:lnTo>
                    <a:pt x="3365" y="2265"/>
                  </a:lnTo>
                  <a:lnTo>
                    <a:pt x="3374" y="2259"/>
                  </a:lnTo>
                  <a:lnTo>
                    <a:pt x="3382" y="2253"/>
                  </a:lnTo>
                  <a:lnTo>
                    <a:pt x="3385" y="2244"/>
                  </a:lnTo>
                  <a:lnTo>
                    <a:pt x="3391" y="2233"/>
                  </a:lnTo>
                  <a:lnTo>
                    <a:pt x="3400" y="2224"/>
                  </a:lnTo>
                  <a:lnTo>
                    <a:pt x="3397" y="2216"/>
                  </a:lnTo>
                  <a:lnTo>
                    <a:pt x="3391" y="2207"/>
                  </a:lnTo>
                  <a:lnTo>
                    <a:pt x="3382" y="2201"/>
                  </a:lnTo>
                  <a:lnTo>
                    <a:pt x="3376" y="2193"/>
                  </a:lnTo>
                  <a:lnTo>
                    <a:pt x="3368" y="2184"/>
                  </a:lnTo>
                  <a:lnTo>
                    <a:pt x="3362" y="2172"/>
                  </a:lnTo>
                  <a:lnTo>
                    <a:pt x="3356" y="2164"/>
                  </a:lnTo>
                  <a:lnTo>
                    <a:pt x="3356" y="2155"/>
                  </a:lnTo>
                  <a:lnTo>
                    <a:pt x="3356" y="2146"/>
                  </a:lnTo>
                  <a:lnTo>
                    <a:pt x="3368" y="2141"/>
                  </a:lnTo>
                  <a:lnTo>
                    <a:pt x="3376" y="2138"/>
                  </a:lnTo>
                  <a:lnTo>
                    <a:pt x="3385" y="2135"/>
                  </a:lnTo>
                  <a:lnTo>
                    <a:pt x="3394" y="2126"/>
                  </a:lnTo>
                  <a:lnTo>
                    <a:pt x="3400" y="2118"/>
                  </a:lnTo>
                  <a:lnTo>
                    <a:pt x="3406" y="2109"/>
                  </a:lnTo>
                  <a:lnTo>
                    <a:pt x="3414" y="2106"/>
                  </a:lnTo>
                  <a:lnTo>
                    <a:pt x="3426" y="2106"/>
                  </a:lnTo>
                  <a:lnTo>
                    <a:pt x="3435" y="2106"/>
                  </a:lnTo>
                  <a:lnTo>
                    <a:pt x="3443" y="2106"/>
                  </a:lnTo>
                  <a:lnTo>
                    <a:pt x="3452" y="2103"/>
                  </a:lnTo>
                  <a:lnTo>
                    <a:pt x="3461" y="2103"/>
                  </a:lnTo>
                  <a:lnTo>
                    <a:pt x="3470" y="2103"/>
                  </a:lnTo>
                  <a:lnTo>
                    <a:pt x="3478" y="2112"/>
                  </a:lnTo>
                  <a:lnTo>
                    <a:pt x="3484" y="2120"/>
                  </a:lnTo>
                  <a:lnTo>
                    <a:pt x="3493" y="2126"/>
                  </a:lnTo>
                  <a:lnTo>
                    <a:pt x="3502" y="2129"/>
                  </a:lnTo>
                  <a:lnTo>
                    <a:pt x="3510" y="2129"/>
                  </a:lnTo>
                  <a:lnTo>
                    <a:pt x="3519" y="2129"/>
                  </a:lnTo>
                  <a:lnTo>
                    <a:pt x="3528" y="2126"/>
                  </a:lnTo>
                  <a:lnTo>
                    <a:pt x="3537" y="2118"/>
                  </a:lnTo>
                  <a:lnTo>
                    <a:pt x="3542" y="2109"/>
                  </a:lnTo>
                  <a:lnTo>
                    <a:pt x="3548" y="2100"/>
                  </a:lnTo>
                  <a:lnTo>
                    <a:pt x="3551" y="2089"/>
                  </a:lnTo>
                  <a:lnTo>
                    <a:pt x="3554" y="2080"/>
                  </a:lnTo>
                  <a:lnTo>
                    <a:pt x="3563" y="2072"/>
                  </a:lnTo>
                  <a:lnTo>
                    <a:pt x="3572" y="2072"/>
                  </a:lnTo>
                  <a:lnTo>
                    <a:pt x="3583" y="2063"/>
                  </a:lnTo>
                  <a:lnTo>
                    <a:pt x="3589" y="2054"/>
                  </a:lnTo>
                  <a:lnTo>
                    <a:pt x="3595" y="2046"/>
                  </a:lnTo>
                  <a:lnTo>
                    <a:pt x="3604" y="2040"/>
                  </a:lnTo>
                  <a:lnTo>
                    <a:pt x="3612" y="2040"/>
                  </a:lnTo>
                  <a:lnTo>
                    <a:pt x="3621" y="2040"/>
                  </a:lnTo>
                  <a:lnTo>
                    <a:pt x="3630" y="2040"/>
                  </a:lnTo>
                  <a:lnTo>
                    <a:pt x="3638" y="2037"/>
                  </a:lnTo>
                  <a:lnTo>
                    <a:pt x="3647" y="2037"/>
                  </a:lnTo>
                  <a:lnTo>
                    <a:pt x="3656" y="2037"/>
                  </a:lnTo>
                  <a:lnTo>
                    <a:pt x="3665" y="2037"/>
                  </a:lnTo>
                  <a:lnTo>
                    <a:pt x="3673" y="2034"/>
                  </a:lnTo>
                  <a:lnTo>
                    <a:pt x="3682" y="2031"/>
                  </a:lnTo>
                  <a:lnTo>
                    <a:pt x="3691" y="2028"/>
                  </a:lnTo>
                  <a:lnTo>
                    <a:pt x="3700" y="2023"/>
                  </a:lnTo>
                  <a:lnTo>
                    <a:pt x="3705" y="2014"/>
                  </a:lnTo>
                  <a:lnTo>
                    <a:pt x="3714" y="2005"/>
                  </a:lnTo>
                  <a:lnTo>
                    <a:pt x="3723" y="1997"/>
                  </a:lnTo>
                  <a:lnTo>
                    <a:pt x="3726" y="1988"/>
                  </a:lnTo>
                  <a:lnTo>
                    <a:pt x="3735" y="1976"/>
                  </a:lnTo>
                  <a:lnTo>
                    <a:pt x="3740" y="1968"/>
                  </a:lnTo>
                  <a:lnTo>
                    <a:pt x="3746" y="1959"/>
                  </a:lnTo>
                  <a:lnTo>
                    <a:pt x="3749" y="1950"/>
                  </a:lnTo>
                  <a:lnTo>
                    <a:pt x="3755" y="1939"/>
                  </a:lnTo>
                  <a:lnTo>
                    <a:pt x="3761" y="1927"/>
                  </a:lnTo>
                  <a:lnTo>
                    <a:pt x="3767" y="1919"/>
                  </a:lnTo>
                  <a:lnTo>
                    <a:pt x="3767" y="1910"/>
                  </a:lnTo>
                  <a:lnTo>
                    <a:pt x="3758" y="1910"/>
                  </a:lnTo>
                  <a:lnTo>
                    <a:pt x="3758" y="1899"/>
                  </a:lnTo>
                  <a:lnTo>
                    <a:pt x="3758" y="1890"/>
                  </a:lnTo>
                  <a:lnTo>
                    <a:pt x="3767" y="1881"/>
                  </a:lnTo>
                  <a:lnTo>
                    <a:pt x="3775" y="1881"/>
                  </a:lnTo>
                  <a:lnTo>
                    <a:pt x="3781" y="1873"/>
                  </a:lnTo>
                  <a:lnTo>
                    <a:pt x="3784" y="1864"/>
                  </a:lnTo>
                  <a:lnTo>
                    <a:pt x="3787" y="1855"/>
                  </a:lnTo>
                  <a:lnTo>
                    <a:pt x="3796" y="1850"/>
                  </a:lnTo>
                  <a:lnTo>
                    <a:pt x="3804" y="1847"/>
                  </a:lnTo>
                  <a:lnTo>
                    <a:pt x="3813" y="1844"/>
                  </a:lnTo>
                  <a:lnTo>
                    <a:pt x="3822" y="1838"/>
                  </a:lnTo>
                  <a:lnTo>
                    <a:pt x="3831" y="1835"/>
                  </a:lnTo>
                  <a:lnTo>
                    <a:pt x="3839" y="1824"/>
                  </a:lnTo>
                  <a:lnTo>
                    <a:pt x="3845" y="1815"/>
                  </a:lnTo>
                  <a:lnTo>
                    <a:pt x="3851" y="1806"/>
                  </a:lnTo>
                  <a:lnTo>
                    <a:pt x="3857" y="1798"/>
                  </a:lnTo>
                  <a:lnTo>
                    <a:pt x="3860" y="1789"/>
                  </a:lnTo>
                  <a:lnTo>
                    <a:pt x="3863" y="1780"/>
                  </a:lnTo>
                  <a:lnTo>
                    <a:pt x="3857" y="1772"/>
                  </a:lnTo>
                  <a:lnTo>
                    <a:pt x="3851" y="1763"/>
                  </a:lnTo>
                  <a:lnTo>
                    <a:pt x="3842" y="1760"/>
                  </a:lnTo>
                  <a:lnTo>
                    <a:pt x="3834" y="1752"/>
                  </a:lnTo>
                  <a:lnTo>
                    <a:pt x="3831" y="1743"/>
                  </a:lnTo>
                  <a:lnTo>
                    <a:pt x="3828" y="1734"/>
                  </a:lnTo>
                  <a:lnTo>
                    <a:pt x="3825" y="1726"/>
                  </a:lnTo>
                  <a:lnTo>
                    <a:pt x="3822" y="1714"/>
                  </a:lnTo>
                  <a:lnTo>
                    <a:pt x="3819" y="1706"/>
                  </a:lnTo>
                  <a:lnTo>
                    <a:pt x="3816" y="1697"/>
                  </a:lnTo>
                  <a:lnTo>
                    <a:pt x="3813" y="1685"/>
                  </a:lnTo>
                  <a:lnTo>
                    <a:pt x="3810" y="1677"/>
                  </a:lnTo>
                  <a:lnTo>
                    <a:pt x="3807" y="1668"/>
                  </a:lnTo>
                  <a:lnTo>
                    <a:pt x="3804" y="1659"/>
                  </a:lnTo>
                  <a:lnTo>
                    <a:pt x="3796" y="1657"/>
                  </a:lnTo>
                  <a:lnTo>
                    <a:pt x="3787" y="1657"/>
                  </a:lnTo>
                  <a:lnTo>
                    <a:pt x="3775" y="1657"/>
                  </a:lnTo>
                  <a:lnTo>
                    <a:pt x="3767" y="1648"/>
                  </a:lnTo>
                  <a:lnTo>
                    <a:pt x="3767" y="1639"/>
                  </a:lnTo>
                  <a:lnTo>
                    <a:pt x="3767" y="1631"/>
                  </a:lnTo>
                  <a:lnTo>
                    <a:pt x="3767" y="1622"/>
                  </a:lnTo>
                  <a:lnTo>
                    <a:pt x="3767" y="1613"/>
                  </a:lnTo>
                  <a:lnTo>
                    <a:pt x="3770" y="1605"/>
                  </a:lnTo>
                  <a:lnTo>
                    <a:pt x="3770" y="1596"/>
                  </a:lnTo>
                  <a:lnTo>
                    <a:pt x="3772" y="1587"/>
                  </a:lnTo>
                  <a:lnTo>
                    <a:pt x="3810" y="1541"/>
                  </a:lnTo>
                  <a:lnTo>
                    <a:pt x="3793" y="1541"/>
                  </a:lnTo>
                  <a:lnTo>
                    <a:pt x="3799" y="1533"/>
                  </a:lnTo>
                  <a:lnTo>
                    <a:pt x="3807" y="1530"/>
                  </a:lnTo>
                  <a:lnTo>
                    <a:pt x="3816" y="1527"/>
                  </a:lnTo>
                  <a:lnTo>
                    <a:pt x="3828" y="1527"/>
                  </a:lnTo>
                  <a:lnTo>
                    <a:pt x="3839" y="1527"/>
                  </a:lnTo>
                  <a:lnTo>
                    <a:pt x="3851" y="1524"/>
                  </a:lnTo>
                  <a:lnTo>
                    <a:pt x="3863" y="1524"/>
                  </a:lnTo>
                  <a:lnTo>
                    <a:pt x="3874" y="1524"/>
                  </a:lnTo>
                  <a:lnTo>
                    <a:pt x="3883" y="1527"/>
                  </a:lnTo>
                  <a:lnTo>
                    <a:pt x="3892" y="1530"/>
                  </a:lnTo>
                  <a:lnTo>
                    <a:pt x="3901" y="1533"/>
                  </a:lnTo>
                  <a:lnTo>
                    <a:pt x="3909" y="1535"/>
                  </a:lnTo>
                  <a:lnTo>
                    <a:pt x="3918" y="1535"/>
                  </a:lnTo>
                  <a:lnTo>
                    <a:pt x="3930" y="1535"/>
                  </a:lnTo>
                  <a:lnTo>
                    <a:pt x="3941" y="1535"/>
                  </a:lnTo>
                  <a:lnTo>
                    <a:pt x="3950" y="1535"/>
                  </a:lnTo>
                  <a:lnTo>
                    <a:pt x="3959" y="1535"/>
                  </a:lnTo>
                  <a:lnTo>
                    <a:pt x="3970" y="1541"/>
                  </a:lnTo>
                  <a:lnTo>
                    <a:pt x="3979" y="1541"/>
                  </a:lnTo>
                  <a:lnTo>
                    <a:pt x="3985" y="1550"/>
                  </a:lnTo>
                  <a:lnTo>
                    <a:pt x="3997" y="1559"/>
                  </a:lnTo>
                  <a:lnTo>
                    <a:pt x="4005" y="1561"/>
                  </a:lnTo>
                  <a:lnTo>
                    <a:pt x="4017" y="1561"/>
                  </a:lnTo>
                  <a:lnTo>
                    <a:pt x="4026" y="1559"/>
                  </a:lnTo>
                  <a:lnTo>
                    <a:pt x="4029" y="1550"/>
                  </a:lnTo>
                  <a:lnTo>
                    <a:pt x="4037" y="1541"/>
                  </a:lnTo>
                  <a:lnTo>
                    <a:pt x="4040" y="1533"/>
                  </a:lnTo>
                  <a:lnTo>
                    <a:pt x="4043" y="1524"/>
                  </a:lnTo>
                  <a:lnTo>
                    <a:pt x="4055" y="1512"/>
                  </a:lnTo>
                  <a:lnTo>
                    <a:pt x="4066" y="1507"/>
                  </a:lnTo>
                  <a:lnTo>
                    <a:pt x="4075" y="1498"/>
                  </a:lnTo>
                  <a:lnTo>
                    <a:pt x="4084" y="1495"/>
                  </a:lnTo>
                  <a:lnTo>
                    <a:pt x="4093" y="1495"/>
                  </a:lnTo>
                  <a:lnTo>
                    <a:pt x="4101" y="1495"/>
                  </a:lnTo>
                  <a:lnTo>
                    <a:pt x="4110" y="1495"/>
                  </a:lnTo>
                  <a:lnTo>
                    <a:pt x="4119" y="1501"/>
                  </a:lnTo>
                  <a:lnTo>
                    <a:pt x="4130" y="1510"/>
                  </a:lnTo>
                  <a:lnTo>
                    <a:pt x="4139" y="1512"/>
                  </a:lnTo>
                  <a:lnTo>
                    <a:pt x="4148" y="1507"/>
                  </a:lnTo>
                  <a:lnTo>
                    <a:pt x="4154" y="1498"/>
                  </a:lnTo>
                  <a:lnTo>
                    <a:pt x="4157" y="1489"/>
                  </a:lnTo>
                  <a:lnTo>
                    <a:pt x="4165" y="1478"/>
                  </a:lnTo>
                  <a:lnTo>
                    <a:pt x="4168" y="1466"/>
                  </a:lnTo>
                  <a:lnTo>
                    <a:pt x="4163" y="1458"/>
                  </a:lnTo>
                  <a:lnTo>
                    <a:pt x="4157" y="1449"/>
                  </a:lnTo>
                  <a:lnTo>
                    <a:pt x="4154" y="1438"/>
                  </a:lnTo>
                  <a:lnTo>
                    <a:pt x="4151" y="1429"/>
                  </a:lnTo>
                  <a:lnTo>
                    <a:pt x="4151" y="1420"/>
                  </a:lnTo>
                  <a:lnTo>
                    <a:pt x="4151" y="1409"/>
                  </a:lnTo>
                  <a:lnTo>
                    <a:pt x="4151" y="1400"/>
                  </a:lnTo>
                  <a:lnTo>
                    <a:pt x="4160" y="1394"/>
                  </a:lnTo>
                  <a:lnTo>
                    <a:pt x="4174" y="1400"/>
                  </a:lnTo>
                  <a:lnTo>
                    <a:pt x="4183" y="1403"/>
                  </a:lnTo>
                  <a:lnTo>
                    <a:pt x="4183" y="1412"/>
                  </a:lnTo>
                  <a:lnTo>
                    <a:pt x="4192" y="1420"/>
                  </a:lnTo>
                  <a:lnTo>
                    <a:pt x="4203" y="1432"/>
                  </a:lnTo>
                  <a:lnTo>
                    <a:pt x="4212" y="1440"/>
                  </a:lnTo>
                  <a:lnTo>
                    <a:pt x="4215" y="1449"/>
                  </a:lnTo>
                  <a:lnTo>
                    <a:pt x="4218" y="1458"/>
                  </a:lnTo>
                  <a:lnTo>
                    <a:pt x="4227" y="1472"/>
                  </a:lnTo>
                  <a:lnTo>
                    <a:pt x="4235" y="1478"/>
                  </a:lnTo>
                  <a:lnTo>
                    <a:pt x="4241" y="1487"/>
                  </a:lnTo>
                  <a:lnTo>
                    <a:pt x="4253" y="1495"/>
                  </a:lnTo>
                  <a:lnTo>
                    <a:pt x="4264" y="1501"/>
                  </a:lnTo>
                  <a:lnTo>
                    <a:pt x="4270" y="1510"/>
                  </a:lnTo>
                  <a:lnTo>
                    <a:pt x="4273" y="1518"/>
                  </a:lnTo>
                  <a:lnTo>
                    <a:pt x="4273" y="1527"/>
                  </a:lnTo>
                  <a:lnTo>
                    <a:pt x="4273" y="1535"/>
                  </a:lnTo>
                  <a:lnTo>
                    <a:pt x="4273" y="1544"/>
                  </a:lnTo>
                  <a:lnTo>
                    <a:pt x="4264" y="1550"/>
                  </a:lnTo>
                  <a:lnTo>
                    <a:pt x="4256" y="1553"/>
                  </a:lnTo>
                  <a:lnTo>
                    <a:pt x="4256" y="1564"/>
                  </a:lnTo>
                  <a:lnTo>
                    <a:pt x="4256" y="1573"/>
                  </a:lnTo>
                  <a:lnTo>
                    <a:pt x="4256" y="1582"/>
                  </a:lnTo>
                  <a:lnTo>
                    <a:pt x="4264" y="1587"/>
                  </a:lnTo>
                  <a:lnTo>
                    <a:pt x="4276" y="1590"/>
                  </a:lnTo>
                  <a:lnTo>
                    <a:pt x="4285" y="1590"/>
                  </a:lnTo>
                  <a:lnTo>
                    <a:pt x="4294" y="1599"/>
                  </a:lnTo>
                  <a:lnTo>
                    <a:pt x="4302" y="1608"/>
                  </a:lnTo>
                  <a:lnTo>
                    <a:pt x="4314" y="1610"/>
                  </a:lnTo>
                  <a:lnTo>
                    <a:pt x="4326" y="1616"/>
                  </a:lnTo>
                  <a:lnTo>
                    <a:pt x="4334" y="1619"/>
                  </a:lnTo>
                  <a:lnTo>
                    <a:pt x="4340" y="1628"/>
                  </a:lnTo>
                  <a:lnTo>
                    <a:pt x="4343" y="1636"/>
                  </a:lnTo>
                  <a:lnTo>
                    <a:pt x="4343" y="1645"/>
                  </a:lnTo>
                  <a:lnTo>
                    <a:pt x="4343" y="1654"/>
                  </a:lnTo>
                  <a:lnTo>
                    <a:pt x="4343" y="1662"/>
                  </a:lnTo>
                  <a:lnTo>
                    <a:pt x="4346" y="1671"/>
                  </a:lnTo>
                  <a:lnTo>
                    <a:pt x="4355" y="1671"/>
                  </a:lnTo>
                  <a:lnTo>
                    <a:pt x="4366" y="1671"/>
                  </a:lnTo>
                  <a:lnTo>
                    <a:pt x="4369" y="1662"/>
                  </a:lnTo>
                  <a:lnTo>
                    <a:pt x="4363" y="1654"/>
                  </a:lnTo>
                  <a:lnTo>
                    <a:pt x="4360" y="1645"/>
                  </a:lnTo>
                  <a:lnTo>
                    <a:pt x="4355" y="1636"/>
                  </a:lnTo>
                  <a:lnTo>
                    <a:pt x="4352" y="1628"/>
                  </a:lnTo>
                  <a:lnTo>
                    <a:pt x="4349" y="1619"/>
                  </a:lnTo>
                  <a:lnTo>
                    <a:pt x="4346" y="1610"/>
                  </a:lnTo>
                  <a:lnTo>
                    <a:pt x="4346" y="1602"/>
                  </a:lnTo>
                  <a:lnTo>
                    <a:pt x="4346" y="1590"/>
                  </a:lnTo>
                  <a:lnTo>
                    <a:pt x="4346" y="1582"/>
                  </a:lnTo>
                  <a:lnTo>
                    <a:pt x="4355" y="1579"/>
                  </a:lnTo>
                  <a:lnTo>
                    <a:pt x="4363" y="1582"/>
                  </a:lnTo>
                  <a:lnTo>
                    <a:pt x="4372" y="1582"/>
                  </a:lnTo>
                  <a:lnTo>
                    <a:pt x="4381" y="1573"/>
                  </a:lnTo>
                  <a:lnTo>
                    <a:pt x="4390" y="1567"/>
                  </a:lnTo>
                  <a:lnTo>
                    <a:pt x="4393" y="1559"/>
                  </a:lnTo>
                  <a:lnTo>
                    <a:pt x="4393" y="1550"/>
                  </a:lnTo>
                  <a:lnTo>
                    <a:pt x="4393" y="1541"/>
                  </a:lnTo>
                  <a:lnTo>
                    <a:pt x="4393" y="1533"/>
                  </a:lnTo>
                  <a:lnTo>
                    <a:pt x="4393" y="1524"/>
                  </a:lnTo>
                  <a:lnTo>
                    <a:pt x="4393" y="1515"/>
                  </a:lnTo>
                  <a:lnTo>
                    <a:pt x="4390" y="1504"/>
                  </a:lnTo>
                  <a:lnTo>
                    <a:pt x="4384" y="1495"/>
                  </a:lnTo>
                  <a:lnTo>
                    <a:pt x="4381" y="1484"/>
                  </a:lnTo>
                  <a:lnTo>
                    <a:pt x="4378" y="1475"/>
                  </a:lnTo>
                  <a:lnTo>
                    <a:pt x="4369" y="1463"/>
                  </a:lnTo>
                  <a:lnTo>
                    <a:pt x="4363" y="1455"/>
                  </a:lnTo>
                  <a:lnTo>
                    <a:pt x="4360" y="1446"/>
                  </a:lnTo>
                  <a:lnTo>
                    <a:pt x="4358" y="1438"/>
                  </a:lnTo>
                  <a:lnTo>
                    <a:pt x="4352" y="1429"/>
                  </a:lnTo>
                  <a:lnTo>
                    <a:pt x="4346" y="1417"/>
                  </a:lnTo>
                  <a:lnTo>
                    <a:pt x="4340" y="1409"/>
                  </a:lnTo>
                  <a:lnTo>
                    <a:pt x="4337" y="1397"/>
                  </a:lnTo>
                  <a:lnTo>
                    <a:pt x="4334" y="1389"/>
                  </a:lnTo>
                  <a:lnTo>
                    <a:pt x="4334" y="1380"/>
                  </a:lnTo>
                  <a:lnTo>
                    <a:pt x="4331" y="1371"/>
                  </a:lnTo>
                  <a:lnTo>
                    <a:pt x="4328" y="1360"/>
                  </a:lnTo>
                  <a:lnTo>
                    <a:pt x="4323" y="1351"/>
                  </a:lnTo>
                  <a:lnTo>
                    <a:pt x="4320" y="1342"/>
                  </a:lnTo>
                  <a:lnTo>
                    <a:pt x="4314" y="1334"/>
                  </a:lnTo>
                  <a:lnTo>
                    <a:pt x="4305" y="1325"/>
                  </a:lnTo>
                  <a:lnTo>
                    <a:pt x="4296" y="1316"/>
                  </a:lnTo>
                  <a:lnTo>
                    <a:pt x="4288" y="1308"/>
                  </a:lnTo>
                  <a:lnTo>
                    <a:pt x="4276" y="1311"/>
                  </a:lnTo>
                  <a:lnTo>
                    <a:pt x="4279" y="1291"/>
                  </a:lnTo>
                  <a:lnTo>
                    <a:pt x="4276" y="1282"/>
                  </a:lnTo>
                  <a:lnTo>
                    <a:pt x="4270" y="1273"/>
                  </a:lnTo>
                  <a:lnTo>
                    <a:pt x="4261" y="1267"/>
                  </a:lnTo>
                  <a:lnTo>
                    <a:pt x="4253" y="1259"/>
                  </a:lnTo>
                  <a:lnTo>
                    <a:pt x="4244" y="1250"/>
                  </a:lnTo>
                  <a:lnTo>
                    <a:pt x="4238" y="1242"/>
                  </a:lnTo>
                  <a:lnTo>
                    <a:pt x="4232" y="1233"/>
                  </a:lnTo>
                  <a:lnTo>
                    <a:pt x="4229" y="1224"/>
                  </a:lnTo>
                  <a:lnTo>
                    <a:pt x="4221" y="1218"/>
                  </a:lnTo>
                  <a:lnTo>
                    <a:pt x="4212" y="1210"/>
                  </a:lnTo>
                  <a:lnTo>
                    <a:pt x="4200" y="1201"/>
                  </a:lnTo>
                  <a:lnTo>
                    <a:pt x="4192" y="1195"/>
                  </a:lnTo>
                  <a:lnTo>
                    <a:pt x="4183" y="1193"/>
                  </a:lnTo>
                  <a:lnTo>
                    <a:pt x="4171" y="1187"/>
                  </a:lnTo>
                  <a:lnTo>
                    <a:pt x="4163" y="1184"/>
                  </a:lnTo>
                  <a:lnTo>
                    <a:pt x="4154" y="1181"/>
                  </a:lnTo>
                  <a:lnTo>
                    <a:pt x="4145" y="1175"/>
                  </a:lnTo>
                  <a:lnTo>
                    <a:pt x="4136" y="1170"/>
                  </a:lnTo>
                  <a:lnTo>
                    <a:pt x="4130" y="1161"/>
                  </a:lnTo>
                  <a:lnTo>
                    <a:pt x="4119" y="1152"/>
                  </a:lnTo>
                  <a:lnTo>
                    <a:pt x="4110" y="1149"/>
                  </a:lnTo>
                  <a:lnTo>
                    <a:pt x="4098" y="1144"/>
                  </a:lnTo>
                  <a:lnTo>
                    <a:pt x="4090" y="1144"/>
                  </a:lnTo>
                  <a:lnTo>
                    <a:pt x="4078" y="1135"/>
                  </a:lnTo>
                  <a:lnTo>
                    <a:pt x="4069" y="1126"/>
                  </a:lnTo>
                  <a:lnTo>
                    <a:pt x="4064" y="1118"/>
                  </a:lnTo>
                  <a:lnTo>
                    <a:pt x="4058" y="1109"/>
                  </a:lnTo>
                  <a:lnTo>
                    <a:pt x="4049" y="1103"/>
                  </a:lnTo>
                  <a:lnTo>
                    <a:pt x="4058" y="1100"/>
                  </a:lnTo>
                  <a:lnTo>
                    <a:pt x="4066" y="1100"/>
                  </a:lnTo>
                  <a:lnTo>
                    <a:pt x="4078" y="1100"/>
                  </a:lnTo>
                  <a:lnTo>
                    <a:pt x="4090" y="1103"/>
                  </a:lnTo>
                  <a:lnTo>
                    <a:pt x="4098" y="1109"/>
                  </a:lnTo>
                  <a:lnTo>
                    <a:pt x="4107" y="1112"/>
                  </a:lnTo>
                  <a:lnTo>
                    <a:pt x="4116" y="1115"/>
                  </a:lnTo>
                  <a:lnTo>
                    <a:pt x="4125" y="1121"/>
                  </a:lnTo>
                  <a:lnTo>
                    <a:pt x="4133" y="1126"/>
                  </a:lnTo>
                  <a:lnTo>
                    <a:pt x="4142" y="1129"/>
                  </a:lnTo>
                  <a:lnTo>
                    <a:pt x="4154" y="1138"/>
                  </a:lnTo>
                  <a:lnTo>
                    <a:pt x="4163" y="1141"/>
                  </a:lnTo>
                  <a:lnTo>
                    <a:pt x="4171" y="1144"/>
                  </a:lnTo>
                  <a:lnTo>
                    <a:pt x="4180" y="1146"/>
                  </a:lnTo>
                  <a:lnTo>
                    <a:pt x="4192" y="1146"/>
                  </a:lnTo>
                  <a:lnTo>
                    <a:pt x="4200" y="1146"/>
                  </a:lnTo>
                  <a:lnTo>
                    <a:pt x="4212" y="1149"/>
                  </a:lnTo>
                  <a:lnTo>
                    <a:pt x="4221" y="1149"/>
                  </a:lnTo>
                  <a:lnTo>
                    <a:pt x="4229" y="1152"/>
                  </a:lnTo>
                  <a:lnTo>
                    <a:pt x="4238" y="1155"/>
                  </a:lnTo>
                  <a:lnTo>
                    <a:pt x="4247" y="1161"/>
                  </a:lnTo>
                  <a:lnTo>
                    <a:pt x="4256" y="1164"/>
                  </a:lnTo>
                  <a:lnTo>
                    <a:pt x="4264" y="1170"/>
                  </a:lnTo>
                  <a:lnTo>
                    <a:pt x="4273" y="1172"/>
                  </a:lnTo>
                  <a:lnTo>
                    <a:pt x="4282" y="1178"/>
                  </a:lnTo>
                  <a:lnTo>
                    <a:pt x="4291" y="1181"/>
                  </a:lnTo>
                  <a:lnTo>
                    <a:pt x="4299" y="1187"/>
                  </a:lnTo>
                  <a:lnTo>
                    <a:pt x="4308" y="1190"/>
                  </a:lnTo>
                  <a:lnTo>
                    <a:pt x="4317" y="1193"/>
                  </a:lnTo>
                  <a:lnTo>
                    <a:pt x="4326" y="1195"/>
                  </a:lnTo>
                  <a:lnTo>
                    <a:pt x="4334" y="1195"/>
                  </a:lnTo>
                  <a:lnTo>
                    <a:pt x="4326" y="1190"/>
                  </a:lnTo>
                  <a:lnTo>
                    <a:pt x="4314" y="1178"/>
                  </a:lnTo>
                  <a:lnTo>
                    <a:pt x="4305" y="1170"/>
                  </a:lnTo>
                  <a:lnTo>
                    <a:pt x="4305" y="1161"/>
                  </a:lnTo>
                  <a:lnTo>
                    <a:pt x="4317" y="1158"/>
                  </a:lnTo>
                  <a:lnTo>
                    <a:pt x="4328" y="1158"/>
                  </a:lnTo>
                  <a:lnTo>
                    <a:pt x="4337" y="1158"/>
                  </a:lnTo>
                  <a:lnTo>
                    <a:pt x="4346" y="1158"/>
                  </a:lnTo>
                  <a:lnTo>
                    <a:pt x="4346" y="1149"/>
                  </a:lnTo>
                  <a:lnTo>
                    <a:pt x="4349" y="1138"/>
                  </a:lnTo>
                  <a:lnTo>
                    <a:pt x="4349" y="1129"/>
                  </a:lnTo>
                  <a:lnTo>
                    <a:pt x="4340" y="1123"/>
                  </a:lnTo>
                  <a:lnTo>
                    <a:pt x="4331" y="1121"/>
                  </a:lnTo>
                  <a:lnTo>
                    <a:pt x="4323" y="1121"/>
                  </a:lnTo>
                  <a:lnTo>
                    <a:pt x="4314" y="1121"/>
                  </a:lnTo>
                  <a:lnTo>
                    <a:pt x="4302" y="1121"/>
                  </a:lnTo>
                  <a:lnTo>
                    <a:pt x="4296" y="1132"/>
                  </a:lnTo>
                  <a:lnTo>
                    <a:pt x="4288" y="1138"/>
                  </a:lnTo>
                  <a:lnTo>
                    <a:pt x="4279" y="1144"/>
                  </a:lnTo>
                  <a:lnTo>
                    <a:pt x="4270" y="1144"/>
                  </a:lnTo>
                  <a:lnTo>
                    <a:pt x="4261" y="1144"/>
                  </a:lnTo>
                  <a:lnTo>
                    <a:pt x="4253" y="1144"/>
                  </a:lnTo>
                  <a:lnTo>
                    <a:pt x="4244" y="1144"/>
                  </a:lnTo>
                  <a:lnTo>
                    <a:pt x="4238" y="1135"/>
                  </a:lnTo>
                  <a:lnTo>
                    <a:pt x="4227" y="1126"/>
                  </a:lnTo>
                  <a:lnTo>
                    <a:pt x="4218" y="1115"/>
                  </a:lnTo>
                  <a:lnTo>
                    <a:pt x="4209" y="1109"/>
                  </a:lnTo>
                  <a:lnTo>
                    <a:pt x="4197" y="1100"/>
                  </a:lnTo>
                  <a:lnTo>
                    <a:pt x="4192" y="1092"/>
                  </a:lnTo>
                  <a:lnTo>
                    <a:pt x="4200" y="1086"/>
                  </a:lnTo>
                  <a:lnTo>
                    <a:pt x="4209" y="1077"/>
                  </a:lnTo>
                  <a:lnTo>
                    <a:pt x="4218" y="1072"/>
                  </a:lnTo>
                  <a:lnTo>
                    <a:pt x="4227" y="1063"/>
                  </a:lnTo>
                  <a:lnTo>
                    <a:pt x="4229" y="1054"/>
                  </a:lnTo>
                  <a:lnTo>
                    <a:pt x="4221" y="1048"/>
                  </a:lnTo>
                  <a:lnTo>
                    <a:pt x="4209" y="1048"/>
                  </a:lnTo>
                  <a:lnTo>
                    <a:pt x="4200" y="1048"/>
                  </a:lnTo>
                  <a:lnTo>
                    <a:pt x="4189" y="1048"/>
                  </a:lnTo>
                  <a:lnTo>
                    <a:pt x="4180" y="1051"/>
                  </a:lnTo>
                  <a:lnTo>
                    <a:pt x="4171" y="1057"/>
                  </a:lnTo>
                  <a:lnTo>
                    <a:pt x="4160" y="1057"/>
                  </a:lnTo>
                  <a:lnTo>
                    <a:pt x="4151" y="1057"/>
                  </a:lnTo>
                  <a:lnTo>
                    <a:pt x="4142" y="1057"/>
                  </a:lnTo>
                  <a:lnTo>
                    <a:pt x="4133" y="1057"/>
                  </a:lnTo>
                  <a:lnTo>
                    <a:pt x="4125" y="1057"/>
                  </a:lnTo>
                  <a:lnTo>
                    <a:pt x="4116" y="1057"/>
                  </a:lnTo>
                  <a:lnTo>
                    <a:pt x="4107" y="1057"/>
                  </a:lnTo>
                  <a:lnTo>
                    <a:pt x="4098" y="1057"/>
                  </a:lnTo>
                  <a:lnTo>
                    <a:pt x="4090" y="1057"/>
                  </a:lnTo>
                  <a:lnTo>
                    <a:pt x="4081" y="1057"/>
                  </a:lnTo>
                  <a:lnTo>
                    <a:pt x="4072" y="1057"/>
                  </a:lnTo>
                  <a:lnTo>
                    <a:pt x="4064" y="1054"/>
                  </a:lnTo>
                  <a:lnTo>
                    <a:pt x="4055" y="1051"/>
                  </a:lnTo>
                  <a:lnTo>
                    <a:pt x="4043" y="1048"/>
                  </a:lnTo>
                  <a:lnTo>
                    <a:pt x="4032" y="1043"/>
                  </a:lnTo>
                  <a:lnTo>
                    <a:pt x="4023" y="1040"/>
                  </a:lnTo>
                  <a:lnTo>
                    <a:pt x="4008" y="1031"/>
                  </a:lnTo>
                  <a:lnTo>
                    <a:pt x="3994" y="1028"/>
                  </a:lnTo>
                  <a:lnTo>
                    <a:pt x="3982" y="1028"/>
                  </a:lnTo>
                  <a:lnTo>
                    <a:pt x="3973" y="1028"/>
                  </a:lnTo>
                  <a:lnTo>
                    <a:pt x="3965" y="1028"/>
                  </a:lnTo>
                  <a:lnTo>
                    <a:pt x="3953" y="1028"/>
                  </a:lnTo>
                  <a:lnTo>
                    <a:pt x="3941" y="1028"/>
                  </a:lnTo>
                  <a:lnTo>
                    <a:pt x="3933" y="1028"/>
                  </a:lnTo>
                  <a:lnTo>
                    <a:pt x="3927" y="1037"/>
                  </a:lnTo>
                  <a:lnTo>
                    <a:pt x="3941" y="1048"/>
                  </a:lnTo>
                  <a:lnTo>
                    <a:pt x="3950" y="1051"/>
                  </a:lnTo>
                  <a:lnTo>
                    <a:pt x="3962" y="1054"/>
                  </a:lnTo>
                  <a:lnTo>
                    <a:pt x="3970" y="1057"/>
                  </a:lnTo>
                  <a:lnTo>
                    <a:pt x="3979" y="1060"/>
                  </a:lnTo>
                  <a:lnTo>
                    <a:pt x="3982" y="1072"/>
                  </a:lnTo>
                  <a:lnTo>
                    <a:pt x="3982" y="1080"/>
                  </a:lnTo>
                  <a:lnTo>
                    <a:pt x="3982" y="1089"/>
                  </a:lnTo>
                  <a:lnTo>
                    <a:pt x="3994" y="1100"/>
                  </a:lnTo>
                  <a:lnTo>
                    <a:pt x="4002" y="1103"/>
                  </a:lnTo>
                  <a:lnTo>
                    <a:pt x="4014" y="1106"/>
                  </a:lnTo>
                  <a:lnTo>
                    <a:pt x="4026" y="1106"/>
                  </a:lnTo>
                  <a:lnTo>
                    <a:pt x="4034" y="1109"/>
                  </a:lnTo>
                  <a:lnTo>
                    <a:pt x="4046" y="1112"/>
                  </a:lnTo>
                  <a:lnTo>
                    <a:pt x="4037" y="1115"/>
                  </a:lnTo>
                  <a:lnTo>
                    <a:pt x="4029" y="1112"/>
                  </a:lnTo>
                  <a:lnTo>
                    <a:pt x="4020" y="1109"/>
                  </a:lnTo>
                  <a:lnTo>
                    <a:pt x="4011" y="1109"/>
                  </a:lnTo>
                  <a:lnTo>
                    <a:pt x="4002" y="1106"/>
                  </a:lnTo>
                  <a:lnTo>
                    <a:pt x="3994" y="1103"/>
                  </a:lnTo>
                  <a:lnTo>
                    <a:pt x="3979" y="1097"/>
                  </a:lnTo>
                  <a:lnTo>
                    <a:pt x="3970" y="1097"/>
                  </a:lnTo>
                  <a:lnTo>
                    <a:pt x="3962" y="1100"/>
                  </a:lnTo>
                  <a:lnTo>
                    <a:pt x="3959" y="1109"/>
                  </a:lnTo>
                  <a:lnTo>
                    <a:pt x="3950" y="1118"/>
                  </a:lnTo>
                  <a:lnTo>
                    <a:pt x="3941" y="1123"/>
                  </a:lnTo>
                  <a:lnTo>
                    <a:pt x="3935" y="1132"/>
                  </a:lnTo>
                  <a:lnTo>
                    <a:pt x="3927" y="1138"/>
                  </a:lnTo>
                  <a:lnTo>
                    <a:pt x="3927" y="1146"/>
                  </a:lnTo>
                  <a:lnTo>
                    <a:pt x="3930" y="1155"/>
                  </a:lnTo>
                  <a:lnTo>
                    <a:pt x="3938" y="1161"/>
                  </a:lnTo>
                  <a:lnTo>
                    <a:pt x="3941" y="1170"/>
                  </a:lnTo>
                  <a:lnTo>
                    <a:pt x="3941" y="1178"/>
                  </a:lnTo>
                  <a:lnTo>
                    <a:pt x="3941" y="1187"/>
                  </a:lnTo>
                  <a:lnTo>
                    <a:pt x="3938" y="1195"/>
                  </a:lnTo>
                  <a:lnTo>
                    <a:pt x="3933" y="1204"/>
                  </a:lnTo>
                  <a:lnTo>
                    <a:pt x="3924" y="1204"/>
                  </a:lnTo>
                  <a:lnTo>
                    <a:pt x="3915" y="1193"/>
                  </a:lnTo>
                  <a:lnTo>
                    <a:pt x="3912" y="1184"/>
                  </a:lnTo>
                  <a:lnTo>
                    <a:pt x="3903" y="1178"/>
                  </a:lnTo>
                  <a:lnTo>
                    <a:pt x="3892" y="1172"/>
                  </a:lnTo>
                  <a:lnTo>
                    <a:pt x="3883" y="1167"/>
                  </a:lnTo>
                  <a:lnTo>
                    <a:pt x="3877" y="1158"/>
                  </a:lnTo>
                  <a:lnTo>
                    <a:pt x="3874" y="1167"/>
                  </a:lnTo>
                  <a:lnTo>
                    <a:pt x="3874" y="1175"/>
                  </a:lnTo>
                  <a:lnTo>
                    <a:pt x="3874" y="1184"/>
                  </a:lnTo>
                  <a:lnTo>
                    <a:pt x="3886" y="1193"/>
                  </a:lnTo>
                  <a:lnTo>
                    <a:pt x="3898" y="1195"/>
                  </a:lnTo>
                  <a:lnTo>
                    <a:pt x="3906" y="1198"/>
                  </a:lnTo>
                  <a:lnTo>
                    <a:pt x="3915" y="1201"/>
                  </a:lnTo>
                  <a:lnTo>
                    <a:pt x="3924" y="1207"/>
                  </a:lnTo>
                  <a:lnTo>
                    <a:pt x="3912" y="1213"/>
                  </a:lnTo>
                  <a:lnTo>
                    <a:pt x="3903" y="1213"/>
                  </a:lnTo>
                  <a:lnTo>
                    <a:pt x="3895" y="1213"/>
                  </a:lnTo>
                  <a:lnTo>
                    <a:pt x="3886" y="1216"/>
                  </a:lnTo>
                  <a:lnTo>
                    <a:pt x="3886" y="1224"/>
                  </a:lnTo>
                  <a:lnTo>
                    <a:pt x="3880" y="1233"/>
                  </a:lnTo>
                  <a:lnTo>
                    <a:pt x="3868" y="1236"/>
                  </a:lnTo>
                  <a:lnTo>
                    <a:pt x="3860" y="1236"/>
                  </a:lnTo>
                  <a:lnTo>
                    <a:pt x="3854" y="1224"/>
                  </a:lnTo>
                  <a:lnTo>
                    <a:pt x="3854" y="1216"/>
                  </a:lnTo>
                  <a:lnTo>
                    <a:pt x="3851" y="1207"/>
                  </a:lnTo>
                  <a:lnTo>
                    <a:pt x="3845" y="1198"/>
                  </a:lnTo>
                  <a:lnTo>
                    <a:pt x="3842" y="1187"/>
                  </a:lnTo>
                  <a:lnTo>
                    <a:pt x="3836" y="1175"/>
                  </a:lnTo>
                  <a:lnTo>
                    <a:pt x="3834" y="1164"/>
                  </a:lnTo>
                  <a:lnTo>
                    <a:pt x="3828" y="1155"/>
                  </a:lnTo>
                  <a:lnTo>
                    <a:pt x="3822" y="1146"/>
                  </a:lnTo>
                  <a:lnTo>
                    <a:pt x="3816" y="1138"/>
                  </a:lnTo>
                  <a:lnTo>
                    <a:pt x="3810" y="1129"/>
                  </a:lnTo>
                  <a:lnTo>
                    <a:pt x="3799" y="1123"/>
                  </a:lnTo>
                  <a:lnTo>
                    <a:pt x="3793" y="1115"/>
                  </a:lnTo>
                  <a:lnTo>
                    <a:pt x="3790" y="1106"/>
                  </a:lnTo>
                  <a:lnTo>
                    <a:pt x="3784" y="1097"/>
                  </a:lnTo>
                  <a:lnTo>
                    <a:pt x="3778" y="1089"/>
                  </a:lnTo>
                  <a:lnTo>
                    <a:pt x="3775" y="1080"/>
                  </a:lnTo>
                  <a:lnTo>
                    <a:pt x="3772" y="1072"/>
                  </a:lnTo>
                  <a:lnTo>
                    <a:pt x="3767" y="1063"/>
                  </a:lnTo>
                  <a:lnTo>
                    <a:pt x="3761" y="1054"/>
                  </a:lnTo>
                  <a:lnTo>
                    <a:pt x="3752" y="1046"/>
                  </a:lnTo>
                  <a:lnTo>
                    <a:pt x="3746" y="1037"/>
                  </a:lnTo>
                  <a:lnTo>
                    <a:pt x="3737" y="1034"/>
                  </a:lnTo>
                  <a:lnTo>
                    <a:pt x="3717" y="988"/>
                  </a:lnTo>
                  <a:lnTo>
                    <a:pt x="3737" y="1008"/>
                  </a:lnTo>
                  <a:lnTo>
                    <a:pt x="3737" y="999"/>
                  </a:lnTo>
                  <a:lnTo>
                    <a:pt x="3732" y="991"/>
                  </a:lnTo>
                  <a:lnTo>
                    <a:pt x="3726" y="982"/>
                  </a:lnTo>
                  <a:lnTo>
                    <a:pt x="3723" y="974"/>
                  </a:lnTo>
                  <a:lnTo>
                    <a:pt x="3714" y="968"/>
                  </a:lnTo>
                  <a:lnTo>
                    <a:pt x="3703" y="965"/>
                  </a:lnTo>
                  <a:lnTo>
                    <a:pt x="3694" y="959"/>
                  </a:lnTo>
                  <a:lnTo>
                    <a:pt x="3691" y="950"/>
                  </a:lnTo>
                  <a:lnTo>
                    <a:pt x="3691" y="942"/>
                  </a:lnTo>
                  <a:lnTo>
                    <a:pt x="3691" y="930"/>
                  </a:lnTo>
                  <a:lnTo>
                    <a:pt x="3691" y="922"/>
                  </a:lnTo>
                  <a:lnTo>
                    <a:pt x="3691" y="913"/>
                  </a:lnTo>
                  <a:lnTo>
                    <a:pt x="3694" y="904"/>
                  </a:lnTo>
                  <a:lnTo>
                    <a:pt x="3700" y="896"/>
                  </a:lnTo>
                  <a:lnTo>
                    <a:pt x="3705" y="887"/>
                  </a:lnTo>
                  <a:lnTo>
                    <a:pt x="3714" y="887"/>
                  </a:lnTo>
                  <a:lnTo>
                    <a:pt x="3717" y="878"/>
                  </a:lnTo>
                  <a:lnTo>
                    <a:pt x="3705" y="867"/>
                  </a:lnTo>
                  <a:lnTo>
                    <a:pt x="3705" y="858"/>
                  </a:lnTo>
                  <a:lnTo>
                    <a:pt x="3705" y="847"/>
                  </a:lnTo>
                  <a:lnTo>
                    <a:pt x="3711" y="838"/>
                  </a:lnTo>
                  <a:lnTo>
                    <a:pt x="3717" y="827"/>
                  </a:lnTo>
                  <a:lnTo>
                    <a:pt x="3717" y="818"/>
                  </a:lnTo>
                  <a:lnTo>
                    <a:pt x="3717" y="809"/>
                  </a:lnTo>
                  <a:lnTo>
                    <a:pt x="3705" y="806"/>
                  </a:lnTo>
                  <a:lnTo>
                    <a:pt x="3694" y="801"/>
                  </a:lnTo>
                  <a:lnTo>
                    <a:pt x="3685" y="795"/>
                  </a:lnTo>
                  <a:lnTo>
                    <a:pt x="3685" y="786"/>
                  </a:lnTo>
                  <a:lnTo>
                    <a:pt x="3691" y="778"/>
                  </a:lnTo>
                  <a:lnTo>
                    <a:pt x="3697" y="769"/>
                  </a:lnTo>
                  <a:lnTo>
                    <a:pt x="3700" y="760"/>
                  </a:lnTo>
                  <a:lnTo>
                    <a:pt x="3708" y="757"/>
                  </a:lnTo>
                  <a:lnTo>
                    <a:pt x="3717" y="752"/>
                  </a:lnTo>
                  <a:lnTo>
                    <a:pt x="3726" y="757"/>
                  </a:lnTo>
                  <a:lnTo>
                    <a:pt x="3735" y="760"/>
                  </a:lnTo>
                  <a:lnTo>
                    <a:pt x="3743" y="763"/>
                  </a:lnTo>
                  <a:lnTo>
                    <a:pt x="3743" y="755"/>
                  </a:lnTo>
                  <a:lnTo>
                    <a:pt x="3737" y="746"/>
                  </a:lnTo>
                  <a:lnTo>
                    <a:pt x="3737" y="737"/>
                  </a:lnTo>
                  <a:lnTo>
                    <a:pt x="3735" y="729"/>
                  </a:lnTo>
                  <a:lnTo>
                    <a:pt x="3735" y="720"/>
                  </a:lnTo>
                  <a:lnTo>
                    <a:pt x="3732" y="711"/>
                  </a:lnTo>
                  <a:lnTo>
                    <a:pt x="3726" y="703"/>
                  </a:lnTo>
                  <a:lnTo>
                    <a:pt x="3723" y="691"/>
                  </a:lnTo>
                  <a:lnTo>
                    <a:pt x="3723" y="682"/>
                  </a:lnTo>
                  <a:lnTo>
                    <a:pt x="3723" y="674"/>
                  </a:lnTo>
                  <a:lnTo>
                    <a:pt x="3723" y="665"/>
                  </a:lnTo>
                  <a:lnTo>
                    <a:pt x="3714" y="662"/>
                  </a:lnTo>
                  <a:lnTo>
                    <a:pt x="3708" y="671"/>
                  </a:lnTo>
                  <a:lnTo>
                    <a:pt x="3700" y="671"/>
                  </a:lnTo>
                  <a:lnTo>
                    <a:pt x="3691" y="674"/>
                  </a:lnTo>
                  <a:lnTo>
                    <a:pt x="3682" y="671"/>
                  </a:lnTo>
                  <a:lnTo>
                    <a:pt x="3673" y="659"/>
                  </a:lnTo>
                  <a:lnTo>
                    <a:pt x="3668" y="651"/>
                  </a:lnTo>
                  <a:lnTo>
                    <a:pt x="3662" y="642"/>
                  </a:lnTo>
                  <a:lnTo>
                    <a:pt x="3653" y="633"/>
                  </a:lnTo>
                  <a:lnTo>
                    <a:pt x="3641" y="628"/>
                  </a:lnTo>
                  <a:lnTo>
                    <a:pt x="3633" y="622"/>
                  </a:lnTo>
                  <a:lnTo>
                    <a:pt x="3624" y="622"/>
                  </a:lnTo>
                  <a:lnTo>
                    <a:pt x="3615" y="616"/>
                  </a:lnTo>
                  <a:lnTo>
                    <a:pt x="3604" y="613"/>
                  </a:lnTo>
                  <a:lnTo>
                    <a:pt x="3595" y="608"/>
                  </a:lnTo>
                  <a:lnTo>
                    <a:pt x="3577" y="573"/>
                  </a:lnTo>
                  <a:lnTo>
                    <a:pt x="3592" y="587"/>
                  </a:lnTo>
                  <a:lnTo>
                    <a:pt x="3592" y="576"/>
                  </a:lnTo>
                  <a:lnTo>
                    <a:pt x="3589" y="567"/>
                  </a:lnTo>
                  <a:lnTo>
                    <a:pt x="3589" y="559"/>
                  </a:lnTo>
                  <a:lnTo>
                    <a:pt x="3583" y="547"/>
                  </a:lnTo>
                  <a:lnTo>
                    <a:pt x="3577" y="538"/>
                  </a:lnTo>
                  <a:lnTo>
                    <a:pt x="3569" y="530"/>
                  </a:lnTo>
                  <a:lnTo>
                    <a:pt x="3583" y="527"/>
                  </a:lnTo>
                  <a:lnTo>
                    <a:pt x="3592" y="530"/>
                  </a:lnTo>
                  <a:lnTo>
                    <a:pt x="3601" y="533"/>
                  </a:lnTo>
                  <a:lnTo>
                    <a:pt x="3609" y="538"/>
                  </a:lnTo>
                  <a:lnTo>
                    <a:pt x="3618" y="541"/>
                  </a:lnTo>
                  <a:lnTo>
                    <a:pt x="3621" y="533"/>
                  </a:lnTo>
                  <a:lnTo>
                    <a:pt x="3621" y="524"/>
                  </a:lnTo>
                  <a:lnTo>
                    <a:pt x="3612" y="518"/>
                  </a:lnTo>
                  <a:lnTo>
                    <a:pt x="3604" y="507"/>
                  </a:lnTo>
                  <a:lnTo>
                    <a:pt x="3598" y="498"/>
                  </a:lnTo>
                  <a:lnTo>
                    <a:pt x="3589" y="489"/>
                  </a:lnTo>
                  <a:lnTo>
                    <a:pt x="3586" y="481"/>
                  </a:lnTo>
                  <a:lnTo>
                    <a:pt x="3577" y="472"/>
                  </a:lnTo>
                  <a:lnTo>
                    <a:pt x="3566" y="469"/>
                  </a:lnTo>
                  <a:lnTo>
                    <a:pt x="3557" y="469"/>
                  </a:lnTo>
                  <a:lnTo>
                    <a:pt x="3548" y="469"/>
                  </a:lnTo>
                  <a:lnTo>
                    <a:pt x="3540" y="469"/>
                  </a:lnTo>
                  <a:lnTo>
                    <a:pt x="3531" y="466"/>
                  </a:lnTo>
                  <a:lnTo>
                    <a:pt x="3519" y="458"/>
                  </a:lnTo>
                  <a:lnTo>
                    <a:pt x="3516" y="449"/>
                  </a:lnTo>
                  <a:lnTo>
                    <a:pt x="3510" y="440"/>
                  </a:lnTo>
                  <a:lnTo>
                    <a:pt x="3507" y="432"/>
                  </a:lnTo>
                  <a:lnTo>
                    <a:pt x="3502" y="423"/>
                  </a:lnTo>
                  <a:lnTo>
                    <a:pt x="3502" y="412"/>
                  </a:lnTo>
                  <a:lnTo>
                    <a:pt x="3510" y="412"/>
                  </a:lnTo>
                  <a:lnTo>
                    <a:pt x="3519" y="417"/>
                  </a:lnTo>
                  <a:lnTo>
                    <a:pt x="3531" y="426"/>
                  </a:lnTo>
                  <a:lnTo>
                    <a:pt x="3540" y="432"/>
                  </a:lnTo>
                  <a:lnTo>
                    <a:pt x="3542" y="440"/>
                  </a:lnTo>
                  <a:lnTo>
                    <a:pt x="3551" y="446"/>
                  </a:lnTo>
                  <a:lnTo>
                    <a:pt x="3563" y="452"/>
                  </a:lnTo>
                  <a:lnTo>
                    <a:pt x="3572" y="458"/>
                  </a:lnTo>
                  <a:lnTo>
                    <a:pt x="3580" y="458"/>
                  </a:lnTo>
                  <a:lnTo>
                    <a:pt x="3589" y="458"/>
                  </a:lnTo>
                  <a:lnTo>
                    <a:pt x="3598" y="458"/>
                  </a:lnTo>
                  <a:lnTo>
                    <a:pt x="3606" y="461"/>
                  </a:lnTo>
                  <a:lnTo>
                    <a:pt x="3612" y="472"/>
                  </a:lnTo>
                  <a:lnTo>
                    <a:pt x="3618" y="481"/>
                  </a:lnTo>
                  <a:lnTo>
                    <a:pt x="3621" y="489"/>
                  </a:lnTo>
                  <a:lnTo>
                    <a:pt x="3627" y="498"/>
                  </a:lnTo>
                  <a:lnTo>
                    <a:pt x="3633" y="507"/>
                  </a:lnTo>
                  <a:lnTo>
                    <a:pt x="3641" y="518"/>
                  </a:lnTo>
                  <a:lnTo>
                    <a:pt x="3650" y="521"/>
                  </a:lnTo>
                  <a:lnTo>
                    <a:pt x="3662" y="524"/>
                  </a:lnTo>
                  <a:lnTo>
                    <a:pt x="3671" y="524"/>
                  </a:lnTo>
                  <a:lnTo>
                    <a:pt x="3679" y="527"/>
                  </a:lnTo>
                  <a:lnTo>
                    <a:pt x="3688" y="527"/>
                  </a:lnTo>
                  <a:lnTo>
                    <a:pt x="3700" y="530"/>
                  </a:lnTo>
                  <a:lnTo>
                    <a:pt x="3711" y="536"/>
                  </a:lnTo>
                  <a:lnTo>
                    <a:pt x="3723" y="544"/>
                  </a:lnTo>
                  <a:lnTo>
                    <a:pt x="3729" y="553"/>
                  </a:lnTo>
                  <a:lnTo>
                    <a:pt x="3735" y="561"/>
                  </a:lnTo>
                  <a:lnTo>
                    <a:pt x="3746" y="570"/>
                  </a:lnTo>
                  <a:lnTo>
                    <a:pt x="3761" y="579"/>
                  </a:lnTo>
                  <a:lnTo>
                    <a:pt x="3770" y="585"/>
                  </a:lnTo>
                  <a:lnTo>
                    <a:pt x="3772" y="593"/>
                  </a:lnTo>
                  <a:lnTo>
                    <a:pt x="3775" y="602"/>
                  </a:lnTo>
                  <a:lnTo>
                    <a:pt x="3778" y="610"/>
                  </a:lnTo>
                  <a:lnTo>
                    <a:pt x="3787" y="610"/>
                  </a:lnTo>
                  <a:lnTo>
                    <a:pt x="3790" y="619"/>
                  </a:lnTo>
                  <a:lnTo>
                    <a:pt x="3799" y="622"/>
                  </a:lnTo>
                  <a:lnTo>
                    <a:pt x="3807" y="628"/>
                  </a:lnTo>
                  <a:lnTo>
                    <a:pt x="3819" y="633"/>
                  </a:lnTo>
                  <a:lnTo>
                    <a:pt x="3828" y="636"/>
                  </a:lnTo>
                  <a:lnTo>
                    <a:pt x="3836" y="639"/>
                  </a:lnTo>
                  <a:lnTo>
                    <a:pt x="3845" y="642"/>
                  </a:lnTo>
                  <a:lnTo>
                    <a:pt x="3854" y="642"/>
                  </a:lnTo>
                  <a:lnTo>
                    <a:pt x="3866" y="645"/>
                  </a:lnTo>
                  <a:lnTo>
                    <a:pt x="3874" y="651"/>
                  </a:lnTo>
                  <a:lnTo>
                    <a:pt x="3883" y="657"/>
                  </a:lnTo>
                  <a:lnTo>
                    <a:pt x="3892" y="657"/>
                  </a:lnTo>
                  <a:lnTo>
                    <a:pt x="3901" y="657"/>
                  </a:lnTo>
                  <a:lnTo>
                    <a:pt x="3912" y="657"/>
                  </a:lnTo>
                  <a:lnTo>
                    <a:pt x="3924" y="657"/>
                  </a:lnTo>
                  <a:lnTo>
                    <a:pt x="3938" y="657"/>
                  </a:lnTo>
                  <a:lnTo>
                    <a:pt x="3947" y="657"/>
                  </a:lnTo>
                  <a:lnTo>
                    <a:pt x="3959" y="657"/>
                  </a:lnTo>
                  <a:lnTo>
                    <a:pt x="3967" y="659"/>
                  </a:lnTo>
                  <a:lnTo>
                    <a:pt x="3979" y="659"/>
                  </a:lnTo>
                  <a:lnTo>
                    <a:pt x="3991" y="659"/>
                  </a:lnTo>
                  <a:lnTo>
                    <a:pt x="4002" y="659"/>
                  </a:lnTo>
                  <a:lnTo>
                    <a:pt x="4017" y="659"/>
                  </a:lnTo>
                  <a:lnTo>
                    <a:pt x="4026" y="659"/>
                  </a:lnTo>
                  <a:lnTo>
                    <a:pt x="4037" y="659"/>
                  </a:lnTo>
                  <a:lnTo>
                    <a:pt x="4049" y="659"/>
                  </a:lnTo>
                  <a:lnTo>
                    <a:pt x="4061" y="659"/>
                  </a:lnTo>
                  <a:lnTo>
                    <a:pt x="4072" y="659"/>
                  </a:lnTo>
                  <a:lnTo>
                    <a:pt x="4084" y="659"/>
                  </a:lnTo>
                  <a:lnTo>
                    <a:pt x="4093" y="659"/>
                  </a:lnTo>
                  <a:lnTo>
                    <a:pt x="4101" y="659"/>
                  </a:lnTo>
                  <a:lnTo>
                    <a:pt x="4110" y="659"/>
                  </a:lnTo>
                  <a:lnTo>
                    <a:pt x="4119" y="659"/>
                  </a:lnTo>
                  <a:lnTo>
                    <a:pt x="4128" y="659"/>
                  </a:lnTo>
                  <a:lnTo>
                    <a:pt x="4136" y="659"/>
                  </a:lnTo>
                  <a:lnTo>
                    <a:pt x="4142" y="668"/>
                  </a:lnTo>
                  <a:lnTo>
                    <a:pt x="4145" y="677"/>
                  </a:lnTo>
                  <a:lnTo>
                    <a:pt x="4151" y="685"/>
                  </a:lnTo>
                  <a:lnTo>
                    <a:pt x="4160" y="691"/>
                  </a:lnTo>
                  <a:lnTo>
                    <a:pt x="4168" y="700"/>
                  </a:lnTo>
                  <a:lnTo>
                    <a:pt x="4177" y="700"/>
                  </a:lnTo>
                  <a:lnTo>
                    <a:pt x="4177" y="691"/>
                  </a:lnTo>
                  <a:lnTo>
                    <a:pt x="4168" y="682"/>
                  </a:lnTo>
                  <a:lnTo>
                    <a:pt x="4168" y="674"/>
                  </a:lnTo>
                  <a:lnTo>
                    <a:pt x="4160" y="665"/>
                  </a:lnTo>
                  <a:lnTo>
                    <a:pt x="4151" y="659"/>
                  </a:lnTo>
                  <a:lnTo>
                    <a:pt x="4136" y="619"/>
                  </a:lnTo>
                  <a:lnTo>
                    <a:pt x="4142" y="60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33880" y="36291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6" y="0"/>
                  </a:moveTo>
                  <a:lnTo>
                    <a:pt x="32" y="11"/>
                  </a:lnTo>
                  <a:lnTo>
                    <a:pt x="23" y="11"/>
                  </a:lnTo>
                  <a:lnTo>
                    <a:pt x="14" y="11"/>
                  </a:lnTo>
                  <a:lnTo>
                    <a:pt x="5" y="13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8" y="33"/>
                  </a:lnTo>
                  <a:lnTo>
                    <a:pt x="17" y="30"/>
                  </a:lnTo>
                  <a:lnTo>
                    <a:pt x="23" y="22"/>
                  </a:lnTo>
                  <a:lnTo>
                    <a:pt x="23" y="13"/>
                  </a:lnTo>
                  <a:lnTo>
                    <a:pt x="26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14480" y="5259240"/>
              <a:ext cx="4320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" y="20"/>
                  </a:moveTo>
                  <a:lnTo>
                    <a:pt x="8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4" y="17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2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81200" y="4390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0"/>
                  </a:moveTo>
                  <a:lnTo>
                    <a:pt x="11" y="16"/>
                  </a:lnTo>
                  <a:lnTo>
                    <a:pt x="11" y="25"/>
                  </a:lnTo>
                  <a:lnTo>
                    <a:pt x="2" y="33"/>
                  </a:lnTo>
                  <a:lnTo>
                    <a:pt x="11" y="45"/>
                  </a:lnTo>
                  <a:lnTo>
                    <a:pt x="26" y="48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2" y="22"/>
                  </a:lnTo>
                  <a:lnTo>
                    <a:pt x="23" y="14"/>
                  </a:lnTo>
                  <a:lnTo>
                    <a:pt x="14" y="11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29600" y="16905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0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305920" y="1801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lnTo>
                    <a:pt x="8" y="11"/>
                  </a:lnTo>
                  <a:lnTo>
                    <a:pt x="14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26" y="46"/>
                  </a:lnTo>
                  <a:lnTo>
                    <a:pt x="17" y="43"/>
                  </a:lnTo>
                  <a:lnTo>
                    <a:pt x="11" y="34"/>
                  </a:lnTo>
                  <a:lnTo>
                    <a:pt x="8" y="25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24440" y="16192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6" y="70"/>
                  </a:moveTo>
                  <a:lnTo>
                    <a:pt x="0" y="78"/>
                  </a:lnTo>
                  <a:lnTo>
                    <a:pt x="0" y="70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19" y="42"/>
                  </a:lnTo>
                  <a:lnTo>
                    <a:pt x="11" y="33"/>
                  </a:lnTo>
                  <a:lnTo>
                    <a:pt x="11" y="25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11"/>
                  </a:lnTo>
                  <a:lnTo>
                    <a:pt x="45" y="16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28" y="33"/>
                  </a:lnTo>
                  <a:lnTo>
                    <a:pt x="35" y="36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5" y="56"/>
                  </a:lnTo>
                  <a:lnTo>
                    <a:pt x="45" y="64"/>
                  </a:lnTo>
                  <a:lnTo>
                    <a:pt x="43" y="72"/>
                  </a:lnTo>
                  <a:lnTo>
                    <a:pt x="50" y="75"/>
                  </a:lnTo>
                  <a:lnTo>
                    <a:pt x="55" y="84"/>
                  </a:lnTo>
                  <a:lnTo>
                    <a:pt x="50" y="92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31" y="98"/>
                  </a:lnTo>
                  <a:lnTo>
                    <a:pt x="23" y="98"/>
                  </a:lnTo>
                  <a:lnTo>
                    <a:pt x="14" y="92"/>
                  </a:lnTo>
                  <a:lnTo>
                    <a:pt x="9" y="84"/>
                  </a:lnTo>
                  <a:lnTo>
                    <a:pt x="4" y="75"/>
                  </a:lnTo>
                  <a:lnTo>
                    <a:pt x="16" y="7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48200" y="17812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4"/>
                  </a:lnTo>
                  <a:lnTo>
                    <a:pt x="16" y="18"/>
                  </a:lnTo>
                  <a:lnTo>
                    <a:pt x="4" y="0"/>
                  </a:lnTo>
                  <a:lnTo>
                    <a:pt x="16" y="1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00840" y="167328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0"/>
                  </a:moveTo>
                  <a:lnTo>
                    <a:pt x="17" y="19"/>
                  </a:lnTo>
                  <a:lnTo>
                    <a:pt x="22" y="11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25" y="27"/>
                  </a:lnTo>
                  <a:lnTo>
                    <a:pt x="28" y="36"/>
                  </a:lnTo>
                  <a:lnTo>
                    <a:pt x="11" y="30"/>
                  </a:lnTo>
                  <a:lnTo>
                    <a:pt x="0" y="33"/>
                  </a:lnTo>
                  <a:lnTo>
                    <a:pt x="11" y="3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1040" y="1490760"/>
              <a:ext cx="84240" cy="10944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31" y="51"/>
                  </a:moveTo>
                  <a:lnTo>
                    <a:pt x="8" y="34"/>
                  </a:lnTo>
                  <a:lnTo>
                    <a:pt x="8" y="42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5" y="68"/>
                  </a:lnTo>
                  <a:lnTo>
                    <a:pt x="17" y="68"/>
                  </a:lnTo>
                  <a:lnTo>
                    <a:pt x="28" y="68"/>
                  </a:lnTo>
                  <a:lnTo>
                    <a:pt x="37" y="68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2" y="34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20" y="19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7" y="45"/>
                  </a:lnTo>
                  <a:lnTo>
                    <a:pt x="31" y="51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38480" y="2170080"/>
              <a:ext cx="293760" cy="235080"/>
            </a:xfrm>
            <a:custGeom>
              <a:avLst/>
              <a:gdLst/>
              <a:ahLst/>
              <a:rect l="l" t="t" r="r" b="b"/>
              <a:pathLst>
                <a:path w="185" h="148">
                  <a:moveTo>
                    <a:pt x="0" y="101"/>
                  </a:moveTo>
                  <a:lnTo>
                    <a:pt x="11" y="84"/>
                  </a:lnTo>
                  <a:lnTo>
                    <a:pt x="11" y="93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5" y="138"/>
                  </a:lnTo>
                  <a:lnTo>
                    <a:pt x="14" y="135"/>
                  </a:lnTo>
                  <a:lnTo>
                    <a:pt x="20" y="127"/>
                  </a:lnTo>
                  <a:lnTo>
                    <a:pt x="28" y="118"/>
                  </a:lnTo>
                  <a:lnTo>
                    <a:pt x="31" y="110"/>
                  </a:lnTo>
                  <a:lnTo>
                    <a:pt x="40" y="104"/>
                  </a:lnTo>
                  <a:lnTo>
                    <a:pt x="48" y="101"/>
                  </a:lnTo>
                  <a:lnTo>
                    <a:pt x="57" y="98"/>
                  </a:lnTo>
                  <a:lnTo>
                    <a:pt x="66" y="90"/>
                  </a:lnTo>
                  <a:lnTo>
                    <a:pt x="69" y="81"/>
                  </a:lnTo>
                  <a:lnTo>
                    <a:pt x="77" y="79"/>
                  </a:lnTo>
                  <a:lnTo>
                    <a:pt x="80" y="87"/>
                  </a:lnTo>
                  <a:lnTo>
                    <a:pt x="80" y="96"/>
                  </a:lnTo>
                  <a:lnTo>
                    <a:pt x="80" y="104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71" y="130"/>
                  </a:lnTo>
                  <a:lnTo>
                    <a:pt x="74" y="138"/>
                  </a:lnTo>
                  <a:lnTo>
                    <a:pt x="83" y="141"/>
                  </a:lnTo>
                  <a:lnTo>
                    <a:pt x="94" y="141"/>
                  </a:lnTo>
                  <a:lnTo>
                    <a:pt x="103" y="138"/>
                  </a:lnTo>
                  <a:lnTo>
                    <a:pt x="109" y="130"/>
                  </a:lnTo>
                  <a:lnTo>
                    <a:pt x="109" y="121"/>
                  </a:lnTo>
                  <a:lnTo>
                    <a:pt x="100" y="113"/>
                  </a:lnTo>
                  <a:lnTo>
                    <a:pt x="106" y="101"/>
                  </a:lnTo>
                  <a:lnTo>
                    <a:pt x="100" y="90"/>
                  </a:lnTo>
                  <a:lnTo>
                    <a:pt x="97" y="81"/>
                  </a:lnTo>
                  <a:lnTo>
                    <a:pt x="97" y="73"/>
                  </a:lnTo>
                  <a:lnTo>
                    <a:pt x="97" y="65"/>
                  </a:lnTo>
                  <a:lnTo>
                    <a:pt x="103" y="56"/>
                  </a:lnTo>
                  <a:lnTo>
                    <a:pt x="112" y="56"/>
                  </a:lnTo>
                  <a:lnTo>
                    <a:pt x="120" y="53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52" y="56"/>
                  </a:lnTo>
                  <a:lnTo>
                    <a:pt x="166" y="56"/>
                  </a:lnTo>
                  <a:lnTo>
                    <a:pt x="175" y="56"/>
                  </a:lnTo>
                  <a:lnTo>
                    <a:pt x="184" y="56"/>
                  </a:lnTo>
                  <a:lnTo>
                    <a:pt x="184" y="48"/>
                  </a:lnTo>
                  <a:lnTo>
                    <a:pt x="184" y="39"/>
                  </a:lnTo>
                  <a:lnTo>
                    <a:pt x="181" y="31"/>
                  </a:lnTo>
                  <a:lnTo>
                    <a:pt x="178" y="22"/>
                  </a:lnTo>
                  <a:lnTo>
                    <a:pt x="166" y="16"/>
                  </a:lnTo>
                  <a:lnTo>
                    <a:pt x="158" y="16"/>
                  </a:lnTo>
                  <a:lnTo>
                    <a:pt x="146" y="16"/>
                  </a:lnTo>
                  <a:lnTo>
                    <a:pt x="138" y="19"/>
                  </a:lnTo>
                  <a:lnTo>
                    <a:pt x="140" y="11"/>
                  </a:lnTo>
                  <a:lnTo>
                    <a:pt x="140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12" y="11"/>
                  </a:lnTo>
                  <a:lnTo>
                    <a:pt x="103" y="16"/>
                  </a:lnTo>
                  <a:lnTo>
                    <a:pt x="97" y="25"/>
                  </a:lnTo>
                  <a:lnTo>
                    <a:pt x="94" y="16"/>
                  </a:lnTo>
                  <a:lnTo>
                    <a:pt x="86" y="14"/>
                  </a:lnTo>
                  <a:lnTo>
                    <a:pt x="77" y="19"/>
                  </a:lnTo>
                  <a:lnTo>
                    <a:pt x="69" y="25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63" y="2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7" y="25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23" y="48"/>
                  </a:lnTo>
                  <a:lnTo>
                    <a:pt x="31" y="48"/>
                  </a:lnTo>
                  <a:lnTo>
                    <a:pt x="40" y="42"/>
                  </a:lnTo>
                  <a:lnTo>
                    <a:pt x="51" y="45"/>
                  </a:lnTo>
                  <a:lnTo>
                    <a:pt x="57" y="53"/>
                  </a:lnTo>
                  <a:lnTo>
                    <a:pt x="60" y="62"/>
                  </a:lnTo>
                  <a:lnTo>
                    <a:pt x="51" y="65"/>
                  </a:lnTo>
                  <a:lnTo>
                    <a:pt x="40" y="65"/>
                  </a:lnTo>
                  <a:lnTo>
                    <a:pt x="28" y="59"/>
                  </a:lnTo>
                  <a:lnTo>
                    <a:pt x="17" y="59"/>
                  </a:lnTo>
                  <a:lnTo>
                    <a:pt x="8" y="65"/>
                  </a:lnTo>
                  <a:lnTo>
                    <a:pt x="8" y="76"/>
                  </a:lnTo>
                  <a:lnTo>
                    <a:pt x="11" y="87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6"/>
                  </a:lnTo>
                  <a:lnTo>
                    <a:pt x="0" y="101"/>
                  </a:lnTo>
                  <a:lnTo>
                    <a:pt x="5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0" y="1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95760" y="2171880"/>
              <a:ext cx="220680" cy="18072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31" y="53"/>
                  </a:moveTo>
                  <a:lnTo>
                    <a:pt x="25" y="64"/>
                  </a:lnTo>
                  <a:lnTo>
                    <a:pt x="31" y="53"/>
                  </a:lnTo>
                  <a:lnTo>
                    <a:pt x="43" y="56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7" y="79"/>
                  </a:lnTo>
                  <a:lnTo>
                    <a:pt x="23" y="90"/>
                  </a:lnTo>
                  <a:lnTo>
                    <a:pt x="25" y="98"/>
                  </a:lnTo>
                  <a:lnTo>
                    <a:pt x="31" y="107"/>
                  </a:lnTo>
                  <a:lnTo>
                    <a:pt x="34" y="98"/>
                  </a:lnTo>
                  <a:lnTo>
                    <a:pt x="34" y="90"/>
                  </a:lnTo>
                  <a:lnTo>
                    <a:pt x="43" y="90"/>
                  </a:lnTo>
                  <a:lnTo>
                    <a:pt x="54" y="93"/>
                  </a:lnTo>
                  <a:lnTo>
                    <a:pt x="63" y="96"/>
                  </a:lnTo>
                  <a:lnTo>
                    <a:pt x="71" y="96"/>
                  </a:lnTo>
                  <a:lnTo>
                    <a:pt x="80" y="87"/>
                  </a:lnTo>
                  <a:lnTo>
                    <a:pt x="89" y="87"/>
                  </a:lnTo>
                  <a:lnTo>
                    <a:pt x="97" y="93"/>
                  </a:lnTo>
                  <a:lnTo>
                    <a:pt x="103" y="107"/>
                  </a:lnTo>
                  <a:lnTo>
                    <a:pt x="112" y="110"/>
                  </a:lnTo>
                  <a:lnTo>
                    <a:pt x="120" y="113"/>
                  </a:lnTo>
                  <a:lnTo>
                    <a:pt x="126" y="104"/>
                  </a:lnTo>
                  <a:lnTo>
                    <a:pt x="123" y="96"/>
                  </a:lnTo>
                  <a:lnTo>
                    <a:pt x="115" y="90"/>
                  </a:lnTo>
                  <a:lnTo>
                    <a:pt x="106" y="87"/>
                  </a:lnTo>
                  <a:lnTo>
                    <a:pt x="94" y="81"/>
                  </a:lnTo>
                  <a:lnTo>
                    <a:pt x="92" y="73"/>
                  </a:lnTo>
                  <a:lnTo>
                    <a:pt x="103" y="70"/>
                  </a:lnTo>
                  <a:lnTo>
                    <a:pt x="112" y="70"/>
                  </a:lnTo>
                  <a:lnTo>
                    <a:pt x="115" y="62"/>
                  </a:lnTo>
                  <a:lnTo>
                    <a:pt x="120" y="53"/>
                  </a:lnTo>
                  <a:lnTo>
                    <a:pt x="129" y="48"/>
                  </a:lnTo>
                  <a:lnTo>
                    <a:pt x="138" y="39"/>
                  </a:lnTo>
                  <a:lnTo>
                    <a:pt x="129" y="33"/>
                  </a:lnTo>
                  <a:lnTo>
                    <a:pt x="120" y="31"/>
                  </a:lnTo>
                  <a:lnTo>
                    <a:pt x="112" y="33"/>
                  </a:lnTo>
                  <a:lnTo>
                    <a:pt x="106" y="42"/>
                  </a:lnTo>
                  <a:lnTo>
                    <a:pt x="97" y="45"/>
                  </a:lnTo>
                  <a:lnTo>
                    <a:pt x="97" y="36"/>
                  </a:lnTo>
                  <a:lnTo>
                    <a:pt x="100" y="25"/>
                  </a:lnTo>
                  <a:lnTo>
                    <a:pt x="100" y="16"/>
                  </a:lnTo>
                  <a:lnTo>
                    <a:pt x="103" y="8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0" y="8"/>
                  </a:lnTo>
                  <a:lnTo>
                    <a:pt x="77" y="16"/>
                  </a:lnTo>
                  <a:lnTo>
                    <a:pt x="74" y="25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1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3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23" y="64"/>
                  </a:lnTo>
                  <a:lnTo>
                    <a:pt x="31" y="64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77" y="53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05520" y="2079720"/>
              <a:ext cx="298440" cy="156960"/>
            </a:xfrm>
            <a:custGeom>
              <a:avLst/>
              <a:gdLst/>
              <a:ahLst/>
              <a:rect l="l" t="t" r="r" b="b"/>
              <a:pathLst>
                <a:path w="188" h="99">
                  <a:moveTo>
                    <a:pt x="0" y="17"/>
                  </a:moveTo>
                  <a:lnTo>
                    <a:pt x="25" y="25"/>
                  </a:lnTo>
                  <a:lnTo>
                    <a:pt x="37" y="25"/>
                  </a:lnTo>
                  <a:lnTo>
                    <a:pt x="43" y="34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63" y="69"/>
                  </a:lnTo>
                  <a:lnTo>
                    <a:pt x="63" y="80"/>
                  </a:lnTo>
                  <a:lnTo>
                    <a:pt x="71" y="83"/>
                  </a:lnTo>
                  <a:lnTo>
                    <a:pt x="80" y="77"/>
                  </a:lnTo>
                  <a:lnTo>
                    <a:pt x="89" y="77"/>
                  </a:lnTo>
                  <a:lnTo>
                    <a:pt x="97" y="77"/>
                  </a:lnTo>
                  <a:lnTo>
                    <a:pt x="106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5" y="74"/>
                  </a:lnTo>
                  <a:lnTo>
                    <a:pt x="143" y="77"/>
                  </a:lnTo>
                  <a:lnTo>
                    <a:pt x="152" y="86"/>
                  </a:lnTo>
                  <a:lnTo>
                    <a:pt x="163" y="98"/>
                  </a:lnTo>
                  <a:lnTo>
                    <a:pt x="169" y="89"/>
                  </a:lnTo>
                  <a:lnTo>
                    <a:pt x="175" y="80"/>
                  </a:lnTo>
                  <a:lnTo>
                    <a:pt x="181" y="72"/>
                  </a:lnTo>
                  <a:lnTo>
                    <a:pt x="187" y="60"/>
                  </a:lnTo>
                  <a:lnTo>
                    <a:pt x="187" y="51"/>
                  </a:lnTo>
                  <a:lnTo>
                    <a:pt x="187" y="43"/>
                  </a:lnTo>
                  <a:lnTo>
                    <a:pt x="181" y="34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5" y="34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9" y="40"/>
                  </a:lnTo>
                  <a:lnTo>
                    <a:pt x="129" y="49"/>
                  </a:lnTo>
                  <a:lnTo>
                    <a:pt x="129" y="57"/>
                  </a:lnTo>
                  <a:lnTo>
                    <a:pt x="120" y="51"/>
                  </a:lnTo>
                  <a:lnTo>
                    <a:pt x="109" y="43"/>
                  </a:lnTo>
                  <a:lnTo>
                    <a:pt x="100" y="34"/>
                  </a:lnTo>
                  <a:lnTo>
                    <a:pt x="86" y="25"/>
                  </a:lnTo>
                  <a:lnTo>
                    <a:pt x="83" y="37"/>
                  </a:lnTo>
                  <a:lnTo>
                    <a:pt x="74" y="40"/>
                  </a:lnTo>
                  <a:lnTo>
                    <a:pt x="74" y="31"/>
                  </a:lnTo>
                  <a:lnTo>
                    <a:pt x="69" y="23"/>
                  </a:lnTo>
                  <a:lnTo>
                    <a:pt x="60" y="17"/>
                  </a:lnTo>
                  <a:lnTo>
                    <a:pt x="51" y="8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8" y="8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0" y="1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74960" y="2954160"/>
              <a:ext cx="680760" cy="700200"/>
            </a:xfrm>
            <a:custGeom>
              <a:avLst/>
              <a:gdLst/>
              <a:ahLst/>
              <a:rect l="l" t="t" r="r" b="b"/>
              <a:pathLst>
                <a:path w="429" h="441">
                  <a:moveTo>
                    <a:pt x="22" y="309"/>
                  </a:moveTo>
                  <a:lnTo>
                    <a:pt x="34" y="315"/>
                  </a:lnTo>
                  <a:lnTo>
                    <a:pt x="43" y="318"/>
                  </a:lnTo>
                  <a:lnTo>
                    <a:pt x="51" y="321"/>
                  </a:lnTo>
                  <a:lnTo>
                    <a:pt x="54" y="333"/>
                  </a:lnTo>
                  <a:lnTo>
                    <a:pt x="63" y="342"/>
                  </a:lnTo>
                  <a:lnTo>
                    <a:pt x="71" y="348"/>
                  </a:lnTo>
                  <a:lnTo>
                    <a:pt x="80" y="348"/>
                  </a:lnTo>
                  <a:lnTo>
                    <a:pt x="91" y="355"/>
                  </a:lnTo>
                  <a:lnTo>
                    <a:pt x="100" y="361"/>
                  </a:lnTo>
                  <a:lnTo>
                    <a:pt x="109" y="364"/>
                  </a:lnTo>
                  <a:lnTo>
                    <a:pt x="112" y="373"/>
                  </a:lnTo>
                  <a:lnTo>
                    <a:pt x="117" y="382"/>
                  </a:lnTo>
                  <a:lnTo>
                    <a:pt x="123" y="391"/>
                  </a:lnTo>
                  <a:lnTo>
                    <a:pt x="132" y="397"/>
                  </a:lnTo>
                  <a:lnTo>
                    <a:pt x="146" y="406"/>
                  </a:lnTo>
                  <a:lnTo>
                    <a:pt x="155" y="412"/>
                  </a:lnTo>
                  <a:lnTo>
                    <a:pt x="163" y="418"/>
                  </a:lnTo>
                  <a:lnTo>
                    <a:pt x="172" y="421"/>
                  </a:lnTo>
                  <a:lnTo>
                    <a:pt x="180" y="430"/>
                  </a:lnTo>
                  <a:lnTo>
                    <a:pt x="189" y="436"/>
                  </a:lnTo>
                  <a:lnTo>
                    <a:pt x="198" y="440"/>
                  </a:lnTo>
                  <a:lnTo>
                    <a:pt x="203" y="430"/>
                  </a:lnTo>
                  <a:lnTo>
                    <a:pt x="203" y="421"/>
                  </a:lnTo>
                  <a:lnTo>
                    <a:pt x="203" y="412"/>
                  </a:lnTo>
                  <a:lnTo>
                    <a:pt x="215" y="406"/>
                  </a:lnTo>
                  <a:lnTo>
                    <a:pt x="224" y="406"/>
                  </a:lnTo>
                  <a:lnTo>
                    <a:pt x="232" y="406"/>
                  </a:lnTo>
                  <a:lnTo>
                    <a:pt x="241" y="406"/>
                  </a:lnTo>
                  <a:lnTo>
                    <a:pt x="249" y="406"/>
                  </a:lnTo>
                  <a:lnTo>
                    <a:pt x="258" y="406"/>
                  </a:lnTo>
                  <a:lnTo>
                    <a:pt x="261" y="397"/>
                  </a:lnTo>
                  <a:lnTo>
                    <a:pt x="261" y="388"/>
                  </a:lnTo>
                  <a:lnTo>
                    <a:pt x="261" y="379"/>
                  </a:lnTo>
                  <a:lnTo>
                    <a:pt x="261" y="367"/>
                  </a:lnTo>
                  <a:lnTo>
                    <a:pt x="261" y="355"/>
                  </a:lnTo>
                  <a:lnTo>
                    <a:pt x="252" y="348"/>
                  </a:lnTo>
                  <a:lnTo>
                    <a:pt x="244" y="348"/>
                  </a:lnTo>
                  <a:lnTo>
                    <a:pt x="235" y="342"/>
                  </a:lnTo>
                  <a:lnTo>
                    <a:pt x="229" y="333"/>
                  </a:lnTo>
                  <a:lnTo>
                    <a:pt x="229" y="324"/>
                  </a:lnTo>
                  <a:lnTo>
                    <a:pt x="238" y="321"/>
                  </a:lnTo>
                  <a:lnTo>
                    <a:pt x="247" y="315"/>
                  </a:lnTo>
                  <a:lnTo>
                    <a:pt x="255" y="312"/>
                  </a:lnTo>
                  <a:lnTo>
                    <a:pt x="261" y="303"/>
                  </a:lnTo>
                  <a:lnTo>
                    <a:pt x="261" y="294"/>
                  </a:lnTo>
                  <a:lnTo>
                    <a:pt x="264" y="285"/>
                  </a:lnTo>
                  <a:lnTo>
                    <a:pt x="264" y="276"/>
                  </a:lnTo>
                  <a:lnTo>
                    <a:pt x="267" y="267"/>
                  </a:lnTo>
                  <a:lnTo>
                    <a:pt x="272" y="257"/>
                  </a:lnTo>
                  <a:lnTo>
                    <a:pt x="278" y="248"/>
                  </a:lnTo>
                  <a:lnTo>
                    <a:pt x="284" y="239"/>
                  </a:lnTo>
                  <a:lnTo>
                    <a:pt x="284" y="230"/>
                  </a:lnTo>
                  <a:lnTo>
                    <a:pt x="284" y="221"/>
                  </a:lnTo>
                  <a:lnTo>
                    <a:pt x="284" y="209"/>
                  </a:lnTo>
                  <a:lnTo>
                    <a:pt x="292" y="200"/>
                  </a:lnTo>
                  <a:lnTo>
                    <a:pt x="295" y="191"/>
                  </a:lnTo>
                  <a:lnTo>
                    <a:pt x="298" y="182"/>
                  </a:lnTo>
                  <a:lnTo>
                    <a:pt x="301" y="172"/>
                  </a:lnTo>
                  <a:lnTo>
                    <a:pt x="292" y="163"/>
                  </a:lnTo>
                  <a:lnTo>
                    <a:pt x="284" y="154"/>
                  </a:lnTo>
                  <a:lnTo>
                    <a:pt x="278" y="145"/>
                  </a:lnTo>
                  <a:lnTo>
                    <a:pt x="287" y="142"/>
                  </a:lnTo>
                  <a:lnTo>
                    <a:pt x="295" y="142"/>
                  </a:lnTo>
                  <a:lnTo>
                    <a:pt x="304" y="148"/>
                  </a:lnTo>
                  <a:lnTo>
                    <a:pt x="313" y="157"/>
                  </a:lnTo>
                  <a:lnTo>
                    <a:pt x="321" y="163"/>
                  </a:lnTo>
                  <a:lnTo>
                    <a:pt x="327" y="154"/>
                  </a:lnTo>
                  <a:lnTo>
                    <a:pt x="336" y="148"/>
                  </a:lnTo>
                  <a:lnTo>
                    <a:pt x="344" y="148"/>
                  </a:lnTo>
                  <a:lnTo>
                    <a:pt x="353" y="145"/>
                  </a:lnTo>
                  <a:lnTo>
                    <a:pt x="361" y="142"/>
                  </a:lnTo>
                  <a:lnTo>
                    <a:pt x="361" y="133"/>
                  </a:lnTo>
                  <a:lnTo>
                    <a:pt x="361" y="124"/>
                  </a:lnTo>
                  <a:lnTo>
                    <a:pt x="361" y="115"/>
                  </a:lnTo>
                  <a:lnTo>
                    <a:pt x="359" y="106"/>
                  </a:lnTo>
                  <a:lnTo>
                    <a:pt x="353" y="97"/>
                  </a:lnTo>
                  <a:lnTo>
                    <a:pt x="344" y="88"/>
                  </a:lnTo>
                  <a:lnTo>
                    <a:pt x="333" y="81"/>
                  </a:lnTo>
                  <a:lnTo>
                    <a:pt x="341" y="75"/>
                  </a:lnTo>
                  <a:lnTo>
                    <a:pt x="353" y="75"/>
                  </a:lnTo>
                  <a:lnTo>
                    <a:pt x="361" y="75"/>
                  </a:lnTo>
                  <a:lnTo>
                    <a:pt x="370" y="75"/>
                  </a:lnTo>
                  <a:lnTo>
                    <a:pt x="379" y="72"/>
                  </a:lnTo>
                  <a:lnTo>
                    <a:pt x="387" y="69"/>
                  </a:lnTo>
                  <a:lnTo>
                    <a:pt x="396" y="69"/>
                  </a:lnTo>
                  <a:lnTo>
                    <a:pt x="405" y="72"/>
                  </a:lnTo>
                  <a:lnTo>
                    <a:pt x="419" y="75"/>
                  </a:lnTo>
                  <a:lnTo>
                    <a:pt x="428" y="75"/>
                  </a:lnTo>
                  <a:lnTo>
                    <a:pt x="425" y="66"/>
                  </a:lnTo>
                  <a:lnTo>
                    <a:pt x="422" y="57"/>
                  </a:lnTo>
                  <a:lnTo>
                    <a:pt x="419" y="48"/>
                  </a:lnTo>
                  <a:lnTo>
                    <a:pt x="410" y="48"/>
                  </a:lnTo>
                  <a:lnTo>
                    <a:pt x="402" y="48"/>
                  </a:lnTo>
                  <a:lnTo>
                    <a:pt x="390" y="48"/>
                  </a:lnTo>
                  <a:lnTo>
                    <a:pt x="382" y="48"/>
                  </a:lnTo>
                  <a:lnTo>
                    <a:pt x="379" y="57"/>
                  </a:lnTo>
                  <a:lnTo>
                    <a:pt x="370" y="54"/>
                  </a:lnTo>
                  <a:lnTo>
                    <a:pt x="361" y="45"/>
                  </a:lnTo>
                  <a:lnTo>
                    <a:pt x="353" y="39"/>
                  </a:lnTo>
                  <a:lnTo>
                    <a:pt x="341" y="39"/>
                  </a:lnTo>
                  <a:lnTo>
                    <a:pt x="333" y="39"/>
                  </a:lnTo>
                  <a:lnTo>
                    <a:pt x="318" y="39"/>
                  </a:lnTo>
                  <a:lnTo>
                    <a:pt x="310" y="39"/>
                  </a:lnTo>
                  <a:lnTo>
                    <a:pt x="298" y="42"/>
                  </a:lnTo>
                  <a:lnTo>
                    <a:pt x="290" y="42"/>
                  </a:lnTo>
                  <a:lnTo>
                    <a:pt x="290" y="33"/>
                  </a:lnTo>
                  <a:lnTo>
                    <a:pt x="298" y="30"/>
                  </a:lnTo>
                  <a:lnTo>
                    <a:pt x="307" y="30"/>
                  </a:lnTo>
                  <a:lnTo>
                    <a:pt x="315" y="27"/>
                  </a:lnTo>
                  <a:lnTo>
                    <a:pt x="324" y="24"/>
                  </a:lnTo>
                  <a:lnTo>
                    <a:pt x="327" y="15"/>
                  </a:lnTo>
                  <a:lnTo>
                    <a:pt x="327" y="6"/>
                  </a:lnTo>
                  <a:lnTo>
                    <a:pt x="318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3"/>
                  </a:lnTo>
                  <a:lnTo>
                    <a:pt x="275" y="12"/>
                  </a:lnTo>
                  <a:lnTo>
                    <a:pt x="267" y="18"/>
                  </a:lnTo>
                  <a:lnTo>
                    <a:pt x="258" y="21"/>
                  </a:lnTo>
                  <a:lnTo>
                    <a:pt x="255" y="30"/>
                  </a:lnTo>
                  <a:lnTo>
                    <a:pt x="264" y="36"/>
                  </a:lnTo>
                  <a:lnTo>
                    <a:pt x="272" y="36"/>
                  </a:lnTo>
                  <a:lnTo>
                    <a:pt x="278" y="45"/>
                  </a:lnTo>
                  <a:lnTo>
                    <a:pt x="270" y="54"/>
                  </a:lnTo>
                  <a:lnTo>
                    <a:pt x="267" y="63"/>
                  </a:lnTo>
                  <a:lnTo>
                    <a:pt x="281" y="75"/>
                  </a:lnTo>
                  <a:lnTo>
                    <a:pt x="290" y="78"/>
                  </a:lnTo>
                  <a:lnTo>
                    <a:pt x="281" y="75"/>
                  </a:lnTo>
                  <a:lnTo>
                    <a:pt x="270" y="66"/>
                  </a:lnTo>
                  <a:lnTo>
                    <a:pt x="261" y="60"/>
                  </a:lnTo>
                  <a:lnTo>
                    <a:pt x="252" y="51"/>
                  </a:lnTo>
                  <a:lnTo>
                    <a:pt x="244" y="51"/>
                  </a:lnTo>
                  <a:lnTo>
                    <a:pt x="241" y="60"/>
                  </a:lnTo>
                  <a:lnTo>
                    <a:pt x="241" y="69"/>
                  </a:lnTo>
                  <a:lnTo>
                    <a:pt x="255" y="78"/>
                  </a:lnTo>
                  <a:lnTo>
                    <a:pt x="264" y="81"/>
                  </a:lnTo>
                  <a:lnTo>
                    <a:pt x="255" y="88"/>
                  </a:lnTo>
                  <a:lnTo>
                    <a:pt x="244" y="88"/>
                  </a:lnTo>
                  <a:lnTo>
                    <a:pt x="235" y="88"/>
                  </a:lnTo>
                  <a:lnTo>
                    <a:pt x="235" y="103"/>
                  </a:lnTo>
                  <a:lnTo>
                    <a:pt x="244" y="106"/>
                  </a:lnTo>
                  <a:lnTo>
                    <a:pt x="252" y="109"/>
                  </a:lnTo>
                  <a:lnTo>
                    <a:pt x="244" y="115"/>
                  </a:lnTo>
                  <a:lnTo>
                    <a:pt x="235" y="112"/>
                  </a:lnTo>
                  <a:lnTo>
                    <a:pt x="226" y="109"/>
                  </a:lnTo>
                  <a:lnTo>
                    <a:pt x="218" y="106"/>
                  </a:lnTo>
                  <a:lnTo>
                    <a:pt x="212" y="115"/>
                  </a:lnTo>
                  <a:lnTo>
                    <a:pt x="218" y="124"/>
                  </a:lnTo>
                  <a:lnTo>
                    <a:pt x="229" y="127"/>
                  </a:lnTo>
                  <a:lnTo>
                    <a:pt x="238" y="130"/>
                  </a:lnTo>
                  <a:lnTo>
                    <a:pt x="229" y="124"/>
                  </a:lnTo>
                  <a:lnTo>
                    <a:pt x="221" y="121"/>
                  </a:lnTo>
                  <a:lnTo>
                    <a:pt x="209" y="115"/>
                  </a:lnTo>
                  <a:lnTo>
                    <a:pt x="198" y="106"/>
                  </a:lnTo>
                  <a:lnTo>
                    <a:pt x="192" y="97"/>
                  </a:lnTo>
                  <a:lnTo>
                    <a:pt x="183" y="91"/>
                  </a:lnTo>
                  <a:lnTo>
                    <a:pt x="180" y="81"/>
                  </a:lnTo>
                  <a:lnTo>
                    <a:pt x="178" y="72"/>
                  </a:lnTo>
                  <a:lnTo>
                    <a:pt x="169" y="60"/>
                  </a:lnTo>
                  <a:lnTo>
                    <a:pt x="160" y="60"/>
                  </a:lnTo>
                  <a:lnTo>
                    <a:pt x="152" y="66"/>
                  </a:lnTo>
                  <a:lnTo>
                    <a:pt x="149" y="75"/>
                  </a:lnTo>
                  <a:lnTo>
                    <a:pt x="146" y="84"/>
                  </a:lnTo>
                  <a:lnTo>
                    <a:pt x="143" y="94"/>
                  </a:lnTo>
                  <a:lnTo>
                    <a:pt x="140" y="103"/>
                  </a:lnTo>
                  <a:lnTo>
                    <a:pt x="129" y="103"/>
                  </a:lnTo>
                  <a:lnTo>
                    <a:pt x="117" y="94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0" y="60"/>
                  </a:lnTo>
                  <a:lnTo>
                    <a:pt x="89" y="60"/>
                  </a:lnTo>
                  <a:lnTo>
                    <a:pt x="80" y="66"/>
                  </a:lnTo>
                  <a:lnTo>
                    <a:pt x="77" y="75"/>
                  </a:lnTo>
                  <a:lnTo>
                    <a:pt x="71" y="84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51" y="127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0" y="127"/>
                  </a:lnTo>
                  <a:lnTo>
                    <a:pt x="51" y="121"/>
                  </a:lnTo>
                  <a:lnTo>
                    <a:pt x="43" y="118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4" y="115"/>
                  </a:lnTo>
                  <a:lnTo>
                    <a:pt x="11" y="124"/>
                  </a:lnTo>
                  <a:lnTo>
                    <a:pt x="8" y="133"/>
                  </a:lnTo>
                  <a:lnTo>
                    <a:pt x="2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4" y="169"/>
                  </a:lnTo>
                  <a:lnTo>
                    <a:pt x="22" y="172"/>
                  </a:lnTo>
                  <a:lnTo>
                    <a:pt x="31" y="172"/>
                  </a:lnTo>
                  <a:lnTo>
                    <a:pt x="40" y="176"/>
                  </a:lnTo>
                  <a:lnTo>
                    <a:pt x="51" y="185"/>
                  </a:lnTo>
                  <a:lnTo>
                    <a:pt x="60" y="191"/>
                  </a:lnTo>
                  <a:lnTo>
                    <a:pt x="68" y="197"/>
                  </a:lnTo>
                  <a:lnTo>
                    <a:pt x="80" y="200"/>
                  </a:lnTo>
                  <a:lnTo>
                    <a:pt x="89" y="203"/>
                  </a:lnTo>
                  <a:lnTo>
                    <a:pt x="100" y="203"/>
                  </a:lnTo>
                  <a:lnTo>
                    <a:pt x="109" y="203"/>
                  </a:lnTo>
                  <a:lnTo>
                    <a:pt x="120" y="197"/>
                  </a:lnTo>
                  <a:lnTo>
                    <a:pt x="129" y="194"/>
                  </a:lnTo>
                  <a:lnTo>
                    <a:pt x="135" y="185"/>
                  </a:lnTo>
                  <a:lnTo>
                    <a:pt x="143" y="179"/>
                  </a:lnTo>
                  <a:lnTo>
                    <a:pt x="149" y="169"/>
                  </a:lnTo>
                  <a:lnTo>
                    <a:pt x="157" y="163"/>
                  </a:lnTo>
                  <a:lnTo>
                    <a:pt x="166" y="163"/>
                  </a:lnTo>
                  <a:lnTo>
                    <a:pt x="175" y="166"/>
                  </a:lnTo>
                  <a:lnTo>
                    <a:pt x="183" y="166"/>
                  </a:lnTo>
                  <a:lnTo>
                    <a:pt x="192" y="157"/>
                  </a:lnTo>
                  <a:lnTo>
                    <a:pt x="198" y="148"/>
                  </a:lnTo>
                  <a:lnTo>
                    <a:pt x="201" y="139"/>
                  </a:lnTo>
                  <a:lnTo>
                    <a:pt x="203" y="130"/>
                  </a:lnTo>
                  <a:lnTo>
                    <a:pt x="212" y="130"/>
                  </a:lnTo>
                  <a:lnTo>
                    <a:pt x="224" y="136"/>
                  </a:lnTo>
                  <a:lnTo>
                    <a:pt x="232" y="139"/>
                  </a:lnTo>
                  <a:lnTo>
                    <a:pt x="241" y="142"/>
                  </a:lnTo>
                  <a:lnTo>
                    <a:pt x="232" y="142"/>
                  </a:lnTo>
                  <a:lnTo>
                    <a:pt x="224" y="142"/>
                  </a:lnTo>
                  <a:lnTo>
                    <a:pt x="215" y="142"/>
                  </a:lnTo>
                  <a:lnTo>
                    <a:pt x="206" y="142"/>
                  </a:lnTo>
                  <a:lnTo>
                    <a:pt x="203" y="151"/>
                  </a:lnTo>
                  <a:lnTo>
                    <a:pt x="201" y="160"/>
                  </a:lnTo>
                  <a:lnTo>
                    <a:pt x="201" y="169"/>
                  </a:lnTo>
                  <a:lnTo>
                    <a:pt x="209" y="176"/>
                  </a:lnTo>
                  <a:lnTo>
                    <a:pt x="218" y="179"/>
                  </a:lnTo>
                  <a:lnTo>
                    <a:pt x="226" y="188"/>
                  </a:lnTo>
                  <a:lnTo>
                    <a:pt x="235" y="194"/>
                  </a:lnTo>
                  <a:lnTo>
                    <a:pt x="238" y="203"/>
                  </a:lnTo>
                  <a:lnTo>
                    <a:pt x="226" y="206"/>
                  </a:lnTo>
                  <a:lnTo>
                    <a:pt x="224" y="215"/>
                  </a:lnTo>
                  <a:lnTo>
                    <a:pt x="224" y="224"/>
                  </a:lnTo>
                  <a:lnTo>
                    <a:pt x="221" y="233"/>
                  </a:lnTo>
                  <a:lnTo>
                    <a:pt x="209" y="233"/>
                  </a:lnTo>
                  <a:lnTo>
                    <a:pt x="203" y="245"/>
                  </a:lnTo>
                  <a:lnTo>
                    <a:pt x="198" y="257"/>
                  </a:lnTo>
                  <a:lnTo>
                    <a:pt x="195" y="267"/>
                  </a:lnTo>
                  <a:lnTo>
                    <a:pt x="186" y="267"/>
                  </a:lnTo>
                  <a:lnTo>
                    <a:pt x="183" y="257"/>
                  </a:lnTo>
                  <a:lnTo>
                    <a:pt x="178" y="245"/>
                  </a:lnTo>
                  <a:lnTo>
                    <a:pt x="175" y="233"/>
                  </a:lnTo>
                  <a:lnTo>
                    <a:pt x="166" y="224"/>
                  </a:lnTo>
                  <a:lnTo>
                    <a:pt x="157" y="221"/>
                  </a:lnTo>
                  <a:lnTo>
                    <a:pt x="149" y="218"/>
                  </a:lnTo>
                  <a:lnTo>
                    <a:pt x="137" y="224"/>
                  </a:lnTo>
                  <a:lnTo>
                    <a:pt x="140" y="236"/>
                  </a:lnTo>
                  <a:lnTo>
                    <a:pt x="143" y="245"/>
                  </a:lnTo>
                  <a:lnTo>
                    <a:pt x="143" y="254"/>
                  </a:lnTo>
                  <a:lnTo>
                    <a:pt x="135" y="260"/>
                  </a:lnTo>
                  <a:lnTo>
                    <a:pt x="126" y="260"/>
                  </a:lnTo>
                  <a:lnTo>
                    <a:pt x="114" y="257"/>
                  </a:lnTo>
                  <a:lnTo>
                    <a:pt x="106" y="257"/>
                  </a:lnTo>
                  <a:lnTo>
                    <a:pt x="97" y="257"/>
                  </a:lnTo>
                  <a:lnTo>
                    <a:pt x="89" y="257"/>
                  </a:lnTo>
                  <a:lnTo>
                    <a:pt x="91" y="267"/>
                  </a:lnTo>
                  <a:lnTo>
                    <a:pt x="100" y="276"/>
                  </a:lnTo>
                  <a:lnTo>
                    <a:pt x="100" y="285"/>
                  </a:lnTo>
                  <a:lnTo>
                    <a:pt x="97" y="294"/>
                  </a:lnTo>
                  <a:lnTo>
                    <a:pt x="97" y="303"/>
                  </a:lnTo>
                  <a:lnTo>
                    <a:pt x="109" y="312"/>
                  </a:lnTo>
                  <a:lnTo>
                    <a:pt x="117" y="318"/>
                  </a:lnTo>
                  <a:lnTo>
                    <a:pt x="109" y="318"/>
                  </a:lnTo>
                  <a:lnTo>
                    <a:pt x="100" y="309"/>
                  </a:lnTo>
                  <a:lnTo>
                    <a:pt x="89" y="300"/>
                  </a:lnTo>
                  <a:lnTo>
                    <a:pt x="80" y="297"/>
                  </a:lnTo>
                  <a:lnTo>
                    <a:pt x="71" y="297"/>
                  </a:lnTo>
                  <a:lnTo>
                    <a:pt x="63" y="300"/>
                  </a:lnTo>
                  <a:lnTo>
                    <a:pt x="54" y="306"/>
                  </a:lnTo>
                  <a:lnTo>
                    <a:pt x="43" y="306"/>
                  </a:lnTo>
                  <a:lnTo>
                    <a:pt x="34" y="306"/>
                  </a:lnTo>
                  <a:lnTo>
                    <a:pt x="22" y="309"/>
                  </a:lnTo>
                  <a:lnTo>
                    <a:pt x="11" y="303"/>
                  </a:lnTo>
                  <a:lnTo>
                    <a:pt x="22" y="309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43200" y="27082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2"/>
                  </a:moveTo>
                  <a:lnTo>
                    <a:pt x="8" y="19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34" y="22"/>
                  </a:lnTo>
                  <a:lnTo>
                    <a:pt x="40" y="13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76680" y="294012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5" y="0"/>
                  </a:moveTo>
                  <a:lnTo>
                    <a:pt x="20" y="13"/>
                  </a:lnTo>
                  <a:lnTo>
                    <a:pt x="11" y="16"/>
                  </a:lnTo>
                  <a:lnTo>
                    <a:pt x="8" y="24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4" y="30"/>
                  </a:lnTo>
                  <a:lnTo>
                    <a:pt x="40" y="21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25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10160" y="2549520"/>
              <a:ext cx="339840" cy="509760"/>
            </a:xfrm>
            <a:custGeom>
              <a:avLst/>
              <a:gdLst/>
              <a:ahLst/>
              <a:rect l="l" t="t" r="r" b="b"/>
              <a:pathLst>
                <a:path w="214" h="321">
                  <a:moveTo>
                    <a:pt x="23" y="200"/>
                  </a:moveTo>
                  <a:lnTo>
                    <a:pt x="34" y="182"/>
                  </a:lnTo>
                  <a:lnTo>
                    <a:pt x="23" y="200"/>
                  </a:lnTo>
                  <a:lnTo>
                    <a:pt x="23" y="211"/>
                  </a:lnTo>
                  <a:lnTo>
                    <a:pt x="20" y="220"/>
                  </a:lnTo>
                  <a:lnTo>
                    <a:pt x="17" y="228"/>
                  </a:lnTo>
                  <a:lnTo>
                    <a:pt x="8" y="234"/>
                  </a:lnTo>
                  <a:lnTo>
                    <a:pt x="2" y="24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8" y="268"/>
                  </a:lnTo>
                  <a:lnTo>
                    <a:pt x="17" y="268"/>
                  </a:lnTo>
                  <a:lnTo>
                    <a:pt x="25" y="271"/>
                  </a:lnTo>
                  <a:lnTo>
                    <a:pt x="28" y="280"/>
                  </a:lnTo>
                  <a:lnTo>
                    <a:pt x="37" y="291"/>
                  </a:lnTo>
                  <a:lnTo>
                    <a:pt x="28" y="294"/>
                  </a:lnTo>
                  <a:lnTo>
                    <a:pt x="20" y="285"/>
                  </a:lnTo>
                  <a:lnTo>
                    <a:pt x="31" y="294"/>
                  </a:lnTo>
                  <a:lnTo>
                    <a:pt x="40" y="300"/>
                  </a:lnTo>
                  <a:lnTo>
                    <a:pt x="48" y="311"/>
                  </a:lnTo>
                  <a:lnTo>
                    <a:pt x="57" y="314"/>
                  </a:lnTo>
                  <a:lnTo>
                    <a:pt x="66" y="320"/>
                  </a:lnTo>
                  <a:lnTo>
                    <a:pt x="66" y="311"/>
                  </a:lnTo>
                  <a:lnTo>
                    <a:pt x="74" y="311"/>
                  </a:lnTo>
                  <a:lnTo>
                    <a:pt x="83" y="320"/>
                  </a:lnTo>
                  <a:lnTo>
                    <a:pt x="83" y="308"/>
                  </a:lnTo>
                  <a:lnTo>
                    <a:pt x="92" y="305"/>
                  </a:lnTo>
                  <a:lnTo>
                    <a:pt x="97" y="297"/>
                  </a:lnTo>
                  <a:lnTo>
                    <a:pt x="89" y="288"/>
                  </a:lnTo>
                  <a:lnTo>
                    <a:pt x="83" y="280"/>
                  </a:lnTo>
                  <a:lnTo>
                    <a:pt x="77" y="271"/>
                  </a:lnTo>
                  <a:lnTo>
                    <a:pt x="71" y="262"/>
                  </a:lnTo>
                  <a:lnTo>
                    <a:pt x="69" y="254"/>
                  </a:lnTo>
                  <a:lnTo>
                    <a:pt x="69" y="242"/>
                  </a:lnTo>
                  <a:lnTo>
                    <a:pt x="69" y="234"/>
                  </a:lnTo>
                  <a:lnTo>
                    <a:pt x="69" y="225"/>
                  </a:lnTo>
                  <a:lnTo>
                    <a:pt x="69" y="217"/>
                  </a:lnTo>
                  <a:lnTo>
                    <a:pt x="69" y="208"/>
                  </a:lnTo>
                  <a:lnTo>
                    <a:pt x="69" y="200"/>
                  </a:lnTo>
                  <a:lnTo>
                    <a:pt x="69" y="191"/>
                  </a:lnTo>
                  <a:lnTo>
                    <a:pt x="69" y="182"/>
                  </a:lnTo>
                  <a:lnTo>
                    <a:pt x="77" y="174"/>
                  </a:lnTo>
                  <a:lnTo>
                    <a:pt x="86" y="168"/>
                  </a:lnTo>
                  <a:lnTo>
                    <a:pt x="92" y="160"/>
                  </a:lnTo>
                  <a:lnTo>
                    <a:pt x="97" y="151"/>
                  </a:lnTo>
                  <a:lnTo>
                    <a:pt x="103" y="142"/>
                  </a:lnTo>
                  <a:lnTo>
                    <a:pt x="103" y="134"/>
                  </a:lnTo>
                  <a:lnTo>
                    <a:pt x="103" y="125"/>
                  </a:lnTo>
                  <a:lnTo>
                    <a:pt x="112" y="122"/>
                  </a:lnTo>
                  <a:lnTo>
                    <a:pt x="120" y="117"/>
                  </a:lnTo>
                  <a:lnTo>
                    <a:pt x="123" y="105"/>
                  </a:lnTo>
                  <a:lnTo>
                    <a:pt x="132" y="100"/>
                  </a:lnTo>
                  <a:lnTo>
                    <a:pt x="135" y="91"/>
                  </a:lnTo>
                  <a:lnTo>
                    <a:pt x="143" y="82"/>
                  </a:lnTo>
                  <a:lnTo>
                    <a:pt x="152" y="77"/>
                  </a:lnTo>
                  <a:lnTo>
                    <a:pt x="158" y="68"/>
                  </a:lnTo>
                  <a:lnTo>
                    <a:pt x="166" y="65"/>
                  </a:lnTo>
                  <a:lnTo>
                    <a:pt x="175" y="60"/>
                  </a:lnTo>
                  <a:lnTo>
                    <a:pt x="184" y="57"/>
                  </a:lnTo>
                  <a:lnTo>
                    <a:pt x="189" y="48"/>
                  </a:lnTo>
                  <a:lnTo>
                    <a:pt x="198" y="42"/>
                  </a:lnTo>
                  <a:lnTo>
                    <a:pt x="207" y="37"/>
                  </a:lnTo>
                  <a:lnTo>
                    <a:pt x="210" y="28"/>
                  </a:lnTo>
                  <a:lnTo>
                    <a:pt x="213" y="20"/>
                  </a:lnTo>
                  <a:lnTo>
                    <a:pt x="213" y="11"/>
                  </a:lnTo>
                  <a:lnTo>
                    <a:pt x="210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5" y="8"/>
                  </a:lnTo>
                  <a:lnTo>
                    <a:pt x="175" y="17"/>
                  </a:lnTo>
                  <a:lnTo>
                    <a:pt x="166" y="20"/>
                  </a:lnTo>
                  <a:lnTo>
                    <a:pt x="158" y="25"/>
                  </a:lnTo>
                  <a:lnTo>
                    <a:pt x="149" y="34"/>
                  </a:lnTo>
                  <a:lnTo>
                    <a:pt x="141" y="40"/>
                  </a:lnTo>
                  <a:lnTo>
                    <a:pt x="132" y="42"/>
                  </a:lnTo>
                  <a:lnTo>
                    <a:pt x="123" y="42"/>
                  </a:lnTo>
                  <a:lnTo>
                    <a:pt x="123" y="54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7" y="68"/>
                  </a:lnTo>
                  <a:lnTo>
                    <a:pt x="89" y="77"/>
                  </a:lnTo>
                  <a:lnTo>
                    <a:pt x="83" y="85"/>
                  </a:lnTo>
                  <a:lnTo>
                    <a:pt x="80" y="94"/>
                  </a:lnTo>
                  <a:lnTo>
                    <a:pt x="71" y="100"/>
                  </a:lnTo>
                  <a:lnTo>
                    <a:pt x="66" y="108"/>
                  </a:lnTo>
                  <a:lnTo>
                    <a:pt x="63" y="117"/>
                  </a:lnTo>
                  <a:lnTo>
                    <a:pt x="63" y="125"/>
                  </a:lnTo>
                  <a:lnTo>
                    <a:pt x="57" y="134"/>
                  </a:lnTo>
                  <a:lnTo>
                    <a:pt x="51" y="142"/>
                  </a:lnTo>
                  <a:lnTo>
                    <a:pt x="46" y="151"/>
                  </a:lnTo>
                  <a:lnTo>
                    <a:pt x="40" y="162"/>
                  </a:lnTo>
                  <a:lnTo>
                    <a:pt x="37" y="171"/>
                  </a:lnTo>
                  <a:lnTo>
                    <a:pt x="46" y="177"/>
                  </a:lnTo>
                  <a:lnTo>
                    <a:pt x="54" y="180"/>
                  </a:lnTo>
                  <a:lnTo>
                    <a:pt x="57" y="188"/>
                  </a:lnTo>
                  <a:lnTo>
                    <a:pt x="48" y="185"/>
                  </a:lnTo>
                  <a:lnTo>
                    <a:pt x="40" y="185"/>
                  </a:lnTo>
                  <a:lnTo>
                    <a:pt x="31" y="188"/>
                  </a:lnTo>
                  <a:lnTo>
                    <a:pt x="23" y="200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23" y="237"/>
                  </a:lnTo>
                  <a:lnTo>
                    <a:pt x="14" y="242"/>
                  </a:lnTo>
                  <a:lnTo>
                    <a:pt x="8" y="251"/>
                  </a:lnTo>
                  <a:lnTo>
                    <a:pt x="0" y="260"/>
                  </a:lnTo>
                  <a:lnTo>
                    <a:pt x="23" y="2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71720" y="444168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49" y="47"/>
                  </a:moveTo>
                  <a:lnTo>
                    <a:pt x="44" y="58"/>
                  </a:lnTo>
                  <a:lnTo>
                    <a:pt x="35" y="58"/>
                  </a:lnTo>
                  <a:lnTo>
                    <a:pt x="30" y="66"/>
                  </a:lnTo>
                  <a:lnTo>
                    <a:pt x="30" y="75"/>
                  </a:lnTo>
                  <a:lnTo>
                    <a:pt x="30" y="83"/>
                  </a:lnTo>
                  <a:lnTo>
                    <a:pt x="30" y="91"/>
                  </a:lnTo>
                  <a:lnTo>
                    <a:pt x="22" y="94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8" y="139"/>
                  </a:lnTo>
                  <a:lnTo>
                    <a:pt x="16" y="139"/>
                  </a:lnTo>
                  <a:lnTo>
                    <a:pt x="27" y="147"/>
                  </a:lnTo>
                  <a:lnTo>
                    <a:pt x="33" y="156"/>
                  </a:lnTo>
                  <a:lnTo>
                    <a:pt x="41" y="156"/>
                  </a:lnTo>
                  <a:lnTo>
                    <a:pt x="46" y="147"/>
                  </a:lnTo>
                  <a:lnTo>
                    <a:pt x="52" y="139"/>
                  </a:lnTo>
                  <a:lnTo>
                    <a:pt x="55" y="130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71" y="108"/>
                  </a:lnTo>
                  <a:lnTo>
                    <a:pt x="80" y="108"/>
                  </a:lnTo>
                  <a:lnTo>
                    <a:pt x="82" y="100"/>
                  </a:lnTo>
                  <a:lnTo>
                    <a:pt x="82" y="91"/>
                  </a:lnTo>
                  <a:lnTo>
                    <a:pt x="82" y="83"/>
                  </a:lnTo>
                  <a:lnTo>
                    <a:pt x="82" y="75"/>
                  </a:lnTo>
                  <a:lnTo>
                    <a:pt x="82" y="66"/>
                  </a:lnTo>
                  <a:lnTo>
                    <a:pt x="85" y="58"/>
                  </a:lnTo>
                  <a:lnTo>
                    <a:pt x="93" y="52"/>
                  </a:lnTo>
                  <a:lnTo>
                    <a:pt x="102" y="47"/>
                  </a:lnTo>
                  <a:lnTo>
                    <a:pt x="107" y="39"/>
                  </a:lnTo>
                  <a:lnTo>
                    <a:pt x="115" y="36"/>
                  </a:lnTo>
                  <a:lnTo>
                    <a:pt x="121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38" y="5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8" y="11"/>
                  </a:lnTo>
                  <a:lnTo>
                    <a:pt x="82" y="19"/>
                  </a:lnTo>
                  <a:lnTo>
                    <a:pt x="80" y="27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69" y="61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49" y="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0800" y="524844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1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6" y="21"/>
                  </a:lnTo>
                  <a:lnTo>
                    <a:pt x="23" y="27"/>
                  </a:lnTo>
                  <a:lnTo>
                    <a:pt x="18" y="18"/>
                  </a:lnTo>
                  <a:lnTo>
                    <a:pt x="13" y="9"/>
                  </a:lnTo>
                  <a:lnTo>
                    <a:pt x="6" y="21"/>
                  </a:lnTo>
                  <a:lnTo>
                    <a:pt x="9" y="6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57400" y="5361120"/>
              <a:ext cx="27000" cy="72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6" y="0"/>
                  </a:moveTo>
                  <a:lnTo>
                    <a:pt x="5" y="19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0" y="28"/>
                  </a:lnTo>
                  <a:lnTo>
                    <a:pt x="16" y="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52480" y="4357800"/>
              <a:ext cx="88920" cy="73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0"/>
                  </a:moveTo>
                  <a:lnTo>
                    <a:pt x="20" y="19"/>
                  </a:lnTo>
                  <a:lnTo>
                    <a:pt x="20" y="28"/>
                  </a:lnTo>
                  <a:lnTo>
                    <a:pt x="28" y="33"/>
                  </a:lnTo>
                  <a:lnTo>
                    <a:pt x="28" y="42"/>
                  </a:lnTo>
                  <a:lnTo>
                    <a:pt x="37" y="45"/>
                  </a:lnTo>
                  <a:lnTo>
                    <a:pt x="46" y="45"/>
                  </a:lnTo>
                  <a:lnTo>
                    <a:pt x="49" y="36"/>
                  </a:lnTo>
                  <a:lnTo>
                    <a:pt x="55" y="28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26" y="16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228600" y="6137280"/>
              <a:ext cx="611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993600" y="6272280"/>
              <a:ext cx="47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HO European Centre for Environment and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72040" y="743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0"/>
                  </a:moveTo>
                  <a:lnTo>
                    <a:pt x="8" y="8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5" y="37"/>
                  </a:lnTo>
                  <a:lnTo>
                    <a:pt x="11" y="46"/>
                  </a:lnTo>
                  <a:lnTo>
                    <a:pt x="19" y="49"/>
                  </a:lnTo>
                  <a:lnTo>
                    <a:pt x="31" y="52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7" y="55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31" y="14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97360" y="4836960"/>
              <a:ext cx="788760" cy="408240"/>
            </a:xfrm>
            <a:custGeom>
              <a:avLst/>
              <a:gdLst/>
              <a:ahLst/>
              <a:rect l="l" t="t" r="r" b="b"/>
              <a:pathLst>
                <a:path w="497" h="257">
                  <a:moveTo>
                    <a:pt x="0" y="193"/>
                  </a:moveTo>
                  <a:lnTo>
                    <a:pt x="24" y="189"/>
                  </a:lnTo>
                  <a:lnTo>
                    <a:pt x="32" y="182"/>
                  </a:lnTo>
                  <a:lnTo>
                    <a:pt x="40" y="174"/>
                  </a:lnTo>
                  <a:lnTo>
                    <a:pt x="46" y="164"/>
                  </a:lnTo>
                  <a:lnTo>
                    <a:pt x="45" y="155"/>
                  </a:lnTo>
                  <a:lnTo>
                    <a:pt x="52" y="149"/>
                  </a:lnTo>
                  <a:lnTo>
                    <a:pt x="60" y="140"/>
                  </a:lnTo>
                  <a:lnTo>
                    <a:pt x="66" y="131"/>
                  </a:lnTo>
                  <a:lnTo>
                    <a:pt x="69" y="123"/>
                  </a:lnTo>
                  <a:lnTo>
                    <a:pt x="74" y="114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7" y="95"/>
                  </a:lnTo>
                  <a:lnTo>
                    <a:pt x="104" y="88"/>
                  </a:lnTo>
                  <a:lnTo>
                    <a:pt x="109" y="78"/>
                  </a:lnTo>
                  <a:lnTo>
                    <a:pt x="116" y="70"/>
                  </a:lnTo>
                  <a:lnTo>
                    <a:pt x="118" y="60"/>
                  </a:lnTo>
                  <a:lnTo>
                    <a:pt x="128" y="53"/>
                  </a:lnTo>
                  <a:lnTo>
                    <a:pt x="131" y="44"/>
                  </a:lnTo>
                  <a:lnTo>
                    <a:pt x="137" y="37"/>
                  </a:lnTo>
                  <a:lnTo>
                    <a:pt x="144" y="30"/>
                  </a:lnTo>
                  <a:lnTo>
                    <a:pt x="153" y="22"/>
                  </a:lnTo>
                  <a:lnTo>
                    <a:pt x="159" y="15"/>
                  </a:lnTo>
                  <a:lnTo>
                    <a:pt x="168" y="10"/>
                  </a:lnTo>
                  <a:lnTo>
                    <a:pt x="175" y="6"/>
                  </a:lnTo>
                  <a:lnTo>
                    <a:pt x="187" y="6"/>
                  </a:lnTo>
                  <a:lnTo>
                    <a:pt x="193" y="0"/>
                  </a:lnTo>
                  <a:lnTo>
                    <a:pt x="202" y="7"/>
                  </a:lnTo>
                  <a:lnTo>
                    <a:pt x="215" y="15"/>
                  </a:lnTo>
                  <a:lnTo>
                    <a:pt x="207" y="14"/>
                  </a:lnTo>
                  <a:lnTo>
                    <a:pt x="205" y="22"/>
                  </a:lnTo>
                  <a:lnTo>
                    <a:pt x="205" y="31"/>
                  </a:lnTo>
                  <a:lnTo>
                    <a:pt x="215" y="34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40" y="33"/>
                  </a:lnTo>
                  <a:lnTo>
                    <a:pt x="243" y="40"/>
                  </a:lnTo>
                  <a:lnTo>
                    <a:pt x="236" y="45"/>
                  </a:lnTo>
                  <a:lnTo>
                    <a:pt x="228" y="49"/>
                  </a:lnTo>
                  <a:lnTo>
                    <a:pt x="220" y="55"/>
                  </a:lnTo>
                  <a:lnTo>
                    <a:pt x="213" y="62"/>
                  </a:lnTo>
                  <a:lnTo>
                    <a:pt x="222" y="64"/>
                  </a:lnTo>
                  <a:lnTo>
                    <a:pt x="226" y="71"/>
                  </a:lnTo>
                  <a:lnTo>
                    <a:pt x="229" y="78"/>
                  </a:lnTo>
                  <a:lnTo>
                    <a:pt x="232" y="84"/>
                  </a:lnTo>
                  <a:lnTo>
                    <a:pt x="232" y="94"/>
                  </a:lnTo>
                  <a:lnTo>
                    <a:pt x="230" y="103"/>
                  </a:lnTo>
                  <a:lnTo>
                    <a:pt x="239" y="163"/>
                  </a:lnTo>
                  <a:lnTo>
                    <a:pt x="190" y="125"/>
                  </a:lnTo>
                  <a:lnTo>
                    <a:pt x="236" y="116"/>
                  </a:lnTo>
                  <a:lnTo>
                    <a:pt x="246" y="110"/>
                  </a:lnTo>
                  <a:lnTo>
                    <a:pt x="251" y="105"/>
                  </a:lnTo>
                  <a:lnTo>
                    <a:pt x="259" y="94"/>
                  </a:lnTo>
                  <a:lnTo>
                    <a:pt x="270" y="93"/>
                  </a:lnTo>
                  <a:lnTo>
                    <a:pt x="277" y="90"/>
                  </a:lnTo>
                  <a:lnTo>
                    <a:pt x="288" y="86"/>
                  </a:lnTo>
                  <a:lnTo>
                    <a:pt x="295" y="83"/>
                  </a:lnTo>
                  <a:lnTo>
                    <a:pt x="303" y="74"/>
                  </a:lnTo>
                  <a:lnTo>
                    <a:pt x="313" y="75"/>
                  </a:lnTo>
                  <a:lnTo>
                    <a:pt x="320" y="80"/>
                  </a:lnTo>
                  <a:lnTo>
                    <a:pt x="329" y="76"/>
                  </a:lnTo>
                  <a:lnTo>
                    <a:pt x="338" y="74"/>
                  </a:lnTo>
                  <a:lnTo>
                    <a:pt x="345" y="78"/>
                  </a:lnTo>
                  <a:lnTo>
                    <a:pt x="351" y="86"/>
                  </a:lnTo>
                  <a:lnTo>
                    <a:pt x="357" y="92"/>
                  </a:lnTo>
                  <a:lnTo>
                    <a:pt x="365" y="90"/>
                  </a:lnTo>
                  <a:lnTo>
                    <a:pt x="379" y="94"/>
                  </a:lnTo>
                  <a:lnTo>
                    <a:pt x="385" y="99"/>
                  </a:lnTo>
                  <a:lnTo>
                    <a:pt x="394" y="102"/>
                  </a:lnTo>
                  <a:lnTo>
                    <a:pt x="403" y="107"/>
                  </a:lnTo>
                  <a:lnTo>
                    <a:pt x="405" y="115"/>
                  </a:lnTo>
                  <a:lnTo>
                    <a:pt x="413" y="121"/>
                  </a:lnTo>
                  <a:lnTo>
                    <a:pt x="423" y="125"/>
                  </a:lnTo>
                  <a:lnTo>
                    <a:pt x="431" y="128"/>
                  </a:lnTo>
                  <a:lnTo>
                    <a:pt x="440" y="132"/>
                  </a:lnTo>
                  <a:lnTo>
                    <a:pt x="455" y="137"/>
                  </a:lnTo>
                  <a:lnTo>
                    <a:pt x="468" y="141"/>
                  </a:lnTo>
                  <a:lnTo>
                    <a:pt x="473" y="148"/>
                  </a:lnTo>
                  <a:lnTo>
                    <a:pt x="480" y="154"/>
                  </a:lnTo>
                  <a:lnTo>
                    <a:pt x="485" y="161"/>
                  </a:lnTo>
                  <a:lnTo>
                    <a:pt x="488" y="172"/>
                  </a:lnTo>
                  <a:lnTo>
                    <a:pt x="492" y="178"/>
                  </a:lnTo>
                  <a:lnTo>
                    <a:pt x="493" y="187"/>
                  </a:lnTo>
                  <a:lnTo>
                    <a:pt x="494" y="195"/>
                  </a:lnTo>
                  <a:lnTo>
                    <a:pt x="496" y="201"/>
                  </a:lnTo>
                  <a:lnTo>
                    <a:pt x="491" y="213"/>
                  </a:lnTo>
                  <a:lnTo>
                    <a:pt x="480" y="217"/>
                  </a:lnTo>
                  <a:lnTo>
                    <a:pt x="474" y="222"/>
                  </a:lnTo>
                  <a:lnTo>
                    <a:pt x="466" y="228"/>
                  </a:lnTo>
                  <a:lnTo>
                    <a:pt x="458" y="234"/>
                  </a:lnTo>
                  <a:lnTo>
                    <a:pt x="448" y="238"/>
                  </a:lnTo>
                  <a:lnTo>
                    <a:pt x="439" y="240"/>
                  </a:lnTo>
                  <a:lnTo>
                    <a:pt x="430" y="244"/>
                  </a:lnTo>
                  <a:lnTo>
                    <a:pt x="422" y="248"/>
                  </a:lnTo>
                  <a:lnTo>
                    <a:pt x="414" y="240"/>
                  </a:lnTo>
                  <a:lnTo>
                    <a:pt x="405" y="242"/>
                  </a:lnTo>
                  <a:lnTo>
                    <a:pt x="395" y="241"/>
                  </a:lnTo>
                  <a:lnTo>
                    <a:pt x="387" y="244"/>
                  </a:lnTo>
                  <a:lnTo>
                    <a:pt x="380" y="248"/>
                  </a:lnTo>
                  <a:lnTo>
                    <a:pt x="372" y="250"/>
                  </a:lnTo>
                  <a:lnTo>
                    <a:pt x="363" y="252"/>
                  </a:lnTo>
                  <a:lnTo>
                    <a:pt x="357" y="256"/>
                  </a:lnTo>
                  <a:lnTo>
                    <a:pt x="350" y="247"/>
                  </a:lnTo>
                  <a:lnTo>
                    <a:pt x="349" y="240"/>
                  </a:lnTo>
                  <a:lnTo>
                    <a:pt x="340" y="243"/>
                  </a:lnTo>
                  <a:lnTo>
                    <a:pt x="333" y="246"/>
                  </a:lnTo>
                  <a:lnTo>
                    <a:pt x="324" y="248"/>
                  </a:lnTo>
                  <a:lnTo>
                    <a:pt x="315" y="247"/>
                  </a:lnTo>
                  <a:lnTo>
                    <a:pt x="315" y="240"/>
                  </a:lnTo>
                  <a:lnTo>
                    <a:pt x="313" y="233"/>
                  </a:lnTo>
                  <a:lnTo>
                    <a:pt x="310" y="225"/>
                  </a:lnTo>
                  <a:lnTo>
                    <a:pt x="297" y="227"/>
                  </a:lnTo>
                  <a:lnTo>
                    <a:pt x="288" y="227"/>
                  </a:lnTo>
                  <a:lnTo>
                    <a:pt x="281" y="221"/>
                  </a:lnTo>
                  <a:lnTo>
                    <a:pt x="277" y="215"/>
                  </a:lnTo>
                  <a:lnTo>
                    <a:pt x="267" y="213"/>
                  </a:lnTo>
                  <a:lnTo>
                    <a:pt x="226" y="177"/>
                  </a:lnTo>
                  <a:lnTo>
                    <a:pt x="245" y="217"/>
                  </a:lnTo>
                  <a:lnTo>
                    <a:pt x="236" y="217"/>
                  </a:lnTo>
                  <a:lnTo>
                    <a:pt x="227" y="213"/>
                  </a:lnTo>
                  <a:lnTo>
                    <a:pt x="219" y="211"/>
                  </a:lnTo>
                  <a:lnTo>
                    <a:pt x="209" y="209"/>
                  </a:lnTo>
                  <a:lnTo>
                    <a:pt x="200" y="210"/>
                  </a:lnTo>
                  <a:lnTo>
                    <a:pt x="191" y="215"/>
                  </a:lnTo>
                  <a:lnTo>
                    <a:pt x="184" y="218"/>
                  </a:lnTo>
                  <a:lnTo>
                    <a:pt x="176" y="219"/>
                  </a:lnTo>
                  <a:lnTo>
                    <a:pt x="166" y="223"/>
                  </a:lnTo>
                  <a:lnTo>
                    <a:pt x="158" y="230"/>
                  </a:lnTo>
                  <a:lnTo>
                    <a:pt x="150" y="234"/>
                  </a:lnTo>
                  <a:lnTo>
                    <a:pt x="139" y="242"/>
                  </a:lnTo>
                  <a:lnTo>
                    <a:pt x="133" y="247"/>
                  </a:lnTo>
                  <a:lnTo>
                    <a:pt x="122" y="248"/>
                  </a:lnTo>
                  <a:lnTo>
                    <a:pt x="111" y="253"/>
                  </a:lnTo>
                  <a:lnTo>
                    <a:pt x="102" y="252"/>
                  </a:lnTo>
                  <a:lnTo>
                    <a:pt x="91" y="247"/>
                  </a:lnTo>
                  <a:lnTo>
                    <a:pt x="82" y="245"/>
                  </a:lnTo>
                  <a:lnTo>
                    <a:pt x="74" y="244"/>
                  </a:lnTo>
                  <a:lnTo>
                    <a:pt x="63" y="244"/>
                  </a:lnTo>
                  <a:lnTo>
                    <a:pt x="49" y="244"/>
                  </a:lnTo>
                  <a:lnTo>
                    <a:pt x="43" y="238"/>
                  </a:lnTo>
                  <a:lnTo>
                    <a:pt x="36" y="232"/>
                  </a:lnTo>
                  <a:lnTo>
                    <a:pt x="36" y="221"/>
                  </a:lnTo>
                  <a:lnTo>
                    <a:pt x="32" y="217"/>
                  </a:lnTo>
                  <a:lnTo>
                    <a:pt x="26" y="209"/>
                  </a:lnTo>
                  <a:lnTo>
                    <a:pt x="22" y="204"/>
                  </a:lnTo>
                  <a:lnTo>
                    <a:pt x="18" y="197"/>
                  </a:lnTo>
                  <a:lnTo>
                    <a:pt x="0" y="193"/>
                  </a:lnTo>
                  <a:lnTo>
                    <a:pt x="14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225080" y="914400"/>
            <a:ext cx="68544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HEALTH RISK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OF PARTICULATE</a:t>
            </a:r>
            <a:r>
              <a:rPr b="1" lang="en-GB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ff66"/>
                </a:solidFill>
                <a:latin typeface="Arial"/>
              </a:rPr>
              <a:t>AIR POLLU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n overview for the 41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Session of GR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4267080"/>
            <a:ext cx="460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M. Krzyzanow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WHO ECEH Bilthoven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d8a"/>
            </a:gs>
            <a:gs pos="50000">
              <a:srgbClr val="0f219b"/>
            </a:gs>
            <a:gs pos="100000">
              <a:srgbClr val="0d1d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28600" y="557280"/>
            <a:ext cx="8120160" cy="6118200"/>
            <a:chOff x="228600" y="557280"/>
            <a:chExt cx="8120160" cy="6118200"/>
          </a:xfrm>
        </p:grpSpPr>
        <p:sp>
          <p:nvSpPr>
            <p:cNvPr id="250" name=""/>
            <p:cNvSpPr/>
            <p:nvPr/>
          </p:nvSpPr>
          <p:spPr>
            <a:xfrm>
              <a:off x="2662200" y="20638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2" y="77"/>
                  </a:moveTo>
                  <a:lnTo>
                    <a:pt x="2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2" y="125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5" y="174"/>
                  </a:lnTo>
                  <a:lnTo>
                    <a:pt x="31" y="182"/>
                  </a:lnTo>
                  <a:lnTo>
                    <a:pt x="40" y="182"/>
                  </a:lnTo>
                  <a:lnTo>
                    <a:pt x="48" y="182"/>
                  </a:lnTo>
                  <a:lnTo>
                    <a:pt x="60" y="191"/>
                  </a:lnTo>
                  <a:lnTo>
                    <a:pt x="71" y="196"/>
                  </a:lnTo>
                  <a:lnTo>
                    <a:pt x="71" y="205"/>
                  </a:lnTo>
                  <a:lnTo>
                    <a:pt x="74" y="214"/>
                  </a:lnTo>
                  <a:lnTo>
                    <a:pt x="83" y="214"/>
                  </a:lnTo>
                  <a:lnTo>
                    <a:pt x="91" y="214"/>
                  </a:lnTo>
                  <a:lnTo>
                    <a:pt x="100" y="214"/>
                  </a:lnTo>
                  <a:lnTo>
                    <a:pt x="109" y="214"/>
                  </a:lnTo>
                  <a:lnTo>
                    <a:pt x="117" y="214"/>
                  </a:lnTo>
                  <a:lnTo>
                    <a:pt x="126" y="214"/>
                  </a:lnTo>
                  <a:lnTo>
                    <a:pt x="137" y="208"/>
                  </a:lnTo>
                  <a:lnTo>
                    <a:pt x="149" y="202"/>
                  </a:lnTo>
                  <a:lnTo>
                    <a:pt x="149" y="194"/>
                  </a:lnTo>
                  <a:lnTo>
                    <a:pt x="146" y="185"/>
                  </a:lnTo>
                  <a:lnTo>
                    <a:pt x="146" y="176"/>
                  </a:lnTo>
                  <a:lnTo>
                    <a:pt x="155" y="168"/>
                  </a:lnTo>
                  <a:lnTo>
                    <a:pt x="158" y="159"/>
                  </a:lnTo>
                  <a:lnTo>
                    <a:pt x="158" y="151"/>
                  </a:lnTo>
                  <a:lnTo>
                    <a:pt x="155" y="142"/>
                  </a:lnTo>
                  <a:lnTo>
                    <a:pt x="155" y="134"/>
                  </a:lnTo>
                  <a:lnTo>
                    <a:pt x="146" y="134"/>
                  </a:lnTo>
                  <a:lnTo>
                    <a:pt x="137" y="134"/>
                  </a:lnTo>
                  <a:lnTo>
                    <a:pt x="135" y="125"/>
                  </a:lnTo>
                  <a:lnTo>
                    <a:pt x="129" y="116"/>
                  </a:lnTo>
                  <a:lnTo>
                    <a:pt x="120" y="114"/>
                  </a:lnTo>
                  <a:lnTo>
                    <a:pt x="114" y="105"/>
                  </a:lnTo>
                  <a:lnTo>
                    <a:pt x="114" y="97"/>
                  </a:lnTo>
                  <a:lnTo>
                    <a:pt x="106" y="94"/>
                  </a:lnTo>
                  <a:lnTo>
                    <a:pt x="97" y="94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89" y="71"/>
                  </a:lnTo>
                  <a:lnTo>
                    <a:pt x="80" y="68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83" y="45"/>
                  </a:lnTo>
                  <a:lnTo>
                    <a:pt x="94" y="45"/>
                  </a:lnTo>
                  <a:lnTo>
                    <a:pt x="103" y="39"/>
                  </a:lnTo>
                  <a:lnTo>
                    <a:pt x="106" y="31"/>
                  </a:lnTo>
                  <a:lnTo>
                    <a:pt x="103" y="22"/>
                  </a:lnTo>
                  <a:lnTo>
                    <a:pt x="94" y="22"/>
                  </a:lnTo>
                  <a:lnTo>
                    <a:pt x="86" y="14"/>
                  </a:lnTo>
                  <a:lnTo>
                    <a:pt x="77" y="11"/>
                  </a:lnTo>
                  <a:lnTo>
                    <a:pt x="68" y="11"/>
                  </a:lnTo>
                  <a:lnTo>
                    <a:pt x="54" y="0"/>
                  </a:lnTo>
                  <a:lnTo>
                    <a:pt x="51" y="8"/>
                  </a:lnTo>
                  <a:lnTo>
                    <a:pt x="60" y="14"/>
                  </a:lnTo>
                  <a:lnTo>
                    <a:pt x="63" y="22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7" y="45"/>
                  </a:lnTo>
                  <a:lnTo>
                    <a:pt x="45" y="45"/>
                  </a:lnTo>
                  <a:lnTo>
                    <a:pt x="40" y="37"/>
                  </a:lnTo>
                  <a:lnTo>
                    <a:pt x="34" y="28"/>
                  </a:lnTo>
                  <a:lnTo>
                    <a:pt x="31" y="37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5" y="62"/>
                  </a:lnTo>
                  <a:lnTo>
                    <a:pt x="17" y="68"/>
                  </a:lnTo>
                  <a:lnTo>
                    <a:pt x="2" y="77"/>
                  </a:lnTo>
                  <a:lnTo>
                    <a:pt x="2" y="7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5760" y="557280"/>
              <a:ext cx="6975720" cy="5226120"/>
            </a:xfrm>
            <a:custGeom>
              <a:avLst/>
              <a:gdLst/>
              <a:ahLst/>
              <a:rect l="l" t="t" r="r" b="b"/>
              <a:pathLst>
                <a:path w="4394" h="3292">
                  <a:moveTo>
                    <a:pt x="4183" y="665"/>
                  </a:moveTo>
                  <a:lnTo>
                    <a:pt x="4174" y="685"/>
                  </a:lnTo>
                  <a:lnTo>
                    <a:pt x="4165" y="680"/>
                  </a:lnTo>
                  <a:lnTo>
                    <a:pt x="4154" y="671"/>
                  </a:lnTo>
                  <a:lnTo>
                    <a:pt x="4145" y="665"/>
                  </a:lnTo>
                  <a:lnTo>
                    <a:pt x="4136" y="657"/>
                  </a:lnTo>
                  <a:lnTo>
                    <a:pt x="4128" y="648"/>
                  </a:lnTo>
                  <a:lnTo>
                    <a:pt x="4122" y="639"/>
                  </a:lnTo>
                  <a:lnTo>
                    <a:pt x="4110" y="631"/>
                  </a:lnTo>
                  <a:lnTo>
                    <a:pt x="4104" y="622"/>
                  </a:lnTo>
                  <a:lnTo>
                    <a:pt x="4098" y="613"/>
                  </a:lnTo>
                  <a:lnTo>
                    <a:pt x="4093" y="605"/>
                  </a:lnTo>
                  <a:lnTo>
                    <a:pt x="4084" y="596"/>
                  </a:lnTo>
                  <a:lnTo>
                    <a:pt x="4075" y="593"/>
                  </a:lnTo>
                  <a:lnTo>
                    <a:pt x="4066" y="590"/>
                  </a:lnTo>
                  <a:lnTo>
                    <a:pt x="4058" y="587"/>
                  </a:lnTo>
                  <a:lnTo>
                    <a:pt x="4049" y="585"/>
                  </a:lnTo>
                  <a:lnTo>
                    <a:pt x="4037" y="585"/>
                  </a:lnTo>
                  <a:lnTo>
                    <a:pt x="4029" y="582"/>
                  </a:lnTo>
                  <a:lnTo>
                    <a:pt x="4023" y="573"/>
                  </a:lnTo>
                  <a:lnTo>
                    <a:pt x="4020" y="564"/>
                  </a:lnTo>
                  <a:lnTo>
                    <a:pt x="4011" y="556"/>
                  </a:lnTo>
                  <a:lnTo>
                    <a:pt x="4002" y="550"/>
                  </a:lnTo>
                  <a:lnTo>
                    <a:pt x="4002" y="541"/>
                  </a:lnTo>
                  <a:lnTo>
                    <a:pt x="3994" y="538"/>
                  </a:lnTo>
                  <a:lnTo>
                    <a:pt x="3982" y="538"/>
                  </a:lnTo>
                  <a:lnTo>
                    <a:pt x="3973" y="538"/>
                  </a:lnTo>
                  <a:lnTo>
                    <a:pt x="3965" y="538"/>
                  </a:lnTo>
                  <a:lnTo>
                    <a:pt x="3953" y="538"/>
                  </a:lnTo>
                  <a:lnTo>
                    <a:pt x="3947" y="530"/>
                  </a:lnTo>
                  <a:lnTo>
                    <a:pt x="3947" y="521"/>
                  </a:lnTo>
                  <a:lnTo>
                    <a:pt x="3938" y="512"/>
                  </a:lnTo>
                  <a:lnTo>
                    <a:pt x="3930" y="504"/>
                  </a:lnTo>
                  <a:lnTo>
                    <a:pt x="3930" y="495"/>
                  </a:lnTo>
                  <a:lnTo>
                    <a:pt x="3927" y="484"/>
                  </a:lnTo>
                  <a:lnTo>
                    <a:pt x="3918" y="481"/>
                  </a:lnTo>
                  <a:lnTo>
                    <a:pt x="3909" y="481"/>
                  </a:lnTo>
                  <a:lnTo>
                    <a:pt x="3901" y="481"/>
                  </a:lnTo>
                  <a:lnTo>
                    <a:pt x="3892" y="481"/>
                  </a:lnTo>
                  <a:lnTo>
                    <a:pt x="3883" y="481"/>
                  </a:lnTo>
                  <a:lnTo>
                    <a:pt x="3871" y="481"/>
                  </a:lnTo>
                  <a:lnTo>
                    <a:pt x="3863" y="481"/>
                  </a:lnTo>
                  <a:lnTo>
                    <a:pt x="3851" y="478"/>
                  </a:lnTo>
                  <a:lnTo>
                    <a:pt x="3842" y="472"/>
                  </a:lnTo>
                  <a:lnTo>
                    <a:pt x="3842" y="463"/>
                  </a:lnTo>
                  <a:lnTo>
                    <a:pt x="3842" y="455"/>
                  </a:lnTo>
                  <a:lnTo>
                    <a:pt x="3834" y="446"/>
                  </a:lnTo>
                  <a:lnTo>
                    <a:pt x="3825" y="446"/>
                  </a:lnTo>
                  <a:lnTo>
                    <a:pt x="3819" y="455"/>
                  </a:lnTo>
                  <a:lnTo>
                    <a:pt x="3810" y="458"/>
                  </a:lnTo>
                  <a:lnTo>
                    <a:pt x="3802" y="461"/>
                  </a:lnTo>
                  <a:lnTo>
                    <a:pt x="3793" y="461"/>
                  </a:lnTo>
                  <a:lnTo>
                    <a:pt x="3784" y="461"/>
                  </a:lnTo>
                  <a:lnTo>
                    <a:pt x="3775" y="461"/>
                  </a:lnTo>
                  <a:lnTo>
                    <a:pt x="3764" y="455"/>
                  </a:lnTo>
                  <a:lnTo>
                    <a:pt x="3755" y="452"/>
                  </a:lnTo>
                  <a:lnTo>
                    <a:pt x="3752" y="461"/>
                  </a:lnTo>
                  <a:lnTo>
                    <a:pt x="3755" y="469"/>
                  </a:lnTo>
                  <a:lnTo>
                    <a:pt x="3764" y="472"/>
                  </a:lnTo>
                  <a:lnTo>
                    <a:pt x="3755" y="475"/>
                  </a:lnTo>
                  <a:lnTo>
                    <a:pt x="3746" y="475"/>
                  </a:lnTo>
                  <a:lnTo>
                    <a:pt x="3737" y="478"/>
                  </a:lnTo>
                  <a:lnTo>
                    <a:pt x="3729" y="478"/>
                  </a:lnTo>
                  <a:lnTo>
                    <a:pt x="3720" y="478"/>
                  </a:lnTo>
                  <a:lnTo>
                    <a:pt x="3711" y="472"/>
                  </a:lnTo>
                  <a:lnTo>
                    <a:pt x="3703" y="463"/>
                  </a:lnTo>
                  <a:lnTo>
                    <a:pt x="3694" y="455"/>
                  </a:lnTo>
                  <a:lnTo>
                    <a:pt x="3685" y="452"/>
                  </a:lnTo>
                  <a:lnTo>
                    <a:pt x="3676" y="452"/>
                  </a:lnTo>
                  <a:lnTo>
                    <a:pt x="3668" y="449"/>
                  </a:lnTo>
                  <a:lnTo>
                    <a:pt x="3656" y="449"/>
                  </a:lnTo>
                  <a:lnTo>
                    <a:pt x="3647" y="449"/>
                  </a:lnTo>
                  <a:lnTo>
                    <a:pt x="3638" y="449"/>
                  </a:lnTo>
                  <a:lnTo>
                    <a:pt x="3636" y="440"/>
                  </a:lnTo>
                  <a:lnTo>
                    <a:pt x="3636" y="432"/>
                  </a:lnTo>
                  <a:lnTo>
                    <a:pt x="3630" y="423"/>
                  </a:lnTo>
                  <a:lnTo>
                    <a:pt x="3638" y="423"/>
                  </a:lnTo>
                  <a:lnTo>
                    <a:pt x="3636" y="414"/>
                  </a:lnTo>
                  <a:lnTo>
                    <a:pt x="3627" y="412"/>
                  </a:lnTo>
                  <a:lnTo>
                    <a:pt x="3618" y="409"/>
                  </a:lnTo>
                  <a:lnTo>
                    <a:pt x="3615" y="400"/>
                  </a:lnTo>
                  <a:lnTo>
                    <a:pt x="3609" y="391"/>
                  </a:lnTo>
                  <a:lnTo>
                    <a:pt x="3618" y="391"/>
                  </a:lnTo>
                  <a:lnTo>
                    <a:pt x="3627" y="391"/>
                  </a:lnTo>
                  <a:lnTo>
                    <a:pt x="3633" y="383"/>
                  </a:lnTo>
                  <a:lnTo>
                    <a:pt x="3624" y="377"/>
                  </a:lnTo>
                  <a:lnTo>
                    <a:pt x="3615" y="374"/>
                  </a:lnTo>
                  <a:lnTo>
                    <a:pt x="3606" y="363"/>
                  </a:lnTo>
                  <a:lnTo>
                    <a:pt x="3604" y="354"/>
                  </a:lnTo>
                  <a:lnTo>
                    <a:pt x="3598" y="345"/>
                  </a:lnTo>
                  <a:lnTo>
                    <a:pt x="3592" y="337"/>
                  </a:lnTo>
                  <a:lnTo>
                    <a:pt x="3583" y="322"/>
                  </a:lnTo>
                  <a:lnTo>
                    <a:pt x="3577" y="314"/>
                  </a:lnTo>
                  <a:lnTo>
                    <a:pt x="3586" y="305"/>
                  </a:lnTo>
                  <a:lnTo>
                    <a:pt x="3592" y="296"/>
                  </a:lnTo>
                  <a:lnTo>
                    <a:pt x="3595" y="288"/>
                  </a:lnTo>
                  <a:lnTo>
                    <a:pt x="3595" y="279"/>
                  </a:lnTo>
                  <a:lnTo>
                    <a:pt x="3586" y="276"/>
                  </a:lnTo>
                  <a:lnTo>
                    <a:pt x="3577" y="276"/>
                  </a:lnTo>
                  <a:lnTo>
                    <a:pt x="3569" y="276"/>
                  </a:lnTo>
                  <a:lnTo>
                    <a:pt x="3557" y="270"/>
                  </a:lnTo>
                  <a:lnTo>
                    <a:pt x="3548" y="259"/>
                  </a:lnTo>
                  <a:lnTo>
                    <a:pt x="3540" y="253"/>
                  </a:lnTo>
                  <a:lnTo>
                    <a:pt x="3531" y="250"/>
                  </a:lnTo>
                  <a:lnTo>
                    <a:pt x="3522" y="244"/>
                  </a:lnTo>
                  <a:lnTo>
                    <a:pt x="3510" y="236"/>
                  </a:lnTo>
                  <a:lnTo>
                    <a:pt x="3502" y="233"/>
                  </a:lnTo>
                  <a:lnTo>
                    <a:pt x="3493" y="227"/>
                  </a:lnTo>
                  <a:lnTo>
                    <a:pt x="3484" y="224"/>
                  </a:lnTo>
                  <a:lnTo>
                    <a:pt x="3475" y="219"/>
                  </a:lnTo>
                  <a:lnTo>
                    <a:pt x="3467" y="213"/>
                  </a:lnTo>
                  <a:lnTo>
                    <a:pt x="3458" y="207"/>
                  </a:lnTo>
                  <a:lnTo>
                    <a:pt x="3449" y="198"/>
                  </a:lnTo>
                  <a:lnTo>
                    <a:pt x="3441" y="193"/>
                  </a:lnTo>
                  <a:lnTo>
                    <a:pt x="3432" y="187"/>
                  </a:lnTo>
                  <a:lnTo>
                    <a:pt x="3423" y="184"/>
                  </a:lnTo>
                  <a:lnTo>
                    <a:pt x="3414" y="178"/>
                  </a:lnTo>
                  <a:lnTo>
                    <a:pt x="3406" y="172"/>
                  </a:lnTo>
                  <a:lnTo>
                    <a:pt x="3400" y="164"/>
                  </a:lnTo>
                  <a:lnTo>
                    <a:pt x="3397" y="155"/>
                  </a:lnTo>
                  <a:lnTo>
                    <a:pt x="3394" y="146"/>
                  </a:lnTo>
                  <a:lnTo>
                    <a:pt x="3388" y="138"/>
                  </a:lnTo>
                  <a:lnTo>
                    <a:pt x="3382" y="129"/>
                  </a:lnTo>
                  <a:lnTo>
                    <a:pt x="3388" y="121"/>
                  </a:lnTo>
                  <a:lnTo>
                    <a:pt x="3379" y="121"/>
                  </a:lnTo>
                  <a:lnTo>
                    <a:pt x="3371" y="121"/>
                  </a:lnTo>
                  <a:lnTo>
                    <a:pt x="3362" y="121"/>
                  </a:lnTo>
                  <a:lnTo>
                    <a:pt x="3359" y="129"/>
                  </a:lnTo>
                  <a:lnTo>
                    <a:pt x="3353" y="138"/>
                  </a:lnTo>
                  <a:lnTo>
                    <a:pt x="3347" y="146"/>
                  </a:lnTo>
                  <a:lnTo>
                    <a:pt x="3339" y="152"/>
                  </a:lnTo>
                  <a:lnTo>
                    <a:pt x="3327" y="158"/>
                  </a:lnTo>
                  <a:lnTo>
                    <a:pt x="3318" y="158"/>
                  </a:lnTo>
                  <a:lnTo>
                    <a:pt x="3310" y="167"/>
                  </a:lnTo>
                  <a:lnTo>
                    <a:pt x="3307" y="175"/>
                  </a:lnTo>
                  <a:lnTo>
                    <a:pt x="3307" y="184"/>
                  </a:lnTo>
                  <a:lnTo>
                    <a:pt x="3304" y="193"/>
                  </a:lnTo>
                  <a:lnTo>
                    <a:pt x="3295" y="195"/>
                  </a:lnTo>
                  <a:lnTo>
                    <a:pt x="3295" y="204"/>
                  </a:lnTo>
                  <a:lnTo>
                    <a:pt x="3298" y="213"/>
                  </a:lnTo>
                  <a:lnTo>
                    <a:pt x="3304" y="221"/>
                  </a:lnTo>
                  <a:lnTo>
                    <a:pt x="3310" y="230"/>
                  </a:lnTo>
                  <a:lnTo>
                    <a:pt x="3315" y="239"/>
                  </a:lnTo>
                  <a:lnTo>
                    <a:pt x="3318" y="250"/>
                  </a:lnTo>
                  <a:lnTo>
                    <a:pt x="3321" y="259"/>
                  </a:lnTo>
                  <a:lnTo>
                    <a:pt x="3321" y="247"/>
                  </a:lnTo>
                  <a:lnTo>
                    <a:pt x="3318" y="239"/>
                  </a:lnTo>
                  <a:lnTo>
                    <a:pt x="3315" y="230"/>
                  </a:lnTo>
                  <a:lnTo>
                    <a:pt x="3307" y="224"/>
                  </a:lnTo>
                  <a:lnTo>
                    <a:pt x="3298" y="216"/>
                  </a:lnTo>
                  <a:lnTo>
                    <a:pt x="3292" y="207"/>
                  </a:lnTo>
                  <a:lnTo>
                    <a:pt x="3292" y="198"/>
                  </a:lnTo>
                  <a:lnTo>
                    <a:pt x="3295" y="190"/>
                  </a:lnTo>
                  <a:lnTo>
                    <a:pt x="3292" y="181"/>
                  </a:lnTo>
                  <a:lnTo>
                    <a:pt x="3283" y="172"/>
                  </a:lnTo>
                  <a:lnTo>
                    <a:pt x="3275" y="170"/>
                  </a:lnTo>
                  <a:lnTo>
                    <a:pt x="3266" y="164"/>
                  </a:lnTo>
                  <a:lnTo>
                    <a:pt x="3257" y="161"/>
                  </a:lnTo>
                  <a:lnTo>
                    <a:pt x="3245" y="155"/>
                  </a:lnTo>
                  <a:lnTo>
                    <a:pt x="3237" y="155"/>
                  </a:lnTo>
                  <a:lnTo>
                    <a:pt x="3228" y="155"/>
                  </a:lnTo>
                  <a:lnTo>
                    <a:pt x="3219" y="155"/>
                  </a:lnTo>
                  <a:lnTo>
                    <a:pt x="3213" y="164"/>
                  </a:lnTo>
                  <a:lnTo>
                    <a:pt x="3208" y="172"/>
                  </a:lnTo>
                  <a:lnTo>
                    <a:pt x="3196" y="175"/>
                  </a:lnTo>
                  <a:lnTo>
                    <a:pt x="3184" y="175"/>
                  </a:lnTo>
                  <a:lnTo>
                    <a:pt x="3173" y="175"/>
                  </a:lnTo>
                  <a:lnTo>
                    <a:pt x="3167" y="167"/>
                  </a:lnTo>
                  <a:lnTo>
                    <a:pt x="3179" y="161"/>
                  </a:lnTo>
                  <a:lnTo>
                    <a:pt x="3187" y="161"/>
                  </a:lnTo>
                  <a:lnTo>
                    <a:pt x="3196" y="161"/>
                  </a:lnTo>
                  <a:lnTo>
                    <a:pt x="3205" y="155"/>
                  </a:lnTo>
                  <a:lnTo>
                    <a:pt x="3208" y="146"/>
                  </a:lnTo>
                  <a:lnTo>
                    <a:pt x="3208" y="138"/>
                  </a:lnTo>
                  <a:lnTo>
                    <a:pt x="3205" y="129"/>
                  </a:lnTo>
                  <a:lnTo>
                    <a:pt x="3199" y="121"/>
                  </a:lnTo>
                  <a:lnTo>
                    <a:pt x="3190" y="112"/>
                  </a:lnTo>
                  <a:lnTo>
                    <a:pt x="3184" y="103"/>
                  </a:lnTo>
                  <a:lnTo>
                    <a:pt x="3193" y="97"/>
                  </a:lnTo>
                  <a:lnTo>
                    <a:pt x="3202" y="92"/>
                  </a:lnTo>
                  <a:lnTo>
                    <a:pt x="3205" y="83"/>
                  </a:lnTo>
                  <a:lnTo>
                    <a:pt x="3208" y="74"/>
                  </a:lnTo>
                  <a:lnTo>
                    <a:pt x="3208" y="66"/>
                  </a:lnTo>
                  <a:lnTo>
                    <a:pt x="3202" y="57"/>
                  </a:lnTo>
                  <a:lnTo>
                    <a:pt x="3199" y="48"/>
                  </a:lnTo>
                  <a:lnTo>
                    <a:pt x="3199" y="40"/>
                  </a:lnTo>
                  <a:lnTo>
                    <a:pt x="3199" y="31"/>
                  </a:lnTo>
                  <a:lnTo>
                    <a:pt x="3196" y="23"/>
                  </a:lnTo>
                  <a:lnTo>
                    <a:pt x="3190" y="14"/>
                  </a:lnTo>
                  <a:lnTo>
                    <a:pt x="3184" y="5"/>
                  </a:lnTo>
                  <a:lnTo>
                    <a:pt x="3176" y="0"/>
                  </a:lnTo>
                  <a:lnTo>
                    <a:pt x="3167" y="2"/>
                  </a:lnTo>
                  <a:lnTo>
                    <a:pt x="3158" y="8"/>
                  </a:lnTo>
                  <a:lnTo>
                    <a:pt x="3149" y="14"/>
                  </a:lnTo>
                  <a:lnTo>
                    <a:pt x="3141" y="17"/>
                  </a:lnTo>
                  <a:lnTo>
                    <a:pt x="3132" y="23"/>
                  </a:lnTo>
                  <a:lnTo>
                    <a:pt x="3132" y="31"/>
                  </a:lnTo>
                  <a:lnTo>
                    <a:pt x="3123" y="25"/>
                  </a:lnTo>
                  <a:lnTo>
                    <a:pt x="3114" y="17"/>
                  </a:lnTo>
                  <a:lnTo>
                    <a:pt x="3106" y="14"/>
                  </a:lnTo>
                  <a:lnTo>
                    <a:pt x="3097" y="14"/>
                  </a:lnTo>
                  <a:lnTo>
                    <a:pt x="3088" y="14"/>
                  </a:lnTo>
                  <a:lnTo>
                    <a:pt x="3080" y="14"/>
                  </a:lnTo>
                  <a:lnTo>
                    <a:pt x="3071" y="14"/>
                  </a:lnTo>
                  <a:lnTo>
                    <a:pt x="3071" y="23"/>
                  </a:lnTo>
                  <a:lnTo>
                    <a:pt x="3071" y="31"/>
                  </a:lnTo>
                  <a:lnTo>
                    <a:pt x="3071" y="40"/>
                  </a:lnTo>
                  <a:lnTo>
                    <a:pt x="3068" y="48"/>
                  </a:lnTo>
                  <a:lnTo>
                    <a:pt x="3062" y="57"/>
                  </a:lnTo>
                  <a:lnTo>
                    <a:pt x="3059" y="66"/>
                  </a:lnTo>
                  <a:lnTo>
                    <a:pt x="3059" y="74"/>
                  </a:lnTo>
                  <a:lnTo>
                    <a:pt x="3059" y="83"/>
                  </a:lnTo>
                  <a:lnTo>
                    <a:pt x="3068" y="89"/>
                  </a:lnTo>
                  <a:lnTo>
                    <a:pt x="3077" y="92"/>
                  </a:lnTo>
                  <a:lnTo>
                    <a:pt x="3085" y="97"/>
                  </a:lnTo>
                  <a:lnTo>
                    <a:pt x="3097" y="103"/>
                  </a:lnTo>
                  <a:lnTo>
                    <a:pt x="3106" y="103"/>
                  </a:lnTo>
                  <a:lnTo>
                    <a:pt x="3114" y="103"/>
                  </a:lnTo>
                  <a:lnTo>
                    <a:pt x="3114" y="95"/>
                  </a:lnTo>
                  <a:lnTo>
                    <a:pt x="3123" y="95"/>
                  </a:lnTo>
                  <a:lnTo>
                    <a:pt x="3114" y="103"/>
                  </a:lnTo>
                  <a:lnTo>
                    <a:pt x="3106" y="103"/>
                  </a:lnTo>
                  <a:lnTo>
                    <a:pt x="3097" y="103"/>
                  </a:lnTo>
                  <a:lnTo>
                    <a:pt x="3088" y="109"/>
                  </a:lnTo>
                  <a:lnTo>
                    <a:pt x="3085" y="118"/>
                  </a:lnTo>
                  <a:lnTo>
                    <a:pt x="3085" y="126"/>
                  </a:lnTo>
                  <a:lnTo>
                    <a:pt x="3080" y="135"/>
                  </a:lnTo>
                  <a:lnTo>
                    <a:pt x="3088" y="138"/>
                  </a:lnTo>
                  <a:lnTo>
                    <a:pt x="3082" y="146"/>
                  </a:lnTo>
                  <a:lnTo>
                    <a:pt x="3080" y="155"/>
                  </a:lnTo>
                  <a:lnTo>
                    <a:pt x="3074" y="164"/>
                  </a:lnTo>
                  <a:lnTo>
                    <a:pt x="3074" y="172"/>
                  </a:lnTo>
                  <a:lnTo>
                    <a:pt x="3074" y="181"/>
                  </a:lnTo>
                  <a:lnTo>
                    <a:pt x="3074" y="190"/>
                  </a:lnTo>
                  <a:lnTo>
                    <a:pt x="3085" y="190"/>
                  </a:lnTo>
                  <a:lnTo>
                    <a:pt x="3094" y="190"/>
                  </a:lnTo>
                  <a:lnTo>
                    <a:pt x="3088" y="198"/>
                  </a:lnTo>
                  <a:lnTo>
                    <a:pt x="3080" y="204"/>
                  </a:lnTo>
                  <a:lnTo>
                    <a:pt x="3074" y="213"/>
                  </a:lnTo>
                  <a:lnTo>
                    <a:pt x="3071" y="221"/>
                  </a:lnTo>
                  <a:lnTo>
                    <a:pt x="3071" y="230"/>
                  </a:lnTo>
                  <a:lnTo>
                    <a:pt x="3071" y="239"/>
                  </a:lnTo>
                  <a:lnTo>
                    <a:pt x="3068" y="247"/>
                  </a:lnTo>
                  <a:lnTo>
                    <a:pt x="3062" y="256"/>
                  </a:lnTo>
                  <a:lnTo>
                    <a:pt x="3059" y="265"/>
                  </a:lnTo>
                  <a:lnTo>
                    <a:pt x="3059" y="273"/>
                  </a:lnTo>
                  <a:lnTo>
                    <a:pt x="3059" y="282"/>
                  </a:lnTo>
                  <a:lnTo>
                    <a:pt x="3059" y="291"/>
                  </a:lnTo>
                  <a:lnTo>
                    <a:pt x="3059" y="299"/>
                  </a:lnTo>
                  <a:lnTo>
                    <a:pt x="3059" y="311"/>
                  </a:lnTo>
                  <a:lnTo>
                    <a:pt x="3065" y="319"/>
                  </a:lnTo>
                  <a:lnTo>
                    <a:pt x="3074" y="325"/>
                  </a:lnTo>
                  <a:lnTo>
                    <a:pt x="3082" y="328"/>
                  </a:lnTo>
                  <a:lnTo>
                    <a:pt x="3082" y="337"/>
                  </a:lnTo>
                  <a:lnTo>
                    <a:pt x="3082" y="345"/>
                  </a:lnTo>
                  <a:lnTo>
                    <a:pt x="3085" y="354"/>
                  </a:lnTo>
                  <a:lnTo>
                    <a:pt x="3085" y="363"/>
                  </a:lnTo>
                  <a:lnTo>
                    <a:pt x="3088" y="371"/>
                  </a:lnTo>
                  <a:lnTo>
                    <a:pt x="3088" y="380"/>
                  </a:lnTo>
                  <a:lnTo>
                    <a:pt x="3091" y="389"/>
                  </a:lnTo>
                  <a:lnTo>
                    <a:pt x="3094" y="397"/>
                  </a:lnTo>
                  <a:lnTo>
                    <a:pt x="3097" y="406"/>
                  </a:lnTo>
                  <a:lnTo>
                    <a:pt x="3109" y="412"/>
                  </a:lnTo>
                  <a:lnTo>
                    <a:pt x="3117" y="412"/>
                  </a:lnTo>
                  <a:lnTo>
                    <a:pt x="3126" y="412"/>
                  </a:lnTo>
                  <a:lnTo>
                    <a:pt x="3135" y="412"/>
                  </a:lnTo>
                  <a:lnTo>
                    <a:pt x="3135" y="403"/>
                  </a:lnTo>
                  <a:lnTo>
                    <a:pt x="3138" y="394"/>
                  </a:lnTo>
                  <a:lnTo>
                    <a:pt x="3147" y="391"/>
                  </a:lnTo>
                  <a:lnTo>
                    <a:pt x="3155" y="391"/>
                  </a:lnTo>
                  <a:lnTo>
                    <a:pt x="3164" y="394"/>
                  </a:lnTo>
                  <a:lnTo>
                    <a:pt x="3167" y="403"/>
                  </a:lnTo>
                  <a:lnTo>
                    <a:pt x="3167" y="412"/>
                  </a:lnTo>
                  <a:lnTo>
                    <a:pt x="3164" y="420"/>
                  </a:lnTo>
                  <a:lnTo>
                    <a:pt x="3155" y="423"/>
                  </a:lnTo>
                  <a:lnTo>
                    <a:pt x="3152" y="432"/>
                  </a:lnTo>
                  <a:lnTo>
                    <a:pt x="3144" y="438"/>
                  </a:lnTo>
                  <a:lnTo>
                    <a:pt x="3138" y="429"/>
                  </a:lnTo>
                  <a:lnTo>
                    <a:pt x="3129" y="420"/>
                  </a:lnTo>
                  <a:lnTo>
                    <a:pt x="3120" y="420"/>
                  </a:lnTo>
                  <a:lnTo>
                    <a:pt x="3114" y="429"/>
                  </a:lnTo>
                  <a:lnTo>
                    <a:pt x="3114" y="438"/>
                  </a:lnTo>
                  <a:lnTo>
                    <a:pt x="3114" y="446"/>
                  </a:lnTo>
                  <a:lnTo>
                    <a:pt x="3123" y="452"/>
                  </a:lnTo>
                  <a:lnTo>
                    <a:pt x="3132" y="452"/>
                  </a:lnTo>
                  <a:lnTo>
                    <a:pt x="3141" y="452"/>
                  </a:lnTo>
                  <a:lnTo>
                    <a:pt x="3135" y="461"/>
                  </a:lnTo>
                  <a:lnTo>
                    <a:pt x="3138" y="469"/>
                  </a:lnTo>
                  <a:lnTo>
                    <a:pt x="3147" y="472"/>
                  </a:lnTo>
                  <a:lnTo>
                    <a:pt x="3147" y="463"/>
                  </a:lnTo>
                  <a:lnTo>
                    <a:pt x="3144" y="455"/>
                  </a:lnTo>
                  <a:lnTo>
                    <a:pt x="3144" y="466"/>
                  </a:lnTo>
                  <a:lnTo>
                    <a:pt x="3144" y="475"/>
                  </a:lnTo>
                  <a:lnTo>
                    <a:pt x="3144" y="484"/>
                  </a:lnTo>
                  <a:lnTo>
                    <a:pt x="3144" y="492"/>
                  </a:lnTo>
                  <a:lnTo>
                    <a:pt x="3144" y="501"/>
                  </a:lnTo>
                  <a:lnTo>
                    <a:pt x="3144" y="510"/>
                  </a:lnTo>
                  <a:lnTo>
                    <a:pt x="3152" y="518"/>
                  </a:lnTo>
                  <a:lnTo>
                    <a:pt x="3161" y="527"/>
                  </a:lnTo>
                  <a:lnTo>
                    <a:pt x="3167" y="538"/>
                  </a:lnTo>
                  <a:lnTo>
                    <a:pt x="3176" y="544"/>
                  </a:lnTo>
                  <a:lnTo>
                    <a:pt x="3184" y="550"/>
                  </a:lnTo>
                  <a:lnTo>
                    <a:pt x="3196" y="550"/>
                  </a:lnTo>
                  <a:lnTo>
                    <a:pt x="3205" y="550"/>
                  </a:lnTo>
                  <a:lnTo>
                    <a:pt x="3213" y="550"/>
                  </a:lnTo>
                  <a:lnTo>
                    <a:pt x="3205" y="550"/>
                  </a:lnTo>
                  <a:lnTo>
                    <a:pt x="3193" y="550"/>
                  </a:lnTo>
                  <a:lnTo>
                    <a:pt x="3184" y="553"/>
                  </a:lnTo>
                  <a:lnTo>
                    <a:pt x="3179" y="561"/>
                  </a:lnTo>
                  <a:lnTo>
                    <a:pt x="3176" y="570"/>
                  </a:lnTo>
                  <a:lnTo>
                    <a:pt x="3173" y="579"/>
                  </a:lnTo>
                  <a:lnTo>
                    <a:pt x="3164" y="582"/>
                  </a:lnTo>
                  <a:lnTo>
                    <a:pt x="3155" y="582"/>
                  </a:lnTo>
                  <a:lnTo>
                    <a:pt x="3147" y="582"/>
                  </a:lnTo>
                  <a:lnTo>
                    <a:pt x="3132" y="576"/>
                  </a:lnTo>
                  <a:lnTo>
                    <a:pt x="3120" y="576"/>
                  </a:lnTo>
                  <a:lnTo>
                    <a:pt x="3109" y="576"/>
                  </a:lnTo>
                  <a:lnTo>
                    <a:pt x="3103" y="585"/>
                  </a:lnTo>
                  <a:lnTo>
                    <a:pt x="3100" y="593"/>
                  </a:lnTo>
                  <a:lnTo>
                    <a:pt x="3100" y="602"/>
                  </a:lnTo>
                  <a:lnTo>
                    <a:pt x="3100" y="610"/>
                  </a:lnTo>
                  <a:lnTo>
                    <a:pt x="3100" y="619"/>
                  </a:lnTo>
                  <a:lnTo>
                    <a:pt x="3100" y="628"/>
                  </a:lnTo>
                  <a:lnTo>
                    <a:pt x="3103" y="636"/>
                  </a:lnTo>
                  <a:lnTo>
                    <a:pt x="3106" y="645"/>
                  </a:lnTo>
                  <a:lnTo>
                    <a:pt x="3112" y="654"/>
                  </a:lnTo>
                  <a:lnTo>
                    <a:pt x="3117" y="662"/>
                  </a:lnTo>
                  <a:lnTo>
                    <a:pt x="3120" y="671"/>
                  </a:lnTo>
                  <a:lnTo>
                    <a:pt x="3123" y="680"/>
                  </a:lnTo>
                  <a:lnTo>
                    <a:pt x="3123" y="688"/>
                  </a:lnTo>
                  <a:lnTo>
                    <a:pt x="3123" y="697"/>
                  </a:lnTo>
                  <a:lnTo>
                    <a:pt x="3123" y="706"/>
                  </a:lnTo>
                  <a:lnTo>
                    <a:pt x="3114" y="711"/>
                  </a:lnTo>
                  <a:lnTo>
                    <a:pt x="3106" y="720"/>
                  </a:lnTo>
                  <a:lnTo>
                    <a:pt x="3103" y="729"/>
                  </a:lnTo>
                  <a:lnTo>
                    <a:pt x="3103" y="737"/>
                  </a:lnTo>
                  <a:lnTo>
                    <a:pt x="3094" y="740"/>
                  </a:lnTo>
                  <a:lnTo>
                    <a:pt x="3085" y="743"/>
                  </a:lnTo>
                  <a:lnTo>
                    <a:pt x="3077" y="746"/>
                  </a:lnTo>
                  <a:lnTo>
                    <a:pt x="3068" y="746"/>
                  </a:lnTo>
                  <a:lnTo>
                    <a:pt x="3059" y="752"/>
                  </a:lnTo>
                  <a:lnTo>
                    <a:pt x="3050" y="760"/>
                  </a:lnTo>
                  <a:lnTo>
                    <a:pt x="3050" y="769"/>
                  </a:lnTo>
                  <a:lnTo>
                    <a:pt x="3050" y="778"/>
                  </a:lnTo>
                  <a:lnTo>
                    <a:pt x="3056" y="786"/>
                  </a:lnTo>
                  <a:lnTo>
                    <a:pt x="3065" y="789"/>
                  </a:lnTo>
                  <a:lnTo>
                    <a:pt x="3074" y="795"/>
                  </a:lnTo>
                  <a:lnTo>
                    <a:pt x="3074" y="804"/>
                  </a:lnTo>
                  <a:lnTo>
                    <a:pt x="3062" y="806"/>
                  </a:lnTo>
                  <a:lnTo>
                    <a:pt x="3050" y="806"/>
                  </a:lnTo>
                  <a:lnTo>
                    <a:pt x="3053" y="798"/>
                  </a:lnTo>
                  <a:lnTo>
                    <a:pt x="3045" y="792"/>
                  </a:lnTo>
                  <a:lnTo>
                    <a:pt x="3036" y="798"/>
                  </a:lnTo>
                  <a:lnTo>
                    <a:pt x="3036" y="809"/>
                  </a:lnTo>
                  <a:lnTo>
                    <a:pt x="3036" y="818"/>
                  </a:lnTo>
                  <a:lnTo>
                    <a:pt x="3033" y="827"/>
                  </a:lnTo>
                  <a:lnTo>
                    <a:pt x="3030" y="835"/>
                  </a:lnTo>
                  <a:lnTo>
                    <a:pt x="3024" y="844"/>
                  </a:lnTo>
                  <a:lnTo>
                    <a:pt x="3016" y="853"/>
                  </a:lnTo>
                  <a:lnTo>
                    <a:pt x="3013" y="861"/>
                  </a:lnTo>
                  <a:lnTo>
                    <a:pt x="3021" y="864"/>
                  </a:lnTo>
                  <a:lnTo>
                    <a:pt x="3030" y="864"/>
                  </a:lnTo>
                  <a:lnTo>
                    <a:pt x="3033" y="873"/>
                  </a:lnTo>
                  <a:lnTo>
                    <a:pt x="3033" y="881"/>
                  </a:lnTo>
                  <a:lnTo>
                    <a:pt x="3042" y="890"/>
                  </a:lnTo>
                  <a:lnTo>
                    <a:pt x="3050" y="893"/>
                  </a:lnTo>
                  <a:lnTo>
                    <a:pt x="3062" y="893"/>
                  </a:lnTo>
                  <a:lnTo>
                    <a:pt x="3071" y="887"/>
                  </a:lnTo>
                  <a:lnTo>
                    <a:pt x="3080" y="887"/>
                  </a:lnTo>
                  <a:lnTo>
                    <a:pt x="3088" y="887"/>
                  </a:lnTo>
                  <a:lnTo>
                    <a:pt x="3085" y="896"/>
                  </a:lnTo>
                  <a:lnTo>
                    <a:pt x="3082" y="904"/>
                  </a:lnTo>
                  <a:lnTo>
                    <a:pt x="3080" y="913"/>
                  </a:lnTo>
                  <a:lnTo>
                    <a:pt x="3088" y="919"/>
                  </a:lnTo>
                  <a:lnTo>
                    <a:pt x="3088" y="927"/>
                  </a:lnTo>
                  <a:lnTo>
                    <a:pt x="3080" y="933"/>
                  </a:lnTo>
                  <a:lnTo>
                    <a:pt x="3077" y="942"/>
                  </a:lnTo>
                  <a:lnTo>
                    <a:pt x="3077" y="950"/>
                  </a:lnTo>
                  <a:lnTo>
                    <a:pt x="3074" y="959"/>
                  </a:lnTo>
                  <a:lnTo>
                    <a:pt x="3074" y="968"/>
                  </a:lnTo>
                  <a:lnTo>
                    <a:pt x="3077" y="959"/>
                  </a:lnTo>
                  <a:lnTo>
                    <a:pt x="3065" y="942"/>
                  </a:lnTo>
                  <a:lnTo>
                    <a:pt x="3071" y="962"/>
                  </a:lnTo>
                  <a:lnTo>
                    <a:pt x="3062" y="962"/>
                  </a:lnTo>
                  <a:lnTo>
                    <a:pt x="3074" y="968"/>
                  </a:lnTo>
                  <a:lnTo>
                    <a:pt x="3074" y="976"/>
                  </a:lnTo>
                  <a:lnTo>
                    <a:pt x="3059" y="976"/>
                  </a:lnTo>
                  <a:lnTo>
                    <a:pt x="3050" y="979"/>
                  </a:lnTo>
                  <a:lnTo>
                    <a:pt x="3039" y="979"/>
                  </a:lnTo>
                  <a:lnTo>
                    <a:pt x="3039" y="988"/>
                  </a:lnTo>
                  <a:lnTo>
                    <a:pt x="3048" y="991"/>
                  </a:lnTo>
                  <a:lnTo>
                    <a:pt x="3056" y="991"/>
                  </a:lnTo>
                  <a:lnTo>
                    <a:pt x="3065" y="997"/>
                  </a:lnTo>
                  <a:lnTo>
                    <a:pt x="3074" y="1005"/>
                  </a:lnTo>
                  <a:lnTo>
                    <a:pt x="3077" y="1014"/>
                  </a:lnTo>
                  <a:lnTo>
                    <a:pt x="3082" y="1023"/>
                  </a:lnTo>
                  <a:lnTo>
                    <a:pt x="3088" y="1031"/>
                  </a:lnTo>
                  <a:lnTo>
                    <a:pt x="3080" y="1034"/>
                  </a:lnTo>
                  <a:lnTo>
                    <a:pt x="3071" y="1034"/>
                  </a:lnTo>
                  <a:lnTo>
                    <a:pt x="3062" y="1040"/>
                  </a:lnTo>
                  <a:lnTo>
                    <a:pt x="3050" y="1043"/>
                  </a:lnTo>
                  <a:lnTo>
                    <a:pt x="3039" y="1046"/>
                  </a:lnTo>
                  <a:lnTo>
                    <a:pt x="3030" y="1046"/>
                  </a:lnTo>
                  <a:lnTo>
                    <a:pt x="3018" y="1046"/>
                  </a:lnTo>
                  <a:lnTo>
                    <a:pt x="3010" y="1037"/>
                  </a:lnTo>
                  <a:lnTo>
                    <a:pt x="3007" y="1028"/>
                  </a:lnTo>
                  <a:lnTo>
                    <a:pt x="3010" y="1020"/>
                  </a:lnTo>
                  <a:lnTo>
                    <a:pt x="3013" y="1011"/>
                  </a:lnTo>
                  <a:lnTo>
                    <a:pt x="3004" y="1011"/>
                  </a:lnTo>
                  <a:lnTo>
                    <a:pt x="2992" y="1008"/>
                  </a:lnTo>
                  <a:lnTo>
                    <a:pt x="2983" y="1008"/>
                  </a:lnTo>
                  <a:lnTo>
                    <a:pt x="2978" y="1017"/>
                  </a:lnTo>
                  <a:lnTo>
                    <a:pt x="2978" y="1025"/>
                  </a:lnTo>
                  <a:lnTo>
                    <a:pt x="2983" y="1034"/>
                  </a:lnTo>
                  <a:lnTo>
                    <a:pt x="2989" y="1043"/>
                  </a:lnTo>
                  <a:lnTo>
                    <a:pt x="2992" y="1051"/>
                  </a:lnTo>
                  <a:lnTo>
                    <a:pt x="3001" y="1054"/>
                  </a:lnTo>
                  <a:lnTo>
                    <a:pt x="3010" y="1060"/>
                  </a:lnTo>
                  <a:lnTo>
                    <a:pt x="3018" y="1063"/>
                  </a:lnTo>
                  <a:lnTo>
                    <a:pt x="3027" y="1063"/>
                  </a:lnTo>
                  <a:lnTo>
                    <a:pt x="3036" y="1060"/>
                  </a:lnTo>
                  <a:lnTo>
                    <a:pt x="3027" y="1060"/>
                  </a:lnTo>
                  <a:lnTo>
                    <a:pt x="3018" y="1057"/>
                  </a:lnTo>
                  <a:lnTo>
                    <a:pt x="3010" y="1054"/>
                  </a:lnTo>
                  <a:lnTo>
                    <a:pt x="3004" y="1046"/>
                  </a:lnTo>
                  <a:lnTo>
                    <a:pt x="2995" y="1040"/>
                  </a:lnTo>
                  <a:lnTo>
                    <a:pt x="2992" y="1031"/>
                  </a:lnTo>
                  <a:lnTo>
                    <a:pt x="2983" y="1023"/>
                  </a:lnTo>
                  <a:lnTo>
                    <a:pt x="2978" y="1014"/>
                  </a:lnTo>
                  <a:lnTo>
                    <a:pt x="2969" y="1005"/>
                  </a:lnTo>
                  <a:lnTo>
                    <a:pt x="2966" y="1014"/>
                  </a:lnTo>
                  <a:lnTo>
                    <a:pt x="2954" y="1023"/>
                  </a:lnTo>
                  <a:lnTo>
                    <a:pt x="2946" y="1023"/>
                  </a:lnTo>
                  <a:lnTo>
                    <a:pt x="2943" y="1034"/>
                  </a:lnTo>
                  <a:lnTo>
                    <a:pt x="2943" y="1043"/>
                  </a:lnTo>
                  <a:lnTo>
                    <a:pt x="2951" y="1051"/>
                  </a:lnTo>
                  <a:lnTo>
                    <a:pt x="2963" y="1051"/>
                  </a:lnTo>
                  <a:lnTo>
                    <a:pt x="2975" y="1054"/>
                  </a:lnTo>
                  <a:lnTo>
                    <a:pt x="2963" y="1051"/>
                  </a:lnTo>
                  <a:lnTo>
                    <a:pt x="2951" y="1046"/>
                  </a:lnTo>
                  <a:lnTo>
                    <a:pt x="2943" y="1043"/>
                  </a:lnTo>
                  <a:lnTo>
                    <a:pt x="2934" y="1051"/>
                  </a:lnTo>
                  <a:lnTo>
                    <a:pt x="2928" y="1060"/>
                  </a:lnTo>
                  <a:lnTo>
                    <a:pt x="2919" y="1060"/>
                  </a:lnTo>
                  <a:lnTo>
                    <a:pt x="2919" y="1069"/>
                  </a:lnTo>
                  <a:lnTo>
                    <a:pt x="2931" y="1077"/>
                  </a:lnTo>
                  <a:lnTo>
                    <a:pt x="2943" y="1086"/>
                  </a:lnTo>
                  <a:lnTo>
                    <a:pt x="2951" y="1089"/>
                  </a:lnTo>
                  <a:lnTo>
                    <a:pt x="2960" y="1089"/>
                  </a:lnTo>
                  <a:lnTo>
                    <a:pt x="2969" y="1089"/>
                  </a:lnTo>
                  <a:lnTo>
                    <a:pt x="2972" y="1080"/>
                  </a:lnTo>
                  <a:lnTo>
                    <a:pt x="2975" y="1072"/>
                  </a:lnTo>
                  <a:lnTo>
                    <a:pt x="2975" y="1063"/>
                  </a:lnTo>
                  <a:lnTo>
                    <a:pt x="2978" y="1054"/>
                  </a:lnTo>
                  <a:lnTo>
                    <a:pt x="2981" y="1063"/>
                  </a:lnTo>
                  <a:lnTo>
                    <a:pt x="2981" y="1072"/>
                  </a:lnTo>
                  <a:lnTo>
                    <a:pt x="2975" y="1080"/>
                  </a:lnTo>
                  <a:lnTo>
                    <a:pt x="2969" y="1089"/>
                  </a:lnTo>
                  <a:lnTo>
                    <a:pt x="2957" y="1089"/>
                  </a:lnTo>
                  <a:lnTo>
                    <a:pt x="2949" y="1089"/>
                  </a:lnTo>
                  <a:lnTo>
                    <a:pt x="2940" y="1097"/>
                  </a:lnTo>
                  <a:lnTo>
                    <a:pt x="2937" y="1106"/>
                  </a:lnTo>
                  <a:lnTo>
                    <a:pt x="2934" y="1115"/>
                  </a:lnTo>
                  <a:lnTo>
                    <a:pt x="2934" y="1123"/>
                  </a:lnTo>
                  <a:lnTo>
                    <a:pt x="2925" y="1129"/>
                  </a:lnTo>
                  <a:lnTo>
                    <a:pt x="2917" y="1135"/>
                  </a:lnTo>
                  <a:lnTo>
                    <a:pt x="2908" y="1138"/>
                  </a:lnTo>
                  <a:lnTo>
                    <a:pt x="2899" y="1138"/>
                  </a:lnTo>
                  <a:lnTo>
                    <a:pt x="2893" y="1129"/>
                  </a:lnTo>
                  <a:lnTo>
                    <a:pt x="2884" y="1129"/>
                  </a:lnTo>
                  <a:lnTo>
                    <a:pt x="2876" y="1129"/>
                  </a:lnTo>
                  <a:lnTo>
                    <a:pt x="2867" y="1135"/>
                  </a:lnTo>
                  <a:lnTo>
                    <a:pt x="2864" y="1144"/>
                  </a:lnTo>
                  <a:lnTo>
                    <a:pt x="2861" y="1152"/>
                  </a:lnTo>
                  <a:lnTo>
                    <a:pt x="2861" y="1161"/>
                  </a:lnTo>
                  <a:lnTo>
                    <a:pt x="2858" y="1170"/>
                  </a:lnTo>
                  <a:lnTo>
                    <a:pt x="2852" y="1178"/>
                  </a:lnTo>
                  <a:lnTo>
                    <a:pt x="2844" y="1181"/>
                  </a:lnTo>
                  <a:lnTo>
                    <a:pt x="2835" y="1181"/>
                  </a:lnTo>
                  <a:lnTo>
                    <a:pt x="2826" y="1184"/>
                  </a:lnTo>
                  <a:lnTo>
                    <a:pt x="2818" y="1175"/>
                  </a:lnTo>
                  <a:lnTo>
                    <a:pt x="2809" y="1167"/>
                  </a:lnTo>
                  <a:lnTo>
                    <a:pt x="2806" y="1175"/>
                  </a:lnTo>
                  <a:lnTo>
                    <a:pt x="2806" y="1184"/>
                  </a:lnTo>
                  <a:lnTo>
                    <a:pt x="2806" y="1193"/>
                  </a:lnTo>
                  <a:lnTo>
                    <a:pt x="2806" y="1204"/>
                  </a:lnTo>
                  <a:lnTo>
                    <a:pt x="2806" y="1213"/>
                  </a:lnTo>
                  <a:lnTo>
                    <a:pt x="2815" y="1213"/>
                  </a:lnTo>
                  <a:lnTo>
                    <a:pt x="2823" y="1216"/>
                  </a:lnTo>
                  <a:lnTo>
                    <a:pt x="2826" y="1224"/>
                  </a:lnTo>
                  <a:lnTo>
                    <a:pt x="2826" y="1233"/>
                  </a:lnTo>
                  <a:lnTo>
                    <a:pt x="2826" y="1242"/>
                  </a:lnTo>
                  <a:lnTo>
                    <a:pt x="2823" y="1250"/>
                  </a:lnTo>
                  <a:lnTo>
                    <a:pt x="2815" y="1253"/>
                  </a:lnTo>
                  <a:lnTo>
                    <a:pt x="2809" y="1262"/>
                  </a:lnTo>
                  <a:lnTo>
                    <a:pt x="2809" y="1270"/>
                  </a:lnTo>
                  <a:lnTo>
                    <a:pt x="2809" y="1279"/>
                  </a:lnTo>
                  <a:lnTo>
                    <a:pt x="2809" y="1288"/>
                  </a:lnTo>
                  <a:lnTo>
                    <a:pt x="2809" y="1279"/>
                  </a:lnTo>
                  <a:lnTo>
                    <a:pt x="2806" y="1270"/>
                  </a:lnTo>
                  <a:lnTo>
                    <a:pt x="2806" y="1262"/>
                  </a:lnTo>
                  <a:lnTo>
                    <a:pt x="2800" y="1253"/>
                  </a:lnTo>
                  <a:lnTo>
                    <a:pt x="2797" y="1244"/>
                  </a:lnTo>
                  <a:lnTo>
                    <a:pt x="2794" y="1236"/>
                  </a:lnTo>
                  <a:lnTo>
                    <a:pt x="2794" y="1227"/>
                  </a:lnTo>
                  <a:lnTo>
                    <a:pt x="2794" y="1218"/>
                  </a:lnTo>
                  <a:lnTo>
                    <a:pt x="2800" y="1210"/>
                  </a:lnTo>
                  <a:lnTo>
                    <a:pt x="2803" y="1201"/>
                  </a:lnTo>
                  <a:lnTo>
                    <a:pt x="2800" y="1193"/>
                  </a:lnTo>
                  <a:lnTo>
                    <a:pt x="2791" y="1187"/>
                  </a:lnTo>
                  <a:lnTo>
                    <a:pt x="2788" y="1178"/>
                  </a:lnTo>
                  <a:lnTo>
                    <a:pt x="2788" y="1170"/>
                  </a:lnTo>
                  <a:lnTo>
                    <a:pt x="2788" y="1161"/>
                  </a:lnTo>
                  <a:lnTo>
                    <a:pt x="2788" y="1152"/>
                  </a:lnTo>
                  <a:lnTo>
                    <a:pt x="2786" y="1144"/>
                  </a:lnTo>
                  <a:lnTo>
                    <a:pt x="2786" y="1135"/>
                  </a:lnTo>
                  <a:lnTo>
                    <a:pt x="2780" y="1126"/>
                  </a:lnTo>
                  <a:lnTo>
                    <a:pt x="2768" y="1121"/>
                  </a:lnTo>
                  <a:lnTo>
                    <a:pt x="2759" y="1115"/>
                  </a:lnTo>
                  <a:lnTo>
                    <a:pt x="2748" y="1112"/>
                  </a:lnTo>
                  <a:lnTo>
                    <a:pt x="2736" y="1109"/>
                  </a:lnTo>
                  <a:lnTo>
                    <a:pt x="2724" y="1106"/>
                  </a:lnTo>
                  <a:lnTo>
                    <a:pt x="2716" y="1106"/>
                  </a:lnTo>
                  <a:lnTo>
                    <a:pt x="2710" y="1115"/>
                  </a:lnTo>
                  <a:lnTo>
                    <a:pt x="2704" y="1123"/>
                  </a:lnTo>
                  <a:lnTo>
                    <a:pt x="2698" y="1132"/>
                  </a:lnTo>
                  <a:lnTo>
                    <a:pt x="2692" y="1126"/>
                  </a:lnTo>
                  <a:lnTo>
                    <a:pt x="2695" y="1112"/>
                  </a:lnTo>
                  <a:lnTo>
                    <a:pt x="2695" y="1121"/>
                  </a:lnTo>
                  <a:lnTo>
                    <a:pt x="2692" y="1129"/>
                  </a:lnTo>
                  <a:lnTo>
                    <a:pt x="2692" y="1138"/>
                  </a:lnTo>
                  <a:lnTo>
                    <a:pt x="2687" y="1146"/>
                  </a:lnTo>
                  <a:lnTo>
                    <a:pt x="2687" y="1155"/>
                  </a:lnTo>
                  <a:lnTo>
                    <a:pt x="2687" y="1164"/>
                  </a:lnTo>
                  <a:lnTo>
                    <a:pt x="2678" y="1167"/>
                  </a:lnTo>
                  <a:lnTo>
                    <a:pt x="2669" y="1167"/>
                  </a:lnTo>
                  <a:lnTo>
                    <a:pt x="2666" y="1158"/>
                  </a:lnTo>
                  <a:lnTo>
                    <a:pt x="2666" y="1149"/>
                  </a:lnTo>
                  <a:lnTo>
                    <a:pt x="2657" y="1146"/>
                  </a:lnTo>
                  <a:lnTo>
                    <a:pt x="2649" y="1152"/>
                  </a:lnTo>
                  <a:lnTo>
                    <a:pt x="2646" y="1141"/>
                  </a:lnTo>
                  <a:lnTo>
                    <a:pt x="2634" y="1135"/>
                  </a:lnTo>
                  <a:lnTo>
                    <a:pt x="2625" y="1135"/>
                  </a:lnTo>
                  <a:lnTo>
                    <a:pt x="2617" y="1135"/>
                  </a:lnTo>
                  <a:lnTo>
                    <a:pt x="2614" y="1144"/>
                  </a:lnTo>
                  <a:lnTo>
                    <a:pt x="2614" y="1152"/>
                  </a:lnTo>
                  <a:lnTo>
                    <a:pt x="2614" y="1161"/>
                  </a:lnTo>
                  <a:lnTo>
                    <a:pt x="2617" y="1170"/>
                  </a:lnTo>
                  <a:lnTo>
                    <a:pt x="2617" y="1178"/>
                  </a:lnTo>
                  <a:lnTo>
                    <a:pt x="2620" y="1187"/>
                  </a:lnTo>
                  <a:lnTo>
                    <a:pt x="2625" y="1195"/>
                  </a:lnTo>
                  <a:lnTo>
                    <a:pt x="2634" y="1201"/>
                  </a:lnTo>
                  <a:lnTo>
                    <a:pt x="2643" y="1201"/>
                  </a:lnTo>
                  <a:lnTo>
                    <a:pt x="2652" y="1201"/>
                  </a:lnTo>
                  <a:lnTo>
                    <a:pt x="2643" y="1201"/>
                  </a:lnTo>
                  <a:lnTo>
                    <a:pt x="2634" y="1207"/>
                  </a:lnTo>
                  <a:lnTo>
                    <a:pt x="2625" y="1216"/>
                  </a:lnTo>
                  <a:lnTo>
                    <a:pt x="2625" y="1224"/>
                  </a:lnTo>
                  <a:lnTo>
                    <a:pt x="2634" y="1224"/>
                  </a:lnTo>
                  <a:lnTo>
                    <a:pt x="2643" y="1230"/>
                  </a:lnTo>
                  <a:lnTo>
                    <a:pt x="2646" y="1242"/>
                  </a:lnTo>
                  <a:lnTo>
                    <a:pt x="2652" y="1253"/>
                  </a:lnTo>
                  <a:lnTo>
                    <a:pt x="2660" y="1259"/>
                  </a:lnTo>
                  <a:lnTo>
                    <a:pt x="2672" y="1265"/>
                  </a:lnTo>
                  <a:lnTo>
                    <a:pt x="2663" y="1262"/>
                  </a:lnTo>
                  <a:lnTo>
                    <a:pt x="2655" y="1256"/>
                  </a:lnTo>
                  <a:lnTo>
                    <a:pt x="2663" y="1250"/>
                  </a:lnTo>
                  <a:lnTo>
                    <a:pt x="2672" y="1250"/>
                  </a:lnTo>
                  <a:lnTo>
                    <a:pt x="2681" y="1253"/>
                  </a:lnTo>
                  <a:lnTo>
                    <a:pt x="2669" y="1256"/>
                  </a:lnTo>
                  <a:lnTo>
                    <a:pt x="2655" y="1256"/>
                  </a:lnTo>
                  <a:lnTo>
                    <a:pt x="2646" y="1247"/>
                  </a:lnTo>
                  <a:lnTo>
                    <a:pt x="2643" y="1236"/>
                  </a:lnTo>
                  <a:lnTo>
                    <a:pt x="2640" y="1227"/>
                  </a:lnTo>
                  <a:lnTo>
                    <a:pt x="2631" y="1227"/>
                  </a:lnTo>
                  <a:lnTo>
                    <a:pt x="2625" y="1236"/>
                  </a:lnTo>
                  <a:lnTo>
                    <a:pt x="2625" y="1247"/>
                  </a:lnTo>
                  <a:lnTo>
                    <a:pt x="2625" y="1259"/>
                  </a:lnTo>
                  <a:lnTo>
                    <a:pt x="2617" y="1259"/>
                  </a:lnTo>
                  <a:lnTo>
                    <a:pt x="2608" y="1256"/>
                  </a:lnTo>
                  <a:lnTo>
                    <a:pt x="2605" y="1247"/>
                  </a:lnTo>
                  <a:lnTo>
                    <a:pt x="2596" y="1253"/>
                  </a:lnTo>
                  <a:lnTo>
                    <a:pt x="2588" y="1262"/>
                  </a:lnTo>
                  <a:lnTo>
                    <a:pt x="2582" y="1270"/>
                  </a:lnTo>
                  <a:lnTo>
                    <a:pt x="2582" y="1279"/>
                  </a:lnTo>
                  <a:lnTo>
                    <a:pt x="2582" y="1288"/>
                  </a:lnTo>
                  <a:lnTo>
                    <a:pt x="2576" y="1296"/>
                  </a:lnTo>
                  <a:lnTo>
                    <a:pt x="2573" y="1305"/>
                  </a:lnTo>
                  <a:lnTo>
                    <a:pt x="2567" y="1314"/>
                  </a:lnTo>
                  <a:lnTo>
                    <a:pt x="2553" y="1311"/>
                  </a:lnTo>
                  <a:lnTo>
                    <a:pt x="2567" y="1305"/>
                  </a:lnTo>
                  <a:lnTo>
                    <a:pt x="2561" y="1314"/>
                  </a:lnTo>
                  <a:lnTo>
                    <a:pt x="2558" y="1322"/>
                  </a:lnTo>
                  <a:lnTo>
                    <a:pt x="2558" y="1331"/>
                  </a:lnTo>
                  <a:lnTo>
                    <a:pt x="2558" y="1340"/>
                  </a:lnTo>
                  <a:lnTo>
                    <a:pt x="2558" y="1348"/>
                  </a:lnTo>
                  <a:lnTo>
                    <a:pt x="2558" y="1360"/>
                  </a:lnTo>
                  <a:lnTo>
                    <a:pt x="2558" y="1368"/>
                  </a:lnTo>
                  <a:lnTo>
                    <a:pt x="2550" y="1380"/>
                  </a:lnTo>
                  <a:lnTo>
                    <a:pt x="2547" y="1389"/>
                  </a:lnTo>
                  <a:lnTo>
                    <a:pt x="2544" y="1397"/>
                  </a:lnTo>
                  <a:lnTo>
                    <a:pt x="2538" y="1406"/>
                  </a:lnTo>
                  <a:lnTo>
                    <a:pt x="2529" y="1412"/>
                  </a:lnTo>
                  <a:lnTo>
                    <a:pt x="2538" y="1414"/>
                  </a:lnTo>
                  <a:lnTo>
                    <a:pt x="2547" y="1414"/>
                  </a:lnTo>
                  <a:lnTo>
                    <a:pt x="2553" y="1406"/>
                  </a:lnTo>
                  <a:lnTo>
                    <a:pt x="2553" y="1397"/>
                  </a:lnTo>
                  <a:lnTo>
                    <a:pt x="2561" y="1391"/>
                  </a:lnTo>
                  <a:lnTo>
                    <a:pt x="2567" y="1400"/>
                  </a:lnTo>
                  <a:lnTo>
                    <a:pt x="2567" y="1412"/>
                  </a:lnTo>
                  <a:lnTo>
                    <a:pt x="2570" y="1420"/>
                  </a:lnTo>
                  <a:lnTo>
                    <a:pt x="2579" y="1429"/>
                  </a:lnTo>
                  <a:lnTo>
                    <a:pt x="2588" y="1435"/>
                  </a:lnTo>
                  <a:lnTo>
                    <a:pt x="2599" y="1435"/>
                  </a:lnTo>
                  <a:lnTo>
                    <a:pt x="2593" y="1426"/>
                  </a:lnTo>
                  <a:lnTo>
                    <a:pt x="2585" y="1417"/>
                  </a:lnTo>
                  <a:lnTo>
                    <a:pt x="2582" y="1406"/>
                  </a:lnTo>
                  <a:lnTo>
                    <a:pt x="2579" y="1397"/>
                  </a:lnTo>
                  <a:lnTo>
                    <a:pt x="2573" y="1406"/>
                  </a:lnTo>
                  <a:lnTo>
                    <a:pt x="2570" y="1414"/>
                  </a:lnTo>
                  <a:lnTo>
                    <a:pt x="2561" y="1426"/>
                  </a:lnTo>
                  <a:lnTo>
                    <a:pt x="2553" y="1432"/>
                  </a:lnTo>
                  <a:lnTo>
                    <a:pt x="2544" y="1432"/>
                  </a:lnTo>
                  <a:lnTo>
                    <a:pt x="2535" y="1432"/>
                  </a:lnTo>
                  <a:lnTo>
                    <a:pt x="2526" y="1432"/>
                  </a:lnTo>
                  <a:lnTo>
                    <a:pt x="2515" y="1438"/>
                  </a:lnTo>
                  <a:lnTo>
                    <a:pt x="2506" y="1443"/>
                  </a:lnTo>
                  <a:lnTo>
                    <a:pt x="2503" y="1452"/>
                  </a:lnTo>
                  <a:lnTo>
                    <a:pt x="2509" y="1461"/>
                  </a:lnTo>
                  <a:lnTo>
                    <a:pt x="2515" y="1472"/>
                  </a:lnTo>
                  <a:lnTo>
                    <a:pt x="2521" y="1484"/>
                  </a:lnTo>
                  <a:lnTo>
                    <a:pt x="2529" y="1489"/>
                  </a:lnTo>
                  <a:lnTo>
                    <a:pt x="2538" y="1495"/>
                  </a:lnTo>
                  <a:lnTo>
                    <a:pt x="2544" y="1504"/>
                  </a:lnTo>
                  <a:lnTo>
                    <a:pt x="2553" y="1507"/>
                  </a:lnTo>
                  <a:lnTo>
                    <a:pt x="2561" y="1507"/>
                  </a:lnTo>
                  <a:lnTo>
                    <a:pt x="2570" y="1510"/>
                  </a:lnTo>
                  <a:lnTo>
                    <a:pt x="2576" y="1518"/>
                  </a:lnTo>
                  <a:lnTo>
                    <a:pt x="2585" y="1527"/>
                  </a:lnTo>
                  <a:lnTo>
                    <a:pt x="2588" y="1535"/>
                  </a:lnTo>
                  <a:lnTo>
                    <a:pt x="2588" y="1544"/>
                  </a:lnTo>
                  <a:lnTo>
                    <a:pt x="2588" y="1556"/>
                  </a:lnTo>
                  <a:lnTo>
                    <a:pt x="2590" y="1564"/>
                  </a:lnTo>
                  <a:lnTo>
                    <a:pt x="2599" y="1564"/>
                  </a:lnTo>
                  <a:lnTo>
                    <a:pt x="2614" y="1567"/>
                  </a:lnTo>
                  <a:lnTo>
                    <a:pt x="2617" y="1576"/>
                  </a:lnTo>
                  <a:lnTo>
                    <a:pt x="2617" y="1584"/>
                  </a:lnTo>
                  <a:lnTo>
                    <a:pt x="2608" y="1587"/>
                  </a:lnTo>
                  <a:lnTo>
                    <a:pt x="2596" y="1579"/>
                  </a:lnTo>
                  <a:lnTo>
                    <a:pt x="2588" y="1570"/>
                  </a:lnTo>
                  <a:lnTo>
                    <a:pt x="2582" y="1561"/>
                  </a:lnTo>
                  <a:lnTo>
                    <a:pt x="2582" y="1553"/>
                  </a:lnTo>
                  <a:lnTo>
                    <a:pt x="2582" y="1541"/>
                  </a:lnTo>
                  <a:lnTo>
                    <a:pt x="2579" y="1533"/>
                  </a:lnTo>
                  <a:lnTo>
                    <a:pt x="2573" y="1524"/>
                  </a:lnTo>
                  <a:lnTo>
                    <a:pt x="2564" y="1515"/>
                  </a:lnTo>
                  <a:lnTo>
                    <a:pt x="2556" y="1512"/>
                  </a:lnTo>
                  <a:lnTo>
                    <a:pt x="2550" y="1521"/>
                  </a:lnTo>
                  <a:lnTo>
                    <a:pt x="2541" y="1521"/>
                  </a:lnTo>
                  <a:lnTo>
                    <a:pt x="2532" y="1515"/>
                  </a:lnTo>
                  <a:lnTo>
                    <a:pt x="2524" y="1510"/>
                  </a:lnTo>
                  <a:lnTo>
                    <a:pt x="2515" y="1507"/>
                  </a:lnTo>
                  <a:lnTo>
                    <a:pt x="2506" y="1504"/>
                  </a:lnTo>
                  <a:lnTo>
                    <a:pt x="2497" y="1504"/>
                  </a:lnTo>
                  <a:lnTo>
                    <a:pt x="2489" y="1504"/>
                  </a:lnTo>
                  <a:lnTo>
                    <a:pt x="2486" y="1512"/>
                  </a:lnTo>
                  <a:lnTo>
                    <a:pt x="2486" y="1521"/>
                  </a:lnTo>
                  <a:lnTo>
                    <a:pt x="2491" y="1530"/>
                  </a:lnTo>
                  <a:lnTo>
                    <a:pt x="2486" y="1538"/>
                  </a:lnTo>
                  <a:lnTo>
                    <a:pt x="2477" y="1538"/>
                  </a:lnTo>
                  <a:lnTo>
                    <a:pt x="2474" y="1547"/>
                  </a:lnTo>
                  <a:lnTo>
                    <a:pt x="2489" y="1550"/>
                  </a:lnTo>
                  <a:lnTo>
                    <a:pt x="2497" y="1553"/>
                  </a:lnTo>
                  <a:lnTo>
                    <a:pt x="2506" y="1553"/>
                  </a:lnTo>
                  <a:lnTo>
                    <a:pt x="2515" y="1559"/>
                  </a:lnTo>
                  <a:lnTo>
                    <a:pt x="2521" y="1570"/>
                  </a:lnTo>
                  <a:lnTo>
                    <a:pt x="2529" y="1576"/>
                  </a:lnTo>
                  <a:lnTo>
                    <a:pt x="2521" y="1567"/>
                  </a:lnTo>
                  <a:lnTo>
                    <a:pt x="2509" y="1561"/>
                  </a:lnTo>
                  <a:lnTo>
                    <a:pt x="2500" y="1559"/>
                  </a:lnTo>
                  <a:lnTo>
                    <a:pt x="2491" y="1567"/>
                  </a:lnTo>
                  <a:lnTo>
                    <a:pt x="2483" y="1570"/>
                  </a:lnTo>
                  <a:lnTo>
                    <a:pt x="2474" y="1570"/>
                  </a:lnTo>
                  <a:lnTo>
                    <a:pt x="2471" y="1561"/>
                  </a:lnTo>
                  <a:lnTo>
                    <a:pt x="2471" y="1553"/>
                  </a:lnTo>
                  <a:lnTo>
                    <a:pt x="2465" y="1544"/>
                  </a:lnTo>
                  <a:lnTo>
                    <a:pt x="2462" y="1535"/>
                  </a:lnTo>
                  <a:lnTo>
                    <a:pt x="2459" y="1524"/>
                  </a:lnTo>
                  <a:lnTo>
                    <a:pt x="2457" y="1515"/>
                  </a:lnTo>
                  <a:lnTo>
                    <a:pt x="2448" y="1510"/>
                  </a:lnTo>
                  <a:lnTo>
                    <a:pt x="2439" y="1504"/>
                  </a:lnTo>
                  <a:lnTo>
                    <a:pt x="2439" y="1512"/>
                  </a:lnTo>
                  <a:lnTo>
                    <a:pt x="2439" y="1521"/>
                  </a:lnTo>
                  <a:lnTo>
                    <a:pt x="2439" y="1530"/>
                  </a:lnTo>
                  <a:lnTo>
                    <a:pt x="2439" y="1538"/>
                  </a:lnTo>
                  <a:lnTo>
                    <a:pt x="2439" y="1547"/>
                  </a:lnTo>
                  <a:lnTo>
                    <a:pt x="2439" y="1556"/>
                  </a:lnTo>
                  <a:lnTo>
                    <a:pt x="2442" y="1564"/>
                  </a:lnTo>
                  <a:lnTo>
                    <a:pt x="2436" y="1573"/>
                  </a:lnTo>
                  <a:lnTo>
                    <a:pt x="2433" y="1582"/>
                  </a:lnTo>
                  <a:lnTo>
                    <a:pt x="2430" y="1590"/>
                  </a:lnTo>
                  <a:lnTo>
                    <a:pt x="2433" y="1599"/>
                  </a:lnTo>
                  <a:lnTo>
                    <a:pt x="2442" y="1602"/>
                  </a:lnTo>
                  <a:lnTo>
                    <a:pt x="2451" y="1605"/>
                  </a:lnTo>
                  <a:lnTo>
                    <a:pt x="2459" y="1608"/>
                  </a:lnTo>
                  <a:lnTo>
                    <a:pt x="2465" y="1616"/>
                  </a:lnTo>
                  <a:lnTo>
                    <a:pt x="2474" y="1628"/>
                  </a:lnTo>
                  <a:lnTo>
                    <a:pt x="2474" y="1636"/>
                  </a:lnTo>
                  <a:lnTo>
                    <a:pt x="2474" y="1648"/>
                  </a:lnTo>
                  <a:lnTo>
                    <a:pt x="2474" y="1657"/>
                  </a:lnTo>
                  <a:lnTo>
                    <a:pt x="2474" y="1665"/>
                  </a:lnTo>
                  <a:lnTo>
                    <a:pt x="2474" y="1674"/>
                  </a:lnTo>
                  <a:lnTo>
                    <a:pt x="2483" y="1680"/>
                  </a:lnTo>
                  <a:lnTo>
                    <a:pt x="2491" y="1682"/>
                  </a:lnTo>
                  <a:lnTo>
                    <a:pt x="2500" y="1682"/>
                  </a:lnTo>
                  <a:lnTo>
                    <a:pt x="2509" y="1680"/>
                  </a:lnTo>
                  <a:lnTo>
                    <a:pt x="2515" y="1671"/>
                  </a:lnTo>
                  <a:lnTo>
                    <a:pt x="2524" y="1671"/>
                  </a:lnTo>
                  <a:lnTo>
                    <a:pt x="2532" y="1668"/>
                  </a:lnTo>
                  <a:lnTo>
                    <a:pt x="2541" y="1671"/>
                  </a:lnTo>
                  <a:lnTo>
                    <a:pt x="2544" y="1680"/>
                  </a:lnTo>
                  <a:lnTo>
                    <a:pt x="2547" y="1688"/>
                  </a:lnTo>
                  <a:lnTo>
                    <a:pt x="2547" y="1697"/>
                  </a:lnTo>
                  <a:lnTo>
                    <a:pt x="2547" y="1706"/>
                  </a:lnTo>
                  <a:lnTo>
                    <a:pt x="2556" y="1714"/>
                  </a:lnTo>
                  <a:lnTo>
                    <a:pt x="2564" y="1720"/>
                  </a:lnTo>
                  <a:lnTo>
                    <a:pt x="2576" y="1726"/>
                  </a:lnTo>
                  <a:lnTo>
                    <a:pt x="2588" y="1726"/>
                  </a:lnTo>
                  <a:lnTo>
                    <a:pt x="2596" y="1726"/>
                  </a:lnTo>
                  <a:lnTo>
                    <a:pt x="2588" y="1723"/>
                  </a:lnTo>
                  <a:lnTo>
                    <a:pt x="2579" y="1720"/>
                  </a:lnTo>
                  <a:lnTo>
                    <a:pt x="2570" y="1717"/>
                  </a:lnTo>
                  <a:lnTo>
                    <a:pt x="2567" y="1708"/>
                  </a:lnTo>
                  <a:lnTo>
                    <a:pt x="2564" y="1697"/>
                  </a:lnTo>
                  <a:lnTo>
                    <a:pt x="2564" y="1688"/>
                  </a:lnTo>
                  <a:lnTo>
                    <a:pt x="2561" y="1680"/>
                  </a:lnTo>
                  <a:lnTo>
                    <a:pt x="2550" y="1671"/>
                  </a:lnTo>
                  <a:lnTo>
                    <a:pt x="2538" y="1665"/>
                  </a:lnTo>
                  <a:lnTo>
                    <a:pt x="2529" y="1662"/>
                  </a:lnTo>
                  <a:lnTo>
                    <a:pt x="2521" y="1659"/>
                  </a:lnTo>
                  <a:lnTo>
                    <a:pt x="2512" y="1662"/>
                  </a:lnTo>
                  <a:lnTo>
                    <a:pt x="2506" y="1671"/>
                  </a:lnTo>
                  <a:lnTo>
                    <a:pt x="2506" y="1680"/>
                  </a:lnTo>
                  <a:lnTo>
                    <a:pt x="2503" y="1688"/>
                  </a:lnTo>
                  <a:lnTo>
                    <a:pt x="2500" y="1697"/>
                  </a:lnTo>
                  <a:lnTo>
                    <a:pt x="2500" y="1706"/>
                  </a:lnTo>
                  <a:lnTo>
                    <a:pt x="2500" y="1714"/>
                  </a:lnTo>
                  <a:lnTo>
                    <a:pt x="2509" y="1723"/>
                  </a:lnTo>
                  <a:lnTo>
                    <a:pt x="2509" y="1731"/>
                  </a:lnTo>
                  <a:lnTo>
                    <a:pt x="2509" y="1740"/>
                  </a:lnTo>
                  <a:lnTo>
                    <a:pt x="2509" y="1749"/>
                  </a:lnTo>
                  <a:lnTo>
                    <a:pt x="2509" y="1757"/>
                  </a:lnTo>
                  <a:lnTo>
                    <a:pt x="2509" y="1766"/>
                  </a:lnTo>
                  <a:lnTo>
                    <a:pt x="2509" y="1775"/>
                  </a:lnTo>
                  <a:lnTo>
                    <a:pt x="2509" y="1783"/>
                  </a:lnTo>
                  <a:lnTo>
                    <a:pt x="2506" y="1772"/>
                  </a:lnTo>
                  <a:lnTo>
                    <a:pt x="2515" y="1757"/>
                  </a:lnTo>
                  <a:lnTo>
                    <a:pt x="2509" y="1766"/>
                  </a:lnTo>
                  <a:lnTo>
                    <a:pt x="2506" y="1775"/>
                  </a:lnTo>
                  <a:lnTo>
                    <a:pt x="2503" y="1783"/>
                  </a:lnTo>
                  <a:lnTo>
                    <a:pt x="2497" y="1792"/>
                  </a:lnTo>
                  <a:lnTo>
                    <a:pt x="2494" y="1801"/>
                  </a:lnTo>
                  <a:lnTo>
                    <a:pt x="2494" y="1809"/>
                  </a:lnTo>
                  <a:lnTo>
                    <a:pt x="2494" y="1818"/>
                  </a:lnTo>
                  <a:lnTo>
                    <a:pt x="2483" y="1824"/>
                  </a:lnTo>
                  <a:lnTo>
                    <a:pt x="2465" y="1824"/>
                  </a:lnTo>
                  <a:lnTo>
                    <a:pt x="2457" y="1821"/>
                  </a:lnTo>
                  <a:lnTo>
                    <a:pt x="2448" y="1812"/>
                  </a:lnTo>
                  <a:lnTo>
                    <a:pt x="2439" y="1809"/>
                  </a:lnTo>
                  <a:lnTo>
                    <a:pt x="2430" y="1809"/>
                  </a:lnTo>
                  <a:lnTo>
                    <a:pt x="2427" y="1798"/>
                  </a:lnTo>
                  <a:lnTo>
                    <a:pt x="2439" y="1795"/>
                  </a:lnTo>
                  <a:lnTo>
                    <a:pt x="2454" y="1792"/>
                  </a:lnTo>
                  <a:lnTo>
                    <a:pt x="2462" y="1792"/>
                  </a:lnTo>
                  <a:lnTo>
                    <a:pt x="2471" y="1792"/>
                  </a:lnTo>
                  <a:lnTo>
                    <a:pt x="2477" y="1783"/>
                  </a:lnTo>
                  <a:lnTo>
                    <a:pt x="2480" y="1775"/>
                  </a:lnTo>
                  <a:lnTo>
                    <a:pt x="2480" y="1766"/>
                  </a:lnTo>
                  <a:lnTo>
                    <a:pt x="2483" y="1757"/>
                  </a:lnTo>
                  <a:lnTo>
                    <a:pt x="2486" y="1749"/>
                  </a:lnTo>
                  <a:lnTo>
                    <a:pt x="2489" y="1740"/>
                  </a:lnTo>
                  <a:lnTo>
                    <a:pt x="2491" y="1731"/>
                  </a:lnTo>
                  <a:lnTo>
                    <a:pt x="2489" y="1723"/>
                  </a:lnTo>
                  <a:lnTo>
                    <a:pt x="2489" y="1714"/>
                  </a:lnTo>
                  <a:lnTo>
                    <a:pt x="2480" y="1708"/>
                  </a:lnTo>
                  <a:lnTo>
                    <a:pt x="2474" y="1700"/>
                  </a:lnTo>
                  <a:lnTo>
                    <a:pt x="2468" y="1691"/>
                  </a:lnTo>
                  <a:lnTo>
                    <a:pt x="2465" y="1682"/>
                  </a:lnTo>
                  <a:lnTo>
                    <a:pt x="2459" y="1674"/>
                  </a:lnTo>
                  <a:lnTo>
                    <a:pt x="2454" y="1665"/>
                  </a:lnTo>
                  <a:lnTo>
                    <a:pt x="2454" y="1657"/>
                  </a:lnTo>
                  <a:lnTo>
                    <a:pt x="2454" y="1648"/>
                  </a:lnTo>
                  <a:lnTo>
                    <a:pt x="2454" y="1639"/>
                  </a:lnTo>
                  <a:lnTo>
                    <a:pt x="2451" y="1631"/>
                  </a:lnTo>
                  <a:lnTo>
                    <a:pt x="2448" y="1622"/>
                  </a:lnTo>
                  <a:lnTo>
                    <a:pt x="2442" y="1613"/>
                  </a:lnTo>
                  <a:lnTo>
                    <a:pt x="2433" y="1608"/>
                  </a:lnTo>
                  <a:lnTo>
                    <a:pt x="2427" y="1599"/>
                  </a:lnTo>
                  <a:lnTo>
                    <a:pt x="2422" y="1590"/>
                  </a:lnTo>
                  <a:lnTo>
                    <a:pt x="2419" y="1582"/>
                  </a:lnTo>
                  <a:lnTo>
                    <a:pt x="2419" y="1573"/>
                  </a:lnTo>
                  <a:lnTo>
                    <a:pt x="2416" y="1564"/>
                  </a:lnTo>
                  <a:lnTo>
                    <a:pt x="2416" y="1556"/>
                  </a:lnTo>
                  <a:lnTo>
                    <a:pt x="2416" y="1547"/>
                  </a:lnTo>
                  <a:lnTo>
                    <a:pt x="2416" y="1538"/>
                  </a:lnTo>
                  <a:lnTo>
                    <a:pt x="2416" y="1530"/>
                  </a:lnTo>
                  <a:lnTo>
                    <a:pt x="2407" y="1521"/>
                  </a:lnTo>
                  <a:lnTo>
                    <a:pt x="2395" y="1518"/>
                  </a:lnTo>
                  <a:lnTo>
                    <a:pt x="2390" y="1510"/>
                  </a:lnTo>
                  <a:lnTo>
                    <a:pt x="2390" y="1501"/>
                  </a:lnTo>
                  <a:lnTo>
                    <a:pt x="2381" y="1498"/>
                  </a:lnTo>
                  <a:lnTo>
                    <a:pt x="2390" y="1504"/>
                  </a:lnTo>
                  <a:lnTo>
                    <a:pt x="2381" y="1510"/>
                  </a:lnTo>
                  <a:lnTo>
                    <a:pt x="2372" y="1515"/>
                  </a:lnTo>
                  <a:lnTo>
                    <a:pt x="2372" y="1524"/>
                  </a:lnTo>
                  <a:lnTo>
                    <a:pt x="2366" y="1533"/>
                  </a:lnTo>
                  <a:lnTo>
                    <a:pt x="2366" y="1541"/>
                  </a:lnTo>
                  <a:lnTo>
                    <a:pt x="2366" y="1550"/>
                  </a:lnTo>
                  <a:lnTo>
                    <a:pt x="2366" y="1559"/>
                  </a:lnTo>
                  <a:lnTo>
                    <a:pt x="2366" y="1567"/>
                  </a:lnTo>
                  <a:lnTo>
                    <a:pt x="2363" y="1576"/>
                  </a:lnTo>
                  <a:lnTo>
                    <a:pt x="2360" y="1584"/>
                  </a:lnTo>
                  <a:lnTo>
                    <a:pt x="2358" y="1593"/>
                  </a:lnTo>
                  <a:lnTo>
                    <a:pt x="2352" y="1602"/>
                  </a:lnTo>
                  <a:lnTo>
                    <a:pt x="2349" y="1610"/>
                  </a:lnTo>
                  <a:lnTo>
                    <a:pt x="2346" y="1619"/>
                  </a:lnTo>
                  <a:lnTo>
                    <a:pt x="2346" y="1628"/>
                  </a:lnTo>
                  <a:lnTo>
                    <a:pt x="2346" y="1636"/>
                  </a:lnTo>
                  <a:lnTo>
                    <a:pt x="2355" y="1639"/>
                  </a:lnTo>
                  <a:lnTo>
                    <a:pt x="2363" y="1639"/>
                  </a:lnTo>
                  <a:lnTo>
                    <a:pt x="2372" y="1636"/>
                  </a:lnTo>
                  <a:lnTo>
                    <a:pt x="2372" y="1645"/>
                  </a:lnTo>
                  <a:lnTo>
                    <a:pt x="2372" y="1654"/>
                  </a:lnTo>
                  <a:lnTo>
                    <a:pt x="2372" y="1662"/>
                  </a:lnTo>
                  <a:lnTo>
                    <a:pt x="2372" y="1671"/>
                  </a:lnTo>
                  <a:lnTo>
                    <a:pt x="2372" y="1682"/>
                  </a:lnTo>
                  <a:lnTo>
                    <a:pt x="2369" y="1691"/>
                  </a:lnTo>
                  <a:lnTo>
                    <a:pt x="2378" y="1697"/>
                  </a:lnTo>
                  <a:lnTo>
                    <a:pt x="2381" y="1706"/>
                  </a:lnTo>
                  <a:lnTo>
                    <a:pt x="2390" y="1711"/>
                  </a:lnTo>
                  <a:lnTo>
                    <a:pt x="2401" y="1714"/>
                  </a:lnTo>
                  <a:lnTo>
                    <a:pt x="2404" y="1723"/>
                  </a:lnTo>
                  <a:lnTo>
                    <a:pt x="2404" y="1731"/>
                  </a:lnTo>
                  <a:lnTo>
                    <a:pt x="2404" y="1740"/>
                  </a:lnTo>
                  <a:lnTo>
                    <a:pt x="2404" y="1749"/>
                  </a:lnTo>
                  <a:lnTo>
                    <a:pt x="2395" y="1743"/>
                  </a:lnTo>
                  <a:lnTo>
                    <a:pt x="2393" y="1734"/>
                  </a:lnTo>
                  <a:lnTo>
                    <a:pt x="2387" y="1723"/>
                  </a:lnTo>
                  <a:lnTo>
                    <a:pt x="2381" y="1714"/>
                  </a:lnTo>
                  <a:lnTo>
                    <a:pt x="2372" y="1711"/>
                  </a:lnTo>
                  <a:lnTo>
                    <a:pt x="2363" y="1708"/>
                  </a:lnTo>
                  <a:lnTo>
                    <a:pt x="2355" y="1708"/>
                  </a:lnTo>
                  <a:lnTo>
                    <a:pt x="2340" y="1706"/>
                  </a:lnTo>
                  <a:lnTo>
                    <a:pt x="2328" y="1703"/>
                  </a:lnTo>
                  <a:lnTo>
                    <a:pt x="2320" y="1697"/>
                  </a:lnTo>
                  <a:lnTo>
                    <a:pt x="2311" y="1694"/>
                  </a:lnTo>
                  <a:lnTo>
                    <a:pt x="2302" y="1691"/>
                  </a:lnTo>
                  <a:lnTo>
                    <a:pt x="2294" y="1688"/>
                  </a:lnTo>
                  <a:lnTo>
                    <a:pt x="2285" y="1685"/>
                  </a:lnTo>
                  <a:lnTo>
                    <a:pt x="2276" y="1685"/>
                  </a:lnTo>
                  <a:lnTo>
                    <a:pt x="2267" y="1685"/>
                  </a:lnTo>
                  <a:lnTo>
                    <a:pt x="2273" y="1680"/>
                  </a:lnTo>
                  <a:lnTo>
                    <a:pt x="2262" y="1671"/>
                  </a:lnTo>
                  <a:lnTo>
                    <a:pt x="2262" y="1662"/>
                  </a:lnTo>
                  <a:lnTo>
                    <a:pt x="2256" y="1671"/>
                  </a:lnTo>
                  <a:lnTo>
                    <a:pt x="2247" y="1671"/>
                  </a:lnTo>
                  <a:lnTo>
                    <a:pt x="2235" y="1671"/>
                  </a:lnTo>
                  <a:lnTo>
                    <a:pt x="2227" y="1668"/>
                  </a:lnTo>
                  <a:lnTo>
                    <a:pt x="2227" y="1659"/>
                  </a:lnTo>
                  <a:lnTo>
                    <a:pt x="2221" y="1668"/>
                  </a:lnTo>
                  <a:lnTo>
                    <a:pt x="2221" y="1677"/>
                  </a:lnTo>
                  <a:lnTo>
                    <a:pt x="2232" y="1680"/>
                  </a:lnTo>
                  <a:lnTo>
                    <a:pt x="2241" y="1682"/>
                  </a:lnTo>
                  <a:lnTo>
                    <a:pt x="2244" y="1691"/>
                  </a:lnTo>
                  <a:lnTo>
                    <a:pt x="2247" y="1700"/>
                  </a:lnTo>
                  <a:lnTo>
                    <a:pt x="2250" y="1708"/>
                  </a:lnTo>
                  <a:lnTo>
                    <a:pt x="2259" y="1711"/>
                  </a:lnTo>
                  <a:lnTo>
                    <a:pt x="2262" y="1720"/>
                  </a:lnTo>
                  <a:lnTo>
                    <a:pt x="2262" y="1729"/>
                  </a:lnTo>
                  <a:lnTo>
                    <a:pt x="2262" y="1737"/>
                  </a:lnTo>
                  <a:lnTo>
                    <a:pt x="2253" y="1743"/>
                  </a:lnTo>
                  <a:lnTo>
                    <a:pt x="2250" y="1752"/>
                  </a:lnTo>
                  <a:lnTo>
                    <a:pt x="2250" y="1760"/>
                  </a:lnTo>
                  <a:lnTo>
                    <a:pt x="2244" y="1752"/>
                  </a:lnTo>
                  <a:lnTo>
                    <a:pt x="2241" y="1743"/>
                  </a:lnTo>
                  <a:lnTo>
                    <a:pt x="2232" y="1743"/>
                  </a:lnTo>
                  <a:lnTo>
                    <a:pt x="2232" y="1734"/>
                  </a:lnTo>
                  <a:lnTo>
                    <a:pt x="2221" y="1729"/>
                  </a:lnTo>
                  <a:lnTo>
                    <a:pt x="2209" y="1731"/>
                  </a:lnTo>
                  <a:lnTo>
                    <a:pt x="2200" y="1734"/>
                  </a:lnTo>
                  <a:lnTo>
                    <a:pt x="2192" y="1737"/>
                  </a:lnTo>
                  <a:lnTo>
                    <a:pt x="2183" y="1746"/>
                  </a:lnTo>
                  <a:lnTo>
                    <a:pt x="2177" y="1755"/>
                  </a:lnTo>
                  <a:lnTo>
                    <a:pt x="2168" y="1755"/>
                  </a:lnTo>
                  <a:lnTo>
                    <a:pt x="2160" y="1760"/>
                  </a:lnTo>
                  <a:lnTo>
                    <a:pt x="2151" y="1769"/>
                  </a:lnTo>
                  <a:lnTo>
                    <a:pt x="2142" y="1772"/>
                  </a:lnTo>
                  <a:lnTo>
                    <a:pt x="2133" y="1772"/>
                  </a:lnTo>
                  <a:lnTo>
                    <a:pt x="2133" y="1763"/>
                  </a:lnTo>
                  <a:lnTo>
                    <a:pt x="2142" y="1755"/>
                  </a:lnTo>
                  <a:lnTo>
                    <a:pt x="2151" y="1752"/>
                  </a:lnTo>
                  <a:lnTo>
                    <a:pt x="2160" y="1749"/>
                  </a:lnTo>
                  <a:lnTo>
                    <a:pt x="2160" y="1737"/>
                  </a:lnTo>
                  <a:lnTo>
                    <a:pt x="2154" y="1729"/>
                  </a:lnTo>
                  <a:lnTo>
                    <a:pt x="2145" y="1729"/>
                  </a:lnTo>
                  <a:lnTo>
                    <a:pt x="2136" y="1734"/>
                  </a:lnTo>
                  <a:lnTo>
                    <a:pt x="2128" y="1740"/>
                  </a:lnTo>
                  <a:lnTo>
                    <a:pt x="2122" y="1749"/>
                  </a:lnTo>
                  <a:lnTo>
                    <a:pt x="2113" y="1755"/>
                  </a:lnTo>
                  <a:lnTo>
                    <a:pt x="2104" y="1757"/>
                  </a:lnTo>
                  <a:lnTo>
                    <a:pt x="2096" y="1763"/>
                  </a:lnTo>
                  <a:lnTo>
                    <a:pt x="2087" y="1763"/>
                  </a:lnTo>
                  <a:lnTo>
                    <a:pt x="2078" y="1766"/>
                  </a:lnTo>
                  <a:lnTo>
                    <a:pt x="2069" y="1769"/>
                  </a:lnTo>
                  <a:lnTo>
                    <a:pt x="2061" y="1772"/>
                  </a:lnTo>
                  <a:lnTo>
                    <a:pt x="2055" y="1780"/>
                  </a:lnTo>
                  <a:lnTo>
                    <a:pt x="2052" y="1789"/>
                  </a:lnTo>
                  <a:lnTo>
                    <a:pt x="2040" y="1792"/>
                  </a:lnTo>
                  <a:lnTo>
                    <a:pt x="2034" y="1801"/>
                  </a:lnTo>
                  <a:lnTo>
                    <a:pt x="2034" y="1809"/>
                  </a:lnTo>
                  <a:lnTo>
                    <a:pt x="2029" y="1818"/>
                  </a:lnTo>
                  <a:lnTo>
                    <a:pt x="2020" y="1824"/>
                  </a:lnTo>
                  <a:lnTo>
                    <a:pt x="2011" y="1827"/>
                  </a:lnTo>
                  <a:lnTo>
                    <a:pt x="2008" y="1815"/>
                  </a:lnTo>
                  <a:lnTo>
                    <a:pt x="2005" y="1806"/>
                  </a:lnTo>
                  <a:lnTo>
                    <a:pt x="2005" y="1798"/>
                  </a:lnTo>
                  <a:lnTo>
                    <a:pt x="1997" y="1789"/>
                  </a:lnTo>
                  <a:lnTo>
                    <a:pt x="1988" y="1780"/>
                  </a:lnTo>
                  <a:lnTo>
                    <a:pt x="1999" y="1780"/>
                  </a:lnTo>
                  <a:lnTo>
                    <a:pt x="2011" y="1778"/>
                  </a:lnTo>
                  <a:lnTo>
                    <a:pt x="2020" y="1775"/>
                  </a:lnTo>
                  <a:lnTo>
                    <a:pt x="2020" y="1766"/>
                  </a:lnTo>
                  <a:lnTo>
                    <a:pt x="2023" y="1757"/>
                  </a:lnTo>
                  <a:lnTo>
                    <a:pt x="2023" y="1749"/>
                  </a:lnTo>
                  <a:lnTo>
                    <a:pt x="2014" y="1743"/>
                  </a:lnTo>
                  <a:lnTo>
                    <a:pt x="2005" y="1740"/>
                  </a:lnTo>
                  <a:lnTo>
                    <a:pt x="1994" y="1740"/>
                  </a:lnTo>
                  <a:lnTo>
                    <a:pt x="1985" y="1737"/>
                  </a:lnTo>
                  <a:lnTo>
                    <a:pt x="1976" y="1731"/>
                  </a:lnTo>
                  <a:lnTo>
                    <a:pt x="1967" y="1729"/>
                  </a:lnTo>
                  <a:lnTo>
                    <a:pt x="1967" y="1737"/>
                  </a:lnTo>
                  <a:lnTo>
                    <a:pt x="1970" y="1746"/>
                  </a:lnTo>
                  <a:lnTo>
                    <a:pt x="1976" y="1755"/>
                  </a:lnTo>
                  <a:lnTo>
                    <a:pt x="1976" y="1763"/>
                  </a:lnTo>
                  <a:lnTo>
                    <a:pt x="1976" y="1772"/>
                  </a:lnTo>
                  <a:lnTo>
                    <a:pt x="1973" y="1780"/>
                  </a:lnTo>
                  <a:lnTo>
                    <a:pt x="1965" y="1789"/>
                  </a:lnTo>
                  <a:lnTo>
                    <a:pt x="1956" y="1795"/>
                  </a:lnTo>
                  <a:lnTo>
                    <a:pt x="1953" y="1803"/>
                  </a:lnTo>
                  <a:lnTo>
                    <a:pt x="1962" y="1806"/>
                  </a:lnTo>
                  <a:lnTo>
                    <a:pt x="1970" y="1806"/>
                  </a:lnTo>
                  <a:lnTo>
                    <a:pt x="1979" y="1806"/>
                  </a:lnTo>
                  <a:lnTo>
                    <a:pt x="1982" y="1815"/>
                  </a:lnTo>
                  <a:lnTo>
                    <a:pt x="1976" y="1824"/>
                  </a:lnTo>
                  <a:lnTo>
                    <a:pt x="1965" y="1832"/>
                  </a:lnTo>
                  <a:lnTo>
                    <a:pt x="1959" y="1841"/>
                  </a:lnTo>
                  <a:lnTo>
                    <a:pt x="1959" y="1850"/>
                  </a:lnTo>
                  <a:lnTo>
                    <a:pt x="1947" y="1838"/>
                  </a:lnTo>
                  <a:lnTo>
                    <a:pt x="1938" y="1835"/>
                  </a:lnTo>
                  <a:lnTo>
                    <a:pt x="1933" y="1827"/>
                  </a:lnTo>
                  <a:lnTo>
                    <a:pt x="1924" y="1821"/>
                  </a:lnTo>
                  <a:lnTo>
                    <a:pt x="1915" y="1821"/>
                  </a:lnTo>
                  <a:lnTo>
                    <a:pt x="1906" y="1829"/>
                  </a:lnTo>
                  <a:lnTo>
                    <a:pt x="1898" y="1835"/>
                  </a:lnTo>
                  <a:lnTo>
                    <a:pt x="1889" y="1838"/>
                  </a:lnTo>
                  <a:lnTo>
                    <a:pt x="1880" y="1841"/>
                  </a:lnTo>
                  <a:lnTo>
                    <a:pt x="1874" y="1850"/>
                  </a:lnTo>
                  <a:lnTo>
                    <a:pt x="1871" y="1858"/>
                  </a:lnTo>
                  <a:lnTo>
                    <a:pt x="1868" y="1867"/>
                  </a:lnTo>
                  <a:lnTo>
                    <a:pt x="1868" y="1876"/>
                  </a:lnTo>
                  <a:lnTo>
                    <a:pt x="1868" y="1884"/>
                  </a:lnTo>
                  <a:lnTo>
                    <a:pt x="1868" y="1893"/>
                  </a:lnTo>
                  <a:lnTo>
                    <a:pt x="1868" y="1901"/>
                  </a:lnTo>
                  <a:lnTo>
                    <a:pt x="1860" y="1907"/>
                  </a:lnTo>
                  <a:lnTo>
                    <a:pt x="1848" y="1901"/>
                  </a:lnTo>
                  <a:lnTo>
                    <a:pt x="1845" y="1893"/>
                  </a:lnTo>
                  <a:lnTo>
                    <a:pt x="1839" y="1884"/>
                  </a:lnTo>
                  <a:lnTo>
                    <a:pt x="1831" y="1876"/>
                  </a:lnTo>
                  <a:lnTo>
                    <a:pt x="1822" y="1870"/>
                  </a:lnTo>
                  <a:lnTo>
                    <a:pt x="1813" y="1867"/>
                  </a:lnTo>
                  <a:lnTo>
                    <a:pt x="1804" y="1867"/>
                  </a:lnTo>
                  <a:lnTo>
                    <a:pt x="1799" y="1876"/>
                  </a:lnTo>
                  <a:lnTo>
                    <a:pt x="1796" y="1884"/>
                  </a:lnTo>
                  <a:lnTo>
                    <a:pt x="1796" y="1893"/>
                  </a:lnTo>
                  <a:lnTo>
                    <a:pt x="1804" y="1899"/>
                  </a:lnTo>
                  <a:lnTo>
                    <a:pt x="1816" y="1901"/>
                  </a:lnTo>
                  <a:lnTo>
                    <a:pt x="1819" y="1910"/>
                  </a:lnTo>
                  <a:lnTo>
                    <a:pt x="1807" y="1910"/>
                  </a:lnTo>
                  <a:lnTo>
                    <a:pt x="1819" y="1893"/>
                  </a:lnTo>
                  <a:lnTo>
                    <a:pt x="1810" y="1896"/>
                  </a:lnTo>
                  <a:lnTo>
                    <a:pt x="1822" y="1899"/>
                  </a:lnTo>
                  <a:lnTo>
                    <a:pt x="1822" y="1910"/>
                  </a:lnTo>
                  <a:lnTo>
                    <a:pt x="1822" y="1919"/>
                  </a:lnTo>
                  <a:lnTo>
                    <a:pt x="1816" y="1927"/>
                  </a:lnTo>
                  <a:lnTo>
                    <a:pt x="1802" y="1927"/>
                  </a:lnTo>
                  <a:lnTo>
                    <a:pt x="1793" y="1922"/>
                  </a:lnTo>
                  <a:lnTo>
                    <a:pt x="1790" y="1913"/>
                  </a:lnTo>
                  <a:lnTo>
                    <a:pt x="1790" y="1904"/>
                  </a:lnTo>
                  <a:lnTo>
                    <a:pt x="1784" y="1896"/>
                  </a:lnTo>
                  <a:lnTo>
                    <a:pt x="1778" y="1887"/>
                  </a:lnTo>
                  <a:lnTo>
                    <a:pt x="1770" y="1878"/>
                  </a:lnTo>
                  <a:lnTo>
                    <a:pt x="1767" y="1870"/>
                  </a:lnTo>
                  <a:lnTo>
                    <a:pt x="1764" y="1861"/>
                  </a:lnTo>
                  <a:lnTo>
                    <a:pt x="1764" y="1850"/>
                  </a:lnTo>
                  <a:lnTo>
                    <a:pt x="1764" y="1841"/>
                  </a:lnTo>
                  <a:lnTo>
                    <a:pt x="1764" y="1832"/>
                  </a:lnTo>
                  <a:lnTo>
                    <a:pt x="1772" y="1827"/>
                  </a:lnTo>
                  <a:lnTo>
                    <a:pt x="1778" y="1818"/>
                  </a:lnTo>
                  <a:lnTo>
                    <a:pt x="1778" y="1809"/>
                  </a:lnTo>
                  <a:lnTo>
                    <a:pt x="1778" y="1801"/>
                  </a:lnTo>
                  <a:lnTo>
                    <a:pt x="1778" y="1792"/>
                  </a:lnTo>
                  <a:lnTo>
                    <a:pt x="1770" y="1783"/>
                  </a:lnTo>
                  <a:lnTo>
                    <a:pt x="1761" y="1778"/>
                  </a:lnTo>
                  <a:lnTo>
                    <a:pt x="1752" y="1772"/>
                  </a:lnTo>
                  <a:lnTo>
                    <a:pt x="1752" y="1763"/>
                  </a:lnTo>
                  <a:lnTo>
                    <a:pt x="1752" y="1752"/>
                  </a:lnTo>
                  <a:lnTo>
                    <a:pt x="1752" y="1743"/>
                  </a:lnTo>
                  <a:lnTo>
                    <a:pt x="1764" y="1749"/>
                  </a:lnTo>
                  <a:lnTo>
                    <a:pt x="1772" y="1757"/>
                  </a:lnTo>
                  <a:lnTo>
                    <a:pt x="1781" y="1763"/>
                  </a:lnTo>
                  <a:lnTo>
                    <a:pt x="1781" y="1772"/>
                  </a:lnTo>
                  <a:lnTo>
                    <a:pt x="1787" y="1783"/>
                  </a:lnTo>
                  <a:lnTo>
                    <a:pt x="1796" y="1789"/>
                  </a:lnTo>
                  <a:lnTo>
                    <a:pt x="1804" y="1795"/>
                  </a:lnTo>
                  <a:lnTo>
                    <a:pt x="1816" y="1801"/>
                  </a:lnTo>
                  <a:lnTo>
                    <a:pt x="1822" y="1809"/>
                  </a:lnTo>
                  <a:lnTo>
                    <a:pt x="1831" y="1815"/>
                  </a:lnTo>
                  <a:lnTo>
                    <a:pt x="1836" y="1824"/>
                  </a:lnTo>
                  <a:lnTo>
                    <a:pt x="1845" y="1829"/>
                  </a:lnTo>
                  <a:lnTo>
                    <a:pt x="1854" y="1835"/>
                  </a:lnTo>
                  <a:lnTo>
                    <a:pt x="1866" y="1835"/>
                  </a:lnTo>
                  <a:lnTo>
                    <a:pt x="1874" y="1835"/>
                  </a:lnTo>
                  <a:lnTo>
                    <a:pt x="1883" y="1835"/>
                  </a:lnTo>
                  <a:lnTo>
                    <a:pt x="1892" y="1829"/>
                  </a:lnTo>
                  <a:lnTo>
                    <a:pt x="1901" y="1827"/>
                  </a:lnTo>
                  <a:lnTo>
                    <a:pt x="1909" y="1818"/>
                  </a:lnTo>
                  <a:lnTo>
                    <a:pt x="1909" y="1809"/>
                  </a:lnTo>
                  <a:lnTo>
                    <a:pt x="1909" y="1801"/>
                  </a:lnTo>
                  <a:lnTo>
                    <a:pt x="1909" y="1792"/>
                  </a:lnTo>
                  <a:lnTo>
                    <a:pt x="1915" y="1783"/>
                  </a:lnTo>
                  <a:lnTo>
                    <a:pt x="1918" y="1775"/>
                  </a:lnTo>
                  <a:lnTo>
                    <a:pt x="1918" y="1766"/>
                  </a:lnTo>
                  <a:lnTo>
                    <a:pt x="1915" y="1757"/>
                  </a:lnTo>
                  <a:lnTo>
                    <a:pt x="1909" y="1749"/>
                  </a:lnTo>
                  <a:lnTo>
                    <a:pt x="1901" y="1740"/>
                  </a:lnTo>
                  <a:lnTo>
                    <a:pt x="1895" y="1731"/>
                  </a:lnTo>
                  <a:lnTo>
                    <a:pt x="1892" y="1720"/>
                  </a:lnTo>
                  <a:lnTo>
                    <a:pt x="1889" y="1711"/>
                  </a:lnTo>
                  <a:lnTo>
                    <a:pt x="1880" y="1706"/>
                  </a:lnTo>
                  <a:lnTo>
                    <a:pt x="1871" y="1697"/>
                  </a:lnTo>
                  <a:lnTo>
                    <a:pt x="1866" y="1688"/>
                  </a:lnTo>
                  <a:lnTo>
                    <a:pt x="1860" y="1680"/>
                  </a:lnTo>
                  <a:lnTo>
                    <a:pt x="1851" y="1671"/>
                  </a:lnTo>
                  <a:lnTo>
                    <a:pt x="1842" y="1665"/>
                  </a:lnTo>
                  <a:lnTo>
                    <a:pt x="1831" y="1662"/>
                  </a:lnTo>
                  <a:lnTo>
                    <a:pt x="1819" y="1657"/>
                  </a:lnTo>
                  <a:lnTo>
                    <a:pt x="1813" y="1648"/>
                  </a:lnTo>
                  <a:lnTo>
                    <a:pt x="1810" y="1639"/>
                  </a:lnTo>
                  <a:lnTo>
                    <a:pt x="1807" y="1631"/>
                  </a:lnTo>
                  <a:lnTo>
                    <a:pt x="1799" y="1622"/>
                  </a:lnTo>
                  <a:lnTo>
                    <a:pt x="1793" y="1613"/>
                  </a:lnTo>
                  <a:lnTo>
                    <a:pt x="1784" y="1613"/>
                  </a:lnTo>
                  <a:lnTo>
                    <a:pt x="1772" y="1613"/>
                  </a:lnTo>
                  <a:lnTo>
                    <a:pt x="1764" y="1608"/>
                  </a:lnTo>
                  <a:lnTo>
                    <a:pt x="1761" y="1599"/>
                  </a:lnTo>
                  <a:lnTo>
                    <a:pt x="1772" y="1596"/>
                  </a:lnTo>
                  <a:lnTo>
                    <a:pt x="1781" y="1596"/>
                  </a:lnTo>
                  <a:lnTo>
                    <a:pt x="1787" y="1587"/>
                  </a:lnTo>
                  <a:lnTo>
                    <a:pt x="1778" y="1579"/>
                  </a:lnTo>
                  <a:lnTo>
                    <a:pt x="1770" y="1576"/>
                  </a:lnTo>
                  <a:lnTo>
                    <a:pt x="1761" y="1573"/>
                  </a:lnTo>
                  <a:lnTo>
                    <a:pt x="1758" y="1564"/>
                  </a:lnTo>
                  <a:lnTo>
                    <a:pt x="1758" y="1556"/>
                  </a:lnTo>
                  <a:lnTo>
                    <a:pt x="1758" y="1547"/>
                  </a:lnTo>
                  <a:lnTo>
                    <a:pt x="1749" y="1547"/>
                  </a:lnTo>
                  <a:lnTo>
                    <a:pt x="1737" y="1553"/>
                  </a:lnTo>
                  <a:lnTo>
                    <a:pt x="1729" y="1553"/>
                  </a:lnTo>
                  <a:lnTo>
                    <a:pt x="1720" y="1556"/>
                  </a:lnTo>
                  <a:lnTo>
                    <a:pt x="1720" y="1547"/>
                  </a:lnTo>
                  <a:lnTo>
                    <a:pt x="1723" y="1538"/>
                  </a:lnTo>
                  <a:lnTo>
                    <a:pt x="1726" y="1550"/>
                  </a:lnTo>
                  <a:lnTo>
                    <a:pt x="1723" y="1559"/>
                  </a:lnTo>
                  <a:lnTo>
                    <a:pt x="1723" y="1567"/>
                  </a:lnTo>
                  <a:lnTo>
                    <a:pt x="1732" y="1567"/>
                  </a:lnTo>
                  <a:lnTo>
                    <a:pt x="1740" y="1556"/>
                  </a:lnTo>
                  <a:lnTo>
                    <a:pt x="1726" y="1553"/>
                  </a:lnTo>
                  <a:lnTo>
                    <a:pt x="1717" y="1553"/>
                  </a:lnTo>
                  <a:lnTo>
                    <a:pt x="1705" y="1553"/>
                  </a:lnTo>
                  <a:lnTo>
                    <a:pt x="1705" y="1541"/>
                  </a:lnTo>
                  <a:lnTo>
                    <a:pt x="1711" y="1533"/>
                  </a:lnTo>
                  <a:lnTo>
                    <a:pt x="1700" y="1535"/>
                  </a:lnTo>
                  <a:lnTo>
                    <a:pt x="1691" y="1541"/>
                  </a:lnTo>
                  <a:lnTo>
                    <a:pt x="1679" y="1544"/>
                  </a:lnTo>
                  <a:lnTo>
                    <a:pt x="1685" y="1533"/>
                  </a:lnTo>
                  <a:lnTo>
                    <a:pt x="1685" y="1524"/>
                  </a:lnTo>
                  <a:lnTo>
                    <a:pt x="1676" y="1524"/>
                  </a:lnTo>
                  <a:lnTo>
                    <a:pt x="1668" y="1533"/>
                  </a:lnTo>
                  <a:lnTo>
                    <a:pt x="1662" y="1541"/>
                  </a:lnTo>
                  <a:lnTo>
                    <a:pt x="1653" y="1544"/>
                  </a:lnTo>
                  <a:lnTo>
                    <a:pt x="1653" y="1535"/>
                  </a:lnTo>
                  <a:lnTo>
                    <a:pt x="1644" y="1541"/>
                  </a:lnTo>
                  <a:lnTo>
                    <a:pt x="1641" y="1550"/>
                  </a:lnTo>
                  <a:lnTo>
                    <a:pt x="1633" y="1547"/>
                  </a:lnTo>
                  <a:lnTo>
                    <a:pt x="1633" y="1538"/>
                  </a:lnTo>
                  <a:lnTo>
                    <a:pt x="1624" y="1538"/>
                  </a:lnTo>
                  <a:lnTo>
                    <a:pt x="1615" y="1541"/>
                  </a:lnTo>
                  <a:lnTo>
                    <a:pt x="1609" y="1550"/>
                  </a:lnTo>
                  <a:lnTo>
                    <a:pt x="1601" y="1541"/>
                  </a:lnTo>
                  <a:lnTo>
                    <a:pt x="1598" y="1533"/>
                  </a:lnTo>
                  <a:lnTo>
                    <a:pt x="1589" y="1535"/>
                  </a:lnTo>
                  <a:lnTo>
                    <a:pt x="1580" y="1541"/>
                  </a:lnTo>
                  <a:lnTo>
                    <a:pt x="1569" y="1538"/>
                  </a:lnTo>
                  <a:lnTo>
                    <a:pt x="1563" y="1547"/>
                  </a:lnTo>
                  <a:lnTo>
                    <a:pt x="1557" y="1559"/>
                  </a:lnTo>
                  <a:lnTo>
                    <a:pt x="1554" y="1567"/>
                  </a:lnTo>
                  <a:lnTo>
                    <a:pt x="1548" y="1576"/>
                  </a:lnTo>
                  <a:lnTo>
                    <a:pt x="1540" y="1576"/>
                  </a:lnTo>
                  <a:lnTo>
                    <a:pt x="1531" y="1576"/>
                  </a:lnTo>
                  <a:lnTo>
                    <a:pt x="1525" y="1564"/>
                  </a:lnTo>
                  <a:lnTo>
                    <a:pt x="1525" y="1556"/>
                  </a:lnTo>
                  <a:lnTo>
                    <a:pt x="1525" y="1547"/>
                  </a:lnTo>
                  <a:lnTo>
                    <a:pt x="1516" y="1544"/>
                  </a:lnTo>
                  <a:lnTo>
                    <a:pt x="1513" y="1553"/>
                  </a:lnTo>
                  <a:lnTo>
                    <a:pt x="1528" y="1541"/>
                  </a:lnTo>
                  <a:lnTo>
                    <a:pt x="1510" y="1530"/>
                  </a:lnTo>
                  <a:lnTo>
                    <a:pt x="1502" y="1530"/>
                  </a:lnTo>
                  <a:lnTo>
                    <a:pt x="1493" y="1538"/>
                  </a:lnTo>
                  <a:lnTo>
                    <a:pt x="1484" y="1544"/>
                  </a:lnTo>
                  <a:lnTo>
                    <a:pt x="1481" y="1553"/>
                  </a:lnTo>
                  <a:lnTo>
                    <a:pt x="1481" y="1561"/>
                  </a:lnTo>
                  <a:lnTo>
                    <a:pt x="1487" y="1570"/>
                  </a:lnTo>
                  <a:lnTo>
                    <a:pt x="1487" y="1579"/>
                  </a:lnTo>
                  <a:lnTo>
                    <a:pt x="1478" y="1587"/>
                  </a:lnTo>
                  <a:lnTo>
                    <a:pt x="1470" y="1590"/>
                  </a:lnTo>
                  <a:lnTo>
                    <a:pt x="1461" y="1599"/>
                  </a:lnTo>
                  <a:lnTo>
                    <a:pt x="1443" y="1599"/>
                  </a:lnTo>
                  <a:lnTo>
                    <a:pt x="1432" y="1599"/>
                  </a:lnTo>
                  <a:lnTo>
                    <a:pt x="1426" y="1610"/>
                  </a:lnTo>
                  <a:lnTo>
                    <a:pt x="1420" y="1619"/>
                  </a:lnTo>
                  <a:lnTo>
                    <a:pt x="1429" y="1619"/>
                  </a:lnTo>
                  <a:lnTo>
                    <a:pt x="1417" y="1628"/>
                  </a:lnTo>
                  <a:lnTo>
                    <a:pt x="1406" y="1628"/>
                  </a:lnTo>
                  <a:lnTo>
                    <a:pt x="1397" y="1628"/>
                  </a:lnTo>
                  <a:lnTo>
                    <a:pt x="1388" y="1628"/>
                  </a:lnTo>
                  <a:lnTo>
                    <a:pt x="1382" y="1636"/>
                  </a:lnTo>
                  <a:lnTo>
                    <a:pt x="1379" y="1645"/>
                  </a:lnTo>
                  <a:lnTo>
                    <a:pt x="1371" y="1645"/>
                  </a:lnTo>
                  <a:lnTo>
                    <a:pt x="1362" y="1645"/>
                  </a:lnTo>
                  <a:lnTo>
                    <a:pt x="1356" y="1654"/>
                  </a:lnTo>
                  <a:lnTo>
                    <a:pt x="1347" y="1657"/>
                  </a:lnTo>
                  <a:lnTo>
                    <a:pt x="1336" y="1659"/>
                  </a:lnTo>
                  <a:lnTo>
                    <a:pt x="1327" y="1659"/>
                  </a:lnTo>
                  <a:lnTo>
                    <a:pt x="1318" y="1662"/>
                  </a:lnTo>
                  <a:lnTo>
                    <a:pt x="1310" y="1662"/>
                  </a:lnTo>
                  <a:lnTo>
                    <a:pt x="1298" y="1662"/>
                  </a:lnTo>
                  <a:lnTo>
                    <a:pt x="1289" y="1665"/>
                  </a:lnTo>
                  <a:lnTo>
                    <a:pt x="1280" y="1671"/>
                  </a:lnTo>
                  <a:lnTo>
                    <a:pt x="1278" y="1680"/>
                  </a:lnTo>
                  <a:lnTo>
                    <a:pt x="1280" y="1691"/>
                  </a:lnTo>
                  <a:lnTo>
                    <a:pt x="1289" y="1694"/>
                  </a:lnTo>
                  <a:lnTo>
                    <a:pt x="1301" y="1697"/>
                  </a:lnTo>
                  <a:lnTo>
                    <a:pt x="1312" y="1697"/>
                  </a:lnTo>
                  <a:lnTo>
                    <a:pt x="1321" y="1697"/>
                  </a:lnTo>
                  <a:lnTo>
                    <a:pt x="1310" y="1694"/>
                  </a:lnTo>
                  <a:lnTo>
                    <a:pt x="1298" y="1694"/>
                  </a:lnTo>
                  <a:lnTo>
                    <a:pt x="1289" y="1691"/>
                  </a:lnTo>
                  <a:lnTo>
                    <a:pt x="1304" y="1685"/>
                  </a:lnTo>
                  <a:lnTo>
                    <a:pt x="1312" y="1685"/>
                  </a:lnTo>
                  <a:lnTo>
                    <a:pt x="1321" y="1685"/>
                  </a:lnTo>
                  <a:lnTo>
                    <a:pt x="1312" y="1682"/>
                  </a:lnTo>
                  <a:lnTo>
                    <a:pt x="1301" y="1685"/>
                  </a:lnTo>
                  <a:lnTo>
                    <a:pt x="1292" y="1685"/>
                  </a:lnTo>
                  <a:lnTo>
                    <a:pt x="1286" y="1677"/>
                  </a:lnTo>
                  <a:lnTo>
                    <a:pt x="1275" y="1668"/>
                  </a:lnTo>
                  <a:lnTo>
                    <a:pt x="1266" y="1665"/>
                  </a:lnTo>
                  <a:lnTo>
                    <a:pt x="1248" y="1659"/>
                  </a:lnTo>
                  <a:lnTo>
                    <a:pt x="1240" y="1659"/>
                  </a:lnTo>
                  <a:lnTo>
                    <a:pt x="1234" y="1668"/>
                  </a:lnTo>
                  <a:lnTo>
                    <a:pt x="1225" y="1671"/>
                  </a:lnTo>
                  <a:lnTo>
                    <a:pt x="1216" y="1674"/>
                  </a:lnTo>
                  <a:lnTo>
                    <a:pt x="1208" y="1674"/>
                  </a:lnTo>
                  <a:lnTo>
                    <a:pt x="1199" y="1671"/>
                  </a:lnTo>
                  <a:lnTo>
                    <a:pt x="1190" y="1674"/>
                  </a:lnTo>
                  <a:lnTo>
                    <a:pt x="1176" y="1671"/>
                  </a:lnTo>
                  <a:lnTo>
                    <a:pt x="1167" y="1668"/>
                  </a:lnTo>
                  <a:lnTo>
                    <a:pt x="1161" y="1677"/>
                  </a:lnTo>
                  <a:lnTo>
                    <a:pt x="1152" y="1682"/>
                  </a:lnTo>
                  <a:lnTo>
                    <a:pt x="1144" y="1682"/>
                  </a:lnTo>
                  <a:lnTo>
                    <a:pt x="1132" y="1682"/>
                  </a:lnTo>
                  <a:lnTo>
                    <a:pt x="1132" y="1691"/>
                  </a:lnTo>
                  <a:lnTo>
                    <a:pt x="1132" y="1700"/>
                  </a:lnTo>
                  <a:lnTo>
                    <a:pt x="1147" y="1708"/>
                  </a:lnTo>
                  <a:lnTo>
                    <a:pt x="1155" y="1720"/>
                  </a:lnTo>
                  <a:lnTo>
                    <a:pt x="1158" y="1729"/>
                  </a:lnTo>
                  <a:lnTo>
                    <a:pt x="1158" y="1737"/>
                  </a:lnTo>
                  <a:lnTo>
                    <a:pt x="1161" y="1746"/>
                  </a:lnTo>
                  <a:lnTo>
                    <a:pt x="1161" y="1737"/>
                  </a:lnTo>
                  <a:lnTo>
                    <a:pt x="1155" y="1726"/>
                  </a:lnTo>
                  <a:lnTo>
                    <a:pt x="1152" y="1717"/>
                  </a:lnTo>
                  <a:lnTo>
                    <a:pt x="1138" y="1717"/>
                  </a:lnTo>
                  <a:lnTo>
                    <a:pt x="1129" y="1711"/>
                  </a:lnTo>
                  <a:lnTo>
                    <a:pt x="1120" y="1711"/>
                  </a:lnTo>
                  <a:lnTo>
                    <a:pt x="1117" y="1720"/>
                  </a:lnTo>
                  <a:lnTo>
                    <a:pt x="1114" y="1731"/>
                  </a:lnTo>
                  <a:lnTo>
                    <a:pt x="1114" y="1740"/>
                  </a:lnTo>
                  <a:lnTo>
                    <a:pt x="1126" y="1740"/>
                  </a:lnTo>
                  <a:lnTo>
                    <a:pt x="1138" y="1743"/>
                  </a:lnTo>
                  <a:lnTo>
                    <a:pt x="1129" y="1743"/>
                  </a:lnTo>
                  <a:lnTo>
                    <a:pt x="1120" y="1743"/>
                  </a:lnTo>
                  <a:lnTo>
                    <a:pt x="1112" y="1746"/>
                  </a:lnTo>
                  <a:lnTo>
                    <a:pt x="1103" y="1752"/>
                  </a:lnTo>
                  <a:lnTo>
                    <a:pt x="1094" y="1755"/>
                  </a:lnTo>
                  <a:lnTo>
                    <a:pt x="1085" y="1763"/>
                  </a:lnTo>
                  <a:lnTo>
                    <a:pt x="1077" y="1766"/>
                  </a:lnTo>
                  <a:lnTo>
                    <a:pt x="1068" y="1766"/>
                  </a:lnTo>
                  <a:lnTo>
                    <a:pt x="1077" y="1772"/>
                  </a:lnTo>
                  <a:lnTo>
                    <a:pt x="1085" y="1772"/>
                  </a:lnTo>
                  <a:lnTo>
                    <a:pt x="1097" y="1775"/>
                  </a:lnTo>
                  <a:lnTo>
                    <a:pt x="1091" y="1783"/>
                  </a:lnTo>
                  <a:lnTo>
                    <a:pt x="1080" y="1786"/>
                  </a:lnTo>
                  <a:lnTo>
                    <a:pt x="1071" y="1786"/>
                  </a:lnTo>
                  <a:lnTo>
                    <a:pt x="1062" y="1789"/>
                  </a:lnTo>
                  <a:lnTo>
                    <a:pt x="1056" y="1798"/>
                  </a:lnTo>
                  <a:lnTo>
                    <a:pt x="1056" y="1806"/>
                  </a:lnTo>
                  <a:lnTo>
                    <a:pt x="1056" y="1815"/>
                  </a:lnTo>
                  <a:lnTo>
                    <a:pt x="1056" y="1824"/>
                  </a:lnTo>
                  <a:lnTo>
                    <a:pt x="1056" y="1832"/>
                  </a:lnTo>
                  <a:lnTo>
                    <a:pt x="1056" y="1841"/>
                  </a:lnTo>
                  <a:lnTo>
                    <a:pt x="1062" y="1850"/>
                  </a:lnTo>
                  <a:lnTo>
                    <a:pt x="1074" y="1855"/>
                  </a:lnTo>
                  <a:lnTo>
                    <a:pt x="1082" y="1855"/>
                  </a:lnTo>
                  <a:lnTo>
                    <a:pt x="1091" y="1855"/>
                  </a:lnTo>
                  <a:lnTo>
                    <a:pt x="1103" y="1855"/>
                  </a:lnTo>
                  <a:lnTo>
                    <a:pt x="1112" y="1855"/>
                  </a:lnTo>
                  <a:lnTo>
                    <a:pt x="1120" y="1855"/>
                  </a:lnTo>
                  <a:lnTo>
                    <a:pt x="1132" y="1855"/>
                  </a:lnTo>
                  <a:lnTo>
                    <a:pt x="1144" y="1855"/>
                  </a:lnTo>
                  <a:lnTo>
                    <a:pt x="1152" y="1852"/>
                  </a:lnTo>
                  <a:lnTo>
                    <a:pt x="1167" y="1852"/>
                  </a:lnTo>
                  <a:lnTo>
                    <a:pt x="1176" y="1844"/>
                  </a:lnTo>
                  <a:lnTo>
                    <a:pt x="1179" y="1835"/>
                  </a:lnTo>
                  <a:lnTo>
                    <a:pt x="1181" y="1827"/>
                  </a:lnTo>
                  <a:lnTo>
                    <a:pt x="1184" y="1835"/>
                  </a:lnTo>
                  <a:lnTo>
                    <a:pt x="1184" y="1844"/>
                  </a:lnTo>
                  <a:lnTo>
                    <a:pt x="1181" y="1852"/>
                  </a:lnTo>
                  <a:lnTo>
                    <a:pt x="1170" y="1858"/>
                  </a:lnTo>
                  <a:lnTo>
                    <a:pt x="1173" y="1867"/>
                  </a:lnTo>
                  <a:lnTo>
                    <a:pt x="1170" y="1876"/>
                  </a:lnTo>
                  <a:lnTo>
                    <a:pt x="1164" y="1884"/>
                  </a:lnTo>
                  <a:lnTo>
                    <a:pt x="1161" y="1893"/>
                  </a:lnTo>
                  <a:lnTo>
                    <a:pt x="1161" y="1901"/>
                  </a:lnTo>
                  <a:lnTo>
                    <a:pt x="1158" y="1910"/>
                  </a:lnTo>
                  <a:lnTo>
                    <a:pt x="1149" y="1913"/>
                  </a:lnTo>
                  <a:lnTo>
                    <a:pt x="1147" y="1922"/>
                  </a:lnTo>
                  <a:lnTo>
                    <a:pt x="1147" y="1930"/>
                  </a:lnTo>
                  <a:lnTo>
                    <a:pt x="1144" y="1939"/>
                  </a:lnTo>
                  <a:lnTo>
                    <a:pt x="1144" y="1948"/>
                  </a:lnTo>
                  <a:lnTo>
                    <a:pt x="1141" y="1956"/>
                  </a:lnTo>
                  <a:lnTo>
                    <a:pt x="1141" y="1968"/>
                  </a:lnTo>
                  <a:lnTo>
                    <a:pt x="1141" y="1976"/>
                  </a:lnTo>
                  <a:lnTo>
                    <a:pt x="1155" y="1956"/>
                  </a:lnTo>
                  <a:lnTo>
                    <a:pt x="1144" y="1956"/>
                  </a:lnTo>
                  <a:lnTo>
                    <a:pt x="1144" y="1965"/>
                  </a:lnTo>
                  <a:lnTo>
                    <a:pt x="1144" y="1974"/>
                  </a:lnTo>
                  <a:lnTo>
                    <a:pt x="1144" y="1982"/>
                  </a:lnTo>
                  <a:lnTo>
                    <a:pt x="1138" y="1991"/>
                  </a:lnTo>
                  <a:lnTo>
                    <a:pt x="1129" y="1997"/>
                  </a:lnTo>
                  <a:lnTo>
                    <a:pt x="1120" y="1997"/>
                  </a:lnTo>
                  <a:lnTo>
                    <a:pt x="1117" y="2005"/>
                  </a:lnTo>
                  <a:lnTo>
                    <a:pt x="1117" y="2014"/>
                  </a:lnTo>
                  <a:lnTo>
                    <a:pt x="1117" y="2023"/>
                  </a:lnTo>
                  <a:lnTo>
                    <a:pt x="1117" y="2031"/>
                  </a:lnTo>
                  <a:lnTo>
                    <a:pt x="1120" y="2040"/>
                  </a:lnTo>
                  <a:lnTo>
                    <a:pt x="1129" y="2046"/>
                  </a:lnTo>
                  <a:lnTo>
                    <a:pt x="1144" y="2054"/>
                  </a:lnTo>
                  <a:lnTo>
                    <a:pt x="1152" y="2054"/>
                  </a:lnTo>
                  <a:lnTo>
                    <a:pt x="1158" y="2046"/>
                  </a:lnTo>
                  <a:lnTo>
                    <a:pt x="1158" y="2037"/>
                  </a:lnTo>
                  <a:lnTo>
                    <a:pt x="1170" y="2037"/>
                  </a:lnTo>
                  <a:lnTo>
                    <a:pt x="1179" y="2037"/>
                  </a:lnTo>
                  <a:lnTo>
                    <a:pt x="1187" y="2037"/>
                  </a:lnTo>
                  <a:lnTo>
                    <a:pt x="1199" y="2037"/>
                  </a:lnTo>
                  <a:lnTo>
                    <a:pt x="1208" y="2040"/>
                  </a:lnTo>
                  <a:lnTo>
                    <a:pt x="1216" y="2043"/>
                  </a:lnTo>
                  <a:lnTo>
                    <a:pt x="1225" y="2040"/>
                  </a:lnTo>
                  <a:lnTo>
                    <a:pt x="1228" y="2031"/>
                  </a:lnTo>
                  <a:lnTo>
                    <a:pt x="1231" y="2023"/>
                  </a:lnTo>
                  <a:lnTo>
                    <a:pt x="1237" y="2014"/>
                  </a:lnTo>
                  <a:lnTo>
                    <a:pt x="1245" y="2005"/>
                  </a:lnTo>
                  <a:lnTo>
                    <a:pt x="1251" y="1997"/>
                  </a:lnTo>
                  <a:lnTo>
                    <a:pt x="1260" y="1991"/>
                  </a:lnTo>
                  <a:lnTo>
                    <a:pt x="1266" y="1982"/>
                  </a:lnTo>
                  <a:lnTo>
                    <a:pt x="1269" y="1974"/>
                  </a:lnTo>
                  <a:lnTo>
                    <a:pt x="1272" y="1965"/>
                  </a:lnTo>
                  <a:lnTo>
                    <a:pt x="1280" y="1962"/>
                  </a:lnTo>
                  <a:lnTo>
                    <a:pt x="1289" y="1962"/>
                  </a:lnTo>
                  <a:lnTo>
                    <a:pt x="1298" y="1959"/>
                  </a:lnTo>
                  <a:lnTo>
                    <a:pt x="1301" y="1950"/>
                  </a:lnTo>
                  <a:lnTo>
                    <a:pt x="1304" y="1942"/>
                  </a:lnTo>
                  <a:lnTo>
                    <a:pt x="1301" y="1933"/>
                  </a:lnTo>
                  <a:lnTo>
                    <a:pt x="1292" y="1925"/>
                  </a:lnTo>
                  <a:lnTo>
                    <a:pt x="1301" y="1919"/>
                  </a:lnTo>
                  <a:lnTo>
                    <a:pt x="1310" y="1927"/>
                  </a:lnTo>
                  <a:lnTo>
                    <a:pt x="1318" y="1933"/>
                  </a:lnTo>
                  <a:lnTo>
                    <a:pt x="1324" y="1942"/>
                  </a:lnTo>
                  <a:lnTo>
                    <a:pt x="1333" y="1950"/>
                  </a:lnTo>
                  <a:lnTo>
                    <a:pt x="1342" y="1950"/>
                  </a:lnTo>
                  <a:lnTo>
                    <a:pt x="1350" y="1950"/>
                  </a:lnTo>
                  <a:lnTo>
                    <a:pt x="1353" y="1942"/>
                  </a:lnTo>
                  <a:lnTo>
                    <a:pt x="1353" y="1933"/>
                  </a:lnTo>
                  <a:lnTo>
                    <a:pt x="1356" y="1925"/>
                  </a:lnTo>
                  <a:lnTo>
                    <a:pt x="1356" y="1916"/>
                  </a:lnTo>
                  <a:lnTo>
                    <a:pt x="1359" y="1907"/>
                  </a:lnTo>
                  <a:lnTo>
                    <a:pt x="1359" y="1899"/>
                  </a:lnTo>
                  <a:lnTo>
                    <a:pt x="1356" y="1890"/>
                  </a:lnTo>
                  <a:lnTo>
                    <a:pt x="1347" y="1881"/>
                  </a:lnTo>
                  <a:lnTo>
                    <a:pt x="1347" y="1870"/>
                  </a:lnTo>
                  <a:lnTo>
                    <a:pt x="1347" y="1861"/>
                  </a:lnTo>
                  <a:lnTo>
                    <a:pt x="1356" y="1855"/>
                  </a:lnTo>
                  <a:lnTo>
                    <a:pt x="1362" y="1847"/>
                  </a:lnTo>
                  <a:lnTo>
                    <a:pt x="1371" y="1844"/>
                  </a:lnTo>
                  <a:lnTo>
                    <a:pt x="1379" y="1835"/>
                  </a:lnTo>
                  <a:lnTo>
                    <a:pt x="1382" y="1827"/>
                  </a:lnTo>
                  <a:lnTo>
                    <a:pt x="1391" y="1821"/>
                  </a:lnTo>
                  <a:lnTo>
                    <a:pt x="1400" y="1815"/>
                  </a:lnTo>
                  <a:lnTo>
                    <a:pt x="1406" y="1806"/>
                  </a:lnTo>
                  <a:lnTo>
                    <a:pt x="1414" y="1801"/>
                  </a:lnTo>
                  <a:lnTo>
                    <a:pt x="1423" y="1801"/>
                  </a:lnTo>
                  <a:lnTo>
                    <a:pt x="1435" y="1798"/>
                  </a:lnTo>
                  <a:lnTo>
                    <a:pt x="1443" y="1792"/>
                  </a:lnTo>
                  <a:lnTo>
                    <a:pt x="1452" y="1792"/>
                  </a:lnTo>
                  <a:lnTo>
                    <a:pt x="1464" y="1789"/>
                  </a:lnTo>
                  <a:lnTo>
                    <a:pt x="1473" y="1789"/>
                  </a:lnTo>
                  <a:lnTo>
                    <a:pt x="1481" y="1789"/>
                  </a:lnTo>
                  <a:lnTo>
                    <a:pt x="1490" y="1786"/>
                  </a:lnTo>
                  <a:lnTo>
                    <a:pt x="1499" y="1786"/>
                  </a:lnTo>
                  <a:lnTo>
                    <a:pt x="1508" y="1786"/>
                  </a:lnTo>
                  <a:lnTo>
                    <a:pt x="1516" y="1783"/>
                  </a:lnTo>
                  <a:lnTo>
                    <a:pt x="1516" y="1775"/>
                  </a:lnTo>
                  <a:lnTo>
                    <a:pt x="1516" y="1766"/>
                  </a:lnTo>
                  <a:lnTo>
                    <a:pt x="1513" y="1757"/>
                  </a:lnTo>
                  <a:lnTo>
                    <a:pt x="1522" y="1752"/>
                  </a:lnTo>
                  <a:lnTo>
                    <a:pt x="1528" y="1743"/>
                  </a:lnTo>
                  <a:lnTo>
                    <a:pt x="1537" y="1737"/>
                  </a:lnTo>
                  <a:lnTo>
                    <a:pt x="1545" y="1737"/>
                  </a:lnTo>
                  <a:lnTo>
                    <a:pt x="1554" y="1734"/>
                  </a:lnTo>
                  <a:lnTo>
                    <a:pt x="1563" y="1729"/>
                  </a:lnTo>
                  <a:lnTo>
                    <a:pt x="1572" y="1729"/>
                  </a:lnTo>
                  <a:lnTo>
                    <a:pt x="1580" y="1737"/>
                  </a:lnTo>
                  <a:lnTo>
                    <a:pt x="1589" y="1743"/>
                  </a:lnTo>
                  <a:lnTo>
                    <a:pt x="1598" y="1749"/>
                  </a:lnTo>
                  <a:lnTo>
                    <a:pt x="1601" y="1757"/>
                  </a:lnTo>
                  <a:lnTo>
                    <a:pt x="1601" y="1766"/>
                  </a:lnTo>
                  <a:lnTo>
                    <a:pt x="1604" y="1775"/>
                  </a:lnTo>
                  <a:lnTo>
                    <a:pt x="1604" y="1783"/>
                  </a:lnTo>
                  <a:lnTo>
                    <a:pt x="1592" y="1789"/>
                  </a:lnTo>
                  <a:lnTo>
                    <a:pt x="1580" y="1789"/>
                  </a:lnTo>
                  <a:lnTo>
                    <a:pt x="1572" y="1792"/>
                  </a:lnTo>
                  <a:lnTo>
                    <a:pt x="1566" y="1801"/>
                  </a:lnTo>
                  <a:lnTo>
                    <a:pt x="1557" y="1806"/>
                  </a:lnTo>
                  <a:lnTo>
                    <a:pt x="1548" y="1812"/>
                  </a:lnTo>
                  <a:lnTo>
                    <a:pt x="1537" y="1815"/>
                  </a:lnTo>
                  <a:lnTo>
                    <a:pt x="1528" y="1818"/>
                  </a:lnTo>
                  <a:lnTo>
                    <a:pt x="1519" y="1824"/>
                  </a:lnTo>
                  <a:lnTo>
                    <a:pt x="1510" y="1829"/>
                  </a:lnTo>
                  <a:lnTo>
                    <a:pt x="1502" y="1829"/>
                  </a:lnTo>
                  <a:lnTo>
                    <a:pt x="1490" y="1832"/>
                  </a:lnTo>
                  <a:lnTo>
                    <a:pt x="1481" y="1835"/>
                  </a:lnTo>
                  <a:lnTo>
                    <a:pt x="1473" y="1835"/>
                  </a:lnTo>
                  <a:lnTo>
                    <a:pt x="1464" y="1841"/>
                  </a:lnTo>
                  <a:lnTo>
                    <a:pt x="1458" y="1850"/>
                  </a:lnTo>
                  <a:lnTo>
                    <a:pt x="1452" y="1858"/>
                  </a:lnTo>
                  <a:lnTo>
                    <a:pt x="1449" y="1867"/>
                  </a:lnTo>
                  <a:lnTo>
                    <a:pt x="1449" y="1876"/>
                  </a:lnTo>
                  <a:lnTo>
                    <a:pt x="1446" y="1884"/>
                  </a:lnTo>
                  <a:lnTo>
                    <a:pt x="1443" y="1893"/>
                  </a:lnTo>
                  <a:lnTo>
                    <a:pt x="1438" y="1901"/>
                  </a:lnTo>
                  <a:lnTo>
                    <a:pt x="1435" y="1910"/>
                  </a:lnTo>
                  <a:lnTo>
                    <a:pt x="1429" y="1919"/>
                  </a:lnTo>
                  <a:lnTo>
                    <a:pt x="1426" y="1927"/>
                  </a:lnTo>
                  <a:lnTo>
                    <a:pt x="1423" y="1936"/>
                  </a:lnTo>
                  <a:lnTo>
                    <a:pt x="1423" y="1945"/>
                  </a:lnTo>
                  <a:lnTo>
                    <a:pt x="1417" y="1953"/>
                  </a:lnTo>
                  <a:lnTo>
                    <a:pt x="1417" y="1962"/>
                  </a:lnTo>
                  <a:lnTo>
                    <a:pt x="1426" y="1962"/>
                  </a:lnTo>
                  <a:lnTo>
                    <a:pt x="1435" y="1974"/>
                  </a:lnTo>
                  <a:lnTo>
                    <a:pt x="1441" y="1982"/>
                  </a:lnTo>
                  <a:lnTo>
                    <a:pt x="1441" y="1991"/>
                  </a:lnTo>
                  <a:lnTo>
                    <a:pt x="1449" y="1991"/>
                  </a:lnTo>
                  <a:lnTo>
                    <a:pt x="1461" y="1991"/>
                  </a:lnTo>
                  <a:lnTo>
                    <a:pt x="1470" y="1991"/>
                  </a:lnTo>
                  <a:lnTo>
                    <a:pt x="1484" y="1994"/>
                  </a:lnTo>
                  <a:lnTo>
                    <a:pt x="1493" y="1994"/>
                  </a:lnTo>
                  <a:lnTo>
                    <a:pt x="1502" y="1994"/>
                  </a:lnTo>
                  <a:lnTo>
                    <a:pt x="1510" y="1991"/>
                  </a:lnTo>
                  <a:lnTo>
                    <a:pt x="1519" y="1997"/>
                  </a:lnTo>
                  <a:lnTo>
                    <a:pt x="1531" y="1988"/>
                  </a:lnTo>
                  <a:lnTo>
                    <a:pt x="1540" y="1991"/>
                  </a:lnTo>
                  <a:lnTo>
                    <a:pt x="1548" y="1994"/>
                  </a:lnTo>
                  <a:lnTo>
                    <a:pt x="1557" y="1997"/>
                  </a:lnTo>
                  <a:lnTo>
                    <a:pt x="1566" y="1997"/>
                  </a:lnTo>
                  <a:lnTo>
                    <a:pt x="1569" y="2005"/>
                  </a:lnTo>
                  <a:lnTo>
                    <a:pt x="1569" y="2014"/>
                  </a:lnTo>
                  <a:lnTo>
                    <a:pt x="1569" y="2023"/>
                  </a:lnTo>
                  <a:lnTo>
                    <a:pt x="1572" y="2031"/>
                  </a:lnTo>
                  <a:lnTo>
                    <a:pt x="1577" y="2040"/>
                  </a:lnTo>
                  <a:lnTo>
                    <a:pt x="1586" y="2048"/>
                  </a:lnTo>
                  <a:lnTo>
                    <a:pt x="1577" y="2040"/>
                  </a:lnTo>
                  <a:lnTo>
                    <a:pt x="1569" y="2037"/>
                  </a:lnTo>
                  <a:lnTo>
                    <a:pt x="1557" y="2037"/>
                  </a:lnTo>
                  <a:lnTo>
                    <a:pt x="1548" y="2040"/>
                  </a:lnTo>
                  <a:lnTo>
                    <a:pt x="1548" y="2048"/>
                  </a:lnTo>
                  <a:lnTo>
                    <a:pt x="1540" y="2054"/>
                  </a:lnTo>
                  <a:lnTo>
                    <a:pt x="1531" y="2051"/>
                  </a:lnTo>
                  <a:lnTo>
                    <a:pt x="1522" y="2043"/>
                  </a:lnTo>
                  <a:lnTo>
                    <a:pt x="1513" y="2034"/>
                  </a:lnTo>
                  <a:lnTo>
                    <a:pt x="1505" y="2031"/>
                  </a:lnTo>
                  <a:lnTo>
                    <a:pt x="1496" y="2031"/>
                  </a:lnTo>
                  <a:lnTo>
                    <a:pt x="1487" y="2028"/>
                  </a:lnTo>
                  <a:lnTo>
                    <a:pt x="1478" y="2025"/>
                  </a:lnTo>
                  <a:lnTo>
                    <a:pt x="1470" y="2023"/>
                  </a:lnTo>
                  <a:lnTo>
                    <a:pt x="1461" y="2020"/>
                  </a:lnTo>
                  <a:lnTo>
                    <a:pt x="1452" y="2017"/>
                  </a:lnTo>
                  <a:lnTo>
                    <a:pt x="1441" y="2011"/>
                  </a:lnTo>
                  <a:lnTo>
                    <a:pt x="1432" y="2011"/>
                  </a:lnTo>
                  <a:lnTo>
                    <a:pt x="1426" y="2020"/>
                  </a:lnTo>
                  <a:lnTo>
                    <a:pt x="1426" y="2028"/>
                  </a:lnTo>
                  <a:lnTo>
                    <a:pt x="1423" y="2037"/>
                  </a:lnTo>
                  <a:lnTo>
                    <a:pt x="1417" y="2046"/>
                  </a:lnTo>
                  <a:lnTo>
                    <a:pt x="1414" y="2054"/>
                  </a:lnTo>
                  <a:lnTo>
                    <a:pt x="1426" y="2060"/>
                  </a:lnTo>
                  <a:lnTo>
                    <a:pt x="1432" y="2069"/>
                  </a:lnTo>
                  <a:lnTo>
                    <a:pt x="1429" y="2077"/>
                  </a:lnTo>
                  <a:lnTo>
                    <a:pt x="1423" y="2086"/>
                  </a:lnTo>
                  <a:lnTo>
                    <a:pt x="1414" y="2089"/>
                  </a:lnTo>
                  <a:lnTo>
                    <a:pt x="1409" y="2097"/>
                  </a:lnTo>
                  <a:lnTo>
                    <a:pt x="1403" y="2106"/>
                  </a:lnTo>
                  <a:lnTo>
                    <a:pt x="1400" y="2115"/>
                  </a:lnTo>
                  <a:lnTo>
                    <a:pt x="1391" y="2112"/>
                  </a:lnTo>
                  <a:lnTo>
                    <a:pt x="1388" y="2103"/>
                  </a:lnTo>
                  <a:lnTo>
                    <a:pt x="1385" y="2095"/>
                  </a:lnTo>
                  <a:lnTo>
                    <a:pt x="1382" y="2086"/>
                  </a:lnTo>
                  <a:lnTo>
                    <a:pt x="1382" y="2077"/>
                  </a:lnTo>
                  <a:lnTo>
                    <a:pt x="1379" y="2069"/>
                  </a:lnTo>
                  <a:lnTo>
                    <a:pt x="1371" y="2063"/>
                  </a:lnTo>
                  <a:lnTo>
                    <a:pt x="1359" y="2063"/>
                  </a:lnTo>
                  <a:lnTo>
                    <a:pt x="1350" y="2063"/>
                  </a:lnTo>
                  <a:lnTo>
                    <a:pt x="1344" y="2072"/>
                  </a:lnTo>
                  <a:lnTo>
                    <a:pt x="1339" y="2080"/>
                  </a:lnTo>
                  <a:lnTo>
                    <a:pt x="1333" y="2089"/>
                  </a:lnTo>
                  <a:lnTo>
                    <a:pt x="1327" y="2097"/>
                  </a:lnTo>
                  <a:lnTo>
                    <a:pt x="1321" y="2106"/>
                  </a:lnTo>
                  <a:lnTo>
                    <a:pt x="1312" y="2109"/>
                  </a:lnTo>
                  <a:lnTo>
                    <a:pt x="1304" y="2112"/>
                  </a:lnTo>
                  <a:lnTo>
                    <a:pt x="1304" y="2120"/>
                  </a:lnTo>
                  <a:lnTo>
                    <a:pt x="1301" y="2129"/>
                  </a:lnTo>
                  <a:lnTo>
                    <a:pt x="1298" y="2138"/>
                  </a:lnTo>
                  <a:lnTo>
                    <a:pt x="1295" y="2146"/>
                  </a:lnTo>
                  <a:lnTo>
                    <a:pt x="1295" y="2095"/>
                  </a:lnTo>
                  <a:lnTo>
                    <a:pt x="1304" y="2103"/>
                  </a:lnTo>
                  <a:lnTo>
                    <a:pt x="1304" y="2115"/>
                  </a:lnTo>
                  <a:lnTo>
                    <a:pt x="1301" y="2123"/>
                  </a:lnTo>
                  <a:lnTo>
                    <a:pt x="1298" y="2132"/>
                  </a:lnTo>
                  <a:lnTo>
                    <a:pt x="1298" y="2141"/>
                  </a:lnTo>
                  <a:lnTo>
                    <a:pt x="1295" y="2149"/>
                  </a:lnTo>
                  <a:lnTo>
                    <a:pt x="1292" y="2161"/>
                  </a:lnTo>
                  <a:lnTo>
                    <a:pt x="1289" y="2169"/>
                  </a:lnTo>
                  <a:lnTo>
                    <a:pt x="1280" y="2175"/>
                  </a:lnTo>
                  <a:lnTo>
                    <a:pt x="1278" y="2167"/>
                  </a:lnTo>
                  <a:lnTo>
                    <a:pt x="1275" y="2155"/>
                  </a:lnTo>
                  <a:lnTo>
                    <a:pt x="1272" y="2146"/>
                  </a:lnTo>
                  <a:lnTo>
                    <a:pt x="1263" y="2146"/>
                  </a:lnTo>
                  <a:lnTo>
                    <a:pt x="1251" y="2149"/>
                  </a:lnTo>
                  <a:lnTo>
                    <a:pt x="1245" y="2158"/>
                  </a:lnTo>
                  <a:lnTo>
                    <a:pt x="1240" y="2167"/>
                  </a:lnTo>
                  <a:lnTo>
                    <a:pt x="1228" y="2167"/>
                  </a:lnTo>
                  <a:lnTo>
                    <a:pt x="1216" y="2167"/>
                  </a:lnTo>
                  <a:lnTo>
                    <a:pt x="1213" y="2155"/>
                  </a:lnTo>
                  <a:lnTo>
                    <a:pt x="1213" y="2144"/>
                  </a:lnTo>
                  <a:lnTo>
                    <a:pt x="1205" y="2138"/>
                  </a:lnTo>
                  <a:lnTo>
                    <a:pt x="1196" y="2132"/>
                  </a:lnTo>
                  <a:lnTo>
                    <a:pt x="1179" y="2126"/>
                  </a:lnTo>
                  <a:lnTo>
                    <a:pt x="1170" y="2123"/>
                  </a:lnTo>
                  <a:lnTo>
                    <a:pt x="1158" y="2123"/>
                  </a:lnTo>
                  <a:lnTo>
                    <a:pt x="1152" y="2132"/>
                  </a:lnTo>
                  <a:lnTo>
                    <a:pt x="1141" y="2135"/>
                  </a:lnTo>
                  <a:lnTo>
                    <a:pt x="1132" y="2132"/>
                  </a:lnTo>
                  <a:lnTo>
                    <a:pt x="1123" y="2123"/>
                  </a:lnTo>
                  <a:lnTo>
                    <a:pt x="1114" y="2118"/>
                  </a:lnTo>
                  <a:lnTo>
                    <a:pt x="1106" y="2115"/>
                  </a:lnTo>
                  <a:lnTo>
                    <a:pt x="1097" y="2115"/>
                  </a:lnTo>
                  <a:lnTo>
                    <a:pt x="1094" y="2106"/>
                  </a:lnTo>
                  <a:lnTo>
                    <a:pt x="1094" y="2097"/>
                  </a:lnTo>
                  <a:lnTo>
                    <a:pt x="1094" y="2089"/>
                  </a:lnTo>
                  <a:lnTo>
                    <a:pt x="1091" y="2077"/>
                  </a:lnTo>
                  <a:lnTo>
                    <a:pt x="1091" y="2069"/>
                  </a:lnTo>
                  <a:lnTo>
                    <a:pt x="1082" y="2066"/>
                  </a:lnTo>
                  <a:lnTo>
                    <a:pt x="1074" y="2066"/>
                  </a:lnTo>
                  <a:lnTo>
                    <a:pt x="1065" y="2066"/>
                  </a:lnTo>
                  <a:lnTo>
                    <a:pt x="1056" y="2066"/>
                  </a:lnTo>
                  <a:lnTo>
                    <a:pt x="1048" y="2066"/>
                  </a:lnTo>
                  <a:lnTo>
                    <a:pt x="1039" y="2066"/>
                  </a:lnTo>
                  <a:lnTo>
                    <a:pt x="1027" y="2063"/>
                  </a:lnTo>
                  <a:lnTo>
                    <a:pt x="1021" y="2054"/>
                  </a:lnTo>
                  <a:lnTo>
                    <a:pt x="1021" y="2046"/>
                  </a:lnTo>
                  <a:lnTo>
                    <a:pt x="1016" y="2048"/>
                  </a:lnTo>
                  <a:lnTo>
                    <a:pt x="1036" y="2031"/>
                  </a:lnTo>
                  <a:lnTo>
                    <a:pt x="1048" y="2020"/>
                  </a:lnTo>
                  <a:lnTo>
                    <a:pt x="1059" y="2017"/>
                  </a:lnTo>
                  <a:lnTo>
                    <a:pt x="1062" y="2025"/>
                  </a:lnTo>
                  <a:lnTo>
                    <a:pt x="1050" y="2025"/>
                  </a:lnTo>
                  <a:lnTo>
                    <a:pt x="1059" y="2025"/>
                  </a:lnTo>
                  <a:lnTo>
                    <a:pt x="1071" y="2025"/>
                  </a:lnTo>
                  <a:lnTo>
                    <a:pt x="1080" y="2025"/>
                  </a:lnTo>
                  <a:lnTo>
                    <a:pt x="1088" y="2028"/>
                  </a:lnTo>
                  <a:lnTo>
                    <a:pt x="1097" y="2028"/>
                  </a:lnTo>
                  <a:lnTo>
                    <a:pt x="1106" y="2025"/>
                  </a:lnTo>
                  <a:lnTo>
                    <a:pt x="1109" y="2017"/>
                  </a:lnTo>
                  <a:lnTo>
                    <a:pt x="1112" y="2008"/>
                  </a:lnTo>
                  <a:lnTo>
                    <a:pt x="1103" y="1999"/>
                  </a:lnTo>
                  <a:lnTo>
                    <a:pt x="1100" y="1991"/>
                  </a:lnTo>
                  <a:lnTo>
                    <a:pt x="1094" y="1982"/>
                  </a:lnTo>
                  <a:lnTo>
                    <a:pt x="1091" y="1974"/>
                  </a:lnTo>
                  <a:lnTo>
                    <a:pt x="1082" y="1971"/>
                  </a:lnTo>
                  <a:lnTo>
                    <a:pt x="1077" y="1979"/>
                  </a:lnTo>
                  <a:lnTo>
                    <a:pt x="1077" y="1991"/>
                  </a:lnTo>
                  <a:lnTo>
                    <a:pt x="1077" y="1999"/>
                  </a:lnTo>
                  <a:lnTo>
                    <a:pt x="1071" y="2008"/>
                  </a:lnTo>
                  <a:lnTo>
                    <a:pt x="1068" y="2020"/>
                  </a:lnTo>
                  <a:lnTo>
                    <a:pt x="1068" y="2028"/>
                  </a:lnTo>
                  <a:lnTo>
                    <a:pt x="1059" y="2031"/>
                  </a:lnTo>
                  <a:lnTo>
                    <a:pt x="1048" y="2031"/>
                  </a:lnTo>
                  <a:lnTo>
                    <a:pt x="1039" y="2031"/>
                  </a:lnTo>
                  <a:lnTo>
                    <a:pt x="1030" y="2031"/>
                  </a:lnTo>
                  <a:lnTo>
                    <a:pt x="1027" y="2020"/>
                  </a:lnTo>
                  <a:lnTo>
                    <a:pt x="1027" y="2011"/>
                  </a:lnTo>
                  <a:lnTo>
                    <a:pt x="1027" y="2002"/>
                  </a:lnTo>
                  <a:lnTo>
                    <a:pt x="1027" y="1994"/>
                  </a:lnTo>
                  <a:lnTo>
                    <a:pt x="1027" y="1985"/>
                  </a:lnTo>
                  <a:lnTo>
                    <a:pt x="1030" y="1976"/>
                  </a:lnTo>
                  <a:lnTo>
                    <a:pt x="1039" y="1974"/>
                  </a:lnTo>
                  <a:lnTo>
                    <a:pt x="1042" y="1982"/>
                  </a:lnTo>
                  <a:lnTo>
                    <a:pt x="1042" y="1994"/>
                  </a:lnTo>
                  <a:lnTo>
                    <a:pt x="1045" y="2002"/>
                  </a:lnTo>
                  <a:lnTo>
                    <a:pt x="1050" y="2011"/>
                  </a:lnTo>
                  <a:lnTo>
                    <a:pt x="1062" y="2014"/>
                  </a:lnTo>
                  <a:lnTo>
                    <a:pt x="1074" y="2014"/>
                  </a:lnTo>
                  <a:lnTo>
                    <a:pt x="1082" y="2005"/>
                  </a:lnTo>
                  <a:lnTo>
                    <a:pt x="1082" y="1997"/>
                  </a:lnTo>
                  <a:lnTo>
                    <a:pt x="1074" y="1985"/>
                  </a:lnTo>
                  <a:lnTo>
                    <a:pt x="1065" y="1979"/>
                  </a:lnTo>
                  <a:lnTo>
                    <a:pt x="1065" y="1971"/>
                  </a:lnTo>
                  <a:lnTo>
                    <a:pt x="1074" y="1968"/>
                  </a:lnTo>
                  <a:lnTo>
                    <a:pt x="1082" y="1968"/>
                  </a:lnTo>
                  <a:lnTo>
                    <a:pt x="1091" y="1962"/>
                  </a:lnTo>
                  <a:lnTo>
                    <a:pt x="1091" y="1953"/>
                  </a:lnTo>
                  <a:lnTo>
                    <a:pt x="1091" y="1945"/>
                  </a:lnTo>
                  <a:lnTo>
                    <a:pt x="1100" y="1939"/>
                  </a:lnTo>
                  <a:lnTo>
                    <a:pt x="1109" y="1936"/>
                  </a:lnTo>
                  <a:lnTo>
                    <a:pt x="1117" y="1936"/>
                  </a:lnTo>
                  <a:lnTo>
                    <a:pt x="1123" y="1927"/>
                  </a:lnTo>
                  <a:lnTo>
                    <a:pt x="1126" y="1919"/>
                  </a:lnTo>
                  <a:lnTo>
                    <a:pt x="1126" y="1910"/>
                  </a:lnTo>
                  <a:lnTo>
                    <a:pt x="1126" y="1901"/>
                  </a:lnTo>
                  <a:lnTo>
                    <a:pt x="1114" y="1901"/>
                  </a:lnTo>
                  <a:lnTo>
                    <a:pt x="1106" y="1901"/>
                  </a:lnTo>
                  <a:lnTo>
                    <a:pt x="1097" y="1901"/>
                  </a:lnTo>
                  <a:lnTo>
                    <a:pt x="1088" y="1904"/>
                  </a:lnTo>
                  <a:lnTo>
                    <a:pt x="1080" y="1910"/>
                  </a:lnTo>
                  <a:lnTo>
                    <a:pt x="1077" y="1925"/>
                  </a:lnTo>
                  <a:lnTo>
                    <a:pt x="1077" y="1933"/>
                  </a:lnTo>
                  <a:lnTo>
                    <a:pt x="1068" y="1933"/>
                  </a:lnTo>
                  <a:lnTo>
                    <a:pt x="1059" y="1922"/>
                  </a:lnTo>
                  <a:lnTo>
                    <a:pt x="1056" y="1913"/>
                  </a:lnTo>
                  <a:lnTo>
                    <a:pt x="1068" y="1910"/>
                  </a:lnTo>
                  <a:lnTo>
                    <a:pt x="1077" y="1910"/>
                  </a:lnTo>
                  <a:lnTo>
                    <a:pt x="1065" y="1901"/>
                  </a:lnTo>
                  <a:lnTo>
                    <a:pt x="1056" y="1896"/>
                  </a:lnTo>
                  <a:lnTo>
                    <a:pt x="1056" y="1904"/>
                  </a:lnTo>
                  <a:lnTo>
                    <a:pt x="1048" y="1910"/>
                  </a:lnTo>
                  <a:lnTo>
                    <a:pt x="1039" y="1919"/>
                  </a:lnTo>
                  <a:lnTo>
                    <a:pt x="1036" y="1927"/>
                  </a:lnTo>
                  <a:lnTo>
                    <a:pt x="1030" y="1936"/>
                  </a:lnTo>
                  <a:lnTo>
                    <a:pt x="1024" y="1945"/>
                  </a:lnTo>
                  <a:lnTo>
                    <a:pt x="1016" y="1950"/>
                  </a:lnTo>
                  <a:lnTo>
                    <a:pt x="1004" y="1953"/>
                  </a:lnTo>
                  <a:lnTo>
                    <a:pt x="1001" y="1962"/>
                  </a:lnTo>
                  <a:lnTo>
                    <a:pt x="1001" y="1971"/>
                  </a:lnTo>
                  <a:lnTo>
                    <a:pt x="1001" y="1979"/>
                  </a:lnTo>
                  <a:lnTo>
                    <a:pt x="1001" y="1988"/>
                  </a:lnTo>
                  <a:lnTo>
                    <a:pt x="1001" y="1997"/>
                  </a:lnTo>
                  <a:lnTo>
                    <a:pt x="995" y="2005"/>
                  </a:lnTo>
                  <a:lnTo>
                    <a:pt x="986" y="2011"/>
                  </a:lnTo>
                  <a:lnTo>
                    <a:pt x="981" y="2020"/>
                  </a:lnTo>
                  <a:lnTo>
                    <a:pt x="981" y="2028"/>
                  </a:lnTo>
                  <a:lnTo>
                    <a:pt x="981" y="2037"/>
                  </a:lnTo>
                  <a:lnTo>
                    <a:pt x="978" y="2046"/>
                  </a:lnTo>
                  <a:lnTo>
                    <a:pt x="978" y="2054"/>
                  </a:lnTo>
                  <a:lnTo>
                    <a:pt x="983" y="2046"/>
                  </a:lnTo>
                  <a:lnTo>
                    <a:pt x="983" y="2037"/>
                  </a:lnTo>
                  <a:lnTo>
                    <a:pt x="975" y="2034"/>
                  </a:lnTo>
                  <a:lnTo>
                    <a:pt x="966" y="2034"/>
                  </a:lnTo>
                  <a:lnTo>
                    <a:pt x="957" y="2034"/>
                  </a:lnTo>
                  <a:lnTo>
                    <a:pt x="949" y="2023"/>
                  </a:lnTo>
                  <a:lnTo>
                    <a:pt x="949" y="2011"/>
                  </a:lnTo>
                  <a:lnTo>
                    <a:pt x="940" y="2008"/>
                  </a:lnTo>
                  <a:lnTo>
                    <a:pt x="931" y="2008"/>
                  </a:lnTo>
                  <a:lnTo>
                    <a:pt x="922" y="2011"/>
                  </a:lnTo>
                  <a:lnTo>
                    <a:pt x="914" y="2008"/>
                  </a:lnTo>
                  <a:lnTo>
                    <a:pt x="899" y="2002"/>
                  </a:lnTo>
                  <a:lnTo>
                    <a:pt x="890" y="1988"/>
                  </a:lnTo>
                  <a:lnTo>
                    <a:pt x="885" y="1976"/>
                  </a:lnTo>
                  <a:lnTo>
                    <a:pt x="876" y="1976"/>
                  </a:lnTo>
                  <a:lnTo>
                    <a:pt x="867" y="1979"/>
                  </a:lnTo>
                  <a:lnTo>
                    <a:pt x="861" y="1988"/>
                  </a:lnTo>
                  <a:lnTo>
                    <a:pt x="852" y="1994"/>
                  </a:lnTo>
                  <a:lnTo>
                    <a:pt x="844" y="1999"/>
                  </a:lnTo>
                  <a:lnTo>
                    <a:pt x="835" y="2002"/>
                  </a:lnTo>
                  <a:lnTo>
                    <a:pt x="826" y="2005"/>
                  </a:lnTo>
                  <a:lnTo>
                    <a:pt x="818" y="2008"/>
                  </a:lnTo>
                  <a:lnTo>
                    <a:pt x="809" y="2008"/>
                  </a:lnTo>
                  <a:lnTo>
                    <a:pt x="797" y="2011"/>
                  </a:lnTo>
                  <a:lnTo>
                    <a:pt x="788" y="2011"/>
                  </a:lnTo>
                  <a:lnTo>
                    <a:pt x="797" y="2011"/>
                  </a:lnTo>
                  <a:lnTo>
                    <a:pt x="812" y="2014"/>
                  </a:lnTo>
                  <a:lnTo>
                    <a:pt x="803" y="2017"/>
                  </a:lnTo>
                  <a:lnTo>
                    <a:pt x="794" y="2020"/>
                  </a:lnTo>
                  <a:lnTo>
                    <a:pt x="803" y="2031"/>
                  </a:lnTo>
                  <a:lnTo>
                    <a:pt x="794" y="2031"/>
                  </a:lnTo>
                  <a:lnTo>
                    <a:pt x="786" y="2028"/>
                  </a:lnTo>
                  <a:lnTo>
                    <a:pt x="777" y="2023"/>
                  </a:lnTo>
                  <a:lnTo>
                    <a:pt x="771" y="2014"/>
                  </a:lnTo>
                  <a:lnTo>
                    <a:pt x="762" y="2011"/>
                  </a:lnTo>
                  <a:lnTo>
                    <a:pt x="751" y="2008"/>
                  </a:lnTo>
                  <a:lnTo>
                    <a:pt x="742" y="2008"/>
                  </a:lnTo>
                  <a:lnTo>
                    <a:pt x="733" y="2005"/>
                  </a:lnTo>
                  <a:lnTo>
                    <a:pt x="736" y="2002"/>
                  </a:lnTo>
                  <a:lnTo>
                    <a:pt x="721" y="1985"/>
                  </a:lnTo>
                  <a:lnTo>
                    <a:pt x="713" y="1985"/>
                  </a:lnTo>
                  <a:lnTo>
                    <a:pt x="710" y="1994"/>
                  </a:lnTo>
                  <a:lnTo>
                    <a:pt x="716" y="2005"/>
                  </a:lnTo>
                  <a:lnTo>
                    <a:pt x="713" y="2014"/>
                  </a:lnTo>
                  <a:lnTo>
                    <a:pt x="704" y="2020"/>
                  </a:lnTo>
                  <a:lnTo>
                    <a:pt x="704" y="2028"/>
                  </a:lnTo>
                  <a:lnTo>
                    <a:pt x="692" y="2031"/>
                  </a:lnTo>
                  <a:lnTo>
                    <a:pt x="684" y="2025"/>
                  </a:lnTo>
                  <a:lnTo>
                    <a:pt x="672" y="2020"/>
                  </a:lnTo>
                  <a:lnTo>
                    <a:pt x="660" y="2017"/>
                  </a:lnTo>
                  <a:lnTo>
                    <a:pt x="646" y="2011"/>
                  </a:lnTo>
                  <a:lnTo>
                    <a:pt x="634" y="2008"/>
                  </a:lnTo>
                  <a:lnTo>
                    <a:pt x="625" y="2005"/>
                  </a:lnTo>
                  <a:lnTo>
                    <a:pt x="622" y="1997"/>
                  </a:lnTo>
                  <a:lnTo>
                    <a:pt x="620" y="1988"/>
                  </a:lnTo>
                  <a:lnTo>
                    <a:pt x="611" y="1979"/>
                  </a:lnTo>
                  <a:lnTo>
                    <a:pt x="608" y="1971"/>
                  </a:lnTo>
                  <a:lnTo>
                    <a:pt x="599" y="1968"/>
                  </a:lnTo>
                  <a:lnTo>
                    <a:pt x="590" y="1974"/>
                  </a:lnTo>
                  <a:lnTo>
                    <a:pt x="588" y="1985"/>
                  </a:lnTo>
                  <a:lnTo>
                    <a:pt x="585" y="1997"/>
                  </a:lnTo>
                  <a:lnTo>
                    <a:pt x="576" y="2002"/>
                  </a:lnTo>
                  <a:lnTo>
                    <a:pt x="567" y="1991"/>
                  </a:lnTo>
                  <a:lnTo>
                    <a:pt x="561" y="1982"/>
                  </a:lnTo>
                  <a:lnTo>
                    <a:pt x="553" y="1976"/>
                  </a:lnTo>
                  <a:lnTo>
                    <a:pt x="547" y="1968"/>
                  </a:lnTo>
                  <a:lnTo>
                    <a:pt x="541" y="1959"/>
                  </a:lnTo>
                  <a:lnTo>
                    <a:pt x="532" y="1956"/>
                  </a:lnTo>
                  <a:lnTo>
                    <a:pt x="524" y="1953"/>
                  </a:lnTo>
                  <a:lnTo>
                    <a:pt x="518" y="1945"/>
                  </a:lnTo>
                  <a:lnTo>
                    <a:pt x="509" y="1939"/>
                  </a:lnTo>
                  <a:lnTo>
                    <a:pt x="500" y="1939"/>
                  </a:lnTo>
                  <a:lnTo>
                    <a:pt x="494" y="1948"/>
                  </a:lnTo>
                  <a:lnTo>
                    <a:pt x="491" y="1956"/>
                  </a:lnTo>
                  <a:lnTo>
                    <a:pt x="486" y="1965"/>
                  </a:lnTo>
                  <a:lnTo>
                    <a:pt x="491" y="1974"/>
                  </a:lnTo>
                  <a:lnTo>
                    <a:pt x="500" y="1976"/>
                  </a:lnTo>
                  <a:lnTo>
                    <a:pt x="503" y="1985"/>
                  </a:lnTo>
                  <a:lnTo>
                    <a:pt x="506" y="1994"/>
                  </a:lnTo>
                  <a:lnTo>
                    <a:pt x="509" y="2002"/>
                  </a:lnTo>
                  <a:lnTo>
                    <a:pt x="512" y="2011"/>
                  </a:lnTo>
                  <a:lnTo>
                    <a:pt x="515" y="2020"/>
                  </a:lnTo>
                  <a:lnTo>
                    <a:pt x="518" y="2028"/>
                  </a:lnTo>
                  <a:lnTo>
                    <a:pt x="518" y="2037"/>
                  </a:lnTo>
                  <a:lnTo>
                    <a:pt x="518" y="2046"/>
                  </a:lnTo>
                  <a:lnTo>
                    <a:pt x="518" y="2054"/>
                  </a:lnTo>
                  <a:lnTo>
                    <a:pt x="515" y="2063"/>
                  </a:lnTo>
                  <a:lnTo>
                    <a:pt x="506" y="2072"/>
                  </a:lnTo>
                  <a:lnTo>
                    <a:pt x="503" y="2080"/>
                  </a:lnTo>
                  <a:lnTo>
                    <a:pt x="503" y="2089"/>
                  </a:lnTo>
                  <a:lnTo>
                    <a:pt x="503" y="2097"/>
                  </a:lnTo>
                  <a:lnTo>
                    <a:pt x="500" y="2106"/>
                  </a:lnTo>
                  <a:lnTo>
                    <a:pt x="491" y="2112"/>
                  </a:lnTo>
                  <a:lnTo>
                    <a:pt x="483" y="2118"/>
                  </a:lnTo>
                  <a:lnTo>
                    <a:pt x="483" y="2126"/>
                  </a:lnTo>
                  <a:lnTo>
                    <a:pt x="480" y="2138"/>
                  </a:lnTo>
                  <a:lnTo>
                    <a:pt x="477" y="2149"/>
                  </a:lnTo>
                  <a:lnTo>
                    <a:pt x="468" y="2144"/>
                  </a:lnTo>
                  <a:lnTo>
                    <a:pt x="459" y="2144"/>
                  </a:lnTo>
                  <a:lnTo>
                    <a:pt x="451" y="2144"/>
                  </a:lnTo>
                  <a:lnTo>
                    <a:pt x="442" y="2152"/>
                  </a:lnTo>
                  <a:lnTo>
                    <a:pt x="436" y="2161"/>
                  </a:lnTo>
                  <a:lnTo>
                    <a:pt x="427" y="2167"/>
                  </a:lnTo>
                  <a:lnTo>
                    <a:pt x="419" y="2175"/>
                  </a:lnTo>
                  <a:lnTo>
                    <a:pt x="407" y="2181"/>
                  </a:lnTo>
                  <a:lnTo>
                    <a:pt x="398" y="2184"/>
                  </a:lnTo>
                  <a:lnTo>
                    <a:pt x="393" y="2175"/>
                  </a:lnTo>
                  <a:lnTo>
                    <a:pt x="390" y="2167"/>
                  </a:lnTo>
                  <a:lnTo>
                    <a:pt x="384" y="2158"/>
                  </a:lnTo>
                  <a:lnTo>
                    <a:pt x="369" y="2149"/>
                  </a:lnTo>
                  <a:lnTo>
                    <a:pt x="358" y="2144"/>
                  </a:lnTo>
                  <a:lnTo>
                    <a:pt x="355" y="2135"/>
                  </a:lnTo>
                  <a:lnTo>
                    <a:pt x="349" y="2126"/>
                  </a:lnTo>
                  <a:lnTo>
                    <a:pt x="343" y="2118"/>
                  </a:lnTo>
                  <a:lnTo>
                    <a:pt x="334" y="2109"/>
                  </a:lnTo>
                  <a:lnTo>
                    <a:pt x="328" y="2100"/>
                  </a:lnTo>
                  <a:lnTo>
                    <a:pt x="320" y="2092"/>
                  </a:lnTo>
                  <a:lnTo>
                    <a:pt x="317" y="2080"/>
                  </a:lnTo>
                  <a:lnTo>
                    <a:pt x="317" y="2048"/>
                  </a:lnTo>
                  <a:lnTo>
                    <a:pt x="311" y="2060"/>
                  </a:lnTo>
                  <a:lnTo>
                    <a:pt x="302" y="2057"/>
                  </a:lnTo>
                  <a:lnTo>
                    <a:pt x="294" y="2051"/>
                  </a:lnTo>
                  <a:lnTo>
                    <a:pt x="282" y="2048"/>
                  </a:lnTo>
                  <a:lnTo>
                    <a:pt x="276" y="2040"/>
                  </a:lnTo>
                  <a:lnTo>
                    <a:pt x="270" y="2031"/>
                  </a:lnTo>
                  <a:lnTo>
                    <a:pt x="264" y="2023"/>
                  </a:lnTo>
                  <a:lnTo>
                    <a:pt x="259" y="2014"/>
                  </a:lnTo>
                  <a:lnTo>
                    <a:pt x="250" y="2008"/>
                  </a:lnTo>
                  <a:lnTo>
                    <a:pt x="241" y="2011"/>
                  </a:lnTo>
                  <a:lnTo>
                    <a:pt x="232" y="2011"/>
                  </a:lnTo>
                  <a:lnTo>
                    <a:pt x="227" y="2002"/>
                  </a:lnTo>
                  <a:lnTo>
                    <a:pt x="218" y="2002"/>
                  </a:lnTo>
                  <a:lnTo>
                    <a:pt x="209" y="2002"/>
                  </a:lnTo>
                  <a:lnTo>
                    <a:pt x="200" y="2002"/>
                  </a:lnTo>
                  <a:lnTo>
                    <a:pt x="203" y="2014"/>
                  </a:lnTo>
                  <a:lnTo>
                    <a:pt x="203" y="2025"/>
                  </a:lnTo>
                  <a:lnTo>
                    <a:pt x="200" y="2034"/>
                  </a:lnTo>
                  <a:lnTo>
                    <a:pt x="189" y="2037"/>
                  </a:lnTo>
                  <a:lnTo>
                    <a:pt x="180" y="2043"/>
                  </a:lnTo>
                  <a:lnTo>
                    <a:pt x="171" y="2051"/>
                  </a:lnTo>
                  <a:lnTo>
                    <a:pt x="168" y="2060"/>
                  </a:lnTo>
                  <a:lnTo>
                    <a:pt x="163" y="2072"/>
                  </a:lnTo>
                  <a:lnTo>
                    <a:pt x="154" y="2077"/>
                  </a:lnTo>
                  <a:lnTo>
                    <a:pt x="145" y="2083"/>
                  </a:lnTo>
                  <a:lnTo>
                    <a:pt x="136" y="2086"/>
                  </a:lnTo>
                  <a:lnTo>
                    <a:pt x="122" y="2092"/>
                  </a:lnTo>
                  <a:lnTo>
                    <a:pt x="113" y="2095"/>
                  </a:lnTo>
                  <a:lnTo>
                    <a:pt x="104" y="2097"/>
                  </a:lnTo>
                  <a:lnTo>
                    <a:pt x="96" y="2103"/>
                  </a:lnTo>
                  <a:lnTo>
                    <a:pt x="87" y="2109"/>
                  </a:lnTo>
                  <a:lnTo>
                    <a:pt x="78" y="2112"/>
                  </a:lnTo>
                  <a:lnTo>
                    <a:pt x="66" y="2112"/>
                  </a:lnTo>
                  <a:lnTo>
                    <a:pt x="58" y="2115"/>
                  </a:lnTo>
                  <a:lnTo>
                    <a:pt x="55" y="2123"/>
                  </a:lnTo>
                  <a:lnTo>
                    <a:pt x="49" y="2132"/>
                  </a:lnTo>
                  <a:lnTo>
                    <a:pt x="46" y="2141"/>
                  </a:lnTo>
                  <a:lnTo>
                    <a:pt x="58" y="2146"/>
                  </a:lnTo>
                  <a:lnTo>
                    <a:pt x="66" y="2146"/>
                  </a:lnTo>
                  <a:lnTo>
                    <a:pt x="75" y="2146"/>
                  </a:lnTo>
                  <a:lnTo>
                    <a:pt x="66" y="2158"/>
                  </a:lnTo>
                  <a:lnTo>
                    <a:pt x="55" y="2164"/>
                  </a:lnTo>
                  <a:lnTo>
                    <a:pt x="43" y="2169"/>
                  </a:lnTo>
                  <a:lnTo>
                    <a:pt x="34" y="2175"/>
                  </a:lnTo>
                  <a:lnTo>
                    <a:pt x="26" y="2181"/>
                  </a:lnTo>
                  <a:lnTo>
                    <a:pt x="23" y="2190"/>
                  </a:lnTo>
                  <a:lnTo>
                    <a:pt x="23" y="2198"/>
                  </a:lnTo>
                  <a:lnTo>
                    <a:pt x="14" y="2207"/>
                  </a:lnTo>
                  <a:lnTo>
                    <a:pt x="5" y="2210"/>
                  </a:lnTo>
                  <a:lnTo>
                    <a:pt x="0" y="2218"/>
                  </a:lnTo>
                  <a:lnTo>
                    <a:pt x="5" y="2227"/>
                  </a:lnTo>
                  <a:lnTo>
                    <a:pt x="14" y="2236"/>
                  </a:lnTo>
                  <a:lnTo>
                    <a:pt x="23" y="2244"/>
                  </a:lnTo>
                  <a:lnTo>
                    <a:pt x="37" y="2233"/>
                  </a:lnTo>
                  <a:lnTo>
                    <a:pt x="46" y="2230"/>
                  </a:lnTo>
                  <a:lnTo>
                    <a:pt x="49" y="2239"/>
                  </a:lnTo>
                  <a:lnTo>
                    <a:pt x="49" y="2247"/>
                  </a:lnTo>
                  <a:lnTo>
                    <a:pt x="52" y="2256"/>
                  </a:lnTo>
                  <a:lnTo>
                    <a:pt x="55" y="2265"/>
                  </a:lnTo>
                  <a:lnTo>
                    <a:pt x="58" y="2273"/>
                  </a:lnTo>
                  <a:lnTo>
                    <a:pt x="58" y="2282"/>
                  </a:lnTo>
                  <a:lnTo>
                    <a:pt x="61" y="2291"/>
                  </a:lnTo>
                  <a:lnTo>
                    <a:pt x="61" y="2299"/>
                  </a:lnTo>
                  <a:lnTo>
                    <a:pt x="58" y="2308"/>
                  </a:lnTo>
                  <a:lnTo>
                    <a:pt x="52" y="2316"/>
                  </a:lnTo>
                  <a:lnTo>
                    <a:pt x="52" y="2325"/>
                  </a:lnTo>
                  <a:lnTo>
                    <a:pt x="52" y="2334"/>
                  </a:lnTo>
                  <a:lnTo>
                    <a:pt x="49" y="2342"/>
                  </a:lnTo>
                  <a:lnTo>
                    <a:pt x="58" y="2348"/>
                  </a:lnTo>
                  <a:lnTo>
                    <a:pt x="69" y="2348"/>
                  </a:lnTo>
                  <a:lnTo>
                    <a:pt x="78" y="2348"/>
                  </a:lnTo>
                  <a:lnTo>
                    <a:pt x="87" y="2357"/>
                  </a:lnTo>
                  <a:lnTo>
                    <a:pt x="96" y="2360"/>
                  </a:lnTo>
                  <a:lnTo>
                    <a:pt x="104" y="2360"/>
                  </a:lnTo>
                  <a:lnTo>
                    <a:pt x="113" y="2365"/>
                  </a:lnTo>
                  <a:lnTo>
                    <a:pt x="122" y="2371"/>
                  </a:lnTo>
                  <a:lnTo>
                    <a:pt x="128" y="2380"/>
                  </a:lnTo>
                  <a:lnTo>
                    <a:pt x="139" y="2389"/>
                  </a:lnTo>
                  <a:lnTo>
                    <a:pt x="142" y="2397"/>
                  </a:lnTo>
                  <a:lnTo>
                    <a:pt x="151" y="2406"/>
                  </a:lnTo>
                  <a:lnTo>
                    <a:pt x="160" y="2414"/>
                  </a:lnTo>
                  <a:lnTo>
                    <a:pt x="168" y="2417"/>
                  </a:lnTo>
                  <a:lnTo>
                    <a:pt x="177" y="2420"/>
                  </a:lnTo>
                  <a:lnTo>
                    <a:pt x="186" y="2423"/>
                  </a:lnTo>
                  <a:lnTo>
                    <a:pt x="195" y="2423"/>
                  </a:lnTo>
                  <a:lnTo>
                    <a:pt x="203" y="2423"/>
                  </a:lnTo>
                  <a:lnTo>
                    <a:pt x="212" y="2423"/>
                  </a:lnTo>
                  <a:lnTo>
                    <a:pt x="221" y="2420"/>
                  </a:lnTo>
                  <a:lnTo>
                    <a:pt x="229" y="2420"/>
                  </a:lnTo>
                  <a:lnTo>
                    <a:pt x="238" y="2420"/>
                  </a:lnTo>
                  <a:lnTo>
                    <a:pt x="247" y="2417"/>
                  </a:lnTo>
                  <a:lnTo>
                    <a:pt x="256" y="2412"/>
                  </a:lnTo>
                  <a:lnTo>
                    <a:pt x="264" y="2412"/>
                  </a:lnTo>
                  <a:lnTo>
                    <a:pt x="276" y="2412"/>
                  </a:lnTo>
                  <a:lnTo>
                    <a:pt x="285" y="2412"/>
                  </a:lnTo>
                  <a:lnTo>
                    <a:pt x="294" y="2414"/>
                  </a:lnTo>
                  <a:lnTo>
                    <a:pt x="302" y="2414"/>
                  </a:lnTo>
                  <a:lnTo>
                    <a:pt x="305" y="2406"/>
                  </a:lnTo>
                  <a:lnTo>
                    <a:pt x="305" y="2397"/>
                  </a:lnTo>
                  <a:lnTo>
                    <a:pt x="302" y="2389"/>
                  </a:lnTo>
                  <a:lnTo>
                    <a:pt x="299" y="2380"/>
                  </a:lnTo>
                  <a:lnTo>
                    <a:pt x="302" y="2371"/>
                  </a:lnTo>
                  <a:lnTo>
                    <a:pt x="314" y="2368"/>
                  </a:lnTo>
                  <a:lnTo>
                    <a:pt x="323" y="2368"/>
                  </a:lnTo>
                  <a:lnTo>
                    <a:pt x="331" y="2368"/>
                  </a:lnTo>
                  <a:lnTo>
                    <a:pt x="343" y="2368"/>
                  </a:lnTo>
                  <a:lnTo>
                    <a:pt x="346" y="2360"/>
                  </a:lnTo>
                  <a:lnTo>
                    <a:pt x="355" y="2354"/>
                  </a:lnTo>
                  <a:lnTo>
                    <a:pt x="363" y="2351"/>
                  </a:lnTo>
                  <a:lnTo>
                    <a:pt x="372" y="2351"/>
                  </a:lnTo>
                  <a:lnTo>
                    <a:pt x="381" y="2348"/>
                  </a:lnTo>
                  <a:lnTo>
                    <a:pt x="390" y="2348"/>
                  </a:lnTo>
                  <a:lnTo>
                    <a:pt x="398" y="2348"/>
                  </a:lnTo>
                  <a:lnTo>
                    <a:pt x="407" y="2348"/>
                  </a:lnTo>
                  <a:lnTo>
                    <a:pt x="419" y="2354"/>
                  </a:lnTo>
                  <a:lnTo>
                    <a:pt x="427" y="2360"/>
                  </a:lnTo>
                  <a:lnTo>
                    <a:pt x="436" y="2360"/>
                  </a:lnTo>
                  <a:lnTo>
                    <a:pt x="445" y="2360"/>
                  </a:lnTo>
                  <a:lnTo>
                    <a:pt x="454" y="2363"/>
                  </a:lnTo>
                  <a:lnTo>
                    <a:pt x="462" y="2363"/>
                  </a:lnTo>
                  <a:lnTo>
                    <a:pt x="471" y="2363"/>
                  </a:lnTo>
                  <a:lnTo>
                    <a:pt x="480" y="2363"/>
                  </a:lnTo>
                  <a:lnTo>
                    <a:pt x="489" y="2360"/>
                  </a:lnTo>
                  <a:lnTo>
                    <a:pt x="494" y="2351"/>
                  </a:lnTo>
                  <a:lnTo>
                    <a:pt x="494" y="2342"/>
                  </a:lnTo>
                  <a:lnTo>
                    <a:pt x="494" y="2334"/>
                  </a:lnTo>
                  <a:lnTo>
                    <a:pt x="497" y="2325"/>
                  </a:lnTo>
                  <a:lnTo>
                    <a:pt x="506" y="2322"/>
                  </a:lnTo>
                  <a:lnTo>
                    <a:pt x="515" y="2322"/>
                  </a:lnTo>
                  <a:lnTo>
                    <a:pt x="524" y="2322"/>
                  </a:lnTo>
                  <a:lnTo>
                    <a:pt x="532" y="2322"/>
                  </a:lnTo>
                  <a:lnTo>
                    <a:pt x="541" y="2322"/>
                  </a:lnTo>
                  <a:lnTo>
                    <a:pt x="550" y="2328"/>
                  </a:lnTo>
                  <a:lnTo>
                    <a:pt x="556" y="2337"/>
                  </a:lnTo>
                  <a:lnTo>
                    <a:pt x="564" y="2342"/>
                  </a:lnTo>
                  <a:lnTo>
                    <a:pt x="570" y="2351"/>
                  </a:lnTo>
                  <a:lnTo>
                    <a:pt x="576" y="2360"/>
                  </a:lnTo>
                  <a:lnTo>
                    <a:pt x="585" y="2368"/>
                  </a:lnTo>
                  <a:lnTo>
                    <a:pt x="590" y="2377"/>
                  </a:lnTo>
                  <a:lnTo>
                    <a:pt x="599" y="2383"/>
                  </a:lnTo>
                  <a:lnTo>
                    <a:pt x="611" y="2386"/>
                  </a:lnTo>
                  <a:lnTo>
                    <a:pt x="620" y="2386"/>
                  </a:lnTo>
                  <a:lnTo>
                    <a:pt x="628" y="2386"/>
                  </a:lnTo>
                  <a:lnTo>
                    <a:pt x="637" y="2386"/>
                  </a:lnTo>
                  <a:lnTo>
                    <a:pt x="646" y="2386"/>
                  </a:lnTo>
                  <a:lnTo>
                    <a:pt x="655" y="2386"/>
                  </a:lnTo>
                  <a:lnTo>
                    <a:pt x="663" y="2389"/>
                  </a:lnTo>
                  <a:lnTo>
                    <a:pt x="672" y="2389"/>
                  </a:lnTo>
                  <a:lnTo>
                    <a:pt x="681" y="2389"/>
                  </a:lnTo>
                  <a:lnTo>
                    <a:pt x="689" y="2389"/>
                  </a:lnTo>
                  <a:lnTo>
                    <a:pt x="698" y="2394"/>
                  </a:lnTo>
                  <a:lnTo>
                    <a:pt x="707" y="2403"/>
                  </a:lnTo>
                  <a:lnTo>
                    <a:pt x="713" y="2412"/>
                  </a:lnTo>
                  <a:lnTo>
                    <a:pt x="716" y="2420"/>
                  </a:lnTo>
                  <a:lnTo>
                    <a:pt x="716" y="2429"/>
                  </a:lnTo>
                  <a:lnTo>
                    <a:pt x="716" y="2437"/>
                  </a:lnTo>
                  <a:lnTo>
                    <a:pt x="719" y="2446"/>
                  </a:lnTo>
                  <a:lnTo>
                    <a:pt x="719" y="2455"/>
                  </a:lnTo>
                  <a:lnTo>
                    <a:pt x="721" y="2463"/>
                  </a:lnTo>
                  <a:lnTo>
                    <a:pt x="721" y="2472"/>
                  </a:lnTo>
                  <a:lnTo>
                    <a:pt x="721" y="2481"/>
                  </a:lnTo>
                  <a:lnTo>
                    <a:pt x="721" y="2489"/>
                  </a:lnTo>
                  <a:lnTo>
                    <a:pt x="713" y="2492"/>
                  </a:lnTo>
                  <a:lnTo>
                    <a:pt x="704" y="2492"/>
                  </a:lnTo>
                  <a:lnTo>
                    <a:pt x="698" y="2501"/>
                  </a:lnTo>
                  <a:lnTo>
                    <a:pt x="707" y="2507"/>
                  </a:lnTo>
                  <a:lnTo>
                    <a:pt x="716" y="2512"/>
                  </a:lnTo>
                  <a:lnTo>
                    <a:pt x="721" y="2521"/>
                  </a:lnTo>
                  <a:lnTo>
                    <a:pt x="721" y="2530"/>
                  </a:lnTo>
                  <a:lnTo>
                    <a:pt x="719" y="2538"/>
                  </a:lnTo>
                  <a:lnTo>
                    <a:pt x="719" y="2547"/>
                  </a:lnTo>
                  <a:lnTo>
                    <a:pt x="719" y="2556"/>
                  </a:lnTo>
                  <a:lnTo>
                    <a:pt x="719" y="2564"/>
                  </a:lnTo>
                  <a:lnTo>
                    <a:pt x="721" y="2576"/>
                  </a:lnTo>
                  <a:lnTo>
                    <a:pt x="721" y="2584"/>
                  </a:lnTo>
                  <a:lnTo>
                    <a:pt x="727" y="2593"/>
                  </a:lnTo>
                  <a:lnTo>
                    <a:pt x="736" y="2602"/>
                  </a:lnTo>
                  <a:lnTo>
                    <a:pt x="742" y="2613"/>
                  </a:lnTo>
                  <a:lnTo>
                    <a:pt x="745" y="2625"/>
                  </a:lnTo>
                  <a:lnTo>
                    <a:pt x="756" y="2633"/>
                  </a:lnTo>
                  <a:lnTo>
                    <a:pt x="765" y="2642"/>
                  </a:lnTo>
                  <a:lnTo>
                    <a:pt x="768" y="2654"/>
                  </a:lnTo>
                  <a:lnTo>
                    <a:pt x="768" y="2662"/>
                  </a:lnTo>
                  <a:lnTo>
                    <a:pt x="768" y="2671"/>
                  </a:lnTo>
                  <a:lnTo>
                    <a:pt x="771" y="2682"/>
                  </a:lnTo>
                  <a:lnTo>
                    <a:pt x="780" y="2688"/>
                  </a:lnTo>
                  <a:lnTo>
                    <a:pt x="783" y="2697"/>
                  </a:lnTo>
                  <a:lnTo>
                    <a:pt x="786" y="2705"/>
                  </a:lnTo>
                  <a:lnTo>
                    <a:pt x="788" y="2714"/>
                  </a:lnTo>
                  <a:lnTo>
                    <a:pt x="788" y="2723"/>
                  </a:lnTo>
                  <a:lnTo>
                    <a:pt x="788" y="2731"/>
                  </a:lnTo>
                  <a:lnTo>
                    <a:pt x="788" y="2740"/>
                  </a:lnTo>
                  <a:lnTo>
                    <a:pt x="788" y="2749"/>
                  </a:lnTo>
                  <a:lnTo>
                    <a:pt x="788" y="2757"/>
                  </a:lnTo>
                  <a:lnTo>
                    <a:pt x="788" y="2769"/>
                  </a:lnTo>
                  <a:lnTo>
                    <a:pt x="783" y="2778"/>
                  </a:lnTo>
                  <a:lnTo>
                    <a:pt x="774" y="2778"/>
                  </a:lnTo>
                  <a:lnTo>
                    <a:pt x="765" y="2783"/>
                  </a:lnTo>
                  <a:lnTo>
                    <a:pt x="759" y="2792"/>
                  </a:lnTo>
                  <a:lnTo>
                    <a:pt x="751" y="2795"/>
                  </a:lnTo>
                  <a:lnTo>
                    <a:pt x="742" y="2789"/>
                  </a:lnTo>
                  <a:lnTo>
                    <a:pt x="730" y="2786"/>
                  </a:lnTo>
                  <a:lnTo>
                    <a:pt x="721" y="2780"/>
                  </a:lnTo>
                  <a:lnTo>
                    <a:pt x="713" y="2778"/>
                  </a:lnTo>
                  <a:lnTo>
                    <a:pt x="710" y="2766"/>
                  </a:lnTo>
                  <a:lnTo>
                    <a:pt x="707" y="2757"/>
                  </a:lnTo>
                  <a:lnTo>
                    <a:pt x="698" y="2754"/>
                  </a:lnTo>
                  <a:lnTo>
                    <a:pt x="687" y="2754"/>
                  </a:lnTo>
                  <a:lnTo>
                    <a:pt x="678" y="2746"/>
                  </a:lnTo>
                  <a:lnTo>
                    <a:pt x="672" y="2737"/>
                  </a:lnTo>
                  <a:lnTo>
                    <a:pt x="660" y="2731"/>
                  </a:lnTo>
                  <a:lnTo>
                    <a:pt x="652" y="2729"/>
                  </a:lnTo>
                  <a:lnTo>
                    <a:pt x="643" y="2729"/>
                  </a:lnTo>
                  <a:lnTo>
                    <a:pt x="634" y="2729"/>
                  </a:lnTo>
                  <a:lnTo>
                    <a:pt x="628" y="2737"/>
                  </a:lnTo>
                  <a:lnTo>
                    <a:pt x="628" y="2746"/>
                  </a:lnTo>
                  <a:lnTo>
                    <a:pt x="631" y="2754"/>
                  </a:lnTo>
                  <a:lnTo>
                    <a:pt x="640" y="2763"/>
                  </a:lnTo>
                  <a:lnTo>
                    <a:pt x="652" y="2769"/>
                  </a:lnTo>
                  <a:lnTo>
                    <a:pt x="660" y="2775"/>
                  </a:lnTo>
                  <a:lnTo>
                    <a:pt x="666" y="2783"/>
                  </a:lnTo>
                  <a:lnTo>
                    <a:pt x="669" y="2792"/>
                  </a:lnTo>
                  <a:lnTo>
                    <a:pt x="672" y="2801"/>
                  </a:lnTo>
                  <a:lnTo>
                    <a:pt x="675" y="2809"/>
                  </a:lnTo>
                  <a:lnTo>
                    <a:pt x="678" y="2818"/>
                  </a:lnTo>
                  <a:lnTo>
                    <a:pt x="687" y="2827"/>
                  </a:lnTo>
                  <a:lnTo>
                    <a:pt x="695" y="2829"/>
                  </a:lnTo>
                  <a:lnTo>
                    <a:pt x="707" y="2829"/>
                  </a:lnTo>
                  <a:lnTo>
                    <a:pt x="713" y="2818"/>
                  </a:lnTo>
                  <a:lnTo>
                    <a:pt x="713" y="2809"/>
                  </a:lnTo>
                  <a:lnTo>
                    <a:pt x="716" y="2801"/>
                  </a:lnTo>
                  <a:lnTo>
                    <a:pt x="724" y="2795"/>
                  </a:lnTo>
                  <a:lnTo>
                    <a:pt x="733" y="2795"/>
                  </a:lnTo>
                  <a:lnTo>
                    <a:pt x="742" y="2792"/>
                  </a:lnTo>
                  <a:lnTo>
                    <a:pt x="751" y="2801"/>
                  </a:lnTo>
                  <a:lnTo>
                    <a:pt x="762" y="2803"/>
                  </a:lnTo>
                  <a:lnTo>
                    <a:pt x="771" y="2803"/>
                  </a:lnTo>
                  <a:lnTo>
                    <a:pt x="780" y="2803"/>
                  </a:lnTo>
                  <a:lnTo>
                    <a:pt x="788" y="2803"/>
                  </a:lnTo>
                  <a:lnTo>
                    <a:pt x="788" y="2795"/>
                  </a:lnTo>
                  <a:lnTo>
                    <a:pt x="788" y="2786"/>
                  </a:lnTo>
                  <a:lnTo>
                    <a:pt x="797" y="2780"/>
                  </a:lnTo>
                  <a:lnTo>
                    <a:pt x="806" y="2780"/>
                  </a:lnTo>
                  <a:lnTo>
                    <a:pt x="815" y="2772"/>
                  </a:lnTo>
                  <a:lnTo>
                    <a:pt x="815" y="2763"/>
                  </a:lnTo>
                  <a:lnTo>
                    <a:pt x="815" y="2754"/>
                  </a:lnTo>
                  <a:lnTo>
                    <a:pt x="815" y="2746"/>
                  </a:lnTo>
                  <a:lnTo>
                    <a:pt x="815" y="2737"/>
                  </a:lnTo>
                  <a:lnTo>
                    <a:pt x="818" y="2729"/>
                  </a:lnTo>
                  <a:lnTo>
                    <a:pt x="826" y="2726"/>
                  </a:lnTo>
                  <a:lnTo>
                    <a:pt x="835" y="2720"/>
                  </a:lnTo>
                  <a:lnTo>
                    <a:pt x="844" y="2717"/>
                  </a:lnTo>
                  <a:lnTo>
                    <a:pt x="852" y="2720"/>
                  </a:lnTo>
                  <a:lnTo>
                    <a:pt x="855" y="2729"/>
                  </a:lnTo>
                  <a:lnTo>
                    <a:pt x="858" y="2740"/>
                  </a:lnTo>
                  <a:lnTo>
                    <a:pt x="858" y="2749"/>
                  </a:lnTo>
                  <a:lnTo>
                    <a:pt x="861" y="2757"/>
                  </a:lnTo>
                  <a:lnTo>
                    <a:pt x="870" y="2763"/>
                  </a:lnTo>
                  <a:lnTo>
                    <a:pt x="882" y="2766"/>
                  </a:lnTo>
                  <a:lnTo>
                    <a:pt x="887" y="2757"/>
                  </a:lnTo>
                  <a:lnTo>
                    <a:pt x="887" y="2749"/>
                  </a:lnTo>
                  <a:lnTo>
                    <a:pt x="887" y="2740"/>
                  </a:lnTo>
                  <a:lnTo>
                    <a:pt x="887" y="2731"/>
                  </a:lnTo>
                  <a:lnTo>
                    <a:pt x="885" y="2723"/>
                  </a:lnTo>
                  <a:lnTo>
                    <a:pt x="876" y="2714"/>
                  </a:lnTo>
                  <a:lnTo>
                    <a:pt x="870" y="2705"/>
                  </a:lnTo>
                  <a:lnTo>
                    <a:pt x="864" y="2697"/>
                  </a:lnTo>
                  <a:lnTo>
                    <a:pt x="855" y="2691"/>
                  </a:lnTo>
                  <a:lnTo>
                    <a:pt x="847" y="2682"/>
                  </a:lnTo>
                  <a:lnTo>
                    <a:pt x="838" y="2674"/>
                  </a:lnTo>
                  <a:lnTo>
                    <a:pt x="835" y="2665"/>
                  </a:lnTo>
                  <a:lnTo>
                    <a:pt x="832" y="2657"/>
                  </a:lnTo>
                  <a:lnTo>
                    <a:pt x="832" y="2648"/>
                  </a:lnTo>
                  <a:lnTo>
                    <a:pt x="841" y="2642"/>
                  </a:lnTo>
                  <a:lnTo>
                    <a:pt x="850" y="2642"/>
                  </a:lnTo>
                  <a:lnTo>
                    <a:pt x="852" y="2633"/>
                  </a:lnTo>
                  <a:lnTo>
                    <a:pt x="844" y="2628"/>
                  </a:lnTo>
                  <a:lnTo>
                    <a:pt x="835" y="2622"/>
                  </a:lnTo>
                  <a:lnTo>
                    <a:pt x="826" y="2619"/>
                  </a:lnTo>
                  <a:lnTo>
                    <a:pt x="820" y="2610"/>
                  </a:lnTo>
                  <a:lnTo>
                    <a:pt x="818" y="2602"/>
                  </a:lnTo>
                  <a:lnTo>
                    <a:pt x="812" y="2593"/>
                  </a:lnTo>
                  <a:lnTo>
                    <a:pt x="812" y="2584"/>
                  </a:lnTo>
                  <a:lnTo>
                    <a:pt x="809" y="2576"/>
                  </a:lnTo>
                  <a:lnTo>
                    <a:pt x="806" y="2564"/>
                  </a:lnTo>
                  <a:lnTo>
                    <a:pt x="806" y="2556"/>
                  </a:lnTo>
                  <a:lnTo>
                    <a:pt x="806" y="2547"/>
                  </a:lnTo>
                  <a:lnTo>
                    <a:pt x="806" y="2538"/>
                  </a:lnTo>
                  <a:lnTo>
                    <a:pt x="806" y="2530"/>
                  </a:lnTo>
                  <a:lnTo>
                    <a:pt x="806" y="2521"/>
                  </a:lnTo>
                  <a:lnTo>
                    <a:pt x="806" y="2512"/>
                  </a:lnTo>
                  <a:lnTo>
                    <a:pt x="806" y="2504"/>
                  </a:lnTo>
                  <a:lnTo>
                    <a:pt x="803" y="2495"/>
                  </a:lnTo>
                  <a:lnTo>
                    <a:pt x="800" y="2486"/>
                  </a:lnTo>
                  <a:lnTo>
                    <a:pt x="800" y="2478"/>
                  </a:lnTo>
                  <a:lnTo>
                    <a:pt x="800" y="2469"/>
                  </a:lnTo>
                  <a:lnTo>
                    <a:pt x="800" y="2461"/>
                  </a:lnTo>
                  <a:lnTo>
                    <a:pt x="800" y="2452"/>
                  </a:lnTo>
                  <a:lnTo>
                    <a:pt x="809" y="2452"/>
                  </a:lnTo>
                  <a:lnTo>
                    <a:pt x="818" y="2452"/>
                  </a:lnTo>
                  <a:lnTo>
                    <a:pt x="818" y="2443"/>
                  </a:lnTo>
                  <a:lnTo>
                    <a:pt x="820" y="2435"/>
                  </a:lnTo>
                  <a:lnTo>
                    <a:pt x="826" y="2426"/>
                  </a:lnTo>
                  <a:lnTo>
                    <a:pt x="835" y="2426"/>
                  </a:lnTo>
                  <a:lnTo>
                    <a:pt x="838" y="2435"/>
                  </a:lnTo>
                  <a:lnTo>
                    <a:pt x="847" y="2440"/>
                  </a:lnTo>
                  <a:lnTo>
                    <a:pt x="855" y="2435"/>
                  </a:lnTo>
                  <a:lnTo>
                    <a:pt x="864" y="2432"/>
                  </a:lnTo>
                  <a:lnTo>
                    <a:pt x="864" y="2440"/>
                  </a:lnTo>
                  <a:lnTo>
                    <a:pt x="864" y="2449"/>
                  </a:lnTo>
                  <a:lnTo>
                    <a:pt x="858" y="2458"/>
                  </a:lnTo>
                  <a:lnTo>
                    <a:pt x="850" y="2466"/>
                  </a:lnTo>
                  <a:lnTo>
                    <a:pt x="847" y="2475"/>
                  </a:lnTo>
                  <a:lnTo>
                    <a:pt x="855" y="2478"/>
                  </a:lnTo>
                  <a:lnTo>
                    <a:pt x="864" y="2478"/>
                  </a:lnTo>
                  <a:lnTo>
                    <a:pt x="864" y="2486"/>
                  </a:lnTo>
                  <a:lnTo>
                    <a:pt x="864" y="2495"/>
                  </a:lnTo>
                  <a:lnTo>
                    <a:pt x="873" y="2498"/>
                  </a:lnTo>
                  <a:lnTo>
                    <a:pt x="882" y="2498"/>
                  </a:lnTo>
                  <a:lnTo>
                    <a:pt x="882" y="2507"/>
                  </a:lnTo>
                  <a:lnTo>
                    <a:pt x="882" y="2515"/>
                  </a:lnTo>
                  <a:lnTo>
                    <a:pt x="879" y="2524"/>
                  </a:lnTo>
                  <a:lnTo>
                    <a:pt x="870" y="2527"/>
                  </a:lnTo>
                  <a:lnTo>
                    <a:pt x="864" y="2535"/>
                  </a:lnTo>
                  <a:lnTo>
                    <a:pt x="867" y="2544"/>
                  </a:lnTo>
                  <a:lnTo>
                    <a:pt x="870" y="2553"/>
                  </a:lnTo>
                  <a:lnTo>
                    <a:pt x="876" y="2561"/>
                  </a:lnTo>
                  <a:lnTo>
                    <a:pt x="882" y="2573"/>
                  </a:lnTo>
                  <a:lnTo>
                    <a:pt x="890" y="2584"/>
                  </a:lnTo>
                  <a:lnTo>
                    <a:pt x="893" y="2593"/>
                  </a:lnTo>
                  <a:lnTo>
                    <a:pt x="896" y="2602"/>
                  </a:lnTo>
                  <a:lnTo>
                    <a:pt x="899" y="2613"/>
                  </a:lnTo>
                  <a:lnTo>
                    <a:pt x="899" y="2622"/>
                  </a:lnTo>
                  <a:lnTo>
                    <a:pt x="902" y="2631"/>
                  </a:lnTo>
                  <a:lnTo>
                    <a:pt x="905" y="2639"/>
                  </a:lnTo>
                  <a:lnTo>
                    <a:pt x="911" y="2648"/>
                  </a:lnTo>
                  <a:lnTo>
                    <a:pt x="919" y="2657"/>
                  </a:lnTo>
                  <a:lnTo>
                    <a:pt x="928" y="2662"/>
                  </a:lnTo>
                  <a:lnTo>
                    <a:pt x="937" y="2671"/>
                  </a:lnTo>
                  <a:lnTo>
                    <a:pt x="943" y="2680"/>
                  </a:lnTo>
                  <a:lnTo>
                    <a:pt x="946" y="2688"/>
                  </a:lnTo>
                  <a:lnTo>
                    <a:pt x="949" y="2697"/>
                  </a:lnTo>
                  <a:lnTo>
                    <a:pt x="949" y="2705"/>
                  </a:lnTo>
                  <a:lnTo>
                    <a:pt x="949" y="2714"/>
                  </a:lnTo>
                  <a:lnTo>
                    <a:pt x="949" y="2723"/>
                  </a:lnTo>
                  <a:lnTo>
                    <a:pt x="943" y="2731"/>
                  </a:lnTo>
                  <a:lnTo>
                    <a:pt x="934" y="2734"/>
                  </a:lnTo>
                  <a:lnTo>
                    <a:pt x="928" y="2743"/>
                  </a:lnTo>
                  <a:lnTo>
                    <a:pt x="925" y="2752"/>
                  </a:lnTo>
                  <a:lnTo>
                    <a:pt x="925" y="2760"/>
                  </a:lnTo>
                  <a:lnTo>
                    <a:pt x="922" y="2769"/>
                  </a:lnTo>
                  <a:lnTo>
                    <a:pt x="922" y="2778"/>
                  </a:lnTo>
                  <a:lnTo>
                    <a:pt x="919" y="2786"/>
                  </a:lnTo>
                  <a:lnTo>
                    <a:pt x="911" y="2795"/>
                  </a:lnTo>
                  <a:lnTo>
                    <a:pt x="908" y="2803"/>
                  </a:lnTo>
                  <a:lnTo>
                    <a:pt x="908" y="2812"/>
                  </a:lnTo>
                  <a:lnTo>
                    <a:pt x="911" y="2821"/>
                  </a:lnTo>
                  <a:lnTo>
                    <a:pt x="922" y="2827"/>
                  </a:lnTo>
                  <a:lnTo>
                    <a:pt x="934" y="2832"/>
                  </a:lnTo>
                  <a:lnTo>
                    <a:pt x="940" y="2841"/>
                  </a:lnTo>
                  <a:lnTo>
                    <a:pt x="922" y="2832"/>
                  </a:lnTo>
                  <a:lnTo>
                    <a:pt x="946" y="2824"/>
                  </a:lnTo>
                  <a:lnTo>
                    <a:pt x="946" y="2832"/>
                  </a:lnTo>
                  <a:lnTo>
                    <a:pt x="946" y="2841"/>
                  </a:lnTo>
                  <a:lnTo>
                    <a:pt x="946" y="2850"/>
                  </a:lnTo>
                  <a:lnTo>
                    <a:pt x="940" y="2858"/>
                  </a:lnTo>
                  <a:lnTo>
                    <a:pt x="931" y="2861"/>
                  </a:lnTo>
                  <a:lnTo>
                    <a:pt x="922" y="2867"/>
                  </a:lnTo>
                  <a:lnTo>
                    <a:pt x="917" y="2876"/>
                  </a:lnTo>
                  <a:lnTo>
                    <a:pt x="919" y="2884"/>
                  </a:lnTo>
                  <a:lnTo>
                    <a:pt x="922" y="2893"/>
                  </a:lnTo>
                  <a:lnTo>
                    <a:pt x="917" y="2901"/>
                  </a:lnTo>
                  <a:lnTo>
                    <a:pt x="925" y="2904"/>
                  </a:lnTo>
                  <a:lnTo>
                    <a:pt x="934" y="2904"/>
                  </a:lnTo>
                  <a:lnTo>
                    <a:pt x="943" y="2904"/>
                  </a:lnTo>
                  <a:lnTo>
                    <a:pt x="951" y="2899"/>
                  </a:lnTo>
                  <a:lnTo>
                    <a:pt x="960" y="2893"/>
                  </a:lnTo>
                  <a:lnTo>
                    <a:pt x="969" y="2893"/>
                  </a:lnTo>
                  <a:lnTo>
                    <a:pt x="978" y="2899"/>
                  </a:lnTo>
                  <a:lnTo>
                    <a:pt x="983" y="2907"/>
                  </a:lnTo>
                  <a:lnTo>
                    <a:pt x="975" y="2904"/>
                  </a:lnTo>
                  <a:lnTo>
                    <a:pt x="966" y="2899"/>
                  </a:lnTo>
                  <a:lnTo>
                    <a:pt x="954" y="2896"/>
                  </a:lnTo>
                  <a:lnTo>
                    <a:pt x="940" y="2893"/>
                  </a:lnTo>
                  <a:lnTo>
                    <a:pt x="943" y="2910"/>
                  </a:lnTo>
                  <a:lnTo>
                    <a:pt x="951" y="2930"/>
                  </a:lnTo>
                  <a:lnTo>
                    <a:pt x="943" y="2933"/>
                  </a:lnTo>
                  <a:lnTo>
                    <a:pt x="940" y="2942"/>
                  </a:lnTo>
                  <a:lnTo>
                    <a:pt x="937" y="2950"/>
                  </a:lnTo>
                  <a:lnTo>
                    <a:pt x="946" y="2956"/>
                  </a:lnTo>
                  <a:lnTo>
                    <a:pt x="949" y="2965"/>
                  </a:lnTo>
                  <a:lnTo>
                    <a:pt x="951" y="2974"/>
                  </a:lnTo>
                  <a:lnTo>
                    <a:pt x="951" y="2982"/>
                  </a:lnTo>
                  <a:lnTo>
                    <a:pt x="951" y="2991"/>
                  </a:lnTo>
                  <a:lnTo>
                    <a:pt x="954" y="2999"/>
                  </a:lnTo>
                  <a:lnTo>
                    <a:pt x="957" y="3011"/>
                  </a:lnTo>
                  <a:lnTo>
                    <a:pt x="963" y="3002"/>
                  </a:lnTo>
                  <a:lnTo>
                    <a:pt x="963" y="2994"/>
                  </a:lnTo>
                  <a:lnTo>
                    <a:pt x="963" y="2985"/>
                  </a:lnTo>
                  <a:lnTo>
                    <a:pt x="963" y="2976"/>
                  </a:lnTo>
                  <a:lnTo>
                    <a:pt x="963" y="2968"/>
                  </a:lnTo>
                  <a:lnTo>
                    <a:pt x="969" y="2959"/>
                  </a:lnTo>
                  <a:lnTo>
                    <a:pt x="978" y="2953"/>
                  </a:lnTo>
                  <a:lnTo>
                    <a:pt x="983" y="2945"/>
                  </a:lnTo>
                  <a:lnTo>
                    <a:pt x="992" y="2942"/>
                  </a:lnTo>
                  <a:lnTo>
                    <a:pt x="1004" y="2945"/>
                  </a:lnTo>
                  <a:lnTo>
                    <a:pt x="1016" y="2945"/>
                  </a:lnTo>
                  <a:lnTo>
                    <a:pt x="1024" y="2945"/>
                  </a:lnTo>
                  <a:lnTo>
                    <a:pt x="1027" y="2936"/>
                  </a:lnTo>
                  <a:lnTo>
                    <a:pt x="1036" y="2945"/>
                  </a:lnTo>
                  <a:lnTo>
                    <a:pt x="1042" y="2953"/>
                  </a:lnTo>
                  <a:lnTo>
                    <a:pt x="1050" y="2962"/>
                  </a:lnTo>
                  <a:lnTo>
                    <a:pt x="1059" y="2971"/>
                  </a:lnTo>
                  <a:lnTo>
                    <a:pt x="1045" y="2959"/>
                  </a:lnTo>
                  <a:lnTo>
                    <a:pt x="1042" y="2950"/>
                  </a:lnTo>
                  <a:lnTo>
                    <a:pt x="1042" y="2942"/>
                  </a:lnTo>
                  <a:lnTo>
                    <a:pt x="1042" y="2933"/>
                  </a:lnTo>
                  <a:lnTo>
                    <a:pt x="1042" y="2925"/>
                  </a:lnTo>
                  <a:lnTo>
                    <a:pt x="1033" y="2916"/>
                  </a:lnTo>
                  <a:lnTo>
                    <a:pt x="1021" y="2907"/>
                  </a:lnTo>
                  <a:lnTo>
                    <a:pt x="1013" y="2899"/>
                  </a:lnTo>
                  <a:lnTo>
                    <a:pt x="1007" y="2890"/>
                  </a:lnTo>
                  <a:lnTo>
                    <a:pt x="1018" y="2893"/>
                  </a:lnTo>
                  <a:lnTo>
                    <a:pt x="1027" y="2896"/>
                  </a:lnTo>
                  <a:lnTo>
                    <a:pt x="1036" y="2901"/>
                  </a:lnTo>
                  <a:lnTo>
                    <a:pt x="1045" y="2907"/>
                  </a:lnTo>
                  <a:lnTo>
                    <a:pt x="1050" y="2916"/>
                  </a:lnTo>
                  <a:lnTo>
                    <a:pt x="1042" y="2913"/>
                  </a:lnTo>
                  <a:lnTo>
                    <a:pt x="1033" y="2907"/>
                  </a:lnTo>
                  <a:lnTo>
                    <a:pt x="1021" y="2899"/>
                  </a:lnTo>
                  <a:lnTo>
                    <a:pt x="1010" y="2896"/>
                  </a:lnTo>
                  <a:lnTo>
                    <a:pt x="1004" y="2887"/>
                  </a:lnTo>
                  <a:lnTo>
                    <a:pt x="1013" y="2881"/>
                  </a:lnTo>
                  <a:lnTo>
                    <a:pt x="1018" y="2873"/>
                  </a:lnTo>
                  <a:lnTo>
                    <a:pt x="1018" y="2864"/>
                  </a:lnTo>
                  <a:lnTo>
                    <a:pt x="1021" y="2855"/>
                  </a:lnTo>
                  <a:lnTo>
                    <a:pt x="1021" y="2847"/>
                  </a:lnTo>
                  <a:lnTo>
                    <a:pt x="1021" y="2838"/>
                  </a:lnTo>
                  <a:lnTo>
                    <a:pt x="1021" y="2829"/>
                  </a:lnTo>
                  <a:lnTo>
                    <a:pt x="1021" y="2821"/>
                  </a:lnTo>
                  <a:lnTo>
                    <a:pt x="1024" y="2812"/>
                  </a:lnTo>
                  <a:lnTo>
                    <a:pt x="1033" y="2812"/>
                  </a:lnTo>
                  <a:lnTo>
                    <a:pt x="1042" y="2809"/>
                  </a:lnTo>
                  <a:lnTo>
                    <a:pt x="1042" y="2818"/>
                  </a:lnTo>
                  <a:lnTo>
                    <a:pt x="1042" y="2827"/>
                  </a:lnTo>
                  <a:lnTo>
                    <a:pt x="1042" y="2835"/>
                  </a:lnTo>
                  <a:lnTo>
                    <a:pt x="1042" y="2844"/>
                  </a:lnTo>
                  <a:lnTo>
                    <a:pt x="1050" y="2850"/>
                  </a:lnTo>
                  <a:lnTo>
                    <a:pt x="1056" y="2841"/>
                  </a:lnTo>
                  <a:lnTo>
                    <a:pt x="1065" y="2841"/>
                  </a:lnTo>
                  <a:lnTo>
                    <a:pt x="1068" y="2850"/>
                  </a:lnTo>
                  <a:lnTo>
                    <a:pt x="1071" y="2841"/>
                  </a:lnTo>
                  <a:lnTo>
                    <a:pt x="1071" y="2832"/>
                  </a:lnTo>
                  <a:lnTo>
                    <a:pt x="1080" y="2827"/>
                  </a:lnTo>
                  <a:lnTo>
                    <a:pt x="1088" y="2827"/>
                  </a:lnTo>
                  <a:lnTo>
                    <a:pt x="1100" y="2835"/>
                  </a:lnTo>
                  <a:lnTo>
                    <a:pt x="1109" y="2835"/>
                  </a:lnTo>
                  <a:lnTo>
                    <a:pt x="1120" y="2835"/>
                  </a:lnTo>
                  <a:lnTo>
                    <a:pt x="1129" y="2835"/>
                  </a:lnTo>
                  <a:lnTo>
                    <a:pt x="1138" y="2838"/>
                  </a:lnTo>
                  <a:lnTo>
                    <a:pt x="1147" y="2841"/>
                  </a:lnTo>
                  <a:lnTo>
                    <a:pt x="1155" y="2844"/>
                  </a:lnTo>
                  <a:lnTo>
                    <a:pt x="1149" y="2852"/>
                  </a:lnTo>
                  <a:lnTo>
                    <a:pt x="1149" y="2861"/>
                  </a:lnTo>
                  <a:lnTo>
                    <a:pt x="1149" y="2870"/>
                  </a:lnTo>
                  <a:lnTo>
                    <a:pt x="1158" y="2878"/>
                  </a:lnTo>
                  <a:lnTo>
                    <a:pt x="1170" y="2878"/>
                  </a:lnTo>
                  <a:lnTo>
                    <a:pt x="1179" y="2878"/>
                  </a:lnTo>
                  <a:lnTo>
                    <a:pt x="1187" y="2878"/>
                  </a:lnTo>
                  <a:lnTo>
                    <a:pt x="1196" y="2878"/>
                  </a:lnTo>
                  <a:lnTo>
                    <a:pt x="1205" y="2876"/>
                  </a:lnTo>
                  <a:lnTo>
                    <a:pt x="1216" y="2873"/>
                  </a:lnTo>
                  <a:lnTo>
                    <a:pt x="1225" y="2873"/>
                  </a:lnTo>
                  <a:lnTo>
                    <a:pt x="1234" y="2873"/>
                  </a:lnTo>
                  <a:lnTo>
                    <a:pt x="1243" y="2873"/>
                  </a:lnTo>
                  <a:lnTo>
                    <a:pt x="1251" y="2873"/>
                  </a:lnTo>
                  <a:lnTo>
                    <a:pt x="1254" y="2884"/>
                  </a:lnTo>
                  <a:lnTo>
                    <a:pt x="1257" y="2893"/>
                  </a:lnTo>
                  <a:lnTo>
                    <a:pt x="1257" y="2901"/>
                  </a:lnTo>
                  <a:lnTo>
                    <a:pt x="1272" y="2907"/>
                  </a:lnTo>
                  <a:lnTo>
                    <a:pt x="1263" y="2913"/>
                  </a:lnTo>
                  <a:lnTo>
                    <a:pt x="1254" y="2913"/>
                  </a:lnTo>
                  <a:lnTo>
                    <a:pt x="1245" y="2913"/>
                  </a:lnTo>
                  <a:lnTo>
                    <a:pt x="1248" y="2878"/>
                  </a:lnTo>
                  <a:lnTo>
                    <a:pt x="1245" y="2896"/>
                  </a:lnTo>
                  <a:lnTo>
                    <a:pt x="1237" y="2896"/>
                  </a:lnTo>
                  <a:lnTo>
                    <a:pt x="1228" y="2893"/>
                  </a:lnTo>
                  <a:lnTo>
                    <a:pt x="1219" y="2896"/>
                  </a:lnTo>
                  <a:lnTo>
                    <a:pt x="1211" y="2896"/>
                  </a:lnTo>
                  <a:lnTo>
                    <a:pt x="1202" y="2896"/>
                  </a:lnTo>
                  <a:lnTo>
                    <a:pt x="1193" y="2893"/>
                  </a:lnTo>
                  <a:lnTo>
                    <a:pt x="1184" y="2890"/>
                  </a:lnTo>
                  <a:lnTo>
                    <a:pt x="1176" y="2890"/>
                  </a:lnTo>
                  <a:lnTo>
                    <a:pt x="1167" y="2887"/>
                  </a:lnTo>
                  <a:lnTo>
                    <a:pt x="1155" y="2887"/>
                  </a:lnTo>
                  <a:lnTo>
                    <a:pt x="1147" y="2887"/>
                  </a:lnTo>
                  <a:lnTo>
                    <a:pt x="1135" y="2887"/>
                  </a:lnTo>
                  <a:lnTo>
                    <a:pt x="1132" y="2896"/>
                  </a:lnTo>
                  <a:lnTo>
                    <a:pt x="1132" y="2904"/>
                  </a:lnTo>
                  <a:lnTo>
                    <a:pt x="1132" y="2913"/>
                  </a:lnTo>
                  <a:lnTo>
                    <a:pt x="1144" y="2916"/>
                  </a:lnTo>
                  <a:lnTo>
                    <a:pt x="1144" y="2925"/>
                  </a:lnTo>
                  <a:lnTo>
                    <a:pt x="1129" y="2927"/>
                  </a:lnTo>
                  <a:lnTo>
                    <a:pt x="1120" y="2927"/>
                  </a:lnTo>
                  <a:lnTo>
                    <a:pt x="1112" y="2927"/>
                  </a:lnTo>
                  <a:lnTo>
                    <a:pt x="1114" y="2936"/>
                  </a:lnTo>
                  <a:lnTo>
                    <a:pt x="1123" y="2936"/>
                  </a:lnTo>
                  <a:lnTo>
                    <a:pt x="1132" y="2942"/>
                  </a:lnTo>
                  <a:lnTo>
                    <a:pt x="1144" y="2948"/>
                  </a:lnTo>
                  <a:lnTo>
                    <a:pt x="1135" y="2953"/>
                  </a:lnTo>
                  <a:lnTo>
                    <a:pt x="1123" y="2953"/>
                  </a:lnTo>
                  <a:lnTo>
                    <a:pt x="1112" y="2953"/>
                  </a:lnTo>
                  <a:lnTo>
                    <a:pt x="1103" y="2953"/>
                  </a:lnTo>
                  <a:lnTo>
                    <a:pt x="1106" y="2962"/>
                  </a:lnTo>
                  <a:lnTo>
                    <a:pt x="1114" y="2965"/>
                  </a:lnTo>
                  <a:lnTo>
                    <a:pt x="1123" y="2974"/>
                  </a:lnTo>
                  <a:lnTo>
                    <a:pt x="1114" y="2982"/>
                  </a:lnTo>
                  <a:lnTo>
                    <a:pt x="1117" y="2991"/>
                  </a:lnTo>
                  <a:lnTo>
                    <a:pt x="1126" y="2994"/>
                  </a:lnTo>
                  <a:lnTo>
                    <a:pt x="1114" y="2999"/>
                  </a:lnTo>
                  <a:lnTo>
                    <a:pt x="1106" y="2999"/>
                  </a:lnTo>
                  <a:lnTo>
                    <a:pt x="1117" y="3005"/>
                  </a:lnTo>
                  <a:lnTo>
                    <a:pt x="1132" y="3008"/>
                  </a:lnTo>
                  <a:lnTo>
                    <a:pt x="1135" y="3017"/>
                  </a:lnTo>
                  <a:lnTo>
                    <a:pt x="1126" y="3022"/>
                  </a:lnTo>
                  <a:lnTo>
                    <a:pt x="1126" y="3034"/>
                  </a:lnTo>
                  <a:lnTo>
                    <a:pt x="1126" y="3046"/>
                  </a:lnTo>
                  <a:lnTo>
                    <a:pt x="1126" y="3054"/>
                  </a:lnTo>
                  <a:lnTo>
                    <a:pt x="1135" y="3054"/>
                  </a:lnTo>
                  <a:lnTo>
                    <a:pt x="1144" y="3054"/>
                  </a:lnTo>
                  <a:lnTo>
                    <a:pt x="1155" y="3054"/>
                  </a:lnTo>
                  <a:lnTo>
                    <a:pt x="1164" y="3054"/>
                  </a:lnTo>
                  <a:lnTo>
                    <a:pt x="1167" y="3063"/>
                  </a:lnTo>
                  <a:lnTo>
                    <a:pt x="1179" y="3069"/>
                  </a:lnTo>
                  <a:lnTo>
                    <a:pt x="1187" y="3069"/>
                  </a:lnTo>
                  <a:lnTo>
                    <a:pt x="1190" y="3080"/>
                  </a:lnTo>
                  <a:lnTo>
                    <a:pt x="1193" y="3089"/>
                  </a:lnTo>
                  <a:lnTo>
                    <a:pt x="1199" y="3097"/>
                  </a:lnTo>
                  <a:lnTo>
                    <a:pt x="1211" y="3103"/>
                  </a:lnTo>
                  <a:lnTo>
                    <a:pt x="1219" y="3103"/>
                  </a:lnTo>
                  <a:lnTo>
                    <a:pt x="1231" y="3103"/>
                  </a:lnTo>
                  <a:lnTo>
                    <a:pt x="1240" y="3100"/>
                  </a:lnTo>
                  <a:lnTo>
                    <a:pt x="1243" y="3092"/>
                  </a:lnTo>
                  <a:lnTo>
                    <a:pt x="1248" y="3083"/>
                  </a:lnTo>
                  <a:lnTo>
                    <a:pt x="1257" y="3083"/>
                  </a:lnTo>
                  <a:lnTo>
                    <a:pt x="1278" y="3097"/>
                  </a:lnTo>
                  <a:lnTo>
                    <a:pt x="1286" y="3103"/>
                  </a:lnTo>
                  <a:lnTo>
                    <a:pt x="1289" y="3112"/>
                  </a:lnTo>
                  <a:lnTo>
                    <a:pt x="1295" y="3120"/>
                  </a:lnTo>
                  <a:lnTo>
                    <a:pt x="1301" y="3129"/>
                  </a:lnTo>
                  <a:lnTo>
                    <a:pt x="1312" y="3141"/>
                  </a:lnTo>
                  <a:lnTo>
                    <a:pt x="1324" y="3146"/>
                  </a:lnTo>
                  <a:lnTo>
                    <a:pt x="1336" y="3152"/>
                  </a:lnTo>
                  <a:lnTo>
                    <a:pt x="1347" y="3155"/>
                  </a:lnTo>
                  <a:lnTo>
                    <a:pt x="1356" y="3155"/>
                  </a:lnTo>
                  <a:lnTo>
                    <a:pt x="1365" y="3155"/>
                  </a:lnTo>
                  <a:lnTo>
                    <a:pt x="1374" y="3155"/>
                  </a:lnTo>
                  <a:lnTo>
                    <a:pt x="1376" y="3146"/>
                  </a:lnTo>
                  <a:lnTo>
                    <a:pt x="1385" y="3138"/>
                  </a:lnTo>
                  <a:lnTo>
                    <a:pt x="1391" y="3129"/>
                  </a:lnTo>
                  <a:lnTo>
                    <a:pt x="1400" y="3132"/>
                  </a:lnTo>
                  <a:lnTo>
                    <a:pt x="1409" y="3138"/>
                  </a:lnTo>
                  <a:lnTo>
                    <a:pt x="1417" y="3149"/>
                  </a:lnTo>
                  <a:lnTo>
                    <a:pt x="1429" y="3152"/>
                  </a:lnTo>
                  <a:lnTo>
                    <a:pt x="1435" y="3155"/>
                  </a:lnTo>
                  <a:lnTo>
                    <a:pt x="1438" y="3164"/>
                  </a:lnTo>
                  <a:lnTo>
                    <a:pt x="1441" y="3172"/>
                  </a:lnTo>
                  <a:lnTo>
                    <a:pt x="1449" y="3178"/>
                  </a:lnTo>
                  <a:lnTo>
                    <a:pt x="1458" y="3178"/>
                  </a:lnTo>
                  <a:lnTo>
                    <a:pt x="1464" y="3169"/>
                  </a:lnTo>
                  <a:lnTo>
                    <a:pt x="1464" y="3161"/>
                  </a:lnTo>
                  <a:lnTo>
                    <a:pt x="1470" y="3152"/>
                  </a:lnTo>
                  <a:lnTo>
                    <a:pt x="1478" y="3152"/>
                  </a:lnTo>
                  <a:lnTo>
                    <a:pt x="1487" y="3155"/>
                  </a:lnTo>
                  <a:lnTo>
                    <a:pt x="1499" y="3161"/>
                  </a:lnTo>
                  <a:lnTo>
                    <a:pt x="1510" y="3161"/>
                  </a:lnTo>
                  <a:lnTo>
                    <a:pt x="1519" y="3161"/>
                  </a:lnTo>
                  <a:lnTo>
                    <a:pt x="1528" y="3161"/>
                  </a:lnTo>
                  <a:lnTo>
                    <a:pt x="1537" y="3158"/>
                  </a:lnTo>
                  <a:lnTo>
                    <a:pt x="1545" y="3158"/>
                  </a:lnTo>
                  <a:lnTo>
                    <a:pt x="1554" y="3164"/>
                  </a:lnTo>
                  <a:lnTo>
                    <a:pt x="1569" y="3169"/>
                  </a:lnTo>
                  <a:lnTo>
                    <a:pt x="1580" y="3169"/>
                  </a:lnTo>
                  <a:lnTo>
                    <a:pt x="1592" y="3169"/>
                  </a:lnTo>
                  <a:lnTo>
                    <a:pt x="1601" y="3169"/>
                  </a:lnTo>
                  <a:lnTo>
                    <a:pt x="1609" y="3169"/>
                  </a:lnTo>
                  <a:lnTo>
                    <a:pt x="1618" y="3169"/>
                  </a:lnTo>
                  <a:lnTo>
                    <a:pt x="1627" y="3169"/>
                  </a:lnTo>
                  <a:lnTo>
                    <a:pt x="1636" y="3169"/>
                  </a:lnTo>
                  <a:lnTo>
                    <a:pt x="1644" y="3169"/>
                  </a:lnTo>
                  <a:lnTo>
                    <a:pt x="1653" y="3169"/>
                  </a:lnTo>
                  <a:lnTo>
                    <a:pt x="1662" y="3169"/>
                  </a:lnTo>
                  <a:lnTo>
                    <a:pt x="1671" y="3169"/>
                  </a:lnTo>
                  <a:lnTo>
                    <a:pt x="1679" y="3169"/>
                  </a:lnTo>
                  <a:lnTo>
                    <a:pt x="1688" y="3169"/>
                  </a:lnTo>
                  <a:lnTo>
                    <a:pt x="1703" y="3169"/>
                  </a:lnTo>
                  <a:lnTo>
                    <a:pt x="1714" y="3172"/>
                  </a:lnTo>
                  <a:lnTo>
                    <a:pt x="1726" y="3175"/>
                  </a:lnTo>
                  <a:lnTo>
                    <a:pt x="1735" y="3175"/>
                  </a:lnTo>
                  <a:lnTo>
                    <a:pt x="1743" y="3175"/>
                  </a:lnTo>
                  <a:lnTo>
                    <a:pt x="1758" y="3175"/>
                  </a:lnTo>
                  <a:lnTo>
                    <a:pt x="1767" y="3175"/>
                  </a:lnTo>
                  <a:lnTo>
                    <a:pt x="1772" y="3167"/>
                  </a:lnTo>
                  <a:lnTo>
                    <a:pt x="1772" y="3158"/>
                  </a:lnTo>
                  <a:lnTo>
                    <a:pt x="1772" y="3149"/>
                  </a:lnTo>
                  <a:lnTo>
                    <a:pt x="1772" y="3141"/>
                  </a:lnTo>
                  <a:lnTo>
                    <a:pt x="1772" y="3132"/>
                  </a:lnTo>
                  <a:lnTo>
                    <a:pt x="1772" y="3123"/>
                  </a:lnTo>
                  <a:lnTo>
                    <a:pt x="1772" y="3112"/>
                  </a:lnTo>
                  <a:lnTo>
                    <a:pt x="1770" y="3103"/>
                  </a:lnTo>
                  <a:lnTo>
                    <a:pt x="1770" y="3095"/>
                  </a:lnTo>
                  <a:lnTo>
                    <a:pt x="1770" y="3086"/>
                  </a:lnTo>
                  <a:lnTo>
                    <a:pt x="1778" y="3080"/>
                  </a:lnTo>
                  <a:lnTo>
                    <a:pt x="1787" y="3080"/>
                  </a:lnTo>
                  <a:lnTo>
                    <a:pt x="1796" y="3089"/>
                  </a:lnTo>
                  <a:lnTo>
                    <a:pt x="1802" y="3097"/>
                  </a:lnTo>
                  <a:lnTo>
                    <a:pt x="1813" y="3103"/>
                  </a:lnTo>
                  <a:lnTo>
                    <a:pt x="1825" y="3112"/>
                  </a:lnTo>
                  <a:lnTo>
                    <a:pt x="1854" y="3109"/>
                  </a:lnTo>
                  <a:lnTo>
                    <a:pt x="1836" y="3103"/>
                  </a:lnTo>
                  <a:lnTo>
                    <a:pt x="1854" y="3103"/>
                  </a:lnTo>
                  <a:lnTo>
                    <a:pt x="1863" y="3103"/>
                  </a:lnTo>
                  <a:lnTo>
                    <a:pt x="1871" y="3103"/>
                  </a:lnTo>
                  <a:lnTo>
                    <a:pt x="1880" y="3106"/>
                  </a:lnTo>
                  <a:lnTo>
                    <a:pt x="1889" y="3100"/>
                  </a:lnTo>
                  <a:lnTo>
                    <a:pt x="1898" y="3097"/>
                  </a:lnTo>
                  <a:lnTo>
                    <a:pt x="1906" y="3095"/>
                  </a:lnTo>
                  <a:lnTo>
                    <a:pt x="1918" y="3103"/>
                  </a:lnTo>
                  <a:lnTo>
                    <a:pt x="1924" y="3112"/>
                  </a:lnTo>
                  <a:lnTo>
                    <a:pt x="1924" y="3120"/>
                  </a:lnTo>
                  <a:lnTo>
                    <a:pt x="1921" y="3129"/>
                  </a:lnTo>
                  <a:lnTo>
                    <a:pt x="1924" y="3138"/>
                  </a:lnTo>
                  <a:lnTo>
                    <a:pt x="1933" y="3144"/>
                  </a:lnTo>
                  <a:lnTo>
                    <a:pt x="1944" y="3152"/>
                  </a:lnTo>
                  <a:lnTo>
                    <a:pt x="1947" y="3144"/>
                  </a:lnTo>
                  <a:lnTo>
                    <a:pt x="1947" y="3135"/>
                  </a:lnTo>
                  <a:lnTo>
                    <a:pt x="1947" y="3126"/>
                  </a:lnTo>
                  <a:lnTo>
                    <a:pt x="1947" y="3118"/>
                  </a:lnTo>
                  <a:lnTo>
                    <a:pt x="1956" y="3115"/>
                  </a:lnTo>
                  <a:lnTo>
                    <a:pt x="1962" y="3106"/>
                  </a:lnTo>
                  <a:lnTo>
                    <a:pt x="1962" y="3097"/>
                  </a:lnTo>
                  <a:lnTo>
                    <a:pt x="1962" y="3089"/>
                  </a:lnTo>
                  <a:lnTo>
                    <a:pt x="1962" y="3080"/>
                  </a:lnTo>
                  <a:lnTo>
                    <a:pt x="1962" y="3071"/>
                  </a:lnTo>
                  <a:lnTo>
                    <a:pt x="1967" y="3063"/>
                  </a:lnTo>
                  <a:lnTo>
                    <a:pt x="1976" y="3060"/>
                  </a:lnTo>
                  <a:lnTo>
                    <a:pt x="1988" y="3060"/>
                  </a:lnTo>
                  <a:lnTo>
                    <a:pt x="2002" y="3063"/>
                  </a:lnTo>
                  <a:lnTo>
                    <a:pt x="2011" y="3063"/>
                  </a:lnTo>
                  <a:lnTo>
                    <a:pt x="2002" y="3054"/>
                  </a:lnTo>
                  <a:lnTo>
                    <a:pt x="1994" y="3048"/>
                  </a:lnTo>
                  <a:lnTo>
                    <a:pt x="1979" y="3043"/>
                  </a:lnTo>
                  <a:lnTo>
                    <a:pt x="1967" y="3034"/>
                  </a:lnTo>
                  <a:lnTo>
                    <a:pt x="1962" y="3025"/>
                  </a:lnTo>
                  <a:lnTo>
                    <a:pt x="1959" y="3017"/>
                  </a:lnTo>
                  <a:lnTo>
                    <a:pt x="1956" y="3008"/>
                  </a:lnTo>
                  <a:lnTo>
                    <a:pt x="1950" y="2999"/>
                  </a:lnTo>
                  <a:lnTo>
                    <a:pt x="1944" y="2991"/>
                  </a:lnTo>
                  <a:lnTo>
                    <a:pt x="1938" y="2982"/>
                  </a:lnTo>
                  <a:lnTo>
                    <a:pt x="1933" y="2974"/>
                  </a:lnTo>
                  <a:lnTo>
                    <a:pt x="1927" y="2965"/>
                  </a:lnTo>
                  <a:lnTo>
                    <a:pt x="1924" y="2956"/>
                  </a:lnTo>
                  <a:lnTo>
                    <a:pt x="1921" y="2948"/>
                  </a:lnTo>
                  <a:lnTo>
                    <a:pt x="1918" y="2939"/>
                  </a:lnTo>
                  <a:lnTo>
                    <a:pt x="1915" y="2930"/>
                  </a:lnTo>
                  <a:lnTo>
                    <a:pt x="1912" y="2922"/>
                  </a:lnTo>
                  <a:lnTo>
                    <a:pt x="1915" y="2913"/>
                  </a:lnTo>
                  <a:lnTo>
                    <a:pt x="1915" y="2904"/>
                  </a:lnTo>
                  <a:lnTo>
                    <a:pt x="1915" y="2896"/>
                  </a:lnTo>
                  <a:lnTo>
                    <a:pt x="1915" y="2887"/>
                  </a:lnTo>
                  <a:lnTo>
                    <a:pt x="1912" y="2878"/>
                  </a:lnTo>
                  <a:lnTo>
                    <a:pt x="1909" y="2870"/>
                  </a:lnTo>
                  <a:lnTo>
                    <a:pt x="1903" y="2861"/>
                  </a:lnTo>
                  <a:lnTo>
                    <a:pt x="1895" y="2852"/>
                  </a:lnTo>
                  <a:lnTo>
                    <a:pt x="1892" y="2844"/>
                  </a:lnTo>
                  <a:lnTo>
                    <a:pt x="1892" y="2835"/>
                  </a:lnTo>
                  <a:lnTo>
                    <a:pt x="1898" y="2827"/>
                  </a:lnTo>
                  <a:lnTo>
                    <a:pt x="1906" y="2824"/>
                  </a:lnTo>
                  <a:lnTo>
                    <a:pt x="1918" y="2821"/>
                  </a:lnTo>
                  <a:lnTo>
                    <a:pt x="1930" y="2818"/>
                  </a:lnTo>
                  <a:lnTo>
                    <a:pt x="1938" y="2812"/>
                  </a:lnTo>
                  <a:lnTo>
                    <a:pt x="1944" y="2803"/>
                  </a:lnTo>
                  <a:lnTo>
                    <a:pt x="1953" y="2798"/>
                  </a:lnTo>
                  <a:lnTo>
                    <a:pt x="1962" y="2798"/>
                  </a:lnTo>
                  <a:lnTo>
                    <a:pt x="1970" y="2798"/>
                  </a:lnTo>
                  <a:lnTo>
                    <a:pt x="1976" y="2789"/>
                  </a:lnTo>
                  <a:lnTo>
                    <a:pt x="1982" y="2780"/>
                  </a:lnTo>
                  <a:lnTo>
                    <a:pt x="1991" y="2775"/>
                  </a:lnTo>
                  <a:lnTo>
                    <a:pt x="1999" y="2775"/>
                  </a:lnTo>
                  <a:lnTo>
                    <a:pt x="2008" y="2769"/>
                  </a:lnTo>
                  <a:lnTo>
                    <a:pt x="2017" y="2763"/>
                  </a:lnTo>
                  <a:lnTo>
                    <a:pt x="2026" y="2760"/>
                  </a:lnTo>
                  <a:lnTo>
                    <a:pt x="2034" y="2760"/>
                  </a:lnTo>
                  <a:lnTo>
                    <a:pt x="2043" y="2760"/>
                  </a:lnTo>
                  <a:lnTo>
                    <a:pt x="2052" y="2754"/>
                  </a:lnTo>
                  <a:lnTo>
                    <a:pt x="2061" y="2754"/>
                  </a:lnTo>
                  <a:lnTo>
                    <a:pt x="2069" y="2757"/>
                  </a:lnTo>
                  <a:lnTo>
                    <a:pt x="2078" y="2757"/>
                  </a:lnTo>
                  <a:lnTo>
                    <a:pt x="2093" y="2760"/>
                  </a:lnTo>
                  <a:lnTo>
                    <a:pt x="2101" y="2760"/>
                  </a:lnTo>
                  <a:lnTo>
                    <a:pt x="2101" y="2769"/>
                  </a:lnTo>
                  <a:lnTo>
                    <a:pt x="2101" y="2778"/>
                  </a:lnTo>
                  <a:lnTo>
                    <a:pt x="2101" y="2786"/>
                  </a:lnTo>
                  <a:lnTo>
                    <a:pt x="2104" y="2795"/>
                  </a:lnTo>
                  <a:lnTo>
                    <a:pt x="2104" y="2803"/>
                  </a:lnTo>
                  <a:lnTo>
                    <a:pt x="2104" y="2812"/>
                  </a:lnTo>
                  <a:lnTo>
                    <a:pt x="2104" y="2821"/>
                  </a:lnTo>
                  <a:lnTo>
                    <a:pt x="2104" y="2829"/>
                  </a:lnTo>
                  <a:lnTo>
                    <a:pt x="2104" y="2838"/>
                  </a:lnTo>
                  <a:lnTo>
                    <a:pt x="2096" y="2841"/>
                  </a:lnTo>
                  <a:lnTo>
                    <a:pt x="2087" y="2841"/>
                  </a:lnTo>
                  <a:lnTo>
                    <a:pt x="2078" y="2841"/>
                  </a:lnTo>
                  <a:lnTo>
                    <a:pt x="2069" y="2841"/>
                  </a:lnTo>
                  <a:lnTo>
                    <a:pt x="2061" y="2841"/>
                  </a:lnTo>
                  <a:lnTo>
                    <a:pt x="2069" y="2841"/>
                  </a:lnTo>
                  <a:lnTo>
                    <a:pt x="2078" y="2835"/>
                  </a:lnTo>
                  <a:lnTo>
                    <a:pt x="2090" y="2835"/>
                  </a:lnTo>
                  <a:lnTo>
                    <a:pt x="2081" y="2832"/>
                  </a:lnTo>
                  <a:lnTo>
                    <a:pt x="2072" y="2832"/>
                  </a:lnTo>
                  <a:lnTo>
                    <a:pt x="2064" y="2832"/>
                  </a:lnTo>
                  <a:lnTo>
                    <a:pt x="2058" y="2841"/>
                  </a:lnTo>
                  <a:lnTo>
                    <a:pt x="2049" y="2844"/>
                  </a:lnTo>
                  <a:lnTo>
                    <a:pt x="2040" y="2847"/>
                  </a:lnTo>
                  <a:lnTo>
                    <a:pt x="2040" y="2855"/>
                  </a:lnTo>
                  <a:lnTo>
                    <a:pt x="2040" y="2864"/>
                  </a:lnTo>
                  <a:lnTo>
                    <a:pt x="2032" y="2870"/>
                  </a:lnTo>
                  <a:lnTo>
                    <a:pt x="2020" y="2870"/>
                  </a:lnTo>
                  <a:lnTo>
                    <a:pt x="2017" y="2861"/>
                  </a:lnTo>
                  <a:lnTo>
                    <a:pt x="2008" y="2858"/>
                  </a:lnTo>
                  <a:lnTo>
                    <a:pt x="2002" y="2867"/>
                  </a:lnTo>
                  <a:lnTo>
                    <a:pt x="2002" y="2876"/>
                  </a:lnTo>
                  <a:lnTo>
                    <a:pt x="2011" y="2878"/>
                  </a:lnTo>
                  <a:lnTo>
                    <a:pt x="2020" y="2884"/>
                  </a:lnTo>
                  <a:lnTo>
                    <a:pt x="2029" y="2896"/>
                  </a:lnTo>
                  <a:lnTo>
                    <a:pt x="2034" y="2907"/>
                  </a:lnTo>
                  <a:lnTo>
                    <a:pt x="2037" y="2916"/>
                  </a:lnTo>
                  <a:lnTo>
                    <a:pt x="2037" y="2925"/>
                  </a:lnTo>
                  <a:lnTo>
                    <a:pt x="2040" y="2933"/>
                  </a:lnTo>
                  <a:lnTo>
                    <a:pt x="2040" y="2942"/>
                  </a:lnTo>
                  <a:lnTo>
                    <a:pt x="2052" y="2945"/>
                  </a:lnTo>
                  <a:lnTo>
                    <a:pt x="2061" y="2953"/>
                  </a:lnTo>
                  <a:lnTo>
                    <a:pt x="2069" y="2959"/>
                  </a:lnTo>
                  <a:lnTo>
                    <a:pt x="2078" y="2965"/>
                  </a:lnTo>
                  <a:lnTo>
                    <a:pt x="2087" y="2965"/>
                  </a:lnTo>
                  <a:lnTo>
                    <a:pt x="2093" y="2976"/>
                  </a:lnTo>
                  <a:lnTo>
                    <a:pt x="2087" y="2985"/>
                  </a:lnTo>
                  <a:lnTo>
                    <a:pt x="2084" y="2994"/>
                  </a:lnTo>
                  <a:lnTo>
                    <a:pt x="2084" y="3005"/>
                  </a:lnTo>
                  <a:lnTo>
                    <a:pt x="2090" y="3017"/>
                  </a:lnTo>
                  <a:lnTo>
                    <a:pt x="2090" y="3025"/>
                  </a:lnTo>
                  <a:lnTo>
                    <a:pt x="2093" y="3017"/>
                  </a:lnTo>
                  <a:lnTo>
                    <a:pt x="2093" y="3008"/>
                  </a:lnTo>
                  <a:lnTo>
                    <a:pt x="2096" y="2999"/>
                  </a:lnTo>
                  <a:lnTo>
                    <a:pt x="2096" y="2991"/>
                  </a:lnTo>
                  <a:lnTo>
                    <a:pt x="2104" y="2988"/>
                  </a:lnTo>
                  <a:lnTo>
                    <a:pt x="2113" y="2988"/>
                  </a:lnTo>
                  <a:lnTo>
                    <a:pt x="2125" y="2988"/>
                  </a:lnTo>
                  <a:lnTo>
                    <a:pt x="2130" y="2999"/>
                  </a:lnTo>
                  <a:lnTo>
                    <a:pt x="2130" y="3008"/>
                  </a:lnTo>
                  <a:lnTo>
                    <a:pt x="2133" y="3017"/>
                  </a:lnTo>
                  <a:lnTo>
                    <a:pt x="2139" y="3028"/>
                  </a:lnTo>
                  <a:lnTo>
                    <a:pt x="2148" y="3034"/>
                  </a:lnTo>
                  <a:lnTo>
                    <a:pt x="2160" y="3040"/>
                  </a:lnTo>
                  <a:lnTo>
                    <a:pt x="2151" y="3043"/>
                  </a:lnTo>
                  <a:lnTo>
                    <a:pt x="2148" y="3051"/>
                  </a:lnTo>
                  <a:lnTo>
                    <a:pt x="2133" y="3054"/>
                  </a:lnTo>
                  <a:lnTo>
                    <a:pt x="2125" y="3051"/>
                  </a:lnTo>
                  <a:lnTo>
                    <a:pt x="2116" y="3051"/>
                  </a:lnTo>
                  <a:lnTo>
                    <a:pt x="2101" y="3046"/>
                  </a:lnTo>
                  <a:lnTo>
                    <a:pt x="2093" y="3037"/>
                  </a:lnTo>
                  <a:lnTo>
                    <a:pt x="2090" y="3046"/>
                  </a:lnTo>
                  <a:lnTo>
                    <a:pt x="2090" y="3054"/>
                  </a:lnTo>
                  <a:lnTo>
                    <a:pt x="2090" y="3063"/>
                  </a:lnTo>
                  <a:lnTo>
                    <a:pt x="2090" y="3071"/>
                  </a:lnTo>
                  <a:lnTo>
                    <a:pt x="2087" y="3080"/>
                  </a:lnTo>
                  <a:lnTo>
                    <a:pt x="2084" y="3089"/>
                  </a:lnTo>
                  <a:lnTo>
                    <a:pt x="2084" y="3097"/>
                  </a:lnTo>
                  <a:lnTo>
                    <a:pt x="2096" y="3097"/>
                  </a:lnTo>
                  <a:lnTo>
                    <a:pt x="2104" y="3092"/>
                  </a:lnTo>
                  <a:lnTo>
                    <a:pt x="2110" y="3100"/>
                  </a:lnTo>
                  <a:lnTo>
                    <a:pt x="2107" y="3109"/>
                  </a:lnTo>
                  <a:lnTo>
                    <a:pt x="2098" y="3118"/>
                  </a:lnTo>
                  <a:lnTo>
                    <a:pt x="2090" y="3123"/>
                  </a:lnTo>
                  <a:lnTo>
                    <a:pt x="2087" y="3109"/>
                  </a:lnTo>
                  <a:lnTo>
                    <a:pt x="2087" y="3132"/>
                  </a:lnTo>
                  <a:lnTo>
                    <a:pt x="2096" y="3126"/>
                  </a:lnTo>
                  <a:lnTo>
                    <a:pt x="2087" y="3109"/>
                  </a:lnTo>
                  <a:lnTo>
                    <a:pt x="2104" y="3112"/>
                  </a:lnTo>
                  <a:lnTo>
                    <a:pt x="2110" y="3103"/>
                  </a:lnTo>
                  <a:lnTo>
                    <a:pt x="2110" y="3112"/>
                  </a:lnTo>
                  <a:lnTo>
                    <a:pt x="2110" y="3120"/>
                  </a:lnTo>
                  <a:lnTo>
                    <a:pt x="2116" y="3129"/>
                  </a:lnTo>
                  <a:lnTo>
                    <a:pt x="2119" y="3138"/>
                  </a:lnTo>
                  <a:lnTo>
                    <a:pt x="2122" y="3149"/>
                  </a:lnTo>
                  <a:lnTo>
                    <a:pt x="2122" y="3158"/>
                  </a:lnTo>
                  <a:lnTo>
                    <a:pt x="2125" y="3167"/>
                  </a:lnTo>
                  <a:lnTo>
                    <a:pt x="2125" y="3175"/>
                  </a:lnTo>
                  <a:lnTo>
                    <a:pt x="2125" y="3184"/>
                  </a:lnTo>
                  <a:lnTo>
                    <a:pt x="2125" y="3193"/>
                  </a:lnTo>
                  <a:lnTo>
                    <a:pt x="2128" y="3201"/>
                  </a:lnTo>
                  <a:lnTo>
                    <a:pt x="2130" y="3210"/>
                  </a:lnTo>
                  <a:lnTo>
                    <a:pt x="2139" y="3210"/>
                  </a:lnTo>
                  <a:lnTo>
                    <a:pt x="2148" y="3210"/>
                  </a:lnTo>
                  <a:lnTo>
                    <a:pt x="2157" y="3207"/>
                  </a:lnTo>
                  <a:lnTo>
                    <a:pt x="2163" y="3198"/>
                  </a:lnTo>
                  <a:lnTo>
                    <a:pt x="2171" y="3195"/>
                  </a:lnTo>
                  <a:lnTo>
                    <a:pt x="2183" y="3193"/>
                  </a:lnTo>
                  <a:lnTo>
                    <a:pt x="2192" y="3190"/>
                  </a:lnTo>
                  <a:lnTo>
                    <a:pt x="2200" y="3184"/>
                  </a:lnTo>
                  <a:lnTo>
                    <a:pt x="2209" y="3181"/>
                  </a:lnTo>
                  <a:lnTo>
                    <a:pt x="2218" y="3181"/>
                  </a:lnTo>
                  <a:lnTo>
                    <a:pt x="2224" y="3172"/>
                  </a:lnTo>
                  <a:lnTo>
                    <a:pt x="2232" y="3169"/>
                  </a:lnTo>
                  <a:lnTo>
                    <a:pt x="2241" y="3169"/>
                  </a:lnTo>
                  <a:lnTo>
                    <a:pt x="2256" y="3169"/>
                  </a:lnTo>
                  <a:lnTo>
                    <a:pt x="2264" y="3169"/>
                  </a:lnTo>
                  <a:lnTo>
                    <a:pt x="2276" y="3178"/>
                  </a:lnTo>
                  <a:lnTo>
                    <a:pt x="2288" y="3184"/>
                  </a:lnTo>
                  <a:lnTo>
                    <a:pt x="2296" y="3187"/>
                  </a:lnTo>
                  <a:lnTo>
                    <a:pt x="2308" y="3190"/>
                  </a:lnTo>
                  <a:lnTo>
                    <a:pt x="2317" y="3195"/>
                  </a:lnTo>
                  <a:lnTo>
                    <a:pt x="2328" y="3198"/>
                  </a:lnTo>
                  <a:lnTo>
                    <a:pt x="2340" y="3201"/>
                  </a:lnTo>
                  <a:lnTo>
                    <a:pt x="2349" y="3207"/>
                  </a:lnTo>
                  <a:lnTo>
                    <a:pt x="2358" y="3216"/>
                  </a:lnTo>
                  <a:lnTo>
                    <a:pt x="2366" y="3221"/>
                  </a:lnTo>
                  <a:lnTo>
                    <a:pt x="2375" y="3227"/>
                  </a:lnTo>
                  <a:lnTo>
                    <a:pt x="2387" y="3230"/>
                  </a:lnTo>
                  <a:lnTo>
                    <a:pt x="2395" y="3230"/>
                  </a:lnTo>
                  <a:lnTo>
                    <a:pt x="2404" y="3230"/>
                  </a:lnTo>
                  <a:lnTo>
                    <a:pt x="2407" y="3239"/>
                  </a:lnTo>
                  <a:lnTo>
                    <a:pt x="2407" y="3247"/>
                  </a:lnTo>
                  <a:lnTo>
                    <a:pt x="2413" y="3256"/>
                  </a:lnTo>
                  <a:lnTo>
                    <a:pt x="2422" y="3262"/>
                  </a:lnTo>
                  <a:lnTo>
                    <a:pt x="2436" y="3265"/>
                  </a:lnTo>
                  <a:lnTo>
                    <a:pt x="2451" y="3270"/>
                  </a:lnTo>
                  <a:lnTo>
                    <a:pt x="2457" y="3279"/>
                  </a:lnTo>
                  <a:lnTo>
                    <a:pt x="2457" y="3288"/>
                  </a:lnTo>
                  <a:lnTo>
                    <a:pt x="2468" y="3291"/>
                  </a:lnTo>
                  <a:lnTo>
                    <a:pt x="2483" y="3288"/>
                  </a:lnTo>
                  <a:lnTo>
                    <a:pt x="2491" y="3285"/>
                  </a:lnTo>
                  <a:lnTo>
                    <a:pt x="2500" y="3276"/>
                  </a:lnTo>
                  <a:lnTo>
                    <a:pt x="2509" y="3270"/>
                  </a:lnTo>
                  <a:lnTo>
                    <a:pt x="2515" y="3262"/>
                  </a:lnTo>
                  <a:lnTo>
                    <a:pt x="2521" y="3253"/>
                  </a:lnTo>
                  <a:lnTo>
                    <a:pt x="2526" y="3244"/>
                  </a:lnTo>
                  <a:lnTo>
                    <a:pt x="2532" y="3236"/>
                  </a:lnTo>
                  <a:lnTo>
                    <a:pt x="2535" y="3227"/>
                  </a:lnTo>
                  <a:lnTo>
                    <a:pt x="2541" y="3218"/>
                  </a:lnTo>
                  <a:lnTo>
                    <a:pt x="2544" y="3210"/>
                  </a:lnTo>
                  <a:lnTo>
                    <a:pt x="2544" y="3198"/>
                  </a:lnTo>
                  <a:lnTo>
                    <a:pt x="2544" y="3190"/>
                  </a:lnTo>
                  <a:lnTo>
                    <a:pt x="2553" y="3181"/>
                  </a:lnTo>
                  <a:lnTo>
                    <a:pt x="2567" y="3181"/>
                  </a:lnTo>
                  <a:lnTo>
                    <a:pt x="2599" y="3155"/>
                  </a:lnTo>
                  <a:lnTo>
                    <a:pt x="2599" y="3164"/>
                  </a:lnTo>
                  <a:lnTo>
                    <a:pt x="2608" y="3169"/>
                  </a:lnTo>
                  <a:lnTo>
                    <a:pt x="2617" y="3178"/>
                  </a:lnTo>
                  <a:lnTo>
                    <a:pt x="2625" y="3181"/>
                  </a:lnTo>
                  <a:lnTo>
                    <a:pt x="2634" y="3178"/>
                  </a:lnTo>
                  <a:lnTo>
                    <a:pt x="2643" y="3172"/>
                  </a:lnTo>
                  <a:lnTo>
                    <a:pt x="2657" y="3169"/>
                  </a:lnTo>
                  <a:lnTo>
                    <a:pt x="2666" y="3169"/>
                  </a:lnTo>
                  <a:lnTo>
                    <a:pt x="2675" y="3169"/>
                  </a:lnTo>
                  <a:lnTo>
                    <a:pt x="2684" y="3164"/>
                  </a:lnTo>
                  <a:lnTo>
                    <a:pt x="2692" y="3155"/>
                  </a:lnTo>
                  <a:lnTo>
                    <a:pt x="2739" y="3155"/>
                  </a:lnTo>
                  <a:lnTo>
                    <a:pt x="2733" y="3138"/>
                  </a:lnTo>
                  <a:lnTo>
                    <a:pt x="2733" y="3126"/>
                  </a:lnTo>
                  <a:lnTo>
                    <a:pt x="2730" y="3118"/>
                  </a:lnTo>
                  <a:lnTo>
                    <a:pt x="2739" y="3112"/>
                  </a:lnTo>
                  <a:lnTo>
                    <a:pt x="2748" y="3106"/>
                  </a:lnTo>
                  <a:lnTo>
                    <a:pt x="2753" y="3097"/>
                  </a:lnTo>
                  <a:lnTo>
                    <a:pt x="2762" y="3092"/>
                  </a:lnTo>
                  <a:lnTo>
                    <a:pt x="2771" y="3092"/>
                  </a:lnTo>
                  <a:lnTo>
                    <a:pt x="2780" y="3095"/>
                  </a:lnTo>
                  <a:lnTo>
                    <a:pt x="2783" y="3103"/>
                  </a:lnTo>
                  <a:lnTo>
                    <a:pt x="2786" y="3112"/>
                  </a:lnTo>
                  <a:lnTo>
                    <a:pt x="2786" y="3126"/>
                  </a:lnTo>
                  <a:lnTo>
                    <a:pt x="2788" y="3135"/>
                  </a:lnTo>
                  <a:lnTo>
                    <a:pt x="2791" y="3144"/>
                  </a:lnTo>
                  <a:lnTo>
                    <a:pt x="2794" y="3152"/>
                  </a:lnTo>
                  <a:lnTo>
                    <a:pt x="2800" y="3161"/>
                  </a:lnTo>
                  <a:lnTo>
                    <a:pt x="2809" y="3167"/>
                  </a:lnTo>
                  <a:lnTo>
                    <a:pt x="2818" y="3167"/>
                  </a:lnTo>
                  <a:lnTo>
                    <a:pt x="2826" y="3167"/>
                  </a:lnTo>
                  <a:lnTo>
                    <a:pt x="2832" y="3158"/>
                  </a:lnTo>
                  <a:lnTo>
                    <a:pt x="2841" y="3152"/>
                  </a:lnTo>
                  <a:lnTo>
                    <a:pt x="2844" y="3144"/>
                  </a:lnTo>
                  <a:lnTo>
                    <a:pt x="2847" y="3135"/>
                  </a:lnTo>
                  <a:lnTo>
                    <a:pt x="2850" y="3123"/>
                  </a:lnTo>
                  <a:lnTo>
                    <a:pt x="2858" y="3115"/>
                  </a:lnTo>
                  <a:lnTo>
                    <a:pt x="2870" y="3115"/>
                  </a:lnTo>
                  <a:lnTo>
                    <a:pt x="2879" y="3115"/>
                  </a:lnTo>
                  <a:lnTo>
                    <a:pt x="2887" y="3115"/>
                  </a:lnTo>
                  <a:lnTo>
                    <a:pt x="2896" y="3115"/>
                  </a:lnTo>
                  <a:lnTo>
                    <a:pt x="2902" y="3106"/>
                  </a:lnTo>
                  <a:lnTo>
                    <a:pt x="2914" y="3103"/>
                  </a:lnTo>
                  <a:lnTo>
                    <a:pt x="2922" y="3103"/>
                  </a:lnTo>
                  <a:lnTo>
                    <a:pt x="2925" y="3095"/>
                  </a:lnTo>
                  <a:lnTo>
                    <a:pt x="2925" y="3086"/>
                  </a:lnTo>
                  <a:lnTo>
                    <a:pt x="2922" y="3077"/>
                  </a:lnTo>
                  <a:lnTo>
                    <a:pt x="2917" y="3066"/>
                  </a:lnTo>
                  <a:lnTo>
                    <a:pt x="2911" y="3057"/>
                  </a:lnTo>
                  <a:lnTo>
                    <a:pt x="2905" y="3048"/>
                  </a:lnTo>
                  <a:lnTo>
                    <a:pt x="2896" y="3046"/>
                  </a:lnTo>
                  <a:lnTo>
                    <a:pt x="2887" y="3048"/>
                  </a:lnTo>
                  <a:lnTo>
                    <a:pt x="2879" y="3051"/>
                  </a:lnTo>
                  <a:lnTo>
                    <a:pt x="2876" y="3060"/>
                  </a:lnTo>
                  <a:lnTo>
                    <a:pt x="2873" y="3069"/>
                  </a:lnTo>
                  <a:lnTo>
                    <a:pt x="2864" y="3066"/>
                  </a:lnTo>
                  <a:lnTo>
                    <a:pt x="2861" y="3054"/>
                  </a:lnTo>
                  <a:lnTo>
                    <a:pt x="2858" y="3043"/>
                  </a:lnTo>
                  <a:lnTo>
                    <a:pt x="2858" y="3034"/>
                  </a:lnTo>
                  <a:lnTo>
                    <a:pt x="2855" y="3025"/>
                  </a:lnTo>
                  <a:lnTo>
                    <a:pt x="2850" y="3017"/>
                  </a:lnTo>
                  <a:lnTo>
                    <a:pt x="2850" y="3008"/>
                  </a:lnTo>
                  <a:lnTo>
                    <a:pt x="2850" y="2997"/>
                  </a:lnTo>
                  <a:lnTo>
                    <a:pt x="2850" y="2988"/>
                  </a:lnTo>
                  <a:lnTo>
                    <a:pt x="2858" y="2982"/>
                  </a:lnTo>
                  <a:lnTo>
                    <a:pt x="2867" y="2982"/>
                  </a:lnTo>
                  <a:lnTo>
                    <a:pt x="2876" y="2979"/>
                  </a:lnTo>
                  <a:lnTo>
                    <a:pt x="2884" y="2974"/>
                  </a:lnTo>
                  <a:lnTo>
                    <a:pt x="2887" y="2962"/>
                  </a:lnTo>
                  <a:lnTo>
                    <a:pt x="2896" y="2962"/>
                  </a:lnTo>
                  <a:lnTo>
                    <a:pt x="2905" y="2962"/>
                  </a:lnTo>
                  <a:lnTo>
                    <a:pt x="2914" y="2962"/>
                  </a:lnTo>
                  <a:lnTo>
                    <a:pt x="2922" y="2959"/>
                  </a:lnTo>
                  <a:lnTo>
                    <a:pt x="2931" y="2956"/>
                  </a:lnTo>
                  <a:lnTo>
                    <a:pt x="2937" y="2948"/>
                  </a:lnTo>
                  <a:lnTo>
                    <a:pt x="2943" y="2939"/>
                  </a:lnTo>
                  <a:lnTo>
                    <a:pt x="2946" y="2930"/>
                  </a:lnTo>
                  <a:lnTo>
                    <a:pt x="2954" y="2925"/>
                  </a:lnTo>
                  <a:lnTo>
                    <a:pt x="2963" y="2919"/>
                  </a:lnTo>
                  <a:lnTo>
                    <a:pt x="2972" y="2916"/>
                  </a:lnTo>
                  <a:lnTo>
                    <a:pt x="2981" y="2913"/>
                  </a:lnTo>
                  <a:lnTo>
                    <a:pt x="2983" y="2904"/>
                  </a:lnTo>
                  <a:lnTo>
                    <a:pt x="2989" y="2893"/>
                  </a:lnTo>
                  <a:lnTo>
                    <a:pt x="2998" y="2881"/>
                  </a:lnTo>
                  <a:lnTo>
                    <a:pt x="3004" y="2873"/>
                  </a:lnTo>
                  <a:lnTo>
                    <a:pt x="3010" y="2864"/>
                  </a:lnTo>
                  <a:lnTo>
                    <a:pt x="3018" y="2858"/>
                  </a:lnTo>
                  <a:lnTo>
                    <a:pt x="3027" y="2852"/>
                  </a:lnTo>
                  <a:lnTo>
                    <a:pt x="3036" y="2847"/>
                  </a:lnTo>
                  <a:lnTo>
                    <a:pt x="3045" y="2847"/>
                  </a:lnTo>
                  <a:lnTo>
                    <a:pt x="3053" y="2844"/>
                  </a:lnTo>
                  <a:lnTo>
                    <a:pt x="3053" y="2835"/>
                  </a:lnTo>
                  <a:lnTo>
                    <a:pt x="3053" y="2827"/>
                  </a:lnTo>
                  <a:lnTo>
                    <a:pt x="3053" y="2818"/>
                  </a:lnTo>
                  <a:lnTo>
                    <a:pt x="3053" y="2809"/>
                  </a:lnTo>
                  <a:lnTo>
                    <a:pt x="3050" y="2801"/>
                  </a:lnTo>
                  <a:lnTo>
                    <a:pt x="3045" y="2789"/>
                  </a:lnTo>
                  <a:lnTo>
                    <a:pt x="3045" y="2780"/>
                  </a:lnTo>
                  <a:lnTo>
                    <a:pt x="3045" y="2772"/>
                  </a:lnTo>
                  <a:lnTo>
                    <a:pt x="3045" y="2763"/>
                  </a:lnTo>
                  <a:lnTo>
                    <a:pt x="3036" y="2754"/>
                  </a:lnTo>
                  <a:lnTo>
                    <a:pt x="3027" y="2743"/>
                  </a:lnTo>
                  <a:lnTo>
                    <a:pt x="3024" y="2734"/>
                  </a:lnTo>
                  <a:lnTo>
                    <a:pt x="3021" y="2726"/>
                  </a:lnTo>
                  <a:lnTo>
                    <a:pt x="3018" y="2717"/>
                  </a:lnTo>
                  <a:lnTo>
                    <a:pt x="3010" y="2708"/>
                  </a:lnTo>
                  <a:lnTo>
                    <a:pt x="3001" y="2705"/>
                  </a:lnTo>
                  <a:lnTo>
                    <a:pt x="3001" y="2697"/>
                  </a:lnTo>
                  <a:lnTo>
                    <a:pt x="3010" y="2694"/>
                  </a:lnTo>
                  <a:lnTo>
                    <a:pt x="3018" y="2688"/>
                  </a:lnTo>
                  <a:lnTo>
                    <a:pt x="3027" y="2682"/>
                  </a:lnTo>
                  <a:lnTo>
                    <a:pt x="3030" y="2674"/>
                  </a:lnTo>
                  <a:lnTo>
                    <a:pt x="3039" y="2665"/>
                  </a:lnTo>
                  <a:lnTo>
                    <a:pt x="3045" y="2657"/>
                  </a:lnTo>
                  <a:lnTo>
                    <a:pt x="3056" y="2659"/>
                  </a:lnTo>
                  <a:lnTo>
                    <a:pt x="3065" y="2665"/>
                  </a:lnTo>
                  <a:lnTo>
                    <a:pt x="3074" y="2665"/>
                  </a:lnTo>
                  <a:lnTo>
                    <a:pt x="3077" y="2657"/>
                  </a:lnTo>
                  <a:lnTo>
                    <a:pt x="3077" y="2645"/>
                  </a:lnTo>
                  <a:lnTo>
                    <a:pt x="3077" y="2636"/>
                  </a:lnTo>
                  <a:lnTo>
                    <a:pt x="3077" y="2628"/>
                  </a:lnTo>
                  <a:lnTo>
                    <a:pt x="3071" y="2619"/>
                  </a:lnTo>
                  <a:lnTo>
                    <a:pt x="3062" y="2613"/>
                  </a:lnTo>
                  <a:lnTo>
                    <a:pt x="3056" y="2605"/>
                  </a:lnTo>
                  <a:lnTo>
                    <a:pt x="3056" y="2596"/>
                  </a:lnTo>
                  <a:lnTo>
                    <a:pt x="3053" y="2582"/>
                  </a:lnTo>
                  <a:lnTo>
                    <a:pt x="3053" y="2573"/>
                  </a:lnTo>
                  <a:lnTo>
                    <a:pt x="3062" y="2567"/>
                  </a:lnTo>
                  <a:lnTo>
                    <a:pt x="3071" y="2567"/>
                  </a:lnTo>
                  <a:lnTo>
                    <a:pt x="3080" y="2564"/>
                  </a:lnTo>
                  <a:lnTo>
                    <a:pt x="3088" y="2564"/>
                  </a:lnTo>
                  <a:lnTo>
                    <a:pt x="3097" y="2561"/>
                  </a:lnTo>
                  <a:lnTo>
                    <a:pt x="3109" y="2556"/>
                  </a:lnTo>
                  <a:lnTo>
                    <a:pt x="3117" y="2547"/>
                  </a:lnTo>
                  <a:lnTo>
                    <a:pt x="3120" y="2538"/>
                  </a:lnTo>
                  <a:lnTo>
                    <a:pt x="3120" y="2530"/>
                  </a:lnTo>
                  <a:lnTo>
                    <a:pt x="3120" y="2521"/>
                  </a:lnTo>
                  <a:lnTo>
                    <a:pt x="3120" y="2512"/>
                  </a:lnTo>
                  <a:lnTo>
                    <a:pt x="3114" y="2501"/>
                  </a:lnTo>
                  <a:lnTo>
                    <a:pt x="3112" y="2489"/>
                  </a:lnTo>
                  <a:lnTo>
                    <a:pt x="3112" y="2481"/>
                  </a:lnTo>
                  <a:lnTo>
                    <a:pt x="3112" y="2472"/>
                  </a:lnTo>
                  <a:lnTo>
                    <a:pt x="3120" y="2463"/>
                  </a:lnTo>
                  <a:lnTo>
                    <a:pt x="3129" y="2461"/>
                  </a:lnTo>
                  <a:lnTo>
                    <a:pt x="3135" y="2452"/>
                  </a:lnTo>
                  <a:lnTo>
                    <a:pt x="3135" y="2443"/>
                  </a:lnTo>
                  <a:lnTo>
                    <a:pt x="3135" y="2435"/>
                  </a:lnTo>
                  <a:lnTo>
                    <a:pt x="3144" y="2429"/>
                  </a:lnTo>
                  <a:lnTo>
                    <a:pt x="3152" y="2420"/>
                  </a:lnTo>
                  <a:lnTo>
                    <a:pt x="3155" y="2412"/>
                  </a:lnTo>
                  <a:lnTo>
                    <a:pt x="3158" y="2403"/>
                  </a:lnTo>
                  <a:lnTo>
                    <a:pt x="3167" y="2394"/>
                  </a:lnTo>
                  <a:lnTo>
                    <a:pt x="3176" y="2386"/>
                  </a:lnTo>
                  <a:lnTo>
                    <a:pt x="3184" y="2380"/>
                  </a:lnTo>
                  <a:lnTo>
                    <a:pt x="3184" y="2371"/>
                  </a:lnTo>
                  <a:lnTo>
                    <a:pt x="3187" y="2363"/>
                  </a:lnTo>
                  <a:lnTo>
                    <a:pt x="3193" y="2354"/>
                  </a:lnTo>
                  <a:lnTo>
                    <a:pt x="3202" y="2348"/>
                  </a:lnTo>
                  <a:lnTo>
                    <a:pt x="3208" y="2340"/>
                  </a:lnTo>
                  <a:lnTo>
                    <a:pt x="3213" y="2331"/>
                  </a:lnTo>
                  <a:lnTo>
                    <a:pt x="3216" y="2322"/>
                  </a:lnTo>
                  <a:lnTo>
                    <a:pt x="3219" y="2314"/>
                  </a:lnTo>
                  <a:lnTo>
                    <a:pt x="3222" y="2305"/>
                  </a:lnTo>
                  <a:lnTo>
                    <a:pt x="3228" y="2296"/>
                  </a:lnTo>
                  <a:lnTo>
                    <a:pt x="3237" y="2291"/>
                  </a:lnTo>
                  <a:lnTo>
                    <a:pt x="3245" y="2291"/>
                  </a:lnTo>
                  <a:lnTo>
                    <a:pt x="3254" y="2285"/>
                  </a:lnTo>
                  <a:lnTo>
                    <a:pt x="3263" y="2282"/>
                  </a:lnTo>
                  <a:lnTo>
                    <a:pt x="3272" y="2279"/>
                  </a:lnTo>
                  <a:lnTo>
                    <a:pt x="3280" y="2279"/>
                  </a:lnTo>
                  <a:lnTo>
                    <a:pt x="3289" y="2276"/>
                  </a:lnTo>
                  <a:lnTo>
                    <a:pt x="3298" y="2273"/>
                  </a:lnTo>
                  <a:lnTo>
                    <a:pt x="3307" y="2273"/>
                  </a:lnTo>
                  <a:lnTo>
                    <a:pt x="3318" y="2276"/>
                  </a:lnTo>
                  <a:lnTo>
                    <a:pt x="3327" y="2276"/>
                  </a:lnTo>
                  <a:lnTo>
                    <a:pt x="3336" y="2276"/>
                  </a:lnTo>
                  <a:lnTo>
                    <a:pt x="3344" y="2276"/>
                  </a:lnTo>
                  <a:lnTo>
                    <a:pt x="3344" y="2279"/>
                  </a:lnTo>
                  <a:lnTo>
                    <a:pt x="3356" y="2265"/>
                  </a:lnTo>
                  <a:lnTo>
                    <a:pt x="3365" y="2265"/>
                  </a:lnTo>
                  <a:lnTo>
                    <a:pt x="3374" y="2259"/>
                  </a:lnTo>
                  <a:lnTo>
                    <a:pt x="3382" y="2253"/>
                  </a:lnTo>
                  <a:lnTo>
                    <a:pt x="3385" y="2244"/>
                  </a:lnTo>
                  <a:lnTo>
                    <a:pt x="3391" y="2233"/>
                  </a:lnTo>
                  <a:lnTo>
                    <a:pt x="3400" y="2224"/>
                  </a:lnTo>
                  <a:lnTo>
                    <a:pt x="3397" y="2216"/>
                  </a:lnTo>
                  <a:lnTo>
                    <a:pt x="3391" y="2207"/>
                  </a:lnTo>
                  <a:lnTo>
                    <a:pt x="3382" y="2201"/>
                  </a:lnTo>
                  <a:lnTo>
                    <a:pt x="3376" y="2193"/>
                  </a:lnTo>
                  <a:lnTo>
                    <a:pt x="3368" y="2184"/>
                  </a:lnTo>
                  <a:lnTo>
                    <a:pt x="3362" y="2172"/>
                  </a:lnTo>
                  <a:lnTo>
                    <a:pt x="3356" y="2164"/>
                  </a:lnTo>
                  <a:lnTo>
                    <a:pt x="3356" y="2155"/>
                  </a:lnTo>
                  <a:lnTo>
                    <a:pt x="3356" y="2146"/>
                  </a:lnTo>
                  <a:lnTo>
                    <a:pt x="3368" y="2141"/>
                  </a:lnTo>
                  <a:lnTo>
                    <a:pt x="3376" y="2138"/>
                  </a:lnTo>
                  <a:lnTo>
                    <a:pt x="3385" y="2135"/>
                  </a:lnTo>
                  <a:lnTo>
                    <a:pt x="3394" y="2126"/>
                  </a:lnTo>
                  <a:lnTo>
                    <a:pt x="3400" y="2118"/>
                  </a:lnTo>
                  <a:lnTo>
                    <a:pt x="3406" y="2109"/>
                  </a:lnTo>
                  <a:lnTo>
                    <a:pt x="3414" y="2106"/>
                  </a:lnTo>
                  <a:lnTo>
                    <a:pt x="3426" y="2106"/>
                  </a:lnTo>
                  <a:lnTo>
                    <a:pt x="3435" y="2106"/>
                  </a:lnTo>
                  <a:lnTo>
                    <a:pt x="3443" y="2106"/>
                  </a:lnTo>
                  <a:lnTo>
                    <a:pt x="3452" y="2103"/>
                  </a:lnTo>
                  <a:lnTo>
                    <a:pt x="3461" y="2103"/>
                  </a:lnTo>
                  <a:lnTo>
                    <a:pt x="3470" y="2103"/>
                  </a:lnTo>
                  <a:lnTo>
                    <a:pt x="3478" y="2112"/>
                  </a:lnTo>
                  <a:lnTo>
                    <a:pt x="3484" y="2120"/>
                  </a:lnTo>
                  <a:lnTo>
                    <a:pt x="3493" y="2126"/>
                  </a:lnTo>
                  <a:lnTo>
                    <a:pt x="3502" y="2129"/>
                  </a:lnTo>
                  <a:lnTo>
                    <a:pt x="3510" y="2129"/>
                  </a:lnTo>
                  <a:lnTo>
                    <a:pt x="3519" y="2129"/>
                  </a:lnTo>
                  <a:lnTo>
                    <a:pt x="3528" y="2126"/>
                  </a:lnTo>
                  <a:lnTo>
                    <a:pt x="3537" y="2118"/>
                  </a:lnTo>
                  <a:lnTo>
                    <a:pt x="3542" y="2109"/>
                  </a:lnTo>
                  <a:lnTo>
                    <a:pt x="3548" y="2100"/>
                  </a:lnTo>
                  <a:lnTo>
                    <a:pt x="3551" y="2089"/>
                  </a:lnTo>
                  <a:lnTo>
                    <a:pt x="3554" y="2080"/>
                  </a:lnTo>
                  <a:lnTo>
                    <a:pt x="3563" y="2072"/>
                  </a:lnTo>
                  <a:lnTo>
                    <a:pt x="3572" y="2072"/>
                  </a:lnTo>
                  <a:lnTo>
                    <a:pt x="3583" y="2063"/>
                  </a:lnTo>
                  <a:lnTo>
                    <a:pt x="3589" y="2054"/>
                  </a:lnTo>
                  <a:lnTo>
                    <a:pt x="3595" y="2046"/>
                  </a:lnTo>
                  <a:lnTo>
                    <a:pt x="3604" y="2040"/>
                  </a:lnTo>
                  <a:lnTo>
                    <a:pt x="3612" y="2040"/>
                  </a:lnTo>
                  <a:lnTo>
                    <a:pt x="3621" y="2040"/>
                  </a:lnTo>
                  <a:lnTo>
                    <a:pt x="3630" y="2040"/>
                  </a:lnTo>
                  <a:lnTo>
                    <a:pt x="3638" y="2037"/>
                  </a:lnTo>
                  <a:lnTo>
                    <a:pt x="3647" y="2037"/>
                  </a:lnTo>
                  <a:lnTo>
                    <a:pt x="3656" y="2037"/>
                  </a:lnTo>
                  <a:lnTo>
                    <a:pt x="3665" y="2037"/>
                  </a:lnTo>
                  <a:lnTo>
                    <a:pt x="3673" y="2034"/>
                  </a:lnTo>
                  <a:lnTo>
                    <a:pt x="3682" y="2031"/>
                  </a:lnTo>
                  <a:lnTo>
                    <a:pt x="3691" y="2028"/>
                  </a:lnTo>
                  <a:lnTo>
                    <a:pt x="3700" y="2023"/>
                  </a:lnTo>
                  <a:lnTo>
                    <a:pt x="3705" y="2014"/>
                  </a:lnTo>
                  <a:lnTo>
                    <a:pt x="3714" y="2005"/>
                  </a:lnTo>
                  <a:lnTo>
                    <a:pt x="3723" y="1997"/>
                  </a:lnTo>
                  <a:lnTo>
                    <a:pt x="3726" y="1988"/>
                  </a:lnTo>
                  <a:lnTo>
                    <a:pt x="3735" y="1976"/>
                  </a:lnTo>
                  <a:lnTo>
                    <a:pt x="3740" y="1968"/>
                  </a:lnTo>
                  <a:lnTo>
                    <a:pt x="3746" y="1959"/>
                  </a:lnTo>
                  <a:lnTo>
                    <a:pt x="3749" y="1950"/>
                  </a:lnTo>
                  <a:lnTo>
                    <a:pt x="3755" y="1939"/>
                  </a:lnTo>
                  <a:lnTo>
                    <a:pt x="3761" y="1927"/>
                  </a:lnTo>
                  <a:lnTo>
                    <a:pt x="3767" y="1919"/>
                  </a:lnTo>
                  <a:lnTo>
                    <a:pt x="3767" y="1910"/>
                  </a:lnTo>
                  <a:lnTo>
                    <a:pt x="3758" y="1910"/>
                  </a:lnTo>
                  <a:lnTo>
                    <a:pt x="3758" y="1899"/>
                  </a:lnTo>
                  <a:lnTo>
                    <a:pt x="3758" y="1890"/>
                  </a:lnTo>
                  <a:lnTo>
                    <a:pt x="3767" y="1881"/>
                  </a:lnTo>
                  <a:lnTo>
                    <a:pt x="3775" y="1881"/>
                  </a:lnTo>
                  <a:lnTo>
                    <a:pt x="3781" y="1873"/>
                  </a:lnTo>
                  <a:lnTo>
                    <a:pt x="3784" y="1864"/>
                  </a:lnTo>
                  <a:lnTo>
                    <a:pt x="3787" y="1855"/>
                  </a:lnTo>
                  <a:lnTo>
                    <a:pt x="3796" y="1850"/>
                  </a:lnTo>
                  <a:lnTo>
                    <a:pt x="3804" y="1847"/>
                  </a:lnTo>
                  <a:lnTo>
                    <a:pt x="3813" y="1844"/>
                  </a:lnTo>
                  <a:lnTo>
                    <a:pt x="3822" y="1838"/>
                  </a:lnTo>
                  <a:lnTo>
                    <a:pt x="3831" y="1835"/>
                  </a:lnTo>
                  <a:lnTo>
                    <a:pt x="3839" y="1824"/>
                  </a:lnTo>
                  <a:lnTo>
                    <a:pt x="3845" y="1815"/>
                  </a:lnTo>
                  <a:lnTo>
                    <a:pt x="3851" y="1806"/>
                  </a:lnTo>
                  <a:lnTo>
                    <a:pt x="3857" y="1798"/>
                  </a:lnTo>
                  <a:lnTo>
                    <a:pt x="3860" y="1789"/>
                  </a:lnTo>
                  <a:lnTo>
                    <a:pt x="3863" y="1780"/>
                  </a:lnTo>
                  <a:lnTo>
                    <a:pt x="3857" y="1772"/>
                  </a:lnTo>
                  <a:lnTo>
                    <a:pt x="3851" y="1763"/>
                  </a:lnTo>
                  <a:lnTo>
                    <a:pt x="3842" y="1760"/>
                  </a:lnTo>
                  <a:lnTo>
                    <a:pt x="3834" y="1752"/>
                  </a:lnTo>
                  <a:lnTo>
                    <a:pt x="3831" y="1743"/>
                  </a:lnTo>
                  <a:lnTo>
                    <a:pt x="3828" y="1734"/>
                  </a:lnTo>
                  <a:lnTo>
                    <a:pt x="3825" y="1726"/>
                  </a:lnTo>
                  <a:lnTo>
                    <a:pt x="3822" y="1714"/>
                  </a:lnTo>
                  <a:lnTo>
                    <a:pt x="3819" y="1706"/>
                  </a:lnTo>
                  <a:lnTo>
                    <a:pt x="3816" y="1697"/>
                  </a:lnTo>
                  <a:lnTo>
                    <a:pt x="3813" y="1685"/>
                  </a:lnTo>
                  <a:lnTo>
                    <a:pt x="3810" y="1677"/>
                  </a:lnTo>
                  <a:lnTo>
                    <a:pt x="3807" y="1668"/>
                  </a:lnTo>
                  <a:lnTo>
                    <a:pt x="3804" y="1659"/>
                  </a:lnTo>
                  <a:lnTo>
                    <a:pt x="3796" y="1657"/>
                  </a:lnTo>
                  <a:lnTo>
                    <a:pt x="3787" y="1657"/>
                  </a:lnTo>
                  <a:lnTo>
                    <a:pt x="3775" y="1657"/>
                  </a:lnTo>
                  <a:lnTo>
                    <a:pt x="3767" y="1648"/>
                  </a:lnTo>
                  <a:lnTo>
                    <a:pt x="3767" y="1639"/>
                  </a:lnTo>
                  <a:lnTo>
                    <a:pt x="3767" y="1631"/>
                  </a:lnTo>
                  <a:lnTo>
                    <a:pt x="3767" y="1622"/>
                  </a:lnTo>
                  <a:lnTo>
                    <a:pt x="3767" y="1613"/>
                  </a:lnTo>
                  <a:lnTo>
                    <a:pt x="3770" y="1605"/>
                  </a:lnTo>
                  <a:lnTo>
                    <a:pt x="3770" y="1596"/>
                  </a:lnTo>
                  <a:lnTo>
                    <a:pt x="3772" y="1587"/>
                  </a:lnTo>
                  <a:lnTo>
                    <a:pt x="3810" y="1541"/>
                  </a:lnTo>
                  <a:lnTo>
                    <a:pt x="3793" y="1541"/>
                  </a:lnTo>
                  <a:lnTo>
                    <a:pt x="3799" y="1533"/>
                  </a:lnTo>
                  <a:lnTo>
                    <a:pt x="3807" y="1530"/>
                  </a:lnTo>
                  <a:lnTo>
                    <a:pt x="3816" y="1527"/>
                  </a:lnTo>
                  <a:lnTo>
                    <a:pt x="3828" y="1527"/>
                  </a:lnTo>
                  <a:lnTo>
                    <a:pt x="3839" y="1527"/>
                  </a:lnTo>
                  <a:lnTo>
                    <a:pt x="3851" y="1524"/>
                  </a:lnTo>
                  <a:lnTo>
                    <a:pt x="3863" y="1524"/>
                  </a:lnTo>
                  <a:lnTo>
                    <a:pt x="3874" y="1524"/>
                  </a:lnTo>
                  <a:lnTo>
                    <a:pt x="3883" y="1527"/>
                  </a:lnTo>
                  <a:lnTo>
                    <a:pt x="3892" y="1530"/>
                  </a:lnTo>
                  <a:lnTo>
                    <a:pt x="3901" y="1533"/>
                  </a:lnTo>
                  <a:lnTo>
                    <a:pt x="3909" y="1535"/>
                  </a:lnTo>
                  <a:lnTo>
                    <a:pt x="3918" y="1535"/>
                  </a:lnTo>
                  <a:lnTo>
                    <a:pt x="3930" y="1535"/>
                  </a:lnTo>
                  <a:lnTo>
                    <a:pt x="3941" y="1535"/>
                  </a:lnTo>
                  <a:lnTo>
                    <a:pt x="3950" y="1535"/>
                  </a:lnTo>
                  <a:lnTo>
                    <a:pt x="3959" y="1535"/>
                  </a:lnTo>
                  <a:lnTo>
                    <a:pt x="3970" y="1541"/>
                  </a:lnTo>
                  <a:lnTo>
                    <a:pt x="3979" y="1541"/>
                  </a:lnTo>
                  <a:lnTo>
                    <a:pt x="3985" y="1550"/>
                  </a:lnTo>
                  <a:lnTo>
                    <a:pt x="3997" y="1559"/>
                  </a:lnTo>
                  <a:lnTo>
                    <a:pt x="4005" y="1561"/>
                  </a:lnTo>
                  <a:lnTo>
                    <a:pt x="4017" y="1561"/>
                  </a:lnTo>
                  <a:lnTo>
                    <a:pt x="4026" y="1559"/>
                  </a:lnTo>
                  <a:lnTo>
                    <a:pt x="4029" y="1550"/>
                  </a:lnTo>
                  <a:lnTo>
                    <a:pt x="4037" y="1541"/>
                  </a:lnTo>
                  <a:lnTo>
                    <a:pt x="4040" y="1533"/>
                  </a:lnTo>
                  <a:lnTo>
                    <a:pt x="4043" y="1524"/>
                  </a:lnTo>
                  <a:lnTo>
                    <a:pt x="4055" y="1512"/>
                  </a:lnTo>
                  <a:lnTo>
                    <a:pt x="4066" y="1507"/>
                  </a:lnTo>
                  <a:lnTo>
                    <a:pt x="4075" y="1498"/>
                  </a:lnTo>
                  <a:lnTo>
                    <a:pt x="4084" y="1495"/>
                  </a:lnTo>
                  <a:lnTo>
                    <a:pt x="4093" y="1495"/>
                  </a:lnTo>
                  <a:lnTo>
                    <a:pt x="4101" y="1495"/>
                  </a:lnTo>
                  <a:lnTo>
                    <a:pt x="4110" y="1495"/>
                  </a:lnTo>
                  <a:lnTo>
                    <a:pt x="4119" y="1501"/>
                  </a:lnTo>
                  <a:lnTo>
                    <a:pt x="4130" y="1510"/>
                  </a:lnTo>
                  <a:lnTo>
                    <a:pt x="4139" y="1512"/>
                  </a:lnTo>
                  <a:lnTo>
                    <a:pt x="4148" y="1507"/>
                  </a:lnTo>
                  <a:lnTo>
                    <a:pt x="4154" y="1498"/>
                  </a:lnTo>
                  <a:lnTo>
                    <a:pt x="4157" y="1489"/>
                  </a:lnTo>
                  <a:lnTo>
                    <a:pt x="4165" y="1478"/>
                  </a:lnTo>
                  <a:lnTo>
                    <a:pt x="4168" y="1466"/>
                  </a:lnTo>
                  <a:lnTo>
                    <a:pt x="4163" y="1458"/>
                  </a:lnTo>
                  <a:lnTo>
                    <a:pt x="4157" y="1449"/>
                  </a:lnTo>
                  <a:lnTo>
                    <a:pt x="4154" y="1438"/>
                  </a:lnTo>
                  <a:lnTo>
                    <a:pt x="4151" y="1429"/>
                  </a:lnTo>
                  <a:lnTo>
                    <a:pt x="4151" y="1420"/>
                  </a:lnTo>
                  <a:lnTo>
                    <a:pt x="4151" y="1409"/>
                  </a:lnTo>
                  <a:lnTo>
                    <a:pt x="4151" y="1400"/>
                  </a:lnTo>
                  <a:lnTo>
                    <a:pt x="4160" y="1394"/>
                  </a:lnTo>
                  <a:lnTo>
                    <a:pt x="4174" y="1400"/>
                  </a:lnTo>
                  <a:lnTo>
                    <a:pt x="4183" y="1403"/>
                  </a:lnTo>
                  <a:lnTo>
                    <a:pt x="4183" y="1412"/>
                  </a:lnTo>
                  <a:lnTo>
                    <a:pt x="4192" y="1420"/>
                  </a:lnTo>
                  <a:lnTo>
                    <a:pt x="4203" y="1432"/>
                  </a:lnTo>
                  <a:lnTo>
                    <a:pt x="4212" y="1440"/>
                  </a:lnTo>
                  <a:lnTo>
                    <a:pt x="4215" y="1449"/>
                  </a:lnTo>
                  <a:lnTo>
                    <a:pt x="4218" y="1458"/>
                  </a:lnTo>
                  <a:lnTo>
                    <a:pt x="4227" y="1472"/>
                  </a:lnTo>
                  <a:lnTo>
                    <a:pt x="4235" y="1478"/>
                  </a:lnTo>
                  <a:lnTo>
                    <a:pt x="4241" y="1487"/>
                  </a:lnTo>
                  <a:lnTo>
                    <a:pt x="4253" y="1495"/>
                  </a:lnTo>
                  <a:lnTo>
                    <a:pt x="4264" y="1501"/>
                  </a:lnTo>
                  <a:lnTo>
                    <a:pt x="4270" y="1510"/>
                  </a:lnTo>
                  <a:lnTo>
                    <a:pt x="4273" y="1518"/>
                  </a:lnTo>
                  <a:lnTo>
                    <a:pt x="4273" y="1527"/>
                  </a:lnTo>
                  <a:lnTo>
                    <a:pt x="4273" y="1535"/>
                  </a:lnTo>
                  <a:lnTo>
                    <a:pt x="4273" y="1544"/>
                  </a:lnTo>
                  <a:lnTo>
                    <a:pt x="4264" y="1550"/>
                  </a:lnTo>
                  <a:lnTo>
                    <a:pt x="4256" y="1553"/>
                  </a:lnTo>
                  <a:lnTo>
                    <a:pt x="4256" y="1564"/>
                  </a:lnTo>
                  <a:lnTo>
                    <a:pt x="4256" y="1573"/>
                  </a:lnTo>
                  <a:lnTo>
                    <a:pt x="4256" y="1582"/>
                  </a:lnTo>
                  <a:lnTo>
                    <a:pt x="4264" y="1587"/>
                  </a:lnTo>
                  <a:lnTo>
                    <a:pt x="4276" y="1590"/>
                  </a:lnTo>
                  <a:lnTo>
                    <a:pt x="4285" y="1590"/>
                  </a:lnTo>
                  <a:lnTo>
                    <a:pt x="4294" y="1599"/>
                  </a:lnTo>
                  <a:lnTo>
                    <a:pt x="4302" y="1608"/>
                  </a:lnTo>
                  <a:lnTo>
                    <a:pt x="4314" y="1610"/>
                  </a:lnTo>
                  <a:lnTo>
                    <a:pt x="4326" y="1616"/>
                  </a:lnTo>
                  <a:lnTo>
                    <a:pt x="4334" y="1619"/>
                  </a:lnTo>
                  <a:lnTo>
                    <a:pt x="4340" y="1628"/>
                  </a:lnTo>
                  <a:lnTo>
                    <a:pt x="4343" y="1636"/>
                  </a:lnTo>
                  <a:lnTo>
                    <a:pt x="4343" y="1645"/>
                  </a:lnTo>
                  <a:lnTo>
                    <a:pt x="4343" y="1654"/>
                  </a:lnTo>
                  <a:lnTo>
                    <a:pt x="4343" y="1662"/>
                  </a:lnTo>
                  <a:lnTo>
                    <a:pt x="4346" y="1671"/>
                  </a:lnTo>
                  <a:lnTo>
                    <a:pt x="4355" y="1671"/>
                  </a:lnTo>
                  <a:lnTo>
                    <a:pt x="4366" y="1671"/>
                  </a:lnTo>
                  <a:lnTo>
                    <a:pt x="4369" y="1662"/>
                  </a:lnTo>
                  <a:lnTo>
                    <a:pt x="4363" y="1654"/>
                  </a:lnTo>
                  <a:lnTo>
                    <a:pt x="4360" y="1645"/>
                  </a:lnTo>
                  <a:lnTo>
                    <a:pt x="4355" y="1636"/>
                  </a:lnTo>
                  <a:lnTo>
                    <a:pt x="4352" y="1628"/>
                  </a:lnTo>
                  <a:lnTo>
                    <a:pt x="4349" y="1619"/>
                  </a:lnTo>
                  <a:lnTo>
                    <a:pt x="4346" y="1610"/>
                  </a:lnTo>
                  <a:lnTo>
                    <a:pt x="4346" y="1602"/>
                  </a:lnTo>
                  <a:lnTo>
                    <a:pt x="4346" y="1590"/>
                  </a:lnTo>
                  <a:lnTo>
                    <a:pt x="4346" y="1582"/>
                  </a:lnTo>
                  <a:lnTo>
                    <a:pt x="4355" y="1579"/>
                  </a:lnTo>
                  <a:lnTo>
                    <a:pt x="4363" y="1582"/>
                  </a:lnTo>
                  <a:lnTo>
                    <a:pt x="4372" y="1582"/>
                  </a:lnTo>
                  <a:lnTo>
                    <a:pt x="4381" y="1573"/>
                  </a:lnTo>
                  <a:lnTo>
                    <a:pt x="4390" y="1567"/>
                  </a:lnTo>
                  <a:lnTo>
                    <a:pt x="4393" y="1559"/>
                  </a:lnTo>
                  <a:lnTo>
                    <a:pt x="4393" y="1550"/>
                  </a:lnTo>
                  <a:lnTo>
                    <a:pt x="4393" y="1541"/>
                  </a:lnTo>
                  <a:lnTo>
                    <a:pt x="4393" y="1533"/>
                  </a:lnTo>
                  <a:lnTo>
                    <a:pt x="4393" y="1524"/>
                  </a:lnTo>
                  <a:lnTo>
                    <a:pt x="4393" y="1515"/>
                  </a:lnTo>
                  <a:lnTo>
                    <a:pt x="4390" y="1504"/>
                  </a:lnTo>
                  <a:lnTo>
                    <a:pt x="4384" y="1495"/>
                  </a:lnTo>
                  <a:lnTo>
                    <a:pt x="4381" y="1484"/>
                  </a:lnTo>
                  <a:lnTo>
                    <a:pt x="4378" y="1475"/>
                  </a:lnTo>
                  <a:lnTo>
                    <a:pt x="4369" y="1463"/>
                  </a:lnTo>
                  <a:lnTo>
                    <a:pt x="4363" y="1455"/>
                  </a:lnTo>
                  <a:lnTo>
                    <a:pt x="4360" y="1446"/>
                  </a:lnTo>
                  <a:lnTo>
                    <a:pt x="4358" y="1438"/>
                  </a:lnTo>
                  <a:lnTo>
                    <a:pt x="4352" y="1429"/>
                  </a:lnTo>
                  <a:lnTo>
                    <a:pt x="4346" y="1417"/>
                  </a:lnTo>
                  <a:lnTo>
                    <a:pt x="4340" y="1409"/>
                  </a:lnTo>
                  <a:lnTo>
                    <a:pt x="4337" y="1397"/>
                  </a:lnTo>
                  <a:lnTo>
                    <a:pt x="4334" y="1389"/>
                  </a:lnTo>
                  <a:lnTo>
                    <a:pt x="4334" y="1380"/>
                  </a:lnTo>
                  <a:lnTo>
                    <a:pt x="4331" y="1371"/>
                  </a:lnTo>
                  <a:lnTo>
                    <a:pt x="4328" y="1360"/>
                  </a:lnTo>
                  <a:lnTo>
                    <a:pt x="4323" y="1351"/>
                  </a:lnTo>
                  <a:lnTo>
                    <a:pt x="4320" y="1342"/>
                  </a:lnTo>
                  <a:lnTo>
                    <a:pt x="4314" y="1334"/>
                  </a:lnTo>
                  <a:lnTo>
                    <a:pt x="4305" y="1325"/>
                  </a:lnTo>
                  <a:lnTo>
                    <a:pt x="4296" y="1316"/>
                  </a:lnTo>
                  <a:lnTo>
                    <a:pt x="4288" y="1308"/>
                  </a:lnTo>
                  <a:lnTo>
                    <a:pt x="4276" y="1311"/>
                  </a:lnTo>
                  <a:lnTo>
                    <a:pt x="4279" y="1291"/>
                  </a:lnTo>
                  <a:lnTo>
                    <a:pt x="4276" y="1282"/>
                  </a:lnTo>
                  <a:lnTo>
                    <a:pt x="4270" y="1273"/>
                  </a:lnTo>
                  <a:lnTo>
                    <a:pt x="4261" y="1267"/>
                  </a:lnTo>
                  <a:lnTo>
                    <a:pt x="4253" y="1259"/>
                  </a:lnTo>
                  <a:lnTo>
                    <a:pt x="4244" y="1250"/>
                  </a:lnTo>
                  <a:lnTo>
                    <a:pt x="4238" y="1242"/>
                  </a:lnTo>
                  <a:lnTo>
                    <a:pt x="4232" y="1233"/>
                  </a:lnTo>
                  <a:lnTo>
                    <a:pt x="4229" y="1224"/>
                  </a:lnTo>
                  <a:lnTo>
                    <a:pt x="4221" y="1218"/>
                  </a:lnTo>
                  <a:lnTo>
                    <a:pt x="4212" y="1210"/>
                  </a:lnTo>
                  <a:lnTo>
                    <a:pt x="4200" y="1201"/>
                  </a:lnTo>
                  <a:lnTo>
                    <a:pt x="4192" y="1195"/>
                  </a:lnTo>
                  <a:lnTo>
                    <a:pt x="4183" y="1193"/>
                  </a:lnTo>
                  <a:lnTo>
                    <a:pt x="4171" y="1187"/>
                  </a:lnTo>
                  <a:lnTo>
                    <a:pt x="4163" y="1184"/>
                  </a:lnTo>
                  <a:lnTo>
                    <a:pt x="4154" y="1181"/>
                  </a:lnTo>
                  <a:lnTo>
                    <a:pt x="4145" y="1175"/>
                  </a:lnTo>
                  <a:lnTo>
                    <a:pt x="4136" y="1170"/>
                  </a:lnTo>
                  <a:lnTo>
                    <a:pt x="4130" y="1161"/>
                  </a:lnTo>
                  <a:lnTo>
                    <a:pt x="4119" y="1152"/>
                  </a:lnTo>
                  <a:lnTo>
                    <a:pt x="4110" y="1149"/>
                  </a:lnTo>
                  <a:lnTo>
                    <a:pt x="4098" y="1144"/>
                  </a:lnTo>
                  <a:lnTo>
                    <a:pt x="4090" y="1144"/>
                  </a:lnTo>
                  <a:lnTo>
                    <a:pt x="4078" y="1135"/>
                  </a:lnTo>
                  <a:lnTo>
                    <a:pt x="4069" y="1126"/>
                  </a:lnTo>
                  <a:lnTo>
                    <a:pt x="4064" y="1118"/>
                  </a:lnTo>
                  <a:lnTo>
                    <a:pt x="4058" y="1109"/>
                  </a:lnTo>
                  <a:lnTo>
                    <a:pt x="4049" y="1103"/>
                  </a:lnTo>
                  <a:lnTo>
                    <a:pt x="4058" y="1100"/>
                  </a:lnTo>
                  <a:lnTo>
                    <a:pt x="4066" y="1100"/>
                  </a:lnTo>
                  <a:lnTo>
                    <a:pt x="4078" y="1100"/>
                  </a:lnTo>
                  <a:lnTo>
                    <a:pt x="4090" y="1103"/>
                  </a:lnTo>
                  <a:lnTo>
                    <a:pt x="4098" y="1109"/>
                  </a:lnTo>
                  <a:lnTo>
                    <a:pt x="4107" y="1112"/>
                  </a:lnTo>
                  <a:lnTo>
                    <a:pt x="4116" y="1115"/>
                  </a:lnTo>
                  <a:lnTo>
                    <a:pt x="4125" y="1121"/>
                  </a:lnTo>
                  <a:lnTo>
                    <a:pt x="4133" y="1126"/>
                  </a:lnTo>
                  <a:lnTo>
                    <a:pt x="4142" y="1129"/>
                  </a:lnTo>
                  <a:lnTo>
                    <a:pt x="4154" y="1138"/>
                  </a:lnTo>
                  <a:lnTo>
                    <a:pt x="4163" y="1141"/>
                  </a:lnTo>
                  <a:lnTo>
                    <a:pt x="4171" y="1144"/>
                  </a:lnTo>
                  <a:lnTo>
                    <a:pt x="4180" y="1146"/>
                  </a:lnTo>
                  <a:lnTo>
                    <a:pt x="4192" y="1146"/>
                  </a:lnTo>
                  <a:lnTo>
                    <a:pt x="4200" y="1146"/>
                  </a:lnTo>
                  <a:lnTo>
                    <a:pt x="4212" y="1149"/>
                  </a:lnTo>
                  <a:lnTo>
                    <a:pt x="4221" y="1149"/>
                  </a:lnTo>
                  <a:lnTo>
                    <a:pt x="4229" y="1152"/>
                  </a:lnTo>
                  <a:lnTo>
                    <a:pt x="4238" y="1155"/>
                  </a:lnTo>
                  <a:lnTo>
                    <a:pt x="4247" y="1161"/>
                  </a:lnTo>
                  <a:lnTo>
                    <a:pt x="4256" y="1164"/>
                  </a:lnTo>
                  <a:lnTo>
                    <a:pt x="4264" y="1170"/>
                  </a:lnTo>
                  <a:lnTo>
                    <a:pt x="4273" y="1172"/>
                  </a:lnTo>
                  <a:lnTo>
                    <a:pt x="4282" y="1178"/>
                  </a:lnTo>
                  <a:lnTo>
                    <a:pt x="4291" y="1181"/>
                  </a:lnTo>
                  <a:lnTo>
                    <a:pt x="4299" y="1187"/>
                  </a:lnTo>
                  <a:lnTo>
                    <a:pt x="4308" y="1190"/>
                  </a:lnTo>
                  <a:lnTo>
                    <a:pt x="4317" y="1193"/>
                  </a:lnTo>
                  <a:lnTo>
                    <a:pt x="4326" y="1195"/>
                  </a:lnTo>
                  <a:lnTo>
                    <a:pt x="4334" y="1195"/>
                  </a:lnTo>
                  <a:lnTo>
                    <a:pt x="4326" y="1190"/>
                  </a:lnTo>
                  <a:lnTo>
                    <a:pt x="4314" y="1178"/>
                  </a:lnTo>
                  <a:lnTo>
                    <a:pt x="4305" y="1170"/>
                  </a:lnTo>
                  <a:lnTo>
                    <a:pt x="4305" y="1161"/>
                  </a:lnTo>
                  <a:lnTo>
                    <a:pt x="4317" y="1158"/>
                  </a:lnTo>
                  <a:lnTo>
                    <a:pt x="4328" y="1158"/>
                  </a:lnTo>
                  <a:lnTo>
                    <a:pt x="4337" y="1158"/>
                  </a:lnTo>
                  <a:lnTo>
                    <a:pt x="4346" y="1158"/>
                  </a:lnTo>
                  <a:lnTo>
                    <a:pt x="4346" y="1149"/>
                  </a:lnTo>
                  <a:lnTo>
                    <a:pt x="4349" y="1138"/>
                  </a:lnTo>
                  <a:lnTo>
                    <a:pt x="4349" y="1129"/>
                  </a:lnTo>
                  <a:lnTo>
                    <a:pt x="4340" y="1123"/>
                  </a:lnTo>
                  <a:lnTo>
                    <a:pt x="4331" y="1121"/>
                  </a:lnTo>
                  <a:lnTo>
                    <a:pt x="4323" y="1121"/>
                  </a:lnTo>
                  <a:lnTo>
                    <a:pt x="4314" y="1121"/>
                  </a:lnTo>
                  <a:lnTo>
                    <a:pt x="4302" y="1121"/>
                  </a:lnTo>
                  <a:lnTo>
                    <a:pt x="4296" y="1132"/>
                  </a:lnTo>
                  <a:lnTo>
                    <a:pt x="4288" y="1138"/>
                  </a:lnTo>
                  <a:lnTo>
                    <a:pt x="4279" y="1144"/>
                  </a:lnTo>
                  <a:lnTo>
                    <a:pt x="4270" y="1144"/>
                  </a:lnTo>
                  <a:lnTo>
                    <a:pt x="4261" y="1144"/>
                  </a:lnTo>
                  <a:lnTo>
                    <a:pt x="4253" y="1144"/>
                  </a:lnTo>
                  <a:lnTo>
                    <a:pt x="4244" y="1144"/>
                  </a:lnTo>
                  <a:lnTo>
                    <a:pt x="4238" y="1135"/>
                  </a:lnTo>
                  <a:lnTo>
                    <a:pt x="4227" y="1126"/>
                  </a:lnTo>
                  <a:lnTo>
                    <a:pt x="4218" y="1115"/>
                  </a:lnTo>
                  <a:lnTo>
                    <a:pt x="4209" y="1109"/>
                  </a:lnTo>
                  <a:lnTo>
                    <a:pt x="4197" y="1100"/>
                  </a:lnTo>
                  <a:lnTo>
                    <a:pt x="4192" y="1092"/>
                  </a:lnTo>
                  <a:lnTo>
                    <a:pt x="4200" y="1086"/>
                  </a:lnTo>
                  <a:lnTo>
                    <a:pt x="4209" y="1077"/>
                  </a:lnTo>
                  <a:lnTo>
                    <a:pt x="4218" y="1072"/>
                  </a:lnTo>
                  <a:lnTo>
                    <a:pt x="4227" y="1063"/>
                  </a:lnTo>
                  <a:lnTo>
                    <a:pt x="4229" y="1054"/>
                  </a:lnTo>
                  <a:lnTo>
                    <a:pt x="4221" y="1048"/>
                  </a:lnTo>
                  <a:lnTo>
                    <a:pt x="4209" y="1048"/>
                  </a:lnTo>
                  <a:lnTo>
                    <a:pt x="4200" y="1048"/>
                  </a:lnTo>
                  <a:lnTo>
                    <a:pt x="4189" y="1048"/>
                  </a:lnTo>
                  <a:lnTo>
                    <a:pt x="4180" y="1051"/>
                  </a:lnTo>
                  <a:lnTo>
                    <a:pt x="4171" y="1057"/>
                  </a:lnTo>
                  <a:lnTo>
                    <a:pt x="4160" y="1057"/>
                  </a:lnTo>
                  <a:lnTo>
                    <a:pt x="4151" y="1057"/>
                  </a:lnTo>
                  <a:lnTo>
                    <a:pt x="4142" y="1057"/>
                  </a:lnTo>
                  <a:lnTo>
                    <a:pt x="4133" y="1057"/>
                  </a:lnTo>
                  <a:lnTo>
                    <a:pt x="4125" y="1057"/>
                  </a:lnTo>
                  <a:lnTo>
                    <a:pt x="4116" y="1057"/>
                  </a:lnTo>
                  <a:lnTo>
                    <a:pt x="4107" y="1057"/>
                  </a:lnTo>
                  <a:lnTo>
                    <a:pt x="4098" y="1057"/>
                  </a:lnTo>
                  <a:lnTo>
                    <a:pt x="4090" y="1057"/>
                  </a:lnTo>
                  <a:lnTo>
                    <a:pt x="4081" y="1057"/>
                  </a:lnTo>
                  <a:lnTo>
                    <a:pt x="4072" y="1057"/>
                  </a:lnTo>
                  <a:lnTo>
                    <a:pt x="4064" y="1054"/>
                  </a:lnTo>
                  <a:lnTo>
                    <a:pt x="4055" y="1051"/>
                  </a:lnTo>
                  <a:lnTo>
                    <a:pt x="4043" y="1048"/>
                  </a:lnTo>
                  <a:lnTo>
                    <a:pt x="4032" y="1043"/>
                  </a:lnTo>
                  <a:lnTo>
                    <a:pt x="4023" y="1040"/>
                  </a:lnTo>
                  <a:lnTo>
                    <a:pt x="4008" y="1031"/>
                  </a:lnTo>
                  <a:lnTo>
                    <a:pt x="3994" y="1028"/>
                  </a:lnTo>
                  <a:lnTo>
                    <a:pt x="3982" y="1028"/>
                  </a:lnTo>
                  <a:lnTo>
                    <a:pt x="3973" y="1028"/>
                  </a:lnTo>
                  <a:lnTo>
                    <a:pt x="3965" y="1028"/>
                  </a:lnTo>
                  <a:lnTo>
                    <a:pt x="3953" y="1028"/>
                  </a:lnTo>
                  <a:lnTo>
                    <a:pt x="3941" y="1028"/>
                  </a:lnTo>
                  <a:lnTo>
                    <a:pt x="3933" y="1028"/>
                  </a:lnTo>
                  <a:lnTo>
                    <a:pt x="3927" y="1037"/>
                  </a:lnTo>
                  <a:lnTo>
                    <a:pt x="3941" y="1048"/>
                  </a:lnTo>
                  <a:lnTo>
                    <a:pt x="3950" y="1051"/>
                  </a:lnTo>
                  <a:lnTo>
                    <a:pt x="3962" y="1054"/>
                  </a:lnTo>
                  <a:lnTo>
                    <a:pt x="3970" y="1057"/>
                  </a:lnTo>
                  <a:lnTo>
                    <a:pt x="3979" y="1060"/>
                  </a:lnTo>
                  <a:lnTo>
                    <a:pt x="3982" y="1072"/>
                  </a:lnTo>
                  <a:lnTo>
                    <a:pt x="3982" y="1080"/>
                  </a:lnTo>
                  <a:lnTo>
                    <a:pt x="3982" y="1089"/>
                  </a:lnTo>
                  <a:lnTo>
                    <a:pt x="3994" y="1100"/>
                  </a:lnTo>
                  <a:lnTo>
                    <a:pt x="4002" y="1103"/>
                  </a:lnTo>
                  <a:lnTo>
                    <a:pt x="4014" y="1106"/>
                  </a:lnTo>
                  <a:lnTo>
                    <a:pt x="4026" y="1106"/>
                  </a:lnTo>
                  <a:lnTo>
                    <a:pt x="4034" y="1109"/>
                  </a:lnTo>
                  <a:lnTo>
                    <a:pt x="4046" y="1112"/>
                  </a:lnTo>
                  <a:lnTo>
                    <a:pt x="4037" y="1115"/>
                  </a:lnTo>
                  <a:lnTo>
                    <a:pt x="4029" y="1112"/>
                  </a:lnTo>
                  <a:lnTo>
                    <a:pt x="4020" y="1109"/>
                  </a:lnTo>
                  <a:lnTo>
                    <a:pt x="4011" y="1109"/>
                  </a:lnTo>
                  <a:lnTo>
                    <a:pt x="4002" y="1106"/>
                  </a:lnTo>
                  <a:lnTo>
                    <a:pt x="3994" y="1103"/>
                  </a:lnTo>
                  <a:lnTo>
                    <a:pt x="3979" y="1097"/>
                  </a:lnTo>
                  <a:lnTo>
                    <a:pt x="3970" y="1097"/>
                  </a:lnTo>
                  <a:lnTo>
                    <a:pt x="3962" y="1100"/>
                  </a:lnTo>
                  <a:lnTo>
                    <a:pt x="3959" y="1109"/>
                  </a:lnTo>
                  <a:lnTo>
                    <a:pt x="3950" y="1118"/>
                  </a:lnTo>
                  <a:lnTo>
                    <a:pt x="3941" y="1123"/>
                  </a:lnTo>
                  <a:lnTo>
                    <a:pt x="3935" y="1132"/>
                  </a:lnTo>
                  <a:lnTo>
                    <a:pt x="3927" y="1138"/>
                  </a:lnTo>
                  <a:lnTo>
                    <a:pt x="3927" y="1146"/>
                  </a:lnTo>
                  <a:lnTo>
                    <a:pt x="3930" y="1155"/>
                  </a:lnTo>
                  <a:lnTo>
                    <a:pt x="3938" y="1161"/>
                  </a:lnTo>
                  <a:lnTo>
                    <a:pt x="3941" y="1170"/>
                  </a:lnTo>
                  <a:lnTo>
                    <a:pt x="3941" y="1178"/>
                  </a:lnTo>
                  <a:lnTo>
                    <a:pt x="3941" y="1187"/>
                  </a:lnTo>
                  <a:lnTo>
                    <a:pt x="3938" y="1195"/>
                  </a:lnTo>
                  <a:lnTo>
                    <a:pt x="3933" y="1204"/>
                  </a:lnTo>
                  <a:lnTo>
                    <a:pt x="3924" y="1204"/>
                  </a:lnTo>
                  <a:lnTo>
                    <a:pt x="3915" y="1193"/>
                  </a:lnTo>
                  <a:lnTo>
                    <a:pt x="3912" y="1184"/>
                  </a:lnTo>
                  <a:lnTo>
                    <a:pt x="3903" y="1178"/>
                  </a:lnTo>
                  <a:lnTo>
                    <a:pt x="3892" y="1172"/>
                  </a:lnTo>
                  <a:lnTo>
                    <a:pt x="3883" y="1167"/>
                  </a:lnTo>
                  <a:lnTo>
                    <a:pt x="3877" y="1158"/>
                  </a:lnTo>
                  <a:lnTo>
                    <a:pt x="3874" y="1167"/>
                  </a:lnTo>
                  <a:lnTo>
                    <a:pt x="3874" y="1175"/>
                  </a:lnTo>
                  <a:lnTo>
                    <a:pt x="3874" y="1184"/>
                  </a:lnTo>
                  <a:lnTo>
                    <a:pt x="3886" y="1193"/>
                  </a:lnTo>
                  <a:lnTo>
                    <a:pt x="3898" y="1195"/>
                  </a:lnTo>
                  <a:lnTo>
                    <a:pt x="3906" y="1198"/>
                  </a:lnTo>
                  <a:lnTo>
                    <a:pt x="3915" y="1201"/>
                  </a:lnTo>
                  <a:lnTo>
                    <a:pt x="3924" y="1207"/>
                  </a:lnTo>
                  <a:lnTo>
                    <a:pt x="3912" y="1213"/>
                  </a:lnTo>
                  <a:lnTo>
                    <a:pt x="3903" y="1213"/>
                  </a:lnTo>
                  <a:lnTo>
                    <a:pt x="3895" y="1213"/>
                  </a:lnTo>
                  <a:lnTo>
                    <a:pt x="3886" y="1216"/>
                  </a:lnTo>
                  <a:lnTo>
                    <a:pt x="3886" y="1224"/>
                  </a:lnTo>
                  <a:lnTo>
                    <a:pt x="3880" y="1233"/>
                  </a:lnTo>
                  <a:lnTo>
                    <a:pt x="3868" y="1236"/>
                  </a:lnTo>
                  <a:lnTo>
                    <a:pt x="3860" y="1236"/>
                  </a:lnTo>
                  <a:lnTo>
                    <a:pt x="3854" y="1224"/>
                  </a:lnTo>
                  <a:lnTo>
                    <a:pt x="3854" y="1216"/>
                  </a:lnTo>
                  <a:lnTo>
                    <a:pt x="3851" y="1207"/>
                  </a:lnTo>
                  <a:lnTo>
                    <a:pt x="3845" y="1198"/>
                  </a:lnTo>
                  <a:lnTo>
                    <a:pt x="3842" y="1187"/>
                  </a:lnTo>
                  <a:lnTo>
                    <a:pt x="3836" y="1175"/>
                  </a:lnTo>
                  <a:lnTo>
                    <a:pt x="3834" y="1164"/>
                  </a:lnTo>
                  <a:lnTo>
                    <a:pt x="3828" y="1155"/>
                  </a:lnTo>
                  <a:lnTo>
                    <a:pt x="3822" y="1146"/>
                  </a:lnTo>
                  <a:lnTo>
                    <a:pt x="3816" y="1138"/>
                  </a:lnTo>
                  <a:lnTo>
                    <a:pt x="3810" y="1129"/>
                  </a:lnTo>
                  <a:lnTo>
                    <a:pt x="3799" y="1123"/>
                  </a:lnTo>
                  <a:lnTo>
                    <a:pt x="3793" y="1115"/>
                  </a:lnTo>
                  <a:lnTo>
                    <a:pt x="3790" y="1106"/>
                  </a:lnTo>
                  <a:lnTo>
                    <a:pt x="3784" y="1097"/>
                  </a:lnTo>
                  <a:lnTo>
                    <a:pt x="3778" y="1089"/>
                  </a:lnTo>
                  <a:lnTo>
                    <a:pt x="3775" y="1080"/>
                  </a:lnTo>
                  <a:lnTo>
                    <a:pt x="3772" y="1072"/>
                  </a:lnTo>
                  <a:lnTo>
                    <a:pt x="3767" y="1063"/>
                  </a:lnTo>
                  <a:lnTo>
                    <a:pt x="3761" y="1054"/>
                  </a:lnTo>
                  <a:lnTo>
                    <a:pt x="3752" y="1046"/>
                  </a:lnTo>
                  <a:lnTo>
                    <a:pt x="3746" y="1037"/>
                  </a:lnTo>
                  <a:lnTo>
                    <a:pt x="3737" y="1034"/>
                  </a:lnTo>
                  <a:lnTo>
                    <a:pt x="3717" y="988"/>
                  </a:lnTo>
                  <a:lnTo>
                    <a:pt x="3737" y="1008"/>
                  </a:lnTo>
                  <a:lnTo>
                    <a:pt x="3737" y="999"/>
                  </a:lnTo>
                  <a:lnTo>
                    <a:pt x="3732" y="991"/>
                  </a:lnTo>
                  <a:lnTo>
                    <a:pt x="3726" y="982"/>
                  </a:lnTo>
                  <a:lnTo>
                    <a:pt x="3723" y="974"/>
                  </a:lnTo>
                  <a:lnTo>
                    <a:pt x="3714" y="968"/>
                  </a:lnTo>
                  <a:lnTo>
                    <a:pt x="3703" y="965"/>
                  </a:lnTo>
                  <a:lnTo>
                    <a:pt x="3694" y="959"/>
                  </a:lnTo>
                  <a:lnTo>
                    <a:pt x="3691" y="950"/>
                  </a:lnTo>
                  <a:lnTo>
                    <a:pt x="3691" y="942"/>
                  </a:lnTo>
                  <a:lnTo>
                    <a:pt x="3691" y="930"/>
                  </a:lnTo>
                  <a:lnTo>
                    <a:pt x="3691" y="922"/>
                  </a:lnTo>
                  <a:lnTo>
                    <a:pt x="3691" y="913"/>
                  </a:lnTo>
                  <a:lnTo>
                    <a:pt x="3694" y="904"/>
                  </a:lnTo>
                  <a:lnTo>
                    <a:pt x="3700" y="896"/>
                  </a:lnTo>
                  <a:lnTo>
                    <a:pt x="3705" y="887"/>
                  </a:lnTo>
                  <a:lnTo>
                    <a:pt x="3714" y="887"/>
                  </a:lnTo>
                  <a:lnTo>
                    <a:pt x="3717" y="878"/>
                  </a:lnTo>
                  <a:lnTo>
                    <a:pt x="3705" y="867"/>
                  </a:lnTo>
                  <a:lnTo>
                    <a:pt x="3705" y="858"/>
                  </a:lnTo>
                  <a:lnTo>
                    <a:pt x="3705" y="847"/>
                  </a:lnTo>
                  <a:lnTo>
                    <a:pt x="3711" y="838"/>
                  </a:lnTo>
                  <a:lnTo>
                    <a:pt x="3717" y="827"/>
                  </a:lnTo>
                  <a:lnTo>
                    <a:pt x="3717" y="818"/>
                  </a:lnTo>
                  <a:lnTo>
                    <a:pt x="3717" y="809"/>
                  </a:lnTo>
                  <a:lnTo>
                    <a:pt x="3705" y="806"/>
                  </a:lnTo>
                  <a:lnTo>
                    <a:pt x="3694" y="801"/>
                  </a:lnTo>
                  <a:lnTo>
                    <a:pt x="3685" y="795"/>
                  </a:lnTo>
                  <a:lnTo>
                    <a:pt x="3685" y="786"/>
                  </a:lnTo>
                  <a:lnTo>
                    <a:pt x="3691" y="778"/>
                  </a:lnTo>
                  <a:lnTo>
                    <a:pt x="3697" y="769"/>
                  </a:lnTo>
                  <a:lnTo>
                    <a:pt x="3700" y="760"/>
                  </a:lnTo>
                  <a:lnTo>
                    <a:pt x="3708" y="757"/>
                  </a:lnTo>
                  <a:lnTo>
                    <a:pt x="3717" y="752"/>
                  </a:lnTo>
                  <a:lnTo>
                    <a:pt x="3726" y="757"/>
                  </a:lnTo>
                  <a:lnTo>
                    <a:pt x="3735" y="760"/>
                  </a:lnTo>
                  <a:lnTo>
                    <a:pt x="3743" y="763"/>
                  </a:lnTo>
                  <a:lnTo>
                    <a:pt x="3743" y="755"/>
                  </a:lnTo>
                  <a:lnTo>
                    <a:pt x="3737" y="746"/>
                  </a:lnTo>
                  <a:lnTo>
                    <a:pt x="3737" y="737"/>
                  </a:lnTo>
                  <a:lnTo>
                    <a:pt x="3735" y="729"/>
                  </a:lnTo>
                  <a:lnTo>
                    <a:pt x="3735" y="720"/>
                  </a:lnTo>
                  <a:lnTo>
                    <a:pt x="3732" y="711"/>
                  </a:lnTo>
                  <a:lnTo>
                    <a:pt x="3726" y="703"/>
                  </a:lnTo>
                  <a:lnTo>
                    <a:pt x="3723" y="691"/>
                  </a:lnTo>
                  <a:lnTo>
                    <a:pt x="3723" y="682"/>
                  </a:lnTo>
                  <a:lnTo>
                    <a:pt x="3723" y="674"/>
                  </a:lnTo>
                  <a:lnTo>
                    <a:pt x="3723" y="665"/>
                  </a:lnTo>
                  <a:lnTo>
                    <a:pt x="3714" y="662"/>
                  </a:lnTo>
                  <a:lnTo>
                    <a:pt x="3708" y="671"/>
                  </a:lnTo>
                  <a:lnTo>
                    <a:pt x="3700" y="671"/>
                  </a:lnTo>
                  <a:lnTo>
                    <a:pt x="3691" y="674"/>
                  </a:lnTo>
                  <a:lnTo>
                    <a:pt x="3682" y="671"/>
                  </a:lnTo>
                  <a:lnTo>
                    <a:pt x="3673" y="659"/>
                  </a:lnTo>
                  <a:lnTo>
                    <a:pt x="3668" y="651"/>
                  </a:lnTo>
                  <a:lnTo>
                    <a:pt x="3662" y="642"/>
                  </a:lnTo>
                  <a:lnTo>
                    <a:pt x="3653" y="633"/>
                  </a:lnTo>
                  <a:lnTo>
                    <a:pt x="3641" y="628"/>
                  </a:lnTo>
                  <a:lnTo>
                    <a:pt x="3633" y="622"/>
                  </a:lnTo>
                  <a:lnTo>
                    <a:pt x="3624" y="622"/>
                  </a:lnTo>
                  <a:lnTo>
                    <a:pt x="3615" y="616"/>
                  </a:lnTo>
                  <a:lnTo>
                    <a:pt x="3604" y="613"/>
                  </a:lnTo>
                  <a:lnTo>
                    <a:pt x="3595" y="608"/>
                  </a:lnTo>
                  <a:lnTo>
                    <a:pt x="3577" y="573"/>
                  </a:lnTo>
                  <a:lnTo>
                    <a:pt x="3592" y="587"/>
                  </a:lnTo>
                  <a:lnTo>
                    <a:pt x="3592" y="576"/>
                  </a:lnTo>
                  <a:lnTo>
                    <a:pt x="3589" y="567"/>
                  </a:lnTo>
                  <a:lnTo>
                    <a:pt x="3589" y="559"/>
                  </a:lnTo>
                  <a:lnTo>
                    <a:pt x="3583" y="547"/>
                  </a:lnTo>
                  <a:lnTo>
                    <a:pt x="3577" y="538"/>
                  </a:lnTo>
                  <a:lnTo>
                    <a:pt x="3569" y="530"/>
                  </a:lnTo>
                  <a:lnTo>
                    <a:pt x="3583" y="527"/>
                  </a:lnTo>
                  <a:lnTo>
                    <a:pt x="3592" y="530"/>
                  </a:lnTo>
                  <a:lnTo>
                    <a:pt x="3601" y="533"/>
                  </a:lnTo>
                  <a:lnTo>
                    <a:pt x="3609" y="538"/>
                  </a:lnTo>
                  <a:lnTo>
                    <a:pt x="3618" y="541"/>
                  </a:lnTo>
                  <a:lnTo>
                    <a:pt x="3621" y="533"/>
                  </a:lnTo>
                  <a:lnTo>
                    <a:pt x="3621" y="524"/>
                  </a:lnTo>
                  <a:lnTo>
                    <a:pt x="3612" y="518"/>
                  </a:lnTo>
                  <a:lnTo>
                    <a:pt x="3604" y="507"/>
                  </a:lnTo>
                  <a:lnTo>
                    <a:pt x="3598" y="498"/>
                  </a:lnTo>
                  <a:lnTo>
                    <a:pt x="3589" y="489"/>
                  </a:lnTo>
                  <a:lnTo>
                    <a:pt x="3586" y="481"/>
                  </a:lnTo>
                  <a:lnTo>
                    <a:pt x="3577" y="472"/>
                  </a:lnTo>
                  <a:lnTo>
                    <a:pt x="3566" y="469"/>
                  </a:lnTo>
                  <a:lnTo>
                    <a:pt x="3557" y="469"/>
                  </a:lnTo>
                  <a:lnTo>
                    <a:pt x="3548" y="469"/>
                  </a:lnTo>
                  <a:lnTo>
                    <a:pt x="3540" y="469"/>
                  </a:lnTo>
                  <a:lnTo>
                    <a:pt x="3531" y="466"/>
                  </a:lnTo>
                  <a:lnTo>
                    <a:pt x="3519" y="458"/>
                  </a:lnTo>
                  <a:lnTo>
                    <a:pt x="3516" y="449"/>
                  </a:lnTo>
                  <a:lnTo>
                    <a:pt x="3510" y="440"/>
                  </a:lnTo>
                  <a:lnTo>
                    <a:pt x="3507" y="432"/>
                  </a:lnTo>
                  <a:lnTo>
                    <a:pt x="3502" y="423"/>
                  </a:lnTo>
                  <a:lnTo>
                    <a:pt x="3502" y="412"/>
                  </a:lnTo>
                  <a:lnTo>
                    <a:pt x="3510" y="412"/>
                  </a:lnTo>
                  <a:lnTo>
                    <a:pt x="3519" y="417"/>
                  </a:lnTo>
                  <a:lnTo>
                    <a:pt x="3531" y="426"/>
                  </a:lnTo>
                  <a:lnTo>
                    <a:pt x="3540" y="432"/>
                  </a:lnTo>
                  <a:lnTo>
                    <a:pt x="3542" y="440"/>
                  </a:lnTo>
                  <a:lnTo>
                    <a:pt x="3551" y="446"/>
                  </a:lnTo>
                  <a:lnTo>
                    <a:pt x="3563" y="452"/>
                  </a:lnTo>
                  <a:lnTo>
                    <a:pt x="3572" y="458"/>
                  </a:lnTo>
                  <a:lnTo>
                    <a:pt x="3580" y="458"/>
                  </a:lnTo>
                  <a:lnTo>
                    <a:pt x="3589" y="458"/>
                  </a:lnTo>
                  <a:lnTo>
                    <a:pt x="3598" y="458"/>
                  </a:lnTo>
                  <a:lnTo>
                    <a:pt x="3606" y="461"/>
                  </a:lnTo>
                  <a:lnTo>
                    <a:pt x="3612" y="472"/>
                  </a:lnTo>
                  <a:lnTo>
                    <a:pt x="3618" y="481"/>
                  </a:lnTo>
                  <a:lnTo>
                    <a:pt x="3621" y="489"/>
                  </a:lnTo>
                  <a:lnTo>
                    <a:pt x="3627" y="498"/>
                  </a:lnTo>
                  <a:lnTo>
                    <a:pt x="3633" y="507"/>
                  </a:lnTo>
                  <a:lnTo>
                    <a:pt x="3641" y="518"/>
                  </a:lnTo>
                  <a:lnTo>
                    <a:pt x="3650" y="521"/>
                  </a:lnTo>
                  <a:lnTo>
                    <a:pt x="3662" y="524"/>
                  </a:lnTo>
                  <a:lnTo>
                    <a:pt x="3671" y="524"/>
                  </a:lnTo>
                  <a:lnTo>
                    <a:pt x="3679" y="527"/>
                  </a:lnTo>
                  <a:lnTo>
                    <a:pt x="3688" y="527"/>
                  </a:lnTo>
                  <a:lnTo>
                    <a:pt x="3700" y="530"/>
                  </a:lnTo>
                  <a:lnTo>
                    <a:pt x="3711" y="536"/>
                  </a:lnTo>
                  <a:lnTo>
                    <a:pt x="3723" y="544"/>
                  </a:lnTo>
                  <a:lnTo>
                    <a:pt x="3729" y="553"/>
                  </a:lnTo>
                  <a:lnTo>
                    <a:pt x="3735" y="561"/>
                  </a:lnTo>
                  <a:lnTo>
                    <a:pt x="3746" y="570"/>
                  </a:lnTo>
                  <a:lnTo>
                    <a:pt x="3761" y="579"/>
                  </a:lnTo>
                  <a:lnTo>
                    <a:pt x="3770" y="585"/>
                  </a:lnTo>
                  <a:lnTo>
                    <a:pt x="3772" y="593"/>
                  </a:lnTo>
                  <a:lnTo>
                    <a:pt x="3775" y="602"/>
                  </a:lnTo>
                  <a:lnTo>
                    <a:pt x="3778" y="610"/>
                  </a:lnTo>
                  <a:lnTo>
                    <a:pt x="3787" y="610"/>
                  </a:lnTo>
                  <a:lnTo>
                    <a:pt x="3790" y="619"/>
                  </a:lnTo>
                  <a:lnTo>
                    <a:pt x="3799" y="622"/>
                  </a:lnTo>
                  <a:lnTo>
                    <a:pt x="3807" y="628"/>
                  </a:lnTo>
                  <a:lnTo>
                    <a:pt x="3819" y="633"/>
                  </a:lnTo>
                  <a:lnTo>
                    <a:pt x="3828" y="636"/>
                  </a:lnTo>
                  <a:lnTo>
                    <a:pt x="3836" y="639"/>
                  </a:lnTo>
                  <a:lnTo>
                    <a:pt x="3845" y="642"/>
                  </a:lnTo>
                  <a:lnTo>
                    <a:pt x="3854" y="642"/>
                  </a:lnTo>
                  <a:lnTo>
                    <a:pt x="3866" y="645"/>
                  </a:lnTo>
                  <a:lnTo>
                    <a:pt x="3874" y="651"/>
                  </a:lnTo>
                  <a:lnTo>
                    <a:pt x="3883" y="657"/>
                  </a:lnTo>
                  <a:lnTo>
                    <a:pt x="3892" y="657"/>
                  </a:lnTo>
                  <a:lnTo>
                    <a:pt x="3901" y="657"/>
                  </a:lnTo>
                  <a:lnTo>
                    <a:pt x="3912" y="657"/>
                  </a:lnTo>
                  <a:lnTo>
                    <a:pt x="3924" y="657"/>
                  </a:lnTo>
                  <a:lnTo>
                    <a:pt x="3938" y="657"/>
                  </a:lnTo>
                  <a:lnTo>
                    <a:pt x="3947" y="657"/>
                  </a:lnTo>
                  <a:lnTo>
                    <a:pt x="3959" y="657"/>
                  </a:lnTo>
                  <a:lnTo>
                    <a:pt x="3967" y="659"/>
                  </a:lnTo>
                  <a:lnTo>
                    <a:pt x="3979" y="659"/>
                  </a:lnTo>
                  <a:lnTo>
                    <a:pt x="3991" y="659"/>
                  </a:lnTo>
                  <a:lnTo>
                    <a:pt x="4002" y="659"/>
                  </a:lnTo>
                  <a:lnTo>
                    <a:pt x="4017" y="659"/>
                  </a:lnTo>
                  <a:lnTo>
                    <a:pt x="4026" y="659"/>
                  </a:lnTo>
                  <a:lnTo>
                    <a:pt x="4037" y="659"/>
                  </a:lnTo>
                  <a:lnTo>
                    <a:pt x="4049" y="659"/>
                  </a:lnTo>
                  <a:lnTo>
                    <a:pt x="4061" y="659"/>
                  </a:lnTo>
                  <a:lnTo>
                    <a:pt x="4072" y="659"/>
                  </a:lnTo>
                  <a:lnTo>
                    <a:pt x="4084" y="659"/>
                  </a:lnTo>
                  <a:lnTo>
                    <a:pt x="4093" y="659"/>
                  </a:lnTo>
                  <a:lnTo>
                    <a:pt x="4101" y="659"/>
                  </a:lnTo>
                  <a:lnTo>
                    <a:pt x="4110" y="659"/>
                  </a:lnTo>
                  <a:lnTo>
                    <a:pt x="4119" y="659"/>
                  </a:lnTo>
                  <a:lnTo>
                    <a:pt x="4128" y="659"/>
                  </a:lnTo>
                  <a:lnTo>
                    <a:pt x="4136" y="659"/>
                  </a:lnTo>
                  <a:lnTo>
                    <a:pt x="4142" y="668"/>
                  </a:lnTo>
                  <a:lnTo>
                    <a:pt x="4145" y="677"/>
                  </a:lnTo>
                  <a:lnTo>
                    <a:pt x="4151" y="685"/>
                  </a:lnTo>
                  <a:lnTo>
                    <a:pt x="4160" y="691"/>
                  </a:lnTo>
                  <a:lnTo>
                    <a:pt x="4168" y="700"/>
                  </a:lnTo>
                  <a:lnTo>
                    <a:pt x="4177" y="700"/>
                  </a:lnTo>
                  <a:lnTo>
                    <a:pt x="4177" y="691"/>
                  </a:lnTo>
                  <a:lnTo>
                    <a:pt x="4168" y="682"/>
                  </a:lnTo>
                  <a:lnTo>
                    <a:pt x="4168" y="674"/>
                  </a:lnTo>
                  <a:lnTo>
                    <a:pt x="4160" y="665"/>
                  </a:lnTo>
                  <a:lnTo>
                    <a:pt x="4151" y="659"/>
                  </a:lnTo>
                  <a:lnTo>
                    <a:pt x="4136" y="619"/>
                  </a:lnTo>
                  <a:lnTo>
                    <a:pt x="4142" y="60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33880" y="36291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6" y="0"/>
                  </a:moveTo>
                  <a:lnTo>
                    <a:pt x="32" y="11"/>
                  </a:lnTo>
                  <a:lnTo>
                    <a:pt x="23" y="11"/>
                  </a:lnTo>
                  <a:lnTo>
                    <a:pt x="14" y="11"/>
                  </a:lnTo>
                  <a:lnTo>
                    <a:pt x="5" y="13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8" y="33"/>
                  </a:lnTo>
                  <a:lnTo>
                    <a:pt x="17" y="30"/>
                  </a:lnTo>
                  <a:lnTo>
                    <a:pt x="23" y="22"/>
                  </a:lnTo>
                  <a:lnTo>
                    <a:pt x="23" y="13"/>
                  </a:lnTo>
                  <a:lnTo>
                    <a:pt x="26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14480" y="5259240"/>
              <a:ext cx="4320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" y="20"/>
                  </a:moveTo>
                  <a:lnTo>
                    <a:pt x="8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4" y="17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2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81200" y="4390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0"/>
                  </a:moveTo>
                  <a:lnTo>
                    <a:pt x="11" y="16"/>
                  </a:lnTo>
                  <a:lnTo>
                    <a:pt x="11" y="25"/>
                  </a:lnTo>
                  <a:lnTo>
                    <a:pt x="2" y="33"/>
                  </a:lnTo>
                  <a:lnTo>
                    <a:pt x="11" y="45"/>
                  </a:lnTo>
                  <a:lnTo>
                    <a:pt x="26" y="48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2" y="22"/>
                  </a:lnTo>
                  <a:lnTo>
                    <a:pt x="23" y="14"/>
                  </a:lnTo>
                  <a:lnTo>
                    <a:pt x="14" y="11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29600" y="16905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0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05920" y="1801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lnTo>
                    <a:pt x="8" y="11"/>
                  </a:lnTo>
                  <a:lnTo>
                    <a:pt x="14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26" y="46"/>
                  </a:lnTo>
                  <a:lnTo>
                    <a:pt x="17" y="43"/>
                  </a:lnTo>
                  <a:lnTo>
                    <a:pt x="11" y="34"/>
                  </a:lnTo>
                  <a:lnTo>
                    <a:pt x="8" y="25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24440" y="16192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6" y="70"/>
                  </a:moveTo>
                  <a:lnTo>
                    <a:pt x="0" y="78"/>
                  </a:lnTo>
                  <a:lnTo>
                    <a:pt x="0" y="70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19" y="42"/>
                  </a:lnTo>
                  <a:lnTo>
                    <a:pt x="11" y="33"/>
                  </a:lnTo>
                  <a:lnTo>
                    <a:pt x="11" y="25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11"/>
                  </a:lnTo>
                  <a:lnTo>
                    <a:pt x="45" y="16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28" y="33"/>
                  </a:lnTo>
                  <a:lnTo>
                    <a:pt x="35" y="36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5" y="56"/>
                  </a:lnTo>
                  <a:lnTo>
                    <a:pt x="45" y="64"/>
                  </a:lnTo>
                  <a:lnTo>
                    <a:pt x="43" y="72"/>
                  </a:lnTo>
                  <a:lnTo>
                    <a:pt x="50" y="75"/>
                  </a:lnTo>
                  <a:lnTo>
                    <a:pt x="55" y="84"/>
                  </a:lnTo>
                  <a:lnTo>
                    <a:pt x="50" y="92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31" y="98"/>
                  </a:lnTo>
                  <a:lnTo>
                    <a:pt x="23" y="98"/>
                  </a:lnTo>
                  <a:lnTo>
                    <a:pt x="14" y="92"/>
                  </a:lnTo>
                  <a:lnTo>
                    <a:pt x="9" y="84"/>
                  </a:lnTo>
                  <a:lnTo>
                    <a:pt x="4" y="75"/>
                  </a:lnTo>
                  <a:lnTo>
                    <a:pt x="16" y="7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48200" y="17812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4"/>
                  </a:lnTo>
                  <a:lnTo>
                    <a:pt x="16" y="18"/>
                  </a:lnTo>
                  <a:lnTo>
                    <a:pt x="4" y="0"/>
                  </a:lnTo>
                  <a:lnTo>
                    <a:pt x="16" y="1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00840" y="167328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0"/>
                  </a:moveTo>
                  <a:lnTo>
                    <a:pt x="17" y="19"/>
                  </a:lnTo>
                  <a:lnTo>
                    <a:pt x="22" y="11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25" y="27"/>
                  </a:lnTo>
                  <a:lnTo>
                    <a:pt x="28" y="36"/>
                  </a:lnTo>
                  <a:lnTo>
                    <a:pt x="11" y="30"/>
                  </a:lnTo>
                  <a:lnTo>
                    <a:pt x="0" y="33"/>
                  </a:lnTo>
                  <a:lnTo>
                    <a:pt x="11" y="3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91040" y="1490760"/>
              <a:ext cx="84240" cy="10944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31" y="51"/>
                  </a:moveTo>
                  <a:lnTo>
                    <a:pt x="8" y="34"/>
                  </a:lnTo>
                  <a:lnTo>
                    <a:pt x="8" y="42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5" y="68"/>
                  </a:lnTo>
                  <a:lnTo>
                    <a:pt x="17" y="68"/>
                  </a:lnTo>
                  <a:lnTo>
                    <a:pt x="28" y="68"/>
                  </a:lnTo>
                  <a:lnTo>
                    <a:pt x="37" y="68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2" y="34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20" y="19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7" y="45"/>
                  </a:lnTo>
                  <a:lnTo>
                    <a:pt x="31" y="51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38480" y="2170080"/>
              <a:ext cx="293760" cy="235080"/>
            </a:xfrm>
            <a:custGeom>
              <a:avLst/>
              <a:gdLst/>
              <a:ahLst/>
              <a:rect l="l" t="t" r="r" b="b"/>
              <a:pathLst>
                <a:path w="185" h="148">
                  <a:moveTo>
                    <a:pt x="0" y="101"/>
                  </a:moveTo>
                  <a:lnTo>
                    <a:pt x="11" y="84"/>
                  </a:lnTo>
                  <a:lnTo>
                    <a:pt x="11" y="93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5" y="138"/>
                  </a:lnTo>
                  <a:lnTo>
                    <a:pt x="14" y="135"/>
                  </a:lnTo>
                  <a:lnTo>
                    <a:pt x="20" y="127"/>
                  </a:lnTo>
                  <a:lnTo>
                    <a:pt x="28" y="118"/>
                  </a:lnTo>
                  <a:lnTo>
                    <a:pt x="31" y="110"/>
                  </a:lnTo>
                  <a:lnTo>
                    <a:pt x="40" y="104"/>
                  </a:lnTo>
                  <a:lnTo>
                    <a:pt x="48" y="101"/>
                  </a:lnTo>
                  <a:lnTo>
                    <a:pt x="57" y="98"/>
                  </a:lnTo>
                  <a:lnTo>
                    <a:pt x="66" y="90"/>
                  </a:lnTo>
                  <a:lnTo>
                    <a:pt x="69" y="81"/>
                  </a:lnTo>
                  <a:lnTo>
                    <a:pt x="77" y="79"/>
                  </a:lnTo>
                  <a:lnTo>
                    <a:pt x="80" y="87"/>
                  </a:lnTo>
                  <a:lnTo>
                    <a:pt x="80" y="96"/>
                  </a:lnTo>
                  <a:lnTo>
                    <a:pt x="80" y="104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71" y="130"/>
                  </a:lnTo>
                  <a:lnTo>
                    <a:pt x="74" y="138"/>
                  </a:lnTo>
                  <a:lnTo>
                    <a:pt x="83" y="141"/>
                  </a:lnTo>
                  <a:lnTo>
                    <a:pt x="94" y="141"/>
                  </a:lnTo>
                  <a:lnTo>
                    <a:pt x="103" y="138"/>
                  </a:lnTo>
                  <a:lnTo>
                    <a:pt x="109" y="130"/>
                  </a:lnTo>
                  <a:lnTo>
                    <a:pt x="109" y="121"/>
                  </a:lnTo>
                  <a:lnTo>
                    <a:pt x="100" y="113"/>
                  </a:lnTo>
                  <a:lnTo>
                    <a:pt x="106" y="101"/>
                  </a:lnTo>
                  <a:lnTo>
                    <a:pt x="100" y="90"/>
                  </a:lnTo>
                  <a:lnTo>
                    <a:pt x="97" y="81"/>
                  </a:lnTo>
                  <a:lnTo>
                    <a:pt x="97" y="73"/>
                  </a:lnTo>
                  <a:lnTo>
                    <a:pt x="97" y="65"/>
                  </a:lnTo>
                  <a:lnTo>
                    <a:pt x="103" y="56"/>
                  </a:lnTo>
                  <a:lnTo>
                    <a:pt x="112" y="56"/>
                  </a:lnTo>
                  <a:lnTo>
                    <a:pt x="120" y="53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52" y="56"/>
                  </a:lnTo>
                  <a:lnTo>
                    <a:pt x="166" y="56"/>
                  </a:lnTo>
                  <a:lnTo>
                    <a:pt x="175" y="56"/>
                  </a:lnTo>
                  <a:lnTo>
                    <a:pt x="184" y="56"/>
                  </a:lnTo>
                  <a:lnTo>
                    <a:pt x="184" y="48"/>
                  </a:lnTo>
                  <a:lnTo>
                    <a:pt x="184" y="39"/>
                  </a:lnTo>
                  <a:lnTo>
                    <a:pt x="181" y="31"/>
                  </a:lnTo>
                  <a:lnTo>
                    <a:pt x="178" y="22"/>
                  </a:lnTo>
                  <a:lnTo>
                    <a:pt x="166" y="16"/>
                  </a:lnTo>
                  <a:lnTo>
                    <a:pt x="158" y="16"/>
                  </a:lnTo>
                  <a:lnTo>
                    <a:pt x="146" y="16"/>
                  </a:lnTo>
                  <a:lnTo>
                    <a:pt x="138" y="19"/>
                  </a:lnTo>
                  <a:lnTo>
                    <a:pt x="140" y="11"/>
                  </a:lnTo>
                  <a:lnTo>
                    <a:pt x="140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12" y="11"/>
                  </a:lnTo>
                  <a:lnTo>
                    <a:pt x="103" y="16"/>
                  </a:lnTo>
                  <a:lnTo>
                    <a:pt x="97" y="25"/>
                  </a:lnTo>
                  <a:lnTo>
                    <a:pt x="94" y="16"/>
                  </a:lnTo>
                  <a:lnTo>
                    <a:pt x="86" y="14"/>
                  </a:lnTo>
                  <a:lnTo>
                    <a:pt x="77" y="19"/>
                  </a:lnTo>
                  <a:lnTo>
                    <a:pt x="69" y="25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63" y="2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7" y="25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23" y="48"/>
                  </a:lnTo>
                  <a:lnTo>
                    <a:pt x="31" y="48"/>
                  </a:lnTo>
                  <a:lnTo>
                    <a:pt x="40" y="42"/>
                  </a:lnTo>
                  <a:lnTo>
                    <a:pt x="51" y="45"/>
                  </a:lnTo>
                  <a:lnTo>
                    <a:pt x="57" y="53"/>
                  </a:lnTo>
                  <a:lnTo>
                    <a:pt x="60" y="62"/>
                  </a:lnTo>
                  <a:lnTo>
                    <a:pt x="51" y="65"/>
                  </a:lnTo>
                  <a:lnTo>
                    <a:pt x="40" y="65"/>
                  </a:lnTo>
                  <a:lnTo>
                    <a:pt x="28" y="59"/>
                  </a:lnTo>
                  <a:lnTo>
                    <a:pt x="17" y="59"/>
                  </a:lnTo>
                  <a:lnTo>
                    <a:pt x="8" y="65"/>
                  </a:lnTo>
                  <a:lnTo>
                    <a:pt x="8" y="76"/>
                  </a:lnTo>
                  <a:lnTo>
                    <a:pt x="11" y="87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6"/>
                  </a:lnTo>
                  <a:lnTo>
                    <a:pt x="0" y="101"/>
                  </a:lnTo>
                  <a:lnTo>
                    <a:pt x="5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0" y="1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95760" y="2171880"/>
              <a:ext cx="220680" cy="18072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31" y="53"/>
                  </a:moveTo>
                  <a:lnTo>
                    <a:pt x="25" y="64"/>
                  </a:lnTo>
                  <a:lnTo>
                    <a:pt x="31" y="53"/>
                  </a:lnTo>
                  <a:lnTo>
                    <a:pt x="43" y="56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7" y="79"/>
                  </a:lnTo>
                  <a:lnTo>
                    <a:pt x="23" y="90"/>
                  </a:lnTo>
                  <a:lnTo>
                    <a:pt x="25" y="98"/>
                  </a:lnTo>
                  <a:lnTo>
                    <a:pt x="31" y="107"/>
                  </a:lnTo>
                  <a:lnTo>
                    <a:pt x="34" y="98"/>
                  </a:lnTo>
                  <a:lnTo>
                    <a:pt x="34" y="90"/>
                  </a:lnTo>
                  <a:lnTo>
                    <a:pt x="43" y="90"/>
                  </a:lnTo>
                  <a:lnTo>
                    <a:pt x="54" y="93"/>
                  </a:lnTo>
                  <a:lnTo>
                    <a:pt x="63" y="96"/>
                  </a:lnTo>
                  <a:lnTo>
                    <a:pt x="71" y="96"/>
                  </a:lnTo>
                  <a:lnTo>
                    <a:pt x="80" y="87"/>
                  </a:lnTo>
                  <a:lnTo>
                    <a:pt x="89" y="87"/>
                  </a:lnTo>
                  <a:lnTo>
                    <a:pt x="97" y="93"/>
                  </a:lnTo>
                  <a:lnTo>
                    <a:pt x="103" y="107"/>
                  </a:lnTo>
                  <a:lnTo>
                    <a:pt x="112" y="110"/>
                  </a:lnTo>
                  <a:lnTo>
                    <a:pt x="120" y="113"/>
                  </a:lnTo>
                  <a:lnTo>
                    <a:pt x="126" y="104"/>
                  </a:lnTo>
                  <a:lnTo>
                    <a:pt x="123" y="96"/>
                  </a:lnTo>
                  <a:lnTo>
                    <a:pt x="115" y="90"/>
                  </a:lnTo>
                  <a:lnTo>
                    <a:pt x="106" y="87"/>
                  </a:lnTo>
                  <a:lnTo>
                    <a:pt x="94" y="81"/>
                  </a:lnTo>
                  <a:lnTo>
                    <a:pt x="92" y="73"/>
                  </a:lnTo>
                  <a:lnTo>
                    <a:pt x="103" y="70"/>
                  </a:lnTo>
                  <a:lnTo>
                    <a:pt x="112" y="70"/>
                  </a:lnTo>
                  <a:lnTo>
                    <a:pt x="115" y="62"/>
                  </a:lnTo>
                  <a:lnTo>
                    <a:pt x="120" y="53"/>
                  </a:lnTo>
                  <a:lnTo>
                    <a:pt x="129" y="48"/>
                  </a:lnTo>
                  <a:lnTo>
                    <a:pt x="138" y="39"/>
                  </a:lnTo>
                  <a:lnTo>
                    <a:pt x="129" y="33"/>
                  </a:lnTo>
                  <a:lnTo>
                    <a:pt x="120" y="31"/>
                  </a:lnTo>
                  <a:lnTo>
                    <a:pt x="112" y="33"/>
                  </a:lnTo>
                  <a:lnTo>
                    <a:pt x="106" y="42"/>
                  </a:lnTo>
                  <a:lnTo>
                    <a:pt x="97" y="45"/>
                  </a:lnTo>
                  <a:lnTo>
                    <a:pt x="97" y="36"/>
                  </a:lnTo>
                  <a:lnTo>
                    <a:pt x="100" y="25"/>
                  </a:lnTo>
                  <a:lnTo>
                    <a:pt x="100" y="16"/>
                  </a:lnTo>
                  <a:lnTo>
                    <a:pt x="103" y="8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0" y="8"/>
                  </a:lnTo>
                  <a:lnTo>
                    <a:pt x="77" y="16"/>
                  </a:lnTo>
                  <a:lnTo>
                    <a:pt x="74" y="25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1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3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23" y="64"/>
                  </a:lnTo>
                  <a:lnTo>
                    <a:pt x="31" y="64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77" y="53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05520" y="2079720"/>
              <a:ext cx="298440" cy="156960"/>
            </a:xfrm>
            <a:custGeom>
              <a:avLst/>
              <a:gdLst/>
              <a:ahLst/>
              <a:rect l="l" t="t" r="r" b="b"/>
              <a:pathLst>
                <a:path w="188" h="99">
                  <a:moveTo>
                    <a:pt x="0" y="17"/>
                  </a:moveTo>
                  <a:lnTo>
                    <a:pt x="25" y="25"/>
                  </a:lnTo>
                  <a:lnTo>
                    <a:pt x="37" y="25"/>
                  </a:lnTo>
                  <a:lnTo>
                    <a:pt x="43" y="34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63" y="69"/>
                  </a:lnTo>
                  <a:lnTo>
                    <a:pt x="63" y="80"/>
                  </a:lnTo>
                  <a:lnTo>
                    <a:pt x="71" y="83"/>
                  </a:lnTo>
                  <a:lnTo>
                    <a:pt x="80" y="77"/>
                  </a:lnTo>
                  <a:lnTo>
                    <a:pt x="89" y="77"/>
                  </a:lnTo>
                  <a:lnTo>
                    <a:pt x="97" y="77"/>
                  </a:lnTo>
                  <a:lnTo>
                    <a:pt x="106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5" y="74"/>
                  </a:lnTo>
                  <a:lnTo>
                    <a:pt x="143" y="77"/>
                  </a:lnTo>
                  <a:lnTo>
                    <a:pt x="152" y="86"/>
                  </a:lnTo>
                  <a:lnTo>
                    <a:pt x="163" y="98"/>
                  </a:lnTo>
                  <a:lnTo>
                    <a:pt x="169" y="89"/>
                  </a:lnTo>
                  <a:lnTo>
                    <a:pt x="175" y="80"/>
                  </a:lnTo>
                  <a:lnTo>
                    <a:pt x="181" y="72"/>
                  </a:lnTo>
                  <a:lnTo>
                    <a:pt x="187" y="60"/>
                  </a:lnTo>
                  <a:lnTo>
                    <a:pt x="187" y="51"/>
                  </a:lnTo>
                  <a:lnTo>
                    <a:pt x="187" y="43"/>
                  </a:lnTo>
                  <a:lnTo>
                    <a:pt x="181" y="34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5" y="34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9" y="40"/>
                  </a:lnTo>
                  <a:lnTo>
                    <a:pt x="129" y="49"/>
                  </a:lnTo>
                  <a:lnTo>
                    <a:pt x="129" y="57"/>
                  </a:lnTo>
                  <a:lnTo>
                    <a:pt x="120" y="51"/>
                  </a:lnTo>
                  <a:lnTo>
                    <a:pt x="109" y="43"/>
                  </a:lnTo>
                  <a:lnTo>
                    <a:pt x="100" y="34"/>
                  </a:lnTo>
                  <a:lnTo>
                    <a:pt x="86" y="25"/>
                  </a:lnTo>
                  <a:lnTo>
                    <a:pt x="83" y="37"/>
                  </a:lnTo>
                  <a:lnTo>
                    <a:pt x="74" y="40"/>
                  </a:lnTo>
                  <a:lnTo>
                    <a:pt x="74" y="31"/>
                  </a:lnTo>
                  <a:lnTo>
                    <a:pt x="69" y="23"/>
                  </a:lnTo>
                  <a:lnTo>
                    <a:pt x="60" y="17"/>
                  </a:lnTo>
                  <a:lnTo>
                    <a:pt x="51" y="8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8" y="8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0" y="1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74960" y="2954160"/>
              <a:ext cx="680760" cy="700200"/>
            </a:xfrm>
            <a:custGeom>
              <a:avLst/>
              <a:gdLst/>
              <a:ahLst/>
              <a:rect l="l" t="t" r="r" b="b"/>
              <a:pathLst>
                <a:path w="429" h="441">
                  <a:moveTo>
                    <a:pt x="22" y="309"/>
                  </a:moveTo>
                  <a:lnTo>
                    <a:pt x="34" y="315"/>
                  </a:lnTo>
                  <a:lnTo>
                    <a:pt x="43" y="318"/>
                  </a:lnTo>
                  <a:lnTo>
                    <a:pt x="51" y="321"/>
                  </a:lnTo>
                  <a:lnTo>
                    <a:pt x="54" y="333"/>
                  </a:lnTo>
                  <a:lnTo>
                    <a:pt x="63" y="342"/>
                  </a:lnTo>
                  <a:lnTo>
                    <a:pt x="71" y="348"/>
                  </a:lnTo>
                  <a:lnTo>
                    <a:pt x="80" y="348"/>
                  </a:lnTo>
                  <a:lnTo>
                    <a:pt x="91" y="355"/>
                  </a:lnTo>
                  <a:lnTo>
                    <a:pt x="100" y="361"/>
                  </a:lnTo>
                  <a:lnTo>
                    <a:pt x="109" y="364"/>
                  </a:lnTo>
                  <a:lnTo>
                    <a:pt x="112" y="373"/>
                  </a:lnTo>
                  <a:lnTo>
                    <a:pt x="117" y="382"/>
                  </a:lnTo>
                  <a:lnTo>
                    <a:pt x="123" y="391"/>
                  </a:lnTo>
                  <a:lnTo>
                    <a:pt x="132" y="397"/>
                  </a:lnTo>
                  <a:lnTo>
                    <a:pt x="146" y="406"/>
                  </a:lnTo>
                  <a:lnTo>
                    <a:pt x="155" y="412"/>
                  </a:lnTo>
                  <a:lnTo>
                    <a:pt x="163" y="418"/>
                  </a:lnTo>
                  <a:lnTo>
                    <a:pt x="172" y="421"/>
                  </a:lnTo>
                  <a:lnTo>
                    <a:pt x="180" y="430"/>
                  </a:lnTo>
                  <a:lnTo>
                    <a:pt x="189" y="436"/>
                  </a:lnTo>
                  <a:lnTo>
                    <a:pt x="198" y="440"/>
                  </a:lnTo>
                  <a:lnTo>
                    <a:pt x="203" y="430"/>
                  </a:lnTo>
                  <a:lnTo>
                    <a:pt x="203" y="421"/>
                  </a:lnTo>
                  <a:lnTo>
                    <a:pt x="203" y="412"/>
                  </a:lnTo>
                  <a:lnTo>
                    <a:pt x="215" y="406"/>
                  </a:lnTo>
                  <a:lnTo>
                    <a:pt x="224" y="406"/>
                  </a:lnTo>
                  <a:lnTo>
                    <a:pt x="232" y="406"/>
                  </a:lnTo>
                  <a:lnTo>
                    <a:pt x="241" y="406"/>
                  </a:lnTo>
                  <a:lnTo>
                    <a:pt x="249" y="406"/>
                  </a:lnTo>
                  <a:lnTo>
                    <a:pt x="258" y="406"/>
                  </a:lnTo>
                  <a:lnTo>
                    <a:pt x="261" y="397"/>
                  </a:lnTo>
                  <a:lnTo>
                    <a:pt x="261" y="388"/>
                  </a:lnTo>
                  <a:lnTo>
                    <a:pt x="261" y="379"/>
                  </a:lnTo>
                  <a:lnTo>
                    <a:pt x="261" y="367"/>
                  </a:lnTo>
                  <a:lnTo>
                    <a:pt x="261" y="355"/>
                  </a:lnTo>
                  <a:lnTo>
                    <a:pt x="252" y="348"/>
                  </a:lnTo>
                  <a:lnTo>
                    <a:pt x="244" y="348"/>
                  </a:lnTo>
                  <a:lnTo>
                    <a:pt x="235" y="342"/>
                  </a:lnTo>
                  <a:lnTo>
                    <a:pt x="229" y="333"/>
                  </a:lnTo>
                  <a:lnTo>
                    <a:pt x="229" y="324"/>
                  </a:lnTo>
                  <a:lnTo>
                    <a:pt x="238" y="321"/>
                  </a:lnTo>
                  <a:lnTo>
                    <a:pt x="247" y="315"/>
                  </a:lnTo>
                  <a:lnTo>
                    <a:pt x="255" y="312"/>
                  </a:lnTo>
                  <a:lnTo>
                    <a:pt x="261" y="303"/>
                  </a:lnTo>
                  <a:lnTo>
                    <a:pt x="261" y="294"/>
                  </a:lnTo>
                  <a:lnTo>
                    <a:pt x="264" y="285"/>
                  </a:lnTo>
                  <a:lnTo>
                    <a:pt x="264" y="276"/>
                  </a:lnTo>
                  <a:lnTo>
                    <a:pt x="267" y="267"/>
                  </a:lnTo>
                  <a:lnTo>
                    <a:pt x="272" y="257"/>
                  </a:lnTo>
                  <a:lnTo>
                    <a:pt x="278" y="248"/>
                  </a:lnTo>
                  <a:lnTo>
                    <a:pt x="284" y="239"/>
                  </a:lnTo>
                  <a:lnTo>
                    <a:pt x="284" y="230"/>
                  </a:lnTo>
                  <a:lnTo>
                    <a:pt x="284" y="221"/>
                  </a:lnTo>
                  <a:lnTo>
                    <a:pt x="284" y="209"/>
                  </a:lnTo>
                  <a:lnTo>
                    <a:pt x="292" y="200"/>
                  </a:lnTo>
                  <a:lnTo>
                    <a:pt x="295" y="191"/>
                  </a:lnTo>
                  <a:lnTo>
                    <a:pt x="298" y="182"/>
                  </a:lnTo>
                  <a:lnTo>
                    <a:pt x="301" y="172"/>
                  </a:lnTo>
                  <a:lnTo>
                    <a:pt x="292" y="163"/>
                  </a:lnTo>
                  <a:lnTo>
                    <a:pt x="284" y="154"/>
                  </a:lnTo>
                  <a:lnTo>
                    <a:pt x="278" y="145"/>
                  </a:lnTo>
                  <a:lnTo>
                    <a:pt x="287" y="142"/>
                  </a:lnTo>
                  <a:lnTo>
                    <a:pt x="295" y="142"/>
                  </a:lnTo>
                  <a:lnTo>
                    <a:pt x="304" y="148"/>
                  </a:lnTo>
                  <a:lnTo>
                    <a:pt x="313" y="157"/>
                  </a:lnTo>
                  <a:lnTo>
                    <a:pt x="321" y="163"/>
                  </a:lnTo>
                  <a:lnTo>
                    <a:pt x="327" y="154"/>
                  </a:lnTo>
                  <a:lnTo>
                    <a:pt x="336" y="148"/>
                  </a:lnTo>
                  <a:lnTo>
                    <a:pt x="344" y="148"/>
                  </a:lnTo>
                  <a:lnTo>
                    <a:pt x="353" y="145"/>
                  </a:lnTo>
                  <a:lnTo>
                    <a:pt x="361" y="142"/>
                  </a:lnTo>
                  <a:lnTo>
                    <a:pt x="361" y="133"/>
                  </a:lnTo>
                  <a:lnTo>
                    <a:pt x="361" y="124"/>
                  </a:lnTo>
                  <a:lnTo>
                    <a:pt x="361" y="115"/>
                  </a:lnTo>
                  <a:lnTo>
                    <a:pt x="359" y="106"/>
                  </a:lnTo>
                  <a:lnTo>
                    <a:pt x="353" y="97"/>
                  </a:lnTo>
                  <a:lnTo>
                    <a:pt x="344" y="88"/>
                  </a:lnTo>
                  <a:lnTo>
                    <a:pt x="333" y="81"/>
                  </a:lnTo>
                  <a:lnTo>
                    <a:pt x="341" y="75"/>
                  </a:lnTo>
                  <a:lnTo>
                    <a:pt x="353" y="75"/>
                  </a:lnTo>
                  <a:lnTo>
                    <a:pt x="361" y="75"/>
                  </a:lnTo>
                  <a:lnTo>
                    <a:pt x="370" y="75"/>
                  </a:lnTo>
                  <a:lnTo>
                    <a:pt x="379" y="72"/>
                  </a:lnTo>
                  <a:lnTo>
                    <a:pt x="387" y="69"/>
                  </a:lnTo>
                  <a:lnTo>
                    <a:pt x="396" y="69"/>
                  </a:lnTo>
                  <a:lnTo>
                    <a:pt x="405" y="72"/>
                  </a:lnTo>
                  <a:lnTo>
                    <a:pt x="419" y="75"/>
                  </a:lnTo>
                  <a:lnTo>
                    <a:pt x="428" y="75"/>
                  </a:lnTo>
                  <a:lnTo>
                    <a:pt x="425" y="66"/>
                  </a:lnTo>
                  <a:lnTo>
                    <a:pt x="422" y="57"/>
                  </a:lnTo>
                  <a:lnTo>
                    <a:pt x="419" y="48"/>
                  </a:lnTo>
                  <a:lnTo>
                    <a:pt x="410" y="48"/>
                  </a:lnTo>
                  <a:lnTo>
                    <a:pt x="402" y="48"/>
                  </a:lnTo>
                  <a:lnTo>
                    <a:pt x="390" y="48"/>
                  </a:lnTo>
                  <a:lnTo>
                    <a:pt x="382" y="48"/>
                  </a:lnTo>
                  <a:lnTo>
                    <a:pt x="379" y="57"/>
                  </a:lnTo>
                  <a:lnTo>
                    <a:pt x="370" y="54"/>
                  </a:lnTo>
                  <a:lnTo>
                    <a:pt x="361" y="45"/>
                  </a:lnTo>
                  <a:lnTo>
                    <a:pt x="353" y="39"/>
                  </a:lnTo>
                  <a:lnTo>
                    <a:pt x="341" y="39"/>
                  </a:lnTo>
                  <a:lnTo>
                    <a:pt x="333" y="39"/>
                  </a:lnTo>
                  <a:lnTo>
                    <a:pt x="318" y="39"/>
                  </a:lnTo>
                  <a:lnTo>
                    <a:pt x="310" y="39"/>
                  </a:lnTo>
                  <a:lnTo>
                    <a:pt x="298" y="42"/>
                  </a:lnTo>
                  <a:lnTo>
                    <a:pt x="290" y="42"/>
                  </a:lnTo>
                  <a:lnTo>
                    <a:pt x="290" y="33"/>
                  </a:lnTo>
                  <a:lnTo>
                    <a:pt x="298" y="30"/>
                  </a:lnTo>
                  <a:lnTo>
                    <a:pt x="307" y="30"/>
                  </a:lnTo>
                  <a:lnTo>
                    <a:pt x="315" y="27"/>
                  </a:lnTo>
                  <a:lnTo>
                    <a:pt x="324" y="24"/>
                  </a:lnTo>
                  <a:lnTo>
                    <a:pt x="327" y="15"/>
                  </a:lnTo>
                  <a:lnTo>
                    <a:pt x="327" y="6"/>
                  </a:lnTo>
                  <a:lnTo>
                    <a:pt x="318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3"/>
                  </a:lnTo>
                  <a:lnTo>
                    <a:pt x="275" y="12"/>
                  </a:lnTo>
                  <a:lnTo>
                    <a:pt x="267" y="18"/>
                  </a:lnTo>
                  <a:lnTo>
                    <a:pt x="258" y="21"/>
                  </a:lnTo>
                  <a:lnTo>
                    <a:pt x="255" y="30"/>
                  </a:lnTo>
                  <a:lnTo>
                    <a:pt x="264" y="36"/>
                  </a:lnTo>
                  <a:lnTo>
                    <a:pt x="272" y="36"/>
                  </a:lnTo>
                  <a:lnTo>
                    <a:pt x="278" y="45"/>
                  </a:lnTo>
                  <a:lnTo>
                    <a:pt x="270" y="54"/>
                  </a:lnTo>
                  <a:lnTo>
                    <a:pt x="267" y="63"/>
                  </a:lnTo>
                  <a:lnTo>
                    <a:pt x="281" y="75"/>
                  </a:lnTo>
                  <a:lnTo>
                    <a:pt x="290" y="78"/>
                  </a:lnTo>
                  <a:lnTo>
                    <a:pt x="281" y="75"/>
                  </a:lnTo>
                  <a:lnTo>
                    <a:pt x="270" y="66"/>
                  </a:lnTo>
                  <a:lnTo>
                    <a:pt x="261" y="60"/>
                  </a:lnTo>
                  <a:lnTo>
                    <a:pt x="252" y="51"/>
                  </a:lnTo>
                  <a:lnTo>
                    <a:pt x="244" y="51"/>
                  </a:lnTo>
                  <a:lnTo>
                    <a:pt x="241" y="60"/>
                  </a:lnTo>
                  <a:lnTo>
                    <a:pt x="241" y="69"/>
                  </a:lnTo>
                  <a:lnTo>
                    <a:pt x="255" y="78"/>
                  </a:lnTo>
                  <a:lnTo>
                    <a:pt x="264" y="81"/>
                  </a:lnTo>
                  <a:lnTo>
                    <a:pt x="255" y="88"/>
                  </a:lnTo>
                  <a:lnTo>
                    <a:pt x="244" y="88"/>
                  </a:lnTo>
                  <a:lnTo>
                    <a:pt x="235" y="88"/>
                  </a:lnTo>
                  <a:lnTo>
                    <a:pt x="235" y="103"/>
                  </a:lnTo>
                  <a:lnTo>
                    <a:pt x="244" y="106"/>
                  </a:lnTo>
                  <a:lnTo>
                    <a:pt x="252" y="109"/>
                  </a:lnTo>
                  <a:lnTo>
                    <a:pt x="244" y="115"/>
                  </a:lnTo>
                  <a:lnTo>
                    <a:pt x="235" y="112"/>
                  </a:lnTo>
                  <a:lnTo>
                    <a:pt x="226" y="109"/>
                  </a:lnTo>
                  <a:lnTo>
                    <a:pt x="218" y="106"/>
                  </a:lnTo>
                  <a:lnTo>
                    <a:pt x="212" y="115"/>
                  </a:lnTo>
                  <a:lnTo>
                    <a:pt x="218" y="124"/>
                  </a:lnTo>
                  <a:lnTo>
                    <a:pt x="229" y="127"/>
                  </a:lnTo>
                  <a:lnTo>
                    <a:pt x="238" y="130"/>
                  </a:lnTo>
                  <a:lnTo>
                    <a:pt x="229" y="124"/>
                  </a:lnTo>
                  <a:lnTo>
                    <a:pt x="221" y="121"/>
                  </a:lnTo>
                  <a:lnTo>
                    <a:pt x="209" y="115"/>
                  </a:lnTo>
                  <a:lnTo>
                    <a:pt x="198" y="106"/>
                  </a:lnTo>
                  <a:lnTo>
                    <a:pt x="192" y="97"/>
                  </a:lnTo>
                  <a:lnTo>
                    <a:pt x="183" y="91"/>
                  </a:lnTo>
                  <a:lnTo>
                    <a:pt x="180" y="81"/>
                  </a:lnTo>
                  <a:lnTo>
                    <a:pt x="178" y="72"/>
                  </a:lnTo>
                  <a:lnTo>
                    <a:pt x="169" y="60"/>
                  </a:lnTo>
                  <a:lnTo>
                    <a:pt x="160" y="60"/>
                  </a:lnTo>
                  <a:lnTo>
                    <a:pt x="152" y="66"/>
                  </a:lnTo>
                  <a:lnTo>
                    <a:pt x="149" y="75"/>
                  </a:lnTo>
                  <a:lnTo>
                    <a:pt x="146" y="84"/>
                  </a:lnTo>
                  <a:lnTo>
                    <a:pt x="143" y="94"/>
                  </a:lnTo>
                  <a:lnTo>
                    <a:pt x="140" y="103"/>
                  </a:lnTo>
                  <a:lnTo>
                    <a:pt x="129" y="103"/>
                  </a:lnTo>
                  <a:lnTo>
                    <a:pt x="117" y="94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0" y="60"/>
                  </a:lnTo>
                  <a:lnTo>
                    <a:pt x="89" y="60"/>
                  </a:lnTo>
                  <a:lnTo>
                    <a:pt x="80" y="66"/>
                  </a:lnTo>
                  <a:lnTo>
                    <a:pt x="77" y="75"/>
                  </a:lnTo>
                  <a:lnTo>
                    <a:pt x="71" y="84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51" y="127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0" y="127"/>
                  </a:lnTo>
                  <a:lnTo>
                    <a:pt x="51" y="121"/>
                  </a:lnTo>
                  <a:lnTo>
                    <a:pt x="43" y="118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4" y="115"/>
                  </a:lnTo>
                  <a:lnTo>
                    <a:pt x="11" y="124"/>
                  </a:lnTo>
                  <a:lnTo>
                    <a:pt x="8" y="133"/>
                  </a:lnTo>
                  <a:lnTo>
                    <a:pt x="2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4" y="169"/>
                  </a:lnTo>
                  <a:lnTo>
                    <a:pt x="22" y="172"/>
                  </a:lnTo>
                  <a:lnTo>
                    <a:pt x="31" y="172"/>
                  </a:lnTo>
                  <a:lnTo>
                    <a:pt x="40" y="176"/>
                  </a:lnTo>
                  <a:lnTo>
                    <a:pt x="51" y="185"/>
                  </a:lnTo>
                  <a:lnTo>
                    <a:pt x="60" y="191"/>
                  </a:lnTo>
                  <a:lnTo>
                    <a:pt x="68" y="197"/>
                  </a:lnTo>
                  <a:lnTo>
                    <a:pt x="80" y="200"/>
                  </a:lnTo>
                  <a:lnTo>
                    <a:pt x="89" y="203"/>
                  </a:lnTo>
                  <a:lnTo>
                    <a:pt x="100" y="203"/>
                  </a:lnTo>
                  <a:lnTo>
                    <a:pt x="109" y="203"/>
                  </a:lnTo>
                  <a:lnTo>
                    <a:pt x="120" y="197"/>
                  </a:lnTo>
                  <a:lnTo>
                    <a:pt x="129" y="194"/>
                  </a:lnTo>
                  <a:lnTo>
                    <a:pt x="135" y="185"/>
                  </a:lnTo>
                  <a:lnTo>
                    <a:pt x="143" y="179"/>
                  </a:lnTo>
                  <a:lnTo>
                    <a:pt x="149" y="169"/>
                  </a:lnTo>
                  <a:lnTo>
                    <a:pt x="157" y="163"/>
                  </a:lnTo>
                  <a:lnTo>
                    <a:pt x="166" y="163"/>
                  </a:lnTo>
                  <a:lnTo>
                    <a:pt x="175" y="166"/>
                  </a:lnTo>
                  <a:lnTo>
                    <a:pt x="183" y="166"/>
                  </a:lnTo>
                  <a:lnTo>
                    <a:pt x="192" y="157"/>
                  </a:lnTo>
                  <a:lnTo>
                    <a:pt x="198" y="148"/>
                  </a:lnTo>
                  <a:lnTo>
                    <a:pt x="201" y="139"/>
                  </a:lnTo>
                  <a:lnTo>
                    <a:pt x="203" y="130"/>
                  </a:lnTo>
                  <a:lnTo>
                    <a:pt x="212" y="130"/>
                  </a:lnTo>
                  <a:lnTo>
                    <a:pt x="224" y="136"/>
                  </a:lnTo>
                  <a:lnTo>
                    <a:pt x="232" y="139"/>
                  </a:lnTo>
                  <a:lnTo>
                    <a:pt x="241" y="142"/>
                  </a:lnTo>
                  <a:lnTo>
                    <a:pt x="232" y="142"/>
                  </a:lnTo>
                  <a:lnTo>
                    <a:pt x="224" y="142"/>
                  </a:lnTo>
                  <a:lnTo>
                    <a:pt x="215" y="142"/>
                  </a:lnTo>
                  <a:lnTo>
                    <a:pt x="206" y="142"/>
                  </a:lnTo>
                  <a:lnTo>
                    <a:pt x="203" y="151"/>
                  </a:lnTo>
                  <a:lnTo>
                    <a:pt x="201" y="160"/>
                  </a:lnTo>
                  <a:lnTo>
                    <a:pt x="201" y="169"/>
                  </a:lnTo>
                  <a:lnTo>
                    <a:pt x="209" y="176"/>
                  </a:lnTo>
                  <a:lnTo>
                    <a:pt x="218" y="179"/>
                  </a:lnTo>
                  <a:lnTo>
                    <a:pt x="226" y="188"/>
                  </a:lnTo>
                  <a:lnTo>
                    <a:pt x="235" y="194"/>
                  </a:lnTo>
                  <a:lnTo>
                    <a:pt x="238" y="203"/>
                  </a:lnTo>
                  <a:lnTo>
                    <a:pt x="226" y="206"/>
                  </a:lnTo>
                  <a:lnTo>
                    <a:pt x="224" y="215"/>
                  </a:lnTo>
                  <a:lnTo>
                    <a:pt x="224" y="224"/>
                  </a:lnTo>
                  <a:lnTo>
                    <a:pt x="221" y="233"/>
                  </a:lnTo>
                  <a:lnTo>
                    <a:pt x="209" y="233"/>
                  </a:lnTo>
                  <a:lnTo>
                    <a:pt x="203" y="245"/>
                  </a:lnTo>
                  <a:lnTo>
                    <a:pt x="198" y="257"/>
                  </a:lnTo>
                  <a:lnTo>
                    <a:pt x="195" y="267"/>
                  </a:lnTo>
                  <a:lnTo>
                    <a:pt x="186" y="267"/>
                  </a:lnTo>
                  <a:lnTo>
                    <a:pt x="183" y="257"/>
                  </a:lnTo>
                  <a:lnTo>
                    <a:pt x="178" y="245"/>
                  </a:lnTo>
                  <a:lnTo>
                    <a:pt x="175" y="233"/>
                  </a:lnTo>
                  <a:lnTo>
                    <a:pt x="166" y="224"/>
                  </a:lnTo>
                  <a:lnTo>
                    <a:pt x="157" y="221"/>
                  </a:lnTo>
                  <a:lnTo>
                    <a:pt x="149" y="218"/>
                  </a:lnTo>
                  <a:lnTo>
                    <a:pt x="137" y="224"/>
                  </a:lnTo>
                  <a:lnTo>
                    <a:pt x="140" y="236"/>
                  </a:lnTo>
                  <a:lnTo>
                    <a:pt x="143" y="245"/>
                  </a:lnTo>
                  <a:lnTo>
                    <a:pt x="143" y="254"/>
                  </a:lnTo>
                  <a:lnTo>
                    <a:pt x="135" y="260"/>
                  </a:lnTo>
                  <a:lnTo>
                    <a:pt x="126" y="260"/>
                  </a:lnTo>
                  <a:lnTo>
                    <a:pt x="114" y="257"/>
                  </a:lnTo>
                  <a:lnTo>
                    <a:pt x="106" y="257"/>
                  </a:lnTo>
                  <a:lnTo>
                    <a:pt x="97" y="257"/>
                  </a:lnTo>
                  <a:lnTo>
                    <a:pt x="89" y="257"/>
                  </a:lnTo>
                  <a:lnTo>
                    <a:pt x="91" y="267"/>
                  </a:lnTo>
                  <a:lnTo>
                    <a:pt x="100" y="276"/>
                  </a:lnTo>
                  <a:lnTo>
                    <a:pt x="100" y="285"/>
                  </a:lnTo>
                  <a:lnTo>
                    <a:pt x="97" y="294"/>
                  </a:lnTo>
                  <a:lnTo>
                    <a:pt x="97" y="303"/>
                  </a:lnTo>
                  <a:lnTo>
                    <a:pt x="109" y="312"/>
                  </a:lnTo>
                  <a:lnTo>
                    <a:pt x="117" y="318"/>
                  </a:lnTo>
                  <a:lnTo>
                    <a:pt x="109" y="318"/>
                  </a:lnTo>
                  <a:lnTo>
                    <a:pt x="100" y="309"/>
                  </a:lnTo>
                  <a:lnTo>
                    <a:pt x="89" y="300"/>
                  </a:lnTo>
                  <a:lnTo>
                    <a:pt x="80" y="297"/>
                  </a:lnTo>
                  <a:lnTo>
                    <a:pt x="71" y="297"/>
                  </a:lnTo>
                  <a:lnTo>
                    <a:pt x="63" y="300"/>
                  </a:lnTo>
                  <a:lnTo>
                    <a:pt x="54" y="306"/>
                  </a:lnTo>
                  <a:lnTo>
                    <a:pt x="43" y="306"/>
                  </a:lnTo>
                  <a:lnTo>
                    <a:pt x="34" y="306"/>
                  </a:lnTo>
                  <a:lnTo>
                    <a:pt x="22" y="309"/>
                  </a:lnTo>
                  <a:lnTo>
                    <a:pt x="11" y="303"/>
                  </a:lnTo>
                  <a:lnTo>
                    <a:pt x="22" y="309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43200" y="27082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2"/>
                  </a:moveTo>
                  <a:lnTo>
                    <a:pt x="8" y="19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34" y="22"/>
                  </a:lnTo>
                  <a:lnTo>
                    <a:pt x="40" y="13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76680" y="294012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5" y="0"/>
                  </a:moveTo>
                  <a:lnTo>
                    <a:pt x="20" y="13"/>
                  </a:lnTo>
                  <a:lnTo>
                    <a:pt x="11" y="16"/>
                  </a:lnTo>
                  <a:lnTo>
                    <a:pt x="8" y="24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4" y="30"/>
                  </a:lnTo>
                  <a:lnTo>
                    <a:pt x="40" y="21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25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10160" y="2549520"/>
              <a:ext cx="339840" cy="509760"/>
            </a:xfrm>
            <a:custGeom>
              <a:avLst/>
              <a:gdLst/>
              <a:ahLst/>
              <a:rect l="l" t="t" r="r" b="b"/>
              <a:pathLst>
                <a:path w="214" h="321">
                  <a:moveTo>
                    <a:pt x="23" y="200"/>
                  </a:moveTo>
                  <a:lnTo>
                    <a:pt x="34" y="182"/>
                  </a:lnTo>
                  <a:lnTo>
                    <a:pt x="23" y="200"/>
                  </a:lnTo>
                  <a:lnTo>
                    <a:pt x="23" y="211"/>
                  </a:lnTo>
                  <a:lnTo>
                    <a:pt x="20" y="220"/>
                  </a:lnTo>
                  <a:lnTo>
                    <a:pt x="17" y="228"/>
                  </a:lnTo>
                  <a:lnTo>
                    <a:pt x="8" y="234"/>
                  </a:lnTo>
                  <a:lnTo>
                    <a:pt x="2" y="24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8" y="268"/>
                  </a:lnTo>
                  <a:lnTo>
                    <a:pt x="17" y="268"/>
                  </a:lnTo>
                  <a:lnTo>
                    <a:pt x="25" y="271"/>
                  </a:lnTo>
                  <a:lnTo>
                    <a:pt x="28" y="280"/>
                  </a:lnTo>
                  <a:lnTo>
                    <a:pt x="37" y="291"/>
                  </a:lnTo>
                  <a:lnTo>
                    <a:pt x="28" y="294"/>
                  </a:lnTo>
                  <a:lnTo>
                    <a:pt x="20" y="285"/>
                  </a:lnTo>
                  <a:lnTo>
                    <a:pt x="31" y="294"/>
                  </a:lnTo>
                  <a:lnTo>
                    <a:pt x="40" y="300"/>
                  </a:lnTo>
                  <a:lnTo>
                    <a:pt x="48" y="311"/>
                  </a:lnTo>
                  <a:lnTo>
                    <a:pt x="57" y="314"/>
                  </a:lnTo>
                  <a:lnTo>
                    <a:pt x="66" y="320"/>
                  </a:lnTo>
                  <a:lnTo>
                    <a:pt x="66" y="311"/>
                  </a:lnTo>
                  <a:lnTo>
                    <a:pt x="74" y="311"/>
                  </a:lnTo>
                  <a:lnTo>
                    <a:pt x="83" y="320"/>
                  </a:lnTo>
                  <a:lnTo>
                    <a:pt x="83" y="308"/>
                  </a:lnTo>
                  <a:lnTo>
                    <a:pt x="92" y="305"/>
                  </a:lnTo>
                  <a:lnTo>
                    <a:pt x="97" y="297"/>
                  </a:lnTo>
                  <a:lnTo>
                    <a:pt x="89" y="288"/>
                  </a:lnTo>
                  <a:lnTo>
                    <a:pt x="83" y="280"/>
                  </a:lnTo>
                  <a:lnTo>
                    <a:pt x="77" y="271"/>
                  </a:lnTo>
                  <a:lnTo>
                    <a:pt x="71" y="262"/>
                  </a:lnTo>
                  <a:lnTo>
                    <a:pt x="69" y="254"/>
                  </a:lnTo>
                  <a:lnTo>
                    <a:pt x="69" y="242"/>
                  </a:lnTo>
                  <a:lnTo>
                    <a:pt x="69" y="234"/>
                  </a:lnTo>
                  <a:lnTo>
                    <a:pt x="69" y="225"/>
                  </a:lnTo>
                  <a:lnTo>
                    <a:pt x="69" y="217"/>
                  </a:lnTo>
                  <a:lnTo>
                    <a:pt x="69" y="208"/>
                  </a:lnTo>
                  <a:lnTo>
                    <a:pt x="69" y="200"/>
                  </a:lnTo>
                  <a:lnTo>
                    <a:pt x="69" y="191"/>
                  </a:lnTo>
                  <a:lnTo>
                    <a:pt x="69" y="182"/>
                  </a:lnTo>
                  <a:lnTo>
                    <a:pt x="77" y="174"/>
                  </a:lnTo>
                  <a:lnTo>
                    <a:pt x="86" y="168"/>
                  </a:lnTo>
                  <a:lnTo>
                    <a:pt x="92" y="160"/>
                  </a:lnTo>
                  <a:lnTo>
                    <a:pt x="97" y="151"/>
                  </a:lnTo>
                  <a:lnTo>
                    <a:pt x="103" y="142"/>
                  </a:lnTo>
                  <a:lnTo>
                    <a:pt x="103" y="134"/>
                  </a:lnTo>
                  <a:lnTo>
                    <a:pt x="103" y="125"/>
                  </a:lnTo>
                  <a:lnTo>
                    <a:pt x="112" y="122"/>
                  </a:lnTo>
                  <a:lnTo>
                    <a:pt x="120" y="117"/>
                  </a:lnTo>
                  <a:lnTo>
                    <a:pt x="123" y="105"/>
                  </a:lnTo>
                  <a:lnTo>
                    <a:pt x="132" y="100"/>
                  </a:lnTo>
                  <a:lnTo>
                    <a:pt x="135" y="91"/>
                  </a:lnTo>
                  <a:lnTo>
                    <a:pt x="143" y="82"/>
                  </a:lnTo>
                  <a:lnTo>
                    <a:pt x="152" y="77"/>
                  </a:lnTo>
                  <a:lnTo>
                    <a:pt x="158" y="68"/>
                  </a:lnTo>
                  <a:lnTo>
                    <a:pt x="166" y="65"/>
                  </a:lnTo>
                  <a:lnTo>
                    <a:pt x="175" y="60"/>
                  </a:lnTo>
                  <a:lnTo>
                    <a:pt x="184" y="57"/>
                  </a:lnTo>
                  <a:lnTo>
                    <a:pt x="189" y="48"/>
                  </a:lnTo>
                  <a:lnTo>
                    <a:pt x="198" y="42"/>
                  </a:lnTo>
                  <a:lnTo>
                    <a:pt x="207" y="37"/>
                  </a:lnTo>
                  <a:lnTo>
                    <a:pt x="210" y="28"/>
                  </a:lnTo>
                  <a:lnTo>
                    <a:pt x="213" y="20"/>
                  </a:lnTo>
                  <a:lnTo>
                    <a:pt x="213" y="11"/>
                  </a:lnTo>
                  <a:lnTo>
                    <a:pt x="210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5" y="8"/>
                  </a:lnTo>
                  <a:lnTo>
                    <a:pt x="175" y="17"/>
                  </a:lnTo>
                  <a:lnTo>
                    <a:pt x="166" y="20"/>
                  </a:lnTo>
                  <a:lnTo>
                    <a:pt x="158" y="25"/>
                  </a:lnTo>
                  <a:lnTo>
                    <a:pt x="149" y="34"/>
                  </a:lnTo>
                  <a:lnTo>
                    <a:pt x="141" y="40"/>
                  </a:lnTo>
                  <a:lnTo>
                    <a:pt x="132" y="42"/>
                  </a:lnTo>
                  <a:lnTo>
                    <a:pt x="123" y="42"/>
                  </a:lnTo>
                  <a:lnTo>
                    <a:pt x="123" y="54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7" y="68"/>
                  </a:lnTo>
                  <a:lnTo>
                    <a:pt x="89" y="77"/>
                  </a:lnTo>
                  <a:lnTo>
                    <a:pt x="83" y="85"/>
                  </a:lnTo>
                  <a:lnTo>
                    <a:pt x="80" y="94"/>
                  </a:lnTo>
                  <a:lnTo>
                    <a:pt x="71" y="100"/>
                  </a:lnTo>
                  <a:lnTo>
                    <a:pt x="66" y="108"/>
                  </a:lnTo>
                  <a:lnTo>
                    <a:pt x="63" y="117"/>
                  </a:lnTo>
                  <a:lnTo>
                    <a:pt x="63" y="125"/>
                  </a:lnTo>
                  <a:lnTo>
                    <a:pt x="57" y="134"/>
                  </a:lnTo>
                  <a:lnTo>
                    <a:pt x="51" y="142"/>
                  </a:lnTo>
                  <a:lnTo>
                    <a:pt x="46" y="151"/>
                  </a:lnTo>
                  <a:lnTo>
                    <a:pt x="40" y="162"/>
                  </a:lnTo>
                  <a:lnTo>
                    <a:pt x="37" y="171"/>
                  </a:lnTo>
                  <a:lnTo>
                    <a:pt x="46" y="177"/>
                  </a:lnTo>
                  <a:lnTo>
                    <a:pt x="54" y="180"/>
                  </a:lnTo>
                  <a:lnTo>
                    <a:pt x="57" y="188"/>
                  </a:lnTo>
                  <a:lnTo>
                    <a:pt x="48" y="185"/>
                  </a:lnTo>
                  <a:lnTo>
                    <a:pt x="40" y="185"/>
                  </a:lnTo>
                  <a:lnTo>
                    <a:pt x="31" y="188"/>
                  </a:lnTo>
                  <a:lnTo>
                    <a:pt x="23" y="200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23" y="237"/>
                  </a:lnTo>
                  <a:lnTo>
                    <a:pt x="14" y="242"/>
                  </a:lnTo>
                  <a:lnTo>
                    <a:pt x="8" y="251"/>
                  </a:lnTo>
                  <a:lnTo>
                    <a:pt x="0" y="260"/>
                  </a:lnTo>
                  <a:lnTo>
                    <a:pt x="23" y="2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71720" y="444168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49" y="47"/>
                  </a:moveTo>
                  <a:lnTo>
                    <a:pt x="44" y="58"/>
                  </a:lnTo>
                  <a:lnTo>
                    <a:pt x="35" y="58"/>
                  </a:lnTo>
                  <a:lnTo>
                    <a:pt x="30" y="66"/>
                  </a:lnTo>
                  <a:lnTo>
                    <a:pt x="30" y="75"/>
                  </a:lnTo>
                  <a:lnTo>
                    <a:pt x="30" y="83"/>
                  </a:lnTo>
                  <a:lnTo>
                    <a:pt x="30" y="91"/>
                  </a:lnTo>
                  <a:lnTo>
                    <a:pt x="22" y="94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8" y="139"/>
                  </a:lnTo>
                  <a:lnTo>
                    <a:pt x="16" y="139"/>
                  </a:lnTo>
                  <a:lnTo>
                    <a:pt x="27" y="147"/>
                  </a:lnTo>
                  <a:lnTo>
                    <a:pt x="33" y="156"/>
                  </a:lnTo>
                  <a:lnTo>
                    <a:pt x="41" y="156"/>
                  </a:lnTo>
                  <a:lnTo>
                    <a:pt x="46" y="147"/>
                  </a:lnTo>
                  <a:lnTo>
                    <a:pt x="52" y="139"/>
                  </a:lnTo>
                  <a:lnTo>
                    <a:pt x="55" y="130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71" y="108"/>
                  </a:lnTo>
                  <a:lnTo>
                    <a:pt x="80" y="108"/>
                  </a:lnTo>
                  <a:lnTo>
                    <a:pt x="82" y="100"/>
                  </a:lnTo>
                  <a:lnTo>
                    <a:pt x="82" y="91"/>
                  </a:lnTo>
                  <a:lnTo>
                    <a:pt x="82" y="83"/>
                  </a:lnTo>
                  <a:lnTo>
                    <a:pt x="82" y="75"/>
                  </a:lnTo>
                  <a:lnTo>
                    <a:pt x="82" y="66"/>
                  </a:lnTo>
                  <a:lnTo>
                    <a:pt x="85" y="58"/>
                  </a:lnTo>
                  <a:lnTo>
                    <a:pt x="93" y="52"/>
                  </a:lnTo>
                  <a:lnTo>
                    <a:pt x="102" y="47"/>
                  </a:lnTo>
                  <a:lnTo>
                    <a:pt x="107" y="39"/>
                  </a:lnTo>
                  <a:lnTo>
                    <a:pt x="115" y="36"/>
                  </a:lnTo>
                  <a:lnTo>
                    <a:pt x="121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38" y="5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8" y="11"/>
                  </a:lnTo>
                  <a:lnTo>
                    <a:pt x="82" y="19"/>
                  </a:lnTo>
                  <a:lnTo>
                    <a:pt x="80" y="27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69" y="61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49" y="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90800" y="524844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1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6" y="21"/>
                  </a:lnTo>
                  <a:lnTo>
                    <a:pt x="23" y="27"/>
                  </a:lnTo>
                  <a:lnTo>
                    <a:pt x="18" y="18"/>
                  </a:lnTo>
                  <a:lnTo>
                    <a:pt x="13" y="9"/>
                  </a:lnTo>
                  <a:lnTo>
                    <a:pt x="6" y="21"/>
                  </a:lnTo>
                  <a:lnTo>
                    <a:pt x="9" y="6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57400" y="5361120"/>
              <a:ext cx="27000" cy="72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6" y="0"/>
                  </a:moveTo>
                  <a:lnTo>
                    <a:pt x="5" y="19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0" y="28"/>
                  </a:lnTo>
                  <a:lnTo>
                    <a:pt x="16" y="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52480" y="4357800"/>
              <a:ext cx="88920" cy="73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0"/>
                  </a:moveTo>
                  <a:lnTo>
                    <a:pt x="20" y="19"/>
                  </a:lnTo>
                  <a:lnTo>
                    <a:pt x="20" y="28"/>
                  </a:lnTo>
                  <a:lnTo>
                    <a:pt x="28" y="33"/>
                  </a:lnTo>
                  <a:lnTo>
                    <a:pt x="28" y="42"/>
                  </a:lnTo>
                  <a:lnTo>
                    <a:pt x="37" y="45"/>
                  </a:lnTo>
                  <a:lnTo>
                    <a:pt x="46" y="45"/>
                  </a:lnTo>
                  <a:lnTo>
                    <a:pt x="49" y="36"/>
                  </a:lnTo>
                  <a:lnTo>
                    <a:pt x="55" y="28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26" y="16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228600" y="6137280"/>
              <a:ext cx="611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993600" y="6272280"/>
              <a:ext cx="47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HO European Centre for Environment and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72040" y="743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0"/>
                  </a:moveTo>
                  <a:lnTo>
                    <a:pt x="8" y="8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5" y="37"/>
                  </a:lnTo>
                  <a:lnTo>
                    <a:pt x="11" y="46"/>
                  </a:lnTo>
                  <a:lnTo>
                    <a:pt x="19" y="49"/>
                  </a:lnTo>
                  <a:lnTo>
                    <a:pt x="31" y="52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7" y="55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31" y="14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97360" y="4836960"/>
              <a:ext cx="788760" cy="408240"/>
            </a:xfrm>
            <a:custGeom>
              <a:avLst/>
              <a:gdLst/>
              <a:ahLst/>
              <a:rect l="l" t="t" r="r" b="b"/>
              <a:pathLst>
                <a:path w="497" h="257">
                  <a:moveTo>
                    <a:pt x="0" y="193"/>
                  </a:moveTo>
                  <a:lnTo>
                    <a:pt x="24" y="189"/>
                  </a:lnTo>
                  <a:lnTo>
                    <a:pt x="32" y="182"/>
                  </a:lnTo>
                  <a:lnTo>
                    <a:pt x="40" y="174"/>
                  </a:lnTo>
                  <a:lnTo>
                    <a:pt x="46" y="164"/>
                  </a:lnTo>
                  <a:lnTo>
                    <a:pt x="45" y="155"/>
                  </a:lnTo>
                  <a:lnTo>
                    <a:pt x="52" y="149"/>
                  </a:lnTo>
                  <a:lnTo>
                    <a:pt x="60" y="140"/>
                  </a:lnTo>
                  <a:lnTo>
                    <a:pt x="66" y="131"/>
                  </a:lnTo>
                  <a:lnTo>
                    <a:pt x="69" y="123"/>
                  </a:lnTo>
                  <a:lnTo>
                    <a:pt x="74" y="114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7" y="95"/>
                  </a:lnTo>
                  <a:lnTo>
                    <a:pt x="104" y="88"/>
                  </a:lnTo>
                  <a:lnTo>
                    <a:pt x="109" y="78"/>
                  </a:lnTo>
                  <a:lnTo>
                    <a:pt x="116" y="70"/>
                  </a:lnTo>
                  <a:lnTo>
                    <a:pt x="118" y="60"/>
                  </a:lnTo>
                  <a:lnTo>
                    <a:pt x="128" y="53"/>
                  </a:lnTo>
                  <a:lnTo>
                    <a:pt x="131" y="44"/>
                  </a:lnTo>
                  <a:lnTo>
                    <a:pt x="137" y="37"/>
                  </a:lnTo>
                  <a:lnTo>
                    <a:pt x="144" y="30"/>
                  </a:lnTo>
                  <a:lnTo>
                    <a:pt x="153" y="22"/>
                  </a:lnTo>
                  <a:lnTo>
                    <a:pt x="159" y="15"/>
                  </a:lnTo>
                  <a:lnTo>
                    <a:pt x="168" y="10"/>
                  </a:lnTo>
                  <a:lnTo>
                    <a:pt x="175" y="6"/>
                  </a:lnTo>
                  <a:lnTo>
                    <a:pt x="187" y="6"/>
                  </a:lnTo>
                  <a:lnTo>
                    <a:pt x="193" y="0"/>
                  </a:lnTo>
                  <a:lnTo>
                    <a:pt x="202" y="7"/>
                  </a:lnTo>
                  <a:lnTo>
                    <a:pt x="215" y="15"/>
                  </a:lnTo>
                  <a:lnTo>
                    <a:pt x="207" y="14"/>
                  </a:lnTo>
                  <a:lnTo>
                    <a:pt x="205" y="22"/>
                  </a:lnTo>
                  <a:lnTo>
                    <a:pt x="205" y="31"/>
                  </a:lnTo>
                  <a:lnTo>
                    <a:pt x="215" y="34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40" y="33"/>
                  </a:lnTo>
                  <a:lnTo>
                    <a:pt x="243" y="40"/>
                  </a:lnTo>
                  <a:lnTo>
                    <a:pt x="236" y="45"/>
                  </a:lnTo>
                  <a:lnTo>
                    <a:pt x="228" y="49"/>
                  </a:lnTo>
                  <a:lnTo>
                    <a:pt x="220" y="55"/>
                  </a:lnTo>
                  <a:lnTo>
                    <a:pt x="213" y="62"/>
                  </a:lnTo>
                  <a:lnTo>
                    <a:pt x="222" y="64"/>
                  </a:lnTo>
                  <a:lnTo>
                    <a:pt x="226" y="71"/>
                  </a:lnTo>
                  <a:lnTo>
                    <a:pt x="229" y="78"/>
                  </a:lnTo>
                  <a:lnTo>
                    <a:pt x="232" y="84"/>
                  </a:lnTo>
                  <a:lnTo>
                    <a:pt x="232" y="94"/>
                  </a:lnTo>
                  <a:lnTo>
                    <a:pt x="230" y="103"/>
                  </a:lnTo>
                  <a:lnTo>
                    <a:pt x="239" y="163"/>
                  </a:lnTo>
                  <a:lnTo>
                    <a:pt x="190" y="125"/>
                  </a:lnTo>
                  <a:lnTo>
                    <a:pt x="236" y="116"/>
                  </a:lnTo>
                  <a:lnTo>
                    <a:pt x="246" y="110"/>
                  </a:lnTo>
                  <a:lnTo>
                    <a:pt x="251" y="105"/>
                  </a:lnTo>
                  <a:lnTo>
                    <a:pt x="259" y="94"/>
                  </a:lnTo>
                  <a:lnTo>
                    <a:pt x="270" y="93"/>
                  </a:lnTo>
                  <a:lnTo>
                    <a:pt x="277" y="90"/>
                  </a:lnTo>
                  <a:lnTo>
                    <a:pt x="288" y="86"/>
                  </a:lnTo>
                  <a:lnTo>
                    <a:pt x="295" y="83"/>
                  </a:lnTo>
                  <a:lnTo>
                    <a:pt x="303" y="74"/>
                  </a:lnTo>
                  <a:lnTo>
                    <a:pt x="313" y="75"/>
                  </a:lnTo>
                  <a:lnTo>
                    <a:pt x="320" y="80"/>
                  </a:lnTo>
                  <a:lnTo>
                    <a:pt x="329" y="76"/>
                  </a:lnTo>
                  <a:lnTo>
                    <a:pt x="338" y="74"/>
                  </a:lnTo>
                  <a:lnTo>
                    <a:pt x="345" y="78"/>
                  </a:lnTo>
                  <a:lnTo>
                    <a:pt x="351" y="86"/>
                  </a:lnTo>
                  <a:lnTo>
                    <a:pt x="357" y="92"/>
                  </a:lnTo>
                  <a:lnTo>
                    <a:pt x="365" y="90"/>
                  </a:lnTo>
                  <a:lnTo>
                    <a:pt x="379" y="94"/>
                  </a:lnTo>
                  <a:lnTo>
                    <a:pt x="385" y="99"/>
                  </a:lnTo>
                  <a:lnTo>
                    <a:pt x="394" y="102"/>
                  </a:lnTo>
                  <a:lnTo>
                    <a:pt x="403" y="107"/>
                  </a:lnTo>
                  <a:lnTo>
                    <a:pt x="405" y="115"/>
                  </a:lnTo>
                  <a:lnTo>
                    <a:pt x="413" y="121"/>
                  </a:lnTo>
                  <a:lnTo>
                    <a:pt x="423" y="125"/>
                  </a:lnTo>
                  <a:lnTo>
                    <a:pt x="431" y="128"/>
                  </a:lnTo>
                  <a:lnTo>
                    <a:pt x="440" y="132"/>
                  </a:lnTo>
                  <a:lnTo>
                    <a:pt x="455" y="137"/>
                  </a:lnTo>
                  <a:lnTo>
                    <a:pt x="468" y="141"/>
                  </a:lnTo>
                  <a:lnTo>
                    <a:pt x="473" y="148"/>
                  </a:lnTo>
                  <a:lnTo>
                    <a:pt x="480" y="154"/>
                  </a:lnTo>
                  <a:lnTo>
                    <a:pt x="485" y="161"/>
                  </a:lnTo>
                  <a:lnTo>
                    <a:pt x="488" y="172"/>
                  </a:lnTo>
                  <a:lnTo>
                    <a:pt x="492" y="178"/>
                  </a:lnTo>
                  <a:lnTo>
                    <a:pt x="493" y="187"/>
                  </a:lnTo>
                  <a:lnTo>
                    <a:pt x="494" y="195"/>
                  </a:lnTo>
                  <a:lnTo>
                    <a:pt x="496" y="201"/>
                  </a:lnTo>
                  <a:lnTo>
                    <a:pt x="491" y="213"/>
                  </a:lnTo>
                  <a:lnTo>
                    <a:pt x="480" y="217"/>
                  </a:lnTo>
                  <a:lnTo>
                    <a:pt x="474" y="222"/>
                  </a:lnTo>
                  <a:lnTo>
                    <a:pt x="466" y="228"/>
                  </a:lnTo>
                  <a:lnTo>
                    <a:pt x="458" y="234"/>
                  </a:lnTo>
                  <a:lnTo>
                    <a:pt x="448" y="238"/>
                  </a:lnTo>
                  <a:lnTo>
                    <a:pt x="439" y="240"/>
                  </a:lnTo>
                  <a:lnTo>
                    <a:pt x="430" y="244"/>
                  </a:lnTo>
                  <a:lnTo>
                    <a:pt x="422" y="248"/>
                  </a:lnTo>
                  <a:lnTo>
                    <a:pt x="414" y="240"/>
                  </a:lnTo>
                  <a:lnTo>
                    <a:pt x="405" y="242"/>
                  </a:lnTo>
                  <a:lnTo>
                    <a:pt x="395" y="241"/>
                  </a:lnTo>
                  <a:lnTo>
                    <a:pt x="387" y="244"/>
                  </a:lnTo>
                  <a:lnTo>
                    <a:pt x="380" y="248"/>
                  </a:lnTo>
                  <a:lnTo>
                    <a:pt x="372" y="250"/>
                  </a:lnTo>
                  <a:lnTo>
                    <a:pt x="363" y="252"/>
                  </a:lnTo>
                  <a:lnTo>
                    <a:pt x="357" y="256"/>
                  </a:lnTo>
                  <a:lnTo>
                    <a:pt x="350" y="247"/>
                  </a:lnTo>
                  <a:lnTo>
                    <a:pt x="349" y="240"/>
                  </a:lnTo>
                  <a:lnTo>
                    <a:pt x="340" y="243"/>
                  </a:lnTo>
                  <a:lnTo>
                    <a:pt x="333" y="246"/>
                  </a:lnTo>
                  <a:lnTo>
                    <a:pt x="324" y="248"/>
                  </a:lnTo>
                  <a:lnTo>
                    <a:pt x="315" y="247"/>
                  </a:lnTo>
                  <a:lnTo>
                    <a:pt x="315" y="240"/>
                  </a:lnTo>
                  <a:lnTo>
                    <a:pt x="313" y="233"/>
                  </a:lnTo>
                  <a:lnTo>
                    <a:pt x="310" y="225"/>
                  </a:lnTo>
                  <a:lnTo>
                    <a:pt x="297" y="227"/>
                  </a:lnTo>
                  <a:lnTo>
                    <a:pt x="288" y="227"/>
                  </a:lnTo>
                  <a:lnTo>
                    <a:pt x="281" y="221"/>
                  </a:lnTo>
                  <a:lnTo>
                    <a:pt x="277" y="215"/>
                  </a:lnTo>
                  <a:lnTo>
                    <a:pt x="267" y="213"/>
                  </a:lnTo>
                  <a:lnTo>
                    <a:pt x="226" y="177"/>
                  </a:lnTo>
                  <a:lnTo>
                    <a:pt x="245" y="217"/>
                  </a:lnTo>
                  <a:lnTo>
                    <a:pt x="236" y="217"/>
                  </a:lnTo>
                  <a:lnTo>
                    <a:pt x="227" y="213"/>
                  </a:lnTo>
                  <a:lnTo>
                    <a:pt x="219" y="211"/>
                  </a:lnTo>
                  <a:lnTo>
                    <a:pt x="209" y="209"/>
                  </a:lnTo>
                  <a:lnTo>
                    <a:pt x="200" y="210"/>
                  </a:lnTo>
                  <a:lnTo>
                    <a:pt x="191" y="215"/>
                  </a:lnTo>
                  <a:lnTo>
                    <a:pt x="184" y="218"/>
                  </a:lnTo>
                  <a:lnTo>
                    <a:pt x="176" y="219"/>
                  </a:lnTo>
                  <a:lnTo>
                    <a:pt x="166" y="223"/>
                  </a:lnTo>
                  <a:lnTo>
                    <a:pt x="158" y="230"/>
                  </a:lnTo>
                  <a:lnTo>
                    <a:pt x="150" y="234"/>
                  </a:lnTo>
                  <a:lnTo>
                    <a:pt x="139" y="242"/>
                  </a:lnTo>
                  <a:lnTo>
                    <a:pt x="133" y="247"/>
                  </a:lnTo>
                  <a:lnTo>
                    <a:pt x="122" y="248"/>
                  </a:lnTo>
                  <a:lnTo>
                    <a:pt x="111" y="253"/>
                  </a:lnTo>
                  <a:lnTo>
                    <a:pt x="102" y="252"/>
                  </a:lnTo>
                  <a:lnTo>
                    <a:pt x="91" y="247"/>
                  </a:lnTo>
                  <a:lnTo>
                    <a:pt x="82" y="245"/>
                  </a:lnTo>
                  <a:lnTo>
                    <a:pt x="74" y="244"/>
                  </a:lnTo>
                  <a:lnTo>
                    <a:pt x="63" y="244"/>
                  </a:lnTo>
                  <a:lnTo>
                    <a:pt x="49" y="244"/>
                  </a:lnTo>
                  <a:lnTo>
                    <a:pt x="43" y="238"/>
                  </a:lnTo>
                  <a:lnTo>
                    <a:pt x="36" y="232"/>
                  </a:lnTo>
                  <a:lnTo>
                    <a:pt x="36" y="221"/>
                  </a:lnTo>
                  <a:lnTo>
                    <a:pt x="32" y="217"/>
                  </a:lnTo>
                  <a:lnTo>
                    <a:pt x="26" y="209"/>
                  </a:lnTo>
                  <a:lnTo>
                    <a:pt x="22" y="204"/>
                  </a:lnTo>
                  <a:lnTo>
                    <a:pt x="18" y="197"/>
                  </a:lnTo>
                  <a:lnTo>
                    <a:pt x="0" y="193"/>
                  </a:lnTo>
                  <a:lnTo>
                    <a:pt x="14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560520" y="858960"/>
          <a:ext cx="8329320" cy="5360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0520" y="858960"/>
                    <a:ext cx="8329320" cy="53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820440" y="31608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HO -AQ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d8a"/>
            </a:gs>
            <a:gs pos="50000">
              <a:srgbClr val="0f219b"/>
            </a:gs>
            <a:gs pos="100000">
              <a:srgbClr val="0d1d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8600" y="557280"/>
            <a:ext cx="8120160" cy="6118200"/>
            <a:chOff x="228600" y="557280"/>
            <a:chExt cx="8120160" cy="6118200"/>
          </a:xfrm>
        </p:grpSpPr>
        <p:sp>
          <p:nvSpPr>
            <p:cNvPr id="282" name=""/>
            <p:cNvSpPr/>
            <p:nvPr/>
          </p:nvSpPr>
          <p:spPr>
            <a:xfrm>
              <a:off x="2662200" y="20638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2" y="77"/>
                  </a:moveTo>
                  <a:lnTo>
                    <a:pt x="2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2" y="125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5" y="174"/>
                  </a:lnTo>
                  <a:lnTo>
                    <a:pt x="31" y="182"/>
                  </a:lnTo>
                  <a:lnTo>
                    <a:pt x="40" y="182"/>
                  </a:lnTo>
                  <a:lnTo>
                    <a:pt x="48" y="182"/>
                  </a:lnTo>
                  <a:lnTo>
                    <a:pt x="60" y="191"/>
                  </a:lnTo>
                  <a:lnTo>
                    <a:pt x="71" y="196"/>
                  </a:lnTo>
                  <a:lnTo>
                    <a:pt x="71" y="205"/>
                  </a:lnTo>
                  <a:lnTo>
                    <a:pt x="74" y="214"/>
                  </a:lnTo>
                  <a:lnTo>
                    <a:pt x="83" y="214"/>
                  </a:lnTo>
                  <a:lnTo>
                    <a:pt x="91" y="214"/>
                  </a:lnTo>
                  <a:lnTo>
                    <a:pt x="100" y="214"/>
                  </a:lnTo>
                  <a:lnTo>
                    <a:pt x="109" y="214"/>
                  </a:lnTo>
                  <a:lnTo>
                    <a:pt x="117" y="214"/>
                  </a:lnTo>
                  <a:lnTo>
                    <a:pt x="126" y="214"/>
                  </a:lnTo>
                  <a:lnTo>
                    <a:pt x="137" y="208"/>
                  </a:lnTo>
                  <a:lnTo>
                    <a:pt x="149" y="202"/>
                  </a:lnTo>
                  <a:lnTo>
                    <a:pt x="149" y="194"/>
                  </a:lnTo>
                  <a:lnTo>
                    <a:pt x="146" y="185"/>
                  </a:lnTo>
                  <a:lnTo>
                    <a:pt x="146" y="176"/>
                  </a:lnTo>
                  <a:lnTo>
                    <a:pt x="155" y="168"/>
                  </a:lnTo>
                  <a:lnTo>
                    <a:pt x="158" y="159"/>
                  </a:lnTo>
                  <a:lnTo>
                    <a:pt x="158" y="151"/>
                  </a:lnTo>
                  <a:lnTo>
                    <a:pt x="155" y="142"/>
                  </a:lnTo>
                  <a:lnTo>
                    <a:pt x="155" y="134"/>
                  </a:lnTo>
                  <a:lnTo>
                    <a:pt x="146" y="134"/>
                  </a:lnTo>
                  <a:lnTo>
                    <a:pt x="137" y="134"/>
                  </a:lnTo>
                  <a:lnTo>
                    <a:pt x="135" y="125"/>
                  </a:lnTo>
                  <a:lnTo>
                    <a:pt x="129" y="116"/>
                  </a:lnTo>
                  <a:lnTo>
                    <a:pt x="120" y="114"/>
                  </a:lnTo>
                  <a:lnTo>
                    <a:pt x="114" y="105"/>
                  </a:lnTo>
                  <a:lnTo>
                    <a:pt x="114" y="97"/>
                  </a:lnTo>
                  <a:lnTo>
                    <a:pt x="106" y="94"/>
                  </a:lnTo>
                  <a:lnTo>
                    <a:pt x="97" y="94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89" y="71"/>
                  </a:lnTo>
                  <a:lnTo>
                    <a:pt x="80" y="68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83" y="45"/>
                  </a:lnTo>
                  <a:lnTo>
                    <a:pt x="94" y="45"/>
                  </a:lnTo>
                  <a:lnTo>
                    <a:pt x="103" y="39"/>
                  </a:lnTo>
                  <a:lnTo>
                    <a:pt x="106" y="31"/>
                  </a:lnTo>
                  <a:lnTo>
                    <a:pt x="103" y="22"/>
                  </a:lnTo>
                  <a:lnTo>
                    <a:pt x="94" y="22"/>
                  </a:lnTo>
                  <a:lnTo>
                    <a:pt x="86" y="14"/>
                  </a:lnTo>
                  <a:lnTo>
                    <a:pt x="77" y="11"/>
                  </a:lnTo>
                  <a:lnTo>
                    <a:pt x="68" y="11"/>
                  </a:lnTo>
                  <a:lnTo>
                    <a:pt x="54" y="0"/>
                  </a:lnTo>
                  <a:lnTo>
                    <a:pt x="51" y="8"/>
                  </a:lnTo>
                  <a:lnTo>
                    <a:pt x="60" y="14"/>
                  </a:lnTo>
                  <a:lnTo>
                    <a:pt x="63" y="22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7" y="45"/>
                  </a:lnTo>
                  <a:lnTo>
                    <a:pt x="45" y="45"/>
                  </a:lnTo>
                  <a:lnTo>
                    <a:pt x="40" y="37"/>
                  </a:lnTo>
                  <a:lnTo>
                    <a:pt x="34" y="28"/>
                  </a:lnTo>
                  <a:lnTo>
                    <a:pt x="31" y="37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5" y="62"/>
                  </a:lnTo>
                  <a:lnTo>
                    <a:pt x="17" y="68"/>
                  </a:lnTo>
                  <a:lnTo>
                    <a:pt x="2" y="77"/>
                  </a:lnTo>
                  <a:lnTo>
                    <a:pt x="2" y="7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85760" y="557280"/>
              <a:ext cx="6975720" cy="5226120"/>
            </a:xfrm>
            <a:custGeom>
              <a:avLst/>
              <a:gdLst/>
              <a:ahLst/>
              <a:rect l="l" t="t" r="r" b="b"/>
              <a:pathLst>
                <a:path w="4394" h="3292">
                  <a:moveTo>
                    <a:pt x="4183" y="665"/>
                  </a:moveTo>
                  <a:lnTo>
                    <a:pt x="4174" y="685"/>
                  </a:lnTo>
                  <a:lnTo>
                    <a:pt x="4165" y="680"/>
                  </a:lnTo>
                  <a:lnTo>
                    <a:pt x="4154" y="671"/>
                  </a:lnTo>
                  <a:lnTo>
                    <a:pt x="4145" y="665"/>
                  </a:lnTo>
                  <a:lnTo>
                    <a:pt x="4136" y="657"/>
                  </a:lnTo>
                  <a:lnTo>
                    <a:pt x="4128" y="648"/>
                  </a:lnTo>
                  <a:lnTo>
                    <a:pt x="4122" y="639"/>
                  </a:lnTo>
                  <a:lnTo>
                    <a:pt x="4110" y="631"/>
                  </a:lnTo>
                  <a:lnTo>
                    <a:pt x="4104" y="622"/>
                  </a:lnTo>
                  <a:lnTo>
                    <a:pt x="4098" y="613"/>
                  </a:lnTo>
                  <a:lnTo>
                    <a:pt x="4093" y="605"/>
                  </a:lnTo>
                  <a:lnTo>
                    <a:pt x="4084" y="596"/>
                  </a:lnTo>
                  <a:lnTo>
                    <a:pt x="4075" y="593"/>
                  </a:lnTo>
                  <a:lnTo>
                    <a:pt x="4066" y="590"/>
                  </a:lnTo>
                  <a:lnTo>
                    <a:pt x="4058" y="587"/>
                  </a:lnTo>
                  <a:lnTo>
                    <a:pt x="4049" y="585"/>
                  </a:lnTo>
                  <a:lnTo>
                    <a:pt x="4037" y="585"/>
                  </a:lnTo>
                  <a:lnTo>
                    <a:pt x="4029" y="582"/>
                  </a:lnTo>
                  <a:lnTo>
                    <a:pt x="4023" y="573"/>
                  </a:lnTo>
                  <a:lnTo>
                    <a:pt x="4020" y="564"/>
                  </a:lnTo>
                  <a:lnTo>
                    <a:pt x="4011" y="556"/>
                  </a:lnTo>
                  <a:lnTo>
                    <a:pt x="4002" y="550"/>
                  </a:lnTo>
                  <a:lnTo>
                    <a:pt x="4002" y="541"/>
                  </a:lnTo>
                  <a:lnTo>
                    <a:pt x="3994" y="538"/>
                  </a:lnTo>
                  <a:lnTo>
                    <a:pt x="3982" y="538"/>
                  </a:lnTo>
                  <a:lnTo>
                    <a:pt x="3973" y="538"/>
                  </a:lnTo>
                  <a:lnTo>
                    <a:pt x="3965" y="538"/>
                  </a:lnTo>
                  <a:lnTo>
                    <a:pt x="3953" y="538"/>
                  </a:lnTo>
                  <a:lnTo>
                    <a:pt x="3947" y="530"/>
                  </a:lnTo>
                  <a:lnTo>
                    <a:pt x="3947" y="521"/>
                  </a:lnTo>
                  <a:lnTo>
                    <a:pt x="3938" y="512"/>
                  </a:lnTo>
                  <a:lnTo>
                    <a:pt x="3930" y="504"/>
                  </a:lnTo>
                  <a:lnTo>
                    <a:pt x="3930" y="495"/>
                  </a:lnTo>
                  <a:lnTo>
                    <a:pt x="3927" y="484"/>
                  </a:lnTo>
                  <a:lnTo>
                    <a:pt x="3918" y="481"/>
                  </a:lnTo>
                  <a:lnTo>
                    <a:pt x="3909" y="481"/>
                  </a:lnTo>
                  <a:lnTo>
                    <a:pt x="3901" y="481"/>
                  </a:lnTo>
                  <a:lnTo>
                    <a:pt x="3892" y="481"/>
                  </a:lnTo>
                  <a:lnTo>
                    <a:pt x="3883" y="481"/>
                  </a:lnTo>
                  <a:lnTo>
                    <a:pt x="3871" y="481"/>
                  </a:lnTo>
                  <a:lnTo>
                    <a:pt x="3863" y="481"/>
                  </a:lnTo>
                  <a:lnTo>
                    <a:pt x="3851" y="478"/>
                  </a:lnTo>
                  <a:lnTo>
                    <a:pt x="3842" y="472"/>
                  </a:lnTo>
                  <a:lnTo>
                    <a:pt x="3842" y="463"/>
                  </a:lnTo>
                  <a:lnTo>
                    <a:pt x="3842" y="455"/>
                  </a:lnTo>
                  <a:lnTo>
                    <a:pt x="3834" y="446"/>
                  </a:lnTo>
                  <a:lnTo>
                    <a:pt x="3825" y="446"/>
                  </a:lnTo>
                  <a:lnTo>
                    <a:pt x="3819" y="455"/>
                  </a:lnTo>
                  <a:lnTo>
                    <a:pt x="3810" y="458"/>
                  </a:lnTo>
                  <a:lnTo>
                    <a:pt x="3802" y="461"/>
                  </a:lnTo>
                  <a:lnTo>
                    <a:pt x="3793" y="461"/>
                  </a:lnTo>
                  <a:lnTo>
                    <a:pt x="3784" y="461"/>
                  </a:lnTo>
                  <a:lnTo>
                    <a:pt x="3775" y="461"/>
                  </a:lnTo>
                  <a:lnTo>
                    <a:pt x="3764" y="455"/>
                  </a:lnTo>
                  <a:lnTo>
                    <a:pt x="3755" y="452"/>
                  </a:lnTo>
                  <a:lnTo>
                    <a:pt x="3752" y="461"/>
                  </a:lnTo>
                  <a:lnTo>
                    <a:pt x="3755" y="469"/>
                  </a:lnTo>
                  <a:lnTo>
                    <a:pt x="3764" y="472"/>
                  </a:lnTo>
                  <a:lnTo>
                    <a:pt x="3755" y="475"/>
                  </a:lnTo>
                  <a:lnTo>
                    <a:pt x="3746" y="475"/>
                  </a:lnTo>
                  <a:lnTo>
                    <a:pt x="3737" y="478"/>
                  </a:lnTo>
                  <a:lnTo>
                    <a:pt x="3729" y="478"/>
                  </a:lnTo>
                  <a:lnTo>
                    <a:pt x="3720" y="478"/>
                  </a:lnTo>
                  <a:lnTo>
                    <a:pt x="3711" y="472"/>
                  </a:lnTo>
                  <a:lnTo>
                    <a:pt x="3703" y="463"/>
                  </a:lnTo>
                  <a:lnTo>
                    <a:pt x="3694" y="455"/>
                  </a:lnTo>
                  <a:lnTo>
                    <a:pt x="3685" y="452"/>
                  </a:lnTo>
                  <a:lnTo>
                    <a:pt x="3676" y="452"/>
                  </a:lnTo>
                  <a:lnTo>
                    <a:pt x="3668" y="449"/>
                  </a:lnTo>
                  <a:lnTo>
                    <a:pt x="3656" y="449"/>
                  </a:lnTo>
                  <a:lnTo>
                    <a:pt x="3647" y="449"/>
                  </a:lnTo>
                  <a:lnTo>
                    <a:pt x="3638" y="449"/>
                  </a:lnTo>
                  <a:lnTo>
                    <a:pt x="3636" y="440"/>
                  </a:lnTo>
                  <a:lnTo>
                    <a:pt x="3636" y="432"/>
                  </a:lnTo>
                  <a:lnTo>
                    <a:pt x="3630" y="423"/>
                  </a:lnTo>
                  <a:lnTo>
                    <a:pt x="3638" y="423"/>
                  </a:lnTo>
                  <a:lnTo>
                    <a:pt x="3636" y="414"/>
                  </a:lnTo>
                  <a:lnTo>
                    <a:pt x="3627" y="412"/>
                  </a:lnTo>
                  <a:lnTo>
                    <a:pt x="3618" y="409"/>
                  </a:lnTo>
                  <a:lnTo>
                    <a:pt x="3615" y="400"/>
                  </a:lnTo>
                  <a:lnTo>
                    <a:pt x="3609" y="391"/>
                  </a:lnTo>
                  <a:lnTo>
                    <a:pt x="3618" y="391"/>
                  </a:lnTo>
                  <a:lnTo>
                    <a:pt x="3627" y="391"/>
                  </a:lnTo>
                  <a:lnTo>
                    <a:pt x="3633" y="383"/>
                  </a:lnTo>
                  <a:lnTo>
                    <a:pt x="3624" y="377"/>
                  </a:lnTo>
                  <a:lnTo>
                    <a:pt x="3615" y="374"/>
                  </a:lnTo>
                  <a:lnTo>
                    <a:pt x="3606" y="363"/>
                  </a:lnTo>
                  <a:lnTo>
                    <a:pt x="3604" y="354"/>
                  </a:lnTo>
                  <a:lnTo>
                    <a:pt x="3598" y="345"/>
                  </a:lnTo>
                  <a:lnTo>
                    <a:pt x="3592" y="337"/>
                  </a:lnTo>
                  <a:lnTo>
                    <a:pt x="3583" y="322"/>
                  </a:lnTo>
                  <a:lnTo>
                    <a:pt x="3577" y="314"/>
                  </a:lnTo>
                  <a:lnTo>
                    <a:pt x="3586" y="305"/>
                  </a:lnTo>
                  <a:lnTo>
                    <a:pt x="3592" y="296"/>
                  </a:lnTo>
                  <a:lnTo>
                    <a:pt x="3595" y="288"/>
                  </a:lnTo>
                  <a:lnTo>
                    <a:pt x="3595" y="279"/>
                  </a:lnTo>
                  <a:lnTo>
                    <a:pt x="3586" y="276"/>
                  </a:lnTo>
                  <a:lnTo>
                    <a:pt x="3577" y="276"/>
                  </a:lnTo>
                  <a:lnTo>
                    <a:pt x="3569" y="276"/>
                  </a:lnTo>
                  <a:lnTo>
                    <a:pt x="3557" y="270"/>
                  </a:lnTo>
                  <a:lnTo>
                    <a:pt x="3548" y="259"/>
                  </a:lnTo>
                  <a:lnTo>
                    <a:pt x="3540" y="253"/>
                  </a:lnTo>
                  <a:lnTo>
                    <a:pt x="3531" y="250"/>
                  </a:lnTo>
                  <a:lnTo>
                    <a:pt x="3522" y="244"/>
                  </a:lnTo>
                  <a:lnTo>
                    <a:pt x="3510" y="236"/>
                  </a:lnTo>
                  <a:lnTo>
                    <a:pt x="3502" y="233"/>
                  </a:lnTo>
                  <a:lnTo>
                    <a:pt x="3493" y="227"/>
                  </a:lnTo>
                  <a:lnTo>
                    <a:pt x="3484" y="224"/>
                  </a:lnTo>
                  <a:lnTo>
                    <a:pt x="3475" y="219"/>
                  </a:lnTo>
                  <a:lnTo>
                    <a:pt x="3467" y="213"/>
                  </a:lnTo>
                  <a:lnTo>
                    <a:pt x="3458" y="207"/>
                  </a:lnTo>
                  <a:lnTo>
                    <a:pt x="3449" y="198"/>
                  </a:lnTo>
                  <a:lnTo>
                    <a:pt x="3441" y="193"/>
                  </a:lnTo>
                  <a:lnTo>
                    <a:pt x="3432" y="187"/>
                  </a:lnTo>
                  <a:lnTo>
                    <a:pt x="3423" y="184"/>
                  </a:lnTo>
                  <a:lnTo>
                    <a:pt x="3414" y="178"/>
                  </a:lnTo>
                  <a:lnTo>
                    <a:pt x="3406" y="172"/>
                  </a:lnTo>
                  <a:lnTo>
                    <a:pt x="3400" y="164"/>
                  </a:lnTo>
                  <a:lnTo>
                    <a:pt x="3397" y="155"/>
                  </a:lnTo>
                  <a:lnTo>
                    <a:pt x="3394" y="146"/>
                  </a:lnTo>
                  <a:lnTo>
                    <a:pt x="3388" y="138"/>
                  </a:lnTo>
                  <a:lnTo>
                    <a:pt x="3382" y="129"/>
                  </a:lnTo>
                  <a:lnTo>
                    <a:pt x="3388" y="121"/>
                  </a:lnTo>
                  <a:lnTo>
                    <a:pt x="3379" y="121"/>
                  </a:lnTo>
                  <a:lnTo>
                    <a:pt x="3371" y="121"/>
                  </a:lnTo>
                  <a:lnTo>
                    <a:pt x="3362" y="121"/>
                  </a:lnTo>
                  <a:lnTo>
                    <a:pt x="3359" y="129"/>
                  </a:lnTo>
                  <a:lnTo>
                    <a:pt x="3353" y="138"/>
                  </a:lnTo>
                  <a:lnTo>
                    <a:pt x="3347" y="146"/>
                  </a:lnTo>
                  <a:lnTo>
                    <a:pt x="3339" y="152"/>
                  </a:lnTo>
                  <a:lnTo>
                    <a:pt x="3327" y="158"/>
                  </a:lnTo>
                  <a:lnTo>
                    <a:pt x="3318" y="158"/>
                  </a:lnTo>
                  <a:lnTo>
                    <a:pt x="3310" y="167"/>
                  </a:lnTo>
                  <a:lnTo>
                    <a:pt x="3307" y="175"/>
                  </a:lnTo>
                  <a:lnTo>
                    <a:pt x="3307" y="184"/>
                  </a:lnTo>
                  <a:lnTo>
                    <a:pt x="3304" y="193"/>
                  </a:lnTo>
                  <a:lnTo>
                    <a:pt x="3295" y="195"/>
                  </a:lnTo>
                  <a:lnTo>
                    <a:pt x="3295" y="204"/>
                  </a:lnTo>
                  <a:lnTo>
                    <a:pt x="3298" y="213"/>
                  </a:lnTo>
                  <a:lnTo>
                    <a:pt x="3304" y="221"/>
                  </a:lnTo>
                  <a:lnTo>
                    <a:pt x="3310" y="230"/>
                  </a:lnTo>
                  <a:lnTo>
                    <a:pt x="3315" y="239"/>
                  </a:lnTo>
                  <a:lnTo>
                    <a:pt x="3318" y="250"/>
                  </a:lnTo>
                  <a:lnTo>
                    <a:pt x="3321" y="259"/>
                  </a:lnTo>
                  <a:lnTo>
                    <a:pt x="3321" y="247"/>
                  </a:lnTo>
                  <a:lnTo>
                    <a:pt x="3318" y="239"/>
                  </a:lnTo>
                  <a:lnTo>
                    <a:pt x="3315" y="230"/>
                  </a:lnTo>
                  <a:lnTo>
                    <a:pt x="3307" y="224"/>
                  </a:lnTo>
                  <a:lnTo>
                    <a:pt x="3298" y="216"/>
                  </a:lnTo>
                  <a:lnTo>
                    <a:pt x="3292" y="207"/>
                  </a:lnTo>
                  <a:lnTo>
                    <a:pt x="3292" y="198"/>
                  </a:lnTo>
                  <a:lnTo>
                    <a:pt x="3295" y="190"/>
                  </a:lnTo>
                  <a:lnTo>
                    <a:pt x="3292" y="181"/>
                  </a:lnTo>
                  <a:lnTo>
                    <a:pt x="3283" y="172"/>
                  </a:lnTo>
                  <a:lnTo>
                    <a:pt x="3275" y="170"/>
                  </a:lnTo>
                  <a:lnTo>
                    <a:pt x="3266" y="164"/>
                  </a:lnTo>
                  <a:lnTo>
                    <a:pt x="3257" y="161"/>
                  </a:lnTo>
                  <a:lnTo>
                    <a:pt x="3245" y="155"/>
                  </a:lnTo>
                  <a:lnTo>
                    <a:pt x="3237" y="155"/>
                  </a:lnTo>
                  <a:lnTo>
                    <a:pt x="3228" y="155"/>
                  </a:lnTo>
                  <a:lnTo>
                    <a:pt x="3219" y="155"/>
                  </a:lnTo>
                  <a:lnTo>
                    <a:pt x="3213" y="164"/>
                  </a:lnTo>
                  <a:lnTo>
                    <a:pt x="3208" y="172"/>
                  </a:lnTo>
                  <a:lnTo>
                    <a:pt x="3196" y="175"/>
                  </a:lnTo>
                  <a:lnTo>
                    <a:pt x="3184" y="175"/>
                  </a:lnTo>
                  <a:lnTo>
                    <a:pt x="3173" y="175"/>
                  </a:lnTo>
                  <a:lnTo>
                    <a:pt x="3167" y="167"/>
                  </a:lnTo>
                  <a:lnTo>
                    <a:pt x="3179" y="161"/>
                  </a:lnTo>
                  <a:lnTo>
                    <a:pt x="3187" y="161"/>
                  </a:lnTo>
                  <a:lnTo>
                    <a:pt x="3196" y="161"/>
                  </a:lnTo>
                  <a:lnTo>
                    <a:pt x="3205" y="155"/>
                  </a:lnTo>
                  <a:lnTo>
                    <a:pt x="3208" y="146"/>
                  </a:lnTo>
                  <a:lnTo>
                    <a:pt x="3208" y="138"/>
                  </a:lnTo>
                  <a:lnTo>
                    <a:pt x="3205" y="129"/>
                  </a:lnTo>
                  <a:lnTo>
                    <a:pt x="3199" y="121"/>
                  </a:lnTo>
                  <a:lnTo>
                    <a:pt x="3190" y="112"/>
                  </a:lnTo>
                  <a:lnTo>
                    <a:pt x="3184" y="103"/>
                  </a:lnTo>
                  <a:lnTo>
                    <a:pt x="3193" y="97"/>
                  </a:lnTo>
                  <a:lnTo>
                    <a:pt x="3202" y="92"/>
                  </a:lnTo>
                  <a:lnTo>
                    <a:pt x="3205" y="83"/>
                  </a:lnTo>
                  <a:lnTo>
                    <a:pt x="3208" y="74"/>
                  </a:lnTo>
                  <a:lnTo>
                    <a:pt x="3208" y="66"/>
                  </a:lnTo>
                  <a:lnTo>
                    <a:pt x="3202" y="57"/>
                  </a:lnTo>
                  <a:lnTo>
                    <a:pt x="3199" y="48"/>
                  </a:lnTo>
                  <a:lnTo>
                    <a:pt x="3199" y="40"/>
                  </a:lnTo>
                  <a:lnTo>
                    <a:pt x="3199" y="31"/>
                  </a:lnTo>
                  <a:lnTo>
                    <a:pt x="3196" y="23"/>
                  </a:lnTo>
                  <a:lnTo>
                    <a:pt x="3190" y="14"/>
                  </a:lnTo>
                  <a:lnTo>
                    <a:pt x="3184" y="5"/>
                  </a:lnTo>
                  <a:lnTo>
                    <a:pt x="3176" y="0"/>
                  </a:lnTo>
                  <a:lnTo>
                    <a:pt x="3167" y="2"/>
                  </a:lnTo>
                  <a:lnTo>
                    <a:pt x="3158" y="8"/>
                  </a:lnTo>
                  <a:lnTo>
                    <a:pt x="3149" y="14"/>
                  </a:lnTo>
                  <a:lnTo>
                    <a:pt x="3141" y="17"/>
                  </a:lnTo>
                  <a:lnTo>
                    <a:pt x="3132" y="23"/>
                  </a:lnTo>
                  <a:lnTo>
                    <a:pt x="3132" y="31"/>
                  </a:lnTo>
                  <a:lnTo>
                    <a:pt x="3123" y="25"/>
                  </a:lnTo>
                  <a:lnTo>
                    <a:pt x="3114" y="17"/>
                  </a:lnTo>
                  <a:lnTo>
                    <a:pt x="3106" y="14"/>
                  </a:lnTo>
                  <a:lnTo>
                    <a:pt x="3097" y="14"/>
                  </a:lnTo>
                  <a:lnTo>
                    <a:pt x="3088" y="14"/>
                  </a:lnTo>
                  <a:lnTo>
                    <a:pt x="3080" y="14"/>
                  </a:lnTo>
                  <a:lnTo>
                    <a:pt x="3071" y="14"/>
                  </a:lnTo>
                  <a:lnTo>
                    <a:pt x="3071" y="23"/>
                  </a:lnTo>
                  <a:lnTo>
                    <a:pt x="3071" y="31"/>
                  </a:lnTo>
                  <a:lnTo>
                    <a:pt x="3071" y="40"/>
                  </a:lnTo>
                  <a:lnTo>
                    <a:pt x="3068" y="48"/>
                  </a:lnTo>
                  <a:lnTo>
                    <a:pt x="3062" y="57"/>
                  </a:lnTo>
                  <a:lnTo>
                    <a:pt x="3059" y="66"/>
                  </a:lnTo>
                  <a:lnTo>
                    <a:pt x="3059" y="74"/>
                  </a:lnTo>
                  <a:lnTo>
                    <a:pt x="3059" y="83"/>
                  </a:lnTo>
                  <a:lnTo>
                    <a:pt x="3068" y="89"/>
                  </a:lnTo>
                  <a:lnTo>
                    <a:pt x="3077" y="92"/>
                  </a:lnTo>
                  <a:lnTo>
                    <a:pt x="3085" y="97"/>
                  </a:lnTo>
                  <a:lnTo>
                    <a:pt x="3097" y="103"/>
                  </a:lnTo>
                  <a:lnTo>
                    <a:pt x="3106" y="103"/>
                  </a:lnTo>
                  <a:lnTo>
                    <a:pt x="3114" y="103"/>
                  </a:lnTo>
                  <a:lnTo>
                    <a:pt x="3114" y="95"/>
                  </a:lnTo>
                  <a:lnTo>
                    <a:pt x="3123" y="95"/>
                  </a:lnTo>
                  <a:lnTo>
                    <a:pt x="3114" y="103"/>
                  </a:lnTo>
                  <a:lnTo>
                    <a:pt x="3106" y="103"/>
                  </a:lnTo>
                  <a:lnTo>
                    <a:pt x="3097" y="103"/>
                  </a:lnTo>
                  <a:lnTo>
                    <a:pt x="3088" y="109"/>
                  </a:lnTo>
                  <a:lnTo>
                    <a:pt x="3085" y="118"/>
                  </a:lnTo>
                  <a:lnTo>
                    <a:pt x="3085" y="126"/>
                  </a:lnTo>
                  <a:lnTo>
                    <a:pt x="3080" y="135"/>
                  </a:lnTo>
                  <a:lnTo>
                    <a:pt x="3088" y="138"/>
                  </a:lnTo>
                  <a:lnTo>
                    <a:pt x="3082" y="146"/>
                  </a:lnTo>
                  <a:lnTo>
                    <a:pt x="3080" y="155"/>
                  </a:lnTo>
                  <a:lnTo>
                    <a:pt x="3074" y="164"/>
                  </a:lnTo>
                  <a:lnTo>
                    <a:pt x="3074" y="172"/>
                  </a:lnTo>
                  <a:lnTo>
                    <a:pt x="3074" y="181"/>
                  </a:lnTo>
                  <a:lnTo>
                    <a:pt x="3074" y="190"/>
                  </a:lnTo>
                  <a:lnTo>
                    <a:pt x="3085" y="190"/>
                  </a:lnTo>
                  <a:lnTo>
                    <a:pt x="3094" y="190"/>
                  </a:lnTo>
                  <a:lnTo>
                    <a:pt x="3088" y="198"/>
                  </a:lnTo>
                  <a:lnTo>
                    <a:pt x="3080" y="204"/>
                  </a:lnTo>
                  <a:lnTo>
                    <a:pt x="3074" y="213"/>
                  </a:lnTo>
                  <a:lnTo>
                    <a:pt x="3071" y="221"/>
                  </a:lnTo>
                  <a:lnTo>
                    <a:pt x="3071" y="230"/>
                  </a:lnTo>
                  <a:lnTo>
                    <a:pt x="3071" y="239"/>
                  </a:lnTo>
                  <a:lnTo>
                    <a:pt x="3068" y="247"/>
                  </a:lnTo>
                  <a:lnTo>
                    <a:pt x="3062" y="256"/>
                  </a:lnTo>
                  <a:lnTo>
                    <a:pt x="3059" y="265"/>
                  </a:lnTo>
                  <a:lnTo>
                    <a:pt x="3059" y="273"/>
                  </a:lnTo>
                  <a:lnTo>
                    <a:pt x="3059" y="282"/>
                  </a:lnTo>
                  <a:lnTo>
                    <a:pt x="3059" y="291"/>
                  </a:lnTo>
                  <a:lnTo>
                    <a:pt x="3059" y="299"/>
                  </a:lnTo>
                  <a:lnTo>
                    <a:pt x="3059" y="311"/>
                  </a:lnTo>
                  <a:lnTo>
                    <a:pt x="3065" y="319"/>
                  </a:lnTo>
                  <a:lnTo>
                    <a:pt x="3074" y="325"/>
                  </a:lnTo>
                  <a:lnTo>
                    <a:pt x="3082" y="328"/>
                  </a:lnTo>
                  <a:lnTo>
                    <a:pt x="3082" y="337"/>
                  </a:lnTo>
                  <a:lnTo>
                    <a:pt x="3082" y="345"/>
                  </a:lnTo>
                  <a:lnTo>
                    <a:pt x="3085" y="354"/>
                  </a:lnTo>
                  <a:lnTo>
                    <a:pt x="3085" y="363"/>
                  </a:lnTo>
                  <a:lnTo>
                    <a:pt x="3088" y="371"/>
                  </a:lnTo>
                  <a:lnTo>
                    <a:pt x="3088" y="380"/>
                  </a:lnTo>
                  <a:lnTo>
                    <a:pt x="3091" y="389"/>
                  </a:lnTo>
                  <a:lnTo>
                    <a:pt x="3094" y="397"/>
                  </a:lnTo>
                  <a:lnTo>
                    <a:pt x="3097" y="406"/>
                  </a:lnTo>
                  <a:lnTo>
                    <a:pt x="3109" y="412"/>
                  </a:lnTo>
                  <a:lnTo>
                    <a:pt x="3117" y="412"/>
                  </a:lnTo>
                  <a:lnTo>
                    <a:pt x="3126" y="412"/>
                  </a:lnTo>
                  <a:lnTo>
                    <a:pt x="3135" y="412"/>
                  </a:lnTo>
                  <a:lnTo>
                    <a:pt x="3135" y="403"/>
                  </a:lnTo>
                  <a:lnTo>
                    <a:pt x="3138" y="394"/>
                  </a:lnTo>
                  <a:lnTo>
                    <a:pt x="3147" y="391"/>
                  </a:lnTo>
                  <a:lnTo>
                    <a:pt x="3155" y="391"/>
                  </a:lnTo>
                  <a:lnTo>
                    <a:pt x="3164" y="394"/>
                  </a:lnTo>
                  <a:lnTo>
                    <a:pt x="3167" y="403"/>
                  </a:lnTo>
                  <a:lnTo>
                    <a:pt x="3167" y="412"/>
                  </a:lnTo>
                  <a:lnTo>
                    <a:pt x="3164" y="420"/>
                  </a:lnTo>
                  <a:lnTo>
                    <a:pt x="3155" y="423"/>
                  </a:lnTo>
                  <a:lnTo>
                    <a:pt x="3152" y="432"/>
                  </a:lnTo>
                  <a:lnTo>
                    <a:pt x="3144" y="438"/>
                  </a:lnTo>
                  <a:lnTo>
                    <a:pt x="3138" y="429"/>
                  </a:lnTo>
                  <a:lnTo>
                    <a:pt x="3129" y="420"/>
                  </a:lnTo>
                  <a:lnTo>
                    <a:pt x="3120" y="420"/>
                  </a:lnTo>
                  <a:lnTo>
                    <a:pt x="3114" y="429"/>
                  </a:lnTo>
                  <a:lnTo>
                    <a:pt x="3114" y="438"/>
                  </a:lnTo>
                  <a:lnTo>
                    <a:pt x="3114" y="446"/>
                  </a:lnTo>
                  <a:lnTo>
                    <a:pt x="3123" y="452"/>
                  </a:lnTo>
                  <a:lnTo>
                    <a:pt x="3132" y="452"/>
                  </a:lnTo>
                  <a:lnTo>
                    <a:pt x="3141" y="452"/>
                  </a:lnTo>
                  <a:lnTo>
                    <a:pt x="3135" y="461"/>
                  </a:lnTo>
                  <a:lnTo>
                    <a:pt x="3138" y="469"/>
                  </a:lnTo>
                  <a:lnTo>
                    <a:pt x="3147" y="472"/>
                  </a:lnTo>
                  <a:lnTo>
                    <a:pt x="3147" y="463"/>
                  </a:lnTo>
                  <a:lnTo>
                    <a:pt x="3144" y="455"/>
                  </a:lnTo>
                  <a:lnTo>
                    <a:pt x="3144" y="466"/>
                  </a:lnTo>
                  <a:lnTo>
                    <a:pt x="3144" y="475"/>
                  </a:lnTo>
                  <a:lnTo>
                    <a:pt x="3144" y="484"/>
                  </a:lnTo>
                  <a:lnTo>
                    <a:pt x="3144" y="492"/>
                  </a:lnTo>
                  <a:lnTo>
                    <a:pt x="3144" y="501"/>
                  </a:lnTo>
                  <a:lnTo>
                    <a:pt x="3144" y="510"/>
                  </a:lnTo>
                  <a:lnTo>
                    <a:pt x="3152" y="518"/>
                  </a:lnTo>
                  <a:lnTo>
                    <a:pt x="3161" y="527"/>
                  </a:lnTo>
                  <a:lnTo>
                    <a:pt x="3167" y="538"/>
                  </a:lnTo>
                  <a:lnTo>
                    <a:pt x="3176" y="544"/>
                  </a:lnTo>
                  <a:lnTo>
                    <a:pt x="3184" y="550"/>
                  </a:lnTo>
                  <a:lnTo>
                    <a:pt x="3196" y="550"/>
                  </a:lnTo>
                  <a:lnTo>
                    <a:pt x="3205" y="550"/>
                  </a:lnTo>
                  <a:lnTo>
                    <a:pt x="3213" y="550"/>
                  </a:lnTo>
                  <a:lnTo>
                    <a:pt x="3205" y="550"/>
                  </a:lnTo>
                  <a:lnTo>
                    <a:pt x="3193" y="550"/>
                  </a:lnTo>
                  <a:lnTo>
                    <a:pt x="3184" y="553"/>
                  </a:lnTo>
                  <a:lnTo>
                    <a:pt x="3179" y="561"/>
                  </a:lnTo>
                  <a:lnTo>
                    <a:pt x="3176" y="570"/>
                  </a:lnTo>
                  <a:lnTo>
                    <a:pt x="3173" y="579"/>
                  </a:lnTo>
                  <a:lnTo>
                    <a:pt x="3164" y="582"/>
                  </a:lnTo>
                  <a:lnTo>
                    <a:pt x="3155" y="582"/>
                  </a:lnTo>
                  <a:lnTo>
                    <a:pt x="3147" y="582"/>
                  </a:lnTo>
                  <a:lnTo>
                    <a:pt x="3132" y="576"/>
                  </a:lnTo>
                  <a:lnTo>
                    <a:pt x="3120" y="576"/>
                  </a:lnTo>
                  <a:lnTo>
                    <a:pt x="3109" y="576"/>
                  </a:lnTo>
                  <a:lnTo>
                    <a:pt x="3103" y="585"/>
                  </a:lnTo>
                  <a:lnTo>
                    <a:pt x="3100" y="593"/>
                  </a:lnTo>
                  <a:lnTo>
                    <a:pt x="3100" y="602"/>
                  </a:lnTo>
                  <a:lnTo>
                    <a:pt x="3100" y="610"/>
                  </a:lnTo>
                  <a:lnTo>
                    <a:pt x="3100" y="619"/>
                  </a:lnTo>
                  <a:lnTo>
                    <a:pt x="3100" y="628"/>
                  </a:lnTo>
                  <a:lnTo>
                    <a:pt x="3103" y="636"/>
                  </a:lnTo>
                  <a:lnTo>
                    <a:pt x="3106" y="645"/>
                  </a:lnTo>
                  <a:lnTo>
                    <a:pt x="3112" y="654"/>
                  </a:lnTo>
                  <a:lnTo>
                    <a:pt x="3117" y="662"/>
                  </a:lnTo>
                  <a:lnTo>
                    <a:pt x="3120" y="671"/>
                  </a:lnTo>
                  <a:lnTo>
                    <a:pt x="3123" y="680"/>
                  </a:lnTo>
                  <a:lnTo>
                    <a:pt x="3123" y="688"/>
                  </a:lnTo>
                  <a:lnTo>
                    <a:pt x="3123" y="697"/>
                  </a:lnTo>
                  <a:lnTo>
                    <a:pt x="3123" y="706"/>
                  </a:lnTo>
                  <a:lnTo>
                    <a:pt x="3114" y="711"/>
                  </a:lnTo>
                  <a:lnTo>
                    <a:pt x="3106" y="720"/>
                  </a:lnTo>
                  <a:lnTo>
                    <a:pt x="3103" y="729"/>
                  </a:lnTo>
                  <a:lnTo>
                    <a:pt x="3103" y="737"/>
                  </a:lnTo>
                  <a:lnTo>
                    <a:pt x="3094" y="740"/>
                  </a:lnTo>
                  <a:lnTo>
                    <a:pt x="3085" y="743"/>
                  </a:lnTo>
                  <a:lnTo>
                    <a:pt x="3077" y="746"/>
                  </a:lnTo>
                  <a:lnTo>
                    <a:pt x="3068" y="746"/>
                  </a:lnTo>
                  <a:lnTo>
                    <a:pt x="3059" y="752"/>
                  </a:lnTo>
                  <a:lnTo>
                    <a:pt x="3050" y="760"/>
                  </a:lnTo>
                  <a:lnTo>
                    <a:pt x="3050" y="769"/>
                  </a:lnTo>
                  <a:lnTo>
                    <a:pt x="3050" y="778"/>
                  </a:lnTo>
                  <a:lnTo>
                    <a:pt x="3056" y="786"/>
                  </a:lnTo>
                  <a:lnTo>
                    <a:pt x="3065" y="789"/>
                  </a:lnTo>
                  <a:lnTo>
                    <a:pt x="3074" y="795"/>
                  </a:lnTo>
                  <a:lnTo>
                    <a:pt x="3074" y="804"/>
                  </a:lnTo>
                  <a:lnTo>
                    <a:pt x="3062" y="806"/>
                  </a:lnTo>
                  <a:lnTo>
                    <a:pt x="3050" y="806"/>
                  </a:lnTo>
                  <a:lnTo>
                    <a:pt x="3053" y="798"/>
                  </a:lnTo>
                  <a:lnTo>
                    <a:pt x="3045" y="792"/>
                  </a:lnTo>
                  <a:lnTo>
                    <a:pt x="3036" y="798"/>
                  </a:lnTo>
                  <a:lnTo>
                    <a:pt x="3036" y="809"/>
                  </a:lnTo>
                  <a:lnTo>
                    <a:pt x="3036" y="818"/>
                  </a:lnTo>
                  <a:lnTo>
                    <a:pt x="3033" y="827"/>
                  </a:lnTo>
                  <a:lnTo>
                    <a:pt x="3030" y="835"/>
                  </a:lnTo>
                  <a:lnTo>
                    <a:pt x="3024" y="844"/>
                  </a:lnTo>
                  <a:lnTo>
                    <a:pt x="3016" y="853"/>
                  </a:lnTo>
                  <a:lnTo>
                    <a:pt x="3013" y="861"/>
                  </a:lnTo>
                  <a:lnTo>
                    <a:pt x="3021" y="864"/>
                  </a:lnTo>
                  <a:lnTo>
                    <a:pt x="3030" y="864"/>
                  </a:lnTo>
                  <a:lnTo>
                    <a:pt x="3033" y="873"/>
                  </a:lnTo>
                  <a:lnTo>
                    <a:pt x="3033" y="881"/>
                  </a:lnTo>
                  <a:lnTo>
                    <a:pt x="3042" y="890"/>
                  </a:lnTo>
                  <a:lnTo>
                    <a:pt x="3050" y="893"/>
                  </a:lnTo>
                  <a:lnTo>
                    <a:pt x="3062" y="893"/>
                  </a:lnTo>
                  <a:lnTo>
                    <a:pt x="3071" y="887"/>
                  </a:lnTo>
                  <a:lnTo>
                    <a:pt x="3080" y="887"/>
                  </a:lnTo>
                  <a:lnTo>
                    <a:pt x="3088" y="887"/>
                  </a:lnTo>
                  <a:lnTo>
                    <a:pt x="3085" y="896"/>
                  </a:lnTo>
                  <a:lnTo>
                    <a:pt x="3082" y="904"/>
                  </a:lnTo>
                  <a:lnTo>
                    <a:pt x="3080" y="913"/>
                  </a:lnTo>
                  <a:lnTo>
                    <a:pt x="3088" y="919"/>
                  </a:lnTo>
                  <a:lnTo>
                    <a:pt x="3088" y="927"/>
                  </a:lnTo>
                  <a:lnTo>
                    <a:pt x="3080" y="933"/>
                  </a:lnTo>
                  <a:lnTo>
                    <a:pt x="3077" y="942"/>
                  </a:lnTo>
                  <a:lnTo>
                    <a:pt x="3077" y="950"/>
                  </a:lnTo>
                  <a:lnTo>
                    <a:pt x="3074" y="959"/>
                  </a:lnTo>
                  <a:lnTo>
                    <a:pt x="3074" y="968"/>
                  </a:lnTo>
                  <a:lnTo>
                    <a:pt x="3077" y="959"/>
                  </a:lnTo>
                  <a:lnTo>
                    <a:pt x="3065" y="942"/>
                  </a:lnTo>
                  <a:lnTo>
                    <a:pt x="3071" y="962"/>
                  </a:lnTo>
                  <a:lnTo>
                    <a:pt x="3062" y="962"/>
                  </a:lnTo>
                  <a:lnTo>
                    <a:pt x="3074" y="968"/>
                  </a:lnTo>
                  <a:lnTo>
                    <a:pt x="3074" y="976"/>
                  </a:lnTo>
                  <a:lnTo>
                    <a:pt x="3059" y="976"/>
                  </a:lnTo>
                  <a:lnTo>
                    <a:pt x="3050" y="979"/>
                  </a:lnTo>
                  <a:lnTo>
                    <a:pt x="3039" y="979"/>
                  </a:lnTo>
                  <a:lnTo>
                    <a:pt x="3039" y="988"/>
                  </a:lnTo>
                  <a:lnTo>
                    <a:pt x="3048" y="991"/>
                  </a:lnTo>
                  <a:lnTo>
                    <a:pt x="3056" y="991"/>
                  </a:lnTo>
                  <a:lnTo>
                    <a:pt x="3065" y="997"/>
                  </a:lnTo>
                  <a:lnTo>
                    <a:pt x="3074" y="1005"/>
                  </a:lnTo>
                  <a:lnTo>
                    <a:pt x="3077" y="1014"/>
                  </a:lnTo>
                  <a:lnTo>
                    <a:pt x="3082" y="1023"/>
                  </a:lnTo>
                  <a:lnTo>
                    <a:pt x="3088" y="1031"/>
                  </a:lnTo>
                  <a:lnTo>
                    <a:pt x="3080" y="1034"/>
                  </a:lnTo>
                  <a:lnTo>
                    <a:pt x="3071" y="1034"/>
                  </a:lnTo>
                  <a:lnTo>
                    <a:pt x="3062" y="1040"/>
                  </a:lnTo>
                  <a:lnTo>
                    <a:pt x="3050" y="1043"/>
                  </a:lnTo>
                  <a:lnTo>
                    <a:pt x="3039" y="1046"/>
                  </a:lnTo>
                  <a:lnTo>
                    <a:pt x="3030" y="1046"/>
                  </a:lnTo>
                  <a:lnTo>
                    <a:pt x="3018" y="1046"/>
                  </a:lnTo>
                  <a:lnTo>
                    <a:pt x="3010" y="1037"/>
                  </a:lnTo>
                  <a:lnTo>
                    <a:pt x="3007" y="1028"/>
                  </a:lnTo>
                  <a:lnTo>
                    <a:pt x="3010" y="1020"/>
                  </a:lnTo>
                  <a:lnTo>
                    <a:pt x="3013" y="1011"/>
                  </a:lnTo>
                  <a:lnTo>
                    <a:pt x="3004" y="1011"/>
                  </a:lnTo>
                  <a:lnTo>
                    <a:pt x="2992" y="1008"/>
                  </a:lnTo>
                  <a:lnTo>
                    <a:pt x="2983" y="1008"/>
                  </a:lnTo>
                  <a:lnTo>
                    <a:pt x="2978" y="1017"/>
                  </a:lnTo>
                  <a:lnTo>
                    <a:pt x="2978" y="1025"/>
                  </a:lnTo>
                  <a:lnTo>
                    <a:pt x="2983" y="1034"/>
                  </a:lnTo>
                  <a:lnTo>
                    <a:pt x="2989" y="1043"/>
                  </a:lnTo>
                  <a:lnTo>
                    <a:pt x="2992" y="1051"/>
                  </a:lnTo>
                  <a:lnTo>
                    <a:pt x="3001" y="1054"/>
                  </a:lnTo>
                  <a:lnTo>
                    <a:pt x="3010" y="1060"/>
                  </a:lnTo>
                  <a:lnTo>
                    <a:pt x="3018" y="1063"/>
                  </a:lnTo>
                  <a:lnTo>
                    <a:pt x="3027" y="1063"/>
                  </a:lnTo>
                  <a:lnTo>
                    <a:pt x="3036" y="1060"/>
                  </a:lnTo>
                  <a:lnTo>
                    <a:pt x="3027" y="1060"/>
                  </a:lnTo>
                  <a:lnTo>
                    <a:pt x="3018" y="1057"/>
                  </a:lnTo>
                  <a:lnTo>
                    <a:pt x="3010" y="1054"/>
                  </a:lnTo>
                  <a:lnTo>
                    <a:pt x="3004" y="1046"/>
                  </a:lnTo>
                  <a:lnTo>
                    <a:pt x="2995" y="1040"/>
                  </a:lnTo>
                  <a:lnTo>
                    <a:pt x="2992" y="1031"/>
                  </a:lnTo>
                  <a:lnTo>
                    <a:pt x="2983" y="1023"/>
                  </a:lnTo>
                  <a:lnTo>
                    <a:pt x="2978" y="1014"/>
                  </a:lnTo>
                  <a:lnTo>
                    <a:pt x="2969" y="1005"/>
                  </a:lnTo>
                  <a:lnTo>
                    <a:pt x="2966" y="1014"/>
                  </a:lnTo>
                  <a:lnTo>
                    <a:pt x="2954" y="1023"/>
                  </a:lnTo>
                  <a:lnTo>
                    <a:pt x="2946" y="1023"/>
                  </a:lnTo>
                  <a:lnTo>
                    <a:pt x="2943" y="1034"/>
                  </a:lnTo>
                  <a:lnTo>
                    <a:pt x="2943" y="1043"/>
                  </a:lnTo>
                  <a:lnTo>
                    <a:pt x="2951" y="1051"/>
                  </a:lnTo>
                  <a:lnTo>
                    <a:pt x="2963" y="1051"/>
                  </a:lnTo>
                  <a:lnTo>
                    <a:pt x="2975" y="1054"/>
                  </a:lnTo>
                  <a:lnTo>
                    <a:pt x="2963" y="1051"/>
                  </a:lnTo>
                  <a:lnTo>
                    <a:pt x="2951" y="1046"/>
                  </a:lnTo>
                  <a:lnTo>
                    <a:pt x="2943" y="1043"/>
                  </a:lnTo>
                  <a:lnTo>
                    <a:pt x="2934" y="1051"/>
                  </a:lnTo>
                  <a:lnTo>
                    <a:pt x="2928" y="1060"/>
                  </a:lnTo>
                  <a:lnTo>
                    <a:pt x="2919" y="1060"/>
                  </a:lnTo>
                  <a:lnTo>
                    <a:pt x="2919" y="1069"/>
                  </a:lnTo>
                  <a:lnTo>
                    <a:pt x="2931" y="1077"/>
                  </a:lnTo>
                  <a:lnTo>
                    <a:pt x="2943" y="1086"/>
                  </a:lnTo>
                  <a:lnTo>
                    <a:pt x="2951" y="1089"/>
                  </a:lnTo>
                  <a:lnTo>
                    <a:pt x="2960" y="1089"/>
                  </a:lnTo>
                  <a:lnTo>
                    <a:pt x="2969" y="1089"/>
                  </a:lnTo>
                  <a:lnTo>
                    <a:pt x="2972" y="1080"/>
                  </a:lnTo>
                  <a:lnTo>
                    <a:pt x="2975" y="1072"/>
                  </a:lnTo>
                  <a:lnTo>
                    <a:pt x="2975" y="1063"/>
                  </a:lnTo>
                  <a:lnTo>
                    <a:pt x="2978" y="1054"/>
                  </a:lnTo>
                  <a:lnTo>
                    <a:pt x="2981" y="1063"/>
                  </a:lnTo>
                  <a:lnTo>
                    <a:pt x="2981" y="1072"/>
                  </a:lnTo>
                  <a:lnTo>
                    <a:pt x="2975" y="1080"/>
                  </a:lnTo>
                  <a:lnTo>
                    <a:pt x="2969" y="1089"/>
                  </a:lnTo>
                  <a:lnTo>
                    <a:pt x="2957" y="1089"/>
                  </a:lnTo>
                  <a:lnTo>
                    <a:pt x="2949" y="1089"/>
                  </a:lnTo>
                  <a:lnTo>
                    <a:pt x="2940" y="1097"/>
                  </a:lnTo>
                  <a:lnTo>
                    <a:pt x="2937" y="1106"/>
                  </a:lnTo>
                  <a:lnTo>
                    <a:pt x="2934" y="1115"/>
                  </a:lnTo>
                  <a:lnTo>
                    <a:pt x="2934" y="1123"/>
                  </a:lnTo>
                  <a:lnTo>
                    <a:pt x="2925" y="1129"/>
                  </a:lnTo>
                  <a:lnTo>
                    <a:pt x="2917" y="1135"/>
                  </a:lnTo>
                  <a:lnTo>
                    <a:pt x="2908" y="1138"/>
                  </a:lnTo>
                  <a:lnTo>
                    <a:pt x="2899" y="1138"/>
                  </a:lnTo>
                  <a:lnTo>
                    <a:pt x="2893" y="1129"/>
                  </a:lnTo>
                  <a:lnTo>
                    <a:pt x="2884" y="1129"/>
                  </a:lnTo>
                  <a:lnTo>
                    <a:pt x="2876" y="1129"/>
                  </a:lnTo>
                  <a:lnTo>
                    <a:pt x="2867" y="1135"/>
                  </a:lnTo>
                  <a:lnTo>
                    <a:pt x="2864" y="1144"/>
                  </a:lnTo>
                  <a:lnTo>
                    <a:pt x="2861" y="1152"/>
                  </a:lnTo>
                  <a:lnTo>
                    <a:pt x="2861" y="1161"/>
                  </a:lnTo>
                  <a:lnTo>
                    <a:pt x="2858" y="1170"/>
                  </a:lnTo>
                  <a:lnTo>
                    <a:pt x="2852" y="1178"/>
                  </a:lnTo>
                  <a:lnTo>
                    <a:pt x="2844" y="1181"/>
                  </a:lnTo>
                  <a:lnTo>
                    <a:pt x="2835" y="1181"/>
                  </a:lnTo>
                  <a:lnTo>
                    <a:pt x="2826" y="1184"/>
                  </a:lnTo>
                  <a:lnTo>
                    <a:pt x="2818" y="1175"/>
                  </a:lnTo>
                  <a:lnTo>
                    <a:pt x="2809" y="1167"/>
                  </a:lnTo>
                  <a:lnTo>
                    <a:pt x="2806" y="1175"/>
                  </a:lnTo>
                  <a:lnTo>
                    <a:pt x="2806" y="1184"/>
                  </a:lnTo>
                  <a:lnTo>
                    <a:pt x="2806" y="1193"/>
                  </a:lnTo>
                  <a:lnTo>
                    <a:pt x="2806" y="1204"/>
                  </a:lnTo>
                  <a:lnTo>
                    <a:pt x="2806" y="1213"/>
                  </a:lnTo>
                  <a:lnTo>
                    <a:pt x="2815" y="1213"/>
                  </a:lnTo>
                  <a:lnTo>
                    <a:pt x="2823" y="1216"/>
                  </a:lnTo>
                  <a:lnTo>
                    <a:pt x="2826" y="1224"/>
                  </a:lnTo>
                  <a:lnTo>
                    <a:pt x="2826" y="1233"/>
                  </a:lnTo>
                  <a:lnTo>
                    <a:pt x="2826" y="1242"/>
                  </a:lnTo>
                  <a:lnTo>
                    <a:pt x="2823" y="1250"/>
                  </a:lnTo>
                  <a:lnTo>
                    <a:pt x="2815" y="1253"/>
                  </a:lnTo>
                  <a:lnTo>
                    <a:pt x="2809" y="1262"/>
                  </a:lnTo>
                  <a:lnTo>
                    <a:pt x="2809" y="1270"/>
                  </a:lnTo>
                  <a:lnTo>
                    <a:pt x="2809" y="1279"/>
                  </a:lnTo>
                  <a:lnTo>
                    <a:pt x="2809" y="1288"/>
                  </a:lnTo>
                  <a:lnTo>
                    <a:pt x="2809" y="1279"/>
                  </a:lnTo>
                  <a:lnTo>
                    <a:pt x="2806" y="1270"/>
                  </a:lnTo>
                  <a:lnTo>
                    <a:pt x="2806" y="1262"/>
                  </a:lnTo>
                  <a:lnTo>
                    <a:pt x="2800" y="1253"/>
                  </a:lnTo>
                  <a:lnTo>
                    <a:pt x="2797" y="1244"/>
                  </a:lnTo>
                  <a:lnTo>
                    <a:pt x="2794" y="1236"/>
                  </a:lnTo>
                  <a:lnTo>
                    <a:pt x="2794" y="1227"/>
                  </a:lnTo>
                  <a:lnTo>
                    <a:pt x="2794" y="1218"/>
                  </a:lnTo>
                  <a:lnTo>
                    <a:pt x="2800" y="1210"/>
                  </a:lnTo>
                  <a:lnTo>
                    <a:pt x="2803" y="1201"/>
                  </a:lnTo>
                  <a:lnTo>
                    <a:pt x="2800" y="1193"/>
                  </a:lnTo>
                  <a:lnTo>
                    <a:pt x="2791" y="1187"/>
                  </a:lnTo>
                  <a:lnTo>
                    <a:pt x="2788" y="1178"/>
                  </a:lnTo>
                  <a:lnTo>
                    <a:pt x="2788" y="1170"/>
                  </a:lnTo>
                  <a:lnTo>
                    <a:pt x="2788" y="1161"/>
                  </a:lnTo>
                  <a:lnTo>
                    <a:pt x="2788" y="1152"/>
                  </a:lnTo>
                  <a:lnTo>
                    <a:pt x="2786" y="1144"/>
                  </a:lnTo>
                  <a:lnTo>
                    <a:pt x="2786" y="1135"/>
                  </a:lnTo>
                  <a:lnTo>
                    <a:pt x="2780" y="1126"/>
                  </a:lnTo>
                  <a:lnTo>
                    <a:pt x="2768" y="1121"/>
                  </a:lnTo>
                  <a:lnTo>
                    <a:pt x="2759" y="1115"/>
                  </a:lnTo>
                  <a:lnTo>
                    <a:pt x="2748" y="1112"/>
                  </a:lnTo>
                  <a:lnTo>
                    <a:pt x="2736" y="1109"/>
                  </a:lnTo>
                  <a:lnTo>
                    <a:pt x="2724" y="1106"/>
                  </a:lnTo>
                  <a:lnTo>
                    <a:pt x="2716" y="1106"/>
                  </a:lnTo>
                  <a:lnTo>
                    <a:pt x="2710" y="1115"/>
                  </a:lnTo>
                  <a:lnTo>
                    <a:pt x="2704" y="1123"/>
                  </a:lnTo>
                  <a:lnTo>
                    <a:pt x="2698" y="1132"/>
                  </a:lnTo>
                  <a:lnTo>
                    <a:pt x="2692" y="1126"/>
                  </a:lnTo>
                  <a:lnTo>
                    <a:pt x="2695" y="1112"/>
                  </a:lnTo>
                  <a:lnTo>
                    <a:pt x="2695" y="1121"/>
                  </a:lnTo>
                  <a:lnTo>
                    <a:pt x="2692" y="1129"/>
                  </a:lnTo>
                  <a:lnTo>
                    <a:pt x="2692" y="1138"/>
                  </a:lnTo>
                  <a:lnTo>
                    <a:pt x="2687" y="1146"/>
                  </a:lnTo>
                  <a:lnTo>
                    <a:pt x="2687" y="1155"/>
                  </a:lnTo>
                  <a:lnTo>
                    <a:pt x="2687" y="1164"/>
                  </a:lnTo>
                  <a:lnTo>
                    <a:pt x="2678" y="1167"/>
                  </a:lnTo>
                  <a:lnTo>
                    <a:pt x="2669" y="1167"/>
                  </a:lnTo>
                  <a:lnTo>
                    <a:pt x="2666" y="1158"/>
                  </a:lnTo>
                  <a:lnTo>
                    <a:pt x="2666" y="1149"/>
                  </a:lnTo>
                  <a:lnTo>
                    <a:pt x="2657" y="1146"/>
                  </a:lnTo>
                  <a:lnTo>
                    <a:pt x="2649" y="1152"/>
                  </a:lnTo>
                  <a:lnTo>
                    <a:pt x="2646" y="1141"/>
                  </a:lnTo>
                  <a:lnTo>
                    <a:pt x="2634" y="1135"/>
                  </a:lnTo>
                  <a:lnTo>
                    <a:pt x="2625" y="1135"/>
                  </a:lnTo>
                  <a:lnTo>
                    <a:pt x="2617" y="1135"/>
                  </a:lnTo>
                  <a:lnTo>
                    <a:pt x="2614" y="1144"/>
                  </a:lnTo>
                  <a:lnTo>
                    <a:pt x="2614" y="1152"/>
                  </a:lnTo>
                  <a:lnTo>
                    <a:pt x="2614" y="1161"/>
                  </a:lnTo>
                  <a:lnTo>
                    <a:pt x="2617" y="1170"/>
                  </a:lnTo>
                  <a:lnTo>
                    <a:pt x="2617" y="1178"/>
                  </a:lnTo>
                  <a:lnTo>
                    <a:pt x="2620" y="1187"/>
                  </a:lnTo>
                  <a:lnTo>
                    <a:pt x="2625" y="1195"/>
                  </a:lnTo>
                  <a:lnTo>
                    <a:pt x="2634" y="1201"/>
                  </a:lnTo>
                  <a:lnTo>
                    <a:pt x="2643" y="1201"/>
                  </a:lnTo>
                  <a:lnTo>
                    <a:pt x="2652" y="1201"/>
                  </a:lnTo>
                  <a:lnTo>
                    <a:pt x="2643" y="1201"/>
                  </a:lnTo>
                  <a:lnTo>
                    <a:pt x="2634" y="1207"/>
                  </a:lnTo>
                  <a:lnTo>
                    <a:pt x="2625" y="1216"/>
                  </a:lnTo>
                  <a:lnTo>
                    <a:pt x="2625" y="1224"/>
                  </a:lnTo>
                  <a:lnTo>
                    <a:pt x="2634" y="1224"/>
                  </a:lnTo>
                  <a:lnTo>
                    <a:pt x="2643" y="1230"/>
                  </a:lnTo>
                  <a:lnTo>
                    <a:pt x="2646" y="1242"/>
                  </a:lnTo>
                  <a:lnTo>
                    <a:pt x="2652" y="1253"/>
                  </a:lnTo>
                  <a:lnTo>
                    <a:pt x="2660" y="1259"/>
                  </a:lnTo>
                  <a:lnTo>
                    <a:pt x="2672" y="1265"/>
                  </a:lnTo>
                  <a:lnTo>
                    <a:pt x="2663" y="1262"/>
                  </a:lnTo>
                  <a:lnTo>
                    <a:pt x="2655" y="1256"/>
                  </a:lnTo>
                  <a:lnTo>
                    <a:pt x="2663" y="1250"/>
                  </a:lnTo>
                  <a:lnTo>
                    <a:pt x="2672" y="1250"/>
                  </a:lnTo>
                  <a:lnTo>
                    <a:pt x="2681" y="1253"/>
                  </a:lnTo>
                  <a:lnTo>
                    <a:pt x="2669" y="1256"/>
                  </a:lnTo>
                  <a:lnTo>
                    <a:pt x="2655" y="1256"/>
                  </a:lnTo>
                  <a:lnTo>
                    <a:pt x="2646" y="1247"/>
                  </a:lnTo>
                  <a:lnTo>
                    <a:pt x="2643" y="1236"/>
                  </a:lnTo>
                  <a:lnTo>
                    <a:pt x="2640" y="1227"/>
                  </a:lnTo>
                  <a:lnTo>
                    <a:pt x="2631" y="1227"/>
                  </a:lnTo>
                  <a:lnTo>
                    <a:pt x="2625" y="1236"/>
                  </a:lnTo>
                  <a:lnTo>
                    <a:pt x="2625" y="1247"/>
                  </a:lnTo>
                  <a:lnTo>
                    <a:pt x="2625" y="1259"/>
                  </a:lnTo>
                  <a:lnTo>
                    <a:pt x="2617" y="1259"/>
                  </a:lnTo>
                  <a:lnTo>
                    <a:pt x="2608" y="1256"/>
                  </a:lnTo>
                  <a:lnTo>
                    <a:pt x="2605" y="1247"/>
                  </a:lnTo>
                  <a:lnTo>
                    <a:pt x="2596" y="1253"/>
                  </a:lnTo>
                  <a:lnTo>
                    <a:pt x="2588" y="1262"/>
                  </a:lnTo>
                  <a:lnTo>
                    <a:pt x="2582" y="1270"/>
                  </a:lnTo>
                  <a:lnTo>
                    <a:pt x="2582" y="1279"/>
                  </a:lnTo>
                  <a:lnTo>
                    <a:pt x="2582" y="1288"/>
                  </a:lnTo>
                  <a:lnTo>
                    <a:pt x="2576" y="1296"/>
                  </a:lnTo>
                  <a:lnTo>
                    <a:pt x="2573" y="1305"/>
                  </a:lnTo>
                  <a:lnTo>
                    <a:pt x="2567" y="1314"/>
                  </a:lnTo>
                  <a:lnTo>
                    <a:pt x="2553" y="1311"/>
                  </a:lnTo>
                  <a:lnTo>
                    <a:pt x="2567" y="1305"/>
                  </a:lnTo>
                  <a:lnTo>
                    <a:pt x="2561" y="1314"/>
                  </a:lnTo>
                  <a:lnTo>
                    <a:pt x="2558" y="1322"/>
                  </a:lnTo>
                  <a:lnTo>
                    <a:pt x="2558" y="1331"/>
                  </a:lnTo>
                  <a:lnTo>
                    <a:pt x="2558" y="1340"/>
                  </a:lnTo>
                  <a:lnTo>
                    <a:pt x="2558" y="1348"/>
                  </a:lnTo>
                  <a:lnTo>
                    <a:pt x="2558" y="1360"/>
                  </a:lnTo>
                  <a:lnTo>
                    <a:pt x="2558" y="1368"/>
                  </a:lnTo>
                  <a:lnTo>
                    <a:pt x="2550" y="1380"/>
                  </a:lnTo>
                  <a:lnTo>
                    <a:pt x="2547" y="1389"/>
                  </a:lnTo>
                  <a:lnTo>
                    <a:pt x="2544" y="1397"/>
                  </a:lnTo>
                  <a:lnTo>
                    <a:pt x="2538" y="1406"/>
                  </a:lnTo>
                  <a:lnTo>
                    <a:pt x="2529" y="1412"/>
                  </a:lnTo>
                  <a:lnTo>
                    <a:pt x="2538" y="1414"/>
                  </a:lnTo>
                  <a:lnTo>
                    <a:pt x="2547" y="1414"/>
                  </a:lnTo>
                  <a:lnTo>
                    <a:pt x="2553" y="1406"/>
                  </a:lnTo>
                  <a:lnTo>
                    <a:pt x="2553" y="1397"/>
                  </a:lnTo>
                  <a:lnTo>
                    <a:pt x="2561" y="1391"/>
                  </a:lnTo>
                  <a:lnTo>
                    <a:pt x="2567" y="1400"/>
                  </a:lnTo>
                  <a:lnTo>
                    <a:pt x="2567" y="1412"/>
                  </a:lnTo>
                  <a:lnTo>
                    <a:pt x="2570" y="1420"/>
                  </a:lnTo>
                  <a:lnTo>
                    <a:pt x="2579" y="1429"/>
                  </a:lnTo>
                  <a:lnTo>
                    <a:pt x="2588" y="1435"/>
                  </a:lnTo>
                  <a:lnTo>
                    <a:pt x="2599" y="1435"/>
                  </a:lnTo>
                  <a:lnTo>
                    <a:pt x="2593" y="1426"/>
                  </a:lnTo>
                  <a:lnTo>
                    <a:pt x="2585" y="1417"/>
                  </a:lnTo>
                  <a:lnTo>
                    <a:pt x="2582" y="1406"/>
                  </a:lnTo>
                  <a:lnTo>
                    <a:pt x="2579" y="1397"/>
                  </a:lnTo>
                  <a:lnTo>
                    <a:pt x="2573" y="1406"/>
                  </a:lnTo>
                  <a:lnTo>
                    <a:pt x="2570" y="1414"/>
                  </a:lnTo>
                  <a:lnTo>
                    <a:pt x="2561" y="1426"/>
                  </a:lnTo>
                  <a:lnTo>
                    <a:pt x="2553" y="1432"/>
                  </a:lnTo>
                  <a:lnTo>
                    <a:pt x="2544" y="1432"/>
                  </a:lnTo>
                  <a:lnTo>
                    <a:pt x="2535" y="1432"/>
                  </a:lnTo>
                  <a:lnTo>
                    <a:pt x="2526" y="1432"/>
                  </a:lnTo>
                  <a:lnTo>
                    <a:pt x="2515" y="1438"/>
                  </a:lnTo>
                  <a:lnTo>
                    <a:pt x="2506" y="1443"/>
                  </a:lnTo>
                  <a:lnTo>
                    <a:pt x="2503" y="1452"/>
                  </a:lnTo>
                  <a:lnTo>
                    <a:pt x="2509" y="1461"/>
                  </a:lnTo>
                  <a:lnTo>
                    <a:pt x="2515" y="1472"/>
                  </a:lnTo>
                  <a:lnTo>
                    <a:pt x="2521" y="1484"/>
                  </a:lnTo>
                  <a:lnTo>
                    <a:pt x="2529" y="1489"/>
                  </a:lnTo>
                  <a:lnTo>
                    <a:pt x="2538" y="1495"/>
                  </a:lnTo>
                  <a:lnTo>
                    <a:pt x="2544" y="1504"/>
                  </a:lnTo>
                  <a:lnTo>
                    <a:pt x="2553" y="1507"/>
                  </a:lnTo>
                  <a:lnTo>
                    <a:pt x="2561" y="1507"/>
                  </a:lnTo>
                  <a:lnTo>
                    <a:pt x="2570" y="1510"/>
                  </a:lnTo>
                  <a:lnTo>
                    <a:pt x="2576" y="1518"/>
                  </a:lnTo>
                  <a:lnTo>
                    <a:pt x="2585" y="1527"/>
                  </a:lnTo>
                  <a:lnTo>
                    <a:pt x="2588" y="1535"/>
                  </a:lnTo>
                  <a:lnTo>
                    <a:pt x="2588" y="1544"/>
                  </a:lnTo>
                  <a:lnTo>
                    <a:pt x="2588" y="1556"/>
                  </a:lnTo>
                  <a:lnTo>
                    <a:pt x="2590" y="1564"/>
                  </a:lnTo>
                  <a:lnTo>
                    <a:pt x="2599" y="1564"/>
                  </a:lnTo>
                  <a:lnTo>
                    <a:pt x="2614" y="1567"/>
                  </a:lnTo>
                  <a:lnTo>
                    <a:pt x="2617" y="1576"/>
                  </a:lnTo>
                  <a:lnTo>
                    <a:pt x="2617" y="1584"/>
                  </a:lnTo>
                  <a:lnTo>
                    <a:pt x="2608" y="1587"/>
                  </a:lnTo>
                  <a:lnTo>
                    <a:pt x="2596" y="1579"/>
                  </a:lnTo>
                  <a:lnTo>
                    <a:pt x="2588" y="1570"/>
                  </a:lnTo>
                  <a:lnTo>
                    <a:pt x="2582" y="1561"/>
                  </a:lnTo>
                  <a:lnTo>
                    <a:pt x="2582" y="1553"/>
                  </a:lnTo>
                  <a:lnTo>
                    <a:pt x="2582" y="1541"/>
                  </a:lnTo>
                  <a:lnTo>
                    <a:pt x="2579" y="1533"/>
                  </a:lnTo>
                  <a:lnTo>
                    <a:pt x="2573" y="1524"/>
                  </a:lnTo>
                  <a:lnTo>
                    <a:pt x="2564" y="1515"/>
                  </a:lnTo>
                  <a:lnTo>
                    <a:pt x="2556" y="1512"/>
                  </a:lnTo>
                  <a:lnTo>
                    <a:pt x="2550" y="1521"/>
                  </a:lnTo>
                  <a:lnTo>
                    <a:pt x="2541" y="1521"/>
                  </a:lnTo>
                  <a:lnTo>
                    <a:pt x="2532" y="1515"/>
                  </a:lnTo>
                  <a:lnTo>
                    <a:pt x="2524" y="1510"/>
                  </a:lnTo>
                  <a:lnTo>
                    <a:pt x="2515" y="1507"/>
                  </a:lnTo>
                  <a:lnTo>
                    <a:pt x="2506" y="1504"/>
                  </a:lnTo>
                  <a:lnTo>
                    <a:pt x="2497" y="1504"/>
                  </a:lnTo>
                  <a:lnTo>
                    <a:pt x="2489" y="1504"/>
                  </a:lnTo>
                  <a:lnTo>
                    <a:pt x="2486" y="1512"/>
                  </a:lnTo>
                  <a:lnTo>
                    <a:pt x="2486" y="1521"/>
                  </a:lnTo>
                  <a:lnTo>
                    <a:pt x="2491" y="1530"/>
                  </a:lnTo>
                  <a:lnTo>
                    <a:pt x="2486" y="1538"/>
                  </a:lnTo>
                  <a:lnTo>
                    <a:pt x="2477" y="1538"/>
                  </a:lnTo>
                  <a:lnTo>
                    <a:pt x="2474" y="1547"/>
                  </a:lnTo>
                  <a:lnTo>
                    <a:pt x="2489" y="1550"/>
                  </a:lnTo>
                  <a:lnTo>
                    <a:pt x="2497" y="1553"/>
                  </a:lnTo>
                  <a:lnTo>
                    <a:pt x="2506" y="1553"/>
                  </a:lnTo>
                  <a:lnTo>
                    <a:pt x="2515" y="1559"/>
                  </a:lnTo>
                  <a:lnTo>
                    <a:pt x="2521" y="1570"/>
                  </a:lnTo>
                  <a:lnTo>
                    <a:pt x="2529" y="1576"/>
                  </a:lnTo>
                  <a:lnTo>
                    <a:pt x="2521" y="1567"/>
                  </a:lnTo>
                  <a:lnTo>
                    <a:pt x="2509" y="1561"/>
                  </a:lnTo>
                  <a:lnTo>
                    <a:pt x="2500" y="1559"/>
                  </a:lnTo>
                  <a:lnTo>
                    <a:pt x="2491" y="1567"/>
                  </a:lnTo>
                  <a:lnTo>
                    <a:pt x="2483" y="1570"/>
                  </a:lnTo>
                  <a:lnTo>
                    <a:pt x="2474" y="1570"/>
                  </a:lnTo>
                  <a:lnTo>
                    <a:pt x="2471" y="1561"/>
                  </a:lnTo>
                  <a:lnTo>
                    <a:pt x="2471" y="1553"/>
                  </a:lnTo>
                  <a:lnTo>
                    <a:pt x="2465" y="1544"/>
                  </a:lnTo>
                  <a:lnTo>
                    <a:pt x="2462" y="1535"/>
                  </a:lnTo>
                  <a:lnTo>
                    <a:pt x="2459" y="1524"/>
                  </a:lnTo>
                  <a:lnTo>
                    <a:pt x="2457" y="1515"/>
                  </a:lnTo>
                  <a:lnTo>
                    <a:pt x="2448" y="1510"/>
                  </a:lnTo>
                  <a:lnTo>
                    <a:pt x="2439" y="1504"/>
                  </a:lnTo>
                  <a:lnTo>
                    <a:pt x="2439" y="1512"/>
                  </a:lnTo>
                  <a:lnTo>
                    <a:pt x="2439" y="1521"/>
                  </a:lnTo>
                  <a:lnTo>
                    <a:pt x="2439" y="1530"/>
                  </a:lnTo>
                  <a:lnTo>
                    <a:pt x="2439" y="1538"/>
                  </a:lnTo>
                  <a:lnTo>
                    <a:pt x="2439" y="1547"/>
                  </a:lnTo>
                  <a:lnTo>
                    <a:pt x="2439" y="1556"/>
                  </a:lnTo>
                  <a:lnTo>
                    <a:pt x="2442" y="1564"/>
                  </a:lnTo>
                  <a:lnTo>
                    <a:pt x="2436" y="1573"/>
                  </a:lnTo>
                  <a:lnTo>
                    <a:pt x="2433" y="1582"/>
                  </a:lnTo>
                  <a:lnTo>
                    <a:pt x="2430" y="1590"/>
                  </a:lnTo>
                  <a:lnTo>
                    <a:pt x="2433" y="1599"/>
                  </a:lnTo>
                  <a:lnTo>
                    <a:pt x="2442" y="1602"/>
                  </a:lnTo>
                  <a:lnTo>
                    <a:pt x="2451" y="1605"/>
                  </a:lnTo>
                  <a:lnTo>
                    <a:pt x="2459" y="1608"/>
                  </a:lnTo>
                  <a:lnTo>
                    <a:pt x="2465" y="1616"/>
                  </a:lnTo>
                  <a:lnTo>
                    <a:pt x="2474" y="1628"/>
                  </a:lnTo>
                  <a:lnTo>
                    <a:pt x="2474" y="1636"/>
                  </a:lnTo>
                  <a:lnTo>
                    <a:pt x="2474" y="1648"/>
                  </a:lnTo>
                  <a:lnTo>
                    <a:pt x="2474" y="1657"/>
                  </a:lnTo>
                  <a:lnTo>
                    <a:pt x="2474" y="1665"/>
                  </a:lnTo>
                  <a:lnTo>
                    <a:pt x="2474" y="1674"/>
                  </a:lnTo>
                  <a:lnTo>
                    <a:pt x="2483" y="1680"/>
                  </a:lnTo>
                  <a:lnTo>
                    <a:pt x="2491" y="1682"/>
                  </a:lnTo>
                  <a:lnTo>
                    <a:pt x="2500" y="1682"/>
                  </a:lnTo>
                  <a:lnTo>
                    <a:pt x="2509" y="1680"/>
                  </a:lnTo>
                  <a:lnTo>
                    <a:pt x="2515" y="1671"/>
                  </a:lnTo>
                  <a:lnTo>
                    <a:pt x="2524" y="1671"/>
                  </a:lnTo>
                  <a:lnTo>
                    <a:pt x="2532" y="1668"/>
                  </a:lnTo>
                  <a:lnTo>
                    <a:pt x="2541" y="1671"/>
                  </a:lnTo>
                  <a:lnTo>
                    <a:pt x="2544" y="1680"/>
                  </a:lnTo>
                  <a:lnTo>
                    <a:pt x="2547" y="1688"/>
                  </a:lnTo>
                  <a:lnTo>
                    <a:pt x="2547" y="1697"/>
                  </a:lnTo>
                  <a:lnTo>
                    <a:pt x="2547" y="1706"/>
                  </a:lnTo>
                  <a:lnTo>
                    <a:pt x="2556" y="1714"/>
                  </a:lnTo>
                  <a:lnTo>
                    <a:pt x="2564" y="1720"/>
                  </a:lnTo>
                  <a:lnTo>
                    <a:pt x="2576" y="1726"/>
                  </a:lnTo>
                  <a:lnTo>
                    <a:pt x="2588" y="1726"/>
                  </a:lnTo>
                  <a:lnTo>
                    <a:pt x="2596" y="1726"/>
                  </a:lnTo>
                  <a:lnTo>
                    <a:pt x="2588" y="1723"/>
                  </a:lnTo>
                  <a:lnTo>
                    <a:pt x="2579" y="1720"/>
                  </a:lnTo>
                  <a:lnTo>
                    <a:pt x="2570" y="1717"/>
                  </a:lnTo>
                  <a:lnTo>
                    <a:pt x="2567" y="1708"/>
                  </a:lnTo>
                  <a:lnTo>
                    <a:pt x="2564" y="1697"/>
                  </a:lnTo>
                  <a:lnTo>
                    <a:pt x="2564" y="1688"/>
                  </a:lnTo>
                  <a:lnTo>
                    <a:pt x="2561" y="1680"/>
                  </a:lnTo>
                  <a:lnTo>
                    <a:pt x="2550" y="1671"/>
                  </a:lnTo>
                  <a:lnTo>
                    <a:pt x="2538" y="1665"/>
                  </a:lnTo>
                  <a:lnTo>
                    <a:pt x="2529" y="1662"/>
                  </a:lnTo>
                  <a:lnTo>
                    <a:pt x="2521" y="1659"/>
                  </a:lnTo>
                  <a:lnTo>
                    <a:pt x="2512" y="1662"/>
                  </a:lnTo>
                  <a:lnTo>
                    <a:pt x="2506" y="1671"/>
                  </a:lnTo>
                  <a:lnTo>
                    <a:pt x="2506" y="1680"/>
                  </a:lnTo>
                  <a:lnTo>
                    <a:pt x="2503" y="1688"/>
                  </a:lnTo>
                  <a:lnTo>
                    <a:pt x="2500" y="1697"/>
                  </a:lnTo>
                  <a:lnTo>
                    <a:pt x="2500" y="1706"/>
                  </a:lnTo>
                  <a:lnTo>
                    <a:pt x="2500" y="1714"/>
                  </a:lnTo>
                  <a:lnTo>
                    <a:pt x="2509" y="1723"/>
                  </a:lnTo>
                  <a:lnTo>
                    <a:pt x="2509" y="1731"/>
                  </a:lnTo>
                  <a:lnTo>
                    <a:pt x="2509" y="1740"/>
                  </a:lnTo>
                  <a:lnTo>
                    <a:pt x="2509" y="1749"/>
                  </a:lnTo>
                  <a:lnTo>
                    <a:pt x="2509" y="1757"/>
                  </a:lnTo>
                  <a:lnTo>
                    <a:pt x="2509" y="1766"/>
                  </a:lnTo>
                  <a:lnTo>
                    <a:pt x="2509" y="1775"/>
                  </a:lnTo>
                  <a:lnTo>
                    <a:pt x="2509" y="1783"/>
                  </a:lnTo>
                  <a:lnTo>
                    <a:pt x="2506" y="1772"/>
                  </a:lnTo>
                  <a:lnTo>
                    <a:pt x="2515" y="1757"/>
                  </a:lnTo>
                  <a:lnTo>
                    <a:pt x="2509" y="1766"/>
                  </a:lnTo>
                  <a:lnTo>
                    <a:pt x="2506" y="1775"/>
                  </a:lnTo>
                  <a:lnTo>
                    <a:pt x="2503" y="1783"/>
                  </a:lnTo>
                  <a:lnTo>
                    <a:pt x="2497" y="1792"/>
                  </a:lnTo>
                  <a:lnTo>
                    <a:pt x="2494" y="1801"/>
                  </a:lnTo>
                  <a:lnTo>
                    <a:pt x="2494" y="1809"/>
                  </a:lnTo>
                  <a:lnTo>
                    <a:pt x="2494" y="1818"/>
                  </a:lnTo>
                  <a:lnTo>
                    <a:pt x="2483" y="1824"/>
                  </a:lnTo>
                  <a:lnTo>
                    <a:pt x="2465" y="1824"/>
                  </a:lnTo>
                  <a:lnTo>
                    <a:pt x="2457" y="1821"/>
                  </a:lnTo>
                  <a:lnTo>
                    <a:pt x="2448" y="1812"/>
                  </a:lnTo>
                  <a:lnTo>
                    <a:pt x="2439" y="1809"/>
                  </a:lnTo>
                  <a:lnTo>
                    <a:pt x="2430" y="1809"/>
                  </a:lnTo>
                  <a:lnTo>
                    <a:pt x="2427" y="1798"/>
                  </a:lnTo>
                  <a:lnTo>
                    <a:pt x="2439" y="1795"/>
                  </a:lnTo>
                  <a:lnTo>
                    <a:pt x="2454" y="1792"/>
                  </a:lnTo>
                  <a:lnTo>
                    <a:pt x="2462" y="1792"/>
                  </a:lnTo>
                  <a:lnTo>
                    <a:pt x="2471" y="1792"/>
                  </a:lnTo>
                  <a:lnTo>
                    <a:pt x="2477" y="1783"/>
                  </a:lnTo>
                  <a:lnTo>
                    <a:pt x="2480" y="1775"/>
                  </a:lnTo>
                  <a:lnTo>
                    <a:pt x="2480" y="1766"/>
                  </a:lnTo>
                  <a:lnTo>
                    <a:pt x="2483" y="1757"/>
                  </a:lnTo>
                  <a:lnTo>
                    <a:pt x="2486" y="1749"/>
                  </a:lnTo>
                  <a:lnTo>
                    <a:pt x="2489" y="1740"/>
                  </a:lnTo>
                  <a:lnTo>
                    <a:pt x="2491" y="1731"/>
                  </a:lnTo>
                  <a:lnTo>
                    <a:pt x="2489" y="1723"/>
                  </a:lnTo>
                  <a:lnTo>
                    <a:pt x="2489" y="1714"/>
                  </a:lnTo>
                  <a:lnTo>
                    <a:pt x="2480" y="1708"/>
                  </a:lnTo>
                  <a:lnTo>
                    <a:pt x="2474" y="1700"/>
                  </a:lnTo>
                  <a:lnTo>
                    <a:pt x="2468" y="1691"/>
                  </a:lnTo>
                  <a:lnTo>
                    <a:pt x="2465" y="1682"/>
                  </a:lnTo>
                  <a:lnTo>
                    <a:pt x="2459" y="1674"/>
                  </a:lnTo>
                  <a:lnTo>
                    <a:pt x="2454" y="1665"/>
                  </a:lnTo>
                  <a:lnTo>
                    <a:pt x="2454" y="1657"/>
                  </a:lnTo>
                  <a:lnTo>
                    <a:pt x="2454" y="1648"/>
                  </a:lnTo>
                  <a:lnTo>
                    <a:pt x="2454" y="1639"/>
                  </a:lnTo>
                  <a:lnTo>
                    <a:pt x="2451" y="1631"/>
                  </a:lnTo>
                  <a:lnTo>
                    <a:pt x="2448" y="1622"/>
                  </a:lnTo>
                  <a:lnTo>
                    <a:pt x="2442" y="1613"/>
                  </a:lnTo>
                  <a:lnTo>
                    <a:pt x="2433" y="1608"/>
                  </a:lnTo>
                  <a:lnTo>
                    <a:pt x="2427" y="1599"/>
                  </a:lnTo>
                  <a:lnTo>
                    <a:pt x="2422" y="1590"/>
                  </a:lnTo>
                  <a:lnTo>
                    <a:pt x="2419" y="1582"/>
                  </a:lnTo>
                  <a:lnTo>
                    <a:pt x="2419" y="1573"/>
                  </a:lnTo>
                  <a:lnTo>
                    <a:pt x="2416" y="1564"/>
                  </a:lnTo>
                  <a:lnTo>
                    <a:pt x="2416" y="1556"/>
                  </a:lnTo>
                  <a:lnTo>
                    <a:pt x="2416" y="1547"/>
                  </a:lnTo>
                  <a:lnTo>
                    <a:pt x="2416" y="1538"/>
                  </a:lnTo>
                  <a:lnTo>
                    <a:pt x="2416" y="1530"/>
                  </a:lnTo>
                  <a:lnTo>
                    <a:pt x="2407" y="1521"/>
                  </a:lnTo>
                  <a:lnTo>
                    <a:pt x="2395" y="1518"/>
                  </a:lnTo>
                  <a:lnTo>
                    <a:pt x="2390" y="1510"/>
                  </a:lnTo>
                  <a:lnTo>
                    <a:pt x="2390" y="1501"/>
                  </a:lnTo>
                  <a:lnTo>
                    <a:pt x="2381" y="1498"/>
                  </a:lnTo>
                  <a:lnTo>
                    <a:pt x="2390" y="1504"/>
                  </a:lnTo>
                  <a:lnTo>
                    <a:pt x="2381" y="1510"/>
                  </a:lnTo>
                  <a:lnTo>
                    <a:pt x="2372" y="1515"/>
                  </a:lnTo>
                  <a:lnTo>
                    <a:pt x="2372" y="1524"/>
                  </a:lnTo>
                  <a:lnTo>
                    <a:pt x="2366" y="1533"/>
                  </a:lnTo>
                  <a:lnTo>
                    <a:pt x="2366" y="1541"/>
                  </a:lnTo>
                  <a:lnTo>
                    <a:pt x="2366" y="1550"/>
                  </a:lnTo>
                  <a:lnTo>
                    <a:pt x="2366" y="1559"/>
                  </a:lnTo>
                  <a:lnTo>
                    <a:pt x="2366" y="1567"/>
                  </a:lnTo>
                  <a:lnTo>
                    <a:pt x="2363" y="1576"/>
                  </a:lnTo>
                  <a:lnTo>
                    <a:pt x="2360" y="1584"/>
                  </a:lnTo>
                  <a:lnTo>
                    <a:pt x="2358" y="1593"/>
                  </a:lnTo>
                  <a:lnTo>
                    <a:pt x="2352" y="1602"/>
                  </a:lnTo>
                  <a:lnTo>
                    <a:pt x="2349" y="1610"/>
                  </a:lnTo>
                  <a:lnTo>
                    <a:pt x="2346" y="1619"/>
                  </a:lnTo>
                  <a:lnTo>
                    <a:pt x="2346" y="1628"/>
                  </a:lnTo>
                  <a:lnTo>
                    <a:pt x="2346" y="1636"/>
                  </a:lnTo>
                  <a:lnTo>
                    <a:pt x="2355" y="1639"/>
                  </a:lnTo>
                  <a:lnTo>
                    <a:pt x="2363" y="1639"/>
                  </a:lnTo>
                  <a:lnTo>
                    <a:pt x="2372" y="1636"/>
                  </a:lnTo>
                  <a:lnTo>
                    <a:pt x="2372" y="1645"/>
                  </a:lnTo>
                  <a:lnTo>
                    <a:pt x="2372" y="1654"/>
                  </a:lnTo>
                  <a:lnTo>
                    <a:pt x="2372" y="1662"/>
                  </a:lnTo>
                  <a:lnTo>
                    <a:pt x="2372" y="1671"/>
                  </a:lnTo>
                  <a:lnTo>
                    <a:pt x="2372" y="1682"/>
                  </a:lnTo>
                  <a:lnTo>
                    <a:pt x="2369" y="1691"/>
                  </a:lnTo>
                  <a:lnTo>
                    <a:pt x="2378" y="1697"/>
                  </a:lnTo>
                  <a:lnTo>
                    <a:pt x="2381" y="1706"/>
                  </a:lnTo>
                  <a:lnTo>
                    <a:pt x="2390" y="1711"/>
                  </a:lnTo>
                  <a:lnTo>
                    <a:pt x="2401" y="1714"/>
                  </a:lnTo>
                  <a:lnTo>
                    <a:pt x="2404" y="1723"/>
                  </a:lnTo>
                  <a:lnTo>
                    <a:pt x="2404" y="1731"/>
                  </a:lnTo>
                  <a:lnTo>
                    <a:pt x="2404" y="1740"/>
                  </a:lnTo>
                  <a:lnTo>
                    <a:pt x="2404" y="1749"/>
                  </a:lnTo>
                  <a:lnTo>
                    <a:pt x="2395" y="1743"/>
                  </a:lnTo>
                  <a:lnTo>
                    <a:pt x="2393" y="1734"/>
                  </a:lnTo>
                  <a:lnTo>
                    <a:pt x="2387" y="1723"/>
                  </a:lnTo>
                  <a:lnTo>
                    <a:pt x="2381" y="1714"/>
                  </a:lnTo>
                  <a:lnTo>
                    <a:pt x="2372" y="1711"/>
                  </a:lnTo>
                  <a:lnTo>
                    <a:pt x="2363" y="1708"/>
                  </a:lnTo>
                  <a:lnTo>
                    <a:pt x="2355" y="1708"/>
                  </a:lnTo>
                  <a:lnTo>
                    <a:pt x="2340" y="1706"/>
                  </a:lnTo>
                  <a:lnTo>
                    <a:pt x="2328" y="1703"/>
                  </a:lnTo>
                  <a:lnTo>
                    <a:pt x="2320" y="1697"/>
                  </a:lnTo>
                  <a:lnTo>
                    <a:pt x="2311" y="1694"/>
                  </a:lnTo>
                  <a:lnTo>
                    <a:pt x="2302" y="1691"/>
                  </a:lnTo>
                  <a:lnTo>
                    <a:pt x="2294" y="1688"/>
                  </a:lnTo>
                  <a:lnTo>
                    <a:pt x="2285" y="1685"/>
                  </a:lnTo>
                  <a:lnTo>
                    <a:pt x="2276" y="1685"/>
                  </a:lnTo>
                  <a:lnTo>
                    <a:pt x="2267" y="1685"/>
                  </a:lnTo>
                  <a:lnTo>
                    <a:pt x="2273" y="1680"/>
                  </a:lnTo>
                  <a:lnTo>
                    <a:pt x="2262" y="1671"/>
                  </a:lnTo>
                  <a:lnTo>
                    <a:pt x="2262" y="1662"/>
                  </a:lnTo>
                  <a:lnTo>
                    <a:pt x="2256" y="1671"/>
                  </a:lnTo>
                  <a:lnTo>
                    <a:pt x="2247" y="1671"/>
                  </a:lnTo>
                  <a:lnTo>
                    <a:pt x="2235" y="1671"/>
                  </a:lnTo>
                  <a:lnTo>
                    <a:pt x="2227" y="1668"/>
                  </a:lnTo>
                  <a:lnTo>
                    <a:pt x="2227" y="1659"/>
                  </a:lnTo>
                  <a:lnTo>
                    <a:pt x="2221" y="1668"/>
                  </a:lnTo>
                  <a:lnTo>
                    <a:pt x="2221" y="1677"/>
                  </a:lnTo>
                  <a:lnTo>
                    <a:pt x="2232" y="1680"/>
                  </a:lnTo>
                  <a:lnTo>
                    <a:pt x="2241" y="1682"/>
                  </a:lnTo>
                  <a:lnTo>
                    <a:pt x="2244" y="1691"/>
                  </a:lnTo>
                  <a:lnTo>
                    <a:pt x="2247" y="1700"/>
                  </a:lnTo>
                  <a:lnTo>
                    <a:pt x="2250" y="1708"/>
                  </a:lnTo>
                  <a:lnTo>
                    <a:pt x="2259" y="1711"/>
                  </a:lnTo>
                  <a:lnTo>
                    <a:pt x="2262" y="1720"/>
                  </a:lnTo>
                  <a:lnTo>
                    <a:pt x="2262" y="1729"/>
                  </a:lnTo>
                  <a:lnTo>
                    <a:pt x="2262" y="1737"/>
                  </a:lnTo>
                  <a:lnTo>
                    <a:pt x="2253" y="1743"/>
                  </a:lnTo>
                  <a:lnTo>
                    <a:pt x="2250" y="1752"/>
                  </a:lnTo>
                  <a:lnTo>
                    <a:pt x="2250" y="1760"/>
                  </a:lnTo>
                  <a:lnTo>
                    <a:pt x="2244" y="1752"/>
                  </a:lnTo>
                  <a:lnTo>
                    <a:pt x="2241" y="1743"/>
                  </a:lnTo>
                  <a:lnTo>
                    <a:pt x="2232" y="1743"/>
                  </a:lnTo>
                  <a:lnTo>
                    <a:pt x="2232" y="1734"/>
                  </a:lnTo>
                  <a:lnTo>
                    <a:pt x="2221" y="1729"/>
                  </a:lnTo>
                  <a:lnTo>
                    <a:pt x="2209" y="1731"/>
                  </a:lnTo>
                  <a:lnTo>
                    <a:pt x="2200" y="1734"/>
                  </a:lnTo>
                  <a:lnTo>
                    <a:pt x="2192" y="1737"/>
                  </a:lnTo>
                  <a:lnTo>
                    <a:pt x="2183" y="1746"/>
                  </a:lnTo>
                  <a:lnTo>
                    <a:pt x="2177" y="1755"/>
                  </a:lnTo>
                  <a:lnTo>
                    <a:pt x="2168" y="1755"/>
                  </a:lnTo>
                  <a:lnTo>
                    <a:pt x="2160" y="1760"/>
                  </a:lnTo>
                  <a:lnTo>
                    <a:pt x="2151" y="1769"/>
                  </a:lnTo>
                  <a:lnTo>
                    <a:pt x="2142" y="1772"/>
                  </a:lnTo>
                  <a:lnTo>
                    <a:pt x="2133" y="1772"/>
                  </a:lnTo>
                  <a:lnTo>
                    <a:pt x="2133" y="1763"/>
                  </a:lnTo>
                  <a:lnTo>
                    <a:pt x="2142" y="1755"/>
                  </a:lnTo>
                  <a:lnTo>
                    <a:pt x="2151" y="1752"/>
                  </a:lnTo>
                  <a:lnTo>
                    <a:pt x="2160" y="1749"/>
                  </a:lnTo>
                  <a:lnTo>
                    <a:pt x="2160" y="1737"/>
                  </a:lnTo>
                  <a:lnTo>
                    <a:pt x="2154" y="1729"/>
                  </a:lnTo>
                  <a:lnTo>
                    <a:pt x="2145" y="1729"/>
                  </a:lnTo>
                  <a:lnTo>
                    <a:pt x="2136" y="1734"/>
                  </a:lnTo>
                  <a:lnTo>
                    <a:pt x="2128" y="1740"/>
                  </a:lnTo>
                  <a:lnTo>
                    <a:pt x="2122" y="1749"/>
                  </a:lnTo>
                  <a:lnTo>
                    <a:pt x="2113" y="1755"/>
                  </a:lnTo>
                  <a:lnTo>
                    <a:pt x="2104" y="1757"/>
                  </a:lnTo>
                  <a:lnTo>
                    <a:pt x="2096" y="1763"/>
                  </a:lnTo>
                  <a:lnTo>
                    <a:pt x="2087" y="1763"/>
                  </a:lnTo>
                  <a:lnTo>
                    <a:pt x="2078" y="1766"/>
                  </a:lnTo>
                  <a:lnTo>
                    <a:pt x="2069" y="1769"/>
                  </a:lnTo>
                  <a:lnTo>
                    <a:pt x="2061" y="1772"/>
                  </a:lnTo>
                  <a:lnTo>
                    <a:pt x="2055" y="1780"/>
                  </a:lnTo>
                  <a:lnTo>
                    <a:pt x="2052" y="1789"/>
                  </a:lnTo>
                  <a:lnTo>
                    <a:pt x="2040" y="1792"/>
                  </a:lnTo>
                  <a:lnTo>
                    <a:pt x="2034" y="1801"/>
                  </a:lnTo>
                  <a:lnTo>
                    <a:pt x="2034" y="1809"/>
                  </a:lnTo>
                  <a:lnTo>
                    <a:pt x="2029" y="1818"/>
                  </a:lnTo>
                  <a:lnTo>
                    <a:pt x="2020" y="1824"/>
                  </a:lnTo>
                  <a:lnTo>
                    <a:pt x="2011" y="1827"/>
                  </a:lnTo>
                  <a:lnTo>
                    <a:pt x="2008" y="1815"/>
                  </a:lnTo>
                  <a:lnTo>
                    <a:pt x="2005" y="1806"/>
                  </a:lnTo>
                  <a:lnTo>
                    <a:pt x="2005" y="1798"/>
                  </a:lnTo>
                  <a:lnTo>
                    <a:pt x="1997" y="1789"/>
                  </a:lnTo>
                  <a:lnTo>
                    <a:pt x="1988" y="1780"/>
                  </a:lnTo>
                  <a:lnTo>
                    <a:pt x="1999" y="1780"/>
                  </a:lnTo>
                  <a:lnTo>
                    <a:pt x="2011" y="1778"/>
                  </a:lnTo>
                  <a:lnTo>
                    <a:pt x="2020" y="1775"/>
                  </a:lnTo>
                  <a:lnTo>
                    <a:pt x="2020" y="1766"/>
                  </a:lnTo>
                  <a:lnTo>
                    <a:pt x="2023" y="1757"/>
                  </a:lnTo>
                  <a:lnTo>
                    <a:pt x="2023" y="1749"/>
                  </a:lnTo>
                  <a:lnTo>
                    <a:pt x="2014" y="1743"/>
                  </a:lnTo>
                  <a:lnTo>
                    <a:pt x="2005" y="1740"/>
                  </a:lnTo>
                  <a:lnTo>
                    <a:pt x="1994" y="1740"/>
                  </a:lnTo>
                  <a:lnTo>
                    <a:pt x="1985" y="1737"/>
                  </a:lnTo>
                  <a:lnTo>
                    <a:pt x="1976" y="1731"/>
                  </a:lnTo>
                  <a:lnTo>
                    <a:pt x="1967" y="1729"/>
                  </a:lnTo>
                  <a:lnTo>
                    <a:pt x="1967" y="1737"/>
                  </a:lnTo>
                  <a:lnTo>
                    <a:pt x="1970" y="1746"/>
                  </a:lnTo>
                  <a:lnTo>
                    <a:pt x="1976" y="1755"/>
                  </a:lnTo>
                  <a:lnTo>
                    <a:pt x="1976" y="1763"/>
                  </a:lnTo>
                  <a:lnTo>
                    <a:pt x="1976" y="1772"/>
                  </a:lnTo>
                  <a:lnTo>
                    <a:pt x="1973" y="1780"/>
                  </a:lnTo>
                  <a:lnTo>
                    <a:pt x="1965" y="1789"/>
                  </a:lnTo>
                  <a:lnTo>
                    <a:pt x="1956" y="1795"/>
                  </a:lnTo>
                  <a:lnTo>
                    <a:pt x="1953" y="1803"/>
                  </a:lnTo>
                  <a:lnTo>
                    <a:pt x="1962" y="1806"/>
                  </a:lnTo>
                  <a:lnTo>
                    <a:pt x="1970" y="1806"/>
                  </a:lnTo>
                  <a:lnTo>
                    <a:pt x="1979" y="1806"/>
                  </a:lnTo>
                  <a:lnTo>
                    <a:pt x="1982" y="1815"/>
                  </a:lnTo>
                  <a:lnTo>
                    <a:pt x="1976" y="1824"/>
                  </a:lnTo>
                  <a:lnTo>
                    <a:pt x="1965" y="1832"/>
                  </a:lnTo>
                  <a:lnTo>
                    <a:pt x="1959" y="1841"/>
                  </a:lnTo>
                  <a:lnTo>
                    <a:pt x="1959" y="1850"/>
                  </a:lnTo>
                  <a:lnTo>
                    <a:pt x="1947" y="1838"/>
                  </a:lnTo>
                  <a:lnTo>
                    <a:pt x="1938" y="1835"/>
                  </a:lnTo>
                  <a:lnTo>
                    <a:pt x="1933" y="1827"/>
                  </a:lnTo>
                  <a:lnTo>
                    <a:pt x="1924" y="1821"/>
                  </a:lnTo>
                  <a:lnTo>
                    <a:pt x="1915" y="1821"/>
                  </a:lnTo>
                  <a:lnTo>
                    <a:pt x="1906" y="1829"/>
                  </a:lnTo>
                  <a:lnTo>
                    <a:pt x="1898" y="1835"/>
                  </a:lnTo>
                  <a:lnTo>
                    <a:pt x="1889" y="1838"/>
                  </a:lnTo>
                  <a:lnTo>
                    <a:pt x="1880" y="1841"/>
                  </a:lnTo>
                  <a:lnTo>
                    <a:pt x="1874" y="1850"/>
                  </a:lnTo>
                  <a:lnTo>
                    <a:pt x="1871" y="1858"/>
                  </a:lnTo>
                  <a:lnTo>
                    <a:pt x="1868" y="1867"/>
                  </a:lnTo>
                  <a:lnTo>
                    <a:pt x="1868" y="1876"/>
                  </a:lnTo>
                  <a:lnTo>
                    <a:pt x="1868" y="1884"/>
                  </a:lnTo>
                  <a:lnTo>
                    <a:pt x="1868" y="1893"/>
                  </a:lnTo>
                  <a:lnTo>
                    <a:pt x="1868" y="1901"/>
                  </a:lnTo>
                  <a:lnTo>
                    <a:pt x="1860" y="1907"/>
                  </a:lnTo>
                  <a:lnTo>
                    <a:pt x="1848" y="1901"/>
                  </a:lnTo>
                  <a:lnTo>
                    <a:pt x="1845" y="1893"/>
                  </a:lnTo>
                  <a:lnTo>
                    <a:pt x="1839" y="1884"/>
                  </a:lnTo>
                  <a:lnTo>
                    <a:pt x="1831" y="1876"/>
                  </a:lnTo>
                  <a:lnTo>
                    <a:pt x="1822" y="1870"/>
                  </a:lnTo>
                  <a:lnTo>
                    <a:pt x="1813" y="1867"/>
                  </a:lnTo>
                  <a:lnTo>
                    <a:pt x="1804" y="1867"/>
                  </a:lnTo>
                  <a:lnTo>
                    <a:pt x="1799" y="1876"/>
                  </a:lnTo>
                  <a:lnTo>
                    <a:pt x="1796" y="1884"/>
                  </a:lnTo>
                  <a:lnTo>
                    <a:pt x="1796" y="1893"/>
                  </a:lnTo>
                  <a:lnTo>
                    <a:pt x="1804" y="1899"/>
                  </a:lnTo>
                  <a:lnTo>
                    <a:pt x="1816" y="1901"/>
                  </a:lnTo>
                  <a:lnTo>
                    <a:pt x="1819" y="1910"/>
                  </a:lnTo>
                  <a:lnTo>
                    <a:pt x="1807" y="1910"/>
                  </a:lnTo>
                  <a:lnTo>
                    <a:pt x="1819" y="1893"/>
                  </a:lnTo>
                  <a:lnTo>
                    <a:pt x="1810" y="1896"/>
                  </a:lnTo>
                  <a:lnTo>
                    <a:pt x="1822" y="1899"/>
                  </a:lnTo>
                  <a:lnTo>
                    <a:pt x="1822" y="1910"/>
                  </a:lnTo>
                  <a:lnTo>
                    <a:pt x="1822" y="1919"/>
                  </a:lnTo>
                  <a:lnTo>
                    <a:pt x="1816" y="1927"/>
                  </a:lnTo>
                  <a:lnTo>
                    <a:pt x="1802" y="1927"/>
                  </a:lnTo>
                  <a:lnTo>
                    <a:pt x="1793" y="1922"/>
                  </a:lnTo>
                  <a:lnTo>
                    <a:pt x="1790" y="1913"/>
                  </a:lnTo>
                  <a:lnTo>
                    <a:pt x="1790" y="1904"/>
                  </a:lnTo>
                  <a:lnTo>
                    <a:pt x="1784" y="1896"/>
                  </a:lnTo>
                  <a:lnTo>
                    <a:pt x="1778" y="1887"/>
                  </a:lnTo>
                  <a:lnTo>
                    <a:pt x="1770" y="1878"/>
                  </a:lnTo>
                  <a:lnTo>
                    <a:pt x="1767" y="1870"/>
                  </a:lnTo>
                  <a:lnTo>
                    <a:pt x="1764" y="1861"/>
                  </a:lnTo>
                  <a:lnTo>
                    <a:pt x="1764" y="1850"/>
                  </a:lnTo>
                  <a:lnTo>
                    <a:pt x="1764" y="1841"/>
                  </a:lnTo>
                  <a:lnTo>
                    <a:pt x="1764" y="1832"/>
                  </a:lnTo>
                  <a:lnTo>
                    <a:pt x="1772" y="1827"/>
                  </a:lnTo>
                  <a:lnTo>
                    <a:pt x="1778" y="1818"/>
                  </a:lnTo>
                  <a:lnTo>
                    <a:pt x="1778" y="1809"/>
                  </a:lnTo>
                  <a:lnTo>
                    <a:pt x="1778" y="1801"/>
                  </a:lnTo>
                  <a:lnTo>
                    <a:pt x="1778" y="1792"/>
                  </a:lnTo>
                  <a:lnTo>
                    <a:pt x="1770" y="1783"/>
                  </a:lnTo>
                  <a:lnTo>
                    <a:pt x="1761" y="1778"/>
                  </a:lnTo>
                  <a:lnTo>
                    <a:pt x="1752" y="1772"/>
                  </a:lnTo>
                  <a:lnTo>
                    <a:pt x="1752" y="1763"/>
                  </a:lnTo>
                  <a:lnTo>
                    <a:pt x="1752" y="1752"/>
                  </a:lnTo>
                  <a:lnTo>
                    <a:pt x="1752" y="1743"/>
                  </a:lnTo>
                  <a:lnTo>
                    <a:pt x="1764" y="1749"/>
                  </a:lnTo>
                  <a:lnTo>
                    <a:pt x="1772" y="1757"/>
                  </a:lnTo>
                  <a:lnTo>
                    <a:pt x="1781" y="1763"/>
                  </a:lnTo>
                  <a:lnTo>
                    <a:pt x="1781" y="1772"/>
                  </a:lnTo>
                  <a:lnTo>
                    <a:pt x="1787" y="1783"/>
                  </a:lnTo>
                  <a:lnTo>
                    <a:pt x="1796" y="1789"/>
                  </a:lnTo>
                  <a:lnTo>
                    <a:pt x="1804" y="1795"/>
                  </a:lnTo>
                  <a:lnTo>
                    <a:pt x="1816" y="1801"/>
                  </a:lnTo>
                  <a:lnTo>
                    <a:pt x="1822" y="1809"/>
                  </a:lnTo>
                  <a:lnTo>
                    <a:pt x="1831" y="1815"/>
                  </a:lnTo>
                  <a:lnTo>
                    <a:pt x="1836" y="1824"/>
                  </a:lnTo>
                  <a:lnTo>
                    <a:pt x="1845" y="1829"/>
                  </a:lnTo>
                  <a:lnTo>
                    <a:pt x="1854" y="1835"/>
                  </a:lnTo>
                  <a:lnTo>
                    <a:pt x="1866" y="1835"/>
                  </a:lnTo>
                  <a:lnTo>
                    <a:pt x="1874" y="1835"/>
                  </a:lnTo>
                  <a:lnTo>
                    <a:pt x="1883" y="1835"/>
                  </a:lnTo>
                  <a:lnTo>
                    <a:pt x="1892" y="1829"/>
                  </a:lnTo>
                  <a:lnTo>
                    <a:pt x="1901" y="1827"/>
                  </a:lnTo>
                  <a:lnTo>
                    <a:pt x="1909" y="1818"/>
                  </a:lnTo>
                  <a:lnTo>
                    <a:pt x="1909" y="1809"/>
                  </a:lnTo>
                  <a:lnTo>
                    <a:pt x="1909" y="1801"/>
                  </a:lnTo>
                  <a:lnTo>
                    <a:pt x="1909" y="1792"/>
                  </a:lnTo>
                  <a:lnTo>
                    <a:pt x="1915" y="1783"/>
                  </a:lnTo>
                  <a:lnTo>
                    <a:pt x="1918" y="1775"/>
                  </a:lnTo>
                  <a:lnTo>
                    <a:pt x="1918" y="1766"/>
                  </a:lnTo>
                  <a:lnTo>
                    <a:pt x="1915" y="1757"/>
                  </a:lnTo>
                  <a:lnTo>
                    <a:pt x="1909" y="1749"/>
                  </a:lnTo>
                  <a:lnTo>
                    <a:pt x="1901" y="1740"/>
                  </a:lnTo>
                  <a:lnTo>
                    <a:pt x="1895" y="1731"/>
                  </a:lnTo>
                  <a:lnTo>
                    <a:pt x="1892" y="1720"/>
                  </a:lnTo>
                  <a:lnTo>
                    <a:pt x="1889" y="1711"/>
                  </a:lnTo>
                  <a:lnTo>
                    <a:pt x="1880" y="1706"/>
                  </a:lnTo>
                  <a:lnTo>
                    <a:pt x="1871" y="1697"/>
                  </a:lnTo>
                  <a:lnTo>
                    <a:pt x="1866" y="1688"/>
                  </a:lnTo>
                  <a:lnTo>
                    <a:pt x="1860" y="1680"/>
                  </a:lnTo>
                  <a:lnTo>
                    <a:pt x="1851" y="1671"/>
                  </a:lnTo>
                  <a:lnTo>
                    <a:pt x="1842" y="1665"/>
                  </a:lnTo>
                  <a:lnTo>
                    <a:pt x="1831" y="1662"/>
                  </a:lnTo>
                  <a:lnTo>
                    <a:pt x="1819" y="1657"/>
                  </a:lnTo>
                  <a:lnTo>
                    <a:pt x="1813" y="1648"/>
                  </a:lnTo>
                  <a:lnTo>
                    <a:pt x="1810" y="1639"/>
                  </a:lnTo>
                  <a:lnTo>
                    <a:pt x="1807" y="1631"/>
                  </a:lnTo>
                  <a:lnTo>
                    <a:pt x="1799" y="1622"/>
                  </a:lnTo>
                  <a:lnTo>
                    <a:pt x="1793" y="1613"/>
                  </a:lnTo>
                  <a:lnTo>
                    <a:pt x="1784" y="1613"/>
                  </a:lnTo>
                  <a:lnTo>
                    <a:pt x="1772" y="1613"/>
                  </a:lnTo>
                  <a:lnTo>
                    <a:pt x="1764" y="1608"/>
                  </a:lnTo>
                  <a:lnTo>
                    <a:pt x="1761" y="1599"/>
                  </a:lnTo>
                  <a:lnTo>
                    <a:pt x="1772" y="1596"/>
                  </a:lnTo>
                  <a:lnTo>
                    <a:pt x="1781" y="1596"/>
                  </a:lnTo>
                  <a:lnTo>
                    <a:pt x="1787" y="1587"/>
                  </a:lnTo>
                  <a:lnTo>
                    <a:pt x="1778" y="1579"/>
                  </a:lnTo>
                  <a:lnTo>
                    <a:pt x="1770" y="1576"/>
                  </a:lnTo>
                  <a:lnTo>
                    <a:pt x="1761" y="1573"/>
                  </a:lnTo>
                  <a:lnTo>
                    <a:pt x="1758" y="1564"/>
                  </a:lnTo>
                  <a:lnTo>
                    <a:pt x="1758" y="1556"/>
                  </a:lnTo>
                  <a:lnTo>
                    <a:pt x="1758" y="1547"/>
                  </a:lnTo>
                  <a:lnTo>
                    <a:pt x="1749" y="1547"/>
                  </a:lnTo>
                  <a:lnTo>
                    <a:pt x="1737" y="1553"/>
                  </a:lnTo>
                  <a:lnTo>
                    <a:pt x="1729" y="1553"/>
                  </a:lnTo>
                  <a:lnTo>
                    <a:pt x="1720" y="1556"/>
                  </a:lnTo>
                  <a:lnTo>
                    <a:pt x="1720" y="1547"/>
                  </a:lnTo>
                  <a:lnTo>
                    <a:pt x="1723" y="1538"/>
                  </a:lnTo>
                  <a:lnTo>
                    <a:pt x="1726" y="1550"/>
                  </a:lnTo>
                  <a:lnTo>
                    <a:pt x="1723" y="1559"/>
                  </a:lnTo>
                  <a:lnTo>
                    <a:pt x="1723" y="1567"/>
                  </a:lnTo>
                  <a:lnTo>
                    <a:pt x="1732" y="1567"/>
                  </a:lnTo>
                  <a:lnTo>
                    <a:pt x="1740" y="1556"/>
                  </a:lnTo>
                  <a:lnTo>
                    <a:pt x="1726" y="1553"/>
                  </a:lnTo>
                  <a:lnTo>
                    <a:pt x="1717" y="1553"/>
                  </a:lnTo>
                  <a:lnTo>
                    <a:pt x="1705" y="1553"/>
                  </a:lnTo>
                  <a:lnTo>
                    <a:pt x="1705" y="1541"/>
                  </a:lnTo>
                  <a:lnTo>
                    <a:pt x="1711" y="1533"/>
                  </a:lnTo>
                  <a:lnTo>
                    <a:pt x="1700" y="1535"/>
                  </a:lnTo>
                  <a:lnTo>
                    <a:pt x="1691" y="1541"/>
                  </a:lnTo>
                  <a:lnTo>
                    <a:pt x="1679" y="1544"/>
                  </a:lnTo>
                  <a:lnTo>
                    <a:pt x="1685" y="1533"/>
                  </a:lnTo>
                  <a:lnTo>
                    <a:pt x="1685" y="1524"/>
                  </a:lnTo>
                  <a:lnTo>
                    <a:pt x="1676" y="1524"/>
                  </a:lnTo>
                  <a:lnTo>
                    <a:pt x="1668" y="1533"/>
                  </a:lnTo>
                  <a:lnTo>
                    <a:pt x="1662" y="1541"/>
                  </a:lnTo>
                  <a:lnTo>
                    <a:pt x="1653" y="1544"/>
                  </a:lnTo>
                  <a:lnTo>
                    <a:pt x="1653" y="1535"/>
                  </a:lnTo>
                  <a:lnTo>
                    <a:pt x="1644" y="1541"/>
                  </a:lnTo>
                  <a:lnTo>
                    <a:pt x="1641" y="1550"/>
                  </a:lnTo>
                  <a:lnTo>
                    <a:pt x="1633" y="1547"/>
                  </a:lnTo>
                  <a:lnTo>
                    <a:pt x="1633" y="1538"/>
                  </a:lnTo>
                  <a:lnTo>
                    <a:pt x="1624" y="1538"/>
                  </a:lnTo>
                  <a:lnTo>
                    <a:pt x="1615" y="1541"/>
                  </a:lnTo>
                  <a:lnTo>
                    <a:pt x="1609" y="1550"/>
                  </a:lnTo>
                  <a:lnTo>
                    <a:pt x="1601" y="1541"/>
                  </a:lnTo>
                  <a:lnTo>
                    <a:pt x="1598" y="1533"/>
                  </a:lnTo>
                  <a:lnTo>
                    <a:pt x="1589" y="1535"/>
                  </a:lnTo>
                  <a:lnTo>
                    <a:pt x="1580" y="1541"/>
                  </a:lnTo>
                  <a:lnTo>
                    <a:pt x="1569" y="1538"/>
                  </a:lnTo>
                  <a:lnTo>
                    <a:pt x="1563" y="1547"/>
                  </a:lnTo>
                  <a:lnTo>
                    <a:pt x="1557" y="1559"/>
                  </a:lnTo>
                  <a:lnTo>
                    <a:pt x="1554" y="1567"/>
                  </a:lnTo>
                  <a:lnTo>
                    <a:pt x="1548" y="1576"/>
                  </a:lnTo>
                  <a:lnTo>
                    <a:pt x="1540" y="1576"/>
                  </a:lnTo>
                  <a:lnTo>
                    <a:pt x="1531" y="1576"/>
                  </a:lnTo>
                  <a:lnTo>
                    <a:pt x="1525" y="1564"/>
                  </a:lnTo>
                  <a:lnTo>
                    <a:pt x="1525" y="1556"/>
                  </a:lnTo>
                  <a:lnTo>
                    <a:pt x="1525" y="1547"/>
                  </a:lnTo>
                  <a:lnTo>
                    <a:pt x="1516" y="1544"/>
                  </a:lnTo>
                  <a:lnTo>
                    <a:pt x="1513" y="1553"/>
                  </a:lnTo>
                  <a:lnTo>
                    <a:pt x="1528" y="1541"/>
                  </a:lnTo>
                  <a:lnTo>
                    <a:pt x="1510" y="1530"/>
                  </a:lnTo>
                  <a:lnTo>
                    <a:pt x="1502" y="1530"/>
                  </a:lnTo>
                  <a:lnTo>
                    <a:pt x="1493" y="1538"/>
                  </a:lnTo>
                  <a:lnTo>
                    <a:pt x="1484" y="1544"/>
                  </a:lnTo>
                  <a:lnTo>
                    <a:pt x="1481" y="1553"/>
                  </a:lnTo>
                  <a:lnTo>
                    <a:pt x="1481" y="1561"/>
                  </a:lnTo>
                  <a:lnTo>
                    <a:pt x="1487" y="1570"/>
                  </a:lnTo>
                  <a:lnTo>
                    <a:pt x="1487" y="1579"/>
                  </a:lnTo>
                  <a:lnTo>
                    <a:pt x="1478" y="1587"/>
                  </a:lnTo>
                  <a:lnTo>
                    <a:pt x="1470" y="1590"/>
                  </a:lnTo>
                  <a:lnTo>
                    <a:pt x="1461" y="1599"/>
                  </a:lnTo>
                  <a:lnTo>
                    <a:pt x="1443" y="1599"/>
                  </a:lnTo>
                  <a:lnTo>
                    <a:pt x="1432" y="1599"/>
                  </a:lnTo>
                  <a:lnTo>
                    <a:pt x="1426" y="1610"/>
                  </a:lnTo>
                  <a:lnTo>
                    <a:pt x="1420" y="1619"/>
                  </a:lnTo>
                  <a:lnTo>
                    <a:pt x="1429" y="1619"/>
                  </a:lnTo>
                  <a:lnTo>
                    <a:pt x="1417" y="1628"/>
                  </a:lnTo>
                  <a:lnTo>
                    <a:pt x="1406" y="1628"/>
                  </a:lnTo>
                  <a:lnTo>
                    <a:pt x="1397" y="1628"/>
                  </a:lnTo>
                  <a:lnTo>
                    <a:pt x="1388" y="1628"/>
                  </a:lnTo>
                  <a:lnTo>
                    <a:pt x="1382" y="1636"/>
                  </a:lnTo>
                  <a:lnTo>
                    <a:pt x="1379" y="1645"/>
                  </a:lnTo>
                  <a:lnTo>
                    <a:pt x="1371" y="1645"/>
                  </a:lnTo>
                  <a:lnTo>
                    <a:pt x="1362" y="1645"/>
                  </a:lnTo>
                  <a:lnTo>
                    <a:pt x="1356" y="1654"/>
                  </a:lnTo>
                  <a:lnTo>
                    <a:pt x="1347" y="1657"/>
                  </a:lnTo>
                  <a:lnTo>
                    <a:pt x="1336" y="1659"/>
                  </a:lnTo>
                  <a:lnTo>
                    <a:pt x="1327" y="1659"/>
                  </a:lnTo>
                  <a:lnTo>
                    <a:pt x="1318" y="1662"/>
                  </a:lnTo>
                  <a:lnTo>
                    <a:pt x="1310" y="1662"/>
                  </a:lnTo>
                  <a:lnTo>
                    <a:pt x="1298" y="1662"/>
                  </a:lnTo>
                  <a:lnTo>
                    <a:pt x="1289" y="1665"/>
                  </a:lnTo>
                  <a:lnTo>
                    <a:pt x="1280" y="1671"/>
                  </a:lnTo>
                  <a:lnTo>
                    <a:pt x="1278" y="1680"/>
                  </a:lnTo>
                  <a:lnTo>
                    <a:pt x="1280" y="1691"/>
                  </a:lnTo>
                  <a:lnTo>
                    <a:pt x="1289" y="1694"/>
                  </a:lnTo>
                  <a:lnTo>
                    <a:pt x="1301" y="1697"/>
                  </a:lnTo>
                  <a:lnTo>
                    <a:pt x="1312" y="1697"/>
                  </a:lnTo>
                  <a:lnTo>
                    <a:pt x="1321" y="1697"/>
                  </a:lnTo>
                  <a:lnTo>
                    <a:pt x="1310" y="1694"/>
                  </a:lnTo>
                  <a:lnTo>
                    <a:pt x="1298" y="1694"/>
                  </a:lnTo>
                  <a:lnTo>
                    <a:pt x="1289" y="1691"/>
                  </a:lnTo>
                  <a:lnTo>
                    <a:pt x="1304" y="1685"/>
                  </a:lnTo>
                  <a:lnTo>
                    <a:pt x="1312" y="1685"/>
                  </a:lnTo>
                  <a:lnTo>
                    <a:pt x="1321" y="1685"/>
                  </a:lnTo>
                  <a:lnTo>
                    <a:pt x="1312" y="1682"/>
                  </a:lnTo>
                  <a:lnTo>
                    <a:pt x="1301" y="1685"/>
                  </a:lnTo>
                  <a:lnTo>
                    <a:pt x="1292" y="1685"/>
                  </a:lnTo>
                  <a:lnTo>
                    <a:pt x="1286" y="1677"/>
                  </a:lnTo>
                  <a:lnTo>
                    <a:pt x="1275" y="1668"/>
                  </a:lnTo>
                  <a:lnTo>
                    <a:pt x="1266" y="1665"/>
                  </a:lnTo>
                  <a:lnTo>
                    <a:pt x="1248" y="1659"/>
                  </a:lnTo>
                  <a:lnTo>
                    <a:pt x="1240" y="1659"/>
                  </a:lnTo>
                  <a:lnTo>
                    <a:pt x="1234" y="1668"/>
                  </a:lnTo>
                  <a:lnTo>
                    <a:pt x="1225" y="1671"/>
                  </a:lnTo>
                  <a:lnTo>
                    <a:pt x="1216" y="1674"/>
                  </a:lnTo>
                  <a:lnTo>
                    <a:pt x="1208" y="1674"/>
                  </a:lnTo>
                  <a:lnTo>
                    <a:pt x="1199" y="1671"/>
                  </a:lnTo>
                  <a:lnTo>
                    <a:pt x="1190" y="1674"/>
                  </a:lnTo>
                  <a:lnTo>
                    <a:pt x="1176" y="1671"/>
                  </a:lnTo>
                  <a:lnTo>
                    <a:pt x="1167" y="1668"/>
                  </a:lnTo>
                  <a:lnTo>
                    <a:pt x="1161" y="1677"/>
                  </a:lnTo>
                  <a:lnTo>
                    <a:pt x="1152" y="1682"/>
                  </a:lnTo>
                  <a:lnTo>
                    <a:pt x="1144" y="1682"/>
                  </a:lnTo>
                  <a:lnTo>
                    <a:pt x="1132" y="1682"/>
                  </a:lnTo>
                  <a:lnTo>
                    <a:pt x="1132" y="1691"/>
                  </a:lnTo>
                  <a:lnTo>
                    <a:pt x="1132" y="1700"/>
                  </a:lnTo>
                  <a:lnTo>
                    <a:pt x="1147" y="1708"/>
                  </a:lnTo>
                  <a:lnTo>
                    <a:pt x="1155" y="1720"/>
                  </a:lnTo>
                  <a:lnTo>
                    <a:pt x="1158" y="1729"/>
                  </a:lnTo>
                  <a:lnTo>
                    <a:pt x="1158" y="1737"/>
                  </a:lnTo>
                  <a:lnTo>
                    <a:pt x="1161" y="1746"/>
                  </a:lnTo>
                  <a:lnTo>
                    <a:pt x="1161" y="1737"/>
                  </a:lnTo>
                  <a:lnTo>
                    <a:pt x="1155" y="1726"/>
                  </a:lnTo>
                  <a:lnTo>
                    <a:pt x="1152" y="1717"/>
                  </a:lnTo>
                  <a:lnTo>
                    <a:pt x="1138" y="1717"/>
                  </a:lnTo>
                  <a:lnTo>
                    <a:pt x="1129" y="1711"/>
                  </a:lnTo>
                  <a:lnTo>
                    <a:pt x="1120" y="1711"/>
                  </a:lnTo>
                  <a:lnTo>
                    <a:pt x="1117" y="1720"/>
                  </a:lnTo>
                  <a:lnTo>
                    <a:pt x="1114" y="1731"/>
                  </a:lnTo>
                  <a:lnTo>
                    <a:pt x="1114" y="1740"/>
                  </a:lnTo>
                  <a:lnTo>
                    <a:pt x="1126" y="1740"/>
                  </a:lnTo>
                  <a:lnTo>
                    <a:pt x="1138" y="1743"/>
                  </a:lnTo>
                  <a:lnTo>
                    <a:pt x="1129" y="1743"/>
                  </a:lnTo>
                  <a:lnTo>
                    <a:pt x="1120" y="1743"/>
                  </a:lnTo>
                  <a:lnTo>
                    <a:pt x="1112" y="1746"/>
                  </a:lnTo>
                  <a:lnTo>
                    <a:pt x="1103" y="1752"/>
                  </a:lnTo>
                  <a:lnTo>
                    <a:pt x="1094" y="1755"/>
                  </a:lnTo>
                  <a:lnTo>
                    <a:pt x="1085" y="1763"/>
                  </a:lnTo>
                  <a:lnTo>
                    <a:pt x="1077" y="1766"/>
                  </a:lnTo>
                  <a:lnTo>
                    <a:pt x="1068" y="1766"/>
                  </a:lnTo>
                  <a:lnTo>
                    <a:pt x="1077" y="1772"/>
                  </a:lnTo>
                  <a:lnTo>
                    <a:pt x="1085" y="1772"/>
                  </a:lnTo>
                  <a:lnTo>
                    <a:pt x="1097" y="1775"/>
                  </a:lnTo>
                  <a:lnTo>
                    <a:pt x="1091" y="1783"/>
                  </a:lnTo>
                  <a:lnTo>
                    <a:pt x="1080" y="1786"/>
                  </a:lnTo>
                  <a:lnTo>
                    <a:pt x="1071" y="1786"/>
                  </a:lnTo>
                  <a:lnTo>
                    <a:pt x="1062" y="1789"/>
                  </a:lnTo>
                  <a:lnTo>
                    <a:pt x="1056" y="1798"/>
                  </a:lnTo>
                  <a:lnTo>
                    <a:pt x="1056" y="1806"/>
                  </a:lnTo>
                  <a:lnTo>
                    <a:pt x="1056" y="1815"/>
                  </a:lnTo>
                  <a:lnTo>
                    <a:pt x="1056" y="1824"/>
                  </a:lnTo>
                  <a:lnTo>
                    <a:pt x="1056" y="1832"/>
                  </a:lnTo>
                  <a:lnTo>
                    <a:pt x="1056" y="1841"/>
                  </a:lnTo>
                  <a:lnTo>
                    <a:pt x="1062" y="1850"/>
                  </a:lnTo>
                  <a:lnTo>
                    <a:pt x="1074" y="1855"/>
                  </a:lnTo>
                  <a:lnTo>
                    <a:pt x="1082" y="1855"/>
                  </a:lnTo>
                  <a:lnTo>
                    <a:pt x="1091" y="1855"/>
                  </a:lnTo>
                  <a:lnTo>
                    <a:pt x="1103" y="1855"/>
                  </a:lnTo>
                  <a:lnTo>
                    <a:pt x="1112" y="1855"/>
                  </a:lnTo>
                  <a:lnTo>
                    <a:pt x="1120" y="1855"/>
                  </a:lnTo>
                  <a:lnTo>
                    <a:pt x="1132" y="1855"/>
                  </a:lnTo>
                  <a:lnTo>
                    <a:pt x="1144" y="1855"/>
                  </a:lnTo>
                  <a:lnTo>
                    <a:pt x="1152" y="1852"/>
                  </a:lnTo>
                  <a:lnTo>
                    <a:pt x="1167" y="1852"/>
                  </a:lnTo>
                  <a:lnTo>
                    <a:pt x="1176" y="1844"/>
                  </a:lnTo>
                  <a:lnTo>
                    <a:pt x="1179" y="1835"/>
                  </a:lnTo>
                  <a:lnTo>
                    <a:pt x="1181" y="1827"/>
                  </a:lnTo>
                  <a:lnTo>
                    <a:pt x="1184" y="1835"/>
                  </a:lnTo>
                  <a:lnTo>
                    <a:pt x="1184" y="1844"/>
                  </a:lnTo>
                  <a:lnTo>
                    <a:pt x="1181" y="1852"/>
                  </a:lnTo>
                  <a:lnTo>
                    <a:pt x="1170" y="1858"/>
                  </a:lnTo>
                  <a:lnTo>
                    <a:pt x="1173" y="1867"/>
                  </a:lnTo>
                  <a:lnTo>
                    <a:pt x="1170" y="1876"/>
                  </a:lnTo>
                  <a:lnTo>
                    <a:pt x="1164" y="1884"/>
                  </a:lnTo>
                  <a:lnTo>
                    <a:pt x="1161" y="1893"/>
                  </a:lnTo>
                  <a:lnTo>
                    <a:pt x="1161" y="1901"/>
                  </a:lnTo>
                  <a:lnTo>
                    <a:pt x="1158" y="1910"/>
                  </a:lnTo>
                  <a:lnTo>
                    <a:pt x="1149" y="1913"/>
                  </a:lnTo>
                  <a:lnTo>
                    <a:pt x="1147" y="1922"/>
                  </a:lnTo>
                  <a:lnTo>
                    <a:pt x="1147" y="1930"/>
                  </a:lnTo>
                  <a:lnTo>
                    <a:pt x="1144" y="1939"/>
                  </a:lnTo>
                  <a:lnTo>
                    <a:pt x="1144" y="1948"/>
                  </a:lnTo>
                  <a:lnTo>
                    <a:pt x="1141" y="1956"/>
                  </a:lnTo>
                  <a:lnTo>
                    <a:pt x="1141" y="1968"/>
                  </a:lnTo>
                  <a:lnTo>
                    <a:pt x="1141" y="1976"/>
                  </a:lnTo>
                  <a:lnTo>
                    <a:pt x="1155" y="1956"/>
                  </a:lnTo>
                  <a:lnTo>
                    <a:pt x="1144" y="1956"/>
                  </a:lnTo>
                  <a:lnTo>
                    <a:pt x="1144" y="1965"/>
                  </a:lnTo>
                  <a:lnTo>
                    <a:pt x="1144" y="1974"/>
                  </a:lnTo>
                  <a:lnTo>
                    <a:pt x="1144" y="1982"/>
                  </a:lnTo>
                  <a:lnTo>
                    <a:pt x="1138" y="1991"/>
                  </a:lnTo>
                  <a:lnTo>
                    <a:pt x="1129" y="1997"/>
                  </a:lnTo>
                  <a:lnTo>
                    <a:pt x="1120" y="1997"/>
                  </a:lnTo>
                  <a:lnTo>
                    <a:pt x="1117" y="2005"/>
                  </a:lnTo>
                  <a:lnTo>
                    <a:pt x="1117" y="2014"/>
                  </a:lnTo>
                  <a:lnTo>
                    <a:pt x="1117" y="2023"/>
                  </a:lnTo>
                  <a:lnTo>
                    <a:pt x="1117" y="2031"/>
                  </a:lnTo>
                  <a:lnTo>
                    <a:pt x="1120" y="2040"/>
                  </a:lnTo>
                  <a:lnTo>
                    <a:pt x="1129" y="2046"/>
                  </a:lnTo>
                  <a:lnTo>
                    <a:pt x="1144" y="2054"/>
                  </a:lnTo>
                  <a:lnTo>
                    <a:pt x="1152" y="2054"/>
                  </a:lnTo>
                  <a:lnTo>
                    <a:pt x="1158" y="2046"/>
                  </a:lnTo>
                  <a:lnTo>
                    <a:pt x="1158" y="2037"/>
                  </a:lnTo>
                  <a:lnTo>
                    <a:pt x="1170" y="2037"/>
                  </a:lnTo>
                  <a:lnTo>
                    <a:pt x="1179" y="2037"/>
                  </a:lnTo>
                  <a:lnTo>
                    <a:pt x="1187" y="2037"/>
                  </a:lnTo>
                  <a:lnTo>
                    <a:pt x="1199" y="2037"/>
                  </a:lnTo>
                  <a:lnTo>
                    <a:pt x="1208" y="2040"/>
                  </a:lnTo>
                  <a:lnTo>
                    <a:pt x="1216" y="2043"/>
                  </a:lnTo>
                  <a:lnTo>
                    <a:pt x="1225" y="2040"/>
                  </a:lnTo>
                  <a:lnTo>
                    <a:pt x="1228" y="2031"/>
                  </a:lnTo>
                  <a:lnTo>
                    <a:pt x="1231" y="2023"/>
                  </a:lnTo>
                  <a:lnTo>
                    <a:pt x="1237" y="2014"/>
                  </a:lnTo>
                  <a:lnTo>
                    <a:pt x="1245" y="2005"/>
                  </a:lnTo>
                  <a:lnTo>
                    <a:pt x="1251" y="1997"/>
                  </a:lnTo>
                  <a:lnTo>
                    <a:pt x="1260" y="1991"/>
                  </a:lnTo>
                  <a:lnTo>
                    <a:pt x="1266" y="1982"/>
                  </a:lnTo>
                  <a:lnTo>
                    <a:pt x="1269" y="1974"/>
                  </a:lnTo>
                  <a:lnTo>
                    <a:pt x="1272" y="1965"/>
                  </a:lnTo>
                  <a:lnTo>
                    <a:pt x="1280" y="1962"/>
                  </a:lnTo>
                  <a:lnTo>
                    <a:pt x="1289" y="1962"/>
                  </a:lnTo>
                  <a:lnTo>
                    <a:pt x="1298" y="1959"/>
                  </a:lnTo>
                  <a:lnTo>
                    <a:pt x="1301" y="1950"/>
                  </a:lnTo>
                  <a:lnTo>
                    <a:pt x="1304" y="1942"/>
                  </a:lnTo>
                  <a:lnTo>
                    <a:pt x="1301" y="1933"/>
                  </a:lnTo>
                  <a:lnTo>
                    <a:pt x="1292" y="1925"/>
                  </a:lnTo>
                  <a:lnTo>
                    <a:pt x="1301" y="1919"/>
                  </a:lnTo>
                  <a:lnTo>
                    <a:pt x="1310" y="1927"/>
                  </a:lnTo>
                  <a:lnTo>
                    <a:pt x="1318" y="1933"/>
                  </a:lnTo>
                  <a:lnTo>
                    <a:pt x="1324" y="1942"/>
                  </a:lnTo>
                  <a:lnTo>
                    <a:pt x="1333" y="1950"/>
                  </a:lnTo>
                  <a:lnTo>
                    <a:pt x="1342" y="1950"/>
                  </a:lnTo>
                  <a:lnTo>
                    <a:pt x="1350" y="1950"/>
                  </a:lnTo>
                  <a:lnTo>
                    <a:pt x="1353" y="1942"/>
                  </a:lnTo>
                  <a:lnTo>
                    <a:pt x="1353" y="1933"/>
                  </a:lnTo>
                  <a:lnTo>
                    <a:pt x="1356" y="1925"/>
                  </a:lnTo>
                  <a:lnTo>
                    <a:pt x="1356" y="1916"/>
                  </a:lnTo>
                  <a:lnTo>
                    <a:pt x="1359" y="1907"/>
                  </a:lnTo>
                  <a:lnTo>
                    <a:pt x="1359" y="1899"/>
                  </a:lnTo>
                  <a:lnTo>
                    <a:pt x="1356" y="1890"/>
                  </a:lnTo>
                  <a:lnTo>
                    <a:pt x="1347" y="1881"/>
                  </a:lnTo>
                  <a:lnTo>
                    <a:pt x="1347" y="1870"/>
                  </a:lnTo>
                  <a:lnTo>
                    <a:pt x="1347" y="1861"/>
                  </a:lnTo>
                  <a:lnTo>
                    <a:pt x="1356" y="1855"/>
                  </a:lnTo>
                  <a:lnTo>
                    <a:pt x="1362" y="1847"/>
                  </a:lnTo>
                  <a:lnTo>
                    <a:pt x="1371" y="1844"/>
                  </a:lnTo>
                  <a:lnTo>
                    <a:pt x="1379" y="1835"/>
                  </a:lnTo>
                  <a:lnTo>
                    <a:pt x="1382" y="1827"/>
                  </a:lnTo>
                  <a:lnTo>
                    <a:pt x="1391" y="1821"/>
                  </a:lnTo>
                  <a:lnTo>
                    <a:pt x="1400" y="1815"/>
                  </a:lnTo>
                  <a:lnTo>
                    <a:pt x="1406" y="1806"/>
                  </a:lnTo>
                  <a:lnTo>
                    <a:pt x="1414" y="1801"/>
                  </a:lnTo>
                  <a:lnTo>
                    <a:pt x="1423" y="1801"/>
                  </a:lnTo>
                  <a:lnTo>
                    <a:pt x="1435" y="1798"/>
                  </a:lnTo>
                  <a:lnTo>
                    <a:pt x="1443" y="1792"/>
                  </a:lnTo>
                  <a:lnTo>
                    <a:pt x="1452" y="1792"/>
                  </a:lnTo>
                  <a:lnTo>
                    <a:pt x="1464" y="1789"/>
                  </a:lnTo>
                  <a:lnTo>
                    <a:pt x="1473" y="1789"/>
                  </a:lnTo>
                  <a:lnTo>
                    <a:pt x="1481" y="1789"/>
                  </a:lnTo>
                  <a:lnTo>
                    <a:pt x="1490" y="1786"/>
                  </a:lnTo>
                  <a:lnTo>
                    <a:pt x="1499" y="1786"/>
                  </a:lnTo>
                  <a:lnTo>
                    <a:pt x="1508" y="1786"/>
                  </a:lnTo>
                  <a:lnTo>
                    <a:pt x="1516" y="1783"/>
                  </a:lnTo>
                  <a:lnTo>
                    <a:pt x="1516" y="1775"/>
                  </a:lnTo>
                  <a:lnTo>
                    <a:pt x="1516" y="1766"/>
                  </a:lnTo>
                  <a:lnTo>
                    <a:pt x="1513" y="1757"/>
                  </a:lnTo>
                  <a:lnTo>
                    <a:pt x="1522" y="1752"/>
                  </a:lnTo>
                  <a:lnTo>
                    <a:pt x="1528" y="1743"/>
                  </a:lnTo>
                  <a:lnTo>
                    <a:pt x="1537" y="1737"/>
                  </a:lnTo>
                  <a:lnTo>
                    <a:pt x="1545" y="1737"/>
                  </a:lnTo>
                  <a:lnTo>
                    <a:pt x="1554" y="1734"/>
                  </a:lnTo>
                  <a:lnTo>
                    <a:pt x="1563" y="1729"/>
                  </a:lnTo>
                  <a:lnTo>
                    <a:pt x="1572" y="1729"/>
                  </a:lnTo>
                  <a:lnTo>
                    <a:pt x="1580" y="1737"/>
                  </a:lnTo>
                  <a:lnTo>
                    <a:pt x="1589" y="1743"/>
                  </a:lnTo>
                  <a:lnTo>
                    <a:pt x="1598" y="1749"/>
                  </a:lnTo>
                  <a:lnTo>
                    <a:pt x="1601" y="1757"/>
                  </a:lnTo>
                  <a:lnTo>
                    <a:pt x="1601" y="1766"/>
                  </a:lnTo>
                  <a:lnTo>
                    <a:pt x="1604" y="1775"/>
                  </a:lnTo>
                  <a:lnTo>
                    <a:pt x="1604" y="1783"/>
                  </a:lnTo>
                  <a:lnTo>
                    <a:pt x="1592" y="1789"/>
                  </a:lnTo>
                  <a:lnTo>
                    <a:pt x="1580" y="1789"/>
                  </a:lnTo>
                  <a:lnTo>
                    <a:pt x="1572" y="1792"/>
                  </a:lnTo>
                  <a:lnTo>
                    <a:pt x="1566" y="1801"/>
                  </a:lnTo>
                  <a:lnTo>
                    <a:pt x="1557" y="1806"/>
                  </a:lnTo>
                  <a:lnTo>
                    <a:pt x="1548" y="1812"/>
                  </a:lnTo>
                  <a:lnTo>
                    <a:pt x="1537" y="1815"/>
                  </a:lnTo>
                  <a:lnTo>
                    <a:pt x="1528" y="1818"/>
                  </a:lnTo>
                  <a:lnTo>
                    <a:pt x="1519" y="1824"/>
                  </a:lnTo>
                  <a:lnTo>
                    <a:pt x="1510" y="1829"/>
                  </a:lnTo>
                  <a:lnTo>
                    <a:pt x="1502" y="1829"/>
                  </a:lnTo>
                  <a:lnTo>
                    <a:pt x="1490" y="1832"/>
                  </a:lnTo>
                  <a:lnTo>
                    <a:pt x="1481" y="1835"/>
                  </a:lnTo>
                  <a:lnTo>
                    <a:pt x="1473" y="1835"/>
                  </a:lnTo>
                  <a:lnTo>
                    <a:pt x="1464" y="1841"/>
                  </a:lnTo>
                  <a:lnTo>
                    <a:pt x="1458" y="1850"/>
                  </a:lnTo>
                  <a:lnTo>
                    <a:pt x="1452" y="1858"/>
                  </a:lnTo>
                  <a:lnTo>
                    <a:pt x="1449" y="1867"/>
                  </a:lnTo>
                  <a:lnTo>
                    <a:pt x="1449" y="1876"/>
                  </a:lnTo>
                  <a:lnTo>
                    <a:pt x="1446" y="1884"/>
                  </a:lnTo>
                  <a:lnTo>
                    <a:pt x="1443" y="1893"/>
                  </a:lnTo>
                  <a:lnTo>
                    <a:pt x="1438" y="1901"/>
                  </a:lnTo>
                  <a:lnTo>
                    <a:pt x="1435" y="1910"/>
                  </a:lnTo>
                  <a:lnTo>
                    <a:pt x="1429" y="1919"/>
                  </a:lnTo>
                  <a:lnTo>
                    <a:pt x="1426" y="1927"/>
                  </a:lnTo>
                  <a:lnTo>
                    <a:pt x="1423" y="1936"/>
                  </a:lnTo>
                  <a:lnTo>
                    <a:pt x="1423" y="1945"/>
                  </a:lnTo>
                  <a:lnTo>
                    <a:pt x="1417" y="1953"/>
                  </a:lnTo>
                  <a:lnTo>
                    <a:pt x="1417" y="1962"/>
                  </a:lnTo>
                  <a:lnTo>
                    <a:pt x="1426" y="1962"/>
                  </a:lnTo>
                  <a:lnTo>
                    <a:pt x="1435" y="1974"/>
                  </a:lnTo>
                  <a:lnTo>
                    <a:pt x="1441" y="1982"/>
                  </a:lnTo>
                  <a:lnTo>
                    <a:pt x="1441" y="1991"/>
                  </a:lnTo>
                  <a:lnTo>
                    <a:pt x="1449" y="1991"/>
                  </a:lnTo>
                  <a:lnTo>
                    <a:pt x="1461" y="1991"/>
                  </a:lnTo>
                  <a:lnTo>
                    <a:pt x="1470" y="1991"/>
                  </a:lnTo>
                  <a:lnTo>
                    <a:pt x="1484" y="1994"/>
                  </a:lnTo>
                  <a:lnTo>
                    <a:pt x="1493" y="1994"/>
                  </a:lnTo>
                  <a:lnTo>
                    <a:pt x="1502" y="1994"/>
                  </a:lnTo>
                  <a:lnTo>
                    <a:pt x="1510" y="1991"/>
                  </a:lnTo>
                  <a:lnTo>
                    <a:pt x="1519" y="1997"/>
                  </a:lnTo>
                  <a:lnTo>
                    <a:pt x="1531" y="1988"/>
                  </a:lnTo>
                  <a:lnTo>
                    <a:pt x="1540" y="1991"/>
                  </a:lnTo>
                  <a:lnTo>
                    <a:pt x="1548" y="1994"/>
                  </a:lnTo>
                  <a:lnTo>
                    <a:pt x="1557" y="1997"/>
                  </a:lnTo>
                  <a:lnTo>
                    <a:pt x="1566" y="1997"/>
                  </a:lnTo>
                  <a:lnTo>
                    <a:pt x="1569" y="2005"/>
                  </a:lnTo>
                  <a:lnTo>
                    <a:pt x="1569" y="2014"/>
                  </a:lnTo>
                  <a:lnTo>
                    <a:pt x="1569" y="2023"/>
                  </a:lnTo>
                  <a:lnTo>
                    <a:pt x="1572" y="2031"/>
                  </a:lnTo>
                  <a:lnTo>
                    <a:pt x="1577" y="2040"/>
                  </a:lnTo>
                  <a:lnTo>
                    <a:pt x="1586" y="2048"/>
                  </a:lnTo>
                  <a:lnTo>
                    <a:pt x="1577" y="2040"/>
                  </a:lnTo>
                  <a:lnTo>
                    <a:pt x="1569" y="2037"/>
                  </a:lnTo>
                  <a:lnTo>
                    <a:pt x="1557" y="2037"/>
                  </a:lnTo>
                  <a:lnTo>
                    <a:pt x="1548" y="2040"/>
                  </a:lnTo>
                  <a:lnTo>
                    <a:pt x="1548" y="2048"/>
                  </a:lnTo>
                  <a:lnTo>
                    <a:pt x="1540" y="2054"/>
                  </a:lnTo>
                  <a:lnTo>
                    <a:pt x="1531" y="2051"/>
                  </a:lnTo>
                  <a:lnTo>
                    <a:pt x="1522" y="2043"/>
                  </a:lnTo>
                  <a:lnTo>
                    <a:pt x="1513" y="2034"/>
                  </a:lnTo>
                  <a:lnTo>
                    <a:pt x="1505" y="2031"/>
                  </a:lnTo>
                  <a:lnTo>
                    <a:pt x="1496" y="2031"/>
                  </a:lnTo>
                  <a:lnTo>
                    <a:pt x="1487" y="2028"/>
                  </a:lnTo>
                  <a:lnTo>
                    <a:pt x="1478" y="2025"/>
                  </a:lnTo>
                  <a:lnTo>
                    <a:pt x="1470" y="2023"/>
                  </a:lnTo>
                  <a:lnTo>
                    <a:pt x="1461" y="2020"/>
                  </a:lnTo>
                  <a:lnTo>
                    <a:pt x="1452" y="2017"/>
                  </a:lnTo>
                  <a:lnTo>
                    <a:pt x="1441" y="2011"/>
                  </a:lnTo>
                  <a:lnTo>
                    <a:pt x="1432" y="2011"/>
                  </a:lnTo>
                  <a:lnTo>
                    <a:pt x="1426" y="2020"/>
                  </a:lnTo>
                  <a:lnTo>
                    <a:pt x="1426" y="2028"/>
                  </a:lnTo>
                  <a:lnTo>
                    <a:pt x="1423" y="2037"/>
                  </a:lnTo>
                  <a:lnTo>
                    <a:pt x="1417" y="2046"/>
                  </a:lnTo>
                  <a:lnTo>
                    <a:pt x="1414" y="2054"/>
                  </a:lnTo>
                  <a:lnTo>
                    <a:pt x="1426" y="2060"/>
                  </a:lnTo>
                  <a:lnTo>
                    <a:pt x="1432" y="2069"/>
                  </a:lnTo>
                  <a:lnTo>
                    <a:pt x="1429" y="2077"/>
                  </a:lnTo>
                  <a:lnTo>
                    <a:pt x="1423" y="2086"/>
                  </a:lnTo>
                  <a:lnTo>
                    <a:pt x="1414" y="2089"/>
                  </a:lnTo>
                  <a:lnTo>
                    <a:pt x="1409" y="2097"/>
                  </a:lnTo>
                  <a:lnTo>
                    <a:pt x="1403" y="2106"/>
                  </a:lnTo>
                  <a:lnTo>
                    <a:pt x="1400" y="2115"/>
                  </a:lnTo>
                  <a:lnTo>
                    <a:pt x="1391" y="2112"/>
                  </a:lnTo>
                  <a:lnTo>
                    <a:pt x="1388" y="2103"/>
                  </a:lnTo>
                  <a:lnTo>
                    <a:pt x="1385" y="2095"/>
                  </a:lnTo>
                  <a:lnTo>
                    <a:pt x="1382" y="2086"/>
                  </a:lnTo>
                  <a:lnTo>
                    <a:pt x="1382" y="2077"/>
                  </a:lnTo>
                  <a:lnTo>
                    <a:pt x="1379" y="2069"/>
                  </a:lnTo>
                  <a:lnTo>
                    <a:pt x="1371" y="2063"/>
                  </a:lnTo>
                  <a:lnTo>
                    <a:pt x="1359" y="2063"/>
                  </a:lnTo>
                  <a:lnTo>
                    <a:pt x="1350" y="2063"/>
                  </a:lnTo>
                  <a:lnTo>
                    <a:pt x="1344" y="2072"/>
                  </a:lnTo>
                  <a:lnTo>
                    <a:pt x="1339" y="2080"/>
                  </a:lnTo>
                  <a:lnTo>
                    <a:pt x="1333" y="2089"/>
                  </a:lnTo>
                  <a:lnTo>
                    <a:pt x="1327" y="2097"/>
                  </a:lnTo>
                  <a:lnTo>
                    <a:pt x="1321" y="2106"/>
                  </a:lnTo>
                  <a:lnTo>
                    <a:pt x="1312" y="2109"/>
                  </a:lnTo>
                  <a:lnTo>
                    <a:pt x="1304" y="2112"/>
                  </a:lnTo>
                  <a:lnTo>
                    <a:pt x="1304" y="2120"/>
                  </a:lnTo>
                  <a:lnTo>
                    <a:pt x="1301" y="2129"/>
                  </a:lnTo>
                  <a:lnTo>
                    <a:pt x="1298" y="2138"/>
                  </a:lnTo>
                  <a:lnTo>
                    <a:pt x="1295" y="2146"/>
                  </a:lnTo>
                  <a:lnTo>
                    <a:pt x="1295" y="2095"/>
                  </a:lnTo>
                  <a:lnTo>
                    <a:pt x="1304" y="2103"/>
                  </a:lnTo>
                  <a:lnTo>
                    <a:pt x="1304" y="2115"/>
                  </a:lnTo>
                  <a:lnTo>
                    <a:pt x="1301" y="2123"/>
                  </a:lnTo>
                  <a:lnTo>
                    <a:pt x="1298" y="2132"/>
                  </a:lnTo>
                  <a:lnTo>
                    <a:pt x="1298" y="2141"/>
                  </a:lnTo>
                  <a:lnTo>
                    <a:pt x="1295" y="2149"/>
                  </a:lnTo>
                  <a:lnTo>
                    <a:pt x="1292" y="2161"/>
                  </a:lnTo>
                  <a:lnTo>
                    <a:pt x="1289" y="2169"/>
                  </a:lnTo>
                  <a:lnTo>
                    <a:pt x="1280" y="2175"/>
                  </a:lnTo>
                  <a:lnTo>
                    <a:pt x="1278" y="2167"/>
                  </a:lnTo>
                  <a:lnTo>
                    <a:pt x="1275" y="2155"/>
                  </a:lnTo>
                  <a:lnTo>
                    <a:pt x="1272" y="2146"/>
                  </a:lnTo>
                  <a:lnTo>
                    <a:pt x="1263" y="2146"/>
                  </a:lnTo>
                  <a:lnTo>
                    <a:pt x="1251" y="2149"/>
                  </a:lnTo>
                  <a:lnTo>
                    <a:pt x="1245" y="2158"/>
                  </a:lnTo>
                  <a:lnTo>
                    <a:pt x="1240" y="2167"/>
                  </a:lnTo>
                  <a:lnTo>
                    <a:pt x="1228" y="2167"/>
                  </a:lnTo>
                  <a:lnTo>
                    <a:pt x="1216" y="2167"/>
                  </a:lnTo>
                  <a:lnTo>
                    <a:pt x="1213" y="2155"/>
                  </a:lnTo>
                  <a:lnTo>
                    <a:pt x="1213" y="2144"/>
                  </a:lnTo>
                  <a:lnTo>
                    <a:pt x="1205" y="2138"/>
                  </a:lnTo>
                  <a:lnTo>
                    <a:pt x="1196" y="2132"/>
                  </a:lnTo>
                  <a:lnTo>
                    <a:pt x="1179" y="2126"/>
                  </a:lnTo>
                  <a:lnTo>
                    <a:pt x="1170" y="2123"/>
                  </a:lnTo>
                  <a:lnTo>
                    <a:pt x="1158" y="2123"/>
                  </a:lnTo>
                  <a:lnTo>
                    <a:pt x="1152" y="2132"/>
                  </a:lnTo>
                  <a:lnTo>
                    <a:pt x="1141" y="2135"/>
                  </a:lnTo>
                  <a:lnTo>
                    <a:pt x="1132" y="2132"/>
                  </a:lnTo>
                  <a:lnTo>
                    <a:pt x="1123" y="2123"/>
                  </a:lnTo>
                  <a:lnTo>
                    <a:pt x="1114" y="2118"/>
                  </a:lnTo>
                  <a:lnTo>
                    <a:pt x="1106" y="2115"/>
                  </a:lnTo>
                  <a:lnTo>
                    <a:pt x="1097" y="2115"/>
                  </a:lnTo>
                  <a:lnTo>
                    <a:pt x="1094" y="2106"/>
                  </a:lnTo>
                  <a:lnTo>
                    <a:pt x="1094" y="2097"/>
                  </a:lnTo>
                  <a:lnTo>
                    <a:pt x="1094" y="2089"/>
                  </a:lnTo>
                  <a:lnTo>
                    <a:pt x="1091" y="2077"/>
                  </a:lnTo>
                  <a:lnTo>
                    <a:pt x="1091" y="2069"/>
                  </a:lnTo>
                  <a:lnTo>
                    <a:pt x="1082" y="2066"/>
                  </a:lnTo>
                  <a:lnTo>
                    <a:pt x="1074" y="2066"/>
                  </a:lnTo>
                  <a:lnTo>
                    <a:pt x="1065" y="2066"/>
                  </a:lnTo>
                  <a:lnTo>
                    <a:pt x="1056" y="2066"/>
                  </a:lnTo>
                  <a:lnTo>
                    <a:pt x="1048" y="2066"/>
                  </a:lnTo>
                  <a:lnTo>
                    <a:pt x="1039" y="2066"/>
                  </a:lnTo>
                  <a:lnTo>
                    <a:pt x="1027" y="2063"/>
                  </a:lnTo>
                  <a:lnTo>
                    <a:pt x="1021" y="2054"/>
                  </a:lnTo>
                  <a:lnTo>
                    <a:pt x="1021" y="2046"/>
                  </a:lnTo>
                  <a:lnTo>
                    <a:pt x="1016" y="2048"/>
                  </a:lnTo>
                  <a:lnTo>
                    <a:pt x="1036" y="2031"/>
                  </a:lnTo>
                  <a:lnTo>
                    <a:pt x="1048" y="2020"/>
                  </a:lnTo>
                  <a:lnTo>
                    <a:pt x="1059" y="2017"/>
                  </a:lnTo>
                  <a:lnTo>
                    <a:pt x="1062" y="2025"/>
                  </a:lnTo>
                  <a:lnTo>
                    <a:pt x="1050" y="2025"/>
                  </a:lnTo>
                  <a:lnTo>
                    <a:pt x="1059" y="2025"/>
                  </a:lnTo>
                  <a:lnTo>
                    <a:pt x="1071" y="2025"/>
                  </a:lnTo>
                  <a:lnTo>
                    <a:pt x="1080" y="2025"/>
                  </a:lnTo>
                  <a:lnTo>
                    <a:pt x="1088" y="2028"/>
                  </a:lnTo>
                  <a:lnTo>
                    <a:pt x="1097" y="2028"/>
                  </a:lnTo>
                  <a:lnTo>
                    <a:pt x="1106" y="2025"/>
                  </a:lnTo>
                  <a:lnTo>
                    <a:pt x="1109" y="2017"/>
                  </a:lnTo>
                  <a:lnTo>
                    <a:pt x="1112" y="2008"/>
                  </a:lnTo>
                  <a:lnTo>
                    <a:pt x="1103" y="1999"/>
                  </a:lnTo>
                  <a:lnTo>
                    <a:pt x="1100" y="1991"/>
                  </a:lnTo>
                  <a:lnTo>
                    <a:pt x="1094" y="1982"/>
                  </a:lnTo>
                  <a:lnTo>
                    <a:pt x="1091" y="1974"/>
                  </a:lnTo>
                  <a:lnTo>
                    <a:pt x="1082" y="1971"/>
                  </a:lnTo>
                  <a:lnTo>
                    <a:pt x="1077" y="1979"/>
                  </a:lnTo>
                  <a:lnTo>
                    <a:pt x="1077" y="1991"/>
                  </a:lnTo>
                  <a:lnTo>
                    <a:pt x="1077" y="1999"/>
                  </a:lnTo>
                  <a:lnTo>
                    <a:pt x="1071" y="2008"/>
                  </a:lnTo>
                  <a:lnTo>
                    <a:pt x="1068" y="2020"/>
                  </a:lnTo>
                  <a:lnTo>
                    <a:pt x="1068" y="2028"/>
                  </a:lnTo>
                  <a:lnTo>
                    <a:pt x="1059" y="2031"/>
                  </a:lnTo>
                  <a:lnTo>
                    <a:pt x="1048" y="2031"/>
                  </a:lnTo>
                  <a:lnTo>
                    <a:pt x="1039" y="2031"/>
                  </a:lnTo>
                  <a:lnTo>
                    <a:pt x="1030" y="2031"/>
                  </a:lnTo>
                  <a:lnTo>
                    <a:pt x="1027" y="2020"/>
                  </a:lnTo>
                  <a:lnTo>
                    <a:pt x="1027" y="2011"/>
                  </a:lnTo>
                  <a:lnTo>
                    <a:pt x="1027" y="2002"/>
                  </a:lnTo>
                  <a:lnTo>
                    <a:pt x="1027" y="1994"/>
                  </a:lnTo>
                  <a:lnTo>
                    <a:pt x="1027" y="1985"/>
                  </a:lnTo>
                  <a:lnTo>
                    <a:pt x="1030" y="1976"/>
                  </a:lnTo>
                  <a:lnTo>
                    <a:pt x="1039" y="1974"/>
                  </a:lnTo>
                  <a:lnTo>
                    <a:pt x="1042" y="1982"/>
                  </a:lnTo>
                  <a:lnTo>
                    <a:pt x="1042" y="1994"/>
                  </a:lnTo>
                  <a:lnTo>
                    <a:pt x="1045" y="2002"/>
                  </a:lnTo>
                  <a:lnTo>
                    <a:pt x="1050" y="2011"/>
                  </a:lnTo>
                  <a:lnTo>
                    <a:pt x="1062" y="2014"/>
                  </a:lnTo>
                  <a:lnTo>
                    <a:pt x="1074" y="2014"/>
                  </a:lnTo>
                  <a:lnTo>
                    <a:pt x="1082" y="2005"/>
                  </a:lnTo>
                  <a:lnTo>
                    <a:pt x="1082" y="1997"/>
                  </a:lnTo>
                  <a:lnTo>
                    <a:pt x="1074" y="1985"/>
                  </a:lnTo>
                  <a:lnTo>
                    <a:pt x="1065" y="1979"/>
                  </a:lnTo>
                  <a:lnTo>
                    <a:pt x="1065" y="1971"/>
                  </a:lnTo>
                  <a:lnTo>
                    <a:pt x="1074" y="1968"/>
                  </a:lnTo>
                  <a:lnTo>
                    <a:pt x="1082" y="1968"/>
                  </a:lnTo>
                  <a:lnTo>
                    <a:pt x="1091" y="1962"/>
                  </a:lnTo>
                  <a:lnTo>
                    <a:pt x="1091" y="1953"/>
                  </a:lnTo>
                  <a:lnTo>
                    <a:pt x="1091" y="1945"/>
                  </a:lnTo>
                  <a:lnTo>
                    <a:pt x="1100" y="1939"/>
                  </a:lnTo>
                  <a:lnTo>
                    <a:pt x="1109" y="1936"/>
                  </a:lnTo>
                  <a:lnTo>
                    <a:pt x="1117" y="1936"/>
                  </a:lnTo>
                  <a:lnTo>
                    <a:pt x="1123" y="1927"/>
                  </a:lnTo>
                  <a:lnTo>
                    <a:pt x="1126" y="1919"/>
                  </a:lnTo>
                  <a:lnTo>
                    <a:pt x="1126" y="1910"/>
                  </a:lnTo>
                  <a:lnTo>
                    <a:pt x="1126" y="1901"/>
                  </a:lnTo>
                  <a:lnTo>
                    <a:pt x="1114" y="1901"/>
                  </a:lnTo>
                  <a:lnTo>
                    <a:pt x="1106" y="1901"/>
                  </a:lnTo>
                  <a:lnTo>
                    <a:pt x="1097" y="1901"/>
                  </a:lnTo>
                  <a:lnTo>
                    <a:pt x="1088" y="1904"/>
                  </a:lnTo>
                  <a:lnTo>
                    <a:pt x="1080" y="1910"/>
                  </a:lnTo>
                  <a:lnTo>
                    <a:pt x="1077" y="1925"/>
                  </a:lnTo>
                  <a:lnTo>
                    <a:pt x="1077" y="1933"/>
                  </a:lnTo>
                  <a:lnTo>
                    <a:pt x="1068" y="1933"/>
                  </a:lnTo>
                  <a:lnTo>
                    <a:pt x="1059" y="1922"/>
                  </a:lnTo>
                  <a:lnTo>
                    <a:pt x="1056" y="1913"/>
                  </a:lnTo>
                  <a:lnTo>
                    <a:pt x="1068" y="1910"/>
                  </a:lnTo>
                  <a:lnTo>
                    <a:pt x="1077" y="1910"/>
                  </a:lnTo>
                  <a:lnTo>
                    <a:pt x="1065" y="1901"/>
                  </a:lnTo>
                  <a:lnTo>
                    <a:pt x="1056" y="1896"/>
                  </a:lnTo>
                  <a:lnTo>
                    <a:pt x="1056" y="1904"/>
                  </a:lnTo>
                  <a:lnTo>
                    <a:pt x="1048" y="1910"/>
                  </a:lnTo>
                  <a:lnTo>
                    <a:pt x="1039" y="1919"/>
                  </a:lnTo>
                  <a:lnTo>
                    <a:pt x="1036" y="1927"/>
                  </a:lnTo>
                  <a:lnTo>
                    <a:pt x="1030" y="1936"/>
                  </a:lnTo>
                  <a:lnTo>
                    <a:pt x="1024" y="1945"/>
                  </a:lnTo>
                  <a:lnTo>
                    <a:pt x="1016" y="1950"/>
                  </a:lnTo>
                  <a:lnTo>
                    <a:pt x="1004" y="1953"/>
                  </a:lnTo>
                  <a:lnTo>
                    <a:pt x="1001" y="1962"/>
                  </a:lnTo>
                  <a:lnTo>
                    <a:pt x="1001" y="1971"/>
                  </a:lnTo>
                  <a:lnTo>
                    <a:pt x="1001" y="1979"/>
                  </a:lnTo>
                  <a:lnTo>
                    <a:pt x="1001" y="1988"/>
                  </a:lnTo>
                  <a:lnTo>
                    <a:pt x="1001" y="1997"/>
                  </a:lnTo>
                  <a:lnTo>
                    <a:pt x="995" y="2005"/>
                  </a:lnTo>
                  <a:lnTo>
                    <a:pt x="986" y="2011"/>
                  </a:lnTo>
                  <a:lnTo>
                    <a:pt x="981" y="2020"/>
                  </a:lnTo>
                  <a:lnTo>
                    <a:pt x="981" y="2028"/>
                  </a:lnTo>
                  <a:lnTo>
                    <a:pt x="981" y="2037"/>
                  </a:lnTo>
                  <a:lnTo>
                    <a:pt x="978" y="2046"/>
                  </a:lnTo>
                  <a:lnTo>
                    <a:pt x="978" y="2054"/>
                  </a:lnTo>
                  <a:lnTo>
                    <a:pt x="983" y="2046"/>
                  </a:lnTo>
                  <a:lnTo>
                    <a:pt x="983" y="2037"/>
                  </a:lnTo>
                  <a:lnTo>
                    <a:pt x="975" y="2034"/>
                  </a:lnTo>
                  <a:lnTo>
                    <a:pt x="966" y="2034"/>
                  </a:lnTo>
                  <a:lnTo>
                    <a:pt x="957" y="2034"/>
                  </a:lnTo>
                  <a:lnTo>
                    <a:pt x="949" y="2023"/>
                  </a:lnTo>
                  <a:lnTo>
                    <a:pt x="949" y="2011"/>
                  </a:lnTo>
                  <a:lnTo>
                    <a:pt x="940" y="2008"/>
                  </a:lnTo>
                  <a:lnTo>
                    <a:pt x="931" y="2008"/>
                  </a:lnTo>
                  <a:lnTo>
                    <a:pt x="922" y="2011"/>
                  </a:lnTo>
                  <a:lnTo>
                    <a:pt x="914" y="2008"/>
                  </a:lnTo>
                  <a:lnTo>
                    <a:pt x="899" y="2002"/>
                  </a:lnTo>
                  <a:lnTo>
                    <a:pt x="890" y="1988"/>
                  </a:lnTo>
                  <a:lnTo>
                    <a:pt x="885" y="1976"/>
                  </a:lnTo>
                  <a:lnTo>
                    <a:pt x="876" y="1976"/>
                  </a:lnTo>
                  <a:lnTo>
                    <a:pt x="867" y="1979"/>
                  </a:lnTo>
                  <a:lnTo>
                    <a:pt x="861" y="1988"/>
                  </a:lnTo>
                  <a:lnTo>
                    <a:pt x="852" y="1994"/>
                  </a:lnTo>
                  <a:lnTo>
                    <a:pt x="844" y="1999"/>
                  </a:lnTo>
                  <a:lnTo>
                    <a:pt x="835" y="2002"/>
                  </a:lnTo>
                  <a:lnTo>
                    <a:pt x="826" y="2005"/>
                  </a:lnTo>
                  <a:lnTo>
                    <a:pt x="818" y="2008"/>
                  </a:lnTo>
                  <a:lnTo>
                    <a:pt x="809" y="2008"/>
                  </a:lnTo>
                  <a:lnTo>
                    <a:pt x="797" y="2011"/>
                  </a:lnTo>
                  <a:lnTo>
                    <a:pt x="788" y="2011"/>
                  </a:lnTo>
                  <a:lnTo>
                    <a:pt x="797" y="2011"/>
                  </a:lnTo>
                  <a:lnTo>
                    <a:pt x="812" y="2014"/>
                  </a:lnTo>
                  <a:lnTo>
                    <a:pt x="803" y="2017"/>
                  </a:lnTo>
                  <a:lnTo>
                    <a:pt x="794" y="2020"/>
                  </a:lnTo>
                  <a:lnTo>
                    <a:pt x="803" y="2031"/>
                  </a:lnTo>
                  <a:lnTo>
                    <a:pt x="794" y="2031"/>
                  </a:lnTo>
                  <a:lnTo>
                    <a:pt x="786" y="2028"/>
                  </a:lnTo>
                  <a:lnTo>
                    <a:pt x="777" y="2023"/>
                  </a:lnTo>
                  <a:lnTo>
                    <a:pt x="771" y="2014"/>
                  </a:lnTo>
                  <a:lnTo>
                    <a:pt x="762" y="2011"/>
                  </a:lnTo>
                  <a:lnTo>
                    <a:pt x="751" y="2008"/>
                  </a:lnTo>
                  <a:lnTo>
                    <a:pt x="742" y="2008"/>
                  </a:lnTo>
                  <a:lnTo>
                    <a:pt x="733" y="2005"/>
                  </a:lnTo>
                  <a:lnTo>
                    <a:pt x="736" y="2002"/>
                  </a:lnTo>
                  <a:lnTo>
                    <a:pt x="721" y="1985"/>
                  </a:lnTo>
                  <a:lnTo>
                    <a:pt x="713" y="1985"/>
                  </a:lnTo>
                  <a:lnTo>
                    <a:pt x="710" y="1994"/>
                  </a:lnTo>
                  <a:lnTo>
                    <a:pt x="716" y="2005"/>
                  </a:lnTo>
                  <a:lnTo>
                    <a:pt x="713" y="2014"/>
                  </a:lnTo>
                  <a:lnTo>
                    <a:pt x="704" y="2020"/>
                  </a:lnTo>
                  <a:lnTo>
                    <a:pt x="704" y="2028"/>
                  </a:lnTo>
                  <a:lnTo>
                    <a:pt x="692" y="2031"/>
                  </a:lnTo>
                  <a:lnTo>
                    <a:pt x="684" y="2025"/>
                  </a:lnTo>
                  <a:lnTo>
                    <a:pt x="672" y="2020"/>
                  </a:lnTo>
                  <a:lnTo>
                    <a:pt x="660" y="2017"/>
                  </a:lnTo>
                  <a:lnTo>
                    <a:pt x="646" y="2011"/>
                  </a:lnTo>
                  <a:lnTo>
                    <a:pt x="634" y="2008"/>
                  </a:lnTo>
                  <a:lnTo>
                    <a:pt x="625" y="2005"/>
                  </a:lnTo>
                  <a:lnTo>
                    <a:pt x="622" y="1997"/>
                  </a:lnTo>
                  <a:lnTo>
                    <a:pt x="620" y="1988"/>
                  </a:lnTo>
                  <a:lnTo>
                    <a:pt x="611" y="1979"/>
                  </a:lnTo>
                  <a:lnTo>
                    <a:pt x="608" y="1971"/>
                  </a:lnTo>
                  <a:lnTo>
                    <a:pt x="599" y="1968"/>
                  </a:lnTo>
                  <a:lnTo>
                    <a:pt x="590" y="1974"/>
                  </a:lnTo>
                  <a:lnTo>
                    <a:pt x="588" y="1985"/>
                  </a:lnTo>
                  <a:lnTo>
                    <a:pt x="585" y="1997"/>
                  </a:lnTo>
                  <a:lnTo>
                    <a:pt x="576" y="2002"/>
                  </a:lnTo>
                  <a:lnTo>
                    <a:pt x="567" y="1991"/>
                  </a:lnTo>
                  <a:lnTo>
                    <a:pt x="561" y="1982"/>
                  </a:lnTo>
                  <a:lnTo>
                    <a:pt x="553" y="1976"/>
                  </a:lnTo>
                  <a:lnTo>
                    <a:pt x="547" y="1968"/>
                  </a:lnTo>
                  <a:lnTo>
                    <a:pt x="541" y="1959"/>
                  </a:lnTo>
                  <a:lnTo>
                    <a:pt x="532" y="1956"/>
                  </a:lnTo>
                  <a:lnTo>
                    <a:pt x="524" y="1953"/>
                  </a:lnTo>
                  <a:lnTo>
                    <a:pt x="518" y="1945"/>
                  </a:lnTo>
                  <a:lnTo>
                    <a:pt x="509" y="1939"/>
                  </a:lnTo>
                  <a:lnTo>
                    <a:pt x="500" y="1939"/>
                  </a:lnTo>
                  <a:lnTo>
                    <a:pt x="494" y="1948"/>
                  </a:lnTo>
                  <a:lnTo>
                    <a:pt x="491" y="1956"/>
                  </a:lnTo>
                  <a:lnTo>
                    <a:pt x="486" y="1965"/>
                  </a:lnTo>
                  <a:lnTo>
                    <a:pt x="491" y="1974"/>
                  </a:lnTo>
                  <a:lnTo>
                    <a:pt x="500" y="1976"/>
                  </a:lnTo>
                  <a:lnTo>
                    <a:pt x="503" y="1985"/>
                  </a:lnTo>
                  <a:lnTo>
                    <a:pt x="506" y="1994"/>
                  </a:lnTo>
                  <a:lnTo>
                    <a:pt x="509" y="2002"/>
                  </a:lnTo>
                  <a:lnTo>
                    <a:pt x="512" y="2011"/>
                  </a:lnTo>
                  <a:lnTo>
                    <a:pt x="515" y="2020"/>
                  </a:lnTo>
                  <a:lnTo>
                    <a:pt x="518" y="2028"/>
                  </a:lnTo>
                  <a:lnTo>
                    <a:pt x="518" y="2037"/>
                  </a:lnTo>
                  <a:lnTo>
                    <a:pt x="518" y="2046"/>
                  </a:lnTo>
                  <a:lnTo>
                    <a:pt x="518" y="2054"/>
                  </a:lnTo>
                  <a:lnTo>
                    <a:pt x="515" y="2063"/>
                  </a:lnTo>
                  <a:lnTo>
                    <a:pt x="506" y="2072"/>
                  </a:lnTo>
                  <a:lnTo>
                    <a:pt x="503" y="2080"/>
                  </a:lnTo>
                  <a:lnTo>
                    <a:pt x="503" y="2089"/>
                  </a:lnTo>
                  <a:lnTo>
                    <a:pt x="503" y="2097"/>
                  </a:lnTo>
                  <a:lnTo>
                    <a:pt x="500" y="2106"/>
                  </a:lnTo>
                  <a:lnTo>
                    <a:pt x="491" y="2112"/>
                  </a:lnTo>
                  <a:lnTo>
                    <a:pt x="483" y="2118"/>
                  </a:lnTo>
                  <a:lnTo>
                    <a:pt x="483" y="2126"/>
                  </a:lnTo>
                  <a:lnTo>
                    <a:pt x="480" y="2138"/>
                  </a:lnTo>
                  <a:lnTo>
                    <a:pt x="477" y="2149"/>
                  </a:lnTo>
                  <a:lnTo>
                    <a:pt x="468" y="2144"/>
                  </a:lnTo>
                  <a:lnTo>
                    <a:pt x="459" y="2144"/>
                  </a:lnTo>
                  <a:lnTo>
                    <a:pt x="451" y="2144"/>
                  </a:lnTo>
                  <a:lnTo>
                    <a:pt x="442" y="2152"/>
                  </a:lnTo>
                  <a:lnTo>
                    <a:pt x="436" y="2161"/>
                  </a:lnTo>
                  <a:lnTo>
                    <a:pt x="427" y="2167"/>
                  </a:lnTo>
                  <a:lnTo>
                    <a:pt x="419" y="2175"/>
                  </a:lnTo>
                  <a:lnTo>
                    <a:pt x="407" y="2181"/>
                  </a:lnTo>
                  <a:lnTo>
                    <a:pt x="398" y="2184"/>
                  </a:lnTo>
                  <a:lnTo>
                    <a:pt x="393" y="2175"/>
                  </a:lnTo>
                  <a:lnTo>
                    <a:pt x="390" y="2167"/>
                  </a:lnTo>
                  <a:lnTo>
                    <a:pt x="384" y="2158"/>
                  </a:lnTo>
                  <a:lnTo>
                    <a:pt x="369" y="2149"/>
                  </a:lnTo>
                  <a:lnTo>
                    <a:pt x="358" y="2144"/>
                  </a:lnTo>
                  <a:lnTo>
                    <a:pt x="355" y="2135"/>
                  </a:lnTo>
                  <a:lnTo>
                    <a:pt x="349" y="2126"/>
                  </a:lnTo>
                  <a:lnTo>
                    <a:pt x="343" y="2118"/>
                  </a:lnTo>
                  <a:lnTo>
                    <a:pt x="334" y="2109"/>
                  </a:lnTo>
                  <a:lnTo>
                    <a:pt x="328" y="2100"/>
                  </a:lnTo>
                  <a:lnTo>
                    <a:pt x="320" y="2092"/>
                  </a:lnTo>
                  <a:lnTo>
                    <a:pt x="317" y="2080"/>
                  </a:lnTo>
                  <a:lnTo>
                    <a:pt x="317" y="2048"/>
                  </a:lnTo>
                  <a:lnTo>
                    <a:pt x="311" y="2060"/>
                  </a:lnTo>
                  <a:lnTo>
                    <a:pt x="302" y="2057"/>
                  </a:lnTo>
                  <a:lnTo>
                    <a:pt x="294" y="2051"/>
                  </a:lnTo>
                  <a:lnTo>
                    <a:pt x="282" y="2048"/>
                  </a:lnTo>
                  <a:lnTo>
                    <a:pt x="276" y="2040"/>
                  </a:lnTo>
                  <a:lnTo>
                    <a:pt x="270" y="2031"/>
                  </a:lnTo>
                  <a:lnTo>
                    <a:pt x="264" y="2023"/>
                  </a:lnTo>
                  <a:lnTo>
                    <a:pt x="259" y="2014"/>
                  </a:lnTo>
                  <a:lnTo>
                    <a:pt x="250" y="2008"/>
                  </a:lnTo>
                  <a:lnTo>
                    <a:pt x="241" y="2011"/>
                  </a:lnTo>
                  <a:lnTo>
                    <a:pt x="232" y="2011"/>
                  </a:lnTo>
                  <a:lnTo>
                    <a:pt x="227" y="2002"/>
                  </a:lnTo>
                  <a:lnTo>
                    <a:pt x="218" y="2002"/>
                  </a:lnTo>
                  <a:lnTo>
                    <a:pt x="209" y="2002"/>
                  </a:lnTo>
                  <a:lnTo>
                    <a:pt x="200" y="2002"/>
                  </a:lnTo>
                  <a:lnTo>
                    <a:pt x="203" y="2014"/>
                  </a:lnTo>
                  <a:lnTo>
                    <a:pt x="203" y="2025"/>
                  </a:lnTo>
                  <a:lnTo>
                    <a:pt x="200" y="2034"/>
                  </a:lnTo>
                  <a:lnTo>
                    <a:pt x="189" y="2037"/>
                  </a:lnTo>
                  <a:lnTo>
                    <a:pt x="180" y="2043"/>
                  </a:lnTo>
                  <a:lnTo>
                    <a:pt x="171" y="2051"/>
                  </a:lnTo>
                  <a:lnTo>
                    <a:pt x="168" y="2060"/>
                  </a:lnTo>
                  <a:lnTo>
                    <a:pt x="163" y="2072"/>
                  </a:lnTo>
                  <a:lnTo>
                    <a:pt x="154" y="2077"/>
                  </a:lnTo>
                  <a:lnTo>
                    <a:pt x="145" y="2083"/>
                  </a:lnTo>
                  <a:lnTo>
                    <a:pt x="136" y="2086"/>
                  </a:lnTo>
                  <a:lnTo>
                    <a:pt x="122" y="2092"/>
                  </a:lnTo>
                  <a:lnTo>
                    <a:pt x="113" y="2095"/>
                  </a:lnTo>
                  <a:lnTo>
                    <a:pt x="104" y="2097"/>
                  </a:lnTo>
                  <a:lnTo>
                    <a:pt x="96" y="2103"/>
                  </a:lnTo>
                  <a:lnTo>
                    <a:pt x="87" y="2109"/>
                  </a:lnTo>
                  <a:lnTo>
                    <a:pt x="78" y="2112"/>
                  </a:lnTo>
                  <a:lnTo>
                    <a:pt x="66" y="2112"/>
                  </a:lnTo>
                  <a:lnTo>
                    <a:pt x="58" y="2115"/>
                  </a:lnTo>
                  <a:lnTo>
                    <a:pt x="55" y="2123"/>
                  </a:lnTo>
                  <a:lnTo>
                    <a:pt x="49" y="2132"/>
                  </a:lnTo>
                  <a:lnTo>
                    <a:pt x="46" y="2141"/>
                  </a:lnTo>
                  <a:lnTo>
                    <a:pt x="58" y="2146"/>
                  </a:lnTo>
                  <a:lnTo>
                    <a:pt x="66" y="2146"/>
                  </a:lnTo>
                  <a:lnTo>
                    <a:pt x="75" y="2146"/>
                  </a:lnTo>
                  <a:lnTo>
                    <a:pt x="66" y="2158"/>
                  </a:lnTo>
                  <a:lnTo>
                    <a:pt x="55" y="2164"/>
                  </a:lnTo>
                  <a:lnTo>
                    <a:pt x="43" y="2169"/>
                  </a:lnTo>
                  <a:lnTo>
                    <a:pt x="34" y="2175"/>
                  </a:lnTo>
                  <a:lnTo>
                    <a:pt x="26" y="2181"/>
                  </a:lnTo>
                  <a:lnTo>
                    <a:pt x="23" y="2190"/>
                  </a:lnTo>
                  <a:lnTo>
                    <a:pt x="23" y="2198"/>
                  </a:lnTo>
                  <a:lnTo>
                    <a:pt x="14" y="2207"/>
                  </a:lnTo>
                  <a:lnTo>
                    <a:pt x="5" y="2210"/>
                  </a:lnTo>
                  <a:lnTo>
                    <a:pt x="0" y="2218"/>
                  </a:lnTo>
                  <a:lnTo>
                    <a:pt x="5" y="2227"/>
                  </a:lnTo>
                  <a:lnTo>
                    <a:pt x="14" y="2236"/>
                  </a:lnTo>
                  <a:lnTo>
                    <a:pt x="23" y="2244"/>
                  </a:lnTo>
                  <a:lnTo>
                    <a:pt x="37" y="2233"/>
                  </a:lnTo>
                  <a:lnTo>
                    <a:pt x="46" y="2230"/>
                  </a:lnTo>
                  <a:lnTo>
                    <a:pt x="49" y="2239"/>
                  </a:lnTo>
                  <a:lnTo>
                    <a:pt x="49" y="2247"/>
                  </a:lnTo>
                  <a:lnTo>
                    <a:pt x="52" y="2256"/>
                  </a:lnTo>
                  <a:lnTo>
                    <a:pt x="55" y="2265"/>
                  </a:lnTo>
                  <a:lnTo>
                    <a:pt x="58" y="2273"/>
                  </a:lnTo>
                  <a:lnTo>
                    <a:pt x="58" y="2282"/>
                  </a:lnTo>
                  <a:lnTo>
                    <a:pt x="61" y="2291"/>
                  </a:lnTo>
                  <a:lnTo>
                    <a:pt x="61" y="2299"/>
                  </a:lnTo>
                  <a:lnTo>
                    <a:pt x="58" y="2308"/>
                  </a:lnTo>
                  <a:lnTo>
                    <a:pt x="52" y="2316"/>
                  </a:lnTo>
                  <a:lnTo>
                    <a:pt x="52" y="2325"/>
                  </a:lnTo>
                  <a:lnTo>
                    <a:pt x="52" y="2334"/>
                  </a:lnTo>
                  <a:lnTo>
                    <a:pt x="49" y="2342"/>
                  </a:lnTo>
                  <a:lnTo>
                    <a:pt x="58" y="2348"/>
                  </a:lnTo>
                  <a:lnTo>
                    <a:pt x="69" y="2348"/>
                  </a:lnTo>
                  <a:lnTo>
                    <a:pt x="78" y="2348"/>
                  </a:lnTo>
                  <a:lnTo>
                    <a:pt x="87" y="2357"/>
                  </a:lnTo>
                  <a:lnTo>
                    <a:pt x="96" y="2360"/>
                  </a:lnTo>
                  <a:lnTo>
                    <a:pt x="104" y="2360"/>
                  </a:lnTo>
                  <a:lnTo>
                    <a:pt x="113" y="2365"/>
                  </a:lnTo>
                  <a:lnTo>
                    <a:pt x="122" y="2371"/>
                  </a:lnTo>
                  <a:lnTo>
                    <a:pt x="128" y="2380"/>
                  </a:lnTo>
                  <a:lnTo>
                    <a:pt x="139" y="2389"/>
                  </a:lnTo>
                  <a:lnTo>
                    <a:pt x="142" y="2397"/>
                  </a:lnTo>
                  <a:lnTo>
                    <a:pt x="151" y="2406"/>
                  </a:lnTo>
                  <a:lnTo>
                    <a:pt x="160" y="2414"/>
                  </a:lnTo>
                  <a:lnTo>
                    <a:pt x="168" y="2417"/>
                  </a:lnTo>
                  <a:lnTo>
                    <a:pt x="177" y="2420"/>
                  </a:lnTo>
                  <a:lnTo>
                    <a:pt x="186" y="2423"/>
                  </a:lnTo>
                  <a:lnTo>
                    <a:pt x="195" y="2423"/>
                  </a:lnTo>
                  <a:lnTo>
                    <a:pt x="203" y="2423"/>
                  </a:lnTo>
                  <a:lnTo>
                    <a:pt x="212" y="2423"/>
                  </a:lnTo>
                  <a:lnTo>
                    <a:pt x="221" y="2420"/>
                  </a:lnTo>
                  <a:lnTo>
                    <a:pt x="229" y="2420"/>
                  </a:lnTo>
                  <a:lnTo>
                    <a:pt x="238" y="2420"/>
                  </a:lnTo>
                  <a:lnTo>
                    <a:pt x="247" y="2417"/>
                  </a:lnTo>
                  <a:lnTo>
                    <a:pt x="256" y="2412"/>
                  </a:lnTo>
                  <a:lnTo>
                    <a:pt x="264" y="2412"/>
                  </a:lnTo>
                  <a:lnTo>
                    <a:pt x="276" y="2412"/>
                  </a:lnTo>
                  <a:lnTo>
                    <a:pt x="285" y="2412"/>
                  </a:lnTo>
                  <a:lnTo>
                    <a:pt x="294" y="2414"/>
                  </a:lnTo>
                  <a:lnTo>
                    <a:pt x="302" y="2414"/>
                  </a:lnTo>
                  <a:lnTo>
                    <a:pt x="305" y="2406"/>
                  </a:lnTo>
                  <a:lnTo>
                    <a:pt x="305" y="2397"/>
                  </a:lnTo>
                  <a:lnTo>
                    <a:pt x="302" y="2389"/>
                  </a:lnTo>
                  <a:lnTo>
                    <a:pt x="299" y="2380"/>
                  </a:lnTo>
                  <a:lnTo>
                    <a:pt x="302" y="2371"/>
                  </a:lnTo>
                  <a:lnTo>
                    <a:pt x="314" y="2368"/>
                  </a:lnTo>
                  <a:lnTo>
                    <a:pt x="323" y="2368"/>
                  </a:lnTo>
                  <a:lnTo>
                    <a:pt x="331" y="2368"/>
                  </a:lnTo>
                  <a:lnTo>
                    <a:pt x="343" y="2368"/>
                  </a:lnTo>
                  <a:lnTo>
                    <a:pt x="346" y="2360"/>
                  </a:lnTo>
                  <a:lnTo>
                    <a:pt x="355" y="2354"/>
                  </a:lnTo>
                  <a:lnTo>
                    <a:pt x="363" y="2351"/>
                  </a:lnTo>
                  <a:lnTo>
                    <a:pt x="372" y="2351"/>
                  </a:lnTo>
                  <a:lnTo>
                    <a:pt x="381" y="2348"/>
                  </a:lnTo>
                  <a:lnTo>
                    <a:pt x="390" y="2348"/>
                  </a:lnTo>
                  <a:lnTo>
                    <a:pt x="398" y="2348"/>
                  </a:lnTo>
                  <a:lnTo>
                    <a:pt x="407" y="2348"/>
                  </a:lnTo>
                  <a:lnTo>
                    <a:pt x="419" y="2354"/>
                  </a:lnTo>
                  <a:lnTo>
                    <a:pt x="427" y="2360"/>
                  </a:lnTo>
                  <a:lnTo>
                    <a:pt x="436" y="2360"/>
                  </a:lnTo>
                  <a:lnTo>
                    <a:pt x="445" y="2360"/>
                  </a:lnTo>
                  <a:lnTo>
                    <a:pt x="454" y="2363"/>
                  </a:lnTo>
                  <a:lnTo>
                    <a:pt x="462" y="2363"/>
                  </a:lnTo>
                  <a:lnTo>
                    <a:pt x="471" y="2363"/>
                  </a:lnTo>
                  <a:lnTo>
                    <a:pt x="480" y="2363"/>
                  </a:lnTo>
                  <a:lnTo>
                    <a:pt x="489" y="2360"/>
                  </a:lnTo>
                  <a:lnTo>
                    <a:pt x="494" y="2351"/>
                  </a:lnTo>
                  <a:lnTo>
                    <a:pt x="494" y="2342"/>
                  </a:lnTo>
                  <a:lnTo>
                    <a:pt x="494" y="2334"/>
                  </a:lnTo>
                  <a:lnTo>
                    <a:pt x="497" y="2325"/>
                  </a:lnTo>
                  <a:lnTo>
                    <a:pt x="506" y="2322"/>
                  </a:lnTo>
                  <a:lnTo>
                    <a:pt x="515" y="2322"/>
                  </a:lnTo>
                  <a:lnTo>
                    <a:pt x="524" y="2322"/>
                  </a:lnTo>
                  <a:lnTo>
                    <a:pt x="532" y="2322"/>
                  </a:lnTo>
                  <a:lnTo>
                    <a:pt x="541" y="2322"/>
                  </a:lnTo>
                  <a:lnTo>
                    <a:pt x="550" y="2328"/>
                  </a:lnTo>
                  <a:lnTo>
                    <a:pt x="556" y="2337"/>
                  </a:lnTo>
                  <a:lnTo>
                    <a:pt x="564" y="2342"/>
                  </a:lnTo>
                  <a:lnTo>
                    <a:pt x="570" y="2351"/>
                  </a:lnTo>
                  <a:lnTo>
                    <a:pt x="576" y="2360"/>
                  </a:lnTo>
                  <a:lnTo>
                    <a:pt x="585" y="2368"/>
                  </a:lnTo>
                  <a:lnTo>
                    <a:pt x="590" y="2377"/>
                  </a:lnTo>
                  <a:lnTo>
                    <a:pt x="599" y="2383"/>
                  </a:lnTo>
                  <a:lnTo>
                    <a:pt x="611" y="2386"/>
                  </a:lnTo>
                  <a:lnTo>
                    <a:pt x="620" y="2386"/>
                  </a:lnTo>
                  <a:lnTo>
                    <a:pt x="628" y="2386"/>
                  </a:lnTo>
                  <a:lnTo>
                    <a:pt x="637" y="2386"/>
                  </a:lnTo>
                  <a:lnTo>
                    <a:pt x="646" y="2386"/>
                  </a:lnTo>
                  <a:lnTo>
                    <a:pt x="655" y="2386"/>
                  </a:lnTo>
                  <a:lnTo>
                    <a:pt x="663" y="2389"/>
                  </a:lnTo>
                  <a:lnTo>
                    <a:pt x="672" y="2389"/>
                  </a:lnTo>
                  <a:lnTo>
                    <a:pt x="681" y="2389"/>
                  </a:lnTo>
                  <a:lnTo>
                    <a:pt x="689" y="2389"/>
                  </a:lnTo>
                  <a:lnTo>
                    <a:pt x="698" y="2394"/>
                  </a:lnTo>
                  <a:lnTo>
                    <a:pt x="707" y="2403"/>
                  </a:lnTo>
                  <a:lnTo>
                    <a:pt x="713" y="2412"/>
                  </a:lnTo>
                  <a:lnTo>
                    <a:pt x="716" y="2420"/>
                  </a:lnTo>
                  <a:lnTo>
                    <a:pt x="716" y="2429"/>
                  </a:lnTo>
                  <a:lnTo>
                    <a:pt x="716" y="2437"/>
                  </a:lnTo>
                  <a:lnTo>
                    <a:pt x="719" y="2446"/>
                  </a:lnTo>
                  <a:lnTo>
                    <a:pt x="719" y="2455"/>
                  </a:lnTo>
                  <a:lnTo>
                    <a:pt x="721" y="2463"/>
                  </a:lnTo>
                  <a:lnTo>
                    <a:pt x="721" y="2472"/>
                  </a:lnTo>
                  <a:lnTo>
                    <a:pt x="721" y="2481"/>
                  </a:lnTo>
                  <a:lnTo>
                    <a:pt x="721" y="2489"/>
                  </a:lnTo>
                  <a:lnTo>
                    <a:pt x="713" y="2492"/>
                  </a:lnTo>
                  <a:lnTo>
                    <a:pt x="704" y="2492"/>
                  </a:lnTo>
                  <a:lnTo>
                    <a:pt x="698" y="2501"/>
                  </a:lnTo>
                  <a:lnTo>
                    <a:pt x="707" y="2507"/>
                  </a:lnTo>
                  <a:lnTo>
                    <a:pt x="716" y="2512"/>
                  </a:lnTo>
                  <a:lnTo>
                    <a:pt x="721" y="2521"/>
                  </a:lnTo>
                  <a:lnTo>
                    <a:pt x="721" y="2530"/>
                  </a:lnTo>
                  <a:lnTo>
                    <a:pt x="719" y="2538"/>
                  </a:lnTo>
                  <a:lnTo>
                    <a:pt x="719" y="2547"/>
                  </a:lnTo>
                  <a:lnTo>
                    <a:pt x="719" y="2556"/>
                  </a:lnTo>
                  <a:lnTo>
                    <a:pt x="719" y="2564"/>
                  </a:lnTo>
                  <a:lnTo>
                    <a:pt x="721" y="2576"/>
                  </a:lnTo>
                  <a:lnTo>
                    <a:pt x="721" y="2584"/>
                  </a:lnTo>
                  <a:lnTo>
                    <a:pt x="727" y="2593"/>
                  </a:lnTo>
                  <a:lnTo>
                    <a:pt x="736" y="2602"/>
                  </a:lnTo>
                  <a:lnTo>
                    <a:pt x="742" y="2613"/>
                  </a:lnTo>
                  <a:lnTo>
                    <a:pt x="745" y="2625"/>
                  </a:lnTo>
                  <a:lnTo>
                    <a:pt x="756" y="2633"/>
                  </a:lnTo>
                  <a:lnTo>
                    <a:pt x="765" y="2642"/>
                  </a:lnTo>
                  <a:lnTo>
                    <a:pt x="768" y="2654"/>
                  </a:lnTo>
                  <a:lnTo>
                    <a:pt x="768" y="2662"/>
                  </a:lnTo>
                  <a:lnTo>
                    <a:pt x="768" y="2671"/>
                  </a:lnTo>
                  <a:lnTo>
                    <a:pt x="771" y="2682"/>
                  </a:lnTo>
                  <a:lnTo>
                    <a:pt x="780" y="2688"/>
                  </a:lnTo>
                  <a:lnTo>
                    <a:pt x="783" y="2697"/>
                  </a:lnTo>
                  <a:lnTo>
                    <a:pt x="786" y="2705"/>
                  </a:lnTo>
                  <a:lnTo>
                    <a:pt x="788" y="2714"/>
                  </a:lnTo>
                  <a:lnTo>
                    <a:pt x="788" y="2723"/>
                  </a:lnTo>
                  <a:lnTo>
                    <a:pt x="788" y="2731"/>
                  </a:lnTo>
                  <a:lnTo>
                    <a:pt x="788" y="2740"/>
                  </a:lnTo>
                  <a:lnTo>
                    <a:pt x="788" y="2749"/>
                  </a:lnTo>
                  <a:lnTo>
                    <a:pt x="788" y="2757"/>
                  </a:lnTo>
                  <a:lnTo>
                    <a:pt x="788" y="2769"/>
                  </a:lnTo>
                  <a:lnTo>
                    <a:pt x="783" y="2778"/>
                  </a:lnTo>
                  <a:lnTo>
                    <a:pt x="774" y="2778"/>
                  </a:lnTo>
                  <a:lnTo>
                    <a:pt x="765" y="2783"/>
                  </a:lnTo>
                  <a:lnTo>
                    <a:pt x="759" y="2792"/>
                  </a:lnTo>
                  <a:lnTo>
                    <a:pt x="751" y="2795"/>
                  </a:lnTo>
                  <a:lnTo>
                    <a:pt x="742" y="2789"/>
                  </a:lnTo>
                  <a:lnTo>
                    <a:pt x="730" y="2786"/>
                  </a:lnTo>
                  <a:lnTo>
                    <a:pt x="721" y="2780"/>
                  </a:lnTo>
                  <a:lnTo>
                    <a:pt x="713" y="2778"/>
                  </a:lnTo>
                  <a:lnTo>
                    <a:pt x="710" y="2766"/>
                  </a:lnTo>
                  <a:lnTo>
                    <a:pt x="707" y="2757"/>
                  </a:lnTo>
                  <a:lnTo>
                    <a:pt x="698" y="2754"/>
                  </a:lnTo>
                  <a:lnTo>
                    <a:pt x="687" y="2754"/>
                  </a:lnTo>
                  <a:lnTo>
                    <a:pt x="678" y="2746"/>
                  </a:lnTo>
                  <a:lnTo>
                    <a:pt x="672" y="2737"/>
                  </a:lnTo>
                  <a:lnTo>
                    <a:pt x="660" y="2731"/>
                  </a:lnTo>
                  <a:lnTo>
                    <a:pt x="652" y="2729"/>
                  </a:lnTo>
                  <a:lnTo>
                    <a:pt x="643" y="2729"/>
                  </a:lnTo>
                  <a:lnTo>
                    <a:pt x="634" y="2729"/>
                  </a:lnTo>
                  <a:lnTo>
                    <a:pt x="628" y="2737"/>
                  </a:lnTo>
                  <a:lnTo>
                    <a:pt x="628" y="2746"/>
                  </a:lnTo>
                  <a:lnTo>
                    <a:pt x="631" y="2754"/>
                  </a:lnTo>
                  <a:lnTo>
                    <a:pt x="640" y="2763"/>
                  </a:lnTo>
                  <a:lnTo>
                    <a:pt x="652" y="2769"/>
                  </a:lnTo>
                  <a:lnTo>
                    <a:pt x="660" y="2775"/>
                  </a:lnTo>
                  <a:lnTo>
                    <a:pt x="666" y="2783"/>
                  </a:lnTo>
                  <a:lnTo>
                    <a:pt x="669" y="2792"/>
                  </a:lnTo>
                  <a:lnTo>
                    <a:pt x="672" y="2801"/>
                  </a:lnTo>
                  <a:lnTo>
                    <a:pt x="675" y="2809"/>
                  </a:lnTo>
                  <a:lnTo>
                    <a:pt x="678" y="2818"/>
                  </a:lnTo>
                  <a:lnTo>
                    <a:pt x="687" y="2827"/>
                  </a:lnTo>
                  <a:lnTo>
                    <a:pt x="695" y="2829"/>
                  </a:lnTo>
                  <a:lnTo>
                    <a:pt x="707" y="2829"/>
                  </a:lnTo>
                  <a:lnTo>
                    <a:pt x="713" y="2818"/>
                  </a:lnTo>
                  <a:lnTo>
                    <a:pt x="713" y="2809"/>
                  </a:lnTo>
                  <a:lnTo>
                    <a:pt x="716" y="2801"/>
                  </a:lnTo>
                  <a:lnTo>
                    <a:pt x="724" y="2795"/>
                  </a:lnTo>
                  <a:lnTo>
                    <a:pt x="733" y="2795"/>
                  </a:lnTo>
                  <a:lnTo>
                    <a:pt x="742" y="2792"/>
                  </a:lnTo>
                  <a:lnTo>
                    <a:pt x="751" y="2801"/>
                  </a:lnTo>
                  <a:lnTo>
                    <a:pt x="762" y="2803"/>
                  </a:lnTo>
                  <a:lnTo>
                    <a:pt x="771" y="2803"/>
                  </a:lnTo>
                  <a:lnTo>
                    <a:pt x="780" y="2803"/>
                  </a:lnTo>
                  <a:lnTo>
                    <a:pt x="788" y="2803"/>
                  </a:lnTo>
                  <a:lnTo>
                    <a:pt x="788" y="2795"/>
                  </a:lnTo>
                  <a:lnTo>
                    <a:pt x="788" y="2786"/>
                  </a:lnTo>
                  <a:lnTo>
                    <a:pt x="797" y="2780"/>
                  </a:lnTo>
                  <a:lnTo>
                    <a:pt x="806" y="2780"/>
                  </a:lnTo>
                  <a:lnTo>
                    <a:pt x="815" y="2772"/>
                  </a:lnTo>
                  <a:lnTo>
                    <a:pt x="815" y="2763"/>
                  </a:lnTo>
                  <a:lnTo>
                    <a:pt x="815" y="2754"/>
                  </a:lnTo>
                  <a:lnTo>
                    <a:pt x="815" y="2746"/>
                  </a:lnTo>
                  <a:lnTo>
                    <a:pt x="815" y="2737"/>
                  </a:lnTo>
                  <a:lnTo>
                    <a:pt x="818" y="2729"/>
                  </a:lnTo>
                  <a:lnTo>
                    <a:pt x="826" y="2726"/>
                  </a:lnTo>
                  <a:lnTo>
                    <a:pt x="835" y="2720"/>
                  </a:lnTo>
                  <a:lnTo>
                    <a:pt x="844" y="2717"/>
                  </a:lnTo>
                  <a:lnTo>
                    <a:pt x="852" y="2720"/>
                  </a:lnTo>
                  <a:lnTo>
                    <a:pt x="855" y="2729"/>
                  </a:lnTo>
                  <a:lnTo>
                    <a:pt x="858" y="2740"/>
                  </a:lnTo>
                  <a:lnTo>
                    <a:pt x="858" y="2749"/>
                  </a:lnTo>
                  <a:lnTo>
                    <a:pt x="861" y="2757"/>
                  </a:lnTo>
                  <a:lnTo>
                    <a:pt x="870" y="2763"/>
                  </a:lnTo>
                  <a:lnTo>
                    <a:pt x="882" y="2766"/>
                  </a:lnTo>
                  <a:lnTo>
                    <a:pt x="887" y="2757"/>
                  </a:lnTo>
                  <a:lnTo>
                    <a:pt x="887" y="2749"/>
                  </a:lnTo>
                  <a:lnTo>
                    <a:pt x="887" y="2740"/>
                  </a:lnTo>
                  <a:lnTo>
                    <a:pt x="887" y="2731"/>
                  </a:lnTo>
                  <a:lnTo>
                    <a:pt x="885" y="2723"/>
                  </a:lnTo>
                  <a:lnTo>
                    <a:pt x="876" y="2714"/>
                  </a:lnTo>
                  <a:lnTo>
                    <a:pt x="870" y="2705"/>
                  </a:lnTo>
                  <a:lnTo>
                    <a:pt x="864" y="2697"/>
                  </a:lnTo>
                  <a:lnTo>
                    <a:pt x="855" y="2691"/>
                  </a:lnTo>
                  <a:lnTo>
                    <a:pt x="847" y="2682"/>
                  </a:lnTo>
                  <a:lnTo>
                    <a:pt x="838" y="2674"/>
                  </a:lnTo>
                  <a:lnTo>
                    <a:pt x="835" y="2665"/>
                  </a:lnTo>
                  <a:lnTo>
                    <a:pt x="832" y="2657"/>
                  </a:lnTo>
                  <a:lnTo>
                    <a:pt x="832" y="2648"/>
                  </a:lnTo>
                  <a:lnTo>
                    <a:pt x="841" y="2642"/>
                  </a:lnTo>
                  <a:lnTo>
                    <a:pt x="850" y="2642"/>
                  </a:lnTo>
                  <a:lnTo>
                    <a:pt x="852" y="2633"/>
                  </a:lnTo>
                  <a:lnTo>
                    <a:pt x="844" y="2628"/>
                  </a:lnTo>
                  <a:lnTo>
                    <a:pt x="835" y="2622"/>
                  </a:lnTo>
                  <a:lnTo>
                    <a:pt x="826" y="2619"/>
                  </a:lnTo>
                  <a:lnTo>
                    <a:pt x="820" y="2610"/>
                  </a:lnTo>
                  <a:lnTo>
                    <a:pt x="818" y="2602"/>
                  </a:lnTo>
                  <a:lnTo>
                    <a:pt x="812" y="2593"/>
                  </a:lnTo>
                  <a:lnTo>
                    <a:pt x="812" y="2584"/>
                  </a:lnTo>
                  <a:lnTo>
                    <a:pt x="809" y="2576"/>
                  </a:lnTo>
                  <a:lnTo>
                    <a:pt x="806" y="2564"/>
                  </a:lnTo>
                  <a:lnTo>
                    <a:pt x="806" y="2556"/>
                  </a:lnTo>
                  <a:lnTo>
                    <a:pt x="806" y="2547"/>
                  </a:lnTo>
                  <a:lnTo>
                    <a:pt x="806" y="2538"/>
                  </a:lnTo>
                  <a:lnTo>
                    <a:pt x="806" y="2530"/>
                  </a:lnTo>
                  <a:lnTo>
                    <a:pt x="806" y="2521"/>
                  </a:lnTo>
                  <a:lnTo>
                    <a:pt x="806" y="2512"/>
                  </a:lnTo>
                  <a:lnTo>
                    <a:pt x="806" y="2504"/>
                  </a:lnTo>
                  <a:lnTo>
                    <a:pt x="803" y="2495"/>
                  </a:lnTo>
                  <a:lnTo>
                    <a:pt x="800" y="2486"/>
                  </a:lnTo>
                  <a:lnTo>
                    <a:pt x="800" y="2478"/>
                  </a:lnTo>
                  <a:lnTo>
                    <a:pt x="800" y="2469"/>
                  </a:lnTo>
                  <a:lnTo>
                    <a:pt x="800" y="2461"/>
                  </a:lnTo>
                  <a:lnTo>
                    <a:pt x="800" y="2452"/>
                  </a:lnTo>
                  <a:lnTo>
                    <a:pt x="809" y="2452"/>
                  </a:lnTo>
                  <a:lnTo>
                    <a:pt x="818" y="2452"/>
                  </a:lnTo>
                  <a:lnTo>
                    <a:pt x="818" y="2443"/>
                  </a:lnTo>
                  <a:lnTo>
                    <a:pt x="820" y="2435"/>
                  </a:lnTo>
                  <a:lnTo>
                    <a:pt x="826" y="2426"/>
                  </a:lnTo>
                  <a:lnTo>
                    <a:pt x="835" y="2426"/>
                  </a:lnTo>
                  <a:lnTo>
                    <a:pt x="838" y="2435"/>
                  </a:lnTo>
                  <a:lnTo>
                    <a:pt x="847" y="2440"/>
                  </a:lnTo>
                  <a:lnTo>
                    <a:pt x="855" y="2435"/>
                  </a:lnTo>
                  <a:lnTo>
                    <a:pt x="864" y="2432"/>
                  </a:lnTo>
                  <a:lnTo>
                    <a:pt x="864" y="2440"/>
                  </a:lnTo>
                  <a:lnTo>
                    <a:pt x="864" y="2449"/>
                  </a:lnTo>
                  <a:lnTo>
                    <a:pt x="858" y="2458"/>
                  </a:lnTo>
                  <a:lnTo>
                    <a:pt x="850" y="2466"/>
                  </a:lnTo>
                  <a:lnTo>
                    <a:pt x="847" y="2475"/>
                  </a:lnTo>
                  <a:lnTo>
                    <a:pt x="855" y="2478"/>
                  </a:lnTo>
                  <a:lnTo>
                    <a:pt x="864" y="2478"/>
                  </a:lnTo>
                  <a:lnTo>
                    <a:pt x="864" y="2486"/>
                  </a:lnTo>
                  <a:lnTo>
                    <a:pt x="864" y="2495"/>
                  </a:lnTo>
                  <a:lnTo>
                    <a:pt x="873" y="2498"/>
                  </a:lnTo>
                  <a:lnTo>
                    <a:pt x="882" y="2498"/>
                  </a:lnTo>
                  <a:lnTo>
                    <a:pt x="882" y="2507"/>
                  </a:lnTo>
                  <a:lnTo>
                    <a:pt x="882" y="2515"/>
                  </a:lnTo>
                  <a:lnTo>
                    <a:pt x="879" y="2524"/>
                  </a:lnTo>
                  <a:lnTo>
                    <a:pt x="870" y="2527"/>
                  </a:lnTo>
                  <a:lnTo>
                    <a:pt x="864" y="2535"/>
                  </a:lnTo>
                  <a:lnTo>
                    <a:pt x="867" y="2544"/>
                  </a:lnTo>
                  <a:lnTo>
                    <a:pt x="870" y="2553"/>
                  </a:lnTo>
                  <a:lnTo>
                    <a:pt x="876" y="2561"/>
                  </a:lnTo>
                  <a:lnTo>
                    <a:pt x="882" y="2573"/>
                  </a:lnTo>
                  <a:lnTo>
                    <a:pt x="890" y="2584"/>
                  </a:lnTo>
                  <a:lnTo>
                    <a:pt x="893" y="2593"/>
                  </a:lnTo>
                  <a:lnTo>
                    <a:pt x="896" y="2602"/>
                  </a:lnTo>
                  <a:lnTo>
                    <a:pt x="899" y="2613"/>
                  </a:lnTo>
                  <a:lnTo>
                    <a:pt x="899" y="2622"/>
                  </a:lnTo>
                  <a:lnTo>
                    <a:pt x="902" y="2631"/>
                  </a:lnTo>
                  <a:lnTo>
                    <a:pt x="905" y="2639"/>
                  </a:lnTo>
                  <a:lnTo>
                    <a:pt x="911" y="2648"/>
                  </a:lnTo>
                  <a:lnTo>
                    <a:pt x="919" y="2657"/>
                  </a:lnTo>
                  <a:lnTo>
                    <a:pt x="928" y="2662"/>
                  </a:lnTo>
                  <a:lnTo>
                    <a:pt x="937" y="2671"/>
                  </a:lnTo>
                  <a:lnTo>
                    <a:pt x="943" y="2680"/>
                  </a:lnTo>
                  <a:lnTo>
                    <a:pt x="946" y="2688"/>
                  </a:lnTo>
                  <a:lnTo>
                    <a:pt x="949" y="2697"/>
                  </a:lnTo>
                  <a:lnTo>
                    <a:pt x="949" y="2705"/>
                  </a:lnTo>
                  <a:lnTo>
                    <a:pt x="949" y="2714"/>
                  </a:lnTo>
                  <a:lnTo>
                    <a:pt x="949" y="2723"/>
                  </a:lnTo>
                  <a:lnTo>
                    <a:pt x="943" y="2731"/>
                  </a:lnTo>
                  <a:lnTo>
                    <a:pt x="934" y="2734"/>
                  </a:lnTo>
                  <a:lnTo>
                    <a:pt x="928" y="2743"/>
                  </a:lnTo>
                  <a:lnTo>
                    <a:pt x="925" y="2752"/>
                  </a:lnTo>
                  <a:lnTo>
                    <a:pt x="925" y="2760"/>
                  </a:lnTo>
                  <a:lnTo>
                    <a:pt x="922" y="2769"/>
                  </a:lnTo>
                  <a:lnTo>
                    <a:pt x="922" y="2778"/>
                  </a:lnTo>
                  <a:lnTo>
                    <a:pt x="919" y="2786"/>
                  </a:lnTo>
                  <a:lnTo>
                    <a:pt x="911" y="2795"/>
                  </a:lnTo>
                  <a:lnTo>
                    <a:pt x="908" y="2803"/>
                  </a:lnTo>
                  <a:lnTo>
                    <a:pt x="908" y="2812"/>
                  </a:lnTo>
                  <a:lnTo>
                    <a:pt x="911" y="2821"/>
                  </a:lnTo>
                  <a:lnTo>
                    <a:pt x="922" y="2827"/>
                  </a:lnTo>
                  <a:lnTo>
                    <a:pt x="934" y="2832"/>
                  </a:lnTo>
                  <a:lnTo>
                    <a:pt x="940" y="2841"/>
                  </a:lnTo>
                  <a:lnTo>
                    <a:pt x="922" y="2832"/>
                  </a:lnTo>
                  <a:lnTo>
                    <a:pt x="946" y="2824"/>
                  </a:lnTo>
                  <a:lnTo>
                    <a:pt x="946" y="2832"/>
                  </a:lnTo>
                  <a:lnTo>
                    <a:pt x="946" y="2841"/>
                  </a:lnTo>
                  <a:lnTo>
                    <a:pt x="946" y="2850"/>
                  </a:lnTo>
                  <a:lnTo>
                    <a:pt x="940" y="2858"/>
                  </a:lnTo>
                  <a:lnTo>
                    <a:pt x="931" y="2861"/>
                  </a:lnTo>
                  <a:lnTo>
                    <a:pt x="922" y="2867"/>
                  </a:lnTo>
                  <a:lnTo>
                    <a:pt x="917" y="2876"/>
                  </a:lnTo>
                  <a:lnTo>
                    <a:pt x="919" y="2884"/>
                  </a:lnTo>
                  <a:lnTo>
                    <a:pt x="922" y="2893"/>
                  </a:lnTo>
                  <a:lnTo>
                    <a:pt x="917" y="2901"/>
                  </a:lnTo>
                  <a:lnTo>
                    <a:pt x="925" y="2904"/>
                  </a:lnTo>
                  <a:lnTo>
                    <a:pt x="934" y="2904"/>
                  </a:lnTo>
                  <a:lnTo>
                    <a:pt x="943" y="2904"/>
                  </a:lnTo>
                  <a:lnTo>
                    <a:pt x="951" y="2899"/>
                  </a:lnTo>
                  <a:lnTo>
                    <a:pt x="960" y="2893"/>
                  </a:lnTo>
                  <a:lnTo>
                    <a:pt x="969" y="2893"/>
                  </a:lnTo>
                  <a:lnTo>
                    <a:pt x="978" y="2899"/>
                  </a:lnTo>
                  <a:lnTo>
                    <a:pt x="983" y="2907"/>
                  </a:lnTo>
                  <a:lnTo>
                    <a:pt x="975" y="2904"/>
                  </a:lnTo>
                  <a:lnTo>
                    <a:pt x="966" y="2899"/>
                  </a:lnTo>
                  <a:lnTo>
                    <a:pt x="954" y="2896"/>
                  </a:lnTo>
                  <a:lnTo>
                    <a:pt x="940" y="2893"/>
                  </a:lnTo>
                  <a:lnTo>
                    <a:pt x="943" y="2910"/>
                  </a:lnTo>
                  <a:lnTo>
                    <a:pt x="951" y="2930"/>
                  </a:lnTo>
                  <a:lnTo>
                    <a:pt x="943" y="2933"/>
                  </a:lnTo>
                  <a:lnTo>
                    <a:pt x="940" y="2942"/>
                  </a:lnTo>
                  <a:lnTo>
                    <a:pt x="937" y="2950"/>
                  </a:lnTo>
                  <a:lnTo>
                    <a:pt x="946" y="2956"/>
                  </a:lnTo>
                  <a:lnTo>
                    <a:pt x="949" y="2965"/>
                  </a:lnTo>
                  <a:lnTo>
                    <a:pt x="951" y="2974"/>
                  </a:lnTo>
                  <a:lnTo>
                    <a:pt x="951" y="2982"/>
                  </a:lnTo>
                  <a:lnTo>
                    <a:pt x="951" y="2991"/>
                  </a:lnTo>
                  <a:lnTo>
                    <a:pt x="954" y="2999"/>
                  </a:lnTo>
                  <a:lnTo>
                    <a:pt x="957" y="3011"/>
                  </a:lnTo>
                  <a:lnTo>
                    <a:pt x="963" y="3002"/>
                  </a:lnTo>
                  <a:lnTo>
                    <a:pt x="963" y="2994"/>
                  </a:lnTo>
                  <a:lnTo>
                    <a:pt x="963" y="2985"/>
                  </a:lnTo>
                  <a:lnTo>
                    <a:pt x="963" y="2976"/>
                  </a:lnTo>
                  <a:lnTo>
                    <a:pt x="963" y="2968"/>
                  </a:lnTo>
                  <a:lnTo>
                    <a:pt x="969" y="2959"/>
                  </a:lnTo>
                  <a:lnTo>
                    <a:pt x="978" y="2953"/>
                  </a:lnTo>
                  <a:lnTo>
                    <a:pt x="983" y="2945"/>
                  </a:lnTo>
                  <a:lnTo>
                    <a:pt x="992" y="2942"/>
                  </a:lnTo>
                  <a:lnTo>
                    <a:pt x="1004" y="2945"/>
                  </a:lnTo>
                  <a:lnTo>
                    <a:pt x="1016" y="2945"/>
                  </a:lnTo>
                  <a:lnTo>
                    <a:pt x="1024" y="2945"/>
                  </a:lnTo>
                  <a:lnTo>
                    <a:pt x="1027" y="2936"/>
                  </a:lnTo>
                  <a:lnTo>
                    <a:pt x="1036" y="2945"/>
                  </a:lnTo>
                  <a:lnTo>
                    <a:pt x="1042" y="2953"/>
                  </a:lnTo>
                  <a:lnTo>
                    <a:pt x="1050" y="2962"/>
                  </a:lnTo>
                  <a:lnTo>
                    <a:pt x="1059" y="2971"/>
                  </a:lnTo>
                  <a:lnTo>
                    <a:pt x="1045" y="2959"/>
                  </a:lnTo>
                  <a:lnTo>
                    <a:pt x="1042" y="2950"/>
                  </a:lnTo>
                  <a:lnTo>
                    <a:pt x="1042" y="2942"/>
                  </a:lnTo>
                  <a:lnTo>
                    <a:pt x="1042" y="2933"/>
                  </a:lnTo>
                  <a:lnTo>
                    <a:pt x="1042" y="2925"/>
                  </a:lnTo>
                  <a:lnTo>
                    <a:pt x="1033" y="2916"/>
                  </a:lnTo>
                  <a:lnTo>
                    <a:pt x="1021" y="2907"/>
                  </a:lnTo>
                  <a:lnTo>
                    <a:pt x="1013" y="2899"/>
                  </a:lnTo>
                  <a:lnTo>
                    <a:pt x="1007" y="2890"/>
                  </a:lnTo>
                  <a:lnTo>
                    <a:pt x="1018" y="2893"/>
                  </a:lnTo>
                  <a:lnTo>
                    <a:pt x="1027" y="2896"/>
                  </a:lnTo>
                  <a:lnTo>
                    <a:pt x="1036" y="2901"/>
                  </a:lnTo>
                  <a:lnTo>
                    <a:pt x="1045" y="2907"/>
                  </a:lnTo>
                  <a:lnTo>
                    <a:pt x="1050" y="2916"/>
                  </a:lnTo>
                  <a:lnTo>
                    <a:pt x="1042" y="2913"/>
                  </a:lnTo>
                  <a:lnTo>
                    <a:pt x="1033" y="2907"/>
                  </a:lnTo>
                  <a:lnTo>
                    <a:pt x="1021" y="2899"/>
                  </a:lnTo>
                  <a:lnTo>
                    <a:pt x="1010" y="2896"/>
                  </a:lnTo>
                  <a:lnTo>
                    <a:pt x="1004" y="2887"/>
                  </a:lnTo>
                  <a:lnTo>
                    <a:pt x="1013" y="2881"/>
                  </a:lnTo>
                  <a:lnTo>
                    <a:pt x="1018" y="2873"/>
                  </a:lnTo>
                  <a:lnTo>
                    <a:pt x="1018" y="2864"/>
                  </a:lnTo>
                  <a:lnTo>
                    <a:pt x="1021" y="2855"/>
                  </a:lnTo>
                  <a:lnTo>
                    <a:pt x="1021" y="2847"/>
                  </a:lnTo>
                  <a:lnTo>
                    <a:pt x="1021" y="2838"/>
                  </a:lnTo>
                  <a:lnTo>
                    <a:pt x="1021" y="2829"/>
                  </a:lnTo>
                  <a:lnTo>
                    <a:pt x="1021" y="2821"/>
                  </a:lnTo>
                  <a:lnTo>
                    <a:pt x="1024" y="2812"/>
                  </a:lnTo>
                  <a:lnTo>
                    <a:pt x="1033" y="2812"/>
                  </a:lnTo>
                  <a:lnTo>
                    <a:pt x="1042" y="2809"/>
                  </a:lnTo>
                  <a:lnTo>
                    <a:pt x="1042" y="2818"/>
                  </a:lnTo>
                  <a:lnTo>
                    <a:pt x="1042" y="2827"/>
                  </a:lnTo>
                  <a:lnTo>
                    <a:pt x="1042" y="2835"/>
                  </a:lnTo>
                  <a:lnTo>
                    <a:pt x="1042" y="2844"/>
                  </a:lnTo>
                  <a:lnTo>
                    <a:pt x="1050" y="2850"/>
                  </a:lnTo>
                  <a:lnTo>
                    <a:pt x="1056" y="2841"/>
                  </a:lnTo>
                  <a:lnTo>
                    <a:pt x="1065" y="2841"/>
                  </a:lnTo>
                  <a:lnTo>
                    <a:pt x="1068" y="2850"/>
                  </a:lnTo>
                  <a:lnTo>
                    <a:pt x="1071" y="2841"/>
                  </a:lnTo>
                  <a:lnTo>
                    <a:pt x="1071" y="2832"/>
                  </a:lnTo>
                  <a:lnTo>
                    <a:pt x="1080" y="2827"/>
                  </a:lnTo>
                  <a:lnTo>
                    <a:pt x="1088" y="2827"/>
                  </a:lnTo>
                  <a:lnTo>
                    <a:pt x="1100" y="2835"/>
                  </a:lnTo>
                  <a:lnTo>
                    <a:pt x="1109" y="2835"/>
                  </a:lnTo>
                  <a:lnTo>
                    <a:pt x="1120" y="2835"/>
                  </a:lnTo>
                  <a:lnTo>
                    <a:pt x="1129" y="2835"/>
                  </a:lnTo>
                  <a:lnTo>
                    <a:pt x="1138" y="2838"/>
                  </a:lnTo>
                  <a:lnTo>
                    <a:pt x="1147" y="2841"/>
                  </a:lnTo>
                  <a:lnTo>
                    <a:pt x="1155" y="2844"/>
                  </a:lnTo>
                  <a:lnTo>
                    <a:pt x="1149" y="2852"/>
                  </a:lnTo>
                  <a:lnTo>
                    <a:pt x="1149" y="2861"/>
                  </a:lnTo>
                  <a:lnTo>
                    <a:pt x="1149" y="2870"/>
                  </a:lnTo>
                  <a:lnTo>
                    <a:pt x="1158" y="2878"/>
                  </a:lnTo>
                  <a:lnTo>
                    <a:pt x="1170" y="2878"/>
                  </a:lnTo>
                  <a:lnTo>
                    <a:pt x="1179" y="2878"/>
                  </a:lnTo>
                  <a:lnTo>
                    <a:pt x="1187" y="2878"/>
                  </a:lnTo>
                  <a:lnTo>
                    <a:pt x="1196" y="2878"/>
                  </a:lnTo>
                  <a:lnTo>
                    <a:pt x="1205" y="2876"/>
                  </a:lnTo>
                  <a:lnTo>
                    <a:pt x="1216" y="2873"/>
                  </a:lnTo>
                  <a:lnTo>
                    <a:pt x="1225" y="2873"/>
                  </a:lnTo>
                  <a:lnTo>
                    <a:pt x="1234" y="2873"/>
                  </a:lnTo>
                  <a:lnTo>
                    <a:pt x="1243" y="2873"/>
                  </a:lnTo>
                  <a:lnTo>
                    <a:pt x="1251" y="2873"/>
                  </a:lnTo>
                  <a:lnTo>
                    <a:pt x="1254" y="2884"/>
                  </a:lnTo>
                  <a:lnTo>
                    <a:pt x="1257" y="2893"/>
                  </a:lnTo>
                  <a:lnTo>
                    <a:pt x="1257" y="2901"/>
                  </a:lnTo>
                  <a:lnTo>
                    <a:pt x="1272" y="2907"/>
                  </a:lnTo>
                  <a:lnTo>
                    <a:pt x="1263" y="2913"/>
                  </a:lnTo>
                  <a:lnTo>
                    <a:pt x="1254" y="2913"/>
                  </a:lnTo>
                  <a:lnTo>
                    <a:pt x="1245" y="2913"/>
                  </a:lnTo>
                  <a:lnTo>
                    <a:pt x="1248" y="2878"/>
                  </a:lnTo>
                  <a:lnTo>
                    <a:pt x="1245" y="2896"/>
                  </a:lnTo>
                  <a:lnTo>
                    <a:pt x="1237" y="2896"/>
                  </a:lnTo>
                  <a:lnTo>
                    <a:pt x="1228" y="2893"/>
                  </a:lnTo>
                  <a:lnTo>
                    <a:pt x="1219" y="2896"/>
                  </a:lnTo>
                  <a:lnTo>
                    <a:pt x="1211" y="2896"/>
                  </a:lnTo>
                  <a:lnTo>
                    <a:pt x="1202" y="2896"/>
                  </a:lnTo>
                  <a:lnTo>
                    <a:pt x="1193" y="2893"/>
                  </a:lnTo>
                  <a:lnTo>
                    <a:pt x="1184" y="2890"/>
                  </a:lnTo>
                  <a:lnTo>
                    <a:pt x="1176" y="2890"/>
                  </a:lnTo>
                  <a:lnTo>
                    <a:pt x="1167" y="2887"/>
                  </a:lnTo>
                  <a:lnTo>
                    <a:pt x="1155" y="2887"/>
                  </a:lnTo>
                  <a:lnTo>
                    <a:pt x="1147" y="2887"/>
                  </a:lnTo>
                  <a:lnTo>
                    <a:pt x="1135" y="2887"/>
                  </a:lnTo>
                  <a:lnTo>
                    <a:pt x="1132" y="2896"/>
                  </a:lnTo>
                  <a:lnTo>
                    <a:pt x="1132" y="2904"/>
                  </a:lnTo>
                  <a:lnTo>
                    <a:pt x="1132" y="2913"/>
                  </a:lnTo>
                  <a:lnTo>
                    <a:pt x="1144" y="2916"/>
                  </a:lnTo>
                  <a:lnTo>
                    <a:pt x="1144" y="2925"/>
                  </a:lnTo>
                  <a:lnTo>
                    <a:pt x="1129" y="2927"/>
                  </a:lnTo>
                  <a:lnTo>
                    <a:pt x="1120" y="2927"/>
                  </a:lnTo>
                  <a:lnTo>
                    <a:pt x="1112" y="2927"/>
                  </a:lnTo>
                  <a:lnTo>
                    <a:pt x="1114" y="2936"/>
                  </a:lnTo>
                  <a:lnTo>
                    <a:pt x="1123" y="2936"/>
                  </a:lnTo>
                  <a:lnTo>
                    <a:pt x="1132" y="2942"/>
                  </a:lnTo>
                  <a:lnTo>
                    <a:pt x="1144" y="2948"/>
                  </a:lnTo>
                  <a:lnTo>
                    <a:pt x="1135" y="2953"/>
                  </a:lnTo>
                  <a:lnTo>
                    <a:pt x="1123" y="2953"/>
                  </a:lnTo>
                  <a:lnTo>
                    <a:pt x="1112" y="2953"/>
                  </a:lnTo>
                  <a:lnTo>
                    <a:pt x="1103" y="2953"/>
                  </a:lnTo>
                  <a:lnTo>
                    <a:pt x="1106" y="2962"/>
                  </a:lnTo>
                  <a:lnTo>
                    <a:pt x="1114" y="2965"/>
                  </a:lnTo>
                  <a:lnTo>
                    <a:pt x="1123" y="2974"/>
                  </a:lnTo>
                  <a:lnTo>
                    <a:pt x="1114" y="2982"/>
                  </a:lnTo>
                  <a:lnTo>
                    <a:pt x="1117" y="2991"/>
                  </a:lnTo>
                  <a:lnTo>
                    <a:pt x="1126" y="2994"/>
                  </a:lnTo>
                  <a:lnTo>
                    <a:pt x="1114" y="2999"/>
                  </a:lnTo>
                  <a:lnTo>
                    <a:pt x="1106" y="2999"/>
                  </a:lnTo>
                  <a:lnTo>
                    <a:pt x="1117" y="3005"/>
                  </a:lnTo>
                  <a:lnTo>
                    <a:pt x="1132" y="3008"/>
                  </a:lnTo>
                  <a:lnTo>
                    <a:pt x="1135" y="3017"/>
                  </a:lnTo>
                  <a:lnTo>
                    <a:pt x="1126" y="3022"/>
                  </a:lnTo>
                  <a:lnTo>
                    <a:pt x="1126" y="3034"/>
                  </a:lnTo>
                  <a:lnTo>
                    <a:pt x="1126" y="3046"/>
                  </a:lnTo>
                  <a:lnTo>
                    <a:pt x="1126" y="3054"/>
                  </a:lnTo>
                  <a:lnTo>
                    <a:pt x="1135" y="3054"/>
                  </a:lnTo>
                  <a:lnTo>
                    <a:pt x="1144" y="3054"/>
                  </a:lnTo>
                  <a:lnTo>
                    <a:pt x="1155" y="3054"/>
                  </a:lnTo>
                  <a:lnTo>
                    <a:pt x="1164" y="3054"/>
                  </a:lnTo>
                  <a:lnTo>
                    <a:pt x="1167" y="3063"/>
                  </a:lnTo>
                  <a:lnTo>
                    <a:pt x="1179" y="3069"/>
                  </a:lnTo>
                  <a:lnTo>
                    <a:pt x="1187" y="3069"/>
                  </a:lnTo>
                  <a:lnTo>
                    <a:pt x="1190" y="3080"/>
                  </a:lnTo>
                  <a:lnTo>
                    <a:pt x="1193" y="3089"/>
                  </a:lnTo>
                  <a:lnTo>
                    <a:pt x="1199" y="3097"/>
                  </a:lnTo>
                  <a:lnTo>
                    <a:pt x="1211" y="3103"/>
                  </a:lnTo>
                  <a:lnTo>
                    <a:pt x="1219" y="3103"/>
                  </a:lnTo>
                  <a:lnTo>
                    <a:pt x="1231" y="3103"/>
                  </a:lnTo>
                  <a:lnTo>
                    <a:pt x="1240" y="3100"/>
                  </a:lnTo>
                  <a:lnTo>
                    <a:pt x="1243" y="3092"/>
                  </a:lnTo>
                  <a:lnTo>
                    <a:pt x="1248" y="3083"/>
                  </a:lnTo>
                  <a:lnTo>
                    <a:pt x="1257" y="3083"/>
                  </a:lnTo>
                  <a:lnTo>
                    <a:pt x="1278" y="3097"/>
                  </a:lnTo>
                  <a:lnTo>
                    <a:pt x="1286" y="3103"/>
                  </a:lnTo>
                  <a:lnTo>
                    <a:pt x="1289" y="3112"/>
                  </a:lnTo>
                  <a:lnTo>
                    <a:pt x="1295" y="3120"/>
                  </a:lnTo>
                  <a:lnTo>
                    <a:pt x="1301" y="3129"/>
                  </a:lnTo>
                  <a:lnTo>
                    <a:pt x="1312" y="3141"/>
                  </a:lnTo>
                  <a:lnTo>
                    <a:pt x="1324" y="3146"/>
                  </a:lnTo>
                  <a:lnTo>
                    <a:pt x="1336" y="3152"/>
                  </a:lnTo>
                  <a:lnTo>
                    <a:pt x="1347" y="3155"/>
                  </a:lnTo>
                  <a:lnTo>
                    <a:pt x="1356" y="3155"/>
                  </a:lnTo>
                  <a:lnTo>
                    <a:pt x="1365" y="3155"/>
                  </a:lnTo>
                  <a:lnTo>
                    <a:pt x="1374" y="3155"/>
                  </a:lnTo>
                  <a:lnTo>
                    <a:pt x="1376" y="3146"/>
                  </a:lnTo>
                  <a:lnTo>
                    <a:pt x="1385" y="3138"/>
                  </a:lnTo>
                  <a:lnTo>
                    <a:pt x="1391" y="3129"/>
                  </a:lnTo>
                  <a:lnTo>
                    <a:pt x="1400" y="3132"/>
                  </a:lnTo>
                  <a:lnTo>
                    <a:pt x="1409" y="3138"/>
                  </a:lnTo>
                  <a:lnTo>
                    <a:pt x="1417" y="3149"/>
                  </a:lnTo>
                  <a:lnTo>
                    <a:pt x="1429" y="3152"/>
                  </a:lnTo>
                  <a:lnTo>
                    <a:pt x="1435" y="3155"/>
                  </a:lnTo>
                  <a:lnTo>
                    <a:pt x="1438" y="3164"/>
                  </a:lnTo>
                  <a:lnTo>
                    <a:pt x="1441" y="3172"/>
                  </a:lnTo>
                  <a:lnTo>
                    <a:pt x="1449" y="3178"/>
                  </a:lnTo>
                  <a:lnTo>
                    <a:pt x="1458" y="3178"/>
                  </a:lnTo>
                  <a:lnTo>
                    <a:pt x="1464" y="3169"/>
                  </a:lnTo>
                  <a:lnTo>
                    <a:pt x="1464" y="3161"/>
                  </a:lnTo>
                  <a:lnTo>
                    <a:pt x="1470" y="3152"/>
                  </a:lnTo>
                  <a:lnTo>
                    <a:pt x="1478" y="3152"/>
                  </a:lnTo>
                  <a:lnTo>
                    <a:pt x="1487" y="3155"/>
                  </a:lnTo>
                  <a:lnTo>
                    <a:pt x="1499" y="3161"/>
                  </a:lnTo>
                  <a:lnTo>
                    <a:pt x="1510" y="3161"/>
                  </a:lnTo>
                  <a:lnTo>
                    <a:pt x="1519" y="3161"/>
                  </a:lnTo>
                  <a:lnTo>
                    <a:pt x="1528" y="3161"/>
                  </a:lnTo>
                  <a:lnTo>
                    <a:pt x="1537" y="3158"/>
                  </a:lnTo>
                  <a:lnTo>
                    <a:pt x="1545" y="3158"/>
                  </a:lnTo>
                  <a:lnTo>
                    <a:pt x="1554" y="3164"/>
                  </a:lnTo>
                  <a:lnTo>
                    <a:pt x="1569" y="3169"/>
                  </a:lnTo>
                  <a:lnTo>
                    <a:pt x="1580" y="3169"/>
                  </a:lnTo>
                  <a:lnTo>
                    <a:pt x="1592" y="3169"/>
                  </a:lnTo>
                  <a:lnTo>
                    <a:pt x="1601" y="3169"/>
                  </a:lnTo>
                  <a:lnTo>
                    <a:pt x="1609" y="3169"/>
                  </a:lnTo>
                  <a:lnTo>
                    <a:pt x="1618" y="3169"/>
                  </a:lnTo>
                  <a:lnTo>
                    <a:pt x="1627" y="3169"/>
                  </a:lnTo>
                  <a:lnTo>
                    <a:pt x="1636" y="3169"/>
                  </a:lnTo>
                  <a:lnTo>
                    <a:pt x="1644" y="3169"/>
                  </a:lnTo>
                  <a:lnTo>
                    <a:pt x="1653" y="3169"/>
                  </a:lnTo>
                  <a:lnTo>
                    <a:pt x="1662" y="3169"/>
                  </a:lnTo>
                  <a:lnTo>
                    <a:pt x="1671" y="3169"/>
                  </a:lnTo>
                  <a:lnTo>
                    <a:pt x="1679" y="3169"/>
                  </a:lnTo>
                  <a:lnTo>
                    <a:pt x="1688" y="3169"/>
                  </a:lnTo>
                  <a:lnTo>
                    <a:pt x="1703" y="3169"/>
                  </a:lnTo>
                  <a:lnTo>
                    <a:pt x="1714" y="3172"/>
                  </a:lnTo>
                  <a:lnTo>
                    <a:pt x="1726" y="3175"/>
                  </a:lnTo>
                  <a:lnTo>
                    <a:pt x="1735" y="3175"/>
                  </a:lnTo>
                  <a:lnTo>
                    <a:pt x="1743" y="3175"/>
                  </a:lnTo>
                  <a:lnTo>
                    <a:pt x="1758" y="3175"/>
                  </a:lnTo>
                  <a:lnTo>
                    <a:pt x="1767" y="3175"/>
                  </a:lnTo>
                  <a:lnTo>
                    <a:pt x="1772" y="3167"/>
                  </a:lnTo>
                  <a:lnTo>
                    <a:pt x="1772" y="3158"/>
                  </a:lnTo>
                  <a:lnTo>
                    <a:pt x="1772" y="3149"/>
                  </a:lnTo>
                  <a:lnTo>
                    <a:pt x="1772" y="3141"/>
                  </a:lnTo>
                  <a:lnTo>
                    <a:pt x="1772" y="3132"/>
                  </a:lnTo>
                  <a:lnTo>
                    <a:pt x="1772" y="3123"/>
                  </a:lnTo>
                  <a:lnTo>
                    <a:pt x="1772" y="3112"/>
                  </a:lnTo>
                  <a:lnTo>
                    <a:pt x="1770" y="3103"/>
                  </a:lnTo>
                  <a:lnTo>
                    <a:pt x="1770" y="3095"/>
                  </a:lnTo>
                  <a:lnTo>
                    <a:pt x="1770" y="3086"/>
                  </a:lnTo>
                  <a:lnTo>
                    <a:pt x="1778" y="3080"/>
                  </a:lnTo>
                  <a:lnTo>
                    <a:pt x="1787" y="3080"/>
                  </a:lnTo>
                  <a:lnTo>
                    <a:pt x="1796" y="3089"/>
                  </a:lnTo>
                  <a:lnTo>
                    <a:pt x="1802" y="3097"/>
                  </a:lnTo>
                  <a:lnTo>
                    <a:pt x="1813" y="3103"/>
                  </a:lnTo>
                  <a:lnTo>
                    <a:pt x="1825" y="3112"/>
                  </a:lnTo>
                  <a:lnTo>
                    <a:pt x="1854" y="3109"/>
                  </a:lnTo>
                  <a:lnTo>
                    <a:pt x="1836" y="3103"/>
                  </a:lnTo>
                  <a:lnTo>
                    <a:pt x="1854" y="3103"/>
                  </a:lnTo>
                  <a:lnTo>
                    <a:pt x="1863" y="3103"/>
                  </a:lnTo>
                  <a:lnTo>
                    <a:pt x="1871" y="3103"/>
                  </a:lnTo>
                  <a:lnTo>
                    <a:pt x="1880" y="3106"/>
                  </a:lnTo>
                  <a:lnTo>
                    <a:pt x="1889" y="3100"/>
                  </a:lnTo>
                  <a:lnTo>
                    <a:pt x="1898" y="3097"/>
                  </a:lnTo>
                  <a:lnTo>
                    <a:pt x="1906" y="3095"/>
                  </a:lnTo>
                  <a:lnTo>
                    <a:pt x="1918" y="3103"/>
                  </a:lnTo>
                  <a:lnTo>
                    <a:pt x="1924" y="3112"/>
                  </a:lnTo>
                  <a:lnTo>
                    <a:pt x="1924" y="3120"/>
                  </a:lnTo>
                  <a:lnTo>
                    <a:pt x="1921" y="3129"/>
                  </a:lnTo>
                  <a:lnTo>
                    <a:pt x="1924" y="3138"/>
                  </a:lnTo>
                  <a:lnTo>
                    <a:pt x="1933" y="3144"/>
                  </a:lnTo>
                  <a:lnTo>
                    <a:pt x="1944" y="3152"/>
                  </a:lnTo>
                  <a:lnTo>
                    <a:pt x="1947" y="3144"/>
                  </a:lnTo>
                  <a:lnTo>
                    <a:pt x="1947" y="3135"/>
                  </a:lnTo>
                  <a:lnTo>
                    <a:pt x="1947" y="3126"/>
                  </a:lnTo>
                  <a:lnTo>
                    <a:pt x="1947" y="3118"/>
                  </a:lnTo>
                  <a:lnTo>
                    <a:pt x="1956" y="3115"/>
                  </a:lnTo>
                  <a:lnTo>
                    <a:pt x="1962" y="3106"/>
                  </a:lnTo>
                  <a:lnTo>
                    <a:pt x="1962" y="3097"/>
                  </a:lnTo>
                  <a:lnTo>
                    <a:pt x="1962" y="3089"/>
                  </a:lnTo>
                  <a:lnTo>
                    <a:pt x="1962" y="3080"/>
                  </a:lnTo>
                  <a:lnTo>
                    <a:pt x="1962" y="3071"/>
                  </a:lnTo>
                  <a:lnTo>
                    <a:pt x="1967" y="3063"/>
                  </a:lnTo>
                  <a:lnTo>
                    <a:pt x="1976" y="3060"/>
                  </a:lnTo>
                  <a:lnTo>
                    <a:pt x="1988" y="3060"/>
                  </a:lnTo>
                  <a:lnTo>
                    <a:pt x="2002" y="3063"/>
                  </a:lnTo>
                  <a:lnTo>
                    <a:pt x="2011" y="3063"/>
                  </a:lnTo>
                  <a:lnTo>
                    <a:pt x="2002" y="3054"/>
                  </a:lnTo>
                  <a:lnTo>
                    <a:pt x="1994" y="3048"/>
                  </a:lnTo>
                  <a:lnTo>
                    <a:pt x="1979" y="3043"/>
                  </a:lnTo>
                  <a:lnTo>
                    <a:pt x="1967" y="3034"/>
                  </a:lnTo>
                  <a:lnTo>
                    <a:pt x="1962" y="3025"/>
                  </a:lnTo>
                  <a:lnTo>
                    <a:pt x="1959" y="3017"/>
                  </a:lnTo>
                  <a:lnTo>
                    <a:pt x="1956" y="3008"/>
                  </a:lnTo>
                  <a:lnTo>
                    <a:pt x="1950" y="2999"/>
                  </a:lnTo>
                  <a:lnTo>
                    <a:pt x="1944" y="2991"/>
                  </a:lnTo>
                  <a:lnTo>
                    <a:pt x="1938" y="2982"/>
                  </a:lnTo>
                  <a:lnTo>
                    <a:pt x="1933" y="2974"/>
                  </a:lnTo>
                  <a:lnTo>
                    <a:pt x="1927" y="2965"/>
                  </a:lnTo>
                  <a:lnTo>
                    <a:pt x="1924" y="2956"/>
                  </a:lnTo>
                  <a:lnTo>
                    <a:pt x="1921" y="2948"/>
                  </a:lnTo>
                  <a:lnTo>
                    <a:pt x="1918" y="2939"/>
                  </a:lnTo>
                  <a:lnTo>
                    <a:pt x="1915" y="2930"/>
                  </a:lnTo>
                  <a:lnTo>
                    <a:pt x="1912" y="2922"/>
                  </a:lnTo>
                  <a:lnTo>
                    <a:pt x="1915" y="2913"/>
                  </a:lnTo>
                  <a:lnTo>
                    <a:pt x="1915" y="2904"/>
                  </a:lnTo>
                  <a:lnTo>
                    <a:pt x="1915" y="2896"/>
                  </a:lnTo>
                  <a:lnTo>
                    <a:pt x="1915" y="2887"/>
                  </a:lnTo>
                  <a:lnTo>
                    <a:pt x="1912" y="2878"/>
                  </a:lnTo>
                  <a:lnTo>
                    <a:pt x="1909" y="2870"/>
                  </a:lnTo>
                  <a:lnTo>
                    <a:pt x="1903" y="2861"/>
                  </a:lnTo>
                  <a:lnTo>
                    <a:pt x="1895" y="2852"/>
                  </a:lnTo>
                  <a:lnTo>
                    <a:pt x="1892" y="2844"/>
                  </a:lnTo>
                  <a:lnTo>
                    <a:pt x="1892" y="2835"/>
                  </a:lnTo>
                  <a:lnTo>
                    <a:pt x="1898" y="2827"/>
                  </a:lnTo>
                  <a:lnTo>
                    <a:pt x="1906" y="2824"/>
                  </a:lnTo>
                  <a:lnTo>
                    <a:pt x="1918" y="2821"/>
                  </a:lnTo>
                  <a:lnTo>
                    <a:pt x="1930" y="2818"/>
                  </a:lnTo>
                  <a:lnTo>
                    <a:pt x="1938" y="2812"/>
                  </a:lnTo>
                  <a:lnTo>
                    <a:pt x="1944" y="2803"/>
                  </a:lnTo>
                  <a:lnTo>
                    <a:pt x="1953" y="2798"/>
                  </a:lnTo>
                  <a:lnTo>
                    <a:pt x="1962" y="2798"/>
                  </a:lnTo>
                  <a:lnTo>
                    <a:pt x="1970" y="2798"/>
                  </a:lnTo>
                  <a:lnTo>
                    <a:pt x="1976" y="2789"/>
                  </a:lnTo>
                  <a:lnTo>
                    <a:pt x="1982" y="2780"/>
                  </a:lnTo>
                  <a:lnTo>
                    <a:pt x="1991" y="2775"/>
                  </a:lnTo>
                  <a:lnTo>
                    <a:pt x="1999" y="2775"/>
                  </a:lnTo>
                  <a:lnTo>
                    <a:pt x="2008" y="2769"/>
                  </a:lnTo>
                  <a:lnTo>
                    <a:pt x="2017" y="2763"/>
                  </a:lnTo>
                  <a:lnTo>
                    <a:pt x="2026" y="2760"/>
                  </a:lnTo>
                  <a:lnTo>
                    <a:pt x="2034" y="2760"/>
                  </a:lnTo>
                  <a:lnTo>
                    <a:pt x="2043" y="2760"/>
                  </a:lnTo>
                  <a:lnTo>
                    <a:pt x="2052" y="2754"/>
                  </a:lnTo>
                  <a:lnTo>
                    <a:pt x="2061" y="2754"/>
                  </a:lnTo>
                  <a:lnTo>
                    <a:pt x="2069" y="2757"/>
                  </a:lnTo>
                  <a:lnTo>
                    <a:pt x="2078" y="2757"/>
                  </a:lnTo>
                  <a:lnTo>
                    <a:pt x="2093" y="2760"/>
                  </a:lnTo>
                  <a:lnTo>
                    <a:pt x="2101" y="2760"/>
                  </a:lnTo>
                  <a:lnTo>
                    <a:pt x="2101" y="2769"/>
                  </a:lnTo>
                  <a:lnTo>
                    <a:pt x="2101" y="2778"/>
                  </a:lnTo>
                  <a:lnTo>
                    <a:pt x="2101" y="2786"/>
                  </a:lnTo>
                  <a:lnTo>
                    <a:pt x="2104" y="2795"/>
                  </a:lnTo>
                  <a:lnTo>
                    <a:pt x="2104" y="2803"/>
                  </a:lnTo>
                  <a:lnTo>
                    <a:pt x="2104" y="2812"/>
                  </a:lnTo>
                  <a:lnTo>
                    <a:pt x="2104" y="2821"/>
                  </a:lnTo>
                  <a:lnTo>
                    <a:pt x="2104" y="2829"/>
                  </a:lnTo>
                  <a:lnTo>
                    <a:pt x="2104" y="2838"/>
                  </a:lnTo>
                  <a:lnTo>
                    <a:pt x="2096" y="2841"/>
                  </a:lnTo>
                  <a:lnTo>
                    <a:pt x="2087" y="2841"/>
                  </a:lnTo>
                  <a:lnTo>
                    <a:pt x="2078" y="2841"/>
                  </a:lnTo>
                  <a:lnTo>
                    <a:pt x="2069" y="2841"/>
                  </a:lnTo>
                  <a:lnTo>
                    <a:pt x="2061" y="2841"/>
                  </a:lnTo>
                  <a:lnTo>
                    <a:pt x="2069" y="2841"/>
                  </a:lnTo>
                  <a:lnTo>
                    <a:pt x="2078" y="2835"/>
                  </a:lnTo>
                  <a:lnTo>
                    <a:pt x="2090" y="2835"/>
                  </a:lnTo>
                  <a:lnTo>
                    <a:pt x="2081" y="2832"/>
                  </a:lnTo>
                  <a:lnTo>
                    <a:pt x="2072" y="2832"/>
                  </a:lnTo>
                  <a:lnTo>
                    <a:pt x="2064" y="2832"/>
                  </a:lnTo>
                  <a:lnTo>
                    <a:pt x="2058" y="2841"/>
                  </a:lnTo>
                  <a:lnTo>
                    <a:pt x="2049" y="2844"/>
                  </a:lnTo>
                  <a:lnTo>
                    <a:pt x="2040" y="2847"/>
                  </a:lnTo>
                  <a:lnTo>
                    <a:pt x="2040" y="2855"/>
                  </a:lnTo>
                  <a:lnTo>
                    <a:pt x="2040" y="2864"/>
                  </a:lnTo>
                  <a:lnTo>
                    <a:pt x="2032" y="2870"/>
                  </a:lnTo>
                  <a:lnTo>
                    <a:pt x="2020" y="2870"/>
                  </a:lnTo>
                  <a:lnTo>
                    <a:pt x="2017" y="2861"/>
                  </a:lnTo>
                  <a:lnTo>
                    <a:pt x="2008" y="2858"/>
                  </a:lnTo>
                  <a:lnTo>
                    <a:pt x="2002" y="2867"/>
                  </a:lnTo>
                  <a:lnTo>
                    <a:pt x="2002" y="2876"/>
                  </a:lnTo>
                  <a:lnTo>
                    <a:pt x="2011" y="2878"/>
                  </a:lnTo>
                  <a:lnTo>
                    <a:pt x="2020" y="2884"/>
                  </a:lnTo>
                  <a:lnTo>
                    <a:pt x="2029" y="2896"/>
                  </a:lnTo>
                  <a:lnTo>
                    <a:pt x="2034" y="2907"/>
                  </a:lnTo>
                  <a:lnTo>
                    <a:pt x="2037" y="2916"/>
                  </a:lnTo>
                  <a:lnTo>
                    <a:pt x="2037" y="2925"/>
                  </a:lnTo>
                  <a:lnTo>
                    <a:pt x="2040" y="2933"/>
                  </a:lnTo>
                  <a:lnTo>
                    <a:pt x="2040" y="2942"/>
                  </a:lnTo>
                  <a:lnTo>
                    <a:pt x="2052" y="2945"/>
                  </a:lnTo>
                  <a:lnTo>
                    <a:pt x="2061" y="2953"/>
                  </a:lnTo>
                  <a:lnTo>
                    <a:pt x="2069" y="2959"/>
                  </a:lnTo>
                  <a:lnTo>
                    <a:pt x="2078" y="2965"/>
                  </a:lnTo>
                  <a:lnTo>
                    <a:pt x="2087" y="2965"/>
                  </a:lnTo>
                  <a:lnTo>
                    <a:pt x="2093" y="2976"/>
                  </a:lnTo>
                  <a:lnTo>
                    <a:pt x="2087" y="2985"/>
                  </a:lnTo>
                  <a:lnTo>
                    <a:pt x="2084" y="2994"/>
                  </a:lnTo>
                  <a:lnTo>
                    <a:pt x="2084" y="3005"/>
                  </a:lnTo>
                  <a:lnTo>
                    <a:pt x="2090" y="3017"/>
                  </a:lnTo>
                  <a:lnTo>
                    <a:pt x="2090" y="3025"/>
                  </a:lnTo>
                  <a:lnTo>
                    <a:pt x="2093" y="3017"/>
                  </a:lnTo>
                  <a:lnTo>
                    <a:pt x="2093" y="3008"/>
                  </a:lnTo>
                  <a:lnTo>
                    <a:pt x="2096" y="2999"/>
                  </a:lnTo>
                  <a:lnTo>
                    <a:pt x="2096" y="2991"/>
                  </a:lnTo>
                  <a:lnTo>
                    <a:pt x="2104" y="2988"/>
                  </a:lnTo>
                  <a:lnTo>
                    <a:pt x="2113" y="2988"/>
                  </a:lnTo>
                  <a:lnTo>
                    <a:pt x="2125" y="2988"/>
                  </a:lnTo>
                  <a:lnTo>
                    <a:pt x="2130" y="2999"/>
                  </a:lnTo>
                  <a:lnTo>
                    <a:pt x="2130" y="3008"/>
                  </a:lnTo>
                  <a:lnTo>
                    <a:pt x="2133" y="3017"/>
                  </a:lnTo>
                  <a:lnTo>
                    <a:pt x="2139" y="3028"/>
                  </a:lnTo>
                  <a:lnTo>
                    <a:pt x="2148" y="3034"/>
                  </a:lnTo>
                  <a:lnTo>
                    <a:pt x="2160" y="3040"/>
                  </a:lnTo>
                  <a:lnTo>
                    <a:pt x="2151" y="3043"/>
                  </a:lnTo>
                  <a:lnTo>
                    <a:pt x="2148" y="3051"/>
                  </a:lnTo>
                  <a:lnTo>
                    <a:pt x="2133" y="3054"/>
                  </a:lnTo>
                  <a:lnTo>
                    <a:pt x="2125" y="3051"/>
                  </a:lnTo>
                  <a:lnTo>
                    <a:pt x="2116" y="3051"/>
                  </a:lnTo>
                  <a:lnTo>
                    <a:pt x="2101" y="3046"/>
                  </a:lnTo>
                  <a:lnTo>
                    <a:pt x="2093" y="3037"/>
                  </a:lnTo>
                  <a:lnTo>
                    <a:pt x="2090" y="3046"/>
                  </a:lnTo>
                  <a:lnTo>
                    <a:pt x="2090" y="3054"/>
                  </a:lnTo>
                  <a:lnTo>
                    <a:pt x="2090" y="3063"/>
                  </a:lnTo>
                  <a:lnTo>
                    <a:pt x="2090" y="3071"/>
                  </a:lnTo>
                  <a:lnTo>
                    <a:pt x="2087" y="3080"/>
                  </a:lnTo>
                  <a:lnTo>
                    <a:pt x="2084" y="3089"/>
                  </a:lnTo>
                  <a:lnTo>
                    <a:pt x="2084" y="3097"/>
                  </a:lnTo>
                  <a:lnTo>
                    <a:pt x="2096" y="3097"/>
                  </a:lnTo>
                  <a:lnTo>
                    <a:pt x="2104" y="3092"/>
                  </a:lnTo>
                  <a:lnTo>
                    <a:pt x="2110" y="3100"/>
                  </a:lnTo>
                  <a:lnTo>
                    <a:pt x="2107" y="3109"/>
                  </a:lnTo>
                  <a:lnTo>
                    <a:pt x="2098" y="3118"/>
                  </a:lnTo>
                  <a:lnTo>
                    <a:pt x="2090" y="3123"/>
                  </a:lnTo>
                  <a:lnTo>
                    <a:pt x="2087" y="3109"/>
                  </a:lnTo>
                  <a:lnTo>
                    <a:pt x="2087" y="3132"/>
                  </a:lnTo>
                  <a:lnTo>
                    <a:pt x="2096" y="3126"/>
                  </a:lnTo>
                  <a:lnTo>
                    <a:pt x="2087" y="3109"/>
                  </a:lnTo>
                  <a:lnTo>
                    <a:pt x="2104" y="3112"/>
                  </a:lnTo>
                  <a:lnTo>
                    <a:pt x="2110" y="3103"/>
                  </a:lnTo>
                  <a:lnTo>
                    <a:pt x="2110" y="3112"/>
                  </a:lnTo>
                  <a:lnTo>
                    <a:pt x="2110" y="3120"/>
                  </a:lnTo>
                  <a:lnTo>
                    <a:pt x="2116" y="3129"/>
                  </a:lnTo>
                  <a:lnTo>
                    <a:pt x="2119" y="3138"/>
                  </a:lnTo>
                  <a:lnTo>
                    <a:pt x="2122" y="3149"/>
                  </a:lnTo>
                  <a:lnTo>
                    <a:pt x="2122" y="3158"/>
                  </a:lnTo>
                  <a:lnTo>
                    <a:pt x="2125" y="3167"/>
                  </a:lnTo>
                  <a:lnTo>
                    <a:pt x="2125" y="3175"/>
                  </a:lnTo>
                  <a:lnTo>
                    <a:pt x="2125" y="3184"/>
                  </a:lnTo>
                  <a:lnTo>
                    <a:pt x="2125" y="3193"/>
                  </a:lnTo>
                  <a:lnTo>
                    <a:pt x="2128" y="3201"/>
                  </a:lnTo>
                  <a:lnTo>
                    <a:pt x="2130" y="3210"/>
                  </a:lnTo>
                  <a:lnTo>
                    <a:pt x="2139" y="3210"/>
                  </a:lnTo>
                  <a:lnTo>
                    <a:pt x="2148" y="3210"/>
                  </a:lnTo>
                  <a:lnTo>
                    <a:pt x="2157" y="3207"/>
                  </a:lnTo>
                  <a:lnTo>
                    <a:pt x="2163" y="3198"/>
                  </a:lnTo>
                  <a:lnTo>
                    <a:pt x="2171" y="3195"/>
                  </a:lnTo>
                  <a:lnTo>
                    <a:pt x="2183" y="3193"/>
                  </a:lnTo>
                  <a:lnTo>
                    <a:pt x="2192" y="3190"/>
                  </a:lnTo>
                  <a:lnTo>
                    <a:pt x="2200" y="3184"/>
                  </a:lnTo>
                  <a:lnTo>
                    <a:pt x="2209" y="3181"/>
                  </a:lnTo>
                  <a:lnTo>
                    <a:pt x="2218" y="3181"/>
                  </a:lnTo>
                  <a:lnTo>
                    <a:pt x="2224" y="3172"/>
                  </a:lnTo>
                  <a:lnTo>
                    <a:pt x="2232" y="3169"/>
                  </a:lnTo>
                  <a:lnTo>
                    <a:pt x="2241" y="3169"/>
                  </a:lnTo>
                  <a:lnTo>
                    <a:pt x="2256" y="3169"/>
                  </a:lnTo>
                  <a:lnTo>
                    <a:pt x="2264" y="3169"/>
                  </a:lnTo>
                  <a:lnTo>
                    <a:pt x="2276" y="3178"/>
                  </a:lnTo>
                  <a:lnTo>
                    <a:pt x="2288" y="3184"/>
                  </a:lnTo>
                  <a:lnTo>
                    <a:pt x="2296" y="3187"/>
                  </a:lnTo>
                  <a:lnTo>
                    <a:pt x="2308" y="3190"/>
                  </a:lnTo>
                  <a:lnTo>
                    <a:pt x="2317" y="3195"/>
                  </a:lnTo>
                  <a:lnTo>
                    <a:pt x="2328" y="3198"/>
                  </a:lnTo>
                  <a:lnTo>
                    <a:pt x="2340" y="3201"/>
                  </a:lnTo>
                  <a:lnTo>
                    <a:pt x="2349" y="3207"/>
                  </a:lnTo>
                  <a:lnTo>
                    <a:pt x="2358" y="3216"/>
                  </a:lnTo>
                  <a:lnTo>
                    <a:pt x="2366" y="3221"/>
                  </a:lnTo>
                  <a:lnTo>
                    <a:pt x="2375" y="3227"/>
                  </a:lnTo>
                  <a:lnTo>
                    <a:pt x="2387" y="3230"/>
                  </a:lnTo>
                  <a:lnTo>
                    <a:pt x="2395" y="3230"/>
                  </a:lnTo>
                  <a:lnTo>
                    <a:pt x="2404" y="3230"/>
                  </a:lnTo>
                  <a:lnTo>
                    <a:pt x="2407" y="3239"/>
                  </a:lnTo>
                  <a:lnTo>
                    <a:pt x="2407" y="3247"/>
                  </a:lnTo>
                  <a:lnTo>
                    <a:pt x="2413" y="3256"/>
                  </a:lnTo>
                  <a:lnTo>
                    <a:pt x="2422" y="3262"/>
                  </a:lnTo>
                  <a:lnTo>
                    <a:pt x="2436" y="3265"/>
                  </a:lnTo>
                  <a:lnTo>
                    <a:pt x="2451" y="3270"/>
                  </a:lnTo>
                  <a:lnTo>
                    <a:pt x="2457" y="3279"/>
                  </a:lnTo>
                  <a:lnTo>
                    <a:pt x="2457" y="3288"/>
                  </a:lnTo>
                  <a:lnTo>
                    <a:pt x="2468" y="3291"/>
                  </a:lnTo>
                  <a:lnTo>
                    <a:pt x="2483" y="3288"/>
                  </a:lnTo>
                  <a:lnTo>
                    <a:pt x="2491" y="3285"/>
                  </a:lnTo>
                  <a:lnTo>
                    <a:pt x="2500" y="3276"/>
                  </a:lnTo>
                  <a:lnTo>
                    <a:pt x="2509" y="3270"/>
                  </a:lnTo>
                  <a:lnTo>
                    <a:pt x="2515" y="3262"/>
                  </a:lnTo>
                  <a:lnTo>
                    <a:pt x="2521" y="3253"/>
                  </a:lnTo>
                  <a:lnTo>
                    <a:pt x="2526" y="3244"/>
                  </a:lnTo>
                  <a:lnTo>
                    <a:pt x="2532" y="3236"/>
                  </a:lnTo>
                  <a:lnTo>
                    <a:pt x="2535" y="3227"/>
                  </a:lnTo>
                  <a:lnTo>
                    <a:pt x="2541" y="3218"/>
                  </a:lnTo>
                  <a:lnTo>
                    <a:pt x="2544" y="3210"/>
                  </a:lnTo>
                  <a:lnTo>
                    <a:pt x="2544" y="3198"/>
                  </a:lnTo>
                  <a:lnTo>
                    <a:pt x="2544" y="3190"/>
                  </a:lnTo>
                  <a:lnTo>
                    <a:pt x="2553" y="3181"/>
                  </a:lnTo>
                  <a:lnTo>
                    <a:pt x="2567" y="3181"/>
                  </a:lnTo>
                  <a:lnTo>
                    <a:pt x="2599" y="3155"/>
                  </a:lnTo>
                  <a:lnTo>
                    <a:pt x="2599" y="3164"/>
                  </a:lnTo>
                  <a:lnTo>
                    <a:pt x="2608" y="3169"/>
                  </a:lnTo>
                  <a:lnTo>
                    <a:pt x="2617" y="3178"/>
                  </a:lnTo>
                  <a:lnTo>
                    <a:pt x="2625" y="3181"/>
                  </a:lnTo>
                  <a:lnTo>
                    <a:pt x="2634" y="3178"/>
                  </a:lnTo>
                  <a:lnTo>
                    <a:pt x="2643" y="3172"/>
                  </a:lnTo>
                  <a:lnTo>
                    <a:pt x="2657" y="3169"/>
                  </a:lnTo>
                  <a:lnTo>
                    <a:pt x="2666" y="3169"/>
                  </a:lnTo>
                  <a:lnTo>
                    <a:pt x="2675" y="3169"/>
                  </a:lnTo>
                  <a:lnTo>
                    <a:pt x="2684" y="3164"/>
                  </a:lnTo>
                  <a:lnTo>
                    <a:pt x="2692" y="3155"/>
                  </a:lnTo>
                  <a:lnTo>
                    <a:pt x="2739" y="3155"/>
                  </a:lnTo>
                  <a:lnTo>
                    <a:pt x="2733" y="3138"/>
                  </a:lnTo>
                  <a:lnTo>
                    <a:pt x="2733" y="3126"/>
                  </a:lnTo>
                  <a:lnTo>
                    <a:pt x="2730" y="3118"/>
                  </a:lnTo>
                  <a:lnTo>
                    <a:pt x="2739" y="3112"/>
                  </a:lnTo>
                  <a:lnTo>
                    <a:pt x="2748" y="3106"/>
                  </a:lnTo>
                  <a:lnTo>
                    <a:pt x="2753" y="3097"/>
                  </a:lnTo>
                  <a:lnTo>
                    <a:pt x="2762" y="3092"/>
                  </a:lnTo>
                  <a:lnTo>
                    <a:pt x="2771" y="3092"/>
                  </a:lnTo>
                  <a:lnTo>
                    <a:pt x="2780" y="3095"/>
                  </a:lnTo>
                  <a:lnTo>
                    <a:pt x="2783" y="3103"/>
                  </a:lnTo>
                  <a:lnTo>
                    <a:pt x="2786" y="3112"/>
                  </a:lnTo>
                  <a:lnTo>
                    <a:pt x="2786" y="3126"/>
                  </a:lnTo>
                  <a:lnTo>
                    <a:pt x="2788" y="3135"/>
                  </a:lnTo>
                  <a:lnTo>
                    <a:pt x="2791" y="3144"/>
                  </a:lnTo>
                  <a:lnTo>
                    <a:pt x="2794" y="3152"/>
                  </a:lnTo>
                  <a:lnTo>
                    <a:pt x="2800" y="3161"/>
                  </a:lnTo>
                  <a:lnTo>
                    <a:pt x="2809" y="3167"/>
                  </a:lnTo>
                  <a:lnTo>
                    <a:pt x="2818" y="3167"/>
                  </a:lnTo>
                  <a:lnTo>
                    <a:pt x="2826" y="3167"/>
                  </a:lnTo>
                  <a:lnTo>
                    <a:pt x="2832" y="3158"/>
                  </a:lnTo>
                  <a:lnTo>
                    <a:pt x="2841" y="3152"/>
                  </a:lnTo>
                  <a:lnTo>
                    <a:pt x="2844" y="3144"/>
                  </a:lnTo>
                  <a:lnTo>
                    <a:pt x="2847" y="3135"/>
                  </a:lnTo>
                  <a:lnTo>
                    <a:pt x="2850" y="3123"/>
                  </a:lnTo>
                  <a:lnTo>
                    <a:pt x="2858" y="3115"/>
                  </a:lnTo>
                  <a:lnTo>
                    <a:pt x="2870" y="3115"/>
                  </a:lnTo>
                  <a:lnTo>
                    <a:pt x="2879" y="3115"/>
                  </a:lnTo>
                  <a:lnTo>
                    <a:pt x="2887" y="3115"/>
                  </a:lnTo>
                  <a:lnTo>
                    <a:pt x="2896" y="3115"/>
                  </a:lnTo>
                  <a:lnTo>
                    <a:pt x="2902" y="3106"/>
                  </a:lnTo>
                  <a:lnTo>
                    <a:pt x="2914" y="3103"/>
                  </a:lnTo>
                  <a:lnTo>
                    <a:pt x="2922" y="3103"/>
                  </a:lnTo>
                  <a:lnTo>
                    <a:pt x="2925" y="3095"/>
                  </a:lnTo>
                  <a:lnTo>
                    <a:pt x="2925" y="3086"/>
                  </a:lnTo>
                  <a:lnTo>
                    <a:pt x="2922" y="3077"/>
                  </a:lnTo>
                  <a:lnTo>
                    <a:pt x="2917" y="3066"/>
                  </a:lnTo>
                  <a:lnTo>
                    <a:pt x="2911" y="3057"/>
                  </a:lnTo>
                  <a:lnTo>
                    <a:pt x="2905" y="3048"/>
                  </a:lnTo>
                  <a:lnTo>
                    <a:pt x="2896" y="3046"/>
                  </a:lnTo>
                  <a:lnTo>
                    <a:pt x="2887" y="3048"/>
                  </a:lnTo>
                  <a:lnTo>
                    <a:pt x="2879" y="3051"/>
                  </a:lnTo>
                  <a:lnTo>
                    <a:pt x="2876" y="3060"/>
                  </a:lnTo>
                  <a:lnTo>
                    <a:pt x="2873" y="3069"/>
                  </a:lnTo>
                  <a:lnTo>
                    <a:pt x="2864" y="3066"/>
                  </a:lnTo>
                  <a:lnTo>
                    <a:pt x="2861" y="3054"/>
                  </a:lnTo>
                  <a:lnTo>
                    <a:pt x="2858" y="3043"/>
                  </a:lnTo>
                  <a:lnTo>
                    <a:pt x="2858" y="3034"/>
                  </a:lnTo>
                  <a:lnTo>
                    <a:pt x="2855" y="3025"/>
                  </a:lnTo>
                  <a:lnTo>
                    <a:pt x="2850" y="3017"/>
                  </a:lnTo>
                  <a:lnTo>
                    <a:pt x="2850" y="3008"/>
                  </a:lnTo>
                  <a:lnTo>
                    <a:pt x="2850" y="2997"/>
                  </a:lnTo>
                  <a:lnTo>
                    <a:pt x="2850" y="2988"/>
                  </a:lnTo>
                  <a:lnTo>
                    <a:pt x="2858" y="2982"/>
                  </a:lnTo>
                  <a:lnTo>
                    <a:pt x="2867" y="2982"/>
                  </a:lnTo>
                  <a:lnTo>
                    <a:pt x="2876" y="2979"/>
                  </a:lnTo>
                  <a:lnTo>
                    <a:pt x="2884" y="2974"/>
                  </a:lnTo>
                  <a:lnTo>
                    <a:pt x="2887" y="2962"/>
                  </a:lnTo>
                  <a:lnTo>
                    <a:pt x="2896" y="2962"/>
                  </a:lnTo>
                  <a:lnTo>
                    <a:pt x="2905" y="2962"/>
                  </a:lnTo>
                  <a:lnTo>
                    <a:pt x="2914" y="2962"/>
                  </a:lnTo>
                  <a:lnTo>
                    <a:pt x="2922" y="2959"/>
                  </a:lnTo>
                  <a:lnTo>
                    <a:pt x="2931" y="2956"/>
                  </a:lnTo>
                  <a:lnTo>
                    <a:pt x="2937" y="2948"/>
                  </a:lnTo>
                  <a:lnTo>
                    <a:pt x="2943" y="2939"/>
                  </a:lnTo>
                  <a:lnTo>
                    <a:pt x="2946" y="2930"/>
                  </a:lnTo>
                  <a:lnTo>
                    <a:pt x="2954" y="2925"/>
                  </a:lnTo>
                  <a:lnTo>
                    <a:pt x="2963" y="2919"/>
                  </a:lnTo>
                  <a:lnTo>
                    <a:pt x="2972" y="2916"/>
                  </a:lnTo>
                  <a:lnTo>
                    <a:pt x="2981" y="2913"/>
                  </a:lnTo>
                  <a:lnTo>
                    <a:pt x="2983" y="2904"/>
                  </a:lnTo>
                  <a:lnTo>
                    <a:pt x="2989" y="2893"/>
                  </a:lnTo>
                  <a:lnTo>
                    <a:pt x="2998" y="2881"/>
                  </a:lnTo>
                  <a:lnTo>
                    <a:pt x="3004" y="2873"/>
                  </a:lnTo>
                  <a:lnTo>
                    <a:pt x="3010" y="2864"/>
                  </a:lnTo>
                  <a:lnTo>
                    <a:pt x="3018" y="2858"/>
                  </a:lnTo>
                  <a:lnTo>
                    <a:pt x="3027" y="2852"/>
                  </a:lnTo>
                  <a:lnTo>
                    <a:pt x="3036" y="2847"/>
                  </a:lnTo>
                  <a:lnTo>
                    <a:pt x="3045" y="2847"/>
                  </a:lnTo>
                  <a:lnTo>
                    <a:pt x="3053" y="2844"/>
                  </a:lnTo>
                  <a:lnTo>
                    <a:pt x="3053" y="2835"/>
                  </a:lnTo>
                  <a:lnTo>
                    <a:pt x="3053" y="2827"/>
                  </a:lnTo>
                  <a:lnTo>
                    <a:pt x="3053" y="2818"/>
                  </a:lnTo>
                  <a:lnTo>
                    <a:pt x="3053" y="2809"/>
                  </a:lnTo>
                  <a:lnTo>
                    <a:pt x="3050" y="2801"/>
                  </a:lnTo>
                  <a:lnTo>
                    <a:pt x="3045" y="2789"/>
                  </a:lnTo>
                  <a:lnTo>
                    <a:pt x="3045" y="2780"/>
                  </a:lnTo>
                  <a:lnTo>
                    <a:pt x="3045" y="2772"/>
                  </a:lnTo>
                  <a:lnTo>
                    <a:pt x="3045" y="2763"/>
                  </a:lnTo>
                  <a:lnTo>
                    <a:pt x="3036" y="2754"/>
                  </a:lnTo>
                  <a:lnTo>
                    <a:pt x="3027" y="2743"/>
                  </a:lnTo>
                  <a:lnTo>
                    <a:pt x="3024" y="2734"/>
                  </a:lnTo>
                  <a:lnTo>
                    <a:pt x="3021" y="2726"/>
                  </a:lnTo>
                  <a:lnTo>
                    <a:pt x="3018" y="2717"/>
                  </a:lnTo>
                  <a:lnTo>
                    <a:pt x="3010" y="2708"/>
                  </a:lnTo>
                  <a:lnTo>
                    <a:pt x="3001" y="2705"/>
                  </a:lnTo>
                  <a:lnTo>
                    <a:pt x="3001" y="2697"/>
                  </a:lnTo>
                  <a:lnTo>
                    <a:pt x="3010" y="2694"/>
                  </a:lnTo>
                  <a:lnTo>
                    <a:pt x="3018" y="2688"/>
                  </a:lnTo>
                  <a:lnTo>
                    <a:pt x="3027" y="2682"/>
                  </a:lnTo>
                  <a:lnTo>
                    <a:pt x="3030" y="2674"/>
                  </a:lnTo>
                  <a:lnTo>
                    <a:pt x="3039" y="2665"/>
                  </a:lnTo>
                  <a:lnTo>
                    <a:pt x="3045" y="2657"/>
                  </a:lnTo>
                  <a:lnTo>
                    <a:pt x="3056" y="2659"/>
                  </a:lnTo>
                  <a:lnTo>
                    <a:pt x="3065" y="2665"/>
                  </a:lnTo>
                  <a:lnTo>
                    <a:pt x="3074" y="2665"/>
                  </a:lnTo>
                  <a:lnTo>
                    <a:pt x="3077" y="2657"/>
                  </a:lnTo>
                  <a:lnTo>
                    <a:pt x="3077" y="2645"/>
                  </a:lnTo>
                  <a:lnTo>
                    <a:pt x="3077" y="2636"/>
                  </a:lnTo>
                  <a:lnTo>
                    <a:pt x="3077" y="2628"/>
                  </a:lnTo>
                  <a:lnTo>
                    <a:pt x="3071" y="2619"/>
                  </a:lnTo>
                  <a:lnTo>
                    <a:pt x="3062" y="2613"/>
                  </a:lnTo>
                  <a:lnTo>
                    <a:pt x="3056" y="2605"/>
                  </a:lnTo>
                  <a:lnTo>
                    <a:pt x="3056" y="2596"/>
                  </a:lnTo>
                  <a:lnTo>
                    <a:pt x="3053" y="2582"/>
                  </a:lnTo>
                  <a:lnTo>
                    <a:pt x="3053" y="2573"/>
                  </a:lnTo>
                  <a:lnTo>
                    <a:pt x="3062" y="2567"/>
                  </a:lnTo>
                  <a:lnTo>
                    <a:pt x="3071" y="2567"/>
                  </a:lnTo>
                  <a:lnTo>
                    <a:pt x="3080" y="2564"/>
                  </a:lnTo>
                  <a:lnTo>
                    <a:pt x="3088" y="2564"/>
                  </a:lnTo>
                  <a:lnTo>
                    <a:pt x="3097" y="2561"/>
                  </a:lnTo>
                  <a:lnTo>
                    <a:pt x="3109" y="2556"/>
                  </a:lnTo>
                  <a:lnTo>
                    <a:pt x="3117" y="2547"/>
                  </a:lnTo>
                  <a:lnTo>
                    <a:pt x="3120" y="2538"/>
                  </a:lnTo>
                  <a:lnTo>
                    <a:pt x="3120" y="2530"/>
                  </a:lnTo>
                  <a:lnTo>
                    <a:pt x="3120" y="2521"/>
                  </a:lnTo>
                  <a:lnTo>
                    <a:pt x="3120" y="2512"/>
                  </a:lnTo>
                  <a:lnTo>
                    <a:pt x="3114" y="2501"/>
                  </a:lnTo>
                  <a:lnTo>
                    <a:pt x="3112" y="2489"/>
                  </a:lnTo>
                  <a:lnTo>
                    <a:pt x="3112" y="2481"/>
                  </a:lnTo>
                  <a:lnTo>
                    <a:pt x="3112" y="2472"/>
                  </a:lnTo>
                  <a:lnTo>
                    <a:pt x="3120" y="2463"/>
                  </a:lnTo>
                  <a:lnTo>
                    <a:pt x="3129" y="2461"/>
                  </a:lnTo>
                  <a:lnTo>
                    <a:pt x="3135" y="2452"/>
                  </a:lnTo>
                  <a:lnTo>
                    <a:pt x="3135" y="2443"/>
                  </a:lnTo>
                  <a:lnTo>
                    <a:pt x="3135" y="2435"/>
                  </a:lnTo>
                  <a:lnTo>
                    <a:pt x="3144" y="2429"/>
                  </a:lnTo>
                  <a:lnTo>
                    <a:pt x="3152" y="2420"/>
                  </a:lnTo>
                  <a:lnTo>
                    <a:pt x="3155" y="2412"/>
                  </a:lnTo>
                  <a:lnTo>
                    <a:pt x="3158" y="2403"/>
                  </a:lnTo>
                  <a:lnTo>
                    <a:pt x="3167" y="2394"/>
                  </a:lnTo>
                  <a:lnTo>
                    <a:pt x="3176" y="2386"/>
                  </a:lnTo>
                  <a:lnTo>
                    <a:pt x="3184" y="2380"/>
                  </a:lnTo>
                  <a:lnTo>
                    <a:pt x="3184" y="2371"/>
                  </a:lnTo>
                  <a:lnTo>
                    <a:pt x="3187" y="2363"/>
                  </a:lnTo>
                  <a:lnTo>
                    <a:pt x="3193" y="2354"/>
                  </a:lnTo>
                  <a:lnTo>
                    <a:pt x="3202" y="2348"/>
                  </a:lnTo>
                  <a:lnTo>
                    <a:pt x="3208" y="2340"/>
                  </a:lnTo>
                  <a:lnTo>
                    <a:pt x="3213" y="2331"/>
                  </a:lnTo>
                  <a:lnTo>
                    <a:pt x="3216" y="2322"/>
                  </a:lnTo>
                  <a:lnTo>
                    <a:pt x="3219" y="2314"/>
                  </a:lnTo>
                  <a:lnTo>
                    <a:pt x="3222" y="2305"/>
                  </a:lnTo>
                  <a:lnTo>
                    <a:pt x="3228" y="2296"/>
                  </a:lnTo>
                  <a:lnTo>
                    <a:pt x="3237" y="2291"/>
                  </a:lnTo>
                  <a:lnTo>
                    <a:pt x="3245" y="2291"/>
                  </a:lnTo>
                  <a:lnTo>
                    <a:pt x="3254" y="2285"/>
                  </a:lnTo>
                  <a:lnTo>
                    <a:pt x="3263" y="2282"/>
                  </a:lnTo>
                  <a:lnTo>
                    <a:pt x="3272" y="2279"/>
                  </a:lnTo>
                  <a:lnTo>
                    <a:pt x="3280" y="2279"/>
                  </a:lnTo>
                  <a:lnTo>
                    <a:pt x="3289" y="2276"/>
                  </a:lnTo>
                  <a:lnTo>
                    <a:pt x="3298" y="2273"/>
                  </a:lnTo>
                  <a:lnTo>
                    <a:pt x="3307" y="2273"/>
                  </a:lnTo>
                  <a:lnTo>
                    <a:pt x="3318" y="2276"/>
                  </a:lnTo>
                  <a:lnTo>
                    <a:pt x="3327" y="2276"/>
                  </a:lnTo>
                  <a:lnTo>
                    <a:pt x="3336" y="2276"/>
                  </a:lnTo>
                  <a:lnTo>
                    <a:pt x="3344" y="2276"/>
                  </a:lnTo>
                  <a:lnTo>
                    <a:pt x="3344" y="2279"/>
                  </a:lnTo>
                  <a:lnTo>
                    <a:pt x="3356" y="2265"/>
                  </a:lnTo>
                  <a:lnTo>
                    <a:pt x="3365" y="2265"/>
                  </a:lnTo>
                  <a:lnTo>
                    <a:pt x="3374" y="2259"/>
                  </a:lnTo>
                  <a:lnTo>
                    <a:pt x="3382" y="2253"/>
                  </a:lnTo>
                  <a:lnTo>
                    <a:pt x="3385" y="2244"/>
                  </a:lnTo>
                  <a:lnTo>
                    <a:pt x="3391" y="2233"/>
                  </a:lnTo>
                  <a:lnTo>
                    <a:pt x="3400" y="2224"/>
                  </a:lnTo>
                  <a:lnTo>
                    <a:pt x="3397" y="2216"/>
                  </a:lnTo>
                  <a:lnTo>
                    <a:pt x="3391" y="2207"/>
                  </a:lnTo>
                  <a:lnTo>
                    <a:pt x="3382" y="2201"/>
                  </a:lnTo>
                  <a:lnTo>
                    <a:pt x="3376" y="2193"/>
                  </a:lnTo>
                  <a:lnTo>
                    <a:pt x="3368" y="2184"/>
                  </a:lnTo>
                  <a:lnTo>
                    <a:pt x="3362" y="2172"/>
                  </a:lnTo>
                  <a:lnTo>
                    <a:pt x="3356" y="2164"/>
                  </a:lnTo>
                  <a:lnTo>
                    <a:pt x="3356" y="2155"/>
                  </a:lnTo>
                  <a:lnTo>
                    <a:pt x="3356" y="2146"/>
                  </a:lnTo>
                  <a:lnTo>
                    <a:pt x="3368" y="2141"/>
                  </a:lnTo>
                  <a:lnTo>
                    <a:pt x="3376" y="2138"/>
                  </a:lnTo>
                  <a:lnTo>
                    <a:pt x="3385" y="2135"/>
                  </a:lnTo>
                  <a:lnTo>
                    <a:pt x="3394" y="2126"/>
                  </a:lnTo>
                  <a:lnTo>
                    <a:pt x="3400" y="2118"/>
                  </a:lnTo>
                  <a:lnTo>
                    <a:pt x="3406" y="2109"/>
                  </a:lnTo>
                  <a:lnTo>
                    <a:pt x="3414" y="2106"/>
                  </a:lnTo>
                  <a:lnTo>
                    <a:pt x="3426" y="2106"/>
                  </a:lnTo>
                  <a:lnTo>
                    <a:pt x="3435" y="2106"/>
                  </a:lnTo>
                  <a:lnTo>
                    <a:pt x="3443" y="2106"/>
                  </a:lnTo>
                  <a:lnTo>
                    <a:pt x="3452" y="2103"/>
                  </a:lnTo>
                  <a:lnTo>
                    <a:pt x="3461" y="2103"/>
                  </a:lnTo>
                  <a:lnTo>
                    <a:pt x="3470" y="2103"/>
                  </a:lnTo>
                  <a:lnTo>
                    <a:pt x="3478" y="2112"/>
                  </a:lnTo>
                  <a:lnTo>
                    <a:pt x="3484" y="2120"/>
                  </a:lnTo>
                  <a:lnTo>
                    <a:pt x="3493" y="2126"/>
                  </a:lnTo>
                  <a:lnTo>
                    <a:pt x="3502" y="2129"/>
                  </a:lnTo>
                  <a:lnTo>
                    <a:pt x="3510" y="2129"/>
                  </a:lnTo>
                  <a:lnTo>
                    <a:pt x="3519" y="2129"/>
                  </a:lnTo>
                  <a:lnTo>
                    <a:pt x="3528" y="2126"/>
                  </a:lnTo>
                  <a:lnTo>
                    <a:pt x="3537" y="2118"/>
                  </a:lnTo>
                  <a:lnTo>
                    <a:pt x="3542" y="2109"/>
                  </a:lnTo>
                  <a:lnTo>
                    <a:pt x="3548" y="2100"/>
                  </a:lnTo>
                  <a:lnTo>
                    <a:pt x="3551" y="2089"/>
                  </a:lnTo>
                  <a:lnTo>
                    <a:pt x="3554" y="2080"/>
                  </a:lnTo>
                  <a:lnTo>
                    <a:pt x="3563" y="2072"/>
                  </a:lnTo>
                  <a:lnTo>
                    <a:pt x="3572" y="2072"/>
                  </a:lnTo>
                  <a:lnTo>
                    <a:pt x="3583" y="2063"/>
                  </a:lnTo>
                  <a:lnTo>
                    <a:pt x="3589" y="2054"/>
                  </a:lnTo>
                  <a:lnTo>
                    <a:pt x="3595" y="2046"/>
                  </a:lnTo>
                  <a:lnTo>
                    <a:pt x="3604" y="2040"/>
                  </a:lnTo>
                  <a:lnTo>
                    <a:pt x="3612" y="2040"/>
                  </a:lnTo>
                  <a:lnTo>
                    <a:pt x="3621" y="2040"/>
                  </a:lnTo>
                  <a:lnTo>
                    <a:pt x="3630" y="2040"/>
                  </a:lnTo>
                  <a:lnTo>
                    <a:pt x="3638" y="2037"/>
                  </a:lnTo>
                  <a:lnTo>
                    <a:pt x="3647" y="2037"/>
                  </a:lnTo>
                  <a:lnTo>
                    <a:pt x="3656" y="2037"/>
                  </a:lnTo>
                  <a:lnTo>
                    <a:pt x="3665" y="2037"/>
                  </a:lnTo>
                  <a:lnTo>
                    <a:pt x="3673" y="2034"/>
                  </a:lnTo>
                  <a:lnTo>
                    <a:pt x="3682" y="2031"/>
                  </a:lnTo>
                  <a:lnTo>
                    <a:pt x="3691" y="2028"/>
                  </a:lnTo>
                  <a:lnTo>
                    <a:pt x="3700" y="2023"/>
                  </a:lnTo>
                  <a:lnTo>
                    <a:pt x="3705" y="2014"/>
                  </a:lnTo>
                  <a:lnTo>
                    <a:pt x="3714" y="2005"/>
                  </a:lnTo>
                  <a:lnTo>
                    <a:pt x="3723" y="1997"/>
                  </a:lnTo>
                  <a:lnTo>
                    <a:pt x="3726" y="1988"/>
                  </a:lnTo>
                  <a:lnTo>
                    <a:pt x="3735" y="1976"/>
                  </a:lnTo>
                  <a:lnTo>
                    <a:pt x="3740" y="1968"/>
                  </a:lnTo>
                  <a:lnTo>
                    <a:pt x="3746" y="1959"/>
                  </a:lnTo>
                  <a:lnTo>
                    <a:pt x="3749" y="1950"/>
                  </a:lnTo>
                  <a:lnTo>
                    <a:pt x="3755" y="1939"/>
                  </a:lnTo>
                  <a:lnTo>
                    <a:pt x="3761" y="1927"/>
                  </a:lnTo>
                  <a:lnTo>
                    <a:pt x="3767" y="1919"/>
                  </a:lnTo>
                  <a:lnTo>
                    <a:pt x="3767" y="1910"/>
                  </a:lnTo>
                  <a:lnTo>
                    <a:pt x="3758" y="1910"/>
                  </a:lnTo>
                  <a:lnTo>
                    <a:pt x="3758" y="1899"/>
                  </a:lnTo>
                  <a:lnTo>
                    <a:pt x="3758" y="1890"/>
                  </a:lnTo>
                  <a:lnTo>
                    <a:pt x="3767" y="1881"/>
                  </a:lnTo>
                  <a:lnTo>
                    <a:pt x="3775" y="1881"/>
                  </a:lnTo>
                  <a:lnTo>
                    <a:pt x="3781" y="1873"/>
                  </a:lnTo>
                  <a:lnTo>
                    <a:pt x="3784" y="1864"/>
                  </a:lnTo>
                  <a:lnTo>
                    <a:pt x="3787" y="1855"/>
                  </a:lnTo>
                  <a:lnTo>
                    <a:pt x="3796" y="1850"/>
                  </a:lnTo>
                  <a:lnTo>
                    <a:pt x="3804" y="1847"/>
                  </a:lnTo>
                  <a:lnTo>
                    <a:pt x="3813" y="1844"/>
                  </a:lnTo>
                  <a:lnTo>
                    <a:pt x="3822" y="1838"/>
                  </a:lnTo>
                  <a:lnTo>
                    <a:pt x="3831" y="1835"/>
                  </a:lnTo>
                  <a:lnTo>
                    <a:pt x="3839" y="1824"/>
                  </a:lnTo>
                  <a:lnTo>
                    <a:pt x="3845" y="1815"/>
                  </a:lnTo>
                  <a:lnTo>
                    <a:pt x="3851" y="1806"/>
                  </a:lnTo>
                  <a:lnTo>
                    <a:pt x="3857" y="1798"/>
                  </a:lnTo>
                  <a:lnTo>
                    <a:pt x="3860" y="1789"/>
                  </a:lnTo>
                  <a:lnTo>
                    <a:pt x="3863" y="1780"/>
                  </a:lnTo>
                  <a:lnTo>
                    <a:pt x="3857" y="1772"/>
                  </a:lnTo>
                  <a:lnTo>
                    <a:pt x="3851" y="1763"/>
                  </a:lnTo>
                  <a:lnTo>
                    <a:pt x="3842" y="1760"/>
                  </a:lnTo>
                  <a:lnTo>
                    <a:pt x="3834" y="1752"/>
                  </a:lnTo>
                  <a:lnTo>
                    <a:pt x="3831" y="1743"/>
                  </a:lnTo>
                  <a:lnTo>
                    <a:pt x="3828" y="1734"/>
                  </a:lnTo>
                  <a:lnTo>
                    <a:pt x="3825" y="1726"/>
                  </a:lnTo>
                  <a:lnTo>
                    <a:pt x="3822" y="1714"/>
                  </a:lnTo>
                  <a:lnTo>
                    <a:pt x="3819" y="1706"/>
                  </a:lnTo>
                  <a:lnTo>
                    <a:pt x="3816" y="1697"/>
                  </a:lnTo>
                  <a:lnTo>
                    <a:pt x="3813" y="1685"/>
                  </a:lnTo>
                  <a:lnTo>
                    <a:pt x="3810" y="1677"/>
                  </a:lnTo>
                  <a:lnTo>
                    <a:pt x="3807" y="1668"/>
                  </a:lnTo>
                  <a:lnTo>
                    <a:pt x="3804" y="1659"/>
                  </a:lnTo>
                  <a:lnTo>
                    <a:pt x="3796" y="1657"/>
                  </a:lnTo>
                  <a:lnTo>
                    <a:pt x="3787" y="1657"/>
                  </a:lnTo>
                  <a:lnTo>
                    <a:pt x="3775" y="1657"/>
                  </a:lnTo>
                  <a:lnTo>
                    <a:pt x="3767" y="1648"/>
                  </a:lnTo>
                  <a:lnTo>
                    <a:pt x="3767" y="1639"/>
                  </a:lnTo>
                  <a:lnTo>
                    <a:pt x="3767" y="1631"/>
                  </a:lnTo>
                  <a:lnTo>
                    <a:pt x="3767" y="1622"/>
                  </a:lnTo>
                  <a:lnTo>
                    <a:pt x="3767" y="1613"/>
                  </a:lnTo>
                  <a:lnTo>
                    <a:pt x="3770" y="1605"/>
                  </a:lnTo>
                  <a:lnTo>
                    <a:pt x="3770" y="1596"/>
                  </a:lnTo>
                  <a:lnTo>
                    <a:pt x="3772" y="1587"/>
                  </a:lnTo>
                  <a:lnTo>
                    <a:pt x="3810" y="1541"/>
                  </a:lnTo>
                  <a:lnTo>
                    <a:pt x="3793" y="1541"/>
                  </a:lnTo>
                  <a:lnTo>
                    <a:pt x="3799" y="1533"/>
                  </a:lnTo>
                  <a:lnTo>
                    <a:pt x="3807" y="1530"/>
                  </a:lnTo>
                  <a:lnTo>
                    <a:pt x="3816" y="1527"/>
                  </a:lnTo>
                  <a:lnTo>
                    <a:pt x="3828" y="1527"/>
                  </a:lnTo>
                  <a:lnTo>
                    <a:pt x="3839" y="1527"/>
                  </a:lnTo>
                  <a:lnTo>
                    <a:pt x="3851" y="1524"/>
                  </a:lnTo>
                  <a:lnTo>
                    <a:pt x="3863" y="1524"/>
                  </a:lnTo>
                  <a:lnTo>
                    <a:pt x="3874" y="1524"/>
                  </a:lnTo>
                  <a:lnTo>
                    <a:pt x="3883" y="1527"/>
                  </a:lnTo>
                  <a:lnTo>
                    <a:pt x="3892" y="1530"/>
                  </a:lnTo>
                  <a:lnTo>
                    <a:pt x="3901" y="1533"/>
                  </a:lnTo>
                  <a:lnTo>
                    <a:pt x="3909" y="1535"/>
                  </a:lnTo>
                  <a:lnTo>
                    <a:pt x="3918" y="1535"/>
                  </a:lnTo>
                  <a:lnTo>
                    <a:pt x="3930" y="1535"/>
                  </a:lnTo>
                  <a:lnTo>
                    <a:pt x="3941" y="1535"/>
                  </a:lnTo>
                  <a:lnTo>
                    <a:pt x="3950" y="1535"/>
                  </a:lnTo>
                  <a:lnTo>
                    <a:pt x="3959" y="1535"/>
                  </a:lnTo>
                  <a:lnTo>
                    <a:pt x="3970" y="1541"/>
                  </a:lnTo>
                  <a:lnTo>
                    <a:pt x="3979" y="1541"/>
                  </a:lnTo>
                  <a:lnTo>
                    <a:pt x="3985" y="1550"/>
                  </a:lnTo>
                  <a:lnTo>
                    <a:pt x="3997" y="1559"/>
                  </a:lnTo>
                  <a:lnTo>
                    <a:pt x="4005" y="1561"/>
                  </a:lnTo>
                  <a:lnTo>
                    <a:pt x="4017" y="1561"/>
                  </a:lnTo>
                  <a:lnTo>
                    <a:pt x="4026" y="1559"/>
                  </a:lnTo>
                  <a:lnTo>
                    <a:pt x="4029" y="1550"/>
                  </a:lnTo>
                  <a:lnTo>
                    <a:pt x="4037" y="1541"/>
                  </a:lnTo>
                  <a:lnTo>
                    <a:pt x="4040" y="1533"/>
                  </a:lnTo>
                  <a:lnTo>
                    <a:pt x="4043" y="1524"/>
                  </a:lnTo>
                  <a:lnTo>
                    <a:pt x="4055" y="1512"/>
                  </a:lnTo>
                  <a:lnTo>
                    <a:pt x="4066" y="1507"/>
                  </a:lnTo>
                  <a:lnTo>
                    <a:pt x="4075" y="1498"/>
                  </a:lnTo>
                  <a:lnTo>
                    <a:pt x="4084" y="1495"/>
                  </a:lnTo>
                  <a:lnTo>
                    <a:pt x="4093" y="1495"/>
                  </a:lnTo>
                  <a:lnTo>
                    <a:pt x="4101" y="1495"/>
                  </a:lnTo>
                  <a:lnTo>
                    <a:pt x="4110" y="1495"/>
                  </a:lnTo>
                  <a:lnTo>
                    <a:pt x="4119" y="1501"/>
                  </a:lnTo>
                  <a:lnTo>
                    <a:pt x="4130" y="1510"/>
                  </a:lnTo>
                  <a:lnTo>
                    <a:pt x="4139" y="1512"/>
                  </a:lnTo>
                  <a:lnTo>
                    <a:pt x="4148" y="1507"/>
                  </a:lnTo>
                  <a:lnTo>
                    <a:pt x="4154" y="1498"/>
                  </a:lnTo>
                  <a:lnTo>
                    <a:pt x="4157" y="1489"/>
                  </a:lnTo>
                  <a:lnTo>
                    <a:pt x="4165" y="1478"/>
                  </a:lnTo>
                  <a:lnTo>
                    <a:pt x="4168" y="1466"/>
                  </a:lnTo>
                  <a:lnTo>
                    <a:pt x="4163" y="1458"/>
                  </a:lnTo>
                  <a:lnTo>
                    <a:pt x="4157" y="1449"/>
                  </a:lnTo>
                  <a:lnTo>
                    <a:pt x="4154" y="1438"/>
                  </a:lnTo>
                  <a:lnTo>
                    <a:pt x="4151" y="1429"/>
                  </a:lnTo>
                  <a:lnTo>
                    <a:pt x="4151" y="1420"/>
                  </a:lnTo>
                  <a:lnTo>
                    <a:pt x="4151" y="1409"/>
                  </a:lnTo>
                  <a:lnTo>
                    <a:pt x="4151" y="1400"/>
                  </a:lnTo>
                  <a:lnTo>
                    <a:pt x="4160" y="1394"/>
                  </a:lnTo>
                  <a:lnTo>
                    <a:pt x="4174" y="1400"/>
                  </a:lnTo>
                  <a:lnTo>
                    <a:pt x="4183" y="1403"/>
                  </a:lnTo>
                  <a:lnTo>
                    <a:pt x="4183" y="1412"/>
                  </a:lnTo>
                  <a:lnTo>
                    <a:pt x="4192" y="1420"/>
                  </a:lnTo>
                  <a:lnTo>
                    <a:pt x="4203" y="1432"/>
                  </a:lnTo>
                  <a:lnTo>
                    <a:pt x="4212" y="1440"/>
                  </a:lnTo>
                  <a:lnTo>
                    <a:pt x="4215" y="1449"/>
                  </a:lnTo>
                  <a:lnTo>
                    <a:pt x="4218" y="1458"/>
                  </a:lnTo>
                  <a:lnTo>
                    <a:pt x="4227" y="1472"/>
                  </a:lnTo>
                  <a:lnTo>
                    <a:pt x="4235" y="1478"/>
                  </a:lnTo>
                  <a:lnTo>
                    <a:pt x="4241" y="1487"/>
                  </a:lnTo>
                  <a:lnTo>
                    <a:pt x="4253" y="1495"/>
                  </a:lnTo>
                  <a:lnTo>
                    <a:pt x="4264" y="1501"/>
                  </a:lnTo>
                  <a:lnTo>
                    <a:pt x="4270" y="1510"/>
                  </a:lnTo>
                  <a:lnTo>
                    <a:pt x="4273" y="1518"/>
                  </a:lnTo>
                  <a:lnTo>
                    <a:pt x="4273" y="1527"/>
                  </a:lnTo>
                  <a:lnTo>
                    <a:pt x="4273" y="1535"/>
                  </a:lnTo>
                  <a:lnTo>
                    <a:pt x="4273" y="1544"/>
                  </a:lnTo>
                  <a:lnTo>
                    <a:pt x="4264" y="1550"/>
                  </a:lnTo>
                  <a:lnTo>
                    <a:pt x="4256" y="1553"/>
                  </a:lnTo>
                  <a:lnTo>
                    <a:pt x="4256" y="1564"/>
                  </a:lnTo>
                  <a:lnTo>
                    <a:pt x="4256" y="1573"/>
                  </a:lnTo>
                  <a:lnTo>
                    <a:pt x="4256" y="1582"/>
                  </a:lnTo>
                  <a:lnTo>
                    <a:pt x="4264" y="1587"/>
                  </a:lnTo>
                  <a:lnTo>
                    <a:pt x="4276" y="1590"/>
                  </a:lnTo>
                  <a:lnTo>
                    <a:pt x="4285" y="1590"/>
                  </a:lnTo>
                  <a:lnTo>
                    <a:pt x="4294" y="1599"/>
                  </a:lnTo>
                  <a:lnTo>
                    <a:pt x="4302" y="1608"/>
                  </a:lnTo>
                  <a:lnTo>
                    <a:pt x="4314" y="1610"/>
                  </a:lnTo>
                  <a:lnTo>
                    <a:pt x="4326" y="1616"/>
                  </a:lnTo>
                  <a:lnTo>
                    <a:pt x="4334" y="1619"/>
                  </a:lnTo>
                  <a:lnTo>
                    <a:pt x="4340" y="1628"/>
                  </a:lnTo>
                  <a:lnTo>
                    <a:pt x="4343" y="1636"/>
                  </a:lnTo>
                  <a:lnTo>
                    <a:pt x="4343" y="1645"/>
                  </a:lnTo>
                  <a:lnTo>
                    <a:pt x="4343" y="1654"/>
                  </a:lnTo>
                  <a:lnTo>
                    <a:pt x="4343" y="1662"/>
                  </a:lnTo>
                  <a:lnTo>
                    <a:pt x="4346" y="1671"/>
                  </a:lnTo>
                  <a:lnTo>
                    <a:pt x="4355" y="1671"/>
                  </a:lnTo>
                  <a:lnTo>
                    <a:pt x="4366" y="1671"/>
                  </a:lnTo>
                  <a:lnTo>
                    <a:pt x="4369" y="1662"/>
                  </a:lnTo>
                  <a:lnTo>
                    <a:pt x="4363" y="1654"/>
                  </a:lnTo>
                  <a:lnTo>
                    <a:pt x="4360" y="1645"/>
                  </a:lnTo>
                  <a:lnTo>
                    <a:pt x="4355" y="1636"/>
                  </a:lnTo>
                  <a:lnTo>
                    <a:pt x="4352" y="1628"/>
                  </a:lnTo>
                  <a:lnTo>
                    <a:pt x="4349" y="1619"/>
                  </a:lnTo>
                  <a:lnTo>
                    <a:pt x="4346" y="1610"/>
                  </a:lnTo>
                  <a:lnTo>
                    <a:pt x="4346" y="1602"/>
                  </a:lnTo>
                  <a:lnTo>
                    <a:pt x="4346" y="1590"/>
                  </a:lnTo>
                  <a:lnTo>
                    <a:pt x="4346" y="1582"/>
                  </a:lnTo>
                  <a:lnTo>
                    <a:pt x="4355" y="1579"/>
                  </a:lnTo>
                  <a:lnTo>
                    <a:pt x="4363" y="1582"/>
                  </a:lnTo>
                  <a:lnTo>
                    <a:pt x="4372" y="1582"/>
                  </a:lnTo>
                  <a:lnTo>
                    <a:pt x="4381" y="1573"/>
                  </a:lnTo>
                  <a:lnTo>
                    <a:pt x="4390" y="1567"/>
                  </a:lnTo>
                  <a:lnTo>
                    <a:pt x="4393" y="1559"/>
                  </a:lnTo>
                  <a:lnTo>
                    <a:pt x="4393" y="1550"/>
                  </a:lnTo>
                  <a:lnTo>
                    <a:pt x="4393" y="1541"/>
                  </a:lnTo>
                  <a:lnTo>
                    <a:pt x="4393" y="1533"/>
                  </a:lnTo>
                  <a:lnTo>
                    <a:pt x="4393" y="1524"/>
                  </a:lnTo>
                  <a:lnTo>
                    <a:pt x="4393" y="1515"/>
                  </a:lnTo>
                  <a:lnTo>
                    <a:pt x="4390" y="1504"/>
                  </a:lnTo>
                  <a:lnTo>
                    <a:pt x="4384" y="1495"/>
                  </a:lnTo>
                  <a:lnTo>
                    <a:pt x="4381" y="1484"/>
                  </a:lnTo>
                  <a:lnTo>
                    <a:pt x="4378" y="1475"/>
                  </a:lnTo>
                  <a:lnTo>
                    <a:pt x="4369" y="1463"/>
                  </a:lnTo>
                  <a:lnTo>
                    <a:pt x="4363" y="1455"/>
                  </a:lnTo>
                  <a:lnTo>
                    <a:pt x="4360" y="1446"/>
                  </a:lnTo>
                  <a:lnTo>
                    <a:pt x="4358" y="1438"/>
                  </a:lnTo>
                  <a:lnTo>
                    <a:pt x="4352" y="1429"/>
                  </a:lnTo>
                  <a:lnTo>
                    <a:pt x="4346" y="1417"/>
                  </a:lnTo>
                  <a:lnTo>
                    <a:pt x="4340" y="1409"/>
                  </a:lnTo>
                  <a:lnTo>
                    <a:pt x="4337" y="1397"/>
                  </a:lnTo>
                  <a:lnTo>
                    <a:pt x="4334" y="1389"/>
                  </a:lnTo>
                  <a:lnTo>
                    <a:pt x="4334" y="1380"/>
                  </a:lnTo>
                  <a:lnTo>
                    <a:pt x="4331" y="1371"/>
                  </a:lnTo>
                  <a:lnTo>
                    <a:pt x="4328" y="1360"/>
                  </a:lnTo>
                  <a:lnTo>
                    <a:pt x="4323" y="1351"/>
                  </a:lnTo>
                  <a:lnTo>
                    <a:pt x="4320" y="1342"/>
                  </a:lnTo>
                  <a:lnTo>
                    <a:pt x="4314" y="1334"/>
                  </a:lnTo>
                  <a:lnTo>
                    <a:pt x="4305" y="1325"/>
                  </a:lnTo>
                  <a:lnTo>
                    <a:pt x="4296" y="1316"/>
                  </a:lnTo>
                  <a:lnTo>
                    <a:pt x="4288" y="1308"/>
                  </a:lnTo>
                  <a:lnTo>
                    <a:pt x="4276" y="1311"/>
                  </a:lnTo>
                  <a:lnTo>
                    <a:pt x="4279" y="1291"/>
                  </a:lnTo>
                  <a:lnTo>
                    <a:pt x="4276" y="1282"/>
                  </a:lnTo>
                  <a:lnTo>
                    <a:pt x="4270" y="1273"/>
                  </a:lnTo>
                  <a:lnTo>
                    <a:pt x="4261" y="1267"/>
                  </a:lnTo>
                  <a:lnTo>
                    <a:pt x="4253" y="1259"/>
                  </a:lnTo>
                  <a:lnTo>
                    <a:pt x="4244" y="1250"/>
                  </a:lnTo>
                  <a:lnTo>
                    <a:pt x="4238" y="1242"/>
                  </a:lnTo>
                  <a:lnTo>
                    <a:pt x="4232" y="1233"/>
                  </a:lnTo>
                  <a:lnTo>
                    <a:pt x="4229" y="1224"/>
                  </a:lnTo>
                  <a:lnTo>
                    <a:pt x="4221" y="1218"/>
                  </a:lnTo>
                  <a:lnTo>
                    <a:pt x="4212" y="1210"/>
                  </a:lnTo>
                  <a:lnTo>
                    <a:pt x="4200" y="1201"/>
                  </a:lnTo>
                  <a:lnTo>
                    <a:pt x="4192" y="1195"/>
                  </a:lnTo>
                  <a:lnTo>
                    <a:pt x="4183" y="1193"/>
                  </a:lnTo>
                  <a:lnTo>
                    <a:pt x="4171" y="1187"/>
                  </a:lnTo>
                  <a:lnTo>
                    <a:pt x="4163" y="1184"/>
                  </a:lnTo>
                  <a:lnTo>
                    <a:pt x="4154" y="1181"/>
                  </a:lnTo>
                  <a:lnTo>
                    <a:pt x="4145" y="1175"/>
                  </a:lnTo>
                  <a:lnTo>
                    <a:pt x="4136" y="1170"/>
                  </a:lnTo>
                  <a:lnTo>
                    <a:pt x="4130" y="1161"/>
                  </a:lnTo>
                  <a:lnTo>
                    <a:pt x="4119" y="1152"/>
                  </a:lnTo>
                  <a:lnTo>
                    <a:pt x="4110" y="1149"/>
                  </a:lnTo>
                  <a:lnTo>
                    <a:pt x="4098" y="1144"/>
                  </a:lnTo>
                  <a:lnTo>
                    <a:pt x="4090" y="1144"/>
                  </a:lnTo>
                  <a:lnTo>
                    <a:pt x="4078" y="1135"/>
                  </a:lnTo>
                  <a:lnTo>
                    <a:pt x="4069" y="1126"/>
                  </a:lnTo>
                  <a:lnTo>
                    <a:pt x="4064" y="1118"/>
                  </a:lnTo>
                  <a:lnTo>
                    <a:pt x="4058" y="1109"/>
                  </a:lnTo>
                  <a:lnTo>
                    <a:pt x="4049" y="1103"/>
                  </a:lnTo>
                  <a:lnTo>
                    <a:pt x="4058" y="1100"/>
                  </a:lnTo>
                  <a:lnTo>
                    <a:pt x="4066" y="1100"/>
                  </a:lnTo>
                  <a:lnTo>
                    <a:pt x="4078" y="1100"/>
                  </a:lnTo>
                  <a:lnTo>
                    <a:pt x="4090" y="1103"/>
                  </a:lnTo>
                  <a:lnTo>
                    <a:pt x="4098" y="1109"/>
                  </a:lnTo>
                  <a:lnTo>
                    <a:pt x="4107" y="1112"/>
                  </a:lnTo>
                  <a:lnTo>
                    <a:pt x="4116" y="1115"/>
                  </a:lnTo>
                  <a:lnTo>
                    <a:pt x="4125" y="1121"/>
                  </a:lnTo>
                  <a:lnTo>
                    <a:pt x="4133" y="1126"/>
                  </a:lnTo>
                  <a:lnTo>
                    <a:pt x="4142" y="1129"/>
                  </a:lnTo>
                  <a:lnTo>
                    <a:pt x="4154" y="1138"/>
                  </a:lnTo>
                  <a:lnTo>
                    <a:pt x="4163" y="1141"/>
                  </a:lnTo>
                  <a:lnTo>
                    <a:pt x="4171" y="1144"/>
                  </a:lnTo>
                  <a:lnTo>
                    <a:pt x="4180" y="1146"/>
                  </a:lnTo>
                  <a:lnTo>
                    <a:pt x="4192" y="1146"/>
                  </a:lnTo>
                  <a:lnTo>
                    <a:pt x="4200" y="1146"/>
                  </a:lnTo>
                  <a:lnTo>
                    <a:pt x="4212" y="1149"/>
                  </a:lnTo>
                  <a:lnTo>
                    <a:pt x="4221" y="1149"/>
                  </a:lnTo>
                  <a:lnTo>
                    <a:pt x="4229" y="1152"/>
                  </a:lnTo>
                  <a:lnTo>
                    <a:pt x="4238" y="1155"/>
                  </a:lnTo>
                  <a:lnTo>
                    <a:pt x="4247" y="1161"/>
                  </a:lnTo>
                  <a:lnTo>
                    <a:pt x="4256" y="1164"/>
                  </a:lnTo>
                  <a:lnTo>
                    <a:pt x="4264" y="1170"/>
                  </a:lnTo>
                  <a:lnTo>
                    <a:pt x="4273" y="1172"/>
                  </a:lnTo>
                  <a:lnTo>
                    <a:pt x="4282" y="1178"/>
                  </a:lnTo>
                  <a:lnTo>
                    <a:pt x="4291" y="1181"/>
                  </a:lnTo>
                  <a:lnTo>
                    <a:pt x="4299" y="1187"/>
                  </a:lnTo>
                  <a:lnTo>
                    <a:pt x="4308" y="1190"/>
                  </a:lnTo>
                  <a:lnTo>
                    <a:pt x="4317" y="1193"/>
                  </a:lnTo>
                  <a:lnTo>
                    <a:pt x="4326" y="1195"/>
                  </a:lnTo>
                  <a:lnTo>
                    <a:pt x="4334" y="1195"/>
                  </a:lnTo>
                  <a:lnTo>
                    <a:pt x="4326" y="1190"/>
                  </a:lnTo>
                  <a:lnTo>
                    <a:pt x="4314" y="1178"/>
                  </a:lnTo>
                  <a:lnTo>
                    <a:pt x="4305" y="1170"/>
                  </a:lnTo>
                  <a:lnTo>
                    <a:pt x="4305" y="1161"/>
                  </a:lnTo>
                  <a:lnTo>
                    <a:pt x="4317" y="1158"/>
                  </a:lnTo>
                  <a:lnTo>
                    <a:pt x="4328" y="1158"/>
                  </a:lnTo>
                  <a:lnTo>
                    <a:pt x="4337" y="1158"/>
                  </a:lnTo>
                  <a:lnTo>
                    <a:pt x="4346" y="1158"/>
                  </a:lnTo>
                  <a:lnTo>
                    <a:pt x="4346" y="1149"/>
                  </a:lnTo>
                  <a:lnTo>
                    <a:pt x="4349" y="1138"/>
                  </a:lnTo>
                  <a:lnTo>
                    <a:pt x="4349" y="1129"/>
                  </a:lnTo>
                  <a:lnTo>
                    <a:pt x="4340" y="1123"/>
                  </a:lnTo>
                  <a:lnTo>
                    <a:pt x="4331" y="1121"/>
                  </a:lnTo>
                  <a:lnTo>
                    <a:pt x="4323" y="1121"/>
                  </a:lnTo>
                  <a:lnTo>
                    <a:pt x="4314" y="1121"/>
                  </a:lnTo>
                  <a:lnTo>
                    <a:pt x="4302" y="1121"/>
                  </a:lnTo>
                  <a:lnTo>
                    <a:pt x="4296" y="1132"/>
                  </a:lnTo>
                  <a:lnTo>
                    <a:pt x="4288" y="1138"/>
                  </a:lnTo>
                  <a:lnTo>
                    <a:pt x="4279" y="1144"/>
                  </a:lnTo>
                  <a:lnTo>
                    <a:pt x="4270" y="1144"/>
                  </a:lnTo>
                  <a:lnTo>
                    <a:pt x="4261" y="1144"/>
                  </a:lnTo>
                  <a:lnTo>
                    <a:pt x="4253" y="1144"/>
                  </a:lnTo>
                  <a:lnTo>
                    <a:pt x="4244" y="1144"/>
                  </a:lnTo>
                  <a:lnTo>
                    <a:pt x="4238" y="1135"/>
                  </a:lnTo>
                  <a:lnTo>
                    <a:pt x="4227" y="1126"/>
                  </a:lnTo>
                  <a:lnTo>
                    <a:pt x="4218" y="1115"/>
                  </a:lnTo>
                  <a:lnTo>
                    <a:pt x="4209" y="1109"/>
                  </a:lnTo>
                  <a:lnTo>
                    <a:pt x="4197" y="1100"/>
                  </a:lnTo>
                  <a:lnTo>
                    <a:pt x="4192" y="1092"/>
                  </a:lnTo>
                  <a:lnTo>
                    <a:pt x="4200" y="1086"/>
                  </a:lnTo>
                  <a:lnTo>
                    <a:pt x="4209" y="1077"/>
                  </a:lnTo>
                  <a:lnTo>
                    <a:pt x="4218" y="1072"/>
                  </a:lnTo>
                  <a:lnTo>
                    <a:pt x="4227" y="1063"/>
                  </a:lnTo>
                  <a:lnTo>
                    <a:pt x="4229" y="1054"/>
                  </a:lnTo>
                  <a:lnTo>
                    <a:pt x="4221" y="1048"/>
                  </a:lnTo>
                  <a:lnTo>
                    <a:pt x="4209" y="1048"/>
                  </a:lnTo>
                  <a:lnTo>
                    <a:pt x="4200" y="1048"/>
                  </a:lnTo>
                  <a:lnTo>
                    <a:pt x="4189" y="1048"/>
                  </a:lnTo>
                  <a:lnTo>
                    <a:pt x="4180" y="1051"/>
                  </a:lnTo>
                  <a:lnTo>
                    <a:pt x="4171" y="1057"/>
                  </a:lnTo>
                  <a:lnTo>
                    <a:pt x="4160" y="1057"/>
                  </a:lnTo>
                  <a:lnTo>
                    <a:pt x="4151" y="1057"/>
                  </a:lnTo>
                  <a:lnTo>
                    <a:pt x="4142" y="1057"/>
                  </a:lnTo>
                  <a:lnTo>
                    <a:pt x="4133" y="1057"/>
                  </a:lnTo>
                  <a:lnTo>
                    <a:pt x="4125" y="1057"/>
                  </a:lnTo>
                  <a:lnTo>
                    <a:pt x="4116" y="1057"/>
                  </a:lnTo>
                  <a:lnTo>
                    <a:pt x="4107" y="1057"/>
                  </a:lnTo>
                  <a:lnTo>
                    <a:pt x="4098" y="1057"/>
                  </a:lnTo>
                  <a:lnTo>
                    <a:pt x="4090" y="1057"/>
                  </a:lnTo>
                  <a:lnTo>
                    <a:pt x="4081" y="1057"/>
                  </a:lnTo>
                  <a:lnTo>
                    <a:pt x="4072" y="1057"/>
                  </a:lnTo>
                  <a:lnTo>
                    <a:pt x="4064" y="1054"/>
                  </a:lnTo>
                  <a:lnTo>
                    <a:pt x="4055" y="1051"/>
                  </a:lnTo>
                  <a:lnTo>
                    <a:pt x="4043" y="1048"/>
                  </a:lnTo>
                  <a:lnTo>
                    <a:pt x="4032" y="1043"/>
                  </a:lnTo>
                  <a:lnTo>
                    <a:pt x="4023" y="1040"/>
                  </a:lnTo>
                  <a:lnTo>
                    <a:pt x="4008" y="1031"/>
                  </a:lnTo>
                  <a:lnTo>
                    <a:pt x="3994" y="1028"/>
                  </a:lnTo>
                  <a:lnTo>
                    <a:pt x="3982" y="1028"/>
                  </a:lnTo>
                  <a:lnTo>
                    <a:pt x="3973" y="1028"/>
                  </a:lnTo>
                  <a:lnTo>
                    <a:pt x="3965" y="1028"/>
                  </a:lnTo>
                  <a:lnTo>
                    <a:pt x="3953" y="1028"/>
                  </a:lnTo>
                  <a:lnTo>
                    <a:pt x="3941" y="1028"/>
                  </a:lnTo>
                  <a:lnTo>
                    <a:pt x="3933" y="1028"/>
                  </a:lnTo>
                  <a:lnTo>
                    <a:pt x="3927" y="1037"/>
                  </a:lnTo>
                  <a:lnTo>
                    <a:pt x="3941" y="1048"/>
                  </a:lnTo>
                  <a:lnTo>
                    <a:pt x="3950" y="1051"/>
                  </a:lnTo>
                  <a:lnTo>
                    <a:pt x="3962" y="1054"/>
                  </a:lnTo>
                  <a:lnTo>
                    <a:pt x="3970" y="1057"/>
                  </a:lnTo>
                  <a:lnTo>
                    <a:pt x="3979" y="1060"/>
                  </a:lnTo>
                  <a:lnTo>
                    <a:pt x="3982" y="1072"/>
                  </a:lnTo>
                  <a:lnTo>
                    <a:pt x="3982" y="1080"/>
                  </a:lnTo>
                  <a:lnTo>
                    <a:pt x="3982" y="1089"/>
                  </a:lnTo>
                  <a:lnTo>
                    <a:pt x="3994" y="1100"/>
                  </a:lnTo>
                  <a:lnTo>
                    <a:pt x="4002" y="1103"/>
                  </a:lnTo>
                  <a:lnTo>
                    <a:pt x="4014" y="1106"/>
                  </a:lnTo>
                  <a:lnTo>
                    <a:pt x="4026" y="1106"/>
                  </a:lnTo>
                  <a:lnTo>
                    <a:pt x="4034" y="1109"/>
                  </a:lnTo>
                  <a:lnTo>
                    <a:pt x="4046" y="1112"/>
                  </a:lnTo>
                  <a:lnTo>
                    <a:pt x="4037" y="1115"/>
                  </a:lnTo>
                  <a:lnTo>
                    <a:pt x="4029" y="1112"/>
                  </a:lnTo>
                  <a:lnTo>
                    <a:pt x="4020" y="1109"/>
                  </a:lnTo>
                  <a:lnTo>
                    <a:pt x="4011" y="1109"/>
                  </a:lnTo>
                  <a:lnTo>
                    <a:pt x="4002" y="1106"/>
                  </a:lnTo>
                  <a:lnTo>
                    <a:pt x="3994" y="1103"/>
                  </a:lnTo>
                  <a:lnTo>
                    <a:pt x="3979" y="1097"/>
                  </a:lnTo>
                  <a:lnTo>
                    <a:pt x="3970" y="1097"/>
                  </a:lnTo>
                  <a:lnTo>
                    <a:pt x="3962" y="1100"/>
                  </a:lnTo>
                  <a:lnTo>
                    <a:pt x="3959" y="1109"/>
                  </a:lnTo>
                  <a:lnTo>
                    <a:pt x="3950" y="1118"/>
                  </a:lnTo>
                  <a:lnTo>
                    <a:pt x="3941" y="1123"/>
                  </a:lnTo>
                  <a:lnTo>
                    <a:pt x="3935" y="1132"/>
                  </a:lnTo>
                  <a:lnTo>
                    <a:pt x="3927" y="1138"/>
                  </a:lnTo>
                  <a:lnTo>
                    <a:pt x="3927" y="1146"/>
                  </a:lnTo>
                  <a:lnTo>
                    <a:pt x="3930" y="1155"/>
                  </a:lnTo>
                  <a:lnTo>
                    <a:pt x="3938" y="1161"/>
                  </a:lnTo>
                  <a:lnTo>
                    <a:pt x="3941" y="1170"/>
                  </a:lnTo>
                  <a:lnTo>
                    <a:pt x="3941" y="1178"/>
                  </a:lnTo>
                  <a:lnTo>
                    <a:pt x="3941" y="1187"/>
                  </a:lnTo>
                  <a:lnTo>
                    <a:pt x="3938" y="1195"/>
                  </a:lnTo>
                  <a:lnTo>
                    <a:pt x="3933" y="1204"/>
                  </a:lnTo>
                  <a:lnTo>
                    <a:pt x="3924" y="1204"/>
                  </a:lnTo>
                  <a:lnTo>
                    <a:pt x="3915" y="1193"/>
                  </a:lnTo>
                  <a:lnTo>
                    <a:pt x="3912" y="1184"/>
                  </a:lnTo>
                  <a:lnTo>
                    <a:pt x="3903" y="1178"/>
                  </a:lnTo>
                  <a:lnTo>
                    <a:pt x="3892" y="1172"/>
                  </a:lnTo>
                  <a:lnTo>
                    <a:pt x="3883" y="1167"/>
                  </a:lnTo>
                  <a:lnTo>
                    <a:pt x="3877" y="1158"/>
                  </a:lnTo>
                  <a:lnTo>
                    <a:pt x="3874" y="1167"/>
                  </a:lnTo>
                  <a:lnTo>
                    <a:pt x="3874" y="1175"/>
                  </a:lnTo>
                  <a:lnTo>
                    <a:pt x="3874" y="1184"/>
                  </a:lnTo>
                  <a:lnTo>
                    <a:pt x="3886" y="1193"/>
                  </a:lnTo>
                  <a:lnTo>
                    <a:pt x="3898" y="1195"/>
                  </a:lnTo>
                  <a:lnTo>
                    <a:pt x="3906" y="1198"/>
                  </a:lnTo>
                  <a:lnTo>
                    <a:pt x="3915" y="1201"/>
                  </a:lnTo>
                  <a:lnTo>
                    <a:pt x="3924" y="1207"/>
                  </a:lnTo>
                  <a:lnTo>
                    <a:pt x="3912" y="1213"/>
                  </a:lnTo>
                  <a:lnTo>
                    <a:pt x="3903" y="1213"/>
                  </a:lnTo>
                  <a:lnTo>
                    <a:pt x="3895" y="1213"/>
                  </a:lnTo>
                  <a:lnTo>
                    <a:pt x="3886" y="1216"/>
                  </a:lnTo>
                  <a:lnTo>
                    <a:pt x="3886" y="1224"/>
                  </a:lnTo>
                  <a:lnTo>
                    <a:pt x="3880" y="1233"/>
                  </a:lnTo>
                  <a:lnTo>
                    <a:pt x="3868" y="1236"/>
                  </a:lnTo>
                  <a:lnTo>
                    <a:pt x="3860" y="1236"/>
                  </a:lnTo>
                  <a:lnTo>
                    <a:pt x="3854" y="1224"/>
                  </a:lnTo>
                  <a:lnTo>
                    <a:pt x="3854" y="1216"/>
                  </a:lnTo>
                  <a:lnTo>
                    <a:pt x="3851" y="1207"/>
                  </a:lnTo>
                  <a:lnTo>
                    <a:pt x="3845" y="1198"/>
                  </a:lnTo>
                  <a:lnTo>
                    <a:pt x="3842" y="1187"/>
                  </a:lnTo>
                  <a:lnTo>
                    <a:pt x="3836" y="1175"/>
                  </a:lnTo>
                  <a:lnTo>
                    <a:pt x="3834" y="1164"/>
                  </a:lnTo>
                  <a:lnTo>
                    <a:pt x="3828" y="1155"/>
                  </a:lnTo>
                  <a:lnTo>
                    <a:pt x="3822" y="1146"/>
                  </a:lnTo>
                  <a:lnTo>
                    <a:pt x="3816" y="1138"/>
                  </a:lnTo>
                  <a:lnTo>
                    <a:pt x="3810" y="1129"/>
                  </a:lnTo>
                  <a:lnTo>
                    <a:pt x="3799" y="1123"/>
                  </a:lnTo>
                  <a:lnTo>
                    <a:pt x="3793" y="1115"/>
                  </a:lnTo>
                  <a:lnTo>
                    <a:pt x="3790" y="1106"/>
                  </a:lnTo>
                  <a:lnTo>
                    <a:pt x="3784" y="1097"/>
                  </a:lnTo>
                  <a:lnTo>
                    <a:pt x="3778" y="1089"/>
                  </a:lnTo>
                  <a:lnTo>
                    <a:pt x="3775" y="1080"/>
                  </a:lnTo>
                  <a:lnTo>
                    <a:pt x="3772" y="1072"/>
                  </a:lnTo>
                  <a:lnTo>
                    <a:pt x="3767" y="1063"/>
                  </a:lnTo>
                  <a:lnTo>
                    <a:pt x="3761" y="1054"/>
                  </a:lnTo>
                  <a:lnTo>
                    <a:pt x="3752" y="1046"/>
                  </a:lnTo>
                  <a:lnTo>
                    <a:pt x="3746" y="1037"/>
                  </a:lnTo>
                  <a:lnTo>
                    <a:pt x="3737" y="1034"/>
                  </a:lnTo>
                  <a:lnTo>
                    <a:pt x="3717" y="988"/>
                  </a:lnTo>
                  <a:lnTo>
                    <a:pt x="3737" y="1008"/>
                  </a:lnTo>
                  <a:lnTo>
                    <a:pt x="3737" y="999"/>
                  </a:lnTo>
                  <a:lnTo>
                    <a:pt x="3732" y="991"/>
                  </a:lnTo>
                  <a:lnTo>
                    <a:pt x="3726" y="982"/>
                  </a:lnTo>
                  <a:lnTo>
                    <a:pt x="3723" y="974"/>
                  </a:lnTo>
                  <a:lnTo>
                    <a:pt x="3714" y="968"/>
                  </a:lnTo>
                  <a:lnTo>
                    <a:pt x="3703" y="965"/>
                  </a:lnTo>
                  <a:lnTo>
                    <a:pt x="3694" y="959"/>
                  </a:lnTo>
                  <a:lnTo>
                    <a:pt x="3691" y="950"/>
                  </a:lnTo>
                  <a:lnTo>
                    <a:pt x="3691" y="942"/>
                  </a:lnTo>
                  <a:lnTo>
                    <a:pt x="3691" y="930"/>
                  </a:lnTo>
                  <a:lnTo>
                    <a:pt x="3691" y="922"/>
                  </a:lnTo>
                  <a:lnTo>
                    <a:pt x="3691" y="913"/>
                  </a:lnTo>
                  <a:lnTo>
                    <a:pt x="3694" y="904"/>
                  </a:lnTo>
                  <a:lnTo>
                    <a:pt x="3700" y="896"/>
                  </a:lnTo>
                  <a:lnTo>
                    <a:pt x="3705" y="887"/>
                  </a:lnTo>
                  <a:lnTo>
                    <a:pt x="3714" y="887"/>
                  </a:lnTo>
                  <a:lnTo>
                    <a:pt x="3717" y="878"/>
                  </a:lnTo>
                  <a:lnTo>
                    <a:pt x="3705" y="867"/>
                  </a:lnTo>
                  <a:lnTo>
                    <a:pt x="3705" y="858"/>
                  </a:lnTo>
                  <a:lnTo>
                    <a:pt x="3705" y="847"/>
                  </a:lnTo>
                  <a:lnTo>
                    <a:pt x="3711" y="838"/>
                  </a:lnTo>
                  <a:lnTo>
                    <a:pt x="3717" y="827"/>
                  </a:lnTo>
                  <a:lnTo>
                    <a:pt x="3717" y="818"/>
                  </a:lnTo>
                  <a:lnTo>
                    <a:pt x="3717" y="809"/>
                  </a:lnTo>
                  <a:lnTo>
                    <a:pt x="3705" y="806"/>
                  </a:lnTo>
                  <a:lnTo>
                    <a:pt x="3694" y="801"/>
                  </a:lnTo>
                  <a:lnTo>
                    <a:pt x="3685" y="795"/>
                  </a:lnTo>
                  <a:lnTo>
                    <a:pt x="3685" y="786"/>
                  </a:lnTo>
                  <a:lnTo>
                    <a:pt x="3691" y="778"/>
                  </a:lnTo>
                  <a:lnTo>
                    <a:pt x="3697" y="769"/>
                  </a:lnTo>
                  <a:lnTo>
                    <a:pt x="3700" y="760"/>
                  </a:lnTo>
                  <a:lnTo>
                    <a:pt x="3708" y="757"/>
                  </a:lnTo>
                  <a:lnTo>
                    <a:pt x="3717" y="752"/>
                  </a:lnTo>
                  <a:lnTo>
                    <a:pt x="3726" y="757"/>
                  </a:lnTo>
                  <a:lnTo>
                    <a:pt x="3735" y="760"/>
                  </a:lnTo>
                  <a:lnTo>
                    <a:pt x="3743" y="763"/>
                  </a:lnTo>
                  <a:lnTo>
                    <a:pt x="3743" y="755"/>
                  </a:lnTo>
                  <a:lnTo>
                    <a:pt x="3737" y="746"/>
                  </a:lnTo>
                  <a:lnTo>
                    <a:pt x="3737" y="737"/>
                  </a:lnTo>
                  <a:lnTo>
                    <a:pt x="3735" y="729"/>
                  </a:lnTo>
                  <a:lnTo>
                    <a:pt x="3735" y="720"/>
                  </a:lnTo>
                  <a:lnTo>
                    <a:pt x="3732" y="711"/>
                  </a:lnTo>
                  <a:lnTo>
                    <a:pt x="3726" y="703"/>
                  </a:lnTo>
                  <a:lnTo>
                    <a:pt x="3723" y="691"/>
                  </a:lnTo>
                  <a:lnTo>
                    <a:pt x="3723" y="682"/>
                  </a:lnTo>
                  <a:lnTo>
                    <a:pt x="3723" y="674"/>
                  </a:lnTo>
                  <a:lnTo>
                    <a:pt x="3723" y="665"/>
                  </a:lnTo>
                  <a:lnTo>
                    <a:pt x="3714" y="662"/>
                  </a:lnTo>
                  <a:lnTo>
                    <a:pt x="3708" y="671"/>
                  </a:lnTo>
                  <a:lnTo>
                    <a:pt x="3700" y="671"/>
                  </a:lnTo>
                  <a:lnTo>
                    <a:pt x="3691" y="674"/>
                  </a:lnTo>
                  <a:lnTo>
                    <a:pt x="3682" y="671"/>
                  </a:lnTo>
                  <a:lnTo>
                    <a:pt x="3673" y="659"/>
                  </a:lnTo>
                  <a:lnTo>
                    <a:pt x="3668" y="651"/>
                  </a:lnTo>
                  <a:lnTo>
                    <a:pt x="3662" y="642"/>
                  </a:lnTo>
                  <a:lnTo>
                    <a:pt x="3653" y="633"/>
                  </a:lnTo>
                  <a:lnTo>
                    <a:pt x="3641" y="628"/>
                  </a:lnTo>
                  <a:lnTo>
                    <a:pt x="3633" y="622"/>
                  </a:lnTo>
                  <a:lnTo>
                    <a:pt x="3624" y="622"/>
                  </a:lnTo>
                  <a:lnTo>
                    <a:pt x="3615" y="616"/>
                  </a:lnTo>
                  <a:lnTo>
                    <a:pt x="3604" y="613"/>
                  </a:lnTo>
                  <a:lnTo>
                    <a:pt x="3595" y="608"/>
                  </a:lnTo>
                  <a:lnTo>
                    <a:pt x="3577" y="573"/>
                  </a:lnTo>
                  <a:lnTo>
                    <a:pt x="3592" y="587"/>
                  </a:lnTo>
                  <a:lnTo>
                    <a:pt x="3592" y="576"/>
                  </a:lnTo>
                  <a:lnTo>
                    <a:pt x="3589" y="567"/>
                  </a:lnTo>
                  <a:lnTo>
                    <a:pt x="3589" y="559"/>
                  </a:lnTo>
                  <a:lnTo>
                    <a:pt x="3583" y="547"/>
                  </a:lnTo>
                  <a:lnTo>
                    <a:pt x="3577" y="538"/>
                  </a:lnTo>
                  <a:lnTo>
                    <a:pt x="3569" y="530"/>
                  </a:lnTo>
                  <a:lnTo>
                    <a:pt x="3583" y="527"/>
                  </a:lnTo>
                  <a:lnTo>
                    <a:pt x="3592" y="530"/>
                  </a:lnTo>
                  <a:lnTo>
                    <a:pt x="3601" y="533"/>
                  </a:lnTo>
                  <a:lnTo>
                    <a:pt x="3609" y="538"/>
                  </a:lnTo>
                  <a:lnTo>
                    <a:pt x="3618" y="541"/>
                  </a:lnTo>
                  <a:lnTo>
                    <a:pt x="3621" y="533"/>
                  </a:lnTo>
                  <a:lnTo>
                    <a:pt x="3621" y="524"/>
                  </a:lnTo>
                  <a:lnTo>
                    <a:pt x="3612" y="518"/>
                  </a:lnTo>
                  <a:lnTo>
                    <a:pt x="3604" y="507"/>
                  </a:lnTo>
                  <a:lnTo>
                    <a:pt x="3598" y="498"/>
                  </a:lnTo>
                  <a:lnTo>
                    <a:pt x="3589" y="489"/>
                  </a:lnTo>
                  <a:lnTo>
                    <a:pt x="3586" y="481"/>
                  </a:lnTo>
                  <a:lnTo>
                    <a:pt x="3577" y="472"/>
                  </a:lnTo>
                  <a:lnTo>
                    <a:pt x="3566" y="469"/>
                  </a:lnTo>
                  <a:lnTo>
                    <a:pt x="3557" y="469"/>
                  </a:lnTo>
                  <a:lnTo>
                    <a:pt x="3548" y="469"/>
                  </a:lnTo>
                  <a:lnTo>
                    <a:pt x="3540" y="469"/>
                  </a:lnTo>
                  <a:lnTo>
                    <a:pt x="3531" y="466"/>
                  </a:lnTo>
                  <a:lnTo>
                    <a:pt x="3519" y="458"/>
                  </a:lnTo>
                  <a:lnTo>
                    <a:pt x="3516" y="449"/>
                  </a:lnTo>
                  <a:lnTo>
                    <a:pt x="3510" y="440"/>
                  </a:lnTo>
                  <a:lnTo>
                    <a:pt x="3507" y="432"/>
                  </a:lnTo>
                  <a:lnTo>
                    <a:pt x="3502" y="423"/>
                  </a:lnTo>
                  <a:lnTo>
                    <a:pt x="3502" y="412"/>
                  </a:lnTo>
                  <a:lnTo>
                    <a:pt x="3510" y="412"/>
                  </a:lnTo>
                  <a:lnTo>
                    <a:pt x="3519" y="417"/>
                  </a:lnTo>
                  <a:lnTo>
                    <a:pt x="3531" y="426"/>
                  </a:lnTo>
                  <a:lnTo>
                    <a:pt x="3540" y="432"/>
                  </a:lnTo>
                  <a:lnTo>
                    <a:pt x="3542" y="440"/>
                  </a:lnTo>
                  <a:lnTo>
                    <a:pt x="3551" y="446"/>
                  </a:lnTo>
                  <a:lnTo>
                    <a:pt x="3563" y="452"/>
                  </a:lnTo>
                  <a:lnTo>
                    <a:pt x="3572" y="458"/>
                  </a:lnTo>
                  <a:lnTo>
                    <a:pt x="3580" y="458"/>
                  </a:lnTo>
                  <a:lnTo>
                    <a:pt x="3589" y="458"/>
                  </a:lnTo>
                  <a:lnTo>
                    <a:pt x="3598" y="458"/>
                  </a:lnTo>
                  <a:lnTo>
                    <a:pt x="3606" y="461"/>
                  </a:lnTo>
                  <a:lnTo>
                    <a:pt x="3612" y="472"/>
                  </a:lnTo>
                  <a:lnTo>
                    <a:pt x="3618" y="481"/>
                  </a:lnTo>
                  <a:lnTo>
                    <a:pt x="3621" y="489"/>
                  </a:lnTo>
                  <a:lnTo>
                    <a:pt x="3627" y="498"/>
                  </a:lnTo>
                  <a:lnTo>
                    <a:pt x="3633" y="507"/>
                  </a:lnTo>
                  <a:lnTo>
                    <a:pt x="3641" y="518"/>
                  </a:lnTo>
                  <a:lnTo>
                    <a:pt x="3650" y="521"/>
                  </a:lnTo>
                  <a:lnTo>
                    <a:pt x="3662" y="524"/>
                  </a:lnTo>
                  <a:lnTo>
                    <a:pt x="3671" y="524"/>
                  </a:lnTo>
                  <a:lnTo>
                    <a:pt x="3679" y="527"/>
                  </a:lnTo>
                  <a:lnTo>
                    <a:pt x="3688" y="527"/>
                  </a:lnTo>
                  <a:lnTo>
                    <a:pt x="3700" y="530"/>
                  </a:lnTo>
                  <a:lnTo>
                    <a:pt x="3711" y="536"/>
                  </a:lnTo>
                  <a:lnTo>
                    <a:pt x="3723" y="544"/>
                  </a:lnTo>
                  <a:lnTo>
                    <a:pt x="3729" y="553"/>
                  </a:lnTo>
                  <a:lnTo>
                    <a:pt x="3735" y="561"/>
                  </a:lnTo>
                  <a:lnTo>
                    <a:pt x="3746" y="570"/>
                  </a:lnTo>
                  <a:lnTo>
                    <a:pt x="3761" y="579"/>
                  </a:lnTo>
                  <a:lnTo>
                    <a:pt x="3770" y="585"/>
                  </a:lnTo>
                  <a:lnTo>
                    <a:pt x="3772" y="593"/>
                  </a:lnTo>
                  <a:lnTo>
                    <a:pt x="3775" y="602"/>
                  </a:lnTo>
                  <a:lnTo>
                    <a:pt x="3778" y="610"/>
                  </a:lnTo>
                  <a:lnTo>
                    <a:pt x="3787" y="610"/>
                  </a:lnTo>
                  <a:lnTo>
                    <a:pt x="3790" y="619"/>
                  </a:lnTo>
                  <a:lnTo>
                    <a:pt x="3799" y="622"/>
                  </a:lnTo>
                  <a:lnTo>
                    <a:pt x="3807" y="628"/>
                  </a:lnTo>
                  <a:lnTo>
                    <a:pt x="3819" y="633"/>
                  </a:lnTo>
                  <a:lnTo>
                    <a:pt x="3828" y="636"/>
                  </a:lnTo>
                  <a:lnTo>
                    <a:pt x="3836" y="639"/>
                  </a:lnTo>
                  <a:lnTo>
                    <a:pt x="3845" y="642"/>
                  </a:lnTo>
                  <a:lnTo>
                    <a:pt x="3854" y="642"/>
                  </a:lnTo>
                  <a:lnTo>
                    <a:pt x="3866" y="645"/>
                  </a:lnTo>
                  <a:lnTo>
                    <a:pt x="3874" y="651"/>
                  </a:lnTo>
                  <a:lnTo>
                    <a:pt x="3883" y="657"/>
                  </a:lnTo>
                  <a:lnTo>
                    <a:pt x="3892" y="657"/>
                  </a:lnTo>
                  <a:lnTo>
                    <a:pt x="3901" y="657"/>
                  </a:lnTo>
                  <a:lnTo>
                    <a:pt x="3912" y="657"/>
                  </a:lnTo>
                  <a:lnTo>
                    <a:pt x="3924" y="657"/>
                  </a:lnTo>
                  <a:lnTo>
                    <a:pt x="3938" y="657"/>
                  </a:lnTo>
                  <a:lnTo>
                    <a:pt x="3947" y="657"/>
                  </a:lnTo>
                  <a:lnTo>
                    <a:pt x="3959" y="657"/>
                  </a:lnTo>
                  <a:lnTo>
                    <a:pt x="3967" y="659"/>
                  </a:lnTo>
                  <a:lnTo>
                    <a:pt x="3979" y="659"/>
                  </a:lnTo>
                  <a:lnTo>
                    <a:pt x="3991" y="659"/>
                  </a:lnTo>
                  <a:lnTo>
                    <a:pt x="4002" y="659"/>
                  </a:lnTo>
                  <a:lnTo>
                    <a:pt x="4017" y="659"/>
                  </a:lnTo>
                  <a:lnTo>
                    <a:pt x="4026" y="659"/>
                  </a:lnTo>
                  <a:lnTo>
                    <a:pt x="4037" y="659"/>
                  </a:lnTo>
                  <a:lnTo>
                    <a:pt x="4049" y="659"/>
                  </a:lnTo>
                  <a:lnTo>
                    <a:pt x="4061" y="659"/>
                  </a:lnTo>
                  <a:lnTo>
                    <a:pt x="4072" y="659"/>
                  </a:lnTo>
                  <a:lnTo>
                    <a:pt x="4084" y="659"/>
                  </a:lnTo>
                  <a:lnTo>
                    <a:pt x="4093" y="659"/>
                  </a:lnTo>
                  <a:lnTo>
                    <a:pt x="4101" y="659"/>
                  </a:lnTo>
                  <a:lnTo>
                    <a:pt x="4110" y="659"/>
                  </a:lnTo>
                  <a:lnTo>
                    <a:pt x="4119" y="659"/>
                  </a:lnTo>
                  <a:lnTo>
                    <a:pt x="4128" y="659"/>
                  </a:lnTo>
                  <a:lnTo>
                    <a:pt x="4136" y="659"/>
                  </a:lnTo>
                  <a:lnTo>
                    <a:pt x="4142" y="668"/>
                  </a:lnTo>
                  <a:lnTo>
                    <a:pt x="4145" y="677"/>
                  </a:lnTo>
                  <a:lnTo>
                    <a:pt x="4151" y="685"/>
                  </a:lnTo>
                  <a:lnTo>
                    <a:pt x="4160" y="691"/>
                  </a:lnTo>
                  <a:lnTo>
                    <a:pt x="4168" y="700"/>
                  </a:lnTo>
                  <a:lnTo>
                    <a:pt x="4177" y="700"/>
                  </a:lnTo>
                  <a:lnTo>
                    <a:pt x="4177" y="691"/>
                  </a:lnTo>
                  <a:lnTo>
                    <a:pt x="4168" y="682"/>
                  </a:lnTo>
                  <a:lnTo>
                    <a:pt x="4168" y="674"/>
                  </a:lnTo>
                  <a:lnTo>
                    <a:pt x="4160" y="665"/>
                  </a:lnTo>
                  <a:lnTo>
                    <a:pt x="4151" y="659"/>
                  </a:lnTo>
                  <a:lnTo>
                    <a:pt x="4136" y="619"/>
                  </a:lnTo>
                  <a:lnTo>
                    <a:pt x="4142" y="60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33880" y="36291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6" y="0"/>
                  </a:moveTo>
                  <a:lnTo>
                    <a:pt x="32" y="11"/>
                  </a:lnTo>
                  <a:lnTo>
                    <a:pt x="23" y="11"/>
                  </a:lnTo>
                  <a:lnTo>
                    <a:pt x="14" y="11"/>
                  </a:lnTo>
                  <a:lnTo>
                    <a:pt x="5" y="13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8" y="33"/>
                  </a:lnTo>
                  <a:lnTo>
                    <a:pt x="17" y="30"/>
                  </a:lnTo>
                  <a:lnTo>
                    <a:pt x="23" y="22"/>
                  </a:lnTo>
                  <a:lnTo>
                    <a:pt x="23" y="13"/>
                  </a:lnTo>
                  <a:lnTo>
                    <a:pt x="26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14480" y="5259240"/>
              <a:ext cx="4320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" y="20"/>
                  </a:moveTo>
                  <a:lnTo>
                    <a:pt x="8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4" y="17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2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81200" y="4390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0"/>
                  </a:moveTo>
                  <a:lnTo>
                    <a:pt x="11" y="16"/>
                  </a:lnTo>
                  <a:lnTo>
                    <a:pt x="11" y="25"/>
                  </a:lnTo>
                  <a:lnTo>
                    <a:pt x="2" y="33"/>
                  </a:lnTo>
                  <a:lnTo>
                    <a:pt x="11" y="45"/>
                  </a:lnTo>
                  <a:lnTo>
                    <a:pt x="26" y="48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2" y="22"/>
                  </a:lnTo>
                  <a:lnTo>
                    <a:pt x="23" y="14"/>
                  </a:lnTo>
                  <a:lnTo>
                    <a:pt x="14" y="11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29600" y="16905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0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05920" y="1801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lnTo>
                    <a:pt x="8" y="11"/>
                  </a:lnTo>
                  <a:lnTo>
                    <a:pt x="14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26" y="46"/>
                  </a:lnTo>
                  <a:lnTo>
                    <a:pt x="17" y="43"/>
                  </a:lnTo>
                  <a:lnTo>
                    <a:pt x="11" y="34"/>
                  </a:lnTo>
                  <a:lnTo>
                    <a:pt x="8" y="25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24440" y="16192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6" y="70"/>
                  </a:moveTo>
                  <a:lnTo>
                    <a:pt x="0" y="78"/>
                  </a:lnTo>
                  <a:lnTo>
                    <a:pt x="0" y="70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19" y="42"/>
                  </a:lnTo>
                  <a:lnTo>
                    <a:pt x="11" y="33"/>
                  </a:lnTo>
                  <a:lnTo>
                    <a:pt x="11" y="25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11"/>
                  </a:lnTo>
                  <a:lnTo>
                    <a:pt x="45" y="16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28" y="33"/>
                  </a:lnTo>
                  <a:lnTo>
                    <a:pt x="35" y="36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5" y="56"/>
                  </a:lnTo>
                  <a:lnTo>
                    <a:pt x="45" y="64"/>
                  </a:lnTo>
                  <a:lnTo>
                    <a:pt x="43" y="72"/>
                  </a:lnTo>
                  <a:lnTo>
                    <a:pt x="50" y="75"/>
                  </a:lnTo>
                  <a:lnTo>
                    <a:pt x="55" y="84"/>
                  </a:lnTo>
                  <a:lnTo>
                    <a:pt x="50" y="92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31" y="98"/>
                  </a:lnTo>
                  <a:lnTo>
                    <a:pt x="23" y="98"/>
                  </a:lnTo>
                  <a:lnTo>
                    <a:pt x="14" y="92"/>
                  </a:lnTo>
                  <a:lnTo>
                    <a:pt x="9" y="84"/>
                  </a:lnTo>
                  <a:lnTo>
                    <a:pt x="4" y="75"/>
                  </a:lnTo>
                  <a:lnTo>
                    <a:pt x="16" y="7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48200" y="17812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4"/>
                  </a:lnTo>
                  <a:lnTo>
                    <a:pt x="16" y="18"/>
                  </a:lnTo>
                  <a:lnTo>
                    <a:pt x="4" y="0"/>
                  </a:lnTo>
                  <a:lnTo>
                    <a:pt x="16" y="1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00840" y="167328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0"/>
                  </a:moveTo>
                  <a:lnTo>
                    <a:pt x="17" y="19"/>
                  </a:lnTo>
                  <a:lnTo>
                    <a:pt x="22" y="11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25" y="27"/>
                  </a:lnTo>
                  <a:lnTo>
                    <a:pt x="28" y="36"/>
                  </a:lnTo>
                  <a:lnTo>
                    <a:pt x="11" y="30"/>
                  </a:lnTo>
                  <a:lnTo>
                    <a:pt x="0" y="33"/>
                  </a:lnTo>
                  <a:lnTo>
                    <a:pt x="11" y="3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91040" y="1490760"/>
              <a:ext cx="84240" cy="10944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31" y="51"/>
                  </a:moveTo>
                  <a:lnTo>
                    <a:pt x="8" y="34"/>
                  </a:lnTo>
                  <a:lnTo>
                    <a:pt x="8" y="42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5" y="68"/>
                  </a:lnTo>
                  <a:lnTo>
                    <a:pt x="17" y="68"/>
                  </a:lnTo>
                  <a:lnTo>
                    <a:pt x="28" y="68"/>
                  </a:lnTo>
                  <a:lnTo>
                    <a:pt x="37" y="68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2" y="34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20" y="19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7" y="45"/>
                  </a:lnTo>
                  <a:lnTo>
                    <a:pt x="31" y="51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38480" y="2170080"/>
              <a:ext cx="293760" cy="235080"/>
            </a:xfrm>
            <a:custGeom>
              <a:avLst/>
              <a:gdLst/>
              <a:ahLst/>
              <a:rect l="l" t="t" r="r" b="b"/>
              <a:pathLst>
                <a:path w="185" h="148">
                  <a:moveTo>
                    <a:pt x="0" y="101"/>
                  </a:moveTo>
                  <a:lnTo>
                    <a:pt x="11" y="84"/>
                  </a:lnTo>
                  <a:lnTo>
                    <a:pt x="11" y="93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5" y="138"/>
                  </a:lnTo>
                  <a:lnTo>
                    <a:pt x="14" y="135"/>
                  </a:lnTo>
                  <a:lnTo>
                    <a:pt x="20" y="127"/>
                  </a:lnTo>
                  <a:lnTo>
                    <a:pt x="28" y="118"/>
                  </a:lnTo>
                  <a:lnTo>
                    <a:pt x="31" y="110"/>
                  </a:lnTo>
                  <a:lnTo>
                    <a:pt x="40" y="104"/>
                  </a:lnTo>
                  <a:lnTo>
                    <a:pt x="48" y="101"/>
                  </a:lnTo>
                  <a:lnTo>
                    <a:pt x="57" y="98"/>
                  </a:lnTo>
                  <a:lnTo>
                    <a:pt x="66" y="90"/>
                  </a:lnTo>
                  <a:lnTo>
                    <a:pt x="69" y="81"/>
                  </a:lnTo>
                  <a:lnTo>
                    <a:pt x="77" y="79"/>
                  </a:lnTo>
                  <a:lnTo>
                    <a:pt x="80" y="87"/>
                  </a:lnTo>
                  <a:lnTo>
                    <a:pt x="80" y="96"/>
                  </a:lnTo>
                  <a:lnTo>
                    <a:pt x="80" y="104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71" y="130"/>
                  </a:lnTo>
                  <a:lnTo>
                    <a:pt x="74" y="138"/>
                  </a:lnTo>
                  <a:lnTo>
                    <a:pt x="83" y="141"/>
                  </a:lnTo>
                  <a:lnTo>
                    <a:pt x="94" y="141"/>
                  </a:lnTo>
                  <a:lnTo>
                    <a:pt x="103" y="138"/>
                  </a:lnTo>
                  <a:lnTo>
                    <a:pt x="109" y="130"/>
                  </a:lnTo>
                  <a:lnTo>
                    <a:pt x="109" y="121"/>
                  </a:lnTo>
                  <a:lnTo>
                    <a:pt x="100" y="113"/>
                  </a:lnTo>
                  <a:lnTo>
                    <a:pt x="106" y="101"/>
                  </a:lnTo>
                  <a:lnTo>
                    <a:pt x="100" y="90"/>
                  </a:lnTo>
                  <a:lnTo>
                    <a:pt x="97" y="81"/>
                  </a:lnTo>
                  <a:lnTo>
                    <a:pt x="97" y="73"/>
                  </a:lnTo>
                  <a:lnTo>
                    <a:pt x="97" y="65"/>
                  </a:lnTo>
                  <a:lnTo>
                    <a:pt x="103" y="56"/>
                  </a:lnTo>
                  <a:lnTo>
                    <a:pt x="112" y="56"/>
                  </a:lnTo>
                  <a:lnTo>
                    <a:pt x="120" y="53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52" y="56"/>
                  </a:lnTo>
                  <a:lnTo>
                    <a:pt x="166" y="56"/>
                  </a:lnTo>
                  <a:lnTo>
                    <a:pt x="175" y="56"/>
                  </a:lnTo>
                  <a:lnTo>
                    <a:pt x="184" y="56"/>
                  </a:lnTo>
                  <a:lnTo>
                    <a:pt x="184" y="48"/>
                  </a:lnTo>
                  <a:lnTo>
                    <a:pt x="184" y="39"/>
                  </a:lnTo>
                  <a:lnTo>
                    <a:pt x="181" y="31"/>
                  </a:lnTo>
                  <a:lnTo>
                    <a:pt x="178" y="22"/>
                  </a:lnTo>
                  <a:lnTo>
                    <a:pt x="166" y="16"/>
                  </a:lnTo>
                  <a:lnTo>
                    <a:pt x="158" y="16"/>
                  </a:lnTo>
                  <a:lnTo>
                    <a:pt x="146" y="16"/>
                  </a:lnTo>
                  <a:lnTo>
                    <a:pt x="138" y="19"/>
                  </a:lnTo>
                  <a:lnTo>
                    <a:pt x="140" y="11"/>
                  </a:lnTo>
                  <a:lnTo>
                    <a:pt x="140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12" y="11"/>
                  </a:lnTo>
                  <a:lnTo>
                    <a:pt x="103" y="16"/>
                  </a:lnTo>
                  <a:lnTo>
                    <a:pt x="97" y="25"/>
                  </a:lnTo>
                  <a:lnTo>
                    <a:pt x="94" y="16"/>
                  </a:lnTo>
                  <a:lnTo>
                    <a:pt x="86" y="14"/>
                  </a:lnTo>
                  <a:lnTo>
                    <a:pt x="77" y="19"/>
                  </a:lnTo>
                  <a:lnTo>
                    <a:pt x="69" y="25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63" y="2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7" y="25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23" y="48"/>
                  </a:lnTo>
                  <a:lnTo>
                    <a:pt x="31" y="48"/>
                  </a:lnTo>
                  <a:lnTo>
                    <a:pt x="40" y="42"/>
                  </a:lnTo>
                  <a:lnTo>
                    <a:pt x="51" y="45"/>
                  </a:lnTo>
                  <a:lnTo>
                    <a:pt x="57" y="53"/>
                  </a:lnTo>
                  <a:lnTo>
                    <a:pt x="60" y="62"/>
                  </a:lnTo>
                  <a:lnTo>
                    <a:pt x="51" y="65"/>
                  </a:lnTo>
                  <a:lnTo>
                    <a:pt x="40" y="65"/>
                  </a:lnTo>
                  <a:lnTo>
                    <a:pt x="28" y="59"/>
                  </a:lnTo>
                  <a:lnTo>
                    <a:pt x="17" y="59"/>
                  </a:lnTo>
                  <a:lnTo>
                    <a:pt x="8" y="65"/>
                  </a:lnTo>
                  <a:lnTo>
                    <a:pt x="8" y="76"/>
                  </a:lnTo>
                  <a:lnTo>
                    <a:pt x="11" y="87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6"/>
                  </a:lnTo>
                  <a:lnTo>
                    <a:pt x="0" y="101"/>
                  </a:lnTo>
                  <a:lnTo>
                    <a:pt x="5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0" y="1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95760" y="2171880"/>
              <a:ext cx="220680" cy="18072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31" y="53"/>
                  </a:moveTo>
                  <a:lnTo>
                    <a:pt x="25" y="64"/>
                  </a:lnTo>
                  <a:lnTo>
                    <a:pt x="31" y="53"/>
                  </a:lnTo>
                  <a:lnTo>
                    <a:pt x="43" y="56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7" y="79"/>
                  </a:lnTo>
                  <a:lnTo>
                    <a:pt x="23" y="90"/>
                  </a:lnTo>
                  <a:lnTo>
                    <a:pt x="25" y="98"/>
                  </a:lnTo>
                  <a:lnTo>
                    <a:pt x="31" y="107"/>
                  </a:lnTo>
                  <a:lnTo>
                    <a:pt x="34" y="98"/>
                  </a:lnTo>
                  <a:lnTo>
                    <a:pt x="34" y="90"/>
                  </a:lnTo>
                  <a:lnTo>
                    <a:pt x="43" y="90"/>
                  </a:lnTo>
                  <a:lnTo>
                    <a:pt x="54" y="93"/>
                  </a:lnTo>
                  <a:lnTo>
                    <a:pt x="63" y="96"/>
                  </a:lnTo>
                  <a:lnTo>
                    <a:pt x="71" y="96"/>
                  </a:lnTo>
                  <a:lnTo>
                    <a:pt x="80" y="87"/>
                  </a:lnTo>
                  <a:lnTo>
                    <a:pt x="89" y="87"/>
                  </a:lnTo>
                  <a:lnTo>
                    <a:pt x="97" y="93"/>
                  </a:lnTo>
                  <a:lnTo>
                    <a:pt x="103" y="107"/>
                  </a:lnTo>
                  <a:lnTo>
                    <a:pt x="112" y="110"/>
                  </a:lnTo>
                  <a:lnTo>
                    <a:pt x="120" y="113"/>
                  </a:lnTo>
                  <a:lnTo>
                    <a:pt x="126" y="104"/>
                  </a:lnTo>
                  <a:lnTo>
                    <a:pt x="123" y="96"/>
                  </a:lnTo>
                  <a:lnTo>
                    <a:pt x="115" y="90"/>
                  </a:lnTo>
                  <a:lnTo>
                    <a:pt x="106" y="87"/>
                  </a:lnTo>
                  <a:lnTo>
                    <a:pt x="94" y="81"/>
                  </a:lnTo>
                  <a:lnTo>
                    <a:pt x="92" y="73"/>
                  </a:lnTo>
                  <a:lnTo>
                    <a:pt x="103" y="70"/>
                  </a:lnTo>
                  <a:lnTo>
                    <a:pt x="112" y="70"/>
                  </a:lnTo>
                  <a:lnTo>
                    <a:pt x="115" y="62"/>
                  </a:lnTo>
                  <a:lnTo>
                    <a:pt x="120" y="53"/>
                  </a:lnTo>
                  <a:lnTo>
                    <a:pt x="129" y="48"/>
                  </a:lnTo>
                  <a:lnTo>
                    <a:pt x="138" y="39"/>
                  </a:lnTo>
                  <a:lnTo>
                    <a:pt x="129" y="33"/>
                  </a:lnTo>
                  <a:lnTo>
                    <a:pt x="120" y="31"/>
                  </a:lnTo>
                  <a:lnTo>
                    <a:pt x="112" y="33"/>
                  </a:lnTo>
                  <a:lnTo>
                    <a:pt x="106" y="42"/>
                  </a:lnTo>
                  <a:lnTo>
                    <a:pt x="97" y="45"/>
                  </a:lnTo>
                  <a:lnTo>
                    <a:pt x="97" y="36"/>
                  </a:lnTo>
                  <a:lnTo>
                    <a:pt x="100" y="25"/>
                  </a:lnTo>
                  <a:lnTo>
                    <a:pt x="100" y="16"/>
                  </a:lnTo>
                  <a:lnTo>
                    <a:pt x="103" y="8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0" y="8"/>
                  </a:lnTo>
                  <a:lnTo>
                    <a:pt x="77" y="16"/>
                  </a:lnTo>
                  <a:lnTo>
                    <a:pt x="74" y="25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1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3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23" y="64"/>
                  </a:lnTo>
                  <a:lnTo>
                    <a:pt x="31" y="64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77" y="53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05520" y="2079720"/>
              <a:ext cx="298440" cy="156960"/>
            </a:xfrm>
            <a:custGeom>
              <a:avLst/>
              <a:gdLst/>
              <a:ahLst/>
              <a:rect l="l" t="t" r="r" b="b"/>
              <a:pathLst>
                <a:path w="188" h="99">
                  <a:moveTo>
                    <a:pt x="0" y="17"/>
                  </a:moveTo>
                  <a:lnTo>
                    <a:pt x="25" y="25"/>
                  </a:lnTo>
                  <a:lnTo>
                    <a:pt x="37" y="25"/>
                  </a:lnTo>
                  <a:lnTo>
                    <a:pt x="43" y="34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63" y="69"/>
                  </a:lnTo>
                  <a:lnTo>
                    <a:pt x="63" y="80"/>
                  </a:lnTo>
                  <a:lnTo>
                    <a:pt x="71" y="83"/>
                  </a:lnTo>
                  <a:lnTo>
                    <a:pt x="80" y="77"/>
                  </a:lnTo>
                  <a:lnTo>
                    <a:pt x="89" y="77"/>
                  </a:lnTo>
                  <a:lnTo>
                    <a:pt x="97" y="77"/>
                  </a:lnTo>
                  <a:lnTo>
                    <a:pt x="106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5" y="74"/>
                  </a:lnTo>
                  <a:lnTo>
                    <a:pt x="143" y="77"/>
                  </a:lnTo>
                  <a:lnTo>
                    <a:pt x="152" y="86"/>
                  </a:lnTo>
                  <a:lnTo>
                    <a:pt x="163" y="98"/>
                  </a:lnTo>
                  <a:lnTo>
                    <a:pt x="169" y="89"/>
                  </a:lnTo>
                  <a:lnTo>
                    <a:pt x="175" y="80"/>
                  </a:lnTo>
                  <a:lnTo>
                    <a:pt x="181" y="72"/>
                  </a:lnTo>
                  <a:lnTo>
                    <a:pt x="187" y="60"/>
                  </a:lnTo>
                  <a:lnTo>
                    <a:pt x="187" y="51"/>
                  </a:lnTo>
                  <a:lnTo>
                    <a:pt x="187" y="43"/>
                  </a:lnTo>
                  <a:lnTo>
                    <a:pt x="181" y="34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5" y="34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9" y="40"/>
                  </a:lnTo>
                  <a:lnTo>
                    <a:pt x="129" y="49"/>
                  </a:lnTo>
                  <a:lnTo>
                    <a:pt x="129" y="57"/>
                  </a:lnTo>
                  <a:lnTo>
                    <a:pt x="120" y="51"/>
                  </a:lnTo>
                  <a:lnTo>
                    <a:pt x="109" y="43"/>
                  </a:lnTo>
                  <a:lnTo>
                    <a:pt x="100" y="34"/>
                  </a:lnTo>
                  <a:lnTo>
                    <a:pt x="86" y="25"/>
                  </a:lnTo>
                  <a:lnTo>
                    <a:pt x="83" y="37"/>
                  </a:lnTo>
                  <a:lnTo>
                    <a:pt x="74" y="40"/>
                  </a:lnTo>
                  <a:lnTo>
                    <a:pt x="74" y="31"/>
                  </a:lnTo>
                  <a:lnTo>
                    <a:pt x="69" y="23"/>
                  </a:lnTo>
                  <a:lnTo>
                    <a:pt x="60" y="17"/>
                  </a:lnTo>
                  <a:lnTo>
                    <a:pt x="51" y="8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8" y="8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0" y="1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74960" y="2954160"/>
              <a:ext cx="680760" cy="700200"/>
            </a:xfrm>
            <a:custGeom>
              <a:avLst/>
              <a:gdLst/>
              <a:ahLst/>
              <a:rect l="l" t="t" r="r" b="b"/>
              <a:pathLst>
                <a:path w="429" h="441">
                  <a:moveTo>
                    <a:pt x="22" y="309"/>
                  </a:moveTo>
                  <a:lnTo>
                    <a:pt x="34" y="315"/>
                  </a:lnTo>
                  <a:lnTo>
                    <a:pt x="43" y="318"/>
                  </a:lnTo>
                  <a:lnTo>
                    <a:pt x="51" y="321"/>
                  </a:lnTo>
                  <a:lnTo>
                    <a:pt x="54" y="333"/>
                  </a:lnTo>
                  <a:lnTo>
                    <a:pt x="63" y="342"/>
                  </a:lnTo>
                  <a:lnTo>
                    <a:pt x="71" y="348"/>
                  </a:lnTo>
                  <a:lnTo>
                    <a:pt x="80" y="348"/>
                  </a:lnTo>
                  <a:lnTo>
                    <a:pt x="91" y="355"/>
                  </a:lnTo>
                  <a:lnTo>
                    <a:pt x="100" y="361"/>
                  </a:lnTo>
                  <a:lnTo>
                    <a:pt x="109" y="364"/>
                  </a:lnTo>
                  <a:lnTo>
                    <a:pt x="112" y="373"/>
                  </a:lnTo>
                  <a:lnTo>
                    <a:pt x="117" y="382"/>
                  </a:lnTo>
                  <a:lnTo>
                    <a:pt x="123" y="391"/>
                  </a:lnTo>
                  <a:lnTo>
                    <a:pt x="132" y="397"/>
                  </a:lnTo>
                  <a:lnTo>
                    <a:pt x="146" y="406"/>
                  </a:lnTo>
                  <a:lnTo>
                    <a:pt x="155" y="412"/>
                  </a:lnTo>
                  <a:lnTo>
                    <a:pt x="163" y="418"/>
                  </a:lnTo>
                  <a:lnTo>
                    <a:pt x="172" y="421"/>
                  </a:lnTo>
                  <a:lnTo>
                    <a:pt x="180" y="430"/>
                  </a:lnTo>
                  <a:lnTo>
                    <a:pt x="189" y="436"/>
                  </a:lnTo>
                  <a:lnTo>
                    <a:pt x="198" y="440"/>
                  </a:lnTo>
                  <a:lnTo>
                    <a:pt x="203" y="430"/>
                  </a:lnTo>
                  <a:lnTo>
                    <a:pt x="203" y="421"/>
                  </a:lnTo>
                  <a:lnTo>
                    <a:pt x="203" y="412"/>
                  </a:lnTo>
                  <a:lnTo>
                    <a:pt x="215" y="406"/>
                  </a:lnTo>
                  <a:lnTo>
                    <a:pt x="224" y="406"/>
                  </a:lnTo>
                  <a:lnTo>
                    <a:pt x="232" y="406"/>
                  </a:lnTo>
                  <a:lnTo>
                    <a:pt x="241" y="406"/>
                  </a:lnTo>
                  <a:lnTo>
                    <a:pt x="249" y="406"/>
                  </a:lnTo>
                  <a:lnTo>
                    <a:pt x="258" y="406"/>
                  </a:lnTo>
                  <a:lnTo>
                    <a:pt x="261" y="397"/>
                  </a:lnTo>
                  <a:lnTo>
                    <a:pt x="261" y="388"/>
                  </a:lnTo>
                  <a:lnTo>
                    <a:pt x="261" y="379"/>
                  </a:lnTo>
                  <a:lnTo>
                    <a:pt x="261" y="367"/>
                  </a:lnTo>
                  <a:lnTo>
                    <a:pt x="261" y="355"/>
                  </a:lnTo>
                  <a:lnTo>
                    <a:pt x="252" y="348"/>
                  </a:lnTo>
                  <a:lnTo>
                    <a:pt x="244" y="348"/>
                  </a:lnTo>
                  <a:lnTo>
                    <a:pt x="235" y="342"/>
                  </a:lnTo>
                  <a:lnTo>
                    <a:pt x="229" y="333"/>
                  </a:lnTo>
                  <a:lnTo>
                    <a:pt x="229" y="324"/>
                  </a:lnTo>
                  <a:lnTo>
                    <a:pt x="238" y="321"/>
                  </a:lnTo>
                  <a:lnTo>
                    <a:pt x="247" y="315"/>
                  </a:lnTo>
                  <a:lnTo>
                    <a:pt x="255" y="312"/>
                  </a:lnTo>
                  <a:lnTo>
                    <a:pt x="261" y="303"/>
                  </a:lnTo>
                  <a:lnTo>
                    <a:pt x="261" y="294"/>
                  </a:lnTo>
                  <a:lnTo>
                    <a:pt x="264" y="285"/>
                  </a:lnTo>
                  <a:lnTo>
                    <a:pt x="264" y="276"/>
                  </a:lnTo>
                  <a:lnTo>
                    <a:pt x="267" y="267"/>
                  </a:lnTo>
                  <a:lnTo>
                    <a:pt x="272" y="257"/>
                  </a:lnTo>
                  <a:lnTo>
                    <a:pt x="278" y="248"/>
                  </a:lnTo>
                  <a:lnTo>
                    <a:pt x="284" y="239"/>
                  </a:lnTo>
                  <a:lnTo>
                    <a:pt x="284" y="230"/>
                  </a:lnTo>
                  <a:lnTo>
                    <a:pt x="284" y="221"/>
                  </a:lnTo>
                  <a:lnTo>
                    <a:pt x="284" y="209"/>
                  </a:lnTo>
                  <a:lnTo>
                    <a:pt x="292" y="200"/>
                  </a:lnTo>
                  <a:lnTo>
                    <a:pt x="295" y="191"/>
                  </a:lnTo>
                  <a:lnTo>
                    <a:pt x="298" y="182"/>
                  </a:lnTo>
                  <a:lnTo>
                    <a:pt x="301" y="172"/>
                  </a:lnTo>
                  <a:lnTo>
                    <a:pt x="292" y="163"/>
                  </a:lnTo>
                  <a:lnTo>
                    <a:pt x="284" y="154"/>
                  </a:lnTo>
                  <a:lnTo>
                    <a:pt x="278" y="145"/>
                  </a:lnTo>
                  <a:lnTo>
                    <a:pt x="287" y="142"/>
                  </a:lnTo>
                  <a:lnTo>
                    <a:pt x="295" y="142"/>
                  </a:lnTo>
                  <a:lnTo>
                    <a:pt x="304" y="148"/>
                  </a:lnTo>
                  <a:lnTo>
                    <a:pt x="313" y="157"/>
                  </a:lnTo>
                  <a:lnTo>
                    <a:pt x="321" y="163"/>
                  </a:lnTo>
                  <a:lnTo>
                    <a:pt x="327" y="154"/>
                  </a:lnTo>
                  <a:lnTo>
                    <a:pt x="336" y="148"/>
                  </a:lnTo>
                  <a:lnTo>
                    <a:pt x="344" y="148"/>
                  </a:lnTo>
                  <a:lnTo>
                    <a:pt x="353" y="145"/>
                  </a:lnTo>
                  <a:lnTo>
                    <a:pt x="361" y="142"/>
                  </a:lnTo>
                  <a:lnTo>
                    <a:pt x="361" y="133"/>
                  </a:lnTo>
                  <a:lnTo>
                    <a:pt x="361" y="124"/>
                  </a:lnTo>
                  <a:lnTo>
                    <a:pt x="361" y="115"/>
                  </a:lnTo>
                  <a:lnTo>
                    <a:pt x="359" y="106"/>
                  </a:lnTo>
                  <a:lnTo>
                    <a:pt x="353" y="97"/>
                  </a:lnTo>
                  <a:lnTo>
                    <a:pt x="344" y="88"/>
                  </a:lnTo>
                  <a:lnTo>
                    <a:pt x="333" y="81"/>
                  </a:lnTo>
                  <a:lnTo>
                    <a:pt x="341" y="75"/>
                  </a:lnTo>
                  <a:lnTo>
                    <a:pt x="353" y="75"/>
                  </a:lnTo>
                  <a:lnTo>
                    <a:pt x="361" y="75"/>
                  </a:lnTo>
                  <a:lnTo>
                    <a:pt x="370" y="75"/>
                  </a:lnTo>
                  <a:lnTo>
                    <a:pt x="379" y="72"/>
                  </a:lnTo>
                  <a:lnTo>
                    <a:pt x="387" y="69"/>
                  </a:lnTo>
                  <a:lnTo>
                    <a:pt x="396" y="69"/>
                  </a:lnTo>
                  <a:lnTo>
                    <a:pt x="405" y="72"/>
                  </a:lnTo>
                  <a:lnTo>
                    <a:pt x="419" y="75"/>
                  </a:lnTo>
                  <a:lnTo>
                    <a:pt x="428" y="75"/>
                  </a:lnTo>
                  <a:lnTo>
                    <a:pt x="425" y="66"/>
                  </a:lnTo>
                  <a:lnTo>
                    <a:pt x="422" y="57"/>
                  </a:lnTo>
                  <a:lnTo>
                    <a:pt x="419" y="48"/>
                  </a:lnTo>
                  <a:lnTo>
                    <a:pt x="410" y="48"/>
                  </a:lnTo>
                  <a:lnTo>
                    <a:pt x="402" y="48"/>
                  </a:lnTo>
                  <a:lnTo>
                    <a:pt x="390" y="48"/>
                  </a:lnTo>
                  <a:lnTo>
                    <a:pt x="382" y="48"/>
                  </a:lnTo>
                  <a:lnTo>
                    <a:pt x="379" y="57"/>
                  </a:lnTo>
                  <a:lnTo>
                    <a:pt x="370" y="54"/>
                  </a:lnTo>
                  <a:lnTo>
                    <a:pt x="361" y="45"/>
                  </a:lnTo>
                  <a:lnTo>
                    <a:pt x="353" y="39"/>
                  </a:lnTo>
                  <a:lnTo>
                    <a:pt x="341" y="39"/>
                  </a:lnTo>
                  <a:lnTo>
                    <a:pt x="333" y="39"/>
                  </a:lnTo>
                  <a:lnTo>
                    <a:pt x="318" y="39"/>
                  </a:lnTo>
                  <a:lnTo>
                    <a:pt x="310" y="39"/>
                  </a:lnTo>
                  <a:lnTo>
                    <a:pt x="298" y="42"/>
                  </a:lnTo>
                  <a:lnTo>
                    <a:pt x="290" y="42"/>
                  </a:lnTo>
                  <a:lnTo>
                    <a:pt x="290" y="33"/>
                  </a:lnTo>
                  <a:lnTo>
                    <a:pt x="298" y="30"/>
                  </a:lnTo>
                  <a:lnTo>
                    <a:pt x="307" y="30"/>
                  </a:lnTo>
                  <a:lnTo>
                    <a:pt x="315" y="27"/>
                  </a:lnTo>
                  <a:lnTo>
                    <a:pt x="324" y="24"/>
                  </a:lnTo>
                  <a:lnTo>
                    <a:pt x="327" y="15"/>
                  </a:lnTo>
                  <a:lnTo>
                    <a:pt x="327" y="6"/>
                  </a:lnTo>
                  <a:lnTo>
                    <a:pt x="318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3"/>
                  </a:lnTo>
                  <a:lnTo>
                    <a:pt x="275" y="12"/>
                  </a:lnTo>
                  <a:lnTo>
                    <a:pt x="267" y="18"/>
                  </a:lnTo>
                  <a:lnTo>
                    <a:pt x="258" y="21"/>
                  </a:lnTo>
                  <a:lnTo>
                    <a:pt x="255" y="30"/>
                  </a:lnTo>
                  <a:lnTo>
                    <a:pt x="264" y="36"/>
                  </a:lnTo>
                  <a:lnTo>
                    <a:pt x="272" y="36"/>
                  </a:lnTo>
                  <a:lnTo>
                    <a:pt x="278" y="45"/>
                  </a:lnTo>
                  <a:lnTo>
                    <a:pt x="270" y="54"/>
                  </a:lnTo>
                  <a:lnTo>
                    <a:pt x="267" y="63"/>
                  </a:lnTo>
                  <a:lnTo>
                    <a:pt x="281" y="75"/>
                  </a:lnTo>
                  <a:lnTo>
                    <a:pt x="290" y="78"/>
                  </a:lnTo>
                  <a:lnTo>
                    <a:pt x="281" y="75"/>
                  </a:lnTo>
                  <a:lnTo>
                    <a:pt x="270" y="66"/>
                  </a:lnTo>
                  <a:lnTo>
                    <a:pt x="261" y="60"/>
                  </a:lnTo>
                  <a:lnTo>
                    <a:pt x="252" y="51"/>
                  </a:lnTo>
                  <a:lnTo>
                    <a:pt x="244" y="51"/>
                  </a:lnTo>
                  <a:lnTo>
                    <a:pt x="241" y="60"/>
                  </a:lnTo>
                  <a:lnTo>
                    <a:pt x="241" y="69"/>
                  </a:lnTo>
                  <a:lnTo>
                    <a:pt x="255" y="78"/>
                  </a:lnTo>
                  <a:lnTo>
                    <a:pt x="264" y="81"/>
                  </a:lnTo>
                  <a:lnTo>
                    <a:pt x="255" y="88"/>
                  </a:lnTo>
                  <a:lnTo>
                    <a:pt x="244" y="88"/>
                  </a:lnTo>
                  <a:lnTo>
                    <a:pt x="235" y="88"/>
                  </a:lnTo>
                  <a:lnTo>
                    <a:pt x="235" y="103"/>
                  </a:lnTo>
                  <a:lnTo>
                    <a:pt x="244" y="106"/>
                  </a:lnTo>
                  <a:lnTo>
                    <a:pt x="252" y="109"/>
                  </a:lnTo>
                  <a:lnTo>
                    <a:pt x="244" y="115"/>
                  </a:lnTo>
                  <a:lnTo>
                    <a:pt x="235" y="112"/>
                  </a:lnTo>
                  <a:lnTo>
                    <a:pt x="226" y="109"/>
                  </a:lnTo>
                  <a:lnTo>
                    <a:pt x="218" y="106"/>
                  </a:lnTo>
                  <a:lnTo>
                    <a:pt x="212" y="115"/>
                  </a:lnTo>
                  <a:lnTo>
                    <a:pt x="218" y="124"/>
                  </a:lnTo>
                  <a:lnTo>
                    <a:pt x="229" y="127"/>
                  </a:lnTo>
                  <a:lnTo>
                    <a:pt x="238" y="130"/>
                  </a:lnTo>
                  <a:lnTo>
                    <a:pt x="229" y="124"/>
                  </a:lnTo>
                  <a:lnTo>
                    <a:pt x="221" y="121"/>
                  </a:lnTo>
                  <a:lnTo>
                    <a:pt x="209" y="115"/>
                  </a:lnTo>
                  <a:lnTo>
                    <a:pt x="198" y="106"/>
                  </a:lnTo>
                  <a:lnTo>
                    <a:pt x="192" y="97"/>
                  </a:lnTo>
                  <a:lnTo>
                    <a:pt x="183" y="91"/>
                  </a:lnTo>
                  <a:lnTo>
                    <a:pt x="180" y="81"/>
                  </a:lnTo>
                  <a:lnTo>
                    <a:pt x="178" y="72"/>
                  </a:lnTo>
                  <a:lnTo>
                    <a:pt x="169" y="60"/>
                  </a:lnTo>
                  <a:lnTo>
                    <a:pt x="160" y="60"/>
                  </a:lnTo>
                  <a:lnTo>
                    <a:pt x="152" y="66"/>
                  </a:lnTo>
                  <a:lnTo>
                    <a:pt x="149" y="75"/>
                  </a:lnTo>
                  <a:lnTo>
                    <a:pt x="146" y="84"/>
                  </a:lnTo>
                  <a:lnTo>
                    <a:pt x="143" y="94"/>
                  </a:lnTo>
                  <a:lnTo>
                    <a:pt x="140" y="103"/>
                  </a:lnTo>
                  <a:lnTo>
                    <a:pt x="129" y="103"/>
                  </a:lnTo>
                  <a:lnTo>
                    <a:pt x="117" y="94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0" y="60"/>
                  </a:lnTo>
                  <a:lnTo>
                    <a:pt x="89" y="60"/>
                  </a:lnTo>
                  <a:lnTo>
                    <a:pt x="80" y="66"/>
                  </a:lnTo>
                  <a:lnTo>
                    <a:pt x="77" y="75"/>
                  </a:lnTo>
                  <a:lnTo>
                    <a:pt x="71" y="84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51" y="127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0" y="127"/>
                  </a:lnTo>
                  <a:lnTo>
                    <a:pt x="51" y="121"/>
                  </a:lnTo>
                  <a:lnTo>
                    <a:pt x="43" y="118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4" y="115"/>
                  </a:lnTo>
                  <a:lnTo>
                    <a:pt x="11" y="124"/>
                  </a:lnTo>
                  <a:lnTo>
                    <a:pt x="8" y="133"/>
                  </a:lnTo>
                  <a:lnTo>
                    <a:pt x="2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4" y="169"/>
                  </a:lnTo>
                  <a:lnTo>
                    <a:pt x="22" y="172"/>
                  </a:lnTo>
                  <a:lnTo>
                    <a:pt x="31" y="172"/>
                  </a:lnTo>
                  <a:lnTo>
                    <a:pt x="40" y="176"/>
                  </a:lnTo>
                  <a:lnTo>
                    <a:pt x="51" y="185"/>
                  </a:lnTo>
                  <a:lnTo>
                    <a:pt x="60" y="191"/>
                  </a:lnTo>
                  <a:lnTo>
                    <a:pt x="68" y="197"/>
                  </a:lnTo>
                  <a:lnTo>
                    <a:pt x="80" y="200"/>
                  </a:lnTo>
                  <a:lnTo>
                    <a:pt x="89" y="203"/>
                  </a:lnTo>
                  <a:lnTo>
                    <a:pt x="100" y="203"/>
                  </a:lnTo>
                  <a:lnTo>
                    <a:pt x="109" y="203"/>
                  </a:lnTo>
                  <a:lnTo>
                    <a:pt x="120" y="197"/>
                  </a:lnTo>
                  <a:lnTo>
                    <a:pt x="129" y="194"/>
                  </a:lnTo>
                  <a:lnTo>
                    <a:pt x="135" y="185"/>
                  </a:lnTo>
                  <a:lnTo>
                    <a:pt x="143" y="179"/>
                  </a:lnTo>
                  <a:lnTo>
                    <a:pt x="149" y="169"/>
                  </a:lnTo>
                  <a:lnTo>
                    <a:pt x="157" y="163"/>
                  </a:lnTo>
                  <a:lnTo>
                    <a:pt x="166" y="163"/>
                  </a:lnTo>
                  <a:lnTo>
                    <a:pt x="175" y="166"/>
                  </a:lnTo>
                  <a:lnTo>
                    <a:pt x="183" y="166"/>
                  </a:lnTo>
                  <a:lnTo>
                    <a:pt x="192" y="157"/>
                  </a:lnTo>
                  <a:lnTo>
                    <a:pt x="198" y="148"/>
                  </a:lnTo>
                  <a:lnTo>
                    <a:pt x="201" y="139"/>
                  </a:lnTo>
                  <a:lnTo>
                    <a:pt x="203" y="130"/>
                  </a:lnTo>
                  <a:lnTo>
                    <a:pt x="212" y="130"/>
                  </a:lnTo>
                  <a:lnTo>
                    <a:pt x="224" y="136"/>
                  </a:lnTo>
                  <a:lnTo>
                    <a:pt x="232" y="139"/>
                  </a:lnTo>
                  <a:lnTo>
                    <a:pt x="241" y="142"/>
                  </a:lnTo>
                  <a:lnTo>
                    <a:pt x="232" y="142"/>
                  </a:lnTo>
                  <a:lnTo>
                    <a:pt x="224" y="142"/>
                  </a:lnTo>
                  <a:lnTo>
                    <a:pt x="215" y="142"/>
                  </a:lnTo>
                  <a:lnTo>
                    <a:pt x="206" y="142"/>
                  </a:lnTo>
                  <a:lnTo>
                    <a:pt x="203" y="151"/>
                  </a:lnTo>
                  <a:lnTo>
                    <a:pt x="201" y="160"/>
                  </a:lnTo>
                  <a:lnTo>
                    <a:pt x="201" y="169"/>
                  </a:lnTo>
                  <a:lnTo>
                    <a:pt x="209" y="176"/>
                  </a:lnTo>
                  <a:lnTo>
                    <a:pt x="218" y="179"/>
                  </a:lnTo>
                  <a:lnTo>
                    <a:pt x="226" y="188"/>
                  </a:lnTo>
                  <a:lnTo>
                    <a:pt x="235" y="194"/>
                  </a:lnTo>
                  <a:lnTo>
                    <a:pt x="238" y="203"/>
                  </a:lnTo>
                  <a:lnTo>
                    <a:pt x="226" y="206"/>
                  </a:lnTo>
                  <a:lnTo>
                    <a:pt x="224" y="215"/>
                  </a:lnTo>
                  <a:lnTo>
                    <a:pt x="224" y="224"/>
                  </a:lnTo>
                  <a:lnTo>
                    <a:pt x="221" y="233"/>
                  </a:lnTo>
                  <a:lnTo>
                    <a:pt x="209" y="233"/>
                  </a:lnTo>
                  <a:lnTo>
                    <a:pt x="203" y="245"/>
                  </a:lnTo>
                  <a:lnTo>
                    <a:pt x="198" y="257"/>
                  </a:lnTo>
                  <a:lnTo>
                    <a:pt x="195" y="267"/>
                  </a:lnTo>
                  <a:lnTo>
                    <a:pt x="186" y="267"/>
                  </a:lnTo>
                  <a:lnTo>
                    <a:pt x="183" y="257"/>
                  </a:lnTo>
                  <a:lnTo>
                    <a:pt x="178" y="245"/>
                  </a:lnTo>
                  <a:lnTo>
                    <a:pt x="175" y="233"/>
                  </a:lnTo>
                  <a:lnTo>
                    <a:pt x="166" y="224"/>
                  </a:lnTo>
                  <a:lnTo>
                    <a:pt x="157" y="221"/>
                  </a:lnTo>
                  <a:lnTo>
                    <a:pt x="149" y="218"/>
                  </a:lnTo>
                  <a:lnTo>
                    <a:pt x="137" y="224"/>
                  </a:lnTo>
                  <a:lnTo>
                    <a:pt x="140" y="236"/>
                  </a:lnTo>
                  <a:lnTo>
                    <a:pt x="143" y="245"/>
                  </a:lnTo>
                  <a:lnTo>
                    <a:pt x="143" y="254"/>
                  </a:lnTo>
                  <a:lnTo>
                    <a:pt x="135" y="260"/>
                  </a:lnTo>
                  <a:lnTo>
                    <a:pt x="126" y="260"/>
                  </a:lnTo>
                  <a:lnTo>
                    <a:pt x="114" y="257"/>
                  </a:lnTo>
                  <a:lnTo>
                    <a:pt x="106" y="257"/>
                  </a:lnTo>
                  <a:lnTo>
                    <a:pt x="97" y="257"/>
                  </a:lnTo>
                  <a:lnTo>
                    <a:pt x="89" y="257"/>
                  </a:lnTo>
                  <a:lnTo>
                    <a:pt x="91" y="267"/>
                  </a:lnTo>
                  <a:lnTo>
                    <a:pt x="100" y="276"/>
                  </a:lnTo>
                  <a:lnTo>
                    <a:pt x="100" y="285"/>
                  </a:lnTo>
                  <a:lnTo>
                    <a:pt x="97" y="294"/>
                  </a:lnTo>
                  <a:lnTo>
                    <a:pt x="97" y="303"/>
                  </a:lnTo>
                  <a:lnTo>
                    <a:pt x="109" y="312"/>
                  </a:lnTo>
                  <a:lnTo>
                    <a:pt x="117" y="318"/>
                  </a:lnTo>
                  <a:lnTo>
                    <a:pt x="109" y="318"/>
                  </a:lnTo>
                  <a:lnTo>
                    <a:pt x="100" y="309"/>
                  </a:lnTo>
                  <a:lnTo>
                    <a:pt x="89" y="300"/>
                  </a:lnTo>
                  <a:lnTo>
                    <a:pt x="80" y="297"/>
                  </a:lnTo>
                  <a:lnTo>
                    <a:pt x="71" y="297"/>
                  </a:lnTo>
                  <a:lnTo>
                    <a:pt x="63" y="300"/>
                  </a:lnTo>
                  <a:lnTo>
                    <a:pt x="54" y="306"/>
                  </a:lnTo>
                  <a:lnTo>
                    <a:pt x="43" y="306"/>
                  </a:lnTo>
                  <a:lnTo>
                    <a:pt x="34" y="306"/>
                  </a:lnTo>
                  <a:lnTo>
                    <a:pt x="22" y="309"/>
                  </a:lnTo>
                  <a:lnTo>
                    <a:pt x="11" y="303"/>
                  </a:lnTo>
                  <a:lnTo>
                    <a:pt x="22" y="309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43200" y="27082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2"/>
                  </a:moveTo>
                  <a:lnTo>
                    <a:pt x="8" y="19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34" y="22"/>
                  </a:lnTo>
                  <a:lnTo>
                    <a:pt x="40" y="13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76680" y="294012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5" y="0"/>
                  </a:moveTo>
                  <a:lnTo>
                    <a:pt x="20" y="13"/>
                  </a:lnTo>
                  <a:lnTo>
                    <a:pt x="11" y="16"/>
                  </a:lnTo>
                  <a:lnTo>
                    <a:pt x="8" y="24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4" y="30"/>
                  </a:lnTo>
                  <a:lnTo>
                    <a:pt x="40" y="21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25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10160" y="2549520"/>
              <a:ext cx="339840" cy="509760"/>
            </a:xfrm>
            <a:custGeom>
              <a:avLst/>
              <a:gdLst/>
              <a:ahLst/>
              <a:rect l="l" t="t" r="r" b="b"/>
              <a:pathLst>
                <a:path w="214" h="321">
                  <a:moveTo>
                    <a:pt x="23" y="200"/>
                  </a:moveTo>
                  <a:lnTo>
                    <a:pt x="34" y="182"/>
                  </a:lnTo>
                  <a:lnTo>
                    <a:pt x="23" y="200"/>
                  </a:lnTo>
                  <a:lnTo>
                    <a:pt x="23" y="211"/>
                  </a:lnTo>
                  <a:lnTo>
                    <a:pt x="20" y="220"/>
                  </a:lnTo>
                  <a:lnTo>
                    <a:pt x="17" y="228"/>
                  </a:lnTo>
                  <a:lnTo>
                    <a:pt x="8" y="234"/>
                  </a:lnTo>
                  <a:lnTo>
                    <a:pt x="2" y="24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8" y="268"/>
                  </a:lnTo>
                  <a:lnTo>
                    <a:pt x="17" y="268"/>
                  </a:lnTo>
                  <a:lnTo>
                    <a:pt x="25" y="271"/>
                  </a:lnTo>
                  <a:lnTo>
                    <a:pt x="28" y="280"/>
                  </a:lnTo>
                  <a:lnTo>
                    <a:pt x="37" y="291"/>
                  </a:lnTo>
                  <a:lnTo>
                    <a:pt x="28" y="294"/>
                  </a:lnTo>
                  <a:lnTo>
                    <a:pt x="20" y="285"/>
                  </a:lnTo>
                  <a:lnTo>
                    <a:pt x="31" y="294"/>
                  </a:lnTo>
                  <a:lnTo>
                    <a:pt x="40" y="300"/>
                  </a:lnTo>
                  <a:lnTo>
                    <a:pt x="48" y="311"/>
                  </a:lnTo>
                  <a:lnTo>
                    <a:pt x="57" y="314"/>
                  </a:lnTo>
                  <a:lnTo>
                    <a:pt x="66" y="320"/>
                  </a:lnTo>
                  <a:lnTo>
                    <a:pt x="66" y="311"/>
                  </a:lnTo>
                  <a:lnTo>
                    <a:pt x="74" y="311"/>
                  </a:lnTo>
                  <a:lnTo>
                    <a:pt x="83" y="320"/>
                  </a:lnTo>
                  <a:lnTo>
                    <a:pt x="83" y="308"/>
                  </a:lnTo>
                  <a:lnTo>
                    <a:pt x="92" y="305"/>
                  </a:lnTo>
                  <a:lnTo>
                    <a:pt x="97" y="297"/>
                  </a:lnTo>
                  <a:lnTo>
                    <a:pt x="89" y="288"/>
                  </a:lnTo>
                  <a:lnTo>
                    <a:pt x="83" y="280"/>
                  </a:lnTo>
                  <a:lnTo>
                    <a:pt x="77" y="271"/>
                  </a:lnTo>
                  <a:lnTo>
                    <a:pt x="71" y="262"/>
                  </a:lnTo>
                  <a:lnTo>
                    <a:pt x="69" y="254"/>
                  </a:lnTo>
                  <a:lnTo>
                    <a:pt x="69" y="242"/>
                  </a:lnTo>
                  <a:lnTo>
                    <a:pt x="69" y="234"/>
                  </a:lnTo>
                  <a:lnTo>
                    <a:pt x="69" y="225"/>
                  </a:lnTo>
                  <a:lnTo>
                    <a:pt x="69" y="217"/>
                  </a:lnTo>
                  <a:lnTo>
                    <a:pt x="69" y="208"/>
                  </a:lnTo>
                  <a:lnTo>
                    <a:pt x="69" y="200"/>
                  </a:lnTo>
                  <a:lnTo>
                    <a:pt x="69" y="191"/>
                  </a:lnTo>
                  <a:lnTo>
                    <a:pt x="69" y="182"/>
                  </a:lnTo>
                  <a:lnTo>
                    <a:pt x="77" y="174"/>
                  </a:lnTo>
                  <a:lnTo>
                    <a:pt x="86" y="168"/>
                  </a:lnTo>
                  <a:lnTo>
                    <a:pt x="92" y="160"/>
                  </a:lnTo>
                  <a:lnTo>
                    <a:pt x="97" y="151"/>
                  </a:lnTo>
                  <a:lnTo>
                    <a:pt x="103" y="142"/>
                  </a:lnTo>
                  <a:lnTo>
                    <a:pt x="103" y="134"/>
                  </a:lnTo>
                  <a:lnTo>
                    <a:pt x="103" y="125"/>
                  </a:lnTo>
                  <a:lnTo>
                    <a:pt x="112" y="122"/>
                  </a:lnTo>
                  <a:lnTo>
                    <a:pt x="120" y="117"/>
                  </a:lnTo>
                  <a:lnTo>
                    <a:pt x="123" y="105"/>
                  </a:lnTo>
                  <a:lnTo>
                    <a:pt x="132" y="100"/>
                  </a:lnTo>
                  <a:lnTo>
                    <a:pt x="135" y="91"/>
                  </a:lnTo>
                  <a:lnTo>
                    <a:pt x="143" y="82"/>
                  </a:lnTo>
                  <a:lnTo>
                    <a:pt x="152" y="77"/>
                  </a:lnTo>
                  <a:lnTo>
                    <a:pt x="158" y="68"/>
                  </a:lnTo>
                  <a:lnTo>
                    <a:pt x="166" y="65"/>
                  </a:lnTo>
                  <a:lnTo>
                    <a:pt x="175" y="60"/>
                  </a:lnTo>
                  <a:lnTo>
                    <a:pt x="184" y="57"/>
                  </a:lnTo>
                  <a:lnTo>
                    <a:pt x="189" y="48"/>
                  </a:lnTo>
                  <a:lnTo>
                    <a:pt x="198" y="42"/>
                  </a:lnTo>
                  <a:lnTo>
                    <a:pt x="207" y="37"/>
                  </a:lnTo>
                  <a:lnTo>
                    <a:pt x="210" y="28"/>
                  </a:lnTo>
                  <a:lnTo>
                    <a:pt x="213" y="20"/>
                  </a:lnTo>
                  <a:lnTo>
                    <a:pt x="213" y="11"/>
                  </a:lnTo>
                  <a:lnTo>
                    <a:pt x="210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5" y="8"/>
                  </a:lnTo>
                  <a:lnTo>
                    <a:pt x="175" y="17"/>
                  </a:lnTo>
                  <a:lnTo>
                    <a:pt x="166" y="20"/>
                  </a:lnTo>
                  <a:lnTo>
                    <a:pt x="158" y="25"/>
                  </a:lnTo>
                  <a:lnTo>
                    <a:pt x="149" y="34"/>
                  </a:lnTo>
                  <a:lnTo>
                    <a:pt x="141" y="40"/>
                  </a:lnTo>
                  <a:lnTo>
                    <a:pt x="132" y="42"/>
                  </a:lnTo>
                  <a:lnTo>
                    <a:pt x="123" y="42"/>
                  </a:lnTo>
                  <a:lnTo>
                    <a:pt x="123" y="54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7" y="68"/>
                  </a:lnTo>
                  <a:lnTo>
                    <a:pt x="89" y="77"/>
                  </a:lnTo>
                  <a:lnTo>
                    <a:pt x="83" y="85"/>
                  </a:lnTo>
                  <a:lnTo>
                    <a:pt x="80" y="94"/>
                  </a:lnTo>
                  <a:lnTo>
                    <a:pt x="71" y="100"/>
                  </a:lnTo>
                  <a:lnTo>
                    <a:pt x="66" y="108"/>
                  </a:lnTo>
                  <a:lnTo>
                    <a:pt x="63" y="117"/>
                  </a:lnTo>
                  <a:lnTo>
                    <a:pt x="63" y="125"/>
                  </a:lnTo>
                  <a:lnTo>
                    <a:pt x="57" y="134"/>
                  </a:lnTo>
                  <a:lnTo>
                    <a:pt x="51" y="142"/>
                  </a:lnTo>
                  <a:lnTo>
                    <a:pt x="46" y="151"/>
                  </a:lnTo>
                  <a:lnTo>
                    <a:pt x="40" y="162"/>
                  </a:lnTo>
                  <a:lnTo>
                    <a:pt x="37" y="171"/>
                  </a:lnTo>
                  <a:lnTo>
                    <a:pt x="46" y="177"/>
                  </a:lnTo>
                  <a:lnTo>
                    <a:pt x="54" y="180"/>
                  </a:lnTo>
                  <a:lnTo>
                    <a:pt x="57" y="188"/>
                  </a:lnTo>
                  <a:lnTo>
                    <a:pt x="48" y="185"/>
                  </a:lnTo>
                  <a:lnTo>
                    <a:pt x="40" y="185"/>
                  </a:lnTo>
                  <a:lnTo>
                    <a:pt x="31" y="188"/>
                  </a:lnTo>
                  <a:lnTo>
                    <a:pt x="23" y="200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23" y="237"/>
                  </a:lnTo>
                  <a:lnTo>
                    <a:pt x="14" y="242"/>
                  </a:lnTo>
                  <a:lnTo>
                    <a:pt x="8" y="251"/>
                  </a:lnTo>
                  <a:lnTo>
                    <a:pt x="0" y="260"/>
                  </a:lnTo>
                  <a:lnTo>
                    <a:pt x="23" y="2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71720" y="444168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49" y="47"/>
                  </a:moveTo>
                  <a:lnTo>
                    <a:pt x="44" y="58"/>
                  </a:lnTo>
                  <a:lnTo>
                    <a:pt x="35" y="58"/>
                  </a:lnTo>
                  <a:lnTo>
                    <a:pt x="30" y="66"/>
                  </a:lnTo>
                  <a:lnTo>
                    <a:pt x="30" y="75"/>
                  </a:lnTo>
                  <a:lnTo>
                    <a:pt x="30" y="83"/>
                  </a:lnTo>
                  <a:lnTo>
                    <a:pt x="30" y="91"/>
                  </a:lnTo>
                  <a:lnTo>
                    <a:pt x="22" y="94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8" y="139"/>
                  </a:lnTo>
                  <a:lnTo>
                    <a:pt x="16" y="139"/>
                  </a:lnTo>
                  <a:lnTo>
                    <a:pt x="27" y="147"/>
                  </a:lnTo>
                  <a:lnTo>
                    <a:pt x="33" y="156"/>
                  </a:lnTo>
                  <a:lnTo>
                    <a:pt x="41" y="156"/>
                  </a:lnTo>
                  <a:lnTo>
                    <a:pt x="46" y="147"/>
                  </a:lnTo>
                  <a:lnTo>
                    <a:pt x="52" y="139"/>
                  </a:lnTo>
                  <a:lnTo>
                    <a:pt x="55" y="130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71" y="108"/>
                  </a:lnTo>
                  <a:lnTo>
                    <a:pt x="80" y="108"/>
                  </a:lnTo>
                  <a:lnTo>
                    <a:pt x="82" y="100"/>
                  </a:lnTo>
                  <a:lnTo>
                    <a:pt x="82" y="91"/>
                  </a:lnTo>
                  <a:lnTo>
                    <a:pt x="82" y="83"/>
                  </a:lnTo>
                  <a:lnTo>
                    <a:pt x="82" y="75"/>
                  </a:lnTo>
                  <a:lnTo>
                    <a:pt x="82" y="66"/>
                  </a:lnTo>
                  <a:lnTo>
                    <a:pt x="85" y="58"/>
                  </a:lnTo>
                  <a:lnTo>
                    <a:pt x="93" y="52"/>
                  </a:lnTo>
                  <a:lnTo>
                    <a:pt x="102" y="47"/>
                  </a:lnTo>
                  <a:lnTo>
                    <a:pt x="107" y="39"/>
                  </a:lnTo>
                  <a:lnTo>
                    <a:pt x="115" y="36"/>
                  </a:lnTo>
                  <a:lnTo>
                    <a:pt x="121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38" y="5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8" y="11"/>
                  </a:lnTo>
                  <a:lnTo>
                    <a:pt x="82" y="19"/>
                  </a:lnTo>
                  <a:lnTo>
                    <a:pt x="80" y="27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69" y="61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49" y="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90800" y="524844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1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6" y="21"/>
                  </a:lnTo>
                  <a:lnTo>
                    <a:pt x="23" y="27"/>
                  </a:lnTo>
                  <a:lnTo>
                    <a:pt x="18" y="18"/>
                  </a:lnTo>
                  <a:lnTo>
                    <a:pt x="13" y="9"/>
                  </a:lnTo>
                  <a:lnTo>
                    <a:pt x="6" y="21"/>
                  </a:lnTo>
                  <a:lnTo>
                    <a:pt x="9" y="6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957400" y="5361120"/>
              <a:ext cx="27000" cy="72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6" y="0"/>
                  </a:moveTo>
                  <a:lnTo>
                    <a:pt x="5" y="19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0" y="28"/>
                  </a:lnTo>
                  <a:lnTo>
                    <a:pt x="16" y="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52480" y="4357800"/>
              <a:ext cx="88920" cy="73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0"/>
                  </a:moveTo>
                  <a:lnTo>
                    <a:pt x="20" y="19"/>
                  </a:lnTo>
                  <a:lnTo>
                    <a:pt x="20" y="28"/>
                  </a:lnTo>
                  <a:lnTo>
                    <a:pt x="28" y="33"/>
                  </a:lnTo>
                  <a:lnTo>
                    <a:pt x="28" y="42"/>
                  </a:lnTo>
                  <a:lnTo>
                    <a:pt x="37" y="45"/>
                  </a:lnTo>
                  <a:lnTo>
                    <a:pt x="46" y="45"/>
                  </a:lnTo>
                  <a:lnTo>
                    <a:pt x="49" y="36"/>
                  </a:lnTo>
                  <a:lnTo>
                    <a:pt x="55" y="28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26" y="16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228600" y="6137280"/>
              <a:ext cx="611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993600" y="6272280"/>
              <a:ext cx="47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HO European Centre for Environment and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72040" y="743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0"/>
                  </a:moveTo>
                  <a:lnTo>
                    <a:pt x="8" y="8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5" y="37"/>
                  </a:lnTo>
                  <a:lnTo>
                    <a:pt x="11" y="46"/>
                  </a:lnTo>
                  <a:lnTo>
                    <a:pt x="19" y="49"/>
                  </a:lnTo>
                  <a:lnTo>
                    <a:pt x="31" y="52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7" y="55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31" y="14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97360" y="4836960"/>
              <a:ext cx="788760" cy="408240"/>
            </a:xfrm>
            <a:custGeom>
              <a:avLst/>
              <a:gdLst/>
              <a:ahLst/>
              <a:rect l="l" t="t" r="r" b="b"/>
              <a:pathLst>
                <a:path w="497" h="257">
                  <a:moveTo>
                    <a:pt x="0" y="193"/>
                  </a:moveTo>
                  <a:lnTo>
                    <a:pt x="24" y="189"/>
                  </a:lnTo>
                  <a:lnTo>
                    <a:pt x="32" y="182"/>
                  </a:lnTo>
                  <a:lnTo>
                    <a:pt x="40" y="174"/>
                  </a:lnTo>
                  <a:lnTo>
                    <a:pt x="46" y="164"/>
                  </a:lnTo>
                  <a:lnTo>
                    <a:pt x="45" y="155"/>
                  </a:lnTo>
                  <a:lnTo>
                    <a:pt x="52" y="149"/>
                  </a:lnTo>
                  <a:lnTo>
                    <a:pt x="60" y="140"/>
                  </a:lnTo>
                  <a:lnTo>
                    <a:pt x="66" y="131"/>
                  </a:lnTo>
                  <a:lnTo>
                    <a:pt x="69" y="123"/>
                  </a:lnTo>
                  <a:lnTo>
                    <a:pt x="74" y="114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7" y="95"/>
                  </a:lnTo>
                  <a:lnTo>
                    <a:pt x="104" y="88"/>
                  </a:lnTo>
                  <a:lnTo>
                    <a:pt x="109" y="78"/>
                  </a:lnTo>
                  <a:lnTo>
                    <a:pt x="116" y="70"/>
                  </a:lnTo>
                  <a:lnTo>
                    <a:pt x="118" y="60"/>
                  </a:lnTo>
                  <a:lnTo>
                    <a:pt x="128" y="53"/>
                  </a:lnTo>
                  <a:lnTo>
                    <a:pt x="131" y="44"/>
                  </a:lnTo>
                  <a:lnTo>
                    <a:pt x="137" y="37"/>
                  </a:lnTo>
                  <a:lnTo>
                    <a:pt x="144" y="30"/>
                  </a:lnTo>
                  <a:lnTo>
                    <a:pt x="153" y="22"/>
                  </a:lnTo>
                  <a:lnTo>
                    <a:pt x="159" y="15"/>
                  </a:lnTo>
                  <a:lnTo>
                    <a:pt x="168" y="10"/>
                  </a:lnTo>
                  <a:lnTo>
                    <a:pt x="175" y="6"/>
                  </a:lnTo>
                  <a:lnTo>
                    <a:pt x="187" y="6"/>
                  </a:lnTo>
                  <a:lnTo>
                    <a:pt x="193" y="0"/>
                  </a:lnTo>
                  <a:lnTo>
                    <a:pt x="202" y="7"/>
                  </a:lnTo>
                  <a:lnTo>
                    <a:pt x="215" y="15"/>
                  </a:lnTo>
                  <a:lnTo>
                    <a:pt x="207" y="14"/>
                  </a:lnTo>
                  <a:lnTo>
                    <a:pt x="205" y="22"/>
                  </a:lnTo>
                  <a:lnTo>
                    <a:pt x="205" y="31"/>
                  </a:lnTo>
                  <a:lnTo>
                    <a:pt x="215" y="34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40" y="33"/>
                  </a:lnTo>
                  <a:lnTo>
                    <a:pt x="243" y="40"/>
                  </a:lnTo>
                  <a:lnTo>
                    <a:pt x="236" y="45"/>
                  </a:lnTo>
                  <a:lnTo>
                    <a:pt x="228" y="49"/>
                  </a:lnTo>
                  <a:lnTo>
                    <a:pt x="220" y="55"/>
                  </a:lnTo>
                  <a:lnTo>
                    <a:pt x="213" y="62"/>
                  </a:lnTo>
                  <a:lnTo>
                    <a:pt x="222" y="64"/>
                  </a:lnTo>
                  <a:lnTo>
                    <a:pt x="226" y="71"/>
                  </a:lnTo>
                  <a:lnTo>
                    <a:pt x="229" y="78"/>
                  </a:lnTo>
                  <a:lnTo>
                    <a:pt x="232" y="84"/>
                  </a:lnTo>
                  <a:lnTo>
                    <a:pt x="232" y="94"/>
                  </a:lnTo>
                  <a:lnTo>
                    <a:pt x="230" y="103"/>
                  </a:lnTo>
                  <a:lnTo>
                    <a:pt x="239" y="163"/>
                  </a:lnTo>
                  <a:lnTo>
                    <a:pt x="190" y="125"/>
                  </a:lnTo>
                  <a:lnTo>
                    <a:pt x="236" y="116"/>
                  </a:lnTo>
                  <a:lnTo>
                    <a:pt x="246" y="110"/>
                  </a:lnTo>
                  <a:lnTo>
                    <a:pt x="251" y="105"/>
                  </a:lnTo>
                  <a:lnTo>
                    <a:pt x="259" y="94"/>
                  </a:lnTo>
                  <a:lnTo>
                    <a:pt x="270" y="93"/>
                  </a:lnTo>
                  <a:lnTo>
                    <a:pt x="277" y="90"/>
                  </a:lnTo>
                  <a:lnTo>
                    <a:pt x="288" y="86"/>
                  </a:lnTo>
                  <a:lnTo>
                    <a:pt x="295" y="83"/>
                  </a:lnTo>
                  <a:lnTo>
                    <a:pt x="303" y="74"/>
                  </a:lnTo>
                  <a:lnTo>
                    <a:pt x="313" y="75"/>
                  </a:lnTo>
                  <a:lnTo>
                    <a:pt x="320" y="80"/>
                  </a:lnTo>
                  <a:lnTo>
                    <a:pt x="329" y="76"/>
                  </a:lnTo>
                  <a:lnTo>
                    <a:pt x="338" y="74"/>
                  </a:lnTo>
                  <a:lnTo>
                    <a:pt x="345" y="78"/>
                  </a:lnTo>
                  <a:lnTo>
                    <a:pt x="351" y="86"/>
                  </a:lnTo>
                  <a:lnTo>
                    <a:pt x="357" y="92"/>
                  </a:lnTo>
                  <a:lnTo>
                    <a:pt x="365" y="90"/>
                  </a:lnTo>
                  <a:lnTo>
                    <a:pt x="379" y="94"/>
                  </a:lnTo>
                  <a:lnTo>
                    <a:pt x="385" y="99"/>
                  </a:lnTo>
                  <a:lnTo>
                    <a:pt x="394" y="102"/>
                  </a:lnTo>
                  <a:lnTo>
                    <a:pt x="403" y="107"/>
                  </a:lnTo>
                  <a:lnTo>
                    <a:pt x="405" y="115"/>
                  </a:lnTo>
                  <a:lnTo>
                    <a:pt x="413" y="121"/>
                  </a:lnTo>
                  <a:lnTo>
                    <a:pt x="423" y="125"/>
                  </a:lnTo>
                  <a:lnTo>
                    <a:pt x="431" y="128"/>
                  </a:lnTo>
                  <a:lnTo>
                    <a:pt x="440" y="132"/>
                  </a:lnTo>
                  <a:lnTo>
                    <a:pt x="455" y="137"/>
                  </a:lnTo>
                  <a:lnTo>
                    <a:pt x="468" y="141"/>
                  </a:lnTo>
                  <a:lnTo>
                    <a:pt x="473" y="148"/>
                  </a:lnTo>
                  <a:lnTo>
                    <a:pt x="480" y="154"/>
                  </a:lnTo>
                  <a:lnTo>
                    <a:pt x="485" y="161"/>
                  </a:lnTo>
                  <a:lnTo>
                    <a:pt x="488" y="172"/>
                  </a:lnTo>
                  <a:lnTo>
                    <a:pt x="492" y="178"/>
                  </a:lnTo>
                  <a:lnTo>
                    <a:pt x="493" y="187"/>
                  </a:lnTo>
                  <a:lnTo>
                    <a:pt x="494" y="195"/>
                  </a:lnTo>
                  <a:lnTo>
                    <a:pt x="496" y="201"/>
                  </a:lnTo>
                  <a:lnTo>
                    <a:pt x="491" y="213"/>
                  </a:lnTo>
                  <a:lnTo>
                    <a:pt x="480" y="217"/>
                  </a:lnTo>
                  <a:lnTo>
                    <a:pt x="474" y="222"/>
                  </a:lnTo>
                  <a:lnTo>
                    <a:pt x="466" y="228"/>
                  </a:lnTo>
                  <a:lnTo>
                    <a:pt x="458" y="234"/>
                  </a:lnTo>
                  <a:lnTo>
                    <a:pt x="448" y="238"/>
                  </a:lnTo>
                  <a:lnTo>
                    <a:pt x="439" y="240"/>
                  </a:lnTo>
                  <a:lnTo>
                    <a:pt x="430" y="244"/>
                  </a:lnTo>
                  <a:lnTo>
                    <a:pt x="422" y="248"/>
                  </a:lnTo>
                  <a:lnTo>
                    <a:pt x="414" y="240"/>
                  </a:lnTo>
                  <a:lnTo>
                    <a:pt x="405" y="242"/>
                  </a:lnTo>
                  <a:lnTo>
                    <a:pt x="395" y="241"/>
                  </a:lnTo>
                  <a:lnTo>
                    <a:pt x="387" y="244"/>
                  </a:lnTo>
                  <a:lnTo>
                    <a:pt x="380" y="248"/>
                  </a:lnTo>
                  <a:lnTo>
                    <a:pt x="372" y="250"/>
                  </a:lnTo>
                  <a:lnTo>
                    <a:pt x="363" y="252"/>
                  </a:lnTo>
                  <a:lnTo>
                    <a:pt x="357" y="256"/>
                  </a:lnTo>
                  <a:lnTo>
                    <a:pt x="350" y="247"/>
                  </a:lnTo>
                  <a:lnTo>
                    <a:pt x="349" y="240"/>
                  </a:lnTo>
                  <a:lnTo>
                    <a:pt x="340" y="243"/>
                  </a:lnTo>
                  <a:lnTo>
                    <a:pt x="333" y="246"/>
                  </a:lnTo>
                  <a:lnTo>
                    <a:pt x="324" y="248"/>
                  </a:lnTo>
                  <a:lnTo>
                    <a:pt x="315" y="247"/>
                  </a:lnTo>
                  <a:lnTo>
                    <a:pt x="315" y="240"/>
                  </a:lnTo>
                  <a:lnTo>
                    <a:pt x="313" y="233"/>
                  </a:lnTo>
                  <a:lnTo>
                    <a:pt x="310" y="225"/>
                  </a:lnTo>
                  <a:lnTo>
                    <a:pt x="297" y="227"/>
                  </a:lnTo>
                  <a:lnTo>
                    <a:pt x="288" y="227"/>
                  </a:lnTo>
                  <a:lnTo>
                    <a:pt x="281" y="221"/>
                  </a:lnTo>
                  <a:lnTo>
                    <a:pt x="277" y="215"/>
                  </a:lnTo>
                  <a:lnTo>
                    <a:pt x="267" y="213"/>
                  </a:lnTo>
                  <a:lnTo>
                    <a:pt x="226" y="177"/>
                  </a:lnTo>
                  <a:lnTo>
                    <a:pt x="245" y="217"/>
                  </a:lnTo>
                  <a:lnTo>
                    <a:pt x="236" y="217"/>
                  </a:lnTo>
                  <a:lnTo>
                    <a:pt x="227" y="213"/>
                  </a:lnTo>
                  <a:lnTo>
                    <a:pt x="219" y="211"/>
                  </a:lnTo>
                  <a:lnTo>
                    <a:pt x="209" y="209"/>
                  </a:lnTo>
                  <a:lnTo>
                    <a:pt x="200" y="210"/>
                  </a:lnTo>
                  <a:lnTo>
                    <a:pt x="191" y="215"/>
                  </a:lnTo>
                  <a:lnTo>
                    <a:pt x="184" y="218"/>
                  </a:lnTo>
                  <a:lnTo>
                    <a:pt x="176" y="219"/>
                  </a:lnTo>
                  <a:lnTo>
                    <a:pt x="166" y="223"/>
                  </a:lnTo>
                  <a:lnTo>
                    <a:pt x="158" y="230"/>
                  </a:lnTo>
                  <a:lnTo>
                    <a:pt x="150" y="234"/>
                  </a:lnTo>
                  <a:lnTo>
                    <a:pt x="139" y="242"/>
                  </a:lnTo>
                  <a:lnTo>
                    <a:pt x="133" y="247"/>
                  </a:lnTo>
                  <a:lnTo>
                    <a:pt x="122" y="248"/>
                  </a:lnTo>
                  <a:lnTo>
                    <a:pt x="111" y="253"/>
                  </a:lnTo>
                  <a:lnTo>
                    <a:pt x="102" y="252"/>
                  </a:lnTo>
                  <a:lnTo>
                    <a:pt x="91" y="247"/>
                  </a:lnTo>
                  <a:lnTo>
                    <a:pt x="82" y="245"/>
                  </a:lnTo>
                  <a:lnTo>
                    <a:pt x="74" y="244"/>
                  </a:lnTo>
                  <a:lnTo>
                    <a:pt x="63" y="244"/>
                  </a:lnTo>
                  <a:lnTo>
                    <a:pt x="49" y="244"/>
                  </a:lnTo>
                  <a:lnTo>
                    <a:pt x="43" y="238"/>
                  </a:lnTo>
                  <a:lnTo>
                    <a:pt x="36" y="232"/>
                  </a:lnTo>
                  <a:lnTo>
                    <a:pt x="36" y="221"/>
                  </a:lnTo>
                  <a:lnTo>
                    <a:pt x="32" y="217"/>
                  </a:lnTo>
                  <a:lnTo>
                    <a:pt x="26" y="209"/>
                  </a:lnTo>
                  <a:lnTo>
                    <a:pt x="22" y="204"/>
                  </a:lnTo>
                  <a:lnTo>
                    <a:pt x="18" y="197"/>
                  </a:lnTo>
                  <a:lnTo>
                    <a:pt x="0" y="193"/>
                  </a:lnTo>
                  <a:lnTo>
                    <a:pt x="14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762120" y="3087720"/>
            <a:ext cx="790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8280" y="380880"/>
            <a:ext cx="751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lative risk of mortality by cause of death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-analysis of US cohort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80880" y="1219320"/>
          <a:ext cx="8382240" cy="4444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219320"/>
                    <a:ext cx="83822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231480" y="19051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99480" y="182880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cities Study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99880" y="183996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S Study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1828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5345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* Per 18.6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µg/m3 PM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43360" y="5383080"/>
            <a:ext cx="24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** Per 24.5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µg/m3 PM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3124080"/>
            <a:ext cx="670536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08240" y="594360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ource: HEI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an1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77320" cy="43146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300320" y="380880"/>
            <a:ext cx="68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R for all cause mortality in ACS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-analysis of US cohort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8320" y="601992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ource: HEI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d8a"/>
            </a:gs>
            <a:gs pos="50000">
              <a:srgbClr val="0f219b"/>
            </a:gs>
            <a:gs pos="100000">
              <a:srgbClr val="0d1d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28600" y="557280"/>
            <a:ext cx="8120160" cy="6118200"/>
            <a:chOff x="228600" y="557280"/>
            <a:chExt cx="8120160" cy="6118200"/>
          </a:xfrm>
        </p:grpSpPr>
        <p:sp>
          <p:nvSpPr>
            <p:cNvPr id="328" name=""/>
            <p:cNvSpPr/>
            <p:nvPr/>
          </p:nvSpPr>
          <p:spPr>
            <a:xfrm>
              <a:off x="2662200" y="20638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2" y="77"/>
                  </a:moveTo>
                  <a:lnTo>
                    <a:pt x="2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2" y="125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5" y="174"/>
                  </a:lnTo>
                  <a:lnTo>
                    <a:pt x="31" y="182"/>
                  </a:lnTo>
                  <a:lnTo>
                    <a:pt x="40" y="182"/>
                  </a:lnTo>
                  <a:lnTo>
                    <a:pt x="48" y="182"/>
                  </a:lnTo>
                  <a:lnTo>
                    <a:pt x="60" y="191"/>
                  </a:lnTo>
                  <a:lnTo>
                    <a:pt x="71" y="196"/>
                  </a:lnTo>
                  <a:lnTo>
                    <a:pt x="71" y="205"/>
                  </a:lnTo>
                  <a:lnTo>
                    <a:pt x="74" y="214"/>
                  </a:lnTo>
                  <a:lnTo>
                    <a:pt x="83" y="214"/>
                  </a:lnTo>
                  <a:lnTo>
                    <a:pt x="91" y="214"/>
                  </a:lnTo>
                  <a:lnTo>
                    <a:pt x="100" y="214"/>
                  </a:lnTo>
                  <a:lnTo>
                    <a:pt x="109" y="214"/>
                  </a:lnTo>
                  <a:lnTo>
                    <a:pt x="117" y="214"/>
                  </a:lnTo>
                  <a:lnTo>
                    <a:pt x="126" y="214"/>
                  </a:lnTo>
                  <a:lnTo>
                    <a:pt x="137" y="208"/>
                  </a:lnTo>
                  <a:lnTo>
                    <a:pt x="149" y="202"/>
                  </a:lnTo>
                  <a:lnTo>
                    <a:pt x="149" y="194"/>
                  </a:lnTo>
                  <a:lnTo>
                    <a:pt x="146" y="185"/>
                  </a:lnTo>
                  <a:lnTo>
                    <a:pt x="146" y="176"/>
                  </a:lnTo>
                  <a:lnTo>
                    <a:pt x="155" y="168"/>
                  </a:lnTo>
                  <a:lnTo>
                    <a:pt x="158" y="159"/>
                  </a:lnTo>
                  <a:lnTo>
                    <a:pt x="158" y="151"/>
                  </a:lnTo>
                  <a:lnTo>
                    <a:pt x="155" y="142"/>
                  </a:lnTo>
                  <a:lnTo>
                    <a:pt x="155" y="134"/>
                  </a:lnTo>
                  <a:lnTo>
                    <a:pt x="146" y="134"/>
                  </a:lnTo>
                  <a:lnTo>
                    <a:pt x="137" y="134"/>
                  </a:lnTo>
                  <a:lnTo>
                    <a:pt x="135" y="125"/>
                  </a:lnTo>
                  <a:lnTo>
                    <a:pt x="129" y="116"/>
                  </a:lnTo>
                  <a:lnTo>
                    <a:pt x="120" y="114"/>
                  </a:lnTo>
                  <a:lnTo>
                    <a:pt x="114" y="105"/>
                  </a:lnTo>
                  <a:lnTo>
                    <a:pt x="114" y="97"/>
                  </a:lnTo>
                  <a:lnTo>
                    <a:pt x="106" y="94"/>
                  </a:lnTo>
                  <a:lnTo>
                    <a:pt x="97" y="94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89" y="71"/>
                  </a:lnTo>
                  <a:lnTo>
                    <a:pt x="80" y="68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83" y="45"/>
                  </a:lnTo>
                  <a:lnTo>
                    <a:pt x="94" y="45"/>
                  </a:lnTo>
                  <a:lnTo>
                    <a:pt x="103" y="39"/>
                  </a:lnTo>
                  <a:lnTo>
                    <a:pt x="106" y="31"/>
                  </a:lnTo>
                  <a:lnTo>
                    <a:pt x="103" y="22"/>
                  </a:lnTo>
                  <a:lnTo>
                    <a:pt x="94" y="22"/>
                  </a:lnTo>
                  <a:lnTo>
                    <a:pt x="86" y="14"/>
                  </a:lnTo>
                  <a:lnTo>
                    <a:pt x="77" y="11"/>
                  </a:lnTo>
                  <a:lnTo>
                    <a:pt x="68" y="11"/>
                  </a:lnTo>
                  <a:lnTo>
                    <a:pt x="54" y="0"/>
                  </a:lnTo>
                  <a:lnTo>
                    <a:pt x="51" y="8"/>
                  </a:lnTo>
                  <a:lnTo>
                    <a:pt x="60" y="14"/>
                  </a:lnTo>
                  <a:lnTo>
                    <a:pt x="63" y="22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7" y="45"/>
                  </a:lnTo>
                  <a:lnTo>
                    <a:pt x="45" y="45"/>
                  </a:lnTo>
                  <a:lnTo>
                    <a:pt x="40" y="37"/>
                  </a:lnTo>
                  <a:lnTo>
                    <a:pt x="34" y="28"/>
                  </a:lnTo>
                  <a:lnTo>
                    <a:pt x="31" y="37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5" y="62"/>
                  </a:lnTo>
                  <a:lnTo>
                    <a:pt x="17" y="68"/>
                  </a:lnTo>
                  <a:lnTo>
                    <a:pt x="2" y="77"/>
                  </a:lnTo>
                  <a:lnTo>
                    <a:pt x="2" y="7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85760" y="557280"/>
              <a:ext cx="6975720" cy="5226120"/>
            </a:xfrm>
            <a:custGeom>
              <a:avLst/>
              <a:gdLst/>
              <a:ahLst/>
              <a:rect l="l" t="t" r="r" b="b"/>
              <a:pathLst>
                <a:path w="4394" h="3292">
                  <a:moveTo>
                    <a:pt x="4183" y="665"/>
                  </a:moveTo>
                  <a:lnTo>
                    <a:pt x="4174" y="685"/>
                  </a:lnTo>
                  <a:lnTo>
                    <a:pt x="4165" y="680"/>
                  </a:lnTo>
                  <a:lnTo>
                    <a:pt x="4154" y="671"/>
                  </a:lnTo>
                  <a:lnTo>
                    <a:pt x="4145" y="665"/>
                  </a:lnTo>
                  <a:lnTo>
                    <a:pt x="4136" y="657"/>
                  </a:lnTo>
                  <a:lnTo>
                    <a:pt x="4128" y="648"/>
                  </a:lnTo>
                  <a:lnTo>
                    <a:pt x="4122" y="639"/>
                  </a:lnTo>
                  <a:lnTo>
                    <a:pt x="4110" y="631"/>
                  </a:lnTo>
                  <a:lnTo>
                    <a:pt x="4104" y="622"/>
                  </a:lnTo>
                  <a:lnTo>
                    <a:pt x="4098" y="613"/>
                  </a:lnTo>
                  <a:lnTo>
                    <a:pt x="4093" y="605"/>
                  </a:lnTo>
                  <a:lnTo>
                    <a:pt x="4084" y="596"/>
                  </a:lnTo>
                  <a:lnTo>
                    <a:pt x="4075" y="593"/>
                  </a:lnTo>
                  <a:lnTo>
                    <a:pt x="4066" y="590"/>
                  </a:lnTo>
                  <a:lnTo>
                    <a:pt x="4058" y="587"/>
                  </a:lnTo>
                  <a:lnTo>
                    <a:pt x="4049" y="585"/>
                  </a:lnTo>
                  <a:lnTo>
                    <a:pt x="4037" y="585"/>
                  </a:lnTo>
                  <a:lnTo>
                    <a:pt x="4029" y="582"/>
                  </a:lnTo>
                  <a:lnTo>
                    <a:pt x="4023" y="573"/>
                  </a:lnTo>
                  <a:lnTo>
                    <a:pt x="4020" y="564"/>
                  </a:lnTo>
                  <a:lnTo>
                    <a:pt x="4011" y="556"/>
                  </a:lnTo>
                  <a:lnTo>
                    <a:pt x="4002" y="550"/>
                  </a:lnTo>
                  <a:lnTo>
                    <a:pt x="4002" y="541"/>
                  </a:lnTo>
                  <a:lnTo>
                    <a:pt x="3994" y="538"/>
                  </a:lnTo>
                  <a:lnTo>
                    <a:pt x="3982" y="538"/>
                  </a:lnTo>
                  <a:lnTo>
                    <a:pt x="3973" y="538"/>
                  </a:lnTo>
                  <a:lnTo>
                    <a:pt x="3965" y="538"/>
                  </a:lnTo>
                  <a:lnTo>
                    <a:pt x="3953" y="538"/>
                  </a:lnTo>
                  <a:lnTo>
                    <a:pt x="3947" y="530"/>
                  </a:lnTo>
                  <a:lnTo>
                    <a:pt x="3947" y="521"/>
                  </a:lnTo>
                  <a:lnTo>
                    <a:pt x="3938" y="512"/>
                  </a:lnTo>
                  <a:lnTo>
                    <a:pt x="3930" y="504"/>
                  </a:lnTo>
                  <a:lnTo>
                    <a:pt x="3930" y="495"/>
                  </a:lnTo>
                  <a:lnTo>
                    <a:pt x="3927" y="484"/>
                  </a:lnTo>
                  <a:lnTo>
                    <a:pt x="3918" y="481"/>
                  </a:lnTo>
                  <a:lnTo>
                    <a:pt x="3909" y="481"/>
                  </a:lnTo>
                  <a:lnTo>
                    <a:pt x="3901" y="481"/>
                  </a:lnTo>
                  <a:lnTo>
                    <a:pt x="3892" y="481"/>
                  </a:lnTo>
                  <a:lnTo>
                    <a:pt x="3883" y="481"/>
                  </a:lnTo>
                  <a:lnTo>
                    <a:pt x="3871" y="481"/>
                  </a:lnTo>
                  <a:lnTo>
                    <a:pt x="3863" y="481"/>
                  </a:lnTo>
                  <a:lnTo>
                    <a:pt x="3851" y="478"/>
                  </a:lnTo>
                  <a:lnTo>
                    <a:pt x="3842" y="472"/>
                  </a:lnTo>
                  <a:lnTo>
                    <a:pt x="3842" y="463"/>
                  </a:lnTo>
                  <a:lnTo>
                    <a:pt x="3842" y="455"/>
                  </a:lnTo>
                  <a:lnTo>
                    <a:pt x="3834" y="446"/>
                  </a:lnTo>
                  <a:lnTo>
                    <a:pt x="3825" y="446"/>
                  </a:lnTo>
                  <a:lnTo>
                    <a:pt x="3819" y="455"/>
                  </a:lnTo>
                  <a:lnTo>
                    <a:pt x="3810" y="458"/>
                  </a:lnTo>
                  <a:lnTo>
                    <a:pt x="3802" y="461"/>
                  </a:lnTo>
                  <a:lnTo>
                    <a:pt x="3793" y="461"/>
                  </a:lnTo>
                  <a:lnTo>
                    <a:pt x="3784" y="461"/>
                  </a:lnTo>
                  <a:lnTo>
                    <a:pt x="3775" y="461"/>
                  </a:lnTo>
                  <a:lnTo>
                    <a:pt x="3764" y="455"/>
                  </a:lnTo>
                  <a:lnTo>
                    <a:pt x="3755" y="452"/>
                  </a:lnTo>
                  <a:lnTo>
                    <a:pt x="3752" y="461"/>
                  </a:lnTo>
                  <a:lnTo>
                    <a:pt x="3755" y="469"/>
                  </a:lnTo>
                  <a:lnTo>
                    <a:pt x="3764" y="472"/>
                  </a:lnTo>
                  <a:lnTo>
                    <a:pt x="3755" y="475"/>
                  </a:lnTo>
                  <a:lnTo>
                    <a:pt x="3746" y="475"/>
                  </a:lnTo>
                  <a:lnTo>
                    <a:pt x="3737" y="478"/>
                  </a:lnTo>
                  <a:lnTo>
                    <a:pt x="3729" y="478"/>
                  </a:lnTo>
                  <a:lnTo>
                    <a:pt x="3720" y="478"/>
                  </a:lnTo>
                  <a:lnTo>
                    <a:pt x="3711" y="472"/>
                  </a:lnTo>
                  <a:lnTo>
                    <a:pt x="3703" y="463"/>
                  </a:lnTo>
                  <a:lnTo>
                    <a:pt x="3694" y="455"/>
                  </a:lnTo>
                  <a:lnTo>
                    <a:pt x="3685" y="452"/>
                  </a:lnTo>
                  <a:lnTo>
                    <a:pt x="3676" y="452"/>
                  </a:lnTo>
                  <a:lnTo>
                    <a:pt x="3668" y="449"/>
                  </a:lnTo>
                  <a:lnTo>
                    <a:pt x="3656" y="449"/>
                  </a:lnTo>
                  <a:lnTo>
                    <a:pt x="3647" y="449"/>
                  </a:lnTo>
                  <a:lnTo>
                    <a:pt x="3638" y="449"/>
                  </a:lnTo>
                  <a:lnTo>
                    <a:pt x="3636" y="440"/>
                  </a:lnTo>
                  <a:lnTo>
                    <a:pt x="3636" y="432"/>
                  </a:lnTo>
                  <a:lnTo>
                    <a:pt x="3630" y="423"/>
                  </a:lnTo>
                  <a:lnTo>
                    <a:pt x="3638" y="423"/>
                  </a:lnTo>
                  <a:lnTo>
                    <a:pt x="3636" y="414"/>
                  </a:lnTo>
                  <a:lnTo>
                    <a:pt x="3627" y="412"/>
                  </a:lnTo>
                  <a:lnTo>
                    <a:pt x="3618" y="409"/>
                  </a:lnTo>
                  <a:lnTo>
                    <a:pt x="3615" y="400"/>
                  </a:lnTo>
                  <a:lnTo>
                    <a:pt x="3609" y="391"/>
                  </a:lnTo>
                  <a:lnTo>
                    <a:pt x="3618" y="391"/>
                  </a:lnTo>
                  <a:lnTo>
                    <a:pt x="3627" y="391"/>
                  </a:lnTo>
                  <a:lnTo>
                    <a:pt x="3633" y="383"/>
                  </a:lnTo>
                  <a:lnTo>
                    <a:pt x="3624" y="377"/>
                  </a:lnTo>
                  <a:lnTo>
                    <a:pt x="3615" y="374"/>
                  </a:lnTo>
                  <a:lnTo>
                    <a:pt x="3606" y="363"/>
                  </a:lnTo>
                  <a:lnTo>
                    <a:pt x="3604" y="354"/>
                  </a:lnTo>
                  <a:lnTo>
                    <a:pt x="3598" y="345"/>
                  </a:lnTo>
                  <a:lnTo>
                    <a:pt x="3592" y="337"/>
                  </a:lnTo>
                  <a:lnTo>
                    <a:pt x="3583" y="322"/>
                  </a:lnTo>
                  <a:lnTo>
                    <a:pt x="3577" y="314"/>
                  </a:lnTo>
                  <a:lnTo>
                    <a:pt x="3586" y="305"/>
                  </a:lnTo>
                  <a:lnTo>
                    <a:pt x="3592" y="296"/>
                  </a:lnTo>
                  <a:lnTo>
                    <a:pt x="3595" y="288"/>
                  </a:lnTo>
                  <a:lnTo>
                    <a:pt x="3595" y="279"/>
                  </a:lnTo>
                  <a:lnTo>
                    <a:pt x="3586" y="276"/>
                  </a:lnTo>
                  <a:lnTo>
                    <a:pt x="3577" y="276"/>
                  </a:lnTo>
                  <a:lnTo>
                    <a:pt x="3569" y="276"/>
                  </a:lnTo>
                  <a:lnTo>
                    <a:pt x="3557" y="270"/>
                  </a:lnTo>
                  <a:lnTo>
                    <a:pt x="3548" y="259"/>
                  </a:lnTo>
                  <a:lnTo>
                    <a:pt x="3540" y="253"/>
                  </a:lnTo>
                  <a:lnTo>
                    <a:pt x="3531" y="250"/>
                  </a:lnTo>
                  <a:lnTo>
                    <a:pt x="3522" y="244"/>
                  </a:lnTo>
                  <a:lnTo>
                    <a:pt x="3510" y="236"/>
                  </a:lnTo>
                  <a:lnTo>
                    <a:pt x="3502" y="233"/>
                  </a:lnTo>
                  <a:lnTo>
                    <a:pt x="3493" y="227"/>
                  </a:lnTo>
                  <a:lnTo>
                    <a:pt x="3484" y="224"/>
                  </a:lnTo>
                  <a:lnTo>
                    <a:pt x="3475" y="219"/>
                  </a:lnTo>
                  <a:lnTo>
                    <a:pt x="3467" y="213"/>
                  </a:lnTo>
                  <a:lnTo>
                    <a:pt x="3458" y="207"/>
                  </a:lnTo>
                  <a:lnTo>
                    <a:pt x="3449" y="198"/>
                  </a:lnTo>
                  <a:lnTo>
                    <a:pt x="3441" y="193"/>
                  </a:lnTo>
                  <a:lnTo>
                    <a:pt x="3432" y="187"/>
                  </a:lnTo>
                  <a:lnTo>
                    <a:pt x="3423" y="184"/>
                  </a:lnTo>
                  <a:lnTo>
                    <a:pt x="3414" y="178"/>
                  </a:lnTo>
                  <a:lnTo>
                    <a:pt x="3406" y="172"/>
                  </a:lnTo>
                  <a:lnTo>
                    <a:pt x="3400" y="164"/>
                  </a:lnTo>
                  <a:lnTo>
                    <a:pt x="3397" y="155"/>
                  </a:lnTo>
                  <a:lnTo>
                    <a:pt x="3394" y="146"/>
                  </a:lnTo>
                  <a:lnTo>
                    <a:pt x="3388" y="138"/>
                  </a:lnTo>
                  <a:lnTo>
                    <a:pt x="3382" y="129"/>
                  </a:lnTo>
                  <a:lnTo>
                    <a:pt x="3388" y="121"/>
                  </a:lnTo>
                  <a:lnTo>
                    <a:pt x="3379" y="121"/>
                  </a:lnTo>
                  <a:lnTo>
                    <a:pt x="3371" y="121"/>
                  </a:lnTo>
                  <a:lnTo>
                    <a:pt x="3362" y="121"/>
                  </a:lnTo>
                  <a:lnTo>
                    <a:pt x="3359" y="129"/>
                  </a:lnTo>
                  <a:lnTo>
                    <a:pt x="3353" y="138"/>
                  </a:lnTo>
                  <a:lnTo>
                    <a:pt x="3347" y="146"/>
                  </a:lnTo>
                  <a:lnTo>
                    <a:pt x="3339" y="152"/>
                  </a:lnTo>
                  <a:lnTo>
                    <a:pt x="3327" y="158"/>
                  </a:lnTo>
                  <a:lnTo>
                    <a:pt x="3318" y="158"/>
                  </a:lnTo>
                  <a:lnTo>
                    <a:pt x="3310" y="167"/>
                  </a:lnTo>
                  <a:lnTo>
                    <a:pt x="3307" y="175"/>
                  </a:lnTo>
                  <a:lnTo>
                    <a:pt x="3307" y="184"/>
                  </a:lnTo>
                  <a:lnTo>
                    <a:pt x="3304" y="193"/>
                  </a:lnTo>
                  <a:lnTo>
                    <a:pt x="3295" y="195"/>
                  </a:lnTo>
                  <a:lnTo>
                    <a:pt x="3295" y="204"/>
                  </a:lnTo>
                  <a:lnTo>
                    <a:pt x="3298" y="213"/>
                  </a:lnTo>
                  <a:lnTo>
                    <a:pt x="3304" y="221"/>
                  </a:lnTo>
                  <a:lnTo>
                    <a:pt x="3310" y="230"/>
                  </a:lnTo>
                  <a:lnTo>
                    <a:pt x="3315" y="239"/>
                  </a:lnTo>
                  <a:lnTo>
                    <a:pt x="3318" y="250"/>
                  </a:lnTo>
                  <a:lnTo>
                    <a:pt x="3321" y="259"/>
                  </a:lnTo>
                  <a:lnTo>
                    <a:pt x="3321" y="247"/>
                  </a:lnTo>
                  <a:lnTo>
                    <a:pt x="3318" y="239"/>
                  </a:lnTo>
                  <a:lnTo>
                    <a:pt x="3315" y="230"/>
                  </a:lnTo>
                  <a:lnTo>
                    <a:pt x="3307" y="224"/>
                  </a:lnTo>
                  <a:lnTo>
                    <a:pt x="3298" y="216"/>
                  </a:lnTo>
                  <a:lnTo>
                    <a:pt x="3292" y="207"/>
                  </a:lnTo>
                  <a:lnTo>
                    <a:pt x="3292" y="198"/>
                  </a:lnTo>
                  <a:lnTo>
                    <a:pt x="3295" y="190"/>
                  </a:lnTo>
                  <a:lnTo>
                    <a:pt x="3292" y="181"/>
                  </a:lnTo>
                  <a:lnTo>
                    <a:pt x="3283" y="172"/>
                  </a:lnTo>
                  <a:lnTo>
                    <a:pt x="3275" y="170"/>
                  </a:lnTo>
                  <a:lnTo>
                    <a:pt x="3266" y="164"/>
                  </a:lnTo>
                  <a:lnTo>
                    <a:pt x="3257" y="161"/>
                  </a:lnTo>
                  <a:lnTo>
                    <a:pt x="3245" y="155"/>
                  </a:lnTo>
                  <a:lnTo>
                    <a:pt x="3237" y="155"/>
                  </a:lnTo>
                  <a:lnTo>
                    <a:pt x="3228" y="155"/>
                  </a:lnTo>
                  <a:lnTo>
                    <a:pt x="3219" y="155"/>
                  </a:lnTo>
                  <a:lnTo>
                    <a:pt x="3213" y="164"/>
                  </a:lnTo>
                  <a:lnTo>
                    <a:pt x="3208" y="172"/>
                  </a:lnTo>
                  <a:lnTo>
                    <a:pt x="3196" y="175"/>
                  </a:lnTo>
                  <a:lnTo>
                    <a:pt x="3184" y="175"/>
                  </a:lnTo>
                  <a:lnTo>
                    <a:pt x="3173" y="175"/>
                  </a:lnTo>
                  <a:lnTo>
                    <a:pt x="3167" y="167"/>
                  </a:lnTo>
                  <a:lnTo>
                    <a:pt x="3179" y="161"/>
                  </a:lnTo>
                  <a:lnTo>
                    <a:pt x="3187" y="161"/>
                  </a:lnTo>
                  <a:lnTo>
                    <a:pt x="3196" y="161"/>
                  </a:lnTo>
                  <a:lnTo>
                    <a:pt x="3205" y="155"/>
                  </a:lnTo>
                  <a:lnTo>
                    <a:pt x="3208" y="146"/>
                  </a:lnTo>
                  <a:lnTo>
                    <a:pt x="3208" y="138"/>
                  </a:lnTo>
                  <a:lnTo>
                    <a:pt x="3205" y="129"/>
                  </a:lnTo>
                  <a:lnTo>
                    <a:pt x="3199" y="121"/>
                  </a:lnTo>
                  <a:lnTo>
                    <a:pt x="3190" y="112"/>
                  </a:lnTo>
                  <a:lnTo>
                    <a:pt x="3184" y="103"/>
                  </a:lnTo>
                  <a:lnTo>
                    <a:pt x="3193" y="97"/>
                  </a:lnTo>
                  <a:lnTo>
                    <a:pt x="3202" y="92"/>
                  </a:lnTo>
                  <a:lnTo>
                    <a:pt x="3205" y="83"/>
                  </a:lnTo>
                  <a:lnTo>
                    <a:pt x="3208" y="74"/>
                  </a:lnTo>
                  <a:lnTo>
                    <a:pt x="3208" y="66"/>
                  </a:lnTo>
                  <a:lnTo>
                    <a:pt x="3202" y="57"/>
                  </a:lnTo>
                  <a:lnTo>
                    <a:pt x="3199" y="48"/>
                  </a:lnTo>
                  <a:lnTo>
                    <a:pt x="3199" y="40"/>
                  </a:lnTo>
                  <a:lnTo>
                    <a:pt x="3199" y="31"/>
                  </a:lnTo>
                  <a:lnTo>
                    <a:pt x="3196" y="23"/>
                  </a:lnTo>
                  <a:lnTo>
                    <a:pt x="3190" y="14"/>
                  </a:lnTo>
                  <a:lnTo>
                    <a:pt x="3184" y="5"/>
                  </a:lnTo>
                  <a:lnTo>
                    <a:pt x="3176" y="0"/>
                  </a:lnTo>
                  <a:lnTo>
                    <a:pt x="3167" y="2"/>
                  </a:lnTo>
                  <a:lnTo>
                    <a:pt x="3158" y="8"/>
                  </a:lnTo>
                  <a:lnTo>
                    <a:pt x="3149" y="14"/>
                  </a:lnTo>
                  <a:lnTo>
                    <a:pt x="3141" y="17"/>
                  </a:lnTo>
                  <a:lnTo>
                    <a:pt x="3132" y="23"/>
                  </a:lnTo>
                  <a:lnTo>
                    <a:pt x="3132" y="31"/>
                  </a:lnTo>
                  <a:lnTo>
                    <a:pt x="3123" y="25"/>
                  </a:lnTo>
                  <a:lnTo>
                    <a:pt x="3114" y="17"/>
                  </a:lnTo>
                  <a:lnTo>
                    <a:pt x="3106" y="14"/>
                  </a:lnTo>
                  <a:lnTo>
                    <a:pt x="3097" y="14"/>
                  </a:lnTo>
                  <a:lnTo>
                    <a:pt x="3088" y="14"/>
                  </a:lnTo>
                  <a:lnTo>
                    <a:pt x="3080" y="14"/>
                  </a:lnTo>
                  <a:lnTo>
                    <a:pt x="3071" y="14"/>
                  </a:lnTo>
                  <a:lnTo>
                    <a:pt x="3071" y="23"/>
                  </a:lnTo>
                  <a:lnTo>
                    <a:pt x="3071" y="31"/>
                  </a:lnTo>
                  <a:lnTo>
                    <a:pt x="3071" y="40"/>
                  </a:lnTo>
                  <a:lnTo>
                    <a:pt x="3068" y="48"/>
                  </a:lnTo>
                  <a:lnTo>
                    <a:pt x="3062" y="57"/>
                  </a:lnTo>
                  <a:lnTo>
                    <a:pt x="3059" y="66"/>
                  </a:lnTo>
                  <a:lnTo>
                    <a:pt x="3059" y="74"/>
                  </a:lnTo>
                  <a:lnTo>
                    <a:pt x="3059" y="83"/>
                  </a:lnTo>
                  <a:lnTo>
                    <a:pt x="3068" y="89"/>
                  </a:lnTo>
                  <a:lnTo>
                    <a:pt x="3077" y="92"/>
                  </a:lnTo>
                  <a:lnTo>
                    <a:pt x="3085" y="97"/>
                  </a:lnTo>
                  <a:lnTo>
                    <a:pt x="3097" y="103"/>
                  </a:lnTo>
                  <a:lnTo>
                    <a:pt x="3106" y="103"/>
                  </a:lnTo>
                  <a:lnTo>
                    <a:pt x="3114" y="103"/>
                  </a:lnTo>
                  <a:lnTo>
                    <a:pt x="3114" y="95"/>
                  </a:lnTo>
                  <a:lnTo>
                    <a:pt x="3123" y="95"/>
                  </a:lnTo>
                  <a:lnTo>
                    <a:pt x="3114" y="103"/>
                  </a:lnTo>
                  <a:lnTo>
                    <a:pt x="3106" y="103"/>
                  </a:lnTo>
                  <a:lnTo>
                    <a:pt x="3097" y="103"/>
                  </a:lnTo>
                  <a:lnTo>
                    <a:pt x="3088" y="109"/>
                  </a:lnTo>
                  <a:lnTo>
                    <a:pt x="3085" y="118"/>
                  </a:lnTo>
                  <a:lnTo>
                    <a:pt x="3085" y="126"/>
                  </a:lnTo>
                  <a:lnTo>
                    <a:pt x="3080" y="135"/>
                  </a:lnTo>
                  <a:lnTo>
                    <a:pt x="3088" y="138"/>
                  </a:lnTo>
                  <a:lnTo>
                    <a:pt x="3082" y="146"/>
                  </a:lnTo>
                  <a:lnTo>
                    <a:pt x="3080" y="155"/>
                  </a:lnTo>
                  <a:lnTo>
                    <a:pt x="3074" y="164"/>
                  </a:lnTo>
                  <a:lnTo>
                    <a:pt x="3074" y="172"/>
                  </a:lnTo>
                  <a:lnTo>
                    <a:pt x="3074" y="181"/>
                  </a:lnTo>
                  <a:lnTo>
                    <a:pt x="3074" y="190"/>
                  </a:lnTo>
                  <a:lnTo>
                    <a:pt x="3085" y="190"/>
                  </a:lnTo>
                  <a:lnTo>
                    <a:pt x="3094" y="190"/>
                  </a:lnTo>
                  <a:lnTo>
                    <a:pt x="3088" y="198"/>
                  </a:lnTo>
                  <a:lnTo>
                    <a:pt x="3080" y="204"/>
                  </a:lnTo>
                  <a:lnTo>
                    <a:pt x="3074" y="213"/>
                  </a:lnTo>
                  <a:lnTo>
                    <a:pt x="3071" y="221"/>
                  </a:lnTo>
                  <a:lnTo>
                    <a:pt x="3071" y="230"/>
                  </a:lnTo>
                  <a:lnTo>
                    <a:pt x="3071" y="239"/>
                  </a:lnTo>
                  <a:lnTo>
                    <a:pt x="3068" y="247"/>
                  </a:lnTo>
                  <a:lnTo>
                    <a:pt x="3062" y="256"/>
                  </a:lnTo>
                  <a:lnTo>
                    <a:pt x="3059" y="265"/>
                  </a:lnTo>
                  <a:lnTo>
                    <a:pt x="3059" y="273"/>
                  </a:lnTo>
                  <a:lnTo>
                    <a:pt x="3059" y="282"/>
                  </a:lnTo>
                  <a:lnTo>
                    <a:pt x="3059" y="291"/>
                  </a:lnTo>
                  <a:lnTo>
                    <a:pt x="3059" y="299"/>
                  </a:lnTo>
                  <a:lnTo>
                    <a:pt x="3059" y="311"/>
                  </a:lnTo>
                  <a:lnTo>
                    <a:pt x="3065" y="319"/>
                  </a:lnTo>
                  <a:lnTo>
                    <a:pt x="3074" y="325"/>
                  </a:lnTo>
                  <a:lnTo>
                    <a:pt x="3082" y="328"/>
                  </a:lnTo>
                  <a:lnTo>
                    <a:pt x="3082" y="337"/>
                  </a:lnTo>
                  <a:lnTo>
                    <a:pt x="3082" y="345"/>
                  </a:lnTo>
                  <a:lnTo>
                    <a:pt x="3085" y="354"/>
                  </a:lnTo>
                  <a:lnTo>
                    <a:pt x="3085" y="363"/>
                  </a:lnTo>
                  <a:lnTo>
                    <a:pt x="3088" y="371"/>
                  </a:lnTo>
                  <a:lnTo>
                    <a:pt x="3088" y="380"/>
                  </a:lnTo>
                  <a:lnTo>
                    <a:pt x="3091" y="389"/>
                  </a:lnTo>
                  <a:lnTo>
                    <a:pt x="3094" y="397"/>
                  </a:lnTo>
                  <a:lnTo>
                    <a:pt x="3097" y="406"/>
                  </a:lnTo>
                  <a:lnTo>
                    <a:pt x="3109" y="412"/>
                  </a:lnTo>
                  <a:lnTo>
                    <a:pt x="3117" y="412"/>
                  </a:lnTo>
                  <a:lnTo>
                    <a:pt x="3126" y="412"/>
                  </a:lnTo>
                  <a:lnTo>
                    <a:pt x="3135" y="412"/>
                  </a:lnTo>
                  <a:lnTo>
                    <a:pt x="3135" y="403"/>
                  </a:lnTo>
                  <a:lnTo>
                    <a:pt x="3138" y="394"/>
                  </a:lnTo>
                  <a:lnTo>
                    <a:pt x="3147" y="391"/>
                  </a:lnTo>
                  <a:lnTo>
                    <a:pt x="3155" y="391"/>
                  </a:lnTo>
                  <a:lnTo>
                    <a:pt x="3164" y="394"/>
                  </a:lnTo>
                  <a:lnTo>
                    <a:pt x="3167" y="403"/>
                  </a:lnTo>
                  <a:lnTo>
                    <a:pt x="3167" y="412"/>
                  </a:lnTo>
                  <a:lnTo>
                    <a:pt x="3164" y="420"/>
                  </a:lnTo>
                  <a:lnTo>
                    <a:pt x="3155" y="423"/>
                  </a:lnTo>
                  <a:lnTo>
                    <a:pt x="3152" y="432"/>
                  </a:lnTo>
                  <a:lnTo>
                    <a:pt x="3144" y="438"/>
                  </a:lnTo>
                  <a:lnTo>
                    <a:pt x="3138" y="429"/>
                  </a:lnTo>
                  <a:lnTo>
                    <a:pt x="3129" y="420"/>
                  </a:lnTo>
                  <a:lnTo>
                    <a:pt x="3120" y="420"/>
                  </a:lnTo>
                  <a:lnTo>
                    <a:pt x="3114" y="429"/>
                  </a:lnTo>
                  <a:lnTo>
                    <a:pt x="3114" y="438"/>
                  </a:lnTo>
                  <a:lnTo>
                    <a:pt x="3114" y="446"/>
                  </a:lnTo>
                  <a:lnTo>
                    <a:pt x="3123" y="452"/>
                  </a:lnTo>
                  <a:lnTo>
                    <a:pt x="3132" y="452"/>
                  </a:lnTo>
                  <a:lnTo>
                    <a:pt x="3141" y="452"/>
                  </a:lnTo>
                  <a:lnTo>
                    <a:pt x="3135" y="461"/>
                  </a:lnTo>
                  <a:lnTo>
                    <a:pt x="3138" y="469"/>
                  </a:lnTo>
                  <a:lnTo>
                    <a:pt x="3147" y="472"/>
                  </a:lnTo>
                  <a:lnTo>
                    <a:pt x="3147" y="463"/>
                  </a:lnTo>
                  <a:lnTo>
                    <a:pt x="3144" y="455"/>
                  </a:lnTo>
                  <a:lnTo>
                    <a:pt x="3144" y="466"/>
                  </a:lnTo>
                  <a:lnTo>
                    <a:pt x="3144" y="475"/>
                  </a:lnTo>
                  <a:lnTo>
                    <a:pt x="3144" y="484"/>
                  </a:lnTo>
                  <a:lnTo>
                    <a:pt x="3144" y="492"/>
                  </a:lnTo>
                  <a:lnTo>
                    <a:pt x="3144" y="501"/>
                  </a:lnTo>
                  <a:lnTo>
                    <a:pt x="3144" y="510"/>
                  </a:lnTo>
                  <a:lnTo>
                    <a:pt x="3152" y="518"/>
                  </a:lnTo>
                  <a:lnTo>
                    <a:pt x="3161" y="527"/>
                  </a:lnTo>
                  <a:lnTo>
                    <a:pt x="3167" y="538"/>
                  </a:lnTo>
                  <a:lnTo>
                    <a:pt x="3176" y="544"/>
                  </a:lnTo>
                  <a:lnTo>
                    <a:pt x="3184" y="550"/>
                  </a:lnTo>
                  <a:lnTo>
                    <a:pt x="3196" y="550"/>
                  </a:lnTo>
                  <a:lnTo>
                    <a:pt x="3205" y="550"/>
                  </a:lnTo>
                  <a:lnTo>
                    <a:pt x="3213" y="550"/>
                  </a:lnTo>
                  <a:lnTo>
                    <a:pt x="3205" y="550"/>
                  </a:lnTo>
                  <a:lnTo>
                    <a:pt x="3193" y="550"/>
                  </a:lnTo>
                  <a:lnTo>
                    <a:pt x="3184" y="553"/>
                  </a:lnTo>
                  <a:lnTo>
                    <a:pt x="3179" y="561"/>
                  </a:lnTo>
                  <a:lnTo>
                    <a:pt x="3176" y="570"/>
                  </a:lnTo>
                  <a:lnTo>
                    <a:pt x="3173" y="579"/>
                  </a:lnTo>
                  <a:lnTo>
                    <a:pt x="3164" y="582"/>
                  </a:lnTo>
                  <a:lnTo>
                    <a:pt x="3155" y="582"/>
                  </a:lnTo>
                  <a:lnTo>
                    <a:pt x="3147" y="582"/>
                  </a:lnTo>
                  <a:lnTo>
                    <a:pt x="3132" y="576"/>
                  </a:lnTo>
                  <a:lnTo>
                    <a:pt x="3120" y="576"/>
                  </a:lnTo>
                  <a:lnTo>
                    <a:pt x="3109" y="576"/>
                  </a:lnTo>
                  <a:lnTo>
                    <a:pt x="3103" y="585"/>
                  </a:lnTo>
                  <a:lnTo>
                    <a:pt x="3100" y="593"/>
                  </a:lnTo>
                  <a:lnTo>
                    <a:pt x="3100" y="602"/>
                  </a:lnTo>
                  <a:lnTo>
                    <a:pt x="3100" y="610"/>
                  </a:lnTo>
                  <a:lnTo>
                    <a:pt x="3100" y="619"/>
                  </a:lnTo>
                  <a:lnTo>
                    <a:pt x="3100" y="628"/>
                  </a:lnTo>
                  <a:lnTo>
                    <a:pt x="3103" y="636"/>
                  </a:lnTo>
                  <a:lnTo>
                    <a:pt x="3106" y="645"/>
                  </a:lnTo>
                  <a:lnTo>
                    <a:pt x="3112" y="654"/>
                  </a:lnTo>
                  <a:lnTo>
                    <a:pt x="3117" y="662"/>
                  </a:lnTo>
                  <a:lnTo>
                    <a:pt x="3120" y="671"/>
                  </a:lnTo>
                  <a:lnTo>
                    <a:pt x="3123" y="680"/>
                  </a:lnTo>
                  <a:lnTo>
                    <a:pt x="3123" y="688"/>
                  </a:lnTo>
                  <a:lnTo>
                    <a:pt x="3123" y="697"/>
                  </a:lnTo>
                  <a:lnTo>
                    <a:pt x="3123" y="706"/>
                  </a:lnTo>
                  <a:lnTo>
                    <a:pt x="3114" y="711"/>
                  </a:lnTo>
                  <a:lnTo>
                    <a:pt x="3106" y="720"/>
                  </a:lnTo>
                  <a:lnTo>
                    <a:pt x="3103" y="729"/>
                  </a:lnTo>
                  <a:lnTo>
                    <a:pt x="3103" y="737"/>
                  </a:lnTo>
                  <a:lnTo>
                    <a:pt x="3094" y="740"/>
                  </a:lnTo>
                  <a:lnTo>
                    <a:pt x="3085" y="743"/>
                  </a:lnTo>
                  <a:lnTo>
                    <a:pt x="3077" y="746"/>
                  </a:lnTo>
                  <a:lnTo>
                    <a:pt x="3068" y="746"/>
                  </a:lnTo>
                  <a:lnTo>
                    <a:pt x="3059" y="752"/>
                  </a:lnTo>
                  <a:lnTo>
                    <a:pt x="3050" y="760"/>
                  </a:lnTo>
                  <a:lnTo>
                    <a:pt x="3050" y="769"/>
                  </a:lnTo>
                  <a:lnTo>
                    <a:pt x="3050" y="778"/>
                  </a:lnTo>
                  <a:lnTo>
                    <a:pt x="3056" y="786"/>
                  </a:lnTo>
                  <a:lnTo>
                    <a:pt x="3065" y="789"/>
                  </a:lnTo>
                  <a:lnTo>
                    <a:pt x="3074" y="795"/>
                  </a:lnTo>
                  <a:lnTo>
                    <a:pt x="3074" y="804"/>
                  </a:lnTo>
                  <a:lnTo>
                    <a:pt x="3062" y="806"/>
                  </a:lnTo>
                  <a:lnTo>
                    <a:pt x="3050" y="806"/>
                  </a:lnTo>
                  <a:lnTo>
                    <a:pt x="3053" y="798"/>
                  </a:lnTo>
                  <a:lnTo>
                    <a:pt x="3045" y="792"/>
                  </a:lnTo>
                  <a:lnTo>
                    <a:pt x="3036" y="798"/>
                  </a:lnTo>
                  <a:lnTo>
                    <a:pt x="3036" y="809"/>
                  </a:lnTo>
                  <a:lnTo>
                    <a:pt x="3036" y="818"/>
                  </a:lnTo>
                  <a:lnTo>
                    <a:pt x="3033" y="827"/>
                  </a:lnTo>
                  <a:lnTo>
                    <a:pt x="3030" y="835"/>
                  </a:lnTo>
                  <a:lnTo>
                    <a:pt x="3024" y="844"/>
                  </a:lnTo>
                  <a:lnTo>
                    <a:pt x="3016" y="853"/>
                  </a:lnTo>
                  <a:lnTo>
                    <a:pt x="3013" y="861"/>
                  </a:lnTo>
                  <a:lnTo>
                    <a:pt x="3021" y="864"/>
                  </a:lnTo>
                  <a:lnTo>
                    <a:pt x="3030" y="864"/>
                  </a:lnTo>
                  <a:lnTo>
                    <a:pt x="3033" y="873"/>
                  </a:lnTo>
                  <a:lnTo>
                    <a:pt x="3033" y="881"/>
                  </a:lnTo>
                  <a:lnTo>
                    <a:pt x="3042" y="890"/>
                  </a:lnTo>
                  <a:lnTo>
                    <a:pt x="3050" y="893"/>
                  </a:lnTo>
                  <a:lnTo>
                    <a:pt x="3062" y="893"/>
                  </a:lnTo>
                  <a:lnTo>
                    <a:pt x="3071" y="887"/>
                  </a:lnTo>
                  <a:lnTo>
                    <a:pt x="3080" y="887"/>
                  </a:lnTo>
                  <a:lnTo>
                    <a:pt x="3088" y="887"/>
                  </a:lnTo>
                  <a:lnTo>
                    <a:pt x="3085" y="896"/>
                  </a:lnTo>
                  <a:lnTo>
                    <a:pt x="3082" y="904"/>
                  </a:lnTo>
                  <a:lnTo>
                    <a:pt x="3080" y="913"/>
                  </a:lnTo>
                  <a:lnTo>
                    <a:pt x="3088" y="919"/>
                  </a:lnTo>
                  <a:lnTo>
                    <a:pt x="3088" y="927"/>
                  </a:lnTo>
                  <a:lnTo>
                    <a:pt x="3080" y="933"/>
                  </a:lnTo>
                  <a:lnTo>
                    <a:pt x="3077" y="942"/>
                  </a:lnTo>
                  <a:lnTo>
                    <a:pt x="3077" y="950"/>
                  </a:lnTo>
                  <a:lnTo>
                    <a:pt x="3074" y="959"/>
                  </a:lnTo>
                  <a:lnTo>
                    <a:pt x="3074" y="968"/>
                  </a:lnTo>
                  <a:lnTo>
                    <a:pt x="3077" y="959"/>
                  </a:lnTo>
                  <a:lnTo>
                    <a:pt x="3065" y="942"/>
                  </a:lnTo>
                  <a:lnTo>
                    <a:pt x="3071" y="962"/>
                  </a:lnTo>
                  <a:lnTo>
                    <a:pt x="3062" y="962"/>
                  </a:lnTo>
                  <a:lnTo>
                    <a:pt x="3074" y="968"/>
                  </a:lnTo>
                  <a:lnTo>
                    <a:pt x="3074" y="976"/>
                  </a:lnTo>
                  <a:lnTo>
                    <a:pt x="3059" y="976"/>
                  </a:lnTo>
                  <a:lnTo>
                    <a:pt x="3050" y="979"/>
                  </a:lnTo>
                  <a:lnTo>
                    <a:pt x="3039" y="979"/>
                  </a:lnTo>
                  <a:lnTo>
                    <a:pt x="3039" y="988"/>
                  </a:lnTo>
                  <a:lnTo>
                    <a:pt x="3048" y="991"/>
                  </a:lnTo>
                  <a:lnTo>
                    <a:pt x="3056" y="991"/>
                  </a:lnTo>
                  <a:lnTo>
                    <a:pt x="3065" y="997"/>
                  </a:lnTo>
                  <a:lnTo>
                    <a:pt x="3074" y="1005"/>
                  </a:lnTo>
                  <a:lnTo>
                    <a:pt x="3077" y="1014"/>
                  </a:lnTo>
                  <a:lnTo>
                    <a:pt x="3082" y="1023"/>
                  </a:lnTo>
                  <a:lnTo>
                    <a:pt x="3088" y="1031"/>
                  </a:lnTo>
                  <a:lnTo>
                    <a:pt x="3080" y="1034"/>
                  </a:lnTo>
                  <a:lnTo>
                    <a:pt x="3071" y="1034"/>
                  </a:lnTo>
                  <a:lnTo>
                    <a:pt x="3062" y="1040"/>
                  </a:lnTo>
                  <a:lnTo>
                    <a:pt x="3050" y="1043"/>
                  </a:lnTo>
                  <a:lnTo>
                    <a:pt x="3039" y="1046"/>
                  </a:lnTo>
                  <a:lnTo>
                    <a:pt x="3030" y="1046"/>
                  </a:lnTo>
                  <a:lnTo>
                    <a:pt x="3018" y="1046"/>
                  </a:lnTo>
                  <a:lnTo>
                    <a:pt x="3010" y="1037"/>
                  </a:lnTo>
                  <a:lnTo>
                    <a:pt x="3007" y="1028"/>
                  </a:lnTo>
                  <a:lnTo>
                    <a:pt x="3010" y="1020"/>
                  </a:lnTo>
                  <a:lnTo>
                    <a:pt x="3013" y="1011"/>
                  </a:lnTo>
                  <a:lnTo>
                    <a:pt x="3004" y="1011"/>
                  </a:lnTo>
                  <a:lnTo>
                    <a:pt x="2992" y="1008"/>
                  </a:lnTo>
                  <a:lnTo>
                    <a:pt x="2983" y="1008"/>
                  </a:lnTo>
                  <a:lnTo>
                    <a:pt x="2978" y="1017"/>
                  </a:lnTo>
                  <a:lnTo>
                    <a:pt x="2978" y="1025"/>
                  </a:lnTo>
                  <a:lnTo>
                    <a:pt x="2983" y="1034"/>
                  </a:lnTo>
                  <a:lnTo>
                    <a:pt x="2989" y="1043"/>
                  </a:lnTo>
                  <a:lnTo>
                    <a:pt x="2992" y="1051"/>
                  </a:lnTo>
                  <a:lnTo>
                    <a:pt x="3001" y="1054"/>
                  </a:lnTo>
                  <a:lnTo>
                    <a:pt x="3010" y="1060"/>
                  </a:lnTo>
                  <a:lnTo>
                    <a:pt x="3018" y="1063"/>
                  </a:lnTo>
                  <a:lnTo>
                    <a:pt x="3027" y="1063"/>
                  </a:lnTo>
                  <a:lnTo>
                    <a:pt x="3036" y="1060"/>
                  </a:lnTo>
                  <a:lnTo>
                    <a:pt x="3027" y="1060"/>
                  </a:lnTo>
                  <a:lnTo>
                    <a:pt x="3018" y="1057"/>
                  </a:lnTo>
                  <a:lnTo>
                    <a:pt x="3010" y="1054"/>
                  </a:lnTo>
                  <a:lnTo>
                    <a:pt x="3004" y="1046"/>
                  </a:lnTo>
                  <a:lnTo>
                    <a:pt x="2995" y="1040"/>
                  </a:lnTo>
                  <a:lnTo>
                    <a:pt x="2992" y="1031"/>
                  </a:lnTo>
                  <a:lnTo>
                    <a:pt x="2983" y="1023"/>
                  </a:lnTo>
                  <a:lnTo>
                    <a:pt x="2978" y="1014"/>
                  </a:lnTo>
                  <a:lnTo>
                    <a:pt x="2969" y="1005"/>
                  </a:lnTo>
                  <a:lnTo>
                    <a:pt x="2966" y="1014"/>
                  </a:lnTo>
                  <a:lnTo>
                    <a:pt x="2954" y="1023"/>
                  </a:lnTo>
                  <a:lnTo>
                    <a:pt x="2946" y="1023"/>
                  </a:lnTo>
                  <a:lnTo>
                    <a:pt x="2943" y="1034"/>
                  </a:lnTo>
                  <a:lnTo>
                    <a:pt x="2943" y="1043"/>
                  </a:lnTo>
                  <a:lnTo>
                    <a:pt x="2951" y="1051"/>
                  </a:lnTo>
                  <a:lnTo>
                    <a:pt x="2963" y="1051"/>
                  </a:lnTo>
                  <a:lnTo>
                    <a:pt x="2975" y="1054"/>
                  </a:lnTo>
                  <a:lnTo>
                    <a:pt x="2963" y="1051"/>
                  </a:lnTo>
                  <a:lnTo>
                    <a:pt x="2951" y="1046"/>
                  </a:lnTo>
                  <a:lnTo>
                    <a:pt x="2943" y="1043"/>
                  </a:lnTo>
                  <a:lnTo>
                    <a:pt x="2934" y="1051"/>
                  </a:lnTo>
                  <a:lnTo>
                    <a:pt x="2928" y="1060"/>
                  </a:lnTo>
                  <a:lnTo>
                    <a:pt x="2919" y="1060"/>
                  </a:lnTo>
                  <a:lnTo>
                    <a:pt x="2919" y="1069"/>
                  </a:lnTo>
                  <a:lnTo>
                    <a:pt x="2931" y="1077"/>
                  </a:lnTo>
                  <a:lnTo>
                    <a:pt x="2943" y="1086"/>
                  </a:lnTo>
                  <a:lnTo>
                    <a:pt x="2951" y="1089"/>
                  </a:lnTo>
                  <a:lnTo>
                    <a:pt x="2960" y="1089"/>
                  </a:lnTo>
                  <a:lnTo>
                    <a:pt x="2969" y="1089"/>
                  </a:lnTo>
                  <a:lnTo>
                    <a:pt x="2972" y="1080"/>
                  </a:lnTo>
                  <a:lnTo>
                    <a:pt x="2975" y="1072"/>
                  </a:lnTo>
                  <a:lnTo>
                    <a:pt x="2975" y="1063"/>
                  </a:lnTo>
                  <a:lnTo>
                    <a:pt x="2978" y="1054"/>
                  </a:lnTo>
                  <a:lnTo>
                    <a:pt x="2981" y="1063"/>
                  </a:lnTo>
                  <a:lnTo>
                    <a:pt x="2981" y="1072"/>
                  </a:lnTo>
                  <a:lnTo>
                    <a:pt x="2975" y="1080"/>
                  </a:lnTo>
                  <a:lnTo>
                    <a:pt x="2969" y="1089"/>
                  </a:lnTo>
                  <a:lnTo>
                    <a:pt x="2957" y="1089"/>
                  </a:lnTo>
                  <a:lnTo>
                    <a:pt x="2949" y="1089"/>
                  </a:lnTo>
                  <a:lnTo>
                    <a:pt x="2940" y="1097"/>
                  </a:lnTo>
                  <a:lnTo>
                    <a:pt x="2937" y="1106"/>
                  </a:lnTo>
                  <a:lnTo>
                    <a:pt x="2934" y="1115"/>
                  </a:lnTo>
                  <a:lnTo>
                    <a:pt x="2934" y="1123"/>
                  </a:lnTo>
                  <a:lnTo>
                    <a:pt x="2925" y="1129"/>
                  </a:lnTo>
                  <a:lnTo>
                    <a:pt x="2917" y="1135"/>
                  </a:lnTo>
                  <a:lnTo>
                    <a:pt x="2908" y="1138"/>
                  </a:lnTo>
                  <a:lnTo>
                    <a:pt x="2899" y="1138"/>
                  </a:lnTo>
                  <a:lnTo>
                    <a:pt x="2893" y="1129"/>
                  </a:lnTo>
                  <a:lnTo>
                    <a:pt x="2884" y="1129"/>
                  </a:lnTo>
                  <a:lnTo>
                    <a:pt x="2876" y="1129"/>
                  </a:lnTo>
                  <a:lnTo>
                    <a:pt x="2867" y="1135"/>
                  </a:lnTo>
                  <a:lnTo>
                    <a:pt x="2864" y="1144"/>
                  </a:lnTo>
                  <a:lnTo>
                    <a:pt x="2861" y="1152"/>
                  </a:lnTo>
                  <a:lnTo>
                    <a:pt x="2861" y="1161"/>
                  </a:lnTo>
                  <a:lnTo>
                    <a:pt x="2858" y="1170"/>
                  </a:lnTo>
                  <a:lnTo>
                    <a:pt x="2852" y="1178"/>
                  </a:lnTo>
                  <a:lnTo>
                    <a:pt x="2844" y="1181"/>
                  </a:lnTo>
                  <a:lnTo>
                    <a:pt x="2835" y="1181"/>
                  </a:lnTo>
                  <a:lnTo>
                    <a:pt x="2826" y="1184"/>
                  </a:lnTo>
                  <a:lnTo>
                    <a:pt x="2818" y="1175"/>
                  </a:lnTo>
                  <a:lnTo>
                    <a:pt x="2809" y="1167"/>
                  </a:lnTo>
                  <a:lnTo>
                    <a:pt x="2806" y="1175"/>
                  </a:lnTo>
                  <a:lnTo>
                    <a:pt x="2806" y="1184"/>
                  </a:lnTo>
                  <a:lnTo>
                    <a:pt x="2806" y="1193"/>
                  </a:lnTo>
                  <a:lnTo>
                    <a:pt x="2806" y="1204"/>
                  </a:lnTo>
                  <a:lnTo>
                    <a:pt x="2806" y="1213"/>
                  </a:lnTo>
                  <a:lnTo>
                    <a:pt x="2815" y="1213"/>
                  </a:lnTo>
                  <a:lnTo>
                    <a:pt x="2823" y="1216"/>
                  </a:lnTo>
                  <a:lnTo>
                    <a:pt x="2826" y="1224"/>
                  </a:lnTo>
                  <a:lnTo>
                    <a:pt x="2826" y="1233"/>
                  </a:lnTo>
                  <a:lnTo>
                    <a:pt x="2826" y="1242"/>
                  </a:lnTo>
                  <a:lnTo>
                    <a:pt x="2823" y="1250"/>
                  </a:lnTo>
                  <a:lnTo>
                    <a:pt x="2815" y="1253"/>
                  </a:lnTo>
                  <a:lnTo>
                    <a:pt x="2809" y="1262"/>
                  </a:lnTo>
                  <a:lnTo>
                    <a:pt x="2809" y="1270"/>
                  </a:lnTo>
                  <a:lnTo>
                    <a:pt x="2809" y="1279"/>
                  </a:lnTo>
                  <a:lnTo>
                    <a:pt x="2809" y="1288"/>
                  </a:lnTo>
                  <a:lnTo>
                    <a:pt x="2809" y="1279"/>
                  </a:lnTo>
                  <a:lnTo>
                    <a:pt x="2806" y="1270"/>
                  </a:lnTo>
                  <a:lnTo>
                    <a:pt x="2806" y="1262"/>
                  </a:lnTo>
                  <a:lnTo>
                    <a:pt x="2800" y="1253"/>
                  </a:lnTo>
                  <a:lnTo>
                    <a:pt x="2797" y="1244"/>
                  </a:lnTo>
                  <a:lnTo>
                    <a:pt x="2794" y="1236"/>
                  </a:lnTo>
                  <a:lnTo>
                    <a:pt x="2794" y="1227"/>
                  </a:lnTo>
                  <a:lnTo>
                    <a:pt x="2794" y="1218"/>
                  </a:lnTo>
                  <a:lnTo>
                    <a:pt x="2800" y="1210"/>
                  </a:lnTo>
                  <a:lnTo>
                    <a:pt x="2803" y="1201"/>
                  </a:lnTo>
                  <a:lnTo>
                    <a:pt x="2800" y="1193"/>
                  </a:lnTo>
                  <a:lnTo>
                    <a:pt x="2791" y="1187"/>
                  </a:lnTo>
                  <a:lnTo>
                    <a:pt x="2788" y="1178"/>
                  </a:lnTo>
                  <a:lnTo>
                    <a:pt x="2788" y="1170"/>
                  </a:lnTo>
                  <a:lnTo>
                    <a:pt x="2788" y="1161"/>
                  </a:lnTo>
                  <a:lnTo>
                    <a:pt x="2788" y="1152"/>
                  </a:lnTo>
                  <a:lnTo>
                    <a:pt x="2786" y="1144"/>
                  </a:lnTo>
                  <a:lnTo>
                    <a:pt x="2786" y="1135"/>
                  </a:lnTo>
                  <a:lnTo>
                    <a:pt x="2780" y="1126"/>
                  </a:lnTo>
                  <a:lnTo>
                    <a:pt x="2768" y="1121"/>
                  </a:lnTo>
                  <a:lnTo>
                    <a:pt x="2759" y="1115"/>
                  </a:lnTo>
                  <a:lnTo>
                    <a:pt x="2748" y="1112"/>
                  </a:lnTo>
                  <a:lnTo>
                    <a:pt x="2736" y="1109"/>
                  </a:lnTo>
                  <a:lnTo>
                    <a:pt x="2724" y="1106"/>
                  </a:lnTo>
                  <a:lnTo>
                    <a:pt x="2716" y="1106"/>
                  </a:lnTo>
                  <a:lnTo>
                    <a:pt x="2710" y="1115"/>
                  </a:lnTo>
                  <a:lnTo>
                    <a:pt x="2704" y="1123"/>
                  </a:lnTo>
                  <a:lnTo>
                    <a:pt x="2698" y="1132"/>
                  </a:lnTo>
                  <a:lnTo>
                    <a:pt x="2692" y="1126"/>
                  </a:lnTo>
                  <a:lnTo>
                    <a:pt x="2695" y="1112"/>
                  </a:lnTo>
                  <a:lnTo>
                    <a:pt x="2695" y="1121"/>
                  </a:lnTo>
                  <a:lnTo>
                    <a:pt x="2692" y="1129"/>
                  </a:lnTo>
                  <a:lnTo>
                    <a:pt x="2692" y="1138"/>
                  </a:lnTo>
                  <a:lnTo>
                    <a:pt x="2687" y="1146"/>
                  </a:lnTo>
                  <a:lnTo>
                    <a:pt x="2687" y="1155"/>
                  </a:lnTo>
                  <a:lnTo>
                    <a:pt x="2687" y="1164"/>
                  </a:lnTo>
                  <a:lnTo>
                    <a:pt x="2678" y="1167"/>
                  </a:lnTo>
                  <a:lnTo>
                    <a:pt x="2669" y="1167"/>
                  </a:lnTo>
                  <a:lnTo>
                    <a:pt x="2666" y="1158"/>
                  </a:lnTo>
                  <a:lnTo>
                    <a:pt x="2666" y="1149"/>
                  </a:lnTo>
                  <a:lnTo>
                    <a:pt x="2657" y="1146"/>
                  </a:lnTo>
                  <a:lnTo>
                    <a:pt x="2649" y="1152"/>
                  </a:lnTo>
                  <a:lnTo>
                    <a:pt x="2646" y="1141"/>
                  </a:lnTo>
                  <a:lnTo>
                    <a:pt x="2634" y="1135"/>
                  </a:lnTo>
                  <a:lnTo>
                    <a:pt x="2625" y="1135"/>
                  </a:lnTo>
                  <a:lnTo>
                    <a:pt x="2617" y="1135"/>
                  </a:lnTo>
                  <a:lnTo>
                    <a:pt x="2614" y="1144"/>
                  </a:lnTo>
                  <a:lnTo>
                    <a:pt x="2614" y="1152"/>
                  </a:lnTo>
                  <a:lnTo>
                    <a:pt x="2614" y="1161"/>
                  </a:lnTo>
                  <a:lnTo>
                    <a:pt x="2617" y="1170"/>
                  </a:lnTo>
                  <a:lnTo>
                    <a:pt x="2617" y="1178"/>
                  </a:lnTo>
                  <a:lnTo>
                    <a:pt x="2620" y="1187"/>
                  </a:lnTo>
                  <a:lnTo>
                    <a:pt x="2625" y="1195"/>
                  </a:lnTo>
                  <a:lnTo>
                    <a:pt x="2634" y="1201"/>
                  </a:lnTo>
                  <a:lnTo>
                    <a:pt x="2643" y="1201"/>
                  </a:lnTo>
                  <a:lnTo>
                    <a:pt x="2652" y="1201"/>
                  </a:lnTo>
                  <a:lnTo>
                    <a:pt x="2643" y="1201"/>
                  </a:lnTo>
                  <a:lnTo>
                    <a:pt x="2634" y="1207"/>
                  </a:lnTo>
                  <a:lnTo>
                    <a:pt x="2625" y="1216"/>
                  </a:lnTo>
                  <a:lnTo>
                    <a:pt x="2625" y="1224"/>
                  </a:lnTo>
                  <a:lnTo>
                    <a:pt x="2634" y="1224"/>
                  </a:lnTo>
                  <a:lnTo>
                    <a:pt x="2643" y="1230"/>
                  </a:lnTo>
                  <a:lnTo>
                    <a:pt x="2646" y="1242"/>
                  </a:lnTo>
                  <a:lnTo>
                    <a:pt x="2652" y="1253"/>
                  </a:lnTo>
                  <a:lnTo>
                    <a:pt x="2660" y="1259"/>
                  </a:lnTo>
                  <a:lnTo>
                    <a:pt x="2672" y="1265"/>
                  </a:lnTo>
                  <a:lnTo>
                    <a:pt x="2663" y="1262"/>
                  </a:lnTo>
                  <a:lnTo>
                    <a:pt x="2655" y="1256"/>
                  </a:lnTo>
                  <a:lnTo>
                    <a:pt x="2663" y="1250"/>
                  </a:lnTo>
                  <a:lnTo>
                    <a:pt x="2672" y="1250"/>
                  </a:lnTo>
                  <a:lnTo>
                    <a:pt x="2681" y="1253"/>
                  </a:lnTo>
                  <a:lnTo>
                    <a:pt x="2669" y="1256"/>
                  </a:lnTo>
                  <a:lnTo>
                    <a:pt x="2655" y="1256"/>
                  </a:lnTo>
                  <a:lnTo>
                    <a:pt x="2646" y="1247"/>
                  </a:lnTo>
                  <a:lnTo>
                    <a:pt x="2643" y="1236"/>
                  </a:lnTo>
                  <a:lnTo>
                    <a:pt x="2640" y="1227"/>
                  </a:lnTo>
                  <a:lnTo>
                    <a:pt x="2631" y="1227"/>
                  </a:lnTo>
                  <a:lnTo>
                    <a:pt x="2625" y="1236"/>
                  </a:lnTo>
                  <a:lnTo>
                    <a:pt x="2625" y="1247"/>
                  </a:lnTo>
                  <a:lnTo>
                    <a:pt x="2625" y="1259"/>
                  </a:lnTo>
                  <a:lnTo>
                    <a:pt x="2617" y="1259"/>
                  </a:lnTo>
                  <a:lnTo>
                    <a:pt x="2608" y="1256"/>
                  </a:lnTo>
                  <a:lnTo>
                    <a:pt x="2605" y="1247"/>
                  </a:lnTo>
                  <a:lnTo>
                    <a:pt x="2596" y="1253"/>
                  </a:lnTo>
                  <a:lnTo>
                    <a:pt x="2588" y="1262"/>
                  </a:lnTo>
                  <a:lnTo>
                    <a:pt x="2582" y="1270"/>
                  </a:lnTo>
                  <a:lnTo>
                    <a:pt x="2582" y="1279"/>
                  </a:lnTo>
                  <a:lnTo>
                    <a:pt x="2582" y="1288"/>
                  </a:lnTo>
                  <a:lnTo>
                    <a:pt x="2576" y="1296"/>
                  </a:lnTo>
                  <a:lnTo>
                    <a:pt x="2573" y="1305"/>
                  </a:lnTo>
                  <a:lnTo>
                    <a:pt x="2567" y="1314"/>
                  </a:lnTo>
                  <a:lnTo>
                    <a:pt x="2553" y="1311"/>
                  </a:lnTo>
                  <a:lnTo>
                    <a:pt x="2567" y="1305"/>
                  </a:lnTo>
                  <a:lnTo>
                    <a:pt x="2561" y="1314"/>
                  </a:lnTo>
                  <a:lnTo>
                    <a:pt x="2558" y="1322"/>
                  </a:lnTo>
                  <a:lnTo>
                    <a:pt x="2558" y="1331"/>
                  </a:lnTo>
                  <a:lnTo>
                    <a:pt x="2558" y="1340"/>
                  </a:lnTo>
                  <a:lnTo>
                    <a:pt x="2558" y="1348"/>
                  </a:lnTo>
                  <a:lnTo>
                    <a:pt x="2558" y="1360"/>
                  </a:lnTo>
                  <a:lnTo>
                    <a:pt x="2558" y="1368"/>
                  </a:lnTo>
                  <a:lnTo>
                    <a:pt x="2550" y="1380"/>
                  </a:lnTo>
                  <a:lnTo>
                    <a:pt x="2547" y="1389"/>
                  </a:lnTo>
                  <a:lnTo>
                    <a:pt x="2544" y="1397"/>
                  </a:lnTo>
                  <a:lnTo>
                    <a:pt x="2538" y="1406"/>
                  </a:lnTo>
                  <a:lnTo>
                    <a:pt x="2529" y="1412"/>
                  </a:lnTo>
                  <a:lnTo>
                    <a:pt x="2538" y="1414"/>
                  </a:lnTo>
                  <a:lnTo>
                    <a:pt x="2547" y="1414"/>
                  </a:lnTo>
                  <a:lnTo>
                    <a:pt x="2553" y="1406"/>
                  </a:lnTo>
                  <a:lnTo>
                    <a:pt x="2553" y="1397"/>
                  </a:lnTo>
                  <a:lnTo>
                    <a:pt x="2561" y="1391"/>
                  </a:lnTo>
                  <a:lnTo>
                    <a:pt x="2567" y="1400"/>
                  </a:lnTo>
                  <a:lnTo>
                    <a:pt x="2567" y="1412"/>
                  </a:lnTo>
                  <a:lnTo>
                    <a:pt x="2570" y="1420"/>
                  </a:lnTo>
                  <a:lnTo>
                    <a:pt x="2579" y="1429"/>
                  </a:lnTo>
                  <a:lnTo>
                    <a:pt x="2588" y="1435"/>
                  </a:lnTo>
                  <a:lnTo>
                    <a:pt x="2599" y="1435"/>
                  </a:lnTo>
                  <a:lnTo>
                    <a:pt x="2593" y="1426"/>
                  </a:lnTo>
                  <a:lnTo>
                    <a:pt x="2585" y="1417"/>
                  </a:lnTo>
                  <a:lnTo>
                    <a:pt x="2582" y="1406"/>
                  </a:lnTo>
                  <a:lnTo>
                    <a:pt x="2579" y="1397"/>
                  </a:lnTo>
                  <a:lnTo>
                    <a:pt x="2573" y="1406"/>
                  </a:lnTo>
                  <a:lnTo>
                    <a:pt x="2570" y="1414"/>
                  </a:lnTo>
                  <a:lnTo>
                    <a:pt x="2561" y="1426"/>
                  </a:lnTo>
                  <a:lnTo>
                    <a:pt x="2553" y="1432"/>
                  </a:lnTo>
                  <a:lnTo>
                    <a:pt x="2544" y="1432"/>
                  </a:lnTo>
                  <a:lnTo>
                    <a:pt x="2535" y="1432"/>
                  </a:lnTo>
                  <a:lnTo>
                    <a:pt x="2526" y="1432"/>
                  </a:lnTo>
                  <a:lnTo>
                    <a:pt x="2515" y="1438"/>
                  </a:lnTo>
                  <a:lnTo>
                    <a:pt x="2506" y="1443"/>
                  </a:lnTo>
                  <a:lnTo>
                    <a:pt x="2503" y="1452"/>
                  </a:lnTo>
                  <a:lnTo>
                    <a:pt x="2509" y="1461"/>
                  </a:lnTo>
                  <a:lnTo>
                    <a:pt x="2515" y="1472"/>
                  </a:lnTo>
                  <a:lnTo>
                    <a:pt x="2521" y="1484"/>
                  </a:lnTo>
                  <a:lnTo>
                    <a:pt x="2529" y="1489"/>
                  </a:lnTo>
                  <a:lnTo>
                    <a:pt x="2538" y="1495"/>
                  </a:lnTo>
                  <a:lnTo>
                    <a:pt x="2544" y="1504"/>
                  </a:lnTo>
                  <a:lnTo>
                    <a:pt x="2553" y="1507"/>
                  </a:lnTo>
                  <a:lnTo>
                    <a:pt x="2561" y="1507"/>
                  </a:lnTo>
                  <a:lnTo>
                    <a:pt x="2570" y="1510"/>
                  </a:lnTo>
                  <a:lnTo>
                    <a:pt x="2576" y="1518"/>
                  </a:lnTo>
                  <a:lnTo>
                    <a:pt x="2585" y="1527"/>
                  </a:lnTo>
                  <a:lnTo>
                    <a:pt x="2588" y="1535"/>
                  </a:lnTo>
                  <a:lnTo>
                    <a:pt x="2588" y="1544"/>
                  </a:lnTo>
                  <a:lnTo>
                    <a:pt x="2588" y="1556"/>
                  </a:lnTo>
                  <a:lnTo>
                    <a:pt x="2590" y="1564"/>
                  </a:lnTo>
                  <a:lnTo>
                    <a:pt x="2599" y="1564"/>
                  </a:lnTo>
                  <a:lnTo>
                    <a:pt x="2614" y="1567"/>
                  </a:lnTo>
                  <a:lnTo>
                    <a:pt x="2617" y="1576"/>
                  </a:lnTo>
                  <a:lnTo>
                    <a:pt x="2617" y="1584"/>
                  </a:lnTo>
                  <a:lnTo>
                    <a:pt x="2608" y="1587"/>
                  </a:lnTo>
                  <a:lnTo>
                    <a:pt x="2596" y="1579"/>
                  </a:lnTo>
                  <a:lnTo>
                    <a:pt x="2588" y="1570"/>
                  </a:lnTo>
                  <a:lnTo>
                    <a:pt x="2582" y="1561"/>
                  </a:lnTo>
                  <a:lnTo>
                    <a:pt x="2582" y="1553"/>
                  </a:lnTo>
                  <a:lnTo>
                    <a:pt x="2582" y="1541"/>
                  </a:lnTo>
                  <a:lnTo>
                    <a:pt x="2579" y="1533"/>
                  </a:lnTo>
                  <a:lnTo>
                    <a:pt x="2573" y="1524"/>
                  </a:lnTo>
                  <a:lnTo>
                    <a:pt x="2564" y="1515"/>
                  </a:lnTo>
                  <a:lnTo>
                    <a:pt x="2556" y="1512"/>
                  </a:lnTo>
                  <a:lnTo>
                    <a:pt x="2550" y="1521"/>
                  </a:lnTo>
                  <a:lnTo>
                    <a:pt x="2541" y="1521"/>
                  </a:lnTo>
                  <a:lnTo>
                    <a:pt x="2532" y="1515"/>
                  </a:lnTo>
                  <a:lnTo>
                    <a:pt x="2524" y="1510"/>
                  </a:lnTo>
                  <a:lnTo>
                    <a:pt x="2515" y="1507"/>
                  </a:lnTo>
                  <a:lnTo>
                    <a:pt x="2506" y="1504"/>
                  </a:lnTo>
                  <a:lnTo>
                    <a:pt x="2497" y="1504"/>
                  </a:lnTo>
                  <a:lnTo>
                    <a:pt x="2489" y="1504"/>
                  </a:lnTo>
                  <a:lnTo>
                    <a:pt x="2486" y="1512"/>
                  </a:lnTo>
                  <a:lnTo>
                    <a:pt x="2486" y="1521"/>
                  </a:lnTo>
                  <a:lnTo>
                    <a:pt x="2491" y="1530"/>
                  </a:lnTo>
                  <a:lnTo>
                    <a:pt x="2486" y="1538"/>
                  </a:lnTo>
                  <a:lnTo>
                    <a:pt x="2477" y="1538"/>
                  </a:lnTo>
                  <a:lnTo>
                    <a:pt x="2474" y="1547"/>
                  </a:lnTo>
                  <a:lnTo>
                    <a:pt x="2489" y="1550"/>
                  </a:lnTo>
                  <a:lnTo>
                    <a:pt x="2497" y="1553"/>
                  </a:lnTo>
                  <a:lnTo>
                    <a:pt x="2506" y="1553"/>
                  </a:lnTo>
                  <a:lnTo>
                    <a:pt x="2515" y="1559"/>
                  </a:lnTo>
                  <a:lnTo>
                    <a:pt x="2521" y="1570"/>
                  </a:lnTo>
                  <a:lnTo>
                    <a:pt x="2529" y="1576"/>
                  </a:lnTo>
                  <a:lnTo>
                    <a:pt x="2521" y="1567"/>
                  </a:lnTo>
                  <a:lnTo>
                    <a:pt x="2509" y="1561"/>
                  </a:lnTo>
                  <a:lnTo>
                    <a:pt x="2500" y="1559"/>
                  </a:lnTo>
                  <a:lnTo>
                    <a:pt x="2491" y="1567"/>
                  </a:lnTo>
                  <a:lnTo>
                    <a:pt x="2483" y="1570"/>
                  </a:lnTo>
                  <a:lnTo>
                    <a:pt x="2474" y="1570"/>
                  </a:lnTo>
                  <a:lnTo>
                    <a:pt x="2471" y="1561"/>
                  </a:lnTo>
                  <a:lnTo>
                    <a:pt x="2471" y="1553"/>
                  </a:lnTo>
                  <a:lnTo>
                    <a:pt x="2465" y="1544"/>
                  </a:lnTo>
                  <a:lnTo>
                    <a:pt x="2462" y="1535"/>
                  </a:lnTo>
                  <a:lnTo>
                    <a:pt x="2459" y="1524"/>
                  </a:lnTo>
                  <a:lnTo>
                    <a:pt x="2457" y="1515"/>
                  </a:lnTo>
                  <a:lnTo>
                    <a:pt x="2448" y="1510"/>
                  </a:lnTo>
                  <a:lnTo>
                    <a:pt x="2439" y="1504"/>
                  </a:lnTo>
                  <a:lnTo>
                    <a:pt x="2439" y="1512"/>
                  </a:lnTo>
                  <a:lnTo>
                    <a:pt x="2439" y="1521"/>
                  </a:lnTo>
                  <a:lnTo>
                    <a:pt x="2439" y="1530"/>
                  </a:lnTo>
                  <a:lnTo>
                    <a:pt x="2439" y="1538"/>
                  </a:lnTo>
                  <a:lnTo>
                    <a:pt x="2439" y="1547"/>
                  </a:lnTo>
                  <a:lnTo>
                    <a:pt x="2439" y="1556"/>
                  </a:lnTo>
                  <a:lnTo>
                    <a:pt x="2442" y="1564"/>
                  </a:lnTo>
                  <a:lnTo>
                    <a:pt x="2436" y="1573"/>
                  </a:lnTo>
                  <a:lnTo>
                    <a:pt x="2433" y="1582"/>
                  </a:lnTo>
                  <a:lnTo>
                    <a:pt x="2430" y="1590"/>
                  </a:lnTo>
                  <a:lnTo>
                    <a:pt x="2433" y="1599"/>
                  </a:lnTo>
                  <a:lnTo>
                    <a:pt x="2442" y="1602"/>
                  </a:lnTo>
                  <a:lnTo>
                    <a:pt x="2451" y="1605"/>
                  </a:lnTo>
                  <a:lnTo>
                    <a:pt x="2459" y="1608"/>
                  </a:lnTo>
                  <a:lnTo>
                    <a:pt x="2465" y="1616"/>
                  </a:lnTo>
                  <a:lnTo>
                    <a:pt x="2474" y="1628"/>
                  </a:lnTo>
                  <a:lnTo>
                    <a:pt x="2474" y="1636"/>
                  </a:lnTo>
                  <a:lnTo>
                    <a:pt x="2474" y="1648"/>
                  </a:lnTo>
                  <a:lnTo>
                    <a:pt x="2474" y="1657"/>
                  </a:lnTo>
                  <a:lnTo>
                    <a:pt x="2474" y="1665"/>
                  </a:lnTo>
                  <a:lnTo>
                    <a:pt x="2474" y="1674"/>
                  </a:lnTo>
                  <a:lnTo>
                    <a:pt x="2483" y="1680"/>
                  </a:lnTo>
                  <a:lnTo>
                    <a:pt x="2491" y="1682"/>
                  </a:lnTo>
                  <a:lnTo>
                    <a:pt x="2500" y="1682"/>
                  </a:lnTo>
                  <a:lnTo>
                    <a:pt x="2509" y="1680"/>
                  </a:lnTo>
                  <a:lnTo>
                    <a:pt x="2515" y="1671"/>
                  </a:lnTo>
                  <a:lnTo>
                    <a:pt x="2524" y="1671"/>
                  </a:lnTo>
                  <a:lnTo>
                    <a:pt x="2532" y="1668"/>
                  </a:lnTo>
                  <a:lnTo>
                    <a:pt x="2541" y="1671"/>
                  </a:lnTo>
                  <a:lnTo>
                    <a:pt x="2544" y="1680"/>
                  </a:lnTo>
                  <a:lnTo>
                    <a:pt x="2547" y="1688"/>
                  </a:lnTo>
                  <a:lnTo>
                    <a:pt x="2547" y="1697"/>
                  </a:lnTo>
                  <a:lnTo>
                    <a:pt x="2547" y="1706"/>
                  </a:lnTo>
                  <a:lnTo>
                    <a:pt x="2556" y="1714"/>
                  </a:lnTo>
                  <a:lnTo>
                    <a:pt x="2564" y="1720"/>
                  </a:lnTo>
                  <a:lnTo>
                    <a:pt x="2576" y="1726"/>
                  </a:lnTo>
                  <a:lnTo>
                    <a:pt x="2588" y="1726"/>
                  </a:lnTo>
                  <a:lnTo>
                    <a:pt x="2596" y="1726"/>
                  </a:lnTo>
                  <a:lnTo>
                    <a:pt x="2588" y="1723"/>
                  </a:lnTo>
                  <a:lnTo>
                    <a:pt x="2579" y="1720"/>
                  </a:lnTo>
                  <a:lnTo>
                    <a:pt x="2570" y="1717"/>
                  </a:lnTo>
                  <a:lnTo>
                    <a:pt x="2567" y="1708"/>
                  </a:lnTo>
                  <a:lnTo>
                    <a:pt x="2564" y="1697"/>
                  </a:lnTo>
                  <a:lnTo>
                    <a:pt x="2564" y="1688"/>
                  </a:lnTo>
                  <a:lnTo>
                    <a:pt x="2561" y="1680"/>
                  </a:lnTo>
                  <a:lnTo>
                    <a:pt x="2550" y="1671"/>
                  </a:lnTo>
                  <a:lnTo>
                    <a:pt x="2538" y="1665"/>
                  </a:lnTo>
                  <a:lnTo>
                    <a:pt x="2529" y="1662"/>
                  </a:lnTo>
                  <a:lnTo>
                    <a:pt x="2521" y="1659"/>
                  </a:lnTo>
                  <a:lnTo>
                    <a:pt x="2512" y="1662"/>
                  </a:lnTo>
                  <a:lnTo>
                    <a:pt x="2506" y="1671"/>
                  </a:lnTo>
                  <a:lnTo>
                    <a:pt x="2506" y="1680"/>
                  </a:lnTo>
                  <a:lnTo>
                    <a:pt x="2503" y="1688"/>
                  </a:lnTo>
                  <a:lnTo>
                    <a:pt x="2500" y="1697"/>
                  </a:lnTo>
                  <a:lnTo>
                    <a:pt x="2500" y="1706"/>
                  </a:lnTo>
                  <a:lnTo>
                    <a:pt x="2500" y="1714"/>
                  </a:lnTo>
                  <a:lnTo>
                    <a:pt x="2509" y="1723"/>
                  </a:lnTo>
                  <a:lnTo>
                    <a:pt x="2509" y="1731"/>
                  </a:lnTo>
                  <a:lnTo>
                    <a:pt x="2509" y="1740"/>
                  </a:lnTo>
                  <a:lnTo>
                    <a:pt x="2509" y="1749"/>
                  </a:lnTo>
                  <a:lnTo>
                    <a:pt x="2509" y="1757"/>
                  </a:lnTo>
                  <a:lnTo>
                    <a:pt x="2509" y="1766"/>
                  </a:lnTo>
                  <a:lnTo>
                    <a:pt x="2509" y="1775"/>
                  </a:lnTo>
                  <a:lnTo>
                    <a:pt x="2509" y="1783"/>
                  </a:lnTo>
                  <a:lnTo>
                    <a:pt x="2506" y="1772"/>
                  </a:lnTo>
                  <a:lnTo>
                    <a:pt x="2515" y="1757"/>
                  </a:lnTo>
                  <a:lnTo>
                    <a:pt x="2509" y="1766"/>
                  </a:lnTo>
                  <a:lnTo>
                    <a:pt x="2506" y="1775"/>
                  </a:lnTo>
                  <a:lnTo>
                    <a:pt x="2503" y="1783"/>
                  </a:lnTo>
                  <a:lnTo>
                    <a:pt x="2497" y="1792"/>
                  </a:lnTo>
                  <a:lnTo>
                    <a:pt x="2494" y="1801"/>
                  </a:lnTo>
                  <a:lnTo>
                    <a:pt x="2494" y="1809"/>
                  </a:lnTo>
                  <a:lnTo>
                    <a:pt x="2494" y="1818"/>
                  </a:lnTo>
                  <a:lnTo>
                    <a:pt x="2483" y="1824"/>
                  </a:lnTo>
                  <a:lnTo>
                    <a:pt x="2465" y="1824"/>
                  </a:lnTo>
                  <a:lnTo>
                    <a:pt x="2457" y="1821"/>
                  </a:lnTo>
                  <a:lnTo>
                    <a:pt x="2448" y="1812"/>
                  </a:lnTo>
                  <a:lnTo>
                    <a:pt x="2439" y="1809"/>
                  </a:lnTo>
                  <a:lnTo>
                    <a:pt x="2430" y="1809"/>
                  </a:lnTo>
                  <a:lnTo>
                    <a:pt x="2427" y="1798"/>
                  </a:lnTo>
                  <a:lnTo>
                    <a:pt x="2439" y="1795"/>
                  </a:lnTo>
                  <a:lnTo>
                    <a:pt x="2454" y="1792"/>
                  </a:lnTo>
                  <a:lnTo>
                    <a:pt x="2462" y="1792"/>
                  </a:lnTo>
                  <a:lnTo>
                    <a:pt x="2471" y="1792"/>
                  </a:lnTo>
                  <a:lnTo>
                    <a:pt x="2477" y="1783"/>
                  </a:lnTo>
                  <a:lnTo>
                    <a:pt x="2480" y="1775"/>
                  </a:lnTo>
                  <a:lnTo>
                    <a:pt x="2480" y="1766"/>
                  </a:lnTo>
                  <a:lnTo>
                    <a:pt x="2483" y="1757"/>
                  </a:lnTo>
                  <a:lnTo>
                    <a:pt x="2486" y="1749"/>
                  </a:lnTo>
                  <a:lnTo>
                    <a:pt x="2489" y="1740"/>
                  </a:lnTo>
                  <a:lnTo>
                    <a:pt x="2491" y="1731"/>
                  </a:lnTo>
                  <a:lnTo>
                    <a:pt x="2489" y="1723"/>
                  </a:lnTo>
                  <a:lnTo>
                    <a:pt x="2489" y="1714"/>
                  </a:lnTo>
                  <a:lnTo>
                    <a:pt x="2480" y="1708"/>
                  </a:lnTo>
                  <a:lnTo>
                    <a:pt x="2474" y="1700"/>
                  </a:lnTo>
                  <a:lnTo>
                    <a:pt x="2468" y="1691"/>
                  </a:lnTo>
                  <a:lnTo>
                    <a:pt x="2465" y="1682"/>
                  </a:lnTo>
                  <a:lnTo>
                    <a:pt x="2459" y="1674"/>
                  </a:lnTo>
                  <a:lnTo>
                    <a:pt x="2454" y="1665"/>
                  </a:lnTo>
                  <a:lnTo>
                    <a:pt x="2454" y="1657"/>
                  </a:lnTo>
                  <a:lnTo>
                    <a:pt x="2454" y="1648"/>
                  </a:lnTo>
                  <a:lnTo>
                    <a:pt x="2454" y="1639"/>
                  </a:lnTo>
                  <a:lnTo>
                    <a:pt x="2451" y="1631"/>
                  </a:lnTo>
                  <a:lnTo>
                    <a:pt x="2448" y="1622"/>
                  </a:lnTo>
                  <a:lnTo>
                    <a:pt x="2442" y="1613"/>
                  </a:lnTo>
                  <a:lnTo>
                    <a:pt x="2433" y="1608"/>
                  </a:lnTo>
                  <a:lnTo>
                    <a:pt x="2427" y="1599"/>
                  </a:lnTo>
                  <a:lnTo>
                    <a:pt x="2422" y="1590"/>
                  </a:lnTo>
                  <a:lnTo>
                    <a:pt x="2419" y="1582"/>
                  </a:lnTo>
                  <a:lnTo>
                    <a:pt x="2419" y="1573"/>
                  </a:lnTo>
                  <a:lnTo>
                    <a:pt x="2416" y="1564"/>
                  </a:lnTo>
                  <a:lnTo>
                    <a:pt x="2416" y="1556"/>
                  </a:lnTo>
                  <a:lnTo>
                    <a:pt x="2416" y="1547"/>
                  </a:lnTo>
                  <a:lnTo>
                    <a:pt x="2416" y="1538"/>
                  </a:lnTo>
                  <a:lnTo>
                    <a:pt x="2416" y="1530"/>
                  </a:lnTo>
                  <a:lnTo>
                    <a:pt x="2407" y="1521"/>
                  </a:lnTo>
                  <a:lnTo>
                    <a:pt x="2395" y="1518"/>
                  </a:lnTo>
                  <a:lnTo>
                    <a:pt x="2390" y="1510"/>
                  </a:lnTo>
                  <a:lnTo>
                    <a:pt x="2390" y="1501"/>
                  </a:lnTo>
                  <a:lnTo>
                    <a:pt x="2381" y="1498"/>
                  </a:lnTo>
                  <a:lnTo>
                    <a:pt x="2390" y="1504"/>
                  </a:lnTo>
                  <a:lnTo>
                    <a:pt x="2381" y="1510"/>
                  </a:lnTo>
                  <a:lnTo>
                    <a:pt x="2372" y="1515"/>
                  </a:lnTo>
                  <a:lnTo>
                    <a:pt x="2372" y="1524"/>
                  </a:lnTo>
                  <a:lnTo>
                    <a:pt x="2366" y="1533"/>
                  </a:lnTo>
                  <a:lnTo>
                    <a:pt x="2366" y="1541"/>
                  </a:lnTo>
                  <a:lnTo>
                    <a:pt x="2366" y="1550"/>
                  </a:lnTo>
                  <a:lnTo>
                    <a:pt x="2366" y="1559"/>
                  </a:lnTo>
                  <a:lnTo>
                    <a:pt x="2366" y="1567"/>
                  </a:lnTo>
                  <a:lnTo>
                    <a:pt x="2363" y="1576"/>
                  </a:lnTo>
                  <a:lnTo>
                    <a:pt x="2360" y="1584"/>
                  </a:lnTo>
                  <a:lnTo>
                    <a:pt x="2358" y="1593"/>
                  </a:lnTo>
                  <a:lnTo>
                    <a:pt x="2352" y="1602"/>
                  </a:lnTo>
                  <a:lnTo>
                    <a:pt x="2349" y="1610"/>
                  </a:lnTo>
                  <a:lnTo>
                    <a:pt x="2346" y="1619"/>
                  </a:lnTo>
                  <a:lnTo>
                    <a:pt x="2346" y="1628"/>
                  </a:lnTo>
                  <a:lnTo>
                    <a:pt x="2346" y="1636"/>
                  </a:lnTo>
                  <a:lnTo>
                    <a:pt x="2355" y="1639"/>
                  </a:lnTo>
                  <a:lnTo>
                    <a:pt x="2363" y="1639"/>
                  </a:lnTo>
                  <a:lnTo>
                    <a:pt x="2372" y="1636"/>
                  </a:lnTo>
                  <a:lnTo>
                    <a:pt x="2372" y="1645"/>
                  </a:lnTo>
                  <a:lnTo>
                    <a:pt x="2372" y="1654"/>
                  </a:lnTo>
                  <a:lnTo>
                    <a:pt x="2372" y="1662"/>
                  </a:lnTo>
                  <a:lnTo>
                    <a:pt x="2372" y="1671"/>
                  </a:lnTo>
                  <a:lnTo>
                    <a:pt x="2372" y="1682"/>
                  </a:lnTo>
                  <a:lnTo>
                    <a:pt x="2369" y="1691"/>
                  </a:lnTo>
                  <a:lnTo>
                    <a:pt x="2378" y="1697"/>
                  </a:lnTo>
                  <a:lnTo>
                    <a:pt x="2381" y="1706"/>
                  </a:lnTo>
                  <a:lnTo>
                    <a:pt x="2390" y="1711"/>
                  </a:lnTo>
                  <a:lnTo>
                    <a:pt x="2401" y="1714"/>
                  </a:lnTo>
                  <a:lnTo>
                    <a:pt x="2404" y="1723"/>
                  </a:lnTo>
                  <a:lnTo>
                    <a:pt x="2404" y="1731"/>
                  </a:lnTo>
                  <a:lnTo>
                    <a:pt x="2404" y="1740"/>
                  </a:lnTo>
                  <a:lnTo>
                    <a:pt x="2404" y="1749"/>
                  </a:lnTo>
                  <a:lnTo>
                    <a:pt x="2395" y="1743"/>
                  </a:lnTo>
                  <a:lnTo>
                    <a:pt x="2393" y="1734"/>
                  </a:lnTo>
                  <a:lnTo>
                    <a:pt x="2387" y="1723"/>
                  </a:lnTo>
                  <a:lnTo>
                    <a:pt x="2381" y="1714"/>
                  </a:lnTo>
                  <a:lnTo>
                    <a:pt x="2372" y="1711"/>
                  </a:lnTo>
                  <a:lnTo>
                    <a:pt x="2363" y="1708"/>
                  </a:lnTo>
                  <a:lnTo>
                    <a:pt x="2355" y="1708"/>
                  </a:lnTo>
                  <a:lnTo>
                    <a:pt x="2340" y="1706"/>
                  </a:lnTo>
                  <a:lnTo>
                    <a:pt x="2328" y="1703"/>
                  </a:lnTo>
                  <a:lnTo>
                    <a:pt x="2320" y="1697"/>
                  </a:lnTo>
                  <a:lnTo>
                    <a:pt x="2311" y="1694"/>
                  </a:lnTo>
                  <a:lnTo>
                    <a:pt x="2302" y="1691"/>
                  </a:lnTo>
                  <a:lnTo>
                    <a:pt x="2294" y="1688"/>
                  </a:lnTo>
                  <a:lnTo>
                    <a:pt x="2285" y="1685"/>
                  </a:lnTo>
                  <a:lnTo>
                    <a:pt x="2276" y="1685"/>
                  </a:lnTo>
                  <a:lnTo>
                    <a:pt x="2267" y="1685"/>
                  </a:lnTo>
                  <a:lnTo>
                    <a:pt x="2273" y="1680"/>
                  </a:lnTo>
                  <a:lnTo>
                    <a:pt x="2262" y="1671"/>
                  </a:lnTo>
                  <a:lnTo>
                    <a:pt x="2262" y="1662"/>
                  </a:lnTo>
                  <a:lnTo>
                    <a:pt x="2256" y="1671"/>
                  </a:lnTo>
                  <a:lnTo>
                    <a:pt x="2247" y="1671"/>
                  </a:lnTo>
                  <a:lnTo>
                    <a:pt x="2235" y="1671"/>
                  </a:lnTo>
                  <a:lnTo>
                    <a:pt x="2227" y="1668"/>
                  </a:lnTo>
                  <a:lnTo>
                    <a:pt x="2227" y="1659"/>
                  </a:lnTo>
                  <a:lnTo>
                    <a:pt x="2221" y="1668"/>
                  </a:lnTo>
                  <a:lnTo>
                    <a:pt x="2221" y="1677"/>
                  </a:lnTo>
                  <a:lnTo>
                    <a:pt x="2232" y="1680"/>
                  </a:lnTo>
                  <a:lnTo>
                    <a:pt x="2241" y="1682"/>
                  </a:lnTo>
                  <a:lnTo>
                    <a:pt x="2244" y="1691"/>
                  </a:lnTo>
                  <a:lnTo>
                    <a:pt x="2247" y="1700"/>
                  </a:lnTo>
                  <a:lnTo>
                    <a:pt x="2250" y="1708"/>
                  </a:lnTo>
                  <a:lnTo>
                    <a:pt x="2259" y="1711"/>
                  </a:lnTo>
                  <a:lnTo>
                    <a:pt x="2262" y="1720"/>
                  </a:lnTo>
                  <a:lnTo>
                    <a:pt x="2262" y="1729"/>
                  </a:lnTo>
                  <a:lnTo>
                    <a:pt x="2262" y="1737"/>
                  </a:lnTo>
                  <a:lnTo>
                    <a:pt x="2253" y="1743"/>
                  </a:lnTo>
                  <a:lnTo>
                    <a:pt x="2250" y="1752"/>
                  </a:lnTo>
                  <a:lnTo>
                    <a:pt x="2250" y="1760"/>
                  </a:lnTo>
                  <a:lnTo>
                    <a:pt x="2244" y="1752"/>
                  </a:lnTo>
                  <a:lnTo>
                    <a:pt x="2241" y="1743"/>
                  </a:lnTo>
                  <a:lnTo>
                    <a:pt x="2232" y="1743"/>
                  </a:lnTo>
                  <a:lnTo>
                    <a:pt x="2232" y="1734"/>
                  </a:lnTo>
                  <a:lnTo>
                    <a:pt x="2221" y="1729"/>
                  </a:lnTo>
                  <a:lnTo>
                    <a:pt x="2209" y="1731"/>
                  </a:lnTo>
                  <a:lnTo>
                    <a:pt x="2200" y="1734"/>
                  </a:lnTo>
                  <a:lnTo>
                    <a:pt x="2192" y="1737"/>
                  </a:lnTo>
                  <a:lnTo>
                    <a:pt x="2183" y="1746"/>
                  </a:lnTo>
                  <a:lnTo>
                    <a:pt x="2177" y="1755"/>
                  </a:lnTo>
                  <a:lnTo>
                    <a:pt x="2168" y="1755"/>
                  </a:lnTo>
                  <a:lnTo>
                    <a:pt x="2160" y="1760"/>
                  </a:lnTo>
                  <a:lnTo>
                    <a:pt x="2151" y="1769"/>
                  </a:lnTo>
                  <a:lnTo>
                    <a:pt x="2142" y="1772"/>
                  </a:lnTo>
                  <a:lnTo>
                    <a:pt x="2133" y="1772"/>
                  </a:lnTo>
                  <a:lnTo>
                    <a:pt x="2133" y="1763"/>
                  </a:lnTo>
                  <a:lnTo>
                    <a:pt x="2142" y="1755"/>
                  </a:lnTo>
                  <a:lnTo>
                    <a:pt x="2151" y="1752"/>
                  </a:lnTo>
                  <a:lnTo>
                    <a:pt x="2160" y="1749"/>
                  </a:lnTo>
                  <a:lnTo>
                    <a:pt x="2160" y="1737"/>
                  </a:lnTo>
                  <a:lnTo>
                    <a:pt x="2154" y="1729"/>
                  </a:lnTo>
                  <a:lnTo>
                    <a:pt x="2145" y="1729"/>
                  </a:lnTo>
                  <a:lnTo>
                    <a:pt x="2136" y="1734"/>
                  </a:lnTo>
                  <a:lnTo>
                    <a:pt x="2128" y="1740"/>
                  </a:lnTo>
                  <a:lnTo>
                    <a:pt x="2122" y="1749"/>
                  </a:lnTo>
                  <a:lnTo>
                    <a:pt x="2113" y="1755"/>
                  </a:lnTo>
                  <a:lnTo>
                    <a:pt x="2104" y="1757"/>
                  </a:lnTo>
                  <a:lnTo>
                    <a:pt x="2096" y="1763"/>
                  </a:lnTo>
                  <a:lnTo>
                    <a:pt x="2087" y="1763"/>
                  </a:lnTo>
                  <a:lnTo>
                    <a:pt x="2078" y="1766"/>
                  </a:lnTo>
                  <a:lnTo>
                    <a:pt x="2069" y="1769"/>
                  </a:lnTo>
                  <a:lnTo>
                    <a:pt x="2061" y="1772"/>
                  </a:lnTo>
                  <a:lnTo>
                    <a:pt x="2055" y="1780"/>
                  </a:lnTo>
                  <a:lnTo>
                    <a:pt x="2052" y="1789"/>
                  </a:lnTo>
                  <a:lnTo>
                    <a:pt x="2040" y="1792"/>
                  </a:lnTo>
                  <a:lnTo>
                    <a:pt x="2034" y="1801"/>
                  </a:lnTo>
                  <a:lnTo>
                    <a:pt x="2034" y="1809"/>
                  </a:lnTo>
                  <a:lnTo>
                    <a:pt x="2029" y="1818"/>
                  </a:lnTo>
                  <a:lnTo>
                    <a:pt x="2020" y="1824"/>
                  </a:lnTo>
                  <a:lnTo>
                    <a:pt x="2011" y="1827"/>
                  </a:lnTo>
                  <a:lnTo>
                    <a:pt x="2008" y="1815"/>
                  </a:lnTo>
                  <a:lnTo>
                    <a:pt x="2005" y="1806"/>
                  </a:lnTo>
                  <a:lnTo>
                    <a:pt x="2005" y="1798"/>
                  </a:lnTo>
                  <a:lnTo>
                    <a:pt x="1997" y="1789"/>
                  </a:lnTo>
                  <a:lnTo>
                    <a:pt x="1988" y="1780"/>
                  </a:lnTo>
                  <a:lnTo>
                    <a:pt x="1999" y="1780"/>
                  </a:lnTo>
                  <a:lnTo>
                    <a:pt x="2011" y="1778"/>
                  </a:lnTo>
                  <a:lnTo>
                    <a:pt x="2020" y="1775"/>
                  </a:lnTo>
                  <a:lnTo>
                    <a:pt x="2020" y="1766"/>
                  </a:lnTo>
                  <a:lnTo>
                    <a:pt x="2023" y="1757"/>
                  </a:lnTo>
                  <a:lnTo>
                    <a:pt x="2023" y="1749"/>
                  </a:lnTo>
                  <a:lnTo>
                    <a:pt x="2014" y="1743"/>
                  </a:lnTo>
                  <a:lnTo>
                    <a:pt x="2005" y="1740"/>
                  </a:lnTo>
                  <a:lnTo>
                    <a:pt x="1994" y="1740"/>
                  </a:lnTo>
                  <a:lnTo>
                    <a:pt x="1985" y="1737"/>
                  </a:lnTo>
                  <a:lnTo>
                    <a:pt x="1976" y="1731"/>
                  </a:lnTo>
                  <a:lnTo>
                    <a:pt x="1967" y="1729"/>
                  </a:lnTo>
                  <a:lnTo>
                    <a:pt x="1967" y="1737"/>
                  </a:lnTo>
                  <a:lnTo>
                    <a:pt x="1970" y="1746"/>
                  </a:lnTo>
                  <a:lnTo>
                    <a:pt x="1976" y="1755"/>
                  </a:lnTo>
                  <a:lnTo>
                    <a:pt x="1976" y="1763"/>
                  </a:lnTo>
                  <a:lnTo>
                    <a:pt x="1976" y="1772"/>
                  </a:lnTo>
                  <a:lnTo>
                    <a:pt x="1973" y="1780"/>
                  </a:lnTo>
                  <a:lnTo>
                    <a:pt x="1965" y="1789"/>
                  </a:lnTo>
                  <a:lnTo>
                    <a:pt x="1956" y="1795"/>
                  </a:lnTo>
                  <a:lnTo>
                    <a:pt x="1953" y="1803"/>
                  </a:lnTo>
                  <a:lnTo>
                    <a:pt x="1962" y="1806"/>
                  </a:lnTo>
                  <a:lnTo>
                    <a:pt x="1970" y="1806"/>
                  </a:lnTo>
                  <a:lnTo>
                    <a:pt x="1979" y="1806"/>
                  </a:lnTo>
                  <a:lnTo>
                    <a:pt x="1982" y="1815"/>
                  </a:lnTo>
                  <a:lnTo>
                    <a:pt x="1976" y="1824"/>
                  </a:lnTo>
                  <a:lnTo>
                    <a:pt x="1965" y="1832"/>
                  </a:lnTo>
                  <a:lnTo>
                    <a:pt x="1959" y="1841"/>
                  </a:lnTo>
                  <a:lnTo>
                    <a:pt x="1959" y="1850"/>
                  </a:lnTo>
                  <a:lnTo>
                    <a:pt x="1947" y="1838"/>
                  </a:lnTo>
                  <a:lnTo>
                    <a:pt x="1938" y="1835"/>
                  </a:lnTo>
                  <a:lnTo>
                    <a:pt x="1933" y="1827"/>
                  </a:lnTo>
                  <a:lnTo>
                    <a:pt x="1924" y="1821"/>
                  </a:lnTo>
                  <a:lnTo>
                    <a:pt x="1915" y="1821"/>
                  </a:lnTo>
                  <a:lnTo>
                    <a:pt x="1906" y="1829"/>
                  </a:lnTo>
                  <a:lnTo>
                    <a:pt x="1898" y="1835"/>
                  </a:lnTo>
                  <a:lnTo>
                    <a:pt x="1889" y="1838"/>
                  </a:lnTo>
                  <a:lnTo>
                    <a:pt x="1880" y="1841"/>
                  </a:lnTo>
                  <a:lnTo>
                    <a:pt x="1874" y="1850"/>
                  </a:lnTo>
                  <a:lnTo>
                    <a:pt x="1871" y="1858"/>
                  </a:lnTo>
                  <a:lnTo>
                    <a:pt x="1868" y="1867"/>
                  </a:lnTo>
                  <a:lnTo>
                    <a:pt x="1868" y="1876"/>
                  </a:lnTo>
                  <a:lnTo>
                    <a:pt x="1868" y="1884"/>
                  </a:lnTo>
                  <a:lnTo>
                    <a:pt x="1868" y="1893"/>
                  </a:lnTo>
                  <a:lnTo>
                    <a:pt x="1868" y="1901"/>
                  </a:lnTo>
                  <a:lnTo>
                    <a:pt x="1860" y="1907"/>
                  </a:lnTo>
                  <a:lnTo>
                    <a:pt x="1848" y="1901"/>
                  </a:lnTo>
                  <a:lnTo>
                    <a:pt x="1845" y="1893"/>
                  </a:lnTo>
                  <a:lnTo>
                    <a:pt x="1839" y="1884"/>
                  </a:lnTo>
                  <a:lnTo>
                    <a:pt x="1831" y="1876"/>
                  </a:lnTo>
                  <a:lnTo>
                    <a:pt x="1822" y="1870"/>
                  </a:lnTo>
                  <a:lnTo>
                    <a:pt x="1813" y="1867"/>
                  </a:lnTo>
                  <a:lnTo>
                    <a:pt x="1804" y="1867"/>
                  </a:lnTo>
                  <a:lnTo>
                    <a:pt x="1799" y="1876"/>
                  </a:lnTo>
                  <a:lnTo>
                    <a:pt x="1796" y="1884"/>
                  </a:lnTo>
                  <a:lnTo>
                    <a:pt x="1796" y="1893"/>
                  </a:lnTo>
                  <a:lnTo>
                    <a:pt x="1804" y="1899"/>
                  </a:lnTo>
                  <a:lnTo>
                    <a:pt x="1816" y="1901"/>
                  </a:lnTo>
                  <a:lnTo>
                    <a:pt x="1819" y="1910"/>
                  </a:lnTo>
                  <a:lnTo>
                    <a:pt x="1807" y="1910"/>
                  </a:lnTo>
                  <a:lnTo>
                    <a:pt x="1819" y="1893"/>
                  </a:lnTo>
                  <a:lnTo>
                    <a:pt x="1810" y="1896"/>
                  </a:lnTo>
                  <a:lnTo>
                    <a:pt x="1822" y="1899"/>
                  </a:lnTo>
                  <a:lnTo>
                    <a:pt x="1822" y="1910"/>
                  </a:lnTo>
                  <a:lnTo>
                    <a:pt x="1822" y="1919"/>
                  </a:lnTo>
                  <a:lnTo>
                    <a:pt x="1816" y="1927"/>
                  </a:lnTo>
                  <a:lnTo>
                    <a:pt x="1802" y="1927"/>
                  </a:lnTo>
                  <a:lnTo>
                    <a:pt x="1793" y="1922"/>
                  </a:lnTo>
                  <a:lnTo>
                    <a:pt x="1790" y="1913"/>
                  </a:lnTo>
                  <a:lnTo>
                    <a:pt x="1790" y="1904"/>
                  </a:lnTo>
                  <a:lnTo>
                    <a:pt x="1784" y="1896"/>
                  </a:lnTo>
                  <a:lnTo>
                    <a:pt x="1778" y="1887"/>
                  </a:lnTo>
                  <a:lnTo>
                    <a:pt x="1770" y="1878"/>
                  </a:lnTo>
                  <a:lnTo>
                    <a:pt x="1767" y="1870"/>
                  </a:lnTo>
                  <a:lnTo>
                    <a:pt x="1764" y="1861"/>
                  </a:lnTo>
                  <a:lnTo>
                    <a:pt x="1764" y="1850"/>
                  </a:lnTo>
                  <a:lnTo>
                    <a:pt x="1764" y="1841"/>
                  </a:lnTo>
                  <a:lnTo>
                    <a:pt x="1764" y="1832"/>
                  </a:lnTo>
                  <a:lnTo>
                    <a:pt x="1772" y="1827"/>
                  </a:lnTo>
                  <a:lnTo>
                    <a:pt x="1778" y="1818"/>
                  </a:lnTo>
                  <a:lnTo>
                    <a:pt x="1778" y="1809"/>
                  </a:lnTo>
                  <a:lnTo>
                    <a:pt x="1778" y="1801"/>
                  </a:lnTo>
                  <a:lnTo>
                    <a:pt x="1778" y="1792"/>
                  </a:lnTo>
                  <a:lnTo>
                    <a:pt x="1770" y="1783"/>
                  </a:lnTo>
                  <a:lnTo>
                    <a:pt x="1761" y="1778"/>
                  </a:lnTo>
                  <a:lnTo>
                    <a:pt x="1752" y="1772"/>
                  </a:lnTo>
                  <a:lnTo>
                    <a:pt x="1752" y="1763"/>
                  </a:lnTo>
                  <a:lnTo>
                    <a:pt x="1752" y="1752"/>
                  </a:lnTo>
                  <a:lnTo>
                    <a:pt x="1752" y="1743"/>
                  </a:lnTo>
                  <a:lnTo>
                    <a:pt x="1764" y="1749"/>
                  </a:lnTo>
                  <a:lnTo>
                    <a:pt x="1772" y="1757"/>
                  </a:lnTo>
                  <a:lnTo>
                    <a:pt x="1781" y="1763"/>
                  </a:lnTo>
                  <a:lnTo>
                    <a:pt x="1781" y="1772"/>
                  </a:lnTo>
                  <a:lnTo>
                    <a:pt x="1787" y="1783"/>
                  </a:lnTo>
                  <a:lnTo>
                    <a:pt x="1796" y="1789"/>
                  </a:lnTo>
                  <a:lnTo>
                    <a:pt x="1804" y="1795"/>
                  </a:lnTo>
                  <a:lnTo>
                    <a:pt x="1816" y="1801"/>
                  </a:lnTo>
                  <a:lnTo>
                    <a:pt x="1822" y="1809"/>
                  </a:lnTo>
                  <a:lnTo>
                    <a:pt x="1831" y="1815"/>
                  </a:lnTo>
                  <a:lnTo>
                    <a:pt x="1836" y="1824"/>
                  </a:lnTo>
                  <a:lnTo>
                    <a:pt x="1845" y="1829"/>
                  </a:lnTo>
                  <a:lnTo>
                    <a:pt x="1854" y="1835"/>
                  </a:lnTo>
                  <a:lnTo>
                    <a:pt x="1866" y="1835"/>
                  </a:lnTo>
                  <a:lnTo>
                    <a:pt x="1874" y="1835"/>
                  </a:lnTo>
                  <a:lnTo>
                    <a:pt x="1883" y="1835"/>
                  </a:lnTo>
                  <a:lnTo>
                    <a:pt x="1892" y="1829"/>
                  </a:lnTo>
                  <a:lnTo>
                    <a:pt x="1901" y="1827"/>
                  </a:lnTo>
                  <a:lnTo>
                    <a:pt x="1909" y="1818"/>
                  </a:lnTo>
                  <a:lnTo>
                    <a:pt x="1909" y="1809"/>
                  </a:lnTo>
                  <a:lnTo>
                    <a:pt x="1909" y="1801"/>
                  </a:lnTo>
                  <a:lnTo>
                    <a:pt x="1909" y="1792"/>
                  </a:lnTo>
                  <a:lnTo>
                    <a:pt x="1915" y="1783"/>
                  </a:lnTo>
                  <a:lnTo>
                    <a:pt x="1918" y="1775"/>
                  </a:lnTo>
                  <a:lnTo>
                    <a:pt x="1918" y="1766"/>
                  </a:lnTo>
                  <a:lnTo>
                    <a:pt x="1915" y="1757"/>
                  </a:lnTo>
                  <a:lnTo>
                    <a:pt x="1909" y="1749"/>
                  </a:lnTo>
                  <a:lnTo>
                    <a:pt x="1901" y="1740"/>
                  </a:lnTo>
                  <a:lnTo>
                    <a:pt x="1895" y="1731"/>
                  </a:lnTo>
                  <a:lnTo>
                    <a:pt x="1892" y="1720"/>
                  </a:lnTo>
                  <a:lnTo>
                    <a:pt x="1889" y="1711"/>
                  </a:lnTo>
                  <a:lnTo>
                    <a:pt x="1880" y="1706"/>
                  </a:lnTo>
                  <a:lnTo>
                    <a:pt x="1871" y="1697"/>
                  </a:lnTo>
                  <a:lnTo>
                    <a:pt x="1866" y="1688"/>
                  </a:lnTo>
                  <a:lnTo>
                    <a:pt x="1860" y="1680"/>
                  </a:lnTo>
                  <a:lnTo>
                    <a:pt x="1851" y="1671"/>
                  </a:lnTo>
                  <a:lnTo>
                    <a:pt x="1842" y="1665"/>
                  </a:lnTo>
                  <a:lnTo>
                    <a:pt x="1831" y="1662"/>
                  </a:lnTo>
                  <a:lnTo>
                    <a:pt x="1819" y="1657"/>
                  </a:lnTo>
                  <a:lnTo>
                    <a:pt x="1813" y="1648"/>
                  </a:lnTo>
                  <a:lnTo>
                    <a:pt x="1810" y="1639"/>
                  </a:lnTo>
                  <a:lnTo>
                    <a:pt x="1807" y="1631"/>
                  </a:lnTo>
                  <a:lnTo>
                    <a:pt x="1799" y="1622"/>
                  </a:lnTo>
                  <a:lnTo>
                    <a:pt x="1793" y="1613"/>
                  </a:lnTo>
                  <a:lnTo>
                    <a:pt x="1784" y="1613"/>
                  </a:lnTo>
                  <a:lnTo>
                    <a:pt x="1772" y="1613"/>
                  </a:lnTo>
                  <a:lnTo>
                    <a:pt x="1764" y="1608"/>
                  </a:lnTo>
                  <a:lnTo>
                    <a:pt x="1761" y="1599"/>
                  </a:lnTo>
                  <a:lnTo>
                    <a:pt x="1772" y="1596"/>
                  </a:lnTo>
                  <a:lnTo>
                    <a:pt x="1781" y="1596"/>
                  </a:lnTo>
                  <a:lnTo>
                    <a:pt x="1787" y="1587"/>
                  </a:lnTo>
                  <a:lnTo>
                    <a:pt x="1778" y="1579"/>
                  </a:lnTo>
                  <a:lnTo>
                    <a:pt x="1770" y="1576"/>
                  </a:lnTo>
                  <a:lnTo>
                    <a:pt x="1761" y="1573"/>
                  </a:lnTo>
                  <a:lnTo>
                    <a:pt x="1758" y="1564"/>
                  </a:lnTo>
                  <a:lnTo>
                    <a:pt x="1758" y="1556"/>
                  </a:lnTo>
                  <a:lnTo>
                    <a:pt x="1758" y="1547"/>
                  </a:lnTo>
                  <a:lnTo>
                    <a:pt x="1749" y="1547"/>
                  </a:lnTo>
                  <a:lnTo>
                    <a:pt x="1737" y="1553"/>
                  </a:lnTo>
                  <a:lnTo>
                    <a:pt x="1729" y="1553"/>
                  </a:lnTo>
                  <a:lnTo>
                    <a:pt x="1720" y="1556"/>
                  </a:lnTo>
                  <a:lnTo>
                    <a:pt x="1720" y="1547"/>
                  </a:lnTo>
                  <a:lnTo>
                    <a:pt x="1723" y="1538"/>
                  </a:lnTo>
                  <a:lnTo>
                    <a:pt x="1726" y="1550"/>
                  </a:lnTo>
                  <a:lnTo>
                    <a:pt x="1723" y="1559"/>
                  </a:lnTo>
                  <a:lnTo>
                    <a:pt x="1723" y="1567"/>
                  </a:lnTo>
                  <a:lnTo>
                    <a:pt x="1732" y="1567"/>
                  </a:lnTo>
                  <a:lnTo>
                    <a:pt x="1740" y="1556"/>
                  </a:lnTo>
                  <a:lnTo>
                    <a:pt x="1726" y="1553"/>
                  </a:lnTo>
                  <a:lnTo>
                    <a:pt x="1717" y="1553"/>
                  </a:lnTo>
                  <a:lnTo>
                    <a:pt x="1705" y="1553"/>
                  </a:lnTo>
                  <a:lnTo>
                    <a:pt x="1705" y="1541"/>
                  </a:lnTo>
                  <a:lnTo>
                    <a:pt x="1711" y="1533"/>
                  </a:lnTo>
                  <a:lnTo>
                    <a:pt x="1700" y="1535"/>
                  </a:lnTo>
                  <a:lnTo>
                    <a:pt x="1691" y="1541"/>
                  </a:lnTo>
                  <a:lnTo>
                    <a:pt x="1679" y="1544"/>
                  </a:lnTo>
                  <a:lnTo>
                    <a:pt x="1685" y="1533"/>
                  </a:lnTo>
                  <a:lnTo>
                    <a:pt x="1685" y="1524"/>
                  </a:lnTo>
                  <a:lnTo>
                    <a:pt x="1676" y="1524"/>
                  </a:lnTo>
                  <a:lnTo>
                    <a:pt x="1668" y="1533"/>
                  </a:lnTo>
                  <a:lnTo>
                    <a:pt x="1662" y="1541"/>
                  </a:lnTo>
                  <a:lnTo>
                    <a:pt x="1653" y="1544"/>
                  </a:lnTo>
                  <a:lnTo>
                    <a:pt x="1653" y="1535"/>
                  </a:lnTo>
                  <a:lnTo>
                    <a:pt x="1644" y="1541"/>
                  </a:lnTo>
                  <a:lnTo>
                    <a:pt x="1641" y="1550"/>
                  </a:lnTo>
                  <a:lnTo>
                    <a:pt x="1633" y="1547"/>
                  </a:lnTo>
                  <a:lnTo>
                    <a:pt x="1633" y="1538"/>
                  </a:lnTo>
                  <a:lnTo>
                    <a:pt x="1624" y="1538"/>
                  </a:lnTo>
                  <a:lnTo>
                    <a:pt x="1615" y="1541"/>
                  </a:lnTo>
                  <a:lnTo>
                    <a:pt x="1609" y="1550"/>
                  </a:lnTo>
                  <a:lnTo>
                    <a:pt x="1601" y="1541"/>
                  </a:lnTo>
                  <a:lnTo>
                    <a:pt x="1598" y="1533"/>
                  </a:lnTo>
                  <a:lnTo>
                    <a:pt x="1589" y="1535"/>
                  </a:lnTo>
                  <a:lnTo>
                    <a:pt x="1580" y="1541"/>
                  </a:lnTo>
                  <a:lnTo>
                    <a:pt x="1569" y="1538"/>
                  </a:lnTo>
                  <a:lnTo>
                    <a:pt x="1563" y="1547"/>
                  </a:lnTo>
                  <a:lnTo>
                    <a:pt x="1557" y="1559"/>
                  </a:lnTo>
                  <a:lnTo>
                    <a:pt x="1554" y="1567"/>
                  </a:lnTo>
                  <a:lnTo>
                    <a:pt x="1548" y="1576"/>
                  </a:lnTo>
                  <a:lnTo>
                    <a:pt x="1540" y="1576"/>
                  </a:lnTo>
                  <a:lnTo>
                    <a:pt x="1531" y="1576"/>
                  </a:lnTo>
                  <a:lnTo>
                    <a:pt x="1525" y="1564"/>
                  </a:lnTo>
                  <a:lnTo>
                    <a:pt x="1525" y="1556"/>
                  </a:lnTo>
                  <a:lnTo>
                    <a:pt x="1525" y="1547"/>
                  </a:lnTo>
                  <a:lnTo>
                    <a:pt x="1516" y="1544"/>
                  </a:lnTo>
                  <a:lnTo>
                    <a:pt x="1513" y="1553"/>
                  </a:lnTo>
                  <a:lnTo>
                    <a:pt x="1528" y="1541"/>
                  </a:lnTo>
                  <a:lnTo>
                    <a:pt x="1510" y="1530"/>
                  </a:lnTo>
                  <a:lnTo>
                    <a:pt x="1502" y="1530"/>
                  </a:lnTo>
                  <a:lnTo>
                    <a:pt x="1493" y="1538"/>
                  </a:lnTo>
                  <a:lnTo>
                    <a:pt x="1484" y="1544"/>
                  </a:lnTo>
                  <a:lnTo>
                    <a:pt x="1481" y="1553"/>
                  </a:lnTo>
                  <a:lnTo>
                    <a:pt x="1481" y="1561"/>
                  </a:lnTo>
                  <a:lnTo>
                    <a:pt x="1487" y="1570"/>
                  </a:lnTo>
                  <a:lnTo>
                    <a:pt x="1487" y="1579"/>
                  </a:lnTo>
                  <a:lnTo>
                    <a:pt x="1478" y="1587"/>
                  </a:lnTo>
                  <a:lnTo>
                    <a:pt x="1470" y="1590"/>
                  </a:lnTo>
                  <a:lnTo>
                    <a:pt x="1461" y="1599"/>
                  </a:lnTo>
                  <a:lnTo>
                    <a:pt x="1443" y="1599"/>
                  </a:lnTo>
                  <a:lnTo>
                    <a:pt x="1432" y="1599"/>
                  </a:lnTo>
                  <a:lnTo>
                    <a:pt x="1426" y="1610"/>
                  </a:lnTo>
                  <a:lnTo>
                    <a:pt x="1420" y="1619"/>
                  </a:lnTo>
                  <a:lnTo>
                    <a:pt x="1429" y="1619"/>
                  </a:lnTo>
                  <a:lnTo>
                    <a:pt x="1417" y="1628"/>
                  </a:lnTo>
                  <a:lnTo>
                    <a:pt x="1406" y="1628"/>
                  </a:lnTo>
                  <a:lnTo>
                    <a:pt x="1397" y="1628"/>
                  </a:lnTo>
                  <a:lnTo>
                    <a:pt x="1388" y="1628"/>
                  </a:lnTo>
                  <a:lnTo>
                    <a:pt x="1382" y="1636"/>
                  </a:lnTo>
                  <a:lnTo>
                    <a:pt x="1379" y="1645"/>
                  </a:lnTo>
                  <a:lnTo>
                    <a:pt x="1371" y="1645"/>
                  </a:lnTo>
                  <a:lnTo>
                    <a:pt x="1362" y="1645"/>
                  </a:lnTo>
                  <a:lnTo>
                    <a:pt x="1356" y="1654"/>
                  </a:lnTo>
                  <a:lnTo>
                    <a:pt x="1347" y="1657"/>
                  </a:lnTo>
                  <a:lnTo>
                    <a:pt x="1336" y="1659"/>
                  </a:lnTo>
                  <a:lnTo>
                    <a:pt x="1327" y="1659"/>
                  </a:lnTo>
                  <a:lnTo>
                    <a:pt x="1318" y="1662"/>
                  </a:lnTo>
                  <a:lnTo>
                    <a:pt x="1310" y="1662"/>
                  </a:lnTo>
                  <a:lnTo>
                    <a:pt x="1298" y="1662"/>
                  </a:lnTo>
                  <a:lnTo>
                    <a:pt x="1289" y="1665"/>
                  </a:lnTo>
                  <a:lnTo>
                    <a:pt x="1280" y="1671"/>
                  </a:lnTo>
                  <a:lnTo>
                    <a:pt x="1278" y="1680"/>
                  </a:lnTo>
                  <a:lnTo>
                    <a:pt x="1280" y="1691"/>
                  </a:lnTo>
                  <a:lnTo>
                    <a:pt x="1289" y="1694"/>
                  </a:lnTo>
                  <a:lnTo>
                    <a:pt x="1301" y="1697"/>
                  </a:lnTo>
                  <a:lnTo>
                    <a:pt x="1312" y="1697"/>
                  </a:lnTo>
                  <a:lnTo>
                    <a:pt x="1321" y="1697"/>
                  </a:lnTo>
                  <a:lnTo>
                    <a:pt x="1310" y="1694"/>
                  </a:lnTo>
                  <a:lnTo>
                    <a:pt x="1298" y="1694"/>
                  </a:lnTo>
                  <a:lnTo>
                    <a:pt x="1289" y="1691"/>
                  </a:lnTo>
                  <a:lnTo>
                    <a:pt x="1304" y="1685"/>
                  </a:lnTo>
                  <a:lnTo>
                    <a:pt x="1312" y="1685"/>
                  </a:lnTo>
                  <a:lnTo>
                    <a:pt x="1321" y="1685"/>
                  </a:lnTo>
                  <a:lnTo>
                    <a:pt x="1312" y="1682"/>
                  </a:lnTo>
                  <a:lnTo>
                    <a:pt x="1301" y="1685"/>
                  </a:lnTo>
                  <a:lnTo>
                    <a:pt x="1292" y="1685"/>
                  </a:lnTo>
                  <a:lnTo>
                    <a:pt x="1286" y="1677"/>
                  </a:lnTo>
                  <a:lnTo>
                    <a:pt x="1275" y="1668"/>
                  </a:lnTo>
                  <a:lnTo>
                    <a:pt x="1266" y="1665"/>
                  </a:lnTo>
                  <a:lnTo>
                    <a:pt x="1248" y="1659"/>
                  </a:lnTo>
                  <a:lnTo>
                    <a:pt x="1240" y="1659"/>
                  </a:lnTo>
                  <a:lnTo>
                    <a:pt x="1234" y="1668"/>
                  </a:lnTo>
                  <a:lnTo>
                    <a:pt x="1225" y="1671"/>
                  </a:lnTo>
                  <a:lnTo>
                    <a:pt x="1216" y="1674"/>
                  </a:lnTo>
                  <a:lnTo>
                    <a:pt x="1208" y="1674"/>
                  </a:lnTo>
                  <a:lnTo>
                    <a:pt x="1199" y="1671"/>
                  </a:lnTo>
                  <a:lnTo>
                    <a:pt x="1190" y="1674"/>
                  </a:lnTo>
                  <a:lnTo>
                    <a:pt x="1176" y="1671"/>
                  </a:lnTo>
                  <a:lnTo>
                    <a:pt x="1167" y="1668"/>
                  </a:lnTo>
                  <a:lnTo>
                    <a:pt x="1161" y="1677"/>
                  </a:lnTo>
                  <a:lnTo>
                    <a:pt x="1152" y="1682"/>
                  </a:lnTo>
                  <a:lnTo>
                    <a:pt x="1144" y="1682"/>
                  </a:lnTo>
                  <a:lnTo>
                    <a:pt x="1132" y="1682"/>
                  </a:lnTo>
                  <a:lnTo>
                    <a:pt x="1132" y="1691"/>
                  </a:lnTo>
                  <a:lnTo>
                    <a:pt x="1132" y="1700"/>
                  </a:lnTo>
                  <a:lnTo>
                    <a:pt x="1147" y="1708"/>
                  </a:lnTo>
                  <a:lnTo>
                    <a:pt x="1155" y="1720"/>
                  </a:lnTo>
                  <a:lnTo>
                    <a:pt x="1158" y="1729"/>
                  </a:lnTo>
                  <a:lnTo>
                    <a:pt x="1158" y="1737"/>
                  </a:lnTo>
                  <a:lnTo>
                    <a:pt x="1161" y="1746"/>
                  </a:lnTo>
                  <a:lnTo>
                    <a:pt x="1161" y="1737"/>
                  </a:lnTo>
                  <a:lnTo>
                    <a:pt x="1155" y="1726"/>
                  </a:lnTo>
                  <a:lnTo>
                    <a:pt x="1152" y="1717"/>
                  </a:lnTo>
                  <a:lnTo>
                    <a:pt x="1138" y="1717"/>
                  </a:lnTo>
                  <a:lnTo>
                    <a:pt x="1129" y="1711"/>
                  </a:lnTo>
                  <a:lnTo>
                    <a:pt x="1120" y="1711"/>
                  </a:lnTo>
                  <a:lnTo>
                    <a:pt x="1117" y="1720"/>
                  </a:lnTo>
                  <a:lnTo>
                    <a:pt x="1114" y="1731"/>
                  </a:lnTo>
                  <a:lnTo>
                    <a:pt x="1114" y="1740"/>
                  </a:lnTo>
                  <a:lnTo>
                    <a:pt x="1126" y="1740"/>
                  </a:lnTo>
                  <a:lnTo>
                    <a:pt x="1138" y="1743"/>
                  </a:lnTo>
                  <a:lnTo>
                    <a:pt x="1129" y="1743"/>
                  </a:lnTo>
                  <a:lnTo>
                    <a:pt x="1120" y="1743"/>
                  </a:lnTo>
                  <a:lnTo>
                    <a:pt x="1112" y="1746"/>
                  </a:lnTo>
                  <a:lnTo>
                    <a:pt x="1103" y="1752"/>
                  </a:lnTo>
                  <a:lnTo>
                    <a:pt x="1094" y="1755"/>
                  </a:lnTo>
                  <a:lnTo>
                    <a:pt x="1085" y="1763"/>
                  </a:lnTo>
                  <a:lnTo>
                    <a:pt x="1077" y="1766"/>
                  </a:lnTo>
                  <a:lnTo>
                    <a:pt x="1068" y="1766"/>
                  </a:lnTo>
                  <a:lnTo>
                    <a:pt x="1077" y="1772"/>
                  </a:lnTo>
                  <a:lnTo>
                    <a:pt x="1085" y="1772"/>
                  </a:lnTo>
                  <a:lnTo>
                    <a:pt x="1097" y="1775"/>
                  </a:lnTo>
                  <a:lnTo>
                    <a:pt x="1091" y="1783"/>
                  </a:lnTo>
                  <a:lnTo>
                    <a:pt x="1080" y="1786"/>
                  </a:lnTo>
                  <a:lnTo>
                    <a:pt x="1071" y="1786"/>
                  </a:lnTo>
                  <a:lnTo>
                    <a:pt x="1062" y="1789"/>
                  </a:lnTo>
                  <a:lnTo>
                    <a:pt x="1056" y="1798"/>
                  </a:lnTo>
                  <a:lnTo>
                    <a:pt x="1056" y="1806"/>
                  </a:lnTo>
                  <a:lnTo>
                    <a:pt x="1056" y="1815"/>
                  </a:lnTo>
                  <a:lnTo>
                    <a:pt x="1056" y="1824"/>
                  </a:lnTo>
                  <a:lnTo>
                    <a:pt x="1056" y="1832"/>
                  </a:lnTo>
                  <a:lnTo>
                    <a:pt x="1056" y="1841"/>
                  </a:lnTo>
                  <a:lnTo>
                    <a:pt x="1062" y="1850"/>
                  </a:lnTo>
                  <a:lnTo>
                    <a:pt x="1074" y="1855"/>
                  </a:lnTo>
                  <a:lnTo>
                    <a:pt x="1082" y="1855"/>
                  </a:lnTo>
                  <a:lnTo>
                    <a:pt x="1091" y="1855"/>
                  </a:lnTo>
                  <a:lnTo>
                    <a:pt x="1103" y="1855"/>
                  </a:lnTo>
                  <a:lnTo>
                    <a:pt x="1112" y="1855"/>
                  </a:lnTo>
                  <a:lnTo>
                    <a:pt x="1120" y="1855"/>
                  </a:lnTo>
                  <a:lnTo>
                    <a:pt x="1132" y="1855"/>
                  </a:lnTo>
                  <a:lnTo>
                    <a:pt x="1144" y="1855"/>
                  </a:lnTo>
                  <a:lnTo>
                    <a:pt x="1152" y="1852"/>
                  </a:lnTo>
                  <a:lnTo>
                    <a:pt x="1167" y="1852"/>
                  </a:lnTo>
                  <a:lnTo>
                    <a:pt x="1176" y="1844"/>
                  </a:lnTo>
                  <a:lnTo>
                    <a:pt x="1179" y="1835"/>
                  </a:lnTo>
                  <a:lnTo>
                    <a:pt x="1181" y="1827"/>
                  </a:lnTo>
                  <a:lnTo>
                    <a:pt x="1184" y="1835"/>
                  </a:lnTo>
                  <a:lnTo>
                    <a:pt x="1184" y="1844"/>
                  </a:lnTo>
                  <a:lnTo>
                    <a:pt x="1181" y="1852"/>
                  </a:lnTo>
                  <a:lnTo>
                    <a:pt x="1170" y="1858"/>
                  </a:lnTo>
                  <a:lnTo>
                    <a:pt x="1173" y="1867"/>
                  </a:lnTo>
                  <a:lnTo>
                    <a:pt x="1170" y="1876"/>
                  </a:lnTo>
                  <a:lnTo>
                    <a:pt x="1164" y="1884"/>
                  </a:lnTo>
                  <a:lnTo>
                    <a:pt x="1161" y="1893"/>
                  </a:lnTo>
                  <a:lnTo>
                    <a:pt x="1161" y="1901"/>
                  </a:lnTo>
                  <a:lnTo>
                    <a:pt x="1158" y="1910"/>
                  </a:lnTo>
                  <a:lnTo>
                    <a:pt x="1149" y="1913"/>
                  </a:lnTo>
                  <a:lnTo>
                    <a:pt x="1147" y="1922"/>
                  </a:lnTo>
                  <a:lnTo>
                    <a:pt x="1147" y="1930"/>
                  </a:lnTo>
                  <a:lnTo>
                    <a:pt x="1144" y="1939"/>
                  </a:lnTo>
                  <a:lnTo>
                    <a:pt x="1144" y="1948"/>
                  </a:lnTo>
                  <a:lnTo>
                    <a:pt x="1141" y="1956"/>
                  </a:lnTo>
                  <a:lnTo>
                    <a:pt x="1141" y="1968"/>
                  </a:lnTo>
                  <a:lnTo>
                    <a:pt x="1141" y="1976"/>
                  </a:lnTo>
                  <a:lnTo>
                    <a:pt x="1155" y="1956"/>
                  </a:lnTo>
                  <a:lnTo>
                    <a:pt x="1144" y="1956"/>
                  </a:lnTo>
                  <a:lnTo>
                    <a:pt x="1144" y="1965"/>
                  </a:lnTo>
                  <a:lnTo>
                    <a:pt x="1144" y="1974"/>
                  </a:lnTo>
                  <a:lnTo>
                    <a:pt x="1144" y="1982"/>
                  </a:lnTo>
                  <a:lnTo>
                    <a:pt x="1138" y="1991"/>
                  </a:lnTo>
                  <a:lnTo>
                    <a:pt x="1129" y="1997"/>
                  </a:lnTo>
                  <a:lnTo>
                    <a:pt x="1120" y="1997"/>
                  </a:lnTo>
                  <a:lnTo>
                    <a:pt x="1117" y="2005"/>
                  </a:lnTo>
                  <a:lnTo>
                    <a:pt x="1117" y="2014"/>
                  </a:lnTo>
                  <a:lnTo>
                    <a:pt x="1117" y="2023"/>
                  </a:lnTo>
                  <a:lnTo>
                    <a:pt x="1117" y="2031"/>
                  </a:lnTo>
                  <a:lnTo>
                    <a:pt x="1120" y="2040"/>
                  </a:lnTo>
                  <a:lnTo>
                    <a:pt x="1129" y="2046"/>
                  </a:lnTo>
                  <a:lnTo>
                    <a:pt x="1144" y="2054"/>
                  </a:lnTo>
                  <a:lnTo>
                    <a:pt x="1152" y="2054"/>
                  </a:lnTo>
                  <a:lnTo>
                    <a:pt x="1158" y="2046"/>
                  </a:lnTo>
                  <a:lnTo>
                    <a:pt x="1158" y="2037"/>
                  </a:lnTo>
                  <a:lnTo>
                    <a:pt x="1170" y="2037"/>
                  </a:lnTo>
                  <a:lnTo>
                    <a:pt x="1179" y="2037"/>
                  </a:lnTo>
                  <a:lnTo>
                    <a:pt x="1187" y="2037"/>
                  </a:lnTo>
                  <a:lnTo>
                    <a:pt x="1199" y="2037"/>
                  </a:lnTo>
                  <a:lnTo>
                    <a:pt x="1208" y="2040"/>
                  </a:lnTo>
                  <a:lnTo>
                    <a:pt x="1216" y="2043"/>
                  </a:lnTo>
                  <a:lnTo>
                    <a:pt x="1225" y="2040"/>
                  </a:lnTo>
                  <a:lnTo>
                    <a:pt x="1228" y="2031"/>
                  </a:lnTo>
                  <a:lnTo>
                    <a:pt x="1231" y="2023"/>
                  </a:lnTo>
                  <a:lnTo>
                    <a:pt x="1237" y="2014"/>
                  </a:lnTo>
                  <a:lnTo>
                    <a:pt x="1245" y="2005"/>
                  </a:lnTo>
                  <a:lnTo>
                    <a:pt x="1251" y="1997"/>
                  </a:lnTo>
                  <a:lnTo>
                    <a:pt x="1260" y="1991"/>
                  </a:lnTo>
                  <a:lnTo>
                    <a:pt x="1266" y="1982"/>
                  </a:lnTo>
                  <a:lnTo>
                    <a:pt x="1269" y="1974"/>
                  </a:lnTo>
                  <a:lnTo>
                    <a:pt x="1272" y="1965"/>
                  </a:lnTo>
                  <a:lnTo>
                    <a:pt x="1280" y="1962"/>
                  </a:lnTo>
                  <a:lnTo>
                    <a:pt x="1289" y="1962"/>
                  </a:lnTo>
                  <a:lnTo>
                    <a:pt x="1298" y="1959"/>
                  </a:lnTo>
                  <a:lnTo>
                    <a:pt x="1301" y="1950"/>
                  </a:lnTo>
                  <a:lnTo>
                    <a:pt x="1304" y="1942"/>
                  </a:lnTo>
                  <a:lnTo>
                    <a:pt x="1301" y="1933"/>
                  </a:lnTo>
                  <a:lnTo>
                    <a:pt x="1292" y="1925"/>
                  </a:lnTo>
                  <a:lnTo>
                    <a:pt x="1301" y="1919"/>
                  </a:lnTo>
                  <a:lnTo>
                    <a:pt x="1310" y="1927"/>
                  </a:lnTo>
                  <a:lnTo>
                    <a:pt x="1318" y="1933"/>
                  </a:lnTo>
                  <a:lnTo>
                    <a:pt x="1324" y="1942"/>
                  </a:lnTo>
                  <a:lnTo>
                    <a:pt x="1333" y="1950"/>
                  </a:lnTo>
                  <a:lnTo>
                    <a:pt x="1342" y="1950"/>
                  </a:lnTo>
                  <a:lnTo>
                    <a:pt x="1350" y="1950"/>
                  </a:lnTo>
                  <a:lnTo>
                    <a:pt x="1353" y="1942"/>
                  </a:lnTo>
                  <a:lnTo>
                    <a:pt x="1353" y="1933"/>
                  </a:lnTo>
                  <a:lnTo>
                    <a:pt x="1356" y="1925"/>
                  </a:lnTo>
                  <a:lnTo>
                    <a:pt x="1356" y="1916"/>
                  </a:lnTo>
                  <a:lnTo>
                    <a:pt x="1359" y="1907"/>
                  </a:lnTo>
                  <a:lnTo>
                    <a:pt x="1359" y="1899"/>
                  </a:lnTo>
                  <a:lnTo>
                    <a:pt x="1356" y="1890"/>
                  </a:lnTo>
                  <a:lnTo>
                    <a:pt x="1347" y="1881"/>
                  </a:lnTo>
                  <a:lnTo>
                    <a:pt x="1347" y="1870"/>
                  </a:lnTo>
                  <a:lnTo>
                    <a:pt x="1347" y="1861"/>
                  </a:lnTo>
                  <a:lnTo>
                    <a:pt x="1356" y="1855"/>
                  </a:lnTo>
                  <a:lnTo>
                    <a:pt x="1362" y="1847"/>
                  </a:lnTo>
                  <a:lnTo>
                    <a:pt x="1371" y="1844"/>
                  </a:lnTo>
                  <a:lnTo>
                    <a:pt x="1379" y="1835"/>
                  </a:lnTo>
                  <a:lnTo>
                    <a:pt x="1382" y="1827"/>
                  </a:lnTo>
                  <a:lnTo>
                    <a:pt x="1391" y="1821"/>
                  </a:lnTo>
                  <a:lnTo>
                    <a:pt x="1400" y="1815"/>
                  </a:lnTo>
                  <a:lnTo>
                    <a:pt x="1406" y="1806"/>
                  </a:lnTo>
                  <a:lnTo>
                    <a:pt x="1414" y="1801"/>
                  </a:lnTo>
                  <a:lnTo>
                    <a:pt x="1423" y="1801"/>
                  </a:lnTo>
                  <a:lnTo>
                    <a:pt x="1435" y="1798"/>
                  </a:lnTo>
                  <a:lnTo>
                    <a:pt x="1443" y="1792"/>
                  </a:lnTo>
                  <a:lnTo>
                    <a:pt x="1452" y="1792"/>
                  </a:lnTo>
                  <a:lnTo>
                    <a:pt x="1464" y="1789"/>
                  </a:lnTo>
                  <a:lnTo>
                    <a:pt x="1473" y="1789"/>
                  </a:lnTo>
                  <a:lnTo>
                    <a:pt x="1481" y="1789"/>
                  </a:lnTo>
                  <a:lnTo>
                    <a:pt x="1490" y="1786"/>
                  </a:lnTo>
                  <a:lnTo>
                    <a:pt x="1499" y="1786"/>
                  </a:lnTo>
                  <a:lnTo>
                    <a:pt x="1508" y="1786"/>
                  </a:lnTo>
                  <a:lnTo>
                    <a:pt x="1516" y="1783"/>
                  </a:lnTo>
                  <a:lnTo>
                    <a:pt x="1516" y="1775"/>
                  </a:lnTo>
                  <a:lnTo>
                    <a:pt x="1516" y="1766"/>
                  </a:lnTo>
                  <a:lnTo>
                    <a:pt x="1513" y="1757"/>
                  </a:lnTo>
                  <a:lnTo>
                    <a:pt x="1522" y="1752"/>
                  </a:lnTo>
                  <a:lnTo>
                    <a:pt x="1528" y="1743"/>
                  </a:lnTo>
                  <a:lnTo>
                    <a:pt x="1537" y="1737"/>
                  </a:lnTo>
                  <a:lnTo>
                    <a:pt x="1545" y="1737"/>
                  </a:lnTo>
                  <a:lnTo>
                    <a:pt x="1554" y="1734"/>
                  </a:lnTo>
                  <a:lnTo>
                    <a:pt x="1563" y="1729"/>
                  </a:lnTo>
                  <a:lnTo>
                    <a:pt x="1572" y="1729"/>
                  </a:lnTo>
                  <a:lnTo>
                    <a:pt x="1580" y="1737"/>
                  </a:lnTo>
                  <a:lnTo>
                    <a:pt x="1589" y="1743"/>
                  </a:lnTo>
                  <a:lnTo>
                    <a:pt x="1598" y="1749"/>
                  </a:lnTo>
                  <a:lnTo>
                    <a:pt x="1601" y="1757"/>
                  </a:lnTo>
                  <a:lnTo>
                    <a:pt x="1601" y="1766"/>
                  </a:lnTo>
                  <a:lnTo>
                    <a:pt x="1604" y="1775"/>
                  </a:lnTo>
                  <a:lnTo>
                    <a:pt x="1604" y="1783"/>
                  </a:lnTo>
                  <a:lnTo>
                    <a:pt x="1592" y="1789"/>
                  </a:lnTo>
                  <a:lnTo>
                    <a:pt x="1580" y="1789"/>
                  </a:lnTo>
                  <a:lnTo>
                    <a:pt x="1572" y="1792"/>
                  </a:lnTo>
                  <a:lnTo>
                    <a:pt x="1566" y="1801"/>
                  </a:lnTo>
                  <a:lnTo>
                    <a:pt x="1557" y="1806"/>
                  </a:lnTo>
                  <a:lnTo>
                    <a:pt x="1548" y="1812"/>
                  </a:lnTo>
                  <a:lnTo>
                    <a:pt x="1537" y="1815"/>
                  </a:lnTo>
                  <a:lnTo>
                    <a:pt x="1528" y="1818"/>
                  </a:lnTo>
                  <a:lnTo>
                    <a:pt x="1519" y="1824"/>
                  </a:lnTo>
                  <a:lnTo>
                    <a:pt x="1510" y="1829"/>
                  </a:lnTo>
                  <a:lnTo>
                    <a:pt x="1502" y="1829"/>
                  </a:lnTo>
                  <a:lnTo>
                    <a:pt x="1490" y="1832"/>
                  </a:lnTo>
                  <a:lnTo>
                    <a:pt x="1481" y="1835"/>
                  </a:lnTo>
                  <a:lnTo>
                    <a:pt x="1473" y="1835"/>
                  </a:lnTo>
                  <a:lnTo>
                    <a:pt x="1464" y="1841"/>
                  </a:lnTo>
                  <a:lnTo>
                    <a:pt x="1458" y="1850"/>
                  </a:lnTo>
                  <a:lnTo>
                    <a:pt x="1452" y="1858"/>
                  </a:lnTo>
                  <a:lnTo>
                    <a:pt x="1449" y="1867"/>
                  </a:lnTo>
                  <a:lnTo>
                    <a:pt x="1449" y="1876"/>
                  </a:lnTo>
                  <a:lnTo>
                    <a:pt x="1446" y="1884"/>
                  </a:lnTo>
                  <a:lnTo>
                    <a:pt x="1443" y="1893"/>
                  </a:lnTo>
                  <a:lnTo>
                    <a:pt x="1438" y="1901"/>
                  </a:lnTo>
                  <a:lnTo>
                    <a:pt x="1435" y="1910"/>
                  </a:lnTo>
                  <a:lnTo>
                    <a:pt x="1429" y="1919"/>
                  </a:lnTo>
                  <a:lnTo>
                    <a:pt x="1426" y="1927"/>
                  </a:lnTo>
                  <a:lnTo>
                    <a:pt x="1423" y="1936"/>
                  </a:lnTo>
                  <a:lnTo>
                    <a:pt x="1423" y="1945"/>
                  </a:lnTo>
                  <a:lnTo>
                    <a:pt x="1417" y="1953"/>
                  </a:lnTo>
                  <a:lnTo>
                    <a:pt x="1417" y="1962"/>
                  </a:lnTo>
                  <a:lnTo>
                    <a:pt x="1426" y="1962"/>
                  </a:lnTo>
                  <a:lnTo>
                    <a:pt x="1435" y="1974"/>
                  </a:lnTo>
                  <a:lnTo>
                    <a:pt x="1441" y="1982"/>
                  </a:lnTo>
                  <a:lnTo>
                    <a:pt x="1441" y="1991"/>
                  </a:lnTo>
                  <a:lnTo>
                    <a:pt x="1449" y="1991"/>
                  </a:lnTo>
                  <a:lnTo>
                    <a:pt x="1461" y="1991"/>
                  </a:lnTo>
                  <a:lnTo>
                    <a:pt x="1470" y="1991"/>
                  </a:lnTo>
                  <a:lnTo>
                    <a:pt x="1484" y="1994"/>
                  </a:lnTo>
                  <a:lnTo>
                    <a:pt x="1493" y="1994"/>
                  </a:lnTo>
                  <a:lnTo>
                    <a:pt x="1502" y="1994"/>
                  </a:lnTo>
                  <a:lnTo>
                    <a:pt x="1510" y="1991"/>
                  </a:lnTo>
                  <a:lnTo>
                    <a:pt x="1519" y="1997"/>
                  </a:lnTo>
                  <a:lnTo>
                    <a:pt x="1531" y="1988"/>
                  </a:lnTo>
                  <a:lnTo>
                    <a:pt x="1540" y="1991"/>
                  </a:lnTo>
                  <a:lnTo>
                    <a:pt x="1548" y="1994"/>
                  </a:lnTo>
                  <a:lnTo>
                    <a:pt x="1557" y="1997"/>
                  </a:lnTo>
                  <a:lnTo>
                    <a:pt x="1566" y="1997"/>
                  </a:lnTo>
                  <a:lnTo>
                    <a:pt x="1569" y="2005"/>
                  </a:lnTo>
                  <a:lnTo>
                    <a:pt x="1569" y="2014"/>
                  </a:lnTo>
                  <a:lnTo>
                    <a:pt x="1569" y="2023"/>
                  </a:lnTo>
                  <a:lnTo>
                    <a:pt x="1572" y="2031"/>
                  </a:lnTo>
                  <a:lnTo>
                    <a:pt x="1577" y="2040"/>
                  </a:lnTo>
                  <a:lnTo>
                    <a:pt x="1586" y="2048"/>
                  </a:lnTo>
                  <a:lnTo>
                    <a:pt x="1577" y="2040"/>
                  </a:lnTo>
                  <a:lnTo>
                    <a:pt x="1569" y="2037"/>
                  </a:lnTo>
                  <a:lnTo>
                    <a:pt x="1557" y="2037"/>
                  </a:lnTo>
                  <a:lnTo>
                    <a:pt x="1548" y="2040"/>
                  </a:lnTo>
                  <a:lnTo>
                    <a:pt x="1548" y="2048"/>
                  </a:lnTo>
                  <a:lnTo>
                    <a:pt x="1540" y="2054"/>
                  </a:lnTo>
                  <a:lnTo>
                    <a:pt x="1531" y="2051"/>
                  </a:lnTo>
                  <a:lnTo>
                    <a:pt x="1522" y="2043"/>
                  </a:lnTo>
                  <a:lnTo>
                    <a:pt x="1513" y="2034"/>
                  </a:lnTo>
                  <a:lnTo>
                    <a:pt x="1505" y="2031"/>
                  </a:lnTo>
                  <a:lnTo>
                    <a:pt x="1496" y="2031"/>
                  </a:lnTo>
                  <a:lnTo>
                    <a:pt x="1487" y="2028"/>
                  </a:lnTo>
                  <a:lnTo>
                    <a:pt x="1478" y="2025"/>
                  </a:lnTo>
                  <a:lnTo>
                    <a:pt x="1470" y="2023"/>
                  </a:lnTo>
                  <a:lnTo>
                    <a:pt x="1461" y="2020"/>
                  </a:lnTo>
                  <a:lnTo>
                    <a:pt x="1452" y="2017"/>
                  </a:lnTo>
                  <a:lnTo>
                    <a:pt x="1441" y="2011"/>
                  </a:lnTo>
                  <a:lnTo>
                    <a:pt x="1432" y="2011"/>
                  </a:lnTo>
                  <a:lnTo>
                    <a:pt x="1426" y="2020"/>
                  </a:lnTo>
                  <a:lnTo>
                    <a:pt x="1426" y="2028"/>
                  </a:lnTo>
                  <a:lnTo>
                    <a:pt x="1423" y="2037"/>
                  </a:lnTo>
                  <a:lnTo>
                    <a:pt x="1417" y="2046"/>
                  </a:lnTo>
                  <a:lnTo>
                    <a:pt x="1414" y="2054"/>
                  </a:lnTo>
                  <a:lnTo>
                    <a:pt x="1426" y="2060"/>
                  </a:lnTo>
                  <a:lnTo>
                    <a:pt x="1432" y="2069"/>
                  </a:lnTo>
                  <a:lnTo>
                    <a:pt x="1429" y="2077"/>
                  </a:lnTo>
                  <a:lnTo>
                    <a:pt x="1423" y="2086"/>
                  </a:lnTo>
                  <a:lnTo>
                    <a:pt x="1414" y="2089"/>
                  </a:lnTo>
                  <a:lnTo>
                    <a:pt x="1409" y="2097"/>
                  </a:lnTo>
                  <a:lnTo>
                    <a:pt x="1403" y="2106"/>
                  </a:lnTo>
                  <a:lnTo>
                    <a:pt x="1400" y="2115"/>
                  </a:lnTo>
                  <a:lnTo>
                    <a:pt x="1391" y="2112"/>
                  </a:lnTo>
                  <a:lnTo>
                    <a:pt x="1388" y="2103"/>
                  </a:lnTo>
                  <a:lnTo>
                    <a:pt x="1385" y="2095"/>
                  </a:lnTo>
                  <a:lnTo>
                    <a:pt x="1382" y="2086"/>
                  </a:lnTo>
                  <a:lnTo>
                    <a:pt x="1382" y="2077"/>
                  </a:lnTo>
                  <a:lnTo>
                    <a:pt x="1379" y="2069"/>
                  </a:lnTo>
                  <a:lnTo>
                    <a:pt x="1371" y="2063"/>
                  </a:lnTo>
                  <a:lnTo>
                    <a:pt x="1359" y="2063"/>
                  </a:lnTo>
                  <a:lnTo>
                    <a:pt x="1350" y="2063"/>
                  </a:lnTo>
                  <a:lnTo>
                    <a:pt x="1344" y="2072"/>
                  </a:lnTo>
                  <a:lnTo>
                    <a:pt x="1339" y="2080"/>
                  </a:lnTo>
                  <a:lnTo>
                    <a:pt x="1333" y="2089"/>
                  </a:lnTo>
                  <a:lnTo>
                    <a:pt x="1327" y="2097"/>
                  </a:lnTo>
                  <a:lnTo>
                    <a:pt x="1321" y="2106"/>
                  </a:lnTo>
                  <a:lnTo>
                    <a:pt x="1312" y="2109"/>
                  </a:lnTo>
                  <a:lnTo>
                    <a:pt x="1304" y="2112"/>
                  </a:lnTo>
                  <a:lnTo>
                    <a:pt x="1304" y="2120"/>
                  </a:lnTo>
                  <a:lnTo>
                    <a:pt x="1301" y="2129"/>
                  </a:lnTo>
                  <a:lnTo>
                    <a:pt x="1298" y="2138"/>
                  </a:lnTo>
                  <a:lnTo>
                    <a:pt x="1295" y="2146"/>
                  </a:lnTo>
                  <a:lnTo>
                    <a:pt x="1295" y="2095"/>
                  </a:lnTo>
                  <a:lnTo>
                    <a:pt x="1304" y="2103"/>
                  </a:lnTo>
                  <a:lnTo>
                    <a:pt x="1304" y="2115"/>
                  </a:lnTo>
                  <a:lnTo>
                    <a:pt x="1301" y="2123"/>
                  </a:lnTo>
                  <a:lnTo>
                    <a:pt x="1298" y="2132"/>
                  </a:lnTo>
                  <a:lnTo>
                    <a:pt x="1298" y="2141"/>
                  </a:lnTo>
                  <a:lnTo>
                    <a:pt x="1295" y="2149"/>
                  </a:lnTo>
                  <a:lnTo>
                    <a:pt x="1292" y="2161"/>
                  </a:lnTo>
                  <a:lnTo>
                    <a:pt x="1289" y="2169"/>
                  </a:lnTo>
                  <a:lnTo>
                    <a:pt x="1280" y="2175"/>
                  </a:lnTo>
                  <a:lnTo>
                    <a:pt x="1278" y="2167"/>
                  </a:lnTo>
                  <a:lnTo>
                    <a:pt x="1275" y="2155"/>
                  </a:lnTo>
                  <a:lnTo>
                    <a:pt x="1272" y="2146"/>
                  </a:lnTo>
                  <a:lnTo>
                    <a:pt x="1263" y="2146"/>
                  </a:lnTo>
                  <a:lnTo>
                    <a:pt x="1251" y="2149"/>
                  </a:lnTo>
                  <a:lnTo>
                    <a:pt x="1245" y="2158"/>
                  </a:lnTo>
                  <a:lnTo>
                    <a:pt x="1240" y="2167"/>
                  </a:lnTo>
                  <a:lnTo>
                    <a:pt x="1228" y="2167"/>
                  </a:lnTo>
                  <a:lnTo>
                    <a:pt x="1216" y="2167"/>
                  </a:lnTo>
                  <a:lnTo>
                    <a:pt x="1213" y="2155"/>
                  </a:lnTo>
                  <a:lnTo>
                    <a:pt x="1213" y="2144"/>
                  </a:lnTo>
                  <a:lnTo>
                    <a:pt x="1205" y="2138"/>
                  </a:lnTo>
                  <a:lnTo>
                    <a:pt x="1196" y="2132"/>
                  </a:lnTo>
                  <a:lnTo>
                    <a:pt x="1179" y="2126"/>
                  </a:lnTo>
                  <a:lnTo>
                    <a:pt x="1170" y="2123"/>
                  </a:lnTo>
                  <a:lnTo>
                    <a:pt x="1158" y="2123"/>
                  </a:lnTo>
                  <a:lnTo>
                    <a:pt x="1152" y="2132"/>
                  </a:lnTo>
                  <a:lnTo>
                    <a:pt x="1141" y="2135"/>
                  </a:lnTo>
                  <a:lnTo>
                    <a:pt x="1132" y="2132"/>
                  </a:lnTo>
                  <a:lnTo>
                    <a:pt x="1123" y="2123"/>
                  </a:lnTo>
                  <a:lnTo>
                    <a:pt x="1114" y="2118"/>
                  </a:lnTo>
                  <a:lnTo>
                    <a:pt x="1106" y="2115"/>
                  </a:lnTo>
                  <a:lnTo>
                    <a:pt x="1097" y="2115"/>
                  </a:lnTo>
                  <a:lnTo>
                    <a:pt x="1094" y="2106"/>
                  </a:lnTo>
                  <a:lnTo>
                    <a:pt x="1094" y="2097"/>
                  </a:lnTo>
                  <a:lnTo>
                    <a:pt x="1094" y="2089"/>
                  </a:lnTo>
                  <a:lnTo>
                    <a:pt x="1091" y="2077"/>
                  </a:lnTo>
                  <a:lnTo>
                    <a:pt x="1091" y="2069"/>
                  </a:lnTo>
                  <a:lnTo>
                    <a:pt x="1082" y="2066"/>
                  </a:lnTo>
                  <a:lnTo>
                    <a:pt x="1074" y="2066"/>
                  </a:lnTo>
                  <a:lnTo>
                    <a:pt x="1065" y="2066"/>
                  </a:lnTo>
                  <a:lnTo>
                    <a:pt x="1056" y="2066"/>
                  </a:lnTo>
                  <a:lnTo>
                    <a:pt x="1048" y="2066"/>
                  </a:lnTo>
                  <a:lnTo>
                    <a:pt x="1039" y="2066"/>
                  </a:lnTo>
                  <a:lnTo>
                    <a:pt x="1027" y="2063"/>
                  </a:lnTo>
                  <a:lnTo>
                    <a:pt x="1021" y="2054"/>
                  </a:lnTo>
                  <a:lnTo>
                    <a:pt x="1021" y="2046"/>
                  </a:lnTo>
                  <a:lnTo>
                    <a:pt x="1016" y="2048"/>
                  </a:lnTo>
                  <a:lnTo>
                    <a:pt x="1036" y="2031"/>
                  </a:lnTo>
                  <a:lnTo>
                    <a:pt x="1048" y="2020"/>
                  </a:lnTo>
                  <a:lnTo>
                    <a:pt x="1059" y="2017"/>
                  </a:lnTo>
                  <a:lnTo>
                    <a:pt x="1062" y="2025"/>
                  </a:lnTo>
                  <a:lnTo>
                    <a:pt x="1050" y="2025"/>
                  </a:lnTo>
                  <a:lnTo>
                    <a:pt x="1059" y="2025"/>
                  </a:lnTo>
                  <a:lnTo>
                    <a:pt x="1071" y="2025"/>
                  </a:lnTo>
                  <a:lnTo>
                    <a:pt x="1080" y="2025"/>
                  </a:lnTo>
                  <a:lnTo>
                    <a:pt x="1088" y="2028"/>
                  </a:lnTo>
                  <a:lnTo>
                    <a:pt x="1097" y="2028"/>
                  </a:lnTo>
                  <a:lnTo>
                    <a:pt x="1106" y="2025"/>
                  </a:lnTo>
                  <a:lnTo>
                    <a:pt x="1109" y="2017"/>
                  </a:lnTo>
                  <a:lnTo>
                    <a:pt x="1112" y="2008"/>
                  </a:lnTo>
                  <a:lnTo>
                    <a:pt x="1103" y="1999"/>
                  </a:lnTo>
                  <a:lnTo>
                    <a:pt x="1100" y="1991"/>
                  </a:lnTo>
                  <a:lnTo>
                    <a:pt x="1094" y="1982"/>
                  </a:lnTo>
                  <a:lnTo>
                    <a:pt x="1091" y="1974"/>
                  </a:lnTo>
                  <a:lnTo>
                    <a:pt x="1082" y="1971"/>
                  </a:lnTo>
                  <a:lnTo>
                    <a:pt x="1077" y="1979"/>
                  </a:lnTo>
                  <a:lnTo>
                    <a:pt x="1077" y="1991"/>
                  </a:lnTo>
                  <a:lnTo>
                    <a:pt x="1077" y="1999"/>
                  </a:lnTo>
                  <a:lnTo>
                    <a:pt x="1071" y="2008"/>
                  </a:lnTo>
                  <a:lnTo>
                    <a:pt x="1068" y="2020"/>
                  </a:lnTo>
                  <a:lnTo>
                    <a:pt x="1068" y="2028"/>
                  </a:lnTo>
                  <a:lnTo>
                    <a:pt x="1059" y="2031"/>
                  </a:lnTo>
                  <a:lnTo>
                    <a:pt x="1048" y="2031"/>
                  </a:lnTo>
                  <a:lnTo>
                    <a:pt x="1039" y="2031"/>
                  </a:lnTo>
                  <a:lnTo>
                    <a:pt x="1030" y="2031"/>
                  </a:lnTo>
                  <a:lnTo>
                    <a:pt x="1027" y="2020"/>
                  </a:lnTo>
                  <a:lnTo>
                    <a:pt x="1027" y="2011"/>
                  </a:lnTo>
                  <a:lnTo>
                    <a:pt x="1027" y="2002"/>
                  </a:lnTo>
                  <a:lnTo>
                    <a:pt x="1027" y="1994"/>
                  </a:lnTo>
                  <a:lnTo>
                    <a:pt x="1027" y="1985"/>
                  </a:lnTo>
                  <a:lnTo>
                    <a:pt x="1030" y="1976"/>
                  </a:lnTo>
                  <a:lnTo>
                    <a:pt x="1039" y="1974"/>
                  </a:lnTo>
                  <a:lnTo>
                    <a:pt x="1042" y="1982"/>
                  </a:lnTo>
                  <a:lnTo>
                    <a:pt x="1042" y="1994"/>
                  </a:lnTo>
                  <a:lnTo>
                    <a:pt x="1045" y="2002"/>
                  </a:lnTo>
                  <a:lnTo>
                    <a:pt x="1050" y="2011"/>
                  </a:lnTo>
                  <a:lnTo>
                    <a:pt x="1062" y="2014"/>
                  </a:lnTo>
                  <a:lnTo>
                    <a:pt x="1074" y="2014"/>
                  </a:lnTo>
                  <a:lnTo>
                    <a:pt x="1082" y="2005"/>
                  </a:lnTo>
                  <a:lnTo>
                    <a:pt x="1082" y="1997"/>
                  </a:lnTo>
                  <a:lnTo>
                    <a:pt x="1074" y="1985"/>
                  </a:lnTo>
                  <a:lnTo>
                    <a:pt x="1065" y="1979"/>
                  </a:lnTo>
                  <a:lnTo>
                    <a:pt x="1065" y="1971"/>
                  </a:lnTo>
                  <a:lnTo>
                    <a:pt x="1074" y="1968"/>
                  </a:lnTo>
                  <a:lnTo>
                    <a:pt x="1082" y="1968"/>
                  </a:lnTo>
                  <a:lnTo>
                    <a:pt x="1091" y="1962"/>
                  </a:lnTo>
                  <a:lnTo>
                    <a:pt x="1091" y="1953"/>
                  </a:lnTo>
                  <a:lnTo>
                    <a:pt x="1091" y="1945"/>
                  </a:lnTo>
                  <a:lnTo>
                    <a:pt x="1100" y="1939"/>
                  </a:lnTo>
                  <a:lnTo>
                    <a:pt x="1109" y="1936"/>
                  </a:lnTo>
                  <a:lnTo>
                    <a:pt x="1117" y="1936"/>
                  </a:lnTo>
                  <a:lnTo>
                    <a:pt x="1123" y="1927"/>
                  </a:lnTo>
                  <a:lnTo>
                    <a:pt x="1126" y="1919"/>
                  </a:lnTo>
                  <a:lnTo>
                    <a:pt x="1126" y="1910"/>
                  </a:lnTo>
                  <a:lnTo>
                    <a:pt x="1126" y="1901"/>
                  </a:lnTo>
                  <a:lnTo>
                    <a:pt x="1114" y="1901"/>
                  </a:lnTo>
                  <a:lnTo>
                    <a:pt x="1106" y="1901"/>
                  </a:lnTo>
                  <a:lnTo>
                    <a:pt x="1097" y="1901"/>
                  </a:lnTo>
                  <a:lnTo>
                    <a:pt x="1088" y="1904"/>
                  </a:lnTo>
                  <a:lnTo>
                    <a:pt x="1080" y="1910"/>
                  </a:lnTo>
                  <a:lnTo>
                    <a:pt x="1077" y="1925"/>
                  </a:lnTo>
                  <a:lnTo>
                    <a:pt x="1077" y="1933"/>
                  </a:lnTo>
                  <a:lnTo>
                    <a:pt x="1068" y="1933"/>
                  </a:lnTo>
                  <a:lnTo>
                    <a:pt x="1059" y="1922"/>
                  </a:lnTo>
                  <a:lnTo>
                    <a:pt x="1056" y="1913"/>
                  </a:lnTo>
                  <a:lnTo>
                    <a:pt x="1068" y="1910"/>
                  </a:lnTo>
                  <a:lnTo>
                    <a:pt x="1077" y="1910"/>
                  </a:lnTo>
                  <a:lnTo>
                    <a:pt x="1065" y="1901"/>
                  </a:lnTo>
                  <a:lnTo>
                    <a:pt x="1056" y="1896"/>
                  </a:lnTo>
                  <a:lnTo>
                    <a:pt x="1056" y="1904"/>
                  </a:lnTo>
                  <a:lnTo>
                    <a:pt x="1048" y="1910"/>
                  </a:lnTo>
                  <a:lnTo>
                    <a:pt x="1039" y="1919"/>
                  </a:lnTo>
                  <a:lnTo>
                    <a:pt x="1036" y="1927"/>
                  </a:lnTo>
                  <a:lnTo>
                    <a:pt x="1030" y="1936"/>
                  </a:lnTo>
                  <a:lnTo>
                    <a:pt x="1024" y="1945"/>
                  </a:lnTo>
                  <a:lnTo>
                    <a:pt x="1016" y="1950"/>
                  </a:lnTo>
                  <a:lnTo>
                    <a:pt x="1004" y="1953"/>
                  </a:lnTo>
                  <a:lnTo>
                    <a:pt x="1001" y="1962"/>
                  </a:lnTo>
                  <a:lnTo>
                    <a:pt x="1001" y="1971"/>
                  </a:lnTo>
                  <a:lnTo>
                    <a:pt x="1001" y="1979"/>
                  </a:lnTo>
                  <a:lnTo>
                    <a:pt x="1001" y="1988"/>
                  </a:lnTo>
                  <a:lnTo>
                    <a:pt x="1001" y="1997"/>
                  </a:lnTo>
                  <a:lnTo>
                    <a:pt x="995" y="2005"/>
                  </a:lnTo>
                  <a:lnTo>
                    <a:pt x="986" y="2011"/>
                  </a:lnTo>
                  <a:lnTo>
                    <a:pt x="981" y="2020"/>
                  </a:lnTo>
                  <a:lnTo>
                    <a:pt x="981" y="2028"/>
                  </a:lnTo>
                  <a:lnTo>
                    <a:pt x="981" y="2037"/>
                  </a:lnTo>
                  <a:lnTo>
                    <a:pt x="978" y="2046"/>
                  </a:lnTo>
                  <a:lnTo>
                    <a:pt x="978" y="2054"/>
                  </a:lnTo>
                  <a:lnTo>
                    <a:pt x="983" y="2046"/>
                  </a:lnTo>
                  <a:lnTo>
                    <a:pt x="983" y="2037"/>
                  </a:lnTo>
                  <a:lnTo>
                    <a:pt x="975" y="2034"/>
                  </a:lnTo>
                  <a:lnTo>
                    <a:pt x="966" y="2034"/>
                  </a:lnTo>
                  <a:lnTo>
                    <a:pt x="957" y="2034"/>
                  </a:lnTo>
                  <a:lnTo>
                    <a:pt x="949" y="2023"/>
                  </a:lnTo>
                  <a:lnTo>
                    <a:pt x="949" y="2011"/>
                  </a:lnTo>
                  <a:lnTo>
                    <a:pt x="940" y="2008"/>
                  </a:lnTo>
                  <a:lnTo>
                    <a:pt x="931" y="2008"/>
                  </a:lnTo>
                  <a:lnTo>
                    <a:pt x="922" y="2011"/>
                  </a:lnTo>
                  <a:lnTo>
                    <a:pt x="914" y="2008"/>
                  </a:lnTo>
                  <a:lnTo>
                    <a:pt x="899" y="2002"/>
                  </a:lnTo>
                  <a:lnTo>
                    <a:pt x="890" y="1988"/>
                  </a:lnTo>
                  <a:lnTo>
                    <a:pt x="885" y="1976"/>
                  </a:lnTo>
                  <a:lnTo>
                    <a:pt x="876" y="1976"/>
                  </a:lnTo>
                  <a:lnTo>
                    <a:pt x="867" y="1979"/>
                  </a:lnTo>
                  <a:lnTo>
                    <a:pt x="861" y="1988"/>
                  </a:lnTo>
                  <a:lnTo>
                    <a:pt x="852" y="1994"/>
                  </a:lnTo>
                  <a:lnTo>
                    <a:pt x="844" y="1999"/>
                  </a:lnTo>
                  <a:lnTo>
                    <a:pt x="835" y="2002"/>
                  </a:lnTo>
                  <a:lnTo>
                    <a:pt x="826" y="2005"/>
                  </a:lnTo>
                  <a:lnTo>
                    <a:pt x="818" y="2008"/>
                  </a:lnTo>
                  <a:lnTo>
                    <a:pt x="809" y="2008"/>
                  </a:lnTo>
                  <a:lnTo>
                    <a:pt x="797" y="2011"/>
                  </a:lnTo>
                  <a:lnTo>
                    <a:pt x="788" y="2011"/>
                  </a:lnTo>
                  <a:lnTo>
                    <a:pt x="797" y="2011"/>
                  </a:lnTo>
                  <a:lnTo>
                    <a:pt x="812" y="2014"/>
                  </a:lnTo>
                  <a:lnTo>
                    <a:pt x="803" y="2017"/>
                  </a:lnTo>
                  <a:lnTo>
                    <a:pt x="794" y="2020"/>
                  </a:lnTo>
                  <a:lnTo>
                    <a:pt x="803" y="2031"/>
                  </a:lnTo>
                  <a:lnTo>
                    <a:pt x="794" y="2031"/>
                  </a:lnTo>
                  <a:lnTo>
                    <a:pt x="786" y="2028"/>
                  </a:lnTo>
                  <a:lnTo>
                    <a:pt x="777" y="2023"/>
                  </a:lnTo>
                  <a:lnTo>
                    <a:pt x="771" y="2014"/>
                  </a:lnTo>
                  <a:lnTo>
                    <a:pt x="762" y="2011"/>
                  </a:lnTo>
                  <a:lnTo>
                    <a:pt x="751" y="2008"/>
                  </a:lnTo>
                  <a:lnTo>
                    <a:pt x="742" y="2008"/>
                  </a:lnTo>
                  <a:lnTo>
                    <a:pt x="733" y="2005"/>
                  </a:lnTo>
                  <a:lnTo>
                    <a:pt x="736" y="2002"/>
                  </a:lnTo>
                  <a:lnTo>
                    <a:pt x="721" y="1985"/>
                  </a:lnTo>
                  <a:lnTo>
                    <a:pt x="713" y="1985"/>
                  </a:lnTo>
                  <a:lnTo>
                    <a:pt x="710" y="1994"/>
                  </a:lnTo>
                  <a:lnTo>
                    <a:pt x="716" y="2005"/>
                  </a:lnTo>
                  <a:lnTo>
                    <a:pt x="713" y="2014"/>
                  </a:lnTo>
                  <a:lnTo>
                    <a:pt x="704" y="2020"/>
                  </a:lnTo>
                  <a:lnTo>
                    <a:pt x="704" y="2028"/>
                  </a:lnTo>
                  <a:lnTo>
                    <a:pt x="692" y="2031"/>
                  </a:lnTo>
                  <a:lnTo>
                    <a:pt x="684" y="2025"/>
                  </a:lnTo>
                  <a:lnTo>
                    <a:pt x="672" y="2020"/>
                  </a:lnTo>
                  <a:lnTo>
                    <a:pt x="660" y="2017"/>
                  </a:lnTo>
                  <a:lnTo>
                    <a:pt x="646" y="2011"/>
                  </a:lnTo>
                  <a:lnTo>
                    <a:pt x="634" y="2008"/>
                  </a:lnTo>
                  <a:lnTo>
                    <a:pt x="625" y="2005"/>
                  </a:lnTo>
                  <a:lnTo>
                    <a:pt x="622" y="1997"/>
                  </a:lnTo>
                  <a:lnTo>
                    <a:pt x="620" y="1988"/>
                  </a:lnTo>
                  <a:lnTo>
                    <a:pt x="611" y="1979"/>
                  </a:lnTo>
                  <a:lnTo>
                    <a:pt x="608" y="1971"/>
                  </a:lnTo>
                  <a:lnTo>
                    <a:pt x="599" y="1968"/>
                  </a:lnTo>
                  <a:lnTo>
                    <a:pt x="590" y="1974"/>
                  </a:lnTo>
                  <a:lnTo>
                    <a:pt x="588" y="1985"/>
                  </a:lnTo>
                  <a:lnTo>
                    <a:pt x="585" y="1997"/>
                  </a:lnTo>
                  <a:lnTo>
                    <a:pt x="576" y="2002"/>
                  </a:lnTo>
                  <a:lnTo>
                    <a:pt x="567" y="1991"/>
                  </a:lnTo>
                  <a:lnTo>
                    <a:pt x="561" y="1982"/>
                  </a:lnTo>
                  <a:lnTo>
                    <a:pt x="553" y="1976"/>
                  </a:lnTo>
                  <a:lnTo>
                    <a:pt x="547" y="1968"/>
                  </a:lnTo>
                  <a:lnTo>
                    <a:pt x="541" y="1959"/>
                  </a:lnTo>
                  <a:lnTo>
                    <a:pt x="532" y="1956"/>
                  </a:lnTo>
                  <a:lnTo>
                    <a:pt x="524" y="1953"/>
                  </a:lnTo>
                  <a:lnTo>
                    <a:pt x="518" y="1945"/>
                  </a:lnTo>
                  <a:lnTo>
                    <a:pt x="509" y="1939"/>
                  </a:lnTo>
                  <a:lnTo>
                    <a:pt x="500" y="1939"/>
                  </a:lnTo>
                  <a:lnTo>
                    <a:pt x="494" y="1948"/>
                  </a:lnTo>
                  <a:lnTo>
                    <a:pt x="491" y="1956"/>
                  </a:lnTo>
                  <a:lnTo>
                    <a:pt x="486" y="1965"/>
                  </a:lnTo>
                  <a:lnTo>
                    <a:pt x="491" y="1974"/>
                  </a:lnTo>
                  <a:lnTo>
                    <a:pt x="500" y="1976"/>
                  </a:lnTo>
                  <a:lnTo>
                    <a:pt x="503" y="1985"/>
                  </a:lnTo>
                  <a:lnTo>
                    <a:pt x="506" y="1994"/>
                  </a:lnTo>
                  <a:lnTo>
                    <a:pt x="509" y="2002"/>
                  </a:lnTo>
                  <a:lnTo>
                    <a:pt x="512" y="2011"/>
                  </a:lnTo>
                  <a:lnTo>
                    <a:pt x="515" y="2020"/>
                  </a:lnTo>
                  <a:lnTo>
                    <a:pt x="518" y="2028"/>
                  </a:lnTo>
                  <a:lnTo>
                    <a:pt x="518" y="2037"/>
                  </a:lnTo>
                  <a:lnTo>
                    <a:pt x="518" y="2046"/>
                  </a:lnTo>
                  <a:lnTo>
                    <a:pt x="518" y="2054"/>
                  </a:lnTo>
                  <a:lnTo>
                    <a:pt x="515" y="2063"/>
                  </a:lnTo>
                  <a:lnTo>
                    <a:pt x="506" y="2072"/>
                  </a:lnTo>
                  <a:lnTo>
                    <a:pt x="503" y="2080"/>
                  </a:lnTo>
                  <a:lnTo>
                    <a:pt x="503" y="2089"/>
                  </a:lnTo>
                  <a:lnTo>
                    <a:pt x="503" y="2097"/>
                  </a:lnTo>
                  <a:lnTo>
                    <a:pt x="500" y="2106"/>
                  </a:lnTo>
                  <a:lnTo>
                    <a:pt x="491" y="2112"/>
                  </a:lnTo>
                  <a:lnTo>
                    <a:pt x="483" y="2118"/>
                  </a:lnTo>
                  <a:lnTo>
                    <a:pt x="483" y="2126"/>
                  </a:lnTo>
                  <a:lnTo>
                    <a:pt x="480" y="2138"/>
                  </a:lnTo>
                  <a:lnTo>
                    <a:pt x="477" y="2149"/>
                  </a:lnTo>
                  <a:lnTo>
                    <a:pt x="468" y="2144"/>
                  </a:lnTo>
                  <a:lnTo>
                    <a:pt x="459" y="2144"/>
                  </a:lnTo>
                  <a:lnTo>
                    <a:pt x="451" y="2144"/>
                  </a:lnTo>
                  <a:lnTo>
                    <a:pt x="442" y="2152"/>
                  </a:lnTo>
                  <a:lnTo>
                    <a:pt x="436" y="2161"/>
                  </a:lnTo>
                  <a:lnTo>
                    <a:pt x="427" y="2167"/>
                  </a:lnTo>
                  <a:lnTo>
                    <a:pt x="419" y="2175"/>
                  </a:lnTo>
                  <a:lnTo>
                    <a:pt x="407" y="2181"/>
                  </a:lnTo>
                  <a:lnTo>
                    <a:pt x="398" y="2184"/>
                  </a:lnTo>
                  <a:lnTo>
                    <a:pt x="393" y="2175"/>
                  </a:lnTo>
                  <a:lnTo>
                    <a:pt x="390" y="2167"/>
                  </a:lnTo>
                  <a:lnTo>
                    <a:pt x="384" y="2158"/>
                  </a:lnTo>
                  <a:lnTo>
                    <a:pt x="369" y="2149"/>
                  </a:lnTo>
                  <a:lnTo>
                    <a:pt x="358" y="2144"/>
                  </a:lnTo>
                  <a:lnTo>
                    <a:pt x="355" y="2135"/>
                  </a:lnTo>
                  <a:lnTo>
                    <a:pt x="349" y="2126"/>
                  </a:lnTo>
                  <a:lnTo>
                    <a:pt x="343" y="2118"/>
                  </a:lnTo>
                  <a:lnTo>
                    <a:pt x="334" y="2109"/>
                  </a:lnTo>
                  <a:lnTo>
                    <a:pt x="328" y="2100"/>
                  </a:lnTo>
                  <a:lnTo>
                    <a:pt x="320" y="2092"/>
                  </a:lnTo>
                  <a:lnTo>
                    <a:pt x="317" y="2080"/>
                  </a:lnTo>
                  <a:lnTo>
                    <a:pt x="317" y="2048"/>
                  </a:lnTo>
                  <a:lnTo>
                    <a:pt x="311" y="2060"/>
                  </a:lnTo>
                  <a:lnTo>
                    <a:pt x="302" y="2057"/>
                  </a:lnTo>
                  <a:lnTo>
                    <a:pt x="294" y="2051"/>
                  </a:lnTo>
                  <a:lnTo>
                    <a:pt x="282" y="2048"/>
                  </a:lnTo>
                  <a:lnTo>
                    <a:pt x="276" y="2040"/>
                  </a:lnTo>
                  <a:lnTo>
                    <a:pt x="270" y="2031"/>
                  </a:lnTo>
                  <a:lnTo>
                    <a:pt x="264" y="2023"/>
                  </a:lnTo>
                  <a:lnTo>
                    <a:pt x="259" y="2014"/>
                  </a:lnTo>
                  <a:lnTo>
                    <a:pt x="250" y="2008"/>
                  </a:lnTo>
                  <a:lnTo>
                    <a:pt x="241" y="2011"/>
                  </a:lnTo>
                  <a:lnTo>
                    <a:pt x="232" y="2011"/>
                  </a:lnTo>
                  <a:lnTo>
                    <a:pt x="227" y="2002"/>
                  </a:lnTo>
                  <a:lnTo>
                    <a:pt x="218" y="2002"/>
                  </a:lnTo>
                  <a:lnTo>
                    <a:pt x="209" y="2002"/>
                  </a:lnTo>
                  <a:lnTo>
                    <a:pt x="200" y="2002"/>
                  </a:lnTo>
                  <a:lnTo>
                    <a:pt x="203" y="2014"/>
                  </a:lnTo>
                  <a:lnTo>
                    <a:pt x="203" y="2025"/>
                  </a:lnTo>
                  <a:lnTo>
                    <a:pt x="200" y="2034"/>
                  </a:lnTo>
                  <a:lnTo>
                    <a:pt x="189" y="2037"/>
                  </a:lnTo>
                  <a:lnTo>
                    <a:pt x="180" y="2043"/>
                  </a:lnTo>
                  <a:lnTo>
                    <a:pt x="171" y="2051"/>
                  </a:lnTo>
                  <a:lnTo>
                    <a:pt x="168" y="2060"/>
                  </a:lnTo>
                  <a:lnTo>
                    <a:pt x="163" y="2072"/>
                  </a:lnTo>
                  <a:lnTo>
                    <a:pt x="154" y="2077"/>
                  </a:lnTo>
                  <a:lnTo>
                    <a:pt x="145" y="2083"/>
                  </a:lnTo>
                  <a:lnTo>
                    <a:pt x="136" y="2086"/>
                  </a:lnTo>
                  <a:lnTo>
                    <a:pt x="122" y="2092"/>
                  </a:lnTo>
                  <a:lnTo>
                    <a:pt x="113" y="2095"/>
                  </a:lnTo>
                  <a:lnTo>
                    <a:pt x="104" y="2097"/>
                  </a:lnTo>
                  <a:lnTo>
                    <a:pt x="96" y="2103"/>
                  </a:lnTo>
                  <a:lnTo>
                    <a:pt x="87" y="2109"/>
                  </a:lnTo>
                  <a:lnTo>
                    <a:pt x="78" y="2112"/>
                  </a:lnTo>
                  <a:lnTo>
                    <a:pt x="66" y="2112"/>
                  </a:lnTo>
                  <a:lnTo>
                    <a:pt x="58" y="2115"/>
                  </a:lnTo>
                  <a:lnTo>
                    <a:pt x="55" y="2123"/>
                  </a:lnTo>
                  <a:lnTo>
                    <a:pt x="49" y="2132"/>
                  </a:lnTo>
                  <a:lnTo>
                    <a:pt x="46" y="2141"/>
                  </a:lnTo>
                  <a:lnTo>
                    <a:pt x="58" y="2146"/>
                  </a:lnTo>
                  <a:lnTo>
                    <a:pt x="66" y="2146"/>
                  </a:lnTo>
                  <a:lnTo>
                    <a:pt x="75" y="2146"/>
                  </a:lnTo>
                  <a:lnTo>
                    <a:pt x="66" y="2158"/>
                  </a:lnTo>
                  <a:lnTo>
                    <a:pt x="55" y="2164"/>
                  </a:lnTo>
                  <a:lnTo>
                    <a:pt x="43" y="2169"/>
                  </a:lnTo>
                  <a:lnTo>
                    <a:pt x="34" y="2175"/>
                  </a:lnTo>
                  <a:lnTo>
                    <a:pt x="26" y="2181"/>
                  </a:lnTo>
                  <a:lnTo>
                    <a:pt x="23" y="2190"/>
                  </a:lnTo>
                  <a:lnTo>
                    <a:pt x="23" y="2198"/>
                  </a:lnTo>
                  <a:lnTo>
                    <a:pt x="14" y="2207"/>
                  </a:lnTo>
                  <a:lnTo>
                    <a:pt x="5" y="2210"/>
                  </a:lnTo>
                  <a:lnTo>
                    <a:pt x="0" y="2218"/>
                  </a:lnTo>
                  <a:lnTo>
                    <a:pt x="5" y="2227"/>
                  </a:lnTo>
                  <a:lnTo>
                    <a:pt x="14" y="2236"/>
                  </a:lnTo>
                  <a:lnTo>
                    <a:pt x="23" y="2244"/>
                  </a:lnTo>
                  <a:lnTo>
                    <a:pt x="37" y="2233"/>
                  </a:lnTo>
                  <a:lnTo>
                    <a:pt x="46" y="2230"/>
                  </a:lnTo>
                  <a:lnTo>
                    <a:pt x="49" y="2239"/>
                  </a:lnTo>
                  <a:lnTo>
                    <a:pt x="49" y="2247"/>
                  </a:lnTo>
                  <a:lnTo>
                    <a:pt x="52" y="2256"/>
                  </a:lnTo>
                  <a:lnTo>
                    <a:pt x="55" y="2265"/>
                  </a:lnTo>
                  <a:lnTo>
                    <a:pt x="58" y="2273"/>
                  </a:lnTo>
                  <a:lnTo>
                    <a:pt x="58" y="2282"/>
                  </a:lnTo>
                  <a:lnTo>
                    <a:pt x="61" y="2291"/>
                  </a:lnTo>
                  <a:lnTo>
                    <a:pt x="61" y="2299"/>
                  </a:lnTo>
                  <a:lnTo>
                    <a:pt x="58" y="2308"/>
                  </a:lnTo>
                  <a:lnTo>
                    <a:pt x="52" y="2316"/>
                  </a:lnTo>
                  <a:lnTo>
                    <a:pt x="52" y="2325"/>
                  </a:lnTo>
                  <a:lnTo>
                    <a:pt x="52" y="2334"/>
                  </a:lnTo>
                  <a:lnTo>
                    <a:pt x="49" y="2342"/>
                  </a:lnTo>
                  <a:lnTo>
                    <a:pt x="58" y="2348"/>
                  </a:lnTo>
                  <a:lnTo>
                    <a:pt x="69" y="2348"/>
                  </a:lnTo>
                  <a:lnTo>
                    <a:pt x="78" y="2348"/>
                  </a:lnTo>
                  <a:lnTo>
                    <a:pt x="87" y="2357"/>
                  </a:lnTo>
                  <a:lnTo>
                    <a:pt x="96" y="2360"/>
                  </a:lnTo>
                  <a:lnTo>
                    <a:pt x="104" y="2360"/>
                  </a:lnTo>
                  <a:lnTo>
                    <a:pt x="113" y="2365"/>
                  </a:lnTo>
                  <a:lnTo>
                    <a:pt x="122" y="2371"/>
                  </a:lnTo>
                  <a:lnTo>
                    <a:pt x="128" y="2380"/>
                  </a:lnTo>
                  <a:lnTo>
                    <a:pt x="139" y="2389"/>
                  </a:lnTo>
                  <a:lnTo>
                    <a:pt x="142" y="2397"/>
                  </a:lnTo>
                  <a:lnTo>
                    <a:pt x="151" y="2406"/>
                  </a:lnTo>
                  <a:lnTo>
                    <a:pt x="160" y="2414"/>
                  </a:lnTo>
                  <a:lnTo>
                    <a:pt x="168" y="2417"/>
                  </a:lnTo>
                  <a:lnTo>
                    <a:pt x="177" y="2420"/>
                  </a:lnTo>
                  <a:lnTo>
                    <a:pt x="186" y="2423"/>
                  </a:lnTo>
                  <a:lnTo>
                    <a:pt x="195" y="2423"/>
                  </a:lnTo>
                  <a:lnTo>
                    <a:pt x="203" y="2423"/>
                  </a:lnTo>
                  <a:lnTo>
                    <a:pt x="212" y="2423"/>
                  </a:lnTo>
                  <a:lnTo>
                    <a:pt x="221" y="2420"/>
                  </a:lnTo>
                  <a:lnTo>
                    <a:pt x="229" y="2420"/>
                  </a:lnTo>
                  <a:lnTo>
                    <a:pt x="238" y="2420"/>
                  </a:lnTo>
                  <a:lnTo>
                    <a:pt x="247" y="2417"/>
                  </a:lnTo>
                  <a:lnTo>
                    <a:pt x="256" y="2412"/>
                  </a:lnTo>
                  <a:lnTo>
                    <a:pt x="264" y="2412"/>
                  </a:lnTo>
                  <a:lnTo>
                    <a:pt x="276" y="2412"/>
                  </a:lnTo>
                  <a:lnTo>
                    <a:pt x="285" y="2412"/>
                  </a:lnTo>
                  <a:lnTo>
                    <a:pt x="294" y="2414"/>
                  </a:lnTo>
                  <a:lnTo>
                    <a:pt x="302" y="2414"/>
                  </a:lnTo>
                  <a:lnTo>
                    <a:pt x="305" y="2406"/>
                  </a:lnTo>
                  <a:lnTo>
                    <a:pt x="305" y="2397"/>
                  </a:lnTo>
                  <a:lnTo>
                    <a:pt x="302" y="2389"/>
                  </a:lnTo>
                  <a:lnTo>
                    <a:pt x="299" y="2380"/>
                  </a:lnTo>
                  <a:lnTo>
                    <a:pt x="302" y="2371"/>
                  </a:lnTo>
                  <a:lnTo>
                    <a:pt x="314" y="2368"/>
                  </a:lnTo>
                  <a:lnTo>
                    <a:pt x="323" y="2368"/>
                  </a:lnTo>
                  <a:lnTo>
                    <a:pt x="331" y="2368"/>
                  </a:lnTo>
                  <a:lnTo>
                    <a:pt x="343" y="2368"/>
                  </a:lnTo>
                  <a:lnTo>
                    <a:pt x="346" y="2360"/>
                  </a:lnTo>
                  <a:lnTo>
                    <a:pt x="355" y="2354"/>
                  </a:lnTo>
                  <a:lnTo>
                    <a:pt x="363" y="2351"/>
                  </a:lnTo>
                  <a:lnTo>
                    <a:pt x="372" y="2351"/>
                  </a:lnTo>
                  <a:lnTo>
                    <a:pt x="381" y="2348"/>
                  </a:lnTo>
                  <a:lnTo>
                    <a:pt x="390" y="2348"/>
                  </a:lnTo>
                  <a:lnTo>
                    <a:pt x="398" y="2348"/>
                  </a:lnTo>
                  <a:lnTo>
                    <a:pt x="407" y="2348"/>
                  </a:lnTo>
                  <a:lnTo>
                    <a:pt x="419" y="2354"/>
                  </a:lnTo>
                  <a:lnTo>
                    <a:pt x="427" y="2360"/>
                  </a:lnTo>
                  <a:lnTo>
                    <a:pt x="436" y="2360"/>
                  </a:lnTo>
                  <a:lnTo>
                    <a:pt x="445" y="2360"/>
                  </a:lnTo>
                  <a:lnTo>
                    <a:pt x="454" y="2363"/>
                  </a:lnTo>
                  <a:lnTo>
                    <a:pt x="462" y="2363"/>
                  </a:lnTo>
                  <a:lnTo>
                    <a:pt x="471" y="2363"/>
                  </a:lnTo>
                  <a:lnTo>
                    <a:pt x="480" y="2363"/>
                  </a:lnTo>
                  <a:lnTo>
                    <a:pt x="489" y="2360"/>
                  </a:lnTo>
                  <a:lnTo>
                    <a:pt x="494" y="2351"/>
                  </a:lnTo>
                  <a:lnTo>
                    <a:pt x="494" y="2342"/>
                  </a:lnTo>
                  <a:lnTo>
                    <a:pt x="494" y="2334"/>
                  </a:lnTo>
                  <a:lnTo>
                    <a:pt x="497" y="2325"/>
                  </a:lnTo>
                  <a:lnTo>
                    <a:pt x="506" y="2322"/>
                  </a:lnTo>
                  <a:lnTo>
                    <a:pt x="515" y="2322"/>
                  </a:lnTo>
                  <a:lnTo>
                    <a:pt x="524" y="2322"/>
                  </a:lnTo>
                  <a:lnTo>
                    <a:pt x="532" y="2322"/>
                  </a:lnTo>
                  <a:lnTo>
                    <a:pt x="541" y="2322"/>
                  </a:lnTo>
                  <a:lnTo>
                    <a:pt x="550" y="2328"/>
                  </a:lnTo>
                  <a:lnTo>
                    <a:pt x="556" y="2337"/>
                  </a:lnTo>
                  <a:lnTo>
                    <a:pt x="564" y="2342"/>
                  </a:lnTo>
                  <a:lnTo>
                    <a:pt x="570" y="2351"/>
                  </a:lnTo>
                  <a:lnTo>
                    <a:pt x="576" y="2360"/>
                  </a:lnTo>
                  <a:lnTo>
                    <a:pt x="585" y="2368"/>
                  </a:lnTo>
                  <a:lnTo>
                    <a:pt x="590" y="2377"/>
                  </a:lnTo>
                  <a:lnTo>
                    <a:pt x="599" y="2383"/>
                  </a:lnTo>
                  <a:lnTo>
                    <a:pt x="611" y="2386"/>
                  </a:lnTo>
                  <a:lnTo>
                    <a:pt x="620" y="2386"/>
                  </a:lnTo>
                  <a:lnTo>
                    <a:pt x="628" y="2386"/>
                  </a:lnTo>
                  <a:lnTo>
                    <a:pt x="637" y="2386"/>
                  </a:lnTo>
                  <a:lnTo>
                    <a:pt x="646" y="2386"/>
                  </a:lnTo>
                  <a:lnTo>
                    <a:pt x="655" y="2386"/>
                  </a:lnTo>
                  <a:lnTo>
                    <a:pt x="663" y="2389"/>
                  </a:lnTo>
                  <a:lnTo>
                    <a:pt x="672" y="2389"/>
                  </a:lnTo>
                  <a:lnTo>
                    <a:pt x="681" y="2389"/>
                  </a:lnTo>
                  <a:lnTo>
                    <a:pt x="689" y="2389"/>
                  </a:lnTo>
                  <a:lnTo>
                    <a:pt x="698" y="2394"/>
                  </a:lnTo>
                  <a:lnTo>
                    <a:pt x="707" y="2403"/>
                  </a:lnTo>
                  <a:lnTo>
                    <a:pt x="713" y="2412"/>
                  </a:lnTo>
                  <a:lnTo>
                    <a:pt x="716" y="2420"/>
                  </a:lnTo>
                  <a:lnTo>
                    <a:pt x="716" y="2429"/>
                  </a:lnTo>
                  <a:lnTo>
                    <a:pt x="716" y="2437"/>
                  </a:lnTo>
                  <a:lnTo>
                    <a:pt x="719" y="2446"/>
                  </a:lnTo>
                  <a:lnTo>
                    <a:pt x="719" y="2455"/>
                  </a:lnTo>
                  <a:lnTo>
                    <a:pt x="721" y="2463"/>
                  </a:lnTo>
                  <a:lnTo>
                    <a:pt x="721" y="2472"/>
                  </a:lnTo>
                  <a:lnTo>
                    <a:pt x="721" y="2481"/>
                  </a:lnTo>
                  <a:lnTo>
                    <a:pt x="721" y="2489"/>
                  </a:lnTo>
                  <a:lnTo>
                    <a:pt x="713" y="2492"/>
                  </a:lnTo>
                  <a:lnTo>
                    <a:pt x="704" y="2492"/>
                  </a:lnTo>
                  <a:lnTo>
                    <a:pt x="698" y="2501"/>
                  </a:lnTo>
                  <a:lnTo>
                    <a:pt x="707" y="2507"/>
                  </a:lnTo>
                  <a:lnTo>
                    <a:pt x="716" y="2512"/>
                  </a:lnTo>
                  <a:lnTo>
                    <a:pt x="721" y="2521"/>
                  </a:lnTo>
                  <a:lnTo>
                    <a:pt x="721" y="2530"/>
                  </a:lnTo>
                  <a:lnTo>
                    <a:pt x="719" y="2538"/>
                  </a:lnTo>
                  <a:lnTo>
                    <a:pt x="719" y="2547"/>
                  </a:lnTo>
                  <a:lnTo>
                    <a:pt x="719" y="2556"/>
                  </a:lnTo>
                  <a:lnTo>
                    <a:pt x="719" y="2564"/>
                  </a:lnTo>
                  <a:lnTo>
                    <a:pt x="721" y="2576"/>
                  </a:lnTo>
                  <a:lnTo>
                    <a:pt x="721" y="2584"/>
                  </a:lnTo>
                  <a:lnTo>
                    <a:pt x="727" y="2593"/>
                  </a:lnTo>
                  <a:lnTo>
                    <a:pt x="736" y="2602"/>
                  </a:lnTo>
                  <a:lnTo>
                    <a:pt x="742" y="2613"/>
                  </a:lnTo>
                  <a:lnTo>
                    <a:pt x="745" y="2625"/>
                  </a:lnTo>
                  <a:lnTo>
                    <a:pt x="756" y="2633"/>
                  </a:lnTo>
                  <a:lnTo>
                    <a:pt x="765" y="2642"/>
                  </a:lnTo>
                  <a:lnTo>
                    <a:pt x="768" y="2654"/>
                  </a:lnTo>
                  <a:lnTo>
                    <a:pt x="768" y="2662"/>
                  </a:lnTo>
                  <a:lnTo>
                    <a:pt x="768" y="2671"/>
                  </a:lnTo>
                  <a:lnTo>
                    <a:pt x="771" y="2682"/>
                  </a:lnTo>
                  <a:lnTo>
                    <a:pt x="780" y="2688"/>
                  </a:lnTo>
                  <a:lnTo>
                    <a:pt x="783" y="2697"/>
                  </a:lnTo>
                  <a:lnTo>
                    <a:pt x="786" y="2705"/>
                  </a:lnTo>
                  <a:lnTo>
                    <a:pt x="788" y="2714"/>
                  </a:lnTo>
                  <a:lnTo>
                    <a:pt x="788" y="2723"/>
                  </a:lnTo>
                  <a:lnTo>
                    <a:pt x="788" y="2731"/>
                  </a:lnTo>
                  <a:lnTo>
                    <a:pt x="788" y="2740"/>
                  </a:lnTo>
                  <a:lnTo>
                    <a:pt x="788" y="2749"/>
                  </a:lnTo>
                  <a:lnTo>
                    <a:pt x="788" y="2757"/>
                  </a:lnTo>
                  <a:lnTo>
                    <a:pt x="788" y="2769"/>
                  </a:lnTo>
                  <a:lnTo>
                    <a:pt x="783" y="2778"/>
                  </a:lnTo>
                  <a:lnTo>
                    <a:pt x="774" y="2778"/>
                  </a:lnTo>
                  <a:lnTo>
                    <a:pt x="765" y="2783"/>
                  </a:lnTo>
                  <a:lnTo>
                    <a:pt x="759" y="2792"/>
                  </a:lnTo>
                  <a:lnTo>
                    <a:pt x="751" y="2795"/>
                  </a:lnTo>
                  <a:lnTo>
                    <a:pt x="742" y="2789"/>
                  </a:lnTo>
                  <a:lnTo>
                    <a:pt x="730" y="2786"/>
                  </a:lnTo>
                  <a:lnTo>
                    <a:pt x="721" y="2780"/>
                  </a:lnTo>
                  <a:lnTo>
                    <a:pt x="713" y="2778"/>
                  </a:lnTo>
                  <a:lnTo>
                    <a:pt x="710" y="2766"/>
                  </a:lnTo>
                  <a:lnTo>
                    <a:pt x="707" y="2757"/>
                  </a:lnTo>
                  <a:lnTo>
                    <a:pt x="698" y="2754"/>
                  </a:lnTo>
                  <a:lnTo>
                    <a:pt x="687" y="2754"/>
                  </a:lnTo>
                  <a:lnTo>
                    <a:pt x="678" y="2746"/>
                  </a:lnTo>
                  <a:lnTo>
                    <a:pt x="672" y="2737"/>
                  </a:lnTo>
                  <a:lnTo>
                    <a:pt x="660" y="2731"/>
                  </a:lnTo>
                  <a:lnTo>
                    <a:pt x="652" y="2729"/>
                  </a:lnTo>
                  <a:lnTo>
                    <a:pt x="643" y="2729"/>
                  </a:lnTo>
                  <a:lnTo>
                    <a:pt x="634" y="2729"/>
                  </a:lnTo>
                  <a:lnTo>
                    <a:pt x="628" y="2737"/>
                  </a:lnTo>
                  <a:lnTo>
                    <a:pt x="628" y="2746"/>
                  </a:lnTo>
                  <a:lnTo>
                    <a:pt x="631" y="2754"/>
                  </a:lnTo>
                  <a:lnTo>
                    <a:pt x="640" y="2763"/>
                  </a:lnTo>
                  <a:lnTo>
                    <a:pt x="652" y="2769"/>
                  </a:lnTo>
                  <a:lnTo>
                    <a:pt x="660" y="2775"/>
                  </a:lnTo>
                  <a:lnTo>
                    <a:pt x="666" y="2783"/>
                  </a:lnTo>
                  <a:lnTo>
                    <a:pt x="669" y="2792"/>
                  </a:lnTo>
                  <a:lnTo>
                    <a:pt x="672" y="2801"/>
                  </a:lnTo>
                  <a:lnTo>
                    <a:pt x="675" y="2809"/>
                  </a:lnTo>
                  <a:lnTo>
                    <a:pt x="678" y="2818"/>
                  </a:lnTo>
                  <a:lnTo>
                    <a:pt x="687" y="2827"/>
                  </a:lnTo>
                  <a:lnTo>
                    <a:pt x="695" y="2829"/>
                  </a:lnTo>
                  <a:lnTo>
                    <a:pt x="707" y="2829"/>
                  </a:lnTo>
                  <a:lnTo>
                    <a:pt x="713" y="2818"/>
                  </a:lnTo>
                  <a:lnTo>
                    <a:pt x="713" y="2809"/>
                  </a:lnTo>
                  <a:lnTo>
                    <a:pt x="716" y="2801"/>
                  </a:lnTo>
                  <a:lnTo>
                    <a:pt x="724" y="2795"/>
                  </a:lnTo>
                  <a:lnTo>
                    <a:pt x="733" y="2795"/>
                  </a:lnTo>
                  <a:lnTo>
                    <a:pt x="742" y="2792"/>
                  </a:lnTo>
                  <a:lnTo>
                    <a:pt x="751" y="2801"/>
                  </a:lnTo>
                  <a:lnTo>
                    <a:pt x="762" y="2803"/>
                  </a:lnTo>
                  <a:lnTo>
                    <a:pt x="771" y="2803"/>
                  </a:lnTo>
                  <a:lnTo>
                    <a:pt x="780" y="2803"/>
                  </a:lnTo>
                  <a:lnTo>
                    <a:pt x="788" y="2803"/>
                  </a:lnTo>
                  <a:lnTo>
                    <a:pt x="788" y="2795"/>
                  </a:lnTo>
                  <a:lnTo>
                    <a:pt x="788" y="2786"/>
                  </a:lnTo>
                  <a:lnTo>
                    <a:pt x="797" y="2780"/>
                  </a:lnTo>
                  <a:lnTo>
                    <a:pt x="806" y="2780"/>
                  </a:lnTo>
                  <a:lnTo>
                    <a:pt x="815" y="2772"/>
                  </a:lnTo>
                  <a:lnTo>
                    <a:pt x="815" y="2763"/>
                  </a:lnTo>
                  <a:lnTo>
                    <a:pt x="815" y="2754"/>
                  </a:lnTo>
                  <a:lnTo>
                    <a:pt x="815" y="2746"/>
                  </a:lnTo>
                  <a:lnTo>
                    <a:pt x="815" y="2737"/>
                  </a:lnTo>
                  <a:lnTo>
                    <a:pt x="818" y="2729"/>
                  </a:lnTo>
                  <a:lnTo>
                    <a:pt x="826" y="2726"/>
                  </a:lnTo>
                  <a:lnTo>
                    <a:pt x="835" y="2720"/>
                  </a:lnTo>
                  <a:lnTo>
                    <a:pt x="844" y="2717"/>
                  </a:lnTo>
                  <a:lnTo>
                    <a:pt x="852" y="2720"/>
                  </a:lnTo>
                  <a:lnTo>
                    <a:pt x="855" y="2729"/>
                  </a:lnTo>
                  <a:lnTo>
                    <a:pt x="858" y="2740"/>
                  </a:lnTo>
                  <a:lnTo>
                    <a:pt x="858" y="2749"/>
                  </a:lnTo>
                  <a:lnTo>
                    <a:pt x="861" y="2757"/>
                  </a:lnTo>
                  <a:lnTo>
                    <a:pt x="870" y="2763"/>
                  </a:lnTo>
                  <a:lnTo>
                    <a:pt x="882" y="2766"/>
                  </a:lnTo>
                  <a:lnTo>
                    <a:pt x="887" y="2757"/>
                  </a:lnTo>
                  <a:lnTo>
                    <a:pt x="887" y="2749"/>
                  </a:lnTo>
                  <a:lnTo>
                    <a:pt x="887" y="2740"/>
                  </a:lnTo>
                  <a:lnTo>
                    <a:pt x="887" y="2731"/>
                  </a:lnTo>
                  <a:lnTo>
                    <a:pt x="885" y="2723"/>
                  </a:lnTo>
                  <a:lnTo>
                    <a:pt x="876" y="2714"/>
                  </a:lnTo>
                  <a:lnTo>
                    <a:pt x="870" y="2705"/>
                  </a:lnTo>
                  <a:lnTo>
                    <a:pt x="864" y="2697"/>
                  </a:lnTo>
                  <a:lnTo>
                    <a:pt x="855" y="2691"/>
                  </a:lnTo>
                  <a:lnTo>
                    <a:pt x="847" y="2682"/>
                  </a:lnTo>
                  <a:lnTo>
                    <a:pt x="838" y="2674"/>
                  </a:lnTo>
                  <a:lnTo>
                    <a:pt x="835" y="2665"/>
                  </a:lnTo>
                  <a:lnTo>
                    <a:pt x="832" y="2657"/>
                  </a:lnTo>
                  <a:lnTo>
                    <a:pt x="832" y="2648"/>
                  </a:lnTo>
                  <a:lnTo>
                    <a:pt x="841" y="2642"/>
                  </a:lnTo>
                  <a:lnTo>
                    <a:pt x="850" y="2642"/>
                  </a:lnTo>
                  <a:lnTo>
                    <a:pt x="852" y="2633"/>
                  </a:lnTo>
                  <a:lnTo>
                    <a:pt x="844" y="2628"/>
                  </a:lnTo>
                  <a:lnTo>
                    <a:pt x="835" y="2622"/>
                  </a:lnTo>
                  <a:lnTo>
                    <a:pt x="826" y="2619"/>
                  </a:lnTo>
                  <a:lnTo>
                    <a:pt x="820" y="2610"/>
                  </a:lnTo>
                  <a:lnTo>
                    <a:pt x="818" y="2602"/>
                  </a:lnTo>
                  <a:lnTo>
                    <a:pt x="812" y="2593"/>
                  </a:lnTo>
                  <a:lnTo>
                    <a:pt x="812" y="2584"/>
                  </a:lnTo>
                  <a:lnTo>
                    <a:pt x="809" y="2576"/>
                  </a:lnTo>
                  <a:lnTo>
                    <a:pt x="806" y="2564"/>
                  </a:lnTo>
                  <a:lnTo>
                    <a:pt x="806" y="2556"/>
                  </a:lnTo>
                  <a:lnTo>
                    <a:pt x="806" y="2547"/>
                  </a:lnTo>
                  <a:lnTo>
                    <a:pt x="806" y="2538"/>
                  </a:lnTo>
                  <a:lnTo>
                    <a:pt x="806" y="2530"/>
                  </a:lnTo>
                  <a:lnTo>
                    <a:pt x="806" y="2521"/>
                  </a:lnTo>
                  <a:lnTo>
                    <a:pt x="806" y="2512"/>
                  </a:lnTo>
                  <a:lnTo>
                    <a:pt x="806" y="2504"/>
                  </a:lnTo>
                  <a:lnTo>
                    <a:pt x="803" y="2495"/>
                  </a:lnTo>
                  <a:lnTo>
                    <a:pt x="800" y="2486"/>
                  </a:lnTo>
                  <a:lnTo>
                    <a:pt x="800" y="2478"/>
                  </a:lnTo>
                  <a:lnTo>
                    <a:pt x="800" y="2469"/>
                  </a:lnTo>
                  <a:lnTo>
                    <a:pt x="800" y="2461"/>
                  </a:lnTo>
                  <a:lnTo>
                    <a:pt x="800" y="2452"/>
                  </a:lnTo>
                  <a:lnTo>
                    <a:pt x="809" y="2452"/>
                  </a:lnTo>
                  <a:lnTo>
                    <a:pt x="818" y="2452"/>
                  </a:lnTo>
                  <a:lnTo>
                    <a:pt x="818" y="2443"/>
                  </a:lnTo>
                  <a:lnTo>
                    <a:pt x="820" y="2435"/>
                  </a:lnTo>
                  <a:lnTo>
                    <a:pt x="826" y="2426"/>
                  </a:lnTo>
                  <a:lnTo>
                    <a:pt x="835" y="2426"/>
                  </a:lnTo>
                  <a:lnTo>
                    <a:pt x="838" y="2435"/>
                  </a:lnTo>
                  <a:lnTo>
                    <a:pt x="847" y="2440"/>
                  </a:lnTo>
                  <a:lnTo>
                    <a:pt x="855" y="2435"/>
                  </a:lnTo>
                  <a:lnTo>
                    <a:pt x="864" y="2432"/>
                  </a:lnTo>
                  <a:lnTo>
                    <a:pt x="864" y="2440"/>
                  </a:lnTo>
                  <a:lnTo>
                    <a:pt x="864" y="2449"/>
                  </a:lnTo>
                  <a:lnTo>
                    <a:pt x="858" y="2458"/>
                  </a:lnTo>
                  <a:lnTo>
                    <a:pt x="850" y="2466"/>
                  </a:lnTo>
                  <a:lnTo>
                    <a:pt x="847" y="2475"/>
                  </a:lnTo>
                  <a:lnTo>
                    <a:pt x="855" y="2478"/>
                  </a:lnTo>
                  <a:lnTo>
                    <a:pt x="864" y="2478"/>
                  </a:lnTo>
                  <a:lnTo>
                    <a:pt x="864" y="2486"/>
                  </a:lnTo>
                  <a:lnTo>
                    <a:pt x="864" y="2495"/>
                  </a:lnTo>
                  <a:lnTo>
                    <a:pt x="873" y="2498"/>
                  </a:lnTo>
                  <a:lnTo>
                    <a:pt x="882" y="2498"/>
                  </a:lnTo>
                  <a:lnTo>
                    <a:pt x="882" y="2507"/>
                  </a:lnTo>
                  <a:lnTo>
                    <a:pt x="882" y="2515"/>
                  </a:lnTo>
                  <a:lnTo>
                    <a:pt x="879" y="2524"/>
                  </a:lnTo>
                  <a:lnTo>
                    <a:pt x="870" y="2527"/>
                  </a:lnTo>
                  <a:lnTo>
                    <a:pt x="864" y="2535"/>
                  </a:lnTo>
                  <a:lnTo>
                    <a:pt x="867" y="2544"/>
                  </a:lnTo>
                  <a:lnTo>
                    <a:pt x="870" y="2553"/>
                  </a:lnTo>
                  <a:lnTo>
                    <a:pt x="876" y="2561"/>
                  </a:lnTo>
                  <a:lnTo>
                    <a:pt x="882" y="2573"/>
                  </a:lnTo>
                  <a:lnTo>
                    <a:pt x="890" y="2584"/>
                  </a:lnTo>
                  <a:lnTo>
                    <a:pt x="893" y="2593"/>
                  </a:lnTo>
                  <a:lnTo>
                    <a:pt x="896" y="2602"/>
                  </a:lnTo>
                  <a:lnTo>
                    <a:pt x="899" y="2613"/>
                  </a:lnTo>
                  <a:lnTo>
                    <a:pt x="899" y="2622"/>
                  </a:lnTo>
                  <a:lnTo>
                    <a:pt x="902" y="2631"/>
                  </a:lnTo>
                  <a:lnTo>
                    <a:pt x="905" y="2639"/>
                  </a:lnTo>
                  <a:lnTo>
                    <a:pt x="911" y="2648"/>
                  </a:lnTo>
                  <a:lnTo>
                    <a:pt x="919" y="2657"/>
                  </a:lnTo>
                  <a:lnTo>
                    <a:pt x="928" y="2662"/>
                  </a:lnTo>
                  <a:lnTo>
                    <a:pt x="937" y="2671"/>
                  </a:lnTo>
                  <a:lnTo>
                    <a:pt x="943" y="2680"/>
                  </a:lnTo>
                  <a:lnTo>
                    <a:pt x="946" y="2688"/>
                  </a:lnTo>
                  <a:lnTo>
                    <a:pt x="949" y="2697"/>
                  </a:lnTo>
                  <a:lnTo>
                    <a:pt x="949" y="2705"/>
                  </a:lnTo>
                  <a:lnTo>
                    <a:pt x="949" y="2714"/>
                  </a:lnTo>
                  <a:lnTo>
                    <a:pt x="949" y="2723"/>
                  </a:lnTo>
                  <a:lnTo>
                    <a:pt x="943" y="2731"/>
                  </a:lnTo>
                  <a:lnTo>
                    <a:pt x="934" y="2734"/>
                  </a:lnTo>
                  <a:lnTo>
                    <a:pt x="928" y="2743"/>
                  </a:lnTo>
                  <a:lnTo>
                    <a:pt x="925" y="2752"/>
                  </a:lnTo>
                  <a:lnTo>
                    <a:pt x="925" y="2760"/>
                  </a:lnTo>
                  <a:lnTo>
                    <a:pt x="922" y="2769"/>
                  </a:lnTo>
                  <a:lnTo>
                    <a:pt x="922" y="2778"/>
                  </a:lnTo>
                  <a:lnTo>
                    <a:pt x="919" y="2786"/>
                  </a:lnTo>
                  <a:lnTo>
                    <a:pt x="911" y="2795"/>
                  </a:lnTo>
                  <a:lnTo>
                    <a:pt x="908" y="2803"/>
                  </a:lnTo>
                  <a:lnTo>
                    <a:pt x="908" y="2812"/>
                  </a:lnTo>
                  <a:lnTo>
                    <a:pt x="911" y="2821"/>
                  </a:lnTo>
                  <a:lnTo>
                    <a:pt x="922" y="2827"/>
                  </a:lnTo>
                  <a:lnTo>
                    <a:pt x="934" y="2832"/>
                  </a:lnTo>
                  <a:lnTo>
                    <a:pt x="940" y="2841"/>
                  </a:lnTo>
                  <a:lnTo>
                    <a:pt x="922" y="2832"/>
                  </a:lnTo>
                  <a:lnTo>
                    <a:pt x="946" y="2824"/>
                  </a:lnTo>
                  <a:lnTo>
                    <a:pt x="946" y="2832"/>
                  </a:lnTo>
                  <a:lnTo>
                    <a:pt x="946" y="2841"/>
                  </a:lnTo>
                  <a:lnTo>
                    <a:pt x="946" y="2850"/>
                  </a:lnTo>
                  <a:lnTo>
                    <a:pt x="940" y="2858"/>
                  </a:lnTo>
                  <a:lnTo>
                    <a:pt x="931" y="2861"/>
                  </a:lnTo>
                  <a:lnTo>
                    <a:pt x="922" y="2867"/>
                  </a:lnTo>
                  <a:lnTo>
                    <a:pt x="917" y="2876"/>
                  </a:lnTo>
                  <a:lnTo>
                    <a:pt x="919" y="2884"/>
                  </a:lnTo>
                  <a:lnTo>
                    <a:pt x="922" y="2893"/>
                  </a:lnTo>
                  <a:lnTo>
                    <a:pt x="917" y="2901"/>
                  </a:lnTo>
                  <a:lnTo>
                    <a:pt x="925" y="2904"/>
                  </a:lnTo>
                  <a:lnTo>
                    <a:pt x="934" y="2904"/>
                  </a:lnTo>
                  <a:lnTo>
                    <a:pt x="943" y="2904"/>
                  </a:lnTo>
                  <a:lnTo>
                    <a:pt x="951" y="2899"/>
                  </a:lnTo>
                  <a:lnTo>
                    <a:pt x="960" y="2893"/>
                  </a:lnTo>
                  <a:lnTo>
                    <a:pt x="969" y="2893"/>
                  </a:lnTo>
                  <a:lnTo>
                    <a:pt x="978" y="2899"/>
                  </a:lnTo>
                  <a:lnTo>
                    <a:pt x="983" y="2907"/>
                  </a:lnTo>
                  <a:lnTo>
                    <a:pt x="975" y="2904"/>
                  </a:lnTo>
                  <a:lnTo>
                    <a:pt x="966" y="2899"/>
                  </a:lnTo>
                  <a:lnTo>
                    <a:pt x="954" y="2896"/>
                  </a:lnTo>
                  <a:lnTo>
                    <a:pt x="940" y="2893"/>
                  </a:lnTo>
                  <a:lnTo>
                    <a:pt x="943" y="2910"/>
                  </a:lnTo>
                  <a:lnTo>
                    <a:pt x="951" y="2930"/>
                  </a:lnTo>
                  <a:lnTo>
                    <a:pt x="943" y="2933"/>
                  </a:lnTo>
                  <a:lnTo>
                    <a:pt x="940" y="2942"/>
                  </a:lnTo>
                  <a:lnTo>
                    <a:pt x="937" y="2950"/>
                  </a:lnTo>
                  <a:lnTo>
                    <a:pt x="946" y="2956"/>
                  </a:lnTo>
                  <a:lnTo>
                    <a:pt x="949" y="2965"/>
                  </a:lnTo>
                  <a:lnTo>
                    <a:pt x="951" y="2974"/>
                  </a:lnTo>
                  <a:lnTo>
                    <a:pt x="951" y="2982"/>
                  </a:lnTo>
                  <a:lnTo>
                    <a:pt x="951" y="2991"/>
                  </a:lnTo>
                  <a:lnTo>
                    <a:pt x="954" y="2999"/>
                  </a:lnTo>
                  <a:lnTo>
                    <a:pt x="957" y="3011"/>
                  </a:lnTo>
                  <a:lnTo>
                    <a:pt x="963" y="3002"/>
                  </a:lnTo>
                  <a:lnTo>
                    <a:pt x="963" y="2994"/>
                  </a:lnTo>
                  <a:lnTo>
                    <a:pt x="963" y="2985"/>
                  </a:lnTo>
                  <a:lnTo>
                    <a:pt x="963" y="2976"/>
                  </a:lnTo>
                  <a:lnTo>
                    <a:pt x="963" y="2968"/>
                  </a:lnTo>
                  <a:lnTo>
                    <a:pt x="969" y="2959"/>
                  </a:lnTo>
                  <a:lnTo>
                    <a:pt x="978" y="2953"/>
                  </a:lnTo>
                  <a:lnTo>
                    <a:pt x="983" y="2945"/>
                  </a:lnTo>
                  <a:lnTo>
                    <a:pt x="992" y="2942"/>
                  </a:lnTo>
                  <a:lnTo>
                    <a:pt x="1004" y="2945"/>
                  </a:lnTo>
                  <a:lnTo>
                    <a:pt x="1016" y="2945"/>
                  </a:lnTo>
                  <a:lnTo>
                    <a:pt x="1024" y="2945"/>
                  </a:lnTo>
                  <a:lnTo>
                    <a:pt x="1027" y="2936"/>
                  </a:lnTo>
                  <a:lnTo>
                    <a:pt x="1036" y="2945"/>
                  </a:lnTo>
                  <a:lnTo>
                    <a:pt x="1042" y="2953"/>
                  </a:lnTo>
                  <a:lnTo>
                    <a:pt x="1050" y="2962"/>
                  </a:lnTo>
                  <a:lnTo>
                    <a:pt x="1059" y="2971"/>
                  </a:lnTo>
                  <a:lnTo>
                    <a:pt x="1045" y="2959"/>
                  </a:lnTo>
                  <a:lnTo>
                    <a:pt x="1042" y="2950"/>
                  </a:lnTo>
                  <a:lnTo>
                    <a:pt x="1042" y="2942"/>
                  </a:lnTo>
                  <a:lnTo>
                    <a:pt x="1042" y="2933"/>
                  </a:lnTo>
                  <a:lnTo>
                    <a:pt x="1042" y="2925"/>
                  </a:lnTo>
                  <a:lnTo>
                    <a:pt x="1033" y="2916"/>
                  </a:lnTo>
                  <a:lnTo>
                    <a:pt x="1021" y="2907"/>
                  </a:lnTo>
                  <a:lnTo>
                    <a:pt x="1013" y="2899"/>
                  </a:lnTo>
                  <a:lnTo>
                    <a:pt x="1007" y="2890"/>
                  </a:lnTo>
                  <a:lnTo>
                    <a:pt x="1018" y="2893"/>
                  </a:lnTo>
                  <a:lnTo>
                    <a:pt x="1027" y="2896"/>
                  </a:lnTo>
                  <a:lnTo>
                    <a:pt x="1036" y="2901"/>
                  </a:lnTo>
                  <a:lnTo>
                    <a:pt x="1045" y="2907"/>
                  </a:lnTo>
                  <a:lnTo>
                    <a:pt x="1050" y="2916"/>
                  </a:lnTo>
                  <a:lnTo>
                    <a:pt x="1042" y="2913"/>
                  </a:lnTo>
                  <a:lnTo>
                    <a:pt x="1033" y="2907"/>
                  </a:lnTo>
                  <a:lnTo>
                    <a:pt x="1021" y="2899"/>
                  </a:lnTo>
                  <a:lnTo>
                    <a:pt x="1010" y="2896"/>
                  </a:lnTo>
                  <a:lnTo>
                    <a:pt x="1004" y="2887"/>
                  </a:lnTo>
                  <a:lnTo>
                    <a:pt x="1013" y="2881"/>
                  </a:lnTo>
                  <a:lnTo>
                    <a:pt x="1018" y="2873"/>
                  </a:lnTo>
                  <a:lnTo>
                    <a:pt x="1018" y="2864"/>
                  </a:lnTo>
                  <a:lnTo>
                    <a:pt x="1021" y="2855"/>
                  </a:lnTo>
                  <a:lnTo>
                    <a:pt x="1021" y="2847"/>
                  </a:lnTo>
                  <a:lnTo>
                    <a:pt x="1021" y="2838"/>
                  </a:lnTo>
                  <a:lnTo>
                    <a:pt x="1021" y="2829"/>
                  </a:lnTo>
                  <a:lnTo>
                    <a:pt x="1021" y="2821"/>
                  </a:lnTo>
                  <a:lnTo>
                    <a:pt x="1024" y="2812"/>
                  </a:lnTo>
                  <a:lnTo>
                    <a:pt x="1033" y="2812"/>
                  </a:lnTo>
                  <a:lnTo>
                    <a:pt x="1042" y="2809"/>
                  </a:lnTo>
                  <a:lnTo>
                    <a:pt x="1042" y="2818"/>
                  </a:lnTo>
                  <a:lnTo>
                    <a:pt x="1042" y="2827"/>
                  </a:lnTo>
                  <a:lnTo>
                    <a:pt x="1042" y="2835"/>
                  </a:lnTo>
                  <a:lnTo>
                    <a:pt x="1042" y="2844"/>
                  </a:lnTo>
                  <a:lnTo>
                    <a:pt x="1050" y="2850"/>
                  </a:lnTo>
                  <a:lnTo>
                    <a:pt x="1056" y="2841"/>
                  </a:lnTo>
                  <a:lnTo>
                    <a:pt x="1065" y="2841"/>
                  </a:lnTo>
                  <a:lnTo>
                    <a:pt x="1068" y="2850"/>
                  </a:lnTo>
                  <a:lnTo>
                    <a:pt x="1071" y="2841"/>
                  </a:lnTo>
                  <a:lnTo>
                    <a:pt x="1071" y="2832"/>
                  </a:lnTo>
                  <a:lnTo>
                    <a:pt x="1080" y="2827"/>
                  </a:lnTo>
                  <a:lnTo>
                    <a:pt x="1088" y="2827"/>
                  </a:lnTo>
                  <a:lnTo>
                    <a:pt x="1100" y="2835"/>
                  </a:lnTo>
                  <a:lnTo>
                    <a:pt x="1109" y="2835"/>
                  </a:lnTo>
                  <a:lnTo>
                    <a:pt x="1120" y="2835"/>
                  </a:lnTo>
                  <a:lnTo>
                    <a:pt x="1129" y="2835"/>
                  </a:lnTo>
                  <a:lnTo>
                    <a:pt x="1138" y="2838"/>
                  </a:lnTo>
                  <a:lnTo>
                    <a:pt x="1147" y="2841"/>
                  </a:lnTo>
                  <a:lnTo>
                    <a:pt x="1155" y="2844"/>
                  </a:lnTo>
                  <a:lnTo>
                    <a:pt x="1149" y="2852"/>
                  </a:lnTo>
                  <a:lnTo>
                    <a:pt x="1149" y="2861"/>
                  </a:lnTo>
                  <a:lnTo>
                    <a:pt x="1149" y="2870"/>
                  </a:lnTo>
                  <a:lnTo>
                    <a:pt x="1158" y="2878"/>
                  </a:lnTo>
                  <a:lnTo>
                    <a:pt x="1170" y="2878"/>
                  </a:lnTo>
                  <a:lnTo>
                    <a:pt x="1179" y="2878"/>
                  </a:lnTo>
                  <a:lnTo>
                    <a:pt x="1187" y="2878"/>
                  </a:lnTo>
                  <a:lnTo>
                    <a:pt x="1196" y="2878"/>
                  </a:lnTo>
                  <a:lnTo>
                    <a:pt x="1205" y="2876"/>
                  </a:lnTo>
                  <a:lnTo>
                    <a:pt x="1216" y="2873"/>
                  </a:lnTo>
                  <a:lnTo>
                    <a:pt x="1225" y="2873"/>
                  </a:lnTo>
                  <a:lnTo>
                    <a:pt x="1234" y="2873"/>
                  </a:lnTo>
                  <a:lnTo>
                    <a:pt x="1243" y="2873"/>
                  </a:lnTo>
                  <a:lnTo>
                    <a:pt x="1251" y="2873"/>
                  </a:lnTo>
                  <a:lnTo>
                    <a:pt x="1254" y="2884"/>
                  </a:lnTo>
                  <a:lnTo>
                    <a:pt x="1257" y="2893"/>
                  </a:lnTo>
                  <a:lnTo>
                    <a:pt x="1257" y="2901"/>
                  </a:lnTo>
                  <a:lnTo>
                    <a:pt x="1272" y="2907"/>
                  </a:lnTo>
                  <a:lnTo>
                    <a:pt x="1263" y="2913"/>
                  </a:lnTo>
                  <a:lnTo>
                    <a:pt x="1254" y="2913"/>
                  </a:lnTo>
                  <a:lnTo>
                    <a:pt x="1245" y="2913"/>
                  </a:lnTo>
                  <a:lnTo>
                    <a:pt x="1248" y="2878"/>
                  </a:lnTo>
                  <a:lnTo>
                    <a:pt x="1245" y="2896"/>
                  </a:lnTo>
                  <a:lnTo>
                    <a:pt x="1237" y="2896"/>
                  </a:lnTo>
                  <a:lnTo>
                    <a:pt x="1228" y="2893"/>
                  </a:lnTo>
                  <a:lnTo>
                    <a:pt x="1219" y="2896"/>
                  </a:lnTo>
                  <a:lnTo>
                    <a:pt x="1211" y="2896"/>
                  </a:lnTo>
                  <a:lnTo>
                    <a:pt x="1202" y="2896"/>
                  </a:lnTo>
                  <a:lnTo>
                    <a:pt x="1193" y="2893"/>
                  </a:lnTo>
                  <a:lnTo>
                    <a:pt x="1184" y="2890"/>
                  </a:lnTo>
                  <a:lnTo>
                    <a:pt x="1176" y="2890"/>
                  </a:lnTo>
                  <a:lnTo>
                    <a:pt x="1167" y="2887"/>
                  </a:lnTo>
                  <a:lnTo>
                    <a:pt x="1155" y="2887"/>
                  </a:lnTo>
                  <a:lnTo>
                    <a:pt x="1147" y="2887"/>
                  </a:lnTo>
                  <a:lnTo>
                    <a:pt x="1135" y="2887"/>
                  </a:lnTo>
                  <a:lnTo>
                    <a:pt x="1132" y="2896"/>
                  </a:lnTo>
                  <a:lnTo>
                    <a:pt x="1132" y="2904"/>
                  </a:lnTo>
                  <a:lnTo>
                    <a:pt x="1132" y="2913"/>
                  </a:lnTo>
                  <a:lnTo>
                    <a:pt x="1144" y="2916"/>
                  </a:lnTo>
                  <a:lnTo>
                    <a:pt x="1144" y="2925"/>
                  </a:lnTo>
                  <a:lnTo>
                    <a:pt x="1129" y="2927"/>
                  </a:lnTo>
                  <a:lnTo>
                    <a:pt x="1120" y="2927"/>
                  </a:lnTo>
                  <a:lnTo>
                    <a:pt x="1112" y="2927"/>
                  </a:lnTo>
                  <a:lnTo>
                    <a:pt x="1114" y="2936"/>
                  </a:lnTo>
                  <a:lnTo>
                    <a:pt x="1123" y="2936"/>
                  </a:lnTo>
                  <a:lnTo>
                    <a:pt x="1132" y="2942"/>
                  </a:lnTo>
                  <a:lnTo>
                    <a:pt x="1144" y="2948"/>
                  </a:lnTo>
                  <a:lnTo>
                    <a:pt x="1135" y="2953"/>
                  </a:lnTo>
                  <a:lnTo>
                    <a:pt x="1123" y="2953"/>
                  </a:lnTo>
                  <a:lnTo>
                    <a:pt x="1112" y="2953"/>
                  </a:lnTo>
                  <a:lnTo>
                    <a:pt x="1103" y="2953"/>
                  </a:lnTo>
                  <a:lnTo>
                    <a:pt x="1106" y="2962"/>
                  </a:lnTo>
                  <a:lnTo>
                    <a:pt x="1114" y="2965"/>
                  </a:lnTo>
                  <a:lnTo>
                    <a:pt x="1123" y="2974"/>
                  </a:lnTo>
                  <a:lnTo>
                    <a:pt x="1114" y="2982"/>
                  </a:lnTo>
                  <a:lnTo>
                    <a:pt x="1117" y="2991"/>
                  </a:lnTo>
                  <a:lnTo>
                    <a:pt x="1126" y="2994"/>
                  </a:lnTo>
                  <a:lnTo>
                    <a:pt x="1114" y="2999"/>
                  </a:lnTo>
                  <a:lnTo>
                    <a:pt x="1106" y="2999"/>
                  </a:lnTo>
                  <a:lnTo>
                    <a:pt x="1117" y="3005"/>
                  </a:lnTo>
                  <a:lnTo>
                    <a:pt x="1132" y="3008"/>
                  </a:lnTo>
                  <a:lnTo>
                    <a:pt x="1135" y="3017"/>
                  </a:lnTo>
                  <a:lnTo>
                    <a:pt x="1126" y="3022"/>
                  </a:lnTo>
                  <a:lnTo>
                    <a:pt x="1126" y="3034"/>
                  </a:lnTo>
                  <a:lnTo>
                    <a:pt x="1126" y="3046"/>
                  </a:lnTo>
                  <a:lnTo>
                    <a:pt x="1126" y="3054"/>
                  </a:lnTo>
                  <a:lnTo>
                    <a:pt x="1135" y="3054"/>
                  </a:lnTo>
                  <a:lnTo>
                    <a:pt x="1144" y="3054"/>
                  </a:lnTo>
                  <a:lnTo>
                    <a:pt x="1155" y="3054"/>
                  </a:lnTo>
                  <a:lnTo>
                    <a:pt x="1164" y="3054"/>
                  </a:lnTo>
                  <a:lnTo>
                    <a:pt x="1167" y="3063"/>
                  </a:lnTo>
                  <a:lnTo>
                    <a:pt x="1179" y="3069"/>
                  </a:lnTo>
                  <a:lnTo>
                    <a:pt x="1187" y="3069"/>
                  </a:lnTo>
                  <a:lnTo>
                    <a:pt x="1190" y="3080"/>
                  </a:lnTo>
                  <a:lnTo>
                    <a:pt x="1193" y="3089"/>
                  </a:lnTo>
                  <a:lnTo>
                    <a:pt x="1199" y="3097"/>
                  </a:lnTo>
                  <a:lnTo>
                    <a:pt x="1211" y="3103"/>
                  </a:lnTo>
                  <a:lnTo>
                    <a:pt x="1219" y="3103"/>
                  </a:lnTo>
                  <a:lnTo>
                    <a:pt x="1231" y="3103"/>
                  </a:lnTo>
                  <a:lnTo>
                    <a:pt x="1240" y="3100"/>
                  </a:lnTo>
                  <a:lnTo>
                    <a:pt x="1243" y="3092"/>
                  </a:lnTo>
                  <a:lnTo>
                    <a:pt x="1248" y="3083"/>
                  </a:lnTo>
                  <a:lnTo>
                    <a:pt x="1257" y="3083"/>
                  </a:lnTo>
                  <a:lnTo>
                    <a:pt x="1278" y="3097"/>
                  </a:lnTo>
                  <a:lnTo>
                    <a:pt x="1286" y="3103"/>
                  </a:lnTo>
                  <a:lnTo>
                    <a:pt x="1289" y="3112"/>
                  </a:lnTo>
                  <a:lnTo>
                    <a:pt x="1295" y="3120"/>
                  </a:lnTo>
                  <a:lnTo>
                    <a:pt x="1301" y="3129"/>
                  </a:lnTo>
                  <a:lnTo>
                    <a:pt x="1312" y="3141"/>
                  </a:lnTo>
                  <a:lnTo>
                    <a:pt x="1324" y="3146"/>
                  </a:lnTo>
                  <a:lnTo>
                    <a:pt x="1336" y="3152"/>
                  </a:lnTo>
                  <a:lnTo>
                    <a:pt x="1347" y="3155"/>
                  </a:lnTo>
                  <a:lnTo>
                    <a:pt x="1356" y="3155"/>
                  </a:lnTo>
                  <a:lnTo>
                    <a:pt x="1365" y="3155"/>
                  </a:lnTo>
                  <a:lnTo>
                    <a:pt x="1374" y="3155"/>
                  </a:lnTo>
                  <a:lnTo>
                    <a:pt x="1376" y="3146"/>
                  </a:lnTo>
                  <a:lnTo>
                    <a:pt x="1385" y="3138"/>
                  </a:lnTo>
                  <a:lnTo>
                    <a:pt x="1391" y="3129"/>
                  </a:lnTo>
                  <a:lnTo>
                    <a:pt x="1400" y="3132"/>
                  </a:lnTo>
                  <a:lnTo>
                    <a:pt x="1409" y="3138"/>
                  </a:lnTo>
                  <a:lnTo>
                    <a:pt x="1417" y="3149"/>
                  </a:lnTo>
                  <a:lnTo>
                    <a:pt x="1429" y="3152"/>
                  </a:lnTo>
                  <a:lnTo>
                    <a:pt x="1435" y="3155"/>
                  </a:lnTo>
                  <a:lnTo>
                    <a:pt x="1438" y="3164"/>
                  </a:lnTo>
                  <a:lnTo>
                    <a:pt x="1441" y="3172"/>
                  </a:lnTo>
                  <a:lnTo>
                    <a:pt x="1449" y="3178"/>
                  </a:lnTo>
                  <a:lnTo>
                    <a:pt x="1458" y="3178"/>
                  </a:lnTo>
                  <a:lnTo>
                    <a:pt x="1464" y="3169"/>
                  </a:lnTo>
                  <a:lnTo>
                    <a:pt x="1464" y="3161"/>
                  </a:lnTo>
                  <a:lnTo>
                    <a:pt x="1470" y="3152"/>
                  </a:lnTo>
                  <a:lnTo>
                    <a:pt x="1478" y="3152"/>
                  </a:lnTo>
                  <a:lnTo>
                    <a:pt x="1487" y="3155"/>
                  </a:lnTo>
                  <a:lnTo>
                    <a:pt x="1499" y="3161"/>
                  </a:lnTo>
                  <a:lnTo>
                    <a:pt x="1510" y="3161"/>
                  </a:lnTo>
                  <a:lnTo>
                    <a:pt x="1519" y="3161"/>
                  </a:lnTo>
                  <a:lnTo>
                    <a:pt x="1528" y="3161"/>
                  </a:lnTo>
                  <a:lnTo>
                    <a:pt x="1537" y="3158"/>
                  </a:lnTo>
                  <a:lnTo>
                    <a:pt x="1545" y="3158"/>
                  </a:lnTo>
                  <a:lnTo>
                    <a:pt x="1554" y="3164"/>
                  </a:lnTo>
                  <a:lnTo>
                    <a:pt x="1569" y="3169"/>
                  </a:lnTo>
                  <a:lnTo>
                    <a:pt x="1580" y="3169"/>
                  </a:lnTo>
                  <a:lnTo>
                    <a:pt x="1592" y="3169"/>
                  </a:lnTo>
                  <a:lnTo>
                    <a:pt x="1601" y="3169"/>
                  </a:lnTo>
                  <a:lnTo>
                    <a:pt x="1609" y="3169"/>
                  </a:lnTo>
                  <a:lnTo>
                    <a:pt x="1618" y="3169"/>
                  </a:lnTo>
                  <a:lnTo>
                    <a:pt x="1627" y="3169"/>
                  </a:lnTo>
                  <a:lnTo>
                    <a:pt x="1636" y="3169"/>
                  </a:lnTo>
                  <a:lnTo>
                    <a:pt x="1644" y="3169"/>
                  </a:lnTo>
                  <a:lnTo>
                    <a:pt x="1653" y="3169"/>
                  </a:lnTo>
                  <a:lnTo>
                    <a:pt x="1662" y="3169"/>
                  </a:lnTo>
                  <a:lnTo>
                    <a:pt x="1671" y="3169"/>
                  </a:lnTo>
                  <a:lnTo>
                    <a:pt x="1679" y="3169"/>
                  </a:lnTo>
                  <a:lnTo>
                    <a:pt x="1688" y="3169"/>
                  </a:lnTo>
                  <a:lnTo>
                    <a:pt x="1703" y="3169"/>
                  </a:lnTo>
                  <a:lnTo>
                    <a:pt x="1714" y="3172"/>
                  </a:lnTo>
                  <a:lnTo>
                    <a:pt x="1726" y="3175"/>
                  </a:lnTo>
                  <a:lnTo>
                    <a:pt x="1735" y="3175"/>
                  </a:lnTo>
                  <a:lnTo>
                    <a:pt x="1743" y="3175"/>
                  </a:lnTo>
                  <a:lnTo>
                    <a:pt x="1758" y="3175"/>
                  </a:lnTo>
                  <a:lnTo>
                    <a:pt x="1767" y="3175"/>
                  </a:lnTo>
                  <a:lnTo>
                    <a:pt x="1772" y="3167"/>
                  </a:lnTo>
                  <a:lnTo>
                    <a:pt x="1772" y="3158"/>
                  </a:lnTo>
                  <a:lnTo>
                    <a:pt x="1772" y="3149"/>
                  </a:lnTo>
                  <a:lnTo>
                    <a:pt x="1772" y="3141"/>
                  </a:lnTo>
                  <a:lnTo>
                    <a:pt x="1772" y="3132"/>
                  </a:lnTo>
                  <a:lnTo>
                    <a:pt x="1772" y="3123"/>
                  </a:lnTo>
                  <a:lnTo>
                    <a:pt x="1772" y="3112"/>
                  </a:lnTo>
                  <a:lnTo>
                    <a:pt x="1770" y="3103"/>
                  </a:lnTo>
                  <a:lnTo>
                    <a:pt x="1770" y="3095"/>
                  </a:lnTo>
                  <a:lnTo>
                    <a:pt x="1770" y="3086"/>
                  </a:lnTo>
                  <a:lnTo>
                    <a:pt x="1778" y="3080"/>
                  </a:lnTo>
                  <a:lnTo>
                    <a:pt x="1787" y="3080"/>
                  </a:lnTo>
                  <a:lnTo>
                    <a:pt x="1796" y="3089"/>
                  </a:lnTo>
                  <a:lnTo>
                    <a:pt x="1802" y="3097"/>
                  </a:lnTo>
                  <a:lnTo>
                    <a:pt x="1813" y="3103"/>
                  </a:lnTo>
                  <a:lnTo>
                    <a:pt x="1825" y="3112"/>
                  </a:lnTo>
                  <a:lnTo>
                    <a:pt x="1854" y="3109"/>
                  </a:lnTo>
                  <a:lnTo>
                    <a:pt x="1836" y="3103"/>
                  </a:lnTo>
                  <a:lnTo>
                    <a:pt x="1854" y="3103"/>
                  </a:lnTo>
                  <a:lnTo>
                    <a:pt x="1863" y="3103"/>
                  </a:lnTo>
                  <a:lnTo>
                    <a:pt x="1871" y="3103"/>
                  </a:lnTo>
                  <a:lnTo>
                    <a:pt x="1880" y="3106"/>
                  </a:lnTo>
                  <a:lnTo>
                    <a:pt x="1889" y="3100"/>
                  </a:lnTo>
                  <a:lnTo>
                    <a:pt x="1898" y="3097"/>
                  </a:lnTo>
                  <a:lnTo>
                    <a:pt x="1906" y="3095"/>
                  </a:lnTo>
                  <a:lnTo>
                    <a:pt x="1918" y="3103"/>
                  </a:lnTo>
                  <a:lnTo>
                    <a:pt x="1924" y="3112"/>
                  </a:lnTo>
                  <a:lnTo>
                    <a:pt x="1924" y="3120"/>
                  </a:lnTo>
                  <a:lnTo>
                    <a:pt x="1921" y="3129"/>
                  </a:lnTo>
                  <a:lnTo>
                    <a:pt x="1924" y="3138"/>
                  </a:lnTo>
                  <a:lnTo>
                    <a:pt x="1933" y="3144"/>
                  </a:lnTo>
                  <a:lnTo>
                    <a:pt x="1944" y="3152"/>
                  </a:lnTo>
                  <a:lnTo>
                    <a:pt x="1947" y="3144"/>
                  </a:lnTo>
                  <a:lnTo>
                    <a:pt x="1947" y="3135"/>
                  </a:lnTo>
                  <a:lnTo>
                    <a:pt x="1947" y="3126"/>
                  </a:lnTo>
                  <a:lnTo>
                    <a:pt x="1947" y="3118"/>
                  </a:lnTo>
                  <a:lnTo>
                    <a:pt x="1956" y="3115"/>
                  </a:lnTo>
                  <a:lnTo>
                    <a:pt x="1962" y="3106"/>
                  </a:lnTo>
                  <a:lnTo>
                    <a:pt x="1962" y="3097"/>
                  </a:lnTo>
                  <a:lnTo>
                    <a:pt x="1962" y="3089"/>
                  </a:lnTo>
                  <a:lnTo>
                    <a:pt x="1962" y="3080"/>
                  </a:lnTo>
                  <a:lnTo>
                    <a:pt x="1962" y="3071"/>
                  </a:lnTo>
                  <a:lnTo>
                    <a:pt x="1967" y="3063"/>
                  </a:lnTo>
                  <a:lnTo>
                    <a:pt x="1976" y="3060"/>
                  </a:lnTo>
                  <a:lnTo>
                    <a:pt x="1988" y="3060"/>
                  </a:lnTo>
                  <a:lnTo>
                    <a:pt x="2002" y="3063"/>
                  </a:lnTo>
                  <a:lnTo>
                    <a:pt x="2011" y="3063"/>
                  </a:lnTo>
                  <a:lnTo>
                    <a:pt x="2002" y="3054"/>
                  </a:lnTo>
                  <a:lnTo>
                    <a:pt x="1994" y="3048"/>
                  </a:lnTo>
                  <a:lnTo>
                    <a:pt x="1979" y="3043"/>
                  </a:lnTo>
                  <a:lnTo>
                    <a:pt x="1967" y="3034"/>
                  </a:lnTo>
                  <a:lnTo>
                    <a:pt x="1962" y="3025"/>
                  </a:lnTo>
                  <a:lnTo>
                    <a:pt x="1959" y="3017"/>
                  </a:lnTo>
                  <a:lnTo>
                    <a:pt x="1956" y="3008"/>
                  </a:lnTo>
                  <a:lnTo>
                    <a:pt x="1950" y="2999"/>
                  </a:lnTo>
                  <a:lnTo>
                    <a:pt x="1944" y="2991"/>
                  </a:lnTo>
                  <a:lnTo>
                    <a:pt x="1938" y="2982"/>
                  </a:lnTo>
                  <a:lnTo>
                    <a:pt x="1933" y="2974"/>
                  </a:lnTo>
                  <a:lnTo>
                    <a:pt x="1927" y="2965"/>
                  </a:lnTo>
                  <a:lnTo>
                    <a:pt x="1924" y="2956"/>
                  </a:lnTo>
                  <a:lnTo>
                    <a:pt x="1921" y="2948"/>
                  </a:lnTo>
                  <a:lnTo>
                    <a:pt x="1918" y="2939"/>
                  </a:lnTo>
                  <a:lnTo>
                    <a:pt x="1915" y="2930"/>
                  </a:lnTo>
                  <a:lnTo>
                    <a:pt x="1912" y="2922"/>
                  </a:lnTo>
                  <a:lnTo>
                    <a:pt x="1915" y="2913"/>
                  </a:lnTo>
                  <a:lnTo>
                    <a:pt x="1915" y="2904"/>
                  </a:lnTo>
                  <a:lnTo>
                    <a:pt x="1915" y="2896"/>
                  </a:lnTo>
                  <a:lnTo>
                    <a:pt x="1915" y="2887"/>
                  </a:lnTo>
                  <a:lnTo>
                    <a:pt x="1912" y="2878"/>
                  </a:lnTo>
                  <a:lnTo>
                    <a:pt x="1909" y="2870"/>
                  </a:lnTo>
                  <a:lnTo>
                    <a:pt x="1903" y="2861"/>
                  </a:lnTo>
                  <a:lnTo>
                    <a:pt x="1895" y="2852"/>
                  </a:lnTo>
                  <a:lnTo>
                    <a:pt x="1892" y="2844"/>
                  </a:lnTo>
                  <a:lnTo>
                    <a:pt x="1892" y="2835"/>
                  </a:lnTo>
                  <a:lnTo>
                    <a:pt x="1898" y="2827"/>
                  </a:lnTo>
                  <a:lnTo>
                    <a:pt x="1906" y="2824"/>
                  </a:lnTo>
                  <a:lnTo>
                    <a:pt x="1918" y="2821"/>
                  </a:lnTo>
                  <a:lnTo>
                    <a:pt x="1930" y="2818"/>
                  </a:lnTo>
                  <a:lnTo>
                    <a:pt x="1938" y="2812"/>
                  </a:lnTo>
                  <a:lnTo>
                    <a:pt x="1944" y="2803"/>
                  </a:lnTo>
                  <a:lnTo>
                    <a:pt x="1953" y="2798"/>
                  </a:lnTo>
                  <a:lnTo>
                    <a:pt x="1962" y="2798"/>
                  </a:lnTo>
                  <a:lnTo>
                    <a:pt x="1970" y="2798"/>
                  </a:lnTo>
                  <a:lnTo>
                    <a:pt x="1976" y="2789"/>
                  </a:lnTo>
                  <a:lnTo>
                    <a:pt x="1982" y="2780"/>
                  </a:lnTo>
                  <a:lnTo>
                    <a:pt x="1991" y="2775"/>
                  </a:lnTo>
                  <a:lnTo>
                    <a:pt x="1999" y="2775"/>
                  </a:lnTo>
                  <a:lnTo>
                    <a:pt x="2008" y="2769"/>
                  </a:lnTo>
                  <a:lnTo>
                    <a:pt x="2017" y="2763"/>
                  </a:lnTo>
                  <a:lnTo>
                    <a:pt x="2026" y="2760"/>
                  </a:lnTo>
                  <a:lnTo>
                    <a:pt x="2034" y="2760"/>
                  </a:lnTo>
                  <a:lnTo>
                    <a:pt x="2043" y="2760"/>
                  </a:lnTo>
                  <a:lnTo>
                    <a:pt x="2052" y="2754"/>
                  </a:lnTo>
                  <a:lnTo>
                    <a:pt x="2061" y="2754"/>
                  </a:lnTo>
                  <a:lnTo>
                    <a:pt x="2069" y="2757"/>
                  </a:lnTo>
                  <a:lnTo>
                    <a:pt x="2078" y="2757"/>
                  </a:lnTo>
                  <a:lnTo>
                    <a:pt x="2093" y="2760"/>
                  </a:lnTo>
                  <a:lnTo>
                    <a:pt x="2101" y="2760"/>
                  </a:lnTo>
                  <a:lnTo>
                    <a:pt x="2101" y="2769"/>
                  </a:lnTo>
                  <a:lnTo>
                    <a:pt x="2101" y="2778"/>
                  </a:lnTo>
                  <a:lnTo>
                    <a:pt x="2101" y="2786"/>
                  </a:lnTo>
                  <a:lnTo>
                    <a:pt x="2104" y="2795"/>
                  </a:lnTo>
                  <a:lnTo>
                    <a:pt x="2104" y="2803"/>
                  </a:lnTo>
                  <a:lnTo>
                    <a:pt x="2104" y="2812"/>
                  </a:lnTo>
                  <a:lnTo>
                    <a:pt x="2104" y="2821"/>
                  </a:lnTo>
                  <a:lnTo>
                    <a:pt x="2104" y="2829"/>
                  </a:lnTo>
                  <a:lnTo>
                    <a:pt x="2104" y="2838"/>
                  </a:lnTo>
                  <a:lnTo>
                    <a:pt x="2096" y="2841"/>
                  </a:lnTo>
                  <a:lnTo>
                    <a:pt x="2087" y="2841"/>
                  </a:lnTo>
                  <a:lnTo>
                    <a:pt x="2078" y="2841"/>
                  </a:lnTo>
                  <a:lnTo>
                    <a:pt x="2069" y="2841"/>
                  </a:lnTo>
                  <a:lnTo>
                    <a:pt x="2061" y="2841"/>
                  </a:lnTo>
                  <a:lnTo>
                    <a:pt x="2069" y="2841"/>
                  </a:lnTo>
                  <a:lnTo>
                    <a:pt x="2078" y="2835"/>
                  </a:lnTo>
                  <a:lnTo>
                    <a:pt x="2090" y="2835"/>
                  </a:lnTo>
                  <a:lnTo>
                    <a:pt x="2081" y="2832"/>
                  </a:lnTo>
                  <a:lnTo>
                    <a:pt x="2072" y="2832"/>
                  </a:lnTo>
                  <a:lnTo>
                    <a:pt x="2064" y="2832"/>
                  </a:lnTo>
                  <a:lnTo>
                    <a:pt x="2058" y="2841"/>
                  </a:lnTo>
                  <a:lnTo>
                    <a:pt x="2049" y="2844"/>
                  </a:lnTo>
                  <a:lnTo>
                    <a:pt x="2040" y="2847"/>
                  </a:lnTo>
                  <a:lnTo>
                    <a:pt x="2040" y="2855"/>
                  </a:lnTo>
                  <a:lnTo>
                    <a:pt x="2040" y="2864"/>
                  </a:lnTo>
                  <a:lnTo>
                    <a:pt x="2032" y="2870"/>
                  </a:lnTo>
                  <a:lnTo>
                    <a:pt x="2020" y="2870"/>
                  </a:lnTo>
                  <a:lnTo>
                    <a:pt x="2017" y="2861"/>
                  </a:lnTo>
                  <a:lnTo>
                    <a:pt x="2008" y="2858"/>
                  </a:lnTo>
                  <a:lnTo>
                    <a:pt x="2002" y="2867"/>
                  </a:lnTo>
                  <a:lnTo>
                    <a:pt x="2002" y="2876"/>
                  </a:lnTo>
                  <a:lnTo>
                    <a:pt x="2011" y="2878"/>
                  </a:lnTo>
                  <a:lnTo>
                    <a:pt x="2020" y="2884"/>
                  </a:lnTo>
                  <a:lnTo>
                    <a:pt x="2029" y="2896"/>
                  </a:lnTo>
                  <a:lnTo>
                    <a:pt x="2034" y="2907"/>
                  </a:lnTo>
                  <a:lnTo>
                    <a:pt x="2037" y="2916"/>
                  </a:lnTo>
                  <a:lnTo>
                    <a:pt x="2037" y="2925"/>
                  </a:lnTo>
                  <a:lnTo>
                    <a:pt x="2040" y="2933"/>
                  </a:lnTo>
                  <a:lnTo>
                    <a:pt x="2040" y="2942"/>
                  </a:lnTo>
                  <a:lnTo>
                    <a:pt x="2052" y="2945"/>
                  </a:lnTo>
                  <a:lnTo>
                    <a:pt x="2061" y="2953"/>
                  </a:lnTo>
                  <a:lnTo>
                    <a:pt x="2069" y="2959"/>
                  </a:lnTo>
                  <a:lnTo>
                    <a:pt x="2078" y="2965"/>
                  </a:lnTo>
                  <a:lnTo>
                    <a:pt x="2087" y="2965"/>
                  </a:lnTo>
                  <a:lnTo>
                    <a:pt x="2093" y="2976"/>
                  </a:lnTo>
                  <a:lnTo>
                    <a:pt x="2087" y="2985"/>
                  </a:lnTo>
                  <a:lnTo>
                    <a:pt x="2084" y="2994"/>
                  </a:lnTo>
                  <a:lnTo>
                    <a:pt x="2084" y="3005"/>
                  </a:lnTo>
                  <a:lnTo>
                    <a:pt x="2090" y="3017"/>
                  </a:lnTo>
                  <a:lnTo>
                    <a:pt x="2090" y="3025"/>
                  </a:lnTo>
                  <a:lnTo>
                    <a:pt x="2093" y="3017"/>
                  </a:lnTo>
                  <a:lnTo>
                    <a:pt x="2093" y="3008"/>
                  </a:lnTo>
                  <a:lnTo>
                    <a:pt x="2096" y="2999"/>
                  </a:lnTo>
                  <a:lnTo>
                    <a:pt x="2096" y="2991"/>
                  </a:lnTo>
                  <a:lnTo>
                    <a:pt x="2104" y="2988"/>
                  </a:lnTo>
                  <a:lnTo>
                    <a:pt x="2113" y="2988"/>
                  </a:lnTo>
                  <a:lnTo>
                    <a:pt x="2125" y="2988"/>
                  </a:lnTo>
                  <a:lnTo>
                    <a:pt x="2130" y="2999"/>
                  </a:lnTo>
                  <a:lnTo>
                    <a:pt x="2130" y="3008"/>
                  </a:lnTo>
                  <a:lnTo>
                    <a:pt x="2133" y="3017"/>
                  </a:lnTo>
                  <a:lnTo>
                    <a:pt x="2139" y="3028"/>
                  </a:lnTo>
                  <a:lnTo>
                    <a:pt x="2148" y="3034"/>
                  </a:lnTo>
                  <a:lnTo>
                    <a:pt x="2160" y="3040"/>
                  </a:lnTo>
                  <a:lnTo>
                    <a:pt x="2151" y="3043"/>
                  </a:lnTo>
                  <a:lnTo>
                    <a:pt x="2148" y="3051"/>
                  </a:lnTo>
                  <a:lnTo>
                    <a:pt x="2133" y="3054"/>
                  </a:lnTo>
                  <a:lnTo>
                    <a:pt x="2125" y="3051"/>
                  </a:lnTo>
                  <a:lnTo>
                    <a:pt x="2116" y="3051"/>
                  </a:lnTo>
                  <a:lnTo>
                    <a:pt x="2101" y="3046"/>
                  </a:lnTo>
                  <a:lnTo>
                    <a:pt x="2093" y="3037"/>
                  </a:lnTo>
                  <a:lnTo>
                    <a:pt x="2090" y="3046"/>
                  </a:lnTo>
                  <a:lnTo>
                    <a:pt x="2090" y="3054"/>
                  </a:lnTo>
                  <a:lnTo>
                    <a:pt x="2090" y="3063"/>
                  </a:lnTo>
                  <a:lnTo>
                    <a:pt x="2090" y="3071"/>
                  </a:lnTo>
                  <a:lnTo>
                    <a:pt x="2087" y="3080"/>
                  </a:lnTo>
                  <a:lnTo>
                    <a:pt x="2084" y="3089"/>
                  </a:lnTo>
                  <a:lnTo>
                    <a:pt x="2084" y="3097"/>
                  </a:lnTo>
                  <a:lnTo>
                    <a:pt x="2096" y="3097"/>
                  </a:lnTo>
                  <a:lnTo>
                    <a:pt x="2104" y="3092"/>
                  </a:lnTo>
                  <a:lnTo>
                    <a:pt x="2110" y="3100"/>
                  </a:lnTo>
                  <a:lnTo>
                    <a:pt x="2107" y="3109"/>
                  </a:lnTo>
                  <a:lnTo>
                    <a:pt x="2098" y="3118"/>
                  </a:lnTo>
                  <a:lnTo>
                    <a:pt x="2090" y="3123"/>
                  </a:lnTo>
                  <a:lnTo>
                    <a:pt x="2087" y="3109"/>
                  </a:lnTo>
                  <a:lnTo>
                    <a:pt x="2087" y="3132"/>
                  </a:lnTo>
                  <a:lnTo>
                    <a:pt x="2096" y="3126"/>
                  </a:lnTo>
                  <a:lnTo>
                    <a:pt x="2087" y="3109"/>
                  </a:lnTo>
                  <a:lnTo>
                    <a:pt x="2104" y="3112"/>
                  </a:lnTo>
                  <a:lnTo>
                    <a:pt x="2110" y="3103"/>
                  </a:lnTo>
                  <a:lnTo>
                    <a:pt x="2110" y="3112"/>
                  </a:lnTo>
                  <a:lnTo>
                    <a:pt x="2110" y="3120"/>
                  </a:lnTo>
                  <a:lnTo>
                    <a:pt x="2116" y="3129"/>
                  </a:lnTo>
                  <a:lnTo>
                    <a:pt x="2119" y="3138"/>
                  </a:lnTo>
                  <a:lnTo>
                    <a:pt x="2122" y="3149"/>
                  </a:lnTo>
                  <a:lnTo>
                    <a:pt x="2122" y="3158"/>
                  </a:lnTo>
                  <a:lnTo>
                    <a:pt x="2125" y="3167"/>
                  </a:lnTo>
                  <a:lnTo>
                    <a:pt x="2125" y="3175"/>
                  </a:lnTo>
                  <a:lnTo>
                    <a:pt x="2125" y="3184"/>
                  </a:lnTo>
                  <a:lnTo>
                    <a:pt x="2125" y="3193"/>
                  </a:lnTo>
                  <a:lnTo>
                    <a:pt x="2128" y="3201"/>
                  </a:lnTo>
                  <a:lnTo>
                    <a:pt x="2130" y="3210"/>
                  </a:lnTo>
                  <a:lnTo>
                    <a:pt x="2139" y="3210"/>
                  </a:lnTo>
                  <a:lnTo>
                    <a:pt x="2148" y="3210"/>
                  </a:lnTo>
                  <a:lnTo>
                    <a:pt x="2157" y="3207"/>
                  </a:lnTo>
                  <a:lnTo>
                    <a:pt x="2163" y="3198"/>
                  </a:lnTo>
                  <a:lnTo>
                    <a:pt x="2171" y="3195"/>
                  </a:lnTo>
                  <a:lnTo>
                    <a:pt x="2183" y="3193"/>
                  </a:lnTo>
                  <a:lnTo>
                    <a:pt x="2192" y="3190"/>
                  </a:lnTo>
                  <a:lnTo>
                    <a:pt x="2200" y="3184"/>
                  </a:lnTo>
                  <a:lnTo>
                    <a:pt x="2209" y="3181"/>
                  </a:lnTo>
                  <a:lnTo>
                    <a:pt x="2218" y="3181"/>
                  </a:lnTo>
                  <a:lnTo>
                    <a:pt x="2224" y="3172"/>
                  </a:lnTo>
                  <a:lnTo>
                    <a:pt x="2232" y="3169"/>
                  </a:lnTo>
                  <a:lnTo>
                    <a:pt x="2241" y="3169"/>
                  </a:lnTo>
                  <a:lnTo>
                    <a:pt x="2256" y="3169"/>
                  </a:lnTo>
                  <a:lnTo>
                    <a:pt x="2264" y="3169"/>
                  </a:lnTo>
                  <a:lnTo>
                    <a:pt x="2276" y="3178"/>
                  </a:lnTo>
                  <a:lnTo>
                    <a:pt x="2288" y="3184"/>
                  </a:lnTo>
                  <a:lnTo>
                    <a:pt x="2296" y="3187"/>
                  </a:lnTo>
                  <a:lnTo>
                    <a:pt x="2308" y="3190"/>
                  </a:lnTo>
                  <a:lnTo>
                    <a:pt x="2317" y="3195"/>
                  </a:lnTo>
                  <a:lnTo>
                    <a:pt x="2328" y="3198"/>
                  </a:lnTo>
                  <a:lnTo>
                    <a:pt x="2340" y="3201"/>
                  </a:lnTo>
                  <a:lnTo>
                    <a:pt x="2349" y="3207"/>
                  </a:lnTo>
                  <a:lnTo>
                    <a:pt x="2358" y="3216"/>
                  </a:lnTo>
                  <a:lnTo>
                    <a:pt x="2366" y="3221"/>
                  </a:lnTo>
                  <a:lnTo>
                    <a:pt x="2375" y="3227"/>
                  </a:lnTo>
                  <a:lnTo>
                    <a:pt x="2387" y="3230"/>
                  </a:lnTo>
                  <a:lnTo>
                    <a:pt x="2395" y="3230"/>
                  </a:lnTo>
                  <a:lnTo>
                    <a:pt x="2404" y="3230"/>
                  </a:lnTo>
                  <a:lnTo>
                    <a:pt x="2407" y="3239"/>
                  </a:lnTo>
                  <a:lnTo>
                    <a:pt x="2407" y="3247"/>
                  </a:lnTo>
                  <a:lnTo>
                    <a:pt x="2413" y="3256"/>
                  </a:lnTo>
                  <a:lnTo>
                    <a:pt x="2422" y="3262"/>
                  </a:lnTo>
                  <a:lnTo>
                    <a:pt x="2436" y="3265"/>
                  </a:lnTo>
                  <a:lnTo>
                    <a:pt x="2451" y="3270"/>
                  </a:lnTo>
                  <a:lnTo>
                    <a:pt x="2457" y="3279"/>
                  </a:lnTo>
                  <a:lnTo>
                    <a:pt x="2457" y="3288"/>
                  </a:lnTo>
                  <a:lnTo>
                    <a:pt x="2468" y="3291"/>
                  </a:lnTo>
                  <a:lnTo>
                    <a:pt x="2483" y="3288"/>
                  </a:lnTo>
                  <a:lnTo>
                    <a:pt x="2491" y="3285"/>
                  </a:lnTo>
                  <a:lnTo>
                    <a:pt x="2500" y="3276"/>
                  </a:lnTo>
                  <a:lnTo>
                    <a:pt x="2509" y="3270"/>
                  </a:lnTo>
                  <a:lnTo>
                    <a:pt x="2515" y="3262"/>
                  </a:lnTo>
                  <a:lnTo>
                    <a:pt x="2521" y="3253"/>
                  </a:lnTo>
                  <a:lnTo>
                    <a:pt x="2526" y="3244"/>
                  </a:lnTo>
                  <a:lnTo>
                    <a:pt x="2532" y="3236"/>
                  </a:lnTo>
                  <a:lnTo>
                    <a:pt x="2535" y="3227"/>
                  </a:lnTo>
                  <a:lnTo>
                    <a:pt x="2541" y="3218"/>
                  </a:lnTo>
                  <a:lnTo>
                    <a:pt x="2544" y="3210"/>
                  </a:lnTo>
                  <a:lnTo>
                    <a:pt x="2544" y="3198"/>
                  </a:lnTo>
                  <a:lnTo>
                    <a:pt x="2544" y="3190"/>
                  </a:lnTo>
                  <a:lnTo>
                    <a:pt x="2553" y="3181"/>
                  </a:lnTo>
                  <a:lnTo>
                    <a:pt x="2567" y="3181"/>
                  </a:lnTo>
                  <a:lnTo>
                    <a:pt x="2599" y="3155"/>
                  </a:lnTo>
                  <a:lnTo>
                    <a:pt x="2599" y="3164"/>
                  </a:lnTo>
                  <a:lnTo>
                    <a:pt x="2608" y="3169"/>
                  </a:lnTo>
                  <a:lnTo>
                    <a:pt x="2617" y="3178"/>
                  </a:lnTo>
                  <a:lnTo>
                    <a:pt x="2625" y="3181"/>
                  </a:lnTo>
                  <a:lnTo>
                    <a:pt x="2634" y="3178"/>
                  </a:lnTo>
                  <a:lnTo>
                    <a:pt x="2643" y="3172"/>
                  </a:lnTo>
                  <a:lnTo>
                    <a:pt x="2657" y="3169"/>
                  </a:lnTo>
                  <a:lnTo>
                    <a:pt x="2666" y="3169"/>
                  </a:lnTo>
                  <a:lnTo>
                    <a:pt x="2675" y="3169"/>
                  </a:lnTo>
                  <a:lnTo>
                    <a:pt x="2684" y="3164"/>
                  </a:lnTo>
                  <a:lnTo>
                    <a:pt x="2692" y="3155"/>
                  </a:lnTo>
                  <a:lnTo>
                    <a:pt x="2739" y="3155"/>
                  </a:lnTo>
                  <a:lnTo>
                    <a:pt x="2733" y="3138"/>
                  </a:lnTo>
                  <a:lnTo>
                    <a:pt x="2733" y="3126"/>
                  </a:lnTo>
                  <a:lnTo>
                    <a:pt x="2730" y="3118"/>
                  </a:lnTo>
                  <a:lnTo>
                    <a:pt x="2739" y="3112"/>
                  </a:lnTo>
                  <a:lnTo>
                    <a:pt x="2748" y="3106"/>
                  </a:lnTo>
                  <a:lnTo>
                    <a:pt x="2753" y="3097"/>
                  </a:lnTo>
                  <a:lnTo>
                    <a:pt x="2762" y="3092"/>
                  </a:lnTo>
                  <a:lnTo>
                    <a:pt x="2771" y="3092"/>
                  </a:lnTo>
                  <a:lnTo>
                    <a:pt x="2780" y="3095"/>
                  </a:lnTo>
                  <a:lnTo>
                    <a:pt x="2783" y="3103"/>
                  </a:lnTo>
                  <a:lnTo>
                    <a:pt x="2786" y="3112"/>
                  </a:lnTo>
                  <a:lnTo>
                    <a:pt x="2786" y="3126"/>
                  </a:lnTo>
                  <a:lnTo>
                    <a:pt x="2788" y="3135"/>
                  </a:lnTo>
                  <a:lnTo>
                    <a:pt x="2791" y="3144"/>
                  </a:lnTo>
                  <a:lnTo>
                    <a:pt x="2794" y="3152"/>
                  </a:lnTo>
                  <a:lnTo>
                    <a:pt x="2800" y="3161"/>
                  </a:lnTo>
                  <a:lnTo>
                    <a:pt x="2809" y="3167"/>
                  </a:lnTo>
                  <a:lnTo>
                    <a:pt x="2818" y="3167"/>
                  </a:lnTo>
                  <a:lnTo>
                    <a:pt x="2826" y="3167"/>
                  </a:lnTo>
                  <a:lnTo>
                    <a:pt x="2832" y="3158"/>
                  </a:lnTo>
                  <a:lnTo>
                    <a:pt x="2841" y="3152"/>
                  </a:lnTo>
                  <a:lnTo>
                    <a:pt x="2844" y="3144"/>
                  </a:lnTo>
                  <a:lnTo>
                    <a:pt x="2847" y="3135"/>
                  </a:lnTo>
                  <a:lnTo>
                    <a:pt x="2850" y="3123"/>
                  </a:lnTo>
                  <a:lnTo>
                    <a:pt x="2858" y="3115"/>
                  </a:lnTo>
                  <a:lnTo>
                    <a:pt x="2870" y="3115"/>
                  </a:lnTo>
                  <a:lnTo>
                    <a:pt x="2879" y="3115"/>
                  </a:lnTo>
                  <a:lnTo>
                    <a:pt x="2887" y="3115"/>
                  </a:lnTo>
                  <a:lnTo>
                    <a:pt x="2896" y="3115"/>
                  </a:lnTo>
                  <a:lnTo>
                    <a:pt x="2902" y="3106"/>
                  </a:lnTo>
                  <a:lnTo>
                    <a:pt x="2914" y="3103"/>
                  </a:lnTo>
                  <a:lnTo>
                    <a:pt x="2922" y="3103"/>
                  </a:lnTo>
                  <a:lnTo>
                    <a:pt x="2925" y="3095"/>
                  </a:lnTo>
                  <a:lnTo>
                    <a:pt x="2925" y="3086"/>
                  </a:lnTo>
                  <a:lnTo>
                    <a:pt x="2922" y="3077"/>
                  </a:lnTo>
                  <a:lnTo>
                    <a:pt x="2917" y="3066"/>
                  </a:lnTo>
                  <a:lnTo>
                    <a:pt x="2911" y="3057"/>
                  </a:lnTo>
                  <a:lnTo>
                    <a:pt x="2905" y="3048"/>
                  </a:lnTo>
                  <a:lnTo>
                    <a:pt x="2896" y="3046"/>
                  </a:lnTo>
                  <a:lnTo>
                    <a:pt x="2887" y="3048"/>
                  </a:lnTo>
                  <a:lnTo>
                    <a:pt x="2879" y="3051"/>
                  </a:lnTo>
                  <a:lnTo>
                    <a:pt x="2876" y="3060"/>
                  </a:lnTo>
                  <a:lnTo>
                    <a:pt x="2873" y="3069"/>
                  </a:lnTo>
                  <a:lnTo>
                    <a:pt x="2864" y="3066"/>
                  </a:lnTo>
                  <a:lnTo>
                    <a:pt x="2861" y="3054"/>
                  </a:lnTo>
                  <a:lnTo>
                    <a:pt x="2858" y="3043"/>
                  </a:lnTo>
                  <a:lnTo>
                    <a:pt x="2858" y="3034"/>
                  </a:lnTo>
                  <a:lnTo>
                    <a:pt x="2855" y="3025"/>
                  </a:lnTo>
                  <a:lnTo>
                    <a:pt x="2850" y="3017"/>
                  </a:lnTo>
                  <a:lnTo>
                    <a:pt x="2850" y="3008"/>
                  </a:lnTo>
                  <a:lnTo>
                    <a:pt x="2850" y="2997"/>
                  </a:lnTo>
                  <a:lnTo>
                    <a:pt x="2850" y="2988"/>
                  </a:lnTo>
                  <a:lnTo>
                    <a:pt x="2858" y="2982"/>
                  </a:lnTo>
                  <a:lnTo>
                    <a:pt x="2867" y="2982"/>
                  </a:lnTo>
                  <a:lnTo>
                    <a:pt x="2876" y="2979"/>
                  </a:lnTo>
                  <a:lnTo>
                    <a:pt x="2884" y="2974"/>
                  </a:lnTo>
                  <a:lnTo>
                    <a:pt x="2887" y="2962"/>
                  </a:lnTo>
                  <a:lnTo>
                    <a:pt x="2896" y="2962"/>
                  </a:lnTo>
                  <a:lnTo>
                    <a:pt x="2905" y="2962"/>
                  </a:lnTo>
                  <a:lnTo>
                    <a:pt x="2914" y="2962"/>
                  </a:lnTo>
                  <a:lnTo>
                    <a:pt x="2922" y="2959"/>
                  </a:lnTo>
                  <a:lnTo>
                    <a:pt x="2931" y="2956"/>
                  </a:lnTo>
                  <a:lnTo>
                    <a:pt x="2937" y="2948"/>
                  </a:lnTo>
                  <a:lnTo>
                    <a:pt x="2943" y="2939"/>
                  </a:lnTo>
                  <a:lnTo>
                    <a:pt x="2946" y="2930"/>
                  </a:lnTo>
                  <a:lnTo>
                    <a:pt x="2954" y="2925"/>
                  </a:lnTo>
                  <a:lnTo>
                    <a:pt x="2963" y="2919"/>
                  </a:lnTo>
                  <a:lnTo>
                    <a:pt x="2972" y="2916"/>
                  </a:lnTo>
                  <a:lnTo>
                    <a:pt x="2981" y="2913"/>
                  </a:lnTo>
                  <a:lnTo>
                    <a:pt x="2983" y="2904"/>
                  </a:lnTo>
                  <a:lnTo>
                    <a:pt x="2989" y="2893"/>
                  </a:lnTo>
                  <a:lnTo>
                    <a:pt x="2998" y="2881"/>
                  </a:lnTo>
                  <a:lnTo>
                    <a:pt x="3004" y="2873"/>
                  </a:lnTo>
                  <a:lnTo>
                    <a:pt x="3010" y="2864"/>
                  </a:lnTo>
                  <a:lnTo>
                    <a:pt x="3018" y="2858"/>
                  </a:lnTo>
                  <a:lnTo>
                    <a:pt x="3027" y="2852"/>
                  </a:lnTo>
                  <a:lnTo>
                    <a:pt x="3036" y="2847"/>
                  </a:lnTo>
                  <a:lnTo>
                    <a:pt x="3045" y="2847"/>
                  </a:lnTo>
                  <a:lnTo>
                    <a:pt x="3053" y="2844"/>
                  </a:lnTo>
                  <a:lnTo>
                    <a:pt x="3053" y="2835"/>
                  </a:lnTo>
                  <a:lnTo>
                    <a:pt x="3053" y="2827"/>
                  </a:lnTo>
                  <a:lnTo>
                    <a:pt x="3053" y="2818"/>
                  </a:lnTo>
                  <a:lnTo>
                    <a:pt x="3053" y="2809"/>
                  </a:lnTo>
                  <a:lnTo>
                    <a:pt x="3050" y="2801"/>
                  </a:lnTo>
                  <a:lnTo>
                    <a:pt x="3045" y="2789"/>
                  </a:lnTo>
                  <a:lnTo>
                    <a:pt x="3045" y="2780"/>
                  </a:lnTo>
                  <a:lnTo>
                    <a:pt x="3045" y="2772"/>
                  </a:lnTo>
                  <a:lnTo>
                    <a:pt x="3045" y="2763"/>
                  </a:lnTo>
                  <a:lnTo>
                    <a:pt x="3036" y="2754"/>
                  </a:lnTo>
                  <a:lnTo>
                    <a:pt x="3027" y="2743"/>
                  </a:lnTo>
                  <a:lnTo>
                    <a:pt x="3024" y="2734"/>
                  </a:lnTo>
                  <a:lnTo>
                    <a:pt x="3021" y="2726"/>
                  </a:lnTo>
                  <a:lnTo>
                    <a:pt x="3018" y="2717"/>
                  </a:lnTo>
                  <a:lnTo>
                    <a:pt x="3010" y="2708"/>
                  </a:lnTo>
                  <a:lnTo>
                    <a:pt x="3001" y="2705"/>
                  </a:lnTo>
                  <a:lnTo>
                    <a:pt x="3001" y="2697"/>
                  </a:lnTo>
                  <a:lnTo>
                    <a:pt x="3010" y="2694"/>
                  </a:lnTo>
                  <a:lnTo>
                    <a:pt x="3018" y="2688"/>
                  </a:lnTo>
                  <a:lnTo>
                    <a:pt x="3027" y="2682"/>
                  </a:lnTo>
                  <a:lnTo>
                    <a:pt x="3030" y="2674"/>
                  </a:lnTo>
                  <a:lnTo>
                    <a:pt x="3039" y="2665"/>
                  </a:lnTo>
                  <a:lnTo>
                    <a:pt x="3045" y="2657"/>
                  </a:lnTo>
                  <a:lnTo>
                    <a:pt x="3056" y="2659"/>
                  </a:lnTo>
                  <a:lnTo>
                    <a:pt x="3065" y="2665"/>
                  </a:lnTo>
                  <a:lnTo>
                    <a:pt x="3074" y="2665"/>
                  </a:lnTo>
                  <a:lnTo>
                    <a:pt x="3077" y="2657"/>
                  </a:lnTo>
                  <a:lnTo>
                    <a:pt x="3077" y="2645"/>
                  </a:lnTo>
                  <a:lnTo>
                    <a:pt x="3077" y="2636"/>
                  </a:lnTo>
                  <a:lnTo>
                    <a:pt x="3077" y="2628"/>
                  </a:lnTo>
                  <a:lnTo>
                    <a:pt x="3071" y="2619"/>
                  </a:lnTo>
                  <a:lnTo>
                    <a:pt x="3062" y="2613"/>
                  </a:lnTo>
                  <a:lnTo>
                    <a:pt x="3056" y="2605"/>
                  </a:lnTo>
                  <a:lnTo>
                    <a:pt x="3056" y="2596"/>
                  </a:lnTo>
                  <a:lnTo>
                    <a:pt x="3053" y="2582"/>
                  </a:lnTo>
                  <a:lnTo>
                    <a:pt x="3053" y="2573"/>
                  </a:lnTo>
                  <a:lnTo>
                    <a:pt x="3062" y="2567"/>
                  </a:lnTo>
                  <a:lnTo>
                    <a:pt x="3071" y="2567"/>
                  </a:lnTo>
                  <a:lnTo>
                    <a:pt x="3080" y="2564"/>
                  </a:lnTo>
                  <a:lnTo>
                    <a:pt x="3088" y="2564"/>
                  </a:lnTo>
                  <a:lnTo>
                    <a:pt x="3097" y="2561"/>
                  </a:lnTo>
                  <a:lnTo>
                    <a:pt x="3109" y="2556"/>
                  </a:lnTo>
                  <a:lnTo>
                    <a:pt x="3117" y="2547"/>
                  </a:lnTo>
                  <a:lnTo>
                    <a:pt x="3120" y="2538"/>
                  </a:lnTo>
                  <a:lnTo>
                    <a:pt x="3120" y="2530"/>
                  </a:lnTo>
                  <a:lnTo>
                    <a:pt x="3120" y="2521"/>
                  </a:lnTo>
                  <a:lnTo>
                    <a:pt x="3120" y="2512"/>
                  </a:lnTo>
                  <a:lnTo>
                    <a:pt x="3114" y="2501"/>
                  </a:lnTo>
                  <a:lnTo>
                    <a:pt x="3112" y="2489"/>
                  </a:lnTo>
                  <a:lnTo>
                    <a:pt x="3112" y="2481"/>
                  </a:lnTo>
                  <a:lnTo>
                    <a:pt x="3112" y="2472"/>
                  </a:lnTo>
                  <a:lnTo>
                    <a:pt x="3120" y="2463"/>
                  </a:lnTo>
                  <a:lnTo>
                    <a:pt x="3129" y="2461"/>
                  </a:lnTo>
                  <a:lnTo>
                    <a:pt x="3135" y="2452"/>
                  </a:lnTo>
                  <a:lnTo>
                    <a:pt x="3135" y="2443"/>
                  </a:lnTo>
                  <a:lnTo>
                    <a:pt x="3135" y="2435"/>
                  </a:lnTo>
                  <a:lnTo>
                    <a:pt x="3144" y="2429"/>
                  </a:lnTo>
                  <a:lnTo>
                    <a:pt x="3152" y="2420"/>
                  </a:lnTo>
                  <a:lnTo>
                    <a:pt x="3155" y="2412"/>
                  </a:lnTo>
                  <a:lnTo>
                    <a:pt x="3158" y="2403"/>
                  </a:lnTo>
                  <a:lnTo>
                    <a:pt x="3167" y="2394"/>
                  </a:lnTo>
                  <a:lnTo>
                    <a:pt x="3176" y="2386"/>
                  </a:lnTo>
                  <a:lnTo>
                    <a:pt x="3184" y="2380"/>
                  </a:lnTo>
                  <a:lnTo>
                    <a:pt x="3184" y="2371"/>
                  </a:lnTo>
                  <a:lnTo>
                    <a:pt x="3187" y="2363"/>
                  </a:lnTo>
                  <a:lnTo>
                    <a:pt x="3193" y="2354"/>
                  </a:lnTo>
                  <a:lnTo>
                    <a:pt x="3202" y="2348"/>
                  </a:lnTo>
                  <a:lnTo>
                    <a:pt x="3208" y="2340"/>
                  </a:lnTo>
                  <a:lnTo>
                    <a:pt x="3213" y="2331"/>
                  </a:lnTo>
                  <a:lnTo>
                    <a:pt x="3216" y="2322"/>
                  </a:lnTo>
                  <a:lnTo>
                    <a:pt x="3219" y="2314"/>
                  </a:lnTo>
                  <a:lnTo>
                    <a:pt x="3222" y="2305"/>
                  </a:lnTo>
                  <a:lnTo>
                    <a:pt x="3228" y="2296"/>
                  </a:lnTo>
                  <a:lnTo>
                    <a:pt x="3237" y="2291"/>
                  </a:lnTo>
                  <a:lnTo>
                    <a:pt x="3245" y="2291"/>
                  </a:lnTo>
                  <a:lnTo>
                    <a:pt x="3254" y="2285"/>
                  </a:lnTo>
                  <a:lnTo>
                    <a:pt x="3263" y="2282"/>
                  </a:lnTo>
                  <a:lnTo>
                    <a:pt x="3272" y="2279"/>
                  </a:lnTo>
                  <a:lnTo>
                    <a:pt x="3280" y="2279"/>
                  </a:lnTo>
                  <a:lnTo>
                    <a:pt x="3289" y="2276"/>
                  </a:lnTo>
                  <a:lnTo>
                    <a:pt x="3298" y="2273"/>
                  </a:lnTo>
                  <a:lnTo>
                    <a:pt x="3307" y="2273"/>
                  </a:lnTo>
                  <a:lnTo>
                    <a:pt x="3318" y="2276"/>
                  </a:lnTo>
                  <a:lnTo>
                    <a:pt x="3327" y="2276"/>
                  </a:lnTo>
                  <a:lnTo>
                    <a:pt x="3336" y="2276"/>
                  </a:lnTo>
                  <a:lnTo>
                    <a:pt x="3344" y="2276"/>
                  </a:lnTo>
                  <a:lnTo>
                    <a:pt x="3344" y="2279"/>
                  </a:lnTo>
                  <a:lnTo>
                    <a:pt x="3356" y="2265"/>
                  </a:lnTo>
                  <a:lnTo>
                    <a:pt x="3365" y="2265"/>
                  </a:lnTo>
                  <a:lnTo>
                    <a:pt x="3374" y="2259"/>
                  </a:lnTo>
                  <a:lnTo>
                    <a:pt x="3382" y="2253"/>
                  </a:lnTo>
                  <a:lnTo>
                    <a:pt x="3385" y="2244"/>
                  </a:lnTo>
                  <a:lnTo>
                    <a:pt x="3391" y="2233"/>
                  </a:lnTo>
                  <a:lnTo>
                    <a:pt x="3400" y="2224"/>
                  </a:lnTo>
                  <a:lnTo>
                    <a:pt x="3397" y="2216"/>
                  </a:lnTo>
                  <a:lnTo>
                    <a:pt x="3391" y="2207"/>
                  </a:lnTo>
                  <a:lnTo>
                    <a:pt x="3382" y="2201"/>
                  </a:lnTo>
                  <a:lnTo>
                    <a:pt x="3376" y="2193"/>
                  </a:lnTo>
                  <a:lnTo>
                    <a:pt x="3368" y="2184"/>
                  </a:lnTo>
                  <a:lnTo>
                    <a:pt x="3362" y="2172"/>
                  </a:lnTo>
                  <a:lnTo>
                    <a:pt x="3356" y="2164"/>
                  </a:lnTo>
                  <a:lnTo>
                    <a:pt x="3356" y="2155"/>
                  </a:lnTo>
                  <a:lnTo>
                    <a:pt x="3356" y="2146"/>
                  </a:lnTo>
                  <a:lnTo>
                    <a:pt x="3368" y="2141"/>
                  </a:lnTo>
                  <a:lnTo>
                    <a:pt x="3376" y="2138"/>
                  </a:lnTo>
                  <a:lnTo>
                    <a:pt x="3385" y="2135"/>
                  </a:lnTo>
                  <a:lnTo>
                    <a:pt x="3394" y="2126"/>
                  </a:lnTo>
                  <a:lnTo>
                    <a:pt x="3400" y="2118"/>
                  </a:lnTo>
                  <a:lnTo>
                    <a:pt x="3406" y="2109"/>
                  </a:lnTo>
                  <a:lnTo>
                    <a:pt x="3414" y="2106"/>
                  </a:lnTo>
                  <a:lnTo>
                    <a:pt x="3426" y="2106"/>
                  </a:lnTo>
                  <a:lnTo>
                    <a:pt x="3435" y="2106"/>
                  </a:lnTo>
                  <a:lnTo>
                    <a:pt x="3443" y="2106"/>
                  </a:lnTo>
                  <a:lnTo>
                    <a:pt x="3452" y="2103"/>
                  </a:lnTo>
                  <a:lnTo>
                    <a:pt x="3461" y="2103"/>
                  </a:lnTo>
                  <a:lnTo>
                    <a:pt x="3470" y="2103"/>
                  </a:lnTo>
                  <a:lnTo>
                    <a:pt x="3478" y="2112"/>
                  </a:lnTo>
                  <a:lnTo>
                    <a:pt x="3484" y="2120"/>
                  </a:lnTo>
                  <a:lnTo>
                    <a:pt x="3493" y="2126"/>
                  </a:lnTo>
                  <a:lnTo>
                    <a:pt x="3502" y="2129"/>
                  </a:lnTo>
                  <a:lnTo>
                    <a:pt x="3510" y="2129"/>
                  </a:lnTo>
                  <a:lnTo>
                    <a:pt x="3519" y="2129"/>
                  </a:lnTo>
                  <a:lnTo>
                    <a:pt x="3528" y="2126"/>
                  </a:lnTo>
                  <a:lnTo>
                    <a:pt x="3537" y="2118"/>
                  </a:lnTo>
                  <a:lnTo>
                    <a:pt x="3542" y="2109"/>
                  </a:lnTo>
                  <a:lnTo>
                    <a:pt x="3548" y="2100"/>
                  </a:lnTo>
                  <a:lnTo>
                    <a:pt x="3551" y="2089"/>
                  </a:lnTo>
                  <a:lnTo>
                    <a:pt x="3554" y="2080"/>
                  </a:lnTo>
                  <a:lnTo>
                    <a:pt x="3563" y="2072"/>
                  </a:lnTo>
                  <a:lnTo>
                    <a:pt x="3572" y="2072"/>
                  </a:lnTo>
                  <a:lnTo>
                    <a:pt x="3583" y="2063"/>
                  </a:lnTo>
                  <a:lnTo>
                    <a:pt x="3589" y="2054"/>
                  </a:lnTo>
                  <a:lnTo>
                    <a:pt x="3595" y="2046"/>
                  </a:lnTo>
                  <a:lnTo>
                    <a:pt x="3604" y="2040"/>
                  </a:lnTo>
                  <a:lnTo>
                    <a:pt x="3612" y="2040"/>
                  </a:lnTo>
                  <a:lnTo>
                    <a:pt x="3621" y="2040"/>
                  </a:lnTo>
                  <a:lnTo>
                    <a:pt x="3630" y="2040"/>
                  </a:lnTo>
                  <a:lnTo>
                    <a:pt x="3638" y="2037"/>
                  </a:lnTo>
                  <a:lnTo>
                    <a:pt x="3647" y="2037"/>
                  </a:lnTo>
                  <a:lnTo>
                    <a:pt x="3656" y="2037"/>
                  </a:lnTo>
                  <a:lnTo>
                    <a:pt x="3665" y="2037"/>
                  </a:lnTo>
                  <a:lnTo>
                    <a:pt x="3673" y="2034"/>
                  </a:lnTo>
                  <a:lnTo>
                    <a:pt x="3682" y="2031"/>
                  </a:lnTo>
                  <a:lnTo>
                    <a:pt x="3691" y="2028"/>
                  </a:lnTo>
                  <a:lnTo>
                    <a:pt x="3700" y="2023"/>
                  </a:lnTo>
                  <a:lnTo>
                    <a:pt x="3705" y="2014"/>
                  </a:lnTo>
                  <a:lnTo>
                    <a:pt x="3714" y="2005"/>
                  </a:lnTo>
                  <a:lnTo>
                    <a:pt x="3723" y="1997"/>
                  </a:lnTo>
                  <a:lnTo>
                    <a:pt x="3726" y="1988"/>
                  </a:lnTo>
                  <a:lnTo>
                    <a:pt x="3735" y="1976"/>
                  </a:lnTo>
                  <a:lnTo>
                    <a:pt x="3740" y="1968"/>
                  </a:lnTo>
                  <a:lnTo>
                    <a:pt x="3746" y="1959"/>
                  </a:lnTo>
                  <a:lnTo>
                    <a:pt x="3749" y="1950"/>
                  </a:lnTo>
                  <a:lnTo>
                    <a:pt x="3755" y="1939"/>
                  </a:lnTo>
                  <a:lnTo>
                    <a:pt x="3761" y="1927"/>
                  </a:lnTo>
                  <a:lnTo>
                    <a:pt x="3767" y="1919"/>
                  </a:lnTo>
                  <a:lnTo>
                    <a:pt x="3767" y="1910"/>
                  </a:lnTo>
                  <a:lnTo>
                    <a:pt x="3758" y="1910"/>
                  </a:lnTo>
                  <a:lnTo>
                    <a:pt x="3758" y="1899"/>
                  </a:lnTo>
                  <a:lnTo>
                    <a:pt x="3758" y="1890"/>
                  </a:lnTo>
                  <a:lnTo>
                    <a:pt x="3767" y="1881"/>
                  </a:lnTo>
                  <a:lnTo>
                    <a:pt x="3775" y="1881"/>
                  </a:lnTo>
                  <a:lnTo>
                    <a:pt x="3781" y="1873"/>
                  </a:lnTo>
                  <a:lnTo>
                    <a:pt x="3784" y="1864"/>
                  </a:lnTo>
                  <a:lnTo>
                    <a:pt x="3787" y="1855"/>
                  </a:lnTo>
                  <a:lnTo>
                    <a:pt x="3796" y="1850"/>
                  </a:lnTo>
                  <a:lnTo>
                    <a:pt x="3804" y="1847"/>
                  </a:lnTo>
                  <a:lnTo>
                    <a:pt x="3813" y="1844"/>
                  </a:lnTo>
                  <a:lnTo>
                    <a:pt x="3822" y="1838"/>
                  </a:lnTo>
                  <a:lnTo>
                    <a:pt x="3831" y="1835"/>
                  </a:lnTo>
                  <a:lnTo>
                    <a:pt x="3839" y="1824"/>
                  </a:lnTo>
                  <a:lnTo>
                    <a:pt x="3845" y="1815"/>
                  </a:lnTo>
                  <a:lnTo>
                    <a:pt x="3851" y="1806"/>
                  </a:lnTo>
                  <a:lnTo>
                    <a:pt x="3857" y="1798"/>
                  </a:lnTo>
                  <a:lnTo>
                    <a:pt x="3860" y="1789"/>
                  </a:lnTo>
                  <a:lnTo>
                    <a:pt x="3863" y="1780"/>
                  </a:lnTo>
                  <a:lnTo>
                    <a:pt x="3857" y="1772"/>
                  </a:lnTo>
                  <a:lnTo>
                    <a:pt x="3851" y="1763"/>
                  </a:lnTo>
                  <a:lnTo>
                    <a:pt x="3842" y="1760"/>
                  </a:lnTo>
                  <a:lnTo>
                    <a:pt x="3834" y="1752"/>
                  </a:lnTo>
                  <a:lnTo>
                    <a:pt x="3831" y="1743"/>
                  </a:lnTo>
                  <a:lnTo>
                    <a:pt x="3828" y="1734"/>
                  </a:lnTo>
                  <a:lnTo>
                    <a:pt x="3825" y="1726"/>
                  </a:lnTo>
                  <a:lnTo>
                    <a:pt x="3822" y="1714"/>
                  </a:lnTo>
                  <a:lnTo>
                    <a:pt x="3819" y="1706"/>
                  </a:lnTo>
                  <a:lnTo>
                    <a:pt x="3816" y="1697"/>
                  </a:lnTo>
                  <a:lnTo>
                    <a:pt x="3813" y="1685"/>
                  </a:lnTo>
                  <a:lnTo>
                    <a:pt x="3810" y="1677"/>
                  </a:lnTo>
                  <a:lnTo>
                    <a:pt x="3807" y="1668"/>
                  </a:lnTo>
                  <a:lnTo>
                    <a:pt x="3804" y="1659"/>
                  </a:lnTo>
                  <a:lnTo>
                    <a:pt x="3796" y="1657"/>
                  </a:lnTo>
                  <a:lnTo>
                    <a:pt x="3787" y="1657"/>
                  </a:lnTo>
                  <a:lnTo>
                    <a:pt x="3775" y="1657"/>
                  </a:lnTo>
                  <a:lnTo>
                    <a:pt x="3767" y="1648"/>
                  </a:lnTo>
                  <a:lnTo>
                    <a:pt x="3767" y="1639"/>
                  </a:lnTo>
                  <a:lnTo>
                    <a:pt x="3767" y="1631"/>
                  </a:lnTo>
                  <a:lnTo>
                    <a:pt x="3767" y="1622"/>
                  </a:lnTo>
                  <a:lnTo>
                    <a:pt x="3767" y="1613"/>
                  </a:lnTo>
                  <a:lnTo>
                    <a:pt x="3770" y="1605"/>
                  </a:lnTo>
                  <a:lnTo>
                    <a:pt x="3770" y="1596"/>
                  </a:lnTo>
                  <a:lnTo>
                    <a:pt x="3772" y="1587"/>
                  </a:lnTo>
                  <a:lnTo>
                    <a:pt x="3810" y="1541"/>
                  </a:lnTo>
                  <a:lnTo>
                    <a:pt x="3793" y="1541"/>
                  </a:lnTo>
                  <a:lnTo>
                    <a:pt x="3799" y="1533"/>
                  </a:lnTo>
                  <a:lnTo>
                    <a:pt x="3807" y="1530"/>
                  </a:lnTo>
                  <a:lnTo>
                    <a:pt x="3816" y="1527"/>
                  </a:lnTo>
                  <a:lnTo>
                    <a:pt x="3828" y="1527"/>
                  </a:lnTo>
                  <a:lnTo>
                    <a:pt x="3839" y="1527"/>
                  </a:lnTo>
                  <a:lnTo>
                    <a:pt x="3851" y="1524"/>
                  </a:lnTo>
                  <a:lnTo>
                    <a:pt x="3863" y="1524"/>
                  </a:lnTo>
                  <a:lnTo>
                    <a:pt x="3874" y="1524"/>
                  </a:lnTo>
                  <a:lnTo>
                    <a:pt x="3883" y="1527"/>
                  </a:lnTo>
                  <a:lnTo>
                    <a:pt x="3892" y="1530"/>
                  </a:lnTo>
                  <a:lnTo>
                    <a:pt x="3901" y="1533"/>
                  </a:lnTo>
                  <a:lnTo>
                    <a:pt x="3909" y="1535"/>
                  </a:lnTo>
                  <a:lnTo>
                    <a:pt x="3918" y="1535"/>
                  </a:lnTo>
                  <a:lnTo>
                    <a:pt x="3930" y="1535"/>
                  </a:lnTo>
                  <a:lnTo>
                    <a:pt x="3941" y="1535"/>
                  </a:lnTo>
                  <a:lnTo>
                    <a:pt x="3950" y="1535"/>
                  </a:lnTo>
                  <a:lnTo>
                    <a:pt x="3959" y="1535"/>
                  </a:lnTo>
                  <a:lnTo>
                    <a:pt x="3970" y="1541"/>
                  </a:lnTo>
                  <a:lnTo>
                    <a:pt x="3979" y="1541"/>
                  </a:lnTo>
                  <a:lnTo>
                    <a:pt x="3985" y="1550"/>
                  </a:lnTo>
                  <a:lnTo>
                    <a:pt x="3997" y="1559"/>
                  </a:lnTo>
                  <a:lnTo>
                    <a:pt x="4005" y="1561"/>
                  </a:lnTo>
                  <a:lnTo>
                    <a:pt x="4017" y="1561"/>
                  </a:lnTo>
                  <a:lnTo>
                    <a:pt x="4026" y="1559"/>
                  </a:lnTo>
                  <a:lnTo>
                    <a:pt x="4029" y="1550"/>
                  </a:lnTo>
                  <a:lnTo>
                    <a:pt x="4037" y="1541"/>
                  </a:lnTo>
                  <a:lnTo>
                    <a:pt x="4040" y="1533"/>
                  </a:lnTo>
                  <a:lnTo>
                    <a:pt x="4043" y="1524"/>
                  </a:lnTo>
                  <a:lnTo>
                    <a:pt x="4055" y="1512"/>
                  </a:lnTo>
                  <a:lnTo>
                    <a:pt x="4066" y="1507"/>
                  </a:lnTo>
                  <a:lnTo>
                    <a:pt x="4075" y="1498"/>
                  </a:lnTo>
                  <a:lnTo>
                    <a:pt x="4084" y="1495"/>
                  </a:lnTo>
                  <a:lnTo>
                    <a:pt x="4093" y="1495"/>
                  </a:lnTo>
                  <a:lnTo>
                    <a:pt x="4101" y="1495"/>
                  </a:lnTo>
                  <a:lnTo>
                    <a:pt x="4110" y="1495"/>
                  </a:lnTo>
                  <a:lnTo>
                    <a:pt x="4119" y="1501"/>
                  </a:lnTo>
                  <a:lnTo>
                    <a:pt x="4130" y="1510"/>
                  </a:lnTo>
                  <a:lnTo>
                    <a:pt x="4139" y="1512"/>
                  </a:lnTo>
                  <a:lnTo>
                    <a:pt x="4148" y="1507"/>
                  </a:lnTo>
                  <a:lnTo>
                    <a:pt x="4154" y="1498"/>
                  </a:lnTo>
                  <a:lnTo>
                    <a:pt x="4157" y="1489"/>
                  </a:lnTo>
                  <a:lnTo>
                    <a:pt x="4165" y="1478"/>
                  </a:lnTo>
                  <a:lnTo>
                    <a:pt x="4168" y="1466"/>
                  </a:lnTo>
                  <a:lnTo>
                    <a:pt x="4163" y="1458"/>
                  </a:lnTo>
                  <a:lnTo>
                    <a:pt x="4157" y="1449"/>
                  </a:lnTo>
                  <a:lnTo>
                    <a:pt x="4154" y="1438"/>
                  </a:lnTo>
                  <a:lnTo>
                    <a:pt x="4151" y="1429"/>
                  </a:lnTo>
                  <a:lnTo>
                    <a:pt x="4151" y="1420"/>
                  </a:lnTo>
                  <a:lnTo>
                    <a:pt x="4151" y="1409"/>
                  </a:lnTo>
                  <a:lnTo>
                    <a:pt x="4151" y="1400"/>
                  </a:lnTo>
                  <a:lnTo>
                    <a:pt x="4160" y="1394"/>
                  </a:lnTo>
                  <a:lnTo>
                    <a:pt x="4174" y="1400"/>
                  </a:lnTo>
                  <a:lnTo>
                    <a:pt x="4183" y="1403"/>
                  </a:lnTo>
                  <a:lnTo>
                    <a:pt x="4183" y="1412"/>
                  </a:lnTo>
                  <a:lnTo>
                    <a:pt x="4192" y="1420"/>
                  </a:lnTo>
                  <a:lnTo>
                    <a:pt x="4203" y="1432"/>
                  </a:lnTo>
                  <a:lnTo>
                    <a:pt x="4212" y="1440"/>
                  </a:lnTo>
                  <a:lnTo>
                    <a:pt x="4215" y="1449"/>
                  </a:lnTo>
                  <a:lnTo>
                    <a:pt x="4218" y="1458"/>
                  </a:lnTo>
                  <a:lnTo>
                    <a:pt x="4227" y="1472"/>
                  </a:lnTo>
                  <a:lnTo>
                    <a:pt x="4235" y="1478"/>
                  </a:lnTo>
                  <a:lnTo>
                    <a:pt x="4241" y="1487"/>
                  </a:lnTo>
                  <a:lnTo>
                    <a:pt x="4253" y="1495"/>
                  </a:lnTo>
                  <a:lnTo>
                    <a:pt x="4264" y="1501"/>
                  </a:lnTo>
                  <a:lnTo>
                    <a:pt x="4270" y="1510"/>
                  </a:lnTo>
                  <a:lnTo>
                    <a:pt x="4273" y="1518"/>
                  </a:lnTo>
                  <a:lnTo>
                    <a:pt x="4273" y="1527"/>
                  </a:lnTo>
                  <a:lnTo>
                    <a:pt x="4273" y="1535"/>
                  </a:lnTo>
                  <a:lnTo>
                    <a:pt x="4273" y="1544"/>
                  </a:lnTo>
                  <a:lnTo>
                    <a:pt x="4264" y="1550"/>
                  </a:lnTo>
                  <a:lnTo>
                    <a:pt x="4256" y="1553"/>
                  </a:lnTo>
                  <a:lnTo>
                    <a:pt x="4256" y="1564"/>
                  </a:lnTo>
                  <a:lnTo>
                    <a:pt x="4256" y="1573"/>
                  </a:lnTo>
                  <a:lnTo>
                    <a:pt x="4256" y="1582"/>
                  </a:lnTo>
                  <a:lnTo>
                    <a:pt x="4264" y="1587"/>
                  </a:lnTo>
                  <a:lnTo>
                    <a:pt x="4276" y="1590"/>
                  </a:lnTo>
                  <a:lnTo>
                    <a:pt x="4285" y="1590"/>
                  </a:lnTo>
                  <a:lnTo>
                    <a:pt x="4294" y="1599"/>
                  </a:lnTo>
                  <a:lnTo>
                    <a:pt x="4302" y="1608"/>
                  </a:lnTo>
                  <a:lnTo>
                    <a:pt x="4314" y="1610"/>
                  </a:lnTo>
                  <a:lnTo>
                    <a:pt x="4326" y="1616"/>
                  </a:lnTo>
                  <a:lnTo>
                    <a:pt x="4334" y="1619"/>
                  </a:lnTo>
                  <a:lnTo>
                    <a:pt x="4340" y="1628"/>
                  </a:lnTo>
                  <a:lnTo>
                    <a:pt x="4343" y="1636"/>
                  </a:lnTo>
                  <a:lnTo>
                    <a:pt x="4343" y="1645"/>
                  </a:lnTo>
                  <a:lnTo>
                    <a:pt x="4343" y="1654"/>
                  </a:lnTo>
                  <a:lnTo>
                    <a:pt x="4343" y="1662"/>
                  </a:lnTo>
                  <a:lnTo>
                    <a:pt x="4346" y="1671"/>
                  </a:lnTo>
                  <a:lnTo>
                    <a:pt x="4355" y="1671"/>
                  </a:lnTo>
                  <a:lnTo>
                    <a:pt x="4366" y="1671"/>
                  </a:lnTo>
                  <a:lnTo>
                    <a:pt x="4369" y="1662"/>
                  </a:lnTo>
                  <a:lnTo>
                    <a:pt x="4363" y="1654"/>
                  </a:lnTo>
                  <a:lnTo>
                    <a:pt x="4360" y="1645"/>
                  </a:lnTo>
                  <a:lnTo>
                    <a:pt x="4355" y="1636"/>
                  </a:lnTo>
                  <a:lnTo>
                    <a:pt x="4352" y="1628"/>
                  </a:lnTo>
                  <a:lnTo>
                    <a:pt x="4349" y="1619"/>
                  </a:lnTo>
                  <a:lnTo>
                    <a:pt x="4346" y="1610"/>
                  </a:lnTo>
                  <a:lnTo>
                    <a:pt x="4346" y="1602"/>
                  </a:lnTo>
                  <a:lnTo>
                    <a:pt x="4346" y="1590"/>
                  </a:lnTo>
                  <a:lnTo>
                    <a:pt x="4346" y="1582"/>
                  </a:lnTo>
                  <a:lnTo>
                    <a:pt x="4355" y="1579"/>
                  </a:lnTo>
                  <a:lnTo>
                    <a:pt x="4363" y="1582"/>
                  </a:lnTo>
                  <a:lnTo>
                    <a:pt x="4372" y="1582"/>
                  </a:lnTo>
                  <a:lnTo>
                    <a:pt x="4381" y="1573"/>
                  </a:lnTo>
                  <a:lnTo>
                    <a:pt x="4390" y="1567"/>
                  </a:lnTo>
                  <a:lnTo>
                    <a:pt x="4393" y="1559"/>
                  </a:lnTo>
                  <a:lnTo>
                    <a:pt x="4393" y="1550"/>
                  </a:lnTo>
                  <a:lnTo>
                    <a:pt x="4393" y="1541"/>
                  </a:lnTo>
                  <a:lnTo>
                    <a:pt x="4393" y="1533"/>
                  </a:lnTo>
                  <a:lnTo>
                    <a:pt x="4393" y="1524"/>
                  </a:lnTo>
                  <a:lnTo>
                    <a:pt x="4393" y="1515"/>
                  </a:lnTo>
                  <a:lnTo>
                    <a:pt x="4390" y="1504"/>
                  </a:lnTo>
                  <a:lnTo>
                    <a:pt x="4384" y="1495"/>
                  </a:lnTo>
                  <a:lnTo>
                    <a:pt x="4381" y="1484"/>
                  </a:lnTo>
                  <a:lnTo>
                    <a:pt x="4378" y="1475"/>
                  </a:lnTo>
                  <a:lnTo>
                    <a:pt x="4369" y="1463"/>
                  </a:lnTo>
                  <a:lnTo>
                    <a:pt x="4363" y="1455"/>
                  </a:lnTo>
                  <a:lnTo>
                    <a:pt x="4360" y="1446"/>
                  </a:lnTo>
                  <a:lnTo>
                    <a:pt x="4358" y="1438"/>
                  </a:lnTo>
                  <a:lnTo>
                    <a:pt x="4352" y="1429"/>
                  </a:lnTo>
                  <a:lnTo>
                    <a:pt x="4346" y="1417"/>
                  </a:lnTo>
                  <a:lnTo>
                    <a:pt x="4340" y="1409"/>
                  </a:lnTo>
                  <a:lnTo>
                    <a:pt x="4337" y="1397"/>
                  </a:lnTo>
                  <a:lnTo>
                    <a:pt x="4334" y="1389"/>
                  </a:lnTo>
                  <a:lnTo>
                    <a:pt x="4334" y="1380"/>
                  </a:lnTo>
                  <a:lnTo>
                    <a:pt x="4331" y="1371"/>
                  </a:lnTo>
                  <a:lnTo>
                    <a:pt x="4328" y="1360"/>
                  </a:lnTo>
                  <a:lnTo>
                    <a:pt x="4323" y="1351"/>
                  </a:lnTo>
                  <a:lnTo>
                    <a:pt x="4320" y="1342"/>
                  </a:lnTo>
                  <a:lnTo>
                    <a:pt x="4314" y="1334"/>
                  </a:lnTo>
                  <a:lnTo>
                    <a:pt x="4305" y="1325"/>
                  </a:lnTo>
                  <a:lnTo>
                    <a:pt x="4296" y="1316"/>
                  </a:lnTo>
                  <a:lnTo>
                    <a:pt x="4288" y="1308"/>
                  </a:lnTo>
                  <a:lnTo>
                    <a:pt x="4276" y="1311"/>
                  </a:lnTo>
                  <a:lnTo>
                    <a:pt x="4279" y="1291"/>
                  </a:lnTo>
                  <a:lnTo>
                    <a:pt x="4276" y="1282"/>
                  </a:lnTo>
                  <a:lnTo>
                    <a:pt x="4270" y="1273"/>
                  </a:lnTo>
                  <a:lnTo>
                    <a:pt x="4261" y="1267"/>
                  </a:lnTo>
                  <a:lnTo>
                    <a:pt x="4253" y="1259"/>
                  </a:lnTo>
                  <a:lnTo>
                    <a:pt x="4244" y="1250"/>
                  </a:lnTo>
                  <a:lnTo>
                    <a:pt x="4238" y="1242"/>
                  </a:lnTo>
                  <a:lnTo>
                    <a:pt x="4232" y="1233"/>
                  </a:lnTo>
                  <a:lnTo>
                    <a:pt x="4229" y="1224"/>
                  </a:lnTo>
                  <a:lnTo>
                    <a:pt x="4221" y="1218"/>
                  </a:lnTo>
                  <a:lnTo>
                    <a:pt x="4212" y="1210"/>
                  </a:lnTo>
                  <a:lnTo>
                    <a:pt x="4200" y="1201"/>
                  </a:lnTo>
                  <a:lnTo>
                    <a:pt x="4192" y="1195"/>
                  </a:lnTo>
                  <a:lnTo>
                    <a:pt x="4183" y="1193"/>
                  </a:lnTo>
                  <a:lnTo>
                    <a:pt x="4171" y="1187"/>
                  </a:lnTo>
                  <a:lnTo>
                    <a:pt x="4163" y="1184"/>
                  </a:lnTo>
                  <a:lnTo>
                    <a:pt x="4154" y="1181"/>
                  </a:lnTo>
                  <a:lnTo>
                    <a:pt x="4145" y="1175"/>
                  </a:lnTo>
                  <a:lnTo>
                    <a:pt x="4136" y="1170"/>
                  </a:lnTo>
                  <a:lnTo>
                    <a:pt x="4130" y="1161"/>
                  </a:lnTo>
                  <a:lnTo>
                    <a:pt x="4119" y="1152"/>
                  </a:lnTo>
                  <a:lnTo>
                    <a:pt x="4110" y="1149"/>
                  </a:lnTo>
                  <a:lnTo>
                    <a:pt x="4098" y="1144"/>
                  </a:lnTo>
                  <a:lnTo>
                    <a:pt x="4090" y="1144"/>
                  </a:lnTo>
                  <a:lnTo>
                    <a:pt x="4078" y="1135"/>
                  </a:lnTo>
                  <a:lnTo>
                    <a:pt x="4069" y="1126"/>
                  </a:lnTo>
                  <a:lnTo>
                    <a:pt x="4064" y="1118"/>
                  </a:lnTo>
                  <a:lnTo>
                    <a:pt x="4058" y="1109"/>
                  </a:lnTo>
                  <a:lnTo>
                    <a:pt x="4049" y="1103"/>
                  </a:lnTo>
                  <a:lnTo>
                    <a:pt x="4058" y="1100"/>
                  </a:lnTo>
                  <a:lnTo>
                    <a:pt x="4066" y="1100"/>
                  </a:lnTo>
                  <a:lnTo>
                    <a:pt x="4078" y="1100"/>
                  </a:lnTo>
                  <a:lnTo>
                    <a:pt x="4090" y="1103"/>
                  </a:lnTo>
                  <a:lnTo>
                    <a:pt x="4098" y="1109"/>
                  </a:lnTo>
                  <a:lnTo>
                    <a:pt x="4107" y="1112"/>
                  </a:lnTo>
                  <a:lnTo>
                    <a:pt x="4116" y="1115"/>
                  </a:lnTo>
                  <a:lnTo>
                    <a:pt x="4125" y="1121"/>
                  </a:lnTo>
                  <a:lnTo>
                    <a:pt x="4133" y="1126"/>
                  </a:lnTo>
                  <a:lnTo>
                    <a:pt x="4142" y="1129"/>
                  </a:lnTo>
                  <a:lnTo>
                    <a:pt x="4154" y="1138"/>
                  </a:lnTo>
                  <a:lnTo>
                    <a:pt x="4163" y="1141"/>
                  </a:lnTo>
                  <a:lnTo>
                    <a:pt x="4171" y="1144"/>
                  </a:lnTo>
                  <a:lnTo>
                    <a:pt x="4180" y="1146"/>
                  </a:lnTo>
                  <a:lnTo>
                    <a:pt x="4192" y="1146"/>
                  </a:lnTo>
                  <a:lnTo>
                    <a:pt x="4200" y="1146"/>
                  </a:lnTo>
                  <a:lnTo>
                    <a:pt x="4212" y="1149"/>
                  </a:lnTo>
                  <a:lnTo>
                    <a:pt x="4221" y="1149"/>
                  </a:lnTo>
                  <a:lnTo>
                    <a:pt x="4229" y="1152"/>
                  </a:lnTo>
                  <a:lnTo>
                    <a:pt x="4238" y="1155"/>
                  </a:lnTo>
                  <a:lnTo>
                    <a:pt x="4247" y="1161"/>
                  </a:lnTo>
                  <a:lnTo>
                    <a:pt x="4256" y="1164"/>
                  </a:lnTo>
                  <a:lnTo>
                    <a:pt x="4264" y="1170"/>
                  </a:lnTo>
                  <a:lnTo>
                    <a:pt x="4273" y="1172"/>
                  </a:lnTo>
                  <a:lnTo>
                    <a:pt x="4282" y="1178"/>
                  </a:lnTo>
                  <a:lnTo>
                    <a:pt x="4291" y="1181"/>
                  </a:lnTo>
                  <a:lnTo>
                    <a:pt x="4299" y="1187"/>
                  </a:lnTo>
                  <a:lnTo>
                    <a:pt x="4308" y="1190"/>
                  </a:lnTo>
                  <a:lnTo>
                    <a:pt x="4317" y="1193"/>
                  </a:lnTo>
                  <a:lnTo>
                    <a:pt x="4326" y="1195"/>
                  </a:lnTo>
                  <a:lnTo>
                    <a:pt x="4334" y="1195"/>
                  </a:lnTo>
                  <a:lnTo>
                    <a:pt x="4326" y="1190"/>
                  </a:lnTo>
                  <a:lnTo>
                    <a:pt x="4314" y="1178"/>
                  </a:lnTo>
                  <a:lnTo>
                    <a:pt x="4305" y="1170"/>
                  </a:lnTo>
                  <a:lnTo>
                    <a:pt x="4305" y="1161"/>
                  </a:lnTo>
                  <a:lnTo>
                    <a:pt x="4317" y="1158"/>
                  </a:lnTo>
                  <a:lnTo>
                    <a:pt x="4328" y="1158"/>
                  </a:lnTo>
                  <a:lnTo>
                    <a:pt x="4337" y="1158"/>
                  </a:lnTo>
                  <a:lnTo>
                    <a:pt x="4346" y="1158"/>
                  </a:lnTo>
                  <a:lnTo>
                    <a:pt x="4346" y="1149"/>
                  </a:lnTo>
                  <a:lnTo>
                    <a:pt x="4349" y="1138"/>
                  </a:lnTo>
                  <a:lnTo>
                    <a:pt x="4349" y="1129"/>
                  </a:lnTo>
                  <a:lnTo>
                    <a:pt x="4340" y="1123"/>
                  </a:lnTo>
                  <a:lnTo>
                    <a:pt x="4331" y="1121"/>
                  </a:lnTo>
                  <a:lnTo>
                    <a:pt x="4323" y="1121"/>
                  </a:lnTo>
                  <a:lnTo>
                    <a:pt x="4314" y="1121"/>
                  </a:lnTo>
                  <a:lnTo>
                    <a:pt x="4302" y="1121"/>
                  </a:lnTo>
                  <a:lnTo>
                    <a:pt x="4296" y="1132"/>
                  </a:lnTo>
                  <a:lnTo>
                    <a:pt x="4288" y="1138"/>
                  </a:lnTo>
                  <a:lnTo>
                    <a:pt x="4279" y="1144"/>
                  </a:lnTo>
                  <a:lnTo>
                    <a:pt x="4270" y="1144"/>
                  </a:lnTo>
                  <a:lnTo>
                    <a:pt x="4261" y="1144"/>
                  </a:lnTo>
                  <a:lnTo>
                    <a:pt x="4253" y="1144"/>
                  </a:lnTo>
                  <a:lnTo>
                    <a:pt x="4244" y="1144"/>
                  </a:lnTo>
                  <a:lnTo>
                    <a:pt x="4238" y="1135"/>
                  </a:lnTo>
                  <a:lnTo>
                    <a:pt x="4227" y="1126"/>
                  </a:lnTo>
                  <a:lnTo>
                    <a:pt x="4218" y="1115"/>
                  </a:lnTo>
                  <a:lnTo>
                    <a:pt x="4209" y="1109"/>
                  </a:lnTo>
                  <a:lnTo>
                    <a:pt x="4197" y="1100"/>
                  </a:lnTo>
                  <a:lnTo>
                    <a:pt x="4192" y="1092"/>
                  </a:lnTo>
                  <a:lnTo>
                    <a:pt x="4200" y="1086"/>
                  </a:lnTo>
                  <a:lnTo>
                    <a:pt x="4209" y="1077"/>
                  </a:lnTo>
                  <a:lnTo>
                    <a:pt x="4218" y="1072"/>
                  </a:lnTo>
                  <a:lnTo>
                    <a:pt x="4227" y="1063"/>
                  </a:lnTo>
                  <a:lnTo>
                    <a:pt x="4229" y="1054"/>
                  </a:lnTo>
                  <a:lnTo>
                    <a:pt x="4221" y="1048"/>
                  </a:lnTo>
                  <a:lnTo>
                    <a:pt x="4209" y="1048"/>
                  </a:lnTo>
                  <a:lnTo>
                    <a:pt x="4200" y="1048"/>
                  </a:lnTo>
                  <a:lnTo>
                    <a:pt x="4189" y="1048"/>
                  </a:lnTo>
                  <a:lnTo>
                    <a:pt x="4180" y="1051"/>
                  </a:lnTo>
                  <a:lnTo>
                    <a:pt x="4171" y="1057"/>
                  </a:lnTo>
                  <a:lnTo>
                    <a:pt x="4160" y="1057"/>
                  </a:lnTo>
                  <a:lnTo>
                    <a:pt x="4151" y="1057"/>
                  </a:lnTo>
                  <a:lnTo>
                    <a:pt x="4142" y="1057"/>
                  </a:lnTo>
                  <a:lnTo>
                    <a:pt x="4133" y="1057"/>
                  </a:lnTo>
                  <a:lnTo>
                    <a:pt x="4125" y="1057"/>
                  </a:lnTo>
                  <a:lnTo>
                    <a:pt x="4116" y="1057"/>
                  </a:lnTo>
                  <a:lnTo>
                    <a:pt x="4107" y="1057"/>
                  </a:lnTo>
                  <a:lnTo>
                    <a:pt x="4098" y="1057"/>
                  </a:lnTo>
                  <a:lnTo>
                    <a:pt x="4090" y="1057"/>
                  </a:lnTo>
                  <a:lnTo>
                    <a:pt x="4081" y="1057"/>
                  </a:lnTo>
                  <a:lnTo>
                    <a:pt x="4072" y="1057"/>
                  </a:lnTo>
                  <a:lnTo>
                    <a:pt x="4064" y="1054"/>
                  </a:lnTo>
                  <a:lnTo>
                    <a:pt x="4055" y="1051"/>
                  </a:lnTo>
                  <a:lnTo>
                    <a:pt x="4043" y="1048"/>
                  </a:lnTo>
                  <a:lnTo>
                    <a:pt x="4032" y="1043"/>
                  </a:lnTo>
                  <a:lnTo>
                    <a:pt x="4023" y="1040"/>
                  </a:lnTo>
                  <a:lnTo>
                    <a:pt x="4008" y="1031"/>
                  </a:lnTo>
                  <a:lnTo>
                    <a:pt x="3994" y="1028"/>
                  </a:lnTo>
                  <a:lnTo>
                    <a:pt x="3982" y="1028"/>
                  </a:lnTo>
                  <a:lnTo>
                    <a:pt x="3973" y="1028"/>
                  </a:lnTo>
                  <a:lnTo>
                    <a:pt x="3965" y="1028"/>
                  </a:lnTo>
                  <a:lnTo>
                    <a:pt x="3953" y="1028"/>
                  </a:lnTo>
                  <a:lnTo>
                    <a:pt x="3941" y="1028"/>
                  </a:lnTo>
                  <a:lnTo>
                    <a:pt x="3933" y="1028"/>
                  </a:lnTo>
                  <a:lnTo>
                    <a:pt x="3927" y="1037"/>
                  </a:lnTo>
                  <a:lnTo>
                    <a:pt x="3941" y="1048"/>
                  </a:lnTo>
                  <a:lnTo>
                    <a:pt x="3950" y="1051"/>
                  </a:lnTo>
                  <a:lnTo>
                    <a:pt x="3962" y="1054"/>
                  </a:lnTo>
                  <a:lnTo>
                    <a:pt x="3970" y="1057"/>
                  </a:lnTo>
                  <a:lnTo>
                    <a:pt x="3979" y="1060"/>
                  </a:lnTo>
                  <a:lnTo>
                    <a:pt x="3982" y="1072"/>
                  </a:lnTo>
                  <a:lnTo>
                    <a:pt x="3982" y="1080"/>
                  </a:lnTo>
                  <a:lnTo>
                    <a:pt x="3982" y="1089"/>
                  </a:lnTo>
                  <a:lnTo>
                    <a:pt x="3994" y="1100"/>
                  </a:lnTo>
                  <a:lnTo>
                    <a:pt x="4002" y="1103"/>
                  </a:lnTo>
                  <a:lnTo>
                    <a:pt x="4014" y="1106"/>
                  </a:lnTo>
                  <a:lnTo>
                    <a:pt x="4026" y="1106"/>
                  </a:lnTo>
                  <a:lnTo>
                    <a:pt x="4034" y="1109"/>
                  </a:lnTo>
                  <a:lnTo>
                    <a:pt x="4046" y="1112"/>
                  </a:lnTo>
                  <a:lnTo>
                    <a:pt x="4037" y="1115"/>
                  </a:lnTo>
                  <a:lnTo>
                    <a:pt x="4029" y="1112"/>
                  </a:lnTo>
                  <a:lnTo>
                    <a:pt x="4020" y="1109"/>
                  </a:lnTo>
                  <a:lnTo>
                    <a:pt x="4011" y="1109"/>
                  </a:lnTo>
                  <a:lnTo>
                    <a:pt x="4002" y="1106"/>
                  </a:lnTo>
                  <a:lnTo>
                    <a:pt x="3994" y="1103"/>
                  </a:lnTo>
                  <a:lnTo>
                    <a:pt x="3979" y="1097"/>
                  </a:lnTo>
                  <a:lnTo>
                    <a:pt x="3970" y="1097"/>
                  </a:lnTo>
                  <a:lnTo>
                    <a:pt x="3962" y="1100"/>
                  </a:lnTo>
                  <a:lnTo>
                    <a:pt x="3959" y="1109"/>
                  </a:lnTo>
                  <a:lnTo>
                    <a:pt x="3950" y="1118"/>
                  </a:lnTo>
                  <a:lnTo>
                    <a:pt x="3941" y="1123"/>
                  </a:lnTo>
                  <a:lnTo>
                    <a:pt x="3935" y="1132"/>
                  </a:lnTo>
                  <a:lnTo>
                    <a:pt x="3927" y="1138"/>
                  </a:lnTo>
                  <a:lnTo>
                    <a:pt x="3927" y="1146"/>
                  </a:lnTo>
                  <a:lnTo>
                    <a:pt x="3930" y="1155"/>
                  </a:lnTo>
                  <a:lnTo>
                    <a:pt x="3938" y="1161"/>
                  </a:lnTo>
                  <a:lnTo>
                    <a:pt x="3941" y="1170"/>
                  </a:lnTo>
                  <a:lnTo>
                    <a:pt x="3941" y="1178"/>
                  </a:lnTo>
                  <a:lnTo>
                    <a:pt x="3941" y="1187"/>
                  </a:lnTo>
                  <a:lnTo>
                    <a:pt x="3938" y="1195"/>
                  </a:lnTo>
                  <a:lnTo>
                    <a:pt x="3933" y="1204"/>
                  </a:lnTo>
                  <a:lnTo>
                    <a:pt x="3924" y="1204"/>
                  </a:lnTo>
                  <a:lnTo>
                    <a:pt x="3915" y="1193"/>
                  </a:lnTo>
                  <a:lnTo>
                    <a:pt x="3912" y="1184"/>
                  </a:lnTo>
                  <a:lnTo>
                    <a:pt x="3903" y="1178"/>
                  </a:lnTo>
                  <a:lnTo>
                    <a:pt x="3892" y="1172"/>
                  </a:lnTo>
                  <a:lnTo>
                    <a:pt x="3883" y="1167"/>
                  </a:lnTo>
                  <a:lnTo>
                    <a:pt x="3877" y="1158"/>
                  </a:lnTo>
                  <a:lnTo>
                    <a:pt x="3874" y="1167"/>
                  </a:lnTo>
                  <a:lnTo>
                    <a:pt x="3874" y="1175"/>
                  </a:lnTo>
                  <a:lnTo>
                    <a:pt x="3874" y="1184"/>
                  </a:lnTo>
                  <a:lnTo>
                    <a:pt x="3886" y="1193"/>
                  </a:lnTo>
                  <a:lnTo>
                    <a:pt x="3898" y="1195"/>
                  </a:lnTo>
                  <a:lnTo>
                    <a:pt x="3906" y="1198"/>
                  </a:lnTo>
                  <a:lnTo>
                    <a:pt x="3915" y="1201"/>
                  </a:lnTo>
                  <a:lnTo>
                    <a:pt x="3924" y="1207"/>
                  </a:lnTo>
                  <a:lnTo>
                    <a:pt x="3912" y="1213"/>
                  </a:lnTo>
                  <a:lnTo>
                    <a:pt x="3903" y="1213"/>
                  </a:lnTo>
                  <a:lnTo>
                    <a:pt x="3895" y="1213"/>
                  </a:lnTo>
                  <a:lnTo>
                    <a:pt x="3886" y="1216"/>
                  </a:lnTo>
                  <a:lnTo>
                    <a:pt x="3886" y="1224"/>
                  </a:lnTo>
                  <a:lnTo>
                    <a:pt x="3880" y="1233"/>
                  </a:lnTo>
                  <a:lnTo>
                    <a:pt x="3868" y="1236"/>
                  </a:lnTo>
                  <a:lnTo>
                    <a:pt x="3860" y="1236"/>
                  </a:lnTo>
                  <a:lnTo>
                    <a:pt x="3854" y="1224"/>
                  </a:lnTo>
                  <a:lnTo>
                    <a:pt x="3854" y="1216"/>
                  </a:lnTo>
                  <a:lnTo>
                    <a:pt x="3851" y="1207"/>
                  </a:lnTo>
                  <a:lnTo>
                    <a:pt x="3845" y="1198"/>
                  </a:lnTo>
                  <a:lnTo>
                    <a:pt x="3842" y="1187"/>
                  </a:lnTo>
                  <a:lnTo>
                    <a:pt x="3836" y="1175"/>
                  </a:lnTo>
                  <a:lnTo>
                    <a:pt x="3834" y="1164"/>
                  </a:lnTo>
                  <a:lnTo>
                    <a:pt x="3828" y="1155"/>
                  </a:lnTo>
                  <a:lnTo>
                    <a:pt x="3822" y="1146"/>
                  </a:lnTo>
                  <a:lnTo>
                    <a:pt x="3816" y="1138"/>
                  </a:lnTo>
                  <a:lnTo>
                    <a:pt x="3810" y="1129"/>
                  </a:lnTo>
                  <a:lnTo>
                    <a:pt x="3799" y="1123"/>
                  </a:lnTo>
                  <a:lnTo>
                    <a:pt x="3793" y="1115"/>
                  </a:lnTo>
                  <a:lnTo>
                    <a:pt x="3790" y="1106"/>
                  </a:lnTo>
                  <a:lnTo>
                    <a:pt x="3784" y="1097"/>
                  </a:lnTo>
                  <a:lnTo>
                    <a:pt x="3778" y="1089"/>
                  </a:lnTo>
                  <a:lnTo>
                    <a:pt x="3775" y="1080"/>
                  </a:lnTo>
                  <a:lnTo>
                    <a:pt x="3772" y="1072"/>
                  </a:lnTo>
                  <a:lnTo>
                    <a:pt x="3767" y="1063"/>
                  </a:lnTo>
                  <a:lnTo>
                    <a:pt x="3761" y="1054"/>
                  </a:lnTo>
                  <a:lnTo>
                    <a:pt x="3752" y="1046"/>
                  </a:lnTo>
                  <a:lnTo>
                    <a:pt x="3746" y="1037"/>
                  </a:lnTo>
                  <a:lnTo>
                    <a:pt x="3737" y="1034"/>
                  </a:lnTo>
                  <a:lnTo>
                    <a:pt x="3717" y="988"/>
                  </a:lnTo>
                  <a:lnTo>
                    <a:pt x="3737" y="1008"/>
                  </a:lnTo>
                  <a:lnTo>
                    <a:pt x="3737" y="999"/>
                  </a:lnTo>
                  <a:lnTo>
                    <a:pt x="3732" y="991"/>
                  </a:lnTo>
                  <a:lnTo>
                    <a:pt x="3726" y="982"/>
                  </a:lnTo>
                  <a:lnTo>
                    <a:pt x="3723" y="974"/>
                  </a:lnTo>
                  <a:lnTo>
                    <a:pt x="3714" y="968"/>
                  </a:lnTo>
                  <a:lnTo>
                    <a:pt x="3703" y="965"/>
                  </a:lnTo>
                  <a:lnTo>
                    <a:pt x="3694" y="959"/>
                  </a:lnTo>
                  <a:lnTo>
                    <a:pt x="3691" y="950"/>
                  </a:lnTo>
                  <a:lnTo>
                    <a:pt x="3691" y="942"/>
                  </a:lnTo>
                  <a:lnTo>
                    <a:pt x="3691" y="930"/>
                  </a:lnTo>
                  <a:lnTo>
                    <a:pt x="3691" y="922"/>
                  </a:lnTo>
                  <a:lnTo>
                    <a:pt x="3691" y="913"/>
                  </a:lnTo>
                  <a:lnTo>
                    <a:pt x="3694" y="904"/>
                  </a:lnTo>
                  <a:lnTo>
                    <a:pt x="3700" y="896"/>
                  </a:lnTo>
                  <a:lnTo>
                    <a:pt x="3705" y="887"/>
                  </a:lnTo>
                  <a:lnTo>
                    <a:pt x="3714" y="887"/>
                  </a:lnTo>
                  <a:lnTo>
                    <a:pt x="3717" y="878"/>
                  </a:lnTo>
                  <a:lnTo>
                    <a:pt x="3705" y="867"/>
                  </a:lnTo>
                  <a:lnTo>
                    <a:pt x="3705" y="858"/>
                  </a:lnTo>
                  <a:lnTo>
                    <a:pt x="3705" y="847"/>
                  </a:lnTo>
                  <a:lnTo>
                    <a:pt x="3711" y="838"/>
                  </a:lnTo>
                  <a:lnTo>
                    <a:pt x="3717" y="827"/>
                  </a:lnTo>
                  <a:lnTo>
                    <a:pt x="3717" y="818"/>
                  </a:lnTo>
                  <a:lnTo>
                    <a:pt x="3717" y="809"/>
                  </a:lnTo>
                  <a:lnTo>
                    <a:pt x="3705" y="806"/>
                  </a:lnTo>
                  <a:lnTo>
                    <a:pt x="3694" y="801"/>
                  </a:lnTo>
                  <a:lnTo>
                    <a:pt x="3685" y="795"/>
                  </a:lnTo>
                  <a:lnTo>
                    <a:pt x="3685" y="786"/>
                  </a:lnTo>
                  <a:lnTo>
                    <a:pt x="3691" y="778"/>
                  </a:lnTo>
                  <a:lnTo>
                    <a:pt x="3697" y="769"/>
                  </a:lnTo>
                  <a:lnTo>
                    <a:pt x="3700" y="760"/>
                  </a:lnTo>
                  <a:lnTo>
                    <a:pt x="3708" y="757"/>
                  </a:lnTo>
                  <a:lnTo>
                    <a:pt x="3717" y="752"/>
                  </a:lnTo>
                  <a:lnTo>
                    <a:pt x="3726" y="757"/>
                  </a:lnTo>
                  <a:lnTo>
                    <a:pt x="3735" y="760"/>
                  </a:lnTo>
                  <a:lnTo>
                    <a:pt x="3743" y="763"/>
                  </a:lnTo>
                  <a:lnTo>
                    <a:pt x="3743" y="755"/>
                  </a:lnTo>
                  <a:lnTo>
                    <a:pt x="3737" y="746"/>
                  </a:lnTo>
                  <a:lnTo>
                    <a:pt x="3737" y="737"/>
                  </a:lnTo>
                  <a:lnTo>
                    <a:pt x="3735" y="729"/>
                  </a:lnTo>
                  <a:lnTo>
                    <a:pt x="3735" y="720"/>
                  </a:lnTo>
                  <a:lnTo>
                    <a:pt x="3732" y="711"/>
                  </a:lnTo>
                  <a:lnTo>
                    <a:pt x="3726" y="703"/>
                  </a:lnTo>
                  <a:lnTo>
                    <a:pt x="3723" y="691"/>
                  </a:lnTo>
                  <a:lnTo>
                    <a:pt x="3723" y="682"/>
                  </a:lnTo>
                  <a:lnTo>
                    <a:pt x="3723" y="674"/>
                  </a:lnTo>
                  <a:lnTo>
                    <a:pt x="3723" y="665"/>
                  </a:lnTo>
                  <a:lnTo>
                    <a:pt x="3714" y="662"/>
                  </a:lnTo>
                  <a:lnTo>
                    <a:pt x="3708" y="671"/>
                  </a:lnTo>
                  <a:lnTo>
                    <a:pt x="3700" y="671"/>
                  </a:lnTo>
                  <a:lnTo>
                    <a:pt x="3691" y="674"/>
                  </a:lnTo>
                  <a:lnTo>
                    <a:pt x="3682" y="671"/>
                  </a:lnTo>
                  <a:lnTo>
                    <a:pt x="3673" y="659"/>
                  </a:lnTo>
                  <a:lnTo>
                    <a:pt x="3668" y="651"/>
                  </a:lnTo>
                  <a:lnTo>
                    <a:pt x="3662" y="642"/>
                  </a:lnTo>
                  <a:lnTo>
                    <a:pt x="3653" y="633"/>
                  </a:lnTo>
                  <a:lnTo>
                    <a:pt x="3641" y="628"/>
                  </a:lnTo>
                  <a:lnTo>
                    <a:pt x="3633" y="622"/>
                  </a:lnTo>
                  <a:lnTo>
                    <a:pt x="3624" y="622"/>
                  </a:lnTo>
                  <a:lnTo>
                    <a:pt x="3615" y="616"/>
                  </a:lnTo>
                  <a:lnTo>
                    <a:pt x="3604" y="613"/>
                  </a:lnTo>
                  <a:lnTo>
                    <a:pt x="3595" y="608"/>
                  </a:lnTo>
                  <a:lnTo>
                    <a:pt x="3577" y="573"/>
                  </a:lnTo>
                  <a:lnTo>
                    <a:pt x="3592" y="587"/>
                  </a:lnTo>
                  <a:lnTo>
                    <a:pt x="3592" y="576"/>
                  </a:lnTo>
                  <a:lnTo>
                    <a:pt x="3589" y="567"/>
                  </a:lnTo>
                  <a:lnTo>
                    <a:pt x="3589" y="559"/>
                  </a:lnTo>
                  <a:lnTo>
                    <a:pt x="3583" y="547"/>
                  </a:lnTo>
                  <a:lnTo>
                    <a:pt x="3577" y="538"/>
                  </a:lnTo>
                  <a:lnTo>
                    <a:pt x="3569" y="530"/>
                  </a:lnTo>
                  <a:lnTo>
                    <a:pt x="3583" y="527"/>
                  </a:lnTo>
                  <a:lnTo>
                    <a:pt x="3592" y="530"/>
                  </a:lnTo>
                  <a:lnTo>
                    <a:pt x="3601" y="533"/>
                  </a:lnTo>
                  <a:lnTo>
                    <a:pt x="3609" y="538"/>
                  </a:lnTo>
                  <a:lnTo>
                    <a:pt x="3618" y="541"/>
                  </a:lnTo>
                  <a:lnTo>
                    <a:pt x="3621" y="533"/>
                  </a:lnTo>
                  <a:lnTo>
                    <a:pt x="3621" y="524"/>
                  </a:lnTo>
                  <a:lnTo>
                    <a:pt x="3612" y="518"/>
                  </a:lnTo>
                  <a:lnTo>
                    <a:pt x="3604" y="507"/>
                  </a:lnTo>
                  <a:lnTo>
                    <a:pt x="3598" y="498"/>
                  </a:lnTo>
                  <a:lnTo>
                    <a:pt x="3589" y="489"/>
                  </a:lnTo>
                  <a:lnTo>
                    <a:pt x="3586" y="481"/>
                  </a:lnTo>
                  <a:lnTo>
                    <a:pt x="3577" y="472"/>
                  </a:lnTo>
                  <a:lnTo>
                    <a:pt x="3566" y="469"/>
                  </a:lnTo>
                  <a:lnTo>
                    <a:pt x="3557" y="469"/>
                  </a:lnTo>
                  <a:lnTo>
                    <a:pt x="3548" y="469"/>
                  </a:lnTo>
                  <a:lnTo>
                    <a:pt x="3540" y="469"/>
                  </a:lnTo>
                  <a:lnTo>
                    <a:pt x="3531" y="466"/>
                  </a:lnTo>
                  <a:lnTo>
                    <a:pt x="3519" y="458"/>
                  </a:lnTo>
                  <a:lnTo>
                    <a:pt x="3516" y="449"/>
                  </a:lnTo>
                  <a:lnTo>
                    <a:pt x="3510" y="440"/>
                  </a:lnTo>
                  <a:lnTo>
                    <a:pt x="3507" y="432"/>
                  </a:lnTo>
                  <a:lnTo>
                    <a:pt x="3502" y="423"/>
                  </a:lnTo>
                  <a:lnTo>
                    <a:pt x="3502" y="412"/>
                  </a:lnTo>
                  <a:lnTo>
                    <a:pt x="3510" y="412"/>
                  </a:lnTo>
                  <a:lnTo>
                    <a:pt x="3519" y="417"/>
                  </a:lnTo>
                  <a:lnTo>
                    <a:pt x="3531" y="426"/>
                  </a:lnTo>
                  <a:lnTo>
                    <a:pt x="3540" y="432"/>
                  </a:lnTo>
                  <a:lnTo>
                    <a:pt x="3542" y="440"/>
                  </a:lnTo>
                  <a:lnTo>
                    <a:pt x="3551" y="446"/>
                  </a:lnTo>
                  <a:lnTo>
                    <a:pt x="3563" y="452"/>
                  </a:lnTo>
                  <a:lnTo>
                    <a:pt x="3572" y="458"/>
                  </a:lnTo>
                  <a:lnTo>
                    <a:pt x="3580" y="458"/>
                  </a:lnTo>
                  <a:lnTo>
                    <a:pt x="3589" y="458"/>
                  </a:lnTo>
                  <a:lnTo>
                    <a:pt x="3598" y="458"/>
                  </a:lnTo>
                  <a:lnTo>
                    <a:pt x="3606" y="461"/>
                  </a:lnTo>
                  <a:lnTo>
                    <a:pt x="3612" y="472"/>
                  </a:lnTo>
                  <a:lnTo>
                    <a:pt x="3618" y="481"/>
                  </a:lnTo>
                  <a:lnTo>
                    <a:pt x="3621" y="489"/>
                  </a:lnTo>
                  <a:lnTo>
                    <a:pt x="3627" y="498"/>
                  </a:lnTo>
                  <a:lnTo>
                    <a:pt x="3633" y="507"/>
                  </a:lnTo>
                  <a:lnTo>
                    <a:pt x="3641" y="518"/>
                  </a:lnTo>
                  <a:lnTo>
                    <a:pt x="3650" y="521"/>
                  </a:lnTo>
                  <a:lnTo>
                    <a:pt x="3662" y="524"/>
                  </a:lnTo>
                  <a:lnTo>
                    <a:pt x="3671" y="524"/>
                  </a:lnTo>
                  <a:lnTo>
                    <a:pt x="3679" y="527"/>
                  </a:lnTo>
                  <a:lnTo>
                    <a:pt x="3688" y="527"/>
                  </a:lnTo>
                  <a:lnTo>
                    <a:pt x="3700" y="530"/>
                  </a:lnTo>
                  <a:lnTo>
                    <a:pt x="3711" y="536"/>
                  </a:lnTo>
                  <a:lnTo>
                    <a:pt x="3723" y="544"/>
                  </a:lnTo>
                  <a:lnTo>
                    <a:pt x="3729" y="553"/>
                  </a:lnTo>
                  <a:lnTo>
                    <a:pt x="3735" y="561"/>
                  </a:lnTo>
                  <a:lnTo>
                    <a:pt x="3746" y="570"/>
                  </a:lnTo>
                  <a:lnTo>
                    <a:pt x="3761" y="579"/>
                  </a:lnTo>
                  <a:lnTo>
                    <a:pt x="3770" y="585"/>
                  </a:lnTo>
                  <a:lnTo>
                    <a:pt x="3772" y="593"/>
                  </a:lnTo>
                  <a:lnTo>
                    <a:pt x="3775" y="602"/>
                  </a:lnTo>
                  <a:lnTo>
                    <a:pt x="3778" y="610"/>
                  </a:lnTo>
                  <a:lnTo>
                    <a:pt x="3787" y="610"/>
                  </a:lnTo>
                  <a:lnTo>
                    <a:pt x="3790" y="619"/>
                  </a:lnTo>
                  <a:lnTo>
                    <a:pt x="3799" y="622"/>
                  </a:lnTo>
                  <a:lnTo>
                    <a:pt x="3807" y="628"/>
                  </a:lnTo>
                  <a:lnTo>
                    <a:pt x="3819" y="633"/>
                  </a:lnTo>
                  <a:lnTo>
                    <a:pt x="3828" y="636"/>
                  </a:lnTo>
                  <a:lnTo>
                    <a:pt x="3836" y="639"/>
                  </a:lnTo>
                  <a:lnTo>
                    <a:pt x="3845" y="642"/>
                  </a:lnTo>
                  <a:lnTo>
                    <a:pt x="3854" y="642"/>
                  </a:lnTo>
                  <a:lnTo>
                    <a:pt x="3866" y="645"/>
                  </a:lnTo>
                  <a:lnTo>
                    <a:pt x="3874" y="651"/>
                  </a:lnTo>
                  <a:lnTo>
                    <a:pt x="3883" y="657"/>
                  </a:lnTo>
                  <a:lnTo>
                    <a:pt x="3892" y="657"/>
                  </a:lnTo>
                  <a:lnTo>
                    <a:pt x="3901" y="657"/>
                  </a:lnTo>
                  <a:lnTo>
                    <a:pt x="3912" y="657"/>
                  </a:lnTo>
                  <a:lnTo>
                    <a:pt x="3924" y="657"/>
                  </a:lnTo>
                  <a:lnTo>
                    <a:pt x="3938" y="657"/>
                  </a:lnTo>
                  <a:lnTo>
                    <a:pt x="3947" y="657"/>
                  </a:lnTo>
                  <a:lnTo>
                    <a:pt x="3959" y="657"/>
                  </a:lnTo>
                  <a:lnTo>
                    <a:pt x="3967" y="659"/>
                  </a:lnTo>
                  <a:lnTo>
                    <a:pt x="3979" y="659"/>
                  </a:lnTo>
                  <a:lnTo>
                    <a:pt x="3991" y="659"/>
                  </a:lnTo>
                  <a:lnTo>
                    <a:pt x="4002" y="659"/>
                  </a:lnTo>
                  <a:lnTo>
                    <a:pt x="4017" y="659"/>
                  </a:lnTo>
                  <a:lnTo>
                    <a:pt x="4026" y="659"/>
                  </a:lnTo>
                  <a:lnTo>
                    <a:pt x="4037" y="659"/>
                  </a:lnTo>
                  <a:lnTo>
                    <a:pt x="4049" y="659"/>
                  </a:lnTo>
                  <a:lnTo>
                    <a:pt x="4061" y="659"/>
                  </a:lnTo>
                  <a:lnTo>
                    <a:pt x="4072" y="659"/>
                  </a:lnTo>
                  <a:lnTo>
                    <a:pt x="4084" y="659"/>
                  </a:lnTo>
                  <a:lnTo>
                    <a:pt x="4093" y="659"/>
                  </a:lnTo>
                  <a:lnTo>
                    <a:pt x="4101" y="659"/>
                  </a:lnTo>
                  <a:lnTo>
                    <a:pt x="4110" y="659"/>
                  </a:lnTo>
                  <a:lnTo>
                    <a:pt x="4119" y="659"/>
                  </a:lnTo>
                  <a:lnTo>
                    <a:pt x="4128" y="659"/>
                  </a:lnTo>
                  <a:lnTo>
                    <a:pt x="4136" y="659"/>
                  </a:lnTo>
                  <a:lnTo>
                    <a:pt x="4142" y="668"/>
                  </a:lnTo>
                  <a:lnTo>
                    <a:pt x="4145" y="677"/>
                  </a:lnTo>
                  <a:lnTo>
                    <a:pt x="4151" y="685"/>
                  </a:lnTo>
                  <a:lnTo>
                    <a:pt x="4160" y="691"/>
                  </a:lnTo>
                  <a:lnTo>
                    <a:pt x="4168" y="700"/>
                  </a:lnTo>
                  <a:lnTo>
                    <a:pt x="4177" y="700"/>
                  </a:lnTo>
                  <a:lnTo>
                    <a:pt x="4177" y="691"/>
                  </a:lnTo>
                  <a:lnTo>
                    <a:pt x="4168" y="682"/>
                  </a:lnTo>
                  <a:lnTo>
                    <a:pt x="4168" y="674"/>
                  </a:lnTo>
                  <a:lnTo>
                    <a:pt x="4160" y="665"/>
                  </a:lnTo>
                  <a:lnTo>
                    <a:pt x="4151" y="659"/>
                  </a:lnTo>
                  <a:lnTo>
                    <a:pt x="4136" y="619"/>
                  </a:lnTo>
                  <a:lnTo>
                    <a:pt x="4142" y="60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33880" y="36291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6" y="0"/>
                  </a:moveTo>
                  <a:lnTo>
                    <a:pt x="32" y="11"/>
                  </a:lnTo>
                  <a:lnTo>
                    <a:pt x="23" y="11"/>
                  </a:lnTo>
                  <a:lnTo>
                    <a:pt x="14" y="11"/>
                  </a:lnTo>
                  <a:lnTo>
                    <a:pt x="5" y="13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8" y="33"/>
                  </a:lnTo>
                  <a:lnTo>
                    <a:pt x="17" y="30"/>
                  </a:lnTo>
                  <a:lnTo>
                    <a:pt x="23" y="22"/>
                  </a:lnTo>
                  <a:lnTo>
                    <a:pt x="23" y="13"/>
                  </a:lnTo>
                  <a:lnTo>
                    <a:pt x="26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14480" y="5259240"/>
              <a:ext cx="4320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" y="20"/>
                  </a:moveTo>
                  <a:lnTo>
                    <a:pt x="8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4" y="17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2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81200" y="4390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0"/>
                  </a:moveTo>
                  <a:lnTo>
                    <a:pt x="11" y="16"/>
                  </a:lnTo>
                  <a:lnTo>
                    <a:pt x="11" y="25"/>
                  </a:lnTo>
                  <a:lnTo>
                    <a:pt x="2" y="33"/>
                  </a:lnTo>
                  <a:lnTo>
                    <a:pt x="11" y="45"/>
                  </a:lnTo>
                  <a:lnTo>
                    <a:pt x="26" y="48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2" y="22"/>
                  </a:lnTo>
                  <a:lnTo>
                    <a:pt x="23" y="14"/>
                  </a:lnTo>
                  <a:lnTo>
                    <a:pt x="14" y="11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9600" y="16905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0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05920" y="1801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lnTo>
                    <a:pt x="8" y="11"/>
                  </a:lnTo>
                  <a:lnTo>
                    <a:pt x="14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26" y="46"/>
                  </a:lnTo>
                  <a:lnTo>
                    <a:pt x="17" y="43"/>
                  </a:lnTo>
                  <a:lnTo>
                    <a:pt x="11" y="34"/>
                  </a:lnTo>
                  <a:lnTo>
                    <a:pt x="8" y="25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24440" y="16192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6" y="70"/>
                  </a:moveTo>
                  <a:lnTo>
                    <a:pt x="0" y="78"/>
                  </a:lnTo>
                  <a:lnTo>
                    <a:pt x="0" y="70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19" y="42"/>
                  </a:lnTo>
                  <a:lnTo>
                    <a:pt x="11" y="33"/>
                  </a:lnTo>
                  <a:lnTo>
                    <a:pt x="11" y="25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11"/>
                  </a:lnTo>
                  <a:lnTo>
                    <a:pt x="45" y="16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28" y="33"/>
                  </a:lnTo>
                  <a:lnTo>
                    <a:pt x="35" y="36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5" y="56"/>
                  </a:lnTo>
                  <a:lnTo>
                    <a:pt x="45" y="64"/>
                  </a:lnTo>
                  <a:lnTo>
                    <a:pt x="43" y="72"/>
                  </a:lnTo>
                  <a:lnTo>
                    <a:pt x="50" y="75"/>
                  </a:lnTo>
                  <a:lnTo>
                    <a:pt x="55" y="84"/>
                  </a:lnTo>
                  <a:lnTo>
                    <a:pt x="50" y="92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31" y="98"/>
                  </a:lnTo>
                  <a:lnTo>
                    <a:pt x="23" y="98"/>
                  </a:lnTo>
                  <a:lnTo>
                    <a:pt x="14" y="92"/>
                  </a:lnTo>
                  <a:lnTo>
                    <a:pt x="9" y="84"/>
                  </a:lnTo>
                  <a:lnTo>
                    <a:pt x="4" y="75"/>
                  </a:lnTo>
                  <a:lnTo>
                    <a:pt x="16" y="7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48200" y="17812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4"/>
                  </a:lnTo>
                  <a:lnTo>
                    <a:pt x="16" y="18"/>
                  </a:lnTo>
                  <a:lnTo>
                    <a:pt x="4" y="0"/>
                  </a:lnTo>
                  <a:lnTo>
                    <a:pt x="16" y="1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00840" y="167328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0"/>
                  </a:moveTo>
                  <a:lnTo>
                    <a:pt x="17" y="19"/>
                  </a:lnTo>
                  <a:lnTo>
                    <a:pt x="22" y="11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25" y="27"/>
                  </a:lnTo>
                  <a:lnTo>
                    <a:pt x="28" y="36"/>
                  </a:lnTo>
                  <a:lnTo>
                    <a:pt x="11" y="30"/>
                  </a:lnTo>
                  <a:lnTo>
                    <a:pt x="0" y="33"/>
                  </a:lnTo>
                  <a:lnTo>
                    <a:pt x="11" y="3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91040" y="1490760"/>
              <a:ext cx="84240" cy="10944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31" y="51"/>
                  </a:moveTo>
                  <a:lnTo>
                    <a:pt x="8" y="34"/>
                  </a:lnTo>
                  <a:lnTo>
                    <a:pt x="8" y="42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5" y="68"/>
                  </a:lnTo>
                  <a:lnTo>
                    <a:pt x="17" y="68"/>
                  </a:lnTo>
                  <a:lnTo>
                    <a:pt x="28" y="68"/>
                  </a:lnTo>
                  <a:lnTo>
                    <a:pt x="37" y="68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2" y="34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20" y="19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7" y="45"/>
                  </a:lnTo>
                  <a:lnTo>
                    <a:pt x="31" y="51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38480" y="2170080"/>
              <a:ext cx="293760" cy="235080"/>
            </a:xfrm>
            <a:custGeom>
              <a:avLst/>
              <a:gdLst/>
              <a:ahLst/>
              <a:rect l="l" t="t" r="r" b="b"/>
              <a:pathLst>
                <a:path w="185" h="148">
                  <a:moveTo>
                    <a:pt x="0" y="101"/>
                  </a:moveTo>
                  <a:lnTo>
                    <a:pt x="11" y="84"/>
                  </a:lnTo>
                  <a:lnTo>
                    <a:pt x="11" y="93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5" y="138"/>
                  </a:lnTo>
                  <a:lnTo>
                    <a:pt x="14" y="135"/>
                  </a:lnTo>
                  <a:lnTo>
                    <a:pt x="20" y="127"/>
                  </a:lnTo>
                  <a:lnTo>
                    <a:pt x="28" y="118"/>
                  </a:lnTo>
                  <a:lnTo>
                    <a:pt x="31" y="110"/>
                  </a:lnTo>
                  <a:lnTo>
                    <a:pt x="40" y="104"/>
                  </a:lnTo>
                  <a:lnTo>
                    <a:pt x="48" y="101"/>
                  </a:lnTo>
                  <a:lnTo>
                    <a:pt x="57" y="98"/>
                  </a:lnTo>
                  <a:lnTo>
                    <a:pt x="66" y="90"/>
                  </a:lnTo>
                  <a:lnTo>
                    <a:pt x="69" y="81"/>
                  </a:lnTo>
                  <a:lnTo>
                    <a:pt x="77" y="79"/>
                  </a:lnTo>
                  <a:lnTo>
                    <a:pt x="80" y="87"/>
                  </a:lnTo>
                  <a:lnTo>
                    <a:pt x="80" y="96"/>
                  </a:lnTo>
                  <a:lnTo>
                    <a:pt x="80" y="104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71" y="130"/>
                  </a:lnTo>
                  <a:lnTo>
                    <a:pt x="74" y="138"/>
                  </a:lnTo>
                  <a:lnTo>
                    <a:pt x="83" y="141"/>
                  </a:lnTo>
                  <a:lnTo>
                    <a:pt x="94" y="141"/>
                  </a:lnTo>
                  <a:lnTo>
                    <a:pt x="103" y="138"/>
                  </a:lnTo>
                  <a:lnTo>
                    <a:pt x="109" y="130"/>
                  </a:lnTo>
                  <a:lnTo>
                    <a:pt x="109" y="121"/>
                  </a:lnTo>
                  <a:lnTo>
                    <a:pt x="100" y="113"/>
                  </a:lnTo>
                  <a:lnTo>
                    <a:pt x="106" y="101"/>
                  </a:lnTo>
                  <a:lnTo>
                    <a:pt x="100" y="90"/>
                  </a:lnTo>
                  <a:lnTo>
                    <a:pt x="97" y="81"/>
                  </a:lnTo>
                  <a:lnTo>
                    <a:pt x="97" y="73"/>
                  </a:lnTo>
                  <a:lnTo>
                    <a:pt x="97" y="65"/>
                  </a:lnTo>
                  <a:lnTo>
                    <a:pt x="103" y="56"/>
                  </a:lnTo>
                  <a:lnTo>
                    <a:pt x="112" y="56"/>
                  </a:lnTo>
                  <a:lnTo>
                    <a:pt x="120" y="53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52" y="56"/>
                  </a:lnTo>
                  <a:lnTo>
                    <a:pt x="166" y="56"/>
                  </a:lnTo>
                  <a:lnTo>
                    <a:pt x="175" y="56"/>
                  </a:lnTo>
                  <a:lnTo>
                    <a:pt x="184" y="56"/>
                  </a:lnTo>
                  <a:lnTo>
                    <a:pt x="184" y="48"/>
                  </a:lnTo>
                  <a:lnTo>
                    <a:pt x="184" y="39"/>
                  </a:lnTo>
                  <a:lnTo>
                    <a:pt x="181" y="31"/>
                  </a:lnTo>
                  <a:lnTo>
                    <a:pt x="178" y="22"/>
                  </a:lnTo>
                  <a:lnTo>
                    <a:pt x="166" y="16"/>
                  </a:lnTo>
                  <a:lnTo>
                    <a:pt x="158" y="16"/>
                  </a:lnTo>
                  <a:lnTo>
                    <a:pt x="146" y="16"/>
                  </a:lnTo>
                  <a:lnTo>
                    <a:pt x="138" y="19"/>
                  </a:lnTo>
                  <a:lnTo>
                    <a:pt x="140" y="11"/>
                  </a:lnTo>
                  <a:lnTo>
                    <a:pt x="140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12" y="11"/>
                  </a:lnTo>
                  <a:lnTo>
                    <a:pt x="103" y="16"/>
                  </a:lnTo>
                  <a:lnTo>
                    <a:pt x="97" y="25"/>
                  </a:lnTo>
                  <a:lnTo>
                    <a:pt x="94" y="16"/>
                  </a:lnTo>
                  <a:lnTo>
                    <a:pt x="86" y="14"/>
                  </a:lnTo>
                  <a:lnTo>
                    <a:pt x="77" y="19"/>
                  </a:lnTo>
                  <a:lnTo>
                    <a:pt x="69" y="25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63" y="2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7" y="25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23" y="48"/>
                  </a:lnTo>
                  <a:lnTo>
                    <a:pt x="31" y="48"/>
                  </a:lnTo>
                  <a:lnTo>
                    <a:pt x="40" y="42"/>
                  </a:lnTo>
                  <a:lnTo>
                    <a:pt x="51" y="45"/>
                  </a:lnTo>
                  <a:lnTo>
                    <a:pt x="57" y="53"/>
                  </a:lnTo>
                  <a:lnTo>
                    <a:pt x="60" y="62"/>
                  </a:lnTo>
                  <a:lnTo>
                    <a:pt x="51" y="65"/>
                  </a:lnTo>
                  <a:lnTo>
                    <a:pt x="40" y="65"/>
                  </a:lnTo>
                  <a:lnTo>
                    <a:pt x="28" y="59"/>
                  </a:lnTo>
                  <a:lnTo>
                    <a:pt x="17" y="59"/>
                  </a:lnTo>
                  <a:lnTo>
                    <a:pt x="8" y="65"/>
                  </a:lnTo>
                  <a:lnTo>
                    <a:pt x="8" y="76"/>
                  </a:lnTo>
                  <a:lnTo>
                    <a:pt x="11" y="87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6"/>
                  </a:lnTo>
                  <a:lnTo>
                    <a:pt x="0" y="101"/>
                  </a:lnTo>
                  <a:lnTo>
                    <a:pt x="5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0" y="1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95760" y="2171880"/>
              <a:ext cx="220680" cy="18072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31" y="53"/>
                  </a:moveTo>
                  <a:lnTo>
                    <a:pt x="25" y="64"/>
                  </a:lnTo>
                  <a:lnTo>
                    <a:pt x="31" y="53"/>
                  </a:lnTo>
                  <a:lnTo>
                    <a:pt x="43" y="56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7" y="79"/>
                  </a:lnTo>
                  <a:lnTo>
                    <a:pt x="23" y="90"/>
                  </a:lnTo>
                  <a:lnTo>
                    <a:pt x="25" y="98"/>
                  </a:lnTo>
                  <a:lnTo>
                    <a:pt x="31" y="107"/>
                  </a:lnTo>
                  <a:lnTo>
                    <a:pt x="34" y="98"/>
                  </a:lnTo>
                  <a:lnTo>
                    <a:pt x="34" y="90"/>
                  </a:lnTo>
                  <a:lnTo>
                    <a:pt x="43" y="90"/>
                  </a:lnTo>
                  <a:lnTo>
                    <a:pt x="54" y="93"/>
                  </a:lnTo>
                  <a:lnTo>
                    <a:pt x="63" y="96"/>
                  </a:lnTo>
                  <a:lnTo>
                    <a:pt x="71" y="96"/>
                  </a:lnTo>
                  <a:lnTo>
                    <a:pt x="80" y="87"/>
                  </a:lnTo>
                  <a:lnTo>
                    <a:pt x="89" y="87"/>
                  </a:lnTo>
                  <a:lnTo>
                    <a:pt x="97" y="93"/>
                  </a:lnTo>
                  <a:lnTo>
                    <a:pt x="103" y="107"/>
                  </a:lnTo>
                  <a:lnTo>
                    <a:pt x="112" y="110"/>
                  </a:lnTo>
                  <a:lnTo>
                    <a:pt x="120" y="113"/>
                  </a:lnTo>
                  <a:lnTo>
                    <a:pt x="126" y="104"/>
                  </a:lnTo>
                  <a:lnTo>
                    <a:pt x="123" y="96"/>
                  </a:lnTo>
                  <a:lnTo>
                    <a:pt x="115" y="90"/>
                  </a:lnTo>
                  <a:lnTo>
                    <a:pt x="106" y="87"/>
                  </a:lnTo>
                  <a:lnTo>
                    <a:pt x="94" y="81"/>
                  </a:lnTo>
                  <a:lnTo>
                    <a:pt x="92" y="73"/>
                  </a:lnTo>
                  <a:lnTo>
                    <a:pt x="103" y="70"/>
                  </a:lnTo>
                  <a:lnTo>
                    <a:pt x="112" y="70"/>
                  </a:lnTo>
                  <a:lnTo>
                    <a:pt x="115" y="62"/>
                  </a:lnTo>
                  <a:lnTo>
                    <a:pt x="120" y="53"/>
                  </a:lnTo>
                  <a:lnTo>
                    <a:pt x="129" y="48"/>
                  </a:lnTo>
                  <a:lnTo>
                    <a:pt x="138" y="39"/>
                  </a:lnTo>
                  <a:lnTo>
                    <a:pt x="129" y="33"/>
                  </a:lnTo>
                  <a:lnTo>
                    <a:pt x="120" y="31"/>
                  </a:lnTo>
                  <a:lnTo>
                    <a:pt x="112" y="33"/>
                  </a:lnTo>
                  <a:lnTo>
                    <a:pt x="106" y="42"/>
                  </a:lnTo>
                  <a:lnTo>
                    <a:pt x="97" y="45"/>
                  </a:lnTo>
                  <a:lnTo>
                    <a:pt x="97" y="36"/>
                  </a:lnTo>
                  <a:lnTo>
                    <a:pt x="100" y="25"/>
                  </a:lnTo>
                  <a:lnTo>
                    <a:pt x="100" y="16"/>
                  </a:lnTo>
                  <a:lnTo>
                    <a:pt x="103" y="8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0" y="8"/>
                  </a:lnTo>
                  <a:lnTo>
                    <a:pt x="77" y="16"/>
                  </a:lnTo>
                  <a:lnTo>
                    <a:pt x="74" y="25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1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3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23" y="64"/>
                  </a:lnTo>
                  <a:lnTo>
                    <a:pt x="31" y="64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77" y="53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05520" y="2079720"/>
              <a:ext cx="298440" cy="156960"/>
            </a:xfrm>
            <a:custGeom>
              <a:avLst/>
              <a:gdLst/>
              <a:ahLst/>
              <a:rect l="l" t="t" r="r" b="b"/>
              <a:pathLst>
                <a:path w="188" h="99">
                  <a:moveTo>
                    <a:pt x="0" y="17"/>
                  </a:moveTo>
                  <a:lnTo>
                    <a:pt x="25" y="25"/>
                  </a:lnTo>
                  <a:lnTo>
                    <a:pt x="37" y="25"/>
                  </a:lnTo>
                  <a:lnTo>
                    <a:pt x="43" y="34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63" y="69"/>
                  </a:lnTo>
                  <a:lnTo>
                    <a:pt x="63" y="80"/>
                  </a:lnTo>
                  <a:lnTo>
                    <a:pt x="71" y="83"/>
                  </a:lnTo>
                  <a:lnTo>
                    <a:pt x="80" y="77"/>
                  </a:lnTo>
                  <a:lnTo>
                    <a:pt x="89" y="77"/>
                  </a:lnTo>
                  <a:lnTo>
                    <a:pt x="97" y="77"/>
                  </a:lnTo>
                  <a:lnTo>
                    <a:pt x="106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5" y="74"/>
                  </a:lnTo>
                  <a:lnTo>
                    <a:pt x="143" y="77"/>
                  </a:lnTo>
                  <a:lnTo>
                    <a:pt x="152" y="86"/>
                  </a:lnTo>
                  <a:lnTo>
                    <a:pt x="163" y="98"/>
                  </a:lnTo>
                  <a:lnTo>
                    <a:pt x="169" y="89"/>
                  </a:lnTo>
                  <a:lnTo>
                    <a:pt x="175" y="80"/>
                  </a:lnTo>
                  <a:lnTo>
                    <a:pt x="181" y="72"/>
                  </a:lnTo>
                  <a:lnTo>
                    <a:pt x="187" y="60"/>
                  </a:lnTo>
                  <a:lnTo>
                    <a:pt x="187" y="51"/>
                  </a:lnTo>
                  <a:lnTo>
                    <a:pt x="187" y="43"/>
                  </a:lnTo>
                  <a:lnTo>
                    <a:pt x="181" y="34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5" y="34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9" y="40"/>
                  </a:lnTo>
                  <a:lnTo>
                    <a:pt x="129" y="49"/>
                  </a:lnTo>
                  <a:lnTo>
                    <a:pt x="129" y="57"/>
                  </a:lnTo>
                  <a:lnTo>
                    <a:pt x="120" y="51"/>
                  </a:lnTo>
                  <a:lnTo>
                    <a:pt x="109" y="43"/>
                  </a:lnTo>
                  <a:lnTo>
                    <a:pt x="100" y="34"/>
                  </a:lnTo>
                  <a:lnTo>
                    <a:pt x="86" y="25"/>
                  </a:lnTo>
                  <a:lnTo>
                    <a:pt x="83" y="37"/>
                  </a:lnTo>
                  <a:lnTo>
                    <a:pt x="74" y="40"/>
                  </a:lnTo>
                  <a:lnTo>
                    <a:pt x="74" y="31"/>
                  </a:lnTo>
                  <a:lnTo>
                    <a:pt x="69" y="23"/>
                  </a:lnTo>
                  <a:lnTo>
                    <a:pt x="60" y="17"/>
                  </a:lnTo>
                  <a:lnTo>
                    <a:pt x="51" y="8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8" y="8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0" y="1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74960" y="2954160"/>
              <a:ext cx="680760" cy="700200"/>
            </a:xfrm>
            <a:custGeom>
              <a:avLst/>
              <a:gdLst/>
              <a:ahLst/>
              <a:rect l="l" t="t" r="r" b="b"/>
              <a:pathLst>
                <a:path w="429" h="441">
                  <a:moveTo>
                    <a:pt x="22" y="309"/>
                  </a:moveTo>
                  <a:lnTo>
                    <a:pt x="34" y="315"/>
                  </a:lnTo>
                  <a:lnTo>
                    <a:pt x="43" y="318"/>
                  </a:lnTo>
                  <a:lnTo>
                    <a:pt x="51" y="321"/>
                  </a:lnTo>
                  <a:lnTo>
                    <a:pt x="54" y="333"/>
                  </a:lnTo>
                  <a:lnTo>
                    <a:pt x="63" y="342"/>
                  </a:lnTo>
                  <a:lnTo>
                    <a:pt x="71" y="348"/>
                  </a:lnTo>
                  <a:lnTo>
                    <a:pt x="80" y="348"/>
                  </a:lnTo>
                  <a:lnTo>
                    <a:pt x="91" y="355"/>
                  </a:lnTo>
                  <a:lnTo>
                    <a:pt x="100" y="361"/>
                  </a:lnTo>
                  <a:lnTo>
                    <a:pt x="109" y="364"/>
                  </a:lnTo>
                  <a:lnTo>
                    <a:pt x="112" y="373"/>
                  </a:lnTo>
                  <a:lnTo>
                    <a:pt x="117" y="382"/>
                  </a:lnTo>
                  <a:lnTo>
                    <a:pt x="123" y="391"/>
                  </a:lnTo>
                  <a:lnTo>
                    <a:pt x="132" y="397"/>
                  </a:lnTo>
                  <a:lnTo>
                    <a:pt x="146" y="406"/>
                  </a:lnTo>
                  <a:lnTo>
                    <a:pt x="155" y="412"/>
                  </a:lnTo>
                  <a:lnTo>
                    <a:pt x="163" y="418"/>
                  </a:lnTo>
                  <a:lnTo>
                    <a:pt x="172" y="421"/>
                  </a:lnTo>
                  <a:lnTo>
                    <a:pt x="180" y="430"/>
                  </a:lnTo>
                  <a:lnTo>
                    <a:pt x="189" y="436"/>
                  </a:lnTo>
                  <a:lnTo>
                    <a:pt x="198" y="440"/>
                  </a:lnTo>
                  <a:lnTo>
                    <a:pt x="203" y="430"/>
                  </a:lnTo>
                  <a:lnTo>
                    <a:pt x="203" y="421"/>
                  </a:lnTo>
                  <a:lnTo>
                    <a:pt x="203" y="412"/>
                  </a:lnTo>
                  <a:lnTo>
                    <a:pt x="215" y="406"/>
                  </a:lnTo>
                  <a:lnTo>
                    <a:pt x="224" y="406"/>
                  </a:lnTo>
                  <a:lnTo>
                    <a:pt x="232" y="406"/>
                  </a:lnTo>
                  <a:lnTo>
                    <a:pt x="241" y="406"/>
                  </a:lnTo>
                  <a:lnTo>
                    <a:pt x="249" y="406"/>
                  </a:lnTo>
                  <a:lnTo>
                    <a:pt x="258" y="406"/>
                  </a:lnTo>
                  <a:lnTo>
                    <a:pt x="261" y="397"/>
                  </a:lnTo>
                  <a:lnTo>
                    <a:pt x="261" y="388"/>
                  </a:lnTo>
                  <a:lnTo>
                    <a:pt x="261" y="379"/>
                  </a:lnTo>
                  <a:lnTo>
                    <a:pt x="261" y="367"/>
                  </a:lnTo>
                  <a:lnTo>
                    <a:pt x="261" y="355"/>
                  </a:lnTo>
                  <a:lnTo>
                    <a:pt x="252" y="348"/>
                  </a:lnTo>
                  <a:lnTo>
                    <a:pt x="244" y="348"/>
                  </a:lnTo>
                  <a:lnTo>
                    <a:pt x="235" y="342"/>
                  </a:lnTo>
                  <a:lnTo>
                    <a:pt x="229" y="333"/>
                  </a:lnTo>
                  <a:lnTo>
                    <a:pt x="229" y="324"/>
                  </a:lnTo>
                  <a:lnTo>
                    <a:pt x="238" y="321"/>
                  </a:lnTo>
                  <a:lnTo>
                    <a:pt x="247" y="315"/>
                  </a:lnTo>
                  <a:lnTo>
                    <a:pt x="255" y="312"/>
                  </a:lnTo>
                  <a:lnTo>
                    <a:pt x="261" y="303"/>
                  </a:lnTo>
                  <a:lnTo>
                    <a:pt x="261" y="294"/>
                  </a:lnTo>
                  <a:lnTo>
                    <a:pt x="264" y="285"/>
                  </a:lnTo>
                  <a:lnTo>
                    <a:pt x="264" y="276"/>
                  </a:lnTo>
                  <a:lnTo>
                    <a:pt x="267" y="267"/>
                  </a:lnTo>
                  <a:lnTo>
                    <a:pt x="272" y="257"/>
                  </a:lnTo>
                  <a:lnTo>
                    <a:pt x="278" y="248"/>
                  </a:lnTo>
                  <a:lnTo>
                    <a:pt x="284" y="239"/>
                  </a:lnTo>
                  <a:lnTo>
                    <a:pt x="284" y="230"/>
                  </a:lnTo>
                  <a:lnTo>
                    <a:pt x="284" y="221"/>
                  </a:lnTo>
                  <a:lnTo>
                    <a:pt x="284" y="209"/>
                  </a:lnTo>
                  <a:lnTo>
                    <a:pt x="292" y="200"/>
                  </a:lnTo>
                  <a:lnTo>
                    <a:pt x="295" y="191"/>
                  </a:lnTo>
                  <a:lnTo>
                    <a:pt x="298" y="182"/>
                  </a:lnTo>
                  <a:lnTo>
                    <a:pt x="301" y="172"/>
                  </a:lnTo>
                  <a:lnTo>
                    <a:pt x="292" y="163"/>
                  </a:lnTo>
                  <a:lnTo>
                    <a:pt x="284" y="154"/>
                  </a:lnTo>
                  <a:lnTo>
                    <a:pt x="278" y="145"/>
                  </a:lnTo>
                  <a:lnTo>
                    <a:pt x="287" y="142"/>
                  </a:lnTo>
                  <a:lnTo>
                    <a:pt x="295" y="142"/>
                  </a:lnTo>
                  <a:lnTo>
                    <a:pt x="304" y="148"/>
                  </a:lnTo>
                  <a:lnTo>
                    <a:pt x="313" y="157"/>
                  </a:lnTo>
                  <a:lnTo>
                    <a:pt x="321" y="163"/>
                  </a:lnTo>
                  <a:lnTo>
                    <a:pt x="327" y="154"/>
                  </a:lnTo>
                  <a:lnTo>
                    <a:pt x="336" y="148"/>
                  </a:lnTo>
                  <a:lnTo>
                    <a:pt x="344" y="148"/>
                  </a:lnTo>
                  <a:lnTo>
                    <a:pt x="353" y="145"/>
                  </a:lnTo>
                  <a:lnTo>
                    <a:pt x="361" y="142"/>
                  </a:lnTo>
                  <a:lnTo>
                    <a:pt x="361" y="133"/>
                  </a:lnTo>
                  <a:lnTo>
                    <a:pt x="361" y="124"/>
                  </a:lnTo>
                  <a:lnTo>
                    <a:pt x="361" y="115"/>
                  </a:lnTo>
                  <a:lnTo>
                    <a:pt x="359" y="106"/>
                  </a:lnTo>
                  <a:lnTo>
                    <a:pt x="353" y="97"/>
                  </a:lnTo>
                  <a:lnTo>
                    <a:pt x="344" y="88"/>
                  </a:lnTo>
                  <a:lnTo>
                    <a:pt x="333" y="81"/>
                  </a:lnTo>
                  <a:lnTo>
                    <a:pt x="341" y="75"/>
                  </a:lnTo>
                  <a:lnTo>
                    <a:pt x="353" y="75"/>
                  </a:lnTo>
                  <a:lnTo>
                    <a:pt x="361" y="75"/>
                  </a:lnTo>
                  <a:lnTo>
                    <a:pt x="370" y="75"/>
                  </a:lnTo>
                  <a:lnTo>
                    <a:pt x="379" y="72"/>
                  </a:lnTo>
                  <a:lnTo>
                    <a:pt x="387" y="69"/>
                  </a:lnTo>
                  <a:lnTo>
                    <a:pt x="396" y="69"/>
                  </a:lnTo>
                  <a:lnTo>
                    <a:pt x="405" y="72"/>
                  </a:lnTo>
                  <a:lnTo>
                    <a:pt x="419" y="75"/>
                  </a:lnTo>
                  <a:lnTo>
                    <a:pt x="428" y="75"/>
                  </a:lnTo>
                  <a:lnTo>
                    <a:pt x="425" y="66"/>
                  </a:lnTo>
                  <a:lnTo>
                    <a:pt x="422" y="57"/>
                  </a:lnTo>
                  <a:lnTo>
                    <a:pt x="419" y="48"/>
                  </a:lnTo>
                  <a:lnTo>
                    <a:pt x="410" y="48"/>
                  </a:lnTo>
                  <a:lnTo>
                    <a:pt x="402" y="48"/>
                  </a:lnTo>
                  <a:lnTo>
                    <a:pt x="390" y="48"/>
                  </a:lnTo>
                  <a:lnTo>
                    <a:pt x="382" y="48"/>
                  </a:lnTo>
                  <a:lnTo>
                    <a:pt x="379" y="57"/>
                  </a:lnTo>
                  <a:lnTo>
                    <a:pt x="370" y="54"/>
                  </a:lnTo>
                  <a:lnTo>
                    <a:pt x="361" y="45"/>
                  </a:lnTo>
                  <a:lnTo>
                    <a:pt x="353" y="39"/>
                  </a:lnTo>
                  <a:lnTo>
                    <a:pt x="341" y="39"/>
                  </a:lnTo>
                  <a:lnTo>
                    <a:pt x="333" y="39"/>
                  </a:lnTo>
                  <a:lnTo>
                    <a:pt x="318" y="39"/>
                  </a:lnTo>
                  <a:lnTo>
                    <a:pt x="310" y="39"/>
                  </a:lnTo>
                  <a:lnTo>
                    <a:pt x="298" y="42"/>
                  </a:lnTo>
                  <a:lnTo>
                    <a:pt x="290" y="42"/>
                  </a:lnTo>
                  <a:lnTo>
                    <a:pt x="290" y="33"/>
                  </a:lnTo>
                  <a:lnTo>
                    <a:pt x="298" y="30"/>
                  </a:lnTo>
                  <a:lnTo>
                    <a:pt x="307" y="30"/>
                  </a:lnTo>
                  <a:lnTo>
                    <a:pt x="315" y="27"/>
                  </a:lnTo>
                  <a:lnTo>
                    <a:pt x="324" y="24"/>
                  </a:lnTo>
                  <a:lnTo>
                    <a:pt x="327" y="15"/>
                  </a:lnTo>
                  <a:lnTo>
                    <a:pt x="327" y="6"/>
                  </a:lnTo>
                  <a:lnTo>
                    <a:pt x="318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3"/>
                  </a:lnTo>
                  <a:lnTo>
                    <a:pt x="275" y="12"/>
                  </a:lnTo>
                  <a:lnTo>
                    <a:pt x="267" y="18"/>
                  </a:lnTo>
                  <a:lnTo>
                    <a:pt x="258" y="21"/>
                  </a:lnTo>
                  <a:lnTo>
                    <a:pt x="255" y="30"/>
                  </a:lnTo>
                  <a:lnTo>
                    <a:pt x="264" y="36"/>
                  </a:lnTo>
                  <a:lnTo>
                    <a:pt x="272" y="36"/>
                  </a:lnTo>
                  <a:lnTo>
                    <a:pt x="278" y="45"/>
                  </a:lnTo>
                  <a:lnTo>
                    <a:pt x="270" y="54"/>
                  </a:lnTo>
                  <a:lnTo>
                    <a:pt x="267" y="63"/>
                  </a:lnTo>
                  <a:lnTo>
                    <a:pt x="281" y="75"/>
                  </a:lnTo>
                  <a:lnTo>
                    <a:pt x="290" y="78"/>
                  </a:lnTo>
                  <a:lnTo>
                    <a:pt x="281" y="75"/>
                  </a:lnTo>
                  <a:lnTo>
                    <a:pt x="270" y="66"/>
                  </a:lnTo>
                  <a:lnTo>
                    <a:pt x="261" y="60"/>
                  </a:lnTo>
                  <a:lnTo>
                    <a:pt x="252" y="51"/>
                  </a:lnTo>
                  <a:lnTo>
                    <a:pt x="244" y="51"/>
                  </a:lnTo>
                  <a:lnTo>
                    <a:pt x="241" y="60"/>
                  </a:lnTo>
                  <a:lnTo>
                    <a:pt x="241" y="69"/>
                  </a:lnTo>
                  <a:lnTo>
                    <a:pt x="255" y="78"/>
                  </a:lnTo>
                  <a:lnTo>
                    <a:pt x="264" y="81"/>
                  </a:lnTo>
                  <a:lnTo>
                    <a:pt x="255" y="88"/>
                  </a:lnTo>
                  <a:lnTo>
                    <a:pt x="244" y="88"/>
                  </a:lnTo>
                  <a:lnTo>
                    <a:pt x="235" y="88"/>
                  </a:lnTo>
                  <a:lnTo>
                    <a:pt x="235" y="103"/>
                  </a:lnTo>
                  <a:lnTo>
                    <a:pt x="244" y="106"/>
                  </a:lnTo>
                  <a:lnTo>
                    <a:pt x="252" y="109"/>
                  </a:lnTo>
                  <a:lnTo>
                    <a:pt x="244" y="115"/>
                  </a:lnTo>
                  <a:lnTo>
                    <a:pt x="235" y="112"/>
                  </a:lnTo>
                  <a:lnTo>
                    <a:pt x="226" y="109"/>
                  </a:lnTo>
                  <a:lnTo>
                    <a:pt x="218" y="106"/>
                  </a:lnTo>
                  <a:lnTo>
                    <a:pt x="212" y="115"/>
                  </a:lnTo>
                  <a:lnTo>
                    <a:pt x="218" y="124"/>
                  </a:lnTo>
                  <a:lnTo>
                    <a:pt x="229" y="127"/>
                  </a:lnTo>
                  <a:lnTo>
                    <a:pt x="238" y="130"/>
                  </a:lnTo>
                  <a:lnTo>
                    <a:pt x="229" y="124"/>
                  </a:lnTo>
                  <a:lnTo>
                    <a:pt x="221" y="121"/>
                  </a:lnTo>
                  <a:lnTo>
                    <a:pt x="209" y="115"/>
                  </a:lnTo>
                  <a:lnTo>
                    <a:pt x="198" y="106"/>
                  </a:lnTo>
                  <a:lnTo>
                    <a:pt x="192" y="97"/>
                  </a:lnTo>
                  <a:lnTo>
                    <a:pt x="183" y="91"/>
                  </a:lnTo>
                  <a:lnTo>
                    <a:pt x="180" y="81"/>
                  </a:lnTo>
                  <a:lnTo>
                    <a:pt x="178" y="72"/>
                  </a:lnTo>
                  <a:lnTo>
                    <a:pt x="169" y="60"/>
                  </a:lnTo>
                  <a:lnTo>
                    <a:pt x="160" y="60"/>
                  </a:lnTo>
                  <a:lnTo>
                    <a:pt x="152" y="66"/>
                  </a:lnTo>
                  <a:lnTo>
                    <a:pt x="149" y="75"/>
                  </a:lnTo>
                  <a:lnTo>
                    <a:pt x="146" y="84"/>
                  </a:lnTo>
                  <a:lnTo>
                    <a:pt x="143" y="94"/>
                  </a:lnTo>
                  <a:lnTo>
                    <a:pt x="140" y="103"/>
                  </a:lnTo>
                  <a:lnTo>
                    <a:pt x="129" y="103"/>
                  </a:lnTo>
                  <a:lnTo>
                    <a:pt x="117" y="94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0" y="60"/>
                  </a:lnTo>
                  <a:lnTo>
                    <a:pt x="89" y="60"/>
                  </a:lnTo>
                  <a:lnTo>
                    <a:pt x="80" y="66"/>
                  </a:lnTo>
                  <a:lnTo>
                    <a:pt x="77" y="75"/>
                  </a:lnTo>
                  <a:lnTo>
                    <a:pt x="71" y="84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51" y="127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0" y="127"/>
                  </a:lnTo>
                  <a:lnTo>
                    <a:pt x="51" y="121"/>
                  </a:lnTo>
                  <a:lnTo>
                    <a:pt x="43" y="118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4" y="115"/>
                  </a:lnTo>
                  <a:lnTo>
                    <a:pt x="11" y="124"/>
                  </a:lnTo>
                  <a:lnTo>
                    <a:pt x="8" y="133"/>
                  </a:lnTo>
                  <a:lnTo>
                    <a:pt x="2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4" y="169"/>
                  </a:lnTo>
                  <a:lnTo>
                    <a:pt x="22" y="172"/>
                  </a:lnTo>
                  <a:lnTo>
                    <a:pt x="31" y="172"/>
                  </a:lnTo>
                  <a:lnTo>
                    <a:pt x="40" y="176"/>
                  </a:lnTo>
                  <a:lnTo>
                    <a:pt x="51" y="185"/>
                  </a:lnTo>
                  <a:lnTo>
                    <a:pt x="60" y="191"/>
                  </a:lnTo>
                  <a:lnTo>
                    <a:pt x="68" y="197"/>
                  </a:lnTo>
                  <a:lnTo>
                    <a:pt x="80" y="200"/>
                  </a:lnTo>
                  <a:lnTo>
                    <a:pt x="89" y="203"/>
                  </a:lnTo>
                  <a:lnTo>
                    <a:pt x="100" y="203"/>
                  </a:lnTo>
                  <a:lnTo>
                    <a:pt x="109" y="203"/>
                  </a:lnTo>
                  <a:lnTo>
                    <a:pt x="120" y="197"/>
                  </a:lnTo>
                  <a:lnTo>
                    <a:pt x="129" y="194"/>
                  </a:lnTo>
                  <a:lnTo>
                    <a:pt x="135" y="185"/>
                  </a:lnTo>
                  <a:lnTo>
                    <a:pt x="143" y="179"/>
                  </a:lnTo>
                  <a:lnTo>
                    <a:pt x="149" y="169"/>
                  </a:lnTo>
                  <a:lnTo>
                    <a:pt x="157" y="163"/>
                  </a:lnTo>
                  <a:lnTo>
                    <a:pt x="166" y="163"/>
                  </a:lnTo>
                  <a:lnTo>
                    <a:pt x="175" y="166"/>
                  </a:lnTo>
                  <a:lnTo>
                    <a:pt x="183" y="166"/>
                  </a:lnTo>
                  <a:lnTo>
                    <a:pt x="192" y="157"/>
                  </a:lnTo>
                  <a:lnTo>
                    <a:pt x="198" y="148"/>
                  </a:lnTo>
                  <a:lnTo>
                    <a:pt x="201" y="139"/>
                  </a:lnTo>
                  <a:lnTo>
                    <a:pt x="203" y="130"/>
                  </a:lnTo>
                  <a:lnTo>
                    <a:pt x="212" y="130"/>
                  </a:lnTo>
                  <a:lnTo>
                    <a:pt x="224" y="136"/>
                  </a:lnTo>
                  <a:lnTo>
                    <a:pt x="232" y="139"/>
                  </a:lnTo>
                  <a:lnTo>
                    <a:pt x="241" y="142"/>
                  </a:lnTo>
                  <a:lnTo>
                    <a:pt x="232" y="142"/>
                  </a:lnTo>
                  <a:lnTo>
                    <a:pt x="224" y="142"/>
                  </a:lnTo>
                  <a:lnTo>
                    <a:pt x="215" y="142"/>
                  </a:lnTo>
                  <a:lnTo>
                    <a:pt x="206" y="142"/>
                  </a:lnTo>
                  <a:lnTo>
                    <a:pt x="203" y="151"/>
                  </a:lnTo>
                  <a:lnTo>
                    <a:pt x="201" y="160"/>
                  </a:lnTo>
                  <a:lnTo>
                    <a:pt x="201" y="169"/>
                  </a:lnTo>
                  <a:lnTo>
                    <a:pt x="209" y="176"/>
                  </a:lnTo>
                  <a:lnTo>
                    <a:pt x="218" y="179"/>
                  </a:lnTo>
                  <a:lnTo>
                    <a:pt x="226" y="188"/>
                  </a:lnTo>
                  <a:lnTo>
                    <a:pt x="235" y="194"/>
                  </a:lnTo>
                  <a:lnTo>
                    <a:pt x="238" y="203"/>
                  </a:lnTo>
                  <a:lnTo>
                    <a:pt x="226" y="206"/>
                  </a:lnTo>
                  <a:lnTo>
                    <a:pt x="224" y="215"/>
                  </a:lnTo>
                  <a:lnTo>
                    <a:pt x="224" y="224"/>
                  </a:lnTo>
                  <a:lnTo>
                    <a:pt x="221" y="233"/>
                  </a:lnTo>
                  <a:lnTo>
                    <a:pt x="209" y="233"/>
                  </a:lnTo>
                  <a:lnTo>
                    <a:pt x="203" y="245"/>
                  </a:lnTo>
                  <a:lnTo>
                    <a:pt x="198" y="257"/>
                  </a:lnTo>
                  <a:lnTo>
                    <a:pt x="195" y="267"/>
                  </a:lnTo>
                  <a:lnTo>
                    <a:pt x="186" y="267"/>
                  </a:lnTo>
                  <a:lnTo>
                    <a:pt x="183" y="257"/>
                  </a:lnTo>
                  <a:lnTo>
                    <a:pt x="178" y="245"/>
                  </a:lnTo>
                  <a:lnTo>
                    <a:pt x="175" y="233"/>
                  </a:lnTo>
                  <a:lnTo>
                    <a:pt x="166" y="224"/>
                  </a:lnTo>
                  <a:lnTo>
                    <a:pt x="157" y="221"/>
                  </a:lnTo>
                  <a:lnTo>
                    <a:pt x="149" y="218"/>
                  </a:lnTo>
                  <a:lnTo>
                    <a:pt x="137" y="224"/>
                  </a:lnTo>
                  <a:lnTo>
                    <a:pt x="140" y="236"/>
                  </a:lnTo>
                  <a:lnTo>
                    <a:pt x="143" y="245"/>
                  </a:lnTo>
                  <a:lnTo>
                    <a:pt x="143" y="254"/>
                  </a:lnTo>
                  <a:lnTo>
                    <a:pt x="135" y="260"/>
                  </a:lnTo>
                  <a:lnTo>
                    <a:pt x="126" y="260"/>
                  </a:lnTo>
                  <a:lnTo>
                    <a:pt x="114" y="257"/>
                  </a:lnTo>
                  <a:lnTo>
                    <a:pt x="106" y="257"/>
                  </a:lnTo>
                  <a:lnTo>
                    <a:pt x="97" y="257"/>
                  </a:lnTo>
                  <a:lnTo>
                    <a:pt x="89" y="257"/>
                  </a:lnTo>
                  <a:lnTo>
                    <a:pt x="91" y="267"/>
                  </a:lnTo>
                  <a:lnTo>
                    <a:pt x="100" y="276"/>
                  </a:lnTo>
                  <a:lnTo>
                    <a:pt x="100" y="285"/>
                  </a:lnTo>
                  <a:lnTo>
                    <a:pt x="97" y="294"/>
                  </a:lnTo>
                  <a:lnTo>
                    <a:pt x="97" y="303"/>
                  </a:lnTo>
                  <a:lnTo>
                    <a:pt x="109" y="312"/>
                  </a:lnTo>
                  <a:lnTo>
                    <a:pt x="117" y="318"/>
                  </a:lnTo>
                  <a:lnTo>
                    <a:pt x="109" y="318"/>
                  </a:lnTo>
                  <a:lnTo>
                    <a:pt x="100" y="309"/>
                  </a:lnTo>
                  <a:lnTo>
                    <a:pt x="89" y="300"/>
                  </a:lnTo>
                  <a:lnTo>
                    <a:pt x="80" y="297"/>
                  </a:lnTo>
                  <a:lnTo>
                    <a:pt x="71" y="297"/>
                  </a:lnTo>
                  <a:lnTo>
                    <a:pt x="63" y="300"/>
                  </a:lnTo>
                  <a:lnTo>
                    <a:pt x="54" y="306"/>
                  </a:lnTo>
                  <a:lnTo>
                    <a:pt x="43" y="306"/>
                  </a:lnTo>
                  <a:lnTo>
                    <a:pt x="34" y="306"/>
                  </a:lnTo>
                  <a:lnTo>
                    <a:pt x="22" y="309"/>
                  </a:lnTo>
                  <a:lnTo>
                    <a:pt x="11" y="303"/>
                  </a:lnTo>
                  <a:lnTo>
                    <a:pt x="22" y="309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27082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2"/>
                  </a:moveTo>
                  <a:lnTo>
                    <a:pt x="8" y="19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34" y="22"/>
                  </a:lnTo>
                  <a:lnTo>
                    <a:pt x="40" y="13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76680" y="294012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5" y="0"/>
                  </a:moveTo>
                  <a:lnTo>
                    <a:pt x="20" y="13"/>
                  </a:lnTo>
                  <a:lnTo>
                    <a:pt x="11" y="16"/>
                  </a:lnTo>
                  <a:lnTo>
                    <a:pt x="8" y="24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4" y="30"/>
                  </a:lnTo>
                  <a:lnTo>
                    <a:pt x="40" y="21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25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10160" y="2549520"/>
              <a:ext cx="339840" cy="509760"/>
            </a:xfrm>
            <a:custGeom>
              <a:avLst/>
              <a:gdLst/>
              <a:ahLst/>
              <a:rect l="l" t="t" r="r" b="b"/>
              <a:pathLst>
                <a:path w="214" h="321">
                  <a:moveTo>
                    <a:pt x="23" y="200"/>
                  </a:moveTo>
                  <a:lnTo>
                    <a:pt x="34" y="182"/>
                  </a:lnTo>
                  <a:lnTo>
                    <a:pt x="23" y="200"/>
                  </a:lnTo>
                  <a:lnTo>
                    <a:pt x="23" y="211"/>
                  </a:lnTo>
                  <a:lnTo>
                    <a:pt x="20" y="220"/>
                  </a:lnTo>
                  <a:lnTo>
                    <a:pt x="17" y="228"/>
                  </a:lnTo>
                  <a:lnTo>
                    <a:pt x="8" y="234"/>
                  </a:lnTo>
                  <a:lnTo>
                    <a:pt x="2" y="24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8" y="268"/>
                  </a:lnTo>
                  <a:lnTo>
                    <a:pt x="17" y="268"/>
                  </a:lnTo>
                  <a:lnTo>
                    <a:pt x="25" y="271"/>
                  </a:lnTo>
                  <a:lnTo>
                    <a:pt x="28" y="280"/>
                  </a:lnTo>
                  <a:lnTo>
                    <a:pt x="37" y="291"/>
                  </a:lnTo>
                  <a:lnTo>
                    <a:pt x="28" y="294"/>
                  </a:lnTo>
                  <a:lnTo>
                    <a:pt x="20" y="285"/>
                  </a:lnTo>
                  <a:lnTo>
                    <a:pt x="31" y="294"/>
                  </a:lnTo>
                  <a:lnTo>
                    <a:pt x="40" y="300"/>
                  </a:lnTo>
                  <a:lnTo>
                    <a:pt x="48" y="311"/>
                  </a:lnTo>
                  <a:lnTo>
                    <a:pt x="57" y="314"/>
                  </a:lnTo>
                  <a:lnTo>
                    <a:pt x="66" y="320"/>
                  </a:lnTo>
                  <a:lnTo>
                    <a:pt x="66" y="311"/>
                  </a:lnTo>
                  <a:lnTo>
                    <a:pt x="74" y="311"/>
                  </a:lnTo>
                  <a:lnTo>
                    <a:pt x="83" y="320"/>
                  </a:lnTo>
                  <a:lnTo>
                    <a:pt x="83" y="308"/>
                  </a:lnTo>
                  <a:lnTo>
                    <a:pt x="92" y="305"/>
                  </a:lnTo>
                  <a:lnTo>
                    <a:pt x="97" y="297"/>
                  </a:lnTo>
                  <a:lnTo>
                    <a:pt x="89" y="288"/>
                  </a:lnTo>
                  <a:lnTo>
                    <a:pt x="83" y="280"/>
                  </a:lnTo>
                  <a:lnTo>
                    <a:pt x="77" y="271"/>
                  </a:lnTo>
                  <a:lnTo>
                    <a:pt x="71" y="262"/>
                  </a:lnTo>
                  <a:lnTo>
                    <a:pt x="69" y="254"/>
                  </a:lnTo>
                  <a:lnTo>
                    <a:pt x="69" y="242"/>
                  </a:lnTo>
                  <a:lnTo>
                    <a:pt x="69" y="234"/>
                  </a:lnTo>
                  <a:lnTo>
                    <a:pt x="69" y="225"/>
                  </a:lnTo>
                  <a:lnTo>
                    <a:pt x="69" y="217"/>
                  </a:lnTo>
                  <a:lnTo>
                    <a:pt x="69" y="208"/>
                  </a:lnTo>
                  <a:lnTo>
                    <a:pt x="69" y="200"/>
                  </a:lnTo>
                  <a:lnTo>
                    <a:pt x="69" y="191"/>
                  </a:lnTo>
                  <a:lnTo>
                    <a:pt x="69" y="182"/>
                  </a:lnTo>
                  <a:lnTo>
                    <a:pt x="77" y="174"/>
                  </a:lnTo>
                  <a:lnTo>
                    <a:pt x="86" y="168"/>
                  </a:lnTo>
                  <a:lnTo>
                    <a:pt x="92" y="160"/>
                  </a:lnTo>
                  <a:lnTo>
                    <a:pt x="97" y="151"/>
                  </a:lnTo>
                  <a:lnTo>
                    <a:pt x="103" y="142"/>
                  </a:lnTo>
                  <a:lnTo>
                    <a:pt x="103" y="134"/>
                  </a:lnTo>
                  <a:lnTo>
                    <a:pt x="103" y="125"/>
                  </a:lnTo>
                  <a:lnTo>
                    <a:pt x="112" y="122"/>
                  </a:lnTo>
                  <a:lnTo>
                    <a:pt x="120" y="117"/>
                  </a:lnTo>
                  <a:lnTo>
                    <a:pt x="123" y="105"/>
                  </a:lnTo>
                  <a:lnTo>
                    <a:pt x="132" y="100"/>
                  </a:lnTo>
                  <a:lnTo>
                    <a:pt x="135" y="91"/>
                  </a:lnTo>
                  <a:lnTo>
                    <a:pt x="143" y="82"/>
                  </a:lnTo>
                  <a:lnTo>
                    <a:pt x="152" y="77"/>
                  </a:lnTo>
                  <a:lnTo>
                    <a:pt x="158" y="68"/>
                  </a:lnTo>
                  <a:lnTo>
                    <a:pt x="166" y="65"/>
                  </a:lnTo>
                  <a:lnTo>
                    <a:pt x="175" y="60"/>
                  </a:lnTo>
                  <a:lnTo>
                    <a:pt x="184" y="57"/>
                  </a:lnTo>
                  <a:lnTo>
                    <a:pt x="189" y="48"/>
                  </a:lnTo>
                  <a:lnTo>
                    <a:pt x="198" y="42"/>
                  </a:lnTo>
                  <a:lnTo>
                    <a:pt x="207" y="37"/>
                  </a:lnTo>
                  <a:lnTo>
                    <a:pt x="210" y="28"/>
                  </a:lnTo>
                  <a:lnTo>
                    <a:pt x="213" y="20"/>
                  </a:lnTo>
                  <a:lnTo>
                    <a:pt x="213" y="11"/>
                  </a:lnTo>
                  <a:lnTo>
                    <a:pt x="210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5" y="8"/>
                  </a:lnTo>
                  <a:lnTo>
                    <a:pt x="175" y="17"/>
                  </a:lnTo>
                  <a:lnTo>
                    <a:pt x="166" y="20"/>
                  </a:lnTo>
                  <a:lnTo>
                    <a:pt x="158" y="25"/>
                  </a:lnTo>
                  <a:lnTo>
                    <a:pt x="149" y="34"/>
                  </a:lnTo>
                  <a:lnTo>
                    <a:pt x="141" y="40"/>
                  </a:lnTo>
                  <a:lnTo>
                    <a:pt x="132" y="42"/>
                  </a:lnTo>
                  <a:lnTo>
                    <a:pt x="123" y="42"/>
                  </a:lnTo>
                  <a:lnTo>
                    <a:pt x="123" y="54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7" y="68"/>
                  </a:lnTo>
                  <a:lnTo>
                    <a:pt x="89" y="77"/>
                  </a:lnTo>
                  <a:lnTo>
                    <a:pt x="83" y="85"/>
                  </a:lnTo>
                  <a:lnTo>
                    <a:pt x="80" y="94"/>
                  </a:lnTo>
                  <a:lnTo>
                    <a:pt x="71" y="100"/>
                  </a:lnTo>
                  <a:lnTo>
                    <a:pt x="66" y="108"/>
                  </a:lnTo>
                  <a:lnTo>
                    <a:pt x="63" y="117"/>
                  </a:lnTo>
                  <a:lnTo>
                    <a:pt x="63" y="125"/>
                  </a:lnTo>
                  <a:lnTo>
                    <a:pt x="57" y="134"/>
                  </a:lnTo>
                  <a:lnTo>
                    <a:pt x="51" y="142"/>
                  </a:lnTo>
                  <a:lnTo>
                    <a:pt x="46" y="151"/>
                  </a:lnTo>
                  <a:lnTo>
                    <a:pt x="40" y="162"/>
                  </a:lnTo>
                  <a:lnTo>
                    <a:pt x="37" y="171"/>
                  </a:lnTo>
                  <a:lnTo>
                    <a:pt x="46" y="177"/>
                  </a:lnTo>
                  <a:lnTo>
                    <a:pt x="54" y="180"/>
                  </a:lnTo>
                  <a:lnTo>
                    <a:pt x="57" y="188"/>
                  </a:lnTo>
                  <a:lnTo>
                    <a:pt x="48" y="185"/>
                  </a:lnTo>
                  <a:lnTo>
                    <a:pt x="40" y="185"/>
                  </a:lnTo>
                  <a:lnTo>
                    <a:pt x="31" y="188"/>
                  </a:lnTo>
                  <a:lnTo>
                    <a:pt x="23" y="200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23" y="237"/>
                  </a:lnTo>
                  <a:lnTo>
                    <a:pt x="14" y="242"/>
                  </a:lnTo>
                  <a:lnTo>
                    <a:pt x="8" y="251"/>
                  </a:lnTo>
                  <a:lnTo>
                    <a:pt x="0" y="260"/>
                  </a:lnTo>
                  <a:lnTo>
                    <a:pt x="23" y="2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71720" y="444168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49" y="47"/>
                  </a:moveTo>
                  <a:lnTo>
                    <a:pt x="44" y="58"/>
                  </a:lnTo>
                  <a:lnTo>
                    <a:pt x="35" y="58"/>
                  </a:lnTo>
                  <a:lnTo>
                    <a:pt x="30" y="66"/>
                  </a:lnTo>
                  <a:lnTo>
                    <a:pt x="30" y="75"/>
                  </a:lnTo>
                  <a:lnTo>
                    <a:pt x="30" y="83"/>
                  </a:lnTo>
                  <a:lnTo>
                    <a:pt x="30" y="91"/>
                  </a:lnTo>
                  <a:lnTo>
                    <a:pt x="22" y="94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8" y="139"/>
                  </a:lnTo>
                  <a:lnTo>
                    <a:pt x="16" y="139"/>
                  </a:lnTo>
                  <a:lnTo>
                    <a:pt x="27" y="147"/>
                  </a:lnTo>
                  <a:lnTo>
                    <a:pt x="33" y="156"/>
                  </a:lnTo>
                  <a:lnTo>
                    <a:pt x="41" y="156"/>
                  </a:lnTo>
                  <a:lnTo>
                    <a:pt x="46" y="147"/>
                  </a:lnTo>
                  <a:lnTo>
                    <a:pt x="52" y="139"/>
                  </a:lnTo>
                  <a:lnTo>
                    <a:pt x="55" y="130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71" y="108"/>
                  </a:lnTo>
                  <a:lnTo>
                    <a:pt x="80" y="108"/>
                  </a:lnTo>
                  <a:lnTo>
                    <a:pt x="82" y="100"/>
                  </a:lnTo>
                  <a:lnTo>
                    <a:pt x="82" y="91"/>
                  </a:lnTo>
                  <a:lnTo>
                    <a:pt x="82" y="83"/>
                  </a:lnTo>
                  <a:lnTo>
                    <a:pt x="82" y="75"/>
                  </a:lnTo>
                  <a:lnTo>
                    <a:pt x="82" y="66"/>
                  </a:lnTo>
                  <a:lnTo>
                    <a:pt x="85" y="58"/>
                  </a:lnTo>
                  <a:lnTo>
                    <a:pt x="93" y="52"/>
                  </a:lnTo>
                  <a:lnTo>
                    <a:pt x="102" y="47"/>
                  </a:lnTo>
                  <a:lnTo>
                    <a:pt x="107" y="39"/>
                  </a:lnTo>
                  <a:lnTo>
                    <a:pt x="115" y="36"/>
                  </a:lnTo>
                  <a:lnTo>
                    <a:pt x="121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38" y="5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8" y="11"/>
                  </a:lnTo>
                  <a:lnTo>
                    <a:pt x="82" y="19"/>
                  </a:lnTo>
                  <a:lnTo>
                    <a:pt x="80" y="27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69" y="61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49" y="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90800" y="524844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1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6" y="21"/>
                  </a:lnTo>
                  <a:lnTo>
                    <a:pt x="23" y="27"/>
                  </a:lnTo>
                  <a:lnTo>
                    <a:pt x="18" y="18"/>
                  </a:lnTo>
                  <a:lnTo>
                    <a:pt x="13" y="9"/>
                  </a:lnTo>
                  <a:lnTo>
                    <a:pt x="6" y="21"/>
                  </a:lnTo>
                  <a:lnTo>
                    <a:pt x="9" y="6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57400" y="5361120"/>
              <a:ext cx="27000" cy="72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6" y="0"/>
                  </a:moveTo>
                  <a:lnTo>
                    <a:pt x="5" y="19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0" y="28"/>
                  </a:lnTo>
                  <a:lnTo>
                    <a:pt x="16" y="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52480" y="4357800"/>
              <a:ext cx="88920" cy="73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0"/>
                  </a:moveTo>
                  <a:lnTo>
                    <a:pt x="20" y="19"/>
                  </a:lnTo>
                  <a:lnTo>
                    <a:pt x="20" y="28"/>
                  </a:lnTo>
                  <a:lnTo>
                    <a:pt x="28" y="33"/>
                  </a:lnTo>
                  <a:lnTo>
                    <a:pt x="28" y="42"/>
                  </a:lnTo>
                  <a:lnTo>
                    <a:pt x="37" y="45"/>
                  </a:lnTo>
                  <a:lnTo>
                    <a:pt x="46" y="45"/>
                  </a:lnTo>
                  <a:lnTo>
                    <a:pt x="49" y="36"/>
                  </a:lnTo>
                  <a:lnTo>
                    <a:pt x="55" y="28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26" y="16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" descr=""/>
            <p:cNvPicPr/>
            <p:nvPr/>
          </p:nvPicPr>
          <p:blipFill>
            <a:blip r:embed="rId1"/>
            <a:stretch/>
          </p:blipFill>
          <p:spPr>
            <a:xfrm>
              <a:off x="228600" y="6137280"/>
              <a:ext cx="611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993600" y="6272280"/>
              <a:ext cx="47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HO European Centre for Environment and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972040" y="743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0"/>
                  </a:moveTo>
                  <a:lnTo>
                    <a:pt x="8" y="8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5" y="37"/>
                  </a:lnTo>
                  <a:lnTo>
                    <a:pt x="11" y="46"/>
                  </a:lnTo>
                  <a:lnTo>
                    <a:pt x="19" y="49"/>
                  </a:lnTo>
                  <a:lnTo>
                    <a:pt x="31" y="52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7" y="55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31" y="14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97360" y="4836960"/>
              <a:ext cx="788760" cy="408240"/>
            </a:xfrm>
            <a:custGeom>
              <a:avLst/>
              <a:gdLst/>
              <a:ahLst/>
              <a:rect l="l" t="t" r="r" b="b"/>
              <a:pathLst>
                <a:path w="497" h="257">
                  <a:moveTo>
                    <a:pt x="0" y="193"/>
                  </a:moveTo>
                  <a:lnTo>
                    <a:pt x="24" y="189"/>
                  </a:lnTo>
                  <a:lnTo>
                    <a:pt x="32" y="182"/>
                  </a:lnTo>
                  <a:lnTo>
                    <a:pt x="40" y="174"/>
                  </a:lnTo>
                  <a:lnTo>
                    <a:pt x="46" y="164"/>
                  </a:lnTo>
                  <a:lnTo>
                    <a:pt x="45" y="155"/>
                  </a:lnTo>
                  <a:lnTo>
                    <a:pt x="52" y="149"/>
                  </a:lnTo>
                  <a:lnTo>
                    <a:pt x="60" y="140"/>
                  </a:lnTo>
                  <a:lnTo>
                    <a:pt x="66" y="131"/>
                  </a:lnTo>
                  <a:lnTo>
                    <a:pt x="69" y="123"/>
                  </a:lnTo>
                  <a:lnTo>
                    <a:pt x="74" y="114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7" y="95"/>
                  </a:lnTo>
                  <a:lnTo>
                    <a:pt x="104" y="88"/>
                  </a:lnTo>
                  <a:lnTo>
                    <a:pt x="109" y="78"/>
                  </a:lnTo>
                  <a:lnTo>
                    <a:pt x="116" y="70"/>
                  </a:lnTo>
                  <a:lnTo>
                    <a:pt x="118" y="60"/>
                  </a:lnTo>
                  <a:lnTo>
                    <a:pt x="128" y="53"/>
                  </a:lnTo>
                  <a:lnTo>
                    <a:pt x="131" y="44"/>
                  </a:lnTo>
                  <a:lnTo>
                    <a:pt x="137" y="37"/>
                  </a:lnTo>
                  <a:lnTo>
                    <a:pt x="144" y="30"/>
                  </a:lnTo>
                  <a:lnTo>
                    <a:pt x="153" y="22"/>
                  </a:lnTo>
                  <a:lnTo>
                    <a:pt x="159" y="15"/>
                  </a:lnTo>
                  <a:lnTo>
                    <a:pt x="168" y="10"/>
                  </a:lnTo>
                  <a:lnTo>
                    <a:pt x="175" y="6"/>
                  </a:lnTo>
                  <a:lnTo>
                    <a:pt x="187" y="6"/>
                  </a:lnTo>
                  <a:lnTo>
                    <a:pt x="193" y="0"/>
                  </a:lnTo>
                  <a:lnTo>
                    <a:pt x="202" y="7"/>
                  </a:lnTo>
                  <a:lnTo>
                    <a:pt x="215" y="15"/>
                  </a:lnTo>
                  <a:lnTo>
                    <a:pt x="207" y="14"/>
                  </a:lnTo>
                  <a:lnTo>
                    <a:pt x="205" y="22"/>
                  </a:lnTo>
                  <a:lnTo>
                    <a:pt x="205" y="31"/>
                  </a:lnTo>
                  <a:lnTo>
                    <a:pt x="215" y="34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40" y="33"/>
                  </a:lnTo>
                  <a:lnTo>
                    <a:pt x="243" y="40"/>
                  </a:lnTo>
                  <a:lnTo>
                    <a:pt x="236" y="45"/>
                  </a:lnTo>
                  <a:lnTo>
                    <a:pt x="228" y="49"/>
                  </a:lnTo>
                  <a:lnTo>
                    <a:pt x="220" y="55"/>
                  </a:lnTo>
                  <a:lnTo>
                    <a:pt x="213" y="62"/>
                  </a:lnTo>
                  <a:lnTo>
                    <a:pt x="222" y="64"/>
                  </a:lnTo>
                  <a:lnTo>
                    <a:pt x="226" y="71"/>
                  </a:lnTo>
                  <a:lnTo>
                    <a:pt x="229" y="78"/>
                  </a:lnTo>
                  <a:lnTo>
                    <a:pt x="232" y="84"/>
                  </a:lnTo>
                  <a:lnTo>
                    <a:pt x="232" y="94"/>
                  </a:lnTo>
                  <a:lnTo>
                    <a:pt x="230" y="103"/>
                  </a:lnTo>
                  <a:lnTo>
                    <a:pt x="239" y="163"/>
                  </a:lnTo>
                  <a:lnTo>
                    <a:pt x="190" y="125"/>
                  </a:lnTo>
                  <a:lnTo>
                    <a:pt x="236" y="116"/>
                  </a:lnTo>
                  <a:lnTo>
                    <a:pt x="246" y="110"/>
                  </a:lnTo>
                  <a:lnTo>
                    <a:pt x="251" y="105"/>
                  </a:lnTo>
                  <a:lnTo>
                    <a:pt x="259" y="94"/>
                  </a:lnTo>
                  <a:lnTo>
                    <a:pt x="270" y="93"/>
                  </a:lnTo>
                  <a:lnTo>
                    <a:pt x="277" y="90"/>
                  </a:lnTo>
                  <a:lnTo>
                    <a:pt x="288" y="86"/>
                  </a:lnTo>
                  <a:lnTo>
                    <a:pt x="295" y="83"/>
                  </a:lnTo>
                  <a:lnTo>
                    <a:pt x="303" y="74"/>
                  </a:lnTo>
                  <a:lnTo>
                    <a:pt x="313" y="75"/>
                  </a:lnTo>
                  <a:lnTo>
                    <a:pt x="320" y="80"/>
                  </a:lnTo>
                  <a:lnTo>
                    <a:pt x="329" y="76"/>
                  </a:lnTo>
                  <a:lnTo>
                    <a:pt x="338" y="74"/>
                  </a:lnTo>
                  <a:lnTo>
                    <a:pt x="345" y="78"/>
                  </a:lnTo>
                  <a:lnTo>
                    <a:pt x="351" y="86"/>
                  </a:lnTo>
                  <a:lnTo>
                    <a:pt x="357" y="92"/>
                  </a:lnTo>
                  <a:lnTo>
                    <a:pt x="365" y="90"/>
                  </a:lnTo>
                  <a:lnTo>
                    <a:pt x="379" y="94"/>
                  </a:lnTo>
                  <a:lnTo>
                    <a:pt x="385" y="99"/>
                  </a:lnTo>
                  <a:lnTo>
                    <a:pt x="394" y="102"/>
                  </a:lnTo>
                  <a:lnTo>
                    <a:pt x="403" y="107"/>
                  </a:lnTo>
                  <a:lnTo>
                    <a:pt x="405" y="115"/>
                  </a:lnTo>
                  <a:lnTo>
                    <a:pt x="413" y="121"/>
                  </a:lnTo>
                  <a:lnTo>
                    <a:pt x="423" y="125"/>
                  </a:lnTo>
                  <a:lnTo>
                    <a:pt x="431" y="128"/>
                  </a:lnTo>
                  <a:lnTo>
                    <a:pt x="440" y="132"/>
                  </a:lnTo>
                  <a:lnTo>
                    <a:pt x="455" y="137"/>
                  </a:lnTo>
                  <a:lnTo>
                    <a:pt x="468" y="141"/>
                  </a:lnTo>
                  <a:lnTo>
                    <a:pt x="473" y="148"/>
                  </a:lnTo>
                  <a:lnTo>
                    <a:pt x="480" y="154"/>
                  </a:lnTo>
                  <a:lnTo>
                    <a:pt x="485" y="161"/>
                  </a:lnTo>
                  <a:lnTo>
                    <a:pt x="488" y="172"/>
                  </a:lnTo>
                  <a:lnTo>
                    <a:pt x="492" y="178"/>
                  </a:lnTo>
                  <a:lnTo>
                    <a:pt x="493" y="187"/>
                  </a:lnTo>
                  <a:lnTo>
                    <a:pt x="494" y="195"/>
                  </a:lnTo>
                  <a:lnTo>
                    <a:pt x="496" y="201"/>
                  </a:lnTo>
                  <a:lnTo>
                    <a:pt x="491" y="213"/>
                  </a:lnTo>
                  <a:lnTo>
                    <a:pt x="480" y="217"/>
                  </a:lnTo>
                  <a:lnTo>
                    <a:pt x="474" y="222"/>
                  </a:lnTo>
                  <a:lnTo>
                    <a:pt x="466" y="228"/>
                  </a:lnTo>
                  <a:lnTo>
                    <a:pt x="458" y="234"/>
                  </a:lnTo>
                  <a:lnTo>
                    <a:pt x="448" y="238"/>
                  </a:lnTo>
                  <a:lnTo>
                    <a:pt x="439" y="240"/>
                  </a:lnTo>
                  <a:lnTo>
                    <a:pt x="430" y="244"/>
                  </a:lnTo>
                  <a:lnTo>
                    <a:pt x="422" y="248"/>
                  </a:lnTo>
                  <a:lnTo>
                    <a:pt x="414" y="240"/>
                  </a:lnTo>
                  <a:lnTo>
                    <a:pt x="405" y="242"/>
                  </a:lnTo>
                  <a:lnTo>
                    <a:pt x="395" y="241"/>
                  </a:lnTo>
                  <a:lnTo>
                    <a:pt x="387" y="244"/>
                  </a:lnTo>
                  <a:lnTo>
                    <a:pt x="380" y="248"/>
                  </a:lnTo>
                  <a:lnTo>
                    <a:pt x="372" y="250"/>
                  </a:lnTo>
                  <a:lnTo>
                    <a:pt x="363" y="252"/>
                  </a:lnTo>
                  <a:lnTo>
                    <a:pt x="357" y="256"/>
                  </a:lnTo>
                  <a:lnTo>
                    <a:pt x="350" y="247"/>
                  </a:lnTo>
                  <a:lnTo>
                    <a:pt x="349" y="240"/>
                  </a:lnTo>
                  <a:lnTo>
                    <a:pt x="340" y="243"/>
                  </a:lnTo>
                  <a:lnTo>
                    <a:pt x="333" y="246"/>
                  </a:lnTo>
                  <a:lnTo>
                    <a:pt x="324" y="248"/>
                  </a:lnTo>
                  <a:lnTo>
                    <a:pt x="315" y="247"/>
                  </a:lnTo>
                  <a:lnTo>
                    <a:pt x="315" y="240"/>
                  </a:lnTo>
                  <a:lnTo>
                    <a:pt x="313" y="233"/>
                  </a:lnTo>
                  <a:lnTo>
                    <a:pt x="310" y="225"/>
                  </a:lnTo>
                  <a:lnTo>
                    <a:pt x="297" y="227"/>
                  </a:lnTo>
                  <a:lnTo>
                    <a:pt x="288" y="227"/>
                  </a:lnTo>
                  <a:lnTo>
                    <a:pt x="281" y="221"/>
                  </a:lnTo>
                  <a:lnTo>
                    <a:pt x="277" y="215"/>
                  </a:lnTo>
                  <a:lnTo>
                    <a:pt x="267" y="213"/>
                  </a:lnTo>
                  <a:lnTo>
                    <a:pt x="226" y="177"/>
                  </a:lnTo>
                  <a:lnTo>
                    <a:pt x="245" y="217"/>
                  </a:lnTo>
                  <a:lnTo>
                    <a:pt x="236" y="217"/>
                  </a:lnTo>
                  <a:lnTo>
                    <a:pt x="227" y="213"/>
                  </a:lnTo>
                  <a:lnTo>
                    <a:pt x="219" y="211"/>
                  </a:lnTo>
                  <a:lnTo>
                    <a:pt x="209" y="209"/>
                  </a:lnTo>
                  <a:lnTo>
                    <a:pt x="200" y="210"/>
                  </a:lnTo>
                  <a:lnTo>
                    <a:pt x="191" y="215"/>
                  </a:lnTo>
                  <a:lnTo>
                    <a:pt x="184" y="218"/>
                  </a:lnTo>
                  <a:lnTo>
                    <a:pt x="176" y="219"/>
                  </a:lnTo>
                  <a:lnTo>
                    <a:pt x="166" y="223"/>
                  </a:lnTo>
                  <a:lnTo>
                    <a:pt x="158" y="230"/>
                  </a:lnTo>
                  <a:lnTo>
                    <a:pt x="150" y="234"/>
                  </a:lnTo>
                  <a:lnTo>
                    <a:pt x="139" y="242"/>
                  </a:lnTo>
                  <a:lnTo>
                    <a:pt x="133" y="247"/>
                  </a:lnTo>
                  <a:lnTo>
                    <a:pt x="122" y="248"/>
                  </a:lnTo>
                  <a:lnTo>
                    <a:pt x="111" y="253"/>
                  </a:lnTo>
                  <a:lnTo>
                    <a:pt x="102" y="252"/>
                  </a:lnTo>
                  <a:lnTo>
                    <a:pt x="91" y="247"/>
                  </a:lnTo>
                  <a:lnTo>
                    <a:pt x="82" y="245"/>
                  </a:lnTo>
                  <a:lnTo>
                    <a:pt x="74" y="244"/>
                  </a:lnTo>
                  <a:lnTo>
                    <a:pt x="63" y="244"/>
                  </a:lnTo>
                  <a:lnTo>
                    <a:pt x="49" y="244"/>
                  </a:lnTo>
                  <a:lnTo>
                    <a:pt x="43" y="238"/>
                  </a:lnTo>
                  <a:lnTo>
                    <a:pt x="36" y="232"/>
                  </a:lnTo>
                  <a:lnTo>
                    <a:pt x="36" y="221"/>
                  </a:lnTo>
                  <a:lnTo>
                    <a:pt x="32" y="217"/>
                  </a:lnTo>
                  <a:lnTo>
                    <a:pt x="26" y="209"/>
                  </a:lnTo>
                  <a:lnTo>
                    <a:pt x="22" y="204"/>
                  </a:lnTo>
                  <a:lnTo>
                    <a:pt x="18" y="197"/>
                  </a:lnTo>
                  <a:lnTo>
                    <a:pt x="0" y="193"/>
                  </a:lnTo>
                  <a:lnTo>
                    <a:pt x="14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762120" y="3087720"/>
            <a:ext cx="790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86480" y="380880"/>
            <a:ext cx="7363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% increase in mortality per 10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µg/m3 PM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y PM2.5 /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M10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ta-analysis of 19 US time-series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5080" y="594360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ource: Levy et al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5800" y="1449360"/>
          <a:ext cx="7620120" cy="4040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449360"/>
                    <a:ext cx="762012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534960" y="2971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88000" y="51055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M2.5/PM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d8a"/>
            </a:gs>
            <a:gs pos="50000">
              <a:srgbClr val="0f219b"/>
            </a:gs>
            <a:gs pos="100000">
              <a:srgbClr val="0d1d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28600" y="557280"/>
            <a:ext cx="8120160" cy="6118200"/>
            <a:chOff x="228600" y="557280"/>
            <a:chExt cx="8120160" cy="6118200"/>
          </a:xfrm>
        </p:grpSpPr>
        <p:sp>
          <p:nvSpPr>
            <p:cNvPr id="366" name=""/>
            <p:cNvSpPr/>
            <p:nvPr/>
          </p:nvSpPr>
          <p:spPr>
            <a:xfrm>
              <a:off x="2662200" y="20638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2" y="77"/>
                  </a:moveTo>
                  <a:lnTo>
                    <a:pt x="2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2" y="125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5" y="174"/>
                  </a:lnTo>
                  <a:lnTo>
                    <a:pt x="31" y="182"/>
                  </a:lnTo>
                  <a:lnTo>
                    <a:pt x="40" y="182"/>
                  </a:lnTo>
                  <a:lnTo>
                    <a:pt x="48" y="182"/>
                  </a:lnTo>
                  <a:lnTo>
                    <a:pt x="60" y="191"/>
                  </a:lnTo>
                  <a:lnTo>
                    <a:pt x="71" y="196"/>
                  </a:lnTo>
                  <a:lnTo>
                    <a:pt x="71" y="205"/>
                  </a:lnTo>
                  <a:lnTo>
                    <a:pt x="74" y="214"/>
                  </a:lnTo>
                  <a:lnTo>
                    <a:pt x="83" y="214"/>
                  </a:lnTo>
                  <a:lnTo>
                    <a:pt x="91" y="214"/>
                  </a:lnTo>
                  <a:lnTo>
                    <a:pt x="100" y="214"/>
                  </a:lnTo>
                  <a:lnTo>
                    <a:pt x="109" y="214"/>
                  </a:lnTo>
                  <a:lnTo>
                    <a:pt x="117" y="214"/>
                  </a:lnTo>
                  <a:lnTo>
                    <a:pt x="126" y="214"/>
                  </a:lnTo>
                  <a:lnTo>
                    <a:pt x="137" y="208"/>
                  </a:lnTo>
                  <a:lnTo>
                    <a:pt x="149" y="202"/>
                  </a:lnTo>
                  <a:lnTo>
                    <a:pt x="149" y="194"/>
                  </a:lnTo>
                  <a:lnTo>
                    <a:pt x="146" y="185"/>
                  </a:lnTo>
                  <a:lnTo>
                    <a:pt x="146" y="176"/>
                  </a:lnTo>
                  <a:lnTo>
                    <a:pt x="155" y="168"/>
                  </a:lnTo>
                  <a:lnTo>
                    <a:pt x="158" y="159"/>
                  </a:lnTo>
                  <a:lnTo>
                    <a:pt x="158" y="151"/>
                  </a:lnTo>
                  <a:lnTo>
                    <a:pt x="155" y="142"/>
                  </a:lnTo>
                  <a:lnTo>
                    <a:pt x="155" y="134"/>
                  </a:lnTo>
                  <a:lnTo>
                    <a:pt x="146" y="134"/>
                  </a:lnTo>
                  <a:lnTo>
                    <a:pt x="137" y="134"/>
                  </a:lnTo>
                  <a:lnTo>
                    <a:pt x="135" y="125"/>
                  </a:lnTo>
                  <a:lnTo>
                    <a:pt x="129" y="116"/>
                  </a:lnTo>
                  <a:lnTo>
                    <a:pt x="120" y="114"/>
                  </a:lnTo>
                  <a:lnTo>
                    <a:pt x="114" y="105"/>
                  </a:lnTo>
                  <a:lnTo>
                    <a:pt x="114" y="97"/>
                  </a:lnTo>
                  <a:lnTo>
                    <a:pt x="106" y="94"/>
                  </a:lnTo>
                  <a:lnTo>
                    <a:pt x="97" y="94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89" y="71"/>
                  </a:lnTo>
                  <a:lnTo>
                    <a:pt x="80" y="68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83" y="45"/>
                  </a:lnTo>
                  <a:lnTo>
                    <a:pt x="94" y="45"/>
                  </a:lnTo>
                  <a:lnTo>
                    <a:pt x="103" y="39"/>
                  </a:lnTo>
                  <a:lnTo>
                    <a:pt x="106" y="31"/>
                  </a:lnTo>
                  <a:lnTo>
                    <a:pt x="103" y="22"/>
                  </a:lnTo>
                  <a:lnTo>
                    <a:pt x="94" y="22"/>
                  </a:lnTo>
                  <a:lnTo>
                    <a:pt x="86" y="14"/>
                  </a:lnTo>
                  <a:lnTo>
                    <a:pt x="77" y="11"/>
                  </a:lnTo>
                  <a:lnTo>
                    <a:pt x="68" y="11"/>
                  </a:lnTo>
                  <a:lnTo>
                    <a:pt x="54" y="0"/>
                  </a:lnTo>
                  <a:lnTo>
                    <a:pt x="51" y="8"/>
                  </a:lnTo>
                  <a:lnTo>
                    <a:pt x="60" y="14"/>
                  </a:lnTo>
                  <a:lnTo>
                    <a:pt x="63" y="22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7" y="45"/>
                  </a:lnTo>
                  <a:lnTo>
                    <a:pt x="45" y="45"/>
                  </a:lnTo>
                  <a:lnTo>
                    <a:pt x="40" y="37"/>
                  </a:lnTo>
                  <a:lnTo>
                    <a:pt x="34" y="28"/>
                  </a:lnTo>
                  <a:lnTo>
                    <a:pt x="31" y="37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5" y="62"/>
                  </a:lnTo>
                  <a:lnTo>
                    <a:pt x="17" y="68"/>
                  </a:lnTo>
                  <a:lnTo>
                    <a:pt x="2" y="77"/>
                  </a:lnTo>
                  <a:lnTo>
                    <a:pt x="2" y="7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85760" y="557280"/>
              <a:ext cx="6975720" cy="5226120"/>
            </a:xfrm>
            <a:custGeom>
              <a:avLst/>
              <a:gdLst/>
              <a:ahLst/>
              <a:rect l="l" t="t" r="r" b="b"/>
              <a:pathLst>
                <a:path w="4394" h="3292">
                  <a:moveTo>
                    <a:pt x="4183" y="665"/>
                  </a:moveTo>
                  <a:lnTo>
                    <a:pt x="4174" y="685"/>
                  </a:lnTo>
                  <a:lnTo>
                    <a:pt x="4165" y="680"/>
                  </a:lnTo>
                  <a:lnTo>
                    <a:pt x="4154" y="671"/>
                  </a:lnTo>
                  <a:lnTo>
                    <a:pt x="4145" y="665"/>
                  </a:lnTo>
                  <a:lnTo>
                    <a:pt x="4136" y="657"/>
                  </a:lnTo>
                  <a:lnTo>
                    <a:pt x="4128" y="648"/>
                  </a:lnTo>
                  <a:lnTo>
                    <a:pt x="4122" y="639"/>
                  </a:lnTo>
                  <a:lnTo>
                    <a:pt x="4110" y="631"/>
                  </a:lnTo>
                  <a:lnTo>
                    <a:pt x="4104" y="622"/>
                  </a:lnTo>
                  <a:lnTo>
                    <a:pt x="4098" y="613"/>
                  </a:lnTo>
                  <a:lnTo>
                    <a:pt x="4093" y="605"/>
                  </a:lnTo>
                  <a:lnTo>
                    <a:pt x="4084" y="596"/>
                  </a:lnTo>
                  <a:lnTo>
                    <a:pt x="4075" y="593"/>
                  </a:lnTo>
                  <a:lnTo>
                    <a:pt x="4066" y="590"/>
                  </a:lnTo>
                  <a:lnTo>
                    <a:pt x="4058" y="587"/>
                  </a:lnTo>
                  <a:lnTo>
                    <a:pt x="4049" y="585"/>
                  </a:lnTo>
                  <a:lnTo>
                    <a:pt x="4037" y="585"/>
                  </a:lnTo>
                  <a:lnTo>
                    <a:pt x="4029" y="582"/>
                  </a:lnTo>
                  <a:lnTo>
                    <a:pt x="4023" y="573"/>
                  </a:lnTo>
                  <a:lnTo>
                    <a:pt x="4020" y="564"/>
                  </a:lnTo>
                  <a:lnTo>
                    <a:pt x="4011" y="556"/>
                  </a:lnTo>
                  <a:lnTo>
                    <a:pt x="4002" y="550"/>
                  </a:lnTo>
                  <a:lnTo>
                    <a:pt x="4002" y="541"/>
                  </a:lnTo>
                  <a:lnTo>
                    <a:pt x="3994" y="538"/>
                  </a:lnTo>
                  <a:lnTo>
                    <a:pt x="3982" y="538"/>
                  </a:lnTo>
                  <a:lnTo>
                    <a:pt x="3973" y="538"/>
                  </a:lnTo>
                  <a:lnTo>
                    <a:pt x="3965" y="538"/>
                  </a:lnTo>
                  <a:lnTo>
                    <a:pt x="3953" y="538"/>
                  </a:lnTo>
                  <a:lnTo>
                    <a:pt x="3947" y="530"/>
                  </a:lnTo>
                  <a:lnTo>
                    <a:pt x="3947" y="521"/>
                  </a:lnTo>
                  <a:lnTo>
                    <a:pt x="3938" y="512"/>
                  </a:lnTo>
                  <a:lnTo>
                    <a:pt x="3930" y="504"/>
                  </a:lnTo>
                  <a:lnTo>
                    <a:pt x="3930" y="495"/>
                  </a:lnTo>
                  <a:lnTo>
                    <a:pt x="3927" y="484"/>
                  </a:lnTo>
                  <a:lnTo>
                    <a:pt x="3918" y="481"/>
                  </a:lnTo>
                  <a:lnTo>
                    <a:pt x="3909" y="481"/>
                  </a:lnTo>
                  <a:lnTo>
                    <a:pt x="3901" y="481"/>
                  </a:lnTo>
                  <a:lnTo>
                    <a:pt x="3892" y="481"/>
                  </a:lnTo>
                  <a:lnTo>
                    <a:pt x="3883" y="481"/>
                  </a:lnTo>
                  <a:lnTo>
                    <a:pt x="3871" y="481"/>
                  </a:lnTo>
                  <a:lnTo>
                    <a:pt x="3863" y="481"/>
                  </a:lnTo>
                  <a:lnTo>
                    <a:pt x="3851" y="478"/>
                  </a:lnTo>
                  <a:lnTo>
                    <a:pt x="3842" y="472"/>
                  </a:lnTo>
                  <a:lnTo>
                    <a:pt x="3842" y="463"/>
                  </a:lnTo>
                  <a:lnTo>
                    <a:pt x="3842" y="455"/>
                  </a:lnTo>
                  <a:lnTo>
                    <a:pt x="3834" y="446"/>
                  </a:lnTo>
                  <a:lnTo>
                    <a:pt x="3825" y="446"/>
                  </a:lnTo>
                  <a:lnTo>
                    <a:pt x="3819" y="455"/>
                  </a:lnTo>
                  <a:lnTo>
                    <a:pt x="3810" y="458"/>
                  </a:lnTo>
                  <a:lnTo>
                    <a:pt x="3802" y="461"/>
                  </a:lnTo>
                  <a:lnTo>
                    <a:pt x="3793" y="461"/>
                  </a:lnTo>
                  <a:lnTo>
                    <a:pt x="3784" y="461"/>
                  </a:lnTo>
                  <a:lnTo>
                    <a:pt x="3775" y="461"/>
                  </a:lnTo>
                  <a:lnTo>
                    <a:pt x="3764" y="455"/>
                  </a:lnTo>
                  <a:lnTo>
                    <a:pt x="3755" y="452"/>
                  </a:lnTo>
                  <a:lnTo>
                    <a:pt x="3752" y="461"/>
                  </a:lnTo>
                  <a:lnTo>
                    <a:pt x="3755" y="469"/>
                  </a:lnTo>
                  <a:lnTo>
                    <a:pt x="3764" y="472"/>
                  </a:lnTo>
                  <a:lnTo>
                    <a:pt x="3755" y="475"/>
                  </a:lnTo>
                  <a:lnTo>
                    <a:pt x="3746" y="475"/>
                  </a:lnTo>
                  <a:lnTo>
                    <a:pt x="3737" y="478"/>
                  </a:lnTo>
                  <a:lnTo>
                    <a:pt x="3729" y="478"/>
                  </a:lnTo>
                  <a:lnTo>
                    <a:pt x="3720" y="478"/>
                  </a:lnTo>
                  <a:lnTo>
                    <a:pt x="3711" y="472"/>
                  </a:lnTo>
                  <a:lnTo>
                    <a:pt x="3703" y="463"/>
                  </a:lnTo>
                  <a:lnTo>
                    <a:pt x="3694" y="455"/>
                  </a:lnTo>
                  <a:lnTo>
                    <a:pt x="3685" y="452"/>
                  </a:lnTo>
                  <a:lnTo>
                    <a:pt x="3676" y="452"/>
                  </a:lnTo>
                  <a:lnTo>
                    <a:pt x="3668" y="449"/>
                  </a:lnTo>
                  <a:lnTo>
                    <a:pt x="3656" y="449"/>
                  </a:lnTo>
                  <a:lnTo>
                    <a:pt x="3647" y="449"/>
                  </a:lnTo>
                  <a:lnTo>
                    <a:pt x="3638" y="449"/>
                  </a:lnTo>
                  <a:lnTo>
                    <a:pt x="3636" y="440"/>
                  </a:lnTo>
                  <a:lnTo>
                    <a:pt x="3636" y="432"/>
                  </a:lnTo>
                  <a:lnTo>
                    <a:pt x="3630" y="423"/>
                  </a:lnTo>
                  <a:lnTo>
                    <a:pt x="3638" y="423"/>
                  </a:lnTo>
                  <a:lnTo>
                    <a:pt x="3636" y="414"/>
                  </a:lnTo>
                  <a:lnTo>
                    <a:pt x="3627" y="412"/>
                  </a:lnTo>
                  <a:lnTo>
                    <a:pt x="3618" y="409"/>
                  </a:lnTo>
                  <a:lnTo>
                    <a:pt x="3615" y="400"/>
                  </a:lnTo>
                  <a:lnTo>
                    <a:pt x="3609" y="391"/>
                  </a:lnTo>
                  <a:lnTo>
                    <a:pt x="3618" y="391"/>
                  </a:lnTo>
                  <a:lnTo>
                    <a:pt x="3627" y="391"/>
                  </a:lnTo>
                  <a:lnTo>
                    <a:pt x="3633" y="383"/>
                  </a:lnTo>
                  <a:lnTo>
                    <a:pt x="3624" y="377"/>
                  </a:lnTo>
                  <a:lnTo>
                    <a:pt x="3615" y="374"/>
                  </a:lnTo>
                  <a:lnTo>
                    <a:pt x="3606" y="363"/>
                  </a:lnTo>
                  <a:lnTo>
                    <a:pt x="3604" y="354"/>
                  </a:lnTo>
                  <a:lnTo>
                    <a:pt x="3598" y="345"/>
                  </a:lnTo>
                  <a:lnTo>
                    <a:pt x="3592" y="337"/>
                  </a:lnTo>
                  <a:lnTo>
                    <a:pt x="3583" y="322"/>
                  </a:lnTo>
                  <a:lnTo>
                    <a:pt x="3577" y="314"/>
                  </a:lnTo>
                  <a:lnTo>
                    <a:pt x="3586" y="305"/>
                  </a:lnTo>
                  <a:lnTo>
                    <a:pt x="3592" y="296"/>
                  </a:lnTo>
                  <a:lnTo>
                    <a:pt x="3595" y="288"/>
                  </a:lnTo>
                  <a:lnTo>
                    <a:pt x="3595" y="279"/>
                  </a:lnTo>
                  <a:lnTo>
                    <a:pt x="3586" y="276"/>
                  </a:lnTo>
                  <a:lnTo>
                    <a:pt x="3577" y="276"/>
                  </a:lnTo>
                  <a:lnTo>
                    <a:pt x="3569" y="276"/>
                  </a:lnTo>
                  <a:lnTo>
                    <a:pt x="3557" y="270"/>
                  </a:lnTo>
                  <a:lnTo>
                    <a:pt x="3548" y="259"/>
                  </a:lnTo>
                  <a:lnTo>
                    <a:pt x="3540" y="253"/>
                  </a:lnTo>
                  <a:lnTo>
                    <a:pt x="3531" y="250"/>
                  </a:lnTo>
                  <a:lnTo>
                    <a:pt x="3522" y="244"/>
                  </a:lnTo>
                  <a:lnTo>
                    <a:pt x="3510" y="236"/>
                  </a:lnTo>
                  <a:lnTo>
                    <a:pt x="3502" y="233"/>
                  </a:lnTo>
                  <a:lnTo>
                    <a:pt x="3493" y="227"/>
                  </a:lnTo>
                  <a:lnTo>
                    <a:pt x="3484" y="224"/>
                  </a:lnTo>
                  <a:lnTo>
                    <a:pt x="3475" y="219"/>
                  </a:lnTo>
                  <a:lnTo>
                    <a:pt x="3467" y="213"/>
                  </a:lnTo>
                  <a:lnTo>
                    <a:pt x="3458" y="207"/>
                  </a:lnTo>
                  <a:lnTo>
                    <a:pt x="3449" y="198"/>
                  </a:lnTo>
                  <a:lnTo>
                    <a:pt x="3441" y="193"/>
                  </a:lnTo>
                  <a:lnTo>
                    <a:pt x="3432" y="187"/>
                  </a:lnTo>
                  <a:lnTo>
                    <a:pt x="3423" y="184"/>
                  </a:lnTo>
                  <a:lnTo>
                    <a:pt x="3414" y="178"/>
                  </a:lnTo>
                  <a:lnTo>
                    <a:pt x="3406" y="172"/>
                  </a:lnTo>
                  <a:lnTo>
                    <a:pt x="3400" y="164"/>
                  </a:lnTo>
                  <a:lnTo>
                    <a:pt x="3397" y="155"/>
                  </a:lnTo>
                  <a:lnTo>
                    <a:pt x="3394" y="146"/>
                  </a:lnTo>
                  <a:lnTo>
                    <a:pt x="3388" y="138"/>
                  </a:lnTo>
                  <a:lnTo>
                    <a:pt x="3382" y="129"/>
                  </a:lnTo>
                  <a:lnTo>
                    <a:pt x="3388" y="121"/>
                  </a:lnTo>
                  <a:lnTo>
                    <a:pt x="3379" y="121"/>
                  </a:lnTo>
                  <a:lnTo>
                    <a:pt x="3371" y="121"/>
                  </a:lnTo>
                  <a:lnTo>
                    <a:pt x="3362" y="121"/>
                  </a:lnTo>
                  <a:lnTo>
                    <a:pt x="3359" y="129"/>
                  </a:lnTo>
                  <a:lnTo>
                    <a:pt x="3353" y="138"/>
                  </a:lnTo>
                  <a:lnTo>
                    <a:pt x="3347" y="146"/>
                  </a:lnTo>
                  <a:lnTo>
                    <a:pt x="3339" y="152"/>
                  </a:lnTo>
                  <a:lnTo>
                    <a:pt x="3327" y="158"/>
                  </a:lnTo>
                  <a:lnTo>
                    <a:pt x="3318" y="158"/>
                  </a:lnTo>
                  <a:lnTo>
                    <a:pt x="3310" y="167"/>
                  </a:lnTo>
                  <a:lnTo>
                    <a:pt x="3307" y="175"/>
                  </a:lnTo>
                  <a:lnTo>
                    <a:pt x="3307" y="184"/>
                  </a:lnTo>
                  <a:lnTo>
                    <a:pt x="3304" y="193"/>
                  </a:lnTo>
                  <a:lnTo>
                    <a:pt x="3295" y="195"/>
                  </a:lnTo>
                  <a:lnTo>
                    <a:pt x="3295" y="204"/>
                  </a:lnTo>
                  <a:lnTo>
                    <a:pt x="3298" y="213"/>
                  </a:lnTo>
                  <a:lnTo>
                    <a:pt x="3304" y="221"/>
                  </a:lnTo>
                  <a:lnTo>
                    <a:pt x="3310" y="230"/>
                  </a:lnTo>
                  <a:lnTo>
                    <a:pt x="3315" y="239"/>
                  </a:lnTo>
                  <a:lnTo>
                    <a:pt x="3318" y="250"/>
                  </a:lnTo>
                  <a:lnTo>
                    <a:pt x="3321" y="259"/>
                  </a:lnTo>
                  <a:lnTo>
                    <a:pt x="3321" y="247"/>
                  </a:lnTo>
                  <a:lnTo>
                    <a:pt x="3318" y="239"/>
                  </a:lnTo>
                  <a:lnTo>
                    <a:pt x="3315" y="230"/>
                  </a:lnTo>
                  <a:lnTo>
                    <a:pt x="3307" y="224"/>
                  </a:lnTo>
                  <a:lnTo>
                    <a:pt x="3298" y="216"/>
                  </a:lnTo>
                  <a:lnTo>
                    <a:pt x="3292" y="207"/>
                  </a:lnTo>
                  <a:lnTo>
                    <a:pt x="3292" y="198"/>
                  </a:lnTo>
                  <a:lnTo>
                    <a:pt x="3295" y="190"/>
                  </a:lnTo>
                  <a:lnTo>
                    <a:pt x="3292" y="181"/>
                  </a:lnTo>
                  <a:lnTo>
                    <a:pt x="3283" y="172"/>
                  </a:lnTo>
                  <a:lnTo>
                    <a:pt x="3275" y="170"/>
                  </a:lnTo>
                  <a:lnTo>
                    <a:pt x="3266" y="164"/>
                  </a:lnTo>
                  <a:lnTo>
                    <a:pt x="3257" y="161"/>
                  </a:lnTo>
                  <a:lnTo>
                    <a:pt x="3245" y="155"/>
                  </a:lnTo>
                  <a:lnTo>
                    <a:pt x="3237" y="155"/>
                  </a:lnTo>
                  <a:lnTo>
                    <a:pt x="3228" y="155"/>
                  </a:lnTo>
                  <a:lnTo>
                    <a:pt x="3219" y="155"/>
                  </a:lnTo>
                  <a:lnTo>
                    <a:pt x="3213" y="164"/>
                  </a:lnTo>
                  <a:lnTo>
                    <a:pt x="3208" y="172"/>
                  </a:lnTo>
                  <a:lnTo>
                    <a:pt x="3196" y="175"/>
                  </a:lnTo>
                  <a:lnTo>
                    <a:pt x="3184" y="175"/>
                  </a:lnTo>
                  <a:lnTo>
                    <a:pt x="3173" y="175"/>
                  </a:lnTo>
                  <a:lnTo>
                    <a:pt x="3167" y="167"/>
                  </a:lnTo>
                  <a:lnTo>
                    <a:pt x="3179" y="161"/>
                  </a:lnTo>
                  <a:lnTo>
                    <a:pt x="3187" y="161"/>
                  </a:lnTo>
                  <a:lnTo>
                    <a:pt x="3196" y="161"/>
                  </a:lnTo>
                  <a:lnTo>
                    <a:pt x="3205" y="155"/>
                  </a:lnTo>
                  <a:lnTo>
                    <a:pt x="3208" y="146"/>
                  </a:lnTo>
                  <a:lnTo>
                    <a:pt x="3208" y="138"/>
                  </a:lnTo>
                  <a:lnTo>
                    <a:pt x="3205" y="129"/>
                  </a:lnTo>
                  <a:lnTo>
                    <a:pt x="3199" y="121"/>
                  </a:lnTo>
                  <a:lnTo>
                    <a:pt x="3190" y="112"/>
                  </a:lnTo>
                  <a:lnTo>
                    <a:pt x="3184" y="103"/>
                  </a:lnTo>
                  <a:lnTo>
                    <a:pt x="3193" y="97"/>
                  </a:lnTo>
                  <a:lnTo>
                    <a:pt x="3202" y="92"/>
                  </a:lnTo>
                  <a:lnTo>
                    <a:pt x="3205" y="83"/>
                  </a:lnTo>
                  <a:lnTo>
                    <a:pt x="3208" y="74"/>
                  </a:lnTo>
                  <a:lnTo>
                    <a:pt x="3208" y="66"/>
                  </a:lnTo>
                  <a:lnTo>
                    <a:pt x="3202" y="57"/>
                  </a:lnTo>
                  <a:lnTo>
                    <a:pt x="3199" y="48"/>
                  </a:lnTo>
                  <a:lnTo>
                    <a:pt x="3199" y="40"/>
                  </a:lnTo>
                  <a:lnTo>
                    <a:pt x="3199" y="31"/>
                  </a:lnTo>
                  <a:lnTo>
                    <a:pt x="3196" y="23"/>
                  </a:lnTo>
                  <a:lnTo>
                    <a:pt x="3190" y="14"/>
                  </a:lnTo>
                  <a:lnTo>
                    <a:pt x="3184" y="5"/>
                  </a:lnTo>
                  <a:lnTo>
                    <a:pt x="3176" y="0"/>
                  </a:lnTo>
                  <a:lnTo>
                    <a:pt x="3167" y="2"/>
                  </a:lnTo>
                  <a:lnTo>
                    <a:pt x="3158" y="8"/>
                  </a:lnTo>
                  <a:lnTo>
                    <a:pt x="3149" y="14"/>
                  </a:lnTo>
                  <a:lnTo>
                    <a:pt x="3141" y="17"/>
                  </a:lnTo>
                  <a:lnTo>
                    <a:pt x="3132" y="23"/>
                  </a:lnTo>
                  <a:lnTo>
                    <a:pt x="3132" y="31"/>
                  </a:lnTo>
                  <a:lnTo>
                    <a:pt x="3123" y="25"/>
                  </a:lnTo>
                  <a:lnTo>
                    <a:pt x="3114" y="17"/>
                  </a:lnTo>
                  <a:lnTo>
                    <a:pt x="3106" y="14"/>
                  </a:lnTo>
                  <a:lnTo>
                    <a:pt x="3097" y="14"/>
                  </a:lnTo>
                  <a:lnTo>
                    <a:pt x="3088" y="14"/>
                  </a:lnTo>
                  <a:lnTo>
                    <a:pt x="3080" y="14"/>
                  </a:lnTo>
                  <a:lnTo>
                    <a:pt x="3071" y="14"/>
                  </a:lnTo>
                  <a:lnTo>
                    <a:pt x="3071" y="23"/>
                  </a:lnTo>
                  <a:lnTo>
                    <a:pt x="3071" y="31"/>
                  </a:lnTo>
                  <a:lnTo>
                    <a:pt x="3071" y="40"/>
                  </a:lnTo>
                  <a:lnTo>
                    <a:pt x="3068" y="48"/>
                  </a:lnTo>
                  <a:lnTo>
                    <a:pt x="3062" y="57"/>
                  </a:lnTo>
                  <a:lnTo>
                    <a:pt x="3059" y="66"/>
                  </a:lnTo>
                  <a:lnTo>
                    <a:pt x="3059" y="74"/>
                  </a:lnTo>
                  <a:lnTo>
                    <a:pt x="3059" y="83"/>
                  </a:lnTo>
                  <a:lnTo>
                    <a:pt x="3068" y="89"/>
                  </a:lnTo>
                  <a:lnTo>
                    <a:pt x="3077" y="92"/>
                  </a:lnTo>
                  <a:lnTo>
                    <a:pt x="3085" y="97"/>
                  </a:lnTo>
                  <a:lnTo>
                    <a:pt x="3097" y="103"/>
                  </a:lnTo>
                  <a:lnTo>
                    <a:pt x="3106" y="103"/>
                  </a:lnTo>
                  <a:lnTo>
                    <a:pt x="3114" y="103"/>
                  </a:lnTo>
                  <a:lnTo>
                    <a:pt x="3114" y="95"/>
                  </a:lnTo>
                  <a:lnTo>
                    <a:pt x="3123" y="95"/>
                  </a:lnTo>
                  <a:lnTo>
                    <a:pt x="3114" y="103"/>
                  </a:lnTo>
                  <a:lnTo>
                    <a:pt x="3106" y="103"/>
                  </a:lnTo>
                  <a:lnTo>
                    <a:pt x="3097" y="103"/>
                  </a:lnTo>
                  <a:lnTo>
                    <a:pt x="3088" y="109"/>
                  </a:lnTo>
                  <a:lnTo>
                    <a:pt x="3085" y="118"/>
                  </a:lnTo>
                  <a:lnTo>
                    <a:pt x="3085" y="126"/>
                  </a:lnTo>
                  <a:lnTo>
                    <a:pt x="3080" y="135"/>
                  </a:lnTo>
                  <a:lnTo>
                    <a:pt x="3088" y="138"/>
                  </a:lnTo>
                  <a:lnTo>
                    <a:pt x="3082" y="146"/>
                  </a:lnTo>
                  <a:lnTo>
                    <a:pt x="3080" y="155"/>
                  </a:lnTo>
                  <a:lnTo>
                    <a:pt x="3074" y="164"/>
                  </a:lnTo>
                  <a:lnTo>
                    <a:pt x="3074" y="172"/>
                  </a:lnTo>
                  <a:lnTo>
                    <a:pt x="3074" y="181"/>
                  </a:lnTo>
                  <a:lnTo>
                    <a:pt x="3074" y="190"/>
                  </a:lnTo>
                  <a:lnTo>
                    <a:pt x="3085" y="190"/>
                  </a:lnTo>
                  <a:lnTo>
                    <a:pt x="3094" y="190"/>
                  </a:lnTo>
                  <a:lnTo>
                    <a:pt x="3088" y="198"/>
                  </a:lnTo>
                  <a:lnTo>
                    <a:pt x="3080" y="204"/>
                  </a:lnTo>
                  <a:lnTo>
                    <a:pt x="3074" y="213"/>
                  </a:lnTo>
                  <a:lnTo>
                    <a:pt x="3071" y="221"/>
                  </a:lnTo>
                  <a:lnTo>
                    <a:pt x="3071" y="230"/>
                  </a:lnTo>
                  <a:lnTo>
                    <a:pt x="3071" y="239"/>
                  </a:lnTo>
                  <a:lnTo>
                    <a:pt x="3068" y="247"/>
                  </a:lnTo>
                  <a:lnTo>
                    <a:pt x="3062" y="256"/>
                  </a:lnTo>
                  <a:lnTo>
                    <a:pt x="3059" y="265"/>
                  </a:lnTo>
                  <a:lnTo>
                    <a:pt x="3059" y="273"/>
                  </a:lnTo>
                  <a:lnTo>
                    <a:pt x="3059" y="282"/>
                  </a:lnTo>
                  <a:lnTo>
                    <a:pt x="3059" y="291"/>
                  </a:lnTo>
                  <a:lnTo>
                    <a:pt x="3059" y="299"/>
                  </a:lnTo>
                  <a:lnTo>
                    <a:pt x="3059" y="311"/>
                  </a:lnTo>
                  <a:lnTo>
                    <a:pt x="3065" y="319"/>
                  </a:lnTo>
                  <a:lnTo>
                    <a:pt x="3074" y="325"/>
                  </a:lnTo>
                  <a:lnTo>
                    <a:pt x="3082" y="328"/>
                  </a:lnTo>
                  <a:lnTo>
                    <a:pt x="3082" y="337"/>
                  </a:lnTo>
                  <a:lnTo>
                    <a:pt x="3082" y="345"/>
                  </a:lnTo>
                  <a:lnTo>
                    <a:pt x="3085" y="354"/>
                  </a:lnTo>
                  <a:lnTo>
                    <a:pt x="3085" y="363"/>
                  </a:lnTo>
                  <a:lnTo>
                    <a:pt x="3088" y="371"/>
                  </a:lnTo>
                  <a:lnTo>
                    <a:pt x="3088" y="380"/>
                  </a:lnTo>
                  <a:lnTo>
                    <a:pt x="3091" y="389"/>
                  </a:lnTo>
                  <a:lnTo>
                    <a:pt x="3094" y="397"/>
                  </a:lnTo>
                  <a:lnTo>
                    <a:pt x="3097" y="406"/>
                  </a:lnTo>
                  <a:lnTo>
                    <a:pt x="3109" y="412"/>
                  </a:lnTo>
                  <a:lnTo>
                    <a:pt x="3117" y="412"/>
                  </a:lnTo>
                  <a:lnTo>
                    <a:pt x="3126" y="412"/>
                  </a:lnTo>
                  <a:lnTo>
                    <a:pt x="3135" y="412"/>
                  </a:lnTo>
                  <a:lnTo>
                    <a:pt x="3135" y="403"/>
                  </a:lnTo>
                  <a:lnTo>
                    <a:pt x="3138" y="394"/>
                  </a:lnTo>
                  <a:lnTo>
                    <a:pt x="3147" y="391"/>
                  </a:lnTo>
                  <a:lnTo>
                    <a:pt x="3155" y="391"/>
                  </a:lnTo>
                  <a:lnTo>
                    <a:pt x="3164" y="394"/>
                  </a:lnTo>
                  <a:lnTo>
                    <a:pt x="3167" y="403"/>
                  </a:lnTo>
                  <a:lnTo>
                    <a:pt x="3167" y="412"/>
                  </a:lnTo>
                  <a:lnTo>
                    <a:pt x="3164" y="420"/>
                  </a:lnTo>
                  <a:lnTo>
                    <a:pt x="3155" y="423"/>
                  </a:lnTo>
                  <a:lnTo>
                    <a:pt x="3152" y="432"/>
                  </a:lnTo>
                  <a:lnTo>
                    <a:pt x="3144" y="438"/>
                  </a:lnTo>
                  <a:lnTo>
                    <a:pt x="3138" y="429"/>
                  </a:lnTo>
                  <a:lnTo>
                    <a:pt x="3129" y="420"/>
                  </a:lnTo>
                  <a:lnTo>
                    <a:pt x="3120" y="420"/>
                  </a:lnTo>
                  <a:lnTo>
                    <a:pt x="3114" y="429"/>
                  </a:lnTo>
                  <a:lnTo>
                    <a:pt x="3114" y="438"/>
                  </a:lnTo>
                  <a:lnTo>
                    <a:pt x="3114" y="446"/>
                  </a:lnTo>
                  <a:lnTo>
                    <a:pt x="3123" y="452"/>
                  </a:lnTo>
                  <a:lnTo>
                    <a:pt x="3132" y="452"/>
                  </a:lnTo>
                  <a:lnTo>
                    <a:pt x="3141" y="452"/>
                  </a:lnTo>
                  <a:lnTo>
                    <a:pt x="3135" y="461"/>
                  </a:lnTo>
                  <a:lnTo>
                    <a:pt x="3138" y="469"/>
                  </a:lnTo>
                  <a:lnTo>
                    <a:pt x="3147" y="472"/>
                  </a:lnTo>
                  <a:lnTo>
                    <a:pt x="3147" y="463"/>
                  </a:lnTo>
                  <a:lnTo>
                    <a:pt x="3144" y="455"/>
                  </a:lnTo>
                  <a:lnTo>
                    <a:pt x="3144" y="466"/>
                  </a:lnTo>
                  <a:lnTo>
                    <a:pt x="3144" y="475"/>
                  </a:lnTo>
                  <a:lnTo>
                    <a:pt x="3144" y="484"/>
                  </a:lnTo>
                  <a:lnTo>
                    <a:pt x="3144" y="492"/>
                  </a:lnTo>
                  <a:lnTo>
                    <a:pt x="3144" y="501"/>
                  </a:lnTo>
                  <a:lnTo>
                    <a:pt x="3144" y="510"/>
                  </a:lnTo>
                  <a:lnTo>
                    <a:pt x="3152" y="518"/>
                  </a:lnTo>
                  <a:lnTo>
                    <a:pt x="3161" y="527"/>
                  </a:lnTo>
                  <a:lnTo>
                    <a:pt x="3167" y="538"/>
                  </a:lnTo>
                  <a:lnTo>
                    <a:pt x="3176" y="544"/>
                  </a:lnTo>
                  <a:lnTo>
                    <a:pt x="3184" y="550"/>
                  </a:lnTo>
                  <a:lnTo>
                    <a:pt x="3196" y="550"/>
                  </a:lnTo>
                  <a:lnTo>
                    <a:pt x="3205" y="550"/>
                  </a:lnTo>
                  <a:lnTo>
                    <a:pt x="3213" y="550"/>
                  </a:lnTo>
                  <a:lnTo>
                    <a:pt x="3205" y="550"/>
                  </a:lnTo>
                  <a:lnTo>
                    <a:pt x="3193" y="550"/>
                  </a:lnTo>
                  <a:lnTo>
                    <a:pt x="3184" y="553"/>
                  </a:lnTo>
                  <a:lnTo>
                    <a:pt x="3179" y="561"/>
                  </a:lnTo>
                  <a:lnTo>
                    <a:pt x="3176" y="570"/>
                  </a:lnTo>
                  <a:lnTo>
                    <a:pt x="3173" y="579"/>
                  </a:lnTo>
                  <a:lnTo>
                    <a:pt x="3164" y="582"/>
                  </a:lnTo>
                  <a:lnTo>
                    <a:pt x="3155" y="582"/>
                  </a:lnTo>
                  <a:lnTo>
                    <a:pt x="3147" y="582"/>
                  </a:lnTo>
                  <a:lnTo>
                    <a:pt x="3132" y="576"/>
                  </a:lnTo>
                  <a:lnTo>
                    <a:pt x="3120" y="576"/>
                  </a:lnTo>
                  <a:lnTo>
                    <a:pt x="3109" y="576"/>
                  </a:lnTo>
                  <a:lnTo>
                    <a:pt x="3103" y="585"/>
                  </a:lnTo>
                  <a:lnTo>
                    <a:pt x="3100" y="593"/>
                  </a:lnTo>
                  <a:lnTo>
                    <a:pt x="3100" y="602"/>
                  </a:lnTo>
                  <a:lnTo>
                    <a:pt x="3100" y="610"/>
                  </a:lnTo>
                  <a:lnTo>
                    <a:pt x="3100" y="619"/>
                  </a:lnTo>
                  <a:lnTo>
                    <a:pt x="3100" y="628"/>
                  </a:lnTo>
                  <a:lnTo>
                    <a:pt x="3103" y="636"/>
                  </a:lnTo>
                  <a:lnTo>
                    <a:pt x="3106" y="645"/>
                  </a:lnTo>
                  <a:lnTo>
                    <a:pt x="3112" y="654"/>
                  </a:lnTo>
                  <a:lnTo>
                    <a:pt x="3117" y="662"/>
                  </a:lnTo>
                  <a:lnTo>
                    <a:pt x="3120" y="671"/>
                  </a:lnTo>
                  <a:lnTo>
                    <a:pt x="3123" y="680"/>
                  </a:lnTo>
                  <a:lnTo>
                    <a:pt x="3123" y="688"/>
                  </a:lnTo>
                  <a:lnTo>
                    <a:pt x="3123" y="697"/>
                  </a:lnTo>
                  <a:lnTo>
                    <a:pt x="3123" y="706"/>
                  </a:lnTo>
                  <a:lnTo>
                    <a:pt x="3114" y="711"/>
                  </a:lnTo>
                  <a:lnTo>
                    <a:pt x="3106" y="720"/>
                  </a:lnTo>
                  <a:lnTo>
                    <a:pt x="3103" y="729"/>
                  </a:lnTo>
                  <a:lnTo>
                    <a:pt x="3103" y="737"/>
                  </a:lnTo>
                  <a:lnTo>
                    <a:pt x="3094" y="740"/>
                  </a:lnTo>
                  <a:lnTo>
                    <a:pt x="3085" y="743"/>
                  </a:lnTo>
                  <a:lnTo>
                    <a:pt x="3077" y="746"/>
                  </a:lnTo>
                  <a:lnTo>
                    <a:pt x="3068" y="746"/>
                  </a:lnTo>
                  <a:lnTo>
                    <a:pt x="3059" y="752"/>
                  </a:lnTo>
                  <a:lnTo>
                    <a:pt x="3050" y="760"/>
                  </a:lnTo>
                  <a:lnTo>
                    <a:pt x="3050" y="769"/>
                  </a:lnTo>
                  <a:lnTo>
                    <a:pt x="3050" y="778"/>
                  </a:lnTo>
                  <a:lnTo>
                    <a:pt x="3056" y="786"/>
                  </a:lnTo>
                  <a:lnTo>
                    <a:pt x="3065" y="789"/>
                  </a:lnTo>
                  <a:lnTo>
                    <a:pt x="3074" y="795"/>
                  </a:lnTo>
                  <a:lnTo>
                    <a:pt x="3074" y="804"/>
                  </a:lnTo>
                  <a:lnTo>
                    <a:pt x="3062" y="806"/>
                  </a:lnTo>
                  <a:lnTo>
                    <a:pt x="3050" y="806"/>
                  </a:lnTo>
                  <a:lnTo>
                    <a:pt x="3053" y="798"/>
                  </a:lnTo>
                  <a:lnTo>
                    <a:pt x="3045" y="792"/>
                  </a:lnTo>
                  <a:lnTo>
                    <a:pt x="3036" y="798"/>
                  </a:lnTo>
                  <a:lnTo>
                    <a:pt x="3036" y="809"/>
                  </a:lnTo>
                  <a:lnTo>
                    <a:pt x="3036" y="818"/>
                  </a:lnTo>
                  <a:lnTo>
                    <a:pt x="3033" y="827"/>
                  </a:lnTo>
                  <a:lnTo>
                    <a:pt x="3030" y="835"/>
                  </a:lnTo>
                  <a:lnTo>
                    <a:pt x="3024" y="844"/>
                  </a:lnTo>
                  <a:lnTo>
                    <a:pt x="3016" y="853"/>
                  </a:lnTo>
                  <a:lnTo>
                    <a:pt x="3013" y="861"/>
                  </a:lnTo>
                  <a:lnTo>
                    <a:pt x="3021" y="864"/>
                  </a:lnTo>
                  <a:lnTo>
                    <a:pt x="3030" y="864"/>
                  </a:lnTo>
                  <a:lnTo>
                    <a:pt x="3033" y="873"/>
                  </a:lnTo>
                  <a:lnTo>
                    <a:pt x="3033" y="881"/>
                  </a:lnTo>
                  <a:lnTo>
                    <a:pt x="3042" y="890"/>
                  </a:lnTo>
                  <a:lnTo>
                    <a:pt x="3050" y="893"/>
                  </a:lnTo>
                  <a:lnTo>
                    <a:pt x="3062" y="893"/>
                  </a:lnTo>
                  <a:lnTo>
                    <a:pt x="3071" y="887"/>
                  </a:lnTo>
                  <a:lnTo>
                    <a:pt x="3080" y="887"/>
                  </a:lnTo>
                  <a:lnTo>
                    <a:pt x="3088" y="887"/>
                  </a:lnTo>
                  <a:lnTo>
                    <a:pt x="3085" y="896"/>
                  </a:lnTo>
                  <a:lnTo>
                    <a:pt x="3082" y="904"/>
                  </a:lnTo>
                  <a:lnTo>
                    <a:pt x="3080" y="913"/>
                  </a:lnTo>
                  <a:lnTo>
                    <a:pt x="3088" y="919"/>
                  </a:lnTo>
                  <a:lnTo>
                    <a:pt x="3088" y="927"/>
                  </a:lnTo>
                  <a:lnTo>
                    <a:pt x="3080" y="933"/>
                  </a:lnTo>
                  <a:lnTo>
                    <a:pt x="3077" y="942"/>
                  </a:lnTo>
                  <a:lnTo>
                    <a:pt x="3077" y="950"/>
                  </a:lnTo>
                  <a:lnTo>
                    <a:pt x="3074" y="959"/>
                  </a:lnTo>
                  <a:lnTo>
                    <a:pt x="3074" y="968"/>
                  </a:lnTo>
                  <a:lnTo>
                    <a:pt x="3077" y="959"/>
                  </a:lnTo>
                  <a:lnTo>
                    <a:pt x="3065" y="942"/>
                  </a:lnTo>
                  <a:lnTo>
                    <a:pt x="3071" y="962"/>
                  </a:lnTo>
                  <a:lnTo>
                    <a:pt x="3062" y="962"/>
                  </a:lnTo>
                  <a:lnTo>
                    <a:pt x="3074" y="968"/>
                  </a:lnTo>
                  <a:lnTo>
                    <a:pt x="3074" y="976"/>
                  </a:lnTo>
                  <a:lnTo>
                    <a:pt x="3059" y="976"/>
                  </a:lnTo>
                  <a:lnTo>
                    <a:pt x="3050" y="979"/>
                  </a:lnTo>
                  <a:lnTo>
                    <a:pt x="3039" y="979"/>
                  </a:lnTo>
                  <a:lnTo>
                    <a:pt x="3039" y="988"/>
                  </a:lnTo>
                  <a:lnTo>
                    <a:pt x="3048" y="991"/>
                  </a:lnTo>
                  <a:lnTo>
                    <a:pt x="3056" y="991"/>
                  </a:lnTo>
                  <a:lnTo>
                    <a:pt x="3065" y="997"/>
                  </a:lnTo>
                  <a:lnTo>
                    <a:pt x="3074" y="1005"/>
                  </a:lnTo>
                  <a:lnTo>
                    <a:pt x="3077" y="1014"/>
                  </a:lnTo>
                  <a:lnTo>
                    <a:pt x="3082" y="1023"/>
                  </a:lnTo>
                  <a:lnTo>
                    <a:pt x="3088" y="1031"/>
                  </a:lnTo>
                  <a:lnTo>
                    <a:pt x="3080" y="1034"/>
                  </a:lnTo>
                  <a:lnTo>
                    <a:pt x="3071" y="1034"/>
                  </a:lnTo>
                  <a:lnTo>
                    <a:pt x="3062" y="1040"/>
                  </a:lnTo>
                  <a:lnTo>
                    <a:pt x="3050" y="1043"/>
                  </a:lnTo>
                  <a:lnTo>
                    <a:pt x="3039" y="1046"/>
                  </a:lnTo>
                  <a:lnTo>
                    <a:pt x="3030" y="1046"/>
                  </a:lnTo>
                  <a:lnTo>
                    <a:pt x="3018" y="1046"/>
                  </a:lnTo>
                  <a:lnTo>
                    <a:pt x="3010" y="1037"/>
                  </a:lnTo>
                  <a:lnTo>
                    <a:pt x="3007" y="1028"/>
                  </a:lnTo>
                  <a:lnTo>
                    <a:pt x="3010" y="1020"/>
                  </a:lnTo>
                  <a:lnTo>
                    <a:pt x="3013" y="1011"/>
                  </a:lnTo>
                  <a:lnTo>
                    <a:pt x="3004" y="1011"/>
                  </a:lnTo>
                  <a:lnTo>
                    <a:pt x="2992" y="1008"/>
                  </a:lnTo>
                  <a:lnTo>
                    <a:pt x="2983" y="1008"/>
                  </a:lnTo>
                  <a:lnTo>
                    <a:pt x="2978" y="1017"/>
                  </a:lnTo>
                  <a:lnTo>
                    <a:pt x="2978" y="1025"/>
                  </a:lnTo>
                  <a:lnTo>
                    <a:pt x="2983" y="1034"/>
                  </a:lnTo>
                  <a:lnTo>
                    <a:pt x="2989" y="1043"/>
                  </a:lnTo>
                  <a:lnTo>
                    <a:pt x="2992" y="1051"/>
                  </a:lnTo>
                  <a:lnTo>
                    <a:pt x="3001" y="1054"/>
                  </a:lnTo>
                  <a:lnTo>
                    <a:pt x="3010" y="1060"/>
                  </a:lnTo>
                  <a:lnTo>
                    <a:pt x="3018" y="1063"/>
                  </a:lnTo>
                  <a:lnTo>
                    <a:pt x="3027" y="1063"/>
                  </a:lnTo>
                  <a:lnTo>
                    <a:pt x="3036" y="1060"/>
                  </a:lnTo>
                  <a:lnTo>
                    <a:pt x="3027" y="1060"/>
                  </a:lnTo>
                  <a:lnTo>
                    <a:pt x="3018" y="1057"/>
                  </a:lnTo>
                  <a:lnTo>
                    <a:pt x="3010" y="1054"/>
                  </a:lnTo>
                  <a:lnTo>
                    <a:pt x="3004" y="1046"/>
                  </a:lnTo>
                  <a:lnTo>
                    <a:pt x="2995" y="1040"/>
                  </a:lnTo>
                  <a:lnTo>
                    <a:pt x="2992" y="1031"/>
                  </a:lnTo>
                  <a:lnTo>
                    <a:pt x="2983" y="1023"/>
                  </a:lnTo>
                  <a:lnTo>
                    <a:pt x="2978" y="1014"/>
                  </a:lnTo>
                  <a:lnTo>
                    <a:pt x="2969" y="1005"/>
                  </a:lnTo>
                  <a:lnTo>
                    <a:pt x="2966" y="1014"/>
                  </a:lnTo>
                  <a:lnTo>
                    <a:pt x="2954" y="1023"/>
                  </a:lnTo>
                  <a:lnTo>
                    <a:pt x="2946" y="1023"/>
                  </a:lnTo>
                  <a:lnTo>
                    <a:pt x="2943" y="1034"/>
                  </a:lnTo>
                  <a:lnTo>
                    <a:pt x="2943" y="1043"/>
                  </a:lnTo>
                  <a:lnTo>
                    <a:pt x="2951" y="1051"/>
                  </a:lnTo>
                  <a:lnTo>
                    <a:pt x="2963" y="1051"/>
                  </a:lnTo>
                  <a:lnTo>
                    <a:pt x="2975" y="1054"/>
                  </a:lnTo>
                  <a:lnTo>
                    <a:pt x="2963" y="1051"/>
                  </a:lnTo>
                  <a:lnTo>
                    <a:pt x="2951" y="1046"/>
                  </a:lnTo>
                  <a:lnTo>
                    <a:pt x="2943" y="1043"/>
                  </a:lnTo>
                  <a:lnTo>
                    <a:pt x="2934" y="1051"/>
                  </a:lnTo>
                  <a:lnTo>
                    <a:pt x="2928" y="1060"/>
                  </a:lnTo>
                  <a:lnTo>
                    <a:pt x="2919" y="1060"/>
                  </a:lnTo>
                  <a:lnTo>
                    <a:pt x="2919" y="1069"/>
                  </a:lnTo>
                  <a:lnTo>
                    <a:pt x="2931" y="1077"/>
                  </a:lnTo>
                  <a:lnTo>
                    <a:pt x="2943" y="1086"/>
                  </a:lnTo>
                  <a:lnTo>
                    <a:pt x="2951" y="1089"/>
                  </a:lnTo>
                  <a:lnTo>
                    <a:pt x="2960" y="1089"/>
                  </a:lnTo>
                  <a:lnTo>
                    <a:pt x="2969" y="1089"/>
                  </a:lnTo>
                  <a:lnTo>
                    <a:pt x="2972" y="1080"/>
                  </a:lnTo>
                  <a:lnTo>
                    <a:pt x="2975" y="1072"/>
                  </a:lnTo>
                  <a:lnTo>
                    <a:pt x="2975" y="1063"/>
                  </a:lnTo>
                  <a:lnTo>
                    <a:pt x="2978" y="1054"/>
                  </a:lnTo>
                  <a:lnTo>
                    <a:pt x="2981" y="1063"/>
                  </a:lnTo>
                  <a:lnTo>
                    <a:pt x="2981" y="1072"/>
                  </a:lnTo>
                  <a:lnTo>
                    <a:pt x="2975" y="1080"/>
                  </a:lnTo>
                  <a:lnTo>
                    <a:pt x="2969" y="1089"/>
                  </a:lnTo>
                  <a:lnTo>
                    <a:pt x="2957" y="1089"/>
                  </a:lnTo>
                  <a:lnTo>
                    <a:pt x="2949" y="1089"/>
                  </a:lnTo>
                  <a:lnTo>
                    <a:pt x="2940" y="1097"/>
                  </a:lnTo>
                  <a:lnTo>
                    <a:pt x="2937" y="1106"/>
                  </a:lnTo>
                  <a:lnTo>
                    <a:pt x="2934" y="1115"/>
                  </a:lnTo>
                  <a:lnTo>
                    <a:pt x="2934" y="1123"/>
                  </a:lnTo>
                  <a:lnTo>
                    <a:pt x="2925" y="1129"/>
                  </a:lnTo>
                  <a:lnTo>
                    <a:pt x="2917" y="1135"/>
                  </a:lnTo>
                  <a:lnTo>
                    <a:pt x="2908" y="1138"/>
                  </a:lnTo>
                  <a:lnTo>
                    <a:pt x="2899" y="1138"/>
                  </a:lnTo>
                  <a:lnTo>
                    <a:pt x="2893" y="1129"/>
                  </a:lnTo>
                  <a:lnTo>
                    <a:pt x="2884" y="1129"/>
                  </a:lnTo>
                  <a:lnTo>
                    <a:pt x="2876" y="1129"/>
                  </a:lnTo>
                  <a:lnTo>
                    <a:pt x="2867" y="1135"/>
                  </a:lnTo>
                  <a:lnTo>
                    <a:pt x="2864" y="1144"/>
                  </a:lnTo>
                  <a:lnTo>
                    <a:pt x="2861" y="1152"/>
                  </a:lnTo>
                  <a:lnTo>
                    <a:pt x="2861" y="1161"/>
                  </a:lnTo>
                  <a:lnTo>
                    <a:pt x="2858" y="1170"/>
                  </a:lnTo>
                  <a:lnTo>
                    <a:pt x="2852" y="1178"/>
                  </a:lnTo>
                  <a:lnTo>
                    <a:pt x="2844" y="1181"/>
                  </a:lnTo>
                  <a:lnTo>
                    <a:pt x="2835" y="1181"/>
                  </a:lnTo>
                  <a:lnTo>
                    <a:pt x="2826" y="1184"/>
                  </a:lnTo>
                  <a:lnTo>
                    <a:pt x="2818" y="1175"/>
                  </a:lnTo>
                  <a:lnTo>
                    <a:pt x="2809" y="1167"/>
                  </a:lnTo>
                  <a:lnTo>
                    <a:pt x="2806" y="1175"/>
                  </a:lnTo>
                  <a:lnTo>
                    <a:pt x="2806" y="1184"/>
                  </a:lnTo>
                  <a:lnTo>
                    <a:pt x="2806" y="1193"/>
                  </a:lnTo>
                  <a:lnTo>
                    <a:pt x="2806" y="1204"/>
                  </a:lnTo>
                  <a:lnTo>
                    <a:pt x="2806" y="1213"/>
                  </a:lnTo>
                  <a:lnTo>
                    <a:pt x="2815" y="1213"/>
                  </a:lnTo>
                  <a:lnTo>
                    <a:pt x="2823" y="1216"/>
                  </a:lnTo>
                  <a:lnTo>
                    <a:pt x="2826" y="1224"/>
                  </a:lnTo>
                  <a:lnTo>
                    <a:pt x="2826" y="1233"/>
                  </a:lnTo>
                  <a:lnTo>
                    <a:pt x="2826" y="1242"/>
                  </a:lnTo>
                  <a:lnTo>
                    <a:pt x="2823" y="1250"/>
                  </a:lnTo>
                  <a:lnTo>
                    <a:pt x="2815" y="1253"/>
                  </a:lnTo>
                  <a:lnTo>
                    <a:pt x="2809" y="1262"/>
                  </a:lnTo>
                  <a:lnTo>
                    <a:pt x="2809" y="1270"/>
                  </a:lnTo>
                  <a:lnTo>
                    <a:pt x="2809" y="1279"/>
                  </a:lnTo>
                  <a:lnTo>
                    <a:pt x="2809" y="1288"/>
                  </a:lnTo>
                  <a:lnTo>
                    <a:pt x="2809" y="1279"/>
                  </a:lnTo>
                  <a:lnTo>
                    <a:pt x="2806" y="1270"/>
                  </a:lnTo>
                  <a:lnTo>
                    <a:pt x="2806" y="1262"/>
                  </a:lnTo>
                  <a:lnTo>
                    <a:pt x="2800" y="1253"/>
                  </a:lnTo>
                  <a:lnTo>
                    <a:pt x="2797" y="1244"/>
                  </a:lnTo>
                  <a:lnTo>
                    <a:pt x="2794" y="1236"/>
                  </a:lnTo>
                  <a:lnTo>
                    <a:pt x="2794" y="1227"/>
                  </a:lnTo>
                  <a:lnTo>
                    <a:pt x="2794" y="1218"/>
                  </a:lnTo>
                  <a:lnTo>
                    <a:pt x="2800" y="1210"/>
                  </a:lnTo>
                  <a:lnTo>
                    <a:pt x="2803" y="1201"/>
                  </a:lnTo>
                  <a:lnTo>
                    <a:pt x="2800" y="1193"/>
                  </a:lnTo>
                  <a:lnTo>
                    <a:pt x="2791" y="1187"/>
                  </a:lnTo>
                  <a:lnTo>
                    <a:pt x="2788" y="1178"/>
                  </a:lnTo>
                  <a:lnTo>
                    <a:pt x="2788" y="1170"/>
                  </a:lnTo>
                  <a:lnTo>
                    <a:pt x="2788" y="1161"/>
                  </a:lnTo>
                  <a:lnTo>
                    <a:pt x="2788" y="1152"/>
                  </a:lnTo>
                  <a:lnTo>
                    <a:pt x="2786" y="1144"/>
                  </a:lnTo>
                  <a:lnTo>
                    <a:pt x="2786" y="1135"/>
                  </a:lnTo>
                  <a:lnTo>
                    <a:pt x="2780" y="1126"/>
                  </a:lnTo>
                  <a:lnTo>
                    <a:pt x="2768" y="1121"/>
                  </a:lnTo>
                  <a:lnTo>
                    <a:pt x="2759" y="1115"/>
                  </a:lnTo>
                  <a:lnTo>
                    <a:pt x="2748" y="1112"/>
                  </a:lnTo>
                  <a:lnTo>
                    <a:pt x="2736" y="1109"/>
                  </a:lnTo>
                  <a:lnTo>
                    <a:pt x="2724" y="1106"/>
                  </a:lnTo>
                  <a:lnTo>
                    <a:pt x="2716" y="1106"/>
                  </a:lnTo>
                  <a:lnTo>
                    <a:pt x="2710" y="1115"/>
                  </a:lnTo>
                  <a:lnTo>
                    <a:pt x="2704" y="1123"/>
                  </a:lnTo>
                  <a:lnTo>
                    <a:pt x="2698" y="1132"/>
                  </a:lnTo>
                  <a:lnTo>
                    <a:pt x="2692" y="1126"/>
                  </a:lnTo>
                  <a:lnTo>
                    <a:pt x="2695" y="1112"/>
                  </a:lnTo>
                  <a:lnTo>
                    <a:pt x="2695" y="1121"/>
                  </a:lnTo>
                  <a:lnTo>
                    <a:pt x="2692" y="1129"/>
                  </a:lnTo>
                  <a:lnTo>
                    <a:pt x="2692" y="1138"/>
                  </a:lnTo>
                  <a:lnTo>
                    <a:pt x="2687" y="1146"/>
                  </a:lnTo>
                  <a:lnTo>
                    <a:pt x="2687" y="1155"/>
                  </a:lnTo>
                  <a:lnTo>
                    <a:pt x="2687" y="1164"/>
                  </a:lnTo>
                  <a:lnTo>
                    <a:pt x="2678" y="1167"/>
                  </a:lnTo>
                  <a:lnTo>
                    <a:pt x="2669" y="1167"/>
                  </a:lnTo>
                  <a:lnTo>
                    <a:pt x="2666" y="1158"/>
                  </a:lnTo>
                  <a:lnTo>
                    <a:pt x="2666" y="1149"/>
                  </a:lnTo>
                  <a:lnTo>
                    <a:pt x="2657" y="1146"/>
                  </a:lnTo>
                  <a:lnTo>
                    <a:pt x="2649" y="1152"/>
                  </a:lnTo>
                  <a:lnTo>
                    <a:pt x="2646" y="1141"/>
                  </a:lnTo>
                  <a:lnTo>
                    <a:pt x="2634" y="1135"/>
                  </a:lnTo>
                  <a:lnTo>
                    <a:pt x="2625" y="1135"/>
                  </a:lnTo>
                  <a:lnTo>
                    <a:pt x="2617" y="1135"/>
                  </a:lnTo>
                  <a:lnTo>
                    <a:pt x="2614" y="1144"/>
                  </a:lnTo>
                  <a:lnTo>
                    <a:pt x="2614" y="1152"/>
                  </a:lnTo>
                  <a:lnTo>
                    <a:pt x="2614" y="1161"/>
                  </a:lnTo>
                  <a:lnTo>
                    <a:pt x="2617" y="1170"/>
                  </a:lnTo>
                  <a:lnTo>
                    <a:pt x="2617" y="1178"/>
                  </a:lnTo>
                  <a:lnTo>
                    <a:pt x="2620" y="1187"/>
                  </a:lnTo>
                  <a:lnTo>
                    <a:pt x="2625" y="1195"/>
                  </a:lnTo>
                  <a:lnTo>
                    <a:pt x="2634" y="1201"/>
                  </a:lnTo>
                  <a:lnTo>
                    <a:pt x="2643" y="1201"/>
                  </a:lnTo>
                  <a:lnTo>
                    <a:pt x="2652" y="1201"/>
                  </a:lnTo>
                  <a:lnTo>
                    <a:pt x="2643" y="1201"/>
                  </a:lnTo>
                  <a:lnTo>
                    <a:pt x="2634" y="1207"/>
                  </a:lnTo>
                  <a:lnTo>
                    <a:pt x="2625" y="1216"/>
                  </a:lnTo>
                  <a:lnTo>
                    <a:pt x="2625" y="1224"/>
                  </a:lnTo>
                  <a:lnTo>
                    <a:pt x="2634" y="1224"/>
                  </a:lnTo>
                  <a:lnTo>
                    <a:pt x="2643" y="1230"/>
                  </a:lnTo>
                  <a:lnTo>
                    <a:pt x="2646" y="1242"/>
                  </a:lnTo>
                  <a:lnTo>
                    <a:pt x="2652" y="1253"/>
                  </a:lnTo>
                  <a:lnTo>
                    <a:pt x="2660" y="1259"/>
                  </a:lnTo>
                  <a:lnTo>
                    <a:pt x="2672" y="1265"/>
                  </a:lnTo>
                  <a:lnTo>
                    <a:pt x="2663" y="1262"/>
                  </a:lnTo>
                  <a:lnTo>
                    <a:pt x="2655" y="1256"/>
                  </a:lnTo>
                  <a:lnTo>
                    <a:pt x="2663" y="1250"/>
                  </a:lnTo>
                  <a:lnTo>
                    <a:pt x="2672" y="1250"/>
                  </a:lnTo>
                  <a:lnTo>
                    <a:pt x="2681" y="1253"/>
                  </a:lnTo>
                  <a:lnTo>
                    <a:pt x="2669" y="1256"/>
                  </a:lnTo>
                  <a:lnTo>
                    <a:pt x="2655" y="1256"/>
                  </a:lnTo>
                  <a:lnTo>
                    <a:pt x="2646" y="1247"/>
                  </a:lnTo>
                  <a:lnTo>
                    <a:pt x="2643" y="1236"/>
                  </a:lnTo>
                  <a:lnTo>
                    <a:pt x="2640" y="1227"/>
                  </a:lnTo>
                  <a:lnTo>
                    <a:pt x="2631" y="1227"/>
                  </a:lnTo>
                  <a:lnTo>
                    <a:pt x="2625" y="1236"/>
                  </a:lnTo>
                  <a:lnTo>
                    <a:pt x="2625" y="1247"/>
                  </a:lnTo>
                  <a:lnTo>
                    <a:pt x="2625" y="1259"/>
                  </a:lnTo>
                  <a:lnTo>
                    <a:pt x="2617" y="1259"/>
                  </a:lnTo>
                  <a:lnTo>
                    <a:pt x="2608" y="1256"/>
                  </a:lnTo>
                  <a:lnTo>
                    <a:pt x="2605" y="1247"/>
                  </a:lnTo>
                  <a:lnTo>
                    <a:pt x="2596" y="1253"/>
                  </a:lnTo>
                  <a:lnTo>
                    <a:pt x="2588" y="1262"/>
                  </a:lnTo>
                  <a:lnTo>
                    <a:pt x="2582" y="1270"/>
                  </a:lnTo>
                  <a:lnTo>
                    <a:pt x="2582" y="1279"/>
                  </a:lnTo>
                  <a:lnTo>
                    <a:pt x="2582" y="1288"/>
                  </a:lnTo>
                  <a:lnTo>
                    <a:pt x="2576" y="1296"/>
                  </a:lnTo>
                  <a:lnTo>
                    <a:pt x="2573" y="1305"/>
                  </a:lnTo>
                  <a:lnTo>
                    <a:pt x="2567" y="1314"/>
                  </a:lnTo>
                  <a:lnTo>
                    <a:pt x="2553" y="1311"/>
                  </a:lnTo>
                  <a:lnTo>
                    <a:pt x="2567" y="1305"/>
                  </a:lnTo>
                  <a:lnTo>
                    <a:pt x="2561" y="1314"/>
                  </a:lnTo>
                  <a:lnTo>
                    <a:pt x="2558" y="1322"/>
                  </a:lnTo>
                  <a:lnTo>
                    <a:pt x="2558" y="1331"/>
                  </a:lnTo>
                  <a:lnTo>
                    <a:pt x="2558" y="1340"/>
                  </a:lnTo>
                  <a:lnTo>
                    <a:pt x="2558" y="1348"/>
                  </a:lnTo>
                  <a:lnTo>
                    <a:pt x="2558" y="1360"/>
                  </a:lnTo>
                  <a:lnTo>
                    <a:pt x="2558" y="1368"/>
                  </a:lnTo>
                  <a:lnTo>
                    <a:pt x="2550" y="1380"/>
                  </a:lnTo>
                  <a:lnTo>
                    <a:pt x="2547" y="1389"/>
                  </a:lnTo>
                  <a:lnTo>
                    <a:pt x="2544" y="1397"/>
                  </a:lnTo>
                  <a:lnTo>
                    <a:pt x="2538" y="1406"/>
                  </a:lnTo>
                  <a:lnTo>
                    <a:pt x="2529" y="1412"/>
                  </a:lnTo>
                  <a:lnTo>
                    <a:pt x="2538" y="1414"/>
                  </a:lnTo>
                  <a:lnTo>
                    <a:pt x="2547" y="1414"/>
                  </a:lnTo>
                  <a:lnTo>
                    <a:pt x="2553" y="1406"/>
                  </a:lnTo>
                  <a:lnTo>
                    <a:pt x="2553" y="1397"/>
                  </a:lnTo>
                  <a:lnTo>
                    <a:pt x="2561" y="1391"/>
                  </a:lnTo>
                  <a:lnTo>
                    <a:pt x="2567" y="1400"/>
                  </a:lnTo>
                  <a:lnTo>
                    <a:pt x="2567" y="1412"/>
                  </a:lnTo>
                  <a:lnTo>
                    <a:pt x="2570" y="1420"/>
                  </a:lnTo>
                  <a:lnTo>
                    <a:pt x="2579" y="1429"/>
                  </a:lnTo>
                  <a:lnTo>
                    <a:pt x="2588" y="1435"/>
                  </a:lnTo>
                  <a:lnTo>
                    <a:pt x="2599" y="1435"/>
                  </a:lnTo>
                  <a:lnTo>
                    <a:pt x="2593" y="1426"/>
                  </a:lnTo>
                  <a:lnTo>
                    <a:pt x="2585" y="1417"/>
                  </a:lnTo>
                  <a:lnTo>
                    <a:pt x="2582" y="1406"/>
                  </a:lnTo>
                  <a:lnTo>
                    <a:pt x="2579" y="1397"/>
                  </a:lnTo>
                  <a:lnTo>
                    <a:pt x="2573" y="1406"/>
                  </a:lnTo>
                  <a:lnTo>
                    <a:pt x="2570" y="1414"/>
                  </a:lnTo>
                  <a:lnTo>
                    <a:pt x="2561" y="1426"/>
                  </a:lnTo>
                  <a:lnTo>
                    <a:pt x="2553" y="1432"/>
                  </a:lnTo>
                  <a:lnTo>
                    <a:pt x="2544" y="1432"/>
                  </a:lnTo>
                  <a:lnTo>
                    <a:pt x="2535" y="1432"/>
                  </a:lnTo>
                  <a:lnTo>
                    <a:pt x="2526" y="1432"/>
                  </a:lnTo>
                  <a:lnTo>
                    <a:pt x="2515" y="1438"/>
                  </a:lnTo>
                  <a:lnTo>
                    <a:pt x="2506" y="1443"/>
                  </a:lnTo>
                  <a:lnTo>
                    <a:pt x="2503" y="1452"/>
                  </a:lnTo>
                  <a:lnTo>
                    <a:pt x="2509" y="1461"/>
                  </a:lnTo>
                  <a:lnTo>
                    <a:pt x="2515" y="1472"/>
                  </a:lnTo>
                  <a:lnTo>
                    <a:pt x="2521" y="1484"/>
                  </a:lnTo>
                  <a:lnTo>
                    <a:pt x="2529" y="1489"/>
                  </a:lnTo>
                  <a:lnTo>
                    <a:pt x="2538" y="1495"/>
                  </a:lnTo>
                  <a:lnTo>
                    <a:pt x="2544" y="1504"/>
                  </a:lnTo>
                  <a:lnTo>
                    <a:pt x="2553" y="1507"/>
                  </a:lnTo>
                  <a:lnTo>
                    <a:pt x="2561" y="1507"/>
                  </a:lnTo>
                  <a:lnTo>
                    <a:pt x="2570" y="1510"/>
                  </a:lnTo>
                  <a:lnTo>
                    <a:pt x="2576" y="1518"/>
                  </a:lnTo>
                  <a:lnTo>
                    <a:pt x="2585" y="1527"/>
                  </a:lnTo>
                  <a:lnTo>
                    <a:pt x="2588" y="1535"/>
                  </a:lnTo>
                  <a:lnTo>
                    <a:pt x="2588" y="1544"/>
                  </a:lnTo>
                  <a:lnTo>
                    <a:pt x="2588" y="1556"/>
                  </a:lnTo>
                  <a:lnTo>
                    <a:pt x="2590" y="1564"/>
                  </a:lnTo>
                  <a:lnTo>
                    <a:pt x="2599" y="1564"/>
                  </a:lnTo>
                  <a:lnTo>
                    <a:pt x="2614" y="1567"/>
                  </a:lnTo>
                  <a:lnTo>
                    <a:pt x="2617" y="1576"/>
                  </a:lnTo>
                  <a:lnTo>
                    <a:pt x="2617" y="1584"/>
                  </a:lnTo>
                  <a:lnTo>
                    <a:pt x="2608" y="1587"/>
                  </a:lnTo>
                  <a:lnTo>
                    <a:pt x="2596" y="1579"/>
                  </a:lnTo>
                  <a:lnTo>
                    <a:pt x="2588" y="1570"/>
                  </a:lnTo>
                  <a:lnTo>
                    <a:pt x="2582" y="1561"/>
                  </a:lnTo>
                  <a:lnTo>
                    <a:pt x="2582" y="1553"/>
                  </a:lnTo>
                  <a:lnTo>
                    <a:pt x="2582" y="1541"/>
                  </a:lnTo>
                  <a:lnTo>
                    <a:pt x="2579" y="1533"/>
                  </a:lnTo>
                  <a:lnTo>
                    <a:pt x="2573" y="1524"/>
                  </a:lnTo>
                  <a:lnTo>
                    <a:pt x="2564" y="1515"/>
                  </a:lnTo>
                  <a:lnTo>
                    <a:pt x="2556" y="1512"/>
                  </a:lnTo>
                  <a:lnTo>
                    <a:pt x="2550" y="1521"/>
                  </a:lnTo>
                  <a:lnTo>
                    <a:pt x="2541" y="1521"/>
                  </a:lnTo>
                  <a:lnTo>
                    <a:pt x="2532" y="1515"/>
                  </a:lnTo>
                  <a:lnTo>
                    <a:pt x="2524" y="1510"/>
                  </a:lnTo>
                  <a:lnTo>
                    <a:pt x="2515" y="1507"/>
                  </a:lnTo>
                  <a:lnTo>
                    <a:pt x="2506" y="1504"/>
                  </a:lnTo>
                  <a:lnTo>
                    <a:pt x="2497" y="1504"/>
                  </a:lnTo>
                  <a:lnTo>
                    <a:pt x="2489" y="1504"/>
                  </a:lnTo>
                  <a:lnTo>
                    <a:pt x="2486" y="1512"/>
                  </a:lnTo>
                  <a:lnTo>
                    <a:pt x="2486" y="1521"/>
                  </a:lnTo>
                  <a:lnTo>
                    <a:pt x="2491" y="1530"/>
                  </a:lnTo>
                  <a:lnTo>
                    <a:pt x="2486" y="1538"/>
                  </a:lnTo>
                  <a:lnTo>
                    <a:pt x="2477" y="1538"/>
                  </a:lnTo>
                  <a:lnTo>
                    <a:pt x="2474" y="1547"/>
                  </a:lnTo>
                  <a:lnTo>
                    <a:pt x="2489" y="1550"/>
                  </a:lnTo>
                  <a:lnTo>
                    <a:pt x="2497" y="1553"/>
                  </a:lnTo>
                  <a:lnTo>
                    <a:pt x="2506" y="1553"/>
                  </a:lnTo>
                  <a:lnTo>
                    <a:pt x="2515" y="1559"/>
                  </a:lnTo>
                  <a:lnTo>
                    <a:pt x="2521" y="1570"/>
                  </a:lnTo>
                  <a:lnTo>
                    <a:pt x="2529" y="1576"/>
                  </a:lnTo>
                  <a:lnTo>
                    <a:pt x="2521" y="1567"/>
                  </a:lnTo>
                  <a:lnTo>
                    <a:pt x="2509" y="1561"/>
                  </a:lnTo>
                  <a:lnTo>
                    <a:pt x="2500" y="1559"/>
                  </a:lnTo>
                  <a:lnTo>
                    <a:pt x="2491" y="1567"/>
                  </a:lnTo>
                  <a:lnTo>
                    <a:pt x="2483" y="1570"/>
                  </a:lnTo>
                  <a:lnTo>
                    <a:pt x="2474" y="1570"/>
                  </a:lnTo>
                  <a:lnTo>
                    <a:pt x="2471" y="1561"/>
                  </a:lnTo>
                  <a:lnTo>
                    <a:pt x="2471" y="1553"/>
                  </a:lnTo>
                  <a:lnTo>
                    <a:pt x="2465" y="1544"/>
                  </a:lnTo>
                  <a:lnTo>
                    <a:pt x="2462" y="1535"/>
                  </a:lnTo>
                  <a:lnTo>
                    <a:pt x="2459" y="1524"/>
                  </a:lnTo>
                  <a:lnTo>
                    <a:pt x="2457" y="1515"/>
                  </a:lnTo>
                  <a:lnTo>
                    <a:pt x="2448" y="1510"/>
                  </a:lnTo>
                  <a:lnTo>
                    <a:pt x="2439" y="1504"/>
                  </a:lnTo>
                  <a:lnTo>
                    <a:pt x="2439" y="1512"/>
                  </a:lnTo>
                  <a:lnTo>
                    <a:pt x="2439" y="1521"/>
                  </a:lnTo>
                  <a:lnTo>
                    <a:pt x="2439" y="1530"/>
                  </a:lnTo>
                  <a:lnTo>
                    <a:pt x="2439" y="1538"/>
                  </a:lnTo>
                  <a:lnTo>
                    <a:pt x="2439" y="1547"/>
                  </a:lnTo>
                  <a:lnTo>
                    <a:pt x="2439" y="1556"/>
                  </a:lnTo>
                  <a:lnTo>
                    <a:pt x="2442" y="1564"/>
                  </a:lnTo>
                  <a:lnTo>
                    <a:pt x="2436" y="1573"/>
                  </a:lnTo>
                  <a:lnTo>
                    <a:pt x="2433" y="1582"/>
                  </a:lnTo>
                  <a:lnTo>
                    <a:pt x="2430" y="1590"/>
                  </a:lnTo>
                  <a:lnTo>
                    <a:pt x="2433" y="1599"/>
                  </a:lnTo>
                  <a:lnTo>
                    <a:pt x="2442" y="1602"/>
                  </a:lnTo>
                  <a:lnTo>
                    <a:pt x="2451" y="1605"/>
                  </a:lnTo>
                  <a:lnTo>
                    <a:pt x="2459" y="1608"/>
                  </a:lnTo>
                  <a:lnTo>
                    <a:pt x="2465" y="1616"/>
                  </a:lnTo>
                  <a:lnTo>
                    <a:pt x="2474" y="1628"/>
                  </a:lnTo>
                  <a:lnTo>
                    <a:pt x="2474" y="1636"/>
                  </a:lnTo>
                  <a:lnTo>
                    <a:pt x="2474" y="1648"/>
                  </a:lnTo>
                  <a:lnTo>
                    <a:pt x="2474" y="1657"/>
                  </a:lnTo>
                  <a:lnTo>
                    <a:pt x="2474" y="1665"/>
                  </a:lnTo>
                  <a:lnTo>
                    <a:pt x="2474" y="1674"/>
                  </a:lnTo>
                  <a:lnTo>
                    <a:pt x="2483" y="1680"/>
                  </a:lnTo>
                  <a:lnTo>
                    <a:pt x="2491" y="1682"/>
                  </a:lnTo>
                  <a:lnTo>
                    <a:pt x="2500" y="1682"/>
                  </a:lnTo>
                  <a:lnTo>
                    <a:pt x="2509" y="1680"/>
                  </a:lnTo>
                  <a:lnTo>
                    <a:pt x="2515" y="1671"/>
                  </a:lnTo>
                  <a:lnTo>
                    <a:pt x="2524" y="1671"/>
                  </a:lnTo>
                  <a:lnTo>
                    <a:pt x="2532" y="1668"/>
                  </a:lnTo>
                  <a:lnTo>
                    <a:pt x="2541" y="1671"/>
                  </a:lnTo>
                  <a:lnTo>
                    <a:pt x="2544" y="1680"/>
                  </a:lnTo>
                  <a:lnTo>
                    <a:pt x="2547" y="1688"/>
                  </a:lnTo>
                  <a:lnTo>
                    <a:pt x="2547" y="1697"/>
                  </a:lnTo>
                  <a:lnTo>
                    <a:pt x="2547" y="1706"/>
                  </a:lnTo>
                  <a:lnTo>
                    <a:pt x="2556" y="1714"/>
                  </a:lnTo>
                  <a:lnTo>
                    <a:pt x="2564" y="1720"/>
                  </a:lnTo>
                  <a:lnTo>
                    <a:pt x="2576" y="1726"/>
                  </a:lnTo>
                  <a:lnTo>
                    <a:pt x="2588" y="1726"/>
                  </a:lnTo>
                  <a:lnTo>
                    <a:pt x="2596" y="1726"/>
                  </a:lnTo>
                  <a:lnTo>
                    <a:pt x="2588" y="1723"/>
                  </a:lnTo>
                  <a:lnTo>
                    <a:pt x="2579" y="1720"/>
                  </a:lnTo>
                  <a:lnTo>
                    <a:pt x="2570" y="1717"/>
                  </a:lnTo>
                  <a:lnTo>
                    <a:pt x="2567" y="1708"/>
                  </a:lnTo>
                  <a:lnTo>
                    <a:pt x="2564" y="1697"/>
                  </a:lnTo>
                  <a:lnTo>
                    <a:pt x="2564" y="1688"/>
                  </a:lnTo>
                  <a:lnTo>
                    <a:pt x="2561" y="1680"/>
                  </a:lnTo>
                  <a:lnTo>
                    <a:pt x="2550" y="1671"/>
                  </a:lnTo>
                  <a:lnTo>
                    <a:pt x="2538" y="1665"/>
                  </a:lnTo>
                  <a:lnTo>
                    <a:pt x="2529" y="1662"/>
                  </a:lnTo>
                  <a:lnTo>
                    <a:pt x="2521" y="1659"/>
                  </a:lnTo>
                  <a:lnTo>
                    <a:pt x="2512" y="1662"/>
                  </a:lnTo>
                  <a:lnTo>
                    <a:pt x="2506" y="1671"/>
                  </a:lnTo>
                  <a:lnTo>
                    <a:pt x="2506" y="1680"/>
                  </a:lnTo>
                  <a:lnTo>
                    <a:pt x="2503" y="1688"/>
                  </a:lnTo>
                  <a:lnTo>
                    <a:pt x="2500" y="1697"/>
                  </a:lnTo>
                  <a:lnTo>
                    <a:pt x="2500" y="1706"/>
                  </a:lnTo>
                  <a:lnTo>
                    <a:pt x="2500" y="1714"/>
                  </a:lnTo>
                  <a:lnTo>
                    <a:pt x="2509" y="1723"/>
                  </a:lnTo>
                  <a:lnTo>
                    <a:pt x="2509" y="1731"/>
                  </a:lnTo>
                  <a:lnTo>
                    <a:pt x="2509" y="1740"/>
                  </a:lnTo>
                  <a:lnTo>
                    <a:pt x="2509" y="1749"/>
                  </a:lnTo>
                  <a:lnTo>
                    <a:pt x="2509" y="1757"/>
                  </a:lnTo>
                  <a:lnTo>
                    <a:pt x="2509" y="1766"/>
                  </a:lnTo>
                  <a:lnTo>
                    <a:pt x="2509" y="1775"/>
                  </a:lnTo>
                  <a:lnTo>
                    <a:pt x="2509" y="1783"/>
                  </a:lnTo>
                  <a:lnTo>
                    <a:pt x="2506" y="1772"/>
                  </a:lnTo>
                  <a:lnTo>
                    <a:pt x="2515" y="1757"/>
                  </a:lnTo>
                  <a:lnTo>
                    <a:pt x="2509" y="1766"/>
                  </a:lnTo>
                  <a:lnTo>
                    <a:pt x="2506" y="1775"/>
                  </a:lnTo>
                  <a:lnTo>
                    <a:pt x="2503" y="1783"/>
                  </a:lnTo>
                  <a:lnTo>
                    <a:pt x="2497" y="1792"/>
                  </a:lnTo>
                  <a:lnTo>
                    <a:pt x="2494" y="1801"/>
                  </a:lnTo>
                  <a:lnTo>
                    <a:pt x="2494" y="1809"/>
                  </a:lnTo>
                  <a:lnTo>
                    <a:pt x="2494" y="1818"/>
                  </a:lnTo>
                  <a:lnTo>
                    <a:pt x="2483" y="1824"/>
                  </a:lnTo>
                  <a:lnTo>
                    <a:pt x="2465" y="1824"/>
                  </a:lnTo>
                  <a:lnTo>
                    <a:pt x="2457" y="1821"/>
                  </a:lnTo>
                  <a:lnTo>
                    <a:pt x="2448" y="1812"/>
                  </a:lnTo>
                  <a:lnTo>
                    <a:pt x="2439" y="1809"/>
                  </a:lnTo>
                  <a:lnTo>
                    <a:pt x="2430" y="1809"/>
                  </a:lnTo>
                  <a:lnTo>
                    <a:pt x="2427" y="1798"/>
                  </a:lnTo>
                  <a:lnTo>
                    <a:pt x="2439" y="1795"/>
                  </a:lnTo>
                  <a:lnTo>
                    <a:pt x="2454" y="1792"/>
                  </a:lnTo>
                  <a:lnTo>
                    <a:pt x="2462" y="1792"/>
                  </a:lnTo>
                  <a:lnTo>
                    <a:pt x="2471" y="1792"/>
                  </a:lnTo>
                  <a:lnTo>
                    <a:pt x="2477" y="1783"/>
                  </a:lnTo>
                  <a:lnTo>
                    <a:pt x="2480" y="1775"/>
                  </a:lnTo>
                  <a:lnTo>
                    <a:pt x="2480" y="1766"/>
                  </a:lnTo>
                  <a:lnTo>
                    <a:pt x="2483" y="1757"/>
                  </a:lnTo>
                  <a:lnTo>
                    <a:pt x="2486" y="1749"/>
                  </a:lnTo>
                  <a:lnTo>
                    <a:pt x="2489" y="1740"/>
                  </a:lnTo>
                  <a:lnTo>
                    <a:pt x="2491" y="1731"/>
                  </a:lnTo>
                  <a:lnTo>
                    <a:pt x="2489" y="1723"/>
                  </a:lnTo>
                  <a:lnTo>
                    <a:pt x="2489" y="1714"/>
                  </a:lnTo>
                  <a:lnTo>
                    <a:pt x="2480" y="1708"/>
                  </a:lnTo>
                  <a:lnTo>
                    <a:pt x="2474" y="1700"/>
                  </a:lnTo>
                  <a:lnTo>
                    <a:pt x="2468" y="1691"/>
                  </a:lnTo>
                  <a:lnTo>
                    <a:pt x="2465" y="1682"/>
                  </a:lnTo>
                  <a:lnTo>
                    <a:pt x="2459" y="1674"/>
                  </a:lnTo>
                  <a:lnTo>
                    <a:pt x="2454" y="1665"/>
                  </a:lnTo>
                  <a:lnTo>
                    <a:pt x="2454" y="1657"/>
                  </a:lnTo>
                  <a:lnTo>
                    <a:pt x="2454" y="1648"/>
                  </a:lnTo>
                  <a:lnTo>
                    <a:pt x="2454" y="1639"/>
                  </a:lnTo>
                  <a:lnTo>
                    <a:pt x="2451" y="1631"/>
                  </a:lnTo>
                  <a:lnTo>
                    <a:pt x="2448" y="1622"/>
                  </a:lnTo>
                  <a:lnTo>
                    <a:pt x="2442" y="1613"/>
                  </a:lnTo>
                  <a:lnTo>
                    <a:pt x="2433" y="1608"/>
                  </a:lnTo>
                  <a:lnTo>
                    <a:pt x="2427" y="1599"/>
                  </a:lnTo>
                  <a:lnTo>
                    <a:pt x="2422" y="1590"/>
                  </a:lnTo>
                  <a:lnTo>
                    <a:pt x="2419" y="1582"/>
                  </a:lnTo>
                  <a:lnTo>
                    <a:pt x="2419" y="1573"/>
                  </a:lnTo>
                  <a:lnTo>
                    <a:pt x="2416" y="1564"/>
                  </a:lnTo>
                  <a:lnTo>
                    <a:pt x="2416" y="1556"/>
                  </a:lnTo>
                  <a:lnTo>
                    <a:pt x="2416" y="1547"/>
                  </a:lnTo>
                  <a:lnTo>
                    <a:pt x="2416" y="1538"/>
                  </a:lnTo>
                  <a:lnTo>
                    <a:pt x="2416" y="1530"/>
                  </a:lnTo>
                  <a:lnTo>
                    <a:pt x="2407" y="1521"/>
                  </a:lnTo>
                  <a:lnTo>
                    <a:pt x="2395" y="1518"/>
                  </a:lnTo>
                  <a:lnTo>
                    <a:pt x="2390" y="1510"/>
                  </a:lnTo>
                  <a:lnTo>
                    <a:pt x="2390" y="1501"/>
                  </a:lnTo>
                  <a:lnTo>
                    <a:pt x="2381" y="1498"/>
                  </a:lnTo>
                  <a:lnTo>
                    <a:pt x="2390" y="1504"/>
                  </a:lnTo>
                  <a:lnTo>
                    <a:pt x="2381" y="1510"/>
                  </a:lnTo>
                  <a:lnTo>
                    <a:pt x="2372" y="1515"/>
                  </a:lnTo>
                  <a:lnTo>
                    <a:pt x="2372" y="1524"/>
                  </a:lnTo>
                  <a:lnTo>
                    <a:pt x="2366" y="1533"/>
                  </a:lnTo>
                  <a:lnTo>
                    <a:pt x="2366" y="1541"/>
                  </a:lnTo>
                  <a:lnTo>
                    <a:pt x="2366" y="1550"/>
                  </a:lnTo>
                  <a:lnTo>
                    <a:pt x="2366" y="1559"/>
                  </a:lnTo>
                  <a:lnTo>
                    <a:pt x="2366" y="1567"/>
                  </a:lnTo>
                  <a:lnTo>
                    <a:pt x="2363" y="1576"/>
                  </a:lnTo>
                  <a:lnTo>
                    <a:pt x="2360" y="1584"/>
                  </a:lnTo>
                  <a:lnTo>
                    <a:pt x="2358" y="1593"/>
                  </a:lnTo>
                  <a:lnTo>
                    <a:pt x="2352" y="1602"/>
                  </a:lnTo>
                  <a:lnTo>
                    <a:pt x="2349" y="1610"/>
                  </a:lnTo>
                  <a:lnTo>
                    <a:pt x="2346" y="1619"/>
                  </a:lnTo>
                  <a:lnTo>
                    <a:pt x="2346" y="1628"/>
                  </a:lnTo>
                  <a:lnTo>
                    <a:pt x="2346" y="1636"/>
                  </a:lnTo>
                  <a:lnTo>
                    <a:pt x="2355" y="1639"/>
                  </a:lnTo>
                  <a:lnTo>
                    <a:pt x="2363" y="1639"/>
                  </a:lnTo>
                  <a:lnTo>
                    <a:pt x="2372" y="1636"/>
                  </a:lnTo>
                  <a:lnTo>
                    <a:pt x="2372" y="1645"/>
                  </a:lnTo>
                  <a:lnTo>
                    <a:pt x="2372" y="1654"/>
                  </a:lnTo>
                  <a:lnTo>
                    <a:pt x="2372" y="1662"/>
                  </a:lnTo>
                  <a:lnTo>
                    <a:pt x="2372" y="1671"/>
                  </a:lnTo>
                  <a:lnTo>
                    <a:pt x="2372" y="1682"/>
                  </a:lnTo>
                  <a:lnTo>
                    <a:pt x="2369" y="1691"/>
                  </a:lnTo>
                  <a:lnTo>
                    <a:pt x="2378" y="1697"/>
                  </a:lnTo>
                  <a:lnTo>
                    <a:pt x="2381" y="1706"/>
                  </a:lnTo>
                  <a:lnTo>
                    <a:pt x="2390" y="1711"/>
                  </a:lnTo>
                  <a:lnTo>
                    <a:pt x="2401" y="1714"/>
                  </a:lnTo>
                  <a:lnTo>
                    <a:pt x="2404" y="1723"/>
                  </a:lnTo>
                  <a:lnTo>
                    <a:pt x="2404" y="1731"/>
                  </a:lnTo>
                  <a:lnTo>
                    <a:pt x="2404" y="1740"/>
                  </a:lnTo>
                  <a:lnTo>
                    <a:pt x="2404" y="1749"/>
                  </a:lnTo>
                  <a:lnTo>
                    <a:pt x="2395" y="1743"/>
                  </a:lnTo>
                  <a:lnTo>
                    <a:pt x="2393" y="1734"/>
                  </a:lnTo>
                  <a:lnTo>
                    <a:pt x="2387" y="1723"/>
                  </a:lnTo>
                  <a:lnTo>
                    <a:pt x="2381" y="1714"/>
                  </a:lnTo>
                  <a:lnTo>
                    <a:pt x="2372" y="1711"/>
                  </a:lnTo>
                  <a:lnTo>
                    <a:pt x="2363" y="1708"/>
                  </a:lnTo>
                  <a:lnTo>
                    <a:pt x="2355" y="1708"/>
                  </a:lnTo>
                  <a:lnTo>
                    <a:pt x="2340" y="1706"/>
                  </a:lnTo>
                  <a:lnTo>
                    <a:pt x="2328" y="1703"/>
                  </a:lnTo>
                  <a:lnTo>
                    <a:pt x="2320" y="1697"/>
                  </a:lnTo>
                  <a:lnTo>
                    <a:pt x="2311" y="1694"/>
                  </a:lnTo>
                  <a:lnTo>
                    <a:pt x="2302" y="1691"/>
                  </a:lnTo>
                  <a:lnTo>
                    <a:pt x="2294" y="1688"/>
                  </a:lnTo>
                  <a:lnTo>
                    <a:pt x="2285" y="1685"/>
                  </a:lnTo>
                  <a:lnTo>
                    <a:pt x="2276" y="1685"/>
                  </a:lnTo>
                  <a:lnTo>
                    <a:pt x="2267" y="1685"/>
                  </a:lnTo>
                  <a:lnTo>
                    <a:pt x="2273" y="1680"/>
                  </a:lnTo>
                  <a:lnTo>
                    <a:pt x="2262" y="1671"/>
                  </a:lnTo>
                  <a:lnTo>
                    <a:pt x="2262" y="1662"/>
                  </a:lnTo>
                  <a:lnTo>
                    <a:pt x="2256" y="1671"/>
                  </a:lnTo>
                  <a:lnTo>
                    <a:pt x="2247" y="1671"/>
                  </a:lnTo>
                  <a:lnTo>
                    <a:pt x="2235" y="1671"/>
                  </a:lnTo>
                  <a:lnTo>
                    <a:pt x="2227" y="1668"/>
                  </a:lnTo>
                  <a:lnTo>
                    <a:pt x="2227" y="1659"/>
                  </a:lnTo>
                  <a:lnTo>
                    <a:pt x="2221" y="1668"/>
                  </a:lnTo>
                  <a:lnTo>
                    <a:pt x="2221" y="1677"/>
                  </a:lnTo>
                  <a:lnTo>
                    <a:pt x="2232" y="1680"/>
                  </a:lnTo>
                  <a:lnTo>
                    <a:pt x="2241" y="1682"/>
                  </a:lnTo>
                  <a:lnTo>
                    <a:pt x="2244" y="1691"/>
                  </a:lnTo>
                  <a:lnTo>
                    <a:pt x="2247" y="1700"/>
                  </a:lnTo>
                  <a:lnTo>
                    <a:pt x="2250" y="1708"/>
                  </a:lnTo>
                  <a:lnTo>
                    <a:pt x="2259" y="1711"/>
                  </a:lnTo>
                  <a:lnTo>
                    <a:pt x="2262" y="1720"/>
                  </a:lnTo>
                  <a:lnTo>
                    <a:pt x="2262" y="1729"/>
                  </a:lnTo>
                  <a:lnTo>
                    <a:pt x="2262" y="1737"/>
                  </a:lnTo>
                  <a:lnTo>
                    <a:pt x="2253" y="1743"/>
                  </a:lnTo>
                  <a:lnTo>
                    <a:pt x="2250" y="1752"/>
                  </a:lnTo>
                  <a:lnTo>
                    <a:pt x="2250" y="1760"/>
                  </a:lnTo>
                  <a:lnTo>
                    <a:pt x="2244" y="1752"/>
                  </a:lnTo>
                  <a:lnTo>
                    <a:pt x="2241" y="1743"/>
                  </a:lnTo>
                  <a:lnTo>
                    <a:pt x="2232" y="1743"/>
                  </a:lnTo>
                  <a:lnTo>
                    <a:pt x="2232" y="1734"/>
                  </a:lnTo>
                  <a:lnTo>
                    <a:pt x="2221" y="1729"/>
                  </a:lnTo>
                  <a:lnTo>
                    <a:pt x="2209" y="1731"/>
                  </a:lnTo>
                  <a:lnTo>
                    <a:pt x="2200" y="1734"/>
                  </a:lnTo>
                  <a:lnTo>
                    <a:pt x="2192" y="1737"/>
                  </a:lnTo>
                  <a:lnTo>
                    <a:pt x="2183" y="1746"/>
                  </a:lnTo>
                  <a:lnTo>
                    <a:pt x="2177" y="1755"/>
                  </a:lnTo>
                  <a:lnTo>
                    <a:pt x="2168" y="1755"/>
                  </a:lnTo>
                  <a:lnTo>
                    <a:pt x="2160" y="1760"/>
                  </a:lnTo>
                  <a:lnTo>
                    <a:pt x="2151" y="1769"/>
                  </a:lnTo>
                  <a:lnTo>
                    <a:pt x="2142" y="1772"/>
                  </a:lnTo>
                  <a:lnTo>
                    <a:pt x="2133" y="1772"/>
                  </a:lnTo>
                  <a:lnTo>
                    <a:pt x="2133" y="1763"/>
                  </a:lnTo>
                  <a:lnTo>
                    <a:pt x="2142" y="1755"/>
                  </a:lnTo>
                  <a:lnTo>
                    <a:pt x="2151" y="1752"/>
                  </a:lnTo>
                  <a:lnTo>
                    <a:pt x="2160" y="1749"/>
                  </a:lnTo>
                  <a:lnTo>
                    <a:pt x="2160" y="1737"/>
                  </a:lnTo>
                  <a:lnTo>
                    <a:pt x="2154" y="1729"/>
                  </a:lnTo>
                  <a:lnTo>
                    <a:pt x="2145" y="1729"/>
                  </a:lnTo>
                  <a:lnTo>
                    <a:pt x="2136" y="1734"/>
                  </a:lnTo>
                  <a:lnTo>
                    <a:pt x="2128" y="1740"/>
                  </a:lnTo>
                  <a:lnTo>
                    <a:pt x="2122" y="1749"/>
                  </a:lnTo>
                  <a:lnTo>
                    <a:pt x="2113" y="1755"/>
                  </a:lnTo>
                  <a:lnTo>
                    <a:pt x="2104" y="1757"/>
                  </a:lnTo>
                  <a:lnTo>
                    <a:pt x="2096" y="1763"/>
                  </a:lnTo>
                  <a:lnTo>
                    <a:pt x="2087" y="1763"/>
                  </a:lnTo>
                  <a:lnTo>
                    <a:pt x="2078" y="1766"/>
                  </a:lnTo>
                  <a:lnTo>
                    <a:pt x="2069" y="1769"/>
                  </a:lnTo>
                  <a:lnTo>
                    <a:pt x="2061" y="1772"/>
                  </a:lnTo>
                  <a:lnTo>
                    <a:pt x="2055" y="1780"/>
                  </a:lnTo>
                  <a:lnTo>
                    <a:pt x="2052" y="1789"/>
                  </a:lnTo>
                  <a:lnTo>
                    <a:pt x="2040" y="1792"/>
                  </a:lnTo>
                  <a:lnTo>
                    <a:pt x="2034" y="1801"/>
                  </a:lnTo>
                  <a:lnTo>
                    <a:pt x="2034" y="1809"/>
                  </a:lnTo>
                  <a:lnTo>
                    <a:pt x="2029" y="1818"/>
                  </a:lnTo>
                  <a:lnTo>
                    <a:pt x="2020" y="1824"/>
                  </a:lnTo>
                  <a:lnTo>
                    <a:pt x="2011" y="1827"/>
                  </a:lnTo>
                  <a:lnTo>
                    <a:pt x="2008" y="1815"/>
                  </a:lnTo>
                  <a:lnTo>
                    <a:pt x="2005" y="1806"/>
                  </a:lnTo>
                  <a:lnTo>
                    <a:pt x="2005" y="1798"/>
                  </a:lnTo>
                  <a:lnTo>
                    <a:pt x="1997" y="1789"/>
                  </a:lnTo>
                  <a:lnTo>
                    <a:pt x="1988" y="1780"/>
                  </a:lnTo>
                  <a:lnTo>
                    <a:pt x="1999" y="1780"/>
                  </a:lnTo>
                  <a:lnTo>
                    <a:pt x="2011" y="1778"/>
                  </a:lnTo>
                  <a:lnTo>
                    <a:pt x="2020" y="1775"/>
                  </a:lnTo>
                  <a:lnTo>
                    <a:pt x="2020" y="1766"/>
                  </a:lnTo>
                  <a:lnTo>
                    <a:pt x="2023" y="1757"/>
                  </a:lnTo>
                  <a:lnTo>
                    <a:pt x="2023" y="1749"/>
                  </a:lnTo>
                  <a:lnTo>
                    <a:pt x="2014" y="1743"/>
                  </a:lnTo>
                  <a:lnTo>
                    <a:pt x="2005" y="1740"/>
                  </a:lnTo>
                  <a:lnTo>
                    <a:pt x="1994" y="1740"/>
                  </a:lnTo>
                  <a:lnTo>
                    <a:pt x="1985" y="1737"/>
                  </a:lnTo>
                  <a:lnTo>
                    <a:pt x="1976" y="1731"/>
                  </a:lnTo>
                  <a:lnTo>
                    <a:pt x="1967" y="1729"/>
                  </a:lnTo>
                  <a:lnTo>
                    <a:pt x="1967" y="1737"/>
                  </a:lnTo>
                  <a:lnTo>
                    <a:pt x="1970" y="1746"/>
                  </a:lnTo>
                  <a:lnTo>
                    <a:pt x="1976" y="1755"/>
                  </a:lnTo>
                  <a:lnTo>
                    <a:pt x="1976" y="1763"/>
                  </a:lnTo>
                  <a:lnTo>
                    <a:pt x="1976" y="1772"/>
                  </a:lnTo>
                  <a:lnTo>
                    <a:pt x="1973" y="1780"/>
                  </a:lnTo>
                  <a:lnTo>
                    <a:pt x="1965" y="1789"/>
                  </a:lnTo>
                  <a:lnTo>
                    <a:pt x="1956" y="1795"/>
                  </a:lnTo>
                  <a:lnTo>
                    <a:pt x="1953" y="1803"/>
                  </a:lnTo>
                  <a:lnTo>
                    <a:pt x="1962" y="1806"/>
                  </a:lnTo>
                  <a:lnTo>
                    <a:pt x="1970" y="1806"/>
                  </a:lnTo>
                  <a:lnTo>
                    <a:pt x="1979" y="1806"/>
                  </a:lnTo>
                  <a:lnTo>
                    <a:pt x="1982" y="1815"/>
                  </a:lnTo>
                  <a:lnTo>
                    <a:pt x="1976" y="1824"/>
                  </a:lnTo>
                  <a:lnTo>
                    <a:pt x="1965" y="1832"/>
                  </a:lnTo>
                  <a:lnTo>
                    <a:pt x="1959" y="1841"/>
                  </a:lnTo>
                  <a:lnTo>
                    <a:pt x="1959" y="1850"/>
                  </a:lnTo>
                  <a:lnTo>
                    <a:pt x="1947" y="1838"/>
                  </a:lnTo>
                  <a:lnTo>
                    <a:pt x="1938" y="1835"/>
                  </a:lnTo>
                  <a:lnTo>
                    <a:pt x="1933" y="1827"/>
                  </a:lnTo>
                  <a:lnTo>
                    <a:pt x="1924" y="1821"/>
                  </a:lnTo>
                  <a:lnTo>
                    <a:pt x="1915" y="1821"/>
                  </a:lnTo>
                  <a:lnTo>
                    <a:pt x="1906" y="1829"/>
                  </a:lnTo>
                  <a:lnTo>
                    <a:pt x="1898" y="1835"/>
                  </a:lnTo>
                  <a:lnTo>
                    <a:pt x="1889" y="1838"/>
                  </a:lnTo>
                  <a:lnTo>
                    <a:pt x="1880" y="1841"/>
                  </a:lnTo>
                  <a:lnTo>
                    <a:pt x="1874" y="1850"/>
                  </a:lnTo>
                  <a:lnTo>
                    <a:pt x="1871" y="1858"/>
                  </a:lnTo>
                  <a:lnTo>
                    <a:pt x="1868" y="1867"/>
                  </a:lnTo>
                  <a:lnTo>
                    <a:pt x="1868" y="1876"/>
                  </a:lnTo>
                  <a:lnTo>
                    <a:pt x="1868" y="1884"/>
                  </a:lnTo>
                  <a:lnTo>
                    <a:pt x="1868" y="1893"/>
                  </a:lnTo>
                  <a:lnTo>
                    <a:pt x="1868" y="1901"/>
                  </a:lnTo>
                  <a:lnTo>
                    <a:pt x="1860" y="1907"/>
                  </a:lnTo>
                  <a:lnTo>
                    <a:pt x="1848" y="1901"/>
                  </a:lnTo>
                  <a:lnTo>
                    <a:pt x="1845" y="1893"/>
                  </a:lnTo>
                  <a:lnTo>
                    <a:pt x="1839" y="1884"/>
                  </a:lnTo>
                  <a:lnTo>
                    <a:pt x="1831" y="1876"/>
                  </a:lnTo>
                  <a:lnTo>
                    <a:pt x="1822" y="1870"/>
                  </a:lnTo>
                  <a:lnTo>
                    <a:pt x="1813" y="1867"/>
                  </a:lnTo>
                  <a:lnTo>
                    <a:pt x="1804" y="1867"/>
                  </a:lnTo>
                  <a:lnTo>
                    <a:pt x="1799" y="1876"/>
                  </a:lnTo>
                  <a:lnTo>
                    <a:pt x="1796" y="1884"/>
                  </a:lnTo>
                  <a:lnTo>
                    <a:pt x="1796" y="1893"/>
                  </a:lnTo>
                  <a:lnTo>
                    <a:pt x="1804" y="1899"/>
                  </a:lnTo>
                  <a:lnTo>
                    <a:pt x="1816" y="1901"/>
                  </a:lnTo>
                  <a:lnTo>
                    <a:pt x="1819" y="1910"/>
                  </a:lnTo>
                  <a:lnTo>
                    <a:pt x="1807" y="1910"/>
                  </a:lnTo>
                  <a:lnTo>
                    <a:pt x="1819" y="1893"/>
                  </a:lnTo>
                  <a:lnTo>
                    <a:pt x="1810" y="1896"/>
                  </a:lnTo>
                  <a:lnTo>
                    <a:pt x="1822" y="1899"/>
                  </a:lnTo>
                  <a:lnTo>
                    <a:pt x="1822" y="1910"/>
                  </a:lnTo>
                  <a:lnTo>
                    <a:pt x="1822" y="1919"/>
                  </a:lnTo>
                  <a:lnTo>
                    <a:pt x="1816" y="1927"/>
                  </a:lnTo>
                  <a:lnTo>
                    <a:pt x="1802" y="1927"/>
                  </a:lnTo>
                  <a:lnTo>
                    <a:pt x="1793" y="1922"/>
                  </a:lnTo>
                  <a:lnTo>
                    <a:pt x="1790" y="1913"/>
                  </a:lnTo>
                  <a:lnTo>
                    <a:pt x="1790" y="1904"/>
                  </a:lnTo>
                  <a:lnTo>
                    <a:pt x="1784" y="1896"/>
                  </a:lnTo>
                  <a:lnTo>
                    <a:pt x="1778" y="1887"/>
                  </a:lnTo>
                  <a:lnTo>
                    <a:pt x="1770" y="1878"/>
                  </a:lnTo>
                  <a:lnTo>
                    <a:pt x="1767" y="1870"/>
                  </a:lnTo>
                  <a:lnTo>
                    <a:pt x="1764" y="1861"/>
                  </a:lnTo>
                  <a:lnTo>
                    <a:pt x="1764" y="1850"/>
                  </a:lnTo>
                  <a:lnTo>
                    <a:pt x="1764" y="1841"/>
                  </a:lnTo>
                  <a:lnTo>
                    <a:pt x="1764" y="1832"/>
                  </a:lnTo>
                  <a:lnTo>
                    <a:pt x="1772" y="1827"/>
                  </a:lnTo>
                  <a:lnTo>
                    <a:pt x="1778" y="1818"/>
                  </a:lnTo>
                  <a:lnTo>
                    <a:pt x="1778" y="1809"/>
                  </a:lnTo>
                  <a:lnTo>
                    <a:pt x="1778" y="1801"/>
                  </a:lnTo>
                  <a:lnTo>
                    <a:pt x="1778" y="1792"/>
                  </a:lnTo>
                  <a:lnTo>
                    <a:pt x="1770" y="1783"/>
                  </a:lnTo>
                  <a:lnTo>
                    <a:pt x="1761" y="1778"/>
                  </a:lnTo>
                  <a:lnTo>
                    <a:pt x="1752" y="1772"/>
                  </a:lnTo>
                  <a:lnTo>
                    <a:pt x="1752" y="1763"/>
                  </a:lnTo>
                  <a:lnTo>
                    <a:pt x="1752" y="1752"/>
                  </a:lnTo>
                  <a:lnTo>
                    <a:pt x="1752" y="1743"/>
                  </a:lnTo>
                  <a:lnTo>
                    <a:pt x="1764" y="1749"/>
                  </a:lnTo>
                  <a:lnTo>
                    <a:pt x="1772" y="1757"/>
                  </a:lnTo>
                  <a:lnTo>
                    <a:pt x="1781" y="1763"/>
                  </a:lnTo>
                  <a:lnTo>
                    <a:pt x="1781" y="1772"/>
                  </a:lnTo>
                  <a:lnTo>
                    <a:pt x="1787" y="1783"/>
                  </a:lnTo>
                  <a:lnTo>
                    <a:pt x="1796" y="1789"/>
                  </a:lnTo>
                  <a:lnTo>
                    <a:pt x="1804" y="1795"/>
                  </a:lnTo>
                  <a:lnTo>
                    <a:pt x="1816" y="1801"/>
                  </a:lnTo>
                  <a:lnTo>
                    <a:pt x="1822" y="1809"/>
                  </a:lnTo>
                  <a:lnTo>
                    <a:pt x="1831" y="1815"/>
                  </a:lnTo>
                  <a:lnTo>
                    <a:pt x="1836" y="1824"/>
                  </a:lnTo>
                  <a:lnTo>
                    <a:pt x="1845" y="1829"/>
                  </a:lnTo>
                  <a:lnTo>
                    <a:pt x="1854" y="1835"/>
                  </a:lnTo>
                  <a:lnTo>
                    <a:pt x="1866" y="1835"/>
                  </a:lnTo>
                  <a:lnTo>
                    <a:pt x="1874" y="1835"/>
                  </a:lnTo>
                  <a:lnTo>
                    <a:pt x="1883" y="1835"/>
                  </a:lnTo>
                  <a:lnTo>
                    <a:pt x="1892" y="1829"/>
                  </a:lnTo>
                  <a:lnTo>
                    <a:pt x="1901" y="1827"/>
                  </a:lnTo>
                  <a:lnTo>
                    <a:pt x="1909" y="1818"/>
                  </a:lnTo>
                  <a:lnTo>
                    <a:pt x="1909" y="1809"/>
                  </a:lnTo>
                  <a:lnTo>
                    <a:pt x="1909" y="1801"/>
                  </a:lnTo>
                  <a:lnTo>
                    <a:pt x="1909" y="1792"/>
                  </a:lnTo>
                  <a:lnTo>
                    <a:pt x="1915" y="1783"/>
                  </a:lnTo>
                  <a:lnTo>
                    <a:pt x="1918" y="1775"/>
                  </a:lnTo>
                  <a:lnTo>
                    <a:pt x="1918" y="1766"/>
                  </a:lnTo>
                  <a:lnTo>
                    <a:pt x="1915" y="1757"/>
                  </a:lnTo>
                  <a:lnTo>
                    <a:pt x="1909" y="1749"/>
                  </a:lnTo>
                  <a:lnTo>
                    <a:pt x="1901" y="1740"/>
                  </a:lnTo>
                  <a:lnTo>
                    <a:pt x="1895" y="1731"/>
                  </a:lnTo>
                  <a:lnTo>
                    <a:pt x="1892" y="1720"/>
                  </a:lnTo>
                  <a:lnTo>
                    <a:pt x="1889" y="1711"/>
                  </a:lnTo>
                  <a:lnTo>
                    <a:pt x="1880" y="1706"/>
                  </a:lnTo>
                  <a:lnTo>
                    <a:pt x="1871" y="1697"/>
                  </a:lnTo>
                  <a:lnTo>
                    <a:pt x="1866" y="1688"/>
                  </a:lnTo>
                  <a:lnTo>
                    <a:pt x="1860" y="1680"/>
                  </a:lnTo>
                  <a:lnTo>
                    <a:pt x="1851" y="1671"/>
                  </a:lnTo>
                  <a:lnTo>
                    <a:pt x="1842" y="1665"/>
                  </a:lnTo>
                  <a:lnTo>
                    <a:pt x="1831" y="1662"/>
                  </a:lnTo>
                  <a:lnTo>
                    <a:pt x="1819" y="1657"/>
                  </a:lnTo>
                  <a:lnTo>
                    <a:pt x="1813" y="1648"/>
                  </a:lnTo>
                  <a:lnTo>
                    <a:pt x="1810" y="1639"/>
                  </a:lnTo>
                  <a:lnTo>
                    <a:pt x="1807" y="1631"/>
                  </a:lnTo>
                  <a:lnTo>
                    <a:pt x="1799" y="1622"/>
                  </a:lnTo>
                  <a:lnTo>
                    <a:pt x="1793" y="1613"/>
                  </a:lnTo>
                  <a:lnTo>
                    <a:pt x="1784" y="1613"/>
                  </a:lnTo>
                  <a:lnTo>
                    <a:pt x="1772" y="1613"/>
                  </a:lnTo>
                  <a:lnTo>
                    <a:pt x="1764" y="1608"/>
                  </a:lnTo>
                  <a:lnTo>
                    <a:pt x="1761" y="1599"/>
                  </a:lnTo>
                  <a:lnTo>
                    <a:pt x="1772" y="1596"/>
                  </a:lnTo>
                  <a:lnTo>
                    <a:pt x="1781" y="1596"/>
                  </a:lnTo>
                  <a:lnTo>
                    <a:pt x="1787" y="1587"/>
                  </a:lnTo>
                  <a:lnTo>
                    <a:pt x="1778" y="1579"/>
                  </a:lnTo>
                  <a:lnTo>
                    <a:pt x="1770" y="1576"/>
                  </a:lnTo>
                  <a:lnTo>
                    <a:pt x="1761" y="1573"/>
                  </a:lnTo>
                  <a:lnTo>
                    <a:pt x="1758" y="1564"/>
                  </a:lnTo>
                  <a:lnTo>
                    <a:pt x="1758" y="1556"/>
                  </a:lnTo>
                  <a:lnTo>
                    <a:pt x="1758" y="1547"/>
                  </a:lnTo>
                  <a:lnTo>
                    <a:pt x="1749" y="1547"/>
                  </a:lnTo>
                  <a:lnTo>
                    <a:pt x="1737" y="1553"/>
                  </a:lnTo>
                  <a:lnTo>
                    <a:pt x="1729" y="1553"/>
                  </a:lnTo>
                  <a:lnTo>
                    <a:pt x="1720" y="1556"/>
                  </a:lnTo>
                  <a:lnTo>
                    <a:pt x="1720" y="1547"/>
                  </a:lnTo>
                  <a:lnTo>
                    <a:pt x="1723" y="1538"/>
                  </a:lnTo>
                  <a:lnTo>
                    <a:pt x="1726" y="1550"/>
                  </a:lnTo>
                  <a:lnTo>
                    <a:pt x="1723" y="1559"/>
                  </a:lnTo>
                  <a:lnTo>
                    <a:pt x="1723" y="1567"/>
                  </a:lnTo>
                  <a:lnTo>
                    <a:pt x="1732" y="1567"/>
                  </a:lnTo>
                  <a:lnTo>
                    <a:pt x="1740" y="1556"/>
                  </a:lnTo>
                  <a:lnTo>
                    <a:pt x="1726" y="1553"/>
                  </a:lnTo>
                  <a:lnTo>
                    <a:pt x="1717" y="1553"/>
                  </a:lnTo>
                  <a:lnTo>
                    <a:pt x="1705" y="1553"/>
                  </a:lnTo>
                  <a:lnTo>
                    <a:pt x="1705" y="1541"/>
                  </a:lnTo>
                  <a:lnTo>
                    <a:pt x="1711" y="1533"/>
                  </a:lnTo>
                  <a:lnTo>
                    <a:pt x="1700" y="1535"/>
                  </a:lnTo>
                  <a:lnTo>
                    <a:pt x="1691" y="1541"/>
                  </a:lnTo>
                  <a:lnTo>
                    <a:pt x="1679" y="1544"/>
                  </a:lnTo>
                  <a:lnTo>
                    <a:pt x="1685" y="1533"/>
                  </a:lnTo>
                  <a:lnTo>
                    <a:pt x="1685" y="1524"/>
                  </a:lnTo>
                  <a:lnTo>
                    <a:pt x="1676" y="1524"/>
                  </a:lnTo>
                  <a:lnTo>
                    <a:pt x="1668" y="1533"/>
                  </a:lnTo>
                  <a:lnTo>
                    <a:pt x="1662" y="1541"/>
                  </a:lnTo>
                  <a:lnTo>
                    <a:pt x="1653" y="1544"/>
                  </a:lnTo>
                  <a:lnTo>
                    <a:pt x="1653" y="1535"/>
                  </a:lnTo>
                  <a:lnTo>
                    <a:pt x="1644" y="1541"/>
                  </a:lnTo>
                  <a:lnTo>
                    <a:pt x="1641" y="1550"/>
                  </a:lnTo>
                  <a:lnTo>
                    <a:pt x="1633" y="1547"/>
                  </a:lnTo>
                  <a:lnTo>
                    <a:pt x="1633" y="1538"/>
                  </a:lnTo>
                  <a:lnTo>
                    <a:pt x="1624" y="1538"/>
                  </a:lnTo>
                  <a:lnTo>
                    <a:pt x="1615" y="1541"/>
                  </a:lnTo>
                  <a:lnTo>
                    <a:pt x="1609" y="1550"/>
                  </a:lnTo>
                  <a:lnTo>
                    <a:pt x="1601" y="1541"/>
                  </a:lnTo>
                  <a:lnTo>
                    <a:pt x="1598" y="1533"/>
                  </a:lnTo>
                  <a:lnTo>
                    <a:pt x="1589" y="1535"/>
                  </a:lnTo>
                  <a:lnTo>
                    <a:pt x="1580" y="1541"/>
                  </a:lnTo>
                  <a:lnTo>
                    <a:pt x="1569" y="1538"/>
                  </a:lnTo>
                  <a:lnTo>
                    <a:pt x="1563" y="1547"/>
                  </a:lnTo>
                  <a:lnTo>
                    <a:pt x="1557" y="1559"/>
                  </a:lnTo>
                  <a:lnTo>
                    <a:pt x="1554" y="1567"/>
                  </a:lnTo>
                  <a:lnTo>
                    <a:pt x="1548" y="1576"/>
                  </a:lnTo>
                  <a:lnTo>
                    <a:pt x="1540" y="1576"/>
                  </a:lnTo>
                  <a:lnTo>
                    <a:pt x="1531" y="1576"/>
                  </a:lnTo>
                  <a:lnTo>
                    <a:pt x="1525" y="1564"/>
                  </a:lnTo>
                  <a:lnTo>
                    <a:pt x="1525" y="1556"/>
                  </a:lnTo>
                  <a:lnTo>
                    <a:pt x="1525" y="1547"/>
                  </a:lnTo>
                  <a:lnTo>
                    <a:pt x="1516" y="1544"/>
                  </a:lnTo>
                  <a:lnTo>
                    <a:pt x="1513" y="1553"/>
                  </a:lnTo>
                  <a:lnTo>
                    <a:pt x="1528" y="1541"/>
                  </a:lnTo>
                  <a:lnTo>
                    <a:pt x="1510" y="1530"/>
                  </a:lnTo>
                  <a:lnTo>
                    <a:pt x="1502" y="1530"/>
                  </a:lnTo>
                  <a:lnTo>
                    <a:pt x="1493" y="1538"/>
                  </a:lnTo>
                  <a:lnTo>
                    <a:pt x="1484" y="1544"/>
                  </a:lnTo>
                  <a:lnTo>
                    <a:pt x="1481" y="1553"/>
                  </a:lnTo>
                  <a:lnTo>
                    <a:pt x="1481" y="1561"/>
                  </a:lnTo>
                  <a:lnTo>
                    <a:pt x="1487" y="1570"/>
                  </a:lnTo>
                  <a:lnTo>
                    <a:pt x="1487" y="1579"/>
                  </a:lnTo>
                  <a:lnTo>
                    <a:pt x="1478" y="1587"/>
                  </a:lnTo>
                  <a:lnTo>
                    <a:pt x="1470" y="1590"/>
                  </a:lnTo>
                  <a:lnTo>
                    <a:pt x="1461" y="1599"/>
                  </a:lnTo>
                  <a:lnTo>
                    <a:pt x="1443" y="1599"/>
                  </a:lnTo>
                  <a:lnTo>
                    <a:pt x="1432" y="1599"/>
                  </a:lnTo>
                  <a:lnTo>
                    <a:pt x="1426" y="1610"/>
                  </a:lnTo>
                  <a:lnTo>
                    <a:pt x="1420" y="1619"/>
                  </a:lnTo>
                  <a:lnTo>
                    <a:pt x="1429" y="1619"/>
                  </a:lnTo>
                  <a:lnTo>
                    <a:pt x="1417" y="1628"/>
                  </a:lnTo>
                  <a:lnTo>
                    <a:pt x="1406" y="1628"/>
                  </a:lnTo>
                  <a:lnTo>
                    <a:pt x="1397" y="1628"/>
                  </a:lnTo>
                  <a:lnTo>
                    <a:pt x="1388" y="1628"/>
                  </a:lnTo>
                  <a:lnTo>
                    <a:pt x="1382" y="1636"/>
                  </a:lnTo>
                  <a:lnTo>
                    <a:pt x="1379" y="1645"/>
                  </a:lnTo>
                  <a:lnTo>
                    <a:pt x="1371" y="1645"/>
                  </a:lnTo>
                  <a:lnTo>
                    <a:pt x="1362" y="1645"/>
                  </a:lnTo>
                  <a:lnTo>
                    <a:pt x="1356" y="1654"/>
                  </a:lnTo>
                  <a:lnTo>
                    <a:pt x="1347" y="1657"/>
                  </a:lnTo>
                  <a:lnTo>
                    <a:pt x="1336" y="1659"/>
                  </a:lnTo>
                  <a:lnTo>
                    <a:pt x="1327" y="1659"/>
                  </a:lnTo>
                  <a:lnTo>
                    <a:pt x="1318" y="1662"/>
                  </a:lnTo>
                  <a:lnTo>
                    <a:pt x="1310" y="1662"/>
                  </a:lnTo>
                  <a:lnTo>
                    <a:pt x="1298" y="1662"/>
                  </a:lnTo>
                  <a:lnTo>
                    <a:pt x="1289" y="1665"/>
                  </a:lnTo>
                  <a:lnTo>
                    <a:pt x="1280" y="1671"/>
                  </a:lnTo>
                  <a:lnTo>
                    <a:pt x="1278" y="1680"/>
                  </a:lnTo>
                  <a:lnTo>
                    <a:pt x="1280" y="1691"/>
                  </a:lnTo>
                  <a:lnTo>
                    <a:pt x="1289" y="1694"/>
                  </a:lnTo>
                  <a:lnTo>
                    <a:pt x="1301" y="1697"/>
                  </a:lnTo>
                  <a:lnTo>
                    <a:pt x="1312" y="1697"/>
                  </a:lnTo>
                  <a:lnTo>
                    <a:pt x="1321" y="1697"/>
                  </a:lnTo>
                  <a:lnTo>
                    <a:pt x="1310" y="1694"/>
                  </a:lnTo>
                  <a:lnTo>
                    <a:pt x="1298" y="1694"/>
                  </a:lnTo>
                  <a:lnTo>
                    <a:pt x="1289" y="1691"/>
                  </a:lnTo>
                  <a:lnTo>
                    <a:pt x="1304" y="1685"/>
                  </a:lnTo>
                  <a:lnTo>
                    <a:pt x="1312" y="1685"/>
                  </a:lnTo>
                  <a:lnTo>
                    <a:pt x="1321" y="1685"/>
                  </a:lnTo>
                  <a:lnTo>
                    <a:pt x="1312" y="1682"/>
                  </a:lnTo>
                  <a:lnTo>
                    <a:pt x="1301" y="1685"/>
                  </a:lnTo>
                  <a:lnTo>
                    <a:pt x="1292" y="1685"/>
                  </a:lnTo>
                  <a:lnTo>
                    <a:pt x="1286" y="1677"/>
                  </a:lnTo>
                  <a:lnTo>
                    <a:pt x="1275" y="1668"/>
                  </a:lnTo>
                  <a:lnTo>
                    <a:pt x="1266" y="1665"/>
                  </a:lnTo>
                  <a:lnTo>
                    <a:pt x="1248" y="1659"/>
                  </a:lnTo>
                  <a:lnTo>
                    <a:pt x="1240" y="1659"/>
                  </a:lnTo>
                  <a:lnTo>
                    <a:pt x="1234" y="1668"/>
                  </a:lnTo>
                  <a:lnTo>
                    <a:pt x="1225" y="1671"/>
                  </a:lnTo>
                  <a:lnTo>
                    <a:pt x="1216" y="1674"/>
                  </a:lnTo>
                  <a:lnTo>
                    <a:pt x="1208" y="1674"/>
                  </a:lnTo>
                  <a:lnTo>
                    <a:pt x="1199" y="1671"/>
                  </a:lnTo>
                  <a:lnTo>
                    <a:pt x="1190" y="1674"/>
                  </a:lnTo>
                  <a:lnTo>
                    <a:pt x="1176" y="1671"/>
                  </a:lnTo>
                  <a:lnTo>
                    <a:pt x="1167" y="1668"/>
                  </a:lnTo>
                  <a:lnTo>
                    <a:pt x="1161" y="1677"/>
                  </a:lnTo>
                  <a:lnTo>
                    <a:pt x="1152" y="1682"/>
                  </a:lnTo>
                  <a:lnTo>
                    <a:pt x="1144" y="1682"/>
                  </a:lnTo>
                  <a:lnTo>
                    <a:pt x="1132" y="1682"/>
                  </a:lnTo>
                  <a:lnTo>
                    <a:pt x="1132" y="1691"/>
                  </a:lnTo>
                  <a:lnTo>
                    <a:pt x="1132" y="1700"/>
                  </a:lnTo>
                  <a:lnTo>
                    <a:pt x="1147" y="1708"/>
                  </a:lnTo>
                  <a:lnTo>
                    <a:pt x="1155" y="1720"/>
                  </a:lnTo>
                  <a:lnTo>
                    <a:pt x="1158" y="1729"/>
                  </a:lnTo>
                  <a:lnTo>
                    <a:pt x="1158" y="1737"/>
                  </a:lnTo>
                  <a:lnTo>
                    <a:pt x="1161" y="1746"/>
                  </a:lnTo>
                  <a:lnTo>
                    <a:pt x="1161" y="1737"/>
                  </a:lnTo>
                  <a:lnTo>
                    <a:pt x="1155" y="1726"/>
                  </a:lnTo>
                  <a:lnTo>
                    <a:pt x="1152" y="1717"/>
                  </a:lnTo>
                  <a:lnTo>
                    <a:pt x="1138" y="1717"/>
                  </a:lnTo>
                  <a:lnTo>
                    <a:pt x="1129" y="1711"/>
                  </a:lnTo>
                  <a:lnTo>
                    <a:pt x="1120" y="1711"/>
                  </a:lnTo>
                  <a:lnTo>
                    <a:pt x="1117" y="1720"/>
                  </a:lnTo>
                  <a:lnTo>
                    <a:pt x="1114" y="1731"/>
                  </a:lnTo>
                  <a:lnTo>
                    <a:pt x="1114" y="1740"/>
                  </a:lnTo>
                  <a:lnTo>
                    <a:pt x="1126" y="1740"/>
                  </a:lnTo>
                  <a:lnTo>
                    <a:pt x="1138" y="1743"/>
                  </a:lnTo>
                  <a:lnTo>
                    <a:pt x="1129" y="1743"/>
                  </a:lnTo>
                  <a:lnTo>
                    <a:pt x="1120" y="1743"/>
                  </a:lnTo>
                  <a:lnTo>
                    <a:pt x="1112" y="1746"/>
                  </a:lnTo>
                  <a:lnTo>
                    <a:pt x="1103" y="1752"/>
                  </a:lnTo>
                  <a:lnTo>
                    <a:pt x="1094" y="1755"/>
                  </a:lnTo>
                  <a:lnTo>
                    <a:pt x="1085" y="1763"/>
                  </a:lnTo>
                  <a:lnTo>
                    <a:pt x="1077" y="1766"/>
                  </a:lnTo>
                  <a:lnTo>
                    <a:pt x="1068" y="1766"/>
                  </a:lnTo>
                  <a:lnTo>
                    <a:pt x="1077" y="1772"/>
                  </a:lnTo>
                  <a:lnTo>
                    <a:pt x="1085" y="1772"/>
                  </a:lnTo>
                  <a:lnTo>
                    <a:pt x="1097" y="1775"/>
                  </a:lnTo>
                  <a:lnTo>
                    <a:pt x="1091" y="1783"/>
                  </a:lnTo>
                  <a:lnTo>
                    <a:pt x="1080" y="1786"/>
                  </a:lnTo>
                  <a:lnTo>
                    <a:pt x="1071" y="1786"/>
                  </a:lnTo>
                  <a:lnTo>
                    <a:pt x="1062" y="1789"/>
                  </a:lnTo>
                  <a:lnTo>
                    <a:pt x="1056" y="1798"/>
                  </a:lnTo>
                  <a:lnTo>
                    <a:pt x="1056" y="1806"/>
                  </a:lnTo>
                  <a:lnTo>
                    <a:pt x="1056" y="1815"/>
                  </a:lnTo>
                  <a:lnTo>
                    <a:pt x="1056" y="1824"/>
                  </a:lnTo>
                  <a:lnTo>
                    <a:pt x="1056" y="1832"/>
                  </a:lnTo>
                  <a:lnTo>
                    <a:pt x="1056" y="1841"/>
                  </a:lnTo>
                  <a:lnTo>
                    <a:pt x="1062" y="1850"/>
                  </a:lnTo>
                  <a:lnTo>
                    <a:pt x="1074" y="1855"/>
                  </a:lnTo>
                  <a:lnTo>
                    <a:pt x="1082" y="1855"/>
                  </a:lnTo>
                  <a:lnTo>
                    <a:pt x="1091" y="1855"/>
                  </a:lnTo>
                  <a:lnTo>
                    <a:pt x="1103" y="1855"/>
                  </a:lnTo>
                  <a:lnTo>
                    <a:pt x="1112" y="1855"/>
                  </a:lnTo>
                  <a:lnTo>
                    <a:pt x="1120" y="1855"/>
                  </a:lnTo>
                  <a:lnTo>
                    <a:pt x="1132" y="1855"/>
                  </a:lnTo>
                  <a:lnTo>
                    <a:pt x="1144" y="1855"/>
                  </a:lnTo>
                  <a:lnTo>
                    <a:pt x="1152" y="1852"/>
                  </a:lnTo>
                  <a:lnTo>
                    <a:pt x="1167" y="1852"/>
                  </a:lnTo>
                  <a:lnTo>
                    <a:pt x="1176" y="1844"/>
                  </a:lnTo>
                  <a:lnTo>
                    <a:pt x="1179" y="1835"/>
                  </a:lnTo>
                  <a:lnTo>
                    <a:pt x="1181" y="1827"/>
                  </a:lnTo>
                  <a:lnTo>
                    <a:pt x="1184" y="1835"/>
                  </a:lnTo>
                  <a:lnTo>
                    <a:pt x="1184" y="1844"/>
                  </a:lnTo>
                  <a:lnTo>
                    <a:pt x="1181" y="1852"/>
                  </a:lnTo>
                  <a:lnTo>
                    <a:pt x="1170" y="1858"/>
                  </a:lnTo>
                  <a:lnTo>
                    <a:pt x="1173" y="1867"/>
                  </a:lnTo>
                  <a:lnTo>
                    <a:pt x="1170" y="1876"/>
                  </a:lnTo>
                  <a:lnTo>
                    <a:pt x="1164" y="1884"/>
                  </a:lnTo>
                  <a:lnTo>
                    <a:pt x="1161" y="1893"/>
                  </a:lnTo>
                  <a:lnTo>
                    <a:pt x="1161" y="1901"/>
                  </a:lnTo>
                  <a:lnTo>
                    <a:pt x="1158" y="1910"/>
                  </a:lnTo>
                  <a:lnTo>
                    <a:pt x="1149" y="1913"/>
                  </a:lnTo>
                  <a:lnTo>
                    <a:pt x="1147" y="1922"/>
                  </a:lnTo>
                  <a:lnTo>
                    <a:pt x="1147" y="1930"/>
                  </a:lnTo>
                  <a:lnTo>
                    <a:pt x="1144" y="1939"/>
                  </a:lnTo>
                  <a:lnTo>
                    <a:pt x="1144" y="1948"/>
                  </a:lnTo>
                  <a:lnTo>
                    <a:pt x="1141" y="1956"/>
                  </a:lnTo>
                  <a:lnTo>
                    <a:pt x="1141" y="1968"/>
                  </a:lnTo>
                  <a:lnTo>
                    <a:pt x="1141" y="1976"/>
                  </a:lnTo>
                  <a:lnTo>
                    <a:pt x="1155" y="1956"/>
                  </a:lnTo>
                  <a:lnTo>
                    <a:pt x="1144" y="1956"/>
                  </a:lnTo>
                  <a:lnTo>
                    <a:pt x="1144" y="1965"/>
                  </a:lnTo>
                  <a:lnTo>
                    <a:pt x="1144" y="1974"/>
                  </a:lnTo>
                  <a:lnTo>
                    <a:pt x="1144" y="1982"/>
                  </a:lnTo>
                  <a:lnTo>
                    <a:pt x="1138" y="1991"/>
                  </a:lnTo>
                  <a:lnTo>
                    <a:pt x="1129" y="1997"/>
                  </a:lnTo>
                  <a:lnTo>
                    <a:pt x="1120" y="1997"/>
                  </a:lnTo>
                  <a:lnTo>
                    <a:pt x="1117" y="2005"/>
                  </a:lnTo>
                  <a:lnTo>
                    <a:pt x="1117" y="2014"/>
                  </a:lnTo>
                  <a:lnTo>
                    <a:pt x="1117" y="2023"/>
                  </a:lnTo>
                  <a:lnTo>
                    <a:pt x="1117" y="2031"/>
                  </a:lnTo>
                  <a:lnTo>
                    <a:pt x="1120" y="2040"/>
                  </a:lnTo>
                  <a:lnTo>
                    <a:pt x="1129" y="2046"/>
                  </a:lnTo>
                  <a:lnTo>
                    <a:pt x="1144" y="2054"/>
                  </a:lnTo>
                  <a:lnTo>
                    <a:pt x="1152" y="2054"/>
                  </a:lnTo>
                  <a:lnTo>
                    <a:pt x="1158" y="2046"/>
                  </a:lnTo>
                  <a:lnTo>
                    <a:pt x="1158" y="2037"/>
                  </a:lnTo>
                  <a:lnTo>
                    <a:pt x="1170" y="2037"/>
                  </a:lnTo>
                  <a:lnTo>
                    <a:pt x="1179" y="2037"/>
                  </a:lnTo>
                  <a:lnTo>
                    <a:pt x="1187" y="2037"/>
                  </a:lnTo>
                  <a:lnTo>
                    <a:pt x="1199" y="2037"/>
                  </a:lnTo>
                  <a:lnTo>
                    <a:pt x="1208" y="2040"/>
                  </a:lnTo>
                  <a:lnTo>
                    <a:pt x="1216" y="2043"/>
                  </a:lnTo>
                  <a:lnTo>
                    <a:pt x="1225" y="2040"/>
                  </a:lnTo>
                  <a:lnTo>
                    <a:pt x="1228" y="2031"/>
                  </a:lnTo>
                  <a:lnTo>
                    <a:pt x="1231" y="2023"/>
                  </a:lnTo>
                  <a:lnTo>
                    <a:pt x="1237" y="2014"/>
                  </a:lnTo>
                  <a:lnTo>
                    <a:pt x="1245" y="2005"/>
                  </a:lnTo>
                  <a:lnTo>
                    <a:pt x="1251" y="1997"/>
                  </a:lnTo>
                  <a:lnTo>
                    <a:pt x="1260" y="1991"/>
                  </a:lnTo>
                  <a:lnTo>
                    <a:pt x="1266" y="1982"/>
                  </a:lnTo>
                  <a:lnTo>
                    <a:pt x="1269" y="1974"/>
                  </a:lnTo>
                  <a:lnTo>
                    <a:pt x="1272" y="1965"/>
                  </a:lnTo>
                  <a:lnTo>
                    <a:pt x="1280" y="1962"/>
                  </a:lnTo>
                  <a:lnTo>
                    <a:pt x="1289" y="1962"/>
                  </a:lnTo>
                  <a:lnTo>
                    <a:pt x="1298" y="1959"/>
                  </a:lnTo>
                  <a:lnTo>
                    <a:pt x="1301" y="1950"/>
                  </a:lnTo>
                  <a:lnTo>
                    <a:pt x="1304" y="1942"/>
                  </a:lnTo>
                  <a:lnTo>
                    <a:pt x="1301" y="1933"/>
                  </a:lnTo>
                  <a:lnTo>
                    <a:pt x="1292" y="1925"/>
                  </a:lnTo>
                  <a:lnTo>
                    <a:pt x="1301" y="1919"/>
                  </a:lnTo>
                  <a:lnTo>
                    <a:pt x="1310" y="1927"/>
                  </a:lnTo>
                  <a:lnTo>
                    <a:pt x="1318" y="1933"/>
                  </a:lnTo>
                  <a:lnTo>
                    <a:pt x="1324" y="1942"/>
                  </a:lnTo>
                  <a:lnTo>
                    <a:pt x="1333" y="1950"/>
                  </a:lnTo>
                  <a:lnTo>
                    <a:pt x="1342" y="1950"/>
                  </a:lnTo>
                  <a:lnTo>
                    <a:pt x="1350" y="1950"/>
                  </a:lnTo>
                  <a:lnTo>
                    <a:pt x="1353" y="1942"/>
                  </a:lnTo>
                  <a:lnTo>
                    <a:pt x="1353" y="1933"/>
                  </a:lnTo>
                  <a:lnTo>
                    <a:pt x="1356" y="1925"/>
                  </a:lnTo>
                  <a:lnTo>
                    <a:pt x="1356" y="1916"/>
                  </a:lnTo>
                  <a:lnTo>
                    <a:pt x="1359" y="1907"/>
                  </a:lnTo>
                  <a:lnTo>
                    <a:pt x="1359" y="1899"/>
                  </a:lnTo>
                  <a:lnTo>
                    <a:pt x="1356" y="1890"/>
                  </a:lnTo>
                  <a:lnTo>
                    <a:pt x="1347" y="1881"/>
                  </a:lnTo>
                  <a:lnTo>
                    <a:pt x="1347" y="1870"/>
                  </a:lnTo>
                  <a:lnTo>
                    <a:pt x="1347" y="1861"/>
                  </a:lnTo>
                  <a:lnTo>
                    <a:pt x="1356" y="1855"/>
                  </a:lnTo>
                  <a:lnTo>
                    <a:pt x="1362" y="1847"/>
                  </a:lnTo>
                  <a:lnTo>
                    <a:pt x="1371" y="1844"/>
                  </a:lnTo>
                  <a:lnTo>
                    <a:pt x="1379" y="1835"/>
                  </a:lnTo>
                  <a:lnTo>
                    <a:pt x="1382" y="1827"/>
                  </a:lnTo>
                  <a:lnTo>
                    <a:pt x="1391" y="1821"/>
                  </a:lnTo>
                  <a:lnTo>
                    <a:pt x="1400" y="1815"/>
                  </a:lnTo>
                  <a:lnTo>
                    <a:pt x="1406" y="1806"/>
                  </a:lnTo>
                  <a:lnTo>
                    <a:pt x="1414" y="1801"/>
                  </a:lnTo>
                  <a:lnTo>
                    <a:pt x="1423" y="1801"/>
                  </a:lnTo>
                  <a:lnTo>
                    <a:pt x="1435" y="1798"/>
                  </a:lnTo>
                  <a:lnTo>
                    <a:pt x="1443" y="1792"/>
                  </a:lnTo>
                  <a:lnTo>
                    <a:pt x="1452" y="1792"/>
                  </a:lnTo>
                  <a:lnTo>
                    <a:pt x="1464" y="1789"/>
                  </a:lnTo>
                  <a:lnTo>
                    <a:pt x="1473" y="1789"/>
                  </a:lnTo>
                  <a:lnTo>
                    <a:pt x="1481" y="1789"/>
                  </a:lnTo>
                  <a:lnTo>
                    <a:pt x="1490" y="1786"/>
                  </a:lnTo>
                  <a:lnTo>
                    <a:pt x="1499" y="1786"/>
                  </a:lnTo>
                  <a:lnTo>
                    <a:pt x="1508" y="1786"/>
                  </a:lnTo>
                  <a:lnTo>
                    <a:pt x="1516" y="1783"/>
                  </a:lnTo>
                  <a:lnTo>
                    <a:pt x="1516" y="1775"/>
                  </a:lnTo>
                  <a:lnTo>
                    <a:pt x="1516" y="1766"/>
                  </a:lnTo>
                  <a:lnTo>
                    <a:pt x="1513" y="1757"/>
                  </a:lnTo>
                  <a:lnTo>
                    <a:pt x="1522" y="1752"/>
                  </a:lnTo>
                  <a:lnTo>
                    <a:pt x="1528" y="1743"/>
                  </a:lnTo>
                  <a:lnTo>
                    <a:pt x="1537" y="1737"/>
                  </a:lnTo>
                  <a:lnTo>
                    <a:pt x="1545" y="1737"/>
                  </a:lnTo>
                  <a:lnTo>
                    <a:pt x="1554" y="1734"/>
                  </a:lnTo>
                  <a:lnTo>
                    <a:pt x="1563" y="1729"/>
                  </a:lnTo>
                  <a:lnTo>
                    <a:pt x="1572" y="1729"/>
                  </a:lnTo>
                  <a:lnTo>
                    <a:pt x="1580" y="1737"/>
                  </a:lnTo>
                  <a:lnTo>
                    <a:pt x="1589" y="1743"/>
                  </a:lnTo>
                  <a:lnTo>
                    <a:pt x="1598" y="1749"/>
                  </a:lnTo>
                  <a:lnTo>
                    <a:pt x="1601" y="1757"/>
                  </a:lnTo>
                  <a:lnTo>
                    <a:pt x="1601" y="1766"/>
                  </a:lnTo>
                  <a:lnTo>
                    <a:pt x="1604" y="1775"/>
                  </a:lnTo>
                  <a:lnTo>
                    <a:pt x="1604" y="1783"/>
                  </a:lnTo>
                  <a:lnTo>
                    <a:pt x="1592" y="1789"/>
                  </a:lnTo>
                  <a:lnTo>
                    <a:pt x="1580" y="1789"/>
                  </a:lnTo>
                  <a:lnTo>
                    <a:pt x="1572" y="1792"/>
                  </a:lnTo>
                  <a:lnTo>
                    <a:pt x="1566" y="1801"/>
                  </a:lnTo>
                  <a:lnTo>
                    <a:pt x="1557" y="1806"/>
                  </a:lnTo>
                  <a:lnTo>
                    <a:pt x="1548" y="1812"/>
                  </a:lnTo>
                  <a:lnTo>
                    <a:pt x="1537" y="1815"/>
                  </a:lnTo>
                  <a:lnTo>
                    <a:pt x="1528" y="1818"/>
                  </a:lnTo>
                  <a:lnTo>
                    <a:pt x="1519" y="1824"/>
                  </a:lnTo>
                  <a:lnTo>
                    <a:pt x="1510" y="1829"/>
                  </a:lnTo>
                  <a:lnTo>
                    <a:pt x="1502" y="1829"/>
                  </a:lnTo>
                  <a:lnTo>
                    <a:pt x="1490" y="1832"/>
                  </a:lnTo>
                  <a:lnTo>
                    <a:pt x="1481" y="1835"/>
                  </a:lnTo>
                  <a:lnTo>
                    <a:pt x="1473" y="1835"/>
                  </a:lnTo>
                  <a:lnTo>
                    <a:pt x="1464" y="1841"/>
                  </a:lnTo>
                  <a:lnTo>
                    <a:pt x="1458" y="1850"/>
                  </a:lnTo>
                  <a:lnTo>
                    <a:pt x="1452" y="1858"/>
                  </a:lnTo>
                  <a:lnTo>
                    <a:pt x="1449" y="1867"/>
                  </a:lnTo>
                  <a:lnTo>
                    <a:pt x="1449" y="1876"/>
                  </a:lnTo>
                  <a:lnTo>
                    <a:pt x="1446" y="1884"/>
                  </a:lnTo>
                  <a:lnTo>
                    <a:pt x="1443" y="1893"/>
                  </a:lnTo>
                  <a:lnTo>
                    <a:pt x="1438" y="1901"/>
                  </a:lnTo>
                  <a:lnTo>
                    <a:pt x="1435" y="1910"/>
                  </a:lnTo>
                  <a:lnTo>
                    <a:pt x="1429" y="1919"/>
                  </a:lnTo>
                  <a:lnTo>
                    <a:pt x="1426" y="1927"/>
                  </a:lnTo>
                  <a:lnTo>
                    <a:pt x="1423" y="1936"/>
                  </a:lnTo>
                  <a:lnTo>
                    <a:pt x="1423" y="1945"/>
                  </a:lnTo>
                  <a:lnTo>
                    <a:pt x="1417" y="1953"/>
                  </a:lnTo>
                  <a:lnTo>
                    <a:pt x="1417" y="1962"/>
                  </a:lnTo>
                  <a:lnTo>
                    <a:pt x="1426" y="1962"/>
                  </a:lnTo>
                  <a:lnTo>
                    <a:pt x="1435" y="1974"/>
                  </a:lnTo>
                  <a:lnTo>
                    <a:pt x="1441" y="1982"/>
                  </a:lnTo>
                  <a:lnTo>
                    <a:pt x="1441" y="1991"/>
                  </a:lnTo>
                  <a:lnTo>
                    <a:pt x="1449" y="1991"/>
                  </a:lnTo>
                  <a:lnTo>
                    <a:pt x="1461" y="1991"/>
                  </a:lnTo>
                  <a:lnTo>
                    <a:pt x="1470" y="1991"/>
                  </a:lnTo>
                  <a:lnTo>
                    <a:pt x="1484" y="1994"/>
                  </a:lnTo>
                  <a:lnTo>
                    <a:pt x="1493" y="1994"/>
                  </a:lnTo>
                  <a:lnTo>
                    <a:pt x="1502" y="1994"/>
                  </a:lnTo>
                  <a:lnTo>
                    <a:pt x="1510" y="1991"/>
                  </a:lnTo>
                  <a:lnTo>
                    <a:pt x="1519" y="1997"/>
                  </a:lnTo>
                  <a:lnTo>
                    <a:pt x="1531" y="1988"/>
                  </a:lnTo>
                  <a:lnTo>
                    <a:pt x="1540" y="1991"/>
                  </a:lnTo>
                  <a:lnTo>
                    <a:pt x="1548" y="1994"/>
                  </a:lnTo>
                  <a:lnTo>
                    <a:pt x="1557" y="1997"/>
                  </a:lnTo>
                  <a:lnTo>
                    <a:pt x="1566" y="1997"/>
                  </a:lnTo>
                  <a:lnTo>
                    <a:pt x="1569" y="2005"/>
                  </a:lnTo>
                  <a:lnTo>
                    <a:pt x="1569" y="2014"/>
                  </a:lnTo>
                  <a:lnTo>
                    <a:pt x="1569" y="2023"/>
                  </a:lnTo>
                  <a:lnTo>
                    <a:pt x="1572" y="2031"/>
                  </a:lnTo>
                  <a:lnTo>
                    <a:pt x="1577" y="2040"/>
                  </a:lnTo>
                  <a:lnTo>
                    <a:pt x="1586" y="2048"/>
                  </a:lnTo>
                  <a:lnTo>
                    <a:pt x="1577" y="2040"/>
                  </a:lnTo>
                  <a:lnTo>
                    <a:pt x="1569" y="2037"/>
                  </a:lnTo>
                  <a:lnTo>
                    <a:pt x="1557" y="2037"/>
                  </a:lnTo>
                  <a:lnTo>
                    <a:pt x="1548" y="2040"/>
                  </a:lnTo>
                  <a:lnTo>
                    <a:pt x="1548" y="2048"/>
                  </a:lnTo>
                  <a:lnTo>
                    <a:pt x="1540" y="2054"/>
                  </a:lnTo>
                  <a:lnTo>
                    <a:pt x="1531" y="2051"/>
                  </a:lnTo>
                  <a:lnTo>
                    <a:pt x="1522" y="2043"/>
                  </a:lnTo>
                  <a:lnTo>
                    <a:pt x="1513" y="2034"/>
                  </a:lnTo>
                  <a:lnTo>
                    <a:pt x="1505" y="2031"/>
                  </a:lnTo>
                  <a:lnTo>
                    <a:pt x="1496" y="2031"/>
                  </a:lnTo>
                  <a:lnTo>
                    <a:pt x="1487" y="2028"/>
                  </a:lnTo>
                  <a:lnTo>
                    <a:pt x="1478" y="2025"/>
                  </a:lnTo>
                  <a:lnTo>
                    <a:pt x="1470" y="2023"/>
                  </a:lnTo>
                  <a:lnTo>
                    <a:pt x="1461" y="2020"/>
                  </a:lnTo>
                  <a:lnTo>
                    <a:pt x="1452" y="2017"/>
                  </a:lnTo>
                  <a:lnTo>
                    <a:pt x="1441" y="2011"/>
                  </a:lnTo>
                  <a:lnTo>
                    <a:pt x="1432" y="2011"/>
                  </a:lnTo>
                  <a:lnTo>
                    <a:pt x="1426" y="2020"/>
                  </a:lnTo>
                  <a:lnTo>
                    <a:pt x="1426" y="2028"/>
                  </a:lnTo>
                  <a:lnTo>
                    <a:pt x="1423" y="2037"/>
                  </a:lnTo>
                  <a:lnTo>
                    <a:pt x="1417" y="2046"/>
                  </a:lnTo>
                  <a:lnTo>
                    <a:pt x="1414" y="2054"/>
                  </a:lnTo>
                  <a:lnTo>
                    <a:pt x="1426" y="2060"/>
                  </a:lnTo>
                  <a:lnTo>
                    <a:pt x="1432" y="2069"/>
                  </a:lnTo>
                  <a:lnTo>
                    <a:pt x="1429" y="2077"/>
                  </a:lnTo>
                  <a:lnTo>
                    <a:pt x="1423" y="2086"/>
                  </a:lnTo>
                  <a:lnTo>
                    <a:pt x="1414" y="2089"/>
                  </a:lnTo>
                  <a:lnTo>
                    <a:pt x="1409" y="2097"/>
                  </a:lnTo>
                  <a:lnTo>
                    <a:pt x="1403" y="2106"/>
                  </a:lnTo>
                  <a:lnTo>
                    <a:pt x="1400" y="2115"/>
                  </a:lnTo>
                  <a:lnTo>
                    <a:pt x="1391" y="2112"/>
                  </a:lnTo>
                  <a:lnTo>
                    <a:pt x="1388" y="2103"/>
                  </a:lnTo>
                  <a:lnTo>
                    <a:pt x="1385" y="2095"/>
                  </a:lnTo>
                  <a:lnTo>
                    <a:pt x="1382" y="2086"/>
                  </a:lnTo>
                  <a:lnTo>
                    <a:pt x="1382" y="2077"/>
                  </a:lnTo>
                  <a:lnTo>
                    <a:pt x="1379" y="2069"/>
                  </a:lnTo>
                  <a:lnTo>
                    <a:pt x="1371" y="2063"/>
                  </a:lnTo>
                  <a:lnTo>
                    <a:pt x="1359" y="2063"/>
                  </a:lnTo>
                  <a:lnTo>
                    <a:pt x="1350" y="2063"/>
                  </a:lnTo>
                  <a:lnTo>
                    <a:pt x="1344" y="2072"/>
                  </a:lnTo>
                  <a:lnTo>
                    <a:pt x="1339" y="2080"/>
                  </a:lnTo>
                  <a:lnTo>
                    <a:pt x="1333" y="2089"/>
                  </a:lnTo>
                  <a:lnTo>
                    <a:pt x="1327" y="2097"/>
                  </a:lnTo>
                  <a:lnTo>
                    <a:pt x="1321" y="2106"/>
                  </a:lnTo>
                  <a:lnTo>
                    <a:pt x="1312" y="2109"/>
                  </a:lnTo>
                  <a:lnTo>
                    <a:pt x="1304" y="2112"/>
                  </a:lnTo>
                  <a:lnTo>
                    <a:pt x="1304" y="2120"/>
                  </a:lnTo>
                  <a:lnTo>
                    <a:pt x="1301" y="2129"/>
                  </a:lnTo>
                  <a:lnTo>
                    <a:pt x="1298" y="2138"/>
                  </a:lnTo>
                  <a:lnTo>
                    <a:pt x="1295" y="2146"/>
                  </a:lnTo>
                  <a:lnTo>
                    <a:pt x="1295" y="2095"/>
                  </a:lnTo>
                  <a:lnTo>
                    <a:pt x="1304" y="2103"/>
                  </a:lnTo>
                  <a:lnTo>
                    <a:pt x="1304" y="2115"/>
                  </a:lnTo>
                  <a:lnTo>
                    <a:pt x="1301" y="2123"/>
                  </a:lnTo>
                  <a:lnTo>
                    <a:pt x="1298" y="2132"/>
                  </a:lnTo>
                  <a:lnTo>
                    <a:pt x="1298" y="2141"/>
                  </a:lnTo>
                  <a:lnTo>
                    <a:pt x="1295" y="2149"/>
                  </a:lnTo>
                  <a:lnTo>
                    <a:pt x="1292" y="2161"/>
                  </a:lnTo>
                  <a:lnTo>
                    <a:pt x="1289" y="2169"/>
                  </a:lnTo>
                  <a:lnTo>
                    <a:pt x="1280" y="2175"/>
                  </a:lnTo>
                  <a:lnTo>
                    <a:pt x="1278" y="2167"/>
                  </a:lnTo>
                  <a:lnTo>
                    <a:pt x="1275" y="2155"/>
                  </a:lnTo>
                  <a:lnTo>
                    <a:pt x="1272" y="2146"/>
                  </a:lnTo>
                  <a:lnTo>
                    <a:pt x="1263" y="2146"/>
                  </a:lnTo>
                  <a:lnTo>
                    <a:pt x="1251" y="2149"/>
                  </a:lnTo>
                  <a:lnTo>
                    <a:pt x="1245" y="2158"/>
                  </a:lnTo>
                  <a:lnTo>
                    <a:pt x="1240" y="2167"/>
                  </a:lnTo>
                  <a:lnTo>
                    <a:pt x="1228" y="2167"/>
                  </a:lnTo>
                  <a:lnTo>
                    <a:pt x="1216" y="2167"/>
                  </a:lnTo>
                  <a:lnTo>
                    <a:pt x="1213" y="2155"/>
                  </a:lnTo>
                  <a:lnTo>
                    <a:pt x="1213" y="2144"/>
                  </a:lnTo>
                  <a:lnTo>
                    <a:pt x="1205" y="2138"/>
                  </a:lnTo>
                  <a:lnTo>
                    <a:pt x="1196" y="2132"/>
                  </a:lnTo>
                  <a:lnTo>
                    <a:pt x="1179" y="2126"/>
                  </a:lnTo>
                  <a:lnTo>
                    <a:pt x="1170" y="2123"/>
                  </a:lnTo>
                  <a:lnTo>
                    <a:pt x="1158" y="2123"/>
                  </a:lnTo>
                  <a:lnTo>
                    <a:pt x="1152" y="2132"/>
                  </a:lnTo>
                  <a:lnTo>
                    <a:pt x="1141" y="2135"/>
                  </a:lnTo>
                  <a:lnTo>
                    <a:pt x="1132" y="2132"/>
                  </a:lnTo>
                  <a:lnTo>
                    <a:pt x="1123" y="2123"/>
                  </a:lnTo>
                  <a:lnTo>
                    <a:pt x="1114" y="2118"/>
                  </a:lnTo>
                  <a:lnTo>
                    <a:pt x="1106" y="2115"/>
                  </a:lnTo>
                  <a:lnTo>
                    <a:pt x="1097" y="2115"/>
                  </a:lnTo>
                  <a:lnTo>
                    <a:pt x="1094" y="2106"/>
                  </a:lnTo>
                  <a:lnTo>
                    <a:pt x="1094" y="2097"/>
                  </a:lnTo>
                  <a:lnTo>
                    <a:pt x="1094" y="2089"/>
                  </a:lnTo>
                  <a:lnTo>
                    <a:pt x="1091" y="2077"/>
                  </a:lnTo>
                  <a:lnTo>
                    <a:pt x="1091" y="2069"/>
                  </a:lnTo>
                  <a:lnTo>
                    <a:pt x="1082" y="2066"/>
                  </a:lnTo>
                  <a:lnTo>
                    <a:pt x="1074" y="2066"/>
                  </a:lnTo>
                  <a:lnTo>
                    <a:pt x="1065" y="2066"/>
                  </a:lnTo>
                  <a:lnTo>
                    <a:pt x="1056" y="2066"/>
                  </a:lnTo>
                  <a:lnTo>
                    <a:pt x="1048" y="2066"/>
                  </a:lnTo>
                  <a:lnTo>
                    <a:pt x="1039" y="2066"/>
                  </a:lnTo>
                  <a:lnTo>
                    <a:pt x="1027" y="2063"/>
                  </a:lnTo>
                  <a:lnTo>
                    <a:pt x="1021" y="2054"/>
                  </a:lnTo>
                  <a:lnTo>
                    <a:pt x="1021" y="2046"/>
                  </a:lnTo>
                  <a:lnTo>
                    <a:pt x="1016" y="2048"/>
                  </a:lnTo>
                  <a:lnTo>
                    <a:pt x="1036" y="2031"/>
                  </a:lnTo>
                  <a:lnTo>
                    <a:pt x="1048" y="2020"/>
                  </a:lnTo>
                  <a:lnTo>
                    <a:pt x="1059" y="2017"/>
                  </a:lnTo>
                  <a:lnTo>
                    <a:pt x="1062" y="2025"/>
                  </a:lnTo>
                  <a:lnTo>
                    <a:pt x="1050" y="2025"/>
                  </a:lnTo>
                  <a:lnTo>
                    <a:pt x="1059" y="2025"/>
                  </a:lnTo>
                  <a:lnTo>
                    <a:pt x="1071" y="2025"/>
                  </a:lnTo>
                  <a:lnTo>
                    <a:pt x="1080" y="2025"/>
                  </a:lnTo>
                  <a:lnTo>
                    <a:pt x="1088" y="2028"/>
                  </a:lnTo>
                  <a:lnTo>
                    <a:pt x="1097" y="2028"/>
                  </a:lnTo>
                  <a:lnTo>
                    <a:pt x="1106" y="2025"/>
                  </a:lnTo>
                  <a:lnTo>
                    <a:pt x="1109" y="2017"/>
                  </a:lnTo>
                  <a:lnTo>
                    <a:pt x="1112" y="2008"/>
                  </a:lnTo>
                  <a:lnTo>
                    <a:pt x="1103" y="1999"/>
                  </a:lnTo>
                  <a:lnTo>
                    <a:pt x="1100" y="1991"/>
                  </a:lnTo>
                  <a:lnTo>
                    <a:pt x="1094" y="1982"/>
                  </a:lnTo>
                  <a:lnTo>
                    <a:pt x="1091" y="1974"/>
                  </a:lnTo>
                  <a:lnTo>
                    <a:pt x="1082" y="1971"/>
                  </a:lnTo>
                  <a:lnTo>
                    <a:pt x="1077" y="1979"/>
                  </a:lnTo>
                  <a:lnTo>
                    <a:pt x="1077" y="1991"/>
                  </a:lnTo>
                  <a:lnTo>
                    <a:pt x="1077" y="1999"/>
                  </a:lnTo>
                  <a:lnTo>
                    <a:pt x="1071" y="2008"/>
                  </a:lnTo>
                  <a:lnTo>
                    <a:pt x="1068" y="2020"/>
                  </a:lnTo>
                  <a:lnTo>
                    <a:pt x="1068" y="2028"/>
                  </a:lnTo>
                  <a:lnTo>
                    <a:pt x="1059" y="2031"/>
                  </a:lnTo>
                  <a:lnTo>
                    <a:pt x="1048" y="2031"/>
                  </a:lnTo>
                  <a:lnTo>
                    <a:pt x="1039" y="2031"/>
                  </a:lnTo>
                  <a:lnTo>
                    <a:pt x="1030" y="2031"/>
                  </a:lnTo>
                  <a:lnTo>
                    <a:pt x="1027" y="2020"/>
                  </a:lnTo>
                  <a:lnTo>
                    <a:pt x="1027" y="2011"/>
                  </a:lnTo>
                  <a:lnTo>
                    <a:pt x="1027" y="2002"/>
                  </a:lnTo>
                  <a:lnTo>
                    <a:pt x="1027" y="1994"/>
                  </a:lnTo>
                  <a:lnTo>
                    <a:pt x="1027" y="1985"/>
                  </a:lnTo>
                  <a:lnTo>
                    <a:pt x="1030" y="1976"/>
                  </a:lnTo>
                  <a:lnTo>
                    <a:pt x="1039" y="1974"/>
                  </a:lnTo>
                  <a:lnTo>
                    <a:pt x="1042" y="1982"/>
                  </a:lnTo>
                  <a:lnTo>
                    <a:pt x="1042" y="1994"/>
                  </a:lnTo>
                  <a:lnTo>
                    <a:pt x="1045" y="2002"/>
                  </a:lnTo>
                  <a:lnTo>
                    <a:pt x="1050" y="2011"/>
                  </a:lnTo>
                  <a:lnTo>
                    <a:pt x="1062" y="2014"/>
                  </a:lnTo>
                  <a:lnTo>
                    <a:pt x="1074" y="2014"/>
                  </a:lnTo>
                  <a:lnTo>
                    <a:pt x="1082" y="2005"/>
                  </a:lnTo>
                  <a:lnTo>
                    <a:pt x="1082" y="1997"/>
                  </a:lnTo>
                  <a:lnTo>
                    <a:pt x="1074" y="1985"/>
                  </a:lnTo>
                  <a:lnTo>
                    <a:pt x="1065" y="1979"/>
                  </a:lnTo>
                  <a:lnTo>
                    <a:pt x="1065" y="1971"/>
                  </a:lnTo>
                  <a:lnTo>
                    <a:pt x="1074" y="1968"/>
                  </a:lnTo>
                  <a:lnTo>
                    <a:pt x="1082" y="1968"/>
                  </a:lnTo>
                  <a:lnTo>
                    <a:pt x="1091" y="1962"/>
                  </a:lnTo>
                  <a:lnTo>
                    <a:pt x="1091" y="1953"/>
                  </a:lnTo>
                  <a:lnTo>
                    <a:pt x="1091" y="1945"/>
                  </a:lnTo>
                  <a:lnTo>
                    <a:pt x="1100" y="1939"/>
                  </a:lnTo>
                  <a:lnTo>
                    <a:pt x="1109" y="1936"/>
                  </a:lnTo>
                  <a:lnTo>
                    <a:pt x="1117" y="1936"/>
                  </a:lnTo>
                  <a:lnTo>
                    <a:pt x="1123" y="1927"/>
                  </a:lnTo>
                  <a:lnTo>
                    <a:pt x="1126" y="1919"/>
                  </a:lnTo>
                  <a:lnTo>
                    <a:pt x="1126" y="1910"/>
                  </a:lnTo>
                  <a:lnTo>
                    <a:pt x="1126" y="1901"/>
                  </a:lnTo>
                  <a:lnTo>
                    <a:pt x="1114" y="1901"/>
                  </a:lnTo>
                  <a:lnTo>
                    <a:pt x="1106" y="1901"/>
                  </a:lnTo>
                  <a:lnTo>
                    <a:pt x="1097" y="1901"/>
                  </a:lnTo>
                  <a:lnTo>
                    <a:pt x="1088" y="1904"/>
                  </a:lnTo>
                  <a:lnTo>
                    <a:pt x="1080" y="1910"/>
                  </a:lnTo>
                  <a:lnTo>
                    <a:pt x="1077" y="1925"/>
                  </a:lnTo>
                  <a:lnTo>
                    <a:pt x="1077" y="1933"/>
                  </a:lnTo>
                  <a:lnTo>
                    <a:pt x="1068" y="1933"/>
                  </a:lnTo>
                  <a:lnTo>
                    <a:pt x="1059" y="1922"/>
                  </a:lnTo>
                  <a:lnTo>
                    <a:pt x="1056" y="1913"/>
                  </a:lnTo>
                  <a:lnTo>
                    <a:pt x="1068" y="1910"/>
                  </a:lnTo>
                  <a:lnTo>
                    <a:pt x="1077" y="1910"/>
                  </a:lnTo>
                  <a:lnTo>
                    <a:pt x="1065" y="1901"/>
                  </a:lnTo>
                  <a:lnTo>
                    <a:pt x="1056" y="1896"/>
                  </a:lnTo>
                  <a:lnTo>
                    <a:pt x="1056" y="1904"/>
                  </a:lnTo>
                  <a:lnTo>
                    <a:pt x="1048" y="1910"/>
                  </a:lnTo>
                  <a:lnTo>
                    <a:pt x="1039" y="1919"/>
                  </a:lnTo>
                  <a:lnTo>
                    <a:pt x="1036" y="1927"/>
                  </a:lnTo>
                  <a:lnTo>
                    <a:pt x="1030" y="1936"/>
                  </a:lnTo>
                  <a:lnTo>
                    <a:pt x="1024" y="1945"/>
                  </a:lnTo>
                  <a:lnTo>
                    <a:pt x="1016" y="1950"/>
                  </a:lnTo>
                  <a:lnTo>
                    <a:pt x="1004" y="1953"/>
                  </a:lnTo>
                  <a:lnTo>
                    <a:pt x="1001" y="1962"/>
                  </a:lnTo>
                  <a:lnTo>
                    <a:pt x="1001" y="1971"/>
                  </a:lnTo>
                  <a:lnTo>
                    <a:pt x="1001" y="1979"/>
                  </a:lnTo>
                  <a:lnTo>
                    <a:pt x="1001" y="1988"/>
                  </a:lnTo>
                  <a:lnTo>
                    <a:pt x="1001" y="1997"/>
                  </a:lnTo>
                  <a:lnTo>
                    <a:pt x="995" y="2005"/>
                  </a:lnTo>
                  <a:lnTo>
                    <a:pt x="986" y="2011"/>
                  </a:lnTo>
                  <a:lnTo>
                    <a:pt x="981" y="2020"/>
                  </a:lnTo>
                  <a:lnTo>
                    <a:pt x="981" y="2028"/>
                  </a:lnTo>
                  <a:lnTo>
                    <a:pt x="981" y="2037"/>
                  </a:lnTo>
                  <a:lnTo>
                    <a:pt x="978" y="2046"/>
                  </a:lnTo>
                  <a:lnTo>
                    <a:pt x="978" y="2054"/>
                  </a:lnTo>
                  <a:lnTo>
                    <a:pt x="983" y="2046"/>
                  </a:lnTo>
                  <a:lnTo>
                    <a:pt x="983" y="2037"/>
                  </a:lnTo>
                  <a:lnTo>
                    <a:pt x="975" y="2034"/>
                  </a:lnTo>
                  <a:lnTo>
                    <a:pt x="966" y="2034"/>
                  </a:lnTo>
                  <a:lnTo>
                    <a:pt x="957" y="2034"/>
                  </a:lnTo>
                  <a:lnTo>
                    <a:pt x="949" y="2023"/>
                  </a:lnTo>
                  <a:lnTo>
                    <a:pt x="949" y="2011"/>
                  </a:lnTo>
                  <a:lnTo>
                    <a:pt x="940" y="2008"/>
                  </a:lnTo>
                  <a:lnTo>
                    <a:pt x="931" y="2008"/>
                  </a:lnTo>
                  <a:lnTo>
                    <a:pt x="922" y="2011"/>
                  </a:lnTo>
                  <a:lnTo>
                    <a:pt x="914" y="2008"/>
                  </a:lnTo>
                  <a:lnTo>
                    <a:pt x="899" y="2002"/>
                  </a:lnTo>
                  <a:lnTo>
                    <a:pt x="890" y="1988"/>
                  </a:lnTo>
                  <a:lnTo>
                    <a:pt x="885" y="1976"/>
                  </a:lnTo>
                  <a:lnTo>
                    <a:pt x="876" y="1976"/>
                  </a:lnTo>
                  <a:lnTo>
                    <a:pt x="867" y="1979"/>
                  </a:lnTo>
                  <a:lnTo>
                    <a:pt x="861" y="1988"/>
                  </a:lnTo>
                  <a:lnTo>
                    <a:pt x="852" y="1994"/>
                  </a:lnTo>
                  <a:lnTo>
                    <a:pt x="844" y="1999"/>
                  </a:lnTo>
                  <a:lnTo>
                    <a:pt x="835" y="2002"/>
                  </a:lnTo>
                  <a:lnTo>
                    <a:pt x="826" y="2005"/>
                  </a:lnTo>
                  <a:lnTo>
                    <a:pt x="818" y="2008"/>
                  </a:lnTo>
                  <a:lnTo>
                    <a:pt x="809" y="2008"/>
                  </a:lnTo>
                  <a:lnTo>
                    <a:pt x="797" y="2011"/>
                  </a:lnTo>
                  <a:lnTo>
                    <a:pt x="788" y="2011"/>
                  </a:lnTo>
                  <a:lnTo>
                    <a:pt x="797" y="2011"/>
                  </a:lnTo>
                  <a:lnTo>
                    <a:pt x="812" y="2014"/>
                  </a:lnTo>
                  <a:lnTo>
                    <a:pt x="803" y="2017"/>
                  </a:lnTo>
                  <a:lnTo>
                    <a:pt x="794" y="2020"/>
                  </a:lnTo>
                  <a:lnTo>
                    <a:pt x="803" y="2031"/>
                  </a:lnTo>
                  <a:lnTo>
                    <a:pt x="794" y="2031"/>
                  </a:lnTo>
                  <a:lnTo>
                    <a:pt x="786" y="2028"/>
                  </a:lnTo>
                  <a:lnTo>
                    <a:pt x="777" y="2023"/>
                  </a:lnTo>
                  <a:lnTo>
                    <a:pt x="771" y="2014"/>
                  </a:lnTo>
                  <a:lnTo>
                    <a:pt x="762" y="2011"/>
                  </a:lnTo>
                  <a:lnTo>
                    <a:pt x="751" y="2008"/>
                  </a:lnTo>
                  <a:lnTo>
                    <a:pt x="742" y="2008"/>
                  </a:lnTo>
                  <a:lnTo>
                    <a:pt x="733" y="2005"/>
                  </a:lnTo>
                  <a:lnTo>
                    <a:pt x="736" y="2002"/>
                  </a:lnTo>
                  <a:lnTo>
                    <a:pt x="721" y="1985"/>
                  </a:lnTo>
                  <a:lnTo>
                    <a:pt x="713" y="1985"/>
                  </a:lnTo>
                  <a:lnTo>
                    <a:pt x="710" y="1994"/>
                  </a:lnTo>
                  <a:lnTo>
                    <a:pt x="716" y="2005"/>
                  </a:lnTo>
                  <a:lnTo>
                    <a:pt x="713" y="2014"/>
                  </a:lnTo>
                  <a:lnTo>
                    <a:pt x="704" y="2020"/>
                  </a:lnTo>
                  <a:lnTo>
                    <a:pt x="704" y="2028"/>
                  </a:lnTo>
                  <a:lnTo>
                    <a:pt x="692" y="2031"/>
                  </a:lnTo>
                  <a:lnTo>
                    <a:pt x="684" y="2025"/>
                  </a:lnTo>
                  <a:lnTo>
                    <a:pt x="672" y="2020"/>
                  </a:lnTo>
                  <a:lnTo>
                    <a:pt x="660" y="2017"/>
                  </a:lnTo>
                  <a:lnTo>
                    <a:pt x="646" y="2011"/>
                  </a:lnTo>
                  <a:lnTo>
                    <a:pt x="634" y="2008"/>
                  </a:lnTo>
                  <a:lnTo>
                    <a:pt x="625" y="2005"/>
                  </a:lnTo>
                  <a:lnTo>
                    <a:pt x="622" y="1997"/>
                  </a:lnTo>
                  <a:lnTo>
                    <a:pt x="620" y="1988"/>
                  </a:lnTo>
                  <a:lnTo>
                    <a:pt x="611" y="1979"/>
                  </a:lnTo>
                  <a:lnTo>
                    <a:pt x="608" y="1971"/>
                  </a:lnTo>
                  <a:lnTo>
                    <a:pt x="599" y="1968"/>
                  </a:lnTo>
                  <a:lnTo>
                    <a:pt x="590" y="1974"/>
                  </a:lnTo>
                  <a:lnTo>
                    <a:pt x="588" y="1985"/>
                  </a:lnTo>
                  <a:lnTo>
                    <a:pt x="585" y="1997"/>
                  </a:lnTo>
                  <a:lnTo>
                    <a:pt x="576" y="2002"/>
                  </a:lnTo>
                  <a:lnTo>
                    <a:pt x="567" y="1991"/>
                  </a:lnTo>
                  <a:lnTo>
                    <a:pt x="561" y="1982"/>
                  </a:lnTo>
                  <a:lnTo>
                    <a:pt x="553" y="1976"/>
                  </a:lnTo>
                  <a:lnTo>
                    <a:pt x="547" y="1968"/>
                  </a:lnTo>
                  <a:lnTo>
                    <a:pt x="541" y="1959"/>
                  </a:lnTo>
                  <a:lnTo>
                    <a:pt x="532" y="1956"/>
                  </a:lnTo>
                  <a:lnTo>
                    <a:pt x="524" y="1953"/>
                  </a:lnTo>
                  <a:lnTo>
                    <a:pt x="518" y="1945"/>
                  </a:lnTo>
                  <a:lnTo>
                    <a:pt x="509" y="1939"/>
                  </a:lnTo>
                  <a:lnTo>
                    <a:pt x="500" y="1939"/>
                  </a:lnTo>
                  <a:lnTo>
                    <a:pt x="494" y="1948"/>
                  </a:lnTo>
                  <a:lnTo>
                    <a:pt x="491" y="1956"/>
                  </a:lnTo>
                  <a:lnTo>
                    <a:pt x="486" y="1965"/>
                  </a:lnTo>
                  <a:lnTo>
                    <a:pt x="491" y="1974"/>
                  </a:lnTo>
                  <a:lnTo>
                    <a:pt x="500" y="1976"/>
                  </a:lnTo>
                  <a:lnTo>
                    <a:pt x="503" y="1985"/>
                  </a:lnTo>
                  <a:lnTo>
                    <a:pt x="506" y="1994"/>
                  </a:lnTo>
                  <a:lnTo>
                    <a:pt x="509" y="2002"/>
                  </a:lnTo>
                  <a:lnTo>
                    <a:pt x="512" y="2011"/>
                  </a:lnTo>
                  <a:lnTo>
                    <a:pt x="515" y="2020"/>
                  </a:lnTo>
                  <a:lnTo>
                    <a:pt x="518" y="2028"/>
                  </a:lnTo>
                  <a:lnTo>
                    <a:pt x="518" y="2037"/>
                  </a:lnTo>
                  <a:lnTo>
                    <a:pt x="518" y="2046"/>
                  </a:lnTo>
                  <a:lnTo>
                    <a:pt x="518" y="2054"/>
                  </a:lnTo>
                  <a:lnTo>
                    <a:pt x="515" y="2063"/>
                  </a:lnTo>
                  <a:lnTo>
                    <a:pt x="506" y="2072"/>
                  </a:lnTo>
                  <a:lnTo>
                    <a:pt x="503" y="2080"/>
                  </a:lnTo>
                  <a:lnTo>
                    <a:pt x="503" y="2089"/>
                  </a:lnTo>
                  <a:lnTo>
                    <a:pt x="503" y="2097"/>
                  </a:lnTo>
                  <a:lnTo>
                    <a:pt x="500" y="2106"/>
                  </a:lnTo>
                  <a:lnTo>
                    <a:pt x="491" y="2112"/>
                  </a:lnTo>
                  <a:lnTo>
                    <a:pt x="483" y="2118"/>
                  </a:lnTo>
                  <a:lnTo>
                    <a:pt x="483" y="2126"/>
                  </a:lnTo>
                  <a:lnTo>
                    <a:pt x="480" y="2138"/>
                  </a:lnTo>
                  <a:lnTo>
                    <a:pt x="477" y="2149"/>
                  </a:lnTo>
                  <a:lnTo>
                    <a:pt x="468" y="2144"/>
                  </a:lnTo>
                  <a:lnTo>
                    <a:pt x="459" y="2144"/>
                  </a:lnTo>
                  <a:lnTo>
                    <a:pt x="451" y="2144"/>
                  </a:lnTo>
                  <a:lnTo>
                    <a:pt x="442" y="2152"/>
                  </a:lnTo>
                  <a:lnTo>
                    <a:pt x="436" y="2161"/>
                  </a:lnTo>
                  <a:lnTo>
                    <a:pt x="427" y="2167"/>
                  </a:lnTo>
                  <a:lnTo>
                    <a:pt x="419" y="2175"/>
                  </a:lnTo>
                  <a:lnTo>
                    <a:pt x="407" y="2181"/>
                  </a:lnTo>
                  <a:lnTo>
                    <a:pt x="398" y="2184"/>
                  </a:lnTo>
                  <a:lnTo>
                    <a:pt x="393" y="2175"/>
                  </a:lnTo>
                  <a:lnTo>
                    <a:pt x="390" y="2167"/>
                  </a:lnTo>
                  <a:lnTo>
                    <a:pt x="384" y="2158"/>
                  </a:lnTo>
                  <a:lnTo>
                    <a:pt x="369" y="2149"/>
                  </a:lnTo>
                  <a:lnTo>
                    <a:pt x="358" y="2144"/>
                  </a:lnTo>
                  <a:lnTo>
                    <a:pt x="355" y="2135"/>
                  </a:lnTo>
                  <a:lnTo>
                    <a:pt x="349" y="2126"/>
                  </a:lnTo>
                  <a:lnTo>
                    <a:pt x="343" y="2118"/>
                  </a:lnTo>
                  <a:lnTo>
                    <a:pt x="334" y="2109"/>
                  </a:lnTo>
                  <a:lnTo>
                    <a:pt x="328" y="2100"/>
                  </a:lnTo>
                  <a:lnTo>
                    <a:pt x="320" y="2092"/>
                  </a:lnTo>
                  <a:lnTo>
                    <a:pt x="317" y="2080"/>
                  </a:lnTo>
                  <a:lnTo>
                    <a:pt x="317" y="2048"/>
                  </a:lnTo>
                  <a:lnTo>
                    <a:pt x="311" y="2060"/>
                  </a:lnTo>
                  <a:lnTo>
                    <a:pt x="302" y="2057"/>
                  </a:lnTo>
                  <a:lnTo>
                    <a:pt x="294" y="2051"/>
                  </a:lnTo>
                  <a:lnTo>
                    <a:pt x="282" y="2048"/>
                  </a:lnTo>
                  <a:lnTo>
                    <a:pt x="276" y="2040"/>
                  </a:lnTo>
                  <a:lnTo>
                    <a:pt x="270" y="2031"/>
                  </a:lnTo>
                  <a:lnTo>
                    <a:pt x="264" y="2023"/>
                  </a:lnTo>
                  <a:lnTo>
                    <a:pt x="259" y="2014"/>
                  </a:lnTo>
                  <a:lnTo>
                    <a:pt x="250" y="2008"/>
                  </a:lnTo>
                  <a:lnTo>
                    <a:pt x="241" y="2011"/>
                  </a:lnTo>
                  <a:lnTo>
                    <a:pt x="232" y="2011"/>
                  </a:lnTo>
                  <a:lnTo>
                    <a:pt x="227" y="2002"/>
                  </a:lnTo>
                  <a:lnTo>
                    <a:pt x="218" y="2002"/>
                  </a:lnTo>
                  <a:lnTo>
                    <a:pt x="209" y="2002"/>
                  </a:lnTo>
                  <a:lnTo>
                    <a:pt x="200" y="2002"/>
                  </a:lnTo>
                  <a:lnTo>
                    <a:pt x="203" y="2014"/>
                  </a:lnTo>
                  <a:lnTo>
                    <a:pt x="203" y="2025"/>
                  </a:lnTo>
                  <a:lnTo>
                    <a:pt x="200" y="2034"/>
                  </a:lnTo>
                  <a:lnTo>
                    <a:pt x="189" y="2037"/>
                  </a:lnTo>
                  <a:lnTo>
                    <a:pt x="180" y="2043"/>
                  </a:lnTo>
                  <a:lnTo>
                    <a:pt x="171" y="2051"/>
                  </a:lnTo>
                  <a:lnTo>
                    <a:pt x="168" y="2060"/>
                  </a:lnTo>
                  <a:lnTo>
                    <a:pt x="163" y="2072"/>
                  </a:lnTo>
                  <a:lnTo>
                    <a:pt x="154" y="2077"/>
                  </a:lnTo>
                  <a:lnTo>
                    <a:pt x="145" y="2083"/>
                  </a:lnTo>
                  <a:lnTo>
                    <a:pt x="136" y="2086"/>
                  </a:lnTo>
                  <a:lnTo>
                    <a:pt x="122" y="2092"/>
                  </a:lnTo>
                  <a:lnTo>
                    <a:pt x="113" y="2095"/>
                  </a:lnTo>
                  <a:lnTo>
                    <a:pt x="104" y="2097"/>
                  </a:lnTo>
                  <a:lnTo>
                    <a:pt x="96" y="2103"/>
                  </a:lnTo>
                  <a:lnTo>
                    <a:pt x="87" y="2109"/>
                  </a:lnTo>
                  <a:lnTo>
                    <a:pt x="78" y="2112"/>
                  </a:lnTo>
                  <a:lnTo>
                    <a:pt x="66" y="2112"/>
                  </a:lnTo>
                  <a:lnTo>
                    <a:pt x="58" y="2115"/>
                  </a:lnTo>
                  <a:lnTo>
                    <a:pt x="55" y="2123"/>
                  </a:lnTo>
                  <a:lnTo>
                    <a:pt x="49" y="2132"/>
                  </a:lnTo>
                  <a:lnTo>
                    <a:pt x="46" y="2141"/>
                  </a:lnTo>
                  <a:lnTo>
                    <a:pt x="58" y="2146"/>
                  </a:lnTo>
                  <a:lnTo>
                    <a:pt x="66" y="2146"/>
                  </a:lnTo>
                  <a:lnTo>
                    <a:pt x="75" y="2146"/>
                  </a:lnTo>
                  <a:lnTo>
                    <a:pt x="66" y="2158"/>
                  </a:lnTo>
                  <a:lnTo>
                    <a:pt x="55" y="2164"/>
                  </a:lnTo>
                  <a:lnTo>
                    <a:pt x="43" y="2169"/>
                  </a:lnTo>
                  <a:lnTo>
                    <a:pt x="34" y="2175"/>
                  </a:lnTo>
                  <a:lnTo>
                    <a:pt x="26" y="2181"/>
                  </a:lnTo>
                  <a:lnTo>
                    <a:pt x="23" y="2190"/>
                  </a:lnTo>
                  <a:lnTo>
                    <a:pt x="23" y="2198"/>
                  </a:lnTo>
                  <a:lnTo>
                    <a:pt x="14" y="2207"/>
                  </a:lnTo>
                  <a:lnTo>
                    <a:pt x="5" y="2210"/>
                  </a:lnTo>
                  <a:lnTo>
                    <a:pt x="0" y="2218"/>
                  </a:lnTo>
                  <a:lnTo>
                    <a:pt x="5" y="2227"/>
                  </a:lnTo>
                  <a:lnTo>
                    <a:pt x="14" y="2236"/>
                  </a:lnTo>
                  <a:lnTo>
                    <a:pt x="23" y="2244"/>
                  </a:lnTo>
                  <a:lnTo>
                    <a:pt x="37" y="2233"/>
                  </a:lnTo>
                  <a:lnTo>
                    <a:pt x="46" y="2230"/>
                  </a:lnTo>
                  <a:lnTo>
                    <a:pt x="49" y="2239"/>
                  </a:lnTo>
                  <a:lnTo>
                    <a:pt x="49" y="2247"/>
                  </a:lnTo>
                  <a:lnTo>
                    <a:pt x="52" y="2256"/>
                  </a:lnTo>
                  <a:lnTo>
                    <a:pt x="55" y="2265"/>
                  </a:lnTo>
                  <a:lnTo>
                    <a:pt x="58" y="2273"/>
                  </a:lnTo>
                  <a:lnTo>
                    <a:pt x="58" y="2282"/>
                  </a:lnTo>
                  <a:lnTo>
                    <a:pt x="61" y="2291"/>
                  </a:lnTo>
                  <a:lnTo>
                    <a:pt x="61" y="2299"/>
                  </a:lnTo>
                  <a:lnTo>
                    <a:pt x="58" y="2308"/>
                  </a:lnTo>
                  <a:lnTo>
                    <a:pt x="52" y="2316"/>
                  </a:lnTo>
                  <a:lnTo>
                    <a:pt x="52" y="2325"/>
                  </a:lnTo>
                  <a:lnTo>
                    <a:pt x="52" y="2334"/>
                  </a:lnTo>
                  <a:lnTo>
                    <a:pt x="49" y="2342"/>
                  </a:lnTo>
                  <a:lnTo>
                    <a:pt x="58" y="2348"/>
                  </a:lnTo>
                  <a:lnTo>
                    <a:pt x="69" y="2348"/>
                  </a:lnTo>
                  <a:lnTo>
                    <a:pt x="78" y="2348"/>
                  </a:lnTo>
                  <a:lnTo>
                    <a:pt x="87" y="2357"/>
                  </a:lnTo>
                  <a:lnTo>
                    <a:pt x="96" y="2360"/>
                  </a:lnTo>
                  <a:lnTo>
                    <a:pt x="104" y="2360"/>
                  </a:lnTo>
                  <a:lnTo>
                    <a:pt x="113" y="2365"/>
                  </a:lnTo>
                  <a:lnTo>
                    <a:pt x="122" y="2371"/>
                  </a:lnTo>
                  <a:lnTo>
                    <a:pt x="128" y="2380"/>
                  </a:lnTo>
                  <a:lnTo>
                    <a:pt x="139" y="2389"/>
                  </a:lnTo>
                  <a:lnTo>
                    <a:pt x="142" y="2397"/>
                  </a:lnTo>
                  <a:lnTo>
                    <a:pt x="151" y="2406"/>
                  </a:lnTo>
                  <a:lnTo>
                    <a:pt x="160" y="2414"/>
                  </a:lnTo>
                  <a:lnTo>
                    <a:pt x="168" y="2417"/>
                  </a:lnTo>
                  <a:lnTo>
                    <a:pt x="177" y="2420"/>
                  </a:lnTo>
                  <a:lnTo>
                    <a:pt x="186" y="2423"/>
                  </a:lnTo>
                  <a:lnTo>
                    <a:pt x="195" y="2423"/>
                  </a:lnTo>
                  <a:lnTo>
                    <a:pt x="203" y="2423"/>
                  </a:lnTo>
                  <a:lnTo>
                    <a:pt x="212" y="2423"/>
                  </a:lnTo>
                  <a:lnTo>
                    <a:pt x="221" y="2420"/>
                  </a:lnTo>
                  <a:lnTo>
                    <a:pt x="229" y="2420"/>
                  </a:lnTo>
                  <a:lnTo>
                    <a:pt x="238" y="2420"/>
                  </a:lnTo>
                  <a:lnTo>
                    <a:pt x="247" y="2417"/>
                  </a:lnTo>
                  <a:lnTo>
                    <a:pt x="256" y="2412"/>
                  </a:lnTo>
                  <a:lnTo>
                    <a:pt x="264" y="2412"/>
                  </a:lnTo>
                  <a:lnTo>
                    <a:pt x="276" y="2412"/>
                  </a:lnTo>
                  <a:lnTo>
                    <a:pt x="285" y="2412"/>
                  </a:lnTo>
                  <a:lnTo>
                    <a:pt x="294" y="2414"/>
                  </a:lnTo>
                  <a:lnTo>
                    <a:pt x="302" y="2414"/>
                  </a:lnTo>
                  <a:lnTo>
                    <a:pt x="305" y="2406"/>
                  </a:lnTo>
                  <a:lnTo>
                    <a:pt x="305" y="2397"/>
                  </a:lnTo>
                  <a:lnTo>
                    <a:pt x="302" y="2389"/>
                  </a:lnTo>
                  <a:lnTo>
                    <a:pt x="299" y="2380"/>
                  </a:lnTo>
                  <a:lnTo>
                    <a:pt x="302" y="2371"/>
                  </a:lnTo>
                  <a:lnTo>
                    <a:pt x="314" y="2368"/>
                  </a:lnTo>
                  <a:lnTo>
                    <a:pt x="323" y="2368"/>
                  </a:lnTo>
                  <a:lnTo>
                    <a:pt x="331" y="2368"/>
                  </a:lnTo>
                  <a:lnTo>
                    <a:pt x="343" y="2368"/>
                  </a:lnTo>
                  <a:lnTo>
                    <a:pt x="346" y="2360"/>
                  </a:lnTo>
                  <a:lnTo>
                    <a:pt x="355" y="2354"/>
                  </a:lnTo>
                  <a:lnTo>
                    <a:pt x="363" y="2351"/>
                  </a:lnTo>
                  <a:lnTo>
                    <a:pt x="372" y="2351"/>
                  </a:lnTo>
                  <a:lnTo>
                    <a:pt x="381" y="2348"/>
                  </a:lnTo>
                  <a:lnTo>
                    <a:pt x="390" y="2348"/>
                  </a:lnTo>
                  <a:lnTo>
                    <a:pt x="398" y="2348"/>
                  </a:lnTo>
                  <a:lnTo>
                    <a:pt x="407" y="2348"/>
                  </a:lnTo>
                  <a:lnTo>
                    <a:pt x="419" y="2354"/>
                  </a:lnTo>
                  <a:lnTo>
                    <a:pt x="427" y="2360"/>
                  </a:lnTo>
                  <a:lnTo>
                    <a:pt x="436" y="2360"/>
                  </a:lnTo>
                  <a:lnTo>
                    <a:pt x="445" y="2360"/>
                  </a:lnTo>
                  <a:lnTo>
                    <a:pt x="454" y="2363"/>
                  </a:lnTo>
                  <a:lnTo>
                    <a:pt x="462" y="2363"/>
                  </a:lnTo>
                  <a:lnTo>
                    <a:pt x="471" y="2363"/>
                  </a:lnTo>
                  <a:lnTo>
                    <a:pt x="480" y="2363"/>
                  </a:lnTo>
                  <a:lnTo>
                    <a:pt x="489" y="2360"/>
                  </a:lnTo>
                  <a:lnTo>
                    <a:pt x="494" y="2351"/>
                  </a:lnTo>
                  <a:lnTo>
                    <a:pt x="494" y="2342"/>
                  </a:lnTo>
                  <a:lnTo>
                    <a:pt x="494" y="2334"/>
                  </a:lnTo>
                  <a:lnTo>
                    <a:pt x="497" y="2325"/>
                  </a:lnTo>
                  <a:lnTo>
                    <a:pt x="506" y="2322"/>
                  </a:lnTo>
                  <a:lnTo>
                    <a:pt x="515" y="2322"/>
                  </a:lnTo>
                  <a:lnTo>
                    <a:pt x="524" y="2322"/>
                  </a:lnTo>
                  <a:lnTo>
                    <a:pt x="532" y="2322"/>
                  </a:lnTo>
                  <a:lnTo>
                    <a:pt x="541" y="2322"/>
                  </a:lnTo>
                  <a:lnTo>
                    <a:pt x="550" y="2328"/>
                  </a:lnTo>
                  <a:lnTo>
                    <a:pt x="556" y="2337"/>
                  </a:lnTo>
                  <a:lnTo>
                    <a:pt x="564" y="2342"/>
                  </a:lnTo>
                  <a:lnTo>
                    <a:pt x="570" y="2351"/>
                  </a:lnTo>
                  <a:lnTo>
                    <a:pt x="576" y="2360"/>
                  </a:lnTo>
                  <a:lnTo>
                    <a:pt x="585" y="2368"/>
                  </a:lnTo>
                  <a:lnTo>
                    <a:pt x="590" y="2377"/>
                  </a:lnTo>
                  <a:lnTo>
                    <a:pt x="599" y="2383"/>
                  </a:lnTo>
                  <a:lnTo>
                    <a:pt x="611" y="2386"/>
                  </a:lnTo>
                  <a:lnTo>
                    <a:pt x="620" y="2386"/>
                  </a:lnTo>
                  <a:lnTo>
                    <a:pt x="628" y="2386"/>
                  </a:lnTo>
                  <a:lnTo>
                    <a:pt x="637" y="2386"/>
                  </a:lnTo>
                  <a:lnTo>
                    <a:pt x="646" y="2386"/>
                  </a:lnTo>
                  <a:lnTo>
                    <a:pt x="655" y="2386"/>
                  </a:lnTo>
                  <a:lnTo>
                    <a:pt x="663" y="2389"/>
                  </a:lnTo>
                  <a:lnTo>
                    <a:pt x="672" y="2389"/>
                  </a:lnTo>
                  <a:lnTo>
                    <a:pt x="681" y="2389"/>
                  </a:lnTo>
                  <a:lnTo>
                    <a:pt x="689" y="2389"/>
                  </a:lnTo>
                  <a:lnTo>
                    <a:pt x="698" y="2394"/>
                  </a:lnTo>
                  <a:lnTo>
                    <a:pt x="707" y="2403"/>
                  </a:lnTo>
                  <a:lnTo>
                    <a:pt x="713" y="2412"/>
                  </a:lnTo>
                  <a:lnTo>
                    <a:pt x="716" y="2420"/>
                  </a:lnTo>
                  <a:lnTo>
                    <a:pt x="716" y="2429"/>
                  </a:lnTo>
                  <a:lnTo>
                    <a:pt x="716" y="2437"/>
                  </a:lnTo>
                  <a:lnTo>
                    <a:pt x="719" y="2446"/>
                  </a:lnTo>
                  <a:lnTo>
                    <a:pt x="719" y="2455"/>
                  </a:lnTo>
                  <a:lnTo>
                    <a:pt x="721" y="2463"/>
                  </a:lnTo>
                  <a:lnTo>
                    <a:pt x="721" y="2472"/>
                  </a:lnTo>
                  <a:lnTo>
                    <a:pt x="721" y="2481"/>
                  </a:lnTo>
                  <a:lnTo>
                    <a:pt x="721" y="2489"/>
                  </a:lnTo>
                  <a:lnTo>
                    <a:pt x="713" y="2492"/>
                  </a:lnTo>
                  <a:lnTo>
                    <a:pt x="704" y="2492"/>
                  </a:lnTo>
                  <a:lnTo>
                    <a:pt x="698" y="2501"/>
                  </a:lnTo>
                  <a:lnTo>
                    <a:pt x="707" y="2507"/>
                  </a:lnTo>
                  <a:lnTo>
                    <a:pt x="716" y="2512"/>
                  </a:lnTo>
                  <a:lnTo>
                    <a:pt x="721" y="2521"/>
                  </a:lnTo>
                  <a:lnTo>
                    <a:pt x="721" y="2530"/>
                  </a:lnTo>
                  <a:lnTo>
                    <a:pt x="719" y="2538"/>
                  </a:lnTo>
                  <a:lnTo>
                    <a:pt x="719" y="2547"/>
                  </a:lnTo>
                  <a:lnTo>
                    <a:pt x="719" y="2556"/>
                  </a:lnTo>
                  <a:lnTo>
                    <a:pt x="719" y="2564"/>
                  </a:lnTo>
                  <a:lnTo>
                    <a:pt x="721" y="2576"/>
                  </a:lnTo>
                  <a:lnTo>
                    <a:pt x="721" y="2584"/>
                  </a:lnTo>
                  <a:lnTo>
                    <a:pt x="727" y="2593"/>
                  </a:lnTo>
                  <a:lnTo>
                    <a:pt x="736" y="2602"/>
                  </a:lnTo>
                  <a:lnTo>
                    <a:pt x="742" y="2613"/>
                  </a:lnTo>
                  <a:lnTo>
                    <a:pt x="745" y="2625"/>
                  </a:lnTo>
                  <a:lnTo>
                    <a:pt x="756" y="2633"/>
                  </a:lnTo>
                  <a:lnTo>
                    <a:pt x="765" y="2642"/>
                  </a:lnTo>
                  <a:lnTo>
                    <a:pt x="768" y="2654"/>
                  </a:lnTo>
                  <a:lnTo>
                    <a:pt x="768" y="2662"/>
                  </a:lnTo>
                  <a:lnTo>
                    <a:pt x="768" y="2671"/>
                  </a:lnTo>
                  <a:lnTo>
                    <a:pt x="771" y="2682"/>
                  </a:lnTo>
                  <a:lnTo>
                    <a:pt x="780" y="2688"/>
                  </a:lnTo>
                  <a:lnTo>
                    <a:pt x="783" y="2697"/>
                  </a:lnTo>
                  <a:lnTo>
                    <a:pt x="786" y="2705"/>
                  </a:lnTo>
                  <a:lnTo>
                    <a:pt x="788" y="2714"/>
                  </a:lnTo>
                  <a:lnTo>
                    <a:pt x="788" y="2723"/>
                  </a:lnTo>
                  <a:lnTo>
                    <a:pt x="788" y="2731"/>
                  </a:lnTo>
                  <a:lnTo>
                    <a:pt x="788" y="2740"/>
                  </a:lnTo>
                  <a:lnTo>
                    <a:pt x="788" y="2749"/>
                  </a:lnTo>
                  <a:lnTo>
                    <a:pt x="788" y="2757"/>
                  </a:lnTo>
                  <a:lnTo>
                    <a:pt x="788" y="2769"/>
                  </a:lnTo>
                  <a:lnTo>
                    <a:pt x="783" y="2778"/>
                  </a:lnTo>
                  <a:lnTo>
                    <a:pt x="774" y="2778"/>
                  </a:lnTo>
                  <a:lnTo>
                    <a:pt x="765" y="2783"/>
                  </a:lnTo>
                  <a:lnTo>
                    <a:pt x="759" y="2792"/>
                  </a:lnTo>
                  <a:lnTo>
                    <a:pt x="751" y="2795"/>
                  </a:lnTo>
                  <a:lnTo>
                    <a:pt x="742" y="2789"/>
                  </a:lnTo>
                  <a:lnTo>
                    <a:pt x="730" y="2786"/>
                  </a:lnTo>
                  <a:lnTo>
                    <a:pt x="721" y="2780"/>
                  </a:lnTo>
                  <a:lnTo>
                    <a:pt x="713" y="2778"/>
                  </a:lnTo>
                  <a:lnTo>
                    <a:pt x="710" y="2766"/>
                  </a:lnTo>
                  <a:lnTo>
                    <a:pt x="707" y="2757"/>
                  </a:lnTo>
                  <a:lnTo>
                    <a:pt x="698" y="2754"/>
                  </a:lnTo>
                  <a:lnTo>
                    <a:pt x="687" y="2754"/>
                  </a:lnTo>
                  <a:lnTo>
                    <a:pt x="678" y="2746"/>
                  </a:lnTo>
                  <a:lnTo>
                    <a:pt x="672" y="2737"/>
                  </a:lnTo>
                  <a:lnTo>
                    <a:pt x="660" y="2731"/>
                  </a:lnTo>
                  <a:lnTo>
                    <a:pt x="652" y="2729"/>
                  </a:lnTo>
                  <a:lnTo>
                    <a:pt x="643" y="2729"/>
                  </a:lnTo>
                  <a:lnTo>
                    <a:pt x="634" y="2729"/>
                  </a:lnTo>
                  <a:lnTo>
                    <a:pt x="628" y="2737"/>
                  </a:lnTo>
                  <a:lnTo>
                    <a:pt x="628" y="2746"/>
                  </a:lnTo>
                  <a:lnTo>
                    <a:pt x="631" y="2754"/>
                  </a:lnTo>
                  <a:lnTo>
                    <a:pt x="640" y="2763"/>
                  </a:lnTo>
                  <a:lnTo>
                    <a:pt x="652" y="2769"/>
                  </a:lnTo>
                  <a:lnTo>
                    <a:pt x="660" y="2775"/>
                  </a:lnTo>
                  <a:lnTo>
                    <a:pt x="666" y="2783"/>
                  </a:lnTo>
                  <a:lnTo>
                    <a:pt x="669" y="2792"/>
                  </a:lnTo>
                  <a:lnTo>
                    <a:pt x="672" y="2801"/>
                  </a:lnTo>
                  <a:lnTo>
                    <a:pt x="675" y="2809"/>
                  </a:lnTo>
                  <a:lnTo>
                    <a:pt x="678" y="2818"/>
                  </a:lnTo>
                  <a:lnTo>
                    <a:pt x="687" y="2827"/>
                  </a:lnTo>
                  <a:lnTo>
                    <a:pt x="695" y="2829"/>
                  </a:lnTo>
                  <a:lnTo>
                    <a:pt x="707" y="2829"/>
                  </a:lnTo>
                  <a:lnTo>
                    <a:pt x="713" y="2818"/>
                  </a:lnTo>
                  <a:lnTo>
                    <a:pt x="713" y="2809"/>
                  </a:lnTo>
                  <a:lnTo>
                    <a:pt x="716" y="2801"/>
                  </a:lnTo>
                  <a:lnTo>
                    <a:pt x="724" y="2795"/>
                  </a:lnTo>
                  <a:lnTo>
                    <a:pt x="733" y="2795"/>
                  </a:lnTo>
                  <a:lnTo>
                    <a:pt x="742" y="2792"/>
                  </a:lnTo>
                  <a:lnTo>
                    <a:pt x="751" y="2801"/>
                  </a:lnTo>
                  <a:lnTo>
                    <a:pt x="762" y="2803"/>
                  </a:lnTo>
                  <a:lnTo>
                    <a:pt x="771" y="2803"/>
                  </a:lnTo>
                  <a:lnTo>
                    <a:pt x="780" y="2803"/>
                  </a:lnTo>
                  <a:lnTo>
                    <a:pt x="788" y="2803"/>
                  </a:lnTo>
                  <a:lnTo>
                    <a:pt x="788" y="2795"/>
                  </a:lnTo>
                  <a:lnTo>
                    <a:pt x="788" y="2786"/>
                  </a:lnTo>
                  <a:lnTo>
                    <a:pt x="797" y="2780"/>
                  </a:lnTo>
                  <a:lnTo>
                    <a:pt x="806" y="2780"/>
                  </a:lnTo>
                  <a:lnTo>
                    <a:pt x="815" y="2772"/>
                  </a:lnTo>
                  <a:lnTo>
                    <a:pt x="815" y="2763"/>
                  </a:lnTo>
                  <a:lnTo>
                    <a:pt x="815" y="2754"/>
                  </a:lnTo>
                  <a:lnTo>
                    <a:pt x="815" y="2746"/>
                  </a:lnTo>
                  <a:lnTo>
                    <a:pt x="815" y="2737"/>
                  </a:lnTo>
                  <a:lnTo>
                    <a:pt x="818" y="2729"/>
                  </a:lnTo>
                  <a:lnTo>
                    <a:pt x="826" y="2726"/>
                  </a:lnTo>
                  <a:lnTo>
                    <a:pt x="835" y="2720"/>
                  </a:lnTo>
                  <a:lnTo>
                    <a:pt x="844" y="2717"/>
                  </a:lnTo>
                  <a:lnTo>
                    <a:pt x="852" y="2720"/>
                  </a:lnTo>
                  <a:lnTo>
                    <a:pt x="855" y="2729"/>
                  </a:lnTo>
                  <a:lnTo>
                    <a:pt x="858" y="2740"/>
                  </a:lnTo>
                  <a:lnTo>
                    <a:pt x="858" y="2749"/>
                  </a:lnTo>
                  <a:lnTo>
                    <a:pt x="861" y="2757"/>
                  </a:lnTo>
                  <a:lnTo>
                    <a:pt x="870" y="2763"/>
                  </a:lnTo>
                  <a:lnTo>
                    <a:pt x="882" y="2766"/>
                  </a:lnTo>
                  <a:lnTo>
                    <a:pt x="887" y="2757"/>
                  </a:lnTo>
                  <a:lnTo>
                    <a:pt x="887" y="2749"/>
                  </a:lnTo>
                  <a:lnTo>
                    <a:pt x="887" y="2740"/>
                  </a:lnTo>
                  <a:lnTo>
                    <a:pt x="887" y="2731"/>
                  </a:lnTo>
                  <a:lnTo>
                    <a:pt x="885" y="2723"/>
                  </a:lnTo>
                  <a:lnTo>
                    <a:pt x="876" y="2714"/>
                  </a:lnTo>
                  <a:lnTo>
                    <a:pt x="870" y="2705"/>
                  </a:lnTo>
                  <a:lnTo>
                    <a:pt x="864" y="2697"/>
                  </a:lnTo>
                  <a:lnTo>
                    <a:pt x="855" y="2691"/>
                  </a:lnTo>
                  <a:lnTo>
                    <a:pt x="847" y="2682"/>
                  </a:lnTo>
                  <a:lnTo>
                    <a:pt x="838" y="2674"/>
                  </a:lnTo>
                  <a:lnTo>
                    <a:pt x="835" y="2665"/>
                  </a:lnTo>
                  <a:lnTo>
                    <a:pt x="832" y="2657"/>
                  </a:lnTo>
                  <a:lnTo>
                    <a:pt x="832" y="2648"/>
                  </a:lnTo>
                  <a:lnTo>
                    <a:pt x="841" y="2642"/>
                  </a:lnTo>
                  <a:lnTo>
                    <a:pt x="850" y="2642"/>
                  </a:lnTo>
                  <a:lnTo>
                    <a:pt x="852" y="2633"/>
                  </a:lnTo>
                  <a:lnTo>
                    <a:pt x="844" y="2628"/>
                  </a:lnTo>
                  <a:lnTo>
                    <a:pt x="835" y="2622"/>
                  </a:lnTo>
                  <a:lnTo>
                    <a:pt x="826" y="2619"/>
                  </a:lnTo>
                  <a:lnTo>
                    <a:pt x="820" y="2610"/>
                  </a:lnTo>
                  <a:lnTo>
                    <a:pt x="818" y="2602"/>
                  </a:lnTo>
                  <a:lnTo>
                    <a:pt x="812" y="2593"/>
                  </a:lnTo>
                  <a:lnTo>
                    <a:pt x="812" y="2584"/>
                  </a:lnTo>
                  <a:lnTo>
                    <a:pt x="809" y="2576"/>
                  </a:lnTo>
                  <a:lnTo>
                    <a:pt x="806" y="2564"/>
                  </a:lnTo>
                  <a:lnTo>
                    <a:pt x="806" y="2556"/>
                  </a:lnTo>
                  <a:lnTo>
                    <a:pt x="806" y="2547"/>
                  </a:lnTo>
                  <a:lnTo>
                    <a:pt x="806" y="2538"/>
                  </a:lnTo>
                  <a:lnTo>
                    <a:pt x="806" y="2530"/>
                  </a:lnTo>
                  <a:lnTo>
                    <a:pt x="806" y="2521"/>
                  </a:lnTo>
                  <a:lnTo>
                    <a:pt x="806" y="2512"/>
                  </a:lnTo>
                  <a:lnTo>
                    <a:pt x="806" y="2504"/>
                  </a:lnTo>
                  <a:lnTo>
                    <a:pt x="803" y="2495"/>
                  </a:lnTo>
                  <a:lnTo>
                    <a:pt x="800" y="2486"/>
                  </a:lnTo>
                  <a:lnTo>
                    <a:pt x="800" y="2478"/>
                  </a:lnTo>
                  <a:lnTo>
                    <a:pt x="800" y="2469"/>
                  </a:lnTo>
                  <a:lnTo>
                    <a:pt x="800" y="2461"/>
                  </a:lnTo>
                  <a:lnTo>
                    <a:pt x="800" y="2452"/>
                  </a:lnTo>
                  <a:lnTo>
                    <a:pt x="809" y="2452"/>
                  </a:lnTo>
                  <a:lnTo>
                    <a:pt x="818" y="2452"/>
                  </a:lnTo>
                  <a:lnTo>
                    <a:pt x="818" y="2443"/>
                  </a:lnTo>
                  <a:lnTo>
                    <a:pt x="820" y="2435"/>
                  </a:lnTo>
                  <a:lnTo>
                    <a:pt x="826" y="2426"/>
                  </a:lnTo>
                  <a:lnTo>
                    <a:pt x="835" y="2426"/>
                  </a:lnTo>
                  <a:lnTo>
                    <a:pt x="838" y="2435"/>
                  </a:lnTo>
                  <a:lnTo>
                    <a:pt x="847" y="2440"/>
                  </a:lnTo>
                  <a:lnTo>
                    <a:pt x="855" y="2435"/>
                  </a:lnTo>
                  <a:lnTo>
                    <a:pt x="864" y="2432"/>
                  </a:lnTo>
                  <a:lnTo>
                    <a:pt x="864" y="2440"/>
                  </a:lnTo>
                  <a:lnTo>
                    <a:pt x="864" y="2449"/>
                  </a:lnTo>
                  <a:lnTo>
                    <a:pt x="858" y="2458"/>
                  </a:lnTo>
                  <a:lnTo>
                    <a:pt x="850" y="2466"/>
                  </a:lnTo>
                  <a:lnTo>
                    <a:pt x="847" y="2475"/>
                  </a:lnTo>
                  <a:lnTo>
                    <a:pt x="855" y="2478"/>
                  </a:lnTo>
                  <a:lnTo>
                    <a:pt x="864" y="2478"/>
                  </a:lnTo>
                  <a:lnTo>
                    <a:pt x="864" y="2486"/>
                  </a:lnTo>
                  <a:lnTo>
                    <a:pt x="864" y="2495"/>
                  </a:lnTo>
                  <a:lnTo>
                    <a:pt x="873" y="2498"/>
                  </a:lnTo>
                  <a:lnTo>
                    <a:pt x="882" y="2498"/>
                  </a:lnTo>
                  <a:lnTo>
                    <a:pt x="882" y="2507"/>
                  </a:lnTo>
                  <a:lnTo>
                    <a:pt x="882" y="2515"/>
                  </a:lnTo>
                  <a:lnTo>
                    <a:pt x="879" y="2524"/>
                  </a:lnTo>
                  <a:lnTo>
                    <a:pt x="870" y="2527"/>
                  </a:lnTo>
                  <a:lnTo>
                    <a:pt x="864" y="2535"/>
                  </a:lnTo>
                  <a:lnTo>
                    <a:pt x="867" y="2544"/>
                  </a:lnTo>
                  <a:lnTo>
                    <a:pt x="870" y="2553"/>
                  </a:lnTo>
                  <a:lnTo>
                    <a:pt x="876" y="2561"/>
                  </a:lnTo>
                  <a:lnTo>
                    <a:pt x="882" y="2573"/>
                  </a:lnTo>
                  <a:lnTo>
                    <a:pt x="890" y="2584"/>
                  </a:lnTo>
                  <a:lnTo>
                    <a:pt x="893" y="2593"/>
                  </a:lnTo>
                  <a:lnTo>
                    <a:pt x="896" y="2602"/>
                  </a:lnTo>
                  <a:lnTo>
                    <a:pt x="899" y="2613"/>
                  </a:lnTo>
                  <a:lnTo>
                    <a:pt x="899" y="2622"/>
                  </a:lnTo>
                  <a:lnTo>
                    <a:pt x="902" y="2631"/>
                  </a:lnTo>
                  <a:lnTo>
                    <a:pt x="905" y="2639"/>
                  </a:lnTo>
                  <a:lnTo>
                    <a:pt x="911" y="2648"/>
                  </a:lnTo>
                  <a:lnTo>
                    <a:pt x="919" y="2657"/>
                  </a:lnTo>
                  <a:lnTo>
                    <a:pt x="928" y="2662"/>
                  </a:lnTo>
                  <a:lnTo>
                    <a:pt x="937" y="2671"/>
                  </a:lnTo>
                  <a:lnTo>
                    <a:pt x="943" y="2680"/>
                  </a:lnTo>
                  <a:lnTo>
                    <a:pt x="946" y="2688"/>
                  </a:lnTo>
                  <a:lnTo>
                    <a:pt x="949" y="2697"/>
                  </a:lnTo>
                  <a:lnTo>
                    <a:pt x="949" y="2705"/>
                  </a:lnTo>
                  <a:lnTo>
                    <a:pt x="949" y="2714"/>
                  </a:lnTo>
                  <a:lnTo>
                    <a:pt x="949" y="2723"/>
                  </a:lnTo>
                  <a:lnTo>
                    <a:pt x="943" y="2731"/>
                  </a:lnTo>
                  <a:lnTo>
                    <a:pt x="934" y="2734"/>
                  </a:lnTo>
                  <a:lnTo>
                    <a:pt x="928" y="2743"/>
                  </a:lnTo>
                  <a:lnTo>
                    <a:pt x="925" y="2752"/>
                  </a:lnTo>
                  <a:lnTo>
                    <a:pt x="925" y="2760"/>
                  </a:lnTo>
                  <a:lnTo>
                    <a:pt x="922" y="2769"/>
                  </a:lnTo>
                  <a:lnTo>
                    <a:pt x="922" y="2778"/>
                  </a:lnTo>
                  <a:lnTo>
                    <a:pt x="919" y="2786"/>
                  </a:lnTo>
                  <a:lnTo>
                    <a:pt x="911" y="2795"/>
                  </a:lnTo>
                  <a:lnTo>
                    <a:pt x="908" y="2803"/>
                  </a:lnTo>
                  <a:lnTo>
                    <a:pt x="908" y="2812"/>
                  </a:lnTo>
                  <a:lnTo>
                    <a:pt x="911" y="2821"/>
                  </a:lnTo>
                  <a:lnTo>
                    <a:pt x="922" y="2827"/>
                  </a:lnTo>
                  <a:lnTo>
                    <a:pt x="934" y="2832"/>
                  </a:lnTo>
                  <a:lnTo>
                    <a:pt x="940" y="2841"/>
                  </a:lnTo>
                  <a:lnTo>
                    <a:pt x="922" y="2832"/>
                  </a:lnTo>
                  <a:lnTo>
                    <a:pt x="946" y="2824"/>
                  </a:lnTo>
                  <a:lnTo>
                    <a:pt x="946" y="2832"/>
                  </a:lnTo>
                  <a:lnTo>
                    <a:pt x="946" y="2841"/>
                  </a:lnTo>
                  <a:lnTo>
                    <a:pt x="946" y="2850"/>
                  </a:lnTo>
                  <a:lnTo>
                    <a:pt x="940" y="2858"/>
                  </a:lnTo>
                  <a:lnTo>
                    <a:pt x="931" y="2861"/>
                  </a:lnTo>
                  <a:lnTo>
                    <a:pt x="922" y="2867"/>
                  </a:lnTo>
                  <a:lnTo>
                    <a:pt x="917" y="2876"/>
                  </a:lnTo>
                  <a:lnTo>
                    <a:pt x="919" y="2884"/>
                  </a:lnTo>
                  <a:lnTo>
                    <a:pt x="922" y="2893"/>
                  </a:lnTo>
                  <a:lnTo>
                    <a:pt x="917" y="2901"/>
                  </a:lnTo>
                  <a:lnTo>
                    <a:pt x="925" y="2904"/>
                  </a:lnTo>
                  <a:lnTo>
                    <a:pt x="934" y="2904"/>
                  </a:lnTo>
                  <a:lnTo>
                    <a:pt x="943" y="2904"/>
                  </a:lnTo>
                  <a:lnTo>
                    <a:pt x="951" y="2899"/>
                  </a:lnTo>
                  <a:lnTo>
                    <a:pt x="960" y="2893"/>
                  </a:lnTo>
                  <a:lnTo>
                    <a:pt x="969" y="2893"/>
                  </a:lnTo>
                  <a:lnTo>
                    <a:pt x="978" y="2899"/>
                  </a:lnTo>
                  <a:lnTo>
                    <a:pt x="983" y="2907"/>
                  </a:lnTo>
                  <a:lnTo>
                    <a:pt x="975" y="2904"/>
                  </a:lnTo>
                  <a:lnTo>
                    <a:pt x="966" y="2899"/>
                  </a:lnTo>
                  <a:lnTo>
                    <a:pt x="954" y="2896"/>
                  </a:lnTo>
                  <a:lnTo>
                    <a:pt x="940" y="2893"/>
                  </a:lnTo>
                  <a:lnTo>
                    <a:pt x="943" y="2910"/>
                  </a:lnTo>
                  <a:lnTo>
                    <a:pt x="951" y="2930"/>
                  </a:lnTo>
                  <a:lnTo>
                    <a:pt x="943" y="2933"/>
                  </a:lnTo>
                  <a:lnTo>
                    <a:pt x="940" y="2942"/>
                  </a:lnTo>
                  <a:lnTo>
                    <a:pt x="937" y="2950"/>
                  </a:lnTo>
                  <a:lnTo>
                    <a:pt x="946" y="2956"/>
                  </a:lnTo>
                  <a:lnTo>
                    <a:pt x="949" y="2965"/>
                  </a:lnTo>
                  <a:lnTo>
                    <a:pt x="951" y="2974"/>
                  </a:lnTo>
                  <a:lnTo>
                    <a:pt x="951" y="2982"/>
                  </a:lnTo>
                  <a:lnTo>
                    <a:pt x="951" y="2991"/>
                  </a:lnTo>
                  <a:lnTo>
                    <a:pt x="954" y="2999"/>
                  </a:lnTo>
                  <a:lnTo>
                    <a:pt x="957" y="3011"/>
                  </a:lnTo>
                  <a:lnTo>
                    <a:pt x="963" y="3002"/>
                  </a:lnTo>
                  <a:lnTo>
                    <a:pt x="963" y="2994"/>
                  </a:lnTo>
                  <a:lnTo>
                    <a:pt x="963" y="2985"/>
                  </a:lnTo>
                  <a:lnTo>
                    <a:pt x="963" y="2976"/>
                  </a:lnTo>
                  <a:lnTo>
                    <a:pt x="963" y="2968"/>
                  </a:lnTo>
                  <a:lnTo>
                    <a:pt x="969" y="2959"/>
                  </a:lnTo>
                  <a:lnTo>
                    <a:pt x="978" y="2953"/>
                  </a:lnTo>
                  <a:lnTo>
                    <a:pt x="983" y="2945"/>
                  </a:lnTo>
                  <a:lnTo>
                    <a:pt x="992" y="2942"/>
                  </a:lnTo>
                  <a:lnTo>
                    <a:pt x="1004" y="2945"/>
                  </a:lnTo>
                  <a:lnTo>
                    <a:pt x="1016" y="2945"/>
                  </a:lnTo>
                  <a:lnTo>
                    <a:pt x="1024" y="2945"/>
                  </a:lnTo>
                  <a:lnTo>
                    <a:pt x="1027" y="2936"/>
                  </a:lnTo>
                  <a:lnTo>
                    <a:pt x="1036" y="2945"/>
                  </a:lnTo>
                  <a:lnTo>
                    <a:pt x="1042" y="2953"/>
                  </a:lnTo>
                  <a:lnTo>
                    <a:pt x="1050" y="2962"/>
                  </a:lnTo>
                  <a:lnTo>
                    <a:pt x="1059" y="2971"/>
                  </a:lnTo>
                  <a:lnTo>
                    <a:pt x="1045" y="2959"/>
                  </a:lnTo>
                  <a:lnTo>
                    <a:pt x="1042" y="2950"/>
                  </a:lnTo>
                  <a:lnTo>
                    <a:pt x="1042" y="2942"/>
                  </a:lnTo>
                  <a:lnTo>
                    <a:pt x="1042" y="2933"/>
                  </a:lnTo>
                  <a:lnTo>
                    <a:pt x="1042" y="2925"/>
                  </a:lnTo>
                  <a:lnTo>
                    <a:pt x="1033" y="2916"/>
                  </a:lnTo>
                  <a:lnTo>
                    <a:pt x="1021" y="2907"/>
                  </a:lnTo>
                  <a:lnTo>
                    <a:pt x="1013" y="2899"/>
                  </a:lnTo>
                  <a:lnTo>
                    <a:pt x="1007" y="2890"/>
                  </a:lnTo>
                  <a:lnTo>
                    <a:pt x="1018" y="2893"/>
                  </a:lnTo>
                  <a:lnTo>
                    <a:pt x="1027" y="2896"/>
                  </a:lnTo>
                  <a:lnTo>
                    <a:pt x="1036" y="2901"/>
                  </a:lnTo>
                  <a:lnTo>
                    <a:pt x="1045" y="2907"/>
                  </a:lnTo>
                  <a:lnTo>
                    <a:pt x="1050" y="2916"/>
                  </a:lnTo>
                  <a:lnTo>
                    <a:pt x="1042" y="2913"/>
                  </a:lnTo>
                  <a:lnTo>
                    <a:pt x="1033" y="2907"/>
                  </a:lnTo>
                  <a:lnTo>
                    <a:pt x="1021" y="2899"/>
                  </a:lnTo>
                  <a:lnTo>
                    <a:pt x="1010" y="2896"/>
                  </a:lnTo>
                  <a:lnTo>
                    <a:pt x="1004" y="2887"/>
                  </a:lnTo>
                  <a:lnTo>
                    <a:pt x="1013" y="2881"/>
                  </a:lnTo>
                  <a:lnTo>
                    <a:pt x="1018" y="2873"/>
                  </a:lnTo>
                  <a:lnTo>
                    <a:pt x="1018" y="2864"/>
                  </a:lnTo>
                  <a:lnTo>
                    <a:pt x="1021" y="2855"/>
                  </a:lnTo>
                  <a:lnTo>
                    <a:pt x="1021" y="2847"/>
                  </a:lnTo>
                  <a:lnTo>
                    <a:pt x="1021" y="2838"/>
                  </a:lnTo>
                  <a:lnTo>
                    <a:pt x="1021" y="2829"/>
                  </a:lnTo>
                  <a:lnTo>
                    <a:pt x="1021" y="2821"/>
                  </a:lnTo>
                  <a:lnTo>
                    <a:pt x="1024" y="2812"/>
                  </a:lnTo>
                  <a:lnTo>
                    <a:pt x="1033" y="2812"/>
                  </a:lnTo>
                  <a:lnTo>
                    <a:pt x="1042" y="2809"/>
                  </a:lnTo>
                  <a:lnTo>
                    <a:pt x="1042" y="2818"/>
                  </a:lnTo>
                  <a:lnTo>
                    <a:pt x="1042" y="2827"/>
                  </a:lnTo>
                  <a:lnTo>
                    <a:pt x="1042" y="2835"/>
                  </a:lnTo>
                  <a:lnTo>
                    <a:pt x="1042" y="2844"/>
                  </a:lnTo>
                  <a:lnTo>
                    <a:pt x="1050" y="2850"/>
                  </a:lnTo>
                  <a:lnTo>
                    <a:pt x="1056" y="2841"/>
                  </a:lnTo>
                  <a:lnTo>
                    <a:pt x="1065" y="2841"/>
                  </a:lnTo>
                  <a:lnTo>
                    <a:pt x="1068" y="2850"/>
                  </a:lnTo>
                  <a:lnTo>
                    <a:pt x="1071" y="2841"/>
                  </a:lnTo>
                  <a:lnTo>
                    <a:pt x="1071" y="2832"/>
                  </a:lnTo>
                  <a:lnTo>
                    <a:pt x="1080" y="2827"/>
                  </a:lnTo>
                  <a:lnTo>
                    <a:pt x="1088" y="2827"/>
                  </a:lnTo>
                  <a:lnTo>
                    <a:pt x="1100" y="2835"/>
                  </a:lnTo>
                  <a:lnTo>
                    <a:pt x="1109" y="2835"/>
                  </a:lnTo>
                  <a:lnTo>
                    <a:pt x="1120" y="2835"/>
                  </a:lnTo>
                  <a:lnTo>
                    <a:pt x="1129" y="2835"/>
                  </a:lnTo>
                  <a:lnTo>
                    <a:pt x="1138" y="2838"/>
                  </a:lnTo>
                  <a:lnTo>
                    <a:pt x="1147" y="2841"/>
                  </a:lnTo>
                  <a:lnTo>
                    <a:pt x="1155" y="2844"/>
                  </a:lnTo>
                  <a:lnTo>
                    <a:pt x="1149" y="2852"/>
                  </a:lnTo>
                  <a:lnTo>
                    <a:pt x="1149" y="2861"/>
                  </a:lnTo>
                  <a:lnTo>
                    <a:pt x="1149" y="2870"/>
                  </a:lnTo>
                  <a:lnTo>
                    <a:pt x="1158" y="2878"/>
                  </a:lnTo>
                  <a:lnTo>
                    <a:pt x="1170" y="2878"/>
                  </a:lnTo>
                  <a:lnTo>
                    <a:pt x="1179" y="2878"/>
                  </a:lnTo>
                  <a:lnTo>
                    <a:pt x="1187" y="2878"/>
                  </a:lnTo>
                  <a:lnTo>
                    <a:pt x="1196" y="2878"/>
                  </a:lnTo>
                  <a:lnTo>
                    <a:pt x="1205" y="2876"/>
                  </a:lnTo>
                  <a:lnTo>
                    <a:pt x="1216" y="2873"/>
                  </a:lnTo>
                  <a:lnTo>
                    <a:pt x="1225" y="2873"/>
                  </a:lnTo>
                  <a:lnTo>
                    <a:pt x="1234" y="2873"/>
                  </a:lnTo>
                  <a:lnTo>
                    <a:pt x="1243" y="2873"/>
                  </a:lnTo>
                  <a:lnTo>
                    <a:pt x="1251" y="2873"/>
                  </a:lnTo>
                  <a:lnTo>
                    <a:pt x="1254" y="2884"/>
                  </a:lnTo>
                  <a:lnTo>
                    <a:pt x="1257" y="2893"/>
                  </a:lnTo>
                  <a:lnTo>
                    <a:pt x="1257" y="2901"/>
                  </a:lnTo>
                  <a:lnTo>
                    <a:pt x="1272" y="2907"/>
                  </a:lnTo>
                  <a:lnTo>
                    <a:pt x="1263" y="2913"/>
                  </a:lnTo>
                  <a:lnTo>
                    <a:pt x="1254" y="2913"/>
                  </a:lnTo>
                  <a:lnTo>
                    <a:pt x="1245" y="2913"/>
                  </a:lnTo>
                  <a:lnTo>
                    <a:pt x="1248" y="2878"/>
                  </a:lnTo>
                  <a:lnTo>
                    <a:pt x="1245" y="2896"/>
                  </a:lnTo>
                  <a:lnTo>
                    <a:pt x="1237" y="2896"/>
                  </a:lnTo>
                  <a:lnTo>
                    <a:pt x="1228" y="2893"/>
                  </a:lnTo>
                  <a:lnTo>
                    <a:pt x="1219" y="2896"/>
                  </a:lnTo>
                  <a:lnTo>
                    <a:pt x="1211" y="2896"/>
                  </a:lnTo>
                  <a:lnTo>
                    <a:pt x="1202" y="2896"/>
                  </a:lnTo>
                  <a:lnTo>
                    <a:pt x="1193" y="2893"/>
                  </a:lnTo>
                  <a:lnTo>
                    <a:pt x="1184" y="2890"/>
                  </a:lnTo>
                  <a:lnTo>
                    <a:pt x="1176" y="2890"/>
                  </a:lnTo>
                  <a:lnTo>
                    <a:pt x="1167" y="2887"/>
                  </a:lnTo>
                  <a:lnTo>
                    <a:pt x="1155" y="2887"/>
                  </a:lnTo>
                  <a:lnTo>
                    <a:pt x="1147" y="2887"/>
                  </a:lnTo>
                  <a:lnTo>
                    <a:pt x="1135" y="2887"/>
                  </a:lnTo>
                  <a:lnTo>
                    <a:pt x="1132" y="2896"/>
                  </a:lnTo>
                  <a:lnTo>
                    <a:pt x="1132" y="2904"/>
                  </a:lnTo>
                  <a:lnTo>
                    <a:pt x="1132" y="2913"/>
                  </a:lnTo>
                  <a:lnTo>
                    <a:pt x="1144" y="2916"/>
                  </a:lnTo>
                  <a:lnTo>
                    <a:pt x="1144" y="2925"/>
                  </a:lnTo>
                  <a:lnTo>
                    <a:pt x="1129" y="2927"/>
                  </a:lnTo>
                  <a:lnTo>
                    <a:pt x="1120" y="2927"/>
                  </a:lnTo>
                  <a:lnTo>
                    <a:pt x="1112" y="2927"/>
                  </a:lnTo>
                  <a:lnTo>
                    <a:pt x="1114" y="2936"/>
                  </a:lnTo>
                  <a:lnTo>
                    <a:pt x="1123" y="2936"/>
                  </a:lnTo>
                  <a:lnTo>
                    <a:pt x="1132" y="2942"/>
                  </a:lnTo>
                  <a:lnTo>
                    <a:pt x="1144" y="2948"/>
                  </a:lnTo>
                  <a:lnTo>
                    <a:pt x="1135" y="2953"/>
                  </a:lnTo>
                  <a:lnTo>
                    <a:pt x="1123" y="2953"/>
                  </a:lnTo>
                  <a:lnTo>
                    <a:pt x="1112" y="2953"/>
                  </a:lnTo>
                  <a:lnTo>
                    <a:pt x="1103" y="2953"/>
                  </a:lnTo>
                  <a:lnTo>
                    <a:pt x="1106" y="2962"/>
                  </a:lnTo>
                  <a:lnTo>
                    <a:pt x="1114" y="2965"/>
                  </a:lnTo>
                  <a:lnTo>
                    <a:pt x="1123" y="2974"/>
                  </a:lnTo>
                  <a:lnTo>
                    <a:pt x="1114" y="2982"/>
                  </a:lnTo>
                  <a:lnTo>
                    <a:pt x="1117" y="2991"/>
                  </a:lnTo>
                  <a:lnTo>
                    <a:pt x="1126" y="2994"/>
                  </a:lnTo>
                  <a:lnTo>
                    <a:pt x="1114" y="2999"/>
                  </a:lnTo>
                  <a:lnTo>
                    <a:pt x="1106" y="2999"/>
                  </a:lnTo>
                  <a:lnTo>
                    <a:pt x="1117" y="3005"/>
                  </a:lnTo>
                  <a:lnTo>
                    <a:pt x="1132" y="3008"/>
                  </a:lnTo>
                  <a:lnTo>
                    <a:pt x="1135" y="3017"/>
                  </a:lnTo>
                  <a:lnTo>
                    <a:pt x="1126" y="3022"/>
                  </a:lnTo>
                  <a:lnTo>
                    <a:pt x="1126" y="3034"/>
                  </a:lnTo>
                  <a:lnTo>
                    <a:pt x="1126" y="3046"/>
                  </a:lnTo>
                  <a:lnTo>
                    <a:pt x="1126" y="3054"/>
                  </a:lnTo>
                  <a:lnTo>
                    <a:pt x="1135" y="3054"/>
                  </a:lnTo>
                  <a:lnTo>
                    <a:pt x="1144" y="3054"/>
                  </a:lnTo>
                  <a:lnTo>
                    <a:pt x="1155" y="3054"/>
                  </a:lnTo>
                  <a:lnTo>
                    <a:pt x="1164" y="3054"/>
                  </a:lnTo>
                  <a:lnTo>
                    <a:pt x="1167" y="3063"/>
                  </a:lnTo>
                  <a:lnTo>
                    <a:pt x="1179" y="3069"/>
                  </a:lnTo>
                  <a:lnTo>
                    <a:pt x="1187" y="3069"/>
                  </a:lnTo>
                  <a:lnTo>
                    <a:pt x="1190" y="3080"/>
                  </a:lnTo>
                  <a:lnTo>
                    <a:pt x="1193" y="3089"/>
                  </a:lnTo>
                  <a:lnTo>
                    <a:pt x="1199" y="3097"/>
                  </a:lnTo>
                  <a:lnTo>
                    <a:pt x="1211" y="3103"/>
                  </a:lnTo>
                  <a:lnTo>
                    <a:pt x="1219" y="3103"/>
                  </a:lnTo>
                  <a:lnTo>
                    <a:pt x="1231" y="3103"/>
                  </a:lnTo>
                  <a:lnTo>
                    <a:pt x="1240" y="3100"/>
                  </a:lnTo>
                  <a:lnTo>
                    <a:pt x="1243" y="3092"/>
                  </a:lnTo>
                  <a:lnTo>
                    <a:pt x="1248" y="3083"/>
                  </a:lnTo>
                  <a:lnTo>
                    <a:pt x="1257" y="3083"/>
                  </a:lnTo>
                  <a:lnTo>
                    <a:pt x="1278" y="3097"/>
                  </a:lnTo>
                  <a:lnTo>
                    <a:pt x="1286" y="3103"/>
                  </a:lnTo>
                  <a:lnTo>
                    <a:pt x="1289" y="3112"/>
                  </a:lnTo>
                  <a:lnTo>
                    <a:pt x="1295" y="3120"/>
                  </a:lnTo>
                  <a:lnTo>
                    <a:pt x="1301" y="3129"/>
                  </a:lnTo>
                  <a:lnTo>
                    <a:pt x="1312" y="3141"/>
                  </a:lnTo>
                  <a:lnTo>
                    <a:pt x="1324" y="3146"/>
                  </a:lnTo>
                  <a:lnTo>
                    <a:pt x="1336" y="3152"/>
                  </a:lnTo>
                  <a:lnTo>
                    <a:pt x="1347" y="3155"/>
                  </a:lnTo>
                  <a:lnTo>
                    <a:pt x="1356" y="3155"/>
                  </a:lnTo>
                  <a:lnTo>
                    <a:pt x="1365" y="3155"/>
                  </a:lnTo>
                  <a:lnTo>
                    <a:pt x="1374" y="3155"/>
                  </a:lnTo>
                  <a:lnTo>
                    <a:pt x="1376" y="3146"/>
                  </a:lnTo>
                  <a:lnTo>
                    <a:pt x="1385" y="3138"/>
                  </a:lnTo>
                  <a:lnTo>
                    <a:pt x="1391" y="3129"/>
                  </a:lnTo>
                  <a:lnTo>
                    <a:pt x="1400" y="3132"/>
                  </a:lnTo>
                  <a:lnTo>
                    <a:pt x="1409" y="3138"/>
                  </a:lnTo>
                  <a:lnTo>
                    <a:pt x="1417" y="3149"/>
                  </a:lnTo>
                  <a:lnTo>
                    <a:pt x="1429" y="3152"/>
                  </a:lnTo>
                  <a:lnTo>
                    <a:pt x="1435" y="3155"/>
                  </a:lnTo>
                  <a:lnTo>
                    <a:pt x="1438" y="3164"/>
                  </a:lnTo>
                  <a:lnTo>
                    <a:pt x="1441" y="3172"/>
                  </a:lnTo>
                  <a:lnTo>
                    <a:pt x="1449" y="3178"/>
                  </a:lnTo>
                  <a:lnTo>
                    <a:pt x="1458" y="3178"/>
                  </a:lnTo>
                  <a:lnTo>
                    <a:pt x="1464" y="3169"/>
                  </a:lnTo>
                  <a:lnTo>
                    <a:pt x="1464" y="3161"/>
                  </a:lnTo>
                  <a:lnTo>
                    <a:pt x="1470" y="3152"/>
                  </a:lnTo>
                  <a:lnTo>
                    <a:pt x="1478" y="3152"/>
                  </a:lnTo>
                  <a:lnTo>
                    <a:pt x="1487" y="3155"/>
                  </a:lnTo>
                  <a:lnTo>
                    <a:pt x="1499" y="3161"/>
                  </a:lnTo>
                  <a:lnTo>
                    <a:pt x="1510" y="3161"/>
                  </a:lnTo>
                  <a:lnTo>
                    <a:pt x="1519" y="3161"/>
                  </a:lnTo>
                  <a:lnTo>
                    <a:pt x="1528" y="3161"/>
                  </a:lnTo>
                  <a:lnTo>
                    <a:pt x="1537" y="3158"/>
                  </a:lnTo>
                  <a:lnTo>
                    <a:pt x="1545" y="3158"/>
                  </a:lnTo>
                  <a:lnTo>
                    <a:pt x="1554" y="3164"/>
                  </a:lnTo>
                  <a:lnTo>
                    <a:pt x="1569" y="3169"/>
                  </a:lnTo>
                  <a:lnTo>
                    <a:pt x="1580" y="3169"/>
                  </a:lnTo>
                  <a:lnTo>
                    <a:pt x="1592" y="3169"/>
                  </a:lnTo>
                  <a:lnTo>
                    <a:pt x="1601" y="3169"/>
                  </a:lnTo>
                  <a:lnTo>
                    <a:pt x="1609" y="3169"/>
                  </a:lnTo>
                  <a:lnTo>
                    <a:pt x="1618" y="3169"/>
                  </a:lnTo>
                  <a:lnTo>
                    <a:pt x="1627" y="3169"/>
                  </a:lnTo>
                  <a:lnTo>
                    <a:pt x="1636" y="3169"/>
                  </a:lnTo>
                  <a:lnTo>
                    <a:pt x="1644" y="3169"/>
                  </a:lnTo>
                  <a:lnTo>
                    <a:pt x="1653" y="3169"/>
                  </a:lnTo>
                  <a:lnTo>
                    <a:pt x="1662" y="3169"/>
                  </a:lnTo>
                  <a:lnTo>
                    <a:pt x="1671" y="3169"/>
                  </a:lnTo>
                  <a:lnTo>
                    <a:pt x="1679" y="3169"/>
                  </a:lnTo>
                  <a:lnTo>
                    <a:pt x="1688" y="3169"/>
                  </a:lnTo>
                  <a:lnTo>
                    <a:pt x="1703" y="3169"/>
                  </a:lnTo>
                  <a:lnTo>
                    <a:pt x="1714" y="3172"/>
                  </a:lnTo>
                  <a:lnTo>
                    <a:pt x="1726" y="3175"/>
                  </a:lnTo>
                  <a:lnTo>
                    <a:pt x="1735" y="3175"/>
                  </a:lnTo>
                  <a:lnTo>
                    <a:pt x="1743" y="3175"/>
                  </a:lnTo>
                  <a:lnTo>
                    <a:pt x="1758" y="3175"/>
                  </a:lnTo>
                  <a:lnTo>
                    <a:pt x="1767" y="3175"/>
                  </a:lnTo>
                  <a:lnTo>
                    <a:pt x="1772" y="3167"/>
                  </a:lnTo>
                  <a:lnTo>
                    <a:pt x="1772" y="3158"/>
                  </a:lnTo>
                  <a:lnTo>
                    <a:pt x="1772" y="3149"/>
                  </a:lnTo>
                  <a:lnTo>
                    <a:pt x="1772" y="3141"/>
                  </a:lnTo>
                  <a:lnTo>
                    <a:pt x="1772" y="3132"/>
                  </a:lnTo>
                  <a:lnTo>
                    <a:pt x="1772" y="3123"/>
                  </a:lnTo>
                  <a:lnTo>
                    <a:pt x="1772" y="3112"/>
                  </a:lnTo>
                  <a:lnTo>
                    <a:pt x="1770" y="3103"/>
                  </a:lnTo>
                  <a:lnTo>
                    <a:pt x="1770" y="3095"/>
                  </a:lnTo>
                  <a:lnTo>
                    <a:pt x="1770" y="3086"/>
                  </a:lnTo>
                  <a:lnTo>
                    <a:pt x="1778" y="3080"/>
                  </a:lnTo>
                  <a:lnTo>
                    <a:pt x="1787" y="3080"/>
                  </a:lnTo>
                  <a:lnTo>
                    <a:pt x="1796" y="3089"/>
                  </a:lnTo>
                  <a:lnTo>
                    <a:pt x="1802" y="3097"/>
                  </a:lnTo>
                  <a:lnTo>
                    <a:pt x="1813" y="3103"/>
                  </a:lnTo>
                  <a:lnTo>
                    <a:pt x="1825" y="3112"/>
                  </a:lnTo>
                  <a:lnTo>
                    <a:pt x="1854" y="3109"/>
                  </a:lnTo>
                  <a:lnTo>
                    <a:pt x="1836" y="3103"/>
                  </a:lnTo>
                  <a:lnTo>
                    <a:pt x="1854" y="3103"/>
                  </a:lnTo>
                  <a:lnTo>
                    <a:pt x="1863" y="3103"/>
                  </a:lnTo>
                  <a:lnTo>
                    <a:pt x="1871" y="3103"/>
                  </a:lnTo>
                  <a:lnTo>
                    <a:pt x="1880" y="3106"/>
                  </a:lnTo>
                  <a:lnTo>
                    <a:pt x="1889" y="3100"/>
                  </a:lnTo>
                  <a:lnTo>
                    <a:pt x="1898" y="3097"/>
                  </a:lnTo>
                  <a:lnTo>
                    <a:pt x="1906" y="3095"/>
                  </a:lnTo>
                  <a:lnTo>
                    <a:pt x="1918" y="3103"/>
                  </a:lnTo>
                  <a:lnTo>
                    <a:pt x="1924" y="3112"/>
                  </a:lnTo>
                  <a:lnTo>
                    <a:pt x="1924" y="3120"/>
                  </a:lnTo>
                  <a:lnTo>
                    <a:pt x="1921" y="3129"/>
                  </a:lnTo>
                  <a:lnTo>
                    <a:pt x="1924" y="3138"/>
                  </a:lnTo>
                  <a:lnTo>
                    <a:pt x="1933" y="3144"/>
                  </a:lnTo>
                  <a:lnTo>
                    <a:pt x="1944" y="3152"/>
                  </a:lnTo>
                  <a:lnTo>
                    <a:pt x="1947" y="3144"/>
                  </a:lnTo>
                  <a:lnTo>
                    <a:pt x="1947" y="3135"/>
                  </a:lnTo>
                  <a:lnTo>
                    <a:pt x="1947" y="3126"/>
                  </a:lnTo>
                  <a:lnTo>
                    <a:pt x="1947" y="3118"/>
                  </a:lnTo>
                  <a:lnTo>
                    <a:pt x="1956" y="3115"/>
                  </a:lnTo>
                  <a:lnTo>
                    <a:pt x="1962" y="3106"/>
                  </a:lnTo>
                  <a:lnTo>
                    <a:pt x="1962" y="3097"/>
                  </a:lnTo>
                  <a:lnTo>
                    <a:pt x="1962" y="3089"/>
                  </a:lnTo>
                  <a:lnTo>
                    <a:pt x="1962" y="3080"/>
                  </a:lnTo>
                  <a:lnTo>
                    <a:pt x="1962" y="3071"/>
                  </a:lnTo>
                  <a:lnTo>
                    <a:pt x="1967" y="3063"/>
                  </a:lnTo>
                  <a:lnTo>
                    <a:pt x="1976" y="3060"/>
                  </a:lnTo>
                  <a:lnTo>
                    <a:pt x="1988" y="3060"/>
                  </a:lnTo>
                  <a:lnTo>
                    <a:pt x="2002" y="3063"/>
                  </a:lnTo>
                  <a:lnTo>
                    <a:pt x="2011" y="3063"/>
                  </a:lnTo>
                  <a:lnTo>
                    <a:pt x="2002" y="3054"/>
                  </a:lnTo>
                  <a:lnTo>
                    <a:pt x="1994" y="3048"/>
                  </a:lnTo>
                  <a:lnTo>
                    <a:pt x="1979" y="3043"/>
                  </a:lnTo>
                  <a:lnTo>
                    <a:pt x="1967" y="3034"/>
                  </a:lnTo>
                  <a:lnTo>
                    <a:pt x="1962" y="3025"/>
                  </a:lnTo>
                  <a:lnTo>
                    <a:pt x="1959" y="3017"/>
                  </a:lnTo>
                  <a:lnTo>
                    <a:pt x="1956" y="3008"/>
                  </a:lnTo>
                  <a:lnTo>
                    <a:pt x="1950" y="2999"/>
                  </a:lnTo>
                  <a:lnTo>
                    <a:pt x="1944" y="2991"/>
                  </a:lnTo>
                  <a:lnTo>
                    <a:pt x="1938" y="2982"/>
                  </a:lnTo>
                  <a:lnTo>
                    <a:pt x="1933" y="2974"/>
                  </a:lnTo>
                  <a:lnTo>
                    <a:pt x="1927" y="2965"/>
                  </a:lnTo>
                  <a:lnTo>
                    <a:pt x="1924" y="2956"/>
                  </a:lnTo>
                  <a:lnTo>
                    <a:pt x="1921" y="2948"/>
                  </a:lnTo>
                  <a:lnTo>
                    <a:pt x="1918" y="2939"/>
                  </a:lnTo>
                  <a:lnTo>
                    <a:pt x="1915" y="2930"/>
                  </a:lnTo>
                  <a:lnTo>
                    <a:pt x="1912" y="2922"/>
                  </a:lnTo>
                  <a:lnTo>
                    <a:pt x="1915" y="2913"/>
                  </a:lnTo>
                  <a:lnTo>
                    <a:pt x="1915" y="2904"/>
                  </a:lnTo>
                  <a:lnTo>
                    <a:pt x="1915" y="2896"/>
                  </a:lnTo>
                  <a:lnTo>
                    <a:pt x="1915" y="2887"/>
                  </a:lnTo>
                  <a:lnTo>
                    <a:pt x="1912" y="2878"/>
                  </a:lnTo>
                  <a:lnTo>
                    <a:pt x="1909" y="2870"/>
                  </a:lnTo>
                  <a:lnTo>
                    <a:pt x="1903" y="2861"/>
                  </a:lnTo>
                  <a:lnTo>
                    <a:pt x="1895" y="2852"/>
                  </a:lnTo>
                  <a:lnTo>
                    <a:pt x="1892" y="2844"/>
                  </a:lnTo>
                  <a:lnTo>
                    <a:pt x="1892" y="2835"/>
                  </a:lnTo>
                  <a:lnTo>
                    <a:pt x="1898" y="2827"/>
                  </a:lnTo>
                  <a:lnTo>
                    <a:pt x="1906" y="2824"/>
                  </a:lnTo>
                  <a:lnTo>
                    <a:pt x="1918" y="2821"/>
                  </a:lnTo>
                  <a:lnTo>
                    <a:pt x="1930" y="2818"/>
                  </a:lnTo>
                  <a:lnTo>
                    <a:pt x="1938" y="2812"/>
                  </a:lnTo>
                  <a:lnTo>
                    <a:pt x="1944" y="2803"/>
                  </a:lnTo>
                  <a:lnTo>
                    <a:pt x="1953" y="2798"/>
                  </a:lnTo>
                  <a:lnTo>
                    <a:pt x="1962" y="2798"/>
                  </a:lnTo>
                  <a:lnTo>
                    <a:pt x="1970" y="2798"/>
                  </a:lnTo>
                  <a:lnTo>
                    <a:pt x="1976" y="2789"/>
                  </a:lnTo>
                  <a:lnTo>
                    <a:pt x="1982" y="2780"/>
                  </a:lnTo>
                  <a:lnTo>
                    <a:pt x="1991" y="2775"/>
                  </a:lnTo>
                  <a:lnTo>
                    <a:pt x="1999" y="2775"/>
                  </a:lnTo>
                  <a:lnTo>
                    <a:pt x="2008" y="2769"/>
                  </a:lnTo>
                  <a:lnTo>
                    <a:pt x="2017" y="2763"/>
                  </a:lnTo>
                  <a:lnTo>
                    <a:pt x="2026" y="2760"/>
                  </a:lnTo>
                  <a:lnTo>
                    <a:pt x="2034" y="2760"/>
                  </a:lnTo>
                  <a:lnTo>
                    <a:pt x="2043" y="2760"/>
                  </a:lnTo>
                  <a:lnTo>
                    <a:pt x="2052" y="2754"/>
                  </a:lnTo>
                  <a:lnTo>
                    <a:pt x="2061" y="2754"/>
                  </a:lnTo>
                  <a:lnTo>
                    <a:pt x="2069" y="2757"/>
                  </a:lnTo>
                  <a:lnTo>
                    <a:pt x="2078" y="2757"/>
                  </a:lnTo>
                  <a:lnTo>
                    <a:pt x="2093" y="2760"/>
                  </a:lnTo>
                  <a:lnTo>
                    <a:pt x="2101" y="2760"/>
                  </a:lnTo>
                  <a:lnTo>
                    <a:pt x="2101" y="2769"/>
                  </a:lnTo>
                  <a:lnTo>
                    <a:pt x="2101" y="2778"/>
                  </a:lnTo>
                  <a:lnTo>
                    <a:pt x="2101" y="2786"/>
                  </a:lnTo>
                  <a:lnTo>
                    <a:pt x="2104" y="2795"/>
                  </a:lnTo>
                  <a:lnTo>
                    <a:pt x="2104" y="2803"/>
                  </a:lnTo>
                  <a:lnTo>
                    <a:pt x="2104" y="2812"/>
                  </a:lnTo>
                  <a:lnTo>
                    <a:pt x="2104" y="2821"/>
                  </a:lnTo>
                  <a:lnTo>
                    <a:pt x="2104" y="2829"/>
                  </a:lnTo>
                  <a:lnTo>
                    <a:pt x="2104" y="2838"/>
                  </a:lnTo>
                  <a:lnTo>
                    <a:pt x="2096" y="2841"/>
                  </a:lnTo>
                  <a:lnTo>
                    <a:pt x="2087" y="2841"/>
                  </a:lnTo>
                  <a:lnTo>
                    <a:pt x="2078" y="2841"/>
                  </a:lnTo>
                  <a:lnTo>
                    <a:pt x="2069" y="2841"/>
                  </a:lnTo>
                  <a:lnTo>
                    <a:pt x="2061" y="2841"/>
                  </a:lnTo>
                  <a:lnTo>
                    <a:pt x="2069" y="2841"/>
                  </a:lnTo>
                  <a:lnTo>
                    <a:pt x="2078" y="2835"/>
                  </a:lnTo>
                  <a:lnTo>
                    <a:pt x="2090" y="2835"/>
                  </a:lnTo>
                  <a:lnTo>
                    <a:pt x="2081" y="2832"/>
                  </a:lnTo>
                  <a:lnTo>
                    <a:pt x="2072" y="2832"/>
                  </a:lnTo>
                  <a:lnTo>
                    <a:pt x="2064" y="2832"/>
                  </a:lnTo>
                  <a:lnTo>
                    <a:pt x="2058" y="2841"/>
                  </a:lnTo>
                  <a:lnTo>
                    <a:pt x="2049" y="2844"/>
                  </a:lnTo>
                  <a:lnTo>
                    <a:pt x="2040" y="2847"/>
                  </a:lnTo>
                  <a:lnTo>
                    <a:pt x="2040" y="2855"/>
                  </a:lnTo>
                  <a:lnTo>
                    <a:pt x="2040" y="2864"/>
                  </a:lnTo>
                  <a:lnTo>
                    <a:pt x="2032" y="2870"/>
                  </a:lnTo>
                  <a:lnTo>
                    <a:pt x="2020" y="2870"/>
                  </a:lnTo>
                  <a:lnTo>
                    <a:pt x="2017" y="2861"/>
                  </a:lnTo>
                  <a:lnTo>
                    <a:pt x="2008" y="2858"/>
                  </a:lnTo>
                  <a:lnTo>
                    <a:pt x="2002" y="2867"/>
                  </a:lnTo>
                  <a:lnTo>
                    <a:pt x="2002" y="2876"/>
                  </a:lnTo>
                  <a:lnTo>
                    <a:pt x="2011" y="2878"/>
                  </a:lnTo>
                  <a:lnTo>
                    <a:pt x="2020" y="2884"/>
                  </a:lnTo>
                  <a:lnTo>
                    <a:pt x="2029" y="2896"/>
                  </a:lnTo>
                  <a:lnTo>
                    <a:pt x="2034" y="2907"/>
                  </a:lnTo>
                  <a:lnTo>
                    <a:pt x="2037" y="2916"/>
                  </a:lnTo>
                  <a:lnTo>
                    <a:pt x="2037" y="2925"/>
                  </a:lnTo>
                  <a:lnTo>
                    <a:pt x="2040" y="2933"/>
                  </a:lnTo>
                  <a:lnTo>
                    <a:pt x="2040" y="2942"/>
                  </a:lnTo>
                  <a:lnTo>
                    <a:pt x="2052" y="2945"/>
                  </a:lnTo>
                  <a:lnTo>
                    <a:pt x="2061" y="2953"/>
                  </a:lnTo>
                  <a:lnTo>
                    <a:pt x="2069" y="2959"/>
                  </a:lnTo>
                  <a:lnTo>
                    <a:pt x="2078" y="2965"/>
                  </a:lnTo>
                  <a:lnTo>
                    <a:pt x="2087" y="2965"/>
                  </a:lnTo>
                  <a:lnTo>
                    <a:pt x="2093" y="2976"/>
                  </a:lnTo>
                  <a:lnTo>
                    <a:pt x="2087" y="2985"/>
                  </a:lnTo>
                  <a:lnTo>
                    <a:pt x="2084" y="2994"/>
                  </a:lnTo>
                  <a:lnTo>
                    <a:pt x="2084" y="3005"/>
                  </a:lnTo>
                  <a:lnTo>
                    <a:pt x="2090" y="3017"/>
                  </a:lnTo>
                  <a:lnTo>
                    <a:pt x="2090" y="3025"/>
                  </a:lnTo>
                  <a:lnTo>
                    <a:pt x="2093" y="3017"/>
                  </a:lnTo>
                  <a:lnTo>
                    <a:pt x="2093" y="3008"/>
                  </a:lnTo>
                  <a:lnTo>
                    <a:pt x="2096" y="2999"/>
                  </a:lnTo>
                  <a:lnTo>
                    <a:pt x="2096" y="2991"/>
                  </a:lnTo>
                  <a:lnTo>
                    <a:pt x="2104" y="2988"/>
                  </a:lnTo>
                  <a:lnTo>
                    <a:pt x="2113" y="2988"/>
                  </a:lnTo>
                  <a:lnTo>
                    <a:pt x="2125" y="2988"/>
                  </a:lnTo>
                  <a:lnTo>
                    <a:pt x="2130" y="2999"/>
                  </a:lnTo>
                  <a:lnTo>
                    <a:pt x="2130" y="3008"/>
                  </a:lnTo>
                  <a:lnTo>
                    <a:pt x="2133" y="3017"/>
                  </a:lnTo>
                  <a:lnTo>
                    <a:pt x="2139" y="3028"/>
                  </a:lnTo>
                  <a:lnTo>
                    <a:pt x="2148" y="3034"/>
                  </a:lnTo>
                  <a:lnTo>
                    <a:pt x="2160" y="3040"/>
                  </a:lnTo>
                  <a:lnTo>
                    <a:pt x="2151" y="3043"/>
                  </a:lnTo>
                  <a:lnTo>
                    <a:pt x="2148" y="3051"/>
                  </a:lnTo>
                  <a:lnTo>
                    <a:pt x="2133" y="3054"/>
                  </a:lnTo>
                  <a:lnTo>
                    <a:pt x="2125" y="3051"/>
                  </a:lnTo>
                  <a:lnTo>
                    <a:pt x="2116" y="3051"/>
                  </a:lnTo>
                  <a:lnTo>
                    <a:pt x="2101" y="3046"/>
                  </a:lnTo>
                  <a:lnTo>
                    <a:pt x="2093" y="3037"/>
                  </a:lnTo>
                  <a:lnTo>
                    <a:pt x="2090" y="3046"/>
                  </a:lnTo>
                  <a:lnTo>
                    <a:pt x="2090" y="3054"/>
                  </a:lnTo>
                  <a:lnTo>
                    <a:pt x="2090" y="3063"/>
                  </a:lnTo>
                  <a:lnTo>
                    <a:pt x="2090" y="3071"/>
                  </a:lnTo>
                  <a:lnTo>
                    <a:pt x="2087" y="3080"/>
                  </a:lnTo>
                  <a:lnTo>
                    <a:pt x="2084" y="3089"/>
                  </a:lnTo>
                  <a:lnTo>
                    <a:pt x="2084" y="3097"/>
                  </a:lnTo>
                  <a:lnTo>
                    <a:pt x="2096" y="3097"/>
                  </a:lnTo>
                  <a:lnTo>
                    <a:pt x="2104" y="3092"/>
                  </a:lnTo>
                  <a:lnTo>
                    <a:pt x="2110" y="3100"/>
                  </a:lnTo>
                  <a:lnTo>
                    <a:pt x="2107" y="3109"/>
                  </a:lnTo>
                  <a:lnTo>
                    <a:pt x="2098" y="3118"/>
                  </a:lnTo>
                  <a:lnTo>
                    <a:pt x="2090" y="3123"/>
                  </a:lnTo>
                  <a:lnTo>
                    <a:pt x="2087" y="3109"/>
                  </a:lnTo>
                  <a:lnTo>
                    <a:pt x="2087" y="3132"/>
                  </a:lnTo>
                  <a:lnTo>
                    <a:pt x="2096" y="3126"/>
                  </a:lnTo>
                  <a:lnTo>
                    <a:pt x="2087" y="3109"/>
                  </a:lnTo>
                  <a:lnTo>
                    <a:pt x="2104" y="3112"/>
                  </a:lnTo>
                  <a:lnTo>
                    <a:pt x="2110" y="3103"/>
                  </a:lnTo>
                  <a:lnTo>
                    <a:pt x="2110" y="3112"/>
                  </a:lnTo>
                  <a:lnTo>
                    <a:pt x="2110" y="3120"/>
                  </a:lnTo>
                  <a:lnTo>
                    <a:pt x="2116" y="3129"/>
                  </a:lnTo>
                  <a:lnTo>
                    <a:pt x="2119" y="3138"/>
                  </a:lnTo>
                  <a:lnTo>
                    <a:pt x="2122" y="3149"/>
                  </a:lnTo>
                  <a:lnTo>
                    <a:pt x="2122" y="3158"/>
                  </a:lnTo>
                  <a:lnTo>
                    <a:pt x="2125" y="3167"/>
                  </a:lnTo>
                  <a:lnTo>
                    <a:pt x="2125" y="3175"/>
                  </a:lnTo>
                  <a:lnTo>
                    <a:pt x="2125" y="3184"/>
                  </a:lnTo>
                  <a:lnTo>
                    <a:pt x="2125" y="3193"/>
                  </a:lnTo>
                  <a:lnTo>
                    <a:pt x="2128" y="3201"/>
                  </a:lnTo>
                  <a:lnTo>
                    <a:pt x="2130" y="3210"/>
                  </a:lnTo>
                  <a:lnTo>
                    <a:pt x="2139" y="3210"/>
                  </a:lnTo>
                  <a:lnTo>
                    <a:pt x="2148" y="3210"/>
                  </a:lnTo>
                  <a:lnTo>
                    <a:pt x="2157" y="3207"/>
                  </a:lnTo>
                  <a:lnTo>
                    <a:pt x="2163" y="3198"/>
                  </a:lnTo>
                  <a:lnTo>
                    <a:pt x="2171" y="3195"/>
                  </a:lnTo>
                  <a:lnTo>
                    <a:pt x="2183" y="3193"/>
                  </a:lnTo>
                  <a:lnTo>
                    <a:pt x="2192" y="3190"/>
                  </a:lnTo>
                  <a:lnTo>
                    <a:pt x="2200" y="3184"/>
                  </a:lnTo>
                  <a:lnTo>
                    <a:pt x="2209" y="3181"/>
                  </a:lnTo>
                  <a:lnTo>
                    <a:pt x="2218" y="3181"/>
                  </a:lnTo>
                  <a:lnTo>
                    <a:pt x="2224" y="3172"/>
                  </a:lnTo>
                  <a:lnTo>
                    <a:pt x="2232" y="3169"/>
                  </a:lnTo>
                  <a:lnTo>
                    <a:pt x="2241" y="3169"/>
                  </a:lnTo>
                  <a:lnTo>
                    <a:pt x="2256" y="3169"/>
                  </a:lnTo>
                  <a:lnTo>
                    <a:pt x="2264" y="3169"/>
                  </a:lnTo>
                  <a:lnTo>
                    <a:pt x="2276" y="3178"/>
                  </a:lnTo>
                  <a:lnTo>
                    <a:pt x="2288" y="3184"/>
                  </a:lnTo>
                  <a:lnTo>
                    <a:pt x="2296" y="3187"/>
                  </a:lnTo>
                  <a:lnTo>
                    <a:pt x="2308" y="3190"/>
                  </a:lnTo>
                  <a:lnTo>
                    <a:pt x="2317" y="3195"/>
                  </a:lnTo>
                  <a:lnTo>
                    <a:pt x="2328" y="3198"/>
                  </a:lnTo>
                  <a:lnTo>
                    <a:pt x="2340" y="3201"/>
                  </a:lnTo>
                  <a:lnTo>
                    <a:pt x="2349" y="3207"/>
                  </a:lnTo>
                  <a:lnTo>
                    <a:pt x="2358" y="3216"/>
                  </a:lnTo>
                  <a:lnTo>
                    <a:pt x="2366" y="3221"/>
                  </a:lnTo>
                  <a:lnTo>
                    <a:pt x="2375" y="3227"/>
                  </a:lnTo>
                  <a:lnTo>
                    <a:pt x="2387" y="3230"/>
                  </a:lnTo>
                  <a:lnTo>
                    <a:pt x="2395" y="3230"/>
                  </a:lnTo>
                  <a:lnTo>
                    <a:pt x="2404" y="3230"/>
                  </a:lnTo>
                  <a:lnTo>
                    <a:pt x="2407" y="3239"/>
                  </a:lnTo>
                  <a:lnTo>
                    <a:pt x="2407" y="3247"/>
                  </a:lnTo>
                  <a:lnTo>
                    <a:pt x="2413" y="3256"/>
                  </a:lnTo>
                  <a:lnTo>
                    <a:pt x="2422" y="3262"/>
                  </a:lnTo>
                  <a:lnTo>
                    <a:pt x="2436" y="3265"/>
                  </a:lnTo>
                  <a:lnTo>
                    <a:pt x="2451" y="3270"/>
                  </a:lnTo>
                  <a:lnTo>
                    <a:pt x="2457" y="3279"/>
                  </a:lnTo>
                  <a:lnTo>
                    <a:pt x="2457" y="3288"/>
                  </a:lnTo>
                  <a:lnTo>
                    <a:pt x="2468" y="3291"/>
                  </a:lnTo>
                  <a:lnTo>
                    <a:pt x="2483" y="3288"/>
                  </a:lnTo>
                  <a:lnTo>
                    <a:pt x="2491" y="3285"/>
                  </a:lnTo>
                  <a:lnTo>
                    <a:pt x="2500" y="3276"/>
                  </a:lnTo>
                  <a:lnTo>
                    <a:pt x="2509" y="3270"/>
                  </a:lnTo>
                  <a:lnTo>
                    <a:pt x="2515" y="3262"/>
                  </a:lnTo>
                  <a:lnTo>
                    <a:pt x="2521" y="3253"/>
                  </a:lnTo>
                  <a:lnTo>
                    <a:pt x="2526" y="3244"/>
                  </a:lnTo>
                  <a:lnTo>
                    <a:pt x="2532" y="3236"/>
                  </a:lnTo>
                  <a:lnTo>
                    <a:pt x="2535" y="3227"/>
                  </a:lnTo>
                  <a:lnTo>
                    <a:pt x="2541" y="3218"/>
                  </a:lnTo>
                  <a:lnTo>
                    <a:pt x="2544" y="3210"/>
                  </a:lnTo>
                  <a:lnTo>
                    <a:pt x="2544" y="3198"/>
                  </a:lnTo>
                  <a:lnTo>
                    <a:pt x="2544" y="3190"/>
                  </a:lnTo>
                  <a:lnTo>
                    <a:pt x="2553" y="3181"/>
                  </a:lnTo>
                  <a:lnTo>
                    <a:pt x="2567" y="3181"/>
                  </a:lnTo>
                  <a:lnTo>
                    <a:pt x="2599" y="3155"/>
                  </a:lnTo>
                  <a:lnTo>
                    <a:pt x="2599" y="3164"/>
                  </a:lnTo>
                  <a:lnTo>
                    <a:pt x="2608" y="3169"/>
                  </a:lnTo>
                  <a:lnTo>
                    <a:pt x="2617" y="3178"/>
                  </a:lnTo>
                  <a:lnTo>
                    <a:pt x="2625" y="3181"/>
                  </a:lnTo>
                  <a:lnTo>
                    <a:pt x="2634" y="3178"/>
                  </a:lnTo>
                  <a:lnTo>
                    <a:pt x="2643" y="3172"/>
                  </a:lnTo>
                  <a:lnTo>
                    <a:pt x="2657" y="3169"/>
                  </a:lnTo>
                  <a:lnTo>
                    <a:pt x="2666" y="3169"/>
                  </a:lnTo>
                  <a:lnTo>
                    <a:pt x="2675" y="3169"/>
                  </a:lnTo>
                  <a:lnTo>
                    <a:pt x="2684" y="3164"/>
                  </a:lnTo>
                  <a:lnTo>
                    <a:pt x="2692" y="3155"/>
                  </a:lnTo>
                  <a:lnTo>
                    <a:pt x="2739" y="3155"/>
                  </a:lnTo>
                  <a:lnTo>
                    <a:pt x="2733" y="3138"/>
                  </a:lnTo>
                  <a:lnTo>
                    <a:pt x="2733" y="3126"/>
                  </a:lnTo>
                  <a:lnTo>
                    <a:pt x="2730" y="3118"/>
                  </a:lnTo>
                  <a:lnTo>
                    <a:pt x="2739" y="3112"/>
                  </a:lnTo>
                  <a:lnTo>
                    <a:pt x="2748" y="3106"/>
                  </a:lnTo>
                  <a:lnTo>
                    <a:pt x="2753" y="3097"/>
                  </a:lnTo>
                  <a:lnTo>
                    <a:pt x="2762" y="3092"/>
                  </a:lnTo>
                  <a:lnTo>
                    <a:pt x="2771" y="3092"/>
                  </a:lnTo>
                  <a:lnTo>
                    <a:pt x="2780" y="3095"/>
                  </a:lnTo>
                  <a:lnTo>
                    <a:pt x="2783" y="3103"/>
                  </a:lnTo>
                  <a:lnTo>
                    <a:pt x="2786" y="3112"/>
                  </a:lnTo>
                  <a:lnTo>
                    <a:pt x="2786" y="3126"/>
                  </a:lnTo>
                  <a:lnTo>
                    <a:pt x="2788" y="3135"/>
                  </a:lnTo>
                  <a:lnTo>
                    <a:pt x="2791" y="3144"/>
                  </a:lnTo>
                  <a:lnTo>
                    <a:pt x="2794" y="3152"/>
                  </a:lnTo>
                  <a:lnTo>
                    <a:pt x="2800" y="3161"/>
                  </a:lnTo>
                  <a:lnTo>
                    <a:pt x="2809" y="3167"/>
                  </a:lnTo>
                  <a:lnTo>
                    <a:pt x="2818" y="3167"/>
                  </a:lnTo>
                  <a:lnTo>
                    <a:pt x="2826" y="3167"/>
                  </a:lnTo>
                  <a:lnTo>
                    <a:pt x="2832" y="3158"/>
                  </a:lnTo>
                  <a:lnTo>
                    <a:pt x="2841" y="3152"/>
                  </a:lnTo>
                  <a:lnTo>
                    <a:pt x="2844" y="3144"/>
                  </a:lnTo>
                  <a:lnTo>
                    <a:pt x="2847" y="3135"/>
                  </a:lnTo>
                  <a:lnTo>
                    <a:pt x="2850" y="3123"/>
                  </a:lnTo>
                  <a:lnTo>
                    <a:pt x="2858" y="3115"/>
                  </a:lnTo>
                  <a:lnTo>
                    <a:pt x="2870" y="3115"/>
                  </a:lnTo>
                  <a:lnTo>
                    <a:pt x="2879" y="3115"/>
                  </a:lnTo>
                  <a:lnTo>
                    <a:pt x="2887" y="3115"/>
                  </a:lnTo>
                  <a:lnTo>
                    <a:pt x="2896" y="3115"/>
                  </a:lnTo>
                  <a:lnTo>
                    <a:pt x="2902" y="3106"/>
                  </a:lnTo>
                  <a:lnTo>
                    <a:pt x="2914" y="3103"/>
                  </a:lnTo>
                  <a:lnTo>
                    <a:pt x="2922" y="3103"/>
                  </a:lnTo>
                  <a:lnTo>
                    <a:pt x="2925" y="3095"/>
                  </a:lnTo>
                  <a:lnTo>
                    <a:pt x="2925" y="3086"/>
                  </a:lnTo>
                  <a:lnTo>
                    <a:pt x="2922" y="3077"/>
                  </a:lnTo>
                  <a:lnTo>
                    <a:pt x="2917" y="3066"/>
                  </a:lnTo>
                  <a:lnTo>
                    <a:pt x="2911" y="3057"/>
                  </a:lnTo>
                  <a:lnTo>
                    <a:pt x="2905" y="3048"/>
                  </a:lnTo>
                  <a:lnTo>
                    <a:pt x="2896" y="3046"/>
                  </a:lnTo>
                  <a:lnTo>
                    <a:pt x="2887" y="3048"/>
                  </a:lnTo>
                  <a:lnTo>
                    <a:pt x="2879" y="3051"/>
                  </a:lnTo>
                  <a:lnTo>
                    <a:pt x="2876" y="3060"/>
                  </a:lnTo>
                  <a:lnTo>
                    <a:pt x="2873" y="3069"/>
                  </a:lnTo>
                  <a:lnTo>
                    <a:pt x="2864" y="3066"/>
                  </a:lnTo>
                  <a:lnTo>
                    <a:pt x="2861" y="3054"/>
                  </a:lnTo>
                  <a:lnTo>
                    <a:pt x="2858" y="3043"/>
                  </a:lnTo>
                  <a:lnTo>
                    <a:pt x="2858" y="3034"/>
                  </a:lnTo>
                  <a:lnTo>
                    <a:pt x="2855" y="3025"/>
                  </a:lnTo>
                  <a:lnTo>
                    <a:pt x="2850" y="3017"/>
                  </a:lnTo>
                  <a:lnTo>
                    <a:pt x="2850" y="3008"/>
                  </a:lnTo>
                  <a:lnTo>
                    <a:pt x="2850" y="2997"/>
                  </a:lnTo>
                  <a:lnTo>
                    <a:pt x="2850" y="2988"/>
                  </a:lnTo>
                  <a:lnTo>
                    <a:pt x="2858" y="2982"/>
                  </a:lnTo>
                  <a:lnTo>
                    <a:pt x="2867" y="2982"/>
                  </a:lnTo>
                  <a:lnTo>
                    <a:pt x="2876" y="2979"/>
                  </a:lnTo>
                  <a:lnTo>
                    <a:pt x="2884" y="2974"/>
                  </a:lnTo>
                  <a:lnTo>
                    <a:pt x="2887" y="2962"/>
                  </a:lnTo>
                  <a:lnTo>
                    <a:pt x="2896" y="2962"/>
                  </a:lnTo>
                  <a:lnTo>
                    <a:pt x="2905" y="2962"/>
                  </a:lnTo>
                  <a:lnTo>
                    <a:pt x="2914" y="2962"/>
                  </a:lnTo>
                  <a:lnTo>
                    <a:pt x="2922" y="2959"/>
                  </a:lnTo>
                  <a:lnTo>
                    <a:pt x="2931" y="2956"/>
                  </a:lnTo>
                  <a:lnTo>
                    <a:pt x="2937" y="2948"/>
                  </a:lnTo>
                  <a:lnTo>
                    <a:pt x="2943" y="2939"/>
                  </a:lnTo>
                  <a:lnTo>
                    <a:pt x="2946" y="2930"/>
                  </a:lnTo>
                  <a:lnTo>
                    <a:pt x="2954" y="2925"/>
                  </a:lnTo>
                  <a:lnTo>
                    <a:pt x="2963" y="2919"/>
                  </a:lnTo>
                  <a:lnTo>
                    <a:pt x="2972" y="2916"/>
                  </a:lnTo>
                  <a:lnTo>
                    <a:pt x="2981" y="2913"/>
                  </a:lnTo>
                  <a:lnTo>
                    <a:pt x="2983" y="2904"/>
                  </a:lnTo>
                  <a:lnTo>
                    <a:pt x="2989" y="2893"/>
                  </a:lnTo>
                  <a:lnTo>
                    <a:pt x="2998" y="2881"/>
                  </a:lnTo>
                  <a:lnTo>
                    <a:pt x="3004" y="2873"/>
                  </a:lnTo>
                  <a:lnTo>
                    <a:pt x="3010" y="2864"/>
                  </a:lnTo>
                  <a:lnTo>
                    <a:pt x="3018" y="2858"/>
                  </a:lnTo>
                  <a:lnTo>
                    <a:pt x="3027" y="2852"/>
                  </a:lnTo>
                  <a:lnTo>
                    <a:pt x="3036" y="2847"/>
                  </a:lnTo>
                  <a:lnTo>
                    <a:pt x="3045" y="2847"/>
                  </a:lnTo>
                  <a:lnTo>
                    <a:pt x="3053" y="2844"/>
                  </a:lnTo>
                  <a:lnTo>
                    <a:pt x="3053" y="2835"/>
                  </a:lnTo>
                  <a:lnTo>
                    <a:pt x="3053" y="2827"/>
                  </a:lnTo>
                  <a:lnTo>
                    <a:pt x="3053" y="2818"/>
                  </a:lnTo>
                  <a:lnTo>
                    <a:pt x="3053" y="2809"/>
                  </a:lnTo>
                  <a:lnTo>
                    <a:pt x="3050" y="2801"/>
                  </a:lnTo>
                  <a:lnTo>
                    <a:pt x="3045" y="2789"/>
                  </a:lnTo>
                  <a:lnTo>
                    <a:pt x="3045" y="2780"/>
                  </a:lnTo>
                  <a:lnTo>
                    <a:pt x="3045" y="2772"/>
                  </a:lnTo>
                  <a:lnTo>
                    <a:pt x="3045" y="2763"/>
                  </a:lnTo>
                  <a:lnTo>
                    <a:pt x="3036" y="2754"/>
                  </a:lnTo>
                  <a:lnTo>
                    <a:pt x="3027" y="2743"/>
                  </a:lnTo>
                  <a:lnTo>
                    <a:pt x="3024" y="2734"/>
                  </a:lnTo>
                  <a:lnTo>
                    <a:pt x="3021" y="2726"/>
                  </a:lnTo>
                  <a:lnTo>
                    <a:pt x="3018" y="2717"/>
                  </a:lnTo>
                  <a:lnTo>
                    <a:pt x="3010" y="2708"/>
                  </a:lnTo>
                  <a:lnTo>
                    <a:pt x="3001" y="2705"/>
                  </a:lnTo>
                  <a:lnTo>
                    <a:pt x="3001" y="2697"/>
                  </a:lnTo>
                  <a:lnTo>
                    <a:pt x="3010" y="2694"/>
                  </a:lnTo>
                  <a:lnTo>
                    <a:pt x="3018" y="2688"/>
                  </a:lnTo>
                  <a:lnTo>
                    <a:pt x="3027" y="2682"/>
                  </a:lnTo>
                  <a:lnTo>
                    <a:pt x="3030" y="2674"/>
                  </a:lnTo>
                  <a:lnTo>
                    <a:pt x="3039" y="2665"/>
                  </a:lnTo>
                  <a:lnTo>
                    <a:pt x="3045" y="2657"/>
                  </a:lnTo>
                  <a:lnTo>
                    <a:pt x="3056" y="2659"/>
                  </a:lnTo>
                  <a:lnTo>
                    <a:pt x="3065" y="2665"/>
                  </a:lnTo>
                  <a:lnTo>
                    <a:pt x="3074" y="2665"/>
                  </a:lnTo>
                  <a:lnTo>
                    <a:pt x="3077" y="2657"/>
                  </a:lnTo>
                  <a:lnTo>
                    <a:pt x="3077" y="2645"/>
                  </a:lnTo>
                  <a:lnTo>
                    <a:pt x="3077" y="2636"/>
                  </a:lnTo>
                  <a:lnTo>
                    <a:pt x="3077" y="2628"/>
                  </a:lnTo>
                  <a:lnTo>
                    <a:pt x="3071" y="2619"/>
                  </a:lnTo>
                  <a:lnTo>
                    <a:pt x="3062" y="2613"/>
                  </a:lnTo>
                  <a:lnTo>
                    <a:pt x="3056" y="2605"/>
                  </a:lnTo>
                  <a:lnTo>
                    <a:pt x="3056" y="2596"/>
                  </a:lnTo>
                  <a:lnTo>
                    <a:pt x="3053" y="2582"/>
                  </a:lnTo>
                  <a:lnTo>
                    <a:pt x="3053" y="2573"/>
                  </a:lnTo>
                  <a:lnTo>
                    <a:pt x="3062" y="2567"/>
                  </a:lnTo>
                  <a:lnTo>
                    <a:pt x="3071" y="2567"/>
                  </a:lnTo>
                  <a:lnTo>
                    <a:pt x="3080" y="2564"/>
                  </a:lnTo>
                  <a:lnTo>
                    <a:pt x="3088" y="2564"/>
                  </a:lnTo>
                  <a:lnTo>
                    <a:pt x="3097" y="2561"/>
                  </a:lnTo>
                  <a:lnTo>
                    <a:pt x="3109" y="2556"/>
                  </a:lnTo>
                  <a:lnTo>
                    <a:pt x="3117" y="2547"/>
                  </a:lnTo>
                  <a:lnTo>
                    <a:pt x="3120" y="2538"/>
                  </a:lnTo>
                  <a:lnTo>
                    <a:pt x="3120" y="2530"/>
                  </a:lnTo>
                  <a:lnTo>
                    <a:pt x="3120" y="2521"/>
                  </a:lnTo>
                  <a:lnTo>
                    <a:pt x="3120" y="2512"/>
                  </a:lnTo>
                  <a:lnTo>
                    <a:pt x="3114" y="2501"/>
                  </a:lnTo>
                  <a:lnTo>
                    <a:pt x="3112" y="2489"/>
                  </a:lnTo>
                  <a:lnTo>
                    <a:pt x="3112" y="2481"/>
                  </a:lnTo>
                  <a:lnTo>
                    <a:pt x="3112" y="2472"/>
                  </a:lnTo>
                  <a:lnTo>
                    <a:pt x="3120" y="2463"/>
                  </a:lnTo>
                  <a:lnTo>
                    <a:pt x="3129" y="2461"/>
                  </a:lnTo>
                  <a:lnTo>
                    <a:pt x="3135" y="2452"/>
                  </a:lnTo>
                  <a:lnTo>
                    <a:pt x="3135" y="2443"/>
                  </a:lnTo>
                  <a:lnTo>
                    <a:pt x="3135" y="2435"/>
                  </a:lnTo>
                  <a:lnTo>
                    <a:pt x="3144" y="2429"/>
                  </a:lnTo>
                  <a:lnTo>
                    <a:pt x="3152" y="2420"/>
                  </a:lnTo>
                  <a:lnTo>
                    <a:pt x="3155" y="2412"/>
                  </a:lnTo>
                  <a:lnTo>
                    <a:pt x="3158" y="2403"/>
                  </a:lnTo>
                  <a:lnTo>
                    <a:pt x="3167" y="2394"/>
                  </a:lnTo>
                  <a:lnTo>
                    <a:pt x="3176" y="2386"/>
                  </a:lnTo>
                  <a:lnTo>
                    <a:pt x="3184" y="2380"/>
                  </a:lnTo>
                  <a:lnTo>
                    <a:pt x="3184" y="2371"/>
                  </a:lnTo>
                  <a:lnTo>
                    <a:pt x="3187" y="2363"/>
                  </a:lnTo>
                  <a:lnTo>
                    <a:pt x="3193" y="2354"/>
                  </a:lnTo>
                  <a:lnTo>
                    <a:pt x="3202" y="2348"/>
                  </a:lnTo>
                  <a:lnTo>
                    <a:pt x="3208" y="2340"/>
                  </a:lnTo>
                  <a:lnTo>
                    <a:pt x="3213" y="2331"/>
                  </a:lnTo>
                  <a:lnTo>
                    <a:pt x="3216" y="2322"/>
                  </a:lnTo>
                  <a:lnTo>
                    <a:pt x="3219" y="2314"/>
                  </a:lnTo>
                  <a:lnTo>
                    <a:pt x="3222" y="2305"/>
                  </a:lnTo>
                  <a:lnTo>
                    <a:pt x="3228" y="2296"/>
                  </a:lnTo>
                  <a:lnTo>
                    <a:pt x="3237" y="2291"/>
                  </a:lnTo>
                  <a:lnTo>
                    <a:pt x="3245" y="2291"/>
                  </a:lnTo>
                  <a:lnTo>
                    <a:pt x="3254" y="2285"/>
                  </a:lnTo>
                  <a:lnTo>
                    <a:pt x="3263" y="2282"/>
                  </a:lnTo>
                  <a:lnTo>
                    <a:pt x="3272" y="2279"/>
                  </a:lnTo>
                  <a:lnTo>
                    <a:pt x="3280" y="2279"/>
                  </a:lnTo>
                  <a:lnTo>
                    <a:pt x="3289" y="2276"/>
                  </a:lnTo>
                  <a:lnTo>
                    <a:pt x="3298" y="2273"/>
                  </a:lnTo>
                  <a:lnTo>
                    <a:pt x="3307" y="2273"/>
                  </a:lnTo>
                  <a:lnTo>
                    <a:pt x="3318" y="2276"/>
                  </a:lnTo>
                  <a:lnTo>
                    <a:pt x="3327" y="2276"/>
                  </a:lnTo>
                  <a:lnTo>
                    <a:pt x="3336" y="2276"/>
                  </a:lnTo>
                  <a:lnTo>
                    <a:pt x="3344" y="2276"/>
                  </a:lnTo>
                  <a:lnTo>
                    <a:pt x="3344" y="2279"/>
                  </a:lnTo>
                  <a:lnTo>
                    <a:pt x="3356" y="2265"/>
                  </a:lnTo>
                  <a:lnTo>
                    <a:pt x="3365" y="2265"/>
                  </a:lnTo>
                  <a:lnTo>
                    <a:pt x="3374" y="2259"/>
                  </a:lnTo>
                  <a:lnTo>
                    <a:pt x="3382" y="2253"/>
                  </a:lnTo>
                  <a:lnTo>
                    <a:pt x="3385" y="2244"/>
                  </a:lnTo>
                  <a:lnTo>
                    <a:pt x="3391" y="2233"/>
                  </a:lnTo>
                  <a:lnTo>
                    <a:pt x="3400" y="2224"/>
                  </a:lnTo>
                  <a:lnTo>
                    <a:pt x="3397" y="2216"/>
                  </a:lnTo>
                  <a:lnTo>
                    <a:pt x="3391" y="2207"/>
                  </a:lnTo>
                  <a:lnTo>
                    <a:pt x="3382" y="2201"/>
                  </a:lnTo>
                  <a:lnTo>
                    <a:pt x="3376" y="2193"/>
                  </a:lnTo>
                  <a:lnTo>
                    <a:pt x="3368" y="2184"/>
                  </a:lnTo>
                  <a:lnTo>
                    <a:pt x="3362" y="2172"/>
                  </a:lnTo>
                  <a:lnTo>
                    <a:pt x="3356" y="2164"/>
                  </a:lnTo>
                  <a:lnTo>
                    <a:pt x="3356" y="2155"/>
                  </a:lnTo>
                  <a:lnTo>
                    <a:pt x="3356" y="2146"/>
                  </a:lnTo>
                  <a:lnTo>
                    <a:pt x="3368" y="2141"/>
                  </a:lnTo>
                  <a:lnTo>
                    <a:pt x="3376" y="2138"/>
                  </a:lnTo>
                  <a:lnTo>
                    <a:pt x="3385" y="2135"/>
                  </a:lnTo>
                  <a:lnTo>
                    <a:pt x="3394" y="2126"/>
                  </a:lnTo>
                  <a:lnTo>
                    <a:pt x="3400" y="2118"/>
                  </a:lnTo>
                  <a:lnTo>
                    <a:pt x="3406" y="2109"/>
                  </a:lnTo>
                  <a:lnTo>
                    <a:pt x="3414" y="2106"/>
                  </a:lnTo>
                  <a:lnTo>
                    <a:pt x="3426" y="2106"/>
                  </a:lnTo>
                  <a:lnTo>
                    <a:pt x="3435" y="2106"/>
                  </a:lnTo>
                  <a:lnTo>
                    <a:pt x="3443" y="2106"/>
                  </a:lnTo>
                  <a:lnTo>
                    <a:pt x="3452" y="2103"/>
                  </a:lnTo>
                  <a:lnTo>
                    <a:pt x="3461" y="2103"/>
                  </a:lnTo>
                  <a:lnTo>
                    <a:pt x="3470" y="2103"/>
                  </a:lnTo>
                  <a:lnTo>
                    <a:pt x="3478" y="2112"/>
                  </a:lnTo>
                  <a:lnTo>
                    <a:pt x="3484" y="2120"/>
                  </a:lnTo>
                  <a:lnTo>
                    <a:pt x="3493" y="2126"/>
                  </a:lnTo>
                  <a:lnTo>
                    <a:pt x="3502" y="2129"/>
                  </a:lnTo>
                  <a:lnTo>
                    <a:pt x="3510" y="2129"/>
                  </a:lnTo>
                  <a:lnTo>
                    <a:pt x="3519" y="2129"/>
                  </a:lnTo>
                  <a:lnTo>
                    <a:pt x="3528" y="2126"/>
                  </a:lnTo>
                  <a:lnTo>
                    <a:pt x="3537" y="2118"/>
                  </a:lnTo>
                  <a:lnTo>
                    <a:pt x="3542" y="2109"/>
                  </a:lnTo>
                  <a:lnTo>
                    <a:pt x="3548" y="2100"/>
                  </a:lnTo>
                  <a:lnTo>
                    <a:pt x="3551" y="2089"/>
                  </a:lnTo>
                  <a:lnTo>
                    <a:pt x="3554" y="2080"/>
                  </a:lnTo>
                  <a:lnTo>
                    <a:pt x="3563" y="2072"/>
                  </a:lnTo>
                  <a:lnTo>
                    <a:pt x="3572" y="2072"/>
                  </a:lnTo>
                  <a:lnTo>
                    <a:pt x="3583" y="2063"/>
                  </a:lnTo>
                  <a:lnTo>
                    <a:pt x="3589" y="2054"/>
                  </a:lnTo>
                  <a:lnTo>
                    <a:pt x="3595" y="2046"/>
                  </a:lnTo>
                  <a:lnTo>
                    <a:pt x="3604" y="2040"/>
                  </a:lnTo>
                  <a:lnTo>
                    <a:pt x="3612" y="2040"/>
                  </a:lnTo>
                  <a:lnTo>
                    <a:pt x="3621" y="2040"/>
                  </a:lnTo>
                  <a:lnTo>
                    <a:pt x="3630" y="2040"/>
                  </a:lnTo>
                  <a:lnTo>
                    <a:pt x="3638" y="2037"/>
                  </a:lnTo>
                  <a:lnTo>
                    <a:pt x="3647" y="2037"/>
                  </a:lnTo>
                  <a:lnTo>
                    <a:pt x="3656" y="2037"/>
                  </a:lnTo>
                  <a:lnTo>
                    <a:pt x="3665" y="2037"/>
                  </a:lnTo>
                  <a:lnTo>
                    <a:pt x="3673" y="2034"/>
                  </a:lnTo>
                  <a:lnTo>
                    <a:pt x="3682" y="2031"/>
                  </a:lnTo>
                  <a:lnTo>
                    <a:pt x="3691" y="2028"/>
                  </a:lnTo>
                  <a:lnTo>
                    <a:pt x="3700" y="2023"/>
                  </a:lnTo>
                  <a:lnTo>
                    <a:pt x="3705" y="2014"/>
                  </a:lnTo>
                  <a:lnTo>
                    <a:pt x="3714" y="2005"/>
                  </a:lnTo>
                  <a:lnTo>
                    <a:pt x="3723" y="1997"/>
                  </a:lnTo>
                  <a:lnTo>
                    <a:pt x="3726" y="1988"/>
                  </a:lnTo>
                  <a:lnTo>
                    <a:pt x="3735" y="1976"/>
                  </a:lnTo>
                  <a:lnTo>
                    <a:pt x="3740" y="1968"/>
                  </a:lnTo>
                  <a:lnTo>
                    <a:pt x="3746" y="1959"/>
                  </a:lnTo>
                  <a:lnTo>
                    <a:pt x="3749" y="1950"/>
                  </a:lnTo>
                  <a:lnTo>
                    <a:pt x="3755" y="1939"/>
                  </a:lnTo>
                  <a:lnTo>
                    <a:pt x="3761" y="1927"/>
                  </a:lnTo>
                  <a:lnTo>
                    <a:pt x="3767" y="1919"/>
                  </a:lnTo>
                  <a:lnTo>
                    <a:pt x="3767" y="1910"/>
                  </a:lnTo>
                  <a:lnTo>
                    <a:pt x="3758" y="1910"/>
                  </a:lnTo>
                  <a:lnTo>
                    <a:pt x="3758" y="1899"/>
                  </a:lnTo>
                  <a:lnTo>
                    <a:pt x="3758" y="1890"/>
                  </a:lnTo>
                  <a:lnTo>
                    <a:pt x="3767" y="1881"/>
                  </a:lnTo>
                  <a:lnTo>
                    <a:pt x="3775" y="1881"/>
                  </a:lnTo>
                  <a:lnTo>
                    <a:pt x="3781" y="1873"/>
                  </a:lnTo>
                  <a:lnTo>
                    <a:pt x="3784" y="1864"/>
                  </a:lnTo>
                  <a:lnTo>
                    <a:pt x="3787" y="1855"/>
                  </a:lnTo>
                  <a:lnTo>
                    <a:pt x="3796" y="1850"/>
                  </a:lnTo>
                  <a:lnTo>
                    <a:pt x="3804" y="1847"/>
                  </a:lnTo>
                  <a:lnTo>
                    <a:pt x="3813" y="1844"/>
                  </a:lnTo>
                  <a:lnTo>
                    <a:pt x="3822" y="1838"/>
                  </a:lnTo>
                  <a:lnTo>
                    <a:pt x="3831" y="1835"/>
                  </a:lnTo>
                  <a:lnTo>
                    <a:pt x="3839" y="1824"/>
                  </a:lnTo>
                  <a:lnTo>
                    <a:pt x="3845" y="1815"/>
                  </a:lnTo>
                  <a:lnTo>
                    <a:pt x="3851" y="1806"/>
                  </a:lnTo>
                  <a:lnTo>
                    <a:pt x="3857" y="1798"/>
                  </a:lnTo>
                  <a:lnTo>
                    <a:pt x="3860" y="1789"/>
                  </a:lnTo>
                  <a:lnTo>
                    <a:pt x="3863" y="1780"/>
                  </a:lnTo>
                  <a:lnTo>
                    <a:pt x="3857" y="1772"/>
                  </a:lnTo>
                  <a:lnTo>
                    <a:pt x="3851" y="1763"/>
                  </a:lnTo>
                  <a:lnTo>
                    <a:pt x="3842" y="1760"/>
                  </a:lnTo>
                  <a:lnTo>
                    <a:pt x="3834" y="1752"/>
                  </a:lnTo>
                  <a:lnTo>
                    <a:pt x="3831" y="1743"/>
                  </a:lnTo>
                  <a:lnTo>
                    <a:pt x="3828" y="1734"/>
                  </a:lnTo>
                  <a:lnTo>
                    <a:pt x="3825" y="1726"/>
                  </a:lnTo>
                  <a:lnTo>
                    <a:pt x="3822" y="1714"/>
                  </a:lnTo>
                  <a:lnTo>
                    <a:pt x="3819" y="1706"/>
                  </a:lnTo>
                  <a:lnTo>
                    <a:pt x="3816" y="1697"/>
                  </a:lnTo>
                  <a:lnTo>
                    <a:pt x="3813" y="1685"/>
                  </a:lnTo>
                  <a:lnTo>
                    <a:pt x="3810" y="1677"/>
                  </a:lnTo>
                  <a:lnTo>
                    <a:pt x="3807" y="1668"/>
                  </a:lnTo>
                  <a:lnTo>
                    <a:pt x="3804" y="1659"/>
                  </a:lnTo>
                  <a:lnTo>
                    <a:pt x="3796" y="1657"/>
                  </a:lnTo>
                  <a:lnTo>
                    <a:pt x="3787" y="1657"/>
                  </a:lnTo>
                  <a:lnTo>
                    <a:pt x="3775" y="1657"/>
                  </a:lnTo>
                  <a:lnTo>
                    <a:pt x="3767" y="1648"/>
                  </a:lnTo>
                  <a:lnTo>
                    <a:pt x="3767" y="1639"/>
                  </a:lnTo>
                  <a:lnTo>
                    <a:pt x="3767" y="1631"/>
                  </a:lnTo>
                  <a:lnTo>
                    <a:pt x="3767" y="1622"/>
                  </a:lnTo>
                  <a:lnTo>
                    <a:pt x="3767" y="1613"/>
                  </a:lnTo>
                  <a:lnTo>
                    <a:pt x="3770" y="1605"/>
                  </a:lnTo>
                  <a:lnTo>
                    <a:pt x="3770" y="1596"/>
                  </a:lnTo>
                  <a:lnTo>
                    <a:pt x="3772" y="1587"/>
                  </a:lnTo>
                  <a:lnTo>
                    <a:pt x="3810" y="1541"/>
                  </a:lnTo>
                  <a:lnTo>
                    <a:pt x="3793" y="1541"/>
                  </a:lnTo>
                  <a:lnTo>
                    <a:pt x="3799" y="1533"/>
                  </a:lnTo>
                  <a:lnTo>
                    <a:pt x="3807" y="1530"/>
                  </a:lnTo>
                  <a:lnTo>
                    <a:pt x="3816" y="1527"/>
                  </a:lnTo>
                  <a:lnTo>
                    <a:pt x="3828" y="1527"/>
                  </a:lnTo>
                  <a:lnTo>
                    <a:pt x="3839" y="1527"/>
                  </a:lnTo>
                  <a:lnTo>
                    <a:pt x="3851" y="1524"/>
                  </a:lnTo>
                  <a:lnTo>
                    <a:pt x="3863" y="1524"/>
                  </a:lnTo>
                  <a:lnTo>
                    <a:pt x="3874" y="1524"/>
                  </a:lnTo>
                  <a:lnTo>
                    <a:pt x="3883" y="1527"/>
                  </a:lnTo>
                  <a:lnTo>
                    <a:pt x="3892" y="1530"/>
                  </a:lnTo>
                  <a:lnTo>
                    <a:pt x="3901" y="1533"/>
                  </a:lnTo>
                  <a:lnTo>
                    <a:pt x="3909" y="1535"/>
                  </a:lnTo>
                  <a:lnTo>
                    <a:pt x="3918" y="1535"/>
                  </a:lnTo>
                  <a:lnTo>
                    <a:pt x="3930" y="1535"/>
                  </a:lnTo>
                  <a:lnTo>
                    <a:pt x="3941" y="1535"/>
                  </a:lnTo>
                  <a:lnTo>
                    <a:pt x="3950" y="1535"/>
                  </a:lnTo>
                  <a:lnTo>
                    <a:pt x="3959" y="1535"/>
                  </a:lnTo>
                  <a:lnTo>
                    <a:pt x="3970" y="1541"/>
                  </a:lnTo>
                  <a:lnTo>
                    <a:pt x="3979" y="1541"/>
                  </a:lnTo>
                  <a:lnTo>
                    <a:pt x="3985" y="1550"/>
                  </a:lnTo>
                  <a:lnTo>
                    <a:pt x="3997" y="1559"/>
                  </a:lnTo>
                  <a:lnTo>
                    <a:pt x="4005" y="1561"/>
                  </a:lnTo>
                  <a:lnTo>
                    <a:pt x="4017" y="1561"/>
                  </a:lnTo>
                  <a:lnTo>
                    <a:pt x="4026" y="1559"/>
                  </a:lnTo>
                  <a:lnTo>
                    <a:pt x="4029" y="1550"/>
                  </a:lnTo>
                  <a:lnTo>
                    <a:pt x="4037" y="1541"/>
                  </a:lnTo>
                  <a:lnTo>
                    <a:pt x="4040" y="1533"/>
                  </a:lnTo>
                  <a:lnTo>
                    <a:pt x="4043" y="1524"/>
                  </a:lnTo>
                  <a:lnTo>
                    <a:pt x="4055" y="1512"/>
                  </a:lnTo>
                  <a:lnTo>
                    <a:pt x="4066" y="1507"/>
                  </a:lnTo>
                  <a:lnTo>
                    <a:pt x="4075" y="1498"/>
                  </a:lnTo>
                  <a:lnTo>
                    <a:pt x="4084" y="1495"/>
                  </a:lnTo>
                  <a:lnTo>
                    <a:pt x="4093" y="1495"/>
                  </a:lnTo>
                  <a:lnTo>
                    <a:pt x="4101" y="1495"/>
                  </a:lnTo>
                  <a:lnTo>
                    <a:pt x="4110" y="1495"/>
                  </a:lnTo>
                  <a:lnTo>
                    <a:pt x="4119" y="1501"/>
                  </a:lnTo>
                  <a:lnTo>
                    <a:pt x="4130" y="1510"/>
                  </a:lnTo>
                  <a:lnTo>
                    <a:pt x="4139" y="1512"/>
                  </a:lnTo>
                  <a:lnTo>
                    <a:pt x="4148" y="1507"/>
                  </a:lnTo>
                  <a:lnTo>
                    <a:pt x="4154" y="1498"/>
                  </a:lnTo>
                  <a:lnTo>
                    <a:pt x="4157" y="1489"/>
                  </a:lnTo>
                  <a:lnTo>
                    <a:pt x="4165" y="1478"/>
                  </a:lnTo>
                  <a:lnTo>
                    <a:pt x="4168" y="1466"/>
                  </a:lnTo>
                  <a:lnTo>
                    <a:pt x="4163" y="1458"/>
                  </a:lnTo>
                  <a:lnTo>
                    <a:pt x="4157" y="1449"/>
                  </a:lnTo>
                  <a:lnTo>
                    <a:pt x="4154" y="1438"/>
                  </a:lnTo>
                  <a:lnTo>
                    <a:pt x="4151" y="1429"/>
                  </a:lnTo>
                  <a:lnTo>
                    <a:pt x="4151" y="1420"/>
                  </a:lnTo>
                  <a:lnTo>
                    <a:pt x="4151" y="1409"/>
                  </a:lnTo>
                  <a:lnTo>
                    <a:pt x="4151" y="1400"/>
                  </a:lnTo>
                  <a:lnTo>
                    <a:pt x="4160" y="1394"/>
                  </a:lnTo>
                  <a:lnTo>
                    <a:pt x="4174" y="1400"/>
                  </a:lnTo>
                  <a:lnTo>
                    <a:pt x="4183" y="1403"/>
                  </a:lnTo>
                  <a:lnTo>
                    <a:pt x="4183" y="1412"/>
                  </a:lnTo>
                  <a:lnTo>
                    <a:pt x="4192" y="1420"/>
                  </a:lnTo>
                  <a:lnTo>
                    <a:pt x="4203" y="1432"/>
                  </a:lnTo>
                  <a:lnTo>
                    <a:pt x="4212" y="1440"/>
                  </a:lnTo>
                  <a:lnTo>
                    <a:pt x="4215" y="1449"/>
                  </a:lnTo>
                  <a:lnTo>
                    <a:pt x="4218" y="1458"/>
                  </a:lnTo>
                  <a:lnTo>
                    <a:pt x="4227" y="1472"/>
                  </a:lnTo>
                  <a:lnTo>
                    <a:pt x="4235" y="1478"/>
                  </a:lnTo>
                  <a:lnTo>
                    <a:pt x="4241" y="1487"/>
                  </a:lnTo>
                  <a:lnTo>
                    <a:pt x="4253" y="1495"/>
                  </a:lnTo>
                  <a:lnTo>
                    <a:pt x="4264" y="1501"/>
                  </a:lnTo>
                  <a:lnTo>
                    <a:pt x="4270" y="1510"/>
                  </a:lnTo>
                  <a:lnTo>
                    <a:pt x="4273" y="1518"/>
                  </a:lnTo>
                  <a:lnTo>
                    <a:pt x="4273" y="1527"/>
                  </a:lnTo>
                  <a:lnTo>
                    <a:pt x="4273" y="1535"/>
                  </a:lnTo>
                  <a:lnTo>
                    <a:pt x="4273" y="1544"/>
                  </a:lnTo>
                  <a:lnTo>
                    <a:pt x="4264" y="1550"/>
                  </a:lnTo>
                  <a:lnTo>
                    <a:pt x="4256" y="1553"/>
                  </a:lnTo>
                  <a:lnTo>
                    <a:pt x="4256" y="1564"/>
                  </a:lnTo>
                  <a:lnTo>
                    <a:pt x="4256" y="1573"/>
                  </a:lnTo>
                  <a:lnTo>
                    <a:pt x="4256" y="1582"/>
                  </a:lnTo>
                  <a:lnTo>
                    <a:pt x="4264" y="1587"/>
                  </a:lnTo>
                  <a:lnTo>
                    <a:pt x="4276" y="1590"/>
                  </a:lnTo>
                  <a:lnTo>
                    <a:pt x="4285" y="1590"/>
                  </a:lnTo>
                  <a:lnTo>
                    <a:pt x="4294" y="1599"/>
                  </a:lnTo>
                  <a:lnTo>
                    <a:pt x="4302" y="1608"/>
                  </a:lnTo>
                  <a:lnTo>
                    <a:pt x="4314" y="1610"/>
                  </a:lnTo>
                  <a:lnTo>
                    <a:pt x="4326" y="1616"/>
                  </a:lnTo>
                  <a:lnTo>
                    <a:pt x="4334" y="1619"/>
                  </a:lnTo>
                  <a:lnTo>
                    <a:pt x="4340" y="1628"/>
                  </a:lnTo>
                  <a:lnTo>
                    <a:pt x="4343" y="1636"/>
                  </a:lnTo>
                  <a:lnTo>
                    <a:pt x="4343" y="1645"/>
                  </a:lnTo>
                  <a:lnTo>
                    <a:pt x="4343" y="1654"/>
                  </a:lnTo>
                  <a:lnTo>
                    <a:pt x="4343" y="1662"/>
                  </a:lnTo>
                  <a:lnTo>
                    <a:pt x="4346" y="1671"/>
                  </a:lnTo>
                  <a:lnTo>
                    <a:pt x="4355" y="1671"/>
                  </a:lnTo>
                  <a:lnTo>
                    <a:pt x="4366" y="1671"/>
                  </a:lnTo>
                  <a:lnTo>
                    <a:pt x="4369" y="1662"/>
                  </a:lnTo>
                  <a:lnTo>
                    <a:pt x="4363" y="1654"/>
                  </a:lnTo>
                  <a:lnTo>
                    <a:pt x="4360" y="1645"/>
                  </a:lnTo>
                  <a:lnTo>
                    <a:pt x="4355" y="1636"/>
                  </a:lnTo>
                  <a:lnTo>
                    <a:pt x="4352" y="1628"/>
                  </a:lnTo>
                  <a:lnTo>
                    <a:pt x="4349" y="1619"/>
                  </a:lnTo>
                  <a:lnTo>
                    <a:pt x="4346" y="1610"/>
                  </a:lnTo>
                  <a:lnTo>
                    <a:pt x="4346" y="1602"/>
                  </a:lnTo>
                  <a:lnTo>
                    <a:pt x="4346" y="1590"/>
                  </a:lnTo>
                  <a:lnTo>
                    <a:pt x="4346" y="1582"/>
                  </a:lnTo>
                  <a:lnTo>
                    <a:pt x="4355" y="1579"/>
                  </a:lnTo>
                  <a:lnTo>
                    <a:pt x="4363" y="1582"/>
                  </a:lnTo>
                  <a:lnTo>
                    <a:pt x="4372" y="1582"/>
                  </a:lnTo>
                  <a:lnTo>
                    <a:pt x="4381" y="1573"/>
                  </a:lnTo>
                  <a:lnTo>
                    <a:pt x="4390" y="1567"/>
                  </a:lnTo>
                  <a:lnTo>
                    <a:pt x="4393" y="1559"/>
                  </a:lnTo>
                  <a:lnTo>
                    <a:pt x="4393" y="1550"/>
                  </a:lnTo>
                  <a:lnTo>
                    <a:pt x="4393" y="1541"/>
                  </a:lnTo>
                  <a:lnTo>
                    <a:pt x="4393" y="1533"/>
                  </a:lnTo>
                  <a:lnTo>
                    <a:pt x="4393" y="1524"/>
                  </a:lnTo>
                  <a:lnTo>
                    <a:pt x="4393" y="1515"/>
                  </a:lnTo>
                  <a:lnTo>
                    <a:pt x="4390" y="1504"/>
                  </a:lnTo>
                  <a:lnTo>
                    <a:pt x="4384" y="1495"/>
                  </a:lnTo>
                  <a:lnTo>
                    <a:pt x="4381" y="1484"/>
                  </a:lnTo>
                  <a:lnTo>
                    <a:pt x="4378" y="1475"/>
                  </a:lnTo>
                  <a:lnTo>
                    <a:pt x="4369" y="1463"/>
                  </a:lnTo>
                  <a:lnTo>
                    <a:pt x="4363" y="1455"/>
                  </a:lnTo>
                  <a:lnTo>
                    <a:pt x="4360" y="1446"/>
                  </a:lnTo>
                  <a:lnTo>
                    <a:pt x="4358" y="1438"/>
                  </a:lnTo>
                  <a:lnTo>
                    <a:pt x="4352" y="1429"/>
                  </a:lnTo>
                  <a:lnTo>
                    <a:pt x="4346" y="1417"/>
                  </a:lnTo>
                  <a:lnTo>
                    <a:pt x="4340" y="1409"/>
                  </a:lnTo>
                  <a:lnTo>
                    <a:pt x="4337" y="1397"/>
                  </a:lnTo>
                  <a:lnTo>
                    <a:pt x="4334" y="1389"/>
                  </a:lnTo>
                  <a:lnTo>
                    <a:pt x="4334" y="1380"/>
                  </a:lnTo>
                  <a:lnTo>
                    <a:pt x="4331" y="1371"/>
                  </a:lnTo>
                  <a:lnTo>
                    <a:pt x="4328" y="1360"/>
                  </a:lnTo>
                  <a:lnTo>
                    <a:pt x="4323" y="1351"/>
                  </a:lnTo>
                  <a:lnTo>
                    <a:pt x="4320" y="1342"/>
                  </a:lnTo>
                  <a:lnTo>
                    <a:pt x="4314" y="1334"/>
                  </a:lnTo>
                  <a:lnTo>
                    <a:pt x="4305" y="1325"/>
                  </a:lnTo>
                  <a:lnTo>
                    <a:pt x="4296" y="1316"/>
                  </a:lnTo>
                  <a:lnTo>
                    <a:pt x="4288" y="1308"/>
                  </a:lnTo>
                  <a:lnTo>
                    <a:pt x="4276" y="1311"/>
                  </a:lnTo>
                  <a:lnTo>
                    <a:pt x="4279" y="1291"/>
                  </a:lnTo>
                  <a:lnTo>
                    <a:pt x="4276" y="1282"/>
                  </a:lnTo>
                  <a:lnTo>
                    <a:pt x="4270" y="1273"/>
                  </a:lnTo>
                  <a:lnTo>
                    <a:pt x="4261" y="1267"/>
                  </a:lnTo>
                  <a:lnTo>
                    <a:pt x="4253" y="1259"/>
                  </a:lnTo>
                  <a:lnTo>
                    <a:pt x="4244" y="1250"/>
                  </a:lnTo>
                  <a:lnTo>
                    <a:pt x="4238" y="1242"/>
                  </a:lnTo>
                  <a:lnTo>
                    <a:pt x="4232" y="1233"/>
                  </a:lnTo>
                  <a:lnTo>
                    <a:pt x="4229" y="1224"/>
                  </a:lnTo>
                  <a:lnTo>
                    <a:pt x="4221" y="1218"/>
                  </a:lnTo>
                  <a:lnTo>
                    <a:pt x="4212" y="1210"/>
                  </a:lnTo>
                  <a:lnTo>
                    <a:pt x="4200" y="1201"/>
                  </a:lnTo>
                  <a:lnTo>
                    <a:pt x="4192" y="1195"/>
                  </a:lnTo>
                  <a:lnTo>
                    <a:pt x="4183" y="1193"/>
                  </a:lnTo>
                  <a:lnTo>
                    <a:pt x="4171" y="1187"/>
                  </a:lnTo>
                  <a:lnTo>
                    <a:pt x="4163" y="1184"/>
                  </a:lnTo>
                  <a:lnTo>
                    <a:pt x="4154" y="1181"/>
                  </a:lnTo>
                  <a:lnTo>
                    <a:pt x="4145" y="1175"/>
                  </a:lnTo>
                  <a:lnTo>
                    <a:pt x="4136" y="1170"/>
                  </a:lnTo>
                  <a:lnTo>
                    <a:pt x="4130" y="1161"/>
                  </a:lnTo>
                  <a:lnTo>
                    <a:pt x="4119" y="1152"/>
                  </a:lnTo>
                  <a:lnTo>
                    <a:pt x="4110" y="1149"/>
                  </a:lnTo>
                  <a:lnTo>
                    <a:pt x="4098" y="1144"/>
                  </a:lnTo>
                  <a:lnTo>
                    <a:pt x="4090" y="1144"/>
                  </a:lnTo>
                  <a:lnTo>
                    <a:pt x="4078" y="1135"/>
                  </a:lnTo>
                  <a:lnTo>
                    <a:pt x="4069" y="1126"/>
                  </a:lnTo>
                  <a:lnTo>
                    <a:pt x="4064" y="1118"/>
                  </a:lnTo>
                  <a:lnTo>
                    <a:pt x="4058" y="1109"/>
                  </a:lnTo>
                  <a:lnTo>
                    <a:pt x="4049" y="1103"/>
                  </a:lnTo>
                  <a:lnTo>
                    <a:pt x="4058" y="1100"/>
                  </a:lnTo>
                  <a:lnTo>
                    <a:pt x="4066" y="1100"/>
                  </a:lnTo>
                  <a:lnTo>
                    <a:pt x="4078" y="1100"/>
                  </a:lnTo>
                  <a:lnTo>
                    <a:pt x="4090" y="1103"/>
                  </a:lnTo>
                  <a:lnTo>
                    <a:pt x="4098" y="1109"/>
                  </a:lnTo>
                  <a:lnTo>
                    <a:pt x="4107" y="1112"/>
                  </a:lnTo>
                  <a:lnTo>
                    <a:pt x="4116" y="1115"/>
                  </a:lnTo>
                  <a:lnTo>
                    <a:pt x="4125" y="1121"/>
                  </a:lnTo>
                  <a:lnTo>
                    <a:pt x="4133" y="1126"/>
                  </a:lnTo>
                  <a:lnTo>
                    <a:pt x="4142" y="1129"/>
                  </a:lnTo>
                  <a:lnTo>
                    <a:pt x="4154" y="1138"/>
                  </a:lnTo>
                  <a:lnTo>
                    <a:pt x="4163" y="1141"/>
                  </a:lnTo>
                  <a:lnTo>
                    <a:pt x="4171" y="1144"/>
                  </a:lnTo>
                  <a:lnTo>
                    <a:pt x="4180" y="1146"/>
                  </a:lnTo>
                  <a:lnTo>
                    <a:pt x="4192" y="1146"/>
                  </a:lnTo>
                  <a:lnTo>
                    <a:pt x="4200" y="1146"/>
                  </a:lnTo>
                  <a:lnTo>
                    <a:pt x="4212" y="1149"/>
                  </a:lnTo>
                  <a:lnTo>
                    <a:pt x="4221" y="1149"/>
                  </a:lnTo>
                  <a:lnTo>
                    <a:pt x="4229" y="1152"/>
                  </a:lnTo>
                  <a:lnTo>
                    <a:pt x="4238" y="1155"/>
                  </a:lnTo>
                  <a:lnTo>
                    <a:pt x="4247" y="1161"/>
                  </a:lnTo>
                  <a:lnTo>
                    <a:pt x="4256" y="1164"/>
                  </a:lnTo>
                  <a:lnTo>
                    <a:pt x="4264" y="1170"/>
                  </a:lnTo>
                  <a:lnTo>
                    <a:pt x="4273" y="1172"/>
                  </a:lnTo>
                  <a:lnTo>
                    <a:pt x="4282" y="1178"/>
                  </a:lnTo>
                  <a:lnTo>
                    <a:pt x="4291" y="1181"/>
                  </a:lnTo>
                  <a:lnTo>
                    <a:pt x="4299" y="1187"/>
                  </a:lnTo>
                  <a:lnTo>
                    <a:pt x="4308" y="1190"/>
                  </a:lnTo>
                  <a:lnTo>
                    <a:pt x="4317" y="1193"/>
                  </a:lnTo>
                  <a:lnTo>
                    <a:pt x="4326" y="1195"/>
                  </a:lnTo>
                  <a:lnTo>
                    <a:pt x="4334" y="1195"/>
                  </a:lnTo>
                  <a:lnTo>
                    <a:pt x="4326" y="1190"/>
                  </a:lnTo>
                  <a:lnTo>
                    <a:pt x="4314" y="1178"/>
                  </a:lnTo>
                  <a:lnTo>
                    <a:pt x="4305" y="1170"/>
                  </a:lnTo>
                  <a:lnTo>
                    <a:pt x="4305" y="1161"/>
                  </a:lnTo>
                  <a:lnTo>
                    <a:pt x="4317" y="1158"/>
                  </a:lnTo>
                  <a:lnTo>
                    <a:pt x="4328" y="1158"/>
                  </a:lnTo>
                  <a:lnTo>
                    <a:pt x="4337" y="1158"/>
                  </a:lnTo>
                  <a:lnTo>
                    <a:pt x="4346" y="1158"/>
                  </a:lnTo>
                  <a:lnTo>
                    <a:pt x="4346" y="1149"/>
                  </a:lnTo>
                  <a:lnTo>
                    <a:pt x="4349" y="1138"/>
                  </a:lnTo>
                  <a:lnTo>
                    <a:pt x="4349" y="1129"/>
                  </a:lnTo>
                  <a:lnTo>
                    <a:pt x="4340" y="1123"/>
                  </a:lnTo>
                  <a:lnTo>
                    <a:pt x="4331" y="1121"/>
                  </a:lnTo>
                  <a:lnTo>
                    <a:pt x="4323" y="1121"/>
                  </a:lnTo>
                  <a:lnTo>
                    <a:pt x="4314" y="1121"/>
                  </a:lnTo>
                  <a:lnTo>
                    <a:pt x="4302" y="1121"/>
                  </a:lnTo>
                  <a:lnTo>
                    <a:pt x="4296" y="1132"/>
                  </a:lnTo>
                  <a:lnTo>
                    <a:pt x="4288" y="1138"/>
                  </a:lnTo>
                  <a:lnTo>
                    <a:pt x="4279" y="1144"/>
                  </a:lnTo>
                  <a:lnTo>
                    <a:pt x="4270" y="1144"/>
                  </a:lnTo>
                  <a:lnTo>
                    <a:pt x="4261" y="1144"/>
                  </a:lnTo>
                  <a:lnTo>
                    <a:pt x="4253" y="1144"/>
                  </a:lnTo>
                  <a:lnTo>
                    <a:pt x="4244" y="1144"/>
                  </a:lnTo>
                  <a:lnTo>
                    <a:pt x="4238" y="1135"/>
                  </a:lnTo>
                  <a:lnTo>
                    <a:pt x="4227" y="1126"/>
                  </a:lnTo>
                  <a:lnTo>
                    <a:pt x="4218" y="1115"/>
                  </a:lnTo>
                  <a:lnTo>
                    <a:pt x="4209" y="1109"/>
                  </a:lnTo>
                  <a:lnTo>
                    <a:pt x="4197" y="1100"/>
                  </a:lnTo>
                  <a:lnTo>
                    <a:pt x="4192" y="1092"/>
                  </a:lnTo>
                  <a:lnTo>
                    <a:pt x="4200" y="1086"/>
                  </a:lnTo>
                  <a:lnTo>
                    <a:pt x="4209" y="1077"/>
                  </a:lnTo>
                  <a:lnTo>
                    <a:pt x="4218" y="1072"/>
                  </a:lnTo>
                  <a:lnTo>
                    <a:pt x="4227" y="1063"/>
                  </a:lnTo>
                  <a:lnTo>
                    <a:pt x="4229" y="1054"/>
                  </a:lnTo>
                  <a:lnTo>
                    <a:pt x="4221" y="1048"/>
                  </a:lnTo>
                  <a:lnTo>
                    <a:pt x="4209" y="1048"/>
                  </a:lnTo>
                  <a:lnTo>
                    <a:pt x="4200" y="1048"/>
                  </a:lnTo>
                  <a:lnTo>
                    <a:pt x="4189" y="1048"/>
                  </a:lnTo>
                  <a:lnTo>
                    <a:pt x="4180" y="1051"/>
                  </a:lnTo>
                  <a:lnTo>
                    <a:pt x="4171" y="1057"/>
                  </a:lnTo>
                  <a:lnTo>
                    <a:pt x="4160" y="1057"/>
                  </a:lnTo>
                  <a:lnTo>
                    <a:pt x="4151" y="1057"/>
                  </a:lnTo>
                  <a:lnTo>
                    <a:pt x="4142" y="1057"/>
                  </a:lnTo>
                  <a:lnTo>
                    <a:pt x="4133" y="1057"/>
                  </a:lnTo>
                  <a:lnTo>
                    <a:pt x="4125" y="1057"/>
                  </a:lnTo>
                  <a:lnTo>
                    <a:pt x="4116" y="1057"/>
                  </a:lnTo>
                  <a:lnTo>
                    <a:pt x="4107" y="1057"/>
                  </a:lnTo>
                  <a:lnTo>
                    <a:pt x="4098" y="1057"/>
                  </a:lnTo>
                  <a:lnTo>
                    <a:pt x="4090" y="1057"/>
                  </a:lnTo>
                  <a:lnTo>
                    <a:pt x="4081" y="1057"/>
                  </a:lnTo>
                  <a:lnTo>
                    <a:pt x="4072" y="1057"/>
                  </a:lnTo>
                  <a:lnTo>
                    <a:pt x="4064" y="1054"/>
                  </a:lnTo>
                  <a:lnTo>
                    <a:pt x="4055" y="1051"/>
                  </a:lnTo>
                  <a:lnTo>
                    <a:pt x="4043" y="1048"/>
                  </a:lnTo>
                  <a:lnTo>
                    <a:pt x="4032" y="1043"/>
                  </a:lnTo>
                  <a:lnTo>
                    <a:pt x="4023" y="1040"/>
                  </a:lnTo>
                  <a:lnTo>
                    <a:pt x="4008" y="1031"/>
                  </a:lnTo>
                  <a:lnTo>
                    <a:pt x="3994" y="1028"/>
                  </a:lnTo>
                  <a:lnTo>
                    <a:pt x="3982" y="1028"/>
                  </a:lnTo>
                  <a:lnTo>
                    <a:pt x="3973" y="1028"/>
                  </a:lnTo>
                  <a:lnTo>
                    <a:pt x="3965" y="1028"/>
                  </a:lnTo>
                  <a:lnTo>
                    <a:pt x="3953" y="1028"/>
                  </a:lnTo>
                  <a:lnTo>
                    <a:pt x="3941" y="1028"/>
                  </a:lnTo>
                  <a:lnTo>
                    <a:pt x="3933" y="1028"/>
                  </a:lnTo>
                  <a:lnTo>
                    <a:pt x="3927" y="1037"/>
                  </a:lnTo>
                  <a:lnTo>
                    <a:pt x="3941" y="1048"/>
                  </a:lnTo>
                  <a:lnTo>
                    <a:pt x="3950" y="1051"/>
                  </a:lnTo>
                  <a:lnTo>
                    <a:pt x="3962" y="1054"/>
                  </a:lnTo>
                  <a:lnTo>
                    <a:pt x="3970" y="1057"/>
                  </a:lnTo>
                  <a:lnTo>
                    <a:pt x="3979" y="1060"/>
                  </a:lnTo>
                  <a:lnTo>
                    <a:pt x="3982" y="1072"/>
                  </a:lnTo>
                  <a:lnTo>
                    <a:pt x="3982" y="1080"/>
                  </a:lnTo>
                  <a:lnTo>
                    <a:pt x="3982" y="1089"/>
                  </a:lnTo>
                  <a:lnTo>
                    <a:pt x="3994" y="1100"/>
                  </a:lnTo>
                  <a:lnTo>
                    <a:pt x="4002" y="1103"/>
                  </a:lnTo>
                  <a:lnTo>
                    <a:pt x="4014" y="1106"/>
                  </a:lnTo>
                  <a:lnTo>
                    <a:pt x="4026" y="1106"/>
                  </a:lnTo>
                  <a:lnTo>
                    <a:pt x="4034" y="1109"/>
                  </a:lnTo>
                  <a:lnTo>
                    <a:pt x="4046" y="1112"/>
                  </a:lnTo>
                  <a:lnTo>
                    <a:pt x="4037" y="1115"/>
                  </a:lnTo>
                  <a:lnTo>
                    <a:pt x="4029" y="1112"/>
                  </a:lnTo>
                  <a:lnTo>
                    <a:pt x="4020" y="1109"/>
                  </a:lnTo>
                  <a:lnTo>
                    <a:pt x="4011" y="1109"/>
                  </a:lnTo>
                  <a:lnTo>
                    <a:pt x="4002" y="1106"/>
                  </a:lnTo>
                  <a:lnTo>
                    <a:pt x="3994" y="1103"/>
                  </a:lnTo>
                  <a:lnTo>
                    <a:pt x="3979" y="1097"/>
                  </a:lnTo>
                  <a:lnTo>
                    <a:pt x="3970" y="1097"/>
                  </a:lnTo>
                  <a:lnTo>
                    <a:pt x="3962" y="1100"/>
                  </a:lnTo>
                  <a:lnTo>
                    <a:pt x="3959" y="1109"/>
                  </a:lnTo>
                  <a:lnTo>
                    <a:pt x="3950" y="1118"/>
                  </a:lnTo>
                  <a:lnTo>
                    <a:pt x="3941" y="1123"/>
                  </a:lnTo>
                  <a:lnTo>
                    <a:pt x="3935" y="1132"/>
                  </a:lnTo>
                  <a:lnTo>
                    <a:pt x="3927" y="1138"/>
                  </a:lnTo>
                  <a:lnTo>
                    <a:pt x="3927" y="1146"/>
                  </a:lnTo>
                  <a:lnTo>
                    <a:pt x="3930" y="1155"/>
                  </a:lnTo>
                  <a:lnTo>
                    <a:pt x="3938" y="1161"/>
                  </a:lnTo>
                  <a:lnTo>
                    <a:pt x="3941" y="1170"/>
                  </a:lnTo>
                  <a:lnTo>
                    <a:pt x="3941" y="1178"/>
                  </a:lnTo>
                  <a:lnTo>
                    <a:pt x="3941" y="1187"/>
                  </a:lnTo>
                  <a:lnTo>
                    <a:pt x="3938" y="1195"/>
                  </a:lnTo>
                  <a:lnTo>
                    <a:pt x="3933" y="1204"/>
                  </a:lnTo>
                  <a:lnTo>
                    <a:pt x="3924" y="1204"/>
                  </a:lnTo>
                  <a:lnTo>
                    <a:pt x="3915" y="1193"/>
                  </a:lnTo>
                  <a:lnTo>
                    <a:pt x="3912" y="1184"/>
                  </a:lnTo>
                  <a:lnTo>
                    <a:pt x="3903" y="1178"/>
                  </a:lnTo>
                  <a:lnTo>
                    <a:pt x="3892" y="1172"/>
                  </a:lnTo>
                  <a:lnTo>
                    <a:pt x="3883" y="1167"/>
                  </a:lnTo>
                  <a:lnTo>
                    <a:pt x="3877" y="1158"/>
                  </a:lnTo>
                  <a:lnTo>
                    <a:pt x="3874" y="1167"/>
                  </a:lnTo>
                  <a:lnTo>
                    <a:pt x="3874" y="1175"/>
                  </a:lnTo>
                  <a:lnTo>
                    <a:pt x="3874" y="1184"/>
                  </a:lnTo>
                  <a:lnTo>
                    <a:pt x="3886" y="1193"/>
                  </a:lnTo>
                  <a:lnTo>
                    <a:pt x="3898" y="1195"/>
                  </a:lnTo>
                  <a:lnTo>
                    <a:pt x="3906" y="1198"/>
                  </a:lnTo>
                  <a:lnTo>
                    <a:pt x="3915" y="1201"/>
                  </a:lnTo>
                  <a:lnTo>
                    <a:pt x="3924" y="1207"/>
                  </a:lnTo>
                  <a:lnTo>
                    <a:pt x="3912" y="1213"/>
                  </a:lnTo>
                  <a:lnTo>
                    <a:pt x="3903" y="1213"/>
                  </a:lnTo>
                  <a:lnTo>
                    <a:pt x="3895" y="1213"/>
                  </a:lnTo>
                  <a:lnTo>
                    <a:pt x="3886" y="1216"/>
                  </a:lnTo>
                  <a:lnTo>
                    <a:pt x="3886" y="1224"/>
                  </a:lnTo>
                  <a:lnTo>
                    <a:pt x="3880" y="1233"/>
                  </a:lnTo>
                  <a:lnTo>
                    <a:pt x="3868" y="1236"/>
                  </a:lnTo>
                  <a:lnTo>
                    <a:pt x="3860" y="1236"/>
                  </a:lnTo>
                  <a:lnTo>
                    <a:pt x="3854" y="1224"/>
                  </a:lnTo>
                  <a:lnTo>
                    <a:pt x="3854" y="1216"/>
                  </a:lnTo>
                  <a:lnTo>
                    <a:pt x="3851" y="1207"/>
                  </a:lnTo>
                  <a:lnTo>
                    <a:pt x="3845" y="1198"/>
                  </a:lnTo>
                  <a:lnTo>
                    <a:pt x="3842" y="1187"/>
                  </a:lnTo>
                  <a:lnTo>
                    <a:pt x="3836" y="1175"/>
                  </a:lnTo>
                  <a:lnTo>
                    <a:pt x="3834" y="1164"/>
                  </a:lnTo>
                  <a:lnTo>
                    <a:pt x="3828" y="1155"/>
                  </a:lnTo>
                  <a:lnTo>
                    <a:pt x="3822" y="1146"/>
                  </a:lnTo>
                  <a:lnTo>
                    <a:pt x="3816" y="1138"/>
                  </a:lnTo>
                  <a:lnTo>
                    <a:pt x="3810" y="1129"/>
                  </a:lnTo>
                  <a:lnTo>
                    <a:pt x="3799" y="1123"/>
                  </a:lnTo>
                  <a:lnTo>
                    <a:pt x="3793" y="1115"/>
                  </a:lnTo>
                  <a:lnTo>
                    <a:pt x="3790" y="1106"/>
                  </a:lnTo>
                  <a:lnTo>
                    <a:pt x="3784" y="1097"/>
                  </a:lnTo>
                  <a:lnTo>
                    <a:pt x="3778" y="1089"/>
                  </a:lnTo>
                  <a:lnTo>
                    <a:pt x="3775" y="1080"/>
                  </a:lnTo>
                  <a:lnTo>
                    <a:pt x="3772" y="1072"/>
                  </a:lnTo>
                  <a:lnTo>
                    <a:pt x="3767" y="1063"/>
                  </a:lnTo>
                  <a:lnTo>
                    <a:pt x="3761" y="1054"/>
                  </a:lnTo>
                  <a:lnTo>
                    <a:pt x="3752" y="1046"/>
                  </a:lnTo>
                  <a:lnTo>
                    <a:pt x="3746" y="1037"/>
                  </a:lnTo>
                  <a:lnTo>
                    <a:pt x="3737" y="1034"/>
                  </a:lnTo>
                  <a:lnTo>
                    <a:pt x="3717" y="988"/>
                  </a:lnTo>
                  <a:lnTo>
                    <a:pt x="3737" y="1008"/>
                  </a:lnTo>
                  <a:lnTo>
                    <a:pt x="3737" y="999"/>
                  </a:lnTo>
                  <a:lnTo>
                    <a:pt x="3732" y="991"/>
                  </a:lnTo>
                  <a:lnTo>
                    <a:pt x="3726" y="982"/>
                  </a:lnTo>
                  <a:lnTo>
                    <a:pt x="3723" y="974"/>
                  </a:lnTo>
                  <a:lnTo>
                    <a:pt x="3714" y="968"/>
                  </a:lnTo>
                  <a:lnTo>
                    <a:pt x="3703" y="965"/>
                  </a:lnTo>
                  <a:lnTo>
                    <a:pt x="3694" y="959"/>
                  </a:lnTo>
                  <a:lnTo>
                    <a:pt x="3691" y="950"/>
                  </a:lnTo>
                  <a:lnTo>
                    <a:pt x="3691" y="942"/>
                  </a:lnTo>
                  <a:lnTo>
                    <a:pt x="3691" y="930"/>
                  </a:lnTo>
                  <a:lnTo>
                    <a:pt x="3691" y="922"/>
                  </a:lnTo>
                  <a:lnTo>
                    <a:pt x="3691" y="913"/>
                  </a:lnTo>
                  <a:lnTo>
                    <a:pt x="3694" y="904"/>
                  </a:lnTo>
                  <a:lnTo>
                    <a:pt x="3700" y="896"/>
                  </a:lnTo>
                  <a:lnTo>
                    <a:pt x="3705" y="887"/>
                  </a:lnTo>
                  <a:lnTo>
                    <a:pt x="3714" y="887"/>
                  </a:lnTo>
                  <a:lnTo>
                    <a:pt x="3717" y="878"/>
                  </a:lnTo>
                  <a:lnTo>
                    <a:pt x="3705" y="867"/>
                  </a:lnTo>
                  <a:lnTo>
                    <a:pt x="3705" y="858"/>
                  </a:lnTo>
                  <a:lnTo>
                    <a:pt x="3705" y="847"/>
                  </a:lnTo>
                  <a:lnTo>
                    <a:pt x="3711" y="838"/>
                  </a:lnTo>
                  <a:lnTo>
                    <a:pt x="3717" y="827"/>
                  </a:lnTo>
                  <a:lnTo>
                    <a:pt x="3717" y="818"/>
                  </a:lnTo>
                  <a:lnTo>
                    <a:pt x="3717" y="809"/>
                  </a:lnTo>
                  <a:lnTo>
                    <a:pt x="3705" y="806"/>
                  </a:lnTo>
                  <a:lnTo>
                    <a:pt x="3694" y="801"/>
                  </a:lnTo>
                  <a:lnTo>
                    <a:pt x="3685" y="795"/>
                  </a:lnTo>
                  <a:lnTo>
                    <a:pt x="3685" y="786"/>
                  </a:lnTo>
                  <a:lnTo>
                    <a:pt x="3691" y="778"/>
                  </a:lnTo>
                  <a:lnTo>
                    <a:pt x="3697" y="769"/>
                  </a:lnTo>
                  <a:lnTo>
                    <a:pt x="3700" y="760"/>
                  </a:lnTo>
                  <a:lnTo>
                    <a:pt x="3708" y="757"/>
                  </a:lnTo>
                  <a:lnTo>
                    <a:pt x="3717" y="752"/>
                  </a:lnTo>
                  <a:lnTo>
                    <a:pt x="3726" y="757"/>
                  </a:lnTo>
                  <a:lnTo>
                    <a:pt x="3735" y="760"/>
                  </a:lnTo>
                  <a:lnTo>
                    <a:pt x="3743" y="763"/>
                  </a:lnTo>
                  <a:lnTo>
                    <a:pt x="3743" y="755"/>
                  </a:lnTo>
                  <a:lnTo>
                    <a:pt x="3737" y="746"/>
                  </a:lnTo>
                  <a:lnTo>
                    <a:pt x="3737" y="737"/>
                  </a:lnTo>
                  <a:lnTo>
                    <a:pt x="3735" y="729"/>
                  </a:lnTo>
                  <a:lnTo>
                    <a:pt x="3735" y="720"/>
                  </a:lnTo>
                  <a:lnTo>
                    <a:pt x="3732" y="711"/>
                  </a:lnTo>
                  <a:lnTo>
                    <a:pt x="3726" y="703"/>
                  </a:lnTo>
                  <a:lnTo>
                    <a:pt x="3723" y="691"/>
                  </a:lnTo>
                  <a:lnTo>
                    <a:pt x="3723" y="682"/>
                  </a:lnTo>
                  <a:lnTo>
                    <a:pt x="3723" y="674"/>
                  </a:lnTo>
                  <a:lnTo>
                    <a:pt x="3723" y="665"/>
                  </a:lnTo>
                  <a:lnTo>
                    <a:pt x="3714" y="662"/>
                  </a:lnTo>
                  <a:lnTo>
                    <a:pt x="3708" y="671"/>
                  </a:lnTo>
                  <a:lnTo>
                    <a:pt x="3700" y="671"/>
                  </a:lnTo>
                  <a:lnTo>
                    <a:pt x="3691" y="674"/>
                  </a:lnTo>
                  <a:lnTo>
                    <a:pt x="3682" y="671"/>
                  </a:lnTo>
                  <a:lnTo>
                    <a:pt x="3673" y="659"/>
                  </a:lnTo>
                  <a:lnTo>
                    <a:pt x="3668" y="651"/>
                  </a:lnTo>
                  <a:lnTo>
                    <a:pt x="3662" y="642"/>
                  </a:lnTo>
                  <a:lnTo>
                    <a:pt x="3653" y="633"/>
                  </a:lnTo>
                  <a:lnTo>
                    <a:pt x="3641" y="628"/>
                  </a:lnTo>
                  <a:lnTo>
                    <a:pt x="3633" y="622"/>
                  </a:lnTo>
                  <a:lnTo>
                    <a:pt x="3624" y="622"/>
                  </a:lnTo>
                  <a:lnTo>
                    <a:pt x="3615" y="616"/>
                  </a:lnTo>
                  <a:lnTo>
                    <a:pt x="3604" y="613"/>
                  </a:lnTo>
                  <a:lnTo>
                    <a:pt x="3595" y="608"/>
                  </a:lnTo>
                  <a:lnTo>
                    <a:pt x="3577" y="573"/>
                  </a:lnTo>
                  <a:lnTo>
                    <a:pt x="3592" y="587"/>
                  </a:lnTo>
                  <a:lnTo>
                    <a:pt x="3592" y="576"/>
                  </a:lnTo>
                  <a:lnTo>
                    <a:pt x="3589" y="567"/>
                  </a:lnTo>
                  <a:lnTo>
                    <a:pt x="3589" y="559"/>
                  </a:lnTo>
                  <a:lnTo>
                    <a:pt x="3583" y="547"/>
                  </a:lnTo>
                  <a:lnTo>
                    <a:pt x="3577" y="538"/>
                  </a:lnTo>
                  <a:lnTo>
                    <a:pt x="3569" y="530"/>
                  </a:lnTo>
                  <a:lnTo>
                    <a:pt x="3583" y="527"/>
                  </a:lnTo>
                  <a:lnTo>
                    <a:pt x="3592" y="530"/>
                  </a:lnTo>
                  <a:lnTo>
                    <a:pt x="3601" y="533"/>
                  </a:lnTo>
                  <a:lnTo>
                    <a:pt x="3609" y="538"/>
                  </a:lnTo>
                  <a:lnTo>
                    <a:pt x="3618" y="541"/>
                  </a:lnTo>
                  <a:lnTo>
                    <a:pt x="3621" y="533"/>
                  </a:lnTo>
                  <a:lnTo>
                    <a:pt x="3621" y="524"/>
                  </a:lnTo>
                  <a:lnTo>
                    <a:pt x="3612" y="518"/>
                  </a:lnTo>
                  <a:lnTo>
                    <a:pt x="3604" y="507"/>
                  </a:lnTo>
                  <a:lnTo>
                    <a:pt x="3598" y="498"/>
                  </a:lnTo>
                  <a:lnTo>
                    <a:pt x="3589" y="489"/>
                  </a:lnTo>
                  <a:lnTo>
                    <a:pt x="3586" y="481"/>
                  </a:lnTo>
                  <a:lnTo>
                    <a:pt x="3577" y="472"/>
                  </a:lnTo>
                  <a:lnTo>
                    <a:pt x="3566" y="469"/>
                  </a:lnTo>
                  <a:lnTo>
                    <a:pt x="3557" y="469"/>
                  </a:lnTo>
                  <a:lnTo>
                    <a:pt x="3548" y="469"/>
                  </a:lnTo>
                  <a:lnTo>
                    <a:pt x="3540" y="469"/>
                  </a:lnTo>
                  <a:lnTo>
                    <a:pt x="3531" y="466"/>
                  </a:lnTo>
                  <a:lnTo>
                    <a:pt x="3519" y="458"/>
                  </a:lnTo>
                  <a:lnTo>
                    <a:pt x="3516" y="449"/>
                  </a:lnTo>
                  <a:lnTo>
                    <a:pt x="3510" y="440"/>
                  </a:lnTo>
                  <a:lnTo>
                    <a:pt x="3507" y="432"/>
                  </a:lnTo>
                  <a:lnTo>
                    <a:pt x="3502" y="423"/>
                  </a:lnTo>
                  <a:lnTo>
                    <a:pt x="3502" y="412"/>
                  </a:lnTo>
                  <a:lnTo>
                    <a:pt x="3510" y="412"/>
                  </a:lnTo>
                  <a:lnTo>
                    <a:pt x="3519" y="417"/>
                  </a:lnTo>
                  <a:lnTo>
                    <a:pt x="3531" y="426"/>
                  </a:lnTo>
                  <a:lnTo>
                    <a:pt x="3540" y="432"/>
                  </a:lnTo>
                  <a:lnTo>
                    <a:pt x="3542" y="440"/>
                  </a:lnTo>
                  <a:lnTo>
                    <a:pt x="3551" y="446"/>
                  </a:lnTo>
                  <a:lnTo>
                    <a:pt x="3563" y="452"/>
                  </a:lnTo>
                  <a:lnTo>
                    <a:pt x="3572" y="458"/>
                  </a:lnTo>
                  <a:lnTo>
                    <a:pt x="3580" y="458"/>
                  </a:lnTo>
                  <a:lnTo>
                    <a:pt x="3589" y="458"/>
                  </a:lnTo>
                  <a:lnTo>
                    <a:pt x="3598" y="458"/>
                  </a:lnTo>
                  <a:lnTo>
                    <a:pt x="3606" y="461"/>
                  </a:lnTo>
                  <a:lnTo>
                    <a:pt x="3612" y="472"/>
                  </a:lnTo>
                  <a:lnTo>
                    <a:pt x="3618" y="481"/>
                  </a:lnTo>
                  <a:lnTo>
                    <a:pt x="3621" y="489"/>
                  </a:lnTo>
                  <a:lnTo>
                    <a:pt x="3627" y="498"/>
                  </a:lnTo>
                  <a:lnTo>
                    <a:pt x="3633" y="507"/>
                  </a:lnTo>
                  <a:lnTo>
                    <a:pt x="3641" y="518"/>
                  </a:lnTo>
                  <a:lnTo>
                    <a:pt x="3650" y="521"/>
                  </a:lnTo>
                  <a:lnTo>
                    <a:pt x="3662" y="524"/>
                  </a:lnTo>
                  <a:lnTo>
                    <a:pt x="3671" y="524"/>
                  </a:lnTo>
                  <a:lnTo>
                    <a:pt x="3679" y="527"/>
                  </a:lnTo>
                  <a:lnTo>
                    <a:pt x="3688" y="527"/>
                  </a:lnTo>
                  <a:lnTo>
                    <a:pt x="3700" y="530"/>
                  </a:lnTo>
                  <a:lnTo>
                    <a:pt x="3711" y="536"/>
                  </a:lnTo>
                  <a:lnTo>
                    <a:pt x="3723" y="544"/>
                  </a:lnTo>
                  <a:lnTo>
                    <a:pt x="3729" y="553"/>
                  </a:lnTo>
                  <a:lnTo>
                    <a:pt x="3735" y="561"/>
                  </a:lnTo>
                  <a:lnTo>
                    <a:pt x="3746" y="570"/>
                  </a:lnTo>
                  <a:lnTo>
                    <a:pt x="3761" y="579"/>
                  </a:lnTo>
                  <a:lnTo>
                    <a:pt x="3770" y="585"/>
                  </a:lnTo>
                  <a:lnTo>
                    <a:pt x="3772" y="593"/>
                  </a:lnTo>
                  <a:lnTo>
                    <a:pt x="3775" y="602"/>
                  </a:lnTo>
                  <a:lnTo>
                    <a:pt x="3778" y="610"/>
                  </a:lnTo>
                  <a:lnTo>
                    <a:pt x="3787" y="610"/>
                  </a:lnTo>
                  <a:lnTo>
                    <a:pt x="3790" y="619"/>
                  </a:lnTo>
                  <a:lnTo>
                    <a:pt x="3799" y="622"/>
                  </a:lnTo>
                  <a:lnTo>
                    <a:pt x="3807" y="628"/>
                  </a:lnTo>
                  <a:lnTo>
                    <a:pt x="3819" y="633"/>
                  </a:lnTo>
                  <a:lnTo>
                    <a:pt x="3828" y="636"/>
                  </a:lnTo>
                  <a:lnTo>
                    <a:pt x="3836" y="639"/>
                  </a:lnTo>
                  <a:lnTo>
                    <a:pt x="3845" y="642"/>
                  </a:lnTo>
                  <a:lnTo>
                    <a:pt x="3854" y="642"/>
                  </a:lnTo>
                  <a:lnTo>
                    <a:pt x="3866" y="645"/>
                  </a:lnTo>
                  <a:lnTo>
                    <a:pt x="3874" y="651"/>
                  </a:lnTo>
                  <a:lnTo>
                    <a:pt x="3883" y="657"/>
                  </a:lnTo>
                  <a:lnTo>
                    <a:pt x="3892" y="657"/>
                  </a:lnTo>
                  <a:lnTo>
                    <a:pt x="3901" y="657"/>
                  </a:lnTo>
                  <a:lnTo>
                    <a:pt x="3912" y="657"/>
                  </a:lnTo>
                  <a:lnTo>
                    <a:pt x="3924" y="657"/>
                  </a:lnTo>
                  <a:lnTo>
                    <a:pt x="3938" y="657"/>
                  </a:lnTo>
                  <a:lnTo>
                    <a:pt x="3947" y="657"/>
                  </a:lnTo>
                  <a:lnTo>
                    <a:pt x="3959" y="657"/>
                  </a:lnTo>
                  <a:lnTo>
                    <a:pt x="3967" y="659"/>
                  </a:lnTo>
                  <a:lnTo>
                    <a:pt x="3979" y="659"/>
                  </a:lnTo>
                  <a:lnTo>
                    <a:pt x="3991" y="659"/>
                  </a:lnTo>
                  <a:lnTo>
                    <a:pt x="4002" y="659"/>
                  </a:lnTo>
                  <a:lnTo>
                    <a:pt x="4017" y="659"/>
                  </a:lnTo>
                  <a:lnTo>
                    <a:pt x="4026" y="659"/>
                  </a:lnTo>
                  <a:lnTo>
                    <a:pt x="4037" y="659"/>
                  </a:lnTo>
                  <a:lnTo>
                    <a:pt x="4049" y="659"/>
                  </a:lnTo>
                  <a:lnTo>
                    <a:pt x="4061" y="659"/>
                  </a:lnTo>
                  <a:lnTo>
                    <a:pt x="4072" y="659"/>
                  </a:lnTo>
                  <a:lnTo>
                    <a:pt x="4084" y="659"/>
                  </a:lnTo>
                  <a:lnTo>
                    <a:pt x="4093" y="659"/>
                  </a:lnTo>
                  <a:lnTo>
                    <a:pt x="4101" y="659"/>
                  </a:lnTo>
                  <a:lnTo>
                    <a:pt x="4110" y="659"/>
                  </a:lnTo>
                  <a:lnTo>
                    <a:pt x="4119" y="659"/>
                  </a:lnTo>
                  <a:lnTo>
                    <a:pt x="4128" y="659"/>
                  </a:lnTo>
                  <a:lnTo>
                    <a:pt x="4136" y="659"/>
                  </a:lnTo>
                  <a:lnTo>
                    <a:pt x="4142" y="668"/>
                  </a:lnTo>
                  <a:lnTo>
                    <a:pt x="4145" y="677"/>
                  </a:lnTo>
                  <a:lnTo>
                    <a:pt x="4151" y="685"/>
                  </a:lnTo>
                  <a:lnTo>
                    <a:pt x="4160" y="691"/>
                  </a:lnTo>
                  <a:lnTo>
                    <a:pt x="4168" y="700"/>
                  </a:lnTo>
                  <a:lnTo>
                    <a:pt x="4177" y="700"/>
                  </a:lnTo>
                  <a:lnTo>
                    <a:pt x="4177" y="691"/>
                  </a:lnTo>
                  <a:lnTo>
                    <a:pt x="4168" y="682"/>
                  </a:lnTo>
                  <a:lnTo>
                    <a:pt x="4168" y="674"/>
                  </a:lnTo>
                  <a:lnTo>
                    <a:pt x="4160" y="665"/>
                  </a:lnTo>
                  <a:lnTo>
                    <a:pt x="4151" y="659"/>
                  </a:lnTo>
                  <a:lnTo>
                    <a:pt x="4136" y="619"/>
                  </a:lnTo>
                  <a:lnTo>
                    <a:pt x="4142" y="60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33880" y="36291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6" y="0"/>
                  </a:moveTo>
                  <a:lnTo>
                    <a:pt x="32" y="11"/>
                  </a:lnTo>
                  <a:lnTo>
                    <a:pt x="23" y="11"/>
                  </a:lnTo>
                  <a:lnTo>
                    <a:pt x="14" y="11"/>
                  </a:lnTo>
                  <a:lnTo>
                    <a:pt x="5" y="13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8" y="33"/>
                  </a:lnTo>
                  <a:lnTo>
                    <a:pt x="17" y="30"/>
                  </a:lnTo>
                  <a:lnTo>
                    <a:pt x="23" y="22"/>
                  </a:lnTo>
                  <a:lnTo>
                    <a:pt x="23" y="13"/>
                  </a:lnTo>
                  <a:lnTo>
                    <a:pt x="26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14480" y="5259240"/>
              <a:ext cx="4320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" y="20"/>
                  </a:moveTo>
                  <a:lnTo>
                    <a:pt x="8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4" y="17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2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81200" y="4390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0"/>
                  </a:moveTo>
                  <a:lnTo>
                    <a:pt x="11" y="16"/>
                  </a:lnTo>
                  <a:lnTo>
                    <a:pt x="11" y="25"/>
                  </a:lnTo>
                  <a:lnTo>
                    <a:pt x="2" y="33"/>
                  </a:lnTo>
                  <a:lnTo>
                    <a:pt x="11" y="45"/>
                  </a:lnTo>
                  <a:lnTo>
                    <a:pt x="26" y="48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2" y="22"/>
                  </a:lnTo>
                  <a:lnTo>
                    <a:pt x="23" y="14"/>
                  </a:lnTo>
                  <a:lnTo>
                    <a:pt x="14" y="11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229600" y="16905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0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05920" y="1801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lnTo>
                    <a:pt x="8" y="11"/>
                  </a:lnTo>
                  <a:lnTo>
                    <a:pt x="14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26" y="46"/>
                  </a:lnTo>
                  <a:lnTo>
                    <a:pt x="17" y="43"/>
                  </a:lnTo>
                  <a:lnTo>
                    <a:pt x="11" y="34"/>
                  </a:lnTo>
                  <a:lnTo>
                    <a:pt x="8" y="25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24440" y="16192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6" y="70"/>
                  </a:moveTo>
                  <a:lnTo>
                    <a:pt x="0" y="78"/>
                  </a:lnTo>
                  <a:lnTo>
                    <a:pt x="0" y="70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19" y="42"/>
                  </a:lnTo>
                  <a:lnTo>
                    <a:pt x="11" y="33"/>
                  </a:lnTo>
                  <a:lnTo>
                    <a:pt x="11" y="25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11"/>
                  </a:lnTo>
                  <a:lnTo>
                    <a:pt x="45" y="16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28" y="33"/>
                  </a:lnTo>
                  <a:lnTo>
                    <a:pt x="35" y="36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5" y="56"/>
                  </a:lnTo>
                  <a:lnTo>
                    <a:pt x="45" y="64"/>
                  </a:lnTo>
                  <a:lnTo>
                    <a:pt x="43" y="72"/>
                  </a:lnTo>
                  <a:lnTo>
                    <a:pt x="50" y="75"/>
                  </a:lnTo>
                  <a:lnTo>
                    <a:pt x="55" y="84"/>
                  </a:lnTo>
                  <a:lnTo>
                    <a:pt x="50" y="92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31" y="98"/>
                  </a:lnTo>
                  <a:lnTo>
                    <a:pt x="23" y="98"/>
                  </a:lnTo>
                  <a:lnTo>
                    <a:pt x="14" y="92"/>
                  </a:lnTo>
                  <a:lnTo>
                    <a:pt x="9" y="84"/>
                  </a:lnTo>
                  <a:lnTo>
                    <a:pt x="4" y="75"/>
                  </a:lnTo>
                  <a:lnTo>
                    <a:pt x="16" y="7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48200" y="17812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4"/>
                  </a:lnTo>
                  <a:lnTo>
                    <a:pt x="16" y="18"/>
                  </a:lnTo>
                  <a:lnTo>
                    <a:pt x="4" y="0"/>
                  </a:lnTo>
                  <a:lnTo>
                    <a:pt x="16" y="1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00840" y="167328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0"/>
                  </a:moveTo>
                  <a:lnTo>
                    <a:pt x="17" y="19"/>
                  </a:lnTo>
                  <a:lnTo>
                    <a:pt x="22" y="11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25" y="27"/>
                  </a:lnTo>
                  <a:lnTo>
                    <a:pt x="28" y="36"/>
                  </a:lnTo>
                  <a:lnTo>
                    <a:pt x="11" y="30"/>
                  </a:lnTo>
                  <a:lnTo>
                    <a:pt x="0" y="33"/>
                  </a:lnTo>
                  <a:lnTo>
                    <a:pt x="11" y="3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91040" y="1490760"/>
              <a:ext cx="84240" cy="10944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31" y="51"/>
                  </a:moveTo>
                  <a:lnTo>
                    <a:pt x="8" y="34"/>
                  </a:lnTo>
                  <a:lnTo>
                    <a:pt x="8" y="42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5" y="68"/>
                  </a:lnTo>
                  <a:lnTo>
                    <a:pt x="17" y="68"/>
                  </a:lnTo>
                  <a:lnTo>
                    <a:pt x="28" y="68"/>
                  </a:lnTo>
                  <a:lnTo>
                    <a:pt x="37" y="68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2" y="34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20" y="19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7" y="45"/>
                  </a:lnTo>
                  <a:lnTo>
                    <a:pt x="31" y="51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38480" y="2170080"/>
              <a:ext cx="293760" cy="235080"/>
            </a:xfrm>
            <a:custGeom>
              <a:avLst/>
              <a:gdLst/>
              <a:ahLst/>
              <a:rect l="l" t="t" r="r" b="b"/>
              <a:pathLst>
                <a:path w="185" h="148">
                  <a:moveTo>
                    <a:pt x="0" y="101"/>
                  </a:moveTo>
                  <a:lnTo>
                    <a:pt x="11" y="84"/>
                  </a:lnTo>
                  <a:lnTo>
                    <a:pt x="11" y="93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5" y="138"/>
                  </a:lnTo>
                  <a:lnTo>
                    <a:pt x="14" y="135"/>
                  </a:lnTo>
                  <a:lnTo>
                    <a:pt x="20" y="127"/>
                  </a:lnTo>
                  <a:lnTo>
                    <a:pt x="28" y="118"/>
                  </a:lnTo>
                  <a:lnTo>
                    <a:pt x="31" y="110"/>
                  </a:lnTo>
                  <a:lnTo>
                    <a:pt x="40" y="104"/>
                  </a:lnTo>
                  <a:lnTo>
                    <a:pt x="48" y="101"/>
                  </a:lnTo>
                  <a:lnTo>
                    <a:pt x="57" y="98"/>
                  </a:lnTo>
                  <a:lnTo>
                    <a:pt x="66" y="90"/>
                  </a:lnTo>
                  <a:lnTo>
                    <a:pt x="69" y="81"/>
                  </a:lnTo>
                  <a:lnTo>
                    <a:pt x="77" y="79"/>
                  </a:lnTo>
                  <a:lnTo>
                    <a:pt x="80" y="87"/>
                  </a:lnTo>
                  <a:lnTo>
                    <a:pt x="80" y="96"/>
                  </a:lnTo>
                  <a:lnTo>
                    <a:pt x="80" y="104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71" y="130"/>
                  </a:lnTo>
                  <a:lnTo>
                    <a:pt x="74" y="138"/>
                  </a:lnTo>
                  <a:lnTo>
                    <a:pt x="83" y="141"/>
                  </a:lnTo>
                  <a:lnTo>
                    <a:pt x="94" y="141"/>
                  </a:lnTo>
                  <a:lnTo>
                    <a:pt x="103" y="138"/>
                  </a:lnTo>
                  <a:lnTo>
                    <a:pt x="109" y="130"/>
                  </a:lnTo>
                  <a:lnTo>
                    <a:pt x="109" y="121"/>
                  </a:lnTo>
                  <a:lnTo>
                    <a:pt x="100" y="113"/>
                  </a:lnTo>
                  <a:lnTo>
                    <a:pt x="106" y="101"/>
                  </a:lnTo>
                  <a:lnTo>
                    <a:pt x="100" y="90"/>
                  </a:lnTo>
                  <a:lnTo>
                    <a:pt x="97" y="81"/>
                  </a:lnTo>
                  <a:lnTo>
                    <a:pt x="97" y="73"/>
                  </a:lnTo>
                  <a:lnTo>
                    <a:pt x="97" y="65"/>
                  </a:lnTo>
                  <a:lnTo>
                    <a:pt x="103" y="56"/>
                  </a:lnTo>
                  <a:lnTo>
                    <a:pt x="112" y="56"/>
                  </a:lnTo>
                  <a:lnTo>
                    <a:pt x="120" y="53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52" y="56"/>
                  </a:lnTo>
                  <a:lnTo>
                    <a:pt x="166" y="56"/>
                  </a:lnTo>
                  <a:lnTo>
                    <a:pt x="175" y="56"/>
                  </a:lnTo>
                  <a:lnTo>
                    <a:pt x="184" y="56"/>
                  </a:lnTo>
                  <a:lnTo>
                    <a:pt x="184" y="48"/>
                  </a:lnTo>
                  <a:lnTo>
                    <a:pt x="184" y="39"/>
                  </a:lnTo>
                  <a:lnTo>
                    <a:pt x="181" y="31"/>
                  </a:lnTo>
                  <a:lnTo>
                    <a:pt x="178" y="22"/>
                  </a:lnTo>
                  <a:lnTo>
                    <a:pt x="166" y="16"/>
                  </a:lnTo>
                  <a:lnTo>
                    <a:pt x="158" y="16"/>
                  </a:lnTo>
                  <a:lnTo>
                    <a:pt x="146" y="16"/>
                  </a:lnTo>
                  <a:lnTo>
                    <a:pt x="138" y="19"/>
                  </a:lnTo>
                  <a:lnTo>
                    <a:pt x="140" y="11"/>
                  </a:lnTo>
                  <a:lnTo>
                    <a:pt x="140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12" y="11"/>
                  </a:lnTo>
                  <a:lnTo>
                    <a:pt x="103" y="16"/>
                  </a:lnTo>
                  <a:lnTo>
                    <a:pt x="97" y="25"/>
                  </a:lnTo>
                  <a:lnTo>
                    <a:pt x="94" y="16"/>
                  </a:lnTo>
                  <a:lnTo>
                    <a:pt x="86" y="14"/>
                  </a:lnTo>
                  <a:lnTo>
                    <a:pt x="77" y="19"/>
                  </a:lnTo>
                  <a:lnTo>
                    <a:pt x="69" y="25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63" y="2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7" y="25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23" y="48"/>
                  </a:lnTo>
                  <a:lnTo>
                    <a:pt x="31" y="48"/>
                  </a:lnTo>
                  <a:lnTo>
                    <a:pt x="40" y="42"/>
                  </a:lnTo>
                  <a:lnTo>
                    <a:pt x="51" y="45"/>
                  </a:lnTo>
                  <a:lnTo>
                    <a:pt x="57" y="53"/>
                  </a:lnTo>
                  <a:lnTo>
                    <a:pt x="60" y="62"/>
                  </a:lnTo>
                  <a:lnTo>
                    <a:pt x="51" y="65"/>
                  </a:lnTo>
                  <a:lnTo>
                    <a:pt x="40" y="65"/>
                  </a:lnTo>
                  <a:lnTo>
                    <a:pt x="28" y="59"/>
                  </a:lnTo>
                  <a:lnTo>
                    <a:pt x="17" y="59"/>
                  </a:lnTo>
                  <a:lnTo>
                    <a:pt x="8" y="65"/>
                  </a:lnTo>
                  <a:lnTo>
                    <a:pt x="8" y="76"/>
                  </a:lnTo>
                  <a:lnTo>
                    <a:pt x="11" y="87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6"/>
                  </a:lnTo>
                  <a:lnTo>
                    <a:pt x="0" y="101"/>
                  </a:lnTo>
                  <a:lnTo>
                    <a:pt x="5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0" y="1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95760" y="2171880"/>
              <a:ext cx="220680" cy="18072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31" y="53"/>
                  </a:moveTo>
                  <a:lnTo>
                    <a:pt x="25" y="64"/>
                  </a:lnTo>
                  <a:lnTo>
                    <a:pt x="31" y="53"/>
                  </a:lnTo>
                  <a:lnTo>
                    <a:pt x="43" y="56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7" y="79"/>
                  </a:lnTo>
                  <a:lnTo>
                    <a:pt x="23" y="90"/>
                  </a:lnTo>
                  <a:lnTo>
                    <a:pt x="25" y="98"/>
                  </a:lnTo>
                  <a:lnTo>
                    <a:pt x="31" y="107"/>
                  </a:lnTo>
                  <a:lnTo>
                    <a:pt x="34" y="98"/>
                  </a:lnTo>
                  <a:lnTo>
                    <a:pt x="34" y="90"/>
                  </a:lnTo>
                  <a:lnTo>
                    <a:pt x="43" y="90"/>
                  </a:lnTo>
                  <a:lnTo>
                    <a:pt x="54" y="93"/>
                  </a:lnTo>
                  <a:lnTo>
                    <a:pt x="63" y="96"/>
                  </a:lnTo>
                  <a:lnTo>
                    <a:pt x="71" y="96"/>
                  </a:lnTo>
                  <a:lnTo>
                    <a:pt x="80" y="87"/>
                  </a:lnTo>
                  <a:lnTo>
                    <a:pt x="89" y="87"/>
                  </a:lnTo>
                  <a:lnTo>
                    <a:pt x="97" y="93"/>
                  </a:lnTo>
                  <a:lnTo>
                    <a:pt x="103" y="107"/>
                  </a:lnTo>
                  <a:lnTo>
                    <a:pt x="112" y="110"/>
                  </a:lnTo>
                  <a:lnTo>
                    <a:pt x="120" y="113"/>
                  </a:lnTo>
                  <a:lnTo>
                    <a:pt x="126" y="104"/>
                  </a:lnTo>
                  <a:lnTo>
                    <a:pt x="123" y="96"/>
                  </a:lnTo>
                  <a:lnTo>
                    <a:pt x="115" y="90"/>
                  </a:lnTo>
                  <a:lnTo>
                    <a:pt x="106" y="87"/>
                  </a:lnTo>
                  <a:lnTo>
                    <a:pt x="94" y="81"/>
                  </a:lnTo>
                  <a:lnTo>
                    <a:pt x="92" y="73"/>
                  </a:lnTo>
                  <a:lnTo>
                    <a:pt x="103" y="70"/>
                  </a:lnTo>
                  <a:lnTo>
                    <a:pt x="112" y="70"/>
                  </a:lnTo>
                  <a:lnTo>
                    <a:pt x="115" y="62"/>
                  </a:lnTo>
                  <a:lnTo>
                    <a:pt x="120" y="53"/>
                  </a:lnTo>
                  <a:lnTo>
                    <a:pt x="129" y="48"/>
                  </a:lnTo>
                  <a:lnTo>
                    <a:pt x="138" y="39"/>
                  </a:lnTo>
                  <a:lnTo>
                    <a:pt x="129" y="33"/>
                  </a:lnTo>
                  <a:lnTo>
                    <a:pt x="120" y="31"/>
                  </a:lnTo>
                  <a:lnTo>
                    <a:pt x="112" y="33"/>
                  </a:lnTo>
                  <a:lnTo>
                    <a:pt x="106" y="42"/>
                  </a:lnTo>
                  <a:lnTo>
                    <a:pt x="97" y="45"/>
                  </a:lnTo>
                  <a:lnTo>
                    <a:pt x="97" y="36"/>
                  </a:lnTo>
                  <a:lnTo>
                    <a:pt x="100" y="25"/>
                  </a:lnTo>
                  <a:lnTo>
                    <a:pt x="100" y="16"/>
                  </a:lnTo>
                  <a:lnTo>
                    <a:pt x="103" y="8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0" y="8"/>
                  </a:lnTo>
                  <a:lnTo>
                    <a:pt x="77" y="16"/>
                  </a:lnTo>
                  <a:lnTo>
                    <a:pt x="74" y="25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1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3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23" y="64"/>
                  </a:lnTo>
                  <a:lnTo>
                    <a:pt x="31" y="64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77" y="53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05520" y="2079720"/>
              <a:ext cx="298440" cy="156960"/>
            </a:xfrm>
            <a:custGeom>
              <a:avLst/>
              <a:gdLst/>
              <a:ahLst/>
              <a:rect l="l" t="t" r="r" b="b"/>
              <a:pathLst>
                <a:path w="188" h="99">
                  <a:moveTo>
                    <a:pt x="0" y="17"/>
                  </a:moveTo>
                  <a:lnTo>
                    <a:pt x="25" y="25"/>
                  </a:lnTo>
                  <a:lnTo>
                    <a:pt x="37" y="25"/>
                  </a:lnTo>
                  <a:lnTo>
                    <a:pt x="43" y="34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63" y="69"/>
                  </a:lnTo>
                  <a:lnTo>
                    <a:pt x="63" y="80"/>
                  </a:lnTo>
                  <a:lnTo>
                    <a:pt x="71" y="83"/>
                  </a:lnTo>
                  <a:lnTo>
                    <a:pt x="80" y="77"/>
                  </a:lnTo>
                  <a:lnTo>
                    <a:pt x="89" y="77"/>
                  </a:lnTo>
                  <a:lnTo>
                    <a:pt x="97" y="77"/>
                  </a:lnTo>
                  <a:lnTo>
                    <a:pt x="106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5" y="74"/>
                  </a:lnTo>
                  <a:lnTo>
                    <a:pt x="143" y="77"/>
                  </a:lnTo>
                  <a:lnTo>
                    <a:pt x="152" y="86"/>
                  </a:lnTo>
                  <a:lnTo>
                    <a:pt x="163" y="98"/>
                  </a:lnTo>
                  <a:lnTo>
                    <a:pt x="169" y="89"/>
                  </a:lnTo>
                  <a:lnTo>
                    <a:pt x="175" y="80"/>
                  </a:lnTo>
                  <a:lnTo>
                    <a:pt x="181" y="72"/>
                  </a:lnTo>
                  <a:lnTo>
                    <a:pt x="187" y="60"/>
                  </a:lnTo>
                  <a:lnTo>
                    <a:pt x="187" y="51"/>
                  </a:lnTo>
                  <a:lnTo>
                    <a:pt x="187" y="43"/>
                  </a:lnTo>
                  <a:lnTo>
                    <a:pt x="181" y="34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5" y="34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9" y="40"/>
                  </a:lnTo>
                  <a:lnTo>
                    <a:pt x="129" y="49"/>
                  </a:lnTo>
                  <a:lnTo>
                    <a:pt x="129" y="57"/>
                  </a:lnTo>
                  <a:lnTo>
                    <a:pt x="120" y="51"/>
                  </a:lnTo>
                  <a:lnTo>
                    <a:pt x="109" y="43"/>
                  </a:lnTo>
                  <a:lnTo>
                    <a:pt x="100" y="34"/>
                  </a:lnTo>
                  <a:lnTo>
                    <a:pt x="86" y="25"/>
                  </a:lnTo>
                  <a:lnTo>
                    <a:pt x="83" y="37"/>
                  </a:lnTo>
                  <a:lnTo>
                    <a:pt x="74" y="40"/>
                  </a:lnTo>
                  <a:lnTo>
                    <a:pt x="74" y="31"/>
                  </a:lnTo>
                  <a:lnTo>
                    <a:pt x="69" y="23"/>
                  </a:lnTo>
                  <a:lnTo>
                    <a:pt x="60" y="17"/>
                  </a:lnTo>
                  <a:lnTo>
                    <a:pt x="51" y="8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8" y="8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0" y="1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74960" y="2954160"/>
              <a:ext cx="680760" cy="700200"/>
            </a:xfrm>
            <a:custGeom>
              <a:avLst/>
              <a:gdLst/>
              <a:ahLst/>
              <a:rect l="l" t="t" r="r" b="b"/>
              <a:pathLst>
                <a:path w="429" h="441">
                  <a:moveTo>
                    <a:pt x="22" y="309"/>
                  </a:moveTo>
                  <a:lnTo>
                    <a:pt x="34" y="315"/>
                  </a:lnTo>
                  <a:lnTo>
                    <a:pt x="43" y="318"/>
                  </a:lnTo>
                  <a:lnTo>
                    <a:pt x="51" y="321"/>
                  </a:lnTo>
                  <a:lnTo>
                    <a:pt x="54" y="333"/>
                  </a:lnTo>
                  <a:lnTo>
                    <a:pt x="63" y="342"/>
                  </a:lnTo>
                  <a:lnTo>
                    <a:pt x="71" y="348"/>
                  </a:lnTo>
                  <a:lnTo>
                    <a:pt x="80" y="348"/>
                  </a:lnTo>
                  <a:lnTo>
                    <a:pt x="91" y="355"/>
                  </a:lnTo>
                  <a:lnTo>
                    <a:pt x="100" y="361"/>
                  </a:lnTo>
                  <a:lnTo>
                    <a:pt x="109" y="364"/>
                  </a:lnTo>
                  <a:lnTo>
                    <a:pt x="112" y="373"/>
                  </a:lnTo>
                  <a:lnTo>
                    <a:pt x="117" y="382"/>
                  </a:lnTo>
                  <a:lnTo>
                    <a:pt x="123" y="391"/>
                  </a:lnTo>
                  <a:lnTo>
                    <a:pt x="132" y="397"/>
                  </a:lnTo>
                  <a:lnTo>
                    <a:pt x="146" y="406"/>
                  </a:lnTo>
                  <a:lnTo>
                    <a:pt x="155" y="412"/>
                  </a:lnTo>
                  <a:lnTo>
                    <a:pt x="163" y="418"/>
                  </a:lnTo>
                  <a:lnTo>
                    <a:pt x="172" y="421"/>
                  </a:lnTo>
                  <a:lnTo>
                    <a:pt x="180" y="430"/>
                  </a:lnTo>
                  <a:lnTo>
                    <a:pt x="189" y="436"/>
                  </a:lnTo>
                  <a:lnTo>
                    <a:pt x="198" y="440"/>
                  </a:lnTo>
                  <a:lnTo>
                    <a:pt x="203" y="430"/>
                  </a:lnTo>
                  <a:lnTo>
                    <a:pt x="203" y="421"/>
                  </a:lnTo>
                  <a:lnTo>
                    <a:pt x="203" y="412"/>
                  </a:lnTo>
                  <a:lnTo>
                    <a:pt x="215" y="406"/>
                  </a:lnTo>
                  <a:lnTo>
                    <a:pt x="224" y="406"/>
                  </a:lnTo>
                  <a:lnTo>
                    <a:pt x="232" y="406"/>
                  </a:lnTo>
                  <a:lnTo>
                    <a:pt x="241" y="406"/>
                  </a:lnTo>
                  <a:lnTo>
                    <a:pt x="249" y="406"/>
                  </a:lnTo>
                  <a:lnTo>
                    <a:pt x="258" y="406"/>
                  </a:lnTo>
                  <a:lnTo>
                    <a:pt x="261" y="397"/>
                  </a:lnTo>
                  <a:lnTo>
                    <a:pt x="261" y="388"/>
                  </a:lnTo>
                  <a:lnTo>
                    <a:pt x="261" y="379"/>
                  </a:lnTo>
                  <a:lnTo>
                    <a:pt x="261" y="367"/>
                  </a:lnTo>
                  <a:lnTo>
                    <a:pt x="261" y="355"/>
                  </a:lnTo>
                  <a:lnTo>
                    <a:pt x="252" y="348"/>
                  </a:lnTo>
                  <a:lnTo>
                    <a:pt x="244" y="348"/>
                  </a:lnTo>
                  <a:lnTo>
                    <a:pt x="235" y="342"/>
                  </a:lnTo>
                  <a:lnTo>
                    <a:pt x="229" y="333"/>
                  </a:lnTo>
                  <a:lnTo>
                    <a:pt x="229" y="324"/>
                  </a:lnTo>
                  <a:lnTo>
                    <a:pt x="238" y="321"/>
                  </a:lnTo>
                  <a:lnTo>
                    <a:pt x="247" y="315"/>
                  </a:lnTo>
                  <a:lnTo>
                    <a:pt x="255" y="312"/>
                  </a:lnTo>
                  <a:lnTo>
                    <a:pt x="261" y="303"/>
                  </a:lnTo>
                  <a:lnTo>
                    <a:pt x="261" y="294"/>
                  </a:lnTo>
                  <a:lnTo>
                    <a:pt x="264" y="285"/>
                  </a:lnTo>
                  <a:lnTo>
                    <a:pt x="264" y="276"/>
                  </a:lnTo>
                  <a:lnTo>
                    <a:pt x="267" y="267"/>
                  </a:lnTo>
                  <a:lnTo>
                    <a:pt x="272" y="257"/>
                  </a:lnTo>
                  <a:lnTo>
                    <a:pt x="278" y="248"/>
                  </a:lnTo>
                  <a:lnTo>
                    <a:pt x="284" y="239"/>
                  </a:lnTo>
                  <a:lnTo>
                    <a:pt x="284" y="230"/>
                  </a:lnTo>
                  <a:lnTo>
                    <a:pt x="284" y="221"/>
                  </a:lnTo>
                  <a:lnTo>
                    <a:pt x="284" y="209"/>
                  </a:lnTo>
                  <a:lnTo>
                    <a:pt x="292" y="200"/>
                  </a:lnTo>
                  <a:lnTo>
                    <a:pt x="295" y="191"/>
                  </a:lnTo>
                  <a:lnTo>
                    <a:pt x="298" y="182"/>
                  </a:lnTo>
                  <a:lnTo>
                    <a:pt x="301" y="172"/>
                  </a:lnTo>
                  <a:lnTo>
                    <a:pt x="292" y="163"/>
                  </a:lnTo>
                  <a:lnTo>
                    <a:pt x="284" y="154"/>
                  </a:lnTo>
                  <a:lnTo>
                    <a:pt x="278" y="145"/>
                  </a:lnTo>
                  <a:lnTo>
                    <a:pt x="287" y="142"/>
                  </a:lnTo>
                  <a:lnTo>
                    <a:pt x="295" y="142"/>
                  </a:lnTo>
                  <a:lnTo>
                    <a:pt x="304" y="148"/>
                  </a:lnTo>
                  <a:lnTo>
                    <a:pt x="313" y="157"/>
                  </a:lnTo>
                  <a:lnTo>
                    <a:pt x="321" y="163"/>
                  </a:lnTo>
                  <a:lnTo>
                    <a:pt x="327" y="154"/>
                  </a:lnTo>
                  <a:lnTo>
                    <a:pt x="336" y="148"/>
                  </a:lnTo>
                  <a:lnTo>
                    <a:pt x="344" y="148"/>
                  </a:lnTo>
                  <a:lnTo>
                    <a:pt x="353" y="145"/>
                  </a:lnTo>
                  <a:lnTo>
                    <a:pt x="361" y="142"/>
                  </a:lnTo>
                  <a:lnTo>
                    <a:pt x="361" y="133"/>
                  </a:lnTo>
                  <a:lnTo>
                    <a:pt x="361" y="124"/>
                  </a:lnTo>
                  <a:lnTo>
                    <a:pt x="361" y="115"/>
                  </a:lnTo>
                  <a:lnTo>
                    <a:pt x="359" y="106"/>
                  </a:lnTo>
                  <a:lnTo>
                    <a:pt x="353" y="97"/>
                  </a:lnTo>
                  <a:lnTo>
                    <a:pt x="344" y="88"/>
                  </a:lnTo>
                  <a:lnTo>
                    <a:pt x="333" y="81"/>
                  </a:lnTo>
                  <a:lnTo>
                    <a:pt x="341" y="75"/>
                  </a:lnTo>
                  <a:lnTo>
                    <a:pt x="353" y="75"/>
                  </a:lnTo>
                  <a:lnTo>
                    <a:pt x="361" y="75"/>
                  </a:lnTo>
                  <a:lnTo>
                    <a:pt x="370" y="75"/>
                  </a:lnTo>
                  <a:lnTo>
                    <a:pt x="379" y="72"/>
                  </a:lnTo>
                  <a:lnTo>
                    <a:pt x="387" y="69"/>
                  </a:lnTo>
                  <a:lnTo>
                    <a:pt x="396" y="69"/>
                  </a:lnTo>
                  <a:lnTo>
                    <a:pt x="405" y="72"/>
                  </a:lnTo>
                  <a:lnTo>
                    <a:pt x="419" y="75"/>
                  </a:lnTo>
                  <a:lnTo>
                    <a:pt x="428" y="75"/>
                  </a:lnTo>
                  <a:lnTo>
                    <a:pt x="425" y="66"/>
                  </a:lnTo>
                  <a:lnTo>
                    <a:pt x="422" y="57"/>
                  </a:lnTo>
                  <a:lnTo>
                    <a:pt x="419" y="48"/>
                  </a:lnTo>
                  <a:lnTo>
                    <a:pt x="410" y="48"/>
                  </a:lnTo>
                  <a:lnTo>
                    <a:pt x="402" y="48"/>
                  </a:lnTo>
                  <a:lnTo>
                    <a:pt x="390" y="48"/>
                  </a:lnTo>
                  <a:lnTo>
                    <a:pt x="382" y="48"/>
                  </a:lnTo>
                  <a:lnTo>
                    <a:pt x="379" y="57"/>
                  </a:lnTo>
                  <a:lnTo>
                    <a:pt x="370" y="54"/>
                  </a:lnTo>
                  <a:lnTo>
                    <a:pt x="361" y="45"/>
                  </a:lnTo>
                  <a:lnTo>
                    <a:pt x="353" y="39"/>
                  </a:lnTo>
                  <a:lnTo>
                    <a:pt x="341" y="39"/>
                  </a:lnTo>
                  <a:lnTo>
                    <a:pt x="333" y="39"/>
                  </a:lnTo>
                  <a:lnTo>
                    <a:pt x="318" y="39"/>
                  </a:lnTo>
                  <a:lnTo>
                    <a:pt x="310" y="39"/>
                  </a:lnTo>
                  <a:lnTo>
                    <a:pt x="298" y="42"/>
                  </a:lnTo>
                  <a:lnTo>
                    <a:pt x="290" y="42"/>
                  </a:lnTo>
                  <a:lnTo>
                    <a:pt x="290" y="33"/>
                  </a:lnTo>
                  <a:lnTo>
                    <a:pt x="298" y="30"/>
                  </a:lnTo>
                  <a:lnTo>
                    <a:pt x="307" y="30"/>
                  </a:lnTo>
                  <a:lnTo>
                    <a:pt x="315" y="27"/>
                  </a:lnTo>
                  <a:lnTo>
                    <a:pt x="324" y="24"/>
                  </a:lnTo>
                  <a:lnTo>
                    <a:pt x="327" y="15"/>
                  </a:lnTo>
                  <a:lnTo>
                    <a:pt x="327" y="6"/>
                  </a:lnTo>
                  <a:lnTo>
                    <a:pt x="318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3"/>
                  </a:lnTo>
                  <a:lnTo>
                    <a:pt x="275" y="12"/>
                  </a:lnTo>
                  <a:lnTo>
                    <a:pt x="267" y="18"/>
                  </a:lnTo>
                  <a:lnTo>
                    <a:pt x="258" y="21"/>
                  </a:lnTo>
                  <a:lnTo>
                    <a:pt x="255" y="30"/>
                  </a:lnTo>
                  <a:lnTo>
                    <a:pt x="264" y="36"/>
                  </a:lnTo>
                  <a:lnTo>
                    <a:pt x="272" y="36"/>
                  </a:lnTo>
                  <a:lnTo>
                    <a:pt x="278" y="45"/>
                  </a:lnTo>
                  <a:lnTo>
                    <a:pt x="270" y="54"/>
                  </a:lnTo>
                  <a:lnTo>
                    <a:pt x="267" y="63"/>
                  </a:lnTo>
                  <a:lnTo>
                    <a:pt x="281" y="75"/>
                  </a:lnTo>
                  <a:lnTo>
                    <a:pt x="290" y="78"/>
                  </a:lnTo>
                  <a:lnTo>
                    <a:pt x="281" y="75"/>
                  </a:lnTo>
                  <a:lnTo>
                    <a:pt x="270" y="66"/>
                  </a:lnTo>
                  <a:lnTo>
                    <a:pt x="261" y="60"/>
                  </a:lnTo>
                  <a:lnTo>
                    <a:pt x="252" y="51"/>
                  </a:lnTo>
                  <a:lnTo>
                    <a:pt x="244" y="51"/>
                  </a:lnTo>
                  <a:lnTo>
                    <a:pt x="241" y="60"/>
                  </a:lnTo>
                  <a:lnTo>
                    <a:pt x="241" y="69"/>
                  </a:lnTo>
                  <a:lnTo>
                    <a:pt x="255" y="78"/>
                  </a:lnTo>
                  <a:lnTo>
                    <a:pt x="264" y="81"/>
                  </a:lnTo>
                  <a:lnTo>
                    <a:pt x="255" y="88"/>
                  </a:lnTo>
                  <a:lnTo>
                    <a:pt x="244" y="88"/>
                  </a:lnTo>
                  <a:lnTo>
                    <a:pt x="235" y="88"/>
                  </a:lnTo>
                  <a:lnTo>
                    <a:pt x="235" y="103"/>
                  </a:lnTo>
                  <a:lnTo>
                    <a:pt x="244" y="106"/>
                  </a:lnTo>
                  <a:lnTo>
                    <a:pt x="252" y="109"/>
                  </a:lnTo>
                  <a:lnTo>
                    <a:pt x="244" y="115"/>
                  </a:lnTo>
                  <a:lnTo>
                    <a:pt x="235" y="112"/>
                  </a:lnTo>
                  <a:lnTo>
                    <a:pt x="226" y="109"/>
                  </a:lnTo>
                  <a:lnTo>
                    <a:pt x="218" y="106"/>
                  </a:lnTo>
                  <a:lnTo>
                    <a:pt x="212" y="115"/>
                  </a:lnTo>
                  <a:lnTo>
                    <a:pt x="218" y="124"/>
                  </a:lnTo>
                  <a:lnTo>
                    <a:pt x="229" y="127"/>
                  </a:lnTo>
                  <a:lnTo>
                    <a:pt x="238" y="130"/>
                  </a:lnTo>
                  <a:lnTo>
                    <a:pt x="229" y="124"/>
                  </a:lnTo>
                  <a:lnTo>
                    <a:pt x="221" y="121"/>
                  </a:lnTo>
                  <a:lnTo>
                    <a:pt x="209" y="115"/>
                  </a:lnTo>
                  <a:lnTo>
                    <a:pt x="198" y="106"/>
                  </a:lnTo>
                  <a:lnTo>
                    <a:pt x="192" y="97"/>
                  </a:lnTo>
                  <a:lnTo>
                    <a:pt x="183" y="91"/>
                  </a:lnTo>
                  <a:lnTo>
                    <a:pt x="180" y="81"/>
                  </a:lnTo>
                  <a:lnTo>
                    <a:pt x="178" y="72"/>
                  </a:lnTo>
                  <a:lnTo>
                    <a:pt x="169" y="60"/>
                  </a:lnTo>
                  <a:lnTo>
                    <a:pt x="160" y="60"/>
                  </a:lnTo>
                  <a:lnTo>
                    <a:pt x="152" y="66"/>
                  </a:lnTo>
                  <a:lnTo>
                    <a:pt x="149" y="75"/>
                  </a:lnTo>
                  <a:lnTo>
                    <a:pt x="146" y="84"/>
                  </a:lnTo>
                  <a:lnTo>
                    <a:pt x="143" y="94"/>
                  </a:lnTo>
                  <a:lnTo>
                    <a:pt x="140" y="103"/>
                  </a:lnTo>
                  <a:lnTo>
                    <a:pt x="129" y="103"/>
                  </a:lnTo>
                  <a:lnTo>
                    <a:pt x="117" y="94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0" y="60"/>
                  </a:lnTo>
                  <a:lnTo>
                    <a:pt x="89" y="60"/>
                  </a:lnTo>
                  <a:lnTo>
                    <a:pt x="80" y="66"/>
                  </a:lnTo>
                  <a:lnTo>
                    <a:pt x="77" y="75"/>
                  </a:lnTo>
                  <a:lnTo>
                    <a:pt x="71" y="84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51" y="127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0" y="127"/>
                  </a:lnTo>
                  <a:lnTo>
                    <a:pt x="51" y="121"/>
                  </a:lnTo>
                  <a:lnTo>
                    <a:pt x="43" y="118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4" y="115"/>
                  </a:lnTo>
                  <a:lnTo>
                    <a:pt x="11" y="124"/>
                  </a:lnTo>
                  <a:lnTo>
                    <a:pt x="8" y="133"/>
                  </a:lnTo>
                  <a:lnTo>
                    <a:pt x="2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4" y="169"/>
                  </a:lnTo>
                  <a:lnTo>
                    <a:pt x="22" y="172"/>
                  </a:lnTo>
                  <a:lnTo>
                    <a:pt x="31" y="172"/>
                  </a:lnTo>
                  <a:lnTo>
                    <a:pt x="40" y="176"/>
                  </a:lnTo>
                  <a:lnTo>
                    <a:pt x="51" y="185"/>
                  </a:lnTo>
                  <a:lnTo>
                    <a:pt x="60" y="191"/>
                  </a:lnTo>
                  <a:lnTo>
                    <a:pt x="68" y="197"/>
                  </a:lnTo>
                  <a:lnTo>
                    <a:pt x="80" y="200"/>
                  </a:lnTo>
                  <a:lnTo>
                    <a:pt x="89" y="203"/>
                  </a:lnTo>
                  <a:lnTo>
                    <a:pt x="100" y="203"/>
                  </a:lnTo>
                  <a:lnTo>
                    <a:pt x="109" y="203"/>
                  </a:lnTo>
                  <a:lnTo>
                    <a:pt x="120" y="197"/>
                  </a:lnTo>
                  <a:lnTo>
                    <a:pt x="129" y="194"/>
                  </a:lnTo>
                  <a:lnTo>
                    <a:pt x="135" y="185"/>
                  </a:lnTo>
                  <a:lnTo>
                    <a:pt x="143" y="179"/>
                  </a:lnTo>
                  <a:lnTo>
                    <a:pt x="149" y="169"/>
                  </a:lnTo>
                  <a:lnTo>
                    <a:pt x="157" y="163"/>
                  </a:lnTo>
                  <a:lnTo>
                    <a:pt x="166" y="163"/>
                  </a:lnTo>
                  <a:lnTo>
                    <a:pt x="175" y="166"/>
                  </a:lnTo>
                  <a:lnTo>
                    <a:pt x="183" y="166"/>
                  </a:lnTo>
                  <a:lnTo>
                    <a:pt x="192" y="157"/>
                  </a:lnTo>
                  <a:lnTo>
                    <a:pt x="198" y="148"/>
                  </a:lnTo>
                  <a:lnTo>
                    <a:pt x="201" y="139"/>
                  </a:lnTo>
                  <a:lnTo>
                    <a:pt x="203" y="130"/>
                  </a:lnTo>
                  <a:lnTo>
                    <a:pt x="212" y="130"/>
                  </a:lnTo>
                  <a:lnTo>
                    <a:pt x="224" y="136"/>
                  </a:lnTo>
                  <a:lnTo>
                    <a:pt x="232" y="139"/>
                  </a:lnTo>
                  <a:lnTo>
                    <a:pt x="241" y="142"/>
                  </a:lnTo>
                  <a:lnTo>
                    <a:pt x="232" y="142"/>
                  </a:lnTo>
                  <a:lnTo>
                    <a:pt x="224" y="142"/>
                  </a:lnTo>
                  <a:lnTo>
                    <a:pt x="215" y="142"/>
                  </a:lnTo>
                  <a:lnTo>
                    <a:pt x="206" y="142"/>
                  </a:lnTo>
                  <a:lnTo>
                    <a:pt x="203" y="151"/>
                  </a:lnTo>
                  <a:lnTo>
                    <a:pt x="201" y="160"/>
                  </a:lnTo>
                  <a:lnTo>
                    <a:pt x="201" y="169"/>
                  </a:lnTo>
                  <a:lnTo>
                    <a:pt x="209" y="176"/>
                  </a:lnTo>
                  <a:lnTo>
                    <a:pt x="218" y="179"/>
                  </a:lnTo>
                  <a:lnTo>
                    <a:pt x="226" y="188"/>
                  </a:lnTo>
                  <a:lnTo>
                    <a:pt x="235" y="194"/>
                  </a:lnTo>
                  <a:lnTo>
                    <a:pt x="238" y="203"/>
                  </a:lnTo>
                  <a:lnTo>
                    <a:pt x="226" y="206"/>
                  </a:lnTo>
                  <a:lnTo>
                    <a:pt x="224" y="215"/>
                  </a:lnTo>
                  <a:lnTo>
                    <a:pt x="224" y="224"/>
                  </a:lnTo>
                  <a:lnTo>
                    <a:pt x="221" y="233"/>
                  </a:lnTo>
                  <a:lnTo>
                    <a:pt x="209" y="233"/>
                  </a:lnTo>
                  <a:lnTo>
                    <a:pt x="203" y="245"/>
                  </a:lnTo>
                  <a:lnTo>
                    <a:pt x="198" y="257"/>
                  </a:lnTo>
                  <a:lnTo>
                    <a:pt x="195" y="267"/>
                  </a:lnTo>
                  <a:lnTo>
                    <a:pt x="186" y="267"/>
                  </a:lnTo>
                  <a:lnTo>
                    <a:pt x="183" y="257"/>
                  </a:lnTo>
                  <a:lnTo>
                    <a:pt x="178" y="245"/>
                  </a:lnTo>
                  <a:lnTo>
                    <a:pt x="175" y="233"/>
                  </a:lnTo>
                  <a:lnTo>
                    <a:pt x="166" y="224"/>
                  </a:lnTo>
                  <a:lnTo>
                    <a:pt x="157" y="221"/>
                  </a:lnTo>
                  <a:lnTo>
                    <a:pt x="149" y="218"/>
                  </a:lnTo>
                  <a:lnTo>
                    <a:pt x="137" y="224"/>
                  </a:lnTo>
                  <a:lnTo>
                    <a:pt x="140" y="236"/>
                  </a:lnTo>
                  <a:lnTo>
                    <a:pt x="143" y="245"/>
                  </a:lnTo>
                  <a:lnTo>
                    <a:pt x="143" y="254"/>
                  </a:lnTo>
                  <a:lnTo>
                    <a:pt x="135" y="260"/>
                  </a:lnTo>
                  <a:lnTo>
                    <a:pt x="126" y="260"/>
                  </a:lnTo>
                  <a:lnTo>
                    <a:pt x="114" y="257"/>
                  </a:lnTo>
                  <a:lnTo>
                    <a:pt x="106" y="257"/>
                  </a:lnTo>
                  <a:lnTo>
                    <a:pt x="97" y="257"/>
                  </a:lnTo>
                  <a:lnTo>
                    <a:pt x="89" y="257"/>
                  </a:lnTo>
                  <a:lnTo>
                    <a:pt x="91" y="267"/>
                  </a:lnTo>
                  <a:lnTo>
                    <a:pt x="100" y="276"/>
                  </a:lnTo>
                  <a:lnTo>
                    <a:pt x="100" y="285"/>
                  </a:lnTo>
                  <a:lnTo>
                    <a:pt x="97" y="294"/>
                  </a:lnTo>
                  <a:lnTo>
                    <a:pt x="97" y="303"/>
                  </a:lnTo>
                  <a:lnTo>
                    <a:pt x="109" y="312"/>
                  </a:lnTo>
                  <a:lnTo>
                    <a:pt x="117" y="318"/>
                  </a:lnTo>
                  <a:lnTo>
                    <a:pt x="109" y="318"/>
                  </a:lnTo>
                  <a:lnTo>
                    <a:pt x="100" y="309"/>
                  </a:lnTo>
                  <a:lnTo>
                    <a:pt x="89" y="300"/>
                  </a:lnTo>
                  <a:lnTo>
                    <a:pt x="80" y="297"/>
                  </a:lnTo>
                  <a:lnTo>
                    <a:pt x="71" y="297"/>
                  </a:lnTo>
                  <a:lnTo>
                    <a:pt x="63" y="300"/>
                  </a:lnTo>
                  <a:lnTo>
                    <a:pt x="54" y="306"/>
                  </a:lnTo>
                  <a:lnTo>
                    <a:pt x="43" y="306"/>
                  </a:lnTo>
                  <a:lnTo>
                    <a:pt x="34" y="306"/>
                  </a:lnTo>
                  <a:lnTo>
                    <a:pt x="22" y="309"/>
                  </a:lnTo>
                  <a:lnTo>
                    <a:pt x="11" y="303"/>
                  </a:lnTo>
                  <a:lnTo>
                    <a:pt x="22" y="309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43200" y="27082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2"/>
                  </a:moveTo>
                  <a:lnTo>
                    <a:pt x="8" y="19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34" y="22"/>
                  </a:lnTo>
                  <a:lnTo>
                    <a:pt x="40" y="13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76680" y="294012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5" y="0"/>
                  </a:moveTo>
                  <a:lnTo>
                    <a:pt x="20" y="13"/>
                  </a:lnTo>
                  <a:lnTo>
                    <a:pt x="11" y="16"/>
                  </a:lnTo>
                  <a:lnTo>
                    <a:pt x="8" y="24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4" y="30"/>
                  </a:lnTo>
                  <a:lnTo>
                    <a:pt x="40" y="21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25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10160" y="2549520"/>
              <a:ext cx="339840" cy="509760"/>
            </a:xfrm>
            <a:custGeom>
              <a:avLst/>
              <a:gdLst/>
              <a:ahLst/>
              <a:rect l="l" t="t" r="r" b="b"/>
              <a:pathLst>
                <a:path w="214" h="321">
                  <a:moveTo>
                    <a:pt x="23" y="200"/>
                  </a:moveTo>
                  <a:lnTo>
                    <a:pt x="34" y="182"/>
                  </a:lnTo>
                  <a:lnTo>
                    <a:pt x="23" y="200"/>
                  </a:lnTo>
                  <a:lnTo>
                    <a:pt x="23" y="211"/>
                  </a:lnTo>
                  <a:lnTo>
                    <a:pt x="20" y="220"/>
                  </a:lnTo>
                  <a:lnTo>
                    <a:pt x="17" y="228"/>
                  </a:lnTo>
                  <a:lnTo>
                    <a:pt x="8" y="234"/>
                  </a:lnTo>
                  <a:lnTo>
                    <a:pt x="2" y="24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8" y="268"/>
                  </a:lnTo>
                  <a:lnTo>
                    <a:pt x="17" y="268"/>
                  </a:lnTo>
                  <a:lnTo>
                    <a:pt x="25" y="271"/>
                  </a:lnTo>
                  <a:lnTo>
                    <a:pt x="28" y="280"/>
                  </a:lnTo>
                  <a:lnTo>
                    <a:pt x="37" y="291"/>
                  </a:lnTo>
                  <a:lnTo>
                    <a:pt x="28" y="294"/>
                  </a:lnTo>
                  <a:lnTo>
                    <a:pt x="20" y="285"/>
                  </a:lnTo>
                  <a:lnTo>
                    <a:pt x="31" y="294"/>
                  </a:lnTo>
                  <a:lnTo>
                    <a:pt x="40" y="300"/>
                  </a:lnTo>
                  <a:lnTo>
                    <a:pt x="48" y="311"/>
                  </a:lnTo>
                  <a:lnTo>
                    <a:pt x="57" y="314"/>
                  </a:lnTo>
                  <a:lnTo>
                    <a:pt x="66" y="320"/>
                  </a:lnTo>
                  <a:lnTo>
                    <a:pt x="66" y="311"/>
                  </a:lnTo>
                  <a:lnTo>
                    <a:pt x="74" y="311"/>
                  </a:lnTo>
                  <a:lnTo>
                    <a:pt x="83" y="320"/>
                  </a:lnTo>
                  <a:lnTo>
                    <a:pt x="83" y="308"/>
                  </a:lnTo>
                  <a:lnTo>
                    <a:pt x="92" y="305"/>
                  </a:lnTo>
                  <a:lnTo>
                    <a:pt x="97" y="297"/>
                  </a:lnTo>
                  <a:lnTo>
                    <a:pt x="89" y="288"/>
                  </a:lnTo>
                  <a:lnTo>
                    <a:pt x="83" y="280"/>
                  </a:lnTo>
                  <a:lnTo>
                    <a:pt x="77" y="271"/>
                  </a:lnTo>
                  <a:lnTo>
                    <a:pt x="71" y="262"/>
                  </a:lnTo>
                  <a:lnTo>
                    <a:pt x="69" y="254"/>
                  </a:lnTo>
                  <a:lnTo>
                    <a:pt x="69" y="242"/>
                  </a:lnTo>
                  <a:lnTo>
                    <a:pt x="69" y="234"/>
                  </a:lnTo>
                  <a:lnTo>
                    <a:pt x="69" y="225"/>
                  </a:lnTo>
                  <a:lnTo>
                    <a:pt x="69" y="217"/>
                  </a:lnTo>
                  <a:lnTo>
                    <a:pt x="69" y="208"/>
                  </a:lnTo>
                  <a:lnTo>
                    <a:pt x="69" y="200"/>
                  </a:lnTo>
                  <a:lnTo>
                    <a:pt x="69" y="191"/>
                  </a:lnTo>
                  <a:lnTo>
                    <a:pt x="69" y="182"/>
                  </a:lnTo>
                  <a:lnTo>
                    <a:pt x="77" y="174"/>
                  </a:lnTo>
                  <a:lnTo>
                    <a:pt x="86" y="168"/>
                  </a:lnTo>
                  <a:lnTo>
                    <a:pt x="92" y="160"/>
                  </a:lnTo>
                  <a:lnTo>
                    <a:pt x="97" y="151"/>
                  </a:lnTo>
                  <a:lnTo>
                    <a:pt x="103" y="142"/>
                  </a:lnTo>
                  <a:lnTo>
                    <a:pt x="103" y="134"/>
                  </a:lnTo>
                  <a:lnTo>
                    <a:pt x="103" y="125"/>
                  </a:lnTo>
                  <a:lnTo>
                    <a:pt x="112" y="122"/>
                  </a:lnTo>
                  <a:lnTo>
                    <a:pt x="120" y="117"/>
                  </a:lnTo>
                  <a:lnTo>
                    <a:pt x="123" y="105"/>
                  </a:lnTo>
                  <a:lnTo>
                    <a:pt x="132" y="100"/>
                  </a:lnTo>
                  <a:lnTo>
                    <a:pt x="135" y="91"/>
                  </a:lnTo>
                  <a:lnTo>
                    <a:pt x="143" y="82"/>
                  </a:lnTo>
                  <a:lnTo>
                    <a:pt x="152" y="77"/>
                  </a:lnTo>
                  <a:lnTo>
                    <a:pt x="158" y="68"/>
                  </a:lnTo>
                  <a:lnTo>
                    <a:pt x="166" y="65"/>
                  </a:lnTo>
                  <a:lnTo>
                    <a:pt x="175" y="60"/>
                  </a:lnTo>
                  <a:lnTo>
                    <a:pt x="184" y="57"/>
                  </a:lnTo>
                  <a:lnTo>
                    <a:pt x="189" y="48"/>
                  </a:lnTo>
                  <a:lnTo>
                    <a:pt x="198" y="42"/>
                  </a:lnTo>
                  <a:lnTo>
                    <a:pt x="207" y="37"/>
                  </a:lnTo>
                  <a:lnTo>
                    <a:pt x="210" y="28"/>
                  </a:lnTo>
                  <a:lnTo>
                    <a:pt x="213" y="20"/>
                  </a:lnTo>
                  <a:lnTo>
                    <a:pt x="213" y="11"/>
                  </a:lnTo>
                  <a:lnTo>
                    <a:pt x="210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5" y="8"/>
                  </a:lnTo>
                  <a:lnTo>
                    <a:pt x="175" y="17"/>
                  </a:lnTo>
                  <a:lnTo>
                    <a:pt x="166" y="20"/>
                  </a:lnTo>
                  <a:lnTo>
                    <a:pt x="158" y="25"/>
                  </a:lnTo>
                  <a:lnTo>
                    <a:pt x="149" y="34"/>
                  </a:lnTo>
                  <a:lnTo>
                    <a:pt x="141" y="40"/>
                  </a:lnTo>
                  <a:lnTo>
                    <a:pt x="132" y="42"/>
                  </a:lnTo>
                  <a:lnTo>
                    <a:pt x="123" y="42"/>
                  </a:lnTo>
                  <a:lnTo>
                    <a:pt x="123" y="54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7" y="68"/>
                  </a:lnTo>
                  <a:lnTo>
                    <a:pt x="89" y="77"/>
                  </a:lnTo>
                  <a:lnTo>
                    <a:pt x="83" y="85"/>
                  </a:lnTo>
                  <a:lnTo>
                    <a:pt x="80" y="94"/>
                  </a:lnTo>
                  <a:lnTo>
                    <a:pt x="71" y="100"/>
                  </a:lnTo>
                  <a:lnTo>
                    <a:pt x="66" y="108"/>
                  </a:lnTo>
                  <a:lnTo>
                    <a:pt x="63" y="117"/>
                  </a:lnTo>
                  <a:lnTo>
                    <a:pt x="63" y="125"/>
                  </a:lnTo>
                  <a:lnTo>
                    <a:pt x="57" y="134"/>
                  </a:lnTo>
                  <a:lnTo>
                    <a:pt x="51" y="142"/>
                  </a:lnTo>
                  <a:lnTo>
                    <a:pt x="46" y="151"/>
                  </a:lnTo>
                  <a:lnTo>
                    <a:pt x="40" y="162"/>
                  </a:lnTo>
                  <a:lnTo>
                    <a:pt x="37" y="171"/>
                  </a:lnTo>
                  <a:lnTo>
                    <a:pt x="46" y="177"/>
                  </a:lnTo>
                  <a:lnTo>
                    <a:pt x="54" y="180"/>
                  </a:lnTo>
                  <a:lnTo>
                    <a:pt x="57" y="188"/>
                  </a:lnTo>
                  <a:lnTo>
                    <a:pt x="48" y="185"/>
                  </a:lnTo>
                  <a:lnTo>
                    <a:pt x="40" y="185"/>
                  </a:lnTo>
                  <a:lnTo>
                    <a:pt x="31" y="188"/>
                  </a:lnTo>
                  <a:lnTo>
                    <a:pt x="23" y="200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23" y="237"/>
                  </a:lnTo>
                  <a:lnTo>
                    <a:pt x="14" y="242"/>
                  </a:lnTo>
                  <a:lnTo>
                    <a:pt x="8" y="251"/>
                  </a:lnTo>
                  <a:lnTo>
                    <a:pt x="0" y="260"/>
                  </a:lnTo>
                  <a:lnTo>
                    <a:pt x="23" y="2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71720" y="444168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49" y="47"/>
                  </a:moveTo>
                  <a:lnTo>
                    <a:pt x="44" y="58"/>
                  </a:lnTo>
                  <a:lnTo>
                    <a:pt x="35" y="58"/>
                  </a:lnTo>
                  <a:lnTo>
                    <a:pt x="30" y="66"/>
                  </a:lnTo>
                  <a:lnTo>
                    <a:pt x="30" y="75"/>
                  </a:lnTo>
                  <a:lnTo>
                    <a:pt x="30" y="83"/>
                  </a:lnTo>
                  <a:lnTo>
                    <a:pt x="30" y="91"/>
                  </a:lnTo>
                  <a:lnTo>
                    <a:pt x="22" y="94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8" y="139"/>
                  </a:lnTo>
                  <a:lnTo>
                    <a:pt x="16" y="139"/>
                  </a:lnTo>
                  <a:lnTo>
                    <a:pt x="27" y="147"/>
                  </a:lnTo>
                  <a:lnTo>
                    <a:pt x="33" y="156"/>
                  </a:lnTo>
                  <a:lnTo>
                    <a:pt x="41" y="156"/>
                  </a:lnTo>
                  <a:lnTo>
                    <a:pt x="46" y="147"/>
                  </a:lnTo>
                  <a:lnTo>
                    <a:pt x="52" y="139"/>
                  </a:lnTo>
                  <a:lnTo>
                    <a:pt x="55" y="130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71" y="108"/>
                  </a:lnTo>
                  <a:lnTo>
                    <a:pt x="80" y="108"/>
                  </a:lnTo>
                  <a:lnTo>
                    <a:pt x="82" y="100"/>
                  </a:lnTo>
                  <a:lnTo>
                    <a:pt x="82" y="91"/>
                  </a:lnTo>
                  <a:lnTo>
                    <a:pt x="82" y="83"/>
                  </a:lnTo>
                  <a:lnTo>
                    <a:pt x="82" y="75"/>
                  </a:lnTo>
                  <a:lnTo>
                    <a:pt x="82" y="66"/>
                  </a:lnTo>
                  <a:lnTo>
                    <a:pt x="85" y="58"/>
                  </a:lnTo>
                  <a:lnTo>
                    <a:pt x="93" y="52"/>
                  </a:lnTo>
                  <a:lnTo>
                    <a:pt x="102" y="47"/>
                  </a:lnTo>
                  <a:lnTo>
                    <a:pt x="107" y="39"/>
                  </a:lnTo>
                  <a:lnTo>
                    <a:pt x="115" y="36"/>
                  </a:lnTo>
                  <a:lnTo>
                    <a:pt x="121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38" y="5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8" y="11"/>
                  </a:lnTo>
                  <a:lnTo>
                    <a:pt x="82" y="19"/>
                  </a:lnTo>
                  <a:lnTo>
                    <a:pt x="80" y="27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69" y="61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49" y="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0800" y="524844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1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6" y="21"/>
                  </a:lnTo>
                  <a:lnTo>
                    <a:pt x="23" y="27"/>
                  </a:lnTo>
                  <a:lnTo>
                    <a:pt x="18" y="18"/>
                  </a:lnTo>
                  <a:lnTo>
                    <a:pt x="13" y="9"/>
                  </a:lnTo>
                  <a:lnTo>
                    <a:pt x="6" y="21"/>
                  </a:lnTo>
                  <a:lnTo>
                    <a:pt x="9" y="6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57400" y="5361120"/>
              <a:ext cx="27000" cy="72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6" y="0"/>
                  </a:moveTo>
                  <a:lnTo>
                    <a:pt x="5" y="19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0" y="28"/>
                  </a:lnTo>
                  <a:lnTo>
                    <a:pt x="16" y="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52480" y="4357800"/>
              <a:ext cx="88920" cy="73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0"/>
                  </a:moveTo>
                  <a:lnTo>
                    <a:pt x="20" y="19"/>
                  </a:lnTo>
                  <a:lnTo>
                    <a:pt x="20" y="28"/>
                  </a:lnTo>
                  <a:lnTo>
                    <a:pt x="28" y="33"/>
                  </a:lnTo>
                  <a:lnTo>
                    <a:pt x="28" y="42"/>
                  </a:lnTo>
                  <a:lnTo>
                    <a:pt x="37" y="45"/>
                  </a:lnTo>
                  <a:lnTo>
                    <a:pt x="46" y="45"/>
                  </a:lnTo>
                  <a:lnTo>
                    <a:pt x="49" y="36"/>
                  </a:lnTo>
                  <a:lnTo>
                    <a:pt x="55" y="28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26" y="16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" name="" descr=""/>
            <p:cNvPicPr/>
            <p:nvPr/>
          </p:nvPicPr>
          <p:blipFill>
            <a:blip r:embed="rId1"/>
            <a:stretch/>
          </p:blipFill>
          <p:spPr>
            <a:xfrm>
              <a:off x="228600" y="6137280"/>
              <a:ext cx="611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993600" y="6272280"/>
              <a:ext cx="47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HO European Centre for Environment and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72040" y="743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0"/>
                  </a:moveTo>
                  <a:lnTo>
                    <a:pt x="8" y="8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5" y="37"/>
                  </a:lnTo>
                  <a:lnTo>
                    <a:pt x="11" y="46"/>
                  </a:lnTo>
                  <a:lnTo>
                    <a:pt x="19" y="49"/>
                  </a:lnTo>
                  <a:lnTo>
                    <a:pt x="31" y="52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7" y="55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31" y="14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97360" y="4836960"/>
              <a:ext cx="788760" cy="408240"/>
            </a:xfrm>
            <a:custGeom>
              <a:avLst/>
              <a:gdLst/>
              <a:ahLst/>
              <a:rect l="l" t="t" r="r" b="b"/>
              <a:pathLst>
                <a:path w="497" h="257">
                  <a:moveTo>
                    <a:pt x="0" y="193"/>
                  </a:moveTo>
                  <a:lnTo>
                    <a:pt x="24" y="189"/>
                  </a:lnTo>
                  <a:lnTo>
                    <a:pt x="32" y="182"/>
                  </a:lnTo>
                  <a:lnTo>
                    <a:pt x="40" y="174"/>
                  </a:lnTo>
                  <a:lnTo>
                    <a:pt x="46" y="164"/>
                  </a:lnTo>
                  <a:lnTo>
                    <a:pt x="45" y="155"/>
                  </a:lnTo>
                  <a:lnTo>
                    <a:pt x="52" y="149"/>
                  </a:lnTo>
                  <a:lnTo>
                    <a:pt x="60" y="140"/>
                  </a:lnTo>
                  <a:lnTo>
                    <a:pt x="66" y="131"/>
                  </a:lnTo>
                  <a:lnTo>
                    <a:pt x="69" y="123"/>
                  </a:lnTo>
                  <a:lnTo>
                    <a:pt x="74" y="114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7" y="95"/>
                  </a:lnTo>
                  <a:lnTo>
                    <a:pt x="104" y="88"/>
                  </a:lnTo>
                  <a:lnTo>
                    <a:pt x="109" y="78"/>
                  </a:lnTo>
                  <a:lnTo>
                    <a:pt x="116" y="70"/>
                  </a:lnTo>
                  <a:lnTo>
                    <a:pt x="118" y="60"/>
                  </a:lnTo>
                  <a:lnTo>
                    <a:pt x="128" y="53"/>
                  </a:lnTo>
                  <a:lnTo>
                    <a:pt x="131" y="44"/>
                  </a:lnTo>
                  <a:lnTo>
                    <a:pt x="137" y="37"/>
                  </a:lnTo>
                  <a:lnTo>
                    <a:pt x="144" y="30"/>
                  </a:lnTo>
                  <a:lnTo>
                    <a:pt x="153" y="22"/>
                  </a:lnTo>
                  <a:lnTo>
                    <a:pt x="159" y="15"/>
                  </a:lnTo>
                  <a:lnTo>
                    <a:pt x="168" y="10"/>
                  </a:lnTo>
                  <a:lnTo>
                    <a:pt x="175" y="6"/>
                  </a:lnTo>
                  <a:lnTo>
                    <a:pt x="187" y="6"/>
                  </a:lnTo>
                  <a:lnTo>
                    <a:pt x="193" y="0"/>
                  </a:lnTo>
                  <a:lnTo>
                    <a:pt x="202" y="7"/>
                  </a:lnTo>
                  <a:lnTo>
                    <a:pt x="215" y="15"/>
                  </a:lnTo>
                  <a:lnTo>
                    <a:pt x="207" y="14"/>
                  </a:lnTo>
                  <a:lnTo>
                    <a:pt x="205" y="22"/>
                  </a:lnTo>
                  <a:lnTo>
                    <a:pt x="205" y="31"/>
                  </a:lnTo>
                  <a:lnTo>
                    <a:pt x="215" y="34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40" y="33"/>
                  </a:lnTo>
                  <a:lnTo>
                    <a:pt x="243" y="40"/>
                  </a:lnTo>
                  <a:lnTo>
                    <a:pt x="236" y="45"/>
                  </a:lnTo>
                  <a:lnTo>
                    <a:pt x="228" y="49"/>
                  </a:lnTo>
                  <a:lnTo>
                    <a:pt x="220" y="55"/>
                  </a:lnTo>
                  <a:lnTo>
                    <a:pt x="213" y="62"/>
                  </a:lnTo>
                  <a:lnTo>
                    <a:pt x="222" y="64"/>
                  </a:lnTo>
                  <a:lnTo>
                    <a:pt x="226" y="71"/>
                  </a:lnTo>
                  <a:lnTo>
                    <a:pt x="229" y="78"/>
                  </a:lnTo>
                  <a:lnTo>
                    <a:pt x="232" y="84"/>
                  </a:lnTo>
                  <a:lnTo>
                    <a:pt x="232" y="94"/>
                  </a:lnTo>
                  <a:lnTo>
                    <a:pt x="230" y="103"/>
                  </a:lnTo>
                  <a:lnTo>
                    <a:pt x="239" y="163"/>
                  </a:lnTo>
                  <a:lnTo>
                    <a:pt x="190" y="125"/>
                  </a:lnTo>
                  <a:lnTo>
                    <a:pt x="236" y="116"/>
                  </a:lnTo>
                  <a:lnTo>
                    <a:pt x="246" y="110"/>
                  </a:lnTo>
                  <a:lnTo>
                    <a:pt x="251" y="105"/>
                  </a:lnTo>
                  <a:lnTo>
                    <a:pt x="259" y="94"/>
                  </a:lnTo>
                  <a:lnTo>
                    <a:pt x="270" y="93"/>
                  </a:lnTo>
                  <a:lnTo>
                    <a:pt x="277" y="90"/>
                  </a:lnTo>
                  <a:lnTo>
                    <a:pt x="288" y="86"/>
                  </a:lnTo>
                  <a:lnTo>
                    <a:pt x="295" y="83"/>
                  </a:lnTo>
                  <a:lnTo>
                    <a:pt x="303" y="74"/>
                  </a:lnTo>
                  <a:lnTo>
                    <a:pt x="313" y="75"/>
                  </a:lnTo>
                  <a:lnTo>
                    <a:pt x="320" y="80"/>
                  </a:lnTo>
                  <a:lnTo>
                    <a:pt x="329" y="76"/>
                  </a:lnTo>
                  <a:lnTo>
                    <a:pt x="338" y="74"/>
                  </a:lnTo>
                  <a:lnTo>
                    <a:pt x="345" y="78"/>
                  </a:lnTo>
                  <a:lnTo>
                    <a:pt x="351" y="86"/>
                  </a:lnTo>
                  <a:lnTo>
                    <a:pt x="357" y="92"/>
                  </a:lnTo>
                  <a:lnTo>
                    <a:pt x="365" y="90"/>
                  </a:lnTo>
                  <a:lnTo>
                    <a:pt x="379" y="94"/>
                  </a:lnTo>
                  <a:lnTo>
                    <a:pt x="385" y="99"/>
                  </a:lnTo>
                  <a:lnTo>
                    <a:pt x="394" y="102"/>
                  </a:lnTo>
                  <a:lnTo>
                    <a:pt x="403" y="107"/>
                  </a:lnTo>
                  <a:lnTo>
                    <a:pt x="405" y="115"/>
                  </a:lnTo>
                  <a:lnTo>
                    <a:pt x="413" y="121"/>
                  </a:lnTo>
                  <a:lnTo>
                    <a:pt x="423" y="125"/>
                  </a:lnTo>
                  <a:lnTo>
                    <a:pt x="431" y="128"/>
                  </a:lnTo>
                  <a:lnTo>
                    <a:pt x="440" y="132"/>
                  </a:lnTo>
                  <a:lnTo>
                    <a:pt x="455" y="137"/>
                  </a:lnTo>
                  <a:lnTo>
                    <a:pt x="468" y="141"/>
                  </a:lnTo>
                  <a:lnTo>
                    <a:pt x="473" y="148"/>
                  </a:lnTo>
                  <a:lnTo>
                    <a:pt x="480" y="154"/>
                  </a:lnTo>
                  <a:lnTo>
                    <a:pt x="485" y="161"/>
                  </a:lnTo>
                  <a:lnTo>
                    <a:pt x="488" y="172"/>
                  </a:lnTo>
                  <a:lnTo>
                    <a:pt x="492" y="178"/>
                  </a:lnTo>
                  <a:lnTo>
                    <a:pt x="493" y="187"/>
                  </a:lnTo>
                  <a:lnTo>
                    <a:pt x="494" y="195"/>
                  </a:lnTo>
                  <a:lnTo>
                    <a:pt x="496" y="201"/>
                  </a:lnTo>
                  <a:lnTo>
                    <a:pt x="491" y="213"/>
                  </a:lnTo>
                  <a:lnTo>
                    <a:pt x="480" y="217"/>
                  </a:lnTo>
                  <a:lnTo>
                    <a:pt x="474" y="222"/>
                  </a:lnTo>
                  <a:lnTo>
                    <a:pt x="466" y="228"/>
                  </a:lnTo>
                  <a:lnTo>
                    <a:pt x="458" y="234"/>
                  </a:lnTo>
                  <a:lnTo>
                    <a:pt x="448" y="238"/>
                  </a:lnTo>
                  <a:lnTo>
                    <a:pt x="439" y="240"/>
                  </a:lnTo>
                  <a:lnTo>
                    <a:pt x="430" y="244"/>
                  </a:lnTo>
                  <a:lnTo>
                    <a:pt x="422" y="248"/>
                  </a:lnTo>
                  <a:lnTo>
                    <a:pt x="414" y="240"/>
                  </a:lnTo>
                  <a:lnTo>
                    <a:pt x="405" y="242"/>
                  </a:lnTo>
                  <a:lnTo>
                    <a:pt x="395" y="241"/>
                  </a:lnTo>
                  <a:lnTo>
                    <a:pt x="387" y="244"/>
                  </a:lnTo>
                  <a:lnTo>
                    <a:pt x="380" y="248"/>
                  </a:lnTo>
                  <a:lnTo>
                    <a:pt x="372" y="250"/>
                  </a:lnTo>
                  <a:lnTo>
                    <a:pt x="363" y="252"/>
                  </a:lnTo>
                  <a:lnTo>
                    <a:pt x="357" y="256"/>
                  </a:lnTo>
                  <a:lnTo>
                    <a:pt x="350" y="247"/>
                  </a:lnTo>
                  <a:lnTo>
                    <a:pt x="349" y="240"/>
                  </a:lnTo>
                  <a:lnTo>
                    <a:pt x="340" y="243"/>
                  </a:lnTo>
                  <a:lnTo>
                    <a:pt x="333" y="246"/>
                  </a:lnTo>
                  <a:lnTo>
                    <a:pt x="324" y="248"/>
                  </a:lnTo>
                  <a:lnTo>
                    <a:pt x="315" y="247"/>
                  </a:lnTo>
                  <a:lnTo>
                    <a:pt x="315" y="240"/>
                  </a:lnTo>
                  <a:lnTo>
                    <a:pt x="313" y="233"/>
                  </a:lnTo>
                  <a:lnTo>
                    <a:pt x="310" y="225"/>
                  </a:lnTo>
                  <a:lnTo>
                    <a:pt x="297" y="227"/>
                  </a:lnTo>
                  <a:lnTo>
                    <a:pt x="288" y="227"/>
                  </a:lnTo>
                  <a:lnTo>
                    <a:pt x="281" y="221"/>
                  </a:lnTo>
                  <a:lnTo>
                    <a:pt x="277" y="215"/>
                  </a:lnTo>
                  <a:lnTo>
                    <a:pt x="267" y="213"/>
                  </a:lnTo>
                  <a:lnTo>
                    <a:pt x="226" y="177"/>
                  </a:lnTo>
                  <a:lnTo>
                    <a:pt x="245" y="217"/>
                  </a:lnTo>
                  <a:lnTo>
                    <a:pt x="236" y="217"/>
                  </a:lnTo>
                  <a:lnTo>
                    <a:pt x="227" y="213"/>
                  </a:lnTo>
                  <a:lnTo>
                    <a:pt x="219" y="211"/>
                  </a:lnTo>
                  <a:lnTo>
                    <a:pt x="209" y="209"/>
                  </a:lnTo>
                  <a:lnTo>
                    <a:pt x="200" y="210"/>
                  </a:lnTo>
                  <a:lnTo>
                    <a:pt x="191" y="215"/>
                  </a:lnTo>
                  <a:lnTo>
                    <a:pt x="184" y="218"/>
                  </a:lnTo>
                  <a:lnTo>
                    <a:pt x="176" y="219"/>
                  </a:lnTo>
                  <a:lnTo>
                    <a:pt x="166" y="223"/>
                  </a:lnTo>
                  <a:lnTo>
                    <a:pt x="158" y="230"/>
                  </a:lnTo>
                  <a:lnTo>
                    <a:pt x="150" y="234"/>
                  </a:lnTo>
                  <a:lnTo>
                    <a:pt x="139" y="242"/>
                  </a:lnTo>
                  <a:lnTo>
                    <a:pt x="133" y="247"/>
                  </a:lnTo>
                  <a:lnTo>
                    <a:pt x="122" y="248"/>
                  </a:lnTo>
                  <a:lnTo>
                    <a:pt x="111" y="253"/>
                  </a:lnTo>
                  <a:lnTo>
                    <a:pt x="102" y="252"/>
                  </a:lnTo>
                  <a:lnTo>
                    <a:pt x="91" y="247"/>
                  </a:lnTo>
                  <a:lnTo>
                    <a:pt x="82" y="245"/>
                  </a:lnTo>
                  <a:lnTo>
                    <a:pt x="74" y="244"/>
                  </a:lnTo>
                  <a:lnTo>
                    <a:pt x="63" y="244"/>
                  </a:lnTo>
                  <a:lnTo>
                    <a:pt x="49" y="244"/>
                  </a:lnTo>
                  <a:lnTo>
                    <a:pt x="43" y="238"/>
                  </a:lnTo>
                  <a:lnTo>
                    <a:pt x="36" y="232"/>
                  </a:lnTo>
                  <a:lnTo>
                    <a:pt x="36" y="221"/>
                  </a:lnTo>
                  <a:lnTo>
                    <a:pt x="32" y="217"/>
                  </a:lnTo>
                  <a:lnTo>
                    <a:pt x="26" y="209"/>
                  </a:lnTo>
                  <a:lnTo>
                    <a:pt x="22" y="204"/>
                  </a:lnTo>
                  <a:lnTo>
                    <a:pt x="18" y="197"/>
                  </a:lnTo>
                  <a:lnTo>
                    <a:pt x="0" y="193"/>
                  </a:lnTo>
                  <a:lnTo>
                    <a:pt x="14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762120" y="3087720"/>
            <a:ext cx="790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61080" y="38088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flammogenic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f carbon black particles by particl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71040" y="5638680"/>
            <a:ext cx="33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ource: Donaldson et al.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914400" y="1569960"/>
          <a:ext cx="7162920" cy="379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69960"/>
                    <a:ext cx="716292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460800" y="160020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% neutrophils in 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96560" y="22096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4480" y="373392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9760" y="4267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0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ultra1" descr=""/>
          <p:cNvPicPr/>
          <p:nvPr/>
        </p:nvPicPr>
        <p:blipFill>
          <a:blip r:embed="rId1"/>
          <a:stretch/>
        </p:blipFill>
        <p:spPr>
          <a:xfrm>
            <a:off x="1600200" y="1595520"/>
            <a:ext cx="6019920" cy="43354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984600" y="457200"/>
            <a:ext cx="70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ffects of different size of ultrafine and fine P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 daily mortality, Erfurt, 1995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35560" y="605628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ource: Spix et al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11960" y="5665680"/>
            <a:ext cx="30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st 1 day lag    /   distributed la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d8a"/>
            </a:gs>
            <a:gs pos="50000">
              <a:srgbClr val="0f219b"/>
            </a:gs>
            <a:gs pos="100000">
              <a:srgbClr val="0d1d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28600" y="557280"/>
            <a:ext cx="8120160" cy="6118200"/>
            <a:chOff x="228600" y="557280"/>
            <a:chExt cx="8120160" cy="6118200"/>
          </a:xfrm>
        </p:grpSpPr>
        <p:sp>
          <p:nvSpPr>
            <p:cNvPr id="410" name=""/>
            <p:cNvSpPr/>
            <p:nvPr/>
          </p:nvSpPr>
          <p:spPr>
            <a:xfrm>
              <a:off x="2662200" y="20638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2" y="77"/>
                  </a:moveTo>
                  <a:lnTo>
                    <a:pt x="2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2" y="125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5" y="174"/>
                  </a:lnTo>
                  <a:lnTo>
                    <a:pt x="31" y="182"/>
                  </a:lnTo>
                  <a:lnTo>
                    <a:pt x="40" y="182"/>
                  </a:lnTo>
                  <a:lnTo>
                    <a:pt x="48" y="182"/>
                  </a:lnTo>
                  <a:lnTo>
                    <a:pt x="60" y="191"/>
                  </a:lnTo>
                  <a:lnTo>
                    <a:pt x="71" y="196"/>
                  </a:lnTo>
                  <a:lnTo>
                    <a:pt x="71" y="205"/>
                  </a:lnTo>
                  <a:lnTo>
                    <a:pt x="74" y="214"/>
                  </a:lnTo>
                  <a:lnTo>
                    <a:pt x="83" y="214"/>
                  </a:lnTo>
                  <a:lnTo>
                    <a:pt x="91" y="214"/>
                  </a:lnTo>
                  <a:lnTo>
                    <a:pt x="100" y="214"/>
                  </a:lnTo>
                  <a:lnTo>
                    <a:pt x="109" y="214"/>
                  </a:lnTo>
                  <a:lnTo>
                    <a:pt x="117" y="214"/>
                  </a:lnTo>
                  <a:lnTo>
                    <a:pt x="126" y="214"/>
                  </a:lnTo>
                  <a:lnTo>
                    <a:pt x="137" y="208"/>
                  </a:lnTo>
                  <a:lnTo>
                    <a:pt x="149" y="202"/>
                  </a:lnTo>
                  <a:lnTo>
                    <a:pt x="149" y="194"/>
                  </a:lnTo>
                  <a:lnTo>
                    <a:pt x="146" y="185"/>
                  </a:lnTo>
                  <a:lnTo>
                    <a:pt x="146" y="176"/>
                  </a:lnTo>
                  <a:lnTo>
                    <a:pt x="155" y="168"/>
                  </a:lnTo>
                  <a:lnTo>
                    <a:pt x="158" y="159"/>
                  </a:lnTo>
                  <a:lnTo>
                    <a:pt x="158" y="151"/>
                  </a:lnTo>
                  <a:lnTo>
                    <a:pt x="155" y="142"/>
                  </a:lnTo>
                  <a:lnTo>
                    <a:pt x="155" y="134"/>
                  </a:lnTo>
                  <a:lnTo>
                    <a:pt x="146" y="134"/>
                  </a:lnTo>
                  <a:lnTo>
                    <a:pt x="137" y="134"/>
                  </a:lnTo>
                  <a:lnTo>
                    <a:pt x="135" y="125"/>
                  </a:lnTo>
                  <a:lnTo>
                    <a:pt x="129" y="116"/>
                  </a:lnTo>
                  <a:lnTo>
                    <a:pt x="120" y="114"/>
                  </a:lnTo>
                  <a:lnTo>
                    <a:pt x="114" y="105"/>
                  </a:lnTo>
                  <a:lnTo>
                    <a:pt x="114" y="97"/>
                  </a:lnTo>
                  <a:lnTo>
                    <a:pt x="106" y="94"/>
                  </a:lnTo>
                  <a:lnTo>
                    <a:pt x="97" y="94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89" y="71"/>
                  </a:lnTo>
                  <a:lnTo>
                    <a:pt x="80" y="68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83" y="45"/>
                  </a:lnTo>
                  <a:lnTo>
                    <a:pt x="94" y="45"/>
                  </a:lnTo>
                  <a:lnTo>
                    <a:pt x="103" y="39"/>
                  </a:lnTo>
                  <a:lnTo>
                    <a:pt x="106" y="31"/>
                  </a:lnTo>
                  <a:lnTo>
                    <a:pt x="103" y="22"/>
                  </a:lnTo>
                  <a:lnTo>
                    <a:pt x="94" y="22"/>
                  </a:lnTo>
                  <a:lnTo>
                    <a:pt x="86" y="14"/>
                  </a:lnTo>
                  <a:lnTo>
                    <a:pt x="77" y="11"/>
                  </a:lnTo>
                  <a:lnTo>
                    <a:pt x="68" y="11"/>
                  </a:lnTo>
                  <a:lnTo>
                    <a:pt x="54" y="0"/>
                  </a:lnTo>
                  <a:lnTo>
                    <a:pt x="51" y="8"/>
                  </a:lnTo>
                  <a:lnTo>
                    <a:pt x="60" y="14"/>
                  </a:lnTo>
                  <a:lnTo>
                    <a:pt x="63" y="22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7" y="45"/>
                  </a:lnTo>
                  <a:lnTo>
                    <a:pt x="45" y="45"/>
                  </a:lnTo>
                  <a:lnTo>
                    <a:pt x="40" y="37"/>
                  </a:lnTo>
                  <a:lnTo>
                    <a:pt x="34" y="28"/>
                  </a:lnTo>
                  <a:lnTo>
                    <a:pt x="31" y="37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5" y="62"/>
                  </a:lnTo>
                  <a:lnTo>
                    <a:pt x="17" y="68"/>
                  </a:lnTo>
                  <a:lnTo>
                    <a:pt x="2" y="77"/>
                  </a:lnTo>
                  <a:lnTo>
                    <a:pt x="2" y="7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85760" y="557280"/>
              <a:ext cx="6975720" cy="5226120"/>
            </a:xfrm>
            <a:custGeom>
              <a:avLst/>
              <a:gdLst/>
              <a:ahLst/>
              <a:rect l="l" t="t" r="r" b="b"/>
              <a:pathLst>
                <a:path w="4394" h="3292">
                  <a:moveTo>
                    <a:pt x="4183" y="665"/>
                  </a:moveTo>
                  <a:lnTo>
                    <a:pt x="4174" y="685"/>
                  </a:lnTo>
                  <a:lnTo>
                    <a:pt x="4165" y="680"/>
                  </a:lnTo>
                  <a:lnTo>
                    <a:pt x="4154" y="671"/>
                  </a:lnTo>
                  <a:lnTo>
                    <a:pt x="4145" y="665"/>
                  </a:lnTo>
                  <a:lnTo>
                    <a:pt x="4136" y="657"/>
                  </a:lnTo>
                  <a:lnTo>
                    <a:pt x="4128" y="648"/>
                  </a:lnTo>
                  <a:lnTo>
                    <a:pt x="4122" y="639"/>
                  </a:lnTo>
                  <a:lnTo>
                    <a:pt x="4110" y="631"/>
                  </a:lnTo>
                  <a:lnTo>
                    <a:pt x="4104" y="622"/>
                  </a:lnTo>
                  <a:lnTo>
                    <a:pt x="4098" y="613"/>
                  </a:lnTo>
                  <a:lnTo>
                    <a:pt x="4093" y="605"/>
                  </a:lnTo>
                  <a:lnTo>
                    <a:pt x="4084" y="596"/>
                  </a:lnTo>
                  <a:lnTo>
                    <a:pt x="4075" y="593"/>
                  </a:lnTo>
                  <a:lnTo>
                    <a:pt x="4066" y="590"/>
                  </a:lnTo>
                  <a:lnTo>
                    <a:pt x="4058" y="587"/>
                  </a:lnTo>
                  <a:lnTo>
                    <a:pt x="4049" y="585"/>
                  </a:lnTo>
                  <a:lnTo>
                    <a:pt x="4037" y="585"/>
                  </a:lnTo>
                  <a:lnTo>
                    <a:pt x="4029" y="582"/>
                  </a:lnTo>
                  <a:lnTo>
                    <a:pt x="4023" y="573"/>
                  </a:lnTo>
                  <a:lnTo>
                    <a:pt x="4020" y="564"/>
                  </a:lnTo>
                  <a:lnTo>
                    <a:pt x="4011" y="556"/>
                  </a:lnTo>
                  <a:lnTo>
                    <a:pt x="4002" y="550"/>
                  </a:lnTo>
                  <a:lnTo>
                    <a:pt x="4002" y="541"/>
                  </a:lnTo>
                  <a:lnTo>
                    <a:pt x="3994" y="538"/>
                  </a:lnTo>
                  <a:lnTo>
                    <a:pt x="3982" y="538"/>
                  </a:lnTo>
                  <a:lnTo>
                    <a:pt x="3973" y="538"/>
                  </a:lnTo>
                  <a:lnTo>
                    <a:pt x="3965" y="538"/>
                  </a:lnTo>
                  <a:lnTo>
                    <a:pt x="3953" y="538"/>
                  </a:lnTo>
                  <a:lnTo>
                    <a:pt x="3947" y="530"/>
                  </a:lnTo>
                  <a:lnTo>
                    <a:pt x="3947" y="521"/>
                  </a:lnTo>
                  <a:lnTo>
                    <a:pt x="3938" y="512"/>
                  </a:lnTo>
                  <a:lnTo>
                    <a:pt x="3930" y="504"/>
                  </a:lnTo>
                  <a:lnTo>
                    <a:pt x="3930" y="495"/>
                  </a:lnTo>
                  <a:lnTo>
                    <a:pt x="3927" y="484"/>
                  </a:lnTo>
                  <a:lnTo>
                    <a:pt x="3918" y="481"/>
                  </a:lnTo>
                  <a:lnTo>
                    <a:pt x="3909" y="481"/>
                  </a:lnTo>
                  <a:lnTo>
                    <a:pt x="3901" y="481"/>
                  </a:lnTo>
                  <a:lnTo>
                    <a:pt x="3892" y="481"/>
                  </a:lnTo>
                  <a:lnTo>
                    <a:pt x="3883" y="481"/>
                  </a:lnTo>
                  <a:lnTo>
                    <a:pt x="3871" y="481"/>
                  </a:lnTo>
                  <a:lnTo>
                    <a:pt x="3863" y="481"/>
                  </a:lnTo>
                  <a:lnTo>
                    <a:pt x="3851" y="478"/>
                  </a:lnTo>
                  <a:lnTo>
                    <a:pt x="3842" y="472"/>
                  </a:lnTo>
                  <a:lnTo>
                    <a:pt x="3842" y="463"/>
                  </a:lnTo>
                  <a:lnTo>
                    <a:pt x="3842" y="455"/>
                  </a:lnTo>
                  <a:lnTo>
                    <a:pt x="3834" y="446"/>
                  </a:lnTo>
                  <a:lnTo>
                    <a:pt x="3825" y="446"/>
                  </a:lnTo>
                  <a:lnTo>
                    <a:pt x="3819" y="455"/>
                  </a:lnTo>
                  <a:lnTo>
                    <a:pt x="3810" y="458"/>
                  </a:lnTo>
                  <a:lnTo>
                    <a:pt x="3802" y="461"/>
                  </a:lnTo>
                  <a:lnTo>
                    <a:pt x="3793" y="461"/>
                  </a:lnTo>
                  <a:lnTo>
                    <a:pt x="3784" y="461"/>
                  </a:lnTo>
                  <a:lnTo>
                    <a:pt x="3775" y="461"/>
                  </a:lnTo>
                  <a:lnTo>
                    <a:pt x="3764" y="455"/>
                  </a:lnTo>
                  <a:lnTo>
                    <a:pt x="3755" y="452"/>
                  </a:lnTo>
                  <a:lnTo>
                    <a:pt x="3752" y="461"/>
                  </a:lnTo>
                  <a:lnTo>
                    <a:pt x="3755" y="469"/>
                  </a:lnTo>
                  <a:lnTo>
                    <a:pt x="3764" y="472"/>
                  </a:lnTo>
                  <a:lnTo>
                    <a:pt x="3755" y="475"/>
                  </a:lnTo>
                  <a:lnTo>
                    <a:pt x="3746" y="475"/>
                  </a:lnTo>
                  <a:lnTo>
                    <a:pt x="3737" y="478"/>
                  </a:lnTo>
                  <a:lnTo>
                    <a:pt x="3729" y="478"/>
                  </a:lnTo>
                  <a:lnTo>
                    <a:pt x="3720" y="478"/>
                  </a:lnTo>
                  <a:lnTo>
                    <a:pt x="3711" y="472"/>
                  </a:lnTo>
                  <a:lnTo>
                    <a:pt x="3703" y="463"/>
                  </a:lnTo>
                  <a:lnTo>
                    <a:pt x="3694" y="455"/>
                  </a:lnTo>
                  <a:lnTo>
                    <a:pt x="3685" y="452"/>
                  </a:lnTo>
                  <a:lnTo>
                    <a:pt x="3676" y="452"/>
                  </a:lnTo>
                  <a:lnTo>
                    <a:pt x="3668" y="449"/>
                  </a:lnTo>
                  <a:lnTo>
                    <a:pt x="3656" y="449"/>
                  </a:lnTo>
                  <a:lnTo>
                    <a:pt x="3647" y="449"/>
                  </a:lnTo>
                  <a:lnTo>
                    <a:pt x="3638" y="449"/>
                  </a:lnTo>
                  <a:lnTo>
                    <a:pt x="3636" y="440"/>
                  </a:lnTo>
                  <a:lnTo>
                    <a:pt x="3636" y="432"/>
                  </a:lnTo>
                  <a:lnTo>
                    <a:pt x="3630" y="423"/>
                  </a:lnTo>
                  <a:lnTo>
                    <a:pt x="3638" y="423"/>
                  </a:lnTo>
                  <a:lnTo>
                    <a:pt x="3636" y="414"/>
                  </a:lnTo>
                  <a:lnTo>
                    <a:pt x="3627" y="412"/>
                  </a:lnTo>
                  <a:lnTo>
                    <a:pt x="3618" y="409"/>
                  </a:lnTo>
                  <a:lnTo>
                    <a:pt x="3615" y="400"/>
                  </a:lnTo>
                  <a:lnTo>
                    <a:pt x="3609" y="391"/>
                  </a:lnTo>
                  <a:lnTo>
                    <a:pt x="3618" y="391"/>
                  </a:lnTo>
                  <a:lnTo>
                    <a:pt x="3627" y="391"/>
                  </a:lnTo>
                  <a:lnTo>
                    <a:pt x="3633" y="383"/>
                  </a:lnTo>
                  <a:lnTo>
                    <a:pt x="3624" y="377"/>
                  </a:lnTo>
                  <a:lnTo>
                    <a:pt x="3615" y="374"/>
                  </a:lnTo>
                  <a:lnTo>
                    <a:pt x="3606" y="363"/>
                  </a:lnTo>
                  <a:lnTo>
                    <a:pt x="3604" y="354"/>
                  </a:lnTo>
                  <a:lnTo>
                    <a:pt x="3598" y="345"/>
                  </a:lnTo>
                  <a:lnTo>
                    <a:pt x="3592" y="337"/>
                  </a:lnTo>
                  <a:lnTo>
                    <a:pt x="3583" y="322"/>
                  </a:lnTo>
                  <a:lnTo>
                    <a:pt x="3577" y="314"/>
                  </a:lnTo>
                  <a:lnTo>
                    <a:pt x="3586" y="305"/>
                  </a:lnTo>
                  <a:lnTo>
                    <a:pt x="3592" y="296"/>
                  </a:lnTo>
                  <a:lnTo>
                    <a:pt x="3595" y="288"/>
                  </a:lnTo>
                  <a:lnTo>
                    <a:pt x="3595" y="279"/>
                  </a:lnTo>
                  <a:lnTo>
                    <a:pt x="3586" y="276"/>
                  </a:lnTo>
                  <a:lnTo>
                    <a:pt x="3577" y="276"/>
                  </a:lnTo>
                  <a:lnTo>
                    <a:pt x="3569" y="276"/>
                  </a:lnTo>
                  <a:lnTo>
                    <a:pt x="3557" y="270"/>
                  </a:lnTo>
                  <a:lnTo>
                    <a:pt x="3548" y="259"/>
                  </a:lnTo>
                  <a:lnTo>
                    <a:pt x="3540" y="253"/>
                  </a:lnTo>
                  <a:lnTo>
                    <a:pt x="3531" y="250"/>
                  </a:lnTo>
                  <a:lnTo>
                    <a:pt x="3522" y="244"/>
                  </a:lnTo>
                  <a:lnTo>
                    <a:pt x="3510" y="236"/>
                  </a:lnTo>
                  <a:lnTo>
                    <a:pt x="3502" y="233"/>
                  </a:lnTo>
                  <a:lnTo>
                    <a:pt x="3493" y="227"/>
                  </a:lnTo>
                  <a:lnTo>
                    <a:pt x="3484" y="224"/>
                  </a:lnTo>
                  <a:lnTo>
                    <a:pt x="3475" y="219"/>
                  </a:lnTo>
                  <a:lnTo>
                    <a:pt x="3467" y="213"/>
                  </a:lnTo>
                  <a:lnTo>
                    <a:pt x="3458" y="207"/>
                  </a:lnTo>
                  <a:lnTo>
                    <a:pt x="3449" y="198"/>
                  </a:lnTo>
                  <a:lnTo>
                    <a:pt x="3441" y="193"/>
                  </a:lnTo>
                  <a:lnTo>
                    <a:pt x="3432" y="187"/>
                  </a:lnTo>
                  <a:lnTo>
                    <a:pt x="3423" y="184"/>
                  </a:lnTo>
                  <a:lnTo>
                    <a:pt x="3414" y="178"/>
                  </a:lnTo>
                  <a:lnTo>
                    <a:pt x="3406" y="172"/>
                  </a:lnTo>
                  <a:lnTo>
                    <a:pt x="3400" y="164"/>
                  </a:lnTo>
                  <a:lnTo>
                    <a:pt x="3397" y="155"/>
                  </a:lnTo>
                  <a:lnTo>
                    <a:pt x="3394" y="146"/>
                  </a:lnTo>
                  <a:lnTo>
                    <a:pt x="3388" y="138"/>
                  </a:lnTo>
                  <a:lnTo>
                    <a:pt x="3382" y="129"/>
                  </a:lnTo>
                  <a:lnTo>
                    <a:pt x="3388" y="121"/>
                  </a:lnTo>
                  <a:lnTo>
                    <a:pt x="3379" y="121"/>
                  </a:lnTo>
                  <a:lnTo>
                    <a:pt x="3371" y="121"/>
                  </a:lnTo>
                  <a:lnTo>
                    <a:pt x="3362" y="121"/>
                  </a:lnTo>
                  <a:lnTo>
                    <a:pt x="3359" y="129"/>
                  </a:lnTo>
                  <a:lnTo>
                    <a:pt x="3353" y="138"/>
                  </a:lnTo>
                  <a:lnTo>
                    <a:pt x="3347" y="146"/>
                  </a:lnTo>
                  <a:lnTo>
                    <a:pt x="3339" y="152"/>
                  </a:lnTo>
                  <a:lnTo>
                    <a:pt x="3327" y="158"/>
                  </a:lnTo>
                  <a:lnTo>
                    <a:pt x="3318" y="158"/>
                  </a:lnTo>
                  <a:lnTo>
                    <a:pt x="3310" y="167"/>
                  </a:lnTo>
                  <a:lnTo>
                    <a:pt x="3307" y="175"/>
                  </a:lnTo>
                  <a:lnTo>
                    <a:pt x="3307" y="184"/>
                  </a:lnTo>
                  <a:lnTo>
                    <a:pt x="3304" y="193"/>
                  </a:lnTo>
                  <a:lnTo>
                    <a:pt x="3295" y="195"/>
                  </a:lnTo>
                  <a:lnTo>
                    <a:pt x="3295" y="204"/>
                  </a:lnTo>
                  <a:lnTo>
                    <a:pt x="3298" y="213"/>
                  </a:lnTo>
                  <a:lnTo>
                    <a:pt x="3304" y="221"/>
                  </a:lnTo>
                  <a:lnTo>
                    <a:pt x="3310" y="230"/>
                  </a:lnTo>
                  <a:lnTo>
                    <a:pt x="3315" y="239"/>
                  </a:lnTo>
                  <a:lnTo>
                    <a:pt x="3318" y="250"/>
                  </a:lnTo>
                  <a:lnTo>
                    <a:pt x="3321" y="259"/>
                  </a:lnTo>
                  <a:lnTo>
                    <a:pt x="3321" y="247"/>
                  </a:lnTo>
                  <a:lnTo>
                    <a:pt x="3318" y="239"/>
                  </a:lnTo>
                  <a:lnTo>
                    <a:pt x="3315" y="230"/>
                  </a:lnTo>
                  <a:lnTo>
                    <a:pt x="3307" y="224"/>
                  </a:lnTo>
                  <a:lnTo>
                    <a:pt x="3298" y="216"/>
                  </a:lnTo>
                  <a:lnTo>
                    <a:pt x="3292" y="207"/>
                  </a:lnTo>
                  <a:lnTo>
                    <a:pt x="3292" y="198"/>
                  </a:lnTo>
                  <a:lnTo>
                    <a:pt x="3295" y="190"/>
                  </a:lnTo>
                  <a:lnTo>
                    <a:pt x="3292" y="181"/>
                  </a:lnTo>
                  <a:lnTo>
                    <a:pt x="3283" y="172"/>
                  </a:lnTo>
                  <a:lnTo>
                    <a:pt x="3275" y="170"/>
                  </a:lnTo>
                  <a:lnTo>
                    <a:pt x="3266" y="164"/>
                  </a:lnTo>
                  <a:lnTo>
                    <a:pt x="3257" y="161"/>
                  </a:lnTo>
                  <a:lnTo>
                    <a:pt x="3245" y="155"/>
                  </a:lnTo>
                  <a:lnTo>
                    <a:pt x="3237" y="155"/>
                  </a:lnTo>
                  <a:lnTo>
                    <a:pt x="3228" y="155"/>
                  </a:lnTo>
                  <a:lnTo>
                    <a:pt x="3219" y="155"/>
                  </a:lnTo>
                  <a:lnTo>
                    <a:pt x="3213" y="164"/>
                  </a:lnTo>
                  <a:lnTo>
                    <a:pt x="3208" y="172"/>
                  </a:lnTo>
                  <a:lnTo>
                    <a:pt x="3196" y="175"/>
                  </a:lnTo>
                  <a:lnTo>
                    <a:pt x="3184" y="175"/>
                  </a:lnTo>
                  <a:lnTo>
                    <a:pt x="3173" y="175"/>
                  </a:lnTo>
                  <a:lnTo>
                    <a:pt x="3167" y="167"/>
                  </a:lnTo>
                  <a:lnTo>
                    <a:pt x="3179" y="161"/>
                  </a:lnTo>
                  <a:lnTo>
                    <a:pt x="3187" y="161"/>
                  </a:lnTo>
                  <a:lnTo>
                    <a:pt x="3196" y="161"/>
                  </a:lnTo>
                  <a:lnTo>
                    <a:pt x="3205" y="155"/>
                  </a:lnTo>
                  <a:lnTo>
                    <a:pt x="3208" y="146"/>
                  </a:lnTo>
                  <a:lnTo>
                    <a:pt x="3208" y="138"/>
                  </a:lnTo>
                  <a:lnTo>
                    <a:pt x="3205" y="129"/>
                  </a:lnTo>
                  <a:lnTo>
                    <a:pt x="3199" y="121"/>
                  </a:lnTo>
                  <a:lnTo>
                    <a:pt x="3190" y="112"/>
                  </a:lnTo>
                  <a:lnTo>
                    <a:pt x="3184" y="103"/>
                  </a:lnTo>
                  <a:lnTo>
                    <a:pt x="3193" y="97"/>
                  </a:lnTo>
                  <a:lnTo>
                    <a:pt x="3202" y="92"/>
                  </a:lnTo>
                  <a:lnTo>
                    <a:pt x="3205" y="83"/>
                  </a:lnTo>
                  <a:lnTo>
                    <a:pt x="3208" y="74"/>
                  </a:lnTo>
                  <a:lnTo>
                    <a:pt x="3208" y="66"/>
                  </a:lnTo>
                  <a:lnTo>
                    <a:pt x="3202" y="57"/>
                  </a:lnTo>
                  <a:lnTo>
                    <a:pt x="3199" y="48"/>
                  </a:lnTo>
                  <a:lnTo>
                    <a:pt x="3199" y="40"/>
                  </a:lnTo>
                  <a:lnTo>
                    <a:pt x="3199" y="31"/>
                  </a:lnTo>
                  <a:lnTo>
                    <a:pt x="3196" y="23"/>
                  </a:lnTo>
                  <a:lnTo>
                    <a:pt x="3190" y="14"/>
                  </a:lnTo>
                  <a:lnTo>
                    <a:pt x="3184" y="5"/>
                  </a:lnTo>
                  <a:lnTo>
                    <a:pt x="3176" y="0"/>
                  </a:lnTo>
                  <a:lnTo>
                    <a:pt x="3167" y="2"/>
                  </a:lnTo>
                  <a:lnTo>
                    <a:pt x="3158" y="8"/>
                  </a:lnTo>
                  <a:lnTo>
                    <a:pt x="3149" y="14"/>
                  </a:lnTo>
                  <a:lnTo>
                    <a:pt x="3141" y="17"/>
                  </a:lnTo>
                  <a:lnTo>
                    <a:pt x="3132" y="23"/>
                  </a:lnTo>
                  <a:lnTo>
                    <a:pt x="3132" y="31"/>
                  </a:lnTo>
                  <a:lnTo>
                    <a:pt x="3123" y="25"/>
                  </a:lnTo>
                  <a:lnTo>
                    <a:pt x="3114" y="17"/>
                  </a:lnTo>
                  <a:lnTo>
                    <a:pt x="3106" y="14"/>
                  </a:lnTo>
                  <a:lnTo>
                    <a:pt x="3097" y="14"/>
                  </a:lnTo>
                  <a:lnTo>
                    <a:pt x="3088" y="14"/>
                  </a:lnTo>
                  <a:lnTo>
                    <a:pt x="3080" y="14"/>
                  </a:lnTo>
                  <a:lnTo>
                    <a:pt x="3071" y="14"/>
                  </a:lnTo>
                  <a:lnTo>
                    <a:pt x="3071" y="23"/>
                  </a:lnTo>
                  <a:lnTo>
                    <a:pt x="3071" y="31"/>
                  </a:lnTo>
                  <a:lnTo>
                    <a:pt x="3071" y="40"/>
                  </a:lnTo>
                  <a:lnTo>
                    <a:pt x="3068" y="48"/>
                  </a:lnTo>
                  <a:lnTo>
                    <a:pt x="3062" y="57"/>
                  </a:lnTo>
                  <a:lnTo>
                    <a:pt x="3059" y="66"/>
                  </a:lnTo>
                  <a:lnTo>
                    <a:pt x="3059" y="74"/>
                  </a:lnTo>
                  <a:lnTo>
                    <a:pt x="3059" y="83"/>
                  </a:lnTo>
                  <a:lnTo>
                    <a:pt x="3068" y="89"/>
                  </a:lnTo>
                  <a:lnTo>
                    <a:pt x="3077" y="92"/>
                  </a:lnTo>
                  <a:lnTo>
                    <a:pt x="3085" y="97"/>
                  </a:lnTo>
                  <a:lnTo>
                    <a:pt x="3097" y="103"/>
                  </a:lnTo>
                  <a:lnTo>
                    <a:pt x="3106" y="103"/>
                  </a:lnTo>
                  <a:lnTo>
                    <a:pt x="3114" y="103"/>
                  </a:lnTo>
                  <a:lnTo>
                    <a:pt x="3114" y="95"/>
                  </a:lnTo>
                  <a:lnTo>
                    <a:pt x="3123" y="95"/>
                  </a:lnTo>
                  <a:lnTo>
                    <a:pt x="3114" y="103"/>
                  </a:lnTo>
                  <a:lnTo>
                    <a:pt x="3106" y="103"/>
                  </a:lnTo>
                  <a:lnTo>
                    <a:pt x="3097" y="103"/>
                  </a:lnTo>
                  <a:lnTo>
                    <a:pt x="3088" y="109"/>
                  </a:lnTo>
                  <a:lnTo>
                    <a:pt x="3085" y="118"/>
                  </a:lnTo>
                  <a:lnTo>
                    <a:pt x="3085" y="126"/>
                  </a:lnTo>
                  <a:lnTo>
                    <a:pt x="3080" y="135"/>
                  </a:lnTo>
                  <a:lnTo>
                    <a:pt x="3088" y="138"/>
                  </a:lnTo>
                  <a:lnTo>
                    <a:pt x="3082" y="146"/>
                  </a:lnTo>
                  <a:lnTo>
                    <a:pt x="3080" y="155"/>
                  </a:lnTo>
                  <a:lnTo>
                    <a:pt x="3074" y="164"/>
                  </a:lnTo>
                  <a:lnTo>
                    <a:pt x="3074" y="172"/>
                  </a:lnTo>
                  <a:lnTo>
                    <a:pt x="3074" y="181"/>
                  </a:lnTo>
                  <a:lnTo>
                    <a:pt x="3074" y="190"/>
                  </a:lnTo>
                  <a:lnTo>
                    <a:pt x="3085" y="190"/>
                  </a:lnTo>
                  <a:lnTo>
                    <a:pt x="3094" y="190"/>
                  </a:lnTo>
                  <a:lnTo>
                    <a:pt x="3088" y="198"/>
                  </a:lnTo>
                  <a:lnTo>
                    <a:pt x="3080" y="204"/>
                  </a:lnTo>
                  <a:lnTo>
                    <a:pt x="3074" y="213"/>
                  </a:lnTo>
                  <a:lnTo>
                    <a:pt x="3071" y="221"/>
                  </a:lnTo>
                  <a:lnTo>
                    <a:pt x="3071" y="230"/>
                  </a:lnTo>
                  <a:lnTo>
                    <a:pt x="3071" y="239"/>
                  </a:lnTo>
                  <a:lnTo>
                    <a:pt x="3068" y="247"/>
                  </a:lnTo>
                  <a:lnTo>
                    <a:pt x="3062" y="256"/>
                  </a:lnTo>
                  <a:lnTo>
                    <a:pt x="3059" y="265"/>
                  </a:lnTo>
                  <a:lnTo>
                    <a:pt x="3059" y="273"/>
                  </a:lnTo>
                  <a:lnTo>
                    <a:pt x="3059" y="282"/>
                  </a:lnTo>
                  <a:lnTo>
                    <a:pt x="3059" y="291"/>
                  </a:lnTo>
                  <a:lnTo>
                    <a:pt x="3059" y="299"/>
                  </a:lnTo>
                  <a:lnTo>
                    <a:pt x="3059" y="311"/>
                  </a:lnTo>
                  <a:lnTo>
                    <a:pt x="3065" y="319"/>
                  </a:lnTo>
                  <a:lnTo>
                    <a:pt x="3074" y="325"/>
                  </a:lnTo>
                  <a:lnTo>
                    <a:pt x="3082" y="328"/>
                  </a:lnTo>
                  <a:lnTo>
                    <a:pt x="3082" y="337"/>
                  </a:lnTo>
                  <a:lnTo>
                    <a:pt x="3082" y="345"/>
                  </a:lnTo>
                  <a:lnTo>
                    <a:pt x="3085" y="354"/>
                  </a:lnTo>
                  <a:lnTo>
                    <a:pt x="3085" y="363"/>
                  </a:lnTo>
                  <a:lnTo>
                    <a:pt x="3088" y="371"/>
                  </a:lnTo>
                  <a:lnTo>
                    <a:pt x="3088" y="380"/>
                  </a:lnTo>
                  <a:lnTo>
                    <a:pt x="3091" y="389"/>
                  </a:lnTo>
                  <a:lnTo>
                    <a:pt x="3094" y="397"/>
                  </a:lnTo>
                  <a:lnTo>
                    <a:pt x="3097" y="406"/>
                  </a:lnTo>
                  <a:lnTo>
                    <a:pt x="3109" y="412"/>
                  </a:lnTo>
                  <a:lnTo>
                    <a:pt x="3117" y="412"/>
                  </a:lnTo>
                  <a:lnTo>
                    <a:pt x="3126" y="412"/>
                  </a:lnTo>
                  <a:lnTo>
                    <a:pt x="3135" y="412"/>
                  </a:lnTo>
                  <a:lnTo>
                    <a:pt x="3135" y="403"/>
                  </a:lnTo>
                  <a:lnTo>
                    <a:pt x="3138" y="394"/>
                  </a:lnTo>
                  <a:lnTo>
                    <a:pt x="3147" y="391"/>
                  </a:lnTo>
                  <a:lnTo>
                    <a:pt x="3155" y="391"/>
                  </a:lnTo>
                  <a:lnTo>
                    <a:pt x="3164" y="394"/>
                  </a:lnTo>
                  <a:lnTo>
                    <a:pt x="3167" y="403"/>
                  </a:lnTo>
                  <a:lnTo>
                    <a:pt x="3167" y="412"/>
                  </a:lnTo>
                  <a:lnTo>
                    <a:pt x="3164" y="420"/>
                  </a:lnTo>
                  <a:lnTo>
                    <a:pt x="3155" y="423"/>
                  </a:lnTo>
                  <a:lnTo>
                    <a:pt x="3152" y="432"/>
                  </a:lnTo>
                  <a:lnTo>
                    <a:pt x="3144" y="438"/>
                  </a:lnTo>
                  <a:lnTo>
                    <a:pt x="3138" y="429"/>
                  </a:lnTo>
                  <a:lnTo>
                    <a:pt x="3129" y="420"/>
                  </a:lnTo>
                  <a:lnTo>
                    <a:pt x="3120" y="420"/>
                  </a:lnTo>
                  <a:lnTo>
                    <a:pt x="3114" y="429"/>
                  </a:lnTo>
                  <a:lnTo>
                    <a:pt x="3114" y="438"/>
                  </a:lnTo>
                  <a:lnTo>
                    <a:pt x="3114" y="446"/>
                  </a:lnTo>
                  <a:lnTo>
                    <a:pt x="3123" y="452"/>
                  </a:lnTo>
                  <a:lnTo>
                    <a:pt x="3132" y="452"/>
                  </a:lnTo>
                  <a:lnTo>
                    <a:pt x="3141" y="452"/>
                  </a:lnTo>
                  <a:lnTo>
                    <a:pt x="3135" y="461"/>
                  </a:lnTo>
                  <a:lnTo>
                    <a:pt x="3138" y="469"/>
                  </a:lnTo>
                  <a:lnTo>
                    <a:pt x="3147" y="472"/>
                  </a:lnTo>
                  <a:lnTo>
                    <a:pt x="3147" y="463"/>
                  </a:lnTo>
                  <a:lnTo>
                    <a:pt x="3144" y="455"/>
                  </a:lnTo>
                  <a:lnTo>
                    <a:pt x="3144" y="466"/>
                  </a:lnTo>
                  <a:lnTo>
                    <a:pt x="3144" y="475"/>
                  </a:lnTo>
                  <a:lnTo>
                    <a:pt x="3144" y="484"/>
                  </a:lnTo>
                  <a:lnTo>
                    <a:pt x="3144" y="492"/>
                  </a:lnTo>
                  <a:lnTo>
                    <a:pt x="3144" y="501"/>
                  </a:lnTo>
                  <a:lnTo>
                    <a:pt x="3144" y="510"/>
                  </a:lnTo>
                  <a:lnTo>
                    <a:pt x="3152" y="518"/>
                  </a:lnTo>
                  <a:lnTo>
                    <a:pt x="3161" y="527"/>
                  </a:lnTo>
                  <a:lnTo>
                    <a:pt x="3167" y="538"/>
                  </a:lnTo>
                  <a:lnTo>
                    <a:pt x="3176" y="544"/>
                  </a:lnTo>
                  <a:lnTo>
                    <a:pt x="3184" y="550"/>
                  </a:lnTo>
                  <a:lnTo>
                    <a:pt x="3196" y="550"/>
                  </a:lnTo>
                  <a:lnTo>
                    <a:pt x="3205" y="550"/>
                  </a:lnTo>
                  <a:lnTo>
                    <a:pt x="3213" y="550"/>
                  </a:lnTo>
                  <a:lnTo>
                    <a:pt x="3205" y="550"/>
                  </a:lnTo>
                  <a:lnTo>
                    <a:pt x="3193" y="550"/>
                  </a:lnTo>
                  <a:lnTo>
                    <a:pt x="3184" y="553"/>
                  </a:lnTo>
                  <a:lnTo>
                    <a:pt x="3179" y="561"/>
                  </a:lnTo>
                  <a:lnTo>
                    <a:pt x="3176" y="570"/>
                  </a:lnTo>
                  <a:lnTo>
                    <a:pt x="3173" y="579"/>
                  </a:lnTo>
                  <a:lnTo>
                    <a:pt x="3164" y="582"/>
                  </a:lnTo>
                  <a:lnTo>
                    <a:pt x="3155" y="582"/>
                  </a:lnTo>
                  <a:lnTo>
                    <a:pt x="3147" y="582"/>
                  </a:lnTo>
                  <a:lnTo>
                    <a:pt x="3132" y="576"/>
                  </a:lnTo>
                  <a:lnTo>
                    <a:pt x="3120" y="576"/>
                  </a:lnTo>
                  <a:lnTo>
                    <a:pt x="3109" y="576"/>
                  </a:lnTo>
                  <a:lnTo>
                    <a:pt x="3103" y="585"/>
                  </a:lnTo>
                  <a:lnTo>
                    <a:pt x="3100" y="593"/>
                  </a:lnTo>
                  <a:lnTo>
                    <a:pt x="3100" y="602"/>
                  </a:lnTo>
                  <a:lnTo>
                    <a:pt x="3100" y="610"/>
                  </a:lnTo>
                  <a:lnTo>
                    <a:pt x="3100" y="619"/>
                  </a:lnTo>
                  <a:lnTo>
                    <a:pt x="3100" y="628"/>
                  </a:lnTo>
                  <a:lnTo>
                    <a:pt x="3103" y="636"/>
                  </a:lnTo>
                  <a:lnTo>
                    <a:pt x="3106" y="645"/>
                  </a:lnTo>
                  <a:lnTo>
                    <a:pt x="3112" y="654"/>
                  </a:lnTo>
                  <a:lnTo>
                    <a:pt x="3117" y="662"/>
                  </a:lnTo>
                  <a:lnTo>
                    <a:pt x="3120" y="671"/>
                  </a:lnTo>
                  <a:lnTo>
                    <a:pt x="3123" y="680"/>
                  </a:lnTo>
                  <a:lnTo>
                    <a:pt x="3123" y="688"/>
                  </a:lnTo>
                  <a:lnTo>
                    <a:pt x="3123" y="697"/>
                  </a:lnTo>
                  <a:lnTo>
                    <a:pt x="3123" y="706"/>
                  </a:lnTo>
                  <a:lnTo>
                    <a:pt x="3114" y="711"/>
                  </a:lnTo>
                  <a:lnTo>
                    <a:pt x="3106" y="720"/>
                  </a:lnTo>
                  <a:lnTo>
                    <a:pt x="3103" y="729"/>
                  </a:lnTo>
                  <a:lnTo>
                    <a:pt x="3103" y="737"/>
                  </a:lnTo>
                  <a:lnTo>
                    <a:pt x="3094" y="740"/>
                  </a:lnTo>
                  <a:lnTo>
                    <a:pt x="3085" y="743"/>
                  </a:lnTo>
                  <a:lnTo>
                    <a:pt x="3077" y="746"/>
                  </a:lnTo>
                  <a:lnTo>
                    <a:pt x="3068" y="746"/>
                  </a:lnTo>
                  <a:lnTo>
                    <a:pt x="3059" y="752"/>
                  </a:lnTo>
                  <a:lnTo>
                    <a:pt x="3050" y="760"/>
                  </a:lnTo>
                  <a:lnTo>
                    <a:pt x="3050" y="769"/>
                  </a:lnTo>
                  <a:lnTo>
                    <a:pt x="3050" y="778"/>
                  </a:lnTo>
                  <a:lnTo>
                    <a:pt x="3056" y="786"/>
                  </a:lnTo>
                  <a:lnTo>
                    <a:pt x="3065" y="789"/>
                  </a:lnTo>
                  <a:lnTo>
                    <a:pt x="3074" y="795"/>
                  </a:lnTo>
                  <a:lnTo>
                    <a:pt x="3074" y="804"/>
                  </a:lnTo>
                  <a:lnTo>
                    <a:pt x="3062" y="806"/>
                  </a:lnTo>
                  <a:lnTo>
                    <a:pt x="3050" y="806"/>
                  </a:lnTo>
                  <a:lnTo>
                    <a:pt x="3053" y="798"/>
                  </a:lnTo>
                  <a:lnTo>
                    <a:pt x="3045" y="792"/>
                  </a:lnTo>
                  <a:lnTo>
                    <a:pt x="3036" y="798"/>
                  </a:lnTo>
                  <a:lnTo>
                    <a:pt x="3036" y="809"/>
                  </a:lnTo>
                  <a:lnTo>
                    <a:pt x="3036" y="818"/>
                  </a:lnTo>
                  <a:lnTo>
                    <a:pt x="3033" y="827"/>
                  </a:lnTo>
                  <a:lnTo>
                    <a:pt x="3030" y="835"/>
                  </a:lnTo>
                  <a:lnTo>
                    <a:pt x="3024" y="844"/>
                  </a:lnTo>
                  <a:lnTo>
                    <a:pt x="3016" y="853"/>
                  </a:lnTo>
                  <a:lnTo>
                    <a:pt x="3013" y="861"/>
                  </a:lnTo>
                  <a:lnTo>
                    <a:pt x="3021" y="864"/>
                  </a:lnTo>
                  <a:lnTo>
                    <a:pt x="3030" y="864"/>
                  </a:lnTo>
                  <a:lnTo>
                    <a:pt x="3033" y="873"/>
                  </a:lnTo>
                  <a:lnTo>
                    <a:pt x="3033" y="881"/>
                  </a:lnTo>
                  <a:lnTo>
                    <a:pt x="3042" y="890"/>
                  </a:lnTo>
                  <a:lnTo>
                    <a:pt x="3050" y="893"/>
                  </a:lnTo>
                  <a:lnTo>
                    <a:pt x="3062" y="893"/>
                  </a:lnTo>
                  <a:lnTo>
                    <a:pt x="3071" y="887"/>
                  </a:lnTo>
                  <a:lnTo>
                    <a:pt x="3080" y="887"/>
                  </a:lnTo>
                  <a:lnTo>
                    <a:pt x="3088" y="887"/>
                  </a:lnTo>
                  <a:lnTo>
                    <a:pt x="3085" y="896"/>
                  </a:lnTo>
                  <a:lnTo>
                    <a:pt x="3082" y="904"/>
                  </a:lnTo>
                  <a:lnTo>
                    <a:pt x="3080" y="913"/>
                  </a:lnTo>
                  <a:lnTo>
                    <a:pt x="3088" y="919"/>
                  </a:lnTo>
                  <a:lnTo>
                    <a:pt x="3088" y="927"/>
                  </a:lnTo>
                  <a:lnTo>
                    <a:pt x="3080" y="933"/>
                  </a:lnTo>
                  <a:lnTo>
                    <a:pt x="3077" y="942"/>
                  </a:lnTo>
                  <a:lnTo>
                    <a:pt x="3077" y="950"/>
                  </a:lnTo>
                  <a:lnTo>
                    <a:pt x="3074" y="959"/>
                  </a:lnTo>
                  <a:lnTo>
                    <a:pt x="3074" y="968"/>
                  </a:lnTo>
                  <a:lnTo>
                    <a:pt x="3077" y="959"/>
                  </a:lnTo>
                  <a:lnTo>
                    <a:pt x="3065" y="942"/>
                  </a:lnTo>
                  <a:lnTo>
                    <a:pt x="3071" y="962"/>
                  </a:lnTo>
                  <a:lnTo>
                    <a:pt x="3062" y="962"/>
                  </a:lnTo>
                  <a:lnTo>
                    <a:pt x="3074" y="968"/>
                  </a:lnTo>
                  <a:lnTo>
                    <a:pt x="3074" y="976"/>
                  </a:lnTo>
                  <a:lnTo>
                    <a:pt x="3059" y="976"/>
                  </a:lnTo>
                  <a:lnTo>
                    <a:pt x="3050" y="979"/>
                  </a:lnTo>
                  <a:lnTo>
                    <a:pt x="3039" y="979"/>
                  </a:lnTo>
                  <a:lnTo>
                    <a:pt x="3039" y="988"/>
                  </a:lnTo>
                  <a:lnTo>
                    <a:pt x="3048" y="991"/>
                  </a:lnTo>
                  <a:lnTo>
                    <a:pt x="3056" y="991"/>
                  </a:lnTo>
                  <a:lnTo>
                    <a:pt x="3065" y="997"/>
                  </a:lnTo>
                  <a:lnTo>
                    <a:pt x="3074" y="1005"/>
                  </a:lnTo>
                  <a:lnTo>
                    <a:pt x="3077" y="1014"/>
                  </a:lnTo>
                  <a:lnTo>
                    <a:pt x="3082" y="1023"/>
                  </a:lnTo>
                  <a:lnTo>
                    <a:pt x="3088" y="1031"/>
                  </a:lnTo>
                  <a:lnTo>
                    <a:pt x="3080" y="1034"/>
                  </a:lnTo>
                  <a:lnTo>
                    <a:pt x="3071" y="1034"/>
                  </a:lnTo>
                  <a:lnTo>
                    <a:pt x="3062" y="1040"/>
                  </a:lnTo>
                  <a:lnTo>
                    <a:pt x="3050" y="1043"/>
                  </a:lnTo>
                  <a:lnTo>
                    <a:pt x="3039" y="1046"/>
                  </a:lnTo>
                  <a:lnTo>
                    <a:pt x="3030" y="1046"/>
                  </a:lnTo>
                  <a:lnTo>
                    <a:pt x="3018" y="1046"/>
                  </a:lnTo>
                  <a:lnTo>
                    <a:pt x="3010" y="1037"/>
                  </a:lnTo>
                  <a:lnTo>
                    <a:pt x="3007" y="1028"/>
                  </a:lnTo>
                  <a:lnTo>
                    <a:pt x="3010" y="1020"/>
                  </a:lnTo>
                  <a:lnTo>
                    <a:pt x="3013" y="1011"/>
                  </a:lnTo>
                  <a:lnTo>
                    <a:pt x="3004" y="1011"/>
                  </a:lnTo>
                  <a:lnTo>
                    <a:pt x="2992" y="1008"/>
                  </a:lnTo>
                  <a:lnTo>
                    <a:pt x="2983" y="1008"/>
                  </a:lnTo>
                  <a:lnTo>
                    <a:pt x="2978" y="1017"/>
                  </a:lnTo>
                  <a:lnTo>
                    <a:pt x="2978" y="1025"/>
                  </a:lnTo>
                  <a:lnTo>
                    <a:pt x="2983" y="1034"/>
                  </a:lnTo>
                  <a:lnTo>
                    <a:pt x="2989" y="1043"/>
                  </a:lnTo>
                  <a:lnTo>
                    <a:pt x="2992" y="1051"/>
                  </a:lnTo>
                  <a:lnTo>
                    <a:pt x="3001" y="1054"/>
                  </a:lnTo>
                  <a:lnTo>
                    <a:pt x="3010" y="1060"/>
                  </a:lnTo>
                  <a:lnTo>
                    <a:pt x="3018" y="1063"/>
                  </a:lnTo>
                  <a:lnTo>
                    <a:pt x="3027" y="1063"/>
                  </a:lnTo>
                  <a:lnTo>
                    <a:pt x="3036" y="1060"/>
                  </a:lnTo>
                  <a:lnTo>
                    <a:pt x="3027" y="1060"/>
                  </a:lnTo>
                  <a:lnTo>
                    <a:pt x="3018" y="1057"/>
                  </a:lnTo>
                  <a:lnTo>
                    <a:pt x="3010" y="1054"/>
                  </a:lnTo>
                  <a:lnTo>
                    <a:pt x="3004" y="1046"/>
                  </a:lnTo>
                  <a:lnTo>
                    <a:pt x="2995" y="1040"/>
                  </a:lnTo>
                  <a:lnTo>
                    <a:pt x="2992" y="1031"/>
                  </a:lnTo>
                  <a:lnTo>
                    <a:pt x="2983" y="1023"/>
                  </a:lnTo>
                  <a:lnTo>
                    <a:pt x="2978" y="1014"/>
                  </a:lnTo>
                  <a:lnTo>
                    <a:pt x="2969" y="1005"/>
                  </a:lnTo>
                  <a:lnTo>
                    <a:pt x="2966" y="1014"/>
                  </a:lnTo>
                  <a:lnTo>
                    <a:pt x="2954" y="1023"/>
                  </a:lnTo>
                  <a:lnTo>
                    <a:pt x="2946" y="1023"/>
                  </a:lnTo>
                  <a:lnTo>
                    <a:pt x="2943" y="1034"/>
                  </a:lnTo>
                  <a:lnTo>
                    <a:pt x="2943" y="1043"/>
                  </a:lnTo>
                  <a:lnTo>
                    <a:pt x="2951" y="1051"/>
                  </a:lnTo>
                  <a:lnTo>
                    <a:pt x="2963" y="1051"/>
                  </a:lnTo>
                  <a:lnTo>
                    <a:pt x="2975" y="1054"/>
                  </a:lnTo>
                  <a:lnTo>
                    <a:pt x="2963" y="1051"/>
                  </a:lnTo>
                  <a:lnTo>
                    <a:pt x="2951" y="1046"/>
                  </a:lnTo>
                  <a:lnTo>
                    <a:pt x="2943" y="1043"/>
                  </a:lnTo>
                  <a:lnTo>
                    <a:pt x="2934" y="1051"/>
                  </a:lnTo>
                  <a:lnTo>
                    <a:pt x="2928" y="1060"/>
                  </a:lnTo>
                  <a:lnTo>
                    <a:pt x="2919" y="1060"/>
                  </a:lnTo>
                  <a:lnTo>
                    <a:pt x="2919" y="1069"/>
                  </a:lnTo>
                  <a:lnTo>
                    <a:pt x="2931" y="1077"/>
                  </a:lnTo>
                  <a:lnTo>
                    <a:pt x="2943" y="1086"/>
                  </a:lnTo>
                  <a:lnTo>
                    <a:pt x="2951" y="1089"/>
                  </a:lnTo>
                  <a:lnTo>
                    <a:pt x="2960" y="1089"/>
                  </a:lnTo>
                  <a:lnTo>
                    <a:pt x="2969" y="1089"/>
                  </a:lnTo>
                  <a:lnTo>
                    <a:pt x="2972" y="1080"/>
                  </a:lnTo>
                  <a:lnTo>
                    <a:pt x="2975" y="1072"/>
                  </a:lnTo>
                  <a:lnTo>
                    <a:pt x="2975" y="1063"/>
                  </a:lnTo>
                  <a:lnTo>
                    <a:pt x="2978" y="1054"/>
                  </a:lnTo>
                  <a:lnTo>
                    <a:pt x="2981" y="1063"/>
                  </a:lnTo>
                  <a:lnTo>
                    <a:pt x="2981" y="1072"/>
                  </a:lnTo>
                  <a:lnTo>
                    <a:pt x="2975" y="1080"/>
                  </a:lnTo>
                  <a:lnTo>
                    <a:pt x="2969" y="1089"/>
                  </a:lnTo>
                  <a:lnTo>
                    <a:pt x="2957" y="1089"/>
                  </a:lnTo>
                  <a:lnTo>
                    <a:pt x="2949" y="1089"/>
                  </a:lnTo>
                  <a:lnTo>
                    <a:pt x="2940" y="1097"/>
                  </a:lnTo>
                  <a:lnTo>
                    <a:pt x="2937" y="1106"/>
                  </a:lnTo>
                  <a:lnTo>
                    <a:pt x="2934" y="1115"/>
                  </a:lnTo>
                  <a:lnTo>
                    <a:pt x="2934" y="1123"/>
                  </a:lnTo>
                  <a:lnTo>
                    <a:pt x="2925" y="1129"/>
                  </a:lnTo>
                  <a:lnTo>
                    <a:pt x="2917" y="1135"/>
                  </a:lnTo>
                  <a:lnTo>
                    <a:pt x="2908" y="1138"/>
                  </a:lnTo>
                  <a:lnTo>
                    <a:pt x="2899" y="1138"/>
                  </a:lnTo>
                  <a:lnTo>
                    <a:pt x="2893" y="1129"/>
                  </a:lnTo>
                  <a:lnTo>
                    <a:pt x="2884" y="1129"/>
                  </a:lnTo>
                  <a:lnTo>
                    <a:pt x="2876" y="1129"/>
                  </a:lnTo>
                  <a:lnTo>
                    <a:pt x="2867" y="1135"/>
                  </a:lnTo>
                  <a:lnTo>
                    <a:pt x="2864" y="1144"/>
                  </a:lnTo>
                  <a:lnTo>
                    <a:pt x="2861" y="1152"/>
                  </a:lnTo>
                  <a:lnTo>
                    <a:pt x="2861" y="1161"/>
                  </a:lnTo>
                  <a:lnTo>
                    <a:pt x="2858" y="1170"/>
                  </a:lnTo>
                  <a:lnTo>
                    <a:pt x="2852" y="1178"/>
                  </a:lnTo>
                  <a:lnTo>
                    <a:pt x="2844" y="1181"/>
                  </a:lnTo>
                  <a:lnTo>
                    <a:pt x="2835" y="1181"/>
                  </a:lnTo>
                  <a:lnTo>
                    <a:pt x="2826" y="1184"/>
                  </a:lnTo>
                  <a:lnTo>
                    <a:pt x="2818" y="1175"/>
                  </a:lnTo>
                  <a:lnTo>
                    <a:pt x="2809" y="1167"/>
                  </a:lnTo>
                  <a:lnTo>
                    <a:pt x="2806" y="1175"/>
                  </a:lnTo>
                  <a:lnTo>
                    <a:pt x="2806" y="1184"/>
                  </a:lnTo>
                  <a:lnTo>
                    <a:pt x="2806" y="1193"/>
                  </a:lnTo>
                  <a:lnTo>
                    <a:pt x="2806" y="1204"/>
                  </a:lnTo>
                  <a:lnTo>
                    <a:pt x="2806" y="1213"/>
                  </a:lnTo>
                  <a:lnTo>
                    <a:pt x="2815" y="1213"/>
                  </a:lnTo>
                  <a:lnTo>
                    <a:pt x="2823" y="1216"/>
                  </a:lnTo>
                  <a:lnTo>
                    <a:pt x="2826" y="1224"/>
                  </a:lnTo>
                  <a:lnTo>
                    <a:pt x="2826" y="1233"/>
                  </a:lnTo>
                  <a:lnTo>
                    <a:pt x="2826" y="1242"/>
                  </a:lnTo>
                  <a:lnTo>
                    <a:pt x="2823" y="1250"/>
                  </a:lnTo>
                  <a:lnTo>
                    <a:pt x="2815" y="1253"/>
                  </a:lnTo>
                  <a:lnTo>
                    <a:pt x="2809" y="1262"/>
                  </a:lnTo>
                  <a:lnTo>
                    <a:pt x="2809" y="1270"/>
                  </a:lnTo>
                  <a:lnTo>
                    <a:pt x="2809" y="1279"/>
                  </a:lnTo>
                  <a:lnTo>
                    <a:pt x="2809" y="1288"/>
                  </a:lnTo>
                  <a:lnTo>
                    <a:pt x="2809" y="1279"/>
                  </a:lnTo>
                  <a:lnTo>
                    <a:pt x="2806" y="1270"/>
                  </a:lnTo>
                  <a:lnTo>
                    <a:pt x="2806" y="1262"/>
                  </a:lnTo>
                  <a:lnTo>
                    <a:pt x="2800" y="1253"/>
                  </a:lnTo>
                  <a:lnTo>
                    <a:pt x="2797" y="1244"/>
                  </a:lnTo>
                  <a:lnTo>
                    <a:pt x="2794" y="1236"/>
                  </a:lnTo>
                  <a:lnTo>
                    <a:pt x="2794" y="1227"/>
                  </a:lnTo>
                  <a:lnTo>
                    <a:pt x="2794" y="1218"/>
                  </a:lnTo>
                  <a:lnTo>
                    <a:pt x="2800" y="1210"/>
                  </a:lnTo>
                  <a:lnTo>
                    <a:pt x="2803" y="1201"/>
                  </a:lnTo>
                  <a:lnTo>
                    <a:pt x="2800" y="1193"/>
                  </a:lnTo>
                  <a:lnTo>
                    <a:pt x="2791" y="1187"/>
                  </a:lnTo>
                  <a:lnTo>
                    <a:pt x="2788" y="1178"/>
                  </a:lnTo>
                  <a:lnTo>
                    <a:pt x="2788" y="1170"/>
                  </a:lnTo>
                  <a:lnTo>
                    <a:pt x="2788" y="1161"/>
                  </a:lnTo>
                  <a:lnTo>
                    <a:pt x="2788" y="1152"/>
                  </a:lnTo>
                  <a:lnTo>
                    <a:pt x="2786" y="1144"/>
                  </a:lnTo>
                  <a:lnTo>
                    <a:pt x="2786" y="1135"/>
                  </a:lnTo>
                  <a:lnTo>
                    <a:pt x="2780" y="1126"/>
                  </a:lnTo>
                  <a:lnTo>
                    <a:pt x="2768" y="1121"/>
                  </a:lnTo>
                  <a:lnTo>
                    <a:pt x="2759" y="1115"/>
                  </a:lnTo>
                  <a:lnTo>
                    <a:pt x="2748" y="1112"/>
                  </a:lnTo>
                  <a:lnTo>
                    <a:pt x="2736" y="1109"/>
                  </a:lnTo>
                  <a:lnTo>
                    <a:pt x="2724" y="1106"/>
                  </a:lnTo>
                  <a:lnTo>
                    <a:pt x="2716" y="1106"/>
                  </a:lnTo>
                  <a:lnTo>
                    <a:pt x="2710" y="1115"/>
                  </a:lnTo>
                  <a:lnTo>
                    <a:pt x="2704" y="1123"/>
                  </a:lnTo>
                  <a:lnTo>
                    <a:pt x="2698" y="1132"/>
                  </a:lnTo>
                  <a:lnTo>
                    <a:pt x="2692" y="1126"/>
                  </a:lnTo>
                  <a:lnTo>
                    <a:pt x="2695" y="1112"/>
                  </a:lnTo>
                  <a:lnTo>
                    <a:pt x="2695" y="1121"/>
                  </a:lnTo>
                  <a:lnTo>
                    <a:pt x="2692" y="1129"/>
                  </a:lnTo>
                  <a:lnTo>
                    <a:pt x="2692" y="1138"/>
                  </a:lnTo>
                  <a:lnTo>
                    <a:pt x="2687" y="1146"/>
                  </a:lnTo>
                  <a:lnTo>
                    <a:pt x="2687" y="1155"/>
                  </a:lnTo>
                  <a:lnTo>
                    <a:pt x="2687" y="1164"/>
                  </a:lnTo>
                  <a:lnTo>
                    <a:pt x="2678" y="1167"/>
                  </a:lnTo>
                  <a:lnTo>
                    <a:pt x="2669" y="1167"/>
                  </a:lnTo>
                  <a:lnTo>
                    <a:pt x="2666" y="1158"/>
                  </a:lnTo>
                  <a:lnTo>
                    <a:pt x="2666" y="1149"/>
                  </a:lnTo>
                  <a:lnTo>
                    <a:pt x="2657" y="1146"/>
                  </a:lnTo>
                  <a:lnTo>
                    <a:pt x="2649" y="1152"/>
                  </a:lnTo>
                  <a:lnTo>
                    <a:pt x="2646" y="1141"/>
                  </a:lnTo>
                  <a:lnTo>
                    <a:pt x="2634" y="1135"/>
                  </a:lnTo>
                  <a:lnTo>
                    <a:pt x="2625" y="1135"/>
                  </a:lnTo>
                  <a:lnTo>
                    <a:pt x="2617" y="1135"/>
                  </a:lnTo>
                  <a:lnTo>
                    <a:pt x="2614" y="1144"/>
                  </a:lnTo>
                  <a:lnTo>
                    <a:pt x="2614" y="1152"/>
                  </a:lnTo>
                  <a:lnTo>
                    <a:pt x="2614" y="1161"/>
                  </a:lnTo>
                  <a:lnTo>
                    <a:pt x="2617" y="1170"/>
                  </a:lnTo>
                  <a:lnTo>
                    <a:pt x="2617" y="1178"/>
                  </a:lnTo>
                  <a:lnTo>
                    <a:pt x="2620" y="1187"/>
                  </a:lnTo>
                  <a:lnTo>
                    <a:pt x="2625" y="1195"/>
                  </a:lnTo>
                  <a:lnTo>
                    <a:pt x="2634" y="1201"/>
                  </a:lnTo>
                  <a:lnTo>
                    <a:pt x="2643" y="1201"/>
                  </a:lnTo>
                  <a:lnTo>
                    <a:pt x="2652" y="1201"/>
                  </a:lnTo>
                  <a:lnTo>
                    <a:pt x="2643" y="1201"/>
                  </a:lnTo>
                  <a:lnTo>
                    <a:pt x="2634" y="1207"/>
                  </a:lnTo>
                  <a:lnTo>
                    <a:pt x="2625" y="1216"/>
                  </a:lnTo>
                  <a:lnTo>
                    <a:pt x="2625" y="1224"/>
                  </a:lnTo>
                  <a:lnTo>
                    <a:pt x="2634" y="1224"/>
                  </a:lnTo>
                  <a:lnTo>
                    <a:pt x="2643" y="1230"/>
                  </a:lnTo>
                  <a:lnTo>
                    <a:pt x="2646" y="1242"/>
                  </a:lnTo>
                  <a:lnTo>
                    <a:pt x="2652" y="1253"/>
                  </a:lnTo>
                  <a:lnTo>
                    <a:pt x="2660" y="1259"/>
                  </a:lnTo>
                  <a:lnTo>
                    <a:pt x="2672" y="1265"/>
                  </a:lnTo>
                  <a:lnTo>
                    <a:pt x="2663" y="1262"/>
                  </a:lnTo>
                  <a:lnTo>
                    <a:pt x="2655" y="1256"/>
                  </a:lnTo>
                  <a:lnTo>
                    <a:pt x="2663" y="1250"/>
                  </a:lnTo>
                  <a:lnTo>
                    <a:pt x="2672" y="1250"/>
                  </a:lnTo>
                  <a:lnTo>
                    <a:pt x="2681" y="1253"/>
                  </a:lnTo>
                  <a:lnTo>
                    <a:pt x="2669" y="1256"/>
                  </a:lnTo>
                  <a:lnTo>
                    <a:pt x="2655" y="1256"/>
                  </a:lnTo>
                  <a:lnTo>
                    <a:pt x="2646" y="1247"/>
                  </a:lnTo>
                  <a:lnTo>
                    <a:pt x="2643" y="1236"/>
                  </a:lnTo>
                  <a:lnTo>
                    <a:pt x="2640" y="1227"/>
                  </a:lnTo>
                  <a:lnTo>
                    <a:pt x="2631" y="1227"/>
                  </a:lnTo>
                  <a:lnTo>
                    <a:pt x="2625" y="1236"/>
                  </a:lnTo>
                  <a:lnTo>
                    <a:pt x="2625" y="1247"/>
                  </a:lnTo>
                  <a:lnTo>
                    <a:pt x="2625" y="1259"/>
                  </a:lnTo>
                  <a:lnTo>
                    <a:pt x="2617" y="1259"/>
                  </a:lnTo>
                  <a:lnTo>
                    <a:pt x="2608" y="1256"/>
                  </a:lnTo>
                  <a:lnTo>
                    <a:pt x="2605" y="1247"/>
                  </a:lnTo>
                  <a:lnTo>
                    <a:pt x="2596" y="1253"/>
                  </a:lnTo>
                  <a:lnTo>
                    <a:pt x="2588" y="1262"/>
                  </a:lnTo>
                  <a:lnTo>
                    <a:pt x="2582" y="1270"/>
                  </a:lnTo>
                  <a:lnTo>
                    <a:pt x="2582" y="1279"/>
                  </a:lnTo>
                  <a:lnTo>
                    <a:pt x="2582" y="1288"/>
                  </a:lnTo>
                  <a:lnTo>
                    <a:pt x="2576" y="1296"/>
                  </a:lnTo>
                  <a:lnTo>
                    <a:pt x="2573" y="1305"/>
                  </a:lnTo>
                  <a:lnTo>
                    <a:pt x="2567" y="1314"/>
                  </a:lnTo>
                  <a:lnTo>
                    <a:pt x="2553" y="1311"/>
                  </a:lnTo>
                  <a:lnTo>
                    <a:pt x="2567" y="1305"/>
                  </a:lnTo>
                  <a:lnTo>
                    <a:pt x="2561" y="1314"/>
                  </a:lnTo>
                  <a:lnTo>
                    <a:pt x="2558" y="1322"/>
                  </a:lnTo>
                  <a:lnTo>
                    <a:pt x="2558" y="1331"/>
                  </a:lnTo>
                  <a:lnTo>
                    <a:pt x="2558" y="1340"/>
                  </a:lnTo>
                  <a:lnTo>
                    <a:pt x="2558" y="1348"/>
                  </a:lnTo>
                  <a:lnTo>
                    <a:pt x="2558" y="1360"/>
                  </a:lnTo>
                  <a:lnTo>
                    <a:pt x="2558" y="1368"/>
                  </a:lnTo>
                  <a:lnTo>
                    <a:pt x="2550" y="1380"/>
                  </a:lnTo>
                  <a:lnTo>
                    <a:pt x="2547" y="1389"/>
                  </a:lnTo>
                  <a:lnTo>
                    <a:pt x="2544" y="1397"/>
                  </a:lnTo>
                  <a:lnTo>
                    <a:pt x="2538" y="1406"/>
                  </a:lnTo>
                  <a:lnTo>
                    <a:pt x="2529" y="1412"/>
                  </a:lnTo>
                  <a:lnTo>
                    <a:pt x="2538" y="1414"/>
                  </a:lnTo>
                  <a:lnTo>
                    <a:pt x="2547" y="1414"/>
                  </a:lnTo>
                  <a:lnTo>
                    <a:pt x="2553" y="1406"/>
                  </a:lnTo>
                  <a:lnTo>
                    <a:pt x="2553" y="1397"/>
                  </a:lnTo>
                  <a:lnTo>
                    <a:pt x="2561" y="1391"/>
                  </a:lnTo>
                  <a:lnTo>
                    <a:pt x="2567" y="1400"/>
                  </a:lnTo>
                  <a:lnTo>
                    <a:pt x="2567" y="1412"/>
                  </a:lnTo>
                  <a:lnTo>
                    <a:pt x="2570" y="1420"/>
                  </a:lnTo>
                  <a:lnTo>
                    <a:pt x="2579" y="1429"/>
                  </a:lnTo>
                  <a:lnTo>
                    <a:pt x="2588" y="1435"/>
                  </a:lnTo>
                  <a:lnTo>
                    <a:pt x="2599" y="1435"/>
                  </a:lnTo>
                  <a:lnTo>
                    <a:pt x="2593" y="1426"/>
                  </a:lnTo>
                  <a:lnTo>
                    <a:pt x="2585" y="1417"/>
                  </a:lnTo>
                  <a:lnTo>
                    <a:pt x="2582" y="1406"/>
                  </a:lnTo>
                  <a:lnTo>
                    <a:pt x="2579" y="1397"/>
                  </a:lnTo>
                  <a:lnTo>
                    <a:pt x="2573" y="1406"/>
                  </a:lnTo>
                  <a:lnTo>
                    <a:pt x="2570" y="1414"/>
                  </a:lnTo>
                  <a:lnTo>
                    <a:pt x="2561" y="1426"/>
                  </a:lnTo>
                  <a:lnTo>
                    <a:pt x="2553" y="1432"/>
                  </a:lnTo>
                  <a:lnTo>
                    <a:pt x="2544" y="1432"/>
                  </a:lnTo>
                  <a:lnTo>
                    <a:pt x="2535" y="1432"/>
                  </a:lnTo>
                  <a:lnTo>
                    <a:pt x="2526" y="1432"/>
                  </a:lnTo>
                  <a:lnTo>
                    <a:pt x="2515" y="1438"/>
                  </a:lnTo>
                  <a:lnTo>
                    <a:pt x="2506" y="1443"/>
                  </a:lnTo>
                  <a:lnTo>
                    <a:pt x="2503" y="1452"/>
                  </a:lnTo>
                  <a:lnTo>
                    <a:pt x="2509" y="1461"/>
                  </a:lnTo>
                  <a:lnTo>
                    <a:pt x="2515" y="1472"/>
                  </a:lnTo>
                  <a:lnTo>
                    <a:pt x="2521" y="1484"/>
                  </a:lnTo>
                  <a:lnTo>
                    <a:pt x="2529" y="1489"/>
                  </a:lnTo>
                  <a:lnTo>
                    <a:pt x="2538" y="1495"/>
                  </a:lnTo>
                  <a:lnTo>
                    <a:pt x="2544" y="1504"/>
                  </a:lnTo>
                  <a:lnTo>
                    <a:pt x="2553" y="1507"/>
                  </a:lnTo>
                  <a:lnTo>
                    <a:pt x="2561" y="1507"/>
                  </a:lnTo>
                  <a:lnTo>
                    <a:pt x="2570" y="1510"/>
                  </a:lnTo>
                  <a:lnTo>
                    <a:pt x="2576" y="1518"/>
                  </a:lnTo>
                  <a:lnTo>
                    <a:pt x="2585" y="1527"/>
                  </a:lnTo>
                  <a:lnTo>
                    <a:pt x="2588" y="1535"/>
                  </a:lnTo>
                  <a:lnTo>
                    <a:pt x="2588" y="1544"/>
                  </a:lnTo>
                  <a:lnTo>
                    <a:pt x="2588" y="1556"/>
                  </a:lnTo>
                  <a:lnTo>
                    <a:pt x="2590" y="1564"/>
                  </a:lnTo>
                  <a:lnTo>
                    <a:pt x="2599" y="1564"/>
                  </a:lnTo>
                  <a:lnTo>
                    <a:pt x="2614" y="1567"/>
                  </a:lnTo>
                  <a:lnTo>
                    <a:pt x="2617" y="1576"/>
                  </a:lnTo>
                  <a:lnTo>
                    <a:pt x="2617" y="1584"/>
                  </a:lnTo>
                  <a:lnTo>
                    <a:pt x="2608" y="1587"/>
                  </a:lnTo>
                  <a:lnTo>
                    <a:pt x="2596" y="1579"/>
                  </a:lnTo>
                  <a:lnTo>
                    <a:pt x="2588" y="1570"/>
                  </a:lnTo>
                  <a:lnTo>
                    <a:pt x="2582" y="1561"/>
                  </a:lnTo>
                  <a:lnTo>
                    <a:pt x="2582" y="1553"/>
                  </a:lnTo>
                  <a:lnTo>
                    <a:pt x="2582" y="1541"/>
                  </a:lnTo>
                  <a:lnTo>
                    <a:pt x="2579" y="1533"/>
                  </a:lnTo>
                  <a:lnTo>
                    <a:pt x="2573" y="1524"/>
                  </a:lnTo>
                  <a:lnTo>
                    <a:pt x="2564" y="1515"/>
                  </a:lnTo>
                  <a:lnTo>
                    <a:pt x="2556" y="1512"/>
                  </a:lnTo>
                  <a:lnTo>
                    <a:pt x="2550" y="1521"/>
                  </a:lnTo>
                  <a:lnTo>
                    <a:pt x="2541" y="1521"/>
                  </a:lnTo>
                  <a:lnTo>
                    <a:pt x="2532" y="1515"/>
                  </a:lnTo>
                  <a:lnTo>
                    <a:pt x="2524" y="1510"/>
                  </a:lnTo>
                  <a:lnTo>
                    <a:pt x="2515" y="1507"/>
                  </a:lnTo>
                  <a:lnTo>
                    <a:pt x="2506" y="1504"/>
                  </a:lnTo>
                  <a:lnTo>
                    <a:pt x="2497" y="1504"/>
                  </a:lnTo>
                  <a:lnTo>
                    <a:pt x="2489" y="1504"/>
                  </a:lnTo>
                  <a:lnTo>
                    <a:pt x="2486" y="1512"/>
                  </a:lnTo>
                  <a:lnTo>
                    <a:pt x="2486" y="1521"/>
                  </a:lnTo>
                  <a:lnTo>
                    <a:pt x="2491" y="1530"/>
                  </a:lnTo>
                  <a:lnTo>
                    <a:pt x="2486" y="1538"/>
                  </a:lnTo>
                  <a:lnTo>
                    <a:pt x="2477" y="1538"/>
                  </a:lnTo>
                  <a:lnTo>
                    <a:pt x="2474" y="1547"/>
                  </a:lnTo>
                  <a:lnTo>
                    <a:pt x="2489" y="1550"/>
                  </a:lnTo>
                  <a:lnTo>
                    <a:pt x="2497" y="1553"/>
                  </a:lnTo>
                  <a:lnTo>
                    <a:pt x="2506" y="1553"/>
                  </a:lnTo>
                  <a:lnTo>
                    <a:pt x="2515" y="1559"/>
                  </a:lnTo>
                  <a:lnTo>
                    <a:pt x="2521" y="1570"/>
                  </a:lnTo>
                  <a:lnTo>
                    <a:pt x="2529" y="1576"/>
                  </a:lnTo>
                  <a:lnTo>
                    <a:pt x="2521" y="1567"/>
                  </a:lnTo>
                  <a:lnTo>
                    <a:pt x="2509" y="1561"/>
                  </a:lnTo>
                  <a:lnTo>
                    <a:pt x="2500" y="1559"/>
                  </a:lnTo>
                  <a:lnTo>
                    <a:pt x="2491" y="1567"/>
                  </a:lnTo>
                  <a:lnTo>
                    <a:pt x="2483" y="1570"/>
                  </a:lnTo>
                  <a:lnTo>
                    <a:pt x="2474" y="1570"/>
                  </a:lnTo>
                  <a:lnTo>
                    <a:pt x="2471" y="1561"/>
                  </a:lnTo>
                  <a:lnTo>
                    <a:pt x="2471" y="1553"/>
                  </a:lnTo>
                  <a:lnTo>
                    <a:pt x="2465" y="1544"/>
                  </a:lnTo>
                  <a:lnTo>
                    <a:pt x="2462" y="1535"/>
                  </a:lnTo>
                  <a:lnTo>
                    <a:pt x="2459" y="1524"/>
                  </a:lnTo>
                  <a:lnTo>
                    <a:pt x="2457" y="1515"/>
                  </a:lnTo>
                  <a:lnTo>
                    <a:pt x="2448" y="1510"/>
                  </a:lnTo>
                  <a:lnTo>
                    <a:pt x="2439" y="1504"/>
                  </a:lnTo>
                  <a:lnTo>
                    <a:pt x="2439" y="1512"/>
                  </a:lnTo>
                  <a:lnTo>
                    <a:pt x="2439" y="1521"/>
                  </a:lnTo>
                  <a:lnTo>
                    <a:pt x="2439" y="1530"/>
                  </a:lnTo>
                  <a:lnTo>
                    <a:pt x="2439" y="1538"/>
                  </a:lnTo>
                  <a:lnTo>
                    <a:pt x="2439" y="1547"/>
                  </a:lnTo>
                  <a:lnTo>
                    <a:pt x="2439" y="1556"/>
                  </a:lnTo>
                  <a:lnTo>
                    <a:pt x="2442" y="1564"/>
                  </a:lnTo>
                  <a:lnTo>
                    <a:pt x="2436" y="1573"/>
                  </a:lnTo>
                  <a:lnTo>
                    <a:pt x="2433" y="1582"/>
                  </a:lnTo>
                  <a:lnTo>
                    <a:pt x="2430" y="1590"/>
                  </a:lnTo>
                  <a:lnTo>
                    <a:pt x="2433" y="1599"/>
                  </a:lnTo>
                  <a:lnTo>
                    <a:pt x="2442" y="1602"/>
                  </a:lnTo>
                  <a:lnTo>
                    <a:pt x="2451" y="1605"/>
                  </a:lnTo>
                  <a:lnTo>
                    <a:pt x="2459" y="1608"/>
                  </a:lnTo>
                  <a:lnTo>
                    <a:pt x="2465" y="1616"/>
                  </a:lnTo>
                  <a:lnTo>
                    <a:pt x="2474" y="1628"/>
                  </a:lnTo>
                  <a:lnTo>
                    <a:pt x="2474" y="1636"/>
                  </a:lnTo>
                  <a:lnTo>
                    <a:pt x="2474" y="1648"/>
                  </a:lnTo>
                  <a:lnTo>
                    <a:pt x="2474" y="1657"/>
                  </a:lnTo>
                  <a:lnTo>
                    <a:pt x="2474" y="1665"/>
                  </a:lnTo>
                  <a:lnTo>
                    <a:pt x="2474" y="1674"/>
                  </a:lnTo>
                  <a:lnTo>
                    <a:pt x="2483" y="1680"/>
                  </a:lnTo>
                  <a:lnTo>
                    <a:pt x="2491" y="1682"/>
                  </a:lnTo>
                  <a:lnTo>
                    <a:pt x="2500" y="1682"/>
                  </a:lnTo>
                  <a:lnTo>
                    <a:pt x="2509" y="1680"/>
                  </a:lnTo>
                  <a:lnTo>
                    <a:pt x="2515" y="1671"/>
                  </a:lnTo>
                  <a:lnTo>
                    <a:pt x="2524" y="1671"/>
                  </a:lnTo>
                  <a:lnTo>
                    <a:pt x="2532" y="1668"/>
                  </a:lnTo>
                  <a:lnTo>
                    <a:pt x="2541" y="1671"/>
                  </a:lnTo>
                  <a:lnTo>
                    <a:pt x="2544" y="1680"/>
                  </a:lnTo>
                  <a:lnTo>
                    <a:pt x="2547" y="1688"/>
                  </a:lnTo>
                  <a:lnTo>
                    <a:pt x="2547" y="1697"/>
                  </a:lnTo>
                  <a:lnTo>
                    <a:pt x="2547" y="1706"/>
                  </a:lnTo>
                  <a:lnTo>
                    <a:pt x="2556" y="1714"/>
                  </a:lnTo>
                  <a:lnTo>
                    <a:pt x="2564" y="1720"/>
                  </a:lnTo>
                  <a:lnTo>
                    <a:pt x="2576" y="1726"/>
                  </a:lnTo>
                  <a:lnTo>
                    <a:pt x="2588" y="1726"/>
                  </a:lnTo>
                  <a:lnTo>
                    <a:pt x="2596" y="1726"/>
                  </a:lnTo>
                  <a:lnTo>
                    <a:pt x="2588" y="1723"/>
                  </a:lnTo>
                  <a:lnTo>
                    <a:pt x="2579" y="1720"/>
                  </a:lnTo>
                  <a:lnTo>
                    <a:pt x="2570" y="1717"/>
                  </a:lnTo>
                  <a:lnTo>
                    <a:pt x="2567" y="1708"/>
                  </a:lnTo>
                  <a:lnTo>
                    <a:pt x="2564" y="1697"/>
                  </a:lnTo>
                  <a:lnTo>
                    <a:pt x="2564" y="1688"/>
                  </a:lnTo>
                  <a:lnTo>
                    <a:pt x="2561" y="1680"/>
                  </a:lnTo>
                  <a:lnTo>
                    <a:pt x="2550" y="1671"/>
                  </a:lnTo>
                  <a:lnTo>
                    <a:pt x="2538" y="1665"/>
                  </a:lnTo>
                  <a:lnTo>
                    <a:pt x="2529" y="1662"/>
                  </a:lnTo>
                  <a:lnTo>
                    <a:pt x="2521" y="1659"/>
                  </a:lnTo>
                  <a:lnTo>
                    <a:pt x="2512" y="1662"/>
                  </a:lnTo>
                  <a:lnTo>
                    <a:pt x="2506" y="1671"/>
                  </a:lnTo>
                  <a:lnTo>
                    <a:pt x="2506" y="1680"/>
                  </a:lnTo>
                  <a:lnTo>
                    <a:pt x="2503" y="1688"/>
                  </a:lnTo>
                  <a:lnTo>
                    <a:pt x="2500" y="1697"/>
                  </a:lnTo>
                  <a:lnTo>
                    <a:pt x="2500" y="1706"/>
                  </a:lnTo>
                  <a:lnTo>
                    <a:pt x="2500" y="1714"/>
                  </a:lnTo>
                  <a:lnTo>
                    <a:pt x="2509" y="1723"/>
                  </a:lnTo>
                  <a:lnTo>
                    <a:pt x="2509" y="1731"/>
                  </a:lnTo>
                  <a:lnTo>
                    <a:pt x="2509" y="1740"/>
                  </a:lnTo>
                  <a:lnTo>
                    <a:pt x="2509" y="1749"/>
                  </a:lnTo>
                  <a:lnTo>
                    <a:pt x="2509" y="1757"/>
                  </a:lnTo>
                  <a:lnTo>
                    <a:pt x="2509" y="1766"/>
                  </a:lnTo>
                  <a:lnTo>
                    <a:pt x="2509" y="1775"/>
                  </a:lnTo>
                  <a:lnTo>
                    <a:pt x="2509" y="1783"/>
                  </a:lnTo>
                  <a:lnTo>
                    <a:pt x="2506" y="1772"/>
                  </a:lnTo>
                  <a:lnTo>
                    <a:pt x="2515" y="1757"/>
                  </a:lnTo>
                  <a:lnTo>
                    <a:pt x="2509" y="1766"/>
                  </a:lnTo>
                  <a:lnTo>
                    <a:pt x="2506" y="1775"/>
                  </a:lnTo>
                  <a:lnTo>
                    <a:pt x="2503" y="1783"/>
                  </a:lnTo>
                  <a:lnTo>
                    <a:pt x="2497" y="1792"/>
                  </a:lnTo>
                  <a:lnTo>
                    <a:pt x="2494" y="1801"/>
                  </a:lnTo>
                  <a:lnTo>
                    <a:pt x="2494" y="1809"/>
                  </a:lnTo>
                  <a:lnTo>
                    <a:pt x="2494" y="1818"/>
                  </a:lnTo>
                  <a:lnTo>
                    <a:pt x="2483" y="1824"/>
                  </a:lnTo>
                  <a:lnTo>
                    <a:pt x="2465" y="1824"/>
                  </a:lnTo>
                  <a:lnTo>
                    <a:pt x="2457" y="1821"/>
                  </a:lnTo>
                  <a:lnTo>
                    <a:pt x="2448" y="1812"/>
                  </a:lnTo>
                  <a:lnTo>
                    <a:pt x="2439" y="1809"/>
                  </a:lnTo>
                  <a:lnTo>
                    <a:pt x="2430" y="1809"/>
                  </a:lnTo>
                  <a:lnTo>
                    <a:pt x="2427" y="1798"/>
                  </a:lnTo>
                  <a:lnTo>
                    <a:pt x="2439" y="1795"/>
                  </a:lnTo>
                  <a:lnTo>
                    <a:pt x="2454" y="1792"/>
                  </a:lnTo>
                  <a:lnTo>
                    <a:pt x="2462" y="1792"/>
                  </a:lnTo>
                  <a:lnTo>
                    <a:pt x="2471" y="1792"/>
                  </a:lnTo>
                  <a:lnTo>
                    <a:pt x="2477" y="1783"/>
                  </a:lnTo>
                  <a:lnTo>
                    <a:pt x="2480" y="1775"/>
                  </a:lnTo>
                  <a:lnTo>
                    <a:pt x="2480" y="1766"/>
                  </a:lnTo>
                  <a:lnTo>
                    <a:pt x="2483" y="1757"/>
                  </a:lnTo>
                  <a:lnTo>
                    <a:pt x="2486" y="1749"/>
                  </a:lnTo>
                  <a:lnTo>
                    <a:pt x="2489" y="1740"/>
                  </a:lnTo>
                  <a:lnTo>
                    <a:pt x="2491" y="1731"/>
                  </a:lnTo>
                  <a:lnTo>
                    <a:pt x="2489" y="1723"/>
                  </a:lnTo>
                  <a:lnTo>
                    <a:pt x="2489" y="1714"/>
                  </a:lnTo>
                  <a:lnTo>
                    <a:pt x="2480" y="1708"/>
                  </a:lnTo>
                  <a:lnTo>
                    <a:pt x="2474" y="1700"/>
                  </a:lnTo>
                  <a:lnTo>
                    <a:pt x="2468" y="1691"/>
                  </a:lnTo>
                  <a:lnTo>
                    <a:pt x="2465" y="1682"/>
                  </a:lnTo>
                  <a:lnTo>
                    <a:pt x="2459" y="1674"/>
                  </a:lnTo>
                  <a:lnTo>
                    <a:pt x="2454" y="1665"/>
                  </a:lnTo>
                  <a:lnTo>
                    <a:pt x="2454" y="1657"/>
                  </a:lnTo>
                  <a:lnTo>
                    <a:pt x="2454" y="1648"/>
                  </a:lnTo>
                  <a:lnTo>
                    <a:pt x="2454" y="1639"/>
                  </a:lnTo>
                  <a:lnTo>
                    <a:pt x="2451" y="1631"/>
                  </a:lnTo>
                  <a:lnTo>
                    <a:pt x="2448" y="1622"/>
                  </a:lnTo>
                  <a:lnTo>
                    <a:pt x="2442" y="1613"/>
                  </a:lnTo>
                  <a:lnTo>
                    <a:pt x="2433" y="1608"/>
                  </a:lnTo>
                  <a:lnTo>
                    <a:pt x="2427" y="1599"/>
                  </a:lnTo>
                  <a:lnTo>
                    <a:pt x="2422" y="1590"/>
                  </a:lnTo>
                  <a:lnTo>
                    <a:pt x="2419" y="1582"/>
                  </a:lnTo>
                  <a:lnTo>
                    <a:pt x="2419" y="1573"/>
                  </a:lnTo>
                  <a:lnTo>
                    <a:pt x="2416" y="1564"/>
                  </a:lnTo>
                  <a:lnTo>
                    <a:pt x="2416" y="1556"/>
                  </a:lnTo>
                  <a:lnTo>
                    <a:pt x="2416" y="1547"/>
                  </a:lnTo>
                  <a:lnTo>
                    <a:pt x="2416" y="1538"/>
                  </a:lnTo>
                  <a:lnTo>
                    <a:pt x="2416" y="1530"/>
                  </a:lnTo>
                  <a:lnTo>
                    <a:pt x="2407" y="1521"/>
                  </a:lnTo>
                  <a:lnTo>
                    <a:pt x="2395" y="1518"/>
                  </a:lnTo>
                  <a:lnTo>
                    <a:pt x="2390" y="1510"/>
                  </a:lnTo>
                  <a:lnTo>
                    <a:pt x="2390" y="1501"/>
                  </a:lnTo>
                  <a:lnTo>
                    <a:pt x="2381" y="1498"/>
                  </a:lnTo>
                  <a:lnTo>
                    <a:pt x="2390" y="1504"/>
                  </a:lnTo>
                  <a:lnTo>
                    <a:pt x="2381" y="1510"/>
                  </a:lnTo>
                  <a:lnTo>
                    <a:pt x="2372" y="1515"/>
                  </a:lnTo>
                  <a:lnTo>
                    <a:pt x="2372" y="1524"/>
                  </a:lnTo>
                  <a:lnTo>
                    <a:pt x="2366" y="1533"/>
                  </a:lnTo>
                  <a:lnTo>
                    <a:pt x="2366" y="1541"/>
                  </a:lnTo>
                  <a:lnTo>
                    <a:pt x="2366" y="1550"/>
                  </a:lnTo>
                  <a:lnTo>
                    <a:pt x="2366" y="1559"/>
                  </a:lnTo>
                  <a:lnTo>
                    <a:pt x="2366" y="1567"/>
                  </a:lnTo>
                  <a:lnTo>
                    <a:pt x="2363" y="1576"/>
                  </a:lnTo>
                  <a:lnTo>
                    <a:pt x="2360" y="1584"/>
                  </a:lnTo>
                  <a:lnTo>
                    <a:pt x="2358" y="1593"/>
                  </a:lnTo>
                  <a:lnTo>
                    <a:pt x="2352" y="1602"/>
                  </a:lnTo>
                  <a:lnTo>
                    <a:pt x="2349" y="1610"/>
                  </a:lnTo>
                  <a:lnTo>
                    <a:pt x="2346" y="1619"/>
                  </a:lnTo>
                  <a:lnTo>
                    <a:pt x="2346" y="1628"/>
                  </a:lnTo>
                  <a:lnTo>
                    <a:pt x="2346" y="1636"/>
                  </a:lnTo>
                  <a:lnTo>
                    <a:pt x="2355" y="1639"/>
                  </a:lnTo>
                  <a:lnTo>
                    <a:pt x="2363" y="1639"/>
                  </a:lnTo>
                  <a:lnTo>
                    <a:pt x="2372" y="1636"/>
                  </a:lnTo>
                  <a:lnTo>
                    <a:pt x="2372" y="1645"/>
                  </a:lnTo>
                  <a:lnTo>
                    <a:pt x="2372" y="1654"/>
                  </a:lnTo>
                  <a:lnTo>
                    <a:pt x="2372" y="1662"/>
                  </a:lnTo>
                  <a:lnTo>
                    <a:pt x="2372" y="1671"/>
                  </a:lnTo>
                  <a:lnTo>
                    <a:pt x="2372" y="1682"/>
                  </a:lnTo>
                  <a:lnTo>
                    <a:pt x="2369" y="1691"/>
                  </a:lnTo>
                  <a:lnTo>
                    <a:pt x="2378" y="1697"/>
                  </a:lnTo>
                  <a:lnTo>
                    <a:pt x="2381" y="1706"/>
                  </a:lnTo>
                  <a:lnTo>
                    <a:pt x="2390" y="1711"/>
                  </a:lnTo>
                  <a:lnTo>
                    <a:pt x="2401" y="1714"/>
                  </a:lnTo>
                  <a:lnTo>
                    <a:pt x="2404" y="1723"/>
                  </a:lnTo>
                  <a:lnTo>
                    <a:pt x="2404" y="1731"/>
                  </a:lnTo>
                  <a:lnTo>
                    <a:pt x="2404" y="1740"/>
                  </a:lnTo>
                  <a:lnTo>
                    <a:pt x="2404" y="1749"/>
                  </a:lnTo>
                  <a:lnTo>
                    <a:pt x="2395" y="1743"/>
                  </a:lnTo>
                  <a:lnTo>
                    <a:pt x="2393" y="1734"/>
                  </a:lnTo>
                  <a:lnTo>
                    <a:pt x="2387" y="1723"/>
                  </a:lnTo>
                  <a:lnTo>
                    <a:pt x="2381" y="1714"/>
                  </a:lnTo>
                  <a:lnTo>
                    <a:pt x="2372" y="1711"/>
                  </a:lnTo>
                  <a:lnTo>
                    <a:pt x="2363" y="1708"/>
                  </a:lnTo>
                  <a:lnTo>
                    <a:pt x="2355" y="1708"/>
                  </a:lnTo>
                  <a:lnTo>
                    <a:pt x="2340" y="1706"/>
                  </a:lnTo>
                  <a:lnTo>
                    <a:pt x="2328" y="1703"/>
                  </a:lnTo>
                  <a:lnTo>
                    <a:pt x="2320" y="1697"/>
                  </a:lnTo>
                  <a:lnTo>
                    <a:pt x="2311" y="1694"/>
                  </a:lnTo>
                  <a:lnTo>
                    <a:pt x="2302" y="1691"/>
                  </a:lnTo>
                  <a:lnTo>
                    <a:pt x="2294" y="1688"/>
                  </a:lnTo>
                  <a:lnTo>
                    <a:pt x="2285" y="1685"/>
                  </a:lnTo>
                  <a:lnTo>
                    <a:pt x="2276" y="1685"/>
                  </a:lnTo>
                  <a:lnTo>
                    <a:pt x="2267" y="1685"/>
                  </a:lnTo>
                  <a:lnTo>
                    <a:pt x="2273" y="1680"/>
                  </a:lnTo>
                  <a:lnTo>
                    <a:pt x="2262" y="1671"/>
                  </a:lnTo>
                  <a:lnTo>
                    <a:pt x="2262" y="1662"/>
                  </a:lnTo>
                  <a:lnTo>
                    <a:pt x="2256" y="1671"/>
                  </a:lnTo>
                  <a:lnTo>
                    <a:pt x="2247" y="1671"/>
                  </a:lnTo>
                  <a:lnTo>
                    <a:pt x="2235" y="1671"/>
                  </a:lnTo>
                  <a:lnTo>
                    <a:pt x="2227" y="1668"/>
                  </a:lnTo>
                  <a:lnTo>
                    <a:pt x="2227" y="1659"/>
                  </a:lnTo>
                  <a:lnTo>
                    <a:pt x="2221" y="1668"/>
                  </a:lnTo>
                  <a:lnTo>
                    <a:pt x="2221" y="1677"/>
                  </a:lnTo>
                  <a:lnTo>
                    <a:pt x="2232" y="1680"/>
                  </a:lnTo>
                  <a:lnTo>
                    <a:pt x="2241" y="1682"/>
                  </a:lnTo>
                  <a:lnTo>
                    <a:pt x="2244" y="1691"/>
                  </a:lnTo>
                  <a:lnTo>
                    <a:pt x="2247" y="1700"/>
                  </a:lnTo>
                  <a:lnTo>
                    <a:pt x="2250" y="1708"/>
                  </a:lnTo>
                  <a:lnTo>
                    <a:pt x="2259" y="1711"/>
                  </a:lnTo>
                  <a:lnTo>
                    <a:pt x="2262" y="1720"/>
                  </a:lnTo>
                  <a:lnTo>
                    <a:pt x="2262" y="1729"/>
                  </a:lnTo>
                  <a:lnTo>
                    <a:pt x="2262" y="1737"/>
                  </a:lnTo>
                  <a:lnTo>
                    <a:pt x="2253" y="1743"/>
                  </a:lnTo>
                  <a:lnTo>
                    <a:pt x="2250" y="1752"/>
                  </a:lnTo>
                  <a:lnTo>
                    <a:pt x="2250" y="1760"/>
                  </a:lnTo>
                  <a:lnTo>
                    <a:pt x="2244" y="1752"/>
                  </a:lnTo>
                  <a:lnTo>
                    <a:pt x="2241" y="1743"/>
                  </a:lnTo>
                  <a:lnTo>
                    <a:pt x="2232" y="1743"/>
                  </a:lnTo>
                  <a:lnTo>
                    <a:pt x="2232" y="1734"/>
                  </a:lnTo>
                  <a:lnTo>
                    <a:pt x="2221" y="1729"/>
                  </a:lnTo>
                  <a:lnTo>
                    <a:pt x="2209" y="1731"/>
                  </a:lnTo>
                  <a:lnTo>
                    <a:pt x="2200" y="1734"/>
                  </a:lnTo>
                  <a:lnTo>
                    <a:pt x="2192" y="1737"/>
                  </a:lnTo>
                  <a:lnTo>
                    <a:pt x="2183" y="1746"/>
                  </a:lnTo>
                  <a:lnTo>
                    <a:pt x="2177" y="1755"/>
                  </a:lnTo>
                  <a:lnTo>
                    <a:pt x="2168" y="1755"/>
                  </a:lnTo>
                  <a:lnTo>
                    <a:pt x="2160" y="1760"/>
                  </a:lnTo>
                  <a:lnTo>
                    <a:pt x="2151" y="1769"/>
                  </a:lnTo>
                  <a:lnTo>
                    <a:pt x="2142" y="1772"/>
                  </a:lnTo>
                  <a:lnTo>
                    <a:pt x="2133" y="1772"/>
                  </a:lnTo>
                  <a:lnTo>
                    <a:pt x="2133" y="1763"/>
                  </a:lnTo>
                  <a:lnTo>
                    <a:pt x="2142" y="1755"/>
                  </a:lnTo>
                  <a:lnTo>
                    <a:pt x="2151" y="1752"/>
                  </a:lnTo>
                  <a:lnTo>
                    <a:pt x="2160" y="1749"/>
                  </a:lnTo>
                  <a:lnTo>
                    <a:pt x="2160" y="1737"/>
                  </a:lnTo>
                  <a:lnTo>
                    <a:pt x="2154" y="1729"/>
                  </a:lnTo>
                  <a:lnTo>
                    <a:pt x="2145" y="1729"/>
                  </a:lnTo>
                  <a:lnTo>
                    <a:pt x="2136" y="1734"/>
                  </a:lnTo>
                  <a:lnTo>
                    <a:pt x="2128" y="1740"/>
                  </a:lnTo>
                  <a:lnTo>
                    <a:pt x="2122" y="1749"/>
                  </a:lnTo>
                  <a:lnTo>
                    <a:pt x="2113" y="1755"/>
                  </a:lnTo>
                  <a:lnTo>
                    <a:pt x="2104" y="1757"/>
                  </a:lnTo>
                  <a:lnTo>
                    <a:pt x="2096" y="1763"/>
                  </a:lnTo>
                  <a:lnTo>
                    <a:pt x="2087" y="1763"/>
                  </a:lnTo>
                  <a:lnTo>
                    <a:pt x="2078" y="1766"/>
                  </a:lnTo>
                  <a:lnTo>
                    <a:pt x="2069" y="1769"/>
                  </a:lnTo>
                  <a:lnTo>
                    <a:pt x="2061" y="1772"/>
                  </a:lnTo>
                  <a:lnTo>
                    <a:pt x="2055" y="1780"/>
                  </a:lnTo>
                  <a:lnTo>
                    <a:pt x="2052" y="1789"/>
                  </a:lnTo>
                  <a:lnTo>
                    <a:pt x="2040" y="1792"/>
                  </a:lnTo>
                  <a:lnTo>
                    <a:pt x="2034" y="1801"/>
                  </a:lnTo>
                  <a:lnTo>
                    <a:pt x="2034" y="1809"/>
                  </a:lnTo>
                  <a:lnTo>
                    <a:pt x="2029" y="1818"/>
                  </a:lnTo>
                  <a:lnTo>
                    <a:pt x="2020" y="1824"/>
                  </a:lnTo>
                  <a:lnTo>
                    <a:pt x="2011" y="1827"/>
                  </a:lnTo>
                  <a:lnTo>
                    <a:pt x="2008" y="1815"/>
                  </a:lnTo>
                  <a:lnTo>
                    <a:pt x="2005" y="1806"/>
                  </a:lnTo>
                  <a:lnTo>
                    <a:pt x="2005" y="1798"/>
                  </a:lnTo>
                  <a:lnTo>
                    <a:pt x="1997" y="1789"/>
                  </a:lnTo>
                  <a:lnTo>
                    <a:pt x="1988" y="1780"/>
                  </a:lnTo>
                  <a:lnTo>
                    <a:pt x="1999" y="1780"/>
                  </a:lnTo>
                  <a:lnTo>
                    <a:pt x="2011" y="1778"/>
                  </a:lnTo>
                  <a:lnTo>
                    <a:pt x="2020" y="1775"/>
                  </a:lnTo>
                  <a:lnTo>
                    <a:pt x="2020" y="1766"/>
                  </a:lnTo>
                  <a:lnTo>
                    <a:pt x="2023" y="1757"/>
                  </a:lnTo>
                  <a:lnTo>
                    <a:pt x="2023" y="1749"/>
                  </a:lnTo>
                  <a:lnTo>
                    <a:pt x="2014" y="1743"/>
                  </a:lnTo>
                  <a:lnTo>
                    <a:pt x="2005" y="1740"/>
                  </a:lnTo>
                  <a:lnTo>
                    <a:pt x="1994" y="1740"/>
                  </a:lnTo>
                  <a:lnTo>
                    <a:pt x="1985" y="1737"/>
                  </a:lnTo>
                  <a:lnTo>
                    <a:pt x="1976" y="1731"/>
                  </a:lnTo>
                  <a:lnTo>
                    <a:pt x="1967" y="1729"/>
                  </a:lnTo>
                  <a:lnTo>
                    <a:pt x="1967" y="1737"/>
                  </a:lnTo>
                  <a:lnTo>
                    <a:pt x="1970" y="1746"/>
                  </a:lnTo>
                  <a:lnTo>
                    <a:pt x="1976" y="1755"/>
                  </a:lnTo>
                  <a:lnTo>
                    <a:pt x="1976" y="1763"/>
                  </a:lnTo>
                  <a:lnTo>
                    <a:pt x="1976" y="1772"/>
                  </a:lnTo>
                  <a:lnTo>
                    <a:pt x="1973" y="1780"/>
                  </a:lnTo>
                  <a:lnTo>
                    <a:pt x="1965" y="1789"/>
                  </a:lnTo>
                  <a:lnTo>
                    <a:pt x="1956" y="1795"/>
                  </a:lnTo>
                  <a:lnTo>
                    <a:pt x="1953" y="1803"/>
                  </a:lnTo>
                  <a:lnTo>
                    <a:pt x="1962" y="1806"/>
                  </a:lnTo>
                  <a:lnTo>
                    <a:pt x="1970" y="1806"/>
                  </a:lnTo>
                  <a:lnTo>
                    <a:pt x="1979" y="1806"/>
                  </a:lnTo>
                  <a:lnTo>
                    <a:pt x="1982" y="1815"/>
                  </a:lnTo>
                  <a:lnTo>
                    <a:pt x="1976" y="1824"/>
                  </a:lnTo>
                  <a:lnTo>
                    <a:pt x="1965" y="1832"/>
                  </a:lnTo>
                  <a:lnTo>
                    <a:pt x="1959" y="1841"/>
                  </a:lnTo>
                  <a:lnTo>
                    <a:pt x="1959" y="1850"/>
                  </a:lnTo>
                  <a:lnTo>
                    <a:pt x="1947" y="1838"/>
                  </a:lnTo>
                  <a:lnTo>
                    <a:pt x="1938" y="1835"/>
                  </a:lnTo>
                  <a:lnTo>
                    <a:pt x="1933" y="1827"/>
                  </a:lnTo>
                  <a:lnTo>
                    <a:pt x="1924" y="1821"/>
                  </a:lnTo>
                  <a:lnTo>
                    <a:pt x="1915" y="1821"/>
                  </a:lnTo>
                  <a:lnTo>
                    <a:pt x="1906" y="1829"/>
                  </a:lnTo>
                  <a:lnTo>
                    <a:pt x="1898" y="1835"/>
                  </a:lnTo>
                  <a:lnTo>
                    <a:pt x="1889" y="1838"/>
                  </a:lnTo>
                  <a:lnTo>
                    <a:pt x="1880" y="1841"/>
                  </a:lnTo>
                  <a:lnTo>
                    <a:pt x="1874" y="1850"/>
                  </a:lnTo>
                  <a:lnTo>
                    <a:pt x="1871" y="1858"/>
                  </a:lnTo>
                  <a:lnTo>
                    <a:pt x="1868" y="1867"/>
                  </a:lnTo>
                  <a:lnTo>
                    <a:pt x="1868" y="1876"/>
                  </a:lnTo>
                  <a:lnTo>
                    <a:pt x="1868" y="1884"/>
                  </a:lnTo>
                  <a:lnTo>
                    <a:pt x="1868" y="1893"/>
                  </a:lnTo>
                  <a:lnTo>
                    <a:pt x="1868" y="1901"/>
                  </a:lnTo>
                  <a:lnTo>
                    <a:pt x="1860" y="1907"/>
                  </a:lnTo>
                  <a:lnTo>
                    <a:pt x="1848" y="1901"/>
                  </a:lnTo>
                  <a:lnTo>
                    <a:pt x="1845" y="1893"/>
                  </a:lnTo>
                  <a:lnTo>
                    <a:pt x="1839" y="1884"/>
                  </a:lnTo>
                  <a:lnTo>
                    <a:pt x="1831" y="1876"/>
                  </a:lnTo>
                  <a:lnTo>
                    <a:pt x="1822" y="1870"/>
                  </a:lnTo>
                  <a:lnTo>
                    <a:pt x="1813" y="1867"/>
                  </a:lnTo>
                  <a:lnTo>
                    <a:pt x="1804" y="1867"/>
                  </a:lnTo>
                  <a:lnTo>
                    <a:pt x="1799" y="1876"/>
                  </a:lnTo>
                  <a:lnTo>
                    <a:pt x="1796" y="1884"/>
                  </a:lnTo>
                  <a:lnTo>
                    <a:pt x="1796" y="1893"/>
                  </a:lnTo>
                  <a:lnTo>
                    <a:pt x="1804" y="1899"/>
                  </a:lnTo>
                  <a:lnTo>
                    <a:pt x="1816" y="1901"/>
                  </a:lnTo>
                  <a:lnTo>
                    <a:pt x="1819" y="1910"/>
                  </a:lnTo>
                  <a:lnTo>
                    <a:pt x="1807" y="1910"/>
                  </a:lnTo>
                  <a:lnTo>
                    <a:pt x="1819" y="1893"/>
                  </a:lnTo>
                  <a:lnTo>
                    <a:pt x="1810" y="1896"/>
                  </a:lnTo>
                  <a:lnTo>
                    <a:pt x="1822" y="1899"/>
                  </a:lnTo>
                  <a:lnTo>
                    <a:pt x="1822" y="1910"/>
                  </a:lnTo>
                  <a:lnTo>
                    <a:pt x="1822" y="1919"/>
                  </a:lnTo>
                  <a:lnTo>
                    <a:pt x="1816" y="1927"/>
                  </a:lnTo>
                  <a:lnTo>
                    <a:pt x="1802" y="1927"/>
                  </a:lnTo>
                  <a:lnTo>
                    <a:pt x="1793" y="1922"/>
                  </a:lnTo>
                  <a:lnTo>
                    <a:pt x="1790" y="1913"/>
                  </a:lnTo>
                  <a:lnTo>
                    <a:pt x="1790" y="1904"/>
                  </a:lnTo>
                  <a:lnTo>
                    <a:pt x="1784" y="1896"/>
                  </a:lnTo>
                  <a:lnTo>
                    <a:pt x="1778" y="1887"/>
                  </a:lnTo>
                  <a:lnTo>
                    <a:pt x="1770" y="1878"/>
                  </a:lnTo>
                  <a:lnTo>
                    <a:pt x="1767" y="1870"/>
                  </a:lnTo>
                  <a:lnTo>
                    <a:pt x="1764" y="1861"/>
                  </a:lnTo>
                  <a:lnTo>
                    <a:pt x="1764" y="1850"/>
                  </a:lnTo>
                  <a:lnTo>
                    <a:pt x="1764" y="1841"/>
                  </a:lnTo>
                  <a:lnTo>
                    <a:pt x="1764" y="1832"/>
                  </a:lnTo>
                  <a:lnTo>
                    <a:pt x="1772" y="1827"/>
                  </a:lnTo>
                  <a:lnTo>
                    <a:pt x="1778" y="1818"/>
                  </a:lnTo>
                  <a:lnTo>
                    <a:pt x="1778" y="1809"/>
                  </a:lnTo>
                  <a:lnTo>
                    <a:pt x="1778" y="1801"/>
                  </a:lnTo>
                  <a:lnTo>
                    <a:pt x="1778" y="1792"/>
                  </a:lnTo>
                  <a:lnTo>
                    <a:pt x="1770" y="1783"/>
                  </a:lnTo>
                  <a:lnTo>
                    <a:pt x="1761" y="1778"/>
                  </a:lnTo>
                  <a:lnTo>
                    <a:pt x="1752" y="1772"/>
                  </a:lnTo>
                  <a:lnTo>
                    <a:pt x="1752" y="1763"/>
                  </a:lnTo>
                  <a:lnTo>
                    <a:pt x="1752" y="1752"/>
                  </a:lnTo>
                  <a:lnTo>
                    <a:pt x="1752" y="1743"/>
                  </a:lnTo>
                  <a:lnTo>
                    <a:pt x="1764" y="1749"/>
                  </a:lnTo>
                  <a:lnTo>
                    <a:pt x="1772" y="1757"/>
                  </a:lnTo>
                  <a:lnTo>
                    <a:pt x="1781" y="1763"/>
                  </a:lnTo>
                  <a:lnTo>
                    <a:pt x="1781" y="1772"/>
                  </a:lnTo>
                  <a:lnTo>
                    <a:pt x="1787" y="1783"/>
                  </a:lnTo>
                  <a:lnTo>
                    <a:pt x="1796" y="1789"/>
                  </a:lnTo>
                  <a:lnTo>
                    <a:pt x="1804" y="1795"/>
                  </a:lnTo>
                  <a:lnTo>
                    <a:pt x="1816" y="1801"/>
                  </a:lnTo>
                  <a:lnTo>
                    <a:pt x="1822" y="1809"/>
                  </a:lnTo>
                  <a:lnTo>
                    <a:pt x="1831" y="1815"/>
                  </a:lnTo>
                  <a:lnTo>
                    <a:pt x="1836" y="1824"/>
                  </a:lnTo>
                  <a:lnTo>
                    <a:pt x="1845" y="1829"/>
                  </a:lnTo>
                  <a:lnTo>
                    <a:pt x="1854" y="1835"/>
                  </a:lnTo>
                  <a:lnTo>
                    <a:pt x="1866" y="1835"/>
                  </a:lnTo>
                  <a:lnTo>
                    <a:pt x="1874" y="1835"/>
                  </a:lnTo>
                  <a:lnTo>
                    <a:pt x="1883" y="1835"/>
                  </a:lnTo>
                  <a:lnTo>
                    <a:pt x="1892" y="1829"/>
                  </a:lnTo>
                  <a:lnTo>
                    <a:pt x="1901" y="1827"/>
                  </a:lnTo>
                  <a:lnTo>
                    <a:pt x="1909" y="1818"/>
                  </a:lnTo>
                  <a:lnTo>
                    <a:pt x="1909" y="1809"/>
                  </a:lnTo>
                  <a:lnTo>
                    <a:pt x="1909" y="1801"/>
                  </a:lnTo>
                  <a:lnTo>
                    <a:pt x="1909" y="1792"/>
                  </a:lnTo>
                  <a:lnTo>
                    <a:pt x="1915" y="1783"/>
                  </a:lnTo>
                  <a:lnTo>
                    <a:pt x="1918" y="1775"/>
                  </a:lnTo>
                  <a:lnTo>
                    <a:pt x="1918" y="1766"/>
                  </a:lnTo>
                  <a:lnTo>
                    <a:pt x="1915" y="1757"/>
                  </a:lnTo>
                  <a:lnTo>
                    <a:pt x="1909" y="1749"/>
                  </a:lnTo>
                  <a:lnTo>
                    <a:pt x="1901" y="1740"/>
                  </a:lnTo>
                  <a:lnTo>
                    <a:pt x="1895" y="1731"/>
                  </a:lnTo>
                  <a:lnTo>
                    <a:pt x="1892" y="1720"/>
                  </a:lnTo>
                  <a:lnTo>
                    <a:pt x="1889" y="1711"/>
                  </a:lnTo>
                  <a:lnTo>
                    <a:pt x="1880" y="1706"/>
                  </a:lnTo>
                  <a:lnTo>
                    <a:pt x="1871" y="1697"/>
                  </a:lnTo>
                  <a:lnTo>
                    <a:pt x="1866" y="1688"/>
                  </a:lnTo>
                  <a:lnTo>
                    <a:pt x="1860" y="1680"/>
                  </a:lnTo>
                  <a:lnTo>
                    <a:pt x="1851" y="1671"/>
                  </a:lnTo>
                  <a:lnTo>
                    <a:pt x="1842" y="1665"/>
                  </a:lnTo>
                  <a:lnTo>
                    <a:pt x="1831" y="1662"/>
                  </a:lnTo>
                  <a:lnTo>
                    <a:pt x="1819" y="1657"/>
                  </a:lnTo>
                  <a:lnTo>
                    <a:pt x="1813" y="1648"/>
                  </a:lnTo>
                  <a:lnTo>
                    <a:pt x="1810" y="1639"/>
                  </a:lnTo>
                  <a:lnTo>
                    <a:pt x="1807" y="1631"/>
                  </a:lnTo>
                  <a:lnTo>
                    <a:pt x="1799" y="1622"/>
                  </a:lnTo>
                  <a:lnTo>
                    <a:pt x="1793" y="1613"/>
                  </a:lnTo>
                  <a:lnTo>
                    <a:pt x="1784" y="1613"/>
                  </a:lnTo>
                  <a:lnTo>
                    <a:pt x="1772" y="1613"/>
                  </a:lnTo>
                  <a:lnTo>
                    <a:pt x="1764" y="1608"/>
                  </a:lnTo>
                  <a:lnTo>
                    <a:pt x="1761" y="1599"/>
                  </a:lnTo>
                  <a:lnTo>
                    <a:pt x="1772" y="1596"/>
                  </a:lnTo>
                  <a:lnTo>
                    <a:pt x="1781" y="1596"/>
                  </a:lnTo>
                  <a:lnTo>
                    <a:pt x="1787" y="1587"/>
                  </a:lnTo>
                  <a:lnTo>
                    <a:pt x="1778" y="1579"/>
                  </a:lnTo>
                  <a:lnTo>
                    <a:pt x="1770" y="1576"/>
                  </a:lnTo>
                  <a:lnTo>
                    <a:pt x="1761" y="1573"/>
                  </a:lnTo>
                  <a:lnTo>
                    <a:pt x="1758" y="1564"/>
                  </a:lnTo>
                  <a:lnTo>
                    <a:pt x="1758" y="1556"/>
                  </a:lnTo>
                  <a:lnTo>
                    <a:pt x="1758" y="1547"/>
                  </a:lnTo>
                  <a:lnTo>
                    <a:pt x="1749" y="1547"/>
                  </a:lnTo>
                  <a:lnTo>
                    <a:pt x="1737" y="1553"/>
                  </a:lnTo>
                  <a:lnTo>
                    <a:pt x="1729" y="1553"/>
                  </a:lnTo>
                  <a:lnTo>
                    <a:pt x="1720" y="1556"/>
                  </a:lnTo>
                  <a:lnTo>
                    <a:pt x="1720" y="1547"/>
                  </a:lnTo>
                  <a:lnTo>
                    <a:pt x="1723" y="1538"/>
                  </a:lnTo>
                  <a:lnTo>
                    <a:pt x="1726" y="1550"/>
                  </a:lnTo>
                  <a:lnTo>
                    <a:pt x="1723" y="1559"/>
                  </a:lnTo>
                  <a:lnTo>
                    <a:pt x="1723" y="1567"/>
                  </a:lnTo>
                  <a:lnTo>
                    <a:pt x="1732" y="1567"/>
                  </a:lnTo>
                  <a:lnTo>
                    <a:pt x="1740" y="1556"/>
                  </a:lnTo>
                  <a:lnTo>
                    <a:pt x="1726" y="1553"/>
                  </a:lnTo>
                  <a:lnTo>
                    <a:pt x="1717" y="1553"/>
                  </a:lnTo>
                  <a:lnTo>
                    <a:pt x="1705" y="1553"/>
                  </a:lnTo>
                  <a:lnTo>
                    <a:pt x="1705" y="1541"/>
                  </a:lnTo>
                  <a:lnTo>
                    <a:pt x="1711" y="1533"/>
                  </a:lnTo>
                  <a:lnTo>
                    <a:pt x="1700" y="1535"/>
                  </a:lnTo>
                  <a:lnTo>
                    <a:pt x="1691" y="1541"/>
                  </a:lnTo>
                  <a:lnTo>
                    <a:pt x="1679" y="1544"/>
                  </a:lnTo>
                  <a:lnTo>
                    <a:pt x="1685" y="1533"/>
                  </a:lnTo>
                  <a:lnTo>
                    <a:pt x="1685" y="1524"/>
                  </a:lnTo>
                  <a:lnTo>
                    <a:pt x="1676" y="1524"/>
                  </a:lnTo>
                  <a:lnTo>
                    <a:pt x="1668" y="1533"/>
                  </a:lnTo>
                  <a:lnTo>
                    <a:pt x="1662" y="1541"/>
                  </a:lnTo>
                  <a:lnTo>
                    <a:pt x="1653" y="1544"/>
                  </a:lnTo>
                  <a:lnTo>
                    <a:pt x="1653" y="1535"/>
                  </a:lnTo>
                  <a:lnTo>
                    <a:pt x="1644" y="1541"/>
                  </a:lnTo>
                  <a:lnTo>
                    <a:pt x="1641" y="1550"/>
                  </a:lnTo>
                  <a:lnTo>
                    <a:pt x="1633" y="1547"/>
                  </a:lnTo>
                  <a:lnTo>
                    <a:pt x="1633" y="1538"/>
                  </a:lnTo>
                  <a:lnTo>
                    <a:pt x="1624" y="1538"/>
                  </a:lnTo>
                  <a:lnTo>
                    <a:pt x="1615" y="1541"/>
                  </a:lnTo>
                  <a:lnTo>
                    <a:pt x="1609" y="1550"/>
                  </a:lnTo>
                  <a:lnTo>
                    <a:pt x="1601" y="1541"/>
                  </a:lnTo>
                  <a:lnTo>
                    <a:pt x="1598" y="1533"/>
                  </a:lnTo>
                  <a:lnTo>
                    <a:pt x="1589" y="1535"/>
                  </a:lnTo>
                  <a:lnTo>
                    <a:pt x="1580" y="1541"/>
                  </a:lnTo>
                  <a:lnTo>
                    <a:pt x="1569" y="1538"/>
                  </a:lnTo>
                  <a:lnTo>
                    <a:pt x="1563" y="1547"/>
                  </a:lnTo>
                  <a:lnTo>
                    <a:pt x="1557" y="1559"/>
                  </a:lnTo>
                  <a:lnTo>
                    <a:pt x="1554" y="1567"/>
                  </a:lnTo>
                  <a:lnTo>
                    <a:pt x="1548" y="1576"/>
                  </a:lnTo>
                  <a:lnTo>
                    <a:pt x="1540" y="1576"/>
                  </a:lnTo>
                  <a:lnTo>
                    <a:pt x="1531" y="1576"/>
                  </a:lnTo>
                  <a:lnTo>
                    <a:pt x="1525" y="1564"/>
                  </a:lnTo>
                  <a:lnTo>
                    <a:pt x="1525" y="1556"/>
                  </a:lnTo>
                  <a:lnTo>
                    <a:pt x="1525" y="1547"/>
                  </a:lnTo>
                  <a:lnTo>
                    <a:pt x="1516" y="1544"/>
                  </a:lnTo>
                  <a:lnTo>
                    <a:pt x="1513" y="1553"/>
                  </a:lnTo>
                  <a:lnTo>
                    <a:pt x="1528" y="1541"/>
                  </a:lnTo>
                  <a:lnTo>
                    <a:pt x="1510" y="1530"/>
                  </a:lnTo>
                  <a:lnTo>
                    <a:pt x="1502" y="1530"/>
                  </a:lnTo>
                  <a:lnTo>
                    <a:pt x="1493" y="1538"/>
                  </a:lnTo>
                  <a:lnTo>
                    <a:pt x="1484" y="1544"/>
                  </a:lnTo>
                  <a:lnTo>
                    <a:pt x="1481" y="1553"/>
                  </a:lnTo>
                  <a:lnTo>
                    <a:pt x="1481" y="1561"/>
                  </a:lnTo>
                  <a:lnTo>
                    <a:pt x="1487" y="1570"/>
                  </a:lnTo>
                  <a:lnTo>
                    <a:pt x="1487" y="1579"/>
                  </a:lnTo>
                  <a:lnTo>
                    <a:pt x="1478" y="1587"/>
                  </a:lnTo>
                  <a:lnTo>
                    <a:pt x="1470" y="1590"/>
                  </a:lnTo>
                  <a:lnTo>
                    <a:pt x="1461" y="1599"/>
                  </a:lnTo>
                  <a:lnTo>
                    <a:pt x="1443" y="1599"/>
                  </a:lnTo>
                  <a:lnTo>
                    <a:pt x="1432" y="1599"/>
                  </a:lnTo>
                  <a:lnTo>
                    <a:pt x="1426" y="1610"/>
                  </a:lnTo>
                  <a:lnTo>
                    <a:pt x="1420" y="1619"/>
                  </a:lnTo>
                  <a:lnTo>
                    <a:pt x="1429" y="1619"/>
                  </a:lnTo>
                  <a:lnTo>
                    <a:pt x="1417" y="1628"/>
                  </a:lnTo>
                  <a:lnTo>
                    <a:pt x="1406" y="1628"/>
                  </a:lnTo>
                  <a:lnTo>
                    <a:pt x="1397" y="1628"/>
                  </a:lnTo>
                  <a:lnTo>
                    <a:pt x="1388" y="1628"/>
                  </a:lnTo>
                  <a:lnTo>
                    <a:pt x="1382" y="1636"/>
                  </a:lnTo>
                  <a:lnTo>
                    <a:pt x="1379" y="1645"/>
                  </a:lnTo>
                  <a:lnTo>
                    <a:pt x="1371" y="1645"/>
                  </a:lnTo>
                  <a:lnTo>
                    <a:pt x="1362" y="1645"/>
                  </a:lnTo>
                  <a:lnTo>
                    <a:pt x="1356" y="1654"/>
                  </a:lnTo>
                  <a:lnTo>
                    <a:pt x="1347" y="1657"/>
                  </a:lnTo>
                  <a:lnTo>
                    <a:pt x="1336" y="1659"/>
                  </a:lnTo>
                  <a:lnTo>
                    <a:pt x="1327" y="1659"/>
                  </a:lnTo>
                  <a:lnTo>
                    <a:pt x="1318" y="1662"/>
                  </a:lnTo>
                  <a:lnTo>
                    <a:pt x="1310" y="1662"/>
                  </a:lnTo>
                  <a:lnTo>
                    <a:pt x="1298" y="1662"/>
                  </a:lnTo>
                  <a:lnTo>
                    <a:pt x="1289" y="1665"/>
                  </a:lnTo>
                  <a:lnTo>
                    <a:pt x="1280" y="1671"/>
                  </a:lnTo>
                  <a:lnTo>
                    <a:pt x="1278" y="1680"/>
                  </a:lnTo>
                  <a:lnTo>
                    <a:pt x="1280" y="1691"/>
                  </a:lnTo>
                  <a:lnTo>
                    <a:pt x="1289" y="1694"/>
                  </a:lnTo>
                  <a:lnTo>
                    <a:pt x="1301" y="1697"/>
                  </a:lnTo>
                  <a:lnTo>
                    <a:pt x="1312" y="1697"/>
                  </a:lnTo>
                  <a:lnTo>
                    <a:pt x="1321" y="1697"/>
                  </a:lnTo>
                  <a:lnTo>
                    <a:pt x="1310" y="1694"/>
                  </a:lnTo>
                  <a:lnTo>
                    <a:pt x="1298" y="1694"/>
                  </a:lnTo>
                  <a:lnTo>
                    <a:pt x="1289" y="1691"/>
                  </a:lnTo>
                  <a:lnTo>
                    <a:pt x="1304" y="1685"/>
                  </a:lnTo>
                  <a:lnTo>
                    <a:pt x="1312" y="1685"/>
                  </a:lnTo>
                  <a:lnTo>
                    <a:pt x="1321" y="1685"/>
                  </a:lnTo>
                  <a:lnTo>
                    <a:pt x="1312" y="1682"/>
                  </a:lnTo>
                  <a:lnTo>
                    <a:pt x="1301" y="1685"/>
                  </a:lnTo>
                  <a:lnTo>
                    <a:pt x="1292" y="1685"/>
                  </a:lnTo>
                  <a:lnTo>
                    <a:pt x="1286" y="1677"/>
                  </a:lnTo>
                  <a:lnTo>
                    <a:pt x="1275" y="1668"/>
                  </a:lnTo>
                  <a:lnTo>
                    <a:pt x="1266" y="1665"/>
                  </a:lnTo>
                  <a:lnTo>
                    <a:pt x="1248" y="1659"/>
                  </a:lnTo>
                  <a:lnTo>
                    <a:pt x="1240" y="1659"/>
                  </a:lnTo>
                  <a:lnTo>
                    <a:pt x="1234" y="1668"/>
                  </a:lnTo>
                  <a:lnTo>
                    <a:pt x="1225" y="1671"/>
                  </a:lnTo>
                  <a:lnTo>
                    <a:pt x="1216" y="1674"/>
                  </a:lnTo>
                  <a:lnTo>
                    <a:pt x="1208" y="1674"/>
                  </a:lnTo>
                  <a:lnTo>
                    <a:pt x="1199" y="1671"/>
                  </a:lnTo>
                  <a:lnTo>
                    <a:pt x="1190" y="1674"/>
                  </a:lnTo>
                  <a:lnTo>
                    <a:pt x="1176" y="1671"/>
                  </a:lnTo>
                  <a:lnTo>
                    <a:pt x="1167" y="1668"/>
                  </a:lnTo>
                  <a:lnTo>
                    <a:pt x="1161" y="1677"/>
                  </a:lnTo>
                  <a:lnTo>
                    <a:pt x="1152" y="1682"/>
                  </a:lnTo>
                  <a:lnTo>
                    <a:pt x="1144" y="1682"/>
                  </a:lnTo>
                  <a:lnTo>
                    <a:pt x="1132" y="1682"/>
                  </a:lnTo>
                  <a:lnTo>
                    <a:pt x="1132" y="1691"/>
                  </a:lnTo>
                  <a:lnTo>
                    <a:pt x="1132" y="1700"/>
                  </a:lnTo>
                  <a:lnTo>
                    <a:pt x="1147" y="1708"/>
                  </a:lnTo>
                  <a:lnTo>
                    <a:pt x="1155" y="1720"/>
                  </a:lnTo>
                  <a:lnTo>
                    <a:pt x="1158" y="1729"/>
                  </a:lnTo>
                  <a:lnTo>
                    <a:pt x="1158" y="1737"/>
                  </a:lnTo>
                  <a:lnTo>
                    <a:pt x="1161" y="1746"/>
                  </a:lnTo>
                  <a:lnTo>
                    <a:pt x="1161" y="1737"/>
                  </a:lnTo>
                  <a:lnTo>
                    <a:pt x="1155" y="1726"/>
                  </a:lnTo>
                  <a:lnTo>
                    <a:pt x="1152" y="1717"/>
                  </a:lnTo>
                  <a:lnTo>
                    <a:pt x="1138" y="1717"/>
                  </a:lnTo>
                  <a:lnTo>
                    <a:pt x="1129" y="1711"/>
                  </a:lnTo>
                  <a:lnTo>
                    <a:pt x="1120" y="1711"/>
                  </a:lnTo>
                  <a:lnTo>
                    <a:pt x="1117" y="1720"/>
                  </a:lnTo>
                  <a:lnTo>
                    <a:pt x="1114" y="1731"/>
                  </a:lnTo>
                  <a:lnTo>
                    <a:pt x="1114" y="1740"/>
                  </a:lnTo>
                  <a:lnTo>
                    <a:pt x="1126" y="1740"/>
                  </a:lnTo>
                  <a:lnTo>
                    <a:pt x="1138" y="1743"/>
                  </a:lnTo>
                  <a:lnTo>
                    <a:pt x="1129" y="1743"/>
                  </a:lnTo>
                  <a:lnTo>
                    <a:pt x="1120" y="1743"/>
                  </a:lnTo>
                  <a:lnTo>
                    <a:pt x="1112" y="1746"/>
                  </a:lnTo>
                  <a:lnTo>
                    <a:pt x="1103" y="1752"/>
                  </a:lnTo>
                  <a:lnTo>
                    <a:pt x="1094" y="1755"/>
                  </a:lnTo>
                  <a:lnTo>
                    <a:pt x="1085" y="1763"/>
                  </a:lnTo>
                  <a:lnTo>
                    <a:pt x="1077" y="1766"/>
                  </a:lnTo>
                  <a:lnTo>
                    <a:pt x="1068" y="1766"/>
                  </a:lnTo>
                  <a:lnTo>
                    <a:pt x="1077" y="1772"/>
                  </a:lnTo>
                  <a:lnTo>
                    <a:pt x="1085" y="1772"/>
                  </a:lnTo>
                  <a:lnTo>
                    <a:pt x="1097" y="1775"/>
                  </a:lnTo>
                  <a:lnTo>
                    <a:pt x="1091" y="1783"/>
                  </a:lnTo>
                  <a:lnTo>
                    <a:pt x="1080" y="1786"/>
                  </a:lnTo>
                  <a:lnTo>
                    <a:pt x="1071" y="1786"/>
                  </a:lnTo>
                  <a:lnTo>
                    <a:pt x="1062" y="1789"/>
                  </a:lnTo>
                  <a:lnTo>
                    <a:pt x="1056" y="1798"/>
                  </a:lnTo>
                  <a:lnTo>
                    <a:pt x="1056" y="1806"/>
                  </a:lnTo>
                  <a:lnTo>
                    <a:pt x="1056" y="1815"/>
                  </a:lnTo>
                  <a:lnTo>
                    <a:pt x="1056" y="1824"/>
                  </a:lnTo>
                  <a:lnTo>
                    <a:pt x="1056" y="1832"/>
                  </a:lnTo>
                  <a:lnTo>
                    <a:pt x="1056" y="1841"/>
                  </a:lnTo>
                  <a:lnTo>
                    <a:pt x="1062" y="1850"/>
                  </a:lnTo>
                  <a:lnTo>
                    <a:pt x="1074" y="1855"/>
                  </a:lnTo>
                  <a:lnTo>
                    <a:pt x="1082" y="1855"/>
                  </a:lnTo>
                  <a:lnTo>
                    <a:pt x="1091" y="1855"/>
                  </a:lnTo>
                  <a:lnTo>
                    <a:pt x="1103" y="1855"/>
                  </a:lnTo>
                  <a:lnTo>
                    <a:pt x="1112" y="1855"/>
                  </a:lnTo>
                  <a:lnTo>
                    <a:pt x="1120" y="1855"/>
                  </a:lnTo>
                  <a:lnTo>
                    <a:pt x="1132" y="1855"/>
                  </a:lnTo>
                  <a:lnTo>
                    <a:pt x="1144" y="1855"/>
                  </a:lnTo>
                  <a:lnTo>
                    <a:pt x="1152" y="1852"/>
                  </a:lnTo>
                  <a:lnTo>
                    <a:pt x="1167" y="1852"/>
                  </a:lnTo>
                  <a:lnTo>
                    <a:pt x="1176" y="1844"/>
                  </a:lnTo>
                  <a:lnTo>
                    <a:pt x="1179" y="1835"/>
                  </a:lnTo>
                  <a:lnTo>
                    <a:pt x="1181" y="1827"/>
                  </a:lnTo>
                  <a:lnTo>
                    <a:pt x="1184" y="1835"/>
                  </a:lnTo>
                  <a:lnTo>
                    <a:pt x="1184" y="1844"/>
                  </a:lnTo>
                  <a:lnTo>
                    <a:pt x="1181" y="1852"/>
                  </a:lnTo>
                  <a:lnTo>
                    <a:pt x="1170" y="1858"/>
                  </a:lnTo>
                  <a:lnTo>
                    <a:pt x="1173" y="1867"/>
                  </a:lnTo>
                  <a:lnTo>
                    <a:pt x="1170" y="1876"/>
                  </a:lnTo>
                  <a:lnTo>
                    <a:pt x="1164" y="1884"/>
                  </a:lnTo>
                  <a:lnTo>
                    <a:pt x="1161" y="1893"/>
                  </a:lnTo>
                  <a:lnTo>
                    <a:pt x="1161" y="1901"/>
                  </a:lnTo>
                  <a:lnTo>
                    <a:pt x="1158" y="1910"/>
                  </a:lnTo>
                  <a:lnTo>
                    <a:pt x="1149" y="1913"/>
                  </a:lnTo>
                  <a:lnTo>
                    <a:pt x="1147" y="1922"/>
                  </a:lnTo>
                  <a:lnTo>
                    <a:pt x="1147" y="1930"/>
                  </a:lnTo>
                  <a:lnTo>
                    <a:pt x="1144" y="1939"/>
                  </a:lnTo>
                  <a:lnTo>
                    <a:pt x="1144" y="1948"/>
                  </a:lnTo>
                  <a:lnTo>
                    <a:pt x="1141" y="1956"/>
                  </a:lnTo>
                  <a:lnTo>
                    <a:pt x="1141" y="1968"/>
                  </a:lnTo>
                  <a:lnTo>
                    <a:pt x="1141" y="1976"/>
                  </a:lnTo>
                  <a:lnTo>
                    <a:pt x="1155" y="1956"/>
                  </a:lnTo>
                  <a:lnTo>
                    <a:pt x="1144" y="1956"/>
                  </a:lnTo>
                  <a:lnTo>
                    <a:pt x="1144" y="1965"/>
                  </a:lnTo>
                  <a:lnTo>
                    <a:pt x="1144" y="1974"/>
                  </a:lnTo>
                  <a:lnTo>
                    <a:pt x="1144" y="1982"/>
                  </a:lnTo>
                  <a:lnTo>
                    <a:pt x="1138" y="1991"/>
                  </a:lnTo>
                  <a:lnTo>
                    <a:pt x="1129" y="1997"/>
                  </a:lnTo>
                  <a:lnTo>
                    <a:pt x="1120" y="1997"/>
                  </a:lnTo>
                  <a:lnTo>
                    <a:pt x="1117" y="2005"/>
                  </a:lnTo>
                  <a:lnTo>
                    <a:pt x="1117" y="2014"/>
                  </a:lnTo>
                  <a:lnTo>
                    <a:pt x="1117" y="2023"/>
                  </a:lnTo>
                  <a:lnTo>
                    <a:pt x="1117" y="2031"/>
                  </a:lnTo>
                  <a:lnTo>
                    <a:pt x="1120" y="2040"/>
                  </a:lnTo>
                  <a:lnTo>
                    <a:pt x="1129" y="2046"/>
                  </a:lnTo>
                  <a:lnTo>
                    <a:pt x="1144" y="2054"/>
                  </a:lnTo>
                  <a:lnTo>
                    <a:pt x="1152" y="2054"/>
                  </a:lnTo>
                  <a:lnTo>
                    <a:pt x="1158" y="2046"/>
                  </a:lnTo>
                  <a:lnTo>
                    <a:pt x="1158" y="2037"/>
                  </a:lnTo>
                  <a:lnTo>
                    <a:pt x="1170" y="2037"/>
                  </a:lnTo>
                  <a:lnTo>
                    <a:pt x="1179" y="2037"/>
                  </a:lnTo>
                  <a:lnTo>
                    <a:pt x="1187" y="2037"/>
                  </a:lnTo>
                  <a:lnTo>
                    <a:pt x="1199" y="2037"/>
                  </a:lnTo>
                  <a:lnTo>
                    <a:pt x="1208" y="2040"/>
                  </a:lnTo>
                  <a:lnTo>
                    <a:pt x="1216" y="2043"/>
                  </a:lnTo>
                  <a:lnTo>
                    <a:pt x="1225" y="2040"/>
                  </a:lnTo>
                  <a:lnTo>
                    <a:pt x="1228" y="2031"/>
                  </a:lnTo>
                  <a:lnTo>
                    <a:pt x="1231" y="2023"/>
                  </a:lnTo>
                  <a:lnTo>
                    <a:pt x="1237" y="2014"/>
                  </a:lnTo>
                  <a:lnTo>
                    <a:pt x="1245" y="2005"/>
                  </a:lnTo>
                  <a:lnTo>
                    <a:pt x="1251" y="1997"/>
                  </a:lnTo>
                  <a:lnTo>
                    <a:pt x="1260" y="1991"/>
                  </a:lnTo>
                  <a:lnTo>
                    <a:pt x="1266" y="1982"/>
                  </a:lnTo>
                  <a:lnTo>
                    <a:pt x="1269" y="1974"/>
                  </a:lnTo>
                  <a:lnTo>
                    <a:pt x="1272" y="1965"/>
                  </a:lnTo>
                  <a:lnTo>
                    <a:pt x="1280" y="1962"/>
                  </a:lnTo>
                  <a:lnTo>
                    <a:pt x="1289" y="1962"/>
                  </a:lnTo>
                  <a:lnTo>
                    <a:pt x="1298" y="1959"/>
                  </a:lnTo>
                  <a:lnTo>
                    <a:pt x="1301" y="1950"/>
                  </a:lnTo>
                  <a:lnTo>
                    <a:pt x="1304" y="1942"/>
                  </a:lnTo>
                  <a:lnTo>
                    <a:pt x="1301" y="1933"/>
                  </a:lnTo>
                  <a:lnTo>
                    <a:pt x="1292" y="1925"/>
                  </a:lnTo>
                  <a:lnTo>
                    <a:pt x="1301" y="1919"/>
                  </a:lnTo>
                  <a:lnTo>
                    <a:pt x="1310" y="1927"/>
                  </a:lnTo>
                  <a:lnTo>
                    <a:pt x="1318" y="1933"/>
                  </a:lnTo>
                  <a:lnTo>
                    <a:pt x="1324" y="1942"/>
                  </a:lnTo>
                  <a:lnTo>
                    <a:pt x="1333" y="1950"/>
                  </a:lnTo>
                  <a:lnTo>
                    <a:pt x="1342" y="1950"/>
                  </a:lnTo>
                  <a:lnTo>
                    <a:pt x="1350" y="1950"/>
                  </a:lnTo>
                  <a:lnTo>
                    <a:pt x="1353" y="1942"/>
                  </a:lnTo>
                  <a:lnTo>
                    <a:pt x="1353" y="1933"/>
                  </a:lnTo>
                  <a:lnTo>
                    <a:pt x="1356" y="1925"/>
                  </a:lnTo>
                  <a:lnTo>
                    <a:pt x="1356" y="1916"/>
                  </a:lnTo>
                  <a:lnTo>
                    <a:pt x="1359" y="1907"/>
                  </a:lnTo>
                  <a:lnTo>
                    <a:pt x="1359" y="1899"/>
                  </a:lnTo>
                  <a:lnTo>
                    <a:pt x="1356" y="1890"/>
                  </a:lnTo>
                  <a:lnTo>
                    <a:pt x="1347" y="1881"/>
                  </a:lnTo>
                  <a:lnTo>
                    <a:pt x="1347" y="1870"/>
                  </a:lnTo>
                  <a:lnTo>
                    <a:pt x="1347" y="1861"/>
                  </a:lnTo>
                  <a:lnTo>
                    <a:pt x="1356" y="1855"/>
                  </a:lnTo>
                  <a:lnTo>
                    <a:pt x="1362" y="1847"/>
                  </a:lnTo>
                  <a:lnTo>
                    <a:pt x="1371" y="1844"/>
                  </a:lnTo>
                  <a:lnTo>
                    <a:pt x="1379" y="1835"/>
                  </a:lnTo>
                  <a:lnTo>
                    <a:pt x="1382" y="1827"/>
                  </a:lnTo>
                  <a:lnTo>
                    <a:pt x="1391" y="1821"/>
                  </a:lnTo>
                  <a:lnTo>
                    <a:pt x="1400" y="1815"/>
                  </a:lnTo>
                  <a:lnTo>
                    <a:pt x="1406" y="1806"/>
                  </a:lnTo>
                  <a:lnTo>
                    <a:pt x="1414" y="1801"/>
                  </a:lnTo>
                  <a:lnTo>
                    <a:pt x="1423" y="1801"/>
                  </a:lnTo>
                  <a:lnTo>
                    <a:pt x="1435" y="1798"/>
                  </a:lnTo>
                  <a:lnTo>
                    <a:pt x="1443" y="1792"/>
                  </a:lnTo>
                  <a:lnTo>
                    <a:pt x="1452" y="1792"/>
                  </a:lnTo>
                  <a:lnTo>
                    <a:pt x="1464" y="1789"/>
                  </a:lnTo>
                  <a:lnTo>
                    <a:pt x="1473" y="1789"/>
                  </a:lnTo>
                  <a:lnTo>
                    <a:pt x="1481" y="1789"/>
                  </a:lnTo>
                  <a:lnTo>
                    <a:pt x="1490" y="1786"/>
                  </a:lnTo>
                  <a:lnTo>
                    <a:pt x="1499" y="1786"/>
                  </a:lnTo>
                  <a:lnTo>
                    <a:pt x="1508" y="1786"/>
                  </a:lnTo>
                  <a:lnTo>
                    <a:pt x="1516" y="1783"/>
                  </a:lnTo>
                  <a:lnTo>
                    <a:pt x="1516" y="1775"/>
                  </a:lnTo>
                  <a:lnTo>
                    <a:pt x="1516" y="1766"/>
                  </a:lnTo>
                  <a:lnTo>
                    <a:pt x="1513" y="1757"/>
                  </a:lnTo>
                  <a:lnTo>
                    <a:pt x="1522" y="1752"/>
                  </a:lnTo>
                  <a:lnTo>
                    <a:pt x="1528" y="1743"/>
                  </a:lnTo>
                  <a:lnTo>
                    <a:pt x="1537" y="1737"/>
                  </a:lnTo>
                  <a:lnTo>
                    <a:pt x="1545" y="1737"/>
                  </a:lnTo>
                  <a:lnTo>
                    <a:pt x="1554" y="1734"/>
                  </a:lnTo>
                  <a:lnTo>
                    <a:pt x="1563" y="1729"/>
                  </a:lnTo>
                  <a:lnTo>
                    <a:pt x="1572" y="1729"/>
                  </a:lnTo>
                  <a:lnTo>
                    <a:pt x="1580" y="1737"/>
                  </a:lnTo>
                  <a:lnTo>
                    <a:pt x="1589" y="1743"/>
                  </a:lnTo>
                  <a:lnTo>
                    <a:pt x="1598" y="1749"/>
                  </a:lnTo>
                  <a:lnTo>
                    <a:pt x="1601" y="1757"/>
                  </a:lnTo>
                  <a:lnTo>
                    <a:pt x="1601" y="1766"/>
                  </a:lnTo>
                  <a:lnTo>
                    <a:pt x="1604" y="1775"/>
                  </a:lnTo>
                  <a:lnTo>
                    <a:pt x="1604" y="1783"/>
                  </a:lnTo>
                  <a:lnTo>
                    <a:pt x="1592" y="1789"/>
                  </a:lnTo>
                  <a:lnTo>
                    <a:pt x="1580" y="1789"/>
                  </a:lnTo>
                  <a:lnTo>
                    <a:pt x="1572" y="1792"/>
                  </a:lnTo>
                  <a:lnTo>
                    <a:pt x="1566" y="1801"/>
                  </a:lnTo>
                  <a:lnTo>
                    <a:pt x="1557" y="1806"/>
                  </a:lnTo>
                  <a:lnTo>
                    <a:pt x="1548" y="1812"/>
                  </a:lnTo>
                  <a:lnTo>
                    <a:pt x="1537" y="1815"/>
                  </a:lnTo>
                  <a:lnTo>
                    <a:pt x="1528" y="1818"/>
                  </a:lnTo>
                  <a:lnTo>
                    <a:pt x="1519" y="1824"/>
                  </a:lnTo>
                  <a:lnTo>
                    <a:pt x="1510" y="1829"/>
                  </a:lnTo>
                  <a:lnTo>
                    <a:pt x="1502" y="1829"/>
                  </a:lnTo>
                  <a:lnTo>
                    <a:pt x="1490" y="1832"/>
                  </a:lnTo>
                  <a:lnTo>
                    <a:pt x="1481" y="1835"/>
                  </a:lnTo>
                  <a:lnTo>
                    <a:pt x="1473" y="1835"/>
                  </a:lnTo>
                  <a:lnTo>
                    <a:pt x="1464" y="1841"/>
                  </a:lnTo>
                  <a:lnTo>
                    <a:pt x="1458" y="1850"/>
                  </a:lnTo>
                  <a:lnTo>
                    <a:pt x="1452" y="1858"/>
                  </a:lnTo>
                  <a:lnTo>
                    <a:pt x="1449" y="1867"/>
                  </a:lnTo>
                  <a:lnTo>
                    <a:pt x="1449" y="1876"/>
                  </a:lnTo>
                  <a:lnTo>
                    <a:pt x="1446" y="1884"/>
                  </a:lnTo>
                  <a:lnTo>
                    <a:pt x="1443" y="1893"/>
                  </a:lnTo>
                  <a:lnTo>
                    <a:pt x="1438" y="1901"/>
                  </a:lnTo>
                  <a:lnTo>
                    <a:pt x="1435" y="1910"/>
                  </a:lnTo>
                  <a:lnTo>
                    <a:pt x="1429" y="1919"/>
                  </a:lnTo>
                  <a:lnTo>
                    <a:pt x="1426" y="1927"/>
                  </a:lnTo>
                  <a:lnTo>
                    <a:pt x="1423" y="1936"/>
                  </a:lnTo>
                  <a:lnTo>
                    <a:pt x="1423" y="1945"/>
                  </a:lnTo>
                  <a:lnTo>
                    <a:pt x="1417" y="1953"/>
                  </a:lnTo>
                  <a:lnTo>
                    <a:pt x="1417" y="1962"/>
                  </a:lnTo>
                  <a:lnTo>
                    <a:pt x="1426" y="1962"/>
                  </a:lnTo>
                  <a:lnTo>
                    <a:pt x="1435" y="1974"/>
                  </a:lnTo>
                  <a:lnTo>
                    <a:pt x="1441" y="1982"/>
                  </a:lnTo>
                  <a:lnTo>
                    <a:pt x="1441" y="1991"/>
                  </a:lnTo>
                  <a:lnTo>
                    <a:pt x="1449" y="1991"/>
                  </a:lnTo>
                  <a:lnTo>
                    <a:pt x="1461" y="1991"/>
                  </a:lnTo>
                  <a:lnTo>
                    <a:pt x="1470" y="1991"/>
                  </a:lnTo>
                  <a:lnTo>
                    <a:pt x="1484" y="1994"/>
                  </a:lnTo>
                  <a:lnTo>
                    <a:pt x="1493" y="1994"/>
                  </a:lnTo>
                  <a:lnTo>
                    <a:pt x="1502" y="1994"/>
                  </a:lnTo>
                  <a:lnTo>
                    <a:pt x="1510" y="1991"/>
                  </a:lnTo>
                  <a:lnTo>
                    <a:pt x="1519" y="1997"/>
                  </a:lnTo>
                  <a:lnTo>
                    <a:pt x="1531" y="1988"/>
                  </a:lnTo>
                  <a:lnTo>
                    <a:pt x="1540" y="1991"/>
                  </a:lnTo>
                  <a:lnTo>
                    <a:pt x="1548" y="1994"/>
                  </a:lnTo>
                  <a:lnTo>
                    <a:pt x="1557" y="1997"/>
                  </a:lnTo>
                  <a:lnTo>
                    <a:pt x="1566" y="1997"/>
                  </a:lnTo>
                  <a:lnTo>
                    <a:pt x="1569" y="2005"/>
                  </a:lnTo>
                  <a:lnTo>
                    <a:pt x="1569" y="2014"/>
                  </a:lnTo>
                  <a:lnTo>
                    <a:pt x="1569" y="2023"/>
                  </a:lnTo>
                  <a:lnTo>
                    <a:pt x="1572" y="2031"/>
                  </a:lnTo>
                  <a:lnTo>
                    <a:pt x="1577" y="2040"/>
                  </a:lnTo>
                  <a:lnTo>
                    <a:pt x="1586" y="2048"/>
                  </a:lnTo>
                  <a:lnTo>
                    <a:pt x="1577" y="2040"/>
                  </a:lnTo>
                  <a:lnTo>
                    <a:pt x="1569" y="2037"/>
                  </a:lnTo>
                  <a:lnTo>
                    <a:pt x="1557" y="2037"/>
                  </a:lnTo>
                  <a:lnTo>
                    <a:pt x="1548" y="2040"/>
                  </a:lnTo>
                  <a:lnTo>
                    <a:pt x="1548" y="2048"/>
                  </a:lnTo>
                  <a:lnTo>
                    <a:pt x="1540" y="2054"/>
                  </a:lnTo>
                  <a:lnTo>
                    <a:pt x="1531" y="2051"/>
                  </a:lnTo>
                  <a:lnTo>
                    <a:pt x="1522" y="2043"/>
                  </a:lnTo>
                  <a:lnTo>
                    <a:pt x="1513" y="2034"/>
                  </a:lnTo>
                  <a:lnTo>
                    <a:pt x="1505" y="2031"/>
                  </a:lnTo>
                  <a:lnTo>
                    <a:pt x="1496" y="2031"/>
                  </a:lnTo>
                  <a:lnTo>
                    <a:pt x="1487" y="2028"/>
                  </a:lnTo>
                  <a:lnTo>
                    <a:pt x="1478" y="2025"/>
                  </a:lnTo>
                  <a:lnTo>
                    <a:pt x="1470" y="2023"/>
                  </a:lnTo>
                  <a:lnTo>
                    <a:pt x="1461" y="2020"/>
                  </a:lnTo>
                  <a:lnTo>
                    <a:pt x="1452" y="2017"/>
                  </a:lnTo>
                  <a:lnTo>
                    <a:pt x="1441" y="2011"/>
                  </a:lnTo>
                  <a:lnTo>
                    <a:pt x="1432" y="2011"/>
                  </a:lnTo>
                  <a:lnTo>
                    <a:pt x="1426" y="2020"/>
                  </a:lnTo>
                  <a:lnTo>
                    <a:pt x="1426" y="2028"/>
                  </a:lnTo>
                  <a:lnTo>
                    <a:pt x="1423" y="2037"/>
                  </a:lnTo>
                  <a:lnTo>
                    <a:pt x="1417" y="2046"/>
                  </a:lnTo>
                  <a:lnTo>
                    <a:pt x="1414" y="2054"/>
                  </a:lnTo>
                  <a:lnTo>
                    <a:pt x="1426" y="2060"/>
                  </a:lnTo>
                  <a:lnTo>
                    <a:pt x="1432" y="2069"/>
                  </a:lnTo>
                  <a:lnTo>
                    <a:pt x="1429" y="2077"/>
                  </a:lnTo>
                  <a:lnTo>
                    <a:pt x="1423" y="2086"/>
                  </a:lnTo>
                  <a:lnTo>
                    <a:pt x="1414" y="2089"/>
                  </a:lnTo>
                  <a:lnTo>
                    <a:pt x="1409" y="2097"/>
                  </a:lnTo>
                  <a:lnTo>
                    <a:pt x="1403" y="2106"/>
                  </a:lnTo>
                  <a:lnTo>
                    <a:pt x="1400" y="2115"/>
                  </a:lnTo>
                  <a:lnTo>
                    <a:pt x="1391" y="2112"/>
                  </a:lnTo>
                  <a:lnTo>
                    <a:pt x="1388" y="2103"/>
                  </a:lnTo>
                  <a:lnTo>
                    <a:pt x="1385" y="2095"/>
                  </a:lnTo>
                  <a:lnTo>
                    <a:pt x="1382" y="2086"/>
                  </a:lnTo>
                  <a:lnTo>
                    <a:pt x="1382" y="2077"/>
                  </a:lnTo>
                  <a:lnTo>
                    <a:pt x="1379" y="2069"/>
                  </a:lnTo>
                  <a:lnTo>
                    <a:pt x="1371" y="2063"/>
                  </a:lnTo>
                  <a:lnTo>
                    <a:pt x="1359" y="2063"/>
                  </a:lnTo>
                  <a:lnTo>
                    <a:pt x="1350" y="2063"/>
                  </a:lnTo>
                  <a:lnTo>
                    <a:pt x="1344" y="2072"/>
                  </a:lnTo>
                  <a:lnTo>
                    <a:pt x="1339" y="2080"/>
                  </a:lnTo>
                  <a:lnTo>
                    <a:pt x="1333" y="2089"/>
                  </a:lnTo>
                  <a:lnTo>
                    <a:pt x="1327" y="2097"/>
                  </a:lnTo>
                  <a:lnTo>
                    <a:pt x="1321" y="2106"/>
                  </a:lnTo>
                  <a:lnTo>
                    <a:pt x="1312" y="2109"/>
                  </a:lnTo>
                  <a:lnTo>
                    <a:pt x="1304" y="2112"/>
                  </a:lnTo>
                  <a:lnTo>
                    <a:pt x="1304" y="2120"/>
                  </a:lnTo>
                  <a:lnTo>
                    <a:pt x="1301" y="2129"/>
                  </a:lnTo>
                  <a:lnTo>
                    <a:pt x="1298" y="2138"/>
                  </a:lnTo>
                  <a:lnTo>
                    <a:pt x="1295" y="2146"/>
                  </a:lnTo>
                  <a:lnTo>
                    <a:pt x="1295" y="2095"/>
                  </a:lnTo>
                  <a:lnTo>
                    <a:pt x="1304" y="2103"/>
                  </a:lnTo>
                  <a:lnTo>
                    <a:pt x="1304" y="2115"/>
                  </a:lnTo>
                  <a:lnTo>
                    <a:pt x="1301" y="2123"/>
                  </a:lnTo>
                  <a:lnTo>
                    <a:pt x="1298" y="2132"/>
                  </a:lnTo>
                  <a:lnTo>
                    <a:pt x="1298" y="2141"/>
                  </a:lnTo>
                  <a:lnTo>
                    <a:pt x="1295" y="2149"/>
                  </a:lnTo>
                  <a:lnTo>
                    <a:pt x="1292" y="2161"/>
                  </a:lnTo>
                  <a:lnTo>
                    <a:pt x="1289" y="2169"/>
                  </a:lnTo>
                  <a:lnTo>
                    <a:pt x="1280" y="2175"/>
                  </a:lnTo>
                  <a:lnTo>
                    <a:pt x="1278" y="2167"/>
                  </a:lnTo>
                  <a:lnTo>
                    <a:pt x="1275" y="2155"/>
                  </a:lnTo>
                  <a:lnTo>
                    <a:pt x="1272" y="2146"/>
                  </a:lnTo>
                  <a:lnTo>
                    <a:pt x="1263" y="2146"/>
                  </a:lnTo>
                  <a:lnTo>
                    <a:pt x="1251" y="2149"/>
                  </a:lnTo>
                  <a:lnTo>
                    <a:pt x="1245" y="2158"/>
                  </a:lnTo>
                  <a:lnTo>
                    <a:pt x="1240" y="2167"/>
                  </a:lnTo>
                  <a:lnTo>
                    <a:pt x="1228" y="2167"/>
                  </a:lnTo>
                  <a:lnTo>
                    <a:pt x="1216" y="2167"/>
                  </a:lnTo>
                  <a:lnTo>
                    <a:pt x="1213" y="2155"/>
                  </a:lnTo>
                  <a:lnTo>
                    <a:pt x="1213" y="2144"/>
                  </a:lnTo>
                  <a:lnTo>
                    <a:pt x="1205" y="2138"/>
                  </a:lnTo>
                  <a:lnTo>
                    <a:pt x="1196" y="2132"/>
                  </a:lnTo>
                  <a:lnTo>
                    <a:pt x="1179" y="2126"/>
                  </a:lnTo>
                  <a:lnTo>
                    <a:pt x="1170" y="2123"/>
                  </a:lnTo>
                  <a:lnTo>
                    <a:pt x="1158" y="2123"/>
                  </a:lnTo>
                  <a:lnTo>
                    <a:pt x="1152" y="2132"/>
                  </a:lnTo>
                  <a:lnTo>
                    <a:pt x="1141" y="2135"/>
                  </a:lnTo>
                  <a:lnTo>
                    <a:pt x="1132" y="2132"/>
                  </a:lnTo>
                  <a:lnTo>
                    <a:pt x="1123" y="2123"/>
                  </a:lnTo>
                  <a:lnTo>
                    <a:pt x="1114" y="2118"/>
                  </a:lnTo>
                  <a:lnTo>
                    <a:pt x="1106" y="2115"/>
                  </a:lnTo>
                  <a:lnTo>
                    <a:pt x="1097" y="2115"/>
                  </a:lnTo>
                  <a:lnTo>
                    <a:pt x="1094" y="2106"/>
                  </a:lnTo>
                  <a:lnTo>
                    <a:pt x="1094" y="2097"/>
                  </a:lnTo>
                  <a:lnTo>
                    <a:pt x="1094" y="2089"/>
                  </a:lnTo>
                  <a:lnTo>
                    <a:pt x="1091" y="2077"/>
                  </a:lnTo>
                  <a:lnTo>
                    <a:pt x="1091" y="2069"/>
                  </a:lnTo>
                  <a:lnTo>
                    <a:pt x="1082" y="2066"/>
                  </a:lnTo>
                  <a:lnTo>
                    <a:pt x="1074" y="2066"/>
                  </a:lnTo>
                  <a:lnTo>
                    <a:pt x="1065" y="2066"/>
                  </a:lnTo>
                  <a:lnTo>
                    <a:pt x="1056" y="2066"/>
                  </a:lnTo>
                  <a:lnTo>
                    <a:pt x="1048" y="2066"/>
                  </a:lnTo>
                  <a:lnTo>
                    <a:pt x="1039" y="2066"/>
                  </a:lnTo>
                  <a:lnTo>
                    <a:pt x="1027" y="2063"/>
                  </a:lnTo>
                  <a:lnTo>
                    <a:pt x="1021" y="2054"/>
                  </a:lnTo>
                  <a:lnTo>
                    <a:pt x="1021" y="2046"/>
                  </a:lnTo>
                  <a:lnTo>
                    <a:pt x="1016" y="2048"/>
                  </a:lnTo>
                  <a:lnTo>
                    <a:pt x="1036" y="2031"/>
                  </a:lnTo>
                  <a:lnTo>
                    <a:pt x="1048" y="2020"/>
                  </a:lnTo>
                  <a:lnTo>
                    <a:pt x="1059" y="2017"/>
                  </a:lnTo>
                  <a:lnTo>
                    <a:pt x="1062" y="2025"/>
                  </a:lnTo>
                  <a:lnTo>
                    <a:pt x="1050" y="2025"/>
                  </a:lnTo>
                  <a:lnTo>
                    <a:pt x="1059" y="2025"/>
                  </a:lnTo>
                  <a:lnTo>
                    <a:pt x="1071" y="2025"/>
                  </a:lnTo>
                  <a:lnTo>
                    <a:pt x="1080" y="2025"/>
                  </a:lnTo>
                  <a:lnTo>
                    <a:pt x="1088" y="2028"/>
                  </a:lnTo>
                  <a:lnTo>
                    <a:pt x="1097" y="2028"/>
                  </a:lnTo>
                  <a:lnTo>
                    <a:pt x="1106" y="2025"/>
                  </a:lnTo>
                  <a:lnTo>
                    <a:pt x="1109" y="2017"/>
                  </a:lnTo>
                  <a:lnTo>
                    <a:pt x="1112" y="2008"/>
                  </a:lnTo>
                  <a:lnTo>
                    <a:pt x="1103" y="1999"/>
                  </a:lnTo>
                  <a:lnTo>
                    <a:pt x="1100" y="1991"/>
                  </a:lnTo>
                  <a:lnTo>
                    <a:pt x="1094" y="1982"/>
                  </a:lnTo>
                  <a:lnTo>
                    <a:pt x="1091" y="1974"/>
                  </a:lnTo>
                  <a:lnTo>
                    <a:pt x="1082" y="1971"/>
                  </a:lnTo>
                  <a:lnTo>
                    <a:pt x="1077" y="1979"/>
                  </a:lnTo>
                  <a:lnTo>
                    <a:pt x="1077" y="1991"/>
                  </a:lnTo>
                  <a:lnTo>
                    <a:pt x="1077" y="1999"/>
                  </a:lnTo>
                  <a:lnTo>
                    <a:pt x="1071" y="2008"/>
                  </a:lnTo>
                  <a:lnTo>
                    <a:pt x="1068" y="2020"/>
                  </a:lnTo>
                  <a:lnTo>
                    <a:pt x="1068" y="2028"/>
                  </a:lnTo>
                  <a:lnTo>
                    <a:pt x="1059" y="2031"/>
                  </a:lnTo>
                  <a:lnTo>
                    <a:pt x="1048" y="2031"/>
                  </a:lnTo>
                  <a:lnTo>
                    <a:pt x="1039" y="2031"/>
                  </a:lnTo>
                  <a:lnTo>
                    <a:pt x="1030" y="2031"/>
                  </a:lnTo>
                  <a:lnTo>
                    <a:pt x="1027" y="2020"/>
                  </a:lnTo>
                  <a:lnTo>
                    <a:pt x="1027" y="2011"/>
                  </a:lnTo>
                  <a:lnTo>
                    <a:pt x="1027" y="2002"/>
                  </a:lnTo>
                  <a:lnTo>
                    <a:pt x="1027" y="1994"/>
                  </a:lnTo>
                  <a:lnTo>
                    <a:pt x="1027" y="1985"/>
                  </a:lnTo>
                  <a:lnTo>
                    <a:pt x="1030" y="1976"/>
                  </a:lnTo>
                  <a:lnTo>
                    <a:pt x="1039" y="1974"/>
                  </a:lnTo>
                  <a:lnTo>
                    <a:pt x="1042" y="1982"/>
                  </a:lnTo>
                  <a:lnTo>
                    <a:pt x="1042" y="1994"/>
                  </a:lnTo>
                  <a:lnTo>
                    <a:pt x="1045" y="2002"/>
                  </a:lnTo>
                  <a:lnTo>
                    <a:pt x="1050" y="2011"/>
                  </a:lnTo>
                  <a:lnTo>
                    <a:pt x="1062" y="2014"/>
                  </a:lnTo>
                  <a:lnTo>
                    <a:pt x="1074" y="2014"/>
                  </a:lnTo>
                  <a:lnTo>
                    <a:pt x="1082" y="2005"/>
                  </a:lnTo>
                  <a:lnTo>
                    <a:pt x="1082" y="1997"/>
                  </a:lnTo>
                  <a:lnTo>
                    <a:pt x="1074" y="1985"/>
                  </a:lnTo>
                  <a:lnTo>
                    <a:pt x="1065" y="1979"/>
                  </a:lnTo>
                  <a:lnTo>
                    <a:pt x="1065" y="1971"/>
                  </a:lnTo>
                  <a:lnTo>
                    <a:pt x="1074" y="1968"/>
                  </a:lnTo>
                  <a:lnTo>
                    <a:pt x="1082" y="1968"/>
                  </a:lnTo>
                  <a:lnTo>
                    <a:pt x="1091" y="1962"/>
                  </a:lnTo>
                  <a:lnTo>
                    <a:pt x="1091" y="1953"/>
                  </a:lnTo>
                  <a:lnTo>
                    <a:pt x="1091" y="1945"/>
                  </a:lnTo>
                  <a:lnTo>
                    <a:pt x="1100" y="1939"/>
                  </a:lnTo>
                  <a:lnTo>
                    <a:pt x="1109" y="1936"/>
                  </a:lnTo>
                  <a:lnTo>
                    <a:pt x="1117" y="1936"/>
                  </a:lnTo>
                  <a:lnTo>
                    <a:pt x="1123" y="1927"/>
                  </a:lnTo>
                  <a:lnTo>
                    <a:pt x="1126" y="1919"/>
                  </a:lnTo>
                  <a:lnTo>
                    <a:pt x="1126" y="1910"/>
                  </a:lnTo>
                  <a:lnTo>
                    <a:pt x="1126" y="1901"/>
                  </a:lnTo>
                  <a:lnTo>
                    <a:pt x="1114" y="1901"/>
                  </a:lnTo>
                  <a:lnTo>
                    <a:pt x="1106" y="1901"/>
                  </a:lnTo>
                  <a:lnTo>
                    <a:pt x="1097" y="1901"/>
                  </a:lnTo>
                  <a:lnTo>
                    <a:pt x="1088" y="1904"/>
                  </a:lnTo>
                  <a:lnTo>
                    <a:pt x="1080" y="1910"/>
                  </a:lnTo>
                  <a:lnTo>
                    <a:pt x="1077" y="1925"/>
                  </a:lnTo>
                  <a:lnTo>
                    <a:pt x="1077" y="1933"/>
                  </a:lnTo>
                  <a:lnTo>
                    <a:pt x="1068" y="1933"/>
                  </a:lnTo>
                  <a:lnTo>
                    <a:pt x="1059" y="1922"/>
                  </a:lnTo>
                  <a:lnTo>
                    <a:pt x="1056" y="1913"/>
                  </a:lnTo>
                  <a:lnTo>
                    <a:pt x="1068" y="1910"/>
                  </a:lnTo>
                  <a:lnTo>
                    <a:pt x="1077" y="1910"/>
                  </a:lnTo>
                  <a:lnTo>
                    <a:pt x="1065" y="1901"/>
                  </a:lnTo>
                  <a:lnTo>
                    <a:pt x="1056" y="1896"/>
                  </a:lnTo>
                  <a:lnTo>
                    <a:pt x="1056" y="1904"/>
                  </a:lnTo>
                  <a:lnTo>
                    <a:pt x="1048" y="1910"/>
                  </a:lnTo>
                  <a:lnTo>
                    <a:pt x="1039" y="1919"/>
                  </a:lnTo>
                  <a:lnTo>
                    <a:pt x="1036" y="1927"/>
                  </a:lnTo>
                  <a:lnTo>
                    <a:pt x="1030" y="1936"/>
                  </a:lnTo>
                  <a:lnTo>
                    <a:pt x="1024" y="1945"/>
                  </a:lnTo>
                  <a:lnTo>
                    <a:pt x="1016" y="1950"/>
                  </a:lnTo>
                  <a:lnTo>
                    <a:pt x="1004" y="1953"/>
                  </a:lnTo>
                  <a:lnTo>
                    <a:pt x="1001" y="1962"/>
                  </a:lnTo>
                  <a:lnTo>
                    <a:pt x="1001" y="1971"/>
                  </a:lnTo>
                  <a:lnTo>
                    <a:pt x="1001" y="1979"/>
                  </a:lnTo>
                  <a:lnTo>
                    <a:pt x="1001" y="1988"/>
                  </a:lnTo>
                  <a:lnTo>
                    <a:pt x="1001" y="1997"/>
                  </a:lnTo>
                  <a:lnTo>
                    <a:pt x="995" y="2005"/>
                  </a:lnTo>
                  <a:lnTo>
                    <a:pt x="986" y="2011"/>
                  </a:lnTo>
                  <a:lnTo>
                    <a:pt x="981" y="2020"/>
                  </a:lnTo>
                  <a:lnTo>
                    <a:pt x="981" y="2028"/>
                  </a:lnTo>
                  <a:lnTo>
                    <a:pt x="981" y="2037"/>
                  </a:lnTo>
                  <a:lnTo>
                    <a:pt x="978" y="2046"/>
                  </a:lnTo>
                  <a:lnTo>
                    <a:pt x="978" y="2054"/>
                  </a:lnTo>
                  <a:lnTo>
                    <a:pt x="983" y="2046"/>
                  </a:lnTo>
                  <a:lnTo>
                    <a:pt x="983" y="2037"/>
                  </a:lnTo>
                  <a:lnTo>
                    <a:pt x="975" y="2034"/>
                  </a:lnTo>
                  <a:lnTo>
                    <a:pt x="966" y="2034"/>
                  </a:lnTo>
                  <a:lnTo>
                    <a:pt x="957" y="2034"/>
                  </a:lnTo>
                  <a:lnTo>
                    <a:pt x="949" y="2023"/>
                  </a:lnTo>
                  <a:lnTo>
                    <a:pt x="949" y="2011"/>
                  </a:lnTo>
                  <a:lnTo>
                    <a:pt x="940" y="2008"/>
                  </a:lnTo>
                  <a:lnTo>
                    <a:pt x="931" y="2008"/>
                  </a:lnTo>
                  <a:lnTo>
                    <a:pt x="922" y="2011"/>
                  </a:lnTo>
                  <a:lnTo>
                    <a:pt x="914" y="2008"/>
                  </a:lnTo>
                  <a:lnTo>
                    <a:pt x="899" y="2002"/>
                  </a:lnTo>
                  <a:lnTo>
                    <a:pt x="890" y="1988"/>
                  </a:lnTo>
                  <a:lnTo>
                    <a:pt x="885" y="1976"/>
                  </a:lnTo>
                  <a:lnTo>
                    <a:pt x="876" y="1976"/>
                  </a:lnTo>
                  <a:lnTo>
                    <a:pt x="867" y="1979"/>
                  </a:lnTo>
                  <a:lnTo>
                    <a:pt x="861" y="1988"/>
                  </a:lnTo>
                  <a:lnTo>
                    <a:pt x="852" y="1994"/>
                  </a:lnTo>
                  <a:lnTo>
                    <a:pt x="844" y="1999"/>
                  </a:lnTo>
                  <a:lnTo>
                    <a:pt x="835" y="2002"/>
                  </a:lnTo>
                  <a:lnTo>
                    <a:pt x="826" y="2005"/>
                  </a:lnTo>
                  <a:lnTo>
                    <a:pt x="818" y="2008"/>
                  </a:lnTo>
                  <a:lnTo>
                    <a:pt x="809" y="2008"/>
                  </a:lnTo>
                  <a:lnTo>
                    <a:pt x="797" y="2011"/>
                  </a:lnTo>
                  <a:lnTo>
                    <a:pt x="788" y="2011"/>
                  </a:lnTo>
                  <a:lnTo>
                    <a:pt x="797" y="2011"/>
                  </a:lnTo>
                  <a:lnTo>
                    <a:pt x="812" y="2014"/>
                  </a:lnTo>
                  <a:lnTo>
                    <a:pt x="803" y="2017"/>
                  </a:lnTo>
                  <a:lnTo>
                    <a:pt x="794" y="2020"/>
                  </a:lnTo>
                  <a:lnTo>
                    <a:pt x="803" y="2031"/>
                  </a:lnTo>
                  <a:lnTo>
                    <a:pt x="794" y="2031"/>
                  </a:lnTo>
                  <a:lnTo>
                    <a:pt x="786" y="2028"/>
                  </a:lnTo>
                  <a:lnTo>
                    <a:pt x="777" y="2023"/>
                  </a:lnTo>
                  <a:lnTo>
                    <a:pt x="771" y="2014"/>
                  </a:lnTo>
                  <a:lnTo>
                    <a:pt x="762" y="2011"/>
                  </a:lnTo>
                  <a:lnTo>
                    <a:pt x="751" y="2008"/>
                  </a:lnTo>
                  <a:lnTo>
                    <a:pt x="742" y="2008"/>
                  </a:lnTo>
                  <a:lnTo>
                    <a:pt x="733" y="2005"/>
                  </a:lnTo>
                  <a:lnTo>
                    <a:pt x="736" y="2002"/>
                  </a:lnTo>
                  <a:lnTo>
                    <a:pt x="721" y="1985"/>
                  </a:lnTo>
                  <a:lnTo>
                    <a:pt x="713" y="1985"/>
                  </a:lnTo>
                  <a:lnTo>
                    <a:pt x="710" y="1994"/>
                  </a:lnTo>
                  <a:lnTo>
                    <a:pt x="716" y="2005"/>
                  </a:lnTo>
                  <a:lnTo>
                    <a:pt x="713" y="2014"/>
                  </a:lnTo>
                  <a:lnTo>
                    <a:pt x="704" y="2020"/>
                  </a:lnTo>
                  <a:lnTo>
                    <a:pt x="704" y="2028"/>
                  </a:lnTo>
                  <a:lnTo>
                    <a:pt x="692" y="2031"/>
                  </a:lnTo>
                  <a:lnTo>
                    <a:pt x="684" y="2025"/>
                  </a:lnTo>
                  <a:lnTo>
                    <a:pt x="672" y="2020"/>
                  </a:lnTo>
                  <a:lnTo>
                    <a:pt x="660" y="2017"/>
                  </a:lnTo>
                  <a:lnTo>
                    <a:pt x="646" y="2011"/>
                  </a:lnTo>
                  <a:lnTo>
                    <a:pt x="634" y="2008"/>
                  </a:lnTo>
                  <a:lnTo>
                    <a:pt x="625" y="2005"/>
                  </a:lnTo>
                  <a:lnTo>
                    <a:pt x="622" y="1997"/>
                  </a:lnTo>
                  <a:lnTo>
                    <a:pt x="620" y="1988"/>
                  </a:lnTo>
                  <a:lnTo>
                    <a:pt x="611" y="1979"/>
                  </a:lnTo>
                  <a:lnTo>
                    <a:pt x="608" y="1971"/>
                  </a:lnTo>
                  <a:lnTo>
                    <a:pt x="599" y="1968"/>
                  </a:lnTo>
                  <a:lnTo>
                    <a:pt x="590" y="1974"/>
                  </a:lnTo>
                  <a:lnTo>
                    <a:pt x="588" y="1985"/>
                  </a:lnTo>
                  <a:lnTo>
                    <a:pt x="585" y="1997"/>
                  </a:lnTo>
                  <a:lnTo>
                    <a:pt x="576" y="2002"/>
                  </a:lnTo>
                  <a:lnTo>
                    <a:pt x="567" y="1991"/>
                  </a:lnTo>
                  <a:lnTo>
                    <a:pt x="561" y="1982"/>
                  </a:lnTo>
                  <a:lnTo>
                    <a:pt x="553" y="1976"/>
                  </a:lnTo>
                  <a:lnTo>
                    <a:pt x="547" y="1968"/>
                  </a:lnTo>
                  <a:lnTo>
                    <a:pt x="541" y="1959"/>
                  </a:lnTo>
                  <a:lnTo>
                    <a:pt x="532" y="1956"/>
                  </a:lnTo>
                  <a:lnTo>
                    <a:pt x="524" y="1953"/>
                  </a:lnTo>
                  <a:lnTo>
                    <a:pt x="518" y="1945"/>
                  </a:lnTo>
                  <a:lnTo>
                    <a:pt x="509" y="1939"/>
                  </a:lnTo>
                  <a:lnTo>
                    <a:pt x="500" y="1939"/>
                  </a:lnTo>
                  <a:lnTo>
                    <a:pt x="494" y="1948"/>
                  </a:lnTo>
                  <a:lnTo>
                    <a:pt x="491" y="1956"/>
                  </a:lnTo>
                  <a:lnTo>
                    <a:pt x="486" y="1965"/>
                  </a:lnTo>
                  <a:lnTo>
                    <a:pt x="491" y="1974"/>
                  </a:lnTo>
                  <a:lnTo>
                    <a:pt x="500" y="1976"/>
                  </a:lnTo>
                  <a:lnTo>
                    <a:pt x="503" y="1985"/>
                  </a:lnTo>
                  <a:lnTo>
                    <a:pt x="506" y="1994"/>
                  </a:lnTo>
                  <a:lnTo>
                    <a:pt x="509" y="2002"/>
                  </a:lnTo>
                  <a:lnTo>
                    <a:pt x="512" y="2011"/>
                  </a:lnTo>
                  <a:lnTo>
                    <a:pt x="515" y="2020"/>
                  </a:lnTo>
                  <a:lnTo>
                    <a:pt x="518" y="2028"/>
                  </a:lnTo>
                  <a:lnTo>
                    <a:pt x="518" y="2037"/>
                  </a:lnTo>
                  <a:lnTo>
                    <a:pt x="518" y="2046"/>
                  </a:lnTo>
                  <a:lnTo>
                    <a:pt x="518" y="2054"/>
                  </a:lnTo>
                  <a:lnTo>
                    <a:pt x="515" y="2063"/>
                  </a:lnTo>
                  <a:lnTo>
                    <a:pt x="506" y="2072"/>
                  </a:lnTo>
                  <a:lnTo>
                    <a:pt x="503" y="2080"/>
                  </a:lnTo>
                  <a:lnTo>
                    <a:pt x="503" y="2089"/>
                  </a:lnTo>
                  <a:lnTo>
                    <a:pt x="503" y="2097"/>
                  </a:lnTo>
                  <a:lnTo>
                    <a:pt x="500" y="2106"/>
                  </a:lnTo>
                  <a:lnTo>
                    <a:pt x="491" y="2112"/>
                  </a:lnTo>
                  <a:lnTo>
                    <a:pt x="483" y="2118"/>
                  </a:lnTo>
                  <a:lnTo>
                    <a:pt x="483" y="2126"/>
                  </a:lnTo>
                  <a:lnTo>
                    <a:pt x="480" y="2138"/>
                  </a:lnTo>
                  <a:lnTo>
                    <a:pt x="477" y="2149"/>
                  </a:lnTo>
                  <a:lnTo>
                    <a:pt x="468" y="2144"/>
                  </a:lnTo>
                  <a:lnTo>
                    <a:pt x="459" y="2144"/>
                  </a:lnTo>
                  <a:lnTo>
                    <a:pt x="451" y="2144"/>
                  </a:lnTo>
                  <a:lnTo>
                    <a:pt x="442" y="2152"/>
                  </a:lnTo>
                  <a:lnTo>
                    <a:pt x="436" y="2161"/>
                  </a:lnTo>
                  <a:lnTo>
                    <a:pt x="427" y="2167"/>
                  </a:lnTo>
                  <a:lnTo>
                    <a:pt x="419" y="2175"/>
                  </a:lnTo>
                  <a:lnTo>
                    <a:pt x="407" y="2181"/>
                  </a:lnTo>
                  <a:lnTo>
                    <a:pt x="398" y="2184"/>
                  </a:lnTo>
                  <a:lnTo>
                    <a:pt x="393" y="2175"/>
                  </a:lnTo>
                  <a:lnTo>
                    <a:pt x="390" y="2167"/>
                  </a:lnTo>
                  <a:lnTo>
                    <a:pt x="384" y="2158"/>
                  </a:lnTo>
                  <a:lnTo>
                    <a:pt x="369" y="2149"/>
                  </a:lnTo>
                  <a:lnTo>
                    <a:pt x="358" y="2144"/>
                  </a:lnTo>
                  <a:lnTo>
                    <a:pt x="355" y="2135"/>
                  </a:lnTo>
                  <a:lnTo>
                    <a:pt x="349" y="2126"/>
                  </a:lnTo>
                  <a:lnTo>
                    <a:pt x="343" y="2118"/>
                  </a:lnTo>
                  <a:lnTo>
                    <a:pt x="334" y="2109"/>
                  </a:lnTo>
                  <a:lnTo>
                    <a:pt x="328" y="2100"/>
                  </a:lnTo>
                  <a:lnTo>
                    <a:pt x="320" y="2092"/>
                  </a:lnTo>
                  <a:lnTo>
                    <a:pt x="317" y="2080"/>
                  </a:lnTo>
                  <a:lnTo>
                    <a:pt x="317" y="2048"/>
                  </a:lnTo>
                  <a:lnTo>
                    <a:pt x="311" y="2060"/>
                  </a:lnTo>
                  <a:lnTo>
                    <a:pt x="302" y="2057"/>
                  </a:lnTo>
                  <a:lnTo>
                    <a:pt x="294" y="2051"/>
                  </a:lnTo>
                  <a:lnTo>
                    <a:pt x="282" y="2048"/>
                  </a:lnTo>
                  <a:lnTo>
                    <a:pt x="276" y="2040"/>
                  </a:lnTo>
                  <a:lnTo>
                    <a:pt x="270" y="2031"/>
                  </a:lnTo>
                  <a:lnTo>
                    <a:pt x="264" y="2023"/>
                  </a:lnTo>
                  <a:lnTo>
                    <a:pt x="259" y="2014"/>
                  </a:lnTo>
                  <a:lnTo>
                    <a:pt x="250" y="2008"/>
                  </a:lnTo>
                  <a:lnTo>
                    <a:pt x="241" y="2011"/>
                  </a:lnTo>
                  <a:lnTo>
                    <a:pt x="232" y="2011"/>
                  </a:lnTo>
                  <a:lnTo>
                    <a:pt x="227" y="2002"/>
                  </a:lnTo>
                  <a:lnTo>
                    <a:pt x="218" y="2002"/>
                  </a:lnTo>
                  <a:lnTo>
                    <a:pt x="209" y="2002"/>
                  </a:lnTo>
                  <a:lnTo>
                    <a:pt x="200" y="2002"/>
                  </a:lnTo>
                  <a:lnTo>
                    <a:pt x="203" y="2014"/>
                  </a:lnTo>
                  <a:lnTo>
                    <a:pt x="203" y="2025"/>
                  </a:lnTo>
                  <a:lnTo>
                    <a:pt x="200" y="2034"/>
                  </a:lnTo>
                  <a:lnTo>
                    <a:pt x="189" y="2037"/>
                  </a:lnTo>
                  <a:lnTo>
                    <a:pt x="180" y="2043"/>
                  </a:lnTo>
                  <a:lnTo>
                    <a:pt x="171" y="2051"/>
                  </a:lnTo>
                  <a:lnTo>
                    <a:pt x="168" y="2060"/>
                  </a:lnTo>
                  <a:lnTo>
                    <a:pt x="163" y="2072"/>
                  </a:lnTo>
                  <a:lnTo>
                    <a:pt x="154" y="2077"/>
                  </a:lnTo>
                  <a:lnTo>
                    <a:pt x="145" y="2083"/>
                  </a:lnTo>
                  <a:lnTo>
                    <a:pt x="136" y="2086"/>
                  </a:lnTo>
                  <a:lnTo>
                    <a:pt x="122" y="2092"/>
                  </a:lnTo>
                  <a:lnTo>
                    <a:pt x="113" y="2095"/>
                  </a:lnTo>
                  <a:lnTo>
                    <a:pt x="104" y="2097"/>
                  </a:lnTo>
                  <a:lnTo>
                    <a:pt x="96" y="2103"/>
                  </a:lnTo>
                  <a:lnTo>
                    <a:pt x="87" y="2109"/>
                  </a:lnTo>
                  <a:lnTo>
                    <a:pt x="78" y="2112"/>
                  </a:lnTo>
                  <a:lnTo>
                    <a:pt x="66" y="2112"/>
                  </a:lnTo>
                  <a:lnTo>
                    <a:pt x="58" y="2115"/>
                  </a:lnTo>
                  <a:lnTo>
                    <a:pt x="55" y="2123"/>
                  </a:lnTo>
                  <a:lnTo>
                    <a:pt x="49" y="2132"/>
                  </a:lnTo>
                  <a:lnTo>
                    <a:pt x="46" y="2141"/>
                  </a:lnTo>
                  <a:lnTo>
                    <a:pt x="58" y="2146"/>
                  </a:lnTo>
                  <a:lnTo>
                    <a:pt x="66" y="2146"/>
                  </a:lnTo>
                  <a:lnTo>
                    <a:pt x="75" y="2146"/>
                  </a:lnTo>
                  <a:lnTo>
                    <a:pt x="66" y="2158"/>
                  </a:lnTo>
                  <a:lnTo>
                    <a:pt x="55" y="2164"/>
                  </a:lnTo>
                  <a:lnTo>
                    <a:pt x="43" y="2169"/>
                  </a:lnTo>
                  <a:lnTo>
                    <a:pt x="34" y="2175"/>
                  </a:lnTo>
                  <a:lnTo>
                    <a:pt x="26" y="2181"/>
                  </a:lnTo>
                  <a:lnTo>
                    <a:pt x="23" y="2190"/>
                  </a:lnTo>
                  <a:lnTo>
                    <a:pt x="23" y="2198"/>
                  </a:lnTo>
                  <a:lnTo>
                    <a:pt x="14" y="2207"/>
                  </a:lnTo>
                  <a:lnTo>
                    <a:pt x="5" y="2210"/>
                  </a:lnTo>
                  <a:lnTo>
                    <a:pt x="0" y="2218"/>
                  </a:lnTo>
                  <a:lnTo>
                    <a:pt x="5" y="2227"/>
                  </a:lnTo>
                  <a:lnTo>
                    <a:pt x="14" y="2236"/>
                  </a:lnTo>
                  <a:lnTo>
                    <a:pt x="23" y="2244"/>
                  </a:lnTo>
                  <a:lnTo>
                    <a:pt x="37" y="2233"/>
                  </a:lnTo>
                  <a:lnTo>
                    <a:pt x="46" y="2230"/>
                  </a:lnTo>
                  <a:lnTo>
                    <a:pt x="49" y="2239"/>
                  </a:lnTo>
                  <a:lnTo>
                    <a:pt x="49" y="2247"/>
                  </a:lnTo>
                  <a:lnTo>
                    <a:pt x="52" y="2256"/>
                  </a:lnTo>
                  <a:lnTo>
                    <a:pt x="55" y="2265"/>
                  </a:lnTo>
                  <a:lnTo>
                    <a:pt x="58" y="2273"/>
                  </a:lnTo>
                  <a:lnTo>
                    <a:pt x="58" y="2282"/>
                  </a:lnTo>
                  <a:lnTo>
                    <a:pt x="61" y="2291"/>
                  </a:lnTo>
                  <a:lnTo>
                    <a:pt x="61" y="2299"/>
                  </a:lnTo>
                  <a:lnTo>
                    <a:pt x="58" y="2308"/>
                  </a:lnTo>
                  <a:lnTo>
                    <a:pt x="52" y="2316"/>
                  </a:lnTo>
                  <a:lnTo>
                    <a:pt x="52" y="2325"/>
                  </a:lnTo>
                  <a:lnTo>
                    <a:pt x="52" y="2334"/>
                  </a:lnTo>
                  <a:lnTo>
                    <a:pt x="49" y="2342"/>
                  </a:lnTo>
                  <a:lnTo>
                    <a:pt x="58" y="2348"/>
                  </a:lnTo>
                  <a:lnTo>
                    <a:pt x="69" y="2348"/>
                  </a:lnTo>
                  <a:lnTo>
                    <a:pt x="78" y="2348"/>
                  </a:lnTo>
                  <a:lnTo>
                    <a:pt x="87" y="2357"/>
                  </a:lnTo>
                  <a:lnTo>
                    <a:pt x="96" y="2360"/>
                  </a:lnTo>
                  <a:lnTo>
                    <a:pt x="104" y="2360"/>
                  </a:lnTo>
                  <a:lnTo>
                    <a:pt x="113" y="2365"/>
                  </a:lnTo>
                  <a:lnTo>
                    <a:pt x="122" y="2371"/>
                  </a:lnTo>
                  <a:lnTo>
                    <a:pt x="128" y="2380"/>
                  </a:lnTo>
                  <a:lnTo>
                    <a:pt x="139" y="2389"/>
                  </a:lnTo>
                  <a:lnTo>
                    <a:pt x="142" y="2397"/>
                  </a:lnTo>
                  <a:lnTo>
                    <a:pt x="151" y="2406"/>
                  </a:lnTo>
                  <a:lnTo>
                    <a:pt x="160" y="2414"/>
                  </a:lnTo>
                  <a:lnTo>
                    <a:pt x="168" y="2417"/>
                  </a:lnTo>
                  <a:lnTo>
                    <a:pt x="177" y="2420"/>
                  </a:lnTo>
                  <a:lnTo>
                    <a:pt x="186" y="2423"/>
                  </a:lnTo>
                  <a:lnTo>
                    <a:pt x="195" y="2423"/>
                  </a:lnTo>
                  <a:lnTo>
                    <a:pt x="203" y="2423"/>
                  </a:lnTo>
                  <a:lnTo>
                    <a:pt x="212" y="2423"/>
                  </a:lnTo>
                  <a:lnTo>
                    <a:pt x="221" y="2420"/>
                  </a:lnTo>
                  <a:lnTo>
                    <a:pt x="229" y="2420"/>
                  </a:lnTo>
                  <a:lnTo>
                    <a:pt x="238" y="2420"/>
                  </a:lnTo>
                  <a:lnTo>
                    <a:pt x="247" y="2417"/>
                  </a:lnTo>
                  <a:lnTo>
                    <a:pt x="256" y="2412"/>
                  </a:lnTo>
                  <a:lnTo>
                    <a:pt x="264" y="2412"/>
                  </a:lnTo>
                  <a:lnTo>
                    <a:pt x="276" y="2412"/>
                  </a:lnTo>
                  <a:lnTo>
                    <a:pt x="285" y="2412"/>
                  </a:lnTo>
                  <a:lnTo>
                    <a:pt x="294" y="2414"/>
                  </a:lnTo>
                  <a:lnTo>
                    <a:pt x="302" y="2414"/>
                  </a:lnTo>
                  <a:lnTo>
                    <a:pt x="305" y="2406"/>
                  </a:lnTo>
                  <a:lnTo>
                    <a:pt x="305" y="2397"/>
                  </a:lnTo>
                  <a:lnTo>
                    <a:pt x="302" y="2389"/>
                  </a:lnTo>
                  <a:lnTo>
                    <a:pt x="299" y="2380"/>
                  </a:lnTo>
                  <a:lnTo>
                    <a:pt x="302" y="2371"/>
                  </a:lnTo>
                  <a:lnTo>
                    <a:pt x="314" y="2368"/>
                  </a:lnTo>
                  <a:lnTo>
                    <a:pt x="323" y="2368"/>
                  </a:lnTo>
                  <a:lnTo>
                    <a:pt x="331" y="2368"/>
                  </a:lnTo>
                  <a:lnTo>
                    <a:pt x="343" y="2368"/>
                  </a:lnTo>
                  <a:lnTo>
                    <a:pt x="346" y="2360"/>
                  </a:lnTo>
                  <a:lnTo>
                    <a:pt x="355" y="2354"/>
                  </a:lnTo>
                  <a:lnTo>
                    <a:pt x="363" y="2351"/>
                  </a:lnTo>
                  <a:lnTo>
                    <a:pt x="372" y="2351"/>
                  </a:lnTo>
                  <a:lnTo>
                    <a:pt x="381" y="2348"/>
                  </a:lnTo>
                  <a:lnTo>
                    <a:pt x="390" y="2348"/>
                  </a:lnTo>
                  <a:lnTo>
                    <a:pt x="398" y="2348"/>
                  </a:lnTo>
                  <a:lnTo>
                    <a:pt x="407" y="2348"/>
                  </a:lnTo>
                  <a:lnTo>
                    <a:pt x="419" y="2354"/>
                  </a:lnTo>
                  <a:lnTo>
                    <a:pt x="427" y="2360"/>
                  </a:lnTo>
                  <a:lnTo>
                    <a:pt x="436" y="2360"/>
                  </a:lnTo>
                  <a:lnTo>
                    <a:pt x="445" y="2360"/>
                  </a:lnTo>
                  <a:lnTo>
                    <a:pt x="454" y="2363"/>
                  </a:lnTo>
                  <a:lnTo>
                    <a:pt x="462" y="2363"/>
                  </a:lnTo>
                  <a:lnTo>
                    <a:pt x="471" y="2363"/>
                  </a:lnTo>
                  <a:lnTo>
                    <a:pt x="480" y="2363"/>
                  </a:lnTo>
                  <a:lnTo>
                    <a:pt x="489" y="2360"/>
                  </a:lnTo>
                  <a:lnTo>
                    <a:pt x="494" y="2351"/>
                  </a:lnTo>
                  <a:lnTo>
                    <a:pt x="494" y="2342"/>
                  </a:lnTo>
                  <a:lnTo>
                    <a:pt x="494" y="2334"/>
                  </a:lnTo>
                  <a:lnTo>
                    <a:pt x="497" y="2325"/>
                  </a:lnTo>
                  <a:lnTo>
                    <a:pt x="506" y="2322"/>
                  </a:lnTo>
                  <a:lnTo>
                    <a:pt x="515" y="2322"/>
                  </a:lnTo>
                  <a:lnTo>
                    <a:pt x="524" y="2322"/>
                  </a:lnTo>
                  <a:lnTo>
                    <a:pt x="532" y="2322"/>
                  </a:lnTo>
                  <a:lnTo>
                    <a:pt x="541" y="2322"/>
                  </a:lnTo>
                  <a:lnTo>
                    <a:pt x="550" y="2328"/>
                  </a:lnTo>
                  <a:lnTo>
                    <a:pt x="556" y="2337"/>
                  </a:lnTo>
                  <a:lnTo>
                    <a:pt x="564" y="2342"/>
                  </a:lnTo>
                  <a:lnTo>
                    <a:pt x="570" y="2351"/>
                  </a:lnTo>
                  <a:lnTo>
                    <a:pt x="576" y="2360"/>
                  </a:lnTo>
                  <a:lnTo>
                    <a:pt x="585" y="2368"/>
                  </a:lnTo>
                  <a:lnTo>
                    <a:pt x="590" y="2377"/>
                  </a:lnTo>
                  <a:lnTo>
                    <a:pt x="599" y="2383"/>
                  </a:lnTo>
                  <a:lnTo>
                    <a:pt x="611" y="2386"/>
                  </a:lnTo>
                  <a:lnTo>
                    <a:pt x="620" y="2386"/>
                  </a:lnTo>
                  <a:lnTo>
                    <a:pt x="628" y="2386"/>
                  </a:lnTo>
                  <a:lnTo>
                    <a:pt x="637" y="2386"/>
                  </a:lnTo>
                  <a:lnTo>
                    <a:pt x="646" y="2386"/>
                  </a:lnTo>
                  <a:lnTo>
                    <a:pt x="655" y="2386"/>
                  </a:lnTo>
                  <a:lnTo>
                    <a:pt x="663" y="2389"/>
                  </a:lnTo>
                  <a:lnTo>
                    <a:pt x="672" y="2389"/>
                  </a:lnTo>
                  <a:lnTo>
                    <a:pt x="681" y="2389"/>
                  </a:lnTo>
                  <a:lnTo>
                    <a:pt x="689" y="2389"/>
                  </a:lnTo>
                  <a:lnTo>
                    <a:pt x="698" y="2394"/>
                  </a:lnTo>
                  <a:lnTo>
                    <a:pt x="707" y="2403"/>
                  </a:lnTo>
                  <a:lnTo>
                    <a:pt x="713" y="2412"/>
                  </a:lnTo>
                  <a:lnTo>
                    <a:pt x="716" y="2420"/>
                  </a:lnTo>
                  <a:lnTo>
                    <a:pt x="716" y="2429"/>
                  </a:lnTo>
                  <a:lnTo>
                    <a:pt x="716" y="2437"/>
                  </a:lnTo>
                  <a:lnTo>
                    <a:pt x="719" y="2446"/>
                  </a:lnTo>
                  <a:lnTo>
                    <a:pt x="719" y="2455"/>
                  </a:lnTo>
                  <a:lnTo>
                    <a:pt x="721" y="2463"/>
                  </a:lnTo>
                  <a:lnTo>
                    <a:pt x="721" y="2472"/>
                  </a:lnTo>
                  <a:lnTo>
                    <a:pt x="721" y="2481"/>
                  </a:lnTo>
                  <a:lnTo>
                    <a:pt x="721" y="2489"/>
                  </a:lnTo>
                  <a:lnTo>
                    <a:pt x="713" y="2492"/>
                  </a:lnTo>
                  <a:lnTo>
                    <a:pt x="704" y="2492"/>
                  </a:lnTo>
                  <a:lnTo>
                    <a:pt x="698" y="2501"/>
                  </a:lnTo>
                  <a:lnTo>
                    <a:pt x="707" y="2507"/>
                  </a:lnTo>
                  <a:lnTo>
                    <a:pt x="716" y="2512"/>
                  </a:lnTo>
                  <a:lnTo>
                    <a:pt x="721" y="2521"/>
                  </a:lnTo>
                  <a:lnTo>
                    <a:pt x="721" y="2530"/>
                  </a:lnTo>
                  <a:lnTo>
                    <a:pt x="719" y="2538"/>
                  </a:lnTo>
                  <a:lnTo>
                    <a:pt x="719" y="2547"/>
                  </a:lnTo>
                  <a:lnTo>
                    <a:pt x="719" y="2556"/>
                  </a:lnTo>
                  <a:lnTo>
                    <a:pt x="719" y="2564"/>
                  </a:lnTo>
                  <a:lnTo>
                    <a:pt x="721" y="2576"/>
                  </a:lnTo>
                  <a:lnTo>
                    <a:pt x="721" y="2584"/>
                  </a:lnTo>
                  <a:lnTo>
                    <a:pt x="727" y="2593"/>
                  </a:lnTo>
                  <a:lnTo>
                    <a:pt x="736" y="2602"/>
                  </a:lnTo>
                  <a:lnTo>
                    <a:pt x="742" y="2613"/>
                  </a:lnTo>
                  <a:lnTo>
                    <a:pt x="745" y="2625"/>
                  </a:lnTo>
                  <a:lnTo>
                    <a:pt x="756" y="2633"/>
                  </a:lnTo>
                  <a:lnTo>
                    <a:pt x="765" y="2642"/>
                  </a:lnTo>
                  <a:lnTo>
                    <a:pt x="768" y="2654"/>
                  </a:lnTo>
                  <a:lnTo>
                    <a:pt x="768" y="2662"/>
                  </a:lnTo>
                  <a:lnTo>
                    <a:pt x="768" y="2671"/>
                  </a:lnTo>
                  <a:lnTo>
                    <a:pt x="771" y="2682"/>
                  </a:lnTo>
                  <a:lnTo>
                    <a:pt x="780" y="2688"/>
                  </a:lnTo>
                  <a:lnTo>
                    <a:pt x="783" y="2697"/>
                  </a:lnTo>
                  <a:lnTo>
                    <a:pt x="786" y="2705"/>
                  </a:lnTo>
                  <a:lnTo>
                    <a:pt x="788" y="2714"/>
                  </a:lnTo>
                  <a:lnTo>
                    <a:pt x="788" y="2723"/>
                  </a:lnTo>
                  <a:lnTo>
                    <a:pt x="788" y="2731"/>
                  </a:lnTo>
                  <a:lnTo>
                    <a:pt x="788" y="2740"/>
                  </a:lnTo>
                  <a:lnTo>
                    <a:pt x="788" y="2749"/>
                  </a:lnTo>
                  <a:lnTo>
                    <a:pt x="788" y="2757"/>
                  </a:lnTo>
                  <a:lnTo>
                    <a:pt x="788" y="2769"/>
                  </a:lnTo>
                  <a:lnTo>
                    <a:pt x="783" y="2778"/>
                  </a:lnTo>
                  <a:lnTo>
                    <a:pt x="774" y="2778"/>
                  </a:lnTo>
                  <a:lnTo>
                    <a:pt x="765" y="2783"/>
                  </a:lnTo>
                  <a:lnTo>
                    <a:pt x="759" y="2792"/>
                  </a:lnTo>
                  <a:lnTo>
                    <a:pt x="751" y="2795"/>
                  </a:lnTo>
                  <a:lnTo>
                    <a:pt x="742" y="2789"/>
                  </a:lnTo>
                  <a:lnTo>
                    <a:pt x="730" y="2786"/>
                  </a:lnTo>
                  <a:lnTo>
                    <a:pt x="721" y="2780"/>
                  </a:lnTo>
                  <a:lnTo>
                    <a:pt x="713" y="2778"/>
                  </a:lnTo>
                  <a:lnTo>
                    <a:pt x="710" y="2766"/>
                  </a:lnTo>
                  <a:lnTo>
                    <a:pt x="707" y="2757"/>
                  </a:lnTo>
                  <a:lnTo>
                    <a:pt x="698" y="2754"/>
                  </a:lnTo>
                  <a:lnTo>
                    <a:pt x="687" y="2754"/>
                  </a:lnTo>
                  <a:lnTo>
                    <a:pt x="678" y="2746"/>
                  </a:lnTo>
                  <a:lnTo>
                    <a:pt x="672" y="2737"/>
                  </a:lnTo>
                  <a:lnTo>
                    <a:pt x="660" y="2731"/>
                  </a:lnTo>
                  <a:lnTo>
                    <a:pt x="652" y="2729"/>
                  </a:lnTo>
                  <a:lnTo>
                    <a:pt x="643" y="2729"/>
                  </a:lnTo>
                  <a:lnTo>
                    <a:pt x="634" y="2729"/>
                  </a:lnTo>
                  <a:lnTo>
                    <a:pt x="628" y="2737"/>
                  </a:lnTo>
                  <a:lnTo>
                    <a:pt x="628" y="2746"/>
                  </a:lnTo>
                  <a:lnTo>
                    <a:pt x="631" y="2754"/>
                  </a:lnTo>
                  <a:lnTo>
                    <a:pt x="640" y="2763"/>
                  </a:lnTo>
                  <a:lnTo>
                    <a:pt x="652" y="2769"/>
                  </a:lnTo>
                  <a:lnTo>
                    <a:pt x="660" y="2775"/>
                  </a:lnTo>
                  <a:lnTo>
                    <a:pt x="666" y="2783"/>
                  </a:lnTo>
                  <a:lnTo>
                    <a:pt x="669" y="2792"/>
                  </a:lnTo>
                  <a:lnTo>
                    <a:pt x="672" y="2801"/>
                  </a:lnTo>
                  <a:lnTo>
                    <a:pt x="675" y="2809"/>
                  </a:lnTo>
                  <a:lnTo>
                    <a:pt x="678" y="2818"/>
                  </a:lnTo>
                  <a:lnTo>
                    <a:pt x="687" y="2827"/>
                  </a:lnTo>
                  <a:lnTo>
                    <a:pt x="695" y="2829"/>
                  </a:lnTo>
                  <a:lnTo>
                    <a:pt x="707" y="2829"/>
                  </a:lnTo>
                  <a:lnTo>
                    <a:pt x="713" y="2818"/>
                  </a:lnTo>
                  <a:lnTo>
                    <a:pt x="713" y="2809"/>
                  </a:lnTo>
                  <a:lnTo>
                    <a:pt x="716" y="2801"/>
                  </a:lnTo>
                  <a:lnTo>
                    <a:pt x="724" y="2795"/>
                  </a:lnTo>
                  <a:lnTo>
                    <a:pt x="733" y="2795"/>
                  </a:lnTo>
                  <a:lnTo>
                    <a:pt x="742" y="2792"/>
                  </a:lnTo>
                  <a:lnTo>
                    <a:pt x="751" y="2801"/>
                  </a:lnTo>
                  <a:lnTo>
                    <a:pt x="762" y="2803"/>
                  </a:lnTo>
                  <a:lnTo>
                    <a:pt x="771" y="2803"/>
                  </a:lnTo>
                  <a:lnTo>
                    <a:pt x="780" y="2803"/>
                  </a:lnTo>
                  <a:lnTo>
                    <a:pt x="788" y="2803"/>
                  </a:lnTo>
                  <a:lnTo>
                    <a:pt x="788" y="2795"/>
                  </a:lnTo>
                  <a:lnTo>
                    <a:pt x="788" y="2786"/>
                  </a:lnTo>
                  <a:lnTo>
                    <a:pt x="797" y="2780"/>
                  </a:lnTo>
                  <a:lnTo>
                    <a:pt x="806" y="2780"/>
                  </a:lnTo>
                  <a:lnTo>
                    <a:pt x="815" y="2772"/>
                  </a:lnTo>
                  <a:lnTo>
                    <a:pt x="815" y="2763"/>
                  </a:lnTo>
                  <a:lnTo>
                    <a:pt x="815" y="2754"/>
                  </a:lnTo>
                  <a:lnTo>
                    <a:pt x="815" y="2746"/>
                  </a:lnTo>
                  <a:lnTo>
                    <a:pt x="815" y="2737"/>
                  </a:lnTo>
                  <a:lnTo>
                    <a:pt x="818" y="2729"/>
                  </a:lnTo>
                  <a:lnTo>
                    <a:pt x="826" y="2726"/>
                  </a:lnTo>
                  <a:lnTo>
                    <a:pt x="835" y="2720"/>
                  </a:lnTo>
                  <a:lnTo>
                    <a:pt x="844" y="2717"/>
                  </a:lnTo>
                  <a:lnTo>
                    <a:pt x="852" y="2720"/>
                  </a:lnTo>
                  <a:lnTo>
                    <a:pt x="855" y="2729"/>
                  </a:lnTo>
                  <a:lnTo>
                    <a:pt x="858" y="2740"/>
                  </a:lnTo>
                  <a:lnTo>
                    <a:pt x="858" y="2749"/>
                  </a:lnTo>
                  <a:lnTo>
                    <a:pt x="861" y="2757"/>
                  </a:lnTo>
                  <a:lnTo>
                    <a:pt x="870" y="2763"/>
                  </a:lnTo>
                  <a:lnTo>
                    <a:pt x="882" y="2766"/>
                  </a:lnTo>
                  <a:lnTo>
                    <a:pt x="887" y="2757"/>
                  </a:lnTo>
                  <a:lnTo>
                    <a:pt x="887" y="2749"/>
                  </a:lnTo>
                  <a:lnTo>
                    <a:pt x="887" y="2740"/>
                  </a:lnTo>
                  <a:lnTo>
                    <a:pt x="887" y="2731"/>
                  </a:lnTo>
                  <a:lnTo>
                    <a:pt x="885" y="2723"/>
                  </a:lnTo>
                  <a:lnTo>
                    <a:pt x="876" y="2714"/>
                  </a:lnTo>
                  <a:lnTo>
                    <a:pt x="870" y="2705"/>
                  </a:lnTo>
                  <a:lnTo>
                    <a:pt x="864" y="2697"/>
                  </a:lnTo>
                  <a:lnTo>
                    <a:pt x="855" y="2691"/>
                  </a:lnTo>
                  <a:lnTo>
                    <a:pt x="847" y="2682"/>
                  </a:lnTo>
                  <a:lnTo>
                    <a:pt x="838" y="2674"/>
                  </a:lnTo>
                  <a:lnTo>
                    <a:pt x="835" y="2665"/>
                  </a:lnTo>
                  <a:lnTo>
                    <a:pt x="832" y="2657"/>
                  </a:lnTo>
                  <a:lnTo>
                    <a:pt x="832" y="2648"/>
                  </a:lnTo>
                  <a:lnTo>
                    <a:pt x="841" y="2642"/>
                  </a:lnTo>
                  <a:lnTo>
                    <a:pt x="850" y="2642"/>
                  </a:lnTo>
                  <a:lnTo>
                    <a:pt x="852" y="2633"/>
                  </a:lnTo>
                  <a:lnTo>
                    <a:pt x="844" y="2628"/>
                  </a:lnTo>
                  <a:lnTo>
                    <a:pt x="835" y="2622"/>
                  </a:lnTo>
                  <a:lnTo>
                    <a:pt x="826" y="2619"/>
                  </a:lnTo>
                  <a:lnTo>
                    <a:pt x="820" y="2610"/>
                  </a:lnTo>
                  <a:lnTo>
                    <a:pt x="818" y="2602"/>
                  </a:lnTo>
                  <a:lnTo>
                    <a:pt x="812" y="2593"/>
                  </a:lnTo>
                  <a:lnTo>
                    <a:pt x="812" y="2584"/>
                  </a:lnTo>
                  <a:lnTo>
                    <a:pt x="809" y="2576"/>
                  </a:lnTo>
                  <a:lnTo>
                    <a:pt x="806" y="2564"/>
                  </a:lnTo>
                  <a:lnTo>
                    <a:pt x="806" y="2556"/>
                  </a:lnTo>
                  <a:lnTo>
                    <a:pt x="806" y="2547"/>
                  </a:lnTo>
                  <a:lnTo>
                    <a:pt x="806" y="2538"/>
                  </a:lnTo>
                  <a:lnTo>
                    <a:pt x="806" y="2530"/>
                  </a:lnTo>
                  <a:lnTo>
                    <a:pt x="806" y="2521"/>
                  </a:lnTo>
                  <a:lnTo>
                    <a:pt x="806" y="2512"/>
                  </a:lnTo>
                  <a:lnTo>
                    <a:pt x="806" y="2504"/>
                  </a:lnTo>
                  <a:lnTo>
                    <a:pt x="803" y="2495"/>
                  </a:lnTo>
                  <a:lnTo>
                    <a:pt x="800" y="2486"/>
                  </a:lnTo>
                  <a:lnTo>
                    <a:pt x="800" y="2478"/>
                  </a:lnTo>
                  <a:lnTo>
                    <a:pt x="800" y="2469"/>
                  </a:lnTo>
                  <a:lnTo>
                    <a:pt x="800" y="2461"/>
                  </a:lnTo>
                  <a:lnTo>
                    <a:pt x="800" y="2452"/>
                  </a:lnTo>
                  <a:lnTo>
                    <a:pt x="809" y="2452"/>
                  </a:lnTo>
                  <a:lnTo>
                    <a:pt x="818" y="2452"/>
                  </a:lnTo>
                  <a:lnTo>
                    <a:pt x="818" y="2443"/>
                  </a:lnTo>
                  <a:lnTo>
                    <a:pt x="820" y="2435"/>
                  </a:lnTo>
                  <a:lnTo>
                    <a:pt x="826" y="2426"/>
                  </a:lnTo>
                  <a:lnTo>
                    <a:pt x="835" y="2426"/>
                  </a:lnTo>
                  <a:lnTo>
                    <a:pt x="838" y="2435"/>
                  </a:lnTo>
                  <a:lnTo>
                    <a:pt x="847" y="2440"/>
                  </a:lnTo>
                  <a:lnTo>
                    <a:pt x="855" y="2435"/>
                  </a:lnTo>
                  <a:lnTo>
                    <a:pt x="864" y="2432"/>
                  </a:lnTo>
                  <a:lnTo>
                    <a:pt x="864" y="2440"/>
                  </a:lnTo>
                  <a:lnTo>
                    <a:pt x="864" y="2449"/>
                  </a:lnTo>
                  <a:lnTo>
                    <a:pt x="858" y="2458"/>
                  </a:lnTo>
                  <a:lnTo>
                    <a:pt x="850" y="2466"/>
                  </a:lnTo>
                  <a:lnTo>
                    <a:pt x="847" y="2475"/>
                  </a:lnTo>
                  <a:lnTo>
                    <a:pt x="855" y="2478"/>
                  </a:lnTo>
                  <a:lnTo>
                    <a:pt x="864" y="2478"/>
                  </a:lnTo>
                  <a:lnTo>
                    <a:pt x="864" y="2486"/>
                  </a:lnTo>
                  <a:lnTo>
                    <a:pt x="864" y="2495"/>
                  </a:lnTo>
                  <a:lnTo>
                    <a:pt x="873" y="2498"/>
                  </a:lnTo>
                  <a:lnTo>
                    <a:pt x="882" y="2498"/>
                  </a:lnTo>
                  <a:lnTo>
                    <a:pt x="882" y="2507"/>
                  </a:lnTo>
                  <a:lnTo>
                    <a:pt x="882" y="2515"/>
                  </a:lnTo>
                  <a:lnTo>
                    <a:pt x="879" y="2524"/>
                  </a:lnTo>
                  <a:lnTo>
                    <a:pt x="870" y="2527"/>
                  </a:lnTo>
                  <a:lnTo>
                    <a:pt x="864" y="2535"/>
                  </a:lnTo>
                  <a:lnTo>
                    <a:pt x="867" y="2544"/>
                  </a:lnTo>
                  <a:lnTo>
                    <a:pt x="870" y="2553"/>
                  </a:lnTo>
                  <a:lnTo>
                    <a:pt x="876" y="2561"/>
                  </a:lnTo>
                  <a:lnTo>
                    <a:pt x="882" y="2573"/>
                  </a:lnTo>
                  <a:lnTo>
                    <a:pt x="890" y="2584"/>
                  </a:lnTo>
                  <a:lnTo>
                    <a:pt x="893" y="2593"/>
                  </a:lnTo>
                  <a:lnTo>
                    <a:pt x="896" y="2602"/>
                  </a:lnTo>
                  <a:lnTo>
                    <a:pt x="899" y="2613"/>
                  </a:lnTo>
                  <a:lnTo>
                    <a:pt x="899" y="2622"/>
                  </a:lnTo>
                  <a:lnTo>
                    <a:pt x="902" y="2631"/>
                  </a:lnTo>
                  <a:lnTo>
                    <a:pt x="905" y="2639"/>
                  </a:lnTo>
                  <a:lnTo>
                    <a:pt x="911" y="2648"/>
                  </a:lnTo>
                  <a:lnTo>
                    <a:pt x="919" y="2657"/>
                  </a:lnTo>
                  <a:lnTo>
                    <a:pt x="928" y="2662"/>
                  </a:lnTo>
                  <a:lnTo>
                    <a:pt x="937" y="2671"/>
                  </a:lnTo>
                  <a:lnTo>
                    <a:pt x="943" y="2680"/>
                  </a:lnTo>
                  <a:lnTo>
                    <a:pt x="946" y="2688"/>
                  </a:lnTo>
                  <a:lnTo>
                    <a:pt x="949" y="2697"/>
                  </a:lnTo>
                  <a:lnTo>
                    <a:pt x="949" y="2705"/>
                  </a:lnTo>
                  <a:lnTo>
                    <a:pt x="949" y="2714"/>
                  </a:lnTo>
                  <a:lnTo>
                    <a:pt x="949" y="2723"/>
                  </a:lnTo>
                  <a:lnTo>
                    <a:pt x="943" y="2731"/>
                  </a:lnTo>
                  <a:lnTo>
                    <a:pt x="934" y="2734"/>
                  </a:lnTo>
                  <a:lnTo>
                    <a:pt x="928" y="2743"/>
                  </a:lnTo>
                  <a:lnTo>
                    <a:pt x="925" y="2752"/>
                  </a:lnTo>
                  <a:lnTo>
                    <a:pt x="925" y="2760"/>
                  </a:lnTo>
                  <a:lnTo>
                    <a:pt x="922" y="2769"/>
                  </a:lnTo>
                  <a:lnTo>
                    <a:pt x="922" y="2778"/>
                  </a:lnTo>
                  <a:lnTo>
                    <a:pt x="919" y="2786"/>
                  </a:lnTo>
                  <a:lnTo>
                    <a:pt x="911" y="2795"/>
                  </a:lnTo>
                  <a:lnTo>
                    <a:pt x="908" y="2803"/>
                  </a:lnTo>
                  <a:lnTo>
                    <a:pt x="908" y="2812"/>
                  </a:lnTo>
                  <a:lnTo>
                    <a:pt x="911" y="2821"/>
                  </a:lnTo>
                  <a:lnTo>
                    <a:pt x="922" y="2827"/>
                  </a:lnTo>
                  <a:lnTo>
                    <a:pt x="934" y="2832"/>
                  </a:lnTo>
                  <a:lnTo>
                    <a:pt x="940" y="2841"/>
                  </a:lnTo>
                  <a:lnTo>
                    <a:pt x="922" y="2832"/>
                  </a:lnTo>
                  <a:lnTo>
                    <a:pt x="946" y="2824"/>
                  </a:lnTo>
                  <a:lnTo>
                    <a:pt x="946" y="2832"/>
                  </a:lnTo>
                  <a:lnTo>
                    <a:pt x="946" y="2841"/>
                  </a:lnTo>
                  <a:lnTo>
                    <a:pt x="946" y="2850"/>
                  </a:lnTo>
                  <a:lnTo>
                    <a:pt x="940" y="2858"/>
                  </a:lnTo>
                  <a:lnTo>
                    <a:pt x="931" y="2861"/>
                  </a:lnTo>
                  <a:lnTo>
                    <a:pt x="922" y="2867"/>
                  </a:lnTo>
                  <a:lnTo>
                    <a:pt x="917" y="2876"/>
                  </a:lnTo>
                  <a:lnTo>
                    <a:pt x="919" y="2884"/>
                  </a:lnTo>
                  <a:lnTo>
                    <a:pt x="922" y="2893"/>
                  </a:lnTo>
                  <a:lnTo>
                    <a:pt x="917" y="2901"/>
                  </a:lnTo>
                  <a:lnTo>
                    <a:pt x="925" y="2904"/>
                  </a:lnTo>
                  <a:lnTo>
                    <a:pt x="934" y="2904"/>
                  </a:lnTo>
                  <a:lnTo>
                    <a:pt x="943" y="2904"/>
                  </a:lnTo>
                  <a:lnTo>
                    <a:pt x="951" y="2899"/>
                  </a:lnTo>
                  <a:lnTo>
                    <a:pt x="960" y="2893"/>
                  </a:lnTo>
                  <a:lnTo>
                    <a:pt x="969" y="2893"/>
                  </a:lnTo>
                  <a:lnTo>
                    <a:pt x="978" y="2899"/>
                  </a:lnTo>
                  <a:lnTo>
                    <a:pt x="983" y="2907"/>
                  </a:lnTo>
                  <a:lnTo>
                    <a:pt x="975" y="2904"/>
                  </a:lnTo>
                  <a:lnTo>
                    <a:pt x="966" y="2899"/>
                  </a:lnTo>
                  <a:lnTo>
                    <a:pt x="954" y="2896"/>
                  </a:lnTo>
                  <a:lnTo>
                    <a:pt x="940" y="2893"/>
                  </a:lnTo>
                  <a:lnTo>
                    <a:pt x="943" y="2910"/>
                  </a:lnTo>
                  <a:lnTo>
                    <a:pt x="951" y="2930"/>
                  </a:lnTo>
                  <a:lnTo>
                    <a:pt x="943" y="2933"/>
                  </a:lnTo>
                  <a:lnTo>
                    <a:pt x="940" y="2942"/>
                  </a:lnTo>
                  <a:lnTo>
                    <a:pt x="937" y="2950"/>
                  </a:lnTo>
                  <a:lnTo>
                    <a:pt x="946" y="2956"/>
                  </a:lnTo>
                  <a:lnTo>
                    <a:pt x="949" y="2965"/>
                  </a:lnTo>
                  <a:lnTo>
                    <a:pt x="951" y="2974"/>
                  </a:lnTo>
                  <a:lnTo>
                    <a:pt x="951" y="2982"/>
                  </a:lnTo>
                  <a:lnTo>
                    <a:pt x="951" y="2991"/>
                  </a:lnTo>
                  <a:lnTo>
                    <a:pt x="954" y="2999"/>
                  </a:lnTo>
                  <a:lnTo>
                    <a:pt x="957" y="3011"/>
                  </a:lnTo>
                  <a:lnTo>
                    <a:pt x="963" y="3002"/>
                  </a:lnTo>
                  <a:lnTo>
                    <a:pt x="963" y="2994"/>
                  </a:lnTo>
                  <a:lnTo>
                    <a:pt x="963" y="2985"/>
                  </a:lnTo>
                  <a:lnTo>
                    <a:pt x="963" y="2976"/>
                  </a:lnTo>
                  <a:lnTo>
                    <a:pt x="963" y="2968"/>
                  </a:lnTo>
                  <a:lnTo>
                    <a:pt x="969" y="2959"/>
                  </a:lnTo>
                  <a:lnTo>
                    <a:pt x="978" y="2953"/>
                  </a:lnTo>
                  <a:lnTo>
                    <a:pt x="983" y="2945"/>
                  </a:lnTo>
                  <a:lnTo>
                    <a:pt x="992" y="2942"/>
                  </a:lnTo>
                  <a:lnTo>
                    <a:pt x="1004" y="2945"/>
                  </a:lnTo>
                  <a:lnTo>
                    <a:pt x="1016" y="2945"/>
                  </a:lnTo>
                  <a:lnTo>
                    <a:pt x="1024" y="2945"/>
                  </a:lnTo>
                  <a:lnTo>
                    <a:pt x="1027" y="2936"/>
                  </a:lnTo>
                  <a:lnTo>
                    <a:pt x="1036" y="2945"/>
                  </a:lnTo>
                  <a:lnTo>
                    <a:pt x="1042" y="2953"/>
                  </a:lnTo>
                  <a:lnTo>
                    <a:pt x="1050" y="2962"/>
                  </a:lnTo>
                  <a:lnTo>
                    <a:pt x="1059" y="2971"/>
                  </a:lnTo>
                  <a:lnTo>
                    <a:pt x="1045" y="2959"/>
                  </a:lnTo>
                  <a:lnTo>
                    <a:pt x="1042" y="2950"/>
                  </a:lnTo>
                  <a:lnTo>
                    <a:pt x="1042" y="2942"/>
                  </a:lnTo>
                  <a:lnTo>
                    <a:pt x="1042" y="2933"/>
                  </a:lnTo>
                  <a:lnTo>
                    <a:pt x="1042" y="2925"/>
                  </a:lnTo>
                  <a:lnTo>
                    <a:pt x="1033" y="2916"/>
                  </a:lnTo>
                  <a:lnTo>
                    <a:pt x="1021" y="2907"/>
                  </a:lnTo>
                  <a:lnTo>
                    <a:pt x="1013" y="2899"/>
                  </a:lnTo>
                  <a:lnTo>
                    <a:pt x="1007" y="2890"/>
                  </a:lnTo>
                  <a:lnTo>
                    <a:pt x="1018" y="2893"/>
                  </a:lnTo>
                  <a:lnTo>
                    <a:pt x="1027" y="2896"/>
                  </a:lnTo>
                  <a:lnTo>
                    <a:pt x="1036" y="2901"/>
                  </a:lnTo>
                  <a:lnTo>
                    <a:pt x="1045" y="2907"/>
                  </a:lnTo>
                  <a:lnTo>
                    <a:pt x="1050" y="2916"/>
                  </a:lnTo>
                  <a:lnTo>
                    <a:pt x="1042" y="2913"/>
                  </a:lnTo>
                  <a:lnTo>
                    <a:pt x="1033" y="2907"/>
                  </a:lnTo>
                  <a:lnTo>
                    <a:pt x="1021" y="2899"/>
                  </a:lnTo>
                  <a:lnTo>
                    <a:pt x="1010" y="2896"/>
                  </a:lnTo>
                  <a:lnTo>
                    <a:pt x="1004" y="2887"/>
                  </a:lnTo>
                  <a:lnTo>
                    <a:pt x="1013" y="2881"/>
                  </a:lnTo>
                  <a:lnTo>
                    <a:pt x="1018" y="2873"/>
                  </a:lnTo>
                  <a:lnTo>
                    <a:pt x="1018" y="2864"/>
                  </a:lnTo>
                  <a:lnTo>
                    <a:pt x="1021" y="2855"/>
                  </a:lnTo>
                  <a:lnTo>
                    <a:pt x="1021" y="2847"/>
                  </a:lnTo>
                  <a:lnTo>
                    <a:pt x="1021" y="2838"/>
                  </a:lnTo>
                  <a:lnTo>
                    <a:pt x="1021" y="2829"/>
                  </a:lnTo>
                  <a:lnTo>
                    <a:pt x="1021" y="2821"/>
                  </a:lnTo>
                  <a:lnTo>
                    <a:pt x="1024" y="2812"/>
                  </a:lnTo>
                  <a:lnTo>
                    <a:pt x="1033" y="2812"/>
                  </a:lnTo>
                  <a:lnTo>
                    <a:pt x="1042" y="2809"/>
                  </a:lnTo>
                  <a:lnTo>
                    <a:pt x="1042" y="2818"/>
                  </a:lnTo>
                  <a:lnTo>
                    <a:pt x="1042" y="2827"/>
                  </a:lnTo>
                  <a:lnTo>
                    <a:pt x="1042" y="2835"/>
                  </a:lnTo>
                  <a:lnTo>
                    <a:pt x="1042" y="2844"/>
                  </a:lnTo>
                  <a:lnTo>
                    <a:pt x="1050" y="2850"/>
                  </a:lnTo>
                  <a:lnTo>
                    <a:pt x="1056" y="2841"/>
                  </a:lnTo>
                  <a:lnTo>
                    <a:pt x="1065" y="2841"/>
                  </a:lnTo>
                  <a:lnTo>
                    <a:pt x="1068" y="2850"/>
                  </a:lnTo>
                  <a:lnTo>
                    <a:pt x="1071" y="2841"/>
                  </a:lnTo>
                  <a:lnTo>
                    <a:pt x="1071" y="2832"/>
                  </a:lnTo>
                  <a:lnTo>
                    <a:pt x="1080" y="2827"/>
                  </a:lnTo>
                  <a:lnTo>
                    <a:pt x="1088" y="2827"/>
                  </a:lnTo>
                  <a:lnTo>
                    <a:pt x="1100" y="2835"/>
                  </a:lnTo>
                  <a:lnTo>
                    <a:pt x="1109" y="2835"/>
                  </a:lnTo>
                  <a:lnTo>
                    <a:pt x="1120" y="2835"/>
                  </a:lnTo>
                  <a:lnTo>
                    <a:pt x="1129" y="2835"/>
                  </a:lnTo>
                  <a:lnTo>
                    <a:pt x="1138" y="2838"/>
                  </a:lnTo>
                  <a:lnTo>
                    <a:pt x="1147" y="2841"/>
                  </a:lnTo>
                  <a:lnTo>
                    <a:pt x="1155" y="2844"/>
                  </a:lnTo>
                  <a:lnTo>
                    <a:pt x="1149" y="2852"/>
                  </a:lnTo>
                  <a:lnTo>
                    <a:pt x="1149" y="2861"/>
                  </a:lnTo>
                  <a:lnTo>
                    <a:pt x="1149" y="2870"/>
                  </a:lnTo>
                  <a:lnTo>
                    <a:pt x="1158" y="2878"/>
                  </a:lnTo>
                  <a:lnTo>
                    <a:pt x="1170" y="2878"/>
                  </a:lnTo>
                  <a:lnTo>
                    <a:pt x="1179" y="2878"/>
                  </a:lnTo>
                  <a:lnTo>
                    <a:pt x="1187" y="2878"/>
                  </a:lnTo>
                  <a:lnTo>
                    <a:pt x="1196" y="2878"/>
                  </a:lnTo>
                  <a:lnTo>
                    <a:pt x="1205" y="2876"/>
                  </a:lnTo>
                  <a:lnTo>
                    <a:pt x="1216" y="2873"/>
                  </a:lnTo>
                  <a:lnTo>
                    <a:pt x="1225" y="2873"/>
                  </a:lnTo>
                  <a:lnTo>
                    <a:pt x="1234" y="2873"/>
                  </a:lnTo>
                  <a:lnTo>
                    <a:pt x="1243" y="2873"/>
                  </a:lnTo>
                  <a:lnTo>
                    <a:pt x="1251" y="2873"/>
                  </a:lnTo>
                  <a:lnTo>
                    <a:pt x="1254" y="2884"/>
                  </a:lnTo>
                  <a:lnTo>
                    <a:pt x="1257" y="2893"/>
                  </a:lnTo>
                  <a:lnTo>
                    <a:pt x="1257" y="2901"/>
                  </a:lnTo>
                  <a:lnTo>
                    <a:pt x="1272" y="2907"/>
                  </a:lnTo>
                  <a:lnTo>
                    <a:pt x="1263" y="2913"/>
                  </a:lnTo>
                  <a:lnTo>
                    <a:pt x="1254" y="2913"/>
                  </a:lnTo>
                  <a:lnTo>
                    <a:pt x="1245" y="2913"/>
                  </a:lnTo>
                  <a:lnTo>
                    <a:pt x="1248" y="2878"/>
                  </a:lnTo>
                  <a:lnTo>
                    <a:pt x="1245" y="2896"/>
                  </a:lnTo>
                  <a:lnTo>
                    <a:pt x="1237" y="2896"/>
                  </a:lnTo>
                  <a:lnTo>
                    <a:pt x="1228" y="2893"/>
                  </a:lnTo>
                  <a:lnTo>
                    <a:pt x="1219" y="2896"/>
                  </a:lnTo>
                  <a:lnTo>
                    <a:pt x="1211" y="2896"/>
                  </a:lnTo>
                  <a:lnTo>
                    <a:pt x="1202" y="2896"/>
                  </a:lnTo>
                  <a:lnTo>
                    <a:pt x="1193" y="2893"/>
                  </a:lnTo>
                  <a:lnTo>
                    <a:pt x="1184" y="2890"/>
                  </a:lnTo>
                  <a:lnTo>
                    <a:pt x="1176" y="2890"/>
                  </a:lnTo>
                  <a:lnTo>
                    <a:pt x="1167" y="2887"/>
                  </a:lnTo>
                  <a:lnTo>
                    <a:pt x="1155" y="2887"/>
                  </a:lnTo>
                  <a:lnTo>
                    <a:pt x="1147" y="2887"/>
                  </a:lnTo>
                  <a:lnTo>
                    <a:pt x="1135" y="2887"/>
                  </a:lnTo>
                  <a:lnTo>
                    <a:pt x="1132" y="2896"/>
                  </a:lnTo>
                  <a:lnTo>
                    <a:pt x="1132" y="2904"/>
                  </a:lnTo>
                  <a:lnTo>
                    <a:pt x="1132" y="2913"/>
                  </a:lnTo>
                  <a:lnTo>
                    <a:pt x="1144" y="2916"/>
                  </a:lnTo>
                  <a:lnTo>
                    <a:pt x="1144" y="2925"/>
                  </a:lnTo>
                  <a:lnTo>
                    <a:pt x="1129" y="2927"/>
                  </a:lnTo>
                  <a:lnTo>
                    <a:pt x="1120" y="2927"/>
                  </a:lnTo>
                  <a:lnTo>
                    <a:pt x="1112" y="2927"/>
                  </a:lnTo>
                  <a:lnTo>
                    <a:pt x="1114" y="2936"/>
                  </a:lnTo>
                  <a:lnTo>
                    <a:pt x="1123" y="2936"/>
                  </a:lnTo>
                  <a:lnTo>
                    <a:pt x="1132" y="2942"/>
                  </a:lnTo>
                  <a:lnTo>
                    <a:pt x="1144" y="2948"/>
                  </a:lnTo>
                  <a:lnTo>
                    <a:pt x="1135" y="2953"/>
                  </a:lnTo>
                  <a:lnTo>
                    <a:pt x="1123" y="2953"/>
                  </a:lnTo>
                  <a:lnTo>
                    <a:pt x="1112" y="2953"/>
                  </a:lnTo>
                  <a:lnTo>
                    <a:pt x="1103" y="2953"/>
                  </a:lnTo>
                  <a:lnTo>
                    <a:pt x="1106" y="2962"/>
                  </a:lnTo>
                  <a:lnTo>
                    <a:pt x="1114" y="2965"/>
                  </a:lnTo>
                  <a:lnTo>
                    <a:pt x="1123" y="2974"/>
                  </a:lnTo>
                  <a:lnTo>
                    <a:pt x="1114" y="2982"/>
                  </a:lnTo>
                  <a:lnTo>
                    <a:pt x="1117" y="2991"/>
                  </a:lnTo>
                  <a:lnTo>
                    <a:pt x="1126" y="2994"/>
                  </a:lnTo>
                  <a:lnTo>
                    <a:pt x="1114" y="2999"/>
                  </a:lnTo>
                  <a:lnTo>
                    <a:pt x="1106" y="2999"/>
                  </a:lnTo>
                  <a:lnTo>
                    <a:pt x="1117" y="3005"/>
                  </a:lnTo>
                  <a:lnTo>
                    <a:pt x="1132" y="3008"/>
                  </a:lnTo>
                  <a:lnTo>
                    <a:pt x="1135" y="3017"/>
                  </a:lnTo>
                  <a:lnTo>
                    <a:pt x="1126" y="3022"/>
                  </a:lnTo>
                  <a:lnTo>
                    <a:pt x="1126" y="3034"/>
                  </a:lnTo>
                  <a:lnTo>
                    <a:pt x="1126" y="3046"/>
                  </a:lnTo>
                  <a:lnTo>
                    <a:pt x="1126" y="3054"/>
                  </a:lnTo>
                  <a:lnTo>
                    <a:pt x="1135" y="3054"/>
                  </a:lnTo>
                  <a:lnTo>
                    <a:pt x="1144" y="3054"/>
                  </a:lnTo>
                  <a:lnTo>
                    <a:pt x="1155" y="3054"/>
                  </a:lnTo>
                  <a:lnTo>
                    <a:pt x="1164" y="3054"/>
                  </a:lnTo>
                  <a:lnTo>
                    <a:pt x="1167" y="3063"/>
                  </a:lnTo>
                  <a:lnTo>
                    <a:pt x="1179" y="3069"/>
                  </a:lnTo>
                  <a:lnTo>
                    <a:pt x="1187" y="3069"/>
                  </a:lnTo>
                  <a:lnTo>
                    <a:pt x="1190" y="3080"/>
                  </a:lnTo>
                  <a:lnTo>
                    <a:pt x="1193" y="3089"/>
                  </a:lnTo>
                  <a:lnTo>
                    <a:pt x="1199" y="3097"/>
                  </a:lnTo>
                  <a:lnTo>
                    <a:pt x="1211" y="3103"/>
                  </a:lnTo>
                  <a:lnTo>
                    <a:pt x="1219" y="3103"/>
                  </a:lnTo>
                  <a:lnTo>
                    <a:pt x="1231" y="3103"/>
                  </a:lnTo>
                  <a:lnTo>
                    <a:pt x="1240" y="3100"/>
                  </a:lnTo>
                  <a:lnTo>
                    <a:pt x="1243" y="3092"/>
                  </a:lnTo>
                  <a:lnTo>
                    <a:pt x="1248" y="3083"/>
                  </a:lnTo>
                  <a:lnTo>
                    <a:pt x="1257" y="3083"/>
                  </a:lnTo>
                  <a:lnTo>
                    <a:pt x="1278" y="3097"/>
                  </a:lnTo>
                  <a:lnTo>
                    <a:pt x="1286" y="3103"/>
                  </a:lnTo>
                  <a:lnTo>
                    <a:pt x="1289" y="3112"/>
                  </a:lnTo>
                  <a:lnTo>
                    <a:pt x="1295" y="3120"/>
                  </a:lnTo>
                  <a:lnTo>
                    <a:pt x="1301" y="3129"/>
                  </a:lnTo>
                  <a:lnTo>
                    <a:pt x="1312" y="3141"/>
                  </a:lnTo>
                  <a:lnTo>
                    <a:pt x="1324" y="3146"/>
                  </a:lnTo>
                  <a:lnTo>
                    <a:pt x="1336" y="3152"/>
                  </a:lnTo>
                  <a:lnTo>
                    <a:pt x="1347" y="3155"/>
                  </a:lnTo>
                  <a:lnTo>
                    <a:pt x="1356" y="3155"/>
                  </a:lnTo>
                  <a:lnTo>
                    <a:pt x="1365" y="3155"/>
                  </a:lnTo>
                  <a:lnTo>
                    <a:pt x="1374" y="3155"/>
                  </a:lnTo>
                  <a:lnTo>
                    <a:pt x="1376" y="3146"/>
                  </a:lnTo>
                  <a:lnTo>
                    <a:pt x="1385" y="3138"/>
                  </a:lnTo>
                  <a:lnTo>
                    <a:pt x="1391" y="3129"/>
                  </a:lnTo>
                  <a:lnTo>
                    <a:pt x="1400" y="3132"/>
                  </a:lnTo>
                  <a:lnTo>
                    <a:pt x="1409" y="3138"/>
                  </a:lnTo>
                  <a:lnTo>
                    <a:pt x="1417" y="3149"/>
                  </a:lnTo>
                  <a:lnTo>
                    <a:pt x="1429" y="3152"/>
                  </a:lnTo>
                  <a:lnTo>
                    <a:pt x="1435" y="3155"/>
                  </a:lnTo>
                  <a:lnTo>
                    <a:pt x="1438" y="3164"/>
                  </a:lnTo>
                  <a:lnTo>
                    <a:pt x="1441" y="3172"/>
                  </a:lnTo>
                  <a:lnTo>
                    <a:pt x="1449" y="3178"/>
                  </a:lnTo>
                  <a:lnTo>
                    <a:pt x="1458" y="3178"/>
                  </a:lnTo>
                  <a:lnTo>
                    <a:pt x="1464" y="3169"/>
                  </a:lnTo>
                  <a:lnTo>
                    <a:pt x="1464" y="3161"/>
                  </a:lnTo>
                  <a:lnTo>
                    <a:pt x="1470" y="3152"/>
                  </a:lnTo>
                  <a:lnTo>
                    <a:pt x="1478" y="3152"/>
                  </a:lnTo>
                  <a:lnTo>
                    <a:pt x="1487" y="3155"/>
                  </a:lnTo>
                  <a:lnTo>
                    <a:pt x="1499" y="3161"/>
                  </a:lnTo>
                  <a:lnTo>
                    <a:pt x="1510" y="3161"/>
                  </a:lnTo>
                  <a:lnTo>
                    <a:pt x="1519" y="3161"/>
                  </a:lnTo>
                  <a:lnTo>
                    <a:pt x="1528" y="3161"/>
                  </a:lnTo>
                  <a:lnTo>
                    <a:pt x="1537" y="3158"/>
                  </a:lnTo>
                  <a:lnTo>
                    <a:pt x="1545" y="3158"/>
                  </a:lnTo>
                  <a:lnTo>
                    <a:pt x="1554" y="3164"/>
                  </a:lnTo>
                  <a:lnTo>
                    <a:pt x="1569" y="3169"/>
                  </a:lnTo>
                  <a:lnTo>
                    <a:pt x="1580" y="3169"/>
                  </a:lnTo>
                  <a:lnTo>
                    <a:pt x="1592" y="3169"/>
                  </a:lnTo>
                  <a:lnTo>
                    <a:pt x="1601" y="3169"/>
                  </a:lnTo>
                  <a:lnTo>
                    <a:pt x="1609" y="3169"/>
                  </a:lnTo>
                  <a:lnTo>
                    <a:pt x="1618" y="3169"/>
                  </a:lnTo>
                  <a:lnTo>
                    <a:pt x="1627" y="3169"/>
                  </a:lnTo>
                  <a:lnTo>
                    <a:pt x="1636" y="3169"/>
                  </a:lnTo>
                  <a:lnTo>
                    <a:pt x="1644" y="3169"/>
                  </a:lnTo>
                  <a:lnTo>
                    <a:pt x="1653" y="3169"/>
                  </a:lnTo>
                  <a:lnTo>
                    <a:pt x="1662" y="3169"/>
                  </a:lnTo>
                  <a:lnTo>
                    <a:pt x="1671" y="3169"/>
                  </a:lnTo>
                  <a:lnTo>
                    <a:pt x="1679" y="3169"/>
                  </a:lnTo>
                  <a:lnTo>
                    <a:pt x="1688" y="3169"/>
                  </a:lnTo>
                  <a:lnTo>
                    <a:pt x="1703" y="3169"/>
                  </a:lnTo>
                  <a:lnTo>
                    <a:pt x="1714" y="3172"/>
                  </a:lnTo>
                  <a:lnTo>
                    <a:pt x="1726" y="3175"/>
                  </a:lnTo>
                  <a:lnTo>
                    <a:pt x="1735" y="3175"/>
                  </a:lnTo>
                  <a:lnTo>
                    <a:pt x="1743" y="3175"/>
                  </a:lnTo>
                  <a:lnTo>
                    <a:pt x="1758" y="3175"/>
                  </a:lnTo>
                  <a:lnTo>
                    <a:pt x="1767" y="3175"/>
                  </a:lnTo>
                  <a:lnTo>
                    <a:pt x="1772" y="3167"/>
                  </a:lnTo>
                  <a:lnTo>
                    <a:pt x="1772" y="3158"/>
                  </a:lnTo>
                  <a:lnTo>
                    <a:pt x="1772" y="3149"/>
                  </a:lnTo>
                  <a:lnTo>
                    <a:pt x="1772" y="3141"/>
                  </a:lnTo>
                  <a:lnTo>
                    <a:pt x="1772" y="3132"/>
                  </a:lnTo>
                  <a:lnTo>
                    <a:pt x="1772" y="3123"/>
                  </a:lnTo>
                  <a:lnTo>
                    <a:pt x="1772" y="3112"/>
                  </a:lnTo>
                  <a:lnTo>
                    <a:pt x="1770" y="3103"/>
                  </a:lnTo>
                  <a:lnTo>
                    <a:pt x="1770" y="3095"/>
                  </a:lnTo>
                  <a:lnTo>
                    <a:pt x="1770" y="3086"/>
                  </a:lnTo>
                  <a:lnTo>
                    <a:pt x="1778" y="3080"/>
                  </a:lnTo>
                  <a:lnTo>
                    <a:pt x="1787" y="3080"/>
                  </a:lnTo>
                  <a:lnTo>
                    <a:pt x="1796" y="3089"/>
                  </a:lnTo>
                  <a:lnTo>
                    <a:pt x="1802" y="3097"/>
                  </a:lnTo>
                  <a:lnTo>
                    <a:pt x="1813" y="3103"/>
                  </a:lnTo>
                  <a:lnTo>
                    <a:pt x="1825" y="3112"/>
                  </a:lnTo>
                  <a:lnTo>
                    <a:pt x="1854" y="3109"/>
                  </a:lnTo>
                  <a:lnTo>
                    <a:pt x="1836" y="3103"/>
                  </a:lnTo>
                  <a:lnTo>
                    <a:pt x="1854" y="3103"/>
                  </a:lnTo>
                  <a:lnTo>
                    <a:pt x="1863" y="3103"/>
                  </a:lnTo>
                  <a:lnTo>
                    <a:pt x="1871" y="3103"/>
                  </a:lnTo>
                  <a:lnTo>
                    <a:pt x="1880" y="3106"/>
                  </a:lnTo>
                  <a:lnTo>
                    <a:pt x="1889" y="3100"/>
                  </a:lnTo>
                  <a:lnTo>
                    <a:pt x="1898" y="3097"/>
                  </a:lnTo>
                  <a:lnTo>
                    <a:pt x="1906" y="3095"/>
                  </a:lnTo>
                  <a:lnTo>
                    <a:pt x="1918" y="3103"/>
                  </a:lnTo>
                  <a:lnTo>
                    <a:pt x="1924" y="3112"/>
                  </a:lnTo>
                  <a:lnTo>
                    <a:pt x="1924" y="3120"/>
                  </a:lnTo>
                  <a:lnTo>
                    <a:pt x="1921" y="3129"/>
                  </a:lnTo>
                  <a:lnTo>
                    <a:pt x="1924" y="3138"/>
                  </a:lnTo>
                  <a:lnTo>
                    <a:pt x="1933" y="3144"/>
                  </a:lnTo>
                  <a:lnTo>
                    <a:pt x="1944" y="3152"/>
                  </a:lnTo>
                  <a:lnTo>
                    <a:pt x="1947" y="3144"/>
                  </a:lnTo>
                  <a:lnTo>
                    <a:pt x="1947" y="3135"/>
                  </a:lnTo>
                  <a:lnTo>
                    <a:pt x="1947" y="3126"/>
                  </a:lnTo>
                  <a:lnTo>
                    <a:pt x="1947" y="3118"/>
                  </a:lnTo>
                  <a:lnTo>
                    <a:pt x="1956" y="3115"/>
                  </a:lnTo>
                  <a:lnTo>
                    <a:pt x="1962" y="3106"/>
                  </a:lnTo>
                  <a:lnTo>
                    <a:pt x="1962" y="3097"/>
                  </a:lnTo>
                  <a:lnTo>
                    <a:pt x="1962" y="3089"/>
                  </a:lnTo>
                  <a:lnTo>
                    <a:pt x="1962" y="3080"/>
                  </a:lnTo>
                  <a:lnTo>
                    <a:pt x="1962" y="3071"/>
                  </a:lnTo>
                  <a:lnTo>
                    <a:pt x="1967" y="3063"/>
                  </a:lnTo>
                  <a:lnTo>
                    <a:pt x="1976" y="3060"/>
                  </a:lnTo>
                  <a:lnTo>
                    <a:pt x="1988" y="3060"/>
                  </a:lnTo>
                  <a:lnTo>
                    <a:pt x="2002" y="3063"/>
                  </a:lnTo>
                  <a:lnTo>
                    <a:pt x="2011" y="3063"/>
                  </a:lnTo>
                  <a:lnTo>
                    <a:pt x="2002" y="3054"/>
                  </a:lnTo>
                  <a:lnTo>
                    <a:pt x="1994" y="3048"/>
                  </a:lnTo>
                  <a:lnTo>
                    <a:pt x="1979" y="3043"/>
                  </a:lnTo>
                  <a:lnTo>
                    <a:pt x="1967" y="3034"/>
                  </a:lnTo>
                  <a:lnTo>
                    <a:pt x="1962" y="3025"/>
                  </a:lnTo>
                  <a:lnTo>
                    <a:pt x="1959" y="3017"/>
                  </a:lnTo>
                  <a:lnTo>
                    <a:pt x="1956" y="3008"/>
                  </a:lnTo>
                  <a:lnTo>
                    <a:pt x="1950" y="2999"/>
                  </a:lnTo>
                  <a:lnTo>
                    <a:pt x="1944" y="2991"/>
                  </a:lnTo>
                  <a:lnTo>
                    <a:pt x="1938" y="2982"/>
                  </a:lnTo>
                  <a:lnTo>
                    <a:pt x="1933" y="2974"/>
                  </a:lnTo>
                  <a:lnTo>
                    <a:pt x="1927" y="2965"/>
                  </a:lnTo>
                  <a:lnTo>
                    <a:pt x="1924" y="2956"/>
                  </a:lnTo>
                  <a:lnTo>
                    <a:pt x="1921" y="2948"/>
                  </a:lnTo>
                  <a:lnTo>
                    <a:pt x="1918" y="2939"/>
                  </a:lnTo>
                  <a:lnTo>
                    <a:pt x="1915" y="2930"/>
                  </a:lnTo>
                  <a:lnTo>
                    <a:pt x="1912" y="2922"/>
                  </a:lnTo>
                  <a:lnTo>
                    <a:pt x="1915" y="2913"/>
                  </a:lnTo>
                  <a:lnTo>
                    <a:pt x="1915" y="2904"/>
                  </a:lnTo>
                  <a:lnTo>
                    <a:pt x="1915" y="2896"/>
                  </a:lnTo>
                  <a:lnTo>
                    <a:pt x="1915" y="2887"/>
                  </a:lnTo>
                  <a:lnTo>
                    <a:pt x="1912" y="2878"/>
                  </a:lnTo>
                  <a:lnTo>
                    <a:pt x="1909" y="2870"/>
                  </a:lnTo>
                  <a:lnTo>
                    <a:pt x="1903" y="2861"/>
                  </a:lnTo>
                  <a:lnTo>
                    <a:pt x="1895" y="2852"/>
                  </a:lnTo>
                  <a:lnTo>
                    <a:pt x="1892" y="2844"/>
                  </a:lnTo>
                  <a:lnTo>
                    <a:pt x="1892" y="2835"/>
                  </a:lnTo>
                  <a:lnTo>
                    <a:pt x="1898" y="2827"/>
                  </a:lnTo>
                  <a:lnTo>
                    <a:pt x="1906" y="2824"/>
                  </a:lnTo>
                  <a:lnTo>
                    <a:pt x="1918" y="2821"/>
                  </a:lnTo>
                  <a:lnTo>
                    <a:pt x="1930" y="2818"/>
                  </a:lnTo>
                  <a:lnTo>
                    <a:pt x="1938" y="2812"/>
                  </a:lnTo>
                  <a:lnTo>
                    <a:pt x="1944" y="2803"/>
                  </a:lnTo>
                  <a:lnTo>
                    <a:pt x="1953" y="2798"/>
                  </a:lnTo>
                  <a:lnTo>
                    <a:pt x="1962" y="2798"/>
                  </a:lnTo>
                  <a:lnTo>
                    <a:pt x="1970" y="2798"/>
                  </a:lnTo>
                  <a:lnTo>
                    <a:pt x="1976" y="2789"/>
                  </a:lnTo>
                  <a:lnTo>
                    <a:pt x="1982" y="2780"/>
                  </a:lnTo>
                  <a:lnTo>
                    <a:pt x="1991" y="2775"/>
                  </a:lnTo>
                  <a:lnTo>
                    <a:pt x="1999" y="2775"/>
                  </a:lnTo>
                  <a:lnTo>
                    <a:pt x="2008" y="2769"/>
                  </a:lnTo>
                  <a:lnTo>
                    <a:pt x="2017" y="2763"/>
                  </a:lnTo>
                  <a:lnTo>
                    <a:pt x="2026" y="2760"/>
                  </a:lnTo>
                  <a:lnTo>
                    <a:pt x="2034" y="2760"/>
                  </a:lnTo>
                  <a:lnTo>
                    <a:pt x="2043" y="2760"/>
                  </a:lnTo>
                  <a:lnTo>
                    <a:pt x="2052" y="2754"/>
                  </a:lnTo>
                  <a:lnTo>
                    <a:pt x="2061" y="2754"/>
                  </a:lnTo>
                  <a:lnTo>
                    <a:pt x="2069" y="2757"/>
                  </a:lnTo>
                  <a:lnTo>
                    <a:pt x="2078" y="2757"/>
                  </a:lnTo>
                  <a:lnTo>
                    <a:pt x="2093" y="2760"/>
                  </a:lnTo>
                  <a:lnTo>
                    <a:pt x="2101" y="2760"/>
                  </a:lnTo>
                  <a:lnTo>
                    <a:pt x="2101" y="2769"/>
                  </a:lnTo>
                  <a:lnTo>
                    <a:pt x="2101" y="2778"/>
                  </a:lnTo>
                  <a:lnTo>
                    <a:pt x="2101" y="2786"/>
                  </a:lnTo>
                  <a:lnTo>
                    <a:pt x="2104" y="2795"/>
                  </a:lnTo>
                  <a:lnTo>
                    <a:pt x="2104" y="2803"/>
                  </a:lnTo>
                  <a:lnTo>
                    <a:pt x="2104" y="2812"/>
                  </a:lnTo>
                  <a:lnTo>
                    <a:pt x="2104" y="2821"/>
                  </a:lnTo>
                  <a:lnTo>
                    <a:pt x="2104" y="2829"/>
                  </a:lnTo>
                  <a:lnTo>
                    <a:pt x="2104" y="2838"/>
                  </a:lnTo>
                  <a:lnTo>
                    <a:pt x="2096" y="2841"/>
                  </a:lnTo>
                  <a:lnTo>
                    <a:pt x="2087" y="2841"/>
                  </a:lnTo>
                  <a:lnTo>
                    <a:pt x="2078" y="2841"/>
                  </a:lnTo>
                  <a:lnTo>
                    <a:pt x="2069" y="2841"/>
                  </a:lnTo>
                  <a:lnTo>
                    <a:pt x="2061" y="2841"/>
                  </a:lnTo>
                  <a:lnTo>
                    <a:pt x="2069" y="2841"/>
                  </a:lnTo>
                  <a:lnTo>
                    <a:pt x="2078" y="2835"/>
                  </a:lnTo>
                  <a:lnTo>
                    <a:pt x="2090" y="2835"/>
                  </a:lnTo>
                  <a:lnTo>
                    <a:pt x="2081" y="2832"/>
                  </a:lnTo>
                  <a:lnTo>
                    <a:pt x="2072" y="2832"/>
                  </a:lnTo>
                  <a:lnTo>
                    <a:pt x="2064" y="2832"/>
                  </a:lnTo>
                  <a:lnTo>
                    <a:pt x="2058" y="2841"/>
                  </a:lnTo>
                  <a:lnTo>
                    <a:pt x="2049" y="2844"/>
                  </a:lnTo>
                  <a:lnTo>
                    <a:pt x="2040" y="2847"/>
                  </a:lnTo>
                  <a:lnTo>
                    <a:pt x="2040" y="2855"/>
                  </a:lnTo>
                  <a:lnTo>
                    <a:pt x="2040" y="2864"/>
                  </a:lnTo>
                  <a:lnTo>
                    <a:pt x="2032" y="2870"/>
                  </a:lnTo>
                  <a:lnTo>
                    <a:pt x="2020" y="2870"/>
                  </a:lnTo>
                  <a:lnTo>
                    <a:pt x="2017" y="2861"/>
                  </a:lnTo>
                  <a:lnTo>
                    <a:pt x="2008" y="2858"/>
                  </a:lnTo>
                  <a:lnTo>
                    <a:pt x="2002" y="2867"/>
                  </a:lnTo>
                  <a:lnTo>
                    <a:pt x="2002" y="2876"/>
                  </a:lnTo>
                  <a:lnTo>
                    <a:pt x="2011" y="2878"/>
                  </a:lnTo>
                  <a:lnTo>
                    <a:pt x="2020" y="2884"/>
                  </a:lnTo>
                  <a:lnTo>
                    <a:pt x="2029" y="2896"/>
                  </a:lnTo>
                  <a:lnTo>
                    <a:pt x="2034" y="2907"/>
                  </a:lnTo>
                  <a:lnTo>
                    <a:pt x="2037" y="2916"/>
                  </a:lnTo>
                  <a:lnTo>
                    <a:pt x="2037" y="2925"/>
                  </a:lnTo>
                  <a:lnTo>
                    <a:pt x="2040" y="2933"/>
                  </a:lnTo>
                  <a:lnTo>
                    <a:pt x="2040" y="2942"/>
                  </a:lnTo>
                  <a:lnTo>
                    <a:pt x="2052" y="2945"/>
                  </a:lnTo>
                  <a:lnTo>
                    <a:pt x="2061" y="2953"/>
                  </a:lnTo>
                  <a:lnTo>
                    <a:pt x="2069" y="2959"/>
                  </a:lnTo>
                  <a:lnTo>
                    <a:pt x="2078" y="2965"/>
                  </a:lnTo>
                  <a:lnTo>
                    <a:pt x="2087" y="2965"/>
                  </a:lnTo>
                  <a:lnTo>
                    <a:pt x="2093" y="2976"/>
                  </a:lnTo>
                  <a:lnTo>
                    <a:pt x="2087" y="2985"/>
                  </a:lnTo>
                  <a:lnTo>
                    <a:pt x="2084" y="2994"/>
                  </a:lnTo>
                  <a:lnTo>
                    <a:pt x="2084" y="3005"/>
                  </a:lnTo>
                  <a:lnTo>
                    <a:pt x="2090" y="3017"/>
                  </a:lnTo>
                  <a:lnTo>
                    <a:pt x="2090" y="3025"/>
                  </a:lnTo>
                  <a:lnTo>
                    <a:pt x="2093" y="3017"/>
                  </a:lnTo>
                  <a:lnTo>
                    <a:pt x="2093" y="3008"/>
                  </a:lnTo>
                  <a:lnTo>
                    <a:pt x="2096" y="2999"/>
                  </a:lnTo>
                  <a:lnTo>
                    <a:pt x="2096" y="2991"/>
                  </a:lnTo>
                  <a:lnTo>
                    <a:pt x="2104" y="2988"/>
                  </a:lnTo>
                  <a:lnTo>
                    <a:pt x="2113" y="2988"/>
                  </a:lnTo>
                  <a:lnTo>
                    <a:pt x="2125" y="2988"/>
                  </a:lnTo>
                  <a:lnTo>
                    <a:pt x="2130" y="2999"/>
                  </a:lnTo>
                  <a:lnTo>
                    <a:pt x="2130" y="3008"/>
                  </a:lnTo>
                  <a:lnTo>
                    <a:pt x="2133" y="3017"/>
                  </a:lnTo>
                  <a:lnTo>
                    <a:pt x="2139" y="3028"/>
                  </a:lnTo>
                  <a:lnTo>
                    <a:pt x="2148" y="3034"/>
                  </a:lnTo>
                  <a:lnTo>
                    <a:pt x="2160" y="3040"/>
                  </a:lnTo>
                  <a:lnTo>
                    <a:pt x="2151" y="3043"/>
                  </a:lnTo>
                  <a:lnTo>
                    <a:pt x="2148" y="3051"/>
                  </a:lnTo>
                  <a:lnTo>
                    <a:pt x="2133" y="3054"/>
                  </a:lnTo>
                  <a:lnTo>
                    <a:pt x="2125" y="3051"/>
                  </a:lnTo>
                  <a:lnTo>
                    <a:pt x="2116" y="3051"/>
                  </a:lnTo>
                  <a:lnTo>
                    <a:pt x="2101" y="3046"/>
                  </a:lnTo>
                  <a:lnTo>
                    <a:pt x="2093" y="3037"/>
                  </a:lnTo>
                  <a:lnTo>
                    <a:pt x="2090" y="3046"/>
                  </a:lnTo>
                  <a:lnTo>
                    <a:pt x="2090" y="3054"/>
                  </a:lnTo>
                  <a:lnTo>
                    <a:pt x="2090" y="3063"/>
                  </a:lnTo>
                  <a:lnTo>
                    <a:pt x="2090" y="3071"/>
                  </a:lnTo>
                  <a:lnTo>
                    <a:pt x="2087" y="3080"/>
                  </a:lnTo>
                  <a:lnTo>
                    <a:pt x="2084" y="3089"/>
                  </a:lnTo>
                  <a:lnTo>
                    <a:pt x="2084" y="3097"/>
                  </a:lnTo>
                  <a:lnTo>
                    <a:pt x="2096" y="3097"/>
                  </a:lnTo>
                  <a:lnTo>
                    <a:pt x="2104" y="3092"/>
                  </a:lnTo>
                  <a:lnTo>
                    <a:pt x="2110" y="3100"/>
                  </a:lnTo>
                  <a:lnTo>
                    <a:pt x="2107" y="3109"/>
                  </a:lnTo>
                  <a:lnTo>
                    <a:pt x="2098" y="3118"/>
                  </a:lnTo>
                  <a:lnTo>
                    <a:pt x="2090" y="3123"/>
                  </a:lnTo>
                  <a:lnTo>
                    <a:pt x="2087" y="3109"/>
                  </a:lnTo>
                  <a:lnTo>
                    <a:pt x="2087" y="3132"/>
                  </a:lnTo>
                  <a:lnTo>
                    <a:pt x="2096" y="3126"/>
                  </a:lnTo>
                  <a:lnTo>
                    <a:pt x="2087" y="3109"/>
                  </a:lnTo>
                  <a:lnTo>
                    <a:pt x="2104" y="3112"/>
                  </a:lnTo>
                  <a:lnTo>
                    <a:pt x="2110" y="3103"/>
                  </a:lnTo>
                  <a:lnTo>
                    <a:pt x="2110" y="3112"/>
                  </a:lnTo>
                  <a:lnTo>
                    <a:pt x="2110" y="3120"/>
                  </a:lnTo>
                  <a:lnTo>
                    <a:pt x="2116" y="3129"/>
                  </a:lnTo>
                  <a:lnTo>
                    <a:pt x="2119" y="3138"/>
                  </a:lnTo>
                  <a:lnTo>
                    <a:pt x="2122" y="3149"/>
                  </a:lnTo>
                  <a:lnTo>
                    <a:pt x="2122" y="3158"/>
                  </a:lnTo>
                  <a:lnTo>
                    <a:pt x="2125" y="3167"/>
                  </a:lnTo>
                  <a:lnTo>
                    <a:pt x="2125" y="3175"/>
                  </a:lnTo>
                  <a:lnTo>
                    <a:pt x="2125" y="3184"/>
                  </a:lnTo>
                  <a:lnTo>
                    <a:pt x="2125" y="3193"/>
                  </a:lnTo>
                  <a:lnTo>
                    <a:pt x="2128" y="3201"/>
                  </a:lnTo>
                  <a:lnTo>
                    <a:pt x="2130" y="3210"/>
                  </a:lnTo>
                  <a:lnTo>
                    <a:pt x="2139" y="3210"/>
                  </a:lnTo>
                  <a:lnTo>
                    <a:pt x="2148" y="3210"/>
                  </a:lnTo>
                  <a:lnTo>
                    <a:pt x="2157" y="3207"/>
                  </a:lnTo>
                  <a:lnTo>
                    <a:pt x="2163" y="3198"/>
                  </a:lnTo>
                  <a:lnTo>
                    <a:pt x="2171" y="3195"/>
                  </a:lnTo>
                  <a:lnTo>
                    <a:pt x="2183" y="3193"/>
                  </a:lnTo>
                  <a:lnTo>
                    <a:pt x="2192" y="3190"/>
                  </a:lnTo>
                  <a:lnTo>
                    <a:pt x="2200" y="3184"/>
                  </a:lnTo>
                  <a:lnTo>
                    <a:pt x="2209" y="3181"/>
                  </a:lnTo>
                  <a:lnTo>
                    <a:pt x="2218" y="3181"/>
                  </a:lnTo>
                  <a:lnTo>
                    <a:pt x="2224" y="3172"/>
                  </a:lnTo>
                  <a:lnTo>
                    <a:pt x="2232" y="3169"/>
                  </a:lnTo>
                  <a:lnTo>
                    <a:pt x="2241" y="3169"/>
                  </a:lnTo>
                  <a:lnTo>
                    <a:pt x="2256" y="3169"/>
                  </a:lnTo>
                  <a:lnTo>
                    <a:pt x="2264" y="3169"/>
                  </a:lnTo>
                  <a:lnTo>
                    <a:pt x="2276" y="3178"/>
                  </a:lnTo>
                  <a:lnTo>
                    <a:pt x="2288" y="3184"/>
                  </a:lnTo>
                  <a:lnTo>
                    <a:pt x="2296" y="3187"/>
                  </a:lnTo>
                  <a:lnTo>
                    <a:pt x="2308" y="3190"/>
                  </a:lnTo>
                  <a:lnTo>
                    <a:pt x="2317" y="3195"/>
                  </a:lnTo>
                  <a:lnTo>
                    <a:pt x="2328" y="3198"/>
                  </a:lnTo>
                  <a:lnTo>
                    <a:pt x="2340" y="3201"/>
                  </a:lnTo>
                  <a:lnTo>
                    <a:pt x="2349" y="3207"/>
                  </a:lnTo>
                  <a:lnTo>
                    <a:pt x="2358" y="3216"/>
                  </a:lnTo>
                  <a:lnTo>
                    <a:pt x="2366" y="3221"/>
                  </a:lnTo>
                  <a:lnTo>
                    <a:pt x="2375" y="3227"/>
                  </a:lnTo>
                  <a:lnTo>
                    <a:pt x="2387" y="3230"/>
                  </a:lnTo>
                  <a:lnTo>
                    <a:pt x="2395" y="3230"/>
                  </a:lnTo>
                  <a:lnTo>
                    <a:pt x="2404" y="3230"/>
                  </a:lnTo>
                  <a:lnTo>
                    <a:pt x="2407" y="3239"/>
                  </a:lnTo>
                  <a:lnTo>
                    <a:pt x="2407" y="3247"/>
                  </a:lnTo>
                  <a:lnTo>
                    <a:pt x="2413" y="3256"/>
                  </a:lnTo>
                  <a:lnTo>
                    <a:pt x="2422" y="3262"/>
                  </a:lnTo>
                  <a:lnTo>
                    <a:pt x="2436" y="3265"/>
                  </a:lnTo>
                  <a:lnTo>
                    <a:pt x="2451" y="3270"/>
                  </a:lnTo>
                  <a:lnTo>
                    <a:pt x="2457" y="3279"/>
                  </a:lnTo>
                  <a:lnTo>
                    <a:pt x="2457" y="3288"/>
                  </a:lnTo>
                  <a:lnTo>
                    <a:pt x="2468" y="3291"/>
                  </a:lnTo>
                  <a:lnTo>
                    <a:pt x="2483" y="3288"/>
                  </a:lnTo>
                  <a:lnTo>
                    <a:pt x="2491" y="3285"/>
                  </a:lnTo>
                  <a:lnTo>
                    <a:pt x="2500" y="3276"/>
                  </a:lnTo>
                  <a:lnTo>
                    <a:pt x="2509" y="3270"/>
                  </a:lnTo>
                  <a:lnTo>
                    <a:pt x="2515" y="3262"/>
                  </a:lnTo>
                  <a:lnTo>
                    <a:pt x="2521" y="3253"/>
                  </a:lnTo>
                  <a:lnTo>
                    <a:pt x="2526" y="3244"/>
                  </a:lnTo>
                  <a:lnTo>
                    <a:pt x="2532" y="3236"/>
                  </a:lnTo>
                  <a:lnTo>
                    <a:pt x="2535" y="3227"/>
                  </a:lnTo>
                  <a:lnTo>
                    <a:pt x="2541" y="3218"/>
                  </a:lnTo>
                  <a:lnTo>
                    <a:pt x="2544" y="3210"/>
                  </a:lnTo>
                  <a:lnTo>
                    <a:pt x="2544" y="3198"/>
                  </a:lnTo>
                  <a:lnTo>
                    <a:pt x="2544" y="3190"/>
                  </a:lnTo>
                  <a:lnTo>
                    <a:pt x="2553" y="3181"/>
                  </a:lnTo>
                  <a:lnTo>
                    <a:pt x="2567" y="3181"/>
                  </a:lnTo>
                  <a:lnTo>
                    <a:pt x="2599" y="3155"/>
                  </a:lnTo>
                  <a:lnTo>
                    <a:pt x="2599" y="3164"/>
                  </a:lnTo>
                  <a:lnTo>
                    <a:pt x="2608" y="3169"/>
                  </a:lnTo>
                  <a:lnTo>
                    <a:pt x="2617" y="3178"/>
                  </a:lnTo>
                  <a:lnTo>
                    <a:pt x="2625" y="3181"/>
                  </a:lnTo>
                  <a:lnTo>
                    <a:pt x="2634" y="3178"/>
                  </a:lnTo>
                  <a:lnTo>
                    <a:pt x="2643" y="3172"/>
                  </a:lnTo>
                  <a:lnTo>
                    <a:pt x="2657" y="3169"/>
                  </a:lnTo>
                  <a:lnTo>
                    <a:pt x="2666" y="3169"/>
                  </a:lnTo>
                  <a:lnTo>
                    <a:pt x="2675" y="3169"/>
                  </a:lnTo>
                  <a:lnTo>
                    <a:pt x="2684" y="3164"/>
                  </a:lnTo>
                  <a:lnTo>
                    <a:pt x="2692" y="3155"/>
                  </a:lnTo>
                  <a:lnTo>
                    <a:pt x="2739" y="3155"/>
                  </a:lnTo>
                  <a:lnTo>
                    <a:pt x="2733" y="3138"/>
                  </a:lnTo>
                  <a:lnTo>
                    <a:pt x="2733" y="3126"/>
                  </a:lnTo>
                  <a:lnTo>
                    <a:pt x="2730" y="3118"/>
                  </a:lnTo>
                  <a:lnTo>
                    <a:pt x="2739" y="3112"/>
                  </a:lnTo>
                  <a:lnTo>
                    <a:pt x="2748" y="3106"/>
                  </a:lnTo>
                  <a:lnTo>
                    <a:pt x="2753" y="3097"/>
                  </a:lnTo>
                  <a:lnTo>
                    <a:pt x="2762" y="3092"/>
                  </a:lnTo>
                  <a:lnTo>
                    <a:pt x="2771" y="3092"/>
                  </a:lnTo>
                  <a:lnTo>
                    <a:pt x="2780" y="3095"/>
                  </a:lnTo>
                  <a:lnTo>
                    <a:pt x="2783" y="3103"/>
                  </a:lnTo>
                  <a:lnTo>
                    <a:pt x="2786" y="3112"/>
                  </a:lnTo>
                  <a:lnTo>
                    <a:pt x="2786" y="3126"/>
                  </a:lnTo>
                  <a:lnTo>
                    <a:pt x="2788" y="3135"/>
                  </a:lnTo>
                  <a:lnTo>
                    <a:pt x="2791" y="3144"/>
                  </a:lnTo>
                  <a:lnTo>
                    <a:pt x="2794" y="3152"/>
                  </a:lnTo>
                  <a:lnTo>
                    <a:pt x="2800" y="3161"/>
                  </a:lnTo>
                  <a:lnTo>
                    <a:pt x="2809" y="3167"/>
                  </a:lnTo>
                  <a:lnTo>
                    <a:pt x="2818" y="3167"/>
                  </a:lnTo>
                  <a:lnTo>
                    <a:pt x="2826" y="3167"/>
                  </a:lnTo>
                  <a:lnTo>
                    <a:pt x="2832" y="3158"/>
                  </a:lnTo>
                  <a:lnTo>
                    <a:pt x="2841" y="3152"/>
                  </a:lnTo>
                  <a:lnTo>
                    <a:pt x="2844" y="3144"/>
                  </a:lnTo>
                  <a:lnTo>
                    <a:pt x="2847" y="3135"/>
                  </a:lnTo>
                  <a:lnTo>
                    <a:pt x="2850" y="3123"/>
                  </a:lnTo>
                  <a:lnTo>
                    <a:pt x="2858" y="3115"/>
                  </a:lnTo>
                  <a:lnTo>
                    <a:pt x="2870" y="3115"/>
                  </a:lnTo>
                  <a:lnTo>
                    <a:pt x="2879" y="3115"/>
                  </a:lnTo>
                  <a:lnTo>
                    <a:pt x="2887" y="3115"/>
                  </a:lnTo>
                  <a:lnTo>
                    <a:pt x="2896" y="3115"/>
                  </a:lnTo>
                  <a:lnTo>
                    <a:pt x="2902" y="3106"/>
                  </a:lnTo>
                  <a:lnTo>
                    <a:pt x="2914" y="3103"/>
                  </a:lnTo>
                  <a:lnTo>
                    <a:pt x="2922" y="3103"/>
                  </a:lnTo>
                  <a:lnTo>
                    <a:pt x="2925" y="3095"/>
                  </a:lnTo>
                  <a:lnTo>
                    <a:pt x="2925" y="3086"/>
                  </a:lnTo>
                  <a:lnTo>
                    <a:pt x="2922" y="3077"/>
                  </a:lnTo>
                  <a:lnTo>
                    <a:pt x="2917" y="3066"/>
                  </a:lnTo>
                  <a:lnTo>
                    <a:pt x="2911" y="3057"/>
                  </a:lnTo>
                  <a:lnTo>
                    <a:pt x="2905" y="3048"/>
                  </a:lnTo>
                  <a:lnTo>
                    <a:pt x="2896" y="3046"/>
                  </a:lnTo>
                  <a:lnTo>
                    <a:pt x="2887" y="3048"/>
                  </a:lnTo>
                  <a:lnTo>
                    <a:pt x="2879" y="3051"/>
                  </a:lnTo>
                  <a:lnTo>
                    <a:pt x="2876" y="3060"/>
                  </a:lnTo>
                  <a:lnTo>
                    <a:pt x="2873" y="3069"/>
                  </a:lnTo>
                  <a:lnTo>
                    <a:pt x="2864" y="3066"/>
                  </a:lnTo>
                  <a:lnTo>
                    <a:pt x="2861" y="3054"/>
                  </a:lnTo>
                  <a:lnTo>
                    <a:pt x="2858" y="3043"/>
                  </a:lnTo>
                  <a:lnTo>
                    <a:pt x="2858" y="3034"/>
                  </a:lnTo>
                  <a:lnTo>
                    <a:pt x="2855" y="3025"/>
                  </a:lnTo>
                  <a:lnTo>
                    <a:pt x="2850" y="3017"/>
                  </a:lnTo>
                  <a:lnTo>
                    <a:pt x="2850" y="3008"/>
                  </a:lnTo>
                  <a:lnTo>
                    <a:pt x="2850" y="2997"/>
                  </a:lnTo>
                  <a:lnTo>
                    <a:pt x="2850" y="2988"/>
                  </a:lnTo>
                  <a:lnTo>
                    <a:pt x="2858" y="2982"/>
                  </a:lnTo>
                  <a:lnTo>
                    <a:pt x="2867" y="2982"/>
                  </a:lnTo>
                  <a:lnTo>
                    <a:pt x="2876" y="2979"/>
                  </a:lnTo>
                  <a:lnTo>
                    <a:pt x="2884" y="2974"/>
                  </a:lnTo>
                  <a:lnTo>
                    <a:pt x="2887" y="2962"/>
                  </a:lnTo>
                  <a:lnTo>
                    <a:pt x="2896" y="2962"/>
                  </a:lnTo>
                  <a:lnTo>
                    <a:pt x="2905" y="2962"/>
                  </a:lnTo>
                  <a:lnTo>
                    <a:pt x="2914" y="2962"/>
                  </a:lnTo>
                  <a:lnTo>
                    <a:pt x="2922" y="2959"/>
                  </a:lnTo>
                  <a:lnTo>
                    <a:pt x="2931" y="2956"/>
                  </a:lnTo>
                  <a:lnTo>
                    <a:pt x="2937" y="2948"/>
                  </a:lnTo>
                  <a:lnTo>
                    <a:pt x="2943" y="2939"/>
                  </a:lnTo>
                  <a:lnTo>
                    <a:pt x="2946" y="2930"/>
                  </a:lnTo>
                  <a:lnTo>
                    <a:pt x="2954" y="2925"/>
                  </a:lnTo>
                  <a:lnTo>
                    <a:pt x="2963" y="2919"/>
                  </a:lnTo>
                  <a:lnTo>
                    <a:pt x="2972" y="2916"/>
                  </a:lnTo>
                  <a:lnTo>
                    <a:pt x="2981" y="2913"/>
                  </a:lnTo>
                  <a:lnTo>
                    <a:pt x="2983" y="2904"/>
                  </a:lnTo>
                  <a:lnTo>
                    <a:pt x="2989" y="2893"/>
                  </a:lnTo>
                  <a:lnTo>
                    <a:pt x="2998" y="2881"/>
                  </a:lnTo>
                  <a:lnTo>
                    <a:pt x="3004" y="2873"/>
                  </a:lnTo>
                  <a:lnTo>
                    <a:pt x="3010" y="2864"/>
                  </a:lnTo>
                  <a:lnTo>
                    <a:pt x="3018" y="2858"/>
                  </a:lnTo>
                  <a:lnTo>
                    <a:pt x="3027" y="2852"/>
                  </a:lnTo>
                  <a:lnTo>
                    <a:pt x="3036" y="2847"/>
                  </a:lnTo>
                  <a:lnTo>
                    <a:pt x="3045" y="2847"/>
                  </a:lnTo>
                  <a:lnTo>
                    <a:pt x="3053" y="2844"/>
                  </a:lnTo>
                  <a:lnTo>
                    <a:pt x="3053" y="2835"/>
                  </a:lnTo>
                  <a:lnTo>
                    <a:pt x="3053" y="2827"/>
                  </a:lnTo>
                  <a:lnTo>
                    <a:pt x="3053" y="2818"/>
                  </a:lnTo>
                  <a:lnTo>
                    <a:pt x="3053" y="2809"/>
                  </a:lnTo>
                  <a:lnTo>
                    <a:pt x="3050" y="2801"/>
                  </a:lnTo>
                  <a:lnTo>
                    <a:pt x="3045" y="2789"/>
                  </a:lnTo>
                  <a:lnTo>
                    <a:pt x="3045" y="2780"/>
                  </a:lnTo>
                  <a:lnTo>
                    <a:pt x="3045" y="2772"/>
                  </a:lnTo>
                  <a:lnTo>
                    <a:pt x="3045" y="2763"/>
                  </a:lnTo>
                  <a:lnTo>
                    <a:pt x="3036" y="2754"/>
                  </a:lnTo>
                  <a:lnTo>
                    <a:pt x="3027" y="2743"/>
                  </a:lnTo>
                  <a:lnTo>
                    <a:pt x="3024" y="2734"/>
                  </a:lnTo>
                  <a:lnTo>
                    <a:pt x="3021" y="2726"/>
                  </a:lnTo>
                  <a:lnTo>
                    <a:pt x="3018" y="2717"/>
                  </a:lnTo>
                  <a:lnTo>
                    <a:pt x="3010" y="2708"/>
                  </a:lnTo>
                  <a:lnTo>
                    <a:pt x="3001" y="2705"/>
                  </a:lnTo>
                  <a:lnTo>
                    <a:pt x="3001" y="2697"/>
                  </a:lnTo>
                  <a:lnTo>
                    <a:pt x="3010" y="2694"/>
                  </a:lnTo>
                  <a:lnTo>
                    <a:pt x="3018" y="2688"/>
                  </a:lnTo>
                  <a:lnTo>
                    <a:pt x="3027" y="2682"/>
                  </a:lnTo>
                  <a:lnTo>
                    <a:pt x="3030" y="2674"/>
                  </a:lnTo>
                  <a:lnTo>
                    <a:pt x="3039" y="2665"/>
                  </a:lnTo>
                  <a:lnTo>
                    <a:pt x="3045" y="2657"/>
                  </a:lnTo>
                  <a:lnTo>
                    <a:pt x="3056" y="2659"/>
                  </a:lnTo>
                  <a:lnTo>
                    <a:pt x="3065" y="2665"/>
                  </a:lnTo>
                  <a:lnTo>
                    <a:pt x="3074" y="2665"/>
                  </a:lnTo>
                  <a:lnTo>
                    <a:pt x="3077" y="2657"/>
                  </a:lnTo>
                  <a:lnTo>
                    <a:pt x="3077" y="2645"/>
                  </a:lnTo>
                  <a:lnTo>
                    <a:pt x="3077" y="2636"/>
                  </a:lnTo>
                  <a:lnTo>
                    <a:pt x="3077" y="2628"/>
                  </a:lnTo>
                  <a:lnTo>
                    <a:pt x="3071" y="2619"/>
                  </a:lnTo>
                  <a:lnTo>
                    <a:pt x="3062" y="2613"/>
                  </a:lnTo>
                  <a:lnTo>
                    <a:pt x="3056" y="2605"/>
                  </a:lnTo>
                  <a:lnTo>
                    <a:pt x="3056" y="2596"/>
                  </a:lnTo>
                  <a:lnTo>
                    <a:pt x="3053" y="2582"/>
                  </a:lnTo>
                  <a:lnTo>
                    <a:pt x="3053" y="2573"/>
                  </a:lnTo>
                  <a:lnTo>
                    <a:pt x="3062" y="2567"/>
                  </a:lnTo>
                  <a:lnTo>
                    <a:pt x="3071" y="2567"/>
                  </a:lnTo>
                  <a:lnTo>
                    <a:pt x="3080" y="2564"/>
                  </a:lnTo>
                  <a:lnTo>
                    <a:pt x="3088" y="2564"/>
                  </a:lnTo>
                  <a:lnTo>
                    <a:pt x="3097" y="2561"/>
                  </a:lnTo>
                  <a:lnTo>
                    <a:pt x="3109" y="2556"/>
                  </a:lnTo>
                  <a:lnTo>
                    <a:pt x="3117" y="2547"/>
                  </a:lnTo>
                  <a:lnTo>
                    <a:pt x="3120" y="2538"/>
                  </a:lnTo>
                  <a:lnTo>
                    <a:pt x="3120" y="2530"/>
                  </a:lnTo>
                  <a:lnTo>
                    <a:pt x="3120" y="2521"/>
                  </a:lnTo>
                  <a:lnTo>
                    <a:pt x="3120" y="2512"/>
                  </a:lnTo>
                  <a:lnTo>
                    <a:pt x="3114" y="2501"/>
                  </a:lnTo>
                  <a:lnTo>
                    <a:pt x="3112" y="2489"/>
                  </a:lnTo>
                  <a:lnTo>
                    <a:pt x="3112" y="2481"/>
                  </a:lnTo>
                  <a:lnTo>
                    <a:pt x="3112" y="2472"/>
                  </a:lnTo>
                  <a:lnTo>
                    <a:pt x="3120" y="2463"/>
                  </a:lnTo>
                  <a:lnTo>
                    <a:pt x="3129" y="2461"/>
                  </a:lnTo>
                  <a:lnTo>
                    <a:pt x="3135" y="2452"/>
                  </a:lnTo>
                  <a:lnTo>
                    <a:pt x="3135" y="2443"/>
                  </a:lnTo>
                  <a:lnTo>
                    <a:pt x="3135" y="2435"/>
                  </a:lnTo>
                  <a:lnTo>
                    <a:pt x="3144" y="2429"/>
                  </a:lnTo>
                  <a:lnTo>
                    <a:pt x="3152" y="2420"/>
                  </a:lnTo>
                  <a:lnTo>
                    <a:pt x="3155" y="2412"/>
                  </a:lnTo>
                  <a:lnTo>
                    <a:pt x="3158" y="2403"/>
                  </a:lnTo>
                  <a:lnTo>
                    <a:pt x="3167" y="2394"/>
                  </a:lnTo>
                  <a:lnTo>
                    <a:pt x="3176" y="2386"/>
                  </a:lnTo>
                  <a:lnTo>
                    <a:pt x="3184" y="2380"/>
                  </a:lnTo>
                  <a:lnTo>
                    <a:pt x="3184" y="2371"/>
                  </a:lnTo>
                  <a:lnTo>
                    <a:pt x="3187" y="2363"/>
                  </a:lnTo>
                  <a:lnTo>
                    <a:pt x="3193" y="2354"/>
                  </a:lnTo>
                  <a:lnTo>
                    <a:pt x="3202" y="2348"/>
                  </a:lnTo>
                  <a:lnTo>
                    <a:pt x="3208" y="2340"/>
                  </a:lnTo>
                  <a:lnTo>
                    <a:pt x="3213" y="2331"/>
                  </a:lnTo>
                  <a:lnTo>
                    <a:pt x="3216" y="2322"/>
                  </a:lnTo>
                  <a:lnTo>
                    <a:pt x="3219" y="2314"/>
                  </a:lnTo>
                  <a:lnTo>
                    <a:pt x="3222" y="2305"/>
                  </a:lnTo>
                  <a:lnTo>
                    <a:pt x="3228" y="2296"/>
                  </a:lnTo>
                  <a:lnTo>
                    <a:pt x="3237" y="2291"/>
                  </a:lnTo>
                  <a:lnTo>
                    <a:pt x="3245" y="2291"/>
                  </a:lnTo>
                  <a:lnTo>
                    <a:pt x="3254" y="2285"/>
                  </a:lnTo>
                  <a:lnTo>
                    <a:pt x="3263" y="2282"/>
                  </a:lnTo>
                  <a:lnTo>
                    <a:pt x="3272" y="2279"/>
                  </a:lnTo>
                  <a:lnTo>
                    <a:pt x="3280" y="2279"/>
                  </a:lnTo>
                  <a:lnTo>
                    <a:pt x="3289" y="2276"/>
                  </a:lnTo>
                  <a:lnTo>
                    <a:pt x="3298" y="2273"/>
                  </a:lnTo>
                  <a:lnTo>
                    <a:pt x="3307" y="2273"/>
                  </a:lnTo>
                  <a:lnTo>
                    <a:pt x="3318" y="2276"/>
                  </a:lnTo>
                  <a:lnTo>
                    <a:pt x="3327" y="2276"/>
                  </a:lnTo>
                  <a:lnTo>
                    <a:pt x="3336" y="2276"/>
                  </a:lnTo>
                  <a:lnTo>
                    <a:pt x="3344" y="2276"/>
                  </a:lnTo>
                  <a:lnTo>
                    <a:pt x="3344" y="2279"/>
                  </a:lnTo>
                  <a:lnTo>
                    <a:pt x="3356" y="2265"/>
                  </a:lnTo>
                  <a:lnTo>
                    <a:pt x="3365" y="2265"/>
                  </a:lnTo>
                  <a:lnTo>
                    <a:pt x="3374" y="2259"/>
                  </a:lnTo>
                  <a:lnTo>
                    <a:pt x="3382" y="2253"/>
                  </a:lnTo>
                  <a:lnTo>
                    <a:pt x="3385" y="2244"/>
                  </a:lnTo>
                  <a:lnTo>
                    <a:pt x="3391" y="2233"/>
                  </a:lnTo>
                  <a:lnTo>
                    <a:pt x="3400" y="2224"/>
                  </a:lnTo>
                  <a:lnTo>
                    <a:pt x="3397" y="2216"/>
                  </a:lnTo>
                  <a:lnTo>
                    <a:pt x="3391" y="2207"/>
                  </a:lnTo>
                  <a:lnTo>
                    <a:pt x="3382" y="2201"/>
                  </a:lnTo>
                  <a:lnTo>
                    <a:pt x="3376" y="2193"/>
                  </a:lnTo>
                  <a:lnTo>
                    <a:pt x="3368" y="2184"/>
                  </a:lnTo>
                  <a:lnTo>
                    <a:pt x="3362" y="2172"/>
                  </a:lnTo>
                  <a:lnTo>
                    <a:pt x="3356" y="2164"/>
                  </a:lnTo>
                  <a:lnTo>
                    <a:pt x="3356" y="2155"/>
                  </a:lnTo>
                  <a:lnTo>
                    <a:pt x="3356" y="2146"/>
                  </a:lnTo>
                  <a:lnTo>
                    <a:pt x="3368" y="2141"/>
                  </a:lnTo>
                  <a:lnTo>
                    <a:pt x="3376" y="2138"/>
                  </a:lnTo>
                  <a:lnTo>
                    <a:pt x="3385" y="2135"/>
                  </a:lnTo>
                  <a:lnTo>
                    <a:pt x="3394" y="2126"/>
                  </a:lnTo>
                  <a:lnTo>
                    <a:pt x="3400" y="2118"/>
                  </a:lnTo>
                  <a:lnTo>
                    <a:pt x="3406" y="2109"/>
                  </a:lnTo>
                  <a:lnTo>
                    <a:pt x="3414" y="2106"/>
                  </a:lnTo>
                  <a:lnTo>
                    <a:pt x="3426" y="2106"/>
                  </a:lnTo>
                  <a:lnTo>
                    <a:pt x="3435" y="2106"/>
                  </a:lnTo>
                  <a:lnTo>
                    <a:pt x="3443" y="2106"/>
                  </a:lnTo>
                  <a:lnTo>
                    <a:pt x="3452" y="2103"/>
                  </a:lnTo>
                  <a:lnTo>
                    <a:pt x="3461" y="2103"/>
                  </a:lnTo>
                  <a:lnTo>
                    <a:pt x="3470" y="2103"/>
                  </a:lnTo>
                  <a:lnTo>
                    <a:pt x="3478" y="2112"/>
                  </a:lnTo>
                  <a:lnTo>
                    <a:pt x="3484" y="2120"/>
                  </a:lnTo>
                  <a:lnTo>
                    <a:pt x="3493" y="2126"/>
                  </a:lnTo>
                  <a:lnTo>
                    <a:pt x="3502" y="2129"/>
                  </a:lnTo>
                  <a:lnTo>
                    <a:pt x="3510" y="2129"/>
                  </a:lnTo>
                  <a:lnTo>
                    <a:pt x="3519" y="2129"/>
                  </a:lnTo>
                  <a:lnTo>
                    <a:pt x="3528" y="2126"/>
                  </a:lnTo>
                  <a:lnTo>
                    <a:pt x="3537" y="2118"/>
                  </a:lnTo>
                  <a:lnTo>
                    <a:pt x="3542" y="2109"/>
                  </a:lnTo>
                  <a:lnTo>
                    <a:pt x="3548" y="2100"/>
                  </a:lnTo>
                  <a:lnTo>
                    <a:pt x="3551" y="2089"/>
                  </a:lnTo>
                  <a:lnTo>
                    <a:pt x="3554" y="2080"/>
                  </a:lnTo>
                  <a:lnTo>
                    <a:pt x="3563" y="2072"/>
                  </a:lnTo>
                  <a:lnTo>
                    <a:pt x="3572" y="2072"/>
                  </a:lnTo>
                  <a:lnTo>
                    <a:pt x="3583" y="2063"/>
                  </a:lnTo>
                  <a:lnTo>
                    <a:pt x="3589" y="2054"/>
                  </a:lnTo>
                  <a:lnTo>
                    <a:pt x="3595" y="2046"/>
                  </a:lnTo>
                  <a:lnTo>
                    <a:pt x="3604" y="2040"/>
                  </a:lnTo>
                  <a:lnTo>
                    <a:pt x="3612" y="2040"/>
                  </a:lnTo>
                  <a:lnTo>
                    <a:pt x="3621" y="2040"/>
                  </a:lnTo>
                  <a:lnTo>
                    <a:pt x="3630" y="2040"/>
                  </a:lnTo>
                  <a:lnTo>
                    <a:pt x="3638" y="2037"/>
                  </a:lnTo>
                  <a:lnTo>
                    <a:pt x="3647" y="2037"/>
                  </a:lnTo>
                  <a:lnTo>
                    <a:pt x="3656" y="2037"/>
                  </a:lnTo>
                  <a:lnTo>
                    <a:pt x="3665" y="2037"/>
                  </a:lnTo>
                  <a:lnTo>
                    <a:pt x="3673" y="2034"/>
                  </a:lnTo>
                  <a:lnTo>
                    <a:pt x="3682" y="2031"/>
                  </a:lnTo>
                  <a:lnTo>
                    <a:pt x="3691" y="2028"/>
                  </a:lnTo>
                  <a:lnTo>
                    <a:pt x="3700" y="2023"/>
                  </a:lnTo>
                  <a:lnTo>
                    <a:pt x="3705" y="2014"/>
                  </a:lnTo>
                  <a:lnTo>
                    <a:pt x="3714" y="2005"/>
                  </a:lnTo>
                  <a:lnTo>
                    <a:pt x="3723" y="1997"/>
                  </a:lnTo>
                  <a:lnTo>
                    <a:pt x="3726" y="1988"/>
                  </a:lnTo>
                  <a:lnTo>
                    <a:pt x="3735" y="1976"/>
                  </a:lnTo>
                  <a:lnTo>
                    <a:pt x="3740" y="1968"/>
                  </a:lnTo>
                  <a:lnTo>
                    <a:pt x="3746" y="1959"/>
                  </a:lnTo>
                  <a:lnTo>
                    <a:pt x="3749" y="1950"/>
                  </a:lnTo>
                  <a:lnTo>
                    <a:pt x="3755" y="1939"/>
                  </a:lnTo>
                  <a:lnTo>
                    <a:pt x="3761" y="1927"/>
                  </a:lnTo>
                  <a:lnTo>
                    <a:pt x="3767" y="1919"/>
                  </a:lnTo>
                  <a:lnTo>
                    <a:pt x="3767" y="1910"/>
                  </a:lnTo>
                  <a:lnTo>
                    <a:pt x="3758" y="1910"/>
                  </a:lnTo>
                  <a:lnTo>
                    <a:pt x="3758" y="1899"/>
                  </a:lnTo>
                  <a:lnTo>
                    <a:pt x="3758" y="1890"/>
                  </a:lnTo>
                  <a:lnTo>
                    <a:pt x="3767" y="1881"/>
                  </a:lnTo>
                  <a:lnTo>
                    <a:pt x="3775" y="1881"/>
                  </a:lnTo>
                  <a:lnTo>
                    <a:pt x="3781" y="1873"/>
                  </a:lnTo>
                  <a:lnTo>
                    <a:pt x="3784" y="1864"/>
                  </a:lnTo>
                  <a:lnTo>
                    <a:pt x="3787" y="1855"/>
                  </a:lnTo>
                  <a:lnTo>
                    <a:pt x="3796" y="1850"/>
                  </a:lnTo>
                  <a:lnTo>
                    <a:pt x="3804" y="1847"/>
                  </a:lnTo>
                  <a:lnTo>
                    <a:pt x="3813" y="1844"/>
                  </a:lnTo>
                  <a:lnTo>
                    <a:pt x="3822" y="1838"/>
                  </a:lnTo>
                  <a:lnTo>
                    <a:pt x="3831" y="1835"/>
                  </a:lnTo>
                  <a:lnTo>
                    <a:pt x="3839" y="1824"/>
                  </a:lnTo>
                  <a:lnTo>
                    <a:pt x="3845" y="1815"/>
                  </a:lnTo>
                  <a:lnTo>
                    <a:pt x="3851" y="1806"/>
                  </a:lnTo>
                  <a:lnTo>
                    <a:pt x="3857" y="1798"/>
                  </a:lnTo>
                  <a:lnTo>
                    <a:pt x="3860" y="1789"/>
                  </a:lnTo>
                  <a:lnTo>
                    <a:pt x="3863" y="1780"/>
                  </a:lnTo>
                  <a:lnTo>
                    <a:pt x="3857" y="1772"/>
                  </a:lnTo>
                  <a:lnTo>
                    <a:pt x="3851" y="1763"/>
                  </a:lnTo>
                  <a:lnTo>
                    <a:pt x="3842" y="1760"/>
                  </a:lnTo>
                  <a:lnTo>
                    <a:pt x="3834" y="1752"/>
                  </a:lnTo>
                  <a:lnTo>
                    <a:pt x="3831" y="1743"/>
                  </a:lnTo>
                  <a:lnTo>
                    <a:pt x="3828" y="1734"/>
                  </a:lnTo>
                  <a:lnTo>
                    <a:pt x="3825" y="1726"/>
                  </a:lnTo>
                  <a:lnTo>
                    <a:pt x="3822" y="1714"/>
                  </a:lnTo>
                  <a:lnTo>
                    <a:pt x="3819" y="1706"/>
                  </a:lnTo>
                  <a:lnTo>
                    <a:pt x="3816" y="1697"/>
                  </a:lnTo>
                  <a:lnTo>
                    <a:pt x="3813" y="1685"/>
                  </a:lnTo>
                  <a:lnTo>
                    <a:pt x="3810" y="1677"/>
                  </a:lnTo>
                  <a:lnTo>
                    <a:pt x="3807" y="1668"/>
                  </a:lnTo>
                  <a:lnTo>
                    <a:pt x="3804" y="1659"/>
                  </a:lnTo>
                  <a:lnTo>
                    <a:pt x="3796" y="1657"/>
                  </a:lnTo>
                  <a:lnTo>
                    <a:pt x="3787" y="1657"/>
                  </a:lnTo>
                  <a:lnTo>
                    <a:pt x="3775" y="1657"/>
                  </a:lnTo>
                  <a:lnTo>
                    <a:pt x="3767" y="1648"/>
                  </a:lnTo>
                  <a:lnTo>
                    <a:pt x="3767" y="1639"/>
                  </a:lnTo>
                  <a:lnTo>
                    <a:pt x="3767" y="1631"/>
                  </a:lnTo>
                  <a:lnTo>
                    <a:pt x="3767" y="1622"/>
                  </a:lnTo>
                  <a:lnTo>
                    <a:pt x="3767" y="1613"/>
                  </a:lnTo>
                  <a:lnTo>
                    <a:pt x="3770" y="1605"/>
                  </a:lnTo>
                  <a:lnTo>
                    <a:pt x="3770" y="1596"/>
                  </a:lnTo>
                  <a:lnTo>
                    <a:pt x="3772" y="1587"/>
                  </a:lnTo>
                  <a:lnTo>
                    <a:pt x="3810" y="1541"/>
                  </a:lnTo>
                  <a:lnTo>
                    <a:pt x="3793" y="1541"/>
                  </a:lnTo>
                  <a:lnTo>
                    <a:pt x="3799" y="1533"/>
                  </a:lnTo>
                  <a:lnTo>
                    <a:pt x="3807" y="1530"/>
                  </a:lnTo>
                  <a:lnTo>
                    <a:pt x="3816" y="1527"/>
                  </a:lnTo>
                  <a:lnTo>
                    <a:pt x="3828" y="1527"/>
                  </a:lnTo>
                  <a:lnTo>
                    <a:pt x="3839" y="1527"/>
                  </a:lnTo>
                  <a:lnTo>
                    <a:pt x="3851" y="1524"/>
                  </a:lnTo>
                  <a:lnTo>
                    <a:pt x="3863" y="1524"/>
                  </a:lnTo>
                  <a:lnTo>
                    <a:pt x="3874" y="1524"/>
                  </a:lnTo>
                  <a:lnTo>
                    <a:pt x="3883" y="1527"/>
                  </a:lnTo>
                  <a:lnTo>
                    <a:pt x="3892" y="1530"/>
                  </a:lnTo>
                  <a:lnTo>
                    <a:pt x="3901" y="1533"/>
                  </a:lnTo>
                  <a:lnTo>
                    <a:pt x="3909" y="1535"/>
                  </a:lnTo>
                  <a:lnTo>
                    <a:pt x="3918" y="1535"/>
                  </a:lnTo>
                  <a:lnTo>
                    <a:pt x="3930" y="1535"/>
                  </a:lnTo>
                  <a:lnTo>
                    <a:pt x="3941" y="1535"/>
                  </a:lnTo>
                  <a:lnTo>
                    <a:pt x="3950" y="1535"/>
                  </a:lnTo>
                  <a:lnTo>
                    <a:pt x="3959" y="1535"/>
                  </a:lnTo>
                  <a:lnTo>
                    <a:pt x="3970" y="1541"/>
                  </a:lnTo>
                  <a:lnTo>
                    <a:pt x="3979" y="1541"/>
                  </a:lnTo>
                  <a:lnTo>
                    <a:pt x="3985" y="1550"/>
                  </a:lnTo>
                  <a:lnTo>
                    <a:pt x="3997" y="1559"/>
                  </a:lnTo>
                  <a:lnTo>
                    <a:pt x="4005" y="1561"/>
                  </a:lnTo>
                  <a:lnTo>
                    <a:pt x="4017" y="1561"/>
                  </a:lnTo>
                  <a:lnTo>
                    <a:pt x="4026" y="1559"/>
                  </a:lnTo>
                  <a:lnTo>
                    <a:pt x="4029" y="1550"/>
                  </a:lnTo>
                  <a:lnTo>
                    <a:pt x="4037" y="1541"/>
                  </a:lnTo>
                  <a:lnTo>
                    <a:pt x="4040" y="1533"/>
                  </a:lnTo>
                  <a:lnTo>
                    <a:pt x="4043" y="1524"/>
                  </a:lnTo>
                  <a:lnTo>
                    <a:pt x="4055" y="1512"/>
                  </a:lnTo>
                  <a:lnTo>
                    <a:pt x="4066" y="1507"/>
                  </a:lnTo>
                  <a:lnTo>
                    <a:pt x="4075" y="1498"/>
                  </a:lnTo>
                  <a:lnTo>
                    <a:pt x="4084" y="1495"/>
                  </a:lnTo>
                  <a:lnTo>
                    <a:pt x="4093" y="1495"/>
                  </a:lnTo>
                  <a:lnTo>
                    <a:pt x="4101" y="1495"/>
                  </a:lnTo>
                  <a:lnTo>
                    <a:pt x="4110" y="1495"/>
                  </a:lnTo>
                  <a:lnTo>
                    <a:pt x="4119" y="1501"/>
                  </a:lnTo>
                  <a:lnTo>
                    <a:pt x="4130" y="1510"/>
                  </a:lnTo>
                  <a:lnTo>
                    <a:pt x="4139" y="1512"/>
                  </a:lnTo>
                  <a:lnTo>
                    <a:pt x="4148" y="1507"/>
                  </a:lnTo>
                  <a:lnTo>
                    <a:pt x="4154" y="1498"/>
                  </a:lnTo>
                  <a:lnTo>
                    <a:pt x="4157" y="1489"/>
                  </a:lnTo>
                  <a:lnTo>
                    <a:pt x="4165" y="1478"/>
                  </a:lnTo>
                  <a:lnTo>
                    <a:pt x="4168" y="1466"/>
                  </a:lnTo>
                  <a:lnTo>
                    <a:pt x="4163" y="1458"/>
                  </a:lnTo>
                  <a:lnTo>
                    <a:pt x="4157" y="1449"/>
                  </a:lnTo>
                  <a:lnTo>
                    <a:pt x="4154" y="1438"/>
                  </a:lnTo>
                  <a:lnTo>
                    <a:pt x="4151" y="1429"/>
                  </a:lnTo>
                  <a:lnTo>
                    <a:pt x="4151" y="1420"/>
                  </a:lnTo>
                  <a:lnTo>
                    <a:pt x="4151" y="1409"/>
                  </a:lnTo>
                  <a:lnTo>
                    <a:pt x="4151" y="1400"/>
                  </a:lnTo>
                  <a:lnTo>
                    <a:pt x="4160" y="1394"/>
                  </a:lnTo>
                  <a:lnTo>
                    <a:pt x="4174" y="1400"/>
                  </a:lnTo>
                  <a:lnTo>
                    <a:pt x="4183" y="1403"/>
                  </a:lnTo>
                  <a:lnTo>
                    <a:pt x="4183" y="1412"/>
                  </a:lnTo>
                  <a:lnTo>
                    <a:pt x="4192" y="1420"/>
                  </a:lnTo>
                  <a:lnTo>
                    <a:pt x="4203" y="1432"/>
                  </a:lnTo>
                  <a:lnTo>
                    <a:pt x="4212" y="1440"/>
                  </a:lnTo>
                  <a:lnTo>
                    <a:pt x="4215" y="1449"/>
                  </a:lnTo>
                  <a:lnTo>
                    <a:pt x="4218" y="1458"/>
                  </a:lnTo>
                  <a:lnTo>
                    <a:pt x="4227" y="1472"/>
                  </a:lnTo>
                  <a:lnTo>
                    <a:pt x="4235" y="1478"/>
                  </a:lnTo>
                  <a:lnTo>
                    <a:pt x="4241" y="1487"/>
                  </a:lnTo>
                  <a:lnTo>
                    <a:pt x="4253" y="1495"/>
                  </a:lnTo>
                  <a:lnTo>
                    <a:pt x="4264" y="1501"/>
                  </a:lnTo>
                  <a:lnTo>
                    <a:pt x="4270" y="1510"/>
                  </a:lnTo>
                  <a:lnTo>
                    <a:pt x="4273" y="1518"/>
                  </a:lnTo>
                  <a:lnTo>
                    <a:pt x="4273" y="1527"/>
                  </a:lnTo>
                  <a:lnTo>
                    <a:pt x="4273" y="1535"/>
                  </a:lnTo>
                  <a:lnTo>
                    <a:pt x="4273" y="1544"/>
                  </a:lnTo>
                  <a:lnTo>
                    <a:pt x="4264" y="1550"/>
                  </a:lnTo>
                  <a:lnTo>
                    <a:pt x="4256" y="1553"/>
                  </a:lnTo>
                  <a:lnTo>
                    <a:pt x="4256" y="1564"/>
                  </a:lnTo>
                  <a:lnTo>
                    <a:pt x="4256" y="1573"/>
                  </a:lnTo>
                  <a:lnTo>
                    <a:pt x="4256" y="1582"/>
                  </a:lnTo>
                  <a:lnTo>
                    <a:pt x="4264" y="1587"/>
                  </a:lnTo>
                  <a:lnTo>
                    <a:pt x="4276" y="1590"/>
                  </a:lnTo>
                  <a:lnTo>
                    <a:pt x="4285" y="1590"/>
                  </a:lnTo>
                  <a:lnTo>
                    <a:pt x="4294" y="1599"/>
                  </a:lnTo>
                  <a:lnTo>
                    <a:pt x="4302" y="1608"/>
                  </a:lnTo>
                  <a:lnTo>
                    <a:pt x="4314" y="1610"/>
                  </a:lnTo>
                  <a:lnTo>
                    <a:pt x="4326" y="1616"/>
                  </a:lnTo>
                  <a:lnTo>
                    <a:pt x="4334" y="1619"/>
                  </a:lnTo>
                  <a:lnTo>
                    <a:pt x="4340" y="1628"/>
                  </a:lnTo>
                  <a:lnTo>
                    <a:pt x="4343" y="1636"/>
                  </a:lnTo>
                  <a:lnTo>
                    <a:pt x="4343" y="1645"/>
                  </a:lnTo>
                  <a:lnTo>
                    <a:pt x="4343" y="1654"/>
                  </a:lnTo>
                  <a:lnTo>
                    <a:pt x="4343" y="1662"/>
                  </a:lnTo>
                  <a:lnTo>
                    <a:pt x="4346" y="1671"/>
                  </a:lnTo>
                  <a:lnTo>
                    <a:pt x="4355" y="1671"/>
                  </a:lnTo>
                  <a:lnTo>
                    <a:pt x="4366" y="1671"/>
                  </a:lnTo>
                  <a:lnTo>
                    <a:pt x="4369" y="1662"/>
                  </a:lnTo>
                  <a:lnTo>
                    <a:pt x="4363" y="1654"/>
                  </a:lnTo>
                  <a:lnTo>
                    <a:pt x="4360" y="1645"/>
                  </a:lnTo>
                  <a:lnTo>
                    <a:pt x="4355" y="1636"/>
                  </a:lnTo>
                  <a:lnTo>
                    <a:pt x="4352" y="1628"/>
                  </a:lnTo>
                  <a:lnTo>
                    <a:pt x="4349" y="1619"/>
                  </a:lnTo>
                  <a:lnTo>
                    <a:pt x="4346" y="1610"/>
                  </a:lnTo>
                  <a:lnTo>
                    <a:pt x="4346" y="1602"/>
                  </a:lnTo>
                  <a:lnTo>
                    <a:pt x="4346" y="1590"/>
                  </a:lnTo>
                  <a:lnTo>
                    <a:pt x="4346" y="1582"/>
                  </a:lnTo>
                  <a:lnTo>
                    <a:pt x="4355" y="1579"/>
                  </a:lnTo>
                  <a:lnTo>
                    <a:pt x="4363" y="1582"/>
                  </a:lnTo>
                  <a:lnTo>
                    <a:pt x="4372" y="1582"/>
                  </a:lnTo>
                  <a:lnTo>
                    <a:pt x="4381" y="1573"/>
                  </a:lnTo>
                  <a:lnTo>
                    <a:pt x="4390" y="1567"/>
                  </a:lnTo>
                  <a:lnTo>
                    <a:pt x="4393" y="1559"/>
                  </a:lnTo>
                  <a:lnTo>
                    <a:pt x="4393" y="1550"/>
                  </a:lnTo>
                  <a:lnTo>
                    <a:pt x="4393" y="1541"/>
                  </a:lnTo>
                  <a:lnTo>
                    <a:pt x="4393" y="1533"/>
                  </a:lnTo>
                  <a:lnTo>
                    <a:pt x="4393" y="1524"/>
                  </a:lnTo>
                  <a:lnTo>
                    <a:pt x="4393" y="1515"/>
                  </a:lnTo>
                  <a:lnTo>
                    <a:pt x="4390" y="1504"/>
                  </a:lnTo>
                  <a:lnTo>
                    <a:pt x="4384" y="1495"/>
                  </a:lnTo>
                  <a:lnTo>
                    <a:pt x="4381" y="1484"/>
                  </a:lnTo>
                  <a:lnTo>
                    <a:pt x="4378" y="1475"/>
                  </a:lnTo>
                  <a:lnTo>
                    <a:pt x="4369" y="1463"/>
                  </a:lnTo>
                  <a:lnTo>
                    <a:pt x="4363" y="1455"/>
                  </a:lnTo>
                  <a:lnTo>
                    <a:pt x="4360" y="1446"/>
                  </a:lnTo>
                  <a:lnTo>
                    <a:pt x="4358" y="1438"/>
                  </a:lnTo>
                  <a:lnTo>
                    <a:pt x="4352" y="1429"/>
                  </a:lnTo>
                  <a:lnTo>
                    <a:pt x="4346" y="1417"/>
                  </a:lnTo>
                  <a:lnTo>
                    <a:pt x="4340" y="1409"/>
                  </a:lnTo>
                  <a:lnTo>
                    <a:pt x="4337" y="1397"/>
                  </a:lnTo>
                  <a:lnTo>
                    <a:pt x="4334" y="1389"/>
                  </a:lnTo>
                  <a:lnTo>
                    <a:pt x="4334" y="1380"/>
                  </a:lnTo>
                  <a:lnTo>
                    <a:pt x="4331" y="1371"/>
                  </a:lnTo>
                  <a:lnTo>
                    <a:pt x="4328" y="1360"/>
                  </a:lnTo>
                  <a:lnTo>
                    <a:pt x="4323" y="1351"/>
                  </a:lnTo>
                  <a:lnTo>
                    <a:pt x="4320" y="1342"/>
                  </a:lnTo>
                  <a:lnTo>
                    <a:pt x="4314" y="1334"/>
                  </a:lnTo>
                  <a:lnTo>
                    <a:pt x="4305" y="1325"/>
                  </a:lnTo>
                  <a:lnTo>
                    <a:pt x="4296" y="1316"/>
                  </a:lnTo>
                  <a:lnTo>
                    <a:pt x="4288" y="1308"/>
                  </a:lnTo>
                  <a:lnTo>
                    <a:pt x="4276" y="1311"/>
                  </a:lnTo>
                  <a:lnTo>
                    <a:pt x="4279" y="1291"/>
                  </a:lnTo>
                  <a:lnTo>
                    <a:pt x="4276" y="1282"/>
                  </a:lnTo>
                  <a:lnTo>
                    <a:pt x="4270" y="1273"/>
                  </a:lnTo>
                  <a:lnTo>
                    <a:pt x="4261" y="1267"/>
                  </a:lnTo>
                  <a:lnTo>
                    <a:pt x="4253" y="1259"/>
                  </a:lnTo>
                  <a:lnTo>
                    <a:pt x="4244" y="1250"/>
                  </a:lnTo>
                  <a:lnTo>
                    <a:pt x="4238" y="1242"/>
                  </a:lnTo>
                  <a:lnTo>
                    <a:pt x="4232" y="1233"/>
                  </a:lnTo>
                  <a:lnTo>
                    <a:pt x="4229" y="1224"/>
                  </a:lnTo>
                  <a:lnTo>
                    <a:pt x="4221" y="1218"/>
                  </a:lnTo>
                  <a:lnTo>
                    <a:pt x="4212" y="1210"/>
                  </a:lnTo>
                  <a:lnTo>
                    <a:pt x="4200" y="1201"/>
                  </a:lnTo>
                  <a:lnTo>
                    <a:pt x="4192" y="1195"/>
                  </a:lnTo>
                  <a:lnTo>
                    <a:pt x="4183" y="1193"/>
                  </a:lnTo>
                  <a:lnTo>
                    <a:pt x="4171" y="1187"/>
                  </a:lnTo>
                  <a:lnTo>
                    <a:pt x="4163" y="1184"/>
                  </a:lnTo>
                  <a:lnTo>
                    <a:pt x="4154" y="1181"/>
                  </a:lnTo>
                  <a:lnTo>
                    <a:pt x="4145" y="1175"/>
                  </a:lnTo>
                  <a:lnTo>
                    <a:pt x="4136" y="1170"/>
                  </a:lnTo>
                  <a:lnTo>
                    <a:pt x="4130" y="1161"/>
                  </a:lnTo>
                  <a:lnTo>
                    <a:pt x="4119" y="1152"/>
                  </a:lnTo>
                  <a:lnTo>
                    <a:pt x="4110" y="1149"/>
                  </a:lnTo>
                  <a:lnTo>
                    <a:pt x="4098" y="1144"/>
                  </a:lnTo>
                  <a:lnTo>
                    <a:pt x="4090" y="1144"/>
                  </a:lnTo>
                  <a:lnTo>
                    <a:pt x="4078" y="1135"/>
                  </a:lnTo>
                  <a:lnTo>
                    <a:pt x="4069" y="1126"/>
                  </a:lnTo>
                  <a:lnTo>
                    <a:pt x="4064" y="1118"/>
                  </a:lnTo>
                  <a:lnTo>
                    <a:pt x="4058" y="1109"/>
                  </a:lnTo>
                  <a:lnTo>
                    <a:pt x="4049" y="1103"/>
                  </a:lnTo>
                  <a:lnTo>
                    <a:pt x="4058" y="1100"/>
                  </a:lnTo>
                  <a:lnTo>
                    <a:pt x="4066" y="1100"/>
                  </a:lnTo>
                  <a:lnTo>
                    <a:pt x="4078" y="1100"/>
                  </a:lnTo>
                  <a:lnTo>
                    <a:pt x="4090" y="1103"/>
                  </a:lnTo>
                  <a:lnTo>
                    <a:pt x="4098" y="1109"/>
                  </a:lnTo>
                  <a:lnTo>
                    <a:pt x="4107" y="1112"/>
                  </a:lnTo>
                  <a:lnTo>
                    <a:pt x="4116" y="1115"/>
                  </a:lnTo>
                  <a:lnTo>
                    <a:pt x="4125" y="1121"/>
                  </a:lnTo>
                  <a:lnTo>
                    <a:pt x="4133" y="1126"/>
                  </a:lnTo>
                  <a:lnTo>
                    <a:pt x="4142" y="1129"/>
                  </a:lnTo>
                  <a:lnTo>
                    <a:pt x="4154" y="1138"/>
                  </a:lnTo>
                  <a:lnTo>
                    <a:pt x="4163" y="1141"/>
                  </a:lnTo>
                  <a:lnTo>
                    <a:pt x="4171" y="1144"/>
                  </a:lnTo>
                  <a:lnTo>
                    <a:pt x="4180" y="1146"/>
                  </a:lnTo>
                  <a:lnTo>
                    <a:pt x="4192" y="1146"/>
                  </a:lnTo>
                  <a:lnTo>
                    <a:pt x="4200" y="1146"/>
                  </a:lnTo>
                  <a:lnTo>
                    <a:pt x="4212" y="1149"/>
                  </a:lnTo>
                  <a:lnTo>
                    <a:pt x="4221" y="1149"/>
                  </a:lnTo>
                  <a:lnTo>
                    <a:pt x="4229" y="1152"/>
                  </a:lnTo>
                  <a:lnTo>
                    <a:pt x="4238" y="1155"/>
                  </a:lnTo>
                  <a:lnTo>
                    <a:pt x="4247" y="1161"/>
                  </a:lnTo>
                  <a:lnTo>
                    <a:pt x="4256" y="1164"/>
                  </a:lnTo>
                  <a:lnTo>
                    <a:pt x="4264" y="1170"/>
                  </a:lnTo>
                  <a:lnTo>
                    <a:pt x="4273" y="1172"/>
                  </a:lnTo>
                  <a:lnTo>
                    <a:pt x="4282" y="1178"/>
                  </a:lnTo>
                  <a:lnTo>
                    <a:pt x="4291" y="1181"/>
                  </a:lnTo>
                  <a:lnTo>
                    <a:pt x="4299" y="1187"/>
                  </a:lnTo>
                  <a:lnTo>
                    <a:pt x="4308" y="1190"/>
                  </a:lnTo>
                  <a:lnTo>
                    <a:pt x="4317" y="1193"/>
                  </a:lnTo>
                  <a:lnTo>
                    <a:pt x="4326" y="1195"/>
                  </a:lnTo>
                  <a:lnTo>
                    <a:pt x="4334" y="1195"/>
                  </a:lnTo>
                  <a:lnTo>
                    <a:pt x="4326" y="1190"/>
                  </a:lnTo>
                  <a:lnTo>
                    <a:pt x="4314" y="1178"/>
                  </a:lnTo>
                  <a:lnTo>
                    <a:pt x="4305" y="1170"/>
                  </a:lnTo>
                  <a:lnTo>
                    <a:pt x="4305" y="1161"/>
                  </a:lnTo>
                  <a:lnTo>
                    <a:pt x="4317" y="1158"/>
                  </a:lnTo>
                  <a:lnTo>
                    <a:pt x="4328" y="1158"/>
                  </a:lnTo>
                  <a:lnTo>
                    <a:pt x="4337" y="1158"/>
                  </a:lnTo>
                  <a:lnTo>
                    <a:pt x="4346" y="1158"/>
                  </a:lnTo>
                  <a:lnTo>
                    <a:pt x="4346" y="1149"/>
                  </a:lnTo>
                  <a:lnTo>
                    <a:pt x="4349" y="1138"/>
                  </a:lnTo>
                  <a:lnTo>
                    <a:pt x="4349" y="1129"/>
                  </a:lnTo>
                  <a:lnTo>
                    <a:pt x="4340" y="1123"/>
                  </a:lnTo>
                  <a:lnTo>
                    <a:pt x="4331" y="1121"/>
                  </a:lnTo>
                  <a:lnTo>
                    <a:pt x="4323" y="1121"/>
                  </a:lnTo>
                  <a:lnTo>
                    <a:pt x="4314" y="1121"/>
                  </a:lnTo>
                  <a:lnTo>
                    <a:pt x="4302" y="1121"/>
                  </a:lnTo>
                  <a:lnTo>
                    <a:pt x="4296" y="1132"/>
                  </a:lnTo>
                  <a:lnTo>
                    <a:pt x="4288" y="1138"/>
                  </a:lnTo>
                  <a:lnTo>
                    <a:pt x="4279" y="1144"/>
                  </a:lnTo>
                  <a:lnTo>
                    <a:pt x="4270" y="1144"/>
                  </a:lnTo>
                  <a:lnTo>
                    <a:pt x="4261" y="1144"/>
                  </a:lnTo>
                  <a:lnTo>
                    <a:pt x="4253" y="1144"/>
                  </a:lnTo>
                  <a:lnTo>
                    <a:pt x="4244" y="1144"/>
                  </a:lnTo>
                  <a:lnTo>
                    <a:pt x="4238" y="1135"/>
                  </a:lnTo>
                  <a:lnTo>
                    <a:pt x="4227" y="1126"/>
                  </a:lnTo>
                  <a:lnTo>
                    <a:pt x="4218" y="1115"/>
                  </a:lnTo>
                  <a:lnTo>
                    <a:pt x="4209" y="1109"/>
                  </a:lnTo>
                  <a:lnTo>
                    <a:pt x="4197" y="1100"/>
                  </a:lnTo>
                  <a:lnTo>
                    <a:pt x="4192" y="1092"/>
                  </a:lnTo>
                  <a:lnTo>
                    <a:pt x="4200" y="1086"/>
                  </a:lnTo>
                  <a:lnTo>
                    <a:pt x="4209" y="1077"/>
                  </a:lnTo>
                  <a:lnTo>
                    <a:pt x="4218" y="1072"/>
                  </a:lnTo>
                  <a:lnTo>
                    <a:pt x="4227" y="1063"/>
                  </a:lnTo>
                  <a:lnTo>
                    <a:pt x="4229" y="1054"/>
                  </a:lnTo>
                  <a:lnTo>
                    <a:pt x="4221" y="1048"/>
                  </a:lnTo>
                  <a:lnTo>
                    <a:pt x="4209" y="1048"/>
                  </a:lnTo>
                  <a:lnTo>
                    <a:pt x="4200" y="1048"/>
                  </a:lnTo>
                  <a:lnTo>
                    <a:pt x="4189" y="1048"/>
                  </a:lnTo>
                  <a:lnTo>
                    <a:pt x="4180" y="1051"/>
                  </a:lnTo>
                  <a:lnTo>
                    <a:pt x="4171" y="1057"/>
                  </a:lnTo>
                  <a:lnTo>
                    <a:pt x="4160" y="1057"/>
                  </a:lnTo>
                  <a:lnTo>
                    <a:pt x="4151" y="1057"/>
                  </a:lnTo>
                  <a:lnTo>
                    <a:pt x="4142" y="1057"/>
                  </a:lnTo>
                  <a:lnTo>
                    <a:pt x="4133" y="1057"/>
                  </a:lnTo>
                  <a:lnTo>
                    <a:pt x="4125" y="1057"/>
                  </a:lnTo>
                  <a:lnTo>
                    <a:pt x="4116" y="1057"/>
                  </a:lnTo>
                  <a:lnTo>
                    <a:pt x="4107" y="1057"/>
                  </a:lnTo>
                  <a:lnTo>
                    <a:pt x="4098" y="1057"/>
                  </a:lnTo>
                  <a:lnTo>
                    <a:pt x="4090" y="1057"/>
                  </a:lnTo>
                  <a:lnTo>
                    <a:pt x="4081" y="1057"/>
                  </a:lnTo>
                  <a:lnTo>
                    <a:pt x="4072" y="1057"/>
                  </a:lnTo>
                  <a:lnTo>
                    <a:pt x="4064" y="1054"/>
                  </a:lnTo>
                  <a:lnTo>
                    <a:pt x="4055" y="1051"/>
                  </a:lnTo>
                  <a:lnTo>
                    <a:pt x="4043" y="1048"/>
                  </a:lnTo>
                  <a:lnTo>
                    <a:pt x="4032" y="1043"/>
                  </a:lnTo>
                  <a:lnTo>
                    <a:pt x="4023" y="1040"/>
                  </a:lnTo>
                  <a:lnTo>
                    <a:pt x="4008" y="1031"/>
                  </a:lnTo>
                  <a:lnTo>
                    <a:pt x="3994" y="1028"/>
                  </a:lnTo>
                  <a:lnTo>
                    <a:pt x="3982" y="1028"/>
                  </a:lnTo>
                  <a:lnTo>
                    <a:pt x="3973" y="1028"/>
                  </a:lnTo>
                  <a:lnTo>
                    <a:pt x="3965" y="1028"/>
                  </a:lnTo>
                  <a:lnTo>
                    <a:pt x="3953" y="1028"/>
                  </a:lnTo>
                  <a:lnTo>
                    <a:pt x="3941" y="1028"/>
                  </a:lnTo>
                  <a:lnTo>
                    <a:pt x="3933" y="1028"/>
                  </a:lnTo>
                  <a:lnTo>
                    <a:pt x="3927" y="1037"/>
                  </a:lnTo>
                  <a:lnTo>
                    <a:pt x="3941" y="1048"/>
                  </a:lnTo>
                  <a:lnTo>
                    <a:pt x="3950" y="1051"/>
                  </a:lnTo>
                  <a:lnTo>
                    <a:pt x="3962" y="1054"/>
                  </a:lnTo>
                  <a:lnTo>
                    <a:pt x="3970" y="1057"/>
                  </a:lnTo>
                  <a:lnTo>
                    <a:pt x="3979" y="1060"/>
                  </a:lnTo>
                  <a:lnTo>
                    <a:pt x="3982" y="1072"/>
                  </a:lnTo>
                  <a:lnTo>
                    <a:pt x="3982" y="1080"/>
                  </a:lnTo>
                  <a:lnTo>
                    <a:pt x="3982" y="1089"/>
                  </a:lnTo>
                  <a:lnTo>
                    <a:pt x="3994" y="1100"/>
                  </a:lnTo>
                  <a:lnTo>
                    <a:pt x="4002" y="1103"/>
                  </a:lnTo>
                  <a:lnTo>
                    <a:pt x="4014" y="1106"/>
                  </a:lnTo>
                  <a:lnTo>
                    <a:pt x="4026" y="1106"/>
                  </a:lnTo>
                  <a:lnTo>
                    <a:pt x="4034" y="1109"/>
                  </a:lnTo>
                  <a:lnTo>
                    <a:pt x="4046" y="1112"/>
                  </a:lnTo>
                  <a:lnTo>
                    <a:pt x="4037" y="1115"/>
                  </a:lnTo>
                  <a:lnTo>
                    <a:pt x="4029" y="1112"/>
                  </a:lnTo>
                  <a:lnTo>
                    <a:pt x="4020" y="1109"/>
                  </a:lnTo>
                  <a:lnTo>
                    <a:pt x="4011" y="1109"/>
                  </a:lnTo>
                  <a:lnTo>
                    <a:pt x="4002" y="1106"/>
                  </a:lnTo>
                  <a:lnTo>
                    <a:pt x="3994" y="1103"/>
                  </a:lnTo>
                  <a:lnTo>
                    <a:pt x="3979" y="1097"/>
                  </a:lnTo>
                  <a:lnTo>
                    <a:pt x="3970" y="1097"/>
                  </a:lnTo>
                  <a:lnTo>
                    <a:pt x="3962" y="1100"/>
                  </a:lnTo>
                  <a:lnTo>
                    <a:pt x="3959" y="1109"/>
                  </a:lnTo>
                  <a:lnTo>
                    <a:pt x="3950" y="1118"/>
                  </a:lnTo>
                  <a:lnTo>
                    <a:pt x="3941" y="1123"/>
                  </a:lnTo>
                  <a:lnTo>
                    <a:pt x="3935" y="1132"/>
                  </a:lnTo>
                  <a:lnTo>
                    <a:pt x="3927" y="1138"/>
                  </a:lnTo>
                  <a:lnTo>
                    <a:pt x="3927" y="1146"/>
                  </a:lnTo>
                  <a:lnTo>
                    <a:pt x="3930" y="1155"/>
                  </a:lnTo>
                  <a:lnTo>
                    <a:pt x="3938" y="1161"/>
                  </a:lnTo>
                  <a:lnTo>
                    <a:pt x="3941" y="1170"/>
                  </a:lnTo>
                  <a:lnTo>
                    <a:pt x="3941" y="1178"/>
                  </a:lnTo>
                  <a:lnTo>
                    <a:pt x="3941" y="1187"/>
                  </a:lnTo>
                  <a:lnTo>
                    <a:pt x="3938" y="1195"/>
                  </a:lnTo>
                  <a:lnTo>
                    <a:pt x="3933" y="1204"/>
                  </a:lnTo>
                  <a:lnTo>
                    <a:pt x="3924" y="1204"/>
                  </a:lnTo>
                  <a:lnTo>
                    <a:pt x="3915" y="1193"/>
                  </a:lnTo>
                  <a:lnTo>
                    <a:pt x="3912" y="1184"/>
                  </a:lnTo>
                  <a:lnTo>
                    <a:pt x="3903" y="1178"/>
                  </a:lnTo>
                  <a:lnTo>
                    <a:pt x="3892" y="1172"/>
                  </a:lnTo>
                  <a:lnTo>
                    <a:pt x="3883" y="1167"/>
                  </a:lnTo>
                  <a:lnTo>
                    <a:pt x="3877" y="1158"/>
                  </a:lnTo>
                  <a:lnTo>
                    <a:pt x="3874" y="1167"/>
                  </a:lnTo>
                  <a:lnTo>
                    <a:pt x="3874" y="1175"/>
                  </a:lnTo>
                  <a:lnTo>
                    <a:pt x="3874" y="1184"/>
                  </a:lnTo>
                  <a:lnTo>
                    <a:pt x="3886" y="1193"/>
                  </a:lnTo>
                  <a:lnTo>
                    <a:pt x="3898" y="1195"/>
                  </a:lnTo>
                  <a:lnTo>
                    <a:pt x="3906" y="1198"/>
                  </a:lnTo>
                  <a:lnTo>
                    <a:pt x="3915" y="1201"/>
                  </a:lnTo>
                  <a:lnTo>
                    <a:pt x="3924" y="1207"/>
                  </a:lnTo>
                  <a:lnTo>
                    <a:pt x="3912" y="1213"/>
                  </a:lnTo>
                  <a:lnTo>
                    <a:pt x="3903" y="1213"/>
                  </a:lnTo>
                  <a:lnTo>
                    <a:pt x="3895" y="1213"/>
                  </a:lnTo>
                  <a:lnTo>
                    <a:pt x="3886" y="1216"/>
                  </a:lnTo>
                  <a:lnTo>
                    <a:pt x="3886" y="1224"/>
                  </a:lnTo>
                  <a:lnTo>
                    <a:pt x="3880" y="1233"/>
                  </a:lnTo>
                  <a:lnTo>
                    <a:pt x="3868" y="1236"/>
                  </a:lnTo>
                  <a:lnTo>
                    <a:pt x="3860" y="1236"/>
                  </a:lnTo>
                  <a:lnTo>
                    <a:pt x="3854" y="1224"/>
                  </a:lnTo>
                  <a:lnTo>
                    <a:pt x="3854" y="1216"/>
                  </a:lnTo>
                  <a:lnTo>
                    <a:pt x="3851" y="1207"/>
                  </a:lnTo>
                  <a:lnTo>
                    <a:pt x="3845" y="1198"/>
                  </a:lnTo>
                  <a:lnTo>
                    <a:pt x="3842" y="1187"/>
                  </a:lnTo>
                  <a:lnTo>
                    <a:pt x="3836" y="1175"/>
                  </a:lnTo>
                  <a:lnTo>
                    <a:pt x="3834" y="1164"/>
                  </a:lnTo>
                  <a:lnTo>
                    <a:pt x="3828" y="1155"/>
                  </a:lnTo>
                  <a:lnTo>
                    <a:pt x="3822" y="1146"/>
                  </a:lnTo>
                  <a:lnTo>
                    <a:pt x="3816" y="1138"/>
                  </a:lnTo>
                  <a:lnTo>
                    <a:pt x="3810" y="1129"/>
                  </a:lnTo>
                  <a:lnTo>
                    <a:pt x="3799" y="1123"/>
                  </a:lnTo>
                  <a:lnTo>
                    <a:pt x="3793" y="1115"/>
                  </a:lnTo>
                  <a:lnTo>
                    <a:pt x="3790" y="1106"/>
                  </a:lnTo>
                  <a:lnTo>
                    <a:pt x="3784" y="1097"/>
                  </a:lnTo>
                  <a:lnTo>
                    <a:pt x="3778" y="1089"/>
                  </a:lnTo>
                  <a:lnTo>
                    <a:pt x="3775" y="1080"/>
                  </a:lnTo>
                  <a:lnTo>
                    <a:pt x="3772" y="1072"/>
                  </a:lnTo>
                  <a:lnTo>
                    <a:pt x="3767" y="1063"/>
                  </a:lnTo>
                  <a:lnTo>
                    <a:pt x="3761" y="1054"/>
                  </a:lnTo>
                  <a:lnTo>
                    <a:pt x="3752" y="1046"/>
                  </a:lnTo>
                  <a:lnTo>
                    <a:pt x="3746" y="1037"/>
                  </a:lnTo>
                  <a:lnTo>
                    <a:pt x="3737" y="1034"/>
                  </a:lnTo>
                  <a:lnTo>
                    <a:pt x="3717" y="988"/>
                  </a:lnTo>
                  <a:lnTo>
                    <a:pt x="3737" y="1008"/>
                  </a:lnTo>
                  <a:lnTo>
                    <a:pt x="3737" y="999"/>
                  </a:lnTo>
                  <a:lnTo>
                    <a:pt x="3732" y="991"/>
                  </a:lnTo>
                  <a:lnTo>
                    <a:pt x="3726" y="982"/>
                  </a:lnTo>
                  <a:lnTo>
                    <a:pt x="3723" y="974"/>
                  </a:lnTo>
                  <a:lnTo>
                    <a:pt x="3714" y="968"/>
                  </a:lnTo>
                  <a:lnTo>
                    <a:pt x="3703" y="965"/>
                  </a:lnTo>
                  <a:lnTo>
                    <a:pt x="3694" y="959"/>
                  </a:lnTo>
                  <a:lnTo>
                    <a:pt x="3691" y="950"/>
                  </a:lnTo>
                  <a:lnTo>
                    <a:pt x="3691" y="942"/>
                  </a:lnTo>
                  <a:lnTo>
                    <a:pt x="3691" y="930"/>
                  </a:lnTo>
                  <a:lnTo>
                    <a:pt x="3691" y="922"/>
                  </a:lnTo>
                  <a:lnTo>
                    <a:pt x="3691" y="913"/>
                  </a:lnTo>
                  <a:lnTo>
                    <a:pt x="3694" y="904"/>
                  </a:lnTo>
                  <a:lnTo>
                    <a:pt x="3700" y="896"/>
                  </a:lnTo>
                  <a:lnTo>
                    <a:pt x="3705" y="887"/>
                  </a:lnTo>
                  <a:lnTo>
                    <a:pt x="3714" y="887"/>
                  </a:lnTo>
                  <a:lnTo>
                    <a:pt x="3717" y="878"/>
                  </a:lnTo>
                  <a:lnTo>
                    <a:pt x="3705" y="867"/>
                  </a:lnTo>
                  <a:lnTo>
                    <a:pt x="3705" y="858"/>
                  </a:lnTo>
                  <a:lnTo>
                    <a:pt x="3705" y="847"/>
                  </a:lnTo>
                  <a:lnTo>
                    <a:pt x="3711" y="838"/>
                  </a:lnTo>
                  <a:lnTo>
                    <a:pt x="3717" y="827"/>
                  </a:lnTo>
                  <a:lnTo>
                    <a:pt x="3717" y="818"/>
                  </a:lnTo>
                  <a:lnTo>
                    <a:pt x="3717" y="809"/>
                  </a:lnTo>
                  <a:lnTo>
                    <a:pt x="3705" y="806"/>
                  </a:lnTo>
                  <a:lnTo>
                    <a:pt x="3694" y="801"/>
                  </a:lnTo>
                  <a:lnTo>
                    <a:pt x="3685" y="795"/>
                  </a:lnTo>
                  <a:lnTo>
                    <a:pt x="3685" y="786"/>
                  </a:lnTo>
                  <a:lnTo>
                    <a:pt x="3691" y="778"/>
                  </a:lnTo>
                  <a:lnTo>
                    <a:pt x="3697" y="769"/>
                  </a:lnTo>
                  <a:lnTo>
                    <a:pt x="3700" y="760"/>
                  </a:lnTo>
                  <a:lnTo>
                    <a:pt x="3708" y="757"/>
                  </a:lnTo>
                  <a:lnTo>
                    <a:pt x="3717" y="752"/>
                  </a:lnTo>
                  <a:lnTo>
                    <a:pt x="3726" y="757"/>
                  </a:lnTo>
                  <a:lnTo>
                    <a:pt x="3735" y="760"/>
                  </a:lnTo>
                  <a:lnTo>
                    <a:pt x="3743" y="763"/>
                  </a:lnTo>
                  <a:lnTo>
                    <a:pt x="3743" y="755"/>
                  </a:lnTo>
                  <a:lnTo>
                    <a:pt x="3737" y="746"/>
                  </a:lnTo>
                  <a:lnTo>
                    <a:pt x="3737" y="737"/>
                  </a:lnTo>
                  <a:lnTo>
                    <a:pt x="3735" y="729"/>
                  </a:lnTo>
                  <a:lnTo>
                    <a:pt x="3735" y="720"/>
                  </a:lnTo>
                  <a:lnTo>
                    <a:pt x="3732" y="711"/>
                  </a:lnTo>
                  <a:lnTo>
                    <a:pt x="3726" y="703"/>
                  </a:lnTo>
                  <a:lnTo>
                    <a:pt x="3723" y="691"/>
                  </a:lnTo>
                  <a:lnTo>
                    <a:pt x="3723" y="682"/>
                  </a:lnTo>
                  <a:lnTo>
                    <a:pt x="3723" y="674"/>
                  </a:lnTo>
                  <a:lnTo>
                    <a:pt x="3723" y="665"/>
                  </a:lnTo>
                  <a:lnTo>
                    <a:pt x="3714" y="662"/>
                  </a:lnTo>
                  <a:lnTo>
                    <a:pt x="3708" y="671"/>
                  </a:lnTo>
                  <a:lnTo>
                    <a:pt x="3700" y="671"/>
                  </a:lnTo>
                  <a:lnTo>
                    <a:pt x="3691" y="674"/>
                  </a:lnTo>
                  <a:lnTo>
                    <a:pt x="3682" y="671"/>
                  </a:lnTo>
                  <a:lnTo>
                    <a:pt x="3673" y="659"/>
                  </a:lnTo>
                  <a:lnTo>
                    <a:pt x="3668" y="651"/>
                  </a:lnTo>
                  <a:lnTo>
                    <a:pt x="3662" y="642"/>
                  </a:lnTo>
                  <a:lnTo>
                    <a:pt x="3653" y="633"/>
                  </a:lnTo>
                  <a:lnTo>
                    <a:pt x="3641" y="628"/>
                  </a:lnTo>
                  <a:lnTo>
                    <a:pt x="3633" y="622"/>
                  </a:lnTo>
                  <a:lnTo>
                    <a:pt x="3624" y="622"/>
                  </a:lnTo>
                  <a:lnTo>
                    <a:pt x="3615" y="616"/>
                  </a:lnTo>
                  <a:lnTo>
                    <a:pt x="3604" y="613"/>
                  </a:lnTo>
                  <a:lnTo>
                    <a:pt x="3595" y="608"/>
                  </a:lnTo>
                  <a:lnTo>
                    <a:pt x="3577" y="573"/>
                  </a:lnTo>
                  <a:lnTo>
                    <a:pt x="3592" y="587"/>
                  </a:lnTo>
                  <a:lnTo>
                    <a:pt x="3592" y="576"/>
                  </a:lnTo>
                  <a:lnTo>
                    <a:pt x="3589" y="567"/>
                  </a:lnTo>
                  <a:lnTo>
                    <a:pt x="3589" y="559"/>
                  </a:lnTo>
                  <a:lnTo>
                    <a:pt x="3583" y="547"/>
                  </a:lnTo>
                  <a:lnTo>
                    <a:pt x="3577" y="538"/>
                  </a:lnTo>
                  <a:lnTo>
                    <a:pt x="3569" y="530"/>
                  </a:lnTo>
                  <a:lnTo>
                    <a:pt x="3583" y="527"/>
                  </a:lnTo>
                  <a:lnTo>
                    <a:pt x="3592" y="530"/>
                  </a:lnTo>
                  <a:lnTo>
                    <a:pt x="3601" y="533"/>
                  </a:lnTo>
                  <a:lnTo>
                    <a:pt x="3609" y="538"/>
                  </a:lnTo>
                  <a:lnTo>
                    <a:pt x="3618" y="541"/>
                  </a:lnTo>
                  <a:lnTo>
                    <a:pt x="3621" y="533"/>
                  </a:lnTo>
                  <a:lnTo>
                    <a:pt x="3621" y="524"/>
                  </a:lnTo>
                  <a:lnTo>
                    <a:pt x="3612" y="518"/>
                  </a:lnTo>
                  <a:lnTo>
                    <a:pt x="3604" y="507"/>
                  </a:lnTo>
                  <a:lnTo>
                    <a:pt x="3598" y="498"/>
                  </a:lnTo>
                  <a:lnTo>
                    <a:pt x="3589" y="489"/>
                  </a:lnTo>
                  <a:lnTo>
                    <a:pt x="3586" y="481"/>
                  </a:lnTo>
                  <a:lnTo>
                    <a:pt x="3577" y="472"/>
                  </a:lnTo>
                  <a:lnTo>
                    <a:pt x="3566" y="469"/>
                  </a:lnTo>
                  <a:lnTo>
                    <a:pt x="3557" y="469"/>
                  </a:lnTo>
                  <a:lnTo>
                    <a:pt x="3548" y="469"/>
                  </a:lnTo>
                  <a:lnTo>
                    <a:pt x="3540" y="469"/>
                  </a:lnTo>
                  <a:lnTo>
                    <a:pt x="3531" y="466"/>
                  </a:lnTo>
                  <a:lnTo>
                    <a:pt x="3519" y="458"/>
                  </a:lnTo>
                  <a:lnTo>
                    <a:pt x="3516" y="449"/>
                  </a:lnTo>
                  <a:lnTo>
                    <a:pt x="3510" y="440"/>
                  </a:lnTo>
                  <a:lnTo>
                    <a:pt x="3507" y="432"/>
                  </a:lnTo>
                  <a:lnTo>
                    <a:pt x="3502" y="423"/>
                  </a:lnTo>
                  <a:lnTo>
                    <a:pt x="3502" y="412"/>
                  </a:lnTo>
                  <a:lnTo>
                    <a:pt x="3510" y="412"/>
                  </a:lnTo>
                  <a:lnTo>
                    <a:pt x="3519" y="417"/>
                  </a:lnTo>
                  <a:lnTo>
                    <a:pt x="3531" y="426"/>
                  </a:lnTo>
                  <a:lnTo>
                    <a:pt x="3540" y="432"/>
                  </a:lnTo>
                  <a:lnTo>
                    <a:pt x="3542" y="440"/>
                  </a:lnTo>
                  <a:lnTo>
                    <a:pt x="3551" y="446"/>
                  </a:lnTo>
                  <a:lnTo>
                    <a:pt x="3563" y="452"/>
                  </a:lnTo>
                  <a:lnTo>
                    <a:pt x="3572" y="458"/>
                  </a:lnTo>
                  <a:lnTo>
                    <a:pt x="3580" y="458"/>
                  </a:lnTo>
                  <a:lnTo>
                    <a:pt x="3589" y="458"/>
                  </a:lnTo>
                  <a:lnTo>
                    <a:pt x="3598" y="458"/>
                  </a:lnTo>
                  <a:lnTo>
                    <a:pt x="3606" y="461"/>
                  </a:lnTo>
                  <a:lnTo>
                    <a:pt x="3612" y="472"/>
                  </a:lnTo>
                  <a:lnTo>
                    <a:pt x="3618" y="481"/>
                  </a:lnTo>
                  <a:lnTo>
                    <a:pt x="3621" y="489"/>
                  </a:lnTo>
                  <a:lnTo>
                    <a:pt x="3627" y="498"/>
                  </a:lnTo>
                  <a:lnTo>
                    <a:pt x="3633" y="507"/>
                  </a:lnTo>
                  <a:lnTo>
                    <a:pt x="3641" y="518"/>
                  </a:lnTo>
                  <a:lnTo>
                    <a:pt x="3650" y="521"/>
                  </a:lnTo>
                  <a:lnTo>
                    <a:pt x="3662" y="524"/>
                  </a:lnTo>
                  <a:lnTo>
                    <a:pt x="3671" y="524"/>
                  </a:lnTo>
                  <a:lnTo>
                    <a:pt x="3679" y="527"/>
                  </a:lnTo>
                  <a:lnTo>
                    <a:pt x="3688" y="527"/>
                  </a:lnTo>
                  <a:lnTo>
                    <a:pt x="3700" y="530"/>
                  </a:lnTo>
                  <a:lnTo>
                    <a:pt x="3711" y="536"/>
                  </a:lnTo>
                  <a:lnTo>
                    <a:pt x="3723" y="544"/>
                  </a:lnTo>
                  <a:lnTo>
                    <a:pt x="3729" y="553"/>
                  </a:lnTo>
                  <a:lnTo>
                    <a:pt x="3735" y="561"/>
                  </a:lnTo>
                  <a:lnTo>
                    <a:pt x="3746" y="570"/>
                  </a:lnTo>
                  <a:lnTo>
                    <a:pt x="3761" y="579"/>
                  </a:lnTo>
                  <a:lnTo>
                    <a:pt x="3770" y="585"/>
                  </a:lnTo>
                  <a:lnTo>
                    <a:pt x="3772" y="593"/>
                  </a:lnTo>
                  <a:lnTo>
                    <a:pt x="3775" y="602"/>
                  </a:lnTo>
                  <a:lnTo>
                    <a:pt x="3778" y="610"/>
                  </a:lnTo>
                  <a:lnTo>
                    <a:pt x="3787" y="610"/>
                  </a:lnTo>
                  <a:lnTo>
                    <a:pt x="3790" y="619"/>
                  </a:lnTo>
                  <a:lnTo>
                    <a:pt x="3799" y="622"/>
                  </a:lnTo>
                  <a:lnTo>
                    <a:pt x="3807" y="628"/>
                  </a:lnTo>
                  <a:lnTo>
                    <a:pt x="3819" y="633"/>
                  </a:lnTo>
                  <a:lnTo>
                    <a:pt x="3828" y="636"/>
                  </a:lnTo>
                  <a:lnTo>
                    <a:pt x="3836" y="639"/>
                  </a:lnTo>
                  <a:lnTo>
                    <a:pt x="3845" y="642"/>
                  </a:lnTo>
                  <a:lnTo>
                    <a:pt x="3854" y="642"/>
                  </a:lnTo>
                  <a:lnTo>
                    <a:pt x="3866" y="645"/>
                  </a:lnTo>
                  <a:lnTo>
                    <a:pt x="3874" y="651"/>
                  </a:lnTo>
                  <a:lnTo>
                    <a:pt x="3883" y="657"/>
                  </a:lnTo>
                  <a:lnTo>
                    <a:pt x="3892" y="657"/>
                  </a:lnTo>
                  <a:lnTo>
                    <a:pt x="3901" y="657"/>
                  </a:lnTo>
                  <a:lnTo>
                    <a:pt x="3912" y="657"/>
                  </a:lnTo>
                  <a:lnTo>
                    <a:pt x="3924" y="657"/>
                  </a:lnTo>
                  <a:lnTo>
                    <a:pt x="3938" y="657"/>
                  </a:lnTo>
                  <a:lnTo>
                    <a:pt x="3947" y="657"/>
                  </a:lnTo>
                  <a:lnTo>
                    <a:pt x="3959" y="657"/>
                  </a:lnTo>
                  <a:lnTo>
                    <a:pt x="3967" y="659"/>
                  </a:lnTo>
                  <a:lnTo>
                    <a:pt x="3979" y="659"/>
                  </a:lnTo>
                  <a:lnTo>
                    <a:pt x="3991" y="659"/>
                  </a:lnTo>
                  <a:lnTo>
                    <a:pt x="4002" y="659"/>
                  </a:lnTo>
                  <a:lnTo>
                    <a:pt x="4017" y="659"/>
                  </a:lnTo>
                  <a:lnTo>
                    <a:pt x="4026" y="659"/>
                  </a:lnTo>
                  <a:lnTo>
                    <a:pt x="4037" y="659"/>
                  </a:lnTo>
                  <a:lnTo>
                    <a:pt x="4049" y="659"/>
                  </a:lnTo>
                  <a:lnTo>
                    <a:pt x="4061" y="659"/>
                  </a:lnTo>
                  <a:lnTo>
                    <a:pt x="4072" y="659"/>
                  </a:lnTo>
                  <a:lnTo>
                    <a:pt x="4084" y="659"/>
                  </a:lnTo>
                  <a:lnTo>
                    <a:pt x="4093" y="659"/>
                  </a:lnTo>
                  <a:lnTo>
                    <a:pt x="4101" y="659"/>
                  </a:lnTo>
                  <a:lnTo>
                    <a:pt x="4110" y="659"/>
                  </a:lnTo>
                  <a:lnTo>
                    <a:pt x="4119" y="659"/>
                  </a:lnTo>
                  <a:lnTo>
                    <a:pt x="4128" y="659"/>
                  </a:lnTo>
                  <a:lnTo>
                    <a:pt x="4136" y="659"/>
                  </a:lnTo>
                  <a:lnTo>
                    <a:pt x="4142" y="668"/>
                  </a:lnTo>
                  <a:lnTo>
                    <a:pt x="4145" y="677"/>
                  </a:lnTo>
                  <a:lnTo>
                    <a:pt x="4151" y="685"/>
                  </a:lnTo>
                  <a:lnTo>
                    <a:pt x="4160" y="691"/>
                  </a:lnTo>
                  <a:lnTo>
                    <a:pt x="4168" y="700"/>
                  </a:lnTo>
                  <a:lnTo>
                    <a:pt x="4177" y="700"/>
                  </a:lnTo>
                  <a:lnTo>
                    <a:pt x="4177" y="691"/>
                  </a:lnTo>
                  <a:lnTo>
                    <a:pt x="4168" y="682"/>
                  </a:lnTo>
                  <a:lnTo>
                    <a:pt x="4168" y="674"/>
                  </a:lnTo>
                  <a:lnTo>
                    <a:pt x="4160" y="665"/>
                  </a:lnTo>
                  <a:lnTo>
                    <a:pt x="4151" y="659"/>
                  </a:lnTo>
                  <a:lnTo>
                    <a:pt x="4136" y="619"/>
                  </a:lnTo>
                  <a:lnTo>
                    <a:pt x="4142" y="60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33880" y="36291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6" y="0"/>
                  </a:moveTo>
                  <a:lnTo>
                    <a:pt x="32" y="11"/>
                  </a:lnTo>
                  <a:lnTo>
                    <a:pt x="23" y="11"/>
                  </a:lnTo>
                  <a:lnTo>
                    <a:pt x="14" y="11"/>
                  </a:lnTo>
                  <a:lnTo>
                    <a:pt x="5" y="13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8" y="33"/>
                  </a:lnTo>
                  <a:lnTo>
                    <a:pt x="17" y="30"/>
                  </a:lnTo>
                  <a:lnTo>
                    <a:pt x="23" y="22"/>
                  </a:lnTo>
                  <a:lnTo>
                    <a:pt x="23" y="13"/>
                  </a:lnTo>
                  <a:lnTo>
                    <a:pt x="26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14480" y="5259240"/>
              <a:ext cx="4320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" y="20"/>
                  </a:moveTo>
                  <a:lnTo>
                    <a:pt x="8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4" y="17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2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81200" y="4390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0"/>
                  </a:moveTo>
                  <a:lnTo>
                    <a:pt x="11" y="16"/>
                  </a:lnTo>
                  <a:lnTo>
                    <a:pt x="11" y="25"/>
                  </a:lnTo>
                  <a:lnTo>
                    <a:pt x="2" y="33"/>
                  </a:lnTo>
                  <a:lnTo>
                    <a:pt x="11" y="45"/>
                  </a:lnTo>
                  <a:lnTo>
                    <a:pt x="26" y="48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2" y="22"/>
                  </a:lnTo>
                  <a:lnTo>
                    <a:pt x="23" y="14"/>
                  </a:lnTo>
                  <a:lnTo>
                    <a:pt x="14" y="11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29600" y="16905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0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305920" y="1801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lnTo>
                    <a:pt x="8" y="11"/>
                  </a:lnTo>
                  <a:lnTo>
                    <a:pt x="14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26" y="46"/>
                  </a:lnTo>
                  <a:lnTo>
                    <a:pt x="17" y="43"/>
                  </a:lnTo>
                  <a:lnTo>
                    <a:pt x="11" y="34"/>
                  </a:lnTo>
                  <a:lnTo>
                    <a:pt x="8" y="25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24440" y="16192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6" y="70"/>
                  </a:moveTo>
                  <a:lnTo>
                    <a:pt x="0" y="78"/>
                  </a:lnTo>
                  <a:lnTo>
                    <a:pt x="0" y="70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19" y="42"/>
                  </a:lnTo>
                  <a:lnTo>
                    <a:pt x="11" y="33"/>
                  </a:lnTo>
                  <a:lnTo>
                    <a:pt x="11" y="25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11"/>
                  </a:lnTo>
                  <a:lnTo>
                    <a:pt x="45" y="16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28" y="33"/>
                  </a:lnTo>
                  <a:lnTo>
                    <a:pt x="35" y="36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5" y="56"/>
                  </a:lnTo>
                  <a:lnTo>
                    <a:pt x="45" y="64"/>
                  </a:lnTo>
                  <a:lnTo>
                    <a:pt x="43" y="72"/>
                  </a:lnTo>
                  <a:lnTo>
                    <a:pt x="50" y="75"/>
                  </a:lnTo>
                  <a:lnTo>
                    <a:pt x="55" y="84"/>
                  </a:lnTo>
                  <a:lnTo>
                    <a:pt x="50" y="92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31" y="98"/>
                  </a:lnTo>
                  <a:lnTo>
                    <a:pt x="23" y="98"/>
                  </a:lnTo>
                  <a:lnTo>
                    <a:pt x="14" y="92"/>
                  </a:lnTo>
                  <a:lnTo>
                    <a:pt x="9" y="84"/>
                  </a:lnTo>
                  <a:lnTo>
                    <a:pt x="4" y="75"/>
                  </a:lnTo>
                  <a:lnTo>
                    <a:pt x="16" y="7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48200" y="17812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4"/>
                  </a:lnTo>
                  <a:lnTo>
                    <a:pt x="16" y="18"/>
                  </a:lnTo>
                  <a:lnTo>
                    <a:pt x="4" y="0"/>
                  </a:lnTo>
                  <a:lnTo>
                    <a:pt x="16" y="1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00840" y="167328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0"/>
                  </a:moveTo>
                  <a:lnTo>
                    <a:pt x="17" y="19"/>
                  </a:lnTo>
                  <a:lnTo>
                    <a:pt x="22" y="11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25" y="27"/>
                  </a:lnTo>
                  <a:lnTo>
                    <a:pt x="28" y="36"/>
                  </a:lnTo>
                  <a:lnTo>
                    <a:pt x="11" y="30"/>
                  </a:lnTo>
                  <a:lnTo>
                    <a:pt x="0" y="33"/>
                  </a:lnTo>
                  <a:lnTo>
                    <a:pt x="11" y="3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91040" y="1490760"/>
              <a:ext cx="84240" cy="10944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31" y="51"/>
                  </a:moveTo>
                  <a:lnTo>
                    <a:pt x="8" y="34"/>
                  </a:lnTo>
                  <a:lnTo>
                    <a:pt x="8" y="42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5" y="68"/>
                  </a:lnTo>
                  <a:lnTo>
                    <a:pt x="17" y="68"/>
                  </a:lnTo>
                  <a:lnTo>
                    <a:pt x="28" y="68"/>
                  </a:lnTo>
                  <a:lnTo>
                    <a:pt x="37" y="68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2" y="34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20" y="19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7" y="45"/>
                  </a:lnTo>
                  <a:lnTo>
                    <a:pt x="31" y="51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38480" y="2170080"/>
              <a:ext cx="293760" cy="235080"/>
            </a:xfrm>
            <a:custGeom>
              <a:avLst/>
              <a:gdLst/>
              <a:ahLst/>
              <a:rect l="l" t="t" r="r" b="b"/>
              <a:pathLst>
                <a:path w="185" h="148">
                  <a:moveTo>
                    <a:pt x="0" y="101"/>
                  </a:moveTo>
                  <a:lnTo>
                    <a:pt x="11" y="84"/>
                  </a:lnTo>
                  <a:lnTo>
                    <a:pt x="11" y="93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5" y="138"/>
                  </a:lnTo>
                  <a:lnTo>
                    <a:pt x="14" y="135"/>
                  </a:lnTo>
                  <a:lnTo>
                    <a:pt x="20" y="127"/>
                  </a:lnTo>
                  <a:lnTo>
                    <a:pt x="28" y="118"/>
                  </a:lnTo>
                  <a:lnTo>
                    <a:pt x="31" y="110"/>
                  </a:lnTo>
                  <a:lnTo>
                    <a:pt x="40" y="104"/>
                  </a:lnTo>
                  <a:lnTo>
                    <a:pt x="48" y="101"/>
                  </a:lnTo>
                  <a:lnTo>
                    <a:pt x="57" y="98"/>
                  </a:lnTo>
                  <a:lnTo>
                    <a:pt x="66" y="90"/>
                  </a:lnTo>
                  <a:lnTo>
                    <a:pt x="69" y="81"/>
                  </a:lnTo>
                  <a:lnTo>
                    <a:pt x="77" y="79"/>
                  </a:lnTo>
                  <a:lnTo>
                    <a:pt x="80" y="87"/>
                  </a:lnTo>
                  <a:lnTo>
                    <a:pt x="80" y="96"/>
                  </a:lnTo>
                  <a:lnTo>
                    <a:pt x="80" y="104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71" y="130"/>
                  </a:lnTo>
                  <a:lnTo>
                    <a:pt x="74" y="138"/>
                  </a:lnTo>
                  <a:lnTo>
                    <a:pt x="83" y="141"/>
                  </a:lnTo>
                  <a:lnTo>
                    <a:pt x="94" y="141"/>
                  </a:lnTo>
                  <a:lnTo>
                    <a:pt x="103" y="138"/>
                  </a:lnTo>
                  <a:lnTo>
                    <a:pt x="109" y="130"/>
                  </a:lnTo>
                  <a:lnTo>
                    <a:pt x="109" y="121"/>
                  </a:lnTo>
                  <a:lnTo>
                    <a:pt x="100" y="113"/>
                  </a:lnTo>
                  <a:lnTo>
                    <a:pt x="106" y="101"/>
                  </a:lnTo>
                  <a:lnTo>
                    <a:pt x="100" y="90"/>
                  </a:lnTo>
                  <a:lnTo>
                    <a:pt x="97" y="81"/>
                  </a:lnTo>
                  <a:lnTo>
                    <a:pt x="97" y="73"/>
                  </a:lnTo>
                  <a:lnTo>
                    <a:pt x="97" y="65"/>
                  </a:lnTo>
                  <a:lnTo>
                    <a:pt x="103" y="56"/>
                  </a:lnTo>
                  <a:lnTo>
                    <a:pt x="112" y="56"/>
                  </a:lnTo>
                  <a:lnTo>
                    <a:pt x="120" y="53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52" y="56"/>
                  </a:lnTo>
                  <a:lnTo>
                    <a:pt x="166" y="56"/>
                  </a:lnTo>
                  <a:lnTo>
                    <a:pt x="175" y="56"/>
                  </a:lnTo>
                  <a:lnTo>
                    <a:pt x="184" y="56"/>
                  </a:lnTo>
                  <a:lnTo>
                    <a:pt x="184" y="48"/>
                  </a:lnTo>
                  <a:lnTo>
                    <a:pt x="184" y="39"/>
                  </a:lnTo>
                  <a:lnTo>
                    <a:pt x="181" y="31"/>
                  </a:lnTo>
                  <a:lnTo>
                    <a:pt x="178" y="22"/>
                  </a:lnTo>
                  <a:lnTo>
                    <a:pt x="166" y="16"/>
                  </a:lnTo>
                  <a:lnTo>
                    <a:pt x="158" y="16"/>
                  </a:lnTo>
                  <a:lnTo>
                    <a:pt x="146" y="16"/>
                  </a:lnTo>
                  <a:lnTo>
                    <a:pt x="138" y="19"/>
                  </a:lnTo>
                  <a:lnTo>
                    <a:pt x="140" y="11"/>
                  </a:lnTo>
                  <a:lnTo>
                    <a:pt x="140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12" y="11"/>
                  </a:lnTo>
                  <a:lnTo>
                    <a:pt x="103" y="16"/>
                  </a:lnTo>
                  <a:lnTo>
                    <a:pt x="97" y="25"/>
                  </a:lnTo>
                  <a:lnTo>
                    <a:pt x="94" y="16"/>
                  </a:lnTo>
                  <a:lnTo>
                    <a:pt x="86" y="14"/>
                  </a:lnTo>
                  <a:lnTo>
                    <a:pt x="77" y="19"/>
                  </a:lnTo>
                  <a:lnTo>
                    <a:pt x="69" y="25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63" y="2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7" y="25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23" y="48"/>
                  </a:lnTo>
                  <a:lnTo>
                    <a:pt x="31" y="48"/>
                  </a:lnTo>
                  <a:lnTo>
                    <a:pt x="40" y="42"/>
                  </a:lnTo>
                  <a:lnTo>
                    <a:pt x="51" y="45"/>
                  </a:lnTo>
                  <a:lnTo>
                    <a:pt x="57" y="53"/>
                  </a:lnTo>
                  <a:lnTo>
                    <a:pt x="60" y="62"/>
                  </a:lnTo>
                  <a:lnTo>
                    <a:pt x="51" y="65"/>
                  </a:lnTo>
                  <a:lnTo>
                    <a:pt x="40" y="65"/>
                  </a:lnTo>
                  <a:lnTo>
                    <a:pt x="28" y="59"/>
                  </a:lnTo>
                  <a:lnTo>
                    <a:pt x="17" y="59"/>
                  </a:lnTo>
                  <a:lnTo>
                    <a:pt x="8" y="65"/>
                  </a:lnTo>
                  <a:lnTo>
                    <a:pt x="8" y="76"/>
                  </a:lnTo>
                  <a:lnTo>
                    <a:pt x="11" y="87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6"/>
                  </a:lnTo>
                  <a:lnTo>
                    <a:pt x="0" y="101"/>
                  </a:lnTo>
                  <a:lnTo>
                    <a:pt x="5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0" y="1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95760" y="2171880"/>
              <a:ext cx="220680" cy="18072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31" y="53"/>
                  </a:moveTo>
                  <a:lnTo>
                    <a:pt x="25" y="64"/>
                  </a:lnTo>
                  <a:lnTo>
                    <a:pt x="31" y="53"/>
                  </a:lnTo>
                  <a:lnTo>
                    <a:pt x="43" y="56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7" y="79"/>
                  </a:lnTo>
                  <a:lnTo>
                    <a:pt x="23" y="90"/>
                  </a:lnTo>
                  <a:lnTo>
                    <a:pt x="25" y="98"/>
                  </a:lnTo>
                  <a:lnTo>
                    <a:pt x="31" y="107"/>
                  </a:lnTo>
                  <a:lnTo>
                    <a:pt x="34" y="98"/>
                  </a:lnTo>
                  <a:lnTo>
                    <a:pt x="34" y="90"/>
                  </a:lnTo>
                  <a:lnTo>
                    <a:pt x="43" y="90"/>
                  </a:lnTo>
                  <a:lnTo>
                    <a:pt x="54" y="93"/>
                  </a:lnTo>
                  <a:lnTo>
                    <a:pt x="63" y="96"/>
                  </a:lnTo>
                  <a:lnTo>
                    <a:pt x="71" y="96"/>
                  </a:lnTo>
                  <a:lnTo>
                    <a:pt x="80" y="87"/>
                  </a:lnTo>
                  <a:lnTo>
                    <a:pt x="89" y="87"/>
                  </a:lnTo>
                  <a:lnTo>
                    <a:pt x="97" y="93"/>
                  </a:lnTo>
                  <a:lnTo>
                    <a:pt x="103" y="107"/>
                  </a:lnTo>
                  <a:lnTo>
                    <a:pt x="112" y="110"/>
                  </a:lnTo>
                  <a:lnTo>
                    <a:pt x="120" y="113"/>
                  </a:lnTo>
                  <a:lnTo>
                    <a:pt x="126" y="104"/>
                  </a:lnTo>
                  <a:lnTo>
                    <a:pt x="123" y="96"/>
                  </a:lnTo>
                  <a:lnTo>
                    <a:pt x="115" y="90"/>
                  </a:lnTo>
                  <a:lnTo>
                    <a:pt x="106" y="87"/>
                  </a:lnTo>
                  <a:lnTo>
                    <a:pt x="94" y="81"/>
                  </a:lnTo>
                  <a:lnTo>
                    <a:pt x="92" y="73"/>
                  </a:lnTo>
                  <a:lnTo>
                    <a:pt x="103" y="70"/>
                  </a:lnTo>
                  <a:lnTo>
                    <a:pt x="112" y="70"/>
                  </a:lnTo>
                  <a:lnTo>
                    <a:pt x="115" y="62"/>
                  </a:lnTo>
                  <a:lnTo>
                    <a:pt x="120" y="53"/>
                  </a:lnTo>
                  <a:lnTo>
                    <a:pt x="129" y="48"/>
                  </a:lnTo>
                  <a:lnTo>
                    <a:pt x="138" y="39"/>
                  </a:lnTo>
                  <a:lnTo>
                    <a:pt x="129" y="33"/>
                  </a:lnTo>
                  <a:lnTo>
                    <a:pt x="120" y="31"/>
                  </a:lnTo>
                  <a:lnTo>
                    <a:pt x="112" y="33"/>
                  </a:lnTo>
                  <a:lnTo>
                    <a:pt x="106" y="42"/>
                  </a:lnTo>
                  <a:lnTo>
                    <a:pt x="97" y="45"/>
                  </a:lnTo>
                  <a:lnTo>
                    <a:pt x="97" y="36"/>
                  </a:lnTo>
                  <a:lnTo>
                    <a:pt x="100" y="25"/>
                  </a:lnTo>
                  <a:lnTo>
                    <a:pt x="100" y="16"/>
                  </a:lnTo>
                  <a:lnTo>
                    <a:pt x="103" y="8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0" y="8"/>
                  </a:lnTo>
                  <a:lnTo>
                    <a:pt x="77" y="16"/>
                  </a:lnTo>
                  <a:lnTo>
                    <a:pt x="74" y="25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1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3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23" y="64"/>
                  </a:lnTo>
                  <a:lnTo>
                    <a:pt x="31" y="64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77" y="53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05520" y="2079720"/>
              <a:ext cx="298440" cy="156960"/>
            </a:xfrm>
            <a:custGeom>
              <a:avLst/>
              <a:gdLst/>
              <a:ahLst/>
              <a:rect l="l" t="t" r="r" b="b"/>
              <a:pathLst>
                <a:path w="188" h="99">
                  <a:moveTo>
                    <a:pt x="0" y="17"/>
                  </a:moveTo>
                  <a:lnTo>
                    <a:pt x="25" y="25"/>
                  </a:lnTo>
                  <a:lnTo>
                    <a:pt x="37" y="25"/>
                  </a:lnTo>
                  <a:lnTo>
                    <a:pt x="43" y="34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63" y="69"/>
                  </a:lnTo>
                  <a:lnTo>
                    <a:pt x="63" y="80"/>
                  </a:lnTo>
                  <a:lnTo>
                    <a:pt x="71" y="83"/>
                  </a:lnTo>
                  <a:lnTo>
                    <a:pt x="80" y="77"/>
                  </a:lnTo>
                  <a:lnTo>
                    <a:pt x="89" y="77"/>
                  </a:lnTo>
                  <a:lnTo>
                    <a:pt x="97" y="77"/>
                  </a:lnTo>
                  <a:lnTo>
                    <a:pt x="106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5" y="74"/>
                  </a:lnTo>
                  <a:lnTo>
                    <a:pt x="143" y="77"/>
                  </a:lnTo>
                  <a:lnTo>
                    <a:pt x="152" y="86"/>
                  </a:lnTo>
                  <a:lnTo>
                    <a:pt x="163" y="98"/>
                  </a:lnTo>
                  <a:lnTo>
                    <a:pt x="169" y="89"/>
                  </a:lnTo>
                  <a:lnTo>
                    <a:pt x="175" y="80"/>
                  </a:lnTo>
                  <a:lnTo>
                    <a:pt x="181" y="72"/>
                  </a:lnTo>
                  <a:lnTo>
                    <a:pt x="187" y="60"/>
                  </a:lnTo>
                  <a:lnTo>
                    <a:pt x="187" y="51"/>
                  </a:lnTo>
                  <a:lnTo>
                    <a:pt x="187" y="43"/>
                  </a:lnTo>
                  <a:lnTo>
                    <a:pt x="181" y="34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5" y="34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9" y="40"/>
                  </a:lnTo>
                  <a:lnTo>
                    <a:pt x="129" y="49"/>
                  </a:lnTo>
                  <a:lnTo>
                    <a:pt x="129" y="57"/>
                  </a:lnTo>
                  <a:lnTo>
                    <a:pt x="120" y="51"/>
                  </a:lnTo>
                  <a:lnTo>
                    <a:pt x="109" y="43"/>
                  </a:lnTo>
                  <a:lnTo>
                    <a:pt x="100" y="34"/>
                  </a:lnTo>
                  <a:lnTo>
                    <a:pt x="86" y="25"/>
                  </a:lnTo>
                  <a:lnTo>
                    <a:pt x="83" y="37"/>
                  </a:lnTo>
                  <a:lnTo>
                    <a:pt x="74" y="40"/>
                  </a:lnTo>
                  <a:lnTo>
                    <a:pt x="74" y="31"/>
                  </a:lnTo>
                  <a:lnTo>
                    <a:pt x="69" y="23"/>
                  </a:lnTo>
                  <a:lnTo>
                    <a:pt x="60" y="17"/>
                  </a:lnTo>
                  <a:lnTo>
                    <a:pt x="51" y="8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8" y="8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0" y="1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74960" y="2954160"/>
              <a:ext cx="680760" cy="700200"/>
            </a:xfrm>
            <a:custGeom>
              <a:avLst/>
              <a:gdLst/>
              <a:ahLst/>
              <a:rect l="l" t="t" r="r" b="b"/>
              <a:pathLst>
                <a:path w="429" h="441">
                  <a:moveTo>
                    <a:pt x="22" y="309"/>
                  </a:moveTo>
                  <a:lnTo>
                    <a:pt x="34" y="315"/>
                  </a:lnTo>
                  <a:lnTo>
                    <a:pt x="43" y="318"/>
                  </a:lnTo>
                  <a:lnTo>
                    <a:pt x="51" y="321"/>
                  </a:lnTo>
                  <a:lnTo>
                    <a:pt x="54" y="333"/>
                  </a:lnTo>
                  <a:lnTo>
                    <a:pt x="63" y="342"/>
                  </a:lnTo>
                  <a:lnTo>
                    <a:pt x="71" y="348"/>
                  </a:lnTo>
                  <a:lnTo>
                    <a:pt x="80" y="348"/>
                  </a:lnTo>
                  <a:lnTo>
                    <a:pt x="91" y="355"/>
                  </a:lnTo>
                  <a:lnTo>
                    <a:pt x="100" y="361"/>
                  </a:lnTo>
                  <a:lnTo>
                    <a:pt x="109" y="364"/>
                  </a:lnTo>
                  <a:lnTo>
                    <a:pt x="112" y="373"/>
                  </a:lnTo>
                  <a:lnTo>
                    <a:pt x="117" y="382"/>
                  </a:lnTo>
                  <a:lnTo>
                    <a:pt x="123" y="391"/>
                  </a:lnTo>
                  <a:lnTo>
                    <a:pt x="132" y="397"/>
                  </a:lnTo>
                  <a:lnTo>
                    <a:pt x="146" y="406"/>
                  </a:lnTo>
                  <a:lnTo>
                    <a:pt x="155" y="412"/>
                  </a:lnTo>
                  <a:lnTo>
                    <a:pt x="163" y="418"/>
                  </a:lnTo>
                  <a:lnTo>
                    <a:pt x="172" y="421"/>
                  </a:lnTo>
                  <a:lnTo>
                    <a:pt x="180" y="430"/>
                  </a:lnTo>
                  <a:lnTo>
                    <a:pt x="189" y="436"/>
                  </a:lnTo>
                  <a:lnTo>
                    <a:pt x="198" y="440"/>
                  </a:lnTo>
                  <a:lnTo>
                    <a:pt x="203" y="430"/>
                  </a:lnTo>
                  <a:lnTo>
                    <a:pt x="203" y="421"/>
                  </a:lnTo>
                  <a:lnTo>
                    <a:pt x="203" y="412"/>
                  </a:lnTo>
                  <a:lnTo>
                    <a:pt x="215" y="406"/>
                  </a:lnTo>
                  <a:lnTo>
                    <a:pt x="224" y="406"/>
                  </a:lnTo>
                  <a:lnTo>
                    <a:pt x="232" y="406"/>
                  </a:lnTo>
                  <a:lnTo>
                    <a:pt x="241" y="406"/>
                  </a:lnTo>
                  <a:lnTo>
                    <a:pt x="249" y="406"/>
                  </a:lnTo>
                  <a:lnTo>
                    <a:pt x="258" y="406"/>
                  </a:lnTo>
                  <a:lnTo>
                    <a:pt x="261" y="397"/>
                  </a:lnTo>
                  <a:lnTo>
                    <a:pt x="261" y="388"/>
                  </a:lnTo>
                  <a:lnTo>
                    <a:pt x="261" y="379"/>
                  </a:lnTo>
                  <a:lnTo>
                    <a:pt x="261" y="367"/>
                  </a:lnTo>
                  <a:lnTo>
                    <a:pt x="261" y="355"/>
                  </a:lnTo>
                  <a:lnTo>
                    <a:pt x="252" y="348"/>
                  </a:lnTo>
                  <a:lnTo>
                    <a:pt x="244" y="348"/>
                  </a:lnTo>
                  <a:lnTo>
                    <a:pt x="235" y="342"/>
                  </a:lnTo>
                  <a:lnTo>
                    <a:pt x="229" y="333"/>
                  </a:lnTo>
                  <a:lnTo>
                    <a:pt x="229" y="324"/>
                  </a:lnTo>
                  <a:lnTo>
                    <a:pt x="238" y="321"/>
                  </a:lnTo>
                  <a:lnTo>
                    <a:pt x="247" y="315"/>
                  </a:lnTo>
                  <a:lnTo>
                    <a:pt x="255" y="312"/>
                  </a:lnTo>
                  <a:lnTo>
                    <a:pt x="261" y="303"/>
                  </a:lnTo>
                  <a:lnTo>
                    <a:pt x="261" y="294"/>
                  </a:lnTo>
                  <a:lnTo>
                    <a:pt x="264" y="285"/>
                  </a:lnTo>
                  <a:lnTo>
                    <a:pt x="264" y="276"/>
                  </a:lnTo>
                  <a:lnTo>
                    <a:pt x="267" y="267"/>
                  </a:lnTo>
                  <a:lnTo>
                    <a:pt x="272" y="257"/>
                  </a:lnTo>
                  <a:lnTo>
                    <a:pt x="278" y="248"/>
                  </a:lnTo>
                  <a:lnTo>
                    <a:pt x="284" y="239"/>
                  </a:lnTo>
                  <a:lnTo>
                    <a:pt x="284" y="230"/>
                  </a:lnTo>
                  <a:lnTo>
                    <a:pt x="284" y="221"/>
                  </a:lnTo>
                  <a:lnTo>
                    <a:pt x="284" y="209"/>
                  </a:lnTo>
                  <a:lnTo>
                    <a:pt x="292" y="200"/>
                  </a:lnTo>
                  <a:lnTo>
                    <a:pt x="295" y="191"/>
                  </a:lnTo>
                  <a:lnTo>
                    <a:pt x="298" y="182"/>
                  </a:lnTo>
                  <a:lnTo>
                    <a:pt x="301" y="172"/>
                  </a:lnTo>
                  <a:lnTo>
                    <a:pt x="292" y="163"/>
                  </a:lnTo>
                  <a:lnTo>
                    <a:pt x="284" y="154"/>
                  </a:lnTo>
                  <a:lnTo>
                    <a:pt x="278" y="145"/>
                  </a:lnTo>
                  <a:lnTo>
                    <a:pt x="287" y="142"/>
                  </a:lnTo>
                  <a:lnTo>
                    <a:pt x="295" y="142"/>
                  </a:lnTo>
                  <a:lnTo>
                    <a:pt x="304" y="148"/>
                  </a:lnTo>
                  <a:lnTo>
                    <a:pt x="313" y="157"/>
                  </a:lnTo>
                  <a:lnTo>
                    <a:pt x="321" y="163"/>
                  </a:lnTo>
                  <a:lnTo>
                    <a:pt x="327" y="154"/>
                  </a:lnTo>
                  <a:lnTo>
                    <a:pt x="336" y="148"/>
                  </a:lnTo>
                  <a:lnTo>
                    <a:pt x="344" y="148"/>
                  </a:lnTo>
                  <a:lnTo>
                    <a:pt x="353" y="145"/>
                  </a:lnTo>
                  <a:lnTo>
                    <a:pt x="361" y="142"/>
                  </a:lnTo>
                  <a:lnTo>
                    <a:pt x="361" y="133"/>
                  </a:lnTo>
                  <a:lnTo>
                    <a:pt x="361" y="124"/>
                  </a:lnTo>
                  <a:lnTo>
                    <a:pt x="361" y="115"/>
                  </a:lnTo>
                  <a:lnTo>
                    <a:pt x="359" y="106"/>
                  </a:lnTo>
                  <a:lnTo>
                    <a:pt x="353" y="97"/>
                  </a:lnTo>
                  <a:lnTo>
                    <a:pt x="344" y="88"/>
                  </a:lnTo>
                  <a:lnTo>
                    <a:pt x="333" y="81"/>
                  </a:lnTo>
                  <a:lnTo>
                    <a:pt x="341" y="75"/>
                  </a:lnTo>
                  <a:lnTo>
                    <a:pt x="353" y="75"/>
                  </a:lnTo>
                  <a:lnTo>
                    <a:pt x="361" y="75"/>
                  </a:lnTo>
                  <a:lnTo>
                    <a:pt x="370" y="75"/>
                  </a:lnTo>
                  <a:lnTo>
                    <a:pt x="379" y="72"/>
                  </a:lnTo>
                  <a:lnTo>
                    <a:pt x="387" y="69"/>
                  </a:lnTo>
                  <a:lnTo>
                    <a:pt x="396" y="69"/>
                  </a:lnTo>
                  <a:lnTo>
                    <a:pt x="405" y="72"/>
                  </a:lnTo>
                  <a:lnTo>
                    <a:pt x="419" y="75"/>
                  </a:lnTo>
                  <a:lnTo>
                    <a:pt x="428" y="75"/>
                  </a:lnTo>
                  <a:lnTo>
                    <a:pt x="425" y="66"/>
                  </a:lnTo>
                  <a:lnTo>
                    <a:pt x="422" y="57"/>
                  </a:lnTo>
                  <a:lnTo>
                    <a:pt x="419" y="48"/>
                  </a:lnTo>
                  <a:lnTo>
                    <a:pt x="410" y="48"/>
                  </a:lnTo>
                  <a:lnTo>
                    <a:pt x="402" y="48"/>
                  </a:lnTo>
                  <a:lnTo>
                    <a:pt x="390" y="48"/>
                  </a:lnTo>
                  <a:lnTo>
                    <a:pt x="382" y="48"/>
                  </a:lnTo>
                  <a:lnTo>
                    <a:pt x="379" y="57"/>
                  </a:lnTo>
                  <a:lnTo>
                    <a:pt x="370" y="54"/>
                  </a:lnTo>
                  <a:lnTo>
                    <a:pt x="361" y="45"/>
                  </a:lnTo>
                  <a:lnTo>
                    <a:pt x="353" y="39"/>
                  </a:lnTo>
                  <a:lnTo>
                    <a:pt x="341" y="39"/>
                  </a:lnTo>
                  <a:lnTo>
                    <a:pt x="333" y="39"/>
                  </a:lnTo>
                  <a:lnTo>
                    <a:pt x="318" y="39"/>
                  </a:lnTo>
                  <a:lnTo>
                    <a:pt x="310" y="39"/>
                  </a:lnTo>
                  <a:lnTo>
                    <a:pt x="298" y="42"/>
                  </a:lnTo>
                  <a:lnTo>
                    <a:pt x="290" y="42"/>
                  </a:lnTo>
                  <a:lnTo>
                    <a:pt x="290" y="33"/>
                  </a:lnTo>
                  <a:lnTo>
                    <a:pt x="298" y="30"/>
                  </a:lnTo>
                  <a:lnTo>
                    <a:pt x="307" y="30"/>
                  </a:lnTo>
                  <a:lnTo>
                    <a:pt x="315" y="27"/>
                  </a:lnTo>
                  <a:lnTo>
                    <a:pt x="324" y="24"/>
                  </a:lnTo>
                  <a:lnTo>
                    <a:pt x="327" y="15"/>
                  </a:lnTo>
                  <a:lnTo>
                    <a:pt x="327" y="6"/>
                  </a:lnTo>
                  <a:lnTo>
                    <a:pt x="318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3"/>
                  </a:lnTo>
                  <a:lnTo>
                    <a:pt x="275" y="12"/>
                  </a:lnTo>
                  <a:lnTo>
                    <a:pt x="267" y="18"/>
                  </a:lnTo>
                  <a:lnTo>
                    <a:pt x="258" y="21"/>
                  </a:lnTo>
                  <a:lnTo>
                    <a:pt x="255" y="30"/>
                  </a:lnTo>
                  <a:lnTo>
                    <a:pt x="264" y="36"/>
                  </a:lnTo>
                  <a:lnTo>
                    <a:pt x="272" y="36"/>
                  </a:lnTo>
                  <a:lnTo>
                    <a:pt x="278" y="45"/>
                  </a:lnTo>
                  <a:lnTo>
                    <a:pt x="270" y="54"/>
                  </a:lnTo>
                  <a:lnTo>
                    <a:pt x="267" y="63"/>
                  </a:lnTo>
                  <a:lnTo>
                    <a:pt x="281" y="75"/>
                  </a:lnTo>
                  <a:lnTo>
                    <a:pt x="290" y="78"/>
                  </a:lnTo>
                  <a:lnTo>
                    <a:pt x="281" y="75"/>
                  </a:lnTo>
                  <a:lnTo>
                    <a:pt x="270" y="66"/>
                  </a:lnTo>
                  <a:lnTo>
                    <a:pt x="261" y="60"/>
                  </a:lnTo>
                  <a:lnTo>
                    <a:pt x="252" y="51"/>
                  </a:lnTo>
                  <a:lnTo>
                    <a:pt x="244" y="51"/>
                  </a:lnTo>
                  <a:lnTo>
                    <a:pt x="241" y="60"/>
                  </a:lnTo>
                  <a:lnTo>
                    <a:pt x="241" y="69"/>
                  </a:lnTo>
                  <a:lnTo>
                    <a:pt x="255" y="78"/>
                  </a:lnTo>
                  <a:lnTo>
                    <a:pt x="264" y="81"/>
                  </a:lnTo>
                  <a:lnTo>
                    <a:pt x="255" y="88"/>
                  </a:lnTo>
                  <a:lnTo>
                    <a:pt x="244" y="88"/>
                  </a:lnTo>
                  <a:lnTo>
                    <a:pt x="235" y="88"/>
                  </a:lnTo>
                  <a:lnTo>
                    <a:pt x="235" y="103"/>
                  </a:lnTo>
                  <a:lnTo>
                    <a:pt x="244" y="106"/>
                  </a:lnTo>
                  <a:lnTo>
                    <a:pt x="252" y="109"/>
                  </a:lnTo>
                  <a:lnTo>
                    <a:pt x="244" y="115"/>
                  </a:lnTo>
                  <a:lnTo>
                    <a:pt x="235" y="112"/>
                  </a:lnTo>
                  <a:lnTo>
                    <a:pt x="226" y="109"/>
                  </a:lnTo>
                  <a:lnTo>
                    <a:pt x="218" y="106"/>
                  </a:lnTo>
                  <a:lnTo>
                    <a:pt x="212" y="115"/>
                  </a:lnTo>
                  <a:lnTo>
                    <a:pt x="218" y="124"/>
                  </a:lnTo>
                  <a:lnTo>
                    <a:pt x="229" y="127"/>
                  </a:lnTo>
                  <a:lnTo>
                    <a:pt x="238" y="130"/>
                  </a:lnTo>
                  <a:lnTo>
                    <a:pt x="229" y="124"/>
                  </a:lnTo>
                  <a:lnTo>
                    <a:pt x="221" y="121"/>
                  </a:lnTo>
                  <a:lnTo>
                    <a:pt x="209" y="115"/>
                  </a:lnTo>
                  <a:lnTo>
                    <a:pt x="198" y="106"/>
                  </a:lnTo>
                  <a:lnTo>
                    <a:pt x="192" y="97"/>
                  </a:lnTo>
                  <a:lnTo>
                    <a:pt x="183" y="91"/>
                  </a:lnTo>
                  <a:lnTo>
                    <a:pt x="180" y="81"/>
                  </a:lnTo>
                  <a:lnTo>
                    <a:pt x="178" y="72"/>
                  </a:lnTo>
                  <a:lnTo>
                    <a:pt x="169" y="60"/>
                  </a:lnTo>
                  <a:lnTo>
                    <a:pt x="160" y="60"/>
                  </a:lnTo>
                  <a:lnTo>
                    <a:pt x="152" y="66"/>
                  </a:lnTo>
                  <a:lnTo>
                    <a:pt x="149" y="75"/>
                  </a:lnTo>
                  <a:lnTo>
                    <a:pt x="146" y="84"/>
                  </a:lnTo>
                  <a:lnTo>
                    <a:pt x="143" y="94"/>
                  </a:lnTo>
                  <a:lnTo>
                    <a:pt x="140" y="103"/>
                  </a:lnTo>
                  <a:lnTo>
                    <a:pt x="129" y="103"/>
                  </a:lnTo>
                  <a:lnTo>
                    <a:pt x="117" y="94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0" y="60"/>
                  </a:lnTo>
                  <a:lnTo>
                    <a:pt x="89" y="60"/>
                  </a:lnTo>
                  <a:lnTo>
                    <a:pt x="80" y="66"/>
                  </a:lnTo>
                  <a:lnTo>
                    <a:pt x="77" y="75"/>
                  </a:lnTo>
                  <a:lnTo>
                    <a:pt x="71" y="84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51" y="127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0" y="127"/>
                  </a:lnTo>
                  <a:lnTo>
                    <a:pt x="51" y="121"/>
                  </a:lnTo>
                  <a:lnTo>
                    <a:pt x="43" y="118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4" y="115"/>
                  </a:lnTo>
                  <a:lnTo>
                    <a:pt x="11" y="124"/>
                  </a:lnTo>
                  <a:lnTo>
                    <a:pt x="8" y="133"/>
                  </a:lnTo>
                  <a:lnTo>
                    <a:pt x="2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4" y="169"/>
                  </a:lnTo>
                  <a:lnTo>
                    <a:pt x="22" y="172"/>
                  </a:lnTo>
                  <a:lnTo>
                    <a:pt x="31" y="172"/>
                  </a:lnTo>
                  <a:lnTo>
                    <a:pt x="40" y="176"/>
                  </a:lnTo>
                  <a:lnTo>
                    <a:pt x="51" y="185"/>
                  </a:lnTo>
                  <a:lnTo>
                    <a:pt x="60" y="191"/>
                  </a:lnTo>
                  <a:lnTo>
                    <a:pt x="68" y="197"/>
                  </a:lnTo>
                  <a:lnTo>
                    <a:pt x="80" y="200"/>
                  </a:lnTo>
                  <a:lnTo>
                    <a:pt x="89" y="203"/>
                  </a:lnTo>
                  <a:lnTo>
                    <a:pt x="100" y="203"/>
                  </a:lnTo>
                  <a:lnTo>
                    <a:pt x="109" y="203"/>
                  </a:lnTo>
                  <a:lnTo>
                    <a:pt x="120" y="197"/>
                  </a:lnTo>
                  <a:lnTo>
                    <a:pt x="129" y="194"/>
                  </a:lnTo>
                  <a:lnTo>
                    <a:pt x="135" y="185"/>
                  </a:lnTo>
                  <a:lnTo>
                    <a:pt x="143" y="179"/>
                  </a:lnTo>
                  <a:lnTo>
                    <a:pt x="149" y="169"/>
                  </a:lnTo>
                  <a:lnTo>
                    <a:pt x="157" y="163"/>
                  </a:lnTo>
                  <a:lnTo>
                    <a:pt x="166" y="163"/>
                  </a:lnTo>
                  <a:lnTo>
                    <a:pt x="175" y="166"/>
                  </a:lnTo>
                  <a:lnTo>
                    <a:pt x="183" y="166"/>
                  </a:lnTo>
                  <a:lnTo>
                    <a:pt x="192" y="157"/>
                  </a:lnTo>
                  <a:lnTo>
                    <a:pt x="198" y="148"/>
                  </a:lnTo>
                  <a:lnTo>
                    <a:pt x="201" y="139"/>
                  </a:lnTo>
                  <a:lnTo>
                    <a:pt x="203" y="130"/>
                  </a:lnTo>
                  <a:lnTo>
                    <a:pt x="212" y="130"/>
                  </a:lnTo>
                  <a:lnTo>
                    <a:pt x="224" y="136"/>
                  </a:lnTo>
                  <a:lnTo>
                    <a:pt x="232" y="139"/>
                  </a:lnTo>
                  <a:lnTo>
                    <a:pt x="241" y="142"/>
                  </a:lnTo>
                  <a:lnTo>
                    <a:pt x="232" y="142"/>
                  </a:lnTo>
                  <a:lnTo>
                    <a:pt x="224" y="142"/>
                  </a:lnTo>
                  <a:lnTo>
                    <a:pt x="215" y="142"/>
                  </a:lnTo>
                  <a:lnTo>
                    <a:pt x="206" y="142"/>
                  </a:lnTo>
                  <a:lnTo>
                    <a:pt x="203" y="151"/>
                  </a:lnTo>
                  <a:lnTo>
                    <a:pt x="201" y="160"/>
                  </a:lnTo>
                  <a:lnTo>
                    <a:pt x="201" y="169"/>
                  </a:lnTo>
                  <a:lnTo>
                    <a:pt x="209" y="176"/>
                  </a:lnTo>
                  <a:lnTo>
                    <a:pt x="218" y="179"/>
                  </a:lnTo>
                  <a:lnTo>
                    <a:pt x="226" y="188"/>
                  </a:lnTo>
                  <a:lnTo>
                    <a:pt x="235" y="194"/>
                  </a:lnTo>
                  <a:lnTo>
                    <a:pt x="238" y="203"/>
                  </a:lnTo>
                  <a:lnTo>
                    <a:pt x="226" y="206"/>
                  </a:lnTo>
                  <a:lnTo>
                    <a:pt x="224" y="215"/>
                  </a:lnTo>
                  <a:lnTo>
                    <a:pt x="224" y="224"/>
                  </a:lnTo>
                  <a:lnTo>
                    <a:pt x="221" y="233"/>
                  </a:lnTo>
                  <a:lnTo>
                    <a:pt x="209" y="233"/>
                  </a:lnTo>
                  <a:lnTo>
                    <a:pt x="203" y="245"/>
                  </a:lnTo>
                  <a:lnTo>
                    <a:pt x="198" y="257"/>
                  </a:lnTo>
                  <a:lnTo>
                    <a:pt x="195" y="267"/>
                  </a:lnTo>
                  <a:lnTo>
                    <a:pt x="186" y="267"/>
                  </a:lnTo>
                  <a:lnTo>
                    <a:pt x="183" y="257"/>
                  </a:lnTo>
                  <a:lnTo>
                    <a:pt x="178" y="245"/>
                  </a:lnTo>
                  <a:lnTo>
                    <a:pt x="175" y="233"/>
                  </a:lnTo>
                  <a:lnTo>
                    <a:pt x="166" y="224"/>
                  </a:lnTo>
                  <a:lnTo>
                    <a:pt x="157" y="221"/>
                  </a:lnTo>
                  <a:lnTo>
                    <a:pt x="149" y="218"/>
                  </a:lnTo>
                  <a:lnTo>
                    <a:pt x="137" y="224"/>
                  </a:lnTo>
                  <a:lnTo>
                    <a:pt x="140" y="236"/>
                  </a:lnTo>
                  <a:lnTo>
                    <a:pt x="143" y="245"/>
                  </a:lnTo>
                  <a:lnTo>
                    <a:pt x="143" y="254"/>
                  </a:lnTo>
                  <a:lnTo>
                    <a:pt x="135" y="260"/>
                  </a:lnTo>
                  <a:lnTo>
                    <a:pt x="126" y="260"/>
                  </a:lnTo>
                  <a:lnTo>
                    <a:pt x="114" y="257"/>
                  </a:lnTo>
                  <a:lnTo>
                    <a:pt x="106" y="257"/>
                  </a:lnTo>
                  <a:lnTo>
                    <a:pt x="97" y="257"/>
                  </a:lnTo>
                  <a:lnTo>
                    <a:pt x="89" y="257"/>
                  </a:lnTo>
                  <a:lnTo>
                    <a:pt x="91" y="267"/>
                  </a:lnTo>
                  <a:lnTo>
                    <a:pt x="100" y="276"/>
                  </a:lnTo>
                  <a:lnTo>
                    <a:pt x="100" y="285"/>
                  </a:lnTo>
                  <a:lnTo>
                    <a:pt x="97" y="294"/>
                  </a:lnTo>
                  <a:lnTo>
                    <a:pt x="97" y="303"/>
                  </a:lnTo>
                  <a:lnTo>
                    <a:pt x="109" y="312"/>
                  </a:lnTo>
                  <a:lnTo>
                    <a:pt x="117" y="318"/>
                  </a:lnTo>
                  <a:lnTo>
                    <a:pt x="109" y="318"/>
                  </a:lnTo>
                  <a:lnTo>
                    <a:pt x="100" y="309"/>
                  </a:lnTo>
                  <a:lnTo>
                    <a:pt x="89" y="300"/>
                  </a:lnTo>
                  <a:lnTo>
                    <a:pt x="80" y="297"/>
                  </a:lnTo>
                  <a:lnTo>
                    <a:pt x="71" y="297"/>
                  </a:lnTo>
                  <a:lnTo>
                    <a:pt x="63" y="300"/>
                  </a:lnTo>
                  <a:lnTo>
                    <a:pt x="54" y="306"/>
                  </a:lnTo>
                  <a:lnTo>
                    <a:pt x="43" y="306"/>
                  </a:lnTo>
                  <a:lnTo>
                    <a:pt x="34" y="306"/>
                  </a:lnTo>
                  <a:lnTo>
                    <a:pt x="22" y="309"/>
                  </a:lnTo>
                  <a:lnTo>
                    <a:pt x="11" y="303"/>
                  </a:lnTo>
                  <a:lnTo>
                    <a:pt x="22" y="309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43200" y="27082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2"/>
                  </a:moveTo>
                  <a:lnTo>
                    <a:pt x="8" y="19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34" y="22"/>
                  </a:lnTo>
                  <a:lnTo>
                    <a:pt x="40" y="13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76680" y="294012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5" y="0"/>
                  </a:moveTo>
                  <a:lnTo>
                    <a:pt x="20" y="13"/>
                  </a:lnTo>
                  <a:lnTo>
                    <a:pt x="11" y="16"/>
                  </a:lnTo>
                  <a:lnTo>
                    <a:pt x="8" y="24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4" y="30"/>
                  </a:lnTo>
                  <a:lnTo>
                    <a:pt x="40" y="21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25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10160" y="2549520"/>
              <a:ext cx="339840" cy="509760"/>
            </a:xfrm>
            <a:custGeom>
              <a:avLst/>
              <a:gdLst/>
              <a:ahLst/>
              <a:rect l="l" t="t" r="r" b="b"/>
              <a:pathLst>
                <a:path w="214" h="321">
                  <a:moveTo>
                    <a:pt x="23" y="200"/>
                  </a:moveTo>
                  <a:lnTo>
                    <a:pt x="34" y="182"/>
                  </a:lnTo>
                  <a:lnTo>
                    <a:pt x="23" y="200"/>
                  </a:lnTo>
                  <a:lnTo>
                    <a:pt x="23" y="211"/>
                  </a:lnTo>
                  <a:lnTo>
                    <a:pt x="20" y="220"/>
                  </a:lnTo>
                  <a:lnTo>
                    <a:pt x="17" y="228"/>
                  </a:lnTo>
                  <a:lnTo>
                    <a:pt x="8" y="234"/>
                  </a:lnTo>
                  <a:lnTo>
                    <a:pt x="2" y="24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8" y="268"/>
                  </a:lnTo>
                  <a:lnTo>
                    <a:pt x="17" y="268"/>
                  </a:lnTo>
                  <a:lnTo>
                    <a:pt x="25" y="271"/>
                  </a:lnTo>
                  <a:lnTo>
                    <a:pt x="28" y="280"/>
                  </a:lnTo>
                  <a:lnTo>
                    <a:pt x="37" y="291"/>
                  </a:lnTo>
                  <a:lnTo>
                    <a:pt x="28" y="294"/>
                  </a:lnTo>
                  <a:lnTo>
                    <a:pt x="20" y="285"/>
                  </a:lnTo>
                  <a:lnTo>
                    <a:pt x="31" y="294"/>
                  </a:lnTo>
                  <a:lnTo>
                    <a:pt x="40" y="300"/>
                  </a:lnTo>
                  <a:lnTo>
                    <a:pt x="48" y="311"/>
                  </a:lnTo>
                  <a:lnTo>
                    <a:pt x="57" y="314"/>
                  </a:lnTo>
                  <a:lnTo>
                    <a:pt x="66" y="320"/>
                  </a:lnTo>
                  <a:lnTo>
                    <a:pt x="66" y="311"/>
                  </a:lnTo>
                  <a:lnTo>
                    <a:pt x="74" y="311"/>
                  </a:lnTo>
                  <a:lnTo>
                    <a:pt x="83" y="320"/>
                  </a:lnTo>
                  <a:lnTo>
                    <a:pt x="83" y="308"/>
                  </a:lnTo>
                  <a:lnTo>
                    <a:pt x="92" y="305"/>
                  </a:lnTo>
                  <a:lnTo>
                    <a:pt x="97" y="297"/>
                  </a:lnTo>
                  <a:lnTo>
                    <a:pt x="89" y="288"/>
                  </a:lnTo>
                  <a:lnTo>
                    <a:pt x="83" y="280"/>
                  </a:lnTo>
                  <a:lnTo>
                    <a:pt x="77" y="271"/>
                  </a:lnTo>
                  <a:lnTo>
                    <a:pt x="71" y="262"/>
                  </a:lnTo>
                  <a:lnTo>
                    <a:pt x="69" y="254"/>
                  </a:lnTo>
                  <a:lnTo>
                    <a:pt x="69" y="242"/>
                  </a:lnTo>
                  <a:lnTo>
                    <a:pt x="69" y="234"/>
                  </a:lnTo>
                  <a:lnTo>
                    <a:pt x="69" y="225"/>
                  </a:lnTo>
                  <a:lnTo>
                    <a:pt x="69" y="217"/>
                  </a:lnTo>
                  <a:lnTo>
                    <a:pt x="69" y="208"/>
                  </a:lnTo>
                  <a:lnTo>
                    <a:pt x="69" y="200"/>
                  </a:lnTo>
                  <a:lnTo>
                    <a:pt x="69" y="191"/>
                  </a:lnTo>
                  <a:lnTo>
                    <a:pt x="69" y="182"/>
                  </a:lnTo>
                  <a:lnTo>
                    <a:pt x="77" y="174"/>
                  </a:lnTo>
                  <a:lnTo>
                    <a:pt x="86" y="168"/>
                  </a:lnTo>
                  <a:lnTo>
                    <a:pt x="92" y="160"/>
                  </a:lnTo>
                  <a:lnTo>
                    <a:pt x="97" y="151"/>
                  </a:lnTo>
                  <a:lnTo>
                    <a:pt x="103" y="142"/>
                  </a:lnTo>
                  <a:lnTo>
                    <a:pt x="103" y="134"/>
                  </a:lnTo>
                  <a:lnTo>
                    <a:pt x="103" y="125"/>
                  </a:lnTo>
                  <a:lnTo>
                    <a:pt x="112" y="122"/>
                  </a:lnTo>
                  <a:lnTo>
                    <a:pt x="120" y="117"/>
                  </a:lnTo>
                  <a:lnTo>
                    <a:pt x="123" y="105"/>
                  </a:lnTo>
                  <a:lnTo>
                    <a:pt x="132" y="100"/>
                  </a:lnTo>
                  <a:lnTo>
                    <a:pt x="135" y="91"/>
                  </a:lnTo>
                  <a:lnTo>
                    <a:pt x="143" y="82"/>
                  </a:lnTo>
                  <a:lnTo>
                    <a:pt x="152" y="77"/>
                  </a:lnTo>
                  <a:lnTo>
                    <a:pt x="158" y="68"/>
                  </a:lnTo>
                  <a:lnTo>
                    <a:pt x="166" y="65"/>
                  </a:lnTo>
                  <a:lnTo>
                    <a:pt x="175" y="60"/>
                  </a:lnTo>
                  <a:lnTo>
                    <a:pt x="184" y="57"/>
                  </a:lnTo>
                  <a:lnTo>
                    <a:pt x="189" y="48"/>
                  </a:lnTo>
                  <a:lnTo>
                    <a:pt x="198" y="42"/>
                  </a:lnTo>
                  <a:lnTo>
                    <a:pt x="207" y="37"/>
                  </a:lnTo>
                  <a:lnTo>
                    <a:pt x="210" y="28"/>
                  </a:lnTo>
                  <a:lnTo>
                    <a:pt x="213" y="20"/>
                  </a:lnTo>
                  <a:lnTo>
                    <a:pt x="213" y="11"/>
                  </a:lnTo>
                  <a:lnTo>
                    <a:pt x="210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5" y="8"/>
                  </a:lnTo>
                  <a:lnTo>
                    <a:pt x="175" y="17"/>
                  </a:lnTo>
                  <a:lnTo>
                    <a:pt x="166" y="20"/>
                  </a:lnTo>
                  <a:lnTo>
                    <a:pt x="158" y="25"/>
                  </a:lnTo>
                  <a:lnTo>
                    <a:pt x="149" y="34"/>
                  </a:lnTo>
                  <a:lnTo>
                    <a:pt x="141" y="40"/>
                  </a:lnTo>
                  <a:lnTo>
                    <a:pt x="132" y="42"/>
                  </a:lnTo>
                  <a:lnTo>
                    <a:pt x="123" y="42"/>
                  </a:lnTo>
                  <a:lnTo>
                    <a:pt x="123" y="54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7" y="68"/>
                  </a:lnTo>
                  <a:lnTo>
                    <a:pt x="89" y="77"/>
                  </a:lnTo>
                  <a:lnTo>
                    <a:pt x="83" y="85"/>
                  </a:lnTo>
                  <a:lnTo>
                    <a:pt x="80" y="94"/>
                  </a:lnTo>
                  <a:lnTo>
                    <a:pt x="71" y="100"/>
                  </a:lnTo>
                  <a:lnTo>
                    <a:pt x="66" y="108"/>
                  </a:lnTo>
                  <a:lnTo>
                    <a:pt x="63" y="117"/>
                  </a:lnTo>
                  <a:lnTo>
                    <a:pt x="63" y="125"/>
                  </a:lnTo>
                  <a:lnTo>
                    <a:pt x="57" y="134"/>
                  </a:lnTo>
                  <a:lnTo>
                    <a:pt x="51" y="142"/>
                  </a:lnTo>
                  <a:lnTo>
                    <a:pt x="46" y="151"/>
                  </a:lnTo>
                  <a:lnTo>
                    <a:pt x="40" y="162"/>
                  </a:lnTo>
                  <a:lnTo>
                    <a:pt x="37" y="171"/>
                  </a:lnTo>
                  <a:lnTo>
                    <a:pt x="46" y="177"/>
                  </a:lnTo>
                  <a:lnTo>
                    <a:pt x="54" y="180"/>
                  </a:lnTo>
                  <a:lnTo>
                    <a:pt x="57" y="188"/>
                  </a:lnTo>
                  <a:lnTo>
                    <a:pt x="48" y="185"/>
                  </a:lnTo>
                  <a:lnTo>
                    <a:pt x="40" y="185"/>
                  </a:lnTo>
                  <a:lnTo>
                    <a:pt x="31" y="188"/>
                  </a:lnTo>
                  <a:lnTo>
                    <a:pt x="23" y="200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23" y="237"/>
                  </a:lnTo>
                  <a:lnTo>
                    <a:pt x="14" y="242"/>
                  </a:lnTo>
                  <a:lnTo>
                    <a:pt x="8" y="251"/>
                  </a:lnTo>
                  <a:lnTo>
                    <a:pt x="0" y="260"/>
                  </a:lnTo>
                  <a:lnTo>
                    <a:pt x="23" y="2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71720" y="444168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49" y="47"/>
                  </a:moveTo>
                  <a:lnTo>
                    <a:pt x="44" y="58"/>
                  </a:lnTo>
                  <a:lnTo>
                    <a:pt x="35" y="58"/>
                  </a:lnTo>
                  <a:lnTo>
                    <a:pt x="30" y="66"/>
                  </a:lnTo>
                  <a:lnTo>
                    <a:pt x="30" y="75"/>
                  </a:lnTo>
                  <a:lnTo>
                    <a:pt x="30" y="83"/>
                  </a:lnTo>
                  <a:lnTo>
                    <a:pt x="30" y="91"/>
                  </a:lnTo>
                  <a:lnTo>
                    <a:pt x="22" y="94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8" y="139"/>
                  </a:lnTo>
                  <a:lnTo>
                    <a:pt x="16" y="139"/>
                  </a:lnTo>
                  <a:lnTo>
                    <a:pt x="27" y="147"/>
                  </a:lnTo>
                  <a:lnTo>
                    <a:pt x="33" y="156"/>
                  </a:lnTo>
                  <a:lnTo>
                    <a:pt x="41" y="156"/>
                  </a:lnTo>
                  <a:lnTo>
                    <a:pt x="46" y="147"/>
                  </a:lnTo>
                  <a:lnTo>
                    <a:pt x="52" y="139"/>
                  </a:lnTo>
                  <a:lnTo>
                    <a:pt x="55" y="130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71" y="108"/>
                  </a:lnTo>
                  <a:lnTo>
                    <a:pt x="80" y="108"/>
                  </a:lnTo>
                  <a:lnTo>
                    <a:pt x="82" y="100"/>
                  </a:lnTo>
                  <a:lnTo>
                    <a:pt x="82" y="91"/>
                  </a:lnTo>
                  <a:lnTo>
                    <a:pt x="82" y="83"/>
                  </a:lnTo>
                  <a:lnTo>
                    <a:pt x="82" y="75"/>
                  </a:lnTo>
                  <a:lnTo>
                    <a:pt x="82" y="66"/>
                  </a:lnTo>
                  <a:lnTo>
                    <a:pt x="85" y="58"/>
                  </a:lnTo>
                  <a:lnTo>
                    <a:pt x="93" y="52"/>
                  </a:lnTo>
                  <a:lnTo>
                    <a:pt x="102" y="47"/>
                  </a:lnTo>
                  <a:lnTo>
                    <a:pt x="107" y="39"/>
                  </a:lnTo>
                  <a:lnTo>
                    <a:pt x="115" y="36"/>
                  </a:lnTo>
                  <a:lnTo>
                    <a:pt x="121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38" y="5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8" y="11"/>
                  </a:lnTo>
                  <a:lnTo>
                    <a:pt x="82" y="19"/>
                  </a:lnTo>
                  <a:lnTo>
                    <a:pt x="80" y="27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69" y="61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49" y="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90800" y="524844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1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6" y="21"/>
                  </a:lnTo>
                  <a:lnTo>
                    <a:pt x="23" y="27"/>
                  </a:lnTo>
                  <a:lnTo>
                    <a:pt x="18" y="18"/>
                  </a:lnTo>
                  <a:lnTo>
                    <a:pt x="13" y="9"/>
                  </a:lnTo>
                  <a:lnTo>
                    <a:pt x="6" y="21"/>
                  </a:lnTo>
                  <a:lnTo>
                    <a:pt x="9" y="6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57400" y="5361120"/>
              <a:ext cx="27000" cy="72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6" y="0"/>
                  </a:moveTo>
                  <a:lnTo>
                    <a:pt x="5" y="19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0" y="28"/>
                  </a:lnTo>
                  <a:lnTo>
                    <a:pt x="16" y="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52480" y="4357800"/>
              <a:ext cx="88920" cy="73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0"/>
                  </a:moveTo>
                  <a:lnTo>
                    <a:pt x="20" y="19"/>
                  </a:lnTo>
                  <a:lnTo>
                    <a:pt x="20" y="28"/>
                  </a:lnTo>
                  <a:lnTo>
                    <a:pt x="28" y="33"/>
                  </a:lnTo>
                  <a:lnTo>
                    <a:pt x="28" y="42"/>
                  </a:lnTo>
                  <a:lnTo>
                    <a:pt x="37" y="45"/>
                  </a:lnTo>
                  <a:lnTo>
                    <a:pt x="46" y="45"/>
                  </a:lnTo>
                  <a:lnTo>
                    <a:pt x="49" y="36"/>
                  </a:lnTo>
                  <a:lnTo>
                    <a:pt x="55" y="28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26" y="16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2" name="" descr=""/>
            <p:cNvPicPr/>
            <p:nvPr/>
          </p:nvPicPr>
          <p:blipFill>
            <a:blip r:embed="rId1"/>
            <a:stretch/>
          </p:blipFill>
          <p:spPr>
            <a:xfrm>
              <a:off x="228600" y="6137280"/>
              <a:ext cx="611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993600" y="6272280"/>
              <a:ext cx="47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HO European Centre for Environment and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72040" y="743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0"/>
                  </a:moveTo>
                  <a:lnTo>
                    <a:pt x="8" y="8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5" y="37"/>
                  </a:lnTo>
                  <a:lnTo>
                    <a:pt x="11" y="46"/>
                  </a:lnTo>
                  <a:lnTo>
                    <a:pt x="19" y="49"/>
                  </a:lnTo>
                  <a:lnTo>
                    <a:pt x="31" y="52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7" y="55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31" y="14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997360" y="4836960"/>
              <a:ext cx="788760" cy="408240"/>
            </a:xfrm>
            <a:custGeom>
              <a:avLst/>
              <a:gdLst/>
              <a:ahLst/>
              <a:rect l="l" t="t" r="r" b="b"/>
              <a:pathLst>
                <a:path w="497" h="257">
                  <a:moveTo>
                    <a:pt x="0" y="193"/>
                  </a:moveTo>
                  <a:lnTo>
                    <a:pt x="24" y="189"/>
                  </a:lnTo>
                  <a:lnTo>
                    <a:pt x="32" y="182"/>
                  </a:lnTo>
                  <a:lnTo>
                    <a:pt x="40" y="174"/>
                  </a:lnTo>
                  <a:lnTo>
                    <a:pt x="46" y="164"/>
                  </a:lnTo>
                  <a:lnTo>
                    <a:pt x="45" y="155"/>
                  </a:lnTo>
                  <a:lnTo>
                    <a:pt x="52" y="149"/>
                  </a:lnTo>
                  <a:lnTo>
                    <a:pt x="60" y="140"/>
                  </a:lnTo>
                  <a:lnTo>
                    <a:pt x="66" y="131"/>
                  </a:lnTo>
                  <a:lnTo>
                    <a:pt x="69" y="123"/>
                  </a:lnTo>
                  <a:lnTo>
                    <a:pt x="74" y="114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7" y="95"/>
                  </a:lnTo>
                  <a:lnTo>
                    <a:pt x="104" y="88"/>
                  </a:lnTo>
                  <a:lnTo>
                    <a:pt x="109" y="78"/>
                  </a:lnTo>
                  <a:lnTo>
                    <a:pt x="116" y="70"/>
                  </a:lnTo>
                  <a:lnTo>
                    <a:pt x="118" y="60"/>
                  </a:lnTo>
                  <a:lnTo>
                    <a:pt x="128" y="53"/>
                  </a:lnTo>
                  <a:lnTo>
                    <a:pt x="131" y="44"/>
                  </a:lnTo>
                  <a:lnTo>
                    <a:pt x="137" y="37"/>
                  </a:lnTo>
                  <a:lnTo>
                    <a:pt x="144" y="30"/>
                  </a:lnTo>
                  <a:lnTo>
                    <a:pt x="153" y="22"/>
                  </a:lnTo>
                  <a:lnTo>
                    <a:pt x="159" y="15"/>
                  </a:lnTo>
                  <a:lnTo>
                    <a:pt x="168" y="10"/>
                  </a:lnTo>
                  <a:lnTo>
                    <a:pt x="175" y="6"/>
                  </a:lnTo>
                  <a:lnTo>
                    <a:pt x="187" y="6"/>
                  </a:lnTo>
                  <a:lnTo>
                    <a:pt x="193" y="0"/>
                  </a:lnTo>
                  <a:lnTo>
                    <a:pt x="202" y="7"/>
                  </a:lnTo>
                  <a:lnTo>
                    <a:pt x="215" y="15"/>
                  </a:lnTo>
                  <a:lnTo>
                    <a:pt x="207" y="14"/>
                  </a:lnTo>
                  <a:lnTo>
                    <a:pt x="205" y="22"/>
                  </a:lnTo>
                  <a:lnTo>
                    <a:pt x="205" y="31"/>
                  </a:lnTo>
                  <a:lnTo>
                    <a:pt x="215" y="34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40" y="33"/>
                  </a:lnTo>
                  <a:lnTo>
                    <a:pt x="243" y="40"/>
                  </a:lnTo>
                  <a:lnTo>
                    <a:pt x="236" y="45"/>
                  </a:lnTo>
                  <a:lnTo>
                    <a:pt x="228" y="49"/>
                  </a:lnTo>
                  <a:lnTo>
                    <a:pt x="220" y="55"/>
                  </a:lnTo>
                  <a:lnTo>
                    <a:pt x="213" y="62"/>
                  </a:lnTo>
                  <a:lnTo>
                    <a:pt x="222" y="64"/>
                  </a:lnTo>
                  <a:lnTo>
                    <a:pt x="226" y="71"/>
                  </a:lnTo>
                  <a:lnTo>
                    <a:pt x="229" y="78"/>
                  </a:lnTo>
                  <a:lnTo>
                    <a:pt x="232" y="84"/>
                  </a:lnTo>
                  <a:lnTo>
                    <a:pt x="232" y="94"/>
                  </a:lnTo>
                  <a:lnTo>
                    <a:pt x="230" y="103"/>
                  </a:lnTo>
                  <a:lnTo>
                    <a:pt x="239" y="163"/>
                  </a:lnTo>
                  <a:lnTo>
                    <a:pt x="190" y="125"/>
                  </a:lnTo>
                  <a:lnTo>
                    <a:pt x="236" y="116"/>
                  </a:lnTo>
                  <a:lnTo>
                    <a:pt x="246" y="110"/>
                  </a:lnTo>
                  <a:lnTo>
                    <a:pt x="251" y="105"/>
                  </a:lnTo>
                  <a:lnTo>
                    <a:pt x="259" y="94"/>
                  </a:lnTo>
                  <a:lnTo>
                    <a:pt x="270" y="93"/>
                  </a:lnTo>
                  <a:lnTo>
                    <a:pt x="277" y="90"/>
                  </a:lnTo>
                  <a:lnTo>
                    <a:pt x="288" y="86"/>
                  </a:lnTo>
                  <a:lnTo>
                    <a:pt x="295" y="83"/>
                  </a:lnTo>
                  <a:lnTo>
                    <a:pt x="303" y="74"/>
                  </a:lnTo>
                  <a:lnTo>
                    <a:pt x="313" y="75"/>
                  </a:lnTo>
                  <a:lnTo>
                    <a:pt x="320" y="80"/>
                  </a:lnTo>
                  <a:lnTo>
                    <a:pt x="329" y="76"/>
                  </a:lnTo>
                  <a:lnTo>
                    <a:pt x="338" y="74"/>
                  </a:lnTo>
                  <a:lnTo>
                    <a:pt x="345" y="78"/>
                  </a:lnTo>
                  <a:lnTo>
                    <a:pt x="351" y="86"/>
                  </a:lnTo>
                  <a:lnTo>
                    <a:pt x="357" y="92"/>
                  </a:lnTo>
                  <a:lnTo>
                    <a:pt x="365" y="90"/>
                  </a:lnTo>
                  <a:lnTo>
                    <a:pt x="379" y="94"/>
                  </a:lnTo>
                  <a:lnTo>
                    <a:pt x="385" y="99"/>
                  </a:lnTo>
                  <a:lnTo>
                    <a:pt x="394" y="102"/>
                  </a:lnTo>
                  <a:lnTo>
                    <a:pt x="403" y="107"/>
                  </a:lnTo>
                  <a:lnTo>
                    <a:pt x="405" y="115"/>
                  </a:lnTo>
                  <a:lnTo>
                    <a:pt x="413" y="121"/>
                  </a:lnTo>
                  <a:lnTo>
                    <a:pt x="423" y="125"/>
                  </a:lnTo>
                  <a:lnTo>
                    <a:pt x="431" y="128"/>
                  </a:lnTo>
                  <a:lnTo>
                    <a:pt x="440" y="132"/>
                  </a:lnTo>
                  <a:lnTo>
                    <a:pt x="455" y="137"/>
                  </a:lnTo>
                  <a:lnTo>
                    <a:pt x="468" y="141"/>
                  </a:lnTo>
                  <a:lnTo>
                    <a:pt x="473" y="148"/>
                  </a:lnTo>
                  <a:lnTo>
                    <a:pt x="480" y="154"/>
                  </a:lnTo>
                  <a:lnTo>
                    <a:pt x="485" y="161"/>
                  </a:lnTo>
                  <a:lnTo>
                    <a:pt x="488" y="172"/>
                  </a:lnTo>
                  <a:lnTo>
                    <a:pt x="492" y="178"/>
                  </a:lnTo>
                  <a:lnTo>
                    <a:pt x="493" y="187"/>
                  </a:lnTo>
                  <a:lnTo>
                    <a:pt x="494" y="195"/>
                  </a:lnTo>
                  <a:lnTo>
                    <a:pt x="496" y="201"/>
                  </a:lnTo>
                  <a:lnTo>
                    <a:pt x="491" y="213"/>
                  </a:lnTo>
                  <a:lnTo>
                    <a:pt x="480" y="217"/>
                  </a:lnTo>
                  <a:lnTo>
                    <a:pt x="474" y="222"/>
                  </a:lnTo>
                  <a:lnTo>
                    <a:pt x="466" y="228"/>
                  </a:lnTo>
                  <a:lnTo>
                    <a:pt x="458" y="234"/>
                  </a:lnTo>
                  <a:lnTo>
                    <a:pt x="448" y="238"/>
                  </a:lnTo>
                  <a:lnTo>
                    <a:pt x="439" y="240"/>
                  </a:lnTo>
                  <a:lnTo>
                    <a:pt x="430" y="244"/>
                  </a:lnTo>
                  <a:lnTo>
                    <a:pt x="422" y="248"/>
                  </a:lnTo>
                  <a:lnTo>
                    <a:pt x="414" y="240"/>
                  </a:lnTo>
                  <a:lnTo>
                    <a:pt x="405" y="242"/>
                  </a:lnTo>
                  <a:lnTo>
                    <a:pt x="395" y="241"/>
                  </a:lnTo>
                  <a:lnTo>
                    <a:pt x="387" y="244"/>
                  </a:lnTo>
                  <a:lnTo>
                    <a:pt x="380" y="248"/>
                  </a:lnTo>
                  <a:lnTo>
                    <a:pt x="372" y="250"/>
                  </a:lnTo>
                  <a:lnTo>
                    <a:pt x="363" y="252"/>
                  </a:lnTo>
                  <a:lnTo>
                    <a:pt x="357" y="256"/>
                  </a:lnTo>
                  <a:lnTo>
                    <a:pt x="350" y="247"/>
                  </a:lnTo>
                  <a:lnTo>
                    <a:pt x="349" y="240"/>
                  </a:lnTo>
                  <a:lnTo>
                    <a:pt x="340" y="243"/>
                  </a:lnTo>
                  <a:lnTo>
                    <a:pt x="333" y="246"/>
                  </a:lnTo>
                  <a:lnTo>
                    <a:pt x="324" y="248"/>
                  </a:lnTo>
                  <a:lnTo>
                    <a:pt x="315" y="247"/>
                  </a:lnTo>
                  <a:lnTo>
                    <a:pt x="315" y="240"/>
                  </a:lnTo>
                  <a:lnTo>
                    <a:pt x="313" y="233"/>
                  </a:lnTo>
                  <a:lnTo>
                    <a:pt x="310" y="225"/>
                  </a:lnTo>
                  <a:lnTo>
                    <a:pt x="297" y="227"/>
                  </a:lnTo>
                  <a:lnTo>
                    <a:pt x="288" y="227"/>
                  </a:lnTo>
                  <a:lnTo>
                    <a:pt x="281" y="221"/>
                  </a:lnTo>
                  <a:lnTo>
                    <a:pt x="277" y="215"/>
                  </a:lnTo>
                  <a:lnTo>
                    <a:pt x="267" y="213"/>
                  </a:lnTo>
                  <a:lnTo>
                    <a:pt x="226" y="177"/>
                  </a:lnTo>
                  <a:lnTo>
                    <a:pt x="245" y="217"/>
                  </a:lnTo>
                  <a:lnTo>
                    <a:pt x="236" y="217"/>
                  </a:lnTo>
                  <a:lnTo>
                    <a:pt x="227" y="213"/>
                  </a:lnTo>
                  <a:lnTo>
                    <a:pt x="219" y="211"/>
                  </a:lnTo>
                  <a:lnTo>
                    <a:pt x="209" y="209"/>
                  </a:lnTo>
                  <a:lnTo>
                    <a:pt x="200" y="210"/>
                  </a:lnTo>
                  <a:lnTo>
                    <a:pt x="191" y="215"/>
                  </a:lnTo>
                  <a:lnTo>
                    <a:pt x="184" y="218"/>
                  </a:lnTo>
                  <a:lnTo>
                    <a:pt x="176" y="219"/>
                  </a:lnTo>
                  <a:lnTo>
                    <a:pt x="166" y="223"/>
                  </a:lnTo>
                  <a:lnTo>
                    <a:pt x="158" y="230"/>
                  </a:lnTo>
                  <a:lnTo>
                    <a:pt x="150" y="234"/>
                  </a:lnTo>
                  <a:lnTo>
                    <a:pt x="139" y="242"/>
                  </a:lnTo>
                  <a:lnTo>
                    <a:pt x="133" y="247"/>
                  </a:lnTo>
                  <a:lnTo>
                    <a:pt x="122" y="248"/>
                  </a:lnTo>
                  <a:lnTo>
                    <a:pt x="111" y="253"/>
                  </a:lnTo>
                  <a:lnTo>
                    <a:pt x="102" y="252"/>
                  </a:lnTo>
                  <a:lnTo>
                    <a:pt x="91" y="247"/>
                  </a:lnTo>
                  <a:lnTo>
                    <a:pt x="82" y="245"/>
                  </a:lnTo>
                  <a:lnTo>
                    <a:pt x="74" y="244"/>
                  </a:lnTo>
                  <a:lnTo>
                    <a:pt x="63" y="244"/>
                  </a:lnTo>
                  <a:lnTo>
                    <a:pt x="49" y="244"/>
                  </a:lnTo>
                  <a:lnTo>
                    <a:pt x="43" y="238"/>
                  </a:lnTo>
                  <a:lnTo>
                    <a:pt x="36" y="232"/>
                  </a:lnTo>
                  <a:lnTo>
                    <a:pt x="36" y="221"/>
                  </a:lnTo>
                  <a:lnTo>
                    <a:pt x="32" y="217"/>
                  </a:lnTo>
                  <a:lnTo>
                    <a:pt x="26" y="209"/>
                  </a:lnTo>
                  <a:lnTo>
                    <a:pt x="22" y="204"/>
                  </a:lnTo>
                  <a:lnTo>
                    <a:pt x="18" y="197"/>
                  </a:lnTo>
                  <a:lnTo>
                    <a:pt x="0" y="193"/>
                  </a:lnTo>
                  <a:lnTo>
                    <a:pt x="14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2120" y="3087720"/>
            <a:ext cx="790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39320" y="380880"/>
            <a:ext cx="75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stimated contribution of the main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PM emissions in Europe*) in 19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94920" y="6019920"/>
            <a:ext cx="29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ource: Holman et al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838080" y="1752480"/>
          <a:ext cx="7696440" cy="4083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752480"/>
                    <a:ext cx="76964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903240" y="567540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) excluding former Soviet 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d8a"/>
            </a:gs>
            <a:gs pos="50000">
              <a:srgbClr val="0f219b"/>
            </a:gs>
            <a:gs pos="100000">
              <a:srgbClr val="0d1d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28600" y="557280"/>
            <a:ext cx="8120160" cy="6118200"/>
            <a:chOff x="228600" y="557280"/>
            <a:chExt cx="8120160" cy="6118200"/>
          </a:xfrm>
        </p:grpSpPr>
        <p:sp>
          <p:nvSpPr>
            <p:cNvPr id="447" name=""/>
            <p:cNvSpPr/>
            <p:nvPr/>
          </p:nvSpPr>
          <p:spPr>
            <a:xfrm>
              <a:off x="2662200" y="20638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2" y="77"/>
                  </a:moveTo>
                  <a:lnTo>
                    <a:pt x="2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2" y="125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5" y="174"/>
                  </a:lnTo>
                  <a:lnTo>
                    <a:pt x="31" y="182"/>
                  </a:lnTo>
                  <a:lnTo>
                    <a:pt x="40" y="182"/>
                  </a:lnTo>
                  <a:lnTo>
                    <a:pt x="48" y="182"/>
                  </a:lnTo>
                  <a:lnTo>
                    <a:pt x="60" y="191"/>
                  </a:lnTo>
                  <a:lnTo>
                    <a:pt x="71" y="196"/>
                  </a:lnTo>
                  <a:lnTo>
                    <a:pt x="71" y="205"/>
                  </a:lnTo>
                  <a:lnTo>
                    <a:pt x="74" y="214"/>
                  </a:lnTo>
                  <a:lnTo>
                    <a:pt x="83" y="214"/>
                  </a:lnTo>
                  <a:lnTo>
                    <a:pt x="91" y="214"/>
                  </a:lnTo>
                  <a:lnTo>
                    <a:pt x="100" y="214"/>
                  </a:lnTo>
                  <a:lnTo>
                    <a:pt x="109" y="214"/>
                  </a:lnTo>
                  <a:lnTo>
                    <a:pt x="117" y="214"/>
                  </a:lnTo>
                  <a:lnTo>
                    <a:pt x="126" y="214"/>
                  </a:lnTo>
                  <a:lnTo>
                    <a:pt x="137" y="208"/>
                  </a:lnTo>
                  <a:lnTo>
                    <a:pt x="149" y="202"/>
                  </a:lnTo>
                  <a:lnTo>
                    <a:pt x="149" y="194"/>
                  </a:lnTo>
                  <a:lnTo>
                    <a:pt x="146" y="185"/>
                  </a:lnTo>
                  <a:lnTo>
                    <a:pt x="146" y="176"/>
                  </a:lnTo>
                  <a:lnTo>
                    <a:pt x="155" y="168"/>
                  </a:lnTo>
                  <a:lnTo>
                    <a:pt x="158" y="159"/>
                  </a:lnTo>
                  <a:lnTo>
                    <a:pt x="158" y="151"/>
                  </a:lnTo>
                  <a:lnTo>
                    <a:pt x="155" y="142"/>
                  </a:lnTo>
                  <a:lnTo>
                    <a:pt x="155" y="134"/>
                  </a:lnTo>
                  <a:lnTo>
                    <a:pt x="146" y="134"/>
                  </a:lnTo>
                  <a:lnTo>
                    <a:pt x="137" y="134"/>
                  </a:lnTo>
                  <a:lnTo>
                    <a:pt x="135" y="125"/>
                  </a:lnTo>
                  <a:lnTo>
                    <a:pt x="129" y="116"/>
                  </a:lnTo>
                  <a:lnTo>
                    <a:pt x="120" y="114"/>
                  </a:lnTo>
                  <a:lnTo>
                    <a:pt x="114" y="105"/>
                  </a:lnTo>
                  <a:lnTo>
                    <a:pt x="114" y="97"/>
                  </a:lnTo>
                  <a:lnTo>
                    <a:pt x="106" y="94"/>
                  </a:lnTo>
                  <a:lnTo>
                    <a:pt x="97" y="94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89" y="71"/>
                  </a:lnTo>
                  <a:lnTo>
                    <a:pt x="80" y="68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83" y="45"/>
                  </a:lnTo>
                  <a:lnTo>
                    <a:pt x="94" y="45"/>
                  </a:lnTo>
                  <a:lnTo>
                    <a:pt x="103" y="39"/>
                  </a:lnTo>
                  <a:lnTo>
                    <a:pt x="106" y="31"/>
                  </a:lnTo>
                  <a:lnTo>
                    <a:pt x="103" y="22"/>
                  </a:lnTo>
                  <a:lnTo>
                    <a:pt x="94" y="22"/>
                  </a:lnTo>
                  <a:lnTo>
                    <a:pt x="86" y="14"/>
                  </a:lnTo>
                  <a:lnTo>
                    <a:pt x="77" y="11"/>
                  </a:lnTo>
                  <a:lnTo>
                    <a:pt x="68" y="11"/>
                  </a:lnTo>
                  <a:lnTo>
                    <a:pt x="54" y="0"/>
                  </a:lnTo>
                  <a:lnTo>
                    <a:pt x="51" y="8"/>
                  </a:lnTo>
                  <a:lnTo>
                    <a:pt x="60" y="14"/>
                  </a:lnTo>
                  <a:lnTo>
                    <a:pt x="63" y="22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7" y="45"/>
                  </a:lnTo>
                  <a:lnTo>
                    <a:pt x="45" y="45"/>
                  </a:lnTo>
                  <a:lnTo>
                    <a:pt x="40" y="37"/>
                  </a:lnTo>
                  <a:lnTo>
                    <a:pt x="34" y="28"/>
                  </a:lnTo>
                  <a:lnTo>
                    <a:pt x="31" y="37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5" y="62"/>
                  </a:lnTo>
                  <a:lnTo>
                    <a:pt x="17" y="68"/>
                  </a:lnTo>
                  <a:lnTo>
                    <a:pt x="2" y="77"/>
                  </a:lnTo>
                  <a:lnTo>
                    <a:pt x="2" y="7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85760" y="557280"/>
              <a:ext cx="6975720" cy="5226120"/>
            </a:xfrm>
            <a:custGeom>
              <a:avLst/>
              <a:gdLst/>
              <a:ahLst/>
              <a:rect l="l" t="t" r="r" b="b"/>
              <a:pathLst>
                <a:path w="4394" h="3292">
                  <a:moveTo>
                    <a:pt x="4183" y="665"/>
                  </a:moveTo>
                  <a:lnTo>
                    <a:pt x="4174" y="685"/>
                  </a:lnTo>
                  <a:lnTo>
                    <a:pt x="4165" y="680"/>
                  </a:lnTo>
                  <a:lnTo>
                    <a:pt x="4154" y="671"/>
                  </a:lnTo>
                  <a:lnTo>
                    <a:pt x="4145" y="665"/>
                  </a:lnTo>
                  <a:lnTo>
                    <a:pt x="4136" y="657"/>
                  </a:lnTo>
                  <a:lnTo>
                    <a:pt x="4128" y="648"/>
                  </a:lnTo>
                  <a:lnTo>
                    <a:pt x="4122" y="639"/>
                  </a:lnTo>
                  <a:lnTo>
                    <a:pt x="4110" y="631"/>
                  </a:lnTo>
                  <a:lnTo>
                    <a:pt x="4104" y="622"/>
                  </a:lnTo>
                  <a:lnTo>
                    <a:pt x="4098" y="613"/>
                  </a:lnTo>
                  <a:lnTo>
                    <a:pt x="4093" y="605"/>
                  </a:lnTo>
                  <a:lnTo>
                    <a:pt x="4084" y="596"/>
                  </a:lnTo>
                  <a:lnTo>
                    <a:pt x="4075" y="593"/>
                  </a:lnTo>
                  <a:lnTo>
                    <a:pt x="4066" y="590"/>
                  </a:lnTo>
                  <a:lnTo>
                    <a:pt x="4058" y="587"/>
                  </a:lnTo>
                  <a:lnTo>
                    <a:pt x="4049" y="585"/>
                  </a:lnTo>
                  <a:lnTo>
                    <a:pt x="4037" y="585"/>
                  </a:lnTo>
                  <a:lnTo>
                    <a:pt x="4029" y="582"/>
                  </a:lnTo>
                  <a:lnTo>
                    <a:pt x="4023" y="573"/>
                  </a:lnTo>
                  <a:lnTo>
                    <a:pt x="4020" y="564"/>
                  </a:lnTo>
                  <a:lnTo>
                    <a:pt x="4011" y="556"/>
                  </a:lnTo>
                  <a:lnTo>
                    <a:pt x="4002" y="550"/>
                  </a:lnTo>
                  <a:lnTo>
                    <a:pt x="4002" y="541"/>
                  </a:lnTo>
                  <a:lnTo>
                    <a:pt x="3994" y="538"/>
                  </a:lnTo>
                  <a:lnTo>
                    <a:pt x="3982" y="538"/>
                  </a:lnTo>
                  <a:lnTo>
                    <a:pt x="3973" y="538"/>
                  </a:lnTo>
                  <a:lnTo>
                    <a:pt x="3965" y="538"/>
                  </a:lnTo>
                  <a:lnTo>
                    <a:pt x="3953" y="538"/>
                  </a:lnTo>
                  <a:lnTo>
                    <a:pt x="3947" y="530"/>
                  </a:lnTo>
                  <a:lnTo>
                    <a:pt x="3947" y="521"/>
                  </a:lnTo>
                  <a:lnTo>
                    <a:pt x="3938" y="512"/>
                  </a:lnTo>
                  <a:lnTo>
                    <a:pt x="3930" y="504"/>
                  </a:lnTo>
                  <a:lnTo>
                    <a:pt x="3930" y="495"/>
                  </a:lnTo>
                  <a:lnTo>
                    <a:pt x="3927" y="484"/>
                  </a:lnTo>
                  <a:lnTo>
                    <a:pt x="3918" y="481"/>
                  </a:lnTo>
                  <a:lnTo>
                    <a:pt x="3909" y="481"/>
                  </a:lnTo>
                  <a:lnTo>
                    <a:pt x="3901" y="481"/>
                  </a:lnTo>
                  <a:lnTo>
                    <a:pt x="3892" y="481"/>
                  </a:lnTo>
                  <a:lnTo>
                    <a:pt x="3883" y="481"/>
                  </a:lnTo>
                  <a:lnTo>
                    <a:pt x="3871" y="481"/>
                  </a:lnTo>
                  <a:lnTo>
                    <a:pt x="3863" y="481"/>
                  </a:lnTo>
                  <a:lnTo>
                    <a:pt x="3851" y="478"/>
                  </a:lnTo>
                  <a:lnTo>
                    <a:pt x="3842" y="472"/>
                  </a:lnTo>
                  <a:lnTo>
                    <a:pt x="3842" y="463"/>
                  </a:lnTo>
                  <a:lnTo>
                    <a:pt x="3842" y="455"/>
                  </a:lnTo>
                  <a:lnTo>
                    <a:pt x="3834" y="446"/>
                  </a:lnTo>
                  <a:lnTo>
                    <a:pt x="3825" y="446"/>
                  </a:lnTo>
                  <a:lnTo>
                    <a:pt x="3819" y="455"/>
                  </a:lnTo>
                  <a:lnTo>
                    <a:pt x="3810" y="458"/>
                  </a:lnTo>
                  <a:lnTo>
                    <a:pt x="3802" y="461"/>
                  </a:lnTo>
                  <a:lnTo>
                    <a:pt x="3793" y="461"/>
                  </a:lnTo>
                  <a:lnTo>
                    <a:pt x="3784" y="461"/>
                  </a:lnTo>
                  <a:lnTo>
                    <a:pt x="3775" y="461"/>
                  </a:lnTo>
                  <a:lnTo>
                    <a:pt x="3764" y="455"/>
                  </a:lnTo>
                  <a:lnTo>
                    <a:pt x="3755" y="452"/>
                  </a:lnTo>
                  <a:lnTo>
                    <a:pt x="3752" y="461"/>
                  </a:lnTo>
                  <a:lnTo>
                    <a:pt x="3755" y="469"/>
                  </a:lnTo>
                  <a:lnTo>
                    <a:pt x="3764" y="472"/>
                  </a:lnTo>
                  <a:lnTo>
                    <a:pt x="3755" y="475"/>
                  </a:lnTo>
                  <a:lnTo>
                    <a:pt x="3746" y="475"/>
                  </a:lnTo>
                  <a:lnTo>
                    <a:pt x="3737" y="478"/>
                  </a:lnTo>
                  <a:lnTo>
                    <a:pt x="3729" y="478"/>
                  </a:lnTo>
                  <a:lnTo>
                    <a:pt x="3720" y="478"/>
                  </a:lnTo>
                  <a:lnTo>
                    <a:pt x="3711" y="472"/>
                  </a:lnTo>
                  <a:lnTo>
                    <a:pt x="3703" y="463"/>
                  </a:lnTo>
                  <a:lnTo>
                    <a:pt x="3694" y="455"/>
                  </a:lnTo>
                  <a:lnTo>
                    <a:pt x="3685" y="452"/>
                  </a:lnTo>
                  <a:lnTo>
                    <a:pt x="3676" y="452"/>
                  </a:lnTo>
                  <a:lnTo>
                    <a:pt x="3668" y="449"/>
                  </a:lnTo>
                  <a:lnTo>
                    <a:pt x="3656" y="449"/>
                  </a:lnTo>
                  <a:lnTo>
                    <a:pt x="3647" y="449"/>
                  </a:lnTo>
                  <a:lnTo>
                    <a:pt x="3638" y="449"/>
                  </a:lnTo>
                  <a:lnTo>
                    <a:pt x="3636" y="440"/>
                  </a:lnTo>
                  <a:lnTo>
                    <a:pt x="3636" y="432"/>
                  </a:lnTo>
                  <a:lnTo>
                    <a:pt x="3630" y="423"/>
                  </a:lnTo>
                  <a:lnTo>
                    <a:pt x="3638" y="423"/>
                  </a:lnTo>
                  <a:lnTo>
                    <a:pt x="3636" y="414"/>
                  </a:lnTo>
                  <a:lnTo>
                    <a:pt x="3627" y="412"/>
                  </a:lnTo>
                  <a:lnTo>
                    <a:pt x="3618" y="409"/>
                  </a:lnTo>
                  <a:lnTo>
                    <a:pt x="3615" y="400"/>
                  </a:lnTo>
                  <a:lnTo>
                    <a:pt x="3609" y="391"/>
                  </a:lnTo>
                  <a:lnTo>
                    <a:pt x="3618" y="391"/>
                  </a:lnTo>
                  <a:lnTo>
                    <a:pt x="3627" y="391"/>
                  </a:lnTo>
                  <a:lnTo>
                    <a:pt x="3633" y="383"/>
                  </a:lnTo>
                  <a:lnTo>
                    <a:pt x="3624" y="377"/>
                  </a:lnTo>
                  <a:lnTo>
                    <a:pt x="3615" y="374"/>
                  </a:lnTo>
                  <a:lnTo>
                    <a:pt x="3606" y="363"/>
                  </a:lnTo>
                  <a:lnTo>
                    <a:pt x="3604" y="354"/>
                  </a:lnTo>
                  <a:lnTo>
                    <a:pt x="3598" y="345"/>
                  </a:lnTo>
                  <a:lnTo>
                    <a:pt x="3592" y="337"/>
                  </a:lnTo>
                  <a:lnTo>
                    <a:pt x="3583" y="322"/>
                  </a:lnTo>
                  <a:lnTo>
                    <a:pt x="3577" y="314"/>
                  </a:lnTo>
                  <a:lnTo>
                    <a:pt x="3586" y="305"/>
                  </a:lnTo>
                  <a:lnTo>
                    <a:pt x="3592" y="296"/>
                  </a:lnTo>
                  <a:lnTo>
                    <a:pt x="3595" y="288"/>
                  </a:lnTo>
                  <a:lnTo>
                    <a:pt x="3595" y="279"/>
                  </a:lnTo>
                  <a:lnTo>
                    <a:pt x="3586" y="276"/>
                  </a:lnTo>
                  <a:lnTo>
                    <a:pt x="3577" y="276"/>
                  </a:lnTo>
                  <a:lnTo>
                    <a:pt x="3569" y="276"/>
                  </a:lnTo>
                  <a:lnTo>
                    <a:pt x="3557" y="270"/>
                  </a:lnTo>
                  <a:lnTo>
                    <a:pt x="3548" y="259"/>
                  </a:lnTo>
                  <a:lnTo>
                    <a:pt x="3540" y="253"/>
                  </a:lnTo>
                  <a:lnTo>
                    <a:pt x="3531" y="250"/>
                  </a:lnTo>
                  <a:lnTo>
                    <a:pt x="3522" y="244"/>
                  </a:lnTo>
                  <a:lnTo>
                    <a:pt x="3510" y="236"/>
                  </a:lnTo>
                  <a:lnTo>
                    <a:pt x="3502" y="233"/>
                  </a:lnTo>
                  <a:lnTo>
                    <a:pt x="3493" y="227"/>
                  </a:lnTo>
                  <a:lnTo>
                    <a:pt x="3484" y="224"/>
                  </a:lnTo>
                  <a:lnTo>
                    <a:pt x="3475" y="219"/>
                  </a:lnTo>
                  <a:lnTo>
                    <a:pt x="3467" y="213"/>
                  </a:lnTo>
                  <a:lnTo>
                    <a:pt x="3458" y="207"/>
                  </a:lnTo>
                  <a:lnTo>
                    <a:pt x="3449" y="198"/>
                  </a:lnTo>
                  <a:lnTo>
                    <a:pt x="3441" y="193"/>
                  </a:lnTo>
                  <a:lnTo>
                    <a:pt x="3432" y="187"/>
                  </a:lnTo>
                  <a:lnTo>
                    <a:pt x="3423" y="184"/>
                  </a:lnTo>
                  <a:lnTo>
                    <a:pt x="3414" y="178"/>
                  </a:lnTo>
                  <a:lnTo>
                    <a:pt x="3406" y="172"/>
                  </a:lnTo>
                  <a:lnTo>
                    <a:pt x="3400" y="164"/>
                  </a:lnTo>
                  <a:lnTo>
                    <a:pt x="3397" y="155"/>
                  </a:lnTo>
                  <a:lnTo>
                    <a:pt x="3394" y="146"/>
                  </a:lnTo>
                  <a:lnTo>
                    <a:pt x="3388" y="138"/>
                  </a:lnTo>
                  <a:lnTo>
                    <a:pt x="3382" y="129"/>
                  </a:lnTo>
                  <a:lnTo>
                    <a:pt x="3388" y="121"/>
                  </a:lnTo>
                  <a:lnTo>
                    <a:pt x="3379" y="121"/>
                  </a:lnTo>
                  <a:lnTo>
                    <a:pt x="3371" y="121"/>
                  </a:lnTo>
                  <a:lnTo>
                    <a:pt x="3362" y="121"/>
                  </a:lnTo>
                  <a:lnTo>
                    <a:pt x="3359" y="129"/>
                  </a:lnTo>
                  <a:lnTo>
                    <a:pt x="3353" y="138"/>
                  </a:lnTo>
                  <a:lnTo>
                    <a:pt x="3347" y="146"/>
                  </a:lnTo>
                  <a:lnTo>
                    <a:pt x="3339" y="152"/>
                  </a:lnTo>
                  <a:lnTo>
                    <a:pt x="3327" y="158"/>
                  </a:lnTo>
                  <a:lnTo>
                    <a:pt x="3318" y="158"/>
                  </a:lnTo>
                  <a:lnTo>
                    <a:pt x="3310" y="167"/>
                  </a:lnTo>
                  <a:lnTo>
                    <a:pt x="3307" y="175"/>
                  </a:lnTo>
                  <a:lnTo>
                    <a:pt x="3307" y="184"/>
                  </a:lnTo>
                  <a:lnTo>
                    <a:pt x="3304" y="193"/>
                  </a:lnTo>
                  <a:lnTo>
                    <a:pt x="3295" y="195"/>
                  </a:lnTo>
                  <a:lnTo>
                    <a:pt x="3295" y="204"/>
                  </a:lnTo>
                  <a:lnTo>
                    <a:pt x="3298" y="213"/>
                  </a:lnTo>
                  <a:lnTo>
                    <a:pt x="3304" y="221"/>
                  </a:lnTo>
                  <a:lnTo>
                    <a:pt x="3310" y="230"/>
                  </a:lnTo>
                  <a:lnTo>
                    <a:pt x="3315" y="239"/>
                  </a:lnTo>
                  <a:lnTo>
                    <a:pt x="3318" y="250"/>
                  </a:lnTo>
                  <a:lnTo>
                    <a:pt x="3321" y="259"/>
                  </a:lnTo>
                  <a:lnTo>
                    <a:pt x="3321" y="247"/>
                  </a:lnTo>
                  <a:lnTo>
                    <a:pt x="3318" y="239"/>
                  </a:lnTo>
                  <a:lnTo>
                    <a:pt x="3315" y="230"/>
                  </a:lnTo>
                  <a:lnTo>
                    <a:pt x="3307" y="224"/>
                  </a:lnTo>
                  <a:lnTo>
                    <a:pt x="3298" y="216"/>
                  </a:lnTo>
                  <a:lnTo>
                    <a:pt x="3292" y="207"/>
                  </a:lnTo>
                  <a:lnTo>
                    <a:pt x="3292" y="198"/>
                  </a:lnTo>
                  <a:lnTo>
                    <a:pt x="3295" y="190"/>
                  </a:lnTo>
                  <a:lnTo>
                    <a:pt x="3292" y="181"/>
                  </a:lnTo>
                  <a:lnTo>
                    <a:pt x="3283" y="172"/>
                  </a:lnTo>
                  <a:lnTo>
                    <a:pt x="3275" y="170"/>
                  </a:lnTo>
                  <a:lnTo>
                    <a:pt x="3266" y="164"/>
                  </a:lnTo>
                  <a:lnTo>
                    <a:pt x="3257" y="161"/>
                  </a:lnTo>
                  <a:lnTo>
                    <a:pt x="3245" y="155"/>
                  </a:lnTo>
                  <a:lnTo>
                    <a:pt x="3237" y="155"/>
                  </a:lnTo>
                  <a:lnTo>
                    <a:pt x="3228" y="155"/>
                  </a:lnTo>
                  <a:lnTo>
                    <a:pt x="3219" y="155"/>
                  </a:lnTo>
                  <a:lnTo>
                    <a:pt x="3213" y="164"/>
                  </a:lnTo>
                  <a:lnTo>
                    <a:pt x="3208" y="172"/>
                  </a:lnTo>
                  <a:lnTo>
                    <a:pt x="3196" y="175"/>
                  </a:lnTo>
                  <a:lnTo>
                    <a:pt x="3184" y="175"/>
                  </a:lnTo>
                  <a:lnTo>
                    <a:pt x="3173" y="175"/>
                  </a:lnTo>
                  <a:lnTo>
                    <a:pt x="3167" y="167"/>
                  </a:lnTo>
                  <a:lnTo>
                    <a:pt x="3179" y="161"/>
                  </a:lnTo>
                  <a:lnTo>
                    <a:pt x="3187" y="161"/>
                  </a:lnTo>
                  <a:lnTo>
                    <a:pt x="3196" y="161"/>
                  </a:lnTo>
                  <a:lnTo>
                    <a:pt x="3205" y="155"/>
                  </a:lnTo>
                  <a:lnTo>
                    <a:pt x="3208" y="146"/>
                  </a:lnTo>
                  <a:lnTo>
                    <a:pt x="3208" y="138"/>
                  </a:lnTo>
                  <a:lnTo>
                    <a:pt x="3205" y="129"/>
                  </a:lnTo>
                  <a:lnTo>
                    <a:pt x="3199" y="121"/>
                  </a:lnTo>
                  <a:lnTo>
                    <a:pt x="3190" y="112"/>
                  </a:lnTo>
                  <a:lnTo>
                    <a:pt x="3184" y="103"/>
                  </a:lnTo>
                  <a:lnTo>
                    <a:pt x="3193" y="97"/>
                  </a:lnTo>
                  <a:lnTo>
                    <a:pt x="3202" y="92"/>
                  </a:lnTo>
                  <a:lnTo>
                    <a:pt x="3205" y="83"/>
                  </a:lnTo>
                  <a:lnTo>
                    <a:pt x="3208" y="74"/>
                  </a:lnTo>
                  <a:lnTo>
                    <a:pt x="3208" y="66"/>
                  </a:lnTo>
                  <a:lnTo>
                    <a:pt x="3202" y="57"/>
                  </a:lnTo>
                  <a:lnTo>
                    <a:pt x="3199" y="48"/>
                  </a:lnTo>
                  <a:lnTo>
                    <a:pt x="3199" y="40"/>
                  </a:lnTo>
                  <a:lnTo>
                    <a:pt x="3199" y="31"/>
                  </a:lnTo>
                  <a:lnTo>
                    <a:pt x="3196" y="23"/>
                  </a:lnTo>
                  <a:lnTo>
                    <a:pt x="3190" y="14"/>
                  </a:lnTo>
                  <a:lnTo>
                    <a:pt x="3184" y="5"/>
                  </a:lnTo>
                  <a:lnTo>
                    <a:pt x="3176" y="0"/>
                  </a:lnTo>
                  <a:lnTo>
                    <a:pt x="3167" y="2"/>
                  </a:lnTo>
                  <a:lnTo>
                    <a:pt x="3158" y="8"/>
                  </a:lnTo>
                  <a:lnTo>
                    <a:pt x="3149" y="14"/>
                  </a:lnTo>
                  <a:lnTo>
                    <a:pt x="3141" y="17"/>
                  </a:lnTo>
                  <a:lnTo>
                    <a:pt x="3132" y="23"/>
                  </a:lnTo>
                  <a:lnTo>
                    <a:pt x="3132" y="31"/>
                  </a:lnTo>
                  <a:lnTo>
                    <a:pt x="3123" y="25"/>
                  </a:lnTo>
                  <a:lnTo>
                    <a:pt x="3114" y="17"/>
                  </a:lnTo>
                  <a:lnTo>
                    <a:pt x="3106" y="14"/>
                  </a:lnTo>
                  <a:lnTo>
                    <a:pt x="3097" y="14"/>
                  </a:lnTo>
                  <a:lnTo>
                    <a:pt x="3088" y="14"/>
                  </a:lnTo>
                  <a:lnTo>
                    <a:pt x="3080" y="14"/>
                  </a:lnTo>
                  <a:lnTo>
                    <a:pt x="3071" y="14"/>
                  </a:lnTo>
                  <a:lnTo>
                    <a:pt x="3071" y="23"/>
                  </a:lnTo>
                  <a:lnTo>
                    <a:pt x="3071" y="31"/>
                  </a:lnTo>
                  <a:lnTo>
                    <a:pt x="3071" y="40"/>
                  </a:lnTo>
                  <a:lnTo>
                    <a:pt x="3068" y="48"/>
                  </a:lnTo>
                  <a:lnTo>
                    <a:pt x="3062" y="57"/>
                  </a:lnTo>
                  <a:lnTo>
                    <a:pt x="3059" y="66"/>
                  </a:lnTo>
                  <a:lnTo>
                    <a:pt x="3059" y="74"/>
                  </a:lnTo>
                  <a:lnTo>
                    <a:pt x="3059" y="83"/>
                  </a:lnTo>
                  <a:lnTo>
                    <a:pt x="3068" y="89"/>
                  </a:lnTo>
                  <a:lnTo>
                    <a:pt x="3077" y="92"/>
                  </a:lnTo>
                  <a:lnTo>
                    <a:pt x="3085" y="97"/>
                  </a:lnTo>
                  <a:lnTo>
                    <a:pt x="3097" y="103"/>
                  </a:lnTo>
                  <a:lnTo>
                    <a:pt x="3106" y="103"/>
                  </a:lnTo>
                  <a:lnTo>
                    <a:pt x="3114" y="103"/>
                  </a:lnTo>
                  <a:lnTo>
                    <a:pt x="3114" y="95"/>
                  </a:lnTo>
                  <a:lnTo>
                    <a:pt x="3123" y="95"/>
                  </a:lnTo>
                  <a:lnTo>
                    <a:pt x="3114" y="103"/>
                  </a:lnTo>
                  <a:lnTo>
                    <a:pt x="3106" y="103"/>
                  </a:lnTo>
                  <a:lnTo>
                    <a:pt x="3097" y="103"/>
                  </a:lnTo>
                  <a:lnTo>
                    <a:pt x="3088" y="109"/>
                  </a:lnTo>
                  <a:lnTo>
                    <a:pt x="3085" y="118"/>
                  </a:lnTo>
                  <a:lnTo>
                    <a:pt x="3085" y="126"/>
                  </a:lnTo>
                  <a:lnTo>
                    <a:pt x="3080" y="135"/>
                  </a:lnTo>
                  <a:lnTo>
                    <a:pt x="3088" y="138"/>
                  </a:lnTo>
                  <a:lnTo>
                    <a:pt x="3082" y="146"/>
                  </a:lnTo>
                  <a:lnTo>
                    <a:pt x="3080" y="155"/>
                  </a:lnTo>
                  <a:lnTo>
                    <a:pt x="3074" y="164"/>
                  </a:lnTo>
                  <a:lnTo>
                    <a:pt x="3074" y="172"/>
                  </a:lnTo>
                  <a:lnTo>
                    <a:pt x="3074" y="181"/>
                  </a:lnTo>
                  <a:lnTo>
                    <a:pt x="3074" y="190"/>
                  </a:lnTo>
                  <a:lnTo>
                    <a:pt x="3085" y="190"/>
                  </a:lnTo>
                  <a:lnTo>
                    <a:pt x="3094" y="190"/>
                  </a:lnTo>
                  <a:lnTo>
                    <a:pt x="3088" y="198"/>
                  </a:lnTo>
                  <a:lnTo>
                    <a:pt x="3080" y="204"/>
                  </a:lnTo>
                  <a:lnTo>
                    <a:pt x="3074" y="213"/>
                  </a:lnTo>
                  <a:lnTo>
                    <a:pt x="3071" y="221"/>
                  </a:lnTo>
                  <a:lnTo>
                    <a:pt x="3071" y="230"/>
                  </a:lnTo>
                  <a:lnTo>
                    <a:pt x="3071" y="239"/>
                  </a:lnTo>
                  <a:lnTo>
                    <a:pt x="3068" y="247"/>
                  </a:lnTo>
                  <a:lnTo>
                    <a:pt x="3062" y="256"/>
                  </a:lnTo>
                  <a:lnTo>
                    <a:pt x="3059" y="265"/>
                  </a:lnTo>
                  <a:lnTo>
                    <a:pt x="3059" y="273"/>
                  </a:lnTo>
                  <a:lnTo>
                    <a:pt x="3059" y="282"/>
                  </a:lnTo>
                  <a:lnTo>
                    <a:pt x="3059" y="291"/>
                  </a:lnTo>
                  <a:lnTo>
                    <a:pt x="3059" y="299"/>
                  </a:lnTo>
                  <a:lnTo>
                    <a:pt x="3059" y="311"/>
                  </a:lnTo>
                  <a:lnTo>
                    <a:pt x="3065" y="319"/>
                  </a:lnTo>
                  <a:lnTo>
                    <a:pt x="3074" y="325"/>
                  </a:lnTo>
                  <a:lnTo>
                    <a:pt x="3082" y="328"/>
                  </a:lnTo>
                  <a:lnTo>
                    <a:pt x="3082" y="337"/>
                  </a:lnTo>
                  <a:lnTo>
                    <a:pt x="3082" y="345"/>
                  </a:lnTo>
                  <a:lnTo>
                    <a:pt x="3085" y="354"/>
                  </a:lnTo>
                  <a:lnTo>
                    <a:pt x="3085" y="363"/>
                  </a:lnTo>
                  <a:lnTo>
                    <a:pt x="3088" y="371"/>
                  </a:lnTo>
                  <a:lnTo>
                    <a:pt x="3088" y="380"/>
                  </a:lnTo>
                  <a:lnTo>
                    <a:pt x="3091" y="389"/>
                  </a:lnTo>
                  <a:lnTo>
                    <a:pt x="3094" y="397"/>
                  </a:lnTo>
                  <a:lnTo>
                    <a:pt x="3097" y="406"/>
                  </a:lnTo>
                  <a:lnTo>
                    <a:pt x="3109" y="412"/>
                  </a:lnTo>
                  <a:lnTo>
                    <a:pt x="3117" y="412"/>
                  </a:lnTo>
                  <a:lnTo>
                    <a:pt x="3126" y="412"/>
                  </a:lnTo>
                  <a:lnTo>
                    <a:pt x="3135" y="412"/>
                  </a:lnTo>
                  <a:lnTo>
                    <a:pt x="3135" y="403"/>
                  </a:lnTo>
                  <a:lnTo>
                    <a:pt x="3138" y="394"/>
                  </a:lnTo>
                  <a:lnTo>
                    <a:pt x="3147" y="391"/>
                  </a:lnTo>
                  <a:lnTo>
                    <a:pt x="3155" y="391"/>
                  </a:lnTo>
                  <a:lnTo>
                    <a:pt x="3164" y="394"/>
                  </a:lnTo>
                  <a:lnTo>
                    <a:pt x="3167" y="403"/>
                  </a:lnTo>
                  <a:lnTo>
                    <a:pt x="3167" y="412"/>
                  </a:lnTo>
                  <a:lnTo>
                    <a:pt x="3164" y="420"/>
                  </a:lnTo>
                  <a:lnTo>
                    <a:pt x="3155" y="423"/>
                  </a:lnTo>
                  <a:lnTo>
                    <a:pt x="3152" y="432"/>
                  </a:lnTo>
                  <a:lnTo>
                    <a:pt x="3144" y="438"/>
                  </a:lnTo>
                  <a:lnTo>
                    <a:pt x="3138" y="429"/>
                  </a:lnTo>
                  <a:lnTo>
                    <a:pt x="3129" y="420"/>
                  </a:lnTo>
                  <a:lnTo>
                    <a:pt x="3120" y="420"/>
                  </a:lnTo>
                  <a:lnTo>
                    <a:pt x="3114" y="429"/>
                  </a:lnTo>
                  <a:lnTo>
                    <a:pt x="3114" y="438"/>
                  </a:lnTo>
                  <a:lnTo>
                    <a:pt x="3114" y="446"/>
                  </a:lnTo>
                  <a:lnTo>
                    <a:pt x="3123" y="452"/>
                  </a:lnTo>
                  <a:lnTo>
                    <a:pt x="3132" y="452"/>
                  </a:lnTo>
                  <a:lnTo>
                    <a:pt x="3141" y="452"/>
                  </a:lnTo>
                  <a:lnTo>
                    <a:pt x="3135" y="461"/>
                  </a:lnTo>
                  <a:lnTo>
                    <a:pt x="3138" y="469"/>
                  </a:lnTo>
                  <a:lnTo>
                    <a:pt x="3147" y="472"/>
                  </a:lnTo>
                  <a:lnTo>
                    <a:pt x="3147" y="463"/>
                  </a:lnTo>
                  <a:lnTo>
                    <a:pt x="3144" y="455"/>
                  </a:lnTo>
                  <a:lnTo>
                    <a:pt x="3144" y="466"/>
                  </a:lnTo>
                  <a:lnTo>
                    <a:pt x="3144" y="475"/>
                  </a:lnTo>
                  <a:lnTo>
                    <a:pt x="3144" y="484"/>
                  </a:lnTo>
                  <a:lnTo>
                    <a:pt x="3144" y="492"/>
                  </a:lnTo>
                  <a:lnTo>
                    <a:pt x="3144" y="501"/>
                  </a:lnTo>
                  <a:lnTo>
                    <a:pt x="3144" y="510"/>
                  </a:lnTo>
                  <a:lnTo>
                    <a:pt x="3152" y="518"/>
                  </a:lnTo>
                  <a:lnTo>
                    <a:pt x="3161" y="527"/>
                  </a:lnTo>
                  <a:lnTo>
                    <a:pt x="3167" y="538"/>
                  </a:lnTo>
                  <a:lnTo>
                    <a:pt x="3176" y="544"/>
                  </a:lnTo>
                  <a:lnTo>
                    <a:pt x="3184" y="550"/>
                  </a:lnTo>
                  <a:lnTo>
                    <a:pt x="3196" y="550"/>
                  </a:lnTo>
                  <a:lnTo>
                    <a:pt x="3205" y="550"/>
                  </a:lnTo>
                  <a:lnTo>
                    <a:pt x="3213" y="550"/>
                  </a:lnTo>
                  <a:lnTo>
                    <a:pt x="3205" y="550"/>
                  </a:lnTo>
                  <a:lnTo>
                    <a:pt x="3193" y="550"/>
                  </a:lnTo>
                  <a:lnTo>
                    <a:pt x="3184" y="553"/>
                  </a:lnTo>
                  <a:lnTo>
                    <a:pt x="3179" y="561"/>
                  </a:lnTo>
                  <a:lnTo>
                    <a:pt x="3176" y="570"/>
                  </a:lnTo>
                  <a:lnTo>
                    <a:pt x="3173" y="579"/>
                  </a:lnTo>
                  <a:lnTo>
                    <a:pt x="3164" y="582"/>
                  </a:lnTo>
                  <a:lnTo>
                    <a:pt x="3155" y="582"/>
                  </a:lnTo>
                  <a:lnTo>
                    <a:pt x="3147" y="582"/>
                  </a:lnTo>
                  <a:lnTo>
                    <a:pt x="3132" y="576"/>
                  </a:lnTo>
                  <a:lnTo>
                    <a:pt x="3120" y="576"/>
                  </a:lnTo>
                  <a:lnTo>
                    <a:pt x="3109" y="576"/>
                  </a:lnTo>
                  <a:lnTo>
                    <a:pt x="3103" y="585"/>
                  </a:lnTo>
                  <a:lnTo>
                    <a:pt x="3100" y="593"/>
                  </a:lnTo>
                  <a:lnTo>
                    <a:pt x="3100" y="602"/>
                  </a:lnTo>
                  <a:lnTo>
                    <a:pt x="3100" y="610"/>
                  </a:lnTo>
                  <a:lnTo>
                    <a:pt x="3100" y="619"/>
                  </a:lnTo>
                  <a:lnTo>
                    <a:pt x="3100" y="628"/>
                  </a:lnTo>
                  <a:lnTo>
                    <a:pt x="3103" y="636"/>
                  </a:lnTo>
                  <a:lnTo>
                    <a:pt x="3106" y="645"/>
                  </a:lnTo>
                  <a:lnTo>
                    <a:pt x="3112" y="654"/>
                  </a:lnTo>
                  <a:lnTo>
                    <a:pt x="3117" y="662"/>
                  </a:lnTo>
                  <a:lnTo>
                    <a:pt x="3120" y="671"/>
                  </a:lnTo>
                  <a:lnTo>
                    <a:pt x="3123" y="680"/>
                  </a:lnTo>
                  <a:lnTo>
                    <a:pt x="3123" y="688"/>
                  </a:lnTo>
                  <a:lnTo>
                    <a:pt x="3123" y="697"/>
                  </a:lnTo>
                  <a:lnTo>
                    <a:pt x="3123" y="706"/>
                  </a:lnTo>
                  <a:lnTo>
                    <a:pt x="3114" y="711"/>
                  </a:lnTo>
                  <a:lnTo>
                    <a:pt x="3106" y="720"/>
                  </a:lnTo>
                  <a:lnTo>
                    <a:pt x="3103" y="729"/>
                  </a:lnTo>
                  <a:lnTo>
                    <a:pt x="3103" y="737"/>
                  </a:lnTo>
                  <a:lnTo>
                    <a:pt x="3094" y="740"/>
                  </a:lnTo>
                  <a:lnTo>
                    <a:pt x="3085" y="743"/>
                  </a:lnTo>
                  <a:lnTo>
                    <a:pt x="3077" y="746"/>
                  </a:lnTo>
                  <a:lnTo>
                    <a:pt x="3068" y="746"/>
                  </a:lnTo>
                  <a:lnTo>
                    <a:pt x="3059" y="752"/>
                  </a:lnTo>
                  <a:lnTo>
                    <a:pt x="3050" y="760"/>
                  </a:lnTo>
                  <a:lnTo>
                    <a:pt x="3050" y="769"/>
                  </a:lnTo>
                  <a:lnTo>
                    <a:pt x="3050" y="778"/>
                  </a:lnTo>
                  <a:lnTo>
                    <a:pt x="3056" y="786"/>
                  </a:lnTo>
                  <a:lnTo>
                    <a:pt x="3065" y="789"/>
                  </a:lnTo>
                  <a:lnTo>
                    <a:pt x="3074" y="795"/>
                  </a:lnTo>
                  <a:lnTo>
                    <a:pt x="3074" y="804"/>
                  </a:lnTo>
                  <a:lnTo>
                    <a:pt x="3062" y="806"/>
                  </a:lnTo>
                  <a:lnTo>
                    <a:pt x="3050" y="806"/>
                  </a:lnTo>
                  <a:lnTo>
                    <a:pt x="3053" y="798"/>
                  </a:lnTo>
                  <a:lnTo>
                    <a:pt x="3045" y="792"/>
                  </a:lnTo>
                  <a:lnTo>
                    <a:pt x="3036" y="798"/>
                  </a:lnTo>
                  <a:lnTo>
                    <a:pt x="3036" y="809"/>
                  </a:lnTo>
                  <a:lnTo>
                    <a:pt x="3036" y="818"/>
                  </a:lnTo>
                  <a:lnTo>
                    <a:pt x="3033" y="827"/>
                  </a:lnTo>
                  <a:lnTo>
                    <a:pt x="3030" y="835"/>
                  </a:lnTo>
                  <a:lnTo>
                    <a:pt x="3024" y="844"/>
                  </a:lnTo>
                  <a:lnTo>
                    <a:pt x="3016" y="853"/>
                  </a:lnTo>
                  <a:lnTo>
                    <a:pt x="3013" y="861"/>
                  </a:lnTo>
                  <a:lnTo>
                    <a:pt x="3021" y="864"/>
                  </a:lnTo>
                  <a:lnTo>
                    <a:pt x="3030" y="864"/>
                  </a:lnTo>
                  <a:lnTo>
                    <a:pt x="3033" y="873"/>
                  </a:lnTo>
                  <a:lnTo>
                    <a:pt x="3033" y="881"/>
                  </a:lnTo>
                  <a:lnTo>
                    <a:pt x="3042" y="890"/>
                  </a:lnTo>
                  <a:lnTo>
                    <a:pt x="3050" y="893"/>
                  </a:lnTo>
                  <a:lnTo>
                    <a:pt x="3062" y="893"/>
                  </a:lnTo>
                  <a:lnTo>
                    <a:pt x="3071" y="887"/>
                  </a:lnTo>
                  <a:lnTo>
                    <a:pt x="3080" y="887"/>
                  </a:lnTo>
                  <a:lnTo>
                    <a:pt x="3088" y="887"/>
                  </a:lnTo>
                  <a:lnTo>
                    <a:pt x="3085" y="896"/>
                  </a:lnTo>
                  <a:lnTo>
                    <a:pt x="3082" y="904"/>
                  </a:lnTo>
                  <a:lnTo>
                    <a:pt x="3080" y="913"/>
                  </a:lnTo>
                  <a:lnTo>
                    <a:pt x="3088" y="919"/>
                  </a:lnTo>
                  <a:lnTo>
                    <a:pt x="3088" y="927"/>
                  </a:lnTo>
                  <a:lnTo>
                    <a:pt x="3080" y="933"/>
                  </a:lnTo>
                  <a:lnTo>
                    <a:pt x="3077" y="942"/>
                  </a:lnTo>
                  <a:lnTo>
                    <a:pt x="3077" y="950"/>
                  </a:lnTo>
                  <a:lnTo>
                    <a:pt x="3074" y="959"/>
                  </a:lnTo>
                  <a:lnTo>
                    <a:pt x="3074" y="968"/>
                  </a:lnTo>
                  <a:lnTo>
                    <a:pt x="3077" y="959"/>
                  </a:lnTo>
                  <a:lnTo>
                    <a:pt x="3065" y="942"/>
                  </a:lnTo>
                  <a:lnTo>
                    <a:pt x="3071" y="962"/>
                  </a:lnTo>
                  <a:lnTo>
                    <a:pt x="3062" y="962"/>
                  </a:lnTo>
                  <a:lnTo>
                    <a:pt x="3074" y="968"/>
                  </a:lnTo>
                  <a:lnTo>
                    <a:pt x="3074" y="976"/>
                  </a:lnTo>
                  <a:lnTo>
                    <a:pt x="3059" y="976"/>
                  </a:lnTo>
                  <a:lnTo>
                    <a:pt x="3050" y="979"/>
                  </a:lnTo>
                  <a:lnTo>
                    <a:pt x="3039" y="979"/>
                  </a:lnTo>
                  <a:lnTo>
                    <a:pt x="3039" y="988"/>
                  </a:lnTo>
                  <a:lnTo>
                    <a:pt x="3048" y="991"/>
                  </a:lnTo>
                  <a:lnTo>
                    <a:pt x="3056" y="991"/>
                  </a:lnTo>
                  <a:lnTo>
                    <a:pt x="3065" y="997"/>
                  </a:lnTo>
                  <a:lnTo>
                    <a:pt x="3074" y="1005"/>
                  </a:lnTo>
                  <a:lnTo>
                    <a:pt x="3077" y="1014"/>
                  </a:lnTo>
                  <a:lnTo>
                    <a:pt x="3082" y="1023"/>
                  </a:lnTo>
                  <a:lnTo>
                    <a:pt x="3088" y="1031"/>
                  </a:lnTo>
                  <a:lnTo>
                    <a:pt x="3080" y="1034"/>
                  </a:lnTo>
                  <a:lnTo>
                    <a:pt x="3071" y="1034"/>
                  </a:lnTo>
                  <a:lnTo>
                    <a:pt x="3062" y="1040"/>
                  </a:lnTo>
                  <a:lnTo>
                    <a:pt x="3050" y="1043"/>
                  </a:lnTo>
                  <a:lnTo>
                    <a:pt x="3039" y="1046"/>
                  </a:lnTo>
                  <a:lnTo>
                    <a:pt x="3030" y="1046"/>
                  </a:lnTo>
                  <a:lnTo>
                    <a:pt x="3018" y="1046"/>
                  </a:lnTo>
                  <a:lnTo>
                    <a:pt x="3010" y="1037"/>
                  </a:lnTo>
                  <a:lnTo>
                    <a:pt x="3007" y="1028"/>
                  </a:lnTo>
                  <a:lnTo>
                    <a:pt x="3010" y="1020"/>
                  </a:lnTo>
                  <a:lnTo>
                    <a:pt x="3013" y="1011"/>
                  </a:lnTo>
                  <a:lnTo>
                    <a:pt x="3004" y="1011"/>
                  </a:lnTo>
                  <a:lnTo>
                    <a:pt x="2992" y="1008"/>
                  </a:lnTo>
                  <a:lnTo>
                    <a:pt x="2983" y="1008"/>
                  </a:lnTo>
                  <a:lnTo>
                    <a:pt x="2978" y="1017"/>
                  </a:lnTo>
                  <a:lnTo>
                    <a:pt x="2978" y="1025"/>
                  </a:lnTo>
                  <a:lnTo>
                    <a:pt x="2983" y="1034"/>
                  </a:lnTo>
                  <a:lnTo>
                    <a:pt x="2989" y="1043"/>
                  </a:lnTo>
                  <a:lnTo>
                    <a:pt x="2992" y="1051"/>
                  </a:lnTo>
                  <a:lnTo>
                    <a:pt x="3001" y="1054"/>
                  </a:lnTo>
                  <a:lnTo>
                    <a:pt x="3010" y="1060"/>
                  </a:lnTo>
                  <a:lnTo>
                    <a:pt x="3018" y="1063"/>
                  </a:lnTo>
                  <a:lnTo>
                    <a:pt x="3027" y="1063"/>
                  </a:lnTo>
                  <a:lnTo>
                    <a:pt x="3036" y="1060"/>
                  </a:lnTo>
                  <a:lnTo>
                    <a:pt x="3027" y="1060"/>
                  </a:lnTo>
                  <a:lnTo>
                    <a:pt x="3018" y="1057"/>
                  </a:lnTo>
                  <a:lnTo>
                    <a:pt x="3010" y="1054"/>
                  </a:lnTo>
                  <a:lnTo>
                    <a:pt x="3004" y="1046"/>
                  </a:lnTo>
                  <a:lnTo>
                    <a:pt x="2995" y="1040"/>
                  </a:lnTo>
                  <a:lnTo>
                    <a:pt x="2992" y="1031"/>
                  </a:lnTo>
                  <a:lnTo>
                    <a:pt x="2983" y="1023"/>
                  </a:lnTo>
                  <a:lnTo>
                    <a:pt x="2978" y="1014"/>
                  </a:lnTo>
                  <a:lnTo>
                    <a:pt x="2969" y="1005"/>
                  </a:lnTo>
                  <a:lnTo>
                    <a:pt x="2966" y="1014"/>
                  </a:lnTo>
                  <a:lnTo>
                    <a:pt x="2954" y="1023"/>
                  </a:lnTo>
                  <a:lnTo>
                    <a:pt x="2946" y="1023"/>
                  </a:lnTo>
                  <a:lnTo>
                    <a:pt x="2943" y="1034"/>
                  </a:lnTo>
                  <a:lnTo>
                    <a:pt x="2943" y="1043"/>
                  </a:lnTo>
                  <a:lnTo>
                    <a:pt x="2951" y="1051"/>
                  </a:lnTo>
                  <a:lnTo>
                    <a:pt x="2963" y="1051"/>
                  </a:lnTo>
                  <a:lnTo>
                    <a:pt x="2975" y="1054"/>
                  </a:lnTo>
                  <a:lnTo>
                    <a:pt x="2963" y="1051"/>
                  </a:lnTo>
                  <a:lnTo>
                    <a:pt x="2951" y="1046"/>
                  </a:lnTo>
                  <a:lnTo>
                    <a:pt x="2943" y="1043"/>
                  </a:lnTo>
                  <a:lnTo>
                    <a:pt x="2934" y="1051"/>
                  </a:lnTo>
                  <a:lnTo>
                    <a:pt x="2928" y="1060"/>
                  </a:lnTo>
                  <a:lnTo>
                    <a:pt x="2919" y="1060"/>
                  </a:lnTo>
                  <a:lnTo>
                    <a:pt x="2919" y="1069"/>
                  </a:lnTo>
                  <a:lnTo>
                    <a:pt x="2931" y="1077"/>
                  </a:lnTo>
                  <a:lnTo>
                    <a:pt x="2943" y="1086"/>
                  </a:lnTo>
                  <a:lnTo>
                    <a:pt x="2951" y="1089"/>
                  </a:lnTo>
                  <a:lnTo>
                    <a:pt x="2960" y="1089"/>
                  </a:lnTo>
                  <a:lnTo>
                    <a:pt x="2969" y="1089"/>
                  </a:lnTo>
                  <a:lnTo>
                    <a:pt x="2972" y="1080"/>
                  </a:lnTo>
                  <a:lnTo>
                    <a:pt x="2975" y="1072"/>
                  </a:lnTo>
                  <a:lnTo>
                    <a:pt x="2975" y="1063"/>
                  </a:lnTo>
                  <a:lnTo>
                    <a:pt x="2978" y="1054"/>
                  </a:lnTo>
                  <a:lnTo>
                    <a:pt x="2981" y="1063"/>
                  </a:lnTo>
                  <a:lnTo>
                    <a:pt x="2981" y="1072"/>
                  </a:lnTo>
                  <a:lnTo>
                    <a:pt x="2975" y="1080"/>
                  </a:lnTo>
                  <a:lnTo>
                    <a:pt x="2969" y="1089"/>
                  </a:lnTo>
                  <a:lnTo>
                    <a:pt x="2957" y="1089"/>
                  </a:lnTo>
                  <a:lnTo>
                    <a:pt x="2949" y="1089"/>
                  </a:lnTo>
                  <a:lnTo>
                    <a:pt x="2940" y="1097"/>
                  </a:lnTo>
                  <a:lnTo>
                    <a:pt x="2937" y="1106"/>
                  </a:lnTo>
                  <a:lnTo>
                    <a:pt x="2934" y="1115"/>
                  </a:lnTo>
                  <a:lnTo>
                    <a:pt x="2934" y="1123"/>
                  </a:lnTo>
                  <a:lnTo>
                    <a:pt x="2925" y="1129"/>
                  </a:lnTo>
                  <a:lnTo>
                    <a:pt x="2917" y="1135"/>
                  </a:lnTo>
                  <a:lnTo>
                    <a:pt x="2908" y="1138"/>
                  </a:lnTo>
                  <a:lnTo>
                    <a:pt x="2899" y="1138"/>
                  </a:lnTo>
                  <a:lnTo>
                    <a:pt x="2893" y="1129"/>
                  </a:lnTo>
                  <a:lnTo>
                    <a:pt x="2884" y="1129"/>
                  </a:lnTo>
                  <a:lnTo>
                    <a:pt x="2876" y="1129"/>
                  </a:lnTo>
                  <a:lnTo>
                    <a:pt x="2867" y="1135"/>
                  </a:lnTo>
                  <a:lnTo>
                    <a:pt x="2864" y="1144"/>
                  </a:lnTo>
                  <a:lnTo>
                    <a:pt x="2861" y="1152"/>
                  </a:lnTo>
                  <a:lnTo>
                    <a:pt x="2861" y="1161"/>
                  </a:lnTo>
                  <a:lnTo>
                    <a:pt x="2858" y="1170"/>
                  </a:lnTo>
                  <a:lnTo>
                    <a:pt x="2852" y="1178"/>
                  </a:lnTo>
                  <a:lnTo>
                    <a:pt x="2844" y="1181"/>
                  </a:lnTo>
                  <a:lnTo>
                    <a:pt x="2835" y="1181"/>
                  </a:lnTo>
                  <a:lnTo>
                    <a:pt x="2826" y="1184"/>
                  </a:lnTo>
                  <a:lnTo>
                    <a:pt x="2818" y="1175"/>
                  </a:lnTo>
                  <a:lnTo>
                    <a:pt x="2809" y="1167"/>
                  </a:lnTo>
                  <a:lnTo>
                    <a:pt x="2806" y="1175"/>
                  </a:lnTo>
                  <a:lnTo>
                    <a:pt x="2806" y="1184"/>
                  </a:lnTo>
                  <a:lnTo>
                    <a:pt x="2806" y="1193"/>
                  </a:lnTo>
                  <a:lnTo>
                    <a:pt x="2806" y="1204"/>
                  </a:lnTo>
                  <a:lnTo>
                    <a:pt x="2806" y="1213"/>
                  </a:lnTo>
                  <a:lnTo>
                    <a:pt x="2815" y="1213"/>
                  </a:lnTo>
                  <a:lnTo>
                    <a:pt x="2823" y="1216"/>
                  </a:lnTo>
                  <a:lnTo>
                    <a:pt x="2826" y="1224"/>
                  </a:lnTo>
                  <a:lnTo>
                    <a:pt x="2826" y="1233"/>
                  </a:lnTo>
                  <a:lnTo>
                    <a:pt x="2826" y="1242"/>
                  </a:lnTo>
                  <a:lnTo>
                    <a:pt x="2823" y="1250"/>
                  </a:lnTo>
                  <a:lnTo>
                    <a:pt x="2815" y="1253"/>
                  </a:lnTo>
                  <a:lnTo>
                    <a:pt x="2809" y="1262"/>
                  </a:lnTo>
                  <a:lnTo>
                    <a:pt x="2809" y="1270"/>
                  </a:lnTo>
                  <a:lnTo>
                    <a:pt x="2809" y="1279"/>
                  </a:lnTo>
                  <a:lnTo>
                    <a:pt x="2809" y="1288"/>
                  </a:lnTo>
                  <a:lnTo>
                    <a:pt x="2809" y="1279"/>
                  </a:lnTo>
                  <a:lnTo>
                    <a:pt x="2806" y="1270"/>
                  </a:lnTo>
                  <a:lnTo>
                    <a:pt x="2806" y="1262"/>
                  </a:lnTo>
                  <a:lnTo>
                    <a:pt x="2800" y="1253"/>
                  </a:lnTo>
                  <a:lnTo>
                    <a:pt x="2797" y="1244"/>
                  </a:lnTo>
                  <a:lnTo>
                    <a:pt x="2794" y="1236"/>
                  </a:lnTo>
                  <a:lnTo>
                    <a:pt x="2794" y="1227"/>
                  </a:lnTo>
                  <a:lnTo>
                    <a:pt x="2794" y="1218"/>
                  </a:lnTo>
                  <a:lnTo>
                    <a:pt x="2800" y="1210"/>
                  </a:lnTo>
                  <a:lnTo>
                    <a:pt x="2803" y="1201"/>
                  </a:lnTo>
                  <a:lnTo>
                    <a:pt x="2800" y="1193"/>
                  </a:lnTo>
                  <a:lnTo>
                    <a:pt x="2791" y="1187"/>
                  </a:lnTo>
                  <a:lnTo>
                    <a:pt x="2788" y="1178"/>
                  </a:lnTo>
                  <a:lnTo>
                    <a:pt x="2788" y="1170"/>
                  </a:lnTo>
                  <a:lnTo>
                    <a:pt x="2788" y="1161"/>
                  </a:lnTo>
                  <a:lnTo>
                    <a:pt x="2788" y="1152"/>
                  </a:lnTo>
                  <a:lnTo>
                    <a:pt x="2786" y="1144"/>
                  </a:lnTo>
                  <a:lnTo>
                    <a:pt x="2786" y="1135"/>
                  </a:lnTo>
                  <a:lnTo>
                    <a:pt x="2780" y="1126"/>
                  </a:lnTo>
                  <a:lnTo>
                    <a:pt x="2768" y="1121"/>
                  </a:lnTo>
                  <a:lnTo>
                    <a:pt x="2759" y="1115"/>
                  </a:lnTo>
                  <a:lnTo>
                    <a:pt x="2748" y="1112"/>
                  </a:lnTo>
                  <a:lnTo>
                    <a:pt x="2736" y="1109"/>
                  </a:lnTo>
                  <a:lnTo>
                    <a:pt x="2724" y="1106"/>
                  </a:lnTo>
                  <a:lnTo>
                    <a:pt x="2716" y="1106"/>
                  </a:lnTo>
                  <a:lnTo>
                    <a:pt x="2710" y="1115"/>
                  </a:lnTo>
                  <a:lnTo>
                    <a:pt x="2704" y="1123"/>
                  </a:lnTo>
                  <a:lnTo>
                    <a:pt x="2698" y="1132"/>
                  </a:lnTo>
                  <a:lnTo>
                    <a:pt x="2692" y="1126"/>
                  </a:lnTo>
                  <a:lnTo>
                    <a:pt x="2695" y="1112"/>
                  </a:lnTo>
                  <a:lnTo>
                    <a:pt x="2695" y="1121"/>
                  </a:lnTo>
                  <a:lnTo>
                    <a:pt x="2692" y="1129"/>
                  </a:lnTo>
                  <a:lnTo>
                    <a:pt x="2692" y="1138"/>
                  </a:lnTo>
                  <a:lnTo>
                    <a:pt x="2687" y="1146"/>
                  </a:lnTo>
                  <a:lnTo>
                    <a:pt x="2687" y="1155"/>
                  </a:lnTo>
                  <a:lnTo>
                    <a:pt x="2687" y="1164"/>
                  </a:lnTo>
                  <a:lnTo>
                    <a:pt x="2678" y="1167"/>
                  </a:lnTo>
                  <a:lnTo>
                    <a:pt x="2669" y="1167"/>
                  </a:lnTo>
                  <a:lnTo>
                    <a:pt x="2666" y="1158"/>
                  </a:lnTo>
                  <a:lnTo>
                    <a:pt x="2666" y="1149"/>
                  </a:lnTo>
                  <a:lnTo>
                    <a:pt x="2657" y="1146"/>
                  </a:lnTo>
                  <a:lnTo>
                    <a:pt x="2649" y="1152"/>
                  </a:lnTo>
                  <a:lnTo>
                    <a:pt x="2646" y="1141"/>
                  </a:lnTo>
                  <a:lnTo>
                    <a:pt x="2634" y="1135"/>
                  </a:lnTo>
                  <a:lnTo>
                    <a:pt x="2625" y="1135"/>
                  </a:lnTo>
                  <a:lnTo>
                    <a:pt x="2617" y="1135"/>
                  </a:lnTo>
                  <a:lnTo>
                    <a:pt x="2614" y="1144"/>
                  </a:lnTo>
                  <a:lnTo>
                    <a:pt x="2614" y="1152"/>
                  </a:lnTo>
                  <a:lnTo>
                    <a:pt x="2614" y="1161"/>
                  </a:lnTo>
                  <a:lnTo>
                    <a:pt x="2617" y="1170"/>
                  </a:lnTo>
                  <a:lnTo>
                    <a:pt x="2617" y="1178"/>
                  </a:lnTo>
                  <a:lnTo>
                    <a:pt x="2620" y="1187"/>
                  </a:lnTo>
                  <a:lnTo>
                    <a:pt x="2625" y="1195"/>
                  </a:lnTo>
                  <a:lnTo>
                    <a:pt x="2634" y="1201"/>
                  </a:lnTo>
                  <a:lnTo>
                    <a:pt x="2643" y="1201"/>
                  </a:lnTo>
                  <a:lnTo>
                    <a:pt x="2652" y="1201"/>
                  </a:lnTo>
                  <a:lnTo>
                    <a:pt x="2643" y="1201"/>
                  </a:lnTo>
                  <a:lnTo>
                    <a:pt x="2634" y="1207"/>
                  </a:lnTo>
                  <a:lnTo>
                    <a:pt x="2625" y="1216"/>
                  </a:lnTo>
                  <a:lnTo>
                    <a:pt x="2625" y="1224"/>
                  </a:lnTo>
                  <a:lnTo>
                    <a:pt x="2634" y="1224"/>
                  </a:lnTo>
                  <a:lnTo>
                    <a:pt x="2643" y="1230"/>
                  </a:lnTo>
                  <a:lnTo>
                    <a:pt x="2646" y="1242"/>
                  </a:lnTo>
                  <a:lnTo>
                    <a:pt x="2652" y="1253"/>
                  </a:lnTo>
                  <a:lnTo>
                    <a:pt x="2660" y="1259"/>
                  </a:lnTo>
                  <a:lnTo>
                    <a:pt x="2672" y="1265"/>
                  </a:lnTo>
                  <a:lnTo>
                    <a:pt x="2663" y="1262"/>
                  </a:lnTo>
                  <a:lnTo>
                    <a:pt x="2655" y="1256"/>
                  </a:lnTo>
                  <a:lnTo>
                    <a:pt x="2663" y="1250"/>
                  </a:lnTo>
                  <a:lnTo>
                    <a:pt x="2672" y="1250"/>
                  </a:lnTo>
                  <a:lnTo>
                    <a:pt x="2681" y="1253"/>
                  </a:lnTo>
                  <a:lnTo>
                    <a:pt x="2669" y="1256"/>
                  </a:lnTo>
                  <a:lnTo>
                    <a:pt x="2655" y="1256"/>
                  </a:lnTo>
                  <a:lnTo>
                    <a:pt x="2646" y="1247"/>
                  </a:lnTo>
                  <a:lnTo>
                    <a:pt x="2643" y="1236"/>
                  </a:lnTo>
                  <a:lnTo>
                    <a:pt x="2640" y="1227"/>
                  </a:lnTo>
                  <a:lnTo>
                    <a:pt x="2631" y="1227"/>
                  </a:lnTo>
                  <a:lnTo>
                    <a:pt x="2625" y="1236"/>
                  </a:lnTo>
                  <a:lnTo>
                    <a:pt x="2625" y="1247"/>
                  </a:lnTo>
                  <a:lnTo>
                    <a:pt x="2625" y="1259"/>
                  </a:lnTo>
                  <a:lnTo>
                    <a:pt x="2617" y="1259"/>
                  </a:lnTo>
                  <a:lnTo>
                    <a:pt x="2608" y="1256"/>
                  </a:lnTo>
                  <a:lnTo>
                    <a:pt x="2605" y="1247"/>
                  </a:lnTo>
                  <a:lnTo>
                    <a:pt x="2596" y="1253"/>
                  </a:lnTo>
                  <a:lnTo>
                    <a:pt x="2588" y="1262"/>
                  </a:lnTo>
                  <a:lnTo>
                    <a:pt x="2582" y="1270"/>
                  </a:lnTo>
                  <a:lnTo>
                    <a:pt x="2582" y="1279"/>
                  </a:lnTo>
                  <a:lnTo>
                    <a:pt x="2582" y="1288"/>
                  </a:lnTo>
                  <a:lnTo>
                    <a:pt x="2576" y="1296"/>
                  </a:lnTo>
                  <a:lnTo>
                    <a:pt x="2573" y="1305"/>
                  </a:lnTo>
                  <a:lnTo>
                    <a:pt x="2567" y="1314"/>
                  </a:lnTo>
                  <a:lnTo>
                    <a:pt x="2553" y="1311"/>
                  </a:lnTo>
                  <a:lnTo>
                    <a:pt x="2567" y="1305"/>
                  </a:lnTo>
                  <a:lnTo>
                    <a:pt x="2561" y="1314"/>
                  </a:lnTo>
                  <a:lnTo>
                    <a:pt x="2558" y="1322"/>
                  </a:lnTo>
                  <a:lnTo>
                    <a:pt x="2558" y="1331"/>
                  </a:lnTo>
                  <a:lnTo>
                    <a:pt x="2558" y="1340"/>
                  </a:lnTo>
                  <a:lnTo>
                    <a:pt x="2558" y="1348"/>
                  </a:lnTo>
                  <a:lnTo>
                    <a:pt x="2558" y="1360"/>
                  </a:lnTo>
                  <a:lnTo>
                    <a:pt x="2558" y="1368"/>
                  </a:lnTo>
                  <a:lnTo>
                    <a:pt x="2550" y="1380"/>
                  </a:lnTo>
                  <a:lnTo>
                    <a:pt x="2547" y="1389"/>
                  </a:lnTo>
                  <a:lnTo>
                    <a:pt x="2544" y="1397"/>
                  </a:lnTo>
                  <a:lnTo>
                    <a:pt x="2538" y="1406"/>
                  </a:lnTo>
                  <a:lnTo>
                    <a:pt x="2529" y="1412"/>
                  </a:lnTo>
                  <a:lnTo>
                    <a:pt x="2538" y="1414"/>
                  </a:lnTo>
                  <a:lnTo>
                    <a:pt x="2547" y="1414"/>
                  </a:lnTo>
                  <a:lnTo>
                    <a:pt x="2553" y="1406"/>
                  </a:lnTo>
                  <a:lnTo>
                    <a:pt x="2553" y="1397"/>
                  </a:lnTo>
                  <a:lnTo>
                    <a:pt x="2561" y="1391"/>
                  </a:lnTo>
                  <a:lnTo>
                    <a:pt x="2567" y="1400"/>
                  </a:lnTo>
                  <a:lnTo>
                    <a:pt x="2567" y="1412"/>
                  </a:lnTo>
                  <a:lnTo>
                    <a:pt x="2570" y="1420"/>
                  </a:lnTo>
                  <a:lnTo>
                    <a:pt x="2579" y="1429"/>
                  </a:lnTo>
                  <a:lnTo>
                    <a:pt x="2588" y="1435"/>
                  </a:lnTo>
                  <a:lnTo>
                    <a:pt x="2599" y="1435"/>
                  </a:lnTo>
                  <a:lnTo>
                    <a:pt x="2593" y="1426"/>
                  </a:lnTo>
                  <a:lnTo>
                    <a:pt x="2585" y="1417"/>
                  </a:lnTo>
                  <a:lnTo>
                    <a:pt x="2582" y="1406"/>
                  </a:lnTo>
                  <a:lnTo>
                    <a:pt x="2579" y="1397"/>
                  </a:lnTo>
                  <a:lnTo>
                    <a:pt x="2573" y="1406"/>
                  </a:lnTo>
                  <a:lnTo>
                    <a:pt x="2570" y="1414"/>
                  </a:lnTo>
                  <a:lnTo>
                    <a:pt x="2561" y="1426"/>
                  </a:lnTo>
                  <a:lnTo>
                    <a:pt x="2553" y="1432"/>
                  </a:lnTo>
                  <a:lnTo>
                    <a:pt x="2544" y="1432"/>
                  </a:lnTo>
                  <a:lnTo>
                    <a:pt x="2535" y="1432"/>
                  </a:lnTo>
                  <a:lnTo>
                    <a:pt x="2526" y="1432"/>
                  </a:lnTo>
                  <a:lnTo>
                    <a:pt x="2515" y="1438"/>
                  </a:lnTo>
                  <a:lnTo>
                    <a:pt x="2506" y="1443"/>
                  </a:lnTo>
                  <a:lnTo>
                    <a:pt x="2503" y="1452"/>
                  </a:lnTo>
                  <a:lnTo>
                    <a:pt x="2509" y="1461"/>
                  </a:lnTo>
                  <a:lnTo>
                    <a:pt x="2515" y="1472"/>
                  </a:lnTo>
                  <a:lnTo>
                    <a:pt x="2521" y="1484"/>
                  </a:lnTo>
                  <a:lnTo>
                    <a:pt x="2529" y="1489"/>
                  </a:lnTo>
                  <a:lnTo>
                    <a:pt x="2538" y="1495"/>
                  </a:lnTo>
                  <a:lnTo>
                    <a:pt x="2544" y="1504"/>
                  </a:lnTo>
                  <a:lnTo>
                    <a:pt x="2553" y="1507"/>
                  </a:lnTo>
                  <a:lnTo>
                    <a:pt x="2561" y="1507"/>
                  </a:lnTo>
                  <a:lnTo>
                    <a:pt x="2570" y="1510"/>
                  </a:lnTo>
                  <a:lnTo>
                    <a:pt x="2576" y="1518"/>
                  </a:lnTo>
                  <a:lnTo>
                    <a:pt x="2585" y="1527"/>
                  </a:lnTo>
                  <a:lnTo>
                    <a:pt x="2588" y="1535"/>
                  </a:lnTo>
                  <a:lnTo>
                    <a:pt x="2588" y="1544"/>
                  </a:lnTo>
                  <a:lnTo>
                    <a:pt x="2588" y="1556"/>
                  </a:lnTo>
                  <a:lnTo>
                    <a:pt x="2590" y="1564"/>
                  </a:lnTo>
                  <a:lnTo>
                    <a:pt x="2599" y="1564"/>
                  </a:lnTo>
                  <a:lnTo>
                    <a:pt x="2614" y="1567"/>
                  </a:lnTo>
                  <a:lnTo>
                    <a:pt x="2617" y="1576"/>
                  </a:lnTo>
                  <a:lnTo>
                    <a:pt x="2617" y="1584"/>
                  </a:lnTo>
                  <a:lnTo>
                    <a:pt x="2608" y="1587"/>
                  </a:lnTo>
                  <a:lnTo>
                    <a:pt x="2596" y="1579"/>
                  </a:lnTo>
                  <a:lnTo>
                    <a:pt x="2588" y="1570"/>
                  </a:lnTo>
                  <a:lnTo>
                    <a:pt x="2582" y="1561"/>
                  </a:lnTo>
                  <a:lnTo>
                    <a:pt x="2582" y="1553"/>
                  </a:lnTo>
                  <a:lnTo>
                    <a:pt x="2582" y="1541"/>
                  </a:lnTo>
                  <a:lnTo>
                    <a:pt x="2579" y="1533"/>
                  </a:lnTo>
                  <a:lnTo>
                    <a:pt x="2573" y="1524"/>
                  </a:lnTo>
                  <a:lnTo>
                    <a:pt x="2564" y="1515"/>
                  </a:lnTo>
                  <a:lnTo>
                    <a:pt x="2556" y="1512"/>
                  </a:lnTo>
                  <a:lnTo>
                    <a:pt x="2550" y="1521"/>
                  </a:lnTo>
                  <a:lnTo>
                    <a:pt x="2541" y="1521"/>
                  </a:lnTo>
                  <a:lnTo>
                    <a:pt x="2532" y="1515"/>
                  </a:lnTo>
                  <a:lnTo>
                    <a:pt x="2524" y="1510"/>
                  </a:lnTo>
                  <a:lnTo>
                    <a:pt x="2515" y="1507"/>
                  </a:lnTo>
                  <a:lnTo>
                    <a:pt x="2506" y="1504"/>
                  </a:lnTo>
                  <a:lnTo>
                    <a:pt x="2497" y="1504"/>
                  </a:lnTo>
                  <a:lnTo>
                    <a:pt x="2489" y="1504"/>
                  </a:lnTo>
                  <a:lnTo>
                    <a:pt x="2486" y="1512"/>
                  </a:lnTo>
                  <a:lnTo>
                    <a:pt x="2486" y="1521"/>
                  </a:lnTo>
                  <a:lnTo>
                    <a:pt x="2491" y="1530"/>
                  </a:lnTo>
                  <a:lnTo>
                    <a:pt x="2486" y="1538"/>
                  </a:lnTo>
                  <a:lnTo>
                    <a:pt x="2477" y="1538"/>
                  </a:lnTo>
                  <a:lnTo>
                    <a:pt x="2474" y="1547"/>
                  </a:lnTo>
                  <a:lnTo>
                    <a:pt x="2489" y="1550"/>
                  </a:lnTo>
                  <a:lnTo>
                    <a:pt x="2497" y="1553"/>
                  </a:lnTo>
                  <a:lnTo>
                    <a:pt x="2506" y="1553"/>
                  </a:lnTo>
                  <a:lnTo>
                    <a:pt x="2515" y="1559"/>
                  </a:lnTo>
                  <a:lnTo>
                    <a:pt x="2521" y="1570"/>
                  </a:lnTo>
                  <a:lnTo>
                    <a:pt x="2529" y="1576"/>
                  </a:lnTo>
                  <a:lnTo>
                    <a:pt x="2521" y="1567"/>
                  </a:lnTo>
                  <a:lnTo>
                    <a:pt x="2509" y="1561"/>
                  </a:lnTo>
                  <a:lnTo>
                    <a:pt x="2500" y="1559"/>
                  </a:lnTo>
                  <a:lnTo>
                    <a:pt x="2491" y="1567"/>
                  </a:lnTo>
                  <a:lnTo>
                    <a:pt x="2483" y="1570"/>
                  </a:lnTo>
                  <a:lnTo>
                    <a:pt x="2474" y="1570"/>
                  </a:lnTo>
                  <a:lnTo>
                    <a:pt x="2471" y="1561"/>
                  </a:lnTo>
                  <a:lnTo>
                    <a:pt x="2471" y="1553"/>
                  </a:lnTo>
                  <a:lnTo>
                    <a:pt x="2465" y="1544"/>
                  </a:lnTo>
                  <a:lnTo>
                    <a:pt x="2462" y="1535"/>
                  </a:lnTo>
                  <a:lnTo>
                    <a:pt x="2459" y="1524"/>
                  </a:lnTo>
                  <a:lnTo>
                    <a:pt x="2457" y="1515"/>
                  </a:lnTo>
                  <a:lnTo>
                    <a:pt x="2448" y="1510"/>
                  </a:lnTo>
                  <a:lnTo>
                    <a:pt x="2439" y="1504"/>
                  </a:lnTo>
                  <a:lnTo>
                    <a:pt x="2439" y="1512"/>
                  </a:lnTo>
                  <a:lnTo>
                    <a:pt x="2439" y="1521"/>
                  </a:lnTo>
                  <a:lnTo>
                    <a:pt x="2439" y="1530"/>
                  </a:lnTo>
                  <a:lnTo>
                    <a:pt x="2439" y="1538"/>
                  </a:lnTo>
                  <a:lnTo>
                    <a:pt x="2439" y="1547"/>
                  </a:lnTo>
                  <a:lnTo>
                    <a:pt x="2439" y="1556"/>
                  </a:lnTo>
                  <a:lnTo>
                    <a:pt x="2442" y="1564"/>
                  </a:lnTo>
                  <a:lnTo>
                    <a:pt x="2436" y="1573"/>
                  </a:lnTo>
                  <a:lnTo>
                    <a:pt x="2433" y="1582"/>
                  </a:lnTo>
                  <a:lnTo>
                    <a:pt x="2430" y="1590"/>
                  </a:lnTo>
                  <a:lnTo>
                    <a:pt x="2433" y="1599"/>
                  </a:lnTo>
                  <a:lnTo>
                    <a:pt x="2442" y="1602"/>
                  </a:lnTo>
                  <a:lnTo>
                    <a:pt x="2451" y="1605"/>
                  </a:lnTo>
                  <a:lnTo>
                    <a:pt x="2459" y="1608"/>
                  </a:lnTo>
                  <a:lnTo>
                    <a:pt x="2465" y="1616"/>
                  </a:lnTo>
                  <a:lnTo>
                    <a:pt x="2474" y="1628"/>
                  </a:lnTo>
                  <a:lnTo>
                    <a:pt x="2474" y="1636"/>
                  </a:lnTo>
                  <a:lnTo>
                    <a:pt x="2474" y="1648"/>
                  </a:lnTo>
                  <a:lnTo>
                    <a:pt x="2474" y="1657"/>
                  </a:lnTo>
                  <a:lnTo>
                    <a:pt x="2474" y="1665"/>
                  </a:lnTo>
                  <a:lnTo>
                    <a:pt x="2474" y="1674"/>
                  </a:lnTo>
                  <a:lnTo>
                    <a:pt x="2483" y="1680"/>
                  </a:lnTo>
                  <a:lnTo>
                    <a:pt x="2491" y="1682"/>
                  </a:lnTo>
                  <a:lnTo>
                    <a:pt x="2500" y="1682"/>
                  </a:lnTo>
                  <a:lnTo>
                    <a:pt x="2509" y="1680"/>
                  </a:lnTo>
                  <a:lnTo>
                    <a:pt x="2515" y="1671"/>
                  </a:lnTo>
                  <a:lnTo>
                    <a:pt x="2524" y="1671"/>
                  </a:lnTo>
                  <a:lnTo>
                    <a:pt x="2532" y="1668"/>
                  </a:lnTo>
                  <a:lnTo>
                    <a:pt x="2541" y="1671"/>
                  </a:lnTo>
                  <a:lnTo>
                    <a:pt x="2544" y="1680"/>
                  </a:lnTo>
                  <a:lnTo>
                    <a:pt x="2547" y="1688"/>
                  </a:lnTo>
                  <a:lnTo>
                    <a:pt x="2547" y="1697"/>
                  </a:lnTo>
                  <a:lnTo>
                    <a:pt x="2547" y="1706"/>
                  </a:lnTo>
                  <a:lnTo>
                    <a:pt x="2556" y="1714"/>
                  </a:lnTo>
                  <a:lnTo>
                    <a:pt x="2564" y="1720"/>
                  </a:lnTo>
                  <a:lnTo>
                    <a:pt x="2576" y="1726"/>
                  </a:lnTo>
                  <a:lnTo>
                    <a:pt x="2588" y="1726"/>
                  </a:lnTo>
                  <a:lnTo>
                    <a:pt x="2596" y="1726"/>
                  </a:lnTo>
                  <a:lnTo>
                    <a:pt x="2588" y="1723"/>
                  </a:lnTo>
                  <a:lnTo>
                    <a:pt x="2579" y="1720"/>
                  </a:lnTo>
                  <a:lnTo>
                    <a:pt x="2570" y="1717"/>
                  </a:lnTo>
                  <a:lnTo>
                    <a:pt x="2567" y="1708"/>
                  </a:lnTo>
                  <a:lnTo>
                    <a:pt x="2564" y="1697"/>
                  </a:lnTo>
                  <a:lnTo>
                    <a:pt x="2564" y="1688"/>
                  </a:lnTo>
                  <a:lnTo>
                    <a:pt x="2561" y="1680"/>
                  </a:lnTo>
                  <a:lnTo>
                    <a:pt x="2550" y="1671"/>
                  </a:lnTo>
                  <a:lnTo>
                    <a:pt x="2538" y="1665"/>
                  </a:lnTo>
                  <a:lnTo>
                    <a:pt x="2529" y="1662"/>
                  </a:lnTo>
                  <a:lnTo>
                    <a:pt x="2521" y="1659"/>
                  </a:lnTo>
                  <a:lnTo>
                    <a:pt x="2512" y="1662"/>
                  </a:lnTo>
                  <a:lnTo>
                    <a:pt x="2506" y="1671"/>
                  </a:lnTo>
                  <a:lnTo>
                    <a:pt x="2506" y="1680"/>
                  </a:lnTo>
                  <a:lnTo>
                    <a:pt x="2503" y="1688"/>
                  </a:lnTo>
                  <a:lnTo>
                    <a:pt x="2500" y="1697"/>
                  </a:lnTo>
                  <a:lnTo>
                    <a:pt x="2500" y="1706"/>
                  </a:lnTo>
                  <a:lnTo>
                    <a:pt x="2500" y="1714"/>
                  </a:lnTo>
                  <a:lnTo>
                    <a:pt x="2509" y="1723"/>
                  </a:lnTo>
                  <a:lnTo>
                    <a:pt x="2509" y="1731"/>
                  </a:lnTo>
                  <a:lnTo>
                    <a:pt x="2509" y="1740"/>
                  </a:lnTo>
                  <a:lnTo>
                    <a:pt x="2509" y="1749"/>
                  </a:lnTo>
                  <a:lnTo>
                    <a:pt x="2509" y="1757"/>
                  </a:lnTo>
                  <a:lnTo>
                    <a:pt x="2509" y="1766"/>
                  </a:lnTo>
                  <a:lnTo>
                    <a:pt x="2509" y="1775"/>
                  </a:lnTo>
                  <a:lnTo>
                    <a:pt x="2509" y="1783"/>
                  </a:lnTo>
                  <a:lnTo>
                    <a:pt x="2506" y="1772"/>
                  </a:lnTo>
                  <a:lnTo>
                    <a:pt x="2515" y="1757"/>
                  </a:lnTo>
                  <a:lnTo>
                    <a:pt x="2509" y="1766"/>
                  </a:lnTo>
                  <a:lnTo>
                    <a:pt x="2506" y="1775"/>
                  </a:lnTo>
                  <a:lnTo>
                    <a:pt x="2503" y="1783"/>
                  </a:lnTo>
                  <a:lnTo>
                    <a:pt x="2497" y="1792"/>
                  </a:lnTo>
                  <a:lnTo>
                    <a:pt x="2494" y="1801"/>
                  </a:lnTo>
                  <a:lnTo>
                    <a:pt x="2494" y="1809"/>
                  </a:lnTo>
                  <a:lnTo>
                    <a:pt x="2494" y="1818"/>
                  </a:lnTo>
                  <a:lnTo>
                    <a:pt x="2483" y="1824"/>
                  </a:lnTo>
                  <a:lnTo>
                    <a:pt x="2465" y="1824"/>
                  </a:lnTo>
                  <a:lnTo>
                    <a:pt x="2457" y="1821"/>
                  </a:lnTo>
                  <a:lnTo>
                    <a:pt x="2448" y="1812"/>
                  </a:lnTo>
                  <a:lnTo>
                    <a:pt x="2439" y="1809"/>
                  </a:lnTo>
                  <a:lnTo>
                    <a:pt x="2430" y="1809"/>
                  </a:lnTo>
                  <a:lnTo>
                    <a:pt x="2427" y="1798"/>
                  </a:lnTo>
                  <a:lnTo>
                    <a:pt x="2439" y="1795"/>
                  </a:lnTo>
                  <a:lnTo>
                    <a:pt x="2454" y="1792"/>
                  </a:lnTo>
                  <a:lnTo>
                    <a:pt x="2462" y="1792"/>
                  </a:lnTo>
                  <a:lnTo>
                    <a:pt x="2471" y="1792"/>
                  </a:lnTo>
                  <a:lnTo>
                    <a:pt x="2477" y="1783"/>
                  </a:lnTo>
                  <a:lnTo>
                    <a:pt x="2480" y="1775"/>
                  </a:lnTo>
                  <a:lnTo>
                    <a:pt x="2480" y="1766"/>
                  </a:lnTo>
                  <a:lnTo>
                    <a:pt x="2483" y="1757"/>
                  </a:lnTo>
                  <a:lnTo>
                    <a:pt x="2486" y="1749"/>
                  </a:lnTo>
                  <a:lnTo>
                    <a:pt x="2489" y="1740"/>
                  </a:lnTo>
                  <a:lnTo>
                    <a:pt x="2491" y="1731"/>
                  </a:lnTo>
                  <a:lnTo>
                    <a:pt x="2489" y="1723"/>
                  </a:lnTo>
                  <a:lnTo>
                    <a:pt x="2489" y="1714"/>
                  </a:lnTo>
                  <a:lnTo>
                    <a:pt x="2480" y="1708"/>
                  </a:lnTo>
                  <a:lnTo>
                    <a:pt x="2474" y="1700"/>
                  </a:lnTo>
                  <a:lnTo>
                    <a:pt x="2468" y="1691"/>
                  </a:lnTo>
                  <a:lnTo>
                    <a:pt x="2465" y="1682"/>
                  </a:lnTo>
                  <a:lnTo>
                    <a:pt x="2459" y="1674"/>
                  </a:lnTo>
                  <a:lnTo>
                    <a:pt x="2454" y="1665"/>
                  </a:lnTo>
                  <a:lnTo>
                    <a:pt x="2454" y="1657"/>
                  </a:lnTo>
                  <a:lnTo>
                    <a:pt x="2454" y="1648"/>
                  </a:lnTo>
                  <a:lnTo>
                    <a:pt x="2454" y="1639"/>
                  </a:lnTo>
                  <a:lnTo>
                    <a:pt x="2451" y="1631"/>
                  </a:lnTo>
                  <a:lnTo>
                    <a:pt x="2448" y="1622"/>
                  </a:lnTo>
                  <a:lnTo>
                    <a:pt x="2442" y="1613"/>
                  </a:lnTo>
                  <a:lnTo>
                    <a:pt x="2433" y="1608"/>
                  </a:lnTo>
                  <a:lnTo>
                    <a:pt x="2427" y="1599"/>
                  </a:lnTo>
                  <a:lnTo>
                    <a:pt x="2422" y="1590"/>
                  </a:lnTo>
                  <a:lnTo>
                    <a:pt x="2419" y="1582"/>
                  </a:lnTo>
                  <a:lnTo>
                    <a:pt x="2419" y="1573"/>
                  </a:lnTo>
                  <a:lnTo>
                    <a:pt x="2416" y="1564"/>
                  </a:lnTo>
                  <a:lnTo>
                    <a:pt x="2416" y="1556"/>
                  </a:lnTo>
                  <a:lnTo>
                    <a:pt x="2416" y="1547"/>
                  </a:lnTo>
                  <a:lnTo>
                    <a:pt x="2416" y="1538"/>
                  </a:lnTo>
                  <a:lnTo>
                    <a:pt x="2416" y="1530"/>
                  </a:lnTo>
                  <a:lnTo>
                    <a:pt x="2407" y="1521"/>
                  </a:lnTo>
                  <a:lnTo>
                    <a:pt x="2395" y="1518"/>
                  </a:lnTo>
                  <a:lnTo>
                    <a:pt x="2390" y="1510"/>
                  </a:lnTo>
                  <a:lnTo>
                    <a:pt x="2390" y="1501"/>
                  </a:lnTo>
                  <a:lnTo>
                    <a:pt x="2381" y="1498"/>
                  </a:lnTo>
                  <a:lnTo>
                    <a:pt x="2390" y="1504"/>
                  </a:lnTo>
                  <a:lnTo>
                    <a:pt x="2381" y="1510"/>
                  </a:lnTo>
                  <a:lnTo>
                    <a:pt x="2372" y="1515"/>
                  </a:lnTo>
                  <a:lnTo>
                    <a:pt x="2372" y="1524"/>
                  </a:lnTo>
                  <a:lnTo>
                    <a:pt x="2366" y="1533"/>
                  </a:lnTo>
                  <a:lnTo>
                    <a:pt x="2366" y="1541"/>
                  </a:lnTo>
                  <a:lnTo>
                    <a:pt x="2366" y="1550"/>
                  </a:lnTo>
                  <a:lnTo>
                    <a:pt x="2366" y="1559"/>
                  </a:lnTo>
                  <a:lnTo>
                    <a:pt x="2366" y="1567"/>
                  </a:lnTo>
                  <a:lnTo>
                    <a:pt x="2363" y="1576"/>
                  </a:lnTo>
                  <a:lnTo>
                    <a:pt x="2360" y="1584"/>
                  </a:lnTo>
                  <a:lnTo>
                    <a:pt x="2358" y="1593"/>
                  </a:lnTo>
                  <a:lnTo>
                    <a:pt x="2352" y="1602"/>
                  </a:lnTo>
                  <a:lnTo>
                    <a:pt x="2349" y="1610"/>
                  </a:lnTo>
                  <a:lnTo>
                    <a:pt x="2346" y="1619"/>
                  </a:lnTo>
                  <a:lnTo>
                    <a:pt x="2346" y="1628"/>
                  </a:lnTo>
                  <a:lnTo>
                    <a:pt x="2346" y="1636"/>
                  </a:lnTo>
                  <a:lnTo>
                    <a:pt x="2355" y="1639"/>
                  </a:lnTo>
                  <a:lnTo>
                    <a:pt x="2363" y="1639"/>
                  </a:lnTo>
                  <a:lnTo>
                    <a:pt x="2372" y="1636"/>
                  </a:lnTo>
                  <a:lnTo>
                    <a:pt x="2372" y="1645"/>
                  </a:lnTo>
                  <a:lnTo>
                    <a:pt x="2372" y="1654"/>
                  </a:lnTo>
                  <a:lnTo>
                    <a:pt x="2372" y="1662"/>
                  </a:lnTo>
                  <a:lnTo>
                    <a:pt x="2372" y="1671"/>
                  </a:lnTo>
                  <a:lnTo>
                    <a:pt x="2372" y="1682"/>
                  </a:lnTo>
                  <a:lnTo>
                    <a:pt x="2369" y="1691"/>
                  </a:lnTo>
                  <a:lnTo>
                    <a:pt x="2378" y="1697"/>
                  </a:lnTo>
                  <a:lnTo>
                    <a:pt x="2381" y="1706"/>
                  </a:lnTo>
                  <a:lnTo>
                    <a:pt x="2390" y="1711"/>
                  </a:lnTo>
                  <a:lnTo>
                    <a:pt x="2401" y="1714"/>
                  </a:lnTo>
                  <a:lnTo>
                    <a:pt x="2404" y="1723"/>
                  </a:lnTo>
                  <a:lnTo>
                    <a:pt x="2404" y="1731"/>
                  </a:lnTo>
                  <a:lnTo>
                    <a:pt x="2404" y="1740"/>
                  </a:lnTo>
                  <a:lnTo>
                    <a:pt x="2404" y="1749"/>
                  </a:lnTo>
                  <a:lnTo>
                    <a:pt x="2395" y="1743"/>
                  </a:lnTo>
                  <a:lnTo>
                    <a:pt x="2393" y="1734"/>
                  </a:lnTo>
                  <a:lnTo>
                    <a:pt x="2387" y="1723"/>
                  </a:lnTo>
                  <a:lnTo>
                    <a:pt x="2381" y="1714"/>
                  </a:lnTo>
                  <a:lnTo>
                    <a:pt x="2372" y="1711"/>
                  </a:lnTo>
                  <a:lnTo>
                    <a:pt x="2363" y="1708"/>
                  </a:lnTo>
                  <a:lnTo>
                    <a:pt x="2355" y="1708"/>
                  </a:lnTo>
                  <a:lnTo>
                    <a:pt x="2340" y="1706"/>
                  </a:lnTo>
                  <a:lnTo>
                    <a:pt x="2328" y="1703"/>
                  </a:lnTo>
                  <a:lnTo>
                    <a:pt x="2320" y="1697"/>
                  </a:lnTo>
                  <a:lnTo>
                    <a:pt x="2311" y="1694"/>
                  </a:lnTo>
                  <a:lnTo>
                    <a:pt x="2302" y="1691"/>
                  </a:lnTo>
                  <a:lnTo>
                    <a:pt x="2294" y="1688"/>
                  </a:lnTo>
                  <a:lnTo>
                    <a:pt x="2285" y="1685"/>
                  </a:lnTo>
                  <a:lnTo>
                    <a:pt x="2276" y="1685"/>
                  </a:lnTo>
                  <a:lnTo>
                    <a:pt x="2267" y="1685"/>
                  </a:lnTo>
                  <a:lnTo>
                    <a:pt x="2273" y="1680"/>
                  </a:lnTo>
                  <a:lnTo>
                    <a:pt x="2262" y="1671"/>
                  </a:lnTo>
                  <a:lnTo>
                    <a:pt x="2262" y="1662"/>
                  </a:lnTo>
                  <a:lnTo>
                    <a:pt x="2256" y="1671"/>
                  </a:lnTo>
                  <a:lnTo>
                    <a:pt x="2247" y="1671"/>
                  </a:lnTo>
                  <a:lnTo>
                    <a:pt x="2235" y="1671"/>
                  </a:lnTo>
                  <a:lnTo>
                    <a:pt x="2227" y="1668"/>
                  </a:lnTo>
                  <a:lnTo>
                    <a:pt x="2227" y="1659"/>
                  </a:lnTo>
                  <a:lnTo>
                    <a:pt x="2221" y="1668"/>
                  </a:lnTo>
                  <a:lnTo>
                    <a:pt x="2221" y="1677"/>
                  </a:lnTo>
                  <a:lnTo>
                    <a:pt x="2232" y="1680"/>
                  </a:lnTo>
                  <a:lnTo>
                    <a:pt x="2241" y="1682"/>
                  </a:lnTo>
                  <a:lnTo>
                    <a:pt x="2244" y="1691"/>
                  </a:lnTo>
                  <a:lnTo>
                    <a:pt x="2247" y="1700"/>
                  </a:lnTo>
                  <a:lnTo>
                    <a:pt x="2250" y="1708"/>
                  </a:lnTo>
                  <a:lnTo>
                    <a:pt x="2259" y="1711"/>
                  </a:lnTo>
                  <a:lnTo>
                    <a:pt x="2262" y="1720"/>
                  </a:lnTo>
                  <a:lnTo>
                    <a:pt x="2262" y="1729"/>
                  </a:lnTo>
                  <a:lnTo>
                    <a:pt x="2262" y="1737"/>
                  </a:lnTo>
                  <a:lnTo>
                    <a:pt x="2253" y="1743"/>
                  </a:lnTo>
                  <a:lnTo>
                    <a:pt x="2250" y="1752"/>
                  </a:lnTo>
                  <a:lnTo>
                    <a:pt x="2250" y="1760"/>
                  </a:lnTo>
                  <a:lnTo>
                    <a:pt x="2244" y="1752"/>
                  </a:lnTo>
                  <a:lnTo>
                    <a:pt x="2241" y="1743"/>
                  </a:lnTo>
                  <a:lnTo>
                    <a:pt x="2232" y="1743"/>
                  </a:lnTo>
                  <a:lnTo>
                    <a:pt x="2232" y="1734"/>
                  </a:lnTo>
                  <a:lnTo>
                    <a:pt x="2221" y="1729"/>
                  </a:lnTo>
                  <a:lnTo>
                    <a:pt x="2209" y="1731"/>
                  </a:lnTo>
                  <a:lnTo>
                    <a:pt x="2200" y="1734"/>
                  </a:lnTo>
                  <a:lnTo>
                    <a:pt x="2192" y="1737"/>
                  </a:lnTo>
                  <a:lnTo>
                    <a:pt x="2183" y="1746"/>
                  </a:lnTo>
                  <a:lnTo>
                    <a:pt x="2177" y="1755"/>
                  </a:lnTo>
                  <a:lnTo>
                    <a:pt x="2168" y="1755"/>
                  </a:lnTo>
                  <a:lnTo>
                    <a:pt x="2160" y="1760"/>
                  </a:lnTo>
                  <a:lnTo>
                    <a:pt x="2151" y="1769"/>
                  </a:lnTo>
                  <a:lnTo>
                    <a:pt x="2142" y="1772"/>
                  </a:lnTo>
                  <a:lnTo>
                    <a:pt x="2133" y="1772"/>
                  </a:lnTo>
                  <a:lnTo>
                    <a:pt x="2133" y="1763"/>
                  </a:lnTo>
                  <a:lnTo>
                    <a:pt x="2142" y="1755"/>
                  </a:lnTo>
                  <a:lnTo>
                    <a:pt x="2151" y="1752"/>
                  </a:lnTo>
                  <a:lnTo>
                    <a:pt x="2160" y="1749"/>
                  </a:lnTo>
                  <a:lnTo>
                    <a:pt x="2160" y="1737"/>
                  </a:lnTo>
                  <a:lnTo>
                    <a:pt x="2154" y="1729"/>
                  </a:lnTo>
                  <a:lnTo>
                    <a:pt x="2145" y="1729"/>
                  </a:lnTo>
                  <a:lnTo>
                    <a:pt x="2136" y="1734"/>
                  </a:lnTo>
                  <a:lnTo>
                    <a:pt x="2128" y="1740"/>
                  </a:lnTo>
                  <a:lnTo>
                    <a:pt x="2122" y="1749"/>
                  </a:lnTo>
                  <a:lnTo>
                    <a:pt x="2113" y="1755"/>
                  </a:lnTo>
                  <a:lnTo>
                    <a:pt x="2104" y="1757"/>
                  </a:lnTo>
                  <a:lnTo>
                    <a:pt x="2096" y="1763"/>
                  </a:lnTo>
                  <a:lnTo>
                    <a:pt x="2087" y="1763"/>
                  </a:lnTo>
                  <a:lnTo>
                    <a:pt x="2078" y="1766"/>
                  </a:lnTo>
                  <a:lnTo>
                    <a:pt x="2069" y="1769"/>
                  </a:lnTo>
                  <a:lnTo>
                    <a:pt x="2061" y="1772"/>
                  </a:lnTo>
                  <a:lnTo>
                    <a:pt x="2055" y="1780"/>
                  </a:lnTo>
                  <a:lnTo>
                    <a:pt x="2052" y="1789"/>
                  </a:lnTo>
                  <a:lnTo>
                    <a:pt x="2040" y="1792"/>
                  </a:lnTo>
                  <a:lnTo>
                    <a:pt x="2034" y="1801"/>
                  </a:lnTo>
                  <a:lnTo>
                    <a:pt x="2034" y="1809"/>
                  </a:lnTo>
                  <a:lnTo>
                    <a:pt x="2029" y="1818"/>
                  </a:lnTo>
                  <a:lnTo>
                    <a:pt x="2020" y="1824"/>
                  </a:lnTo>
                  <a:lnTo>
                    <a:pt x="2011" y="1827"/>
                  </a:lnTo>
                  <a:lnTo>
                    <a:pt x="2008" y="1815"/>
                  </a:lnTo>
                  <a:lnTo>
                    <a:pt x="2005" y="1806"/>
                  </a:lnTo>
                  <a:lnTo>
                    <a:pt x="2005" y="1798"/>
                  </a:lnTo>
                  <a:lnTo>
                    <a:pt x="1997" y="1789"/>
                  </a:lnTo>
                  <a:lnTo>
                    <a:pt x="1988" y="1780"/>
                  </a:lnTo>
                  <a:lnTo>
                    <a:pt x="1999" y="1780"/>
                  </a:lnTo>
                  <a:lnTo>
                    <a:pt x="2011" y="1778"/>
                  </a:lnTo>
                  <a:lnTo>
                    <a:pt x="2020" y="1775"/>
                  </a:lnTo>
                  <a:lnTo>
                    <a:pt x="2020" y="1766"/>
                  </a:lnTo>
                  <a:lnTo>
                    <a:pt x="2023" y="1757"/>
                  </a:lnTo>
                  <a:lnTo>
                    <a:pt x="2023" y="1749"/>
                  </a:lnTo>
                  <a:lnTo>
                    <a:pt x="2014" y="1743"/>
                  </a:lnTo>
                  <a:lnTo>
                    <a:pt x="2005" y="1740"/>
                  </a:lnTo>
                  <a:lnTo>
                    <a:pt x="1994" y="1740"/>
                  </a:lnTo>
                  <a:lnTo>
                    <a:pt x="1985" y="1737"/>
                  </a:lnTo>
                  <a:lnTo>
                    <a:pt x="1976" y="1731"/>
                  </a:lnTo>
                  <a:lnTo>
                    <a:pt x="1967" y="1729"/>
                  </a:lnTo>
                  <a:lnTo>
                    <a:pt x="1967" y="1737"/>
                  </a:lnTo>
                  <a:lnTo>
                    <a:pt x="1970" y="1746"/>
                  </a:lnTo>
                  <a:lnTo>
                    <a:pt x="1976" y="1755"/>
                  </a:lnTo>
                  <a:lnTo>
                    <a:pt x="1976" y="1763"/>
                  </a:lnTo>
                  <a:lnTo>
                    <a:pt x="1976" y="1772"/>
                  </a:lnTo>
                  <a:lnTo>
                    <a:pt x="1973" y="1780"/>
                  </a:lnTo>
                  <a:lnTo>
                    <a:pt x="1965" y="1789"/>
                  </a:lnTo>
                  <a:lnTo>
                    <a:pt x="1956" y="1795"/>
                  </a:lnTo>
                  <a:lnTo>
                    <a:pt x="1953" y="1803"/>
                  </a:lnTo>
                  <a:lnTo>
                    <a:pt x="1962" y="1806"/>
                  </a:lnTo>
                  <a:lnTo>
                    <a:pt x="1970" y="1806"/>
                  </a:lnTo>
                  <a:lnTo>
                    <a:pt x="1979" y="1806"/>
                  </a:lnTo>
                  <a:lnTo>
                    <a:pt x="1982" y="1815"/>
                  </a:lnTo>
                  <a:lnTo>
                    <a:pt x="1976" y="1824"/>
                  </a:lnTo>
                  <a:lnTo>
                    <a:pt x="1965" y="1832"/>
                  </a:lnTo>
                  <a:lnTo>
                    <a:pt x="1959" y="1841"/>
                  </a:lnTo>
                  <a:lnTo>
                    <a:pt x="1959" y="1850"/>
                  </a:lnTo>
                  <a:lnTo>
                    <a:pt x="1947" y="1838"/>
                  </a:lnTo>
                  <a:lnTo>
                    <a:pt x="1938" y="1835"/>
                  </a:lnTo>
                  <a:lnTo>
                    <a:pt x="1933" y="1827"/>
                  </a:lnTo>
                  <a:lnTo>
                    <a:pt x="1924" y="1821"/>
                  </a:lnTo>
                  <a:lnTo>
                    <a:pt x="1915" y="1821"/>
                  </a:lnTo>
                  <a:lnTo>
                    <a:pt x="1906" y="1829"/>
                  </a:lnTo>
                  <a:lnTo>
                    <a:pt x="1898" y="1835"/>
                  </a:lnTo>
                  <a:lnTo>
                    <a:pt x="1889" y="1838"/>
                  </a:lnTo>
                  <a:lnTo>
                    <a:pt x="1880" y="1841"/>
                  </a:lnTo>
                  <a:lnTo>
                    <a:pt x="1874" y="1850"/>
                  </a:lnTo>
                  <a:lnTo>
                    <a:pt x="1871" y="1858"/>
                  </a:lnTo>
                  <a:lnTo>
                    <a:pt x="1868" y="1867"/>
                  </a:lnTo>
                  <a:lnTo>
                    <a:pt x="1868" y="1876"/>
                  </a:lnTo>
                  <a:lnTo>
                    <a:pt x="1868" y="1884"/>
                  </a:lnTo>
                  <a:lnTo>
                    <a:pt x="1868" y="1893"/>
                  </a:lnTo>
                  <a:lnTo>
                    <a:pt x="1868" y="1901"/>
                  </a:lnTo>
                  <a:lnTo>
                    <a:pt x="1860" y="1907"/>
                  </a:lnTo>
                  <a:lnTo>
                    <a:pt x="1848" y="1901"/>
                  </a:lnTo>
                  <a:lnTo>
                    <a:pt x="1845" y="1893"/>
                  </a:lnTo>
                  <a:lnTo>
                    <a:pt x="1839" y="1884"/>
                  </a:lnTo>
                  <a:lnTo>
                    <a:pt x="1831" y="1876"/>
                  </a:lnTo>
                  <a:lnTo>
                    <a:pt x="1822" y="1870"/>
                  </a:lnTo>
                  <a:lnTo>
                    <a:pt x="1813" y="1867"/>
                  </a:lnTo>
                  <a:lnTo>
                    <a:pt x="1804" y="1867"/>
                  </a:lnTo>
                  <a:lnTo>
                    <a:pt x="1799" y="1876"/>
                  </a:lnTo>
                  <a:lnTo>
                    <a:pt x="1796" y="1884"/>
                  </a:lnTo>
                  <a:lnTo>
                    <a:pt x="1796" y="1893"/>
                  </a:lnTo>
                  <a:lnTo>
                    <a:pt x="1804" y="1899"/>
                  </a:lnTo>
                  <a:lnTo>
                    <a:pt x="1816" y="1901"/>
                  </a:lnTo>
                  <a:lnTo>
                    <a:pt x="1819" y="1910"/>
                  </a:lnTo>
                  <a:lnTo>
                    <a:pt x="1807" y="1910"/>
                  </a:lnTo>
                  <a:lnTo>
                    <a:pt x="1819" y="1893"/>
                  </a:lnTo>
                  <a:lnTo>
                    <a:pt x="1810" y="1896"/>
                  </a:lnTo>
                  <a:lnTo>
                    <a:pt x="1822" y="1899"/>
                  </a:lnTo>
                  <a:lnTo>
                    <a:pt x="1822" y="1910"/>
                  </a:lnTo>
                  <a:lnTo>
                    <a:pt x="1822" y="1919"/>
                  </a:lnTo>
                  <a:lnTo>
                    <a:pt x="1816" y="1927"/>
                  </a:lnTo>
                  <a:lnTo>
                    <a:pt x="1802" y="1927"/>
                  </a:lnTo>
                  <a:lnTo>
                    <a:pt x="1793" y="1922"/>
                  </a:lnTo>
                  <a:lnTo>
                    <a:pt x="1790" y="1913"/>
                  </a:lnTo>
                  <a:lnTo>
                    <a:pt x="1790" y="1904"/>
                  </a:lnTo>
                  <a:lnTo>
                    <a:pt x="1784" y="1896"/>
                  </a:lnTo>
                  <a:lnTo>
                    <a:pt x="1778" y="1887"/>
                  </a:lnTo>
                  <a:lnTo>
                    <a:pt x="1770" y="1878"/>
                  </a:lnTo>
                  <a:lnTo>
                    <a:pt x="1767" y="1870"/>
                  </a:lnTo>
                  <a:lnTo>
                    <a:pt x="1764" y="1861"/>
                  </a:lnTo>
                  <a:lnTo>
                    <a:pt x="1764" y="1850"/>
                  </a:lnTo>
                  <a:lnTo>
                    <a:pt x="1764" y="1841"/>
                  </a:lnTo>
                  <a:lnTo>
                    <a:pt x="1764" y="1832"/>
                  </a:lnTo>
                  <a:lnTo>
                    <a:pt x="1772" y="1827"/>
                  </a:lnTo>
                  <a:lnTo>
                    <a:pt x="1778" y="1818"/>
                  </a:lnTo>
                  <a:lnTo>
                    <a:pt x="1778" y="1809"/>
                  </a:lnTo>
                  <a:lnTo>
                    <a:pt x="1778" y="1801"/>
                  </a:lnTo>
                  <a:lnTo>
                    <a:pt x="1778" y="1792"/>
                  </a:lnTo>
                  <a:lnTo>
                    <a:pt x="1770" y="1783"/>
                  </a:lnTo>
                  <a:lnTo>
                    <a:pt x="1761" y="1778"/>
                  </a:lnTo>
                  <a:lnTo>
                    <a:pt x="1752" y="1772"/>
                  </a:lnTo>
                  <a:lnTo>
                    <a:pt x="1752" y="1763"/>
                  </a:lnTo>
                  <a:lnTo>
                    <a:pt x="1752" y="1752"/>
                  </a:lnTo>
                  <a:lnTo>
                    <a:pt x="1752" y="1743"/>
                  </a:lnTo>
                  <a:lnTo>
                    <a:pt x="1764" y="1749"/>
                  </a:lnTo>
                  <a:lnTo>
                    <a:pt x="1772" y="1757"/>
                  </a:lnTo>
                  <a:lnTo>
                    <a:pt x="1781" y="1763"/>
                  </a:lnTo>
                  <a:lnTo>
                    <a:pt x="1781" y="1772"/>
                  </a:lnTo>
                  <a:lnTo>
                    <a:pt x="1787" y="1783"/>
                  </a:lnTo>
                  <a:lnTo>
                    <a:pt x="1796" y="1789"/>
                  </a:lnTo>
                  <a:lnTo>
                    <a:pt x="1804" y="1795"/>
                  </a:lnTo>
                  <a:lnTo>
                    <a:pt x="1816" y="1801"/>
                  </a:lnTo>
                  <a:lnTo>
                    <a:pt x="1822" y="1809"/>
                  </a:lnTo>
                  <a:lnTo>
                    <a:pt x="1831" y="1815"/>
                  </a:lnTo>
                  <a:lnTo>
                    <a:pt x="1836" y="1824"/>
                  </a:lnTo>
                  <a:lnTo>
                    <a:pt x="1845" y="1829"/>
                  </a:lnTo>
                  <a:lnTo>
                    <a:pt x="1854" y="1835"/>
                  </a:lnTo>
                  <a:lnTo>
                    <a:pt x="1866" y="1835"/>
                  </a:lnTo>
                  <a:lnTo>
                    <a:pt x="1874" y="1835"/>
                  </a:lnTo>
                  <a:lnTo>
                    <a:pt x="1883" y="1835"/>
                  </a:lnTo>
                  <a:lnTo>
                    <a:pt x="1892" y="1829"/>
                  </a:lnTo>
                  <a:lnTo>
                    <a:pt x="1901" y="1827"/>
                  </a:lnTo>
                  <a:lnTo>
                    <a:pt x="1909" y="1818"/>
                  </a:lnTo>
                  <a:lnTo>
                    <a:pt x="1909" y="1809"/>
                  </a:lnTo>
                  <a:lnTo>
                    <a:pt x="1909" y="1801"/>
                  </a:lnTo>
                  <a:lnTo>
                    <a:pt x="1909" y="1792"/>
                  </a:lnTo>
                  <a:lnTo>
                    <a:pt x="1915" y="1783"/>
                  </a:lnTo>
                  <a:lnTo>
                    <a:pt x="1918" y="1775"/>
                  </a:lnTo>
                  <a:lnTo>
                    <a:pt x="1918" y="1766"/>
                  </a:lnTo>
                  <a:lnTo>
                    <a:pt x="1915" y="1757"/>
                  </a:lnTo>
                  <a:lnTo>
                    <a:pt x="1909" y="1749"/>
                  </a:lnTo>
                  <a:lnTo>
                    <a:pt x="1901" y="1740"/>
                  </a:lnTo>
                  <a:lnTo>
                    <a:pt x="1895" y="1731"/>
                  </a:lnTo>
                  <a:lnTo>
                    <a:pt x="1892" y="1720"/>
                  </a:lnTo>
                  <a:lnTo>
                    <a:pt x="1889" y="1711"/>
                  </a:lnTo>
                  <a:lnTo>
                    <a:pt x="1880" y="1706"/>
                  </a:lnTo>
                  <a:lnTo>
                    <a:pt x="1871" y="1697"/>
                  </a:lnTo>
                  <a:lnTo>
                    <a:pt x="1866" y="1688"/>
                  </a:lnTo>
                  <a:lnTo>
                    <a:pt x="1860" y="1680"/>
                  </a:lnTo>
                  <a:lnTo>
                    <a:pt x="1851" y="1671"/>
                  </a:lnTo>
                  <a:lnTo>
                    <a:pt x="1842" y="1665"/>
                  </a:lnTo>
                  <a:lnTo>
                    <a:pt x="1831" y="1662"/>
                  </a:lnTo>
                  <a:lnTo>
                    <a:pt x="1819" y="1657"/>
                  </a:lnTo>
                  <a:lnTo>
                    <a:pt x="1813" y="1648"/>
                  </a:lnTo>
                  <a:lnTo>
                    <a:pt x="1810" y="1639"/>
                  </a:lnTo>
                  <a:lnTo>
                    <a:pt x="1807" y="1631"/>
                  </a:lnTo>
                  <a:lnTo>
                    <a:pt x="1799" y="1622"/>
                  </a:lnTo>
                  <a:lnTo>
                    <a:pt x="1793" y="1613"/>
                  </a:lnTo>
                  <a:lnTo>
                    <a:pt x="1784" y="1613"/>
                  </a:lnTo>
                  <a:lnTo>
                    <a:pt x="1772" y="1613"/>
                  </a:lnTo>
                  <a:lnTo>
                    <a:pt x="1764" y="1608"/>
                  </a:lnTo>
                  <a:lnTo>
                    <a:pt x="1761" y="1599"/>
                  </a:lnTo>
                  <a:lnTo>
                    <a:pt x="1772" y="1596"/>
                  </a:lnTo>
                  <a:lnTo>
                    <a:pt x="1781" y="1596"/>
                  </a:lnTo>
                  <a:lnTo>
                    <a:pt x="1787" y="1587"/>
                  </a:lnTo>
                  <a:lnTo>
                    <a:pt x="1778" y="1579"/>
                  </a:lnTo>
                  <a:lnTo>
                    <a:pt x="1770" y="1576"/>
                  </a:lnTo>
                  <a:lnTo>
                    <a:pt x="1761" y="1573"/>
                  </a:lnTo>
                  <a:lnTo>
                    <a:pt x="1758" y="1564"/>
                  </a:lnTo>
                  <a:lnTo>
                    <a:pt x="1758" y="1556"/>
                  </a:lnTo>
                  <a:lnTo>
                    <a:pt x="1758" y="1547"/>
                  </a:lnTo>
                  <a:lnTo>
                    <a:pt x="1749" y="1547"/>
                  </a:lnTo>
                  <a:lnTo>
                    <a:pt x="1737" y="1553"/>
                  </a:lnTo>
                  <a:lnTo>
                    <a:pt x="1729" y="1553"/>
                  </a:lnTo>
                  <a:lnTo>
                    <a:pt x="1720" y="1556"/>
                  </a:lnTo>
                  <a:lnTo>
                    <a:pt x="1720" y="1547"/>
                  </a:lnTo>
                  <a:lnTo>
                    <a:pt x="1723" y="1538"/>
                  </a:lnTo>
                  <a:lnTo>
                    <a:pt x="1726" y="1550"/>
                  </a:lnTo>
                  <a:lnTo>
                    <a:pt x="1723" y="1559"/>
                  </a:lnTo>
                  <a:lnTo>
                    <a:pt x="1723" y="1567"/>
                  </a:lnTo>
                  <a:lnTo>
                    <a:pt x="1732" y="1567"/>
                  </a:lnTo>
                  <a:lnTo>
                    <a:pt x="1740" y="1556"/>
                  </a:lnTo>
                  <a:lnTo>
                    <a:pt x="1726" y="1553"/>
                  </a:lnTo>
                  <a:lnTo>
                    <a:pt x="1717" y="1553"/>
                  </a:lnTo>
                  <a:lnTo>
                    <a:pt x="1705" y="1553"/>
                  </a:lnTo>
                  <a:lnTo>
                    <a:pt x="1705" y="1541"/>
                  </a:lnTo>
                  <a:lnTo>
                    <a:pt x="1711" y="1533"/>
                  </a:lnTo>
                  <a:lnTo>
                    <a:pt x="1700" y="1535"/>
                  </a:lnTo>
                  <a:lnTo>
                    <a:pt x="1691" y="1541"/>
                  </a:lnTo>
                  <a:lnTo>
                    <a:pt x="1679" y="1544"/>
                  </a:lnTo>
                  <a:lnTo>
                    <a:pt x="1685" y="1533"/>
                  </a:lnTo>
                  <a:lnTo>
                    <a:pt x="1685" y="1524"/>
                  </a:lnTo>
                  <a:lnTo>
                    <a:pt x="1676" y="1524"/>
                  </a:lnTo>
                  <a:lnTo>
                    <a:pt x="1668" y="1533"/>
                  </a:lnTo>
                  <a:lnTo>
                    <a:pt x="1662" y="1541"/>
                  </a:lnTo>
                  <a:lnTo>
                    <a:pt x="1653" y="1544"/>
                  </a:lnTo>
                  <a:lnTo>
                    <a:pt x="1653" y="1535"/>
                  </a:lnTo>
                  <a:lnTo>
                    <a:pt x="1644" y="1541"/>
                  </a:lnTo>
                  <a:lnTo>
                    <a:pt x="1641" y="1550"/>
                  </a:lnTo>
                  <a:lnTo>
                    <a:pt x="1633" y="1547"/>
                  </a:lnTo>
                  <a:lnTo>
                    <a:pt x="1633" y="1538"/>
                  </a:lnTo>
                  <a:lnTo>
                    <a:pt x="1624" y="1538"/>
                  </a:lnTo>
                  <a:lnTo>
                    <a:pt x="1615" y="1541"/>
                  </a:lnTo>
                  <a:lnTo>
                    <a:pt x="1609" y="1550"/>
                  </a:lnTo>
                  <a:lnTo>
                    <a:pt x="1601" y="1541"/>
                  </a:lnTo>
                  <a:lnTo>
                    <a:pt x="1598" y="1533"/>
                  </a:lnTo>
                  <a:lnTo>
                    <a:pt x="1589" y="1535"/>
                  </a:lnTo>
                  <a:lnTo>
                    <a:pt x="1580" y="1541"/>
                  </a:lnTo>
                  <a:lnTo>
                    <a:pt x="1569" y="1538"/>
                  </a:lnTo>
                  <a:lnTo>
                    <a:pt x="1563" y="1547"/>
                  </a:lnTo>
                  <a:lnTo>
                    <a:pt x="1557" y="1559"/>
                  </a:lnTo>
                  <a:lnTo>
                    <a:pt x="1554" y="1567"/>
                  </a:lnTo>
                  <a:lnTo>
                    <a:pt x="1548" y="1576"/>
                  </a:lnTo>
                  <a:lnTo>
                    <a:pt x="1540" y="1576"/>
                  </a:lnTo>
                  <a:lnTo>
                    <a:pt x="1531" y="1576"/>
                  </a:lnTo>
                  <a:lnTo>
                    <a:pt x="1525" y="1564"/>
                  </a:lnTo>
                  <a:lnTo>
                    <a:pt x="1525" y="1556"/>
                  </a:lnTo>
                  <a:lnTo>
                    <a:pt x="1525" y="1547"/>
                  </a:lnTo>
                  <a:lnTo>
                    <a:pt x="1516" y="1544"/>
                  </a:lnTo>
                  <a:lnTo>
                    <a:pt x="1513" y="1553"/>
                  </a:lnTo>
                  <a:lnTo>
                    <a:pt x="1528" y="1541"/>
                  </a:lnTo>
                  <a:lnTo>
                    <a:pt x="1510" y="1530"/>
                  </a:lnTo>
                  <a:lnTo>
                    <a:pt x="1502" y="1530"/>
                  </a:lnTo>
                  <a:lnTo>
                    <a:pt x="1493" y="1538"/>
                  </a:lnTo>
                  <a:lnTo>
                    <a:pt x="1484" y="1544"/>
                  </a:lnTo>
                  <a:lnTo>
                    <a:pt x="1481" y="1553"/>
                  </a:lnTo>
                  <a:lnTo>
                    <a:pt x="1481" y="1561"/>
                  </a:lnTo>
                  <a:lnTo>
                    <a:pt x="1487" y="1570"/>
                  </a:lnTo>
                  <a:lnTo>
                    <a:pt x="1487" y="1579"/>
                  </a:lnTo>
                  <a:lnTo>
                    <a:pt x="1478" y="1587"/>
                  </a:lnTo>
                  <a:lnTo>
                    <a:pt x="1470" y="1590"/>
                  </a:lnTo>
                  <a:lnTo>
                    <a:pt x="1461" y="1599"/>
                  </a:lnTo>
                  <a:lnTo>
                    <a:pt x="1443" y="1599"/>
                  </a:lnTo>
                  <a:lnTo>
                    <a:pt x="1432" y="1599"/>
                  </a:lnTo>
                  <a:lnTo>
                    <a:pt x="1426" y="1610"/>
                  </a:lnTo>
                  <a:lnTo>
                    <a:pt x="1420" y="1619"/>
                  </a:lnTo>
                  <a:lnTo>
                    <a:pt x="1429" y="1619"/>
                  </a:lnTo>
                  <a:lnTo>
                    <a:pt x="1417" y="1628"/>
                  </a:lnTo>
                  <a:lnTo>
                    <a:pt x="1406" y="1628"/>
                  </a:lnTo>
                  <a:lnTo>
                    <a:pt x="1397" y="1628"/>
                  </a:lnTo>
                  <a:lnTo>
                    <a:pt x="1388" y="1628"/>
                  </a:lnTo>
                  <a:lnTo>
                    <a:pt x="1382" y="1636"/>
                  </a:lnTo>
                  <a:lnTo>
                    <a:pt x="1379" y="1645"/>
                  </a:lnTo>
                  <a:lnTo>
                    <a:pt x="1371" y="1645"/>
                  </a:lnTo>
                  <a:lnTo>
                    <a:pt x="1362" y="1645"/>
                  </a:lnTo>
                  <a:lnTo>
                    <a:pt x="1356" y="1654"/>
                  </a:lnTo>
                  <a:lnTo>
                    <a:pt x="1347" y="1657"/>
                  </a:lnTo>
                  <a:lnTo>
                    <a:pt x="1336" y="1659"/>
                  </a:lnTo>
                  <a:lnTo>
                    <a:pt x="1327" y="1659"/>
                  </a:lnTo>
                  <a:lnTo>
                    <a:pt x="1318" y="1662"/>
                  </a:lnTo>
                  <a:lnTo>
                    <a:pt x="1310" y="1662"/>
                  </a:lnTo>
                  <a:lnTo>
                    <a:pt x="1298" y="1662"/>
                  </a:lnTo>
                  <a:lnTo>
                    <a:pt x="1289" y="1665"/>
                  </a:lnTo>
                  <a:lnTo>
                    <a:pt x="1280" y="1671"/>
                  </a:lnTo>
                  <a:lnTo>
                    <a:pt x="1278" y="1680"/>
                  </a:lnTo>
                  <a:lnTo>
                    <a:pt x="1280" y="1691"/>
                  </a:lnTo>
                  <a:lnTo>
                    <a:pt x="1289" y="1694"/>
                  </a:lnTo>
                  <a:lnTo>
                    <a:pt x="1301" y="1697"/>
                  </a:lnTo>
                  <a:lnTo>
                    <a:pt x="1312" y="1697"/>
                  </a:lnTo>
                  <a:lnTo>
                    <a:pt x="1321" y="1697"/>
                  </a:lnTo>
                  <a:lnTo>
                    <a:pt x="1310" y="1694"/>
                  </a:lnTo>
                  <a:lnTo>
                    <a:pt x="1298" y="1694"/>
                  </a:lnTo>
                  <a:lnTo>
                    <a:pt x="1289" y="1691"/>
                  </a:lnTo>
                  <a:lnTo>
                    <a:pt x="1304" y="1685"/>
                  </a:lnTo>
                  <a:lnTo>
                    <a:pt x="1312" y="1685"/>
                  </a:lnTo>
                  <a:lnTo>
                    <a:pt x="1321" y="1685"/>
                  </a:lnTo>
                  <a:lnTo>
                    <a:pt x="1312" y="1682"/>
                  </a:lnTo>
                  <a:lnTo>
                    <a:pt x="1301" y="1685"/>
                  </a:lnTo>
                  <a:lnTo>
                    <a:pt x="1292" y="1685"/>
                  </a:lnTo>
                  <a:lnTo>
                    <a:pt x="1286" y="1677"/>
                  </a:lnTo>
                  <a:lnTo>
                    <a:pt x="1275" y="1668"/>
                  </a:lnTo>
                  <a:lnTo>
                    <a:pt x="1266" y="1665"/>
                  </a:lnTo>
                  <a:lnTo>
                    <a:pt x="1248" y="1659"/>
                  </a:lnTo>
                  <a:lnTo>
                    <a:pt x="1240" y="1659"/>
                  </a:lnTo>
                  <a:lnTo>
                    <a:pt x="1234" y="1668"/>
                  </a:lnTo>
                  <a:lnTo>
                    <a:pt x="1225" y="1671"/>
                  </a:lnTo>
                  <a:lnTo>
                    <a:pt x="1216" y="1674"/>
                  </a:lnTo>
                  <a:lnTo>
                    <a:pt x="1208" y="1674"/>
                  </a:lnTo>
                  <a:lnTo>
                    <a:pt x="1199" y="1671"/>
                  </a:lnTo>
                  <a:lnTo>
                    <a:pt x="1190" y="1674"/>
                  </a:lnTo>
                  <a:lnTo>
                    <a:pt x="1176" y="1671"/>
                  </a:lnTo>
                  <a:lnTo>
                    <a:pt x="1167" y="1668"/>
                  </a:lnTo>
                  <a:lnTo>
                    <a:pt x="1161" y="1677"/>
                  </a:lnTo>
                  <a:lnTo>
                    <a:pt x="1152" y="1682"/>
                  </a:lnTo>
                  <a:lnTo>
                    <a:pt x="1144" y="1682"/>
                  </a:lnTo>
                  <a:lnTo>
                    <a:pt x="1132" y="1682"/>
                  </a:lnTo>
                  <a:lnTo>
                    <a:pt x="1132" y="1691"/>
                  </a:lnTo>
                  <a:lnTo>
                    <a:pt x="1132" y="1700"/>
                  </a:lnTo>
                  <a:lnTo>
                    <a:pt x="1147" y="1708"/>
                  </a:lnTo>
                  <a:lnTo>
                    <a:pt x="1155" y="1720"/>
                  </a:lnTo>
                  <a:lnTo>
                    <a:pt x="1158" y="1729"/>
                  </a:lnTo>
                  <a:lnTo>
                    <a:pt x="1158" y="1737"/>
                  </a:lnTo>
                  <a:lnTo>
                    <a:pt x="1161" y="1746"/>
                  </a:lnTo>
                  <a:lnTo>
                    <a:pt x="1161" y="1737"/>
                  </a:lnTo>
                  <a:lnTo>
                    <a:pt x="1155" y="1726"/>
                  </a:lnTo>
                  <a:lnTo>
                    <a:pt x="1152" y="1717"/>
                  </a:lnTo>
                  <a:lnTo>
                    <a:pt x="1138" y="1717"/>
                  </a:lnTo>
                  <a:lnTo>
                    <a:pt x="1129" y="1711"/>
                  </a:lnTo>
                  <a:lnTo>
                    <a:pt x="1120" y="1711"/>
                  </a:lnTo>
                  <a:lnTo>
                    <a:pt x="1117" y="1720"/>
                  </a:lnTo>
                  <a:lnTo>
                    <a:pt x="1114" y="1731"/>
                  </a:lnTo>
                  <a:lnTo>
                    <a:pt x="1114" y="1740"/>
                  </a:lnTo>
                  <a:lnTo>
                    <a:pt x="1126" y="1740"/>
                  </a:lnTo>
                  <a:lnTo>
                    <a:pt x="1138" y="1743"/>
                  </a:lnTo>
                  <a:lnTo>
                    <a:pt x="1129" y="1743"/>
                  </a:lnTo>
                  <a:lnTo>
                    <a:pt x="1120" y="1743"/>
                  </a:lnTo>
                  <a:lnTo>
                    <a:pt x="1112" y="1746"/>
                  </a:lnTo>
                  <a:lnTo>
                    <a:pt x="1103" y="1752"/>
                  </a:lnTo>
                  <a:lnTo>
                    <a:pt x="1094" y="1755"/>
                  </a:lnTo>
                  <a:lnTo>
                    <a:pt x="1085" y="1763"/>
                  </a:lnTo>
                  <a:lnTo>
                    <a:pt x="1077" y="1766"/>
                  </a:lnTo>
                  <a:lnTo>
                    <a:pt x="1068" y="1766"/>
                  </a:lnTo>
                  <a:lnTo>
                    <a:pt x="1077" y="1772"/>
                  </a:lnTo>
                  <a:lnTo>
                    <a:pt x="1085" y="1772"/>
                  </a:lnTo>
                  <a:lnTo>
                    <a:pt x="1097" y="1775"/>
                  </a:lnTo>
                  <a:lnTo>
                    <a:pt x="1091" y="1783"/>
                  </a:lnTo>
                  <a:lnTo>
                    <a:pt x="1080" y="1786"/>
                  </a:lnTo>
                  <a:lnTo>
                    <a:pt x="1071" y="1786"/>
                  </a:lnTo>
                  <a:lnTo>
                    <a:pt x="1062" y="1789"/>
                  </a:lnTo>
                  <a:lnTo>
                    <a:pt x="1056" y="1798"/>
                  </a:lnTo>
                  <a:lnTo>
                    <a:pt x="1056" y="1806"/>
                  </a:lnTo>
                  <a:lnTo>
                    <a:pt x="1056" y="1815"/>
                  </a:lnTo>
                  <a:lnTo>
                    <a:pt x="1056" y="1824"/>
                  </a:lnTo>
                  <a:lnTo>
                    <a:pt x="1056" y="1832"/>
                  </a:lnTo>
                  <a:lnTo>
                    <a:pt x="1056" y="1841"/>
                  </a:lnTo>
                  <a:lnTo>
                    <a:pt x="1062" y="1850"/>
                  </a:lnTo>
                  <a:lnTo>
                    <a:pt x="1074" y="1855"/>
                  </a:lnTo>
                  <a:lnTo>
                    <a:pt x="1082" y="1855"/>
                  </a:lnTo>
                  <a:lnTo>
                    <a:pt x="1091" y="1855"/>
                  </a:lnTo>
                  <a:lnTo>
                    <a:pt x="1103" y="1855"/>
                  </a:lnTo>
                  <a:lnTo>
                    <a:pt x="1112" y="1855"/>
                  </a:lnTo>
                  <a:lnTo>
                    <a:pt x="1120" y="1855"/>
                  </a:lnTo>
                  <a:lnTo>
                    <a:pt x="1132" y="1855"/>
                  </a:lnTo>
                  <a:lnTo>
                    <a:pt x="1144" y="1855"/>
                  </a:lnTo>
                  <a:lnTo>
                    <a:pt x="1152" y="1852"/>
                  </a:lnTo>
                  <a:lnTo>
                    <a:pt x="1167" y="1852"/>
                  </a:lnTo>
                  <a:lnTo>
                    <a:pt x="1176" y="1844"/>
                  </a:lnTo>
                  <a:lnTo>
                    <a:pt x="1179" y="1835"/>
                  </a:lnTo>
                  <a:lnTo>
                    <a:pt x="1181" y="1827"/>
                  </a:lnTo>
                  <a:lnTo>
                    <a:pt x="1184" y="1835"/>
                  </a:lnTo>
                  <a:lnTo>
                    <a:pt x="1184" y="1844"/>
                  </a:lnTo>
                  <a:lnTo>
                    <a:pt x="1181" y="1852"/>
                  </a:lnTo>
                  <a:lnTo>
                    <a:pt x="1170" y="1858"/>
                  </a:lnTo>
                  <a:lnTo>
                    <a:pt x="1173" y="1867"/>
                  </a:lnTo>
                  <a:lnTo>
                    <a:pt x="1170" y="1876"/>
                  </a:lnTo>
                  <a:lnTo>
                    <a:pt x="1164" y="1884"/>
                  </a:lnTo>
                  <a:lnTo>
                    <a:pt x="1161" y="1893"/>
                  </a:lnTo>
                  <a:lnTo>
                    <a:pt x="1161" y="1901"/>
                  </a:lnTo>
                  <a:lnTo>
                    <a:pt x="1158" y="1910"/>
                  </a:lnTo>
                  <a:lnTo>
                    <a:pt x="1149" y="1913"/>
                  </a:lnTo>
                  <a:lnTo>
                    <a:pt x="1147" y="1922"/>
                  </a:lnTo>
                  <a:lnTo>
                    <a:pt x="1147" y="1930"/>
                  </a:lnTo>
                  <a:lnTo>
                    <a:pt x="1144" y="1939"/>
                  </a:lnTo>
                  <a:lnTo>
                    <a:pt x="1144" y="1948"/>
                  </a:lnTo>
                  <a:lnTo>
                    <a:pt x="1141" y="1956"/>
                  </a:lnTo>
                  <a:lnTo>
                    <a:pt x="1141" y="1968"/>
                  </a:lnTo>
                  <a:lnTo>
                    <a:pt x="1141" y="1976"/>
                  </a:lnTo>
                  <a:lnTo>
                    <a:pt x="1155" y="1956"/>
                  </a:lnTo>
                  <a:lnTo>
                    <a:pt x="1144" y="1956"/>
                  </a:lnTo>
                  <a:lnTo>
                    <a:pt x="1144" y="1965"/>
                  </a:lnTo>
                  <a:lnTo>
                    <a:pt x="1144" y="1974"/>
                  </a:lnTo>
                  <a:lnTo>
                    <a:pt x="1144" y="1982"/>
                  </a:lnTo>
                  <a:lnTo>
                    <a:pt x="1138" y="1991"/>
                  </a:lnTo>
                  <a:lnTo>
                    <a:pt x="1129" y="1997"/>
                  </a:lnTo>
                  <a:lnTo>
                    <a:pt x="1120" y="1997"/>
                  </a:lnTo>
                  <a:lnTo>
                    <a:pt x="1117" y="2005"/>
                  </a:lnTo>
                  <a:lnTo>
                    <a:pt x="1117" y="2014"/>
                  </a:lnTo>
                  <a:lnTo>
                    <a:pt x="1117" y="2023"/>
                  </a:lnTo>
                  <a:lnTo>
                    <a:pt x="1117" y="2031"/>
                  </a:lnTo>
                  <a:lnTo>
                    <a:pt x="1120" y="2040"/>
                  </a:lnTo>
                  <a:lnTo>
                    <a:pt x="1129" y="2046"/>
                  </a:lnTo>
                  <a:lnTo>
                    <a:pt x="1144" y="2054"/>
                  </a:lnTo>
                  <a:lnTo>
                    <a:pt x="1152" y="2054"/>
                  </a:lnTo>
                  <a:lnTo>
                    <a:pt x="1158" y="2046"/>
                  </a:lnTo>
                  <a:lnTo>
                    <a:pt x="1158" y="2037"/>
                  </a:lnTo>
                  <a:lnTo>
                    <a:pt x="1170" y="2037"/>
                  </a:lnTo>
                  <a:lnTo>
                    <a:pt x="1179" y="2037"/>
                  </a:lnTo>
                  <a:lnTo>
                    <a:pt x="1187" y="2037"/>
                  </a:lnTo>
                  <a:lnTo>
                    <a:pt x="1199" y="2037"/>
                  </a:lnTo>
                  <a:lnTo>
                    <a:pt x="1208" y="2040"/>
                  </a:lnTo>
                  <a:lnTo>
                    <a:pt x="1216" y="2043"/>
                  </a:lnTo>
                  <a:lnTo>
                    <a:pt x="1225" y="2040"/>
                  </a:lnTo>
                  <a:lnTo>
                    <a:pt x="1228" y="2031"/>
                  </a:lnTo>
                  <a:lnTo>
                    <a:pt x="1231" y="2023"/>
                  </a:lnTo>
                  <a:lnTo>
                    <a:pt x="1237" y="2014"/>
                  </a:lnTo>
                  <a:lnTo>
                    <a:pt x="1245" y="2005"/>
                  </a:lnTo>
                  <a:lnTo>
                    <a:pt x="1251" y="1997"/>
                  </a:lnTo>
                  <a:lnTo>
                    <a:pt x="1260" y="1991"/>
                  </a:lnTo>
                  <a:lnTo>
                    <a:pt x="1266" y="1982"/>
                  </a:lnTo>
                  <a:lnTo>
                    <a:pt x="1269" y="1974"/>
                  </a:lnTo>
                  <a:lnTo>
                    <a:pt x="1272" y="1965"/>
                  </a:lnTo>
                  <a:lnTo>
                    <a:pt x="1280" y="1962"/>
                  </a:lnTo>
                  <a:lnTo>
                    <a:pt x="1289" y="1962"/>
                  </a:lnTo>
                  <a:lnTo>
                    <a:pt x="1298" y="1959"/>
                  </a:lnTo>
                  <a:lnTo>
                    <a:pt x="1301" y="1950"/>
                  </a:lnTo>
                  <a:lnTo>
                    <a:pt x="1304" y="1942"/>
                  </a:lnTo>
                  <a:lnTo>
                    <a:pt x="1301" y="1933"/>
                  </a:lnTo>
                  <a:lnTo>
                    <a:pt x="1292" y="1925"/>
                  </a:lnTo>
                  <a:lnTo>
                    <a:pt x="1301" y="1919"/>
                  </a:lnTo>
                  <a:lnTo>
                    <a:pt x="1310" y="1927"/>
                  </a:lnTo>
                  <a:lnTo>
                    <a:pt x="1318" y="1933"/>
                  </a:lnTo>
                  <a:lnTo>
                    <a:pt x="1324" y="1942"/>
                  </a:lnTo>
                  <a:lnTo>
                    <a:pt x="1333" y="1950"/>
                  </a:lnTo>
                  <a:lnTo>
                    <a:pt x="1342" y="1950"/>
                  </a:lnTo>
                  <a:lnTo>
                    <a:pt x="1350" y="1950"/>
                  </a:lnTo>
                  <a:lnTo>
                    <a:pt x="1353" y="1942"/>
                  </a:lnTo>
                  <a:lnTo>
                    <a:pt x="1353" y="1933"/>
                  </a:lnTo>
                  <a:lnTo>
                    <a:pt x="1356" y="1925"/>
                  </a:lnTo>
                  <a:lnTo>
                    <a:pt x="1356" y="1916"/>
                  </a:lnTo>
                  <a:lnTo>
                    <a:pt x="1359" y="1907"/>
                  </a:lnTo>
                  <a:lnTo>
                    <a:pt x="1359" y="1899"/>
                  </a:lnTo>
                  <a:lnTo>
                    <a:pt x="1356" y="1890"/>
                  </a:lnTo>
                  <a:lnTo>
                    <a:pt x="1347" y="1881"/>
                  </a:lnTo>
                  <a:lnTo>
                    <a:pt x="1347" y="1870"/>
                  </a:lnTo>
                  <a:lnTo>
                    <a:pt x="1347" y="1861"/>
                  </a:lnTo>
                  <a:lnTo>
                    <a:pt x="1356" y="1855"/>
                  </a:lnTo>
                  <a:lnTo>
                    <a:pt x="1362" y="1847"/>
                  </a:lnTo>
                  <a:lnTo>
                    <a:pt x="1371" y="1844"/>
                  </a:lnTo>
                  <a:lnTo>
                    <a:pt x="1379" y="1835"/>
                  </a:lnTo>
                  <a:lnTo>
                    <a:pt x="1382" y="1827"/>
                  </a:lnTo>
                  <a:lnTo>
                    <a:pt x="1391" y="1821"/>
                  </a:lnTo>
                  <a:lnTo>
                    <a:pt x="1400" y="1815"/>
                  </a:lnTo>
                  <a:lnTo>
                    <a:pt x="1406" y="1806"/>
                  </a:lnTo>
                  <a:lnTo>
                    <a:pt x="1414" y="1801"/>
                  </a:lnTo>
                  <a:lnTo>
                    <a:pt x="1423" y="1801"/>
                  </a:lnTo>
                  <a:lnTo>
                    <a:pt x="1435" y="1798"/>
                  </a:lnTo>
                  <a:lnTo>
                    <a:pt x="1443" y="1792"/>
                  </a:lnTo>
                  <a:lnTo>
                    <a:pt x="1452" y="1792"/>
                  </a:lnTo>
                  <a:lnTo>
                    <a:pt x="1464" y="1789"/>
                  </a:lnTo>
                  <a:lnTo>
                    <a:pt x="1473" y="1789"/>
                  </a:lnTo>
                  <a:lnTo>
                    <a:pt x="1481" y="1789"/>
                  </a:lnTo>
                  <a:lnTo>
                    <a:pt x="1490" y="1786"/>
                  </a:lnTo>
                  <a:lnTo>
                    <a:pt x="1499" y="1786"/>
                  </a:lnTo>
                  <a:lnTo>
                    <a:pt x="1508" y="1786"/>
                  </a:lnTo>
                  <a:lnTo>
                    <a:pt x="1516" y="1783"/>
                  </a:lnTo>
                  <a:lnTo>
                    <a:pt x="1516" y="1775"/>
                  </a:lnTo>
                  <a:lnTo>
                    <a:pt x="1516" y="1766"/>
                  </a:lnTo>
                  <a:lnTo>
                    <a:pt x="1513" y="1757"/>
                  </a:lnTo>
                  <a:lnTo>
                    <a:pt x="1522" y="1752"/>
                  </a:lnTo>
                  <a:lnTo>
                    <a:pt x="1528" y="1743"/>
                  </a:lnTo>
                  <a:lnTo>
                    <a:pt x="1537" y="1737"/>
                  </a:lnTo>
                  <a:lnTo>
                    <a:pt x="1545" y="1737"/>
                  </a:lnTo>
                  <a:lnTo>
                    <a:pt x="1554" y="1734"/>
                  </a:lnTo>
                  <a:lnTo>
                    <a:pt x="1563" y="1729"/>
                  </a:lnTo>
                  <a:lnTo>
                    <a:pt x="1572" y="1729"/>
                  </a:lnTo>
                  <a:lnTo>
                    <a:pt x="1580" y="1737"/>
                  </a:lnTo>
                  <a:lnTo>
                    <a:pt x="1589" y="1743"/>
                  </a:lnTo>
                  <a:lnTo>
                    <a:pt x="1598" y="1749"/>
                  </a:lnTo>
                  <a:lnTo>
                    <a:pt x="1601" y="1757"/>
                  </a:lnTo>
                  <a:lnTo>
                    <a:pt x="1601" y="1766"/>
                  </a:lnTo>
                  <a:lnTo>
                    <a:pt x="1604" y="1775"/>
                  </a:lnTo>
                  <a:lnTo>
                    <a:pt x="1604" y="1783"/>
                  </a:lnTo>
                  <a:lnTo>
                    <a:pt x="1592" y="1789"/>
                  </a:lnTo>
                  <a:lnTo>
                    <a:pt x="1580" y="1789"/>
                  </a:lnTo>
                  <a:lnTo>
                    <a:pt x="1572" y="1792"/>
                  </a:lnTo>
                  <a:lnTo>
                    <a:pt x="1566" y="1801"/>
                  </a:lnTo>
                  <a:lnTo>
                    <a:pt x="1557" y="1806"/>
                  </a:lnTo>
                  <a:lnTo>
                    <a:pt x="1548" y="1812"/>
                  </a:lnTo>
                  <a:lnTo>
                    <a:pt x="1537" y="1815"/>
                  </a:lnTo>
                  <a:lnTo>
                    <a:pt x="1528" y="1818"/>
                  </a:lnTo>
                  <a:lnTo>
                    <a:pt x="1519" y="1824"/>
                  </a:lnTo>
                  <a:lnTo>
                    <a:pt x="1510" y="1829"/>
                  </a:lnTo>
                  <a:lnTo>
                    <a:pt x="1502" y="1829"/>
                  </a:lnTo>
                  <a:lnTo>
                    <a:pt x="1490" y="1832"/>
                  </a:lnTo>
                  <a:lnTo>
                    <a:pt x="1481" y="1835"/>
                  </a:lnTo>
                  <a:lnTo>
                    <a:pt x="1473" y="1835"/>
                  </a:lnTo>
                  <a:lnTo>
                    <a:pt x="1464" y="1841"/>
                  </a:lnTo>
                  <a:lnTo>
                    <a:pt x="1458" y="1850"/>
                  </a:lnTo>
                  <a:lnTo>
                    <a:pt x="1452" y="1858"/>
                  </a:lnTo>
                  <a:lnTo>
                    <a:pt x="1449" y="1867"/>
                  </a:lnTo>
                  <a:lnTo>
                    <a:pt x="1449" y="1876"/>
                  </a:lnTo>
                  <a:lnTo>
                    <a:pt x="1446" y="1884"/>
                  </a:lnTo>
                  <a:lnTo>
                    <a:pt x="1443" y="1893"/>
                  </a:lnTo>
                  <a:lnTo>
                    <a:pt x="1438" y="1901"/>
                  </a:lnTo>
                  <a:lnTo>
                    <a:pt x="1435" y="1910"/>
                  </a:lnTo>
                  <a:lnTo>
                    <a:pt x="1429" y="1919"/>
                  </a:lnTo>
                  <a:lnTo>
                    <a:pt x="1426" y="1927"/>
                  </a:lnTo>
                  <a:lnTo>
                    <a:pt x="1423" y="1936"/>
                  </a:lnTo>
                  <a:lnTo>
                    <a:pt x="1423" y="1945"/>
                  </a:lnTo>
                  <a:lnTo>
                    <a:pt x="1417" y="1953"/>
                  </a:lnTo>
                  <a:lnTo>
                    <a:pt x="1417" y="1962"/>
                  </a:lnTo>
                  <a:lnTo>
                    <a:pt x="1426" y="1962"/>
                  </a:lnTo>
                  <a:lnTo>
                    <a:pt x="1435" y="1974"/>
                  </a:lnTo>
                  <a:lnTo>
                    <a:pt x="1441" y="1982"/>
                  </a:lnTo>
                  <a:lnTo>
                    <a:pt x="1441" y="1991"/>
                  </a:lnTo>
                  <a:lnTo>
                    <a:pt x="1449" y="1991"/>
                  </a:lnTo>
                  <a:lnTo>
                    <a:pt x="1461" y="1991"/>
                  </a:lnTo>
                  <a:lnTo>
                    <a:pt x="1470" y="1991"/>
                  </a:lnTo>
                  <a:lnTo>
                    <a:pt x="1484" y="1994"/>
                  </a:lnTo>
                  <a:lnTo>
                    <a:pt x="1493" y="1994"/>
                  </a:lnTo>
                  <a:lnTo>
                    <a:pt x="1502" y="1994"/>
                  </a:lnTo>
                  <a:lnTo>
                    <a:pt x="1510" y="1991"/>
                  </a:lnTo>
                  <a:lnTo>
                    <a:pt x="1519" y="1997"/>
                  </a:lnTo>
                  <a:lnTo>
                    <a:pt x="1531" y="1988"/>
                  </a:lnTo>
                  <a:lnTo>
                    <a:pt x="1540" y="1991"/>
                  </a:lnTo>
                  <a:lnTo>
                    <a:pt x="1548" y="1994"/>
                  </a:lnTo>
                  <a:lnTo>
                    <a:pt x="1557" y="1997"/>
                  </a:lnTo>
                  <a:lnTo>
                    <a:pt x="1566" y="1997"/>
                  </a:lnTo>
                  <a:lnTo>
                    <a:pt x="1569" y="2005"/>
                  </a:lnTo>
                  <a:lnTo>
                    <a:pt x="1569" y="2014"/>
                  </a:lnTo>
                  <a:lnTo>
                    <a:pt x="1569" y="2023"/>
                  </a:lnTo>
                  <a:lnTo>
                    <a:pt x="1572" y="2031"/>
                  </a:lnTo>
                  <a:lnTo>
                    <a:pt x="1577" y="2040"/>
                  </a:lnTo>
                  <a:lnTo>
                    <a:pt x="1586" y="2048"/>
                  </a:lnTo>
                  <a:lnTo>
                    <a:pt x="1577" y="2040"/>
                  </a:lnTo>
                  <a:lnTo>
                    <a:pt x="1569" y="2037"/>
                  </a:lnTo>
                  <a:lnTo>
                    <a:pt x="1557" y="2037"/>
                  </a:lnTo>
                  <a:lnTo>
                    <a:pt x="1548" y="2040"/>
                  </a:lnTo>
                  <a:lnTo>
                    <a:pt x="1548" y="2048"/>
                  </a:lnTo>
                  <a:lnTo>
                    <a:pt x="1540" y="2054"/>
                  </a:lnTo>
                  <a:lnTo>
                    <a:pt x="1531" y="2051"/>
                  </a:lnTo>
                  <a:lnTo>
                    <a:pt x="1522" y="2043"/>
                  </a:lnTo>
                  <a:lnTo>
                    <a:pt x="1513" y="2034"/>
                  </a:lnTo>
                  <a:lnTo>
                    <a:pt x="1505" y="2031"/>
                  </a:lnTo>
                  <a:lnTo>
                    <a:pt x="1496" y="2031"/>
                  </a:lnTo>
                  <a:lnTo>
                    <a:pt x="1487" y="2028"/>
                  </a:lnTo>
                  <a:lnTo>
                    <a:pt x="1478" y="2025"/>
                  </a:lnTo>
                  <a:lnTo>
                    <a:pt x="1470" y="2023"/>
                  </a:lnTo>
                  <a:lnTo>
                    <a:pt x="1461" y="2020"/>
                  </a:lnTo>
                  <a:lnTo>
                    <a:pt x="1452" y="2017"/>
                  </a:lnTo>
                  <a:lnTo>
                    <a:pt x="1441" y="2011"/>
                  </a:lnTo>
                  <a:lnTo>
                    <a:pt x="1432" y="2011"/>
                  </a:lnTo>
                  <a:lnTo>
                    <a:pt x="1426" y="2020"/>
                  </a:lnTo>
                  <a:lnTo>
                    <a:pt x="1426" y="2028"/>
                  </a:lnTo>
                  <a:lnTo>
                    <a:pt x="1423" y="2037"/>
                  </a:lnTo>
                  <a:lnTo>
                    <a:pt x="1417" y="2046"/>
                  </a:lnTo>
                  <a:lnTo>
                    <a:pt x="1414" y="2054"/>
                  </a:lnTo>
                  <a:lnTo>
                    <a:pt x="1426" y="2060"/>
                  </a:lnTo>
                  <a:lnTo>
                    <a:pt x="1432" y="2069"/>
                  </a:lnTo>
                  <a:lnTo>
                    <a:pt x="1429" y="2077"/>
                  </a:lnTo>
                  <a:lnTo>
                    <a:pt x="1423" y="2086"/>
                  </a:lnTo>
                  <a:lnTo>
                    <a:pt x="1414" y="2089"/>
                  </a:lnTo>
                  <a:lnTo>
                    <a:pt x="1409" y="2097"/>
                  </a:lnTo>
                  <a:lnTo>
                    <a:pt x="1403" y="2106"/>
                  </a:lnTo>
                  <a:lnTo>
                    <a:pt x="1400" y="2115"/>
                  </a:lnTo>
                  <a:lnTo>
                    <a:pt x="1391" y="2112"/>
                  </a:lnTo>
                  <a:lnTo>
                    <a:pt x="1388" y="2103"/>
                  </a:lnTo>
                  <a:lnTo>
                    <a:pt x="1385" y="2095"/>
                  </a:lnTo>
                  <a:lnTo>
                    <a:pt x="1382" y="2086"/>
                  </a:lnTo>
                  <a:lnTo>
                    <a:pt x="1382" y="2077"/>
                  </a:lnTo>
                  <a:lnTo>
                    <a:pt x="1379" y="2069"/>
                  </a:lnTo>
                  <a:lnTo>
                    <a:pt x="1371" y="2063"/>
                  </a:lnTo>
                  <a:lnTo>
                    <a:pt x="1359" y="2063"/>
                  </a:lnTo>
                  <a:lnTo>
                    <a:pt x="1350" y="2063"/>
                  </a:lnTo>
                  <a:lnTo>
                    <a:pt x="1344" y="2072"/>
                  </a:lnTo>
                  <a:lnTo>
                    <a:pt x="1339" y="2080"/>
                  </a:lnTo>
                  <a:lnTo>
                    <a:pt x="1333" y="2089"/>
                  </a:lnTo>
                  <a:lnTo>
                    <a:pt x="1327" y="2097"/>
                  </a:lnTo>
                  <a:lnTo>
                    <a:pt x="1321" y="2106"/>
                  </a:lnTo>
                  <a:lnTo>
                    <a:pt x="1312" y="2109"/>
                  </a:lnTo>
                  <a:lnTo>
                    <a:pt x="1304" y="2112"/>
                  </a:lnTo>
                  <a:lnTo>
                    <a:pt x="1304" y="2120"/>
                  </a:lnTo>
                  <a:lnTo>
                    <a:pt x="1301" y="2129"/>
                  </a:lnTo>
                  <a:lnTo>
                    <a:pt x="1298" y="2138"/>
                  </a:lnTo>
                  <a:lnTo>
                    <a:pt x="1295" y="2146"/>
                  </a:lnTo>
                  <a:lnTo>
                    <a:pt x="1295" y="2095"/>
                  </a:lnTo>
                  <a:lnTo>
                    <a:pt x="1304" y="2103"/>
                  </a:lnTo>
                  <a:lnTo>
                    <a:pt x="1304" y="2115"/>
                  </a:lnTo>
                  <a:lnTo>
                    <a:pt x="1301" y="2123"/>
                  </a:lnTo>
                  <a:lnTo>
                    <a:pt x="1298" y="2132"/>
                  </a:lnTo>
                  <a:lnTo>
                    <a:pt x="1298" y="2141"/>
                  </a:lnTo>
                  <a:lnTo>
                    <a:pt x="1295" y="2149"/>
                  </a:lnTo>
                  <a:lnTo>
                    <a:pt x="1292" y="2161"/>
                  </a:lnTo>
                  <a:lnTo>
                    <a:pt x="1289" y="2169"/>
                  </a:lnTo>
                  <a:lnTo>
                    <a:pt x="1280" y="2175"/>
                  </a:lnTo>
                  <a:lnTo>
                    <a:pt x="1278" y="2167"/>
                  </a:lnTo>
                  <a:lnTo>
                    <a:pt x="1275" y="2155"/>
                  </a:lnTo>
                  <a:lnTo>
                    <a:pt x="1272" y="2146"/>
                  </a:lnTo>
                  <a:lnTo>
                    <a:pt x="1263" y="2146"/>
                  </a:lnTo>
                  <a:lnTo>
                    <a:pt x="1251" y="2149"/>
                  </a:lnTo>
                  <a:lnTo>
                    <a:pt x="1245" y="2158"/>
                  </a:lnTo>
                  <a:lnTo>
                    <a:pt x="1240" y="2167"/>
                  </a:lnTo>
                  <a:lnTo>
                    <a:pt x="1228" y="2167"/>
                  </a:lnTo>
                  <a:lnTo>
                    <a:pt x="1216" y="2167"/>
                  </a:lnTo>
                  <a:lnTo>
                    <a:pt x="1213" y="2155"/>
                  </a:lnTo>
                  <a:lnTo>
                    <a:pt x="1213" y="2144"/>
                  </a:lnTo>
                  <a:lnTo>
                    <a:pt x="1205" y="2138"/>
                  </a:lnTo>
                  <a:lnTo>
                    <a:pt x="1196" y="2132"/>
                  </a:lnTo>
                  <a:lnTo>
                    <a:pt x="1179" y="2126"/>
                  </a:lnTo>
                  <a:lnTo>
                    <a:pt x="1170" y="2123"/>
                  </a:lnTo>
                  <a:lnTo>
                    <a:pt x="1158" y="2123"/>
                  </a:lnTo>
                  <a:lnTo>
                    <a:pt x="1152" y="2132"/>
                  </a:lnTo>
                  <a:lnTo>
                    <a:pt x="1141" y="2135"/>
                  </a:lnTo>
                  <a:lnTo>
                    <a:pt x="1132" y="2132"/>
                  </a:lnTo>
                  <a:lnTo>
                    <a:pt x="1123" y="2123"/>
                  </a:lnTo>
                  <a:lnTo>
                    <a:pt x="1114" y="2118"/>
                  </a:lnTo>
                  <a:lnTo>
                    <a:pt x="1106" y="2115"/>
                  </a:lnTo>
                  <a:lnTo>
                    <a:pt x="1097" y="2115"/>
                  </a:lnTo>
                  <a:lnTo>
                    <a:pt x="1094" y="2106"/>
                  </a:lnTo>
                  <a:lnTo>
                    <a:pt x="1094" y="2097"/>
                  </a:lnTo>
                  <a:lnTo>
                    <a:pt x="1094" y="2089"/>
                  </a:lnTo>
                  <a:lnTo>
                    <a:pt x="1091" y="2077"/>
                  </a:lnTo>
                  <a:lnTo>
                    <a:pt x="1091" y="2069"/>
                  </a:lnTo>
                  <a:lnTo>
                    <a:pt x="1082" y="2066"/>
                  </a:lnTo>
                  <a:lnTo>
                    <a:pt x="1074" y="2066"/>
                  </a:lnTo>
                  <a:lnTo>
                    <a:pt x="1065" y="2066"/>
                  </a:lnTo>
                  <a:lnTo>
                    <a:pt x="1056" y="2066"/>
                  </a:lnTo>
                  <a:lnTo>
                    <a:pt x="1048" y="2066"/>
                  </a:lnTo>
                  <a:lnTo>
                    <a:pt x="1039" y="2066"/>
                  </a:lnTo>
                  <a:lnTo>
                    <a:pt x="1027" y="2063"/>
                  </a:lnTo>
                  <a:lnTo>
                    <a:pt x="1021" y="2054"/>
                  </a:lnTo>
                  <a:lnTo>
                    <a:pt x="1021" y="2046"/>
                  </a:lnTo>
                  <a:lnTo>
                    <a:pt x="1016" y="2048"/>
                  </a:lnTo>
                  <a:lnTo>
                    <a:pt x="1036" y="2031"/>
                  </a:lnTo>
                  <a:lnTo>
                    <a:pt x="1048" y="2020"/>
                  </a:lnTo>
                  <a:lnTo>
                    <a:pt x="1059" y="2017"/>
                  </a:lnTo>
                  <a:lnTo>
                    <a:pt x="1062" y="2025"/>
                  </a:lnTo>
                  <a:lnTo>
                    <a:pt x="1050" y="2025"/>
                  </a:lnTo>
                  <a:lnTo>
                    <a:pt x="1059" y="2025"/>
                  </a:lnTo>
                  <a:lnTo>
                    <a:pt x="1071" y="2025"/>
                  </a:lnTo>
                  <a:lnTo>
                    <a:pt x="1080" y="2025"/>
                  </a:lnTo>
                  <a:lnTo>
                    <a:pt x="1088" y="2028"/>
                  </a:lnTo>
                  <a:lnTo>
                    <a:pt x="1097" y="2028"/>
                  </a:lnTo>
                  <a:lnTo>
                    <a:pt x="1106" y="2025"/>
                  </a:lnTo>
                  <a:lnTo>
                    <a:pt x="1109" y="2017"/>
                  </a:lnTo>
                  <a:lnTo>
                    <a:pt x="1112" y="2008"/>
                  </a:lnTo>
                  <a:lnTo>
                    <a:pt x="1103" y="1999"/>
                  </a:lnTo>
                  <a:lnTo>
                    <a:pt x="1100" y="1991"/>
                  </a:lnTo>
                  <a:lnTo>
                    <a:pt x="1094" y="1982"/>
                  </a:lnTo>
                  <a:lnTo>
                    <a:pt x="1091" y="1974"/>
                  </a:lnTo>
                  <a:lnTo>
                    <a:pt x="1082" y="1971"/>
                  </a:lnTo>
                  <a:lnTo>
                    <a:pt x="1077" y="1979"/>
                  </a:lnTo>
                  <a:lnTo>
                    <a:pt x="1077" y="1991"/>
                  </a:lnTo>
                  <a:lnTo>
                    <a:pt x="1077" y="1999"/>
                  </a:lnTo>
                  <a:lnTo>
                    <a:pt x="1071" y="2008"/>
                  </a:lnTo>
                  <a:lnTo>
                    <a:pt x="1068" y="2020"/>
                  </a:lnTo>
                  <a:lnTo>
                    <a:pt x="1068" y="2028"/>
                  </a:lnTo>
                  <a:lnTo>
                    <a:pt x="1059" y="2031"/>
                  </a:lnTo>
                  <a:lnTo>
                    <a:pt x="1048" y="2031"/>
                  </a:lnTo>
                  <a:lnTo>
                    <a:pt x="1039" y="2031"/>
                  </a:lnTo>
                  <a:lnTo>
                    <a:pt x="1030" y="2031"/>
                  </a:lnTo>
                  <a:lnTo>
                    <a:pt x="1027" y="2020"/>
                  </a:lnTo>
                  <a:lnTo>
                    <a:pt x="1027" y="2011"/>
                  </a:lnTo>
                  <a:lnTo>
                    <a:pt x="1027" y="2002"/>
                  </a:lnTo>
                  <a:lnTo>
                    <a:pt x="1027" y="1994"/>
                  </a:lnTo>
                  <a:lnTo>
                    <a:pt x="1027" y="1985"/>
                  </a:lnTo>
                  <a:lnTo>
                    <a:pt x="1030" y="1976"/>
                  </a:lnTo>
                  <a:lnTo>
                    <a:pt x="1039" y="1974"/>
                  </a:lnTo>
                  <a:lnTo>
                    <a:pt x="1042" y="1982"/>
                  </a:lnTo>
                  <a:lnTo>
                    <a:pt x="1042" y="1994"/>
                  </a:lnTo>
                  <a:lnTo>
                    <a:pt x="1045" y="2002"/>
                  </a:lnTo>
                  <a:lnTo>
                    <a:pt x="1050" y="2011"/>
                  </a:lnTo>
                  <a:lnTo>
                    <a:pt x="1062" y="2014"/>
                  </a:lnTo>
                  <a:lnTo>
                    <a:pt x="1074" y="2014"/>
                  </a:lnTo>
                  <a:lnTo>
                    <a:pt x="1082" y="2005"/>
                  </a:lnTo>
                  <a:lnTo>
                    <a:pt x="1082" y="1997"/>
                  </a:lnTo>
                  <a:lnTo>
                    <a:pt x="1074" y="1985"/>
                  </a:lnTo>
                  <a:lnTo>
                    <a:pt x="1065" y="1979"/>
                  </a:lnTo>
                  <a:lnTo>
                    <a:pt x="1065" y="1971"/>
                  </a:lnTo>
                  <a:lnTo>
                    <a:pt x="1074" y="1968"/>
                  </a:lnTo>
                  <a:lnTo>
                    <a:pt x="1082" y="1968"/>
                  </a:lnTo>
                  <a:lnTo>
                    <a:pt x="1091" y="1962"/>
                  </a:lnTo>
                  <a:lnTo>
                    <a:pt x="1091" y="1953"/>
                  </a:lnTo>
                  <a:lnTo>
                    <a:pt x="1091" y="1945"/>
                  </a:lnTo>
                  <a:lnTo>
                    <a:pt x="1100" y="1939"/>
                  </a:lnTo>
                  <a:lnTo>
                    <a:pt x="1109" y="1936"/>
                  </a:lnTo>
                  <a:lnTo>
                    <a:pt x="1117" y="1936"/>
                  </a:lnTo>
                  <a:lnTo>
                    <a:pt x="1123" y="1927"/>
                  </a:lnTo>
                  <a:lnTo>
                    <a:pt x="1126" y="1919"/>
                  </a:lnTo>
                  <a:lnTo>
                    <a:pt x="1126" y="1910"/>
                  </a:lnTo>
                  <a:lnTo>
                    <a:pt x="1126" y="1901"/>
                  </a:lnTo>
                  <a:lnTo>
                    <a:pt x="1114" y="1901"/>
                  </a:lnTo>
                  <a:lnTo>
                    <a:pt x="1106" y="1901"/>
                  </a:lnTo>
                  <a:lnTo>
                    <a:pt x="1097" y="1901"/>
                  </a:lnTo>
                  <a:lnTo>
                    <a:pt x="1088" y="1904"/>
                  </a:lnTo>
                  <a:lnTo>
                    <a:pt x="1080" y="1910"/>
                  </a:lnTo>
                  <a:lnTo>
                    <a:pt x="1077" y="1925"/>
                  </a:lnTo>
                  <a:lnTo>
                    <a:pt x="1077" y="1933"/>
                  </a:lnTo>
                  <a:lnTo>
                    <a:pt x="1068" y="1933"/>
                  </a:lnTo>
                  <a:lnTo>
                    <a:pt x="1059" y="1922"/>
                  </a:lnTo>
                  <a:lnTo>
                    <a:pt x="1056" y="1913"/>
                  </a:lnTo>
                  <a:lnTo>
                    <a:pt x="1068" y="1910"/>
                  </a:lnTo>
                  <a:lnTo>
                    <a:pt x="1077" y="1910"/>
                  </a:lnTo>
                  <a:lnTo>
                    <a:pt x="1065" y="1901"/>
                  </a:lnTo>
                  <a:lnTo>
                    <a:pt x="1056" y="1896"/>
                  </a:lnTo>
                  <a:lnTo>
                    <a:pt x="1056" y="1904"/>
                  </a:lnTo>
                  <a:lnTo>
                    <a:pt x="1048" y="1910"/>
                  </a:lnTo>
                  <a:lnTo>
                    <a:pt x="1039" y="1919"/>
                  </a:lnTo>
                  <a:lnTo>
                    <a:pt x="1036" y="1927"/>
                  </a:lnTo>
                  <a:lnTo>
                    <a:pt x="1030" y="1936"/>
                  </a:lnTo>
                  <a:lnTo>
                    <a:pt x="1024" y="1945"/>
                  </a:lnTo>
                  <a:lnTo>
                    <a:pt x="1016" y="1950"/>
                  </a:lnTo>
                  <a:lnTo>
                    <a:pt x="1004" y="1953"/>
                  </a:lnTo>
                  <a:lnTo>
                    <a:pt x="1001" y="1962"/>
                  </a:lnTo>
                  <a:lnTo>
                    <a:pt x="1001" y="1971"/>
                  </a:lnTo>
                  <a:lnTo>
                    <a:pt x="1001" y="1979"/>
                  </a:lnTo>
                  <a:lnTo>
                    <a:pt x="1001" y="1988"/>
                  </a:lnTo>
                  <a:lnTo>
                    <a:pt x="1001" y="1997"/>
                  </a:lnTo>
                  <a:lnTo>
                    <a:pt x="995" y="2005"/>
                  </a:lnTo>
                  <a:lnTo>
                    <a:pt x="986" y="2011"/>
                  </a:lnTo>
                  <a:lnTo>
                    <a:pt x="981" y="2020"/>
                  </a:lnTo>
                  <a:lnTo>
                    <a:pt x="981" y="2028"/>
                  </a:lnTo>
                  <a:lnTo>
                    <a:pt x="981" y="2037"/>
                  </a:lnTo>
                  <a:lnTo>
                    <a:pt x="978" y="2046"/>
                  </a:lnTo>
                  <a:lnTo>
                    <a:pt x="978" y="2054"/>
                  </a:lnTo>
                  <a:lnTo>
                    <a:pt x="983" y="2046"/>
                  </a:lnTo>
                  <a:lnTo>
                    <a:pt x="983" y="2037"/>
                  </a:lnTo>
                  <a:lnTo>
                    <a:pt x="975" y="2034"/>
                  </a:lnTo>
                  <a:lnTo>
                    <a:pt x="966" y="2034"/>
                  </a:lnTo>
                  <a:lnTo>
                    <a:pt x="957" y="2034"/>
                  </a:lnTo>
                  <a:lnTo>
                    <a:pt x="949" y="2023"/>
                  </a:lnTo>
                  <a:lnTo>
                    <a:pt x="949" y="2011"/>
                  </a:lnTo>
                  <a:lnTo>
                    <a:pt x="940" y="2008"/>
                  </a:lnTo>
                  <a:lnTo>
                    <a:pt x="931" y="2008"/>
                  </a:lnTo>
                  <a:lnTo>
                    <a:pt x="922" y="2011"/>
                  </a:lnTo>
                  <a:lnTo>
                    <a:pt x="914" y="2008"/>
                  </a:lnTo>
                  <a:lnTo>
                    <a:pt x="899" y="2002"/>
                  </a:lnTo>
                  <a:lnTo>
                    <a:pt x="890" y="1988"/>
                  </a:lnTo>
                  <a:lnTo>
                    <a:pt x="885" y="1976"/>
                  </a:lnTo>
                  <a:lnTo>
                    <a:pt x="876" y="1976"/>
                  </a:lnTo>
                  <a:lnTo>
                    <a:pt x="867" y="1979"/>
                  </a:lnTo>
                  <a:lnTo>
                    <a:pt x="861" y="1988"/>
                  </a:lnTo>
                  <a:lnTo>
                    <a:pt x="852" y="1994"/>
                  </a:lnTo>
                  <a:lnTo>
                    <a:pt x="844" y="1999"/>
                  </a:lnTo>
                  <a:lnTo>
                    <a:pt x="835" y="2002"/>
                  </a:lnTo>
                  <a:lnTo>
                    <a:pt x="826" y="2005"/>
                  </a:lnTo>
                  <a:lnTo>
                    <a:pt x="818" y="2008"/>
                  </a:lnTo>
                  <a:lnTo>
                    <a:pt x="809" y="2008"/>
                  </a:lnTo>
                  <a:lnTo>
                    <a:pt x="797" y="2011"/>
                  </a:lnTo>
                  <a:lnTo>
                    <a:pt x="788" y="2011"/>
                  </a:lnTo>
                  <a:lnTo>
                    <a:pt x="797" y="2011"/>
                  </a:lnTo>
                  <a:lnTo>
                    <a:pt x="812" y="2014"/>
                  </a:lnTo>
                  <a:lnTo>
                    <a:pt x="803" y="2017"/>
                  </a:lnTo>
                  <a:lnTo>
                    <a:pt x="794" y="2020"/>
                  </a:lnTo>
                  <a:lnTo>
                    <a:pt x="803" y="2031"/>
                  </a:lnTo>
                  <a:lnTo>
                    <a:pt x="794" y="2031"/>
                  </a:lnTo>
                  <a:lnTo>
                    <a:pt x="786" y="2028"/>
                  </a:lnTo>
                  <a:lnTo>
                    <a:pt x="777" y="2023"/>
                  </a:lnTo>
                  <a:lnTo>
                    <a:pt x="771" y="2014"/>
                  </a:lnTo>
                  <a:lnTo>
                    <a:pt x="762" y="2011"/>
                  </a:lnTo>
                  <a:lnTo>
                    <a:pt x="751" y="2008"/>
                  </a:lnTo>
                  <a:lnTo>
                    <a:pt x="742" y="2008"/>
                  </a:lnTo>
                  <a:lnTo>
                    <a:pt x="733" y="2005"/>
                  </a:lnTo>
                  <a:lnTo>
                    <a:pt x="736" y="2002"/>
                  </a:lnTo>
                  <a:lnTo>
                    <a:pt x="721" y="1985"/>
                  </a:lnTo>
                  <a:lnTo>
                    <a:pt x="713" y="1985"/>
                  </a:lnTo>
                  <a:lnTo>
                    <a:pt x="710" y="1994"/>
                  </a:lnTo>
                  <a:lnTo>
                    <a:pt x="716" y="2005"/>
                  </a:lnTo>
                  <a:lnTo>
                    <a:pt x="713" y="2014"/>
                  </a:lnTo>
                  <a:lnTo>
                    <a:pt x="704" y="2020"/>
                  </a:lnTo>
                  <a:lnTo>
                    <a:pt x="704" y="2028"/>
                  </a:lnTo>
                  <a:lnTo>
                    <a:pt x="692" y="2031"/>
                  </a:lnTo>
                  <a:lnTo>
                    <a:pt x="684" y="2025"/>
                  </a:lnTo>
                  <a:lnTo>
                    <a:pt x="672" y="2020"/>
                  </a:lnTo>
                  <a:lnTo>
                    <a:pt x="660" y="2017"/>
                  </a:lnTo>
                  <a:lnTo>
                    <a:pt x="646" y="2011"/>
                  </a:lnTo>
                  <a:lnTo>
                    <a:pt x="634" y="2008"/>
                  </a:lnTo>
                  <a:lnTo>
                    <a:pt x="625" y="2005"/>
                  </a:lnTo>
                  <a:lnTo>
                    <a:pt x="622" y="1997"/>
                  </a:lnTo>
                  <a:lnTo>
                    <a:pt x="620" y="1988"/>
                  </a:lnTo>
                  <a:lnTo>
                    <a:pt x="611" y="1979"/>
                  </a:lnTo>
                  <a:lnTo>
                    <a:pt x="608" y="1971"/>
                  </a:lnTo>
                  <a:lnTo>
                    <a:pt x="599" y="1968"/>
                  </a:lnTo>
                  <a:lnTo>
                    <a:pt x="590" y="1974"/>
                  </a:lnTo>
                  <a:lnTo>
                    <a:pt x="588" y="1985"/>
                  </a:lnTo>
                  <a:lnTo>
                    <a:pt x="585" y="1997"/>
                  </a:lnTo>
                  <a:lnTo>
                    <a:pt x="576" y="2002"/>
                  </a:lnTo>
                  <a:lnTo>
                    <a:pt x="567" y="1991"/>
                  </a:lnTo>
                  <a:lnTo>
                    <a:pt x="561" y="1982"/>
                  </a:lnTo>
                  <a:lnTo>
                    <a:pt x="553" y="1976"/>
                  </a:lnTo>
                  <a:lnTo>
                    <a:pt x="547" y="1968"/>
                  </a:lnTo>
                  <a:lnTo>
                    <a:pt x="541" y="1959"/>
                  </a:lnTo>
                  <a:lnTo>
                    <a:pt x="532" y="1956"/>
                  </a:lnTo>
                  <a:lnTo>
                    <a:pt x="524" y="1953"/>
                  </a:lnTo>
                  <a:lnTo>
                    <a:pt x="518" y="1945"/>
                  </a:lnTo>
                  <a:lnTo>
                    <a:pt x="509" y="1939"/>
                  </a:lnTo>
                  <a:lnTo>
                    <a:pt x="500" y="1939"/>
                  </a:lnTo>
                  <a:lnTo>
                    <a:pt x="494" y="1948"/>
                  </a:lnTo>
                  <a:lnTo>
                    <a:pt x="491" y="1956"/>
                  </a:lnTo>
                  <a:lnTo>
                    <a:pt x="486" y="1965"/>
                  </a:lnTo>
                  <a:lnTo>
                    <a:pt x="491" y="1974"/>
                  </a:lnTo>
                  <a:lnTo>
                    <a:pt x="500" y="1976"/>
                  </a:lnTo>
                  <a:lnTo>
                    <a:pt x="503" y="1985"/>
                  </a:lnTo>
                  <a:lnTo>
                    <a:pt x="506" y="1994"/>
                  </a:lnTo>
                  <a:lnTo>
                    <a:pt x="509" y="2002"/>
                  </a:lnTo>
                  <a:lnTo>
                    <a:pt x="512" y="2011"/>
                  </a:lnTo>
                  <a:lnTo>
                    <a:pt x="515" y="2020"/>
                  </a:lnTo>
                  <a:lnTo>
                    <a:pt x="518" y="2028"/>
                  </a:lnTo>
                  <a:lnTo>
                    <a:pt x="518" y="2037"/>
                  </a:lnTo>
                  <a:lnTo>
                    <a:pt x="518" y="2046"/>
                  </a:lnTo>
                  <a:lnTo>
                    <a:pt x="518" y="2054"/>
                  </a:lnTo>
                  <a:lnTo>
                    <a:pt x="515" y="2063"/>
                  </a:lnTo>
                  <a:lnTo>
                    <a:pt x="506" y="2072"/>
                  </a:lnTo>
                  <a:lnTo>
                    <a:pt x="503" y="2080"/>
                  </a:lnTo>
                  <a:lnTo>
                    <a:pt x="503" y="2089"/>
                  </a:lnTo>
                  <a:lnTo>
                    <a:pt x="503" y="2097"/>
                  </a:lnTo>
                  <a:lnTo>
                    <a:pt x="500" y="2106"/>
                  </a:lnTo>
                  <a:lnTo>
                    <a:pt x="491" y="2112"/>
                  </a:lnTo>
                  <a:lnTo>
                    <a:pt x="483" y="2118"/>
                  </a:lnTo>
                  <a:lnTo>
                    <a:pt x="483" y="2126"/>
                  </a:lnTo>
                  <a:lnTo>
                    <a:pt x="480" y="2138"/>
                  </a:lnTo>
                  <a:lnTo>
                    <a:pt x="477" y="2149"/>
                  </a:lnTo>
                  <a:lnTo>
                    <a:pt x="468" y="2144"/>
                  </a:lnTo>
                  <a:lnTo>
                    <a:pt x="459" y="2144"/>
                  </a:lnTo>
                  <a:lnTo>
                    <a:pt x="451" y="2144"/>
                  </a:lnTo>
                  <a:lnTo>
                    <a:pt x="442" y="2152"/>
                  </a:lnTo>
                  <a:lnTo>
                    <a:pt x="436" y="2161"/>
                  </a:lnTo>
                  <a:lnTo>
                    <a:pt x="427" y="2167"/>
                  </a:lnTo>
                  <a:lnTo>
                    <a:pt x="419" y="2175"/>
                  </a:lnTo>
                  <a:lnTo>
                    <a:pt x="407" y="2181"/>
                  </a:lnTo>
                  <a:lnTo>
                    <a:pt x="398" y="2184"/>
                  </a:lnTo>
                  <a:lnTo>
                    <a:pt x="393" y="2175"/>
                  </a:lnTo>
                  <a:lnTo>
                    <a:pt x="390" y="2167"/>
                  </a:lnTo>
                  <a:lnTo>
                    <a:pt x="384" y="2158"/>
                  </a:lnTo>
                  <a:lnTo>
                    <a:pt x="369" y="2149"/>
                  </a:lnTo>
                  <a:lnTo>
                    <a:pt x="358" y="2144"/>
                  </a:lnTo>
                  <a:lnTo>
                    <a:pt x="355" y="2135"/>
                  </a:lnTo>
                  <a:lnTo>
                    <a:pt x="349" y="2126"/>
                  </a:lnTo>
                  <a:lnTo>
                    <a:pt x="343" y="2118"/>
                  </a:lnTo>
                  <a:lnTo>
                    <a:pt x="334" y="2109"/>
                  </a:lnTo>
                  <a:lnTo>
                    <a:pt x="328" y="2100"/>
                  </a:lnTo>
                  <a:lnTo>
                    <a:pt x="320" y="2092"/>
                  </a:lnTo>
                  <a:lnTo>
                    <a:pt x="317" y="2080"/>
                  </a:lnTo>
                  <a:lnTo>
                    <a:pt x="317" y="2048"/>
                  </a:lnTo>
                  <a:lnTo>
                    <a:pt x="311" y="2060"/>
                  </a:lnTo>
                  <a:lnTo>
                    <a:pt x="302" y="2057"/>
                  </a:lnTo>
                  <a:lnTo>
                    <a:pt x="294" y="2051"/>
                  </a:lnTo>
                  <a:lnTo>
                    <a:pt x="282" y="2048"/>
                  </a:lnTo>
                  <a:lnTo>
                    <a:pt x="276" y="2040"/>
                  </a:lnTo>
                  <a:lnTo>
                    <a:pt x="270" y="2031"/>
                  </a:lnTo>
                  <a:lnTo>
                    <a:pt x="264" y="2023"/>
                  </a:lnTo>
                  <a:lnTo>
                    <a:pt x="259" y="2014"/>
                  </a:lnTo>
                  <a:lnTo>
                    <a:pt x="250" y="2008"/>
                  </a:lnTo>
                  <a:lnTo>
                    <a:pt x="241" y="2011"/>
                  </a:lnTo>
                  <a:lnTo>
                    <a:pt x="232" y="2011"/>
                  </a:lnTo>
                  <a:lnTo>
                    <a:pt x="227" y="2002"/>
                  </a:lnTo>
                  <a:lnTo>
                    <a:pt x="218" y="2002"/>
                  </a:lnTo>
                  <a:lnTo>
                    <a:pt x="209" y="2002"/>
                  </a:lnTo>
                  <a:lnTo>
                    <a:pt x="200" y="2002"/>
                  </a:lnTo>
                  <a:lnTo>
                    <a:pt x="203" y="2014"/>
                  </a:lnTo>
                  <a:lnTo>
                    <a:pt x="203" y="2025"/>
                  </a:lnTo>
                  <a:lnTo>
                    <a:pt x="200" y="2034"/>
                  </a:lnTo>
                  <a:lnTo>
                    <a:pt x="189" y="2037"/>
                  </a:lnTo>
                  <a:lnTo>
                    <a:pt x="180" y="2043"/>
                  </a:lnTo>
                  <a:lnTo>
                    <a:pt x="171" y="2051"/>
                  </a:lnTo>
                  <a:lnTo>
                    <a:pt x="168" y="2060"/>
                  </a:lnTo>
                  <a:lnTo>
                    <a:pt x="163" y="2072"/>
                  </a:lnTo>
                  <a:lnTo>
                    <a:pt x="154" y="2077"/>
                  </a:lnTo>
                  <a:lnTo>
                    <a:pt x="145" y="2083"/>
                  </a:lnTo>
                  <a:lnTo>
                    <a:pt x="136" y="2086"/>
                  </a:lnTo>
                  <a:lnTo>
                    <a:pt x="122" y="2092"/>
                  </a:lnTo>
                  <a:lnTo>
                    <a:pt x="113" y="2095"/>
                  </a:lnTo>
                  <a:lnTo>
                    <a:pt x="104" y="2097"/>
                  </a:lnTo>
                  <a:lnTo>
                    <a:pt x="96" y="2103"/>
                  </a:lnTo>
                  <a:lnTo>
                    <a:pt x="87" y="2109"/>
                  </a:lnTo>
                  <a:lnTo>
                    <a:pt x="78" y="2112"/>
                  </a:lnTo>
                  <a:lnTo>
                    <a:pt x="66" y="2112"/>
                  </a:lnTo>
                  <a:lnTo>
                    <a:pt x="58" y="2115"/>
                  </a:lnTo>
                  <a:lnTo>
                    <a:pt x="55" y="2123"/>
                  </a:lnTo>
                  <a:lnTo>
                    <a:pt x="49" y="2132"/>
                  </a:lnTo>
                  <a:lnTo>
                    <a:pt x="46" y="2141"/>
                  </a:lnTo>
                  <a:lnTo>
                    <a:pt x="58" y="2146"/>
                  </a:lnTo>
                  <a:lnTo>
                    <a:pt x="66" y="2146"/>
                  </a:lnTo>
                  <a:lnTo>
                    <a:pt x="75" y="2146"/>
                  </a:lnTo>
                  <a:lnTo>
                    <a:pt x="66" y="2158"/>
                  </a:lnTo>
                  <a:lnTo>
                    <a:pt x="55" y="2164"/>
                  </a:lnTo>
                  <a:lnTo>
                    <a:pt x="43" y="2169"/>
                  </a:lnTo>
                  <a:lnTo>
                    <a:pt x="34" y="2175"/>
                  </a:lnTo>
                  <a:lnTo>
                    <a:pt x="26" y="2181"/>
                  </a:lnTo>
                  <a:lnTo>
                    <a:pt x="23" y="2190"/>
                  </a:lnTo>
                  <a:lnTo>
                    <a:pt x="23" y="2198"/>
                  </a:lnTo>
                  <a:lnTo>
                    <a:pt x="14" y="2207"/>
                  </a:lnTo>
                  <a:lnTo>
                    <a:pt x="5" y="2210"/>
                  </a:lnTo>
                  <a:lnTo>
                    <a:pt x="0" y="2218"/>
                  </a:lnTo>
                  <a:lnTo>
                    <a:pt x="5" y="2227"/>
                  </a:lnTo>
                  <a:lnTo>
                    <a:pt x="14" y="2236"/>
                  </a:lnTo>
                  <a:lnTo>
                    <a:pt x="23" y="2244"/>
                  </a:lnTo>
                  <a:lnTo>
                    <a:pt x="37" y="2233"/>
                  </a:lnTo>
                  <a:lnTo>
                    <a:pt x="46" y="2230"/>
                  </a:lnTo>
                  <a:lnTo>
                    <a:pt x="49" y="2239"/>
                  </a:lnTo>
                  <a:lnTo>
                    <a:pt x="49" y="2247"/>
                  </a:lnTo>
                  <a:lnTo>
                    <a:pt x="52" y="2256"/>
                  </a:lnTo>
                  <a:lnTo>
                    <a:pt x="55" y="2265"/>
                  </a:lnTo>
                  <a:lnTo>
                    <a:pt x="58" y="2273"/>
                  </a:lnTo>
                  <a:lnTo>
                    <a:pt x="58" y="2282"/>
                  </a:lnTo>
                  <a:lnTo>
                    <a:pt x="61" y="2291"/>
                  </a:lnTo>
                  <a:lnTo>
                    <a:pt x="61" y="2299"/>
                  </a:lnTo>
                  <a:lnTo>
                    <a:pt x="58" y="2308"/>
                  </a:lnTo>
                  <a:lnTo>
                    <a:pt x="52" y="2316"/>
                  </a:lnTo>
                  <a:lnTo>
                    <a:pt x="52" y="2325"/>
                  </a:lnTo>
                  <a:lnTo>
                    <a:pt x="52" y="2334"/>
                  </a:lnTo>
                  <a:lnTo>
                    <a:pt x="49" y="2342"/>
                  </a:lnTo>
                  <a:lnTo>
                    <a:pt x="58" y="2348"/>
                  </a:lnTo>
                  <a:lnTo>
                    <a:pt x="69" y="2348"/>
                  </a:lnTo>
                  <a:lnTo>
                    <a:pt x="78" y="2348"/>
                  </a:lnTo>
                  <a:lnTo>
                    <a:pt x="87" y="2357"/>
                  </a:lnTo>
                  <a:lnTo>
                    <a:pt x="96" y="2360"/>
                  </a:lnTo>
                  <a:lnTo>
                    <a:pt x="104" y="2360"/>
                  </a:lnTo>
                  <a:lnTo>
                    <a:pt x="113" y="2365"/>
                  </a:lnTo>
                  <a:lnTo>
                    <a:pt x="122" y="2371"/>
                  </a:lnTo>
                  <a:lnTo>
                    <a:pt x="128" y="2380"/>
                  </a:lnTo>
                  <a:lnTo>
                    <a:pt x="139" y="2389"/>
                  </a:lnTo>
                  <a:lnTo>
                    <a:pt x="142" y="2397"/>
                  </a:lnTo>
                  <a:lnTo>
                    <a:pt x="151" y="2406"/>
                  </a:lnTo>
                  <a:lnTo>
                    <a:pt x="160" y="2414"/>
                  </a:lnTo>
                  <a:lnTo>
                    <a:pt x="168" y="2417"/>
                  </a:lnTo>
                  <a:lnTo>
                    <a:pt x="177" y="2420"/>
                  </a:lnTo>
                  <a:lnTo>
                    <a:pt x="186" y="2423"/>
                  </a:lnTo>
                  <a:lnTo>
                    <a:pt x="195" y="2423"/>
                  </a:lnTo>
                  <a:lnTo>
                    <a:pt x="203" y="2423"/>
                  </a:lnTo>
                  <a:lnTo>
                    <a:pt x="212" y="2423"/>
                  </a:lnTo>
                  <a:lnTo>
                    <a:pt x="221" y="2420"/>
                  </a:lnTo>
                  <a:lnTo>
                    <a:pt x="229" y="2420"/>
                  </a:lnTo>
                  <a:lnTo>
                    <a:pt x="238" y="2420"/>
                  </a:lnTo>
                  <a:lnTo>
                    <a:pt x="247" y="2417"/>
                  </a:lnTo>
                  <a:lnTo>
                    <a:pt x="256" y="2412"/>
                  </a:lnTo>
                  <a:lnTo>
                    <a:pt x="264" y="2412"/>
                  </a:lnTo>
                  <a:lnTo>
                    <a:pt x="276" y="2412"/>
                  </a:lnTo>
                  <a:lnTo>
                    <a:pt x="285" y="2412"/>
                  </a:lnTo>
                  <a:lnTo>
                    <a:pt x="294" y="2414"/>
                  </a:lnTo>
                  <a:lnTo>
                    <a:pt x="302" y="2414"/>
                  </a:lnTo>
                  <a:lnTo>
                    <a:pt x="305" y="2406"/>
                  </a:lnTo>
                  <a:lnTo>
                    <a:pt x="305" y="2397"/>
                  </a:lnTo>
                  <a:lnTo>
                    <a:pt x="302" y="2389"/>
                  </a:lnTo>
                  <a:lnTo>
                    <a:pt x="299" y="2380"/>
                  </a:lnTo>
                  <a:lnTo>
                    <a:pt x="302" y="2371"/>
                  </a:lnTo>
                  <a:lnTo>
                    <a:pt x="314" y="2368"/>
                  </a:lnTo>
                  <a:lnTo>
                    <a:pt x="323" y="2368"/>
                  </a:lnTo>
                  <a:lnTo>
                    <a:pt x="331" y="2368"/>
                  </a:lnTo>
                  <a:lnTo>
                    <a:pt x="343" y="2368"/>
                  </a:lnTo>
                  <a:lnTo>
                    <a:pt x="346" y="2360"/>
                  </a:lnTo>
                  <a:lnTo>
                    <a:pt x="355" y="2354"/>
                  </a:lnTo>
                  <a:lnTo>
                    <a:pt x="363" y="2351"/>
                  </a:lnTo>
                  <a:lnTo>
                    <a:pt x="372" y="2351"/>
                  </a:lnTo>
                  <a:lnTo>
                    <a:pt x="381" y="2348"/>
                  </a:lnTo>
                  <a:lnTo>
                    <a:pt x="390" y="2348"/>
                  </a:lnTo>
                  <a:lnTo>
                    <a:pt x="398" y="2348"/>
                  </a:lnTo>
                  <a:lnTo>
                    <a:pt x="407" y="2348"/>
                  </a:lnTo>
                  <a:lnTo>
                    <a:pt x="419" y="2354"/>
                  </a:lnTo>
                  <a:lnTo>
                    <a:pt x="427" y="2360"/>
                  </a:lnTo>
                  <a:lnTo>
                    <a:pt x="436" y="2360"/>
                  </a:lnTo>
                  <a:lnTo>
                    <a:pt x="445" y="2360"/>
                  </a:lnTo>
                  <a:lnTo>
                    <a:pt x="454" y="2363"/>
                  </a:lnTo>
                  <a:lnTo>
                    <a:pt x="462" y="2363"/>
                  </a:lnTo>
                  <a:lnTo>
                    <a:pt x="471" y="2363"/>
                  </a:lnTo>
                  <a:lnTo>
                    <a:pt x="480" y="2363"/>
                  </a:lnTo>
                  <a:lnTo>
                    <a:pt x="489" y="2360"/>
                  </a:lnTo>
                  <a:lnTo>
                    <a:pt x="494" y="2351"/>
                  </a:lnTo>
                  <a:lnTo>
                    <a:pt x="494" y="2342"/>
                  </a:lnTo>
                  <a:lnTo>
                    <a:pt x="494" y="2334"/>
                  </a:lnTo>
                  <a:lnTo>
                    <a:pt x="497" y="2325"/>
                  </a:lnTo>
                  <a:lnTo>
                    <a:pt x="506" y="2322"/>
                  </a:lnTo>
                  <a:lnTo>
                    <a:pt x="515" y="2322"/>
                  </a:lnTo>
                  <a:lnTo>
                    <a:pt x="524" y="2322"/>
                  </a:lnTo>
                  <a:lnTo>
                    <a:pt x="532" y="2322"/>
                  </a:lnTo>
                  <a:lnTo>
                    <a:pt x="541" y="2322"/>
                  </a:lnTo>
                  <a:lnTo>
                    <a:pt x="550" y="2328"/>
                  </a:lnTo>
                  <a:lnTo>
                    <a:pt x="556" y="2337"/>
                  </a:lnTo>
                  <a:lnTo>
                    <a:pt x="564" y="2342"/>
                  </a:lnTo>
                  <a:lnTo>
                    <a:pt x="570" y="2351"/>
                  </a:lnTo>
                  <a:lnTo>
                    <a:pt x="576" y="2360"/>
                  </a:lnTo>
                  <a:lnTo>
                    <a:pt x="585" y="2368"/>
                  </a:lnTo>
                  <a:lnTo>
                    <a:pt x="590" y="2377"/>
                  </a:lnTo>
                  <a:lnTo>
                    <a:pt x="599" y="2383"/>
                  </a:lnTo>
                  <a:lnTo>
                    <a:pt x="611" y="2386"/>
                  </a:lnTo>
                  <a:lnTo>
                    <a:pt x="620" y="2386"/>
                  </a:lnTo>
                  <a:lnTo>
                    <a:pt x="628" y="2386"/>
                  </a:lnTo>
                  <a:lnTo>
                    <a:pt x="637" y="2386"/>
                  </a:lnTo>
                  <a:lnTo>
                    <a:pt x="646" y="2386"/>
                  </a:lnTo>
                  <a:lnTo>
                    <a:pt x="655" y="2386"/>
                  </a:lnTo>
                  <a:lnTo>
                    <a:pt x="663" y="2389"/>
                  </a:lnTo>
                  <a:lnTo>
                    <a:pt x="672" y="2389"/>
                  </a:lnTo>
                  <a:lnTo>
                    <a:pt x="681" y="2389"/>
                  </a:lnTo>
                  <a:lnTo>
                    <a:pt x="689" y="2389"/>
                  </a:lnTo>
                  <a:lnTo>
                    <a:pt x="698" y="2394"/>
                  </a:lnTo>
                  <a:lnTo>
                    <a:pt x="707" y="2403"/>
                  </a:lnTo>
                  <a:lnTo>
                    <a:pt x="713" y="2412"/>
                  </a:lnTo>
                  <a:lnTo>
                    <a:pt x="716" y="2420"/>
                  </a:lnTo>
                  <a:lnTo>
                    <a:pt x="716" y="2429"/>
                  </a:lnTo>
                  <a:lnTo>
                    <a:pt x="716" y="2437"/>
                  </a:lnTo>
                  <a:lnTo>
                    <a:pt x="719" y="2446"/>
                  </a:lnTo>
                  <a:lnTo>
                    <a:pt x="719" y="2455"/>
                  </a:lnTo>
                  <a:lnTo>
                    <a:pt x="721" y="2463"/>
                  </a:lnTo>
                  <a:lnTo>
                    <a:pt x="721" y="2472"/>
                  </a:lnTo>
                  <a:lnTo>
                    <a:pt x="721" y="2481"/>
                  </a:lnTo>
                  <a:lnTo>
                    <a:pt x="721" y="2489"/>
                  </a:lnTo>
                  <a:lnTo>
                    <a:pt x="713" y="2492"/>
                  </a:lnTo>
                  <a:lnTo>
                    <a:pt x="704" y="2492"/>
                  </a:lnTo>
                  <a:lnTo>
                    <a:pt x="698" y="2501"/>
                  </a:lnTo>
                  <a:lnTo>
                    <a:pt x="707" y="2507"/>
                  </a:lnTo>
                  <a:lnTo>
                    <a:pt x="716" y="2512"/>
                  </a:lnTo>
                  <a:lnTo>
                    <a:pt x="721" y="2521"/>
                  </a:lnTo>
                  <a:lnTo>
                    <a:pt x="721" y="2530"/>
                  </a:lnTo>
                  <a:lnTo>
                    <a:pt x="719" y="2538"/>
                  </a:lnTo>
                  <a:lnTo>
                    <a:pt x="719" y="2547"/>
                  </a:lnTo>
                  <a:lnTo>
                    <a:pt x="719" y="2556"/>
                  </a:lnTo>
                  <a:lnTo>
                    <a:pt x="719" y="2564"/>
                  </a:lnTo>
                  <a:lnTo>
                    <a:pt x="721" y="2576"/>
                  </a:lnTo>
                  <a:lnTo>
                    <a:pt x="721" y="2584"/>
                  </a:lnTo>
                  <a:lnTo>
                    <a:pt x="727" y="2593"/>
                  </a:lnTo>
                  <a:lnTo>
                    <a:pt x="736" y="2602"/>
                  </a:lnTo>
                  <a:lnTo>
                    <a:pt x="742" y="2613"/>
                  </a:lnTo>
                  <a:lnTo>
                    <a:pt x="745" y="2625"/>
                  </a:lnTo>
                  <a:lnTo>
                    <a:pt x="756" y="2633"/>
                  </a:lnTo>
                  <a:lnTo>
                    <a:pt x="765" y="2642"/>
                  </a:lnTo>
                  <a:lnTo>
                    <a:pt x="768" y="2654"/>
                  </a:lnTo>
                  <a:lnTo>
                    <a:pt x="768" y="2662"/>
                  </a:lnTo>
                  <a:lnTo>
                    <a:pt x="768" y="2671"/>
                  </a:lnTo>
                  <a:lnTo>
                    <a:pt x="771" y="2682"/>
                  </a:lnTo>
                  <a:lnTo>
                    <a:pt x="780" y="2688"/>
                  </a:lnTo>
                  <a:lnTo>
                    <a:pt x="783" y="2697"/>
                  </a:lnTo>
                  <a:lnTo>
                    <a:pt x="786" y="2705"/>
                  </a:lnTo>
                  <a:lnTo>
                    <a:pt x="788" y="2714"/>
                  </a:lnTo>
                  <a:lnTo>
                    <a:pt x="788" y="2723"/>
                  </a:lnTo>
                  <a:lnTo>
                    <a:pt x="788" y="2731"/>
                  </a:lnTo>
                  <a:lnTo>
                    <a:pt x="788" y="2740"/>
                  </a:lnTo>
                  <a:lnTo>
                    <a:pt x="788" y="2749"/>
                  </a:lnTo>
                  <a:lnTo>
                    <a:pt x="788" y="2757"/>
                  </a:lnTo>
                  <a:lnTo>
                    <a:pt x="788" y="2769"/>
                  </a:lnTo>
                  <a:lnTo>
                    <a:pt x="783" y="2778"/>
                  </a:lnTo>
                  <a:lnTo>
                    <a:pt x="774" y="2778"/>
                  </a:lnTo>
                  <a:lnTo>
                    <a:pt x="765" y="2783"/>
                  </a:lnTo>
                  <a:lnTo>
                    <a:pt x="759" y="2792"/>
                  </a:lnTo>
                  <a:lnTo>
                    <a:pt x="751" y="2795"/>
                  </a:lnTo>
                  <a:lnTo>
                    <a:pt x="742" y="2789"/>
                  </a:lnTo>
                  <a:lnTo>
                    <a:pt x="730" y="2786"/>
                  </a:lnTo>
                  <a:lnTo>
                    <a:pt x="721" y="2780"/>
                  </a:lnTo>
                  <a:lnTo>
                    <a:pt x="713" y="2778"/>
                  </a:lnTo>
                  <a:lnTo>
                    <a:pt x="710" y="2766"/>
                  </a:lnTo>
                  <a:lnTo>
                    <a:pt x="707" y="2757"/>
                  </a:lnTo>
                  <a:lnTo>
                    <a:pt x="698" y="2754"/>
                  </a:lnTo>
                  <a:lnTo>
                    <a:pt x="687" y="2754"/>
                  </a:lnTo>
                  <a:lnTo>
                    <a:pt x="678" y="2746"/>
                  </a:lnTo>
                  <a:lnTo>
                    <a:pt x="672" y="2737"/>
                  </a:lnTo>
                  <a:lnTo>
                    <a:pt x="660" y="2731"/>
                  </a:lnTo>
                  <a:lnTo>
                    <a:pt x="652" y="2729"/>
                  </a:lnTo>
                  <a:lnTo>
                    <a:pt x="643" y="2729"/>
                  </a:lnTo>
                  <a:lnTo>
                    <a:pt x="634" y="2729"/>
                  </a:lnTo>
                  <a:lnTo>
                    <a:pt x="628" y="2737"/>
                  </a:lnTo>
                  <a:lnTo>
                    <a:pt x="628" y="2746"/>
                  </a:lnTo>
                  <a:lnTo>
                    <a:pt x="631" y="2754"/>
                  </a:lnTo>
                  <a:lnTo>
                    <a:pt x="640" y="2763"/>
                  </a:lnTo>
                  <a:lnTo>
                    <a:pt x="652" y="2769"/>
                  </a:lnTo>
                  <a:lnTo>
                    <a:pt x="660" y="2775"/>
                  </a:lnTo>
                  <a:lnTo>
                    <a:pt x="666" y="2783"/>
                  </a:lnTo>
                  <a:lnTo>
                    <a:pt x="669" y="2792"/>
                  </a:lnTo>
                  <a:lnTo>
                    <a:pt x="672" y="2801"/>
                  </a:lnTo>
                  <a:lnTo>
                    <a:pt x="675" y="2809"/>
                  </a:lnTo>
                  <a:lnTo>
                    <a:pt x="678" y="2818"/>
                  </a:lnTo>
                  <a:lnTo>
                    <a:pt x="687" y="2827"/>
                  </a:lnTo>
                  <a:lnTo>
                    <a:pt x="695" y="2829"/>
                  </a:lnTo>
                  <a:lnTo>
                    <a:pt x="707" y="2829"/>
                  </a:lnTo>
                  <a:lnTo>
                    <a:pt x="713" y="2818"/>
                  </a:lnTo>
                  <a:lnTo>
                    <a:pt x="713" y="2809"/>
                  </a:lnTo>
                  <a:lnTo>
                    <a:pt x="716" y="2801"/>
                  </a:lnTo>
                  <a:lnTo>
                    <a:pt x="724" y="2795"/>
                  </a:lnTo>
                  <a:lnTo>
                    <a:pt x="733" y="2795"/>
                  </a:lnTo>
                  <a:lnTo>
                    <a:pt x="742" y="2792"/>
                  </a:lnTo>
                  <a:lnTo>
                    <a:pt x="751" y="2801"/>
                  </a:lnTo>
                  <a:lnTo>
                    <a:pt x="762" y="2803"/>
                  </a:lnTo>
                  <a:lnTo>
                    <a:pt x="771" y="2803"/>
                  </a:lnTo>
                  <a:lnTo>
                    <a:pt x="780" y="2803"/>
                  </a:lnTo>
                  <a:lnTo>
                    <a:pt x="788" y="2803"/>
                  </a:lnTo>
                  <a:lnTo>
                    <a:pt x="788" y="2795"/>
                  </a:lnTo>
                  <a:lnTo>
                    <a:pt x="788" y="2786"/>
                  </a:lnTo>
                  <a:lnTo>
                    <a:pt x="797" y="2780"/>
                  </a:lnTo>
                  <a:lnTo>
                    <a:pt x="806" y="2780"/>
                  </a:lnTo>
                  <a:lnTo>
                    <a:pt x="815" y="2772"/>
                  </a:lnTo>
                  <a:lnTo>
                    <a:pt x="815" y="2763"/>
                  </a:lnTo>
                  <a:lnTo>
                    <a:pt x="815" y="2754"/>
                  </a:lnTo>
                  <a:lnTo>
                    <a:pt x="815" y="2746"/>
                  </a:lnTo>
                  <a:lnTo>
                    <a:pt x="815" y="2737"/>
                  </a:lnTo>
                  <a:lnTo>
                    <a:pt x="818" y="2729"/>
                  </a:lnTo>
                  <a:lnTo>
                    <a:pt x="826" y="2726"/>
                  </a:lnTo>
                  <a:lnTo>
                    <a:pt x="835" y="2720"/>
                  </a:lnTo>
                  <a:lnTo>
                    <a:pt x="844" y="2717"/>
                  </a:lnTo>
                  <a:lnTo>
                    <a:pt x="852" y="2720"/>
                  </a:lnTo>
                  <a:lnTo>
                    <a:pt x="855" y="2729"/>
                  </a:lnTo>
                  <a:lnTo>
                    <a:pt x="858" y="2740"/>
                  </a:lnTo>
                  <a:lnTo>
                    <a:pt x="858" y="2749"/>
                  </a:lnTo>
                  <a:lnTo>
                    <a:pt x="861" y="2757"/>
                  </a:lnTo>
                  <a:lnTo>
                    <a:pt x="870" y="2763"/>
                  </a:lnTo>
                  <a:lnTo>
                    <a:pt x="882" y="2766"/>
                  </a:lnTo>
                  <a:lnTo>
                    <a:pt x="887" y="2757"/>
                  </a:lnTo>
                  <a:lnTo>
                    <a:pt x="887" y="2749"/>
                  </a:lnTo>
                  <a:lnTo>
                    <a:pt x="887" y="2740"/>
                  </a:lnTo>
                  <a:lnTo>
                    <a:pt x="887" y="2731"/>
                  </a:lnTo>
                  <a:lnTo>
                    <a:pt x="885" y="2723"/>
                  </a:lnTo>
                  <a:lnTo>
                    <a:pt x="876" y="2714"/>
                  </a:lnTo>
                  <a:lnTo>
                    <a:pt x="870" y="2705"/>
                  </a:lnTo>
                  <a:lnTo>
                    <a:pt x="864" y="2697"/>
                  </a:lnTo>
                  <a:lnTo>
                    <a:pt x="855" y="2691"/>
                  </a:lnTo>
                  <a:lnTo>
                    <a:pt x="847" y="2682"/>
                  </a:lnTo>
                  <a:lnTo>
                    <a:pt x="838" y="2674"/>
                  </a:lnTo>
                  <a:lnTo>
                    <a:pt x="835" y="2665"/>
                  </a:lnTo>
                  <a:lnTo>
                    <a:pt x="832" y="2657"/>
                  </a:lnTo>
                  <a:lnTo>
                    <a:pt x="832" y="2648"/>
                  </a:lnTo>
                  <a:lnTo>
                    <a:pt x="841" y="2642"/>
                  </a:lnTo>
                  <a:lnTo>
                    <a:pt x="850" y="2642"/>
                  </a:lnTo>
                  <a:lnTo>
                    <a:pt x="852" y="2633"/>
                  </a:lnTo>
                  <a:lnTo>
                    <a:pt x="844" y="2628"/>
                  </a:lnTo>
                  <a:lnTo>
                    <a:pt x="835" y="2622"/>
                  </a:lnTo>
                  <a:lnTo>
                    <a:pt x="826" y="2619"/>
                  </a:lnTo>
                  <a:lnTo>
                    <a:pt x="820" y="2610"/>
                  </a:lnTo>
                  <a:lnTo>
                    <a:pt x="818" y="2602"/>
                  </a:lnTo>
                  <a:lnTo>
                    <a:pt x="812" y="2593"/>
                  </a:lnTo>
                  <a:lnTo>
                    <a:pt x="812" y="2584"/>
                  </a:lnTo>
                  <a:lnTo>
                    <a:pt x="809" y="2576"/>
                  </a:lnTo>
                  <a:lnTo>
                    <a:pt x="806" y="2564"/>
                  </a:lnTo>
                  <a:lnTo>
                    <a:pt x="806" y="2556"/>
                  </a:lnTo>
                  <a:lnTo>
                    <a:pt x="806" y="2547"/>
                  </a:lnTo>
                  <a:lnTo>
                    <a:pt x="806" y="2538"/>
                  </a:lnTo>
                  <a:lnTo>
                    <a:pt x="806" y="2530"/>
                  </a:lnTo>
                  <a:lnTo>
                    <a:pt x="806" y="2521"/>
                  </a:lnTo>
                  <a:lnTo>
                    <a:pt x="806" y="2512"/>
                  </a:lnTo>
                  <a:lnTo>
                    <a:pt x="806" y="2504"/>
                  </a:lnTo>
                  <a:lnTo>
                    <a:pt x="803" y="2495"/>
                  </a:lnTo>
                  <a:lnTo>
                    <a:pt x="800" y="2486"/>
                  </a:lnTo>
                  <a:lnTo>
                    <a:pt x="800" y="2478"/>
                  </a:lnTo>
                  <a:lnTo>
                    <a:pt x="800" y="2469"/>
                  </a:lnTo>
                  <a:lnTo>
                    <a:pt x="800" y="2461"/>
                  </a:lnTo>
                  <a:lnTo>
                    <a:pt x="800" y="2452"/>
                  </a:lnTo>
                  <a:lnTo>
                    <a:pt x="809" y="2452"/>
                  </a:lnTo>
                  <a:lnTo>
                    <a:pt x="818" y="2452"/>
                  </a:lnTo>
                  <a:lnTo>
                    <a:pt x="818" y="2443"/>
                  </a:lnTo>
                  <a:lnTo>
                    <a:pt x="820" y="2435"/>
                  </a:lnTo>
                  <a:lnTo>
                    <a:pt x="826" y="2426"/>
                  </a:lnTo>
                  <a:lnTo>
                    <a:pt x="835" y="2426"/>
                  </a:lnTo>
                  <a:lnTo>
                    <a:pt x="838" y="2435"/>
                  </a:lnTo>
                  <a:lnTo>
                    <a:pt x="847" y="2440"/>
                  </a:lnTo>
                  <a:lnTo>
                    <a:pt x="855" y="2435"/>
                  </a:lnTo>
                  <a:lnTo>
                    <a:pt x="864" y="2432"/>
                  </a:lnTo>
                  <a:lnTo>
                    <a:pt x="864" y="2440"/>
                  </a:lnTo>
                  <a:lnTo>
                    <a:pt x="864" y="2449"/>
                  </a:lnTo>
                  <a:lnTo>
                    <a:pt x="858" y="2458"/>
                  </a:lnTo>
                  <a:lnTo>
                    <a:pt x="850" y="2466"/>
                  </a:lnTo>
                  <a:lnTo>
                    <a:pt x="847" y="2475"/>
                  </a:lnTo>
                  <a:lnTo>
                    <a:pt x="855" y="2478"/>
                  </a:lnTo>
                  <a:lnTo>
                    <a:pt x="864" y="2478"/>
                  </a:lnTo>
                  <a:lnTo>
                    <a:pt x="864" y="2486"/>
                  </a:lnTo>
                  <a:lnTo>
                    <a:pt x="864" y="2495"/>
                  </a:lnTo>
                  <a:lnTo>
                    <a:pt x="873" y="2498"/>
                  </a:lnTo>
                  <a:lnTo>
                    <a:pt x="882" y="2498"/>
                  </a:lnTo>
                  <a:lnTo>
                    <a:pt x="882" y="2507"/>
                  </a:lnTo>
                  <a:lnTo>
                    <a:pt x="882" y="2515"/>
                  </a:lnTo>
                  <a:lnTo>
                    <a:pt x="879" y="2524"/>
                  </a:lnTo>
                  <a:lnTo>
                    <a:pt x="870" y="2527"/>
                  </a:lnTo>
                  <a:lnTo>
                    <a:pt x="864" y="2535"/>
                  </a:lnTo>
                  <a:lnTo>
                    <a:pt x="867" y="2544"/>
                  </a:lnTo>
                  <a:lnTo>
                    <a:pt x="870" y="2553"/>
                  </a:lnTo>
                  <a:lnTo>
                    <a:pt x="876" y="2561"/>
                  </a:lnTo>
                  <a:lnTo>
                    <a:pt x="882" y="2573"/>
                  </a:lnTo>
                  <a:lnTo>
                    <a:pt x="890" y="2584"/>
                  </a:lnTo>
                  <a:lnTo>
                    <a:pt x="893" y="2593"/>
                  </a:lnTo>
                  <a:lnTo>
                    <a:pt x="896" y="2602"/>
                  </a:lnTo>
                  <a:lnTo>
                    <a:pt x="899" y="2613"/>
                  </a:lnTo>
                  <a:lnTo>
                    <a:pt x="899" y="2622"/>
                  </a:lnTo>
                  <a:lnTo>
                    <a:pt x="902" y="2631"/>
                  </a:lnTo>
                  <a:lnTo>
                    <a:pt x="905" y="2639"/>
                  </a:lnTo>
                  <a:lnTo>
                    <a:pt x="911" y="2648"/>
                  </a:lnTo>
                  <a:lnTo>
                    <a:pt x="919" y="2657"/>
                  </a:lnTo>
                  <a:lnTo>
                    <a:pt x="928" y="2662"/>
                  </a:lnTo>
                  <a:lnTo>
                    <a:pt x="937" y="2671"/>
                  </a:lnTo>
                  <a:lnTo>
                    <a:pt x="943" y="2680"/>
                  </a:lnTo>
                  <a:lnTo>
                    <a:pt x="946" y="2688"/>
                  </a:lnTo>
                  <a:lnTo>
                    <a:pt x="949" y="2697"/>
                  </a:lnTo>
                  <a:lnTo>
                    <a:pt x="949" y="2705"/>
                  </a:lnTo>
                  <a:lnTo>
                    <a:pt x="949" y="2714"/>
                  </a:lnTo>
                  <a:lnTo>
                    <a:pt x="949" y="2723"/>
                  </a:lnTo>
                  <a:lnTo>
                    <a:pt x="943" y="2731"/>
                  </a:lnTo>
                  <a:lnTo>
                    <a:pt x="934" y="2734"/>
                  </a:lnTo>
                  <a:lnTo>
                    <a:pt x="928" y="2743"/>
                  </a:lnTo>
                  <a:lnTo>
                    <a:pt x="925" y="2752"/>
                  </a:lnTo>
                  <a:lnTo>
                    <a:pt x="925" y="2760"/>
                  </a:lnTo>
                  <a:lnTo>
                    <a:pt x="922" y="2769"/>
                  </a:lnTo>
                  <a:lnTo>
                    <a:pt x="922" y="2778"/>
                  </a:lnTo>
                  <a:lnTo>
                    <a:pt x="919" y="2786"/>
                  </a:lnTo>
                  <a:lnTo>
                    <a:pt x="911" y="2795"/>
                  </a:lnTo>
                  <a:lnTo>
                    <a:pt x="908" y="2803"/>
                  </a:lnTo>
                  <a:lnTo>
                    <a:pt x="908" y="2812"/>
                  </a:lnTo>
                  <a:lnTo>
                    <a:pt x="911" y="2821"/>
                  </a:lnTo>
                  <a:lnTo>
                    <a:pt x="922" y="2827"/>
                  </a:lnTo>
                  <a:lnTo>
                    <a:pt x="934" y="2832"/>
                  </a:lnTo>
                  <a:lnTo>
                    <a:pt x="940" y="2841"/>
                  </a:lnTo>
                  <a:lnTo>
                    <a:pt x="922" y="2832"/>
                  </a:lnTo>
                  <a:lnTo>
                    <a:pt x="946" y="2824"/>
                  </a:lnTo>
                  <a:lnTo>
                    <a:pt x="946" y="2832"/>
                  </a:lnTo>
                  <a:lnTo>
                    <a:pt x="946" y="2841"/>
                  </a:lnTo>
                  <a:lnTo>
                    <a:pt x="946" y="2850"/>
                  </a:lnTo>
                  <a:lnTo>
                    <a:pt x="940" y="2858"/>
                  </a:lnTo>
                  <a:lnTo>
                    <a:pt x="931" y="2861"/>
                  </a:lnTo>
                  <a:lnTo>
                    <a:pt x="922" y="2867"/>
                  </a:lnTo>
                  <a:lnTo>
                    <a:pt x="917" y="2876"/>
                  </a:lnTo>
                  <a:lnTo>
                    <a:pt x="919" y="2884"/>
                  </a:lnTo>
                  <a:lnTo>
                    <a:pt x="922" y="2893"/>
                  </a:lnTo>
                  <a:lnTo>
                    <a:pt x="917" y="2901"/>
                  </a:lnTo>
                  <a:lnTo>
                    <a:pt x="925" y="2904"/>
                  </a:lnTo>
                  <a:lnTo>
                    <a:pt x="934" y="2904"/>
                  </a:lnTo>
                  <a:lnTo>
                    <a:pt x="943" y="2904"/>
                  </a:lnTo>
                  <a:lnTo>
                    <a:pt x="951" y="2899"/>
                  </a:lnTo>
                  <a:lnTo>
                    <a:pt x="960" y="2893"/>
                  </a:lnTo>
                  <a:lnTo>
                    <a:pt x="969" y="2893"/>
                  </a:lnTo>
                  <a:lnTo>
                    <a:pt x="978" y="2899"/>
                  </a:lnTo>
                  <a:lnTo>
                    <a:pt x="983" y="2907"/>
                  </a:lnTo>
                  <a:lnTo>
                    <a:pt x="975" y="2904"/>
                  </a:lnTo>
                  <a:lnTo>
                    <a:pt x="966" y="2899"/>
                  </a:lnTo>
                  <a:lnTo>
                    <a:pt x="954" y="2896"/>
                  </a:lnTo>
                  <a:lnTo>
                    <a:pt x="940" y="2893"/>
                  </a:lnTo>
                  <a:lnTo>
                    <a:pt x="943" y="2910"/>
                  </a:lnTo>
                  <a:lnTo>
                    <a:pt x="951" y="2930"/>
                  </a:lnTo>
                  <a:lnTo>
                    <a:pt x="943" y="2933"/>
                  </a:lnTo>
                  <a:lnTo>
                    <a:pt x="940" y="2942"/>
                  </a:lnTo>
                  <a:lnTo>
                    <a:pt x="937" y="2950"/>
                  </a:lnTo>
                  <a:lnTo>
                    <a:pt x="946" y="2956"/>
                  </a:lnTo>
                  <a:lnTo>
                    <a:pt x="949" y="2965"/>
                  </a:lnTo>
                  <a:lnTo>
                    <a:pt x="951" y="2974"/>
                  </a:lnTo>
                  <a:lnTo>
                    <a:pt x="951" y="2982"/>
                  </a:lnTo>
                  <a:lnTo>
                    <a:pt x="951" y="2991"/>
                  </a:lnTo>
                  <a:lnTo>
                    <a:pt x="954" y="2999"/>
                  </a:lnTo>
                  <a:lnTo>
                    <a:pt x="957" y="3011"/>
                  </a:lnTo>
                  <a:lnTo>
                    <a:pt x="963" y="3002"/>
                  </a:lnTo>
                  <a:lnTo>
                    <a:pt x="963" y="2994"/>
                  </a:lnTo>
                  <a:lnTo>
                    <a:pt x="963" y="2985"/>
                  </a:lnTo>
                  <a:lnTo>
                    <a:pt x="963" y="2976"/>
                  </a:lnTo>
                  <a:lnTo>
                    <a:pt x="963" y="2968"/>
                  </a:lnTo>
                  <a:lnTo>
                    <a:pt x="969" y="2959"/>
                  </a:lnTo>
                  <a:lnTo>
                    <a:pt x="978" y="2953"/>
                  </a:lnTo>
                  <a:lnTo>
                    <a:pt x="983" y="2945"/>
                  </a:lnTo>
                  <a:lnTo>
                    <a:pt x="992" y="2942"/>
                  </a:lnTo>
                  <a:lnTo>
                    <a:pt x="1004" y="2945"/>
                  </a:lnTo>
                  <a:lnTo>
                    <a:pt x="1016" y="2945"/>
                  </a:lnTo>
                  <a:lnTo>
                    <a:pt x="1024" y="2945"/>
                  </a:lnTo>
                  <a:lnTo>
                    <a:pt x="1027" y="2936"/>
                  </a:lnTo>
                  <a:lnTo>
                    <a:pt x="1036" y="2945"/>
                  </a:lnTo>
                  <a:lnTo>
                    <a:pt x="1042" y="2953"/>
                  </a:lnTo>
                  <a:lnTo>
                    <a:pt x="1050" y="2962"/>
                  </a:lnTo>
                  <a:lnTo>
                    <a:pt x="1059" y="2971"/>
                  </a:lnTo>
                  <a:lnTo>
                    <a:pt x="1045" y="2959"/>
                  </a:lnTo>
                  <a:lnTo>
                    <a:pt x="1042" y="2950"/>
                  </a:lnTo>
                  <a:lnTo>
                    <a:pt x="1042" y="2942"/>
                  </a:lnTo>
                  <a:lnTo>
                    <a:pt x="1042" y="2933"/>
                  </a:lnTo>
                  <a:lnTo>
                    <a:pt x="1042" y="2925"/>
                  </a:lnTo>
                  <a:lnTo>
                    <a:pt x="1033" y="2916"/>
                  </a:lnTo>
                  <a:lnTo>
                    <a:pt x="1021" y="2907"/>
                  </a:lnTo>
                  <a:lnTo>
                    <a:pt x="1013" y="2899"/>
                  </a:lnTo>
                  <a:lnTo>
                    <a:pt x="1007" y="2890"/>
                  </a:lnTo>
                  <a:lnTo>
                    <a:pt x="1018" y="2893"/>
                  </a:lnTo>
                  <a:lnTo>
                    <a:pt x="1027" y="2896"/>
                  </a:lnTo>
                  <a:lnTo>
                    <a:pt x="1036" y="2901"/>
                  </a:lnTo>
                  <a:lnTo>
                    <a:pt x="1045" y="2907"/>
                  </a:lnTo>
                  <a:lnTo>
                    <a:pt x="1050" y="2916"/>
                  </a:lnTo>
                  <a:lnTo>
                    <a:pt x="1042" y="2913"/>
                  </a:lnTo>
                  <a:lnTo>
                    <a:pt x="1033" y="2907"/>
                  </a:lnTo>
                  <a:lnTo>
                    <a:pt x="1021" y="2899"/>
                  </a:lnTo>
                  <a:lnTo>
                    <a:pt x="1010" y="2896"/>
                  </a:lnTo>
                  <a:lnTo>
                    <a:pt x="1004" y="2887"/>
                  </a:lnTo>
                  <a:lnTo>
                    <a:pt x="1013" y="2881"/>
                  </a:lnTo>
                  <a:lnTo>
                    <a:pt x="1018" y="2873"/>
                  </a:lnTo>
                  <a:lnTo>
                    <a:pt x="1018" y="2864"/>
                  </a:lnTo>
                  <a:lnTo>
                    <a:pt x="1021" y="2855"/>
                  </a:lnTo>
                  <a:lnTo>
                    <a:pt x="1021" y="2847"/>
                  </a:lnTo>
                  <a:lnTo>
                    <a:pt x="1021" y="2838"/>
                  </a:lnTo>
                  <a:lnTo>
                    <a:pt x="1021" y="2829"/>
                  </a:lnTo>
                  <a:lnTo>
                    <a:pt x="1021" y="2821"/>
                  </a:lnTo>
                  <a:lnTo>
                    <a:pt x="1024" y="2812"/>
                  </a:lnTo>
                  <a:lnTo>
                    <a:pt x="1033" y="2812"/>
                  </a:lnTo>
                  <a:lnTo>
                    <a:pt x="1042" y="2809"/>
                  </a:lnTo>
                  <a:lnTo>
                    <a:pt x="1042" y="2818"/>
                  </a:lnTo>
                  <a:lnTo>
                    <a:pt x="1042" y="2827"/>
                  </a:lnTo>
                  <a:lnTo>
                    <a:pt x="1042" y="2835"/>
                  </a:lnTo>
                  <a:lnTo>
                    <a:pt x="1042" y="2844"/>
                  </a:lnTo>
                  <a:lnTo>
                    <a:pt x="1050" y="2850"/>
                  </a:lnTo>
                  <a:lnTo>
                    <a:pt x="1056" y="2841"/>
                  </a:lnTo>
                  <a:lnTo>
                    <a:pt x="1065" y="2841"/>
                  </a:lnTo>
                  <a:lnTo>
                    <a:pt x="1068" y="2850"/>
                  </a:lnTo>
                  <a:lnTo>
                    <a:pt x="1071" y="2841"/>
                  </a:lnTo>
                  <a:lnTo>
                    <a:pt x="1071" y="2832"/>
                  </a:lnTo>
                  <a:lnTo>
                    <a:pt x="1080" y="2827"/>
                  </a:lnTo>
                  <a:lnTo>
                    <a:pt x="1088" y="2827"/>
                  </a:lnTo>
                  <a:lnTo>
                    <a:pt x="1100" y="2835"/>
                  </a:lnTo>
                  <a:lnTo>
                    <a:pt x="1109" y="2835"/>
                  </a:lnTo>
                  <a:lnTo>
                    <a:pt x="1120" y="2835"/>
                  </a:lnTo>
                  <a:lnTo>
                    <a:pt x="1129" y="2835"/>
                  </a:lnTo>
                  <a:lnTo>
                    <a:pt x="1138" y="2838"/>
                  </a:lnTo>
                  <a:lnTo>
                    <a:pt x="1147" y="2841"/>
                  </a:lnTo>
                  <a:lnTo>
                    <a:pt x="1155" y="2844"/>
                  </a:lnTo>
                  <a:lnTo>
                    <a:pt x="1149" y="2852"/>
                  </a:lnTo>
                  <a:lnTo>
                    <a:pt x="1149" y="2861"/>
                  </a:lnTo>
                  <a:lnTo>
                    <a:pt x="1149" y="2870"/>
                  </a:lnTo>
                  <a:lnTo>
                    <a:pt x="1158" y="2878"/>
                  </a:lnTo>
                  <a:lnTo>
                    <a:pt x="1170" y="2878"/>
                  </a:lnTo>
                  <a:lnTo>
                    <a:pt x="1179" y="2878"/>
                  </a:lnTo>
                  <a:lnTo>
                    <a:pt x="1187" y="2878"/>
                  </a:lnTo>
                  <a:lnTo>
                    <a:pt x="1196" y="2878"/>
                  </a:lnTo>
                  <a:lnTo>
                    <a:pt x="1205" y="2876"/>
                  </a:lnTo>
                  <a:lnTo>
                    <a:pt x="1216" y="2873"/>
                  </a:lnTo>
                  <a:lnTo>
                    <a:pt x="1225" y="2873"/>
                  </a:lnTo>
                  <a:lnTo>
                    <a:pt x="1234" y="2873"/>
                  </a:lnTo>
                  <a:lnTo>
                    <a:pt x="1243" y="2873"/>
                  </a:lnTo>
                  <a:lnTo>
                    <a:pt x="1251" y="2873"/>
                  </a:lnTo>
                  <a:lnTo>
                    <a:pt x="1254" y="2884"/>
                  </a:lnTo>
                  <a:lnTo>
                    <a:pt x="1257" y="2893"/>
                  </a:lnTo>
                  <a:lnTo>
                    <a:pt x="1257" y="2901"/>
                  </a:lnTo>
                  <a:lnTo>
                    <a:pt x="1272" y="2907"/>
                  </a:lnTo>
                  <a:lnTo>
                    <a:pt x="1263" y="2913"/>
                  </a:lnTo>
                  <a:lnTo>
                    <a:pt x="1254" y="2913"/>
                  </a:lnTo>
                  <a:lnTo>
                    <a:pt x="1245" y="2913"/>
                  </a:lnTo>
                  <a:lnTo>
                    <a:pt x="1248" y="2878"/>
                  </a:lnTo>
                  <a:lnTo>
                    <a:pt x="1245" y="2896"/>
                  </a:lnTo>
                  <a:lnTo>
                    <a:pt x="1237" y="2896"/>
                  </a:lnTo>
                  <a:lnTo>
                    <a:pt x="1228" y="2893"/>
                  </a:lnTo>
                  <a:lnTo>
                    <a:pt x="1219" y="2896"/>
                  </a:lnTo>
                  <a:lnTo>
                    <a:pt x="1211" y="2896"/>
                  </a:lnTo>
                  <a:lnTo>
                    <a:pt x="1202" y="2896"/>
                  </a:lnTo>
                  <a:lnTo>
                    <a:pt x="1193" y="2893"/>
                  </a:lnTo>
                  <a:lnTo>
                    <a:pt x="1184" y="2890"/>
                  </a:lnTo>
                  <a:lnTo>
                    <a:pt x="1176" y="2890"/>
                  </a:lnTo>
                  <a:lnTo>
                    <a:pt x="1167" y="2887"/>
                  </a:lnTo>
                  <a:lnTo>
                    <a:pt x="1155" y="2887"/>
                  </a:lnTo>
                  <a:lnTo>
                    <a:pt x="1147" y="2887"/>
                  </a:lnTo>
                  <a:lnTo>
                    <a:pt x="1135" y="2887"/>
                  </a:lnTo>
                  <a:lnTo>
                    <a:pt x="1132" y="2896"/>
                  </a:lnTo>
                  <a:lnTo>
                    <a:pt x="1132" y="2904"/>
                  </a:lnTo>
                  <a:lnTo>
                    <a:pt x="1132" y="2913"/>
                  </a:lnTo>
                  <a:lnTo>
                    <a:pt x="1144" y="2916"/>
                  </a:lnTo>
                  <a:lnTo>
                    <a:pt x="1144" y="2925"/>
                  </a:lnTo>
                  <a:lnTo>
                    <a:pt x="1129" y="2927"/>
                  </a:lnTo>
                  <a:lnTo>
                    <a:pt x="1120" y="2927"/>
                  </a:lnTo>
                  <a:lnTo>
                    <a:pt x="1112" y="2927"/>
                  </a:lnTo>
                  <a:lnTo>
                    <a:pt x="1114" y="2936"/>
                  </a:lnTo>
                  <a:lnTo>
                    <a:pt x="1123" y="2936"/>
                  </a:lnTo>
                  <a:lnTo>
                    <a:pt x="1132" y="2942"/>
                  </a:lnTo>
                  <a:lnTo>
                    <a:pt x="1144" y="2948"/>
                  </a:lnTo>
                  <a:lnTo>
                    <a:pt x="1135" y="2953"/>
                  </a:lnTo>
                  <a:lnTo>
                    <a:pt x="1123" y="2953"/>
                  </a:lnTo>
                  <a:lnTo>
                    <a:pt x="1112" y="2953"/>
                  </a:lnTo>
                  <a:lnTo>
                    <a:pt x="1103" y="2953"/>
                  </a:lnTo>
                  <a:lnTo>
                    <a:pt x="1106" y="2962"/>
                  </a:lnTo>
                  <a:lnTo>
                    <a:pt x="1114" y="2965"/>
                  </a:lnTo>
                  <a:lnTo>
                    <a:pt x="1123" y="2974"/>
                  </a:lnTo>
                  <a:lnTo>
                    <a:pt x="1114" y="2982"/>
                  </a:lnTo>
                  <a:lnTo>
                    <a:pt x="1117" y="2991"/>
                  </a:lnTo>
                  <a:lnTo>
                    <a:pt x="1126" y="2994"/>
                  </a:lnTo>
                  <a:lnTo>
                    <a:pt x="1114" y="2999"/>
                  </a:lnTo>
                  <a:lnTo>
                    <a:pt x="1106" y="2999"/>
                  </a:lnTo>
                  <a:lnTo>
                    <a:pt x="1117" y="3005"/>
                  </a:lnTo>
                  <a:lnTo>
                    <a:pt x="1132" y="3008"/>
                  </a:lnTo>
                  <a:lnTo>
                    <a:pt x="1135" y="3017"/>
                  </a:lnTo>
                  <a:lnTo>
                    <a:pt x="1126" y="3022"/>
                  </a:lnTo>
                  <a:lnTo>
                    <a:pt x="1126" y="3034"/>
                  </a:lnTo>
                  <a:lnTo>
                    <a:pt x="1126" y="3046"/>
                  </a:lnTo>
                  <a:lnTo>
                    <a:pt x="1126" y="3054"/>
                  </a:lnTo>
                  <a:lnTo>
                    <a:pt x="1135" y="3054"/>
                  </a:lnTo>
                  <a:lnTo>
                    <a:pt x="1144" y="3054"/>
                  </a:lnTo>
                  <a:lnTo>
                    <a:pt x="1155" y="3054"/>
                  </a:lnTo>
                  <a:lnTo>
                    <a:pt x="1164" y="3054"/>
                  </a:lnTo>
                  <a:lnTo>
                    <a:pt x="1167" y="3063"/>
                  </a:lnTo>
                  <a:lnTo>
                    <a:pt x="1179" y="3069"/>
                  </a:lnTo>
                  <a:lnTo>
                    <a:pt x="1187" y="3069"/>
                  </a:lnTo>
                  <a:lnTo>
                    <a:pt x="1190" y="3080"/>
                  </a:lnTo>
                  <a:lnTo>
                    <a:pt x="1193" y="3089"/>
                  </a:lnTo>
                  <a:lnTo>
                    <a:pt x="1199" y="3097"/>
                  </a:lnTo>
                  <a:lnTo>
                    <a:pt x="1211" y="3103"/>
                  </a:lnTo>
                  <a:lnTo>
                    <a:pt x="1219" y="3103"/>
                  </a:lnTo>
                  <a:lnTo>
                    <a:pt x="1231" y="3103"/>
                  </a:lnTo>
                  <a:lnTo>
                    <a:pt x="1240" y="3100"/>
                  </a:lnTo>
                  <a:lnTo>
                    <a:pt x="1243" y="3092"/>
                  </a:lnTo>
                  <a:lnTo>
                    <a:pt x="1248" y="3083"/>
                  </a:lnTo>
                  <a:lnTo>
                    <a:pt x="1257" y="3083"/>
                  </a:lnTo>
                  <a:lnTo>
                    <a:pt x="1278" y="3097"/>
                  </a:lnTo>
                  <a:lnTo>
                    <a:pt x="1286" y="3103"/>
                  </a:lnTo>
                  <a:lnTo>
                    <a:pt x="1289" y="3112"/>
                  </a:lnTo>
                  <a:lnTo>
                    <a:pt x="1295" y="3120"/>
                  </a:lnTo>
                  <a:lnTo>
                    <a:pt x="1301" y="3129"/>
                  </a:lnTo>
                  <a:lnTo>
                    <a:pt x="1312" y="3141"/>
                  </a:lnTo>
                  <a:lnTo>
                    <a:pt x="1324" y="3146"/>
                  </a:lnTo>
                  <a:lnTo>
                    <a:pt x="1336" y="3152"/>
                  </a:lnTo>
                  <a:lnTo>
                    <a:pt x="1347" y="3155"/>
                  </a:lnTo>
                  <a:lnTo>
                    <a:pt x="1356" y="3155"/>
                  </a:lnTo>
                  <a:lnTo>
                    <a:pt x="1365" y="3155"/>
                  </a:lnTo>
                  <a:lnTo>
                    <a:pt x="1374" y="3155"/>
                  </a:lnTo>
                  <a:lnTo>
                    <a:pt x="1376" y="3146"/>
                  </a:lnTo>
                  <a:lnTo>
                    <a:pt x="1385" y="3138"/>
                  </a:lnTo>
                  <a:lnTo>
                    <a:pt x="1391" y="3129"/>
                  </a:lnTo>
                  <a:lnTo>
                    <a:pt x="1400" y="3132"/>
                  </a:lnTo>
                  <a:lnTo>
                    <a:pt x="1409" y="3138"/>
                  </a:lnTo>
                  <a:lnTo>
                    <a:pt x="1417" y="3149"/>
                  </a:lnTo>
                  <a:lnTo>
                    <a:pt x="1429" y="3152"/>
                  </a:lnTo>
                  <a:lnTo>
                    <a:pt x="1435" y="3155"/>
                  </a:lnTo>
                  <a:lnTo>
                    <a:pt x="1438" y="3164"/>
                  </a:lnTo>
                  <a:lnTo>
                    <a:pt x="1441" y="3172"/>
                  </a:lnTo>
                  <a:lnTo>
                    <a:pt x="1449" y="3178"/>
                  </a:lnTo>
                  <a:lnTo>
                    <a:pt x="1458" y="3178"/>
                  </a:lnTo>
                  <a:lnTo>
                    <a:pt x="1464" y="3169"/>
                  </a:lnTo>
                  <a:lnTo>
                    <a:pt x="1464" y="3161"/>
                  </a:lnTo>
                  <a:lnTo>
                    <a:pt x="1470" y="3152"/>
                  </a:lnTo>
                  <a:lnTo>
                    <a:pt x="1478" y="3152"/>
                  </a:lnTo>
                  <a:lnTo>
                    <a:pt x="1487" y="3155"/>
                  </a:lnTo>
                  <a:lnTo>
                    <a:pt x="1499" y="3161"/>
                  </a:lnTo>
                  <a:lnTo>
                    <a:pt x="1510" y="3161"/>
                  </a:lnTo>
                  <a:lnTo>
                    <a:pt x="1519" y="3161"/>
                  </a:lnTo>
                  <a:lnTo>
                    <a:pt x="1528" y="3161"/>
                  </a:lnTo>
                  <a:lnTo>
                    <a:pt x="1537" y="3158"/>
                  </a:lnTo>
                  <a:lnTo>
                    <a:pt x="1545" y="3158"/>
                  </a:lnTo>
                  <a:lnTo>
                    <a:pt x="1554" y="3164"/>
                  </a:lnTo>
                  <a:lnTo>
                    <a:pt x="1569" y="3169"/>
                  </a:lnTo>
                  <a:lnTo>
                    <a:pt x="1580" y="3169"/>
                  </a:lnTo>
                  <a:lnTo>
                    <a:pt x="1592" y="3169"/>
                  </a:lnTo>
                  <a:lnTo>
                    <a:pt x="1601" y="3169"/>
                  </a:lnTo>
                  <a:lnTo>
                    <a:pt x="1609" y="3169"/>
                  </a:lnTo>
                  <a:lnTo>
                    <a:pt x="1618" y="3169"/>
                  </a:lnTo>
                  <a:lnTo>
                    <a:pt x="1627" y="3169"/>
                  </a:lnTo>
                  <a:lnTo>
                    <a:pt x="1636" y="3169"/>
                  </a:lnTo>
                  <a:lnTo>
                    <a:pt x="1644" y="3169"/>
                  </a:lnTo>
                  <a:lnTo>
                    <a:pt x="1653" y="3169"/>
                  </a:lnTo>
                  <a:lnTo>
                    <a:pt x="1662" y="3169"/>
                  </a:lnTo>
                  <a:lnTo>
                    <a:pt x="1671" y="3169"/>
                  </a:lnTo>
                  <a:lnTo>
                    <a:pt x="1679" y="3169"/>
                  </a:lnTo>
                  <a:lnTo>
                    <a:pt x="1688" y="3169"/>
                  </a:lnTo>
                  <a:lnTo>
                    <a:pt x="1703" y="3169"/>
                  </a:lnTo>
                  <a:lnTo>
                    <a:pt x="1714" y="3172"/>
                  </a:lnTo>
                  <a:lnTo>
                    <a:pt x="1726" y="3175"/>
                  </a:lnTo>
                  <a:lnTo>
                    <a:pt x="1735" y="3175"/>
                  </a:lnTo>
                  <a:lnTo>
                    <a:pt x="1743" y="3175"/>
                  </a:lnTo>
                  <a:lnTo>
                    <a:pt x="1758" y="3175"/>
                  </a:lnTo>
                  <a:lnTo>
                    <a:pt x="1767" y="3175"/>
                  </a:lnTo>
                  <a:lnTo>
                    <a:pt x="1772" y="3167"/>
                  </a:lnTo>
                  <a:lnTo>
                    <a:pt x="1772" y="3158"/>
                  </a:lnTo>
                  <a:lnTo>
                    <a:pt x="1772" y="3149"/>
                  </a:lnTo>
                  <a:lnTo>
                    <a:pt x="1772" y="3141"/>
                  </a:lnTo>
                  <a:lnTo>
                    <a:pt x="1772" y="3132"/>
                  </a:lnTo>
                  <a:lnTo>
                    <a:pt x="1772" y="3123"/>
                  </a:lnTo>
                  <a:lnTo>
                    <a:pt x="1772" y="3112"/>
                  </a:lnTo>
                  <a:lnTo>
                    <a:pt x="1770" y="3103"/>
                  </a:lnTo>
                  <a:lnTo>
                    <a:pt x="1770" y="3095"/>
                  </a:lnTo>
                  <a:lnTo>
                    <a:pt x="1770" y="3086"/>
                  </a:lnTo>
                  <a:lnTo>
                    <a:pt x="1778" y="3080"/>
                  </a:lnTo>
                  <a:lnTo>
                    <a:pt x="1787" y="3080"/>
                  </a:lnTo>
                  <a:lnTo>
                    <a:pt x="1796" y="3089"/>
                  </a:lnTo>
                  <a:lnTo>
                    <a:pt x="1802" y="3097"/>
                  </a:lnTo>
                  <a:lnTo>
                    <a:pt x="1813" y="3103"/>
                  </a:lnTo>
                  <a:lnTo>
                    <a:pt x="1825" y="3112"/>
                  </a:lnTo>
                  <a:lnTo>
                    <a:pt x="1854" y="3109"/>
                  </a:lnTo>
                  <a:lnTo>
                    <a:pt x="1836" y="3103"/>
                  </a:lnTo>
                  <a:lnTo>
                    <a:pt x="1854" y="3103"/>
                  </a:lnTo>
                  <a:lnTo>
                    <a:pt x="1863" y="3103"/>
                  </a:lnTo>
                  <a:lnTo>
                    <a:pt x="1871" y="3103"/>
                  </a:lnTo>
                  <a:lnTo>
                    <a:pt x="1880" y="3106"/>
                  </a:lnTo>
                  <a:lnTo>
                    <a:pt x="1889" y="3100"/>
                  </a:lnTo>
                  <a:lnTo>
                    <a:pt x="1898" y="3097"/>
                  </a:lnTo>
                  <a:lnTo>
                    <a:pt x="1906" y="3095"/>
                  </a:lnTo>
                  <a:lnTo>
                    <a:pt x="1918" y="3103"/>
                  </a:lnTo>
                  <a:lnTo>
                    <a:pt x="1924" y="3112"/>
                  </a:lnTo>
                  <a:lnTo>
                    <a:pt x="1924" y="3120"/>
                  </a:lnTo>
                  <a:lnTo>
                    <a:pt x="1921" y="3129"/>
                  </a:lnTo>
                  <a:lnTo>
                    <a:pt x="1924" y="3138"/>
                  </a:lnTo>
                  <a:lnTo>
                    <a:pt x="1933" y="3144"/>
                  </a:lnTo>
                  <a:lnTo>
                    <a:pt x="1944" y="3152"/>
                  </a:lnTo>
                  <a:lnTo>
                    <a:pt x="1947" y="3144"/>
                  </a:lnTo>
                  <a:lnTo>
                    <a:pt x="1947" y="3135"/>
                  </a:lnTo>
                  <a:lnTo>
                    <a:pt x="1947" y="3126"/>
                  </a:lnTo>
                  <a:lnTo>
                    <a:pt x="1947" y="3118"/>
                  </a:lnTo>
                  <a:lnTo>
                    <a:pt x="1956" y="3115"/>
                  </a:lnTo>
                  <a:lnTo>
                    <a:pt x="1962" y="3106"/>
                  </a:lnTo>
                  <a:lnTo>
                    <a:pt x="1962" y="3097"/>
                  </a:lnTo>
                  <a:lnTo>
                    <a:pt x="1962" y="3089"/>
                  </a:lnTo>
                  <a:lnTo>
                    <a:pt x="1962" y="3080"/>
                  </a:lnTo>
                  <a:lnTo>
                    <a:pt x="1962" y="3071"/>
                  </a:lnTo>
                  <a:lnTo>
                    <a:pt x="1967" y="3063"/>
                  </a:lnTo>
                  <a:lnTo>
                    <a:pt x="1976" y="3060"/>
                  </a:lnTo>
                  <a:lnTo>
                    <a:pt x="1988" y="3060"/>
                  </a:lnTo>
                  <a:lnTo>
                    <a:pt x="2002" y="3063"/>
                  </a:lnTo>
                  <a:lnTo>
                    <a:pt x="2011" y="3063"/>
                  </a:lnTo>
                  <a:lnTo>
                    <a:pt x="2002" y="3054"/>
                  </a:lnTo>
                  <a:lnTo>
                    <a:pt x="1994" y="3048"/>
                  </a:lnTo>
                  <a:lnTo>
                    <a:pt x="1979" y="3043"/>
                  </a:lnTo>
                  <a:lnTo>
                    <a:pt x="1967" y="3034"/>
                  </a:lnTo>
                  <a:lnTo>
                    <a:pt x="1962" y="3025"/>
                  </a:lnTo>
                  <a:lnTo>
                    <a:pt x="1959" y="3017"/>
                  </a:lnTo>
                  <a:lnTo>
                    <a:pt x="1956" y="3008"/>
                  </a:lnTo>
                  <a:lnTo>
                    <a:pt x="1950" y="2999"/>
                  </a:lnTo>
                  <a:lnTo>
                    <a:pt x="1944" y="2991"/>
                  </a:lnTo>
                  <a:lnTo>
                    <a:pt x="1938" y="2982"/>
                  </a:lnTo>
                  <a:lnTo>
                    <a:pt x="1933" y="2974"/>
                  </a:lnTo>
                  <a:lnTo>
                    <a:pt x="1927" y="2965"/>
                  </a:lnTo>
                  <a:lnTo>
                    <a:pt x="1924" y="2956"/>
                  </a:lnTo>
                  <a:lnTo>
                    <a:pt x="1921" y="2948"/>
                  </a:lnTo>
                  <a:lnTo>
                    <a:pt x="1918" y="2939"/>
                  </a:lnTo>
                  <a:lnTo>
                    <a:pt x="1915" y="2930"/>
                  </a:lnTo>
                  <a:lnTo>
                    <a:pt x="1912" y="2922"/>
                  </a:lnTo>
                  <a:lnTo>
                    <a:pt x="1915" y="2913"/>
                  </a:lnTo>
                  <a:lnTo>
                    <a:pt x="1915" y="2904"/>
                  </a:lnTo>
                  <a:lnTo>
                    <a:pt x="1915" y="2896"/>
                  </a:lnTo>
                  <a:lnTo>
                    <a:pt x="1915" y="2887"/>
                  </a:lnTo>
                  <a:lnTo>
                    <a:pt x="1912" y="2878"/>
                  </a:lnTo>
                  <a:lnTo>
                    <a:pt x="1909" y="2870"/>
                  </a:lnTo>
                  <a:lnTo>
                    <a:pt x="1903" y="2861"/>
                  </a:lnTo>
                  <a:lnTo>
                    <a:pt x="1895" y="2852"/>
                  </a:lnTo>
                  <a:lnTo>
                    <a:pt x="1892" y="2844"/>
                  </a:lnTo>
                  <a:lnTo>
                    <a:pt x="1892" y="2835"/>
                  </a:lnTo>
                  <a:lnTo>
                    <a:pt x="1898" y="2827"/>
                  </a:lnTo>
                  <a:lnTo>
                    <a:pt x="1906" y="2824"/>
                  </a:lnTo>
                  <a:lnTo>
                    <a:pt x="1918" y="2821"/>
                  </a:lnTo>
                  <a:lnTo>
                    <a:pt x="1930" y="2818"/>
                  </a:lnTo>
                  <a:lnTo>
                    <a:pt x="1938" y="2812"/>
                  </a:lnTo>
                  <a:lnTo>
                    <a:pt x="1944" y="2803"/>
                  </a:lnTo>
                  <a:lnTo>
                    <a:pt x="1953" y="2798"/>
                  </a:lnTo>
                  <a:lnTo>
                    <a:pt x="1962" y="2798"/>
                  </a:lnTo>
                  <a:lnTo>
                    <a:pt x="1970" y="2798"/>
                  </a:lnTo>
                  <a:lnTo>
                    <a:pt x="1976" y="2789"/>
                  </a:lnTo>
                  <a:lnTo>
                    <a:pt x="1982" y="2780"/>
                  </a:lnTo>
                  <a:lnTo>
                    <a:pt x="1991" y="2775"/>
                  </a:lnTo>
                  <a:lnTo>
                    <a:pt x="1999" y="2775"/>
                  </a:lnTo>
                  <a:lnTo>
                    <a:pt x="2008" y="2769"/>
                  </a:lnTo>
                  <a:lnTo>
                    <a:pt x="2017" y="2763"/>
                  </a:lnTo>
                  <a:lnTo>
                    <a:pt x="2026" y="2760"/>
                  </a:lnTo>
                  <a:lnTo>
                    <a:pt x="2034" y="2760"/>
                  </a:lnTo>
                  <a:lnTo>
                    <a:pt x="2043" y="2760"/>
                  </a:lnTo>
                  <a:lnTo>
                    <a:pt x="2052" y="2754"/>
                  </a:lnTo>
                  <a:lnTo>
                    <a:pt x="2061" y="2754"/>
                  </a:lnTo>
                  <a:lnTo>
                    <a:pt x="2069" y="2757"/>
                  </a:lnTo>
                  <a:lnTo>
                    <a:pt x="2078" y="2757"/>
                  </a:lnTo>
                  <a:lnTo>
                    <a:pt x="2093" y="2760"/>
                  </a:lnTo>
                  <a:lnTo>
                    <a:pt x="2101" y="2760"/>
                  </a:lnTo>
                  <a:lnTo>
                    <a:pt x="2101" y="2769"/>
                  </a:lnTo>
                  <a:lnTo>
                    <a:pt x="2101" y="2778"/>
                  </a:lnTo>
                  <a:lnTo>
                    <a:pt x="2101" y="2786"/>
                  </a:lnTo>
                  <a:lnTo>
                    <a:pt x="2104" y="2795"/>
                  </a:lnTo>
                  <a:lnTo>
                    <a:pt x="2104" y="2803"/>
                  </a:lnTo>
                  <a:lnTo>
                    <a:pt x="2104" y="2812"/>
                  </a:lnTo>
                  <a:lnTo>
                    <a:pt x="2104" y="2821"/>
                  </a:lnTo>
                  <a:lnTo>
                    <a:pt x="2104" y="2829"/>
                  </a:lnTo>
                  <a:lnTo>
                    <a:pt x="2104" y="2838"/>
                  </a:lnTo>
                  <a:lnTo>
                    <a:pt x="2096" y="2841"/>
                  </a:lnTo>
                  <a:lnTo>
                    <a:pt x="2087" y="2841"/>
                  </a:lnTo>
                  <a:lnTo>
                    <a:pt x="2078" y="2841"/>
                  </a:lnTo>
                  <a:lnTo>
                    <a:pt x="2069" y="2841"/>
                  </a:lnTo>
                  <a:lnTo>
                    <a:pt x="2061" y="2841"/>
                  </a:lnTo>
                  <a:lnTo>
                    <a:pt x="2069" y="2841"/>
                  </a:lnTo>
                  <a:lnTo>
                    <a:pt x="2078" y="2835"/>
                  </a:lnTo>
                  <a:lnTo>
                    <a:pt x="2090" y="2835"/>
                  </a:lnTo>
                  <a:lnTo>
                    <a:pt x="2081" y="2832"/>
                  </a:lnTo>
                  <a:lnTo>
                    <a:pt x="2072" y="2832"/>
                  </a:lnTo>
                  <a:lnTo>
                    <a:pt x="2064" y="2832"/>
                  </a:lnTo>
                  <a:lnTo>
                    <a:pt x="2058" y="2841"/>
                  </a:lnTo>
                  <a:lnTo>
                    <a:pt x="2049" y="2844"/>
                  </a:lnTo>
                  <a:lnTo>
                    <a:pt x="2040" y="2847"/>
                  </a:lnTo>
                  <a:lnTo>
                    <a:pt x="2040" y="2855"/>
                  </a:lnTo>
                  <a:lnTo>
                    <a:pt x="2040" y="2864"/>
                  </a:lnTo>
                  <a:lnTo>
                    <a:pt x="2032" y="2870"/>
                  </a:lnTo>
                  <a:lnTo>
                    <a:pt x="2020" y="2870"/>
                  </a:lnTo>
                  <a:lnTo>
                    <a:pt x="2017" y="2861"/>
                  </a:lnTo>
                  <a:lnTo>
                    <a:pt x="2008" y="2858"/>
                  </a:lnTo>
                  <a:lnTo>
                    <a:pt x="2002" y="2867"/>
                  </a:lnTo>
                  <a:lnTo>
                    <a:pt x="2002" y="2876"/>
                  </a:lnTo>
                  <a:lnTo>
                    <a:pt x="2011" y="2878"/>
                  </a:lnTo>
                  <a:lnTo>
                    <a:pt x="2020" y="2884"/>
                  </a:lnTo>
                  <a:lnTo>
                    <a:pt x="2029" y="2896"/>
                  </a:lnTo>
                  <a:lnTo>
                    <a:pt x="2034" y="2907"/>
                  </a:lnTo>
                  <a:lnTo>
                    <a:pt x="2037" y="2916"/>
                  </a:lnTo>
                  <a:lnTo>
                    <a:pt x="2037" y="2925"/>
                  </a:lnTo>
                  <a:lnTo>
                    <a:pt x="2040" y="2933"/>
                  </a:lnTo>
                  <a:lnTo>
                    <a:pt x="2040" y="2942"/>
                  </a:lnTo>
                  <a:lnTo>
                    <a:pt x="2052" y="2945"/>
                  </a:lnTo>
                  <a:lnTo>
                    <a:pt x="2061" y="2953"/>
                  </a:lnTo>
                  <a:lnTo>
                    <a:pt x="2069" y="2959"/>
                  </a:lnTo>
                  <a:lnTo>
                    <a:pt x="2078" y="2965"/>
                  </a:lnTo>
                  <a:lnTo>
                    <a:pt x="2087" y="2965"/>
                  </a:lnTo>
                  <a:lnTo>
                    <a:pt x="2093" y="2976"/>
                  </a:lnTo>
                  <a:lnTo>
                    <a:pt x="2087" y="2985"/>
                  </a:lnTo>
                  <a:lnTo>
                    <a:pt x="2084" y="2994"/>
                  </a:lnTo>
                  <a:lnTo>
                    <a:pt x="2084" y="3005"/>
                  </a:lnTo>
                  <a:lnTo>
                    <a:pt x="2090" y="3017"/>
                  </a:lnTo>
                  <a:lnTo>
                    <a:pt x="2090" y="3025"/>
                  </a:lnTo>
                  <a:lnTo>
                    <a:pt x="2093" y="3017"/>
                  </a:lnTo>
                  <a:lnTo>
                    <a:pt x="2093" y="3008"/>
                  </a:lnTo>
                  <a:lnTo>
                    <a:pt x="2096" y="2999"/>
                  </a:lnTo>
                  <a:lnTo>
                    <a:pt x="2096" y="2991"/>
                  </a:lnTo>
                  <a:lnTo>
                    <a:pt x="2104" y="2988"/>
                  </a:lnTo>
                  <a:lnTo>
                    <a:pt x="2113" y="2988"/>
                  </a:lnTo>
                  <a:lnTo>
                    <a:pt x="2125" y="2988"/>
                  </a:lnTo>
                  <a:lnTo>
                    <a:pt x="2130" y="2999"/>
                  </a:lnTo>
                  <a:lnTo>
                    <a:pt x="2130" y="3008"/>
                  </a:lnTo>
                  <a:lnTo>
                    <a:pt x="2133" y="3017"/>
                  </a:lnTo>
                  <a:lnTo>
                    <a:pt x="2139" y="3028"/>
                  </a:lnTo>
                  <a:lnTo>
                    <a:pt x="2148" y="3034"/>
                  </a:lnTo>
                  <a:lnTo>
                    <a:pt x="2160" y="3040"/>
                  </a:lnTo>
                  <a:lnTo>
                    <a:pt x="2151" y="3043"/>
                  </a:lnTo>
                  <a:lnTo>
                    <a:pt x="2148" y="3051"/>
                  </a:lnTo>
                  <a:lnTo>
                    <a:pt x="2133" y="3054"/>
                  </a:lnTo>
                  <a:lnTo>
                    <a:pt x="2125" y="3051"/>
                  </a:lnTo>
                  <a:lnTo>
                    <a:pt x="2116" y="3051"/>
                  </a:lnTo>
                  <a:lnTo>
                    <a:pt x="2101" y="3046"/>
                  </a:lnTo>
                  <a:lnTo>
                    <a:pt x="2093" y="3037"/>
                  </a:lnTo>
                  <a:lnTo>
                    <a:pt x="2090" y="3046"/>
                  </a:lnTo>
                  <a:lnTo>
                    <a:pt x="2090" y="3054"/>
                  </a:lnTo>
                  <a:lnTo>
                    <a:pt x="2090" y="3063"/>
                  </a:lnTo>
                  <a:lnTo>
                    <a:pt x="2090" y="3071"/>
                  </a:lnTo>
                  <a:lnTo>
                    <a:pt x="2087" y="3080"/>
                  </a:lnTo>
                  <a:lnTo>
                    <a:pt x="2084" y="3089"/>
                  </a:lnTo>
                  <a:lnTo>
                    <a:pt x="2084" y="3097"/>
                  </a:lnTo>
                  <a:lnTo>
                    <a:pt x="2096" y="3097"/>
                  </a:lnTo>
                  <a:lnTo>
                    <a:pt x="2104" y="3092"/>
                  </a:lnTo>
                  <a:lnTo>
                    <a:pt x="2110" y="3100"/>
                  </a:lnTo>
                  <a:lnTo>
                    <a:pt x="2107" y="3109"/>
                  </a:lnTo>
                  <a:lnTo>
                    <a:pt x="2098" y="3118"/>
                  </a:lnTo>
                  <a:lnTo>
                    <a:pt x="2090" y="3123"/>
                  </a:lnTo>
                  <a:lnTo>
                    <a:pt x="2087" y="3109"/>
                  </a:lnTo>
                  <a:lnTo>
                    <a:pt x="2087" y="3132"/>
                  </a:lnTo>
                  <a:lnTo>
                    <a:pt x="2096" y="3126"/>
                  </a:lnTo>
                  <a:lnTo>
                    <a:pt x="2087" y="3109"/>
                  </a:lnTo>
                  <a:lnTo>
                    <a:pt x="2104" y="3112"/>
                  </a:lnTo>
                  <a:lnTo>
                    <a:pt x="2110" y="3103"/>
                  </a:lnTo>
                  <a:lnTo>
                    <a:pt x="2110" y="3112"/>
                  </a:lnTo>
                  <a:lnTo>
                    <a:pt x="2110" y="3120"/>
                  </a:lnTo>
                  <a:lnTo>
                    <a:pt x="2116" y="3129"/>
                  </a:lnTo>
                  <a:lnTo>
                    <a:pt x="2119" y="3138"/>
                  </a:lnTo>
                  <a:lnTo>
                    <a:pt x="2122" y="3149"/>
                  </a:lnTo>
                  <a:lnTo>
                    <a:pt x="2122" y="3158"/>
                  </a:lnTo>
                  <a:lnTo>
                    <a:pt x="2125" y="3167"/>
                  </a:lnTo>
                  <a:lnTo>
                    <a:pt x="2125" y="3175"/>
                  </a:lnTo>
                  <a:lnTo>
                    <a:pt x="2125" y="3184"/>
                  </a:lnTo>
                  <a:lnTo>
                    <a:pt x="2125" y="3193"/>
                  </a:lnTo>
                  <a:lnTo>
                    <a:pt x="2128" y="3201"/>
                  </a:lnTo>
                  <a:lnTo>
                    <a:pt x="2130" y="3210"/>
                  </a:lnTo>
                  <a:lnTo>
                    <a:pt x="2139" y="3210"/>
                  </a:lnTo>
                  <a:lnTo>
                    <a:pt x="2148" y="3210"/>
                  </a:lnTo>
                  <a:lnTo>
                    <a:pt x="2157" y="3207"/>
                  </a:lnTo>
                  <a:lnTo>
                    <a:pt x="2163" y="3198"/>
                  </a:lnTo>
                  <a:lnTo>
                    <a:pt x="2171" y="3195"/>
                  </a:lnTo>
                  <a:lnTo>
                    <a:pt x="2183" y="3193"/>
                  </a:lnTo>
                  <a:lnTo>
                    <a:pt x="2192" y="3190"/>
                  </a:lnTo>
                  <a:lnTo>
                    <a:pt x="2200" y="3184"/>
                  </a:lnTo>
                  <a:lnTo>
                    <a:pt x="2209" y="3181"/>
                  </a:lnTo>
                  <a:lnTo>
                    <a:pt x="2218" y="3181"/>
                  </a:lnTo>
                  <a:lnTo>
                    <a:pt x="2224" y="3172"/>
                  </a:lnTo>
                  <a:lnTo>
                    <a:pt x="2232" y="3169"/>
                  </a:lnTo>
                  <a:lnTo>
                    <a:pt x="2241" y="3169"/>
                  </a:lnTo>
                  <a:lnTo>
                    <a:pt x="2256" y="3169"/>
                  </a:lnTo>
                  <a:lnTo>
                    <a:pt x="2264" y="3169"/>
                  </a:lnTo>
                  <a:lnTo>
                    <a:pt x="2276" y="3178"/>
                  </a:lnTo>
                  <a:lnTo>
                    <a:pt x="2288" y="3184"/>
                  </a:lnTo>
                  <a:lnTo>
                    <a:pt x="2296" y="3187"/>
                  </a:lnTo>
                  <a:lnTo>
                    <a:pt x="2308" y="3190"/>
                  </a:lnTo>
                  <a:lnTo>
                    <a:pt x="2317" y="3195"/>
                  </a:lnTo>
                  <a:lnTo>
                    <a:pt x="2328" y="3198"/>
                  </a:lnTo>
                  <a:lnTo>
                    <a:pt x="2340" y="3201"/>
                  </a:lnTo>
                  <a:lnTo>
                    <a:pt x="2349" y="3207"/>
                  </a:lnTo>
                  <a:lnTo>
                    <a:pt x="2358" y="3216"/>
                  </a:lnTo>
                  <a:lnTo>
                    <a:pt x="2366" y="3221"/>
                  </a:lnTo>
                  <a:lnTo>
                    <a:pt x="2375" y="3227"/>
                  </a:lnTo>
                  <a:lnTo>
                    <a:pt x="2387" y="3230"/>
                  </a:lnTo>
                  <a:lnTo>
                    <a:pt x="2395" y="3230"/>
                  </a:lnTo>
                  <a:lnTo>
                    <a:pt x="2404" y="3230"/>
                  </a:lnTo>
                  <a:lnTo>
                    <a:pt x="2407" y="3239"/>
                  </a:lnTo>
                  <a:lnTo>
                    <a:pt x="2407" y="3247"/>
                  </a:lnTo>
                  <a:lnTo>
                    <a:pt x="2413" y="3256"/>
                  </a:lnTo>
                  <a:lnTo>
                    <a:pt x="2422" y="3262"/>
                  </a:lnTo>
                  <a:lnTo>
                    <a:pt x="2436" y="3265"/>
                  </a:lnTo>
                  <a:lnTo>
                    <a:pt x="2451" y="3270"/>
                  </a:lnTo>
                  <a:lnTo>
                    <a:pt x="2457" y="3279"/>
                  </a:lnTo>
                  <a:lnTo>
                    <a:pt x="2457" y="3288"/>
                  </a:lnTo>
                  <a:lnTo>
                    <a:pt x="2468" y="3291"/>
                  </a:lnTo>
                  <a:lnTo>
                    <a:pt x="2483" y="3288"/>
                  </a:lnTo>
                  <a:lnTo>
                    <a:pt x="2491" y="3285"/>
                  </a:lnTo>
                  <a:lnTo>
                    <a:pt x="2500" y="3276"/>
                  </a:lnTo>
                  <a:lnTo>
                    <a:pt x="2509" y="3270"/>
                  </a:lnTo>
                  <a:lnTo>
                    <a:pt x="2515" y="3262"/>
                  </a:lnTo>
                  <a:lnTo>
                    <a:pt x="2521" y="3253"/>
                  </a:lnTo>
                  <a:lnTo>
                    <a:pt x="2526" y="3244"/>
                  </a:lnTo>
                  <a:lnTo>
                    <a:pt x="2532" y="3236"/>
                  </a:lnTo>
                  <a:lnTo>
                    <a:pt x="2535" y="3227"/>
                  </a:lnTo>
                  <a:lnTo>
                    <a:pt x="2541" y="3218"/>
                  </a:lnTo>
                  <a:lnTo>
                    <a:pt x="2544" y="3210"/>
                  </a:lnTo>
                  <a:lnTo>
                    <a:pt x="2544" y="3198"/>
                  </a:lnTo>
                  <a:lnTo>
                    <a:pt x="2544" y="3190"/>
                  </a:lnTo>
                  <a:lnTo>
                    <a:pt x="2553" y="3181"/>
                  </a:lnTo>
                  <a:lnTo>
                    <a:pt x="2567" y="3181"/>
                  </a:lnTo>
                  <a:lnTo>
                    <a:pt x="2599" y="3155"/>
                  </a:lnTo>
                  <a:lnTo>
                    <a:pt x="2599" y="3164"/>
                  </a:lnTo>
                  <a:lnTo>
                    <a:pt x="2608" y="3169"/>
                  </a:lnTo>
                  <a:lnTo>
                    <a:pt x="2617" y="3178"/>
                  </a:lnTo>
                  <a:lnTo>
                    <a:pt x="2625" y="3181"/>
                  </a:lnTo>
                  <a:lnTo>
                    <a:pt x="2634" y="3178"/>
                  </a:lnTo>
                  <a:lnTo>
                    <a:pt x="2643" y="3172"/>
                  </a:lnTo>
                  <a:lnTo>
                    <a:pt x="2657" y="3169"/>
                  </a:lnTo>
                  <a:lnTo>
                    <a:pt x="2666" y="3169"/>
                  </a:lnTo>
                  <a:lnTo>
                    <a:pt x="2675" y="3169"/>
                  </a:lnTo>
                  <a:lnTo>
                    <a:pt x="2684" y="3164"/>
                  </a:lnTo>
                  <a:lnTo>
                    <a:pt x="2692" y="3155"/>
                  </a:lnTo>
                  <a:lnTo>
                    <a:pt x="2739" y="3155"/>
                  </a:lnTo>
                  <a:lnTo>
                    <a:pt x="2733" y="3138"/>
                  </a:lnTo>
                  <a:lnTo>
                    <a:pt x="2733" y="3126"/>
                  </a:lnTo>
                  <a:lnTo>
                    <a:pt x="2730" y="3118"/>
                  </a:lnTo>
                  <a:lnTo>
                    <a:pt x="2739" y="3112"/>
                  </a:lnTo>
                  <a:lnTo>
                    <a:pt x="2748" y="3106"/>
                  </a:lnTo>
                  <a:lnTo>
                    <a:pt x="2753" y="3097"/>
                  </a:lnTo>
                  <a:lnTo>
                    <a:pt x="2762" y="3092"/>
                  </a:lnTo>
                  <a:lnTo>
                    <a:pt x="2771" y="3092"/>
                  </a:lnTo>
                  <a:lnTo>
                    <a:pt x="2780" y="3095"/>
                  </a:lnTo>
                  <a:lnTo>
                    <a:pt x="2783" y="3103"/>
                  </a:lnTo>
                  <a:lnTo>
                    <a:pt x="2786" y="3112"/>
                  </a:lnTo>
                  <a:lnTo>
                    <a:pt x="2786" y="3126"/>
                  </a:lnTo>
                  <a:lnTo>
                    <a:pt x="2788" y="3135"/>
                  </a:lnTo>
                  <a:lnTo>
                    <a:pt x="2791" y="3144"/>
                  </a:lnTo>
                  <a:lnTo>
                    <a:pt x="2794" y="3152"/>
                  </a:lnTo>
                  <a:lnTo>
                    <a:pt x="2800" y="3161"/>
                  </a:lnTo>
                  <a:lnTo>
                    <a:pt x="2809" y="3167"/>
                  </a:lnTo>
                  <a:lnTo>
                    <a:pt x="2818" y="3167"/>
                  </a:lnTo>
                  <a:lnTo>
                    <a:pt x="2826" y="3167"/>
                  </a:lnTo>
                  <a:lnTo>
                    <a:pt x="2832" y="3158"/>
                  </a:lnTo>
                  <a:lnTo>
                    <a:pt x="2841" y="3152"/>
                  </a:lnTo>
                  <a:lnTo>
                    <a:pt x="2844" y="3144"/>
                  </a:lnTo>
                  <a:lnTo>
                    <a:pt x="2847" y="3135"/>
                  </a:lnTo>
                  <a:lnTo>
                    <a:pt x="2850" y="3123"/>
                  </a:lnTo>
                  <a:lnTo>
                    <a:pt x="2858" y="3115"/>
                  </a:lnTo>
                  <a:lnTo>
                    <a:pt x="2870" y="3115"/>
                  </a:lnTo>
                  <a:lnTo>
                    <a:pt x="2879" y="3115"/>
                  </a:lnTo>
                  <a:lnTo>
                    <a:pt x="2887" y="3115"/>
                  </a:lnTo>
                  <a:lnTo>
                    <a:pt x="2896" y="3115"/>
                  </a:lnTo>
                  <a:lnTo>
                    <a:pt x="2902" y="3106"/>
                  </a:lnTo>
                  <a:lnTo>
                    <a:pt x="2914" y="3103"/>
                  </a:lnTo>
                  <a:lnTo>
                    <a:pt x="2922" y="3103"/>
                  </a:lnTo>
                  <a:lnTo>
                    <a:pt x="2925" y="3095"/>
                  </a:lnTo>
                  <a:lnTo>
                    <a:pt x="2925" y="3086"/>
                  </a:lnTo>
                  <a:lnTo>
                    <a:pt x="2922" y="3077"/>
                  </a:lnTo>
                  <a:lnTo>
                    <a:pt x="2917" y="3066"/>
                  </a:lnTo>
                  <a:lnTo>
                    <a:pt x="2911" y="3057"/>
                  </a:lnTo>
                  <a:lnTo>
                    <a:pt x="2905" y="3048"/>
                  </a:lnTo>
                  <a:lnTo>
                    <a:pt x="2896" y="3046"/>
                  </a:lnTo>
                  <a:lnTo>
                    <a:pt x="2887" y="3048"/>
                  </a:lnTo>
                  <a:lnTo>
                    <a:pt x="2879" y="3051"/>
                  </a:lnTo>
                  <a:lnTo>
                    <a:pt x="2876" y="3060"/>
                  </a:lnTo>
                  <a:lnTo>
                    <a:pt x="2873" y="3069"/>
                  </a:lnTo>
                  <a:lnTo>
                    <a:pt x="2864" y="3066"/>
                  </a:lnTo>
                  <a:lnTo>
                    <a:pt x="2861" y="3054"/>
                  </a:lnTo>
                  <a:lnTo>
                    <a:pt x="2858" y="3043"/>
                  </a:lnTo>
                  <a:lnTo>
                    <a:pt x="2858" y="3034"/>
                  </a:lnTo>
                  <a:lnTo>
                    <a:pt x="2855" y="3025"/>
                  </a:lnTo>
                  <a:lnTo>
                    <a:pt x="2850" y="3017"/>
                  </a:lnTo>
                  <a:lnTo>
                    <a:pt x="2850" y="3008"/>
                  </a:lnTo>
                  <a:lnTo>
                    <a:pt x="2850" y="2997"/>
                  </a:lnTo>
                  <a:lnTo>
                    <a:pt x="2850" y="2988"/>
                  </a:lnTo>
                  <a:lnTo>
                    <a:pt x="2858" y="2982"/>
                  </a:lnTo>
                  <a:lnTo>
                    <a:pt x="2867" y="2982"/>
                  </a:lnTo>
                  <a:lnTo>
                    <a:pt x="2876" y="2979"/>
                  </a:lnTo>
                  <a:lnTo>
                    <a:pt x="2884" y="2974"/>
                  </a:lnTo>
                  <a:lnTo>
                    <a:pt x="2887" y="2962"/>
                  </a:lnTo>
                  <a:lnTo>
                    <a:pt x="2896" y="2962"/>
                  </a:lnTo>
                  <a:lnTo>
                    <a:pt x="2905" y="2962"/>
                  </a:lnTo>
                  <a:lnTo>
                    <a:pt x="2914" y="2962"/>
                  </a:lnTo>
                  <a:lnTo>
                    <a:pt x="2922" y="2959"/>
                  </a:lnTo>
                  <a:lnTo>
                    <a:pt x="2931" y="2956"/>
                  </a:lnTo>
                  <a:lnTo>
                    <a:pt x="2937" y="2948"/>
                  </a:lnTo>
                  <a:lnTo>
                    <a:pt x="2943" y="2939"/>
                  </a:lnTo>
                  <a:lnTo>
                    <a:pt x="2946" y="2930"/>
                  </a:lnTo>
                  <a:lnTo>
                    <a:pt x="2954" y="2925"/>
                  </a:lnTo>
                  <a:lnTo>
                    <a:pt x="2963" y="2919"/>
                  </a:lnTo>
                  <a:lnTo>
                    <a:pt x="2972" y="2916"/>
                  </a:lnTo>
                  <a:lnTo>
                    <a:pt x="2981" y="2913"/>
                  </a:lnTo>
                  <a:lnTo>
                    <a:pt x="2983" y="2904"/>
                  </a:lnTo>
                  <a:lnTo>
                    <a:pt x="2989" y="2893"/>
                  </a:lnTo>
                  <a:lnTo>
                    <a:pt x="2998" y="2881"/>
                  </a:lnTo>
                  <a:lnTo>
                    <a:pt x="3004" y="2873"/>
                  </a:lnTo>
                  <a:lnTo>
                    <a:pt x="3010" y="2864"/>
                  </a:lnTo>
                  <a:lnTo>
                    <a:pt x="3018" y="2858"/>
                  </a:lnTo>
                  <a:lnTo>
                    <a:pt x="3027" y="2852"/>
                  </a:lnTo>
                  <a:lnTo>
                    <a:pt x="3036" y="2847"/>
                  </a:lnTo>
                  <a:lnTo>
                    <a:pt x="3045" y="2847"/>
                  </a:lnTo>
                  <a:lnTo>
                    <a:pt x="3053" y="2844"/>
                  </a:lnTo>
                  <a:lnTo>
                    <a:pt x="3053" y="2835"/>
                  </a:lnTo>
                  <a:lnTo>
                    <a:pt x="3053" y="2827"/>
                  </a:lnTo>
                  <a:lnTo>
                    <a:pt x="3053" y="2818"/>
                  </a:lnTo>
                  <a:lnTo>
                    <a:pt x="3053" y="2809"/>
                  </a:lnTo>
                  <a:lnTo>
                    <a:pt x="3050" y="2801"/>
                  </a:lnTo>
                  <a:lnTo>
                    <a:pt x="3045" y="2789"/>
                  </a:lnTo>
                  <a:lnTo>
                    <a:pt x="3045" y="2780"/>
                  </a:lnTo>
                  <a:lnTo>
                    <a:pt x="3045" y="2772"/>
                  </a:lnTo>
                  <a:lnTo>
                    <a:pt x="3045" y="2763"/>
                  </a:lnTo>
                  <a:lnTo>
                    <a:pt x="3036" y="2754"/>
                  </a:lnTo>
                  <a:lnTo>
                    <a:pt x="3027" y="2743"/>
                  </a:lnTo>
                  <a:lnTo>
                    <a:pt x="3024" y="2734"/>
                  </a:lnTo>
                  <a:lnTo>
                    <a:pt x="3021" y="2726"/>
                  </a:lnTo>
                  <a:lnTo>
                    <a:pt x="3018" y="2717"/>
                  </a:lnTo>
                  <a:lnTo>
                    <a:pt x="3010" y="2708"/>
                  </a:lnTo>
                  <a:lnTo>
                    <a:pt x="3001" y="2705"/>
                  </a:lnTo>
                  <a:lnTo>
                    <a:pt x="3001" y="2697"/>
                  </a:lnTo>
                  <a:lnTo>
                    <a:pt x="3010" y="2694"/>
                  </a:lnTo>
                  <a:lnTo>
                    <a:pt x="3018" y="2688"/>
                  </a:lnTo>
                  <a:lnTo>
                    <a:pt x="3027" y="2682"/>
                  </a:lnTo>
                  <a:lnTo>
                    <a:pt x="3030" y="2674"/>
                  </a:lnTo>
                  <a:lnTo>
                    <a:pt x="3039" y="2665"/>
                  </a:lnTo>
                  <a:lnTo>
                    <a:pt x="3045" y="2657"/>
                  </a:lnTo>
                  <a:lnTo>
                    <a:pt x="3056" y="2659"/>
                  </a:lnTo>
                  <a:lnTo>
                    <a:pt x="3065" y="2665"/>
                  </a:lnTo>
                  <a:lnTo>
                    <a:pt x="3074" y="2665"/>
                  </a:lnTo>
                  <a:lnTo>
                    <a:pt x="3077" y="2657"/>
                  </a:lnTo>
                  <a:lnTo>
                    <a:pt x="3077" y="2645"/>
                  </a:lnTo>
                  <a:lnTo>
                    <a:pt x="3077" y="2636"/>
                  </a:lnTo>
                  <a:lnTo>
                    <a:pt x="3077" y="2628"/>
                  </a:lnTo>
                  <a:lnTo>
                    <a:pt x="3071" y="2619"/>
                  </a:lnTo>
                  <a:lnTo>
                    <a:pt x="3062" y="2613"/>
                  </a:lnTo>
                  <a:lnTo>
                    <a:pt x="3056" y="2605"/>
                  </a:lnTo>
                  <a:lnTo>
                    <a:pt x="3056" y="2596"/>
                  </a:lnTo>
                  <a:lnTo>
                    <a:pt x="3053" y="2582"/>
                  </a:lnTo>
                  <a:lnTo>
                    <a:pt x="3053" y="2573"/>
                  </a:lnTo>
                  <a:lnTo>
                    <a:pt x="3062" y="2567"/>
                  </a:lnTo>
                  <a:lnTo>
                    <a:pt x="3071" y="2567"/>
                  </a:lnTo>
                  <a:lnTo>
                    <a:pt x="3080" y="2564"/>
                  </a:lnTo>
                  <a:lnTo>
                    <a:pt x="3088" y="2564"/>
                  </a:lnTo>
                  <a:lnTo>
                    <a:pt x="3097" y="2561"/>
                  </a:lnTo>
                  <a:lnTo>
                    <a:pt x="3109" y="2556"/>
                  </a:lnTo>
                  <a:lnTo>
                    <a:pt x="3117" y="2547"/>
                  </a:lnTo>
                  <a:lnTo>
                    <a:pt x="3120" y="2538"/>
                  </a:lnTo>
                  <a:lnTo>
                    <a:pt x="3120" y="2530"/>
                  </a:lnTo>
                  <a:lnTo>
                    <a:pt x="3120" y="2521"/>
                  </a:lnTo>
                  <a:lnTo>
                    <a:pt x="3120" y="2512"/>
                  </a:lnTo>
                  <a:lnTo>
                    <a:pt x="3114" y="2501"/>
                  </a:lnTo>
                  <a:lnTo>
                    <a:pt x="3112" y="2489"/>
                  </a:lnTo>
                  <a:lnTo>
                    <a:pt x="3112" y="2481"/>
                  </a:lnTo>
                  <a:lnTo>
                    <a:pt x="3112" y="2472"/>
                  </a:lnTo>
                  <a:lnTo>
                    <a:pt x="3120" y="2463"/>
                  </a:lnTo>
                  <a:lnTo>
                    <a:pt x="3129" y="2461"/>
                  </a:lnTo>
                  <a:lnTo>
                    <a:pt x="3135" y="2452"/>
                  </a:lnTo>
                  <a:lnTo>
                    <a:pt x="3135" y="2443"/>
                  </a:lnTo>
                  <a:lnTo>
                    <a:pt x="3135" y="2435"/>
                  </a:lnTo>
                  <a:lnTo>
                    <a:pt x="3144" y="2429"/>
                  </a:lnTo>
                  <a:lnTo>
                    <a:pt x="3152" y="2420"/>
                  </a:lnTo>
                  <a:lnTo>
                    <a:pt x="3155" y="2412"/>
                  </a:lnTo>
                  <a:lnTo>
                    <a:pt x="3158" y="2403"/>
                  </a:lnTo>
                  <a:lnTo>
                    <a:pt x="3167" y="2394"/>
                  </a:lnTo>
                  <a:lnTo>
                    <a:pt x="3176" y="2386"/>
                  </a:lnTo>
                  <a:lnTo>
                    <a:pt x="3184" y="2380"/>
                  </a:lnTo>
                  <a:lnTo>
                    <a:pt x="3184" y="2371"/>
                  </a:lnTo>
                  <a:lnTo>
                    <a:pt x="3187" y="2363"/>
                  </a:lnTo>
                  <a:lnTo>
                    <a:pt x="3193" y="2354"/>
                  </a:lnTo>
                  <a:lnTo>
                    <a:pt x="3202" y="2348"/>
                  </a:lnTo>
                  <a:lnTo>
                    <a:pt x="3208" y="2340"/>
                  </a:lnTo>
                  <a:lnTo>
                    <a:pt x="3213" y="2331"/>
                  </a:lnTo>
                  <a:lnTo>
                    <a:pt x="3216" y="2322"/>
                  </a:lnTo>
                  <a:lnTo>
                    <a:pt x="3219" y="2314"/>
                  </a:lnTo>
                  <a:lnTo>
                    <a:pt x="3222" y="2305"/>
                  </a:lnTo>
                  <a:lnTo>
                    <a:pt x="3228" y="2296"/>
                  </a:lnTo>
                  <a:lnTo>
                    <a:pt x="3237" y="2291"/>
                  </a:lnTo>
                  <a:lnTo>
                    <a:pt x="3245" y="2291"/>
                  </a:lnTo>
                  <a:lnTo>
                    <a:pt x="3254" y="2285"/>
                  </a:lnTo>
                  <a:lnTo>
                    <a:pt x="3263" y="2282"/>
                  </a:lnTo>
                  <a:lnTo>
                    <a:pt x="3272" y="2279"/>
                  </a:lnTo>
                  <a:lnTo>
                    <a:pt x="3280" y="2279"/>
                  </a:lnTo>
                  <a:lnTo>
                    <a:pt x="3289" y="2276"/>
                  </a:lnTo>
                  <a:lnTo>
                    <a:pt x="3298" y="2273"/>
                  </a:lnTo>
                  <a:lnTo>
                    <a:pt x="3307" y="2273"/>
                  </a:lnTo>
                  <a:lnTo>
                    <a:pt x="3318" y="2276"/>
                  </a:lnTo>
                  <a:lnTo>
                    <a:pt x="3327" y="2276"/>
                  </a:lnTo>
                  <a:lnTo>
                    <a:pt x="3336" y="2276"/>
                  </a:lnTo>
                  <a:lnTo>
                    <a:pt x="3344" y="2276"/>
                  </a:lnTo>
                  <a:lnTo>
                    <a:pt x="3344" y="2279"/>
                  </a:lnTo>
                  <a:lnTo>
                    <a:pt x="3356" y="2265"/>
                  </a:lnTo>
                  <a:lnTo>
                    <a:pt x="3365" y="2265"/>
                  </a:lnTo>
                  <a:lnTo>
                    <a:pt x="3374" y="2259"/>
                  </a:lnTo>
                  <a:lnTo>
                    <a:pt x="3382" y="2253"/>
                  </a:lnTo>
                  <a:lnTo>
                    <a:pt x="3385" y="2244"/>
                  </a:lnTo>
                  <a:lnTo>
                    <a:pt x="3391" y="2233"/>
                  </a:lnTo>
                  <a:lnTo>
                    <a:pt x="3400" y="2224"/>
                  </a:lnTo>
                  <a:lnTo>
                    <a:pt x="3397" y="2216"/>
                  </a:lnTo>
                  <a:lnTo>
                    <a:pt x="3391" y="2207"/>
                  </a:lnTo>
                  <a:lnTo>
                    <a:pt x="3382" y="2201"/>
                  </a:lnTo>
                  <a:lnTo>
                    <a:pt x="3376" y="2193"/>
                  </a:lnTo>
                  <a:lnTo>
                    <a:pt x="3368" y="2184"/>
                  </a:lnTo>
                  <a:lnTo>
                    <a:pt x="3362" y="2172"/>
                  </a:lnTo>
                  <a:lnTo>
                    <a:pt x="3356" y="2164"/>
                  </a:lnTo>
                  <a:lnTo>
                    <a:pt x="3356" y="2155"/>
                  </a:lnTo>
                  <a:lnTo>
                    <a:pt x="3356" y="2146"/>
                  </a:lnTo>
                  <a:lnTo>
                    <a:pt x="3368" y="2141"/>
                  </a:lnTo>
                  <a:lnTo>
                    <a:pt x="3376" y="2138"/>
                  </a:lnTo>
                  <a:lnTo>
                    <a:pt x="3385" y="2135"/>
                  </a:lnTo>
                  <a:lnTo>
                    <a:pt x="3394" y="2126"/>
                  </a:lnTo>
                  <a:lnTo>
                    <a:pt x="3400" y="2118"/>
                  </a:lnTo>
                  <a:lnTo>
                    <a:pt x="3406" y="2109"/>
                  </a:lnTo>
                  <a:lnTo>
                    <a:pt x="3414" y="2106"/>
                  </a:lnTo>
                  <a:lnTo>
                    <a:pt x="3426" y="2106"/>
                  </a:lnTo>
                  <a:lnTo>
                    <a:pt x="3435" y="2106"/>
                  </a:lnTo>
                  <a:lnTo>
                    <a:pt x="3443" y="2106"/>
                  </a:lnTo>
                  <a:lnTo>
                    <a:pt x="3452" y="2103"/>
                  </a:lnTo>
                  <a:lnTo>
                    <a:pt x="3461" y="2103"/>
                  </a:lnTo>
                  <a:lnTo>
                    <a:pt x="3470" y="2103"/>
                  </a:lnTo>
                  <a:lnTo>
                    <a:pt x="3478" y="2112"/>
                  </a:lnTo>
                  <a:lnTo>
                    <a:pt x="3484" y="2120"/>
                  </a:lnTo>
                  <a:lnTo>
                    <a:pt x="3493" y="2126"/>
                  </a:lnTo>
                  <a:lnTo>
                    <a:pt x="3502" y="2129"/>
                  </a:lnTo>
                  <a:lnTo>
                    <a:pt x="3510" y="2129"/>
                  </a:lnTo>
                  <a:lnTo>
                    <a:pt x="3519" y="2129"/>
                  </a:lnTo>
                  <a:lnTo>
                    <a:pt x="3528" y="2126"/>
                  </a:lnTo>
                  <a:lnTo>
                    <a:pt x="3537" y="2118"/>
                  </a:lnTo>
                  <a:lnTo>
                    <a:pt x="3542" y="2109"/>
                  </a:lnTo>
                  <a:lnTo>
                    <a:pt x="3548" y="2100"/>
                  </a:lnTo>
                  <a:lnTo>
                    <a:pt x="3551" y="2089"/>
                  </a:lnTo>
                  <a:lnTo>
                    <a:pt x="3554" y="2080"/>
                  </a:lnTo>
                  <a:lnTo>
                    <a:pt x="3563" y="2072"/>
                  </a:lnTo>
                  <a:lnTo>
                    <a:pt x="3572" y="2072"/>
                  </a:lnTo>
                  <a:lnTo>
                    <a:pt x="3583" y="2063"/>
                  </a:lnTo>
                  <a:lnTo>
                    <a:pt x="3589" y="2054"/>
                  </a:lnTo>
                  <a:lnTo>
                    <a:pt x="3595" y="2046"/>
                  </a:lnTo>
                  <a:lnTo>
                    <a:pt x="3604" y="2040"/>
                  </a:lnTo>
                  <a:lnTo>
                    <a:pt x="3612" y="2040"/>
                  </a:lnTo>
                  <a:lnTo>
                    <a:pt x="3621" y="2040"/>
                  </a:lnTo>
                  <a:lnTo>
                    <a:pt x="3630" y="2040"/>
                  </a:lnTo>
                  <a:lnTo>
                    <a:pt x="3638" y="2037"/>
                  </a:lnTo>
                  <a:lnTo>
                    <a:pt x="3647" y="2037"/>
                  </a:lnTo>
                  <a:lnTo>
                    <a:pt x="3656" y="2037"/>
                  </a:lnTo>
                  <a:lnTo>
                    <a:pt x="3665" y="2037"/>
                  </a:lnTo>
                  <a:lnTo>
                    <a:pt x="3673" y="2034"/>
                  </a:lnTo>
                  <a:lnTo>
                    <a:pt x="3682" y="2031"/>
                  </a:lnTo>
                  <a:lnTo>
                    <a:pt x="3691" y="2028"/>
                  </a:lnTo>
                  <a:lnTo>
                    <a:pt x="3700" y="2023"/>
                  </a:lnTo>
                  <a:lnTo>
                    <a:pt x="3705" y="2014"/>
                  </a:lnTo>
                  <a:lnTo>
                    <a:pt x="3714" y="2005"/>
                  </a:lnTo>
                  <a:lnTo>
                    <a:pt x="3723" y="1997"/>
                  </a:lnTo>
                  <a:lnTo>
                    <a:pt x="3726" y="1988"/>
                  </a:lnTo>
                  <a:lnTo>
                    <a:pt x="3735" y="1976"/>
                  </a:lnTo>
                  <a:lnTo>
                    <a:pt x="3740" y="1968"/>
                  </a:lnTo>
                  <a:lnTo>
                    <a:pt x="3746" y="1959"/>
                  </a:lnTo>
                  <a:lnTo>
                    <a:pt x="3749" y="1950"/>
                  </a:lnTo>
                  <a:lnTo>
                    <a:pt x="3755" y="1939"/>
                  </a:lnTo>
                  <a:lnTo>
                    <a:pt x="3761" y="1927"/>
                  </a:lnTo>
                  <a:lnTo>
                    <a:pt x="3767" y="1919"/>
                  </a:lnTo>
                  <a:lnTo>
                    <a:pt x="3767" y="1910"/>
                  </a:lnTo>
                  <a:lnTo>
                    <a:pt x="3758" y="1910"/>
                  </a:lnTo>
                  <a:lnTo>
                    <a:pt x="3758" y="1899"/>
                  </a:lnTo>
                  <a:lnTo>
                    <a:pt x="3758" y="1890"/>
                  </a:lnTo>
                  <a:lnTo>
                    <a:pt x="3767" y="1881"/>
                  </a:lnTo>
                  <a:lnTo>
                    <a:pt x="3775" y="1881"/>
                  </a:lnTo>
                  <a:lnTo>
                    <a:pt x="3781" y="1873"/>
                  </a:lnTo>
                  <a:lnTo>
                    <a:pt x="3784" y="1864"/>
                  </a:lnTo>
                  <a:lnTo>
                    <a:pt x="3787" y="1855"/>
                  </a:lnTo>
                  <a:lnTo>
                    <a:pt x="3796" y="1850"/>
                  </a:lnTo>
                  <a:lnTo>
                    <a:pt x="3804" y="1847"/>
                  </a:lnTo>
                  <a:lnTo>
                    <a:pt x="3813" y="1844"/>
                  </a:lnTo>
                  <a:lnTo>
                    <a:pt x="3822" y="1838"/>
                  </a:lnTo>
                  <a:lnTo>
                    <a:pt x="3831" y="1835"/>
                  </a:lnTo>
                  <a:lnTo>
                    <a:pt x="3839" y="1824"/>
                  </a:lnTo>
                  <a:lnTo>
                    <a:pt x="3845" y="1815"/>
                  </a:lnTo>
                  <a:lnTo>
                    <a:pt x="3851" y="1806"/>
                  </a:lnTo>
                  <a:lnTo>
                    <a:pt x="3857" y="1798"/>
                  </a:lnTo>
                  <a:lnTo>
                    <a:pt x="3860" y="1789"/>
                  </a:lnTo>
                  <a:lnTo>
                    <a:pt x="3863" y="1780"/>
                  </a:lnTo>
                  <a:lnTo>
                    <a:pt x="3857" y="1772"/>
                  </a:lnTo>
                  <a:lnTo>
                    <a:pt x="3851" y="1763"/>
                  </a:lnTo>
                  <a:lnTo>
                    <a:pt x="3842" y="1760"/>
                  </a:lnTo>
                  <a:lnTo>
                    <a:pt x="3834" y="1752"/>
                  </a:lnTo>
                  <a:lnTo>
                    <a:pt x="3831" y="1743"/>
                  </a:lnTo>
                  <a:lnTo>
                    <a:pt x="3828" y="1734"/>
                  </a:lnTo>
                  <a:lnTo>
                    <a:pt x="3825" y="1726"/>
                  </a:lnTo>
                  <a:lnTo>
                    <a:pt x="3822" y="1714"/>
                  </a:lnTo>
                  <a:lnTo>
                    <a:pt x="3819" y="1706"/>
                  </a:lnTo>
                  <a:lnTo>
                    <a:pt x="3816" y="1697"/>
                  </a:lnTo>
                  <a:lnTo>
                    <a:pt x="3813" y="1685"/>
                  </a:lnTo>
                  <a:lnTo>
                    <a:pt x="3810" y="1677"/>
                  </a:lnTo>
                  <a:lnTo>
                    <a:pt x="3807" y="1668"/>
                  </a:lnTo>
                  <a:lnTo>
                    <a:pt x="3804" y="1659"/>
                  </a:lnTo>
                  <a:lnTo>
                    <a:pt x="3796" y="1657"/>
                  </a:lnTo>
                  <a:lnTo>
                    <a:pt x="3787" y="1657"/>
                  </a:lnTo>
                  <a:lnTo>
                    <a:pt x="3775" y="1657"/>
                  </a:lnTo>
                  <a:lnTo>
                    <a:pt x="3767" y="1648"/>
                  </a:lnTo>
                  <a:lnTo>
                    <a:pt x="3767" y="1639"/>
                  </a:lnTo>
                  <a:lnTo>
                    <a:pt x="3767" y="1631"/>
                  </a:lnTo>
                  <a:lnTo>
                    <a:pt x="3767" y="1622"/>
                  </a:lnTo>
                  <a:lnTo>
                    <a:pt x="3767" y="1613"/>
                  </a:lnTo>
                  <a:lnTo>
                    <a:pt x="3770" y="1605"/>
                  </a:lnTo>
                  <a:lnTo>
                    <a:pt x="3770" y="1596"/>
                  </a:lnTo>
                  <a:lnTo>
                    <a:pt x="3772" y="1587"/>
                  </a:lnTo>
                  <a:lnTo>
                    <a:pt x="3810" y="1541"/>
                  </a:lnTo>
                  <a:lnTo>
                    <a:pt x="3793" y="1541"/>
                  </a:lnTo>
                  <a:lnTo>
                    <a:pt x="3799" y="1533"/>
                  </a:lnTo>
                  <a:lnTo>
                    <a:pt x="3807" y="1530"/>
                  </a:lnTo>
                  <a:lnTo>
                    <a:pt x="3816" y="1527"/>
                  </a:lnTo>
                  <a:lnTo>
                    <a:pt x="3828" y="1527"/>
                  </a:lnTo>
                  <a:lnTo>
                    <a:pt x="3839" y="1527"/>
                  </a:lnTo>
                  <a:lnTo>
                    <a:pt x="3851" y="1524"/>
                  </a:lnTo>
                  <a:lnTo>
                    <a:pt x="3863" y="1524"/>
                  </a:lnTo>
                  <a:lnTo>
                    <a:pt x="3874" y="1524"/>
                  </a:lnTo>
                  <a:lnTo>
                    <a:pt x="3883" y="1527"/>
                  </a:lnTo>
                  <a:lnTo>
                    <a:pt x="3892" y="1530"/>
                  </a:lnTo>
                  <a:lnTo>
                    <a:pt x="3901" y="1533"/>
                  </a:lnTo>
                  <a:lnTo>
                    <a:pt x="3909" y="1535"/>
                  </a:lnTo>
                  <a:lnTo>
                    <a:pt x="3918" y="1535"/>
                  </a:lnTo>
                  <a:lnTo>
                    <a:pt x="3930" y="1535"/>
                  </a:lnTo>
                  <a:lnTo>
                    <a:pt x="3941" y="1535"/>
                  </a:lnTo>
                  <a:lnTo>
                    <a:pt x="3950" y="1535"/>
                  </a:lnTo>
                  <a:lnTo>
                    <a:pt x="3959" y="1535"/>
                  </a:lnTo>
                  <a:lnTo>
                    <a:pt x="3970" y="1541"/>
                  </a:lnTo>
                  <a:lnTo>
                    <a:pt x="3979" y="1541"/>
                  </a:lnTo>
                  <a:lnTo>
                    <a:pt x="3985" y="1550"/>
                  </a:lnTo>
                  <a:lnTo>
                    <a:pt x="3997" y="1559"/>
                  </a:lnTo>
                  <a:lnTo>
                    <a:pt x="4005" y="1561"/>
                  </a:lnTo>
                  <a:lnTo>
                    <a:pt x="4017" y="1561"/>
                  </a:lnTo>
                  <a:lnTo>
                    <a:pt x="4026" y="1559"/>
                  </a:lnTo>
                  <a:lnTo>
                    <a:pt x="4029" y="1550"/>
                  </a:lnTo>
                  <a:lnTo>
                    <a:pt x="4037" y="1541"/>
                  </a:lnTo>
                  <a:lnTo>
                    <a:pt x="4040" y="1533"/>
                  </a:lnTo>
                  <a:lnTo>
                    <a:pt x="4043" y="1524"/>
                  </a:lnTo>
                  <a:lnTo>
                    <a:pt x="4055" y="1512"/>
                  </a:lnTo>
                  <a:lnTo>
                    <a:pt x="4066" y="1507"/>
                  </a:lnTo>
                  <a:lnTo>
                    <a:pt x="4075" y="1498"/>
                  </a:lnTo>
                  <a:lnTo>
                    <a:pt x="4084" y="1495"/>
                  </a:lnTo>
                  <a:lnTo>
                    <a:pt x="4093" y="1495"/>
                  </a:lnTo>
                  <a:lnTo>
                    <a:pt x="4101" y="1495"/>
                  </a:lnTo>
                  <a:lnTo>
                    <a:pt x="4110" y="1495"/>
                  </a:lnTo>
                  <a:lnTo>
                    <a:pt x="4119" y="1501"/>
                  </a:lnTo>
                  <a:lnTo>
                    <a:pt x="4130" y="1510"/>
                  </a:lnTo>
                  <a:lnTo>
                    <a:pt x="4139" y="1512"/>
                  </a:lnTo>
                  <a:lnTo>
                    <a:pt x="4148" y="1507"/>
                  </a:lnTo>
                  <a:lnTo>
                    <a:pt x="4154" y="1498"/>
                  </a:lnTo>
                  <a:lnTo>
                    <a:pt x="4157" y="1489"/>
                  </a:lnTo>
                  <a:lnTo>
                    <a:pt x="4165" y="1478"/>
                  </a:lnTo>
                  <a:lnTo>
                    <a:pt x="4168" y="1466"/>
                  </a:lnTo>
                  <a:lnTo>
                    <a:pt x="4163" y="1458"/>
                  </a:lnTo>
                  <a:lnTo>
                    <a:pt x="4157" y="1449"/>
                  </a:lnTo>
                  <a:lnTo>
                    <a:pt x="4154" y="1438"/>
                  </a:lnTo>
                  <a:lnTo>
                    <a:pt x="4151" y="1429"/>
                  </a:lnTo>
                  <a:lnTo>
                    <a:pt x="4151" y="1420"/>
                  </a:lnTo>
                  <a:lnTo>
                    <a:pt x="4151" y="1409"/>
                  </a:lnTo>
                  <a:lnTo>
                    <a:pt x="4151" y="1400"/>
                  </a:lnTo>
                  <a:lnTo>
                    <a:pt x="4160" y="1394"/>
                  </a:lnTo>
                  <a:lnTo>
                    <a:pt x="4174" y="1400"/>
                  </a:lnTo>
                  <a:lnTo>
                    <a:pt x="4183" y="1403"/>
                  </a:lnTo>
                  <a:lnTo>
                    <a:pt x="4183" y="1412"/>
                  </a:lnTo>
                  <a:lnTo>
                    <a:pt x="4192" y="1420"/>
                  </a:lnTo>
                  <a:lnTo>
                    <a:pt x="4203" y="1432"/>
                  </a:lnTo>
                  <a:lnTo>
                    <a:pt x="4212" y="1440"/>
                  </a:lnTo>
                  <a:lnTo>
                    <a:pt x="4215" y="1449"/>
                  </a:lnTo>
                  <a:lnTo>
                    <a:pt x="4218" y="1458"/>
                  </a:lnTo>
                  <a:lnTo>
                    <a:pt x="4227" y="1472"/>
                  </a:lnTo>
                  <a:lnTo>
                    <a:pt x="4235" y="1478"/>
                  </a:lnTo>
                  <a:lnTo>
                    <a:pt x="4241" y="1487"/>
                  </a:lnTo>
                  <a:lnTo>
                    <a:pt x="4253" y="1495"/>
                  </a:lnTo>
                  <a:lnTo>
                    <a:pt x="4264" y="1501"/>
                  </a:lnTo>
                  <a:lnTo>
                    <a:pt x="4270" y="1510"/>
                  </a:lnTo>
                  <a:lnTo>
                    <a:pt x="4273" y="1518"/>
                  </a:lnTo>
                  <a:lnTo>
                    <a:pt x="4273" y="1527"/>
                  </a:lnTo>
                  <a:lnTo>
                    <a:pt x="4273" y="1535"/>
                  </a:lnTo>
                  <a:lnTo>
                    <a:pt x="4273" y="1544"/>
                  </a:lnTo>
                  <a:lnTo>
                    <a:pt x="4264" y="1550"/>
                  </a:lnTo>
                  <a:lnTo>
                    <a:pt x="4256" y="1553"/>
                  </a:lnTo>
                  <a:lnTo>
                    <a:pt x="4256" y="1564"/>
                  </a:lnTo>
                  <a:lnTo>
                    <a:pt x="4256" y="1573"/>
                  </a:lnTo>
                  <a:lnTo>
                    <a:pt x="4256" y="1582"/>
                  </a:lnTo>
                  <a:lnTo>
                    <a:pt x="4264" y="1587"/>
                  </a:lnTo>
                  <a:lnTo>
                    <a:pt x="4276" y="1590"/>
                  </a:lnTo>
                  <a:lnTo>
                    <a:pt x="4285" y="1590"/>
                  </a:lnTo>
                  <a:lnTo>
                    <a:pt x="4294" y="1599"/>
                  </a:lnTo>
                  <a:lnTo>
                    <a:pt x="4302" y="1608"/>
                  </a:lnTo>
                  <a:lnTo>
                    <a:pt x="4314" y="1610"/>
                  </a:lnTo>
                  <a:lnTo>
                    <a:pt x="4326" y="1616"/>
                  </a:lnTo>
                  <a:lnTo>
                    <a:pt x="4334" y="1619"/>
                  </a:lnTo>
                  <a:lnTo>
                    <a:pt x="4340" y="1628"/>
                  </a:lnTo>
                  <a:lnTo>
                    <a:pt x="4343" y="1636"/>
                  </a:lnTo>
                  <a:lnTo>
                    <a:pt x="4343" y="1645"/>
                  </a:lnTo>
                  <a:lnTo>
                    <a:pt x="4343" y="1654"/>
                  </a:lnTo>
                  <a:lnTo>
                    <a:pt x="4343" y="1662"/>
                  </a:lnTo>
                  <a:lnTo>
                    <a:pt x="4346" y="1671"/>
                  </a:lnTo>
                  <a:lnTo>
                    <a:pt x="4355" y="1671"/>
                  </a:lnTo>
                  <a:lnTo>
                    <a:pt x="4366" y="1671"/>
                  </a:lnTo>
                  <a:lnTo>
                    <a:pt x="4369" y="1662"/>
                  </a:lnTo>
                  <a:lnTo>
                    <a:pt x="4363" y="1654"/>
                  </a:lnTo>
                  <a:lnTo>
                    <a:pt x="4360" y="1645"/>
                  </a:lnTo>
                  <a:lnTo>
                    <a:pt x="4355" y="1636"/>
                  </a:lnTo>
                  <a:lnTo>
                    <a:pt x="4352" y="1628"/>
                  </a:lnTo>
                  <a:lnTo>
                    <a:pt x="4349" y="1619"/>
                  </a:lnTo>
                  <a:lnTo>
                    <a:pt x="4346" y="1610"/>
                  </a:lnTo>
                  <a:lnTo>
                    <a:pt x="4346" y="1602"/>
                  </a:lnTo>
                  <a:lnTo>
                    <a:pt x="4346" y="1590"/>
                  </a:lnTo>
                  <a:lnTo>
                    <a:pt x="4346" y="1582"/>
                  </a:lnTo>
                  <a:lnTo>
                    <a:pt x="4355" y="1579"/>
                  </a:lnTo>
                  <a:lnTo>
                    <a:pt x="4363" y="1582"/>
                  </a:lnTo>
                  <a:lnTo>
                    <a:pt x="4372" y="1582"/>
                  </a:lnTo>
                  <a:lnTo>
                    <a:pt x="4381" y="1573"/>
                  </a:lnTo>
                  <a:lnTo>
                    <a:pt x="4390" y="1567"/>
                  </a:lnTo>
                  <a:lnTo>
                    <a:pt x="4393" y="1559"/>
                  </a:lnTo>
                  <a:lnTo>
                    <a:pt x="4393" y="1550"/>
                  </a:lnTo>
                  <a:lnTo>
                    <a:pt x="4393" y="1541"/>
                  </a:lnTo>
                  <a:lnTo>
                    <a:pt x="4393" y="1533"/>
                  </a:lnTo>
                  <a:lnTo>
                    <a:pt x="4393" y="1524"/>
                  </a:lnTo>
                  <a:lnTo>
                    <a:pt x="4393" y="1515"/>
                  </a:lnTo>
                  <a:lnTo>
                    <a:pt x="4390" y="1504"/>
                  </a:lnTo>
                  <a:lnTo>
                    <a:pt x="4384" y="1495"/>
                  </a:lnTo>
                  <a:lnTo>
                    <a:pt x="4381" y="1484"/>
                  </a:lnTo>
                  <a:lnTo>
                    <a:pt x="4378" y="1475"/>
                  </a:lnTo>
                  <a:lnTo>
                    <a:pt x="4369" y="1463"/>
                  </a:lnTo>
                  <a:lnTo>
                    <a:pt x="4363" y="1455"/>
                  </a:lnTo>
                  <a:lnTo>
                    <a:pt x="4360" y="1446"/>
                  </a:lnTo>
                  <a:lnTo>
                    <a:pt x="4358" y="1438"/>
                  </a:lnTo>
                  <a:lnTo>
                    <a:pt x="4352" y="1429"/>
                  </a:lnTo>
                  <a:lnTo>
                    <a:pt x="4346" y="1417"/>
                  </a:lnTo>
                  <a:lnTo>
                    <a:pt x="4340" y="1409"/>
                  </a:lnTo>
                  <a:lnTo>
                    <a:pt x="4337" y="1397"/>
                  </a:lnTo>
                  <a:lnTo>
                    <a:pt x="4334" y="1389"/>
                  </a:lnTo>
                  <a:lnTo>
                    <a:pt x="4334" y="1380"/>
                  </a:lnTo>
                  <a:lnTo>
                    <a:pt x="4331" y="1371"/>
                  </a:lnTo>
                  <a:lnTo>
                    <a:pt x="4328" y="1360"/>
                  </a:lnTo>
                  <a:lnTo>
                    <a:pt x="4323" y="1351"/>
                  </a:lnTo>
                  <a:lnTo>
                    <a:pt x="4320" y="1342"/>
                  </a:lnTo>
                  <a:lnTo>
                    <a:pt x="4314" y="1334"/>
                  </a:lnTo>
                  <a:lnTo>
                    <a:pt x="4305" y="1325"/>
                  </a:lnTo>
                  <a:lnTo>
                    <a:pt x="4296" y="1316"/>
                  </a:lnTo>
                  <a:lnTo>
                    <a:pt x="4288" y="1308"/>
                  </a:lnTo>
                  <a:lnTo>
                    <a:pt x="4276" y="1311"/>
                  </a:lnTo>
                  <a:lnTo>
                    <a:pt x="4279" y="1291"/>
                  </a:lnTo>
                  <a:lnTo>
                    <a:pt x="4276" y="1282"/>
                  </a:lnTo>
                  <a:lnTo>
                    <a:pt x="4270" y="1273"/>
                  </a:lnTo>
                  <a:lnTo>
                    <a:pt x="4261" y="1267"/>
                  </a:lnTo>
                  <a:lnTo>
                    <a:pt x="4253" y="1259"/>
                  </a:lnTo>
                  <a:lnTo>
                    <a:pt x="4244" y="1250"/>
                  </a:lnTo>
                  <a:lnTo>
                    <a:pt x="4238" y="1242"/>
                  </a:lnTo>
                  <a:lnTo>
                    <a:pt x="4232" y="1233"/>
                  </a:lnTo>
                  <a:lnTo>
                    <a:pt x="4229" y="1224"/>
                  </a:lnTo>
                  <a:lnTo>
                    <a:pt x="4221" y="1218"/>
                  </a:lnTo>
                  <a:lnTo>
                    <a:pt x="4212" y="1210"/>
                  </a:lnTo>
                  <a:lnTo>
                    <a:pt x="4200" y="1201"/>
                  </a:lnTo>
                  <a:lnTo>
                    <a:pt x="4192" y="1195"/>
                  </a:lnTo>
                  <a:lnTo>
                    <a:pt x="4183" y="1193"/>
                  </a:lnTo>
                  <a:lnTo>
                    <a:pt x="4171" y="1187"/>
                  </a:lnTo>
                  <a:lnTo>
                    <a:pt x="4163" y="1184"/>
                  </a:lnTo>
                  <a:lnTo>
                    <a:pt x="4154" y="1181"/>
                  </a:lnTo>
                  <a:lnTo>
                    <a:pt x="4145" y="1175"/>
                  </a:lnTo>
                  <a:lnTo>
                    <a:pt x="4136" y="1170"/>
                  </a:lnTo>
                  <a:lnTo>
                    <a:pt x="4130" y="1161"/>
                  </a:lnTo>
                  <a:lnTo>
                    <a:pt x="4119" y="1152"/>
                  </a:lnTo>
                  <a:lnTo>
                    <a:pt x="4110" y="1149"/>
                  </a:lnTo>
                  <a:lnTo>
                    <a:pt x="4098" y="1144"/>
                  </a:lnTo>
                  <a:lnTo>
                    <a:pt x="4090" y="1144"/>
                  </a:lnTo>
                  <a:lnTo>
                    <a:pt x="4078" y="1135"/>
                  </a:lnTo>
                  <a:lnTo>
                    <a:pt x="4069" y="1126"/>
                  </a:lnTo>
                  <a:lnTo>
                    <a:pt x="4064" y="1118"/>
                  </a:lnTo>
                  <a:lnTo>
                    <a:pt x="4058" y="1109"/>
                  </a:lnTo>
                  <a:lnTo>
                    <a:pt x="4049" y="1103"/>
                  </a:lnTo>
                  <a:lnTo>
                    <a:pt x="4058" y="1100"/>
                  </a:lnTo>
                  <a:lnTo>
                    <a:pt x="4066" y="1100"/>
                  </a:lnTo>
                  <a:lnTo>
                    <a:pt x="4078" y="1100"/>
                  </a:lnTo>
                  <a:lnTo>
                    <a:pt x="4090" y="1103"/>
                  </a:lnTo>
                  <a:lnTo>
                    <a:pt x="4098" y="1109"/>
                  </a:lnTo>
                  <a:lnTo>
                    <a:pt x="4107" y="1112"/>
                  </a:lnTo>
                  <a:lnTo>
                    <a:pt x="4116" y="1115"/>
                  </a:lnTo>
                  <a:lnTo>
                    <a:pt x="4125" y="1121"/>
                  </a:lnTo>
                  <a:lnTo>
                    <a:pt x="4133" y="1126"/>
                  </a:lnTo>
                  <a:lnTo>
                    <a:pt x="4142" y="1129"/>
                  </a:lnTo>
                  <a:lnTo>
                    <a:pt x="4154" y="1138"/>
                  </a:lnTo>
                  <a:lnTo>
                    <a:pt x="4163" y="1141"/>
                  </a:lnTo>
                  <a:lnTo>
                    <a:pt x="4171" y="1144"/>
                  </a:lnTo>
                  <a:lnTo>
                    <a:pt x="4180" y="1146"/>
                  </a:lnTo>
                  <a:lnTo>
                    <a:pt x="4192" y="1146"/>
                  </a:lnTo>
                  <a:lnTo>
                    <a:pt x="4200" y="1146"/>
                  </a:lnTo>
                  <a:lnTo>
                    <a:pt x="4212" y="1149"/>
                  </a:lnTo>
                  <a:lnTo>
                    <a:pt x="4221" y="1149"/>
                  </a:lnTo>
                  <a:lnTo>
                    <a:pt x="4229" y="1152"/>
                  </a:lnTo>
                  <a:lnTo>
                    <a:pt x="4238" y="1155"/>
                  </a:lnTo>
                  <a:lnTo>
                    <a:pt x="4247" y="1161"/>
                  </a:lnTo>
                  <a:lnTo>
                    <a:pt x="4256" y="1164"/>
                  </a:lnTo>
                  <a:lnTo>
                    <a:pt x="4264" y="1170"/>
                  </a:lnTo>
                  <a:lnTo>
                    <a:pt x="4273" y="1172"/>
                  </a:lnTo>
                  <a:lnTo>
                    <a:pt x="4282" y="1178"/>
                  </a:lnTo>
                  <a:lnTo>
                    <a:pt x="4291" y="1181"/>
                  </a:lnTo>
                  <a:lnTo>
                    <a:pt x="4299" y="1187"/>
                  </a:lnTo>
                  <a:lnTo>
                    <a:pt x="4308" y="1190"/>
                  </a:lnTo>
                  <a:lnTo>
                    <a:pt x="4317" y="1193"/>
                  </a:lnTo>
                  <a:lnTo>
                    <a:pt x="4326" y="1195"/>
                  </a:lnTo>
                  <a:lnTo>
                    <a:pt x="4334" y="1195"/>
                  </a:lnTo>
                  <a:lnTo>
                    <a:pt x="4326" y="1190"/>
                  </a:lnTo>
                  <a:lnTo>
                    <a:pt x="4314" y="1178"/>
                  </a:lnTo>
                  <a:lnTo>
                    <a:pt x="4305" y="1170"/>
                  </a:lnTo>
                  <a:lnTo>
                    <a:pt x="4305" y="1161"/>
                  </a:lnTo>
                  <a:lnTo>
                    <a:pt x="4317" y="1158"/>
                  </a:lnTo>
                  <a:lnTo>
                    <a:pt x="4328" y="1158"/>
                  </a:lnTo>
                  <a:lnTo>
                    <a:pt x="4337" y="1158"/>
                  </a:lnTo>
                  <a:lnTo>
                    <a:pt x="4346" y="1158"/>
                  </a:lnTo>
                  <a:lnTo>
                    <a:pt x="4346" y="1149"/>
                  </a:lnTo>
                  <a:lnTo>
                    <a:pt x="4349" y="1138"/>
                  </a:lnTo>
                  <a:lnTo>
                    <a:pt x="4349" y="1129"/>
                  </a:lnTo>
                  <a:lnTo>
                    <a:pt x="4340" y="1123"/>
                  </a:lnTo>
                  <a:lnTo>
                    <a:pt x="4331" y="1121"/>
                  </a:lnTo>
                  <a:lnTo>
                    <a:pt x="4323" y="1121"/>
                  </a:lnTo>
                  <a:lnTo>
                    <a:pt x="4314" y="1121"/>
                  </a:lnTo>
                  <a:lnTo>
                    <a:pt x="4302" y="1121"/>
                  </a:lnTo>
                  <a:lnTo>
                    <a:pt x="4296" y="1132"/>
                  </a:lnTo>
                  <a:lnTo>
                    <a:pt x="4288" y="1138"/>
                  </a:lnTo>
                  <a:lnTo>
                    <a:pt x="4279" y="1144"/>
                  </a:lnTo>
                  <a:lnTo>
                    <a:pt x="4270" y="1144"/>
                  </a:lnTo>
                  <a:lnTo>
                    <a:pt x="4261" y="1144"/>
                  </a:lnTo>
                  <a:lnTo>
                    <a:pt x="4253" y="1144"/>
                  </a:lnTo>
                  <a:lnTo>
                    <a:pt x="4244" y="1144"/>
                  </a:lnTo>
                  <a:lnTo>
                    <a:pt x="4238" y="1135"/>
                  </a:lnTo>
                  <a:lnTo>
                    <a:pt x="4227" y="1126"/>
                  </a:lnTo>
                  <a:lnTo>
                    <a:pt x="4218" y="1115"/>
                  </a:lnTo>
                  <a:lnTo>
                    <a:pt x="4209" y="1109"/>
                  </a:lnTo>
                  <a:lnTo>
                    <a:pt x="4197" y="1100"/>
                  </a:lnTo>
                  <a:lnTo>
                    <a:pt x="4192" y="1092"/>
                  </a:lnTo>
                  <a:lnTo>
                    <a:pt x="4200" y="1086"/>
                  </a:lnTo>
                  <a:lnTo>
                    <a:pt x="4209" y="1077"/>
                  </a:lnTo>
                  <a:lnTo>
                    <a:pt x="4218" y="1072"/>
                  </a:lnTo>
                  <a:lnTo>
                    <a:pt x="4227" y="1063"/>
                  </a:lnTo>
                  <a:lnTo>
                    <a:pt x="4229" y="1054"/>
                  </a:lnTo>
                  <a:lnTo>
                    <a:pt x="4221" y="1048"/>
                  </a:lnTo>
                  <a:lnTo>
                    <a:pt x="4209" y="1048"/>
                  </a:lnTo>
                  <a:lnTo>
                    <a:pt x="4200" y="1048"/>
                  </a:lnTo>
                  <a:lnTo>
                    <a:pt x="4189" y="1048"/>
                  </a:lnTo>
                  <a:lnTo>
                    <a:pt x="4180" y="1051"/>
                  </a:lnTo>
                  <a:lnTo>
                    <a:pt x="4171" y="1057"/>
                  </a:lnTo>
                  <a:lnTo>
                    <a:pt x="4160" y="1057"/>
                  </a:lnTo>
                  <a:lnTo>
                    <a:pt x="4151" y="1057"/>
                  </a:lnTo>
                  <a:lnTo>
                    <a:pt x="4142" y="1057"/>
                  </a:lnTo>
                  <a:lnTo>
                    <a:pt x="4133" y="1057"/>
                  </a:lnTo>
                  <a:lnTo>
                    <a:pt x="4125" y="1057"/>
                  </a:lnTo>
                  <a:lnTo>
                    <a:pt x="4116" y="1057"/>
                  </a:lnTo>
                  <a:lnTo>
                    <a:pt x="4107" y="1057"/>
                  </a:lnTo>
                  <a:lnTo>
                    <a:pt x="4098" y="1057"/>
                  </a:lnTo>
                  <a:lnTo>
                    <a:pt x="4090" y="1057"/>
                  </a:lnTo>
                  <a:lnTo>
                    <a:pt x="4081" y="1057"/>
                  </a:lnTo>
                  <a:lnTo>
                    <a:pt x="4072" y="1057"/>
                  </a:lnTo>
                  <a:lnTo>
                    <a:pt x="4064" y="1054"/>
                  </a:lnTo>
                  <a:lnTo>
                    <a:pt x="4055" y="1051"/>
                  </a:lnTo>
                  <a:lnTo>
                    <a:pt x="4043" y="1048"/>
                  </a:lnTo>
                  <a:lnTo>
                    <a:pt x="4032" y="1043"/>
                  </a:lnTo>
                  <a:lnTo>
                    <a:pt x="4023" y="1040"/>
                  </a:lnTo>
                  <a:lnTo>
                    <a:pt x="4008" y="1031"/>
                  </a:lnTo>
                  <a:lnTo>
                    <a:pt x="3994" y="1028"/>
                  </a:lnTo>
                  <a:lnTo>
                    <a:pt x="3982" y="1028"/>
                  </a:lnTo>
                  <a:lnTo>
                    <a:pt x="3973" y="1028"/>
                  </a:lnTo>
                  <a:lnTo>
                    <a:pt x="3965" y="1028"/>
                  </a:lnTo>
                  <a:lnTo>
                    <a:pt x="3953" y="1028"/>
                  </a:lnTo>
                  <a:lnTo>
                    <a:pt x="3941" y="1028"/>
                  </a:lnTo>
                  <a:lnTo>
                    <a:pt x="3933" y="1028"/>
                  </a:lnTo>
                  <a:lnTo>
                    <a:pt x="3927" y="1037"/>
                  </a:lnTo>
                  <a:lnTo>
                    <a:pt x="3941" y="1048"/>
                  </a:lnTo>
                  <a:lnTo>
                    <a:pt x="3950" y="1051"/>
                  </a:lnTo>
                  <a:lnTo>
                    <a:pt x="3962" y="1054"/>
                  </a:lnTo>
                  <a:lnTo>
                    <a:pt x="3970" y="1057"/>
                  </a:lnTo>
                  <a:lnTo>
                    <a:pt x="3979" y="1060"/>
                  </a:lnTo>
                  <a:lnTo>
                    <a:pt x="3982" y="1072"/>
                  </a:lnTo>
                  <a:lnTo>
                    <a:pt x="3982" y="1080"/>
                  </a:lnTo>
                  <a:lnTo>
                    <a:pt x="3982" y="1089"/>
                  </a:lnTo>
                  <a:lnTo>
                    <a:pt x="3994" y="1100"/>
                  </a:lnTo>
                  <a:lnTo>
                    <a:pt x="4002" y="1103"/>
                  </a:lnTo>
                  <a:lnTo>
                    <a:pt x="4014" y="1106"/>
                  </a:lnTo>
                  <a:lnTo>
                    <a:pt x="4026" y="1106"/>
                  </a:lnTo>
                  <a:lnTo>
                    <a:pt x="4034" y="1109"/>
                  </a:lnTo>
                  <a:lnTo>
                    <a:pt x="4046" y="1112"/>
                  </a:lnTo>
                  <a:lnTo>
                    <a:pt x="4037" y="1115"/>
                  </a:lnTo>
                  <a:lnTo>
                    <a:pt x="4029" y="1112"/>
                  </a:lnTo>
                  <a:lnTo>
                    <a:pt x="4020" y="1109"/>
                  </a:lnTo>
                  <a:lnTo>
                    <a:pt x="4011" y="1109"/>
                  </a:lnTo>
                  <a:lnTo>
                    <a:pt x="4002" y="1106"/>
                  </a:lnTo>
                  <a:lnTo>
                    <a:pt x="3994" y="1103"/>
                  </a:lnTo>
                  <a:lnTo>
                    <a:pt x="3979" y="1097"/>
                  </a:lnTo>
                  <a:lnTo>
                    <a:pt x="3970" y="1097"/>
                  </a:lnTo>
                  <a:lnTo>
                    <a:pt x="3962" y="1100"/>
                  </a:lnTo>
                  <a:lnTo>
                    <a:pt x="3959" y="1109"/>
                  </a:lnTo>
                  <a:lnTo>
                    <a:pt x="3950" y="1118"/>
                  </a:lnTo>
                  <a:lnTo>
                    <a:pt x="3941" y="1123"/>
                  </a:lnTo>
                  <a:lnTo>
                    <a:pt x="3935" y="1132"/>
                  </a:lnTo>
                  <a:lnTo>
                    <a:pt x="3927" y="1138"/>
                  </a:lnTo>
                  <a:lnTo>
                    <a:pt x="3927" y="1146"/>
                  </a:lnTo>
                  <a:lnTo>
                    <a:pt x="3930" y="1155"/>
                  </a:lnTo>
                  <a:lnTo>
                    <a:pt x="3938" y="1161"/>
                  </a:lnTo>
                  <a:lnTo>
                    <a:pt x="3941" y="1170"/>
                  </a:lnTo>
                  <a:lnTo>
                    <a:pt x="3941" y="1178"/>
                  </a:lnTo>
                  <a:lnTo>
                    <a:pt x="3941" y="1187"/>
                  </a:lnTo>
                  <a:lnTo>
                    <a:pt x="3938" y="1195"/>
                  </a:lnTo>
                  <a:lnTo>
                    <a:pt x="3933" y="1204"/>
                  </a:lnTo>
                  <a:lnTo>
                    <a:pt x="3924" y="1204"/>
                  </a:lnTo>
                  <a:lnTo>
                    <a:pt x="3915" y="1193"/>
                  </a:lnTo>
                  <a:lnTo>
                    <a:pt x="3912" y="1184"/>
                  </a:lnTo>
                  <a:lnTo>
                    <a:pt x="3903" y="1178"/>
                  </a:lnTo>
                  <a:lnTo>
                    <a:pt x="3892" y="1172"/>
                  </a:lnTo>
                  <a:lnTo>
                    <a:pt x="3883" y="1167"/>
                  </a:lnTo>
                  <a:lnTo>
                    <a:pt x="3877" y="1158"/>
                  </a:lnTo>
                  <a:lnTo>
                    <a:pt x="3874" y="1167"/>
                  </a:lnTo>
                  <a:lnTo>
                    <a:pt x="3874" y="1175"/>
                  </a:lnTo>
                  <a:lnTo>
                    <a:pt x="3874" y="1184"/>
                  </a:lnTo>
                  <a:lnTo>
                    <a:pt x="3886" y="1193"/>
                  </a:lnTo>
                  <a:lnTo>
                    <a:pt x="3898" y="1195"/>
                  </a:lnTo>
                  <a:lnTo>
                    <a:pt x="3906" y="1198"/>
                  </a:lnTo>
                  <a:lnTo>
                    <a:pt x="3915" y="1201"/>
                  </a:lnTo>
                  <a:lnTo>
                    <a:pt x="3924" y="1207"/>
                  </a:lnTo>
                  <a:lnTo>
                    <a:pt x="3912" y="1213"/>
                  </a:lnTo>
                  <a:lnTo>
                    <a:pt x="3903" y="1213"/>
                  </a:lnTo>
                  <a:lnTo>
                    <a:pt x="3895" y="1213"/>
                  </a:lnTo>
                  <a:lnTo>
                    <a:pt x="3886" y="1216"/>
                  </a:lnTo>
                  <a:lnTo>
                    <a:pt x="3886" y="1224"/>
                  </a:lnTo>
                  <a:lnTo>
                    <a:pt x="3880" y="1233"/>
                  </a:lnTo>
                  <a:lnTo>
                    <a:pt x="3868" y="1236"/>
                  </a:lnTo>
                  <a:lnTo>
                    <a:pt x="3860" y="1236"/>
                  </a:lnTo>
                  <a:lnTo>
                    <a:pt x="3854" y="1224"/>
                  </a:lnTo>
                  <a:lnTo>
                    <a:pt x="3854" y="1216"/>
                  </a:lnTo>
                  <a:lnTo>
                    <a:pt x="3851" y="1207"/>
                  </a:lnTo>
                  <a:lnTo>
                    <a:pt x="3845" y="1198"/>
                  </a:lnTo>
                  <a:lnTo>
                    <a:pt x="3842" y="1187"/>
                  </a:lnTo>
                  <a:lnTo>
                    <a:pt x="3836" y="1175"/>
                  </a:lnTo>
                  <a:lnTo>
                    <a:pt x="3834" y="1164"/>
                  </a:lnTo>
                  <a:lnTo>
                    <a:pt x="3828" y="1155"/>
                  </a:lnTo>
                  <a:lnTo>
                    <a:pt x="3822" y="1146"/>
                  </a:lnTo>
                  <a:lnTo>
                    <a:pt x="3816" y="1138"/>
                  </a:lnTo>
                  <a:lnTo>
                    <a:pt x="3810" y="1129"/>
                  </a:lnTo>
                  <a:lnTo>
                    <a:pt x="3799" y="1123"/>
                  </a:lnTo>
                  <a:lnTo>
                    <a:pt x="3793" y="1115"/>
                  </a:lnTo>
                  <a:lnTo>
                    <a:pt x="3790" y="1106"/>
                  </a:lnTo>
                  <a:lnTo>
                    <a:pt x="3784" y="1097"/>
                  </a:lnTo>
                  <a:lnTo>
                    <a:pt x="3778" y="1089"/>
                  </a:lnTo>
                  <a:lnTo>
                    <a:pt x="3775" y="1080"/>
                  </a:lnTo>
                  <a:lnTo>
                    <a:pt x="3772" y="1072"/>
                  </a:lnTo>
                  <a:lnTo>
                    <a:pt x="3767" y="1063"/>
                  </a:lnTo>
                  <a:lnTo>
                    <a:pt x="3761" y="1054"/>
                  </a:lnTo>
                  <a:lnTo>
                    <a:pt x="3752" y="1046"/>
                  </a:lnTo>
                  <a:lnTo>
                    <a:pt x="3746" y="1037"/>
                  </a:lnTo>
                  <a:lnTo>
                    <a:pt x="3737" y="1034"/>
                  </a:lnTo>
                  <a:lnTo>
                    <a:pt x="3717" y="988"/>
                  </a:lnTo>
                  <a:lnTo>
                    <a:pt x="3737" y="1008"/>
                  </a:lnTo>
                  <a:lnTo>
                    <a:pt x="3737" y="999"/>
                  </a:lnTo>
                  <a:lnTo>
                    <a:pt x="3732" y="991"/>
                  </a:lnTo>
                  <a:lnTo>
                    <a:pt x="3726" y="982"/>
                  </a:lnTo>
                  <a:lnTo>
                    <a:pt x="3723" y="974"/>
                  </a:lnTo>
                  <a:lnTo>
                    <a:pt x="3714" y="968"/>
                  </a:lnTo>
                  <a:lnTo>
                    <a:pt x="3703" y="965"/>
                  </a:lnTo>
                  <a:lnTo>
                    <a:pt x="3694" y="959"/>
                  </a:lnTo>
                  <a:lnTo>
                    <a:pt x="3691" y="950"/>
                  </a:lnTo>
                  <a:lnTo>
                    <a:pt x="3691" y="942"/>
                  </a:lnTo>
                  <a:lnTo>
                    <a:pt x="3691" y="930"/>
                  </a:lnTo>
                  <a:lnTo>
                    <a:pt x="3691" y="922"/>
                  </a:lnTo>
                  <a:lnTo>
                    <a:pt x="3691" y="913"/>
                  </a:lnTo>
                  <a:lnTo>
                    <a:pt x="3694" y="904"/>
                  </a:lnTo>
                  <a:lnTo>
                    <a:pt x="3700" y="896"/>
                  </a:lnTo>
                  <a:lnTo>
                    <a:pt x="3705" y="887"/>
                  </a:lnTo>
                  <a:lnTo>
                    <a:pt x="3714" y="887"/>
                  </a:lnTo>
                  <a:lnTo>
                    <a:pt x="3717" y="878"/>
                  </a:lnTo>
                  <a:lnTo>
                    <a:pt x="3705" y="867"/>
                  </a:lnTo>
                  <a:lnTo>
                    <a:pt x="3705" y="858"/>
                  </a:lnTo>
                  <a:lnTo>
                    <a:pt x="3705" y="847"/>
                  </a:lnTo>
                  <a:lnTo>
                    <a:pt x="3711" y="838"/>
                  </a:lnTo>
                  <a:lnTo>
                    <a:pt x="3717" y="827"/>
                  </a:lnTo>
                  <a:lnTo>
                    <a:pt x="3717" y="818"/>
                  </a:lnTo>
                  <a:lnTo>
                    <a:pt x="3717" y="809"/>
                  </a:lnTo>
                  <a:lnTo>
                    <a:pt x="3705" y="806"/>
                  </a:lnTo>
                  <a:lnTo>
                    <a:pt x="3694" y="801"/>
                  </a:lnTo>
                  <a:lnTo>
                    <a:pt x="3685" y="795"/>
                  </a:lnTo>
                  <a:lnTo>
                    <a:pt x="3685" y="786"/>
                  </a:lnTo>
                  <a:lnTo>
                    <a:pt x="3691" y="778"/>
                  </a:lnTo>
                  <a:lnTo>
                    <a:pt x="3697" y="769"/>
                  </a:lnTo>
                  <a:lnTo>
                    <a:pt x="3700" y="760"/>
                  </a:lnTo>
                  <a:lnTo>
                    <a:pt x="3708" y="757"/>
                  </a:lnTo>
                  <a:lnTo>
                    <a:pt x="3717" y="752"/>
                  </a:lnTo>
                  <a:lnTo>
                    <a:pt x="3726" y="757"/>
                  </a:lnTo>
                  <a:lnTo>
                    <a:pt x="3735" y="760"/>
                  </a:lnTo>
                  <a:lnTo>
                    <a:pt x="3743" y="763"/>
                  </a:lnTo>
                  <a:lnTo>
                    <a:pt x="3743" y="755"/>
                  </a:lnTo>
                  <a:lnTo>
                    <a:pt x="3737" y="746"/>
                  </a:lnTo>
                  <a:lnTo>
                    <a:pt x="3737" y="737"/>
                  </a:lnTo>
                  <a:lnTo>
                    <a:pt x="3735" y="729"/>
                  </a:lnTo>
                  <a:lnTo>
                    <a:pt x="3735" y="720"/>
                  </a:lnTo>
                  <a:lnTo>
                    <a:pt x="3732" y="711"/>
                  </a:lnTo>
                  <a:lnTo>
                    <a:pt x="3726" y="703"/>
                  </a:lnTo>
                  <a:lnTo>
                    <a:pt x="3723" y="691"/>
                  </a:lnTo>
                  <a:lnTo>
                    <a:pt x="3723" y="682"/>
                  </a:lnTo>
                  <a:lnTo>
                    <a:pt x="3723" y="674"/>
                  </a:lnTo>
                  <a:lnTo>
                    <a:pt x="3723" y="665"/>
                  </a:lnTo>
                  <a:lnTo>
                    <a:pt x="3714" y="662"/>
                  </a:lnTo>
                  <a:lnTo>
                    <a:pt x="3708" y="671"/>
                  </a:lnTo>
                  <a:lnTo>
                    <a:pt x="3700" y="671"/>
                  </a:lnTo>
                  <a:lnTo>
                    <a:pt x="3691" y="674"/>
                  </a:lnTo>
                  <a:lnTo>
                    <a:pt x="3682" y="671"/>
                  </a:lnTo>
                  <a:lnTo>
                    <a:pt x="3673" y="659"/>
                  </a:lnTo>
                  <a:lnTo>
                    <a:pt x="3668" y="651"/>
                  </a:lnTo>
                  <a:lnTo>
                    <a:pt x="3662" y="642"/>
                  </a:lnTo>
                  <a:lnTo>
                    <a:pt x="3653" y="633"/>
                  </a:lnTo>
                  <a:lnTo>
                    <a:pt x="3641" y="628"/>
                  </a:lnTo>
                  <a:lnTo>
                    <a:pt x="3633" y="622"/>
                  </a:lnTo>
                  <a:lnTo>
                    <a:pt x="3624" y="622"/>
                  </a:lnTo>
                  <a:lnTo>
                    <a:pt x="3615" y="616"/>
                  </a:lnTo>
                  <a:lnTo>
                    <a:pt x="3604" y="613"/>
                  </a:lnTo>
                  <a:lnTo>
                    <a:pt x="3595" y="608"/>
                  </a:lnTo>
                  <a:lnTo>
                    <a:pt x="3577" y="573"/>
                  </a:lnTo>
                  <a:lnTo>
                    <a:pt x="3592" y="587"/>
                  </a:lnTo>
                  <a:lnTo>
                    <a:pt x="3592" y="576"/>
                  </a:lnTo>
                  <a:lnTo>
                    <a:pt x="3589" y="567"/>
                  </a:lnTo>
                  <a:lnTo>
                    <a:pt x="3589" y="559"/>
                  </a:lnTo>
                  <a:lnTo>
                    <a:pt x="3583" y="547"/>
                  </a:lnTo>
                  <a:lnTo>
                    <a:pt x="3577" y="538"/>
                  </a:lnTo>
                  <a:lnTo>
                    <a:pt x="3569" y="530"/>
                  </a:lnTo>
                  <a:lnTo>
                    <a:pt x="3583" y="527"/>
                  </a:lnTo>
                  <a:lnTo>
                    <a:pt x="3592" y="530"/>
                  </a:lnTo>
                  <a:lnTo>
                    <a:pt x="3601" y="533"/>
                  </a:lnTo>
                  <a:lnTo>
                    <a:pt x="3609" y="538"/>
                  </a:lnTo>
                  <a:lnTo>
                    <a:pt x="3618" y="541"/>
                  </a:lnTo>
                  <a:lnTo>
                    <a:pt x="3621" y="533"/>
                  </a:lnTo>
                  <a:lnTo>
                    <a:pt x="3621" y="524"/>
                  </a:lnTo>
                  <a:lnTo>
                    <a:pt x="3612" y="518"/>
                  </a:lnTo>
                  <a:lnTo>
                    <a:pt x="3604" y="507"/>
                  </a:lnTo>
                  <a:lnTo>
                    <a:pt x="3598" y="498"/>
                  </a:lnTo>
                  <a:lnTo>
                    <a:pt x="3589" y="489"/>
                  </a:lnTo>
                  <a:lnTo>
                    <a:pt x="3586" y="481"/>
                  </a:lnTo>
                  <a:lnTo>
                    <a:pt x="3577" y="472"/>
                  </a:lnTo>
                  <a:lnTo>
                    <a:pt x="3566" y="469"/>
                  </a:lnTo>
                  <a:lnTo>
                    <a:pt x="3557" y="469"/>
                  </a:lnTo>
                  <a:lnTo>
                    <a:pt x="3548" y="469"/>
                  </a:lnTo>
                  <a:lnTo>
                    <a:pt x="3540" y="469"/>
                  </a:lnTo>
                  <a:lnTo>
                    <a:pt x="3531" y="466"/>
                  </a:lnTo>
                  <a:lnTo>
                    <a:pt x="3519" y="458"/>
                  </a:lnTo>
                  <a:lnTo>
                    <a:pt x="3516" y="449"/>
                  </a:lnTo>
                  <a:lnTo>
                    <a:pt x="3510" y="440"/>
                  </a:lnTo>
                  <a:lnTo>
                    <a:pt x="3507" y="432"/>
                  </a:lnTo>
                  <a:lnTo>
                    <a:pt x="3502" y="423"/>
                  </a:lnTo>
                  <a:lnTo>
                    <a:pt x="3502" y="412"/>
                  </a:lnTo>
                  <a:lnTo>
                    <a:pt x="3510" y="412"/>
                  </a:lnTo>
                  <a:lnTo>
                    <a:pt x="3519" y="417"/>
                  </a:lnTo>
                  <a:lnTo>
                    <a:pt x="3531" y="426"/>
                  </a:lnTo>
                  <a:lnTo>
                    <a:pt x="3540" y="432"/>
                  </a:lnTo>
                  <a:lnTo>
                    <a:pt x="3542" y="440"/>
                  </a:lnTo>
                  <a:lnTo>
                    <a:pt x="3551" y="446"/>
                  </a:lnTo>
                  <a:lnTo>
                    <a:pt x="3563" y="452"/>
                  </a:lnTo>
                  <a:lnTo>
                    <a:pt x="3572" y="458"/>
                  </a:lnTo>
                  <a:lnTo>
                    <a:pt x="3580" y="458"/>
                  </a:lnTo>
                  <a:lnTo>
                    <a:pt x="3589" y="458"/>
                  </a:lnTo>
                  <a:lnTo>
                    <a:pt x="3598" y="458"/>
                  </a:lnTo>
                  <a:lnTo>
                    <a:pt x="3606" y="461"/>
                  </a:lnTo>
                  <a:lnTo>
                    <a:pt x="3612" y="472"/>
                  </a:lnTo>
                  <a:lnTo>
                    <a:pt x="3618" y="481"/>
                  </a:lnTo>
                  <a:lnTo>
                    <a:pt x="3621" y="489"/>
                  </a:lnTo>
                  <a:lnTo>
                    <a:pt x="3627" y="498"/>
                  </a:lnTo>
                  <a:lnTo>
                    <a:pt x="3633" y="507"/>
                  </a:lnTo>
                  <a:lnTo>
                    <a:pt x="3641" y="518"/>
                  </a:lnTo>
                  <a:lnTo>
                    <a:pt x="3650" y="521"/>
                  </a:lnTo>
                  <a:lnTo>
                    <a:pt x="3662" y="524"/>
                  </a:lnTo>
                  <a:lnTo>
                    <a:pt x="3671" y="524"/>
                  </a:lnTo>
                  <a:lnTo>
                    <a:pt x="3679" y="527"/>
                  </a:lnTo>
                  <a:lnTo>
                    <a:pt x="3688" y="527"/>
                  </a:lnTo>
                  <a:lnTo>
                    <a:pt x="3700" y="530"/>
                  </a:lnTo>
                  <a:lnTo>
                    <a:pt x="3711" y="536"/>
                  </a:lnTo>
                  <a:lnTo>
                    <a:pt x="3723" y="544"/>
                  </a:lnTo>
                  <a:lnTo>
                    <a:pt x="3729" y="553"/>
                  </a:lnTo>
                  <a:lnTo>
                    <a:pt x="3735" y="561"/>
                  </a:lnTo>
                  <a:lnTo>
                    <a:pt x="3746" y="570"/>
                  </a:lnTo>
                  <a:lnTo>
                    <a:pt x="3761" y="579"/>
                  </a:lnTo>
                  <a:lnTo>
                    <a:pt x="3770" y="585"/>
                  </a:lnTo>
                  <a:lnTo>
                    <a:pt x="3772" y="593"/>
                  </a:lnTo>
                  <a:lnTo>
                    <a:pt x="3775" y="602"/>
                  </a:lnTo>
                  <a:lnTo>
                    <a:pt x="3778" y="610"/>
                  </a:lnTo>
                  <a:lnTo>
                    <a:pt x="3787" y="610"/>
                  </a:lnTo>
                  <a:lnTo>
                    <a:pt x="3790" y="619"/>
                  </a:lnTo>
                  <a:lnTo>
                    <a:pt x="3799" y="622"/>
                  </a:lnTo>
                  <a:lnTo>
                    <a:pt x="3807" y="628"/>
                  </a:lnTo>
                  <a:lnTo>
                    <a:pt x="3819" y="633"/>
                  </a:lnTo>
                  <a:lnTo>
                    <a:pt x="3828" y="636"/>
                  </a:lnTo>
                  <a:lnTo>
                    <a:pt x="3836" y="639"/>
                  </a:lnTo>
                  <a:lnTo>
                    <a:pt x="3845" y="642"/>
                  </a:lnTo>
                  <a:lnTo>
                    <a:pt x="3854" y="642"/>
                  </a:lnTo>
                  <a:lnTo>
                    <a:pt x="3866" y="645"/>
                  </a:lnTo>
                  <a:lnTo>
                    <a:pt x="3874" y="651"/>
                  </a:lnTo>
                  <a:lnTo>
                    <a:pt x="3883" y="657"/>
                  </a:lnTo>
                  <a:lnTo>
                    <a:pt x="3892" y="657"/>
                  </a:lnTo>
                  <a:lnTo>
                    <a:pt x="3901" y="657"/>
                  </a:lnTo>
                  <a:lnTo>
                    <a:pt x="3912" y="657"/>
                  </a:lnTo>
                  <a:lnTo>
                    <a:pt x="3924" y="657"/>
                  </a:lnTo>
                  <a:lnTo>
                    <a:pt x="3938" y="657"/>
                  </a:lnTo>
                  <a:lnTo>
                    <a:pt x="3947" y="657"/>
                  </a:lnTo>
                  <a:lnTo>
                    <a:pt x="3959" y="657"/>
                  </a:lnTo>
                  <a:lnTo>
                    <a:pt x="3967" y="659"/>
                  </a:lnTo>
                  <a:lnTo>
                    <a:pt x="3979" y="659"/>
                  </a:lnTo>
                  <a:lnTo>
                    <a:pt x="3991" y="659"/>
                  </a:lnTo>
                  <a:lnTo>
                    <a:pt x="4002" y="659"/>
                  </a:lnTo>
                  <a:lnTo>
                    <a:pt x="4017" y="659"/>
                  </a:lnTo>
                  <a:lnTo>
                    <a:pt x="4026" y="659"/>
                  </a:lnTo>
                  <a:lnTo>
                    <a:pt x="4037" y="659"/>
                  </a:lnTo>
                  <a:lnTo>
                    <a:pt x="4049" y="659"/>
                  </a:lnTo>
                  <a:lnTo>
                    <a:pt x="4061" y="659"/>
                  </a:lnTo>
                  <a:lnTo>
                    <a:pt x="4072" y="659"/>
                  </a:lnTo>
                  <a:lnTo>
                    <a:pt x="4084" y="659"/>
                  </a:lnTo>
                  <a:lnTo>
                    <a:pt x="4093" y="659"/>
                  </a:lnTo>
                  <a:lnTo>
                    <a:pt x="4101" y="659"/>
                  </a:lnTo>
                  <a:lnTo>
                    <a:pt x="4110" y="659"/>
                  </a:lnTo>
                  <a:lnTo>
                    <a:pt x="4119" y="659"/>
                  </a:lnTo>
                  <a:lnTo>
                    <a:pt x="4128" y="659"/>
                  </a:lnTo>
                  <a:lnTo>
                    <a:pt x="4136" y="659"/>
                  </a:lnTo>
                  <a:lnTo>
                    <a:pt x="4142" y="668"/>
                  </a:lnTo>
                  <a:lnTo>
                    <a:pt x="4145" y="677"/>
                  </a:lnTo>
                  <a:lnTo>
                    <a:pt x="4151" y="685"/>
                  </a:lnTo>
                  <a:lnTo>
                    <a:pt x="4160" y="691"/>
                  </a:lnTo>
                  <a:lnTo>
                    <a:pt x="4168" y="700"/>
                  </a:lnTo>
                  <a:lnTo>
                    <a:pt x="4177" y="700"/>
                  </a:lnTo>
                  <a:lnTo>
                    <a:pt x="4177" y="691"/>
                  </a:lnTo>
                  <a:lnTo>
                    <a:pt x="4168" y="682"/>
                  </a:lnTo>
                  <a:lnTo>
                    <a:pt x="4168" y="674"/>
                  </a:lnTo>
                  <a:lnTo>
                    <a:pt x="4160" y="665"/>
                  </a:lnTo>
                  <a:lnTo>
                    <a:pt x="4151" y="659"/>
                  </a:lnTo>
                  <a:lnTo>
                    <a:pt x="4136" y="619"/>
                  </a:lnTo>
                  <a:lnTo>
                    <a:pt x="4142" y="60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33880" y="36291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6" y="0"/>
                  </a:moveTo>
                  <a:lnTo>
                    <a:pt x="32" y="11"/>
                  </a:lnTo>
                  <a:lnTo>
                    <a:pt x="23" y="11"/>
                  </a:lnTo>
                  <a:lnTo>
                    <a:pt x="14" y="11"/>
                  </a:lnTo>
                  <a:lnTo>
                    <a:pt x="5" y="13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8" y="33"/>
                  </a:lnTo>
                  <a:lnTo>
                    <a:pt x="17" y="30"/>
                  </a:lnTo>
                  <a:lnTo>
                    <a:pt x="23" y="22"/>
                  </a:lnTo>
                  <a:lnTo>
                    <a:pt x="23" y="13"/>
                  </a:lnTo>
                  <a:lnTo>
                    <a:pt x="26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814480" y="5259240"/>
              <a:ext cx="4320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" y="20"/>
                  </a:moveTo>
                  <a:lnTo>
                    <a:pt x="8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4" y="17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2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81200" y="4390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0"/>
                  </a:moveTo>
                  <a:lnTo>
                    <a:pt x="11" y="16"/>
                  </a:lnTo>
                  <a:lnTo>
                    <a:pt x="11" y="25"/>
                  </a:lnTo>
                  <a:lnTo>
                    <a:pt x="2" y="33"/>
                  </a:lnTo>
                  <a:lnTo>
                    <a:pt x="11" y="45"/>
                  </a:lnTo>
                  <a:lnTo>
                    <a:pt x="26" y="48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2" y="22"/>
                  </a:lnTo>
                  <a:lnTo>
                    <a:pt x="23" y="14"/>
                  </a:lnTo>
                  <a:lnTo>
                    <a:pt x="14" y="11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229600" y="16905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0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305920" y="1801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lnTo>
                    <a:pt x="8" y="11"/>
                  </a:lnTo>
                  <a:lnTo>
                    <a:pt x="14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26" y="46"/>
                  </a:lnTo>
                  <a:lnTo>
                    <a:pt x="17" y="43"/>
                  </a:lnTo>
                  <a:lnTo>
                    <a:pt x="11" y="34"/>
                  </a:lnTo>
                  <a:lnTo>
                    <a:pt x="8" y="25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24440" y="16192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6" y="70"/>
                  </a:moveTo>
                  <a:lnTo>
                    <a:pt x="0" y="78"/>
                  </a:lnTo>
                  <a:lnTo>
                    <a:pt x="0" y="70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19" y="42"/>
                  </a:lnTo>
                  <a:lnTo>
                    <a:pt x="11" y="33"/>
                  </a:lnTo>
                  <a:lnTo>
                    <a:pt x="11" y="25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11"/>
                  </a:lnTo>
                  <a:lnTo>
                    <a:pt x="45" y="16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28" y="33"/>
                  </a:lnTo>
                  <a:lnTo>
                    <a:pt x="35" y="36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5" y="56"/>
                  </a:lnTo>
                  <a:lnTo>
                    <a:pt x="45" y="64"/>
                  </a:lnTo>
                  <a:lnTo>
                    <a:pt x="43" y="72"/>
                  </a:lnTo>
                  <a:lnTo>
                    <a:pt x="50" y="75"/>
                  </a:lnTo>
                  <a:lnTo>
                    <a:pt x="55" y="84"/>
                  </a:lnTo>
                  <a:lnTo>
                    <a:pt x="50" y="92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31" y="98"/>
                  </a:lnTo>
                  <a:lnTo>
                    <a:pt x="23" y="98"/>
                  </a:lnTo>
                  <a:lnTo>
                    <a:pt x="14" y="92"/>
                  </a:lnTo>
                  <a:lnTo>
                    <a:pt x="9" y="84"/>
                  </a:lnTo>
                  <a:lnTo>
                    <a:pt x="4" y="75"/>
                  </a:lnTo>
                  <a:lnTo>
                    <a:pt x="16" y="7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48200" y="17812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4"/>
                  </a:lnTo>
                  <a:lnTo>
                    <a:pt x="16" y="18"/>
                  </a:lnTo>
                  <a:lnTo>
                    <a:pt x="4" y="0"/>
                  </a:lnTo>
                  <a:lnTo>
                    <a:pt x="16" y="1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00840" y="167328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0"/>
                  </a:moveTo>
                  <a:lnTo>
                    <a:pt x="17" y="19"/>
                  </a:lnTo>
                  <a:lnTo>
                    <a:pt x="22" y="11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25" y="27"/>
                  </a:lnTo>
                  <a:lnTo>
                    <a:pt x="28" y="36"/>
                  </a:lnTo>
                  <a:lnTo>
                    <a:pt x="11" y="30"/>
                  </a:lnTo>
                  <a:lnTo>
                    <a:pt x="0" y="33"/>
                  </a:lnTo>
                  <a:lnTo>
                    <a:pt x="11" y="3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91040" y="1490760"/>
              <a:ext cx="84240" cy="10944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31" y="51"/>
                  </a:moveTo>
                  <a:lnTo>
                    <a:pt x="8" y="34"/>
                  </a:lnTo>
                  <a:lnTo>
                    <a:pt x="8" y="42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5" y="68"/>
                  </a:lnTo>
                  <a:lnTo>
                    <a:pt x="17" y="68"/>
                  </a:lnTo>
                  <a:lnTo>
                    <a:pt x="28" y="68"/>
                  </a:lnTo>
                  <a:lnTo>
                    <a:pt x="37" y="68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2" y="34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20" y="19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7" y="45"/>
                  </a:lnTo>
                  <a:lnTo>
                    <a:pt x="31" y="51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38480" y="2170080"/>
              <a:ext cx="293760" cy="235080"/>
            </a:xfrm>
            <a:custGeom>
              <a:avLst/>
              <a:gdLst/>
              <a:ahLst/>
              <a:rect l="l" t="t" r="r" b="b"/>
              <a:pathLst>
                <a:path w="185" h="148">
                  <a:moveTo>
                    <a:pt x="0" y="101"/>
                  </a:moveTo>
                  <a:lnTo>
                    <a:pt x="11" y="84"/>
                  </a:lnTo>
                  <a:lnTo>
                    <a:pt x="11" y="93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5" y="138"/>
                  </a:lnTo>
                  <a:lnTo>
                    <a:pt x="14" y="135"/>
                  </a:lnTo>
                  <a:lnTo>
                    <a:pt x="20" y="127"/>
                  </a:lnTo>
                  <a:lnTo>
                    <a:pt x="28" y="118"/>
                  </a:lnTo>
                  <a:lnTo>
                    <a:pt x="31" y="110"/>
                  </a:lnTo>
                  <a:lnTo>
                    <a:pt x="40" y="104"/>
                  </a:lnTo>
                  <a:lnTo>
                    <a:pt x="48" y="101"/>
                  </a:lnTo>
                  <a:lnTo>
                    <a:pt x="57" y="98"/>
                  </a:lnTo>
                  <a:lnTo>
                    <a:pt x="66" y="90"/>
                  </a:lnTo>
                  <a:lnTo>
                    <a:pt x="69" y="81"/>
                  </a:lnTo>
                  <a:lnTo>
                    <a:pt x="77" y="79"/>
                  </a:lnTo>
                  <a:lnTo>
                    <a:pt x="80" y="87"/>
                  </a:lnTo>
                  <a:lnTo>
                    <a:pt x="80" y="96"/>
                  </a:lnTo>
                  <a:lnTo>
                    <a:pt x="80" y="104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71" y="130"/>
                  </a:lnTo>
                  <a:lnTo>
                    <a:pt x="74" y="138"/>
                  </a:lnTo>
                  <a:lnTo>
                    <a:pt x="83" y="141"/>
                  </a:lnTo>
                  <a:lnTo>
                    <a:pt x="94" y="141"/>
                  </a:lnTo>
                  <a:lnTo>
                    <a:pt x="103" y="138"/>
                  </a:lnTo>
                  <a:lnTo>
                    <a:pt x="109" y="130"/>
                  </a:lnTo>
                  <a:lnTo>
                    <a:pt x="109" y="121"/>
                  </a:lnTo>
                  <a:lnTo>
                    <a:pt x="100" y="113"/>
                  </a:lnTo>
                  <a:lnTo>
                    <a:pt x="106" y="101"/>
                  </a:lnTo>
                  <a:lnTo>
                    <a:pt x="100" y="90"/>
                  </a:lnTo>
                  <a:lnTo>
                    <a:pt x="97" y="81"/>
                  </a:lnTo>
                  <a:lnTo>
                    <a:pt x="97" y="73"/>
                  </a:lnTo>
                  <a:lnTo>
                    <a:pt x="97" y="65"/>
                  </a:lnTo>
                  <a:lnTo>
                    <a:pt x="103" y="56"/>
                  </a:lnTo>
                  <a:lnTo>
                    <a:pt x="112" y="56"/>
                  </a:lnTo>
                  <a:lnTo>
                    <a:pt x="120" y="53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52" y="56"/>
                  </a:lnTo>
                  <a:lnTo>
                    <a:pt x="166" y="56"/>
                  </a:lnTo>
                  <a:lnTo>
                    <a:pt x="175" y="56"/>
                  </a:lnTo>
                  <a:lnTo>
                    <a:pt x="184" y="56"/>
                  </a:lnTo>
                  <a:lnTo>
                    <a:pt x="184" y="48"/>
                  </a:lnTo>
                  <a:lnTo>
                    <a:pt x="184" y="39"/>
                  </a:lnTo>
                  <a:lnTo>
                    <a:pt x="181" y="31"/>
                  </a:lnTo>
                  <a:lnTo>
                    <a:pt x="178" y="22"/>
                  </a:lnTo>
                  <a:lnTo>
                    <a:pt x="166" y="16"/>
                  </a:lnTo>
                  <a:lnTo>
                    <a:pt x="158" y="16"/>
                  </a:lnTo>
                  <a:lnTo>
                    <a:pt x="146" y="16"/>
                  </a:lnTo>
                  <a:lnTo>
                    <a:pt x="138" y="19"/>
                  </a:lnTo>
                  <a:lnTo>
                    <a:pt x="140" y="11"/>
                  </a:lnTo>
                  <a:lnTo>
                    <a:pt x="140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12" y="11"/>
                  </a:lnTo>
                  <a:lnTo>
                    <a:pt x="103" y="16"/>
                  </a:lnTo>
                  <a:lnTo>
                    <a:pt x="97" y="25"/>
                  </a:lnTo>
                  <a:lnTo>
                    <a:pt x="94" y="16"/>
                  </a:lnTo>
                  <a:lnTo>
                    <a:pt x="86" y="14"/>
                  </a:lnTo>
                  <a:lnTo>
                    <a:pt x="77" y="19"/>
                  </a:lnTo>
                  <a:lnTo>
                    <a:pt x="69" y="25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63" y="2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7" y="25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23" y="48"/>
                  </a:lnTo>
                  <a:lnTo>
                    <a:pt x="31" y="48"/>
                  </a:lnTo>
                  <a:lnTo>
                    <a:pt x="40" y="42"/>
                  </a:lnTo>
                  <a:lnTo>
                    <a:pt x="51" y="45"/>
                  </a:lnTo>
                  <a:lnTo>
                    <a:pt x="57" y="53"/>
                  </a:lnTo>
                  <a:lnTo>
                    <a:pt x="60" y="62"/>
                  </a:lnTo>
                  <a:lnTo>
                    <a:pt x="51" y="65"/>
                  </a:lnTo>
                  <a:lnTo>
                    <a:pt x="40" y="65"/>
                  </a:lnTo>
                  <a:lnTo>
                    <a:pt x="28" y="59"/>
                  </a:lnTo>
                  <a:lnTo>
                    <a:pt x="17" y="59"/>
                  </a:lnTo>
                  <a:lnTo>
                    <a:pt x="8" y="65"/>
                  </a:lnTo>
                  <a:lnTo>
                    <a:pt x="8" y="76"/>
                  </a:lnTo>
                  <a:lnTo>
                    <a:pt x="11" y="87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6"/>
                  </a:lnTo>
                  <a:lnTo>
                    <a:pt x="0" y="101"/>
                  </a:lnTo>
                  <a:lnTo>
                    <a:pt x="5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0" y="1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95760" y="2171880"/>
              <a:ext cx="220680" cy="18072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31" y="53"/>
                  </a:moveTo>
                  <a:lnTo>
                    <a:pt x="25" y="64"/>
                  </a:lnTo>
                  <a:lnTo>
                    <a:pt x="31" y="53"/>
                  </a:lnTo>
                  <a:lnTo>
                    <a:pt x="43" y="56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7" y="79"/>
                  </a:lnTo>
                  <a:lnTo>
                    <a:pt x="23" y="90"/>
                  </a:lnTo>
                  <a:lnTo>
                    <a:pt x="25" y="98"/>
                  </a:lnTo>
                  <a:lnTo>
                    <a:pt x="31" y="107"/>
                  </a:lnTo>
                  <a:lnTo>
                    <a:pt x="34" y="98"/>
                  </a:lnTo>
                  <a:lnTo>
                    <a:pt x="34" y="90"/>
                  </a:lnTo>
                  <a:lnTo>
                    <a:pt x="43" y="90"/>
                  </a:lnTo>
                  <a:lnTo>
                    <a:pt x="54" y="93"/>
                  </a:lnTo>
                  <a:lnTo>
                    <a:pt x="63" y="96"/>
                  </a:lnTo>
                  <a:lnTo>
                    <a:pt x="71" y="96"/>
                  </a:lnTo>
                  <a:lnTo>
                    <a:pt x="80" y="87"/>
                  </a:lnTo>
                  <a:lnTo>
                    <a:pt x="89" y="87"/>
                  </a:lnTo>
                  <a:lnTo>
                    <a:pt x="97" y="93"/>
                  </a:lnTo>
                  <a:lnTo>
                    <a:pt x="103" y="107"/>
                  </a:lnTo>
                  <a:lnTo>
                    <a:pt x="112" y="110"/>
                  </a:lnTo>
                  <a:lnTo>
                    <a:pt x="120" y="113"/>
                  </a:lnTo>
                  <a:lnTo>
                    <a:pt x="126" y="104"/>
                  </a:lnTo>
                  <a:lnTo>
                    <a:pt x="123" y="96"/>
                  </a:lnTo>
                  <a:lnTo>
                    <a:pt x="115" y="90"/>
                  </a:lnTo>
                  <a:lnTo>
                    <a:pt x="106" y="87"/>
                  </a:lnTo>
                  <a:lnTo>
                    <a:pt x="94" y="81"/>
                  </a:lnTo>
                  <a:lnTo>
                    <a:pt x="92" y="73"/>
                  </a:lnTo>
                  <a:lnTo>
                    <a:pt x="103" y="70"/>
                  </a:lnTo>
                  <a:lnTo>
                    <a:pt x="112" y="70"/>
                  </a:lnTo>
                  <a:lnTo>
                    <a:pt x="115" y="62"/>
                  </a:lnTo>
                  <a:lnTo>
                    <a:pt x="120" y="53"/>
                  </a:lnTo>
                  <a:lnTo>
                    <a:pt x="129" y="48"/>
                  </a:lnTo>
                  <a:lnTo>
                    <a:pt x="138" y="39"/>
                  </a:lnTo>
                  <a:lnTo>
                    <a:pt x="129" y="33"/>
                  </a:lnTo>
                  <a:lnTo>
                    <a:pt x="120" y="31"/>
                  </a:lnTo>
                  <a:lnTo>
                    <a:pt x="112" y="33"/>
                  </a:lnTo>
                  <a:lnTo>
                    <a:pt x="106" y="42"/>
                  </a:lnTo>
                  <a:lnTo>
                    <a:pt x="97" y="45"/>
                  </a:lnTo>
                  <a:lnTo>
                    <a:pt x="97" y="36"/>
                  </a:lnTo>
                  <a:lnTo>
                    <a:pt x="100" y="25"/>
                  </a:lnTo>
                  <a:lnTo>
                    <a:pt x="100" y="16"/>
                  </a:lnTo>
                  <a:lnTo>
                    <a:pt x="103" y="8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0" y="8"/>
                  </a:lnTo>
                  <a:lnTo>
                    <a:pt x="77" y="16"/>
                  </a:lnTo>
                  <a:lnTo>
                    <a:pt x="74" y="25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1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3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23" y="64"/>
                  </a:lnTo>
                  <a:lnTo>
                    <a:pt x="31" y="64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77" y="53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05520" y="2079720"/>
              <a:ext cx="298440" cy="156960"/>
            </a:xfrm>
            <a:custGeom>
              <a:avLst/>
              <a:gdLst/>
              <a:ahLst/>
              <a:rect l="l" t="t" r="r" b="b"/>
              <a:pathLst>
                <a:path w="188" h="99">
                  <a:moveTo>
                    <a:pt x="0" y="17"/>
                  </a:moveTo>
                  <a:lnTo>
                    <a:pt x="25" y="25"/>
                  </a:lnTo>
                  <a:lnTo>
                    <a:pt x="37" y="25"/>
                  </a:lnTo>
                  <a:lnTo>
                    <a:pt x="43" y="34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63" y="69"/>
                  </a:lnTo>
                  <a:lnTo>
                    <a:pt x="63" y="80"/>
                  </a:lnTo>
                  <a:lnTo>
                    <a:pt x="71" y="83"/>
                  </a:lnTo>
                  <a:lnTo>
                    <a:pt x="80" y="77"/>
                  </a:lnTo>
                  <a:lnTo>
                    <a:pt x="89" y="77"/>
                  </a:lnTo>
                  <a:lnTo>
                    <a:pt x="97" y="77"/>
                  </a:lnTo>
                  <a:lnTo>
                    <a:pt x="106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5" y="74"/>
                  </a:lnTo>
                  <a:lnTo>
                    <a:pt x="143" y="77"/>
                  </a:lnTo>
                  <a:lnTo>
                    <a:pt x="152" y="86"/>
                  </a:lnTo>
                  <a:lnTo>
                    <a:pt x="163" y="98"/>
                  </a:lnTo>
                  <a:lnTo>
                    <a:pt x="169" y="89"/>
                  </a:lnTo>
                  <a:lnTo>
                    <a:pt x="175" y="80"/>
                  </a:lnTo>
                  <a:lnTo>
                    <a:pt x="181" y="72"/>
                  </a:lnTo>
                  <a:lnTo>
                    <a:pt x="187" y="60"/>
                  </a:lnTo>
                  <a:lnTo>
                    <a:pt x="187" y="51"/>
                  </a:lnTo>
                  <a:lnTo>
                    <a:pt x="187" y="43"/>
                  </a:lnTo>
                  <a:lnTo>
                    <a:pt x="181" y="34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5" y="34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9" y="40"/>
                  </a:lnTo>
                  <a:lnTo>
                    <a:pt x="129" y="49"/>
                  </a:lnTo>
                  <a:lnTo>
                    <a:pt x="129" y="57"/>
                  </a:lnTo>
                  <a:lnTo>
                    <a:pt x="120" y="51"/>
                  </a:lnTo>
                  <a:lnTo>
                    <a:pt x="109" y="43"/>
                  </a:lnTo>
                  <a:lnTo>
                    <a:pt x="100" y="34"/>
                  </a:lnTo>
                  <a:lnTo>
                    <a:pt x="86" y="25"/>
                  </a:lnTo>
                  <a:lnTo>
                    <a:pt x="83" y="37"/>
                  </a:lnTo>
                  <a:lnTo>
                    <a:pt x="74" y="40"/>
                  </a:lnTo>
                  <a:lnTo>
                    <a:pt x="74" y="31"/>
                  </a:lnTo>
                  <a:lnTo>
                    <a:pt x="69" y="23"/>
                  </a:lnTo>
                  <a:lnTo>
                    <a:pt x="60" y="17"/>
                  </a:lnTo>
                  <a:lnTo>
                    <a:pt x="51" y="8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8" y="8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0" y="1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74960" y="2954160"/>
              <a:ext cx="680760" cy="700200"/>
            </a:xfrm>
            <a:custGeom>
              <a:avLst/>
              <a:gdLst/>
              <a:ahLst/>
              <a:rect l="l" t="t" r="r" b="b"/>
              <a:pathLst>
                <a:path w="429" h="441">
                  <a:moveTo>
                    <a:pt x="22" y="309"/>
                  </a:moveTo>
                  <a:lnTo>
                    <a:pt x="34" y="315"/>
                  </a:lnTo>
                  <a:lnTo>
                    <a:pt x="43" y="318"/>
                  </a:lnTo>
                  <a:lnTo>
                    <a:pt x="51" y="321"/>
                  </a:lnTo>
                  <a:lnTo>
                    <a:pt x="54" y="333"/>
                  </a:lnTo>
                  <a:lnTo>
                    <a:pt x="63" y="342"/>
                  </a:lnTo>
                  <a:lnTo>
                    <a:pt x="71" y="348"/>
                  </a:lnTo>
                  <a:lnTo>
                    <a:pt x="80" y="348"/>
                  </a:lnTo>
                  <a:lnTo>
                    <a:pt x="91" y="355"/>
                  </a:lnTo>
                  <a:lnTo>
                    <a:pt x="100" y="361"/>
                  </a:lnTo>
                  <a:lnTo>
                    <a:pt x="109" y="364"/>
                  </a:lnTo>
                  <a:lnTo>
                    <a:pt x="112" y="373"/>
                  </a:lnTo>
                  <a:lnTo>
                    <a:pt x="117" y="382"/>
                  </a:lnTo>
                  <a:lnTo>
                    <a:pt x="123" y="391"/>
                  </a:lnTo>
                  <a:lnTo>
                    <a:pt x="132" y="397"/>
                  </a:lnTo>
                  <a:lnTo>
                    <a:pt x="146" y="406"/>
                  </a:lnTo>
                  <a:lnTo>
                    <a:pt x="155" y="412"/>
                  </a:lnTo>
                  <a:lnTo>
                    <a:pt x="163" y="418"/>
                  </a:lnTo>
                  <a:lnTo>
                    <a:pt x="172" y="421"/>
                  </a:lnTo>
                  <a:lnTo>
                    <a:pt x="180" y="430"/>
                  </a:lnTo>
                  <a:lnTo>
                    <a:pt x="189" y="436"/>
                  </a:lnTo>
                  <a:lnTo>
                    <a:pt x="198" y="440"/>
                  </a:lnTo>
                  <a:lnTo>
                    <a:pt x="203" y="430"/>
                  </a:lnTo>
                  <a:lnTo>
                    <a:pt x="203" y="421"/>
                  </a:lnTo>
                  <a:lnTo>
                    <a:pt x="203" y="412"/>
                  </a:lnTo>
                  <a:lnTo>
                    <a:pt x="215" y="406"/>
                  </a:lnTo>
                  <a:lnTo>
                    <a:pt x="224" y="406"/>
                  </a:lnTo>
                  <a:lnTo>
                    <a:pt x="232" y="406"/>
                  </a:lnTo>
                  <a:lnTo>
                    <a:pt x="241" y="406"/>
                  </a:lnTo>
                  <a:lnTo>
                    <a:pt x="249" y="406"/>
                  </a:lnTo>
                  <a:lnTo>
                    <a:pt x="258" y="406"/>
                  </a:lnTo>
                  <a:lnTo>
                    <a:pt x="261" y="397"/>
                  </a:lnTo>
                  <a:lnTo>
                    <a:pt x="261" y="388"/>
                  </a:lnTo>
                  <a:lnTo>
                    <a:pt x="261" y="379"/>
                  </a:lnTo>
                  <a:lnTo>
                    <a:pt x="261" y="367"/>
                  </a:lnTo>
                  <a:lnTo>
                    <a:pt x="261" y="355"/>
                  </a:lnTo>
                  <a:lnTo>
                    <a:pt x="252" y="348"/>
                  </a:lnTo>
                  <a:lnTo>
                    <a:pt x="244" y="348"/>
                  </a:lnTo>
                  <a:lnTo>
                    <a:pt x="235" y="342"/>
                  </a:lnTo>
                  <a:lnTo>
                    <a:pt x="229" y="333"/>
                  </a:lnTo>
                  <a:lnTo>
                    <a:pt x="229" y="324"/>
                  </a:lnTo>
                  <a:lnTo>
                    <a:pt x="238" y="321"/>
                  </a:lnTo>
                  <a:lnTo>
                    <a:pt x="247" y="315"/>
                  </a:lnTo>
                  <a:lnTo>
                    <a:pt x="255" y="312"/>
                  </a:lnTo>
                  <a:lnTo>
                    <a:pt x="261" y="303"/>
                  </a:lnTo>
                  <a:lnTo>
                    <a:pt x="261" y="294"/>
                  </a:lnTo>
                  <a:lnTo>
                    <a:pt x="264" y="285"/>
                  </a:lnTo>
                  <a:lnTo>
                    <a:pt x="264" y="276"/>
                  </a:lnTo>
                  <a:lnTo>
                    <a:pt x="267" y="267"/>
                  </a:lnTo>
                  <a:lnTo>
                    <a:pt x="272" y="257"/>
                  </a:lnTo>
                  <a:lnTo>
                    <a:pt x="278" y="248"/>
                  </a:lnTo>
                  <a:lnTo>
                    <a:pt x="284" y="239"/>
                  </a:lnTo>
                  <a:lnTo>
                    <a:pt x="284" y="230"/>
                  </a:lnTo>
                  <a:lnTo>
                    <a:pt x="284" y="221"/>
                  </a:lnTo>
                  <a:lnTo>
                    <a:pt x="284" y="209"/>
                  </a:lnTo>
                  <a:lnTo>
                    <a:pt x="292" y="200"/>
                  </a:lnTo>
                  <a:lnTo>
                    <a:pt x="295" y="191"/>
                  </a:lnTo>
                  <a:lnTo>
                    <a:pt x="298" y="182"/>
                  </a:lnTo>
                  <a:lnTo>
                    <a:pt x="301" y="172"/>
                  </a:lnTo>
                  <a:lnTo>
                    <a:pt x="292" y="163"/>
                  </a:lnTo>
                  <a:lnTo>
                    <a:pt x="284" y="154"/>
                  </a:lnTo>
                  <a:lnTo>
                    <a:pt x="278" y="145"/>
                  </a:lnTo>
                  <a:lnTo>
                    <a:pt x="287" y="142"/>
                  </a:lnTo>
                  <a:lnTo>
                    <a:pt x="295" y="142"/>
                  </a:lnTo>
                  <a:lnTo>
                    <a:pt x="304" y="148"/>
                  </a:lnTo>
                  <a:lnTo>
                    <a:pt x="313" y="157"/>
                  </a:lnTo>
                  <a:lnTo>
                    <a:pt x="321" y="163"/>
                  </a:lnTo>
                  <a:lnTo>
                    <a:pt x="327" y="154"/>
                  </a:lnTo>
                  <a:lnTo>
                    <a:pt x="336" y="148"/>
                  </a:lnTo>
                  <a:lnTo>
                    <a:pt x="344" y="148"/>
                  </a:lnTo>
                  <a:lnTo>
                    <a:pt x="353" y="145"/>
                  </a:lnTo>
                  <a:lnTo>
                    <a:pt x="361" y="142"/>
                  </a:lnTo>
                  <a:lnTo>
                    <a:pt x="361" y="133"/>
                  </a:lnTo>
                  <a:lnTo>
                    <a:pt x="361" y="124"/>
                  </a:lnTo>
                  <a:lnTo>
                    <a:pt x="361" y="115"/>
                  </a:lnTo>
                  <a:lnTo>
                    <a:pt x="359" y="106"/>
                  </a:lnTo>
                  <a:lnTo>
                    <a:pt x="353" y="97"/>
                  </a:lnTo>
                  <a:lnTo>
                    <a:pt x="344" y="88"/>
                  </a:lnTo>
                  <a:lnTo>
                    <a:pt x="333" y="81"/>
                  </a:lnTo>
                  <a:lnTo>
                    <a:pt x="341" y="75"/>
                  </a:lnTo>
                  <a:lnTo>
                    <a:pt x="353" y="75"/>
                  </a:lnTo>
                  <a:lnTo>
                    <a:pt x="361" y="75"/>
                  </a:lnTo>
                  <a:lnTo>
                    <a:pt x="370" y="75"/>
                  </a:lnTo>
                  <a:lnTo>
                    <a:pt x="379" y="72"/>
                  </a:lnTo>
                  <a:lnTo>
                    <a:pt x="387" y="69"/>
                  </a:lnTo>
                  <a:lnTo>
                    <a:pt x="396" y="69"/>
                  </a:lnTo>
                  <a:lnTo>
                    <a:pt x="405" y="72"/>
                  </a:lnTo>
                  <a:lnTo>
                    <a:pt x="419" y="75"/>
                  </a:lnTo>
                  <a:lnTo>
                    <a:pt x="428" y="75"/>
                  </a:lnTo>
                  <a:lnTo>
                    <a:pt x="425" y="66"/>
                  </a:lnTo>
                  <a:lnTo>
                    <a:pt x="422" y="57"/>
                  </a:lnTo>
                  <a:lnTo>
                    <a:pt x="419" y="48"/>
                  </a:lnTo>
                  <a:lnTo>
                    <a:pt x="410" y="48"/>
                  </a:lnTo>
                  <a:lnTo>
                    <a:pt x="402" y="48"/>
                  </a:lnTo>
                  <a:lnTo>
                    <a:pt x="390" y="48"/>
                  </a:lnTo>
                  <a:lnTo>
                    <a:pt x="382" y="48"/>
                  </a:lnTo>
                  <a:lnTo>
                    <a:pt x="379" y="57"/>
                  </a:lnTo>
                  <a:lnTo>
                    <a:pt x="370" y="54"/>
                  </a:lnTo>
                  <a:lnTo>
                    <a:pt x="361" y="45"/>
                  </a:lnTo>
                  <a:lnTo>
                    <a:pt x="353" y="39"/>
                  </a:lnTo>
                  <a:lnTo>
                    <a:pt x="341" y="39"/>
                  </a:lnTo>
                  <a:lnTo>
                    <a:pt x="333" y="39"/>
                  </a:lnTo>
                  <a:lnTo>
                    <a:pt x="318" y="39"/>
                  </a:lnTo>
                  <a:lnTo>
                    <a:pt x="310" y="39"/>
                  </a:lnTo>
                  <a:lnTo>
                    <a:pt x="298" y="42"/>
                  </a:lnTo>
                  <a:lnTo>
                    <a:pt x="290" y="42"/>
                  </a:lnTo>
                  <a:lnTo>
                    <a:pt x="290" y="33"/>
                  </a:lnTo>
                  <a:lnTo>
                    <a:pt x="298" y="30"/>
                  </a:lnTo>
                  <a:lnTo>
                    <a:pt x="307" y="30"/>
                  </a:lnTo>
                  <a:lnTo>
                    <a:pt x="315" y="27"/>
                  </a:lnTo>
                  <a:lnTo>
                    <a:pt x="324" y="24"/>
                  </a:lnTo>
                  <a:lnTo>
                    <a:pt x="327" y="15"/>
                  </a:lnTo>
                  <a:lnTo>
                    <a:pt x="327" y="6"/>
                  </a:lnTo>
                  <a:lnTo>
                    <a:pt x="318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3"/>
                  </a:lnTo>
                  <a:lnTo>
                    <a:pt x="275" y="12"/>
                  </a:lnTo>
                  <a:lnTo>
                    <a:pt x="267" y="18"/>
                  </a:lnTo>
                  <a:lnTo>
                    <a:pt x="258" y="21"/>
                  </a:lnTo>
                  <a:lnTo>
                    <a:pt x="255" y="30"/>
                  </a:lnTo>
                  <a:lnTo>
                    <a:pt x="264" y="36"/>
                  </a:lnTo>
                  <a:lnTo>
                    <a:pt x="272" y="36"/>
                  </a:lnTo>
                  <a:lnTo>
                    <a:pt x="278" y="45"/>
                  </a:lnTo>
                  <a:lnTo>
                    <a:pt x="270" y="54"/>
                  </a:lnTo>
                  <a:lnTo>
                    <a:pt x="267" y="63"/>
                  </a:lnTo>
                  <a:lnTo>
                    <a:pt x="281" y="75"/>
                  </a:lnTo>
                  <a:lnTo>
                    <a:pt x="290" y="78"/>
                  </a:lnTo>
                  <a:lnTo>
                    <a:pt x="281" y="75"/>
                  </a:lnTo>
                  <a:lnTo>
                    <a:pt x="270" y="66"/>
                  </a:lnTo>
                  <a:lnTo>
                    <a:pt x="261" y="60"/>
                  </a:lnTo>
                  <a:lnTo>
                    <a:pt x="252" y="51"/>
                  </a:lnTo>
                  <a:lnTo>
                    <a:pt x="244" y="51"/>
                  </a:lnTo>
                  <a:lnTo>
                    <a:pt x="241" y="60"/>
                  </a:lnTo>
                  <a:lnTo>
                    <a:pt x="241" y="69"/>
                  </a:lnTo>
                  <a:lnTo>
                    <a:pt x="255" y="78"/>
                  </a:lnTo>
                  <a:lnTo>
                    <a:pt x="264" y="81"/>
                  </a:lnTo>
                  <a:lnTo>
                    <a:pt x="255" y="88"/>
                  </a:lnTo>
                  <a:lnTo>
                    <a:pt x="244" y="88"/>
                  </a:lnTo>
                  <a:lnTo>
                    <a:pt x="235" y="88"/>
                  </a:lnTo>
                  <a:lnTo>
                    <a:pt x="235" y="103"/>
                  </a:lnTo>
                  <a:lnTo>
                    <a:pt x="244" y="106"/>
                  </a:lnTo>
                  <a:lnTo>
                    <a:pt x="252" y="109"/>
                  </a:lnTo>
                  <a:lnTo>
                    <a:pt x="244" y="115"/>
                  </a:lnTo>
                  <a:lnTo>
                    <a:pt x="235" y="112"/>
                  </a:lnTo>
                  <a:lnTo>
                    <a:pt x="226" y="109"/>
                  </a:lnTo>
                  <a:lnTo>
                    <a:pt x="218" y="106"/>
                  </a:lnTo>
                  <a:lnTo>
                    <a:pt x="212" y="115"/>
                  </a:lnTo>
                  <a:lnTo>
                    <a:pt x="218" y="124"/>
                  </a:lnTo>
                  <a:lnTo>
                    <a:pt x="229" y="127"/>
                  </a:lnTo>
                  <a:lnTo>
                    <a:pt x="238" y="130"/>
                  </a:lnTo>
                  <a:lnTo>
                    <a:pt x="229" y="124"/>
                  </a:lnTo>
                  <a:lnTo>
                    <a:pt x="221" y="121"/>
                  </a:lnTo>
                  <a:lnTo>
                    <a:pt x="209" y="115"/>
                  </a:lnTo>
                  <a:lnTo>
                    <a:pt x="198" y="106"/>
                  </a:lnTo>
                  <a:lnTo>
                    <a:pt x="192" y="97"/>
                  </a:lnTo>
                  <a:lnTo>
                    <a:pt x="183" y="91"/>
                  </a:lnTo>
                  <a:lnTo>
                    <a:pt x="180" y="81"/>
                  </a:lnTo>
                  <a:lnTo>
                    <a:pt x="178" y="72"/>
                  </a:lnTo>
                  <a:lnTo>
                    <a:pt x="169" y="60"/>
                  </a:lnTo>
                  <a:lnTo>
                    <a:pt x="160" y="60"/>
                  </a:lnTo>
                  <a:lnTo>
                    <a:pt x="152" y="66"/>
                  </a:lnTo>
                  <a:lnTo>
                    <a:pt x="149" y="75"/>
                  </a:lnTo>
                  <a:lnTo>
                    <a:pt x="146" y="84"/>
                  </a:lnTo>
                  <a:lnTo>
                    <a:pt x="143" y="94"/>
                  </a:lnTo>
                  <a:lnTo>
                    <a:pt x="140" y="103"/>
                  </a:lnTo>
                  <a:lnTo>
                    <a:pt x="129" y="103"/>
                  </a:lnTo>
                  <a:lnTo>
                    <a:pt x="117" y="94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0" y="60"/>
                  </a:lnTo>
                  <a:lnTo>
                    <a:pt x="89" y="60"/>
                  </a:lnTo>
                  <a:lnTo>
                    <a:pt x="80" y="66"/>
                  </a:lnTo>
                  <a:lnTo>
                    <a:pt x="77" y="75"/>
                  </a:lnTo>
                  <a:lnTo>
                    <a:pt x="71" y="84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51" y="127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0" y="127"/>
                  </a:lnTo>
                  <a:lnTo>
                    <a:pt x="51" y="121"/>
                  </a:lnTo>
                  <a:lnTo>
                    <a:pt x="43" y="118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4" y="115"/>
                  </a:lnTo>
                  <a:lnTo>
                    <a:pt x="11" y="124"/>
                  </a:lnTo>
                  <a:lnTo>
                    <a:pt x="8" y="133"/>
                  </a:lnTo>
                  <a:lnTo>
                    <a:pt x="2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4" y="169"/>
                  </a:lnTo>
                  <a:lnTo>
                    <a:pt x="22" y="172"/>
                  </a:lnTo>
                  <a:lnTo>
                    <a:pt x="31" y="172"/>
                  </a:lnTo>
                  <a:lnTo>
                    <a:pt x="40" y="176"/>
                  </a:lnTo>
                  <a:lnTo>
                    <a:pt x="51" y="185"/>
                  </a:lnTo>
                  <a:lnTo>
                    <a:pt x="60" y="191"/>
                  </a:lnTo>
                  <a:lnTo>
                    <a:pt x="68" y="197"/>
                  </a:lnTo>
                  <a:lnTo>
                    <a:pt x="80" y="200"/>
                  </a:lnTo>
                  <a:lnTo>
                    <a:pt x="89" y="203"/>
                  </a:lnTo>
                  <a:lnTo>
                    <a:pt x="100" y="203"/>
                  </a:lnTo>
                  <a:lnTo>
                    <a:pt x="109" y="203"/>
                  </a:lnTo>
                  <a:lnTo>
                    <a:pt x="120" y="197"/>
                  </a:lnTo>
                  <a:lnTo>
                    <a:pt x="129" y="194"/>
                  </a:lnTo>
                  <a:lnTo>
                    <a:pt x="135" y="185"/>
                  </a:lnTo>
                  <a:lnTo>
                    <a:pt x="143" y="179"/>
                  </a:lnTo>
                  <a:lnTo>
                    <a:pt x="149" y="169"/>
                  </a:lnTo>
                  <a:lnTo>
                    <a:pt x="157" y="163"/>
                  </a:lnTo>
                  <a:lnTo>
                    <a:pt x="166" y="163"/>
                  </a:lnTo>
                  <a:lnTo>
                    <a:pt x="175" y="166"/>
                  </a:lnTo>
                  <a:lnTo>
                    <a:pt x="183" y="166"/>
                  </a:lnTo>
                  <a:lnTo>
                    <a:pt x="192" y="157"/>
                  </a:lnTo>
                  <a:lnTo>
                    <a:pt x="198" y="148"/>
                  </a:lnTo>
                  <a:lnTo>
                    <a:pt x="201" y="139"/>
                  </a:lnTo>
                  <a:lnTo>
                    <a:pt x="203" y="130"/>
                  </a:lnTo>
                  <a:lnTo>
                    <a:pt x="212" y="130"/>
                  </a:lnTo>
                  <a:lnTo>
                    <a:pt x="224" y="136"/>
                  </a:lnTo>
                  <a:lnTo>
                    <a:pt x="232" y="139"/>
                  </a:lnTo>
                  <a:lnTo>
                    <a:pt x="241" y="142"/>
                  </a:lnTo>
                  <a:lnTo>
                    <a:pt x="232" y="142"/>
                  </a:lnTo>
                  <a:lnTo>
                    <a:pt x="224" y="142"/>
                  </a:lnTo>
                  <a:lnTo>
                    <a:pt x="215" y="142"/>
                  </a:lnTo>
                  <a:lnTo>
                    <a:pt x="206" y="142"/>
                  </a:lnTo>
                  <a:lnTo>
                    <a:pt x="203" y="151"/>
                  </a:lnTo>
                  <a:lnTo>
                    <a:pt x="201" y="160"/>
                  </a:lnTo>
                  <a:lnTo>
                    <a:pt x="201" y="169"/>
                  </a:lnTo>
                  <a:lnTo>
                    <a:pt x="209" y="176"/>
                  </a:lnTo>
                  <a:lnTo>
                    <a:pt x="218" y="179"/>
                  </a:lnTo>
                  <a:lnTo>
                    <a:pt x="226" y="188"/>
                  </a:lnTo>
                  <a:lnTo>
                    <a:pt x="235" y="194"/>
                  </a:lnTo>
                  <a:lnTo>
                    <a:pt x="238" y="203"/>
                  </a:lnTo>
                  <a:lnTo>
                    <a:pt x="226" y="206"/>
                  </a:lnTo>
                  <a:lnTo>
                    <a:pt x="224" y="215"/>
                  </a:lnTo>
                  <a:lnTo>
                    <a:pt x="224" y="224"/>
                  </a:lnTo>
                  <a:lnTo>
                    <a:pt x="221" y="233"/>
                  </a:lnTo>
                  <a:lnTo>
                    <a:pt x="209" y="233"/>
                  </a:lnTo>
                  <a:lnTo>
                    <a:pt x="203" y="245"/>
                  </a:lnTo>
                  <a:lnTo>
                    <a:pt x="198" y="257"/>
                  </a:lnTo>
                  <a:lnTo>
                    <a:pt x="195" y="267"/>
                  </a:lnTo>
                  <a:lnTo>
                    <a:pt x="186" y="267"/>
                  </a:lnTo>
                  <a:lnTo>
                    <a:pt x="183" y="257"/>
                  </a:lnTo>
                  <a:lnTo>
                    <a:pt x="178" y="245"/>
                  </a:lnTo>
                  <a:lnTo>
                    <a:pt x="175" y="233"/>
                  </a:lnTo>
                  <a:lnTo>
                    <a:pt x="166" y="224"/>
                  </a:lnTo>
                  <a:lnTo>
                    <a:pt x="157" y="221"/>
                  </a:lnTo>
                  <a:lnTo>
                    <a:pt x="149" y="218"/>
                  </a:lnTo>
                  <a:lnTo>
                    <a:pt x="137" y="224"/>
                  </a:lnTo>
                  <a:lnTo>
                    <a:pt x="140" y="236"/>
                  </a:lnTo>
                  <a:lnTo>
                    <a:pt x="143" y="245"/>
                  </a:lnTo>
                  <a:lnTo>
                    <a:pt x="143" y="254"/>
                  </a:lnTo>
                  <a:lnTo>
                    <a:pt x="135" y="260"/>
                  </a:lnTo>
                  <a:lnTo>
                    <a:pt x="126" y="260"/>
                  </a:lnTo>
                  <a:lnTo>
                    <a:pt x="114" y="257"/>
                  </a:lnTo>
                  <a:lnTo>
                    <a:pt x="106" y="257"/>
                  </a:lnTo>
                  <a:lnTo>
                    <a:pt x="97" y="257"/>
                  </a:lnTo>
                  <a:lnTo>
                    <a:pt x="89" y="257"/>
                  </a:lnTo>
                  <a:lnTo>
                    <a:pt x="91" y="267"/>
                  </a:lnTo>
                  <a:lnTo>
                    <a:pt x="100" y="276"/>
                  </a:lnTo>
                  <a:lnTo>
                    <a:pt x="100" y="285"/>
                  </a:lnTo>
                  <a:lnTo>
                    <a:pt x="97" y="294"/>
                  </a:lnTo>
                  <a:lnTo>
                    <a:pt x="97" y="303"/>
                  </a:lnTo>
                  <a:lnTo>
                    <a:pt x="109" y="312"/>
                  </a:lnTo>
                  <a:lnTo>
                    <a:pt x="117" y="318"/>
                  </a:lnTo>
                  <a:lnTo>
                    <a:pt x="109" y="318"/>
                  </a:lnTo>
                  <a:lnTo>
                    <a:pt x="100" y="309"/>
                  </a:lnTo>
                  <a:lnTo>
                    <a:pt x="89" y="300"/>
                  </a:lnTo>
                  <a:lnTo>
                    <a:pt x="80" y="297"/>
                  </a:lnTo>
                  <a:lnTo>
                    <a:pt x="71" y="297"/>
                  </a:lnTo>
                  <a:lnTo>
                    <a:pt x="63" y="300"/>
                  </a:lnTo>
                  <a:lnTo>
                    <a:pt x="54" y="306"/>
                  </a:lnTo>
                  <a:lnTo>
                    <a:pt x="43" y="306"/>
                  </a:lnTo>
                  <a:lnTo>
                    <a:pt x="34" y="306"/>
                  </a:lnTo>
                  <a:lnTo>
                    <a:pt x="22" y="309"/>
                  </a:lnTo>
                  <a:lnTo>
                    <a:pt x="11" y="303"/>
                  </a:lnTo>
                  <a:lnTo>
                    <a:pt x="22" y="309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43200" y="27082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2"/>
                  </a:moveTo>
                  <a:lnTo>
                    <a:pt x="8" y="19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34" y="22"/>
                  </a:lnTo>
                  <a:lnTo>
                    <a:pt x="40" y="13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76680" y="294012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5" y="0"/>
                  </a:moveTo>
                  <a:lnTo>
                    <a:pt x="20" y="13"/>
                  </a:lnTo>
                  <a:lnTo>
                    <a:pt x="11" y="16"/>
                  </a:lnTo>
                  <a:lnTo>
                    <a:pt x="8" y="24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4" y="30"/>
                  </a:lnTo>
                  <a:lnTo>
                    <a:pt x="40" y="21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25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10160" y="2549520"/>
              <a:ext cx="339840" cy="509760"/>
            </a:xfrm>
            <a:custGeom>
              <a:avLst/>
              <a:gdLst/>
              <a:ahLst/>
              <a:rect l="l" t="t" r="r" b="b"/>
              <a:pathLst>
                <a:path w="214" h="321">
                  <a:moveTo>
                    <a:pt x="23" y="200"/>
                  </a:moveTo>
                  <a:lnTo>
                    <a:pt x="34" y="182"/>
                  </a:lnTo>
                  <a:lnTo>
                    <a:pt x="23" y="200"/>
                  </a:lnTo>
                  <a:lnTo>
                    <a:pt x="23" y="211"/>
                  </a:lnTo>
                  <a:lnTo>
                    <a:pt x="20" y="220"/>
                  </a:lnTo>
                  <a:lnTo>
                    <a:pt x="17" y="228"/>
                  </a:lnTo>
                  <a:lnTo>
                    <a:pt x="8" y="234"/>
                  </a:lnTo>
                  <a:lnTo>
                    <a:pt x="2" y="24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8" y="268"/>
                  </a:lnTo>
                  <a:lnTo>
                    <a:pt x="17" y="268"/>
                  </a:lnTo>
                  <a:lnTo>
                    <a:pt x="25" y="271"/>
                  </a:lnTo>
                  <a:lnTo>
                    <a:pt x="28" y="280"/>
                  </a:lnTo>
                  <a:lnTo>
                    <a:pt x="37" y="291"/>
                  </a:lnTo>
                  <a:lnTo>
                    <a:pt x="28" y="294"/>
                  </a:lnTo>
                  <a:lnTo>
                    <a:pt x="20" y="285"/>
                  </a:lnTo>
                  <a:lnTo>
                    <a:pt x="31" y="294"/>
                  </a:lnTo>
                  <a:lnTo>
                    <a:pt x="40" y="300"/>
                  </a:lnTo>
                  <a:lnTo>
                    <a:pt x="48" y="311"/>
                  </a:lnTo>
                  <a:lnTo>
                    <a:pt x="57" y="314"/>
                  </a:lnTo>
                  <a:lnTo>
                    <a:pt x="66" y="320"/>
                  </a:lnTo>
                  <a:lnTo>
                    <a:pt x="66" y="311"/>
                  </a:lnTo>
                  <a:lnTo>
                    <a:pt x="74" y="311"/>
                  </a:lnTo>
                  <a:lnTo>
                    <a:pt x="83" y="320"/>
                  </a:lnTo>
                  <a:lnTo>
                    <a:pt x="83" y="308"/>
                  </a:lnTo>
                  <a:lnTo>
                    <a:pt x="92" y="305"/>
                  </a:lnTo>
                  <a:lnTo>
                    <a:pt x="97" y="297"/>
                  </a:lnTo>
                  <a:lnTo>
                    <a:pt x="89" y="288"/>
                  </a:lnTo>
                  <a:lnTo>
                    <a:pt x="83" y="280"/>
                  </a:lnTo>
                  <a:lnTo>
                    <a:pt x="77" y="271"/>
                  </a:lnTo>
                  <a:lnTo>
                    <a:pt x="71" y="262"/>
                  </a:lnTo>
                  <a:lnTo>
                    <a:pt x="69" y="254"/>
                  </a:lnTo>
                  <a:lnTo>
                    <a:pt x="69" y="242"/>
                  </a:lnTo>
                  <a:lnTo>
                    <a:pt x="69" y="234"/>
                  </a:lnTo>
                  <a:lnTo>
                    <a:pt x="69" y="225"/>
                  </a:lnTo>
                  <a:lnTo>
                    <a:pt x="69" y="217"/>
                  </a:lnTo>
                  <a:lnTo>
                    <a:pt x="69" y="208"/>
                  </a:lnTo>
                  <a:lnTo>
                    <a:pt x="69" y="200"/>
                  </a:lnTo>
                  <a:lnTo>
                    <a:pt x="69" y="191"/>
                  </a:lnTo>
                  <a:lnTo>
                    <a:pt x="69" y="182"/>
                  </a:lnTo>
                  <a:lnTo>
                    <a:pt x="77" y="174"/>
                  </a:lnTo>
                  <a:lnTo>
                    <a:pt x="86" y="168"/>
                  </a:lnTo>
                  <a:lnTo>
                    <a:pt x="92" y="160"/>
                  </a:lnTo>
                  <a:lnTo>
                    <a:pt x="97" y="151"/>
                  </a:lnTo>
                  <a:lnTo>
                    <a:pt x="103" y="142"/>
                  </a:lnTo>
                  <a:lnTo>
                    <a:pt x="103" y="134"/>
                  </a:lnTo>
                  <a:lnTo>
                    <a:pt x="103" y="125"/>
                  </a:lnTo>
                  <a:lnTo>
                    <a:pt x="112" y="122"/>
                  </a:lnTo>
                  <a:lnTo>
                    <a:pt x="120" y="117"/>
                  </a:lnTo>
                  <a:lnTo>
                    <a:pt x="123" y="105"/>
                  </a:lnTo>
                  <a:lnTo>
                    <a:pt x="132" y="100"/>
                  </a:lnTo>
                  <a:lnTo>
                    <a:pt x="135" y="91"/>
                  </a:lnTo>
                  <a:lnTo>
                    <a:pt x="143" y="82"/>
                  </a:lnTo>
                  <a:lnTo>
                    <a:pt x="152" y="77"/>
                  </a:lnTo>
                  <a:lnTo>
                    <a:pt x="158" y="68"/>
                  </a:lnTo>
                  <a:lnTo>
                    <a:pt x="166" y="65"/>
                  </a:lnTo>
                  <a:lnTo>
                    <a:pt x="175" y="60"/>
                  </a:lnTo>
                  <a:lnTo>
                    <a:pt x="184" y="57"/>
                  </a:lnTo>
                  <a:lnTo>
                    <a:pt x="189" y="48"/>
                  </a:lnTo>
                  <a:lnTo>
                    <a:pt x="198" y="42"/>
                  </a:lnTo>
                  <a:lnTo>
                    <a:pt x="207" y="37"/>
                  </a:lnTo>
                  <a:lnTo>
                    <a:pt x="210" y="28"/>
                  </a:lnTo>
                  <a:lnTo>
                    <a:pt x="213" y="20"/>
                  </a:lnTo>
                  <a:lnTo>
                    <a:pt x="213" y="11"/>
                  </a:lnTo>
                  <a:lnTo>
                    <a:pt x="210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5" y="8"/>
                  </a:lnTo>
                  <a:lnTo>
                    <a:pt x="175" y="17"/>
                  </a:lnTo>
                  <a:lnTo>
                    <a:pt x="166" y="20"/>
                  </a:lnTo>
                  <a:lnTo>
                    <a:pt x="158" y="25"/>
                  </a:lnTo>
                  <a:lnTo>
                    <a:pt x="149" y="34"/>
                  </a:lnTo>
                  <a:lnTo>
                    <a:pt x="141" y="40"/>
                  </a:lnTo>
                  <a:lnTo>
                    <a:pt x="132" y="42"/>
                  </a:lnTo>
                  <a:lnTo>
                    <a:pt x="123" y="42"/>
                  </a:lnTo>
                  <a:lnTo>
                    <a:pt x="123" y="54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7" y="68"/>
                  </a:lnTo>
                  <a:lnTo>
                    <a:pt x="89" y="77"/>
                  </a:lnTo>
                  <a:lnTo>
                    <a:pt x="83" y="85"/>
                  </a:lnTo>
                  <a:lnTo>
                    <a:pt x="80" y="94"/>
                  </a:lnTo>
                  <a:lnTo>
                    <a:pt x="71" y="100"/>
                  </a:lnTo>
                  <a:lnTo>
                    <a:pt x="66" y="108"/>
                  </a:lnTo>
                  <a:lnTo>
                    <a:pt x="63" y="117"/>
                  </a:lnTo>
                  <a:lnTo>
                    <a:pt x="63" y="125"/>
                  </a:lnTo>
                  <a:lnTo>
                    <a:pt x="57" y="134"/>
                  </a:lnTo>
                  <a:lnTo>
                    <a:pt x="51" y="142"/>
                  </a:lnTo>
                  <a:lnTo>
                    <a:pt x="46" y="151"/>
                  </a:lnTo>
                  <a:lnTo>
                    <a:pt x="40" y="162"/>
                  </a:lnTo>
                  <a:lnTo>
                    <a:pt x="37" y="171"/>
                  </a:lnTo>
                  <a:lnTo>
                    <a:pt x="46" y="177"/>
                  </a:lnTo>
                  <a:lnTo>
                    <a:pt x="54" y="180"/>
                  </a:lnTo>
                  <a:lnTo>
                    <a:pt x="57" y="188"/>
                  </a:lnTo>
                  <a:lnTo>
                    <a:pt x="48" y="185"/>
                  </a:lnTo>
                  <a:lnTo>
                    <a:pt x="40" y="185"/>
                  </a:lnTo>
                  <a:lnTo>
                    <a:pt x="31" y="188"/>
                  </a:lnTo>
                  <a:lnTo>
                    <a:pt x="23" y="200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23" y="237"/>
                  </a:lnTo>
                  <a:lnTo>
                    <a:pt x="14" y="242"/>
                  </a:lnTo>
                  <a:lnTo>
                    <a:pt x="8" y="251"/>
                  </a:lnTo>
                  <a:lnTo>
                    <a:pt x="0" y="260"/>
                  </a:lnTo>
                  <a:lnTo>
                    <a:pt x="23" y="2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71720" y="444168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49" y="47"/>
                  </a:moveTo>
                  <a:lnTo>
                    <a:pt x="44" y="58"/>
                  </a:lnTo>
                  <a:lnTo>
                    <a:pt x="35" y="58"/>
                  </a:lnTo>
                  <a:lnTo>
                    <a:pt x="30" y="66"/>
                  </a:lnTo>
                  <a:lnTo>
                    <a:pt x="30" y="75"/>
                  </a:lnTo>
                  <a:lnTo>
                    <a:pt x="30" y="83"/>
                  </a:lnTo>
                  <a:lnTo>
                    <a:pt x="30" y="91"/>
                  </a:lnTo>
                  <a:lnTo>
                    <a:pt x="22" y="94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8" y="139"/>
                  </a:lnTo>
                  <a:lnTo>
                    <a:pt x="16" y="139"/>
                  </a:lnTo>
                  <a:lnTo>
                    <a:pt x="27" y="147"/>
                  </a:lnTo>
                  <a:lnTo>
                    <a:pt x="33" y="156"/>
                  </a:lnTo>
                  <a:lnTo>
                    <a:pt x="41" y="156"/>
                  </a:lnTo>
                  <a:lnTo>
                    <a:pt x="46" y="147"/>
                  </a:lnTo>
                  <a:lnTo>
                    <a:pt x="52" y="139"/>
                  </a:lnTo>
                  <a:lnTo>
                    <a:pt x="55" y="130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71" y="108"/>
                  </a:lnTo>
                  <a:lnTo>
                    <a:pt x="80" y="108"/>
                  </a:lnTo>
                  <a:lnTo>
                    <a:pt x="82" y="100"/>
                  </a:lnTo>
                  <a:lnTo>
                    <a:pt x="82" y="91"/>
                  </a:lnTo>
                  <a:lnTo>
                    <a:pt x="82" y="83"/>
                  </a:lnTo>
                  <a:lnTo>
                    <a:pt x="82" y="75"/>
                  </a:lnTo>
                  <a:lnTo>
                    <a:pt x="82" y="66"/>
                  </a:lnTo>
                  <a:lnTo>
                    <a:pt x="85" y="58"/>
                  </a:lnTo>
                  <a:lnTo>
                    <a:pt x="93" y="52"/>
                  </a:lnTo>
                  <a:lnTo>
                    <a:pt x="102" y="47"/>
                  </a:lnTo>
                  <a:lnTo>
                    <a:pt x="107" y="39"/>
                  </a:lnTo>
                  <a:lnTo>
                    <a:pt x="115" y="36"/>
                  </a:lnTo>
                  <a:lnTo>
                    <a:pt x="121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38" y="5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8" y="11"/>
                  </a:lnTo>
                  <a:lnTo>
                    <a:pt x="82" y="19"/>
                  </a:lnTo>
                  <a:lnTo>
                    <a:pt x="80" y="27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69" y="61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49" y="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90800" y="524844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1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6" y="21"/>
                  </a:lnTo>
                  <a:lnTo>
                    <a:pt x="23" y="27"/>
                  </a:lnTo>
                  <a:lnTo>
                    <a:pt x="18" y="18"/>
                  </a:lnTo>
                  <a:lnTo>
                    <a:pt x="13" y="9"/>
                  </a:lnTo>
                  <a:lnTo>
                    <a:pt x="6" y="21"/>
                  </a:lnTo>
                  <a:lnTo>
                    <a:pt x="9" y="6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57400" y="5361120"/>
              <a:ext cx="27000" cy="72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6" y="0"/>
                  </a:moveTo>
                  <a:lnTo>
                    <a:pt x="5" y="19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0" y="28"/>
                  </a:lnTo>
                  <a:lnTo>
                    <a:pt x="16" y="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52480" y="4357800"/>
              <a:ext cx="88920" cy="73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0"/>
                  </a:moveTo>
                  <a:lnTo>
                    <a:pt x="20" y="19"/>
                  </a:lnTo>
                  <a:lnTo>
                    <a:pt x="20" y="28"/>
                  </a:lnTo>
                  <a:lnTo>
                    <a:pt x="28" y="33"/>
                  </a:lnTo>
                  <a:lnTo>
                    <a:pt x="28" y="42"/>
                  </a:lnTo>
                  <a:lnTo>
                    <a:pt x="37" y="45"/>
                  </a:lnTo>
                  <a:lnTo>
                    <a:pt x="46" y="45"/>
                  </a:lnTo>
                  <a:lnTo>
                    <a:pt x="49" y="36"/>
                  </a:lnTo>
                  <a:lnTo>
                    <a:pt x="55" y="28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26" y="16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9" name="" descr=""/>
            <p:cNvPicPr/>
            <p:nvPr/>
          </p:nvPicPr>
          <p:blipFill>
            <a:blip r:embed="rId1"/>
            <a:stretch/>
          </p:blipFill>
          <p:spPr>
            <a:xfrm>
              <a:off x="228600" y="6137280"/>
              <a:ext cx="611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993600" y="6272280"/>
              <a:ext cx="47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HO European Centre for Environment and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72040" y="743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0"/>
                  </a:moveTo>
                  <a:lnTo>
                    <a:pt x="8" y="8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5" y="37"/>
                  </a:lnTo>
                  <a:lnTo>
                    <a:pt x="11" y="46"/>
                  </a:lnTo>
                  <a:lnTo>
                    <a:pt x="19" y="49"/>
                  </a:lnTo>
                  <a:lnTo>
                    <a:pt x="31" y="52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7" y="55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31" y="14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997360" y="4836960"/>
              <a:ext cx="788760" cy="408240"/>
            </a:xfrm>
            <a:custGeom>
              <a:avLst/>
              <a:gdLst/>
              <a:ahLst/>
              <a:rect l="l" t="t" r="r" b="b"/>
              <a:pathLst>
                <a:path w="497" h="257">
                  <a:moveTo>
                    <a:pt x="0" y="193"/>
                  </a:moveTo>
                  <a:lnTo>
                    <a:pt x="24" y="189"/>
                  </a:lnTo>
                  <a:lnTo>
                    <a:pt x="32" y="182"/>
                  </a:lnTo>
                  <a:lnTo>
                    <a:pt x="40" y="174"/>
                  </a:lnTo>
                  <a:lnTo>
                    <a:pt x="46" y="164"/>
                  </a:lnTo>
                  <a:lnTo>
                    <a:pt x="45" y="155"/>
                  </a:lnTo>
                  <a:lnTo>
                    <a:pt x="52" y="149"/>
                  </a:lnTo>
                  <a:lnTo>
                    <a:pt x="60" y="140"/>
                  </a:lnTo>
                  <a:lnTo>
                    <a:pt x="66" y="131"/>
                  </a:lnTo>
                  <a:lnTo>
                    <a:pt x="69" y="123"/>
                  </a:lnTo>
                  <a:lnTo>
                    <a:pt x="74" y="114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7" y="95"/>
                  </a:lnTo>
                  <a:lnTo>
                    <a:pt x="104" y="88"/>
                  </a:lnTo>
                  <a:lnTo>
                    <a:pt x="109" y="78"/>
                  </a:lnTo>
                  <a:lnTo>
                    <a:pt x="116" y="70"/>
                  </a:lnTo>
                  <a:lnTo>
                    <a:pt x="118" y="60"/>
                  </a:lnTo>
                  <a:lnTo>
                    <a:pt x="128" y="53"/>
                  </a:lnTo>
                  <a:lnTo>
                    <a:pt x="131" y="44"/>
                  </a:lnTo>
                  <a:lnTo>
                    <a:pt x="137" y="37"/>
                  </a:lnTo>
                  <a:lnTo>
                    <a:pt x="144" y="30"/>
                  </a:lnTo>
                  <a:lnTo>
                    <a:pt x="153" y="22"/>
                  </a:lnTo>
                  <a:lnTo>
                    <a:pt x="159" y="15"/>
                  </a:lnTo>
                  <a:lnTo>
                    <a:pt x="168" y="10"/>
                  </a:lnTo>
                  <a:lnTo>
                    <a:pt x="175" y="6"/>
                  </a:lnTo>
                  <a:lnTo>
                    <a:pt x="187" y="6"/>
                  </a:lnTo>
                  <a:lnTo>
                    <a:pt x="193" y="0"/>
                  </a:lnTo>
                  <a:lnTo>
                    <a:pt x="202" y="7"/>
                  </a:lnTo>
                  <a:lnTo>
                    <a:pt x="215" y="15"/>
                  </a:lnTo>
                  <a:lnTo>
                    <a:pt x="207" y="14"/>
                  </a:lnTo>
                  <a:lnTo>
                    <a:pt x="205" y="22"/>
                  </a:lnTo>
                  <a:lnTo>
                    <a:pt x="205" y="31"/>
                  </a:lnTo>
                  <a:lnTo>
                    <a:pt x="215" y="34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40" y="33"/>
                  </a:lnTo>
                  <a:lnTo>
                    <a:pt x="243" y="40"/>
                  </a:lnTo>
                  <a:lnTo>
                    <a:pt x="236" y="45"/>
                  </a:lnTo>
                  <a:lnTo>
                    <a:pt x="228" y="49"/>
                  </a:lnTo>
                  <a:lnTo>
                    <a:pt x="220" y="55"/>
                  </a:lnTo>
                  <a:lnTo>
                    <a:pt x="213" y="62"/>
                  </a:lnTo>
                  <a:lnTo>
                    <a:pt x="222" y="64"/>
                  </a:lnTo>
                  <a:lnTo>
                    <a:pt x="226" y="71"/>
                  </a:lnTo>
                  <a:lnTo>
                    <a:pt x="229" y="78"/>
                  </a:lnTo>
                  <a:lnTo>
                    <a:pt x="232" y="84"/>
                  </a:lnTo>
                  <a:lnTo>
                    <a:pt x="232" y="94"/>
                  </a:lnTo>
                  <a:lnTo>
                    <a:pt x="230" y="103"/>
                  </a:lnTo>
                  <a:lnTo>
                    <a:pt x="239" y="163"/>
                  </a:lnTo>
                  <a:lnTo>
                    <a:pt x="190" y="125"/>
                  </a:lnTo>
                  <a:lnTo>
                    <a:pt x="236" y="116"/>
                  </a:lnTo>
                  <a:lnTo>
                    <a:pt x="246" y="110"/>
                  </a:lnTo>
                  <a:lnTo>
                    <a:pt x="251" y="105"/>
                  </a:lnTo>
                  <a:lnTo>
                    <a:pt x="259" y="94"/>
                  </a:lnTo>
                  <a:lnTo>
                    <a:pt x="270" y="93"/>
                  </a:lnTo>
                  <a:lnTo>
                    <a:pt x="277" y="90"/>
                  </a:lnTo>
                  <a:lnTo>
                    <a:pt x="288" y="86"/>
                  </a:lnTo>
                  <a:lnTo>
                    <a:pt x="295" y="83"/>
                  </a:lnTo>
                  <a:lnTo>
                    <a:pt x="303" y="74"/>
                  </a:lnTo>
                  <a:lnTo>
                    <a:pt x="313" y="75"/>
                  </a:lnTo>
                  <a:lnTo>
                    <a:pt x="320" y="80"/>
                  </a:lnTo>
                  <a:lnTo>
                    <a:pt x="329" y="76"/>
                  </a:lnTo>
                  <a:lnTo>
                    <a:pt x="338" y="74"/>
                  </a:lnTo>
                  <a:lnTo>
                    <a:pt x="345" y="78"/>
                  </a:lnTo>
                  <a:lnTo>
                    <a:pt x="351" y="86"/>
                  </a:lnTo>
                  <a:lnTo>
                    <a:pt x="357" y="92"/>
                  </a:lnTo>
                  <a:lnTo>
                    <a:pt x="365" y="90"/>
                  </a:lnTo>
                  <a:lnTo>
                    <a:pt x="379" y="94"/>
                  </a:lnTo>
                  <a:lnTo>
                    <a:pt x="385" y="99"/>
                  </a:lnTo>
                  <a:lnTo>
                    <a:pt x="394" y="102"/>
                  </a:lnTo>
                  <a:lnTo>
                    <a:pt x="403" y="107"/>
                  </a:lnTo>
                  <a:lnTo>
                    <a:pt x="405" y="115"/>
                  </a:lnTo>
                  <a:lnTo>
                    <a:pt x="413" y="121"/>
                  </a:lnTo>
                  <a:lnTo>
                    <a:pt x="423" y="125"/>
                  </a:lnTo>
                  <a:lnTo>
                    <a:pt x="431" y="128"/>
                  </a:lnTo>
                  <a:lnTo>
                    <a:pt x="440" y="132"/>
                  </a:lnTo>
                  <a:lnTo>
                    <a:pt x="455" y="137"/>
                  </a:lnTo>
                  <a:lnTo>
                    <a:pt x="468" y="141"/>
                  </a:lnTo>
                  <a:lnTo>
                    <a:pt x="473" y="148"/>
                  </a:lnTo>
                  <a:lnTo>
                    <a:pt x="480" y="154"/>
                  </a:lnTo>
                  <a:lnTo>
                    <a:pt x="485" y="161"/>
                  </a:lnTo>
                  <a:lnTo>
                    <a:pt x="488" y="172"/>
                  </a:lnTo>
                  <a:lnTo>
                    <a:pt x="492" y="178"/>
                  </a:lnTo>
                  <a:lnTo>
                    <a:pt x="493" y="187"/>
                  </a:lnTo>
                  <a:lnTo>
                    <a:pt x="494" y="195"/>
                  </a:lnTo>
                  <a:lnTo>
                    <a:pt x="496" y="201"/>
                  </a:lnTo>
                  <a:lnTo>
                    <a:pt x="491" y="213"/>
                  </a:lnTo>
                  <a:lnTo>
                    <a:pt x="480" y="217"/>
                  </a:lnTo>
                  <a:lnTo>
                    <a:pt x="474" y="222"/>
                  </a:lnTo>
                  <a:lnTo>
                    <a:pt x="466" y="228"/>
                  </a:lnTo>
                  <a:lnTo>
                    <a:pt x="458" y="234"/>
                  </a:lnTo>
                  <a:lnTo>
                    <a:pt x="448" y="238"/>
                  </a:lnTo>
                  <a:lnTo>
                    <a:pt x="439" y="240"/>
                  </a:lnTo>
                  <a:lnTo>
                    <a:pt x="430" y="244"/>
                  </a:lnTo>
                  <a:lnTo>
                    <a:pt x="422" y="248"/>
                  </a:lnTo>
                  <a:lnTo>
                    <a:pt x="414" y="240"/>
                  </a:lnTo>
                  <a:lnTo>
                    <a:pt x="405" y="242"/>
                  </a:lnTo>
                  <a:lnTo>
                    <a:pt x="395" y="241"/>
                  </a:lnTo>
                  <a:lnTo>
                    <a:pt x="387" y="244"/>
                  </a:lnTo>
                  <a:lnTo>
                    <a:pt x="380" y="248"/>
                  </a:lnTo>
                  <a:lnTo>
                    <a:pt x="372" y="250"/>
                  </a:lnTo>
                  <a:lnTo>
                    <a:pt x="363" y="252"/>
                  </a:lnTo>
                  <a:lnTo>
                    <a:pt x="357" y="256"/>
                  </a:lnTo>
                  <a:lnTo>
                    <a:pt x="350" y="247"/>
                  </a:lnTo>
                  <a:lnTo>
                    <a:pt x="349" y="240"/>
                  </a:lnTo>
                  <a:lnTo>
                    <a:pt x="340" y="243"/>
                  </a:lnTo>
                  <a:lnTo>
                    <a:pt x="333" y="246"/>
                  </a:lnTo>
                  <a:lnTo>
                    <a:pt x="324" y="248"/>
                  </a:lnTo>
                  <a:lnTo>
                    <a:pt x="315" y="247"/>
                  </a:lnTo>
                  <a:lnTo>
                    <a:pt x="315" y="240"/>
                  </a:lnTo>
                  <a:lnTo>
                    <a:pt x="313" y="233"/>
                  </a:lnTo>
                  <a:lnTo>
                    <a:pt x="310" y="225"/>
                  </a:lnTo>
                  <a:lnTo>
                    <a:pt x="297" y="227"/>
                  </a:lnTo>
                  <a:lnTo>
                    <a:pt x="288" y="227"/>
                  </a:lnTo>
                  <a:lnTo>
                    <a:pt x="281" y="221"/>
                  </a:lnTo>
                  <a:lnTo>
                    <a:pt x="277" y="215"/>
                  </a:lnTo>
                  <a:lnTo>
                    <a:pt x="267" y="213"/>
                  </a:lnTo>
                  <a:lnTo>
                    <a:pt x="226" y="177"/>
                  </a:lnTo>
                  <a:lnTo>
                    <a:pt x="245" y="217"/>
                  </a:lnTo>
                  <a:lnTo>
                    <a:pt x="236" y="217"/>
                  </a:lnTo>
                  <a:lnTo>
                    <a:pt x="227" y="213"/>
                  </a:lnTo>
                  <a:lnTo>
                    <a:pt x="219" y="211"/>
                  </a:lnTo>
                  <a:lnTo>
                    <a:pt x="209" y="209"/>
                  </a:lnTo>
                  <a:lnTo>
                    <a:pt x="200" y="210"/>
                  </a:lnTo>
                  <a:lnTo>
                    <a:pt x="191" y="215"/>
                  </a:lnTo>
                  <a:lnTo>
                    <a:pt x="184" y="218"/>
                  </a:lnTo>
                  <a:lnTo>
                    <a:pt x="176" y="219"/>
                  </a:lnTo>
                  <a:lnTo>
                    <a:pt x="166" y="223"/>
                  </a:lnTo>
                  <a:lnTo>
                    <a:pt x="158" y="230"/>
                  </a:lnTo>
                  <a:lnTo>
                    <a:pt x="150" y="234"/>
                  </a:lnTo>
                  <a:lnTo>
                    <a:pt x="139" y="242"/>
                  </a:lnTo>
                  <a:lnTo>
                    <a:pt x="133" y="247"/>
                  </a:lnTo>
                  <a:lnTo>
                    <a:pt x="122" y="248"/>
                  </a:lnTo>
                  <a:lnTo>
                    <a:pt x="111" y="253"/>
                  </a:lnTo>
                  <a:lnTo>
                    <a:pt x="102" y="252"/>
                  </a:lnTo>
                  <a:lnTo>
                    <a:pt x="91" y="247"/>
                  </a:lnTo>
                  <a:lnTo>
                    <a:pt x="82" y="245"/>
                  </a:lnTo>
                  <a:lnTo>
                    <a:pt x="74" y="244"/>
                  </a:lnTo>
                  <a:lnTo>
                    <a:pt x="63" y="244"/>
                  </a:lnTo>
                  <a:lnTo>
                    <a:pt x="49" y="244"/>
                  </a:lnTo>
                  <a:lnTo>
                    <a:pt x="43" y="238"/>
                  </a:lnTo>
                  <a:lnTo>
                    <a:pt x="36" y="232"/>
                  </a:lnTo>
                  <a:lnTo>
                    <a:pt x="36" y="221"/>
                  </a:lnTo>
                  <a:lnTo>
                    <a:pt x="32" y="217"/>
                  </a:lnTo>
                  <a:lnTo>
                    <a:pt x="26" y="209"/>
                  </a:lnTo>
                  <a:lnTo>
                    <a:pt x="22" y="204"/>
                  </a:lnTo>
                  <a:lnTo>
                    <a:pt x="18" y="197"/>
                  </a:lnTo>
                  <a:lnTo>
                    <a:pt x="0" y="193"/>
                  </a:lnTo>
                  <a:lnTo>
                    <a:pt x="14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762120" y="3087720"/>
            <a:ext cx="790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86080" y="380880"/>
            <a:ext cx="66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bient concentr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f ultrafine (UP) and fine (FP)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520960" y="5967360"/>
            <a:ext cx="32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Source: Wichmann &amp; Peters 2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85240" y="5635800"/>
            <a:ext cx="56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P = NC 0.01 – 0.1;       FP = MC 0.01 – 2.5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PM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762120" y="1287360"/>
          <a:ext cx="8076960" cy="428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287360"/>
                    <a:ext cx="8076960" cy="42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2195640" y="17892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rfu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29360" y="178920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achsen-Anh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d8a"/>
            </a:gs>
            <a:gs pos="50000">
              <a:srgbClr val="0f219b"/>
            </a:gs>
            <a:gs pos="100000">
              <a:srgbClr val="0d1d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28600" y="557280"/>
            <a:ext cx="8120160" cy="6118200"/>
            <a:chOff x="228600" y="557280"/>
            <a:chExt cx="8120160" cy="6118200"/>
          </a:xfrm>
        </p:grpSpPr>
        <p:sp>
          <p:nvSpPr>
            <p:cNvPr id="486" name=""/>
            <p:cNvSpPr/>
            <p:nvPr/>
          </p:nvSpPr>
          <p:spPr>
            <a:xfrm>
              <a:off x="2662200" y="20638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2" y="77"/>
                  </a:moveTo>
                  <a:lnTo>
                    <a:pt x="2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2" y="125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5" y="174"/>
                  </a:lnTo>
                  <a:lnTo>
                    <a:pt x="31" y="182"/>
                  </a:lnTo>
                  <a:lnTo>
                    <a:pt x="40" y="182"/>
                  </a:lnTo>
                  <a:lnTo>
                    <a:pt x="48" y="182"/>
                  </a:lnTo>
                  <a:lnTo>
                    <a:pt x="60" y="191"/>
                  </a:lnTo>
                  <a:lnTo>
                    <a:pt x="71" y="196"/>
                  </a:lnTo>
                  <a:lnTo>
                    <a:pt x="71" y="205"/>
                  </a:lnTo>
                  <a:lnTo>
                    <a:pt x="74" y="214"/>
                  </a:lnTo>
                  <a:lnTo>
                    <a:pt x="83" y="214"/>
                  </a:lnTo>
                  <a:lnTo>
                    <a:pt x="91" y="214"/>
                  </a:lnTo>
                  <a:lnTo>
                    <a:pt x="100" y="214"/>
                  </a:lnTo>
                  <a:lnTo>
                    <a:pt x="109" y="214"/>
                  </a:lnTo>
                  <a:lnTo>
                    <a:pt x="117" y="214"/>
                  </a:lnTo>
                  <a:lnTo>
                    <a:pt x="126" y="214"/>
                  </a:lnTo>
                  <a:lnTo>
                    <a:pt x="137" y="208"/>
                  </a:lnTo>
                  <a:lnTo>
                    <a:pt x="149" y="202"/>
                  </a:lnTo>
                  <a:lnTo>
                    <a:pt x="149" y="194"/>
                  </a:lnTo>
                  <a:lnTo>
                    <a:pt x="146" y="185"/>
                  </a:lnTo>
                  <a:lnTo>
                    <a:pt x="146" y="176"/>
                  </a:lnTo>
                  <a:lnTo>
                    <a:pt x="155" y="168"/>
                  </a:lnTo>
                  <a:lnTo>
                    <a:pt x="158" y="159"/>
                  </a:lnTo>
                  <a:lnTo>
                    <a:pt x="158" y="151"/>
                  </a:lnTo>
                  <a:lnTo>
                    <a:pt x="155" y="142"/>
                  </a:lnTo>
                  <a:lnTo>
                    <a:pt x="155" y="134"/>
                  </a:lnTo>
                  <a:lnTo>
                    <a:pt x="146" y="134"/>
                  </a:lnTo>
                  <a:lnTo>
                    <a:pt x="137" y="134"/>
                  </a:lnTo>
                  <a:lnTo>
                    <a:pt x="135" y="125"/>
                  </a:lnTo>
                  <a:lnTo>
                    <a:pt x="129" y="116"/>
                  </a:lnTo>
                  <a:lnTo>
                    <a:pt x="120" y="114"/>
                  </a:lnTo>
                  <a:lnTo>
                    <a:pt x="114" y="105"/>
                  </a:lnTo>
                  <a:lnTo>
                    <a:pt x="114" y="97"/>
                  </a:lnTo>
                  <a:lnTo>
                    <a:pt x="106" y="94"/>
                  </a:lnTo>
                  <a:lnTo>
                    <a:pt x="97" y="94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89" y="71"/>
                  </a:lnTo>
                  <a:lnTo>
                    <a:pt x="80" y="68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83" y="45"/>
                  </a:lnTo>
                  <a:lnTo>
                    <a:pt x="94" y="45"/>
                  </a:lnTo>
                  <a:lnTo>
                    <a:pt x="103" y="39"/>
                  </a:lnTo>
                  <a:lnTo>
                    <a:pt x="106" y="31"/>
                  </a:lnTo>
                  <a:lnTo>
                    <a:pt x="103" y="22"/>
                  </a:lnTo>
                  <a:lnTo>
                    <a:pt x="94" y="22"/>
                  </a:lnTo>
                  <a:lnTo>
                    <a:pt x="86" y="14"/>
                  </a:lnTo>
                  <a:lnTo>
                    <a:pt x="77" y="11"/>
                  </a:lnTo>
                  <a:lnTo>
                    <a:pt x="68" y="11"/>
                  </a:lnTo>
                  <a:lnTo>
                    <a:pt x="54" y="0"/>
                  </a:lnTo>
                  <a:lnTo>
                    <a:pt x="51" y="8"/>
                  </a:lnTo>
                  <a:lnTo>
                    <a:pt x="60" y="14"/>
                  </a:lnTo>
                  <a:lnTo>
                    <a:pt x="63" y="22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7" y="45"/>
                  </a:lnTo>
                  <a:lnTo>
                    <a:pt x="45" y="45"/>
                  </a:lnTo>
                  <a:lnTo>
                    <a:pt x="40" y="37"/>
                  </a:lnTo>
                  <a:lnTo>
                    <a:pt x="34" y="28"/>
                  </a:lnTo>
                  <a:lnTo>
                    <a:pt x="31" y="37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5" y="62"/>
                  </a:lnTo>
                  <a:lnTo>
                    <a:pt x="17" y="68"/>
                  </a:lnTo>
                  <a:lnTo>
                    <a:pt x="2" y="77"/>
                  </a:lnTo>
                  <a:lnTo>
                    <a:pt x="2" y="7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85760" y="557280"/>
              <a:ext cx="6975720" cy="5226120"/>
            </a:xfrm>
            <a:custGeom>
              <a:avLst/>
              <a:gdLst/>
              <a:ahLst/>
              <a:rect l="l" t="t" r="r" b="b"/>
              <a:pathLst>
                <a:path w="4394" h="3292">
                  <a:moveTo>
                    <a:pt x="4183" y="665"/>
                  </a:moveTo>
                  <a:lnTo>
                    <a:pt x="4174" y="685"/>
                  </a:lnTo>
                  <a:lnTo>
                    <a:pt x="4165" y="680"/>
                  </a:lnTo>
                  <a:lnTo>
                    <a:pt x="4154" y="671"/>
                  </a:lnTo>
                  <a:lnTo>
                    <a:pt x="4145" y="665"/>
                  </a:lnTo>
                  <a:lnTo>
                    <a:pt x="4136" y="657"/>
                  </a:lnTo>
                  <a:lnTo>
                    <a:pt x="4128" y="648"/>
                  </a:lnTo>
                  <a:lnTo>
                    <a:pt x="4122" y="639"/>
                  </a:lnTo>
                  <a:lnTo>
                    <a:pt x="4110" y="631"/>
                  </a:lnTo>
                  <a:lnTo>
                    <a:pt x="4104" y="622"/>
                  </a:lnTo>
                  <a:lnTo>
                    <a:pt x="4098" y="613"/>
                  </a:lnTo>
                  <a:lnTo>
                    <a:pt x="4093" y="605"/>
                  </a:lnTo>
                  <a:lnTo>
                    <a:pt x="4084" y="596"/>
                  </a:lnTo>
                  <a:lnTo>
                    <a:pt x="4075" y="593"/>
                  </a:lnTo>
                  <a:lnTo>
                    <a:pt x="4066" y="590"/>
                  </a:lnTo>
                  <a:lnTo>
                    <a:pt x="4058" y="587"/>
                  </a:lnTo>
                  <a:lnTo>
                    <a:pt x="4049" y="585"/>
                  </a:lnTo>
                  <a:lnTo>
                    <a:pt x="4037" y="585"/>
                  </a:lnTo>
                  <a:lnTo>
                    <a:pt x="4029" y="582"/>
                  </a:lnTo>
                  <a:lnTo>
                    <a:pt x="4023" y="573"/>
                  </a:lnTo>
                  <a:lnTo>
                    <a:pt x="4020" y="564"/>
                  </a:lnTo>
                  <a:lnTo>
                    <a:pt x="4011" y="556"/>
                  </a:lnTo>
                  <a:lnTo>
                    <a:pt x="4002" y="550"/>
                  </a:lnTo>
                  <a:lnTo>
                    <a:pt x="4002" y="541"/>
                  </a:lnTo>
                  <a:lnTo>
                    <a:pt x="3994" y="538"/>
                  </a:lnTo>
                  <a:lnTo>
                    <a:pt x="3982" y="538"/>
                  </a:lnTo>
                  <a:lnTo>
                    <a:pt x="3973" y="538"/>
                  </a:lnTo>
                  <a:lnTo>
                    <a:pt x="3965" y="538"/>
                  </a:lnTo>
                  <a:lnTo>
                    <a:pt x="3953" y="538"/>
                  </a:lnTo>
                  <a:lnTo>
                    <a:pt x="3947" y="530"/>
                  </a:lnTo>
                  <a:lnTo>
                    <a:pt x="3947" y="521"/>
                  </a:lnTo>
                  <a:lnTo>
                    <a:pt x="3938" y="512"/>
                  </a:lnTo>
                  <a:lnTo>
                    <a:pt x="3930" y="504"/>
                  </a:lnTo>
                  <a:lnTo>
                    <a:pt x="3930" y="495"/>
                  </a:lnTo>
                  <a:lnTo>
                    <a:pt x="3927" y="484"/>
                  </a:lnTo>
                  <a:lnTo>
                    <a:pt x="3918" y="481"/>
                  </a:lnTo>
                  <a:lnTo>
                    <a:pt x="3909" y="481"/>
                  </a:lnTo>
                  <a:lnTo>
                    <a:pt x="3901" y="481"/>
                  </a:lnTo>
                  <a:lnTo>
                    <a:pt x="3892" y="481"/>
                  </a:lnTo>
                  <a:lnTo>
                    <a:pt x="3883" y="481"/>
                  </a:lnTo>
                  <a:lnTo>
                    <a:pt x="3871" y="481"/>
                  </a:lnTo>
                  <a:lnTo>
                    <a:pt x="3863" y="481"/>
                  </a:lnTo>
                  <a:lnTo>
                    <a:pt x="3851" y="478"/>
                  </a:lnTo>
                  <a:lnTo>
                    <a:pt x="3842" y="472"/>
                  </a:lnTo>
                  <a:lnTo>
                    <a:pt x="3842" y="463"/>
                  </a:lnTo>
                  <a:lnTo>
                    <a:pt x="3842" y="455"/>
                  </a:lnTo>
                  <a:lnTo>
                    <a:pt x="3834" y="446"/>
                  </a:lnTo>
                  <a:lnTo>
                    <a:pt x="3825" y="446"/>
                  </a:lnTo>
                  <a:lnTo>
                    <a:pt x="3819" y="455"/>
                  </a:lnTo>
                  <a:lnTo>
                    <a:pt x="3810" y="458"/>
                  </a:lnTo>
                  <a:lnTo>
                    <a:pt x="3802" y="461"/>
                  </a:lnTo>
                  <a:lnTo>
                    <a:pt x="3793" y="461"/>
                  </a:lnTo>
                  <a:lnTo>
                    <a:pt x="3784" y="461"/>
                  </a:lnTo>
                  <a:lnTo>
                    <a:pt x="3775" y="461"/>
                  </a:lnTo>
                  <a:lnTo>
                    <a:pt x="3764" y="455"/>
                  </a:lnTo>
                  <a:lnTo>
                    <a:pt x="3755" y="452"/>
                  </a:lnTo>
                  <a:lnTo>
                    <a:pt x="3752" y="461"/>
                  </a:lnTo>
                  <a:lnTo>
                    <a:pt x="3755" y="469"/>
                  </a:lnTo>
                  <a:lnTo>
                    <a:pt x="3764" y="472"/>
                  </a:lnTo>
                  <a:lnTo>
                    <a:pt x="3755" y="475"/>
                  </a:lnTo>
                  <a:lnTo>
                    <a:pt x="3746" y="475"/>
                  </a:lnTo>
                  <a:lnTo>
                    <a:pt x="3737" y="478"/>
                  </a:lnTo>
                  <a:lnTo>
                    <a:pt x="3729" y="478"/>
                  </a:lnTo>
                  <a:lnTo>
                    <a:pt x="3720" y="478"/>
                  </a:lnTo>
                  <a:lnTo>
                    <a:pt x="3711" y="472"/>
                  </a:lnTo>
                  <a:lnTo>
                    <a:pt x="3703" y="463"/>
                  </a:lnTo>
                  <a:lnTo>
                    <a:pt x="3694" y="455"/>
                  </a:lnTo>
                  <a:lnTo>
                    <a:pt x="3685" y="452"/>
                  </a:lnTo>
                  <a:lnTo>
                    <a:pt x="3676" y="452"/>
                  </a:lnTo>
                  <a:lnTo>
                    <a:pt x="3668" y="449"/>
                  </a:lnTo>
                  <a:lnTo>
                    <a:pt x="3656" y="449"/>
                  </a:lnTo>
                  <a:lnTo>
                    <a:pt x="3647" y="449"/>
                  </a:lnTo>
                  <a:lnTo>
                    <a:pt x="3638" y="449"/>
                  </a:lnTo>
                  <a:lnTo>
                    <a:pt x="3636" y="440"/>
                  </a:lnTo>
                  <a:lnTo>
                    <a:pt x="3636" y="432"/>
                  </a:lnTo>
                  <a:lnTo>
                    <a:pt x="3630" y="423"/>
                  </a:lnTo>
                  <a:lnTo>
                    <a:pt x="3638" y="423"/>
                  </a:lnTo>
                  <a:lnTo>
                    <a:pt x="3636" y="414"/>
                  </a:lnTo>
                  <a:lnTo>
                    <a:pt x="3627" y="412"/>
                  </a:lnTo>
                  <a:lnTo>
                    <a:pt x="3618" y="409"/>
                  </a:lnTo>
                  <a:lnTo>
                    <a:pt x="3615" y="400"/>
                  </a:lnTo>
                  <a:lnTo>
                    <a:pt x="3609" y="391"/>
                  </a:lnTo>
                  <a:lnTo>
                    <a:pt x="3618" y="391"/>
                  </a:lnTo>
                  <a:lnTo>
                    <a:pt x="3627" y="391"/>
                  </a:lnTo>
                  <a:lnTo>
                    <a:pt x="3633" y="383"/>
                  </a:lnTo>
                  <a:lnTo>
                    <a:pt x="3624" y="377"/>
                  </a:lnTo>
                  <a:lnTo>
                    <a:pt x="3615" y="374"/>
                  </a:lnTo>
                  <a:lnTo>
                    <a:pt x="3606" y="363"/>
                  </a:lnTo>
                  <a:lnTo>
                    <a:pt x="3604" y="354"/>
                  </a:lnTo>
                  <a:lnTo>
                    <a:pt x="3598" y="345"/>
                  </a:lnTo>
                  <a:lnTo>
                    <a:pt x="3592" y="337"/>
                  </a:lnTo>
                  <a:lnTo>
                    <a:pt x="3583" y="322"/>
                  </a:lnTo>
                  <a:lnTo>
                    <a:pt x="3577" y="314"/>
                  </a:lnTo>
                  <a:lnTo>
                    <a:pt x="3586" y="305"/>
                  </a:lnTo>
                  <a:lnTo>
                    <a:pt x="3592" y="296"/>
                  </a:lnTo>
                  <a:lnTo>
                    <a:pt x="3595" y="288"/>
                  </a:lnTo>
                  <a:lnTo>
                    <a:pt x="3595" y="279"/>
                  </a:lnTo>
                  <a:lnTo>
                    <a:pt x="3586" y="276"/>
                  </a:lnTo>
                  <a:lnTo>
                    <a:pt x="3577" y="276"/>
                  </a:lnTo>
                  <a:lnTo>
                    <a:pt x="3569" y="276"/>
                  </a:lnTo>
                  <a:lnTo>
                    <a:pt x="3557" y="270"/>
                  </a:lnTo>
                  <a:lnTo>
                    <a:pt x="3548" y="259"/>
                  </a:lnTo>
                  <a:lnTo>
                    <a:pt x="3540" y="253"/>
                  </a:lnTo>
                  <a:lnTo>
                    <a:pt x="3531" y="250"/>
                  </a:lnTo>
                  <a:lnTo>
                    <a:pt x="3522" y="244"/>
                  </a:lnTo>
                  <a:lnTo>
                    <a:pt x="3510" y="236"/>
                  </a:lnTo>
                  <a:lnTo>
                    <a:pt x="3502" y="233"/>
                  </a:lnTo>
                  <a:lnTo>
                    <a:pt x="3493" y="227"/>
                  </a:lnTo>
                  <a:lnTo>
                    <a:pt x="3484" y="224"/>
                  </a:lnTo>
                  <a:lnTo>
                    <a:pt x="3475" y="219"/>
                  </a:lnTo>
                  <a:lnTo>
                    <a:pt x="3467" y="213"/>
                  </a:lnTo>
                  <a:lnTo>
                    <a:pt x="3458" y="207"/>
                  </a:lnTo>
                  <a:lnTo>
                    <a:pt x="3449" y="198"/>
                  </a:lnTo>
                  <a:lnTo>
                    <a:pt x="3441" y="193"/>
                  </a:lnTo>
                  <a:lnTo>
                    <a:pt x="3432" y="187"/>
                  </a:lnTo>
                  <a:lnTo>
                    <a:pt x="3423" y="184"/>
                  </a:lnTo>
                  <a:lnTo>
                    <a:pt x="3414" y="178"/>
                  </a:lnTo>
                  <a:lnTo>
                    <a:pt x="3406" y="172"/>
                  </a:lnTo>
                  <a:lnTo>
                    <a:pt x="3400" y="164"/>
                  </a:lnTo>
                  <a:lnTo>
                    <a:pt x="3397" y="155"/>
                  </a:lnTo>
                  <a:lnTo>
                    <a:pt x="3394" y="146"/>
                  </a:lnTo>
                  <a:lnTo>
                    <a:pt x="3388" y="138"/>
                  </a:lnTo>
                  <a:lnTo>
                    <a:pt x="3382" y="129"/>
                  </a:lnTo>
                  <a:lnTo>
                    <a:pt x="3388" y="121"/>
                  </a:lnTo>
                  <a:lnTo>
                    <a:pt x="3379" y="121"/>
                  </a:lnTo>
                  <a:lnTo>
                    <a:pt x="3371" y="121"/>
                  </a:lnTo>
                  <a:lnTo>
                    <a:pt x="3362" y="121"/>
                  </a:lnTo>
                  <a:lnTo>
                    <a:pt x="3359" y="129"/>
                  </a:lnTo>
                  <a:lnTo>
                    <a:pt x="3353" y="138"/>
                  </a:lnTo>
                  <a:lnTo>
                    <a:pt x="3347" y="146"/>
                  </a:lnTo>
                  <a:lnTo>
                    <a:pt x="3339" y="152"/>
                  </a:lnTo>
                  <a:lnTo>
                    <a:pt x="3327" y="158"/>
                  </a:lnTo>
                  <a:lnTo>
                    <a:pt x="3318" y="158"/>
                  </a:lnTo>
                  <a:lnTo>
                    <a:pt x="3310" y="167"/>
                  </a:lnTo>
                  <a:lnTo>
                    <a:pt x="3307" y="175"/>
                  </a:lnTo>
                  <a:lnTo>
                    <a:pt x="3307" y="184"/>
                  </a:lnTo>
                  <a:lnTo>
                    <a:pt x="3304" y="193"/>
                  </a:lnTo>
                  <a:lnTo>
                    <a:pt x="3295" y="195"/>
                  </a:lnTo>
                  <a:lnTo>
                    <a:pt x="3295" y="204"/>
                  </a:lnTo>
                  <a:lnTo>
                    <a:pt x="3298" y="213"/>
                  </a:lnTo>
                  <a:lnTo>
                    <a:pt x="3304" y="221"/>
                  </a:lnTo>
                  <a:lnTo>
                    <a:pt x="3310" y="230"/>
                  </a:lnTo>
                  <a:lnTo>
                    <a:pt x="3315" y="239"/>
                  </a:lnTo>
                  <a:lnTo>
                    <a:pt x="3318" y="250"/>
                  </a:lnTo>
                  <a:lnTo>
                    <a:pt x="3321" y="259"/>
                  </a:lnTo>
                  <a:lnTo>
                    <a:pt x="3321" y="247"/>
                  </a:lnTo>
                  <a:lnTo>
                    <a:pt x="3318" y="239"/>
                  </a:lnTo>
                  <a:lnTo>
                    <a:pt x="3315" y="230"/>
                  </a:lnTo>
                  <a:lnTo>
                    <a:pt x="3307" y="224"/>
                  </a:lnTo>
                  <a:lnTo>
                    <a:pt x="3298" y="216"/>
                  </a:lnTo>
                  <a:lnTo>
                    <a:pt x="3292" y="207"/>
                  </a:lnTo>
                  <a:lnTo>
                    <a:pt x="3292" y="198"/>
                  </a:lnTo>
                  <a:lnTo>
                    <a:pt x="3295" y="190"/>
                  </a:lnTo>
                  <a:lnTo>
                    <a:pt x="3292" y="181"/>
                  </a:lnTo>
                  <a:lnTo>
                    <a:pt x="3283" y="172"/>
                  </a:lnTo>
                  <a:lnTo>
                    <a:pt x="3275" y="170"/>
                  </a:lnTo>
                  <a:lnTo>
                    <a:pt x="3266" y="164"/>
                  </a:lnTo>
                  <a:lnTo>
                    <a:pt x="3257" y="161"/>
                  </a:lnTo>
                  <a:lnTo>
                    <a:pt x="3245" y="155"/>
                  </a:lnTo>
                  <a:lnTo>
                    <a:pt x="3237" y="155"/>
                  </a:lnTo>
                  <a:lnTo>
                    <a:pt x="3228" y="155"/>
                  </a:lnTo>
                  <a:lnTo>
                    <a:pt x="3219" y="155"/>
                  </a:lnTo>
                  <a:lnTo>
                    <a:pt x="3213" y="164"/>
                  </a:lnTo>
                  <a:lnTo>
                    <a:pt x="3208" y="172"/>
                  </a:lnTo>
                  <a:lnTo>
                    <a:pt x="3196" y="175"/>
                  </a:lnTo>
                  <a:lnTo>
                    <a:pt x="3184" y="175"/>
                  </a:lnTo>
                  <a:lnTo>
                    <a:pt x="3173" y="175"/>
                  </a:lnTo>
                  <a:lnTo>
                    <a:pt x="3167" y="167"/>
                  </a:lnTo>
                  <a:lnTo>
                    <a:pt x="3179" y="161"/>
                  </a:lnTo>
                  <a:lnTo>
                    <a:pt x="3187" y="161"/>
                  </a:lnTo>
                  <a:lnTo>
                    <a:pt x="3196" y="161"/>
                  </a:lnTo>
                  <a:lnTo>
                    <a:pt x="3205" y="155"/>
                  </a:lnTo>
                  <a:lnTo>
                    <a:pt x="3208" y="146"/>
                  </a:lnTo>
                  <a:lnTo>
                    <a:pt x="3208" y="138"/>
                  </a:lnTo>
                  <a:lnTo>
                    <a:pt x="3205" y="129"/>
                  </a:lnTo>
                  <a:lnTo>
                    <a:pt x="3199" y="121"/>
                  </a:lnTo>
                  <a:lnTo>
                    <a:pt x="3190" y="112"/>
                  </a:lnTo>
                  <a:lnTo>
                    <a:pt x="3184" y="103"/>
                  </a:lnTo>
                  <a:lnTo>
                    <a:pt x="3193" y="97"/>
                  </a:lnTo>
                  <a:lnTo>
                    <a:pt x="3202" y="92"/>
                  </a:lnTo>
                  <a:lnTo>
                    <a:pt x="3205" y="83"/>
                  </a:lnTo>
                  <a:lnTo>
                    <a:pt x="3208" y="74"/>
                  </a:lnTo>
                  <a:lnTo>
                    <a:pt x="3208" y="66"/>
                  </a:lnTo>
                  <a:lnTo>
                    <a:pt x="3202" y="57"/>
                  </a:lnTo>
                  <a:lnTo>
                    <a:pt x="3199" y="48"/>
                  </a:lnTo>
                  <a:lnTo>
                    <a:pt x="3199" y="40"/>
                  </a:lnTo>
                  <a:lnTo>
                    <a:pt x="3199" y="31"/>
                  </a:lnTo>
                  <a:lnTo>
                    <a:pt x="3196" y="23"/>
                  </a:lnTo>
                  <a:lnTo>
                    <a:pt x="3190" y="14"/>
                  </a:lnTo>
                  <a:lnTo>
                    <a:pt x="3184" y="5"/>
                  </a:lnTo>
                  <a:lnTo>
                    <a:pt x="3176" y="0"/>
                  </a:lnTo>
                  <a:lnTo>
                    <a:pt x="3167" y="2"/>
                  </a:lnTo>
                  <a:lnTo>
                    <a:pt x="3158" y="8"/>
                  </a:lnTo>
                  <a:lnTo>
                    <a:pt x="3149" y="14"/>
                  </a:lnTo>
                  <a:lnTo>
                    <a:pt x="3141" y="17"/>
                  </a:lnTo>
                  <a:lnTo>
                    <a:pt x="3132" y="23"/>
                  </a:lnTo>
                  <a:lnTo>
                    <a:pt x="3132" y="31"/>
                  </a:lnTo>
                  <a:lnTo>
                    <a:pt x="3123" y="25"/>
                  </a:lnTo>
                  <a:lnTo>
                    <a:pt x="3114" y="17"/>
                  </a:lnTo>
                  <a:lnTo>
                    <a:pt x="3106" y="14"/>
                  </a:lnTo>
                  <a:lnTo>
                    <a:pt x="3097" y="14"/>
                  </a:lnTo>
                  <a:lnTo>
                    <a:pt x="3088" y="14"/>
                  </a:lnTo>
                  <a:lnTo>
                    <a:pt x="3080" y="14"/>
                  </a:lnTo>
                  <a:lnTo>
                    <a:pt x="3071" y="14"/>
                  </a:lnTo>
                  <a:lnTo>
                    <a:pt x="3071" y="23"/>
                  </a:lnTo>
                  <a:lnTo>
                    <a:pt x="3071" y="31"/>
                  </a:lnTo>
                  <a:lnTo>
                    <a:pt x="3071" y="40"/>
                  </a:lnTo>
                  <a:lnTo>
                    <a:pt x="3068" y="48"/>
                  </a:lnTo>
                  <a:lnTo>
                    <a:pt x="3062" y="57"/>
                  </a:lnTo>
                  <a:lnTo>
                    <a:pt x="3059" y="66"/>
                  </a:lnTo>
                  <a:lnTo>
                    <a:pt x="3059" y="74"/>
                  </a:lnTo>
                  <a:lnTo>
                    <a:pt x="3059" y="83"/>
                  </a:lnTo>
                  <a:lnTo>
                    <a:pt x="3068" y="89"/>
                  </a:lnTo>
                  <a:lnTo>
                    <a:pt x="3077" y="92"/>
                  </a:lnTo>
                  <a:lnTo>
                    <a:pt x="3085" y="97"/>
                  </a:lnTo>
                  <a:lnTo>
                    <a:pt x="3097" y="103"/>
                  </a:lnTo>
                  <a:lnTo>
                    <a:pt x="3106" y="103"/>
                  </a:lnTo>
                  <a:lnTo>
                    <a:pt x="3114" y="103"/>
                  </a:lnTo>
                  <a:lnTo>
                    <a:pt x="3114" y="95"/>
                  </a:lnTo>
                  <a:lnTo>
                    <a:pt x="3123" y="95"/>
                  </a:lnTo>
                  <a:lnTo>
                    <a:pt x="3114" y="103"/>
                  </a:lnTo>
                  <a:lnTo>
                    <a:pt x="3106" y="103"/>
                  </a:lnTo>
                  <a:lnTo>
                    <a:pt x="3097" y="103"/>
                  </a:lnTo>
                  <a:lnTo>
                    <a:pt x="3088" y="109"/>
                  </a:lnTo>
                  <a:lnTo>
                    <a:pt x="3085" y="118"/>
                  </a:lnTo>
                  <a:lnTo>
                    <a:pt x="3085" y="126"/>
                  </a:lnTo>
                  <a:lnTo>
                    <a:pt x="3080" y="135"/>
                  </a:lnTo>
                  <a:lnTo>
                    <a:pt x="3088" y="138"/>
                  </a:lnTo>
                  <a:lnTo>
                    <a:pt x="3082" y="146"/>
                  </a:lnTo>
                  <a:lnTo>
                    <a:pt x="3080" y="155"/>
                  </a:lnTo>
                  <a:lnTo>
                    <a:pt x="3074" y="164"/>
                  </a:lnTo>
                  <a:lnTo>
                    <a:pt x="3074" y="172"/>
                  </a:lnTo>
                  <a:lnTo>
                    <a:pt x="3074" y="181"/>
                  </a:lnTo>
                  <a:lnTo>
                    <a:pt x="3074" y="190"/>
                  </a:lnTo>
                  <a:lnTo>
                    <a:pt x="3085" y="190"/>
                  </a:lnTo>
                  <a:lnTo>
                    <a:pt x="3094" y="190"/>
                  </a:lnTo>
                  <a:lnTo>
                    <a:pt x="3088" y="198"/>
                  </a:lnTo>
                  <a:lnTo>
                    <a:pt x="3080" y="204"/>
                  </a:lnTo>
                  <a:lnTo>
                    <a:pt x="3074" y="213"/>
                  </a:lnTo>
                  <a:lnTo>
                    <a:pt x="3071" y="221"/>
                  </a:lnTo>
                  <a:lnTo>
                    <a:pt x="3071" y="230"/>
                  </a:lnTo>
                  <a:lnTo>
                    <a:pt x="3071" y="239"/>
                  </a:lnTo>
                  <a:lnTo>
                    <a:pt x="3068" y="247"/>
                  </a:lnTo>
                  <a:lnTo>
                    <a:pt x="3062" y="256"/>
                  </a:lnTo>
                  <a:lnTo>
                    <a:pt x="3059" y="265"/>
                  </a:lnTo>
                  <a:lnTo>
                    <a:pt x="3059" y="273"/>
                  </a:lnTo>
                  <a:lnTo>
                    <a:pt x="3059" y="282"/>
                  </a:lnTo>
                  <a:lnTo>
                    <a:pt x="3059" y="291"/>
                  </a:lnTo>
                  <a:lnTo>
                    <a:pt x="3059" y="299"/>
                  </a:lnTo>
                  <a:lnTo>
                    <a:pt x="3059" y="311"/>
                  </a:lnTo>
                  <a:lnTo>
                    <a:pt x="3065" y="319"/>
                  </a:lnTo>
                  <a:lnTo>
                    <a:pt x="3074" y="325"/>
                  </a:lnTo>
                  <a:lnTo>
                    <a:pt x="3082" y="328"/>
                  </a:lnTo>
                  <a:lnTo>
                    <a:pt x="3082" y="337"/>
                  </a:lnTo>
                  <a:lnTo>
                    <a:pt x="3082" y="345"/>
                  </a:lnTo>
                  <a:lnTo>
                    <a:pt x="3085" y="354"/>
                  </a:lnTo>
                  <a:lnTo>
                    <a:pt x="3085" y="363"/>
                  </a:lnTo>
                  <a:lnTo>
                    <a:pt x="3088" y="371"/>
                  </a:lnTo>
                  <a:lnTo>
                    <a:pt x="3088" y="380"/>
                  </a:lnTo>
                  <a:lnTo>
                    <a:pt x="3091" y="389"/>
                  </a:lnTo>
                  <a:lnTo>
                    <a:pt x="3094" y="397"/>
                  </a:lnTo>
                  <a:lnTo>
                    <a:pt x="3097" y="406"/>
                  </a:lnTo>
                  <a:lnTo>
                    <a:pt x="3109" y="412"/>
                  </a:lnTo>
                  <a:lnTo>
                    <a:pt x="3117" y="412"/>
                  </a:lnTo>
                  <a:lnTo>
                    <a:pt x="3126" y="412"/>
                  </a:lnTo>
                  <a:lnTo>
                    <a:pt x="3135" y="412"/>
                  </a:lnTo>
                  <a:lnTo>
                    <a:pt x="3135" y="403"/>
                  </a:lnTo>
                  <a:lnTo>
                    <a:pt x="3138" y="394"/>
                  </a:lnTo>
                  <a:lnTo>
                    <a:pt x="3147" y="391"/>
                  </a:lnTo>
                  <a:lnTo>
                    <a:pt x="3155" y="391"/>
                  </a:lnTo>
                  <a:lnTo>
                    <a:pt x="3164" y="394"/>
                  </a:lnTo>
                  <a:lnTo>
                    <a:pt x="3167" y="403"/>
                  </a:lnTo>
                  <a:lnTo>
                    <a:pt x="3167" y="412"/>
                  </a:lnTo>
                  <a:lnTo>
                    <a:pt x="3164" y="420"/>
                  </a:lnTo>
                  <a:lnTo>
                    <a:pt x="3155" y="423"/>
                  </a:lnTo>
                  <a:lnTo>
                    <a:pt x="3152" y="432"/>
                  </a:lnTo>
                  <a:lnTo>
                    <a:pt x="3144" y="438"/>
                  </a:lnTo>
                  <a:lnTo>
                    <a:pt x="3138" y="429"/>
                  </a:lnTo>
                  <a:lnTo>
                    <a:pt x="3129" y="420"/>
                  </a:lnTo>
                  <a:lnTo>
                    <a:pt x="3120" y="420"/>
                  </a:lnTo>
                  <a:lnTo>
                    <a:pt x="3114" y="429"/>
                  </a:lnTo>
                  <a:lnTo>
                    <a:pt x="3114" y="438"/>
                  </a:lnTo>
                  <a:lnTo>
                    <a:pt x="3114" y="446"/>
                  </a:lnTo>
                  <a:lnTo>
                    <a:pt x="3123" y="452"/>
                  </a:lnTo>
                  <a:lnTo>
                    <a:pt x="3132" y="452"/>
                  </a:lnTo>
                  <a:lnTo>
                    <a:pt x="3141" y="452"/>
                  </a:lnTo>
                  <a:lnTo>
                    <a:pt x="3135" y="461"/>
                  </a:lnTo>
                  <a:lnTo>
                    <a:pt x="3138" y="469"/>
                  </a:lnTo>
                  <a:lnTo>
                    <a:pt x="3147" y="472"/>
                  </a:lnTo>
                  <a:lnTo>
                    <a:pt x="3147" y="463"/>
                  </a:lnTo>
                  <a:lnTo>
                    <a:pt x="3144" y="455"/>
                  </a:lnTo>
                  <a:lnTo>
                    <a:pt x="3144" y="466"/>
                  </a:lnTo>
                  <a:lnTo>
                    <a:pt x="3144" y="475"/>
                  </a:lnTo>
                  <a:lnTo>
                    <a:pt x="3144" y="484"/>
                  </a:lnTo>
                  <a:lnTo>
                    <a:pt x="3144" y="492"/>
                  </a:lnTo>
                  <a:lnTo>
                    <a:pt x="3144" y="501"/>
                  </a:lnTo>
                  <a:lnTo>
                    <a:pt x="3144" y="510"/>
                  </a:lnTo>
                  <a:lnTo>
                    <a:pt x="3152" y="518"/>
                  </a:lnTo>
                  <a:lnTo>
                    <a:pt x="3161" y="527"/>
                  </a:lnTo>
                  <a:lnTo>
                    <a:pt x="3167" y="538"/>
                  </a:lnTo>
                  <a:lnTo>
                    <a:pt x="3176" y="544"/>
                  </a:lnTo>
                  <a:lnTo>
                    <a:pt x="3184" y="550"/>
                  </a:lnTo>
                  <a:lnTo>
                    <a:pt x="3196" y="550"/>
                  </a:lnTo>
                  <a:lnTo>
                    <a:pt x="3205" y="550"/>
                  </a:lnTo>
                  <a:lnTo>
                    <a:pt x="3213" y="550"/>
                  </a:lnTo>
                  <a:lnTo>
                    <a:pt x="3205" y="550"/>
                  </a:lnTo>
                  <a:lnTo>
                    <a:pt x="3193" y="550"/>
                  </a:lnTo>
                  <a:lnTo>
                    <a:pt x="3184" y="553"/>
                  </a:lnTo>
                  <a:lnTo>
                    <a:pt x="3179" y="561"/>
                  </a:lnTo>
                  <a:lnTo>
                    <a:pt x="3176" y="570"/>
                  </a:lnTo>
                  <a:lnTo>
                    <a:pt x="3173" y="579"/>
                  </a:lnTo>
                  <a:lnTo>
                    <a:pt x="3164" y="582"/>
                  </a:lnTo>
                  <a:lnTo>
                    <a:pt x="3155" y="582"/>
                  </a:lnTo>
                  <a:lnTo>
                    <a:pt x="3147" y="582"/>
                  </a:lnTo>
                  <a:lnTo>
                    <a:pt x="3132" y="576"/>
                  </a:lnTo>
                  <a:lnTo>
                    <a:pt x="3120" y="576"/>
                  </a:lnTo>
                  <a:lnTo>
                    <a:pt x="3109" y="576"/>
                  </a:lnTo>
                  <a:lnTo>
                    <a:pt x="3103" y="585"/>
                  </a:lnTo>
                  <a:lnTo>
                    <a:pt x="3100" y="593"/>
                  </a:lnTo>
                  <a:lnTo>
                    <a:pt x="3100" y="602"/>
                  </a:lnTo>
                  <a:lnTo>
                    <a:pt x="3100" y="610"/>
                  </a:lnTo>
                  <a:lnTo>
                    <a:pt x="3100" y="619"/>
                  </a:lnTo>
                  <a:lnTo>
                    <a:pt x="3100" y="628"/>
                  </a:lnTo>
                  <a:lnTo>
                    <a:pt x="3103" y="636"/>
                  </a:lnTo>
                  <a:lnTo>
                    <a:pt x="3106" y="645"/>
                  </a:lnTo>
                  <a:lnTo>
                    <a:pt x="3112" y="654"/>
                  </a:lnTo>
                  <a:lnTo>
                    <a:pt x="3117" y="662"/>
                  </a:lnTo>
                  <a:lnTo>
                    <a:pt x="3120" y="671"/>
                  </a:lnTo>
                  <a:lnTo>
                    <a:pt x="3123" y="680"/>
                  </a:lnTo>
                  <a:lnTo>
                    <a:pt x="3123" y="688"/>
                  </a:lnTo>
                  <a:lnTo>
                    <a:pt x="3123" y="697"/>
                  </a:lnTo>
                  <a:lnTo>
                    <a:pt x="3123" y="706"/>
                  </a:lnTo>
                  <a:lnTo>
                    <a:pt x="3114" y="711"/>
                  </a:lnTo>
                  <a:lnTo>
                    <a:pt x="3106" y="720"/>
                  </a:lnTo>
                  <a:lnTo>
                    <a:pt x="3103" y="729"/>
                  </a:lnTo>
                  <a:lnTo>
                    <a:pt x="3103" y="737"/>
                  </a:lnTo>
                  <a:lnTo>
                    <a:pt x="3094" y="740"/>
                  </a:lnTo>
                  <a:lnTo>
                    <a:pt x="3085" y="743"/>
                  </a:lnTo>
                  <a:lnTo>
                    <a:pt x="3077" y="746"/>
                  </a:lnTo>
                  <a:lnTo>
                    <a:pt x="3068" y="746"/>
                  </a:lnTo>
                  <a:lnTo>
                    <a:pt x="3059" y="752"/>
                  </a:lnTo>
                  <a:lnTo>
                    <a:pt x="3050" y="760"/>
                  </a:lnTo>
                  <a:lnTo>
                    <a:pt x="3050" y="769"/>
                  </a:lnTo>
                  <a:lnTo>
                    <a:pt x="3050" y="778"/>
                  </a:lnTo>
                  <a:lnTo>
                    <a:pt x="3056" y="786"/>
                  </a:lnTo>
                  <a:lnTo>
                    <a:pt x="3065" y="789"/>
                  </a:lnTo>
                  <a:lnTo>
                    <a:pt x="3074" y="795"/>
                  </a:lnTo>
                  <a:lnTo>
                    <a:pt x="3074" y="804"/>
                  </a:lnTo>
                  <a:lnTo>
                    <a:pt x="3062" y="806"/>
                  </a:lnTo>
                  <a:lnTo>
                    <a:pt x="3050" y="806"/>
                  </a:lnTo>
                  <a:lnTo>
                    <a:pt x="3053" y="798"/>
                  </a:lnTo>
                  <a:lnTo>
                    <a:pt x="3045" y="792"/>
                  </a:lnTo>
                  <a:lnTo>
                    <a:pt x="3036" y="798"/>
                  </a:lnTo>
                  <a:lnTo>
                    <a:pt x="3036" y="809"/>
                  </a:lnTo>
                  <a:lnTo>
                    <a:pt x="3036" y="818"/>
                  </a:lnTo>
                  <a:lnTo>
                    <a:pt x="3033" y="827"/>
                  </a:lnTo>
                  <a:lnTo>
                    <a:pt x="3030" y="835"/>
                  </a:lnTo>
                  <a:lnTo>
                    <a:pt x="3024" y="844"/>
                  </a:lnTo>
                  <a:lnTo>
                    <a:pt x="3016" y="853"/>
                  </a:lnTo>
                  <a:lnTo>
                    <a:pt x="3013" y="861"/>
                  </a:lnTo>
                  <a:lnTo>
                    <a:pt x="3021" y="864"/>
                  </a:lnTo>
                  <a:lnTo>
                    <a:pt x="3030" y="864"/>
                  </a:lnTo>
                  <a:lnTo>
                    <a:pt x="3033" y="873"/>
                  </a:lnTo>
                  <a:lnTo>
                    <a:pt x="3033" y="881"/>
                  </a:lnTo>
                  <a:lnTo>
                    <a:pt x="3042" y="890"/>
                  </a:lnTo>
                  <a:lnTo>
                    <a:pt x="3050" y="893"/>
                  </a:lnTo>
                  <a:lnTo>
                    <a:pt x="3062" y="893"/>
                  </a:lnTo>
                  <a:lnTo>
                    <a:pt x="3071" y="887"/>
                  </a:lnTo>
                  <a:lnTo>
                    <a:pt x="3080" y="887"/>
                  </a:lnTo>
                  <a:lnTo>
                    <a:pt x="3088" y="887"/>
                  </a:lnTo>
                  <a:lnTo>
                    <a:pt x="3085" y="896"/>
                  </a:lnTo>
                  <a:lnTo>
                    <a:pt x="3082" y="904"/>
                  </a:lnTo>
                  <a:lnTo>
                    <a:pt x="3080" y="913"/>
                  </a:lnTo>
                  <a:lnTo>
                    <a:pt x="3088" y="919"/>
                  </a:lnTo>
                  <a:lnTo>
                    <a:pt x="3088" y="927"/>
                  </a:lnTo>
                  <a:lnTo>
                    <a:pt x="3080" y="933"/>
                  </a:lnTo>
                  <a:lnTo>
                    <a:pt x="3077" y="942"/>
                  </a:lnTo>
                  <a:lnTo>
                    <a:pt x="3077" y="950"/>
                  </a:lnTo>
                  <a:lnTo>
                    <a:pt x="3074" y="959"/>
                  </a:lnTo>
                  <a:lnTo>
                    <a:pt x="3074" y="968"/>
                  </a:lnTo>
                  <a:lnTo>
                    <a:pt x="3077" y="959"/>
                  </a:lnTo>
                  <a:lnTo>
                    <a:pt x="3065" y="942"/>
                  </a:lnTo>
                  <a:lnTo>
                    <a:pt x="3071" y="962"/>
                  </a:lnTo>
                  <a:lnTo>
                    <a:pt x="3062" y="962"/>
                  </a:lnTo>
                  <a:lnTo>
                    <a:pt x="3074" y="968"/>
                  </a:lnTo>
                  <a:lnTo>
                    <a:pt x="3074" y="976"/>
                  </a:lnTo>
                  <a:lnTo>
                    <a:pt x="3059" y="976"/>
                  </a:lnTo>
                  <a:lnTo>
                    <a:pt x="3050" y="979"/>
                  </a:lnTo>
                  <a:lnTo>
                    <a:pt x="3039" y="979"/>
                  </a:lnTo>
                  <a:lnTo>
                    <a:pt x="3039" y="988"/>
                  </a:lnTo>
                  <a:lnTo>
                    <a:pt x="3048" y="991"/>
                  </a:lnTo>
                  <a:lnTo>
                    <a:pt x="3056" y="991"/>
                  </a:lnTo>
                  <a:lnTo>
                    <a:pt x="3065" y="997"/>
                  </a:lnTo>
                  <a:lnTo>
                    <a:pt x="3074" y="1005"/>
                  </a:lnTo>
                  <a:lnTo>
                    <a:pt x="3077" y="1014"/>
                  </a:lnTo>
                  <a:lnTo>
                    <a:pt x="3082" y="1023"/>
                  </a:lnTo>
                  <a:lnTo>
                    <a:pt x="3088" y="1031"/>
                  </a:lnTo>
                  <a:lnTo>
                    <a:pt x="3080" y="1034"/>
                  </a:lnTo>
                  <a:lnTo>
                    <a:pt x="3071" y="1034"/>
                  </a:lnTo>
                  <a:lnTo>
                    <a:pt x="3062" y="1040"/>
                  </a:lnTo>
                  <a:lnTo>
                    <a:pt x="3050" y="1043"/>
                  </a:lnTo>
                  <a:lnTo>
                    <a:pt x="3039" y="1046"/>
                  </a:lnTo>
                  <a:lnTo>
                    <a:pt x="3030" y="1046"/>
                  </a:lnTo>
                  <a:lnTo>
                    <a:pt x="3018" y="1046"/>
                  </a:lnTo>
                  <a:lnTo>
                    <a:pt x="3010" y="1037"/>
                  </a:lnTo>
                  <a:lnTo>
                    <a:pt x="3007" y="1028"/>
                  </a:lnTo>
                  <a:lnTo>
                    <a:pt x="3010" y="1020"/>
                  </a:lnTo>
                  <a:lnTo>
                    <a:pt x="3013" y="1011"/>
                  </a:lnTo>
                  <a:lnTo>
                    <a:pt x="3004" y="1011"/>
                  </a:lnTo>
                  <a:lnTo>
                    <a:pt x="2992" y="1008"/>
                  </a:lnTo>
                  <a:lnTo>
                    <a:pt x="2983" y="1008"/>
                  </a:lnTo>
                  <a:lnTo>
                    <a:pt x="2978" y="1017"/>
                  </a:lnTo>
                  <a:lnTo>
                    <a:pt x="2978" y="1025"/>
                  </a:lnTo>
                  <a:lnTo>
                    <a:pt x="2983" y="1034"/>
                  </a:lnTo>
                  <a:lnTo>
                    <a:pt x="2989" y="1043"/>
                  </a:lnTo>
                  <a:lnTo>
                    <a:pt x="2992" y="1051"/>
                  </a:lnTo>
                  <a:lnTo>
                    <a:pt x="3001" y="1054"/>
                  </a:lnTo>
                  <a:lnTo>
                    <a:pt x="3010" y="1060"/>
                  </a:lnTo>
                  <a:lnTo>
                    <a:pt x="3018" y="1063"/>
                  </a:lnTo>
                  <a:lnTo>
                    <a:pt x="3027" y="1063"/>
                  </a:lnTo>
                  <a:lnTo>
                    <a:pt x="3036" y="1060"/>
                  </a:lnTo>
                  <a:lnTo>
                    <a:pt x="3027" y="1060"/>
                  </a:lnTo>
                  <a:lnTo>
                    <a:pt x="3018" y="1057"/>
                  </a:lnTo>
                  <a:lnTo>
                    <a:pt x="3010" y="1054"/>
                  </a:lnTo>
                  <a:lnTo>
                    <a:pt x="3004" y="1046"/>
                  </a:lnTo>
                  <a:lnTo>
                    <a:pt x="2995" y="1040"/>
                  </a:lnTo>
                  <a:lnTo>
                    <a:pt x="2992" y="1031"/>
                  </a:lnTo>
                  <a:lnTo>
                    <a:pt x="2983" y="1023"/>
                  </a:lnTo>
                  <a:lnTo>
                    <a:pt x="2978" y="1014"/>
                  </a:lnTo>
                  <a:lnTo>
                    <a:pt x="2969" y="1005"/>
                  </a:lnTo>
                  <a:lnTo>
                    <a:pt x="2966" y="1014"/>
                  </a:lnTo>
                  <a:lnTo>
                    <a:pt x="2954" y="1023"/>
                  </a:lnTo>
                  <a:lnTo>
                    <a:pt x="2946" y="1023"/>
                  </a:lnTo>
                  <a:lnTo>
                    <a:pt x="2943" y="1034"/>
                  </a:lnTo>
                  <a:lnTo>
                    <a:pt x="2943" y="1043"/>
                  </a:lnTo>
                  <a:lnTo>
                    <a:pt x="2951" y="1051"/>
                  </a:lnTo>
                  <a:lnTo>
                    <a:pt x="2963" y="1051"/>
                  </a:lnTo>
                  <a:lnTo>
                    <a:pt x="2975" y="1054"/>
                  </a:lnTo>
                  <a:lnTo>
                    <a:pt x="2963" y="1051"/>
                  </a:lnTo>
                  <a:lnTo>
                    <a:pt x="2951" y="1046"/>
                  </a:lnTo>
                  <a:lnTo>
                    <a:pt x="2943" y="1043"/>
                  </a:lnTo>
                  <a:lnTo>
                    <a:pt x="2934" y="1051"/>
                  </a:lnTo>
                  <a:lnTo>
                    <a:pt x="2928" y="1060"/>
                  </a:lnTo>
                  <a:lnTo>
                    <a:pt x="2919" y="1060"/>
                  </a:lnTo>
                  <a:lnTo>
                    <a:pt x="2919" y="1069"/>
                  </a:lnTo>
                  <a:lnTo>
                    <a:pt x="2931" y="1077"/>
                  </a:lnTo>
                  <a:lnTo>
                    <a:pt x="2943" y="1086"/>
                  </a:lnTo>
                  <a:lnTo>
                    <a:pt x="2951" y="1089"/>
                  </a:lnTo>
                  <a:lnTo>
                    <a:pt x="2960" y="1089"/>
                  </a:lnTo>
                  <a:lnTo>
                    <a:pt x="2969" y="1089"/>
                  </a:lnTo>
                  <a:lnTo>
                    <a:pt x="2972" y="1080"/>
                  </a:lnTo>
                  <a:lnTo>
                    <a:pt x="2975" y="1072"/>
                  </a:lnTo>
                  <a:lnTo>
                    <a:pt x="2975" y="1063"/>
                  </a:lnTo>
                  <a:lnTo>
                    <a:pt x="2978" y="1054"/>
                  </a:lnTo>
                  <a:lnTo>
                    <a:pt x="2981" y="1063"/>
                  </a:lnTo>
                  <a:lnTo>
                    <a:pt x="2981" y="1072"/>
                  </a:lnTo>
                  <a:lnTo>
                    <a:pt x="2975" y="1080"/>
                  </a:lnTo>
                  <a:lnTo>
                    <a:pt x="2969" y="1089"/>
                  </a:lnTo>
                  <a:lnTo>
                    <a:pt x="2957" y="1089"/>
                  </a:lnTo>
                  <a:lnTo>
                    <a:pt x="2949" y="1089"/>
                  </a:lnTo>
                  <a:lnTo>
                    <a:pt x="2940" y="1097"/>
                  </a:lnTo>
                  <a:lnTo>
                    <a:pt x="2937" y="1106"/>
                  </a:lnTo>
                  <a:lnTo>
                    <a:pt x="2934" y="1115"/>
                  </a:lnTo>
                  <a:lnTo>
                    <a:pt x="2934" y="1123"/>
                  </a:lnTo>
                  <a:lnTo>
                    <a:pt x="2925" y="1129"/>
                  </a:lnTo>
                  <a:lnTo>
                    <a:pt x="2917" y="1135"/>
                  </a:lnTo>
                  <a:lnTo>
                    <a:pt x="2908" y="1138"/>
                  </a:lnTo>
                  <a:lnTo>
                    <a:pt x="2899" y="1138"/>
                  </a:lnTo>
                  <a:lnTo>
                    <a:pt x="2893" y="1129"/>
                  </a:lnTo>
                  <a:lnTo>
                    <a:pt x="2884" y="1129"/>
                  </a:lnTo>
                  <a:lnTo>
                    <a:pt x="2876" y="1129"/>
                  </a:lnTo>
                  <a:lnTo>
                    <a:pt x="2867" y="1135"/>
                  </a:lnTo>
                  <a:lnTo>
                    <a:pt x="2864" y="1144"/>
                  </a:lnTo>
                  <a:lnTo>
                    <a:pt x="2861" y="1152"/>
                  </a:lnTo>
                  <a:lnTo>
                    <a:pt x="2861" y="1161"/>
                  </a:lnTo>
                  <a:lnTo>
                    <a:pt x="2858" y="1170"/>
                  </a:lnTo>
                  <a:lnTo>
                    <a:pt x="2852" y="1178"/>
                  </a:lnTo>
                  <a:lnTo>
                    <a:pt x="2844" y="1181"/>
                  </a:lnTo>
                  <a:lnTo>
                    <a:pt x="2835" y="1181"/>
                  </a:lnTo>
                  <a:lnTo>
                    <a:pt x="2826" y="1184"/>
                  </a:lnTo>
                  <a:lnTo>
                    <a:pt x="2818" y="1175"/>
                  </a:lnTo>
                  <a:lnTo>
                    <a:pt x="2809" y="1167"/>
                  </a:lnTo>
                  <a:lnTo>
                    <a:pt x="2806" y="1175"/>
                  </a:lnTo>
                  <a:lnTo>
                    <a:pt x="2806" y="1184"/>
                  </a:lnTo>
                  <a:lnTo>
                    <a:pt x="2806" y="1193"/>
                  </a:lnTo>
                  <a:lnTo>
                    <a:pt x="2806" y="1204"/>
                  </a:lnTo>
                  <a:lnTo>
                    <a:pt x="2806" y="1213"/>
                  </a:lnTo>
                  <a:lnTo>
                    <a:pt x="2815" y="1213"/>
                  </a:lnTo>
                  <a:lnTo>
                    <a:pt x="2823" y="1216"/>
                  </a:lnTo>
                  <a:lnTo>
                    <a:pt x="2826" y="1224"/>
                  </a:lnTo>
                  <a:lnTo>
                    <a:pt x="2826" y="1233"/>
                  </a:lnTo>
                  <a:lnTo>
                    <a:pt x="2826" y="1242"/>
                  </a:lnTo>
                  <a:lnTo>
                    <a:pt x="2823" y="1250"/>
                  </a:lnTo>
                  <a:lnTo>
                    <a:pt x="2815" y="1253"/>
                  </a:lnTo>
                  <a:lnTo>
                    <a:pt x="2809" y="1262"/>
                  </a:lnTo>
                  <a:lnTo>
                    <a:pt x="2809" y="1270"/>
                  </a:lnTo>
                  <a:lnTo>
                    <a:pt x="2809" y="1279"/>
                  </a:lnTo>
                  <a:lnTo>
                    <a:pt x="2809" y="1288"/>
                  </a:lnTo>
                  <a:lnTo>
                    <a:pt x="2809" y="1279"/>
                  </a:lnTo>
                  <a:lnTo>
                    <a:pt x="2806" y="1270"/>
                  </a:lnTo>
                  <a:lnTo>
                    <a:pt x="2806" y="1262"/>
                  </a:lnTo>
                  <a:lnTo>
                    <a:pt x="2800" y="1253"/>
                  </a:lnTo>
                  <a:lnTo>
                    <a:pt x="2797" y="1244"/>
                  </a:lnTo>
                  <a:lnTo>
                    <a:pt x="2794" y="1236"/>
                  </a:lnTo>
                  <a:lnTo>
                    <a:pt x="2794" y="1227"/>
                  </a:lnTo>
                  <a:lnTo>
                    <a:pt x="2794" y="1218"/>
                  </a:lnTo>
                  <a:lnTo>
                    <a:pt x="2800" y="1210"/>
                  </a:lnTo>
                  <a:lnTo>
                    <a:pt x="2803" y="1201"/>
                  </a:lnTo>
                  <a:lnTo>
                    <a:pt x="2800" y="1193"/>
                  </a:lnTo>
                  <a:lnTo>
                    <a:pt x="2791" y="1187"/>
                  </a:lnTo>
                  <a:lnTo>
                    <a:pt x="2788" y="1178"/>
                  </a:lnTo>
                  <a:lnTo>
                    <a:pt x="2788" y="1170"/>
                  </a:lnTo>
                  <a:lnTo>
                    <a:pt x="2788" y="1161"/>
                  </a:lnTo>
                  <a:lnTo>
                    <a:pt x="2788" y="1152"/>
                  </a:lnTo>
                  <a:lnTo>
                    <a:pt x="2786" y="1144"/>
                  </a:lnTo>
                  <a:lnTo>
                    <a:pt x="2786" y="1135"/>
                  </a:lnTo>
                  <a:lnTo>
                    <a:pt x="2780" y="1126"/>
                  </a:lnTo>
                  <a:lnTo>
                    <a:pt x="2768" y="1121"/>
                  </a:lnTo>
                  <a:lnTo>
                    <a:pt x="2759" y="1115"/>
                  </a:lnTo>
                  <a:lnTo>
                    <a:pt x="2748" y="1112"/>
                  </a:lnTo>
                  <a:lnTo>
                    <a:pt x="2736" y="1109"/>
                  </a:lnTo>
                  <a:lnTo>
                    <a:pt x="2724" y="1106"/>
                  </a:lnTo>
                  <a:lnTo>
                    <a:pt x="2716" y="1106"/>
                  </a:lnTo>
                  <a:lnTo>
                    <a:pt x="2710" y="1115"/>
                  </a:lnTo>
                  <a:lnTo>
                    <a:pt x="2704" y="1123"/>
                  </a:lnTo>
                  <a:lnTo>
                    <a:pt x="2698" y="1132"/>
                  </a:lnTo>
                  <a:lnTo>
                    <a:pt x="2692" y="1126"/>
                  </a:lnTo>
                  <a:lnTo>
                    <a:pt x="2695" y="1112"/>
                  </a:lnTo>
                  <a:lnTo>
                    <a:pt x="2695" y="1121"/>
                  </a:lnTo>
                  <a:lnTo>
                    <a:pt x="2692" y="1129"/>
                  </a:lnTo>
                  <a:lnTo>
                    <a:pt x="2692" y="1138"/>
                  </a:lnTo>
                  <a:lnTo>
                    <a:pt x="2687" y="1146"/>
                  </a:lnTo>
                  <a:lnTo>
                    <a:pt x="2687" y="1155"/>
                  </a:lnTo>
                  <a:lnTo>
                    <a:pt x="2687" y="1164"/>
                  </a:lnTo>
                  <a:lnTo>
                    <a:pt x="2678" y="1167"/>
                  </a:lnTo>
                  <a:lnTo>
                    <a:pt x="2669" y="1167"/>
                  </a:lnTo>
                  <a:lnTo>
                    <a:pt x="2666" y="1158"/>
                  </a:lnTo>
                  <a:lnTo>
                    <a:pt x="2666" y="1149"/>
                  </a:lnTo>
                  <a:lnTo>
                    <a:pt x="2657" y="1146"/>
                  </a:lnTo>
                  <a:lnTo>
                    <a:pt x="2649" y="1152"/>
                  </a:lnTo>
                  <a:lnTo>
                    <a:pt x="2646" y="1141"/>
                  </a:lnTo>
                  <a:lnTo>
                    <a:pt x="2634" y="1135"/>
                  </a:lnTo>
                  <a:lnTo>
                    <a:pt x="2625" y="1135"/>
                  </a:lnTo>
                  <a:lnTo>
                    <a:pt x="2617" y="1135"/>
                  </a:lnTo>
                  <a:lnTo>
                    <a:pt x="2614" y="1144"/>
                  </a:lnTo>
                  <a:lnTo>
                    <a:pt x="2614" y="1152"/>
                  </a:lnTo>
                  <a:lnTo>
                    <a:pt x="2614" y="1161"/>
                  </a:lnTo>
                  <a:lnTo>
                    <a:pt x="2617" y="1170"/>
                  </a:lnTo>
                  <a:lnTo>
                    <a:pt x="2617" y="1178"/>
                  </a:lnTo>
                  <a:lnTo>
                    <a:pt x="2620" y="1187"/>
                  </a:lnTo>
                  <a:lnTo>
                    <a:pt x="2625" y="1195"/>
                  </a:lnTo>
                  <a:lnTo>
                    <a:pt x="2634" y="1201"/>
                  </a:lnTo>
                  <a:lnTo>
                    <a:pt x="2643" y="1201"/>
                  </a:lnTo>
                  <a:lnTo>
                    <a:pt x="2652" y="1201"/>
                  </a:lnTo>
                  <a:lnTo>
                    <a:pt x="2643" y="1201"/>
                  </a:lnTo>
                  <a:lnTo>
                    <a:pt x="2634" y="1207"/>
                  </a:lnTo>
                  <a:lnTo>
                    <a:pt x="2625" y="1216"/>
                  </a:lnTo>
                  <a:lnTo>
                    <a:pt x="2625" y="1224"/>
                  </a:lnTo>
                  <a:lnTo>
                    <a:pt x="2634" y="1224"/>
                  </a:lnTo>
                  <a:lnTo>
                    <a:pt x="2643" y="1230"/>
                  </a:lnTo>
                  <a:lnTo>
                    <a:pt x="2646" y="1242"/>
                  </a:lnTo>
                  <a:lnTo>
                    <a:pt x="2652" y="1253"/>
                  </a:lnTo>
                  <a:lnTo>
                    <a:pt x="2660" y="1259"/>
                  </a:lnTo>
                  <a:lnTo>
                    <a:pt x="2672" y="1265"/>
                  </a:lnTo>
                  <a:lnTo>
                    <a:pt x="2663" y="1262"/>
                  </a:lnTo>
                  <a:lnTo>
                    <a:pt x="2655" y="1256"/>
                  </a:lnTo>
                  <a:lnTo>
                    <a:pt x="2663" y="1250"/>
                  </a:lnTo>
                  <a:lnTo>
                    <a:pt x="2672" y="1250"/>
                  </a:lnTo>
                  <a:lnTo>
                    <a:pt x="2681" y="1253"/>
                  </a:lnTo>
                  <a:lnTo>
                    <a:pt x="2669" y="1256"/>
                  </a:lnTo>
                  <a:lnTo>
                    <a:pt x="2655" y="1256"/>
                  </a:lnTo>
                  <a:lnTo>
                    <a:pt x="2646" y="1247"/>
                  </a:lnTo>
                  <a:lnTo>
                    <a:pt x="2643" y="1236"/>
                  </a:lnTo>
                  <a:lnTo>
                    <a:pt x="2640" y="1227"/>
                  </a:lnTo>
                  <a:lnTo>
                    <a:pt x="2631" y="1227"/>
                  </a:lnTo>
                  <a:lnTo>
                    <a:pt x="2625" y="1236"/>
                  </a:lnTo>
                  <a:lnTo>
                    <a:pt x="2625" y="1247"/>
                  </a:lnTo>
                  <a:lnTo>
                    <a:pt x="2625" y="1259"/>
                  </a:lnTo>
                  <a:lnTo>
                    <a:pt x="2617" y="1259"/>
                  </a:lnTo>
                  <a:lnTo>
                    <a:pt x="2608" y="1256"/>
                  </a:lnTo>
                  <a:lnTo>
                    <a:pt x="2605" y="1247"/>
                  </a:lnTo>
                  <a:lnTo>
                    <a:pt x="2596" y="1253"/>
                  </a:lnTo>
                  <a:lnTo>
                    <a:pt x="2588" y="1262"/>
                  </a:lnTo>
                  <a:lnTo>
                    <a:pt x="2582" y="1270"/>
                  </a:lnTo>
                  <a:lnTo>
                    <a:pt x="2582" y="1279"/>
                  </a:lnTo>
                  <a:lnTo>
                    <a:pt x="2582" y="1288"/>
                  </a:lnTo>
                  <a:lnTo>
                    <a:pt x="2576" y="1296"/>
                  </a:lnTo>
                  <a:lnTo>
                    <a:pt x="2573" y="1305"/>
                  </a:lnTo>
                  <a:lnTo>
                    <a:pt x="2567" y="1314"/>
                  </a:lnTo>
                  <a:lnTo>
                    <a:pt x="2553" y="1311"/>
                  </a:lnTo>
                  <a:lnTo>
                    <a:pt x="2567" y="1305"/>
                  </a:lnTo>
                  <a:lnTo>
                    <a:pt x="2561" y="1314"/>
                  </a:lnTo>
                  <a:lnTo>
                    <a:pt x="2558" y="1322"/>
                  </a:lnTo>
                  <a:lnTo>
                    <a:pt x="2558" y="1331"/>
                  </a:lnTo>
                  <a:lnTo>
                    <a:pt x="2558" y="1340"/>
                  </a:lnTo>
                  <a:lnTo>
                    <a:pt x="2558" y="1348"/>
                  </a:lnTo>
                  <a:lnTo>
                    <a:pt x="2558" y="1360"/>
                  </a:lnTo>
                  <a:lnTo>
                    <a:pt x="2558" y="1368"/>
                  </a:lnTo>
                  <a:lnTo>
                    <a:pt x="2550" y="1380"/>
                  </a:lnTo>
                  <a:lnTo>
                    <a:pt x="2547" y="1389"/>
                  </a:lnTo>
                  <a:lnTo>
                    <a:pt x="2544" y="1397"/>
                  </a:lnTo>
                  <a:lnTo>
                    <a:pt x="2538" y="1406"/>
                  </a:lnTo>
                  <a:lnTo>
                    <a:pt x="2529" y="1412"/>
                  </a:lnTo>
                  <a:lnTo>
                    <a:pt x="2538" y="1414"/>
                  </a:lnTo>
                  <a:lnTo>
                    <a:pt x="2547" y="1414"/>
                  </a:lnTo>
                  <a:lnTo>
                    <a:pt x="2553" y="1406"/>
                  </a:lnTo>
                  <a:lnTo>
                    <a:pt x="2553" y="1397"/>
                  </a:lnTo>
                  <a:lnTo>
                    <a:pt x="2561" y="1391"/>
                  </a:lnTo>
                  <a:lnTo>
                    <a:pt x="2567" y="1400"/>
                  </a:lnTo>
                  <a:lnTo>
                    <a:pt x="2567" y="1412"/>
                  </a:lnTo>
                  <a:lnTo>
                    <a:pt x="2570" y="1420"/>
                  </a:lnTo>
                  <a:lnTo>
                    <a:pt x="2579" y="1429"/>
                  </a:lnTo>
                  <a:lnTo>
                    <a:pt x="2588" y="1435"/>
                  </a:lnTo>
                  <a:lnTo>
                    <a:pt x="2599" y="1435"/>
                  </a:lnTo>
                  <a:lnTo>
                    <a:pt x="2593" y="1426"/>
                  </a:lnTo>
                  <a:lnTo>
                    <a:pt x="2585" y="1417"/>
                  </a:lnTo>
                  <a:lnTo>
                    <a:pt x="2582" y="1406"/>
                  </a:lnTo>
                  <a:lnTo>
                    <a:pt x="2579" y="1397"/>
                  </a:lnTo>
                  <a:lnTo>
                    <a:pt x="2573" y="1406"/>
                  </a:lnTo>
                  <a:lnTo>
                    <a:pt x="2570" y="1414"/>
                  </a:lnTo>
                  <a:lnTo>
                    <a:pt x="2561" y="1426"/>
                  </a:lnTo>
                  <a:lnTo>
                    <a:pt x="2553" y="1432"/>
                  </a:lnTo>
                  <a:lnTo>
                    <a:pt x="2544" y="1432"/>
                  </a:lnTo>
                  <a:lnTo>
                    <a:pt x="2535" y="1432"/>
                  </a:lnTo>
                  <a:lnTo>
                    <a:pt x="2526" y="1432"/>
                  </a:lnTo>
                  <a:lnTo>
                    <a:pt x="2515" y="1438"/>
                  </a:lnTo>
                  <a:lnTo>
                    <a:pt x="2506" y="1443"/>
                  </a:lnTo>
                  <a:lnTo>
                    <a:pt x="2503" y="1452"/>
                  </a:lnTo>
                  <a:lnTo>
                    <a:pt x="2509" y="1461"/>
                  </a:lnTo>
                  <a:lnTo>
                    <a:pt x="2515" y="1472"/>
                  </a:lnTo>
                  <a:lnTo>
                    <a:pt x="2521" y="1484"/>
                  </a:lnTo>
                  <a:lnTo>
                    <a:pt x="2529" y="1489"/>
                  </a:lnTo>
                  <a:lnTo>
                    <a:pt x="2538" y="1495"/>
                  </a:lnTo>
                  <a:lnTo>
                    <a:pt x="2544" y="1504"/>
                  </a:lnTo>
                  <a:lnTo>
                    <a:pt x="2553" y="1507"/>
                  </a:lnTo>
                  <a:lnTo>
                    <a:pt x="2561" y="1507"/>
                  </a:lnTo>
                  <a:lnTo>
                    <a:pt x="2570" y="1510"/>
                  </a:lnTo>
                  <a:lnTo>
                    <a:pt x="2576" y="1518"/>
                  </a:lnTo>
                  <a:lnTo>
                    <a:pt x="2585" y="1527"/>
                  </a:lnTo>
                  <a:lnTo>
                    <a:pt x="2588" y="1535"/>
                  </a:lnTo>
                  <a:lnTo>
                    <a:pt x="2588" y="1544"/>
                  </a:lnTo>
                  <a:lnTo>
                    <a:pt x="2588" y="1556"/>
                  </a:lnTo>
                  <a:lnTo>
                    <a:pt x="2590" y="1564"/>
                  </a:lnTo>
                  <a:lnTo>
                    <a:pt x="2599" y="1564"/>
                  </a:lnTo>
                  <a:lnTo>
                    <a:pt x="2614" y="1567"/>
                  </a:lnTo>
                  <a:lnTo>
                    <a:pt x="2617" y="1576"/>
                  </a:lnTo>
                  <a:lnTo>
                    <a:pt x="2617" y="1584"/>
                  </a:lnTo>
                  <a:lnTo>
                    <a:pt x="2608" y="1587"/>
                  </a:lnTo>
                  <a:lnTo>
                    <a:pt x="2596" y="1579"/>
                  </a:lnTo>
                  <a:lnTo>
                    <a:pt x="2588" y="1570"/>
                  </a:lnTo>
                  <a:lnTo>
                    <a:pt x="2582" y="1561"/>
                  </a:lnTo>
                  <a:lnTo>
                    <a:pt x="2582" y="1553"/>
                  </a:lnTo>
                  <a:lnTo>
                    <a:pt x="2582" y="1541"/>
                  </a:lnTo>
                  <a:lnTo>
                    <a:pt x="2579" y="1533"/>
                  </a:lnTo>
                  <a:lnTo>
                    <a:pt x="2573" y="1524"/>
                  </a:lnTo>
                  <a:lnTo>
                    <a:pt x="2564" y="1515"/>
                  </a:lnTo>
                  <a:lnTo>
                    <a:pt x="2556" y="1512"/>
                  </a:lnTo>
                  <a:lnTo>
                    <a:pt x="2550" y="1521"/>
                  </a:lnTo>
                  <a:lnTo>
                    <a:pt x="2541" y="1521"/>
                  </a:lnTo>
                  <a:lnTo>
                    <a:pt x="2532" y="1515"/>
                  </a:lnTo>
                  <a:lnTo>
                    <a:pt x="2524" y="1510"/>
                  </a:lnTo>
                  <a:lnTo>
                    <a:pt x="2515" y="1507"/>
                  </a:lnTo>
                  <a:lnTo>
                    <a:pt x="2506" y="1504"/>
                  </a:lnTo>
                  <a:lnTo>
                    <a:pt x="2497" y="1504"/>
                  </a:lnTo>
                  <a:lnTo>
                    <a:pt x="2489" y="1504"/>
                  </a:lnTo>
                  <a:lnTo>
                    <a:pt x="2486" y="1512"/>
                  </a:lnTo>
                  <a:lnTo>
                    <a:pt x="2486" y="1521"/>
                  </a:lnTo>
                  <a:lnTo>
                    <a:pt x="2491" y="1530"/>
                  </a:lnTo>
                  <a:lnTo>
                    <a:pt x="2486" y="1538"/>
                  </a:lnTo>
                  <a:lnTo>
                    <a:pt x="2477" y="1538"/>
                  </a:lnTo>
                  <a:lnTo>
                    <a:pt x="2474" y="1547"/>
                  </a:lnTo>
                  <a:lnTo>
                    <a:pt x="2489" y="1550"/>
                  </a:lnTo>
                  <a:lnTo>
                    <a:pt x="2497" y="1553"/>
                  </a:lnTo>
                  <a:lnTo>
                    <a:pt x="2506" y="1553"/>
                  </a:lnTo>
                  <a:lnTo>
                    <a:pt x="2515" y="1559"/>
                  </a:lnTo>
                  <a:lnTo>
                    <a:pt x="2521" y="1570"/>
                  </a:lnTo>
                  <a:lnTo>
                    <a:pt x="2529" y="1576"/>
                  </a:lnTo>
                  <a:lnTo>
                    <a:pt x="2521" y="1567"/>
                  </a:lnTo>
                  <a:lnTo>
                    <a:pt x="2509" y="1561"/>
                  </a:lnTo>
                  <a:lnTo>
                    <a:pt x="2500" y="1559"/>
                  </a:lnTo>
                  <a:lnTo>
                    <a:pt x="2491" y="1567"/>
                  </a:lnTo>
                  <a:lnTo>
                    <a:pt x="2483" y="1570"/>
                  </a:lnTo>
                  <a:lnTo>
                    <a:pt x="2474" y="1570"/>
                  </a:lnTo>
                  <a:lnTo>
                    <a:pt x="2471" y="1561"/>
                  </a:lnTo>
                  <a:lnTo>
                    <a:pt x="2471" y="1553"/>
                  </a:lnTo>
                  <a:lnTo>
                    <a:pt x="2465" y="1544"/>
                  </a:lnTo>
                  <a:lnTo>
                    <a:pt x="2462" y="1535"/>
                  </a:lnTo>
                  <a:lnTo>
                    <a:pt x="2459" y="1524"/>
                  </a:lnTo>
                  <a:lnTo>
                    <a:pt x="2457" y="1515"/>
                  </a:lnTo>
                  <a:lnTo>
                    <a:pt x="2448" y="1510"/>
                  </a:lnTo>
                  <a:lnTo>
                    <a:pt x="2439" y="1504"/>
                  </a:lnTo>
                  <a:lnTo>
                    <a:pt x="2439" y="1512"/>
                  </a:lnTo>
                  <a:lnTo>
                    <a:pt x="2439" y="1521"/>
                  </a:lnTo>
                  <a:lnTo>
                    <a:pt x="2439" y="1530"/>
                  </a:lnTo>
                  <a:lnTo>
                    <a:pt x="2439" y="1538"/>
                  </a:lnTo>
                  <a:lnTo>
                    <a:pt x="2439" y="1547"/>
                  </a:lnTo>
                  <a:lnTo>
                    <a:pt x="2439" y="1556"/>
                  </a:lnTo>
                  <a:lnTo>
                    <a:pt x="2442" y="1564"/>
                  </a:lnTo>
                  <a:lnTo>
                    <a:pt x="2436" y="1573"/>
                  </a:lnTo>
                  <a:lnTo>
                    <a:pt x="2433" y="1582"/>
                  </a:lnTo>
                  <a:lnTo>
                    <a:pt x="2430" y="1590"/>
                  </a:lnTo>
                  <a:lnTo>
                    <a:pt x="2433" y="1599"/>
                  </a:lnTo>
                  <a:lnTo>
                    <a:pt x="2442" y="1602"/>
                  </a:lnTo>
                  <a:lnTo>
                    <a:pt x="2451" y="1605"/>
                  </a:lnTo>
                  <a:lnTo>
                    <a:pt x="2459" y="1608"/>
                  </a:lnTo>
                  <a:lnTo>
                    <a:pt x="2465" y="1616"/>
                  </a:lnTo>
                  <a:lnTo>
                    <a:pt x="2474" y="1628"/>
                  </a:lnTo>
                  <a:lnTo>
                    <a:pt x="2474" y="1636"/>
                  </a:lnTo>
                  <a:lnTo>
                    <a:pt x="2474" y="1648"/>
                  </a:lnTo>
                  <a:lnTo>
                    <a:pt x="2474" y="1657"/>
                  </a:lnTo>
                  <a:lnTo>
                    <a:pt x="2474" y="1665"/>
                  </a:lnTo>
                  <a:lnTo>
                    <a:pt x="2474" y="1674"/>
                  </a:lnTo>
                  <a:lnTo>
                    <a:pt x="2483" y="1680"/>
                  </a:lnTo>
                  <a:lnTo>
                    <a:pt x="2491" y="1682"/>
                  </a:lnTo>
                  <a:lnTo>
                    <a:pt x="2500" y="1682"/>
                  </a:lnTo>
                  <a:lnTo>
                    <a:pt x="2509" y="1680"/>
                  </a:lnTo>
                  <a:lnTo>
                    <a:pt x="2515" y="1671"/>
                  </a:lnTo>
                  <a:lnTo>
                    <a:pt x="2524" y="1671"/>
                  </a:lnTo>
                  <a:lnTo>
                    <a:pt x="2532" y="1668"/>
                  </a:lnTo>
                  <a:lnTo>
                    <a:pt x="2541" y="1671"/>
                  </a:lnTo>
                  <a:lnTo>
                    <a:pt x="2544" y="1680"/>
                  </a:lnTo>
                  <a:lnTo>
                    <a:pt x="2547" y="1688"/>
                  </a:lnTo>
                  <a:lnTo>
                    <a:pt x="2547" y="1697"/>
                  </a:lnTo>
                  <a:lnTo>
                    <a:pt x="2547" y="1706"/>
                  </a:lnTo>
                  <a:lnTo>
                    <a:pt x="2556" y="1714"/>
                  </a:lnTo>
                  <a:lnTo>
                    <a:pt x="2564" y="1720"/>
                  </a:lnTo>
                  <a:lnTo>
                    <a:pt x="2576" y="1726"/>
                  </a:lnTo>
                  <a:lnTo>
                    <a:pt x="2588" y="1726"/>
                  </a:lnTo>
                  <a:lnTo>
                    <a:pt x="2596" y="1726"/>
                  </a:lnTo>
                  <a:lnTo>
                    <a:pt x="2588" y="1723"/>
                  </a:lnTo>
                  <a:lnTo>
                    <a:pt x="2579" y="1720"/>
                  </a:lnTo>
                  <a:lnTo>
                    <a:pt x="2570" y="1717"/>
                  </a:lnTo>
                  <a:lnTo>
                    <a:pt x="2567" y="1708"/>
                  </a:lnTo>
                  <a:lnTo>
                    <a:pt x="2564" y="1697"/>
                  </a:lnTo>
                  <a:lnTo>
                    <a:pt x="2564" y="1688"/>
                  </a:lnTo>
                  <a:lnTo>
                    <a:pt x="2561" y="1680"/>
                  </a:lnTo>
                  <a:lnTo>
                    <a:pt x="2550" y="1671"/>
                  </a:lnTo>
                  <a:lnTo>
                    <a:pt x="2538" y="1665"/>
                  </a:lnTo>
                  <a:lnTo>
                    <a:pt x="2529" y="1662"/>
                  </a:lnTo>
                  <a:lnTo>
                    <a:pt x="2521" y="1659"/>
                  </a:lnTo>
                  <a:lnTo>
                    <a:pt x="2512" y="1662"/>
                  </a:lnTo>
                  <a:lnTo>
                    <a:pt x="2506" y="1671"/>
                  </a:lnTo>
                  <a:lnTo>
                    <a:pt x="2506" y="1680"/>
                  </a:lnTo>
                  <a:lnTo>
                    <a:pt x="2503" y="1688"/>
                  </a:lnTo>
                  <a:lnTo>
                    <a:pt x="2500" y="1697"/>
                  </a:lnTo>
                  <a:lnTo>
                    <a:pt x="2500" y="1706"/>
                  </a:lnTo>
                  <a:lnTo>
                    <a:pt x="2500" y="1714"/>
                  </a:lnTo>
                  <a:lnTo>
                    <a:pt x="2509" y="1723"/>
                  </a:lnTo>
                  <a:lnTo>
                    <a:pt x="2509" y="1731"/>
                  </a:lnTo>
                  <a:lnTo>
                    <a:pt x="2509" y="1740"/>
                  </a:lnTo>
                  <a:lnTo>
                    <a:pt x="2509" y="1749"/>
                  </a:lnTo>
                  <a:lnTo>
                    <a:pt x="2509" y="1757"/>
                  </a:lnTo>
                  <a:lnTo>
                    <a:pt x="2509" y="1766"/>
                  </a:lnTo>
                  <a:lnTo>
                    <a:pt x="2509" y="1775"/>
                  </a:lnTo>
                  <a:lnTo>
                    <a:pt x="2509" y="1783"/>
                  </a:lnTo>
                  <a:lnTo>
                    <a:pt x="2506" y="1772"/>
                  </a:lnTo>
                  <a:lnTo>
                    <a:pt x="2515" y="1757"/>
                  </a:lnTo>
                  <a:lnTo>
                    <a:pt x="2509" y="1766"/>
                  </a:lnTo>
                  <a:lnTo>
                    <a:pt x="2506" y="1775"/>
                  </a:lnTo>
                  <a:lnTo>
                    <a:pt x="2503" y="1783"/>
                  </a:lnTo>
                  <a:lnTo>
                    <a:pt x="2497" y="1792"/>
                  </a:lnTo>
                  <a:lnTo>
                    <a:pt x="2494" y="1801"/>
                  </a:lnTo>
                  <a:lnTo>
                    <a:pt x="2494" y="1809"/>
                  </a:lnTo>
                  <a:lnTo>
                    <a:pt x="2494" y="1818"/>
                  </a:lnTo>
                  <a:lnTo>
                    <a:pt x="2483" y="1824"/>
                  </a:lnTo>
                  <a:lnTo>
                    <a:pt x="2465" y="1824"/>
                  </a:lnTo>
                  <a:lnTo>
                    <a:pt x="2457" y="1821"/>
                  </a:lnTo>
                  <a:lnTo>
                    <a:pt x="2448" y="1812"/>
                  </a:lnTo>
                  <a:lnTo>
                    <a:pt x="2439" y="1809"/>
                  </a:lnTo>
                  <a:lnTo>
                    <a:pt x="2430" y="1809"/>
                  </a:lnTo>
                  <a:lnTo>
                    <a:pt x="2427" y="1798"/>
                  </a:lnTo>
                  <a:lnTo>
                    <a:pt x="2439" y="1795"/>
                  </a:lnTo>
                  <a:lnTo>
                    <a:pt x="2454" y="1792"/>
                  </a:lnTo>
                  <a:lnTo>
                    <a:pt x="2462" y="1792"/>
                  </a:lnTo>
                  <a:lnTo>
                    <a:pt x="2471" y="1792"/>
                  </a:lnTo>
                  <a:lnTo>
                    <a:pt x="2477" y="1783"/>
                  </a:lnTo>
                  <a:lnTo>
                    <a:pt x="2480" y="1775"/>
                  </a:lnTo>
                  <a:lnTo>
                    <a:pt x="2480" y="1766"/>
                  </a:lnTo>
                  <a:lnTo>
                    <a:pt x="2483" y="1757"/>
                  </a:lnTo>
                  <a:lnTo>
                    <a:pt x="2486" y="1749"/>
                  </a:lnTo>
                  <a:lnTo>
                    <a:pt x="2489" y="1740"/>
                  </a:lnTo>
                  <a:lnTo>
                    <a:pt x="2491" y="1731"/>
                  </a:lnTo>
                  <a:lnTo>
                    <a:pt x="2489" y="1723"/>
                  </a:lnTo>
                  <a:lnTo>
                    <a:pt x="2489" y="1714"/>
                  </a:lnTo>
                  <a:lnTo>
                    <a:pt x="2480" y="1708"/>
                  </a:lnTo>
                  <a:lnTo>
                    <a:pt x="2474" y="1700"/>
                  </a:lnTo>
                  <a:lnTo>
                    <a:pt x="2468" y="1691"/>
                  </a:lnTo>
                  <a:lnTo>
                    <a:pt x="2465" y="1682"/>
                  </a:lnTo>
                  <a:lnTo>
                    <a:pt x="2459" y="1674"/>
                  </a:lnTo>
                  <a:lnTo>
                    <a:pt x="2454" y="1665"/>
                  </a:lnTo>
                  <a:lnTo>
                    <a:pt x="2454" y="1657"/>
                  </a:lnTo>
                  <a:lnTo>
                    <a:pt x="2454" y="1648"/>
                  </a:lnTo>
                  <a:lnTo>
                    <a:pt x="2454" y="1639"/>
                  </a:lnTo>
                  <a:lnTo>
                    <a:pt x="2451" y="1631"/>
                  </a:lnTo>
                  <a:lnTo>
                    <a:pt x="2448" y="1622"/>
                  </a:lnTo>
                  <a:lnTo>
                    <a:pt x="2442" y="1613"/>
                  </a:lnTo>
                  <a:lnTo>
                    <a:pt x="2433" y="1608"/>
                  </a:lnTo>
                  <a:lnTo>
                    <a:pt x="2427" y="1599"/>
                  </a:lnTo>
                  <a:lnTo>
                    <a:pt x="2422" y="1590"/>
                  </a:lnTo>
                  <a:lnTo>
                    <a:pt x="2419" y="1582"/>
                  </a:lnTo>
                  <a:lnTo>
                    <a:pt x="2419" y="1573"/>
                  </a:lnTo>
                  <a:lnTo>
                    <a:pt x="2416" y="1564"/>
                  </a:lnTo>
                  <a:lnTo>
                    <a:pt x="2416" y="1556"/>
                  </a:lnTo>
                  <a:lnTo>
                    <a:pt x="2416" y="1547"/>
                  </a:lnTo>
                  <a:lnTo>
                    <a:pt x="2416" y="1538"/>
                  </a:lnTo>
                  <a:lnTo>
                    <a:pt x="2416" y="1530"/>
                  </a:lnTo>
                  <a:lnTo>
                    <a:pt x="2407" y="1521"/>
                  </a:lnTo>
                  <a:lnTo>
                    <a:pt x="2395" y="1518"/>
                  </a:lnTo>
                  <a:lnTo>
                    <a:pt x="2390" y="1510"/>
                  </a:lnTo>
                  <a:lnTo>
                    <a:pt x="2390" y="1501"/>
                  </a:lnTo>
                  <a:lnTo>
                    <a:pt x="2381" y="1498"/>
                  </a:lnTo>
                  <a:lnTo>
                    <a:pt x="2390" y="1504"/>
                  </a:lnTo>
                  <a:lnTo>
                    <a:pt x="2381" y="1510"/>
                  </a:lnTo>
                  <a:lnTo>
                    <a:pt x="2372" y="1515"/>
                  </a:lnTo>
                  <a:lnTo>
                    <a:pt x="2372" y="1524"/>
                  </a:lnTo>
                  <a:lnTo>
                    <a:pt x="2366" y="1533"/>
                  </a:lnTo>
                  <a:lnTo>
                    <a:pt x="2366" y="1541"/>
                  </a:lnTo>
                  <a:lnTo>
                    <a:pt x="2366" y="1550"/>
                  </a:lnTo>
                  <a:lnTo>
                    <a:pt x="2366" y="1559"/>
                  </a:lnTo>
                  <a:lnTo>
                    <a:pt x="2366" y="1567"/>
                  </a:lnTo>
                  <a:lnTo>
                    <a:pt x="2363" y="1576"/>
                  </a:lnTo>
                  <a:lnTo>
                    <a:pt x="2360" y="1584"/>
                  </a:lnTo>
                  <a:lnTo>
                    <a:pt x="2358" y="1593"/>
                  </a:lnTo>
                  <a:lnTo>
                    <a:pt x="2352" y="1602"/>
                  </a:lnTo>
                  <a:lnTo>
                    <a:pt x="2349" y="1610"/>
                  </a:lnTo>
                  <a:lnTo>
                    <a:pt x="2346" y="1619"/>
                  </a:lnTo>
                  <a:lnTo>
                    <a:pt x="2346" y="1628"/>
                  </a:lnTo>
                  <a:lnTo>
                    <a:pt x="2346" y="1636"/>
                  </a:lnTo>
                  <a:lnTo>
                    <a:pt x="2355" y="1639"/>
                  </a:lnTo>
                  <a:lnTo>
                    <a:pt x="2363" y="1639"/>
                  </a:lnTo>
                  <a:lnTo>
                    <a:pt x="2372" y="1636"/>
                  </a:lnTo>
                  <a:lnTo>
                    <a:pt x="2372" y="1645"/>
                  </a:lnTo>
                  <a:lnTo>
                    <a:pt x="2372" y="1654"/>
                  </a:lnTo>
                  <a:lnTo>
                    <a:pt x="2372" y="1662"/>
                  </a:lnTo>
                  <a:lnTo>
                    <a:pt x="2372" y="1671"/>
                  </a:lnTo>
                  <a:lnTo>
                    <a:pt x="2372" y="1682"/>
                  </a:lnTo>
                  <a:lnTo>
                    <a:pt x="2369" y="1691"/>
                  </a:lnTo>
                  <a:lnTo>
                    <a:pt x="2378" y="1697"/>
                  </a:lnTo>
                  <a:lnTo>
                    <a:pt x="2381" y="1706"/>
                  </a:lnTo>
                  <a:lnTo>
                    <a:pt x="2390" y="1711"/>
                  </a:lnTo>
                  <a:lnTo>
                    <a:pt x="2401" y="1714"/>
                  </a:lnTo>
                  <a:lnTo>
                    <a:pt x="2404" y="1723"/>
                  </a:lnTo>
                  <a:lnTo>
                    <a:pt x="2404" y="1731"/>
                  </a:lnTo>
                  <a:lnTo>
                    <a:pt x="2404" y="1740"/>
                  </a:lnTo>
                  <a:lnTo>
                    <a:pt x="2404" y="1749"/>
                  </a:lnTo>
                  <a:lnTo>
                    <a:pt x="2395" y="1743"/>
                  </a:lnTo>
                  <a:lnTo>
                    <a:pt x="2393" y="1734"/>
                  </a:lnTo>
                  <a:lnTo>
                    <a:pt x="2387" y="1723"/>
                  </a:lnTo>
                  <a:lnTo>
                    <a:pt x="2381" y="1714"/>
                  </a:lnTo>
                  <a:lnTo>
                    <a:pt x="2372" y="1711"/>
                  </a:lnTo>
                  <a:lnTo>
                    <a:pt x="2363" y="1708"/>
                  </a:lnTo>
                  <a:lnTo>
                    <a:pt x="2355" y="1708"/>
                  </a:lnTo>
                  <a:lnTo>
                    <a:pt x="2340" y="1706"/>
                  </a:lnTo>
                  <a:lnTo>
                    <a:pt x="2328" y="1703"/>
                  </a:lnTo>
                  <a:lnTo>
                    <a:pt x="2320" y="1697"/>
                  </a:lnTo>
                  <a:lnTo>
                    <a:pt x="2311" y="1694"/>
                  </a:lnTo>
                  <a:lnTo>
                    <a:pt x="2302" y="1691"/>
                  </a:lnTo>
                  <a:lnTo>
                    <a:pt x="2294" y="1688"/>
                  </a:lnTo>
                  <a:lnTo>
                    <a:pt x="2285" y="1685"/>
                  </a:lnTo>
                  <a:lnTo>
                    <a:pt x="2276" y="1685"/>
                  </a:lnTo>
                  <a:lnTo>
                    <a:pt x="2267" y="1685"/>
                  </a:lnTo>
                  <a:lnTo>
                    <a:pt x="2273" y="1680"/>
                  </a:lnTo>
                  <a:lnTo>
                    <a:pt x="2262" y="1671"/>
                  </a:lnTo>
                  <a:lnTo>
                    <a:pt x="2262" y="1662"/>
                  </a:lnTo>
                  <a:lnTo>
                    <a:pt x="2256" y="1671"/>
                  </a:lnTo>
                  <a:lnTo>
                    <a:pt x="2247" y="1671"/>
                  </a:lnTo>
                  <a:lnTo>
                    <a:pt x="2235" y="1671"/>
                  </a:lnTo>
                  <a:lnTo>
                    <a:pt x="2227" y="1668"/>
                  </a:lnTo>
                  <a:lnTo>
                    <a:pt x="2227" y="1659"/>
                  </a:lnTo>
                  <a:lnTo>
                    <a:pt x="2221" y="1668"/>
                  </a:lnTo>
                  <a:lnTo>
                    <a:pt x="2221" y="1677"/>
                  </a:lnTo>
                  <a:lnTo>
                    <a:pt x="2232" y="1680"/>
                  </a:lnTo>
                  <a:lnTo>
                    <a:pt x="2241" y="1682"/>
                  </a:lnTo>
                  <a:lnTo>
                    <a:pt x="2244" y="1691"/>
                  </a:lnTo>
                  <a:lnTo>
                    <a:pt x="2247" y="1700"/>
                  </a:lnTo>
                  <a:lnTo>
                    <a:pt x="2250" y="1708"/>
                  </a:lnTo>
                  <a:lnTo>
                    <a:pt x="2259" y="1711"/>
                  </a:lnTo>
                  <a:lnTo>
                    <a:pt x="2262" y="1720"/>
                  </a:lnTo>
                  <a:lnTo>
                    <a:pt x="2262" y="1729"/>
                  </a:lnTo>
                  <a:lnTo>
                    <a:pt x="2262" y="1737"/>
                  </a:lnTo>
                  <a:lnTo>
                    <a:pt x="2253" y="1743"/>
                  </a:lnTo>
                  <a:lnTo>
                    <a:pt x="2250" y="1752"/>
                  </a:lnTo>
                  <a:lnTo>
                    <a:pt x="2250" y="1760"/>
                  </a:lnTo>
                  <a:lnTo>
                    <a:pt x="2244" y="1752"/>
                  </a:lnTo>
                  <a:lnTo>
                    <a:pt x="2241" y="1743"/>
                  </a:lnTo>
                  <a:lnTo>
                    <a:pt x="2232" y="1743"/>
                  </a:lnTo>
                  <a:lnTo>
                    <a:pt x="2232" y="1734"/>
                  </a:lnTo>
                  <a:lnTo>
                    <a:pt x="2221" y="1729"/>
                  </a:lnTo>
                  <a:lnTo>
                    <a:pt x="2209" y="1731"/>
                  </a:lnTo>
                  <a:lnTo>
                    <a:pt x="2200" y="1734"/>
                  </a:lnTo>
                  <a:lnTo>
                    <a:pt x="2192" y="1737"/>
                  </a:lnTo>
                  <a:lnTo>
                    <a:pt x="2183" y="1746"/>
                  </a:lnTo>
                  <a:lnTo>
                    <a:pt x="2177" y="1755"/>
                  </a:lnTo>
                  <a:lnTo>
                    <a:pt x="2168" y="1755"/>
                  </a:lnTo>
                  <a:lnTo>
                    <a:pt x="2160" y="1760"/>
                  </a:lnTo>
                  <a:lnTo>
                    <a:pt x="2151" y="1769"/>
                  </a:lnTo>
                  <a:lnTo>
                    <a:pt x="2142" y="1772"/>
                  </a:lnTo>
                  <a:lnTo>
                    <a:pt x="2133" y="1772"/>
                  </a:lnTo>
                  <a:lnTo>
                    <a:pt x="2133" y="1763"/>
                  </a:lnTo>
                  <a:lnTo>
                    <a:pt x="2142" y="1755"/>
                  </a:lnTo>
                  <a:lnTo>
                    <a:pt x="2151" y="1752"/>
                  </a:lnTo>
                  <a:lnTo>
                    <a:pt x="2160" y="1749"/>
                  </a:lnTo>
                  <a:lnTo>
                    <a:pt x="2160" y="1737"/>
                  </a:lnTo>
                  <a:lnTo>
                    <a:pt x="2154" y="1729"/>
                  </a:lnTo>
                  <a:lnTo>
                    <a:pt x="2145" y="1729"/>
                  </a:lnTo>
                  <a:lnTo>
                    <a:pt x="2136" y="1734"/>
                  </a:lnTo>
                  <a:lnTo>
                    <a:pt x="2128" y="1740"/>
                  </a:lnTo>
                  <a:lnTo>
                    <a:pt x="2122" y="1749"/>
                  </a:lnTo>
                  <a:lnTo>
                    <a:pt x="2113" y="1755"/>
                  </a:lnTo>
                  <a:lnTo>
                    <a:pt x="2104" y="1757"/>
                  </a:lnTo>
                  <a:lnTo>
                    <a:pt x="2096" y="1763"/>
                  </a:lnTo>
                  <a:lnTo>
                    <a:pt x="2087" y="1763"/>
                  </a:lnTo>
                  <a:lnTo>
                    <a:pt x="2078" y="1766"/>
                  </a:lnTo>
                  <a:lnTo>
                    <a:pt x="2069" y="1769"/>
                  </a:lnTo>
                  <a:lnTo>
                    <a:pt x="2061" y="1772"/>
                  </a:lnTo>
                  <a:lnTo>
                    <a:pt x="2055" y="1780"/>
                  </a:lnTo>
                  <a:lnTo>
                    <a:pt x="2052" y="1789"/>
                  </a:lnTo>
                  <a:lnTo>
                    <a:pt x="2040" y="1792"/>
                  </a:lnTo>
                  <a:lnTo>
                    <a:pt x="2034" y="1801"/>
                  </a:lnTo>
                  <a:lnTo>
                    <a:pt x="2034" y="1809"/>
                  </a:lnTo>
                  <a:lnTo>
                    <a:pt x="2029" y="1818"/>
                  </a:lnTo>
                  <a:lnTo>
                    <a:pt x="2020" y="1824"/>
                  </a:lnTo>
                  <a:lnTo>
                    <a:pt x="2011" y="1827"/>
                  </a:lnTo>
                  <a:lnTo>
                    <a:pt x="2008" y="1815"/>
                  </a:lnTo>
                  <a:lnTo>
                    <a:pt x="2005" y="1806"/>
                  </a:lnTo>
                  <a:lnTo>
                    <a:pt x="2005" y="1798"/>
                  </a:lnTo>
                  <a:lnTo>
                    <a:pt x="1997" y="1789"/>
                  </a:lnTo>
                  <a:lnTo>
                    <a:pt x="1988" y="1780"/>
                  </a:lnTo>
                  <a:lnTo>
                    <a:pt x="1999" y="1780"/>
                  </a:lnTo>
                  <a:lnTo>
                    <a:pt x="2011" y="1778"/>
                  </a:lnTo>
                  <a:lnTo>
                    <a:pt x="2020" y="1775"/>
                  </a:lnTo>
                  <a:lnTo>
                    <a:pt x="2020" y="1766"/>
                  </a:lnTo>
                  <a:lnTo>
                    <a:pt x="2023" y="1757"/>
                  </a:lnTo>
                  <a:lnTo>
                    <a:pt x="2023" y="1749"/>
                  </a:lnTo>
                  <a:lnTo>
                    <a:pt x="2014" y="1743"/>
                  </a:lnTo>
                  <a:lnTo>
                    <a:pt x="2005" y="1740"/>
                  </a:lnTo>
                  <a:lnTo>
                    <a:pt x="1994" y="1740"/>
                  </a:lnTo>
                  <a:lnTo>
                    <a:pt x="1985" y="1737"/>
                  </a:lnTo>
                  <a:lnTo>
                    <a:pt x="1976" y="1731"/>
                  </a:lnTo>
                  <a:lnTo>
                    <a:pt x="1967" y="1729"/>
                  </a:lnTo>
                  <a:lnTo>
                    <a:pt x="1967" y="1737"/>
                  </a:lnTo>
                  <a:lnTo>
                    <a:pt x="1970" y="1746"/>
                  </a:lnTo>
                  <a:lnTo>
                    <a:pt x="1976" y="1755"/>
                  </a:lnTo>
                  <a:lnTo>
                    <a:pt x="1976" y="1763"/>
                  </a:lnTo>
                  <a:lnTo>
                    <a:pt x="1976" y="1772"/>
                  </a:lnTo>
                  <a:lnTo>
                    <a:pt x="1973" y="1780"/>
                  </a:lnTo>
                  <a:lnTo>
                    <a:pt x="1965" y="1789"/>
                  </a:lnTo>
                  <a:lnTo>
                    <a:pt x="1956" y="1795"/>
                  </a:lnTo>
                  <a:lnTo>
                    <a:pt x="1953" y="1803"/>
                  </a:lnTo>
                  <a:lnTo>
                    <a:pt x="1962" y="1806"/>
                  </a:lnTo>
                  <a:lnTo>
                    <a:pt x="1970" y="1806"/>
                  </a:lnTo>
                  <a:lnTo>
                    <a:pt x="1979" y="1806"/>
                  </a:lnTo>
                  <a:lnTo>
                    <a:pt x="1982" y="1815"/>
                  </a:lnTo>
                  <a:lnTo>
                    <a:pt x="1976" y="1824"/>
                  </a:lnTo>
                  <a:lnTo>
                    <a:pt x="1965" y="1832"/>
                  </a:lnTo>
                  <a:lnTo>
                    <a:pt x="1959" y="1841"/>
                  </a:lnTo>
                  <a:lnTo>
                    <a:pt x="1959" y="1850"/>
                  </a:lnTo>
                  <a:lnTo>
                    <a:pt x="1947" y="1838"/>
                  </a:lnTo>
                  <a:lnTo>
                    <a:pt x="1938" y="1835"/>
                  </a:lnTo>
                  <a:lnTo>
                    <a:pt x="1933" y="1827"/>
                  </a:lnTo>
                  <a:lnTo>
                    <a:pt x="1924" y="1821"/>
                  </a:lnTo>
                  <a:lnTo>
                    <a:pt x="1915" y="1821"/>
                  </a:lnTo>
                  <a:lnTo>
                    <a:pt x="1906" y="1829"/>
                  </a:lnTo>
                  <a:lnTo>
                    <a:pt x="1898" y="1835"/>
                  </a:lnTo>
                  <a:lnTo>
                    <a:pt x="1889" y="1838"/>
                  </a:lnTo>
                  <a:lnTo>
                    <a:pt x="1880" y="1841"/>
                  </a:lnTo>
                  <a:lnTo>
                    <a:pt x="1874" y="1850"/>
                  </a:lnTo>
                  <a:lnTo>
                    <a:pt x="1871" y="1858"/>
                  </a:lnTo>
                  <a:lnTo>
                    <a:pt x="1868" y="1867"/>
                  </a:lnTo>
                  <a:lnTo>
                    <a:pt x="1868" y="1876"/>
                  </a:lnTo>
                  <a:lnTo>
                    <a:pt x="1868" y="1884"/>
                  </a:lnTo>
                  <a:lnTo>
                    <a:pt x="1868" y="1893"/>
                  </a:lnTo>
                  <a:lnTo>
                    <a:pt x="1868" y="1901"/>
                  </a:lnTo>
                  <a:lnTo>
                    <a:pt x="1860" y="1907"/>
                  </a:lnTo>
                  <a:lnTo>
                    <a:pt x="1848" y="1901"/>
                  </a:lnTo>
                  <a:lnTo>
                    <a:pt x="1845" y="1893"/>
                  </a:lnTo>
                  <a:lnTo>
                    <a:pt x="1839" y="1884"/>
                  </a:lnTo>
                  <a:lnTo>
                    <a:pt x="1831" y="1876"/>
                  </a:lnTo>
                  <a:lnTo>
                    <a:pt x="1822" y="1870"/>
                  </a:lnTo>
                  <a:lnTo>
                    <a:pt x="1813" y="1867"/>
                  </a:lnTo>
                  <a:lnTo>
                    <a:pt x="1804" y="1867"/>
                  </a:lnTo>
                  <a:lnTo>
                    <a:pt x="1799" y="1876"/>
                  </a:lnTo>
                  <a:lnTo>
                    <a:pt x="1796" y="1884"/>
                  </a:lnTo>
                  <a:lnTo>
                    <a:pt x="1796" y="1893"/>
                  </a:lnTo>
                  <a:lnTo>
                    <a:pt x="1804" y="1899"/>
                  </a:lnTo>
                  <a:lnTo>
                    <a:pt x="1816" y="1901"/>
                  </a:lnTo>
                  <a:lnTo>
                    <a:pt x="1819" y="1910"/>
                  </a:lnTo>
                  <a:lnTo>
                    <a:pt x="1807" y="1910"/>
                  </a:lnTo>
                  <a:lnTo>
                    <a:pt x="1819" y="1893"/>
                  </a:lnTo>
                  <a:lnTo>
                    <a:pt x="1810" y="1896"/>
                  </a:lnTo>
                  <a:lnTo>
                    <a:pt x="1822" y="1899"/>
                  </a:lnTo>
                  <a:lnTo>
                    <a:pt x="1822" y="1910"/>
                  </a:lnTo>
                  <a:lnTo>
                    <a:pt x="1822" y="1919"/>
                  </a:lnTo>
                  <a:lnTo>
                    <a:pt x="1816" y="1927"/>
                  </a:lnTo>
                  <a:lnTo>
                    <a:pt x="1802" y="1927"/>
                  </a:lnTo>
                  <a:lnTo>
                    <a:pt x="1793" y="1922"/>
                  </a:lnTo>
                  <a:lnTo>
                    <a:pt x="1790" y="1913"/>
                  </a:lnTo>
                  <a:lnTo>
                    <a:pt x="1790" y="1904"/>
                  </a:lnTo>
                  <a:lnTo>
                    <a:pt x="1784" y="1896"/>
                  </a:lnTo>
                  <a:lnTo>
                    <a:pt x="1778" y="1887"/>
                  </a:lnTo>
                  <a:lnTo>
                    <a:pt x="1770" y="1878"/>
                  </a:lnTo>
                  <a:lnTo>
                    <a:pt x="1767" y="1870"/>
                  </a:lnTo>
                  <a:lnTo>
                    <a:pt x="1764" y="1861"/>
                  </a:lnTo>
                  <a:lnTo>
                    <a:pt x="1764" y="1850"/>
                  </a:lnTo>
                  <a:lnTo>
                    <a:pt x="1764" y="1841"/>
                  </a:lnTo>
                  <a:lnTo>
                    <a:pt x="1764" y="1832"/>
                  </a:lnTo>
                  <a:lnTo>
                    <a:pt x="1772" y="1827"/>
                  </a:lnTo>
                  <a:lnTo>
                    <a:pt x="1778" y="1818"/>
                  </a:lnTo>
                  <a:lnTo>
                    <a:pt x="1778" y="1809"/>
                  </a:lnTo>
                  <a:lnTo>
                    <a:pt x="1778" y="1801"/>
                  </a:lnTo>
                  <a:lnTo>
                    <a:pt x="1778" y="1792"/>
                  </a:lnTo>
                  <a:lnTo>
                    <a:pt x="1770" y="1783"/>
                  </a:lnTo>
                  <a:lnTo>
                    <a:pt x="1761" y="1778"/>
                  </a:lnTo>
                  <a:lnTo>
                    <a:pt x="1752" y="1772"/>
                  </a:lnTo>
                  <a:lnTo>
                    <a:pt x="1752" y="1763"/>
                  </a:lnTo>
                  <a:lnTo>
                    <a:pt x="1752" y="1752"/>
                  </a:lnTo>
                  <a:lnTo>
                    <a:pt x="1752" y="1743"/>
                  </a:lnTo>
                  <a:lnTo>
                    <a:pt x="1764" y="1749"/>
                  </a:lnTo>
                  <a:lnTo>
                    <a:pt x="1772" y="1757"/>
                  </a:lnTo>
                  <a:lnTo>
                    <a:pt x="1781" y="1763"/>
                  </a:lnTo>
                  <a:lnTo>
                    <a:pt x="1781" y="1772"/>
                  </a:lnTo>
                  <a:lnTo>
                    <a:pt x="1787" y="1783"/>
                  </a:lnTo>
                  <a:lnTo>
                    <a:pt x="1796" y="1789"/>
                  </a:lnTo>
                  <a:lnTo>
                    <a:pt x="1804" y="1795"/>
                  </a:lnTo>
                  <a:lnTo>
                    <a:pt x="1816" y="1801"/>
                  </a:lnTo>
                  <a:lnTo>
                    <a:pt x="1822" y="1809"/>
                  </a:lnTo>
                  <a:lnTo>
                    <a:pt x="1831" y="1815"/>
                  </a:lnTo>
                  <a:lnTo>
                    <a:pt x="1836" y="1824"/>
                  </a:lnTo>
                  <a:lnTo>
                    <a:pt x="1845" y="1829"/>
                  </a:lnTo>
                  <a:lnTo>
                    <a:pt x="1854" y="1835"/>
                  </a:lnTo>
                  <a:lnTo>
                    <a:pt x="1866" y="1835"/>
                  </a:lnTo>
                  <a:lnTo>
                    <a:pt x="1874" y="1835"/>
                  </a:lnTo>
                  <a:lnTo>
                    <a:pt x="1883" y="1835"/>
                  </a:lnTo>
                  <a:lnTo>
                    <a:pt x="1892" y="1829"/>
                  </a:lnTo>
                  <a:lnTo>
                    <a:pt x="1901" y="1827"/>
                  </a:lnTo>
                  <a:lnTo>
                    <a:pt x="1909" y="1818"/>
                  </a:lnTo>
                  <a:lnTo>
                    <a:pt x="1909" y="1809"/>
                  </a:lnTo>
                  <a:lnTo>
                    <a:pt x="1909" y="1801"/>
                  </a:lnTo>
                  <a:lnTo>
                    <a:pt x="1909" y="1792"/>
                  </a:lnTo>
                  <a:lnTo>
                    <a:pt x="1915" y="1783"/>
                  </a:lnTo>
                  <a:lnTo>
                    <a:pt x="1918" y="1775"/>
                  </a:lnTo>
                  <a:lnTo>
                    <a:pt x="1918" y="1766"/>
                  </a:lnTo>
                  <a:lnTo>
                    <a:pt x="1915" y="1757"/>
                  </a:lnTo>
                  <a:lnTo>
                    <a:pt x="1909" y="1749"/>
                  </a:lnTo>
                  <a:lnTo>
                    <a:pt x="1901" y="1740"/>
                  </a:lnTo>
                  <a:lnTo>
                    <a:pt x="1895" y="1731"/>
                  </a:lnTo>
                  <a:lnTo>
                    <a:pt x="1892" y="1720"/>
                  </a:lnTo>
                  <a:lnTo>
                    <a:pt x="1889" y="1711"/>
                  </a:lnTo>
                  <a:lnTo>
                    <a:pt x="1880" y="1706"/>
                  </a:lnTo>
                  <a:lnTo>
                    <a:pt x="1871" y="1697"/>
                  </a:lnTo>
                  <a:lnTo>
                    <a:pt x="1866" y="1688"/>
                  </a:lnTo>
                  <a:lnTo>
                    <a:pt x="1860" y="1680"/>
                  </a:lnTo>
                  <a:lnTo>
                    <a:pt x="1851" y="1671"/>
                  </a:lnTo>
                  <a:lnTo>
                    <a:pt x="1842" y="1665"/>
                  </a:lnTo>
                  <a:lnTo>
                    <a:pt x="1831" y="1662"/>
                  </a:lnTo>
                  <a:lnTo>
                    <a:pt x="1819" y="1657"/>
                  </a:lnTo>
                  <a:lnTo>
                    <a:pt x="1813" y="1648"/>
                  </a:lnTo>
                  <a:lnTo>
                    <a:pt x="1810" y="1639"/>
                  </a:lnTo>
                  <a:lnTo>
                    <a:pt x="1807" y="1631"/>
                  </a:lnTo>
                  <a:lnTo>
                    <a:pt x="1799" y="1622"/>
                  </a:lnTo>
                  <a:lnTo>
                    <a:pt x="1793" y="1613"/>
                  </a:lnTo>
                  <a:lnTo>
                    <a:pt x="1784" y="1613"/>
                  </a:lnTo>
                  <a:lnTo>
                    <a:pt x="1772" y="1613"/>
                  </a:lnTo>
                  <a:lnTo>
                    <a:pt x="1764" y="1608"/>
                  </a:lnTo>
                  <a:lnTo>
                    <a:pt x="1761" y="1599"/>
                  </a:lnTo>
                  <a:lnTo>
                    <a:pt x="1772" y="1596"/>
                  </a:lnTo>
                  <a:lnTo>
                    <a:pt x="1781" y="1596"/>
                  </a:lnTo>
                  <a:lnTo>
                    <a:pt x="1787" y="1587"/>
                  </a:lnTo>
                  <a:lnTo>
                    <a:pt x="1778" y="1579"/>
                  </a:lnTo>
                  <a:lnTo>
                    <a:pt x="1770" y="1576"/>
                  </a:lnTo>
                  <a:lnTo>
                    <a:pt x="1761" y="1573"/>
                  </a:lnTo>
                  <a:lnTo>
                    <a:pt x="1758" y="1564"/>
                  </a:lnTo>
                  <a:lnTo>
                    <a:pt x="1758" y="1556"/>
                  </a:lnTo>
                  <a:lnTo>
                    <a:pt x="1758" y="1547"/>
                  </a:lnTo>
                  <a:lnTo>
                    <a:pt x="1749" y="1547"/>
                  </a:lnTo>
                  <a:lnTo>
                    <a:pt x="1737" y="1553"/>
                  </a:lnTo>
                  <a:lnTo>
                    <a:pt x="1729" y="1553"/>
                  </a:lnTo>
                  <a:lnTo>
                    <a:pt x="1720" y="1556"/>
                  </a:lnTo>
                  <a:lnTo>
                    <a:pt x="1720" y="1547"/>
                  </a:lnTo>
                  <a:lnTo>
                    <a:pt x="1723" y="1538"/>
                  </a:lnTo>
                  <a:lnTo>
                    <a:pt x="1726" y="1550"/>
                  </a:lnTo>
                  <a:lnTo>
                    <a:pt x="1723" y="1559"/>
                  </a:lnTo>
                  <a:lnTo>
                    <a:pt x="1723" y="1567"/>
                  </a:lnTo>
                  <a:lnTo>
                    <a:pt x="1732" y="1567"/>
                  </a:lnTo>
                  <a:lnTo>
                    <a:pt x="1740" y="1556"/>
                  </a:lnTo>
                  <a:lnTo>
                    <a:pt x="1726" y="1553"/>
                  </a:lnTo>
                  <a:lnTo>
                    <a:pt x="1717" y="1553"/>
                  </a:lnTo>
                  <a:lnTo>
                    <a:pt x="1705" y="1553"/>
                  </a:lnTo>
                  <a:lnTo>
                    <a:pt x="1705" y="1541"/>
                  </a:lnTo>
                  <a:lnTo>
                    <a:pt x="1711" y="1533"/>
                  </a:lnTo>
                  <a:lnTo>
                    <a:pt x="1700" y="1535"/>
                  </a:lnTo>
                  <a:lnTo>
                    <a:pt x="1691" y="1541"/>
                  </a:lnTo>
                  <a:lnTo>
                    <a:pt x="1679" y="1544"/>
                  </a:lnTo>
                  <a:lnTo>
                    <a:pt x="1685" y="1533"/>
                  </a:lnTo>
                  <a:lnTo>
                    <a:pt x="1685" y="1524"/>
                  </a:lnTo>
                  <a:lnTo>
                    <a:pt x="1676" y="1524"/>
                  </a:lnTo>
                  <a:lnTo>
                    <a:pt x="1668" y="1533"/>
                  </a:lnTo>
                  <a:lnTo>
                    <a:pt x="1662" y="1541"/>
                  </a:lnTo>
                  <a:lnTo>
                    <a:pt x="1653" y="1544"/>
                  </a:lnTo>
                  <a:lnTo>
                    <a:pt x="1653" y="1535"/>
                  </a:lnTo>
                  <a:lnTo>
                    <a:pt x="1644" y="1541"/>
                  </a:lnTo>
                  <a:lnTo>
                    <a:pt x="1641" y="1550"/>
                  </a:lnTo>
                  <a:lnTo>
                    <a:pt x="1633" y="1547"/>
                  </a:lnTo>
                  <a:lnTo>
                    <a:pt x="1633" y="1538"/>
                  </a:lnTo>
                  <a:lnTo>
                    <a:pt x="1624" y="1538"/>
                  </a:lnTo>
                  <a:lnTo>
                    <a:pt x="1615" y="1541"/>
                  </a:lnTo>
                  <a:lnTo>
                    <a:pt x="1609" y="1550"/>
                  </a:lnTo>
                  <a:lnTo>
                    <a:pt x="1601" y="1541"/>
                  </a:lnTo>
                  <a:lnTo>
                    <a:pt x="1598" y="1533"/>
                  </a:lnTo>
                  <a:lnTo>
                    <a:pt x="1589" y="1535"/>
                  </a:lnTo>
                  <a:lnTo>
                    <a:pt x="1580" y="1541"/>
                  </a:lnTo>
                  <a:lnTo>
                    <a:pt x="1569" y="1538"/>
                  </a:lnTo>
                  <a:lnTo>
                    <a:pt x="1563" y="1547"/>
                  </a:lnTo>
                  <a:lnTo>
                    <a:pt x="1557" y="1559"/>
                  </a:lnTo>
                  <a:lnTo>
                    <a:pt x="1554" y="1567"/>
                  </a:lnTo>
                  <a:lnTo>
                    <a:pt x="1548" y="1576"/>
                  </a:lnTo>
                  <a:lnTo>
                    <a:pt x="1540" y="1576"/>
                  </a:lnTo>
                  <a:lnTo>
                    <a:pt x="1531" y="1576"/>
                  </a:lnTo>
                  <a:lnTo>
                    <a:pt x="1525" y="1564"/>
                  </a:lnTo>
                  <a:lnTo>
                    <a:pt x="1525" y="1556"/>
                  </a:lnTo>
                  <a:lnTo>
                    <a:pt x="1525" y="1547"/>
                  </a:lnTo>
                  <a:lnTo>
                    <a:pt x="1516" y="1544"/>
                  </a:lnTo>
                  <a:lnTo>
                    <a:pt x="1513" y="1553"/>
                  </a:lnTo>
                  <a:lnTo>
                    <a:pt x="1528" y="1541"/>
                  </a:lnTo>
                  <a:lnTo>
                    <a:pt x="1510" y="1530"/>
                  </a:lnTo>
                  <a:lnTo>
                    <a:pt x="1502" y="1530"/>
                  </a:lnTo>
                  <a:lnTo>
                    <a:pt x="1493" y="1538"/>
                  </a:lnTo>
                  <a:lnTo>
                    <a:pt x="1484" y="1544"/>
                  </a:lnTo>
                  <a:lnTo>
                    <a:pt x="1481" y="1553"/>
                  </a:lnTo>
                  <a:lnTo>
                    <a:pt x="1481" y="1561"/>
                  </a:lnTo>
                  <a:lnTo>
                    <a:pt x="1487" y="1570"/>
                  </a:lnTo>
                  <a:lnTo>
                    <a:pt x="1487" y="1579"/>
                  </a:lnTo>
                  <a:lnTo>
                    <a:pt x="1478" y="1587"/>
                  </a:lnTo>
                  <a:lnTo>
                    <a:pt x="1470" y="1590"/>
                  </a:lnTo>
                  <a:lnTo>
                    <a:pt x="1461" y="1599"/>
                  </a:lnTo>
                  <a:lnTo>
                    <a:pt x="1443" y="1599"/>
                  </a:lnTo>
                  <a:lnTo>
                    <a:pt x="1432" y="1599"/>
                  </a:lnTo>
                  <a:lnTo>
                    <a:pt x="1426" y="1610"/>
                  </a:lnTo>
                  <a:lnTo>
                    <a:pt x="1420" y="1619"/>
                  </a:lnTo>
                  <a:lnTo>
                    <a:pt x="1429" y="1619"/>
                  </a:lnTo>
                  <a:lnTo>
                    <a:pt x="1417" y="1628"/>
                  </a:lnTo>
                  <a:lnTo>
                    <a:pt x="1406" y="1628"/>
                  </a:lnTo>
                  <a:lnTo>
                    <a:pt x="1397" y="1628"/>
                  </a:lnTo>
                  <a:lnTo>
                    <a:pt x="1388" y="1628"/>
                  </a:lnTo>
                  <a:lnTo>
                    <a:pt x="1382" y="1636"/>
                  </a:lnTo>
                  <a:lnTo>
                    <a:pt x="1379" y="1645"/>
                  </a:lnTo>
                  <a:lnTo>
                    <a:pt x="1371" y="1645"/>
                  </a:lnTo>
                  <a:lnTo>
                    <a:pt x="1362" y="1645"/>
                  </a:lnTo>
                  <a:lnTo>
                    <a:pt x="1356" y="1654"/>
                  </a:lnTo>
                  <a:lnTo>
                    <a:pt x="1347" y="1657"/>
                  </a:lnTo>
                  <a:lnTo>
                    <a:pt x="1336" y="1659"/>
                  </a:lnTo>
                  <a:lnTo>
                    <a:pt x="1327" y="1659"/>
                  </a:lnTo>
                  <a:lnTo>
                    <a:pt x="1318" y="1662"/>
                  </a:lnTo>
                  <a:lnTo>
                    <a:pt x="1310" y="1662"/>
                  </a:lnTo>
                  <a:lnTo>
                    <a:pt x="1298" y="1662"/>
                  </a:lnTo>
                  <a:lnTo>
                    <a:pt x="1289" y="1665"/>
                  </a:lnTo>
                  <a:lnTo>
                    <a:pt x="1280" y="1671"/>
                  </a:lnTo>
                  <a:lnTo>
                    <a:pt x="1278" y="1680"/>
                  </a:lnTo>
                  <a:lnTo>
                    <a:pt x="1280" y="1691"/>
                  </a:lnTo>
                  <a:lnTo>
                    <a:pt x="1289" y="1694"/>
                  </a:lnTo>
                  <a:lnTo>
                    <a:pt x="1301" y="1697"/>
                  </a:lnTo>
                  <a:lnTo>
                    <a:pt x="1312" y="1697"/>
                  </a:lnTo>
                  <a:lnTo>
                    <a:pt x="1321" y="1697"/>
                  </a:lnTo>
                  <a:lnTo>
                    <a:pt x="1310" y="1694"/>
                  </a:lnTo>
                  <a:lnTo>
                    <a:pt x="1298" y="1694"/>
                  </a:lnTo>
                  <a:lnTo>
                    <a:pt x="1289" y="1691"/>
                  </a:lnTo>
                  <a:lnTo>
                    <a:pt x="1304" y="1685"/>
                  </a:lnTo>
                  <a:lnTo>
                    <a:pt x="1312" y="1685"/>
                  </a:lnTo>
                  <a:lnTo>
                    <a:pt x="1321" y="1685"/>
                  </a:lnTo>
                  <a:lnTo>
                    <a:pt x="1312" y="1682"/>
                  </a:lnTo>
                  <a:lnTo>
                    <a:pt x="1301" y="1685"/>
                  </a:lnTo>
                  <a:lnTo>
                    <a:pt x="1292" y="1685"/>
                  </a:lnTo>
                  <a:lnTo>
                    <a:pt x="1286" y="1677"/>
                  </a:lnTo>
                  <a:lnTo>
                    <a:pt x="1275" y="1668"/>
                  </a:lnTo>
                  <a:lnTo>
                    <a:pt x="1266" y="1665"/>
                  </a:lnTo>
                  <a:lnTo>
                    <a:pt x="1248" y="1659"/>
                  </a:lnTo>
                  <a:lnTo>
                    <a:pt x="1240" y="1659"/>
                  </a:lnTo>
                  <a:lnTo>
                    <a:pt x="1234" y="1668"/>
                  </a:lnTo>
                  <a:lnTo>
                    <a:pt x="1225" y="1671"/>
                  </a:lnTo>
                  <a:lnTo>
                    <a:pt x="1216" y="1674"/>
                  </a:lnTo>
                  <a:lnTo>
                    <a:pt x="1208" y="1674"/>
                  </a:lnTo>
                  <a:lnTo>
                    <a:pt x="1199" y="1671"/>
                  </a:lnTo>
                  <a:lnTo>
                    <a:pt x="1190" y="1674"/>
                  </a:lnTo>
                  <a:lnTo>
                    <a:pt x="1176" y="1671"/>
                  </a:lnTo>
                  <a:lnTo>
                    <a:pt x="1167" y="1668"/>
                  </a:lnTo>
                  <a:lnTo>
                    <a:pt x="1161" y="1677"/>
                  </a:lnTo>
                  <a:lnTo>
                    <a:pt x="1152" y="1682"/>
                  </a:lnTo>
                  <a:lnTo>
                    <a:pt x="1144" y="1682"/>
                  </a:lnTo>
                  <a:lnTo>
                    <a:pt x="1132" y="1682"/>
                  </a:lnTo>
                  <a:lnTo>
                    <a:pt x="1132" y="1691"/>
                  </a:lnTo>
                  <a:lnTo>
                    <a:pt x="1132" y="1700"/>
                  </a:lnTo>
                  <a:lnTo>
                    <a:pt x="1147" y="1708"/>
                  </a:lnTo>
                  <a:lnTo>
                    <a:pt x="1155" y="1720"/>
                  </a:lnTo>
                  <a:lnTo>
                    <a:pt x="1158" y="1729"/>
                  </a:lnTo>
                  <a:lnTo>
                    <a:pt x="1158" y="1737"/>
                  </a:lnTo>
                  <a:lnTo>
                    <a:pt x="1161" y="1746"/>
                  </a:lnTo>
                  <a:lnTo>
                    <a:pt x="1161" y="1737"/>
                  </a:lnTo>
                  <a:lnTo>
                    <a:pt x="1155" y="1726"/>
                  </a:lnTo>
                  <a:lnTo>
                    <a:pt x="1152" y="1717"/>
                  </a:lnTo>
                  <a:lnTo>
                    <a:pt x="1138" y="1717"/>
                  </a:lnTo>
                  <a:lnTo>
                    <a:pt x="1129" y="1711"/>
                  </a:lnTo>
                  <a:lnTo>
                    <a:pt x="1120" y="1711"/>
                  </a:lnTo>
                  <a:lnTo>
                    <a:pt x="1117" y="1720"/>
                  </a:lnTo>
                  <a:lnTo>
                    <a:pt x="1114" y="1731"/>
                  </a:lnTo>
                  <a:lnTo>
                    <a:pt x="1114" y="1740"/>
                  </a:lnTo>
                  <a:lnTo>
                    <a:pt x="1126" y="1740"/>
                  </a:lnTo>
                  <a:lnTo>
                    <a:pt x="1138" y="1743"/>
                  </a:lnTo>
                  <a:lnTo>
                    <a:pt x="1129" y="1743"/>
                  </a:lnTo>
                  <a:lnTo>
                    <a:pt x="1120" y="1743"/>
                  </a:lnTo>
                  <a:lnTo>
                    <a:pt x="1112" y="1746"/>
                  </a:lnTo>
                  <a:lnTo>
                    <a:pt x="1103" y="1752"/>
                  </a:lnTo>
                  <a:lnTo>
                    <a:pt x="1094" y="1755"/>
                  </a:lnTo>
                  <a:lnTo>
                    <a:pt x="1085" y="1763"/>
                  </a:lnTo>
                  <a:lnTo>
                    <a:pt x="1077" y="1766"/>
                  </a:lnTo>
                  <a:lnTo>
                    <a:pt x="1068" y="1766"/>
                  </a:lnTo>
                  <a:lnTo>
                    <a:pt x="1077" y="1772"/>
                  </a:lnTo>
                  <a:lnTo>
                    <a:pt x="1085" y="1772"/>
                  </a:lnTo>
                  <a:lnTo>
                    <a:pt x="1097" y="1775"/>
                  </a:lnTo>
                  <a:lnTo>
                    <a:pt x="1091" y="1783"/>
                  </a:lnTo>
                  <a:lnTo>
                    <a:pt x="1080" y="1786"/>
                  </a:lnTo>
                  <a:lnTo>
                    <a:pt x="1071" y="1786"/>
                  </a:lnTo>
                  <a:lnTo>
                    <a:pt x="1062" y="1789"/>
                  </a:lnTo>
                  <a:lnTo>
                    <a:pt x="1056" y="1798"/>
                  </a:lnTo>
                  <a:lnTo>
                    <a:pt x="1056" y="1806"/>
                  </a:lnTo>
                  <a:lnTo>
                    <a:pt x="1056" y="1815"/>
                  </a:lnTo>
                  <a:lnTo>
                    <a:pt x="1056" y="1824"/>
                  </a:lnTo>
                  <a:lnTo>
                    <a:pt x="1056" y="1832"/>
                  </a:lnTo>
                  <a:lnTo>
                    <a:pt x="1056" y="1841"/>
                  </a:lnTo>
                  <a:lnTo>
                    <a:pt x="1062" y="1850"/>
                  </a:lnTo>
                  <a:lnTo>
                    <a:pt x="1074" y="1855"/>
                  </a:lnTo>
                  <a:lnTo>
                    <a:pt x="1082" y="1855"/>
                  </a:lnTo>
                  <a:lnTo>
                    <a:pt x="1091" y="1855"/>
                  </a:lnTo>
                  <a:lnTo>
                    <a:pt x="1103" y="1855"/>
                  </a:lnTo>
                  <a:lnTo>
                    <a:pt x="1112" y="1855"/>
                  </a:lnTo>
                  <a:lnTo>
                    <a:pt x="1120" y="1855"/>
                  </a:lnTo>
                  <a:lnTo>
                    <a:pt x="1132" y="1855"/>
                  </a:lnTo>
                  <a:lnTo>
                    <a:pt x="1144" y="1855"/>
                  </a:lnTo>
                  <a:lnTo>
                    <a:pt x="1152" y="1852"/>
                  </a:lnTo>
                  <a:lnTo>
                    <a:pt x="1167" y="1852"/>
                  </a:lnTo>
                  <a:lnTo>
                    <a:pt x="1176" y="1844"/>
                  </a:lnTo>
                  <a:lnTo>
                    <a:pt x="1179" y="1835"/>
                  </a:lnTo>
                  <a:lnTo>
                    <a:pt x="1181" y="1827"/>
                  </a:lnTo>
                  <a:lnTo>
                    <a:pt x="1184" y="1835"/>
                  </a:lnTo>
                  <a:lnTo>
                    <a:pt x="1184" y="1844"/>
                  </a:lnTo>
                  <a:lnTo>
                    <a:pt x="1181" y="1852"/>
                  </a:lnTo>
                  <a:lnTo>
                    <a:pt x="1170" y="1858"/>
                  </a:lnTo>
                  <a:lnTo>
                    <a:pt x="1173" y="1867"/>
                  </a:lnTo>
                  <a:lnTo>
                    <a:pt x="1170" y="1876"/>
                  </a:lnTo>
                  <a:lnTo>
                    <a:pt x="1164" y="1884"/>
                  </a:lnTo>
                  <a:lnTo>
                    <a:pt x="1161" y="1893"/>
                  </a:lnTo>
                  <a:lnTo>
                    <a:pt x="1161" y="1901"/>
                  </a:lnTo>
                  <a:lnTo>
                    <a:pt x="1158" y="1910"/>
                  </a:lnTo>
                  <a:lnTo>
                    <a:pt x="1149" y="1913"/>
                  </a:lnTo>
                  <a:lnTo>
                    <a:pt x="1147" y="1922"/>
                  </a:lnTo>
                  <a:lnTo>
                    <a:pt x="1147" y="1930"/>
                  </a:lnTo>
                  <a:lnTo>
                    <a:pt x="1144" y="1939"/>
                  </a:lnTo>
                  <a:lnTo>
                    <a:pt x="1144" y="1948"/>
                  </a:lnTo>
                  <a:lnTo>
                    <a:pt x="1141" y="1956"/>
                  </a:lnTo>
                  <a:lnTo>
                    <a:pt x="1141" y="1968"/>
                  </a:lnTo>
                  <a:lnTo>
                    <a:pt x="1141" y="1976"/>
                  </a:lnTo>
                  <a:lnTo>
                    <a:pt x="1155" y="1956"/>
                  </a:lnTo>
                  <a:lnTo>
                    <a:pt x="1144" y="1956"/>
                  </a:lnTo>
                  <a:lnTo>
                    <a:pt x="1144" y="1965"/>
                  </a:lnTo>
                  <a:lnTo>
                    <a:pt x="1144" y="1974"/>
                  </a:lnTo>
                  <a:lnTo>
                    <a:pt x="1144" y="1982"/>
                  </a:lnTo>
                  <a:lnTo>
                    <a:pt x="1138" y="1991"/>
                  </a:lnTo>
                  <a:lnTo>
                    <a:pt x="1129" y="1997"/>
                  </a:lnTo>
                  <a:lnTo>
                    <a:pt x="1120" y="1997"/>
                  </a:lnTo>
                  <a:lnTo>
                    <a:pt x="1117" y="2005"/>
                  </a:lnTo>
                  <a:lnTo>
                    <a:pt x="1117" y="2014"/>
                  </a:lnTo>
                  <a:lnTo>
                    <a:pt x="1117" y="2023"/>
                  </a:lnTo>
                  <a:lnTo>
                    <a:pt x="1117" y="2031"/>
                  </a:lnTo>
                  <a:lnTo>
                    <a:pt x="1120" y="2040"/>
                  </a:lnTo>
                  <a:lnTo>
                    <a:pt x="1129" y="2046"/>
                  </a:lnTo>
                  <a:lnTo>
                    <a:pt x="1144" y="2054"/>
                  </a:lnTo>
                  <a:lnTo>
                    <a:pt x="1152" y="2054"/>
                  </a:lnTo>
                  <a:lnTo>
                    <a:pt x="1158" y="2046"/>
                  </a:lnTo>
                  <a:lnTo>
                    <a:pt x="1158" y="2037"/>
                  </a:lnTo>
                  <a:lnTo>
                    <a:pt x="1170" y="2037"/>
                  </a:lnTo>
                  <a:lnTo>
                    <a:pt x="1179" y="2037"/>
                  </a:lnTo>
                  <a:lnTo>
                    <a:pt x="1187" y="2037"/>
                  </a:lnTo>
                  <a:lnTo>
                    <a:pt x="1199" y="2037"/>
                  </a:lnTo>
                  <a:lnTo>
                    <a:pt x="1208" y="2040"/>
                  </a:lnTo>
                  <a:lnTo>
                    <a:pt x="1216" y="2043"/>
                  </a:lnTo>
                  <a:lnTo>
                    <a:pt x="1225" y="2040"/>
                  </a:lnTo>
                  <a:lnTo>
                    <a:pt x="1228" y="2031"/>
                  </a:lnTo>
                  <a:lnTo>
                    <a:pt x="1231" y="2023"/>
                  </a:lnTo>
                  <a:lnTo>
                    <a:pt x="1237" y="2014"/>
                  </a:lnTo>
                  <a:lnTo>
                    <a:pt x="1245" y="2005"/>
                  </a:lnTo>
                  <a:lnTo>
                    <a:pt x="1251" y="1997"/>
                  </a:lnTo>
                  <a:lnTo>
                    <a:pt x="1260" y="1991"/>
                  </a:lnTo>
                  <a:lnTo>
                    <a:pt x="1266" y="1982"/>
                  </a:lnTo>
                  <a:lnTo>
                    <a:pt x="1269" y="1974"/>
                  </a:lnTo>
                  <a:lnTo>
                    <a:pt x="1272" y="1965"/>
                  </a:lnTo>
                  <a:lnTo>
                    <a:pt x="1280" y="1962"/>
                  </a:lnTo>
                  <a:lnTo>
                    <a:pt x="1289" y="1962"/>
                  </a:lnTo>
                  <a:lnTo>
                    <a:pt x="1298" y="1959"/>
                  </a:lnTo>
                  <a:lnTo>
                    <a:pt x="1301" y="1950"/>
                  </a:lnTo>
                  <a:lnTo>
                    <a:pt x="1304" y="1942"/>
                  </a:lnTo>
                  <a:lnTo>
                    <a:pt x="1301" y="1933"/>
                  </a:lnTo>
                  <a:lnTo>
                    <a:pt x="1292" y="1925"/>
                  </a:lnTo>
                  <a:lnTo>
                    <a:pt x="1301" y="1919"/>
                  </a:lnTo>
                  <a:lnTo>
                    <a:pt x="1310" y="1927"/>
                  </a:lnTo>
                  <a:lnTo>
                    <a:pt x="1318" y="1933"/>
                  </a:lnTo>
                  <a:lnTo>
                    <a:pt x="1324" y="1942"/>
                  </a:lnTo>
                  <a:lnTo>
                    <a:pt x="1333" y="1950"/>
                  </a:lnTo>
                  <a:lnTo>
                    <a:pt x="1342" y="1950"/>
                  </a:lnTo>
                  <a:lnTo>
                    <a:pt x="1350" y="1950"/>
                  </a:lnTo>
                  <a:lnTo>
                    <a:pt x="1353" y="1942"/>
                  </a:lnTo>
                  <a:lnTo>
                    <a:pt x="1353" y="1933"/>
                  </a:lnTo>
                  <a:lnTo>
                    <a:pt x="1356" y="1925"/>
                  </a:lnTo>
                  <a:lnTo>
                    <a:pt x="1356" y="1916"/>
                  </a:lnTo>
                  <a:lnTo>
                    <a:pt x="1359" y="1907"/>
                  </a:lnTo>
                  <a:lnTo>
                    <a:pt x="1359" y="1899"/>
                  </a:lnTo>
                  <a:lnTo>
                    <a:pt x="1356" y="1890"/>
                  </a:lnTo>
                  <a:lnTo>
                    <a:pt x="1347" y="1881"/>
                  </a:lnTo>
                  <a:lnTo>
                    <a:pt x="1347" y="1870"/>
                  </a:lnTo>
                  <a:lnTo>
                    <a:pt x="1347" y="1861"/>
                  </a:lnTo>
                  <a:lnTo>
                    <a:pt x="1356" y="1855"/>
                  </a:lnTo>
                  <a:lnTo>
                    <a:pt x="1362" y="1847"/>
                  </a:lnTo>
                  <a:lnTo>
                    <a:pt x="1371" y="1844"/>
                  </a:lnTo>
                  <a:lnTo>
                    <a:pt x="1379" y="1835"/>
                  </a:lnTo>
                  <a:lnTo>
                    <a:pt x="1382" y="1827"/>
                  </a:lnTo>
                  <a:lnTo>
                    <a:pt x="1391" y="1821"/>
                  </a:lnTo>
                  <a:lnTo>
                    <a:pt x="1400" y="1815"/>
                  </a:lnTo>
                  <a:lnTo>
                    <a:pt x="1406" y="1806"/>
                  </a:lnTo>
                  <a:lnTo>
                    <a:pt x="1414" y="1801"/>
                  </a:lnTo>
                  <a:lnTo>
                    <a:pt x="1423" y="1801"/>
                  </a:lnTo>
                  <a:lnTo>
                    <a:pt x="1435" y="1798"/>
                  </a:lnTo>
                  <a:lnTo>
                    <a:pt x="1443" y="1792"/>
                  </a:lnTo>
                  <a:lnTo>
                    <a:pt x="1452" y="1792"/>
                  </a:lnTo>
                  <a:lnTo>
                    <a:pt x="1464" y="1789"/>
                  </a:lnTo>
                  <a:lnTo>
                    <a:pt x="1473" y="1789"/>
                  </a:lnTo>
                  <a:lnTo>
                    <a:pt x="1481" y="1789"/>
                  </a:lnTo>
                  <a:lnTo>
                    <a:pt x="1490" y="1786"/>
                  </a:lnTo>
                  <a:lnTo>
                    <a:pt x="1499" y="1786"/>
                  </a:lnTo>
                  <a:lnTo>
                    <a:pt x="1508" y="1786"/>
                  </a:lnTo>
                  <a:lnTo>
                    <a:pt x="1516" y="1783"/>
                  </a:lnTo>
                  <a:lnTo>
                    <a:pt x="1516" y="1775"/>
                  </a:lnTo>
                  <a:lnTo>
                    <a:pt x="1516" y="1766"/>
                  </a:lnTo>
                  <a:lnTo>
                    <a:pt x="1513" y="1757"/>
                  </a:lnTo>
                  <a:lnTo>
                    <a:pt x="1522" y="1752"/>
                  </a:lnTo>
                  <a:lnTo>
                    <a:pt x="1528" y="1743"/>
                  </a:lnTo>
                  <a:lnTo>
                    <a:pt x="1537" y="1737"/>
                  </a:lnTo>
                  <a:lnTo>
                    <a:pt x="1545" y="1737"/>
                  </a:lnTo>
                  <a:lnTo>
                    <a:pt x="1554" y="1734"/>
                  </a:lnTo>
                  <a:lnTo>
                    <a:pt x="1563" y="1729"/>
                  </a:lnTo>
                  <a:lnTo>
                    <a:pt x="1572" y="1729"/>
                  </a:lnTo>
                  <a:lnTo>
                    <a:pt x="1580" y="1737"/>
                  </a:lnTo>
                  <a:lnTo>
                    <a:pt x="1589" y="1743"/>
                  </a:lnTo>
                  <a:lnTo>
                    <a:pt x="1598" y="1749"/>
                  </a:lnTo>
                  <a:lnTo>
                    <a:pt x="1601" y="1757"/>
                  </a:lnTo>
                  <a:lnTo>
                    <a:pt x="1601" y="1766"/>
                  </a:lnTo>
                  <a:lnTo>
                    <a:pt x="1604" y="1775"/>
                  </a:lnTo>
                  <a:lnTo>
                    <a:pt x="1604" y="1783"/>
                  </a:lnTo>
                  <a:lnTo>
                    <a:pt x="1592" y="1789"/>
                  </a:lnTo>
                  <a:lnTo>
                    <a:pt x="1580" y="1789"/>
                  </a:lnTo>
                  <a:lnTo>
                    <a:pt x="1572" y="1792"/>
                  </a:lnTo>
                  <a:lnTo>
                    <a:pt x="1566" y="1801"/>
                  </a:lnTo>
                  <a:lnTo>
                    <a:pt x="1557" y="1806"/>
                  </a:lnTo>
                  <a:lnTo>
                    <a:pt x="1548" y="1812"/>
                  </a:lnTo>
                  <a:lnTo>
                    <a:pt x="1537" y="1815"/>
                  </a:lnTo>
                  <a:lnTo>
                    <a:pt x="1528" y="1818"/>
                  </a:lnTo>
                  <a:lnTo>
                    <a:pt x="1519" y="1824"/>
                  </a:lnTo>
                  <a:lnTo>
                    <a:pt x="1510" y="1829"/>
                  </a:lnTo>
                  <a:lnTo>
                    <a:pt x="1502" y="1829"/>
                  </a:lnTo>
                  <a:lnTo>
                    <a:pt x="1490" y="1832"/>
                  </a:lnTo>
                  <a:lnTo>
                    <a:pt x="1481" y="1835"/>
                  </a:lnTo>
                  <a:lnTo>
                    <a:pt x="1473" y="1835"/>
                  </a:lnTo>
                  <a:lnTo>
                    <a:pt x="1464" y="1841"/>
                  </a:lnTo>
                  <a:lnTo>
                    <a:pt x="1458" y="1850"/>
                  </a:lnTo>
                  <a:lnTo>
                    <a:pt x="1452" y="1858"/>
                  </a:lnTo>
                  <a:lnTo>
                    <a:pt x="1449" y="1867"/>
                  </a:lnTo>
                  <a:lnTo>
                    <a:pt x="1449" y="1876"/>
                  </a:lnTo>
                  <a:lnTo>
                    <a:pt x="1446" y="1884"/>
                  </a:lnTo>
                  <a:lnTo>
                    <a:pt x="1443" y="1893"/>
                  </a:lnTo>
                  <a:lnTo>
                    <a:pt x="1438" y="1901"/>
                  </a:lnTo>
                  <a:lnTo>
                    <a:pt x="1435" y="1910"/>
                  </a:lnTo>
                  <a:lnTo>
                    <a:pt x="1429" y="1919"/>
                  </a:lnTo>
                  <a:lnTo>
                    <a:pt x="1426" y="1927"/>
                  </a:lnTo>
                  <a:lnTo>
                    <a:pt x="1423" y="1936"/>
                  </a:lnTo>
                  <a:lnTo>
                    <a:pt x="1423" y="1945"/>
                  </a:lnTo>
                  <a:lnTo>
                    <a:pt x="1417" y="1953"/>
                  </a:lnTo>
                  <a:lnTo>
                    <a:pt x="1417" y="1962"/>
                  </a:lnTo>
                  <a:lnTo>
                    <a:pt x="1426" y="1962"/>
                  </a:lnTo>
                  <a:lnTo>
                    <a:pt x="1435" y="1974"/>
                  </a:lnTo>
                  <a:lnTo>
                    <a:pt x="1441" y="1982"/>
                  </a:lnTo>
                  <a:lnTo>
                    <a:pt x="1441" y="1991"/>
                  </a:lnTo>
                  <a:lnTo>
                    <a:pt x="1449" y="1991"/>
                  </a:lnTo>
                  <a:lnTo>
                    <a:pt x="1461" y="1991"/>
                  </a:lnTo>
                  <a:lnTo>
                    <a:pt x="1470" y="1991"/>
                  </a:lnTo>
                  <a:lnTo>
                    <a:pt x="1484" y="1994"/>
                  </a:lnTo>
                  <a:lnTo>
                    <a:pt x="1493" y="1994"/>
                  </a:lnTo>
                  <a:lnTo>
                    <a:pt x="1502" y="1994"/>
                  </a:lnTo>
                  <a:lnTo>
                    <a:pt x="1510" y="1991"/>
                  </a:lnTo>
                  <a:lnTo>
                    <a:pt x="1519" y="1997"/>
                  </a:lnTo>
                  <a:lnTo>
                    <a:pt x="1531" y="1988"/>
                  </a:lnTo>
                  <a:lnTo>
                    <a:pt x="1540" y="1991"/>
                  </a:lnTo>
                  <a:lnTo>
                    <a:pt x="1548" y="1994"/>
                  </a:lnTo>
                  <a:lnTo>
                    <a:pt x="1557" y="1997"/>
                  </a:lnTo>
                  <a:lnTo>
                    <a:pt x="1566" y="1997"/>
                  </a:lnTo>
                  <a:lnTo>
                    <a:pt x="1569" y="2005"/>
                  </a:lnTo>
                  <a:lnTo>
                    <a:pt x="1569" y="2014"/>
                  </a:lnTo>
                  <a:lnTo>
                    <a:pt x="1569" y="2023"/>
                  </a:lnTo>
                  <a:lnTo>
                    <a:pt x="1572" y="2031"/>
                  </a:lnTo>
                  <a:lnTo>
                    <a:pt x="1577" y="2040"/>
                  </a:lnTo>
                  <a:lnTo>
                    <a:pt x="1586" y="2048"/>
                  </a:lnTo>
                  <a:lnTo>
                    <a:pt x="1577" y="2040"/>
                  </a:lnTo>
                  <a:lnTo>
                    <a:pt x="1569" y="2037"/>
                  </a:lnTo>
                  <a:lnTo>
                    <a:pt x="1557" y="2037"/>
                  </a:lnTo>
                  <a:lnTo>
                    <a:pt x="1548" y="2040"/>
                  </a:lnTo>
                  <a:lnTo>
                    <a:pt x="1548" y="2048"/>
                  </a:lnTo>
                  <a:lnTo>
                    <a:pt x="1540" y="2054"/>
                  </a:lnTo>
                  <a:lnTo>
                    <a:pt x="1531" y="2051"/>
                  </a:lnTo>
                  <a:lnTo>
                    <a:pt x="1522" y="2043"/>
                  </a:lnTo>
                  <a:lnTo>
                    <a:pt x="1513" y="2034"/>
                  </a:lnTo>
                  <a:lnTo>
                    <a:pt x="1505" y="2031"/>
                  </a:lnTo>
                  <a:lnTo>
                    <a:pt x="1496" y="2031"/>
                  </a:lnTo>
                  <a:lnTo>
                    <a:pt x="1487" y="2028"/>
                  </a:lnTo>
                  <a:lnTo>
                    <a:pt x="1478" y="2025"/>
                  </a:lnTo>
                  <a:lnTo>
                    <a:pt x="1470" y="2023"/>
                  </a:lnTo>
                  <a:lnTo>
                    <a:pt x="1461" y="2020"/>
                  </a:lnTo>
                  <a:lnTo>
                    <a:pt x="1452" y="2017"/>
                  </a:lnTo>
                  <a:lnTo>
                    <a:pt x="1441" y="2011"/>
                  </a:lnTo>
                  <a:lnTo>
                    <a:pt x="1432" y="2011"/>
                  </a:lnTo>
                  <a:lnTo>
                    <a:pt x="1426" y="2020"/>
                  </a:lnTo>
                  <a:lnTo>
                    <a:pt x="1426" y="2028"/>
                  </a:lnTo>
                  <a:lnTo>
                    <a:pt x="1423" y="2037"/>
                  </a:lnTo>
                  <a:lnTo>
                    <a:pt x="1417" y="2046"/>
                  </a:lnTo>
                  <a:lnTo>
                    <a:pt x="1414" y="2054"/>
                  </a:lnTo>
                  <a:lnTo>
                    <a:pt x="1426" y="2060"/>
                  </a:lnTo>
                  <a:lnTo>
                    <a:pt x="1432" y="2069"/>
                  </a:lnTo>
                  <a:lnTo>
                    <a:pt x="1429" y="2077"/>
                  </a:lnTo>
                  <a:lnTo>
                    <a:pt x="1423" y="2086"/>
                  </a:lnTo>
                  <a:lnTo>
                    <a:pt x="1414" y="2089"/>
                  </a:lnTo>
                  <a:lnTo>
                    <a:pt x="1409" y="2097"/>
                  </a:lnTo>
                  <a:lnTo>
                    <a:pt x="1403" y="2106"/>
                  </a:lnTo>
                  <a:lnTo>
                    <a:pt x="1400" y="2115"/>
                  </a:lnTo>
                  <a:lnTo>
                    <a:pt x="1391" y="2112"/>
                  </a:lnTo>
                  <a:lnTo>
                    <a:pt x="1388" y="2103"/>
                  </a:lnTo>
                  <a:lnTo>
                    <a:pt x="1385" y="2095"/>
                  </a:lnTo>
                  <a:lnTo>
                    <a:pt x="1382" y="2086"/>
                  </a:lnTo>
                  <a:lnTo>
                    <a:pt x="1382" y="2077"/>
                  </a:lnTo>
                  <a:lnTo>
                    <a:pt x="1379" y="2069"/>
                  </a:lnTo>
                  <a:lnTo>
                    <a:pt x="1371" y="2063"/>
                  </a:lnTo>
                  <a:lnTo>
                    <a:pt x="1359" y="2063"/>
                  </a:lnTo>
                  <a:lnTo>
                    <a:pt x="1350" y="2063"/>
                  </a:lnTo>
                  <a:lnTo>
                    <a:pt x="1344" y="2072"/>
                  </a:lnTo>
                  <a:lnTo>
                    <a:pt x="1339" y="2080"/>
                  </a:lnTo>
                  <a:lnTo>
                    <a:pt x="1333" y="2089"/>
                  </a:lnTo>
                  <a:lnTo>
                    <a:pt x="1327" y="2097"/>
                  </a:lnTo>
                  <a:lnTo>
                    <a:pt x="1321" y="2106"/>
                  </a:lnTo>
                  <a:lnTo>
                    <a:pt x="1312" y="2109"/>
                  </a:lnTo>
                  <a:lnTo>
                    <a:pt x="1304" y="2112"/>
                  </a:lnTo>
                  <a:lnTo>
                    <a:pt x="1304" y="2120"/>
                  </a:lnTo>
                  <a:lnTo>
                    <a:pt x="1301" y="2129"/>
                  </a:lnTo>
                  <a:lnTo>
                    <a:pt x="1298" y="2138"/>
                  </a:lnTo>
                  <a:lnTo>
                    <a:pt x="1295" y="2146"/>
                  </a:lnTo>
                  <a:lnTo>
                    <a:pt x="1295" y="2095"/>
                  </a:lnTo>
                  <a:lnTo>
                    <a:pt x="1304" y="2103"/>
                  </a:lnTo>
                  <a:lnTo>
                    <a:pt x="1304" y="2115"/>
                  </a:lnTo>
                  <a:lnTo>
                    <a:pt x="1301" y="2123"/>
                  </a:lnTo>
                  <a:lnTo>
                    <a:pt x="1298" y="2132"/>
                  </a:lnTo>
                  <a:lnTo>
                    <a:pt x="1298" y="2141"/>
                  </a:lnTo>
                  <a:lnTo>
                    <a:pt x="1295" y="2149"/>
                  </a:lnTo>
                  <a:lnTo>
                    <a:pt x="1292" y="2161"/>
                  </a:lnTo>
                  <a:lnTo>
                    <a:pt x="1289" y="2169"/>
                  </a:lnTo>
                  <a:lnTo>
                    <a:pt x="1280" y="2175"/>
                  </a:lnTo>
                  <a:lnTo>
                    <a:pt x="1278" y="2167"/>
                  </a:lnTo>
                  <a:lnTo>
                    <a:pt x="1275" y="2155"/>
                  </a:lnTo>
                  <a:lnTo>
                    <a:pt x="1272" y="2146"/>
                  </a:lnTo>
                  <a:lnTo>
                    <a:pt x="1263" y="2146"/>
                  </a:lnTo>
                  <a:lnTo>
                    <a:pt x="1251" y="2149"/>
                  </a:lnTo>
                  <a:lnTo>
                    <a:pt x="1245" y="2158"/>
                  </a:lnTo>
                  <a:lnTo>
                    <a:pt x="1240" y="2167"/>
                  </a:lnTo>
                  <a:lnTo>
                    <a:pt x="1228" y="2167"/>
                  </a:lnTo>
                  <a:lnTo>
                    <a:pt x="1216" y="2167"/>
                  </a:lnTo>
                  <a:lnTo>
                    <a:pt x="1213" y="2155"/>
                  </a:lnTo>
                  <a:lnTo>
                    <a:pt x="1213" y="2144"/>
                  </a:lnTo>
                  <a:lnTo>
                    <a:pt x="1205" y="2138"/>
                  </a:lnTo>
                  <a:lnTo>
                    <a:pt x="1196" y="2132"/>
                  </a:lnTo>
                  <a:lnTo>
                    <a:pt x="1179" y="2126"/>
                  </a:lnTo>
                  <a:lnTo>
                    <a:pt x="1170" y="2123"/>
                  </a:lnTo>
                  <a:lnTo>
                    <a:pt x="1158" y="2123"/>
                  </a:lnTo>
                  <a:lnTo>
                    <a:pt x="1152" y="2132"/>
                  </a:lnTo>
                  <a:lnTo>
                    <a:pt x="1141" y="2135"/>
                  </a:lnTo>
                  <a:lnTo>
                    <a:pt x="1132" y="2132"/>
                  </a:lnTo>
                  <a:lnTo>
                    <a:pt x="1123" y="2123"/>
                  </a:lnTo>
                  <a:lnTo>
                    <a:pt x="1114" y="2118"/>
                  </a:lnTo>
                  <a:lnTo>
                    <a:pt x="1106" y="2115"/>
                  </a:lnTo>
                  <a:lnTo>
                    <a:pt x="1097" y="2115"/>
                  </a:lnTo>
                  <a:lnTo>
                    <a:pt x="1094" y="2106"/>
                  </a:lnTo>
                  <a:lnTo>
                    <a:pt x="1094" y="2097"/>
                  </a:lnTo>
                  <a:lnTo>
                    <a:pt x="1094" y="2089"/>
                  </a:lnTo>
                  <a:lnTo>
                    <a:pt x="1091" y="2077"/>
                  </a:lnTo>
                  <a:lnTo>
                    <a:pt x="1091" y="2069"/>
                  </a:lnTo>
                  <a:lnTo>
                    <a:pt x="1082" y="2066"/>
                  </a:lnTo>
                  <a:lnTo>
                    <a:pt x="1074" y="2066"/>
                  </a:lnTo>
                  <a:lnTo>
                    <a:pt x="1065" y="2066"/>
                  </a:lnTo>
                  <a:lnTo>
                    <a:pt x="1056" y="2066"/>
                  </a:lnTo>
                  <a:lnTo>
                    <a:pt x="1048" y="2066"/>
                  </a:lnTo>
                  <a:lnTo>
                    <a:pt x="1039" y="2066"/>
                  </a:lnTo>
                  <a:lnTo>
                    <a:pt x="1027" y="2063"/>
                  </a:lnTo>
                  <a:lnTo>
                    <a:pt x="1021" y="2054"/>
                  </a:lnTo>
                  <a:lnTo>
                    <a:pt x="1021" y="2046"/>
                  </a:lnTo>
                  <a:lnTo>
                    <a:pt x="1016" y="2048"/>
                  </a:lnTo>
                  <a:lnTo>
                    <a:pt x="1036" y="2031"/>
                  </a:lnTo>
                  <a:lnTo>
                    <a:pt x="1048" y="2020"/>
                  </a:lnTo>
                  <a:lnTo>
                    <a:pt x="1059" y="2017"/>
                  </a:lnTo>
                  <a:lnTo>
                    <a:pt x="1062" y="2025"/>
                  </a:lnTo>
                  <a:lnTo>
                    <a:pt x="1050" y="2025"/>
                  </a:lnTo>
                  <a:lnTo>
                    <a:pt x="1059" y="2025"/>
                  </a:lnTo>
                  <a:lnTo>
                    <a:pt x="1071" y="2025"/>
                  </a:lnTo>
                  <a:lnTo>
                    <a:pt x="1080" y="2025"/>
                  </a:lnTo>
                  <a:lnTo>
                    <a:pt x="1088" y="2028"/>
                  </a:lnTo>
                  <a:lnTo>
                    <a:pt x="1097" y="2028"/>
                  </a:lnTo>
                  <a:lnTo>
                    <a:pt x="1106" y="2025"/>
                  </a:lnTo>
                  <a:lnTo>
                    <a:pt x="1109" y="2017"/>
                  </a:lnTo>
                  <a:lnTo>
                    <a:pt x="1112" y="2008"/>
                  </a:lnTo>
                  <a:lnTo>
                    <a:pt x="1103" y="1999"/>
                  </a:lnTo>
                  <a:lnTo>
                    <a:pt x="1100" y="1991"/>
                  </a:lnTo>
                  <a:lnTo>
                    <a:pt x="1094" y="1982"/>
                  </a:lnTo>
                  <a:lnTo>
                    <a:pt x="1091" y="1974"/>
                  </a:lnTo>
                  <a:lnTo>
                    <a:pt x="1082" y="1971"/>
                  </a:lnTo>
                  <a:lnTo>
                    <a:pt x="1077" y="1979"/>
                  </a:lnTo>
                  <a:lnTo>
                    <a:pt x="1077" y="1991"/>
                  </a:lnTo>
                  <a:lnTo>
                    <a:pt x="1077" y="1999"/>
                  </a:lnTo>
                  <a:lnTo>
                    <a:pt x="1071" y="2008"/>
                  </a:lnTo>
                  <a:lnTo>
                    <a:pt x="1068" y="2020"/>
                  </a:lnTo>
                  <a:lnTo>
                    <a:pt x="1068" y="2028"/>
                  </a:lnTo>
                  <a:lnTo>
                    <a:pt x="1059" y="2031"/>
                  </a:lnTo>
                  <a:lnTo>
                    <a:pt x="1048" y="2031"/>
                  </a:lnTo>
                  <a:lnTo>
                    <a:pt x="1039" y="2031"/>
                  </a:lnTo>
                  <a:lnTo>
                    <a:pt x="1030" y="2031"/>
                  </a:lnTo>
                  <a:lnTo>
                    <a:pt x="1027" y="2020"/>
                  </a:lnTo>
                  <a:lnTo>
                    <a:pt x="1027" y="2011"/>
                  </a:lnTo>
                  <a:lnTo>
                    <a:pt x="1027" y="2002"/>
                  </a:lnTo>
                  <a:lnTo>
                    <a:pt x="1027" y="1994"/>
                  </a:lnTo>
                  <a:lnTo>
                    <a:pt x="1027" y="1985"/>
                  </a:lnTo>
                  <a:lnTo>
                    <a:pt x="1030" y="1976"/>
                  </a:lnTo>
                  <a:lnTo>
                    <a:pt x="1039" y="1974"/>
                  </a:lnTo>
                  <a:lnTo>
                    <a:pt x="1042" y="1982"/>
                  </a:lnTo>
                  <a:lnTo>
                    <a:pt x="1042" y="1994"/>
                  </a:lnTo>
                  <a:lnTo>
                    <a:pt x="1045" y="2002"/>
                  </a:lnTo>
                  <a:lnTo>
                    <a:pt x="1050" y="2011"/>
                  </a:lnTo>
                  <a:lnTo>
                    <a:pt x="1062" y="2014"/>
                  </a:lnTo>
                  <a:lnTo>
                    <a:pt x="1074" y="2014"/>
                  </a:lnTo>
                  <a:lnTo>
                    <a:pt x="1082" y="2005"/>
                  </a:lnTo>
                  <a:lnTo>
                    <a:pt x="1082" y="1997"/>
                  </a:lnTo>
                  <a:lnTo>
                    <a:pt x="1074" y="1985"/>
                  </a:lnTo>
                  <a:lnTo>
                    <a:pt x="1065" y="1979"/>
                  </a:lnTo>
                  <a:lnTo>
                    <a:pt x="1065" y="1971"/>
                  </a:lnTo>
                  <a:lnTo>
                    <a:pt x="1074" y="1968"/>
                  </a:lnTo>
                  <a:lnTo>
                    <a:pt x="1082" y="1968"/>
                  </a:lnTo>
                  <a:lnTo>
                    <a:pt x="1091" y="1962"/>
                  </a:lnTo>
                  <a:lnTo>
                    <a:pt x="1091" y="1953"/>
                  </a:lnTo>
                  <a:lnTo>
                    <a:pt x="1091" y="1945"/>
                  </a:lnTo>
                  <a:lnTo>
                    <a:pt x="1100" y="1939"/>
                  </a:lnTo>
                  <a:lnTo>
                    <a:pt x="1109" y="1936"/>
                  </a:lnTo>
                  <a:lnTo>
                    <a:pt x="1117" y="1936"/>
                  </a:lnTo>
                  <a:lnTo>
                    <a:pt x="1123" y="1927"/>
                  </a:lnTo>
                  <a:lnTo>
                    <a:pt x="1126" y="1919"/>
                  </a:lnTo>
                  <a:lnTo>
                    <a:pt x="1126" y="1910"/>
                  </a:lnTo>
                  <a:lnTo>
                    <a:pt x="1126" y="1901"/>
                  </a:lnTo>
                  <a:lnTo>
                    <a:pt x="1114" y="1901"/>
                  </a:lnTo>
                  <a:lnTo>
                    <a:pt x="1106" y="1901"/>
                  </a:lnTo>
                  <a:lnTo>
                    <a:pt x="1097" y="1901"/>
                  </a:lnTo>
                  <a:lnTo>
                    <a:pt x="1088" y="1904"/>
                  </a:lnTo>
                  <a:lnTo>
                    <a:pt x="1080" y="1910"/>
                  </a:lnTo>
                  <a:lnTo>
                    <a:pt x="1077" y="1925"/>
                  </a:lnTo>
                  <a:lnTo>
                    <a:pt x="1077" y="1933"/>
                  </a:lnTo>
                  <a:lnTo>
                    <a:pt x="1068" y="1933"/>
                  </a:lnTo>
                  <a:lnTo>
                    <a:pt x="1059" y="1922"/>
                  </a:lnTo>
                  <a:lnTo>
                    <a:pt x="1056" y="1913"/>
                  </a:lnTo>
                  <a:lnTo>
                    <a:pt x="1068" y="1910"/>
                  </a:lnTo>
                  <a:lnTo>
                    <a:pt x="1077" y="1910"/>
                  </a:lnTo>
                  <a:lnTo>
                    <a:pt x="1065" y="1901"/>
                  </a:lnTo>
                  <a:lnTo>
                    <a:pt x="1056" y="1896"/>
                  </a:lnTo>
                  <a:lnTo>
                    <a:pt x="1056" y="1904"/>
                  </a:lnTo>
                  <a:lnTo>
                    <a:pt x="1048" y="1910"/>
                  </a:lnTo>
                  <a:lnTo>
                    <a:pt x="1039" y="1919"/>
                  </a:lnTo>
                  <a:lnTo>
                    <a:pt x="1036" y="1927"/>
                  </a:lnTo>
                  <a:lnTo>
                    <a:pt x="1030" y="1936"/>
                  </a:lnTo>
                  <a:lnTo>
                    <a:pt x="1024" y="1945"/>
                  </a:lnTo>
                  <a:lnTo>
                    <a:pt x="1016" y="1950"/>
                  </a:lnTo>
                  <a:lnTo>
                    <a:pt x="1004" y="1953"/>
                  </a:lnTo>
                  <a:lnTo>
                    <a:pt x="1001" y="1962"/>
                  </a:lnTo>
                  <a:lnTo>
                    <a:pt x="1001" y="1971"/>
                  </a:lnTo>
                  <a:lnTo>
                    <a:pt x="1001" y="1979"/>
                  </a:lnTo>
                  <a:lnTo>
                    <a:pt x="1001" y="1988"/>
                  </a:lnTo>
                  <a:lnTo>
                    <a:pt x="1001" y="1997"/>
                  </a:lnTo>
                  <a:lnTo>
                    <a:pt x="995" y="2005"/>
                  </a:lnTo>
                  <a:lnTo>
                    <a:pt x="986" y="2011"/>
                  </a:lnTo>
                  <a:lnTo>
                    <a:pt x="981" y="2020"/>
                  </a:lnTo>
                  <a:lnTo>
                    <a:pt x="981" y="2028"/>
                  </a:lnTo>
                  <a:lnTo>
                    <a:pt x="981" y="2037"/>
                  </a:lnTo>
                  <a:lnTo>
                    <a:pt x="978" y="2046"/>
                  </a:lnTo>
                  <a:lnTo>
                    <a:pt x="978" y="2054"/>
                  </a:lnTo>
                  <a:lnTo>
                    <a:pt x="983" y="2046"/>
                  </a:lnTo>
                  <a:lnTo>
                    <a:pt x="983" y="2037"/>
                  </a:lnTo>
                  <a:lnTo>
                    <a:pt x="975" y="2034"/>
                  </a:lnTo>
                  <a:lnTo>
                    <a:pt x="966" y="2034"/>
                  </a:lnTo>
                  <a:lnTo>
                    <a:pt x="957" y="2034"/>
                  </a:lnTo>
                  <a:lnTo>
                    <a:pt x="949" y="2023"/>
                  </a:lnTo>
                  <a:lnTo>
                    <a:pt x="949" y="2011"/>
                  </a:lnTo>
                  <a:lnTo>
                    <a:pt x="940" y="2008"/>
                  </a:lnTo>
                  <a:lnTo>
                    <a:pt x="931" y="2008"/>
                  </a:lnTo>
                  <a:lnTo>
                    <a:pt x="922" y="2011"/>
                  </a:lnTo>
                  <a:lnTo>
                    <a:pt x="914" y="2008"/>
                  </a:lnTo>
                  <a:lnTo>
                    <a:pt x="899" y="2002"/>
                  </a:lnTo>
                  <a:lnTo>
                    <a:pt x="890" y="1988"/>
                  </a:lnTo>
                  <a:lnTo>
                    <a:pt x="885" y="1976"/>
                  </a:lnTo>
                  <a:lnTo>
                    <a:pt x="876" y="1976"/>
                  </a:lnTo>
                  <a:lnTo>
                    <a:pt x="867" y="1979"/>
                  </a:lnTo>
                  <a:lnTo>
                    <a:pt x="861" y="1988"/>
                  </a:lnTo>
                  <a:lnTo>
                    <a:pt x="852" y="1994"/>
                  </a:lnTo>
                  <a:lnTo>
                    <a:pt x="844" y="1999"/>
                  </a:lnTo>
                  <a:lnTo>
                    <a:pt x="835" y="2002"/>
                  </a:lnTo>
                  <a:lnTo>
                    <a:pt x="826" y="2005"/>
                  </a:lnTo>
                  <a:lnTo>
                    <a:pt x="818" y="2008"/>
                  </a:lnTo>
                  <a:lnTo>
                    <a:pt x="809" y="2008"/>
                  </a:lnTo>
                  <a:lnTo>
                    <a:pt x="797" y="2011"/>
                  </a:lnTo>
                  <a:lnTo>
                    <a:pt x="788" y="2011"/>
                  </a:lnTo>
                  <a:lnTo>
                    <a:pt x="797" y="2011"/>
                  </a:lnTo>
                  <a:lnTo>
                    <a:pt x="812" y="2014"/>
                  </a:lnTo>
                  <a:lnTo>
                    <a:pt x="803" y="2017"/>
                  </a:lnTo>
                  <a:lnTo>
                    <a:pt x="794" y="2020"/>
                  </a:lnTo>
                  <a:lnTo>
                    <a:pt x="803" y="2031"/>
                  </a:lnTo>
                  <a:lnTo>
                    <a:pt x="794" y="2031"/>
                  </a:lnTo>
                  <a:lnTo>
                    <a:pt x="786" y="2028"/>
                  </a:lnTo>
                  <a:lnTo>
                    <a:pt x="777" y="2023"/>
                  </a:lnTo>
                  <a:lnTo>
                    <a:pt x="771" y="2014"/>
                  </a:lnTo>
                  <a:lnTo>
                    <a:pt x="762" y="2011"/>
                  </a:lnTo>
                  <a:lnTo>
                    <a:pt x="751" y="2008"/>
                  </a:lnTo>
                  <a:lnTo>
                    <a:pt x="742" y="2008"/>
                  </a:lnTo>
                  <a:lnTo>
                    <a:pt x="733" y="2005"/>
                  </a:lnTo>
                  <a:lnTo>
                    <a:pt x="736" y="2002"/>
                  </a:lnTo>
                  <a:lnTo>
                    <a:pt x="721" y="1985"/>
                  </a:lnTo>
                  <a:lnTo>
                    <a:pt x="713" y="1985"/>
                  </a:lnTo>
                  <a:lnTo>
                    <a:pt x="710" y="1994"/>
                  </a:lnTo>
                  <a:lnTo>
                    <a:pt x="716" y="2005"/>
                  </a:lnTo>
                  <a:lnTo>
                    <a:pt x="713" y="2014"/>
                  </a:lnTo>
                  <a:lnTo>
                    <a:pt x="704" y="2020"/>
                  </a:lnTo>
                  <a:lnTo>
                    <a:pt x="704" y="2028"/>
                  </a:lnTo>
                  <a:lnTo>
                    <a:pt x="692" y="2031"/>
                  </a:lnTo>
                  <a:lnTo>
                    <a:pt x="684" y="2025"/>
                  </a:lnTo>
                  <a:lnTo>
                    <a:pt x="672" y="2020"/>
                  </a:lnTo>
                  <a:lnTo>
                    <a:pt x="660" y="2017"/>
                  </a:lnTo>
                  <a:lnTo>
                    <a:pt x="646" y="2011"/>
                  </a:lnTo>
                  <a:lnTo>
                    <a:pt x="634" y="2008"/>
                  </a:lnTo>
                  <a:lnTo>
                    <a:pt x="625" y="2005"/>
                  </a:lnTo>
                  <a:lnTo>
                    <a:pt x="622" y="1997"/>
                  </a:lnTo>
                  <a:lnTo>
                    <a:pt x="620" y="1988"/>
                  </a:lnTo>
                  <a:lnTo>
                    <a:pt x="611" y="1979"/>
                  </a:lnTo>
                  <a:lnTo>
                    <a:pt x="608" y="1971"/>
                  </a:lnTo>
                  <a:lnTo>
                    <a:pt x="599" y="1968"/>
                  </a:lnTo>
                  <a:lnTo>
                    <a:pt x="590" y="1974"/>
                  </a:lnTo>
                  <a:lnTo>
                    <a:pt x="588" y="1985"/>
                  </a:lnTo>
                  <a:lnTo>
                    <a:pt x="585" y="1997"/>
                  </a:lnTo>
                  <a:lnTo>
                    <a:pt x="576" y="2002"/>
                  </a:lnTo>
                  <a:lnTo>
                    <a:pt x="567" y="1991"/>
                  </a:lnTo>
                  <a:lnTo>
                    <a:pt x="561" y="1982"/>
                  </a:lnTo>
                  <a:lnTo>
                    <a:pt x="553" y="1976"/>
                  </a:lnTo>
                  <a:lnTo>
                    <a:pt x="547" y="1968"/>
                  </a:lnTo>
                  <a:lnTo>
                    <a:pt x="541" y="1959"/>
                  </a:lnTo>
                  <a:lnTo>
                    <a:pt x="532" y="1956"/>
                  </a:lnTo>
                  <a:lnTo>
                    <a:pt x="524" y="1953"/>
                  </a:lnTo>
                  <a:lnTo>
                    <a:pt x="518" y="1945"/>
                  </a:lnTo>
                  <a:lnTo>
                    <a:pt x="509" y="1939"/>
                  </a:lnTo>
                  <a:lnTo>
                    <a:pt x="500" y="1939"/>
                  </a:lnTo>
                  <a:lnTo>
                    <a:pt x="494" y="1948"/>
                  </a:lnTo>
                  <a:lnTo>
                    <a:pt x="491" y="1956"/>
                  </a:lnTo>
                  <a:lnTo>
                    <a:pt x="486" y="1965"/>
                  </a:lnTo>
                  <a:lnTo>
                    <a:pt x="491" y="1974"/>
                  </a:lnTo>
                  <a:lnTo>
                    <a:pt x="500" y="1976"/>
                  </a:lnTo>
                  <a:lnTo>
                    <a:pt x="503" y="1985"/>
                  </a:lnTo>
                  <a:lnTo>
                    <a:pt x="506" y="1994"/>
                  </a:lnTo>
                  <a:lnTo>
                    <a:pt x="509" y="2002"/>
                  </a:lnTo>
                  <a:lnTo>
                    <a:pt x="512" y="2011"/>
                  </a:lnTo>
                  <a:lnTo>
                    <a:pt x="515" y="2020"/>
                  </a:lnTo>
                  <a:lnTo>
                    <a:pt x="518" y="2028"/>
                  </a:lnTo>
                  <a:lnTo>
                    <a:pt x="518" y="2037"/>
                  </a:lnTo>
                  <a:lnTo>
                    <a:pt x="518" y="2046"/>
                  </a:lnTo>
                  <a:lnTo>
                    <a:pt x="518" y="2054"/>
                  </a:lnTo>
                  <a:lnTo>
                    <a:pt x="515" y="2063"/>
                  </a:lnTo>
                  <a:lnTo>
                    <a:pt x="506" y="2072"/>
                  </a:lnTo>
                  <a:lnTo>
                    <a:pt x="503" y="2080"/>
                  </a:lnTo>
                  <a:lnTo>
                    <a:pt x="503" y="2089"/>
                  </a:lnTo>
                  <a:lnTo>
                    <a:pt x="503" y="2097"/>
                  </a:lnTo>
                  <a:lnTo>
                    <a:pt x="500" y="2106"/>
                  </a:lnTo>
                  <a:lnTo>
                    <a:pt x="491" y="2112"/>
                  </a:lnTo>
                  <a:lnTo>
                    <a:pt x="483" y="2118"/>
                  </a:lnTo>
                  <a:lnTo>
                    <a:pt x="483" y="2126"/>
                  </a:lnTo>
                  <a:lnTo>
                    <a:pt x="480" y="2138"/>
                  </a:lnTo>
                  <a:lnTo>
                    <a:pt x="477" y="2149"/>
                  </a:lnTo>
                  <a:lnTo>
                    <a:pt x="468" y="2144"/>
                  </a:lnTo>
                  <a:lnTo>
                    <a:pt x="459" y="2144"/>
                  </a:lnTo>
                  <a:lnTo>
                    <a:pt x="451" y="2144"/>
                  </a:lnTo>
                  <a:lnTo>
                    <a:pt x="442" y="2152"/>
                  </a:lnTo>
                  <a:lnTo>
                    <a:pt x="436" y="2161"/>
                  </a:lnTo>
                  <a:lnTo>
                    <a:pt x="427" y="2167"/>
                  </a:lnTo>
                  <a:lnTo>
                    <a:pt x="419" y="2175"/>
                  </a:lnTo>
                  <a:lnTo>
                    <a:pt x="407" y="2181"/>
                  </a:lnTo>
                  <a:lnTo>
                    <a:pt x="398" y="2184"/>
                  </a:lnTo>
                  <a:lnTo>
                    <a:pt x="393" y="2175"/>
                  </a:lnTo>
                  <a:lnTo>
                    <a:pt x="390" y="2167"/>
                  </a:lnTo>
                  <a:lnTo>
                    <a:pt x="384" y="2158"/>
                  </a:lnTo>
                  <a:lnTo>
                    <a:pt x="369" y="2149"/>
                  </a:lnTo>
                  <a:lnTo>
                    <a:pt x="358" y="2144"/>
                  </a:lnTo>
                  <a:lnTo>
                    <a:pt x="355" y="2135"/>
                  </a:lnTo>
                  <a:lnTo>
                    <a:pt x="349" y="2126"/>
                  </a:lnTo>
                  <a:lnTo>
                    <a:pt x="343" y="2118"/>
                  </a:lnTo>
                  <a:lnTo>
                    <a:pt x="334" y="2109"/>
                  </a:lnTo>
                  <a:lnTo>
                    <a:pt x="328" y="2100"/>
                  </a:lnTo>
                  <a:lnTo>
                    <a:pt x="320" y="2092"/>
                  </a:lnTo>
                  <a:lnTo>
                    <a:pt x="317" y="2080"/>
                  </a:lnTo>
                  <a:lnTo>
                    <a:pt x="317" y="2048"/>
                  </a:lnTo>
                  <a:lnTo>
                    <a:pt x="311" y="2060"/>
                  </a:lnTo>
                  <a:lnTo>
                    <a:pt x="302" y="2057"/>
                  </a:lnTo>
                  <a:lnTo>
                    <a:pt x="294" y="2051"/>
                  </a:lnTo>
                  <a:lnTo>
                    <a:pt x="282" y="2048"/>
                  </a:lnTo>
                  <a:lnTo>
                    <a:pt x="276" y="2040"/>
                  </a:lnTo>
                  <a:lnTo>
                    <a:pt x="270" y="2031"/>
                  </a:lnTo>
                  <a:lnTo>
                    <a:pt x="264" y="2023"/>
                  </a:lnTo>
                  <a:lnTo>
                    <a:pt x="259" y="2014"/>
                  </a:lnTo>
                  <a:lnTo>
                    <a:pt x="250" y="2008"/>
                  </a:lnTo>
                  <a:lnTo>
                    <a:pt x="241" y="2011"/>
                  </a:lnTo>
                  <a:lnTo>
                    <a:pt x="232" y="2011"/>
                  </a:lnTo>
                  <a:lnTo>
                    <a:pt x="227" y="2002"/>
                  </a:lnTo>
                  <a:lnTo>
                    <a:pt x="218" y="2002"/>
                  </a:lnTo>
                  <a:lnTo>
                    <a:pt x="209" y="2002"/>
                  </a:lnTo>
                  <a:lnTo>
                    <a:pt x="200" y="2002"/>
                  </a:lnTo>
                  <a:lnTo>
                    <a:pt x="203" y="2014"/>
                  </a:lnTo>
                  <a:lnTo>
                    <a:pt x="203" y="2025"/>
                  </a:lnTo>
                  <a:lnTo>
                    <a:pt x="200" y="2034"/>
                  </a:lnTo>
                  <a:lnTo>
                    <a:pt x="189" y="2037"/>
                  </a:lnTo>
                  <a:lnTo>
                    <a:pt x="180" y="2043"/>
                  </a:lnTo>
                  <a:lnTo>
                    <a:pt x="171" y="2051"/>
                  </a:lnTo>
                  <a:lnTo>
                    <a:pt x="168" y="2060"/>
                  </a:lnTo>
                  <a:lnTo>
                    <a:pt x="163" y="2072"/>
                  </a:lnTo>
                  <a:lnTo>
                    <a:pt x="154" y="2077"/>
                  </a:lnTo>
                  <a:lnTo>
                    <a:pt x="145" y="2083"/>
                  </a:lnTo>
                  <a:lnTo>
                    <a:pt x="136" y="2086"/>
                  </a:lnTo>
                  <a:lnTo>
                    <a:pt x="122" y="2092"/>
                  </a:lnTo>
                  <a:lnTo>
                    <a:pt x="113" y="2095"/>
                  </a:lnTo>
                  <a:lnTo>
                    <a:pt x="104" y="2097"/>
                  </a:lnTo>
                  <a:lnTo>
                    <a:pt x="96" y="2103"/>
                  </a:lnTo>
                  <a:lnTo>
                    <a:pt x="87" y="2109"/>
                  </a:lnTo>
                  <a:lnTo>
                    <a:pt x="78" y="2112"/>
                  </a:lnTo>
                  <a:lnTo>
                    <a:pt x="66" y="2112"/>
                  </a:lnTo>
                  <a:lnTo>
                    <a:pt x="58" y="2115"/>
                  </a:lnTo>
                  <a:lnTo>
                    <a:pt x="55" y="2123"/>
                  </a:lnTo>
                  <a:lnTo>
                    <a:pt x="49" y="2132"/>
                  </a:lnTo>
                  <a:lnTo>
                    <a:pt x="46" y="2141"/>
                  </a:lnTo>
                  <a:lnTo>
                    <a:pt x="58" y="2146"/>
                  </a:lnTo>
                  <a:lnTo>
                    <a:pt x="66" y="2146"/>
                  </a:lnTo>
                  <a:lnTo>
                    <a:pt x="75" y="2146"/>
                  </a:lnTo>
                  <a:lnTo>
                    <a:pt x="66" y="2158"/>
                  </a:lnTo>
                  <a:lnTo>
                    <a:pt x="55" y="2164"/>
                  </a:lnTo>
                  <a:lnTo>
                    <a:pt x="43" y="2169"/>
                  </a:lnTo>
                  <a:lnTo>
                    <a:pt x="34" y="2175"/>
                  </a:lnTo>
                  <a:lnTo>
                    <a:pt x="26" y="2181"/>
                  </a:lnTo>
                  <a:lnTo>
                    <a:pt x="23" y="2190"/>
                  </a:lnTo>
                  <a:lnTo>
                    <a:pt x="23" y="2198"/>
                  </a:lnTo>
                  <a:lnTo>
                    <a:pt x="14" y="2207"/>
                  </a:lnTo>
                  <a:lnTo>
                    <a:pt x="5" y="2210"/>
                  </a:lnTo>
                  <a:lnTo>
                    <a:pt x="0" y="2218"/>
                  </a:lnTo>
                  <a:lnTo>
                    <a:pt x="5" y="2227"/>
                  </a:lnTo>
                  <a:lnTo>
                    <a:pt x="14" y="2236"/>
                  </a:lnTo>
                  <a:lnTo>
                    <a:pt x="23" y="2244"/>
                  </a:lnTo>
                  <a:lnTo>
                    <a:pt x="37" y="2233"/>
                  </a:lnTo>
                  <a:lnTo>
                    <a:pt x="46" y="2230"/>
                  </a:lnTo>
                  <a:lnTo>
                    <a:pt x="49" y="2239"/>
                  </a:lnTo>
                  <a:lnTo>
                    <a:pt x="49" y="2247"/>
                  </a:lnTo>
                  <a:lnTo>
                    <a:pt x="52" y="2256"/>
                  </a:lnTo>
                  <a:lnTo>
                    <a:pt x="55" y="2265"/>
                  </a:lnTo>
                  <a:lnTo>
                    <a:pt x="58" y="2273"/>
                  </a:lnTo>
                  <a:lnTo>
                    <a:pt x="58" y="2282"/>
                  </a:lnTo>
                  <a:lnTo>
                    <a:pt x="61" y="2291"/>
                  </a:lnTo>
                  <a:lnTo>
                    <a:pt x="61" y="2299"/>
                  </a:lnTo>
                  <a:lnTo>
                    <a:pt x="58" y="2308"/>
                  </a:lnTo>
                  <a:lnTo>
                    <a:pt x="52" y="2316"/>
                  </a:lnTo>
                  <a:lnTo>
                    <a:pt x="52" y="2325"/>
                  </a:lnTo>
                  <a:lnTo>
                    <a:pt x="52" y="2334"/>
                  </a:lnTo>
                  <a:lnTo>
                    <a:pt x="49" y="2342"/>
                  </a:lnTo>
                  <a:lnTo>
                    <a:pt x="58" y="2348"/>
                  </a:lnTo>
                  <a:lnTo>
                    <a:pt x="69" y="2348"/>
                  </a:lnTo>
                  <a:lnTo>
                    <a:pt x="78" y="2348"/>
                  </a:lnTo>
                  <a:lnTo>
                    <a:pt x="87" y="2357"/>
                  </a:lnTo>
                  <a:lnTo>
                    <a:pt x="96" y="2360"/>
                  </a:lnTo>
                  <a:lnTo>
                    <a:pt x="104" y="2360"/>
                  </a:lnTo>
                  <a:lnTo>
                    <a:pt x="113" y="2365"/>
                  </a:lnTo>
                  <a:lnTo>
                    <a:pt x="122" y="2371"/>
                  </a:lnTo>
                  <a:lnTo>
                    <a:pt x="128" y="2380"/>
                  </a:lnTo>
                  <a:lnTo>
                    <a:pt x="139" y="2389"/>
                  </a:lnTo>
                  <a:lnTo>
                    <a:pt x="142" y="2397"/>
                  </a:lnTo>
                  <a:lnTo>
                    <a:pt x="151" y="2406"/>
                  </a:lnTo>
                  <a:lnTo>
                    <a:pt x="160" y="2414"/>
                  </a:lnTo>
                  <a:lnTo>
                    <a:pt x="168" y="2417"/>
                  </a:lnTo>
                  <a:lnTo>
                    <a:pt x="177" y="2420"/>
                  </a:lnTo>
                  <a:lnTo>
                    <a:pt x="186" y="2423"/>
                  </a:lnTo>
                  <a:lnTo>
                    <a:pt x="195" y="2423"/>
                  </a:lnTo>
                  <a:lnTo>
                    <a:pt x="203" y="2423"/>
                  </a:lnTo>
                  <a:lnTo>
                    <a:pt x="212" y="2423"/>
                  </a:lnTo>
                  <a:lnTo>
                    <a:pt x="221" y="2420"/>
                  </a:lnTo>
                  <a:lnTo>
                    <a:pt x="229" y="2420"/>
                  </a:lnTo>
                  <a:lnTo>
                    <a:pt x="238" y="2420"/>
                  </a:lnTo>
                  <a:lnTo>
                    <a:pt x="247" y="2417"/>
                  </a:lnTo>
                  <a:lnTo>
                    <a:pt x="256" y="2412"/>
                  </a:lnTo>
                  <a:lnTo>
                    <a:pt x="264" y="2412"/>
                  </a:lnTo>
                  <a:lnTo>
                    <a:pt x="276" y="2412"/>
                  </a:lnTo>
                  <a:lnTo>
                    <a:pt x="285" y="2412"/>
                  </a:lnTo>
                  <a:lnTo>
                    <a:pt x="294" y="2414"/>
                  </a:lnTo>
                  <a:lnTo>
                    <a:pt x="302" y="2414"/>
                  </a:lnTo>
                  <a:lnTo>
                    <a:pt x="305" y="2406"/>
                  </a:lnTo>
                  <a:lnTo>
                    <a:pt x="305" y="2397"/>
                  </a:lnTo>
                  <a:lnTo>
                    <a:pt x="302" y="2389"/>
                  </a:lnTo>
                  <a:lnTo>
                    <a:pt x="299" y="2380"/>
                  </a:lnTo>
                  <a:lnTo>
                    <a:pt x="302" y="2371"/>
                  </a:lnTo>
                  <a:lnTo>
                    <a:pt x="314" y="2368"/>
                  </a:lnTo>
                  <a:lnTo>
                    <a:pt x="323" y="2368"/>
                  </a:lnTo>
                  <a:lnTo>
                    <a:pt x="331" y="2368"/>
                  </a:lnTo>
                  <a:lnTo>
                    <a:pt x="343" y="2368"/>
                  </a:lnTo>
                  <a:lnTo>
                    <a:pt x="346" y="2360"/>
                  </a:lnTo>
                  <a:lnTo>
                    <a:pt x="355" y="2354"/>
                  </a:lnTo>
                  <a:lnTo>
                    <a:pt x="363" y="2351"/>
                  </a:lnTo>
                  <a:lnTo>
                    <a:pt x="372" y="2351"/>
                  </a:lnTo>
                  <a:lnTo>
                    <a:pt x="381" y="2348"/>
                  </a:lnTo>
                  <a:lnTo>
                    <a:pt x="390" y="2348"/>
                  </a:lnTo>
                  <a:lnTo>
                    <a:pt x="398" y="2348"/>
                  </a:lnTo>
                  <a:lnTo>
                    <a:pt x="407" y="2348"/>
                  </a:lnTo>
                  <a:lnTo>
                    <a:pt x="419" y="2354"/>
                  </a:lnTo>
                  <a:lnTo>
                    <a:pt x="427" y="2360"/>
                  </a:lnTo>
                  <a:lnTo>
                    <a:pt x="436" y="2360"/>
                  </a:lnTo>
                  <a:lnTo>
                    <a:pt x="445" y="2360"/>
                  </a:lnTo>
                  <a:lnTo>
                    <a:pt x="454" y="2363"/>
                  </a:lnTo>
                  <a:lnTo>
                    <a:pt x="462" y="2363"/>
                  </a:lnTo>
                  <a:lnTo>
                    <a:pt x="471" y="2363"/>
                  </a:lnTo>
                  <a:lnTo>
                    <a:pt x="480" y="2363"/>
                  </a:lnTo>
                  <a:lnTo>
                    <a:pt x="489" y="2360"/>
                  </a:lnTo>
                  <a:lnTo>
                    <a:pt x="494" y="2351"/>
                  </a:lnTo>
                  <a:lnTo>
                    <a:pt x="494" y="2342"/>
                  </a:lnTo>
                  <a:lnTo>
                    <a:pt x="494" y="2334"/>
                  </a:lnTo>
                  <a:lnTo>
                    <a:pt x="497" y="2325"/>
                  </a:lnTo>
                  <a:lnTo>
                    <a:pt x="506" y="2322"/>
                  </a:lnTo>
                  <a:lnTo>
                    <a:pt x="515" y="2322"/>
                  </a:lnTo>
                  <a:lnTo>
                    <a:pt x="524" y="2322"/>
                  </a:lnTo>
                  <a:lnTo>
                    <a:pt x="532" y="2322"/>
                  </a:lnTo>
                  <a:lnTo>
                    <a:pt x="541" y="2322"/>
                  </a:lnTo>
                  <a:lnTo>
                    <a:pt x="550" y="2328"/>
                  </a:lnTo>
                  <a:lnTo>
                    <a:pt x="556" y="2337"/>
                  </a:lnTo>
                  <a:lnTo>
                    <a:pt x="564" y="2342"/>
                  </a:lnTo>
                  <a:lnTo>
                    <a:pt x="570" y="2351"/>
                  </a:lnTo>
                  <a:lnTo>
                    <a:pt x="576" y="2360"/>
                  </a:lnTo>
                  <a:lnTo>
                    <a:pt x="585" y="2368"/>
                  </a:lnTo>
                  <a:lnTo>
                    <a:pt x="590" y="2377"/>
                  </a:lnTo>
                  <a:lnTo>
                    <a:pt x="599" y="2383"/>
                  </a:lnTo>
                  <a:lnTo>
                    <a:pt x="611" y="2386"/>
                  </a:lnTo>
                  <a:lnTo>
                    <a:pt x="620" y="2386"/>
                  </a:lnTo>
                  <a:lnTo>
                    <a:pt x="628" y="2386"/>
                  </a:lnTo>
                  <a:lnTo>
                    <a:pt x="637" y="2386"/>
                  </a:lnTo>
                  <a:lnTo>
                    <a:pt x="646" y="2386"/>
                  </a:lnTo>
                  <a:lnTo>
                    <a:pt x="655" y="2386"/>
                  </a:lnTo>
                  <a:lnTo>
                    <a:pt x="663" y="2389"/>
                  </a:lnTo>
                  <a:lnTo>
                    <a:pt x="672" y="2389"/>
                  </a:lnTo>
                  <a:lnTo>
                    <a:pt x="681" y="2389"/>
                  </a:lnTo>
                  <a:lnTo>
                    <a:pt x="689" y="2389"/>
                  </a:lnTo>
                  <a:lnTo>
                    <a:pt x="698" y="2394"/>
                  </a:lnTo>
                  <a:lnTo>
                    <a:pt x="707" y="2403"/>
                  </a:lnTo>
                  <a:lnTo>
                    <a:pt x="713" y="2412"/>
                  </a:lnTo>
                  <a:lnTo>
                    <a:pt x="716" y="2420"/>
                  </a:lnTo>
                  <a:lnTo>
                    <a:pt x="716" y="2429"/>
                  </a:lnTo>
                  <a:lnTo>
                    <a:pt x="716" y="2437"/>
                  </a:lnTo>
                  <a:lnTo>
                    <a:pt x="719" y="2446"/>
                  </a:lnTo>
                  <a:lnTo>
                    <a:pt x="719" y="2455"/>
                  </a:lnTo>
                  <a:lnTo>
                    <a:pt x="721" y="2463"/>
                  </a:lnTo>
                  <a:lnTo>
                    <a:pt x="721" y="2472"/>
                  </a:lnTo>
                  <a:lnTo>
                    <a:pt x="721" y="2481"/>
                  </a:lnTo>
                  <a:lnTo>
                    <a:pt x="721" y="2489"/>
                  </a:lnTo>
                  <a:lnTo>
                    <a:pt x="713" y="2492"/>
                  </a:lnTo>
                  <a:lnTo>
                    <a:pt x="704" y="2492"/>
                  </a:lnTo>
                  <a:lnTo>
                    <a:pt x="698" y="2501"/>
                  </a:lnTo>
                  <a:lnTo>
                    <a:pt x="707" y="2507"/>
                  </a:lnTo>
                  <a:lnTo>
                    <a:pt x="716" y="2512"/>
                  </a:lnTo>
                  <a:lnTo>
                    <a:pt x="721" y="2521"/>
                  </a:lnTo>
                  <a:lnTo>
                    <a:pt x="721" y="2530"/>
                  </a:lnTo>
                  <a:lnTo>
                    <a:pt x="719" y="2538"/>
                  </a:lnTo>
                  <a:lnTo>
                    <a:pt x="719" y="2547"/>
                  </a:lnTo>
                  <a:lnTo>
                    <a:pt x="719" y="2556"/>
                  </a:lnTo>
                  <a:lnTo>
                    <a:pt x="719" y="2564"/>
                  </a:lnTo>
                  <a:lnTo>
                    <a:pt x="721" y="2576"/>
                  </a:lnTo>
                  <a:lnTo>
                    <a:pt x="721" y="2584"/>
                  </a:lnTo>
                  <a:lnTo>
                    <a:pt x="727" y="2593"/>
                  </a:lnTo>
                  <a:lnTo>
                    <a:pt x="736" y="2602"/>
                  </a:lnTo>
                  <a:lnTo>
                    <a:pt x="742" y="2613"/>
                  </a:lnTo>
                  <a:lnTo>
                    <a:pt x="745" y="2625"/>
                  </a:lnTo>
                  <a:lnTo>
                    <a:pt x="756" y="2633"/>
                  </a:lnTo>
                  <a:lnTo>
                    <a:pt x="765" y="2642"/>
                  </a:lnTo>
                  <a:lnTo>
                    <a:pt x="768" y="2654"/>
                  </a:lnTo>
                  <a:lnTo>
                    <a:pt x="768" y="2662"/>
                  </a:lnTo>
                  <a:lnTo>
                    <a:pt x="768" y="2671"/>
                  </a:lnTo>
                  <a:lnTo>
                    <a:pt x="771" y="2682"/>
                  </a:lnTo>
                  <a:lnTo>
                    <a:pt x="780" y="2688"/>
                  </a:lnTo>
                  <a:lnTo>
                    <a:pt x="783" y="2697"/>
                  </a:lnTo>
                  <a:lnTo>
                    <a:pt x="786" y="2705"/>
                  </a:lnTo>
                  <a:lnTo>
                    <a:pt x="788" y="2714"/>
                  </a:lnTo>
                  <a:lnTo>
                    <a:pt x="788" y="2723"/>
                  </a:lnTo>
                  <a:lnTo>
                    <a:pt x="788" y="2731"/>
                  </a:lnTo>
                  <a:lnTo>
                    <a:pt x="788" y="2740"/>
                  </a:lnTo>
                  <a:lnTo>
                    <a:pt x="788" y="2749"/>
                  </a:lnTo>
                  <a:lnTo>
                    <a:pt x="788" y="2757"/>
                  </a:lnTo>
                  <a:lnTo>
                    <a:pt x="788" y="2769"/>
                  </a:lnTo>
                  <a:lnTo>
                    <a:pt x="783" y="2778"/>
                  </a:lnTo>
                  <a:lnTo>
                    <a:pt x="774" y="2778"/>
                  </a:lnTo>
                  <a:lnTo>
                    <a:pt x="765" y="2783"/>
                  </a:lnTo>
                  <a:lnTo>
                    <a:pt x="759" y="2792"/>
                  </a:lnTo>
                  <a:lnTo>
                    <a:pt x="751" y="2795"/>
                  </a:lnTo>
                  <a:lnTo>
                    <a:pt x="742" y="2789"/>
                  </a:lnTo>
                  <a:lnTo>
                    <a:pt x="730" y="2786"/>
                  </a:lnTo>
                  <a:lnTo>
                    <a:pt x="721" y="2780"/>
                  </a:lnTo>
                  <a:lnTo>
                    <a:pt x="713" y="2778"/>
                  </a:lnTo>
                  <a:lnTo>
                    <a:pt x="710" y="2766"/>
                  </a:lnTo>
                  <a:lnTo>
                    <a:pt x="707" y="2757"/>
                  </a:lnTo>
                  <a:lnTo>
                    <a:pt x="698" y="2754"/>
                  </a:lnTo>
                  <a:lnTo>
                    <a:pt x="687" y="2754"/>
                  </a:lnTo>
                  <a:lnTo>
                    <a:pt x="678" y="2746"/>
                  </a:lnTo>
                  <a:lnTo>
                    <a:pt x="672" y="2737"/>
                  </a:lnTo>
                  <a:lnTo>
                    <a:pt x="660" y="2731"/>
                  </a:lnTo>
                  <a:lnTo>
                    <a:pt x="652" y="2729"/>
                  </a:lnTo>
                  <a:lnTo>
                    <a:pt x="643" y="2729"/>
                  </a:lnTo>
                  <a:lnTo>
                    <a:pt x="634" y="2729"/>
                  </a:lnTo>
                  <a:lnTo>
                    <a:pt x="628" y="2737"/>
                  </a:lnTo>
                  <a:lnTo>
                    <a:pt x="628" y="2746"/>
                  </a:lnTo>
                  <a:lnTo>
                    <a:pt x="631" y="2754"/>
                  </a:lnTo>
                  <a:lnTo>
                    <a:pt x="640" y="2763"/>
                  </a:lnTo>
                  <a:lnTo>
                    <a:pt x="652" y="2769"/>
                  </a:lnTo>
                  <a:lnTo>
                    <a:pt x="660" y="2775"/>
                  </a:lnTo>
                  <a:lnTo>
                    <a:pt x="666" y="2783"/>
                  </a:lnTo>
                  <a:lnTo>
                    <a:pt x="669" y="2792"/>
                  </a:lnTo>
                  <a:lnTo>
                    <a:pt x="672" y="2801"/>
                  </a:lnTo>
                  <a:lnTo>
                    <a:pt x="675" y="2809"/>
                  </a:lnTo>
                  <a:lnTo>
                    <a:pt x="678" y="2818"/>
                  </a:lnTo>
                  <a:lnTo>
                    <a:pt x="687" y="2827"/>
                  </a:lnTo>
                  <a:lnTo>
                    <a:pt x="695" y="2829"/>
                  </a:lnTo>
                  <a:lnTo>
                    <a:pt x="707" y="2829"/>
                  </a:lnTo>
                  <a:lnTo>
                    <a:pt x="713" y="2818"/>
                  </a:lnTo>
                  <a:lnTo>
                    <a:pt x="713" y="2809"/>
                  </a:lnTo>
                  <a:lnTo>
                    <a:pt x="716" y="2801"/>
                  </a:lnTo>
                  <a:lnTo>
                    <a:pt x="724" y="2795"/>
                  </a:lnTo>
                  <a:lnTo>
                    <a:pt x="733" y="2795"/>
                  </a:lnTo>
                  <a:lnTo>
                    <a:pt x="742" y="2792"/>
                  </a:lnTo>
                  <a:lnTo>
                    <a:pt x="751" y="2801"/>
                  </a:lnTo>
                  <a:lnTo>
                    <a:pt x="762" y="2803"/>
                  </a:lnTo>
                  <a:lnTo>
                    <a:pt x="771" y="2803"/>
                  </a:lnTo>
                  <a:lnTo>
                    <a:pt x="780" y="2803"/>
                  </a:lnTo>
                  <a:lnTo>
                    <a:pt x="788" y="2803"/>
                  </a:lnTo>
                  <a:lnTo>
                    <a:pt x="788" y="2795"/>
                  </a:lnTo>
                  <a:lnTo>
                    <a:pt x="788" y="2786"/>
                  </a:lnTo>
                  <a:lnTo>
                    <a:pt x="797" y="2780"/>
                  </a:lnTo>
                  <a:lnTo>
                    <a:pt x="806" y="2780"/>
                  </a:lnTo>
                  <a:lnTo>
                    <a:pt x="815" y="2772"/>
                  </a:lnTo>
                  <a:lnTo>
                    <a:pt x="815" y="2763"/>
                  </a:lnTo>
                  <a:lnTo>
                    <a:pt x="815" y="2754"/>
                  </a:lnTo>
                  <a:lnTo>
                    <a:pt x="815" y="2746"/>
                  </a:lnTo>
                  <a:lnTo>
                    <a:pt x="815" y="2737"/>
                  </a:lnTo>
                  <a:lnTo>
                    <a:pt x="818" y="2729"/>
                  </a:lnTo>
                  <a:lnTo>
                    <a:pt x="826" y="2726"/>
                  </a:lnTo>
                  <a:lnTo>
                    <a:pt x="835" y="2720"/>
                  </a:lnTo>
                  <a:lnTo>
                    <a:pt x="844" y="2717"/>
                  </a:lnTo>
                  <a:lnTo>
                    <a:pt x="852" y="2720"/>
                  </a:lnTo>
                  <a:lnTo>
                    <a:pt x="855" y="2729"/>
                  </a:lnTo>
                  <a:lnTo>
                    <a:pt x="858" y="2740"/>
                  </a:lnTo>
                  <a:lnTo>
                    <a:pt x="858" y="2749"/>
                  </a:lnTo>
                  <a:lnTo>
                    <a:pt x="861" y="2757"/>
                  </a:lnTo>
                  <a:lnTo>
                    <a:pt x="870" y="2763"/>
                  </a:lnTo>
                  <a:lnTo>
                    <a:pt x="882" y="2766"/>
                  </a:lnTo>
                  <a:lnTo>
                    <a:pt x="887" y="2757"/>
                  </a:lnTo>
                  <a:lnTo>
                    <a:pt x="887" y="2749"/>
                  </a:lnTo>
                  <a:lnTo>
                    <a:pt x="887" y="2740"/>
                  </a:lnTo>
                  <a:lnTo>
                    <a:pt x="887" y="2731"/>
                  </a:lnTo>
                  <a:lnTo>
                    <a:pt x="885" y="2723"/>
                  </a:lnTo>
                  <a:lnTo>
                    <a:pt x="876" y="2714"/>
                  </a:lnTo>
                  <a:lnTo>
                    <a:pt x="870" y="2705"/>
                  </a:lnTo>
                  <a:lnTo>
                    <a:pt x="864" y="2697"/>
                  </a:lnTo>
                  <a:lnTo>
                    <a:pt x="855" y="2691"/>
                  </a:lnTo>
                  <a:lnTo>
                    <a:pt x="847" y="2682"/>
                  </a:lnTo>
                  <a:lnTo>
                    <a:pt x="838" y="2674"/>
                  </a:lnTo>
                  <a:lnTo>
                    <a:pt x="835" y="2665"/>
                  </a:lnTo>
                  <a:lnTo>
                    <a:pt x="832" y="2657"/>
                  </a:lnTo>
                  <a:lnTo>
                    <a:pt x="832" y="2648"/>
                  </a:lnTo>
                  <a:lnTo>
                    <a:pt x="841" y="2642"/>
                  </a:lnTo>
                  <a:lnTo>
                    <a:pt x="850" y="2642"/>
                  </a:lnTo>
                  <a:lnTo>
                    <a:pt x="852" y="2633"/>
                  </a:lnTo>
                  <a:lnTo>
                    <a:pt x="844" y="2628"/>
                  </a:lnTo>
                  <a:lnTo>
                    <a:pt x="835" y="2622"/>
                  </a:lnTo>
                  <a:lnTo>
                    <a:pt x="826" y="2619"/>
                  </a:lnTo>
                  <a:lnTo>
                    <a:pt x="820" y="2610"/>
                  </a:lnTo>
                  <a:lnTo>
                    <a:pt x="818" y="2602"/>
                  </a:lnTo>
                  <a:lnTo>
                    <a:pt x="812" y="2593"/>
                  </a:lnTo>
                  <a:lnTo>
                    <a:pt x="812" y="2584"/>
                  </a:lnTo>
                  <a:lnTo>
                    <a:pt x="809" y="2576"/>
                  </a:lnTo>
                  <a:lnTo>
                    <a:pt x="806" y="2564"/>
                  </a:lnTo>
                  <a:lnTo>
                    <a:pt x="806" y="2556"/>
                  </a:lnTo>
                  <a:lnTo>
                    <a:pt x="806" y="2547"/>
                  </a:lnTo>
                  <a:lnTo>
                    <a:pt x="806" y="2538"/>
                  </a:lnTo>
                  <a:lnTo>
                    <a:pt x="806" y="2530"/>
                  </a:lnTo>
                  <a:lnTo>
                    <a:pt x="806" y="2521"/>
                  </a:lnTo>
                  <a:lnTo>
                    <a:pt x="806" y="2512"/>
                  </a:lnTo>
                  <a:lnTo>
                    <a:pt x="806" y="2504"/>
                  </a:lnTo>
                  <a:lnTo>
                    <a:pt x="803" y="2495"/>
                  </a:lnTo>
                  <a:lnTo>
                    <a:pt x="800" y="2486"/>
                  </a:lnTo>
                  <a:lnTo>
                    <a:pt x="800" y="2478"/>
                  </a:lnTo>
                  <a:lnTo>
                    <a:pt x="800" y="2469"/>
                  </a:lnTo>
                  <a:lnTo>
                    <a:pt x="800" y="2461"/>
                  </a:lnTo>
                  <a:lnTo>
                    <a:pt x="800" y="2452"/>
                  </a:lnTo>
                  <a:lnTo>
                    <a:pt x="809" y="2452"/>
                  </a:lnTo>
                  <a:lnTo>
                    <a:pt x="818" y="2452"/>
                  </a:lnTo>
                  <a:lnTo>
                    <a:pt x="818" y="2443"/>
                  </a:lnTo>
                  <a:lnTo>
                    <a:pt x="820" y="2435"/>
                  </a:lnTo>
                  <a:lnTo>
                    <a:pt x="826" y="2426"/>
                  </a:lnTo>
                  <a:lnTo>
                    <a:pt x="835" y="2426"/>
                  </a:lnTo>
                  <a:lnTo>
                    <a:pt x="838" y="2435"/>
                  </a:lnTo>
                  <a:lnTo>
                    <a:pt x="847" y="2440"/>
                  </a:lnTo>
                  <a:lnTo>
                    <a:pt x="855" y="2435"/>
                  </a:lnTo>
                  <a:lnTo>
                    <a:pt x="864" y="2432"/>
                  </a:lnTo>
                  <a:lnTo>
                    <a:pt x="864" y="2440"/>
                  </a:lnTo>
                  <a:lnTo>
                    <a:pt x="864" y="2449"/>
                  </a:lnTo>
                  <a:lnTo>
                    <a:pt x="858" y="2458"/>
                  </a:lnTo>
                  <a:lnTo>
                    <a:pt x="850" y="2466"/>
                  </a:lnTo>
                  <a:lnTo>
                    <a:pt x="847" y="2475"/>
                  </a:lnTo>
                  <a:lnTo>
                    <a:pt x="855" y="2478"/>
                  </a:lnTo>
                  <a:lnTo>
                    <a:pt x="864" y="2478"/>
                  </a:lnTo>
                  <a:lnTo>
                    <a:pt x="864" y="2486"/>
                  </a:lnTo>
                  <a:lnTo>
                    <a:pt x="864" y="2495"/>
                  </a:lnTo>
                  <a:lnTo>
                    <a:pt x="873" y="2498"/>
                  </a:lnTo>
                  <a:lnTo>
                    <a:pt x="882" y="2498"/>
                  </a:lnTo>
                  <a:lnTo>
                    <a:pt x="882" y="2507"/>
                  </a:lnTo>
                  <a:lnTo>
                    <a:pt x="882" y="2515"/>
                  </a:lnTo>
                  <a:lnTo>
                    <a:pt x="879" y="2524"/>
                  </a:lnTo>
                  <a:lnTo>
                    <a:pt x="870" y="2527"/>
                  </a:lnTo>
                  <a:lnTo>
                    <a:pt x="864" y="2535"/>
                  </a:lnTo>
                  <a:lnTo>
                    <a:pt x="867" y="2544"/>
                  </a:lnTo>
                  <a:lnTo>
                    <a:pt x="870" y="2553"/>
                  </a:lnTo>
                  <a:lnTo>
                    <a:pt x="876" y="2561"/>
                  </a:lnTo>
                  <a:lnTo>
                    <a:pt x="882" y="2573"/>
                  </a:lnTo>
                  <a:lnTo>
                    <a:pt x="890" y="2584"/>
                  </a:lnTo>
                  <a:lnTo>
                    <a:pt x="893" y="2593"/>
                  </a:lnTo>
                  <a:lnTo>
                    <a:pt x="896" y="2602"/>
                  </a:lnTo>
                  <a:lnTo>
                    <a:pt x="899" y="2613"/>
                  </a:lnTo>
                  <a:lnTo>
                    <a:pt x="899" y="2622"/>
                  </a:lnTo>
                  <a:lnTo>
                    <a:pt x="902" y="2631"/>
                  </a:lnTo>
                  <a:lnTo>
                    <a:pt x="905" y="2639"/>
                  </a:lnTo>
                  <a:lnTo>
                    <a:pt x="911" y="2648"/>
                  </a:lnTo>
                  <a:lnTo>
                    <a:pt x="919" y="2657"/>
                  </a:lnTo>
                  <a:lnTo>
                    <a:pt x="928" y="2662"/>
                  </a:lnTo>
                  <a:lnTo>
                    <a:pt x="937" y="2671"/>
                  </a:lnTo>
                  <a:lnTo>
                    <a:pt x="943" y="2680"/>
                  </a:lnTo>
                  <a:lnTo>
                    <a:pt x="946" y="2688"/>
                  </a:lnTo>
                  <a:lnTo>
                    <a:pt x="949" y="2697"/>
                  </a:lnTo>
                  <a:lnTo>
                    <a:pt x="949" y="2705"/>
                  </a:lnTo>
                  <a:lnTo>
                    <a:pt x="949" y="2714"/>
                  </a:lnTo>
                  <a:lnTo>
                    <a:pt x="949" y="2723"/>
                  </a:lnTo>
                  <a:lnTo>
                    <a:pt x="943" y="2731"/>
                  </a:lnTo>
                  <a:lnTo>
                    <a:pt x="934" y="2734"/>
                  </a:lnTo>
                  <a:lnTo>
                    <a:pt x="928" y="2743"/>
                  </a:lnTo>
                  <a:lnTo>
                    <a:pt x="925" y="2752"/>
                  </a:lnTo>
                  <a:lnTo>
                    <a:pt x="925" y="2760"/>
                  </a:lnTo>
                  <a:lnTo>
                    <a:pt x="922" y="2769"/>
                  </a:lnTo>
                  <a:lnTo>
                    <a:pt x="922" y="2778"/>
                  </a:lnTo>
                  <a:lnTo>
                    <a:pt x="919" y="2786"/>
                  </a:lnTo>
                  <a:lnTo>
                    <a:pt x="911" y="2795"/>
                  </a:lnTo>
                  <a:lnTo>
                    <a:pt x="908" y="2803"/>
                  </a:lnTo>
                  <a:lnTo>
                    <a:pt x="908" y="2812"/>
                  </a:lnTo>
                  <a:lnTo>
                    <a:pt x="911" y="2821"/>
                  </a:lnTo>
                  <a:lnTo>
                    <a:pt x="922" y="2827"/>
                  </a:lnTo>
                  <a:lnTo>
                    <a:pt x="934" y="2832"/>
                  </a:lnTo>
                  <a:lnTo>
                    <a:pt x="940" y="2841"/>
                  </a:lnTo>
                  <a:lnTo>
                    <a:pt x="922" y="2832"/>
                  </a:lnTo>
                  <a:lnTo>
                    <a:pt x="946" y="2824"/>
                  </a:lnTo>
                  <a:lnTo>
                    <a:pt x="946" y="2832"/>
                  </a:lnTo>
                  <a:lnTo>
                    <a:pt x="946" y="2841"/>
                  </a:lnTo>
                  <a:lnTo>
                    <a:pt x="946" y="2850"/>
                  </a:lnTo>
                  <a:lnTo>
                    <a:pt x="940" y="2858"/>
                  </a:lnTo>
                  <a:lnTo>
                    <a:pt x="931" y="2861"/>
                  </a:lnTo>
                  <a:lnTo>
                    <a:pt x="922" y="2867"/>
                  </a:lnTo>
                  <a:lnTo>
                    <a:pt x="917" y="2876"/>
                  </a:lnTo>
                  <a:lnTo>
                    <a:pt x="919" y="2884"/>
                  </a:lnTo>
                  <a:lnTo>
                    <a:pt x="922" y="2893"/>
                  </a:lnTo>
                  <a:lnTo>
                    <a:pt x="917" y="2901"/>
                  </a:lnTo>
                  <a:lnTo>
                    <a:pt x="925" y="2904"/>
                  </a:lnTo>
                  <a:lnTo>
                    <a:pt x="934" y="2904"/>
                  </a:lnTo>
                  <a:lnTo>
                    <a:pt x="943" y="2904"/>
                  </a:lnTo>
                  <a:lnTo>
                    <a:pt x="951" y="2899"/>
                  </a:lnTo>
                  <a:lnTo>
                    <a:pt x="960" y="2893"/>
                  </a:lnTo>
                  <a:lnTo>
                    <a:pt x="969" y="2893"/>
                  </a:lnTo>
                  <a:lnTo>
                    <a:pt x="978" y="2899"/>
                  </a:lnTo>
                  <a:lnTo>
                    <a:pt x="983" y="2907"/>
                  </a:lnTo>
                  <a:lnTo>
                    <a:pt x="975" y="2904"/>
                  </a:lnTo>
                  <a:lnTo>
                    <a:pt x="966" y="2899"/>
                  </a:lnTo>
                  <a:lnTo>
                    <a:pt x="954" y="2896"/>
                  </a:lnTo>
                  <a:lnTo>
                    <a:pt x="940" y="2893"/>
                  </a:lnTo>
                  <a:lnTo>
                    <a:pt x="943" y="2910"/>
                  </a:lnTo>
                  <a:lnTo>
                    <a:pt x="951" y="2930"/>
                  </a:lnTo>
                  <a:lnTo>
                    <a:pt x="943" y="2933"/>
                  </a:lnTo>
                  <a:lnTo>
                    <a:pt x="940" y="2942"/>
                  </a:lnTo>
                  <a:lnTo>
                    <a:pt x="937" y="2950"/>
                  </a:lnTo>
                  <a:lnTo>
                    <a:pt x="946" y="2956"/>
                  </a:lnTo>
                  <a:lnTo>
                    <a:pt x="949" y="2965"/>
                  </a:lnTo>
                  <a:lnTo>
                    <a:pt x="951" y="2974"/>
                  </a:lnTo>
                  <a:lnTo>
                    <a:pt x="951" y="2982"/>
                  </a:lnTo>
                  <a:lnTo>
                    <a:pt x="951" y="2991"/>
                  </a:lnTo>
                  <a:lnTo>
                    <a:pt x="954" y="2999"/>
                  </a:lnTo>
                  <a:lnTo>
                    <a:pt x="957" y="3011"/>
                  </a:lnTo>
                  <a:lnTo>
                    <a:pt x="963" y="3002"/>
                  </a:lnTo>
                  <a:lnTo>
                    <a:pt x="963" y="2994"/>
                  </a:lnTo>
                  <a:lnTo>
                    <a:pt x="963" y="2985"/>
                  </a:lnTo>
                  <a:lnTo>
                    <a:pt x="963" y="2976"/>
                  </a:lnTo>
                  <a:lnTo>
                    <a:pt x="963" y="2968"/>
                  </a:lnTo>
                  <a:lnTo>
                    <a:pt x="969" y="2959"/>
                  </a:lnTo>
                  <a:lnTo>
                    <a:pt x="978" y="2953"/>
                  </a:lnTo>
                  <a:lnTo>
                    <a:pt x="983" y="2945"/>
                  </a:lnTo>
                  <a:lnTo>
                    <a:pt x="992" y="2942"/>
                  </a:lnTo>
                  <a:lnTo>
                    <a:pt x="1004" y="2945"/>
                  </a:lnTo>
                  <a:lnTo>
                    <a:pt x="1016" y="2945"/>
                  </a:lnTo>
                  <a:lnTo>
                    <a:pt x="1024" y="2945"/>
                  </a:lnTo>
                  <a:lnTo>
                    <a:pt x="1027" y="2936"/>
                  </a:lnTo>
                  <a:lnTo>
                    <a:pt x="1036" y="2945"/>
                  </a:lnTo>
                  <a:lnTo>
                    <a:pt x="1042" y="2953"/>
                  </a:lnTo>
                  <a:lnTo>
                    <a:pt x="1050" y="2962"/>
                  </a:lnTo>
                  <a:lnTo>
                    <a:pt x="1059" y="2971"/>
                  </a:lnTo>
                  <a:lnTo>
                    <a:pt x="1045" y="2959"/>
                  </a:lnTo>
                  <a:lnTo>
                    <a:pt x="1042" y="2950"/>
                  </a:lnTo>
                  <a:lnTo>
                    <a:pt x="1042" y="2942"/>
                  </a:lnTo>
                  <a:lnTo>
                    <a:pt x="1042" y="2933"/>
                  </a:lnTo>
                  <a:lnTo>
                    <a:pt x="1042" y="2925"/>
                  </a:lnTo>
                  <a:lnTo>
                    <a:pt x="1033" y="2916"/>
                  </a:lnTo>
                  <a:lnTo>
                    <a:pt x="1021" y="2907"/>
                  </a:lnTo>
                  <a:lnTo>
                    <a:pt x="1013" y="2899"/>
                  </a:lnTo>
                  <a:lnTo>
                    <a:pt x="1007" y="2890"/>
                  </a:lnTo>
                  <a:lnTo>
                    <a:pt x="1018" y="2893"/>
                  </a:lnTo>
                  <a:lnTo>
                    <a:pt x="1027" y="2896"/>
                  </a:lnTo>
                  <a:lnTo>
                    <a:pt x="1036" y="2901"/>
                  </a:lnTo>
                  <a:lnTo>
                    <a:pt x="1045" y="2907"/>
                  </a:lnTo>
                  <a:lnTo>
                    <a:pt x="1050" y="2916"/>
                  </a:lnTo>
                  <a:lnTo>
                    <a:pt x="1042" y="2913"/>
                  </a:lnTo>
                  <a:lnTo>
                    <a:pt x="1033" y="2907"/>
                  </a:lnTo>
                  <a:lnTo>
                    <a:pt x="1021" y="2899"/>
                  </a:lnTo>
                  <a:lnTo>
                    <a:pt x="1010" y="2896"/>
                  </a:lnTo>
                  <a:lnTo>
                    <a:pt x="1004" y="2887"/>
                  </a:lnTo>
                  <a:lnTo>
                    <a:pt x="1013" y="2881"/>
                  </a:lnTo>
                  <a:lnTo>
                    <a:pt x="1018" y="2873"/>
                  </a:lnTo>
                  <a:lnTo>
                    <a:pt x="1018" y="2864"/>
                  </a:lnTo>
                  <a:lnTo>
                    <a:pt x="1021" y="2855"/>
                  </a:lnTo>
                  <a:lnTo>
                    <a:pt x="1021" y="2847"/>
                  </a:lnTo>
                  <a:lnTo>
                    <a:pt x="1021" y="2838"/>
                  </a:lnTo>
                  <a:lnTo>
                    <a:pt x="1021" y="2829"/>
                  </a:lnTo>
                  <a:lnTo>
                    <a:pt x="1021" y="2821"/>
                  </a:lnTo>
                  <a:lnTo>
                    <a:pt x="1024" y="2812"/>
                  </a:lnTo>
                  <a:lnTo>
                    <a:pt x="1033" y="2812"/>
                  </a:lnTo>
                  <a:lnTo>
                    <a:pt x="1042" y="2809"/>
                  </a:lnTo>
                  <a:lnTo>
                    <a:pt x="1042" y="2818"/>
                  </a:lnTo>
                  <a:lnTo>
                    <a:pt x="1042" y="2827"/>
                  </a:lnTo>
                  <a:lnTo>
                    <a:pt x="1042" y="2835"/>
                  </a:lnTo>
                  <a:lnTo>
                    <a:pt x="1042" y="2844"/>
                  </a:lnTo>
                  <a:lnTo>
                    <a:pt x="1050" y="2850"/>
                  </a:lnTo>
                  <a:lnTo>
                    <a:pt x="1056" y="2841"/>
                  </a:lnTo>
                  <a:lnTo>
                    <a:pt x="1065" y="2841"/>
                  </a:lnTo>
                  <a:lnTo>
                    <a:pt x="1068" y="2850"/>
                  </a:lnTo>
                  <a:lnTo>
                    <a:pt x="1071" y="2841"/>
                  </a:lnTo>
                  <a:lnTo>
                    <a:pt x="1071" y="2832"/>
                  </a:lnTo>
                  <a:lnTo>
                    <a:pt x="1080" y="2827"/>
                  </a:lnTo>
                  <a:lnTo>
                    <a:pt x="1088" y="2827"/>
                  </a:lnTo>
                  <a:lnTo>
                    <a:pt x="1100" y="2835"/>
                  </a:lnTo>
                  <a:lnTo>
                    <a:pt x="1109" y="2835"/>
                  </a:lnTo>
                  <a:lnTo>
                    <a:pt x="1120" y="2835"/>
                  </a:lnTo>
                  <a:lnTo>
                    <a:pt x="1129" y="2835"/>
                  </a:lnTo>
                  <a:lnTo>
                    <a:pt x="1138" y="2838"/>
                  </a:lnTo>
                  <a:lnTo>
                    <a:pt x="1147" y="2841"/>
                  </a:lnTo>
                  <a:lnTo>
                    <a:pt x="1155" y="2844"/>
                  </a:lnTo>
                  <a:lnTo>
                    <a:pt x="1149" y="2852"/>
                  </a:lnTo>
                  <a:lnTo>
                    <a:pt x="1149" y="2861"/>
                  </a:lnTo>
                  <a:lnTo>
                    <a:pt x="1149" y="2870"/>
                  </a:lnTo>
                  <a:lnTo>
                    <a:pt x="1158" y="2878"/>
                  </a:lnTo>
                  <a:lnTo>
                    <a:pt x="1170" y="2878"/>
                  </a:lnTo>
                  <a:lnTo>
                    <a:pt x="1179" y="2878"/>
                  </a:lnTo>
                  <a:lnTo>
                    <a:pt x="1187" y="2878"/>
                  </a:lnTo>
                  <a:lnTo>
                    <a:pt x="1196" y="2878"/>
                  </a:lnTo>
                  <a:lnTo>
                    <a:pt x="1205" y="2876"/>
                  </a:lnTo>
                  <a:lnTo>
                    <a:pt x="1216" y="2873"/>
                  </a:lnTo>
                  <a:lnTo>
                    <a:pt x="1225" y="2873"/>
                  </a:lnTo>
                  <a:lnTo>
                    <a:pt x="1234" y="2873"/>
                  </a:lnTo>
                  <a:lnTo>
                    <a:pt x="1243" y="2873"/>
                  </a:lnTo>
                  <a:lnTo>
                    <a:pt x="1251" y="2873"/>
                  </a:lnTo>
                  <a:lnTo>
                    <a:pt x="1254" y="2884"/>
                  </a:lnTo>
                  <a:lnTo>
                    <a:pt x="1257" y="2893"/>
                  </a:lnTo>
                  <a:lnTo>
                    <a:pt x="1257" y="2901"/>
                  </a:lnTo>
                  <a:lnTo>
                    <a:pt x="1272" y="2907"/>
                  </a:lnTo>
                  <a:lnTo>
                    <a:pt x="1263" y="2913"/>
                  </a:lnTo>
                  <a:lnTo>
                    <a:pt x="1254" y="2913"/>
                  </a:lnTo>
                  <a:lnTo>
                    <a:pt x="1245" y="2913"/>
                  </a:lnTo>
                  <a:lnTo>
                    <a:pt x="1248" y="2878"/>
                  </a:lnTo>
                  <a:lnTo>
                    <a:pt x="1245" y="2896"/>
                  </a:lnTo>
                  <a:lnTo>
                    <a:pt x="1237" y="2896"/>
                  </a:lnTo>
                  <a:lnTo>
                    <a:pt x="1228" y="2893"/>
                  </a:lnTo>
                  <a:lnTo>
                    <a:pt x="1219" y="2896"/>
                  </a:lnTo>
                  <a:lnTo>
                    <a:pt x="1211" y="2896"/>
                  </a:lnTo>
                  <a:lnTo>
                    <a:pt x="1202" y="2896"/>
                  </a:lnTo>
                  <a:lnTo>
                    <a:pt x="1193" y="2893"/>
                  </a:lnTo>
                  <a:lnTo>
                    <a:pt x="1184" y="2890"/>
                  </a:lnTo>
                  <a:lnTo>
                    <a:pt x="1176" y="2890"/>
                  </a:lnTo>
                  <a:lnTo>
                    <a:pt x="1167" y="2887"/>
                  </a:lnTo>
                  <a:lnTo>
                    <a:pt x="1155" y="2887"/>
                  </a:lnTo>
                  <a:lnTo>
                    <a:pt x="1147" y="2887"/>
                  </a:lnTo>
                  <a:lnTo>
                    <a:pt x="1135" y="2887"/>
                  </a:lnTo>
                  <a:lnTo>
                    <a:pt x="1132" y="2896"/>
                  </a:lnTo>
                  <a:lnTo>
                    <a:pt x="1132" y="2904"/>
                  </a:lnTo>
                  <a:lnTo>
                    <a:pt x="1132" y="2913"/>
                  </a:lnTo>
                  <a:lnTo>
                    <a:pt x="1144" y="2916"/>
                  </a:lnTo>
                  <a:lnTo>
                    <a:pt x="1144" y="2925"/>
                  </a:lnTo>
                  <a:lnTo>
                    <a:pt x="1129" y="2927"/>
                  </a:lnTo>
                  <a:lnTo>
                    <a:pt x="1120" y="2927"/>
                  </a:lnTo>
                  <a:lnTo>
                    <a:pt x="1112" y="2927"/>
                  </a:lnTo>
                  <a:lnTo>
                    <a:pt x="1114" y="2936"/>
                  </a:lnTo>
                  <a:lnTo>
                    <a:pt x="1123" y="2936"/>
                  </a:lnTo>
                  <a:lnTo>
                    <a:pt x="1132" y="2942"/>
                  </a:lnTo>
                  <a:lnTo>
                    <a:pt x="1144" y="2948"/>
                  </a:lnTo>
                  <a:lnTo>
                    <a:pt x="1135" y="2953"/>
                  </a:lnTo>
                  <a:lnTo>
                    <a:pt x="1123" y="2953"/>
                  </a:lnTo>
                  <a:lnTo>
                    <a:pt x="1112" y="2953"/>
                  </a:lnTo>
                  <a:lnTo>
                    <a:pt x="1103" y="2953"/>
                  </a:lnTo>
                  <a:lnTo>
                    <a:pt x="1106" y="2962"/>
                  </a:lnTo>
                  <a:lnTo>
                    <a:pt x="1114" y="2965"/>
                  </a:lnTo>
                  <a:lnTo>
                    <a:pt x="1123" y="2974"/>
                  </a:lnTo>
                  <a:lnTo>
                    <a:pt x="1114" y="2982"/>
                  </a:lnTo>
                  <a:lnTo>
                    <a:pt x="1117" y="2991"/>
                  </a:lnTo>
                  <a:lnTo>
                    <a:pt x="1126" y="2994"/>
                  </a:lnTo>
                  <a:lnTo>
                    <a:pt x="1114" y="2999"/>
                  </a:lnTo>
                  <a:lnTo>
                    <a:pt x="1106" y="2999"/>
                  </a:lnTo>
                  <a:lnTo>
                    <a:pt x="1117" y="3005"/>
                  </a:lnTo>
                  <a:lnTo>
                    <a:pt x="1132" y="3008"/>
                  </a:lnTo>
                  <a:lnTo>
                    <a:pt x="1135" y="3017"/>
                  </a:lnTo>
                  <a:lnTo>
                    <a:pt x="1126" y="3022"/>
                  </a:lnTo>
                  <a:lnTo>
                    <a:pt x="1126" y="3034"/>
                  </a:lnTo>
                  <a:lnTo>
                    <a:pt x="1126" y="3046"/>
                  </a:lnTo>
                  <a:lnTo>
                    <a:pt x="1126" y="3054"/>
                  </a:lnTo>
                  <a:lnTo>
                    <a:pt x="1135" y="3054"/>
                  </a:lnTo>
                  <a:lnTo>
                    <a:pt x="1144" y="3054"/>
                  </a:lnTo>
                  <a:lnTo>
                    <a:pt x="1155" y="3054"/>
                  </a:lnTo>
                  <a:lnTo>
                    <a:pt x="1164" y="3054"/>
                  </a:lnTo>
                  <a:lnTo>
                    <a:pt x="1167" y="3063"/>
                  </a:lnTo>
                  <a:lnTo>
                    <a:pt x="1179" y="3069"/>
                  </a:lnTo>
                  <a:lnTo>
                    <a:pt x="1187" y="3069"/>
                  </a:lnTo>
                  <a:lnTo>
                    <a:pt x="1190" y="3080"/>
                  </a:lnTo>
                  <a:lnTo>
                    <a:pt x="1193" y="3089"/>
                  </a:lnTo>
                  <a:lnTo>
                    <a:pt x="1199" y="3097"/>
                  </a:lnTo>
                  <a:lnTo>
                    <a:pt x="1211" y="3103"/>
                  </a:lnTo>
                  <a:lnTo>
                    <a:pt x="1219" y="3103"/>
                  </a:lnTo>
                  <a:lnTo>
                    <a:pt x="1231" y="3103"/>
                  </a:lnTo>
                  <a:lnTo>
                    <a:pt x="1240" y="3100"/>
                  </a:lnTo>
                  <a:lnTo>
                    <a:pt x="1243" y="3092"/>
                  </a:lnTo>
                  <a:lnTo>
                    <a:pt x="1248" y="3083"/>
                  </a:lnTo>
                  <a:lnTo>
                    <a:pt x="1257" y="3083"/>
                  </a:lnTo>
                  <a:lnTo>
                    <a:pt x="1278" y="3097"/>
                  </a:lnTo>
                  <a:lnTo>
                    <a:pt x="1286" y="3103"/>
                  </a:lnTo>
                  <a:lnTo>
                    <a:pt x="1289" y="3112"/>
                  </a:lnTo>
                  <a:lnTo>
                    <a:pt x="1295" y="3120"/>
                  </a:lnTo>
                  <a:lnTo>
                    <a:pt x="1301" y="3129"/>
                  </a:lnTo>
                  <a:lnTo>
                    <a:pt x="1312" y="3141"/>
                  </a:lnTo>
                  <a:lnTo>
                    <a:pt x="1324" y="3146"/>
                  </a:lnTo>
                  <a:lnTo>
                    <a:pt x="1336" y="3152"/>
                  </a:lnTo>
                  <a:lnTo>
                    <a:pt x="1347" y="3155"/>
                  </a:lnTo>
                  <a:lnTo>
                    <a:pt x="1356" y="3155"/>
                  </a:lnTo>
                  <a:lnTo>
                    <a:pt x="1365" y="3155"/>
                  </a:lnTo>
                  <a:lnTo>
                    <a:pt x="1374" y="3155"/>
                  </a:lnTo>
                  <a:lnTo>
                    <a:pt x="1376" y="3146"/>
                  </a:lnTo>
                  <a:lnTo>
                    <a:pt x="1385" y="3138"/>
                  </a:lnTo>
                  <a:lnTo>
                    <a:pt x="1391" y="3129"/>
                  </a:lnTo>
                  <a:lnTo>
                    <a:pt x="1400" y="3132"/>
                  </a:lnTo>
                  <a:lnTo>
                    <a:pt x="1409" y="3138"/>
                  </a:lnTo>
                  <a:lnTo>
                    <a:pt x="1417" y="3149"/>
                  </a:lnTo>
                  <a:lnTo>
                    <a:pt x="1429" y="3152"/>
                  </a:lnTo>
                  <a:lnTo>
                    <a:pt x="1435" y="3155"/>
                  </a:lnTo>
                  <a:lnTo>
                    <a:pt x="1438" y="3164"/>
                  </a:lnTo>
                  <a:lnTo>
                    <a:pt x="1441" y="3172"/>
                  </a:lnTo>
                  <a:lnTo>
                    <a:pt x="1449" y="3178"/>
                  </a:lnTo>
                  <a:lnTo>
                    <a:pt x="1458" y="3178"/>
                  </a:lnTo>
                  <a:lnTo>
                    <a:pt x="1464" y="3169"/>
                  </a:lnTo>
                  <a:lnTo>
                    <a:pt x="1464" y="3161"/>
                  </a:lnTo>
                  <a:lnTo>
                    <a:pt x="1470" y="3152"/>
                  </a:lnTo>
                  <a:lnTo>
                    <a:pt x="1478" y="3152"/>
                  </a:lnTo>
                  <a:lnTo>
                    <a:pt x="1487" y="3155"/>
                  </a:lnTo>
                  <a:lnTo>
                    <a:pt x="1499" y="3161"/>
                  </a:lnTo>
                  <a:lnTo>
                    <a:pt x="1510" y="3161"/>
                  </a:lnTo>
                  <a:lnTo>
                    <a:pt x="1519" y="3161"/>
                  </a:lnTo>
                  <a:lnTo>
                    <a:pt x="1528" y="3161"/>
                  </a:lnTo>
                  <a:lnTo>
                    <a:pt x="1537" y="3158"/>
                  </a:lnTo>
                  <a:lnTo>
                    <a:pt x="1545" y="3158"/>
                  </a:lnTo>
                  <a:lnTo>
                    <a:pt x="1554" y="3164"/>
                  </a:lnTo>
                  <a:lnTo>
                    <a:pt x="1569" y="3169"/>
                  </a:lnTo>
                  <a:lnTo>
                    <a:pt x="1580" y="3169"/>
                  </a:lnTo>
                  <a:lnTo>
                    <a:pt x="1592" y="3169"/>
                  </a:lnTo>
                  <a:lnTo>
                    <a:pt x="1601" y="3169"/>
                  </a:lnTo>
                  <a:lnTo>
                    <a:pt x="1609" y="3169"/>
                  </a:lnTo>
                  <a:lnTo>
                    <a:pt x="1618" y="3169"/>
                  </a:lnTo>
                  <a:lnTo>
                    <a:pt x="1627" y="3169"/>
                  </a:lnTo>
                  <a:lnTo>
                    <a:pt x="1636" y="3169"/>
                  </a:lnTo>
                  <a:lnTo>
                    <a:pt x="1644" y="3169"/>
                  </a:lnTo>
                  <a:lnTo>
                    <a:pt x="1653" y="3169"/>
                  </a:lnTo>
                  <a:lnTo>
                    <a:pt x="1662" y="3169"/>
                  </a:lnTo>
                  <a:lnTo>
                    <a:pt x="1671" y="3169"/>
                  </a:lnTo>
                  <a:lnTo>
                    <a:pt x="1679" y="3169"/>
                  </a:lnTo>
                  <a:lnTo>
                    <a:pt x="1688" y="3169"/>
                  </a:lnTo>
                  <a:lnTo>
                    <a:pt x="1703" y="3169"/>
                  </a:lnTo>
                  <a:lnTo>
                    <a:pt x="1714" y="3172"/>
                  </a:lnTo>
                  <a:lnTo>
                    <a:pt x="1726" y="3175"/>
                  </a:lnTo>
                  <a:lnTo>
                    <a:pt x="1735" y="3175"/>
                  </a:lnTo>
                  <a:lnTo>
                    <a:pt x="1743" y="3175"/>
                  </a:lnTo>
                  <a:lnTo>
                    <a:pt x="1758" y="3175"/>
                  </a:lnTo>
                  <a:lnTo>
                    <a:pt x="1767" y="3175"/>
                  </a:lnTo>
                  <a:lnTo>
                    <a:pt x="1772" y="3167"/>
                  </a:lnTo>
                  <a:lnTo>
                    <a:pt x="1772" y="3158"/>
                  </a:lnTo>
                  <a:lnTo>
                    <a:pt x="1772" y="3149"/>
                  </a:lnTo>
                  <a:lnTo>
                    <a:pt x="1772" y="3141"/>
                  </a:lnTo>
                  <a:lnTo>
                    <a:pt x="1772" y="3132"/>
                  </a:lnTo>
                  <a:lnTo>
                    <a:pt x="1772" y="3123"/>
                  </a:lnTo>
                  <a:lnTo>
                    <a:pt x="1772" y="3112"/>
                  </a:lnTo>
                  <a:lnTo>
                    <a:pt x="1770" y="3103"/>
                  </a:lnTo>
                  <a:lnTo>
                    <a:pt x="1770" y="3095"/>
                  </a:lnTo>
                  <a:lnTo>
                    <a:pt x="1770" y="3086"/>
                  </a:lnTo>
                  <a:lnTo>
                    <a:pt x="1778" y="3080"/>
                  </a:lnTo>
                  <a:lnTo>
                    <a:pt x="1787" y="3080"/>
                  </a:lnTo>
                  <a:lnTo>
                    <a:pt x="1796" y="3089"/>
                  </a:lnTo>
                  <a:lnTo>
                    <a:pt x="1802" y="3097"/>
                  </a:lnTo>
                  <a:lnTo>
                    <a:pt x="1813" y="3103"/>
                  </a:lnTo>
                  <a:lnTo>
                    <a:pt x="1825" y="3112"/>
                  </a:lnTo>
                  <a:lnTo>
                    <a:pt x="1854" y="3109"/>
                  </a:lnTo>
                  <a:lnTo>
                    <a:pt x="1836" y="3103"/>
                  </a:lnTo>
                  <a:lnTo>
                    <a:pt x="1854" y="3103"/>
                  </a:lnTo>
                  <a:lnTo>
                    <a:pt x="1863" y="3103"/>
                  </a:lnTo>
                  <a:lnTo>
                    <a:pt x="1871" y="3103"/>
                  </a:lnTo>
                  <a:lnTo>
                    <a:pt x="1880" y="3106"/>
                  </a:lnTo>
                  <a:lnTo>
                    <a:pt x="1889" y="3100"/>
                  </a:lnTo>
                  <a:lnTo>
                    <a:pt x="1898" y="3097"/>
                  </a:lnTo>
                  <a:lnTo>
                    <a:pt x="1906" y="3095"/>
                  </a:lnTo>
                  <a:lnTo>
                    <a:pt x="1918" y="3103"/>
                  </a:lnTo>
                  <a:lnTo>
                    <a:pt x="1924" y="3112"/>
                  </a:lnTo>
                  <a:lnTo>
                    <a:pt x="1924" y="3120"/>
                  </a:lnTo>
                  <a:lnTo>
                    <a:pt x="1921" y="3129"/>
                  </a:lnTo>
                  <a:lnTo>
                    <a:pt x="1924" y="3138"/>
                  </a:lnTo>
                  <a:lnTo>
                    <a:pt x="1933" y="3144"/>
                  </a:lnTo>
                  <a:lnTo>
                    <a:pt x="1944" y="3152"/>
                  </a:lnTo>
                  <a:lnTo>
                    <a:pt x="1947" y="3144"/>
                  </a:lnTo>
                  <a:lnTo>
                    <a:pt x="1947" y="3135"/>
                  </a:lnTo>
                  <a:lnTo>
                    <a:pt x="1947" y="3126"/>
                  </a:lnTo>
                  <a:lnTo>
                    <a:pt x="1947" y="3118"/>
                  </a:lnTo>
                  <a:lnTo>
                    <a:pt x="1956" y="3115"/>
                  </a:lnTo>
                  <a:lnTo>
                    <a:pt x="1962" y="3106"/>
                  </a:lnTo>
                  <a:lnTo>
                    <a:pt x="1962" y="3097"/>
                  </a:lnTo>
                  <a:lnTo>
                    <a:pt x="1962" y="3089"/>
                  </a:lnTo>
                  <a:lnTo>
                    <a:pt x="1962" y="3080"/>
                  </a:lnTo>
                  <a:lnTo>
                    <a:pt x="1962" y="3071"/>
                  </a:lnTo>
                  <a:lnTo>
                    <a:pt x="1967" y="3063"/>
                  </a:lnTo>
                  <a:lnTo>
                    <a:pt x="1976" y="3060"/>
                  </a:lnTo>
                  <a:lnTo>
                    <a:pt x="1988" y="3060"/>
                  </a:lnTo>
                  <a:lnTo>
                    <a:pt x="2002" y="3063"/>
                  </a:lnTo>
                  <a:lnTo>
                    <a:pt x="2011" y="3063"/>
                  </a:lnTo>
                  <a:lnTo>
                    <a:pt x="2002" y="3054"/>
                  </a:lnTo>
                  <a:lnTo>
                    <a:pt x="1994" y="3048"/>
                  </a:lnTo>
                  <a:lnTo>
                    <a:pt x="1979" y="3043"/>
                  </a:lnTo>
                  <a:lnTo>
                    <a:pt x="1967" y="3034"/>
                  </a:lnTo>
                  <a:lnTo>
                    <a:pt x="1962" y="3025"/>
                  </a:lnTo>
                  <a:lnTo>
                    <a:pt x="1959" y="3017"/>
                  </a:lnTo>
                  <a:lnTo>
                    <a:pt x="1956" y="3008"/>
                  </a:lnTo>
                  <a:lnTo>
                    <a:pt x="1950" y="2999"/>
                  </a:lnTo>
                  <a:lnTo>
                    <a:pt x="1944" y="2991"/>
                  </a:lnTo>
                  <a:lnTo>
                    <a:pt x="1938" y="2982"/>
                  </a:lnTo>
                  <a:lnTo>
                    <a:pt x="1933" y="2974"/>
                  </a:lnTo>
                  <a:lnTo>
                    <a:pt x="1927" y="2965"/>
                  </a:lnTo>
                  <a:lnTo>
                    <a:pt x="1924" y="2956"/>
                  </a:lnTo>
                  <a:lnTo>
                    <a:pt x="1921" y="2948"/>
                  </a:lnTo>
                  <a:lnTo>
                    <a:pt x="1918" y="2939"/>
                  </a:lnTo>
                  <a:lnTo>
                    <a:pt x="1915" y="2930"/>
                  </a:lnTo>
                  <a:lnTo>
                    <a:pt x="1912" y="2922"/>
                  </a:lnTo>
                  <a:lnTo>
                    <a:pt x="1915" y="2913"/>
                  </a:lnTo>
                  <a:lnTo>
                    <a:pt x="1915" y="2904"/>
                  </a:lnTo>
                  <a:lnTo>
                    <a:pt x="1915" y="2896"/>
                  </a:lnTo>
                  <a:lnTo>
                    <a:pt x="1915" y="2887"/>
                  </a:lnTo>
                  <a:lnTo>
                    <a:pt x="1912" y="2878"/>
                  </a:lnTo>
                  <a:lnTo>
                    <a:pt x="1909" y="2870"/>
                  </a:lnTo>
                  <a:lnTo>
                    <a:pt x="1903" y="2861"/>
                  </a:lnTo>
                  <a:lnTo>
                    <a:pt x="1895" y="2852"/>
                  </a:lnTo>
                  <a:lnTo>
                    <a:pt x="1892" y="2844"/>
                  </a:lnTo>
                  <a:lnTo>
                    <a:pt x="1892" y="2835"/>
                  </a:lnTo>
                  <a:lnTo>
                    <a:pt x="1898" y="2827"/>
                  </a:lnTo>
                  <a:lnTo>
                    <a:pt x="1906" y="2824"/>
                  </a:lnTo>
                  <a:lnTo>
                    <a:pt x="1918" y="2821"/>
                  </a:lnTo>
                  <a:lnTo>
                    <a:pt x="1930" y="2818"/>
                  </a:lnTo>
                  <a:lnTo>
                    <a:pt x="1938" y="2812"/>
                  </a:lnTo>
                  <a:lnTo>
                    <a:pt x="1944" y="2803"/>
                  </a:lnTo>
                  <a:lnTo>
                    <a:pt x="1953" y="2798"/>
                  </a:lnTo>
                  <a:lnTo>
                    <a:pt x="1962" y="2798"/>
                  </a:lnTo>
                  <a:lnTo>
                    <a:pt x="1970" y="2798"/>
                  </a:lnTo>
                  <a:lnTo>
                    <a:pt x="1976" y="2789"/>
                  </a:lnTo>
                  <a:lnTo>
                    <a:pt x="1982" y="2780"/>
                  </a:lnTo>
                  <a:lnTo>
                    <a:pt x="1991" y="2775"/>
                  </a:lnTo>
                  <a:lnTo>
                    <a:pt x="1999" y="2775"/>
                  </a:lnTo>
                  <a:lnTo>
                    <a:pt x="2008" y="2769"/>
                  </a:lnTo>
                  <a:lnTo>
                    <a:pt x="2017" y="2763"/>
                  </a:lnTo>
                  <a:lnTo>
                    <a:pt x="2026" y="2760"/>
                  </a:lnTo>
                  <a:lnTo>
                    <a:pt x="2034" y="2760"/>
                  </a:lnTo>
                  <a:lnTo>
                    <a:pt x="2043" y="2760"/>
                  </a:lnTo>
                  <a:lnTo>
                    <a:pt x="2052" y="2754"/>
                  </a:lnTo>
                  <a:lnTo>
                    <a:pt x="2061" y="2754"/>
                  </a:lnTo>
                  <a:lnTo>
                    <a:pt x="2069" y="2757"/>
                  </a:lnTo>
                  <a:lnTo>
                    <a:pt x="2078" y="2757"/>
                  </a:lnTo>
                  <a:lnTo>
                    <a:pt x="2093" y="2760"/>
                  </a:lnTo>
                  <a:lnTo>
                    <a:pt x="2101" y="2760"/>
                  </a:lnTo>
                  <a:lnTo>
                    <a:pt x="2101" y="2769"/>
                  </a:lnTo>
                  <a:lnTo>
                    <a:pt x="2101" y="2778"/>
                  </a:lnTo>
                  <a:lnTo>
                    <a:pt x="2101" y="2786"/>
                  </a:lnTo>
                  <a:lnTo>
                    <a:pt x="2104" y="2795"/>
                  </a:lnTo>
                  <a:lnTo>
                    <a:pt x="2104" y="2803"/>
                  </a:lnTo>
                  <a:lnTo>
                    <a:pt x="2104" y="2812"/>
                  </a:lnTo>
                  <a:lnTo>
                    <a:pt x="2104" y="2821"/>
                  </a:lnTo>
                  <a:lnTo>
                    <a:pt x="2104" y="2829"/>
                  </a:lnTo>
                  <a:lnTo>
                    <a:pt x="2104" y="2838"/>
                  </a:lnTo>
                  <a:lnTo>
                    <a:pt x="2096" y="2841"/>
                  </a:lnTo>
                  <a:lnTo>
                    <a:pt x="2087" y="2841"/>
                  </a:lnTo>
                  <a:lnTo>
                    <a:pt x="2078" y="2841"/>
                  </a:lnTo>
                  <a:lnTo>
                    <a:pt x="2069" y="2841"/>
                  </a:lnTo>
                  <a:lnTo>
                    <a:pt x="2061" y="2841"/>
                  </a:lnTo>
                  <a:lnTo>
                    <a:pt x="2069" y="2841"/>
                  </a:lnTo>
                  <a:lnTo>
                    <a:pt x="2078" y="2835"/>
                  </a:lnTo>
                  <a:lnTo>
                    <a:pt x="2090" y="2835"/>
                  </a:lnTo>
                  <a:lnTo>
                    <a:pt x="2081" y="2832"/>
                  </a:lnTo>
                  <a:lnTo>
                    <a:pt x="2072" y="2832"/>
                  </a:lnTo>
                  <a:lnTo>
                    <a:pt x="2064" y="2832"/>
                  </a:lnTo>
                  <a:lnTo>
                    <a:pt x="2058" y="2841"/>
                  </a:lnTo>
                  <a:lnTo>
                    <a:pt x="2049" y="2844"/>
                  </a:lnTo>
                  <a:lnTo>
                    <a:pt x="2040" y="2847"/>
                  </a:lnTo>
                  <a:lnTo>
                    <a:pt x="2040" y="2855"/>
                  </a:lnTo>
                  <a:lnTo>
                    <a:pt x="2040" y="2864"/>
                  </a:lnTo>
                  <a:lnTo>
                    <a:pt x="2032" y="2870"/>
                  </a:lnTo>
                  <a:lnTo>
                    <a:pt x="2020" y="2870"/>
                  </a:lnTo>
                  <a:lnTo>
                    <a:pt x="2017" y="2861"/>
                  </a:lnTo>
                  <a:lnTo>
                    <a:pt x="2008" y="2858"/>
                  </a:lnTo>
                  <a:lnTo>
                    <a:pt x="2002" y="2867"/>
                  </a:lnTo>
                  <a:lnTo>
                    <a:pt x="2002" y="2876"/>
                  </a:lnTo>
                  <a:lnTo>
                    <a:pt x="2011" y="2878"/>
                  </a:lnTo>
                  <a:lnTo>
                    <a:pt x="2020" y="2884"/>
                  </a:lnTo>
                  <a:lnTo>
                    <a:pt x="2029" y="2896"/>
                  </a:lnTo>
                  <a:lnTo>
                    <a:pt x="2034" y="2907"/>
                  </a:lnTo>
                  <a:lnTo>
                    <a:pt x="2037" y="2916"/>
                  </a:lnTo>
                  <a:lnTo>
                    <a:pt x="2037" y="2925"/>
                  </a:lnTo>
                  <a:lnTo>
                    <a:pt x="2040" y="2933"/>
                  </a:lnTo>
                  <a:lnTo>
                    <a:pt x="2040" y="2942"/>
                  </a:lnTo>
                  <a:lnTo>
                    <a:pt x="2052" y="2945"/>
                  </a:lnTo>
                  <a:lnTo>
                    <a:pt x="2061" y="2953"/>
                  </a:lnTo>
                  <a:lnTo>
                    <a:pt x="2069" y="2959"/>
                  </a:lnTo>
                  <a:lnTo>
                    <a:pt x="2078" y="2965"/>
                  </a:lnTo>
                  <a:lnTo>
                    <a:pt x="2087" y="2965"/>
                  </a:lnTo>
                  <a:lnTo>
                    <a:pt x="2093" y="2976"/>
                  </a:lnTo>
                  <a:lnTo>
                    <a:pt x="2087" y="2985"/>
                  </a:lnTo>
                  <a:lnTo>
                    <a:pt x="2084" y="2994"/>
                  </a:lnTo>
                  <a:lnTo>
                    <a:pt x="2084" y="3005"/>
                  </a:lnTo>
                  <a:lnTo>
                    <a:pt x="2090" y="3017"/>
                  </a:lnTo>
                  <a:lnTo>
                    <a:pt x="2090" y="3025"/>
                  </a:lnTo>
                  <a:lnTo>
                    <a:pt x="2093" y="3017"/>
                  </a:lnTo>
                  <a:lnTo>
                    <a:pt x="2093" y="3008"/>
                  </a:lnTo>
                  <a:lnTo>
                    <a:pt x="2096" y="2999"/>
                  </a:lnTo>
                  <a:lnTo>
                    <a:pt x="2096" y="2991"/>
                  </a:lnTo>
                  <a:lnTo>
                    <a:pt x="2104" y="2988"/>
                  </a:lnTo>
                  <a:lnTo>
                    <a:pt x="2113" y="2988"/>
                  </a:lnTo>
                  <a:lnTo>
                    <a:pt x="2125" y="2988"/>
                  </a:lnTo>
                  <a:lnTo>
                    <a:pt x="2130" y="2999"/>
                  </a:lnTo>
                  <a:lnTo>
                    <a:pt x="2130" y="3008"/>
                  </a:lnTo>
                  <a:lnTo>
                    <a:pt x="2133" y="3017"/>
                  </a:lnTo>
                  <a:lnTo>
                    <a:pt x="2139" y="3028"/>
                  </a:lnTo>
                  <a:lnTo>
                    <a:pt x="2148" y="3034"/>
                  </a:lnTo>
                  <a:lnTo>
                    <a:pt x="2160" y="3040"/>
                  </a:lnTo>
                  <a:lnTo>
                    <a:pt x="2151" y="3043"/>
                  </a:lnTo>
                  <a:lnTo>
                    <a:pt x="2148" y="3051"/>
                  </a:lnTo>
                  <a:lnTo>
                    <a:pt x="2133" y="3054"/>
                  </a:lnTo>
                  <a:lnTo>
                    <a:pt x="2125" y="3051"/>
                  </a:lnTo>
                  <a:lnTo>
                    <a:pt x="2116" y="3051"/>
                  </a:lnTo>
                  <a:lnTo>
                    <a:pt x="2101" y="3046"/>
                  </a:lnTo>
                  <a:lnTo>
                    <a:pt x="2093" y="3037"/>
                  </a:lnTo>
                  <a:lnTo>
                    <a:pt x="2090" y="3046"/>
                  </a:lnTo>
                  <a:lnTo>
                    <a:pt x="2090" y="3054"/>
                  </a:lnTo>
                  <a:lnTo>
                    <a:pt x="2090" y="3063"/>
                  </a:lnTo>
                  <a:lnTo>
                    <a:pt x="2090" y="3071"/>
                  </a:lnTo>
                  <a:lnTo>
                    <a:pt x="2087" y="3080"/>
                  </a:lnTo>
                  <a:lnTo>
                    <a:pt x="2084" y="3089"/>
                  </a:lnTo>
                  <a:lnTo>
                    <a:pt x="2084" y="3097"/>
                  </a:lnTo>
                  <a:lnTo>
                    <a:pt x="2096" y="3097"/>
                  </a:lnTo>
                  <a:lnTo>
                    <a:pt x="2104" y="3092"/>
                  </a:lnTo>
                  <a:lnTo>
                    <a:pt x="2110" y="3100"/>
                  </a:lnTo>
                  <a:lnTo>
                    <a:pt x="2107" y="3109"/>
                  </a:lnTo>
                  <a:lnTo>
                    <a:pt x="2098" y="3118"/>
                  </a:lnTo>
                  <a:lnTo>
                    <a:pt x="2090" y="3123"/>
                  </a:lnTo>
                  <a:lnTo>
                    <a:pt x="2087" y="3109"/>
                  </a:lnTo>
                  <a:lnTo>
                    <a:pt x="2087" y="3132"/>
                  </a:lnTo>
                  <a:lnTo>
                    <a:pt x="2096" y="3126"/>
                  </a:lnTo>
                  <a:lnTo>
                    <a:pt x="2087" y="3109"/>
                  </a:lnTo>
                  <a:lnTo>
                    <a:pt x="2104" y="3112"/>
                  </a:lnTo>
                  <a:lnTo>
                    <a:pt x="2110" y="3103"/>
                  </a:lnTo>
                  <a:lnTo>
                    <a:pt x="2110" y="3112"/>
                  </a:lnTo>
                  <a:lnTo>
                    <a:pt x="2110" y="3120"/>
                  </a:lnTo>
                  <a:lnTo>
                    <a:pt x="2116" y="3129"/>
                  </a:lnTo>
                  <a:lnTo>
                    <a:pt x="2119" y="3138"/>
                  </a:lnTo>
                  <a:lnTo>
                    <a:pt x="2122" y="3149"/>
                  </a:lnTo>
                  <a:lnTo>
                    <a:pt x="2122" y="3158"/>
                  </a:lnTo>
                  <a:lnTo>
                    <a:pt x="2125" y="3167"/>
                  </a:lnTo>
                  <a:lnTo>
                    <a:pt x="2125" y="3175"/>
                  </a:lnTo>
                  <a:lnTo>
                    <a:pt x="2125" y="3184"/>
                  </a:lnTo>
                  <a:lnTo>
                    <a:pt x="2125" y="3193"/>
                  </a:lnTo>
                  <a:lnTo>
                    <a:pt x="2128" y="3201"/>
                  </a:lnTo>
                  <a:lnTo>
                    <a:pt x="2130" y="3210"/>
                  </a:lnTo>
                  <a:lnTo>
                    <a:pt x="2139" y="3210"/>
                  </a:lnTo>
                  <a:lnTo>
                    <a:pt x="2148" y="3210"/>
                  </a:lnTo>
                  <a:lnTo>
                    <a:pt x="2157" y="3207"/>
                  </a:lnTo>
                  <a:lnTo>
                    <a:pt x="2163" y="3198"/>
                  </a:lnTo>
                  <a:lnTo>
                    <a:pt x="2171" y="3195"/>
                  </a:lnTo>
                  <a:lnTo>
                    <a:pt x="2183" y="3193"/>
                  </a:lnTo>
                  <a:lnTo>
                    <a:pt x="2192" y="3190"/>
                  </a:lnTo>
                  <a:lnTo>
                    <a:pt x="2200" y="3184"/>
                  </a:lnTo>
                  <a:lnTo>
                    <a:pt x="2209" y="3181"/>
                  </a:lnTo>
                  <a:lnTo>
                    <a:pt x="2218" y="3181"/>
                  </a:lnTo>
                  <a:lnTo>
                    <a:pt x="2224" y="3172"/>
                  </a:lnTo>
                  <a:lnTo>
                    <a:pt x="2232" y="3169"/>
                  </a:lnTo>
                  <a:lnTo>
                    <a:pt x="2241" y="3169"/>
                  </a:lnTo>
                  <a:lnTo>
                    <a:pt x="2256" y="3169"/>
                  </a:lnTo>
                  <a:lnTo>
                    <a:pt x="2264" y="3169"/>
                  </a:lnTo>
                  <a:lnTo>
                    <a:pt x="2276" y="3178"/>
                  </a:lnTo>
                  <a:lnTo>
                    <a:pt x="2288" y="3184"/>
                  </a:lnTo>
                  <a:lnTo>
                    <a:pt x="2296" y="3187"/>
                  </a:lnTo>
                  <a:lnTo>
                    <a:pt x="2308" y="3190"/>
                  </a:lnTo>
                  <a:lnTo>
                    <a:pt x="2317" y="3195"/>
                  </a:lnTo>
                  <a:lnTo>
                    <a:pt x="2328" y="3198"/>
                  </a:lnTo>
                  <a:lnTo>
                    <a:pt x="2340" y="3201"/>
                  </a:lnTo>
                  <a:lnTo>
                    <a:pt x="2349" y="3207"/>
                  </a:lnTo>
                  <a:lnTo>
                    <a:pt x="2358" y="3216"/>
                  </a:lnTo>
                  <a:lnTo>
                    <a:pt x="2366" y="3221"/>
                  </a:lnTo>
                  <a:lnTo>
                    <a:pt x="2375" y="3227"/>
                  </a:lnTo>
                  <a:lnTo>
                    <a:pt x="2387" y="3230"/>
                  </a:lnTo>
                  <a:lnTo>
                    <a:pt x="2395" y="3230"/>
                  </a:lnTo>
                  <a:lnTo>
                    <a:pt x="2404" y="3230"/>
                  </a:lnTo>
                  <a:lnTo>
                    <a:pt x="2407" y="3239"/>
                  </a:lnTo>
                  <a:lnTo>
                    <a:pt x="2407" y="3247"/>
                  </a:lnTo>
                  <a:lnTo>
                    <a:pt x="2413" y="3256"/>
                  </a:lnTo>
                  <a:lnTo>
                    <a:pt x="2422" y="3262"/>
                  </a:lnTo>
                  <a:lnTo>
                    <a:pt x="2436" y="3265"/>
                  </a:lnTo>
                  <a:lnTo>
                    <a:pt x="2451" y="3270"/>
                  </a:lnTo>
                  <a:lnTo>
                    <a:pt x="2457" y="3279"/>
                  </a:lnTo>
                  <a:lnTo>
                    <a:pt x="2457" y="3288"/>
                  </a:lnTo>
                  <a:lnTo>
                    <a:pt x="2468" y="3291"/>
                  </a:lnTo>
                  <a:lnTo>
                    <a:pt x="2483" y="3288"/>
                  </a:lnTo>
                  <a:lnTo>
                    <a:pt x="2491" y="3285"/>
                  </a:lnTo>
                  <a:lnTo>
                    <a:pt x="2500" y="3276"/>
                  </a:lnTo>
                  <a:lnTo>
                    <a:pt x="2509" y="3270"/>
                  </a:lnTo>
                  <a:lnTo>
                    <a:pt x="2515" y="3262"/>
                  </a:lnTo>
                  <a:lnTo>
                    <a:pt x="2521" y="3253"/>
                  </a:lnTo>
                  <a:lnTo>
                    <a:pt x="2526" y="3244"/>
                  </a:lnTo>
                  <a:lnTo>
                    <a:pt x="2532" y="3236"/>
                  </a:lnTo>
                  <a:lnTo>
                    <a:pt x="2535" y="3227"/>
                  </a:lnTo>
                  <a:lnTo>
                    <a:pt x="2541" y="3218"/>
                  </a:lnTo>
                  <a:lnTo>
                    <a:pt x="2544" y="3210"/>
                  </a:lnTo>
                  <a:lnTo>
                    <a:pt x="2544" y="3198"/>
                  </a:lnTo>
                  <a:lnTo>
                    <a:pt x="2544" y="3190"/>
                  </a:lnTo>
                  <a:lnTo>
                    <a:pt x="2553" y="3181"/>
                  </a:lnTo>
                  <a:lnTo>
                    <a:pt x="2567" y="3181"/>
                  </a:lnTo>
                  <a:lnTo>
                    <a:pt x="2599" y="3155"/>
                  </a:lnTo>
                  <a:lnTo>
                    <a:pt x="2599" y="3164"/>
                  </a:lnTo>
                  <a:lnTo>
                    <a:pt x="2608" y="3169"/>
                  </a:lnTo>
                  <a:lnTo>
                    <a:pt x="2617" y="3178"/>
                  </a:lnTo>
                  <a:lnTo>
                    <a:pt x="2625" y="3181"/>
                  </a:lnTo>
                  <a:lnTo>
                    <a:pt x="2634" y="3178"/>
                  </a:lnTo>
                  <a:lnTo>
                    <a:pt x="2643" y="3172"/>
                  </a:lnTo>
                  <a:lnTo>
                    <a:pt x="2657" y="3169"/>
                  </a:lnTo>
                  <a:lnTo>
                    <a:pt x="2666" y="3169"/>
                  </a:lnTo>
                  <a:lnTo>
                    <a:pt x="2675" y="3169"/>
                  </a:lnTo>
                  <a:lnTo>
                    <a:pt x="2684" y="3164"/>
                  </a:lnTo>
                  <a:lnTo>
                    <a:pt x="2692" y="3155"/>
                  </a:lnTo>
                  <a:lnTo>
                    <a:pt x="2739" y="3155"/>
                  </a:lnTo>
                  <a:lnTo>
                    <a:pt x="2733" y="3138"/>
                  </a:lnTo>
                  <a:lnTo>
                    <a:pt x="2733" y="3126"/>
                  </a:lnTo>
                  <a:lnTo>
                    <a:pt x="2730" y="3118"/>
                  </a:lnTo>
                  <a:lnTo>
                    <a:pt x="2739" y="3112"/>
                  </a:lnTo>
                  <a:lnTo>
                    <a:pt x="2748" y="3106"/>
                  </a:lnTo>
                  <a:lnTo>
                    <a:pt x="2753" y="3097"/>
                  </a:lnTo>
                  <a:lnTo>
                    <a:pt x="2762" y="3092"/>
                  </a:lnTo>
                  <a:lnTo>
                    <a:pt x="2771" y="3092"/>
                  </a:lnTo>
                  <a:lnTo>
                    <a:pt x="2780" y="3095"/>
                  </a:lnTo>
                  <a:lnTo>
                    <a:pt x="2783" y="3103"/>
                  </a:lnTo>
                  <a:lnTo>
                    <a:pt x="2786" y="3112"/>
                  </a:lnTo>
                  <a:lnTo>
                    <a:pt x="2786" y="3126"/>
                  </a:lnTo>
                  <a:lnTo>
                    <a:pt x="2788" y="3135"/>
                  </a:lnTo>
                  <a:lnTo>
                    <a:pt x="2791" y="3144"/>
                  </a:lnTo>
                  <a:lnTo>
                    <a:pt x="2794" y="3152"/>
                  </a:lnTo>
                  <a:lnTo>
                    <a:pt x="2800" y="3161"/>
                  </a:lnTo>
                  <a:lnTo>
                    <a:pt x="2809" y="3167"/>
                  </a:lnTo>
                  <a:lnTo>
                    <a:pt x="2818" y="3167"/>
                  </a:lnTo>
                  <a:lnTo>
                    <a:pt x="2826" y="3167"/>
                  </a:lnTo>
                  <a:lnTo>
                    <a:pt x="2832" y="3158"/>
                  </a:lnTo>
                  <a:lnTo>
                    <a:pt x="2841" y="3152"/>
                  </a:lnTo>
                  <a:lnTo>
                    <a:pt x="2844" y="3144"/>
                  </a:lnTo>
                  <a:lnTo>
                    <a:pt x="2847" y="3135"/>
                  </a:lnTo>
                  <a:lnTo>
                    <a:pt x="2850" y="3123"/>
                  </a:lnTo>
                  <a:lnTo>
                    <a:pt x="2858" y="3115"/>
                  </a:lnTo>
                  <a:lnTo>
                    <a:pt x="2870" y="3115"/>
                  </a:lnTo>
                  <a:lnTo>
                    <a:pt x="2879" y="3115"/>
                  </a:lnTo>
                  <a:lnTo>
                    <a:pt x="2887" y="3115"/>
                  </a:lnTo>
                  <a:lnTo>
                    <a:pt x="2896" y="3115"/>
                  </a:lnTo>
                  <a:lnTo>
                    <a:pt x="2902" y="3106"/>
                  </a:lnTo>
                  <a:lnTo>
                    <a:pt x="2914" y="3103"/>
                  </a:lnTo>
                  <a:lnTo>
                    <a:pt x="2922" y="3103"/>
                  </a:lnTo>
                  <a:lnTo>
                    <a:pt x="2925" y="3095"/>
                  </a:lnTo>
                  <a:lnTo>
                    <a:pt x="2925" y="3086"/>
                  </a:lnTo>
                  <a:lnTo>
                    <a:pt x="2922" y="3077"/>
                  </a:lnTo>
                  <a:lnTo>
                    <a:pt x="2917" y="3066"/>
                  </a:lnTo>
                  <a:lnTo>
                    <a:pt x="2911" y="3057"/>
                  </a:lnTo>
                  <a:lnTo>
                    <a:pt x="2905" y="3048"/>
                  </a:lnTo>
                  <a:lnTo>
                    <a:pt x="2896" y="3046"/>
                  </a:lnTo>
                  <a:lnTo>
                    <a:pt x="2887" y="3048"/>
                  </a:lnTo>
                  <a:lnTo>
                    <a:pt x="2879" y="3051"/>
                  </a:lnTo>
                  <a:lnTo>
                    <a:pt x="2876" y="3060"/>
                  </a:lnTo>
                  <a:lnTo>
                    <a:pt x="2873" y="3069"/>
                  </a:lnTo>
                  <a:lnTo>
                    <a:pt x="2864" y="3066"/>
                  </a:lnTo>
                  <a:lnTo>
                    <a:pt x="2861" y="3054"/>
                  </a:lnTo>
                  <a:lnTo>
                    <a:pt x="2858" y="3043"/>
                  </a:lnTo>
                  <a:lnTo>
                    <a:pt x="2858" y="3034"/>
                  </a:lnTo>
                  <a:lnTo>
                    <a:pt x="2855" y="3025"/>
                  </a:lnTo>
                  <a:lnTo>
                    <a:pt x="2850" y="3017"/>
                  </a:lnTo>
                  <a:lnTo>
                    <a:pt x="2850" y="3008"/>
                  </a:lnTo>
                  <a:lnTo>
                    <a:pt x="2850" y="2997"/>
                  </a:lnTo>
                  <a:lnTo>
                    <a:pt x="2850" y="2988"/>
                  </a:lnTo>
                  <a:lnTo>
                    <a:pt x="2858" y="2982"/>
                  </a:lnTo>
                  <a:lnTo>
                    <a:pt x="2867" y="2982"/>
                  </a:lnTo>
                  <a:lnTo>
                    <a:pt x="2876" y="2979"/>
                  </a:lnTo>
                  <a:lnTo>
                    <a:pt x="2884" y="2974"/>
                  </a:lnTo>
                  <a:lnTo>
                    <a:pt x="2887" y="2962"/>
                  </a:lnTo>
                  <a:lnTo>
                    <a:pt x="2896" y="2962"/>
                  </a:lnTo>
                  <a:lnTo>
                    <a:pt x="2905" y="2962"/>
                  </a:lnTo>
                  <a:lnTo>
                    <a:pt x="2914" y="2962"/>
                  </a:lnTo>
                  <a:lnTo>
                    <a:pt x="2922" y="2959"/>
                  </a:lnTo>
                  <a:lnTo>
                    <a:pt x="2931" y="2956"/>
                  </a:lnTo>
                  <a:lnTo>
                    <a:pt x="2937" y="2948"/>
                  </a:lnTo>
                  <a:lnTo>
                    <a:pt x="2943" y="2939"/>
                  </a:lnTo>
                  <a:lnTo>
                    <a:pt x="2946" y="2930"/>
                  </a:lnTo>
                  <a:lnTo>
                    <a:pt x="2954" y="2925"/>
                  </a:lnTo>
                  <a:lnTo>
                    <a:pt x="2963" y="2919"/>
                  </a:lnTo>
                  <a:lnTo>
                    <a:pt x="2972" y="2916"/>
                  </a:lnTo>
                  <a:lnTo>
                    <a:pt x="2981" y="2913"/>
                  </a:lnTo>
                  <a:lnTo>
                    <a:pt x="2983" y="2904"/>
                  </a:lnTo>
                  <a:lnTo>
                    <a:pt x="2989" y="2893"/>
                  </a:lnTo>
                  <a:lnTo>
                    <a:pt x="2998" y="2881"/>
                  </a:lnTo>
                  <a:lnTo>
                    <a:pt x="3004" y="2873"/>
                  </a:lnTo>
                  <a:lnTo>
                    <a:pt x="3010" y="2864"/>
                  </a:lnTo>
                  <a:lnTo>
                    <a:pt x="3018" y="2858"/>
                  </a:lnTo>
                  <a:lnTo>
                    <a:pt x="3027" y="2852"/>
                  </a:lnTo>
                  <a:lnTo>
                    <a:pt x="3036" y="2847"/>
                  </a:lnTo>
                  <a:lnTo>
                    <a:pt x="3045" y="2847"/>
                  </a:lnTo>
                  <a:lnTo>
                    <a:pt x="3053" y="2844"/>
                  </a:lnTo>
                  <a:lnTo>
                    <a:pt x="3053" y="2835"/>
                  </a:lnTo>
                  <a:lnTo>
                    <a:pt x="3053" y="2827"/>
                  </a:lnTo>
                  <a:lnTo>
                    <a:pt x="3053" y="2818"/>
                  </a:lnTo>
                  <a:lnTo>
                    <a:pt x="3053" y="2809"/>
                  </a:lnTo>
                  <a:lnTo>
                    <a:pt x="3050" y="2801"/>
                  </a:lnTo>
                  <a:lnTo>
                    <a:pt x="3045" y="2789"/>
                  </a:lnTo>
                  <a:lnTo>
                    <a:pt x="3045" y="2780"/>
                  </a:lnTo>
                  <a:lnTo>
                    <a:pt x="3045" y="2772"/>
                  </a:lnTo>
                  <a:lnTo>
                    <a:pt x="3045" y="2763"/>
                  </a:lnTo>
                  <a:lnTo>
                    <a:pt x="3036" y="2754"/>
                  </a:lnTo>
                  <a:lnTo>
                    <a:pt x="3027" y="2743"/>
                  </a:lnTo>
                  <a:lnTo>
                    <a:pt x="3024" y="2734"/>
                  </a:lnTo>
                  <a:lnTo>
                    <a:pt x="3021" y="2726"/>
                  </a:lnTo>
                  <a:lnTo>
                    <a:pt x="3018" y="2717"/>
                  </a:lnTo>
                  <a:lnTo>
                    <a:pt x="3010" y="2708"/>
                  </a:lnTo>
                  <a:lnTo>
                    <a:pt x="3001" y="2705"/>
                  </a:lnTo>
                  <a:lnTo>
                    <a:pt x="3001" y="2697"/>
                  </a:lnTo>
                  <a:lnTo>
                    <a:pt x="3010" y="2694"/>
                  </a:lnTo>
                  <a:lnTo>
                    <a:pt x="3018" y="2688"/>
                  </a:lnTo>
                  <a:lnTo>
                    <a:pt x="3027" y="2682"/>
                  </a:lnTo>
                  <a:lnTo>
                    <a:pt x="3030" y="2674"/>
                  </a:lnTo>
                  <a:lnTo>
                    <a:pt x="3039" y="2665"/>
                  </a:lnTo>
                  <a:lnTo>
                    <a:pt x="3045" y="2657"/>
                  </a:lnTo>
                  <a:lnTo>
                    <a:pt x="3056" y="2659"/>
                  </a:lnTo>
                  <a:lnTo>
                    <a:pt x="3065" y="2665"/>
                  </a:lnTo>
                  <a:lnTo>
                    <a:pt x="3074" y="2665"/>
                  </a:lnTo>
                  <a:lnTo>
                    <a:pt x="3077" y="2657"/>
                  </a:lnTo>
                  <a:lnTo>
                    <a:pt x="3077" y="2645"/>
                  </a:lnTo>
                  <a:lnTo>
                    <a:pt x="3077" y="2636"/>
                  </a:lnTo>
                  <a:lnTo>
                    <a:pt x="3077" y="2628"/>
                  </a:lnTo>
                  <a:lnTo>
                    <a:pt x="3071" y="2619"/>
                  </a:lnTo>
                  <a:lnTo>
                    <a:pt x="3062" y="2613"/>
                  </a:lnTo>
                  <a:lnTo>
                    <a:pt x="3056" y="2605"/>
                  </a:lnTo>
                  <a:lnTo>
                    <a:pt x="3056" y="2596"/>
                  </a:lnTo>
                  <a:lnTo>
                    <a:pt x="3053" y="2582"/>
                  </a:lnTo>
                  <a:lnTo>
                    <a:pt x="3053" y="2573"/>
                  </a:lnTo>
                  <a:lnTo>
                    <a:pt x="3062" y="2567"/>
                  </a:lnTo>
                  <a:lnTo>
                    <a:pt x="3071" y="2567"/>
                  </a:lnTo>
                  <a:lnTo>
                    <a:pt x="3080" y="2564"/>
                  </a:lnTo>
                  <a:lnTo>
                    <a:pt x="3088" y="2564"/>
                  </a:lnTo>
                  <a:lnTo>
                    <a:pt x="3097" y="2561"/>
                  </a:lnTo>
                  <a:lnTo>
                    <a:pt x="3109" y="2556"/>
                  </a:lnTo>
                  <a:lnTo>
                    <a:pt x="3117" y="2547"/>
                  </a:lnTo>
                  <a:lnTo>
                    <a:pt x="3120" y="2538"/>
                  </a:lnTo>
                  <a:lnTo>
                    <a:pt x="3120" y="2530"/>
                  </a:lnTo>
                  <a:lnTo>
                    <a:pt x="3120" y="2521"/>
                  </a:lnTo>
                  <a:lnTo>
                    <a:pt x="3120" y="2512"/>
                  </a:lnTo>
                  <a:lnTo>
                    <a:pt x="3114" y="2501"/>
                  </a:lnTo>
                  <a:lnTo>
                    <a:pt x="3112" y="2489"/>
                  </a:lnTo>
                  <a:lnTo>
                    <a:pt x="3112" y="2481"/>
                  </a:lnTo>
                  <a:lnTo>
                    <a:pt x="3112" y="2472"/>
                  </a:lnTo>
                  <a:lnTo>
                    <a:pt x="3120" y="2463"/>
                  </a:lnTo>
                  <a:lnTo>
                    <a:pt x="3129" y="2461"/>
                  </a:lnTo>
                  <a:lnTo>
                    <a:pt x="3135" y="2452"/>
                  </a:lnTo>
                  <a:lnTo>
                    <a:pt x="3135" y="2443"/>
                  </a:lnTo>
                  <a:lnTo>
                    <a:pt x="3135" y="2435"/>
                  </a:lnTo>
                  <a:lnTo>
                    <a:pt x="3144" y="2429"/>
                  </a:lnTo>
                  <a:lnTo>
                    <a:pt x="3152" y="2420"/>
                  </a:lnTo>
                  <a:lnTo>
                    <a:pt x="3155" y="2412"/>
                  </a:lnTo>
                  <a:lnTo>
                    <a:pt x="3158" y="2403"/>
                  </a:lnTo>
                  <a:lnTo>
                    <a:pt x="3167" y="2394"/>
                  </a:lnTo>
                  <a:lnTo>
                    <a:pt x="3176" y="2386"/>
                  </a:lnTo>
                  <a:lnTo>
                    <a:pt x="3184" y="2380"/>
                  </a:lnTo>
                  <a:lnTo>
                    <a:pt x="3184" y="2371"/>
                  </a:lnTo>
                  <a:lnTo>
                    <a:pt x="3187" y="2363"/>
                  </a:lnTo>
                  <a:lnTo>
                    <a:pt x="3193" y="2354"/>
                  </a:lnTo>
                  <a:lnTo>
                    <a:pt x="3202" y="2348"/>
                  </a:lnTo>
                  <a:lnTo>
                    <a:pt x="3208" y="2340"/>
                  </a:lnTo>
                  <a:lnTo>
                    <a:pt x="3213" y="2331"/>
                  </a:lnTo>
                  <a:lnTo>
                    <a:pt x="3216" y="2322"/>
                  </a:lnTo>
                  <a:lnTo>
                    <a:pt x="3219" y="2314"/>
                  </a:lnTo>
                  <a:lnTo>
                    <a:pt x="3222" y="2305"/>
                  </a:lnTo>
                  <a:lnTo>
                    <a:pt x="3228" y="2296"/>
                  </a:lnTo>
                  <a:lnTo>
                    <a:pt x="3237" y="2291"/>
                  </a:lnTo>
                  <a:lnTo>
                    <a:pt x="3245" y="2291"/>
                  </a:lnTo>
                  <a:lnTo>
                    <a:pt x="3254" y="2285"/>
                  </a:lnTo>
                  <a:lnTo>
                    <a:pt x="3263" y="2282"/>
                  </a:lnTo>
                  <a:lnTo>
                    <a:pt x="3272" y="2279"/>
                  </a:lnTo>
                  <a:lnTo>
                    <a:pt x="3280" y="2279"/>
                  </a:lnTo>
                  <a:lnTo>
                    <a:pt x="3289" y="2276"/>
                  </a:lnTo>
                  <a:lnTo>
                    <a:pt x="3298" y="2273"/>
                  </a:lnTo>
                  <a:lnTo>
                    <a:pt x="3307" y="2273"/>
                  </a:lnTo>
                  <a:lnTo>
                    <a:pt x="3318" y="2276"/>
                  </a:lnTo>
                  <a:lnTo>
                    <a:pt x="3327" y="2276"/>
                  </a:lnTo>
                  <a:lnTo>
                    <a:pt x="3336" y="2276"/>
                  </a:lnTo>
                  <a:lnTo>
                    <a:pt x="3344" y="2276"/>
                  </a:lnTo>
                  <a:lnTo>
                    <a:pt x="3344" y="2279"/>
                  </a:lnTo>
                  <a:lnTo>
                    <a:pt x="3356" y="2265"/>
                  </a:lnTo>
                  <a:lnTo>
                    <a:pt x="3365" y="2265"/>
                  </a:lnTo>
                  <a:lnTo>
                    <a:pt x="3374" y="2259"/>
                  </a:lnTo>
                  <a:lnTo>
                    <a:pt x="3382" y="2253"/>
                  </a:lnTo>
                  <a:lnTo>
                    <a:pt x="3385" y="2244"/>
                  </a:lnTo>
                  <a:lnTo>
                    <a:pt x="3391" y="2233"/>
                  </a:lnTo>
                  <a:lnTo>
                    <a:pt x="3400" y="2224"/>
                  </a:lnTo>
                  <a:lnTo>
                    <a:pt x="3397" y="2216"/>
                  </a:lnTo>
                  <a:lnTo>
                    <a:pt x="3391" y="2207"/>
                  </a:lnTo>
                  <a:lnTo>
                    <a:pt x="3382" y="2201"/>
                  </a:lnTo>
                  <a:lnTo>
                    <a:pt x="3376" y="2193"/>
                  </a:lnTo>
                  <a:lnTo>
                    <a:pt x="3368" y="2184"/>
                  </a:lnTo>
                  <a:lnTo>
                    <a:pt x="3362" y="2172"/>
                  </a:lnTo>
                  <a:lnTo>
                    <a:pt x="3356" y="2164"/>
                  </a:lnTo>
                  <a:lnTo>
                    <a:pt x="3356" y="2155"/>
                  </a:lnTo>
                  <a:lnTo>
                    <a:pt x="3356" y="2146"/>
                  </a:lnTo>
                  <a:lnTo>
                    <a:pt x="3368" y="2141"/>
                  </a:lnTo>
                  <a:lnTo>
                    <a:pt x="3376" y="2138"/>
                  </a:lnTo>
                  <a:lnTo>
                    <a:pt x="3385" y="2135"/>
                  </a:lnTo>
                  <a:lnTo>
                    <a:pt x="3394" y="2126"/>
                  </a:lnTo>
                  <a:lnTo>
                    <a:pt x="3400" y="2118"/>
                  </a:lnTo>
                  <a:lnTo>
                    <a:pt x="3406" y="2109"/>
                  </a:lnTo>
                  <a:lnTo>
                    <a:pt x="3414" y="2106"/>
                  </a:lnTo>
                  <a:lnTo>
                    <a:pt x="3426" y="2106"/>
                  </a:lnTo>
                  <a:lnTo>
                    <a:pt x="3435" y="2106"/>
                  </a:lnTo>
                  <a:lnTo>
                    <a:pt x="3443" y="2106"/>
                  </a:lnTo>
                  <a:lnTo>
                    <a:pt x="3452" y="2103"/>
                  </a:lnTo>
                  <a:lnTo>
                    <a:pt x="3461" y="2103"/>
                  </a:lnTo>
                  <a:lnTo>
                    <a:pt x="3470" y="2103"/>
                  </a:lnTo>
                  <a:lnTo>
                    <a:pt x="3478" y="2112"/>
                  </a:lnTo>
                  <a:lnTo>
                    <a:pt x="3484" y="2120"/>
                  </a:lnTo>
                  <a:lnTo>
                    <a:pt x="3493" y="2126"/>
                  </a:lnTo>
                  <a:lnTo>
                    <a:pt x="3502" y="2129"/>
                  </a:lnTo>
                  <a:lnTo>
                    <a:pt x="3510" y="2129"/>
                  </a:lnTo>
                  <a:lnTo>
                    <a:pt x="3519" y="2129"/>
                  </a:lnTo>
                  <a:lnTo>
                    <a:pt x="3528" y="2126"/>
                  </a:lnTo>
                  <a:lnTo>
                    <a:pt x="3537" y="2118"/>
                  </a:lnTo>
                  <a:lnTo>
                    <a:pt x="3542" y="2109"/>
                  </a:lnTo>
                  <a:lnTo>
                    <a:pt x="3548" y="2100"/>
                  </a:lnTo>
                  <a:lnTo>
                    <a:pt x="3551" y="2089"/>
                  </a:lnTo>
                  <a:lnTo>
                    <a:pt x="3554" y="2080"/>
                  </a:lnTo>
                  <a:lnTo>
                    <a:pt x="3563" y="2072"/>
                  </a:lnTo>
                  <a:lnTo>
                    <a:pt x="3572" y="2072"/>
                  </a:lnTo>
                  <a:lnTo>
                    <a:pt x="3583" y="2063"/>
                  </a:lnTo>
                  <a:lnTo>
                    <a:pt x="3589" y="2054"/>
                  </a:lnTo>
                  <a:lnTo>
                    <a:pt x="3595" y="2046"/>
                  </a:lnTo>
                  <a:lnTo>
                    <a:pt x="3604" y="2040"/>
                  </a:lnTo>
                  <a:lnTo>
                    <a:pt x="3612" y="2040"/>
                  </a:lnTo>
                  <a:lnTo>
                    <a:pt x="3621" y="2040"/>
                  </a:lnTo>
                  <a:lnTo>
                    <a:pt x="3630" y="2040"/>
                  </a:lnTo>
                  <a:lnTo>
                    <a:pt x="3638" y="2037"/>
                  </a:lnTo>
                  <a:lnTo>
                    <a:pt x="3647" y="2037"/>
                  </a:lnTo>
                  <a:lnTo>
                    <a:pt x="3656" y="2037"/>
                  </a:lnTo>
                  <a:lnTo>
                    <a:pt x="3665" y="2037"/>
                  </a:lnTo>
                  <a:lnTo>
                    <a:pt x="3673" y="2034"/>
                  </a:lnTo>
                  <a:lnTo>
                    <a:pt x="3682" y="2031"/>
                  </a:lnTo>
                  <a:lnTo>
                    <a:pt x="3691" y="2028"/>
                  </a:lnTo>
                  <a:lnTo>
                    <a:pt x="3700" y="2023"/>
                  </a:lnTo>
                  <a:lnTo>
                    <a:pt x="3705" y="2014"/>
                  </a:lnTo>
                  <a:lnTo>
                    <a:pt x="3714" y="2005"/>
                  </a:lnTo>
                  <a:lnTo>
                    <a:pt x="3723" y="1997"/>
                  </a:lnTo>
                  <a:lnTo>
                    <a:pt x="3726" y="1988"/>
                  </a:lnTo>
                  <a:lnTo>
                    <a:pt x="3735" y="1976"/>
                  </a:lnTo>
                  <a:lnTo>
                    <a:pt x="3740" y="1968"/>
                  </a:lnTo>
                  <a:lnTo>
                    <a:pt x="3746" y="1959"/>
                  </a:lnTo>
                  <a:lnTo>
                    <a:pt x="3749" y="1950"/>
                  </a:lnTo>
                  <a:lnTo>
                    <a:pt x="3755" y="1939"/>
                  </a:lnTo>
                  <a:lnTo>
                    <a:pt x="3761" y="1927"/>
                  </a:lnTo>
                  <a:lnTo>
                    <a:pt x="3767" y="1919"/>
                  </a:lnTo>
                  <a:lnTo>
                    <a:pt x="3767" y="1910"/>
                  </a:lnTo>
                  <a:lnTo>
                    <a:pt x="3758" y="1910"/>
                  </a:lnTo>
                  <a:lnTo>
                    <a:pt x="3758" y="1899"/>
                  </a:lnTo>
                  <a:lnTo>
                    <a:pt x="3758" y="1890"/>
                  </a:lnTo>
                  <a:lnTo>
                    <a:pt x="3767" y="1881"/>
                  </a:lnTo>
                  <a:lnTo>
                    <a:pt x="3775" y="1881"/>
                  </a:lnTo>
                  <a:lnTo>
                    <a:pt x="3781" y="1873"/>
                  </a:lnTo>
                  <a:lnTo>
                    <a:pt x="3784" y="1864"/>
                  </a:lnTo>
                  <a:lnTo>
                    <a:pt x="3787" y="1855"/>
                  </a:lnTo>
                  <a:lnTo>
                    <a:pt x="3796" y="1850"/>
                  </a:lnTo>
                  <a:lnTo>
                    <a:pt x="3804" y="1847"/>
                  </a:lnTo>
                  <a:lnTo>
                    <a:pt x="3813" y="1844"/>
                  </a:lnTo>
                  <a:lnTo>
                    <a:pt x="3822" y="1838"/>
                  </a:lnTo>
                  <a:lnTo>
                    <a:pt x="3831" y="1835"/>
                  </a:lnTo>
                  <a:lnTo>
                    <a:pt x="3839" y="1824"/>
                  </a:lnTo>
                  <a:lnTo>
                    <a:pt x="3845" y="1815"/>
                  </a:lnTo>
                  <a:lnTo>
                    <a:pt x="3851" y="1806"/>
                  </a:lnTo>
                  <a:lnTo>
                    <a:pt x="3857" y="1798"/>
                  </a:lnTo>
                  <a:lnTo>
                    <a:pt x="3860" y="1789"/>
                  </a:lnTo>
                  <a:lnTo>
                    <a:pt x="3863" y="1780"/>
                  </a:lnTo>
                  <a:lnTo>
                    <a:pt x="3857" y="1772"/>
                  </a:lnTo>
                  <a:lnTo>
                    <a:pt x="3851" y="1763"/>
                  </a:lnTo>
                  <a:lnTo>
                    <a:pt x="3842" y="1760"/>
                  </a:lnTo>
                  <a:lnTo>
                    <a:pt x="3834" y="1752"/>
                  </a:lnTo>
                  <a:lnTo>
                    <a:pt x="3831" y="1743"/>
                  </a:lnTo>
                  <a:lnTo>
                    <a:pt x="3828" y="1734"/>
                  </a:lnTo>
                  <a:lnTo>
                    <a:pt x="3825" y="1726"/>
                  </a:lnTo>
                  <a:lnTo>
                    <a:pt x="3822" y="1714"/>
                  </a:lnTo>
                  <a:lnTo>
                    <a:pt x="3819" y="1706"/>
                  </a:lnTo>
                  <a:lnTo>
                    <a:pt x="3816" y="1697"/>
                  </a:lnTo>
                  <a:lnTo>
                    <a:pt x="3813" y="1685"/>
                  </a:lnTo>
                  <a:lnTo>
                    <a:pt x="3810" y="1677"/>
                  </a:lnTo>
                  <a:lnTo>
                    <a:pt x="3807" y="1668"/>
                  </a:lnTo>
                  <a:lnTo>
                    <a:pt x="3804" y="1659"/>
                  </a:lnTo>
                  <a:lnTo>
                    <a:pt x="3796" y="1657"/>
                  </a:lnTo>
                  <a:lnTo>
                    <a:pt x="3787" y="1657"/>
                  </a:lnTo>
                  <a:lnTo>
                    <a:pt x="3775" y="1657"/>
                  </a:lnTo>
                  <a:lnTo>
                    <a:pt x="3767" y="1648"/>
                  </a:lnTo>
                  <a:lnTo>
                    <a:pt x="3767" y="1639"/>
                  </a:lnTo>
                  <a:lnTo>
                    <a:pt x="3767" y="1631"/>
                  </a:lnTo>
                  <a:lnTo>
                    <a:pt x="3767" y="1622"/>
                  </a:lnTo>
                  <a:lnTo>
                    <a:pt x="3767" y="1613"/>
                  </a:lnTo>
                  <a:lnTo>
                    <a:pt x="3770" y="1605"/>
                  </a:lnTo>
                  <a:lnTo>
                    <a:pt x="3770" y="1596"/>
                  </a:lnTo>
                  <a:lnTo>
                    <a:pt x="3772" y="1587"/>
                  </a:lnTo>
                  <a:lnTo>
                    <a:pt x="3810" y="1541"/>
                  </a:lnTo>
                  <a:lnTo>
                    <a:pt x="3793" y="1541"/>
                  </a:lnTo>
                  <a:lnTo>
                    <a:pt x="3799" y="1533"/>
                  </a:lnTo>
                  <a:lnTo>
                    <a:pt x="3807" y="1530"/>
                  </a:lnTo>
                  <a:lnTo>
                    <a:pt x="3816" y="1527"/>
                  </a:lnTo>
                  <a:lnTo>
                    <a:pt x="3828" y="1527"/>
                  </a:lnTo>
                  <a:lnTo>
                    <a:pt x="3839" y="1527"/>
                  </a:lnTo>
                  <a:lnTo>
                    <a:pt x="3851" y="1524"/>
                  </a:lnTo>
                  <a:lnTo>
                    <a:pt x="3863" y="1524"/>
                  </a:lnTo>
                  <a:lnTo>
                    <a:pt x="3874" y="1524"/>
                  </a:lnTo>
                  <a:lnTo>
                    <a:pt x="3883" y="1527"/>
                  </a:lnTo>
                  <a:lnTo>
                    <a:pt x="3892" y="1530"/>
                  </a:lnTo>
                  <a:lnTo>
                    <a:pt x="3901" y="1533"/>
                  </a:lnTo>
                  <a:lnTo>
                    <a:pt x="3909" y="1535"/>
                  </a:lnTo>
                  <a:lnTo>
                    <a:pt x="3918" y="1535"/>
                  </a:lnTo>
                  <a:lnTo>
                    <a:pt x="3930" y="1535"/>
                  </a:lnTo>
                  <a:lnTo>
                    <a:pt x="3941" y="1535"/>
                  </a:lnTo>
                  <a:lnTo>
                    <a:pt x="3950" y="1535"/>
                  </a:lnTo>
                  <a:lnTo>
                    <a:pt x="3959" y="1535"/>
                  </a:lnTo>
                  <a:lnTo>
                    <a:pt x="3970" y="1541"/>
                  </a:lnTo>
                  <a:lnTo>
                    <a:pt x="3979" y="1541"/>
                  </a:lnTo>
                  <a:lnTo>
                    <a:pt x="3985" y="1550"/>
                  </a:lnTo>
                  <a:lnTo>
                    <a:pt x="3997" y="1559"/>
                  </a:lnTo>
                  <a:lnTo>
                    <a:pt x="4005" y="1561"/>
                  </a:lnTo>
                  <a:lnTo>
                    <a:pt x="4017" y="1561"/>
                  </a:lnTo>
                  <a:lnTo>
                    <a:pt x="4026" y="1559"/>
                  </a:lnTo>
                  <a:lnTo>
                    <a:pt x="4029" y="1550"/>
                  </a:lnTo>
                  <a:lnTo>
                    <a:pt x="4037" y="1541"/>
                  </a:lnTo>
                  <a:lnTo>
                    <a:pt x="4040" y="1533"/>
                  </a:lnTo>
                  <a:lnTo>
                    <a:pt x="4043" y="1524"/>
                  </a:lnTo>
                  <a:lnTo>
                    <a:pt x="4055" y="1512"/>
                  </a:lnTo>
                  <a:lnTo>
                    <a:pt x="4066" y="1507"/>
                  </a:lnTo>
                  <a:lnTo>
                    <a:pt x="4075" y="1498"/>
                  </a:lnTo>
                  <a:lnTo>
                    <a:pt x="4084" y="1495"/>
                  </a:lnTo>
                  <a:lnTo>
                    <a:pt x="4093" y="1495"/>
                  </a:lnTo>
                  <a:lnTo>
                    <a:pt x="4101" y="1495"/>
                  </a:lnTo>
                  <a:lnTo>
                    <a:pt x="4110" y="1495"/>
                  </a:lnTo>
                  <a:lnTo>
                    <a:pt x="4119" y="1501"/>
                  </a:lnTo>
                  <a:lnTo>
                    <a:pt x="4130" y="1510"/>
                  </a:lnTo>
                  <a:lnTo>
                    <a:pt x="4139" y="1512"/>
                  </a:lnTo>
                  <a:lnTo>
                    <a:pt x="4148" y="1507"/>
                  </a:lnTo>
                  <a:lnTo>
                    <a:pt x="4154" y="1498"/>
                  </a:lnTo>
                  <a:lnTo>
                    <a:pt x="4157" y="1489"/>
                  </a:lnTo>
                  <a:lnTo>
                    <a:pt x="4165" y="1478"/>
                  </a:lnTo>
                  <a:lnTo>
                    <a:pt x="4168" y="1466"/>
                  </a:lnTo>
                  <a:lnTo>
                    <a:pt x="4163" y="1458"/>
                  </a:lnTo>
                  <a:lnTo>
                    <a:pt x="4157" y="1449"/>
                  </a:lnTo>
                  <a:lnTo>
                    <a:pt x="4154" y="1438"/>
                  </a:lnTo>
                  <a:lnTo>
                    <a:pt x="4151" y="1429"/>
                  </a:lnTo>
                  <a:lnTo>
                    <a:pt x="4151" y="1420"/>
                  </a:lnTo>
                  <a:lnTo>
                    <a:pt x="4151" y="1409"/>
                  </a:lnTo>
                  <a:lnTo>
                    <a:pt x="4151" y="1400"/>
                  </a:lnTo>
                  <a:lnTo>
                    <a:pt x="4160" y="1394"/>
                  </a:lnTo>
                  <a:lnTo>
                    <a:pt x="4174" y="1400"/>
                  </a:lnTo>
                  <a:lnTo>
                    <a:pt x="4183" y="1403"/>
                  </a:lnTo>
                  <a:lnTo>
                    <a:pt x="4183" y="1412"/>
                  </a:lnTo>
                  <a:lnTo>
                    <a:pt x="4192" y="1420"/>
                  </a:lnTo>
                  <a:lnTo>
                    <a:pt x="4203" y="1432"/>
                  </a:lnTo>
                  <a:lnTo>
                    <a:pt x="4212" y="1440"/>
                  </a:lnTo>
                  <a:lnTo>
                    <a:pt x="4215" y="1449"/>
                  </a:lnTo>
                  <a:lnTo>
                    <a:pt x="4218" y="1458"/>
                  </a:lnTo>
                  <a:lnTo>
                    <a:pt x="4227" y="1472"/>
                  </a:lnTo>
                  <a:lnTo>
                    <a:pt x="4235" y="1478"/>
                  </a:lnTo>
                  <a:lnTo>
                    <a:pt x="4241" y="1487"/>
                  </a:lnTo>
                  <a:lnTo>
                    <a:pt x="4253" y="1495"/>
                  </a:lnTo>
                  <a:lnTo>
                    <a:pt x="4264" y="1501"/>
                  </a:lnTo>
                  <a:lnTo>
                    <a:pt x="4270" y="1510"/>
                  </a:lnTo>
                  <a:lnTo>
                    <a:pt x="4273" y="1518"/>
                  </a:lnTo>
                  <a:lnTo>
                    <a:pt x="4273" y="1527"/>
                  </a:lnTo>
                  <a:lnTo>
                    <a:pt x="4273" y="1535"/>
                  </a:lnTo>
                  <a:lnTo>
                    <a:pt x="4273" y="1544"/>
                  </a:lnTo>
                  <a:lnTo>
                    <a:pt x="4264" y="1550"/>
                  </a:lnTo>
                  <a:lnTo>
                    <a:pt x="4256" y="1553"/>
                  </a:lnTo>
                  <a:lnTo>
                    <a:pt x="4256" y="1564"/>
                  </a:lnTo>
                  <a:lnTo>
                    <a:pt x="4256" y="1573"/>
                  </a:lnTo>
                  <a:lnTo>
                    <a:pt x="4256" y="1582"/>
                  </a:lnTo>
                  <a:lnTo>
                    <a:pt x="4264" y="1587"/>
                  </a:lnTo>
                  <a:lnTo>
                    <a:pt x="4276" y="1590"/>
                  </a:lnTo>
                  <a:lnTo>
                    <a:pt x="4285" y="1590"/>
                  </a:lnTo>
                  <a:lnTo>
                    <a:pt x="4294" y="1599"/>
                  </a:lnTo>
                  <a:lnTo>
                    <a:pt x="4302" y="1608"/>
                  </a:lnTo>
                  <a:lnTo>
                    <a:pt x="4314" y="1610"/>
                  </a:lnTo>
                  <a:lnTo>
                    <a:pt x="4326" y="1616"/>
                  </a:lnTo>
                  <a:lnTo>
                    <a:pt x="4334" y="1619"/>
                  </a:lnTo>
                  <a:lnTo>
                    <a:pt x="4340" y="1628"/>
                  </a:lnTo>
                  <a:lnTo>
                    <a:pt x="4343" y="1636"/>
                  </a:lnTo>
                  <a:lnTo>
                    <a:pt x="4343" y="1645"/>
                  </a:lnTo>
                  <a:lnTo>
                    <a:pt x="4343" y="1654"/>
                  </a:lnTo>
                  <a:lnTo>
                    <a:pt x="4343" y="1662"/>
                  </a:lnTo>
                  <a:lnTo>
                    <a:pt x="4346" y="1671"/>
                  </a:lnTo>
                  <a:lnTo>
                    <a:pt x="4355" y="1671"/>
                  </a:lnTo>
                  <a:lnTo>
                    <a:pt x="4366" y="1671"/>
                  </a:lnTo>
                  <a:lnTo>
                    <a:pt x="4369" y="1662"/>
                  </a:lnTo>
                  <a:lnTo>
                    <a:pt x="4363" y="1654"/>
                  </a:lnTo>
                  <a:lnTo>
                    <a:pt x="4360" y="1645"/>
                  </a:lnTo>
                  <a:lnTo>
                    <a:pt x="4355" y="1636"/>
                  </a:lnTo>
                  <a:lnTo>
                    <a:pt x="4352" y="1628"/>
                  </a:lnTo>
                  <a:lnTo>
                    <a:pt x="4349" y="1619"/>
                  </a:lnTo>
                  <a:lnTo>
                    <a:pt x="4346" y="1610"/>
                  </a:lnTo>
                  <a:lnTo>
                    <a:pt x="4346" y="1602"/>
                  </a:lnTo>
                  <a:lnTo>
                    <a:pt x="4346" y="1590"/>
                  </a:lnTo>
                  <a:lnTo>
                    <a:pt x="4346" y="1582"/>
                  </a:lnTo>
                  <a:lnTo>
                    <a:pt x="4355" y="1579"/>
                  </a:lnTo>
                  <a:lnTo>
                    <a:pt x="4363" y="1582"/>
                  </a:lnTo>
                  <a:lnTo>
                    <a:pt x="4372" y="1582"/>
                  </a:lnTo>
                  <a:lnTo>
                    <a:pt x="4381" y="1573"/>
                  </a:lnTo>
                  <a:lnTo>
                    <a:pt x="4390" y="1567"/>
                  </a:lnTo>
                  <a:lnTo>
                    <a:pt x="4393" y="1559"/>
                  </a:lnTo>
                  <a:lnTo>
                    <a:pt x="4393" y="1550"/>
                  </a:lnTo>
                  <a:lnTo>
                    <a:pt x="4393" y="1541"/>
                  </a:lnTo>
                  <a:lnTo>
                    <a:pt x="4393" y="1533"/>
                  </a:lnTo>
                  <a:lnTo>
                    <a:pt x="4393" y="1524"/>
                  </a:lnTo>
                  <a:lnTo>
                    <a:pt x="4393" y="1515"/>
                  </a:lnTo>
                  <a:lnTo>
                    <a:pt x="4390" y="1504"/>
                  </a:lnTo>
                  <a:lnTo>
                    <a:pt x="4384" y="1495"/>
                  </a:lnTo>
                  <a:lnTo>
                    <a:pt x="4381" y="1484"/>
                  </a:lnTo>
                  <a:lnTo>
                    <a:pt x="4378" y="1475"/>
                  </a:lnTo>
                  <a:lnTo>
                    <a:pt x="4369" y="1463"/>
                  </a:lnTo>
                  <a:lnTo>
                    <a:pt x="4363" y="1455"/>
                  </a:lnTo>
                  <a:lnTo>
                    <a:pt x="4360" y="1446"/>
                  </a:lnTo>
                  <a:lnTo>
                    <a:pt x="4358" y="1438"/>
                  </a:lnTo>
                  <a:lnTo>
                    <a:pt x="4352" y="1429"/>
                  </a:lnTo>
                  <a:lnTo>
                    <a:pt x="4346" y="1417"/>
                  </a:lnTo>
                  <a:lnTo>
                    <a:pt x="4340" y="1409"/>
                  </a:lnTo>
                  <a:lnTo>
                    <a:pt x="4337" y="1397"/>
                  </a:lnTo>
                  <a:lnTo>
                    <a:pt x="4334" y="1389"/>
                  </a:lnTo>
                  <a:lnTo>
                    <a:pt x="4334" y="1380"/>
                  </a:lnTo>
                  <a:lnTo>
                    <a:pt x="4331" y="1371"/>
                  </a:lnTo>
                  <a:lnTo>
                    <a:pt x="4328" y="1360"/>
                  </a:lnTo>
                  <a:lnTo>
                    <a:pt x="4323" y="1351"/>
                  </a:lnTo>
                  <a:lnTo>
                    <a:pt x="4320" y="1342"/>
                  </a:lnTo>
                  <a:lnTo>
                    <a:pt x="4314" y="1334"/>
                  </a:lnTo>
                  <a:lnTo>
                    <a:pt x="4305" y="1325"/>
                  </a:lnTo>
                  <a:lnTo>
                    <a:pt x="4296" y="1316"/>
                  </a:lnTo>
                  <a:lnTo>
                    <a:pt x="4288" y="1308"/>
                  </a:lnTo>
                  <a:lnTo>
                    <a:pt x="4276" y="1311"/>
                  </a:lnTo>
                  <a:lnTo>
                    <a:pt x="4279" y="1291"/>
                  </a:lnTo>
                  <a:lnTo>
                    <a:pt x="4276" y="1282"/>
                  </a:lnTo>
                  <a:lnTo>
                    <a:pt x="4270" y="1273"/>
                  </a:lnTo>
                  <a:lnTo>
                    <a:pt x="4261" y="1267"/>
                  </a:lnTo>
                  <a:lnTo>
                    <a:pt x="4253" y="1259"/>
                  </a:lnTo>
                  <a:lnTo>
                    <a:pt x="4244" y="1250"/>
                  </a:lnTo>
                  <a:lnTo>
                    <a:pt x="4238" y="1242"/>
                  </a:lnTo>
                  <a:lnTo>
                    <a:pt x="4232" y="1233"/>
                  </a:lnTo>
                  <a:lnTo>
                    <a:pt x="4229" y="1224"/>
                  </a:lnTo>
                  <a:lnTo>
                    <a:pt x="4221" y="1218"/>
                  </a:lnTo>
                  <a:lnTo>
                    <a:pt x="4212" y="1210"/>
                  </a:lnTo>
                  <a:lnTo>
                    <a:pt x="4200" y="1201"/>
                  </a:lnTo>
                  <a:lnTo>
                    <a:pt x="4192" y="1195"/>
                  </a:lnTo>
                  <a:lnTo>
                    <a:pt x="4183" y="1193"/>
                  </a:lnTo>
                  <a:lnTo>
                    <a:pt x="4171" y="1187"/>
                  </a:lnTo>
                  <a:lnTo>
                    <a:pt x="4163" y="1184"/>
                  </a:lnTo>
                  <a:lnTo>
                    <a:pt x="4154" y="1181"/>
                  </a:lnTo>
                  <a:lnTo>
                    <a:pt x="4145" y="1175"/>
                  </a:lnTo>
                  <a:lnTo>
                    <a:pt x="4136" y="1170"/>
                  </a:lnTo>
                  <a:lnTo>
                    <a:pt x="4130" y="1161"/>
                  </a:lnTo>
                  <a:lnTo>
                    <a:pt x="4119" y="1152"/>
                  </a:lnTo>
                  <a:lnTo>
                    <a:pt x="4110" y="1149"/>
                  </a:lnTo>
                  <a:lnTo>
                    <a:pt x="4098" y="1144"/>
                  </a:lnTo>
                  <a:lnTo>
                    <a:pt x="4090" y="1144"/>
                  </a:lnTo>
                  <a:lnTo>
                    <a:pt x="4078" y="1135"/>
                  </a:lnTo>
                  <a:lnTo>
                    <a:pt x="4069" y="1126"/>
                  </a:lnTo>
                  <a:lnTo>
                    <a:pt x="4064" y="1118"/>
                  </a:lnTo>
                  <a:lnTo>
                    <a:pt x="4058" y="1109"/>
                  </a:lnTo>
                  <a:lnTo>
                    <a:pt x="4049" y="1103"/>
                  </a:lnTo>
                  <a:lnTo>
                    <a:pt x="4058" y="1100"/>
                  </a:lnTo>
                  <a:lnTo>
                    <a:pt x="4066" y="1100"/>
                  </a:lnTo>
                  <a:lnTo>
                    <a:pt x="4078" y="1100"/>
                  </a:lnTo>
                  <a:lnTo>
                    <a:pt x="4090" y="1103"/>
                  </a:lnTo>
                  <a:lnTo>
                    <a:pt x="4098" y="1109"/>
                  </a:lnTo>
                  <a:lnTo>
                    <a:pt x="4107" y="1112"/>
                  </a:lnTo>
                  <a:lnTo>
                    <a:pt x="4116" y="1115"/>
                  </a:lnTo>
                  <a:lnTo>
                    <a:pt x="4125" y="1121"/>
                  </a:lnTo>
                  <a:lnTo>
                    <a:pt x="4133" y="1126"/>
                  </a:lnTo>
                  <a:lnTo>
                    <a:pt x="4142" y="1129"/>
                  </a:lnTo>
                  <a:lnTo>
                    <a:pt x="4154" y="1138"/>
                  </a:lnTo>
                  <a:lnTo>
                    <a:pt x="4163" y="1141"/>
                  </a:lnTo>
                  <a:lnTo>
                    <a:pt x="4171" y="1144"/>
                  </a:lnTo>
                  <a:lnTo>
                    <a:pt x="4180" y="1146"/>
                  </a:lnTo>
                  <a:lnTo>
                    <a:pt x="4192" y="1146"/>
                  </a:lnTo>
                  <a:lnTo>
                    <a:pt x="4200" y="1146"/>
                  </a:lnTo>
                  <a:lnTo>
                    <a:pt x="4212" y="1149"/>
                  </a:lnTo>
                  <a:lnTo>
                    <a:pt x="4221" y="1149"/>
                  </a:lnTo>
                  <a:lnTo>
                    <a:pt x="4229" y="1152"/>
                  </a:lnTo>
                  <a:lnTo>
                    <a:pt x="4238" y="1155"/>
                  </a:lnTo>
                  <a:lnTo>
                    <a:pt x="4247" y="1161"/>
                  </a:lnTo>
                  <a:lnTo>
                    <a:pt x="4256" y="1164"/>
                  </a:lnTo>
                  <a:lnTo>
                    <a:pt x="4264" y="1170"/>
                  </a:lnTo>
                  <a:lnTo>
                    <a:pt x="4273" y="1172"/>
                  </a:lnTo>
                  <a:lnTo>
                    <a:pt x="4282" y="1178"/>
                  </a:lnTo>
                  <a:lnTo>
                    <a:pt x="4291" y="1181"/>
                  </a:lnTo>
                  <a:lnTo>
                    <a:pt x="4299" y="1187"/>
                  </a:lnTo>
                  <a:lnTo>
                    <a:pt x="4308" y="1190"/>
                  </a:lnTo>
                  <a:lnTo>
                    <a:pt x="4317" y="1193"/>
                  </a:lnTo>
                  <a:lnTo>
                    <a:pt x="4326" y="1195"/>
                  </a:lnTo>
                  <a:lnTo>
                    <a:pt x="4334" y="1195"/>
                  </a:lnTo>
                  <a:lnTo>
                    <a:pt x="4326" y="1190"/>
                  </a:lnTo>
                  <a:lnTo>
                    <a:pt x="4314" y="1178"/>
                  </a:lnTo>
                  <a:lnTo>
                    <a:pt x="4305" y="1170"/>
                  </a:lnTo>
                  <a:lnTo>
                    <a:pt x="4305" y="1161"/>
                  </a:lnTo>
                  <a:lnTo>
                    <a:pt x="4317" y="1158"/>
                  </a:lnTo>
                  <a:lnTo>
                    <a:pt x="4328" y="1158"/>
                  </a:lnTo>
                  <a:lnTo>
                    <a:pt x="4337" y="1158"/>
                  </a:lnTo>
                  <a:lnTo>
                    <a:pt x="4346" y="1158"/>
                  </a:lnTo>
                  <a:lnTo>
                    <a:pt x="4346" y="1149"/>
                  </a:lnTo>
                  <a:lnTo>
                    <a:pt x="4349" y="1138"/>
                  </a:lnTo>
                  <a:lnTo>
                    <a:pt x="4349" y="1129"/>
                  </a:lnTo>
                  <a:lnTo>
                    <a:pt x="4340" y="1123"/>
                  </a:lnTo>
                  <a:lnTo>
                    <a:pt x="4331" y="1121"/>
                  </a:lnTo>
                  <a:lnTo>
                    <a:pt x="4323" y="1121"/>
                  </a:lnTo>
                  <a:lnTo>
                    <a:pt x="4314" y="1121"/>
                  </a:lnTo>
                  <a:lnTo>
                    <a:pt x="4302" y="1121"/>
                  </a:lnTo>
                  <a:lnTo>
                    <a:pt x="4296" y="1132"/>
                  </a:lnTo>
                  <a:lnTo>
                    <a:pt x="4288" y="1138"/>
                  </a:lnTo>
                  <a:lnTo>
                    <a:pt x="4279" y="1144"/>
                  </a:lnTo>
                  <a:lnTo>
                    <a:pt x="4270" y="1144"/>
                  </a:lnTo>
                  <a:lnTo>
                    <a:pt x="4261" y="1144"/>
                  </a:lnTo>
                  <a:lnTo>
                    <a:pt x="4253" y="1144"/>
                  </a:lnTo>
                  <a:lnTo>
                    <a:pt x="4244" y="1144"/>
                  </a:lnTo>
                  <a:lnTo>
                    <a:pt x="4238" y="1135"/>
                  </a:lnTo>
                  <a:lnTo>
                    <a:pt x="4227" y="1126"/>
                  </a:lnTo>
                  <a:lnTo>
                    <a:pt x="4218" y="1115"/>
                  </a:lnTo>
                  <a:lnTo>
                    <a:pt x="4209" y="1109"/>
                  </a:lnTo>
                  <a:lnTo>
                    <a:pt x="4197" y="1100"/>
                  </a:lnTo>
                  <a:lnTo>
                    <a:pt x="4192" y="1092"/>
                  </a:lnTo>
                  <a:lnTo>
                    <a:pt x="4200" y="1086"/>
                  </a:lnTo>
                  <a:lnTo>
                    <a:pt x="4209" y="1077"/>
                  </a:lnTo>
                  <a:lnTo>
                    <a:pt x="4218" y="1072"/>
                  </a:lnTo>
                  <a:lnTo>
                    <a:pt x="4227" y="1063"/>
                  </a:lnTo>
                  <a:lnTo>
                    <a:pt x="4229" y="1054"/>
                  </a:lnTo>
                  <a:lnTo>
                    <a:pt x="4221" y="1048"/>
                  </a:lnTo>
                  <a:lnTo>
                    <a:pt x="4209" y="1048"/>
                  </a:lnTo>
                  <a:lnTo>
                    <a:pt x="4200" y="1048"/>
                  </a:lnTo>
                  <a:lnTo>
                    <a:pt x="4189" y="1048"/>
                  </a:lnTo>
                  <a:lnTo>
                    <a:pt x="4180" y="1051"/>
                  </a:lnTo>
                  <a:lnTo>
                    <a:pt x="4171" y="1057"/>
                  </a:lnTo>
                  <a:lnTo>
                    <a:pt x="4160" y="1057"/>
                  </a:lnTo>
                  <a:lnTo>
                    <a:pt x="4151" y="1057"/>
                  </a:lnTo>
                  <a:lnTo>
                    <a:pt x="4142" y="1057"/>
                  </a:lnTo>
                  <a:lnTo>
                    <a:pt x="4133" y="1057"/>
                  </a:lnTo>
                  <a:lnTo>
                    <a:pt x="4125" y="1057"/>
                  </a:lnTo>
                  <a:lnTo>
                    <a:pt x="4116" y="1057"/>
                  </a:lnTo>
                  <a:lnTo>
                    <a:pt x="4107" y="1057"/>
                  </a:lnTo>
                  <a:lnTo>
                    <a:pt x="4098" y="1057"/>
                  </a:lnTo>
                  <a:lnTo>
                    <a:pt x="4090" y="1057"/>
                  </a:lnTo>
                  <a:lnTo>
                    <a:pt x="4081" y="1057"/>
                  </a:lnTo>
                  <a:lnTo>
                    <a:pt x="4072" y="1057"/>
                  </a:lnTo>
                  <a:lnTo>
                    <a:pt x="4064" y="1054"/>
                  </a:lnTo>
                  <a:lnTo>
                    <a:pt x="4055" y="1051"/>
                  </a:lnTo>
                  <a:lnTo>
                    <a:pt x="4043" y="1048"/>
                  </a:lnTo>
                  <a:lnTo>
                    <a:pt x="4032" y="1043"/>
                  </a:lnTo>
                  <a:lnTo>
                    <a:pt x="4023" y="1040"/>
                  </a:lnTo>
                  <a:lnTo>
                    <a:pt x="4008" y="1031"/>
                  </a:lnTo>
                  <a:lnTo>
                    <a:pt x="3994" y="1028"/>
                  </a:lnTo>
                  <a:lnTo>
                    <a:pt x="3982" y="1028"/>
                  </a:lnTo>
                  <a:lnTo>
                    <a:pt x="3973" y="1028"/>
                  </a:lnTo>
                  <a:lnTo>
                    <a:pt x="3965" y="1028"/>
                  </a:lnTo>
                  <a:lnTo>
                    <a:pt x="3953" y="1028"/>
                  </a:lnTo>
                  <a:lnTo>
                    <a:pt x="3941" y="1028"/>
                  </a:lnTo>
                  <a:lnTo>
                    <a:pt x="3933" y="1028"/>
                  </a:lnTo>
                  <a:lnTo>
                    <a:pt x="3927" y="1037"/>
                  </a:lnTo>
                  <a:lnTo>
                    <a:pt x="3941" y="1048"/>
                  </a:lnTo>
                  <a:lnTo>
                    <a:pt x="3950" y="1051"/>
                  </a:lnTo>
                  <a:lnTo>
                    <a:pt x="3962" y="1054"/>
                  </a:lnTo>
                  <a:lnTo>
                    <a:pt x="3970" y="1057"/>
                  </a:lnTo>
                  <a:lnTo>
                    <a:pt x="3979" y="1060"/>
                  </a:lnTo>
                  <a:lnTo>
                    <a:pt x="3982" y="1072"/>
                  </a:lnTo>
                  <a:lnTo>
                    <a:pt x="3982" y="1080"/>
                  </a:lnTo>
                  <a:lnTo>
                    <a:pt x="3982" y="1089"/>
                  </a:lnTo>
                  <a:lnTo>
                    <a:pt x="3994" y="1100"/>
                  </a:lnTo>
                  <a:lnTo>
                    <a:pt x="4002" y="1103"/>
                  </a:lnTo>
                  <a:lnTo>
                    <a:pt x="4014" y="1106"/>
                  </a:lnTo>
                  <a:lnTo>
                    <a:pt x="4026" y="1106"/>
                  </a:lnTo>
                  <a:lnTo>
                    <a:pt x="4034" y="1109"/>
                  </a:lnTo>
                  <a:lnTo>
                    <a:pt x="4046" y="1112"/>
                  </a:lnTo>
                  <a:lnTo>
                    <a:pt x="4037" y="1115"/>
                  </a:lnTo>
                  <a:lnTo>
                    <a:pt x="4029" y="1112"/>
                  </a:lnTo>
                  <a:lnTo>
                    <a:pt x="4020" y="1109"/>
                  </a:lnTo>
                  <a:lnTo>
                    <a:pt x="4011" y="1109"/>
                  </a:lnTo>
                  <a:lnTo>
                    <a:pt x="4002" y="1106"/>
                  </a:lnTo>
                  <a:lnTo>
                    <a:pt x="3994" y="1103"/>
                  </a:lnTo>
                  <a:lnTo>
                    <a:pt x="3979" y="1097"/>
                  </a:lnTo>
                  <a:lnTo>
                    <a:pt x="3970" y="1097"/>
                  </a:lnTo>
                  <a:lnTo>
                    <a:pt x="3962" y="1100"/>
                  </a:lnTo>
                  <a:lnTo>
                    <a:pt x="3959" y="1109"/>
                  </a:lnTo>
                  <a:lnTo>
                    <a:pt x="3950" y="1118"/>
                  </a:lnTo>
                  <a:lnTo>
                    <a:pt x="3941" y="1123"/>
                  </a:lnTo>
                  <a:lnTo>
                    <a:pt x="3935" y="1132"/>
                  </a:lnTo>
                  <a:lnTo>
                    <a:pt x="3927" y="1138"/>
                  </a:lnTo>
                  <a:lnTo>
                    <a:pt x="3927" y="1146"/>
                  </a:lnTo>
                  <a:lnTo>
                    <a:pt x="3930" y="1155"/>
                  </a:lnTo>
                  <a:lnTo>
                    <a:pt x="3938" y="1161"/>
                  </a:lnTo>
                  <a:lnTo>
                    <a:pt x="3941" y="1170"/>
                  </a:lnTo>
                  <a:lnTo>
                    <a:pt x="3941" y="1178"/>
                  </a:lnTo>
                  <a:lnTo>
                    <a:pt x="3941" y="1187"/>
                  </a:lnTo>
                  <a:lnTo>
                    <a:pt x="3938" y="1195"/>
                  </a:lnTo>
                  <a:lnTo>
                    <a:pt x="3933" y="1204"/>
                  </a:lnTo>
                  <a:lnTo>
                    <a:pt x="3924" y="1204"/>
                  </a:lnTo>
                  <a:lnTo>
                    <a:pt x="3915" y="1193"/>
                  </a:lnTo>
                  <a:lnTo>
                    <a:pt x="3912" y="1184"/>
                  </a:lnTo>
                  <a:lnTo>
                    <a:pt x="3903" y="1178"/>
                  </a:lnTo>
                  <a:lnTo>
                    <a:pt x="3892" y="1172"/>
                  </a:lnTo>
                  <a:lnTo>
                    <a:pt x="3883" y="1167"/>
                  </a:lnTo>
                  <a:lnTo>
                    <a:pt x="3877" y="1158"/>
                  </a:lnTo>
                  <a:lnTo>
                    <a:pt x="3874" y="1167"/>
                  </a:lnTo>
                  <a:lnTo>
                    <a:pt x="3874" y="1175"/>
                  </a:lnTo>
                  <a:lnTo>
                    <a:pt x="3874" y="1184"/>
                  </a:lnTo>
                  <a:lnTo>
                    <a:pt x="3886" y="1193"/>
                  </a:lnTo>
                  <a:lnTo>
                    <a:pt x="3898" y="1195"/>
                  </a:lnTo>
                  <a:lnTo>
                    <a:pt x="3906" y="1198"/>
                  </a:lnTo>
                  <a:lnTo>
                    <a:pt x="3915" y="1201"/>
                  </a:lnTo>
                  <a:lnTo>
                    <a:pt x="3924" y="1207"/>
                  </a:lnTo>
                  <a:lnTo>
                    <a:pt x="3912" y="1213"/>
                  </a:lnTo>
                  <a:lnTo>
                    <a:pt x="3903" y="1213"/>
                  </a:lnTo>
                  <a:lnTo>
                    <a:pt x="3895" y="1213"/>
                  </a:lnTo>
                  <a:lnTo>
                    <a:pt x="3886" y="1216"/>
                  </a:lnTo>
                  <a:lnTo>
                    <a:pt x="3886" y="1224"/>
                  </a:lnTo>
                  <a:lnTo>
                    <a:pt x="3880" y="1233"/>
                  </a:lnTo>
                  <a:lnTo>
                    <a:pt x="3868" y="1236"/>
                  </a:lnTo>
                  <a:lnTo>
                    <a:pt x="3860" y="1236"/>
                  </a:lnTo>
                  <a:lnTo>
                    <a:pt x="3854" y="1224"/>
                  </a:lnTo>
                  <a:lnTo>
                    <a:pt x="3854" y="1216"/>
                  </a:lnTo>
                  <a:lnTo>
                    <a:pt x="3851" y="1207"/>
                  </a:lnTo>
                  <a:lnTo>
                    <a:pt x="3845" y="1198"/>
                  </a:lnTo>
                  <a:lnTo>
                    <a:pt x="3842" y="1187"/>
                  </a:lnTo>
                  <a:lnTo>
                    <a:pt x="3836" y="1175"/>
                  </a:lnTo>
                  <a:lnTo>
                    <a:pt x="3834" y="1164"/>
                  </a:lnTo>
                  <a:lnTo>
                    <a:pt x="3828" y="1155"/>
                  </a:lnTo>
                  <a:lnTo>
                    <a:pt x="3822" y="1146"/>
                  </a:lnTo>
                  <a:lnTo>
                    <a:pt x="3816" y="1138"/>
                  </a:lnTo>
                  <a:lnTo>
                    <a:pt x="3810" y="1129"/>
                  </a:lnTo>
                  <a:lnTo>
                    <a:pt x="3799" y="1123"/>
                  </a:lnTo>
                  <a:lnTo>
                    <a:pt x="3793" y="1115"/>
                  </a:lnTo>
                  <a:lnTo>
                    <a:pt x="3790" y="1106"/>
                  </a:lnTo>
                  <a:lnTo>
                    <a:pt x="3784" y="1097"/>
                  </a:lnTo>
                  <a:lnTo>
                    <a:pt x="3778" y="1089"/>
                  </a:lnTo>
                  <a:lnTo>
                    <a:pt x="3775" y="1080"/>
                  </a:lnTo>
                  <a:lnTo>
                    <a:pt x="3772" y="1072"/>
                  </a:lnTo>
                  <a:lnTo>
                    <a:pt x="3767" y="1063"/>
                  </a:lnTo>
                  <a:lnTo>
                    <a:pt x="3761" y="1054"/>
                  </a:lnTo>
                  <a:lnTo>
                    <a:pt x="3752" y="1046"/>
                  </a:lnTo>
                  <a:lnTo>
                    <a:pt x="3746" y="1037"/>
                  </a:lnTo>
                  <a:lnTo>
                    <a:pt x="3737" y="1034"/>
                  </a:lnTo>
                  <a:lnTo>
                    <a:pt x="3717" y="988"/>
                  </a:lnTo>
                  <a:lnTo>
                    <a:pt x="3737" y="1008"/>
                  </a:lnTo>
                  <a:lnTo>
                    <a:pt x="3737" y="999"/>
                  </a:lnTo>
                  <a:lnTo>
                    <a:pt x="3732" y="991"/>
                  </a:lnTo>
                  <a:lnTo>
                    <a:pt x="3726" y="982"/>
                  </a:lnTo>
                  <a:lnTo>
                    <a:pt x="3723" y="974"/>
                  </a:lnTo>
                  <a:lnTo>
                    <a:pt x="3714" y="968"/>
                  </a:lnTo>
                  <a:lnTo>
                    <a:pt x="3703" y="965"/>
                  </a:lnTo>
                  <a:lnTo>
                    <a:pt x="3694" y="959"/>
                  </a:lnTo>
                  <a:lnTo>
                    <a:pt x="3691" y="950"/>
                  </a:lnTo>
                  <a:lnTo>
                    <a:pt x="3691" y="942"/>
                  </a:lnTo>
                  <a:lnTo>
                    <a:pt x="3691" y="930"/>
                  </a:lnTo>
                  <a:lnTo>
                    <a:pt x="3691" y="922"/>
                  </a:lnTo>
                  <a:lnTo>
                    <a:pt x="3691" y="913"/>
                  </a:lnTo>
                  <a:lnTo>
                    <a:pt x="3694" y="904"/>
                  </a:lnTo>
                  <a:lnTo>
                    <a:pt x="3700" y="896"/>
                  </a:lnTo>
                  <a:lnTo>
                    <a:pt x="3705" y="887"/>
                  </a:lnTo>
                  <a:lnTo>
                    <a:pt x="3714" y="887"/>
                  </a:lnTo>
                  <a:lnTo>
                    <a:pt x="3717" y="878"/>
                  </a:lnTo>
                  <a:lnTo>
                    <a:pt x="3705" y="867"/>
                  </a:lnTo>
                  <a:lnTo>
                    <a:pt x="3705" y="858"/>
                  </a:lnTo>
                  <a:lnTo>
                    <a:pt x="3705" y="847"/>
                  </a:lnTo>
                  <a:lnTo>
                    <a:pt x="3711" y="838"/>
                  </a:lnTo>
                  <a:lnTo>
                    <a:pt x="3717" y="827"/>
                  </a:lnTo>
                  <a:lnTo>
                    <a:pt x="3717" y="818"/>
                  </a:lnTo>
                  <a:lnTo>
                    <a:pt x="3717" y="809"/>
                  </a:lnTo>
                  <a:lnTo>
                    <a:pt x="3705" y="806"/>
                  </a:lnTo>
                  <a:lnTo>
                    <a:pt x="3694" y="801"/>
                  </a:lnTo>
                  <a:lnTo>
                    <a:pt x="3685" y="795"/>
                  </a:lnTo>
                  <a:lnTo>
                    <a:pt x="3685" y="786"/>
                  </a:lnTo>
                  <a:lnTo>
                    <a:pt x="3691" y="778"/>
                  </a:lnTo>
                  <a:lnTo>
                    <a:pt x="3697" y="769"/>
                  </a:lnTo>
                  <a:lnTo>
                    <a:pt x="3700" y="760"/>
                  </a:lnTo>
                  <a:lnTo>
                    <a:pt x="3708" y="757"/>
                  </a:lnTo>
                  <a:lnTo>
                    <a:pt x="3717" y="752"/>
                  </a:lnTo>
                  <a:lnTo>
                    <a:pt x="3726" y="757"/>
                  </a:lnTo>
                  <a:lnTo>
                    <a:pt x="3735" y="760"/>
                  </a:lnTo>
                  <a:lnTo>
                    <a:pt x="3743" y="763"/>
                  </a:lnTo>
                  <a:lnTo>
                    <a:pt x="3743" y="755"/>
                  </a:lnTo>
                  <a:lnTo>
                    <a:pt x="3737" y="746"/>
                  </a:lnTo>
                  <a:lnTo>
                    <a:pt x="3737" y="737"/>
                  </a:lnTo>
                  <a:lnTo>
                    <a:pt x="3735" y="729"/>
                  </a:lnTo>
                  <a:lnTo>
                    <a:pt x="3735" y="720"/>
                  </a:lnTo>
                  <a:lnTo>
                    <a:pt x="3732" y="711"/>
                  </a:lnTo>
                  <a:lnTo>
                    <a:pt x="3726" y="703"/>
                  </a:lnTo>
                  <a:lnTo>
                    <a:pt x="3723" y="691"/>
                  </a:lnTo>
                  <a:lnTo>
                    <a:pt x="3723" y="682"/>
                  </a:lnTo>
                  <a:lnTo>
                    <a:pt x="3723" y="674"/>
                  </a:lnTo>
                  <a:lnTo>
                    <a:pt x="3723" y="665"/>
                  </a:lnTo>
                  <a:lnTo>
                    <a:pt x="3714" y="662"/>
                  </a:lnTo>
                  <a:lnTo>
                    <a:pt x="3708" y="671"/>
                  </a:lnTo>
                  <a:lnTo>
                    <a:pt x="3700" y="671"/>
                  </a:lnTo>
                  <a:lnTo>
                    <a:pt x="3691" y="674"/>
                  </a:lnTo>
                  <a:lnTo>
                    <a:pt x="3682" y="671"/>
                  </a:lnTo>
                  <a:lnTo>
                    <a:pt x="3673" y="659"/>
                  </a:lnTo>
                  <a:lnTo>
                    <a:pt x="3668" y="651"/>
                  </a:lnTo>
                  <a:lnTo>
                    <a:pt x="3662" y="642"/>
                  </a:lnTo>
                  <a:lnTo>
                    <a:pt x="3653" y="633"/>
                  </a:lnTo>
                  <a:lnTo>
                    <a:pt x="3641" y="628"/>
                  </a:lnTo>
                  <a:lnTo>
                    <a:pt x="3633" y="622"/>
                  </a:lnTo>
                  <a:lnTo>
                    <a:pt x="3624" y="622"/>
                  </a:lnTo>
                  <a:lnTo>
                    <a:pt x="3615" y="616"/>
                  </a:lnTo>
                  <a:lnTo>
                    <a:pt x="3604" y="613"/>
                  </a:lnTo>
                  <a:lnTo>
                    <a:pt x="3595" y="608"/>
                  </a:lnTo>
                  <a:lnTo>
                    <a:pt x="3577" y="573"/>
                  </a:lnTo>
                  <a:lnTo>
                    <a:pt x="3592" y="587"/>
                  </a:lnTo>
                  <a:lnTo>
                    <a:pt x="3592" y="576"/>
                  </a:lnTo>
                  <a:lnTo>
                    <a:pt x="3589" y="567"/>
                  </a:lnTo>
                  <a:lnTo>
                    <a:pt x="3589" y="559"/>
                  </a:lnTo>
                  <a:lnTo>
                    <a:pt x="3583" y="547"/>
                  </a:lnTo>
                  <a:lnTo>
                    <a:pt x="3577" y="538"/>
                  </a:lnTo>
                  <a:lnTo>
                    <a:pt x="3569" y="530"/>
                  </a:lnTo>
                  <a:lnTo>
                    <a:pt x="3583" y="527"/>
                  </a:lnTo>
                  <a:lnTo>
                    <a:pt x="3592" y="530"/>
                  </a:lnTo>
                  <a:lnTo>
                    <a:pt x="3601" y="533"/>
                  </a:lnTo>
                  <a:lnTo>
                    <a:pt x="3609" y="538"/>
                  </a:lnTo>
                  <a:lnTo>
                    <a:pt x="3618" y="541"/>
                  </a:lnTo>
                  <a:lnTo>
                    <a:pt x="3621" y="533"/>
                  </a:lnTo>
                  <a:lnTo>
                    <a:pt x="3621" y="524"/>
                  </a:lnTo>
                  <a:lnTo>
                    <a:pt x="3612" y="518"/>
                  </a:lnTo>
                  <a:lnTo>
                    <a:pt x="3604" y="507"/>
                  </a:lnTo>
                  <a:lnTo>
                    <a:pt x="3598" y="498"/>
                  </a:lnTo>
                  <a:lnTo>
                    <a:pt x="3589" y="489"/>
                  </a:lnTo>
                  <a:lnTo>
                    <a:pt x="3586" y="481"/>
                  </a:lnTo>
                  <a:lnTo>
                    <a:pt x="3577" y="472"/>
                  </a:lnTo>
                  <a:lnTo>
                    <a:pt x="3566" y="469"/>
                  </a:lnTo>
                  <a:lnTo>
                    <a:pt x="3557" y="469"/>
                  </a:lnTo>
                  <a:lnTo>
                    <a:pt x="3548" y="469"/>
                  </a:lnTo>
                  <a:lnTo>
                    <a:pt x="3540" y="469"/>
                  </a:lnTo>
                  <a:lnTo>
                    <a:pt x="3531" y="466"/>
                  </a:lnTo>
                  <a:lnTo>
                    <a:pt x="3519" y="458"/>
                  </a:lnTo>
                  <a:lnTo>
                    <a:pt x="3516" y="449"/>
                  </a:lnTo>
                  <a:lnTo>
                    <a:pt x="3510" y="440"/>
                  </a:lnTo>
                  <a:lnTo>
                    <a:pt x="3507" y="432"/>
                  </a:lnTo>
                  <a:lnTo>
                    <a:pt x="3502" y="423"/>
                  </a:lnTo>
                  <a:lnTo>
                    <a:pt x="3502" y="412"/>
                  </a:lnTo>
                  <a:lnTo>
                    <a:pt x="3510" y="412"/>
                  </a:lnTo>
                  <a:lnTo>
                    <a:pt x="3519" y="417"/>
                  </a:lnTo>
                  <a:lnTo>
                    <a:pt x="3531" y="426"/>
                  </a:lnTo>
                  <a:lnTo>
                    <a:pt x="3540" y="432"/>
                  </a:lnTo>
                  <a:lnTo>
                    <a:pt x="3542" y="440"/>
                  </a:lnTo>
                  <a:lnTo>
                    <a:pt x="3551" y="446"/>
                  </a:lnTo>
                  <a:lnTo>
                    <a:pt x="3563" y="452"/>
                  </a:lnTo>
                  <a:lnTo>
                    <a:pt x="3572" y="458"/>
                  </a:lnTo>
                  <a:lnTo>
                    <a:pt x="3580" y="458"/>
                  </a:lnTo>
                  <a:lnTo>
                    <a:pt x="3589" y="458"/>
                  </a:lnTo>
                  <a:lnTo>
                    <a:pt x="3598" y="458"/>
                  </a:lnTo>
                  <a:lnTo>
                    <a:pt x="3606" y="461"/>
                  </a:lnTo>
                  <a:lnTo>
                    <a:pt x="3612" y="472"/>
                  </a:lnTo>
                  <a:lnTo>
                    <a:pt x="3618" y="481"/>
                  </a:lnTo>
                  <a:lnTo>
                    <a:pt x="3621" y="489"/>
                  </a:lnTo>
                  <a:lnTo>
                    <a:pt x="3627" y="498"/>
                  </a:lnTo>
                  <a:lnTo>
                    <a:pt x="3633" y="507"/>
                  </a:lnTo>
                  <a:lnTo>
                    <a:pt x="3641" y="518"/>
                  </a:lnTo>
                  <a:lnTo>
                    <a:pt x="3650" y="521"/>
                  </a:lnTo>
                  <a:lnTo>
                    <a:pt x="3662" y="524"/>
                  </a:lnTo>
                  <a:lnTo>
                    <a:pt x="3671" y="524"/>
                  </a:lnTo>
                  <a:lnTo>
                    <a:pt x="3679" y="527"/>
                  </a:lnTo>
                  <a:lnTo>
                    <a:pt x="3688" y="527"/>
                  </a:lnTo>
                  <a:lnTo>
                    <a:pt x="3700" y="530"/>
                  </a:lnTo>
                  <a:lnTo>
                    <a:pt x="3711" y="536"/>
                  </a:lnTo>
                  <a:lnTo>
                    <a:pt x="3723" y="544"/>
                  </a:lnTo>
                  <a:lnTo>
                    <a:pt x="3729" y="553"/>
                  </a:lnTo>
                  <a:lnTo>
                    <a:pt x="3735" y="561"/>
                  </a:lnTo>
                  <a:lnTo>
                    <a:pt x="3746" y="570"/>
                  </a:lnTo>
                  <a:lnTo>
                    <a:pt x="3761" y="579"/>
                  </a:lnTo>
                  <a:lnTo>
                    <a:pt x="3770" y="585"/>
                  </a:lnTo>
                  <a:lnTo>
                    <a:pt x="3772" y="593"/>
                  </a:lnTo>
                  <a:lnTo>
                    <a:pt x="3775" y="602"/>
                  </a:lnTo>
                  <a:lnTo>
                    <a:pt x="3778" y="610"/>
                  </a:lnTo>
                  <a:lnTo>
                    <a:pt x="3787" y="610"/>
                  </a:lnTo>
                  <a:lnTo>
                    <a:pt x="3790" y="619"/>
                  </a:lnTo>
                  <a:lnTo>
                    <a:pt x="3799" y="622"/>
                  </a:lnTo>
                  <a:lnTo>
                    <a:pt x="3807" y="628"/>
                  </a:lnTo>
                  <a:lnTo>
                    <a:pt x="3819" y="633"/>
                  </a:lnTo>
                  <a:lnTo>
                    <a:pt x="3828" y="636"/>
                  </a:lnTo>
                  <a:lnTo>
                    <a:pt x="3836" y="639"/>
                  </a:lnTo>
                  <a:lnTo>
                    <a:pt x="3845" y="642"/>
                  </a:lnTo>
                  <a:lnTo>
                    <a:pt x="3854" y="642"/>
                  </a:lnTo>
                  <a:lnTo>
                    <a:pt x="3866" y="645"/>
                  </a:lnTo>
                  <a:lnTo>
                    <a:pt x="3874" y="651"/>
                  </a:lnTo>
                  <a:lnTo>
                    <a:pt x="3883" y="657"/>
                  </a:lnTo>
                  <a:lnTo>
                    <a:pt x="3892" y="657"/>
                  </a:lnTo>
                  <a:lnTo>
                    <a:pt x="3901" y="657"/>
                  </a:lnTo>
                  <a:lnTo>
                    <a:pt x="3912" y="657"/>
                  </a:lnTo>
                  <a:lnTo>
                    <a:pt x="3924" y="657"/>
                  </a:lnTo>
                  <a:lnTo>
                    <a:pt x="3938" y="657"/>
                  </a:lnTo>
                  <a:lnTo>
                    <a:pt x="3947" y="657"/>
                  </a:lnTo>
                  <a:lnTo>
                    <a:pt x="3959" y="657"/>
                  </a:lnTo>
                  <a:lnTo>
                    <a:pt x="3967" y="659"/>
                  </a:lnTo>
                  <a:lnTo>
                    <a:pt x="3979" y="659"/>
                  </a:lnTo>
                  <a:lnTo>
                    <a:pt x="3991" y="659"/>
                  </a:lnTo>
                  <a:lnTo>
                    <a:pt x="4002" y="659"/>
                  </a:lnTo>
                  <a:lnTo>
                    <a:pt x="4017" y="659"/>
                  </a:lnTo>
                  <a:lnTo>
                    <a:pt x="4026" y="659"/>
                  </a:lnTo>
                  <a:lnTo>
                    <a:pt x="4037" y="659"/>
                  </a:lnTo>
                  <a:lnTo>
                    <a:pt x="4049" y="659"/>
                  </a:lnTo>
                  <a:lnTo>
                    <a:pt x="4061" y="659"/>
                  </a:lnTo>
                  <a:lnTo>
                    <a:pt x="4072" y="659"/>
                  </a:lnTo>
                  <a:lnTo>
                    <a:pt x="4084" y="659"/>
                  </a:lnTo>
                  <a:lnTo>
                    <a:pt x="4093" y="659"/>
                  </a:lnTo>
                  <a:lnTo>
                    <a:pt x="4101" y="659"/>
                  </a:lnTo>
                  <a:lnTo>
                    <a:pt x="4110" y="659"/>
                  </a:lnTo>
                  <a:lnTo>
                    <a:pt x="4119" y="659"/>
                  </a:lnTo>
                  <a:lnTo>
                    <a:pt x="4128" y="659"/>
                  </a:lnTo>
                  <a:lnTo>
                    <a:pt x="4136" y="659"/>
                  </a:lnTo>
                  <a:lnTo>
                    <a:pt x="4142" y="668"/>
                  </a:lnTo>
                  <a:lnTo>
                    <a:pt x="4145" y="677"/>
                  </a:lnTo>
                  <a:lnTo>
                    <a:pt x="4151" y="685"/>
                  </a:lnTo>
                  <a:lnTo>
                    <a:pt x="4160" y="691"/>
                  </a:lnTo>
                  <a:lnTo>
                    <a:pt x="4168" y="700"/>
                  </a:lnTo>
                  <a:lnTo>
                    <a:pt x="4177" y="700"/>
                  </a:lnTo>
                  <a:lnTo>
                    <a:pt x="4177" y="691"/>
                  </a:lnTo>
                  <a:lnTo>
                    <a:pt x="4168" y="682"/>
                  </a:lnTo>
                  <a:lnTo>
                    <a:pt x="4168" y="674"/>
                  </a:lnTo>
                  <a:lnTo>
                    <a:pt x="4160" y="665"/>
                  </a:lnTo>
                  <a:lnTo>
                    <a:pt x="4151" y="659"/>
                  </a:lnTo>
                  <a:lnTo>
                    <a:pt x="4136" y="619"/>
                  </a:lnTo>
                  <a:lnTo>
                    <a:pt x="4142" y="60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33880" y="36291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6" y="0"/>
                  </a:moveTo>
                  <a:lnTo>
                    <a:pt x="32" y="11"/>
                  </a:lnTo>
                  <a:lnTo>
                    <a:pt x="23" y="11"/>
                  </a:lnTo>
                  <a:lnTo>
                    <a:pt x="14" y="11"/>
                  </a:lnTo>
                  <a:lnTo>
                    <a:pt x="5" y="13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8" y="33"/>
                  </a:lnTo>
                  <a:lnTo>
                    <a:pt x="17" y="30"/>
                  </a:lnTo>
                  <a:lnTo>
                    <a:pt x="23" y="22"/>
                  </a:lnTo>
                  <a:lnTo>
                    <a:pt x="23" y="13"/>
                  </a:lnTo>
                  <a:lnTo>
                    <a:pt x="26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14480" y="5259240"/>
              <a:ext cx="4320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" y="20"/>
                  </a:moveTo>
                  <a:lnTo>
                    <a:pt x="8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4" y="17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2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81200" y="4390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0"/>
                  </a:moveTo>
                  <a:lnTo>
                    <a:pt x="11" y="16"/>
                  </a:lnTo>
                  <a:lnTo>
                    <a:pt x="11" y="25"/>
                  </a:lnTo>
                  <a:lnTo>
                    <a:pt x="2" y="33"/>
                  </a:lnTo>
                  <a:lnTo>
                    <a:pt x="11" y="45"/>
                  </a:lnTo>
                  <a:lnTo>
                    <a:pt x="26" y="48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2" y="22"/>
                  </a:lnTo>
                  <a:lnTo>
                    <a:pt x="23" y="14"/>
                  </a:lnTo>
                  <a:lnTo>
                    <a:pt x="14" y="11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229600" y="16905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0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305920" y="1801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lnTo>
                    <a:pt x="8" y="11"/>
                  </a:lnTo>
                  <a:lnTo>
                    <a:pt x="14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26" y="46"/>
                  </a:lnTo>
                  <a:lnTo>
                    <a:pt x="17" y="43"/>
                  </a:lnTo>
                  <a:lnTo>
                    <a:pt x="11" y="34"/>
                  </a:lnTo>
                  <a:lnTo>
                    <a:pt x="8" y="25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24440" y="16192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6" y="70"/>
                  </a:moveTo>
                  <a:lnTo>
                    <a:pt x="0" y="78"/>
                  </a:lnTo>
                  <a:lnTo>
                    <a:pt x="0" y="70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19" y="42"/>
                  </a:lnTo>
                  <a:lnTo>
                    <a:pt x="11" y="33"/>
                  </a:lnTo>
                  <a:lnTo>
                    <a:pt x="11" y="25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11"/>
                  </a:lnTo>
                  <a:lnTo>
                    <a:pt x="45" y="16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28" y="33"/>
                  </a:lnTo>
                  <a:lnTo>
                    <a:pt x="35" y="36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5" y="56"/>
                  </a:lnTo>
                  <a:lnTo>
                    <a:pt x="45" y="64"/>
                  </a:lnTo>
                  <a:lnTo>
                    <a:pt x="43" y="72"/>
                  </a:lnTo>
                  <a:lnTo>
                    <a:pt x="50" y="75"/>
                  </a:lnTo>
                  <a:lnTo>
                    <a:pt x="55" y="84"/>
                  </a:lnTo>
                  <a:lnTo>
                    <a:pt x="50" y="92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31" y="98"/>
                  </a:lnTo>
                  <a:lnTo>
                    <a:pt x="23" y="98"/>
                  </a:lnTo>
                  <a:lnTo>
                    <a:pt x="14" y="92"/>
                  </a:lnTo>
                  <a:lnTo>
                    <a:pt x="9" y="84"/>
                  </a:lnTo>
                  <a:lnTo>
                    <a:pt x="4" y="75"/>
                  </a:lnTo>
                  <a:lnTo>
                    <a:pt x="16" y="7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48200" y="17812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4"/>
                  </a:lnTo>
                  <a:lnTo>
                    <a:pt x="16" y="18"/>
                  </a:lnTo>
                  <a:lnTo>
                    <a:pt x="4" y="0"/>
                  </a:lnTo>
                  <a:lnTo>
                    <a:pt x="16" y="1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0840" y="167328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0"/>
                  </a:moveTo>
                  <a:lnTo>
                    <a:pt x="17" y="19"/>
                  </a:lnTo>
                  <a:lnTo>
                    <a:pt x="22" y="11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25" y="27"/>
                  </a:lnTo>
                  <a:lnTo>
                    <a:pt x="28" y="36"/>
                  </a:lnTo>
                  <a:lnTo>
                    <a:pt x="11" y="30"/>
                  </a:lnTo>
                  <a:lnTo>
                    <a:pt x="0" y="33"/>
                  </a:lnTo>
                  <a:lnTo>
                    <a:pt x="11" y="3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91040" y="1490760"/>
              <a:ext cx="84240" cy="10944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31" y="51"/>
                  </a:moveTo>
                  <a:lnTo>
                    <a:pt x="8" y="34"/>
                  </a:lnTo>
                  <a:lnTo>
                    <a:pt x="8" y="42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5" y="68"/>
                  </a:lnTo>
                  <a:lnTo>
                    <a:pt x="17" y="68"/>
                  </a:lnTo>
                  <a:lnTo>
                    <a:pt x="28" y="68"/>
                  </a:lnTo>
                  <a:lnTo>
                    <a:pt x="37" y="68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2" y="34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20" y="19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7" y="45"/>
                  </a:lnTo>
                  <a:lnTo>
                    <a:pt x="31" y="51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2170080"/>
              <a:ext cx="293760" cy="235080"/>
            </a:xfrm>
            <a:custGeom>
              <a:avLst/>
              <a:gdLst/>
              <a:ahLst/>
              <a:rect l="l" t="t" r="r" b="b"/>
              <a:pathLst>
                <a:path w="185" h="148">
                  <a:moveTo>
                    <a:pt x="0" y="101"/>
                  </a:moveTo>
                  <a:lnTo>
                    <a:pt x="11" y="84"/>
                  </a:lnTo>
                  <a:lnTo>
                    <a:pt x="11" y="93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5" y="138"/>
                  </a:lnTo>
                  <a:lnTo>
                    <a:pt x="14" y="135"/>
                  </a:lnTo>
                  <a:lnTo>
                    <a:pt x="20" y="127"/>
                  </a:lnTo>
                  <a:lnTo>
                    <a:pt x="28" y="118"/>
                  </a:lnTo>
                  <a:lnTo>
                    <a:pt x="31" y="110"/>
                  </a:lnTo>
                  <a:lnTo>
                    <a:pt x="40" y="104"/>
                  </a:lnTo>
                  <a:lnTo>
                    <a:pt x="48" y="101"/>
                  </a:lnTo>
                  <a:lnTo>
                    <a:pt x="57" y="98"/>
                  </a:lnTo>
                  <a:lnTo>
                    <a:pt x="66" y="90"/>
                  </a:lnTo>
                  <a:lnTo>
                    <a:pt x="69" y="81"/>
                  </a:lnTo>
                  <a:lnTo>
                    <a:pt x="77" y="79"/>
                  </a:lnTo>
                  <a:lnTo>
                    <a:pt x="80" y="87"/>
                  </a:lnTo>
                  <a:lnTo>
                    <a:pt x="80" y="96"/>
                  </a:lnTo>
                  <a:lnTo>
                    <a:pt x="80" y="104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71" y="130"/>
                  </a:lnTo>
                  <a:lnTo>
                    <a:pt x="74" y="138"/>
                  </a:lnTo>
                  <a:lnTo>
                    <a:pt x="83" y="141"/>
                  </a:lnTo>
                  <a:lnTo>
                    <a:pt x="94" y="141"/>
                  </a:lnTo>
                  <a:lnTo>
                    <a:pt x="103" y="138"/>
                  </a:lnTo>
                  <a:lnTo>
                    <a:pt x="109" y="130"/>
                  </a:lnTo>
                  <a:lnTo>
                    <a:pt x="109" y="121"/>
                  </a:lnTo>
                  <a:lnTo>
                    <a:pt x="100" y="113"/>
                  </a:lnTo>
                  <a:lnTo>
                    <a:pt x="106" y="101"/>
                  </a:lnTo>
                  <a:lnTo>
                    <a:pt x="100" y="90"/>
                  </a:lnTo>
                  <a:lnTo>
                    <a:pt x="97" y="81"/>
                  </a:lnTo>
                  <a:lnTo>
                    <a:pt x="97" y="73"/>
                  </a:lnTo>
                  <a:lnTo>
                    <a:pt x="97" y="65"/>
                  </a:lnTo>
                  <a:lnTo>
                    <a:pt x="103" y="56"/>
                  </a:lnTo>
                  <a:lnTo>
                    <a:pt x="112" y="56"/>
                  </a:lnTo>
                  <a:lnTo>
                    <a:pt x="120" y="53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52" y="56"/>
                  </a:lnTo>
                  <a:lnTo>
                    <a:pt x="166" y="56"/>
                  </a:lnTo>
                  <a:lnTo>
                    <a:pt x="175" y="56"/>
                  </a:lnTo>
                  <a:lnTo>
                    <a:pt x="184" y="56"/>
                  </a:lnTo>
                  <a:lnTo>
                    <a:pt x="184" y="48"/>
                  </a:lnTo>
                  <a:lnTo>
                    <a:pt x="184" y="39"/>
                  </a:lnTo>
                  <a:lnTo>
                    <a:pt x="181" y="31"/>
                  </a:lnTo>
                  <a:lnTo>
                    <a:pt x="178" y="22"/>
                  </a:lnTo>
                  <a:lnTo>
                    <a:pt x="166" y="16"/>
                  </a:lnTo>
                  <a:lnTo>
                    <a:pt x="158" y="16"/>
                  </a:lnTo>
                  <a:lnTo>
                    <a:pt x="146" y="16"/>
                  </a:lnTo>
                  <a:lnTo>
                    <a:pt x="138" y="19"/>
                  </a:lnTo>
                  <a:lnTo>
                    <a:pt x="140" y="11"/>
                  </a:lnTo>
                  <a:lnTo>
                    <a:pt x="140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12" y="11"/>
                  </a:lnTo>
                  <a:lnTo>
                    <a:pt x="103" y="16"/>
                  </a:lnTo>
                  <a:lnTo>
                    <a:pt x="97" y="25"/>
                  </a:lnTo>
                  <a:lnTo>
                    <a:pt x="94" y="16"/>
                  </a:lnTo>
                  <a:lnTo>
                    <a:pt x="86" y="14"/>
                  </a:lnTo>
                  <a:lnTo>
                    <a:pt x="77" y="19"/>
                  </a:lnTo>
                  <a:lnTo>
                    <a:pt x="69" y="25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63" y="2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7" y="25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23" y="48"/>
                  </a:lnTo>
                  <a:lnTo>
                    <a:pt x="31" y="48"/>
                  </a:lnTo>
                  <a:lnTo>
                    <a:pt x="40" y="42"/>
                  </a:lnTo>
                  <a:lnTo>
                    <a:pt x="51" y="45"/>
                  </a:lnTo>
                  <a:lnTo>
                    <a:pt x="57" y="53"/>
                  </a:lnTo>
                  <a:lnTo>
                    <a:pt x="60" y="62"/>
                  </a:lnTo>
                  <a:lnTo>
                    <a:pt x="51" y="65"/>
                  </a:lnTo>
                  <a:lnTo>
                    <a:pt x="40" y="65"/>
                  </a:lnTo>
                  <a:lnTo>
                    <a:pt x="28" y="59"/>
                  </a:lnTo>
                  <a:lnTo>
                    <a:pt x="17" y="59"/>
                  </a:lnTo>
                  <a:lnTo>
                    <a:pt x="8" y="65"/>
                  </a:lnTo>
                  <a:lnTo>
                    <a:pt x="8" y="76"/>
                  </a:lnTo>
                  <a:lnTo>
                    <a:pt x="11" y="87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6"/>
                  </a:lnTo>
                  <a:lnTo>
                    <a:pt x="0" y="101"/>
                  </a:lnTo>
                  <a:lnTo>
                    <a:pt x="5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0" y="1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95760" y="2171880"/>
              <a:ext cx="220680" cy="18072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31" y="53"/>
                  </a:moveTo>
                  <a:lnTo>
                    <a:pt x="25" y="64"/>
                  </a:lnTo>
                  <a:lnTo>
                    <a:pt x="31" y="53"/>
                  </a:lnTo>
                  <a:lnTo>
                    <a:pt x="43" y="56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7" y="79"/>
                  </a:lnTo>
                  <a:lnTo>
                    <a:pt x="23" y="90"/>
                  </a:lnTo>
                  <a:lnTo>
                    <a:pt x="25" y="98"/>
                  </a:lnTo>
                  <a:lnTo>
                    <a:pt x="31" y="107"/>
                  </a:lnTo>
                  <a:lnTo>
                    <a:pt x="34" y="98"/>
                  </a:lnTo>
                  <a:lnTo>
                    <a:pt x="34" y="90"/>
                  </a:lnTo>
                  <a:lnTo>
                    <a:pt x="43" y="90"/>
                  </a:lnTo>
                  <a:lnTo>
                    <a:pt x="54" y="93"/>
                  </a:lnTo>
                  <a:lnTo>
                    <a:pt x="63" y="96"/>
                  </a:lnTo>
                  <a:lnTo>
                    <a:pt x="71" y="96"/>
                  </a:lnTo>
                  <a:lnTo>
                    <a:pt x="80" y="87"/>
                  </a:lnTo>
                  <a:lnTo>
                    <a:pt x="89" y="87"/>
                  </a:lnTo>
                  <a:lnTo>
                    <a:pt x="97" y="93"/>
                  </a:lnTo>
                  <a:lnTo>
                    <a:pt x="103" y="107"/>
                  </a:lnTo>
                  <a:lnTo>
                    <a:pt x="112" y="110"/>
                  </a:lnTo>
                  <a:lnTo>
                    <a:pt x="120" y="113"/>
                  </a:lnTo>
                  <a:lnTo>
                    <a:pt x="126" y="104"/>
                  </a:lnTo>
                  <a:lnTo>
                    <a:pt x="123" y="96"/>
                  </a:lnTo>
                  <a:lnTo>
                    <a:pt x="115" y="90"/>
                  </a:lnTo>
                  <a:lnTo>
                    <a:pt x="106" y="87"/>
                  </a:lnTo>
                  <a:lnTo>
                    <a:pt x="94" y="81"/>
                  </a:lnTo>
                  <a:lnTo>
                    <a:pt x="92" y="73"/>
                  </a:lnTo>
                  <a:lnTo>
                    <a:pt x="103" y="70"/>
                  </a:lnTo>
                  <a:lnTo>
                    <a:pt x="112" y="70"/>
                  </a:lnTo>
                  <a:lnTo>
                    <a:pt x="115" y="62"/>
                  </a:lnTo>
                  <a:lnTo>
                    <a:pt x="120" y="53"/>
                  </a:lnTo>
                  <a:lnTo>
                    <a:pt x="129" y="48"/>
                  </a:lnTo>
                  <a:lnTo>
                    <a:pt x="138" y="39"/>
                  </a:lnTo>
                  <a:lnTo>
                    <a:pt x="129" y="33"/>
                  </a:lnTo>
                  <a:lnTo>
                    <a:pt x="120" y="31"/>
                  </a:lnTo>
                  <a:lnTo>
                    <a:pt x="112" y="33"/>
                  </a:lnTo>
                  <a:lnTo>
                    <a:pt x="106" y="42"/>
                  </a:lnTo>
                  <a:lnTo>
                    <a:pt x="97" y="45"/>
                  </a:lnTo>
                  <a:lnTo>
                    <a:pt x="97" y="36"/>
                  </a:lnTo>
                  <a:lnTo>
                    <a:pt x="100" y="25"/>
                  </a:lnTo>
                  <a:lnTo>
                    <a:pt x="100" y="16"/>
                  </a:lnTo>
                  <a:lnTo>
                    <a:pt x="103" y="8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0" y="8"/>
                  </a:lnTo>
                  <a:lnTo>
                    <a:pt x="77" y="16"/>
                  </a:lnTo>
                  <a:lnTo>
                    <a:pt x="74" y="25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1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3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23" y="64"/>
                  </a:lnTo>
                  <a:lnTo>
                    <a:pt x="31" y="64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77" y="53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05520" y="2079720"/>
              <a:ext cx="298440" cy="156960"/>
            </a:xfrm>
            <a:custGeom>
              <a:avLst/>
              <a:gdLst/>
              <a:ahLst/>
              <a:rect l="l" t="t" r="r" b="b"/>
              <a:pathLst>
                <a:path w="188" h="99">
                  <a:moveTo>
                    <a:pt x="0" y="17"/>
                  </a:moveTo>
                  <a:lnTo>
                    <a:pt x="25" y="25"/>
                  </a:lnTo>
                  <a:lnTo>
                    <a:pt x="37" y="25"/>
                  </a:lnTo>
                  <a:lnTo>
                    <a:pt x="43" y="34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63" y="69"/>
                  </a:lnTo>
                  <a:lnTo>
                    <a:pt x="63" y="80"/>
                  </a:lnTo>
                  <a:lnTo>
                    <a:pt x="71" y="83"/>
                  </a:lnTo>
                  <a:lnTo>
                    <a:pt x="80" y="77"/>
                  </a:lnTo>
                  <a:lnTo>
                    <a:pt x="89" y="77"/>
                  </a:lnTo>
                  <a:lnTo>
                    <a:pt x="97" y="77"/>
                  </a:lnTo>
                  <a:lnTo>
                    <a:pt x="106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5" y="74"/>
                  </a:lnTo>
                  <a:lnTo>
                    <a:pt x="143" y="77"/>
                  </a:lnTo>
                  <a:lnTo>
                    <a:pt x="152" y="86"/>
                  </a:lnTo>
                  <a:lnTo>
                    <a:pt x="163" y="98"/>
                  </a:lnTo>
                  <a:lnTo>
                    <a:pt x="169" y="89"/>
                  </a:lnTo>
                  <a:lnTo>
                    <a:pt x="175" y="80"/>
                  </a:lnTo>
                  <a:lnTo>
                    <a:pt x="181" y="72"/>
                  </a:lnTo>
                  <a:lnTo>
                    <a:pt x="187" y="60"/>
                  </a:lnTo>
                  <a:lnTo>
                    <a:pt x="187" y="51"/>
                  </a:lnTo>
                  <a:lnTo>
                    <a:pt x="187" y="43"/>
                  </a:lnTo>
                  <a:lnTo>
                    <a:pt x="181" y="34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5" y="34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9" y="40"/>
                  </a:lnTo>
                  <a:lnTo>
                    <a:pt x="129" y="49"/>
                  </a:lnTo>
                  <a:lnTo>
                    <a:pt x="129" y="57"/>
                  </a:lnTo>
                  <a:lnTo>
                    <a:pt x="120" y="51"/>
                  </a:lnTo>
                  <a:lnTo>
                    <a:pt x="109" y="43"/>
                  </a:lnTo>
                  <a:lnTo>
                    <a:pt x="100" y="34"/>
                  </a:lnTo>
                  <a:lnTo>
                    <a:pt x="86" y="25"/>
                  </a:lnTo>
                  <a:lnTo>
                    <a:pt x="83" y="37"/>
                  </a:lnTo>
                  <a:lnTo>
                    <a:pt x="74" y="40"/>
                  </a:lnTo>
                  <a:lnTo>
                    <a:pt x="74" y="31"/>
                  </a:lnTo>
                  <a:lnTo>
                    <a:pt x="69" y="23"/>
                  </a:lnTo>
                  <a:lnTo>
                    <a:pt x="60" y="17"/>
                  </a:lnTo>
                  <a:lnTo>
                    <a:pt x="51" y="8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8" y="8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0" y="1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74960" y="2954160"/>
              <a:ext cx="680760" cy="700200"/>
            </a:xfrm>
            <a:custGeom>
              <a:avLst/>
              <a:gdLst/>
              <a:ahLst/>
              <a:rect l="l" t="t" r="r" b="b"/>
              <a:pathLst>
                <a:path w="429" h="441">
                  <a:moveTo>
                    <a:pt x="22" y="309"/>
                  </a:moveTo>
                  <a:lnTo>
                    <a:pt x="34" y="315"/>
                  </a:lnTo>
                  <a:lnTo>
                    <a:pt x="43" y="318"/>
                  </a:lnTo>
                  <a:lnTo>
                    <a:pt x="51" y="321"/>
                  </a:lnTo>
                  <a:lnTo>
                    <a:pt x="54" y="333"/>
                  </a:lnTo>
                  <a:lnTo>
                    <a:pt x="63" y="342"/>
                  </a:lnTo>
                  <a:lnTo>
                    <a:pt x="71" y="348"/>
                  </a:lnTo>
                  <a:lnTo>
                    <a:pt x="80" y="348"/>
                  </a:lnTo>
                  <a:lnTo>
                    <a:pt x="91" y="355"/>
                  </a:lnTo>
                  <a:lnTo>
                    <a:pt x="100" y="361"/>
                  </a:lnTo>
                  <a:lnTo>
                    <a:pt x="109" y="364"/>
                  </a:lnTo>
                  <a:lnTo>
                    <a:pt x="112" y="373"/>
                  </a:lnTo>
                  <a:lnTo>
                    <a:pt x="117" y="382"/>
                  </a:lnTo>
                  <a:lnTo>
                    <a:pt x="123" y="391"/>
                  </a:lnTo>
                  <a:lnTo>
                    <a:pt x="132" y="397"/>
                  </a:lnTo>
                  <a:lnTo>
                    <a:pt x="146" y="406"/>
                  </a:lnTo>
                  <a:lnTo>
                    <a:pt x="155" y="412"/>
                  </a:lnTo>
                  <a:lnTo>
                    <a:pt x="163" y="418"/>
                  </a:lnTo>
                  <a:lnTo>
                    <a:pt x="172" y="421"/>
                  </a:lnTo>
                  <a:lnTo>
                    <a:pt x="180" y="430"/>
                  </a:lnTo>
                  <a:lnTo>
                    <a:pt x="189" y="436"/>
                  </a:lnTo>
                  <a:lnTo>
                    <a:pt x="198" y="440"/>
                  </a:lnTo>
                  <a:lnTo>
                    <a:pt x="203" y="430"/>
                  </a:lnTo>
                  <a:lnTo>
                    <a:pt x="203" y="421"/>
                  </a:lnTo>
                  <a:lnTo>
                    <a:pt x="203" y="412"/>
                  </a:lnTo>
                  <a:lnTo>
                    <a:pt x="215" y="406"/>
                  </a:lnTo>
                  <a:lnTo>
                    <a:pt x="224" y="406"/>
                  </a:lnTo>
                  <a:lnTo>
                    <a:pt x="232" y="406"/>
                  </a:lnTo>
                  <a:lnTo>
                    <a:pt x="241" y="406"/>
                  </a:lnTo>
                  <a:lnTo>
                    <a:pt x="249" y="406"/>
                  </a:lnTo>
                  <a:lnTo>
                    <a:pt x="258" y="406"/>
                  </a:lnTo>
                  <a:lnTo>
                    <a:pt x="261" y="397"/>
                  </a:lnTo>
                  <a:lnTo>
                    <a:pt x="261" y="388"/>
                  </a:lnTo>
                  <a:lnTo>
                    <a:pt x="261" y="379"/>
                  </a:lnTo>
                  <a:lnTo>
                    <a:pt x="261" y="367"/>
                  </a:lnTo>
                  <a:lnTo>
                    <a:pt x="261" y="355"/>
                  </a:lnTo>
                  <a:lnTo>
                    <a:pt x="252" y="348"/>
                  </a:lnTo>
                  <a:lnTo>
                    <a:pt x="244" y="348"/>
                  </a:lnTo>
                  <a:lnTo>
                    <a:pt x="235" y="342"/>
                  </a:lnTo>
                  <a:lnTo>
                    <a:pt x="229" y="333"/>
                  </a:lnTo>
                  <a:lnTo>
                    <a:pt x="229" y="324"/>
                  </a:lnTo>
                  <a:lnTo>
                    <a:pt x="238" y="321"/>
                  </a:lnTo>
                  <a:lnTo>
                    <a:pt x="247" y="315"/>
                  </a:lnTo>
                  <a:lnTo>
                    <a:pt x="255" y="312"/>
                  </a:lnTo>
                  <a:lnTo>
                    <a:pt x="261" y="303"/>
                  </a:lnTo>
                  <a:lnTo>
                    <a:pt x="261" y="294"/>
                  </a:lnTo>
                  <a:lnTo>
                    <a:pt x="264" y="285"/>
                  </a:lnTo>
                  <a:lnTo>
                    <a:pt x="264" y="276"/>
                  </a:lnTo>
                  <a:lnTo>
                    <a:pt x="267" y="267"/>
                  </a:lnTo>
                  <a:lnTo>
                    <a:pt x="272" y="257"/>
                  </a:lnTo>
                  <a:lnTo>
                    <a:pt x="278" y="248"/>
                  </a:lnTo>
                  <a:lnTo>
                    <a:pt x="284" y="239"/>
                  </a:lnTo>
                  <a:lnTo>
                    <a:pt x="284" y="230"/>
                  </a:lnTo>
                  <a:lnTo>
                    <a:pt x="284" y="221"/>
                  </a:lnTo>
                  <a:lnTo>
                    <a:pt x="284" y="209"/>
                  </a:lnTo>
                  <a:lnTo>
                    <a:pt x="292" y="200"/>
                  </a:lnTo>
                  <a:lnTo>
                    <a:pt x="295" y="191"/>
                  </a:lnTo>
                  <a:lnTo>
                    <a:pt x="298" y="182"/>
                  </a:lnTo>
                  <a:lnTo>
                    <a:pt x="301" y="172"/>
                  </a:lnTo>
                  <a:lnTo>
                    <a:pt x="292" y="163"/>
                  </a:lnTo>
                  <a:lnTo>
                    <a:pt x="284" y="154"/>
                  </a:lnTo>
                  <a:lnTo>
                    <a:pt x="278" y="145"/>
                  </a:lnTo>
                  <a:lnTo>
                    <a:pt x="287" y="142"/>
                  </a:lnTo>
                  <a:lnTo>
                    <a:pt x="295" y="142"/>
                  </a:lnTo>
                  <a:lnTo>
                    <a:pt x="304" y="148"/>
                  </a:lnTo>
                  <a:lnTo>
                    <a:pt x="313" y="157"/>
                  </a:lnTo>
                  <a:lnTo>
                    <a:pt x="321" y="163"/>
                  </a:lnTo>
                  <a:lnTo>
                    <a:pt x="327" y="154"/>
                  </a:lnTo>
                  <a:lnTo>
                    <a:pt x="336" y="148"/>
                  </a:lnTo>
                  <a:lnTo>
                    <a:pt x="344" y="148"/>
                  </a:lnTo>
                  <a:lnTo>
                    <a:pt x="353" y="145"/>
                  </a:lnTo>
                  <a:lnTo>
                    <a:pt x="361" y="142"/>
                  </a:lnTo>
                  <a:lnTo>
                    <a:pt x="361" y="133"/>
                  </a:lnTo>
                  <a:lnTo>
                    <a:pt x="361" y="124"/>
                  </a:lnTo>
                  <a:lnTo>
                    <a:pt x="361" y="115"/>
                  </a:lnTo>
                  <a:lnTo>
                    <a:pt x="359" y="106"/>
                  </a:lnTo>
                  <a:lnTo>
                    <a:pt x="353" y="97"/>
                  </a:lnTo>
                  <a:lnTo>
                    <a:pt x="344" y="88"/>
                  </a:lnTo>
                  <a:lnTo>
                    <a:pt x="333" y="81"/>
                  </a:lnTo>
                  <a:lnTo>
                    <a:pt x="341" y="75"/>
                  </a:lnTo>
                  <a:lnTo>
                    <a:pt x="353" y="75"/>
                  </a:lnTo>
                  <a:lnTo>
                    <a:pt x="361" y="75"/>
                  </a:lnTo>
                  <a:lnTo>
                    <a:pt x="370" y="75"/>
                  </a:lnTo>
                  <a:lnTo>
                    <a:pt x="379" y="72"/>
                  </a:lnTo>
                  <a:lnTo>
                    <a:pt x="387" y="69"/>
                  </a:lnTo>
                  <a:lnTo>
                    <a:pt x="396" y="69"/>
                  </a:lnTo>
                  <a:lnTo>
                    <a:pt x="405" y="72"/>
                  </a:lnTo>
                  <a:lnTo>
                    <a:pt x="419" y="75"/>
                  </a:lnTo>
                  <a:lnTo>
                    <a:pt x="428" y="75"/>
                  </a:lnTo>
                  <a:lnTo>
                    <a:pt x="425" y="66"/>
                  </a:lnTo>
                  <a:lnTo>
                    <a:pt x="422" y="57"/>
                  </a:lnTo>
                  <a:lnTo>
                    <a:pt x="419" y="48"/>
                  </a:lnTo>
                  <a:lnTo>
                    <a:pt x="410" y="48"/>
                  </a:lnTo>
                  <a:lnTo>
                    <a:pt x="402" y="48"/>
                  </a:lnTo>
                  <a:lnTo>
                    <a:pt x="390" y="48"/>
                  </a:lnTo>
                  <a:lnTo>
                    <a:pt x="382" y="48"/>
                  </a:lnTo>
                  <a:lnTo>
                    <a:pt x="379" y="57"/>
                  </a:lnTo>
                  <a:lnTo>
                    <a:pt x="370" y="54"/>
                  </a:lnTo>
                  <a:lnTo>
                    <a:pt x="361" y="45"/>
                  </a:lnTo>
                  <a:lnTo>
                    <a:pt x="353" y="39"/>
                  </a:lnTo>
                  <a:lnTo>
                    <a:pt x="341" y="39"/>
                  </a:lnTo>
                  <a:lnTo>
                    <a:pt x="333" y="39"/>
                  </a:lnTo>
                  <a:lnTo>
                    <a:pt x="318" y="39"/>
                  </a:lnTo>
                  <a:lnTo>
                    <a:pt x="310" y="39"/>
                  </a:lnTo>
                  <a:lnTo>
                    <a:pt x="298" y="42"/>
                  </a:lnTo>
                  <a:lnTo>
                    <a:pt x="290" y="42"/>
                  </a:lnTo>
                  <a:lnTo>
                    <a:pt x="290" y="33"/>
                  </a:lnTo>
                  <a:lnTo>
                    <a:pt x="298" y="30"/>
                  </a:lnTo>
                  <a:lnTo>
                    <a:pt x="307" y="30"/>
                  </a:lnTo>
                  <a:lnTo>
                    <a:pt x="315" y="27"/>
                  </a:lnTo>
                  <a:lnTo>
                    <a:pt x="324" y="24"/>
                  </a:lnTo>
                  <a:lnTo>
                    <a:pt x="327" y="15"/>
                  </a:lnTo>
                  <a:lnTo>
                    <a:pt x="327" y="6"/>
                  </a:lnTo>
                  <a:lnTo>
                    <a:pt x="318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3"/>
                  </a:lnTo>
                  <a:lnTo>
                    <a:pt x="275" y="12"/>
                  </a:lnTo>
                  <a:lnTo>
                    <a:pt x="267" y="18"/>
                  </a:lnTo>
                  <a:lnTo>
                    <a:pt x="258" y="21"/>
                  </a:lnTo>
                  <a:lnTo>
                    <a:pt x="255" y="30"/>
                  </a:lnTo>
                  <a:lnTo>
                    <a:pt x="264" y="36"/>
                  </a:lnTo>
                  <a:lnTo>
                    <a:pt x="272" y="36"/>
                  </a:lnTo>
                  <a:lnTo>
                    <a:pt x="278" y="45"/>
                  </a:lnTo>
                  <a:lnTo>
                    <a:pt x="270" y="54"/>
                  </a:lnTo>
                  <a:lnTo>
                    <a:pt x="267" y="63"/>
                  </a:lnTo>
                  <a:lnTo>
                    <a:pt x="281" y="75"/>
                  </a:lnTo>
                  <a:lnTo>
                    <a:pt x="290" y="78"/>
                  </a:lnTo>
                  <a:lnTo>
                    <a:pt x="281" y="75"/>
                  </a:lnTo>
                  <a:lnTo>
                    <a:pt x="270" y="66"/>
                  </a:lnTo>
                  <a:lnTo>
                    <a:pt x="261" y="60"/>
                  </a:lnTo>
                  <a:lnTo>
                    <a:pt x="252" y="51"/>
                  </a:lnTo>
                  <a:lnTo>
                    <a:pt x="244" y="51"/>
                  </a:lnTo>
                  <a:lnTo>
                    <a:pt x="241" y="60"/>
                  </a:lnTo>
                  <a:lnTo>
                    <a:pt x="241" y="69"/>
                  </a:lnTo>
                  <a:lnTo>
                    <a:pt x="255" y="78"/>
                  </a:lnTo>
                  <a:lnTo>
                    <a:pt x="264" y="81"/>
                  </a:lnTo>
                  <a:lnTo>
                    <a:pt x="255" y="88"/>
                  </a:lnTo>
                  <a:lnTo>
                    <a:pt x="244" y="88"/>
                  </a:lnTo>
                  <a:lnTo>
                    <a:pt x="235" y="88"/>
                  </a:lnTo>
                  <a:lnTo>
                    <a:pt x="235" y="103"/>
                  </a:lnTo>
                  <a:lnTo>
                    <a:pt x="244" y="106"/>
                  </a:lnTo>
                  <a:lnTo>
                    <a:pt x="252" y="109"/>
                  </a:lnTo>
                  <a:lnTo>
                    <a:pt x="244" y="115"/>
                  </a:lnTo>
                  <a:lnTo>
                    <a:pt x="235" y="112"/>
                  </a:lnTo>
                  <a:lnTo>
                    <a:pt x="226" y="109"/>
                  </a:lnTo>
                  <a:lnTo>
                    <a:pt x="218" y="106"/>
                  </a:lnTo>
                  <a:lnTo>
                    <a:pt x="212" y="115"/>
                  </a:lnTo>
                  <a:lnTo>
                    <a:pt x="218" y="124"/>
                  </a:lnTo>
                  <a:lnTo>
                    <a:pt x="229" y="127"/>
                  </a:lnTo>
                  <a:lnTo>
                    <a:pt x="238" y="130"/>
                  </a:lnTo>
                  <a:lnTo>
                    <a:pt x="229" y="124"/>
                  </a:lnTo>
                  <a:lnTo>
                    <a:pt x="221" y="121"/>
                  </a:lnTo>
                  <a:lnTo>
                    <a:pt x="209" y="115"/>
                  </a:lnTo>
                  <a:lnTo>
                    <a:pt x="198" y="106"/>
                  </a:lnTo>
                  <a:lnTo>
                    <a:pt x="192" y="97"/>
                  </a:lnTo>
                  <a:lnTo>
                    <a:pt x="183" y="91"/>
                  </a:lnTo>
                  <a:lnTo>
                    <a:pt x="180" y="81"/>
                  </a:lnTo>
                  <a:lnTo>
                    <a:pt x="178" y="72"/>
                  </a:lnTo>
                  <a:lnTo>
                    <a:pt x="169" y="60"/>
                  </a:lnTo>
                  <a:lnTo>
                    <a:pt x="160" y="60"/>
                  </a:lnTo>
                  <a:lnTo>
                    <a:pt x="152" y="66"/>
                  </a:lnTo>
                  <a:lnTo>
                    <a:pt x="149" y="75"/>
                  </a:lnTo>
                  <a:lnTo>
                    <a:pt x="146" y="84"/>
                  </a:lnTo>
                  <a:lnTo>
                    <a:pt x="143" y="94"/>
                  </a:lnTo>
                  <a:lnTo>
                    <a:pt x="140" y="103"/>
                  </a:lnTo>
                  <a:lnTo>
                    <a:pt x="129" y="103"/>
                  </a:lnTo>
                  <a:lnTo>
                    <a:pt x="117" y="94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0" y="60"/>
                  </a:lnTo>
                  <a:lnTo>
                    <a:pt x="89" y="60"/>
                  </a:lnTo>
                  <a:lnTo>
                    <a:pt x="80" y="66"/>
                  </a:lnTo>
                  <a:lnTo>
                    <a:pt x="77" y="75"/>
                  </a:lnTo>
                  <a:lnTo>
                    <a:pt x="71" y="84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51" y="127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0" y="127"/>
                  </a:lnTo>
                  <a:lnTo>
                    <a:pt x="51" y="121"/>
                  </a:lnTo>
                  <a:lnTo>
                    <a:pt x="43" y="118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4" y="115"/>
                  </a:lnTo>
                  <a:lnTo>
                    <a:pt x="11" y="124"/>
                  </a:lnTo>
                  <a:lnTo>
                    <a:pt x="8" y="133"/>
                  </a:lnTo>
                  <a:lnTo>
                    <a:pt x="2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4" y="169"/>
                  </a:lnTo>
                  <a:lnTo>
                    <a:pt x="22" y="172"/>
                  </a:lnTo>
                  <a:lnTo>
                    <a:pt x="31" y="172"/>
                  </a:lnTo>
                  <a:lnTo>
                    <a:pt x="40" y="176"/>
                  </a:lnTo>
                  <a:lnTo>
                    <a:pt x="51" y="185"/>
                  </a:lnTo>
                  <a:lnTo>
                    <a:pt x="60" y="191"/>
                  </a:lnTo>
                  <a:lnTo>
                    <a:pt x="68" y="197"/>
                  </a:lnTo>
                  <a:lnTo>
                    <a:pt x="80" y="200"/>
                  </a:lnTo>
                  <a:lnTo>
                    <a:pt x="89" y="203"/>
                  </a:lnTo>
                  <a:lnTo>
                    <a:pt x="100" y="203"/>
                  </a:lnTo>
                  <a:lnTo>
                    <a:pt x="109" y="203"/>
                  </a:lnTo>
                  <a:lnTo>
                    <a:pt x="120" y="197"/>
                  </a:lnTo>
                  <a:lnTo>
                    <a:pt x="129" y="194"/>
                  </a:lnTo>
                  <a:lnTo>
                    <a:pt x="135" y="185"/>
                  </a:lnTo>
                  <a:lnTo>
                    <a:pt x="143" y="179"/>
                  </a:lnTo>
                  <a:lnTo>
                    <a:pt x="149" y="169"/>
                  </a:lnTo>
                  <a:lnTo>
                    <a:pt x="157" y="163"/>
                  </a:lnTo>
                  <a:lnTo>
                    <a:pt x="166" y="163"/>
                  </a:lnTo>
                  <a:lnTo>
                    <a:pt x="175" y="166"/>
                  </a:lnTo>
                  <a:lnTo>
                    <a:pt x="183" y="166"/>
                  </a:lnTo>
                  <a:lnTo>
                    <a:pt x="192" y="157"/>
                  </a:lnTo>
                  <a:lnTo>
                    <a:pt x="198" y="148"/>
                  </a:lnTo>
                  <a:lnTo>
                    <a:pt x="201" y="139"/>
                  </a:lnTo>
                  <a:lnTo>
                    <a:pt x="203" y="130"/>
                  </a:lnTo>
                  <a:lnTo>
                    <a:pt x="212" y="130"/>
                  </a:lnTo>
                  <a:lnTo>
                    <a:pt x="224" y="136"/>
                  </a:lnTo>
                  <a:lnTo>
                    <a:pt x="232" y="139"/>
                  </a:lnTo>
                  <a:lnTo>
                    <a:pt x="241" y="142"/>
                  </a:lnTo>
                  <a:lnTo>
                    <a:pt x="232" y="142"/>
                  </a:lnTo>
                  <a:lnTo>
                    <a:pt x="224" y="142"/>
                  </a:lnTo>
                  <a:lnTo>
                    <a:pt x="215" y="142"/>
                  </a:lnTo>
                  <a:lnTo>
                    <a:pt x="206" y="142"/>
                  </a:lnTo>
                  <a:lnTo>
                    <a:pt x="203" y="151"/>
                  </a:lnTo>
                  <a:lnTo>
                    <a:pt x="201" y="160"/>
                  </a:lnTo>
                  <a:lnTo>
                    <a:pt x="201" y="169"/>
                  </a:lnTo>
                  <a:lnTo>
                    <a:pt x="209" y="176"/>
                  </a:lnTo>
                  <a:lnTo>
                    <a:pt x="218" y="179"/>
                  </a:lnTo>
                  <a:lnTo>
                    <a:pt x="226" y="188"/>
                  </a:lnTo>
                  <a:lnTo>
                    <a:pt x="235" y="194"/>
                  </a:lnTo>
                  <a:lnTo>
                    <a:pt x="238" y="203"/>
                  </a:lnTo>
                  <a:lnTo>
                    <a:pt x="226" y="206"/>
                  </a:lnTo>
                  <a:lnTo>
                    <a:pt x="224" y="215"/>
                  </a:lnTo>
                  <a:lnTo>
                    <a:pt x="224" y="224"/>
                  </a:lnTo>
                  <a:lnTo>
                    <a:pt x="221" y="233"/>
                  </a:lnTo>
                  <a:lnTo>
                    <a:pt x="209" y="233"/>
                  </a:lnTo>
                  <a:lnTo>
                    <a:pt x="203" y="245"/>
                  </a:lnTo>
                  <a:lnTo>
                    <a:pt x="198" y="257"/>
                  </a:lnTo>
                  <a:lnTo>
                    <a:pt x="195" y="267"/>
                  </a:lnTo>
                  <a:lnTo>
                    <a:pt x="186" y="267"/>
                  </a:lnTo>
                  <a:lnTo>
                    <a:pt x="183" y="257"/>
                  </a:lnTo>
                  <a:lnTo>
                    <a:pt x="178" y="245"/>
                  </a:lnTo>
                  <a:lnTo>
                    <a:pt x="175" y="233"/>
                  </a:lnTo>
                  <a:lnTo>
                    <a:pt x="166" y="224"/>
                  </a:lnTo>
                  <a:lnTo>
                    <a:pt x="157" y="221"/>
                  </a:lnTo>
                  <a:lnTo>
                    <a:pt x="149" y="218"/>
                  </a:lnTo>
                  <a:lnTo>
                    <a:pt x="137" y="224"/>
                  </a:lnTo>
                  <a:lnTo>
                    <a:pt x="140" y="236"/>
                  </a:lnTo>
                  <a:lnTo>
                    <a:pt x="143" y="245"/>
                  </a:lnTo>
                  <a:lnTo>
                    <a:pt x="143" y="254"/>
                  </a:lnTo>
                  <a:lnTo>
                    <a:pt x="135" y="260"/>
                  </a:lnTo>
                  <a:lnTo>
                    <a:pt x="126" y="260"/>
                  </a:lnTo>
                  <a:lnTo>
                    <a:pt x="114" y="257"/>
                  </a:lnTo>
                  <a:lnTo>
                    <a:pt x="106" y="257"/>
                  </a:lnTo>
                  <a:lnTo>
                    <a:pt x="97" y="257"/>
                  </a:lnTo>
                  <a:lnTo>
                    <a:pt x="89" y="257"/>
                  </a:lnTo>
                  <a:lnTo>
                    <a:pt x="91" y="267"/>
                  </a:lnTo>
                  <a:lnTo>
                    <a:pt x="100" y="276"/>
                  </a:lnTo>
                  <a:lnTo>
                    <a:pt x="100" y="285"/>
                  </a:lnTo>
                  <a:lnTo>
                    <a:pt x="97" y="294"/>
                  </a:lnTo>
                  <a:lnTo>
                    <a:pt x="97" y="303"/>
                  </a:lnTo>
                  <a:lnTo>
                    <a:pt x="109" y="312"/>
                  </a:lnTo>
                  <a:lnTo>
                    <a:pt x="117" y="318"/>
                  </a:lnTo>
                  <a:lnTo>
                    <a:pt x="109" y="318"/>
                  </a:lnTo>
                  <a:lnTo>
                    <a:pt x="100" y="309"/>
                  </a:lnTo>
                  <a:lnTo>
                    <a:pt x="89" y="300"/>
                  </a:lnTo>
                  <a:lnTo>
                    <a:pt x="80" y="297"/>
                  </a:lnTo>
                  <a:lnTo>
                    <a:pt x="71" y="297"/>
                  </a:lnTo>
                  <a:lnTo>
                    <a:pt x="63" y="300"/>
                  </a:lnTo>
                  <a:lnTo>
                    <a:pt x="54" y="306"/>
                  </a:lnTo>
                  <a:lnTo>
                    <a:pt x="43" y="306"/>
                  </a:lnTo>
                  <a:lnTo>
                    <a:pt x="34" y="306"/>
                  </a:lnTo>
                  <a:lnTo>
                    <a:pt x="22" y="309"/>
                  </a:lnTo>
                  <a:lnTo>
                    <a:pt x="11" y="303"/>
                  </a:lnTo>
                  <a:lnTo>
                    <a:pt x="22" y="309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43200" y="27082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2"/>
                  </a:moveTo>
                  <a:lnTo>
                    <a:pt x="8" y="19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34" y="22"/>
                  </a:lnTo>
                  <a:lnTo>
                    <a:pt x="40" y="13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76680" y="294012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5" y="0"/>
                  </a:moveTo>
                  <a:lnTo>
                    <a:pt x="20" y="13"/>
                  </a:lnTo>
                  <a:lnTo>
                    <a:pt x="11" y="16"/>
                  </a:lnTo>
                  <a:lnTo>
                    <a:pt x="8" y="24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4" y="30"/>
                  </a:lnTo>
                  <a:lnTo>
                    <a:pt x="40" y="21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25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10160" y="2549520"/>
              <a:ext cx="339840" cy="509760"/>
            </a:xfrm>
            <a:custGeom>
              <a:avLst/>
              <a:gdLst/>
              <a:ahLst/>
              <a:rect l="l" t="t" r="r" b="b"/>
              <a:pathLst>
                <a:path w="214" h="321">
                  <a:moveTo>
                    <a:pt x="23" y="200"/>
                  </a:moveTo>
                  <a:lnTo>
                    <a:pt x="34" y="182"/>
                  </a:lnTo>
                  <a:lnTo>
                    <a:pt x="23" y="200"/>
                  </a:lnTo>
                  <a:lnTo>
                    <a:pt x="23" y="211"/>
                  </a:lnTo>
                  <a:lnTo>
                    <a:pt x="20" y="220"/>
                  </a:lnTo>
                  <a:lnTo>
                    <a:pt x="17" y="228"/>
                  </a:lnTo>
                  <a:lnTo>
                    <a:pt x="8" y="234"/>
                  </a:lnTo>
                  <a:lnTo>
                    <a:pt x="2" y="24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8" y="268"/>
                  </a:lnTo>
                  <a:lnTo>
                    <a:pt x="17" y="268"/>
                  </a:lnTo>
                  <a:lnTo>
                    <a:pt x="25" y="271"/>
                  </a:lnTo>
                  <a:lnTo>
                    <a:pt x="28" y="280"/>
                  </a:lnTo>
                  <a:lnTo>
                    <a:pt x="37" y="291"/>
                  </a:lnTo>
                  <a:lnTo>
                    <a:pt x="28" y="294"/>
                  </a:lnTo>
                  <a:lnTo>
                    <a:pt x="20" y="285"/>
                  </a:lnTo>
                  <a:lnTo>
                    <a:pt x="31" y="294"/>
                  </a:lnTo>
                  <a:lnTo>
                    <a:pt x="40" y="300"/>
                  </a:lnTo>
                  <a:lnTo>
                    <a:pt x="48" y="311"/>
                  </a:lnTo>
                  <a:lnTo>
                    <a:pt x="57" y="314"/>
                  </a:lnTo>
                  <a:lnTo>
                    <a:pt x="66" y="320"/>
                  </a:lnTo>
                  <a:lnTo>
                    <a:pt x="66" y="311"/>
                  </a:lnTo>
                  <a:lnTo>
                    <a:pt x="74" y="311"/>
                  </a:lnTo>
                  <a:lnTo>
                    <a:pt x="83" y="320"/>
                  </a:lnTo>
                  <a:lnTo>
                    <a:pt x="83" y="308"/>
                  </a:lnTo>
                  <a:lnTo>
                    <a:pt x="92" y="305"/>
                  </a:lnTo>
                  <a:lnTo>
                    <a:pt x="97" y="297"/>
                  </a:lnTo>
                  <a:lnTo>
                    <a:pt x="89" y="288"/>
                  </a:lnTo>
                  <a:lnTo>
                    <a:pt x="83" y="280"/>
                  </a:lnTo>
                  <a:lnTo>
                    <a:pt x="77" y="271"/>
                  </a:lnTo>
                  <a:lnTo>
                    <a:pt x="71" y="262"/>
                  </a:lnTo>
                  <a:lnTo>
                    <a:pt x="69" y="254"/>
                  </a:lnTo>
                  <a:lnTo>
                    <a:pt x="69" y="242"/>
                  </a:lnTo>
                  <a:lnTo>
                    <a:pt x="69" y="234"/>
                  </a:lnTo>
                  <a:lnTo>
                    <a:pt x="69" y="225"/>
                  </a:lnTo>
                  <a:lnTo>
                    <a:pt x="69" y="217"/>
                  </a:lnTo>
                  <a:lnTo>
                    <a:pt x="69" y="208"/>
                  </a:lnTo>
                  <a:lnTo>
                    <a:pt x="69" y="200"/>
                  </a:lnTo>
                  <a:lnTo>
                    <a:pt x="69" y="191"/>
                  </a:lnTo>
                  <a:lnTo>
                    <a:pt x="69" y="182"/>
                  </a:lnTo>
                  <a:lnTo>
                    <a:pt x="77" y="174"/>
                  </a:lnTo>
                  <a:lnTo>
                    <a:pt x="86" y="168"/>
                  </a:lnTo>
                  <a:lnTo>
                    <a:pt x="92" y="160"/>
                  </a:lnTo>
                  <a:lnTo>
                    <a:pt x="97" y="151"/>
                  </a:lnTo>
                  <a:lnTo>
                    <a:pt x="103" y="142"/>
                  </a:lnTo>
                  <a:lnTo>
                    <a:pt x="103" y="134"/>
                  </a:lnTo>
                  <a:lnTo>
                    <a:pt x="103" y="125"/>
                  </a:lnTo>
                  <a:lnTo>
                    <a:pt x="112" y="122"/>
                  </a:lnTo>
                  <a:lnTo>
                    <a:pt x="120" y="117"/>
                  </a:lnTo>
                  <a:lnTo>
                    <a:pt x="123" y="105"/>
                  </a:lnTo>
                  <a:lnTo>
                    <a:pt x="132" y="100"/>
                  </a:lnTo>
                  <a:lnTo>
                    <a:pt x="135" y="91"/>
                  </a:lnTo>
                  <a:lnTo>
                    <a:pt x="143" y="82"/>
                  </a:lnTo>
                  <a:lnTo>
                    <a:pt x="152" y="77"/>
                  </a:lnTo>
                  <a:lnTo>
                    <a:pt x="158" y="68"/>
                  </a:lnTo>
                  <a:lnTo>
                    <a:pt x="166" y="65"/>
                  </a:lnTo>
                  <a:lnTo>
                    <a:pt x="175" y="60"/>
                  </a:lnTo>
                  <a:lnTo>
                    <a:pt x="184" y="57"/>
                  </a:lnTo>
                  <a:lnTo>
                    <a:pt x="189" y="48"/>
                  </a:lnTo>
                  <a:lnTo>
                    <a:pt x="198" y="42"/>
                  </a:lnTo>
                  <a:lnTo>
                    <a:pt x="207" y="37"/>
                  </a:lnTo>
                  <a:lnTo>
                    <a:pt x="210" y="28"/>
                  </a:lnTo>
                  <a:lnTo>
                    <a:pt x="213" y="20"/>
                  </a:lnTo>
                  <a:lnTo>
                    <a:pt x="213" y="11"/>
                  </a:lnTo>
                  <a:lnTo>
                    <a:pt x="210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5" y="8"/>
                  </a:lnTo>
                  <a:lnTo>
                    <a:pt x="175" y="17"/>
                  </a:lnTo>
                  <a:lnTo>
                    <a:pt x="166" y="20"/>
                  </a:lnTo>
                  <a:lnTo>
                    <a:pt x="158" y="25"/>
                  </a:lnTo>
                  <a:lnTo>
                    <a:pt x="149" y="34"/>
                  </a:lnTo>
                  <a:lnTo>
                    <a:pt x="141" y="40"/>
                  </a:lnTo>
                  <a:lnTo>
                    <a:pt x="132" y="42"/>
                  </a:lnTo>
                  <a:lnTo>
                    <a:pt x="123" y="42"/>
                  </a:lnTo>
                  <a:lnTo>
                    <a:pt x="123" y="54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7" y="68"/>
                  </a:lnTo>
                  <a:lnTo>
                    <a:pt x="89" y="77"/>
                  </a:lnTo>
                  <a:lnTo>
                    <a:pt x="83" y="85"/>
                  </a:lnTo>
                  <a:lnTo>
                    <a:pt x="80" y="94"/>
                  </a:lnTo>
                  <a:lnTo>
                    <a:pt x="71" y="100"/>
                  </a:lnTo>
                  <a:lnTo>
                    <a:pt x="66" y="108"/>
                  </a:lnTo>
                  <a:lnTo>
                    <a:pt x="63" y="117"/>
                  </a:lnTo>
                  <a:lnTo>
                    <a:pt x="63" y="125"/>
                  </a:lnTo>
                  <a:lnTo>
                    <a:pt x="57" y="134"/>
                  </a:lnTo>
                  <a:lnTo>
                    <a:pt x="51" y="142"/>
                  </a:lnTo>
                  <a:lnTo>
                    <a:pt x="46" y="151"/>
                  </a:lnTo>
                  <a:lnTo>
                    <a:pt x="40" y="162"/>
                  </a:lnTo>
                  <a:lnTo>
                    <a:pt x="37" y="171"/>
                  </a:lnTo>
                  <a:lnTo>
                    <a:pt x="46" y="177"/>
                  </a:lnTo>
                  <a:lnTo>
                    <a:pt x="54" y="180"/>
                  </a:lnTo>
                  <a:lnTo>
                    <a:pt x="57" y="188"/>
                  </a:lnTo>
                  <a:lnTo>
                    <a:pt x="48" y="185"/>
                  </a:lnTo>
                  <a:lnTo>
                    <a:pt x="40" y="185"/>
                  </a:lnTo>
                  <a:lnTo>
                    <a:pt x="31" y="188"/>
                  </a:lnTo>
                  <a:lnTo>
                    <a:pt x="23" y="200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23" y="237"/>
                  </a:lnTo>
                  <a:lnTo>
                    <a:pt x="14" y="242"/>
                  </a:lnTo>
                  <a:lnTo>
                    <a:pt x="8" y="251"/>
                  </a:lnTo>
                  <a:lnTo>
                    <a:pt x="0" y="260"/>
                  </a:lnTo>
                  <a:lnTo>
                    <a:pt x="23" y="2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1720" y="444168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49" y="47"/>
                  </a:moveTo>
                  <a:lnTo>
                    <a:pt x="44" y="58"/>
                  </a:lnTo>
                  <a:lnTo>
                    <a:pt x="35" y="58"/>
                  </a:lnTo>
                  <a:lnTo>
                    <a:pt x="30" y="66"/>
                  </a:lnTo>
                  <a:lnTo>
                    <a:pt x="30" y="75"/>
                  </a:lnTo>
                  <a:lnTo>
                    <a:pt x="30" y="83"/>
                  </a:lnTo>
                  <a:lnTo>
                    <a:pt x="30" y="91"/>
                  </a:lnTo>
                  <a:lnTo>
                    <a:pt x="22" y="94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8" y="139"/>
                  </a:lnTo>
                  <a:lnTo>
                    <a:pt x="16" y="139"/>
                  </a:lnTo>
                  <a:lnTo>
                    <a:pt x="27" y="147"/>
                  </a:lnTo>
                  <a:lnTo>
                    <a:pt x="33" y="156"/>
                  </a:lnTo>
                  <a:lnTo>
                    <a:pt x="41" y="156"/>
                  </a:lnTo>
                  <a:lnTo>
                    <a:pt x="46" y="147"/>
                  </a:lnTo>
                  <a:lnTo>
                    <a:pt x="52" y="139"/>
                  </a:lnTo>
                  <a:lnTo>
                    <a:pt x="55" y="130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71" y="108"/>
                  </a:lnTo>
                  <a:lnTo>
                    <a:pt x="80" y="108"/>
                  </a:lnTo>
                  <a:lnTo>
                    <a:pt x="82" y="100"/>
                  </a:lnTo>
                  <a:lnTo>
                    <a:pt x="82" y="91"/>
                  </a:lnTo>
                  <a:lnTo>
                    <a:pt x="82" y="83"/>
                  </a:lnTo>
                  <a:lnTo>
                    <a:pt x="82" y="75"/>
                  </a:lnTo>
                  <a:lnTo>
                    <a:pt x="82" y="66"/>
                  </a:lnTo>
                  <a:lnTo>
                    <a:pt x="85" y="58"/>
                  </a:lnTo>
                  <a:lnTo>
                    <a:pt x="93" y="52"/>
                  </a:lnTo>
                  <a:lnTo>
                    <a:pt x="102" y="47"/>
                  </a:lnTo>
                  <a:lnTo>
                    <a:pt x="107" y="39"/>
                  </a:lnTo>
                  <a:lnTo>
                    <a:pt x="115" y="36"/>
                  </a:lnTo>
                  <a:lnTo>
                    <a:pt x="121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38" y="5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8" y="11"/>
                  </a:lnTo>
                  <a:lnTo>
                    <a:pt x="82" y="19"/>
                  </a:lnTo>
                  <a:lnTo>
                    <a:pt x="80" y="27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69" y="61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49" y="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90800" y="524844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1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6" y="21"/>
                  </a:lnTo>
                  <a:lnTo>
                    <a:pt x="23" y="27"/>
                  </a:lnTo>
                  <a:lnTo>
                    <a:pt x="18" y="18"/>
                  </a:lnTo>
                  <a:lnTo>
                    <a:pt x="13" y="9"/>
                  </a:lnTo>
                  <a:lnTo>
                    <a:pt x="6" y="21"/>
                  </a:lnTo>
                  <a:lnTo>
                    <a:pt x="9" y="6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57400" y="5361120"/>
              <a:ext cx="27000" cy="72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6" y="0"/>
                  </a:moveTo>
                  <a:lnTo>
                    <a:pt x="5" y="19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0" y="28"/>
                  </a:lnTo>
                  <a:lnTo>
                    <a:pt x="16" y="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52480" y="4357800"/>
              <a:ext cx="88920" cy="73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0"/>
                  </a:moveTo>
                  <a:lnTo>
                    <a:pt x="20" y="19"/>
                  </a:lnTo>
                  <a:lnTo>
                    <a:pt x="20" y="28"/>
                  </a:lnTo>
                  <a:lnTo>
                    <a:pt x="28" y="33"/>
                  </a:lnTo>
                  <a:lnTo>
                    <a:pt x="28" y="42"/>
                  </a:lnTo>
                  <a:lnTo>
                    <a:pt x="37" y="45"/>
                  </a:lnTo>
                  <a:lnTo>
                    <a:pt x="46" y="45"/>
                  </a:lnTo>
                  <a:lnTo>
                    <a:pt x="49" y="36"/>
                  </a:lnTo>
                  <a:lnTo>
                    <a:pt x="55" y="28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26" y="16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1"/>
            <a:stretch/>
          </p:blipFill>
          <p:spPr>
            <a:xfrm>
              <a:off x="228600" y="6137280"/>
              <a:ext cx="611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993600" y="6272280"/>
              <a:ext cx="47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HO European Centre for Environment and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72040" y="743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0"/>
                  </a:moveTo>
                  <a:lnTo>
                    <a:pt x="8" y="8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5" y="37"/>
                  </a:lnTo>
                  <a:lnTo>
                    <a:pt x="11" y="46"/>
                  </a:lnTo>
                  <a:lnTo>
                    <a:pt x="19" y="49"/>
                  </a:lnTo>
                  <a:lnTo>
                    <a:pt x="31" y="52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7" y="55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31" y="14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97360" y="4836960"/>
              <a:ext cx="788760" cy="408240"/>
            </a:xfrm>
            <a:custGeom>
              <a:avLst/>
              <a:gdLst/>
              <a:ahLst/>
              <a:rect l="l" t="t" r="r" b="b"/>
              <a:pathLst>
                <a:path w="497" h="257">
                  <a:moveTo>
                    <a:pt x="0" y="193"/>
                  </a:moveTo>
                  <a:lnTo>
                    <a:pt x="24" y="189"/>
                  </a:lnTo>
                  <a:lnTo>
                    <a:pt x="32" y="182"/>
                  </a:lnTo>
                  <a:lnTo>
                    <a:pt x="40" y="174"/>
                  </a:lnTo>
                  <a:lnTo>
                    <a:pt x="46" y="164"/>
                  </a:lnTo>
                  <a:lnTo>
                    <a:pt x="45" y="155"/>
                  </a:lnTo>
                  <a:lnTo>
                    <a:pt x="52" y="149"/>
                  </a:lnTo>
                  <a:lnTo>
                    <a:pt x="60" y="140"/>
                  </a:lnTo>
                  <a:lnTo>
                    <a:pt x="66" y="131"/>
                  </a:lnTo>
                  <a:lnTo>
                    <a:pt x="69" y="123"/>
                  </a:lnTo>
                  <a:lnTo>
                    <a:pt x="74" y="114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7" y="95"/>
                  </a:lnTo>
                  <a:lnTo>
                    <a:pt x="104" y="88"/>
                  </a:lnTo>
                  <a:lnTo>
                    <a:pt x="109" y="78"/>
                  </a:lnTo>
                  <a:lnTo>
                    <a:pt x="116" y="70"/>
                  </a:lnTo>
                  <a:lnTo>
                    <a:pt x="118" y="60"/>
                  </a:lnTo>
                  <a:lnTo>
                    <a:pt x="128" y="53"/>
                  </a:lnTo>
                  <a:lnTo>
                    <a:pt x="131" y="44"/>
                  </a:lnTo>
                  <a:lnTo>
                    <a:pt x="137" y="37"/>
                  </a:lnTo>
                  <a:lnTo>
                    <a:pt x="144" y="30"/>
                  </a:lnTo>
                  <a:lnTo>
                    <a:pt x="153" y="22"/>
                  </a:lnTo>
                  <a:lnTo>
                    <a:pt x="159" y="15"/>
                  </a:lnTo>
                  <a:lnTo>
                    <a:pt x="168" y="10"/>
                  </a:lnTo>
                  <a:lnTo>
                    <a:pt x="175" y="6"/>
                  </a:lnTo>
                  <a:lnTo>
                    <a:pt x="187" y="6"/>
                  </a:lnTo>
                  <a:lnTo>
                    <a:pt x="193" y="0"/>
                  </a:lnTo>
                  <a:lnTo>
                    <a:pt x="202" y="7"/>
                  </a:lnTo>
                  <a:lnTo>
                    <a:pt x="215" y="15"/>
                  </a:lnTo>
                  <a:lnTo>
                    <a:pt x="207" y="14"/>
                  </a:lnTo>
                  <a:lnTo>
                    <a:pt x="205" y="22"/>
                  </a:lnTo>
                  <a:lnTo>
                    <a:pt x="205" y="31"/>
                  </a:lnTo>
                  <a:lnTo>
                    <a:pt x="215" y="34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40" y="33"/>
                  </a:lnTo>
                  <a:lnTo>
                    <a:pt x="243" y="40"/>
                  </a:lnTo>
                  <a:lnTo>
                    <a:pt x="236" y="45"/>
                  </a:lnTo>
                  <a:lnTo>
                    <a:pt x="228" y="49"/>
                  </a:lnTo>
                  <a:lnTo>
                    <a:pt x="220" y="55"/>
                  </a:lnTo>
                  <a:lnTo>
                    <a:pt x="213" y="62"/>
                  </a:lnTo>
                  <a:lnTo>
                    <a:pt x="222" y="64"/>
                  </a:lnTo>
                  <a:lnTo>
                    <a:pt x="226" y="71"/>
                  </a:lnTo>
                  <a:lnTo>
                    <a:pt x="229" y="78"/>
                  </a:lnTo>
                  <a:lnTo>
                    <a:pt x="232" y="84"/>
                  </a:lnTo>
                  <a:lnTo>
                    <a:pt x="232" y="94"/>
                  </a:lnTo>
                  <a:lnTo>
                    <a:pt x="230" y="103"/>
                  </a:lnTo>
                  <a:lnTo>
                    <a:pt x="239" y="163"/>
                  </a:lnTo>
                  <a:lnTo>
                    <a:pt x="190" y="125"/>
                  </a:lnTo>
                  <a:lnTo>
                    <a:pt x="236" y="116"/>
                  </a:lnTo>
                  <a:lnTo>
                    <a:pt x="246" y="110"/>
                  </a:lnTo>
                  <a:lnTo>
                    <a:pt x="251" y="105"/>
                  </a:lnTo>
                  <a:lnTo>
                    <a:pt x="259" y="94"/>
                  </a:lnTo>
                  <a:lnTo>
                    <a:pt x="270" y="93"/>
                  </a:lnTo>
                  <a:lnTo>
                    <a:pt x="277" y="90"/>
                  </a:lnTo>
                  <a:lnTo>
                    <a:pt x="288" y="86"/>
                  </a:lnTo>
                  <a:lnTo>
                    <a:pt x="295" y="83"/>
                  </a:lnTo>
                  <a:lnTo>
                    <a:pt x="303" y="74"/>
                  </a:lnTo>
                  <a:lnTo>
                    <a:pt x="313" y="75"/>
                  </a:lnTo>
                  <a:lnTo>
                    <a:pt x="320" y="80"/>
                  </a:lnTo>
                  <a:lnTo>
                    <a:pt x="329" y="76"/>
                  </a:lnTo>
                  <a:lnTo>
                    <a:pt x="338" y="74"/>
                  </a:lnTo>
                  <a:lnTo>
                    <a:pt x="345" y="78"/>
                  </a:lnTo>
                  <a:lnTo>
                    <a:pt x="351" y="86"/>
                  </a:lnTo>
                  <a:lnTo>
                    <a:pt x="357" y="92"/>
                  </a:lnTo>
                  <a:lnTo>
                    <a:pt x="365" y="90"/>
                  </a:lnTo>
                  <a:lnTo>
                    <a:pt x="379" y="94"/>
                  </a:lnTo>
                  <a:lnTo>
                    <a:pt x="385" y="99"/>
                  </a:lnTo>
                  <a:lnTo>
                    <a:pt x="394" y="102"/>
                  </a:lnTo>
                  <a:lnTo>
                    <a:pt x="403" y="107"/>
                  </a:lnTo>
                  <a:lnTo>
                    <a:pt x="405" y="115"/>
                  </a:lnTo>
                  <a:lnTo>
                    <a:pt x="413" y="121"/>
                  </a:lnTo>
                  <a:lnTo>
                    <a:pt x="423" y="125"/>
                  </a:lnTo>
                  <a:lnTo>
                    <a:pt x="431" y="128"/>
                  </a:lnTo>
                  <a:lnTo>
                    <a:pt x="440" y="132"/>
                  </a:lnTo>
                  <a:lnTo>
                    <a:pt x="455" y="137"/>
                  </a:lnTo>
                  <a:lnTo>
                    <a:pt x="468" y="141"/>
                  </a:lnTo>
                  <a:lnTo>
                    <a:pt x="473" y="148"/>
                  </a:lnTo>
                  <a:lnTo>
                    <a:pt x="480" y="154"/>
                  </a:lnTo>
                  <a:lnTo>
                    <a:pt x="485" y="161"/>
                  </a:lnTo>
                  <a:lnTo>
                    <a:pt x="488" y="172"/>
                  </a:lnTo>
                  <a:lnTo>
                    <a:pt x="492" y="178"/>
                  </a:lnTo>
                  <a:lnTo>
                    <a:pt x="493" y="187"/>
                  </a:lnTo>
                  <a:lnTo>
                    <a:pt x="494" y="195"/>
                  </a:lnTo>
                  <a:lnTo>
                    <a:pt x="496" y="201"/>
                  </a:lnTo>
                  <a:lnTo>
                    <a:pt x="491" y="213"/>
                  </a:lnTo>
                  <a:lnTo>
                    <a:pt x="480" y="217"/>
                  </a:lnTo>
                  <a:lnTo>
                    <a:pt x="474" y="222"/>
                  </a:lnTo>
                  <a:lnTo>
                    <a:pt x="466" y="228"/>
                  </a:lnTo>
                  <a:lnTo>
                    <a:pt x="458" y="234"/>
                  </a:lnTo>
                  <a:lnTo>
                    <a:pt x="448" y="238"/>
                  </a:lnTo>
                  <a:lnTo>
                    <a:pt x="439" y="240"/>
                  </a:lnTo>
                  <a:lnTo>
                    <a:pt x="430" y="244"/>
                  </a:lnTo>
                  <a:lnTo>
                    <a:pt x="422" y="248"/>
                  </a:lnTo>
                  <a:lnTo>
                    <a:pt x="414" y="240"/>
                  </a:lnTo>
                  <a:lnTo>
                    <a:pt x="405" y="242"/>
                  </a:lnTo>
                  <a:lnTo>
                    <a:pt x="395" y="241"/>
                  </a:lnTo>
                  <a:lnTo>
                    <a:pt x="387" y="244"/>
                  </a:lnTo>
                  <a:lnTo>
                    <a:pt x="380" y="248"/>
                  </a:lnTo>
                  <a:lnTo>
                    <a:pt x="372" y="250"/>
                  </a:lnTo>
                  <a:lnTo>
                    <a:pt x="363" y="252"/>
                  </a:lnTo>
                  <a:lnTo>
                    <a:pt x="357" y="256"/>
                  </a:lnTo>
                  <a:lnTo>
                    <a:pt x="350" y="247"/>
                  </a:lnTo>
                  <a:lnTo>
                    <a:pt x="349" y="240"/>
                  </a:lnTo>
                  <a:lnTo>
                    <a:pt x="340" y="243"/>
                  </a:lnTo>
                  <a:lnTo>
                    <a:pt x="333" y="246"/>
                  </a:lnTo>
                  <a:lnTo>
                    <a:pt x="324" y="248"/>
                  </a:lnTo>
                  <a:lnTo>
                    <a:pt x="315" y="247"/>
                  </a:lnTo>
                  <a:lnTo>
                    <a:pt x="315" y="240"/>
                  </a:lnTo>
                  <a:lnTo>
                    <a:pt x="313" y="233"/>
                  </a:lnTo>
                  <a:lnTo>
                    <a:pt x="310" y="225"/>
                  </a:lnTo>
                  <a:lnTo>
                    <a:pt x="297" y="227"/>
                  </a:lnTo>
                  <a:lnTo>
                    <a:pt x="288" y="227"/>
                  </a:lnTo>
                  <a:lnTo>
                    <a:pt x="281" y="221"/>
                  </a:lnTo>
                  <a:lnTo>
                    <a:pt x="277" y="215"/>
                  </a:lnTo>
                  <a:lnTo>
                    <a:pt x="267" y="213"/>
                  </a:lnTo>
                  <a:lnTo>
                    <a:pt x="226" y="177"/>
                  </a:lnTo>
                  <a:lnTo>
                    <a:pt x="245" y="217"/>
                  </a:lnTo>
                  <a:lnTo>
                    <a:pt x="236" y="217"/>
                  </a:lnTo>
                  <a:lnTo>
                    <a:pt x="227" y="213"/>
                  </a:lnTo>
                  <a:lnTo>
                    <a:pt x="219" y="211"/>
                  </a:lnTo>
                  <a:lnTo>
                    <a:pt x="209" y="209"/>
                  </a:lnTo>
                  <a:lnTo>
                    <a:pt x="200" y="210"/>
                  </a:lnTo>
                  <a:lnTo>
                    <a:pt x="191" y="215"/>
                  </a:lnTo>
                  <a:lnTo>
                    <a:pt x="184" y="218"/>
                  </a:lnTo>
                  <a:lnTo>
                    <a:pt x="176" y="219"/>
                  </a:lnTo>
                  <a:lnTo>
                    <a:pt x="166" y="223"/>
                  </a:lnTo>
                  <a:lnTo>
                    <a:pt x="158" y="230"/>
                  </a:lnTo>
                  <a:lnTo>
                    <a:pt x="150" y="234"/>
                  </a:lnTo>
                  <a:lnTo>
                    <a:pt x="139" y="242"/>
                  </a:lnTo>
                  <a:lnTo>
                    <a:pt x="133" y="247"/>
                  </a:lnTo>
                  <a:lnTo>
                    <a:pt x="122" y="248"/>
                  </a:lnTo>
                  <a:lnTo>
                    <a:pt x="111" y="253"/>
                  </a:lnTo>
                  <a:lnTo>
                    <a:pt x="102" y="252"/>
                  </a:lnTo>
                  <a:lnTo>
                    <a:pt x="91" y="247"/>
                  </a:lnTo>
                  <a:lnTo>
                    <a:pt x="82" y="245"/>
                  </a:lnTo>
                  <a:lnTo>
                    <a:pt x="74" y="244"/>
                  </a:lnTo>
                  <a:lnTo>
                    <a:pt x="63" y="244"/>
                  </a:lnTo>
                  <a:lnTo>
                    <a:pt x="49" y="244"/>
                  </a:lnTo>
                  <a:lnTo>
                    <a:pt x="43" y="238"/>
                  </a:lnTo>
                  <a:lnTo>
                    <a:pt x="36" y="232"/>
                  </a:lnTo>
                  <a:lnTo>
                    <a:pt x="36" y="221"/>
                  </a:lnTo>
                  <a:lnTo>
                    <a:pt x="32" y="217"/>
                  </a:lnTo>
                  <a:lnTo>
                    <a:pt x="26" y="209"/>
                  </a:lnTo>
                  <a:lnTo>
                    <a:pt x="22" y="204"/>
                  </a:lnTo>
                  <a:lnTo>
                    <a:pt x="18" y="197"/>
                  </a:lnTo>
                  <a:lnTo>
                    <a:pt x="0" y="193"/>
                  </a:lnTo>
                  <a:lnTo>
                    <a:pt x="14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762120" y="3087720"/>
            <a:ext cx="790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47680" y="685800"/>
          <a:ext cx="8744040" cy="5219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680" y="685800"/>
                    <a:ext cx="874404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470520" y="5649840"/>
            <a:ext cx="25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1) All deaths except accid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d8a"/>
            </a:gs>
            <a:gs pos="50000">
              <a:srgbClr val="0f219b"/>
            </a:gs>
            <a:gs pos="100000">
              <a:srgbClr val="0d1d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28600" y="557280"/>
            <a:ext cx="8120160" cy="6118200"/>
            <a:chOff x="228600" y="557280"/>
            <a:chExt cx="8120160" cy="6118200"/>
          </a:xfrm>
        </p:grpSpPr>
        <p:sp>
          <p:nvSpPr>
            <p:cNvPr id="519" name=""/>
            <p:cNvSpPr/>
            <p:nvPr/>
          </p:nvSpPr>
          <p:spPr>
            <a:xfrm>
              <a:off x="2662200" y="20638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2" y="77"/>
                  </a:moveTo>
                  <a:lnTo>
                    <a:pt x="2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2" y="125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5" y="174"/>
                  </a:lnTo>
                  <a:lnTo>
                    <a:pt x="31" y="182"/>
                  </a:lnTo>
                  <a:lnTo>
                    <a:pt x="40" y="182"/>
                  </a:lnTo>
                  <a:lnTo>
                    <a:pt x="48" y="182"/>
                  </a:lnTo>
                  <a:lnTo>
                    <a:pt x="60" y="191"/>
                  </a:lnTo>
                  <a:lnTo>
                    <a:pt x="71" y="196"/>
                  </a:lnTo>
                  <a:lnTo>
                    <a:pt x="71" y="205"/>
                  </a:lnTo>
                  <a:lnTo>
                    <a:pt x="74" y="214"/>
                  </a:lnTo>
                  <a:lnTo>
                    <a:pt x="83" y="214"/>
                  </a:lnTo>
                  <a:lnTo>
                    <a:pt x="91" y="214"/>
                  </a:lnTo>
                  <a:lnTo>
                    <a:pt x="100" y="214"/>
                  </a:lnTo>
                  <a:lnTo>
                    <a:pt x="109" y="214"/>
                  </a:lnTo>
                  <a:lnTo>
                    <a:pt x="117" y="214"/>
                  </a:lnTo>
                  <a:lnTo>
                    <a:pt x="126" y="214"/>
                  </a:lnTo>
                  <a:lnTo>
                    <a:pt x="137" y="208"/>
                  </a:lnTo>
                  <a:lnTo>
                    <a:pt x="149" y="202"/>
                  </a:lnTo>
                  <a:lnTo>
                    <a:pt x="149" y="194"/>
                  </a:lnTo>
                  <a:lnTo>
                    <a:pt x="146" y="185"/>
                  </a:lnTo>
                  <a:lnTo>
                    <a:pt x="146" y="176"/>
                  </a:lnTo>
                  <a:lnTo>
                    <a:pt x="155" y="168"/>
                  </a:lnTo>
                  <a:lnTo>
                    <a:pt x="158" y="159"/>
                  </a:lnTo>
                  <a:lnTo>
                    <a:pt x="158" y="151"/>
                  </a:lnTo>
                  <a:lnTo>
                    <a:pt x="155" y="142"/>
                  </a:lnTo>
                  <a:lnTo>
                    <a:pt x="155" y="134"/>
                  </a:lnTo>
                  <a:lnTo>
                    <a:pt x="146" y="134"/>
                  </a:lnTo>
                  <a:lnTo>
                    <a:pt x="137" y="134"/>
                  </a:lnTo>
                  <a:lnTo>
                    <a:pt x="135" y="125"/>
                  </a:lnTo>
                  <a:lnTo>
                    <a:pt x="129" y="116"/>
                  </a:lnTo>
                  <a:lnTo>
                    <a:pt x="120" y="114"/>
                  </a:lnTo>
                  <a:lnTo>
                    <a:pt x="114" y="105"/>
                  </a:lnTo>
                  <a:lnTo>
                    <a:pt x="114" y="97"/>
                  </a:lnTo>
                  <a:lnTo>
                    <a:pt x="106" y="94"/>
                  </a:lnTo>
                  <a:lnTo>
                    <a:pt x="97" y="94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89" y="71"/>
                  </a:lnTo>
                  <a:lnTo>
                    <a:pt x="80" y="68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83" y="45"/>
                  </a:lnTo>
                  <a:lnTo>
                    <a:pt x="94" y="45"/>
                  </a:lnTo>
                  <a:lnTo>
                    <a:pt x="103" y="39"/>
                  </a:lnTo>
                  <a:lnTo>
                    <a:pt x="106" y="31"/>
                  </a:lnTo>
                  <a:lnTo>
                    <a:pt x="103" y="22"/>
                  </a:lnTo>
                  <a:lnTo>
                    <a:pt x="94" y="22"/>
                  </a:lnTo>
                  <a:lnTo>
                    <a:pt x="86" y="14"/>
                  </a:lnTo>
                  <a:lnTo>
                    <a:pt x="77" y="11"/>
                  </a:lnTo>
                  <a:lnTo>
                    <a:pt x="68" y="11"/>
                  </a:lnTo>
                  <a:lnTo>
                    <a:pt x="54" y="0"/>
                  </a:lnTo>
                  <a:lnTo>
                    <a:pt x="51" y="8"/>
                  </a:lnTo>
                  <a:lnTo>
                    <a:pt x="60" y="14"/>
                  </a:lnTo>
                  <a:lnTo>
                    <a:pt x="63" y="22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7" y="45"/>
                  </a:lnTo>
                  <a:lnTo>
                    <a:pt x="45" y="45"/>
                  </a:lnTo>
                  <a:lnTo>
                    <a:pt x="40" y="37"/>
                  </a:lnTo>
                  <a:lnTo>
                    <a:pt x="34" y="28"/>
                  </a:lnTo>
                  <a:lnTo>
                    <a:pt x="31" y="37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5" y="62"/>
                  </a:lnTo>
                  <a:lnTo>
                    <a:pt x="17" y="68"/>
                  </a:lnTo>
                  <a:lnTo>
                    <a:pt x="2" y="77"/>
                  </a:lnTo>
                  <a:lnTo>
                    <a:pt x="2" y="7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85760" y="557280"/>
              <a:ext cx="6975720" cy="5226120"/>
            </a:xfrm>
            <a:custGeom>
              <a:avLst/>
              <a:gdLst/>
              <a:ahLst/>
              <a:rect l="l" t="t" r="r" b="b"/>
              <a:pathLst>
                <a:path w="4394" h="3292">
                  <a:moveTo>
                    <a:pt x="4183" y="665"/>
                  </a:moveTo>
                  <a:lnTo>
                    <a:pt x="4174" y="685"/>
                  </a:lnTo>
                  <a:lnTo>
                    <a:pt x="4165" y="680"/>
                  </a:lnTo>
                  <a:lnTo>
                    <a:pt x="4154" y="671"/>
                  </a:lnTo>
                  <a:lnTo>
                    <a:pt x="4145" y="665"/>
                  </a:lnTo>
                  <a:lnTo>
                    <a:pt x="4136" y="657"/>
                  </a:lnTo>
                  <a:lnTo>
                    <a:pt x="4128" y="648"/>
                  </a:lnTo>
                  <a:lnTo>
                    <a:pt x="4122" y="639"/>
                  </a:lnTo>
                  <a:lnTo>
                    <a:pt x="4110" y="631"/>
                  </a:lnTo>
                  <a:lnTo>
                    <a:pt x="4104" y="622"/>
                  </a:lnTo>
                  <a:lnTo>
                    <a:pt x="4098" y="613"/>
                  </a:lnTo>
                  <a:lnTo>
                    <a:pt x="4093" y="605"/>
                  </a:lnTo>
                  <a:lnTo>
                    <a:pt x="4084" y="596"/>
                  </a:lnTo>
                  <a:lnTo>
                    <a:pt x="4075" y="593"/>
                  </a:lnTo>
                  <a:lnTo>
                    <a:pt x="4066" y="590"/>
                  </a:lnTo>
                  <a:lnTo>
                    <a:pt x="4058" y="587"/>
                  </a:lnTo>
                  <a:lnTo>
                    <a:pt x="4049" y="585"/>
                  </a:lnTo>
                  <a:lnTo>
                    <a:pt x="4037" y="585"/>
                  </a:lnTo>
                  <a:lnTo>
                    <a:pt x="4029" y="582"/>
                  </a:lnTo>
                  <a:lnTo>
                    <a:pt x="4023" y="573"/>
                  </a:lnTo>
                  <a:lnTo>
                    <a:pt x="4020" y="564"/>
                  </a:lnTo>
                  <a:lnTo>
                    <a:pt x="4011" y="556"/>
                  </a:lnTo>
                  <a:lnTo>
                    <a:pt x="4002" y="550"/>
                  </a:lnTo>
                  <a:lnTo>
                    <a:pt x="4002" y="541"/>
                  </a:lnTo>
                  <a:lnTo>
                    <a:pt x="3994" y="538"/>
                  </a:lnTo>
                  <a:lnTo>
                    <a:pt x="3982" y="538"/>
                  </a:lnTo>
                  <a:lnTo>
                    <a:pt x="3973" y="538"/>
                  </a:lnTo>
                  <a:lnTo>
                    <a:pt x="3965" y="538"/>
                  </a:lnTo>
                  <a:lnTo>
                    <a:pt x="3953" y="538"/>
                  </a:lnTo>
                  <a:lnTo>
                    <a:pt x="3947" y="530"/>
                  </a:lnTo>
                  <a:lnTo>
                    <a:pt x="3947" y="521"/>
                  </a:lnTo>
                  <a:lnTo>
                    <a:pt x="3938" y="512"/>
                  </a:lnTo>
                  <a:lnTo>
                    <a:pt x="3930" y="504"/>
                  </a:lnTo>
                  <a:lnTo>
                    <a:pt x="3930" y="495"/>
                  </a:lnTo>
                  <a:lnTo>
                    <a:pt x="3927" y="484"/>
                  </a:lnTo>
                  <a:lnTo>
                    <a:pt x="3918" y="481"/>
                  </a:lnTo>
                  <a:lnTo>
                    <a:pt x="3909" y="481"/>
                  </a:lnTo>
                  <a:lnTo>
                    <a:pt x="3901" y="481"/>
                  </a:lnTo>
                  <a:lnTo>
                    <a:pt x="3892" y="481"/>
                  </a:lnTo>
                  <a:lnTo>
                    <a:pt x="3883" y="481"/>
                  </a:lnTo>
                  <a:lnTo>
                    <a:pt x="3871" y="481"/>
                  </a:lnTo>
                  <a:lnTo>
                    <a:pt x="3863" y="481"/>
                  </a:lnTo>
                  <a:lnTo>
                    <a:pt x="3851" y="478"/>
                  </a:lnTo>
                  <a:lnTo>
                    <a:pt x="3842" y="472"/>
                  </a:lnTo>
                  <a:lnTo>
                    <a:pt x="3842" y="463"/>
                  </a:lnTo>
                  <a:lnTo>
                    <a:pt x="3842" y="455"/>
                  </a:lnTo>
                  <a:lnTo>
                    <a:pt x="3834" y="446"/>
                  </a:lnTo>
                  <a:lnTo>
                    <a:pt x="3825" y="446"/>
                  </a:lnTo>
                  <a:lnTo>
                    <a:pt x="3819" y="455"/>
                  </a:lnTo>
                  <a:lnTo>
                    <a:pt x="3810" y="458"/>
                  </a:lnTo>
                  <a:lnTo>
                    <a:pt x="3802" y="461"/>
                  </a:lnTo>
                  <a:lnTo>
                    <a:pt x="3793" y="461"/>
                  </a:lnTo>
                  <a:lnTo>
                    <a:pt x="3784" y="461"/>
                  </a:lnTo>
                  <a:lnTo>
                    <a:pt x="3775" y="461"/>
                  </a:lnTo>
                  <a:lnTo>
                    <a:pt x="3764" y="455"/>
                  </a:lnTo>
                  <a:lnTo>
                    <a:pt x="3755" y="452"/>
                  </a:lnTo>
                  <a:lnTo>
                    <a:pt x="3752" y="461"/>
                  </a:lnTo>
                  <a:lnTo>
                    <a:pt x="3755" y="469"/>
                  </a:lnTo>
                  <a:lnTo>
                    <a:pt x="3764" y="472"/>
                  </a:lnTo>
                  <a:lnTo>
                    <a:pt x="3755" y="475"/>
                  </a:lnTo>
                  <a:lnTo>
                    <a:pt x="3746" y="475"/>
                  </a:lnTo>
                  <a:lnTo>
                    <a:pt x="3737" y="478"/>
                  </a:lnTo>
                  <a:lnTo>
                    <a:pt x="3729" y="478"/>
                  </a:lnTo>
                  <a:lnTo>
                    <a:pt x="3720" y="478"/>
                  </a:lnTo>
                  <a:lnTo>
                    <a:pt x="3711" y="472"/>
                  </a:lnTo>
                  <a:lnTo>
                    <a:pt x="3703" y="463"/>
                  </a:lnTo>
                  <a:lnTo>
                    <a:pt x="3694" y="455"/>
                  </a:lnTo>
                  <a:lnTo>
                    <a:pt x="3685" y="452"/>
                  </a:lnTo>
                  <a:lnTo>
                    <a:pt x="3676" y="452"/>
                  </a:lnTo>
                  <a:lnTo>
                    <a:pt x="3668" y="449"/>
                  </a:lnTo>
                  <a:lnTo>
                    <a:pt x="3656" y="449"/>
                  </a:lnTo>
                  <a:lnTo>
                    <a:pt x="3647" y="449"/>
                  </a:lnTo>
                  <a:lnTo>
                    <a:pt x="3638" y="449"/>
                  </a:lnTo>
                  <a:lnTo>
                    <a:pt x="3636" y="440"/>
                  </a:lnTo>
                  <a:lnTo>
                    <a:pt x="3636" y="432"/>
                  </a:lnTo>
                  <a:lnTo>
                    <a:pt x="3630" y="423"/>
                  </a:lnTo>
                  <a:lnTo>
                    <a:pt x="3638" y="423"/>
                  </a:lnTo>
                  <a:lnTo>
                    <a:pt x="3636" y="414"/>
                  </a:lnTo>
                  <a:lnTo>
                    <a:pt x="3627" y="412"/>
                  </a:lnTo>
                  <a:lnTo>
                    <a:pt x="3618" y="409"/>
                  </a:lnTo>
                  <a:lnTo>
                    <a:pt x="3615" y="400"/>
                  </a:lnTo>
                  <a:lnTo>
                    <a:pt x="3609" y="391"/>
                  </a:lnTo>
                  <a:lnTo>
                    <a:pt x="3618" y="391"/>
                  </a:lnTo>
                  <a:lnTo>
                    <a:pt x="3627" y="391"/>
                  </a:lnTo>
                  <a:lnTo>
                    <a:pt x="3633" y="383"/>
                  </a:lnTo>
                  <a:lnTo>
                    <a:pt x="3624" y="377"/>
                  </a:lnTo>
                  <a:lnTo>
                    <a:pt x="3615" y="374"/>
                  </a:lnTo>
                  <a:lnTo>
                    <a:pt x="3606" y="363"/>
                  </a:lnTo>
                  <a:lnTo>
                    <a:pt x="3604" y="354"/>
                  </a:lnTo>
                  <a:lnTo>
                    <a:pt x="3598" y="345"/>
                  </a:lnTo>
                  <a:lnTo>
                    <a:pt x="3592" y="337"/>
                  </a:lnTo>
                  <a:lnTo>
                    <a:pt x="3583" y="322"/>
                  </a:lnTo>
                  <a:lnTo>
                    <a:pt x="3577" y="314"/>
                  </a:lnTo>
                  <a:lnTo>
                    <a:pt x="3586" y="305"/>
                  </a:lnTo>
                  <a:lnTo>
                    <a:pt x="3592" y="296"/>
                  </a:lnTo>
                  <a:lnTo>
                    <a:pt x="3595" y="288"/>
                  </a:lnTo>
                  <a:lnTo>
                    <a:pt x="3595" y="279"/>
                  </a:lnTo>
                  <a:lnTo>
                    <a:pt x="3586" y="276"/>
                  </a:lnTo>
                  <a:lnTo>
                    <a:pt x="3577" y="276"/>
                  </a:lnTo>
                  <a:lnTo>
                    <a:pt x="3569" y="276"/>
                  </a:lnTo>
                  <a:lnTo>
                    <a:pt x="3557" y="270"/>
                  </a:lnTo>
                  <a:lnTo>
                    <a:pt x="3548" y="259"/>
                  </a:lnTo>
                  <a:lnTo>
                    <a:pt x="3540" y="253"/>
                  </a:lnTo>
                  <a:lnTo>
                    <a:pt x="3531" y="250"/>
                  </a:lnTo>
                  <a:lnTo>
                    <a:pt x="3522" y="244"/>
                  </a:lnTo>
                  <a:lnTo>
                    <a:pt x="3510" y="236"/>
                  </a:lnTo>
                  <a:lnTo>
                    <a:pt x="3502" y="233"/>
                  </a:lnTo>
                  <a:lnTo>
                    <a:pt x="3493" y="227"/>
                  </a:lnTo>
                  <a:lnTo>
                    <a:pt x="3484" y="224"/>
                  </a:lnTo>
                  <a:lnTo>
                    <a:pt x="3475" y="219"/>
                  </a:lnTo>
                  <a:lnTo>
                    <a:pt x="3467" y="213"/>
                  </a:lnTo>
                  <a:lnTo>
                    <a:pt x="3458" y="207"/>
                  </a:lnTo>
                  <a:lnTo>
                    <a:pt x="3449" y="198"/>
                  </a:lnTo>
                  <a:lnTo>
                    <a:pt x="3441" y="193"/>
                  </a:lnTo>
                  <a:lnTo>
                    <a:pt x="3432" y="187"/>
                  </a:lnTo>
                  <a:lnTo>
                    <a:pt x="3423" y="184"/>
                  </a:lnTo>
                  <a:lnTo>
                    <a:pt x="3414" y="178"/>
                  </a:lnTo>
                  <a:lnTo>
                    <a:pt x="3406" y="172"/>
                  </a:lnTo>
                  <a:lnTo>
                    <a:pt x="3400" y="164"/>
                  </a:lnTo>
                  <a:lnTo>
                    <a:pt x="3397" y="155"/>
                  </a:lnTo>
                  <a:lnTo>
                    <a:pt x="3394" y="146"/>
                  </a:lnTo>
                  <a:lnTo>
                    <a:pt x="3388" y="138"/>
                  </a:lnTo>
                  <a:lnTo>
                    <a:pt x="3382" y="129"/>
                  </a:lnTo>
                  <a:lnTo>
                    <a:pt x="3388" y="121"/>
                  </a:lnTo>
                  <a:lnTo>
                    <a:pt x="3379" y="121"/>
                  </a:lnTo>
                  <a:lnTo>
                    <a:pt x="3371" y="121"/>
                  </a:lnTo>
                  <a:lnTo>
                    <a:pt x="3362" y="121"/>
                  </a:lnTo>
                  <a:lnTo>
                    <a:pt x="3359" y="129"/>
                  </a:lnTo>
                  <a:lnTo>
                    <a:pt x="3353" y="138"/>
                  </a:lnTo>
                  <a:lnTo>
                    <a:pt x="3347" y="146"/>
                  </a:lnTo>
                  <a:lnTo>
                    <a:pt x="3339" y="152"/>
                  </a:lnTo>
                  <a:lnTo>
                    <a:pt x="3327" y="158"/>
                  </a:lnTo>
                  <a:lnTo>
                    <a:pt x="3318" y="158"/>
                  </a:lnTo>
                  <a:lnTo>
                    <a:pt x="3310" y="167"/>
                  </a:lnTo>
                  <a:lnTo>
                    <a:pt x="3307" y="175"/>
                  </a:lnTo>
                  <a:lnTo>
                    <a:pt x="3307" y="184"/>
                  </a:lnTo>
                  <a:lnTo>
                    <a:pt x="3304" y="193"/>
                  </a:lnTo>
                  <a:lnTo>
                    <a:pt x="3295" y="195"/>
                  </a:lnTo>
                  <a:lnTo>
                    <a:pt x="3295" y="204"/>
                  </a:lnTo>
                  <a:lnTo>
                    <a:pt x="3298" y="213"/>
                  </a:lnTo>
                  <a:lnTo>
                    <a:pt x="3304" y="221"/>
                  </a:lnTo>
                  <a:lnTo>
                    <a:pt x="3310" y="230"/>
                  </a:lnTo>
                  <a:lnTo>
                    <a:pt x="3315" y="239"/>
                  </a:lnTo>
                  <a:lnTo>
                    <a:pt x="3318" y="250"/>
                  </a:lnTo>
                  <a:lnTo>
                    <a:pt x="3321" y="259"/>
                  </a:lnTo>
                  <a:lnTo>
                    <a:pt x="3321" y="247"/>
                  </a:lnTo>
                  <a:lnTo>
                    <a:pt x="3318" y="239"/>
                  </a:lnTo>
                  <a:lnTo>
                    <a:pt x="3315" y="230"/>
                  </a:lnTo>
                  <a:lnTo>
                    <a:pt x="3307" y="224"/>
                  </a:lnTo>
                  <a:lnTo>
                    <a:pt x="3298" y="216"/>
                  </a:lnTo>
                  <a:lnTo>
                    <a:pt x="3292" y="207"/>
                  </a:lnTo>
                  <a:lnTo>
                    <a:pt x="3292" y="198"/>
                  </a:lnTo>
                  <a:lnTo>
                    <a:pt x="3295" y="190"/>
                  </a:lnTo>
                  <a:lnTo>
                    <a:pt x="3292" y="181"/>
                  </a:lnTo>
                  <a:lnTo>
                    <a:pt x="3283" y="172"/>
                  </a:lnTo>
                  <a:lnTo>
                    <a:pt x="3275" y="170"/>
                  </a:lnTo>
                  <a:lnTo>
                    <a:pt x="3266" y="164"/>
                  </a:lnTo>
                  <a:lnTo>
                    <a:pt x="3257" y="161"/>
                  </a:lnTo>
                  <a:lnTo>
                    <a:pt x="3245" y="155"/>
                  </a:lnTo>
                  <a:lnTo>
                    <a:pt x="3237" y="155"/>
                  </a:lnTo>
                  <a:lnTo>
                    <a:pt x="3228" y="155"/>
                  </a:lnTo>
                  <a:lnTo>
                    <a:pt x="3219" y="155"/>
                  </a:lnTo>
                  <a:lnTo>
                    <a:pt x="3213" y="164"/>
                  </a:lnTo>
                  <a:lnTo>
                    <a:pt x="3208" y="172"/>
                  </a:lnTo>
                  <a:lnTo>
                    <a:pt x="3196" y="175"/>
                  </a:lnTo>
                  <a:lnTo>
                    <a:pt x="3184" y="175"/>
                  </a:lnTo>
                  <a:lnTo>
                    <a:pt x="3173" y="175"/>
                  </a:lnTo>
                  <a:lnTo>
                    <a:pt x="3167" y="167"/>
                  </a:lnTo>
                  <a:lnTo>
                    <a:pt x="3179" y="161"/>
                  </a:lnTo>
                  <a:lnTo>
                    <a:pt x="3187" y="161"/>
                  </a:lnTo>
                  <a:lnTo>
                    <a:pt x="3196" y="161"/>
                  </a:lnTo>
                  <a:lnTo>
                    <a:pt x="3205" y="155"/>
                  </a:lnTo>
                  <a:lnTo>
                    <a:pt x="3208" y="146"/>
                  </a:lnTo>
                  <a:lnTo>
                    <a:pt x="3208" y="138"/>
                  </a:lnTo>
                  <a:lnTo>
                    <a:pt x="3205" y="129"/>
                  </a:lnTo>
                  <a:lnTo>
                    <a:pt x="3199" y="121"/>
                  </a:lnTo>
                  <a:lnTo>
                    <a:pt x="3190" y="112"/>
                  </a:lnTo>
                  <a:lnTo>
                    <a:pt x="3184" y="103"/>
                  </a:lnTo>
                  <a:lnTo>
                    <a:pt x="3193" y="97"/>
                  </a:lnTo>
                  <a:lnTo>
                    <a:pt x="3202" y="92"/>
                  </a:lnTo>
                  <a:lnTo>
                    <a:pt x="3205" y="83"/>
                  </a:lnTo>
                  <a:lnTo>
                    <a:pt x="3208" y="74"/>
                  </a:lnTo>
                  <a:lnTo>
                    <a:pt x="3208" y="66"/>
                  </a:lnTo>
                  <a:lnTo>
                    <a:pt x="3202" y="57"/>
                  </a:lnTo>
                  <a:lnTo>
                    <a:pt x="3199" y="48"/>
                  </a:lnTo>
                  <a:lnTo>
                    <a:pt x="3199" y="40"/>
                  </a:lnTo>
                  <a:lnTo>
                    <a:pt x="3199" y="31"/>
                  </a:lnTo>
                  <a:lnTo>
                    <a:pt x="3196" y="23"/>
                  </a:lnTo>
                  <a:lnTo>
                    <a:pt x="3190" y="14"/>
                  </a:lnTo>
                  <a:lnTo>
                    <a:pt x="3184" y="5"/>
                  </a:lnTo>
                  <a:lnTo>
                    <a:pt x="3176" y="0"/>
                  </a:lnTo>
                  <a:lnTo>
                    <a:pt x="3167" y="2"/>
                  </a:lnTo>
                  <a:lnTo>
                    <a:pt x="3158" y="8"/>
                  </a:lnTo>
                  <a:lnTo>
                    <a:pt x="3149" y="14"/>
                  </a:lnTo>
                  <a:lnTo>
                    <a:pt x="3141" y="17"/>
                  </a:lnTo>
                  <a:lnTo>
                    <a:pt x="3132" y="23"/>
                  </a:lnTo>
                  <a:lnTo>
                    <a:pt x="3132" y="31"/>
                  </a:lnTo>
                  <a:lnTo>
                    <a:pt x="3123" y="25"/>
                  </a:lnTo>
                  <a:lnTo>
                    <a:pt x="3114" y="17"/>
                  </a:lnTo>
                  <a:lnTo>
                    <a:pt x="3106" y="14"/>
                  </a:lnTo>
                  <a:lnTo>
                    <a:pt x="3097" y="14"/>
                  </a:lnTo>
                  <a:lnTo>
                    <a:pt x="3088" y="14"/>
                  </a:lnTo>
                  <a:lnTo>
                    <a:pt x="3080" y="14"/>
                  </a:lnTo>
                  <a:lnTo>
                    <a:pt x="3071" y="14"/>
                  </a:lnTo>
                  <a:lnTo>
                    <a:pt x="3071" y="23"/>
                  </a:lnTo>
                  <a:lnTo>
                    <a:pt x="3071" y="31"/>
                  </a:lnTo>
                  <a:lnTo>
                    <a:pt x="3071" y="40"/>
                  </a:lnTo>
                  <a:lnTo>
                    <a:pt x="3068" y="48"/>
                  </a:lnTo>
                  <a:lnTo>
                    <a:pt x="3062" y="57"/>
                  </a:lnTo>
                  <a:lnTo>
                    <a:pt x="3059" y="66"/>
                  </a:lnTo>
                  <a:lnTo>
                    <a:pt x="3059" y="74"/>
                  </a:lnTo>
                  <a:lnTo>
                    <a:pt x="3059" y="83"/>
                  </a:lnTo>
                  <a:lnTo>
                    <a:pt x="3068" y="89"/>
                  </a:lnTo>
                  <a:lnTo>
                    <a:pt x="3077" y="92"/>
                  </a:lnTo>
                  <a:lnTo>
                    <a:pt x="3085" y="97"/>
                  </a:lnTo>
                  <a:lnTo>
                    <a:pt x="3097" y="103"/>
                  </a:lnTo>
                  <a:lnTo>
                    <a:pt x="3106" y="103"/>
                  </a:lnTo>
                  <a:lnTo>
                    <a:pt x="3114" y="103"/>
                  </a:lnTo>
                  <a:lnTo>
                    <a:pt x="3114" y="95"/>
                  </a:lnTo>
                  <a:lnTo>
                    <a:pt x="3123" y="95"/>
                  </a:lnTo>
                  <a:lnTo>
                    <a:pt x="3114" y="103"/>
                  </a:lnTo>
                  <a:lnTo>
                    <a:pt x="3106" y="103"/>
                  </a:lnTo>
                  <a:lnTo>
                    <a:pt x="3097" y="103"/>
                  </a:lnTo>
                  <a:lnTo>
                    <a:pt x="3088" y="109"/>
                  </a:lnTo>
                  <a:lnTo>
                    <a:pt x="3085" y="118"/>
                  </a:lnTo>
                  <a:lnTo>
                    <a:pt x="3085" y="126"/>
                  </a:lnTo>
                  <a:lnTo>
                    <a:pt x="3080" y="135"/>
                  </a:lnTo>
                  <a:lnTo>
                    <a:pt x="3088" y="138"/>
                  </a:lnTo>
                  <a:lnTo>
                    <a:pt x="3082" y="146"/>
                  </a:lnTo>
                  <a:lnTo>
                    <a:pt x="3080" y="155"/>
                  </a:lnTo>
                  <a:lnTo>
                    <a:pt x="3074" y="164"/>
                  </a:lnTo>
                  <a:lnTo>
                    <a:pt x="3074" y="172"/>
                  </a:lnTo>
                  <a:lnTo>
                    <a:pt x="3074" y="181"/>
                  </a:lnTo>
                  <a:lnTo>
                    <a:pt x="3074" y="190"/>
                  </a:lnTo>
                  <a:lnTo>
                    <a:pt x="3085" y="190"/>
                  </a:lnTo>
                  <a:lnTo>
                    <a:pt x="3094" y="190"/>
                  </a:lnTo>
                  <a:lnTo>
                    <a:pt x="3088" y="198"/>
                  </a:lnTo>
                  <a:lnTo>
                    <a:pt x="3080" y="204"/>
                  </a:lnTo>
                  <a:lnTo>
                    <a:pt x="3074" y="213"/>
                  </a:lnTo>
                  <a:lnTo>
                    <a:pt x="3071" y="221"/>
                  </a:lnTo>
                  <a:lnTo>
                    <a:pt x="3071" y="230"/>
                  </a:lnTo>
                  <a:lnTo>
                    <a:pt x="3071" y="239"/>
                  </a:lnTo>
                  <a:lnTo>
                    <a:pt x="3068" y="247"/>
                  </a:lnTo>
                  <a:lnTo>
                    <a:pt x="3062" y="256"/>
                  </a:lnTo>
                  <a:lnTo>
                    <a:pt x="3059" y="265"/>
                  </a:lnTo>
                  <a:lnTo>
                    <a:pt x="3059" y="273"/>
                  </a:lnTo>
                  <a:lnTo>
                    <a:pt x="3059" y="282"/>
                  </a:lnTo>
                  <a:lnTo>
                    <a:pt x="3059" y="291"/>
                  </a:lnTo>
                  <a:lnTo>
                    <a:pt x="3059" y="299"/>
                  </a:lnTo>
                  <a:lnTo>
                    <a:pt x="3059" y="311"/>
                  </a:lnTo>
                  <a:lnTo>
                    <a:pt x="3065" y="319"/>
                  </a:lnTo>
                  <a:lnTo>
                    <a:pt x="3074" y="325"/>
                  </a:lnTo>
                  <a:lnTo>
                    <a:pt x="3082" y="328"/>
                  </a:lnTo>
                  <a:lnTo>
                    <a:pt x="3082" y="337"/>
                  </a:lnTo>
                  <a:lnTo>
                    <a:pt x="3082" y="345"/>
                  </a:lnTo>
                  <a:lnTo>
                    <a:pt x="3085" y="354"/>
                  </a:lnTo>
                  <a:lnTo>
                    <a:pt x="3085" y="363"/>
                  </a:lnTo>
                  <a:lnTo>
                    <a:pt x="3088" y="371"/>
                  </a:lnTo>
                  <a:lnTo>
                    <a:pt x="3088" y="380"/>
                  </a:lnTo>
                  <a:lnTo>
                    <a:pt x="3091" y="389"/>
                  </a:lnTo>
                  <a:lnTo>
                    <a:pt x="3094" y="397"/>
                  </a:lnTo>
                  <a:lnTo>
                    <a:pt x="3097" y="406"/>
                  </a:lnTo>
                  <a:lnTo>
                    <a:pt x="3109" y="412"/>
                  </a:lnTo>
                  <a:lnTo>
                    <a:pt x="3117" y="412"/>
                  </a:lnTo>
                  <a:lnTo>
                    <a:pt x="3126" y="412"/>
                  </a:lnTo>
                  <a:lnTo>
                    <a:pt x="3135" y="412"/>
                  </a:lnTo>
                  <a:lnTo>
                    <a:pt x="3135" y="403"/>
                  </a:lnTo>
                  <a:lnTo>
                    <a:pt x="3138" y="394"/>
                  </a:lnTo>
                  <a:lnTo>
                    <a:pt x="3147" y="391"/>
                  </a:lnTo>
                  <a:lnTo>
                    <a:pt x="3155" y="391"/>
                  </a:lnTo>
                  <a:lnTo>
                    <a:pt x="3164" y="394"/>
                  </a:lnTo>
                  <a:lnTo>
                    <a:pt x="3167" y="403"/>
                  </a:lnTo>
                  <a:lnTo>
                    <a:pt x="3167" y="412"/>
                  </a:lnTo>
                  <a:lnTo>
                    <a:pt x="3164" y="420"/>
                  </a:lnTo>
                  <a:lnTo>
                    <a:pt x="3155" y="423"/>
                  </a:lnTo>
                  <a:lnTo>
                    <a:pt x="3152" y="432"/>
                  </a:lnTo>
                  <a:lnTo>
                    <a:pt x="3144" y="438"/>
                  </a:lnTo>
                  <a:lnTo>
                    <a:pt x="3138" y="429"/>
                  </a:lnTo>
                  <a:lnTo>
                    <a:pt x="3129" y="420"/>
                  </a:lnTo>
                  <a:lnTo>
                    <a:pt x="3120" y="420"/>
                  </a:lnTo>
                  <a:lnTo>
                    <a:pt x="3114" y="429"/>
                  </a:lnTo>
                  <a:lnTo>
                    <a:pt x="3114" y="438"/>
                  </a:lnTo>
                  <a:lnTo>
                    <a:pt x="3114" y="446"/>
                  </a:lnTo>
                  <a:lnTo>
                    <a:pt x="3123" y="452"/>
                  </a:lnTo>
                  <a:lnTo>
                    <a:pt x="3132" y="452"/>
                  </a:lnTo>
                  <a:lnTo>
                    <a:pt x="3141" y="452"/>
                  </a:lnTo>
                  <a:lnTo>
                    <a:pt x="3135" y="461"/>
                  </a:lnTo>
                  <a:lnTo>
                    <a:pt x="3138" y="469"/>
                  </a:lnTo>
                  <a:lnTo>
                    <a:pt x="3147" y="472"/>
                  </a:lnTo>
                  <a:lnTo>
                    <a:pt x="3147" y="463"/>
                  </a:lnTo>
                  <a:lnTo>
                    <a:pt x="3144" y="455"/>
                  </a:lnTo>
                  <a:lnTo>
                    <a:pt x="3144" y="466"/>
                  </a:lnTo>
                  <a:lnTo>
                    <a:pt x="3144" y="475"/>
                  </a:lnTo>
                  <a:lnTo>
                    <a:pt x="3144" y="484"/>
                  </a:lnTo>
                  <a:lnTo>
                    <a:pt x="3144" y="492"/>
                  </a:lnTo>
                  <a:lnTo>
                    <a:pt x="3144" y="501"/>
                  </a:lnTo>
                  <a:lnTo>
                    <a:pt x="3144" y="510"/>
                  </a:lnTo>
                  <a:lnTo>
                    <a:pt x="3152" y="518"/>
                  </a:lnTo>
                  <a:lnTo>
                    <a:pt x="3161" y="527"/>
                  </a:lnTo>
                  <a:lnTo>
                    <a:pt x="3167" y="538"/>
                  </a:lnTo>
                  <a:lnTo>
                    <a:pt x="3176" y="544"/>
                  </a:lnTo>
                  <a:lnTo>
                    <a:pt x="3184" y="550"/>
                  </a:lnTo>
                  <a:lnTo>
                    <a:pt x="3196" y="550"/>
                  </a:lnTo>
                  <a:lnTo>
                    <a:pt x="3205" y="550"/>
                  </a:lnTo>
                  <a:lnTo>
                    <a:pt x="3213" y="550"/>
                  </a:lnTo>
                  <a:lnTo>
                    <a:pt x="3205" y="550"/>
                  </a:lnTo>
                  <a:lnTo>
                    <a:pt x="3193" y="550"/>
                  </a:lnTo>
                  <a:lnTo>
                    <a:pt x="3184" y="553"/>
                  </a:lnTo>
                  <a:lnTo>
                    <a:pt x="3179" y="561"/>
                  </a:lnTo>
                  <a:lnTo>
                    <a:pt x="3176" y="570"/>
                  </a:lnTo>
                  <a:lnTo>
                    <a:pt x="3173" y="579"/>
                  </a:lnTo>
                  <a:lnTo>
                    <a:pt x="3164" y="582"/>
                  </a:lnTo>
                  <a:lnTo>
                    <a:pt x="3155" y="582"/>
                  </a:lnTo>
                  <a:lnTo>
                    <a:pt x="3147" y="582"/>
                  </a:lnTo>
                  <a:lnTo>
                    <a:pt x="3132" y="576"/>
                  </a:lnTo>
                  <a:lnTo>
                    <a:pt x="3120" y="576"/>
                  </a:lnTo>
                  <a:lnTo>
                    <a:pt x="3109" y="576"/>
                  </a:lnTo>
                  <a:lnTo>
                    <a:pt x="3103" y="585"/>
                  </a:lnTo>
                  <a:lnTo>
                    <a:pt x="3100" y="593"/>
                  </a:lnTo>
                  <a:lnTo>
                    <a:pt x="3100" y="602"/>
                  </a:lnTo>
                  <a:lnTo>
                    <a:pt x="3100" y="610"/>
                  </a:lnTo>
                  <a:lnTo>
                    <a:pt x="3100" y="619"/>
                  </a:lnTo>
                  <a:lnTo>
                    <a:pt x="3100" y="628"/>
                  </a:lnTo>
                  <a:lnTo>
                    <a:pt x="3103" y="636"/>
                  </a:lnTo>
                  <a:lnTo>
                    <a:pt x="3106" y="645"/>
                  </a:lnTo>
                  <a:lnTo>
                    <a:pt x="3112" y="654"/>
                  </a:lnTo>
                  <a:lnTo>
                    <a:pt x="3117" y="662"/>
                  </a:lnTo>
                  <a:lnTo>
                    <a:pt x="3120" y="671"/>
                  </a:lnTo>
                  <a:lnTo>
                    <a:pt x="3123" y="680"/>
                  </a:lnTo>
                  <a:lnTo>
                    <a:pt x="3123" y="688"/>
                  </a:lnTo>
                  <a:lnTo>
                    <a:pt x="3123" y="697"/>
                  </a:lnTo>
                  <a:lnTo>
                    <a:pt x="3123" y="706"/>
                  </a:lnTo>
                  <a:lnTo>
                    <a:pt x="3114" y="711"/>
                  </a:lnTo>
                  <a:lnTo>
                    <a:pt x="3106" y="720"/>
                  </a:lnTo>
                  <a:lnTo>
                    <a:pt x="3103" y="729"/>
                  </a:lnTo>
                  <a:lnTo>
                    <a:pt x="3103" y="737"/>
                  </a:lnTo>
                  <a:lnTo>
                    <a:pt x="3094" y="740"/>
                  </a:lnTo>
                  <a:lnTo>
                    <a:pt x="3085" y="743"/>
                  </a:lnTo>
                  <a:lnTo>
                    <a:pt x="3077" y="746"/>
                  </a:lnTo>
                  <a:lnTo>
                    <a:pt x="3068" y="746"/>
                  </a:lnTo>
                  <a:lnTo>
                    <a:pt x="3059" y="752"/>
                  </a:lnTo>
                  <a:lnTo>
                    <a:pt x="3050" y="760"/>
                  </a:lnTo>
                  <a:lnTo>
                    <a:pt x="3050" y="769"/>
                  </a:lnTo>
                  <a:lnTo>
                    <a:pt x="3050" y="778"/>
                  </a:lnTo>
                  <a:lnTo>
                    <a:pt x="3056" y="786"/>
                  </a:lnTo>
                  <a:lnTo>
                    <a:pt x="3065" y="789"/>
                  </a:lnTo>
                  <a:lnTo>
                    <a:pt x="3074" y="795"/>
                  </a:lnTo>
                  <a:lnTo>
                    <a:pt x="3074" y="804"/>
                  </a:lnTo>
                  <a:lnTo>
                    <a:pt x="3062" y="806"/>
                  </a:lnTo>
                  <a:lnTo>
                    <a:pt x="3050" y="806"/>
                  </a:lnTo>
                  <a:lnTo>
                    <a:pt x="3053" y="798"/>
                  </a:lnTo>
                  <a:lnTo>
                    <a:pt x="3045" y="792"/>
                  </a:lnTo>
                  <a:lnTo>
                    <a:pt x="3036" y="798"/>
                  </a:lnTo>
                  <a:lnTo>
                    <a:pt x="3036" y="809"/>
                  </a:lnTo>
                  <a:lnTo>
                    <a:pt x="3036" y="818"/>
                  </a:lnTo>
                  <a:lnTo>
                    <a:pt x="3033" y="827"/>
                  </a:lnTo>
                  <a:lnTo>
                    <a:pt x="3030" y="835"/>
                  </a:lnTo>
                  <a:lnTo>
                    <a:pt x="3024" y="844"/>
                  </a:lnTo>
                  <a:lnTo>
                    <a:pt x="3016" y="853"/>
                  </a:lnTo>
                  <a:lnTo>
                    <a:pt x="3013" y="861"/>
                  </a:lnTo>
                  <a:lnTo>
                    <a:pt x="3021" y="864"/>
                  </a:lnTo>
                  <a:lnTo>
                    <a:pt x="3030" y="864"/>
                  </a:lnTo>
                  <a:lnTo>
                    <a:pt x="3033" y="873"/>
                  </a:lnTo>
                  <a:lnTo>
                    <a:pt x="3033" y="881"/>
                  </a:lnTo>
                  <a:lnTo>
                    <a:pt x="3042" y="890"/>
                  </a:lnTo>
                  <a:lnTo>
                    <a:pt x="3050" y="893"/>
                  </a:lnTo>
                  <a:lnTo>
                    <a:pt x="3062" y="893"/>
                  </a:lnTo>
                  <a:lnTo>
                    <a:pt x="3071" y="887"/>
                  </a:lnTo>
                  <a:lnTo>
                    <a:pt x="3080" y="887"/>
                  </a:lnTo>
                  <a:lnTo>
                    <a:pt x="3088" y="887"/>
                  </a:lnTo>
                  <a:lnTo>
                    <a:pt x="3085" y="896"/>
                  </a:lnTo>
                  <a:lnTo>
                    <a:pt x="3082" y="904"/>
                  </a:lnTo>
                  <a:lnTo>
                    <a:pt x="3080" y="913"/>
                  </a:lnTo>
                  <a:lnTo>
                    <a:pt x="3088" y="919"/>
                  </a:lnTo>
                  <a:lnTo>
                    <a:pt x="3088" y="927"/>
                  </a:lnTo>
                  <a:lnTo>
                    <a:pt x="3080" y="933"/>
                  </a:lnTo>
                  <a:lnTo>
                    <a:pt x="3077" y="942"/>
                  </a:lnTo>
                  <a:lnTo>
                    <a:pt x="3077" y="950"/>
                  </a:lnTo>
                  <a:lnTo>
                    <a:pt x="3074" y="959"/>
                  </a:lnTo>
                  <a:lnTo>
                    <a:pt x="3074" y="968"/>
                  </a:lnTo>
                  <a:lnTo>
                    <a:pt x="3077" y="959"/>
                  </a:lnTo>
                  <a:lnTo>
                    <a:pt x="3065" y="942"/>
                  </a:lnTo>
                  <a:lnTo>
                    <a:pt x="3071" y="962"/>
                  </a:lnTo>
                  <a:lnTo>
                    <a:pt x="3062" y="962"/>
                  </a:lnTo>
                  <a:lnTo>
                    <a:pt x="3074" y="968"/>
                  </a:lnTo>
                  <a:lnTo>
                    <a:pt x="3074" y="976"/>
                  </a:lnTo>
                  <a:lnTo>
                    <a:pt x="3059" y="976"/>
                  </a:lnTo>
                  <a:lnTo>
                    <a:pt x="3050" y="979"/>
                  </a:lnTo>
                  <a:lnTo>
                    <a:pt x="3039" y="979"/>
                  </a:lnTo>
                  <a:lnTo>
                    <a:pt x="3039" y="988"/>
                  </a:lnTo>
                  <a:lnTo>
                    <a:pt x="3048" y="991"/>
                  </a:lnTo>
                  <a:lnTo>
                    <a:pt x="3056" y="991"/>
                  </a:lnTo>
                  <a:lnTo>
                    <a:pt x="3065" y="997"/>
                  </a:lnTo>
                  <a:lnTo>
                    <a:pt x="3074" y="1005"/>
                  </a:lnTo>
                  <a:lnTo>
                    <a:pt x="3077" y="1014"/>
                  </a:lnTo>
                  <a:lnTo>
                    <a:pt x="3082" y="1023"/>
                  </a:lnTo>
                  <a:lnTo>
                    <a:pt x="3088" y="1031"/>
                  </a:lnTo>
                  <a:lnTo>
                    <a:pt x="3080" y="1034"/>
                  </a:lnTo>
                  <a:lnTo>
                    <a:pt x="3071" y="1034"/>
                  </a:lnTo>
                  <a:lnTo>
                    <a:pt x="3062" y="1040"/>
                  </a:lnTo>
                  <a:lnTo>
                    <a:pt x="3050" y="1043"/>
                  </a:lnTo>
                  <a:lnTo>
                    <a:pt x="3039" y="1046"/>
                  </a:lnTo>
                  <a:lnTo>
                    <a:pt x="3030" y="1046"/>
                  </a:lnTo>
                  <a:lnTo>
                    <a:pt x="3018" y="1046"/>
                  </a:lnTo>
                  <a:lnTo>
                    <a:pt x="3010" y="1037"/>
                  </a:lnTo>
                  <a:lnTo>
                    <a:pt x="3007" y="1028"/>
                  </a:lnTo>
                  <a:lnTo>
                    <a:pt x="3010" y="1020"/>
                  </a:lnTo>
                  <a:lnTo>
                    <a:pt x="3013" y="1011"/>
                  </a:lnTo>
                  <a:lnTo>
                    <a:pt x="3004" y="1011"/>
                  </a:lnTo>
                  <a:lnTo>
                    <a:pt x="2992" y="1008"/>
                  </a:lnTo>
                  <a:lnTo>
                    <a:pt x="2983" y="1008"/>
                  </a:lnTo>
                  <a:lnTo>
                    <a:pt x="2978" y="1017"/>
                  </a:lnTo>
                  <a:lnTo>
                    <a:pt x="2978" y="1025"/>
                  </a:lnTo>
                  <a:lnTo>
                    <a:pt x="2983" y="1034"/>
                  </a:lnTo>
                  <a:lnTo>
                    <a:pt x="2989" y="1043"/>
                  </a:lnTo>
                  <a:lnTo>
                    <a:pt x="2992" y="1051"/>
                  </a:lnTo>
                  <a:lnTo>
                    <a:pt x="3001" y="1054"/>
                  </a:lnTo>
                  <a:lnTo>
                    <a:pt x="3010" y="1060"/>
                  </a:lnTo>
                  <a:lnTo>
                    <a:pt x="3018" y="1063"/>
                  </a:lnTo>
                  <a:lnTo>
                    <a:pt x="3027" y="1063"/>
                  </a:lnTo>
                  <a:lnTo>
                    <a:pt x="3036" y="1060"/>
                  </a:lnTo>
                  <a:lnTo>
                    <a:pt x="3027" y="1060"/>
                  </a:lnTo>
                  <a:lnTo>
                    <a:pt x="3018" y="1057"/>
                  </a:lnTo>
                  <a:lnTo>
                    <a:pt x="3010" y="1054"/>
                  </a:lnTo>
                  <a:lnTo>
                    <a:pt x="3004" y="1046"/>
                  </a:lnTo>
                  <a:lnTo>
                    <a:pt x="2995" y="1040"/>
                  </a:lnTo>
                  <a:lnTo>
                    <a:pt x="2992" y="1031"/>
                  </a:lnTo>
                  <a:lnTo>
                    <a:pt x="2983" y="1023"/>
                  </a:lnTo>
                  <a:lnTo>
                    <a:pt x="2978" y="1014"/>
                  </a:lnTo>
                  <a:lnTo>
                    <a:pt x="2969" y="1005"/>
                  </a:lnTo>
                  <a:lnTo>
                    <a:pt x="2966" y="1014"/>
                  </a:lnTo>
                  <a:lnTo>
                    <a:pt x="2954" y="1023"/>
                  </a:lnTo>
                  <a:lnTo>
                    <a:pt x="2946" y="1023"/>
                  </a:lnTo>
                  <a:lnTo>
                    <a:pt x="2943" y="1034"/>
                  </a:lnTo>
                  <a:lnTo>
                    <a:pt x="2943" y="1043"/>
                  </a:lnTo>
                  <a:lnTo>
                    <a:pt x="2951" y="1051"/>
                  </a:lnTo>
                  <a:lnTo>
                    <a:pt x="2963" y="1051"/>
                  </a:lnTo>
                  <a:lnTo>
                    <a:pt x="2975" y="1054"/>
                  </a:lnTo>
                  <a:lnTo>
                    <a:pt x="2963" y="1051"/>
                  </a:lnTo>
                  <a:lnTo>
                    <a:pt x="2951" y="1046"/>
                  </a:lnTo>
                  <a:lnTo>
                    <a:pt x="2943" y="1043"/>
                  </a:lnTo>
                  <a:lnTo>
                    <a:pt x="2934" y="1051"/>
                  </a:lnTo>
                  <a:lnTo>
                    <a:pt x="2928" y="1060"/>
                  </a:lnTo>
                  <a:lnTo>
                    <a:pt x="2919" y="1060"/>
                  </a:lnTo>
                  <a:lnTo>
                    <a:pt x="2919" y="1069"/>
                  </a:lnTo>
                  <a:lnTo>
                    <a:pt x="2931" y="1077"/>
                  </a:lnTo>
                  <a:lnTo>
                    <a:pt x="2943" y="1086"/>
                  </a:lnTo>
                  <a:lnTo>
                    <a:pt x="2951" y="1089"/>
                  </a:lnTo>
                  <a:lnTo>
                    <a:pt x="2960" y="1089"/>
                  </a:lnTo>
                  <a:lnTo>
                    <a:pt x="2969" y="1089"/>
                  </a:lnTo>
                  <a:lnTo>
                    <a:pt x="2972" y="1080"/>
                  </a:lnTo>
                  <a:lnTo>
                    <a:pt x="2975" y="1072"/>
                  </a:lnTo>
                  <a:lnTo>
                    <a:pt x="2975" y="1063"/>
                  </a:lnTo>
                  <a:lnTo>
                    <a:pt x="2978" y="1054"/>
                  </a:lnTo>
                  <a:lnTo>
                    <a:pt x="2981" y="1063"/>
                  </a:lnTo>
                  <a:lnTo>
                    <a:pt x="2981" y="1072"/>
                  </a:lnTo>
                  <a:lnTo>
                    <a:pt x="2975" y="1080"/>
                  </a:lnTo>
                  <a:lnTo>
                    <a:pt x="2969" y="1089"/>
                  </a:lnTo>
                  <a:lnTo>
                    <a:pt x="2957" y="1089"/>
                  </a:lnTo>
                  <a:lnTo>
                    <a:pt x="2949" y="1089"/>
                  </a:lnTo>
                  <a:lnTo>
                    <a:pt x="2940" y="1097"/>
                  </a:lnTo>
                  <a:lnTo>
                    <a:pt x="2937" y="1106"/>
                  </a:lnTo>
                  <a:lnTo>
                    <a:pt x="2934" y="1115"/>
                  </a:lnTo>
                  <a:lnTo>
                    <a:pt x="2934" y="1123"/>
                  </a:lnTo>
                  <a:lnTo>
                    <a:pt x="2925" y="1129"/>
                  </a:lnTo>
                  <a:lnTo>
                    <a:pt x="2917" y="1135"/>
                  </a:lnTo>
                  <a:lnTo>
                    <a:pt x="2908" y="1138"/>
                  </a:lnTo>
                  <a:lnTo>
                    <a:pt x="2899" y="1138"/>
                  </a:lnTo>
                  <a:lnTo>
                    <a:pt x="2893" y="1129"/>
                  </a:lnTo>
                  <a:lnTo>
                    <a:pt x="2884" y="1129"/>
                  </a:lnTo>
                  <a:lnTo>
                    <a:pt x="2876" y="1129"/>
                  </a:lnTo>
                  <a:lnTo>
                    <a:pt x="2867" y="1135"/>
                  </a:lnTo>
                  <a:lnTo>
                    <a:pt x="2864" y="1144"/>
                  </a:lnTo>
                  <a:lnTo>
                    <a:pt x="2861" y="1152"/>
                  </a:lnTo>
                  <a:lnTo>
                    <a:pt x="2861" y="1161"/>
                  </a:lnTo>
                  <a:lnTo>
                    <a:pt x="2858" y="1170"/>
                  </a:lnTo>
                  <a:lnTo>
                    <a:pt x="2852" y="1178"/>
                  </a:lnTo>
                  <a:lnTo>
                    <a:pt x="2844" y="1181"/>
                  </a:lnTo>
                  <a:lnTo>
                    <a:pt x="2835" y="1181"/>
                  </a:lnTo>
                  <a:lnTo>
                    <a:pt x="2826" y="1184"/>
                  </a:lnTo>
                  <a:lnTo>
                    <a:pt x="2818" y="1175"/>
                  </a:lnTo>
                  <a:lnTo>
                    <a:pt x="2809" y="1167"/>
                  </a:lnTo>
                  <a:lnTo>
                    <a:pt x="2806" y="1175"/>
                  </a:lnTo>
                  <a:lnTo>
                    <a:pt x="2806" y="1184"/>
                  </a:lnTo>
                  <a:lnTo>
                    <a:pt x="2806" y="1193"/>
                  </a:lnTo>
                  <a:lnTo>
                    <a:pt x="2806" y="1204"/>
                  </a:lnTo>
                  <a:lnTo>
                    <a:pt x="2806" y="1213"/>
                  </a:lnTo>
                  <a:lnTo>
                    <a:pt x="2815" y="1213"/>
                  </a:lnTo>
                  <a:lnTo>
                    <a:pt x="2823" y="1216"/>
                  </a:lnTo>
                  <a:lnTo>
                    <a:pt x="2826" y="1224"/>
                  </a:lnTo>
                  <a:lnTo>
                    <a:pt x="2826" y="1233"/>
                  </a:lnTo>
                  <a:lnTo>
                    <a:pt x="2826" y="1242"/>
                  </a:lnTo>
                  <a:lnTo>
                    <a:pt x="2823" y="1250"/>
                  </a:lnTo>
                  <a:lnTo>
                    <a:pt x="2815" y="1253"/>
                  </a:lnTo>
                  <a:lnTo>
                    <a:pt x="2809" y="1262"/>
                  </a:lnTo>
                  <a:lnTo>
                    <a:pt x="2809" y="1270"/>
                  </a:lnTo>
                  <a:lnTo>
                    <a:pt x="2809" y="1279"/>
                  </a:lnTo>
                  <a:lnTo>
                    <a:pt x="2809" y="1288"/>
                  </a:lnTo>
                  <a:lnTo>
                    <a:pt x="2809" y="1279"/>
                  </a:lnTo>
                  <a:lnTo>
                    <a:pt x="2806" y="1270"/>
                  </a:lnTo>
                  <a:lnTo>
                    <a:pt x="2806" y="1262"/>
                  </a:lnTo>
                  <a:lnTo>
                    <a:pt x="2800" y="1253"/>
                  </a:lnTo>
                  <a:lnTo>
                    <a:pt x="2797" y="1244"/>
                  </a:lnTo>
                  <a:lnTo>
                    <a:pt x="2794" y="1236"/>
                  </a:lnTo>
                  <a:lnTo>
                    <a:pt x="2794" y="1227"/>
                  </a:lnTo>
                  <a:lnTo>
                    <a:pt x="2794" y="1218"/>
                  </a:lnTo>
                  <a:lnTo>
                    <a:pt x="2800" y="1210"/>
                  </a:lnTo>
                  <a:lnTo>
                    <a:pt x="2803" y="1201"/>
                  </a:lnTo>
                  <a:lnTo>
                    <a:pt x="2800" y="1193"/>
                  </a:lnTo>
                  <a:lnTo>
                    <a:pt x="2791" y="1187"/>
                  </a:lnTo>
                  <a:lnTo>
                    <a:pt x="2788" y="1178"/>
                  </a:lnTo>
                  <a:lnTo>
                    <a:pt x="2788" y="1170"/>
                  </a:lnTo>
                  <a:lnTo>
                    <a:pt x="2788" y="1161"/>
                  </a:lnTo>
                  <a:lnTo>
                    <a:pt x="2788" y="1152"/>
                  </a:lnTo>
                  <a:lnTo>
                    <a:pt x="2786" y="1144"/>
                  </a:lnTo>
                  <a:lnTo>
                    <a:pt x="2786" y="1135"/>
                  </a:lnTo>
                  <a:lnTo>
                    <a:pt x="2780" y="1126"/>
                  </a:lnTo>
                  <a:lnTo>
                    <a:pt x="2768" y="1121"/>
                  </a:lnTo>
                  <a:lnTo>
                    <a:pt x="2759" y="1115"/>
                  </a:lnTo>
                  <a:lnTo>
                    <a:pt x="2748" y="1112"/>
                  </a:lnTo>
                  <a:lnTo>
                    <a:pt x="2736" y="1109"/>
                  </a:lnTo>
                  <a:lnTo>
                    <a:pt x="2724" y="1106"/>
                  </a:lnTo>
                  <a:lnTo>
                    <a:pt x="2716" y="1106"/>
                  </a:lnTo>
                  <a:lnTo>
                    <a:pt x="2710" y="1115"/>
                  </a:lnTo>
                  <a:lnTo>
                    <a:pt x="2704" y="1123"/>
                  </a:lnTo>
                  <a:lnTo>
                    <a:pt x="2698" y="1132"/>
                  </a:lnTo>
                  <a:lnTo>
                    <a:pt x="2692" y="1126"/>
                  </a:lnTo>
                  <a:lnTo>
                    <a:pt x="2695" y="1112"/>
                  </a:lnTo>
                  <a:lnTo>
                    <a:pt x="2695" y="1121"/>
                  </a:lnTo>
                  <a:lnTo>
                    <a:pt x="2692" y="1129"/>
                  </a:lnTo>
                  <a:lnTo>
                    <a:pt x="2692" y="1138"/>
                  </a:lnTo>
                  <a:lnTo>
                    <a:pt x="2687" y="1146"/>
                  </a:lnTo>
                  <a:lnTo>
                    <a:pt x="2687" y="1155"/>
                  </a:lnTo>
                  <a:lnTo>
                    <a:pt x="2687" y="1164"/>
                  </a:lnTo>
                  <a:lnTo>
                    <a:pt x="2678" y="1167"/>
                  </a:lnTo>
                  <a:lnTo>
                    <a:pt x="2669" y="1167"/>
                  </a:lnTo>
                  <a:lnTo>
                    <a:pt x="2666" y="1158"/>
                  </a:lnTo>
                  <a:lnTo>
                    <a:pt x="2666" y="1149"/>
                  </a:lnTo>
                  <a:lnTo>
                    <a:pt x="2657" y="1146"/>
                  </a:lnTo>
                  <a:lnTo>
                    <a:pt x="2649" y="1152"/>
                  </a:lnTo>
                  <a:lnTo>
                    <a:pt x="2646" y="1141"/>
                  </a:lnTo>
                  <a:lnTo>
                    <a:pt x="2634" y="1135"/>
                  </a:lnTo>
                  <a:lnTo>
                    <a:pt x="2625" y="1135"/>
                  </a:lnTo>
                  <a:lnTo>
                    <a:pt x="2617" y="1135"/>
                  </a:lnTo>
                  <a:lnTo>
                    <a:pt x="2614" y="1144"/>
                  </a:lnTo>
                  <a:lnTo>
                    <a:pt x="2614" y="1152"/>
                  </a:lnTo>
                  <a:lnTo>
                    <a:pt x="2614" y="1161"/>
                  </a:lnTo>
                  <a:lnTo>
                    <a:pt x="2617" y="1170"/>
                  </a:lnTo>
                  <a:lnTo>
                    <a:pt x="2617" y="1178"/>
                  </a:lnTo>
                  <a:lnTo>
                    <a:pt x="2620" y="1187"/>
                  </a:lnTo>
                  <a:lnTo>
                    <a:pt x="2625" y="1195"/>
                  </a:lnTo>
                  <a:lnTo>
                    <a:pt x="2634" y="1201"/>
                  </a:lnTo>
                  <a:lnTo>
                    <a:pt x="2643" y="1201"/>
                  </a:lnTo>
                  <a:lnTo>
                    <a:pt x="2652" y="1201"/>
                  </a:lnTo>
                  <a:lnTo>
                    <a:pt x="2643" y="1201"/>
                  </a:lnTo>
                  <a:lnTo>
                    <a:pt x="2634" y="1207"/>
                  </a:lnTo>
                  <a:lnTo>
                    <a:pt x="2625" y="1216"/>
                  </a:lnTo>
                  <a:lnTo>
                    <a:pt x="2625" y="1224"/>
                  </a:lnTo>
                  <a:lnTo>
                    <a:pt x="2634" y="1224"/>
                  </a:lnTo>
                  <a:lnTo>
                    <a:pt x="2643" y="1230"/>
                  </a:lnTo>
                  <a:lnTo>
                    <a:pt x="2646" y="1242"/>
                  </a:lnTo>
                  <a:lnTo>
                    <a:pt x="2652" y="1253"/>
                  </a:lnTo>
                  <a:lnTo>
                    <a:pt x="2660" y="1259"/>
                  </a:lnTo>
                  <a:lnTo>
                    <a:pt x="2672" y="1265"/>
                  </a:lnTo>
                  <a:lnTo>
                    <a:pt x="2663" y="1262"/>
                  </a:lnTo>
                  <a:lnTo>
                    <a:pt x="2655" y="1256"/>
                  </a:lnTo>
                  <a:lnTo>
                    <a:pt x="2663" y="1250"/>
                  </a:lnTo>
                  <a:lnTo>
                    <a:pt x="2672" y="1250"/>
                  </a:lnTo>
                  <a:lnTo>
                    <a:pt x="2681" y="1253"/>
                  </a:lnTo>
                  <a:lnTo>
                    <a:pt x="2669" y="1256"/>
                  </a:lnTo>
                  <a:lnTo>
                    <a:pt x="2655" y="1256"/>
                  </a:lnTo>
                  <a:lnTo>
                    <a:pt x="2646" y="1247"/>
                  </a:lnTo>
                  <a:lnTo>
                    <a:pt x="2643" y="1236"/>
                  </a:lnTo>
                  <a:lnTo>
                    <a:pt x="2640" y="1227"/>
                  </a:lnTo>
                  <a:lnTo>
                    <a:pt x="2631" y="1227"/>
                  </a:lnTo>
                  <a:lnTo>
                    <a:pt x="2625" y="1236"/>
                  </a:lnTo>
                  <a:lnTo>
                    <a:pt x="2625" y="1247"/>
                  </a:lnTo>
                  <a:lnTo>
                    <a:pt x="2625" y="1259"/>
                  </a:lnTo>
                  <a:lnTo>
                    <a:pt x="2617" y="1259"/>
                  </a:lnTo>
                  <a:lnTo>
                    <a:pt x="2608" y="1256"/>
                  </a:lnTo>
                  <a:lnTo>
                    <a:pt x="2605" y="1247"/>
                  </a:lnTo>
                  <a:lnTo>
                    <a:pt x="2596" y="1253"/>
                  </a:lnTo>
                  <a:lnTo>
                    <a:pt x="2588" y="1262"/>
                  </a:lnTo>
                  <a:lnTo>
                    <a:pt x="2582" y="1270"/>
                  </a:lnTo>
                  <a:lnTo>
                    <a:pt x="2582" y="1279"/>
                  </a:lnTo>
                  <a:lnTo>
                    <a:pt x="2582" y="1288"/>
                  </a:lnTo>
                  <a:lnTo>
                    <a:pt x="2576" y="1296"/>
                  </a:lnTo>
                  <a:lnTo>
                    <a:pt x="2573" y="1305"/>
                  </a:lnTo>
                  <a:lnTo>
                    <a:pt x="2567" y="1314"/>
                  </a:lnTo>
                  <a:lnTo>
                    <a:pt x="2553" y="1311"/>
                  </a:lnTo>
                  <a:lnTo>
                    <a:pt x="2567" y="1305"/>
                  </a:lnTo>
                  <a:lnTo>
                    <a:pt x="2561" y="1314"/>
                  </a:lnTo>
                  <a:lnTo>
                    <a:pt x="2558" y="1322"/>
                  </a:lnTo>
                  <a:lnTo>
                    <a:pt x="2558" y="1331"/>
                  </a:lnTo>
                  <a:lnTo>
                    <a:pt x="2558" y="1340"/>
                  </a:lnTo>
                  <a:lnTo>
                    <a:pt x="2558" y="1348"/>
                  </a:lnTo>
                  <a:lnTo>
                    <a:pt x="2558" y="1360"/>
                  </a:lnTo>
                  <a:lnTo>
                    <a:pt x="2558" y="1368"/>
                  </a:lnTo>
                  <a:lnTo>
                    <a:pt x="2550" y="1380"/>
                  </a:lnTo>
                  <a:lnTo>
                    <a:pt x="2547" y="1389"/>
                  </a:lnTo>
                  <a:lnTo>
                    <a:pt x="2544" y="1397"/>
                  </a:lnTo>
                  <a:lnTo>
                    <a:pt x="2538" y="1406"/>
                  </a:lnTo>
                  <a:lnTo>
                    <a:pt x="2529" y="1412"/>
                  </a:lnTo>
                  <a:lnTo>
                    <a:pt x="2538" y="1414"/>
                  </a:lnTo>
                  <a:lnTo>
                    <a:pt x="2547" y="1414"/>
                  </a:lnTo>
                  <a:lnTo>
                    <a:pt x="2553" y="1406"/>
                  </a:lnTo>
                  <a:lnTo>
                    <a:pt x="2553" y="1397"/>
                  </a:lnTo>
                  <a:lnTo>
                    <a:pt x="2561" y="1391"/>
                  </a:lnTo>
                  <a:lnTo>
                    <a:pt x="2567" y="1400"/>
                  </a:lnTo>
                  <a:lnTo>
                    <a:pt x="2567" y="1412"/>
                  </a:lnTo>
                  <a:lnTo>
                    <a:pt x="2570" y="1420"/>
                  </a:lnTo>
                  <a:lnTo>
                    <a:pt x="2579" y="1429"/>
                  </a:lnTo>
                  <a:lnTo>
                    <a:pt x="2588" y="1435"/>
                  </a:lnTo>
                  <a:lnTo>
                    <a:pt x="2599" y="1435"/>
                  </a:lnTo>
                  <a:lnTo>
                    <a:pt x="2593" y="1426"/>
                  </a:lnTo>
                  <a:lnTo>
                    <a:pt x="2585" y="1417"/>
                  </a:lnTo>
                  <a:lnTo>
                    <a:pt x="2582" y="1406"/>
                  </a:lnTo>
                  <a:lnTo>
                    <a:pt x="2579" y="1397"/>
                  </a:lnTo>
                  <a:lnTo>
                    <a:pt x="2573" y="1406"/>
                  </a:lnTo>
                  <a:lnTo>
                    <a:pt x="2570" y="1414"/>
                  </a:lnTo>
                  <a:lnTo>
                    <a:pt x="2561" y="1426"/>
                  </a:lnTo>
                  <a:lnTo>
                    <a:pt x="2553" y="1432"/>
                  </a:lnTo>
                  <a:lnTo>
                    <a:pt x="2544" y="1432"/>
                  </a:lnTo>
                  <a:lnTo>
                    <a:pt x="2535" y="1432"/>
                  </a:lnTo>
                  <a:lnTo>
                    <a:pt x="2526" y="1432"/>
                  </a:lnTo>
                  <a:lnTo>
                    <a:pt x="2515" y="1438"/>
                  </a:lnTo>
                  <a:lnTo>
                    <a:pt x="2506" y="1443"/>
                  </a:lnTo>
                  <a:lnTo>
                    <a:pt x="2503" y="1452"/>
                  </a:lnTo>
                  <a:lnTo>
                    <a:pt x="2509" y="1461"/>
                  </a:lnTo>
                  <a:lnTo>
                    <a:pt x="2515" y="1472"/>
                  </a:lnTo>
                  <a:lnTo>
                    <a:pt x="2521" y="1484"/>
                  </a:lnTo>
                  <a:lnTo>
                    <a:pt x="2529" y="1489"/>
                  </a:lnTo>
                  <a:lnTo>
                    <a:pt x="2538" y="1495"/>
                  </a:lnTo>
                  <a:lnTo>
                    <a:pt x="2544" y="1504"/>
                  </a:lnTo>
                  <a:lnTo>
                    <a:pt x="2553" y="1507"/>
                  </a:lnTo>
                  <a:lnTo>
                    <a:pt x="2561" y="1507"/>
                  </a:lnTo>
                  <a:lnTo>
                    <a:pt x="2570" y="1510"/>
                  </a:lnTo>
                  <a:lnTo>
                    <a:pt x="2576" y="1518"/>
                  </a:lnTo>
                  <a:lnTo>
                    <a:pt x="2585" y="1527"/>
                  </a:lnTo>
                  <a:lnTo>
                    <a:pt x="2588" y="1535"/>
                  </a:lnTo>
                  <a:lnTo>
                    <a:pt x="2588" y="1544"/>
                  </a:lnTo>
                  <a:lnTo>
                    <a:pt x="2588" y="1556"/>
                  </a:lnTo>
                  <a:lnTo>
                    <a:pt x="2590" y="1564"/>
                  </a:lnTo>
                  <a:lnTo>
                    <a:pt x="2599" y="1564"/>
                  </a:lnTo>
                  <a:lnTo>
                    <a:pt x="2614" y="1567"/>
                  </a:lnTo>
                  <a:lnTo>
                    <a:pt x="2617" y="1576"/>
                  </a:lnTo>
                  <a:lnTo>
                    <a:pt x="2617" y="1584"/>
                  </a:lnTo>
                  <a:lnTo>
                    <a:pt x="2608" y="1587"/>
                  </a:lnTo>
                  <a:lnTo>
                    <a:pt x="2596" y="1579"/>
                  </a:lnTo>
                  <a:lnTo>
                    <a:pt x="2588" y="1570"/>
                  </a:lnTo>
                  <a:lnTo>
                    <a:pt x="2582" y="1561"/>
                  </a:lnTo>
                  <a:lnTo>
                    <a:pt x="2582" y="1553"/>
                  </a:lnTo>
                  <a:lnTo>
                    <a:pt x="2582" y="1541"/>
                  </a:lnTo>
                  <a:lnTo>
                    <a:pt x="2579" y="1533"/>
                  </a:lnTo>
                  <a:lnTo>
                    <a:pt x="2573" y="1524"/>
                  </a:lnTo>
                  <a:lnTo>
                    <a:pt x="2564" y="1515"/>
                  </a:lnTo>
                  <a:lnTo>
                    <a:pt x="2556" y="1512"/>
                  </a:lnTo>
                  <a:lnTo>
                    <a:pt x="2550" y="1521"/>
                  </a:lnTo>
                  <a:lnTo>
                    <a:pt x="2541" y="1521"/>
                  </a:lnTo>
                  <a:lnTo>
                    <a:pt x="2532" y="1515"/>
                  </a:lnTo>
                  <a:lnTo>
                    <a:pt x="2524" y="1510"/>
                  </a:lnTo>
                  <a:lnTo>
                    <a:pt x="2515" y="1507"/>
                  </a:lnTo>
                  <a:lnTo>
                    <a:pt x="2506" y="1504"/>
                  </a:lnTo>
                  <a:lnTo>
                    <a:pt x="2497" y="1504"/>
                  </a:lnTo>
                  <a:lnTo>
                    <a:pt x="2489" y="1504"/>
                  </a:lnTo>
                  <a:lnTo>
                    <a:pt x="2486" y="1512"/>
                  </a:lnTo>
                  <a:lnTo>
                    <a:pt x="2486" y="1521"/>
                  </a:lnTo>
                  <a:lnTo>
                    <a:pt x="2491" y="1530"/>
                  </a:lnTo>
                  <a:lnTo>
                    <a:pt x="2486" y="1538"/>
                  </a:lnTo>
                  <a:lnTo>
                    <a:pt x="2477" y="1538"/>
                  </a:lnTo>
                  <a:lnTo>
                    <a:pt x="2474" y="1547"/>
                  </a:lnTo>
                  <a:lnTo>
                    <a:pt x="2489" y="1550"/>
                  </a:lnTo>
                  <a:lnTo>
                    <a:pt x="2497" y="1553"/>
                  </a:lnTo>
                  <a:lnTo>
                    <a:pt x="2506" y="1553"/>
                  </a:lnTo>
                  <a:lnTo>
                    <a:pt x="2515" y="1559"/>
                  </a:lnTo>
                  <a:lnTo>
                    <a:pt x="2521" y="1570"/>
                  </a:lnTo>
                  <a:lnTo>
                    <a:pt x="2529" y="1576"/>
                  </a:lnTo>
                  <a:lnTo>
                    <a:pt x="2521" y="1567"/>
                  </a:lnTo>
                  <a:lnTo>
                    <a:pt x="2509" y="1561"/>
                  </a:lnTo>
                  <a:lnTo>
                    <a:pt x="2500" y="1559"/>
                  </a:lnTo>
                  <a:lnTo>
                    <a:pt x="2491" y="1567"/>
                  </a:lnTo>
                  <a:lnTo>
                    <a:pt x="2483" y="1570"/>
                  </a:lnTo>
                  <a:lnTo>
                    <a:pt x="2474" y="1570"/>
                  </a:lnTo>
                  <a:lnTo>
                    <a:pt x="2471" y="1561"/>
                  </a:lnTo>
                  <a:lnTo>
                    <a:pt x="2471" y="1553"/>
                  </a:lnTo>
                  <a:lnTo>
                    <a:pt x="2465" y="1544"/>
                  </a:lnTo>
                  <a:lnTo>
                    <a:pt x="2462" y="1535"/>
                  </a:lnTo>
                  <a:lnTo>
                    <a:pt x="2459" y="1524"/>
                  </a:lnTo>
                  <a:lnTo>
                    <a:pt x="2457" y="1515"/>
                  </a:lnTo>
                  <a:lnTo>
                    <a:pt x="2448" y="1510"/>
                  </a:lnTo>
                  <a:lnTo>
                    <a:pt x="2439" y="1504"/>
                  </a:lnTo>
                  <a:lnTo>
                    <a:pt x="2439" y="1512"/>
                  </a:lnTo>
                  <a:lnTo>
                    <a:pt x="2439" y="1521"/>
                  </a:lnTo>
                  <a:lnTo>
                    <a:pt x="2439" y="1530"/>
                  </a:lnTo>
                  <a:lnTo>
                    <a:pt x="2439" y="1538"/>
                  </a:lnTo>
                  <a:lnTo>
                    <a:pt x="2439" y="1547"/>
                  </a:lnTo>
                  <a:lnTo>
                    <a:pt x="2439" y="1556"/>
                  </a:lnTo>
                  <a:lnTo>
                    <a:pt x="2442" y="1564"/>
                  </a:lnTo>
                  <a:lnTo>
                    <a:pt x="2436" y="1573"/>
                  </a:lnTo>
                  <a:lnTo>
                    <a:pt x="2433" y="1582"/>
                  </a:lnTo>
                  <a:lnTo>
                    <a:pt x="2430" y="1590"/>
                  </a:lnTo>
                  <a:lnTo>
                    <a:pt x="2433" y="1599"/>
                  </a:lnTo>
                  <a:lnTo>
                    <a:pt x="2442" y="1602"/>
                  </a:lnTo>
                  <a:lnTo>
                    <a:pt x="2451" y="1605"/>
                  </a:lnTo>
                  <a:lnTo>
                    <a:pt x="2459" y="1608"/>
                  </a:lnTo>
                  <a:lnTo>
                    <a:pt x="2465" y="1616"/>
                  </a:lnTo>
                  <a:lnTo>
                    <a:pt x="2474" y="1628"/>
                  </a:lnTo>
                  <a:lnTo>
                    <a:pt x="2474" y="1636"/>
                  </a:lnTo>
                  <a:lnTo>
                    <a:pt x="2474" y="1648"/>
                  </a:lnTo>
                  <a:lnTo>
                    <a:pt x="2474" y="1657"/>
                  </a:lnTo>
                  <a:lnTo>
                    <a:pt x="2474" y="1665"/>
                  </a:lnTo>
                  <a:lnTo>
                    <a:pt x="2474" y="1674"/>
                  </a:lnTo>
                  <a:lnTo>
                    <a:pt x="2483" y="1680"/>
                  </a:lnTo>
                  <a:lnTo>
                    <a:pt x="2491" y="1682"/>
                  </a:lnTo>
                  <a:lnTo>
                    <a:pt x="2500" y="1682"/>
                  </a:lnTo>
                  <a:lnTo>
                    <a:pt x="2509" y="1680"/>
                  </a:lnTo>
                  <a:lnTo>
                    <a:pt x="2515" y="1671"/>
                  </a:lnTo>
                  <a:lnTo>
                    <a:pt x="2524" y="1671"/>
                  </a:lnTo>
                  <a:lnTo>
                    <a:pt x="2532" y="1668"/>
                  </a:lnTo>
                  <a:lnTo>
                    <a:pt x="2541" y="1671"/>
                  </a:lnTo>
                  <a:lnTo>
                    <a:pt x="2544" y="1680"/>
                  </a:lnTo>
                  <a:lnTo>
                    <a:pt x="2547" y="1688"/>
                  </a:lnTo>
                  <a:lnTo>
                    <a:pt x="2547" y="1697"/>
                  </a:lnTo>
                  <a:lnTo>
                    <a:pt x="2547" y="1706"/>
                  </a:lnTo>
                  <a:lnTo>
                    <a:pt x="2556" y="1714"/>
                  </a:lnTo>
                  <a:lnTo>
                    <a:pt x="2564" y="1720"/>
                  </a:lnTo>
                  <a:lnTo>
                    <a:pt x="2576" y="1726"/>
                  </a:lnTo>
                  <a:lnTo>
                    <a:pt x="2588" y="1726"/>
                  </a:lnTo>
                  <a:lnTo>
                    <a:pt x="2596" y="1726"/>
                  </a:lnTo>
                  <a:lnTo>
                    <a:pt x="2588" y="1723"/>
                  </a:lnTo>
                  <a:lnTo>
                    <a:pt x="2579" y="1720"/>
                  </a:lnTo>
                  <a:lnTo>
                    <a:pt x="2570" y="1717"/>
                  </a:lnTo>
                  <a:lnTo>
                    <a:pt x="2567" y="1708"/>
                  </a:lnTo>
                  <a:lnTo>
                    <a:pt x="2564" y="1697"/>
                  </a:lnTo>
                  <a:lnTo>
                    <a:pt x="2564" y="1688"/>
                  </a:lnTo>
                  <a:lnTo>
                    <a:pt x="2561" y="1680"/>
                  </a:lnTo>
                  <a:lnTo>
                    <a:pt x="2550" y="1671"/>
                  </a:lnTo>
                  <a:lnTo>
                    <a:pt x="2538" y="1665"/>
                  </a:lnTo>
                  <a:lnTo>
                    <a:pt x="2529" y="1662"/>
                  </a:lnTo>
                  <a:lnTo>
                    <a:pt x="2521" y="1659"/>
                  </a:lnTo>
                  <a:lnTo>
                    <a:pt x="2512" y="1662"/>
                  </a:lnTo>
                  <a:lnTo>
                    <a:pt x="2506" y="1671"/>
                  </a:lnTo>
                  <a:lnTo>
                    <a:pt x="2506" y="1680"/>
                  </a:lnTo>
                  <a:lnTo>
                    <a:pt x="2503" y="1688"/>
                  </a:lnTo>
                  <a:lnTo>
                    <a:pt x="2500" y="1697"/>
                  </a:lnTo>
                  <a:lnTo>
                    <a:pt x="2500" y="1706"/>
                  </a:lnTo>
                  <a:lnTo>
                    <a:pt x="2500" y="1714"/>
                  </a:lnTo>
                  <a:lnTo>
                    <a:pt x="2509" y="1723"/>
                  </a:lnTo>
                  <a:lnTo>
                    <a:pt x="2509" y="1731"/>
                  </a:lnTo>
                  <a:lnTo>
                    <a:pt x="2509" y="1740"/>
                  </a:lnTo>
                  <a:lnTo>
                    <a:pt x="2509" y="1749"/>
                  </a:lnTo>
                  <a:lnTo>
                    <a:pt x="2509" y="1757"/>
                  </a:lnTo>
                  <a:lnTo>
                    <a:pt x="2509" y="1766"/>
                  </a:lnTo>
                  <a:lnTo>
                    <a:pt x="2509" y="1775"/>
                  </a:lnTo>
                  <a:lnTo>
                    <a:pt x="2509" y="1783"/>
                  </a:lnTo>
                  <a:lnTo>
                    <a:pt x="2506" y="1772"/>
                  </a:lnTo>
                  <a:lnTo>
                    <a:pt x="2515" y="1757"/>
                  </a:lnTo>
                  <a:lnTo>
                    <a:pt x="2509" y="1766"/>
                  </a:lnTo>
                  <a:lnTo>
                    <a:pt x="2506" y="1775"/>
                  </a:lnTo>
                  <a:lnTo>
                    <a:pt x="2503" y="1783"/>
                  </a:lnTo>
                  <a:lnTo>
                    <a:pt x="2497" y="1792"/>
                  </a:lnTo>
                  <a:lnTo>
                    <a:pt x="2494" y="1801"/>
                  </a:lnTo>
                  <a:lnTo>
                    <a:pt x="2494" y="1809"/>
                  </a:lnTo>
                  <a:lnTo>
                    <a:pt x="2494" y="1818"/>
                  </a:lnTo>
                  <a:lnTo>
                    <a:pt x="2483" y="1824"/>
                  </a:lnTo>
                  <a:lnTo>
                    <a:pt x="2465" y="1824"/>
                  </a:lnTo>
                  <a:lnTo>
                    <a:pt x="2457" y="1821"/>
                  </a:lnTo>
                  <a:lnTo>
                    <a:pt x="2448" y="1812"/>
                  </a:lnTo>
                  <a:lnTo>
                    <a:pt x="2439" y="1809"/>
                  </a:lnTo>
                  <a:lnTo>
                    <a:pt x="2430" y="1809"/>
                  </a:lnTo>
                  <a:lnTo>
                    <a:pt x="2427" y="1798"/>
                  </a:lnTo>
                  <a:lnTo>
                    <a:pt x="2439" y="1795"/>
                  </a:lnTo>
                  <a:lnTo>
                    <a:pt x="2454" y="1792"/>
                  </a:lnTo>
                  <a:lnTo>
                    <a:pt x="2462" y="1792"/>
                  </a:lnTo>
                  <a:lnTo>
                    <a:pt x="2471" y="1792"/>
                  </a:lnTo>
                  <a:lnTo>
                    <a:pt x="2477" y="1783"/>
                  </a:lnTo>
                  <a:lnTo>
                    <a:pt x="2480" y="1775"/>
                  </a:lnTo>
                  <a:lnTo>
                    <a:pt x="2480" y="1766"/>
                  </a:lnTo>
                  <a:lnTo>
                    <a:pt x="2483" y="1757"/>
                  </a:lnTo>
                  <a:lnTo>
                    <a:pt x="2486" y="1749"/>
                  </a:lnTo>
                  <a:lnTo>
                    <a:pt x="2489" y="1740"/>
                  </a:lnTo>
                  <a:lnTo>
                    <a:pt x="2491" y="1731"/>
                  </a:lnTo>
                  <a:lnTo>
                    <a:pt x="2489" y="1723"/>
                  </a:lnTo>
                  <a:lnTo>
                    <a:pt x="2489" y="1714"/>
                  </a:lnTo>
                  <a:lnTo>
                    <a:pt x="2480" y="1708"/>
                  </a:lnTo>
                  <a:lnTo>
                    <a:pt x="2474" y="1700"/>
                  </a:lnTo>
                  <a:lnTo>
                    <a:pt x="2468" y="1691"/>
                  </a:lnTo>
                  <a:lnTo>
                    <a:pt x="2465" y="1682"/>
                  </a:lnTo>
                  <a:lnTo>
                    <a:pt x="2459" y="1674"/>
                  </a:lnTo>
                  <a:lnTo>
                    <a:pt x="2454" y="1665"/>
                  </a:lnTo>
                  <a:lnTo>
                    <a:pt x="2454" y="1657"/>
                  </a:lnTo>
                  <a:lnTo>
                    <a:pt x="2454" y="1648"/>
                  </a:lnTo>
                  <a:lnTo>
                    <a:pt x="2454" y="1639"/>
                  </a:lnTo>
                  <a:lnTo>
                    <a:pt x="2451" y="1631"/>
                  </a:lnTo>
                  <a:lnTo>
                    <a:pt x="2448" y="1622"/>
                  </a:lnTo>
                  <a:lnTo>
                    <a:pt x="2442" y="1613"/>
                  </a:lnTo>
                  <a:lnTo>
                    <a:pt x="2433" y="1608"/>
                  </a:lnTo>
                  <a:lnTo>
                    <a:pt x="2427" y="1599"/>
                  </a:lnTo>
                  <a:lnTo>
                    <a:pt x="2422" y="1590"/>
                  </a:lnTo>
                  <a:lnTo>
                    <a:pt x="2419" y="1582"/>
                  </a:lnTo>
                  <a:lnTo>
                    <a:pt x="2419" y="1573"/>
                  </a:lnTo>
                  <a:lnTo>
                    <a:pt x="2416" y="1564"/>
                  </a:lnTo>
                  <a:lnTo>
                    <a:pt x="2416" y="1556"/>
                  </a:lnTo>
                  <a:lnTo>
                    <a:pt x="2416" y="1547"/>
                  </a:lnTo>
                  <a:lnTo>
                    <a:pt x="2416" y="1538"/>
                  </a:lnTo>
                  <a:lnTo>
                    <a:pt x="2416" y="1530"/>
                  </a:lnTo>
                  <a:lnTo>
                    <a:pt x="2407" y="1521"/>
                  </a:lnTo>
                  <a:lnTo>
                    <a:pt x="2395" y="1518"/>
                  </a:lnTo>
                  <a:lnTo>
                    <a:pt x="2390" y="1510"/>
                  </a:lnTo>
                  <a:lnTo>
                    <a:pt x="2390" y="1501"/>
                  </a:lnTo>
                  <a:lnTo>
                    <a:pt x="2381" y="1498"/>
                  </a:lnTo>
                  <a:lnTo>
                    <a:pt x="2390" y="1504"/>
                  </a:lnTo>
                  <a:lnTo>
                    <a:pt x="2381" y="1510"/>
                  </a:lnTo>
                  <a:lnTo>
                    <a:pt x="2372" y="1515"/>
                  </a:lnTo>
                  <a:lnTo>
                    <a:pt x="2372" y="1524"/>
                  </a:lnTo>
                  <a:lnTo>
                    <a:pt x="2366" y="1533"/>
                  </a:lnTo>
                  <a:lnTo>
                    <a:pt x="2366" y="1541"/>
                  </a:lnTo>
                  <a:lnTo>
                    <a:pt x="2366" y="1550"/>
                  </a:lnTo>
                  <a:lnTo>
                    <a:pt x="2366" y="1559"/>
                  </a:lnTo>
                  <a:lnTo>
                    <a:pt x="2366" y="1567"/>
                  </a:lnTo>
                  <a:lnTo>
                    <a:pt x="2363" y="1576"/>
                  </a:lnTo>
                  <a:lnTo>
                    <a:pt x="2360" y="1584"/>
                  </a:lnTo>
                  <a:lnTo>
                    <a:pt x="2358" y="1593"/>
                  </a:lnTo>
                  <a:lnTo>
                    <a:pt x="2352" y="1602"/>
                  </a:lnTo>
                  <a:lnTo>
                    <a:pt x="2349" y="1610"/>
                  </a:lnTo>
                  <a:lnTo>
                    <a:pt x="2346" y="1619"/>
                  </a:lnTo>
                  <a:lnTo>
                    <a:pt x="2346" y="1628"/>
                  </a:lnTo>
                  <a:lnTo>
                    <a:pt x="2346" y="1636"/>
                  </a:lnTo>
                  <a:lnTo>
                    <a:pt x="2355" y="1639"/>
                  </a:lnTo>
                  <a:lnTo>
                    <a:pt x="2363" y="1639"/>
                  </a:lnTo>
                  <a:lnTo>
                    <a:pt x="2372" y="1636"/>
                  </a:lnTo>
                  <a:lnTo>
                    <a:pt x="2372" y="1645"/>
                  </a:lnTo>
                  <a:lnTo>
                    <a:pt x="2372" y="1654"/>
                  </a:lnTo>
                  <a:lnTo>
                    <a:pt x="2372" y="1662"/>
                  </a:lnTo>
                  <a:lnTo>
                    <a:pt x="2372" y="1671"/>
                  </a:lnTo>
                  <a:lnTo>
                    <a:pt x="2372" y="1682"/>
                  </a:lnTo>
                  <a:lnTo>
                    <a:pt x="2369" y="1691"/>
                  </a:lnTo>
                  <a:lnTo>
                    <a:pt x="2378" y="1697"/>
                  </a:lnTo>
                  <a:lnTo>
                    <a:pt x="2381" y="1706"/>
                  </a:lnTo>
                  <a:lnTo>
                    <a:pt x="2390" y="1711"/>
                  </a:lnTo>
                  <a:lnTo>
                    <a:pt x="2401" y="1714"/>
                  </a:lnTo>
                  <a:lnTo>
                    <a:pt x="2404" y="1723"/>
                  </a:lnTo>
                  <a:lnTo>
                    <a:pt x="2404" y="1731"/>
                  </a:lnTo>
                  <a:lnTo>
                    <a:pt x="2404" y="1740"/>
                  </a:lnTo>
                  <a:lnTo>
                    <a:pt x="2404" y="1749"/>
                  </a:lnTo>
                  <a:lnTo>
                    <a:pt x="2395" y="1743"/>
                  </a:lnTo>
                  <a:lnTo>
                    <a:pt x="2393" y="1734"/>
                  </a:lnTo>
                  <a:lnTo>
                    <a:pt x="2387" y="1723"/>
                  </a:lnTo>
                  <a:lnTo>
                    <a:pt x="2381" y="1714"/>
                  </a:lnTo>
                  <a:lnTo>
                    <a:pt x="2372" y="1711"/>
                  </a:lnTo>
                  <a:lnTo>
                    <a:pt x="2363" y="1708"/>
                  </a:lnTo>
                  <a:lnTo>
                    <a:pt x="2355" y="1708"/>
                  </a:lnTo>
                  <a:lnTo>
                    <a:pt x="2340" y="1706"/>
                  </a:lnTo>
                  <a:lnTo>
                    <a:pt x="2328" y="1703"/>
                  </a:lnTo>
                  <a:lnTo>
                    <a:pt x="2320" y="1697"/>
                  </a:lnTo>
                  <a:lnTo>
                    <a:pt x="2311" y="1694"/>
                  </a:lnTo>
                  <a:lnTo>
                    <a:pt x="2302" y="1691"/>
                  </a:lnTo>
                  <a:lnTo>
                    <a:pt x="2294" y="1688"/>
                  </a:lnTo>
                  <a:lnTo>
                    <a:pt x="2285" y="1685"/>
                  </a:lnTo>
                  <a:lnTo>
                    <a:pt x="2276" y="1685"/>
                  </a:lnTo>
                  <a:lnTo>
                    <a:pt x="2267" y="1685"/>
                  </a:lnTo>
                  <a:lnTo>
                    <a:pt x="2273" y="1680"/>
                  </a:lnTo>
                  <a:lnTo>
                    <a:pt x="2262" y="1671"/>
                  </a:lnTo>
                  <a:lnTo>
                    <a:pt x="2262" y="1662"/>
                  </a:lnTo>
                  <a:lnTo>
                    <a:pt x="2256" y="1671"/>
                  </a:lnTo>
                  <a:lnTo>
                    <a:pt x="2247" y="1671"/>
                  </a:lnTo>
                  <a:lnTo>
                    <a:pt x="2235" y="1671"/>
                  </a:lnTo>
                  <a:lnTo>
                    <a:pt x="2227" y="1668"/>
                  </a:lnTo>
                  <a:lnTo>
                    <a:pt x="2227" y="1659"/>
                  </a:lnTo>
                  <a:lnTo>
                    <a:pt x="2221" y="1668"/>
                  </a:lnTo>
                  <a:lnTo>
                    <a:pt x="2221" y="1677"/>
                  </a:lnTo>
                  <a:lnTo>
                    <a:pt x="2232" y="1680"/>
                  </a:lnTo>
                  <a:lnTo>
                    <a:pt x="2241" y="1682"/>
                  </a:lnTo>
                  <a:lnTo>
                    <a:pt x="2244" y="1691"/>
                  </a:lnTo>
                  <a:lnTo>
                    <a:pt x="2247" y="1700"/>
                  </a:lnTo>
                  <a:lnTo>
                    <a:pt x="2250" y="1708"/>
                  </a:lnTo>
                  <a:lnTo>
                    <a:pt x="2259" y="1711"/>
                  </a:lnTo>
                  <a:lnTo>
                    <a:pt x="2262" y="1720"/>
                  </a:lnTo>
                  <a:lnTo>
                    <a:pt x="2262" y="1729"/>
                  </a:lnTo>
                  <a:lnTo>
                    <a:pt x="2262" y="1737"/>
                  </a:lnTo>
                  <a:lnTo>
                    <a:pt x="2253" y="1743"/>
                  </a:lnTo>
                  <a:lnTo>
                    <a:pt x="2250" y="1752"/>
                  </a:lnTo>
                  <a:lnTo>
                    <a:pt x="2250" y="1760"/>
                  </a:lnTo>
                  <a:lnTo>
                    <a:pt x="2244" y="1752"/>
                  </a:lnTo>
                  <a:lnTo>
                    <a:pt x="2241" y="1743"/>
                  </a:lnTo>
                  <a:lnTo>
                    <a:pt x="2232" y="1743"/>
                  </a:lnTo>
                  <a:lnTo>
                    <a:pt x="2232" y="1734"/>
                  </a:lnTo>
                  <a:lnTo>
                    <a:pt x="2221" y="1729"/>
                  </a:lnTo>
                  <a:lnTo>
                    <a:pt x="2209" y="1731"/>
                  </a:lnTo>
                  <a:lnTo>
                    <a:pt x="2200" y="1734"/>
                  </a:lnTo>
                  <a:lnTo>
                    <a:pt x="2192" y="1737"/>
                  </a:lnTo>
                  <a:lnTo>
                    <a:pt x="2183" y="1746"/>
                  </a:lnTo>
                  <a:lnTo>
                    <a:pt x="2177" y="1755"/>
                  </a:lnTo>
                  <a:lnTo>
                    <a:pt x="2168" y="1755"/>
                  </a:lnTo>
                  <a:lnTo>
                    <a:pt x="2160" y="1760"/>
                  </a:lnTo>
                  <a:lnTo>
                    <a:pt x="2151" y="1769"/>
                  </a:lnTo>
                  <a:lnTo>
                    <a:pt x="2142" y="1772"/>
                  </a:lnTo>
                  <a:lnTo>
                    <a:pt x="2133" y="1772"/>
                  </a:lnTo>
                  <a:lnTo>
                    <a:pt x="2133" y="1763"/>
                  </a:lnTo>
                  <a:lnTo>
                    <a:pt x="2142" y="1755"/>
                  </a:lnTo>
                  <a:lnTo>
                    <a:pt x="2151" y="1752"/>
                  </a:lnTo>
                  <a:lnTo>
                    <a:pt x="2160" y="1749"/>
                  </a:lnTo>
                  <a:lnTo>
                    <a:pt x="2160" y="1737"/>
                  </a:lnTo>
                  <a:lnTo>
                    <a:pt x="2154" y="1729"/>
                  </a:lnTo>
                  <a:lnTo>
                    <a:pt x="2145" y="1729"/>
                  </a:lnTo>
                  <a:lnTo>
                    <a:pt x="2136" y="1734"/>
                  </a:lnTo>
                  <a:lnTo>
                    <a:pt x="2128" y="1740"/>
                  </a:lnTo>
                  <a:lnTo>
                    <a:pt x="2122" y="1749"/>
                  </a:lnTo>
                  <a:lnTo>
                    <a:pt x="2113" y="1755"/>
                  </a:lnTo>
                  <a:lnTo>
                    <a:pt x="2104" y="1757"/>
                  </a:lnTo>
                  <a:lnTo>
                    <a:pt x="2096" y="1763"/>
                  </a:lnTo>
                  <a:lnTo>
                    <a:pt x="2087" y="1763"/>
                  </a:lnTo>
                  <a:lnTo>
                    <a:pt x="2078" y="1766"/>
                  </a:lnTo>
                  <a:lnTo>
                    <a:pt x="2069" y="1769"/>
                  </a:lnTo>
                  <a:lnTo>
                    <a:pt x="2061" y="1772"/>
                  </a:lnTo>
                  <a:lnTo>
                    <a:pt x="2055" y="1780"/>
                  </a:lnTo>
                  <a:lnTo>
                    <a:pt x="2052" y="1789"/>
                  </a:lnTo>
                  <a:lnTo>
                    <a:pt x="2040" y="1792"/>
                  </a:lnTo>
                  <a:lnTo>
                    <a:pt x="2034" y="1801"/>
                  </a:lnTo>
                  <a:lnTo>
                    <a:pt x="2034" y="1809"/>
                  </a:lnTo>
                  <a:lnTo>
                    <a:pt x="2029" y="1818"/>
                  </a:lnTo>
                  <a:lnTo>
                    <a:pt x="2020" y="1824"/>
                  </a:lnTo>
                  <a:lnTo>
                    <a:pt x="2011" y="1827"/>
                  </a:lnTo>
                  <a:lnTo>
                    <a:pt x="2008" y="1815"/>
                  </a:lnTo>
                  <a:lnTo>
                    <a:pt x="2005" y="1806"/>
                  </a:lnTo>
                  <a:lnTo>
                    <a:pt x="2005" y="1798"/>
                  </a:lnTo>
                  <a:lnTo>
                    <a:pt x="1997" y="1789"/>
                  </a:lnTo>
                  <a:lnTo>
                    <a:pt x="1988" y="1780"/>
                  </a:lnTo>
                  <a:lnTo>
                    <a:pt x="1999" y="1780"/>
                  </a:lnTo>
                  <a:lnTo>
                    <a:pt x="2011" y="1778"/>
                  </a:lnTo>
                  <a:lnTo>
                    <a:pt x="2020" y="1775"/>
                  </a:lnTo>
                  <a:lnTo>
                    <a:pt x="2020" y="1766"/>
                  </a:lnTo>
                  <a:lnTo>
                    <a:pt x="2023" y="1757"/>
                  </a:lnTo>
                  <a:lnTo>
                    <a:pt x="2023" y="1749"/>
                  </a:lnTo>
                  <a:lnTo>
                    <a:pt x="2014" y="1743"/>
                  </a:lnTo>
                  <a:lnTo>
                    <a:pt x="2005" y="1740"/>
                  </a:lnTo>
                  <a:lnTo>
                    <a:pt x="1994" y="1740"/>
                  </a:lnTo>
                  <a:lnTo>
                    <a:pt x="1985" y="1737"/>
                  </a:lnTo>
                  <a:lnTo>
                    <a:pt x="1976" y="1731"/>
                  </a:lnTo>
                  <a:lnTo>
                    <a:pt x="1967" y="1729"/>
                  </a:lnTo>
                  <a:lnTo>
                    <a:pt x="1967" y="1737"/>
                  </a:lnTo>
                  <a:lnTo>
                    <a:pt x="1970" y="1746"/>
                  </a:lnTo>
                  <a:lnTo>
                    <a:pt x="1976" y="1755"/>
                  </a:lnTo>
                  <a:lnTo>
                    <a:pt x="1976" y="1763"/>
                  </a:lnTo>
                  <a:lnTo>
                    <a:pt x="1976" y="1772"/>
                  </a:lnTo>
                  <a:lnTo>
                    <a:pt x="1973" y="1780"/>
                  </a:lnTo>
                  <a:lnTo>
                    <a:pt x="1965" y="1789"/>
                  </a:lnTo>
                  <a:lnTo>
                    <a:pt x="1956" y="1795"/>
                  </a:lnTo>
                  <a:lnTo>
                    <a:pt x="1953" y="1803"/>
                  </a:lnTo>
                  <a:lnTo>
                    <a:pt x="1962" y="1806"/>
                  </a:lnTo>
                  <a:lnTo>
                    <a:pt x="1970" y="1806"/>
                  </a:lnTo>
                  <a:lnTo>
                    <a:pt x="1979" y="1806"/>
                  </a:lnTo>
                  <a:lnTo>
                    <a:pt x="1982" y="1815"/>
                  </a:lnTo>
                  <a:lnTo>
                    <a:pt x="1976" y="1824"/>
                  </a:lnTo>
                  <a:lnTo>
                    <a:pt x="1965" y="1832"/>
                  </a:lnTo>
                  <a:lnTo>
                    <a:pt x="1959" y="1841"/>
                  </a:lnTo>
                  <a:lnTo>
                    <a:pt x="1959" y="1850"/>
                  </a:lnTo>
                  <a:lnTo>
                    <a:pt x="1947" y="1838"/>
                  </a:lnTo>
                  <a:lnTo>
                    <a:pt x="1938" y="1835"/>
                  </a:lnTo>
                  <a:lnTo>
                    <a:pt x="1933" y="1827"/>
                  </a:lnTo>
                  <a:lnTo>
                    <a:pt x="1924" y="1821"/>
                  </a:lnTo>
                  <a:lnTo>
                    <a:pt x="1915" y="1821"/>
                  </a:lnTo>
                  <a:lnTo>
                    <a:pt x="1906" y="1829"/>
                  </a:lnTo>
                  <a:lnTo>
                    <a:pt x="1898" y="1835"/>
                  </a:lnTo>
                  <a:lnTo>
                    <a:pt x="1889" y="1838"/>
                  </a:lnTo>
                  <a:lnTo>
                    <a:pt x="1880" y="1841"/>
                  </a:lnTo>
                  <a:lnTo>
                    <a:pt x="1874" y="1850"/>
                  </a:lnTo>
                  <a:lnTo>
                    <a:pt x="1871" y="1858"/>
                  </a:lnTo>
                  <a:lnTo>
                    <a:pt x="1868" y="1867"/>
                  </a:lnTo>
                  <a:lnTo>
                    <a:pt x="1868" y="1876"/>
                  </a:lnTo>
                  <a:lnTo>
                    <a:pt x="1868" y="1884"/>
                  </a:lnTo>
                  <a:lnTo>
                    <a:pt x="1868" y="1893"/>
                  </a:lnTo>
                  <a:lnTo>
                    <a:pt x="1868" y="1901"/>
                  </a:lnTo>
                  <a:lnTo>
                    <a:pt x="1860" y="1907"/>
                  </a:lnTo>
                  <a:lnTo>
                    <a:pt x="1848" y="1901"/>
                  </a:lnTo>
                  <a:lnTo>
                    <a:pt x="1845" y="1893"/>
                  </a:lnTo>
                  <a:lnTo>
                    <a:pt x="1839" y="1884"/>
                  </a:lnTo>
                  <a:lnTo>
                    <a:pt x="1831" y="1876"/>
                  </a:lnTo>
                  <a:lnTo>
                    <a:pt x="1822" y="1870"/>
                  </a:lnTo>
                  <a:lnTo>
                    <a:pt x="1813" y="1867"/>
                  </a:lnTo>
                  <a:lnTo>
                    <a:pt x="1804" y="1867"/>
                  </a:lnTo>
                  <a:lnTo>
                    <a:pt x="1799" y="1876"/>
                  </a:lnTo>
                  <a:lnTo>
                    <a:pt x="1796" y="1884"/>
                  </a:lnTo>
                  <a:lnTo>
                    <a:pt x="1796" y="1893"/>
                  </a:lnTo>
                  <a:lnTo>
                    <a:pt x="1804" y="1899"/>
                  </a:lnTo>
                  <a:lnTo>
                    <a:pt x="1816" y="1901"/>
                  </a:lnTo>
                  <a:lnTo>
                    <a:pt x="1819" y="1910"/>
                  </a:lnTo>
                  <a:lnTo>
                    <a:pt x="1807" y="1910"/>
                  </a:lnTo>
                  <a:lnTo>
                    <a:pt x="1819" y="1893"/>
                  </a:lnTo>
                  <a:lnTo>
                    <a:pt x="1810" y="1896"/>
                  </a:lnTo>
                  <a:lnTo>
                    <a:pt x="1822" y="1899"/>
                  </a:lnTo>
                  <a:lnTo>
                    <a:pt x="1822" y="1910"/>
                  </a:lnTo>
                  <a:lnTo>
                    <a:pt x="1822" y="1919"/>
                  </a:lnTo>
                  <a:lnTo>
                    <a:pt x="1816" y="1927"/>
                  </a:lnTo>
                  <a:lnTo>
                    <a:pt x="1802" y="1927"/>
                  </a:lnTo>
                  <a:lnTo>
                    <a:pt x="1793" y="1922"/>
                  </a:lnTo>
                  <a:lnTo>
                    <a:pt x="1790" y="1913"/>
                  </a:lnTo>
                  <a:lnTo>
                    <a:pt x="1790" y="1904"/>
                  </a:lnTo>
                  <a:lnTo>
                    <a:pt x="1784" y="1896"/>
                  </a:lnTo>
                  <a:lnTo>
                    <a:pt x="1778" y="1887"/>
                  </a:lnTo>
                  <a:lnTo>
                    <a:pt x="1770" y="1878"/>
                  </a:lnTo>
                  <a:lnTo>
                    <a:pt x="1767" y="1870"/>
                  </a:lnTo>
                  <a:lnTo>
                    <a:pt x="1764" y="1861"/>
                  </a:lnTo>
                  <a:lnTo>
                    <a:pt x="1764" y="1850"/>
                  </a:lnTo>
                  <a:lnTo>
                    <a:pt x="1764" y="1841"/>
                  </a:lnTo>
                  <a:lnTo>
                    <a:pt x="1764" y="1832"/>
                  </a:lnTo>
                  <a:lnTo>
                    <a:pt x="1772" y="1827"/>
                  </a:lnTo>
                  <a:lnTo>
                    <a:pt x="1778" y="1818"/>
                  </a:lnTo>
                  <a:lnTo>
                    <a:pt x="1778" y="1809"/>
                  </a:lnTo>
                  <a:lnTo>
                    <a:pt x="1778" y="1801"/>
                  </a:lnTo>
                  <a:lnTo>
                    <a:pt x="1778" y="1792"/>
                  </a:lnTo>
                  <a:lnTo>
                    <a:pt x="1770" y="1783"/>
                  </a:lnTo>
                  <a:lnTo>
                    <a:pt x="1761" y="1778"/>
                  </a:lnTo>
                  <a:lnTo>
                    <a:pt x="1752" y="1772"/>
                  </a:lnTo>
                  <a:lnTo>
                    <a:pt x="1752" y="1763"/>
                  </a:lnTo>
                  <a:lnTo>
                    <a:pt x="1752" y="1752"/>
                  </a:lnTo>
                  <a:lnTo>
                    <a:pt x="1752" y="1743"/>
                  </a:lnTo>
                  <a:lnTo>
                    <a:pt x="1764" y="1749"/>
                  </a:lnTo>
                  <a:lnTo>
                    <a:pt x="1772" y="1757"/>
                  </a:lnTo>
                  <a:lnTo>
                    <a:pt x="1781" y="1763"/>
                  </a:lnTo>
                  <a:lnTo>
                    <a:pt x="1781" y="1772"/>
                  </a:lnTo>
                  <a:lnTo>
                    <a:pt x="1787" y="1783"/>
                  </a:lnTo>
                  <a:lnTo>
                    <a:pt x="1796" y="1789"/>
                  </a:lnTo>
                  <a:lnTo>
                    <a:pt x="1804" y="1795"/>
                  </a:lnTo>
                  <a:lnTo>
                    <a:pt x="1816" y="1801"/>
                  </a:lnTo>
                  <a:lnTo>
                    <a:pt x="1822" y="1809"/>
                  </a:lnTo>
                  <a:lnTo>
                    <a:pt x="1831" y="1815"/>
                  </a:lnTo>
                  <a:lnTo>
                    <a:pt x="1836" y="1824"/>
                  </a:lnTo>
                  <a:lnTo>
                    <a:pt x="1845" y="1829"/>
                  </a:lnTo>
                  <a:lnTo>
                    <a:pt x="1854" y="1835"/>
                  </a:lnTo>
                  <a:lnTo>
                    <a:pt x="1866" y="1835"/>
                  </a:lnTo>
                  <a:lnTo>
                    <a:pt x="1874" y="1835"/>
                  </a:lnTo>
                  <a:lnTo>
                    <a:pt x="1883" y="1835"/>
                  </a:lnTo>
                  <a:lnTo>
                    <a:pt x="1892" y="1829"/>
                  </a:lnTo>
                  <a:lnTo>
                    <a:pt x="1901" y="1827"/>
                  </a:lnTo>
                  <a:lnTo>
                    <a:pt x="1909" y="1818"/>
                  </a:lnTo>
                  <a:lnTo>
                    <a:pt x="1909" y="1809"/>
                  </a:lnTo>
                  <a:lnTo>
                    <a:pt x="1909" y="1801"/>
                  </a:lnTo>
                  <a:lnTo>
                    <a:pt x="1909" y="1792"/>
                  </a:lnTo>
                  <a:lnTo>
                    <a:pt x="1915" y="1783"/>
                  </a:lnTo>
                  <a:lnTo>
                    <a:pt x="1918" y="1775"/>
                  </a:lnTo>
                  <a:lnTo>
                    <a:pt x="1918" y="1766"/>
                  </a:lnTo>
                  <a:lnTo>
                    <a:pt x="1915" y="1757"/>
                  </a:lnTo>
                  <a:lnTo>
                    <a:pt x="1909" y="1749"/>
                  </a:lnTo>
                  <a:lnTo>
                    <a:pt x="1901" y="1740"/>
                  </a:lnTo>
                  <a:lnTo>
                    <a:pt x="1895" y="1731"/>
                  </a:lnTo>
                  <a:lnTo>
                    <a:pt x="1892" y="1720"/>
                  </a:lnTo>
                  <a:lnTo>
                    <a:pt x="1889" y="1711"/>
                  </a:lnTo>
                  <a:lnTo>
                    <a:pt x="1880" y="1706"/>
                  </a:lnTo>
                  <a:lnTo>
                    <a:pt x="1871" y="1697"/>
                  </a:lnTo>
                  <a:lnTo>
                    <a:pt x="1866" y="1688"/>
                  </a:lnTo>
                  <a:lnTo>
                    <a:pt x="1860" y="1680"/>
                  </a:lnTo>
                  <a:lnTo>
                    <a:pt x="1851" y="1671"/>
                  </a:lnTo>
                  <a:lnTo>
                    <a:pt x="1842" y="1665"/>
                  </a:lnTo>
                  <a:lnTo>
                    <a:pt x="1831" y="1662"/>
                  </a:lnTo>
                  <a:lnTo>
                    <a:pt x="1819" y="1657"/>
                  </a:lnTo>
                  <a:lnTo>
                    <a:pt x="1813" y="1648"/>
                  </a:lnTo>
                  <a:lnTo>
                    <a:pt x="1810" y="1639"/>
                  </a:lnTo>
                  <a:lnTo>
                    <a:pt x="1807" y="1631"/>
                  </a:lnTo>
                  <a:lnTo>
                    <a:pt x="1799" y="1622"/>
                  </a:lnTo>
                  <a:lnTo>
                    <a:pt x="1793" y="1613"/>
                  </a:lnTo>
                  <a:lnTo>
                    <a:pt x="1784" y="1613"/>
                  </a:lnTo>
                  <a:lnTo>
                    <a:pt x="1772" y="1613"/>
                  </a:lnTo>
                  <a:lnTo>
                    <a:pt x="1764" y="1608"/>
                  </a:lnTo>
                  <a:lnTo>
                    <a:pt x="1761" y="1599"/>
                  </a:lnTo>
                  <a:lnTo>
                    <a:pt x="1772" y="1596"/>
                  </a:lnTo>
                  <a:lnTo>
                    <a:pt x="1781" y="1596"/>
                  </a:lnTo>
                  <a:lnTo>
                    <a:pt x="1787" y="1587"/>
                  </a:lnTo>
                  <a:lnTo>
                    <a:pt x="1778" y="1579"/>
                  </a:lnTo>
                  <a:lnTo>
                    <a:pt x="1770" y="1576"/>
                  </a:lnTo>
                  <a:lnTo>
                    <a:pt x="1761" y="1573"/>
                  </a:lnTo>
                  <a:lnTo>
                    <a:pt x="1758" y="1564"/>
                  </a:lnTo>
                  <a:lnTo>
                    <a:pt x="1758" y="1556"/>
                  </a:lnTo>
                  <a:lnTo>
                    <a:pt x="1758" y="1547"/>
                  </a:lnTo>
                  <a:lnTo>
                    <a:pt x="1749" y="1547"/>
                  </a:lnTo>
                  <a:lnTo>
                    <a:pt x="1737" y="1553"/>
                  </a:lnTo>
                  <a:lnTo>
                    <a:pt x="1729" y="1553"/>
                  </a:lnTo>
                  <a:lnTo>
                    <a:pt x="1720" y="1556"/>
                  </a:lnTo>
                  <a:lnTo>
                    <a:pt x="1720" y="1547"/>
                  </a:lnTo>
                  <a:lnTo>
                    <a:pt x="1723" y="1538"/>
                  </a:lnTo>
                  <a:lnTo>
                    <a:pt x="1726" y="1550"/>
                  </a:lnTo>
                  <a:lnTo>
                    <a:pt x="1723" y="1559"/>
                  </a:lnTo>
                  <a:lnTo>
                    <a:pt x="1723" y="1567"/>
                  </a:lnTo>
                  <a:lnTo>
                    <a:pt x="1732" y="1567"/>
                  </a:lnTo>
                  <a:lnTo>
                    <a:pt x="1740" y="1556"/>
                  </a:lnTo>
                  <a:lnTo>
                    <a:pt x="1726" y="1553"/>
                  </a:lnTo>
                  <a:lnTo>
                    <a:pt x="1717" y="1553"/>
                  </a:lnTo>
                  <a:lnTo>
                    <a:pt x="1705" y="1553"/>
                  </a:lnTo>
                  <a:lnTo>
                    <a:pt x="1705" y="1541"/>
                  </a:lnTo>
                  <a:lnTo>
                    <a:pt x="1711" y="1533"/>
                  </a:lnTo>
                  <a:lnTo>
                    <a:pt x="1700" y="1535"/>
                  </a:lnTo>
                  <a:lnTo>
                    <a:pt x="1691" y="1541"/>
                  </a:lnTo>
                  <a:lnTo>
                    <a:pt x="1679" y="1544"/>
                  </a:lnTo>
                  <a:lnTo>
                    <a:pt x="1685" y="1533"/>
                  </a:lnTo>
                  <a:lnTo>
                    <a:pt x="1685" y="1524"/>
                  </a:lnTo>
                  <a:lnTo>
                    <a:pt x="1676" y="1524"/>
                  </a:lnTo>
                  <a:lnTo>
                    <a:pt x="1668" y="1533"/>
                  </a:lnTo>
                  <a:lnTo>
                    <a:pt x="1662" y="1541"/>
                  </a:lnTo>
                  <a:lnTo>
                    <a:pt x="1653" y="1544"/>
                  </a:lnTo>
                  <a:lnTo>
                    <a:pt x="1653" y="1535"/>
                  </a:lnTo>
                  <a:lnTo>
                    <a:pt x="1644" y="1541"/>
                  </a:lnTo>
                  <a:lnTo>
                    <a:pt x="1641" y="1550"/>
                  </a:lnTo>
                  <a:lnTo>
                    <a:pt x="1633" y="1547"/>
                  </a:lnTo>
                  <a:lnTo>
                    <a:pt x="1633" y="1538"/>
                  </a:lnTo>
                  <a:lnTo>
                    <a:pt x="1624" y="1538"/>
                  </a:lnTo>
                  <a:lnTo>
                    <a:pt x="1615" y="1541"/>
                  </a:lnTo>
                  <a:lnTo>
                    <a:pt x="1609" y="1550"/>
                  </a:lnTo>
                  <a:lnTo>
                    <a:pt x="1601" y="1541"/>
                  </a:lnTo>
                  <a:lnTo>
                    <a:pt x="1598" y="1533"/>
                  </a:lnTo>
                  <a:lnTo>
                    <a:pt x="1589" y="1535"/>
                  </a:lnTo>
                  <a:lnTo>
                    <a:pt x="1580" y="1541"/>
                  </a:lnTo>
                  <a:lnTo>
                    <a:pt x="1569" y="1538"/>
                  </a:lnTo>
                  <a:lnTo>
                    <a:pt x="1563" y="1547"/>
                  </a:lnTo>
                  <a:lnTo>
                    <a:pt x="1557" y="1559"/>
                  </a:lnTo>
                  <a:lnTo>
                    <a:pt x="1554" y="1567"/>
                  </a:lnTo>
                  <a:lnTo>
                    <a:pt x="1548" y="1576"/>
                  </a:lnTo>
                  <a:lnTo>
                    <a:pt x="1540" y="1576"/>
                  </a:lnTo>
                  <a:lnTo>
                    <a:pt x="1531" y="1576"/>
                  </a:lnTo>
                  <a:lnTo>
                    <a:pt x="1525" y="1564"/>
                  </a:lnTo>
                  <a:lnTo>
                    <a:pt x="1525" y="1556"/>
                  </a:lnTo>
                  <a:lnTo>
                    <a:pt x="1525" y="1547"/>
                  </a:lnTo>
                  <a:lnTo>
                    <a:pt x="1516" y="1544"/>
                  </a:lnTo>
                  <a:lnTo>
                    <a:pt x="1513" y="1553"/>
                  </a:lnTo>
                  <a:lnTo>
                    <a:pt x="1528" y="1541"/>
                  </a:lnTo>
                  <a:lnTo>
                    <a:pt x="1510" y="1530"/>
                  </a:lnTo>
                  <a:lnTo>
                    <a:pt x="1502" y="1530"/>
                  </a:lnTo>
                  <a:lnTo>
                    <a:pt x="1493" y="1538"/>
                  </a:lnTo>
                  <a:lnTo>
                    <a:pt x="1484" y="1544"/>
                  </a:lnTo>
                  <a:lnTo>
                    <a:pt x="1481" y="1553"/>
                  </a:lnTo>
                  <a:lnTo>
                    <a:pt x="1481" y="1561"/>
                  </a:lnTo>
                  <a:lnTo>
                    <a:pt x="1487" y="1570"/>
                  </a:lnTo>
                  <a:lnTo>
                    <a:pt x="1487" y="1579"/>
                  </a:lnTo>
                  <a:lnTo>
                    <a:pt x="1478" y="1587"/>
                  </a:lnTo>
                  <a:lnTo>
                    <a:pt x="1470" y="1590"/>
                  </a:lnTo>
                  <a:lnTo>
                    <a:pt x="1461" y="1599"/>
                  </a:lnTo>
                  <a:lnTo>
                    <a:pt x="1443" y="1599"/>
                  </a:lnTo>
                  <a:lnTo>
                    <a:pt x="1432" y="1599"/>
                  </a:lnTo>
                  <a:lnTo>
                    <a:pt x="1426" y="1610"/>
                  </a:lnTo>
                  <a:lnTo>
                    <a:pt x="1420" y="1619"/>
                  </a:lnTo>
                  <a:lnTo>
                    <a:pt x="1429" y="1619"/>
                  </a:lnTo>
                  <a:lnTo>
                    <a:pt x="1417" y="1628"/>
                  </a:lnTo>
                  <a:lnTo>
                    <a:pt x="1406" y="1628"/>
                  </a:lnTo>
                  <a:lnTo>
                    <a:pt x="1397" y="1628"/>
                  </a:lnTo>
                  <a:lnTo>
                    <a:pt x="1388" y="1628"/>
                  </a:lnTo>
                  <a:lnTo>
                    <a:pt x="1382" y="1636"/>
                  </a:lnTo>
                  <a:lnTo>
                    <a:pt x="1379" y="1645"/>
                  </a:lnTo>
                  <a:lnTo>
                    <a:pt x="1371" y="1645"/>
                  </a:lnTo>
                  <a:lnTo>
                    <a:pt x="1362" y="1645"/>
                  </a:lnTo>
                  <a:lnTo>
                    <a:pt x="1356" y="1654"/>
                  </a:lnTo>
                  <a:lnTo>
                    <a:pt x="1347" y="1657"/>
                  </a:lnTo>
                  <a:lnTo>
                    <a:pt x="1336" y="1659"/>
                  </a:lnTo>
                  <a:lnTo>
                    <a:pt x="1327" y="1659"/>
                  </a:lnTo>
                  <a:lnTo>
                    <a:pt x="1318" y="1662"/>
                  </a:lnTo>
                  <a:lnTo>
                    <a:pt x="1310" y="1662"/>
                  </a:lnTo>
                  <a:lnTo>
                    <a:pt x="1298" y="1662"/>
                  </a:lnTo>
                  <a:lnTo>
                    <a:pt x="1289" y="1665"/>
                  </a:lnTo>
                  <a:lnTo>
                    <a:pt x="1280" y="1671"/>
                  </a:lnTo>
                  <a:lnTo>
                    <a:pt x="1278" y="1680"/>
                  </a:lnTo>
                  <a:lnTo>
                    <a:pt x="1280" y="1691"/>
                  </a:lnTo>
                  <a:lnTo>
                    <a:pt x="1289" y="1694"/>
                  </a:lnTo>
                  <a:lnTo>
                    <a:pt x="1301" y="1697"/>
                  </a:lnTo>
                  <a:lnTo>
                    <a:pt x="1312" y="1697"/>
                  </a:lnTo>
                  <a:lnTo>
                    <a:pt x="1321" y="1697"/>
                  </a:lnTo>
                  <a:lnTo>
                    <a:pt x="1310" y="1694"/>
                  </a:lnTo>
                  <a:lnTo>
                    <a:pt x="1298" y="1694"/>
                  </a:lnTo>
                  <a:lnTo>
                    <a:pt x="1289" y="1691"/>
                  </a:lnTo>
                  <a:lnTo>
                    <a:pt x="1304" y="1685"/>
                  </a:lnTo>
                  <a:lnTo>
                    <a:pt x="1312" y="1685"/>
                  </a:lnTo>
                  <a:lnTo>
                    <a:pt x="1321" y="1685"/>
                  </a:lnTo>
                  <a:lnTo>
                    <a:pt x="1312" y="1682"/>
                  </a:lnTo>
                  <a:lnTo>
                    <a:pt x="1301" y="1685"/>
                  </a:lnTo>
                  <a:lnTo>
                    <a:pt x="1292" y="1685"/>
                  </a:lnTo>
                  <a:lnTo>
                    <a:pt x="1286" y="1677"/>
                  </a:lnTo>
                  <a:lnTo>
                    <a:pt x="1275" y="1668"/>
                  </a:lnTo>
                  <a:lnTo>
                    <a:pt x="1266" y="1665"/>
                  </a:lnTo>
                  <a:lnTo>
                    <a:pt x="1248" y="1659"/>
                  </a:lnTo>
                  <a:lnTo>
                    <a:pt x="1240" y="1659"/>
                  </a:lnTo>
                  <a:lnTo>
                    <a:pt x="1234" y="1668"/>
                  </a:lnTo>
                  <a:lnTo>
                    <a:pt x="1225" y="1671"/>
                  </a:lnTo>
                  <a:lnTo>
                    <a:pt x="1216" y="1674"/>
                  </a:lnTo>
                  <a:lnTo>
                    <a:pt x="1208" y="1674"/>
                  </a:lnTo>
                  <a:lnTo>
                    <a:pt x="1199" y="1671"/>
                  </a:lnTo>
                  <a:lnTo>
                    <a:pt x="1190" y="1674"/>
                  </a:lnTo>
                  <a:lnTo>
                    <a:pt x="1176" y="1671"/>
                  </a:lnTo>
                  <a:lnTo>
                    <a:pt x="1167" y="1668"/>
                  </a:lnTo>
                  <a:lnTo>
                    <a:pt x="1161" y="1677"/>
                  </a:lnTo>
                  <a:lnTo>
                    <a:pt x="1152" y="1682"/>
                  </a:lnTo>
                  <a:lnTo>
                    <a:pt x="1144" y="1682"/>
                  </a:lnTo>
                  <a:lnTo>
                    <a:pt x="1132" y="1682"/>
                  </a:lnTo>
                  <a:lnTo>
                    <a:pt x="1132" y="1691"/>
                  </a:lnTo>
                  <a:lnTo>
                    <a:pt x="1132" y="1700"/>
                  </a:lnTo>
                  <a:lnTo>
                    <a:pt x="1147" y="1708"/>
                  </a:lnTo>
                  <a:lnTo>
                    <a:pt x="1155" y="1720"/>
                  </a:lnTo>
                  <a:lnTo>
                    <a:pt x="1158" y="1729"/>
                  </a:lnTo>
                  <a:lnTo>
                    <a:pt x="1158" y="1737"/>
                  </a:lnTo>
                  <a:lnTo>
                    <a:pt x="1161" y="1746"/>
                  </a:lnTo>
                  <a:lnTo>
                    <a:pt x="1161" y="1737"/>
                  </a:lnTo>
                  <a:lnTo>
                    <a:pt x="1155" y="1726"/>
                  </a:lnTo>
                  <a:lnTo>
                    <a:pt x="1152" y="1717"/>
                  </a:lnTo>
                  <a:lnTo>
                    <a:pt x="1138" y="1717"/>
                  </a:lnTo>
                  <a:lnTo>
                    <a:pt x="1129" y="1711"/>
                  </a:lnTo>
                  <a:lnTo>
                    <a:pt x="1120" y="1711"/>
                  </a:lnTo>
                  <a:lnTo>
                    <a:pt x="1117" y="1720"/>
                  </a:lnTo>
                  <a:lnTo>
                    <a:pt x="1114" y="1731"/>
                  </a:lnTo>
                  <a:lnTo>
                    <a:pt x="1114" y="1740"/>
                  </a:lnTo>
                  <a:lnTo>
                    <a:pt x="1126" y="1740"/>
                  </a:lnTo>
                  <a:lnTo>
                    <a:pt x="1138" y="1743"/>
                  </a:lnTo>
                  <a:lnTo>
                    <a:pt x="1129" y="1743"/>
                  </a:lnTo>
                  <a:lnTo>
                    <a:pt x="1120" y="1743"/>
                  </a:lnTo>
                  <a:lnTo>
                    <a:pt x="1112" y="1746"/>
                  </a:lnTo>
                  <a:lnTo>
                    <a:pt x="1103" y="1752"/>
                  </a:lnTo>
                  <a:lnTo>
                    <a:pt x="1094" y="1755"/>
                  </a:lnTo>
                  <a:lnTo>
                    <a:pt x="1085" y="1763"/>
                  </a:lnTo>
                  <a:lnTo>
                    <a:pt x="1077" y="1766"/>
                  </a:lnTo>
                  <a:lnTo>
                    <a:pt x="1068" y="1766"/>
                  </a:lnTo>
                  <a:lnTo>
                    <a:pt x="1077" y="1772"/>
                  </a:lnTo>
                  <a:lnTo>
                    <a:pt x="1085" y="1772"/>
                  </a:lnTo>
                  <a:lnTo>
                    <a:pt x="1097" y="1775"/>
                  </a:lnTo>
                  <a:lnTo>
                    <a:pt x="1091" y="1783"/>
                  </a:lnTo>
                  <a:lnTo>
                    <a:pt x="1080" y="1786"/>
                  </a:lnTo>
                  <a:lnTo>
                    <a:pt x="1071" y="1786"/>
                  </a:lnTo>
                  <a:lnTo>
                    <a:pt x="1062" y="1789"/>
                  </a:lnTo>
                  <a:lnTo>
                    <a:pt x="1056" y="1798"/>
                  </a:lnTo>
                  <a:lnTo>
                    <a:pt x="1056" y="1806"/>
                  </a:lnTo>
                  <a:lnTo>
                    <a:pt x="1056" y="1815"/>
                  </a:lnTo>
                  <a:lnTo>
                    <a:pt x="1056" y="1824"/>
                  </a:lnTo>
                  <a:lnTo>
                    <a:pt x="1056" y="1832"/>
                  </a:lnTo>
                  <a:lnTo>
                    <a:pt x="1056" y="1841"/>
                  </a:lnTo>
                  <a:lnTo>
                    <a:pt x="1062" y="1850"/>
                  </a:lnTo>
                  <a:lnTo>
                    <a:pt x="1074" y="1855"/>
                  </a:lnTo>
                  <a:lnTo>
                    <a:pt x="1082" y="1855"/>
                  </a:lnTo>
                  <a:lnTo>
                    <a:pt x="1091" y="1855"/>
                  </a:lnTo>
                  <a:lnTo>
                    <a:pt x="1103" y="1855"/>
                  </a:lnTo>
                  <a:lnTo>
                    <a:pt x="1112" y="1855"/>
                  </a:lnTo>
                  <a:lnTo>
                    <a:pt x="1120" y="1855"/>
                  </a:lnTo>
                  <a:lnTo>
                    <a:pt x="1132" y="1855"/>
                  </a:lnTo>
                  <a:lnTo>
                    <a:pt x="1144" y="1855"/>
                  </a:lnTo>
                  <a:lnTo>
                    <a:pt x="1152" y="1852"/>
                  </a:lnTo>
                  <a:lnTo>
                    <a:pt x="1167" y="1852"/>
                  </a:lnTo>
                  <a:lnTo>
                    <a:pt x="1176" y="1844"/>
                  </a:lnTo>
                  <a:lnTo>
                    <a:pt x="1179" y="1835"/>
                  </a:lnTo>
                  <a:lnTo>
                    <a:pt x="1181" y="1827"/>
                  </a:lnTo>
                  <a:lnTo>
                    <a:pt x="1184" y="1835"/>
                  </a:lnTo>
                  <a:lnTo>
                    <a:pt x="1184" y="1844"/>
                  </a:lnTo>
                  <a:lnTo>
                    <a:pt x="1181" y="1852"/>
                  </a:lnTo>
                  <a:lnTo>
                    <a:pt x="1170" y="1858"/>
                  </a:lnTo>
                  <a:lnTo>
                    <a:pt x="1173" y="1867"/>
                  </a:lnTo>
                  <a:lnTo>
                    <a:pt x="1170" y="1876"/>
                  </a:lnTo>
                  <a:lnTo>
                    <a:pt x="1164" y="1884"/>
                  </a:lnTo>
                  <a:lnTo>
                    <a:pt x="1161" y="1893"/>
                  </a:lnTo>
                  <a:lnTo>
                    <a:pt x="1161" y="1901"/>
                  </a:lnTo>
                  <a:lnTo>
                    <a:pt x="1158" y="1910"/>
                  </a:lnTo>
                  <a:lnTo>
                    <a:pt x="1149" y="1913"/>
                  </a:lnTo>
                  <a:lnTo>
                    <a:pt x="1147" y="1922"/>
                  </a:lnTo>
                  <a:lnTo>
                    <a:pt x="1147" y="1930"/>
                  </a:lnTo>
                  <a:lnTo>
                    <a:pt x="1144" y="1939"/>
                  </a:lnTo>
                  <a:lnTo>
                    <a:pt x="1144" y="1948"/>
                  </a:lnTo>
                  <a:lnTo>
                    <a:pt x="1141" y="1956"/>
                  </a:lnTo>
                  <a:lnTo>
                    <a:pt x="1141" y="1968"/>
                  </a:lnTo>
                  <a:lnTo>
                    <a:pt x="1141" y="1976"/>
                  </a:lnTo>
                  <a:lnTo>
                    <a:pt x="1155" y="1956"/>
                  </a:lnTo>
                  <a:lnTo>
                    <a:pt x="1144" y="1956"/>
                  </a:lnTo>
                  <a:lnTo>
                    <a:pt x="1144" y="1965"/>
                  </a:lnTo>
                  <a:lnTo>
                    <a:pt x="1144" y="1974"/>
                  </a:lnTo>
                  <a:lnTo>
                    <a:pt x="1144" y="1982"/>
                  </a:lnTo>
                  <a:lnTo>
                    <a:pt x="1138" y="1991"/>
                  </a:lnTo>
                  <a:lnTo>
                    <a:pt x="1129" y="1997"/>
                  </a:lnTo>
                  <a:lnTo>
                    <a:pt x="1120" y="1997"/>
                  </a:lnTo>
                  <a:lnTo>
                    <a:pt x="1117" y="2005"/>
                  </a:lnTo>
                  <a:lnTo>
                    <a:pt x="1117" y="2014"/>
                  </a:lnTo>
                  <a:lnTo>
                    <a:pt x="1117" y="2023"/>
                  </a:lnTo>
                  <a:lnTo>
                    <a:pt x="1117" y="2031"/>
                  </a:lnTo>
                  <a:lnTo>
                    <a:pt x="1120" y="2040"/>
                  </a:lnTo>
                  <a:lnTo>
                    <a:pt x="1129" y="2046"/>
                  </a:lnTo>
                  <a:lnTo>
                    <a:pt x="1144" y="2054"/>
                  </a:lnTo>
                  <a:lnTo>
                    <a:pt x="1152" y="2054"/>
                  </a:lnTo>
                  <a:lnTo>
                    <a:pt x="1158" y="2046"/>
                  </a:lnTo>
                  <a:lnTo>
                    <a:pt x="1158" y="2037"/>
                  </a:lnTo>
                  <a:lnTo>
                    <a:pt x="1170" y="2037"/>
                  </a:lnTo>
                  <a:lnTo>
                    <a:pt x="1179" y="2037"/>
                  </a:lnTo>
                  <a:lnTo>
                    <a:pt x="1187" y="2037"/>
                  </a:lnTo>
                  <a:lnTo>
                    <a:pt x="1199" y="2037"/>
                  </a:lnTo>
                  <a:lnTo>
                    <a:pt x="1208" y="2040"/>
                  </a:lnTo>
                  <a:lnTo>
                    <a:pt x="1216" y="2043"/>
                  </a:lnTo>
                  <a:lnTo>
                    <a:pt x="1225" y="2040"/>
                  </a:lnTo>
                  <a:lnTo>
                    <a:pt x="1228" y="2031"/>
                  </a:lnTo>
                  <a:lnTo>
                    <a:pt x="1231" y="2023"/>
                  </a:lnTo>
                  <a:lnTo>
                    <a:pt x="1237" y="2014"/>
                  </a:lnTo>
                  <a:lnTo>
                    <a:pt x="1245" y="2005"/>
                  </a:lnTo>
                  <a:lnTo>
                    <a:pt x="1251" y="1997"/>
                  </a:lnTo>
                  <a:lnTo>
                    <a:pt x="1260" y="1991"/>
                  </a:lnTo>
                  <a:lnTo>
                    <a:pt x="1266" y="1982"/>
                  </a:lnTo>
                  <a:lnTo>
                    <a:pt x="1269" y="1974"/>
                  </a:lnTo>
                  <a:lnTo>
                    <a:pt x="1272" y="1965"/>
                  </a:lnTo>
                  <a:lnTo>
                    <a:pt x="1280" y="1962"/>
                  </a:lnTo>
                  <a:lnTo>
                    <a:pt x="1289" y="1962"/>
                  </a:lnTo>
                  <a:lnTo>
                    <a:pt x="1298" y="1959"/>
                  </a:lnTo>
                  <a:lnTo>
                    <a:pt x="1301" y="1950"/>
                  </a:lnTo>
                  <a:lnTo>
                    <a:pt x="1304" y="1942"/>
                  </a:lnTo>
                  <a:lnTo>
                    <a:pt x="1301" y="1933"/>
                  </a:lnTo>
                  <a:lnTo>
                    <a:pt x="1292" y="1925"/>
                  </a:lnTo>
                  <a:lnTo>
                    <a:pt x="1301" y="1919"/>
                  </a:lnTo>
                  <a:lnTo>
                    <a:pt x="1310" y="1927"/>
                  </a:lnTo>
                  <a:lnTo>
                    <a:pt x="1318" y="1933"/>
                  </a:lnTo>
                  <a:lnTo>
                    <a:pt x="1324" y="1942"/>
                  </a:lnTo>
                  <a:lnTo>
                    <a:pt x="1333" y="1950"/>
                  </a:lnTo>
                  <a:lnTo>
                    <a:pt x="1342" y="1950"/>
                  </a:lnTo>
                  <a:lnTo>
                    <a:pt x="1350" y="1950"/>
                  </a:lnTo>
                  <a:lnTo>
                    <a:pt x="1353" y="1942"/>
                  </a:lnTo>
                  <a:lnTo>
                    <a:pt x="1353" y="1933"/>
                  </a:lnTo>
                  <a:lnTo>
                    <a:pt x="1356" y="1925"/>
                  </a:lnTo>
                  <a:lnTo>
                    <a:pt x="1356" y="1916"/>
                  </a:lnTo>
                  <a:lnTo>
                    <a:pt x="1359" y="1907"/>
                  </a:lnTo>
                  <a:lnTo>
                    <a:pt x="1359" y="1899"/>
                  </a:lnTo>
                  <a:lnTo>
                    <a:pt x="1356" y="1890"/>
                  </a:lnTo>
                  <a:lnTo>
                    <a:pt x="1347" y="1881"/>
                  </a:lnTo>
                  <a:lnTo>
                    <a:pt x="1347" y="1870"/>
                  </a:lnTo>
                  <a:lnTo>
                    <a:pt x="1347" y="1861"/>
                  </a:lnTo>
                  <a:lnTo>
                    <a:pt x="1356" y="1855"/>
                  </a:lnTo>
                  <a:lnTo>
                    <a:pt x="1362" y="1847"/>
                  </a:lnTo>
                  <a:lnTo>
                    <a:pt x="1371" y="1844"/>
                  </a:lnTo>
                  <a:lnTo>
                    <a:pt x="1379" y="1835"/>
                  </a:lnTo>
                  <a:lnTo>
                    <a:pt x="1382" y="1827"/>
                  </a:lnTo>
                  <a:lnTo>
                    <a:pt x="1391" y="1821"/>
                  </a:lnTo>
                  <a:lnTo>
                    <a:pt x="1400" y="1815"/>
                  </a:lnTo>
                  <a:lnTo>
                    <a:pt x="1406" y="1806"/>
                  </a:lnTo>
                  <a:lnTo>
                    <a:pt x="1414" y="1801"/>
                  </a:lnTo>
                  <a:lnTo>
                    <a:pt x="1423" y="1801"/>
                  </a:lnTo>
                  <a:lnTo>
                    <a:pt x="1435" y="1798"/>
                  </a:lnTo>
                  <a:lnTo>
                    <a:pt x="1443" y="1792"/>
                  </a:lnTo>
                  <a:lnTo>
                    <a:pt x="1452" y="1792"/>
                  </a:lnTo>
                  <a:lnTo>
                    <a:pt x="1464" y="1789"/>
                  </a:lnTo>
                  <a:lnTo>
                    <a:pt x="1473" y="1789"/>
                  </a:lnTo>
                  <a:lnTo>
                    <a:pt x="1481" y="1789"/>
                  </a:lnTo>
                  <a:lnTo>
                    <a:pt x="1490" y="1786"/>
                  </a:lnTo>
                  <a:lnTo>
                    <a:pt x="1499" y="1786"/>
                  </a:lnTo>
                  <a:lnTo>
                    <a:pt x="1508" y="1786"/>
                  </a:lnTo>
                  <a:lnTo>
                    <a:pt x="1516" y="1783"/>
                  </a:lnTo>
                  <a:lnTo>
                    <a:pt x="1516" y="1775"/>
                  </a:lnTo>
                  <a:lnTo>
                    <a:pt x="1516" y="1766"/>
                  </a:lnTo>
                  <a:lnTo>
                    <a:pt x="1513" y="1757"/>
                  </a:lnTo>
                  <a:lnTo>
                    <a:pt x="1522" y="1752"/>
                  </a:lnTo>
                  <a:lnTo>
                    <a:pt x="1528" y="1743"/>
                  </a:lnTo>
                  <a:lnTo>
                    <a:pt x="1537" y="1737"/>
                  </a:lnTo>
                  <a:lnTo>
                    <a:pt x="1545" y="1737"/>
                  </a:lnTo>
                  <a:lnTo>
                    <a:pt x="1554" y="1734"/>
                  </a:lnTo>
                  <a:lnTo>
                    <a:pt x="1563" y="1729"/>
                  </a:lnTo>
                  <a:lnTo>
                    <a:pt x="1572" y="1729"/>
                  </a:lnTo>
                  <a:lnTo>
                    <a:pt x="1580" y="1737"/>
                  </a:lnTo>
                  <a:lnTo>
                    <a:pt x="1589" y="1743"/>
                  </a:lnTo>
                  <a:lnTo>
                    <a:pt x="1598" y="1749"/>
                  </a:lnTo>
                  <a:lnTo>
                    <a:pt x="1601" y="1757"/>
                  </a:lnTo>
                  <a:lnTo>
                    <a:pt x="1601" y="1766"/>
                  </a:lnTo>
                  <a:lnTo>
                    <a:pt x="1604" y="1775"/>
                  </a:lnTo>
                  <a:lnTo>
                    <a:pt x="1604" y="1783"/>
                  </a:lnTo>
                  <a:lnTo>
                    <a:pt x="1592" y="1789"/>
                  </a:lnTo>
                  <a:lnTo>
                    <a:pt x="1580" y="1789"/>
                  </a:lnTo>
                  <a:lnTo>
                    <a:pt x="1572" y="1792"/>
                  </a:lnTo>
                  <a:lnTo>
                    <a:pt x="1566" y="1801"/>
                  </a:lnTo>
                  <a:lnTo>
                    <a:pt x="1557" y="1806"/>
                  </a:lnTo>
                  <a:lnTo>
                    <a:pt x="1548" y="1812"/>
                  </a:lnTo>
                  <a:lnTo>
                    <a:pt x="1537" y="1815"/>
                  </a:lnTo>
                  <a:lnTo>
                    <a:pt x="1528" y="1818"/>
                  </a:lnTo>
                  <a:lnTo>
                    <a:pt x="1519" y="1824"/>
                  </a:lnTo>
                  <a:lnTo>
                    <a:pt x="1510" y="1829"/>
                  </a:lnTo>
                  <a:lnTo>
                    <a:pt x="1502" y="1829"/>
                  </a:lnTo>
                  <a:lnTo>
                    <a:pt x="1490" y="1832"/>
                  </a:lnTo>
                  <a:lnTo>
                    <a:pt x="1481" y="1835"/>
                  </a:lnTo>
                  <a:lnTo>
                    <a:pt x="1473" y="1835"/>
                  </a:lnTo>
                  <a:lnTo>
                    <a:pt x="1464" y="1841"/>
                  </a:lnTo>
                  <a:lnTo>
                    <a:pt x="1458" y="1850"/>
                  </a:lnTo>
                  <a:lnTo>
                    <a:pt x="1452" y="1858"/>
                  </a:lnTo>
                  <a:lnTo>
                    <a:pt x="1449" y="1867"/>
                  </a:lnTo>
                  <a:lnTo>
                    <a:pt x="1449" y="1876"/>
                  </a:lnTo>
                  <a:lnTo>
                    <a:pt x="1446" y="1884"/>
                  </a:lnTo>
                  <a:lnTo>
                    <a:pt x="1443" y="1893"/>
                  </a:lnTo>
                  <a:lnTo>
                    <a:pt x="1438" y="1901"/>
                  </a:lnTo>
                  <a:lnTo>
                    <a:pt x="1435" y="1910"/>
                  </a:lnTo>
                  <a:lnTo>
                    <a:pt x="1429" y="1919"/>
                  </a:lnTo>
                  <a:lnTo>
                    <a:pt x="1426" y="1927"/>
                  </a:lnTo>
                  <a:lnTo>
                    <a:pt x="1423" y="1936"/>
                  </a:lnTo>
                  <a:lnTo>
                    <a:pt x="1423" y="1945"/>
                  </a:lnTo>
                  <a:lnTo>
                    <a:pt x="1417" y="1953"/>
                  </a:lnTo>
                  <a:lnTo>
                    <a:pt x="1417" y="1962"/>
                  </a:lnTo>
                  <a:lnTo>
                    <a:pt x="1426" y="1962"/>
                  </a:lnTo>
                  <a:lnTo>
                    <a:pt x="1435" y="1974"/>
                  </a:lnTo>
                  <a:lnTo>
                    <a:pt x="1441" y="1982"/>
                  </a:lnTo>
                  <a:lnTo>
                    <a:pt x="1441" y="1991"/>
                  </a:lnTo>
                  <a:lnTo>
                    <a:pt x="1449" y="1991"/>
                  </a:lnTo>
                  <a:lnTo>
                    <a:pt x="1461" y="1991"/>
                  </a:lnTo>
                  <a:lnTo>
                    <a:pt x="1470" y="1991"/>
                  </a:lnTo>
                  <a:lnTo>
                    <a:pt x="1484" y="1994"/>
                  </a:lnTo>
                  <a:lnTo>
                    <a:pt x="1493" y="1994"/>
                  </a:lnTo>
                  <a:lnTo>
                    <a:pt x="1502" y="1994"/>
                  </a:lnTo>
                  <a:lnTo>
                    <a:pt x="1510" y="1991"/>
                  </a:lnTo>
                  <a:lnTo>
                    <a:pt x="1519" y="1997"/>
                  </a:lnTo>
                  <a:lnTo>
                    <a:pt x="1531" y="1988"/>
                  </a:lnTo>
                  <a:lnTo>
                    <a:pt x="1540" y="1991"/>
                  </a:lnTo>
                  <a:lnTo>
                    <a:pt x="1548" y="1994"/>
                  </a:lnTo>
                  <a:lnTo>
                    <a:pt x="1557" y="1997"/>
                  </a:lnTo>
                  <a:lnTo>
                    <a:pt x="1566" y="1997"/>
                  </a:lnTo>
                  <a:lnTo>
                    <a:pt x="1569" y="2005"/>
                  </a:lnTo>
                  <a:lnTo>
                    <a:pt x="1569" y="2014"/>
                  </a:lnTo>
                  <a:lnTo>
                    <a:pt x="1569" y="2023"/>
                  </a:lnTo>
                  <a:lnTo>
                    <a:pt x="1572" y="2031"/>
                  </a:lnTo>
                  <a:lnTo>
                    <a:pt x="1577" y="2040"/>
                  </a:lnTo>
                  <a:lnTo>
                    <a:pt x="1586" y="2048"/>
                  </a:lnTo>
                  <a:lnTo>
                    <a:pt x="1577" y="2040"/>
                  </a:lnTo>
                  <a:lnTo>
                    <a:pt x="1569" y="2037"/>
                  </a:lnTo>
                  <a:lnTo>
                    <a:pt x="1557" y="2037"/>
                  </a:lnTo>
                  <a:lnTo>
                    <a:pt x="1548" y="2040"/>
                  </a:lnTo>
                  <a:lnTo>
                    <a:pt x="1548" y="2048"/>
                  </a:lnTo>
                  <a:lnTo>
                    <a:pt x="1540" y="2054"/>
                  </a:lnTo>
                  <a:lnTo>
                    <a:pt x="1531" y="2051"/>
                  </a:lnTo>
                  <a:lnTo>
                    <a:pt x="1522" y="2043"/>
                  </a:lnTo>
                  <a:lnTo>
                    <a:pt x="1513" y="2034"/>
                  </a:lnTo>
                  <a:lnTo>
                    <a:pt x="1505" y="2031"/>
                  </a:lnTo>
                  <a:lnTo>
                    <a:pt x="1496" y="2031"/>
                  </a:lnTo>
                  <a:lnTo>
                    <a:pt x="1487" y="2028"/>
                  </a:lnTo>
                  <a:lnTo>
                    <a:pt x="1478" y="2025"/>
                  </a:lnTo>
                  <a:lnTo>
                    <a:pt x="1470" y="2023"/>
                  </a:lnTo>
                  <a:lnTo>
                    <a:pt x="1461" y="2020"/>
                  </a:lnTo>
                  <a:lnTo>
                    <a:pt x="1452" y="2017"/>
                  </a:lnTo>
                  <a:lnTo>
                    <a:pt x="1441" y="2011"/>
                  </a:lnTo>
                  <a:lnTo>
                    <a:pt x="1432" y="2011"/>
                  </a:lnTo>
                  <a:lnTo>
                    <a:pt x="1426" y="2020"/>
                  </a:lnTo>
                  <a:lnTo>
                    <a:pt x="1426" y="2028"/>
                  </a:lnTo>
                  <a:lnTo>
                    <a:pt x="1423" y="2037"/>
                  </a:lnTo>
                  <a:lnTo>
                    <a:pt x="1417" y="2046"/>
                  </a:lnTo>
                  <a:lnTo>
                    <a:pt x="1414" y="2054"/>
                  </a:lnTo>
                  <a:lnTo>
                    <a:pt x="1426" y="2060"/>
                  </a:lnTo>
                  <a:lnTo>
                    <a:pt x="1432" y="2069"/>
                  </a:lnTo>
                  <a:lnTo>
                    <a:pt x="1429" y="2077"/>
                  </a:lnTo>
                  <a:lnTo>
                    <a:pt x="1423" y="2086"/>
                  </a:lnTo>
                  <a:lnTo>
                    <a:pt x="1414" y="2089"/>
                  </a:lnTo>
                  <a:lnTo>
                    <a:pt x="1409" y="2097"/>
                  </a:lnTo>
                  <a:lnTo>
                    <a:pt x="1403" y="2106"/>
                  </a:lnTo>
                  <a:lnTo>
                    <a:pt x="1400" y="2115"/>
                  </a:lnTo>
                  <a:lnTo>
                    <a:pt x="1391" y="2112"/>
                  </a:lnTo>
                  <a:lnTo>
                    <a:pt x="1388" y="2103"/>
                  </a:lnTo>
                  <a:lnTo>
                    <a:pt x="1385" y="2095"/>
                  </a:lnTo>
                  <a:lnTo>
                    <a:pt x="1382" y="2086"/>
                  </a:lnTo>
                  <a:lnTo>
                    <a:pt x="1382" y="2077"/>
                  </a:lnTo>
                  <a:lnTo>
                    <a:pt x="1379" y="2069"/>
                  </a:lnTo>
                  <a:lnTo>
                    <a:pt x="1371" y="2063"/>
                  </a:lnTo>
                  <a:lnTo>
                    <a:pt x="1359" y="2063"/>
                  </a:lnTo>
                  <a:lnTo>
                    <a:pt x="1350" y="2063"/>
                  </a:lnTo>
                  <a:lnTo>
                    <a:pt x="1344" y="2072"/>
                  </a:lnTo>
                  <a:lnTo>
                    <a:pt x="1339" y="2080"/>
                  </a:lnTo>
                  <a:lnTo>
                    <a:pt x="1333" y="2089"/>
                  </a:lnTo>
                  <a:lnTo>
                    <a:pt x="1327" y="2097"/>
                  </a:lnTo>
                  <a:lnTo>
                    <a:pt x="1321" y="2106"/>
                  </a:lnTo>
                  <a:lnTo>
                    <a:pt x="1312" y="2109"/>
                  </a:lnTo>
                  <a:lnTo>
                    <a:pt x="1304" y="2112"/>
                  </a:lnTo>
                  <a:lnTo>
                    <a:pt x="1304" y="2120"/>
                  </a:lnTo>
                  <a:lnTo>
                    <a:pt x="1301" y="2129"/>
                  </a:lnTo>
                  <a:lnTo>
                    <a:pt x="1298" y="2138"/>
                  </a:lnTo>
                  <a:lnTo>
                    <a:pt x="1295" y="2146"/>
                  </a:lnTo>
                  <a:lnTo>
                    <a:pt x="1295" y="2095"/>
                  </a:lnTo>
                  <a:lnTo>
                    <a:pt x="1304" y="2103"/>
                  </a:lnTo>
                  <a:lnTo>
                    <a:pt x="1304" y="2115"/>
                  </a:lnTo>
                  <a:lnTo>
                    <a:pt x="1301" y="2123"/>
                  </a:lnTo>
                  <a:lnTo>
                    <a:pt x="1298" y="2132"/>
                  </a:lnTo>
                  <a:lnTo>
                    <a:pt x="1298" y="2141"/>
                  </a:lnTo>
                  <a:lnTo>
                    <a:pt x="1295" y="2149"/>
                  </a:lnTo>
                  <a:lnTo>
                    <a:pt x="1292" y="2161"/>
                  </a:lnTo>
                  <a:lnTo>
                    <a:pt x="1289" y="2169"/>
                  </a:lnTo>
                  <a:lnTo>
                    <a:pt x="1280" y="2175"/>
                  </a:lnTo>
                  <a:lnTo>
                    <a:pt x="1278" y="2167"/>
                  </a:lnTo>
                  <a:lnTo>
                    <a:pt x="1275" y="2155"/>
                  </a:lnTo>
                  <a:lnTo>
                    <a:pt x="1272" y="2146"/>
                  </a:lnTo>
                  <a:lnTo>
                    <a:pt x="1263" y="2146"/>
                  </a:lnTo>
                  <a:lnTo>
                    <a:pt x="1251" y="2149"/>
                  </a:lnTo>
                  <a:lnTo>
                    <a:pt x="1245" y="2158"/>
                  </a:lnTo>
                  <a:lnTo>
                    <a:pt x="1240" y="2167"/>
                  </a:lnTo>
                  <a:lnTo>
                    <a:pt x="1228" y="2167"/>
                  </a:lnTo>
                  <a:lnTo>
                    <a:pt x="1216" y="2167"/>
                  </a:lnTo>
                  <a:lnTo>
                    <a:pt x="1213" y="2155"/>
                  </a:lnTo>
                  <a:lnTo>
                    <a:pt x="1213" y="2144"/>
                  </a:lnTo>
                  <a:lnTo>
                    <a:pt x="1205" y="2138"/>
                  </a:lnTo>
                  <a:lnTo>
                    <a:pt x="1196" y="2132"/>
                  </a:lnTo>
                  <a:lnTo>
                    <a:pt x="1179" y="2126"/>
                  </a:lnTo>
                  <a:lnTo>
                    <a:pt x="1170" y="2123"/>
                  </a:lnTo>
                  <a:lnTo>
                    <a:pt x="1158" y="2123"/>
                  </a:lnTo>
                  <a:lnTo>
                    <a:pt x="1152" y="2132"/>
                  </a:lnTo>
                  <a:lnTo>
                    <a:pt x="1141" y="2135"/>
                  </a:lnTo>
                  <a:lnTo>
                    <a:pt x="1132" y="2132"/>
                  </a:lnTo>
                  <a:lnTo>
                    <a:pt x="1123" y="2123"/>
                  </a:lnTo>
                  <a:lnTo>
                    <a:pt x="1114" y="2118"/>
                  </a:lnTo>
                  <a:lnTo>
                    <a:pt x="1106" y="2115"/>
                  </a:lnTo>
                  <a:lnTo>
                    <a:pt x="1097" y="2115"/>
                  </a:lnTo>
                  <a:lnTo>
                    <a:pt x="1094" y="2106"/>
                  </a:lnTo>
                  <a:lnTo>
                    <a:pt x="1094" y="2097"/>
                  </a:lnTo>
                  <a:lnTo>
                    <a:pt x="1094" y="2089"/>
                  </a:lnTo>
                  <a:lnTo>
                    <a:pt x="1091" y="2077"/>
                  </a:lnTo>
                  <a:lnTo>
                    <a:pt x="1091" y="2069"/>
                  </a:lnTo>
                  <a:lnTo>
                    <a:pt x="1082" y="2066"/>
                  </a:lnTo>
                  <a:lnTo>
                    <a:pt x="1074" y="2066"/>
                  </a:lnTo>
                  <a:lnTo>
                    <a:pt x="1065" y="2066"/>
                  </a:lnTo>
                  <a:lnTo>
                    <a:pt x="1056" y="2066"/>
                  </a:lnTo>
                  <a:lnTo>
                    <a:pt x="1048" y="2066"/>
                  </a:lnTo>
                  <a:lnTo>
                    <a:pt x="1039" y="2066"/>
                  </a:lnTo>
                  <a:lnTo>
                    <a:pt x="1027" y="2063"/>
                  </a:lnTo>
                  <a:lnTo>
                    <a:pt x="1021" y="2054"/>
                  </a:lnTo>
                  <a:lnTo>
                    <a:pt x="1021" y="2046"/>
                  </a:lnTo>
                  <a:lnTo>
                    <a:pt x="1016" y="2048"/>
                  </a:lnTo>
                  <a:lnTo>
                    <a:pt x="1036" y="2031"/>
                  </a:lnTo>
                  <a:lnTo>
                    <a:pt x="1048" y="2020"/>
                  </a:lnTo>
                  <a:lnTo>
                    <a:pt x="1059" y="2017"/>
                  </a:lnTo>
                  <a:lnTo>
                    <a:pt x="1062" y="2025"/>
                  </a:lnTo>
                  <a:lnTo>
                    <a:pt x="1050" y="2025"/>
                  </a:lnTo>
                  <a:lnTo>
                    <a:pt x="1059" y="2025"/>
                  </a:lnTo>
                  <a:lnTo>
                    <a:pt x="1071" y="2025"/>
                  </a:lnTo>
                  <a:lnTo>
                    <a:pt x="1080" y="2025"/>
                  </a:lnTo>
                  <a:lnTo>
                    <a:pt x="1088" y="2028"/>
                  </a:lnTo>
                  <a:lnTo>
                    <a:pt x="1097" y="2028"/>
                  </a:lnTo>
                  <a:lnTo>
                    <a:pt x="1106" y="2025"/>
                  </a:lnTo>
                  <a:lnTo>
                    <a:pt x="1109" y="2017"/>
                  </a:lnTo>
                  <a:lnTo>
                    <a:pt x="1112" y="2008"/>
                  </a:lnTo>
                  <a:lnTo>
                    <a:pt x="1103" y="1999"/>
                  </a:lnTo>
                  <a:lnTo>
                    <a:pt x="1100" y="1991"/>
                  </a:lnTo>
                  <a:lnTo>
                    <a:pt x="1094" y="1982"/>
                  </a:lnTo>
                  <a:lnTo>
                    <a:pt x="1091" y="1974"/>
                  </a:lnTo>
                  <a:lnTo>
                    <a:pt x="1082" y="1971"/>
                  </a:lnTo>
                  <a:lnTo>
                    <a:pt x="1077" y="1979"/>
                  </a:lnTo>
                  <a:lnTo>
                    <a:pt x="1077" y="1991"/>
                  </a:lnTo>
                  <a:lnTo>
                    <a:pt x="1077" y="1999"/>
                  </a:lnTo>
                  <a:lnTo>
                    <a:pt x="1071" y="2008"/>
                  </a:lnTo>
                  <a:lnTo>
                    <a:pt x="1068" y="2020"/>
                  </a:lnTo>
                  <a:lnTo>
                    <a:pt x="1068" y="2028"/>
                  </a:lnTo>
                  <a:lnTo>
                    <a:pt x="1059" y="2031"/>
                  </a:lnTo>
                  <a:lnTo>
                    <a:pt x="1048" y="2031"/>
                  </a:lnTo>
                  <a:lnTo>
                    <a:pt x="1039" y="2031"/>
                  </a:lnTo>
                  <a:lnTo>
                    <a:pt x="1030" y="2031"/>
                  </a:lnTo>
                  <a:lnTo>
                    <a:pt x="1027" y="2020"/>
                  </a:lnTo>
                  <a:lnTo>
                    <a:pt x="1027" y="2011"/>
                  </a:lnTo>
                  <a:lnTo>
                    <a:pt x="1027" y="2002"/>
                  </a:lnTo>
                  <a:lnTo>
                    <a:pt x="1027" y="1994"/>
                  </a:lnTo>
                  <a:lnTo>
                    <a:pt x="1027" y="1985"/>
                  </a:lnTo>
                  <a:lnTo>
                    <a:pt x="1030" y="1976"/>
                  </a:lnTo>
                  <a:lnTo>
                    <a:pt x="1039" y="1974"/>
                  </a:lnTo>
                  <a:lnTo>
                    <a:pt x="1042" y="1982"/>
                  </a:lnTo>
                  <a:lnTo>
                    <a:pt x="1042" y="1994"/>
                  </a:lnTo>
                  <a:lnTo>
                    <a:pt x="1045" y="2002"/>
                  </a:lnTo>
                  <a:lnTo>
                    <a:pt x="1050" y="2011"/>
                  </a:lnTo>
                  <a:lnTo>
                    <a:pt x="1062" y="2014"/>
                  </a:lnTo>
                  <a:lnTo>
                    <a:pt x="1074" y="2014"/>
                  </a:lnTo>
                  <a:lnTo>
                    <a:pt x="1082" y="2005"/>
                  </a:lnTo>
                  <a:lnTo>
                    <a:pt x="1082" y="1997"/>
                  </a:lnTo>
                  <a:lnTo>
                    <a:pt x="1074" y="1985"/>
                  </a:lnTo>
                  <a:lnTo>
                    <a:pt x="1065" y="1979"/>
                  </a:lnTo>
                  <a:lnTo>
                    <a:pt x="1065" y="1971"/>
                  </a:lnTo>
                  <a:lnTo>
                    <a:pt x="1074" y="1968"/>
                  </a:lnTo>
                  <a:lnTo>
                    <a:pt x="1082" y="1968"/>
                  </a:lnTo>
                  <a:lnTo>
                    <a:pt x="1091" y="1962"/>
                  </a:lnTo>
                  <a:lnTo>
                    <a:pt x="1091" y="1953"/>
                  </a:lnTo>
                  <a:lnTo>
                    <a:pt x="1091" y="1945"/>
                  </a:lnTo>
                  <a:lnTo>
                    <a:pt x="1100" y="1939"/>
                  </a:lnTo>
                  <a:lnTo>
                    <a:pt x="1109" y="1936"/>
                  </a:lnTo>
                  <a:lnTo>
                    <a:pt x="1117" y="1936"/>
                  </a:lnTo>
                  <a:lnTo>
                    <a:pt x="1123" y="1927"/>
                  </a:lnTo>
                  <a:lnTo>
                    <a:pt x="1126" y="1919"/>
                  </a:lnTo>
                  <a:lnTo>
                    <a:pt x="1126" y="1910"/>
                  </a:lnTo>
                  <a:lnTo>
                    <a:pt x="1126" y="1901"/>
                  </a:lnTo>
                  <a:lnTo>
                    <a:pt x="1114" y="1901"/>
                  </a:lnTo>
                  <a:lnTo>
                    <a:pt x="1106" y="1901"/>
                  </a:lnTo>
                  <a:lnTo>
                    <a:pt x="1097" y="1901"/>
                  </a:lnTo>
                  <a:lnTo>
                    <a:pt x="1088" y="1904"/>
                  </a:lnTo>
                  <a:lnTo>
                    <a:pt x="1080" y="1910"/>
                  </a:lnTo>
                  <a:lnTo>
                    <a:pt x="1077" y="1925"/>
                  </a:lnTo>
                  <a:lnTo>
                    <a:pt x="1077" y="1933"/>
                  </a:lnTo>
                  <a:lnTo>
                    <a:pt x="1068" y="1933"/>
                  </a:lnTo>
                  <a:lnTo>
                    <a:pt x="1059" y="1922"/>
                  </a:lnTo>
                  <a:lnTo>
                    <a:pt x="1056" y="1913"/>
                  </a:lnTo>
                  <a:lnTo>
                    <a:pt x="1068" y="1910"/>
                  </a:lnTo>
                  <a:lnTo>
                    <a:pt x="1077" y="1910"/>
                  </a:lnTo>
                  <a:lnTo>
                    <a:pt x="1065" y="1901"/>
                  </a:lnTo>
                  <a:lnTo>
                    <a:pt x="1056" y="1896"/>
                  </a:lnTo>
                  <a:lnTo>
                    <a:pt x="1056" y="1904"/>
                  </a:lnTo>
                  <a:lnTo>
                    <a:pt x="1048" y="1910"/>
                  </a:lnTo>
                  <a:lnTo>
                    <a:pt x="1039" y="1919"/>
                  </a:lnTo>
                  <a:lnTo>
                    <a:pt x="1036" y="1927"/>
                  </a:lnTo>
                  <a:lnTo>
                    <a:pt x="1030" y="1936"/>
                  </a:lnTo>
                  <a:lnTo>
                    <a:pt x="1024" y="1945"/>
                  </a:lnTo>
                  <a:lnTo>
                    <a:pt x="1016" y="1950"/>
                  </a:lnTo>
                  <a:lnTo>
                    <a:pt x="1004" y="1953"/>
                  </a:lnTo>
                  <a:lnTo>
                    <a:pt x="1001" y="1962"/>
                  </a:lnTo>
                  <a:lnTo>
                    <a:pt x="1001" y="1971"/>
                  </a:lnTo>
                  <a:lnTo>
                    <a:pt x="1001" y="1979"/>
                  </a:lnTo>
                  <a:lnTo>
                    <a:pt x="1001" y="1988"/>
                  </a:lnTo>
                  <a:lnTo>
                    <a:pt x="1001" y="1997"/>
                  </a:lnTo>
                  <a:lnTo>
                    <a:pt x="995" y="2005"/>
                  </a:lnTo>
                  <a:lnTo>
                    <a:pt x="986" y="2011"/>
                  </a:lnTo>
                  <a:lnTo>
                    <a:pt x="981" y="2020"/>
                  </a:lnTo>
                  <a:lnTo>
                    <a:pt x="981" y="2028"/>
                  </a:lnTo>
                  <a:lnTo>
                    <a:pt x="981" y="2037"/>
                  </a:lnTo>
                  <a:lnTo>
                    <a:pt x="978" y="2046"/>
                  </a:lnTo>
                  <a:lnTo>
                    <a:pt x="978" y="2054"/>
                  </a:lnTo>
                  <a:lnTo>
                    <a:pt x="983" y="2046"/>
                  </a:lnTo>
                  <a:lnTo>
                    <a:pt x="983" y="2037"/>
                  </a:lnTo>
                  <a:lnTo>
                    <a:pt x="975" y="2034"/>
                  </a:lnTo>
                  <a:lnTo>
                    <a:pt x="966" y="2034"/>
                  </a:lnTo>
                  <a:lnTo>
                    <a:pt x="957" y="2034"/>
                  </a:lnTo>
                  <a:lnTo>
                    <a:pt x="949" y="2023"/>
                  </a:lnTo>
                  <a:lnTo>
                    <a:pt x="949" y="2011"/>
                  </a:lnTo>
                  <a:lnTo>
                    <a:pt x="940" y="2008"/>
                  </a:lnTo>
                  <a:lnTo>
                    <a:pt x="931" y="2008"/>
                  </a:lnTo>
                  <a:lnTo>
                    <a:pt x="922" y="2011"/>
                  </a:lnTo>
                  <a:lnTo>
                    <a:pt x="914" y="2008"/>
                  </a:lnTo>
                  <a:lnTo>
                    <a:pt x="899" y="2002"/>
                  </a:lnTo>
                  <a:lnTo>
                    <a:pt x="890" y="1988"/>
                  </a:lnTo>
                  <a:lnTo>
                    <a:pt x="885" y="1976"/>
                  </a:lnTo>
                  <a:lnTo>
                    <a:pt x="876" y="1976"/>
                  </a:lnTo>
                  <a:lnTo>
                    <a:pt x="867" y="1979"/>
                  </a:lnTo>
                  <a:lnTo>
                    <a:pt x="861" y="1988"/>
                  </a:lnTo>
                  <a:lnTo>
                    <a:pt x="852" y="1994"/>
                  </a:lnTo>
                  <a:lnTo>
                    <a:pt x="844" y="1999"/>
                  </a:lnTo>
                  <a:lnTo>
                    <a:pt x="835" y="2002"/>
                  </a:lnTo>
                  <a:lnTo>
                    <a:pt x="826" y="2005"/>
                  </a:lnTo>
                  <a:lnTo>
                    <a:pt x="818" y="2008"/>
                  </a:lnTo>
                  <a:lnTo>
                    <a:pt x="809" y="2008"/>
                  </a:lnTo>
                  <a:lnTo>
                    <a:pt x="797" y="2011"/>
                  </a:lnTo>
                  <a:lnTo>
                    <a:pt x="788" y="2011"/>
                  </a:lnTo>
                  <a:lnTo>
                    <a:pt x="797" y="2011"/>
                  </a:lnTo>
                  <a:lnTo>
                    <a:pt x="812" y="2014"/>
                  </a:lnTo>
                  <a:lnTo>
                    <a:pt x="803" y="2017"/>
                  </a:lnTo>
                  <a:lnTo>
                    <a:pt x="794" y="2020"/>
                  </a:lnTo>
                  <a:lnTo>
                    <a:pt x="803" y="2031"/>
                  </a:lnTo>
                  <a:lnTo>
                    <a:pt x="794" y="2031"/>
                  </a:lnTo>
                  <a:lnTo>
                    <a:pt x="786" y="2028"/>
                  </a:lnTo>
                  <a:lnTo>
                    <a:pt x="777" y="2023"/>
                  </a:lnTo>
                  <a:lnTo>
                    <a:pt x="771" y="2014"/>
                  </a:lnTo>
                  <a:lnTo>
                    <a:pt x="762" y="2011"/>
                  </a:lnTo>
                  <a:lnTo>
                    <a:pt x="751" y="2008"/>
                  </a:lnTo>
                  <a:lnTo>
                    <a:pt x="742" y="2008"/>
                  </a:lnTo>
                  <a:lnTo>
                    <a:pt x="733" y="2005"/>
                  </a:lnTo>
                  <a:lnTo>
                    <a:pt x="736" y="2002"/>
                  </a:lnTo>
                  <a:lnTo>
                    <a:pt x="721" y="1985"/>
                  </a:lnTo>
                  <a:lnTo>
                    <a:pt x="713" y="1985"/>
                  </a:lnTo>
                  <a:lnTo>
                    <a:pt x="710" y="1994"/>
                  </a:lnTo>
                  <a:lnTo>
                    <a:pt x="716" y="2005"/>
                  </a:lnTo>
                  <a:lnTo>
                    <a:pt x="713" y="2014"/>
                  </a:lnTo>
                  <a:lnTo>
                    <a:pt x="704" y="2020"/>
                  </a:lnTo>
                  <a:lnTo>
                    <a:pt x="704" y="2028"/>
                  </a:lnTo>
                  <a:lnTo>
                    <a:pt x="692" y="2031"/>
                  </a:lnTo>
                  <a:lnTo>
                    <a:pt x="684" y="2025"/>
                  </a:lnTo>
                  <a:lnTo>
                    <a:pt x="672" y="2020"/>
                  </a:lnTo>
                  <a:lnTo>
                    <a:pt x="660" y="2017"/>
                  </a:lnTo>
                  <a:lnTo>
                    <a:pt x="646" y="2011"/>
                  </a:lnTo>
                  <a:lnTo>
                    <a:pt x="634" y="2008"/>
                  </a:lnTo>
                  <a:lnTo>
                    <a:pt x="625" y="2005"/>
                  </a:lnTo>
                  <a:lnTo>
                    <a:pt x="622" y="1997"/>
                  </a:lnTo>
                  <a:lnTo>
                    <a:pt x="620" y="1988"/>
                  </a:lnTo>
                  <a:lnTo>
                    <a:pt x="611" y="1979"/>
                  </a:lnTo>
                  <a:lnTo>
                    <a:pt x="608" y="1971"/>
                  </a:lnTo>
                  <a:lnTo>
                    <a:pt x="599" y="1968"/>
                  </a:lnTo>
                  <a:lnTo>
                    <a:pt x="590" y="1974"/>
                  </a:lnTo>
                  <a:lnTo>
                    <a:pt x="588" y="1985"/>
                  </a:lnTo>
                  <a:lnTo>
                    <a:pt x="585" y="1997"/>
                  </a:lnTo>
                  <a:lnTo>
                    <a:pt x="576" y="2002"/>
                  </a:lnTo>
                  <a:lnTo>
                    <a:pt x="567" y="1991"/>
                  </a:lnTo>
                  <a:lnTo>
                    <a:pt x="561" y="1982"/>
                  </a:lnTo>
                  <a:lnTo>
                    <a:pt x="553" y="1976"/>
                  </a:lnTo>
                  <a:lnTo>
                    <a:pt x="547" y="1968"/>
                  </a:lnTo>
                  <a:lnTo>
                    <a:pt x="541" y="1959"/>
                  </a:lnTo>
                  <a:lnTo>
                    <a:pt x="532" y="1956"/>
                  </a:lnTo>
                  <a:lnTo>
                    <a:pt x="524" y="1953"/>
                  </a:lnTo>
                  <a:lnTo>
                    <a:pt x="518" y="1945"/>
                  </a:lnTo>
                  <a:lnTo>
                    <a:pt x="509" y="1939"/>
                  </a:lnTo>
                  <a:lnTo>
                    <a:pt x="500" y="1939"/>
                  </a:lnTo>
                  <a:lnTo>
                    <a:pt x="494" y="1948"/>
                  </a:lnTo>
                  <a:lnTo>
                    <a:pt x="491" y="1956"/>
                  </a:lnTo>
                  <a:lnTo>
                    <a:pt x="486" y="1965"/>
                  </a:lnTo>
                  <a:lnTo>
                    <a:pt x="491" y="1974"/>
                  </a:lnTo>
                  <a:lnTo>
                    <a:pt x="500" y="1976"/>
                  </a:lnTo>
                  <a:lnTo>
                    <a:pt x="503" y="1985"/>
                  </a:lnTo>
                  <a:lnTo>
                    <a:pt x="506" y="1994"/>
                  </a:lnTo>
                  <a:lnTo>
                    <a:pt x="509" y="2002"/>
                  </a:lnTo>
                  <a:lnTo>
                    <a:pt x="512" y="2011"/>
                  </a:lnTo>
                  <a:lnTo>
                    <a:pt x="515" y="2020"/>
                  </a:lnTo>
                  <a:lnTo>
                    <a:pt x="518" y="2028"/>
                  </a:lnTo>
                  <a:lnTo>
                    <a:pt x="518" y="2037"/>
                  </a:lnTo>
                  <a:lnTo>
                    <a:pt x="518" y="2046"/>
                  </a:lnTo>
                  <a:lnTo>
                    <a:pt x="518" y="2054"/>
                  </a:lnTo>
                  <a:lnTo>
                    <a:pt x="515" y="2063"/>
                  </a:lnTo>
                  <a:lnTo>
                    <a:pt x="506" y="2072"/>
                  </a:lnTo>
                  <a:lnTo>
                    <a:pt x="503" y="2080"/>
                  </a:lnTo>
                  <a:lnTo>
                    <a:pt x="503" y="2089"/>
                  </a:lnTo>
                  <a:lnTo>
                    <a:pt x="503" y="2097"/>
                  </a:lnTo>
                  <a:lnTo>
                    <a:pt x="500" y="2106"/>
                  </a:lnTo>
                  <a:lnTo>
                    <a:pt x="491" y="2112"/>
                  </a:lnTo>
                  <a:lnTo>
                    <a:pt x="483" y="2118"/>
                  </a:lnTo>
                  <a:lnTo>
                    <a:pt x="483" y="2126"/>
                  </a:lnTo>
                  <a:lnTo>
                    <a:pt x="480" y="2138"/>
                  </a:lnTo>
                  <a:lnTo>
                    <a:pt x="477" y="2149"/>
                  </a:lnTo>
                  <a:lnTo>
                    <a:pt x="468" y="2144"/>
                  </a:lnTo>
                  <a:lnTo>
                    <a:pt x="459" y="2144"/>
                  </a:lnTo>
                  <a:lnTo>
                    <a:pt x="451" y="2144"/>
                  </a:lnTo>
                  <a:lnTo>
                    <a:pt x="442" y="2152"/>
                  </a:lnTo>
                  <a:lnTo>
                    <a:pt x="436" y="2161"/>
                  </a:lnTo>
                  <a:lnTo>
                    <a:pt x="427" y="2167"/>
                  </a:lnTo>
                  <a:lnTo>
                    <a:pt x="419" y="2175"/>
                  </a:lnTo>
                  <a:lnTo>
                    <a:pt x="407" y="2181"/>
                  </a:lnTo>
                  <a:lnTo>
                    <a:pt x="398" y="2184"/>
                  </a:lnTo>
                  <a:lnTo>
                    <a:pt x="393" y="2175"/>
                  </a:lnTo>
                  <a:lnTo>
                    <a:pt x="390" y="2167"/>
                  </a:lnTo>
                  <a:lnTo>
                    <a:pt x="384" y="2158"/>
                  </a:lnTo>
                  <a:lnTo>
                    <a:pt x="369" y="2149"/>
                  </a:lnTo>
                  <a:lnTo>
                    <a:pt x="358" y="2144"/>
                  </a:lnTo>
                  <a:lnTo>
                    <a:pt x="355" y="2135"/>
                  </a:lnTo>
                  <a:lnTo>
                    <a:pt x="349" y="2126"/>
                  </a:lnTo>
                  <a:lnTo>
                    <a:pt x="343" y="2118"/>
                  </a:lnTo>
                  <a:lnTo>
                    <a:pt x="334" y="2109"/>
                  </a:lnTo>
                  <a:lnTo>
                    <a:pt x="328" y="2100"/>
                  </a:lnTo>
                  <a:lnTo>
                    <a:pt x="320" y="2092"/>
                  </a:lnTo>
                  <a:lnTo>
                    <a:pt x="317" y="2080"/>
                  </a:lnTo>
                  <a:lnTo>
                    <a:pt x="317" y="2048"/>
                  </a:lnTo>
                  <a:lnTo>
                    <a:pt x="311" y="2060"/>
                  </a:lnTo>
                  <a:lnTo>
                    <a:pt x="302" y="2057"/>
                  </a:lnTo>
                  <a:lnTo>
                    <a:pt x="294" y="2051"/>
                  </a:lnTo>
                  <a:lnTo>
                    <a:pt x="282" y="2048"/>
                  </a:lnTo>
                  <a:lnTo>
                    <a:pt x="276" y="2040"/>
                  </a:lnTo>
                  <a:lnTo>
                    <a:pt x="270" y="2031"/>
                  </a:lnTo>
                  <a:lnTo>
                    <a:pt x="264" y="2023"/>
                  </a:lnTo>
                  <a:lnTo>
                    <a:pt x="259" y="2014"/>
                  </a:lnTo>
                  <a:lnTo>
                    <a:pt x="250" y="2008"/>
                  </a:lnTo>
                  <a:lnTo>
                    <a:pt x="241" y="2011"/>
                  </a:lnTo>
                  <a:lnTo>
                    <a:pt x="232" y="2011"/>
                  </a:lnTo>
                  <a:lnTo>
                    <a:pt x="227" y="2002"/>
                  </a:lnTo>
                  <a:lnTo>
                    <a:pt x="218" y="2002"/>
                  </a:lnTo>
                  <a:lnTo>
                    <a:pt x="209" y="2002"/>
                  </a:lnTo>
                  <a:lnTo>
                    <a:pt x="200" y="2002"/>
                  </a:lnTo>
                  <a:lnTo>
                    <a:pt x="203" y="2014"/>
                  </a:lnTo>
                  <a:lnTo>
                    <a:pt x="203" y="2025"/>
                  </a:lnTo>
                  <a:lnTo>
                    <a:pt x="200" y="2034"/>
                  </a:lnTo>
                  <a:lnTo>
                    <a:pt x="189" y="2037"/>
                  </a:lnTo>
                  <a:lnTo>
                    <a:pt x="180" y="2043"/>
                  </a:lnTo>
                  <a:lnTo>
                    <a:pt x="171" y="2051"/>
                  </a:lnTo>
                  <a:lnTo>
                    <a:pt x="168" y="2060"/>
                  </a:lnTo>
                  <a:lnTo>
                    <a:pt x="163" y="2072"/>
                  </a:lnTo>
                  <a:lnTo>
                    <a:pt x="154" y="2077"/>
                  </a:lnTo>
                  <a:lnTo>
                    <a:pt x="145" y="2083"/>
                  </a:lnTo>
                  <a:lnTo>
                    <a:pt x="136" y="2086"/>
                  </a:lnTo>
                  <a:lnTo>
                    <a:pt x="122" y="2092"/>
                  </a:lnTo>
                  <a:lnTo>
                    <a:pt x="113" y="2095"/>
                  </a:lnTo>
                  <a:lnTo>
                    <a:pt x="104" y="2097"/>
                  </a:lnTo>
                  <a:lnTo>
                    <a:pt x="96" y="2103"/>
                  </a:lnTo>
                  <a:lnTo>
                    <a:pt x="87" y="2109"/>
                  </a:lnTo>
                  <a:lnTo>
                    <a:pt x="78" y="2112"/>
                  </a:lnTo>
                  <a:lnTo>
                    <a:pt x="66" y="2112"/>
                  </a:lnTo>
                  <a:lnTo>
                    <a:pt x="58" y="2115"/>
                  </a:lnTo>
                  <a:lnTo>
                    <a:pt x="55" y="2123"/>
                  </a:lnTo>
                  <a:lnTo>
                    <a:pt x="49" y="2132"/>
                  </a:lnTo>
                  <a:lnTo>
                    <a:pt x="46" y="2141"/>
                  </a:lnTo>
                  <a:lnTo>
                    <a:pt x="58" y="2146"/>
                  </a:lnTo>
                  <a:lnTo>
                    <a:pt x="66" y="2146"/>
                  </a:lnTo>
                  <a:lnTo>
                    <a:pt x="75" y="2146"/>
                  </a:lnTo>
                  <a:lnTo>
                    <a:pt x="66" y="2158"/>
                  </a:lnTo>
                  <a:lnTo>
                    <a:pt x="55" y="2164"/>
                  </a:lnTo>
                  <a:lnTo>
                    <a:pt x="43" y="2169"/>
                  </a:lnTo>
                  <a:lnTo>
                    <a:pt x="34" y="2175"/>
                  </a:lnTo>
                  <a:lnTo>
                    <a:pt x="26" y="2181"/>
                  </a:lnTo>
                  <a:lnTo>
                    <a:pt x="23" y="2190"/>
                  </a:lnTo>
                  <a:lnTo>
                    <a:pt x="23" y="2198"/>
                  </a:lnTo>
                  <a:lnTo>
                    <a:pt x="14" y="2207"/>
                  </a:lnTo>
                  <a:lnTo>
                    <a:pt x="5" y="2210"/>
                  </a:lnTo>
                  <a:lnTo>
                    <a:pt x="0" y="2218"/>
                  </a:lnTo>
                  <a:lnTo>
                    <a:pt x="5" y="2227"/>
                  </a:lnTo>
                  <a:lnTo>
                    <a:pt x="14" y="2236"/>
                  </a:lnTo>
                  <a:lnTo>
                    <a:pt x="23" y="2244"/>
                  </a:lnTo>
                  <a:lnTo>
                    <a:pt x="37" y="2233"/>
                  </a:lnTo>
                  <a:lnTo>
                    <a:pt x="46" y="2230"/>
                  </a:lnTo>
                  <a:lnTo>
                    <a:pt x="49" y="2239"/>
                  </a:lnTo>
                  <a:lnTo>
                    <a:pt x="49" y="2247"/>
                  </a:lnTo>
                  <a:lnTo>
                    <a:pt x="52" y="2256"/>
                  </a:lnTo>
                  <a:lnTo>
                    <a:pt x="55" y="2265"/>
                  </a:lnTo>
                  <a:lnTo>
                    <a:pt x="58" y="2273"/>
                  </a:lnTo>
                  <a:lnTo>
                    <a:pt x="58" y="2282"/>
                  </a:lnTo>
                  <a:lnTo>
                    <a:pt x="61" y="2291"/>
                  </a:lnTo>
                  <a:lnTo>
                    <a:pt x="61" y="2299"/>
                  </a:lnTo>
                  <a:lnTo>
                    <a:pt x="58" y="2308"/>
                  </a:lnTo>
                  <a:lnTo>
                    <a:pt x="52" y="2316"/>
                  </a:lnTo>
                  <a:lnTo>
                    <a:pt x="52" y="2325"/>
                  </a:lnTo>
                  <a:lnTo>
                    <a:pt x="52" y="2334"/>
                  </a:lnTo>
                  <a:lnTo>
                    <a:pt x="49" y="2342"/>
                  </a:lnTo>
                  <a:lnTo>
                    <a:pt x="58" y="2348"/>
                  </a:lnTo>
                  <a:lnTo>
                    <a:pt x="69" y="2348"/>
                  </a:lnTo>
                  <a:lnTo>
                    <a:pt x="78" y="2348"/>
                  </a:lnTo>
                  <a:lnTo>
                    <a:pt x="87" y="2357"/>
                  </a:lnTo>
                  <a:lnTo>
                    <a:pt x="96" y="2360"/>
                  </a:lnTo>
                  <a:lnTo>
                    <a:pt x="104" y="2360"/>
                  </a:lnTo>
                  <a:lnTo>
                    <a:pt x="113" y="2365"/>
                  </a:lnTo>
                  <a:lnTo>
                    <a:pt x="122" y="2371"/>
                  </a:lnTo>
                  <a:lnTo>
                    <a:pt x="128" y="2380"/>
                  </a:lnTo>
                  <a:lnTo>
                    <a:pt x="139" y="2389"/>
                  </a:lnTo>
                  <a:lnTo>
                    <a:pt x="142" y="2397"/>
                  </a:lnTo>
                  <a:lnTo>
                    <a:pt x="151" y="2406"/>
                  </a:lnTo>
                  <a:lnTo>
                    <a:pt x="160" y="2414"/>
                  </a:lnTo>
                  <a:lnTo>
                    <a:pt x="168" y="2417"/>
                  </a:lnTo>
                  <a:lnTo>
                    <a:pt x="177" y="2420"/>
                  </a:lnTo>
                  <a:lnTo>
                    <a:pt x="186" y="2423"/>
                  </a:lnTo>
                  <a:lnTo>
                    <a:pt x="195" y="2423"/>
                  </a:lnTo>
                  <a:lnTo>
                    <a:pt x="203" y="2423"/>
                  </a:lnTo>
                  <a:lnTo>
                    <a:pt x="212" y="2423"/>
                  </a:lnTo>
                  <a:lnTo>
                    <a:pt x="221" y="2420"/>
                  </a:lnTo>
                  <a:lnTo>
                    <a:pt x="229" y="2420"/>
                  </a:lnTo>
                  <a:lnTo>
                    <a:pt x="238" y="2420"/>
                  </a:lnTo>
                  <a:lnTo>
                    <a:pt x="247" y="2417"/>
                  </a:lnTo>
                  <a:lnTo>
                    <a:pt x="256" y="2412"/>
                  </a:lnTo>
                  <a:lnTo>
                    <a:pt x="264" y="2412"/>
                  </a:lnTo>
                  <a:lnTo>
                    <a:pt x="276" y="2412"/>
                  </a:lnTo>
                  <a:lnTo>
                    <a:pt x="285" y="2412"/>
                  </a:lnTo>
                  <a:lnTo>
                    <a:pt x="294" y="2414"/>
                  </a:lnTo>
                  <a:lnTo>
                    <a:pt x="302" y="2414"/>
                  </a:lnTo>
                  <a:lnTo>
                    <a:pt x="305" y="2406"/>
                  </a:lnTo>
                  <a:lnTo>
                    <a:pt x="305" y="2397"/>
                  </a:lnTo>
                  <a:lnTo>
                    <a:pt x="302" y="2389"/>
                  </a:lnTo>
                  <a:lnTo>
                    <a:pt x="299" y="2380"/>
                  </a:lnTo>
                  <a:lnTo>
                    <a:pt x="302" y="2371"/>
                  </a:lnTo>
                  <a:lnTo>
                    <a:pt x="314" y="2368"/>
                  </a:lnTo>
                  <a:lnTo>
                    <a:pt x="323" y="2368"/>
                  </a:lnTo>
                  <a:lnTo>
                    <a:pt x="331" y="2368"/>
                  </a:lnTo>
                  <a:lnTo>
                    <a:pt x="343" y="2368"/>
                  </a:lnTo>
                  <a:lnTo>
                    <a:pt x="346" y="2360"/>
                  </a:lnTo>
                  <a:lnTo>
                    <a:pt x="355" y="2354"/>
                  </a:lnTo>
                  <a:lnTo>
                    <a:pt x="363" y="2351"/>
                  </a:lnTo>
                  <a:lnTo>
                    <a:pt x="372" y="2351"/>
                  </a:lnTo>
                  <a:lnTo>
                    <a:pt x="381" y="2348"/>
                  </a:lnTo>
                  <a:lnTo>
                    <a:pt x="390" y="2348"/>
                  </a:lnTo>
                  <a:lnTo>
                    <a:pt x="398" y="2348"/>
                  </a:lnTo>
                  <a:lnTo>
                    <a:pt x="407" y="2348"/>
                  </a:lnTo>
                  <a:lnTo>
                    <a:pt x="419" y="2354"/>
                  </a:lnTo>
                  <a:lnTo>
                    <a:pt x="427" y="2360"/>
                  </a:lnTo>
                  <a:lnTo>
                    <a:pt x="436" y="2360"/>
                  </a:lnTo>
                  <a:lnTo>
                    <a:pt x="445" y="2360"/>
                  </a:lnTo>
                  <a:lnTo>
                    <a:pt x="454" y="2363"/>
                  </a:lnTo>
                  <a:lnTo>
                    <a:pt x="462" y="2363"/>
                  </a:lnTo>
                  <a:lnTo>
                    <a:pt x="471" y="2363"/>
                  </a:lnTo>
                  <a:lnTo>
                    <a:pt x="480" y="2363"/>
                  </a:lnTo>
                  <a:lnTo>
                    <a:pt x="489" y="2360"/>
                  </a:lnTo>
                  <a:lnTo>
                    <a:pt x="494" y="2351"/>
                  </a:lnTo>
                  <a:lnTo>
                    <a:pt x="494" y="2342"/>
                  </a:lnTo>
                  <a:lnTo>
                    <a:pt x="494" y="2334"/>
                  </a:lnTo>
                  <a:lnTo>
                    <a:pt x="497" y="2325"/>
                  </a:lnTo>
                  <a:lnTo>
                    <a:pt x="506" y="2322"/>
                  </a:lnTo>
                  <a:lnTo>
                    <a:pt x="515" y="2322"/>
                  </a:lnTo>
                  <a:lnTo>
                    <a:pt x="524" y="2322"/>
                  </a:lnTo>
                  <a:lnTo>
                    <a:pt x="532" y="2322"/>
                  </a:lnTo>
                  <a:lnTo>
                    <a:pt x="541" y="2322"/>
                  </a:lnTo>
                  <a:lnTo>
                    <a:pt x="550" y="2328"/>
                  </a:lnTo>
                  <a:lnTo>
                    <a:pt x="556" y="2337"/>
                  </a:lnTo>
                  <a:lnTo>
                    <a:pt x="564" y="2342"/>
                  </a:lnTo>
                  <a:lnTo>
                    <a:pt x="570" y="2351"/>
                  </a:lnTo>
                  <a:lnTo>
                    <a:pt x="576" y="2360"/>
                  </a:lnTo>
                  <a:lnTo>
                    <a:pt x="585" y="2368"/>
                  </a:lnTo>
                  <a:lnTo>
                    <a:pt x="590" y="2377"/>
                  </a:lnTo>
                  <a:lnTo>
                    <a:pt x="599" y="2383"/>
                  </a:lnTo>
                  <a:lnTo>
                    <a:pt x="611" y="2386"/>
                  </a:lnTo>
                  <a:lnTo>
                    <a:pt x="620" y="2386"/>
                  </a:lnTo>
                  <a:lnTo>
                    <a:pt x="628" y="2386"/>
                  </a:lnTo>
                  <a:lnTo>
                    <a:pt x="637" y="2386"/>
                  </a:lnTo>
                  <a:lnTo>
                    <a:pt x="646" y="2386"/>
                  </a:lnTo>
                  <a:lnTo>
                    <a:pt x="655" y="2386"/>
                  </a:lnTo>
                  <a:lnTo>
                    <a:pt x="663" y="2389"/>
                  </a:lnTo>
                  <a:lnTo>
                    <a:pt x="672" y="2389"/>
                  </a:lnTo>
                  <a:lnTo>
                    <a:pt x="681" y="2389"/>
                  </a:lnTo>
                  <a:lnTo>
                    <a:pt x="689" y="2389"/>
                  </a:lnTo>
                  <a:lnTo>
                    <a:pt x="698" y="2394"/>
                  </a:lnTo>
                  <a:lnTo>
                    <a:pt x="707" y="2403"/>
                  </a:lnTo>
                  <a:lnTo>
                    <a:pt x="713" y="2412"/>
                  </a:lnTo>
                  <a:lnTo>
                    <a:pt x="716" y="2420"/>
                  </a:lnTo>
                  <a:lnTo>
                    <a:pt x="716" y="2429"/>
                  </a:lnTo>
                  <a:lnTo>
                    <a:pt x="716" y="2437"/>
                  </a:lnTo>
                  <a:lnTo>
                    <a:pt x="719" y="2446"/>
                  </a:lnTo>
                  <a:lnTo>
                    <a:pt x="719" y="2455"/>
                  </a:lnTo>
                  <a:lnTo>
                    <a:pt x="721" y="2463"/>
                  </a:lnTo>
                  <a:lnTo>
                    <a:pt x="721" y="2472"/>
                  </a:lnTo>
                  <a:lnTo>
                    <a:pt x="721" y="2481"/>
                  </a:lnTo>
                  <a:lnTo>
                    <a:pt x="721" y="2489"/>
                  </a:lnTo>
                  <a:lnTo>
                    <a:pt x="713" y="2492"/>
                  </a:lnTo>
                  <a:lnTo>
                    <a:pt x="704" y="2492"/>
                  </a:lnTo>
                  <a:lnTo>
                    <a:pt x="698" y="2501"/>
                  </a:lnTo>
                  <a:lnTo>
                    <a:pt x="707" y="2507"/>
                  </a:lnTo>
                  <a:lnTo>
                    <a:pt x="716" y="2512"/>
                  </a:lnTo>
                  <a:lnTo>
                    <a:pt x="721" y="2521"/>
                  </a:lnTo>
                  <a:lnTo>
                    <a:pt x="721" y="2530"/>
                  </a:lnTo>
                  <a:lnTo>
                    <a:pt x="719" y="2538"/>
                  </a:lnTo>
                  <a:lnTo>
                    <a:pt x="719" y="2547"/>
                  </a:lnTo>
                  <a:lnTo>
                    <a:pt x="719" y="2556"/>
                  </a:lnTo>
                  <a:lnTo>
                    <a:pt x="719" y="2564"/>
                  </a:lnTo>
                  <a:lnTo>
                    <a:pt x="721" y="2576"/>
                  </a:lnTo>
                  <a:lnTo>
                    <a:pt x="721" y="2584"/>
                  </a:lnTo>
                  <a:lnTo>
                    <a:pt x="727" y="2593"/>
                  </a:lnTo>
                  <a:lnTo>
                    <a:pt x="736" y="2602"/>
                  </a:lnTo>
                  <a:lnTo>
                    <a:pt x="742" y="2613"/>
                  </a:lnTo>
                  <a:lnTo>
                    <a:pt x="745" y="2625"/>
                  </a:lnTo>
                  <a:lnTo>
                    <a:pt x="756" y="2633"/>
                  </a:lnTo>
                  <a:lnTo>
                    <a:pt x="765" y="2642"/>
                  </a:lnTo>
                  <a:lnTo>
                    <a:pt x="768" y="2654"/>
                  </a:lnTo>
                  <a:lnTo>
                    <a:pt x="768" y="2662"/>
                  </a:lnTo>
                  <a:lnTo>
                    <a:pt x="768" y="2671"/>
                  </a:lnTo>
                  <a:lnTo>
                    <a:pt x="771" y="2682"/>
                  </a:lnTo>
                  <a:lnTo>
                    <a:pt x="780" y="2688"/>
                  </a:lnTo>
                  <a:lnTo>
                    <a:pt x="783" y="2697"/>
                  </a:lnTo>
                  <a:lnTo>
                    <a:pt x="786" y="2705"/>
                  </a:lnTo>
                  <a:lnTo>
                    <a:pt x="788" y="2714"/>
                  </a:lnTo>
                  <a:lnTo>
                    <a:pt x="788" y="2723"/>
                  </a:lnTo>
                  <a:lnTo>
                    <a:pt x="788" y="2731"/>
                  </a:lnTo>
                  <a:lnTo>
                    <a:pt x="788" y="2740"/>
                  </a:lnTo>
                  <a:lnTo>
                    <a:pt x="788" y="2749"/>
                  </a:lnTo>
                  <a:lnTo>
                    <a:pt x="788" y="2757"/>
                  </a:lnTo>
                  <a:lnTo>
                    <a:pt x="788" y="2769"/>
                  </a:lnTo>
                  <a:lnTo>
                    <a:pt x="783" y="2778"/>
                  </a:lnTo>
                  <a:lnTo>
                    <a:pt x="774" y="2778"/>
                  </a:lnTo>
                  <a:lnTo>
                    <a:pt x="765" y="2783"/>
                  </a:lnTo>
                  <a:lnTo>
                    <a:pt x="759" y="2792"/>
                  </a:lnTo>
                  <a:lnTo>
                    <a:pt x="751" y="2795"/>
                  </a:lnTo>
                  <a:lnTo>
                    <a:pt x="742" y="2789"/>
                  </a:lnTo>
                  <a:lnTo>
                    <a:pt x="730" y="2786"/>
                  </a:lnTo>
                  <a:lnTo>
                    <a:pt x="721" y="2780"/>
                  </a:lnTo>
                  <a:lnTo>
                    <a:pt x="713" y="2778"/>
                  </a:lnTo>
                  <a:lnTo>
                    <a:pt x="710" y="2766"/>
                  </a:lnTo>
                  <a:lnTo>
                    <a:pt x="707" y="2757"/>
                  </a:lnTo>
                  <a:lnTo>
                    <a:pt x="698" y="2754"/>
                  </a:lnTo>
                  <a:lnTo>
                    <a:pt x="687" y="2754"/>
                  </a:lnTo>
                  <a:lnTo>
                    <a:pt x="678" y="2746"/>
                  </a:lnTo>
                  <a:lnTo>
                    <a:pt x="672" y="2737"/>
                  </a:lnTo>
                  <a:lnTo>
                    <a:pt x="660" y="2731"/>
                  </a:lnTo>
                  <a:lnTo>
                    <a:pt x="652" y="2729"/>
                  </a:lnTo>
                  <a:lnTo>
                    <a:pt x="643" y="2729"/>
                  </a:lnTo>
                  <a:lnTo>
                    <a:pt x="634" y="2729"/>
                  </a:lnTo>
                  <a:lnTo>
                    <a:pt x="628" y="2737"/>
                  </a:lnTo>
                  <a:lnTo>
                    <a:pt x="628" y="2746"/>
                  </a:lnTo>
                  <a:lnTo>
                    <a:pt x="631" y="2754"/>
                  </a:lnTo>
                  <a:lnTo>
                    <a:pt x="640" y="2763"/>
                  </a:lnTo>
                  <a:lnTo>
                    <a:pt x="652" y="2769"/>
                  </a:lnTo>
                  <a:lnTo>
                    <a:pt x="660" y="2775"/>
                  </a:lnTo>
                  <a:lnTo>
                    <a:pt x="666" y="2783"/>
                  </a:lnTo>
                  <a:lnTo>
                    <a:pt x="669" y="2792"/>
                  </a:lnTo>
                  <a:lnTo>
                    <a:pt x="672" y="2801"/>
                  </a:lnTo>
                  <a:lnTo>
                    <a:pt x="675" y="2809"/>
                  </a:lnTo>
                  <a:lnTo>
                    <a:pt x="678" y="2818"/>
                  </a:lnTo>
                  <a:lnTo>
                    <a:pt x="687" y="2827"/>
                  </a:lnTo>
                  <a:lnTo>
                    <a:pt x="695" y="2829"/>
                  </a:lnTo>
                  <a:lnTo>
                    <a:pt x="707" y="2829"/>
                  </a:lnTo>
                  <a:lnTo>
                    <a:pt x="713" y="2818"/>
                  </a:lnTo>
                  <a:lnTo>
                    <a:pt x="713" y="2809"/>
                  </a:lnTo>
                  <a:lnTo>
                    <a:pt x="716" y="2801"/>
                  </a:lnTo>
                  <a:lnTo>
                    <a:pt x="724" y="2795"/>
                  </a:lnTo>
                  <a:lnTo>
                    <a:pt x="733" y="2795"/>
                  </a:lnTo>
                  <a:lnTo>
                    <a:pt x="742" y="2792"/>
                  </a:lnTo>
                  <a:lnTo>
                    <a:pt x="751" y="2801"/>
                  </a:lnTo>
                  <a:lnTo>
                    <a:pt x="762" y="2803"/>
                  </a:lnTo>
                  <a:lnTo>
                    <a:pt x="771" y="2803"/>
                  </a:lnTo>
                  <a:lnTo>
                    <a:pt x="780" y="2803"/>
                  </a:lnTo>
                  <a:lnTo>
                    <a:pt x="788" y="2803"/>
                  </a:lnTo>
                  <a:lnTo>
                    <a:pt x="788" y="2795"/>
                  </a:lnTo>
                  <a:lnTo>
                    <a:pt x="788" y="2786"/>
                  </a:lnTo>
                  <a:lnTo>
                    <a:pt x="797" y="2780"/>
                  </a:lnTo>
                  <a:lnTo>
                    <a:pt x="806" y="2780"/>
                  </a:lnTo>
                  <a:lnTo>
                    <a:pt x="815" y="2772"/>
                  </a:lnTo>
                  <a:lnTo>
                    <a:pt x="815" y="2763"/>
                  </a:lnTo>
                  <a:lnTo>
                    <a:pt x="815" y="2754"/>
                  </a:lnTo>
                  <a:lnTo>
                    <a:pt x="815" y="2746"/>
                  </a:lnTo>
                  <a:lnTo>
                    <a:pt x="815" y="2737"/>
                  </a:lnTo>
                  <a:lnTo>
                    <a:pt x="818" y="2729"/>
                  </a:lnTo>
                  <a:lnTo>
                    <a:pt x="826" y="2726"/>
                  </a:lnTo>
                  <a:lnTo>
                    <a:pt x="835" y="2720"/>
                  </a:lnTo>
                  <a:lnTo>
                    <a:pt x="844" y="2717"/>
                  </a:lnTo>
                  <a:lnTo>
                    <a:pt x="852" y="2720"/>
                  </a:lnTo>
                  <a:lnTo>
                    <a:pt x="855" y="2729"/>
                  </a:lnTo>
                  <a:lnTo>
                    <a:pt x="858" y="2740"/>
                  </a:lnTo>
                  <a:lnTo>
                    <a:pt x="858" y="2749"/>
                  </a:lnTo>
                  <a:lnTo>
                    <a:pt x="861" y="2757"/>
                  </a:lnTo>
                  <a:lnTo>
                    <a:pt x="870" y="2763"/>
                  </a:lnTo>
                  <a:lnTo>
                    <a:pt x="882" y="2766"/>
                  </a:lnTo>
                  <a:lnTo>
                    <a:pt x="887" y="2757"/>
                  </a:lnTo>
                  <a:lnTo>
                    <a:pt x="887" y="2749"/>
                  </a:lnTo>
                  <a:lnTo>
                    <a:pt x="887" y="2740"/>
                  </a:lnTo>
                  <a:lnTo>
                    <a:pt x="887" y="2731"/>
                  </a:lnTo>
                  <a:lnTo>
                    <a:pt x="885" y="2723"/>
                  </a:lnTo>
                  <a:lnTo>
                    <a:pt x="876" y="2714"/>
                  </a:lnTo>
                  <a:lnTo>
                    <a:pt x="870" y="2705"/>
                  </a:lnTo>
                  <a:lnTo>
                    <a:pt x="864" y="2697"/>
                  </a:lnTo>
                  <a:lnTo>
                    <a:pt x="855" y="2691"/>
                  </a:lnTo>
                  <a:lnTo>
                    <a:pt x="847" y="2682"/>
                  </a:lnTo>
                  <a:lnTo>
                    <a:pt x="838" y="2674"/>
                  </a:lnTo>
                  <a:lnTo>
                    <a:pt x="835" y="2665"/>
                  </a:lnTo>
                  <a:lnTo>
                    <a:pt x="832" y="2657"/>
                  </a:lnTo>
                  <a:lnTo>
                    <a:pt x="832" y="2648"/>
                  </a:lnTo>
                  <a:lnTo>
                    <a:pt x="841" y="2642"/>
                  </a:lnTo>
                  <a:lnTo>
                    <a:pt x="850" y="2642"/>
                  </a:lnTo>
                  <a:lnTo>
                    <a:pt x="852" y="2633"/>
                  </a:lnTo>
                  <a:lnTo>
                    <a:pt x="844" y="2628"/>
                  </a:lnTo>
                  <a:lnTo>
                    <a:pt x="835" y="2622"/>
                  </a:lnTo>
                  <a:lnTo>
                    <a:pt x="826" y="2619"/>
                  </a:lnTo>
                  <a:lnTo>
                    <a:pt x="820" y="2610"/>
                  </a:lnTo>
                  <a:lnTo>
                    <a:pt x="818" y="2602"/>
                  </a:lnTo>
                  <a:lnTo>
                    <a:pt x="812" y="2593"/>
                  </a:lnTo>
                  <a:lnTo>
                    <a:pt x="812" y="2584"/>
                  </a:lnTo>
                  <a:lnTo>
                    <a:pt x="809" y="2576"/>
                  </a:lnTo>
                  <a:lnTo>
                    <a:pt x="806" y="2564"/>
                  </a:lnTo>
                  <a:lnTo>
                    <a:pt x="806" y="2556"/>
                  </a:lnTo>
                  <a:lnTo>
                    <a:pt x="806" y="2547"/>
                  </a:lnTo>
                  <a:lnTo>
                    <a:pt x="806" y="2538"/>
                  </a:lnTo>
                  <a:lnTo>
                    <a:pt x="806" y="2530"/>
                  </a:lnTo>
                  <a:lnTo>
                    <a:pt x="806" y="2521"/>
                  </a:lnTo>
                  <a:lnTo>
                    <a:pt x="806" y="2512"/>
                  </a:lnTo>
                  <a:lnTo>
                    <a:pt x="806" y="2504"/>
                  </a:lnTo>
                  <a:lnTo>
                    <a:pt x="803" y="2495"/>
                  </a:lnTo>
                  <a:lnTo>
                    <a:pt x="800" y="2486"/>
                  </a:lnTo>
                  <a:lnTo>
                    <a:pt x="800" y="2478"/>
                  </a:lnTo>
                  <a:lnTo>
                    <a:pt x="800" y="2469"/>
                  </a:lnTo>
                  <a:lnTo>
                    <a:pt x="800" y="2461"/>
                  </a:lnTo>
                  <a:lnTo>
                    <a:pt x="800" y="2452"/>
                  </a:lnTo>
                  <a:lnTo>
                    <a:pt x="809" y="2452"/>
                  </a:lnTo>
                  <a:lnTo>
                    <a:pt x="818" y="2452"/>
                  </a:lnTo>
                  <a:lnTo>
                    <a:pt x="818" y="2443"/>
                  </a:lnTo>
                  <a:lnTo>
                    <a:pt x="820" y="2435"/>
                  </a:lnTo>
                  <a:lnTo>
                    <a:pt x="826" y="2426"/>
                  </a:lnTo>
                  <a:lnTo>
                    <a:pt x="835" y="2426"/>
                  </a:lnTo>
                  <a:lnTo>
                    <a:pt x="838" y="2435"/>
                  </a:lnTo>
                  <a:lnTo>
                    <a:pt x="847" y="2440"/>
                  </a:lnTo>
                  <a:lnTo>
                    <a:pt x="855" y="2435"/>
                  </a:lnTo>
                  <a:lnTo>
                    <a:pt x="864" y="2432"/>
                  </a:lnTo>
                  <a:lnTo>
                    <a:pt x="864" y="2440"/>
                  </a:lnTo>
                  <a:lnTo>
                    <a:pt x="864" y="2449"/>
                  </a:lnTo>
                  <a:lnTo>
                    <a:pt x="858" y="2458"/>
                  </a:lnTo>
                  <a:lnTo>
                    <a:pt x="850" y="2466"/>
                  </a:lnTo>
                  <a:lnTo>
                    <a:pt x="847" y="2475"/>
                  </a:lnTo>
                  <a:lnTo>
                    <a:pt x="855" y="2478"/>
                  </a:lnTo>
                  <a:lnTo>
                    <a:pt x="864" y="2478"/>
                  </a:lnTo>
                  <a:lnTo>
                    <a:pt x="864" y="2486"/>
                  </a:lnTo>
                  <a:lnTo>
                    <a:pt x="864" y="2495"/>
                  </a:lnTo>
                  <a:lnTo>
                    <a:pt x="873" y="2498"/>
                  </a:lnTo>
                  <a:lnTo>
                    <a:pt x="882" y="2498"/>
                  </a:lnTo>
                  <a:lnTo>
                    <a:pt x="882" y="2507"/>
                  </a:lnTo>
                  <a:lnTo>
                    <a:pt x="882" y="2515"/>
                  </a:lnTo>
                  <a:lnTo>
                    <a:pt x="879" y="2524"/>
                  </a:lnTo>
                  <a:lnTo>
                    <a:pt x="870" y="2527"/>
                  </a:lnTo>
                  <a:lnTo>
                    <a:pt x="864" y="2535"/>
                  </a:lnTo>
                  <a:lnTo>
                    <a:pt x="867" y="2544"/>
                  </a:lnTo>
                  <a:lnTo>
                    <a:pt x="870" y="2553"/>
                  </a:lnTo>
                  <a:lnTo>
                    <a:pt x="876" y="2561"/>
                  </a:lnTo>
                  <a:lnTo>
                    <a:pt x="882" y="2573"/>
                  </a:lnTo>
                  <a:lnTo>
                    <a:pt x="890" y="2584"/>
                  </a:lnTo>
                  <a:lnTo>
                    <a:pt x="893" y="2593"/>
                  </a:lnTo>
                  <a:lnTo>
                    <a:pt x="896" y="2602"/>
                  </a:lnTo>
                  <a:lnTo>
                    <a:pt x="899" y="2613"/>
                  </a:lnTo>
                  <a:lnTo>
                    <a:pt x="899" y="2622"/>
                  </a:lnTo>
                  <a:lnTo>
                    <a:pt x="902" y="2631"/>
                  </a:lnTo>
                  <a:lnTo>
                    <a:pt x="905" y="2639"/>
                  </a:lnTo>
                  <a:lnTo>
                    <a:pt x="911" y="2648"/>
                  </a:lnTo>
                  <a:lnTo>
                    <a:pt x="919" y="2657"/>
                  </a:lnTo>
                  <a:lnTo>
                    <a:pt x="928" y="2662"/>
                  </a:lnTo>
                  <a:lnTo>
                    <a:pt x="937" y="2671"/>
                  </a:lnTo>
                  <a:lnTo>
                    <a:pt x="943" y="2680"/>
                  </a:lnTo>
                  <a:lnTo>
                    <a:pt x="946" y="2688"/>
                  </a:lnTo>
                  <a:lnTo>
                    <a:pt x="949" y="2697"/>
                  </a:lnTo>
                  <a:lnTo>
                    <a:pt x="949" y="2705"/>
                  </a:lnTo>
                  <a:lnTo>
                    <a:pt x="949" y="2714"/>
                  </a:lnTo>
                  <a:lnTo>
                    <a:pt x="949" y="2723"/>
                  </a:lnTo>
                  <a:lnTo>
                    <a:pt x="943" y="2731"/>
                  </a:lnTo>
                  <a:lnTo>
                    <a:pt x="934" y="2734"/>
                  </a:lnTo>
                  <a:lnTo>
                    <a:pt x="928" y="2743"/>
                  </a:lnTo>
                  <a:lnTo>
                    <a:pt x="925" y="2752"/>
                  </a:lnTo>
                  <a:lnTo>
                    <a:pt x="925" y="2760"/>
                  </a:lnTo>
                  <a:lnTo>
                    <a:pt x="922" y="2769"/>
                  </a:lnTo>
                  <a:lnTo>
                    <a:pt x="922" y="2778"/>
                  </a:lnTo>
                  <a:lnTo>
                    <a:pt x="919" y="2786"/>
                  </a:lnTo>
                  <a:lnTo>
                    <a:pt x="911" y="2795"/>
                  </a:lnTo>
                  <a:lnTo>
                    <a:pt x="908" y="2803"/>
                  </a:lnTo>
                  <a:lnTo>
                    <a:pt x="908" y="2812"/>
                  </a:lnTo>
                  <a:lnTo>
                    <a:pt x="911" y="2821"/>
                  </a:lnTo>
                  <a:lnTo>
                    <a:pt x="922" y="2827"/>
                  </a:lnTo>
                  <a:lnTo>
                    <a:pt x="934" y="2832"/>
                  </a:lnTo>
                  <a:lnTo>
                    <a:pt x="940" y="2841"/>
                  </a:lnTo>
                  <a:lnTo>
                    <a:pt x="922" y="2832"/>
                  </a:lnTo>
                  <a:lnTo>
                    <a:pt x="946" y="2824"/>
                  </a:lnTo>
                  <a:lnTo>
                    <a:pt x="946" y="2832"/>
                  </a:lnTo>
                  <a:lnTo>
                    <a:pt x="946" y="2841"/>
                  </a:lnTo>
                  <a:lnTo>
                    <a:pt x="946" y="2850"/>
                  </a:lnTo>
                  <a:lnTo>
                    <a:pt x="940" y="2858"/>
                  </a:lnTo>
                  <a:lnTo>
                    <a:pt x="931" y="2861"/>
                  </a:lnTo>
                  <a:lnTo>
                    <a:pt x="922" y="2867"/>
                  </a:lnTo>
                  <a:lnTo>
                    <a:pt x="917" y="2876"/>
                  </a:lnTo>
                  <a:lnTo>
                    <a:pt x="919" y="2884"/>
                  </a:lnTo>
                  <a:lnTo>
                    <a:pt x="922" y="2893"/>
                  </a:lnTo>
                  <a:lnTo>
                    <a:pt x="917" y="2901"/>
                  </a:lnTo>
                  <a:lnTo>
                    <a:pt x="925" y="2904"/>
                  </a:lnTo>
                  <a:lnTo>
                    <a:pt x="934" y="2904"/>
                  </a:lnTo>
                  <a:lnTo>
                    <a:pt x="943" y="2904"/>
                  </a:lnTo>
                  <a:lnTo>
                    <a:pt x="951" y="2899"/>
                  </a:lnTo>
                  <a:lnTo>
                    <a:pt x="960" y="2893"/>
                  </a:lnTo>
                  <a:lnTo>
                    <a:pt x="969" y="2893"/>
                  </a:lnTo>
                  <a:lnTo>
                    <a:pt x="978" y="2899"/>
                  </a:lnTo>
                  <a:lnTo>
                    <a:pt x="983" y="2907"/>
                  </a:lnTo>
                  <a:lnTo>
                    <a:pt x="975" y="2904"/>
                  </a:lnTo>
                  <a:lnTo>
                    <a:pt x="966" y="2899"/>
                  </a:lnTo>
                  <a:lnTo>
                    <a:pt x="954" y="2896"/>
                  </a:lnTo>
                  <a:lnTo>
                    <a:pt x="940" y="2893"/>
                  </a:lnTo>
                  <a:lnTo>
                    <a:pt x="943" y="2910"/>
                  </a:lnTo>
                  <a:lnTo>
                    <a:pt x="951" y="2930"/>
                  </a:lnTo>
                  <a:lnTo>
                    <a:pt x="943" y="2933"/>
                  </a:lnTo>
                  <a:lnTo>
                    <a:pt x="940" y="2942"/>
                  </a:lnTo>
                  <a:lnTo>
                    <a:pt x="937" y="2950"/>
                  </a:lnTo>
                  <a:lnTo>
                    <a:pt x="946" y="2956"/>
                  </a:lnTo>
                  <a:lnTo>
                    <a:pt x="949" y="2965"/>
                  </a:lnTo>
                  <a:lnTo>
                    <a:pt x="951" y="2974"/>
                  </a:lnTo>
                  <a:lnTo>
                    <a:pt x="951" y="2982"/>
                  </a:lnTo>
                  <a:lnTo>
                    <a:pt x="951" y="2991"/>
                  </a:lnTo>
                  <a:lnTo>
                    <a:pt x="954" y="2999"/>
                  </a:lnTo>
                  <a:lnTo>
                    <a:pt x="957" y="3011"/>
                  </a:lnTo>
                  <a:lnTo>
                    <a:pt x="963" y="3002"/>
                  </a:lnTo>
                  <a:lnTo>
                    <a:pt x="963" y="2994"/>
                  </a:lnTo>
                  <a:lnTo>
                    <a:pt x="963" y="2985"/>
                  </a:lnTo>
                  <a:lnTo>
                    <a:pt x="963" y="2976"/>
                  </a:lnTo>
                  <a:lnTo>
                    <a:pt x="963" y="2968"/>
                  </a:lnTo>
                  <a:lnTo>
                    <a:pt x="969" y="2959"/>
                  </a:lnTo>
                  <a:lnTo>
                    <a:pt x="978" y="2953"/>
                  </a:lnTo>
                  <a:lnTo>
                    <a:pt x="983" y="2945"/>
                  </a:lnTo>
                  <a:lnTo>
                    <a:pt x="992" y="2942"/>
                  </a:lnTo>
                  <a:lnTo>
                    <a:pt x="1004" y="2945"/>
                  </a:lnTo>
                  <a:lnTo>
                    <a:pt x="1016" y="2945"/>
                  </a:lnTo>
                  <a:lnTo>
                    <a:pt x="1024" y="2945"/>
                  </a:lnTo>
                  <a:lnTo>
                    <a:pt x="1027" y="2936"/>
                  </a:lnTo>
                  <a:lnTo>
                    <a:pt x="1036" y="2945"/>
                  </a:lnTo>
                  <a:lnTo>
                    <a:pt x="1042" y="2953"/>
                  </a:lnTo>
                  <a:lnTo>
                    <a:pt x="1050" y="2962"/>
                  </a:lnTo>
                  <a:lnTo>
                    <a:pt x="1059" y="2971"/>
                  </a:lnTo>
                  <a:lnTo>
                    <a:pt x="1045" y="2959"/>
                  </a:lnTo>
                  <a:lnTo>
                    <a:pt x="1042" y="2950"/>
                  </a:lnTo>
                  <a:lnTo>
                    <a:pt x="1042" y="2942"/>
                  </a:lnTo>
                  <a:lnTo>
                    <a:pt x="1042" y="2933"/>
                  </a:lnTo>
                  <a:lnTo>
                    <a:pt x="1042" y="2925"/>
                  </a:lnTo>
                  <a:lnTo>
                    <a:pt x="1033" y="2916"/>
                  </a:lnTo>
                  <a:lnTo>
                    <a:pt x="1021" y="2907"/>
                  </a:lnTo>
                  <a:lnTo>
                    <a:pt x="1013" y="2899"/>
                  </a:lnTo>
                  <a:lnTo>
                    <a:pt x="1007" y="2890"/>
                  </a:lnTo>
                  <a:lnTo>
                    <a:pt x="1018" y="2893"/>
                  </a:lnTo>
                  <a:lnTo>
                    <a:pt x="1027" y="2896"/>
                  </a:lnTo>
                  <a:lnTo>
                    <a:pt x="1036" y="2901"/>
                  </a:lnTo>
                  <a:lnTo>
                    <a:pt x="1045" y="2907"/>
                  </a:lnTo>
                  <a:lnTo>
                    <a:pt x="1050" y="2916"/>
                  </a:lnTo>
                  <a:lnTo>
                    <a:pt x="1042" y="2913"/>
                  </a:lnTo>
                  <a:lnTo>
                    <a:pt x="1033" y="2907"/>
                  </a:lnTo>
                  <a:lnTo>
                    <a:pt x="1021" y="2899"/>
                  </a:lnTo>
                  <a:lnTo>
                    <a:pt x="1010" y="2896"/>
                  </a:lnTo>
                  <a:lnTo>
                    <a:pt x="1004" y="2887"/>
                  </a:lnTo>
                  <a:lnTo>
                    <a:pt x="1013" y="2881"/>
                  </a:lnTo>
                  <a:lnTo>
                    <a:pt x="1018" y="2873"/>
                  </a:lnTo>
                  <a:lnTo>
                    <a:pt x="1018" y="2864"/>
                  </a:lnTo>
                  <a:lnTo>
                    <a:pt x="1021" y="2855"/>
                  </a:lnTo>
                  <a:lnTo>
                    <a:pt x="1021" y="2847"/>
                  </a:lnTo>
                  <a:lnTo>
                    <a:pt x="1021" y="2838"/>
                  </a:lnTo>
                  <a:lnTo>
                    <a:pt x="1021" y="2829"/>
                  </a:lnTo>
                  <a:lnTo>
                    <a:pt x="1021" y="2821"/>
                  </a:lnTo>
                  <a:lnTo>
                    <a:pt x="1024" y="2812"/>
                  </a:lnTo>
                  <a:lnTo>
                    <a:pt x="1033" y="2812"/>
                  </a:lnTo>
                  <a:lnTo>
                    <a:pt x="1042" y="2809"/>
                  </a:lnTo>
                  <a:lnTo>
                    <a:pt x="1042" y="2818"/>
                  </a:lnTo>
                  <a:lnTo>
                    <a:pt x="1042" y="2827"/>
                  </a:lnTo>
                  <a:lnTo>
                    <a:pt x="1042" y="2835"/>
                  </a:lnTo>
                  <a:lnTo>
                    <a:pt x="1042" y="2844"/>
                  </a:lnTo>
                  <a:lnTo>
                    <a:pt x="1050" y="2850"/>
                  </a:lnTo>
                  <a:lnTo>
                    <a:pt x="1056" y="2841"/>
                  </a:lnTo>
                  <a:lnTo>
                    <a:pt x="1065" y="2841"/>
                  </a:lnTo>
                  <a:lnTo>
                    <a:pt x="1068" y="2850"/>
                  </a:lnTo>
                  <a:lnTo>
                    <a:pt x="1071" y="2841"/>
                  </a:lnTo>
                  <a:lnTo>
                    <a:pt x="1071" y="2832"/>
                  </a:lnTo>
                  <a:lnTo>
                    <a:pt x="1080" y="2827"/>
                  </a:lnTo>
                  <a:lnTo>
                    <a:pt x="1088" y="2827"/>
                  </a:lnTo>
                  <a:lnTo>
                    <a:pt x="1100" y="2835"/>
                  </a:lnTo>
                  <a:lnTo>
                    <a:pt x="1109" y="2835"/>
                  </a:lnTo>
                  <a:lnTo>
                    <a:pt x="1120" y="2835"/>
                  </a:lnTo>
                  <a:lnTo>
                    <a:pt x="1129" y="2835"/>
                  </a:lnTo>
                  <a:lnTo>
                    <a:pt x="1138" y="2838"/>
                  </a:lnTo>
                  <a:lnTo>
                    <a:pt x="1147" y="2841"/>
                  </a:lnTo>
                  <a:lnTo>
                    <a:pt x="1155" y="2844"/>
                  </a:lnTo>
                  <a:lnTo>
                    <a:pt x="1149" y="2852"/>
                  </a:lnTo>
                  <a:lnTo>
                    <a:pt x="1149" y="2861"/>
                  </a:lnTo>
                  <a:lnTo>
                    <a:pt x="1149" y="2870"/>
                  </a:lnTo>
                  <a:lnTo>
                    <a:pt x="1158" y="2878"/>
                  </a:lnTo>
                  <a:lnTo>
                    <a:pt x="1170" y="2878"/>
                  </a:lnTo>
                  <a:lnTo>
                    <a:pt x="1179" y="2878"/>
                  </a:lnTo>
                  <a:lnTo>
                    <a:pt x="1187" y="2878"/>
                  </a:lnTo>
                  <a:lnTo>
                    <a:pt x="1196" y="2878"/>
                  </a:lnTo>
                  <a:lnTo>
                    <a:pt x="1205" y="2876"/>
                  </a:lnTo>
                  <a:lnTo>
                    <a:pt x="1216" y="2873"/>
                  </a:lnTo>
                  <a:lnTo>
                    <a:pt x="1225" y="2873"/>
                  </a:lnTo>
                  <a:lnTo>
                    <a:pt x="1234" y="2873"/>
                  </a:lnTo>
                  <a:lnTo>
                    <a:pt x="1243" y="2873"/>
                  </a:lnTo>
                  <a:lnTo>
                    <a:pt x="1251" y="2873"/>
                  </a:lnTo>
                  <a:lnTo>
                    <a:pt x="1254" y="2884"/>
                  </a:lnTo>
                  <a:lnTo>
                    <a:pt x="1257" y="2893"/>
                  </a:lnTo>
                  <a:lnTo>
                    <a:pt x="1257" y="2901"/>
                  </a:lnTo>
                  <a:lnTo>
                    <a:pt x="1272" y="2907"/>
                  </a:lnTo>
                  <a:lnTo>
                    <a:pt x="1263" y="2913"/>
                  </a:lnTo>
                  <a:lnTo>
                    <a:pt x="1254" y="2913"/>
                  </a:lnTo>
                  <a:lnTo>
                    <a:pt x="1245" y="2913"/>
                  </a:lnTo>
                  <a:lnTo>
                    <a:pt x="1248" y="2878"/>
                  </a:lnTo>
                  <a:lnTo>
                    <a:pt x="1245" y="2896"/>
                  </a:lnTo>
                  <a:lnTo>
                    <a:pt x="1237" y="2896"/>
                  </a:lnTo>
                  <a:lnTo>
                    <a:pt x="1228" y="2893"/>
                  </a:lnTo>
                  <a:lnTo>
                    <a:pt x="1219" y="2896"/>
                  </a:lnTo>
                  <a:lnTo>
                    <a:pt x="1211" y="2896"/>
                  </a:lnTo>
                  <a:lnTo>
                    <a:pt x="1202" y="2896"/>
                  </a:lnTo>
                  <a:lnTo>
                    <a:pt x="1193" y="2893"/>
                  </a:lnTo>
                  <a:lnTo>
                    <a:pt x="1184" y="2890"/>
                  </a:lnTo>
                  <a:lnTo>
                    <a:pt x="1176" y="2890"/>
                  </a:lnTo>
                  <a:lnTo>
                    <a:pt x="1167" y="2887"/>
                  </a:lnTo>
                  <a:lnTo>
                    <a:pt x="1155" y="2887"/>
                  </a:lnTo>
                  <a:lnTo>
                    <a:pt x="1147" y="2887"/>
                  </a:lnTo>
                  <a:lnTo>
                    <a:pt x="1135" y="2887"/>
                  </a:lnTo>
                  <a:lnTo>
                    <a:pt x="1132" y="2896"/>
                  </a:lnTo>
                  <a:lnTo>
                    <a:pt x="1132" y="2904"/>
                  </a:lnTo>
                  <a:lnTo>
                    <a:pt x="1132" y="2913"/>
                  </a:lnTo>
                  <a:lnTo>
                    <a:pt x="1144" y="2916"/>
                  </a:lnTo>
                  <a:lnTo>
                    <a:pt x="1144" y="2925"/>
                  </a:lnTo>
                  <a:lnTo>
                    <a:pt x="1129" y="2927"/>
                  </a:lnTo>
                  <a:lnTo>
                    <a:pt x="1120" y="2927"/>
                  </a:lnTo>
                  <a:lnTo>
                    <a:pt x="1112" y="2927"/>
                  </a:lnTo>
                  <a:lnTo>
                    <a:pt x="1114" y="2936"/>
                  </a:lnTo>
                  <a:lnTo>
                    <a:pt x="1123" y="2936"/>
                  </a:lnTo>
                  <a:lnTo>
                    <a:pt x="1132" y="2942"/>
                  </a:lnTo>
                  <a:lnTo>
                    <a:pt x="1144" y="2948"/>
                  </a:lnTo>
                  <a:lnTo>
                    <a:pt x="1135" y="2953"/>
                  </a:lnTo>
                  <a:lnTo>
                    <a:pt x="1123" y="2953"/>
                  </a:lnTo>
                  <a:lnTo>
                    <a:pt x="1112" y="2953"/>
                  </a:lnTo>
                  <a:lnTo>
                    <a:pt x="1103" y="2953"/>
                  </a:lnTo>
                  <a:lnTo>
                    <a:pt x="1106" y="2962"/>
                  </a:lnTo>
                  <a:lnTo>
                    <a:pt x="1114" y="2965"/>
                  </a:lnTo>
                  <a:lnTo>
                    <a:pt x="1123" y="2974"/>
                  </a:lnTo>
                  <a:lnTo>
                    <a:pt x="1114" y="2982"/>
                  </a:lnTo>
                  <a:lnTo>
                    <a:pt x="1117" y="2991"/>
                  </a:lnTo>
                  <a:lnTo>
                    <a:pt x="1126" y="2994"/>
                  </a:lnTo>
                  <a:lnTo>
                    <a:pt x="1114" y="2999"/>
                  </a:lnTo>
                  <a:lnTo>
                    <a:pt x="1106" y="2999"/>
                  </a:lnTo>
                  <a:lnTo>
                    <a:pt x="1117" y="3005"/>
                  </a:lnTo>
                  <a:lnTo>
                    <a:pt x="1132" y="3008"/>
                  </a:lnTo>
                  <a:lnTo>
                    <a:pt x="1135" y="3017"/>
                  </a:lnTo>
                  <a:lnTo>
                    <a:pt x="1126" y="3022"/>
                  </a:lnTo>
                  <a:lnTo>
                    <a:pt x="1126" y="3034"/>
                  </a:lnTo>
                  <a:lnTo>
                    <a:pt x="1126" y="3046"/>
                  </a:lnTo>
                  <a:lnTo>
                    <a:pt x="1126" y="3054"/>
                  </a:lnTo>
                  <a:lnTo>
                    <a:pt x="1135" y="3054"/>
                  </a:lnTo>
                  <a:lnTo>
                    <a:pt x="1144" y="3054"/>
                  </a:lnTo>
                  <a:lnTo>
                    <a:pt x="1155" y="3054"/>
                  </a:lnTo>
                  <a:lnTo>
                    <a:pt x="1164" y="3054"/>
                  </a:lnTo>
                  <a:lnTo>
                    <a:pt x="1167" y="3063"/>
                  </a:lnTo>
                  <a:lnTo>
                    <a:pt x="1179" y="3069"/>
                  </a:lnTo>
                  <a:lnTo>
                    <a:pt x="1187" y="3069"/>
                  </a:lnTo>
                  <a:lnTo>
                    <a:pt x="1190" y="3080"/>
                  </a:lnTo>
                  <a:lnTo>
                    <a:pt x="1193" y="3089"/>
                  </a:lnTo>
                  <a:lnTo>
                    <a:pt x="1199" y="3097"/>
                  </a:lnTo>
                  <a:lnTo>
                    <a:pt x="1211" y="3103"/>
                  </a:lnTo>
                  <a:lnTo>
                    <a:pt x="1219" y="3103"/>
                  </a:lnTo>
                  <a:lnTo>
                    <a:pt x="1231" y="3103"/>
                  </a:lnTo>
                  <a:lnTo>
                    <a:pt x="1240" y="3100"/>
                  </a:lnTo>
                  <a:lnTo>
                    <a:pt x="1243" y="3092"/>
                  </a:lnTo>
                  <a:lnTo>
                    <a:pt x="1248" y="3083"/>
                  </a:lnTo>
                  <a:lnTo>
                    <a:pt x="1257" y="3083"/>
                  </a:lnTo>
                  <a:lnTo>
                    <a:pt x="1278" y="3097"/>
                  </a:lnTo>
                  <a:lnTo>
                    <a:pt x="1286" y="3103"/>
                  </a:lnTo>
                  <a:lnTo>
                    <a:pt x="1289" y="3112"/>
                  </a:lnTo>
                  <a:lnTo>
                    <a:pt x="1295" y="3120"/>
                  </a:lnTo>
                  <a:lnTo>
                    <a:pt x="1301" y="3129"/>
                  </a:lnTo>
                  <a:lnTo>
                    <a:pt x="1312" y="3141"/>
                  </a:lnTo>
                  <a:lnTo>
                    <a:pt x="1324" y="3146"/>
                  </a:lnTo>
                  <a:lnTo>
                    <a:pt x="1336" y="3152"/>
                  </a:lnTo>
                  <a:lnTo>
                    <a:pt x="1347" y="3155"/>
                  </a:lnTo>
                  <a:lnTo>
                    <a:pt x="1356" y="3155"/>
                  </a:lnTo>
                  <a:lnTo>
                    <a:pt x="1365" y="3155"/>
                  </a:lnTo>
                  <a:lnTo>
                    <a:pt x="1374" y="3155"/>
                  </a:lnTo>
                  <a:lnTo>
                    <a:pt x="1376" y="3146"/>
                  </a:lnTo>
                  <a:lnTo>
                    <a:pt x="1385" y="3138"/>
                  </a:lnTo>
                  <a:lnTo>
                    <a:pt x="1391" y="3129"/>
                  </a:lnTo>
                  <a:lnTo>
                    <a:pt x="1400" y="3132"/>
                  </a:lnTo>
                  <a:lnTo>
                    <a:pt x="1409" y="3138"/>
                  </a:lnTo>
                  <a:lnTo>
                    <a:pt x="1417" y="3149"/>
                  </a:lnTo>
                  <a:lnTo>
                    <a:pt x="1429" y="3152"/>
                  </a:lnTo>
                  <a:lnTo>
                    <a:pt x="1435" y="3155"/>
                  </a:lnTo>
                  <a:lnTo>
                    <a:pt x="1438" y="3164"/>
                  </a:lnTo>
                  <a:lnTo>
                    <a:pt x="1441" y="3172"/>
                  </a:lnTo>
                  <a:lnTo>
                    <a:pt x="1449" y="3178"/>
                  </a:lnTo>
                  <a:lnTo>
                    <a:pt x="1458" y="3178"/>
                  </a:lnTo>
                  <a:lnTo>
                    <a:pt x="1464" y="3169"/>
                  </a:lnTo>
                  <a:lnTo>
                    <a:pt x="1464" y="3161"/>
                  </a:lnTo>
                  <a:lnTo>
                    <a:pt x="1470" y="3152"/>
                  </a:lnTo>
                  <a:lnTo>
                    <a:pt x="1478" y="3152"/>
                  </a:lnTo>
                  <a:lnTo>
                    <a:pt x="1487" y="3155"/>
                  </a:lnTo>
                  <a:lnTo>
                    <a:pt x="1499" y="3161"/>
                  </a:lnTo>
                  <a:lnTo>
                    <a:pt x="1510" y="3161"/>
                  </a:lnTo>
                  <a:lnTo>
                    <a:pt x="1519" y="3161"/>
                  </a:lnTo>
                  <a:lnTo>
                    <a:pt x="1528" y="3161"/>
                  </a:lnTo>
                  <a:lnTo>
                    <a:pt x="1537" y="3158"/>
                  </a:lnTo>
                  <a:lnTo>
                    <a:pt x="1545" y="3158"/>
                  </a:lnTo>
                  <a:lnTo>
                    <a:pt x="1554" y="3164"/>
                  </a:lnTo>
                  <a:lnTo>
                    <a:pt x="1569" y="3169"/>
                  </a:lnTo>
                  <a:lnTo>
                    <a:pt x="1580" y="3169"/>
                  </a:lnTo>
                  <a:lnTo>
                    <a:pt x="1592" y="3169"/>
                  </a:lnTo>
                  <a:lnTo>
                    <a:pt x="1601" y="3169"/>
                  </a:lnTo>
                  <a:lnTo>
                    <a:pt x="1609" y="3169"/>
                  </a:lnTo>
                  <a:lnTo>
                    <a:pt x="1618" y="3169"/>
                  </a:lnTo>
                  <a:lnTo>
                    <a:pt x="1627" y="3169"/>
                  </a:lnTo>
                  <a:lnTo>
                    <a:pt x="1636" y="3169"/>
                  </a:lnTo>
                  <a:lnTo>
                    <a:pt x="1644" y="3169"/>
                  </a:lnTo>
                  <a:lnTo>
                    <a:pt x="1653" y="3169"/>
                  </a:lnTo>
                  <a:lnTo>
                    <a:pt x="1662" y="3169"/>
                  </a:lnTo>
                  <a:lnTo>
                    <a:pt x="1671" y="3169"/>
                  </a:lnTo>
                  <a:lnTo>
                    <a:pt x="1679" y="3169"/>
                  </a:lnTo>
                  <a:lnTo>
                    <a:pt x="1688" y="3169"/>
                  </a:lnTo>
                  <a:lnTo>
                    <a:pt x="1703" y="3169"/>
                  </a:lnTo>
                  <a:lnTo>
                    <a:pt x="1714" y="3172"/>
                  </a:lnTo>
                  <a:lnTo>
                    <a:pt x="1726" y="3175"/>
                  </a:lnTo>
                  <a:lnTo>
                    <a:pt x="1735" y="3175"/>
                  </a:lnTo>
                  <a:lnTo>
                    <a:pt x="1743" y="3175"/>
                  </a:lnTo>
                  <a:lnTo>
                    <a:pt x="1758" y="3175"/>
                  </a:lnTo>
                  <a:lnTo>
                    <a:pt x="1767" y="3175"/>
                  </a:lnTo>
                  <a:lnTo>
                    <a:pt x="1772" y="3167"/>
                  </a:lnTo>
                  <a:lnTo>
                    <a:pt x="1772" y="3158"/>
                  </a:lnTo>
                  <a:lnTo>
                    <a:pt x="1772" y="3149"/>
                  </a:lnTo>
                  <a:lnTo>
                    <a:pt x="1772" y="3141"/>
                  </a:lnTo>
                  <a:lnTo>
                    <a:pt x="1772" y="3132"/>
                  </a:lnTo>
                  <a:lnTo>
                    <a:pt x="1772" y="3123"/>
                  </a:lnTo>
                  <a:lnTo>
                    <a:pt x="1772" y="3112"/>
                  </a:lnTo>
                  <a:lnTo>
                    <a:pt x="1770" y="3103"/>
                  </a:lnTo>
                  <a:lnTo>
                    <a:pt x="1770" y="3095"/>
                  </a:lnTo>
                  <a:lnTo>
                    <a:pt x="1770" y="3086"/>
                  </a:lnTo>
                  <a:lnTo>
                    <a:pt x="1778" y="3080"/>
                  </a:lnTo>
                  <a:lnTo>
                    <a:pt x="1787" y="3080"/>
                  </a:lnTo>
                  <a:lnTo>
                    <a:pt x="1796" y="3089"/>
                  </a:lnTo>
                  <a:lnTo>
                    <a:pt x="1802" y="3097"/>
                  </a:lnTo>
                  <a:lnTo>
                    <a:pt x="1813" y="3103"/>
                  </a:lnTo>
                  <a:lnTo>
                    <a:pt x="1825" y="3112"/>
                  </a:lnTo>
                  <a:lnTo>
                    <a:pt x="1854" y="3109"/>
                  </a:lnTo>
                  <a:lnTo>
                    <a:pt x="1836" y="3103"/>
                  </a:lnTo>
                  <a:lnTo>
                    <a:pt x="1854" y="3103"/>
                  </a:lnTo>
                  <a:lnTo>
                    <a:pt x="1863" y="3103"/>
                  </a:lnTo>
                  <a:lnTo>
                    <a:pt x="1871" y="3103"/>
                  </a:lnTo>
                  <a:lnTo>
                    <a:pt x="1880" y="3106"/>
                  </a:lnTo>
                  <a:lnTo>
                    <a:pt x="1889" y="3100"/>
                  </a:lnTo>
                  <a:lnTo>
                    <a:pt x="1898" y="3097"/>
                  </a:lnTo>
                  <a:lnTo>
                    <a:pt x="1906" y="3095"/>
                  </a:lnTo>
                  <a:lnTo>
                    <a:pt x="1918" y="3103"/>
                  </a:lnTo>
                  <a:lnTo>
                    <a:pt x="1924" y="3112"/>
                  </a:lnTo>
                  <a:lnTo>
                    <a:pt x="1924" y="3120"/>
                  </a:lnTo>
                  <a:lnTo>
                    <a:pt x="1921" y="3129"/>
                  </a:lnTo>
                  <a:lnTo>
                    <a:pt x="1924" y="3138"/>
                  </a:lnTo>
                  <a:lnTo>
                    <a:pt x="1933" y="3144"/>
                  </a:lnTo>
                  <a:lnTo>
                    <a:pt x="1944" y="3152"/>
                  </a:lnTo>
                  <a:lnTo>
                    <a:pt x="1947" y="3144"/>
                  </a:lnTo>
                  <a:lnTo>
                    <a:pt x="1947" y="3135"/>
                  </a:lnTo>
                  <a:lnTo>
                    <a:pt x="1947" y="3126"/>
                  </a:lnTo>
                  <a:lnTo>
                    <a:pt x="1947" y="3118"/>
                  </a:lnTo>
                  <a:lnTo>
                    <a:pt x="1956" y="3115"/>
                  </a:lnTo>
                  <a:lnTo>
                    <a:pt x="1962" y="3106"/>
                  </a:lnTo>
                  <a:lnTo>
                    <a:pt x="1962" y="3097"/>
                  </a:lnTo>
                  <a:lnTo>
                    <a:pt x="1962" y="3089"/>
                  </a:lnTo>
                  <a:lnTo>
                    <a:pt x="1962" y="3080"/>
                  </a:lnTo>
                  <a:lnTo>
                    <a:pt x="1962" y="3071"/>
                  </a:lnTo>
                  <a:lnTo>
                    <a:pt x="1967" y="3063"/>
                  </a:lnTo>
                  <a:lnTo>
                    <a:pt x="1976" y="3060"/>
                  </a:lnTo>
                  <a:lnTo>
                    <a:pt x="1988" y="3060"/>
                  </a:lnTo>
                  <a:lnTo>
                    <a:pt x="2002" y="3063"/>
                  </a:lnTo>
                  <a:lnTo>
                    <a:pt x="2011" y="3063"/>
                  </a:lnTo>
                  <a:lnTo>
                    <a:pt x="2002" y="3054"/>
                  </a:lnTo>
                  <a:lnTo>
                    <a:pt x="1994" y="3048"/>
                  </a:lnTo>
                  <a:lnTo>
                    <a:pt x="1979" y="3043"/>
                  </a:lnTo>
                  <a:lnTo>
                    <a:pt x="1967" y="3034"/>
                  </a:lnTo>
                  <a:lnTo>
                    <a:pt x="1962" y="3025"/>
                  </a:lnTo>
                  <a:lnTo>
                    <a:pt x="1959" y="3017"/>
                  </a:lnTo>
                  <a:lnTo>
                    <a:pt x="1956" y="3008"/>
                  </a:lnTo>
                  <a:lnTo>
                    <a:pt x="1950" y="2999"/>
                  </a:lnTo>
                  <a:lnTo>
                    <a:pt x="1944" y="2991"/>
                  </a:lnTo>
                  <a:lnTo>
                    <a:pt x="1938" y="2982"/>
                  </a:lnTo>
                  <a:lnTo>
                    <a:pt x="1933" y="2974"/>
                  </a:lnTo>
                  <a:lnTo>
                    <a:pt x="1927" y="2965"/>
                  </a:lnTo>
                  <a:lnTo>
                    <a:pt x="1924" y="2956"/>
                  </a:lnTo>
                  <a:lnTo>
                    <a:pt x="1921" y="2948"/>
                  </a:lnTo>
                  <a:lnTo>
                    <a:pt x="1918" y="2939"/>
                  </a:lnTo>
                  <a:lnTo>
                    <a:pt x="1915" y="2930"/>
                  </a:lnTo>
                  <a:lnTo>
                    <a:pt x="1912" y="2922"/>
                  </a:lnTo>
                  <a:lnTo>
                    <a:pt x="1915" y="2913"/>
                  </a:lnTo>
                  <a:lnTo>
                    <a:pt x="1915" y="2904"/>
                  </a:lnTo>
                  <a:lnTo>
                    <a:pt x="1915" y="2896"/>
                  </a:lnTo>
                  <a:lnTo>
                    <a:pt x="1915" y="2887"/>
                  </a:lnTo>
                  <a:lnTo>
                    <a:pt x="1912" y="2878"/>
                  </a:lnTo>
                  <a:lnTo>
                    <a:pt x="1909" y="2870"/>
                  </a:lnTo>
                  <a:lnTo>
                    <a:pt x="1903" y="2861"/>
                  </a:lnTo>
                  <a:lnTo>
                    <a:pt x="1895" y="2852"/>
                  </a:lnTo>
                  <a:lnTo>
                    <a:pt x="1892" y="2844"/>
                  </a:lnTo>
                  <a:lnTo>
                    <a:pt x="1892" y="2835"/>
                  </a:lnTo>
                  <a:lnTo>
                    <a:pt x="1898" y="2827"/>
                  </a:lnTo>
                  <a:lnTo>
                    <a:pt x="1906" y="2824"/>
                  </a:lnTo>
                  <a:lnTo>
                    <a:pt x="1918" y="2821"/>
                  </a:lnTo>
                  <a:lnTo>
                    <a:pt x="1930" y="2818"/>
                  </a:lnTo>
                  <a:lnTo>
                    <a:pt x="1938" y="2812"/>
                  </a:lnTo>
                  <a:lnTo>
                    <a:pt x="1944" y="2803"/>
                  </a:lnTo>
                  <a:lnTo>
                    <a:pt x="1953" y="2798"/>
                  </a:lnTo>
                  <a:lnTo>
                    <a:pt x="1962" y="2798"/>
                  </a:lnTo>
                  <a:lnTo>
                    <a:pt x="1970" y="2798"/>
                  </a:lnTo>
                  <a:lnTo>
                    <a:pt x="1976" y="2789"/>
                  </a:lnTo>
                  <a:lnTo>
                    <a:pt x="1982" y="2780"/>
                  </a:lnTo>
                  <a:lnTo>
                    <a:pt x="1991" y="2775"/>
                  </a:lnTo>
                  <a:lnTo>
                    <a:pt x="1999" y="2775"/>
                  </a:lnTo>
                  <a:lnTo>
                    <a:pt x="2008" y="2769"/>
                  </a:lnTo>
                  <a:lnTo>
                    <a:pt x="2017" y="2763"/>
                  </a:lnTo>
                  <a:lnTo>
                    <a:pt x="2026" y="2760"/>
                  </a:lnTo>
                  <a:lnTo>
                    <a:pt x="2034" y="2760"/>
                  </a:lnTo>
                  <a:lnTo>
                    <a:pt x="2043" y="2760"/>
                  </a:lnTo>
                  <a:lnTo>
                    <a:pt x="2052" y="2754"/>
                  </a:lnTo>
                  <a:lnTo>
                    <a:pt x="2061" y="2754"/>
                  </a:lnTo>
                  <a:lnTo>
                    <a:pt x="2069" y="2757"/>
                  </a:lnTo>
                  <a:lnTo>
                    <a:pt x="2078" y="2757"/>
                  </a:lnTo>
                  <a:lnTo>
                    <a:pt x="2093" y="2760"/>
                  </a:lnTo>
                  <a:lnTo>
                    <a:pt x="2101" y="2760"/>
                  </a:lnTo>
                  <a:lnTo>
                    <a:pt x="2101" y="2769"/>
                  </a:lnTo>
                  <a:lnTo>
                    <a:pt x="2101" y="2778"/>
                  </a:lnTo>
                  <a:lnTo>
                    <a:pt x="2101" y="2786"/>
                  </a:lnTo>
                  <a:lnTo>
                    <a:pt x="2104" y="2795"/>
                  </a:lnTo>
                  <a:lnTo>
                    <a:pt x="2104" y="2803"/>
                  </a:lnTo>
                  <a:lnTo>
                    <a:pt x="2104" y="2812"/>
                  </a:lnTo>
                  <a:lnTo>
                    <a:pt x="2104" y="2821"/>
                  </a:lnTo>
                  <a:lnTo>
                    <a:pt x="2104" y="2829"/>
                  </a:lnTo>
                  <a:lnTo>
                    <a:pt x="2104" y="2838"/>
                  </a:lnTo>
                  <a:lnTo>
                    <a:pt x="2096" y="2841"/>
                  </a:lnTo>
                  <a:lnTo>
                    <a:pt x="2087" y="2841"/>
                  </a:lnTo>
                  <a:lnTo>
                    <a:pt x="2078" y="2841"/>
                  </a:lnTo>
                  <a:lnTo>
                    <a:pt x="2069" y="2841"/>
                  </a:lnTo>
                  <a:lnTo>
                    <a:pt x="2061" y="2841"/>
                  </a:lnTo>
                  <a:lnTo>
                    <a:pt x="2069" y="2841"/>
                  </a:lnTo>
                  <a:lnTo>
                    <a:pt x="2078" y="2835"/>
                  </a:lnTo>
                  <a:lnTo>
                    <a:pt x="2090" y="2835"/>
                  </a:lnTo>
                  <a:lnTo>
                    <a:pt x="2081" y="2832"/>
                  </a:lnTo>
                  <a:lnTo>
                    <a:pt x="2072" y="2832"/>
                  </a:lnTo>
                  <a:lnTo>
                    <a:pt x="2064" y="2832"/>
                  </a:lnTo>
                  <a:lnTo>
                    <a:pt x="2058" y="2841"/>
                  </a:lnTo>
                  <a:lnTo>
                    <a:pt x="2049" y="2844"/>
                  </a:lnTo>
                  <a:lnTo>
                    <a:pt x="2040" y="2847"/>
                  </a:lnTo>
                  <a:lnTo>
                    <a:pt x="2040" y="2855"/>
                  </a:lnTo>
                  <a:lnTo>
                    <a:pt x="2040" y="2864"/>
                  </a:lnTo>
                  <a:lnTo>
                    <a:pt x="2032" y="2870"/>
                  </a:lnTo>
                  <a:lnTo>
                    <a:pt x="2020" y="2870"/>
                  </a:lnTo>
                  <a:lnTo>
                    <a:pt x="2017" y="2861"/>
                  </a:lnTo>
                  <a:lnTo>
                    <a:pt x="2008" y="2858"/>
                  </a:lnTo>
                  <a:lnTo>
                    <a:pt x="2002" y="2867"/>
                  </a:lnTo>
                  <a:lnTo>
                    <a:pt x="2002" y="2876"/>
                  </a:lnTo>
                  <a:lnTo>
                    <a:pt x="2011" y="2878"/>
                  </a:lnTo>
                  <a:lnTo>
                    <a:pt x="2020" y="2884"/>
                  </a:lnTo>
                  <a:lnTo>
                    <a:pt x="2029" y="2896"/>
                  </a:lnTo>
                  <a:lnTo>
                    <a:pt x="2034" y="2907"/>
                  </a:lnTo>
                  <a:lnTo>
                    <a:pt x="2037" y="2916"/>
                  </a:lnTo>
                  <a:lnTo>
                    <a:pt x="2037" y="2925"/>
                  </a:lnTo>
                  <a:lnTo>
                    <a:pt x="2040" y="2933"/>
                  </a:lnTo>
                  <a:lnTo>
                    <a:pt x="2040" y="2942"/>
                  </a:lnTo>
                  <a:lnTo>
                    <a:pt x="2052" y="2945"/>
                  </a:lnTo>
                  <a:lnTo>
                    <a:pt x="2061" y="2953"/>
                  </a:lnTo>
                  <a:lnTo>
                    <a:pt x="2069" y="2959"/>
                  </a:lnTo>
                  <a:lnTo>
                    <a:pt x="2078" y="2965"/>
                  </a:lnTo>
                  <a:lnTo>
                    <a:pt x="2087" y="2965"/>
                  </a:lnTo>
                  <a:lnTo>
                    <a:pt x="2093" y="2976"/>
                  </a:lnTo>
                  <a:lnTo>
                    <a:pt x="2087" y="2985"/>
                  </a:lnTo>
                  <a:lnTo>
                    <a:pt x="2084" y="2994"/>
                  </a:lnTo>
                  <a:lnTo>
                    <a:pt x="2084" y="3005"/>
                  </a:lnTo>
                  <a:lnTo>
                    <a:pt x="2090" y="3017"/>
                  </a:lnTo>
                  <a:lnTo>
                    <a:pt x="2090" y="3025"/>
                  </a:lnTo>
                  <a:lnTo>
                    <a:pt x="2093" y="3017"/>
                  </a:lnTo>
                  <a:lnTo>
                    <a:pt x="2093" y="3008"/>
                  </a:lnTo>
                  <a:lnTo>
                    <a:pt x="2096" y="2999"/>
                  </a:lnTo>
                  <a:lnTo>
                    <a:pt x="2096" y="2991"/>
                  </a:lnTo>
                  <a:lnTo>
                    <a:pt x="2104" y="2988"/>
                  </a:lnTo>
                  <a:lnTo>
                    <a:pt x="2113" y="2988"/>
                  </a:lnTo>
                  <a:lnTo>
                    <a:pt x="2125" y="2988"/>
                  </a:lnTo>
                  <a:lnTo>
                    <a:pt x="2130" y="2999"/>
                  </a:lnTo>
                  <a:lnTo>
                    <a:pt x="2130" y="3008"/>
                  </a:lnTo>
                  <a:lnTo>
                    <a:pt x="2133" y="3017"/>
                  </a:lnTo>
                  <a:lnTo>
                    <a:pt x="2139" y="3028"/>
                  </a:lnTo>
                  <a:lnTo>
                    <a:pt x="2148" y="3034"/>
                  </a:lnTo>
                  <a:lnTo>
                    <a:pt x="2160" y="3040"/>
                  </a:lnTo>
                  <a:lnTo>
                    <a:pt x="2151" y="3043"/>
                  </a:lnTo>
                  <a:lnTo>
                    <a:pt x="2148" y="3051"/>
                  </a:lnTo>
                  <a:lnTo>
                    <a:pt x="2133" y="3054"/>
                  </a:lnTo>
                  <a:lnTo>
                    <a:pt x="2125" y="3051"/>
                  </a:lnTo>
                  <a:lnTo>
                    <a:pt x="2116" y="3051"/>
                  </a:lnTo>
                  <a:lnTo>
                    <a:pt x="2101" y="3046"/>
                  </a:lnTo>
                  <a:lnTo>
                    <a:pt x="2093" y="3037"/>
                  </a:lnTo>
                  <a:lnTo>
                    <a:pt x="2090" y="3046"/>
                  </a:lnTo>
                  <a:lnTo>
                    <a:pt x="2090" y="3054"/>
                  </a:lnTo>
                  <a:lnTo>
                    <a:pt x="2090" y="3063"/>
                  </a:lnTo>
                  <a:lnTo>
                    <a:pt x="2090" y="3071"/>
                  </a:lnTo>
                  <a:lnTo>
                    <a:pt x="2087" y="3080"/>
                  </a:lnTo>
                  <a:lnTo>
                    <a:pt x="2084" y="3089"/>
                  </a:lnTo>
                  <a:lnTo>
                    <a:pt x="2084" y="3097"/>
                  </a:lnTo>
                  <a:lnTo>
                    <a:pt x="2096" y="3097"/>
                  </a:lnTo>
                  <a:lnTo>
                    <a:pt x="2104" y="3092"/>
                  </a:lnTo>
                  <a:lnTo>
                    <a:pt x="2110" y="3100"/>
                  </a:lnTo>
                  <a:lnTo>
                    <a:pt x="2107" y="3109"/>
                  </a:lnTo>
                  <a:lnTo>
                    <a:pt x="2098" y="3118"/>
                  </a:lnTo>
                  <a:lnTo>
                    <a:pt x="2090" y="3123"/>
                  </a:lnTo>
                  <a:lnTo>
                    <a:pt x="2087" y="3109"/>
                  </a:lnTo>
                  <a:lnTo>
                    <a:pt x="2087" y="3132"/>
                  </a:lnTo>
                  <a:lnTo>
                    <a:pt x="2096" y="3126"/>
                  </a:lnTo>
                  <a:lnTo>
                    <a:pt x="2087" y="3109"/>
                  </a:lnTo>
                  <a:lnTo>
                    <a:pt x="2104" y="3112"/>
                  </a:lnTo>
                  <a:lnTo>
                    <a:pt x="2110" y="3103"/>
                  </a:lnTo>
                  <a:lnTo>
                    <a:pt x="2110" y="3112"/>
                  </a:lnTo>
                  <a:lnTo>
                    <a:pt x="2110" y="3120"/>
                  </a:lnTo>
                  <a:lnTo>
                    <a:pt x="2116" y="3129"/>
                  </a:lnTo>
                  <a:lnTo>
                    <a:pt x="2119" y="3138"/>
                  </a:lnTo>
                  <a:lnTo>
                    <a:pt x="2122" y="3149"/>
                  </a:lnTo>
                  <a:lnTo>
                    <a:pt x="2122" y="3158"/>
                  </a:lnTo>
                  <a:lnTo>
                    <a:pt x="2125" y="3167"/>
                  </a:lnTo>
                  <a:lnTo>
                    <a:pt x="2125" y="3175"/>
                  </a:lnTo>
                  <a:lnTo>
                    <a:pt x="2125" y="3184"/>
                  </a:lnTo>
                  <a:lnTo>
                    <a:pt x="2125" y="3193"/>
                  </a:lnTo>
                  <a:lnTo>
                    <a:pt x="2128" y="3201"/>
                  </a:lnTo>
                  <a:lnTo>
                    <a:pt x="2130" y="3210"/>
                  </a:lnTo>
                  <a:lnTo>
                    <a:pt x="2139" y="3210"/>
                  </a:lnTo>
                  <a:lnTo>
                    <a:pt x="2148" y="3210"/>
                  </a:lnTo>
                  <a:lnTo>
                    <a:pt x="2157" y="3207"/>
                  </a:lnTo>
                  <a:lnTo>
                    <a:pt x="2163" y="3198"/>
                  </a:lnTo>
                  <a:lnTo>
                    <a:pt x="2171" y="3195"/>
                  </a:lnTo>
                  <a:lnTo>
                    <a:pt x="2183" y="3193"/>
                  </a:lnTo>
                  <a:lnTo>
                    <a:pt x="2192" y="3190"/>
                  </a:lnTo>
                  <a:lnTo>
                    <a:pt x="2200" y="3184"/>
                  </a:lnTo>
                  <a:lnTo>
                    <a:pt x="2209" y="3181"/>
                  </a:lnTo>
                  <a:lnTo>
                    <a:pt x="2218" y="3181"/>
                  </a:lnTo>
                  <a:lnTo>
                    <a:pt x="2224" y="3172"/>
                  </a:lnTo>
                  <a:lnTo>
                    <a:pt x="2232" y="3169"/>
                  </a:lnTo>
                  <a:lnTo>
                    <a:pt x="2241" y="3169"/>
                  </a:lnTo>
                  <a:lnTo>
                    <a:pt x="2256" y="3169"/>
                  </a:lnTo>
                  <a:lnTo>
                    <a:pt x="2264" y="3169"/>
                  </a:lnTo>
                  <a:lnTo>
                    <a:pt x="2276" y="3178"/>
                  </a:lnTo>
                  <a:lnTo>
                    <a:pt x="2288" y="3184"/>
                  </a:lnTo>
                  <a:lnTo>
                    <a:pt x="2296" y="3187"/>
                  </a:lnTo>
                  <a:lnTo>
                    <a:pt x="2308" y="3190"/>
                  </a:lnTo>
                  <a:lnTo>
                    <a:pt x="2317" y="3195"/>
                  </a:lnTo>
                  <a:lnTo>
                    <a:pt x="2328" y="3198"/>
                  </a:lnTo>
                  <a:lnTo>
                    <a:pt x="2340" y="3201"/>
                  </a:lnTo>
                  <a:lnTo>
                    <a:pt x="2349" y="3207"/>
                  </a:lnTo>
                  <a:lnTo>
                    <a:pt x="2358" y="3216"/>
                  </a:lnTo>
                  <a:lnTo>
                    <a:pt x="2366" y="3221"/>
                  </a:lnTo>
                  <a:lnTo>
                    <a:pt x="2375" y="3227"/>
                  </a:lnTo>
                  <a:lnTo>
                    <a:pt x="2387" y="3230"/>
                  </a:lnTo>
                  <a:lnTo>
                    <a:pt x="2395" y="3230"/>
                  </a:lnTo>
                  <a:lnTo>
                    <a:pt x="2404" y="3230"/>
                  </a:lnTo>
                  <a:lnTo>
                    <a:pt x="2407" y="3239"/>
                  </a:lnTo>
                  <a:lnTo>
                    <a:pt x="2407" y="3247"/>
                  </a:lnTo>
                  <a:lnTo>
                    <a:pt x="2413" y="3256"/>
                  </a:lnTo>
                  <a:lnTo>
                    <a:pt x="2422" y="3262"/>
                  </a:lnTo>
                  <a:lnTo>
                    <a:pt x="2436" y="3265"/>
                  </a:lnTo>
                  <a:lnTo>
                    <a:pt x="2451" y="3270"/>
                  </a:lnTo>
                  <a:lnTo>
                    <a:pt x="2457" y="3279"/>
                  </a:lnTo>
                  <a:lnTo>
                    <a:pt x="2457" y="3288"/>
                  </a:lnTo>
                  <a:lnTo>
                    <a:pt x="2468" y="3291"/>
                  </a:lnTo>
                  <a:lnTo>
                    <a:pt x="2483" y="3288"/>
                  </a:lnTo>
                  <a:lnTo>
                    <a:pt x="2491" y="3285"/>
                  </a:lnTo>
                  <a:lnTo>
                    <a:pt x="2500" y="3276"/>
                  </a:lnTo>
                  <a:lnTo>
                    <a:pt x="2509" y="3270"/>
                  </a:lnTo>
                  <a:lnTo>
                    <a:pt x="2515" y="3262"/>
                  </a:lnTo>
                  <a:lnTo>
                    <a:pt x="2521" y="3253"/>
                  </a:lnTo>
                  <a:lnTo>
                    <a:pt x="2526" y="3244"/>
                  </a:lnTo>
                  <a:lnTo>
                    <a:pt x="2532" y="3236"/>
                  </a:lnTo>
                  <a:lnTo>
                    <a:pt x="2535" y="3227"/>
                  </a:lnTo>
                  <a:lnTo>
                    <a:pt x="2541" y="3218"/>
                  </a:lnTo>
                  <a:lnTo>
                    <a:pt x="2544" y="3210"/>
                  </a:lnTo>
                  <a:lnTo>
                    <a:pt x="2544" y="3198"/>
                  </a:lnTo>
                  <a:lnTo>
                    <a:pt x="2544" y="3190"/>
                  </a:lnTo>
                  <a:lnTo>
                    <a:pt x="2553" y="3181"/>
                  </a:lnTo>
                  <a:lnTo>
                    <a:pt x="2567" y="3181"/>
                  </a:lnTo>
                  <a:lnTo>
                    <a:pt x="2599" y="3155"/>
                  </a:lnTo>
                  <a:lnTo>
                    <a:pt x="2599" y="3164"/>
                  </a:lnTo>
                  <a:lnTo>
                    <a:pt x="2608" y="3169"/>
                  </a:lnTo>
                  <a:lnTo>
                    <a:pt x="2617" y="3178"/>
                  </a:lnTo>
                  <a:lnTo>
                    <a:pt x="2625" y="3181"/>
                  </a:lnTo>
                  <a:lnTo>
                    <a:pt x="2634" y="3178"/>
                  </a:lnTo>
                  <a:lnTo>
                    <a:pt x="2643" y="3172"/>
                  </a:lnTo>
                  <a:lnTo>
                    <a:pt x="2657" y="3169"/>
                  </a:lnTo>
                  <a:lnTo>
                    <a:pt x="2666" y="3169"/>
                  </a:lnTo>
                  <a:lnTo>
                    <a:pt x="2675" y="3169"/>
                  </a:lnTo>
                  <a:lnTo>
                    <a:pt x="2684" y="3164"/>
                  </a:lnTo>
                  <a:lnTo>
                    <a:pt x="2692" y="3155"/>
                  </a:lnTo>
                  <a:lnTo>
                    <a:pt x="2739" y="3155"/>
                  </a:lnTo>
                  <a:lnTo>
                    <a:pt x="2733" y="3138"/>
                  </a:lnTo>
                  <a:lnTo>
                    <a:pt x="2733" y="3126"/>
                  </a:lnTo>
                  <a:lnTo>
                    <a:pt x="2730" y="3118"/>
                  </a:lnTo>
                  <a:lnTo>
                    <a:pt x="2739" y="3112"/>
                  </a:lnTo>
                  <a:lnTo>
                    <a:pt x="2748" y="3106"/>
                  </a:lnTo>
                  <a:lnTo>
                    <a:pt x="2753" y="3097"/>
                  </a:lnTo>
                  <a:lnTo>
                    <a:pt x="2762" y="3092"/>
                  </a:lnTo>
                  <a:lnTo>
                    <a:pt x="2771" y="3092"/>
                  </a:lnTo>
                  <a:lnTo>
                    <a:pt x="2780" y="3095"/>
                  </a:lnTo>
                  <a:lnTo>
                    <a:pt x="2783" y="3103"/>
                  </a:lnTo>
                  <a:lnTo>
                    <a:pt x="2786" y="3112"/>
                  </a:lnTo>
                  <a:lnTo>
                    <a:pt x="2786" y="3126"/>
                  </a:lnTo>
                  <a:lnTo>
                    <a:pt x="2788" y="3135"/>
                  </a:lnTo>
                  <a:lnTo>
                    <a:pt x="2791" y="3144"/>
                  </a:lnTo>
                  <a:lnTo>
                    <a:pt x="2794" y="3152"/>
                  </a:lnTo>
                  <a:lnTo>
                    <a:pt x="2800" y="3161"/>
                  </a:lnTo>
                  <a:lnTo>
                    <a:pt x="2809" y="3167"/>
                  </a:lnTo>
                  <a:lnTo>
                    <a:pt x="2818" y="3167"/>
                  </a:lnTo>
                  <a:lnTo>
                    <a:pt x="2826" y="3167"/>
                  </a:lnTo>
                  <a:lnTo>
                    <a:pt x="2832" y="3158"/>
                  </a:lnTo>
                  <a:lnTo>
                    <a:pt x="2841" y="3152"/>
                  </a:lnTo>
                  <a:lnTo>
                    <a:pt x="2844" y="3144"/>
                  </a:lnTo>
                  <a:lnTo>
                    <a:pt x="2847" y="3135"/>
                  </a:lnTo>
                  <a:lnTo>
                    <a:pt x="2850" y="3123"/>
                  </a:lnTo>
                  <a:lnTo>
                    <a:pt x="2858" y="3115"/>
                  </a:lnTo>
                  <a:lnTo>
                    <a:pt x="2870" y="3115"/>
                  </a:lnTo>
                  <a:lnTo>
                    <a:pt x="2879" y="3115"/>
                  </a:lnTo>
                  <a:lnTo>
                    <a:pt x="2887" y="3115"/>
                  </a:lnTo>
                  <a:lnTo>
                    <a:pt x="2896" y="3115"/>
                  </a:lnTo>
                  <a:lnTo>
                    <a:pt x="2902" y="3106"/>
                  </a:lnTo>
                  <a:lnTo>
                    <a:pt x="2914" y="3103"/>
                  </a:lnTo>
                  <a:lnTo>
                    <a:pt x="2922" y="3103"/>
                  </a:lnTo>
                  <a:lnTo>
                    <a:pt x="2925" y="3095"/>
                  </a:lnTo>
                  <a:lnTo>
                    <a:pt x="2925" y="3086"/>
                  </a:lnTo>
                  <a:lnTo>
                    <a:pt x="2922" y="3077"/>
                  </a:lnTo>
                  <a:lnTo>
                    <a:pt x="2917" y="3066"/>
                  </a:lnTo>
                  <a:lnTo>
                    <a:pt x="2911" y="3057"/>
                  </a:lnTo>
                  <a:lnTo>
                    <a:pt x="2905" y="3048"/>
                  </a:lnTo>
                  <a:lnTo>
                    <a:pt x="2896" y="3046"/>
                  </a:lnTo>
                  <a:lnTo>
                    <a:pt x="2887" y="3048"/>
                  </a:lnTo>
                  <a:lnTo>
                    <a:pt x="2879" y="3051"/>
                  </a:lnTo>
                  <a:lnTo>
                    <a:pt x="2876" y="3060"/>
                  </a:lnTo>
                  <a:lnTo>
                    <a:pt x="2873" y="3069"/>
                  </a:lnTo>
                  <a:lnTo>
                    <a:pt x="2864" y="3066"/>
                  </a:lnTo>
                  <a:lnTo>
                    <a:pt x="2861" y="3054"/>
                  </a:lnTo>
                  <a:lnTo>
                    <a:pt x="2858" y="3043"/>
                  </a:lnTo>
                  <a:lnTo>
                    <a:pt x="2858" y="3034"/>
                  </a:lnTo>
                  <a:lnTo>
                    <a:pt x="2855" y="3025"/>
                  </a:lnTo>
                  <a:lnTo>
                    <a:pt x="2850" y="3017"/>
                  </a:lnTo>
                  <a:lnTo>
                    <a:pt x="2850" y="3008"/>
                  </a:lnTo>
                  <a:lnTo>
                    <a:pt x="2850" y="2997"/>
                  </a:lnTo>
                  <a:lnTo>
                    <a:pt x="2850" y="2988"/>
                  </a:lnTo>
                  <a:lnTo>
                    <a:pt x="2858" y="2982"/>
                  </a:lnTo>
                  <a:lnTo>
                    <a:pt x="2867" y="2982"/>
                  </a:lnTo>
                  <a:lnTo>
                    <a:pt x="2876" y="2979"/>
                  </a:lnTo>
                  <a:lnTo>
                    <a:pt x="2884" y="2974"/>
                  </a:lnTo>
                  <a:lnTo>
                    <a:pt x="2887" y="2962"/>
                  </a:lnTo>
                  <a:lnTo>
                    <a:pt x="2896" y="2962"/>
                  </a:lnTo>
                  <a:lnTo>
                    <a:pt x="2905" y="2962"/>
                  </a:lnTo>
                  <a:lnTo>
                    <a:pt x="2914" y="2962"/>
                  </a:lnTo>
                  <a:lnTo>
                    <a:pt x="2922" y="2959"/>
                  </a:lnTo>
                  <a:lnTo>
                    <a:pt x="2931" y="2956"/>
                  </a:lnTo>
                  <a:lnTo>
                    <a:pt x="2937" y="2948"/>
                  </a:lnTo>
                  <a:lnTo>
                    <a:pt x="2943" y="2939"/>
                  </a:lnTo>
                  <a:lnTo>
                    <a:pt x="2946" y="2930"/>
                  </a:lnTo>
                  <a:lnTo>
                    <a:pt x="2954" y="2925"/>
                  </a:lnTo>
                  <a:lnTo>
                    <a:pt x="2963" y="2919"/>
                  </a:lnTo>
                  <a:lnTo>
                    <a:pt x="2972" y="2916"/>
                  </a:lnTo>
                  <a:lnTo>
                    <a:pt x="2981" y="2913"/>
                  </a:lnTo>
                  <a:lnTo>
                    <a:pt x="2983" y="2904"/>
                  </a:lnTo>
                  <a:lnTo>
                    <a:pt x="2989" y="2893"/>
                  </a:lnTo>
                  <a:lnTo>
                    <a:pt x="2998" y="2881"/>
                  </a:lnTo>
                  <a:lnTo>
                    <a:pt x="3004" y="2873"/>
                  </a:lnTo>
                  <a:lnTo>
                    <a:pt x="3010" y="2864"/>
                  </a:lnTo>
                  <a:lnTo>
                    <a:pt x="3018" y="2858"/>
                  </a:lnTo>
                  <a:lnTo>
                    <a:pt x="3027" y="2852"/>
                  </a:lnTo>
                  <a:lnTo>
                    <a:pt x="3036" y="2847"/>
                  </a:lnTo>
                  <a:lnTo>
                    <a:pt x="3045" y="2847"/>
                  </a:lnTo>
                  <a:lnTo>
                    <a:pt x="3053" y="2844"/>
                  </a:lnTo>
                  <a:lnTo>
                    <a:pt x="3053" y="2835"/>
                  </a:lnTo>
                  <a:lnTo>
                    <a:pt x="3053" y="2827"/>
                  </a:lnTo>
                  <a:lnTo>
                    <a:pt x="3053" y="2818"/>
                  </a:lnTo>
                  <a:lnTo>
                    <a:pt x="3053" y="2809"/>
                  </a:lnTo>
                  <a:lnTo>
                    <a:pt x="3050" y="2801"/>
                  </a:lnTo>
                  <a:lnTo>
                    <a:pt x="3045" y="2789"/>
                  </a:lnTo>
                  <a:lnTo>
                    <a:pt x="3045" y="2780"/>
                  </a:lnTo>
                  <a:lnTo>
                    <a:pt x="3045" y="2772"/>
                  </a:lnTo>
                  <a:lnTo>
                    <a:pt x="3045" y="2763"/>
                  </a:lnTo>
                  <a:lnTo>
                    <a:pt x="3036" y="2754"/>
                  </a:lnTo>
                  <a:lnTo>
                    <a:pt x="3027" y="2743"/>
                  </a:lnTo>
                  <a:lnTo>
                    <a:pt x="3024" y="2734"/>
                  </a:lnTo>
                  <a:lnTo>
                    <a:pt x="3021" y="2726"/>
                  </a:lnTo>
                  <a:lnTo>
                    <a:pt x="3018" y="2717"/>
                  </a:lnTo>
                  <a:lnTo>
                    <a:pt x="3010" y="2708"/>
                  </a:lnTo>
                  <a:lnTo>
                    <a:pt x="3001" y="2705"/>
                  </a:lnTo>
                  <a:lnTo>
                    <a:pt x="3001" y="2697"/>
                  </a:lnTo>
                  <a:lnTo>
                    <a:pt x="3010" y="2694"/>
                  </a:lnTo>
                  <a:lnTo>
                    <a:pt x="3018" y="2688"/>
                  </a:lnTo>
                  <a:lnTo>
                    <a:pt x="3027" y="2682"/>
                  </a:lnTo>
                  <a:lnTo>
                    <a:pt x="3030" y="2674"/>
                  </a:lnTo>
                  <a:lnTo>
                    <a:pt x="3039" y="2665"/>
                  </a:lnTo>
                  <a:lnTo>
                    <a:pt x="3045" y="2657"/>
                  </a:lnTo>
                  <a:lnTo>
                    <a:pt x="3056" y="2659"/>
                  </a:lnTo>
                  <a:lnTo>
                    <a:pt x="3065" y="2665"/>
                  </a:lnTo>
                  <a:lnTo>
                    <a:pt x="3074" y="2665"/>
                  </a:lnTo>
                  <a:lnTo>
                    <a:pt x="3077" y="2657"/>
                  </a:lnTo>
                  <a:lnTo>
                    <a:pt x="3077" y="2645"/>
                  </a:lnTo>
                  <a:lnTo>
                    <a:pt x="3077" y="2636"/>
                  </a:lnTo>
                  <a:lnTo>
                    <a:pt x="3077" y="2628"/>
                  </a:lnTo>
                  <a:lnTo>
                    <a:pt x="3071" y="2619"/>
                  </a:lnTo>
                  <a:lnTo>
                    <a:pt x="3062" y="2613"/>
                  </a:lnTo>
                  <a:lnTo>
                    <a:pt x="3056" y="2605"/>
                  </a:lnTo>
                  <a:lnTo>
                    <a:pt x="3056" y="2596"/>
                  </a:lnTo>
                  <a:lnTo>
                    <a:pt x="3053" y="2582"/>
                  </a:lnTo>
                  <a:lnTo>
                    <a:pt x="3053" y="2573"/>
                  </a:lnTo>
                  <a:lnTo>
                    <a:pt x="3062" y="2567"/>
                  </a:lnTo>
                  <a:lnTo>
                    <a:pt x="3071" y="2567"/>
                  </a:lnTo>
                  <a:lnTo>
                    <a:pt x="3080" y="2564"/>
                  </a:lnTo>
                  <a:lnTo>
                    <a:pt x="3088" y="2564"/>
                  </a:lnTo>
                  <a:lnTo>
                    <a:pt x="3097" y="2561"/>
                  </a:lnTo>
                  <a:lnTo>
                    <a:pt x="3109" y="2556"/>
                  </a:lnTo>
                  <a:lnTo>
                    <a:pt x="3117" y="2547"/>
                  </a:lnTo>
                  <a:lnTo>
                    <a:pt x="3120" y="2538"/>
                  </a:lnTo>
                  <a:lnTo>
                    <a:pt x="3120" y="2530"/>
                  </a:lnTo>
                  <a:lnTo>
                    <a:pt x="3120" y="2521"/>
                  </a:lnTo>
                  <a:lnTo>
                    <a:pt x="3120" y="2512"/>
                  </a:lnTo>
                  <a:lnTo>
                    <a:pt x="3114" y="2501"/>
                  </a:lnTo>
                  <a:lnTo>
                    <a:pt x="3112" y="2489"/>
                  </a:lnTo>
                  <a:lnTo>
                    <a:pt x="3112" y="2481"/>
                  </a:lnTo>
                  <a:lnTo>
                    <a:pt x="3112" y="2472"/>
                  </a:lnTo>
                  <a:lnTo>
                    <a:pt x="3120" y="2463"/>
                  </a:lnTo>
                  <a:lnTo>
                    <a:pt x="3129" y="2461"/>
                  </a:lnTo>
                  <a:lnTo>
                    <a:pt x="3135" y="2452"/>
                  </a:lnTo>
                  <a:lnTo>
                    <a:pt x="3135" y="2443"/>
                  </a:lnTo>
                  <a:lnTo>
                    <a:pt x="3135" y="2435"/>
                  </a:lnTo>
                  <a:lnTo>
                    <a:pt x="3144" y="2429"/>
                  </a:lnTo>
                  <a:lnTo>
                    <a:pt x="3152" y="2420"/>
                  </a:lnTo>
                  <a:lnTo>
                    <a:pt x="3155" y="2412"/>
                  </a:lnTo>
                  <a:lnTo>
                    <a:pt x="3158" y="2403"/>
                  </a:lnTo>
                  <a:lnTo>
                    <a:pt x="3167" y="2394"/>
                  </a:lnTo>
                  <a:lnTo>
                    <a:pt x="3176" y="2386"/>
                  </a:lnTo>
                  <a:lnTo>
                    <a:pt x="3184" y="2380"/>
                  </a:lnTo>
                  <a:lnTo>
                    <a:pt x="3184" y="2371"/>
                  </a:lnTo>
                  <a:lnTo>
                    <a:pt x="3187" y="2363"/>
                  </a:lnTo>
                  <a:lnTo>
                    <a:pt x="3193" y="2354"/>
                  </a:lnTo>
                  <a:lnTo>
                    <a:pt x="3202" y="2348"/>
                  </a:lnTo>
                  <a:lnTo>
                    <a:pt x="3208" y="2340"/>
                  </a:lnTo>
                  <a:lnTo>
                    <a:pt x="3213" y="2331"/>
                  </a:lnTo>
                  <a:lnTo>
                    <a:pt x="3216" y="2322"/>
                  </a:lnTo>
                  <a:lnTo>
                    <a:pt x="3219" y="2314"/>
                  </a:lnTo>
                  <a:lnTo>
                    <a:pt x="3222" y="2305"/>
                  </a:lnTo>
                  <a:lnTo>
                    <a:pt x="3228" y="2296"/>
                  </a:lnTo>
                  <a:lnTo>
                    <a:pt x="3237" y="2291"/>
                  </a:lnTo>
                  <a:lnTo>
                    <a:pt x="3245" y="2291"/>
                  </a:lnTo>
                  <a:lnTo>
                    <a:pt x="3254" y="2285"/>
                  </a:lnTo>
                  <a:lnTo>
                    <a:pt x="3263" y="2282"/>
                  </a:lnTo>
                  <a:lnTo>
                    <a:pt x="3272" y="2279"/>
                  </a:lnTo>
                  <a:lnTo>
                    <a:pt x="3280" y="2279"/>
                  </a:lnTo>
                  <a:lnTo>
                    <a:pt x="3289" y="2276"/>
                  </a:lnTo>
                  <a:lnTo>
                    <a:pt x="3298" y="2273"/>
                  </a:lnTo>
                  <a:lnTo>
                    <a:pt x="3307" y="2273"/>
                  </a:lnTo>
                  <a:lnTo>
                    <a:pt x="3318" y="2276"/>
                  </a:lnTo>
                  <a:lnTo>
                    <a:pt x="3327" y="2276"/>
                  </a:lnTo>
                  <a:lnTo>
                    <a:pt x="3336" y="2276"/>
                  </a:lnTo>
                  <a:lnTo>
                    <a:pt x="3344" y="2276"/>
                  </a:lnTo>
                  <a:lnTo>
                    <a:pt x="3344" y="2279"/>
                  </a:lnTo>
                  <a:lnTo>
                    <a:pt x="3356" y="2265"/>
                  </a:lnTo>
                  <a:lnTo>
                    <a:pt x="3365" y="2265"/>
                  </a:lnTo>
                  <a:lnTo>
                    <a:pt x="3374" y="2259"/>
                  </a:lnTo>
                  <a:lnTo>
                    <a:pt x="3382" y="2253"/>
                  </a:lnTo>
                  <a:lnTo>
                    <a:pt x="3385" y="2244"/>
                  </a:lnTo>
                  <a:lnTo>
                    <a:pt x="3391" y="2233"/>
                  </a:lnTo>
                  <a:lnTo>
                    <a:pt x="3400" y="2224"/>
                  </a:lnTo>
                  <a:lnTo>
                    <a:pt x="3397" y="2216"/>
                  </a:lnTo>
                  <a:lnTo>
                    <a:pt x="3391" y="2207"/>
                  </a:lnTo>
                  <a:lnTo>
                    <a:pt x="3382" y="2201"/>
                  </a:lnTo>
                  <a:lnTo>
                    <a:pt x="3376" y="2193"/>
                  </a:lnTo>
                  <a:lnTo>
                    <a:pt x="3368" y="2184"/>
                  </a:lnTo>
                  <a:lnTo>
                    <a:pt x="3362" y="2172"/>
                  </a:lnTo>
                  <a:lnTo>
                    <a:pt x="3356" y="2164"/>
                  </a:lnTo>
                  <a:lnTo>
                    <a:pt x="3356" y="2155"/>
                  </a:lnTo>
                  <a:lnTo>
                    <a:pt x="3356" y="2146"/>
                  </a:lnTo>
                  <a:lnTo>
                    <a:pt x="3368" y="2141"/>
                  </a:lnTo>
                  <a:lnTo>
                    <a:pt x="3376" y="2138"/>
                  </a:lnTo>
                  <a:lnTo>
                    <a:pt x="3385" y="2135"/>
                  </a:lnTo>
                  <a:lnTo>
                    <a:pt x="3394" y="2126"/>
                  </a:lnTo>
                  <a:lnTo>
                    <a:pt x="3400" y="2118"/>
                  </a:lnTo>
                  <a:lnTo>
                    <a:pt x="3406" y="2109"/>
                  </a:lnTo>
                  <a:lnTo>
                    <a:pt x="3414" y="2106"/>
                  </a:lnTo>
                  <a:lnTo>
                    <a:pt x="3426" y="2106"/>
                  </a:lnTo>
                  <a:lnTo>
                    <a:pt x="3435" y="2106"/>
                  </a:lnTo>
                  <a:lnTo>
                    <a:pt x="3443" y="2106"/>
                  </a:lnTo>
                  <a:lnTo>
                    <a:pt x="3452" y="2103"/>
                  </a:lnTo>
                  <a:lnTo>
                    <a:pt x="3461" y="2103"/>
                  </a:lnTo>
                  <a:lnTo>
                    <a:pt x="3470" y="2103"/>
                  </a:lnTo>
                  <a:lnTo>
                    <a:pt x="3478" y="2112"/>
                  </a:lnTo>
                  <a:lnTo>
                    <a:pt x="3484" y="2120"/>
                  </a:lnTo>
                  <a:lnTo>
                    <a:pt x="3493" y="2126"/>
                  </a:lnTo>
                  <a:lnTo>
                    <a:pt x="3502" y="2129"/>
                  </a:lnTo>
                  <a:lnTo>
                    <a:pt x="3510" y="2129"/>
                  </a:lnTo>
                  <a:lnTo>
                    <a:pt x="3519" y="2129"/>
                  </a:lnTo>
                  <a:lnTo>
                    <a:pt x="3528" y="2126"/>
                  </a:lnTo>
                  <a:lnTo>
                    <a:pt x="3537" y="2118"/>
                  </a:lnTo>
                  <a:lnTo>
                    <a:pt x="3542" y="2109"/>
                  </a:lnTo>
                  <a:lnTo>
                    <a:pt x="3548" y="2100"/>
                  </a:lnTo>
                  <a:lnTo>
                    <a:pt x="3551" y="2089"/>
                  </a:lnTo>
                  <a:lnTo>
                    <a:pt x="3554" y="2080"/>
                  </a:lnTo>
                  <a:lnTo>
                    <a:pt x="3563" y="2072"/>
                  </a:lnTo>
                  <a:lnTo>
                    <a:pt x="3572" y="2072"/>
                  </a:lnTo>
                  <a:lnTo>
                    <a:pt x="3583" y="2063"/>
                  </a:lnTo>
                  <a:lnTo>
                    <a:pt x="3589" y="2054"/>
                  </a:lnTo>
                  <a:lnTo>
                    <a:pt x="3595" y="2046"/>
                  </a:lnTo>
                  <a:lnTo>
                    <a:pt x="3604" y="2040"/>
                  </a:lnTo>
                  <a:lnTo>
                    <a:pt x="3612" y="2040"/>
                  </a:lnTo>
                  <a:lnTo>
                    <a:pt x="3621" y="2040"/>
                  </a:lnTo>
                  <a:lnTo>
                    <a:pt x="3630" y="2040"/>
                  </a:lnTo>
                  <a:lnTo>
                    <a:pt x="3638" y="2037"/>
                  </a:lnTo>
                  <a:lnTo>
                    <a:pt x="3647" y="2037"/>
                  </a:lnTo>
                  <a:lnTo>
                    <a:pt x="3656" y="2037"/>
                  </a:lnTo>
                  <a:lnTo>
                    <a:pt x="3665" y="2037"/>
                  </a:lnTo>
                  <a:lnTo>
                    <a:pt x="3673" y="2034"/>
                  </a:lnTo>
                  <a:lnTo>
                    <a:pt x="3682" y="2031"/>
                  </a:lnTo>
                  <a:lnTo>
                    <a:pt x="3691" y="2028"/>
                  </a:lnTo>
                  <a:lnTo>
                    <a:pt x="3700" y="2023"/>
                  </a:lnTo>
                  <a:lnTo>
                    <a:pt x="3705" y="2014"/>
                  </a:lnTo>
                  <a:lnTo>
                    <a:pt x="3714" y="2005"/>
                  </a:lnTo>
                  <a:lnTo>
                    <a:pt x="3723" y="1997"/>
                  </a:lnTo>
                  <a:lnTo>
                    <a:pt x="3726" y="1988"/>
                  </a:lnTo>
                  <a:lnTo>
                    <a:pt x="3735" y="1976"/>
                  </a:lnTo>
                  <a:lnTo>
                    <a:pt x="3740" y="1968"/>
                  </a:lnTo>
                  <a:lnTo>
                    <a:pt x="3746" y="1959"/>
                  </a:lnTo>
                  <a:lnTo>
                    <a:pt x="3749" y="1950"/>
                  </a:lnTo>
                  <a:lnTo>
                    <a:pt x="3755" y="1939"/>
                  </a:lnTo>
                  <a:lnTo>
                    <a:pt x="3761" y="1927"/>
                  </a:lnTo>
                  <a:lnTo>
                    <a:pt x="3767" y="1919"/>
                  </a:lnTo>
                  <a:lnTo>
                    <a:pt x="3767" y="1910"/>
                  </a:lnTo>
                  <a:lnTo>
                    <a:pt x="3758" y="1910"/>
                  </a:lnTo>
                  <a:lnTo>
                    <a:pt x="3758" y="1899"/>
                  </a:lnTo>
                  <a:lnTo>
                    <a:pt x="3758" y="1890"/>
                  </a:lnTo>
                  <a:lnTo>
                    <a:pt x="3767" y="1881"/>
                  </a:lnTo>
                  <a:lnTo>
                    <a:pt x="3775" y="1881"/>
                  </a:lnTo>
                  <a:lnTo>
                    <a:pt x="3781" y="1873"/>
                  </a:lnTo>
                  <a:lnTo>
                    <a:pt x="3784" y="1864"/>
                  </a:lnTo>
                  <a:lnTo>
                    <a:pt x="3787" y="1855"/>
                  </a:lnTo>
                  <a:lnTo>
                    <a:pt x="3796" y="1850"/>
                  </a:lnTo>
                  <a:lnTo>
                    <a:pt x="3804" y="1847"/>
                  </a:lnTo>
                  <a:lnTo>
                    <a:pt x="3813" y="1844"/>
                  </a:lnTo>
                  <a:lnTo>
                    <a:pt x="3822" y="1838"/>
                  </a:lnTo>
                  <a:lnTo>
                    <a:pt x="3831" y="1835"/>
                  </a:lnTo>
                  <a:lnTo>
                    <a:pt x="3839" y="1824"/>
                  </a:lnTo>
                  <a:lnTo>
                    <a:pt x="3845" y="1815"/>
                  </a:lnTo>
                  <a:lnTo>
                    <a:pt x="3851" y="1806"/>
                  </a:lnTo>
                  <a:lnTo>
                    <a:pt x="3857" y="1798"/>
                  </a:lnTo>
                  <a:lnTo>
                    <a:pt x="3860" y="1789"/>
                  </a:lnTo>
                  <a:lnTo>
                    <a:pt x="3863" y="1780"/>
                  </a:lnTo>
                  <a:lnTo>
                    <a:pt x="3857" y="1772"/>
                  </a:lnTo>
                  <a:lnTo>
                    <a:pt x="3851" y="1763"/>
                  </a:lnTo>
                  <a:lnTo>
                    <a:pt x="3842" y="1760"/>
                  </a:lnTo>
                  <a:lnTo>
                    <a:pt x="3834" y="1752"/>
                  </a:lnTo>
                  <a:lnTo>
                    <a:pt x="3831" y="1743"/>
                  </a:lnTo>
                  <a:lnTo>
                    <a:pt x="3828" y="1734"/>
                  </a:lnTo>
                  <a:lnTo>
                    <a:pt x="3825" y="1726"/>
                  </a:lnTo>
                  <a:lnTo>
                    <a:pt x="3822" y="1714"/>
                  </a:lnTo>
                  <a:lnTo>
                    <a:pt x="3819" y="1706"/>
                  </a:lnTo>
                  <a:lnTo>
                    <a:pt x="3816" y="1697"/>
                  </a:lnTo>
                  <a:lnTo>
                    <a:pt x="3813" y="1685"/>
                  </a:lnTo>
                  <a:lnTo>
                    <a:pt x="3810" y="1677"/>
                  </a:lnTo>
                  <a:lnTo>
                    <a:pt x="3807" y="1668"/>
                  </a:lnTo>
                  <a:lnTo>
                    <a:pt x="3804" y="1659"/>
                  </a:lnTo>
                  <a:lnTo>
                    <a:pt x="3796" y="1657"/>
                  </a:lnTo>
                  <a:lnTo>
                    <a:pt x="3787" y="1657"/>
                  </a:lnTo>
                  <a:lnTo>
                    <a:pt x="3775" y="1657"/>
                  </a:lnTo>
                  <a:lnTo>
                    <a:pt x="3767" y="1648"/>
                  </a:lnTo>
                  <a:lnTo>
                    <a:pt x="3767" y="1639"/>
                  </a:lnTo>
                  <a:lnTo>
                    <a:pt x="3767" y="1631"/>
                  </a:lnTo>
                  <a:lnTo>
                    <a:pt x="3767" y="1622"/>
                  </a:lnTo>
                  <a:lnTo>
                    <a:pt x="3767" y="1613"/>
                  </a:lnTo>
                  <a:lnTo>
                    <a:pt x="3770" y="1605"/>
                  </a:lnTo>
                  <a:lnTo>
                    <a:pt x="3770" y="1596"/>
                  </a:lnTo>
                  <a:lnTo>
                    <a:pt x="3772" y="1587"/>
                  </a:lnTo>
                  <a:lnTo>
                    <a:pt x="3810" y="1541"/>
                  </a:lnTo>
                  <a:lnTo>
                    <a:pt x="3793" y="1541"/>
                  </a:lnTo>
                  <a:lnTo>
                    <a:pt x="3799" y="1533"/>
                  </a:lnTo>
                  <a:lnTo>
                    <a:pt x="3807" y="1530"/>
                  </a:lnTo>
                  <a:lnTo>
                    <a:pt x="3816" y="1527"/>
                  </a:lnTo>
                  <a:lnTo>
                    <a:pt x="3828" y="1527"/>
                  </a:lnTo>
                  <a:lnTo>
                    <a:pt x="3839" y="1527"/>
                  </a:lnTo>
                  <a:lnTo>
                    <a:pt x="3851" y="1524"/>
                  </a:lnTo>
                  <a:lnTo>
                    <a:pt x="3863" y="1524"/>
                  </a:lnTo>
                  <a:lnTo>
                    <a:pt x="3874" y="1524"/>
                  </a:lnTo>
                  <a:lnTo>
                    <a:pt x="3883" y="1527"/>
                  </a:lnTo>
                  <a:lnTo>
                    <a:pt x="3892" y="1530"/>
                  </a:lnTo>
                  <a:lnTo>
                    <a:pt x="3901" y="1533"/>
                  </a:lnTo>
                  <a:lnTo>
                    <a:pt x="3909" y="1535"/>
                  </a:lnTo>
                  <a:lnTo>
                    <a:pt x="3918" y="1535"/>
                  </a:lnTo>
                  <a:lnTo>
                    <a:pt x="3930" y="1535"/>
                  </a:lnTo>
                  <a:lnTo>
                    <a:pt x="3941" y="1535"/>
                  </a:lnTo>
                  <a:lnTo>
                    <a:pt x="3950" y="1535"/>
                  </a:lnTo>
                  <a:lnTo>
                    <a:pt x="3959" y="1535"/>
                  </a:lnTo>
                  <a:lnTo>
                    <a:pt x="3970" y="1541"/>
                  </a:lnTo>
                  <a:lnTo>
                    <a:pt x="3979" y="1541"/>
                  </a:lnTo>
                  <a:lnTo>
                    <a:pt x="3985" y="1550"/>
                  </a:lnTo>
                  <a:lnTo>
                    <a:pt x="3997" y="1559"/>
                  </a:lnTo>
                  <a:lnTo>
                    <a:pt x="4005" y="1561"/>
                  </a:lnTo>
                  <a:lnTo>
                    <a:pt x="4017" y="1561"/>
                  </a:lnTo>
                  <a:lnTo>
                    <a:pt x="4026" y="1559"/>
                  </a:lnTo>
                  <a:lnTo>
                    <a:pt x="4029" y="1550"/>
                  </a:lnTo>
                  <a:lnTo>
                    <a:pt x="4037" y="1541"/>
                  </a:lnTo>
                  <a:lnTo>
                    <a:pt x="4040" y="1533"/>
                  </a:lnTo>
                  <a:lnTo>
                    <a:pt x="4043" y="1524"/>
                  </a:lnTo>
                  <a:lnTo>
                    <a:pt x="4055" y="1512"/>
                  </a:lnTo>
                  <a:lnTo>
                    <a:pt x="4066" y="1507"/>
                  </a:lnTo>
                  <a:lnTo>
                    <a:pt x="4075" y="1498"/>
                  </a:lnTo>
                  <a:lnTo>
                    <a:pt x="4084" y="1495"/>
                  </a:lnTo>
                  <a:lnTo>
                    <a:pt x="4093" y="1495"/>
                  </a:lnTo>
                  <a:lnTo>
                    <a:pt x="4101" y="1495"/>
                  </a:lnTo>
                  <a:lnTo>
                    <a:pt x="4110" y="1495"/>
                  </a:lnTo>
                  <a:lnTo>
                    <a:pt x="4119" y="1501"/>
                  </a:lnTo>
                  <a:lnTo>
                    <a:pt x="4130" y="1510"/>
                  </a:lnTo>
                  <a:lnTo>
                    <a:pt x="4139" y="1512"/>
                  </a:lnTo>
                  <a:lnTo>
                    <a:pt x="4148" y="1507"/>
                  </a:lnTo>
                  <a:lnTo>
                    <a:pt x="4154" y="1498"/>
                  </a:lnTo>
                  <a:lnTo>
                    <a:pt x="4157" y="1489"/>
                  </a:lnTo>
                  <a:lnTo>
                    <a:pt x="4165" y="1478"/>
                  </a:lnTo>
                  <a:lnTo>
                    <a:pt x="4168" y="1466"/>
                  </a:lnTo>
                  <a:lnTo>
                    <a:pt x="4163" y="1458"/>
                  </a:lnTo>
                  <a:lnTo>
                    <a:pt x="4157" y="1449"/>
                  </a:lnTo>
                  <a:lnTo>
                    <a:pt x="4154" y="1438"/>
                  </a:lnTo>
                  <a:lnTo>
                    <a:pt x="4151" y="1429"/>
                  </a:lnTo>
                  <a:lnTo>
                    <a:pt x="4151" y="1420"/>
                  </a:lnTo>
                  <a:lnTo>
                    <a:pt x="4151" y="1409"/>
                  </a:lnTo>
                  <a:lnTo>
                    <a:pt x="4151" y="1400"/>
                  </a:lnTo>
                  <a:lnTo>
                    <a:pt x="4160" y="1394"/>
                  </a:lnTo>
                  <a:lnTo>
                    <a:pt x="4174" y="1400"/>
                  </a:lnTo>
                  <a:lnTo>
                    <a:pt x="4183" y="1403"/>
                  </a:lnTo>
                  <a:lnTo>
                    <a:pt x="4183" y="1412"/>
                  </a:lnTo>
                  <a:lnTo>
                    <a:pt x="4192" y="1420"/>
                  </a:lnTo>
                  <a:lnTo>
                    <a:pt x="4203" y="1432"/>
                  </a:lnTo>
                  <a:lnTo>
                    <a:pt x="4212" y="1440"/>
                  </a:lnTo>
                  <a:lnTo>
                    <a:pt x="4215" y="1449"/>
                  </a:lnTo>
                  <a:lnTo>
                    <a:pt x="4218" y="1458"/>
                  </a:lnTo>
                  <a:lnTo>
                    <a:pt x="4227" y="1472"/>
                  </a:lnTo>
                  <a:lnTo>
                    <a:pt x="4235" y="1478"/>
                  </a:lnTo>
                  <a:lnTo>
                    <a:pt x="4241" y="1487"/>
                  </a:lnTo>
                  <a:lnTo>
                    <a:pt x="4253" y="1495"/>
                  </a:lnTo>
                  <a:lnTo>
                    <a:pt x="4264" y="1501"/>
                  </a:lnTo>
                  <a:lnTo>
                    <a:pt x="4270" y="1510"/>
                  </a:lnTo>
                  <a:lnTo>
                    <a:pt x="4273" y="1518"/>
                  </a:lnTo>
                  <a:lnTo>
                    <a:pt x="4273" y="1527"/>
                  </a:lnTo>
                  <a:lnTo>
                    <a:pt x="4273" y="1535"/>
                  </a:lnTo>
                  <a:lnTo>
                    <a:pt x="4273" y="1544"/>
                  </a:lnTo>
                  <a:lnTo>
                    <a:pt x="4264" y="1550"/>
                  </a:lnTo>
                  <a:lnTo>
                    <a:pt x="4256" y="1553"/>
                  </a:lnTo>
                  <a:lnTo>
                    <a:pt x="4256" y="1564"/>
                  </a:lnTo>
                  <a:lnTo>
                    <a:pt x="4256" y="1573"/>
                  </a:lnTo>
                  <a:lnTo>
                    <a:pt x="4256" y="1582"/>
                  </a:lnTo>
                  <a:lnTo>
                    <a:pt x="4264" y="1587"/>
                  </a:lnTo>
                  <a:lnTo>
                    <a:pt x="4276" y="1590"/>
                  </a:lnTo>
                  <a:lnTo>
                    <a:pt x="4285" y="1590"/>
                  </a:lnTo>
                  <a:lnTo>
                    <a:pt x="4294" y="1599"/>
                  </a:lnTo>
                  <a:lnTo>
                    <a:pt x="4302" y="1608"/>
                  </a:lnTo>
                  <a:lnTo>
                    <a:pt x="4314" y="1610"/>
                  </a:lnTo>
                  <a:lnTo>
                    <a:pt x="4326" y="1616"/>
                  </a:lnTo>
                  <a:lnTo>
                    <a:pt x="4334" y="1619"/>
                  </a:lnTo>
                  <a:lnTo>
                    <a:pt x="4340" y="1628"/>
                  </a:lnTo>
                  <a:lnTo>
                    <a:pt x="4343" y="1636"/>
                  </a:lnTo>
                  <a:lnTo>
                    <a:pt x="4343" y="1645"/>
                  </a:lnTo>
                  <a:lnTo>
                    <a:pt x="4343" y="1654"/>
                  </a:lnTo>
                  <a:lnTo>
                    <a:pt x="4343" y="1662"/>
                  </a:lnTo>
                  <a:lnTo>
                    <a:pt x="4346" y="1671"/>
                  </a:lnTo>
                  <a:lnTo>
                    <a:pt x="4355" y="1671"/>
                  </a:lnTo>
                  <a:lnTo>
                    <a:pt x="4366" y="1671"/>
                  </a:lnTo>
                  <a:lnTo>
                    <a:pt x="4369" y="1662"/>
                  </a:lnTo>
                  <a:lnTo>
                    <a:pt x="4363" y="1654"/>
                  </a:lnTo>
                  <a:lnTo>
                    <a:pt x="4360" y="1645"/>
                  </a:lnTo>
                  <a:lnTo>
                    <a:pt x="4355" y="1636"/>
                  </a:lnTo>
                  <a:lnTo>
                    <a:pt x="4352" y="1628"/>
                  </a:lnTo>
                  <a:lnTo>
                    <a:pt x="4349" y="1619"/>
                  </a:lnTo>
                  <a:lnTo>
                    <a:pt x="4346" y="1610"/>
                  </a:lnTo>
                  <a:lnTo>
                    <a:pt x="4346" y="1602"/>
                  </a:lnTo>
                  <a:lnTo>
                    <a:pt x="4346" y="1590"/>
                  </a:lnTo>
                  <a:lnTo>
                    <a:pt x="4346" y="1582"/>
                  </a:lnTo>
                  <a:lnTo>
                    <a:pt x="4355" y="1579"/>
                  </a:lnTo>
                  <a:lnTo>
                    <a:pt x="4363" y="1582"/>
                  </a:lnTo>
                  <a:lnTo>
                    <a:pt x="4372" y="1582"/>
                  </a:lnTo>
                  <a:lnTo>
                    <a:pt x="4381" y="1573"/>
                  </a:lnTo>
                  <a:lnTo>
                    <a:pt x="4390" y="1567"/>
                  </a:lnTo>
                  <a:lnTo>
                    <a:pt x="4393" y="1559"/>
                  </a:lnTo>
                  <a:lnTo>
                    <a:pt x="4393" y="1550"/>
                  </a:lnTo>
                  <a:lnTo>
                    <a:pt x="4393" y="1541"/>
                  </a:lnTo>
                  <a:lnTo>
                    <a:pt x="4393" y="1533"/>
                  </a:lnTo>
                  <a:lnTo>
                    <a:pt x="4393" y="1524"/>
                  </a:lnTo>
                  <a:lnTo>
                    <a:pt x="4393" y="1515"/>
                  </a:lnTo>
                  <a:lnTo>
                    <a:pt x="4390" y="1504"/>
                  </a:lnTo>
                  <a:lnTo>
                    <a:pt x="4384" y="1495"/>
                  </a:lnTo>
                  <a:lnTo>
                    <a:pt x="4381" y="1484"/>
                  </a:lnTo>
                  <a:lnTo>
                    <a:pt x="4378" y="1475"/>
                  </a:lnTo>
                  <a:lnTo>
                    <a:pt x="4369" y="1463"/>
                  </a:lnTo>
                  <a:lnTo>
                    <a:pt x="4363" y="1455"/>
                  </a:lnTo>
                  <a:lnTo>
                    <a:pt x="4360" y="1446"/>
                  </a:lnTo>
                  <a:lnTo>
                    <a:pt x="4358" y="1438"/>
                  </a:lnTo>
                  <a:lnTo>
                    <a:pt x="4352" y="1429"/>
                  </a:lnTo>
                  <a:lnTo>
                    <a:pt x="4346" y="1417"/>
                  </a:lnTo>
                  <a:lnTo>
                    <a:pt x="4340" y="1409"/>
                  </a:lnTo>
                  <a:lnTo>
                    <a:pt x="4337" y="1397"/>
                  </a:lnTo>
                  <a:lnTo>
                    <a:pt x="4334" y="1389"/>
                  </a:lnTo>
                  <a:lnTo>
                    <a:pt x="4334" y="1380"/>
                  </a:lnTo>
                  <a:lnTo>
                    <a:pt x="4331" y="1371"/>
                  </a:lnTo>
                  <a:lnTo>
                    <a:pt x="4328" y="1360"/>
                  </a:lnTo>
                  <a:lnTo>
                    <a:pt x="4323" y="1351"/>
                  </a:lnTo>
                  <a:lnTo>
                    <a:pt x="4320" y="1342"/>
                  </a:lnTo>
                  <a:lnTo>
                    <a:pt x="4314" y="1334"/>
                  </a:lnTo>
                  <a:lnTo>
                    <a:pt x="4305" y="1325"/>
                  </a:lnTo>
                  <a:lnTo>
                    <a:pt x="4296" y="1316"/>
                  </a:lnTo>
                  <a:lnTo>
                    <a:pt x="4288" y="1308"/>
                  </a:lnTo>
                  <a:lnTo>
                    <a:pt x="4276" y="1311"/>
                  </a:lnTo>
                  <a:lnTo>
                    <a:pt x="4279" y="1291"/>
                  </a:lnTo>
                  <a:lnTo>
                    <a:pt x="4276" y="1282"/>
                  </a:lnTo>
                  <a:lnTo>
                    <a:pt x="4270" y="1273"/>
                  </a:lnTo>
                  <a:lnTo>
                    <a:pt x="4261" y="1267"/>
                  </a:lnTo>
                  <a:lnTo>
                    <a:pt x="4253" y="1259"/>
                  </a:lnTo>
                  <a:lnTo>
                    <a:pt x="4244" y="1250"/>
                  </a:lnTo>
                  <a:lnTo>
                    <a:pt x="4238" y="1242"/>
                  </a:lnTo>
                  <a:lnTo>
                    <a:pt x="4232" y="1233"/>
                  </a:lnTo>
                  <a:lnTo>
                    <a:pt x="4229" y="1224"/>
                  </a:lnTo>
                  <a:lnTo>
                    <a:pt x="4221" y="1218"/>
                  </a:lnTo>
                  <a:lnTo>
                    <a:pt x="4212" y="1210"/>
                  </a:lnTo>
                  <a:lnTo>
                    <a:pt x="4200" y="1201"/>
                  </a:lnTo>
                  <a:lnTo>
                    <a:pt x="4192" y="1195"/>
                  </a:lnTo>
                  <a:lnTo>
                    <a:pt x="4183" y="1193"/>
                  </a:lnTo>
                  <a:lnTo>
                    <a:pt x="4171" y="1187"/>
                  </a:lnTo>
                  <a:lnTo>
                    <a:pt x="4163" y="1184"/>
                  </a:lnTo>
                  <a:lnTo>
                    <a:pt x="4154" y="1181"/>
                  </a:lnTo>
                  <a:lnTo>
                    <a:pt x="4145" y="1175"/>
                  </a:lnTo>
                  <a:lnTo>
                    <a:pt x="4136" y="1170"/>
                  </a:lnTo>
                  <a:lnTo>
                    <a:pt x="4130" y="1161"/>
                  </a:lnTo>
                  <a:lnTo>
                    <a:pt x="4119" y="1152"/>
                  </a:lnTo>
                  <a:lnTo>
                    <a:pt x="4110" y="1149"/>
                  </a:lnTo>
                  <a:lnTo>
                    <a:pt x="4098" y="1144"/>
                  </a:lnTo>
                  <a:lnTo>
                    <a:pt x="4090" y="1144"/>
                  </a:lnTo>
                  <a:lnTo>
                    <a:pt x="4078" y="1135"/>
                  </a:lnTo>
                  <a:lnTo>
                    <a:pt x="4069" y="1126"/>
                  </a:lnTo>
                  <a:lnTo>
                    <a:pt x="4064" y="1118"/>
                  </a:lnTo>
                  <a:lnTo>
                    <a:pt x="4058" y="1109"/>
                  </a:lnTo>
                  <a:lnTo>
                    <a:pt x="4049" y="1103"/>
                  </a:lnTo>
                  <a:lnTo>
                    <a:pt x="4058" y="1100"/>
                  </a:lnTo>
                  <a:lnTo>
                    <a:pt x="4066" y="1100"/>
                  </a:lnTo>
                  <a:lnTo>
                    <a:pt x="4078" y="1100"/>
                  </a:lnTo>
                  <a:lnTo>
                    <a:pt x="4090" y="1103"/>
                  </a:lnTo>
                  <a:lnTo>
                    <a:pt x="4098" y="1109"/>
                  </a:lnTo>
                  <a:lnTo>
                    <a:pt x="4107" y="1112"/>
                  </a:lnTo>
                  <a:lnTo>
                    <a:pt x="4116" y="1115"/>
                  </a:lnTo>
                  <a:lnTo>
                    <a:pt x="4125" y="1121"/>
                  </a:lnTo>
                  <a:lnTo>
                    <a:pt x="4133" y="1126"/>
                  </a:lnTo>
                  <a:lnTo>
                    <a:pt x="4142" y="1129"/>
                  </a:lnTo>
                  <a:lnTo>
                    <a:pt x="4154" y="1138"/>
                  </a:lnTo>
                  <a:lnTo>
                    <a:pt x="4163" y="1141"/>
                  </a:lnTo>
                  <a:lnTo>
                    <a:pt x="4171" y="1144"/>
                  </a:lnTo>
                  <a:lnTo>
                    <a:pt x="4180" y="1146"/>
                  </a:lnTo>
                  <a:lnTo>
                    <a:pt x="4192" y="1146"/>
                  </a:lnTo>
                  <a:lnTo>
                    <a:pt x="4200" y="1146"/>
                  </a:lnTo>
                  <a:lnTo>
                    <a:pt x="4212" y="1149"/>
                  </a:lnTo>
                  <a:lnTo>
                    <a:pt x="4221" y="1149"/>
                  </a:lnTo>
                  <a:lnTo>
                    <a:pt x="4229" y="1152"/>
                  </a:lnTo>
                  <a:lnTo>
                    <a:pt x="4238" y="1155"/>
                  </a:lnTo>
                  <a:lnTo>
                    <a:pt x="4247" y="1161"/>
                  </a:lnTo>
                  <a:lnTo>
                    <a:pt x="4256" y="1164"/>
                  </a:lnTo>
                  <a:lnTo>
                    <a:pt x="4264" y="1170"/>
                  </a:lnTo>
                  <a:lnTo>
                    <a:pt x="4273" y="1172"/>
                  </a:lnTo>
                  <a:lnTo>
                    <a:pt x="4282" y="1178"/>
                  </a:lnTo>
                  <a:lnTo>
                    <a:pt x="4291" y="1181"/>
                  </a:lnTo>
                  <a:lnTo>
                    <a:pt x="4299" y="1187"/>
                  </a:lnTo>
                  <a:lnTo>
                    <a:pt x="4308" y="1190"/>
                  </a:lnTo>
                  <a:lnTo>
                    <a:pt x="4317" y="1193"/>
                  </a:lnTo>
                  <a:lnTo>
                    <a:pt x="4326" y="1195"/>
                  </a:lnTo>
                  <a:lnTo>
                    <a:pt x="4334" y="1195"/>
                  </a:lnTo>
                  <a:lnTo>
                    <a:pt x="4326" y="1190"/>
                  </a:lnTo>
                  <a:lnTo>
                    <a:pt x="4314" y="1178"/>
                  </a:lnTo>
                  <a:lnTo>
                    <a:pt x="4305" y="1170"/>
                  </a:lnTo>
                  <a:lnTo>
                    <a:pt x="4305" y="1161"/>
                  </a:lnTo>
                  <a:lnTo>
                    <a:pt x="4317" y="1158"/>
                  </a:lnTo>
                  <a:lnTo>
                    <a:pt x="4328" y="1158"/>
                  </a:lnTo>
                  <a:lnTo>
                    <a:pt x="4337" y="1158"/>
                  </a:lnTo>
                  <a:lnTo>
                    <a:pt x="4346" y="1158"/>
                  </a:lnTo>
                  <a:lnTo>
                    <a:pt x="4346" y="1149"/>
                  </a:lnTo>
                  <a:lnTo>
                    <a:pt x="4349" y="1138"/>
                  </a:lnTo>
                  <a:lnTo>
                    <a:pt x="4349" y="1129"/>
                  </a:lnTo>
                  <a:lnTo>
                    <a:pt x="4340" y="1123"/>
                  </a:lnTo>
                  <a:lnTo>
                    <a:pt x="4331" y="1121"/>
                  </a:lnTo>
                  <a:lnTo>
                    <a:pt x="4323" y="1121"/>
                  </a:lnTo>
                  <a:lnTo>
                    <a:pt x="4314" y="1121"/>
                  </a:lnTo>
                  <a:lnTo>
                    <a:pt x="4302" y="1121"/>
                  </a:lnTo>
                  <a:lnTo>
                    <a:pt x="4296" y="1132"/>
                  </a:lnTo>
                  <a:lnTo>
                    <a:pt x="4288" y="1138"/>
                  </a:lnTo>
                  <a:lnTo>
                    <a:pt x="4279" y="1144"/>
                  </a:lnTo>
                  <a:lnTo>
                    <a:pt x="4270" y="1144"/>
                  </a:lnTo>
                  <a:lnTo>
                    <a:pt x="4261" y="1144"/>
                  </a:lnTo>
                  <a:lnTo>
                    <a:pt x="4253" y="1144"/>
                  </a:lnTo>
                  <a:lnTo>
                    <a:pt x="4244" y="1144"/>
                  </a:lnTo>
                  <a:lnTo>
                    <a:pt x="4238" y="1135"/>
                  </a:lnTo>
                  <a:lnTo>
                    <a:pt x="4227" y="1126"/>
                  </a:lnTo>
                  <a:lnTo>
                    <a:pt x="4218" y="1115"/>
                  </a:lnTo>
                  <a:lnTo>
                    <a:pt x="4209" y="1109"/>
                  </a:lnTo>
                  <a:lnTo>
                    <a:pt x="4197" y="1100"/>
                  </a:lnTo>
                  <a:lnTo>
                    <a:pt x="4192" y="1092"/>
                  </a:lnTo>
                  <a:lnTo>
                    <a:pt x="4200" y="1086"/>
                  </a:lnTo>
                  <a:lnTo>
                    <a:pt x="4209" y="1077"/>
                  </a:lnTo>
                  <a:lnTo>
                    <a:pt x="4218" y="1072"/>
                  </a:lnTo>
                  <a:lnTo>
                    <a:pt x="4227" y="1063"/>
                  </a:lnTo>
                  <a:lnTo>
                    <a:pt x="4229" y="1054"/>
                  </a:lnTo>
                  <a:lnTo>
                    <a:pt x="4221" y="1048"/>
                  </a:lnTo>
                  <a:lnTo>
                    <a:pt x="4209" y="1048"/>
                  </a:lnTo>
                  <a:lnTo>
                    <a:pt x="4200" y="1048"/>
                  </a:lnTo>
                  <a:lnTo>
                    <a:pt x="4189" y="1048"/>
                  </a:lnTo>
                  <a:lnTo>
                    <a:pt x="4180" y="1051"/>
                  </a:lnTo>
                  <a:lnTo>
                    <a:pt x="4171" y="1057"/>
                  </a:lnTo>
                  <a:lnTo>
                    <a:pt x="4160" y="1057"/>
                  </a:lnTo>
                  <a:lnTo>
                    <a:pt x="4151" y="1057"/>
                  </a:lnTo>
                  <a:lnTo>
                    <a:pt x="4142" y="1057"/>
                  </a:lnTo>
                  <a:lnTo>
                    <a:pt x="4133" y="1057"/>
                  </a:lnTo>
                  <a:lnTo>
                    <a:pt x="4125" y="1057"/>
                  </a:lnTo>
                  <a:lnTo>
                    <a:pt x="4116" y="1057"/>
                  </a:lnTo>
                  <a:lnTo>
                    <a:pt x="4107" y="1057"/>
                  </a:lnTo>
                  <a:lnTo>
                    <a:pt x="4098" y="1057"/>
                  </a:lnTo>
                  <a:lnTo>
                    <a:pt x="4090" y="1057"/>
                  </a:lnTo>
                  <a:lnTo>
                    <a:pt x="4081" y="1057"/>
                  </a:lnTo>
                  <a:lnTo>
                    <a:pt x="4072" y="1057"/>
                  </a:lnTo>
                  <a:lnTo>
                    <a:pt x="4064" y="1054"/>
                  </a:lnTo>
                  <a:lnTo>
                    <a:pt x="4055" y="1051"/>
                  </a:lnTo>
                  <a:lnTo>
                    <a:pt x="4043" y="1048"/>
                  </a:lnTo>
                  <a:lnTo>
                    <a:pt x="4032" y="1043"/>
                  </a:lnTo>
                  <a:lnTo>
                    <a:pt x="4023" y="1040"/>
                  </a:lnTo>
                  <a:lnTo>
                    <a:pt x="4008" y="1031"/>
                  </a:lnTo>
                  <a:lnTo>
                    <a:pt x="3994" y="1028"/>
                  </a:lnTo>
                  <a:lnTo>
                    <a:pt x="3982" y="1028"/>
                  </a:lnTo>
                  <a:lnTo>
                    <a:pt x="3973" y="1028"/>
                  </a:lnTo>
                  <a:lnTo>
                    <a:pt x="3965" y="1028"/>
                  </a:lnTo>
                  <a:lnTo>
                    <a:pt x="3953" y="1028"/>
                  </a:lnTo>
                  <a:lnTo>
                    <a:pt x="3941" y="1028"/>
                  </a:lnTo>
                  <a:lnTo>
                    <a:pt x="3933" y="1028"/>
                  </a:lnTo>
                  <a:lnTo>
                    <a:pt x="3927" y="1037"/>
                  </a:lnTo>
                  <a:lnTo>
                    <a:pt x="3941" y="1048"/>
                  </a:lnTo>
                  <a:lnTo>
                    <a:pt x="3950" y="1051"/>
                  </a:lnTo>
                  <a:lnTo>
                    <a:pt x="3962" y="1054"/>
                  </a:lnTo>
                  <a:lnTo>
                    <a:pt x="3970" y="1057"/>
                  </a:lnTo>
                  <a:lnTo>
                    <a:pt x="3979" y="1060"/>
                  </a:lnTo>
                  <a:lnTo>
                    <a:pt x="3982" y="1072"/>
                  </a:lnTo>
                  <a:lnTo>
                    <a:pt x="3982" y="1080"/>
                  </a:lnTo>
                  <a:lnTo>
                    <a:pt x="3982" y="1089"/>
                  </a:lnTo>
                  <a:lnTo>
                    <a:pt x="3994" y="1100"/>
                  </a:lnTo>
                  <a:lnTo>
                    <a:pt x="4002" y="1103"/>
                  </a:lnTo>
                  <a:lnTo>
                    <a:pt x="4014" y="1106"/>
                  </a:lnTo>
                  <a:lnTo>
                    <a:pt x="4026" y="1106"/>
                  </a:lnTo>
                  <a:lnTo>
                    <a:pt x="4034" y="1109"/>
                  </a:lnTo>
                  <a:lnTo>
                    <a:pt x="4046" y="1112"/>
                  </a:lnTo>
                  <a:lnTo>
                    <a:pt x="4037" y="1115"/>
                  </a:lnTo>
                  <a:lnTo>
                    <a:pt x="4029" y="1112"/>
                  </a:lnTo>
                  <a:lnTo>
                    <a:pt x="4020" y="1109"/>
                  </a:lnTo>
                  <a:lnTo>
                    <a:pt x="4011" y="1109"/>
                  </a:lnTo>
                  <a:lnTo>
                    <a:pt x="4002" y="1106"/>
                  </a:lnTo>
                  <a:lnTo>
                    <a:pt x="3994" y="1103"/>
                  </a:lnTo>
                  <a:lnTo>
                    <a:pt x="3979" y="1097"/>
                  </a:lnTo>
                  <a:lnTo>
                    <a:pt x="3970" y="1097"/>
                  </a:lnTo>
                  <a:lnTo>
                    <a:pt x="3962" y="1100"/>
                  </a:lnTo>
                  <a:lnTo>
                    <a:pt x="3959" y="1109"/>
                  </a:lnTo>
                  <a:lnTo>
                    <a:pt x="3950" y="1118"/>
                  </a:lnTo>
                  <a:lnTo>
                    <a:pt x="3941" y="1123"/>
                  </a:lnTo>
                  <a:lnTo>
                    <a:pt x="3935" y="1132"/>
                  </a:lnTo>
                  <a:lnTo>
                    <a:pt x="3927" y="1138"/>
                  </a:lnTo>
                  <a:lnTo>
                    <a:pt x="3927" y="1146"/>
                  </a:lnTo>
                  <a:lnTo>
                    <a:pt x="3930" y="1155"/>
                  </a:lnTo>
                  <a:lnTo>
                    <a:pt x="3938" y="1161"/>
                  </a:lnTo>
                  <a:lnTo>
                    <a:pt x="3941" y="1170"/>
                  </a:lnTo>
                  <a:lnTo>
                    <a:pt x="3941" y="1178"/>
                  </a:lnTo>
                  <a:lnTo>
                    <a:pt x="3941" y="1187"/>
                  </a:lnTo>
                  <a:lnTo>
                    <a:pt x="3938" y="1195"/>
                  </a:lnTo>
                  <a:lnTo>
                    <a:pt x="3933" y="1204"/>
                  </a:lnTo>
                  <a:lnTo>
                    <a:pt x="3924" y="1204"/>
                  </a:lnTo>
                  <a:lnTo>
                    <a:pt x="3915" y="1193"/>
                  </a:lnTo>
                  <a:lnTo>
                    <a:pt x="3912" y="1184"/>
                  </a:lnTo>
                  <a:lnTo>
                    <a:pt x="3903" y="1178"/>
                  </a:lnTo>
                  <a:lnTo>
                    <a:pt x="3892" y="1172"/>
                  </a:lnTo>
                  <a:lnTo>
                    <a:pt x="3883" y="1167"/>
                  </a:lnTo>
                  <a:lnTo>
                    <a:pt x="3877" y="1158"/>
                  </a:lnTo>
                  <a:lnTo>
                    <a:pt x="3874" y="1167"/>
                  </a:lnTo>
                  <a:lnTo>
                    <a:pt x="3874" y="1175"/>
                  </a:lnTo>
                  <a:lnTo>
                    <a:pt x="3874" y="1184"/>
                  </a:lnTo>
                  <a:lnTo>
                    <a:pt x="3886" y="1193"/>
                  </a:lnTo>
                  <a:lnTo>
                    <a:pt x="3898" y="1195"/>
                  </a:lnTo>
                  <a:lnTo>
                    <a:pt x="3906" y="1198"/>
                  </a:lnTo>
                  <a:lnTo>
                    <a:pt x="3915" y="1201"/>
                  </a:lnTo>
                  <a:lnTo>
                    <a:pt x="3924" y="1207"/>
                  </a:lnTo>
                  <a:lnTo>
                    <a:pt x="3912" y="1213"/>
                  </a:lnTo>
                  <a:lnTo>
                    <a:pt x="3903" y="1213"/>
                  </a:lnTo>
                  <a:lnTo>
                    <a:pt x="3895" y="1213"/>
                  </a:lnTo>
                  <a:lnTo>
                    <a:pt x="3886" y="1216"/>
                  </a:lnTo>
                  <a:lnTo>
                    <a:pt x="3886" y="1224"/>
                  </a:lnTo>
                  <a:lnTo>
                    <a:pt x="3880" y="1233"/>
                  </a:lnTo>
                  <a:lnTo>
                    <a:pt x="3868" y="1236"/>
                  </a:lnTo>
                  <a:lnTo>
                    <a:pt x="3860" y="1236"/>
                  </a:lnTo>
                  <a:lnTo>
                    <a:pt x="3854" y="1224"/>
                  </a:lnTo>
                  <a:lnTo>
                    <a:pt x="3854" y="1216"/>
                  </a:lnTo>
                  <a:lnTo>
                    <a:pt x="3851" y="1207"/>
                  </a:lnTo>
                  <a:lnTo>
                    <a:pt x="3845" y="1198"/>
                  </a:lnTo>
                  <a:lnTo>
                    <a:pt x="3842" y="1187"/>
                  </a:lnTo>
                  <a:lnTo>
                    <a:pt x="3836" y="1175"/>
                  </a:lnTo>
                  <a:lnTo>
                    <a:pt x="3834" y="1164"/>
                  </a:lnTo>
                  <a:lnTo>
                    <a:pt x="3828" y="1155"/>
                  </a:lnTo>
                  <a:lnTo>
                    <a:pt x="3822" y="1146"/>
                  </a:lnTo>
                  <a:lnTo>
                    <a:pt x="3816" y="1138"/>
                  </a:lnTo>
                  <a:lnTo>
                    <a:pt x="3810" y="1129"/>
                  </a:lnTo>
                  <a:lnTo>
                    <a:pt x="3799" y="1123"/>
                  </a:lnTo>
                  <a:lnTo>
                    <a:pt x="3793" y="1115"/>
                  </a:lnTo>
                  <a:lnTo>
                    <a:pt x="3790" y="1106"/>
                  </a:lnTo>
                  <a:lnTo>
                    <a:pt x="3784" y="1097"/>
                  </a:lnTo>
                  <a:lnTo>
                    <a:pt x="3778" y="1089"/>
                  </a:lnTo>
                  <a:lnTo>
                    <a:pt x="3775" y="1080"/>
                  </a:lnTo>
                  <a:lnTo>
                    <a:pt x="3772" y="1072"/>
                  </a:lnTo>
                  <a:lnTo>
                    <a:pt x="3767" y="1063"/>
                  </a:lnTo>
                  <a:lnTo>
                    <a:pt x="3761" y="1054"/>
                  </a:lnTo>
                  <a:lnTo>
                    <a:pt x="3752" y="1046"/>
                  </a:lnTo>
                  <a:lnTo>
                    <a:pt x="3746" y="1037"/>
                  </a:lnTo>
                  <a:lnTo>
                    <a:pt x="3737" y="1034"/>
                  </a:lnTo>
                  <a:lnTo>
                    <a:pt x="3717" y="988"/>
                  </a:lnTo>
                  <a:lnTo>
                    <a:pt x="3737" y="1008"/>
                  </a:lnTo>
                  <a:lnTo>
                    <a:pt x="3737" y="999"/>
                  </a:lnTo>
                  <a:lnTo>
                    <a:pt x="3732" y="991"/>
                  </a:lnTo>
                  <a:lnTo>
                    <a:pt x="3726" y="982"/>
                  </a:lnTo>
                  <a:lnTo>
                    <a:pt x="3723" y="974"/>
                  </a:lnTo>
                  <a:lnTo>
                    <a:pt x="3714" y="968"/>
                  </a:lnTo>
                  <a:lnTo>
                    <a:pt x="3703" y="965"/>
                  </a:lnTo>
                  <a:lnTo>
                    <a:pt x="3694" y="959"/>
                  </a:lnTo>
                  <a:lnTo>
                    <a:pt x="3691" y="950"/>
                  </a:lnTo>
                  <a:lnTo>
                    <a:pt x="3691" y="942"/>
                  </a:lnTo>
                  <a:lnTo>
                    <a:pt x="3691" y="930"/>
                  </a:lnTo>
                  <a:lnTo>
                    <a:pt x="3691" y="922"/>
                  </a:lnTo>
                  <a:lnTo>
                    <a:pt x="3691" y="913"/>
                  </a:lnTo>
                  <a:lnTo>
                    <a:pt x="3694" y="904"/>
                  </a:lnTo>
                  <a:lnTo>
                    <a:pt x="3700" y="896"/>
                  </a:lnTo>
                  <a:lnTo>
                    <a:pt x="3705" y="887"/>
                  </a:lnTo>
                  <a:lnTo>
                    <a:pt x="3714" y="887"/>
                  </a:lnTo>
                  <a:lnTo>
                    <a:pt x="3717" y="878"/>
                  </a:lnTo>
                  <a:lnTo>
                    <a:pt x="3705" y="867"/>
                  </a:lnTo>
                  <a:lnTo>
                    <a:pt x="3705" y="858"/>
                  </a:lnTo>
                  <a:lnTo>
                    <a:pt x="3705" y="847"/>
                  </a:lnTo>
                  <a:lnTo>
                    <a:pt x="3711" y="838"/>
                  </a:lnTo>
                  <a:lnTo>
                    <a:pt x="3717" y="827"/>
                  </a:lnTo>
                  <a:lnTo>
                    <a:pt x="3717" y="818"/>
                  </a:lnTo>
                  <a:lnTo>
                    <a:pt x="3717" y="809"/>
                  </a:lnTo>
                  <a:lnTo>
                    <a:pt x="3705" y="806"/>
                  </a:lnTo>
                  <a:lnTo>
                    <a:pt x="3694" y="801"/>
                  </a:lnTo>
                  <a:lnTo>
                    <a:pt x="3685" y="795"/>
                  </a:lnTo>
                  <a:lnTo>
                    <a:pt x="3685" y="786"/>
                  </a:lnTo>
                  <a:lnTo>
                    <a:pt x="3691" y="778"/>
                  </a:lnTo>
                  <a:lnTo>
                    <a:pt x="3697" y="769"/>
                  </a:lnTo>
                  <a:lnTo>
                    <a:pt x="3700" y="760"/>
                  </a:lnTo>
                  <a:lnTo>
                    <a:pt x="3708" y="757"/>
                  </a:lnTo>
                  <a:lnTo>
                    <a:pt x="3717" y="752"/>
                  </a:lnTo>
                  <a:lnTo>
                    <a:pt x="3726" y="757"/>
                  </a:lnTo>
                  <a:lnTo>
                    <a:pt x="3735" y="760"/>
                  </a:lnTo>
                  <a:lnTo>
                    <a:pt x="3743" y="763"/>
                  </a:lnTo>
                  <a:lnTo>
                    <a:pt x="3743" y="755"/>
                  </a:lnTo>
                  <a:lnTo>
                    <a:pt x="3737" y="746"/>
                  </a:lnTo>
                  <a:lnTo>
                    <a:pt x="3737" y="737"/>
                  </a:lnTo>
                  <a:lnTo>
                    <a:pt x="3735" y="729"/>
                  </a:lnTo>
                  <a:lnTo>
                    <a:pt x="3735" y="720"/>
                  </a:lnTo>
                  <a:lnTo>
                    <a:pt x="3732" y="711"/>
                  </a:lnTo>
                  <a:lnTo>
                    <a:pt x="3726" y="703"/>
                  </a:lnTo>
                  <a:lnTo>
                    <a:pt x="3723" y="691"/>
                  </a:lnTo>
                  <a:lnTo>
                    <a:pt x="3723" y="682"/>
                  </a:lnTo>
                  <a:lnTo>
                    <a:pt x="3723" y="674"/>
                  </a:lnTo>
                  <a:lnTo>
                    <a:pt x="3723" y="665"/>
                  </a:lnTo>
                  <a:lnTo>
                    <a:pt x="3714" y="662"/>
                  </a:lnTo>
                  <a:lnTo>
                    <a:pt x="3708" y="671"/>
                  </a:lnTo>
                  <a:lnTo>
                    <a:pt x="3700" y="671"/>
                  </a:lnTo>
                  <a:lnTo>
                    <a:pt x="3691" y="674"/>
                  </a:lnTo>
                  <a:lnTo>
                    <a:pt x="3682" y="671"/>
                  </a:lnTo>
                  <a:lnTo>
                    <a:pt x="3673" y="659"/>
                  </a:lnTo>
                  <a:lnTo>
                    <a:pt x="3668" y="651"/>
                  </a:lnTo>
                  <a:lnTo>
                    <a:pt x="3662" y="642"/>
                  </a:lnTo>
                  <a:lnTo>
                    <a:pt x="3653" y="633"/>
                  </a:lnTo>
                  <a:lnTo>
                    <a:pt x="3641" y="628"/>
                  </a:lnTo>
                  <a:lnTo>
                    <a:pt x="3633" y="622"/>
                  </a:lnTo>
                  <a:lnTo>
                    <a:pt x="3624" y="622"/>
                  </a:lnTo>
                  <a:lnTo>
                    <a:pt x="3615" y="616"/>
                  </a:lnTo>
                  <a:lnTo>
                    <a:pt x="3604" y="613"/>
                  </a:lnTo>
                  <a:lnTo>
                    <a:pt x="3595" y="608"/>
                  </a:lnTo>
                  <a:lnTo>
                    <a:pt x="3577" y="573"/>
                  </a:lnTo>
                  <a:lnTo>
                    <a:pt x="3592" y="587"/>
                  </a:lnTo>
                  <a:lnTo>
                    <a:pt x="3592" y="576"/>
                  </a:lnTo>
                  <a:lnTo>
                    <a:pt x="3589" y="567"/>
                  </a:lnTo>
                  <a:lnTo>
                    <a:pt x="3589" y="559"/>
                  </a:lnTo>
                  <a:lnTo>
                    <a:pt x="3583" y="547"/>
                  </a:lnTo>
                  <a:lnTo>
                    <a:pt x="3577" y="538"/>
                  </a:lnTo>
                  <a:lnTo>
                    <a:pt x="3569" y="530"/>
                  </a:lnTo>
                  <a:lnTo>
                    <a:pt x="3583" y="527"/>
                  </a:lnTo>
                  <a:lnTo>
                    <a:pt x="3592" y="530"/>
                  </a:lnTo>
                  <a:lnTo>
                    <a:pt x="3601" y="533"/>
                  </a:lnTo>
                  <a:lnTo>
                    <a:pt x="3609" y="538"/>
                  </a:lnTo>
                  <a:lnTo>
                    <a:pt x="3618" y="541"/>
                  </a:lnTo>
                  <a:lnTo>
                    <a:pt x="3621" y="533"/>
                  </a:lnTo>
                  <a:lnTo>
                    <a:pt x="3621" y="524"/>
                  </a:lnTo>
                  <a:lnTo>
                    <a:pt x="3612" y="518"/>
                  </a:lnTo>
                  <a:lnTo>
                    <a:pt x="3604" y="507"/>
                  </a:lnTo>
                  <a:lnTo>
                    <a:pt x="3598" y="498"/>
                  </a:lnTo>
                  <a:lnTo>
                    <a:pt x="3589" y="489"/>
                  </a:lnTo>
                  <a:lnTo>
                    <a:pt x="3586" y="481"/>
                  </a:lnTo>
                  <a:lnTo>
                    <a:pt x="3577" y="472"/>
                  </a:lnTo>
                  <a:lnTo>
                    <a:pt x="3566" y="469"/>
                  </a:lnTo>
                  <a:lnTo>
                    <a:pt x="3557" y="469"/>
                  </a:lnTo>
                  <a:lnTo>
                    <a:pt x="3548" y="469"/>
                  </a:lnTo>
                  <a:lnTo>
                    <a:pt x="3540" y="469"/>
                  </a:lnTo>
                  <a:lnTo>
                    <a:pt x="3531" y="466"/>
                  </a:lnTo>
                  <a:lnTo>
                    <a:pt x="3519" y="458"/>
                  </a:lnTo>
                  <a:lnTo>
                    <a:pt x="3516" y="449"/>
                  </a:lnTo>
                  <a:lnTo>
                    <a:pt x="3510" y="440"/>
                  </a:lnTo>
                  <a:lnTo>
                    <a:pt x="3507" y="432"/>
                  </a:lnTo>
                  <a:lnTo>
                    <a:pt x="3502" y="423"/>
                  </a:lnTo>
                  <a:lnTo>
                    <a:pt x="3502" y="412"/>
                  </a:lnTo>
                  <a:lnTo>
                    <a:pt x="3510" y="412"/>
                  </a:lnTo>
                  <a:lnTo>
                    <a:pt x="3519" y="417"/>
                  </a:lnTo>
                  <a:lnTo>
                    <a:pt x="3531" y="426"/>
                  </a:lnTo>
                  <a:lnTo>
                    <a:pt x="3540" y="432"/>
                  </a:lnTo>
                  <a:lnTo>
                    <a:pt x="3542" y="440"/>
                  </a:lnTo>
                  <a:lnTo>
                    <a:pt x="3551" y="446"/>
                  </a:lnTo>
                  <a:lnTo>
                    <a:pt x="3563" y="452"/>
                  </a:lnTo>
                  <a:lnTo>
                    <a:pt x="3572" y="458"/>
                  </a:lnTo>
                  <a:lnTo>
                    <a:pt x="3580" y="458"/>
                  </a:lnTo>
                  <a:lnTo>
                    <a:pt x="3589" y="458"/>
                  </a:lnTo>
                  <a:lnTo>
                    <a:pt x="3598" y="458"/>
                  </a:lnTo>
                  <a:lnTo>
                    <a:pt x="3606" y="461"/>
                  </a:lnTo>
                  <a:lnTo>
                    <a:pt x="3612" y="472"/>
                  </a:lnTo>
                  <a:lnTo>
                    <a:pt x="3618" y="481"/>
                  </a:lnTo>
                  <a:lnTo>
                    <a:pt x="3621" y="489"/>
                  </a:lnTo>
                  <a:lnTo>
                    <a:pt x="3627" y="498"/>
                  </a:lnTo>
                  <a:lnTo>
                    <a:pt x="3633" y="507"/>
                  </a:lnTo>
                  <a:lnTo>
                    <a:pt x="3641" y="518"/>
                  </a:lnTo>
                  <a:lnTo>
                    <a:pt x="3650" y="521"/>
                  </a:lnTo>
                  <a:lnTo>
                    <a:pt x="3662" y="524"/>
                  </a:lnTo>
                  <a:lnTo>
                    <a:pt x="3671" y="524"/>
                  </a:lnTo>
                  <a:lnTo>
                    <a:pt x="3679" y="527"/>
                  </a:lnTo>
                  <a:lnTo>
                    <a:pt x="3688" y="527"/>
                  </a:lnTo>
                  <a:lnTo>
                    <a:pt x="3700" y="530"/>
                  </a:lnTo>
                  <a:lnTo>
                    <a:pt x="3711" y="536"/>
                  </a:lnTo>
                  <a:lnTo>
                    <a:pt x="3723" y="544"/>
                  </a:lnTo>
                  <a:lnTo>
                    <a:pt x="3729" y="553"/>
                  </a:lnTo>
                  <a:lnTo>
                    <a:pt x="3735" y="561"/>
                  </a:lnTo>
                  <a:lnTo>
                    <a:pt x="3746" y="570"/>
                  </a:lnTo>
                  <a:lnTo>
                    <a:pt x="3761" y="579"/>
                  </a:lnTo>
                  <a:lnTo>
                    <a:pt x="3770" y="585"/>
                  </a:lnTo>
                  <a:lnTo>
                    <a:pt x="3772" y="593"/>
                  </a:lnTo>
                  <a:lnTo>
                    <a:pt x="3775" y="602"/>
                  </a:lnTo>
                  <a:lnTo>
                    <a:pt x="3778" y="610"/>
                  </a:lnTo>
                  <a:lnTo>
                    <a:pt x="3787" y="610"/>
                  </a:lnTo>
                  <a:lnTo>
                    <a:pt x="3790" y="619"/>
                  </a:lnTo>
                  <a:lnTo>
                    <a:pt x="3799" y="622"/>
                  </a:lnTo>
                  <a:lnTo>
                    <a:pt x="3807" y="628"/>
                  </a:lnTo>
                  <a:lnTo>
                    <a:pt x="3819" y="633"/>
                  </a:lnTo>
                  <a:lnTo>
                    <a:pt x="3828" y="636"/>
                  </a:lnTo>
                  <a:lnTo>
                    <a:pt x="3836" y="639"/>
                  </a:lnTo>
                  <a:lnTo>
                    <a:pt x="3845" y="642"/>
                  </a:lnTo>
                  <a:lnTo>
                    <a:pt x="3854" y="642"/>
                  </a:lnTo>
                  <a:lnTo>
                    <a:pt x="3866" y="645"/>
                  </a:lnTo>
                  <a:lnTo>
                    <a:pt x="3874" y="651"/>
                  </a:lnTo>
                  <a:lnTo>
                    <a:pt x="3883" y="657"/>
                  </a:lnTo>
                  <a:lnTo>
                    <a:pt x="3892" y="657"/>
                  </a:lnTo>
                  <a:lnTo>
                    <a:pt x="3901" y="657"/>
                  </a:lnTo>
                  <a:lnTo>
                    <a:pt x="3912" y="657"/>
                  </a:lnTo>
                  <a:lnTo>
                    <a:pt x="3924" y="657"/>
                  </a:lnTo>
                  <a:lnTo>
                    <a:pt x="3938" y="657"/>
                  </a:lnTo>
                  <a:lnTo>
                    <a:pt x="3947" y="657"/>
                  </a:lnTo>
                  <a:lnTo>
                    <a:pt x="3959" y="657"/>
                  </a:lnTo>
                  <a:lnTo>
                    <a:pt x="3967" y="659"/>
                  </a:lnTo>
                  <a:lnTo>
                    <a:pt x="3979" y="659"/>
                  </a:lnTo>
                  <a:lnTo>
                    <a:pt x="3991" y="659"/>
                  </a:lnTo>
                  <a:lnTo>
                    <a:pt x="4002" y="659"/>
                  </a:lnTo>
                  <a:lnTo>
                    <a:pt x="4017" y="659"/>
                  </a:lnTo>
                  <a:lnTo>
                    <a:pt x="4026" y="659"/>
                  </a:lnTo>
                  <a:lnTo>
                    <a:pt x="4037" y="659"/>
                  </a:lnTo>
                  <a:lnTo>
                    <a:pt x="4049" y="659"/>
                  </a:lnTo>
                  <a:lnTo>
                    <a:pt x="4061" y="659"/>
                  </a:lnTo>
                  <a:lnTo>
                    <a:pt x="4072" y="659"/>
                  </a:lnTo>
                  <a:lnTo>
                    <a:pt x="4084" y="659"/>
                  </a:lnTo>
                  <a:lnTo>
                    <a:pt x="4093" y="659"/>
                  </a:lnTo>
                  <a:lnTo>
                    <a:pt x="4101" y="659"/>
                  </a:lnTo>
                  <a:lnTo>
                    <a:pt x="4110" y="659"/>
                  </a:lnTo>
                  <a:lnTo>
                    <a:pt x="4119" y="659"/>
                  </a:lnTo>
                  <a:lnTo>
                    <a:pt x="4128" y="659"/>
                  </a:lnTo>
                  <a:lnTo>
                    <a:pt x="4136" y="659"/>
                  </a:lnTo>
                  <a:lnTo>
                    <a:pt x="4142" y="668"/>
                  </a:lnTo>
                  <a:lnTo>
                    <a:pt x="4145" y="677"/>
                  </a:lnTo>
                  <a:lnTo>
                    <a:pt x="4151" y="685"/>
                  </a:lnTo>
                  <a:lnTo>
                    <a:pt x="4160" y="691"/>
                  </a:lnTo>
                  <a:lnTo>
                    <a:pt x="4168" y="700"/>
                  </a:lnTo>
                  <a:lnTo>
                    <a:pt x="4177" y="700"/>
                  </a:lnTo>
                  <a:lnTo>
                    <a:pt x="4177" y="691"/>
                  </a:lnTo>
                  <a:lnTo>
                    <a:pt x="4168" y="682"/>
                  </a:lnTo>
                  <a:lnTo>
                    <a:pt x="4168" y="674"/>
                  </a:lnTo>
                  <a:lnTo>
                    <a:pt x="4160" y="665"/>
                  </a:lnTo>
                  <a:lnTo>
                    <a:pt x="4151" y="659"/>
                  </a:lnTo>
                  <a:lnTo>
                    <a:pt x="4136" y="619"/>
                  </a:lnTo>
                  <a:lnTo>
                    <a:pt x="4142" y="60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33880" y="36291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6" y="0"/>
                  </a:moveTo>
                  <a:lnTo>
                    <a:pt x="32" y="11"/>
                  </a:lnTo>
                  <a:lnTo>
                    <a:pt x="23" y="11"/>
                  </a:lnTo>
                  <a:lnTo>
                    <a:pt x="14" y="11"/>
                  </a:lnTo>
                  <a:lnTo>
                    <a:pt x="5" y="13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8" y="33"/>
                  </a:lnTo>
                  <a:lnTo>
                    <a:pt x="17" y="30"/>
                  </a:lnTo>
                  <a:lnTo>
                    <a:pt x="23" y="22"/>
                  </a:lnTo>
                  <a:lnTo>
                    <a:pt x="23" y="13"/>
                  </a:lnTo>
                  <a:lnTo>
                    <a:pt x="26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14480" y="5259240"/>
              <a:ext cx="4320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" y="20"/>
                  </a:moveTo>
                  <a:lnTo>
                    <a:pt x="8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4" y="17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2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81200" y="4390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0"/>
                  </a:moveTo>
                  <a:lnTo>
                    <a:pt x="11" y="16"/>
                  </a:lnTo>
                  <a:lnTo>
                    <a:pt x="11" y="25"/>
                  </a:lnTo>
                  <a:lnTo>
                    <a:pt x="2" y="33"/>
                  </a:lnTo>
                  <a:lnTo>
                    <a:pt x="11" y="45"/>
                  </a:lnTo>
                  <a:lnTo>
                    <a:pt x="26" y="48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2" y="22"/>
                  </a:lnTo>
                  <a:lnTo>
                    <a:pt x="23" y="14"/>
                  </a:lnTo>
                  <a:lnTo>
                    <a:pt x="14" y="11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229600" y="16905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0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305920" y="1801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lnTo>
                    <a:pt x="8" y="11"/>
                  </a:lnTo>
                  <a:lnTo>
                    <a:pt x="14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26" y="46"/>
                  </a:lnTo>
                  <a:lnTo>
                    <a:pt x="17" y="43"/>
                  </a:lnTo>
                  <a:lnTo>
                    <a:pt x="11" y="34"/>
                  </a:lnTo>
                  <a:lnTo>
                    <a:pt x="8" y="25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824440" y="16192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6" y="70"/>
                  </a:moveTo>
                  <a:lnTo>
                    <a:pt x="0" y="78"/>
                  </a:lnTo>
                  <a:lnTo>
                    <a:pt x="0" y="70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19" y="42"/>
                  </a:lnTo>
                  <a:lnTo>
                    <a:pt x="11" y="33"/>
                  </a:lnTo>
                  <a:lnTo>
                    <a:pt x="11" y="25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11"/>
                  </a:lnTo>
                  <a:lnTo>
                    <a:pt x="45" y="16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28" y="33"/>
                  </a:lnTo>
                  <a:lnTo>
                    <a:pt x="35" y="36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5" y="56"/>
                  </a:lnTo>
                  <a:lnTo>
                    <a:pt x="45" y="64"/>
                  </a:lnTo>
                  <a:lnTo>
                    <a:pt x="43" y="72"/>
                  </a:lnTo>
                  <a:lnTo>
                    <a:pt x="50" y="75"/>
                  </a:lnTo>
                  <a:lnTo>
                    <a:pt x="55" y="84"/>
                  </a:lnTo>
                  <a:lnTo>
                    <a:pt x="50" y="92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31" y="98"/>
                  </a:lnTo>
                  <a:lnTo>
                    <a:pt x="23" y="98"/>
                  </a:lnTo>
                  <a:lnTo>
                    <a:pt x="14" y="92"/>
                  </a:lnTo>
                  <a:lnTo>
                    <a:pt x="9" y="84"/>
                  </a:lnTo>
                  <a:lnTo>
                    <a:pt x="4" y="75"/>
                  </a:lnTo>
                  <a:lnTo>
                    <a:pt x="16" y="7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48200" y="17812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4"/>
                  </a:lnTo>
                  <a:lnTo>
                    <a:pt x="16" y="18"/>
                  </a:lnTo>
                  <a:lnTo>
                    <a:pt x="4" y="0"/>
                  </a:lnTo>
                  <a:lnTo>
                    <a:pt x="16" y="1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0840" y="167328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0"/>
                  </a:moveTo>
                  <a:lnTo>
                    <a:pt x="17" y="19"/>
                  </a:lnTo>
                  <a:lnTo>
                    <a:pt x="22" y="11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25" y="27"/>
                  </a:lnTo>
                  <a:lnTo>
                    <a:pt x="28" y="36"/>
                  </a:lnTo>
                  <a:lnTo>
                    <a:pt x="11" y="30"/>
                  </a:lnTo>
                  <a:lnTo>
                    <a:pt x="0" y="33"/>
                  </a:lnTo>
                  <a:lnTo>
                    <a:pt x="11" y="3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91040" y="1490760"/>
              <a:ext cx="84240" cy="10944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31" y="51"/>
                  </a:moveTo>
                  <a:lnTo>
                    <a:pt x="8" y="34"/>
                  </a:lnTo>
                  <a:lnTo>
                    <a:pt x="8" y="42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5" y="68"/>
                  </a:lnTo>
                  <a:lnTo>
                    <a:pt x="17" y="68"/>
                  </a:lnTo>
                  <a:lnTo>
                    <a:pt x="28" y="68"/>
                  </a:lnTo>
                  <a:lnTo>
                    <a:pt x="37" y="68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2" y="34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20" y="19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7" y="45"/>
                  </a:lnTo>
                  <a:lnTo>
                    <a:pt x="31" y="51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38480" y="2170080"/>
              <a:ext cx="293760" cy="235080"/>
            </a:xfrm>
            <a:custGeom>
              <a:avLst/>
              <a:gdLst/>
              <a:ahLst/>
              <a:rect l="l" t="t" r="r" b="b"/>
              <a:pathLst>
                <a:path w="185" h="148">
                  <a:moveTo>
                    <a:pt x="0" y="101"/>
                  </a:moveTo>
                  <a:lnTo>
                    <a:pt x="11" y="84"/>
                  </a:lnTo>
                  <a:lnTo>
                    <a:pt x="11" y="93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5" y="138"/>
                  </a:lnTo>
                  <a:lnTo>
                    <a:pt x="14" y="135"/>
                  </a:lnTo>
                  <a:lnTo>
                    <a:pt x="20" y="127"/>
                  </a:lnTo>
                  <a:lnTo>
                    <a:pt x="28" y="118"/>
                  </a:lnTo>
                  <a:lnTo>
                    <a:pt x="31" y="110"/>
                  </a:lnTo>
                  <a:lnTo>
                    <a:pt x="40" y="104"/>
                  </a:lnTo>
                  <a:lnTo>
                    <a:pt x="48" y="101"/>
                  </a:lnTo>
                  <a:lnTo>
                    <a:pt x="57" y="98"/>
                  </a:lnTo>
                  <a:lnTo>
                    <a:pt x="66" y="90"/>
                  </a:lnTo>
                  <a:lnTo>
                    <a:pt x="69" y="81"/>
                  </a:lnTo>
                  <a:lnTo>
                    <a:pt x="77" y="79"/>
                  </a:lnTo>
                  <a:lnTo>
                    <a:pt x="80" y="87"/>
                  </a:lnTo>
                  <a:lnTo>
                    <a:pt x="80" y="96"/>
                  </a:lnTo>
                  <a:lnTo>
                    <a:pt x="80" y="104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71" y="130"/>
                  </a:lnTo>
                  <a:lnTo>
                    <a:pt x="74" y="138"/>
                  </a:lnTo>
                  <a:lnTo>
                    <a:pt x="83" y="141"/>
                  </a:lnTo>
                  <a:lnTo>
                    <a:pt x="94" y="141"/>
                  </a:lnTo>
                  <a:lnTo>
                    <a:pt x="103" y="138"/>
                  </a:lnTo>
                  <a:lnTo>
                    <a:pt x="109" y="130"/>
                  </a:lnTo>
                  <a:lnTo>
                    <a:pt x="109" y="121"/>
                  </a:lnTo>
                  <a:lnTo>
                    <a:pt x="100" y="113"/>
                  </a:lnTo>
                  <a:lnTo>
                    <a:pt x="106" y="101"/>
                  </a:lnTo>
                  <a:lnTo>
                    <a:pt x="100" y="90"/>
                  </a:lnTo>
                  <a:lnTo>
                    <a:pt x="97" y="81"/>
                  </a:lnTo>
                  <a:lnTo>
                    <a:pt x="97" y="73"/>
                  </a:lnTo>
                  <a:lnTo>
                    <a:pt x="97" y="65"/>
                  </a:lnTo>
                  <a:lnTo>
                    <a:pt x="103" y="56"/>
                  </a:lnTo>
                  <a:lnTo>
                    <a:pt x="112" y="56"/>
                  </a:lnTo>
                  <a:lnTo>
                    <a:pt x="120" y="53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52" y="56"/>
                  </a:lnTo>
                  <a:lnTo>
                    <a:pt x="166" y="56"/>
                  </a:lnTo>
                  <a:lnTo>
                    <a:pt x="175" y="56"/>
                  </a:lnTo>
                  <a:lnTo>
                    <a:pt x="184" y="56"/>
                  </a:lnTo>
                  <a:lnTo>
                    <a:pt x="184" y="48"/>
                  </a:lnTo>
                  <a:lnTo>
                    <a:pt x="184" y="39"/>
                  </a:lnTo>
                  <a:lnTo>
                    <a:pt x="181" y="31"/>
                  </a:lnTo>
                  <a:lnTo>
                    <a:pt x="178" y="22"/>
                  </a:lnTo>
                  <a:lnTo>
                    <a:pt x="166" y="16"/>
                  </a:lnTo>
                  <a:lnTo>
                    <a:pt x="158" y="16"/>
                  </a:lnTo>
                  <a:lnTo>
                    <a:pt x="146" y="16"/>
                  </a:lnTo>
                  <a:lnTo>
                    <a:pt x="138" y="19"/>
                  </a:lnTo>
                  <a:lnTo>
                    <a:pt x="140" y="11"/>
                  </a:lnTo>
                  <a:lnTo>
                    <a:pt x="140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12" y="11"/>
                  </a:lnTo>
                  <a:lnTo>
                    <a:pt x="103" y="16"/>
                  </a:lnTo>
                  <a:lnTo>
                    <a:pt x="97" y="25"/>
                  </a:lnTo>
                  <a:lnTo>
                    <a:pt x="94" y="16"/>
                  </a:lnTo>
                  <a:lnTo>
                    <a:pt x="86" y="14"/>
                  </a:lnTo>
                  <a:lnTo>
                    <a:pt x="77" y="19"/>
                  </a:lnTo>
                  <a:lnTo>
                    <a:pt x="69" y="25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63" y="2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7" y="25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23" y="48"/>
                  </a:lnTo>
                  <a:lnTo>
                    <a:pt x="31" y="48"/>
                  </a:lnTo>
                  <a:lnTo>
                    <a:pt x="40" y="42"/>
                  </a:lnTo>
                  <a:lnTo>
                    <a:pt x="51" y="45"/>
                  </a:lnTo>
                  <a:lnTo>
                    <a:pt x="57" y="53"/>
                  </a:lnTo>
                  <a:lnTo>
                    <a:pt x="60" y="62"/>
                  </a:lnTo>
                  <a:lnTo>
                    <a:pt x="51" y="65"/>
                  </a:lnTo>
                  <a:lnTo>
                    <a:pt x="40" y="65"/>
                  </a:lnTo>
                  <a:lnTo>
                    <a:pt x="28" y="59"/>
                  </a:lnTo>
                  <a:lnTo>
                    <a:pt x="17" y="59"/>
                  </a:lnTo>
                  <a:lnTo>
                    <a:pt x="8" y="65"/>
                  </a:lnTo>
                  <a:lnTo>
                    <a:pt x="8" y="76"/>
                  </a:lnTo>
                  <a:lnTo>
                    <a:pt x="11" y="87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6"/>
                  </a:lnTo>
                  <a:lnTo>
                    <a:pt x="0" y="101"/>
                  </a:lnTo>
                  <a:lnTo>
                    <a:pt x="5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0" y="1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95760" y="2171880"/>
              <a:ext cx="220680" cy="18072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31" y="53"/>
                  </a:moveTo>
                  <a:lnTo>
                    <a:pt x="25" y="64"/>
                  </a:lnTo>
                  <a:lnTo>
                    <a:pt x="31" y="53"/>
                  </a:lnTo>
                  <a:lnTo>
                    <a:pt x="43" y="56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7" y="79"/>
                  </a:lnTo>
                  <a:lnTo>
                    <a:pt x="23" y="90"/>
                  </a:lnTo>
                  <a:lnTo>
                    <a:pt x="25" y="98"/>
                  </a:lnTo>
                  <a:lnTo>
                    <a:pt x="31" y="107"/>
                  </a:lnTo>
                  <a:lnTo>
                    <a:pt x="34" y="98"/>
                  </a:lnTo>
                  <a:lnTo>
                    <a:pt x="34" y="90"/>
                  </a:lnTo>
                  <a:lnTo>
                    <a:pt x="43" y="90"/>
                  </a:lnTo>
                  <a:lnTo>
                    <a:pt x="54" y="93"/>
                  </a:lnTo>
                  <a:lnTo>
                    <a:pt x="63" y="96"/>
                  </a:lnTo>
                  <a:lnTo>
                    <a:pt x="71" y="96"/>
                  </a:lnTo>
                  <a:lnTo>
                    <a:pt x="80" y="87"/>
                  </a:lnTo>
                  <a:lnTo>
                    <a:pt x="89" y="87"/>
                  </a:lnTo>
                  <a:lnTo>
                    <a:pt x="97" y="93"/>
                  </a:lnTo>
                  <a:lnTo>
                    <a:pt x="103" y="107"/>
                  </a:lnTo>
                  <a:lnTo>
                    <a:pt x="112" y="110"/>
                  </a:lnTo>
                  <a:lnTo>
                    <a:pt x="120" y="113"/>
                  </a:lnTo>
                  <a:lnTo>
                    <a:pt x="126" y="104"/>
                  </a:lnTo>
                  <a:lnTo>
                    <a:pt x="123" y="96"/>
                  </a:lnTo>
                  <a:lnTo>
                    <a:pt x="115" y="90"/>
                  </a:lnTo>
                  <a:lnTo>
                    <a:pt x="106" y="87"/>
                  </a:lnTo>
                  <a:lnTo>
                    <a:pt x="94" y="81"/>
                  </a:lnTo>
                  <a:lnTo>
                    <a:pt x="92" y="73"/>
                  </a:lnTo>
                  <a:lnTo>
                    <a:pt x="103" y="70"/>
                  </a:lnTo>
                  <a:lnTo>
                    <a:pt x="112" y="70"/>
                  </a:lnTo>
                  <a:lnTo>
                    <a:pt x="115" y="62"/>
                  </a:lnTo>
                  <a:lnTo>
                    <a:pt x="120" y="53"/>
                  </a:lnTo>
                  <a:lnTo>
                    <a:pt x="129" y="48"/>
                  </a:lnTo>
                  <a:lnTo>
                    <a:pt x="138" y="39"/>
                  </a:lnTo>
                  <a:lnTo>
                    <a:pt x="129" y="33"/>
                  </a:lnTo>
                  <a:lnTo>
                    <a:pt x="120" y="31"/>
                  </a:lnTo>
                  <a:lnTo>
                    <a:pt x="112" y="33"/>
                  </a:lnTo>
                  <a:lnTo>
                    <a:pt x="106" y="42"/>
                  </a:lnTo>
                  <a:lnTo>
                    <a:pt x="97" y="45"/>
                  </a:lnTo>
                  <a:lnTo>
                    <a:pt x="97" y="36"/>
                  </a:lnTo>
                  <a:lnTo>
                    <a:pt x="100" y="25"/>
                  </a:lnTo>
                  <a:lnTo>
                    <a:pt x="100" y="16"/>
                  </a:lnTo>
                  <a:lnTo>
                    <a:pt x="103" y="8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0" y="8"/>
                  </a:lnTo>
                  <a:lnTo>
                    <a:pt x="77" y="16"/>
                  </a:lnTo>
                  <a:lnTo>
                    <a:pt x="74" y="25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1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3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23" y="64"/>
                  </a:lnTo>
                  <a:lnTo>
                    <a:pt x="31" y="64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77" y="53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05520" y="2079720"/>
              <a:ext cx="298440" cy="156960"/>
            </a:xfrm>
            <a:custGeom>
              <a:avLst/>
              <a:gdLst/>
              <a:ahLst/>
              <a:rect l="l" t="t" r="r" b="b"/>
              <a:pathLst>
                <a:path w="188" h="99">
                  <a:moveTo>
                    <a:pt x="0" y="17"/>
                  </a:moveTo>
                  <a:lnTo>
                    <a:pt x="25" y="25"/>
                  </a:lnTo>
                  <a:lnTo>
                    <a:pt x="37" y="25"/>
                  </a:lnTo>
                  <a:lnTo>
                    <a:pt x="43" y="34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63" y="69"/>
                  </a:lnTo>
                  <a:lnTo>
                    <a:pt x="63" y="80"/>
                  </a:lnTo>
                  <a:lnTo>
                    <a:pt x="71" y="83"/>
                  </a:lnTo>
                  <a:lnTo>
                    <a:pt x="80" y="77"/>
                  </a:lnTo>
                  <a:lnTo>
                    <a:pt x="89" y="77"/>
                  </a:lnTo>
                  <a:lnTo>
                    <a:pt x="97" y="77"/>
                  </a:lnTo>
                  <a:lnTo>
                    <a:pt x="106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5" y="74"/>
                  </a:lnTo>
                  <a:lnTo>
                    <a:pt x="143" y="77"/>
                  </a:lnTo>
                  <a:lnTo>
                    <a:pt x="152" y="86"/>
                  </a:lnTo>
                  <a:lnTo>
                    <a:pt x="163" y="98"/>
                  </a:lnTo>
                  <a:lnTo>
                    <a:pt x="169" y="89"/>
                  </a:lnTo>
                  <a:lnTo>
                    <a:pt x="175" y="80"/>
                  </a:lnTo>
                  <a:lnTo>
                    <a:pt x="181" y="72"/>
                  </a:lnTo>
                  <a:lnTo>
                    <a:pt x="187" y="60"/>
                  </a:lnTo>
                  <a:lnTo>
                    <a:pt x="187" y="51"/>
                  </a:lnTo>
                  <a:lnTo>
                    <a:pt x="187" y="43"/>
                  </a:lnTo>
                  <a:lnTo>
                    <a:pt x="181" y="34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5" y="34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9" y="40"/>
                  </a:lnTo>
                  <a:lnTo>
                    <a:pt x="129" y="49"/>
                  </a:lnTo>
                  <a:lnTo>
                    <a:pt x="129" y="57"/>
                  </a:lnTo>
                  <a:lnTo>
                    <a:pt x="120" y="51"/>
                  </a:lnTo>
                  <a:lnTo>
                    <a:pt x="109" y="43"/>
                  </a:lnTo>
                  <a:lnTo>
                    <a:pt x="100" y="34"/>
                  </a:lnTo>
                  <a:lnTo>
                    <a:pt x="86" y="25"/>
                  </a:lnTo>
                  <a:lnTo>
                    <a:pt x="83" y="37"/>
                  </a:lnTo>
                  <a:lnTo>
                    <a:pt x="74" y="40"/>
                  </a:lnTo>
                  <a:lnTo>
                    <a:pt x="74" y="31"/>
                  </a:lnTo>
                  <a:lnTo>
                    <a:pt x="69" y="23"/>
                  </a:lnTo>
                  <a:lnTo>
                    <a:pt x="60" y="17"/>
                  </a:lnTo>
                  <a:lnTo>
                    <a:pt x="51" y="8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8" y="8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0" y="1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74960" y="2954160"/>
              <a:ext cx="680760" cy="700200"/>
            </a:xfrm>
            <a:custGeom>
              <a:avLst/>
              <a:gdLst/>
              <a:ahLst/>
              <a:rect l="l" t="t" r="r" b="b"/>
              <a:pathLst>
                <a:path w="429" h="441">
                  <a:moveTo>
                    <a:pt x="22" y="309"/>
                  </a:moveTo>
                  <a:lnTo>
                    <a:pt x="34" y="315"/>
                  </a:lnTo>
                  <a:lnTo>
                    <a:pt x="43" y="318"/>
                  </a:lnTo>
                  <a:lnTo>
                    <a:pt x="51" y="321"/>
                  </a:lnTo>
                  <a:lnTo>
                    <a:pt x="54" y="333"/>
                  </a:lnTo>
                  <a:lnTo>
                    <a:pt x="63" y="342"/>
                  </a:lnTo>
                  <a:lnTo>
                    <a:pt x="71" y="348"/>
                  </a:lnTo>
                  <a:lnTo>
                    <a:pt x="80" y="348"/>
                  </a:lnTo>
                  <a:lnTo>
                    <a:pt x="91" y="355"/>
                  </a:lnTo>
                  <a:lnTo>
                    <a:pt x="100" y="361"/>
                  </a:lnTo>
                  <a:lnTo>
                    <a:pt x="109" y="364"/>
                  </a:lnTo>
                  <a:lnTo>
                    <a:pt x="112" y="373"/>
                  </a:lnTo>
                  <a:lnTo>
                    <a:pt x="117" y="382"/>
                  </a:lnTo>
                  <a:lnTo>
                    <a:pt x="123" y="391"/>
                  </a:lnTo>
                  <a:lnTo>
                    <a:pt x="132" y="397"/>
                  </a:lnTo>
                  <a:lnTo>
                    <a:pt x="146" y="406"/>
                  </a:lnTo>
                  <a:lnTo>
                    <a:pt x="155" y="412"/>
                  </a:lnTo>
                  <a:lnTo>
                    <a:pt x="163" y="418"/>
                  </a:lnTo>
                  <a:lnTo>
                    <a:pt x="172" y="421"/>
                  </a:lnTo>
                  <a:lnTo>
                    <a:pt x="180" y="430"/>
                  </a:lnTo>
                  <a:lnTo>
                    <a:pt x="189" y="436"/>
                  </a:lnTo>
                  <a:lnTo>
                    <a:pt x="198" y="440"/>
                  </a:lnTo>
                  <a:lnTo>
                    <a:pt x="203" y="430"/>
                  </a:lnTo>
                  <a:lnTo>
                    <a:pt x="203" y="421"/>
                  </a:lnTo>
                  <a:lnTo>
                    <a:pt x="203" y="412"/>
                  </a:lnTo>
                  <a:lnTo>
                    <a:pt x="215" y="406"/>
                  </a:lnTo>
                  <a:lnTo>
                    <a:pt x="224" y="406"/>
                  </a:lnTo>
                  <a:lnTo>
                    <a:pt x="232" y="406"/>
                  </a:lnTo>
                  <a:lnTo>
                    <a:pt x="241" y="406"/>
                  </a:lnTo>
                  <a:lnTo>
                    <a:pt x="249" y="406"/>
                  </a:lnTo>
                  <a:lnTo>
                    <a:pt x="258" y="406"/>
                  </a:lnTo>
                  <a:lnTo>
                    <a:pt x="261" y="397"/>
                  </a:lnTo>
                  <a:lnTo>
                    <a:pt x="261" y="388"/>
                  </a:lnTo>
                  <a:lnTo>
                    <a:pt x="261" y="379"/>
                  </a:lnTo>
                  <a:lnTo>
                    <a:pt x="261" y="367"/>
                  </a:lnTo>
                  <a:lnTo>
                    <a:pt x="261" y="355"/>
                  </a:lnTo>
                  <a:lnTo>
                    <a:pt x="252" y="348"/>
                  </a:lnTo>
                  <a:lnTo>
                    <a:pt x="244" y="348"/>
                  </a:lnTo>
                  <a:lnTo>
                    <a:pt x="235" y="342"/>
                  </a:lnTo>
                  <a:lnTo>
                    <a:pt x="229" y="333"/>
                  </a:lnTo>
                  <a:lnTo>
                    <a:pt x="229" y="324"/>
                  </a:lnTo>
                  <a:lnTo>
                    <a:pt x="238" y="321"/>
                  </a:lnTo>
                  <a:lnTo>
                    <a:pt x="247" y="315"/>
                  </a:lnTo>
                  <a:lnTo>
                    <a:pt x="255" y="312"/>
                  </a:lnTo>
                  <a:lnTo>
                    <a:pt x="261" y="303"/>
                  </a:lnTo>
                  <a:lnTo>
                    <a:pt x="261" y="294"/>
                  </a:lnTo>
                  <a:lnTo>
                    <a:pt x="264" y="285"/>
                  </a:lnTo>
                  <a:lnTo>
                    <a:pt x="264" y="276"/>
                  </a:lnTo>
                  <a:lnTo>
                    <a:pt x="267" y="267"/>
                  </a:lnTo>
                  <a:lnTo>
                    <a:pt x="272" y="257"/>
                  </a:lnTo>
                  <a:lnTo>
                    <a:pt x="278" y="248"/>
                  </a:lnTo>
                  <a:lnTo>
                    <a:pt x="284" y="239"/>
                  </a:lnTo>
                  <a:lnTo>
                    <a:pt x="284" y="230"/>
                  </a:lnTo>
                  <a:lnTo>
                    <a:pt x="284" y="221"/>
                  </a:lnTo>
                  <a:lnTo>
                    <a:pt x="284" y="209"/>
                  </a:lnTo>
                  <a:lnTo>
                    <a:pt x="292" y="200"/>
                  </a:lnTo>
                  <a:lnTo>
                    <a:pt x="295" y="191"/>
                  </a:lnTo>
                  <a:lnTo>
                    <a:pt x="298" y="182"/>
                  </a:lnTo>
                  <a:lnTo>
                    <a:pt x="301" y="172"/>
                  </a:lnTo>
                  <a:lnTo>
                    <a:pt x="292" y="163"/>
                  </a:lnTo>
                  <a:lnTo>
                    <a:pt x="284" y="154"/>
                  </a:lnTo>
                  <a:lnTo>
                    <a:pt x="278" y="145"/>
                  </a:lnTo>
                  <a:lnTo>
                    <a:pt x="287" y="142"/>
                  </a:lnTo>
                  <a:lnTo>
                    <a:pt x="295" y="142"/>
                  </a:lnTo>
                  <a:lnTo>
                    <a:pt x="304" y="148"/>
                  </a:lnTo>
                  <a:lnTo>
                    <a:pt x="313" y="157"/>
                  </a:lnTo>
                  <a:lnTo>
                    <a:pt x="321" y="163"/>
                  </a:lnTo>
                  <a:lnTo>
                    <a:pt x="327" y="154"/>
                  </a:lnTo>
                  <a:lnTo>
                    <a:pt x="336" y="148"/>
                  </a:lnTo>
                  <a:lnTo>
                    <a:pt x="344" y="148"/>
                  </a:lnTo>
                  <a:lnTo>
                    <a:pt x="353" y="145"/>
                  </a:lnTo>
                  <a:lnTo>
                    <a:pt x="361" y="142"/>
                  </a:lnTo>
                  <a:lnTo>
                    <a:pt x="361" y="133"/>
                  </a:lnTo>
                  <a:lnTo>
                    <a:pt x="361" y="124"/>
                  </a:lnTo>
                  <a:lnTo>
                    <a:pt x="361" y="115"/>
                  </a:lnTo>
                  <a:lnTo>
                    <a:pt x="359" y="106"/>
                  </a:lnTo>
                  <a:lnTo>
                    <a:pt x="353" y="97"/>
                  </a:lnTo>
                  <a:lnTo>
                    <a:pt x="344" y="88"/>
                  </a:lnTo>
                  <a:lnTo>
                    <a:pt x="333" y="81"/>
                  </a:lnTo>
                  <a:lnTo>
                    <a:pt x="341" y="75"/>
                  </a:lnTo>
                  <a:lnTo>
                    <a:pt x="353" y="75"/>
                  </a:lnTo>
                  <a:lnTo>
                    <a:pt x="361" y="75"/>
                  </a:lnTo>
                  <a:lnTo>
                    <a:pt x="370" y="75"/>
                  </a:lnTo>
                  <a:lnTo>
                    <a:pt x="379" y="72"/>
                  </a:lnTo>
                  <a:lnTo>
                    <a:pt x="387" y="69"/>
                  </a:lnTo>
                  <a:lnTo>
                    <a:pt x="396" y="69"/>
                  </a:lnTo>
                  <a:lnTo>
                    <a:pt x="405" y="72"/>
                  </a:lnTo>
                  <a:lnTo>
                    <a:pt x="419" y="75"/>
                  </a:lnTo>
                  <a:lnTo>
                    <a:pt x="428" y="75"/>
                  </a:lnTo>
                  <a:lnTo>
                    <a:pt x="425" y="66"/>
                  </a:lnTo>
                  <a:lnTo>
                    <a:pt x="422" y="57"/>
                  </a:lnTo>
                  <a:lnTo>
                    <a:pt x="419" y="48"/>
                  </a:lnTo>
                  <a:lnTo>
                    <a:pt x="410" y="48"/>
                  </a:lnTo>
                  <a:lnTo>
                    <a:pt x="402" y="48"/>
                  </a:lnTo>
                  <a:lnTo>
                    <a:pt x="390" y="48"/>
                  </a:lnTo>
                  <a:lnTo>
                    <a:pt x="382" y="48"/>
                  </a:lnTo>
                  <a:lnTo>
                    <a:pt x="379" y="57"/>
                  </a:lnTo>
                  <a:lnTo>
                    <a:pt x="370" y="54"/>
                  </a:lnTo>
                  <a:lnTo>
                    <a:pt x="361" y="45"/>
                  </a:lnTo>
                  <a:lnTo>
                    <a:pt x="353" y="39"/>
                  </a:lnTo>
                  <a:lnTo>
                    <a:pt x="341" y="39"/>
                  </a:lnTo>
                  <a:lnTo>
                    <a:pt x="333" y="39"/>
                  </a:lnTo>
                  <a:lnTo>
                    <a:pt x="318" y="39"/>
                  </a:lnTo>
                  <a:lnTo>
                    <a:pt x="310" y="39"/>
                  </a:lnTo>
                  <a:lnTo>
                    <a:pt x="298" y="42"/>
                  </a:lnTo>
                  <a:lnTo>
                    <a:pt x="290" y="42"/>
                  </a:lnTo>
                  <a:lnTo>
                    <a:pt x="290" y="33"/>
                  </a:lnTo>
                  <a:lnTo>
                    <a:pt x="298" y="30"/>
                  </a:lnTo>
                  <a:lnTo>
                    <a:pt x="307" y="30"/>
                  </a:lnTo>
                  <a:lnTo>
                    <a:pt x="315" y="27"/>
                  </a:lnTo>
                  <a:lnTo>
                    <a:pt x="324" y="24"/>
                  </a:lnTo>
                  <a:lnTo>
                    <a:pt x="327" y="15"/>
                  </a:lnTo>
                  <a:lnTo>
                    <a:pt x="327" y="6"/>
                  </a:lnTo>
                  <a:lnTo>
                    <a:pt x="318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3"/>
                  </a:lnTo>
                  <a:lnTo>
                    <a:pt x="275" y="12"/>
                  </a:lnTo>
                  <a:lnTo>
                    <a:pt x="267" y="18"/>
                  </a:lnTo>
                  <a:lnTo>
                    <a:pt x="258" y="21"/>
                  </a:lnTo>
                  <a:lnTo>
                    <a:pt x="255" y="30"/>
                  </a:lnTo>
                  <a:lnTo>
                    <a:pt x="264" y="36"/>
                  </a:lnTo>
                  <a:lnTo>
                    <a:pt x="272" y="36"/>
                  </a:lnTo>
                  <a:lnTo>
                    <a:pt x="278" y="45"/>
                  </a:lnTo>
                  <a:lnTo>
                    <a:pt x="270" y="54"/>
                  </a:lnTo>
                  <a:lnTo>
                    <a:pt x="267" y="63"/>
                  </a:lnTo>
                  <a:lnTo>
                    <a:pt x="281" y="75"/>
                  </a:lnTo>
                  <a:lnTo>
                    <a:pt x="290" y="78"/>
                  </a:lnTo>
                  <a:lnTo>
                    <a:pt x="281" y="75"/>
                  </a:lnTo>
                  <a:lnTo>
                    <a:pt x="270" y="66"/>
                  </a:lnTo>
                  <a:lnTo>
                    <a:pt x="261" y="60"/>
                  </a:lnTo>
                  <a:lnTo>
                    <a:pt x="252" y="51"/>
                  </a:lnTo>
                  <a:lnTo>
                    <a:pt x="244" y="51"/>
                  </a:lnTo>
                  <a:lnTo>
                    <a:pt x="241" y="60"/>
                  </a:lnTo>
                  <a:lnTo>
                    <a:pt x="241" y="69"/>
                  </a:lnTo>
                  <a:lnTo>
                    <a:pt x="255" y="78"/>
                  </a:lnTo>
                  <a:lnTo>
                    <a:pt x="264" y="81"/>
                  </a:lnTo>
                  <a:lnTo>
                    <a:pt x="255" y="88"/>
                  </a:lnTo>
                  <a:lnTo>
                    <a:pt x="244" y="88"/>
                  </a:lnTo>
                  <a:lnTo>
                    <a:pt x="235" y="88"/>
                  </a:lnTo>
                  <a:lnTo>
                    <a:pt x="235" y="103"/>
                  </a:lnTo>
                  <a:lnTo>
                    <a:pt x="244" y="106"/>
                  </a:lnTo>
                  <a:lnTo>
                    <a:pt x="252" y="109"/>
                  </a:lnTo>
                  <a:lnTo>
                    <a:pt x="244" y="115"/>
                  </a:lnTo>
                  <a:lnTo>
                    <a:pt x="235" y="112"/>
                  </a:lnTo>
                  <a:lnTo>
                    <a:pt x="226" y="109"/>
                  </a:lnTo>
                  <a:lnTo>
                    <a:pt x="218" y="106"/>
                  </a:lnTo>
                  <a:lnTo>
                    <a:pt x="212" y="115"/>
                  </a:lnTo>
                  <a:lnTo>
                    <a:pt x="218" y="124"/>
                  </a:lnTo>
                  <a:lnTo>
                    <a:pt x="229" y="127"/>
                  </a:lnTo>
                  <a:lnTo>
                    <a:pt x="238" y="130"/>
                  </a:lnTo>
                  <a:lnTo>
                    <a:pt x="229" y="124"/>
                  </a:lnTo>
                  <a:lnTo>
                    <a:pt x="221" y="121"/>
                  </a:lnTo>
                  <a:lnTo>
                    <a:pt x="209" y="115"/>
                  </a:lnTo>
                  <a:lnTo>
                    <a:pt x="198" y="106"/>
                  </a:lnTo>
                  <a:lnTo>
                    <a:pt x="192" y="97"/>
                  </a:lnTo>
                  <a:lnTo>
                    <a:pt x="183" y="91"/>
                  </a:lnTo>
                  <a:lnTo>
                    <a:pt x="180" y="81"/>
                  </a:lnTo>
                  <a:lnTo>
                    <a:pt x="178" y="72"/>
                  </a:lnTo>
                  <a:lnTo>
                    <a:pt x="169" y="60"/>
                  </a:lnTo>
                  <a:lnTo>
                    <a:pt x="160" y="60"/>
                  </a:lnTo>
                  <a:lnTo>
                    <a:pt x="152" y="66"/>
                  </a:lnTo>
                  <a:lnTo>
                    <a:pt x="149" y="75"/>
                  </a:lnTo>
                  <a:lnTo>
                    <a:pt x="146" y="84"/>
                  </a:lnTo>
                  <a:lnTo>
                    <a:pt x="143" y="94"/>
                  </a:lnTo>
                  <a:lnTo>
                    <a:pt x="140" y="103"/>
                  </a:lnTo>
                  <a:lnTo>
                    <a:pt x="129" y="103"/>
                  </a:lnTo>
                  <a:lnTo>
                    <a:pt x="117" y="94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0" y="60"/>
                  </a:lnTo>
                  <a:lnTo>
                    <a:pt x="89" y="60"/>
                  </a:lnTo>
                  <a:lnTo>
                    <a:pt x="80" y="66"/>
                  </a:lnTo>
                  <a:lnTo>
                    <a:pt x="77" y="75"/>
                  </a:lnTo>
                  <a:lnTo>
                    <a:pt x="71" y="84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51" y="127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0" y="127"/>
                  </a:lnTo>
                  <a:lnTo>
                    <a:pt x="51" y="121"/>
                  </a:lnTo>
                  <a:lnTo>
                    <a:pt x="43" y="118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4" y="115"/>
                  </a:lnTo>
                  <a:lnTo>
                    <a:pt x="11" y="124"/>
                  </a:lnTo>
                  <a:lnTo>
                    <a:pt x="8" y="133"/>
                  </a:lnTo>
                  <a:lnTo>
                    <a:pt x="2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4" y="169"/>
                  </a:lnTo>
                  <a:lnTo>
                    <a:pt x="22" y="172"/>
                  </a:lnTo>
                  <a:lnTo>
                    <a:pt x="31" y="172"/>
                  </a:lnTo>
                  <a:lnTo>
                    <a:pt x="40" y="176"/>
                  </a:lnTo>
                  <a:lnTo>
                    <a:pt x="51" y="185"/>
                  </a:lnTo>
                  <a:lnTo>
                    <a:pt x="60" y="191"/>
                  </a:lnTo>
                  <a:lnTo>
                    <a:pt x="68" y="197"/>
                  </a:lnTo>
                  <a:lnTo>
                    <a:pt x="80" y="200"/>
                  </a:lnTo>
                  <a:lnTo>
                    <a:pt x="89" y="203"/>
                  </a:lnTo>
                  <a:lnTo>
                    <a:pt x="100" y="203"/>
                  </a:lnTo>
                  <a:lnTo>
                    <a:pt x="109" y="203"/>
                  </a:lnTo>
                  <a:lnTo>
                    <a:pt x="120" y="197"/>
                  </a:lnTo>
                  <a:lnTo>
                    <a:pt x="129" y="194"/>
                  </a:lnTo>
                  <a:lnTo>
                    <a:pt x="135" y="185"/>
                  </a:lnTo>
                  <a:lnTo>
                    <a:pt x="143" y="179"/>
                  </a:lnTo>
                  <a:lnTo>
                    <a:pt x="149" y="169"/>
                  </a:lnTo>
                  <a:lnTo>
                    <a:pt x="157" y="163"/>
                  </a:lnTo>
                  <a:lnTo>
                    <a:pt x="166" y="163"/>
                  </a:lnTo>
                  <a:lnTo>
                    <a:pt x="175" y="166"/>
                  </a:lnTo>
                  <a:lnTo>
                    <a:pt x="183" y="166"/>
                  </a:lnTo>
                  <a:lnTo>
                    <a:pt x="192" y="157"/>
                  </a:lnTo>
                  <a:lnTo>
                    <a:pt x="198" y="148"/>
                  </a:lnTo>
                  <a:lnTo>
                    <a:pt x="201" y="139"/>
                  </a:lnTo>
                  <a:lnTo>
                    <a:pt x="203" y="130"/>
                  </a:lnTo>
                  <a:lnTo>
                    <a:pt x="212" y="130"/>
                  </a:lnTo>
                  <a:lnTo>
                    <a:pt x="224" y="136"/>
                  </a:lnTo>
                  <a:lnTo>
                    <a:pt x="232" y="139"/>
                  </a:lnTo>
                  <a:lnTo>
                    <a:pt x="241" y="142"/>
                  </a:lnTo>
                  <a:lnTo>
                    <a:pt x="232" y="142"/>
                  </a:lnTo>
                  <a:lnTo>
                    <a:pt x="224" y="142"/>
                  </a:lnTo>
                  <a:lnTo>
                    <a:pt x="215" y="142"/>
                  </a:lnTo>
                  <a:lnTo>
                    <a:pt x="206" y="142"/>
                  </a:lnTo>
                  <a:lnTo>
                    <a:pt x="203" y="151"/>
                  </a:lnTo>
                  <a:lnTo>
                    <a:pt x="201" y="160"/>
                  </a:lnTo>
                  <a:lnTo>
                    <a:pt x="201" y="169"/>
                  </a:lnTo>
                  <a:lnTo>
                    <a:pt x="209" y="176"/>
                  </a:lnTo>
                  <a:lnTo>
                    <a:pt x="218" y="179"/>
                  </a:lnTo>
                  <a:lnTo>
                    <a:pt x="226" y="188"/>
                  </a:lnTo>
                  <a:lnTo>
                    <a:pt x="235" y="194"/>
                  </a:lnTo>
                  <a:lnTo>
                    <a:pt x="238" y="203"/>
                  </a:lnTo>
                  <a:lnTo>
                    <a:pt x="226" y="206"/>
                  </a:lnTo>
                  <a:lnTo>
                    <a:pt x="224" y="215"/>
                  </a:lnTo>
                  <a:lnTo>
                    <a:pt x="224" y="224"/>
                  </a:lnTo>
                  <a:lnTo>
                    <a:pt x="221" y="233"/>
                  </a:lnTo>
                  <a:lnTo>
                    <a:pt x="209" y="233"/>
                  </a:lnTo>
                  <a:lnTo>
                    <a:pt x="203" y="245"/>
                  </a:lnTo>
                  <a:lnTo>
                    <a:pt x="198" y="257"/>
                  </a:lnTo>
                  <a:lnTo>
                    <a:pt x="195" y="267"/>
                  </a:lnTo>
                  <a:lnTo>
                    <a:pt x="186" y="267"/>
                  </a:lnTo>
                  <a:lnTo>
                    <a:pt x="183" y="257"/>
                  </a:lnTo>
                  <a:lnTo>
                    <a:pt x="178" y="245"/>
                  </a:lnTo>
                  <a:lnTo>
                    <a:pt x="175" y="233"/>
                  </a:lnTo>
                  <a:lnTo>
                    <a:pt x="166" y="224"/>
                  </a:lnTo>
                  <a:lnTo>
                    <a:pt x="157" y="221"/>
                  </a:lnTo>
                  <a:lnTo>
                    <a:pt x="149" y="218"/>
                  </a:lnTo>
                  <a:lnTo>
                    <a:pt x="137" y="224"/>
                  </a:lnTo>
                  <a:lnTo>
                    <a:pt x="140" y="236"/>
                  </a:lnTo>
                  <a:lnTo>
                    <a:pt x="143" y="245"/>
                  </a:lnTo>
                  <a:lnTo>
                    <a:pt x="143" y="254"/>
                  </a:lnTo>
                  <a:lnTo>
                    <a:pt x="135" y="260"/>
                  </a:lnTo>
                  <a:lnTo>
                    <a:pt x="126" y="260"/>
                  </a:lnTo>
                  <a:lnTo>
                    <a:pt x="114" y="257"/>
                  </a:lnTo>
                  <a:lnTo>
                    <a:pt x="106" y="257"/>
                  </a:lnTo>
                  <a:lnTo>
                    <a:pt x="97" y="257"/>
                  </a:lnTo>
                  <a:lnTo>
                    <a:pt x="89" y="257"/>
                  </a:lnTo>
                  <a:lnTo>
                    <a:pt x="91" y="267"/>
                  </a:lnTo>
                  <a:lnTo>
                    <a:pt x="100" y="276"/>
                  </a:lnTo>
                  <a:lnTo>
                    <a:pt x="100" y="285"/>
                  </a:lnTo>
                  <a:lnTo>
                    <a:pt x="97" y="294"/>
                  </a:lnTo>
                  <a:lnTo>
                    <a:pt x="97" y="303"/>
                  </a:lnTo>
                  <a:lnTo>
                    <a:pt x="109" y="312"/>
                  </a:lnTo>
                  <a:lnTo>
                    <a:pt x="117" y="318"/>
                  </a:lnTo>
                  <a:lnTo>
                    <a:pt x="109" y="318"/>
                  </a:lnTo>
                  <a:lnTo>
                    <a:pt x="100" y="309"/>
                  </a:lnTo>
                  <a:lnTo>
                    <a:pt x="89" y="300"/>
                  </a:lnTo>
                  <a:lnTo>
                    <a:pt x="80" y="297"/>
                  </a:lnTo>
                  <a:lnTo>
                    <a:pt x="71" y="297"/>
                  </a:lnTo>
                  <a:lnTo>
                    <a:pt x="63" y="300"/>
                  </a:lnTo>
                  <a:lnTo>
                    <a:pt x="54" y="306"/>
                  </a:lnTo>
                  <a:lnTo>
                    <a:pt x="43" y="306"/>
                  </a:lnTo>
                  <a:lnTo>
                    <a:pt x="34" y="306"/>
                  </a:lnTo>
                  <a:lnTo>
                    <a:pt x="22" y="309"/>
                  </a:lnTo>
                  <a:lnTo>
                    <a:pt x="11" y="303"/>
                  </a:lnTo>
                  <a:lnTo>
                    <a:pt x="22" y="309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43200" y="27082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2"/>
                  </a:moveTo>
                  <a:lnTo>
                    <a:pt x="8" y="19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34" y="22"/>
                  </a:lnTo>
                  <a:lnTo>
                    <a:pt x="40" y="13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76680" y="294012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5" y="0"/>
                  </a:moveTo>
                  <a:lnTo>
                    <a:pt x="20" y="13"/>
                  </a:lnTo>
                  <a:lnTo>
                    <a:pt x="11" y="16"/>
                  </a:lnTo>
                  <a:lnTo>
                    <a:pt x="8" y="24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4" y="30"/>
                  </a:lnTo>
                  <a:lnTo>
                    <a:pt x="40" y="21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25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10160" y="2549520"/>
              <a:ext cx="339840" cy="509760"/>
            </a:xfrm>
            <a:custGeom>
              <a:avLst/>
              <a:gdLst/>
              <a:ahLst/>
              <a:rect l="l" t="t" r="r" b="b"/>
              <a:pathLst>
                <a:path w="214" h="321">
                  <a:moveTo>
                    <a:pt x="23" y="200"/>
                  </a:moveTo>
                  <a:lnTo>
                    <a:pt x="34" y="182"/>
                  </a:lnTo>
                  <a:lnTo>
                    <a:pt x="23" y="200"/>
                  </a:lnTo>
                  <a:lnTo>
                    <a:pt x="23" y="211"/>
                  </a:lnTo>
                  <a:lnTo>
                    <a:pt x="20" y="220"/>
                  </a:lnTo>
                  <a:lnTo>
                    <a:pt x="17" y="228"/>
                  </a:lnTo>
                  <a:lnTo>
                    <a:pt x="8" y="234"/>
                  </a:lnTo>
                  <a:lnTo>
                    <a:pt x="2" y="24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8" y="268"/>
                  </a:lnTo>
                  <a:lnTo>
                    <a:pt x="17" y="268"/>
                  </a:lnTo>
                  <a:lnTo>
                    <a:pt x="25" y="271"/>
                  </a:lnTo>
                  <a:lnTo>
                    <a:pt x="28" y="280"/>
                  </a:lnTo>
                  <a:lnTo>
                    <a:pt x="37" y="291"/>
                  </a:lnTo>
                  <a:lnTo>
                    <a:pt x="28" y="294"/>
                  </a:lnTo>
                  <a:lnTo>
                    <a:pt x="20" y="285"/>
                  </a:lnTo>
                  <a:lnTo>
                    <a:pt x="31" y="294"/>
                  </a:lnTo>
                  <a:lnTo>
                    <a:pt x="40" y="300"/>
                  </a:lnTo>
                  <a:lnTo>
                    <a:pt x="48" y="311"/>
                  </a:lnTo>
                  <a:lnTo>
                    <a:pt x="57" y="314"/>
                  </a:lnTo>
                  <a:lnTo>
                    <a:pt x="66" y="320"/>
                  </a:lnTo>
                  <a:lnTo>
                    <a:pt x="66" y="311"/>
                  </a:lnTo>
                  <a:lnTo>
                    <a:pt x="74" y="311"/>
                  </a:lnTo>
                  <a:lnTo>
                    <a:pt x="83" y="320"/>
                  </a:lnTo>
                  <a:lnTo>
                    <a:pt x="83" y="308"/>
                  </a:lnTo>
                  <a:lnTo>
                    <a:pt x="92" y="305"/>
                  </a:lnTo>
                  <a:lnTo>
                    <a:pt x="97" y="297"/>
                  </a:lnTo>
                  <a:lnTo>
                    <a:pt x="89" y="288"/>
                  </a:lnTo>
                  <a:lnTo>
                    <a:pt x="83" y="280"/>
                  </a:lnTo>
                  <a:lnTo>
                    <a:pt x="77" y="271"/>
                  </a:lnTo>
                  <a:lnTo>
                    <a:pt x="71" y="262"/>
                  </a:lnTo>
                  <a:lnTo>
                    <a:pt x="69" y="254"/>
                  </a:lnTo>
                  <a:lnTo>
                    <a:pt x="69" y="242"/>
                  </a:lnTo>
                  <a:lnTo>
                    <a:pt x="69" y="234"/>
                  </a:lnTo>
                  <a:lnTo>
                    <a:pt x="69" y="225"/>
                  </a:lnTo>
                  <a:lnTo>
                    <a:pt x="69" y="217"/>
                  </a:lnTo>
                  <a:lnTo>
                    <a:pt x="69" y="208"/>
                  </a:lnTo>
                  <a:lnTo>
                    <a:pt x="69" y="200"/>
                  </a:lnTo>
                  <a:lnTo>
                    <a:pt x="69" y="191"/>
                  </a:lnTo>
                  <a:lnTo>
                    <a:pt x="69" y="182"/>
                  </a:lnTo>
                  <a:lnTo>
                    <a:pt x="77" y="174"/>
                  </a:lnTo>
                  <a:lnTo>
                    <a:pt x="86" y="168"/>
                  </a:lnTo>
                  <a:lnTo>
                    <a:pt x="92" y="160"/>
                  </a:lnTo>
                  <a:lnTo>
                    <a:pt x="97" y="151"/>
                  </a:lnTo>
                  <a:lnTo>
                    <a:pt x="103" y="142"/>
                  </a:lnTo>
                  <a:lnTo>
                    <a:pt x="103" y="134"/>
                  </a:lnTo>
                  <a:lnTo>
                    <a:pt x="103" y="125"/>
                  </a:lnTo>
                  <a:lnTo>
                    <a:pt x="112" y="122"/>
                  </a:lnTo>
                  <a:lnTo>
                    <a:pt x="120" y="117"/>
                  </a:lnTo>
                  <a:lnTo>
                    <a:pt x="123" y="105"/>
                  </a:lnTo>
                  <a:lnTo>
                    <a:pt x="132" y="100"/>
                  </a:lnTo>
                  <a:lnTo>
                    <a:pt x="135" y="91"/>
                  </a:lnTo>
                  <a:lnTo>
                    <a:pt x="143" y="82"/>
                  </a:lnTo>
                  <a:lnTo>
                    <a:pt x="152" y="77"/>
                  </a:lnTo>
                  <a:lnTo>
                    <a:pt x="158" y="68"/>
                  </a:lnTo>
                  <a:lnTo>
                    <a:pt x="166" y="65"/>
                  </a:lnTo>
                  <a:lnTo>
                    <a:pt x="175" y="60"/>
                  </a:lnTo>
                  <a:lnTo>
                    <a:pt x="184" y="57"/>
                  </a:lnTo>
                  <a:lnTo>
                    <a:pt x="189" y="48"/>
                  </a:lnTo>
                  <a:lnTo>
                    <a:pt x="198" y="42"/>
                  </a:lnTo>
                  <a:lnTo>
                    <a:pt x="207" y="37"/>
                  </a:lnTo>
                  <a:lnTo>
                    <a:pt x="210" y="28"/>
                  </a:lnTo>
                  <a:lnTo>
                    <a:pt x="213" y="20"/>
                  </a:lnTo>
                  <a:lnTo>
                    <a:pt x="213" y="11"/>
                  </a:lnTo>
                  <a:lnTo>
                    <a:pt x="210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5" y="8"/>
                  </a:lnTo>
                  <a:lnTo>
                    <a:pt x="175" y="17"/>
                  </a:lnTo>
                  <a:lnTo>
                    <a:pt x="166" y="20"/>
                  </a:lnTo>
                  <a:lnTo>
                    <a:pt x="158" y="25"/>
                  </a:lnTo>
                  <a:lnTo>
                    <a:pt x="149" y="34"/>
                  </a:lnTo>
                  <a:lnTo>
                    <a:pt x="141" y="40"/>
                  </a:lnTo>
                  <a:lnTo>
                    <a:pt x="132" y="42"/>
                  </a:lnTo>
                  <a:lnTo>
                    <a:pt x="123" y="42"/>
                  </a:lnTo>
                  <a:lnTo>
                    <a:pt x="123" y="54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7" y="68"/>
                  </a:lnTo>
                  <a:lnTo>
                    <a:pt x="89" y="77"/>
                  </a:lnTo>
                  <a:lnTo>
                    <a:pt x="83" y="85"/>
                  </a:lnTo>
                  <a:lnTo>
                    <a:pt x="80" y="94"/>
                  </a:lnTo>
                  <a:lnTo>
                    <a:pt x="71" y="100"/>
                  </a:lnTo>
                  <a:lnTo>
                    <a:pt x="66" y="108"/>
                  </a:lnTo>
                  <a:lnTo>
                    <a:pt x="63" y="117"/>
                  </a:lnTo>
                  <a:lnTo>
                    <a:pt x="63" y="125"/>
                  </a:lnTo>
                  <a:lnTo>
                    <a:pt x="57" y="134"/>
                  </a:lnTo>
                  <a:lnTo>
                    <a:pt x="51" y="142"/>
                  </a:lnTo>
                  <a:lnTo>
                    <a:pt x="46" y="151"/>
                  </a:lnTo>
                  <a:lnTo>
                    <a:pt x="40" y="162"/>
                  </a:lnTo>
                  <a:lnTo>
                    <a:pt x="37" y="171"/>
                  </a:lnTo>
                  <a:lnTo>
                    <a:pt x="46" y="177"/>
                  </a:lnTo>
                  <a:lnTo>
                    <a:pt x="54" y="180"/>
                  </a:lnTo>
                  <a:lnTo>
                    <a:pt x="57" y="188"/>
                  </a:lnTo>
                  <a:lnTo>
                    <a:pt x="48" y="185"/>
                  </a:lnTo>
                  <a:lnTo>
                    <a:pt x="40" y="185"/>
                  </a:lnTo>
                  <a:lnTo>
                    <a:pt x="31" y="188"/>
                  </a:lnTo>
                  <a:lnTo>
                    <a:pt x="23" y="200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23" y="237"/>
                  </a:lnTo>
                  <a:lnTo>
                    <a:pt x="14" y="242"/>
                  </a:lnTo>
                  <a:lnTo>
                    <a:pt x="8" y="251"/>
                  </a:lnTo>
                  <a:lnTo>
                    <a:pt x="0" y="260"/>
                  </a:lnTo>
                  <a:lnTo>
                    <a:pt x="23" y="2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71720" y="444168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49" y="47"/>
                  </a:moveTo>
                  <a:lnTo>
                    <a:pt x="44" y="58"/>
                  </a:lnTo>
                  <a:lnTo>
                    <a:pt x="35" y="58"/>
                  </a:lnTo>
                  <a:lnTo>
                    <a:pt x="30" y="66"/>
                  </a:lnTo>
                  <a:lnTo>
                    <a:pt x="30" y="75"/>
                  </a:lnTo>
                  <a:lnTo>
                    <a:pt x="30" y="83"/>
                  </a:lnTo>
                  <a:lnTo>
                    <a:pt x="30" y="91"/>
                  </a:lnTo>
                  <a:lnTo>
                    <a:pt x="22" y="94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8" y="139"/>
                  </a:lnTo>
                  <a:lnTo>
                    <a:pt x="16" y="139"/>
                  </a:lnTo>
                  <a:lnTo>
                    <a:pt x="27" y="147"/>
                  </a:lnTo>
                  <a:lnTo>
                    <a:pt x="33" y="156"/>
                  </a:lnTo>
                  <a:lnTo>
                    <a:pt x="41" y="156"/>
                  </a:lnTo>
                  <a:lnTo>
                    <a:pt x="46" y="147"/>
                  </a:lnTo>
                  <a:lnTo>
                    <a:pt x="52" y="139"/>
                  </a:lnTo>
                  <a:lnTo>
                    <a:pt x="55" y="130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71" y="108"/>
                  </a:lnTo>
                  <a:lnTo>
                    <a:pt x="80" y="108"/>
                  </a:lnTo>
                  <a:lnTo>
                    <a:pt x="82" y="100"/>
                  </a:lnTo>
                  <a:lnTo>
                    <a:pt x="82" y="91"/>
                  </a:lnTo>
                  <a:lnTo>
                    <a:pt x="82" y="83"/>
                  </a:lnTo>
                  <a:lnTo>
                    <a:pt x="82" y="75"/>
                  </a:lnTo>
                  <a:lnTo>
                    <a:pt x="82" y="66"/>
                  </a:lnTo>
                  <a:lnTo>
                    <a:pt x="85" y="58"/>
                  </a:lnTo>
                  <a:lnTo>
                    <a:pt x="93" y="52"/>
                  </a:lnTo>
                  <a:lnTo>
                    <a:pt x="102" y="47"/>
                  </a:lnTo>
                  <a:lnTo>
                    <a:pt x="107" y="39"/>
                  </a:lnTo>
                  <a:lnTo>
                    <a:pt x="115" y="36"/>
                  </a:lnTo>
                  <a:lnTo>
                    <a:pt x="121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38" y="5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8" y="11"/>
                  </a:lnTo>
                  <a:lnTo>
                    <a:pt x="82" y="19"/>
                  </a:lnTo>
                  <a:lnTo>
                    <a:pt x="80" y="27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69" y="61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49" y="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90800" y="524844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1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6" y="21"/>
                  </a:lnTo>
                  <a:lnTo>
                    <a:pt x="23" y="27"/>
                  </a:lnTo>
                  <a:lnTo>
                    <a:pt x="18" y="18"/>
                  </a:lnTo>
                  <a:lnTo>
                    <a:pt x="13" y="9"/>
                  </a:lnTo>
                  <a:lnTo>
                    <a:pt x="6" y="21"/>
                  </a:lnTo>
                  <a:lnTo>
                    <a:pt x="9" y="6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957400" y="5361120"/>
              <a:ext cx="27000" cy="72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6" y="0"/>
                  </a:moveTo>
                  <a:lnTo>
                    <a:pt x="5" y="19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0" y="28"/>
                  </a:lnTo>
                  <a:lnTo>
                    <a:pt x="16" y="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52480" y="4357800"/>
              <a:ext cx="88920" cy="73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0"/>
                  </a:moveTo>
                  <a:lnTo>
                    <a:pt x="20" y="19"/>
                  </a:lnTo>
                  <a:lnTo>
                    <a:pt x="20" y="28"/>
                  </a:lnTo>
                  <a:lnTo>
                    <a:pt x="28" y="33"/>
                  </a:lnTo>
                  <a:lnTo>
                    <a:pt x="28" y="42"/>
                  </a:lnTo>
                  <a:lnTo>
                    <a:pt x="37" y="45"/>
                  </a:lnTo>
                  <a:lnTo>
                    <a:pt x="46" y="45"/>
                  </a:lnTo>
                  <a:lnTo>
                    <a:pt x="49" y="36"/>
                  </a:lnTo>
                  <a:lnTo>
                    <a:pt x="55" y="28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26" y="16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1" name="" descr=""/>
            <p:cNvPicPr/>
            <p:nvPr/>
          </p:nvPicPr>
          <p:blipFill>
            <a:blip r:embed="rId1"/>
            <a:stretch/>
          </p:blipFill>
          <p:spPr>
            <a:xfrm>
              <a:off x="228600" y="6137280"/>
              <a:ext cx="611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993600" y="6272280"/>
              <a:ext cx="47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HO European Centre for Environment and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72040" y="743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0"/>
                  </a:moveTo>
                  <a:lnTo>
                    <a:pt x="8" y="8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5" y="37"/>
                  </a:lnTo>
                  <a:lnTo>
                    <a:pt x="11" y="46"/>
                  </a:lnTo>
                  <a:lnTo>
                    <a:pt x="19" y="49"/>
                  </a:lnTo>
                  <a:lnTo>
                    <a:pt x="31" y="52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7" y="55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31" y="14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97360" y="4836960"/>
              <a:ext cx="788760" cy="408240"/>
            </a:xfrm>
            <a:custGeom>
              <a:avLst/>
              <a:gdLst/>
              <a:ahLst/>
              <a:rect l="l" t="t" r="r" b="b"/>
              <a:pathLst>
                <a:path w="497" h="257">
                  <a:moveTo>
                    <a:pt x="0" y="193"/>
                  </a:moveTo>
                  <a:lnTo>
                    <a:pt x="24" y="189"/>
                  </a:lnTo>
                  <a:lnTo>
                    <a:pt x="32" y="182"/>
                  </a:lnTo>
                  <a:lnTo>
                    <a:pt x="40" y="174"/>
                  </a:lnTo>
                  <a:lnTo>
                    <a:pt x="46" y="164"/>
                  </a:lnTo>
                  <a:lnTo>
                    <a:pt x="45" y="155"/>
                  </a:lnTo>
                  <a:lnTo>
                    <a:pt x="52" y="149"/>
                  </a:lnTo>
                  <a:lnTo>
                    <a:pt x="60" y="140"/>
                  </a:lnTo>
                  <a:lnTo>
                    <a:pt x="66" y="131"/>
                  </a:lnTo>
                  <a:lnTo>
                    <a:pt x="69" y="123"/>
                  </a:lnTo>
                  <a:lnTo>
                    <a:pt x="74" y="114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7" y="95"/>
                  </a:lnTo>
                  <a:lnTo>
                    <a:pt x="104" y="88"/>
                  </a:lnTo>
                  <a:lnTo>
                    <a:pt x="109" y="78"/>
                  </a:lnTo>
                  <a:lnTo>
                    <a:pt x="116" y="70"/>
                  </a:lnTo>
                  <a:lnTo>
                    <a:pt x="118" y="60"/>
                  </a:lnTo>
                  <a:lnTo>
                    <a:pt x="128" y="53"/>
                  </a:lnTo>
                  <a:lnTo>
                    <a:pt x="131" y="44"/>
                  </a:lnTo>
                  <a:lnTo>
                    <a:pt x="137" y="37"/>
                  </a:lnTo>
                  <a:lnTo>
                    <a:pt x="144" y="30"/>
                  </a:lnTo>
                  <a:lnTo>
                    <a:pt x="153" y="22"/>
                  </a:lnTo>
                  <a:lnTo>
                    <a:pt x="159" y="15"/>
                  </a:lnTo>
                  <a:lnTo>
                    <a:pt x="168" y="10"/>
                  </a:lnTo>
                  <a:lnTo>
                    <a:pt x="175" y="6"/>
                  </a:lnTo>
                  <a:lnTo>
                    <a:pt x="187" y="6"/>
                  </a:lnTo>
                  <a:lnTo>
                    <a:pt x="193" y="0"/>
                  </a:lnTo>
                  <a:lnTo>
                    <a:pt x="202" y="7"/>
                  </a:lnTo>
                  <a:lnTo>
                    <a:pt x="215" y="15"/>
                  </a:lnTo>
                  <a:lnTo>
                    <a:pt x="207" y="14"/>
                  </a:lnTo>
                  <a:lnTo>
                    <a:pt x="205" y="22"/>
                  </a:lnTo>
                  <a:lnTo>
                    <a:pt x="205" y="31"/>
                  </a:lnTo>
                  <a:lnTo>
                    <a:pt x="215" y="34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40" y="33"/>
                  </a:lnTo>
                  <a:lnTo>
                    <a:pt x="243" y="40"/>
                  </a:lnTo>
                  <a:lnTo>
                    <a:pt x="236" y="45"/>
                  </a:lnTo>
                  <a:lnTo>
                    <a:pt x="228" y="49"/>
                  </a:lnTo>
                  <a:lnTo>
                    <a:pt x="220" y="55"/>
                  </a:lnTo>
                  <a:lnTo>
                    <a:pt x="213" y="62"/>
                  </a:lnTo>
                  <a:lnTo>
                    <a:pt x="222" y="64"/>
                  </a:lnTo>
                  <a:lnTo>
                    <a:pt x="226" y="71"/>
                  </a:lnTo>
                  <a:lnTo>
                    <a:pt x="229" y="78"/>
                  </a:lnTo>
                  <a:lnTo>
                    <a:pt x="232" y="84"/>
                  </a:lnTo>
                  <a:lnTo>
                    <a:pt x="232" y="94"/>
                  </a:lnTo>
                  <a:lnTo>
                    <a:pt x="230" y="103"/>
                  </a:lnTo>
                  <a:lnTo>
                    <a:pt x="239" y="163"/>
                  </a:lnTo>
                  <a:lnTo>
                    <a:pt x="190" y="125"/>
                  </a:lnTo>
                  <a:lnTo>
                    <a:pt x="236" y="116"/>
                  </a:lnTo>
                  <a:lnTo>
                    <a:pt x="246" y="110"/>
                  </a:lnTo>
                  <a:lnTo>
                    <a:pt x="251" y="105"/>
                  </a:lnTo>
                  <a:lnTo>
                    <a:pt x="259" y="94"/>
                  </a:lnTo>
                  <a:lnTo>
                    <a:pt x="270" y="93"/>
                  </a:lnTo>
                  <a:lnTo>
                    <a:pt x="277" y="90"/>
                  </a:lnTo>
                  <a:lnTo>
                    <a:pt x="288" y="86"/>
                  </a:lnTo>
                  <a:lnTo>
                    <a:pt x="295" y="83"/>
                  </a:lnTo>
                  <a:lnTo>
                    <a:pt x="303" y="74"/>
                  </a:lnTo>
                  <a:lnTo>
                    <a:pt x="313" y="75"/>
                  </a:lnTo>
                  <a:lnTo>
                    <a:pt x="320" y="80"/>
                  </a:lnTo>
                  <a:lnTo>
                    <a:pt x="329" y="76"/>
                  </a:lnTo>
                  <a:lnTo>
                    <a:pt x="338" y="74"/>
                  </a:lnTo>
                  <a:lnTo>
                    <a:pt x="345" y="78"/>
                  </a:lnTo>
                  <a:lnTo>
                    <a:pt x="351" y="86"/>
                  </a:lnTo>
                  <a:lnTo>
                    <a:pt x="357" y="92"/>
                  </a:lnTo>
                  <a:lnTo>
                    <a:pt x="365" y="90"/>
                  </a:lnTo>
                  <a:lnTo>
                    <a:pt x="379" y="94"/>
                  </a:lnTo>
                  <a:lnTo>
                    <a:pt x="385" y="99"/>
                  </a:lnTo>
                  <a:lnTo>
                    <a:pt x="394" y="102"/>
                  </a:lnTo>
                  <a:lnTo>
                    <a:pt x="403" y="107"/>
                  </a:lnTo>
                  <a:lnTo>
                    <a:pt x="405" y="115"/>
                  </a:lnTo>
                  <a:lnTo>
                    <a:pt x="413" y="121"/>
                  </a:lnTo>
                  <a:lnTo>
                    <a:pt x="423" y="125"/>
                  </a:lnTo>
                  <a:lnTo>
                    <a:pt x="431" y="128"/>
                  </a:lnTo>
                  <a:lnTo>
                    <a:pt x="440" y="132"/>
                  </a:lnTo>
                  <a:lnTo>
                    <a:pt x="455" y="137"/>
                  </a:lnTo>
                  <a:lnTo>
                    <a:pt x="468" y="141"/>
                  </a:lnTo>
                  <a:lnTo>
                    <a:pt x="473" y="148"/>
                  </a:lnTo>
                  <a:lnTo>
                    <a:pt x="480" y="154"/>
                  </a:lnTo>
                  <a:lnTo>
                    <a:pt x="485" y="161"/>
                  </a:lnTo>
                  <a:lnTo>
                    <a:pt x="488" y="172"/>
                  </a:lnTo>
                  <a:lnTo>
                    <a:pt x="492" y="178"/>
                  </a:lnTo>
                  <a:lnTo>
                    <a:pt x="493" y="187"/>
                  </a:lnTo>
                  <a:lnTo>
                    <a:pt x="494" y="195"/>
                  </a:lnTo>
                  <a:lnTo>
                    <a:pt x="496" y="201"/>
                  </a:lnTo>
                  <a:lnTo>
                    <a:pt x="491" y="213"/>
                  </a:lnTo>
                  <a:lnTo>
                    <a:pt x="480" y="217"/>
                  </a:lnTo>
                  <a:lnTo>
                    <a:pt x="474" y="222"/>
                  </a:lnTo>
                  <a:lnTo>
                    <a:pt x="466" y="228"/>
                  </a:lnTo>
                  <a:lnTo>
                    <a:pt x="458" y="234"/>
                  </a:lnTo>
                  <a:lnTo>
                    <a:pt x="448" y="238"/>
                  </a:lnTo>
                  <a:lnTo>
                    <a:pt x="439" y="240"/>
                  </a:lnTo>
                  <a:lnTo>
                    <a:pt x="430" y="244"/>
                  </a:lnTo>
                  <a:lnTo>
                    <a:pt x="422" y="248"/>
                  </a:lnTo>
                  <a:lnTo>
                    <a:pt x="414" y="240"/>
                  </a:lnTo>
                  <a:lnTo>
                    <a:pt x="405" y="242"/>
                  </a:lnTo>
                  <a:lnTo>
                    <a:pt x="395" y="241"/>
                  </a:lnTo>
                  <a:lnTo>
                    <a:pt x="387" y="244"/>
                  </a:lnTo>
                  <a:lnTo>
                    <a:pt x="380" y="248"/>
                  </a:lnTo>
                  <a:lnTo>
                    <a:pt x="372" y="250"/>
                  </a:lnTo>
                  <a:lnTo>
                    <a:pt x="363" y="252"/>
                  </a:lnTo>
                  <a:lnTo>
                    <a:pt x="357" y="256"/>
                  </a:lnTo>
                  <a:lnTo>
                    <a:pt x="350" y="247"/>
                  </a:lnTo>
                  <a:lnTo>
                    <a:pt x="349" y="240"/>
                  </a:lnTo>
                  <a:lnTo>
                    <a:pt x="340" y="243"/>
                  </a:lnTo>
                  <a:lnTo>
                    <a:pt x="333" y="246"/>
                  </a:lnTo>
                  <a:lnTo>
                    <a:pt x="324" y="248"/>
                  </a:lnTo>
                  <a:lnTo>
                    <a:pt x="315" y="247"/>
                  </a:lnTo>
                  <a:lnTo>
                    <a:pt x="315" y="240"/>
                  </a:lnTo>
                  <a:lnTo>
                    <a:pt x="313" y="233"/>
                  </a:lnTo>
                  <a:lnTo>
                    <a:pt x="310" y="225"/>
                  </a:lnTo>
                  <a:lnTo>
                    <a:pt x="297" y="227"/>
                  </a:lnTo>
                  <a:lnTo>
                    <a:pt x="288" y="227"/>
                  </a:lnTo>
                  <a:lnTo>
                    <a:pt x="281" y="221"/>
                  </a:lnTo>
                  <a:lnTo>
                    <a:pt x="277" y="215"/>
                  </a:lnTo>
                  <a:lnTo>
                    <a:pt x="267" y="213"/>
                  </a:lnTo>
                  <a:lnTo>
                    <a:pt x="226" y="177"/>
                  </a:lnTo>
                  <a:lnTo>
                    <a:pt x="245" y="217"/>
                  </a:lnTo>
                  <a:lnTo>
                    <a:pt x="236" y="217"/>
                  </a:lnTo>
                  <a:lnTo>
                    <a:pt x="227" y="213"/>
                  </a:lnTo>
                  <a:lnTo>
                    <a:pt x="219" y="211"/>
                  </a:lnTo>
                  <a:lnTo>
                    <a:pt x="209" y="209"/>
                  </a:lnTo>
                  <a:lnTo>
                    <a:pt x="200" y="210"/>
                  </a:lnTo>
                  <a:lnTo>
                    <a:pt x="191" y="215"/>
                  </a:lnTo>
                  <a:lnTo>
                    <a:pt x="184" y="218"/>
                  </a:lnTo>
                  <a:lnTo>
                    <a:pt x="176" y="219"/>
                  </a:lnTo>
                  <a:lnTo>
                    <a:pt x="166" y="223"/>
                  </a:lnTo>
                  <a:lnTo>
                    <a:pt x="158" y="230"/>
                  </a:lnTo>
                  <a:lnTo>
                    <a:pt x="150" y="234"/>
                  </a:lnTo>
                  <a:lnTo>
                    <a:pt x="139" y="242"/>
                  </a:lnTo>
                  <a:lnTo>
                    <a:pt x="133" y="247"/>
                  </a:lnTo>
                  <a:lnTo>
                    <a:pt x="122" y="248"/>
                  </a:lnTo>
                  <a:lnTo>
                    <a:pt x="111" y="253"/>
                  </a:lnTo>
                  <a:lnTo>
                    <a:pt x="102" y="252"/>
                  </a:lnTo>
                  <a:lnTo>
                    <a:pt x="91" y="247"/>
                  </a:lnTo>
                  <a:lnTo>
                    <a:pt x="82" y="245"/>
                  </a:lnTo>
                  <a:lnTo>
                    <a:pt x="74" y="244"/>
                  </a:lnTo>
                  <a:lnTo>
                    <a:pt x="63" y="244"/>
                  </a:lnTo>
                  <a:lnTo>
                    <a:pt x="49" y="244"/>
                  </a:lnTo>
                  <a:lnTo>
                    <a:pt x="43" y="238"/>
                  </a:lnTo>
                  <a:lnTo>
                    <a:pt x="36" y="232"/>
                  </a:lnTo>
                  <a:lnTo>
                    <a:pt x="36" y="221"/>
                  </a:lnTo>
                  <a:lnTo>
                    <a:pt x="32" y="217"/>
                  </a:lnTo>
                  <a:lnTo>
                    <a:pt x="26" y="209"/>
                  </a:lnTo>
                  <a:lnTo>
                    <a:pt x="22" y="204"/>
                  </a:lnTo>
                  <a:lnTo>
                    <a:pt x="18" y="197"/>
                  </a:lnTo>
                  <a:lnTo>
                    <a:pt x="0" y="193"/>
                  </a:lnTo>
                  <a:lnTo>
                    <a:pt x="14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762120" y="3087720"/>
            <a:ext cx="790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247680" y="647640"/>
          <a:ext cx="8667720" cy="621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680" y="647640"/>
                    <a:ext cx="866772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M1" descr=""/>
          <p:cNvPicPr/>
          <p:nvPr/>
        </p:nvPicPr>
        <p:blipFill>
          <a:blip r:embed="rId1"/>
          <a:stretch/>
        </p:blipFill>
        <p:spPr>
          <a:xfrm>
            <a:off x="1371600" y="1255680"/>
            <a:ext cx="6477120" cy="4559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1160" y="609480"/>
            <a:ext cx="825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rban Particulate Matter – TEM image of a filte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4080" y="5867280"/>
            <a:ext cx="80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Source:  BeruBe et al, in Particulate Matter, ed. Maynard &amp; Howard, BIOS Sc Publ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d8a"/>
            </a:gs>
            <a:gs pos="50000">
              <a:srgbClr val="0f219b"/>
            </a:gs>
            <a:gs pos="100000">
              <a:srgbClr val="0d1d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28600" y="557280"/>
            <a:ext cx="8120160" cy="6118200"/>
            <a:chOff x="228600" y="557280"/>
            <a:chExt cx="8120160" cy="6118200"/>
          </a:xfrm>
        </p:grpSpPr>
        <p:sp>
          <p:nvSpPr>
            <p:cNvPr id="551" name=""/>
            <p:cNvSpPr/>
            <p:nvPr/>
          </p:nvSpPr>
          <p:spPr>
            <a:xfrm>
              <a:off x="2662200" y="20638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2" y="77"/>
                  </a:moveTo>
                  <a:lnTo>
                    <a:pt x="2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2" y="125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5" y="174"/>
                  </a:lnTo>
                  <a:lnTo>
                    <a:pt x="31" y="182"/>
                  </a:lnTo>
                  <a:lnTo>
                    <a:pt x="40" y="182"/>
                  </a:lnTo>
                  <a:lnTo>
                    <a:pt x="48" y="182"/>
                  </a:lnTo>
                  <a:lnTo>
                    <a:pt x="60" y="191"/>
                  </a:lnTo>
                  <a:lnTo>
                    <a:pt x="71" y="196"/>
                  </a:lnTo>
                  <a:lnTo>
                    <a:pt x="71" y="205"/>
                  </a:lnTo>
                  <a:lnTo>
                    <a:pt x="74" y="214"/>
                  </a:lnTo>
                  <a:lnTo>
                    <a:pt x="83" y="214"/>
                  </a:lnTo>
                  <a:lnTo>
                    <a:pt x="91" y="214"/>
                  </a:lnTo>
                  <a:lnTo>
                    <a:pt x="100" y="214"/>
                  </a:lnTo>
                  <a:lnTo>
                    <a:pt x="109" y="214"/>
                  </a:lnTo>
                  <a:lnTo>
                    <a:pt x="117" y="214"/>
                  </a:lnTo>
                  <a:lnTo>
                    <a:pt x="126" y="214"/>
                  </a:lnTo>
                  <a:lnTo>
                    <a:pt x="137" y="208"/>
                  </a:lnTo>
                  <a:lnTo>
                    <a:pt x="149" y="202"/>
                  </a:lnTo>
                  <a:lnTo>
                    <a:pt x="149" y="194"/>
                  </a:lnTo>
                  <a:lnTo>
                    <a:pt x="146" y="185"/>
                  </a:lnTo>
                  <a:lnTo>
                    <a:pt x="146" y="176"/>
                  </a:lnTo>
                  <a:lnTo>
                    <a:pt x="155" y="168"/>
                  </a:lnTo>
                  <a:lnTo>
                    <a:pt x="158" y="159"/>
                  </a:lnTo>
                  <a:lnTo>
                    <a:pt x="158" y="151"/>
                  </a:lnTo>
                  <a:lnTo>
                    <a:pt x="155" y="142"/>
                  </a:lnTo>
                  <a:lnTo>
                    <a:pt x="155" y="134"/>
                  </a:lnTo>
                  <a:lnTo>
                    <a:pt x="146" y="134"/>
                  </a:lnTo>
                  <a:lnTo>
                    <a:pt x="137" y="134"/>
                  </a:lnTo>
                  <a:lnTo>
                    <a:pt x="135" y="125"/>
                  </a:lnTo>
                  <a:lnTo>
                    <a:pt x="129" y="116"/>
                  </a:lnTo>
                  <a:lnTo>
                    <a:pt x="120" y="114"/>
                  </a:lnTo>
                  <a:lnTo>
                    <a:pt x="114" y="105"/>
                  </a:lnTo>
                  <a:lnTo>
                    <a:pt x="114" y="97"/>
                  </a:lnTo>
                  <a:lnTo>
                    <a:pt x="106" y="94"/>
                  </a:lnTo>
                  <a:lnTo>
                    <a:pt x="97" y="94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89" y="71"/>
                  </a:lnTo>
                  <a:lnTo>
                    <a:pt x="80" y="68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83" y="45"/>
                  </a:lnTo>
                  <a:lnTo>
                    <a:pt x="94" y="45"/>
                  </a:lnTo>
                  <a:lnTo>
                    <a:pt x="103" y="39"/>
                  </a:lnTo>
                  <a:lnTo>
                    <a:pt x="106" y="31"/>
                  </a:lnTo>
                  <a:lnTo>
                    <a:pt x="103" y="22"/>
                  </a:lnTo>
                  <a:lnTo>
                    <a:pt x="94" y="22"/>
                  </a:lnTo>
                  <a:lnTo>
                    <a:pt x="86" y="14"/>
                  </a:lnTo>
                  <a:lnTo>
                    <a:pt x="77" y="11"/>
                  </a:lnTo>
                  <a:lnTo>
                    <a:pt x="68" y="11"/>
                  </a:lnTo>
                  <a:lnTo>
                    <a:pt x="54" y="0"/>
                  </a:lnTo>
                  <a:lnTo>
                    <a:pt x="51" y="8"/>
                  </a:lnTo>
                  <a:lnTo>
                    <a:pt x="60" y="14"/>
                  </a:lnTo>
                  <a:lnTo>
                    <a:pt x="63" y="22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7" y="45"/>
                  </a:lnTo>
                  <a:lnTo>
                    <a:pt x="45" y="45"/>
                  </a:lnTo>
                  <a:lnTo>
                    <a:pt x="40" y="37"/>
                  </a:lnTo>
                  <a:lnTo>
                    <a:pt x="34" y="28"/>
                  </a:lnTo>
                  <a:lnTo>
                    <a:pt x="31" y="37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5" y="62"/>
                  </a:lnTo>
                  <a:lnTo>
                    <a:pt x="17" y="68"/>
                  </a:lnTo>
                  <a:lnTo>
                    <a:pt x="2" y="77"/>
                  </a:lnTo>
                  <a:lnTo>
                    <a:pt x="2" y="7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85760" y="557280"/>
              <a:ext cx="6975720" cy="5226120"/>
            </a:xfrm>
            <a:custGeom>
              <a:avLst/>
              <a:gdLst/>
              <a:ahLst/>
              <a:rect l="l" t="t" r="r" b="b"/>
              <a:pathLst>
                <a:path w="4394" h="3292">
                  <a:moveTo>
                    <a:pt x="4183" y="665"/>
                  </a:moveTo>
                  <a:lnTo>
                    <a:pt x="4174" y="685"/>
                  </a:lnTo>
                  <a:lnTo>
                    <a:pt x="4165" y="680"/>
                  </a:lnTo>
                  <a:lnTo>
                    <a:pt x="4154" y="671"/>
                  </a:lnTo>
                  <a:lnTo>
                    <a:pt x="4145" y="665"/>
                  </a:lnTo>
                  <a:lnTo>
                    <a:pt x="4136" y="657"/>
                  </a:lnTo>
                  <a:lnTo>
                    <a:pt x="4128" y="648"/>
                  </a:lnTo>
                  <a:lnTo>
                    <a:pt x="4122" y="639"/>
                  </a:lnTo>
                  <a:lnTo>
                    <a:pt x="4110" y="631"/>
                  </a:lnTo>
                  <a:lnTo>
                    <a:pt x="4104" y="622"/>
                  </a:lnTo>
                  <a:lnTo>
                    <a:pt x="4098" y="613"/>
                  </a:lnTo>
                  <a:lnTo>
                    <a:pt x="4093" y="605"/>
                  </a:lnTo>
                  <a:lnTo>
                    <a:pt x="4084" y="596"/>
                  </a:lnTo>
                  <a:lnTo>
                    <a:pt x="4075" y="593"/>
                  </a:lnTo>
                  <a:lnTo>
                    <a:pt x="4066" y="590"/>
                  </a:lnTo>
                  <a:lnTo>
                    <a:pt x="4058" y="587"/>
                  </a:lnTo>
                  <a:lnTo>
                    <a:pt x="4049" y="585"/>
                  </a:lnTo>
                  <a:lnTo>
                    <a:pt x="4037" y="585"/>
                  </a:lnTo>
                  <a:lnTo>
                    <a:pt x="4029" y="582"/>
                  </a:lnTo>
                  <a:lnTo>
                    <a:pt x="4023" y="573"/>
                  </a:lnTo>
                  <a:lnTo>
                    <a:pt x="4020" y="564"/>
                  </a:lnTo>
                  <a:lnTo>
                    <a:pt x="4011" y="556"/>
                  </a:lnTo>
                  <a:lnTo>
                    <a:pt x="4002" y="550"/>
                  </a:lnTo>
                  <a:lnTo>
                    <a:pt x="4002" y="541"/>
                  </a:lnTo>
                  <a:lnTo>
                    <a:pt x="3994" y="538"/>
                  </a:lnTo>
                  <a:lnTo>
                    <a:pt x="3982" y="538"/>
                  </a:lnTo>
                  <a:lnTo>
                    <a:pt x="3973" y="538"/>
                  </a:lnTo>
                  <a:lnTo>
                    <a:pt x="3965" y="538"/>
                  </a:lnTo>
                  <a:lnTo>
                    <a:pt x="3953" y="538"/>
                  </a:lnTo>
                  <a:lnTo>
                    <a:pt x="3947" y="530"/>
                  </a:lnTo>
                  <a:lnTo>
                    <a:pt x="3947" y="521"/>
                  </a:lnTo>
                  <a:lnTo>
                    <a:pt x="3938" y="512"/>
                  </a:lnTo>
                  <a:lnTo>
                    <a:pt x="3930" y="504"/>
                  </a:lnTo>
                  <a:lnTo>
                    <a:pt x="3930" y="495"/>
                  </a:lnTo>
                  <a:lnTo>
                    <a:pt x="3927" y="484"/>
                  </a:lnTo>
                  <a:lnTo>
                    <a:pt x="3918" y="481"/>
                  </a:lnTo>
                  <a:lnTo>
                    <a:pt x="3909" y="481"/>
                  </a:lnTo>
                  <a:lnTo>
                    <a:pt x="3901" y="481"/>
                  </a:lnTo>
                  <a:lnTo>
                    <a:pt x="3892" y="481"/>
                  </a:lnTo>
                  <a:lnTo>
                    <a:pt x="3883" y="481"/>
                  </a:lnTo>
                  <a:lnTo>
                    <a:pt x="3871" y="481"/>
                  </a:lnTo>
                  <a:lnTo>
                    <a:pt x="3863" y="481"/>
                  </a:lnTo>
                  <a:lnTo>
                    <a:pt x="3851" y="478"/>
                  </a:lnTo>
                  <a:lnTo>
                    <a:pt x="3842" y="472"/>
                  </a:lnTo>
                  <a:lnTo>
                    <a:pt x="3842" y="463"/>
                  </a:lnTo>
                  <a:lnTo>
                    <a:pt x="3842" y="455"/>
                  </a:lnTo>
                  <a:lnTo>
                    <a:pt x="3834" y="446"/>
                  </a:lnTo>
                  <a:lnTo>
                    <a:pt x="3825" y="446"/>
                  </a:lnTo>
                  <a:lnTo>
                    <a:pt x="3819" y="455"/>
                  </a:lnTo>
                  <a:lnTo>
                    <a:pt x="3810" y="458"/>
                  </a:lnTo>
                  <a:lnTo>
                    <a:pt x="3802" y="461"/>
                  </a:lnTo>
                  <a:lnTo>
                    <a:pt x="3793" y="461"/>
                  </a:lnTo>
                  <a:lnTo>
                    <a:pt x="3784" y="461"/>
                  </a:lnTo>
                  <a:lnTo>
                    <a:pt x="3775" y="461"/>
                  </a:lnTo>
                  <a:lnTo>
                    <a:pt x="3764" y="455"/>
                  </a:lnTo>
                  <a:lnTo>
                    <a:pt x="3755" y="452"/>
                  </a:lnTo>
                  <a:lnTo>
                    <a:pt x="3752" y="461"/>
                  </a:lnTo>
                  <a:lnTo>
                    <a:pt x="3755" y="469"/>
                  </a:lnTo>
                  <a:lnTo>
                    <a:pt x="3764" y="472"/>
                  </a:lnTo>
                  <a:lnTo>
                    <a:pt x="3755" y="475"/>
                  </a:lnTo>
                  <a:lnTo>
                    <a:pt x="3746" y="475"/>
                  </a:lnTo>
                  <a:lnTo>
                    <a:pt x="3737" y="478"/>
                  </a:lnTo>
                  <a:lnTo>
                    <a:pt x="3729" y="478"/>
                  </a:lnTo>
                  <a:lnTo>
                    <a:pt x="3720" y="478"/>
                  </a:lnTo>
                  <a:lnTo>
                    <a:pt x="3711" y="472"/>
                  </a:lnTo>
                  <a:lnTo>
                    <a:pt x="3703" y="463"/>
                  </a:lnTo>
                  <a:lnTo>
                    <a:pt x="3694" y="455"/>
                  </a:lnTo>
                  <a:lnTo>
                    <a:pt x="3685" y="452"/>
                  </a:lnTo>
                  <a:lnTo>
                    <a:pt x="3676" y="452"/>
                  </a:lnTo>
                  <a:lnTo>
                    <a:pt x="3668" y="449"/>
                  </a:lnTo>
                  <a:lnTo>
                    <a:pt x="3656" y="449"/>
                  </a:lnTo>
                  <a:lnTo>
                    <a:pt x="3647" y="449"/>
                  </a:lnTo>
                  <a:lnTo>
                    <a:pt x="3638" y="449"/>
                  </a:lnTo>
                  <a:lnTo>
                    <a:pt x="3636" y="440"/>
                  </a:lnTo>
                  <a:lnTo>
                    <a:pt x="3636" y="432"/>
                  </a:lnTo>
                  <a:lnTo>
                    <a:pt x="3630" y="423"/>
                  </a:lnTo>
                  <a:lnTo>
                    <a:pt x="3638" y="423"/>
                  </a:lnTo>
                  <a:lnTo>
                    <a:pt x="3636" y="414"/>
                  </a:lnTo>
                  <a:lnTo>
                    <a:pt x="3627" y="412"/>
                  </a:lnTo>
                  <a:lnTo>
                    <a:pt x="3618" y="409"/>
                  </a:lnTo>
                  <a:lnTo>
                    <a:pt x="3615" y="400"/>
                  </a:lnTo>
                  <a:lnTo>
                    <a:pt x="3609" y="391"/>
                  </a:lnTo>
                  <a:lnTo>
                    <a:pt x="3618" y="391"/>
                  </a:lnTo>
                  <a:lnTo>
                    <a:pt x="3627" y="391"/>
                  </a:lnTo>
                  <a:lnTo>
                    <a:pt x="3633" y="383"/>
                  </a:lnTo>
                  <a:lnTo>
                    <a:pt x="3624" y="377"/>
                  </a:lnTo>
                  <a:lnTo>
                    <a:pt x="3615" y="374"/>
                  </a:lnTo>
                  <a:lnTo>
                    <a:pt x="3606" y="363"/>
                  </a:lnTo>
                  <a:lnTo>
                    <a:pt x="3604" y="354"/>
                  </a:lnTo>
                  <a:lnTo>
                    <a:pt x="3598" y="345"/>
                  </a:lnTo>
                  <a:lnTo>
                    <a:pt x="3592" y="337"/>
                  </a:lnTo>
                  <a:lnTo>
                    <a:pt x="3583" y="322"/>
                  </a:lnTo>
                  <a:lnTo>
                    <a:pt x="3577" y="314"/>
                  </a:lnTo>
                  <a:lnTo>
                    <a:pt x="3586" y="305"/>
                  </a:lnTo>
                  <a:lnTo>
                    <a:pt x="3592" y="296"/>
                  </a:lnTo>
                  <a:lnTo>
                    <a:pt x="3595" y="288"/>
                  </a:lnTo>
                  <a:lnTo>
                    <a:pt x="3595" y="279"/>
                  </a:lnTo>
                  <a:lnTo>
                    <a:pt x="3586" y="276"/>
                  </a:lnTo>
                  <a:lnTo>
                    <a:pt x="3577" y="276"/>
                  </a:lnTo>
                  <a:lnTo>
                    <a:pt x="3569" y="276"/>
                  </a:lnTo>
                  <a:lnTo>
                    <a:pt x="3557" y="270"/>
                  </a:lnTo>
                  <a:lnTo>
                    <a:pt x="3548" y="259"/>
                  </a:lnTo>
                  <a:lnTo>
                    <a:pt x="3540" y="253"/>
                  </a:lnTo>
                  <a:lnTo>
                    <a:pt x="3531" y="250"/>
                  </a:lnTo>
                  <a:lnTo>
                    <a:pt x="3522" y="244"/>
                  </a:lnTo>
                  <a:lnTo>
                    <a:pt x="3510" y="236"/>
                  </a:lnTo>
                  <a:lnTo>
                    <a:pt x="3502" y="233"/>
                  </a:lnTo>
                  <a:lnTo>
                    <a:pt x="3493" y="227"/>
                  </a:lnTo>
                  <a:lnTo>
                    <a:pt x="3484" y="224"/>
                  </a:lnTo>
                  <a:lnTo>
                    <a:pt x="3475" y="219"/>
                  </a:lnTo>
                  <a:lnTo>
                    <a:pt x="3467" y="213"/>
                  </a:lnTo>
                  <a:lnTo>
                    <a:pt x="3458" y="207"/>
                  </a:lnTo>
                  <a:lnTo>
                    <a:pt x="3449" y="198"/>
                  </a:lnTo>
                  <a:lnTo>
                    <a:pt x="3441" y="193"/>
                  </a:lnTo>
                  <a:lnTo>
                    <a:pt x="3432" y="187"/>
                  </a:lnTo>
                  <a:lnTo>
                    <a:pt x="3423" y="184"/>
                  </a:lnTo>
                  <a:lnTo>
                    <a:pt x="3414" y="178"/>
                  </a:lnTo>
                  <a:lnTo>
                    <a:pt x="3406" y="172"/>
                  </a:lnTo>
                  <a:lnTo>
                    <a:pt x="3400" y="164"/>
                  </a:lnTo>
                  <a:lnTo>
                    <a:pt x="3397" y="155"/>
                  </a:lnTo>
                  <a:lnTo>
                    <a:pt x="3394" y="146"/>
                  </a:lnTo>
                  <a:lnTo>
                    <a:pt x="3388" y="138"/>
                  </a:lnTo>
                  <a:lnTo>
                    <a:pt x="3382" y="129"/>
                  </a:lnTo>
                  <a:lnTo>
                    <a:pt x="3388" y="121"/>
                  </a:lnTo>
                  <a:lnTo>
                    <a:pt x="3379" y="121"/>
                  </a:lnTo>
                  <a:lnTo>
                    <a:pt x="3371" y="121"/>
                  </a:lnTo>
                  <a:lnTo>
                    <a:pt x="3362" y="121"/>
                  </a:lnTo>
                  <a:lnTo>
                    <a:pt x="3359" y="129"/>
                  </a:lnTo>
                  <a:lnTo>
                    <a:pt x="3353" y="138"/>
                  </a:lnTo>
                  <a:lnTo>
                    <a:pt x="3347" y="146"/>
                  </a:lnTo>
                  <a:lnTo>
                    <a:pt x="3339" y="152"/>
                  </a:lnTo>
                  <a:lnTo>
                    <a:pt x="3327" y="158"/>
                  </a:lnTo>
                  <a:lnTo>
                    <a:pt x="3318" y="158"/>
                  </a:lnTo>
                  <a:lnTo>
                    <a:pt x="3310" y="167"/>
                  </a:lnTo>
                  <a:lnTo>
                    <a:pt x="3307" y="175"/>
                  </a:lnTo>
                  <a:lnTo>
                    <a:pt x="3307" y="184"/>
                  </a:lnTo>
                  <a:lnTo>
                    <a:pt x="3304" y="193"/>
                  </a:lnTo>
                  <a:lnTo>
                    <a:pt x="3295" y="195"/>
                  </a:lnTo>
                  <a:lnTo>
                    <a:pt x="3295" y="204"/>
                  </a:lnTo>
                  <a:lnTo>
                    <a:pt x="3298" y="213"/>
                  </a:lnTo>
                  <a:lnTo>
                    <a:pt x="3304" y="221"/>
                  </a:lnTo>
                  <a:lnTo>
                    <a:pt x="3310" y="230"/>
                  </a:lnTo>
                  <a:lnTo>
                    <a:pt x="3315" y="239"/>
                  </a:lnTo>
                  <a:lnTo>
                    <a:pt x="3318" y="250"/>
                  </a:lnTo>
                  <a:lnTo>
                    <a:pt x="3321" y="259"/>
                  </a:lnTo>
                  <a:lnTo>
                    <a:pt x="3321" y="247"/>
                  </a:lnTo>
                  <a:lnTo>
                    <a:pt x="3318" y="239"/>
                  </a:lnTo>
                  <a:lnTo>
                    <a:pt x="3315" y="230"/>
                  </a:lnTo>
                  <a:lnTo>
                    <a:pt x="3307" y="224"/>
                  </a:lnTo>
                  <a:lnTo>
                    <a:pt x="3298" y="216"/>
                  </a:lnTo>
                  <a:lnTo>
                    <a:pt x="3292" y="207"/>
                  </a:lnTo>
                  <a:lnTo>
                    <a:pt x="3292" y="198"/>
                  </a:lnTo>
                  <a:lnTo>
                    <a:pt x="3295" y="190"/>
                  </a:lnTo>
                  <a:lnTo>
                    <a:pt x="3292" y="181"/>
                  </a:lnTo>
                  <a:lnTo>
                    <a:pt x="3283" y="172"/>
                  </a:lnTo>
                  <a:lnTo>
                    <a:pt x="3275" y="170"/>
                  </a:lnTo>
                  <a:lnTo>
                    <a:pt x="3266" y="164"/>
                  </a:lnTo>
                  <a:lnTo>
                    <a:pt x="3257" y="161"/>
                  </a:lnTo>
                  <a:lnTo>
                    <a:pt x="3245" y="155"/>
                  </a:lnTo>
                  <a:lnTo>
                    <a:pt x="3237" y="155"/>
                  </a:lnTo>
                  <a:lnTo>
                    <a:pt x="3228" y="155"/>
                  </a:lnTo>
                  <a:lnTo>
                    <a:pt x="3219" y="155"/>
                  </a:lnTo>
                  <a:lnTo>
                    <a:pt x="3213" y="164"/>
                  </a:lnTo>
                  <a:lnTo>
                    <a:pt x="3208" y="172"/>
                  </a:lnTo>
                  <a:lnTo>
                    <a:pt x="3196" y="175"/>
                  </a:lnTo>
                  <a:lnTo>
                    <a:pt x="3184" y="175"/>
                  </a:lnTo>
                  <a:lnTo>
                    <a:pt x="3173" y="175"/>
                  </a:lnTo>
                  <a:lnTo>
                    <a:pt x="3167" y="167"/>
                  </a:lnTo>
                  <a:lnTo>
                    <a:pt x="3179" y="161"/>
                  </a:lnTo>
                  <a:lnTo>
                    <a:pt x="3187" y="161"/>
                  </a:lnTo>
                  <a:lnTo>
                    <a:pt x="3196" y="161"/>
                  </a:lnTo>
                  <a:lnTo>
                    <a:pt x="3205" y="155"/>
                  </a:lnTo>
                  <a:lnTo>
                    <a:pt x="3208" y="146"/>
                  </a:lnTo>
                  <a:lnTo>
                    <a:pt x="3208" y="138"/>
                  </a:lnTo>
                  <a:lnTo>
                    <a:pt x="3205" y="129"/>
                  </a:lnTo>
                  <a:lnTo>
                    <a:pt x="3199" y="121"/>
                  </a:lnTo>
                  <a:lnTo>
                    <a:pt x="3190" y="112"/>
                  </a:lnTo>
                  <a:lnTo>
                    <a:pt x="3184" y="103"/>
                  </a:lnTo>
                  <a:lnTo>
                    <a:pt x="3193" y="97"/>
                  </a:lnTo>
                  <a:lnTo>
                    <a:pt x="3202" y="92"/>
                  </a:lnTo>
                  <a:lnTo>
                    <a:pt x="3205" y="83"/>
                  </a:lnTo>
                  <a:lnTo>
                    <a:pt x="3208" y="74"/>
                  </a:lnTo>
                  <a:lnTo>
                    <a:pt x="3208" y="66"/>
                  </a:lnTo>
                  <a:lnTo>
                    <a:pt x="3202" y="57"/>
                  </a:lnTo>
                  <a:lnTo>
                    <a:pt x="3199" y="48"/>
                  </a:lnTo>
                  <a:lnTo>
                    <a:pt x="3199" y="40"/>
                  </a:lnTo>
                  <a:lnTo>
                    <a:pt x="3199" y="31"/>
                  </a:lnTo>
                  <a:lnTo>
                    <a:pt x="3196" y="23"/>
                  </a:lnTo>
                  <a:lnTo>
                    <a:pt x="3190" y="14"/>
                  </a:lnTo>
                  <a:lnTo>
                    <a:pt x="3184" y="5"/>
                  </a:lnTo>
                  <a:lnTo>
                    <a:pt x="3176" y="0"/>
                  </a:lnTo>
                  <a:lnTo>
                    <a:pt x="3167" y="2"/>
                  </a:lnTo>
                  <a:lnTo>
                    <a:pt x="3158" y="8"/>
                  </a:lnTo>
                  <a:lnTo>
                    <a:pt x="3149" y="14"/>
                  </a:lnTo>
                  <a:lnTo>
                    <a:pt x="3141" y="17"/>
                  </a:lnTo>
                  <a:lnTo>
                    <a:pt x="3132" y="23"/>
                  </a:lnTo>
                  <a:lnTo>
                    <a:pt x="3132" y="31"/>
                  </a:lnTo>
                  <a:lnTo>
                    <a:pt x="3123" y="25"/>
                  </a:lnTo>
                  <a:lnTo>
                    <a:pt x="3114" y="17"/>
                  </a:lnTo>
                  <a:lnTo>
                    <a:pt x="3106" y="14"/>
                  </a:lnTo>
                  <a:lnTo>
                    <a:pt x="3097" y="14"/>
                  </a:lnTo>
                  <a:lnTo>
                    <a:pt x="3088" y="14"/>
                  </a:lnTo>
                  <a:lnTo>
                    <a:pt x="3080" y="14"/>
                  </a:lnTo>
                  <a:lnTo>
                    <a:pt x="3071" y="14"/>
                  </a:lnTo>
                  <a:lnTo>
                    <a:pt x="3071" y="23"/>
                  </a:lnTo>
                  <a:lnTo>
                    <a:pt x="3071" y="31"/>
                  </a:lnTo>
                  <a:lnTo>
                    <a:pt x="3071" y="40"/>
                  </a:lnTo>
                  <a:lnTo>
                    <a:pt x="3068" y="48"/>
                  </a:lnTo>
                  <a:lnTo>
                    <a:pt x="3062" y="57"/>
                  </a:lnTo>
                  <a:lnTo>
                    <a:pt x="3059" y="66"/>
                  </a:lnTo>
                  <a:lnTo>
                    <a:pt x="3059" y="74"/>
                  </a:lnTo>
                  <a:lnTo>
                    <a:pt x="3059" y="83"/>
                  </a:lnTo>
                  <a:lnTo>
                    <a:pt x="3068" y="89"/>
                  </a:lnTo>
                  <a:lnTo>
                    <a:pt x="3077" y="92"/>
                  </a:lnTo>
                  <a:lnTo>
                    <a:pt x="3085" y="97"/>
                  </a:lnTo>
                  <a:lnTo>
                    <a:pt x="3097" y="103"/>
                  </a:lnTo>
                  <a:lnTo>
                    <a:pt x="3106" y="103"/>
                  </a:lnTo>
                  <a:lnTo>
                    <a:pt x="3114" y="103"/>
                  </a:lnTo>
                  <a:lnTo>
                    <a:pt x="3114" y="95"/>
                  </a:lnTo>
                  <a:lnTo>
                    <a:pt x="3123" y="95"/>
                  </a:lnTo>
                  <a:lnTo>
                    <a:pt x="3114" y="103"/>
                  </a:lnTo>
                  <a:lnTo>
                    <a:pt x="3106" y="103"/>
                  </a:lnTo>
                  <a:lnTo>
                    <a:pt x="3097" y="103"/>
                  </a:lnTo>
                  <a:lnTo>
                    <a:pt x="3088" y="109"/>
                  </a:lnTo>
                  <a:lnTo>
                    <a:pt x="3085" y="118"/>
                  </a:lnTo>
                  <a:lnTo>
                    <a:pt x="3085" y="126"/>
                  </a:lnTo>
                  <a:lnTo>
                    <a:pt x="3080" y="135"/>
                  </a:lnTo>
                  <a:lnTo>
                    <a:pt x="3088" y="138"/>
                  </a:lnTo>
                  <a:lnTo>
                    <a:pt x="3082" y="146"/>
                  </a:lnTo>
                  <a:lnTo>
                    <a:pt x="3080" y="155"/>
                  </a:lnTo>
                  <a:lnTo>
                    <a:pt x="3074" y="164"/>
                  </a:lnTo>
                  <a:lnTo>
                    <a:pt x="3074" y="172"/>
                  </a:lnTo>
                  <a:lnTo>
                    <a:pt x="3074" y="181"/>
                  </a:lnTo>
                  <a:lnTo>
                    <a:pt x="3074" y="190"/>
                  </a:lnTo>
                  <a:lnTo>
                    <a:pt x="3085" y="190"/>
                  </a:lnTo>
                  <a:lnTo>
                    <a:pt x="3094" y="190"/>
                  </a:lnTo>
                  <a:lnTo>
                    <a:pt x="3088" y="198"/>
                  </a:lnTo>
                  <a:lnTo>
                    <a:pt x="3080" y="204"/>
                  </a:lnTo>
                  <a:lnTo>
                    <a:pt x="3074" y="213"/>
                  </a:lnTo>
                  <a:lnTo>
                    <a:pt x="3071" y="221"/>
                  </a:lnTo>
                  <a:lnTo>
                    <a:pt x="3071" y="230"/>
                  </a:lnTo>
                  <a:lnTo>
                    <a:pt x="3071" y="239"/>
                  </a:lnTo>
                  <a:lnTo>
                    <a:pt x="3068" y="247"/>
                  </a:lnTo>
                  <a:lnTo>
                    <a:pt x="3062" y="256"/>
                  </a:lnTo>
                  <a:lnTo>
                    <a:pt x="3059" y="265"/>
                  </a:lnTo>
                  <a:lnTo>
                    <a:pt x="3059" y="273"/>
                  </a:lnTo>
                  <a:lnTo>
                    <a:pt x="3059" y="282"/>
                  </a:lnTo>
                  <a:lnTo>
                    <a:pt x="3059" y="291"/>
                  </a:lnTo>
                  <a:lnTo>
                    <a:pt x="3059" y="299"/>
                  </a:lnTo>
                  <a:lnTo>
                    <a:pt x="3059" y="311"/>
                  </a:lnTo>
                  <a:lnTo>
                    <a:pt x="3065" y="319"/>
                  </a:lnTo>
                  <a:lnTo>
                    <a:pt x="3074" y="325"/>
                  </a:lnTo>
                  <a:lnTo>
                    <a:pt x="3082" y="328"/>
                  </a:lnTo>
                  <a:lnTo>
                    <a:pt x="3082" y="337"/>
                  </a:lnTo>
                  <a:lnTo>
                    <a:pt x="3082" y="345"/>
                  </a:lnTo>
                  <a:lnTo>
                    <a:pt x="3085" y="354"/>
                  </a:lnTo>
                  <a:lnTo>
                    <a:pt x="3085" y="363"/>
                  </a:lnTo>
                  <a:lnTo>
                    <a:pt x="3088" y="371"/>
                  </a:lnTo>
                  <a:lnTo>
                    <a:pt x="3088" y="380"/>
                  </a:lnTo>
                  <a:lnTo>
                    <a:pt x="3091" y="389"/>
                  </a:lnTo>
                  <a:lnTo>
                    <a:pt x="3094" y="397"/>
                  </a:lnTo>
                  <a:lnTo>
                    <a:pt x="3097" y="406"/>
                  </a:lnTo>
                  <a:lnTo>
                    <a:pt x="3109" y="412"/>
                  </a:lnTo>
                  <a:lnTo>
                    <a:pt x="3117" y="412"/>
                  </a:lnTo>
                  <a:lnTo>
                    <a:pt x="3126" y="412"/>
                  </a:lnTo>
                  <a:lnTo>
                    <a:pt x="3135" y="412"/>
                  </a:lnTo>
                  <a:lnTo>
                    <a:pt x="3135" y="403"/>
                  </a:lnTo>
                  <a:lnTo>
                    <a:pt x="3138" y="394"/>
                  </a:lnTo>
                  <a:lnTo>
                    <a:pt x="3147" y="391"/>
                  </a:lnTo>
                  <a:lnTo>
                    <a:pt x="3155" y="391"/>
                  </a:lnTo>
                  <a:lnTo>
                    <a:pt x="3164" y="394"/>
                  </a:lnTo>
                  <a:lnTo>
                    <a:pt x="3167" y="403"/>
                  </a:lnTo>
                  <a:lnTo>
                    <a:pt x="3167" y="412"/>
                  </a:lnTo>
                  <a:lnTo>
                    <a:pt x="3164" y="420"/>
                  </a:lnTo>
                  <a:lnTo>
                    <a:pt x="3155" y="423"/>
                  </a:lnTo>
                  <a:lnTo>
                    <a:pt x="3152" y="432"/>
                  </a:lnTo>
                  <a:lnTo>
                    <a:pt x="3144" y="438"/>
                  </a:lnTo>
                  <a:lnTo>
                    <a:pt x="3138" y="429"/>
                  </a:lnTo>
                  <a:lnTo>
                    <a:pt x="3129" y="420"/>
                  </a:lnTo>
                  <a:lnTo>
                    <a:pt x="3120" y="420"/>
                  </a:lnTo>
                  <a:lnTo>
                    <a:pt x="3114" y="429"/>
                  </a:lnTo>
                  <a:lnTo>
                    <a:pt x="3114" y="438"/>
                  </a:lnTo>
                  <a:lnTo>
                    <a:pt x="3114" y="446"/>
                  </a:lnTo>
                  <a:lnTo>
                    <a:pt x="3123" y="452"/>
                  </a:lnTo>
                  <a:lnTo>
                    <a:pt x="3132" y="452"/>
                  </a:lnTo>
                  <a:lnTo>
                    <a:pt x="3141" y="452"/>
                  </a:lnTo>
                  <a:lnTo>
                    <a:pt x="3135" y="461"/>
                  </a:lnTo>
                  <a:lnTo>
                    <a:pt x="3138" y="469"/>
                  </a:lnTo>
                  <a:lnTo>
                    <a:pt x="3147" y="472"/>
                  </a:lnTo>
                  <a:lnTo>
                    <a:pt x="3147" y="463"/>
                  </a:lnTo>
                  <a:lnTo>
                    <a:pt x="3144" y="455"/>
                  </a:lnTo>
                  <a:lnTo>
                    <a:pt x="3144" y="466"/>
                  </a:lnTo>
                  <a:lnTo>
                    <a:pt x="3144" y="475"/>
                  </a:lnTo>
                  <a:lnTo>
                    <a:pt x="3144" y="484"/>
                  </a:lnTo>
                  <a:lnTo>
                    <a:pt x="3144" y="492"/>
                  </a:lnTo>
                  <a:lnTo>
                    <a:pt x="3144" y="501"/>
                  </a:lnTo>
                  <a:lnTo>
                    <a:pt x="3144" y="510"/>
                  </a:lnTo>
                  <a:lnTo>
                    <a:pt x="3152" y="518"/>
                  </a:lnTo>
                  <a:lnTo>
                    <a:pt x="3161" y="527"/>
                  </a:lnTo>
                  <a:lnTo>
                    <a:pt x="3167" y="538"/>
                  </a:lnTo>
                  <a:lnTo>
                    <a:pt x="3176" y="544"/>
                  </a:lnTo>
                  <a:lnTo>
                    <a:pt x="3184" y="550"/>
                  </a:lnTo>
                  <a:lnTo>
                    <a:pt x="3196" y="550"/>
                  </a:lnTo>
                  <a:lnTo>
                    <a:pt x="3205" y="550"/>
                  </a:lnTo>
                  <a:lnTo>
                    <a:pt x="3213" y="550"/>
                  </a:lnTo>
                  <a:lnTo>
                    <a:pt x="3205" y="550"/>
                  </a:lnTo>
                  <a:lnTo>
                    <a:pt x="3193" y="550"/>
                  </a:lnTo>
                  <a:lnTo>
                    <a:pt x="3184" y="553"/>
                  </a:lnTo>
                  <a:lnTo>
                    <a:pt x="3179" y="561"/>
                  </a:lnTo>
                  <a:lnTo>
                    <a:pt x="3176" y="570"/>
                  </a:lnTo>
                  <a:lnTo>
                    <a:pt x="3173" y="579"/>
                  </a:lnTo>
                  <a:lnTo>
                    <a:pt x="3164" y="582"/>
                  </a:lnTo>
                  <a:lnTo>
                    <a:pt x="3155" y="582"/>
                  </a:lnTo>
                  <a:lnTo>
                    <a:pt x="3147" y="582"/>
                  </a:lnTo>
                  <a:lnTo>
                    <a:pt x="3132" y="576"/>
                  </a:lnTo>
                  <a:lnTo>
                    <a:pt x="3120" y="576"/>
                  </a:lnTo>
                  <a:lnTo>
                    <a:pt x="3109" y="576"/>
                  </a:lnTo>
                  <a:lnTo>
                    <a:pt x="3103" y="585"/>
                  </a:lnTo>
                  <a:lnTo>
                    <a:pt x="3100" y="593"/>
                  </a:lnTo>
                  <a:lnTo>
                    <a:pt x="3100" y="602"/>
                  </a:lnTo>
                  <a:lnTo>
                    <a:pt x="3100" y="610"/>
                  </a:lnTo>
                  <a:lnTo>
                    <a:pt x="3100" y="619"/>
                  </a:lnTo>
                  <a:lnTo>
                    <a:pt x="3100" y="628"/>
                  </a:lnTo>
                  <a:lnTo>
                    <a:pt x="3103" y="636"/>
                  </a:lnTo>
                  <a:lnTo>
                    <a:pt x="3106" y="645"/>
                  </a:lnTo>
                  <a:lnTo>
                    <a:pt x="3112" y="654"/>
                  </a:lnTo>
                  <a:lnTo>
                    <a:pt x="3117" y="662"/>
                  </a:lnTo>
                  <a:lnTo>
                    <a:pt x="3120" y="671"/>
                  </a:lnTo>
                  <a:lnTo>
                    <a:pt x="3123" y="680"/>
                  </a:lnTo>
                  <a:lnTo>
                    <a:pt x="3123" y="688"/>
                  </a:lnTo>
                  <a:lnTo>
                    <a:pt x="3123" y="697"/>
                  </a:lnTo>
                  <a:lnTo>
                    <a:pt x="3123" y="706"/>
                  </a:lnTo>
                  <a:lnTo>
                    <a:pt x="3114" y="711"/>
                  </a:lnTo>
                  <a:lnTo>
                    <a:pt x="3106" y="720"/>
                  </a:lnTo>
                  <a:lnTo>
                    <a:pt x="3103" y="729"/>
                  </a:lnTo>
                  <a:lnTo>
                    <a:pt x="3103" y="737"/>
                  </a:lnTo>
                  <a:lnTo>
                    <a:pt x="3094" y="740"/>
                  </a:lnTo>
                  <a:lnTo>
                    <a:pt x="3085" y="743"/>
                  </a:lnTo>
                  <a:lnTo>
                    <a:pt x="3077" y="746"/>
                  </a:lnTo>
                  <a:lnTo>
                    <a:pt x="3068" y="746"/>
                  </a:lnTo>
                  <a:lnTo>
                    <a:pt x="3059" y="752"/>
                  </a:lnTo>
                  <a:lnTo>
                    <a:pt x="3050" y="760"/>
                  </a:lnTo>
                  <a:lnTo>
                    <a:pt x="3050" y="769"/>
                  </a:lnTo>
                  <a:lnTo>
                    <a:pt x="3050" y="778"/>
                  </a:lnTo>
                  <a:lnTo>
                    <a:pt x="3056" y="786"/>
                  </a:lnTo>
                  <a:lnTo>
                    <a:pt x="3065" y="789"/>
                  </a:lnTo>
                  <a:lnTo>
                    <a:pt x="3074" y="795"/>
                  </a:lnTo>
                  <a:lnTo>
                    <a:pt x="3074" y="804"/>
                  </a:lnTo>
                  <a:lnTo>
                    <a:pt x="3062" y="806"/>
                  </a:lnTo>
                  <a:lnTo>
                    <a:pt x="3050" y="806"/>
                  </a:lnTo>
                  <a:lnTo>
                    <a:pt x="3053" y="798"/>
                  </a:lnTo>
                  <a:lnTo>
                    <a:pt x="3045" y="792"/>
                  </a:lnTo>
                  <a:lnTo>
                    <a:pt x="3036" y="798"/>
                  </a:lnTo>
                  <a:lnTo>
                    <a:pt x="3036" y="809"/>
                  </a:lnTo>
                  <a:lnTo>
                    <a:pt x="3036" y="818"/>
                  </a:lnTo>
                  <a:lnTo>
                    <a:pt x="3033" y="827"/>
                  </a:lnTo>
                  <a:lnTo>
                    <a:pt x="3030" y="835"/>
                  </a:lnTo>
                  <a:lnTo>
                    <a:pt x="3024" y="844"/>
                  </a:lnTo>
                  <a:lnTo>
                    <a:pt x="3016" y="853"/>
                  </a:lnTo>
                  <a:lnTo>
                    <a:pt x="3013" y="861"/>
                  </a:lnTo>
                  <a:lnTo>
                    <a:pt x="3021" y="864"/>
                  </a:lnTo>
                  <a:lnTo>
                    <a:pt x="3030" y="864"/>
                  </a:lnTo>
                  <a:lnTo>
                    <a:pt x="3033" y="873"/>
                  </a:lnTo>
                  <a:lnTo>
                    <a:pt x="3033" y="881"/>
                  </a:lnTo>
                  <a:lnTo>
                    <a:pt x="3042" y="890"/>
                  </a:lnTo>
                  <a:lnTo>
                    <a:pt x="3050" y="893"/>
                  </a:lnTo>
                  <a:lnTo>
                    <a:pt x="3062" y="893"/>
                  </a:lnTo>
                  <a:lnTo>
                    <a:pt x="3071" y="887"/>
                  </a:lnTo>
                  <a:lnTo>
                    <a:pt x="3080" y="887"/>
                  </a:lnTo>
                  <a:lnTo>
                    <a:pt x="3088" y="887"/>
                  </a:lnTo>
                  <a:lnTo>
                    <a:pt x="3085" y="896"/>
                  </a:lnTo>
                  <a:lnTo>
                    <a:pt x="3082" y="904"/>
                  </a:lnTo>
                  <a:lnTo>
                    <a:pt x="3080" y="913"/>
                  </a:lnTo>
                  <a:lnTo>
                    <a:pt x="3088" y="919"/>
                  </a:lnTo>
                  <a:lnTo>
                    <a:pt x="3088" y="927"/>
                  </a:lnTo>
                  <a:lnTo>
                    <a:pt x="3080" y="933"/>
                  </a:lnTo>
                  <a:lnTo>
                    <a:pt x="3077" y="942"/>
                  </a:lnTo>
                  <a:lnTo>
                    <a:pt x="3077" y="950"/>
                  </a:lnTo>
                  <a:lnTo>
                    <a:pt x="3074" y="959"/>
                  </a:lnTo>
                  <a:lnTo>
                    <a:pt x="3074" y="968"/>
                  </a:lnTo>
                  <a:lnTo>
                    <a:pt x="3077" y="959"/>
                  </a:lnTo>
                  <a:lnTo>
                    <a:pt x="3065" y="942"/>
                  </a:lnTo>
                  <a:lnTo>
                    <a:pt x="3071" y="962"/>
                  </a:lnTo>
                  <a:lnTo>
                    <a:pt x="3062" y="962"/>
                  </a:lnTo>
                  <a:lnTo>
                    <a:pt x="3074" y="968"/>
                  </a:lnTo>
                  <a:lnTo>
                    <a:pt x="3074" y="976"/>
                  </a:lnTo>
                  <a:lnTo>
                    <a:pt x="3059" y="976"/>
                  </a:lnTo>
                  <a:lnTo>
                    <a:pt x="3050" y="979"/>
                  </a:lnTo>
                  <a:lnTo>
                    <a:pt x="3039" y="979"/>
                  </a:lnTo>
                  <a:lnTo>
                    <a:pt x="3039" y="988"/>
                  </a:lnTo>
                  <a:lnTo>
                    <a:pt x="3048" y="991"/>
                  </a:lnTo>
                  <a:lnTo>
                    <a:pt x="3056" y="991"/>
                  </a:lnTo>
                  <a:lnTo>
                    <a:pt x="3065" y="997"/>
                  </a:lnTo>
                  <a:lnTo>
                    <a:pt x="3074" y="1005"/>
                  </a:lnTo>
                  <a:lnTo>
                    <a:pt x="3077" y="1014"/>
                  </a:lnTo>
                  <a:lnTo>
                    <a:pt x="3082" y="1023"/>
                  </a:lnTo>
                  <a:lnTo>
                    <a:pt x="3088" y="1031"/>
                  </a:lnTo>
                  <a:lnTo>
                    <a:pt x="3080" y="1034"/>
                  </a:lnTo>
                  <a:lnTo>
                    <a:pt x="3071" y="1034"/>
                  </a:lnTo>
                  <a:lnTo>
                    <a:pt x="3062" y="1040"/>
                  </a:lnTo>
                  <a:lnTo>
                    <a:pt x="3050" y="1043"/>
                  </a:lnTo>
                  <a:lnTo>
                    <a:pt x="3039" y="1046"/>
                  </a:lnTo>
                  <a:lnTo>
                    <a:pt x="3030" y="1046"/>
                  </a:lnTo>
                  <a:lnTo>
                    <a:pt x="3018" y="1046"/>
                  </a:lnTo>
                  <a:lnTo>
                    <a:pt x="3010" y="1037"/>
                  </a:lnTo>
                  <a:lnTo>
                    <a:pt x="3007" y="1028"/>
                  </a:lnTo>
                  <a:lnTo>
                    <a:pt x="3010" y="1020"/>
                  </a:lnTo>
                  <a:lnTo>
                    <a:pt x="3013" y="1011"/>
                  </a:lnTo>
                  <a:lnTo>
                    <a:pt x="3004" y="1011"/>
                  </a:lnTo>
                  <a:lnTo>
                    <a:pt x="2992" y="1008"/>
                  </a:lnTo>
                  <a:lnTo>
                    <a:pt x="2983" y="1008"/>
                  </a:lnTo>
                  <a:lnTo>
                    <a:pt x="2978" y="1017"/>
                  </a:lnTo>
                  <a:lnTo>
                    <a:pt x="2978" y="1025"/>
                  </a:lnTo>
                  <a:lnTo>
                    <a:pt x="2983" y="1034"/>
                  </a:lnTo>
                  <a:lnTo>
                    <a:pt x="2989" y="1043"/>
                  </a:lnTo>
                  <a:lnTo>
                    <a:pt x="2992" y="1051"/>
                  </a:lnTo>
                  <a:lnTo>
                    <a:pt x="3001" y="1054"/>
                  </a:lnTo>
                  <a:lnTo>
                    <a:pt x="3010" y="1060"/>
                  </a:lnTo>
                  <a:lnTo>
                    <a:pt x="3018" y="1063"/>
                  </a:lnTo>
                  <a:lnTo>
                    <a:pt x="3027" y="1063"/>
                  </a:lnTo>
                  <a:lnTo>
                    <a:pt x="3036" y="1060"/>
                  </a:lnTo>
                  <a:lnTo>
                    <a:pt x="3027" y="1060"/>
                  </a:lnTo>
                  <a:lnTo>
                    <a:pt x="3018" y="1057"/>
                  </a:lnTo>
                  <a:lnTo>
                    <a:pt x="3010" y="1054"/>
                  </a:lnTo>
                  <a:lnTo>
                    <a:pt x="3004" y="1046"/>
                  </a:lnTo>
                  <a:lnTo>
                    <a:pt x="2995" y="1040"/>
                  </a:lnTo>
                  <a:lnTo>
                    <a:pt x="2992" y="1031"/>
                  </a:lnTo>
                  <a:lnTo>
                    <a:pt x="2983" y="1023"/>
                  </a:lnTo>
                  <a:lnTo>
                    <a:pt x="2978" y="1014"/>
                  </a:lnTo>
                  <a:lnTo>
                    <a:pt x="2969" y="1005"/>
                  </a:lnTo>
                  <a:lnTo>
                    <a:pt x="2966" y="1014"/>
                  </a:lnTo>
                  <a:lnTo>
                    <a:pt x="2954" y="1023"/>
                  </a:lnTo>
                  <a:lnTo>
                    <a:pt x="2946" y="1023"/>
                  </a:lnTo>
                  <a:lnTo>
                    <a:pt x="2943" y="1034"/>
                  </a:lnTo>
                  <a:lnTo>
                    <a:pt x="2943" y="1043"/>
                  </a:lnTo>
                  <a:lnTo>
                    <a:pt x="2951" y="1051"/>
                  </a:lnTo>
                  <a:lnTo>
                    <a:pt x="2963" y="1051"/>
                  </a:lnTo>
                  <a:lnTo>
                    <a:pt x="2975" y="1054"/>
                  </a:lnTo>
                  <a:lnTo>
                    <a:pt x="2963" y="1051"/>
                  </a:lnTo>
                  <a:lnTo>
                    <a:pt x="2951" y="1046"/>
                  </a:lnTo>
                  <a:lnTo>
                    <a:pt x="2943" y="1043"/>
                  </a:lnTo>
                  <a:lnTo>
                    <a:pt x="2934" y="1051"/>
                  </a:lnTo>
                  <a:lnTo>
                    <a:pt x="2928" y="1060"/>
                  </a:lnTo>
                  <a:lnTo>
                    <a:pt x="2919" y="1060"/>
                  </a:lnTo>
                  <a:lnTo>
                    <a:pt x="2919" y="1069"/>
                  </a:lnTo>
                  <a:lnTo>
                    <a:pt x="2931" y="1077"/>
                  </a:lnTo>
                  <a:lnTo>
                    <a:pt x="2943" y="1086"/>
                  </a:lnTo>
                  <a:lnTo>
                    <a:pt x="2951" y="1089"/>
                  </a:lnTo>
                  <a:lnTo>
                    <a:pt x="2960" y="1089"/>
                  </a:lnTo>
                  <a:lnTo>
                    <a:pt x="2969" y="1089"/>
                  </a:lnTo>
                  <a:lnTo>
                    <a:pt x="2972" y="1080"/>
                  </a:lnTo>
                  <a:lnTo>
                    <a:pt x="2975" y="1072"/>
                  </a:lnTo>
                  <a:lnTo>
                    <a:pt x="2975" y="1063"/>
                  </a:lnTo>
                  <a:lnTo>
                    <a:pt x="2978" y="1054"/>
                  </a:lnTo>
                  <a:lnTo>
                    <a:pt x="2981" y="1063"/>
                  </a:lnTo>
                  <a:lnTo>
                    <a:pt x="2981" y="1072"/>
                  </a:lnTo>
                  <a:lnTo>
                    <a:pt x="2975" y="1080"/>
                  </a:lnTo>
                  <a:lnTo>
                    <a:pt x="2969" y="1089"/>
                  </a:lnTo>
                  <a:lnTo>
                    <a:pt x="2957" y="1089"/>
                  </a:lnTo>
                  <a:lnTo>
                    <a:pt x="2949" y="1089"/>
                  </a:lnTo>
                  <a:lnTo>
                    <a:pt x="2940" y="1097"/>
                  </a:lnTo>
                  <a:lnTo>
                    <a:pt x="2937" y="1106"/>
                  </a:lnTo>
                  <a:lnTo>
                    <a:pt x="2934" y="1115"/>
                  </a:lnTo>
                  <a:lnTo>
                    <a:pt x="2934" y="1123"/>
                  </a:lnTo>
                  <a:lnTo>
                    <a:pt x="2925" y="1129"/>
                  </a:lnTo>
                  <a:lnTo>
                    <a:pt x="2917" y="1135"/>
                  </a:lnTo>
                  <a:lnTo>
                    <a:pt x="2908" y="1138"/>
                  </a:lnTo>
                  <a:lnTo>
                    <a:pt x="2899" y="1138"/>
                  </a:lnTo>
                  <a:lnTo>
                    <a:pt x="2893" y="1129"/>
                  </a:lnTo>
                  <a:lnTo>
                    <a:pt x="2884" y="1129"/>
                  </a:lnTo>
                  <a:lnTo>
                    <a:pt x="2876" y="1129"/>
                  </a:lnTo>
                  <a:lnTo>
                    <a:pt x="2867" y="1135"/>
                  </a:lnTo>
                  <a:lnTo>
                    <a:pt x="2864" y="1144"/>
                  </a:lnTo>
                  <a:lnTo>
                    <a:pt x="2861" y="1152"/>
                  </a:lnTo>
                  <a:lnTo>
                    <a:pt x="2861" y="1161"/>
                  </a:lnTo>
                  <a:lnTo>
                    <a:pt x="2858" y="1170"/>
                  </a:lnTo>
                  <a:lnTo>
                    <a:pt x="2852" y="1178"/>
                  </a:lnTo>
                  <a:lnTo>
                    <a:pt x="2844" y="1181"/>
                  </a:lnTo>
                  <a:lnTo>
                    <a:pt x="2835" y="1181"/>
                  </a:lnTo>
                  <a:lnTo>
                    <a:pt x="2826" y="1184"/>
                  </a:lnTo>
                  <a:lnTo>
                    <a:pt x="2818" y="1175"/>
                  </a:lnTo>
                  <a:lnTo>
                    <a:pt x="2809" y="1167"/>
                  </a:lnTo>
                  <a:lnTo>
                    <a:pt x="2806" y="1175"/>
                  </a:lnTo>
                  <a:lnTo>
                    <a:pt x="2806" y="1184"/>
                  </a:lnTo>
                  <a:lnTo>
                    <a:pt x="2806" y="1193"/>
                  </a:lnTo>
                  <a:lnTo>
                    <a:pt x="2806" y="1204"/>
                  </a:lnTo>
                  <a:lnTo>
                    <a:pt x="2806" y="1213"/>
                  </a:lnTo>
                  <a:lnTo>
                    <a:pt x="2815" y="1213"/>
                  </a:lnTo>
                  <a:lnTo>
                    <a:pt x="2823" y="1216"/>
                  </a:lnTo>
                  <a:lnTo>
                    <a:pt x="2826" y="1224"/>
                  </a:lnTo>
                  <a:lnTo>
                    <a:pt x="2826" y="1233"/>
                  </a:lnTo>
                  <a:lnTo>
                    <a:pt x="2826" y="1242"/>
                  </a:lnTo>
                  <a:lnTo>
                    <a:pt x="2823" y="1250"/>
                  </a:lnTo>
                  <a:lnTo>
                    <a:pt x="2815" y="1253"/>
                  </a:lnTo>
                  <a:lnTo>
                    <a:pt x="2809" y="1262"/>
                  </a:lnTo>
                  <a:lnTo>
                    <a:pt x="2809" y="1270"/>
                  </a:lnTo>
                  <a:lnTo>
                    <a:pt x="2809" y="1279"/>
                  </a:lnTo>
                  <a:lnTo>
                    <a:pt x="2809" y="1288"/>
                  </a:lnTo>
                  <a:lnTo>
                    <a:pt x="2809" y="1279"/>
                  </a:lnTo>
                  <a:lnTo>
                    <a:pt x="2806" y="1270"/>
                  </a:lnTo>
                  <a:lnTo>
                    <a:pt x="2806" y="1262"/>
                  </a:lnTo>
                  <a:lnTo>
                    <a:pt x="2800" y="1253"/>
                  </a:lnTo>
                  <a:lnTo>
                    <a:pt x="2797" y="1244"/>
                  </a:lnTo>
                  <a:lnTo>
                    <a:pt x="2794" y="1236"/>
                  </a:lnTo>
                  <a:lnTo>
                    <a:pt x="2794" y="1227"/>
                  </a:lnTo>
                  <a:lnTo>
                    <a:pt x="2794" y="1218"/>
                  </a:lnTo>
                  <a:lnTo>
                    <a:pt x="2800" y="1210"/>
                  </a:lnTo>
                  <a:lnTo>
                    <a:pt x="2803" y="1201"/>
                  </a:lnTo>
                  <a:lnTo>
                    <a:pt x="2800" y="1193"/>
                  </a:lnTo>
                  <a:lnTo>
                    <a:pt x="2791" y="1187"/>
                  </a:lnTo>
                  <a:lnTo>
                    <a:pt x="2788" y="1178"/>
                  </a:lnTo>
                  <a:lnTo>
                    <a:pt x="2788" y="1170"/>
                  </a:lnTo>
                  <a:lnTo>
                    <a:pt x="2788" y="1161"/>
                  </a:lnTo>
                  <a:lnTo>
                    <a:pt x="2788" y="1152"/>
                  </a:lnTo>
                  <a:lnTo>
                    <a:pt x="2786" y="1144"/>
                  </a:lnTo>
                  <a:lnTo>
                    <a:pt x="2786" y="1135"/>
                  </a:lnTo>
                  <a:lnTo>
                    <a:pt x="2780" y="1126"/>
                  </a:lnTo>
                  <a:lnTo>
                    <a:pt x="2768" y="1121"/>
                  </a:lnTo>
                  <a:lnTo>
                    <a:pt x="2759" y="1115"/>
                  </a:lnTo>
                  <a:lnTo>
                    <a:pt x="2748" y="1112"/>
                  </a:lnTo>
                  <a:lnTo>
                    <a:pt x="2736" y="1109"/>
                  </a:lnTo>
                  <a:lnTo>
                    <a:pt x="2724" y="1106"/>
                  </a:lnTo>
                  <a:lnTo>
                    <a:pt x="2716" y="1106"/>
                  </a:lnTo>
                  <a:lnTo>
                    <a:pt x="2710" y="1115"/>
                  </a:lnTo>
                  <a:lnTo>
                    <a:pt x="2704" y="1123"/>
                  </a:lnTo>
                  <a:lnTo>
                    <a:pt x="2698" y="1132"/>
                  </a:lnTo>
                  <a:lnTo>
                    <a:pt x="2692" y="1126"/>
                  </a:lnTo>
                  <a:lnTo>
                    <a:pt x="2695" y="1112"/>
                  </a:lnTo>
                  <a:lnTo>
                    <a:pt x="2695" y="1121"/>
                  </a:lnTo>
                  <a:lnTo>
                    <a:pt x="2692" y="1129"/>
                  </a:lnTo>
                  <a:lnTo>
                    <a:pt x="2692" y="1138"/>
                  </a:lnTo>
                  <a:lnTo>
                    <a:pt x="2687" y="1146"/>
                  </a:lnTo>
                  <a:lnTo>
                    <a:pt x="2687" y="1155"/>
                  </a:lnTo>
                  <a:lnTo>
                    <a:pt x="2687" y="1164"/>
                  </a:lnTo>
                  <a:lnTo>
                    <a:pt x="2678" y="1167"/>
                  </a:lnTo>
                  <a:lnTo>
                    <a:pt x="2669" y="1167"/>
                  </a:lnTo>
                  <a:lnTo>
                    <a:pt x="2666" y="1158"/>
                  </a:lnTo>
                  <a:lnTo>
                    <a:pt x="2666" y="1149"/>
                  </a:lnTo>
                  <a:lnTo>
                    <a:pt x="2657" y="1146"/>
                  </a:lnTo>
                  <a:lnTo>
                    <a:pt x="2649" y="1152"/>
                  </a:lnTo>
                  <a:lnTo>
                    <a:pt x="2646" y="1141"/>
                  </a:lnTo>
                  <a:lnTo>
                    <a:pt x="2634" y="1135"/>
                  </a:lnTo>
                  <a:lnTo>
                    <a:pt x="2625" y="1135"/>
                  </a:lnTo>
                  <a:lnTo>
                    <a:pt x="2617" y="1135"/>
                  </a:lnTo>
                  <a:lnTo>
                    <a:pt x="2614" y="1144"/>
                  </a:lnTo>
                  <a:lnTo>
                    <a:pt x="2614" y="1152"/>
                  </a:lnTo>
                  <a:lnTo>
                    <a:pt x="2614" y="1161"/>
                  </a:lnTo>
                  <a:lnTo>
                    <a:pt x="2617" y="1170"/>
                  </a:lnTo>
                  <a:lnTo>
                    <a:pt x="2617" y="1178"/>
                  </a:lnTo>
                  <a:lnTo>
                    <a:pt x="2620" y="1187"/>
                  </a:lnTo>
                  <a:lnTo>
                    <a:pt x="2625" y="1195"/>
                  </a:lnTo>
                  <a:lnTo>
                    <a:pt x="2634" y="1201"/>
                  </a:lnTo>
                  <a:lnTo>
                    <a:pt x="2643" y="1201"/>
                  </a:lnTo>
                  <a:lnTo>
                    <a:pt x="2652" y="1201"/>
                  </a:lnTo>
                  <a:lnTo>
                    <a:pt x="2643" y="1201"/>
                  </a:lnTo>
                  <a:lnTo>
                    <a:pt x="2634" y="1207"/>
                  </a:lnTo>
                  <a:lnTo>
                    <a:pt x="2625" y="1216"/>
                  </a:lnTo>
                  <a:lnTo>
                    <a:pt x="2625" y="1224"/>
                  </a:lnTo>
                  <a:lnTo>
                    <a:pt x="2634" y="1224"/>
                  </a:lnTo>
                  <a:lnTo>
                    <a:pt x="2643" y="1230"/>
                  </a:lnTo>
                  <a:lnTo>
                    <a:pt x="2646" y="1242"/>
                  </a:lnTo>
                  <a:lnTo>
                    <a:pt x="2652" y="1253"/>
                  </a:lnTo>
                  <a:lnTo>
                    <a:pt x="2660" y="1259"/>
                  </a:lnTo>
                  <a:lnTo>
                    <a:pt x="2672" y="1265"/>
                  </a:lnTo>
                  <a:lnTo>
                    <a:pt x="2663" y="1262"/>
                  </a:lnTo>
                  <a:lnTo>
                    <a:pt x="2655" y="1256"/>
                  </a:lnTo>
                  <a:lnTo>
                    <a:pt x="2663" y="1250"/>
                  </a:lnTo>
                  <a:lnTo>
                    <a:pt x="2672" y="1250"/>
                  </a:lnTo>
                  <a:lnTo>
                    <a:pt x="2681" y="1253"/>
                  </a:lnTo>
                  <a:lnTo>
                    <a:pt x="2669" y="1256"/>
                  </a:lnTo>
                  <a:lnTo>
                    <a:pt x="2655" y="1256"/>
                  </a:lnTo>
                  <a:lnTo>
                    <a:pt x="2646" y="1247"/>
                  </a:lnTo>
                  <a:lnTo>
                    <a:pt x="2643" y="1236"/>
                  </a:lnTo>
                  <a:lnTo>
                    <a:pt x="2640" y="1227"/>
                  </a:lnTo>
                  <a:lnTo>
                    <a:pt x="2631" y="1227"/>
                  </a:lnTo>
                  <a:lnTo>
                    <a:pt x="2625" y="1236"/>
                  </a:lnTo>
                  <a:lnTo>
                    <a:pt x="2625" y="1247"/>
                  </a:lnTo>
                  <a:lnTo>
                    <a:pt x="2625" y="1259"/>
                  </a:lnTo>
                  <a:lnTo>
                    <a:pt x="2617" y="1259"/>
                  </a:lnTo>
                  <a:lnTo>
                    <a:pt x="2608" y="1256"/>
                  </a:lnTo>
                  <a:lnTo>
                    <a:pt x="2605" y="1247"/>
                  </a:lnTo>
                  <a:lnTo>
                    <a:pt x="2596" y="1253"/>
                  </a:lnTo>
                  <a:lnTo>
                    <a:pt x="2588" y="1262"/>
                  </a:lnTo>
                  <a:lnTo>
                    <a:pt x="2582" y="1270"/>
                  </a:lnTo>
                  <a:lnTo>
                    <a:pt x="2582" y="1279"/>
                  </a:lnTo>
                  <a:lnTo>
                    <a:pt x="2582" y="1288"/>
                  </a:lnTo>
                  <a:lnTo>
                    <a:pt x="2576" y="1296"/>
                  </a:lnTo>
                  <a:lnTo>
                    <a:pt x="2573" y="1305"/>
                  </a:lnTo>
                  <a:lnTo>
                    <a:pt x="2567" y="1314"/>
                  </a:lnTo>
                  <a:lnTo>
                    <a:pt x="2553" y="1311"/>
                  </a:lnTo>
                  <a:lnTo>
                    <a:pt x="2567" y="1305"/>
                  </a:lnTo>
                  <a:lnTo>
                    <a:pt x="2561" y="1314"/>
                  </a:lnTo>
                  <a:lnTo>
                    <a:pt x="2558" y="1322"/>
                  </a:lnTo>
                  <a:lnTo>
                    <a:pt x="2558" y="1331"/>
                  </a:lnTo>
                  <a:lnTo>
                    <a:pt x="2558" y="1340"/>
                  </a:lnTo>
                  <a:lnTo>
                    <a:pt x="2558" y="1348"/>
                  </a:lnTo>
                  <a:lnTo>
                    <a:pt x="2558" y="1360"/>
                  </a:lnTo>
                  <a:lnTo>
                    <a:pt x="2558" y="1368"/>
                  </a:lnTo>
                  <a:lnTo>
                    <a:pt x="2550" y="1380"/>
                  </a:lnTo>
                  <a:lnTo>
                    <a:pt x="2547" y="1389"/>
                  </a:lnTo>
                  <a:lnTo>
                    <a:pt x="2544" y="1397"/>
                  </a:lnTo>
                  <a:lnTo>
                    <a:pt x="2538" y="1406"/>
                  </a:lnTo>
                  <a:lnTo>
                    <a:pt x="2529" y="1412"/>
                  </a:lnTo>
                  <a:lnTo>
                    <a:pt x="2538" y="1414"/>
                  </a:lnTo>
                  <a:lnTo>
                    <a:pt x="2547" y="1414"/>
                  </a:lnTo>
                  <a:lnTo>
                    <a:pt x="2553" y="1406"/>
                  </a:lnTo>
                  <a:lnTo>
                    <a:pt x="2553" y="1397"/>
                  </a:lnTo>
                  <a:lnTo>
                    <a:pt x="2561" y="1391"/>
                  </a:lnTo>
                  <a:lnTo>
                    <a:pt x="2567" y="1400"/>
                  </a:lnTo>
                  <a:lnTo>
                    <a:pt x="2567" y="1412"/>
                  </a:lnTo>
                  <a:lnTo>
                    <a:pt x="2570" y="1420"/>
                  </a:lnTo>
                  <a:lnTo>
                    <a:pt x="2579" y="1429"/>
                  </a:lnTo>
                  <a:lnTo>
                    <a:pt x="2588" y="1435"/>
                  </a:lnTo>
                  <a:lnTo>
                    <a:pt x="2599" y="1435"/>
                  </a:lnTo>
                  <a:lnTo>
                    <a:pt x="2593" y="1426"/>
                  </a:lnTo>
                  <a:lnTo>
                    <a:pt x="2585" y="1417"/>
                  </a:lnTo>
                  <a:lnTo>
                    <a:pt x="2582" y="1406"/>
                  </a:lnTo>
                  <a:lnTo>
                    <a:pt x="2579" y="1397"/>
                  </a:lnTo>
                  <a:lnTo>
                    <a:pt x="2573" y="1406"/>
                  </a:lnTo>
                  <a:lnTo>
                    <a:pt x="2570" y="1414"/>
                  </a:lnTo>
                  <a:lnTo>
                    <a:pt x="2561" y="1426"/>
                  </a:lnTo>
                  <a:lnTo>
                    <a:pt x="2553" y="1432"/>
                  </a:lnTo>
                  <a:lnTo>
                    <a:pt x="2544" y="1432"/>
                  </a:lnTo>
                  <a:lnTo>
                    <a:pt x="2535" y="1432"/>
                  </a:lnTo>
                  <a:lnTo>
                    <a:pt x="2526" y="1432"/>
                  </a:lnTo>
                  <a:lnTo>
                    <a:pt x="2515" y="1438"/>
                  </a:lnTo>
                  <a:lnTo>
                    <a:pt x="2506" y="1443"/>
                  </a:lnTo>
                  <a:lnTo>
                    <a:pt x="2503" y="1452"/>
                  </a:lnTo>
                  <a:lnTo>
                    <a:pt x="2509" y="1461"/>
                  </a:lnTo>
                  <a:lnTo>
                    <a:pt x="2515" y="1472"/>
                  </a:lnTo>
                  <a:lnTo>
                    <a:pt x="2521" y="1484"/>
                  </a:lnTo>
                  <a:lnTo>
                    <a:pt x="2529" y="1489"/>
                  </a:lnTo>
                  <a:lnTo>
                    <a:pt x="2538" y="1495"/>
                  </a:lnTo>
                  <a:lnTo>
                    <a:pt x="2544" y="1504"/>
                  </a:lnTo>
                  <a:lnTo>
                    <a:pt x="2553" y="1507"/>
                  </a:lnTo>
                  <a:lnTo>
                    <a:pt x="2561" y="1507"/>
                  </a:lnTo>
                  <a:lnTo>
                    <a:pt x="2570" y="1510"/>
                  </a:lnTo>
                  <a:lnTo>
                    <a:pt x="2576" y="1518"/>
                  </a:lnTo>
                  <a:lnTo>
                    <a:pt x="2585" y="1527"/>
                  </a:lnTo>
                  <a:lnTo>
                    <a:pt x="2588" y="1535"/>
                  </a:lnTo>
                  <a:lnTo>
                    <a:pt x="2588" y="1544"/>
                  </a:lnTo>
                  <a:lnTo>
                    <a:pt x="2588" y="1556"/>
                  </a:lnTo>
                  <a:lnTo>
                    <a:pt x="2590" y="1564"/>
                  </a:lnTo>
                  <a:lnTo>
                    <a:pt x="2599" y="1564"/>
                  </a:lnTo>
                  <a:lnTo>
                    <a:pt x="2614" y="1567"/>
                  </a:lnTo>
                  <a:lnTo>
                    <a:pt x="2617" y="1576"/>
                  </a:lnTo>
                  <a:lnTo>
                    <a:pt x="2617" y="1584"/>
                  </a:lnTo>
                  <a:lnTo>
                    <a:pt x="2608" y="1587"/>
                  </a:lnTo>
                  <a:lnTo>
                    <a:pt x="2596" y="1579"/>
                  </a:lnTo>
                  <a:lnTo>
                    <a:pt x="2588" y="1570"/>
                  </a:lnTo>
                  <a:lnTo>
                    <a:pt x="2582" y="1561"/>
                  </a:lnTo>
                  <a:lnTo>
                    <a:pt x="2582" y="1553"/>
                  </a:lnTo>
                  <a:lnTo>
                    <a:pt x="2582" y="1541"/>
                  </a:lnTo>
                  <a:lnTo>
                    <a:pt x="2579" y="1533"/>
                  </a:lnTo>
                  <a:lnTo>
                    <a:pt x="2573" y="1524"/>
                  </a:lnTo>
                  <a:lnTo>
                    <a:pt x="2564" y="1515"/>
                  </a:lnTo>
                  <a:lnTo>
                    <a:pt x="2556" y="1512"/>
                  </a:lnTo>
                  <a:lnTo>
                    <a:pt x="2550" y="1521"/>
                  </a:lnTo>
                  <a:lnTo>
                    <a:pt x="2541" y="1521"/>
                  </a:lnTo>
                  <a:lnTo>
                    <a:pt x="2532" y="1515"/>
                  </a:lnTo>
                  <a:lnTo>
                    <a:pt x="2524" y="1510"/>
                  </a:lnTo>
                  <a:lnTo>
                    <a:pt x="2515" y="1507"/>
                  </a:lnTo>
                  <a:lnTo>
                    <a:pt x="2506" y="1504"/>
                  </a:lnTo>
                  <a:lnTo>
                    <a:pt x="2497" y="1504"/>
                  </a:lnTo>
                  <a:lnTo>
                    <a:pt x="2489" y="1504"/>
                  </a:lnTo>
                  <a:lnTo>
                    <a:pt x="2486" y="1512"/>
                  </a:lnTo>
                  <a:lnTo>
                    <a:pt x="2486" y="1521"/>
                  </a:lnTo>
                  <a:lnTo>
                    <a:pt x="2491" y="1530"/>
                  </a:lnTo>
                  <a:lnTo>
                    <a:pt x="2486" y="1538"/>
                  </a:lnTo>
                  <a:lnTo>
                    <a:pt x="2477" y="1538"/>
                  </a:lnTo>
                  <a:lnTo>
                    <a:pt x="2474" y="1547"/>
                  </a:lnTo>
                  <a:lnTo>
                    <a:pt x="2489" y="1550"/>
                  </a:lnTo>
                  <a:lnTo>
                    <a:pt x="2497" y="1553"/>
                  </a:lnTo>
                  <a:lnTo>
                    <a:pt x="2506" y="1553"/>
                  </a:lnTo>
                  <a:lnTo>
                    <a:pt x="2515" y="1559"/>
                  </a:lnTo>
                  <a:lnTo>
                    <a:pt x="2521" y="1570"/>
                  </a:lnTo>
                  <a:lnTo>
                    <a:pt x="2529" y="1576"/>
                  </a:lnTo>
                  <a:lnTo>
                    <a:pt x="2521" y="1567"/>
                  </a:lnTo>
                  <a:lnTo>
                    <a:pt x="2509" y="1561"/>
                  </a:lnTo>
                  <a:lnTo>
                    <a:pt x="2500" y="1559"/>
                  </a:lnTo>
                  <a:lnTo>
                    <a:pt x="2491" y="1567"/>
                  </a:lnTo>
                  <a:lnTo>
                    <a:pt x="2483" y="1570"/>
                  </a:lnTo>
                  <a:lnTo>
                    <a:pt x="2474" y="1570"/>
                  </a:lnTo>
                  <a:lnTo>
                    <a:pt x="2471" y="1561"/>
                  </a:lnTo>
                  <a:lnTo>
                    <a:pt x="2471" y="1553"/>
                  </a:lnTo>
                  <a:lnTo>
                    <a:pt x="2465" y="1544"/>
                  </a:lnTo>
                  <a:lnTo>
                    <a:pt x="2462" y="1535"/>
                  </a:lnTo>
                  <a:lnTo>
                    <a:pt x="2459" y="1524"/>
                  </a:lnTo>
                  <a:lnTo>
                    <a:pt x="2457" y="1515"/>
                  </a:lnTo>
                  <a:lnTo>
                    <a:pt x="2448" y="1510"/>
                  </a:lnTo>
                  <a:lnTo>
                    <a:pt x="2439" y="1504"/>
                  </a:lnTo>
                  <a:lnTo>
                    <a:pt x="2439" y="1512"/>
                  </a:lnTo>
                  <a:lnTo>
                    <a:pt x="2439" y="1521"/>
                  </a:lnTo>
                  <a:lnTo>
                    <a:pt x="2439" y="1530"/>
                  </a:lnTo>
                  <a:lnTo>
                    <a:pt x="2439" y="1538"/>
                  </a:lnTo>
                  <a:lnTo>
                    <a:pt x="2439" y="1547"/>
                  </a:lnTo>
                  <a:lnTo>
                    <a:pt x="2439" y="1556"/>
                  </a:lnTo>
                  <a:lnTo>
                    <a:pt x="2442" y="1564"/>
                  </a:lnTo>
                  <a:lnTo>
                    <a:pt x="2436" y="1573"/>
                  </a:lnTo>
                  <a:lnTo>
                    <a:pt x="2433" y="1582"/>
                  </a:lnTo>
                  <a:lnTo>
                    <a:pt x="2430" y="1590"/>
                  </a:lnTo>
                  <a:lnTo>
                    <a:pt x="2433" y="1599"/>
                  </a:lnTo>
                  <a:lnTo>
                    <a:pt x="2442" y="1602"/>
                  </a:lnTo>
                  <a:lnTo>
                    <a:pt x="2451" y="1605"/>
                  </a:lnTo>
                  <a:lnTo>
                    <a:pt x="2459" y="1608"/>
                  </a:lnTo>
                  <a:lnTo>
                    <a:pt x="2465" y="1616"/>
                  </a:lnTo>
                  <a:lnTo>
                    <a:pt x="2474" y="1628"/>
                  </a:lnTo>
                  <a:lnTo>
                    <a:pt x="2474" y="1636"/>
                  </a:lnTo>
                  <a:lnTo>
                    <a:pt x="2474" y="1648"/>
                  </a:lnTo>
                  <a:lnTo>
                    <a:pt x="2474" y="1657"/>
                  </a:lnTo>
                  <a:lnTo>
                    <a:pt x="2474" y="1665"/>
                  </a:lnTo>
                  <a:lnTo>
                    <a:pt x="2474" y="1674"/>
                  </a:lnTo>
                  <a:lnTo>
                    <a:pt x="2483" y="1680"/>
                  </a:lnTo>
                  <a:lnTo>
                    <a:pt x="2491" y="1682"/>
                  </a:lnTo>
                  <a:lnTo>
                    <a:pt x="2500" y="1682"/>
                  </a:lnTo>
                  <a:lnTo>
                    <a:pt x="2509" y="1680"/>
                  </a:lnTo>
                  <a:lnTo>
                    <a:pt x="2515" y="1671"/>
                  </a:lnTo>
                  <a:lnTo>
                    <a:pt x="2524" y="1671"/>
                  </a:lnTo>
                  <a:lnTo>
                    <a:pt x="2532" y="1668"/>
                  </a:lnTo>
                  <a:lnTo>
                    <a:pt x="2541" y="1671"/>
                  </a:lnTo>
                  <a:lnTo>
                    <a:pt x="2544" y="1680"/>
                  </a:lnTo>
                  <a:lnTo>
                    <a:pt x="2547" y="1688"/>
                  </a:lnTo>
                  <a:lnTo>
                    <a:pt x="2547" y="1697"/>
                  </a:lnTo>
                  <a:lnTo>
                    <a:pt x="2547" y="1706"/>
                  </a:lnTo>
                  <a:lnTo>
                    <a:pt x="2556" y="1714"/>
                  </a:lnTo>
                  <a:lnTo>
                    <a:pt x="2564" y="1720"/>
                  </a:lnTo>
                  <a:lnTo>
                    <a:pt x="2576" y="1726"/>
                  </a:lnTo>
                  <a:lnTo>
                    <a:pt x="2588" y="1726"/>
                  </a:lnTo>
                  <a:lnTo>
                    <a:pt x="2596" y="1726"/>
                  </a:lnTo>
                  <a:lnTo>
                    <a:pt x="2588" y="1723"/>
                  </a:lnTo>
                  <a:lnTo>
                    <a:pt x="2579" y="1720"/>
                  </a:lnTo>
                  <a:lnTo>
                    <a:pt x="2570" y="1717"/>
                  </a:lnTo>
                  <a:lnTo>
                    <a:pt x="2567" y="1708"/>
                  </a:lnTo>
                  <a:lnTo>
                    <a:pt x="2564" y="1697"/>
                  </a:lnTo>
                  <a:lnTo>
                    <a:pt x="2564" y="1688"/>
                  </a:lnTo>
                  <a:lnTo>
                    <a:pt x="2561" y="1680"/>
                  </a:lnTo>
                  <a:lnTo>
                    <a:pt x="2550" y="1671"/>
                  </a:lnTo>
                  <a:lnTo>
                    <a:pt x="2538" y="1665"/>
                  </a:lnTo>
                  <a:lnTo>
                    <a:pt x="2529" y="1662"/>
                  </a:lnTo>
                  <a:lnTo>
                    <a:pt x="2521" y="1659"/>
                  </a:lnTo>
                  <a:lnTo>
                    <a:pt x="2512" y="1662"/>
                  </a:lnTo>
                  <a:lnTo>
                    <a:pt x="2506" y="1671"/>
                  </a:lnTo>
                  <a:lnTo>
                    <a:pt x="2506" y="1680"/>
                  </a:lnTo>
                  <a:lnTo>
                    <a:pt x="2503" y="1688"/>
                  </a:lnTo>
                  <a:lnTo>
                    <a:pt x="2500" y="1697"/>
                  </a:lnTo>
                  <a:lnTo>
                    <a:pt x="2500" y="1706"/>
                  </a:lnTo>
                  <a:lnTo>
                    <a:pt x="2500" y="1714"/>
                  </a:lnTo>
                  <a:lnTo>
                    <a:pt x="2509" y="1723"/>
                  </a:lnTo>
                  <a:lnTo>
                    <a:pt x="2509" y="1731"/>
                  </a:lnTo>
                  <a:lnTo>
                    <a:pt x="2509" y="1740"/>
                  </a:lnTo>
                  <a:lnTo>
                    <a:pt x="2509" y="1749"/>
                  </a:lnTo>
                  <a:lnTo>
                    <a:pt x="2509" y="1757"/>
                  </a:lnTo>
                  <a:lnTo>
                    <a:pt x="2509" y="1766"/>
                  </a:lnTo>
                  <a:lnTo>
                    <a:pt x="2509" y="1775"/>
                  </a:lnTo>
                  <a:lnTo>
                    <a:pt x="2509" y="1783"/>
                  </a:lnTo>
                  <a:lnTo>
                    <a:pt x="2506" y="1772"/>
                  </a:lnTo>
                  <a:lnTo>
                    <a:pt x="2515" y="1757"/>
                  </a:lnTo>
                  <a:lnTo>
                    <a:pt x="2509" y="1766"/>
                  </a:lnTo>
                  <a:lnTo>
                    <a:pt x="2506" y="1775"/>
                  </a:lnTo>
                  <a:lnTo>
                    <a:pt x="2503" y="1783"/>
                  </a:lnTo>
                  <a:lnTo>
                    <a:pt x="2497" y="1792"/>
                  </a:lnTo>
                  <a:lnTo>
                    <a:pt x="2494" y="1801"/>
                  </a:lnTo>
                  <a:lnTo>
                    <a:pt x="2494" y="1809"/>
                  </a:lnTo>
                  <a:lnTo>
                    <a:pt x="2494" y="1818"/>
                  </a:lnTo>
                  <a:lnTo>
                    <a:pt x="2483" y="1824"/>
                  </a:lnTo>
                  <a:lnTo>
                    <a:pt x="2465" y="1824"/>
                  </a:lnTo>
                  <a:lnTo>
                    <a:pt x="2457" y="1821"/>
                  </a:lnTo>
                  <a:lnTo>
                    <a:pt x="2448" y="1812"/>
                  </a:lnTo>
                  <a:lnTo>
                    <a:pt x="2439" y="1809"/>
                  </a:lnTo>
                  <a:lnTo>
                    <a:pt x="2430" y="1809"/>
                  </a:lnTo>
                  <a:lnTo>
                    <a:pt x="2427" y="1798"/>
                  </a:lnTo>
                  <a:lnTo>
                    <a:pt x="2439" y="1795"/>
                  </a:lnTo>
                  <a:lnTo>
                    <a:pt x="2454" y="1792"/>
                  </a:lnTo>
                  <a:lnTo>
                    <a:pt x="2462" y="1792"/>
                  </a:lnTo>
                  <a:lnTo>
                    <a:pt x="2471" y="1792"/>
                  </a:lnTo>
                  <a:lnTo>
                    <a:pt x="2477" y="1783"/>
                  </a:lnTo>
                  <a:lnTo>
                    <a:pt x="2480" y="1775"/>
                  </a:lnTo>
                  <a:lnTo>
                    <a:pt x="2480" y="1766"/>
                  </a:lnTo>
                  <a:lnTo>
                    <a:pt x="2483" y="1757"/>
                  </a:lnTo>
                  <a:lnTo>
                    <a:pt x="2486" y="1749"/>
                  </a:lnTo>
                  <a:lnTo>
                    <a:pt x="2489" y="1740"/>
                  </a:lnTo>
                  <a:lnTo>
                    <a:pt x="2491" y="1731"/>
                  </a:lnTo>
                  <a:lnTo>
                    <a:pt x="2489" y="1723"/>
                  </a:lnTo>
                  <a:lnTo>
                    <a:pt x="2489" y="1714"/>
                  </a:lnTo>
                  <a:lnTo>
                    <a:pt x="2480" y="1708"/>
                  </a:lnTo>
                  <a:lnTo>
                    <a:pt x="2474" y="1700"/>
                  </a:lnTo>
                  <a:lnTo>
                    <a:pt x="2468" y="1691"/>
                  </a:lnTo>
                  <a:lnTo>
                    <a:pt x="2465" y="1682"/>
                  </a:lnTo>
                  <a:lnTo>
                    <a:pt x="2459" y="1674"/>
                  </a:lnTo>
                  <a:lnTo>
                    <a:pt x="2454" y="1665"/>
                  </a:lnTo>
                  <a:lnTo>
                    <a:pt x="2454" y="1657"/>
                  </a:lnTo>
                  <a:lnTo>
                    <a:pt x="2454" y="1648"/>
                  </a:lnTo>
                  <a:lnTo>
                    <a:pt x="2454" y="1639"/>
                  </a:lnTo>
                  <a:lnTo>
                    <a:pt x="2451" y="1631"/>
                  </a:lnTo>
                  <a:lnTo>
                    <a:pt x="2448" y="1622"/>
                  </a:lnTo>
                  <a:lnTo>
                    <a:pt x="2442" y="1613"/>
                  </a:lnTo>
                  <a:lnTo>
                    <a:pt x="2433" y="1608"/>
                  </a:lnTo>
                  <a:lnTo>
                    <a:pt x="2427" y="1599"/>
                  </a:lnTo>
                  <a:lnTo>
                    <a:pt x="2422" y="1590"/>
                  </a:lnTo>
                  <a:lnTo>
                    <a:pt x="2419" y="1582"/>
                  </a:lnTo>
                  <a:lnTo>
                    <a:pt x="2419" y="1573"/>
                  </a:lnTo>
                  <a:lnTo>
                    <a:pt x="2416" y="1564"/>
                  </a:lnTo>
                  <a:lnTo>
                    <a:pt x="2416" y="1556"/>
                  </a:lnTo>
                  <a:lnTo>
                    <a:pt x="2416" y="1547"/>
                  </a:lnTo>
                  <a:lnTo>
                    <a:pt x="2416" y="1538"/>
                  </a:lnTo>
                  <a:lnTo>
                    <a:pt x="2416" y="1530"/>
                  </a:lnTo>
                  <a:lnTo>
                    <a:pt x="2407" y="1521"/>
                  </a:lnTo>
                  <a:lnTo>
                    <a:pt x="2395" y="1518"/>
                  </a:lnTo>
                  <a:lnTo>
                    <a:pt x="2390" y="1510"/>
                  </a:lnTo>
                  <a:lnTo>
                    <a:pt x="2390" y="1501"/>
                  </a:lnTo>
                  <a:lnTo>
                    <a:pt x="2381" y="1498"/>
                  </a:lnTo>
                  <a:lnTo>
                    <a:pt x="2390" y="1504"/>
                  </a:lnTo>
                  <a:lnTo>
                    <a:pt x="2381" y="1510"/>
                  </a:lnTo>
                  <a:lnTo>
                    <a:pt x="2372" y="1515"/>
                  </a:lnTo>
                  <a:lnTo>
                    <a:pt x="2372" y="1524"/>
                  </a:lnTo>
                  <a:lnTo>
                    <a:pt x="2366" y="1533"/>
                  </a:lnTo>
                  <a:lnTo>
                    <a:pt x="2366" y="1541"/>
                  </a:lnTo>
                  <a:lnTo>
                    <a:pt x="2366" y="1550"/>
                  </a:lnTo>
                  <a:lnTo>
                    <a:pt x="2366" y="1559"/>
                  </a:lnTo>
                  <a:lnTo>
                    <a:pt x="2366" y="1567"/>
                  </a:lnTo>
                  <a:lnTo>
                    <a:pt x="2363" y="1576"/>
                  </a:lnTo>
                  <a:lnTo>
                    <a:pt x="2360" y="1584"/>
                  </a:lnTo>
                  <a:lnTo>
                    <a:pt x="2358" y="1593"/>
                  </a:lnTo>
                  <a:lnTo>
                    <a:pt x="2352" y="1602"/>
                  </a:lnTo>
                  <a:lnTo>
                    <a:pt x="2349" y="1610"/>
                  </a:lnTo>
                  <a:lnTo>
                    <a:pt x="2346" y="1619"/>
                  </a:lnTo>
                  <a:lnTo>
                    <a:pt x="2346" y="1628"/>
                  </a:lnTo>
                  <a:lnTo>
                    <a:pt x="2346" y="1636"/>
                  </a:lnTo>
                  <a:lnTo>
                    <a:pt x="2355" y="1639"/>
                  </a:lnTo>
                  <a:lnTo>
                    <a:pt x="2363" y="1639"/>
                  </a:lnTo>
                  <a:lnTo>
                    <a:pt x="2372" y="1636"/>
                  </a:lnTo>
                  <a:lnTo>
                    <a:pt x="2372" y="1645"/>
                  </a:lnTo>
                  <a:lnTo>
                    <a:pt x="2372" y="1654"/>
                  </a:lnTo>
                  <a:lnTo>
                    <a:pt x="2372" y="1662"/>
                  </a:lnTo>
                  <a:lnTo>
                    <a:pt x="2372" y="1671"/>
                  </a:lnTo>
                  <a:lnTo>
                    <a:pt x="2372" y="1682"/>
                  </a:lnTo>
                  <a:lnTo>
                    <a:pt x="2369" y="1691"/>
                  </a:lnTo>
                  <a:lnTo>
                    <a:pt x="2378" y="1697"/>
                  </a:lnTo>
                  <a:lnTo>
                    <a:pt x="2381" y="1706"/>
                  </a:lnTo>
                  <a:lnTo>
                    <a:pt x="2390" y="1711"/>
                  </a:lnTo>
                  <a:lnTo>
                    <a:pt x="2401" y="1714"/>
                  </a:lnTo>
                  <a:lnTo>
                    <a:pt x="2404" y="1723"/>
                  </a:lnTo>
                  <a:lnTo>
                    <a:pt x="2404" y="1731"/>
                  </a:lnTo>
                  <a:lnTo>
                    <a:pt x="2404" y="1740"/>
                  </a:lnTo>
                  <a:lnTo>
                    <a:pt x="2404" y="1749"/>
                  </a:lnTo>
                  <a:lnTo>
                    <a:pt x="2395" y="1743"/>
                  </a:lnTo>
                  <a:lnTo>
                    <a:pt x="2393" y="1734"/>
                  </a:lnTo>
                  <a:lnTo>
                    <a:pt x="2387" y="1723"/>
                  </a:lnTo>
                  <a:lnTo>
                    <a:pt x="2381" y="1714"/>
                  </a:lnTo>
                  <a:lnTo>
                    <a:pt x="2372" y="1711"/>
                  </a:lnTo>
                  <a:lnTo>
                    <a:pt x="2363" y="1708"/>
                  </a:lnTo>
                  <a:lnTo>
                    <a:pt x="2355" y="1708"/>
                  </a:lnTo>
                  <a:lnTo>
                    <a:pt x="2340" y="1706"/>
                  </a:lnTo>
                  <a:lnTo>
                    <a:pt x="2328" y="1703"/>
                  </a:lnTo>
                  <a:lnTo>
                    <a:pt x="2320" y="1697"/>
                  </a:lnTo>
                  <a:lnTo>
                    <a:pt x="2311" y="1694"/>
                  </a:lnTo>
                  <a:lnTo>
                    <a:pt x="2302" y="1691"/>
                  </a:lnTo>
                  <a:lnTo>
                    <a:pt x="2294" y="1688"/>
                  </a:lnTo>
                  <a:lnTo>
                    <a:pt x="2285" y="1685"/>
                  </a:lnTo>
                  <a:lnTo>
                    <a:pt x="2276" y="1685"/>
                  </a:lnTo>
                  <a:lnTo>
                    <a:pt x="2267" y="1685"/>
                  </a:lnTo>
                  <a:lnTo>
                    <a:pt x="2273" y="1680"/>
                  </a:lnTo>
                  <a:lnTo>
                    <a:pt x="2262" y="1671"/>
                  </a:lnTo>
                  <a:lnTo>
                    <a:pt x="2262" y="1662"/>
                  </a:lnTo>
                  <a:lnTo>
                    <a:pt x="2256" y="1671"/>
                  </a:lnTo>
                  <a:lnTo>
                    <a:pt x="2247" y="1671"/>
                  </a:lnTo>
                  <a:lnTo>
                    <a:pt x="2235" y="1671"/>
                  </a:lnTo>
                  <a:lnTo>
                    <a:pt x="2227" y="1668"/>
                  </a:lnTo>
                  <a:lnTo>
                    <a:pt x="2227" y="1659"/>
                  </a:lnTo>
                  <a:lnTo>
                    <a:pt x="2221" y="1668"/>
                  </a:lnTo>
                  <a:lnTo>
                    <a:pt x="2221" y="1677"/>
                  </a:lnTo>
                  <a:lnTo>
                    <a:pt x="2232" y="1680"/>
                  </a:lnTo>
                  <a:lnTo>
                    <a:pt x="2241" y="1682"/>
                  </a:lnTo>
                  <a:lnTo>
                    <a:pt x="2244" y="1691"/>
                  </a:lnTo>
                  <a:lnTo>
                    <a:pt x="2247" y="1700"/>
                  </a:lnTo>
                  <a:lnTo>
                    <a:pt x="2250" y="1708"/>
                  </a:lnTo>
                  <a:lnTo>
                    <a:pt x="2259" y="1711"/>
                  </a:lnTo>
                  <a:lnTo>
                    <a:pt x="2262" y="1720"/>
                  </a:lnTo>
                  <a:lnTo>
                    <a:pt x="2262" y="1729"/>
                  </a:lnTo>
                  <a:lnTo>
                    <a:pt x="2262" y="1737"/>
                  </a:lnTo>
                  <a:lnTo>
                    <a:pt x="2253" y="1743"/>
                  </a:lnTo>
                  <a:lnTo>
                    <a:pt x="2250" y="1752"/>
                  </a:lnTo>
                  <a:lnTo>
                    <a:pt x="2250" y="1760"/>
                  </a:lnTo>
                  <a:lnTo>
                    <a:pt x="2244" y="1752"/>
                  </a:lnTo>
                  <a:lnTo>
                    <a:pt x="2241" y="1743"/>
                  </a:lnTo>
                  <a:lnTo>
                    <a:pt x="2232" y="1743"/>
                  </a:lnTo>
                  <a:lnTo>
                    <a:pt x="2232" y="1734"/>
                  </a:lnTo>
                  <a:lnTo>
                    <a:pt x="2221" y="1729"/>
                  </a:lnTo>
                  <a:lnTo>
                    <a:pt x="2209" y="1731"/>
                  </a:lnTo>
                  <a:lnTo>
                    <a:pt x="2200" y="1734"/>
                  </a:lnTo>
                  <a:lnTo>
                    <a:pt x="2192" y="1737"/>
                  </a:lnTo>
                  <a:lnTo>
                    <a:pt x="2183" y="1746"/>
                  </a:lnTo>
                  <a:lnTo>
                    <a:pt x="2177" y="1755"/>
                  </a:lnTo>
                  <a:lnTo>
                    <a:pt x="2168" y="1755"/>
                  </a:lnTo>
                  <a:lnTo>
                    <a:pt x="2160" y="1760"/>
                  </a:lnTo>
                  <a:lnTo>
                    <a:pt x="2151" y="1769"/>
                  </a:lnTo>
                  <a:lnTo>
                    <a:pt x="2142" y="1772"/>
                  </a:lnTo>
                  <a:lnTo>
                    <a:pt x="2133" y="1772"/>
                  </a:lnTo>
                  <a:lnTo>
                    <a:pt x="2133" y="1763"/>
                  </a:lnTo>
                  <a:lnTo>
                    <a:pt x="2142" y="1755"/>
                  </a:lnTo>
                  <a:lnTo>
                    <a:pt x="2151" y="1752"/>
                  </a:lnTo>
                  <a:lnTo>
                    <a:pt x="2160" y="1749"/>
                  </a:lnTo>
                  <a:lnTo>
                    <a:pt x="2160" y="1737"/>
                  </a:lnTo>
                  <a:lnTo>
                    <a:pt x="2154" y="1729"/>
                  </a:lnTo>
                  <a:lnTo>
                    <a:pt x="2145" y="1729"/>
                  </a:lnTo>
                  <a:lnTo>
                    <a:pt x="2136" y="1734"/>
                  </a:lnTo>
                  <a:lnTo>
                    <a:pt x="2128" y="1740"/>
                  </a:lnTo>
                  <a:lnTo>
                    <a:pt x="2122" y="1749"/>
                  </a:lnTo>
                  <a:lnTo>
                    <a:pt x="2113" y="1755"/>
                  </a:lnTo>
                  <a:lnTo>
                    <a:pt x="2104" y="1757"/>
                  </a:lnTo>
                  <a:lnTo>
                    <a:pt x="2096" y="1763"/>
                  </a:lnTo>
                  <a:lnTo>
                    <a:pt x="2087" y="1763"/>
                  </a:lnTo>
                  <a:lnTo>
                    <a:pt x="2078" y="1766"/>
                  </a:lnTo>
                  <a:lnTo>
                    <a:pt x="2069" y="1769"/>
                  </a:lnTo>
                  <a:lnTo>
                    <a:pt x="2061" y="1772"/>
                  </a:lnTo>
                  <a:lnTo>
                    <a:pt x="2055" y="1780"/>
                  </a:lnTo>
                  <a:lnTo>
                    <a:pt x="2052" y="1789"/>
                  </a:lnTo>
                  <a:lnTo>
                    <a:pt x="2040" y="1792"/>
                  </a:lnTo>
                  <a:lnTo>
                    <a:pt x="2034" y="1801"/>
                  </a:lnTo>
                  <a:lnTo>
                    <a:pt x="2034" y="1809"/>
                  </a:lnTo>
                  <a:lnTo>
                    <a:pt x="2029" y="1818"/>
                  </a:lnTo>
                  <a:lnTo>
                    <a:pt x="2020" y="1824"/>
                  </a:lnTo>
                  <a:lnTo>
                    <a:pt x="2011" y="1827"/>
                  </a:lnTo>
                  <a:lnTo>
                    <a:pt x="2008" y="1815"/>
                  </a:lnTo>
                  <a:lnTo>
                    <a:pt x="2005" y="1806"/>
                  </a:lnTo>
                  <a:lnTo>
                    <a:pt x="2005" y="1798"/>
                  </a:lnTo>
                  <a:lnTo>
                    <a:pt x="1997" y="1789"/>
                  </a:lnTo>
                  <a:lnTo>
                    <a:pt x="1988" y="1780"/>
                  </a:lnTo>
                  <a:lnTo>
                    <a:pt x="1999" y="1780"/>
                  </a:lnTo>
                  <a:lnTo>
                    <a:pt x="2011" y="1778"/>
                  </a:lnTo>
                  <a:lnTo>
                    <a:pt x="2020" y="1775"/>
                  </a:lnTo>
                  <a:lnTo>
                    <a:pt x="2020" y="1766"/>
                  </a:lnTo>
                  <a:lnTo>
                    <a:pt x="2023" y="1757"/>
                  </a:lnTo>
                  <a:lnTo>
                    <a:pt x="2023" y="1749"/>
                  </a:lnTo>
                  <a:lnTo>
                    <a:pt x="2014" y="1743"/>
                  </a:lnTo>
                  <a:lnTo>
                    <a:pt x="2005" y="1740"/>
                  </a:lnTo>
                  <a:lnTo>
                    <a:pt x="1994" y="1740"/>
                  </a:lnTo>
                  <a:lnTo>
                    <a:pt x="1985" y="1737"/>
                  </a:lnTo>
                  <a:lnTo>
                    <a:pt x="1976" y="1731"/>
                  </a:lnTo>
                  <a:lnTo>
                    <a:pt x="1967" y="1729"/>
                  </a:lnTo>
                  <a:lnTo>
                    <a:pt x="1967" y="1737"/>
                  </a:lnTo>
                  <a:lnTo>
                    <a:pt x="1970" y="1746"/>
                  </a:lnTo>
                  <a:lnTo>
                    <a:pt x="1976" y="1755"/>
                  </a:lnTo>
                  <a:lnTo>
                    <a:pt x="1976" y="1763"/>
                  </a:lnTo>
                  <a:lnTo>
                    <a:pt x="1976" y="1772"/>
                  </a:lnTo>
                  <a:lnTo>
                    <a:pt x="1973" y="1780"/>
                  </a:lnTo>
                  <a:lnTo>
                    <a:pt x="1965" y="1789"/>
                  </a:lnTo>
                  <a:lnTo>
                    <a:pt x="1956" y="1795"/>
                  </a:lnTo>
                  <a:lnTo>
                    <a:pt x="1953" y="1803"/>
                  </a:lnTo>
                  <a:lnTo>
                    <a:pt x="1962" y="1806"/>
                  </a:lnTo>
                  <a:lnTo>
                    <a:pt x="1970" y="1806"/>
                  </a:lnTo>
                  <a:lnTo>
                    <a:pt x="1979" y="1806"/>
                  </a:lnTo>
                  <a:lnTo>
                    <a:pt x="1982" y="1815"/>
                  </a:lnTo>
                  <a:lnTo>
                    <a:pt x="1976" y="1824"/>
                  </a:lnTo>
                  <a:lnTo>
                    <a:pt x="1965" y="1832"/>
                  </a:lnTo>
                  <a:lnTo>
                    <a:pt x="1959" y="1841"/>
                  </a:lnTo>
                  <a:lnTo>
                    <a:pt x="1959" y="1850"/>
                  </a:lnTo>
                  <a:lnTo>
                    <a:pt x="1947" y="1838"/>
                  </a:lnTo>
                  <a:lnTo>
                    <a:pt x="1938" y="1835"/>
                  </a:lnTo>
                  <a:lnTo>
                    <a:pt x="1933" y="1827"/>
                  </a:lnTo>
                  <a:lnTo>
                    <a:pt x="1924" y="1821"/>
                  </a:lnTo>
                  <a:lnTo>
                    <a:pt x="1915" y="1821"/>
                  </a:lnTo>
                  <a:lnTo>
                    <a:pt x="1906" y="1829"/>
                  </a:lnTo>
                  <a:lnTo>
                    <a:pt x="1898" y="1835"/>
                  </a:lnTo>
                  <a:lnTo>
                    <a:pt x="1889" y="1838"/>
                  </a:lnTo>
                  <a:lnTo>
                    <a:pt x="1880" y="1841"/>
                  </a:lnTo>
                  <a:lnTo>
                    <a:pt x="1874" y="1850"/>
                  </a:lnTo>
                  <a:lnTo>
                    <a:pt x="1871" y="1858"/>
                  </a:lnTo>
                  <a:lnTo>
                    <a:pt x="1868" y="1867"/>
                  </a:lnTo>
                  <a:lnTo>
                    <a:pt x="1868" y="1876"/>
                  </a:lnTo>
                  <a:lnTo>
                    <a:pt x="1868" y="1884"/>
                  </a:lnTo>
                  <a:lnTo>
                    <a:pt x="1868" y="1893"/>
                  </a:lnTo>
                  <a:lnTo>
                    <a:pt x="1868" y="1901"/>
                  </a:lnTo>
                  <a:lnTo>
                    <a:pt x="1860" y="1907"/>
                  </a:lnTo>
                  <a:lnTo>
                    <a:pt x="1848" y="1901"/>
                  </a:lnTo>
                  <a:lnTo>
                    <a:pt x="1845" y="1893"/>
                  </a:lnTo>
                  <a:lnTo>
                    <a:pt x="1839" y="1884"/>
                  </a:lnTo>
                  <a:lnTo>
                    <a:pt x="1831" y="1876"/>
                  </a:lnTo>
                  <a:lnTo>
                    <a:pt x="1822" y="1870"/>
                  </a:lnTo>
                  <a:lnTo>
                    <a:pt x="1813" y="1867"/>
                  </a:lnTo>
                  <a:lnTo>
                    <a:pt x="1804" y="1867"/>
                  </a:lnTo>
                  <a:lnTo>
                    <a:pt x="1799" y="1876"/>
                  </a:lnTo>
                  <a:lnTo>
                    <a:pt x="1796" y="1884"/>
                  </a:lnTo>
                  <a:lnTo>
                    <a:pt x="1796" y="1893"/>
                  </a:lnTo>
                  <a:lnTo>
                    <a:pt x="1804" y="1899"/>
                  </a:lnTo>
                  <a:lnTo>
                    <a:pt x="1816" y="1901"/>
                  </a:lnTo>
                  <a:lnTo>
                    <a:pt x="1819" y="1910"/>
                  </a:lnTo>
                  <a:lnTo>
                    <a:pt x="1807" y="1910"/>
                  </a:lnTo>
                  <a:lnTo>
                    <a:pt x="1819" y="1893"/>
                  </a:lnTo>
                  <a:lnTo>
                    <a:pt x="1810" y="1896"/>
                  </a:lnTo>
                  <a:lnTo>
                    <a:pt x="1822" y="1899"/>
                  </a:lnTo>
                  <a:lnTo>
                    <a:pt x="1822" y="1910"/>
                  </a:lnTo>
                  <a:lnTo>
                    <a:pt x="1822" y="1919"/>
                  </a:lnTo>
                  <a:lnTo>
                    <a:pt x="1816" y="1927"/>
                  </a:lnTo>
                  <a:lnTo>
                    <a:pt x="1802" y="1927"/>
                  </a:lnTo>
                  <a:lnTo>
                    <a:pt x="1793" y="1922"/>
                  </a:lnTo>
                  <a:lnTo>
                    <a:pt x="1790" y="1913"/>
                  </a:lnTo>
                  <a:lnTo>
                    <a:pt x="1790" y="1904"/>
                  </a:lnTo>
                  <a:lnTo>
                    <a:pt x="1784" y="1896"/>
                  </a:lnTo>
                  <a:lnTo>
                    <a:pt x="1778" y="1887"/>
                  </a:lnTo>
                  <a:lnTo>
                    <a:pt x="1770" y="1878"/>
                  </a:lnTo>
                  <a:lnTo>
                    <a:pt x="1767" y="1870"/>
                  </a:lnTo>
                  <a:lnTo>
                    <a:pt x="1764" y="1861"/>
                  </a:lnTo>
                  <a:lnTo>
                    <a:pt x="1764" y="1850"/>
                  </a:lnTo>
                  <a:lnTo>
                    <a:pt x="1764" y="1841"/>
                  </a:lnTo>
                  <a:lnTo>
                    <a:pt x="1764" y="1832"/>
                  </a:lnTo>
                  <a:lnTo>
                    <a:pt x="1772" y="1827"/>
                  </a:lnTo>
                  <a:lnTo>
                    <a:pt x="1778" y="1818"/>
                  </a:lnTo>
                  <a:lnTo>
                    <a:pt x="1778" y="1809"/>
                  </a:lnTo>
                  <a:lnTo>
                    <a:pt x="1778" y="1801"/>
                  </a:lnTo>
                  <a:lnTo>
                    <a:pt x="1778" y="1792"/>
                  </a:lnTo>
                  <a:lnTo>
                    <a:pt x="1770" y="1783"/>
                  </a:lnTo>
                  <a:lnTo>
                    <a:pt x="1761" y="1778"/>
                  </a:lnTo>
                  <a:lnTo>
                    <a:pt x="1752" y="1772"/>
                  </a:lnTo>
                  <a:lnTo>
                    <a:pt x="1752" y="1763"/>
                  </a:lnTo>
                  <a:lnTo>
                    <a:pt x="1752" y="1752"/>
                  </a:lnTo>
                  <a:lnTo>
                    <a:pt x="1752" y="1743"/>
                  </a:lnTo>
                  <a:lnTo>
                    <a:pt x="1764" y="1749"/>
                  </a:lnTo>
                  <a:lnTo>
                    <a:pt x="1772" y="1757"/>
                  </a:lnTo>
                  <a:lnTo>
                    <a:pt x="1781" y="1763"/>
                  </a:lnTo>
                  <a:lnTo>
                    <a:pt x="1781" y="1772"/>
                  </a:lnTo>
                  <a:lnTo>
                    <a:pt x="1787" y="1783"/>
                  </a:lnTo>
                  <a:lnTo>
                    <a:pt x="1796" y="1789"/>
                  </a:lnTo>
                  <a:lnTo>
                    <a:pt x="1804" y="1795"/>
                  </a:lnTo>
                  <a:lnTo>
                    <a:pt x="1816" y="1801"/>
                  </a:lnTo>
                  <a:lnTo>
                    <a:pt x="1822" y="1809"/>
                  </a:lnTo>
                  <a:lnTo>
                    <a:pt x="1831" y="1815"/>
                  </a:lnTo>
                  <a:lnTo>
                    <a:pt x="1836" y="1824"/>
                  </a:lnTo>
                  <a:lnTo>
                    <a:pt x="1845" y="1829"/>
                  </a:lnTo>
                  <a:lnTo>
                    <a:pt x="1854" y="1835"/>
                  </a:lnTo>
                  <a:lnTo>
                    <a:pt x="1866" y="1835"/>
                  </a:lnTo>
                  <a:lnTo>
                    <a:pt x="1874" y="1835"/>
                  </a:lnTo>
                  <a:lnTo>
                    <a:pt x="1883" y="1835"/>
                  </a:lnTo>
                  <a:lnTo>
                    <a:pt x="1892" y="1829"/>
                  </a:lnTo>
                  <a:lnTo>
                    <a:pt x="1901" y="1827"/>
                  </a:lnTo>
                  <a:lnTo>
                    <a:pt x="1909" y="1818"/>
                  </a:lnTo>
                  <a:lnTo>
                    <a:pt x="1909" y="1809"/>
                  </a:lnTo>
                  <a:lnTo>
                    <a:pt x="1909" y="1801"/>
                  </a:lnTo>
                  <a:lnTo>
                    <a:pt x="1909" y="1792"/>
                  </a:lnTo>
                  <a:lnTo>
                    <a:pt x="1915" y="1783"/>
                  </a:lnTo>
                  <a:lnTo>
                    <a:pt x="1918" y="1775"/>
                  </a:lnTo>
                  <a:lnTo>
                    <a:pt x="1918" y="1766"/>
                  </a:lnTo>
                  <a:lnTo>
                    <a:pt x="1915" y="1757"/>
                  </a:lnTo>
                  <a:lnTo>
                    <a:pt x="1909" y="1749"/>
                  </a:lnTo>
                  <a:lnTo>
                    <a:pt x="1901" y="1740"/>
                  </a:lnTo>
                  <a:lnTo>
                    <a:pt x="1895" y="1731"/>
                  </a:lnTo>
                  <a:lnTo>
                    <a:pt x="1892" y="1720"/>
                  </a:lnTo>
                  <a:lnTo>
                    <a:pt x="1889" y="1711"/>
                  </a:lnTo>
                  <a:lnTo>
                    <a:pt x="1880" y="1706"/>
                  </a:lnTo>
                  <a:lnTo>
                    <a:pt x="1871" y="1697"/>
                  </a:lnTo>
                  <a:lnTo>
                    <a:pt x="1866" y="1688"/>
                  </a:lnTo>
                  <a:lnTo>
                    <a:pt x="1860" y="1680"/>
                  </a:lnTo>
                  <a:lnTo>
                    <a:pt x="1851" y="1671"/>
                  </a:lnTo>
                  <a:lnTo>
                    <a:pt x="1842" y="1665"/>
                  </a:lnTo>
                  <a:lnTo>
                    <a:pt x="1831" y="1662"/>
                  </a:lnTo>
                  <a:lnTo>
                    <a:pt x="1819" y="1657"/>
                  </a:lnTo>
                  <a:lnTo>
                    <a:pt x="1813" y="1648"/>
                  </a:lnTo>
                  <a:lnTo>
                    <a:pt x="1810" y="1639"/>
                  </a:lnTo>
                  <a:lnTo>
                    <a:pt x="1807" y="1631"/>
                  </a:lnTo>
                  <a:lnTo>
                    <a:pt x="1799" y="1622"/>
                  </a:lnTo>
                  <a:lnTo>
                    <a:pt x="1793" y="1613"/>
                  </a:lnTo>
                  <a:lnTo>
                    <a:pt x="1784" y="1613"/>
                  </a:lnTo>
                  <a:lnTo>
                    <a:pt x="1772" y="1613"/>
                  </a:lnTo>
                  <a:lnTo>
                    <a:pt x="1764" y="1608"/>
                  </a:lnTo>
                  <a:lnTo>
                    <a:pt x="1761" y="1599"/>
                  </a:lnTo>
                  <a:lnTo>
                    <a:pt x="1772" y="1596"/>
                  </a:lnTo>
                  <a:lnTo>
                    <a:pt x="1781" y="1596"/>
                  </a:lnTo>
                  <a:lnTo>
                    <a:pt x="1787" y="1587"/>
                  </a:lnTo>
                  <a:lnTo>
                    <a:pt x="1778" y="1579"/>
                  </a:lnTo>
                  <a:lnTo>
                    <a:pt x="1770" y="1576"/>
                  </a:lnTo>
                  <a:lnTo>
                    <a:pt x="1761" y="1573"/>
                  </a:lnTo>
                  <a:lnTo>
                    <a:pt x="1758" y="1564"/>
                  </a:lnTo>
                  <a:lnTo>
                    <a:pt x="1758" y="1556"/>
                  </a:lnTo>
                  <a:lnTo>
                    <a:pt x="1758" y="1547"/>
                  </a:lnTo>
                  <a:lnTo>
                    <a:pt x="1749" y="1547"/>
                  </a:lnTo>
                  <a:lnTo>
                    <a:pt x="1737" y="1553"/>
                  </a:lnTo>
                  <a:lnTo>
                    <a:pt x="1729" y="1553"/>
                  </a:lnTo>
                  <a:lnTo>
                    <a:pt x="1720" y="1556"/>
                  </a:lnTo>
                  <a:lnTo>
                    <a:pt x="1720" y="1547"/>
                  </a:lnTo>
                  <a:lnTo>
                    <a:pt x="1723" y="1538"/>
                  </a:lnTo>
                  <a:lnTo>
                    <a:pt x="1726" y="1550"/>
                  </a:lnTo>
                  <a:lnTo>
                    <a:pt x="1723" y="1559"/>
                  </a:lnTo>
                  <a:lnTo>
                    <a:pt x="1723" y="1567"/>
                  </a:lnTo>
                  <a:lnTo>
                    <a:pt x="1732" y="1567"/>
                  </a:lnTo>
                  <a:lnTo>
                    <a:pt x="1740" y="1556"/>
                  </a:lnTo>
                  <a:lnTo>
                    <a:pt x="1726" y="1553"/>
                  </a:lnTo>
                  <a:lnTo>
                    <a:pt x="1717" y="1553"/>
                  </a:lnTo>
                  <a:lnTo>
                    <a:pt x="1705" y="1553"/>
                  </a:lnTo>
                  <a:lnTo>
                    <a:pt x="1705" y="1541"/>
                  </a:lnTo>
                  <a:lnTo>
                    <a:pt x="1711" y="1533"/>
                  </a:lnTo>
                  <a:lnTo>
                    <a:pt x="1700" y="1535"/>
                  </a:lnTo>
                  <a:lnTo>
                    <a:pt x="1691" y="1541"/>
                  </a:lnTo>
                  <a:lnTo>
                    <a:pt x="1679" y="1544"/>
                  </a:lnTo>
                  <a:lnTo>
                    <a:pt x="1685" y="1533"/>
                  </a:lnTo>
                  <a:lnTo>
                    <a:pt x="1685" y="1524"/>
                  </a:lnTo>
                  <a:lnTo>
                    <a:pt x="1676" y="1524"/>
                  </a:lnTo>
                  <a:lnTo>
                    <a:pt x="1668" y="1533"/>
                  </a:lnTo>
                  <a:lnTo>
                    <a:pt x="1662" y="1541"/>
                  </a:lnTo>
                  <a:lnTo>
                    <a:pt x="1653" y="1544"/>
                  </a:lnTo>
                  <a:lnTo>
                    <a:pt x="1653" y="1535"/>
                  </a:lnTo>
                  <a:lnTo>
                    <a:pt x="1644" y="1541"/>
                  </a:lnTo>
                  <a:lnTo>
                    <a:pt x="1641" y="1550"/>
                  </a:lnTo>
                  <a:lnTo>
                    <a:pt x="1633" y="1547"/>
                  </a:lnTo>
                  <a:lnTo>
                    <a:pt x="1633" y="1538"/>
                  </a:lnTo>
                  <a:lnTo>
                    <a:pt x="1624" y="1538"/>
                  </a:lnTo>
                  <a:lnTo>
                    <a:pt x="1615" y="1541"/>
                  </a:lnTo>
                  <a:lnTo>
                    <a:pt x="1609" y="1550"/>
                  </a:lnTo>
                  <a:lnTo>
                    <a:pt x="1601" y="1541"/>
                  </a:lnTo>
                  <a:lnTo>
                    <a:pt x="1598" y="1533"/>
                  </a:lnTo>
                  <a:lnTo>
                    <a:pt x="1589" y="1535"/>
                  </a:lnTo>
                  <a:lnTo>
                    <a:pt x="1580" y="1541"/>
                  </a:lnTo>
                  <a:lnTo>
                    <a:pt x="1569" y="1538"/>
                  </a:lnTo>
                  <a:lnTo>
                    <a:pt x="1563" y="1547"/>
                  </a:lnTo>
                  <a:lnTo>
                    <a:pt x="1557" y="1559"/>
                  </a:lnTo>
                  <a:lnTo>
                    <a:pt x="1554" y="1567"/>
                  </a:lnTo>
                  <a:lnTo>
                    <a:pt x="1548" y="1576"/>
                  </a:lnTo>
                  <a:lnTo>
                    <a:pt x="1540" y="1576"/>
                  </a:lnTo>
                  <a:lnTo>
                    <a:pt x="1531" y="1576"/>
                  </a:lnTo>
                  <a:lnTo>
                    <a:pt x="1525" y="1564"/>
                  </a:lnTo>
                  <a:lnTo>
                    <a:pt x="1525" y="1556"/>
                  </a:lnTo>
                  <a:lnTo>
                    <a:pt x="1525" y="1547"/>
                  </a:lnTo>
                  <a:lnTo>
                    <a:pt x="1516" y="1544"/>
                  </a:lnTo>
                  <a:lnTo>
                    <a:pt x="1513" y="1553"/>
                  </a:lnTo>
                  <a:lnTo>
                    <a:pt x="1528" y="1541"/>
                  </a:lnTo>
                  <a:lnTo>
                    <a:pt x="1510" y="1530"/>
                  </a:lnTo>
                  <a:lnTo>
                    <a:pt x="1502" y="1530"/>
                  </a:lnTo>
                  <a:lnTo>
                    <a:pt x="1493" y="1538"/>
                  </a:lnTo>
                  <a:lnTo>
                    <a:pt x="1484" y="1544"/>
                  </a:lnTo>
                  <a:lnTo>
                    <a:pt x="1481" y="1553"/>
                  </a:lnTo>
                  <a:lnTo>
                    <a:pt x="1481" y="1561"/>
                  </a:lnTo>
                  <a:lnTo>
                    <a:pt x="1487" y="1570"/>
                  </a:lnTo>
                  <a:lnTo>
                    <a:pt x="1487" y="1579"/>
                  </a:lnTo>
                  <a:lnTo>
                    <a:pt x="1478" y="1587"/>
                  </a:lnTo>
                  <a:lnTo>
                    <a:pt x="1470" y="1590"/>
                  </a:lnTo>
                  <a:lnTo>
                    <a:pt x="1461" y="1599"/>
                  </a:lnTo>
                  <a:lnTo>
                    <a:pt x="1443" y="1599"/>
                  </a:lnTo>
                  <a:lnTo>
                    <a:pt x="1432" y="1599"/>
                  </a:lnTo>
                  <a:lnTo>
                    <a:pt x="1426" y="1610"/>
                  </a:lnTo>
                  <a:lnTo>
                    <a:pt x="1420" y="1619"/>
                  </a:lnTo>
                  <a:lnTo>
                    <a:pt x="1429" y="1619"/>
                  </a:lnTo>
                  <a:lnTo>
                    <a:pt x="1417" y="1628"/>
                  </a:lnTo>
                  <a:lnTo>
                    <a:pt x="1406" y="1628"/>
                  </a:lnTo>
                  <a:lnTo>
                    <a:pt x="1397" y="1628"/>
                  </a:lnTo>
                  <a:lnTo>
                    <a:pt x="1388" y="1628"/>
                  </a:lnTo>
                  <a:lnTo>
                    <a:pt x="1382" y="1636"/>
                  </a:lnTo>
                  <a:lnTo>
                    <a:pt x="1379" y="1645"/>
                  </a:lnTo>
                  <a:lnTo>
                    <a:pt x="1371" y="1645"/>
                  </a:lnTo>
                  <a:lnTo>
                    <a:pt x="1362" y="1645"/>
                  </a:lnTo>
                  <a:lnTo>
                    <a:pt x="1356" y="1654"/>
                  </a:lnTo>
                  <a:lnTo>
                    <a:pt x="1347" y="1657"/>
                  </a:lnTo>
                  <a:lnTo>
                    <a:pt x="1336" y="1659"/>
                  </a:lnTo>
                  <a:lnTo>
                    <a:pt x="1327" y="1659"/>
                  </a:lnTo>
                  <a:lnTo>
                    <a:pt x="1318" y="1662"/>
                  </a:lnTo>
                  <a:lnTo>
                    <a:pt x="1310" y="1662"/>
                  </a:lnTo>
                  <a:lnTo>
                    <a:pt x="1298" y="1662"/>
                  </a:lnTo>
                  <a:lnTo>
                    <a:pt x="1289" y="1665"/>
                  </a:lnTo>
                  <a:lnTo>
                    <a:pt x="1280" y="1671"/>
                  </a:lnTo>
                  <a:lnTo>
                    <a:pt x="1278" y="1680"/>
                  </a:lnTo>
                  <a:lnTo>
                    <a:pt x="1280" y="1691"/>
                  </a:lnTo>
                  <a:lnTo>
                    <a:pt x="1289" y="1694"/>
                  </a:lnTo>
                  <a:lnTo>
                    <a:pt x="1301" y="1697"/>
                  </a:lnTo>
                  <a:lnTo>
                    <a:pt x="1312" y="1697"/>
                  </a:lnTo>
                  <a:lnTo>
                    <a:pt x="1321" y="1697"/>
                  </a:lnTo>
                  <a:lnTo>
                    <a:pt x="1310" y="1694"/>
                  </a:lnTo>
                  <a:lnTo>
                    <a:pt x="1298" y="1694"/>
                  </a:lnTo>
                  <a:lnTo>
                    <a:pt x="1289" y="1691"/>
                  </a:lnTo>
                  <a:lnTo>
                    <a:pt x="1304" y="1685"/>
                  </a:lnTo>
                  <a:lnTo>
                    <a:pt x="1312" y="1685"/>
                  </a:lnTo>
                  <a:lnTo>
                    <a:pt x="1321" y="1685"/>
                  </a:lnTo>
                  <a:lnTo>
                    <a:pt x="1312" y="1682"/>
                  </a:lnTo>
                  <a:lnTo>
                    <a:pt x="1301" y="1685"/>
                  </a:lnTo>
                  <a:lnTo>
                    <a:pt x="1292" y="1685"/>
                  </a:lnTo>
                  <a:lnTo>
                    <a:pt x="1286" y="1677"/>
                  </a:lnTo>
                  <a:lnTo>
                    <a:pt x="1275" y="1668"/>
                  </a:lnTo>
                  <a:lnTo>
                    <a:pt x="1266" y="1665"/>
                  </a:lnTo>
                  <a:lnTo>
                    <a:pt x="1248" y="1659"/>
                  </a:lnTo>
                  <a:lnTo>
                    <a:pt x="1240" y="1659"/>
                  </a:lnTo>
                  <a:lnTo>
                    <a:pt x="1234" y="1668"/>
                  </a:lnTo>
                  <a:lnTo>
                    <a:pt x="1225" y="1671"/>
                  </a:lnTo>
                  <a:lnTo>
                    <a:pt x="1216" y="1674"/>
                  </a:lnTo>
                  <a:lnTo>
                    <a:pt x="1208" y="1674"/>
                  </a:lnTo>
                  <a:lnTo>
                    <a:pt x="1199" y="1671"/>
                  </a:lnTo>
                  <a:lnTo>
                    <a:pt x="1190" y="1674"/>
                  </a:lnTo>
                  <a:lnTo>
                    <a:pt x="1176" y="1671"/>
                  </a:lnTo>
                  <a:lnTo>
                    <a:pt x="1167" y="1668"/>
                  </a:lnTo>
                  <a:lnTo>
                    <a:pt x="1161" y="1677"/>
                  </a:lnTo>
                  <a:lnTo>
                    <a:pt x="1152" y="1682"/>
                  </a:lnTo>
                  <a:lnTo>
                    <a:pt x="1144" y="1682"/>
                  </a:lnTo>
                  <a:lnTo>
                    <a:pt x="1132" y="1682"/>
                  </a:lnTo>
                  <a:lnTo>
                    <a:pt x="1132" y="1691"/>
                  </a:lnTo>
                  <a:lnTo>
                    <a:pt x="1132" y="1700"/>
                  </a:lnTo>
                  <a:lnTo>
                    <a:pt x="1147" y="1708"/>
                  </a:lnTo>
                  <a:lnTo>
                    <a:pt x="1155" y="1720"/>
                  </a:lnTo>
                  <a:lnTo>
                    <a:pt x="1158" y="1729"/>
                  </a:lnTo>
                  <a:lnTo>
                    <a:pt x="1158" y="1737"/>
                  </a:lnTo>
                  <a:lnTo>
                    <a:pt x="1161" y="1746"/>
                  </a:lnTo>
                  <a:lnTo>
                    <a:pt x="1161" y="1737"/>
                  </a:lnTo>
                  <a:lnTo>
                    <a:pt x="1155" y="1726"/>
                  </a:lnTo>
                  <a:lnTo>
                    <a:pt x="1152" y="1717"/>
                  </a:lnTo>
                  <a:lnTo>
                    <a:pt x="1138" y="1717"/>
                  </a:lnTo>
                  <a:lnTo>
                    <a:pt x="1129" y="1711"/>
                  </a:lnTo>
                  <a:lnTo>
                    <a:pt x="1120" y="1711"/>
                  </a:lnTo>
                  <a:lnTo>
                    <a:pt x="1117" y="1720"/>
                  </a:lnTo>
                  <a:lnTo>
                    <a:pt x="1114" y="1731"/>
                  </a:lnTo>
                  <a:lnTo>
                    <a:pt x="1114" y="1740"/>
                  </a:lnTo>
                  <a:lnTo>
                    <a:pt x="1126" y="1740"/>
                  </a:lnTo>
                  <a:lnTo>
                    <a:pt x="1138" y="1743"/>
                  </a:lnTo>
                  <a:lnTo>
                    <a:pt x="1129" y="1743"/>
                  </a:lnTo>
                  <a:lnTo>
                    <a:pt x="1120" y="1743"/>
                  </a:lnTo>
                  <a:lnTo>
                    <a:pt x="1112" y="1746"/>
                  </a:lnTo>
                  <a:lnTo>
                    <a:pt x="1103" y="1752"/>
                  </a:lnTo>
                  <a:lnTo>
                    <a:pt x="1094" y="1755"/>
                  </a:lnTo>
                  <a:lnTo>
                    <a:pt x="1085" y="1763"/>
                  </a:lnTo>
                  <a:lnTo>
                    <a:pt x="1077" y="1766"/>
                  </a:lnTo>
                  <a:lnTo>
                    <a:pt x="1068" y="1766"/>
                  </a:lnTo>
                  <a:lnTo>
                    <a:pt x="1077" y="1772"/>
                  </a:lnTo>
                  <a:lnTo>
                    <a:pt x="1085" y="1772"/>
                  </a:lnTo>
                  <a:lnTo>
                    <a:pt x="1097" y="1775"/>
                  </a:lnTo>
                  <a:lnTo>
                    <a:pt x="1091" y="1783"/>
                  </a:lnTo>
                  <a:lnTo>
                    <a:pt x="1080" y="1786"/>
                  </a:lnTo>
                  <a:lnTo>
                    <a:pt x="1071" y="1786"/>
                  </a:lnTo>
                  <a:lnTo>
                    <a:pt x="1062" y="1789"/>
                  </a:lnTo>
                  <a:lnTo>
                    <a:pt x="1056" y="1798"/>
                  </a:lnTo>
                  <a:lnTo>
                    <a:pt x="1056" y="1806"/>
                  </a:lnTo>
                  <a:lnTo>
                    <a:pt x="1056" y="1815"/>
                  </a:lnTo>
                  <a:lnTo>
                    <a:pt x="1056" y="1824"/>
                  </a:lnTo>
                  <a:lnTo>
                    <a:pt x="1056" y="1832"/>
                  </a:lnTo>
                  <a:lnTo>
                    <a:pt x="1056" y="1841"/>
                  </a:lnTo>
                  <a:lnTo>
                    <a:pt x="1062" y="1850"/>
                  </a:lnTo>
                  <a:lnTo>
                    <a:pt x="1074" y="1855"/>
                  </a:lnTo>
                  <a:lnTo>
                    <a:pt x="1082" y="1855"/>
                  </a:lnTo>
                  <a:lnTo>
                    <a:pt x="1091" y="1855"/>
                  </a:lnTo>
                  <a:lnTo>
                    <a:pt x="1103" y="1855"/>
                  </a:lnTo>
                  <a:lnTo>
                    <a:pt x="1112" y="1855"/>
                  </a:lnTo>
                  <a:lnTo>
                    <a:pt x="1120" y="1855"/>
                  </a:lnTo>
                  <a:lnTo>
                    <a:pt x="1132" y="1855"/>
                  </a:lnTo>
                  <a:lnTo>
                    <a:pt x="1144" y="1855"/>
                  </a:lnTo>
                  <a:lnTo>
                    <a:pt x="1152" y="1852"/>
                  </a:lnTo>
                  <a:lnTo>
                    <a:pt x="1167" y="1852"/>
                  </a:lnTo>
                  <a:lnTo>
                    <a:pt x="1176" y="1844"/>
                  </a:lnTo>
                  <a:lnTo>
                    <a:pt x="1179" y="1835"/>
                  </a:lnTo>
                  <a:lnTo>
                    <a:pt x="1181" y="1827"/>
                  </a:lnTo>
                  <a:lnTo>
                    <a:pt x="1184" y="1835"/>
                  </a:lnTo>
                  <a:lnTo>
                    <a:pt x="1184" y="1844"/>
                  </a:lnTo>
                  <a:lnTo>
                    <a:pt x="1181" y="1852"/>
                  </a:lnTo>
                  <a:lnTo>
                    <a:pt x="1170" y="1858"/>
                  </a:lnTo>
                  <a:lnTo>
                    <a:pt x="1173" y="1867"/>
                  </a:lnTo>
                  <a:lnTo>
                    <a:pt x="1170" y="1876"/>
                  </a:lnTo>
                  <a:lnTo>
                    <a:pt x="1164" y="1884"/>
                  </a:lnTo>
                  <a:lnTo>
                    <a:pt x="1161" y="1893"/>
                  </a:lnTo>
                  <a:lnTo>
                    <a:pt x="1161" y="1901"/>
                  </a:lnTo>
                  <a:lnTo>
                    <a:pt x="1158" y="1910"/>
                  </a:lnTo>
                  <a:lnTo>
                    <a:pt x="1149" y="1913"/>
                  </a:lnTo>
                  <a:lnTo>
                    <a:pt x="1147" y="1922"/>
                  </a:lnTo>
                  <a:lnTo>
                    <a:pt x="1147" y="1930"/>
                  </a:lnTo>
                  <a:lnTo>
                    <a:pt x="1144" y="1939"/>
                  </a:lnTo>
                  <a:lnTo>
                    <a:pt x="1144" y="1948"/>
                  </a:lnTo>
                  <a:lnTo>
                    <a:pt x="1141" y="1956"/>
                  </a:lnTo>
                  <a:lnTo>
                    <a:pt x="1141" y="1968"/>
                  </a:lnTo>
                  <a:lnTo>
                    <a:pt x="1141" y="1976"/>
                  </a:lnTo>
                  <a:lnTo>
                    <a:pt x="1155" y="1956"/>
                  </a:lnTo>
                  <a:lnTo>
                    <a:pt x="1144" y="1956"/>
                  </a:lnTo>
                  <a:lnTo>
                    <a:pt x="1144" y="1965"/>
                  </a:lnTo>
                  <a:lnTo>
                    <a:pt x="1144" y="1974"/>
                  </a:lnTo>
                  <a:lnTo>
                    <a:pt x="1144" y="1982"/>
                  </a:lnTo>
                  <a:lnTo>
                    <a:pt x="1138" y="1991"/>
                  </a:lnTo>
                  <a:lnTo>
                    <a:pt x="1129" y="1997"/>
                  </a:lnTo>
                  <a:lnTo>
                    <a:pt x="1120" y="1997"/>
                  </a:lnTo>
                  <a:lnTo>
                    <a:pt x="1117" y="2005"/>
                  </a:lnTo>
                  <a:lnTo>
                    <a:pt x="1117" y="2014"/>
                  </a:lnTo>
                  <a:lnTo>
                    <a:pt x="1117" y="2023"/>
                  </a:lnTo>
                  <a:lnTo>
                    <a:pt x="1117" y="2031"/>
                  </a:lnTo>
                  <a:lnTo>
                    <a:pt x="1120" y="2040"/>
                  </a:lnTo>
                  <a:lnTo>
                    <a:pt x="1129" y="2046"/>
                  </a:lnTo>
                  <a:lnTo>
                    <a:pt x="1144" y="2054"/>
                  </a:lnTo>
                  <a:lnTo>
                    <a:pt x="1152" y="2054"/>
                  </a:lnTo>
                  <a:lnTo>
                    <a:pt x="1158" y="2046"/>
                  </a:lnTo>
                  <a:lnTo>
                    <a:pt x="1158" y="2037"/>
                  </a:lnTo>
                  <a:lnTo>
                    <a:pt x="1170" y="2037"/>
                  </a:lnTo>
                  <a:lnTo>
                    <a:pt x="1179" y="2037"/>
                  </a:lnTo>
                  <a:lnTo>
                    <a:pt x="1187" y="2037"/>
                  </a:lnTo>
                  <a:lnTo>
                    <a:pt x="1199" y="2037"/>
                  </a:lnTo>
                  <a:lnTo>
                    <a:pt x="1208" y="2040"/>
                  </a:lnTo>
                  <a:lnTo>
                    <a:pt x="1216" y="2043"/>
                  </a:lnTo>
                  <a:lnTo>
                    <a:pt x="1225" y="2040"/>
                  </a:lnTo>
                  <a:lnTo>
                    <a:pt x="1228" y="2031"/>
                  </a:lnTo>
                  <a:lnTo>
                    <a:pt x="1231" y="2023"/>
                  </a:lnTo>
                  <a:lnTo>
                    <a:pt x="1237" y="2014"/>
                  </a:lnTo>
                  <a:lnTo>
                    <a:pt x="1245" y="2005"/>
                  </a:lnTo>
                  <a:lnTo>
                    <a:pt x="1251" y="1997"/>
                  </a:lnTo>
                  <a:lnTo>
                    <a:pt x="1260" y="1991"/>
                  </a:lnTo>
                  <a:lnTo>
                    <a:pt x="1266" y="1982"/>
                  </a:lnTo>
                  <a:lnTo>
                    <a:pt x="1269" y="1974"/>
                  </a:lnTo>
                  <a:lnTo>
                    <a:pt x="1272" y="1965"/>
                  </a:lnTo>
                  <a:lnTo>
                    <a:pt x="1280" y="1962"/>
                  </a:lnTo>
                  <a:lnTo>
                    <a:pt x="1289" y="1962"/>
                  </a:lnTo>
                  <a:lnTo>
                    <a:pt x="1298" y="1959"/>
                  </a:lnTo>
                  <a:lnTo>
                    <a:pt x="1301" y="1950"/>
                  </a:lnTo>
                  <a:lnTo>
                    <a:pt x="1304" y="1942"/>
                  </a:lnTo>
                  <a:lnTo>
                    <a:pt x="1301" y="1933"/>
                  </a:lnTo>
                  <a:lnTo>
                    <a:pt x="1292" y="1925"/>
                  </a:lnTo>
                  <a:lnTo>
                    <a:pt x="1301" y="1919"/>
                  </a:lnTo>
                  <a:lnTo>
                    <a:pt x="1310" y="1927"/>
                  </a:lnTo>
                  <a:lnTo>
                    <a:pt x="1318" y="1933"/>
                  </a:lnTo>
                  <a:lnTo>
                    <a:pt x="1324" y="1942"/>
                  </a:lnTo>
                  <a:lnTo>
                    <a:pt x="1333" y="1950"/>
                  </a:lnTo>
                  <a:lnTo>
                    <a:pt x="1342" y="1950"/>
                  </a:lnTo>
                  <a:lnTo>
                    <a:pt x="1350" y="1950"/>
                  </a:lnTo>
                  <a:lnTo>
                    <a:pt x="1353" y="1942"/>
                  </a:lnTo>
                  <a:lnTo>
                    <a:pt x="1353" y="1933"/>
                  </a:lnTo>
                  <a:lnTo>
                    <a:pt x="1356" y="1925"/>
                  </a:lnTo>
                  <a:lnTo>
                    <a:pt x="1356" y="1916"/>
                  </a:lnTo>
                  <a:lnTo>
                    <a:pt x="1359" y="1907"/>
                  </a:lnTo>
                  <a:lnTo>
                    <a:pt x="1359" y="1899"/>
                  </a:lnTo>
                  <a:lnTo>
                    <a:pt x="1356" y="1890"/>
                  </a:lnTo>
                  <a:lnTo>
                    <a:pt x="1347" y="1881"/>
                  </a:lnTo>
                  <a:lnTo>
                    <a:pt x="1347" y="1870"/>
                  </a:lnTo>
                  <a:lnTo>
                    <a:pt x="1347" y="1861"/>
                  </a:lnTo>
                  <a:lnTo>
                    <a:pt x="1356" y="1855"/>
                  </a:lnTo>
                  <a:lnTo>
                    <a:pt x="1362" y="1847"/>
                  </a:lnTo>
                  <a:lnTo>
                    <a:pt x="1371" y="1844"/>
                  </a:lnTo>
                  <a:lnTo>
                    <a:pt x="1379" y="1835"/>
                  </a:lnTo>
                  <a:lnTo>
                    <a:pt x="1382" y="1827"/>
                  </a:lnTo>
                  <a:lnTo>
                    <a:pt x="1391" y="1821"/>
                  </a:lnTo>
                  <a:lnTo>
                    <a:pt x="1400" y="1815"/>
                  </a:lnTo>
                  <a:lnTo>
                    <a:pt x="1406" y="1806"/>
                  </a:lnTo>
                  <a:lnTo>
                    <a:pt x="1414" y="1801"/>
                  </a:lnTo>
                  <a:lnTo>
                    <a:pt x="1423" y="1801"/>
                  </a:lnTo>
                  <a:lnTo>
                    <a:pt x="1435" y="1798"/>
                  </a:lnTo>
                  <a:lnTo>
                    <a:pt x="1443" y="1792"/>
                  </a:lnTo>
                  <a:lnTo>
                    <a:pt x="1452" y="1792"/>
                  </a:lnTo>
                  <a:lnTo>
                    <a:pt x="1464" y="1789"/>
                  </a:lnTo>
                  <a:lnTo>
                    <a:pt x="1473" y="1789"/>
                  </a:lnTo>
                  <a:lnTo>
                    <a:pt x="1481" y="1789"/>
                  </a:lnTo>
                  <a:lnTo>
                    <a:pt x="1490" y="1786"/>
                  </a:lnTo>
                  <a:lnTo>
                    <a:pt x="1499" y="1786"/>
                  </a:lnTo>
                  <a:lnTo>
                    <a:pt x="1508" y="1786"/>
                  </a:lnTo>
                  <a:lnTo>
                    <a:pt x="1516" y="1783"/>
                  </a:lnTo>
                  <a:lnTo>
                    <a:pt x="1516" y="1775"/>
                  </a:lnTo>
                  <a:lnTo>
                    <a:pt x="1516" y="1766"/>
                  </a:lnTo>
                  <a:lnTo>
                    <a:pt x="1513" y="1757"/>
                  </a:lnTo>
                  <a:lnTo>
                    <a:pt x="1522" y="1752"/>
                  </a:lnTo>
                  <a:lnTo>
                    <a:pt x="1528" y="1743"/>
                  </a:lnTo>
                  <a:lnTo>
                    <a:pt x="1537" y="1737"/>
                  </a:lnTo>
                  <a:lnTo>
                    <a:pt x="1545" y="1737"/>
                  </a:lnTo>
                  <a:lnTo>
                    <a:pt x="1554" y="1734"/>
                  </a:lnTo>
                  <a:lnTo>
                    <a:pt x="1563" y="1729"/>
                  </a:lnTo>
                  <a:lnTo>
                    <a:pt x="1572" y="1729"/>
                  </a:lnTo>
                  <a:lnTo>
                    <a:pt x="1580" y="1737"/>
                  </a:lnTo>
                  <a:lnTo>
                    <a:pt x="1589" y="1743"/>
                  </a:lnTo>
                  <a:lnTo>
                    <a:pt x="1598" y="1749"/>
                  </a:lnTo>
                  <a:lnTo>
                    <a:pt x="1601" y="1757"/>
                  </a:lnTo>
                  <a:lnTo>
                    <a:pt x="1601" y="1766"/>
                  </a:lnTo>
                  <a:lnTo>
                    <a:pt x="1604" y="1775"/>
                  </a:lnTo>
                  <a:lnTo>
                    <a:pt x="1604" y="1783"/>
                  </a:lnTo>
                  <a:lnTo>
                    <a:pt x="1592" y="1789"/>
                  </a:lnTo>
                  <a:lnTo>
                    <a:pt x="1580" y="1789"/>
                  </a:lnTo>
                  <a:lnTo>
                    <a:pt x="1572" y="1792"/>
                  </a:lnTo>
                  <a:lnTo>
                    <a:pt x="1566" y="1801"/>
                  </a:lnTo>
                  <a:lnTo>
                    <a:pt x="1557" y="1806"/>
                  </a:lnTo>
                  <a:lnTo>
                    <a:pt x="1548" y="1812"/>
                  </a:lnTo>
                  <a:lnTo>
                    <a:pt x="1537" y="1815"/>
                  </a:lnTo>
                  <a:lnTo>
                    <a:pt x="1528" y="1818"/>
                  </a:lnTo>
                  <a:lnTo>
                    <a:pt x="1519" y="1824"/>
                  </a:lnTo>
                  <a:lnTo>
                    <a:pt x="1510" y="1829"/>
                  </a:lnTo>
                  <a:lnTo>
                    <a:pt x="1502" y="1829"/>
                  </a:lnTo>
                  <a:lnTo>
                    <a:pt x="1490" y="1832"/>
                  </a:lnTo>
                  <a:lnTo>
                    <a:pt x="1481" y="1835"/>
                  </a:lnTo>
                  <a:lnTo>
                    <a:pt x="1473" y="1835"/>
                  </a:lnTo>
                  <a:lnTo>
                    <a:pt x="1464" y="1841"/>
                  </a:lnTo>
                  <a:lnTo>
                    <a:pt x="1458" y="1850"/>
                  </a:lnTo>
                  <a:lnTo>
                    <a:pt x="1452" y="1858"/>
                  </a:lnTo>
                  <a:lnTo>
                    <a:pt x="1449" y="1867"/>
                  </a:lnTo>
                  <a:lnTo>
                    <a:pt x="1449" y="1876"/>
                  </a:lnTo>
                  <a:lnTo>
                    <a:pt x="1446" y="1884"/>
                  </a:lnTo>
                  <a:lnTo>
                    <a:pt x="1443" y="1893"/>
                  </a:lnTo>
                  <a:lnTo>
                    <a:pt x="1438" y="1901"/>
                  </a:lnTo>
                  <a:lnTo>
                    <a:pt x="1435" y="1910"/>
                  </a:lnTo>
                  <a:lnTo>
                    <a:pt x="1429" y="1919"/>
                  </a:lnTo>
                  <a:lnTo>
                    <a:pt x="1426" y="1927"/>
                  </a:lnTo>
                  <a:lnTo>
                    <a:pt x="1423" y="1936"/>
                  </a:lnTo>
                  <a:lnTo>
                    <a:pt x="1423" y="1945"/>
                  </a:lnTo>
                  <a:lnTo>
                    <a:pt x="1417" y="1953"/>
                  </a:lnTo>
                  <a:lnTo>
                    <a:pt x="1417" y="1962"/>
                  </a:lnTo>
                  <a:lnTo>
                    <a:pt x="1426" y="1962"/>
                  </a:lnTo>
                  <a:lnTo>
                    <a:pt x="1435" y="1974"/>
                  </a:lnTo>
                  <a:lnTo>
                    <a:pt x="1441" y="1982"/>
                  </a:lnTo>
                  <a:lnTo>
                    <a:pt x="1441" y="1991"/>
                  </a:lnTo>
                  <a:lnTo>
                    <a:pt x="1449" y="1991"/>
                  </a:lnTo>
                  <a:lnTo>
                    <a:pt x="1461" y="1991"/>
                  </a:lnTo>
                  <a:lnTo>
                    <a:pt x="1470" y="1991"/>
                  </a:lnTo>
                  <a:lnTo>
                    <a:pt x="1484" y="1994"/>
                  </a:lnTo>
                  <a:lnTo>
                    <a:pt x="1493" y="1994"/>
                  </a:lnTo>
                  <a:lnTo>
                    <a:pt x="1502" y="1994"/>
                  </a:lnTo>
                  <a:lnTo>
                    <a:pt x="1510" y="1991"/>
                  </a:lnTo>
                  <a:lnTo>
                    <a:pt x="1519" y="1997"/>
                  </a:lnTo>
                  <a:lnTo>
                    <a:pt x="1531" y="1988"/>
                  </a:lnTo>
                  <a:lnTo>
                    <a:pt x="1540" y="1991"/>
                  </a:lnTo>
                  <a:lnTo>
                    <a:pt x="1548" y="1994"/>
                  </a:lnTo>
                  <a:lnTo>
                    <a:pt x="1557" y="1997"/>
                  </a:lnTo>
                  <a:lnTo>
                    <a:pt x="1566" y="1997"/>
                  </a:lnTo>
                  <a:lnTo>
                    <a:pt x="1569" y="2005"/>
                  </a:lnTo>
                  <a:lnTo>
                    <a:pt x="1569" y="2014"/>
                  </a:lnTo>
                  <a:lnTo>
                    <a:pt x="1569" y="2023"/>
                  </a:lnTo>
                  <a:lnTo>
                    <a:pt x="1572" y="2031"/>
                  </a:lnTo>
                  <a:lnTo>
                    <a:pt x="1577" y="2040"/>
                  </a:lnTo>
                  <a:lnTo>
                    <a:pt x="1586" y="2048"/>
                  </a:lnTo>
                  <a:lnTo>
                    <a:pt x="1577" y="2040"/>
                  </a:lnTo>
                  <a:lnTo>
                    <a:pt x="1569" y="2037"/>
                  </a:lnTo>
                  <a:lnTo>
                    <a:pt x="1557" y="2037"/>
                  </a:lnTo>
                  <a:lnTo>
                    <a:pt x="1548" y="2040"/>
                  </a:lnTo>
                  <a:lnTo>
                    <a:pt x="1548" y="2048"/>
                  </a:lnTo>
                  <a:lnTo>
                    <a:pt x="1540" y="2054"/>
                  </a:lnTo>
                  <a:lnTo>
                    <a:pt x="1531" y="2051"/>
                  </a:lnTo>
                  <a:lnTo>
                    <a:pt x="1522" y="2043"/>
                  </a:lnTo>
                  <a:lnTo>
                    <a:pt x="1513" y="2034"/>
                  </a:lnTo>
                  <a:lnTo>
                    <a:pt x="1505" y="2031"/>
                  </a:lnTo>
                  <a:lnTo>
                    <a:pt x="1496" y="2031"/>
                  </a:lnTo>
                  <a:lnTo>
                    <a:pt x="1487" y="2028"/>
                  </a:lnTo>
                  <a:lnTo>
                    <a:pt x="1478" y="2025"/>
                  </a:lnTo>
                  <a:lnTo>
                    <a:pt x="1470" y="2023"/>
                  </a:lnTo>
                  <a:lnTo>
                    <a:pt x="1461" y="2020"/>
                  </a:lnTo>
                  <a:lnTo>
                    <a:pt x="1452" y="2017"/>
                  </a:lnTo>
                  <a:lnTo>
                    <a:pt x="1441" y="2011"/>
                  </a:lnTo>
                  <a:lnTo>
                    <a:pt x="1432" y="2011"/>
                  </a:lnTo>
                  <a:lnTo>
                    <a:pt x="1426" y="2020"/>
                  </a:lnTo>
                  <a:lnTo>
                    <a:pt x="1426" y="2028"/>
                  </a:lnTo>
                  <a:lnTo>
                    <a:pt x="1423" y="2037"/>
                  </a:lnTo>
                  <a:lnTo>
                    <a:pt x="1417" y="2046"/>
                  </a:lnTo>
                  <a:lnTo>
                    <a:pt x="1414" y="2054"/>
                  </a:lnTo>
                  <a:lnTo>
                    <a:pt x="1426" y="2060"/>
                  </a:lnTo>
                  <a:lnTo>
                    <a:pt x="1432" y="2069"/>
                  </a:lnTo>
                  <a:lnTo>
                    <a:pt x="1429" y="2077"/>
                  </a:lnTo>
                  <a:lnTo>
                    <a:pt x="1423" y="2086"/>
                  </a:lnTo>
                  <a:lnTo>
                    <a:pt x="1414" y="2089"/>
                  </a:lnTo>
                  <a:lnTo>
                    <a:pt x="1409" y="2097"/>
                  </a:lnTo>
                  <a:lnTo>
                    <a:pt x="1403" y="2106"/>
                  </a:lnTo>
                  <a:lnTo>
                    <a:pt x="1400" y="2115"/>
                  </a:lnTo>
                  <a:lnTo>
                    <a:pt x="1391" y="2112"/>
                  </a:lnTo>
                  <a:lnTo>
                    <a:pt x="1388" y="2103"/>
                  </a:lnTo>
                  <a:lnTo>
                    <a:pt x="1385" y="2095"/>
                  </a:lnTo>
                  <a:lnTo>
                    <a:pt x="1382" y="2086"/>
                  </a:lnTo>
                  <a:lnTo>
                    <a:pt x="1382" y="2077"/>
                  </a:lnTo>
                  <a:lnTo>
                    <a:pt x="1379" y="2069"/>
                  </a:lnTo>
                  <a:lnTo>
                    <a:pt x="1371" y="2063"/>
                  </a:lnTo>
                  <a:lnTo>
                    <a:pt x="1359" y="2063"/>
                  </a:lnTo>
                  <a:lnTo>
                    <a:pt x="1350" y="2063"/>
                  </a:lnTo>
                  <a:lnTo>
                    <a:pt x="1344" y="2072"/>
                  </a:lnTo>
                  <a:lnTo>
                    <a:pt x="1339" y="2080"/>
                  </a:lnTo>
                  <a:lnTo>
                    <a:pt x="1333" y="2089"/>
                  </a:lnTo>
                  <a:lnTo>
                    <a:pt x="1327" y="2097"/>
                  </a:lnTo>
                  <a:lnTo>
                    <a:pt x="1321" y="2106"/>
                  </a:lnTo>
                  <a:lnTo>
                    <a:pt x="1312" y="2109"/>
                  </a:lnTo>
                  <a:lnTo>
                    <a:pt x="1304" y="2112"/>
                  </a:lnTo>
                  <a:lnTo>
                    <a:pt x="1304" y="2120"/>
                  </a:lnTo>
                  <a:lnTo>
                    <a:pt x="1301" y="2129"/>
                  </a:lnTo>
                  <a:lnTo>
                    <a:pt x="1298" y="2138"/>
                  </a:lnTo>
                  <a:lnTo>
                    <a:pt x="1295" y="2146"/>
                  </a:lnTo>
                  <a:lnTo>
                    <a:pt x="1295" y="2095"/>
                  </a:lnTo>
                  <a:lnTo>
                    <a:pt x="1304" y="2103"/>
                  </a:lnTo>
                  <a:lnTo>
                    <a:pt x="1304" y="2115"/>
                  </a:lnTo>
                  <a:lnTo>
                    <a:pt x="1301" y="2123"/>
                  </a:lnTo>
                  <a:lnTo>
                    <a:pt x="1298" y="2132"/>
                  </a:lnTo>
                  <a:lnTo>
                    <a:pt x="1298" y="2141"/>
                  </a:lnTo>
                  <a:lnTo>
                    <a:pt x="1295" y="2149"/>
                  </a:lnTo>
                  <a:lnTo>
                    <a:pt x="1292" y="2161"/>
                  </a:lnTo>
                  <a:lnTo>
                    <a:pt x="1289" y="2169"/>
                  </a:lnTo>
                  <a:lnTo>
                    <a:pt x="1280" y="2175"/>
                  </a:lnTo>
                  <a:lnTo>
                    <a:pt x="1278" y="2167"/>
                  </a:lnTo>
                  <a:lnTo>
                    <a:pt x="1275" y="2155"/>
                  </a:lnTo>
                  <a:lnTo>
                    <a:pt x="1272" y="2146"/>
                  </a:lnTo>
                  <a:lnTo>
                    <a:pt x="1263" y="2146"/>
                  </a:lnTo>
                  <a:lnTo>
                    <a:pt x="1251" y="2149"/>
                  </a:lnTo>
                  <a:lnTo>
                    <a:pt x="1245" y="2158"/>
                  </a:lnTo>
                  <a:lnTo>
                    <a:pt x="1240" y="2167"/>
                  </a:lnTo>
                  <a:lnTo>
                    <a:pt x="1228" y="2167"/>
                  </a:lnTo>
                  <a:lnTo>
                    <a:pt x="1216" y="2167"/>
                  </a:lnTo>
                  <a:lnTo>
                    <a:pt x="1213" y="2155"/>
                  </a:lnTo>
                  <a:lnTo>
                    <a:pt x="1213" y="2144"/>
                  </a:lnTo>
                  <a:lnTo>
                    <a:pt x="1205" y="2138"/>
                  </a:lnTo>
                  <a:lnTo>
                    <a:pt x="1196" y="2132"/>
                  </a:lnTo>
                  <a:lnTo>
                    <a:pt x="1179" y="2126"/>
                  </a:lnTo>
                  <a:lnTo>
                    <a:pt x="1170" y="2123"/>
                  </a:lnTo>
                  <a:lnTo>
                    <a:pt x="1158" y="2123"/>
                  </a:lnTo>
                  <a:lnTo>
                    <a:pt x="1152" y="2132"/>
                  </a:lnTo>
                  <a:lnTo>
                    <a:pt x="1141" y="2135"/>
                  </a:lnTo>
                  <a:lnTo>
                    <a:pt x="1132" y="2132"/>
                  </a:lnTo>
                  <a:lnTo>
                    <a:pt x="1123" y="2123"/>
                  </a:lnTo>
                  <a:lnTo>
                    <a:pt x="1114" y="2118"/>
                  </a:lnTo>
                  <a:lnTo>
                    <a:pt x="1106" y="2115"/>
                  </a:lnTo>
                  <a:lnTo>
                    <a:pt x="1097" y="2115"/>
                  </a:lnTo>
                  <a:lnTo>
                    <a:pt x="1094" y="2106"/>
                  </a:lnTo>
                  <a:lnTo>
                    <a:pt x="1094" y="2097"/>
                  </a:lnTo>
                  <a:lnTo>
                    <a:pt x="1094" y="2089"/>
                  </a:lnTo>
                  <a:lnTo>
                    <a:pt x="1091" y="2077"/>
                  </a:lnTo>
                  <a:lnTo>
                    <a:pt x="1091" y="2069"/>
                  </a:lnTo>
                  <a:lnTo>
                    <a:pt x="1082" y="2066"/>
                  </a:lnTo>
                  <a:lnTo>
                    <a:pt x="1074" y="2066"/>
                  </a:lnTo>
                  <a:lnTo>
                    <a:pt x="1065" y="2066"/>
                  </a:lnTo>
                  <a:lnTo>
                    <a:pt x="1056" y="2066"/>
                  </a:lnTo>
                  <a:lnTo>
                    <a:pt x="1048" y="2066"/>
                  </a:lnTo>
                  <a:lnTo>
                    <a:pt x="1039" y="2066"/>
                  </a:lnTo>
                  <a:lnTo>
                    <a:pt x="1027" y="2063"/>
                  </a:lnTo>
                  <a:lnTo>
                    <a:pt x="1021" y="2054"/>
                  </a:lnTo>
                  <a:lnTo>
                    <a:pt x="1021" y="2046"/>
                  </a:lnTo>
                  <a:lnTo>
                    <a:pt x="1016" y="2048"/>
                  </a:lnTo>
                  <a:lnTo>
                    <a:pt x="1036" y="2031"/>
                  </a:lnTo>
                  <a:lnTo>
                    <a:pt x="1048" y="2020"/>
                  </a:lnTo>
                  <a:lnTo>
                    <a:pt x="1059" y="2017"/>
                  </a:lnTo>
                  <a:lnTo>
                    <a:pt x="1062" y="2025"/>
                  </a:lnTo>
                  <a:lnTo>
                    <a:pt x="1050" y="2025"/>
                  </a:lnTo>
                  <a:lnTo>
                    <a:pt x="1059" y="2025"/>
                  </a:lnTo>
                  <a:lnTo>
                    <a:pt x="1071" y="2025"/>
                  </a:lnTo>
                  <a:lnTo>
                    <a:pt x="1080" y="2025"/>
                  </a:lnTo>
                  <a:lnTo>
                    <a:pt x="1088" y="2028"/>
                  </a:lnTo>
                  <a:lnTo>
                    <a:pt x="1097" y="2028"/>
                  </a:lnTo>
                  <a:lnTo>
                    <a:pt x="1106" y="2025"/>
                  </a:lnTo>
                  <a:lnTo>
                    <a:pt x="1109" y="2017"/>
                  </a:lnTo>
                  <a:lnTo>
                    <a:pt x="1112" y="2008"/>
                  </a:lnTo>
                  <a:lnTo>
                    <a:pt x="1103" y="1999"/>
                  </a:lnTo>
                  <a:lnTo>
                    <a:pt x="1100" y="1991"/>
                  </a:lnTo>
                  <a:lnTo>
                    <a:pt x="1094" y="1982"/>
                  </a:lnTo>
                  <a:lnTo>
                    <a:pt x="1091" y="1974"/>
                  </a:lnTo>
                  <a:lnTo>
                    <a:pt x="1082" y="1971"/>
                  </a:lnTo>
                  <a:lnTo>
                    <a:pt x="1077" y="1979"/>
                  </a:lnTo>
                  <a:lnTo>
                    <a:pt x="1077" y="1991"/>
                  </a:lnTo>
                  <a:lnTo>
                    <a:pt x="1077" y="1999"/>
                  </a:lnTo>
                  <a:lnTo>
                    <a:pt x="1071" y="2008"/>
                  </a:lnTo>
                  <a:lnTo>
                    <a:pt x="1068" y="2020"/>
                  </a:lnTo>
                  <a:lnTo>
                    <a:pt x="1068" y="2028"/>
                  </a:lnTo>
                  <a:lnTo>
                    <a:pt x="1059" y="2031"/>
                  </a:lnTo>
                  <a:lnTo>
                    <a:pt x="1048" y="2031"/>
                  </a:lnTo>
                  <a:lnTo>
                    <a:pt x="1039" y="2031"/>
                  </a:lnTo>
                  <a:lnTo>
                    <a:pt x="1030" y="2031"/>
                  </a:lnTo>
                  <a:lnTo>
                    <a:pt x="1027" y="2020"/>
                  </a:lnTo>
                  <a:lnTo>
                    <a:pt x="1027" y="2011"/>
                  </a:lnTo>
                  <a:lnTo>
                    <a:pt x="1027" y="2002"/>
                  </a:lnTo>
                  <a:lnTo>
                    <a:pt x="1027" y="1994"/>
                  </a:lnTo>
                  <a:lnTo>
                    <a:pt x="1027" y="1985"/>
                  </a:lnTo>
                  <a:lnTo>
                    <a:pt x="1030" y="1976"/>
                  </a:lnTo>
                  <a:lnTo>
                    <a:pt x="1039" y="1974"/>
                  </a:lnTo>
                  <a:lnTo>
                    <a:pt x="1042" y="1982"/>
                  </a:lnTo>
                  <a:lnTo>
                    <a:pt x="1042" y="1994"/>
                  </a:lnTo>
                  <a:lnTo>
                    <a:pt x="1045" y="2002"/>
                  </a:lnTo>
                  <a:lnTo>
                    <a:pt x="1050" y="2011"/>
                  </a:lnTo>
                  <a:lnTo>
                    <a:pt x="1062" y="2014"/>
                  </a:lnTo>
                  <a:lnTo>
                    <a:pt x="1074" y="2014"/>
                  </a:lnTo>
                  <a:lnTo>
                    <a:pt x="1082" y="2005"/>
                  </a:lnTo>
                  <a:lnTo>
                    <a:pt x="1082" y="1997"/>
                  </a:lnTo>
                  <a:lnTo>
                    <a:pt x="1074" y="1985"/>
                  </a:lnTo>
                  <a:lnTo>
                    <a:pt x="1065" y="1979"/>
                  </a:lnTo>
                  <a:lnTo>
                    <a:pt x="1065" y="1971"/>
                  </a:lnTo>
                  <a:lnTo>
                    <a:pt x="1074" y="1968"/>
                  </a:lnTo>
                  <a:lnTo>
                    <a:pt x="1082" y="1968"/>
                  </a:lnTo>
                  <a:lnTo>
                    <a:pt x="1091" y="1962"/>
                  </a:lnTo>
                  <a:lnTo>
                    <a:pt x="1091" y="1953"/>
                  </a:lnTo>
                  <a:lnTo>
                    <a:pt x="1091" y="1945"/>
                  </a:lnTo>
                  <a:lnTo>
                    <a:pt x="1100" y="1939"/>
                  </a:lnTo>
                  <a:lnTo>
                    <a:pt x="1109" y="1936"/>
                  </a:lnTo>
                  <a:lnTo>
                    <a:pt x="1117" y="1936"/>
                  </a:lnTo>
                  <a:lnTo>
                    <a:pt x="1123" y="1927"/>
                  </a:lnTo>
                  <a:lnTo>
                    <a:pt x="1126" y="1919"/>
                  </a:lnTo>
                  <a:lnTo>
                    <a:pt x="1126" y="1910"/>
                  </a:lnTo>
                  <a:lnTo>
                    <a:pt x="1126" y="1901"/>
                  </a:lnTo>
                  <a:lnTo>
                    <a:pt x="1114" y="1901"/>
                  </a:lnTo>
                  <a:lnTo>
                    <a:pt x="1106" y="1901"/>
                  </a:lnTo>
                  <a:lnTo>
                    <a:pt x="1097" y="1901"/>
                  </a:lnTo>
                  <a:lnTo>
                    <a:pt x="1088" y="1904"/>
                  </a:lnTo>
                  <a:lnTo>
                    <a:pt x="1080" y="1910"/>
                  </a:lnTo>
                  <a:lnTo>
                    <a:pt x="1077" y="1925"/>
                  </a:lnTo>
                  <a:lnTo>
                    <a:pt x="1077" y="1933"/>
                  </a:lnTo>
                  <a:lnTo>
                    <a:pt x="1068" y="1933"/>
                  </a:lnTo>
                  <a:lnTo>
                    <a:pt x="1059" y="1922"/>
                  </a:lnTo>
                  <a:lnTo>
                    <a:pt x="1056" y="1913"/>
                  </a:lnTo>
                  <a:lnTo>
                    <a:pt x="1068" y="1910"/>
                  </a:lnTo>
                  <a:lnTo>
                    <a:pt x="1077" y="1910"/>
                  </a:lnTo>
                  <a:lnTo>
                    <a:pt x="1065" y="1901"/>
                  </a:lnTo>
                  <a:lnTo>
                    <a:pt x="1056" y="1896"/>
                  </a:lnTo>
                  <a:lnTo>
                    <a:pt x="1056" y="1904"/>
                  </a:lnTo>
                  <a:lnTo>
                    <a:pt x="1048" y="1910"/>
                  </a:lnTo>
                  <a:lnTo>
                    <a:pt x="1039" y="1919"/>
                  </a:lnTo>
                  <a:lnTo>
                    <a:pt x="1036" y="1927"/>
                  </a:lnTo>
                  <a:lnTo>
                    <a:pt x="1030" y="1936"/>
                  </a:lnTo>
                  <a:lnTo>
                    <a:pt x="1024" y="1945"/>
                  </a:lnTo>
                  <a:lnTo>
                    <a:pt x="1016" y="1950"/>
                  </a:lnTo>
                  <a:lnTo>
                    <a:pt x="1004" y="1953"/>
                  </a:lnTo>
                  <a:lnTo>
                    <a:pt x="1001" y="1962"/>
                  </a:lnTo>
                  <a:lnTo>
                    <a:pt x="1001" y="1971"/>
                  </a:lnTo>
                  <a:lnTo>
                    <a:pt x="1001" y="1979"/>
                  </a:lnTo>
                  <a:lnTo>
                    <a:pt x="1001" y="1988"/>
                  </a:lnTo>
                  <a:lnTo>
                    <a:pt x="1001" y="1997"/>
                  </a:lnTo>
                  <a:lnTo>
                    <a:pt x="995" y="2005"/>
                  </a:lnTo>
                  <a:lnTo>
                    <a:pt x="986" y="2011"/>
                  </a:lnTo>
                  <a:lnTo>
                    <a:pt x="981" y="2020"/>
                  </a:lnTo>
                  <a:lnTo>
                    <a:pt x="981" y="2028"/>
                  </a:lnTo>
                  <a:lnTo>
                    <a:pt x="981" y="2037"/>
                  </a:lnTo>
                  <a:lnTo>
                    <a:pt x="978" y="2046"/>
                  </a:lnTo>
                  <a:lnTo>
                    <a:pt x="978" y="2054"/>
                  </a:lnTo>
                  <a:lnTo>
                    <a:pt x="983" y="2046"/>
                  </a:lnTo>
                  <a:lnTo>
                    <a:pt x="983" y="2037"/>
                  </a:lnTo>
                  <a:lnTo>
                    <a:pt x="975" y="2034"/>
                  </a:lnTo>
                  <a:lnTo>
                    <a:pt x="966" y="2034"/>
                  </a:lnTo>
                  <a:lnTo>
                    <a:pt x="957" y="2034"/>
                  </a:lnTo>
                  <a:lnTo>
                    <a:pt x="949" y="2023"/>
                  </a:lnTo>
                  <a:lnTo>
                    <a:pt x="949" y="2011"/>
                  </a:lnTo>
                  <a:lnTo>
                    <a:pt x="940" y="2008"/>
                  </a:lnTo>
                  <a:lnTo>
                    <a:pt x="931" y="2008"/>
                  </a:lnTo>
                  <a:lnTo>
                    <a:pt x="922" y="2011"/>
                  </a:lnTo>
                  <a:lnTo>
                    <a:pt x="914" y="2008"/>
                  </a:lnTo>
                  <a:lnTo>
                    <a:pt x="899" y="2002"/>
                  </a:lnTo>
                  <a:lnTo>
                    <a:pt x="890" y="1988"/>
                  </a:lnTo>
                  <a:lnTo>
                    <a:pt x="885" y="1976"/>
                  </a:lnTo>
                  <a:lnTo>
                    <a:pt x="876" y="1976"/>
                  </a:lnTo>
                  <a:lnTo>
                    <a:pt x="867" y="1979"/>
                  </a:lnTo>
                  <a:lnTo>
                    <a:pt x="861" y="1988"/>
                  </a:lnTo>
                  <a:lnTo>
                    <a:pt x="852" y="1994"/>
                  </a:lnTo>
                  <a:lnTo>
                    <a:pt x="844" y="1999"/>
                  </a:lnTo>
                  <a:lnTo>
                    <a:pt x="835" y="2002"/>
                  </a:lnTo>
                  <a:lnTo>
                    <a:pt x="826" y="2005"/>
                  </a:lnTo>
                  <a:lnTo>
                    <a:pt x="818" y="2008"/>
                  </a:lnTo>
                  <a:lnTo>
                    <a:pt x="809" y="2008"/>
                  </a:lnTo>
                  <a:lnTo>
                    <a:pt x="797" y="2011"/>
                  </a:lnTo>
                  <a:lnTo>
                    <a:pt x="788" y="2011"/>
                  </a:lnTo>
                  <a:lnTo>
                    <a:pt x="797" y="2011"/>
                  </a:lnTo>
                  <a:lnTo>
                    <a:pt x="812" y="2014"/>
                  </a:lnTo>
                  <a:lnTo>
                    <a:pt x="803" y="2017"/>
                  </a:lnTo>
                  <a:lnTo>
                    <a:pt x="794" y="2020"/>
                  </a:lnTo>
                  <a:lnTo>
                    <a:pt x="803" y="2031"/>
                  </a:lnTo>
                  <a:lnTo>
                    <a:pt x="794" y="2031"/>
                  </a:lnTo>
                  <a:lnTo>
                    <a:pt x="786" y="2028"/>
                  </a:lnTo>
                  <a:lnTo>
                    <a:pt x="777" y="2023"/>
                  </a:lnTo>
                  <a:lnTo>
                    <a:pt x="771" y="2014"/>
                  </a:lnTo>
                  <a:lnTo>
                    <a:pt x="762" y="2011"/>
                  </a:lnTo>
                  <a:lnTo>
                    <a:pt x="751" y="2008"/>
                  </a:lnTo>
                  <a:lnTo>
                    <a:pt x="742" y="2008"/>
                  </a:lnTo>
                  <a:lnTo>
                    <a:pt x="733" y="2005"/>
                  </a:lnTo>
                  <a:lnTo>
                    <a:pt x="736" y="2002"/>
                  </a:lnTo>
                  <a:lnTo>
                    <a:pt x="721" y="1985"/>
                  </a:lnTo>
                  <a:lnTo>
                    <a:pt x="713" y="1985"/>
                  </a:lnTo>
                  <a:lnTo>
                    <a:pt x="710" y="1994"/>
                  </a:lnTo>
                  <a:lnTo>
                    <a:pt x="716" y="2005"/>
                  </a:lnTo>
                  <a:lnTo>
                    <a:pt x="713" y="2014"/>
                  </a:lnTo>
                  <a:lnTo>
                    <a:pt x="704" y="2020"/>
                  </a:lnTo>
                  <a:lnTo>
                    <a:pt x="704" y="2028"/>
                  </a:lnTo>
                  <a:lnTo>
                    <a:pt x="692" y="2031"/>
                  </a:lnTo>
                  <a:lnTo>
                    <a:pt x="684" y="2025"/>
                  </a:lnTo>
                  <a:lnTo>
                    <a:pt x="672" y="2020"/>
                  </a:lnTo>
                  <a:lnTo>
                    <a:pt x="660" y="2017"/>
                  </a:lnTo>
                  <a:lnTo>
                    <a:pt x="646" y="2011"/>
                  </a:lnTo>
                  <a:lnTo>
                    <a:pt x="634" y="2008"/>
                  </a:lnTo>
                  <a:lnTo>
                    <a:pt x="625" y="2005"/>
                  </a:lnTo>
                  <a:lnTo>
                    <a:pt x="622" y="1997"/>
                  </a:lnTo>
                  <a:lnTo>
                    <a:pt x="620" y="1988"/>
                  </a:lnTo>
                  <a:lnTo>
                    <a:pt x="611" y="1979"/>
                  </a:lnTo>
                  <a:lnTo>
                    <a:pt x="608" y="1971"/>
                  </a:lnTo>
                  <a:lnTo>
                    <a:pt x="599" y="1968"/>
                  </a:lnTo>
                  <a:lnTo>
                    <a:pt x="590" y="1974"/>
                  </a:lnTo>
                  <a:lnTo>
                    <a:pt x="588" y="1985"/>
                  </a:lnTo>
                  <a:lnTo>
                    <a:pt x="585" y="1997"/>
                  </a:lnTo>
                  <a:lnTo>
                    <a:pt x="576" y="2002"/>
                  </a:lnTo>
                  <a:lnTo>
                    <a:pt x="567" y="1991"/>
                  </a:lnTo>
                  <a:lnTo>
                    <a:pt x="561" y="1982"/>
                  </a:lnTo>
                  <a:lnTo>
                    <a:pt x="553" y="1976"/>
                  </a:lnTo>
                  <a:lnTo>
                    <a:pt x="547" y="1968"/>
                  </a:lnTo>
                  <a:lnTo>
                    <a:pt x="541" y="1959"/>
                  </a:lnTo>
                  <a:lnTo>
                    <a:pt x="532" y="1956"/>
                  </a:lnTo>
                  <a:lnTo>
                    <a:pt x="524" y="1953"/>
                  </a:lnTo>
                  <a:lnTo>
                    <a:pt x="518" y="1945"/>
                  </a:lnTo>
                  <a:lnTo>
                    <a:pt x="509" y="1939"/>
                  </a:lnTo>
                  <a:lnTo>
                    <a:pt x="500" y="1939"/>
                  </a:lnTo>
                  <a:lnTo>
                    <a:pt x="494" y="1948"/>
                  </a:lnTo>
                  <a:lnTo>
                    <a:pt x="491" y="1956"/>
                  </a:lnTo>
                  <a:lnTo>
                    <a:pt x="486" y="1965"/>
                  </a:lnTo>
                  <a:lnTo>
                    <a:pt x="491" y="1974"/>
                  </a:lnTo>
                  <a:lnTo>
                    <a:pt x="500" y="1976"/>
                  </a:lnTo>
                  <a:lnTo>
                    <a:pt x="503" y="1985"/>
                  </a:lnTo>
                  <a:lnTo>
                    <a:pt x="506" y="1994"/>
                  </a:lnTo>
                  <a:lnTo>
                    <a:pt x="509" y="2002"/>
                  </a:lnTo>
                  <a:lnTo>
                    <a:pt x="512" y="2011"/>
                  </a:lnTo>
                  <a:lnTo>
                    <a:pt x="515" y="2020"/>
                  </a:lnTo>
                  <a:lnTo>
                    <a:pt x="518" y="2028"/>
                  </a:lnTo>
                  <a:lnTo>
                    <a:pt x="518" y="2037"/>
                  </a:lnTo>
                  <a:lnTo>
                    <a:pt x="518" y="2046"/>
                  </a:lnTo>
                  <a:lnTo>
                    <a:pt x="518" y="2054"/>
                  </a:lnTo>
                  <a:lnTo>
                    <a:pt x="515" y="2063"/>
                  </a:lnTo>
                  <a:lnTo>
                    <a:pt x="506" y="2072"/>
                  </a:lnTo>
                  <a:lnTo>
                    <a:pt x="503" y="2080"/>
                  </a:lnTo>
                  <a:lnTo>
                    <a:pt x="503" y="2089"/>
                  </a:lnTo>
                  <a:lnTo>
                    <a:pt x="503" y="2097"/>
                  </a:lnTo>
                  <a:lnTo>
                    <a:pt x="500" y="2106"/>
                  </a:lnTo>
                  <a:lnTo>
                    <a:pt x="491" y="2112"/>
                  </a:lnTo>
                  <a:lnTo>
                    <a:pt x="483" y="2118"/>
                  </a:lnTo>
                  <a:lnTo>
                    <a:pt x="483" y="2126"/>
                  </a:lnTo>
                  <a:lnTo>
                    <a:pt x="480" y="2138"/>
                  </a:lnTo>
                  <a:lnTo>
                    <a:pt x="477" y="2149"/>
                  </a:lnTo>
                  <a:lnTo>
                    <a:pt x="468" y="2144"/>
                  </a:lnTo>
                  <a:lnTo>
                    <a:pt x="459" y="2144"/>
                  </a:lnTo>
                  <a:lnTo>
                    <a:pt x="451" y="2144"/>
                  </a:lnTo>
                  <a:lnTo>
                    <a:pt x="442" y="2152"/>
                  </a:lnTo>
                  <a:lnTo>
                    <a:pt x="436" y="2161"/>
                  </a:lnTo>
                  <a:lnTo>
                    <a:pt x="427" y="2167"/>
                  </a:lnTo>
                  <a:lnTo>
                    <a:pt x="419" y="2175"/>
                  </a:lnTo>
                  <a:lnTo>
                    <a:pt x="407" y="2181"/>
                  </a:lnTo>
                  <a:lnTo>
                    <a:pt x="398" y="2184"/>
                  </a:lnTo>
                  <a:lnTo>
                    <a:pt x="393" y="2175"/>
                  </a:lnTo>
                  <a:lnTo>
                    <a:pt x="390" y="2167"/>
                  </a:lnTo>
                  <a:lnTo>
                    <a:pt x="384" y="2158"/>
                  </a:lnTo>
                  <a:lnTo>
                    <a:pt x="369" y="2149"/>
                  </a:lnTo>
                  <a:lnTo>
                    <a:pt x="358" y="2144"/>
                  </a:lnTo>
                  <a:lnTo>
                    <a:pt x="355" y="2135"/>
                  </a:lnTo>
                  <a:lnTo>
                    <a:pt x="349" y="2126"/>
                  </a:lnTo>
                  <a:lnTo>
                    <a:pt x="343" y="2118"/>
                  </a:lnTo>
                  <a:lnTo>
                    <a:pt x="334" y="2109"/>
                  </a:lnTo>
                  <a:lnTo>
                    <a:pt x="328" y="2100"/>
                  </a:lnTo>
                  <a:lnTo>
                    <a:pt x="320" y="2092"/>
                  </a:lnTo>
                  <a:lnTo>
                    <a:pt x="317" y="2080"/>
                  </a:lnTo>
                  <a:lnTo>
                    <a:pt x="317" y="2048"/>
                  </a:lnTo>
                  <a:lnTo>
                    <a:pt x="311" y="2060"/>
                  </a:lnTo>
                  <a:lnTo>
                    <a:pt x="302" y="2057"/>
                  </a:lnTo>
                  <a:lnTo>
                    <a:pt x="294" y="2051"/>
                  </a:lnTo>
                  <a:lnTo>
                    <a:pt x="282" y="2048"/>
                  </a:lnTo>
                  <a:lnTo>
                    <a:pt x="276" y="2040"/>
                  </a:lnTo>
                  <a:lnTo>
                    <a:pt x="270" y="2031"/>
                  </a:lnTo>
                  <a:lnTo>
                    <a:pt x="264" y="2023"/>
                  </a:lnTo>
                  <a:lnTo>
                    <a:pt x="259" y="2014"/>
                  </a:lnTo>
                  <a:lnTo>
                    <a:pt x="250" y="2008"/>
                  </a:lnTo>
                  <a:lnTo>
                    <a:pt x="241" y="2011"/>
                  </a:lnTo>
                  <a:lnTo>
                    <a:pt x="232" y="2011"/>
                  </a:lnTo>
                  <a:lnTo>
                    <a:pt x="227" y="2002"/>
                  </a:lnTo>
                  <a:lnTo>
                    <a:pt x="218" y="2002"/>
                  </a:lnTo>
                  <a:lnTo>
                    <a:pt x="209" y="2002"/>
                  </a:lnTo>
                  <a:lnTo>
                    <a:pt x="200" y="2002"/>
                  </a:lnTo>
                  <a:lnTo>
                    <a:pt x="203" y="2014"/>
                  </a:lnTo>
                  <a:lnTo>
                    <a:pt x="203" y="2025"/>
                  </a:lnTo>
                  <a:lnTo>
                    <a:pt x="200" y="2034"/>
                  </a:lnTo>
                  <a:lnTo>
                    <a:pt x="189" y="2037"/>
                  </a:lnTo>
                  <a:lnTo>
                    <a:pt x="180" y="2043"/>
                  </a:lnTo>
                  <a:lnTo>
                    <a:pt x="171" y="2051"/>
                  </a:lnTo>
                  <a:lnTo>
                    <a:pt x="168" y="2060"/>
                  </a:lnTo>
                  <a:lnTo>
                    <a:pt x="163" y="2072"/>
                  </a:lnTo>
                  <a:lnTo>
                    <a:pt x="154" y="2077"/>
                  </a:lnTo>
                  <a:lnTo>
                    <a:pt x="145" y="2083"/>
                  </a:lnTo>
                  <a:lnTo>
                    <a:pt x="136" y="2086"/>
                  </a:lnTo>
                  <a:lnTo>
                    <a:pt x="122" y="2092"/>
                  </a:lnTo>
                  <a:lnTo>
                    <a:pt x="113" y="2095"/>
                  </a:lnTo>
                  <a:lnTo>
                    <a:pt x="104" y="2097"/>
                  </a:lnTo>
                  <a:lnTo>
                    <a:pt x="96" y="2103"/>
                  </a:lnTo>
                  <a:lnTo>
                    <a:pt x="87" y="2109"/>
                  </a:lnTo>
                  <a:lnTo>
                    <a:pt x="78" y="2112"/>
                  </a:lnTo>
                  <a:lnTo>
                    <a:pt x="66" y="2112"/>
                  </a:lnTo>
                  <a:lnTo>
                    <a:pt x="58" y="2115"/>
                  </a:lnTo>
                  <a:lnTo>
                    <a:pt x="55" y="2123"/>
                  </a:lnTo>
                  <a:lnTo>
                    <a:pt x="49" y="2132"/>
                  </a:lnTo>
                  <a:lnTo>
                    <a:pt x="46" y="2141"/>
                  </a:lnTo>
                  <a:lnTo>
                    <a:pt x="58" y="2146"/>
                  </a:lnTo>
                  <a:lnTo>
                    <a:pt x="66" y="2146"/>
                  </a:lnTo>
                  <a:lnTo>
                    <a:pt x="75" y="2146"/>
                  </a:lnTo>
                  <a:lnTo>
                    <a:pt x="66" y="2158"/>
                  </a:lnTo>
                  <a:lnTo>
                    <a:pt x="55" y="2164"/>
                  </a:lnTo>
                  <a:lnTo>
                    <a:pt x="43" y="2169"/>
                  </a:lnTo>
                  <a:lnTo>
                    <a:pt x="34" y="2175"/>
                  </a:lnTo>
                  <a:lnTo>
                    <a:pt x="26" y="2181"/>
                  </a:lnTo>
                  <a:lnTo>
                    <a:pt x="23" y="2190"/>
                  </a:lnTo>
                  <a:lnTo>
                    <a:pt x="23" y="2198"/>
                  </a:lnTo>
                  <a:lnTo>
                    <a:pt x="14" y="2207"/>
                  </a:lnTo>
                  <a:lnTo>
                    <a:pt x="5" y="2210"/>
                  </a:lnTo>
                  <a:lnTo>
                    <a:pt x="0" y="2218"/>
                  </a:lnTo>
                  <a:lnTo>
                    <a:pt x="5" y="2227"/>
                  </a:lnTo>
                  <a:lnTo>
                    <a:pt x="14" y="2236"/>
                  </a:lnTo>
                  <a:lnTo>
                    <a:pt x="23" y="2244"/>
                  </a:lnTo>
                  <a:lnTo>
                    <a:pt x="37" y="2233"/>
                  </a:lnTo>
                  <a:lnTo>
                    <a:pt x="46" y="2230"/>
                  </a:lnTo>
                  <a:lnTo>
                    <a:pt x="49" y="2239"/>
                  </a:lnTo>
                  <a:lnTo>
                    <a:pt x="49" y="2247"/>
                  </a:lnTo>
                  <a:lnTo>
                    <a:pt x="52" y="2256"/>
                  </a:lnTo>
                  <a:lnTo>
                    <a:pt x="55" y="2265"/>
                  </a:lnTo>
                  <a:lnTo>
                    <a:pt x="58" y="2273"/>
                  </a:lnTo>
                  <a:lnTo>
                    <a:pt x="58" y="2282"/>
                  </a:lnTo>
                  <a:lnTo>
                    <a:pt x="61" y="2291"/>
                  </a:lnTo>
                  <a:lnTo>
                    <a:pt x="61" y="2299"/>
                  </a:lnTo>
                  <a:lnTo>
                    <a:pt x="58" y="2308"/>
                  </a:lnTo>
                  <a:lnTo>
                    <a:pt x="52" y="2316"/>
                  </a:lnTo>
                  <a:lnTo>
                    <a:pt x="52" y="2325"/>
                  </a:lnTo>
                  <a:lnTo>
                    <a:pt x="52" y="2334"/>
                  </a:lnTo>
                  <a:lnTo>
                    <a:pt x="49" y="2342"/>
                  </a:lnTo>
                  <a:lnTo>
                    <a:pt x="58" y="2348"/>
                  </a:lnTo>
                  <a:lnTo>
                    <a:pt x="69" y="2348"/>
                  </a:lnTo>
                  <a:lnTo>
                    <a:pt x="78" y="2348"/>
                  </a:lnTo>
                  <a:lnTo>
                    <a:pt x="87" y="2357"/>
                  </a:lnTo>
                  <a:lnTo>
                    <a:pt x="96" y="2360"/>
                  </a:lnTo>
                  <a:lnTo>
                    <a:pt x="104" y="2360"/>
                  </a:lnTo>
                  <a:lnTo>
                    <a:pt x="113" y="2365"/>
                  </a:lnTo>
                  <a:lnTo>
                    <a:pt x="122" y="2371"/>
                  </a:lnTo>
                  <a:lnTo>
                    <a:pt x="128" y="2380"/>
                  </a:lnTo>
                  <a:lnTo>
                    <a:pt x="139" y="2389"/>
                  </a:lnTo>
                  <a:lnTo>
                    <a:pt x="142" y="2397"/>
                  </a:lnTo>
                  <a:lnTo>
                    <a:pt x="151" y="2406"/>
                  </a:lnTo>
                  <a:lnTo>
                    <a:pt x="160" y="2414"/>
                  </a:lnTo>
                  <a:lnTo>
                    <a:pt x="168" y="2417"/>
                  </a:lnTo>
                  <a:lnTo>
                    <a:pt x="177" y="2420"/>
                  </a:lnTo>
                  <a:lnTo>
                    <a:pt x="186" y="2423"/>
                  </a:lnTo>
                  <a:lnTo>
                    <a:pt x="195" y="2423"/>
                  </a:lnTo>
                  <a:lnTo>
                    <a:pt x="203" y="2423"/>
                  </a:lnTo>
                  <a:lnTo>
                    <a:pt x="212" y="2423"/>
                  </a:lnTo>
                  <a:lnTo>
                    <a:pt x="221" y="2420"/>
                  </a:lnTo>
                  <a:lnTo>
                    <a:pt x="229" y="2420"/>
                  </a:lnTo>
                  <a:lnTo>
                    <a:pt x="238" y="2420"/>
                  </a:lnTo>
                  <a:lnTo>
                    <a:pt x="247" y="2417"/>
                  </a:lnTo>
                  <a:lnTo>
                    <a:pt x="256" y="2412"/>
                  </a:lnTo>
                  <a:lnTo>
                    <a:pt x="264" y="2412"/>
                  </a:lnTo>
                  <a:lnTo>
                    <a:pt x="276" y="2412"/>
                  </a:lnTo>
                  <a:lnTo>
                    <a:pt x="285" y="2412"/>
                  </a:lnTo>
                  <a:lnTo>
                    <a:pt x="294" y="2414"/>
                  </a:lnTo>
                  <a:lnTo>
                    <a:pt x="302" y="2414"/>
                  </a:lnTo>
                  <a:lnTo>
                    <a:pt x="305" y="2406"/>
                  </a:lnTo>
                  <a:lnTo>
                    <a:pt x="305" y="2397"/>
                  </a:lnTo>
                  <a:lnTo>
                    <a:pt x="302" y="2389"/>
                  </a:lnTo>
                  <a:lnTo>
                    <a:pt x="299" y="2380"/>
                  </a:lnTo>
                  <a:lnTo>
                    <a:pt x="302" y="2371"/>
                  </a:lnTo>
                  <a:lnTo>
                    <a:pt x="314" y="2368"/>
                  </a:lnTo>
                  <a:lnTo>
                    <a:pt x="323" y="2368"/>
                  </a:lnTo>
                  <a:lnTo>
                    <a:pt x="331" y="2368"/>
                  </a:lnTo>
                  <a:lnTo>
                    <a:pt x="343" y="2368"/>
                  </a:lnTo>
                  <a:lnTo>
                    <a:pt x="346" y="2360"/>
                  </a:lnTo>
                  <a:lnTo>
                    <a:pt x="355" y="2354"/>
                  </a:lnTo>
                  <a:lnTo>
                    <a:pt x="363" y="2351"/>
                  </a:lnTo>
                  <a:lnTo>
                    <a:pt x="372" y="2351"/>
                  </a:lnTo>
                  <a:lnTo>
                    <a:pt x="381" y="2348"/>
                  </a:lnTo>
                  <a:lnTo>
                    <a:pt x="390" y="2348"/>
                  </a:lnTo>
                  <a:lnTo>
                    <a:pt x="398" y="2348"/>
                  </a:lnTo>
                  <a:lnTo>
                    <a:pt x="407" y="2348"/>
                  </a:lnTo>
                  <a:lnTo>
                    <a:pt x="419" y="2354"/>
                  </a:lnTo>
                  <a:lnTo>
                    <a:pt x="427" y="2360"/>
                  </a:lnTo>
                  <a:lnTo>
                    <a:pt x="436" y="2360"/>
                  </a:lnTo>
                  <a:lnTo>
                    <a:pt x="445" y="2360"/>
                  </a:lnTo>
                  <a:lnTo>
                    <a:pt x="454" y="2363"/>
                  </a:lnTo>
                  <a:lnTo>
                    <a:pt x="462" y="2363"/>
                  </a:lnTo>
                  <a:lnTo>
                    <a:pt x="471" y="2363"/>
                  </a:lnTo>
                  <a:lnTo>
                    <a:pt x="480" y="2363"/>
                  </a:lnTo>
                  <a:lnTo>
                    <a:pt x="489" y="2360"/>
                  </a:lnTo>
                  <a:lnTo>
                    <a:pt x="494" y="2351"/>
                  </a:lnTo>
                  <a:lnTo>
                    <a:pt x="494" y="2342"/>
                  </a:lnTo>
                  <a:lnTo>
                    <a:pt x="494" y="2334"/>
                  </a:lnTo>
                  <a:lnTo>
                    <a:pt x="497" y="2325"/>
                  </a:lnTo>
                  <a:lnTo>
                    <a:pt x="506" y="2322"/>
                  </a:lnTo>
                  <a:lnTo>
                    <a:pt x="515" y="2322"/>
                  </a:lnTo>
                  <a:lnTo>
                    <a:pt x="524" y="2322"/>
                  </a:lnTo>
                  <a:lnTo>
                    <a:pt x="532" y="2322"/>
                  </a:lnTo>
                  <a:lnTo>
                    <a:pt x="541" y="2322"/>
                  </a:lnTo>
                  <a:lnTo>
                    <a:pt x="550" y="2328"/>
                  </a:lnTo>
                  <a:lnTo>
                    <a:pt x="556" y="2337"/>
                  </a:lnTo>
                  <a:lnTo>
                    <a:pt x="564" y="2342"/>
                  </a:lnTo>
                  <a:lnTo>
                    <a:pt x="570" y="2351"/>
                  </a:lnTo>
                  <a:lnTo>
                    <a:pt x="576" y="2360"/>
                  </a:lnTo>
                  <a:lnTo>
                    <a:pt x="585" y="2368"/>
                  </a:lnTo>
                  <a:lnTo>
                    <a:pt x="590" y="2377"/>
                  </a:lnTo>
                  <a:lnTo>
                    <a:pt x="599" y="2383"/>
                  </a:lnTo>
                  <a:lnTo>
                    <a:pt x="611" y="2386"/>
                  </a:lnTo>
                  <a:lnTo>
                    <a:pt x="620" y="2386"/>
                  </a:lnTo>
                  <a:lnTo>
                    <a:pt x="628" y="2386"/>
                  </a:lnTo>
                  <a:lnTo>
                    <a:pt x="637" y="2386"/>
                  </a:lnTo>
                  <a:lnTo>
                    <a:pt x="646" y="2386"/>
                  </a:lnTo>
                  <a:lnTo>
                    <a:pt x="655" y="2386"/>
                  </a:lnTo>
                  <a:lnTo>
                    <a:pt x="663" y="2389"/>
                  </a:lnTo>
                  <a:lnTo>
                    <a:pt x="672" y="2389"/>
                  </a:lnTo>
                  <a:lnTo>
                    <a:pt x="681" y="2389"/>
                  </a:lnTo>
                  <a:lnTo>
                    <a:pt x="689" y="2389"/>
                  </a:lnTo>
                  <a:lnTo>
                    <a:pt x="698" y="2394"/>
                  </a:lnTo>
                  <a:lnTo>
                    <a:pt x="707" y="2403"/>
                  </a:lnTo>
                  <a:lnTo>
                    <a:pt x="713" y="2412"/>
                  </a:lnTo>
                  <a:lnTo>
                    <a:pt x="716" y="2420"/>
                  </a:lnTo>
                  <a:lnTo>
                    <a:pt x="716" y="2429"/>
                  </a:lnTo>
                  <a:lnTo>
                    <a:pt x="716" y="2437"/>
                  </a:lnTo>
                  <a:lnTo>
                    <a:pt x="719" y="2446"/>
                  </a:lnTo>
                  <a:lnTo>
                    <a:pt x="719" y="2455"/>
                  </a:lnTo>
                  <a:lnTo>
                    <a:pt x="721" y="2463"/>
                  </a:lnTo>
                  <a:lnTo>
                    <a:pt x="721" y="2472"/>
                  </a:lnTo>
                  <a:lnTo>
                    <a:pt x="721" y="2481"/>
                  </a:lnTo>
                  <a:lnTo>
                    <a:pt x="721" y="2489"/>
                  </a:lnTo>
                  <a:lnTo>
                    <a:pt x="713" y="2492"/>
                  </a:lnTo>
                  <a:lnTo>
                    <a:pt x="704" y="2492"/>
                  </a:lnTo>
                  <a:lnTo>
                    <a:pt x="698" y="2501"/>
                  </a:lnTo>
                  <a:lnTo>
                    <a:pt x="707" y="2507"/>
                  </a:lnTo>
                  <a:lnTo>
                    <a:pt x="716" y="2512"/>
                  </a:lnTo>
                  <a:lnTo>
                    <a:pt x="721" y="2521"/>
                  </a:lnTo>
                  <a:lnTo>
                    <a:pt x="721" y="2530"/>
                  </a:lnTo>
                  <a:lnTo>
                    <a:pt x="719" y="2538"/>
                  </a:lnTo>
                  <a:lnTo>
                    <a:pt x="719" y="2547"/>
                  </a:lnTo>
                  <a:lnTo>
                    <a:pt x="719" y="2556"/>
                  </a:lnTo>
                  <a:lnTo>
                    <a:pt x="719" y="2564"/>
                  </a:lnTo>
                  <a:lnTo>
                    <a:pt x="721" y="2576"/>
                  </a:lnTo>
                  <a:lnTo>
                    <a:pt x="721" y="2584"/>
                  </a:lnTo>
                  <a:lnTo>
                    <a:pt x="727" y="2593"/>
                  </a:lnTo>
                  <a:lnTo>
                    <a:pt x="736" y="2602"/>
                  </a:lnTo>
                  <a:lnTo>
                    <a:pt x="742" y="2613"/>
                  </a:lnTo>
                  <a:lnTo>
                    <a:pt x="745" y="2625"/>
                  </a:lnTo>
                  <a:lnTo>
                    <a:pt x="756" y="2633"/>
                  </a:lnTo>
                  <a:lnTo>
                    <a:pt x="765" y="2642"/>
                  </a:lnTo>
                  <a:lnTo>
                    <a:pt x="768" y="2654"/>
                  </a:lnTo>
                  <a:lnTo>
                    <a:pt x="768" y="2662"/>
                  </a:lnTo>
                  <a:lnTo>
                    <a:pt x="768" y="2671"/>
                  </a:lnTo>
                  <a:lnTo>
                    <a:pt x="771" y="2682"/>
                  </a:lnTo>
                  <a:lnTo>
                    <a:pt x="780" y="2688"/>
                  </a:lnTo>
                  <a:lnTo>
                    <a:pt x="783" y="2697"/>
                  </a:lnTo>
                  <a:lnTo>
                    <a:pt x="786" y="2705"/>
                  </a:lnTo>
                  <a:lnTo>
                    <a:pt x="788" y="2714"/>
                  </a:lnTo>
                  <a:lnTo>
                    <a:pt x="788" y="2723"/>
                  </a:lnTo>
                  <a:lnTo>
                    <a:pt x="788" y="2731"/>
                  </a:lnTo>
                  <a:lnTo>
                    <a:pt x="788" y="2740"/>
                  </a:lnTo>
                  <a:lnTo>
                    <a:pt x="788" y="2749"/>
                  </a:lnTo>
                  <a:lnTo>
                    <a:pt x="788" y="2757"/>
                  </a:lnTo>
                  <a:lnTo>
                    <a:pt x="788" y="2769"/>
                  </a:lnTo>
                  <a:lnTo>
                    <a:pt x="783" y="2778"/>
                  </a:lnTo>
                  <a:lnTo>
                    <a:pt x="774" y="2778"/>
                  </a:lnTo>
                  <a:lnTo>
                    <a:pt x="765" y="2783"/>
                  </a:lnTo>
                  <a:lnTo>
                    <a:pt x="759" y="2792"/>
                  </a:lnTo>
                  <a:lnTo>
                    <a:pt x="751" y="2795"/>
                  </a:lnTo>
                  <a:lnTo>
                    <a:pt x="742" y="2789"/>
                  </a:lnTo>
                  <a:lnTo>
                    <a:pt x="730" y="2786"/>
                  </a:lnTo>
                  <a:lnTo>
                    <a:pt x="721" y="2780"/>
                  </a:lnTo>
                  <a:lnTo>
                    <a:pt x="713" y="2778"/>
                  </a:lnTo>
                  <a:lnTo>
                    <a:pt x="710" y="2766"/>
                  </a:lnTo>
                  <a:lnTo>
                    <a:pt x="707" y="2757"/>
                  </a:lnTo>
                  <a:lnTo>
                    <a:pt x="698" y="2754"/>
                  </a:lnTo>
                  <a:lnTo>
                    <a:pt x="687" y="2754"/>
                  </a:lnTo>
                  <a:lnTo>
                    <a:pt x="678" y="2746"/>
                  </a:lnTo>
                  <a:lnTo>
                    <a:pt x="672" y="2737"/>
                  </a:lnTo>
                  <a:lnTo>
                    <a:pt x="660" y="2731"/>
                  </a:lnTo>
                  <a:lnTo>
                    <a:pt x="652" y="2729"/>
                  </a:lnTo>
                  <a:lnTo>
                    <a:pt x="643" y="2729"/>
                  </a:lnTo>
                  <a:lnTo>
                    <a:pt x="634" y="2729"/>
                  </a:lnTo>
                  <a:lnTo>
                    <a:pt x="628" y="2737"/>
                  </a:lnTo>
                  <a:lnTo>
                    <a:pt x="628" y="2746"/>
                  </a:lnTo>
                  <a:lnTo>
                    <a:pt x="631" y="2754"/>
                  </a:lnTo>
                  <a:lnTo>
                    <a:pt x="640" y="2763"/>
                  </a:lnTo>
                  <a:lnTo>
                    <a:pt x="652" y="2769"/>
                  </a:lnTo>
                  <a:lnTo>
                    <a:pt x="660" y="2775"/>
                  </a:lnTo>
                  <a:lnTo>
                    <a:pt x="666" y="2783"/>
                  </a:lnTo>
                  <a:lnTo>
                    <a:pt x="669" y="2792"/>
                  </a:lnTo>
                  <a:lnTo>
                    <a:pt x="672" y="2801"/>
                  </a:lnTo>
                  <a:lnTo>
                    <a:pt x="675" y="2809"/>
                  </a:lnTo>
                  <a:lnTo>
                    <a:pt x="678" y="2818"/>
                  </a:lnTo>
                  <a:lnTo>
                    <a:pt x="687" y="2827"/>
                  </a:lnTo>
                  <a:lnTo>
                    <a:pt x="695" y="2829"/>
                  </a:lnTo>
                  <a:lnTo>
                    <a:pt x="707" y="2829"/>
                  </a:lnTo>
                  <a:lnTo>
                    <a:pt x="713" y="2818"/>
                  </a:lnTo>
                  <a:lnTo>
                    <a:pt x="713" y="2809"/>
                  </a:lnTo>
                  <a:lnTo>
                    <a:pt x="716" y="2801"/>
                  </a:lnTo>
                  <a:lnTo>
                    <a:pt x="724" y="2795"/>
                  </a:lnTo>
                  <a:lnTo>
                    <a:pt x="733" y="2795"/>
                  </a:lnTo>
                  <a:lnTo>
                    <a:pt x="742" y="2792"/>
                  </a:lnTo>
                  <a:lnTo>
                    <a:pt x="751" y="2801"/>
                  </a:lnTo>
                  <a:lnTo>
                    <a:pt x="762" y="2803"/>
                  </a:lnTo>
                  <a:lnTo>
                    <a:pt x="771" y="2803"/>
                  </a:lnTo>
                  <a:lnTo>
                    <a:pt x="780" y="2803"/>
                  </a:lnTo>
                  <a:lnTo>
                    <a:pt x="788" y="2803"/>
                  </a:lnTo>
                  <a:lnTo>
                    <a:pt x="788" y="2795"/>
                  </a:lnTo>
                  <a:lnTo>
                    <a:pt x="788" y="2786"/>
                  </a:lnTo>
                  <a:lnTo>
                    <a:pt x="797" y="2780"/>
                  </a:lnTo>
                  <a:lnTo>
                    <a:pt x="806" y="2780"/>
                  </a:lnTo>
                  <a:lnTo>
                    <a:pt x="815" y="2772"/>
                  </a:lnTo>
                  <a:lnTo>
                    <a:pt x="815" y="2763"/>
                  </a:lnTo>
                  <a:lnTo>
                    <a:pt x="815" y="2754"/>
                  </a:lnTo>
                  <a:lnTo>
                    <a:pt x="815" y="2746"/>
                  </a:lnTo>
                  <a:lnTo>
                    <a:pt x="815" y="2737"/>
                  </a:lnTo>
                  <a:lnTo>
                    <a:pt x="818" y="2729"/>
                  </a:lnTo>
                  <a:lnTo>
                    <a:pt x="826" y="2726"/>
                  </a:lnTo>
                  <a:lnTo>
                    <a:pt x="835" y="2720"/>
                  </a:lnTo>
                  <a:lnTo>
                    <a:pt x="844" y="2717"/>
                  </a:lnTo>
                  <a:lnTo>
                    <a:pt x="852" y="2720"/>
                  </a:lnTo>
                  <a:lnTo>
                    <a:pt x="855" y="2729"/>
                  </a:lnTo>
                  <a:lnTo>
                    <a:pt x="858" y="2740"/>
                  </a:lnTo>
                  <a:lnTo>
                    <a:pt x="858" y="2749"/>
                  </a:lnTo>
                  <a:lnTo>
                    <a:pt x="861" y="2757"/>
                  </a:lnTo>
                  <a:lnTo>
                    <a:pt x="870" y="2763"/>
                  </a:lnTo>
                  <a:lnTo>
                    <a:pt x="882" y="2766"/>
                  </a:lnTo>
                  <a:lnTo>
                    <a:pt x="887" y="2757"/>
                  </a:lnTo>
                  <a:lnTo>
                    <a:pt x="887" y="2749"/>
                  </a:lnTo>
                  <a:lnTo>
                    <a:pt x="887" y="2740"/>
                  </a:lnTo>
                  <a:lnTo>
                    <a:pt x="887" y="2731"/>
                  </a:lnTo>
                  <a:lnTo>
                    <a:pt x="885" y="2723"/>
                  </a:lnTo>
                  <a:lnTo>
                    <a:pt x="876" y="2714"/>
                  </a:lnTo>
                  <a:lnTo>
                    <a:pt x="870" y="2705"/>
                  </a:lnTo>
                  <a:lnTo>
                    <a:pt x="864" y="2697"/>
                  </a:lnTo>
                  <a:lnTo>
                    <a:pt x="855" y="2691"/>
                  </a:lnTo>
                  <a:lnTo>
                    <a:pt x="847" y="2682"/>
                  </a:lnTo>
                  <a:lnTo>
                    <a:pt x="838" y="2674"/>
                  </a:lnTo>
                  <a:lnTo>
                    <a:pt x="835" y="2665"/>
                  </a:lnTo>
                  <a:lnTo>
                    <a:pt x="832" y="2657"/>
                  </a:lnTo>
                  <a:lnTo>
                    <a:pt x="832" y="2648"/>
                  </a:lnTo>
                  <a:lnTo>
                    <a:pt x="841" y="2642"/>
                  </a:lnTo>
                  <a:lnTo>
                    <a:pt x="850" y="2642"/>
                  </a:lnTo>
                  <a:lnTo>
                    <a:pt x="852" y="2633"/>
                  </a:lnTo>
                  <a:lnTo>
                    <a:pt x="844" y="2628"/>
                  </a:lnTo>
                  <a:lnTo>
                    <a:pt x="835" y="2622"/>
                  </a:lnTo>
                  <a:lnTo>
                    <a:pt x="826" y="2619"/>
                  </a:lnTo>
                  <a:lnTo>
                    <a:pt x="820" y="2610"/>
                  </a:lnTo>
                  <a:lnTo>
                    <a:pt x="818" y="2602"/>
                  </a:lnTo>
                  <a:lnTo>
                    <a:pt x="812" y="2593"/>
                  </a:lnTo>
                  <a:lnTo>
                    <a:pt x="812" y="2584"/>
                  </a:lnTo>
                  <a:lnTo>
                    <a:pt x="809" y="2576"/>
                  </a:lnTo>
                  <a:lnTo>
                    <a:pt x="806" y="2564"/>
                  </a:lnTo>
                  <a:lnTo>
                    <a:pt x="806" y="2556"/>
                  </a:lnTo>
                  <a:lnTo>
                    <a:pt x="806" y="2547"/>
                  </a:lnTo>
                  <a:lnTo>
                    <a:pt x="806" y="2538"/>
                  </a:lnTo>
                  <a:lnTo>
                    <a:pt x="806" y="2530"/>
                  </a:lnTo>
                  <a:lnTo>
                    <a:pt x="806" y="2521"/>
                  </a:lnTo>
                  <a:lnTo>
                    <a:pt x="806" y="2512"/>
                  </a:lnTo>
                  <a:lnTo>
                    <a:pt x="806" y="2504"/>
                  </a:lnTo>
                  <a:lnTo>
                    <a:pt x="803" y="2495"/>
                  </a:lnTo>
                  <a:lnTo>
                    <a:pt x="800" y="2486"/>
                  </a:lnTo>
                  <a:lnTo>
                    <a:pt x="800" y="2478"/>
                  </a:lnTo>
                  <a:lnTo>
                    <a:pt x="800" y="2469"/>
                  </a:lnTo>
                  <a:lnTo>
                    <a:pt x="800" y="2461"/>
                  </a:lnTo>
                  <a:lnTo>
                    <a:pt x="800" y="2452"/>
                  </a:lnTo>
                  <a:lnTo>
                    <a:pt x="809" y="2452"/>
                  </a:lnTo>
                  <a:lnTo>
                    <a:pt x="818" y="2452"/>
                  </a:lnTo>
                  <a:lnTo>
                    <a:pt x="818" y="2443"/>
                  </a:lnTo>
                  <a:lnTo>
                    <a:pt x="820" y="2435"/>
                  </a:lnTo>
                  <a:lnTo>
                    <a:pt x="826" y="2426"/>
                  </a:lnTo>
                  <a:lnTo>
                    <a:pt x="835" y="2426"/>
                  </a:lnTo>
                  <a:lnTo>
                    <a:pt x="838" y="2435"/>
                  </a:lnTo>
                  <a:lnTo>
                    <a:pt x="847" y="2440"/>
                  </a:lnTo>
                  <a:lnTo>
                    <a:pt x="855" y="2435"/>
                  </a:lnTo>
                  <a:lnTo>
                    <a:pt x="864" y="2432"/>
                  </a:lnTo>
                  <a:lnTo>
                    <a:pt x="864" y="2440"/>
                  </a:lnTo>
                  <a:lnTo>
                    <a:pt x="864" y="2449"/>
                  </a:lnTo>
                  <a:lnTo>
                    <a:pt x="858" y="2458"/>
                  </a:lnTo>
                  <a:lnTo>
                    <a:pt x="850" y="2466"/>
                  </a:lnTo>
                  <a:lnTo>
                    <a:pt x="847" y="2475"/>
                  </a:lnTo>
                  <a:lnTo>
                    <a:pt x="855" y="2478"/>
                  </a:lnTo>
                  <a:lnTo>
                    <a:pt x="864" y="2478"/>
                  </a:lnTo>
                  <a:lnTo>
                    <a:pt x="864" y="2486"/>
                  </a:lnTo>
                  <a:lnTo>
                    <a:pt x="864" y="2495"/>
                  </a:lnTo>
                  <a:lnTo>
                    <a:pt x="873" y="2498"/>
                  </a:lnTo>
                  <a:lnTo>
                    <a:pt x="882" y="2498"/>
                  </a:lnTo>
                  <a:lnTo>
                    <a:pt x="882" y="2507"/>
                  </a:lnTo>
                  <a:lnTo>
                    <a:pt x="882" y="2515"/>
                  </a:lnTo>
                  <a:lnTo>
                    <a:pt x="879" y="2524"/>
                  </a:lnTo>
                  <a:lnTo>
                    <a:pt x="870" y="2527"/>
                  </a:lnTo>
                  <a:lnTo>
                    <a:pt x="864" y="2535"/>
                  </a:lnTo>
                  <a:lnTo>
                    <a:pt x="867" y="2544"/>
                  </a:lnTo>
                  <a:lnTo>
                    <a:pt x="870" y="2553"/>
                  </a:lnTo>
                  <a:lnTo>
                    <a:pt x="876" y="2561"/>
                  </a:lnTo>
                  <a:lnTo>
                    <a:pt x="882" y="2573"/>
                  </a:lnTo>
                  <a:lnTo>
                    <a:pt x="890" y="2584"/>
                  </a:lnTo>
                  <a:lnTo>
                    <a:pt x="893" y="2593"/>
                  </a:lnTo>
                  <a:lnTo>
                    <a:pt x="896" y="2602"/>
                  </a:lnTo>
                  <a:lnTo>
                    <a:pt x="899" y="2613"/>
                  </a:lnTo>
                  <a:lnTo>
                    <a:pt x="899" y="2622"/>
                  </a:lnTo>
                  <a:lnTo>
                    <a:pt x="902" y="2631"/>
                  </a:lnTo>
                  <a:lnTo>
                    <a:pt x="905" y="2639"/>
                  </a:lnTo>
                  <a:lnTo>
                    <a:pt x="911" y="2648"/>
                  </a:lnTo>
                  <a:lnTo>
                    <a:pt x="919" y="2657"/>
                  </a:lnTo>
                  <a:lnTo>
                    <a:pt x="928" y="2662"/>
                  </a:lnTo>
                  <a:lnTo>
                    <a:pt x="937" y="2671"/>
                  </a:lnTo>
                  <a:lnTo>
                    <a:pt x="943" y="2680"/>
                  </a:lnTo>
                  <a:lnTo>
                    <a:pt x="946" y="2688"/>
                  </a:lnTo>
                  <a:lnTo>
                    <a:pt x="949" y="2697"/>
                  </a:lnTo>
                  <a:lnTo>
                    <a:pt x="949" y="2705"/>
                  </a:lnTo>
                  <a:lnTo>
                    <a:pt x="949" y="2714"/>
                  </a:lnTo>
                  <a:lnTo>
                    <a:pt x="949" y="2723"/>
                  </a:lnTo>
                  <a:lnTo>
                    <a:pt x="943" y="2731"/>
                  </a:lnTo>
                  <a:lnTo>
                    <a:pt x="934" y="2734"/>
                  </a:lnTo>
                  <a:lnTo>
                    <a:pt x="928" y="2743"/>
                  </a:lnTo>
                  <a:lnTo>
                    <a:pt x="925" y="2752"/>
                  </a:lnTo>
                  <a:lnTo>
                    <a:pt x="925" y="2760"/>
                  </a:lnTo>
                  <a:lnTo>
                    <a:pt x="922" y="2769"/>
                  </a:lnTo>
                  <a:lnTo>
                    <a:pt x="922" y="2778"/>
                  </a:lnTo>
                  <a:lnTo>
                    <a:pt x="919" y="2786"/>
                  </a:lnTo>
                  <a:lnTo>
                    <a:pt x="911" y="2795"/>
                  </a:lnTo>
                  <a:lnTo>
                    <a:pt x="908" y="2803"/>
                  </a:lnTo>
                  <a:lnTo>
                    <a:pt x="908" y="2812"/>
                  </a:lnTo>
                  <a:lnTo>
                    <a:pt x="911" y="2821"/>
                  </a:lnTo>
                  <a:lnTo>
                    <a:pt x="922" y="2827"/>
                  </a:lnTo>
                  <a:lnTo>
                    <a:pt x="934" y="2832"/>
                  </a:lnTo>
                  <a:lnTo>
                    <a:pt x="940" y="2841"/>
                  </a:lnTo>
                  <a:lnTo>
                    <a:pt x="922" y="2832"/>
                  </a:lnTo>
                  <a:lnTo>
                    <a:pt x="946" y="2824"/>
                  </a:lnTo>
                  <a:lnTo>
                    <a:pt x="946" y="2832"/>
                  </a:lnTo>
                  <a:lnTo>
                    <a:pt x="946" y="2841"/>
                  </a:lnTo>
                  <a:lnTo>
                    <a:pt x="946" y="2850"/>
                  </a:lnTo>
                  <a:lnTo>
                    <a:pt x="940" y="2858"/>
                  </a:lnTo>
                  <a:lnTo>
                    <a:pt x="931" y="2861"/>
                  </a:lnTo>
                  <a:lnTo>
                    <a:pt x="922" y="2867"/>
                  </a:lnTo>
                  <a:lnTo>
                    <a:pt x="917" y="2876"/>
                  </a:lnTo>
                  <a:lnTo>
                    <a:pt x="919" y="2884"/>
                  </a:lnTo>
                  <a:lnTo>
                    <a:pt x="922" y="2893"/>
                  </a:lnTo>
                  <a:lnTo>
                    <a:pt x="917" y="2901"/>
                  </a:lnTo>
                  <a:lnTo>
                    <a:pt x="925" y="2904"/>
                  </a:lnTo>
                  <a:lnTo>
                    <a:pt x="934" y="2904"/>
                  </a:lnTo>
                  <a:lnTo>
                    <a:pt x="943" y="2904"/>
                  </a:lnTo>
                  <a:lnTo>
                    <a:pt x="951" y="2899"/>
                  </a:lnTo>
                  <a:lnTo>
                    <a:pt x="960" y="2893"/>
                  </a:lnTo>
                  <a:lnTo>
                    <a:pt x="969" y="2893"/>
                  </a:lnTo>
                  <a:lnTo>
                    <a:pt x="978" y="2899"/>
                  </a:lnTo>
                  <a:lnTo>
                    <a:pt x="983" y="2907"/>
                  </a:lnTo>
                  <a:lnTo>
                    <a:pt x="975" y="2904"/>
                  </a:lnTo>
                  <a:lnTo>
                    <a:pt x="966" y="2899"/>
                  </a:lnTo>
                  <a:lnTo>
                    <a:pt x="954" y="2896"/>
                  </a:lnTo>
                  <a:lnTo>
                    <a:pt x="940" y="2893"/>
                  </a:lnTo>
                  <a:lnTo>
                    <a:pt x="943" y="2910"/>
                  </a:lnTo>
                  <a:lnTo>
                    <a:pt x="951" y="2930"/>
                  </a:lnTo>
                  <a:lnTo>
                    <a:pt x="943" y="2933"/>
                  </a:lnTo>
                  <a:lnTo>
                    <a:pt x="940" y="2942"/>
                  </a:lnTo>
                  <a:lnTo>
                    <a:pt x="937" y="2950"/>
                  </a:lnTo>
                  <a:lnTo>
                    <a:pt x="946" y="2956"/>
                  </a:lnTo>
                  <a:lnTo>
                    <a:pt x="949" y="2965"/>
                  </a:lnTo>
                  <a:lnTo>
                    <a:pt x="951" y="2974"/>
                  </a:lnTo>
                  <a:lnTo>
                    <a:pt x="951" y="2982"/>
                  </a:lnTo>
                  <a:lnTo>
                    <a:pt x="951" y="2991"/>
                  </a:lnTo>
                  <a:lnTo>
                    <a:pt x="954" y="2999"/>
                  </a:lnTo>
                  <a:lnTo>
                    <a:pt x="957" y="3011"/>
                  </a:lnTo>
                  <a:lnTo>
                    <a:pt x="963" y="3002"/>
                  </a:lnTo>
                  <a:lnTo>
                    <a:pt x="963" y="2994"/>
                  </a:lnTo>
                  <a:lnTo>
                    <a:pt x="963" y="2985"/>
                  </a:lnTo>
                  <a:lnTo>
                    <a:pt x="963" y="2976"/>
                  </a:lnTo>
                  <a:lnTo>
                    <a:pt x="963" y="2968"/>
                  </a:lnTo>
                  <a:lnTo>
                    <a:pt x="969" y="2959"/>
                  </a:lnTo>
                  <a:lnTo>
                    <a:pt x="978" y="2953"/>
                  </a:lnTo>
                  <a:lnTo>
                    <a:pt x="983" y="2945"/>
                  </a:lnTo>
                  <a:lnTo>
                    <a:pt x="992" y="2942"/>
                  </a:lnTo>
                  <a:lnTo>
                    <a:pt x="1004" y="2945"/>
                  </a:lnTo>
                  <a:lnTo>
                    <a:pt x="1016" y="2945"/>
                  </a:lnTo>
                  <a:lnTo>
                    <a:pt x="1024" y="2945"/>
                  </a:lnTo>
                  <a:lnTo>
                    <a:pt x="1027" y="2936"/>
                  </a:lnTo>
                  <a:lnTo>
                    <a:pt x="1036" y="2945"/>
                  </a:lnTo>
                  <a:lnTo>
                    <a:pt x="1042" y="2953"/>
                  </a:lnTo>
                  <a:lnTo>
                    <a:pt x="1050" y="2962"/>
                  </a:lnTo>
                  <a:lnTo>
                    <a:pt x="1059" y="2971"/>
                  </a:lnTo>
                  <a:lnTo>
                    <a:pt x="1045" y="2959"/>
                  </a:lnTo>
                  <a:lnTo>
                    <a:pt x="1042" y="2950"/>
                  </a:lnTo>
                  <a:lnTo>
                    <a:pt x="1042" y="2942"/>
                  </a:lnTo>
                  <a:lnTo>
                    <a:pt x="1042" y="2933"/>
                  </a:lnTo>
                  <a:lnTo>
                    <a:pt x="1042" y="2925"/>
                  </a:lnTo>
                  <a:lnTo>
                    <a:pt x="1033" y="2916"/>
                  </a:lnTo>
                  <a:lnTo>
                    <a:pt x="1021" y="2907"/>
                  </a:lnTo>
                  <a:lnTo>
                    <a:pt x="1013" y="2899"/>
                  </a:lnTo>
                  <a:lnTo>
                    <a:pt x="1007" y="2890"/>
                  </a:lnTo>
                  <a:lnTo>
                    <a:pt x="1018" y="2893"/>
                  </a:lnTo>
                  <a:lnTo>
                    <a:pt x="1027" y="2896"/>
                  </a:lnTo>
                  <a:lnTo>
                    <a:pt x="1036" y="2901"/>
                  </a:lnTo>
                  <a:lnTo>
                    <a:pt x="1045" y="2907"/>
                  </a:lnTo>
                  <a:lnTo>
                    <a:pt x="1050" y="2916"/>
                  </a:lnTo>
                  <a:lnTo>
                    <a:pt x="1042" y="2913"/>
                  </a:lnTo>
                  <a:lnTo>
                    <a:pt x="1033" y="2907"/>
                  </a:lnTo>
                  <a:lnTo>
                    <a:pt x="1021" y="2899"/>
                  </a:lnTo>
                  <a:lnTo>
                    <a:pt x="1010" y="2896"/>
                  </a:lnTo>
                  <a:lnTo>
                    <a:pt x="1004" y="2887"/>
                  </a:lnTo>
                  <a:lnTo>
                    <a:pt x="1013" y="2881"/>
                  </a:lnTo>
                  <a:lnTo>
                    <a:pt x="1018" y="2873"/>
                  </a:lnTo>
                  <a:lnTo>
                    <a:pt x="1018" y="2864"/>
                  </a:lnTo>
                  <a:lnTo>
                    <a:pt x="1021" y="2855"/>
                  </a:lnTo>
                  <a:lnTo>
                    <a:pt x="1021" y="2847"/>
                  </a:lnTo>
                  <a:lnTo>
                    <a:pt x="1021" y="2838"/>
                  </a:lnTo>
                  <a:lnTo>
                    <a:pt x="1021" y="2829"/>
                  </a:lnTo>
                  <a:lnTo>
                    <a:pt x="1021" y="2821"/>
                  </a:lnTo>
                  <a:lnTo>
                    <a:pt x="1024" y="2812"/>
                  </a:lnTo>
                  <a:lnTo>
                    <a:pt x="1033" y="2812"/>
                  </a:lnTo>
                  <a:lnTo>
                    <a:pt x="1042" y="2809"/>
                  </a:lnTo>
                  <a:lnTo>
                    <a:pt x="1042" y="2818"/>
                  </a:lnTo>
                  <a:lnTo>
                    <a:pt x="1042" y="2827"/>
                  </a:lnTo>
                  <a:lnTo>
                    <a:pt x="1042" y="2835"/>
                  </a:lnTo>
                  <a:lnTo>
                    <a:pt x="1042" y="2844"/>
                  </a:lnTo>
                  <a:lnTo>
                    <a:pt x="1050" y="2850"/>
                  </a:lnTo>
                  <a:lnTo>
                    <a:pt x="1056" y="2841"/>
                  </a:lnTo>
                  <a:lnTo>
                    <a:pt x="1065" y="2841"/>
                  </a:lnTo>
                  <a:lnTo>
                    <a:pt x="1068" y="2850"/>
                  </a:lnTo>
                  <a:lnTo>
                    <a:pt x="1071" y="2841"/>
                  </a:lnTo>
                  <a:lnTo>
                    <a:pt x="1071" y="2832"/>
                  </a:lnTo>
                  <a:lnTo>
                    <a:pt x="1080" y="2827"/>
                  </a:lnTo>
                  <a:lnTo>
                    <a:pt x="1088" y="2827"/>
                  </a:lnTo>
                  <a:lnTo>
                    <a:pt x="1100" y="2835"/>
                  </a:lnTo>
                  <a:lnTo>
                    <a:pt x="1109" y="2835"/>
                  </a:lnTo>
                  <a:lnTo>
                    <a:pt x="1120" y="2835"/>
                  </a:lnTo>
                  <a:lnTo>
                    <a:pt x="1129" y="2835"/>
                  </a:lnTo>
                  <a:lnTo>
                    <a:pt x="1138" y="2838"/>
                  </a:lnTo>
                  <a:lnTo>
                    <a:pt x="1147" y="2841"/>
                  </a:lnTo>
                  <a:lnTo>
                    <a:pt x="1155" y="2844"/>
                  </a:lnTo>
                  <a:lnTo>
                    <a:pt x="1149" y="2852"/>
                  </a:lnTo>
                  <a:lnTo>
                    <a:pt x="1149" y="2861"/>
                  </a:lnTo>
                  <a:lnTo>
                    <a:pt x="1149" y="2870"/>
                  </a:lnTo>
                  <a:lnTo>
                    <a:pt x="1158" y="2878"/>
                  </a:lnTo>
                  <a:lnTo>
                    <a:pt x="1170" y="2878"/>
                  </a:lnTo>
                  <a:lnTo>
                    <a:pt x="1179" y="2878"/>
                  </a:lnTo>
                  <a:lnTo>
                    <a:pt x="1187" y="2878"/>
                  </a:lnTo>
                  <a:lnTo>
                    <a:pt x="1196" y="2878"/>
                  </a:lnTo>
                  <a:lnTo>
                    <a:pt x="1205" y="2876"/>
                  </a:lnTo>
                  <a:lnTo>
                    <a:pt x="1216" y="2873"/>
                  </a:lnTo>
                  <a:lnTo>
                    <a:pt x="1225" y="2873"/>
                  </a:lnTo>
                  <a:lnTo>
                    <a:pt x="1234" y="2873"/>
                  </a:lnTo>
                  <a:lnTo>
                    <a:pt x="1243" y="2873"/>
                  </a:lnTo>
                  <a:lnTo>
                    <a:pt x="1251" y="2873"/>
                  </a:lnTo>
                  <a:lnTo>
                    <a:pt x="1254" y="2884"/>
                  </a:lnTo>
                  <a:lnTo>
                    <a:pt x="1257" y="2893"/>
                  </a:lnTo>
                  <a:lnTo>
                    <a:pt x="1257" y="2901"/>
                  </a:lnTo>
                  <a:lnTo>
                    <a:pt x="1272" y="2907"/>
                  </a:lnTo>
                  <a:lnTo>
                    <a:pt x="1263" y="2913"/>
                  </a:lnTo>
                  <a:lnTo>
                    <a:pt x="1254" y="2913"/>
                  </a:lnTo>
                  <a:lnTo>
                    <a:pt x="1245" y="2913"/>
                  </a:lnTo>
                  <a:lnTo>
                    <a:pt x="1248" y="2878"/>
                  </a:lnTo>
                  <a:lnTo>
                    <a:pt x="1245" y="2896"/>
                  </a:lnTo>
                  <a:lnTo>
                    <a:pt x="1237" y="2896"/>
                  </a:lnTo>
                  <a:lnTo>
                    <a:pt x="1228" y="2893"/>
                  </a:lnTo>
                  <a:lnTo>
                    <a:pt x="1219" y="2896"/>
                  </a:lnTo>
                  <a:lnTo>
                    <a:pt x="1211" y="2896"/>
                  </a:lnTo>
                  <a:lnTo>
                    <a:pt x="1202" y="2896"/>
                  </a:lnTo>
                  <a:lnTo>
                    <a:pt x="1193" y="2893"/>
                  </a:lnTo>
                  <a:lnTo>
                    <a:pt x="1184" y="2890"/>
                  </a:lnTo>
                  <a:lnTo>
                    <a:pt x="1176" y="2890"/>
                  </a:lnTo>
                  <a:lnTo>
                    <a:pt x="1167" y="2887"/>
                  </a:lnTo>
                  <a:lnTo>
                    <a:pt x="1155" y="2887"/>
                  </a:lnTo>
                  <a:lnTo>
                    <a:pt x="1147" y="2887"/>
                  </a:lnTo>
                  <a:lnTo>
                    <a:pt x="1135" y="2887"/>
                  </a:lnTo>
                  <a:lnTo>
                    <a:pt x="1132" y="2896"/>
                  </a:lnTo>
                  <a:lnTo>
                    <a:pt x="1132" y="2904"/>
                  </a:lnTo>
                  <a:lnTo>
                    <a:pt x="1132" y="2913"/>
                  </a:lnTo>
                  <a:lnTo>
                    <a:pt x="1144" y="2916"/>
                  </a:lnTo>
                  <a:lnTo>
                    <a:pt x="1144" y="2925"/>
                  </a:lnTo>
                  <a:lnTo>
                    <a:pt x="1129" y="2927"/>
                  </a:lnTo>
                  <a:lnTo>
                    <a:pt x="1120" y="2927"/>
                  </a:lnTo>
                  <a:lnTo>
                    <a:pt x="1112" y="2927"/>
                  </a:lnTo>
                  <a:lnTo>
                    <a:pt x="1114" y="2936"/>
                  </a:lnTo>
                  <a:lnTo>
                    <a:pt x="1123" y="2936"/>
                  </a:lnTo>
                  <a:lnTo>
                    <a:pt x="1132" y="2942"/>
                  </a:lnTo>
                  <a:lnTo>
                    <a:pt x="1144" y="2948"/>
                  </a:lnTo>
                  <a:lnTo>
                    <a:pt x="1135" y="2953"/>
                  </a:lnTo>
                  <a:lnTo>
                    <a:pt x="1123" y="2953"/>
                  </a:lnTo>
                  <a:lnTo>
                    <a:pt x="1112" y="2953"/>
                  </a:lnTo>
                  <a:lnTo>
                    <a:pt x="1103" y="2953"/>
                  </a:lnTo>
                  <a:lnTo>
                    <a:pt x="1106" y="2962"/>
                  </a:lnTo>
                  <a:lnTo>
                    <a:pt x="1114" y="2965"/>
                  </a:lnTo>
                  <a:lnTo>
                    <a:pt x="1123" y="2974"/>
                  </a:lnTo>
                  <a:lnTo>
                    <a:pt x="1114" y="2982"/>
                  </a:lnTo>
                  <a:lnTo>
                    <a:pt x="1117" y="2991"/>
                  </a:lnTo>
                  <a:lnTo>
                    <a:pt x="1126" y="2994"/>
                  </a:lnTo>
                  <a:lnTo>
                    <a:pt x="1114" y="2999"/>
                  </a:lnTo>
                  <a:lnTo>
                    <a:pt x="1106" y="2999"/>
                  </a:lnTo>
                  <a:lnTo>
                    <a:pt x="1117" y="3005"/>
                  </a:lnTo>
                  <a:lnTo>
                    <a:pt x="1132" y="3008"/>
                  </a:lnTo>
                  <a:lnTo>
                    <a:pt x="1135" y="3017"/>
                  </a:lnTo>
                  <a:lnTo>
                    <a:pt x="1126" y="3022"/>
                  </a:lnTo>
                  <a:lnTo>
                    <a:pt x="1126" y="3034"/>
                  </a:lnTo>
                  <a:lnTo>
                    <a:pt x="1126" y="3046"/>
                  </a:lnTo>
                  <a:lnTo>
                    <a:pt x="1126" y="3054"/>
                  </a:lnTo>
                  <a:lnTo>
                    <a:pt x="1135" y="3054"/>
                  </a:lnTo>
                  <a:lnTo>
                    <a:pt x="1144" y="3054"/>
                  </a:lnTo>
                  <a:lnTo>
                    <a:pt x="1155" y="3054"/>
                  </a:lnTo>
                  <a:lnTo>
                    <a:pt x="1164" y="3054"/>
                  </a:lnTo>
                  <a:lnTo>
                    <a:pt x="1167" y="3063"/>
                  </a:lnTo>
                  <a:lnTo>
                    <a:pt x="1179" y="3069"/>
                  </a:lnTo>
                  <a:lnTo>
                    <a:pt x="1187" y="3069"/>
                  </a:lnTo>
                  <a:lnTo>
                    <a:pt x="1190" y="3080"/>
                  </a:lnTo>
                  <a:lnTo>
                    <a:pt x="1193" y="3089"/>
                  </a:lnTo>
                  <a:lnTo>
                    <a:pt x="1199" y="3097"/>
                  </a:lnTo>
                  <a:lnTo>
                    <a:pt x="1211" y="3103"/>
                  </a:lnTo>
                  <a:lnTo>
                    <a:pt x="1219" y="3103"/>
                  </a:lnTo>
                  <a:lnTo>
                    <a:pt x="1231" y="3103"/>
                  </a:lnTo>
                  <a:lnTo>
                    <a:pt x="1240" y="3100"/>
                  </a:lnTo>
                  <a:lnTo>
                    <a:pt x="1243" y="3092"/>
                  </a:lnTo>
                  <a:lnTo>
                    <a:pt x="1248" y="3083"/>
                  </a:lnTo>
                  <a:lnTo>
                    <a:pt x="1257" y="3083"/>
                  </a:lnTo>
                  <a:lnTo>
                    <a:pt x="1278" y="3097"/>
                  </a:lnTo>
                  <a:lnTo>
                    <a:pt x="1286" y="3103"/>
                  </a:lnTo>
                  <a:lnTo>
                    <a:pt x="1289" y="3112"/>
                  </a:lnTo>
                  <a:lnTo>
                    <a:pt x="1295" y="3120"/>
                  </a:lnTo>
                  <a:lnTo>
                    <a:pt x="1301" y="3129"/>
                  </a:lnTo>
                  <a:lnTo>
                    <a:pt x="1312" y="3141"/>
                  </a:lnTo>
                  <a:lnTo>
                    <a:pt x="1324" y="3146"/>
                  </a:lnTo>
                  <a:lnTo>
                    <a:pt x="1336" y="3152"/>
                  </a:lnTo>
                  <a:lnTo>
                    <a:pt x="1347" y="3155"/>
                  </a:lnTo>
                  <a:lnTo>
                    <a:pt x="1356" y="3155"/>
                  </a:lnTo>
                  <a:lnTo>
                    <a:pt x="1365" y="3155"/>
                  </a:lnTo>
                  <a:lnTo>
                    <a:pt x="1374" y="3155"/>
                  </a:lnTo>
                  <a:lnTo>
                    <a:pt x="1376" y="3146"/>
                  </a:lnTo>
                  <a:lnTo>
                    <a:pt x="1385" y="3138"/>
                  </a:lnTo>
                  <a:lnTo>
                    <a:pt x="1391" y="3129"/>
                  </a:lnTo>
                  <a:lnTo>
                    <a:pt x="1400" y="3132"/>
                  </a:lnTo>
                  <a:lnTo>
                    <a:pt x="1409" y="3138"/>
                  </a:lnTo>
                  <a:lnTo>
                    <a:pt x="1417" y="3149"/>
                  </a:lnTo>
                  <a:lnTo>
                    <a:pt x="1429" y="3152"/>
                  </a:lnTo>
                  <a:lnTo>
                    <a:pt x="1435" y="3155"/>
                  </a:lnTo>
                  <a:lnTo>
                    <a:pt x="1438" y="3164"/>
                  </a:lnTo>
                  <a:lnTo>
                    <a:pt x="1441" y="3172"/>
                  </a:lnTo>
                  <a:lnTo>
                    <a:pt x="1449" y="3178"/>
                  </a:lnTo>
                  <a:lnTo>
                    <a:pt x="1458" y="3178"/>
                  </a:lnTo>
                  <a:lnTo>
                    <a:pt x="1464" y="3169"/>
                  </a:lnTo>
                  <a:lnTo>
                    <a:pt x="1464" y="3161"/>
                  </a:lnTo>
                  <a:lnTo>
                    <a:pt x="1470" y="3152"/>
                  </a:lnTo>
                  <a:lnTo>
                    <a:pt x="1478" y="3152"/>
                  </a:lnTo>
                  <a:lnTo>
                    <a:pt x="1487" y="3155"/>
                  </a:lnTo>
                  <a:lnTo>
                    <a:pt x="1499" y="3161"/>
                  </a:lnTo>
                  <a:lnTo>
                    <a:pt x="1510" y="3161"/>
                  </a:lnTo>
                  <a:lnTo>
                    <a:pt x="1519" y="3161"/>
                  </a:lnTo>
                  <a:lnTo>
                    <a:pt x="1528" y="3161"/>
                  </a:lnTo>
                  <a:lnTo>
                    <a:pt x="1537" y="3158"/>
                  </a:lnTo>
                  <a:lnTo>
                    <a:pt x="1545" y="3158"/>
                  </a:lnTo>
                  <a:lnTo>
                    <a:pt x="1554" y="3164"/>
                  </a:lnTo>
                  <a:lnTo>
                    <a:pt x="1569" y="3169"/>
                  </a:lnTo>
                  <a:lnTo>
                    <a:pt x="1580" y="3169"/>
                  </a:lnTo>
                  <a:lnTo>
                    <a:pt x="1592" y="3169"/>
                  </a:lnTo>
                  <a:lnTo>
                    <a:pt x="1601" y="3169"/>
                  </a:lnTo>
                  <a:lnTo>
                    <a:pt x="1609" y="3169"/>
                  </a:lnTo>
                  <a:lnTo>
                    <a:pt x="1618" y="3169"/>
                  </a:lnTo>
                  <a:lnTo>
                    <a:pt x="1627" y="3169"/>
                  </a:lnTo>
                  <a:lnTo>
                    <a:pt x="1636" y="3169"/>
                  </a:lnTo>
                  <a:lnTo>
                    <a:pt x="1644" y="3169"/>
                  </a:lnTo>
                  <a:lnTo>
                    <a:pt x="1653" y="3169"/>
                  </a:lnTo>
                  <a:lnTo>
                    <a:pt x="1662" y="3169"/>
                  </a:lnTo>
                  <a:lnTo>
                    <a:pt x="1671" y="3169"/>
                  </a:lnTo>
                  <a:lnTo>
                    <a:pt x="1679" y="3169"/>
                  </a:lnTo>
                  <a:lnTo>
                    <a:pt x="1688" y="3169"/>
                  </a:lnTo>
                  <a:lnTo>
                    <a:pt x="1703" y="3169"/>
                  </a:lnTo>
                  <a:lnTo>
                    <a:pt x="1714" y="3172"/>
                  </a:lnTo>
                  <a:lnTo>
                    <a:pt x="1726" y="3175"/>
                  </a:lnTo>
                  <a:lnTo>
                    <a:pt x="1735" y="3175"/>
                  </a:lnTo>
                  <a:lnTo>
                    <a:pt x="1743" y="3175"/>
                  </a:lnTo>
                  <a:lnTo>
                    <a:pt x="1758" y="3175"/>
                  </a:lnTo>
                  <a:lnTo>
                    <a:pt x="1767" y="3175"/>
                  </a:lnTo>
                  <a:lnTo>
                    <a:pt x="1772" y="3167"/>
                  </a:lnTo>
                  <a:lnTo>
                    <a:pt x="1772" y="3158"/>
                  </a:lnTo>
                  <a:lnTo>
                    <a:pt x="1772" y="3149"/>
                  </a:lnTo>
                  <a:lnTo>
                    <a:pt x="1772" y="3141"/>
                  </a:lnTo>
                  <a:lnTo>
                    <a:pt x="1772" y="3132"/>
                  </a:lnTo>
                  <a:lnTo>
                    <a:pt x="1772" y="3123"/>
                  </a:lnTo>
                  <a:lnTo>
                    <a:pt x="1772" y="3112"/>
                  </a:lnTo>
                  <a:lnTo>
                    <a:pt x="1770" y="3103"/>
                  </a:lnTo>
                  <a:lnTo>
                    <a:pt x="1770" y="3095"/>
                  </a:lnTo>
                  <a:lnTo>
                    <a:pt x="1770" y="3086"/>
                  </a:lnTo>
                  <a:lnTo>
                    <a:pt x="1778" y="3080"/>
                  </a:lnTo>
                  <a:lnTo>
                    <a:pt x="1787" y="3080"/>
                  </a:lnTo>
                  <a:lnTo>
                    <a:pt x="1796" y="3089"/>
                  </a:lnTo>
                  <a:lnTo>
                    <a:pt x="1802" y="3097"/>
                  </a:lnTo>
                  <a:lnTo>
                    <a:pt x="1813" y="3103"/>
                  </a:lnTo>
                  <a:lnTo>
                    <a:pt x="1825" y="3112"/>
                  </a:lnTo>
                  <a:lnTo>
                    <a:pt x="1854" y="3109"/>
                  </a:lnTo>
                  <a:lnTo>
                    <a:pt x="1836" y="3103"/>
                  </a:lnTo>
                  <a:lnTo>
                    <a:pt x="1854" y="3103"/>
                  </a:lnTo>
                  <a:lnTo>
                    <a:pt x="1863" y="3103"/>
                  </a:lnTo>
                  <a:lnTo>
                    <a:pt x="1871" y="3103"/>
                  </a:lnTo>
                  <a:lnTo>
                    <a:pt x="1880" y="3106"/>
                  </a:lnTo>
                  <a:lnTo>
                    <a:pt x="1889" y="3100"/>
                  </a:lnTo>
                  <a:lnTo>
                    <a:pt x="1898" y="3097"/>
                  </a:lnTo>
                  <a:lnTo>
                    <a:pt x="1906" y="3095"/>
                  </a:lnTo>
                  <a:lnTo>
                    <a:pt x="1918" y="3103"/>
                  </a:lnTo>
                  <a:lnTo>
                    <a:pt x="1924" y="3112"/>
                  </a:lnTo>
                  <a:lnTo>
                    <a:pt x="1924" y="3120"/>
                  </a:lnTo>
                  <a:lnTo>
                    <a:pt x="1921" y="3129"/>
                  </a:lnTo>
                  <a:lnTo>
                    <a:pt x="1924" y="3138"/>
                  </a:lnTo>
                  <a:lnTo>
                    <a:pt x="1933" y="3144"/>
                  </a:lnTo>
                  <a:lnTo>
                    <a:pt x="1944" y="3152"/>
                  </a:lnTo>
                  <a:lnTo>
                    <a:pt x="1947" y="3144"/>
                  </a:lnTo>
                  <a:lnTo>
                    <a:pt x="1947" y="3135"/>
                  </a:lnTo>
                  <a:lnTo>
                    <a:pt x="1947" y="3126"/>
                  </a:lnTo>
                  <a:lnTo>
                    <a:pt x="1947" y="3118"/>
                  </a:lnTo>
                  <a:lnTo>
                    <a:pt x="1956" y="3115"/>
                  </a:lnTo>
                  <a:lnTo>
                    <a:pt x="1962" y="3106"/>
                  </a:lnTo>
                  <a:lnTo>
                    <a:pt x="1962" y="3097"/>
                  </a:lnTo>
                  <a:lnTo>
                    <a:pt x="1962" y="3089"/>
                  </a:lnTo>
                  <a:lnTo>
                    <a:pt x="1962" y="3080"/>
                  </a:lnTo>
                  <a:lnTo>
                    <a:pt x="1962" y="3071"/>
                  </a:lnTo>
                  <a:lnTo>
                    <a:pt x="1967" y="3063"/>
                  </a:lnTo>
                  <a:lnTo>
                    <a:pt x="1976" y="3060"/>
                  </a:lnTo>
                  <a:lnTo>
                    <a:pt x="1988" y="3060"/>
                  </a:lnTo>
                  <a:lnTo>
                    <a:pt x="2002" y="3063"/>
                  </a:lnTo>
                  <a:lnTo>
                    <a:pt x="2011" y="3063"/>
                  </a:lnTo>
                  <a:lnTo>
                    <a:pt x="2002" y="3054"/>
                  </a:lnTo>
                  <a:lnTo>
                    <a:pt x="1994" y="3048"/>
                  </a:lnTo>
                  <a:lnTo>
                    <a:pt x="1979" y="3043"/>
                  </a:lnTo>
                  <a:lnTo>
                    <a:pt x="1967" y="3034"/>
                  </a:lnTo>
                  <a:lnTo>
                    <a:pt x="1962" y="3025"/>
                  </a:lnTo>
                  <a:lnTo>
                    <a:pt x="1959" y="3017"/>
                  </a:lnTo>
                  <a:lnTo>
                    <a:pt x="1956" y="3008"/>
                  </a:lnTo>
                  <a:lnTo>
                    <a:pt x="1950" y="2999"/>
                  </a:lnTo>
                  <a:lnTo>
                    <a:pt x="1944" y="2991"/>
                  </a:lnTo>
                  <a:lnTo>
                    <a:pt x="1938" y="2982"/>
                  </a:lnTo>
                  <a:lnTo>
                    <a:pt x="1933" y="2974"/>
                  </a:lnTo>
                  <a:lnTo>
                    <a:pt x="1927" y="2965"/>
                  </a:lnTo>
                  <a:lnTo>
                    <a:pt x="1924" y="2956"/>
                  </a:lnTo>
                  <a:lnTo>
                    <a:pt x="1921" y="2948"/>
                  </a:lnTo>
                  <a:lnTo>
                    <a:pt x="1918" y="2939"/>
                  </a:lnTo>
                  <a:lnTo>
                    <a:pt x="1915" y="2930"/>
                  </a:lnTo>
                  <a:lnTo>
                    <a:pt x="1912" y="2922"/>
                  </a:lnTo>
                  <a:lnTo>
                    <a:pt x="1915" y="2913"/>
                  </a:lnTo>
                  <a:lnTo>
                    <a:pt x="1915" y="2904"/>
                  </a:lnTo>
                  <a:lnTo>
                    <a:pt x="1915" y="2896"/>
                  </a:lnTo>
                  <a:lnTo>
                    <a:pt x="1915" y="2887"/>
                  </a:lnTo>
                  <a:lnTo>
                    <a:pt x="1912" y="2878"/>
                  </a:lnTo>
                  <a:lnTo>
                    <a:pt x="1909" y="2870"/>
                  </a:lnTo>
                  <a:lnTo>
                    <a:pt x="1903" y="2861"/>
                  </a:lnTo>
                  <a:lnTo>
                    <a:pt x="1895" y="2852"/>
                  </a:lnTo>
                  <a:lnTo>
                    <a:pt x="1892" y="2844"/>
                  </a:lnTo>
                  <a:lnTo>
                    <a:pt x="1892" y="2835"/>
                  </a:lnTo>
                  <a:lnTo>
                    <a:pt x="1898" y="2827"/>
                  </a:lnTo>
                  <a:lnTo>
                    <a:pt x="1906" y="2824"/>
                  </a:lnTo>
                  <a:lnTo>
                    <a:pt x="1918" y="2821"/>
                  </a:lnTo>
                  <a:lnTo>
                    <a:pt x="1930" y="2818"/>
                  </a:lnTo>
                  <a:lnTo>
                    <a:pt x="1938" y="2812"/>
                  </a:lnTo>
                  <a:lnTo>
                    <a:pt x="1944" y="2803"/>
                  </a:lnTo>
                  <a:lnTo>
                    <a:pt x="1953" y="2798"/>
                  </a:lnTo>
                  <a:lnTo>
                    <a:pt x="1962" y="2798"/>
                  </a:lnTo>
                  <a:lnTo>
                    <a:pt x="1970" y="2798"/>
                  </a:lnTo>
                  <a:lnTo>
                    <a:pt x="1976" y="2789"/>
                  </a:lnTo>
                  <a:lnTo>
                    <a:pt x="1982" y="2780"/>
                  </a:lnTo>
                  <a:lnTo>
                    <a:pt x="1991" y="2775"/>
                  </a:lnTo>
                  <a:lnTo>
                    <a:pt x="1999" y="2775"/>
                  </a:lnTo>
                  <a:lnTo>
                    <a:pt x="2008" y="2769"/>
                  </a:lnTo>
                  <a:lnTo>
                    <a:pt x="2017" y="2763"/>
                  </a:lnTo>
                  <a:lnTo>
                    <a:pt x="2026" y="2760"/>
                  </a:lnTo>
                  <a:lnTo>
                    <a:pt x="2034" y="2760"/>
                  </a:lnTo>
                  <a:lnTo>
                    <a:pt x="2043" y="2760"/>
                  </a:lnTo>
                  <a:lnTo>
                    <a:pt x="2052" y="2754"/>
                  </a:lnTo>
                  <a:lnTo>
                    <a:pt x="2061" y="2754"/>
                  </a:lnTo>
                  <a:lnTo>
                    <a:pt x="2069" y="2757"/>
                  </a:lnTo>
                  <a:lnTo>
                    <a:pt x="2078" y="2757"/>
                  </a:lnTo>
                  <a:lnTo>
                    <a:pt x="2093" y="2760"/>
                  </a:lnTo>
                  <a:lnTo>
                    <a:pt x="2101" y="2760"/>
                  </a:lnTo>
                  <a:lnTo>
                    <a:pt x="2101" y="2769"/>
                  </a:lnTo>
                  <a:lnTo>
                    <a:pt x="2101" y="2778"/>
                  </a:lnTo>
                  <a:lnTo>
                    <a:pt x="2101" y="2786"/>
                  </a:lnTo>
                  <a:lnTo>
                    <a:pt x="2104" y="2795"/>
                  </a:lnTo>
                  <a:lnTo>
                    <a:pt x="2104" y="2803"/>
                  </a:lnTo>
                  <a:lnTo>
                    <a:pt x="2104" y="2812"/>
                  </a:lnTo>
                  <a:lnTo>
                    <a:pt x="2104" y="2821"/>
                  </a:lnTo>
                  <a:lnTo>
                    <a:pt x="2104" y="2829"/>
                  </a:lnTo>
                  <a:lnTo>
                    <a:pt x="2104" y="2838"/>
                  </a:lnTo>
                  <a:lnTo>
                    <a:pt x="2096" y="2841"/>
                  </a:lnTo>
                  <a:lnTo>
                    <a:pt x="2087" y="2841"/>
                  </a:lnTo>
                  <a:lnTo>
                    <a:pt x="2078" y="2841"/>
                  </a:lnTo>
                  <a:lnTo>
                    <a:pt x="2069" y="2841"/>
                  </a:lnTo>
                  <a:lnTo>
                    <a:pt x="2061" y="2841"/>
                  </a:lnTo>
                  <a:lnTo>
                    <a:pt x="2069" y="2841"/>
                  </a:lnTo>
                  <a:lnTo>
                    <a:pt x="2078" y="2835"/>
                  </a:lnTo>
                  <a:lnTo>
                    <a:pt x="2090" y="2835"/>
                  </a:lnTo>
                  <a:lnTo>
                    <a:pt x="2081" y="2832"/>
                  </a:lnTo>
                  <a:lnTo>
                    <a:pt x="2072" y="2832"/>
                  </a:lnTo>
                  <a:lnTo>
                    <a:pt x="2064" y="2832"/>
                  </a:lnTo>
                  <a:lnTo>
                    <a:pt x="2058" y="2841"/>
                  </a:lnTo>
                  <a:lnTo>
                    <a:pt x="2049" y="2844"/>
                  </a:lnTo>
                  <a:lnTo>
                    <a:pt x="2040" y="2847"/>
                  </a:lnTo>
                  <a:lnTo>
                    <a:pt x="2040" y="2855"/>
                  </a:lnTo>
                  <a:lnTo>
                    <a:pt x="2040" y="2864"/>
                  </a:lnTo>
                  <a:lnTo>
                    <a:pt x="2032" y="2870"/>
                  </a:lnTo>
                  <a:lnTo>
                    <a:pt x="2020" y="2870"/>
                  </a:lnTo>
                  <a:lnTo>
                    <a:pt x="2017" y="2861"/>
                  </a:lnTo>
                  <a:lnTo>
                    <a:pt x="2008" y="2858"/>
                  </a:lnTo>
                  <a:lnTo>
                    <a:pt x="2002" y="2867"/>
                  </a:lnTo>
                  <a:lnTo>
                    <a:pt x="2002" y="2876"/>
                  </a:lnTo>
                  <a:lnTo>
                    <a:pt x="2011" y="2878"/>
                  </a:lnTo>
                  <a:lnTo>
                    <a:pt x="2020" y="2884"/>
                  </a:lnTo>
                  <a:lnTo>
                    <a:pt x="2029" y="2896"/>
                  </a:lnTo>
                  <a:lnTo>
                    <a:pt x="2034" y="2907"/>
                  </a:lnTo>
                  <a:lnTo>
                    <a:pt x="2037" y="2916"/>
                  </a:lnTo>
                  <a:lnTo>
                    <a:pt x="2037" y="2925"/>
                  </a:lnTo>
                  <a:lnTo>
                    <a:pt x="2040" y="2933"/>
                  </a:lnTo>
                  <a:lnTo>
                    <a:pt x="2040" y="2942"/>
                  </a:lnTo>
                  <a:lnTo>
                    <a:pt x="2052" y="2945"/>
                  </a:lnTo>
                  <a:lnTo>
                    <a:pt x="2061" y="2953"/>
                  </a:lnTo>
                  <a:lnTo>
                    <a:pt x="2069" y="2959"/>
                  </a:lnTo>
                  <a:lnTo>
                    <a:pt x="2078" y="2965"/>
                  </a:lnTo>
                  <a:lnTo>
                    <a:pt x="2087" y="2965"/>
                  </a:lnTo>
                  <a:lnTo>
                    <a:pt x="2093" y="2976"/>
                  </a:lnTo>
                  <a:lnTo>
                    <a:pt x="2087" y="2985"/>
                  </a:lnTo>
                  <a:lnTo>
                    <a:pt x="2084" y="2994"/>
                  </a:lnTo>
                  <a:lnTo>
                    <a:pt x="2084" y="3005"/>
                  </a:lnTo>
                  <a:lnTo>
                    <a:pt x="2090" y="3017"/>
                  </a:lnTo>
                  <a:lnTo>
                    <a:pt x="2090" y="3025"/>
                  </a:lnTo>
                  <a:lnTo>
                    <a:pt x="2093" y="3017"/>
                  </a:lnTo>
                  <a:lnTo>
                    <a:pt x="2093" y="3008"/>
                  </a:lnTo>
                  <a:lnTo>
                    <a:pt x="2096" y="2999"/>
                  </a:lnTo>
                  <a:lnTo>
                    <a:pt x="2096" y="2991"/>
                  </a:lnTo>
                  <a:lnTo>
                    <a:pt x="2104" y="2988"/>
                  </a:lnTo>
                  <a:lnTo>
                    <a:pt x="2113" y="2988"/>
                  </a:lnTo>
                  <a:lnTo>
                    <a:pt x="2125" y="2988"/>
                  </a:lnTo>
                  <a:lnTo>
                    <a:pt x="2130" y="2999"/>
                  </a:lnTo>
                  <a:lnTo>
                    <a:pt x="2130" y="3008"/>
                  </a:lnTo>
                  <a:lnTo>
                    <a:pt x="2133" y="3017"/>
                  </a:lnTo>
                  <a:lnTo>
                    <a:pt x="2139" y="3028"/>
                  </a:lnTo>
                  <a:lnTo>
                    <a:pt x="2148" y="3034"/>
                  </a:lnTo>
                  <a:lnTo>
                    <a:pt x="2160" y="3040"/>
                  </a:lnTo>
                  <a:lnTo>
                    <a:pt x="2151" y="3043"/>
                  </a:lnTo>
                  <a:lnTo>
                    <a:pt x="2148" y="3051"/>
                  </a:lnTo>
                  <a:lnTo>
                    <a:pt x="2133" y="3054"/>
                  </a:lnTo>
                  <a:lnTo>
                    <a:pt x="2125" y="3051"/>
                  </a:lnTo>
                  <a:lnTo>
                    <a:pt x="2116" y="3051"/>
                  </a:lnTo>
                  <a:lnTo>
                    <a:pt x="2101" y="3046"/>
                  </a:lnTo>
                  <a:lnTo>
                    <a:pt x="2093" y="3037"/>
                  </a:lnTo>
                  <a:lnTo>
                    <a:pt x="2090" y="3046"/>
                  </a:lnTo>
                  <a:lnTo>
                    <a:pt x="2090" y="3054"/>
                  </a:lnTo>
                  <a:lnTo>
                    <a:pt x="2090" y="3063"/>
                  </a:lnTo>
                  <a:lnTo>
                    <a:pt x="2090" y="3071"/>
                  </a:lnTo>
                  <a:lnTo>
                    <a:pt x="2087" y="3080"/>
                  </a:lnTo>
                  <a:lnTo>
                    <a:pt x="2084" y="3089"/>
                  </a:lnTo>
                  <a:lnTo>
                    <a:pt x="2084" y="3097"/>
                  </a:lnTo>
                  <a:lnTo>
                    <a:pt x="2096" y="3097"/>
                  </a:lnTo>
                  <a:lnTo>
                    <a:pt x="2104" y="3092"/>
                  </a:lnTo>
                  <a:lnTo>
                    <a:pt x="2110" y="3100"/>
                  </a:lnTo>
                  <a:lnTo>
                    <a:pt x="2107" y="3109"/>
                  </a:lnTo>
                  <a:lnTo>
                    <a:pt x="2098" y="3118"/>
                  </a:lnTo>
                  <a:lnTo>
                    <a:pt x="2090" y="3123"/>
                  </a:lnTo>
                  <a:lnTo>
                    <a:pt x="2087" y="3109"/>
                  </a:lnTo>
                  <a:lnTo>
                    <a:pt x="2087" y="3132"/>
                  </a:lnTo>
                  <a:lnTo>
                    <a:pt x="2096" y="3126"/>
                  </a:lnTo>
                  <a:lnTo>
                    <a:pt x="2087" y="3109"/>
                  </a:lnTo>
                  <a:lnTo>
                    <a:pt x="2104" y="3112"/>
                  </a:lnTo>
                  <a:lnTo>
                    <a:pt x="2110" y="3103"/>
                  </a:lnTo>
                  <a:lnTo>
                    <a:pt x="2110" y="3112"/>
                  </a:lnTo>
                  <a:lnTo>
                    <a:pt x="2110" y="3120"/>
                  </a:lnTo>
                  <a:lnTo>
                    <a:pt x="2116" y="3129"/>
                  </a:lnTo>
                  <a:lnTo>
                    <a:pt x="2119" y="3138"/>
                  </a:lnTo>
                  <a:lnTo>
                    <a:pt x="2122" y="3149"/>
                  </a:lnTo>
                  <a:lnTo>
                    <a:pt x="2122" y="3158"/>
                  </a:lnTo>
                  <a:lnTo>
                    <a:pt x="2125" y="3167"/>
                  </a:lnTo>
                  <a:lnTo>
                    <a:pt x="2125" y="3175"/>
                  </a:lnTo>
                  <a:lnTo>
                    <a:pt x="2125" y="3184"/>
                  </a:lnTo>
                  <a:lnTo>
                    <a:pt x="2125" y="3193"/>
                  </a:lnTo>
                  <a:lnTo>
                    <a:pt x="2128" y="3201"/>
                  </a:lnTo>
                  <a:lnTo>
                    <a:pt x="2130" y="3210"/>
                  </a:lnTo>
                  <a:lnTo>
                    <a:pt x="2139" y="3210"/>
                  </a:lnTo>
                  <a:lnTo>
                    <a:pt x="2148" y="3210"/>
                  </a:lnTo>
                  <a:lnTo>
                    <a:pt x="2157" y="3207"/>
                  </a:lnTo>
                  <a:lnTo>
                    <a:pt x="2163" y="3198"/>
                  </a:lnTo>
                  <a:lnTo>
                    <a:pt x="2171" y="3195"/>
                  </a:lnTo>
                  <a:lnTo>
                    <a:pt x="2183" y="3193"/>
                  </a:lnTo>
                  <a:lnTo>
                    <a:pt x="2192" y="3190"/>
                  </a:lnTo>
                  <a:lnTo>
                    <a:pt x="2200" y="3184"/>
                  </a:lnTo>
                  <a:lnTo>
                    <a:pt x="2209" y="3181"/>
                  </a:lnTo>
                  <a:lnTo>
                    <a:pt x="2218" y="3181"/>
                  </a:lnTo>
                  <a:lnTo>
                    <a:pt x="2224" y="3172"/>
                  </a:lnTo>
                  <a:lnTo>
                    <a:pt x="2232" y="3169"/>
                  </a:lnTo>
                  <a:lnTo>
                    <a:pt x="2241" y="3169"/>
                  </a:lnTo>
                  <a:lnTo>
                    <a:pt x="2256" y="3169"/>
                  </a:lnTo>
                  <a:lnTo>
                    <a:pt x="2264" y="3169"/>
                  </a:lnTo>
                  <a:lnTo>
                    <a:pt x="2276" y="3178"/>
                  </a:lnTo>
                  <a:lnTo>
                    <a:pt x="2288" y="3184"/>
                  </a:lnTo>
                  <a:lnTo>
                    <a:pt x="2296" y="3187"/>
                  </a:lnTo>
                  <a:lnTo>
                    <a:pt x="2308" y="3190"/>
                  </a:lnTo>
                  <a:lnTo>
                    <a:pt x="2317" y="3195"/>
                  </a:lnTo>
                  <a:lnTo>
                    <a:pt x="2328" y="3198"/>
                  </a:lnTo>
                  <a:lnTo>
                    <a:pt x="2340" y="3201"/>
                  </a:lnTo>
                  <a:lnTo>
                    <a:pt x="2349" y="3207"/>
                  </a:lnTo>
                  <a:lnTo>
                    <a:pt x="2358" y="3216"/>
                  </a:lnTo>
                  <a:lnTo>
                    <a:pt x="2366" y="3221"/>
                  </a:lnTo>
                  <a:lnTo>
                    <a:pt x="2375" y="3227"/>
                  </a:lnTo>
                  <a:lnTo>
                    <a:pt x="2387" y="3230"/>
                  </a:lnTo>
                  <a:lnTo>
                    <a:pt x="2395" y="3230"/>
                  </a:lnTo>
                  <a:lnTo>
                    <a:pt x="2404" y="3230"/>
                  </a:lnTo>
                  <a:lnTo>
                    <a:pt x="2407" y="3239"/>
                  </a:lnTo>
                  <a:lnTo>
                    <a:pt x="2407" y="3247"/>
                  </a:lnTo>
                  <a:lnTo>
                    <a:pt x="2413" y="3256"/>
                  </a:lnTo>
                  <a:lnTo>
                    <a:pt x="2422" y="3262"/>
                  </a:lnTo>
                  <a:lnTo>
                    <a:pt x="2436" y="3265"/>
                  </a:lnTo>
                  <a:lnTo>
                    <a:pt x="2451" y="3270"/>
                  </a:lnTo>
                  <a:lnTo>
                    <a:pt x="2457" y="3279"/>
                  </a:lnTo>
                  <a:lnTo>
                    <a:pt x="2457" y="3288"/>
                  </a:lnTo>
                  <a:lnTo>
                    <a:pt x="2468" y="3291"/>
                  </a:lnTo>
                  <a:lnTo>
                    <a:pt x="2483" y="3288"/>
                  </a:lnTo>
                  <a:lnTo>
                    <a:pt x="2491" y="3285"/>
                  </a:lnTo>
                  <a:lnTo>
                    <a:pt x="2500" y="3276"/>
                  </a:lnTo>
                  <a:lnTo>
                    <a:pt x="2509" y="3270"/>
                  </a:lnTo>
                  <a:lnTo>
                    <a:pt x="2515" y="3262"/>
                  </a:lnTo>
                  <a:lnTo>
                    <a:pt x="2521" y="3253"/>
                  </a:lnTo>
                  <a:lnTo>
                    <a:pt x="2526" y="3244"/>
                  </a:lnTo>
                  <a:lnTo>
                    <a:pt x="2532" y="3236"/>
                  </a:lnTo>
                  <a:lnTo>
                    <a:pt x="2535" y="3227"/>
                  </a:lnTo>
                  <a:lnTo>
                    <a:pt x="2541" y="3218"/>
                  </a:lnTo>
                  <a:lnTo>
                    <a:pt x="2544" y="3210"/>
                  </a:lnTo>
                  <a:lnTo>
                    <a:pt x="2544" y="3198"/>
                  </a:lnTo>
                  <a:lnTo>
                    <a:pt x="2544" y="3190"/>
                  </a:lnTo>
                  <a:lnTo>
                    <a:pt x="2553" y="3181"/>
                  </a:lnTo>
                  <a:lnTo>
                    <a:pt x="2567" y="3181"/>
                  </a:lnTo>
                  <a:lnTo>
                    <a:pt x="2599" y="3155"/>
                  </a:lnTo>
                  <a:lnTo>
                    <a:pt x="2599" y="3164"/>
                  </a:lnTo>
                  <a:lnTo>
                    <a:pt x="2608" y="3169"/>
                  </a:lnTo>
                  <a:lnTo>
                    <a:pt x="2617" y="3178"/>
                  </a:lnTo>
                  <a:lnTo>
                    <a:pt x="2625" y="3181"/>
                  </a:lnTo>
                  <a:lnTo>
                    <a:pt x="2634" y="3178"/>
                  </a:lnTo>
                  <a:lnTo>
                    <a:pt x="2643" y="3172"/>
                  </a:lnTo>
                  <a:lnTo>
                    <a:pt x="2657" y="3169"/>
                  </a:lnTo>
                  <a:lnTo>
                    <a:pt x="2666" y="3169"/>
                  </a:lnTo>
                  <a:lnTo>
                    <a:pt x="2675" y="3169"/>
                  </a:lnTo>
                  <a:lnTo>
                    <a:pt x="2684" y="3164"/>
                  </a:lnTo>
                  <a:lnTo>
                    <a:pt x="2692" y="3155"/>
                  </a:lnTo>
                  <a:lnTo>
                    <a:pt x="2739" y="3155"/>
                  </a:lnTo>
                  <a:lnTo>
                    <a:pt x="2733" y="3138"/>
                  </a:lnTo>
                  <a:lnTo>
                    <a:pt x="2733" y="3126"/>
                  </a:lnTo>
                  <a:lnTo>
                    <a:pt x="2730" y="3118"/>
                  </a:lnTo>
                  <a:lnTo>
                    <a:pt x="2739" y="3112"/>
                  </a:lnTo>
                  <a:lnTo>
                    <a:pt x="2748" y="3106"/>
                  </a:lnTo>
                  <a:lnTo>
                    <a:pt x="2753" y="3097"/>
                  </a:lnTo>
                  <a:lnTo>
                    <a:pt x="2762" y="3092"/>
                  </a:lnTo>
                  <a:lnTo>
                    <a:pt x="2771" y="3092"/>
                  </a:lnTo>
                  <a:lnTo>
                    <a:pt x="2780" y="3095"/>
                  </a:lnTo>
                  <a:lnTo>
                    <a:pt x="2783" y="3103"/>
                  </a:lnTo>
                  <a:lnTo>
                    <a:pt x="2786" y="3112"/>
                  </a:lnTo>
                  <a:lnTo>
                    <a:pt x="2786" y="3126"/>
                  </a:lnTo>
                  <a:lnTo>
                    <a:pt x="2788" y="3135"/>
                  </a:lnTo>
                  <a:lnTo>
                    <a:pt x="2791" y="3144"/>
                  </a:lnTo>
                  <a:lnTo>
                    <a:pt x="2794" y="3152"/>
                  </a:lnTo>
                  <a:lnTo>
                    <a:pt x="2800" y="3161"/>
                  </a:lnTo>
                  <a:lnTo>
                    <a:pt x="2809" y="3167"/>
                  </a:lnTo>
                  <a:lnTo>
                    <a:pt x="2818" y="3167"/>
                  </a:lnTo>
                  <a:lnTo>
                    <a:pt x="2826" y="3167"/>
                  </a:lnTo>
                  <a:lnTo>
                    <a:pt x="2832" y="3158"/>
                  </a:lnTo>
                  <a:lnTo>
                    <a:pt x="2841" y="3152"/>
                  </a:lnTo>
                  <a:lnTo>
                    <a:pt x="2844" y="3144"/>
                  </a:lnTo>
                  <a:lnTo>
                    <a:pt x="2847" y="3135"/>
                  </a:lnTo>
                  <a:lnTo>
                    <a:pt x="2850" y="3123"/>
                  </a:lnTo>
                  <a:lnTo>
                    <a:pt x="2858" y="3115"/>
                  </a:lnTo>
                  <a:lnTo>
                    <a:pt x="2870" y="3115"/>
                  </a:lnTo>
                  <a:lnTo>
                    <a:pt x="2879" y="3115"/>
                  </a:lnTo>
                  <a:lnTo>
                    <a:pt x="2887" y="3115"/>
                  </a:lnTo>
                  <a:lnTo>
                    <a:pt x="2896" y="3115"/>
                  </a:lnTo>
                  <a:lnTo>
                    <a:pt x="2902" y="3106"/>
                  </a:lnTo>
                  <a:lnTo>
                    <a:pt x="2914" y="3103"/>
                  </a:lnTo>
                  <a:lnTo>
                    <a:pt x="2922" y="3103"/>
                  </a:lnTo>
                  <a:lnTo>
                    <a:pt x="2925" y="3095"/>
                  </a:lnTo>
                  <a:lnTo>
                    <a:pt x="2925" y="3086"/>
                  </a:lnTo>
                  <a:lnTo>
                    <a:pt x="2922" y="3077"/>
                  </a:lnTo>
                  <a:lnTo>
                    <a:pt x="2917" y="3066"/>
                  </a:lnTo>
                  <a:lnTo>
                    <a:pt x="2911" y="3057"/>
                  </a:lnTo>
                  <a:lnTo>
                    <a:pt x="2905" y="3048"/>
                  </a:lnTo>
                  <a:lnTo>
                    <a:pt x="2896" y="3046"/>
                  </a:lnTo>
                  <a:lnTo>
                    <a:pt x="2887" y="3048"/>
                  </a:lnTo>
                  <a:lnTo>
                    <a:pt x="2879" y="3051"/>
                  </a:lnTo>
                  <a:lnTo>
                    <a:pt x="2876" y="3060"/>
                  </a:lnTo>
                  <a:lnTo>
                    <a:pt x="2873" y="3069"/>
                  </a:lnTo>
                  <a:lnTo>
                    <a:pt x="2864" y="3066"/>
                  </a:lnTo>
                  <a:lnTo>
                    <a:pt x="2861" y="3054"/>
                  </a:lnTo>
                  <a:lnTo>
                    <a:pt x="2858" y="3043"/>
                  </a:lnTo>
                  <a:lnTo>
                    <a:pt x="2858" y="3034"/>
                  </a:lnTo>
                  <a:lnTo>
                    <a:pt x="2855" y="3025"/>
                  </a:lnTo>
                  <a:lnTo>
                    <a:pt x="2850" y="3017"/>
                  </a:lnTo>
                  <a:lnTo>
                    <a:pt x="2850" y="3008"/>
                  </a:lnTo>
                  <a:lnTo>
                    <a:pt x="2850" y="2997"/>
                  </a:lnTo>
                  <a:lnTo>
                    <a:pt x="2850" y="2988"/>
                  </a:lnTo>
                  <a:lnTo>
                    <a:pt x="2858" y="2982"/>
                  </a:lnTo>
                  <a:lnTo>
                    <a:pt x="2867" y="2982"/>
                  </a:lnTo>
                  <a:lnTo>
                    <a:pt x="2876" y="2979"/>
                  </a:lnTo>
                  <a:lnTo>
                    <a:pt x="2884" y="2974"/>
                  </a:lnTo>
                  <a:lnTo>
                    <a:pt x="2887" y="2962"/>
                  </a:lnTo>
                  <a:lnTo>
                    <a:pt x="2896" y="2962"/>
                  </a:lnTo>
                  <a:lnTo>
                    <a:pt x="2905" y="2962"/>
                  </a:lnTo>
                  <a:lnTo>
                    <a:pt x="2914" y="2962"/>
                  </a:lnTo>
                  <a:lnTo>
                    <a:pt x="2922" y="2959"/>
                  </a:lnTo>
                  <a:lnTo>
                    <a:pt x="2931" y="2956"/>
                  </a:lnTo>
                  <a:lnTo>
                    <a:pt x="2937" y="2948"/>
                  </a:lnTo>
                  <a:lnTo>
                    <a:pt x="2943" y="2939"/>
                  </a:lnTo>
                  <a:lnTo>
                    <a:pt x="2946" y="2930"/>
                  </a:lnTo>
                  <a:lnTo>
                    <a:pt x="2954" y="2925"/>
                  </a:lnTo>
                  <a:lnTo>
                    <a:pt x="2963" y="2919"/>
                  </a:lnTo>
                  <a:lnTo>
                    <a:pt x="2972" y="2916"/>
                  </a:lnTo>
                  <a:lnTo>
                    <a:pt x="2981" y="2913"/>
                  </a:lnTo>
                  <a:lnTo>
                    <a:pt x="2983" y="2904"/>
                  </a:lnTo>
                  <a:lnTo>
                    <a:pt x="2989" y="2893"/>
                  </a:lnTo>
                  <a:lnTo>
                    <a:pt x="2998" y="2881"/>
                  </a:lnTo>
                  <a:lnTo>
                    <a:pt x="3004" y="2873"/>
                  </a:lnTo>
                  <a:lnTo>
                    <a:pt x="3010" y="2864"/>
                  </a:lnTo>
                  <a:lnTo>
                    <a:pt x="3018" y="2858"/>
                  </a:lnTo>
                  <a:lnTo>
                    <a:pt x="3027" y="2852"/>
                  </a:lnTo>
                  <a:lnTo>
                    <a:pt x="3036" y="2847"/>
                  </a:lnTo>
                  <a:lnTo>
                    <a:pt x="3045" y="2847"/>
                  </a:lnTo>
                  <a:lnTo>
                    <a:pt x="3053" y="2844"/>
                  </a:lnTo>
                  <a:lnTo>
                    <a:pt x="3053" y="2835"/>
                  </a:lnTo>
                  <a:lnTo>
                    <a:pt x="3053" y="2827"/>
                  </a:lnTo>
                  <a:lnTo>
                    <a:pt x="3053" y="2818"/>
                  </a:lnTo>
                  <a:lnTo>
                    <a:pt x="3053" y="2809"/>
                  </a:lnTo>
                  <a:lnTo>
                    <a:pt x="3050" y="2801"/>
                  </a:lnTo>
                  <a:lnTo>
                    <a:pt x="3045" y="2789"/>
                  </a:lnTo>
                  <a:lnTo>
                    <a:pt x="3045" y="2780"/>
                  </a:lnTo>
                  <a:lnTo>
                    <a:pt x="3045" y="2772"/>
                  </a:lnTo>
                  <a:lnTo>
                    <a:pt x="3045" y="2763"/>
                  </a:lnTo>
                  <a:lnTo>
                    <a:pt x="3036" y="2754"/>
                  </a:lnTo>
                  <a:lnTo>
                    <a:pt x="3027" y="2743"/>
                  </a:lnTo>
                  <a:lnTo>
                    <a:pt x="3024" y="2734"/>
                  </a:lnTo>
                  <a:lnTo>
                    <a:pt x="3021" y="2726"/>
                  </a:lnTo>
                  <a:lnTo>
                    <a:pt x="3018" y="2717"/>
                  </a:lnTo>
                  <a:lnTo>
                    <a:pt x="3010" y="2708"/>
                  </a:lnTo>
                  <a:lnTo>
                    <a:pt x="3001" y="2705"/>
                  </a:lnTo>
                  <a:lnTo>
                    <a:pt x="3001" y="2697"/>
                  </a:lnTo>
                  <a:lnTo>
                    <a:pt x="3010" y="2694"/>
                  </a:lnTo>
                  <a:lnTo>
                    <a:pt x="3018" y="2688"/>
                  </a:lnTo>
                  <a:lnTo>
                    <a:pt x="3027" y="2682"/>
                  </a:lnTo>
                  <a:lnTo>
                    <a:pt x="3030" y="2674"/>
                  </a:lnTo>
                  <a:lnTo>
                    <a:pt x="3039" y="2665"/>
                  </a:lnTo>
                  <a:lnTo>
                    <a:pt x="3045" y="2657"/>
                  </a:lnTo>
                  <a:lnTo>
                    <a:pt x="3056" y="2659"/>
                  </a:lnTo>
                  <a:lnTo>
                    <a:pt x="3065" y="2665"/>
                  </a:lnTo>
                  <a:lnTo>
                    <a:pt x="3074" y="2665"/>
                  </a:lnTo>
                  <a:lnTo>
                    <a:pt x="3077" y="2657"/>
                  </a:lnTo>
                  <a:lnTo>
                    <a:pt x="3077" y="2645"/>
                  </a:lnTo>
                  <a:lnTo>
                    <a:pt x="3077" y="2636"/>
                  </a:lnTo>
                  <a:lnTo>
                    <a:pt x="3077" y="2628"/>
                  </a:lnTo>
                  <a:lnTo>
                    <a:pt x="3071" y="2619"/>
                  </a:lnTo>
                  <a:lnTo>
                    <a:pt x="3062" y="2613"/>
                  </a:lnTo>
                  <a:lnTo>
                    <a:pt x="3056" y="2605"/>
                  </a:lnTo>
                  <a:lnTo>
                    <a:pt x="3056" y="2596"/>
                  </a:lnTo>
                  <a:lnTo>
                    <a:pt x="3053" y="2582"/>
                  </a:lnTo>
                  <a:lnTo>
                    <a:pt x="3053" y="2573"/>
                  </a:lnTo>
                  <a:lnTo>
                    <a:pt x="3062" y="2567"/>
                  </a:lnTo>
                  <a:lnTo>
                    <a:pt x="3071" y="2567"/>
                  </a:lnTo>
                  <a:lnTo>
                    <a:pt x="3080" y="2564"/>
                  </a:lnTo>
                  <a:lnTo>
                    <a:pt x="3088" y="2564"/>
                  </a:lnTo>
                  <a:lnTo>
                    <a:pt x="3097" y="2561"/>
                  </a:lnTo>
                  <a:lnTo>
                    <a:pt x="3109" y="2556"/>
                  </a:lnTo>
                  <a:lnTo>
                    <a:pt x="3117" y="2547"/>
                  </a:lnTo>
                  <a:lnTo>
                    <a:pt x="3120" y="2538"/>
                  </a:lnTo>
                  <a:lnTo>
                    <a:pt x="3120" y="2530"/>
                  </a:lnTo>
                  <a:lnTo>
                    <a:pt x="3120" y="2521"/>
                  </a:lnTo>
                  <a:lnTo>
                    <a:pt x="3120" y="2512"/>
                  </a:lnTo>
                  <a:lnTo>
                    <a:pt x="3114" y="2501"/>
                  </a:lnTo>
                  <a:lnTo>
                    <a:pt x="3112" y="2489"/>
                  </a:lnTo>
                  <a:lnTo>
                    <a:pt x="3112" y="2481"/>
                  </a:lnTo>
                  <a:lnTo>
                    <a:pt x="3112" y="2472"/>
                  </a:lnTo>
                  <a:lnTo>
                    <a:pt x="3120" y="2463"/>
                  </a:lnTo>
                  <a:lnTo>
                    <a:pt x="3129" y="2461"/>
                  </a:lnTo>
                  <a:lnTo>
                    <a:pt x="3135" y="2452"/>
                  </a:lnTo>
                  <a:lnTo>
                    <a:pt x="3135" y="2443"/>
                  </a:lnTo>
                  <a:lnTo>
                    <a:pt x="3135" y="2435"/>
                  </a:lnTo>
                  <a:lnTo>
                    <a:pt x="3144" y="2429"/>
                  </a:lnTo>
                  <a:lnTo>
                    <a:pt x="3152" y="2420"/>
                  </a:lnTo>
                  <a:lnTo>
                    <a:pt x="3155" y="2412"/>
                  </a:lnTo>
                  <a:lnTo>
                    <a:pt x="3158" y="2403"/>
                  </a:lnTo>
                  <a:lnTo>
                    <a:pt x="3167" y="2394"/>
                  </a:lnTo>
                  <a:lnTo>
                    <a:pt x="3176" y="2386"/>
                  </a:lnTo>
                  <a:lnTo>
                    <a:pt x="3184" y="2380"/>
                  </a:lnTo>
                  <a:lnTo>
                    <a:pt x="3184" y="2371"/>
                  </a:lnTo>
                  <a:lnTo>
                    <a:pt x="3187" y="2363"/>
                  </a:lnTo>
                  <a:lnTo>
                    <a:pt x="3193" y="2354"/>
                  </a:lnTo>
                  <a:lnTo>
                    <a:pt x="3202" y="2348"/>
                  </a:lnTo>
                  <a:lnTo>
                    <a:pt x="3208" y="2340"/>
                  </a:lnTo>
                  <a:lnTo>
                    <a:pt x="3213" y="2331"/>
                  </a:lnTo>
                  <a:lnTo>
                    <a:pt x="3216" y="2322"/>
                  </a:lnTo>
                  <a:lnTo>
                    <a:pt x="3219" y="2314"/>
                  </a:lnTo>
                  <a:lnTo>
                    <a:pt x="3222" y="2305"/>
                  </a:lnTo>
                  <a:lnTo>
                    <a:pt x="3228" y="2296"/>
                  </a:lnTo>
                  <a:lnTo>
                    <a:pt x="3237" y="2291"/>
                  </a:lnTo>
                  <a:lnTo>
                    <a:pt x="3245" y="2291"/>
                  </a:lnTo>
                  <a:lnTo>
                    <a:pt x="3254" y="2285"/>
                  </a:lnTo>
                  <a:lnTo>
                    <a:pt x="3263" y="2282"/>
                  </a:lnTo>
                  <a:lnTo>
                    <a:pt x="3272" y="2279"/>
                  </a:lnTo>
                  <a:lnTo>
                    <a:pt x="3280" y="2279"/>
                  </a:lnTo>
                  <a:lnTo>
                    <a:pt x="3289" y="2276"/>
                  </a:lnTo>
                  <a:lnTo>
                    <a:pt x="3298" y="2273"/>
                  </a:lnTo>
                  <a:lnTo>
                    <a:pt x="3307" y="2273"/>
                  </a:lnTo>
                  <a:lnTo>
                    <a:pt x="3318" y="2276"/>
                  </a:lnTo>
                  <a:lnTo>
                    <a:pt x="3327" y="2276"/>
                  </a:lnTo>
                  <a:lnTo>
                    <a:pt x="3336" y="2276"/>
                  </a:lnTo>
                  <a:lnTo>
                    <a:pt x="3344" y="2276"/>
                  </a:lnTo>
                  <a:lnTo>
                    <a:pt x="3344" y="2279"/>
                  </a:lnTo>
                  <a:lnTo>
                    <a:pt x="3356" y="2265"/>
                  </a:lnTo>
                  <a:lnTo>
                    <a:pt x="3365" y="2265"/>
                  </a:lnTo>
                  <a:lnTo>
                    <a:pt x="3374" y="2259"/>
                  </a:lnTo>
                  <a:lnTo>
                    <a:pt x="3382" y="2253"/>
                  </a:lnTo>
                  <a:lnTo>
                    <a:pt x="3385" y="2244"/>
                  </a:lnTo>
                  <a:lnTo>
                    <a:pt x="3391" y="2233"/>
                  </a:lnTo>
                  <a:lnTo>
                    <a:pt x="3400" y="2224"/>
                  </a:lnTo>
                  <a:lnTo>
                    <a:pt x="3397" y="2216"/>
                  </a:lnTo>
                  <a:lnTo>
                    <a:pt x="3391" y="2207"/>
                  </a:lnTo>
                  <a:lnTo>
                    <a:pt x="3382" y="2201"/>
                  </a:lnTo>
                  <a:lnTo>
                    <a:pt x="3376" y="2193"/>
                  </a:lnTo>
                  <a:lnTo>
                    <a:pt x="3368" y="2184"/>
                  </a:lnTo>
                  <a:lnTo>
                    <a:pt x="3362" y="2172"/>
                  </a:lnTo>
                  <a:lnTo>
                    <a:pt x="3356" y="2164"/>
                  </a:lnTo>
                  <a:lnTo>
                    <a:pt x="3356" y="2155"/>
                  </a:lnTo>
                  <a:lnTo>
                    <a:pt x="3356" y="2146"/>
                  </a:lnTo>
                  <a:lnTo>
                    <a:pt x="3368" y="2141"/>
                  </a:lnTo>
                  <a:lnTo>
                    <a:pt x="3376" y="2138"/>
                  </a:lnTo>
                  <a:lnTo>
                    <a:pt x="3385" y="2135"/>
                  </a:lnTo>
                  <a:lnTo>
                    <a:pt x="3394" y="2126"/>
                  </a:lnTo>
                  <a:lnTo>
                    <a:pt x="3400" y="2118"/>
                  </a:lnTo>
                  <a:lnTo>
                    <a:pt x="3406" y="2109"/>
                  </a:lnTo>
                  <a:lnTo>
                    <a:pt x="3414" y="2106"/>
                  </a:lnTo>
                  <a:lnTo>
                    <a:pt x="3426" y="2106"/>
                  </a:lnTo>
                  <a:lnTo>
                    <a:pt x="3435" y="2106"/>
                  </a:lnTo>
                  <a:lnTo>
                    <a:pt x="3443" y="2106"/>
                  </a:lnTo>
                  <a:lnTo>
                    <a:pt x="3452" y="2103"/>
                  </a:lnTo>
                  <a:lnTo>
                    <a:pt x="3461" y="2103"/>
                  </a:lnTo>
                  <a:lnTo>
                    <a:pt x="3470" y="2103"/>
                  </a:lnTo>
                  <a:lnTo>
                    <a:pt x="3478" y="2112"/>
                  </a:lnTo>
                  <a:lnTo>
                    <a:pt x="3484" y="2120"/>
                  </a:lnTo>
                  <a:lnTo>
                    <a:pt x="3493" y="2126"/>
                  </a:lnTo>
                  <a:lnTo>
                    <a:pt x="3502" y="2129"/>
                  </a:lnTo>
                  <a:lnTo>
                    <a:pt x="3510" y="2129"/>
                  </a:lnTo>
                  <a:lnTo>
                    <a:pt x="3519" y="2129"/>
                  </a:lnTo>
                  <a:lnTo>
                    <a:pt x="3528" y="2126"/>
                  </a:lnTo>
                  <a:lnTo>
                    <a:pt x="3537" y="2118"/>
                  </a:lnTo>
                  <a:lnTo>
                    <a:pt x="3542" y="2109"/>
                  </a:lnTo>
                  <a:lnTo>
                    <a:pt x="3548" y="2100"/>
                  </a:lnTo>
                  <a:lnTo>
                    <a:pt x="3551" y="2089"/>
                  </a:lnTo>
                  <a:lnTo>
                    <a:pt x="3554" y="2080"/>
                  </a:lnTo>
                  <a:lnTo>
                    <a:pt x="3563" y="2072"/>
                  </a:lnTo>
                  <a:lnTo>
                    <a:pt x="3572" y="2072"/>
                  </a:lnTo>
                  <a:lnTo>
                    <a:pt x="3583" y="2063"/>
                  </a:lnTo>
                  <a:lnTo>
                    <a:pt x="3589" y="2054"/>
                  </a:lnTo>
                  <a:lnTo>
                    <a:pt x="3595" y="2046"/>
                  </a:lnTo>
                  <a:lnTo>
                    <a:pt x="3604" y="2040"/>
                  </a:lnTo>
                  <a:lnTo>
                    <a:pt x="3612" y="2040"/>
                  </a:lnTo>
                  <a:lnTo>
                    <a:pt x="3621" y="2040"/>
                  </a:lnTo>
                  <a:lnTo>
                    <a:pt x="3630" y="2040"/>
                  </a:lnTo>
                  <a:lnTo>
                    <a:pt x="3638" y="2037"/>
                  </a:lnTo>
                  <a:lnTo>
                    <a:pt x="3647" y="2037"/>
                  </a:lnTo>
                  <a:lnTo>
                    <a:pt x="3656" y="2037"/>
                  </a:lnTo>
                  <a:lnTo>
                    <a:pt x="3665" y="2037"/>
                  </a:lnTo>
                  <a:lnTo>
                    <a:pt x="3673" y="2034"/>
                  </a:lnTo>
                  <a:lnTo>
                    <a:pt x="3682" y="2031"/>
                  </a:lnTo>
                  <a:lnTo>
                    <a:pt x="3691" y="2028"/>
                  </a:lnTo>
                  <a:lnTo>
                    <a:pt x="3700" y="2023"/>
                  </a:lnTo>
                  <a:lnTo>
                    <a:pt x="3705" y="2014"/>
                  </a:lnTo>
                  <a:lnTo>
                    <a:pt x="3714" y="2005"/>
                  </a:lnTo>
                  <a:lnTo>
                    <a:pt x="3723" y="1997"/>
                  </a:lnTo>
                  <a:lnTo>
                    <a:pt x="3726" y="1988"/>
                  </a:lnTo>
                  <a:lnTo>
                    <a:pt x="3735" y="1976"/>
                  </a:lnTo>
                  <a:lnTo>
                    <a:pt x="3740" y="1968"/>
                  </a:lnTo>
                  <a:lnTo>
                    <a:pt x="3746" y="1959"/>
                  </a:lnTo>
                  <a:lnTo>
                    <a:pt x="3749" y="1950"/>
                  </a:lnTo>
                  <a:lnTo>
                    <a:pt x="3755" y="1939"/>
                  </a:lnTo>
                  <a:lnTo>
                    <a:pt x="3761" y="1927"/>
                  </a:lnTo>
                  <a:lnTo>
                    <a:pt x="3767" y="1919"/>
                  </a:lnTo>
                  <a:lnTo>
                    <a:pt x="3767" y="1910"/>
                  </a:lnTo>
                  <a:lnTo>
                    <a:pt x="3758" y="1910"/>
                  </a:lnTo>
                  <a:lnTo>
                    <a:pt x="3758" y="1899"/>
                  </a:lnTo>
                  <a:lnTo>
                    <a:pt x="3758" y="1890"/>
                  </a:lnTo>
                  <a:lnTo>
                    <a:pt x="3767" y="1881"/>
                  </a:lnTo>
                  <a:lnTo>
                    <a:pt x="3775" y="1881"/>
                  </a:lnTo>
                  <a:lnTo>
                    <a:pt x="3781" y="1873"/>
                  </a:lnTo>
                  <a:lnTo>
                    <a:pt x="3784" y="1864"/>
                  </a:lnTo>
                  <a:lnTo>
                    <a:pt x="3787" y="1855"/>
                  </a:lnTo>
                  <a:lnTo>
                    <a:pt x="3796" y="1850"/>
                  </a:lnTo>
                  <a:lnTo>
                    <a:pt x="3804" y="1847"/>
                  </a:lnTo>
                  <a:lnTo>
                    <a:pt x="3813" y="1844"/>
                  </a:lnTo>
                  <a:lnTo>
                    <a:pt x="3822" y="1838"/>
                  </a:lnTo>
                  <a:lnTo>
                    <a:pt x="3831" y="1835"/>
                  </a:lnTo>
                  <a:lnTo>
                    <a:pt x="3839" y="1824"/>
                  </a:lnTo>
                  <a:lnTo>
                    <a:pt x="3845" y="1815"/>
                  </a:lnTo>
                  <a:lnTo>
                    <a:pt x="3851" y="1806"/>
                  </a:lnTo>
                  <a:lnTo>
                    <a:pt x="3857" y="1798"/>
                  </a:lnTo>
                  <a:lnTo>
                    <a:pt x="3860" y="1789"/>
                  </a:lnTo>
                  <a:lnTo>
                    <a:pt x="3863" y="1780"/>
                  </a:lnTo>
                  <a:lnTo>
                    <a:pt x="3857" y="1772"/>
                  </a:lnTo>
                  <a:lnTo>
                    <a:pt x="3851" y="1763"/>
                  </a:lnTo>
                  <a:lnTo>
                    <a:pt x="3842" y="1760"/>
                  </a:lnTo>
                  <a:lnTo>
                    <a:pt x="3834" y="1752"/>
                  </a:lnTo>
                  <a:lnTo>
                    <a:pt x="3831" y="1743"/>
                  </a:lnTo>
                  <a:lnTo>
                    <a:pt x="3828" y="1734"/>
                  </a:lnTo>
                  <a:lnTo>
                    <a:pt x="3825" y="1726"/>
                  </a:lnTo>
                  <a:lnTo>
                    <a:pt x="3822" y="1714"/>
                  </a:lnTo>
                  <a:lnTo>
                    <a:pt x="3819" y="1706"/>
                  </a:lnTo>
                  <a:lnTo>
                    <a:pt x="3816" y="1697"/>
                  </a:lnTo>
                  <a:lnTo>
                    <a:pt x="3813" y="1685"/>
                  </a:lnTo>
                  <a:lnTo>
                    <a:pt x="3810" y="1677"/>
                  </a:lnTo>
                  <a:lnTo>
                    <a:pt x="3807" y="1668"/>
                  </a:lnTo>
                  <a:lnTo>
                    <a:pt x="3804" y="1659"/>
                  </a:lnTo>
                  <a:lnTo>
                    <a:pt x="3796" y="1657"/>
                  </a:lnTo>
                  <a:lnTo>
                    <a:pt x="3787" y="1657"/>
                  </a:lnTo>
                  <a:lnTo>
                    <a:pt x="3775" y="1657"/>
                  </a:lnTo>
                  <a:lnTo>
                    <a:pt x="3767" y="1648"/>
                  </a:lnTo>
                  <a:lnTo>
                    <a:pt x="3767" y="1639"/>
                  </a:lnTo>
                  <a:lnTo>
                    <a:pt x="3767" y="1631"/>
                  </a:lnTo>
                  <a:lnTo>
                    <a:pt x="3767" y="1622"/>
                  </a:lnTo>
                  <a:lnTo>
                    <a:pt x="3767" y="1613"/>
                  </a:lnTo>
                  <a:lnTo>
                    <a:pt x="3770" y="1605"/>
                  </a:lnTo>
                  <a:lnTo>
                    <a:pt x="3770" y="1596"/>
                  </a:lnTo>
                  <a:lnTo>
                    <a:pt x="3772" y="1587"/>
                  </a:lnTo>
                  <a:lnTo>
                    <a:pt x="3810" y="1541"/>
                  </a:lnTo>
                  <a:lnTo>
                    <a:pt x="3793" y="1541"/>
                  </a:lnTo>
                  <a:lnTo>
                    <a:pt x="3799" y="1533"/>
                  </a:lnTo>
                  <a:lnTo>
                    <a:pt x="3807" y="1530"/>
                  </a:lnTo>
                  <a:lnTo>
                    <a:pt x="3816" y="1527"/>
                  </a:lnTo>
                  <a:lnTo>
                    <a:pt x="3828" y="1527"/>
                  </a:lnTo>
                  <a:lnTo>
                    <a:pt x="3839" y="1527"/>
                  </a:lnTo>
                  <a:lnTo>
                    <a:pt x="3851" y="1524"/>
                  </a:lnTo>
                  <a:lnTo>
                    <a:pt x="3863" y="1524"/>
                  </a:lnTo>
                  <a:lnTo>
                    <a:pt x="3874" y="1524"/>
                  </a:lnTo>
                  <a:lnTo>
                    <a:pt x="3883" y="1527"/>
                  </a:lnTo>
                  <a:lnTo>
                    <a:pt x="3892" y="1530"/>
                  </a:lnTo>
                  <a:lnTo>
                    <a:pt x="3901" y="1533"/>
                  </a:lnTo>
                  <a:lnTo>
                    <a:pt x="3909" y="1535"/>
                  </a:lnTo>
                  <a:lnTo>
                    <a:pt x="3918" y="1535"/>
                  </a:lnTo>
                  <a:lnTo>
                    <a:pt x="3930" y="1535"/>
                  </a:lnTo>
                  <a:lnTo>
                    <a:pt x="3941" y="1535"/>
                  </a:lnTo>
                  <a:lnTo>
                    <a:pt x="3950" y="1535"/>
                  </a:lnTo>
                  <a:lnTo>
                    <a:pt x="3959" y="1535"/>
                  </a:lnTo>
                  <a:lnTo>
                    <a:pt x="3970" y="1541"/>
                  </a:lnTo>
                  <a:lnTo>
                    <a:pt x="3979" y="1541"/>
                  </a:lnTo>
                  <a:lnTo>
                    <a:pt x="3985" y="1550"/>
                  </a:lnTo>
                  <a:lnTo>
                    <a:pt x="3997" y="1559"/>
                  </a:lnTo>
                  <a:lnTo>
                    <a:pt x="4005" y="1561"/>
                  </a:lnTo>
                  <a:lnTo>
                    <a:pt x="4017" y="1561"/>
                  </a:lnTo>
                  <a:lnTo>
                    <a:pt x="4026" y="1559"/>
                  </a:lnTo>
                  <a:lnTo>
                    <a:pt x="4029" y="1550"/>
                  </a:lnTo>
                  <a:lnTo>
                    <a:pt x="4037" y="1541"/>
                  </a:lnTo>
                  <a:lnTo>
                    <a:pt x="4040" y="1533"/>
                  </a:lnTo>
                  <a:lnTo>
                    <a:pt x="4043" y="1524"/>
                  </a:lnTo>
                  <a:lnTo>
                    <a:pt x="4055" y="1512"/>
                  </a:lnTo>
                  <a:lnTo>
                    <a:pt x="4066" y="1507"/>
                  </a:lnTo>
                  <a:lnTo>
                    <a:pt x="4075" y="1498"/>
                  </a:lnTo>
                  <a:lnTo>
                    <a:pt x="4084" y="1495"/>
                  </a:lnTo>
                  <a:lnTo>
                    <a:pt x="4093" y="1495"/>
                  </a:lnTo>
                  <a:lnTo>
                    <a:pt x="4101" y="1495"/>
                  </a:lnTo>
                  <a:lnTo>
                    <a:pt x="4110" y="1495"/>
                  </a:lnTo>
                  <a:lnTo>
                    <a:pt x="4119" y="1501"/>
                  </a:lnTo>
                  <a:lnTo>
                    <a:pt x="4130" y="1510"/>
                  </a:lnTo>
                  <a:lnTo>
                    <a:pt x="4139" y="1512"/>
                  </a:lnTo>
                  <a:lnTo>
                    <a:pt x="4148" y="1507"/>
                  </a:lnTo>
                  <a:lnTo>
                    <a:pt x="4154" y="1498"/>
                  </a:lnTo>
                  <a:lnTo>
                    <a:pt x="4157" y="1489"/>
                  </a:lnTo>
                  <a:lnTo>
                    <a:pt x="4165" y="1478"/>
                  </a:lnTo>
                  <a:lnTo>
                    <a:pt x="4168" y="1466"/>
                  </a:lnTo>
                  <a:lnTo>
                    <a:pt x="4163" y="1458"/>
                  </a:lnTo>
                  <a:lnTo>
                    <a:pt x="4157" y="1449"/>
                  </a:lnTo>
                  <a:lnTo>
                    <a:pt x="4154" y="1438"/>
                  </a:lnTo>
                  <a:lnTo>
                    <a:pt x="4151" y="1429"/>
                  </a:lnTo>
                  <a:lnTo>
                    <a:pt x="4151" y="1420"/>
                  </a:lnTo>
                  <a:lnTo>
                    <a:pt x="4151" y="1409"/>
                  </a:lnTo>
                  <a:lnTo>
                    <a:pt x="4151" y="1400"/>
                  </a:lnTo>
                  <a:lnTo>
                    <a:pt x="4160" y="1394"/>
                  </a:lnTo>
                  <a:lnTo>
                    <a:pt x="4174" y="1400"/>
                  </a:lnTo>
                  <a:lnTo>
                    <a:pt x="4183" y="1403"/>
                  </a:lnTo>
                  <a:lnTo>
                    <a:pt x="4183" y="1412"/>
                  </a:lnTo>
                  <a:lnTo>
                    <a:pt x="4192" y="1420"/>
                  </a:lnTo>
                  <a:lnTo>
                    <a:pt x="4203" y="1432"/>
                  </a:lnTo>
                  <a:lnTo>
                    <a:pt x="4212" y="1440"/>
                  </a:lnTo>
                  <a:lnTo>
                    <a:pt x="4215" y="1449"/>
                  </a:lnTo>
                  <a:lnTo>
                    <a:pt x="4218" y="1458"/>
                  </a:lnTo>
                  <a:lnTo>
                    <a:pt x="4227" y="1472"/>
                  </a:lnTo>
                  <a:lnTo>
                    <a:pt x="4235" y="1478"/>
                  </a:lnTo>
                  <a:lnTo>
                    <a:pt x="4241" y="1487"/>
                  </a:lnTo>
                  <a:lnTo>
                    <a:pt x="4253" y="1495"/>
                  </a:lnTo>
                  <a:lnTo>
                    <a:pt x="4264" y="1501"/>
                  </a:lnTo>
                  <a:lnTo>
                    <a:pt x="4270" y="1510"/>
                  </a:lnTo>
                  <a:lnTo>
                    <a:pt x="4273" y="1518"/>
                  </a:lnTo>
                  <a:lnTo>
                    <a:pt x="4273" y="1527"/>
                  </a:lnTo>
                  <a:lnTo>
                    <a:pt x="4273" y="1535"/>
                  </a:lnTo>
                  <a:lnTo>
                    <a:pt x="4273" y="1544"/>
                  </a:lnTo>
                  <a:lnTo>
                    <a:pt x="4264" y="1550"/>
                  </a:lnTo>
                  <a:lnTo>
                    <a:pt x="4256" y="1553"/>
                  </a:lnTo>
                  <a:lnTo>
                    <a:pt x="4256" y="1564"/>
                  </a:lnTo>
                  <a:lnTo>
                    <a:pt x="4256" y="1573"/>
                  </a:lnTo>
                  <a:lnTo>
                    <a:pt x="4256" y="1582"/>
                  </a:lnTo>
                  <a:lnTo>
                    <a:pt x="4264" y="1587"/>
                  </a:lnTo>
                  <a:lnTo>
                    <a:pt x="4276" y="1590"/>
                  </a:lnTo>
                  <a:lnTo>
                    <a:pt x="4285" y="1590"/>
                  </a:lnTo>
                  <a:lnTo>
                    <a:pt x="4294" y="1599"/>
                  </a:lnTo>
                  <a:lnTo>
                    <a:pt x="4302" y="1608"/>
                  </a:lnTo>
                  <a:lnTo>
                    <a:pt x="4314" y="1610"/>
                  </a:lnTo>
                  <a:lnTo>
                    <a:pt x="4326" y="1616"/>
                  </a:lnTo>
                  <a:lnTo>
                    <a:pt x="4334" y="1619"/>
                  </a:lnTo>
                  <a:lnTo>
                    <a:pt x="4340" y="1628"/>
                  </a:lnTo>
                  <a:lnTo>
                    <a:pt x="4343" y="1636"/>
                  </a:lnTo>
                  <a:lnTo>
                    <a:pt x="4343" y="1645"/>
                  </a:lnTo>
                  <a:lnTo>
                    <a:pt x="4343" y="1654"/>
                  </a:lnTo>
                  <a:lnTo>
                    <a:pt x="4343" y="1662"/>
                  </a:lnTo>
                  <a:lnTo>
                    <a:pt x="4346" y="1671"/>
                  </a:lnTo>
                  <a:lnTo>
                    <a:pt x="4355" y="1671"/>
                  </a:lnTo>
                  <a:lnTo>
                    <a:pt x="4366" y="1671"/>
                  </a:lnTo>
                  <a:lnTo>
                    <a:pt x="4369" y="1662"/>
                  </a:lnTo>
                  <a:lnTo>
                    <a:pt x="4363" y="1654"/>
                  </a:lnTo>
                  <a:lnTo>
                    <a:pt x="4360" y="1645"/>
                  </a:lnTo>
                  <a:lnTo>
                    <a:pt x="4355" y="1636"/>
                  </a:lnTo>
                  <a:lnTo>
                    <a:pt x="4352" y="1628"/>
                  </a:lnTo>
                  <a:lnTo>
                    <a:pt x="4349" y="1619"/>
                  </a:lnTo>
                  <a:lnTo>
                    <a:pt x="4346" y="1610"/>
                  </a:lnTo>
                  <a:lnTo>
                    <a:pt x="4346" y="1602"/>
                  </a:lnTo>
                  <a:lnTo>
                    <a:pt x="4346" y="1590"/>
                  </a:lnTo>
                  <a:lnTo>
                    <a:pt x="4346" y="1582"/>
                  </a:lnTo>
                  <a:lnTo>
                    <a:pt x="4355" y="1579"/>
                  </a:lnTo>
                  <a:lnTo>
                    <a:pt x="4363" y="1582"/>
                  </a:lnTo>
                  <a:lnTo>
                    <a:pt x="4372" y="1582"/>
                  </a:lnTo>
                  <a:lnTo>
                    <a:pt x="4381" y="1573"/>
                  </a:lnTo>
                  <a:lnTo>
                    <a:pt x="4390" y="1567"/>
                  </a:lnTo>
                  <a:lnTo>
                    <a:pt x="4393" y="1559"/>
                  </a:lnTo>
                  <a:lnTo>
                    <a:pt x="4393" y="1550"/>
                  </a:lnTo>
                  <a:lnTo>
                    <a:pt x="4393" y="1541"/>
                  </a:lnTo>
                  <a:lnTo>
                    <a:pt x="4393" y="1533"/>
                  </a:lnTo>
                  <a:lnTo>
                    <a:pt x="4393" y="1524"/>
                  </a:lnTo>
                  <a:lnTo>
                    <a:pt x="4393" y="1515"/>
                  </a:lnTo>
                  <a:lnTo>
                    <a:pt x="4390" y="1504"/>
                  </a:lnTo>
                  <a:lnTo>
                    <a:pt x="4384" y="1495"/>
                  </a:lnTo>
                  <a:lnTo>
                    <a:pt x="4381" y="1484"/>
                  </a:lnTo>
                  <a:lnTo>
                    <a:pt x="4378" y="1475"/>
                  </a:lnTo>
                  <a:lnTo>
                    <a:pt x="4369" y="1463"/>
                  </a:lnTo>
                  <a:lnTo>
                    <a:pt x="4363" y="1455"/>
                  </a:lnTo>
                  <a:lnTo>
                    <a:pt x="4360" y="1446"/>
                  </a:lnTo>
                  <a:lnTo>
                    <a:pt x="4358" y="1438"/>
                  </a:lnTo>
                  <a:lnTo>
                    <a:pt x="4352" y="1429"/>
                  </a:lnTo>
                  <a:lnTo>
                    <a:pt x="4346" y="1417"/>
                  </a:lnTo>
                  <a:lnTo>
                    <a:pt x="4340" y="1409"/>
                  </a:lnTo>
                  <a:lnTo>
                    <a:pt x="4337" y="1397"/>
                  </a:lnTo>
                  <a:lnTo>
                    <a:pt x="4334" y="1389"/>
                  </a:lnTo>
                  <a:lnTo>
                    <a:pt x="4334" y="1380"/>
                  </a:lnTo>
                  <a:lnTo>
                    <a:pt x="4331" y="1371"/>
                  </a:lnTo>
                  <a:lnTo>
                    <a:pt x="4328" y="1360"/>
                  </a:lnTo>
                  <a:lnTo>
                    <a:pt x="4323" y="1351"/>
                  </a:lnTo>
                  <a:lnTo>
                    <a:pt x="4320" y="1342"/>
                  </a:lnTo>
                  <a:lnTo>
                    <a:pt x="4314" y="1334"/>
                  </a:lnTo>
                  <a:lnTo>
                    <a:pt x="4305" y="1325"/>
                  </a:lnTo>
                  <a:lnTo>
                    <a:pt x="4296" y="1316"/>
                  </a:lnTo>
                  <a:lnTo>
                    <a:pt x="4288" y="1308"/>
                  </a:lnTo>
                  <a:lnTo>
                    <a:pt x="4276" y="1311"/>
                  </a:lnTo>
                  <a:lnTo>
                    <a:pt x="4279" y="1291"/>
                  </a:lnTo>
                  <a:lnTo>
                    <a:pt x="4276" y="1282"/>
                  </a:lnTo>
                  <a:lnTo>
                    <a:pt x="4270" y="1273"/>
                  </a:lnTo>
                  <a:lnTo>
                    <a:pt x="4261" y="1267"/>
                  </a:lnTo>
                  <a:lnTo>
                    <a:pt x="4253" y="1259"/>
                  </a:lnTo>
                  <a:lnTo>
                    <a:pt x="4244" y="1250"/>
                  </a:lnTo>
                  <a:lnTo>
                    <a:pt x="4238" y="1242"/>
                  </a:lnTo>
                  <a:lnTo>
                    <a:pt x="4232" y="1233"/>
                  </a:lnTo>
                  <a:lnTo>
                    <a:pt x="4229" y="1224"/>
                  </a:lnTo>
                  <a:lnTo>
                    <a:pt x="4221" y="1218"/>
                  </a:lnTo>
                  <a:lnTo>
                    <a:pt x="4212" y="1210"/>
                  </a:lnTo>
                  <a:lnTo>
                    <a:pt x="4200" y="1201"/>
                  </a:lnTo>
                  <a:lnTo>
                    <a:pt x="4192" y="1195"/>
                  </a:lnTo>
                  <a:lnTo>
                    <a:pt x="4183" y="1193"/>
                  </a:lnTo>
                  <a:lnTo>
                    <a:pt x="4171" y="1187"/>
                  </a:lnTo>
                  <a:lnTo>
                    <a:pt x="4163" y="1184"/>
                  </a:lnTo>
                  <a:lnTo>
                    <a:pt x="4154" y="1181"/>
                  </a:lnTo>
                  <a:lnTo>
                    <a:pt x="4145" y="1175"/>
                  </a:lnTo>
                  <a:lnTo>
                    <a:pt x="4136" y="1170"/>
                  </a:lnTo>
                  <a:lnTo>
                    <a:pt x="4130" y="1161"/>
                  </a:lnTo>
                  <a:lnTo>
                    <a:pt x="4119" y="1152"/>
                  </a:lnTo>
                  <a:lnTo>
                    <a:pt x="4110" y="1149"/>
                  </a:lnTo>
                  <a:lnTo>
                    <a:pt x="4098" y="1144"/>
                  </a:lnTo>
                  <a:lnTo>
                    <a:pt x="4090" y="1144"/>
                  </a:lnTo>
                  <a:lnTo>
                    <a:pt x="4078" y="1135"/>
                  </a:lnTo>
                  <a:lnTo>
                    <a:pt x="4069" y="1126"/>
                  </a:lnTo>
                  <a:lnTo>
                    <a:pt x="4064" y="1118"/>
                  </a:lnTo>
                  <a:lnTo>
                    <a:pt x="4058" y="1109"/>
                  </a:lnTo>
                  <a:lnTo>
                    <a:pt x="4049" y="1103"/>
                  </a:lnTo>
                  <a:lnTo>
                    <a:pt x="4058" y="1100"/>
                  </a:lnTo>
                  <a:lnTo>
                    <a:pt x="4066" y="1100"/>
                  </a:lnTo>
                  <a:lnTo>
                    <a:pt x="4078" y="1100"/>
                  </a:lnTo>
                  <a:lnTo>
                    <a:pt x="4090" y="1103"/>
                  </a:lnTo>
                  <a:lnTo>
                    <a:pt x="4098" y="1109"/>
                  </a:lnTo>
                  <a:lnTo>
                    <a:pt x="4107" y="1112"/>
                  </a:lnTo>
                  <a:lnTo>
                    <a:pt x="4116" y="1115"/>
                  </a:lnTo>
                  <a:lnTo>
                    <a:pt x="4125" y="1121"/>
                  </a:lnTo>
                  <a:lnTo>
                    <a:pt x="4133" y="1126"/>
                  </a:lnTo>
                  <a:lnTo>
                    <a:pt x="4142" y="1129"/>
                  </a:lnTo>
                  <a:lnTo>
                    <a:pt x="4154" y="1138"/>
                  </a:lnTo>
                  <a:lnTo>
                    <a:pt x="4163" y="1141"/>
                  </a:lnTo>
                  <a:lnTo>
                    <a:pt x="4171" y="1144"/>
                  </a:lnTo>
                  <a:lnTo>
                    <a:pt x="4180" y="1146"/>
                  </a:lnTo>
                  <a:lnTo>
                    <a:pt x="4192" y="1146"/>
                  </a:lnTo>
                  <a:lnTo>
                    <a:pt x="4200" y="1146"/>
                  </a:lnTo>
                  <a:lnTo>
                    <a:pt x="4212" y="1149"/>
                  </a:lnTo>
                  <a:lnTo>
                    <a:pt x="4221" y="1149"/>
                  </a:lnTo>
                  <a:lnTo>
                    <a:pt x="4229" y="1152"/>
                  </a:lnTo>
                  <a:lnTo>
                    <a:pt x="4238" y="1155"/>
                  </a:lnTo>
                  <a:lnTo>
                    <a:pt x="4247" y="1161"/>
                  </a:lnTo>
                  <a:lnTo>
                    <a:pt x="4256" y="1164"/>
                  </a:lnTo>
                  <a:lnTo>
                    <a:pt x="4264" y="1170"/>
                  </a:lnTo>
                  <a:lnTo>
                    <a:pt x="4273" y="1172"/>
                  </a:lnTo>
                  <a:lnTo>
                    <a:pt x="4282" y="1178"/>
                  </a:lnTo>
                  <a:lnTo>
                    <a:pt x="4291" y="1181"/>
                  </a:lnTo>
                  <a:lnTo>
                    <a:pt x="4299" y="1187"/>
                  </a:lnTo>
                  <a:lnTo>
                    <a:pt x="4308" y="1190"/>
                  </a:lnTo>
                  <a:lnTo>
                    <a:pt x="4317" y="1193"/>
                  </a:lnTo>
                  <a:lnTo>
                    <a:pt x="4326" y="1195"/>
                  </a:lnTo>
                  <a:lnTo>
                    <a:pt x="4334" y="1195"/>
                  </a:lnTo>
                  <a:lnTo>
                    <a:pt x="4326" y="1190"/>
                  </a:lnTo>
                  <a:lnTo>
                    <a:pt x="4314" y="1178"/>
                  </a:lnTo>
                  <a:lnTo>
                    <a:pt x="4305" y="1170"/>
                  </a:lnTo>
                  <a:lnTo>
                    <a:pt x="4305" y="1161"/>
                  </a:lnTo>
                  <a:lnTo>
                    <a:pt x="4317" y="1158"/>
                  </a:lnTo>
                  <a:lnTo>
                    <a:pt x="4328" y="1158"/>
                  </a:lnTo>
                  <a:lnTo>
                    <a:pt x="4337" y="1158"/>
                  </a:lnTo>
                  <a:lnTo>
                    <a:pt x="4346" y="1158"/>
                  </a:lnTo>
                  <a:lnTo>
                    <a:pt x="4346" y="1149"/>
                  </a:lnTo>
                  <a:lnTo>
                    <a:pt x="4349" y="1138"/>
                  </a:lnTo>
                  <a:lnTo>
                    <a:pt x="4349" y="1129"/>
                  </a:lnTo>
                  <a:lnTo>
                    <a:pt x="4340" y="1123"/>
                  </a:lnTo>
                  <a:lnTo>
                    <a:pt x="4331" y="1121"/>
                  </a:lnTo>
                  <a:lnTo>
                    <a:pt x="4323" y="1121"/>
                  </a:lnTo>
                  <a:lnTo>
                    <a:pt x="4314" y="1121"/>
                  </a:lnTo>
                  <a:lnTo>
                    <a:pt x="4302" y="1121"/>
                  </a:lnTo>
                  <a:lnTo>
                    <a:pt x="4296" y="1132"/>
                  </a:lnTo>
                  <a:lnTo>
                    <a:pt x="4288" y="1138"/>
                  </a:lnTo>
                  <a:lnTo>
                    <a:pt x="4279" y="1144"/>
                  </a:lnTo>
                  <a:lnTo>
                    <a:pt x="4270" y="1144"/>
                  </a:lnTo>
                  <a:lnTo>
                    <a:pt x="4261" y="1144"/>
                  </a:lnTo>
                  <a:lnTo>
                    <a:pt x="4253" y="1144"/>
                  </a:lnTo>
                  <a:lnTo>
                    <a:pt x="4244" y="1144"/>
                  </a:lnTo>
                  <a:lnTo>
                    <a:pt x="4238" y="1135"/>
                  </a:lnTo>
                  <a:lnTo>
                    <a:pt x="4227" y="1126"/>
                  </a:lnTo>
                  <a:lnTo>
                    <a:pt x="4218" y="1115"/>
                  </a:lnTo>
                  <a:lnTo>
                    <a:pt x="4209" y="1109"/>
                  </a:lnTo>
                  <a:lnTo>
                    <a:pt x="4197" y="1100"/>
                  </a:lnTo>
                  <a:lnTo>
                    <a:pt x="4192" y="1092"/>
                  </a:lnTo>
                  <a:lnTo>
                    <a:pt x="4200" y="1086"/>
                  </a:lnTo>
                  <a:lnTo>
                    <a:pt x="4209" y="1077"/>
                  </a:lnTo>
                  <a:lnTo>
                    <a:pt x="4218" y="1072"/>
                  </a:lnTo>
                  <a:lnTo>
                    <a:pt x="4227" y="1063"/>
                  </a:lnTo>
                  <a:lnTo>
                    <a:pt x="4229" y="1054"/>
                  </a:lnTo>
                  <a:lnTo>
                    <a:pt x="4221" y="1048"/>
                  </a:lnTo>
                  <a:lnTo>
                    <a:pt x="4209" y="1048"/>
                  </a:lnTo>
                  <a:lnTo>
                    <a:pt x="4200" y="1048"/>
                  </a:lnTo>
                  <a:lnTo>
                    <a:pt x="4189" y="1048"/>
                  </a:lnTo>
                  <a:lnTo>
                    <a:pt x="4180" y="1051"/>
                  </a:lnTo>
                  <a:lnTo>
                    <a:pt x="4171" y="1057"/>
                  </a:lnTo>
                  <a:lnTo>
                    <a:pt x="4160" y="1057"/>
                  </a:lnTo>
                  <a:lnTo>
                    <a:pt x="4151" y="1057"/>
                  </a:lnTo>
                  <a:lnTo>
                    <a:pt x="4142" y="1057"/>
                  </a:lnTo>
                  <a:lnTo>
                    <a:pt x="4133" y="1057"/>
                  </a:lnTo>
                  <a:lnTo>
                    <a:pt x="4125" y="1057"/>
                  </a:lnTo>
                  <a:lnTo>
                    <a:pt x="4116" y="1057"/>
                  </a:lnTo>
                  <a:lnTo>
                    <a:pt x="4107" y="1057"/>
                  </a:lnTo>
                  <a:lnTo>
                    <a:pt x="4098" y="1057"/>
                  </a:lnTo>
                  <a:lnTo>
                    <a:pt x="4090" y="1057"/>
                  </a:lnTo>
                  <a:lnTo>
                    <a:pt x="4081" y="1057"/>
                  </a:lnTo>
                  <a:lnTo>
                    <a:pt x="4072" y="1057"/>
                  </a:lnTo>
                  <a:lnTo>
                    <a:pt x="4064" y="1054"/>
                  </a:lnTo>
                  <a:lnTo>
                    <a:pt x="4055" y="1051"/>
                  </a:lnTo>
                  <a:lnTo>
                    <a:pt x="4043" y="1048"/>
                  </a:lnTo>
                  <a:lnTo>
                    <a:pt x="4032" y="1043"/>
                  </a:lnTo>
                  <a:lnTo>
                    <a:pt x="4023" y="1040"/>
                  </a:lnTo>
                  <a:lnTo>
                    <a:pt x="4008" y="1031"/>
                  </a:lnTo>
                  <a:lnTo>
                    <a:pt x="3994" y="1028"/>
                  </a:lnTo>
                  <a:lnTo>
                    <a:pt x="3982" y="1028"/>
                  </a:lnTo>
                  <a:lnTo>
                    <a:pt x="3973" y="1028"/>
                  </a:lnTo>
                  <a:lnTo>
                    <a:pt x="3965" y="1028"/>
                  </a:lnTo>
                  <a:lnTo>
                    <a:pt x="3953" y="1028"/>
                  </a:lnTo>
                  <a:lnTo>
                    <a:pt x="3941" y="1028"/>
                  </a:lnTo>
                  <a:lnTo>
                    <a:pt x="3933" y="1028"/>
                  </a:lnTo>
                  <a:lnTo>
                    <a:pt x="3927" y="1037"/>
                  </a:lnTo>
                  <a:lnTo>
                    <a:pt x="3941" y="1048"/>
                  </a:lnTo>
                  <a:lnTo>
                    <a:pt x="3950" y="1051"/>
                  </a:lnTo>
                  <a:lnTo>
                    <a:pt x="3962" y="1054"/>
                  </a:lnTo>
                  <a:lnTo>
                    <a:pt x="3970" y="1057"/>
                  </a:lnTo>
                  <a:lnTo>
                    <a:pt x="3979" y="1060"/>
                  </a:lnTo>
                  <a:lnTo>
                    <a:pt x="3982" y="1072"/>
                  </a:lnTo>
                  <a:lnTo>
                    <a:pt x="3982" y="1080"/>
                  </a:lnTo>
                  <a:lnTo>
                    <a:pt x="3982" y="1089"/>
                  </a:lnTo>
                  <a:lnTo>
                    <a:pt x="3994" y="1100"/>
                  </a:lnTo>
                  <a:lnTo>
                    <a:pt x="4002" y="1103"/>
                  </a:lnTo>
                  <a:lnTo>
                    <a:pt x="4014" y="1106"/>
                  </a:lnTo>
                  <a:lnTo>
                    <a:pt x="4026" y="1106"/>
                  </a:lnTo>
                  <a:lnTo>
                    <a:pt x="4034" y="1109"/>
                  </a:lnTo>
                  <a:lnTo>
                    <a:pt x="4046" y="1112"/>
                  </a:lnTo>
                  <a:lnTo>
                    <a:pt x="4037" y="1115"/>
                  </a:lnTo>
                  <a:lnTo>
                    <a:pt x="4029" y="1112"/>
                  </a:lnTo>
                  <a:lnTo>
                    <a:pt x="4020" y="1109"/>
                  </a:lnTo>
                  <a:lnTo>
                    <a:pt x="4011" y="1109"/>
                  </a:lnTo>
                  <a:lnTo>
                    <a:pt x="4002" y="1106"/>
                  </a:lnTo>
                  <a:lnTo>
                    <a:pt x="3994" y="1103"/>
                  </a:lnTo>
                  <a:lnTo>
                    <a:pt x="3979" y="1097"/>
                  </a:lnTo>
                  <a:lnTo>
                    <a:pt x="3970" y="1097"/>
                  </a:lnTo>
                  <a:lnTo>
                    <a:pt x="3962" y="1100"/>
                  </a:lnTo>
                  <a:lnTo>
                    <a:pt x="3959" y="1109"/>
                  </a:lnTo>
                  <a:lnTo>
                    <a:pt x="3950" y="1118"/>
                  </a:lnTo>
                  <a:lnTo>
                    <a:pt x="3941" y="1123"/>
                  </a:lnTo>
                  <a:lnTo>
                    <a:pt x="3935" y="1132"/>
                  </a:lnTo>
                  <a:lnTo>
                    <a:pt x="3927" y="1138"/>
                  </a:lnTo>
                  <a:lnTo>
                    <a:pt x="3927" y="1146"/>
                  </a:lnTo>
                  <a:lnTo>
                    <a:pt x="3930" y="1155"/>
                  </a:lnTo>
                  <a:lnTo>
                    <a:pt x="3938" y="1161"/>
                  </a:lnTo>
                  <a:lnTo>
                    <a:pt x="3941" y="1170"/>
                  </a:lnTo>
                  <a:lnTo>
                    <a:pt x="3941" y="1178"/>
                  </a:lnTo>
                  <a:lnTo>
                    <a:pt x="3941" y="1187"/>
                  </a:lnTo>
                  <a:lnTo>
                    <a:pt x="3938" y="1195"/>
                  </a:lnTo>
                  <a:lnTo>
                    <a:pt x="3933" y="1204"/>
                  </a:lnTo>
                  <a:lnTo>
                    <a:pt x="3924" y="1204"/>
                  </a:lnTo>
                  <a:lnTo>
                    <a:pt x="3915" y="1193"/>
                  </a:lnTo>
                  <a:lnTo>
                    <a:pt x="3912" y="1184"/>
                  </a:lnTo>
                  <a:lnTo>
                    <a:pt x="3903" y="1178"/>
                  </a:lnTo>
                  <a:lnTo>
                    <a:pt x="3892" y="1172"/>
                  </a:lnTo>
                  <a:lnTo>
                    <a:pt x="3883" y="1167"/>
                  </a:lnTo>
                  <a:lnTo>
                    <a:pt x="3877" y="1158"/>
                  </a:lnTo>
                  <a:lnTo>
                    <a:pt x="3874" y="1167"/>
                  </a:lnTo>
                  <a:lnTo>
                    <a:pt x="3874" y="1175"/>
                  </a:lnTo>
                  <a:lnTo>
                    <a:pt x="3874" y="1184"/>
                  </a:lnTo>
                  <a:lnTo>
                    <a:pt x="3886" y="1193"/>
                  </a:lnTo>
                  <a:lnTo>
                    <a:pt x="3898" y="1195"/>
                  </a:lnTo>
                  <a:lnTo>
                    <a:pt x="3906" y="1198"/>
                  </a:lnTo>
                  <a:lnTo>
                    <a:pt x="3915" y="1201"/>
                  </a:lnTo>
                  <a:lnTo>
                    <a:pt x="3924" y="1207"/>
                  </a:lnTo>
                  <a:lnTo>
                    <a:pt x="3912" y="1213"/>
                  </a:lnTo>
                  <a:lnTo>
                    <a:pt x="3903" y="1213"/>
                  </a:lnTo>
                  <a:lnTo>
                    <a:pt x="3895" y="1213"/>
                  </a:lnTo>
                  <a:lnTo>
                    <a:pt x="3886" y="1216"/>
                  </a:lnTo>
                  <a:lnTo>
                    <a:pt x="3886" y="1224"/>
                  </a:lnTo>
                  <a:lnTo>
                    <a:pt x="3880" y="1233"/>
                  </a:lnTo>
                  <a:lnTo>
                    <a:pt x="3868" y="1236"/>
                  </a:lnTo>
                  <a:lnTo>
                    <a:pt x="3860" y="1236"/>
                  </a:lnTo>
                  <a:lnTo>
                    <a:pt x="3854" y="1224"/>
                  </a:lnTo>
                  <a:lnTo>
                    <a:pt x="3854" y="1216"/>
                  </a:lnTo>
                  <a:lnTo>
                    <a:pt x="3851" y="1207"/>
                  </a:lnTo>
                  <a:lnTo>
                    <a:pt x="3845" y="1198"/>
                  </a:lnTo>
                  <a:lnTo>
                    <a:pt x="3842" y="1187"/>
                  </a:lnTo>
                  <a:lnTo>
                    <a:pt x="3836" y="1175"/>
                  </a:lnTo>
                  <a:lnTo>
                    <a:pt x="3834" y="1164"/>
                  </a:lnTo>
                  <a:lnTo>
                    <a:pt x="3828" y="1155"/>
                  </a:lnTo>
                  <a:lnTo>
                    <a:pt x="3822" y="1146"/>
                  </a:lnTo>
                  <a:lnTo>
                    <a:pt x="3816" y="1138"/>
                  </a:lnTo>
                  <a:lnTo>
                    <a:pt x="3810" y="1129"/>
                  </a:lnTo>
                  <a:lnTo>
                    <a:pt x="3799" y="1123"/>
                  </a:lnTo>
                  <a:lnTo>
                    <a:pt x="3793" y="1115"/>
                  </a:lnTo>
                  <a:lnTo>
                    <a:pt x="3790" y="1106"/>
                  </a:lnTo>
                  <a:lnTo>
                    <a:pt x="3784" y="1097"/>
                  </a:lnTo>
                  <a:lnTo>
                    <a:pt x="3778" y="1089"/>
                  </a:lnTo>
                  <a:lnTo>
                    <a:pt x="3775" y="1080"/>
                  </a:lnTo>
                  <a:lnTo>
                    <a:pt x="3772" y="1072"/>
                  </a:lnTo>
                  <a:lnTo>
                    <a:pt x="3767" y="1063"/>
                  </a:lnTo>
                  <a:lnTo>
                    <a:pt x="3761" y="1054"/>
                  </a:lnTo>
                  <a:lnTo>
                    <a:pt x="3752" y="1046"/>
                  </a:lnTo>
                  <a:lnTo>
                    <a:pt x="3746" y="1037"/>
                  </a:lnTo>
                  <a:lnTo>
                    <a:pt x="3737" y="1034"/>
                  </a:lnTo>
                  <a:lnTo>
                    <a:pt x="3717" y="988"/>
                  </a:lnTo>
                  <a:lnTo>
                    <a:pt x="3737" y="1008"/>
                  </a:lnTo>
                  <a:lnTo>
                    <a:pt x="3737" y="999"/>
                  </a:lnTo>
                  <a:lnTo>
                    <a:pt x="3732" y="991"/>
                  </a:lnTo>
                  <a:lnTo>
                    <a:pt x="3726" y="982"/>
                  </a:lnTo>
                  <a:lnTo>
                    <a:pt x="3723" y="974"/>
                  </a:lnTo>
                  <a:lnTo>
                    <a:pt x="3714" y="968"/>
                  </a:lnTo>
                  <a:lnTo>
                    <a:pt x="3703" y="965"/>
                  </a:lnTo>
                  <a:lnTo>
                    <a:pt x="3694" y="959"/>
                  </a:lnTo>
                  <a:lnTo>
                    <a:pt x="3691" y="950"/>
                  </a:lnTo>
                  <a:lnTo>
                    <a:pt x="3691" y="942"/>
                  </a:lnTo>
                  <a:lnTo>
                    <a:pt x="3691" y="930"/>
                  </a:lnTo>
                  <a:lnTo>
                    <a:pt x="3691" y="922"/>
                  </a:lnTo>
                  <a:lnTo>
                    <a:pt x="3691" y="913"/>
                  </a:lnTo>
                  <a:lnTo>
                    <a:pt x="3694" y="904"/>
                  </a:lnTo>
                  <a:lnTo>
                    <a:pt x="3700" y="896"/>
                  </a:lnTo>
                  <a:lnTo>
                    <a:pt x="3705" y="887"/>
                  </a:lnTo>
                  <a:lnTo>
                    <a:pt x="3714" y="887"/>
                  </a:lnTo>
                  <a:lnTo>
                    <a:pt x="3717" y="878"/>
                  </a:lnTo>
                  <a:lnTo>
                    <a:pt x="3705" y="867"/>
                  </a:lnTo>
                  <a:lnTo>
                    <a:pt x="3705" y="858"/>
                  </a:lnTo>
                  <a:lnTo>
                    <a:pt x="3705" y="847"/>
                  </a:lnTo>
                  <a:lnTo>
                    <a:pt x="3711" y="838"/>
                  </a:lnTo>
                  <a:lnTo>
                    <a:pt x="3717" y="827"/>
                  </a:lnTo>
                  <a:lnTo>
                    <a:pt x="3717" y="818"/>
                  </a:lnTo>
                  <a:lnTo>
                    <a:pt x="3717" y="809"/>
                  </a:lnTo>
                  <a:lnTo>
                    <a:pt x="3705" y="806"/>
                  </a:lnTo>
                  <a:lnTo>
                    <a:pt x="3694" y="801"/>
                  </a:lnTo>
                  <a:lnTo>
                    <a:pt x="3685" y="795"/>
                  </a:lnTo>
                  <a:lnTo>
                    <a:pt x="3685" y="786"/>
                  </a:lnTo>
                  <a:lnTo>
                    <a:pt x="3691" y="778"/>
                  </a:lnTo>
                  <a:lnTo>
                    <a:pt x="3697" y="769"/>
                  </a:lnTo>
                  <a:lnTo>
                    <a:pt x="3700" y="760"/>
                  </a:lnTo>
                  <a:lnTo>
                    <a:pt x="3708" y="757"/>
                  </a:lnTo>
                  <a:lnTo>
                    <a:pt x="3717" y="752"/>
                  </a:lnTo>
                  <a:lnTo>
                    <a:pt x="3726" y="757"/>
                  </a:lnTo>
                  <a:lnTo>
                    <a:pt x="3735" y="760"/>
                  </a:lnTo>
                  <a:lnTo>
                    <a:pt x="3743" y="763"/>
                  </a:lnTo>
                  <a:lnTo>
                    <a:pt x="3743" y="755"/>
                  </a:lnTo>
                  <a:lnTo>
                    <a:pt x="3737" y="746"/>
                  </a:lnTo>
                  <a:lnTo>
                    <a:pt x="3737" y="737"/>
                  </a:lnTo>
                  <a:lnTo>
                    <a:pt x="3735" y="729"/>
                  </a:lnTo>
                  <a:lnTo>
                    <a:pt x="3735" y="720"/>
                  </a:lnTo>
                  <a:lnTo>
                    <a:pt x="3732" y="711"/>
                  </a:lnTo>
                  <a:lnTo>
                    <a:pt x="3726" y="703"/>
                  </a:lnTo>
                  <a:lnTo>
                    <a:pt x="3723" y="691"/>
                  </a:lnTo>
                  <a:lnTo>
                    <a:pt x="3723" y="682"/>
                  </a:lnTo>
                  <a:lnTo>
                    <a:pt x="3723" y="674"/>
                  </a:lnTo>
                  <a:lnTo>
                    <a:pt x="3723" y="665"/>
                  </a:lnTo>
                  <a:lnTo>
                    <a:pt x="3714" y="662"/>
                  </a:lnTo>
                  <a:lnTo>
                    <a:pt x="3708" y="671"/>
                  </a:lnTo>
                  <a:lnTo>
                    <a:pt x="3700" y="671"/>
                  </a:lnTo>
                  <a:lnTo>
                    <a:pt x="3691" y="674"/>
                  </a:lnTo>
                  <a:lnTo>
                    <a:pt x="3682" y="671"/>
                  </a:lnTo>
                  <a:lnTo>
                    <a:pt x="3673" y="659"/>
                  </a:lnTo>
                  <a:lnTo>
                    <a:pt x="3668" y="651"/>
                  </a:lnTo>
                  <a:lnTo>
                    <a:pt x="3662" y="642"/>
                  </a:lnTo>
                  <a:lnTo>
                    <a:pt x="3653" y="633"/>
                  </a:lnTo>
                  <a:lnTo>
                    <a:pt x="3641" y="628"/>
                  </a:lnTo>
                  <a:lnTo>
                    <a:pt x="3633" y="622"/>
                  </a:lnTo>
                  <a:lnTo>
                    <a:pt x="3624" y="622"/>
                  </a:lnTo>
                  <a:lnTo>
                    <a:pt x="3615" y="616"/>
                  </a:lnTo>
                  <a:lnTo>
                    <a:pt x="3604" y="613"/>
                  </a:lnTo>
                  <a:lnTo>
                    <a:pt x="3595" y="608"/>
                  </a:lnTo>
                  <a:lnTo>
                    <a:pt x="3577" y="573"/>
                  </a:lnTo>
                  <a:lnTo>
                    <a:pt x="3592" y="587"/>
                  </a:lnTo>
                  <a:lnTo>
                    <a:pt x="3592" y="576"/>
                  </a:lnTo>
                  <a:lnTo>
                    <a:pt x="3589" y="567"/>
                  </a:lnTo>
                  <a:lnTo>
                    <a:pt x="3589" y="559"/>
                  </a:lnTo>
                  <a:lnTo>
                    <a:pt x="3583" y="547"/>
                  </a:lnTo>
                  <a:lnTo>
                    <a:pt x="3577" y="538"/>
                  </a:lnTo>
                  <a:lnTo>
                    <a:pt x="3569" y="530"/>
                  </a:lnTo>
                  <a:lnTo>
                    <a:pt x="3583" y="527"/>
                  </a:lnTo>
                  <a:lnTo>
                    <a:pt x="3592" y="530"/>
                  </a:lnTo>
                  <a:lnTo>
                    <a:pt x="3601" y="533"/>
                  </a:lnTo>
                  <a:lnTo>
                    <a:pt x="3609" y="538"/>
                  </a:lnTo>
                  <a:lnTo>
                    <a:pt x="3618" y="541"/>
                  </a:lnTo>
                  <a:lnTo>
                    <a:pt x="3621" y="533"/>
                  </a:lnTo>
                  <a:lnTo>
                    <a:pt x="3621" y="524"/>
                  </a:lnTo>
                  <a:lnTo>
                    <a:pt x="3612" y="518"/>
                  </a:lnTo>
                  <a:lnTo>
                    <a:pt x="3604" y="507"/>
                  </a:lnTo>
                  <a:lnTo>
                    <a:pt x="3598" y="498"/>
                  </a:lnTo>
                  <a:lnTo>
                    <a:pt x="3589" y="489"/>
                  </a:lnTo>
                  <a:lnTo>
                    <a:pt x="3586" y="481"/>
                  </a:lnTo>
                  <a:lnTo>
                    <a:pt x="3577" y="472"/>
                  </a:lnTo>
                  <a:lnTo>
                    <a:pt x="3566" y="469"/>
                  </a:lnTo>
                  <a:lnTo>
                    <a:pt x="3557" y="469"/>
                  </a:lnTo>
                  <a:lnTo>
                    <a:pt x="3548" y="469"/>
                  </a:lnTo>
                  <a:lnTo>
                    <a:pt x="3540" y="469"/>
                  </a:lnTo>
                  <a:lnTo>
                    <a:pt x="3531" y="466"/>
                  </a:lnTo>
                  <a:lnTo>
                    <a:pt x="3519" y="458"/>
                  </a:lnTo>
                  <a:lnTo>
                    <a:pt x="3516" y="449"/>
                  </a:lnTo>
                  <a:lnTo>
                    <a:pt x="3510" y="440"/>
                  </a:lnTo>
                  <a:lnTo>
                    <a:pt x="3507" y="432"/>
                  </a:lnTo>
                  <a:lnTo>
                    <a:pt x="3502" y="423"/>
                  </a:lnTo>
                  <a:lnTo>
                    <a:pt x="3502" y="412"/>
                  </a:lnTo>
                  <a:lnTo>
                    <a:pt x="3510" y="412"/>
                  </a:lnTo>
                  <a:lnTo>
                    <a:pt x="3519" y="417"/>
                  </a:lnTo>
                  <a:lnTo>
                    <a:pt x="3531" y="426"/>
                  </a:lnTo>
                  <a:lnTo>
                    <a:pt x="3540" y="432"/>
                  </a:lnTo>
                  <a:lnTo>
                    <a:pt x="3542" y="440"/>
                  </a:lnTo>
                  <a:lnTo>
                    <a:pt x="3551" y="446"/>
                  </a:lnTo>
                  <a:lnTo>
                    <a:pt x="3563" y="452"/>
                  </a:lnTo>
                  <a:lnTo>
                    <a:pt x="3572" y="458"/>
                  </a:lnTo>
                  <a:lnTo>
                    <a:pt x="3580" y="458"/>
                  </a:lnTo>
                  <a:lnTo>
                    <a:pt x="3589" y="458"/>
                  </a:lnTo>
                  <a:lnTo>
                    <a:pt x="3598" y="458"/>
                  </a:lnTo>
                  <a:lnTo>
                    <a:pt x="3606" y="461"/>
                  </a:lnTo>
                  <a:lnTo>
                    <a:pt x="3612" y="472"/>
                  </a:lnTo>
                  <a:lnTo>
                    <a:pt x="3618" y="481"/>
                  </a:lnTo>
                  <a:lnTo>
                    <a:pt x="3621" y="489"/>
                  </a:lnTo>
                  <a:lnTo>
                    <a:pt x="3627" y="498"/>
                  </a:lnTo>
                  <a:lnTo>
                    <a:pt x="3633" y="507"/>
                  </a:lnTo>
                  <a:lnTo>
                    <a:pt x="3641" y="518"/>
                  </a:lnTo>
                  <a:lnTo>
                    <a:pt x="3650" y="521"/>
                  </a:lnTo>
                  <a:lnTo>
                    <a:pt x="3662" y="524"/>
                  </a:lnTo>
                  <a:lnTo>
                    <a:pt x="3671" y="524"/>
                  </a:lnTo>
                  <a:lnTo>
                    <a:pt x="3679" y="527"/>
                  </a:lnTo>
                  <a:lnTo>
                    <a:pt x="3688" y="527"/>
                  </a:lnTo>
                  <a:lnTo>
                    <a:pt x="3700" y="530"/>
                  </a:lnTo>
                  <a:lnTo>
                    <a:pt x="3711" y="536"/>
                  </a:lnTo>
                  <a:lnTo>
                    <a:pt x="3723" y="544"/>
                  </a:lnTo>
                  <a:lnTo>
                    <a:pt x="3729" y="553"/>
                  </a:lnTo>
                  <a:lnTo>
                    <a:pt x="3735" y="561"/>
                  </a:lnTo>
                  <a:lnTo>
                    <a:pt x="3746" y="570"/>
                  </a:lnTo>
                  <a:lnTo>
                    <a:pt x="3761" y="579"/>
                  </a:lnTo>
                  <a:lnTo>
                    <a:pt x="3770" y="585"/>
                  </a:lnTo>
                  <a:lnTo>
                    <a:pt x="3772" y="593"/>
                  </a:lnTo>
                  <a:lnTo>
                    <a:pt x="3775" y="602"/>
                  </a:lnTo>
                  <a:lnTo>
                    <a:pt x="3778" y="610"/>
                  </a:lnTo>
                  <a:lnTo>
                    <a:pt x="3787" y="610"/>
                  </a:lnTo>
                  <a:lnTo>
                    <a:pt x="3790" y="619"/>
                  </a:lnTo>
                  <a:lnTo>
                    <a:pt x="3799" y="622"/>
                  </a:lnTo>
                  <a:lnTo>
                    <a:pt x="3807" y="628"/>
                  </a:lnTo>
                  <a:lnTo>
                    <a:pt x="3819" y="633"/>
                  </a:lnTo>
                  <a:lnTo>
                    <a:pt x="3828" y="636"/>
                  </a:lnTo>
                  <a:lnTo>
                    <a:pt x="3836" y="639"/>
                  </a:lnTo>
                  <a:lnTo>
                    <a:pt x="3845" y="642"/>
                  </a:lnTo>
                  <a:lnTo>
                    <a:pt x="3854" y="642"/>
                  </a:lnTo>
                  <a:lnTo>
                    <a:pt x="3866" y="645"/>
                  </a:lnTo>
                  <a:lnTo>
                    <a:pt x="3874" y="651"/>
                  </a:lnTo>
                  <a:lnTo>
                    <a:pt x="3883" y="657"/>
                  </a:lnTo>
                  <a:lnTo>
                    <a:pt x="3892" y="657"/>
                  </a:lnTo>
                  <a:lnTo>
                    <a:pt x="3901" y="657"/>
                  </a:lnTo>
                  <a:lnTo>
                    <a:pt x="3912" y="657"/>
                  </a:lnTo>
                  <a:lnTo>
                    <a:pt x="3924" y="657"/>
                  </a:lnTo>
                  <a:lnTo>
                    <a:pt x="3938" y="657"/>
                  </a:lnTo>
                  <a:lnTo>
                    <a:pt x="3947" y="657"/>
                  </a:lnTo>
                  <a:lnTo>
                    <a:pt x="3959" y="657"/>
                  </a:lnTo>
                  <a:lnTo>
                    <a:pt x="3967" y="659"/>
                  </a:lnTo>
                  <a:lnTo>
                    <a:pt x="3979" y="659"/>
                  </a:lnTo>
                  <a:lnTo>
                    <a:pt x="3991" y="659"/>
                  </a:lnTo>
                  <a:lnTo>
                    <a:pt x="4002" y="659"/>
                  </a:lnTo>
                  <a:lnTo>
                    <a:pt x="4017" y="659"/>
                  </a:lnTo>
                  <a:lnTo>
                    <a:pt x="4026" y="659"/>
                  </a:lnTo>
                  <a:lnTo>
                    <a:pt x="4037" y="659"/>
                  </a:lnTo>
                  <a:lnTo>
                    <a:pt x="4049" y="659"/>
                  </a:lnTo>
                  <a:lnTo>
                    <a:pt x="4061" y="659"/>
                  </a:lnTo>
                  <a:lnTo>
                    <a:pt x="4072" y="659"/>
                  </a:lnTo>
                  <a:lnTo>
                    <a:pt x="4084" y="659"/>
                  </a:lnTo>
                  <a:lnTo>
                    <a:pt x="4093" y="659"/>
                  </a:lnTo>
                  <a:lnTo>
                    <a:pt x="4101" y="659"/>
                  </a:lnTo>
                  <a:lnTo>
                    <a:pt x="4110" y="659"/>
                  </a:lnTo>
                  <a:lnTo>
                    <a:pt x="4119" y="659"/>
                  </a:lnTo>
                  <a:lnTo>
                    <a:pt x="4128" y="659"/>
                  </a:lnTo>
                  <a:lnTo>
                    <a:pt x="4136" y="659"/>
                  </a:lnTo>
                  <a:lnTo>
                    <a:pt x="4142" y="668"/>
                  </a:lnTo>
                  <a:lnTo>
                    <a:pt x="4145" y="677"/>
                  </a:lnTo>
                  <a:lnTo>
                    <a:pt x="4151" y="685"/>
                  </a:lnTo>
                  <a:lnTo>
                    <a:pt x="4160" y="691"/>
                  </a:lnTo>
                  <a:lnTo>
                    <a:pt x="4168" y="700"/>
                  </a:lnTo>
                  <a:lnTo>
                    <a:pt x="4177" y="700"/>
                  </a:lnTo>
                  <a:lnTo>
                    <a:pt x="4177" y="691"/>
                  </a:lnTo>
                  <a:lnTo>
                    <a:pt x="4168" y="682"/>
                  </a:lnTo>
                  <a:lnTo>
                    <a:pt x="4168" y="674"/>
                  </a:lnTo>
                  <a:lnTo>
                    <a:pt x="4160" y="665"/>
                  </a:lnTo>
                  <a:lnTo>
                    <a:pt x="4151" y="659"/>
                  </a:lnTo>
                  <a:lnTo>
                    <a:pt x="4136" y="619"/>
                  </a:lnTo>
                  <a:lnTo>
                    <a:pt x="4142" y="60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233880" y="36291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6" y="0"/>
                  </a:moveTo>
                  <a:lnTo>
                    <a:pt x="32" y="11"/>
                  </a:lnTo>
                  <a:lnTo>
                    <a:pt x="23" y="11"/>
                  </a:lnTo>
                  <a:lnTo>
                    <a:pt x="14" y="11"/>
                  </a:lnTo>
                  <a:lnTo>
                    <a:pt x="5" y="13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8" y="33"/>
                  </a:lnTo>
                  <a:lnTo>
                    <a:pt x="17" y="30"/>
                  </a:lnTo>
                  <a:lnTo>
                    <a:pt x="23" y="22"/>
                  </a:lnTo>
                  <a:lnTo>
                    <a:pt x="23" y="13"/>
                  </a:lnTo>
                  <a:lnTo>
                    <a:pt x="26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14480" y="5259240"/>
              <a:ext cx="4320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" y="20"/>
                  </a:moveTo>
                  <a:lnTo>
                    <a:pt x="8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4" y="17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2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81200" y="4390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0"/>
                  </a:moveTo>
                  <a:lnTo>
                    <a:pt x="11" y="16"/>
                  </a:lnTo>
                  <a:lnTo>
                    <a:pt x="11" y="25"/>
                  </a:lnTo>
                  <a:lnTo>
                    <a:pt x="2" y="33"/>
                  </a:lnTo>
                  <a:lnTo>
                    <a:pt x="11" y="45"/>
                  </a:lnTo>
                  <a:lnTo>
                    <a:pt x="26" y="48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2" y="22"/>
                  </a:lnTo>
                  <a:lnTo>
                    <a:pt x="23" y="14"/>
                  </a:lnTo>
                  <a:lnTo>
                    <a:pt x="14" y="11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29600" y="16905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0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05920" y="1801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lnTo>
                    <a:pt x="8" y="11"/>
                  </a:lnTo>
                  <a:lnTo>
                    <a:pt x="14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26" y="46"/>
                  </a:lnTo>
                  <a:lnTo>
                    <a:pt x="17" y="43"/>
                  </a:lnTo>
                  <a:lnTo>
                    <a:pt x="11" y="34"/>
                  </a:lnTo>
                  <a:lnTo>
                    <a:pt x="8" y="25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24440" y="16192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6" y="70"/>
                  </a:moveTo>
                  <a:lnTo>
                    <a:pt x="0" y="78"/>
                  </a:lnTo>
                  <a:lnTo>
                    <a:pt x="0" y="70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19" y="42"/>
                  </a:lnTo>
                  <a:lnTo>
                    <a:pt x="11" y="33"/>
                  </a:lnTo>
                  <a:lnTo>
                    <a:pt x="11" y="25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11"/>
                  </a:lnTo>
                  <a:lnTo>
                    <a:pt x="45" y="16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28" y="33"/>
                  </a:lnTo>
                  <a:lnTo>
                    <a:pt x="35" y="36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5" y="56"/>
                  </a:lnTo>
                  <a:lnTo>
                    <a:pt x="45" y="64"/>
                  </a:lnTo>
                  <a:lnTo>
                    <a:pt x="43" y="72"/>
                  </a:lnTo>
                  <a:lnTo>
                    <a:pt x="50" y="75"/>
                  </a:lnTo>
                  <a:lnTo>
                    <a:pt x="55" y="84"/>
                  </a:lnTo>
                  <a:lnTo>
                    <a:pt x="50" y="92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31" y="98"/>
                  </a:lnTo>
                  <a:lnTo>
                    <a:pt x="23" y="98"/>
                  </a:lnTo>
                  <a:lnTo>
                    <a:pt x="14" y="92"/>
                  </a:lnTo>
                  <a:lnTo>
                    <a:pt x="9" y="84"/>
                  </a:lnTo>
                  <a:lnTo>
                    <a:pt x="4" y="75"/>
                  </a:lnTo>
                  <a:lnTo>
                    <a:pt x="16" y="7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848200" y="17812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4"/>
                  </a:lnTo>
                  <a:lnTo>
                    <a:pt x="16" y="18"/>
                  </a:lnTo>
                  <a:lnTo>
                    <a:pt x="4" y="0"/>
                  </a:lnTo>
                  <a:lnTo>
                    <a:pt x="16" y="1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00840" y="167328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0"/>
                  </a:moveTo>
                  <a:lnTo>
                    <a:pt x="17" y="19"/>
                  </a:lnTo>
                  <a:lnTo>
                    <a:pt x="22" y="11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25" y="27"/>
                  </a:lnTo>
                  <a:lnTo>
                    <a:pt x="28" y="36"/>
                  </a:lnTo>
                  <a:lnTo>
                    <a:pt x="11" y="30"/>
                  </a:lnTo>
                  <a:lnTo>
                    <a:pt x="0" y="33"/>
                  </a:lnTo>
                  <a:lnTo>
                    <a:pt x="11" y="3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91040" y="1490760"/>
              <a:ext cx="84240" cy="10944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31" y="51"/>
                  </a:moveTo>
                  <a:lnTo>
                    <a:pt x="8" y="34"/>
                  </a:lnTo>
                  <a:lnTo>
                    <a:pt x="8" y="42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5" y="68"/>
                  </a:lnTo>
                  <a:lnTo>
                    <a:pt x="17" y="68"/>
                  </a:lnTo>
                  <a:lnTo>
                    <a:pt x="28" y="68"/>
                  </a:lnTo>
                  <a:lnTo>
                    <a:pt x="37" y="68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2" y="34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20" y="19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7" y="45"/>
                  </a:lnTo>
                  <a:lnTo>
                    <a:pt x="31" y="51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38480" y="2170080"/>
              <a:ext cx="293760" cy="235080"/>
            </a:xfrm>
            <a:custGeom>
              <a:avLst/>
              <a:gdLst/>
              <a:ahLst/>
              <a:rect l="l" t="t" r="r" b="b"/>
              <a:pathLst>
                <a:path w="185" h="148">
                  <a:moveTo>
                    <a:pt x="0" y="101"/>
                  </a:moveTo>
                  <a:lnTo>
                    <a:pt x="11" y="84"/>
                  </a:lnTo>
                  <a:lnTo>
                    <a:pt x="11" y="93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5" y="138"/>
                  </a:lnTo>
                  <a:lnTo>
                    <a:pt x="14" y="135"/>
                  </a:lnTo>
                  <a:lnTo>
                    <a:pt x="20" y="127"/>
                  </a:lnTo>
                  <a:lnTo>
                    <a:pt x="28" y="118"/>
                  </a:lnTo>
                  <a:lnTo>
                    <a:pt x="31" y="110"/>
                  </a:lnTo>
                  <a:lnTo>
                    <a:pt x="40" y="104"/>
                  </a:lnTo>
                  <a:lnTo>
                    <a:pt x="48" y="101"/>
                  </a:lnTo>
                  <a:lnTo>
                    <a:pt x="57" y="98"/>
                  </a:lnTo>
                  <a:lnTo>
                    <a:pt x="66" y="90"/>
                  </a:lnTo>
                  <a:lnTo>
                    <a:pt x="69" y="81"/>
                  </a:lnTo>
                  <a:lnTo>
                    <a:pt x="77" y="79"/>
                  </a:lnTo>
                  <a:lnTo>
                    <a:pt x="80" y="87"/>
                  </a:lnTo>
                  <a:lnTo>
                    <a:pt x="80" y="96"/>
                  </a:lnTo>
                  <a:lnTo>
                    <a:pt x="80" y="104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71" y="130"/>
                  </a:lnTo>
                  <a:lnTo>
                    <a:pt x="74" y="138"/>
                  </a:lnTo>
                  <a:lnTo>
                    <a:pt x="83" y="141"/>
                  </a:lnTo>
                  <a:lnTo>
                    <a:pt x="94" y="141"/>
                  </a:lnTo>
                  <a:lnTo>
                    <a:pt x="103" y="138"/>
                  </a:lnTo>
                  <a:lnTo>
                    <a:pt x="109" y="130"/>
                  </a:lnTo>
                  <a:lnTo>
                    <a:pt x="109" y="121"/>
                  </a:lnTo>
                  <a:lnTo>
                    <a:pt x="100" y="113"/>
                  </a:lnTo>
                  <a:lnTo>
                    <a:pt x="106" y="101"/>
                  </a:lnTo>
                  <a:lnTo>
                    <a:pt x="100" y="90"/>
                  </a:lnTo>
                  <a:lnTo>
                    <a:pt x="97" y="81"/>
                  </a:lnTo>
                  <a:lnTo>
                    <a:pt x="97" y="73"/>
                  </a:lnTo>
                  <a:lnTo>
                    <a:pt x="97" y="65"/>
                  </a:lnTo>
                  <a:lnTo>
                    <a:pt x="103" y="56"/>
                  </a:lnTo>
                  <a:lnTo>
                    <a:pt x="112" y="56"/>
                  </a:lnTo>
                  <a:lnTo>
                    <a:pt x="120" y="53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52" y="56"/>
                  </a:lnTo>
                  <a:lnTo>
                    <a:pt x="166" y="56"/>
                  </a:lnTo>
                  <a:lnTo>
                    <a:pt x="175" y="56"/>
                  </a:lnTo>
                  <a:lnTo>
                    <a:pt x="184" y="56"/>
                  </a:lnTo>
                  <a:lnTo>
                    <a:pt x="184" y="48"/>
                  </a:lnTo>
                  <a:lnTo>
                    <a:pt x="184" y="39"/>
                  </a:lnTo>
                  <a:lnTo>
                    <a:pt x="181" y="31"/>
                  </a:lnTo>
                  <a:lnTo>
                    <a:pt x="178" y="22"/>
                  </a:lnTo>
                  <a:lnTo>
                    <a:pt x="166" y="16"/>
                  </a:lnTo>
                  <a:lnTo>
                    <a:pt x="158" y="16"/>
                  </a:lnTo>
                  <a:lnTo>
                    <a:pt x="146" y="16"/>
                  </a:lnTo>
                  <a:lnTo>
                    <a:pt x="138" y="19"/>
                  </a:lnTo>
                  <a:lnTo>
                    <a:pt x="140" y="11"/>
                  </a:lnTo>
                  <a:lnTo>
                    <a:pt x="140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12" y="11"/>
                  </a:lnTo>
                  <a:lnTo>
                    <a:pt x="103" y="16"/>
                  </a:lnTo>
                  <a:lnTo>
                    <a:pt x="97" y="25"/>
                  </a:lnTo>
                  <a:lnTo>
                    <a:pt x="94" y="16"/>
                  </a:lnTo>
                  <a:lnTo>
                    <a:pt x="86" y="14"/>
                  </a:lnTo>
                  <a:lnTo>
                    <a:pt x="77" y="19"/>
                  </a:lnTo>
                  <a:lnTo>
                    <a:pt x="69" y="25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63" y="2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7" y="25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23" y="48"/>
                  </a:lnTo>
                  <a:lnTo>
                    <a:pt x="31" y="48"/>
                  </a:lnTo>
                  <a:lnTo>
                    <a:pt x="40" y="42"/>
                  </a:lnTo>
                  <a:lnTo>
                    <a:pt x="51" y="45"/>
                  </a:lnTo>
                  <a:lnTo>
                    <a:pt x="57" y="53"/>
                  </a:lnTo>
                  <a:lnTo>
                    <a:pt x="60" y="62"/>
                  </a:lnTo>
                  <a:lnTo>
                    <a:pt x="51" y="65"/>
                  </a:lnTo>
                  <a:lnTo>
                    <a:pt x="40" y="65"/>
                  </a:lnTo>
                  <a:lnTo>
                    <a:pt x="28" y="59"/>
                  </a:lnTo>
                  <a:lnTo>
                    <a:pt x="17" y="59"/>
                  </a:lnTo>
                  <a:lnTo>
                    <a:pt x="8" y="65"/>
                  </a:lnTo>
                  <a:lnTo>
                    <a:pt x="8" y="76"/>
                  </a:lnTo>
                  <a:lnTo>
                    <a:pt x="11" y="87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6"/>
                  </a:lnTo>
                  <a:lnTo>
                    <a:pt x="0" y="101"/>
                  </a:lnTo>
                  <a:lnTo>
                    <a:pt x="5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0" y="1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95760" y="2171880"/>
              <a:ext cx="220680" cy="18072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31" y="53"/>
                  </a:moveTo>
                  <a:lnTo>
                    <a:pt x="25" y="64"/>
                  </a:lnTo>
                  <a:lnTo>
                    <a:pt x="31" y="53"/>
                  </a:lnTo>
                  <a:lnTo>
                    <a:pt x="43" y="56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7" y="79"/>
                  </a:lnTo>
                  <a:lnTo>
                    <a:pt x="23" y="90"/>
                  </a:lnTo>
                  <a:lnTo>
                    <a:pt x="25" y="98"/>
                  </a:lnTo>
                  <a:lnTo>
                    <a:pt x="31" y="107"/>
                  </a:lnTo>
                  <a:lnTo>
                    <a:pt x="34" y="98"/>
                  </a:lnTo>
                  <a:lnTo>
                    <a:pt x="34" y="90"/>
                  </a:lnTo>
                  <a:lnTo>
                    <a:pt x="43" y="90"/>
                  </a:lnTo>
                  <a:lnTo>
                    <a:pt x="54" y="93"/>
                  </a:lnTo>
                  <a:lnTo>
                    <a:pt x="63" y="96"/>
                  </a:lnTo>
                  <a:lnTo>
                    <a:pt x="71" y="96"/>
                  </a:lnTo>
                  <a:lnTo>
                    <a:pt x="80" y="87"/>
                  </a:lnTo>
                  <a:lnTo>
                    <a:pt x="89" y="87"/>
                  </a:lnTo>
                  <a:lnTo>
                    <a:pt x="97" y="93"/>
                  </a:lnTo>
                  <a:lnTo>
                    <a:pt x="103" y="107"/>
                  </a:lnTo>
                  <a:lnTo>
                    <a:pt x="112" y="110"/>
                  </a:lnTo>
                  <a:lnTo>
                    <a:pt x="120" y="113"/>
                  </a:lnTo>
                  <a:lnTo>
                    <a:pt x="126" y="104"/>
                  </a:lnTo>
                  <a:lnTo>
                    <a:pt x="123" y="96"/>
                  </a:lnTo>
                  <a:lnTo>
                    <a:pt x="115" y="90"/>
                  </a:lnTo>
                  <a:lnTo>
                    <a:pt x="106" y="87"/>
                  </a:lnTo>
                  <a:lnTo>
                    <a:pt x="94" y="81"/>
                  </a:lnTo>
                  <a:lnTo>
                    <a:pt x="92" y="73"/>
                  </a:lnTo>
                  <a:lnTo>
                    <a:pt x="103" y="70"/>
                  </a:lnTo>
                  <a:lnTo>
                    <a:pt x="112" y="70"/>
                  </a:lnTo>
                  <a:lnTo>
                    <a:pt x="115" y="62"/>
                  </a:lnTo>
                  <a:lnTo>
                    <a:pt x="120" y="53"/>
                  </a:lnTo>
                  <a:lnTo>
                    <a:pt x="129" y="48"/>
                  </a:lnTo>
                  <a:lnTo>
                    <a:pt x="138" y="39"/>
                  </a:lnTo>
                  <a:lnTo>
                    <a:pt x="129" y="33"/>
                  </a:lnTo>
                  <a:lnTo>
                    <a:pt x="120" y="31"/>
                  </a:lnTo>
                  <a:lnTo>
                    <a:pt x="112" y="33"/>
                  </a:lnTo>
                  <a:lnTo>
                    <a:pt x="106" y="42"/>
                  </a:lnTo>
                  <a:lnTo>
                    <a:pt x="97" y="45"/>
                  </a:lnTo>
                  <a:lnTo>
                    <a:pt x="97" y="36"/>
                  </a:lnTo>
                  <a:lnTo>
                    <a:pt x="100" y="25"/>
                  </a:lnTo>
                  <a:lnTo>
                    <a:pt x="100" y="16"/>
                  </a:lnTo>
                  <a:lnTo>
                    <a:pt x="103" y="8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0" y="8"/>
                  </a:lnTo>
                  <a:lnTo>
                    <a:pt x="77" y="16"/>
                  </a:lnTo>
                  <a:lnTo>
                    <a:pt x="74" y="25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1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3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23" y="64"/>
                  </a:lnTo>
                  <a:lnTo>
                    <a:pt x="31" y="64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77" y="53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2079720"/>
              <a:ext cx="298440" cy="156960"/>
            </a:xfrm>
            <a:custGeom>
              <a:avLst/>
              <a:gdLst/>
              <a:ahLst/>
              <a:rect l="l" t="t" r="r" b="b"/>
              <a:pathLst>
                <a:path w="188" h="99">
                  <a:moveTo>
                    <a:pt x="0" y="17"/>
                  </a:moveTo>
                  <a:lnTo>
                    <a:pt x="25" y="25"/>
                  </a:lnTo>
                  <a:lnTo>
                    <a:pt x="37" y="25"/>
                  </a:lnTo>
                  <a:lnTo>
                    <a:pt x="43" y="34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63" y="69"/>
                  </a:lnTo>
                  <a:lnTo>
                    <a:pt x="63" y="80"/>
                  </a:lnTo>
                  <a:lnTo>
                    <a:pt x="71" y="83"/>
                  </a:lnTo>
                  <a:lnTo>
                    <a:pt x="80" y="77"/>
                  </a:lnTo>
                  <a:lnTo>
                    <a:pt x="89" y="77"/>
                  </a:lnTo>
                  <a:lnTo>
                    <a:pt x="97" y="77"/>
                  </a:lnTo>
                  <a:lnTo>
                    <a:pt x="106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5" y="74"/>
                  </a:lnTo>
                  <a:lnTo>
                    <a:pt x="143" y="77"/>
                  </a:lnTo>
                  <a:lnTo>
                    <a:pt x="152" y="86"/>
                  </a:lnTo>
                  <a:lnTo>
                    <a:pt x="163" y="98"/>
                  </a:lnTo>
                  <a:lnTo>
                    <a:pt x="169" y="89"/>
                  </a:lnTo>
                  <a:lnTo>
                    <a:pt x="175" y="80"/>
                  </a:lnTo>
                  <a:lnTo>
                    <a:pt x="181" y="72"/>
                  </a:lnTo>
                  <a:lnTo>
                    <a:pt x="187" y="60"/>
                  </a:lnTo>
                  <a:lnTo>
                    <a:pt x="187" y="51"/>
                  </a:lnTo>
                  <a:lnTo>
                    <a:pt x="187" y="43"/>
                  </a:lnTo>
                  <a:lnTo>
                    <a:pt x="181" y="34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5" y="34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9" y="40"/>
                  </a:lnTo>
                  <a:lnTo>
                    <a:pt x="129" y="49"/>
                  </a:lnTo>
                  <a:lnTo>
                    <a:pt x="129" y="57"/>
                  </a:lnTo>
                  <a:lnTo>
                    <a:pt x="120" y="51"/>
                  </a:lnTo>
                  <a:lnTo>
                    <a:pt x="109" y="43"/>
                  </a:lnTo>
                  <a:lnTo>
                    <a:pt x="100" y="34"/>
                  </a:lnTo>
                  <a:lnTo>
                    <a:pt x="86" y="25"/>
                  </a:lnTo>
                  <a:lnTo>
                    <a:pt x="83" y="37"/>
                  </a:lnTo>
                  <a:lnTo>
                    <a:pt x="74" y="40"/>
                  </a:lnTo>
                  <a:lnTo>
                    <a:pt x="74" y="31"/>
                  </a:lnTo>
                  <a:lnTo>
                    <a:pt x="69" y="23"/>
                  </a:lnTo>
                  <a:lnTo>
                    <a:pt x="60" y="17"/>
                  </a:lnTo>
                  <a:lnTo>
                    <a:pt x="51" y="8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8" y="8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0" y="1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74960" y="2954160"/>
              <a:ext cx="680760" cy="700200"/>
            </a:xfrm>
            <a:custGeom>
              <a:avLst/>
              <a:gdLst/>
              <a:ahLst/>
              <a:rect l="l" t="t" r="r" b="b"/>
              <a:pathLst>
                <a:path w="429" h="441">
                  <a:moveTo>
                    <a:pt x="22" y="309"/>
                  </a:moveTo>
                  <a:lnTo>
                    <a:pt x="34" y="315"/>
                  </a:lnTo>
                  <a:lnTo>
                    <a:pt x="43" y="318"/>
                  </a:lnTo>
                  <a:lnTo>
                    <a:pt x="51" y="321"/>
                  </a:lnTo>
                  <a:lnTo>
                    <a:pt x="54" y="333"/>
                  </a:lnTo>
                  <a:lnTo>
                    <a:pt x="63" y="342"/>
                  </a:lnTo>
                  <a:lnTo>
                    <a:pt x="71" y="348"/>
                  </a:lnTo>
                  <a:lnTo>
                    <a:pt x="80" y="348"/>
                  </a:lnTo>
                  <a:lnTo>
                    <a:pt x="91" y="355"/>
                  </a:lnTo>
                  <a:lnTo>
                    <a:pt x="100" y="361"/>
                  </a:lnTo>
                  <a:lnTo>
                    <a:pt x="109" y="364"/>
                  </a:lnTo>
                  <a:lnTo>
                    <a:pt x="112" y="373"/>
                  </a:lnTo>
                  <a:lnTo>
                    <a:pt x="117" y="382"/>
                  </a:lnTo>
                  <a:lnTo>
                    <a:pt x="123" y="391"/>
                  </a:lnTo>
                  <a:lnTo>
                    <a:pt x="132" y="397"/>
                  </a:lnTo>
                  <a:lnTo>
                    <a:pt x="146" y="406"/>
                  </a:lnTo>
                  <a:lnTo>
                    <a:pt x="155" y="412"/>
                  </a:lnTo>
                  <a:lnTo>
                    <a:pt x="163" y="418"/>
                  </a:lnTo>
                  <a:lnTo>
                    <a:pt x="172" y="421"/>
                  </a:lnTo>
                  <a:lnTo>
                    <a:pt x="180" y="430"/>
                  </a:lnTo>
                  <a:lnTo>
                    <a:pt x="189" y="436"/>
                  </a:lnTo>
                  <a:lnTo>
                    <a:pt x="198" y="440"/>
                  </a:lnTo>
                  <a:lnTo>
                    <a:pt x="203" y="430"/>
                  </a:lnTo>
                  <a:lnTo>
                    <a:pt x="203" y="421"/>
                  </a:lnTo>
                  <a:lnTo>
                    <a:pt x="203" y="412"/>
                  </a:lnTo>
                  <a:lnTo>
                    <a:pt x="215" y="406"/>
                  </a:lnTo>
                  <a:lnTo>
                    <a:pt x="224" y="406"/>
                  </a:lnTo>
                  <a:lnTo>
                    <a:pt x="232" y="406"/>
                  </a:lnTo>
                  <a:lnTo>
                    <a:pt x="241" y="406"/>
                  </a:lnTo>
                  <a:lnTo>
                    <a:pt x="249" y="406"/>
                  </a:lnTo>
                  <a:lnTo>
                    <a:pt x="258" y="406"/>
                  </a:lnTo>
                  <a:lnTo>
                    <a:pt x="261" y="397"/>
                  </a:lnTo>
                  <a:lnTo>
                    <a:pt x="261" y="388"/>
                  </a:lnTo>
                  <a:lnTo>
                    <a:pt x="261" y="379"/>
                  </a:lnTo>
                  <a:lnTo>
                    <a:pt x="261" y="367"/>
                  </a:lnTo>
                  <a:lnTo>
                    <a:pt x="261" y="355"/>
                  </a:lnTo>
                  <a:lnTo>
                    <a:pt x="252" y="348"/>
                  </a:lnTo>
                  <a:lnTo>
                    <a:pt x="244" y="348"/>
                  </a:lnTo>
                  <a:lnTo>
                    <a:pt x="235" y="342"/>
                  </a:lnTo>
                  <a:lnTo>
                    <a:pt x="229" y="333"/>
                  </a:lnTo>
                  <a:lnTo>
                    <a:pt x="229" y="324"/>
                  </a:lnTo>
                  <a:lnTo>
                    <a:pt x="238" y="321"/>
                  </a:lnTo>
                  <a:lnTo>
                    <a:pt x="247" y="315"/>
                  </a:lnTo>
                  <a:lnTo>
                    <a:pt x="255" y="312"/>
                  </a:lnTo>
                  <a:lnTo>
                    <a:pt x="261" y="303"/>
                  </a:lnTo>
                  <a:lnTo>
                    <a:pt x="261" y="294"/>
                  </a:lnTo>
                  <a:lnTo>
                    <a:pt x="264" y="285"/>
                  </a:lnTo>
                  <a:lnTo>
                    <a:pt x="264" y="276"/>
                  </a:lnTo>
                  <a:lnTo>
                    <a:pt x="267" y="267"/>
                  </a:lnTo>
                  <a:lnTo>
                    <a:pt x="272" y="257"/>
                  </a:lnTo>
                  <a:lnTo>
                    <a:pt x="278" y="248"/>
                  </a:lnTo>
                  <a:lnTo>
                    <a:pt x="284" y="239"/>
                  </a:lnTo>
                  <a:lnTo>
                    <a:pt x="284" y="230"/>
                  </a:lnTo>
                  <a:lnTo>
                    <a:pt x="284" y="221"/>
                  </a:lnTo>
                  <a:lnTo>
                    <a:pt x="284" y="209"/>
                  </a:lnTo>
                  <a:lnTo>
                    <a:pt x="292" y="200"/>
                  </a:lnTo>
                  <a:lnTo>
                    <a:pt x="295" y="191"/>
                  </a:lnTo>
                  <a:lnTo>
                    <a:pt x="298" y="182"/>
                  </a:lnTo>
                  <a:lnTo>
                    <a:pt x="301" y="172"/>
                  </a:lnTo>
                  <a:lnTo>
                    <a:pt x="292" y="163"/>
                  </a:lnTo>
                  <a:lnTo>
                    <a:pt x="284" y="154"/>
                  </a:lnTo>
                  <a:lnTo>
                    <a:pt x="278" y="145"/>
                  </a:lnTo>
                  <a:lnTo>
                    <a:pt x="287" y="142"/>
                  </a:lnTo>
                  <a:lnTo>
                    <a:pt x="295" y="142"/>
                  </a:lnTo>
                  <a:lnTo>
                    <a:pt x="304" y="148"/>
                  </a:lnTo>
                  <a:lnTo>
                    <a:pt x="313" y="157"/>
                  </a:lnTo>
                  <a:lnTo>
                    <a:pt x="321" y="163"/>
                  </a:lnTo>
                  <a:lnTo>
                    <a:pt x="327" y="154"/>
                  </a:lnTo>
                  <a:lnTo>
                    <a:pt x="336" y="148"/>
                  </a:lnTo>
                  <a:lnTo>
                    <a:pt x="344" y="148"/>
                  </a:lnTo>
                  <a:lnTo>
                    <a:pt x="353" y="145"/>
                  </a:lnTo>
                  <a:lnTo>
                    <a:pt x="361" y="142"/>
                  </a:lnTo>
                  <a:lnTo>
                    <a:pt x="361" y="133"/>
                  </a:lnTo>
                  <a:lnTo>
                    <a:pt x="361" y="124"/>
                  </a:lnTo>
                  <a:lnTo>
                    <a:pt x="361" y="115"/>
                  </a:lnTo>
                  <a:lnTo>
                    <a:pt x="359" y="106"/>
                  </a:lnTo>
                  <a:lnTo>
                    <a:pt x="353" y="97"/>
                  </a:lnTo>
                  <a:lnTo>
                    <a:pt x="344" y="88"/>
                  </a:lnTo>
                  <a:lnTo>
                    <a:pt x="333" y="81"/>
                  </a:lnTo>
                  <a:lnTo>
                    <a:pt x="341" y="75"/>
                  </a:lnTo>
                  <a:lnTo>
                    <a:pt x="353" y="75"/>
                  </a:lnTo>
                  <a:lnTo>
                    <a:pt x="361" y="75"/>
                  </a:lnTo>
                  <a:lnTo>
                    <a:pt x="370" y="75"/>
                  </a:lnTo>
                  <a:lnTo>
                    <a:pt x="379" y="72"/>
                  </a:lnTo>
                  <a:lnTo>
                    <a:pt x="387" y="69"/>
                  </a:lnTo>
                  <a:lnTo>
                    <a:pt x="396" y="69"/>
                  </a:lnTo>
                  <a:lnTo>
                    <a:pt x="405" y="72"/>
                  </a:lnTo>
                  <a:lnTo>
                    <a:pt x="419" y="75"/>
                  </a:lnTo>
                  <a:lnTo>
                    <a:pt x="428" y="75"/>
                  </a:lnTo>
                  <a:lnTo>
                    <a:pt x="425" y="66"/>
                  </a:lnTo>
                  <a:lnTo>
                    <a:pt x="422" y="57"/>
                  </a:lnTo>
                  <a:lnTo>
                    <a:pt x="419" y="48"/>
                  </a:lnTo>
                  <a:lnTo>
                    <a:pt x="410" y="48"/>
                  </a:lnTo>
                  <a:lnTo>
                    <a:pt x="402" y="48"/>
                  </a:lnTo>
                  <a:lnTo>
                    <a:pt x="390" y="48"/>
                  </a:lnTo>
                  <a:lnTo>
                    <a:pt x="382" y="48"/>
                  </a:lnTo>
                  <a:lnTo>
                    <a:pt x="379" y="57"/>
                  </a:lnTo>
                  <a:lnTo>
                    <a:pt x="370" y="54"/>
                  </a:lnTo>
                  <a:lnTo>
                    <a:pt x="361" y="45"/>
                  </a:lnTo>
                  <a:lnTo>
                    <a:pt x="353" y="39"/>
                  </a:lnTo>
                  <a:lnTo>
                    <a:pt x="341" y="39"/>
                  </a:lnTo>
                  <a:lnTo>
                    <a:pt x="333" y="39"/>
                  </a:lnTo>
                  <a:lnTo>
                    <a:pt x="318" y="39"/>
                  </a:lnTo>
                  <a:lnTo>
                    <a:pt x="310" y="39"/>
                  </a:lnTo>
                  <a:lnTo>
                    <a:pt x="298" y="42"/>
                  </a:lnTo>
                  <a:lnTo>
                    <a:pt x="290" y="42"/>
                  </a:lnTo>
                  <a:lnTo>
                    <a:pt x="290" y="33"/>
                  </a:lnTo>
                  <a:lnTo>
                    <a:pt x="298" y="30"/>
                  </a:lnTo>
                  <a:lnTo>
                    <a:pt x="307" y="30"/>
                  </a:lnTo>
                  <a:lnTo>
                    <a:pt x="315" y="27"/>
                  </a:lnTo>
                  <a:lnTo>
                    <a:pt x="324" y="24"/>
                  </a:lnTo>
                  <a:lnTo>
                    <a:pt x="327" y="15"/>
                  </a:lnTo>
                  <a:lnTo>
                    <a:pt x="327" y="6"/>
                  </a:lnTo>
                  <a:lnTo>
                    <a:pt x="318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3"/>
                  </a:lnTo>
                  <a:lnTo>
                    <a:pt x="275" y="12"/>
                  </a:lnTo>
                  <a:lnTo>
                    <a:pt x="267" y="18"/>
                  </a:lnTo>
                  <a:lnTo>
                    <a:pt x="258" y="21"/>
                  </a:lnTo>
                  <a:lnTo>
                    <a:pt x="255" y="30"/>
                  </a:lnTo>
                  <a:lnTo>
                    <a:pt x="264" y="36"/>
                  </a:lnTo>
                  <a:lnTo>
                    <a:pt x="272" y="36"/>
                  </a:lnTo>
                  <a:lnTo>
                    <a:pt x="278" y="45"/>
                  </a:lnTo>
                  <a:lnTo>
                    <a:pt x="270" y="54"/>
                  </a:lnTo>
                  <a:lnTo>
                    <a:pt x="267" y="63"/>
                  </a:lnTo>
                  <a:lnTo>
                    <a:pt x="281" y="75"/>
                  </a:lnTo>
                  <a:lnTo>
                    <a:pt x="290" y="78"/>
                  </a:lnTo>
                  <a:lnTo>
                    <a:pt x="281" y="75"/>
                  </a:lnTo>
                  <a:lnTo>
                    <a:pt x="270" y="66"/>
                  </a:lnTo>
                  <a:lnTo>
                    <a:pt x="261" y="60"/>
                  </a:lnTo>
                  <a:lnTo>
                    <a:pt x="252" y="51"/>
                  </a:lnTo>
                  <a:lnTo>
                    <a:pt x="244" y="51"/>
                  </a:lnTo>
                  <a:lnTo>
                    <a:pt x="241" y="60"/>
                  </a:lnTo>
                  <a:lnTo>
                    <a:pt x="241" y="69"/>
                  </a:lnTo>
                  <a:lnTo>
                    <a:pt x="255" y="78"/>
                  </a:lnTo>
                  <a:lnTo>
                    <a:pt x="264" y="81"/>
                  </a:lnTo>
                  <a:lnTo>
                    <a:pt x="255" y="88"/>
                  </a:lnTo>
                  <a:lnTo>
                    <a:pt x="244" y="88"/>
                  </a:lnTo>
                  <a:lnTo>
                    <a:pt x="235" y="88"/>
                  </a:lnTo>
                  <a:lnTo>
                    <a:pt x="235" y="103"/>
                  </a:lnTo>
                  <a:lnTo>
                    <a:pt x="244" y="106"/>
                  </a:lnTo>
                  <a:lnTo>
                    <a:pt x="252" y="109"/>
                  </a:lnTo>
                  <a:lnTo>
                    <a:pt x="244" y="115"/>
                  </a:lnTo>
                  <a:lnTo>
                    <a:pt x="235" y="112"/>
                  </a:lnTo>
                  <a:lnTo>
                    <a:pt x="226" y="109"/>
                  </a:lnTo>
                  <a:lnTo>
                    <a:pt x="218" y="106"/>
                  </a:lnTo>
                  <a:lnTo>
                    <a:pt x="212" y="115"/>
                  </a:lnTo>
                  <a:lnTo>
                    <a:pt x="218" y="124"/>
                  </a:lnTo>
                  <a:lnTo>
                    <a:pt x="229" y="127"/>
                  </a:lnTo>
                  <a:lnTo>
                    <a:pt x="238" y="130"/>
                  </a:lnTo>
                  <a:lnTo>
                    <a:pt x="229" y="124"/>
                  </a:lnTo>
                  <a:lnTo>
                    <a:pt x="221" y="121"/>
                  </a:lnTo>
                  <a:lnTo>
                    <a:pt x="209" y="115"/>
                  </a:lnTo>
                  <a:lnTo>
                    <a:pt x="198" y="106"/>
                  </a:lnTo>
                  <a:lnTo>
                    <a:pt x="192" y="97"/>
                  </a:lnTo>
                  <a:lnTo>
                    <a:pt x="183" y="91"/>
                  </a:lnTo>
                  <a:lnTo>
                    <a:pt x="180" y="81"/>
                  </a:lnTo>
                  <a:lnTo>
                    <a:pt x="178" y="72"/>
                  </a:lnTo>
                  <a:lnTo>
                    <a:pt x="169" y="60"/>
                  </a:lnTo>
                  <a:lnTo>
                    <a:pt x="160" y="60"/>
                  </a:lnTo>
                  <a:lnTo>
                    <a:pt x="152" y="66"/>
                  </a:lnTo>
                  <a:lnTo>
                    <a:pt x="149" y="75"/>
                  </a:lnTo>
                  <a:lnTo>
                    <a:pt x="146" y="84"/>
                  </a:lnTo>
                  <a:lnTo>
                    <a:pt x="143" y="94"/>
                  </a:lnTo>
                  <a:lnTo>
                    <a:pt x="140" y="103"/>
                  </a:lnTo>
                  <a:lnTo>
                    <a:pt x="129" y="103"/>
                  </a:lnTo>
                  <a:lnTo>
                    <a:pt x="117" y="94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0" y="60"/>
                  </a:lnTo>
                  <a:lnTo>
                    <a:pt x="89" y="60"/>
                  </a:lnTo>
                  <a:lnTo>
                    <a:pt x="80" y="66"/>
                  </a:lnTo>
                  <a:lnTo>
                    <a:pt x="77" y="75"/>
                  </a:lnTo>
                  <a:lnTo>
                    <a:pt x="71" y="84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51" y="127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0" y="127"/>
                  </a:lnTo>
                  <a:lnTo>
                    <a:pt x="51" y="121"/>
                  </a:lnTo>
                  <a:lnTo>
                    <a:pt x="43" y="118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4" y="115"/>
                  </a:lnTo>
                  <a:lnTo>
                    <a:pt x="11" y="124"/>
                  </a:lnTo>
                  <a:lnTo>
                    <a:pt x="8" y="133"/>
                  </a:lnTo>
                  <a:lnTo>
                    <a:pt x="2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4" y="169"/>
                  </a:lnTo>
                  <a:lnTo>
                    <a:pt x="22" y="172"/>
                  </a:lnTo>
                  <a:lnTo>
                    <a:pt x="31" y="172"/>
                  </a:lnTo>
                  <a:lnTo>
                    <a:pt x="40" y="176"/>
                  </a:lnTo>
                  <a:lnTo>
                    <a:pt x="51" y="185"/>
                  </a:lnTo>
                  <a:lnTo>
                    <a:pt x="60" y="191"/>
                  </a:lnTo>
                  <a:lnTo>
                    <a:pt x="68" y="197"/>
                  </a:lnTo>
                  <a:lnTo>
                    <a:pt x="80" y="200"/>
                  </a:lnTo>
                  <a:lnTo>
                    <a:pt x="89" y="203"/>
                  </a:lnTo>
                  <a:lnTo>
                    <a:pt x="100" y="203"/>
                  </a:lnTo>
                  <a:lnTo>
                    <a:pt x="109" y="203"/>
                  </a:lnTo>
                  <a:lnTo>
                    <a:pt x="120" y="197"/>
                  </a:lnTo>
                  <a:lnTo>
                    <a:pt x="129" y="194"/>
                  </a:lnTo>
                  <a:lnTo>
                    <a:pt x="135" y="185"/>
                  </a:lnTo>
                  <a:lnTo>
                    <a:pt x="143" y="179"/>
                  </a:lnTo>
                  <a:lnTo>
                    <a:pt x="149" y="169"/>
                  </a:lnTo>
                  <a:lnTo>
                    <a:pt x="157" y="163"/>
                  </a:lnTo>
                  <a:lnTo>
                    <a:pt x="166" y="163"/>
                  </a:lnTo>
                  <a:lnTo>
                    <a:pt x="175" y="166"/>
                  </a:lnTo>
                  <a:lnTo>
                    <a:pt x="183" y="166"/>
                  </a:lnTo>
                  <a:lnTo>
                    <a:pt x="192" y="157"/>
                  </a:lnTo>
                  <a:lnTo>
                    <a:pt x="198" y="148"/>
                  </a:lnTo>
                  <a:lnTo>
                    <a:pt x="201" y="139"/>
                  </a:lnTo>
                  <a:lnTo>
                    <a:pt x="203" y="130"/>
                  </a:lnTo>
                  <a:lnTo>
                    <a:pt x="212" y="130"/>
                  </a:lnTo>
                  <a:lnTo>
                    <a:pt x="224" y="136"/>
                  </a:lnTo>
                  <a:lnTo>
                    <a:pt x="232" y="139"/>
                  </a:lnTo>
                  <a:lnTo>
                    <a:pt x="241" y="142"/>
                  </a:lnTo>
                  <a:lnTo>
                    <a:pt x="232" y="142"/>
                  </a:lnTo>
                  <a:lnTo>
                    <a:pt x="224" y="142"/>
                  </a:lnTo>
                  <a:lnTo>
                    <a:pt x="215" y="142"/>
                  </a:lnTo>
                  <a:lnTo>
                    <a:pt x="206" y="142"/>
                  </a:lnTo>
                  <a:lnTo>
                    <a:pt x="203" y="151"/>
                  </a:lnTo>
                  <a:lnTo>
                    <a:pt x="201" y="160"/>
                  </a:lnTo>
                  <a:lnTo>
                    <a:pt x="201" y="169"/>
                  </a:lnTo>
                  <a:lnTo>
                    <a:pt x="209" y="176"/>
                  </a:lnTo>
                  <a:lnTo>
                    <a:pt x="218" y="179"/>
                  </a:lnTo>
                  <a:lnTo>
                    <a:pt x="226" y="188"/>
                  </a:lnTo>
                  <a:lnTo>
                    <a:pt x="235" y="194"/>
                  </a:lnTo>
                  <a:lnTo>
                    <a:pt x="238" y="203"/>
                  </a:lnTo>
                  <a:lnTo>
                    <a:pt x="226" y="206"/>
                  </a:lnTo>
                  <a:lnTo>
                    <a:pt x="224" y="215"/>
                  </a:lnTo>
                  <a:lnTo>
                    <a:pt x="224" y="224"/>
                  </a:lnTo>
                  <a:lnTo>
                    <a:pt x="221" y="233"/>
                  </a:lnTo>
                  <a:lnTo>
                    <a:pt x="209" y="233"/>
                  </a:lnTo>
                  <a:lnTo>
                    <a:pt x="203" y="245"/>
                  </a:lnTo>
                  <a:lnTo>
                    <a:pt x="198" y="257"/>
                  </a:lnTo>
                  <a:lnTo>
                    <a:pt x="195" y="267"/>
                  </a:lnTo>
                  <a:lnTo>
                    <a:pt x="186" y="267"/>
                  </a:lnTo>
                  <a:lnTo>
                    <a:pt x="183" y="257"/>
                  </a:lnTo>
                  <a:lnTo>
                    <a:pt x="178" y="245"/>
                  </a:lnTo>
                  <a:lnTo>
                    <a:pt x="175" y="233"/>
                  </a:lnTo>
                  <a:lnTo>
                    <a:pt x="166" y="224"/>
                  </a:lnTo>
                  <a:lnTo>
                    <a:pt x="157" y="221"/>
                  </a:lnTo>
                  <a:lnTo>
                    <a:pt x="149" y="218"/>
                  </a:lnTo>
                  <a:lnTo>
                    <a:pt x="137" y="224"/>
                  </a:lnTo>
                  <a:lnTo>
                    <a:pt x="140" y="236"/>
                  </a:lnTo>
                  <a:lnTo>
                    <a:pt x="143" y="245"/>
                  </a:lnTo>
                  <a:lnTo>
                    <a:pt x="143" y="254"/>
                  </a:lnTo>
                  <a:lnTo>
                    <a:pt x="135" y="260"/>
                  </a:lnTo>
                  <a:lnTo>
                    <a:pt x="126" y="260"/>
                  </a:lnTo>
                  <a:lnTo>
                    <a:pt x="114" y="257"/>
                  </a:lnTo>
                  <a:lnTo>
                    <a:pt x="106" y="257"/>
                  </a:lnTo>
                  <a:lnTo>
                    <a:pt x="97" y="257"/>
                  </a:lnTo>
                  <a:lnTo>
                    <a:pt x="89" y="257"/>
                  </a:lnTo>
                  <a:lnTo>
                    <a:pt x="91" y="267"/>
                  </a:lnTo>
                  <a:lnTo>
                    <a:pt x="100" y="276"/>
                  </a:lnTo>
                  <a:lnTo>
                    <a:pt x="100" y="285"/>
                  </a:lnTo>
                  <a:lnTo>
                    <a:pt x="97" y="294"/>
                  </a:lnTo>
                  <a:lnTo>
                    <a:pt x="97" y="303"/>
                  </a:lnTo>
                  <a:lnTo>
                    <a:pt x="109" y="312"/>
                  </a:lnTo>
                  <a:lnTo>
                    <a:pt x="117" y="318"/>
                  </a:lnTo>
                  <a:lnTo>
                    <a:pt x="109" y="318"/>
                  </a:lnTo>
                  <a:lnTo>
                    <a:pt x="100" y="309"/>
                  </a:lnTo>
                  <a:lnTo>
                    <a:pt x="89" y="300"/>
                  </a:lnTo>
                  <a:lnTo>
                    <a:pt x="80" y="297"/>
                  </a:lnTo>
                  <a:lnTo>
                    <a:pt x="71" y="297"/>
                  </a:lnTo>
                  <a:lnTo>
                    <a:pt x="63" y="300"/>
                  </a:lnTo>
                  <a:lnTo>
                    <a:pt x="54" y="306"/>
                  </a:lnTo>
                  <a:lnTo>
                    <a:pt x="43" y="306"/>
                  </a:lnTo>
                  <a:lnTo>
                    <a:pt x="34" y="306"/>
                  </a:lnTo>
                  <a:lnTo>
                    <a:pt x="22" y="309"/>
                  </a:lnTo>
                  <a:lnTo>
                    <a:pt x="11" y="303"/>
                  </a:lnTo>
                  <a:lnTo>
                    <a:pt x="22" y="309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743200" y="27082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2"/>
                  </a:moveTo>
                  <a:lnTo>
                    <a:pt x="8" y="19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34" y="22"/>
                  </a:lnTo>
                  <a:lnTo>
                    <a:pt x="40" y="13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776680" y="294012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5" y="0"/>
                  </a:moveTo>
                  <a:lnTo>
                    <a:pt x="20" y="13"/>
                  </a:lnTo>
                  <a:lnTo>
                    <a:pt x="11" y="16"/>
                  </a:lnTo>
                  <a:lnTo>
                    <a:pt x="8" y="24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4" y="30"/>
                  </a:lnTo>
                  <a:lnTo>
                    <a:pt x="40" y="21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25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610160" y="2549520"/>
              <a:ext cx="339840" cy="509760"/>
            </a:xfrm>
            <a:custGeom>
              <a:avLst/>
              <a:gdLst/>
              <a:ahLst/>
              <a:rect l="l" t="t" r="r" b="b"/>
              <a:pathLst>
                <a:path w="214" h="321">
                  <a:moveTo>
                    <a:pt x="23" y="200"/>
                  </a:moveTo>
                  <a:lnTo>
                    <a:pt x="34" y="182"/>
                  </a:lnTo>
                  <a:lnTo>
                    <a:pt x="23" y="200"/>
                  </a:lnTo>
                  <a:lnTo>
                    <a:pt x="23" y="211"/>
                  </a:lnTo>
                  <a:lnTo>
                    <a:pt x="20" y="220"/>
                  </a:lnTo>
                  <a:lnTo>
                    <a:pt x="17" y="228"/>
                  </a:lnTo>
                  <a:lnTo>
                    <a:pt x="8" y="234"/>
                  </a:lnTo>
                  <a:lnTo>
                    <a:pt x="2" y="24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8" y="268"/>
                  </a:lnTo>
                  <a:lnTo>
                    <a:pt x="17" y="268"/>
                  </a:lnTo>
                  <a:lnTo>
                    <a:pt x="25" y="271"/>
                  </a:lnTo>
                  <a:lnTo>
                    <a:pt x="28" y="280"/>
                  </a:lnTo>
                  <a:lnTo>
                    <a:pt x="37" y="291"/>
                  </a:lnTo>
                  <a:lnTo>
                    <a:pt x="28" y="294"/>
                  </a:lnTo>
                  <a:lnTo>
                    <a:pt x="20" y="285"/>
                  </a:lnTo>
                  <a:lnTo>
                    <a:pt x="31" y="294"/>
                  </a:lnTo>
                  <a:lnTo>
                    <a:pt x="40" y="300"/>
                  </a:lnTo>
                  <a:lnTo>
                    <a:pt x="48" y="311"/>
                  </a:lnTo>
                  <a:lnTo>
                    <a:pt x="57" y="314"/>
                  </a:lnTo>
                  <a:lnTo>
                    <a:pt x="66" y="320"/>
                  </a:lnTo>
                  <a:lnTo>
                    <a:pt x="66" y="311"/>
                  </a:lnTo>
                  <a:lnTo>
                    <a:pt x="74" y="311"/>
                  </a:lnTo>
                  <a:lnTo>
                    <a:pt x="83" y="320"/>
                  </a:lnTo>
                  <a:lnTo>
                    <a:pt x="83" y="308"/>
                  </a:lnTo>
                  <a:lnTo>
                    <a:pt x="92" y="305"/>
                  </a:lnTo>
                  <a:lnTo>
                    <a:pt x="97" y="297"/>
                  </a:lnTo>
                  <a:lnTo>
                    <a:pt x="89" y="288"/>
                  </a:lnTo>
                  <a:lnTo>
                    <a:pt x="83" y="280"/>
                  </a:lnTo>
                  <a:lnTo>
                    <a:pt x="77" y="271"/>
                  </a:lnTo>
                  <a:lnTo>
                    <a:pt x="71" y="262"/>
                  </a:lnTo>
                  <a:lnTo>
                    <a:pt x="69" y="254"/>
                  </a:lnTo>
                  <a:lnTo>
                    <a:pt x="69" y="242"/>
                  </a:lnTo>
                  <a:lnTo>
                    <a:pt x="69" y="234"/>
                  </a:lnTo>
                  <a:lnTo>
                    <a:pt x="69" y="225"/>
                  </a:lnTo>
                  <a:lnTo>
                    <a:pt x="69" y="217"/>
                  </a:lnTo>
                  <a:lnTo>
                    <a:pt x="69" y="208"/>
                  </a:lnTo>
                  <a:lnTo>
                    <a:pt x="69" y="200"/>
                  </a:lnTo>
                  <a:lnTo>
                    <a:pt x="69" y="191"/>
                  </a:lnTo>
                  <a:lnTo>
                    <a:pt x="69" y="182"/>
                  </a:lnTo>
                  <a:lnTo>
                    <a:pt x="77" y="174"/>
                  </a:lnTo>
                  <a:lnTo>
                    <a:pt x="86" y="168"/>
                  </a:lnTo>
                  <a:lnTo>
                    <a:pt x="92" y="160"/>
                  </a:lnTo>
                  <a:lnTo>
                    <a:pt x="97" y="151"/>
                  </a:lnTo>
                  <a:lnTo>
                    <a:pt x="103" y="142"/>
                  </a:lnTo>
                  <a:lnTo>
                    <a:pt x="103" y="134"/>
                  </a:lnTo>
                  <a:lnTo>
                    <a:pt x="103" y="125"/>
                  </a:lnTo>
                  <a:lnTo>
                    <a:pt x="112" y="122"/>
                  </a:lnTo>
                  <a:lnTo>
                    <a:pt x="120" y="117"/>
                  </a:lnTo>
                  <a:lnTo>
                    <a:pt x="123" y="105"/>
                  </a:lnTo>
                  <a:lnTo>
                    <a:pt x="132" y="100"/>
                  </a:lnTo>
                  <a:lnTo>
                    <a:pt x="135" y="91"/>
                  </a:lnTo>
                  <a:lnTo>
                    <a:pt x="143" y="82"/>
                  </a:lnTo>
                  <a:lnTo>
                    <a:pt x="152" y="77"/>
                  </a:lnTo>
                  <a:lnTo>
                    <a:pt x="158" y="68"/>
                  </a:lnTo>
                  <a:lnTo>
                    <a:pt x="166" y="65"/>
                  </a:lnTo>
                  <a:lnTo>
                    <a:pt x="175" y="60"/>
                  </a:lnTo>
                  <a:lnTo>
                    <a:pt x="184" y="57"/>
                  </a:lnTo>
                  <a:lnTo>
                    <a:pt x="189" y="48"/>
                  </a:lnTo>
                  <a:lnTo>
                    <a:pt x="198" y="42"/>
                  </a:lnTo>
                  <a:lnTo>
                    <a:pt x="207" y="37"/>
                  </a:lnTo>
                  <a:lnTo>
                    <a:pt x="210" y="28"/>
                  </a:lnTo>
                  <a:lnTo>
                    <a:pt x="213" y="20"/>
                  </a:lnTo>
                  <a:lnTo>
                    <a:pt x="213" y="11"/>
                  </a:lnTo>
                  <a:lnTo>
                    <a:pt x="210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5" y="8"/>
                  </a:lnTo>
                  <a:lnTo>
                    <a:pt x="175" y="17"/>
                  </a:lnTo>
                  <a:lnTo>
                    <a:pt x="166" y="20"/>
                  </a:lnTo>
                  <a:lnTo>
                    <a:pt x="158" y="25"/>
                  </a:lnTo>
                  <a:lnTo>
                    <a:pt x="149" y="34"/>
                  </a:lnTo>
                  <a:lnTo>
                    <a:pt x="141" y="40"/>
                  </a:lnTo>
                  <a:lnTo>
                    <a:pt x="132" y="42"/>
                  </a:lnTo>
                  <a:lnTo>
                    <a:pt x="123" y="42"/>
                  </a:lnTo>
                  <a:lnTo>
                    <a:pt x="123" y="54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7" y="68"/>
                  </a:lnTo>
                  <a:lnTo>
                    <a:pt x="89" y="77"/>
                  </a:lnTo>
                  <a:lnTo>
                    <a:pt x="83" y="85"/>
                  </a:lnTo>
                  <a:lnTo>
                    <a:pt x="80" y="94"/>
                  </a:lnTo>
                  <a:lnTo>
                    <a:pt x="71" y="100"/>
                  </a:lnTo>
                  <a:lnTo>
                    <a:pt x="66" y="108"/>
                  </a:lnTo>
                  <a:lnTo>
                    <a:pt x="63" y="117"/>
                  </a:lnTo>
                  <a:lnTo>
                    <a:pt x="63" y="125"/>
                  </a:lnTo>
                  <a:lnTo>
                    <a:pt x="57" y="134"/>
                  </a:lnTo>
                  <a:lnTo>
                    <a:pt x="51" y="142"/>
                  </a:lnTo>
                  <a:lnTo>
                    <a:pt x="46" y="151"/>
                  </a:lnTo>
                  <a:lnTo>
                    <a:pt x="40" y="162"/>
                  </a:lnTo>
                  <a:lnTo>
                    <a:pt x="37" y="171"/>
                  </a:lnTo>
                  <a:lnTo>
                    <a:pt x="46" y="177"/>
                  </a:lnTo>
                  <a:lnTo>
                    <a:pt x="54" y="180"/>
                  </a:lnTo>
                  <a:lnTo>
                    <a:pt x="57" y="188"/>
                  </a:lnTo>
                  <a:lnTo>
                    <a:pt x="48" y="185"/>
                  </a:lnTo>
                  <a:lnTo>
                    <a:pt x="40" y="185"/>
                  </a:lnTo>
                  <a:lnTo>
                    <a:pt x="31" y="188"/>
                  </a:lnTo>
                  <a:lnTo>
                    <a:pt x="23" y="200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23" y="237"/>
                  </a:lnTo>
                  <a:lnTo>
                    <a:pt x="14" y="242"/>
                  </a:lnTo>
                  <a:lnTo>
                    <a:pt x="8" y="251"/>
                  </a:lnTo>
                  <a:lnTo>
                    <a:pt x="0" y="260"/>
                  </a:lnTo>
                  <a:lnTo>
                    <a:pt x="23" y="2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71720" y="444168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49" y="47"/>
                  </a:moveTo>
                  <a:lnTo>
                    <a:pt x="44" y="58"/>
                  </a:lnTo>
                  <a:lnTo>
                    <a:pt x="35" y="58"/>
                  </a:lnTo>
                  <a:lnTo>
                    <a:pt x="30" y="66"/>
                  </a:lnTo>
                  <a:lnTo>
                    <a:pt x="30" y="75"/>
                  </a:lnTo>
                  <a:lnTo>
                    <a:pt x="30" y="83"/>
                  </a:lnTo>
                  <a:lnTo>
                    <a:pt x="30" y="91"/>
                  </a:lnTo>
                  <a:lnTo>
                    <a:pt x="22" y="94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8" y="139"/>
                  </a:lnTo>
                  <a:lnTo>
                    <a:pt x="16" y="139"/>
                  </a:lnTo>
                  <a:lnTo>
                    <a:pt x="27" y="147"/>
                  </a:lnTo>
                  <a:lnTo>
                    <a:pt x="33" y="156"/>
                  </a:lnTo>
                  <a:lnTo>
                    <a:pt x="41" y="156"/>
                  </a:lnTo>
                  <a:lnTo>
                    <a:pt x="46" y="147"/>
                  </a:lnTo>
                  <a:lnTo>
                    <a:pt x="52" y="139"/>
                  </a:lnTo>
                  <a:lnTo>
                    <a:pt x="55" y="130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71" y="108"/>
                  </a:lnTo>
                  <a:lnTo>
                    <a:pt x="80" y="108"/>
                  </a:lnTo>
                  <a:lnTo>
                    <a:pt x="82" y="100"/>
                  </a:lnTo>
                  <a:lnTo>
                    <a:pt x="82" y="91"/>
                  </a:lnTo>
                  <a:lnTo>
                    <a:pt x="82" y="83"/>
                  </a:lnTo>
                  <a:lnTo>
                    <a:pt x="82" y="75"/>
                  </a:lnTo>
                  <a:lnTo>
                    <a:pt x="82" y="66"/>
                  </a:lnTo>
                  <a:lnTo>
                    <a:pt x="85" y="58"/>
                  </a:lnTo>
                  <a:lnTo>
                    <a:pt x="93" y="52"/>
                  </a:lnTo>
                  <a:lnTo>
                    <a:pt x="102" y="47"/>
                  </a:lnTo>
                  <a:lnTo>
                    <a:pt x="107" y="39"/>
                  </a:lnTo>
                  <a:lnTo>
                    <a:pt x="115" y="36"/>
                  </a:lnTo>
                  <a:lnTo>
                    <a:pt x="121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38" y="5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8" y="11"/>
                  </a:lnTo>
                  <a:lnTo>
                    <a:pt x="82" y="19"/>
                  </a:lnTo>
                  <a:lnTo>
                    <a:pt x="80" y="27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69" y="61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49" y="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90800" y="524844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1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6" y="21"/>
                  </a:lnTo>
                  <a:lnTo>
                    <a:pt x="23" y="27"/>
                  </a:lnTo>
                  <a:lnTo>
                    <a:pt x="18" y="18"/>
                  </a:lnTo>
                  <a:lnTo>
                    <a:pt x="13" y="9"/>
                  </a:lnTo>
                  <a:lnTo>
                    <a:pt x="6" y="21"/>
                  </a:lnTo>
                  <a:lnTo>
                    <a:pt x="9" y="6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57400" y="5361120"/>
              <a:ext cx="27000" cy="72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6" y="0"/>
                  </a:moveTo>
                  <a:lnTo>
                    <a:pt x="5" y="19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0" y="28"/>
                  </a:lnTo>
                  <a:lnTo>
                    <a:pt x="16" y="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52480" y="4357800"/>
              <a:ext cx="88920" cy="73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0"/>
                  </a:moveTo>
                  <a:lnTo>
                    <a:pt x="20" y="19"/>
                  </a:lnTo>
                  <a:lnTo>
                    <a:pt x="20" y="28"/>
                  </a:lnTo>
                  <a:lnTo>
                    <a:pt x="28" y="33"/>
                  </a:lnTo>
                  <a:lnTo>
                    <a:pt x="28" y="42"/>
                  </a:lnTo>
                  <a:lnTo>
                    <a:pt x="37" y="45"/>
                  </a:lnTo>
                  <a:lnTo>
                    <a:pt x="46" y="45"/>
                  </a:lnTo>
                  <a:lnTo>
                    <a:pt x="49" y="36"/>
                  </a:lnTo>
                  <a:lnTo>
                    <a:pt x="55" y="28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26" y="16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3" name="" descr=""/>
            <p:cNvPicPr/>
            <p:nvPr/>
          </p:nvPicPr>
          <p:blipFill>
            <a:blip r:embed="rId1"/>
            <a:stretch/>
          </p:blipFill>
          <p:spPr>
            <a:xfrm>
              <a:off x="228600" y="6137280"/>
              <a:ext cx="611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93600" y="6272280"/>
              <a:ext cx="47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HO European Centre for Environment and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72040" y="743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0"/>
                  </a:moveTo>
                  <a:lnTo>
                    <a:pt x="8" y="8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5" y="37"/>
                  </a:lnTo>
                  <a:lnTo>
                    <a:pt x="11" y="46"/>
                  </a:lnTo>
                  <a:lnTo>
                    <a:pt x="19" y="49"/>
                  </a:lnTo>
                  <a:lnTo>
                    <a:pt x="31" y="52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7" y="55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31" y="14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97360" y="4836960"/>
              <a:ext cx="788760" cy="408240"/>
            </a:xfrm>
            <a:custGeom>
              <a:avLst/>
              <a:gdLst/>
              <a:ahLst/>
              <a:rect l="l" t="t" r="r" b="b"/>
              <a:pathLst>
                <a:path w="497" h="257">
                  <a:moveTo>
                    <a:pt x="0" y="193"/>
                  </a:moveTo>
                  <a:lnTo>
                    <a:pt x="24" y="189"/>
                  </a:lnTo>
                  <a:lnTo>
                    <a:pt x="32" y="182"/>
                  </a:lnTo>
                  <a:lnTo>
                    <a:pt x="40" y="174"/>
                  </a:lnTo>
                  <a:lnTo>
                    <a:pt x="46" y="164"/>
                  </a:lnTo>
                  <a:lnTo>
                    <a:pt x="45" y="155"/>
                  </a:lnTo>
                  <a:lnTo>
                    <a:pt x="52" y="149"/>
                  </a:lnTo>
                  <a:lnTo>
                    <a:pt x="60" y="140"/>
                  </a:lnTo>
                  <a:lnTo>
                    <a:pt x="66" y="131"/>
                  </a:lnTo>
                  <a:lnTo>
                    <a:pt x="69" y="123"/>
                  </a:lnTo>
                  <a:lnTo>
                    <a:pt x="74" y="114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7" y="95"/>
                  </a:lnTo>
                  <a:lnTo>
                    <a:pt x="104" y="88"/>
                  </a:lnTo>
                  <a:lnTo>
                    <a:pt x="109" y="78"/>
                  </a:lnTo>
                  <a:lnTo>
                    <a:pt x="116" y="70"/>
                  </a:lnTo>
                  <a:lnTo>
                    <a:pt x="118" y="60"/>
                  </a:lnTo>
                  <a:lnTo>
                    <a:pt x="128" y="53"/>
                  </a:lnTo>
                  <a:lnTo>
                    <a:pt x="131" y="44"/>
                  </a:lnTo>
                  <a:lnTo>
                    <a:pt x="137" y="37"/>
                  </a:lnTo>
                  <a:lnTo>
                    <a:pt x="144" y="30"/>
                  </a:lnTo>
                  <a:lnTo>
                    <a:pt x="153" y="22"/>
                  </a:lnTo>
                  <a:lnTo>
                    <a:pt x="159" y="15"/>
                  </a:lnTo>
                  <a:lnTo>
                    <a:pt x="168" y="10"/>
                  </a:lnTo>
                  <a:lnTo>
                    <a:pt x="175" y="6"/>
                  </a:lnTo>
                  <a:lnTo>
                    <a:pt x="187" y="6"/>
                  </a:lnTo>
                  <a:lnTo>
                    <a:pt x="193" y="0"/>
                  </a:lnTo>
                  <a:lnTo>
                    <a:pt x="202" y="7"/>
                  </a:lnTo>
                  <a:lnTo>
                    <a:pt x="215" y="15"/>
                  </a:lnTo>
                  <a:lnTo>
                    <a:pt x="207" y="14"/>
                  </a:lnTo>
                  <a:lnTo>
                    <a:pt x="205" y="22"/>
                  </a:lnTo>
                  <a:lnTo>
                    <a:pt x="205" y="31"/>
                  </a:lnTo>
                  <a:lnTo>
                    <a:pt x="215" y="34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40" y="33"/>
                  </a:lnTo>
                  <a:lnTo>
                    <a:pt x="243" y="40"/>
                  </a:lnTo>
                  <a:lnTo>
                    <a:pt x="236" y="45"/>
                  </a:lnTo>
                  <a:lnTo>
                    <a:pt x="228" y="49"/>
                  </a:lnTo>
                  <a:lnTo>
                    <a:pt x="220" y="55"/>
                  </a:lnTo>
                  <a:lnTo>
                    <a:pt x="213" y="62"/>
                  </a:lnTo>
                  <a:lnTo>
                    <a:pt x="222" y="64"/>
                  </a:lnTo>
                  <a:lnTo>
                    <a:pt x="226" y="71"/>
                  </a:lnTo>
                  <a:lnTo>
                    <a:pt x="229" y="78"/>
                  </a:lnTo>
                  <a:lnTo>
                    <a:pt x="232" y="84"/>
                  </a:lnTo>
                  <a:lnTo>
                    <a:pt x="232" y="94"/>
                  </a:lnTo>
                  <a:lnTo>
                    <a:pt x="230" y="103"/>
                  </a:lnTo>
                  <a:lnTo>
                    <a:pt x="239" y="163"/>
                  </a:lnTo>
                  <a:lnTo>
                    <a:pt x="190" y="125"/>
                  </a:lnTo>
                  <a:lnTo>
                    <a:pt x="236" y="116"/>
                  </a:lnTo>
                  <a:lnTo>
                    <a:pt x="246" y="110"/>
                  </a:lnTo>
                  <a:lnTo>
                    <a:pt x="251" y="105"/>
                  </a:lnTo>
                  <a:lnTo>
                    <a:pt x="259" y="94"/>
                  </a:lnTo>
                  <a:lnTo>
                    <a:pt x="270" y="93"/>
                  </a:lnTo>
                  <a:lnTo>
                    <a:pt x="277" y="90"/>
                  </a:lnTo>
                  <a:lnTo>
                    <a:pt x="288" y="86"/>
                  </a:lnTo>
                  <a:lnTo>
                    <a:pt x="295" y="83"/>
                  </a:lnTo>
                  <a:lnTo>
                    <a:pt x="303" y="74"/>
                  </a:lnTo>
                  <a:lnTo>
                    <a:pt x="313" y="75"/>
                  </a:lnTo>
                  <a:lnTo>
                    <a:pt x="320" y="80"/>
                  </a:lnTo>
                  <a:lnTo>
                    <a:pt x="329" y="76"/>
                  </a:lnTo>
                  <a:lnTo>
                    <a:pt x="338" y="74"/>
                  </a:lnTo>
                  <a:lnTo>
                    <a:pt x="345" y="78"/>
                  </a:lnTo>
                  <a:lnTo>
                    <a:pt x="351" y="86"/>
                  </a:lnTo>
                  <a:lnTo>
                    <a:pt x="357" y="92"/>
                  </a:lnTo>
                  <a:lnTo>
                    <a:pt x="365" y="90"/>
                  </a:lnTo>
                  <a:lnTo>
                    <a:pt x="379" y="94"/>
                  </a:lnTo>
                  <a:lnTo>
                    <a:pt x="385" y="99"/>
                  </a:lnTo>
                  <a:lnTo>
                    <a:pt x="394" y="102"/>
                  </a:lnTo>
                  <a:lnTo>
                    <a:pt x="403" y="107"/>
                  </a:lnTo>
                  <a:lnTo>
                    <a:pt x="405" y="115"/>
                  </a:lnTo>
                  <a:lnTo>
                    <a:pt x="413" y="121"/>
                  </a:lnTo>
                  <a:lnTo>
                    <a:pt x="423" y="125"/>
                  </a:lnTo>
                  <a:lnTo>
                    <a:pt x="431" y="128"/>
                  </a:lnTo>
                  <a:lnTo>
                    <a:pt x="440" y="132"/>
                  </a:lnTo>
                  <a:lnTo>
                    <a:pt x="455" y="137"/>
                  </a:lnTo>
                  <a:lnTo>
                    <a:pt x="468" y="141"/>
                  </a:lnTo>
                  <a:lnTo>
                    <a:pt x="473" y="148"/>
                  </a:lnTo>
                  <a:lnTo>
                    <a:pt x="480" y="154"/>
                  </a:lnTo>
                  <a:lnTo>
                    <a:pt x="485" y="161"/>
                  </a:lnTo>
                  <a:lnTo>
                    <a:pt x="488" y="172"/>
                  </a:lnTo>
                  <a:lnTo>
                    <a:pt x="492" y="178"/>
                  </a:lnTo>
                  <a:lnTo>
                    <a:pt x="493" y="187"/>
                  </a:lnTo>
                  <a:lnTo>
                    <a:pt x="494" y="195"/>
                  </a:lnTo>
                  <a:lnTo>
                    <a:pt x="496" y="201"/>
                  </a:lnTo>
                  <a:lnTo>
                    <a:pt x="491" y="213"/>
                  </a:lnTo>
                  <a:lnTo>
                    <a:pt x="480" y="217"/>
                  </a:lnTo>
                  <a:lnTo>
                    <a:pt x="474" y="222"/>
                  </a:lnTo>
                  <a:lnTo>
                    <a:pt x="466" y="228"/>
                  </a:lnTo>
                  <a:lnTo>
                    <a:pt x="458" y="234"/>
                  </a:lnTo>
                  <a:lnTo>
                    <a:pt x="448" y="238"/>
                  </a:lnTo>
                  <a:lnTo>
                    <a:pt x="439" y="240"/>
                  </a:lnTo>
                  <a:lnTo>
                    <a:pt x="430" y="244"/>
                  </a:lnTo>
                  <a:lnTo>
                    <a:pt x="422" y="248"/>
                  </a:lnTo>
                  <a:lnTo>
                    <a:pt x="414" y="240"/>
                  </a:lnTo>
                  <a:lnTo>
                    <a:pt x="405" y="242"/>
                  </a:lnTo>
                  <a:lnTo>
                    <a:pt x="395" y="241"/>
                  </a:lnTo>
                  <a:lnTo>
                    <a:pt x="387" y="244"/>
                  </a:lnTo>
                  <a:lnTo>
                    <a:pt x="380" y="248"/>
                  </a:lnTo>
                  <a:lnTo>
                    <a:pt x="372" y="250"/>
                  </a:lnTo>
                  <a:lnTo>
                    <a:pt x="363" y="252"/>
                  </a:lnTo>
                  <a:lnTo>
                    <a:pt x="357" y="256"/>
                  </a:lnTo>
                  <a:lnTo>
                    <a:pt x="350" y="247"/>
                  </a:lnTo>
                  <a:lnTo>
                    <a:pt x="349" y="240"/>
                  </a:lnTo>
                  <a:lnTo>
                    <a:pt x="340" y="243"/>
                  </a:lnTo>
                  <a:lnTo>
                    <a:pt x="333" y="246"/>
                  </a:lnTo>
                  <a:lnTo>
                    <a:pt x="324" y="248"/>
                  </a:lnTo>
                  <a:lnTo>
                    <a:pt x="315" y="247"/>
                  </a:lnTo>
                  <a:lnTo>
                    <a:pt x="315" y="240"/>
                  </a:lnTo>
                  <a:lnTo>
                    <a:pt x="313" y="233"/>
                  </a:lnTo>
                  <a:lnTo>
                    <a:pt x="310" y="225"/>
                  </a:lnTo>
                  <a:lnTo>
                    <a:pt x="297" y="227"/>
                  </a:lnTo>
                  <a:lnTo>
                    <a:pt x="288" y="227"/>
                  </a:lnTo>
                  <a:lnTo>
                    <a:pt x="281" y="221"/>
                  </a:lnTo>
                  <a:lnTo>
                    <a:pt x="277" y="215"/>
                  </a:lnTo>
                  <a:lnTo>
                    <a:pt x="267" y="213"/>
                  </a:lnTo>
                  <a:lnTo>
                    <a:pt x="226" y="177"/>
                  </a:lnTo>
                  <a:lnTo>
                    <a:pt x="245" y="217"/>
                  </a:lnTo>
                  <a:lnTo>
                    <a:pt x="236" y="217"/>
                  </a:lnTo>
                  <a:lnTo>
                    <a:pt x="227" y="213"/>
                  </a:lnTo>
                  <a:lnTo>
                    <a:pt x="219" y="211"/>
                  </a:lnTo>
                  <a:lnTo>
                    <a:pt x="209" y="209"/>
                  </a:lnTo>
                  <a:lnTo>
                    <a:pt x="200" y="210"/>
                  </a:lnTo>
                  <a:lnTo>
                    <a:pt x="191" y="215"/>
                  </a:lnTo>
                  <a:lnTo>
                    <a:pt x="184" y="218"/>
                  </a:lnTo>
                  <a:lnTo>
                    <a:pt x="176" y="219"/>
                  </a:lnTo>
                  <a:lnTo>
                    <a:pt x="166" y="223"/>
                  </a:lnTo>
                  <a:lnTo>
                    <a:pt x="158" y="230"/>
                  </a:lnTo>
                  <a:lnTo>
                    <a:pt x="150" y="234"/>
                  </a:lnTo>
                  <a:lnTo>
                    <a:pt x="139" y="242"/>
                  </a:lnTo>
                  <a:lnTo>
                    <a:pt x="133" y="247"/>
                  </a:lnTo>
                  <a:lnTo>
                    <a:pt x="122" y="248"/>
                  </a:lnTo>
                  <a:lnTo>
                    <a:pt x="111" y="253"/>
                  </a:lnTo>
                  <a:lnTo>
                    <a:pt x="102" y="252"/>
                  </a:lnTo>
                  <a:lnTo>
                    <a:pt x="91" y="247"/>
                  </a:lnTo>
                  <a:lnTo>
                    <a:pt x="82" y="245"/>
                  </a:lnTo>
                  <a:lnTo>
                    <a:pt x="74" y="244"/>
                  </a:lnTo>
                  <a:lnTo>
                    <a:pt x="63" y="244"/>
                  </a:lnTo>
                  <a:lnTo>
                    <a:pt x="49" y="244"/>
                  </a:lnTo>
                  <a:lnTo>
                    <a:pt x="43" y="238"/>
                  </a:lnTo>
                  <a:lnTo>
                    <a:pt x="36" y="232"/>
                  </a:lnTo>
                  <a:lnTo>
                    <a:pt x="36" y="221"/>
                  </a:lnTo>
                  <a:lnTo>
                    <a:pt x="32" y="217"/>
                  </a:lnTo>
                  <a:lnTo>
                    <a:pt x="26" y="209"/>
                  </a:lnTo>
                  <a:lnTo>
                    <a:pt x="22" y="204"/>
                  </a:lnTo>
                  <a:lnTo>
                    <a:pt x="18" y="197"/>
                  </a:lnTo>
                  <a:lnTo>
                    <a:pt x="0" y="193"/>
                  </a:lnTo>
                  <a:lnTo>
                    <a:pt x="14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62120" y="3087720"/>
            <a:ext cx="790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8120" y="304920"/>
            <a:ext cx="811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umber of cases attributable to air pollution in Fr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 yea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Künzli et al., Lancet 2000; 356:795-8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533520" y="1371600"/>
          <a:ext cx="7924680" cy="4173480"/>
        </p:xfrm>
        <a:graphic>
          <a:graphicData uri="http://schemas.openxmlformats.org/drawingml/2006/table">
            <a:tbl>
              <a:tblPr/>
              <a:tblGrid>
                <a:gridCol w="4571640"/>
                <a:gridCol w="1067040"/>
                <a:gridCol w="228600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alth 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5% 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rtality (long term st.), adults&gt;30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1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200 - 4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spiratory hospital ad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38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400 – 26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diovascular hospital ad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400 – 29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ronic bronchitis incidence (&gt;25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6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300 – 73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onchitis (&lt;15 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8500 – 81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stricted activity days (&gt;20y) (mill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.7 – 2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thma attacks (&lt;15 y) (person-day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4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49000 - 33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thma attacks (</a:t>
                      </a:r>
                      <a:r>
                        <a:rPr b="0" lang="en-US" sz="20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5 y) (person-day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7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81000-87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8381880" y="4572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42360" y="537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46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d8a"/>
            </a:gs>
            <a:gs pos="50000">
              <a:srgbClr val="0f219b"/>
            </a:gs>
            <a:gs pos="100000">
              <a:srgbClr val="0d1d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228600" y="557280"/>
            <a:ext cx="8120160" cy="6118200"/>
            <a:chOff x="228600" y="557280"/>
            <a:chExt cx="8120160" cy="6118200"/>
          </a:xfrm>
        </p:grpSpPr>
        <p:sp>
          <p:nvSpPr>
            <p:cNvPr id="586" name=""/>
            <p:cNvSpPr/>
            <p:nvPr/>
          </p:nvSpPr>
          <p:spPr>
            <a:xfrm>
              <a:off x="2662200" y="20638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2" y="77"/>
                  </a:moveTo>
                  <a:lnTo>
                    <a:pt x="2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2" y="125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5" y="174"/>
                  </a:lnTo>
                  <a:lnTo>
                    <a:pt x="31" y="182"/>
                  </a:lnTo>
                  <a:lnTo>
                    <a:pt x="40" y="182"/>
                  </a:lnTo>
                  <a:lnTo>
                    <a:pt x="48" y="182"/>
                  </a:lnTo>
                  <a:lnTo>
                    <a:pt x="60" y="191"/>
                  </a:lnTo>
                  <a:lnTo>
                    <a:pt x="71" y="196"/>
                  </a:lnTo>
                  <a:lnTo>
                    <a:pt x="71" y="205"/>
                  </a:lnTo>
                  <a:lnTo>
                    <a:pt x="74" y="214"/>
                  </a:lnTo>
                  <a:lnTo>
                    <a:pt x="83" y="214"/>
                  </a:lnTo>
                  <a:lnTo>
                    <a:pt x="91" y="214"/>
                  </a:lnTo>
                  <a:lnTo>
                    <a:pt x="100" y="214"/>
                  </a:lnTo>
                  <a:lnTo>
                    <a:pt x="109" y="214"/>
                  </a:lnTo>
                  <a:lnTo>
                    <a:pt x="117" y="214"/>
                  </a:lnTo>
                  <a:lnTo>
                    <a:pt x="126" y="214"/>
                  </a:lnTo>
                  <a:lnTo>
                    <a:pt x="137" y="208"/>
                  </a:lnTo>
                  <a:lnTo>
                    <a:pt x="149" y="202"/>
                  </a:lnTo>
                  <a:lnTo>
                    <a:pt x="149" y="194"/>
                  </a:lnTo>
                  <a:lnTo>
                    <a:pt x="146" y="185"/>
                  </a:lnTo>
                  <a:lnTo>
                    <a:pt x="146" y="176"/>
                  </a:lnTo>
                  <a:lnTo>
                    <a:pt x="155" y="168"/>
                  </a:lnTo>
                  <a:lnTo>
                    <a:pt x="158" y="159"/>
                  </a:lnTo>
                  <a:lnTo>
                    <a:pt x="158" y="151"/>
                  </a:lnTo>
                  <a:lnTo>
                    <a:pt x="155" y="142"/>
                  </a:lnTo>
                  <a:lnTo>
                    <a:pt x="155" y="134"/>
                  </a:lnTo>
                  <a:lnTo>
                    <a:pt x="146" y="134"/>
                  </a:lnTo>
                  <a:lnTo>
                    <a:pt x="137" y="134"/>
                  </a:lnTo>
                  <a:lnTo>
                    <a:pt x="135" y="125"/>
                  </a:lnTo>
                  <a:lnTo>
                    <a:pt x="129" y="116"/>
                  </a:lnTo>
                  <a:lnTo>
                    <a:pt x="120" y="114"/>
                  </a:lnTo>
                  <a:lnTo>
                    <a:pt x="114" y="105"/>
                  </a:lnTo>
                  <a:lnTo>
                    <a:pt x="114" y="97"/>
                  </a:lnTo>
                  <a:lnTo>
                    <a:pt x="106" y="94"/>
                  </a:lnTo>
                  <a:lnTo>
                    <a:pt x="97" y="94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89" y="71"/>
                  </a:lnTo>
                  <a:lnTo>
                    <a:pt x="80" y="68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83" y="45"/>
                  </a:lnTo>
                  <a:lnTo>
                    <a:pt x="94" y="45"/>
                  </a:lnTo>
                  <a:lnTo>
                    <a:pt x="103" y="39"/>
                  </a:lnTo>
                  <a:lnTo>
                    <a:pt x="106" y="31"/>
                  </a:lnTo>
                  <a:lnTo>
                    <a:pt x="103" y="22"/>
                  </a:lnTo>
                  <a:lnTo>
                    <a:pt x="94" y="22"/>
                  </a:lnTo>
                  <a:lnTo>
                    <a:pt x="86" y="14"/>
                  </a:lnTo>
                  <a:lnTo>
                    <a:pt x="77" y="11"/>
                  </a:lnTo>
                  <a:lnTo>
                    <a:pt x="68" y="11"/>
                  </a:lnTo>
                  <a:lnTo>
                    <a:pt x="54" y="0"/>
                  </a:lnTo>
                  <a:lnTo>
                    <a:pt x="51" y="8"/>
                  </a:lnTo>
                  <a:lnTo>
                    <a:pt x="60" y="14"/>
                  </a:lnTo>
                  <a:lnTo>
                    <a:pt x="63" y="22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7" y="45"/>
                  </a:lnTo>
                  <a:lnTo>
                    <a:pt x="45" y="45"/>
                  </a:lnTo>
                  <a:lnTo>
                    <a:pt x="40" y="37"/>
                  </a:lnTo>
                  <a:lnTo>
                    <a:pt x="34" y="28"/>
                  </a:lnTo>
                  <a:lnTo>
                    <a:pt x="31" y="37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5" y="62"/>
                  </a:lnTo>
                  <a:lnTo>
                    <a:pt x="17" y="68"/>
                  </a:lnTo>
                  <a:lnTo>
                    <a:pt x="2" y="77"/>
                  </a:lnTo>
                  <a:lnTo>
                    <a:pt x="2" y="7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085760" y="557280"/>
              <a:ext cx="6975720" cy="5226120"/>
            </a:xfrm>
            <a:custGeom>
              <a:avLst/>
              <a:gdLst/>
              <a:ahLst/>
              <a:rect l="l" t="t" r="r" b="b"/>
              <a:pathLst>
                <a:path w="4394" h="3292">
                  <a:moveTo>
                    <a:pt x="4183" y="665"/>
                  </a:moveTo>
                  <a:lnTo>
                    <a:pt x="4174" y="685"/>
                  </a:lnTo>
                  <a:lnTo>
                    <a:pt x="4165" y="680"/>
                  </a:lnTo>
                  <a:lnTo>
                    <a:pt x="4154" y="671"/>
                  </a:lnTo>
                  <a:lnTo>
                    <a:pt x="4145" y="665"/>
                  </a:lnTo>
                  <a:lnTo>
                    <a:pt x="4136" y="657"/>
                  </a:lnTo>
                  <a:lnTo>
                    <a:pt x="4128" y="648"/>
                  </a:lnTo>
                  <a:lnTo>
                    <a:pt x="4122" y="639"/>
                  </a:lnTo>
                  <a:lnTo>
                    <a:pt x="4110" y="631"/>
                  </a:lnTo>
                  <a:lnTo>
                    <a:pt x="4104" y="622"/>
                  </a:lnTo>
                  <a:lnTo>
                    <a:pt x="4098" y="613"/>
                  </a:lnTo>
                  <a:lnTo>
                    <a:pt x="4093" y="605"/>
                  </a:lnTo>
                  <a:lnTo>
                    <a:pt x="4084" y="596"/>
                  </a:lnTo>
                  <a:lnTo>
                    <a:pt x="4075" y="593"/>
                  </a:lnTo>
                  <a:lnTo>
                    <a:pt x="4066" y="590"/>
                  </a:lnTo>
                  <a:lnTo>
                    <a:pt x="4058" y="587"/>
                  </a:lnTo>
                  <a:lnTo>
                    <a:pt x="4049" y="585"/>
                  </a:lnTo>
                  <a:lnTo>
                    <a:pt x="4037" y="585"/>
                  </a:lnTo>
                  <a:lnTo>
                    <a:pt x="4029" y="582"/>
                  </a:lnTo>
                  <a:lnTo>
                    <a:pt x="4023" y="573"/>
                  </a:lnTo>
                  <a:lnTo>
                    <a:pt x="4020" y="564"/>
                  </a:lnTo>
                  <a:lnTo>
                    <a:pt x="4011" y="556"/>
                  </a:lnTo>
                  <a:lnTo>
                    <a:pt x="4002" y="550"/>
                  </a:lnTo>
                  <a:lnTo>
                    <a:pt x="4002" y="541"/>
                  </a:lnTo>
                  <a:lnTo>
                    <a:pt x="3994" y="538"/>
                  </a:lnTo>
                  <a:lnTo>
                    <a:pt x="3982" y="538"/>
                  </a:lnTo>
                  <a:lnTo>
                    <a:pt x="3973" y="538"/>
                  </a:lnTo>
                  <a:lnTo>
                    <a:pt x="3965" y="538"/>
                  </a:lnTo>
                  <a:lnTo>
                    <a:pt x="3953" y="538"/>
                  </a:lnTo>
                  <a:lnTo>
                    <a:pt x="3947" y="530"/>
                  </a:lnTo>
                  <a:lnTo>
                    <a:pt x="3947" y="521"/>
                  </a:lnTo>
                  <a:lnTo>
                    <a:pt x="3938" y="512"/>
                  </a:lnTo>
                  <a:lnTo>
                    <a:pt x="3930" y="504"/>
                  </a:lnTo>
                  <a:lnTo>
                    <a:pt x="3930" y="495"/>
                  </a:lnTo>
                  <a:lnTo>
                    <a:pt x="3927" y="484"/>
                  </a:lnTo>
                  <a:lnTo>
                    <a:pt x="3918" y="481"/>
                  </a:lnTo>
                  <a:lnTo>
                    <a:pt x="3909" y="481"/>
                  </a:lnTo>
                  <a:lnTo>
                    <a:pt x="3901" y="481"/>
                  </a:lnTo>
                  <a:lnTo>
                    <a:pt x="3892" y="481"/>
                  </a:lnTo>
                  <a:lnTo>
                    <a:pt x="3883" y="481"/>
                  </a:lnTo>
                  <a:lnTo>
                    <a:pt x="3871" y="481"/>
                  </a:lnTo>
                  <a:lnTo>
                    <a:pt x="3863" y="481"/>
                  </a:lnTo>
                  <a:lnTo>
                    <a:pt x="3851" y="478"/>
                  </a:lnTo>
                  <a:lnTo>
                    <a:pt x="3842" y="472"/>
                  </a:lnTo>
                  <a:lnTo>
                    <a:pt x="3842" y="463"/>
                  </a:lnTo>
                  <a:lnTo>
                    <a:pt x="3842" y="455"/>
                  </a:lnTo>
                  <a:lnTo>
                    <a:pt x="3834" y="446"/>
                  </a:lnTo>
                  <a:lnTo>
                    <a:pt x="3825" y="446"/>
                  </a:lnTo>
                  <a:lnTo>
                    <a:pt x="3819" y="455"/>
                  </a:lnTo>
                  <a:lnTo>
                    <a:pt x="3810" y="458"/>
                  </a:lnTo>
                  <a:lnTo>
                    <a:pt x="3802" y="461"/>
                  </a:lnTo>
                  <a:lnTo>
                    <a:pt x="3793" y="461"/>
                  </a:lnTo>
                  <a:lnTo>
                    <a:pt x="3784" y="461"/>
                  </a:lnTo>
                  <a:lnTo>
                    <a:pt x="3775" y="461"/>
                  </a:lnTo>
                  <a:lnTo>
                    <a:pt x="3764" y="455"/>
                  </a:lnTo>
                  <a:lnTo>
                    <a:pt x="3755" y="452"/>
                  </a:lnTo>
                  <a:lnTo>
                    <a:pt x="3752" y="461"/>
                  </a:lnTo>
                  <a:lnTo>
                    <a:pt x="3755" y="469"/>
                  </a:lnTo>
                  <a:lnTo>
                    <a:pt x="3764" y="472"/>
                  </a:lnTo>
                  <a:lnTo>
                    <a:pt x="3755" y="475"/>
                  </a:lnTo>
                  <a:lnTo>
                    <a:pt x="3746" y="475"/>
                  </a:lnTo>
                  <a:lnTo>
                    <a:pt x="3737" y="478"/>
                  </a:lnTo>
                  <a:lnTo>
                    <a:pt x="3729" y="478"/>
                  </a:lnTo>
                  <a:lnTo>
                    <a:pt x="3720" y="478"/>
                  </a:lnTo>
                  <a:lnTo>
                    <a:pt x="3711" y="472"/>
                  </a:lnTo>
                  <a:lnTo>
                    <a:pt x="3703" y="463"/>
                  </a:lnTo>
                  <a:lnTo>
                    <a:pt x="3694" y="455"/>
                  </a:lnTo>
                  <a:lnTo>
                    <a:pt x="3685" y="452"/>
                  </a:lnTo>
                  <a:lnTo>
                    <a:pt x="3676" y="452"/>
                  </a:lnTo>
                  <a:lnTo>
                    <a:pt x="3668" y="449"/>
                  </a:lnTo>
                  <a:lnTo>
                    <a:pt x="3656" y="449"/>
                  </a:lnTo>
                  <a:lnTo>
                    <a:pt x="3647" y="449"/>
                  </a:lnTo>
                  <a:lnTo>
                    <a:pt x="3638" y="449"/>
                  </a:lnTo>
                  <a:lnTo>
                    <a:pt x="3636" y="440"/>
                  </a:lnTo>
                  <a:lnTo>
                    <a:pt x="3636" y="432"/>
                  </a:lnTo>
                  <a:lnTo>
                    <a:pt x="3630" y="423"/>
                  </a:lnTo>
                  <a:lnTo>
                    <a:pt x="3638" y="423"/>
                  </a:lnTo>
                  <a:lnTo>
                    <a:pt x="3636" y="414"/>
                  </a:lnTo>
                  <a:lnTo>
                    <a:pt x="3627" y="412"/>
                  </a:lnTo>
                  <a:lnTo>
                    <a:pt x="3618" y="409"/>
                  </a:lnTo>
                  <a:lnTo>
                    <a:pt x="3615" y="400"/>
                  </a:lnTo>
                  <a:lnTo>
                    <a:pt x="3609" y="391"/>
                  </a:lnTo>
                  <a:lnTo>
                    <a:pt x="3618" y="391"/>
                  </a:lnTo>
                  <a:lnTo>
                    <a:pt x="3627" y="391"/>
                  </a:lnTo>
                  <a:lnTo>
                    <a:pt x="3633" y="383"/>
                  </a:lnTo>
                  <a:lnTo>
                    <a:pt x="3624" y="377"/>
                  </a:lnTo>
                  <a:lnTo>
                    <a:pt x="3615" y="374"/>
                  </a:lnTo>
                  <a:lnTo>
                    <a:pt x="3606" y="363"/>
                  </a:lnTo>
                  <a:lnTo>
                    <a:pt x="3604" y="354"/>
                  </a:lnTo>
                  <a:lnTo>
                    <a:pt x="3598" y="345"/>
                  </a:lnTo>
                  <a:lnTo>
                    <a:pt x="3592" y="337"/>
                  </a:lnTo>
                  <a:lnTo>
                    <a:pt x="3583" y="322"/>
                  </a:lnTo>
                  <a:lnTo>
                    <a:pt x="3577" y="314"/>
                  </a:lnTo>
                  <a:lnTo>
                    <a:pt x="3586" y="305"/>
                  </a:lnTo>
                  <a:lnTo>
                    <a:pt x="3592" y="296"/>
                  </a:lnTo>
                  <a:lnTo>
                    <a:pt x="3595" y="288"/>
                  </a:lnTo>
                  <a:lnTo>
                    <a:pt x="3595" y="279"/>
                  </a:lnTo>
                  <a:lnTo>
                    <a:pt x="3586" y="276"/>
                  </a:lnTo>
                  <a:lnTo>
                    <a:pt x="3577" y="276"/>
                  </a:lnTo>
                  <a:lnTo>
                    <a:pt x="3569" y="276"/>
                  </a:lnTo>
                  <a:lnTo>
                    <a:pt x="3557" y="270"/>
                  </a:lnTo>
                  <a:lnTo>
                    <a:pt x="3548" y="259"/>
                  </a:lnTo>
                  <a:lnTo>
                    <a:pt x="3540" y="253"/>
                  </a:lnTo>
                  <a:lnTo>
                    <a:pt x="3531" y="250"/>
                  </a:lnTo>
                  <a:lnTo>
                    <a:pt x="3522" y="244"/>
                  </a:lnTo>
                  <a:lnTo>
                    <a:pt x="3510" y="236"/>
                  </a:lnTo>
                  <a:lnTo>
                    <a:pt x="3502" y="233"/>
                  </a:lnTo>
                  <a:lnTo>
                    <a:pt x="3493" y="227"/>
                  </a:lnTo>
                  <a:lnTo>
                    <a:pt x="3484" y="224"/>
                  </a:lnTo>
                  <a:lnTo>
                    <a:pt x="3475" y="219"/>
                  </a:lnTo>
                  <a:lnTo>
                    <a:pt x="3467" y="213"/>
                  </a:lnTo>
                  <a:lnTo>
                    <a:pt x="3458" y="207"/>
                  </a:lnTo>
                  <a:lnTo>
                    <a:pt x="3449" y="198"/>
                  </a:lnTo>
                  <a:lnTo>
                    <a:pt x="3441" y="193"/>
                  </a:lnTo>
                  <a:lnTo>
                    <a:pt x="3432" y="187"/>
                  </a:lnTo>
                  <a:lnTo>
                    <a:pt x="3423" y="184"/>
                  </a:lnTo>
                  <a:lnTo>
                    <a:pt x="3414" y="178"/>
                  </a:lnTo>
                  <a:lnTo>
                    <a:pt x="3406" y="172"/>
                  </a:lnTo>
                  <a:lnTo>
                    <a:pt x="3400" y="164"/>
                  </a:lnTo>
                  <a:lnTo>
                    <a:pt x="3397" y="155"/>
                  </a:lnTo>
                  <a:lnTo>
                    <a:pt x="3394" y="146"/>
                  </a:lnTo>
                  <a:lnTo>
                    <a:pt x="3388" y="138"/>
                  </a:lnTo>
                  <a:lnTo>
                    <a:pt x="3382" y="129"/>
                  </a:lnTo>
                  <a:lnTo>
                    <a:pt x="3388" y="121"/>
                  </a:lnTo>
                  <a:lnTo>
                    <a:pt x="3379" y="121"/>
                  </a:lnTo>
                  <a:lnTo>
                    <a:pt x="3371" y="121"/>
                  </a:lnTo>
                  <a:lnTo>
                    <a:pt x="3362" y="121"/>
                  </a:lnTo>
                  <a:lnTo>
                    <a:pt x="3359" y="129"/>
                  </a:lnTo>
                  <a:lnTo>
                    <a:pt x="3353" y="138"/>
                  </a:lnTo>
                  <a:lnTo>
                    <a:pt x="3347" y="146"/>
                  </a:lnTo>
                  <a:lnTo>
                    <a:pt x="3339" y="152"/>
                  </a:lnTo>
                  <a:lnTo>
                    <a:pt x="3327" y="158"/>
                  </a:lnTo>
                  <a:lnTo>
                    <a:pt x="3318" y="158"/>
                  </a:lnTo>
                  <a:lnTo>
                    <a:pt x="3310" y="167"/>
                  </a:lnTo>
                  <a:lnTo>
                    <a:pt x="3307" y="175"/>
                  </a:lnTo>
                  <a:lnTo>
                    <a:pt x="3307" y="184"/>
                  </a:lnTo>
                  <a:lnTo>
                    <a:pt x="3304" y="193"/>
                  </a:lnTo>
                  <a:lnTo>
                    <a:pt x="3295" y="195"/>
                  </a:lnTo>
                  <a:lnTo>
                    <a:pt x="3295" y="204"/>
                  </a:lnTo>
                  <a:lnTo>
                    <a:pt x="3298" y="213"/>
                  </a:lnTo>
                  <a:lnTo>
                    <a:pt x="3304" y="221"/>
                  </a:lnTo>
                  <a:lnTo>
                    <a:pt x="3310" y="230"/>
                  </a:lnTo>
                  <a:lnTo>
                    <a:pt x="3315" y="239"/>
                  </a:lnTo>
                  <a:lnTo>
                    <a:pt x="3318" y="250"/>
                  </a:lnTo>
                  <a:lnTo>
                    <a:pt x="3321" y="259"/>
                  </a:lnTo>
                  <a:lnTo>
                    <a:pt x="3321" y="247"/>
                  </a:lnTo>
                  <a:lnTo>
                    <a:pt x="3318" y="239"/>
                  </a:lnTo>
                  <a:lnTo>
                    <a:pt x="3315" y="230"/>
                  </a:lnTo>
                  <a:lnTo>
                    <a:pt x="3307" y="224"/>
                  </a:lnTo>
                  <a:lnTo>
                    <a:pt x="3298" y="216"/>
                  </a:lnTo>
                  <a:lnTo>
                    <a:pt x="3292" y="207"/>
                  </a:lnTo>
                  <a:lnTo>
                    <a:pt x="3292" y="198"/>
                  </a:lnTo>
                  <a:lnTo>
                    <a:pt x="3295" y="190"/>
                  </a:lnTo>
                  <a:lnTo>
                    <a:pt x="3292" y="181"/>
                  </a:lnTo>
                  <a:lnTo>
                    <a:pt x="3283" y="172"/>
                  </a:lnTo>
                  <a:lnTo>
                    <a:pt x="3275" y="170"/>
                  </a:lnTo>
                  <a:lnTo>
                    <a:pt x="3266" y="164"/>
                  </a:lnTo>
                  <a:lnTo>
                    <a:pt x="3257" y="161"/>
                  </a:lnTo>
                  <a:lnTo>
                    <a:pt x="3245" y="155"/>
                  </a:lnTo>
                  <a:lnTo>
                    <a:pt x="3237" y="155"/>
                  </a:lnTo>
                  <a:lnTo>
                    <a:pt x="3228" y="155"/>
                  </a:lnTo>
                  <a:lnTo>
                    <a:pt x="3219" y="155"/>
                  </a:lnTo>
                  <a:lnTo>
                    <a:pt x="3213" y="164"/>
                  </a:lnTo>
                  <a:lnTo>
                    <a:pt x="3208" y="172"/>
                  </a:lnTo>
                  <a:lnTo>
                    <a:pt x="3196" y="175"/>
                  </a:lnTo>
                  <a:lnTo>
                    <a:pt x="3184" y="175"/>
                  </a:lnTo>
                  <a:lnTo>
                    <a:pt x="3173" y="175"/>
                  </a:lnTo>
                  <a:lnTo>
                    <a:pt x="3167" y="167"/>
                  </a:lnTo>
                  <a:lnTo>
                    <a:pt x="3179" y="161"/>
                  </a:lnTo>
                  <a:lnTo>
                    <a:pt x="3187" y="161"/>
                  </a:lnTo>
                  <a:lnTo>
                    <a:pt x="3196" y="161"/>
                  </a:lnTo>
                  <a:lnTo>
                    <a:pt x="3205" y="155"/>
                  </a:lnTo>
                  <a:lnTo>
                    <a:pt x="3208" y="146"/>
                  </a:lnTo>
                  <a:lnTo>
                    <a:pt x="3208" y="138"/>
                  </a:lnTo>
                  <a:lnTo>
                    <a:pt x="3205" y="129"/>
                  </a:lnTo>
                  <a:lnTo>
                    <a:pt x="3199" y="121"/>
                  </a:lnTo>
                  <a:lnTo>
                    <a:pt x="3190" y="112"/>
                  </a:lnTo>
                  <a:lnTo>
                    <a:pt x="3184" y="103"/>
                  </a:lnTo>
                  <a:lnTo>
                    <a:pt x="3193" y="97"/>
                  </a:lnTo>
                  <a:lnTo>
                    <a:pt x="3202" y="92"/>
                  </a:lnTo>
                  <a:lnTo>
                    <a:pt x="3205" y="83"/>
                  </a:lnTo>
                  <a:lnTo>
                    <a:pt x="3208" y="74"/>
                  </a:lnTo>
                  <a:lnTo>
                    <a:pt x="3208" y="66"/>
                  </a:lnTo>
                  <a:lnTo>
                    <a:pt x="3202" y="57"/>
                  </a:lnTo>
                  <a:lnTo>
                    <a:pt x="3199" y="48"/>
                  </a:lnTo>
                  <a:lnTo>
                    <a:pt x="3199" y="40"/>
                  </a:lnTo>
                  <a:lnTo>
                    <a:pt x="3199" y="31"/>
                  </a:lnTo>
                  <a:lnTo>
                    <a:pt x="3196" y="23"/>
                  </a:lnTo>
                  <a:lnTo>
                    <a:pt x="3190" y="14"/>
                  </a:lnTo>
                  <a:lnTo>
                    <a:pt x="3184" y="5"/>
                  </a:lnTo>
                  <a:lnTo>
                    <a:pt x="3176" y="0"/>
                  </a:lnTo>
                  <a:lnTo>
                    <a:pt x="3167" y="2"/>
                  </a:lnTo>
                  <a:lnTo>
                    <a:pt x="3158" y="8"/>
                  </a:lnTo>
                  <a:lnTo>
                    <a:pt x="3149" y="14"/>
                  </a:lnTo>
                  <a:lnTo>
                    <a:pt x="3141" y="17"/>
                  </a:lnTo>
                  <a:lnTo>
                    <a:pt x="3132" y="23"/>
                  </a:lnTo>
                  <a:lnTo>
                    <a:pt x="3132" y="31"/>
                  </a:lnTo>
                  <a:lnTo>
                    <a:pt x="3123" y="25"/>
                  </a:lnTo>
                  <a:lnTo>
                    <a:pt x="3114" y="17"/>
                  </a:lnTo>
                  <a:lnTo>
                    <a:pt x="3106" y="14"/>
                  </a:lnTo>
                  <a:lnTo>
                    <a:pt x="3097" y="14"/>
                  </a:lnTo>
                  <a:lnTo>
                    <a:pt x="3088" y="14"/>
                  </a:lnTo>
                  <a:lnTo>
                    <a:pt x="3080" y="14"/>
                  </a:lnTo>
                  <a:lnTo>
                    <a:pt x="3071" y="14"/>
                  </a:lnTo>
                  <a:lnTo>
                    <a:pt x="3071" y="23"/>
                  </a:lnTo>
                  <a:lnTo>
                    <a:pt x="3071" y="31"/>
                  </a:lnTo>
                  <a:lnTo>
                    <a:pt x="3071" y="40"/>
                  </a:lnTo>
                  <a:lnTo>
                    <a:pt x="3068" y="48"/>
                  </a:lnTo>
                  <a:lnTo>
                    <a:pt x="3062" y="57"/>
                  </a:lnTo>
                  <a:lnTo>
                    <a:pt x="3059" y="66"/>
                  </a:lnTo>
                  <a:lnTo>
                    <a:pt x="3059" y="74"/>
                  </a:lnTo>
                  <a:lnTo>
                    <a:pt x="3059" y="83"/>
                  </a:lnTo>
                  <a:lnTo>
                    <a:pt x="3068" y="89"/>
                  </a:lnTo>
                  <a:lnTo>
                    <a:pt x="3077" y="92"/>
                  </a:lnTo>
                  <a:lnTo>
                    <a:pt x="3085" y="97"/>
                  </a:lnTo>
                  <a:lnTo>
                    <a:pt x="3097" y="103"/>
                  </a:lnTo>
                  <a:lnTo>
                    <a:pt x="3106" y="103"/>
                  </a:lnTo>
                  <a:lnTo>
                    <a:pt x="3114" y="103"/>
                  </a:lnTo>
                  <a:lnTo>
                    <a:pt x="3114" y="95"/>
                  </a:lnTo>
                  <a:lnTo>
                    <a:pt x="3123" y="95"/>
                  </a:lnTo>
                  <a:lnTo>
                    <a:pt x="3114" y="103"/>
                  </a:lnTo>
                  <a:lnTo>
                    <a:pt x="3106" y="103"/>
                  </a:lnTo>
                  <a:lnTo>
                    <a:pt x="3097" y="103"/>
                  </a:lnTo>
                  <a:lnTo>
                    <a:pt x="3088" y="109"/>
                  </a:lnTo>
                  <a:lnTo>
                    <a:pt x="3085" y="118"/>
                  </a:lnTo>
                  <a:lnTo>
                    <a:pt x="3085" y="126"/>
                  </a:lnTo>
                  <a:lnTo>
                    <a:pt x="3080" y="135"/>
                  </a:lnTo>
                  <a:lnTo>
                    <a:pt x="3088" y="138"/>
                  </a:lnTo>
                  <a:lnTo>
                    <a:pt x="3082" y="146"/>
                  </a:lnTo>
                  <a:lnTo>
                    <a:pt x="3080" y="155"/>
                  </a:lnTo>
                  <a:lnTo>
                    <a:pt x="3074" y="164"/>
                  </a:lnTo>
                  <a:lnTo>
                    <a:pt x="3074" y="172"/>
                  </a:lnTo>
                  <a:lnTo>
                    <a:pt x="3074" y="181"/>
                  </a:lnTo>
                  <a:lnTo>
                    <a:pt x="3074" y="190"/>
                  </a:lnTo>
                  <a:lnTo>
                    <a:pt x="3085" y="190"/>
                  </a:lnTo>
                  <a:lnTo>
                    <a:pt x="3094" y="190"/>
                  </a:lnTo>
                  <a:lnTo>
                    <a:pt x="3088" y="198"/>
                  </a:lnTo>
                  <a:lnTo>
                    <a:pt x="3080" y="204"/>
                  </a:lnTo>
                  <a:lnTo>
                    <a:pt x="3074" y="213"/>
                  </a:lnTo>
                  <a:lnTo>
                    <a:pt x="3071" y="221"/>
                  </a:lnTo>
                  <a:lnTo>
                    <a:pt x="3071" y="230"/>
                  </a:lnTo>
                  <a:lnTo>
                    <a:pt x="3071" y="239"/>
                  </a:lnTo>
                  <a:lnTo>
                    <a:pt x="3068" y="247"/>
                  </a:lnTo>
                  <a:lnTo>
                    <a:pt x="3062" y="256"/>
                  </a:lnTo>
                  <a:lnTo>
                    <a:pt x="3059" y="265"/>
                  </a:lnTo>
                  <a:lnTo>
                    <a:pt x="3059" y="273"/>
                  </a:lnTo>
                  <a:lnTo>
                    <a:pt x="3059" y="282"/>
                  </a:lnTo>
                  <a:lnTo>
                    <a:pt x="3059" y="291"/>
                  </a:lnTo>
                  <a:lnTo>
                    <a:pt x="3059" y="299"/>
                  </a:lnTo>
                  <a:lnTo>
                    <a:pt x="3059" y="311"/>
                  </a:lnTo>
                  <a:lnTo>
                    <a:pt x="3065" y="319"/>
                  </a:lnTo>
                  <a:lnTo>
                    <a:pt x="3074" y="325"/>
                  </a:lnTo>
                  <a:lnTo>
                    <a:pt x="3082" y="328"/>
                  </a:lnTo>
                  <a:lnTo>
                    <a:pt x="3082" y="337"/>
                  </a:lnTo>
                  <a:lnTo>
                    <a:pt x="3082" y="345"/>
                  </a:lnTo>
                  <a:lnTo>
                    <a:pt x="3085" y="354"/>
                  </a:lnTo>
                  <a:lnTo>
                    <a:pt x="3085" y="363"/>
                  </a:lnTo>
                  <a:lnTo>
                    <a:pt x="3088" y="371"/>
                  </a:lnTo>
                  <a:lnTo>
                    <a:pt x="3088" y="380"/>
                  </a:lnTo>
                  <a:lnTo>
                    <a:pt x="3091" y="389"/>
                  </a:lnTo>
                  <a:lnTo>
                    <a:pt x="3094" y="397"/>
                  </a:lnTo>
                  <a:lnTo>
                    <a:pt x="3097" y="406"/>
                  </a:lnTo>
                  <a:lnTo>
                    <a:pt x="3109" y="412"/>
                  </a:lnTo>
                  <a:lnTo>
                    <a:pt x="3117" y="412"/>
                  </a:lnTo>
                  <a:lnTo>
                    <a:pt x="3126" y="412"/>
                  </a:lnTo>
                  <a:lnTo>
                    <a:pt x="3135" y="412"/>
                  </a:lnTo>
                  <a:lnTo>
                    <a:pt x="3135" y="403"/>
                  </a:lnTo>
                  <a:lnTo>
                    <a:pt x="3138" y="394"/>
                  </a:lnTo>
                  <a:lnTo>
                    <a:pt x="3147" y="391"/>
                  </a:lnTo>
                  <a:lnTo>
                    <a:pt x="3155" y="391"/>
                  </a:lnTo>
                  <a:lnTo>
                    <a:pt x="3164" y="394"/>
                  </a:lnTo>
                  <a:lnTo>
                    <a:pt x="3167" y="403"/>
                  </a:lnTo>
                  <a:lnTo>
                    <a:pt x="3167" y="412"/>
                  </a:lnTo>
                  <a:lnTo>
                    <a:pt x="3164" y="420"/>
                  </a:lnTo>
                  <a:lnTo>
                    <a:pt x="3155" y="423"/>
                  </a:lnTo>
                  <a:lnTo>
                    <a:pt x="3152" y="432"/>
                  </a:lnTo>
                  <a:lnTo>
                    <a:pt x="3144" y="438"/>
                  </a:lnTo>
                  <a:lnTo>
                    <a:pt x="3138" y="429"/>
                  </a:lnTo>
                  <a:lnTo>
                    <a:pt x="3129" y="420"/>
                  </a:lnTo>
                  <a:lnTo>
                    <a:pt x="3120" y="420"/>
                  </a:lnTo>
                  <a:lnTo>
                    <a:pt x="3114" y="429"/>
                  </a:lnTo>
                  <a:lnTo>
                    <a:pt x="3114" y="438"/>
                  </a:lnTo>
                  <a:lnTo>
                    <a:pt x="3114" y="446"/>
                  </a:lnTo>
                  <a:lnTo>
                    <a:pt x="3123" y="452"/>
                  </a:lnTo>
                  <a:lnTo>
                    <a:pt x="3132" y="452"/>
                  </a:lnTo>
                  <a:lnTo>
                    <a:pt x="3141" y="452"/>
                  </a:lnTo>
                  <a:lnTo>
                    <a:pt x="3135" y="461"/>
                  </a:lnTo>
                  <a:lnTo>
                    <a:pt x="3138" y="469"/>
                  </a:lnTo>
                  <a:lnTo>
                    <a:pt x="3147" y="472"/>
                  </a:lnTo>
                  <a:lnTo>
                    <a:pt x="3147" y="463"/>
                  </a:lnTo>
                  <a:lnTo>
                    <a:pt x="3144" y="455"/>
                  </a:lnTo>
                  <a:lnTo>
                    <a:pt x="3144" y="466"/>
                  </a:lnTo>
                  <a:lnTo>
                    <a:pt x="3144" y="475"/>
                  </a:lnTo>
                  <a:lnTo>
                    <a:pt x="3144" y="484"/>
                  </a:lnTo>
                  <a:lnTo>
                    <a:pt x="3144" y="492"/>
                  </a:lnTo>
                  <a:lnTo>
                    <a:pt x="3144" y="501"/>
                  </a:lnTo>
                  <a:lnTo>
                    <a:pt x="3144" y="510"/>
                  </a:lnTo>
                  <a:lnTo>
                    <a:pt x="3152" y="518"/>
                  </a:lnTo>
                  <a:lnTo>
                    <a:pt x="3161" y="527"/>
                  </a:lnTo>
                  <a:lnTo>
                    <a:pt x="3167" y="538"/>
                  </a:lnTo>
                  <a:lnTo>
                    <a:pt x="3176" y="544"/>
                  </a:lnTo>
                  <a:lnTo>
                    <a:pt x="3184" y="550"/>
                  </a:lnTo>
                  <a:lnTo>
                    <a:pt x="3196" y="550"/>
                  </a:lnTo>
                  <a:lnTo>
                    <a:pt x="3205" y="550"/>
                  </a:lnTo>
                  <a:lnTo>
                    <a:pt x="3213" y="550"/>
                  </a:lnTo>
                  <a:lnTo>
                    <a:pt x="3205" y="550"/>
                  </a:lnTo>
                  <a:lnTo>
                    <a:pt x="3193" y="550"/>
                  </a:lnTo>
                  <a:lnTo>
                    <a:pt x="3184" y="553"/>
                  </a:lnTo>
                  <a:lnTo>
                    <a:pt x="3179" y="561"/>
                  </a:lnTo>
                  <a:lnTo>
                    <a:pt x="3176" y="570"/>
                  </a:lnTo>
                  <a:lnTo>
                    <a:pt x="3173" y="579"/>
                  </a:lnTo>
                  <a:lnTo>
                    <a:pt x="3164" y="582"/>
                  </a:lnTo>
                  <a:lnTo>
                    <a:pt x="3155" y="582"/>
                  </a:lnTo>
                  <a:lnTo>
                    <a:pt x="3147" y="582"/>
                  </a:lnTo>
                  <a:lnTo>
                    <a:pt x="3132" y="576"/>
                  </a:lnTo>
                  <a:lnTo>
                    <a:pt x="3120" y="576"/>
                  </a:lnTo>
                  <a:lnTo>
                    <a:pt x="3109" y="576"/>
                  </a:lnTo>
                  <a:lnTo>
                    <a:pt x="3103" y="585"/>
                  </a:lnTo>
                  <a:lnTo>
                    <a:pt x="3100" y="593"/>
                  </a:lnTo>
                  <a:lnTo>
                    <a:pt x="3100" y="602"/>
                  </a:lnTo>
                  <a:lnTo>
                    <a:pt x="3100" y="610"/>
                  </a:lnTo>
                  <a:lnTo>
                    <a:pt x="3100" y="619"/>
                  </a:lnTo>
                  <a:lnTo>
                    <a:pt x="3100" y="628"/>
                  </a:lnTo>
                  <a:lnTo>
                    <a:pt x="3103" y="636"/>
                  </a:lnTo>
                  <a:lnTo>
                    <a:pt x="3106" y="645"/>
                  </a:lnTo>
                  <a:lnTo>
                    <a:pt x="3112" y="654"/>
                  </a:lnTo>
                  <a:lnTo>
                    <a:pt x="3117" y="662"/>
                  </a:lnTo>
                  <a:lnTo>
                    <a:pt x="3120" y="671"/>
                  </a:lnTo>
                  <a:lnTo>
                    <a:pt x="3123" y="680"/>
                  </a:lnTo>
                  <a:lnTo>
                    <a:pt x="3123" y="688"/>
                  </a:lnTo>
                  <a:lnTo>
                    <a:pt x="3123" y="697"/>
                  </a:lnTo>
                  <a:lnTo>
                    <a:pt x="3123" y="706"/>
                  </a:lnTo>
                  <a:lnTo>
                    <a:pt x="3114" y="711"/>
                  </a:lnTo>
                  <a:lnTo>
                    <a:pt x="3106" y="720"/>
                  </a:lnTo>
                  <a:lnTo>
                    <a:pt x="3103" y="729"/>
                  </a:lnTo>
                  <a:lnTo>
                    <a:pt x="3103" y="737"/>
                  </a:lnTo>
                  <a:lnTo>
                    <a:pt x="3094" y="740"/>
                  </a:lnTo>
                  <a:lnTo>
                    <a:pt x="3085" y="743"/>
                  </a:lnTo>
                  <a:lnTo>
                    <a:pt x="3077" y="746"/>
                  </a:lnTo>
                  <a:lnTo>
                    <a:pt x="3068" y="746"/>
                  </a:lnTo>
                  <a:lnTo>
                    <a:pt x="3059" y="752"/>
                  </a:lnTo>
                  <a:lnTo>
                    <a:pt x="3050" y="760"/>
                  </a:lnTo>
                  <a:lnTo>
                    <a:pt x="3050" y="769"/>
                  </a:lnTo>
                  <a:lnTo>
                    <a:pt x="3050" y="778"/>
                  </a:lnTo>
                  <a:lnTo>
                    <a:pt x="3056" y="786"/>
                  </a:lnTo>
                  <a:lnTo>
                    <a:pt x="3065" y="789"/>
                  </a:lnTo>
                  <a:lnTo>
                    <a:pt x="3074" y="795"/>
                  </a:lnTo>
                  <a:lnTo>
                    <a:pt x="3074" y="804"/>
                  </a:lnTo>
                  <a:lnTo>
                    <a:pt x="3062" y="806"/>
                  </a:lnTo>
                  <a:lnTo>
                    <a:pt x="3050" y="806"/>
                  </a:lnTo>
                  <a:lnTo>
                    <a:pt x="3053" y="798"/>
                  </a:lnTo>
                  <a:lnTo>
                    <a:pt x="3045" y="792"/>
                  </a:lnTo>
                  <a:lnTo>
                    <a:pt x="3036" y="798"/>
                  </a:lnTo>
                  <a:lnTo>
                    <a:pt x="3036" y="809"/>
                  </a:lnTo>
                  <a:lnTo>
                    <a:pt x="3036" y="818"/>
                  </a:lnTo>
                  <a:lnTo>
                    <a:pt x="3033" y="827"/>
                  </a:lnTo>
                  <a:lnTo>
                    <a:pt x="3030" y="835"/>
                  </a:lnTo>
                  <a:lnTo>
                    <a:pt x="3024" y="844"/>
                  </a:lnTo>
                  <a:lnTo>
                    <a:pt x="3016" y="853"/>
                  </a:lnTo>
                  <a:lnTo>
                    <a:pt x="3013" y="861"/>
                  </a:lnTo>
                  <a:lnTo>
                    <a:pt x="3021" y="864"/>
                  </a:lnTo>
                  <a:lnTo>
                    <a:pt x="3030" y="864"/>
                  </a:lnTo>
                  <a:lnTo>
                    <a:pt x="3033" y="873"/>
                  </a:lnTo>
                  <a:lnTo>
                    <a:pt x="3033" y="881"/>
                  </a:lnTo>
                  <a:lnTo>
                    <a:pt x="3042" y="890"/>
                  </a:lnTo>
                  <a:lnTo>
                    <a:pt x="3050" y="893"/>
                  </a:lnTo>
                  <a:lnTo>
                    <a:pt x="3062" y="893"/>
                  </a:lnTo>
                  <a:lnTo>
                    <a:pt x="3071" y="887"/>
                  </a:lnTo>
                  <a:lnTo>
                    <a:pt x="3080" y="887"/>
                  </a:lnTo>
                  <a:lnTo>
                    <a:pt x="3088" y="887"/>
                  </a:lnTo>
                  <a:lnTo>
                    <a:pt x="3085" y="896"/>
                  </a:lnTo>
                  <a:lnTo>
                    <a:pt x="3082" y="904"/>
                  </a:lnTo>
                  <a:lnTo>
                    <a:pt x="3080" y="913"/>
                  </a:lnTo>
                  <a:lnTo>
                    <a:pt x="3088" y="919"/>
                  </a:lnTo>
                  <a:lnTo>
                    <a:pt x="3088" y="927"/>
                  </a:lnTo>
                  <a:lnTo>
                    <a:pt x="3080" y="933"/>
                  </a:lnTo>
                  <a:lnTo>
                    <a:pt x="3077" y="942"/>
                  </a:lnTo>
                  <a:lnTo>
                    <a:pt x="3077" y="950"/>
                  </a:lnTo>
                  <a:lnTo>
                    <a:pt x="3074" y="959"/>
                  </a:lnTo>
                  <a:lnTo>
                    <a:pt x="3074" y="968"/>
                  </a:lnTo>
                  <a:lnTo>
                    <a:pt x="3077" y="959"/>
                  </a:lnTo>
                  <a:lnTo>
                    <a:pt x="3065" y="942"/>
                  </a:lnTo>
                  <a:lnTo>
                    <a:pt x="3071" y="962"/>
                  </a:lnTo>
                  <a:lnTo>
                    <a:pt x="3062" y="962"/>
                  </a:lnTo>
                  <a:lnTo>
                    <a:pt x="3074" y="968"/>
                  </a:lnTo>
                  <a:lnTo>
                    <a:pt x="3074" y="976"/>
                  </a:lnTo>
                  <a:lnTo>
                    <a:pt x="3059" y="976"/>
                  </a:lnTo>
                  <a:lnTo>
                    <a:pt x="3050" y="979"/>
                  </a:lnTo>
                  <a:lnTo>
                    <a:pt x="3039" y="979"/>
                  </a:lnTo>
                  <a:lnTo>
                    <a:pt x="3039" y="988"/>
                  </a:lnTo>
                  <a:lnTo>
                    <a:pt x="3048" y="991"/>
                  </a:lnTo>
                  <a:lnTo>
                    <a:pt x="3056" y="991"/>
                  </a:lnTo>
                  <a:lnTo>
                    <a:pt x="3065" y="997"/>
                  </a:lnTo>
                  <a:lnTo>
                    <a:pt x="3074" y="1005"/>
                  </a:lnTo>
                  <a:lnTo>
                    <a:pt x="3077" y="1014"/>
                  </a:lnTo>
                  <a:lnTo>
                    <a:pt x="3082" y="1023"/>
                  </a:lnTo>
                  <a:lnTo>
                    <a:pt x="3088" y="1031"/>
                  </a:lnTo>
                  <a:lnTo>
                    <a:pt x="3080" y="1034"/>
                  </a:lnTo>
                  <a:lnTo>
                    <a:pt x="3071" y="1034"/>
                  </a:lnTo>
                  <a:lnTo>
                    <a:pt x="3062" y="1040"/>
                  </a:lnTo>
                  <a:lnTo>
                    <a:pt x="3050" y="1043"/>
                  </a:lnTo>
                  <a:lnTo>
                    <a:pt x="3039" y="1046"/>
                  </a:lnTo>
                  <a:lnTo>
                    <a:pt x="3030" y="1046"/>
                  </a:lnTo>
                  <a:lnTo>
                    <a:pt x="3018" y="1046"/>
                  </a:lnTo>
                  <a:lnTo>
                    <a:pt x="3010" y="1037"/>
                  </a:lnTo>
                  <a:lnTo>
                    <a:pt x="3007" y="1028"/>
                  </a:lnTo>
                  <a:lnTo>
                    <a:pt x="3010" y="1020"/>
                  </a:lnTo>
                  <a:lnTo>
                    <a:pt x="3013" y="1011"/>
                  </a:lnTo>
                  <a:lnTo>
                    <a:pt x="3004" y="1011"/>
                  </a:lnTo>
                  <a:lnTo>
                    <a:pt x="2992" y="1008"/>
                  </a:lnTo>
                  <a:lnTo>
                    <a:pt x="2983" y="1008"/>
                  </a:lnTo>
                  <a:lnTo>
                    <a:pt x="2978" y="1017"/>
                  </a:lnTo>
                  <a:lnTo>
                    <a:pt x="2978" y="1025"/>
                  </a:lnTo>
                  <a:lnTo>
                    <a:pt x="2983" y="1034"/>
                  </a:lnTo>
                  <a:lnTo>
                    <a:pt x="2989" y="1043"/>
                  </a:lnTo>
                  <a:lnTo>
                    <a:pt x="2992" y="1051"/>
                  </a:lnTo>
                  <a:lnTo>
                    <a:pt x="3001" y="1054"/>
                  </a:lnTo>
                  <a:lnTo>
                    <a:pt x="3010" y="1060"/>
                  </a:lnTo>
                  <a:lnTo>
                    <a:pt x="3018" y="1063"/>
                  </a:lnTo>
                  <a:lnTo>
                    <a:pt x="3027" y="1063"/>
                  </a:lnTo>
                  <a:lnTo>
                    <a:pt x="3036" y="1060"/>
                  </a:lnTo>
                  <a:lnTo>
                    <a:pt x="3027" y="1060"/>
                  </a:lnTo>
                  <a:lnTo>
                    <a:pt x="3018" y="1057"/>
                  </a:lnTo>
                  <a:lnTo>
                    <a:pt x="3010" y="1054"/>
                  </a:lnTo>
                  <a:lnTo>
                    <a:pt x="3004" y="1046"/>
                  </a:lnTo>
                  <a:lnTo>
                    <a:pt x="2995" y="1040"/>
                  </a:lnTo>
                  <a:lnTo>
                    <a:pt x="2992" y="1031"/>
                  </a:lnTo>
                  <a:lnTo>
                    <a:pt x="2983" y="1023"/>
                  </a:lnTo>
                  <a:lnTo>
                    <a:pt x="2978" y="1014"/>
                  </a:lnTo>
                  <a:lnTo>
                    <a:pt x="2969" y="1005"/>
                  </a:lnTo>
                  <a:lnTo>
                    <a:pt x="2966" y="1014"/>
                  </a:lnTo>
                  <a:lnTo>
                    <a:pt x="2954" y="1023"/>
                  </a:lnTo>
                  <a:lnTo>
                    <a:pt x="2946" y="1023"/>
                  </a:lnTo>
                  <a:lnTo>
                    <a:pt x="2943" y="1034"/>
                  </a:lnTo>
                  <a:lnTo>
                    <a:pt x="2943" y="1043"/>
                  </a:lnTo>
                  <a:lnTo>
                    <a:pt x="2951" y="1051"/>
                  </a:lnTo>
                  <a:lnTo>
                    <a:pt x="2963" y="1051"/>
                  </a:lnTo>
                  <a:lnTo>
                    <a:pt x="2975" y="1054"/>
                  </a:lnTo>
                  <a:lnTo>
                    <a:pt x="2963" y="1051"/>
                  </a:lnTo>
                  <a:lnTo>
                    <a:pt x="2951" y="1046"/>
                  </a:lnTo>
                  <a:lnTo>
                    <a:pt x="2943" y="1043"/>
                  </a:lnTo>
                  <a:lnTo>
                    <a:pt x="2934" y="1051"/>
                  </a:lnTo>
                  <a:lnTo>
                    <a:pt x="2928" y="1060"/>
                  </a:lnTo>
                  <a:lnTo>
                    <a:pt x="2919" y="1060"/>
                  </a:lnTo>
                  <a:lnTo>
                    <a:pt x="2919" y="1069"/>
                  </a:lnTo>
                  <a:lnTo>
                    <a:pt x="2931" y="1077"/>
                  </a:lnTo>
                  <a:lnTo>
                    <a:pt x="2943" y="1086"/>
                  </a:lnTo>
                  <a:lnTo>
                    <a:pt x="2951" y="1089"/>
                  </a:lnTo>
                  <a:lnTo>
                    <a:pt x="2960" y="1089"/>
                  </a:lnTo>
                  <a:lnTo>
                    <a:pt x="2969" y="1089"/>
                  </a:lnTo>
                  <a:lnTo>
                    <a:pt x="2972" y="1080"/>
                  </a:lnTo>
                  <a:lnTo>
                    <a:pt x="2975" y="1072"/>
                  </a:lnTo>
                  <a:lnTo>
                    <a:pt x="2975" y="1063"/>
                  </a:lnTo>
                  <a:lnTo>
                    <a:pt x="2978" y="1054"/>
                  </a:lnTo>
                  <a:lnTo>
                    <a:pt x="2981" y="1063"/>
                  </a:lnTo>
                  <a:lnTo>
                    <a:pt x="2981" y="1072"/>
                  </a:lnTo>
                  <a:lnTo>
                    <a:pt x="2975" y="1080"/>
                  </a:lnTo>
                  <a:lnTo>
                    <a:pt x="2969" y="1089"/>
                  </a:lnTo>
                  <a:lnTo>
                    <a:pt x="2957" y="1089"/>
                  </a:lnTo>
                  <a:lnTo>
                    <a:pt x="2949" y="1089"/>
                  </a:lnTo>
                  <a:lnTo>
                    <a:pt x="2940" y="1097"/>
                  </a:lnTo>
                  <a:lnTo>
                    <a:pt x="2937" y="1106"/>
                  </a:lnTo>
                  <a:lnTo>
                    <a:pt x="2934" y="1115"/>
                  </a:lnTo>
                  <a:lnTo>
                    <a:pt x="2934" y="1123"/>
                  </a:lnTo>
                  <a:lnTo>
                    <a:pt x="2925" y="1129"/>
                  </a:lnTo>
                  <a:lnTo>
                    <a:pt x="2917" y="1135"/>
                  </a:lnTo>
                  <a:lnTo>
                    <a:pt x="2908" y="1138"/>
                  </a:lnTo>
                  <a:lnTo>
                    <a:pt x="2899" y="1138"/>
                  </a:lnTo>
                  <a:lnTo>
                    <a:pt x="2893" y="1129"/>
                  </a:lnTo>
                  <a:lnTo>
                    <a:pt x="2884" y="1129"/>
                  </a:lnTo>
                  <a:lnTo>
                    <a:pt x="2876" y="1129"/>
                  </a:lnTo>
                  <a:lnTo>
                    <a:pt x="2867" y="1135"/>
                  </a:lnTo>
                  <a:lnTo>
                    <a:pt x="2864" y="1144"/>
                  </a:lnTo>
                  <a:lnTo>
                    <a:pt x="2861" y="1152"/>
                  </a:lnTo>
                  <a:lnTo>
                    <a:pt x="2861" y="1161"/>
                  </a:lnTo>
                  <a:lnTo>
                    <a:pt x="2858" y="1170"/>
                  </a:lnTo>
                  <a:lnTo>
                    <a:pt x="2852" y="1178"/>
                  </a:lnTo>
                  <a:lnTo>
                    <a:pt x="2844" y="1181"/>
                  </a:lnTo>
                  <a:lnTo>
                    <a:pt x="2835" y="1181"/>
                  </a:lnTo>
                  <a:lnTo>
                    <a:pt x="2826" y="1184"/>
                  </a:lnTo>
                  <a:lnTo>
                    <a:pt x="2818" y="1175"/>
                  </a:lnTo>
                  <a:lnTo>
                    <a:pt x="2809" y="1167"/>
                  </a:lnTo>
                  <a:lnTo>
                    <a:pt x="2806" y="1175"/>
                  </a:lnTo>
                  <a:lnTo>
                    <a:pt x="2806" y="1184"/>
                  </a:lnTo>
                  <a:lnTo>
                    <a:pt x="2806" y="1193"/>
                  </a:lnTo>
                  <a:lnTo>
                    <a:pt x="2806" y="1204"/>
                  </a:lnTo>
                  <a:lnTo>
                    <a:pt x="2806" y="1213"/>
                  </a:lnTo>
                  <a:lnTo>
                    <a:pt x="2815" y="1213"/>
                  </a:lnTo>
                  <a:lnTo>
                    <a:pt x="2823" y="1216"/>
                  </a:lnTo>
                  <a:lnTo>
                    <a:pt x="2826" y="1224"/>
                  </a:lnTo>
                  <a:lnTo>
                    <a:pt x="2826" y="1233"/>
                  </a:lnTo>
                  <a:lnTo>
                    <a:pt x="2826" y="1242"/>
                  </a:lnTo>
                  <a:lnTo>
                    <a:pt x="2823" y="1250"/>
                  </a:lnTo>
                  <a:lnTo>
                    <a:pt x="2815" y="1253"/>
                  </a:lnTo>
                  <a:lnTo>
                    <a:pt x="2809" y="1262"/>
                  </a:lnTo>
                  <a:lnTo>
                    <a:pt x="2809" y="1270"/>
                  </a:lnTo>
                  <a:lnTo>
                    <a:pt x="2809" y="1279"/>
                  </a:lnTo>
                  <a:lnTo>
                    <a:pt x="2809" y="1288"/>
                  </a:lnTo>
                  <a:lnTo>
                    <a:pt x="2809" y="1279"/>
                  </a:lnTo>
                  <a:lnTo>
                    <a:pt x="2806" y="1270"/>
                  </a:lnTo>
                  <a:lnTo>
                    <a:pt x="2806" y="1262"/>
                  </a:lnTo>
                  <a:lnTo>
                    <a:pt x="2800" y="1253"/>
                  </a:lnTo>
                  <a:lnTo>
                    <a:pt x="2797" y="1244"/>
                  </a:lnTo>
                  <a:lnTo>
                    <a:pt x="2794" y="1236"/>
                  </a:lnTo>
                  <a:lnTo>
                    <a:pt x="2794" y="1227"/>
                  </a:lnTo>
                  <a:lnTo>
                    <a:pt x="2794" y="1218"/>
                  </a:lnTo>
                  <a:lnTo>
                    <a:pt x="2800" y="1210"/>
                  </a:lnTo>
                  <a:lnTo>
                    <a:pt x="2803" y="1201"/>
                  </a:lnTo>
                  <a:lnTo>
                    <a:pt x="2800" y="1193"/>
                  </a:lnTo>
                  <a:lnTo>
                    <a:pt x="2791" y="1187"/>
                  </a:lnTo>
                  <a:lnTo>
                    <a:pt x="2788" y="1178"/>
                  </a:lnTo>
                  <a:lnTo>
                    <a:pt x="2788" y="1170"/>
                  </a:lnTo>
                  <a:lnTo>
                    <a:pt x="2788" y="1161"/>
                  </a:lnTo>
                  <a:lnTo>
                    <a:pt x="2788" y="1152"/>
                  </a:lnTo>
                  <a:lnTo>
                    <a:pt x="2786" y="1144"/>
                  </a:lnTo>
                  <a:lnTo>
                    <a:pt x="2786" y="1135"/>
                  </a:lnTo>
                  <a:lnTo>
                    <a:pt x="2780" y="1126"/>
                  </a:lnTo>
                  <a:lnTo>
                    <a:pt x="2768" y="1121"/>
                  </a:lnTo>
                  <a:lnTo>
                    <a:pt x="2759" y="1115"/>
                  </a:lnTo>
                  <a:lnTo>
                    <a:pt x="2748" y="1112"/>
                  </a:lnTo>
                  <a:lnTo>
                    <a:pt x="2736" y="1109"/>
                  </a:lnTo>
                  <a:lnTo>
                    <a:pt x="2724" y="1106"/>
                  </a:lnTo>
                  <a:lnTo>
                    <a:pt x="2716" y="1106"/>
                  </a:lnTo>
                  <a:lnTo>
                    <a:pt x="2710" y="1115"/>
                  </a:lnTo>
                  <a:lnTo>
                    <a:pt x="2704" y="1123"/>
                  </a:lnTo>
                  <a:lnTo>
                    <a:pt x="2698" y="1132"/>
                  </a:lnTo>
                  <a:lnTo>
                    <a:pt x="2692" y="1126"/>
                  </a:lnTo>
                  <a:lnTo>
                    <a:pt x="2695" y="1112"/>
                  </a:lnTo>
                  <a:lnTo>
                    <a:pt x="2695" y="1121"/>
                  </a:lnTo>
                  <a:lnTo>
                    <a:pt x="2692" y="1129"/>
                  </a:lnTo>
                  <a:lnTo>
                    <a:pt x="2692" y="1138"/>
                  </a:lnTo>
                  <a:lnTo>
                    <a:pt x="2687" y="1146"/>
                  </a:lnTo>
                  <a:lnTo>
                    <a:pt x="2687" y="1155"/>
                  </a:lnTo>
                  <a:lnTo>
                    <a:pt x="2687" y="1164"/>
                  </a:lnTo>
                  <a:lnTo>
                    <a:pt x="2678" y="1167"/>
                  </a:lnTo>
                  <a:lnTo>
                    <a:pt x="2669" y="1167"/>
                  </a:lnTo>
                  <a:lnTo>
                    <a:pt x="2666" y="1158"/>
                  </a:lnTo>
                  <a:lnTo>
                    <a:pt x="2666" y="1149"/>
                  </a:lnTo>
                  <a:lnTo>
                    <a:pt x="2657" y="1146"/>
                  </a:lnTo>
                  <a:lnTo>
                    <a:pt x="2649" y="1152"/>
                  </a:lnTo>
                  <a:lnTo>
                    <a:pt x="2646" y="1141"/>
                  </a:lnTo>
                  <a:lnTo>
                    <a:pt x="2634" y="1135"/>
                  </a:lnTo>
                  <a:lnTo>
                    <a:pt x="2625" y="1135"/>
                  </a:lnTo>
                  <a:lnTo>
                    <a:pt x="2617" y="1135"/>
                  </a:lnTo>
                  <a:lnTo>
                    <a:pt x="2614" y="1144"/>
                  </a:lnTo>
                  <a:lnTo>
                    <a:pt x="2614" y="1152"/>
                  </a:lnTo>
                  <a:lnTo>
                    <a:pt x="2614" y="1161"/>
                  </a:lnTo>
                  <a:lnTo>
                    <a:pt x="2617" y="1170"/>
                  </a:lnTo>
                  <a:lnTo>
                    <a:pt x="2617" y="1178"/>
                  </a:lnTo>
                  <a:lnTo>
                    <a:pt x="2620" y="1187"/>
                  </a:lnTo>
                  <a:lnTo>
                    <a:pt x="2625" y="1195"/>
                  </a:lnTo>
                  <a:lnTo>
                    <a:pt x="2634" y="1201"/>
                  </a:lnTo>
                  <a:lnTo>
                    <a:pt x="2643" y="1201"/>
                  </a:lnTo>
                  <a:lnTo>
                    <a:pt x="2652" y="1201"/>
                  </a:lnTo>
                  <a:lnTo>
                    <a:pt x="2643" y="1201"/>
                  </a:lnTo>
                  <a:lnTo>
                    <a:pt x="2634" y="1207"/>
                  </a:lnTo>
                  <a:lnTo>
                    <a:pt x="2625" y="1216"/>
                  </a:lnTo>
                  <a:lnTo>
                    <a:pt x="2625" y="1224"/>
                  </a:lnTo>
                  <a:lnTo>
                    <a:pt x="2634" y="1224"/>
                  </a:lnTo>
                  <a:lnTo>
                    <a:pt x="2643" y="1230"/>
                  </a:lnTo>
                  <a:lnTo>
                    <a:pt x="2646" y="1242"/>
                  </a:lnTo>
                  <a:lnTo>
                    <a:pt x="2652" y="1253"/>
                  </a:lnTo>
                  <a:lnTo>
                    <a:pt x="2660" y="1259"/>
                  </a:lnTo>
                  <a:lnTo>
                    <a:pt x="2672" y="1265"/>
                  </a:lnTo>
                  <a:lnTo>
                    <a:pt x="2663" y="1262"/>
                  </a:lnTo>
                  <a:lnTo>
                    <a:pt x="2655" y="1256"/>
                  </a:lnTo>
                  <a:lnTo>
                    <a:pt x="2663" y="1250"/>
                  </a:lnTo>
                  <a:lnTo>
                    <a:pt x="2672" y="1250"/>
                  </a:lnTo>
                  <a:lnTo>
                    <a:pt x="2681" y="1253"/>
                  </a:lnTo>
                  <a:lnTo>
                    <a:pt x="2669" y="1256"/>
                  </a:lnTo>
                  <a:lnTo>
                    <a:pt x="2655" y="1256"/>
                  </a:lnTo>
                  <a:lnTo>
                    <a:pt x="2646" y="1247"/>
                  </a:lnTo>
                  <a:lnTo>
                    <a:pt x="2643" y="1236"/>
                  </a:lnTo>
                  <a:lnTo>
                    <a:pt x="2640" y="1227"/>
                  </a:lnTo>
                  <a:lnTo>
                    <a:pt x="2631" y="1227"/>
                  </a:lnTo>
                  <a:lnTo>
                    <a:pt x="2625" y="1236"/>
                  </a:lnTo>
                  <a:lnTo>
                    <a:pt x="2625" y="1247"/>
                  </a:lnTo>
                  <a:lnTo>
                    <a:pt x="2625" y="1259"/>
                  </a:lnTo>
                  <a:lnTo>
                    <a:pt x="2617" y="1259"/>
                  </a:lnTo>
                  <a:lnTo>
                    <a:pt x="2608" y="1256"/>
                  </a:lnTo>
                  <a:lnTo>
                    <a:pt x="2605" y="1247"/>
                  </a:lnTo>
                  <a:lnTo>
                    <a:pt x="2596" y="1253"/>
                  </a:lnTo>
                  <a:lnTo>
                    <a:pt x="2588" y="1262"/>
                  </a:lnTo>
                  <a:lnTo>
                    <a:pt x="2582" y="1270"/>
                  </a:lnTo>
                  <a:lnTo>
                    <a:pt x="2582" y="1279"/>
                  </a:lnTo>
                  <a:lnTo>
                    <a:pt x="2582" y="1288"/>
                  </a:lnTo>
                  <a:lnTo>
                    <a:pt x="2576" y="1296"/>
                  </a:lnTo>
                  <a:lnTo>
                    <a:pt x="2573" y="1305"/>
                  </a:lnTo>
                  <a:lnTo>
                    <a:pt x="2567" y="1314"/>
                  </a:lnTo>
                  <a:lnTo>
                    <a:pt x="2553" y="1311"/>
                  </a:lnTo>
                  <a:lnTo>
                    <a:pt x="2567" y="1305"/>
                  </a:lnTo>
                  <a:lnTo>
                    <a:pt x="2561" y="1314"/>
                  </a:lnTo>
                  <a:lnTo>
                    <a:pt x="2558" y="1322"/>
                  </a:lnTo>
                  <a:lnTo>
                    <a:pt x="2558" y="1331"/>
                  </a:lnTo>
                  <a:lnTo>
                    <a:pt x="2558" y="1340"/>
                  </a:lnTo>
                  <a:lnTo>
                    <a:pt x="2558" y="1348"/>
                  </a:lnTo>
                  <a:lnTo>
                    <a:pt x="2558" y="1360"/>
                  </a:lnTo>
                  <a:lnTo>
                    <a:pt x="2558" y="1368"/>
                  </a:lnTo>
                  <a:lnTo>
                    <a:pt x="2550" y="1380"/>
                  </a:lnTo>
                  <a:lnTo>
                    <a:pt x="2547" y="1389"/>
                  </a:lnTo>
                  <a:lnTo>
                    <a:pt x="2544" y="1397"/>
                  </a:lnTo>
                  <a:lnTo>
                    <a:pt x="2538" y="1406"/>
                  </a:lnTo>
                  <a:lnTo>
                    <a:pt x="2529" y="1412"/>
                  </a:lnTo>
                  <a:lnTo>
                    <a:pt x="2538" y="1414"/>
                  </a:lnTo>
                  <a:lnTo>
                    <a:pt x="2547" y="1414"/>
                  </a:lnTo>
                  <a:lnTo>
                    <a:pt x="2553" y="1406"/>
                  </a:lnTo>
                  <a:lnTo>
                    <a:pt x="2553" y="1397"/>
                  </a:lnTo>
                  <a:lnTo>
                    <a:pt x="2561" y="1391"/>
                  </a:lnTo>
                  <a:lnTo>
                    <a:pt x="2567" y="1400"/>
                  </a:lnTo>
                  <a:lnTo>
                    <a:pt x="2567" y="1412"/>
                  </a:lnTo>
                  <a:lnTo>
                    <a:pt x="2570" y="1420"/>
                  </a:lnTo>
                  <a:lnTo>
                    <a:pt x="2579" y="1429"/>
                  </a:lnTo>
                  <a:lnTo>
                    <a:pt x="2588" y="1435"/>
                  </a:lnTo>
                  <a:lnTo>
                    <a:pt x="2599" y="1435"/>
                  </a:lnTo>
                  <a:lnTo>
                    <a:pt x="2593" y="1426"/>
                  </a:lnTo>
                  <a:lnTo>
                    <a:pt x="2585" y="1417"/>
                  </a:lnTo>
                  <a:lnTo>
                    <a:pt x="2582" y="1406"/>
                  </a:lnTo>
                  <a:lnTo>
                    <a:pt x="2579" y="1397"/>
                  </a:lnTo>
                  <a:lnTo>
                    <a:pt x="2573" y="1406"/>
                  </a:lnTo>
                  <a:lnTo>
                    <a:pt x="2570" y="1414"/>
                  </a:lnTo>
                  <a:lnTo>
                    <a:pt x="2561" y="1426"/>
                  </a:lnTo>
                  <a:lnTo>
                    <a:pt x="2553" y="1432"/>
                  </a:lnTo>
                  <a:lnTo>
                    <a:pt x="2544" y="1432"/>
                  </a:lnTo>
                  <a:lnTo>
                    <a:pt x="2535" y="1432"/>
                  </a:lnTo>
                  <a:lnTo>
                    <a:pt x="2526" y="1432"/>
                  </a:lnTo>
                  <a:lnTo>
                    <a:pt x="2515" y="1438"/>
                  </a:lnTo>
                  <a:lnTo>
                    <a:pt x="2506" y="1443"/>
                  </a:lnTo>
                  <a:lnTo>
                    <a:pt x="2503" y="1452"/>
                  </a:lnTo>
                  <a:lnTo>
                    <a:pt x="2509" y="1461"/>
                  </a:lnTo>
                  <a:lnTo>
                    <a:pt x="2515" y="1472"/>
                  </a:lnTo>
                  <a:lnTo>
                    <a:pt x="2521" y="1484"/>
                  </a:lnTo>
                  <a:lnTo>
                    <a:pt x="2529" y="1489"/>
                  </a:lnTo>
                  <a:lnTo>
                    <a:pt x="2538" y="1495"/>
                  </a:lnTo>
                  <a:lnTo>
                    <a:pt x="2544" y="1504"/>
                  </a:lnTo>
                  <a:lnTo>
                    <a:pt x="2553" y="1507"/>
                  </a:lnTo>
                  <a:lnTo>
                    <a:pt x="2561" y="1507"/>
                  </a:lnTo>
                  <a:lnTo>
                    <a:pt x="2570" y="1510"/>
                  </a:lnTo>
                  <a:lnTo>
                    <a:pt x="2576" y="1518"/>
                  </a:lnTo>
                  <a:lnTo>
                    <a:pt x="2585" y="1527"/>
                  </a:lnTo>
                  <a:lnTo>
                    <a:pt x="2588" y="1535"/>
                  </a:lnTo>
                  <a:lnTo>
                    <a:pt x="2588" y="1544"/>
                  </a:lnTo>
                  <a:lnTo>
                    <a:pt x="2588" y="1556"/>
                  </a:lnTo>
                  <a:lnTo>
                    <a:pt x="2590" y="1564"/>
                  </a:lnTo>
                  <a:lnTo>
                    <a:pt x="2599" y="1564"/>
                  </a:lnTo>
                  <a:lnTo>
                    <a:pt x="2614" y="1567"/>
                  </a:lnTo>
                  <a:lnTo>
                    <a:pt x="2617" y="1576"/>
                  </a:lnTo>
                  <a:lnTo>
                    <a:pt x="2617" y="1584"/>
                  </a:lnTo>
                  <a:lnTo>
                    <a:pt x="2608" y="1587"/>
                  </a:lnTo>
                  <a:lnTo>
                    <a:pt x="2596" y="1579"/>
                  </a:lnTo>
                  <a:lnTo>
                    <a:pt x="2588" y="1570"/>
                  </a:lnTo>
                  <a:lnTo>
                    <a:pt x="2582" y="1561"/>
                  </a:lnTo>
                  <a:lnTo>
                    <a:pt x="2582" y="1553"/>
                  </a:lnTo>
                  <a:lnTo>
                    <a:pt x="2582" y="1541"/>
                  </a:lnTo>
                  <a:lnTo>
                    <a:pt x="2579" y="1533"/>
                  </a:lnTo>
                  <a:lnTo>
                    <a:pt x="2573" y="1524"/>
                  </a:lnTo>
                  <a:lnTo>
                    <a:pt x="2564" y="1515"/>
                  </a:lnTo>
                  <a:lnTo>
                    <a:pt x="2556" y="1512"/>
                  </a:lnTo>
                  <a:lnTo>
                    <a:pt x="2550" y="1521"/>
                  </a:lnTo>
                  <a:lnTo>
                    <a:pt x="2541" y="1521"/>
                  </a:lnTo>
                  <a:lnTo>
                    <a:pt x="2532" y="1515"/>
                  </a:lnTo>
                  <a:lnTo>
                    <a:pt x="2524" y="1510"/>
                  </a:lnTo>
                  <a:lnTo>
                    <a:pt x="2515" y="1507"/>
                  </a:lnTo>
                  <a:lnTo>
                    <a:pt x="2506" y="1504"/>
                  </a:lnTo>
                  <a:lnTo>
                    <a:pt x="2497" y="1504"/>
                  </a:lnTo>
                  <a:lnTo>
                    <a:pt x="2489" y="1504"/>
                  </a:lnTo>
                  <a:lnTo>
                    <a:pt x="2486" y="1512"/>
                  </a:lnTo>
                  <a:lnTo>
                    <a:pt x="2486" y="1521"/>
                  </a:lnTo>
                  <a:lnTo>
                    <a:pt x="2491" y="1530"/>
                  </a:lnTo>
                  <a:lnTo>
                    <a:pt x="2486" y="1538"/>
                  </a:lnTo>
                  <a:lnTo>
                    <a:pt x="2477" y="1538"/>
                  </a:lnTo>
                  <a:lnTo>
                    <a:pt x="2474" y="1547"/>
                  </a:lnTo>
                  <a:lnTo>
                    <a:pt x="2489" y="1550"/>
                  </a:lnTo>
                  <a:lnTo>
                    <a:pt x="2497" y="1553"/>
                  </a:lnTo>
                  <a:lnTo>
                    <a:pt x="2506" y="1553"/>
                  </a:lnTo>
                  <a:lnTo>
                    <a:pt x="2515" y="1559"/>
                  </a:lnTo>
                  <a:lnTo>
                    <a:pt x="2521" y="1570"/>
                  </a:lnTo>
                  <a:lnTo>
                    <a:pt x="2529" y="1576"/>
                  </a:lnTo>
                  <a:lnTo>
                    <a:pt x="2521" y="1567"/>
                  </a:lnTo>
                  <a:lnTo>
                    <a:pt x="2509" y="1561"/>
                  </a:lnTo>
                  <a:lnTo>
                    <a:pt x="2500" y="1559"/>
                  </a:lnTo>
                  <a:lnTo>
                    <a:pt x="2491" y="1567"/>
                  </a:lnTo>
                  <a:lnTo>
                    <a:pt x="2483" y="1570"/>
                  </a:lnTo>
                  <a:lnTo>
                    <a:pt x="2474" y="1570"/>
                  </a:lnTo>
                  <a:lnTo>
                    <a:pt x="2471" y="1561"/>
                  </a:lnTo>
                  <a:lnTo>
                    <a:pt x="2471" y="1553"/>
                  </a:lnTo>
                  <a:lnTo>
                    <a:pt x="2465" y="1544"/>
                  </a:lnTo>
                  <a:lnTo>
                    <a:pt x="2462" y="1535"/>
                  </a:lnTo>
                  <a:lnTo>
                    <a:pt x="2459" y="1524"/>
                  </a:lnTo>
                  <a:lnTo>
                    <a:pt x="2457" y="1515"/>
                  </a:lnTo>
                  <a:lnTo>
                    <a:pt x="2448" y="1510"/>
                  </a:lnTo>
                  <a:lnTo>
                    <a:pt x="2439" y="1504"/>
                  </a:lnTo>
                  <a:lnTo>
                    <a:pt x="2439" y="1512"/>
                  </a:lnTo>
                  <a:lnTo>
                    <a:pt x="2439" y="1521"/>
                  </a:lnTo>
                  <a:lnTo>
                    <a:pt x="2439" y="1530"/>
                  </a:lnTo>
                  <a:lnTo>
                    <a:pt x="2439" y="1538"/>
                  </a:lnTo>
                  <a:lnTo>
                    <a:pt x="2439" y="1547"/>
                  </a:lnTo>
                  <a:lnTo>
                    <a:pt x="2439" y="1556"/>
                  </a:lnTo>
                  <a:lnTo>
                    <a:pt x="2442" y="1564"/>
                  </a:lnTo>
                  <a:lnTo>
                    <a:pt x="2436" y="1573"/>
                  </a:lnTo>
                  <a:lnTo>
                    <a:pt x="2433" y="1582"/>
                  </a:lnTo>
                  <a:lnTo>
                    <a:pt x="2430" y="1590"/>
                  </a:lnTo>
                  <a:lnTo>
                    <a:pt x="2433" y="1599"/>
                  </a:lnTo>
                  <a:lnTo>
                    <a:pt x="2442" y="1602"/>
                  </a:lnTo>
                  <a:lnTo>
                    <a:pt x="2451" y="1605"/>
                  </a:lnTo>
                  <a:lnTo>
                    <a:pt x="2459" y="1608"/>
                  </a:lnTo>
                  <a:lnTo>
                    <a:pt x="2465" y="1616"/>
                  </a:lnTo>
                  <a:lnTo>
                    <a:pt x="2474" y="1628"/>
                  </a:lnTo>
                  <a:lnTo>
                    <a:pt x="2474" y="1636"/>
                  </a:lnTo>
                  <a:lnTo>
                    <a:pt x="2474" y="1648"/>
                  </a:lnTo>
                  <a:lnTo>
                    <a:pt x="2474" y="1657"/>
                  </a:lnTo>
                  <a:lnTo>
                    <a:pt x="2474" y="1665"/>
                  </a:lnTo>
                  <a:lnTo>
                    <a:pt x="2474" y="1674"/>
                  </a:lnTo>
                  <a:lnTo>
                    <a:pt x="2483" y="1680"/>
                  </a:lnTo>
                  <a:lnTo>
                    <a:pt x="2491" y="1682"/>
                  </a:lnTo>
                  <a:lnTo>
                    <a:pt x="2500" y="1682"/>
                  </a:lnTo>
                  <a:lnTo>
                    <a:pt x="2509" y="1680"/>
                  </a:lnTo>
                  <a:lnTo>
                    <a:pt x="2515" y="1671"/>
                  </a:lnTo>
                  <a:lnTo>
                    <a:pt x="2524" y="1671"/>
                  </a:lnTo>
                  <a:lnTo>
                    <a:pt x="2532" y="1668"/>
                  </a:lnTo>
                  <a:lnTo>
                    <a:pt x="2541" y="1671"/>
                  </a:lnTo>
                  <a:lnTo>
                    <a:pt x="2544" y="1680"/>
                  </a:lnTo>
                  <a:lnTo>
                    <a:pt x="2547" y="1688"/>
                  </a:lnTo>
                  <a:lnTo>
                    <a:pt x="2547" y="1697"/>
                  </a:lnTo>
                  <a:lnTo>
                    <a:pt x="2547" y="1706"/>
                  </a:lnTo>
                  <a:lnTo>
                    <a:pt x="2556" y="1714"/>
                  </a:lnTo>
                  <a:lnTo>
                    <a:pt x="2564" y="1720"/>
                  </a:lnTo>
                  <a:lnTo>
                    <a:pt x="2576" y="1726"/>
                  </a:lnTo>
                  <a:lnTo>
                    <a:pt x="2588" y="1726"/>
                  </a:lnTo>
                  <a:lnTo>
                    <a:pt x="2596" y="1726"/>
                  </a:lnTo>
                  <a:lnTo>
                    <a:pt x="2588" y="1723"/>
                  </a:lnTo>
                  <a:lnTo>
                    <a:pt x="2579" y="1720"/>
                  </a:lnTo>
                  <a:lnTo>
                    <a:pt x="2570" y="1717"/>
                  </a:lnTo>
                  <a:lnTo>
                    <a:pt x="2567" y="1708"/>
                  </a:lnTo>
                  <a:lnTo>
                    <a:pt x="2564" y="1697"/>
                  </a:lnTo>
                  <a:lnTo>
                    <a:pt x="2564" y="1688"/>
                  </a:lnTo>
                  <a:lnTo>
                    <a:pt x="2561" y="1680"/>
                  </a:lnTo>
                  <a:lnTo>
                    <a:pt x="2550" y="1671"/>
                  </a:lnTo>
                  <a:lnTo>
                    <a:pt x="2538" y="1665"/>
                  </a:lnTo>
                  <a:lnTo>
                    <a:pt x="2529" y="1662"/>
                  </a:lnTo>
                  <a:lnTo>
                    <a:pt x="2521" y="1659"/>
                  </a:lnTo>
                  <a:lnTo>
                    <a:pt x="2512" y="1662"/>
                  </a:lnTo>
                  <a:lnTo>
                    <a:pt x="2506" y="1671"/>
                  </a:lnTo>
                  <a:lnTo>
                    <a:pt x="2506" y="1680"/>
                  </a:lnTo>
                  <a:lnTo>
                    <a:pt x="2503" y="1688"/>
                  </a:lnTo>
                  <a:lnTo>
                    <a:pt x="2500" y="1697"/>
                  </a:lnTo>
                  <a:lnTo>
                    <a:pt x="2500" y="1706"/>
                  </a:lnTo>
                  <a:lnTo>
                    <a:pt x="2500" y="1714"/>
                  </a:lnTo>
                  <a:lnTo>
                    <a:pt x="2509" y="1723"/>
                  </a:lnTo>
                  <a:lnTo>
                    <a:pt x="2509" y="1731"/>
                  </a:lnTo>
                  <a:lnTo>
                    <a:pt x="2509" y="1740"/>
                  </a:lnTo>
                  <a:lnTo>
                    <a:pt x="2509" y="1749"/>
                  </a:lnTo>
                  <a:lnTo>
                    <a:pt x="2509" y="1757"/>
                  </a:lnTo>
                  <a:lnTo>
                    <a:pt x="2509" y="1766"/>
                  </a:lnTo>
                  <a:lnTo>
                    <a:pt x="2509" y="1775"/>
                  </a:lnTo>
                  <a:lnTo>
                    <a:pt x="2509" y="1783"/>
                  </a:lnTo>
                  <a:lnTo>
                    <a:pt x="2506" y="1772"/>
                  </a:lnTo>
                  <a:lnTo>
                    <a:pt x="2515" y="1757"/>
                  </a:lnTo>
                  <a:lnTo>
                    <a:pt x="2509" y="1766"/>
                  </a:lnTo>
                  <a:lnTo>
                    <a:pt x="2506" y="1775"/>
                  </a:lnTo>
                  <a:lnTo>
                    <a:pt x="2503" y="1783"/>
                  </a:lnTo>
                  <a:lnTo>
                    <a:pt x="2497" y="1792"/>
                  </a:lnTo>
                  <a:lnTo>
                    <a:pt x="2494" y="1801"/>
                  </a:lnTo>
                  <a:lnTo>
                    <a:pt x="2494" y="1809"/>
                  </a:lnTo>
                  <a:lnTo>
                    <a:pt x="2494" y="1818"/>
                  </a:lnTo>
                  <a:lnTo>
                    <a:pt x="2483" y="1824"/>
                  </a:lnTo>
                  <a:lnTo>
                    <a:pt x="2465" y="1824"/>
                  </a:lnTo>
                  <a:lnTo>
                    <a:pt x="2457" y="1821"/>
                  </a:lnTo>
                  <a:lnTo>
                    <a:pt x="2448" y="1812"/>
                  </a:lnTo>
                  <a:lnTo>
                    <a:pt x="2439" y="1809"/>
                  </a:lnTo>
                  <a:lnTo>
                    <a:pt x="2430" y="1809"/>
                  </a:lnTo>
                  <a:lnTo>
                    <a:pt x="2427" y="1798"/>
                  </a:lnTo>
                  <a:lnTo>
                    <a:pt x="2439" y="1795"/>
                  </a:lnTo>
                  <a:lnTo>
                    <a:pt x="2454" y="1792"/>
                  </a:lnTo>
                  <a:lnTo>
                    <a:pt x="2462" y="1792"/>
                  </a:lnTo>
                  <a:lnTo>
                    <a:pt x="2471" y="1792"/>
                  </a:lnTo>
                  <a:lnTo>
                    <a:pt x="2477" y="1783"/>
                  </a:lnTo>
                  <a:lnTo>
                    <a:pt x="2480" y="1775"/>
                  </a:lnTo>
                  <a:lnTo>
                    <a:pt x="2480" y="1766"/>
                  </a:lnTo>
                  <a:lnTo>
                    <a:pt x="2483" y="1757"/>
                  </a:lnTo>
                  <a:lnTo>
                    <a:pt x="2486" y="1749"/>
                  </a:lnTo>
                  <a:lnTo>
                    <a:pt x="2489" y="1740"/>
                  </a:lnTo>
                  <a:lnTo>
                    <a:pt x="2491" y="1731"/>
                  </a:lnTo>
                  <a:lnTo>
                    <a:pt x="2489" y="1723"/>
                  </a:lnTo>
                  <a:lnTo>
                    <a:pt x="2489" y="1714"/>
                  </a:lnTo>
                  <a:lnTo>
                    <a:pt x="2480" y="1708"/>
                  </a:lnTo>
                  <a:lnTo>
                    <a:pt x="2474" y="1700"/>
                  </a:lnTo>
                  <a:lnTo>
                    <a:pt x="2468" y="1691"/>
                  </a:lnTo>
                  <a:lnTo>
                    <a:pt x="2465" y="1682"/>
                  </a:lnTo>
                  <a:lnTo>
                    <a:pt x="2459" y="1674"/>
                  </a:lnTo>
                  <a:lnTo>
                    <a:pt x="2454" y="1665"/>
                  </a:lnTo>
                  <a:lnTo>
                    <a:pt x="2454" y="1657"/>
                  </a:lnTo>
                  <a:lnTo>
                    <a:pt x="2454" y="1648"/>
                  </a:lnTo>
                  <a:lnTo>
                    <a:pt x="2454" y="1639"/>
                  </a:lnTo>
                  <a:lnTo>
                    <a:pt x="2451" y="1631"/>
                  </a:lnTo>
                  <a:lnTo>
                    <a:pt x="2448" y="1622"/>
                  </a:lnTo>
                  <a:lnTo>
                    <a:pt x="2442" y="1613"/>
                  </a:lnTo>
                  <a:lnTo>
                    <a:pt x="2433" y="1608"/>
                  </a:lnTo>
                  <a:lnTo>
                    <a:pt x="2427" y="1599"/>
                  </a:lnTo>
                  <a:lnTo>
                    <a:pt x="2422" y="1590"/>
                  </a:lnTo>
                  <a:lnTo>
                    <a:pt x="2419" y="1582"/>
                  </a:lnTo>
                  <a:lnTo>
                    <a:pt x="2419" y="1573"/>
                  </a:lnTo>
                  <a:lnTo>
                    <a:pt x="2416" y="1564"/>
                  </a:lnTo>
                  <a:lnTo>
                    <a:pt x="2416" y="1556"/>
                  </a:lnTo>
                  <a:lnTo>
                    <a:pt x="2416" y="1547"/>
                  </a:lnTo>
                  <a:lnTo>
                    <a:pt x="2416" y="1538"/>
                  </a:lnTo>
                  <a:lnTo>
                    <a:pt x="2416" y="1530"/>
                  </a:lnTo>
                  <a:lnTo>
                    <a:pt x="2407" y="1521"/>
                  </a:lnTo>
                  <a:lnTo>
                    <a:pt x="2395" y="1518"/>
                  </a:lnTo>
                  <a:lnTo>
                    <a:pt x="2390" y="1510"/>
                  </a:lnTo>
                  <a:lnTo>
                    <a:pt x="2390" y="1501"/>
                  </a:lnTo>
                  <a:lnTo>
                    <a:pt x="2381" y="1498"/>
                  </a:lnTo>
                  <a:lnTo>
                    <a:pt x="2390" y="1504"/>
                  </a:lnTo>
                  <a:lnTo>
                    <a:pt x="2381" y="1510"/>
                  </a:lnTo>
                  <a:lnTo>
                    <a:pt x="2372" y="1515"/>
                  </a:lnTo>
                  <a:lnTo>
                    <a:pt x="2372" y="1524"/>
                  </a:lnTo>
                  <a:lnTo>
                    <a:pt x="2366" y="1533"/>
                  </a:lnTo>
                  <a:lnTo>
                    <a:pt x="2366" y="1541"/>
                  </a:lnTo>
                  <a:lnTo>
                    <a:pt x="2366" y="1550"/>
                  </a:lnTo>
                  <a:lnTo>
                    <a:pt x="2366" y="1559"/>
                  </a:lnTo>
                  <a:lnTo>
                    <a:pt x="2366" y="1567"/>
                  </a:lnTo>
                  <a:lnTo>
                    <a:pt x="2363" y="1576"/>
                  </a:lnTo>
                  <a:lnTo>
                    <a:pt x="2360" y="1584"/>
                  </a:lnTo>
                  <a:lnTo>
                    <a:pt x="2358" y="1593"/>
                  </a:lnTo>
                  <a:lnTo>
                    <a:pt x="2352" y="1602"/>
                  </a:lnTo>
                  <a:lnTo>
                    <a:pt x="2349" y="1610"/>
                  </a:lnTo>
                  <a:lnTo>
                    <a:pt x="2346" y="1619"/>
                  </a:lnTo>
                  <a:lnTo>
                    <a:pt x="2346" y="1628"/>
                  </a:lnTo>
                  <a:lnTo>
                    <a:pt x="2346" y="1636"/>
                  </a:lnTo>
                  <a:lnTo>
                    <a:pt x="2355" y="1639"/>
                  </a:lnTo>
                  <a:lnTo>
                    <a:pt x="2363" y="1639"/>
                  </a:lnTo>
                  <a:lnTo>
                    <a:pt x="2372" y="1636"/>
                  </a:lnTo>
                  <a:lnTo>
                    <a:pt x="2372" y="1645"/>
                  </a:lnTo>
                  <a:lnTo>
                    <a:pt x="2372" y="1654"/>
                  </a:lnTo>
                  <a:lnTo>
                    <a:pt x="2372" y="1662"/>
                  </a:lnTo>
                  <a:lnTo>
                    <a:pt x="2372" y="1671"/>
                  </a:lnTo>
                  <a:lnTo>
                    <a:pt x="2372" y="1682"/>
                  </a:lnTo>
                  <a:lnTo>
                    <a:pt x="2369" y="1691"/>
                  </a:lnTo>
                  <a:lnTo>
                    <a:pt x="2378" y="1697"/>
                  </a:lnTo>
                  <a:lnTo>
                    <a:pt x="2381" y="1706"/>
                  </a:lnTo>
                  <a:lnTo>
                    <a:pt x="2390" y="1711"/>
                  </a:lnTo>
                  <a:lnTo>
                    <a:pt x="2401" y="1714"/>
                  </a:lnTo>
                  <a:lnTo>
                    <a:pt x="2404" y="1723"/>
                  </a:lnTo>
                  <a:lnTo>
                    <a:pt x="2404" y="1731"/>
                  </a:lnTo>
                  <a:lnTo>
                    <a:pt x="2404" y="1740"/>
                  </a:lnTo>
                  <a:lnTo>
                    <a:pt x="2404" y="1749"/>
                  </a:lnTo>
                  <a:lnTo>
                    <a:pt x="2395" y="1743"/>
                  </a:lnTo>
                  <a:lnTo>
                    <a:pt x="2393" y="1734"/>
                  </a:lnTo>
                  <a:lnTo>
                    <a:pt x="2387" y="1723"/>
                  </a:lnTo>
                  <a:lnTo>
                    <a:pt x="2381" y="1714"/>
                  </a:lnTo>
                  <a:lnTo>
                    <a:pt x="2372" y="1711"/>
                  </a:lnTo>
                  <a:lnTo>
                    <a:pt x="2363" y="1708"/>
                  </a:lnTo>
                  <a:lnTo>
                    <a:pt x="2355" y="1708"/>
                  </a:lnTo>
                  <a:lnTo>
                    <a:pt x="2340" y="1706"/>
                  </a:lnTo>
                  <a:lnTo>
                    <a:pt x="2328" y="1703"/>
                  </a:lnTo>
                  <a:lnTo>
                    <a:pt x="2320" y="1697"/>
                  </a:lnTo>
                  <a:lnTo>
                    <a:pt x="2311" y="1694"/>
                  </a:lnTo>
                  <a:lnTo>
                    <a:pt x="2302" y="1691"/>
                  </a:lnTo>
                  <a:lnTo>
                    <a:pt x="2294" y="1688"/>
                  </a:lnTo>
                  <a:lnTo>
                    <a:pt x="2285" y="1685"/>
                  </a:lnTo>
                  <a:lnTo>
                    <a:pt x="2276" y="1685"/>
                  </a:lnTo>
                  <a:lnTo>
                    <a:pt x="2267" y="1685"/>
                  </a:lnTo>
                  <a:lnTo>
                    <a:pt x="2273" y="1680"/>
                  </a:lnTo>
                  <a:lnTo>
                    <a:pt x="2262" y="1671"/>
                  </a:lnTo>
                  <a:lnTo>
                    <a:pt x="2262" y="1662"/>
                  </a:lnTo>
                  <a:lnTo>
                    <a:pt x="2256" y="1671"/>
                  </a:lnTo>
                  <a:lnTo>
                    <a:pt x="2247" y="1671"/>
                  </a:lnTo>
                  <a:lnTo>
                    <a:pt x="2235" y="1671"/>
                  </a:lnTo>
                  <a:lnTo>
                    <a:pt x="2227" y="1668"/>
                  </a:lnTo>
                  <a:lnTo>
                    <a:pt x="2227" y="1659"/>
                  </a:lnTo>
                  <a:lnTo>
                    <a:pt x="2221" y="1668"/>
                  </a:lnTo>
                  <a:lnTo>
                    <a:pt x="2221" y="1677"/>
                  </a:lnTo>
                  <a:lnTo>
                    <a:pt x="2232" y="1680"/>
                  </a:lnTo>
                  <a:lnTo>
                    <a:pt x="2241" y="1682"/>
                  </a:lnTo>
                  <a:lnTo>
                    <a:pt x="2244" y="1691"/>
                  </a:lnTo>
                  <a:lnTo>
                    <a:pt x="2247" y="1700"/>
                  </a:lnTo>
                  <a:lnTo>
                    <a:pt x="2250" y="1708"/>
                  </a:lnTo>
                  <a:lnTo>
                    <a:pt x="2259" y="1711"/>
                  </a:lnTo>
                  <a:lnTo>
                    <a:pt x="2262" y="1720"/>
                  </a:lnTo>
                  <a:lnTo>
                    <a:pt x="2262" y="1729"/>
                  </a:lnTo>
                  <a:lnTo>
                    <a:pt x="2262" y="1737"/>
                  </a:lnTo>
                  <a:lnTo>
                    <a:pt x="2253" y="1743"/>
                  </a:lnTo>
                  <a:lnTo>
                    <a:pt x="2250" y="1752"/>
                  </a:lnTo>
                  <a:lnTo>
                    <a:pt x="2250" y="1760"/>
                  </a:lnTo>
                  <a:lnTo>
                    <a:pt x="2244" y="1752"/>
                  </a:lnTo>
                  <a:lnTo>
                    <a:pt x="2241" y="1743"/>
                  </a:lnTo>
                  <a:lnTo>
                    <a:pt x="2232" y="1743"/>
                  </a:lnTo>
                  <a:lnTo>
                    <a:pt x="2232" y="1734"/>
                  </a:lnTo>
                  <a:lnTo>
                    <a:pt x="2221" y="1729"/>
                  </a:lnTo>
                  <a:lnTo>
                    <a:pt x="2209" y="1731"/>
                  </a:lnTo>
                  <a:lnTo>
                    <a:pt x="2200" y="1734"/>
                  </a:lnTo>
                  <a:lnTo>
                    <a:pt x="2192" y="1737"/>
                  </a:lnTo>
                  <a:lnTo>
                    <a:pt x="2183" y="1746"/>
                  </a:lnTo>
                  <a:lnTo>
                    <a:pt x="2177" y="1755"/>
                  </a:lnTo>
                  <a:lnTo>
                    <a:pt x="2168" y="1755"/>
                  </a:lnTo>
                  <a:lnTo>
                    <a:pt x="2160" y="1760"/>
                  </a:lnTo>
                  <a:lnTo>
                    <a:pt x="2151" y="1769"/>
                  </a:lnTo>
                  <a:lnTo>
                    <a:pt x="2142" y="1772"/>
                  </a:lnTo>
                  <a:lnTo>
                    <a:pt x="2133" y="1772"/>
                  </a:lnTo>
                  <a:lnTo>
                    <a:pt x="2133" y="1763"/>
                  </a:lnTo>
                  <a:lnTo>
                    <a:pt x="2142" y="1755"/>
                  </a:lnTo>
                  <a:lnTo>
                    <a:pt x="2151" y="1752"/>
                  </a:lnTo>
                  <a:lnTo>
                    <a:pt x="2160" y="1749"/>
                  </a:lnTo>
                  <a:lnTo>
                    <a:pt x="2160" y="1737"/>
                  </a:lnTo>
                  <a:lnTo>
                    <a:pt x="2154" y="1729"/>
                  </a:lnTo>
                  <a:lnTo>
                    <a:pt x="2145" y="1729"/>
                  </a:lnTo>
                  <a:lnTo>
                    <a:pt x="2136" y="1734"/>
                  </a:lnTo>
                  <a:lnTo>
                    <a:pt x="2128" y="1740"/>
                  </a:lnTo>
                  <a:lnTo>
                    <a:pt x="2122" y="1749"/>
                  </a:lnTo>
                  <a:lnTo>
                    <a:pt x="2113" y="1755"/>
                  </a:lnTo>
                  <a:lnTo>
                    <a:pt x="2104" y="1757"/>
                  </a:lnTo>
                  <a:lnTo>
                    <a:pt x="2096" y="1763"/>
                  </a:lnTo>
                  <a:lnTo>
                    <a:pt x="2087" y="1763"/>
                  </a:lnTo>
                  <a:lnTo>
                    <a:pt x="2078" y="1766"/>
                  </a:lnTo>
                  <a:lnTo>
                    <a:pt x="2069" y="1769"/>
                  </a:lnTo>
                  <a:lnTo>
                    <a:pt x="2061" y="1772"/>
                  </a:lnTo>
                  <a:lnTo>
                    <a:pt x="2055" y="1780"/>
                  </a:lnTo>
                  <a:lnTo>
                    <a:pt x="2052" y="1789"/>
                  </a:lnTo>
                  <a:lnTo>
                    <a:pt x="2040" y="1792"/>
                  </a:lnTo>
                  <a:lnTo>
                    <a:pt x="2034" y="1801"/>
                  </a:lnTo>
                  <a:lnTo>
                    <a:pt x="2034" y="1809"/>
                  </a:lnTo>
                  <a:lnTo>
                    <a:pt x="2029" y="1818"/>
                  </a:lnTo>
                  <a:lnTo>
                    <a:pt x="2020" y="1824"/>
                  </a:lnTo>
                  <a:lnTo>
                    <a:pt x="2011" y="1827"/>
                  </a:lnTo>
                  <a:lnTo>
                    <a:pt x="2008" y="1815"/>
                  </a:lnTo>
                  <a:lnTo>
                    <a:pt x="2005" y="1806"/>
                  </a:lnTo>
                  <a:lnTo>
                    <a:pt x="2005" y="1798"/>
                  </a:lnTo>
                  <a:lnTo>
                    <a:pt x="1997" y="1789"/>
                  </a:lnTo>
                  <a:lnTo>
                    <a:pt x="1988" y="1780"/>
                  </a:lnTo>
                  <a:lnTo>
                    <a:pt x="1999" y="1780"/>
                  </a:lnTo>
                  <a:lnTo>
                    <a:pt x="2011" y="1778"/>
                  </a:lnTo>
                  <a:lnTo>
                    <a:pt x="2020" y="1775"/>
                  </a:lnTo>
                  <a:lnTo>
                    <a:pt x="2020" y="1766"/>
                  </a:lnTo>
                  <a:lnTo>
                    <a:pt x="2023" y="1757"/>
                  </a:lnTo>
                  <a:lnTo>
                    <a:pt x="2023" y="1749"/>
                  </a:lnTo>
                  <a:lnTo>
                    <a:pt x="2014" y="1743"/>
                  </a:lnTo>
                  <a:lnTo>
                    <a:pt x="2005" y="1740"/>
                  </a:lnTo>
                  <a:lnTo>
                    <a:pt x="1994" y="1740"/>
                  </a:lnTo>
                  <a:lnTo>
                    <a:pt x="1985" y="1737"/>
                  </a:lnTo>
                  <a:lnTo>
                    <a:pt x="1976" y="1731"/>
                  </a:lnTo>
                  <a:lnTo>
                    <a:pt x="1967" y="1729"/>
                  </a:lnTo>
                  <a:lnTo>
                    <a:pt x="1967" y="1737"/>
                  </a:lnTo>
                  <a:lnTo>
                    <a:pt x="1970" y="1746"/>
                  </a:lnTo>
                  <a:lnTo>
                    <a:pt x="1976" y="1755"/>
                  </a:lnTo>
                  <a:lnTo>
                    <a:pt x="1976" y="1763"/>
                  </a:lnTo>
                  <a:lnTo>
                    <a:pt x="1976" y="1772"/>
                  </a:lnTo>
                  <a:lnTo>
                    <a:pt x="1973" y="1780"/>
                  </a:lnTo>
                  <a:lnTo>
                    <a:pt x="1965" y="1789"/>
                  </a:lnTo>
                  <a:lnTo>
                    <a:pt x="1956" y="1795"/>
                  </a:lnTo>
                  <a:lnTo>
                    <a:pt x="1953" y="1803"/>
                  </a:lnTo>
                  <a:lnTo>
                    <a:pt x="1962" y="1806"/>
                  </a:lnTo>
                  <a:lnTo>
                    <a:pt x="1970" y="1806"/>
                  </a:lnTo>
                  <a:lnTo>
                    <a:pt x="1979" y="1806"/>
                  </a:lnTo>
                  <a:lnTo>
                    <a:pt x="1982" y="1815"/>
                  </a:lnTo>
                  <a:lnTo>
                    <a:pt x="1976" y="1824"/>
                  </a:lnTo>
                  <a:lnTo>
                    <a:pt x="1965" y="1832"/>
                  </a:lnTo>
                  <a:lnTo>
                    <a:pt x="1959" y="1841"/>
                  </a:lnTo>
                  <a:lnTo>
                    <a:pt x="1959" y="1850"/>
                  </a:lnTo>
                  <a:lnTo>
                    <a:pt x="1947" y="1838"/>
                  </a:lnTo>
                  <a:lnTo>
                    <a:pt x="1938" y="1835"/>
                  </a:lnTo>
                  <a:lnTo>
                    <a:pt x="1933" y="1827"/>
                  </a:lnTo>
                  <a:lnTo>
                    <a:pt x="1924" y="1821"/>
                  </a:lnTo>
                  <a:lnTo>
                    <a:pt x="1915" y="1821"/>
                  </a:lnTo>
                  <a:lnTo>
                    <a:pt x="1906" y="1829"/>
                  </a:lnTo>
                  <a:lnTo>
                    <a:pt x="1898" y="1835"/>
                  </a:lnTo>
                  <a:lnTo>
                    <a:pt x="1889" y="1838"/>
                  </a:lnTo>
                  <a:lnTo>
                    <a:pt x="1880" y="1841"/>
                  </a:lnTo>
                  <a:lnTo>
                    <a:pt x="1874" y="1850"/>
                  </a:lnTo>
                  <a:lnTo>
                    <a:pt x="1871" y="1858"/>
                  </a:lnTo>
                  <a:lnTo>
                    <a:pt x="1868" y="1867"/>
                  </a:lnTo>
                  <a:lnTo>
                    <a:pt x="1868" y="1876"/>
                  </a:lnTo>
                  <a:lnTo>
                    <a:pt x="1868" y="1884"/>
                  </a:lnTo>
                  <a:lnTo>
                    <a:pt x="1868" y="1893"/>
                  </a:lnTo>
                  <a:lnTo>
                    <a:pt x="1868" y="1901"/>
                  </a:lnTo>
                  <a:lnTo>
                    <a:pt x="1860" y="1907"/>
                  </a:lnTo>
                  <a:lnTo>
                    <a:pt x="1848" y="1901"/>
                  </a:lnTo>
                  <a:lnTo>
                    <a:pt x="1845" y="1893"/>
                  </a:lnTo>
                  <a:lnTo>
                    <a:pt x="1839" y="1884"/>
                  </a:lnTo>
                  <a:lnTo>
                    <a:pt x="1831" y="1876"/>
                  </a:lnTo>
                  <a:lnTo>
                    <a:pt x="1822" y="1870"/>
                  </a:lnTo>
                  <a:lnTo>
                    <a:pt x="1813" y="1867"/>
                  </a:lnTo>
                  <a:lnTo>
                    <a:pt x="1804" y="1867"/>
                  </a:lnTo>
                  <a:lnTo>
                    <a:pt x="1799" y="1876"/>
                  </a:lnTo>
                  <a:lnTo>
                    <a:pt x="1796" y="1884"/>
                  </a:lnTo>
                  <a:lnTo>
                    <a:pt x="1796" y="1893"/>
                  </a:lnTo>
                  <a:lnTo>
                    <a:pt x="1804" y="1899"/>
                  </a:lnTo>
                  <a:lnTo>
                    <a:pt x="1816" y="1901"/>
                  </a:lnTo>
                  <a:lnTo>
                    <a:pt x="1819" y="1910"/>
                  </a:lnTo>
                  <a:lnTo>
                    <a:pt x="1807" y="1910"/>
                  </a:lnTo>
                  <a:lnTo>
                    <a:pt x="1819" y="1893"/>
                  </a:lnTo>
                  <a:lnTo>
                    <a:pt x="1810" y="1896"/>
                  </a:lnTo>
                  <a:lnTo>
                    <a:pt x="1822" y="1899"/>
                  </a:lnTo>
                  <a:lnTo>
                    <a:pt x="1822" y="1910"/>
                  </a:lnTo>
                  <a:lnTo>
                    <a:pt x="1822" y="1919"/>
                  </a:lnTo>
                  <a:lnTo>
                    <a:pt x="1816" y="1927"/>
                  </a:lnTo>
                  <a:lnTo>
                    <a:pt x="1802" y="1927"/>
                  </a:lnTo>
                  <a:lnTo>
                    <a:pt x="1793" y="1922"/>
                  </a:lnTo>
                  <a:lnTo>
                    <a:pt x="1790" y="1913"/>
                  </a:lnTo>
                  <a:lnTo>
                    <a:pt x="1790" y="1904"/>
                  </a:lnTo>
                  <a:lnTo>
                    <a:pt x="1784" y="1896"/>
                  </a:lnTo>
                  <a:lnTo>
                    <a:pt x="1778" y="1887"/>
                  </a:lnTo>
                  <a:lnTo>
                    <a:pt x="1770" y="1878"/>
                  </a:lnTo>
                  <a:lnTo>
                    <a:pt x="1767" y="1870"/>
                  </a:lnTo>
                  <a:lnTo>
                    <a:pt x="1764" y="1861"/>
                  </a:lnTo>
                  <a:lnTo>
                    <a:pt x="1764" y="1850"/>
                  </a:lnTo>
                  <a:lnTo>
                    <a:pt x="1764" y="1841"/>
                  </a:lnTo>
                  <a:lnTo>
                    <a:pt x="1764" y="1832"/>
                  </a:lnTo>
                  <a:lnTo>
                    <a:pt x="1772" y="1827"/>
                  </a:lnTo>
                  <a:lnTo>
                    <a:pt x="1778" y="1818"/>
                  </a:lnTo>
                  <a:lnTo>
                    <a:pt x="1778" y="1809"/>
                  </a:lnTo>
                  <a:lnTo>
                    <a:pt x="1778" y="1801"/>
                  </a:lnTo>
                  <a:lnTo>
                    <a:pt x="1778" y="1792"/>
                  </a:lnTo>
                  <a:lnTo>
                    <a:pt x="1770" y="1783"/>
                  </a:lnTo>
                  <a:lnTo>
                    <a:pt x="1761" y="1778"/>
                  </a:lnTo>
                  <a:lnTo>
                    <a:pt x="1752" y="1772"/>
                  </a:lnTo>
                  <a:lnTo>
                    <a:pt x="1752" y="1763"/>
                  </a:lnTo>
                  <a:lnTo>
                    <a:pt x="1752" y="1752"/>
                  </a:lnTo>
                  <a:lnTo>
                    <a:pt x="1752" y="1743"/>
                  </a:lnTo>
                  <a:lnTo>
                    <a:pt x="1764" y="1749"/>
                  </a:lnTo>
                  <a:lnTo>
                    <a:pt x="1772" y="1757"/>
                  </a:lnTo>
                  <a:lnTo>
                    <a:pt x="1781" y="1763"/>
                  </a:lnTo>
                  <a:lnTo>
                    <a:pt x="1781" y="1772"/>
                  </a:lnTo>
                  <a:lnTo>
                    <a:pt x="1787" y="1783"/>
                  </a:lnTo>
                  <a:lnTo>
                    <a:pt x="1796" y="1789"/>
                  </a:lnTo>
                  <a:lnTo>
                    <a:pt x="1804" y="1795"/>
                  </a:lnTo>
                  <a:lnTo>
                    <a:pt x="1816" y="1801"/>
                  </a:lnTo>
                  <a:lnTo>
                    <a:pt x="1822" y="1809"/>
                  </a:lnTo>
                  <a:lnTo>
                    <a:pt x="1831" y="1815"/>
                  </a:lnTo>
                  <a:lnTo>
                    <a:pt x="1836" y="1824"/>
                  </a:lnTo>
                  <a:lnTo>
                    <a:pt x="1845" y="1829"/>
                  </a:lnTo>
                  <a:lnTo>
                    <a:pt x="1854" y="1835"/>
                  </a:lnTo>
                  <a:lnTo>
                    <a:pt x="1866" y="1835"/>
                  </a:lnTo>
                  <a:lnTo>
                    <a:pt x="1874" y="1835"/>
                  </a:lnTo>
                  <a:lnTo>
                    <a:pt x="1883" y="1835"/>
                  </a:lnTo>
                  <a:lnTo>
                    <a:pt x="1892" y="1829"/>
                  </a:lnTo>
                  <a:lnTo>
                    <a:pt x="1901" y="1827"/>
                  </a:lnTo>
                  <a:lnTo>
                    <a:pt x="1909" y="1818"/>
                  </a:lnTo>
                  <a:lnTo>
                    <a:pt x="1909" y="1809"/>
                  </a:lnTo>
                  <a:lnTo>
                    <a:pt x="1909" y="1801"/>
                  </a:lnTo>
                  <a:lnTo>
                    <a:pt x="1909" y="1792"/>
                  </a:lnTo>
                  <a:lnTo>
                    <a:pt x="1915" y="1783"/>
                  </a:lnTo>
                  <a:lnTo>
                    <a:pt x="1918" y="1775"/>
                  </a:lnTo>
                  <a:lnTo>
                    <a:pt x="1918" y="1766"/>
                  </a:lnTo>
                  <a:lnTo>
                    <a:pt x="1915" y="1757"/>
                  </a:lnTo>
                  <a:lnTo>
                    <a:pt x="1909" y="1749"/>
                  </a:lnTo>
                  <a:lnTo>
                    <a:pt x="1901" y="1740"/>
                  </a:lnTo>
                  <a:lnTo>
                    <a:pt x="1895" y="1731"/>
                  </a:lnTo>
                  <a:lnTo>
                    <a:pt x="1892" y="1720"/>
                  </a:lnTo>
                  <a:lnTo>
                    <a:pt x="1889" y="1711"/>
                  </a:lnTo>
                  <a:lnTo>
                    <a:pt x="1880" y="1706"/>
                  </a:lnTo>
                  <a:lnTo>
                    <a:pt x="1871" y="1697"/>
                  </a:lnTo>
                  <a:lnTo>
                    <a:pt x="1866" y="1688"/>
                  </a:lnTo>
                  <a:lnTo>
                    <a:pt x="1860" y="1680"/>
                  </a:lnTo>
                  <a:lnTo>
                    <a:pt x="1851" y="1671"/>
                  </a:lnTo>
                  <a:lnTo>
                    <a:pt x="1842" y="1665"/>
                  </a:lnTo>
                  <a:lnTo>
                    <a:pt x="1831" y="1662"/>
                  </a:lnTo>
                  <a:lnTo>
                    <a:pt x="1819" y="1657"/>
                  </a:lnTo>
                  <a:lnTo>
                    <a:pt x="1813" y="1648"/>
                  </a:lnTo>
                  <a:lnTo>
                    <a:pt x="1810" y="1639"/>
                  </a:lnTo>
                  <a:lnTo>
                    <a:pt x="1807" y="1631"/>
                  </a:lnTo>
                  <a:lnTo>
                    <a:pt x="1799" y="1622"/>
                  </a:lnTo>
                  <a:lnTo>
                    <a:pt x="1793" y="1613"/>
                  </a:lnTo>
                  <a:lnTo>
                    <a:pt x="1784" y="1613"/>
                  </a:lnTo>
                  <a:lnTo>
                    <a:pt x="1772" y="1613"/>
                  </a:lnTo>
                  <a:lnTo>
                    <a:pt x="1764" y="1608"/>
                  </a:lnTo>
                  <a:lnTo>
                    <a:pt x="1761" y="1599"/>
                  </a:lnTo>
                  <a:lnTo>
                    <a:pt x="1772" y="1596"/>
                  </a:lnTo>
                  <a:lnTo>
                    <a:pt x="1781" y="1596"/>
                  </a:lnTo>
                  <a:lnTo>
                    <a:pt x="1787" y="1587"/>
                  </a:lnTo>
                  <a:lnTo>
                    <a:pt x="1778" y="1579"/>
                  </a:lnTo>
                  <a:lnTo>
                    <a:pt x="1770" y="1576"/>
                  </a:lnTo>
                  <a:lnTo>
                    <a:pt x="1761" y="1573"/>
                  </a:lnTo>
                  <a:lnTo>
                    <a:pt x="1758" y="1564"/>
                  </a:lnTo>
                  <a:lnTo>
                    <a:pt x="1758" y="1556"/>
                  </a:lnTo>
                  <a:lnTo>
                    <a:pt x="1758" y="1547"/>
                  </a:lnTo>
                  <a:lnTo>
                    <a:pt x="1749" y="1547"/>
                  </a:lnTo>
                  <a:lnTo>
                    <a:pt x="1737" y="1553"/>
                  </a:lnTo>
                  <a:lnTo>
                    <a:pt x="1729" y="1553"/>
                  </a:lnTo>
                  <a:lnTo>
                    <a:pt x="1720" y="1556"/>
                  </a:lnTo>
                  <a:lnTo>
                    <a:pt x="1720" y="1547"/>
                  </a:lnTo>
                  <a:lnTo>
                    <a:pt x="1723" y="1538"/>
                  </a:lnTo>
                  <a:lnTo>
                    <a:pt x="1726" y="1550"/>
                  </a:lnTo>
                  <a:lnTo>
                    <a:pt x="1723" y="1559"/>
                  </a:lnTo>
                  <a:lnTo>
                    <a:pt x="1723" y="1567"/>
                  </a:lnTo>
                  <a:lnTo>
                    <a:pt x="1732" y="1567"/>
                  </a:lnTo>
                  <a:lnTo>
                    <a:pt x="1740" y="1556"/>
                  </a:lnTo>
                  <a:lnTo>
                    <a:pt x="1726" y="1553"/>
                  </a:lnTo>
                  <a:lnTo>
                    <a:pt x="1717" y="1553"/>
                  </a:lnTo>
                  <a:lnTo>
                    <a:pt x="1705" y="1553"/>
                  </a:lnTo>
                  <a:lnTo>
                    <a:pt x="1705" y="1541"/>
                  </a:lnTo>
                  <a:lnTo>
                    <a:pt x="1711" y="1533"/>
                  </a:lnTo>
                  <a:lnTo>
                    <a:pt x="1700" y="1535"/>
                  </a:lnTo>
                  <a:lnTo>
                    <a:pt x="1691" y="1541"/>
                  </a:lnTo>
                  <a:lnTo>
                    <a:pt x="1679" y="1544"/>
                  </a:lnTo>
                  <a:lnTo>
                    <a:pt x="1685" y="1533"/>
                  </a:lnTo>
                  <a:lnTo>
                    <a:pt x="1685" y="1524"/>
                  </a:lnTo>
                  <a:lnTo>
                    <a:pt x="1676" y="1524"/>
                  </a:lnTo>
                  <a:lnTo>
                    <a:pt x="1668" y="1533"/>
                  </a:lnTo>
                  <a:lnTo>
                    <a:pt x="1662" y="1541"/>
                  </a:lnTo>
                  <a:lnTo>
                    <a:pt x="1653" y="1544"/>
                  </a:lnTo>
                  <a:lnTo>
                    <a:pt x="1653" y="1535"/>
                  </a:lnTo>
                  <a:lnTo>
                    <a:pt x="1644" y="1541"/>
                  </a:lnTo>
                  <a:lnTo>
                    <a:pt x="1641" y="1550"/>
                  </a:lnTo>
                  <a:lnTo>
                    <a:pt x="1633" y="1547"/>
                  </a:lnTo>
                  <a:lnTo>
                    <a:pt x="1633" y="1538"/>
                  </a:lnTo>
                  <a:lnTo>
                    <a:pt x="1624" y="1538"/>
                  </a:lnTo>
                  <a:lnTo>
                    <a:pt x="1615" y="1541"/>
                  </a:lnTo>
                  <a:lnTo>
                    <a:pt x="1609" y="1550"/>
                  </a:lnTo>
                  <a:lnTo>
                    <a:pt x="1601" y="1541"/>
                  </a:lnTo>
                  <a:lnTo>
                    <a:pt x="1598" y="1533"/>
                  </a:lnTo>
                  <a:lnTo>
                    <a:pt x="1589" y="1535"/>
                  </a:lnTo>
                  <a:lnTo>
                    <a:pt x="1580" y="1541"/>
                  </a:lnTo>
                  <a:lnTo>
                    <a:pt x="1569" y="1538"/>
                  </a:lnTo>
                  <a:lnTo>
                    <a:pt x="1563" y="1547"/>
                  </a:lnTo>
                  <a:lnTo>
                    <a:pt x="1557" y="1559"/>
                  </a:lnTo>
                  <a:lnTo>
                    <a:pt x="1554" y="1567"/>
                  </a:lnTo>
                  <a:lnTo>
                    <a:pt x="1548" y="1576"/>
                  </a:lnTo>
                  <a:lnTo>
                    <a:pt x="1540" y="1576"/>
                  </a:lnTo>
                  <a:lnTo>
                    <a:pt x="1531" y="1576"/>
                  </a:lnTo>
                  <a:lnTo>
                    <a:pt x="1525" y="1564"/>
                  </a:lnTo>
                  <a:lnTo>
                    <a:pt x="1525" y="1556"/>
                  </a:lnTo>
                  <a:lnTo>
                    <a:pt x="1525" y="1547"/>
                  </a:lnTo>
                  <a:lnTo>
                    <a:pt x="1516" y="1544"/>
                  </a:lnTo>
                  <a:lnTo>
                    <a:pt x="1513" y="1553"/>
                  </a:lnTo>
                  <a:lnTo>
                    <a:pt x="1528" y="1541"/>
                  </a:lnTo>
                  <a:lnTo>
                    <a:pt x="1510" y="1530"/>
                  </a:lnTo>
                  <a:lnTo>
                    <a:pt x="1502" y="1530"/>
                  </a:lnTo>
                  <a:lnTo>
                    <a:pt x="1493" y="1538"/>
                  </a:lnTo>
                  <a:lnTo>
                    <a:pt x="1484" y="1544"/>
                  </a:lnTo>
                  <a:lnTo>
                    <a:pt x="1481" y="1553"/>
                  </a:lnTo>
                  <a:lnTo>
                    <a:pt x="1481" y="1561"/>
                  </a:lnTo>
                  <a:lnTo>
                    <a:pt x="1487" y="1570"/>
                  </a:lnTo>
                  <a:lnTo>
                    <a:pt x="1487" y="1579"/>
                  </a:lnTo>
                  <a:lnTo>
                    <a:pt x="1478" y="1587"/>
                  </a:lnTo>
                  <a:lnTo>
                    <a:pt x="1470" y="1590"/>
                  </a:lnTo>
                  <a:lnTo>
                    <a:pt x="1461" y="1599"/>
                  </a:lnTo>
                  <a:lnTo>
                    <a:pt x="1443" y="1599"/>
                  </a:lnTo>
                  <a:lnTo>
                    <a:pt x="1432" y="1599"/>
                  </a:lnTo>
                  <a:lnTo>
                    <a:pt x="1426" y="1610"/>
                  </a:lnTo>
                  <a:lnTo>
                    <a:pt x="1420" y="1619"/>
                  </a:lnTo>
                  <a:lnTo>
                    <a:pt x="1429" y="1619"/>
                  </a:lnTo>
                  <a:lnTo>
                    <a:pt x="1417" y="1628"/>
                  </a:lnTo>
                  <a:lnTo>
                    <a:pt x="1406" y="1628"/>
                  </a:lnTo>
                  <a:lnTo>
                    <a:pt x="1397" y="1628"/>
                  </a:lnTo>
                  <a:lnTo>
                    <a:pt x="1388" y="1628"/>
                  </a:lnTo>
                  <a:lnTo>
                    <a:pt x="1382" y="1636"/>
                  </a:lnTo>
                  <a:lnTo>
                    <a:pt x="1379" y="1645"/>
                  </a:lnTo>
                  <a:lnTo>
                    <a:pt x="1371" y="1645"/>
                  </a:lnTo>
                  <a:lnTo>
                    <a:pt x="1362" y="1645"/>
                  </a:lnTo>
                  <a:lnTo>
                    <a:pt x="1356" y="1654"/>
                  </a:lnTo>
                  <a:lnTo>
                    <a:pt x="1347" y="1657"/>
                  </a:lnTo>
                  <a:lnTo>
                    <a:pt x="1336" y="1659"/>
                  </a:lnTo>
                  <a:lnTo>
                    <a:pt x="1327" y="1659"/>
                  </a:lnTo>
                  <a:lnTo>
                    <a:pt x="1318" y="1662"/>
                  </a:lnTo>
                  <a:lnTo>
                    <a:pt x="1310" y="1662"/>
                  </a:lnTo>
                  <a:lnTo>
                    <a:pt x="1298" y="1662"/>
                  </a:lnTo>
                  <a:lnTo>
                    <a:pt x="1289" y="1665"/>
                  </a:lnTo>
                  <a:lnTo>
                    <a:pt x="1280" y="1671"/>
                  </a:lnTo>
                  <a:lnTo>
                    <a:pt x="1278" y="1680"/>
                  </a:lnTo>
                  <a:lnTo>
                    <a:pt x="1280" y="1691"/>
                  </a:lnTo>
                  <a:lnTo>
                    <a:pt x="1289" y="1694"/>
                  </a:lnTo>
                  <a:lnTo>
                    <a:pt x="1301" y="1697"/>
                  </a:lnTo>
                  <a:lnTo>
                    <a:pt x="1312" y="1697"/>
                  </a:lnTo>
                  <a:lnTo>
                    <a:pt x="1321" y="1697"/>
                  </a:lnTo>
                  <a:lnTo>
                    <a:pt x="1310" y="1694"/>
                  </a:lnTo>
                  <a:lnTo>
                    <a:pt x="1298" y="1694"/>
                  </a:lnTo>
                  <a:lnTo>
                    <a:pt x="1289" y="1691"/>
                  </a:lnTo>
                  <a:lnTo>
                    <a:pt x="1304" y="1685"/>
                  </a:lnTo>
                  <a:lnTo>
                    <a:pt x="1312" y="1685"/>
                  </a:lnTo>
                  <a:lnTo>
                    <a:pt x="1321" y="1685"/>
                  </a:lnTo>
                  <a:lnTo>
                    <a:pt x="1312" y="1682"/>
                  </a:lnTo>
                  <a:lnTo>
                    <a:pt x="1301" y="1685"/>
                  </a:lnTo>
                  <a:lnTo>
                    <a:pt x="1292" y="1685"/>
                  </a:lnTo>
                  <a:lnTo>
                    <a:pt x="1286" y="1677"/>
                  </a:lnTo>
                  <a:lnTo>
                    <a:pt x="1275" y="1668"/>
                  </a:lnTo>
                  <a:lnTo>
                    <a:pt x="1266" y="1665"/>
                  </a:lnTo>
                  <a:lnTo>
                    <a:pt x="1248" y="1659"/>
                  </a:lnTo>
                  <a:lnTo>
                    <a:pt x="1240" y="1659"/>
                  </a:lnTo>
                  <a:lnTo>
                    <a:pt x="1234" y="1668"/>
                  </a:lnTo>
                  <a:lnTo>
                    <a:pt x="1225" y="1671"/>
                  </a:lnTo>
                  <a:lnTo>
                    <a:pt x="1216" y="1674"/>
                  </a:lnTo>
                  <a:lnTo>
                    <a:pt x="1208" y="1674"/>
                  </a:lnTo>
                  <a:lnTo>
                    <a:pt x="1199" y="1671"/>
                  </a:lnTo>
                  <a:lnTo>
                    <a:pt x="1190" y="1674"/>
                  </a:lnTo>
                  <a:lnTo>
                    <a:pt x="1176" y="1671"/>
                  </a:lnTo>
                  <a:lnTo>
                    <a:pt x="1167" y="1668"/>
                  </a:lnTo>
                  <a:lnTo>
                    <a:pt x="1161" y="1677"/>
                  </a:lnTo>
                  <a:lnTo>
                    <a:pt x="1152" y="1682"/>
                  </a:lnTo>
                  <a:lnTo>
                    <a:pt x="1144" y="1682"/>
                  </a:lnTo>
                  <a:lnTo>
                    <a:pt x="1132" y="1682"/>
                  </a:lnTo>
                  <a:lnTo>
                    <a:pt x="1132" y="1691"/>
                  </a:lnTo>
                  <a:lnTo>
                    <a:pt x="1132" y="1700"/>
                  </a:lnTo>
                  <a:lnTo>
                    <a:pt x="1147" y="1708"/>
                  </a:lnTo>
                  <a:lnTo>
                    <a:pt x="1155" y="1720"/>
                  </a:lnTo>
                  <a:lnTo>
                    <a:pt x="1158" y="1729"/>
                  </a:lnTo>
                  <a:lnTo>
                    <a:pt x="1158" y="1737"/>
                  </a:lnTo>
                  <a:lnTo>
                    <a:pt x="1161" y="1746"/>
                  </a:lnTo>
                  <a:lnTo>
                    <a:pt x="1161" y="1737"/>
                  </a:lnTo>
                  <a:lnTo>
                    <a:pt x="1155" y="1726"/>
                  </a:lnTo>
                  <a:lnTo>
                    <a:pt x="1152" y="1717"/>
                  </a:lnTo>
                  <a:lnTo>
                    <a:pt x="1138" y="1717"/>
                  </a:lnTo>
                  <a:lnTo>
                    <a:pt x="1129" y="1711"/>
                  </a:lnTo>
                  <a:lnTo>
                    <a:pt x="1120" y="1711"/>
                  </a:lnTo>
                  <a:lnTo>
                    <a:pt x="1117" y="1720"/>
                  </a:lnTo>
                  <a:lnTo>
                    <a:pt x="1114" y="1731"/>
                  </a:lnTo>
                  <a:lnTo>
                    <a:pt x="1114" y="1740"/>
                  </a:lnTo>
                  <a:lnTo>
                    <a:pt x="1126" y="1740"/>
                  </a:lnTo>
                  <a:lnTo>
                    <a:pt x="1138" y="1743"/>
                  </a:lnTo>
                  <a:lnTo>
                    <a:pt x="1129" y="1743"/>
                  </a:lnTo>
                  <a:lnTo>
                    <a:pt x="1120" y="1743"/>
                  </a:lnTo>
                  <a:lnTo>
                    <a:pt x="1112" y="1746"/>
                  </a:lnTo>
                  <a:lnTo>
                    <a:pt x="1103" y="1752"/>
                  </a:lnTo>
                  <a:lnTo>
                    <a:pt x="1094" y="1755"/>
                  </a:lnTo>
                  <a:lnTo>
                    <a:pt x="1085" y="1763"/>
                  </a:lnTo>
                  <a:lnTo>
                    <a:pt x="1077" y="1766"/>
                  </a:lnTo>
                  <a:lnTo>
                    <a:pt x="1068" y="1766"/>
                  </a:lnTo>
                  <a:lnTo>
                    <a:pt x="1077" y="1772"/>
                  </a:lnTo>
                  <a:lnTo>
                    <a:pt x="1085" y="1772"/>
                  </a:lnTo>
                  <a:lnTo>
                    <a:pt x="1097" y="1775"/>
                  </a:lnTo>
                  <a:lnTo>
                    <a:pt x="1091" y="1783"/>
                  </a:lnTo>
                  <a:lnTo>
                    <a:pt x="1080" y="1786"/>
                  </a:lnTo>
                  <a:lnTo>
                    <a:pt x="1071" y="1786"/>
                  </a:lnTo>
                  <a:lnTo>
                    <a:pt x="1062" y="1789"/>
                  </a:lnTo>
                  <a:lnTo>
                    <a:pt x="1056" y="1798"/>
                  </a:lnTo>
                  <a:lnTo>
                    <a:pt x="1056" y="1806"/>
                  </a:lnTo>
                  <a:lnTo>
                    <a:pt x="1056" y="1815"/>
                  </a:lnTo>
                  <a:lnTo>
                    <a:pt x="1056" y="1824"/>
                  </a:lnTo>
                  <a:lnTo>
                    <a:pt x="1056" y="1832"/>
                  </a:lnTo>
                  <a:lnTo>
                    <a:pt x="1056" y="1841"/>
                  </a:lnTo>
                  <a:lnTo>
                    <a:pt x="1062" y="1850"/>
                  </a:lnTo>
                  <a:lnTo>
                    <a:pt x="1074" y="1855"/>
                  </a:lnTo>
                  <a:lnTo>
                    <a:pt x="1082" y="1855"/>
                  </a:lnTo>
                  <a:lnTo>
                    <a:pt x="1091" y="1855"/>
                  </a:lnTo>
                  <a:lnTo>
                    <a:pt x="1103" y="1855"/>
                  </a:lnTo>
                  <a:lnTo>
                    <a:pt x="1112" y="1855"/>
                  </a:lnTo>
                  <a:lnTo>
                    <a:pt x="1120" y="1855"/>
                  </a:lnTo>
                  <a:lnTo>
                    <a:pt x="1132" y="1855"/>
                  </a:lnTo>
                  <a:lnTo>
                    <a:pt x="1144" y="1855"/>
                  </a:lnTo>
                  <a:lnTo>
                    <a:pt x="1152" y="1852"/>
                  </a:lnTo>
                  <a:lnTo>
                    <a:pt x="1167" y="1852"/>
                  </a:lnTo>
                  <a:lnTo>
                    <a:pt x="1176" y="1844"/>
                  </a:lnTo>
                  <a:lnTo>
                    <a:pt x="1179" y="1835"/>
                  </a:lnTo>
                  <a:lnTo>
                    <a:pt x="1181" y="1827"/>
                  </a:lnTo>
                  <a:lnTo>
                    <a:pt x="1184" y="1835"/>
                  </a:lnTo>
                  <a:lnTo>
                    <a:pt x="1184" y="1844"/>
                  </a:lnTo>
                  <a:lnTo>
                    <a:pt x="1181" y="1852"/>
                  </a:lnTo>
                  <a:lnTo>
                    <a:pt x="1170" y="1858"/>
                  </a:lnTo>
                  <a:lnTo>
                    <a:pt x="1173" y="1867"/>
                  </a:lnTo>
                  <a:lnTo>
                    <a:pt x="1170" y="1876"/>
                  </a:lnTo>
                  <a:lnTo>
                    <a:pt x="1164" y="1884"/>
                  </a:lnTo>
                  <a:lnTo>
                    <a:pt x="1161" y="1893"/>
                  </a:lnTo>
                  <a:lnTo>
                    <a:pt x="1161" y="1901"/>
                  </a:lnTo>
                  <a:lnTo>
                    <a:pt x="1158" y="1910"/>
                  </a:lnTo>
                  <a:lnTo>
                    <a:pt x="1149" y="1913"/>
                  </a:lnTo>
                  <a:lnTo>
                    <a:pt x="1147" y="1922"/>
                  </a:lnTo>
                  <a:lnTo>
                    <a:pt x="1147" y="1930"/>
                  </a:lnTo>
                  <a:lnTo>
                    <a:pt x="1144" y="1939"/>
                  </a:lnTo>
                  <a:lnTo>
                    <a:pt x="1144" y="1948"/>
                  </a:lnTo>
                  <a:lnTo>
                    <a:pt x="1141" y="1956"/>
                  </a:lnTo>
                  <a:lnTo>
                    <a:pt x="1141" y="1968"/>
                  </a:lnTo>
                  <a:lnTo>
                    <a:pt x="1141" y="1976"/>
                  </a:lnTo>
                  <a:lnTo>
                    <a:pt x="1155" y="1956"/>
                  </a:lnTo>
                  <a:lnTo>
                    <a:pt x="1144" y="1956"/>
                  </a:lnTo>
                  <a:lnTo>
                    <a:pt x="1144" y="1965"/>
                  </a:lnTo>
                  <a:lnTo>
                    <a:pt x="1144" y="1974"/>
                  </a:lnTo>
                  <a:lnTo>
                    <a:pt x="1144" y="1982"/>
                  </a:lnTo>
                  <a:lnTo>
                    <a:pt x="1138" y="1991"/>
                  </a:lnTo>
                  <a:lnTo>
                    <a:pt x="1129" y="1997"/>
                  </a:lnTo>
                  <a:lnTo>
                    <a:pt x="1120" y="1997"/>
                  </a:lnTo>
                  <a:lnTo>
                    <a:pt x="1117" y="2005"/>
                  </a:lnTo>
                  <a:lnTo>
                    <a:pt x="1117" y="2014"/>
                  </a:lnTo>
                  <a:lnTo>
                    <a:pt x="1117" y="2023"/>
                  </a:lnTo>
                  <a:lnTo>
                    <a:pt x="1117" y="2031"/>
                  </a:lnTo>
                  <a:lnTo>
                    <a:pt x="1120" y="2040"/>
                  </a:lnTo>
                  <a:lnTo>
                    <a:pt x="1129" y="2046"/>
                  </a:lnTo>
                  <a:lnTo>
                    <a:pt x="1144" y="2054"/>
                  </a:lnTo>
                  <a:lnTo>
                    <a:pt x="1152" y="2054"/>
                  </a:lnTo>
                  <a:lnTo>
                    <a:pt x="1158" y="2046"/>
                  </a:lnTo>
                  <a:lnTo>
                    <a:pt x="1158" y="2037"/>
                  </a:lnTo>
                  <a:lnTo>
                    <a:pt x="1170" y="2037"/>
                  </a:lnTo>
                  <a:lnTo>
                    <a:pt x="1179" y="2037"/>
                  </a:lnTo>
                  <a:lnTo>
                    <a:pt x="1187" y="2037"/>
                  </a:lnTo>
                  <a:lnTo>
                    <a:pt x="1199" y="2037"/>
                  </a:lnTo>
                  <a:lnTo>
                    <a:pt x="1208" y="2040"/>
                  </a:lnTo>
                  <a:lnTo>
                    <a:pt x="1216" y="2043"/>
                  </a:lnTo>
                  <a:lnTo>
                    <a:pt x="1225" y="2040"/>
                  </a:lnTo>
                  <a:lnTo>
                    <a:pt x="1228" y="2031"/>
                  </a:lnTo>
                  <a:lnTo>
                    <a:pt x="1231" y="2023"/>
                  </a:lnTo>
                  <a:lnTo>
                    <a:pt x="1237" y="2014"/>
                  </a:lnTo>
                  <a:lnTo>
                    <a:pt x="1245" y="2005"/>
                  </a:lnTo>
                  <a:lnTo>
                    <a:pt x="1251" y="1997"/>
                  </a:lnTo>
                  <a:lnTo>
                    <a:pt x="1260" y="1991"/>
                  </a:lnTo>
                  <a:lnTo>
                    <a:pt x="1266" y="1982"/>
                  </a:lnTo>
                  <a:lnTo>
                    <a:pt x="1269" y="1974"/>
                  </a:lnTo>
                  <a:lnTo>
                    <a:pt x="1272" y="1965"/>
                  </a:lnTo>
                  <a:lnTo>
                    <a:pt x="1280" y="1962"/>
                  </a:lnTo>
                  <a:lnTo>
                    <a:pt x="1289" y="1962"/>
                  </a:lnTo>
                  <a:lnTo>
                    <a:pt x="1298" y="1959"/>
                  </a:lnTo>
                  <a:lnTo>
                    <a:pt x="1301" y="1950"/>
                  </a:lnTo>
                  <a:lnTo>
                    <a:pt x="1304" y="1942"/>
                  </a:lnTo>
                  <a:lnTo>
                    <a:pt x="1301" y="1933"/>
                  </a:lnTo>
                  <a:lnTo>
                    <a:pt x="1292" y="1925"/>
                  </a:lnTo>
                  <a:lnTo>
                    <a:pt x="1301" y="1919"/>
                  </a:lnTo>
                  <a:lnTo>
                    <a:pt x="1310" y="1927"/>
                  </a:lnTo>
                  <a:lnTo>
                    <a:pt x="1318" y="1933"/>
                  </a:lnTo>
                  <a:lnTo>
                    <a:pt x="1324" y="1942"/>
                  </a:lnTo>
                  <a:lnTo>
                    <a:pt x="1333" y="1950"/>
                  </a:lnTo>
                  <a:lnTo>
                    <a:pt x="1342" y="1950"/>
                  </a:lnTo>
                  <a:lnTo>
                    <a:pt x="1350" y="1950"/>
                  </a:lnTo>
                  <a:lnTo>
                    <a:pt x="1353" y="1942"/>
                  </a:lnTo>
                  <a:lnTo>
                    <a:pt x="1353" y="1933"/>
                  </a:lnTo>
                  <a:lnTo>
                    <a:pt x="1356" y="1925"/>
                  </a:lnTo>
                  <a:lnTo>
                    <a:pt x="1356" y="1916"/>
                  </a:lnTo>
                  <a:lnTo>
                    <a:pt x="1359" y="1907"/>
                  </a:lnTo>
                  <a:lnTo>
                    <a:pt x="1359" y="1899"/>
                  </a:lnTo>
                  <a:lnTo>
                    <a:pt x="1356" y="1890"/>
                  </a:lnTo>
                  <a:lnTo>
                    <a:pt x="1347" y="1881"/>
                  </a:lnTo>
                  <a:lnTo>
                    <a:pt x="1347" y="1870"/>
                  </a:lnTo>
                  <a:lnTo>
                    <a:pt x="1347" y="1861"/>
                  </a:lnTo>
                  <a:lnTo>
                    <a:pt x="1356" y="1855"/>
                  </a:lnTo>
                  <a:lnTo>
                    <a:pt x="1362" y="1847"/>
                  </a:lnTo>
                  <a:lnTo>
                    <a:pt x="1371" y="1844"/>
                  </a:lnTo>
                  <a:lnTo>
                    <a:pt x="1379" y="1835"/>
                  </a:lnTo>
                  <a:lnTo>
                    <a:pt x="1382" y="1827"/>
                  </a:lnTo>
                  <a:lnTo>
                    <a:pt x="1391" y="1821"/>
                  </a:lnTo>
                  <a:lnTo>
                    <a:pt x="1400" y="1815"/>
                  </a:lnTo>
                  <a:lnTo>
                    <a:pt x="1406" y="1806"/>
                  </a:lnTo>
                  <a:lnTo>
                    <a:pt x="1414" y="1801"/>
                  </a:lnTo>
                  <a:lnTo>
                    <a:pt x="1423" y="1801"/>
                  </a:lnTo>
                  <a:lnTo>
                    <a:pt x="1435" y="1798"/>
                  </a:lnTo>
                  <a:lnTo>
                    <a:pt x="1443" y="1792"/>
                  </a:lnTo>
                  <a:lnTo>
                    <a:pt x="1452" y="1792"/>
                  </a:lnTo>
                  <a:lnTo>
                    <a:pt x="1464" y="1789"/>
                  </a:lnTo>
                  <a:lnTo>
                    <a:pt x="1473" y="1789"/>
                  </a:lnTo>
                  <a:lnTo>
                    <a:pt x="1481" y="1789"/>
                  </a:lnTo>
                  <a:lnTo>
                    <a:pt x="1490" y="1786"/>
                  </a:lnTo>
                  <a:lnTo>
                    <a:pt x="1499" y="1786"/>
                  </a:lnTo>
                  <a:lnTo>
                    <a:pt x="1508" y="1786"/>
                  </a:lnTo>
                  <a:lnTo>
                    <a:pt x="1516" y="1783"/>
                  </a:lnTo>
                  <a:lnTo>
                    <a:pt x="1516" y="1775"/>
                  </a:lnTo>
                  <a:lnTo>
                    <a:pt x="1516" y="1766"/>
                  </a:lnTo>
                  <a:lnTo>
                    <a:pt x="1513" y="1757"/>
                  </a:lnTo>
                  <a:lnTo>
                    <a:pt x="1522" y="1752"/>
                  </a:lnTo>
                  <a:lnTo>
                    <a:pt x="1528" y="1743"/>
                  </a:lnTo>
                  <a:lnTo>
                    <a:pt x="1537" y="1737"/>
                  </a:lnTo>
                  <a:lnTo>
                    <a:pt x="1545" y="1737"/>
                  </a:lnTo>
                  <a:lnTo>
                    <a:pt x="1554" y="1734"/>
                  </a:lnTo>
                  <a:lnTo>
                    <a:pt x="1563" y="1729"/>
                  </a:lnTo>
                  <a:lnTo>
                    <a:pt x="1572" y="1729"/>
                  </a:lnTo>
                  <a:lnTo>
                    <a:pt x="1580" y="1737"/>
                  </a:lnTo>
                  <a:lnTo>
                    <a:pt x="1589" y="1743"/>
                  </a:lnTo>
                  <a:lnTo>
                    <a:pt x="1598" y="1749"/>
                  </a:lnTo>
                  <a:lnTo>
                    <a:pt x="1601" y="1757"/>
                  </a:lnTo>
                  <a:lnTo>
                    <a:pt x="1601" y="1766"/>
                  </a:lnTo>
                  <a:lnTo>
                    <a:pt x="1604" y="1775"/>
                  </a:lnTo>
                  <a:lnTo>
                    <a:pt x="1604" y="1783"/>
                  </a:lnTo>
                  <a:lnTo>
                    <a:pt x="1592" y="1789"/>
                  </a:lnTo>
                  <a:lnTo>
                    <a:pt x="1580" y="1789"/>
                  </a:lnTo>
                  <a:lnTo>
                    <a:pt x="1572" y="1792"/>
                  </a:lnTo>
                  <a:lnTo>
                    <a:pt x="1566" y="1801"/>
                  </a:lnTo>
                  <a:lnTo>
                    <a:pt x="1557" y="1806"/>
                  </a:lnTo>
                  <a:lnTo>
                    <a:pt x="1548" y="1812"/>
                  </a:lnTo>
                  <a:lnTo>
                    <a:pt x="1537" y="1815"/>
                  </a:lnTo>
                  <a:lnTo>
                    <a:pt x="1528" y="1818"/>
                  </a:lnTo>
                  <a:lnTo>
                    <a:pt x="1519" y="1824"/>
                  </a:lnTo>
                  <a:lnTo>
                    <a:pt x="1510" y="1829"/>
                  </a:lnTo>
                  <a:lnTo>
                    <a:pt x="1502" y="1829"/>
                  </a:lnTo>
                  <a:lnTo>
                    <a:pt x="1490" y="1832"/>
                  </a:lnTo>
                  <a:lnTo>
                    <a:pt x="1481" y="1835"/>
                  </a:lnTo>
                  <a:lnTo>
                    <a:pt x="1473" y="1835"/>
                  </a:lnTo>
                  <a:lnTo>
                    <a:pt x="1464" y="1841"/>
                  </a:lnTo>
                  <a:lnTo>
                    <a:pt x="1458" y="1850"/>
                  </a:lnTo>
                  <a:lnTo>
                    <a:pt x="1452" y="1858"/>
                  </a:lnTo>
                  <a:lnTo>
                    <a:pt x="1449" y="1867"/>
                  </a:lnTo>
                  <a:lnTo>
                    <a:pt x="1449" y="1876"/>
                  </a:lnTo>
                  <a:lnTo>
                    <a:pt x="1446" y="1884"/>
                  </a:lnTo>
                  <a:lnTo>
                    <a:pt x="1443" y="1893"/>
                  </a:lnTo>
                  <a:lnTo>
                    <a:pt x="1438" y="1901"/>
                  </a:lnTo>
                  <a:lnTo>
                    <a:pt x="1435" y="1910"/>
                  </a:lnTo>
                  <a:lnTo>
                    <a:pt x="1429" y="1919"/>
                  </a:lnTo>
                  <a:lnTo>
                    <a:pt x="1426" y="1927"/>
                  </a:lnTo>
                  <a:lnTo>
                    <a:pt x="1423" y="1936"/>
                  </a:lnTo>
                  <a:lnTo>
                    <a:pt x="1423" y="1945"/>
                  </a:lnTo>
                  <a:lnTo>
                    <a:pt x="1417" y="1953"/>
                  </a:lnTo>
                  <a:lnTo>
                    <a:pt x="1417" y="1962"/>
                  </a:lnTo>
                  <a:lnTo>
                    <a:pt x="1426" y="1962"/>
                  </a:lnTo>
                  <a:lnTo>
                    <a:pt x="1435" y="1974"/>
                  </a:lnTo>
                  <a:lnTo>
                    <a:pt x="1441" y="1982"/>
                  </a:lnTo>
                  <a:lnTo>
                    <a:pt x="1441" y="1991"/>
                  </a:lnTo>
                  <a:lnTo>
                    <a:pt x="1449" y="1991"/>
                  </a:lnTo>
                  <a:lnTo>
                    <a:pt x="1461" y="1991"/>
                  </a:lnTo>
                  <a:lnTo>
                    <a:pt x="1470" y="1991"/>
                  </a:lnTo>
                  <a:lnTo>
                    <a:pt x="1484" y="1994"/>
                  </a:lnTo>
                  <a:lnTo>
                    <a:pt x="1493" y="1994"/>
                  </a:lnTo>
                  <a:lnTo>
                    <a:pt x="1502" y="1994"/>
                  </a:lnTo>
                  <a:lnTo>
                    <a:pt x="1510" y="1991"/>
                  </a:lnTo>
                  <a:lnTo>
                    <a:pt x="1519" y="1997"/>
                  </a:lnTo>
                  <a:lnTo>
                    <a:pt x="1531" y="1988"/>
                  </a:lnTo>
                  <a:lnTo>
                    <a:pt x="1540" y="1991"/>
                  </a:lnTo>
                  <a:lnTo>
                    <a:pt x="1548" y="1994"/>
                  </a:lnTo>
                  <a:lnTo>
                    <a:pt x="1557" y="1997"/>
                  </a:lnTo>
                  <a:lnTo>
                    <a:pt x="1566" y="1997"/>
                  </a:lnTo>
                  <a:lnTo>
                    <a:pt x="1569" y="2005"/>
                  </a:lnTo>
                  <a:lnTo>
                    <a:pt x="1569" y="2014"/>
                  </a:lnTo>
                  <a:lnTo>
                    <a:pt x="1569" y="2023"/>
                  </a:lnTo>
                  <a:lnTo>
                    <a:pt x="1572" y="2031"/>
                  </a:lnTo>
                  <a:lnTo>
                    <a:pt x="1577" y="2040"/>
                  </a:lnTo>
                  <a:lnTo>
                    <a:pt x="1586" y="2048"/>
                  </a:lnTo>
                  <a:lnTo>
                    <a:pt x="1577" y="2040"/>
                  </a:lnTo>
                  <a:lnTo>
                    <a:pt x="1569" y="2037"/>
                  </a:lnTo>
                  <a:lnTo>
                    <a:pt x="1557" y="2037"/>
                  </a:lnTo>
                  <a:lnTo>
                    <a:pt x="1548" y="2040"/>
                  </a:lnTo>
                  <a:lnTo>
                    <a:pt x="1548" y="2048"/>
                  </a:lnTo>
                  <a:lnTo>
                    <a:pt x="1540" y="2054"/>
                  </a:lnTo>
                  <a:lnTo>
                    <a:pt x="1531" y="2051"/>
                  </a:lnTo>
                  <a:lnTo>
                    <a:pt x="1522" y="2043"/>
                  </a:lnTo>
                  <a:lnTo>
                    <a:pt x="1513" y="2034"/>
                  </a:lnTo>
                  <a:lnTo>
                    <a:pt x="1505" y="2031"/>
                  </a:lnTo>
                  <a:lnTo>
                    <a:pt x="1496" y="2031"/>
                  </a:lnTo>
                  <a:lnTo>
                    <a:pt x="1487" y="2028"/>
                  </a:lnTo>
                  <a:lnTo>
                    <a:pt x="1478" y="2025"/>
                  </a:lnTo>
                  <a:lnTo>
                    <a:pt x="1470" y="2023"/>
                  </a:lnTo>
                  <a:lnTo>
                    <a:pt x="1461" y="2020"/>
                  </a:lnTo>
                  <a:lnTo>
                    <a:pt x="1452" y="2017"/>
                  </a:lnTo>
                  <a:lnTo>
                    <a:pt x="1441" y="2011"/>
                  </a:lnTo>
                  <a:lnTo>
                    <a:pt x="1432" y="2011"/>
                  </a:lnTo>
                  <a:lnTo>
                    <a:pt x="1426" y="2020"/>
                  </a:lnTo>
                  <a:lnTo>
                    <a:pt x="1426" y="2028"/>
                  </a:lnTo>
                  <a:lnTo>
                    <a:pt x="1423" y="2037"/>
                  </a:lnTo>
                  <a:lnTo>
                    <a:pt x="1417" y="2046"/>
                  </a:lnTo>
                  <a:lnTo>
                    <a:pt x="1414" y="2054"/>
                  </a:lnTo>
                  <a:lnTo>
                    <a:pt x="1426" y="2060"/>
                  </a:lnTo>
                  <a:lnTo>
                    <a:pt x="1432" y="2069"/>
                  </a:lnTo>
                  <a:lnTo>
                    <a:pt x="1429" y="2077"/>
                  </a:lnTo>
                  <a:lnTo>
                    <a:pt x="1423" y="2086"/>
                  </a:lnTo>
                  <a:lnTo>
                    <a:pt x="1414" y="2089"/>
                  </a:lnTo>
                  <a:lnTo>
                    <a:pt x="1409" y="2097"/>
                  </a:lnTo>
                  <a:lnTo>
                    <a:pt x="1403" y="2106"/>
                  </a:lnTo>
                  <a:lnTo>
                    <a:pt x="1400" y="2115"/>
                  </a:lnTo>
                  <a:lnTo>
                    <a:pt x="1391" y="2112"/>
                  </a:lnTo>
                  <a:lnTo>
                    <a:pt x="1388" y="2103"/>
                  </a:lnTo>
                  <a:lnTo>
                    <a:pt x="1385" y="2095"/>
                  </a:lnTo>
                  <a:lnTo>
                    <a:pt x="1382" y="2086"/>
                  </a:lnTo>
                  <a:lnTo>
                    <a:pt x="1382" y="2077"/>
                  </a:lnTo>
                  <a:lnTo>
                    <a:pt x="1379" y="2069"/>
                  </a:lnTo>
                  <a:lnTo>
                    <a:pt x="1371" y="2063"/>
                  </a:lnTo>
                  <a:lnTo>
                    <a:pt x="1359" y="2063"/>
                  </a:lnTo>
                  <a:lnTo>
                    <a:pt x="1350" y="2063"/>
                  </a:lnTo>
                  <a:lnTo>
                    <a:pt x="1344" y="2072"/>
                  </a:lnTo>
                  <a:lnTo>
                    <a:pt x="1339" y="2080"/>
                  </a:lnTo>
                  <a:lnTo>
                    <a:pt x="1333" y="2089"/>
                  </a:lnTo>
                  <a:lnTo>
                    <a:pt x="1327" y="2097"/>
                  </a:lnTo>
                  <a:lnTo>
                    <a:pt x="1321" y="2106"/>
                  </a:lnTo>
                  <a:lnTo>
                    <a:pt x="1312" y="2109"/>
                  </a:lnTo>
                  <a:lnTo>
                    <a:pt x="1304" y="2112"/>
                  </a:lnTo>
                  <a:lnTo>
                    <a:pt x="1304" y="2120"/>
                  </a:lnTo>
                  <a:lnTo>
                    <a:pt x="1301" y="2129"/>
                  </a:lnTo>
                  <a:lnTo>
                    <a:pt x="1298" y="2138"/>
                  </a:lnTo>
                  <a:lnTo>
                    <a:pt x="1295" y="2146"/>
                  </a:lnTo>
                  <a:lnTo>
                    <a:pt x="1295" y="2095"/>
                  </a:lnTo>
                  <a:lnTo>
                    <a:pt x="1304" y="2103"/>
                  </a:lnTo>
                  <a:lnTo>
                    <a:pt x="1304" y="2115"/>
                  </a:lnTo>
                  <a:lnTo>
                    <a:pt x="1301" y="2123"/>
                  </a:lnTo>
                  <a:lnTo>
                    <a:pt x="1298" y="2132"/>
                  </a:lnTo>
                  <a:lnTo>
                    <a:pt x="1298" y="2141"/>
                  </a:lnTo>
                  <a:lnTo>
                    <a:pt x="1295" y="2149"/>
                  </a:lnTo>
                  <a:lnTo>
                    <a:pt x="1292" y="2161"/>
                  </a:lnTo>
                  <a:lnTo>
                    <a:pt x="1289" y="2169"/>
                  </a:lnTo>
                  <a:lnTo>
                    <a:pt x="1280" y="2175"/>
                  </a:lnTo>
                  <a:lnTo>
                    <a:pt x="1278" y="2167"/>
                  </a:lnTo>
                  <a:lnTo>
                    <a:pt x="1275" y="2155"/>
                  </a:lnTo>
                  <a:lnTo>
                    <a:pt x="1272" y="2146"/>
                  </a:lnTo>
                  <a:lnTo>
                    <a:pt x="1263" y="2146"/>
                  </a:lnTo>
                  <a:lnTo>
                    <a:pt x="1251" y="2149"/>
                  </a:lnTo>
                  <a:lnTo>
                    <a:pt x="1245" y="2158"/>
                  </a:lnTo>
                  <a:lnTo>
                    <a:pt x="1240" y="2167"/>
                  </a:lnTo>
                  <a:lnTo>
                    <a:pt x="1228" y="2167"/>
                  </a:lnTo>
                  <a:lnTo>
                    <a:pt x="1216" y="2167"/>
                  </a:lnTo>
                  <a:lnTo>
                    <a:pt x="1213" y="2155"/>
                  </a:lnTo>
                  <a:lnTo>
                    <a:pt x="1213" y="2144"/>
                  </a:lnTo>
                  <a:lnTo>
                    <a:pt x="1205" y="2138"/>
                  </a:lnTo>
                  <a:lnTo>
                    <a:pt x="1196" y="2132"/>
                  </a:lnTo>
                  <a:lnTo>
                    <a:pt x="1179" y="2126"/>
                  </a:lnTo>
                  <a:lnTo>
                    <a:pt x="1170" y="2123"/>
                  </a:lnTo>
                  <a:lnTo>
                    <a:pt x="1158" y="2123"/>
                  </a:lnTo>
                  <a:lnTo>
                    <a:pt x="1152" y="2132"/>
                  </a:lnTo>
                  <a:lnTo>
                    <a:pt x="1141" y="2135"/>
                  </a:lnTo>
                  <a:lnTo>
                    <a:pt x="1132" y="2132"/>
                  </a:lnTo>
                  <a:lnTo>
                    <a:pt x="1123" y="2123"/>
                  </a:lnTo>
                  <a:lnTo>
                    <a:pt x="1114" y="2118"/>
                  </a:lnTo>
                  <a:lnTo>
                    <a:pt x="1106" y="2115"/>
                  </a:lnTo>
                  <a:lnTo>
                    <a:pt x="1097" y="2115"/>
                  </a:lnTo>
                  <a:lnTo>
                    <a:pt x="1094" y="2106"/>
                  </a:lnTo>
                  <a:lnTo>
                    <a:pt x="1094" y="2097"/>
                  </a:lnTo>
                  <a:lnTo>
                    <a:pt x="1094" y="2089"/>
                  </a:lnTo>
                  <a:lnTo>
                    <a:pt x="1091" y="2077"/>
                  </a:lnTo>
                  <a:lnTo>
                    <a:pt x="1091" y="2069"/>
                  </a:lnTo>
                  <a:lnTo>
                    <a:pt x="1082" y="2066"/>
                  </a:lnTo>
                  <a:lnTo>
                    <a:pt x="1074" y="2066"/>
                  </a:lnTo>
                  <a:lnTo>
                    <a:pt x="1065" y="2066"/>
                  </a:lnTo>
                  <a:lnTo>
                    <a:pt x="1056" y="2066"/>
                  </a:lnTo>
                  <a:lnTo>
                    <a:pt x="1048" y="2066"/>
                  </a:lnTo>
                  <a:lnTo>
                    <a:pt x="1039" y="2066"/>
                  </a:lnTo>
                  <a:lnTo>
                    <a:pt x="1027" y="2063"/>
                  </a:lnTo>
                  <a:lnTo>
                    <a:pt x="1021" y="2054"/>
                  </a:lnTo>
                  <a:lnTo>
                    <a:pt x="1021" y="2046"/>
                  </a:lnTo>
                  <a:lnTo>
                    <a:pt x="1016" y="2048"/>
                  </a:lnTo>
                  <a:lnTo>
                    <a:pt x="1036" y="2031"/>
                  </a:lnTo>
                  <a:lnTo>
                    <a:pt x="1048" y="2020"/>
                  </a:lnTo>
                  <a:lnTo>
                    <a:pt x="1059" y="2017"/>
                  </a:lnTo>
                  <a:lnTo>
                    <a:pt x="1062" y="2025"/>
                  </a:lnTo>
                  <a:lnTo>
                    <a:pt x="1050" y="2025"/>
                  </a:lnTo>
                  <a:lnTo>
                    <a:pt x="1059" y="2025"/>
                  </a:lnTo>
                  <a:lnTo>
                    <a:pt x="1071" y="2025"/>
                  </a:lnTo>
                  <a:lnTo>
                    <a:pt x="1080" y="2025"/>
                  </a:lnTo>
                  <a:lnTo>
                    <a:pt x="1088" y="2028"/>
                  </a:lnTo>
                  <a:lnTo>
                    <a:pt x="1097" y="2028"/>
                  </a:lnTo>
                  <a:lnTo>
                    <a:pt x="1106" y="2025"/>
                  </a:lnTo>
                  <a:lnTo>
                    <a:pt x="1109" y="2017"/>
                  </a:lnTo>
                  <a:lnTo>
                    <a:pt x="1112" y="2008"/>
                  </a:lnTo>
                  <a:lnTo>
                    <a:pt x="1103" y="1999"/>
                  </a:lnTo>
                  <a:lnTo>
                    <a:pt x="1100" y="1991"/>
                  </a:lnTo>
                  <a:lnTo>
                    <a:pt x="1094" y="1982"/>
                  </a:lnTo>
                  <a:lnTo>
                    <a:pt x="1091" y="1974"/>
                  </a:lnTo>
                  <a:lnTo>
                    <a:pt x="1082" y="1971"/>
                  </a:lnTo>
                  <a:lnTo>
                    <a:pt x="1077" y="1979"/>
                  </a:lnTo>
                  <a:lnTo>
                    <a:pt x="1077" y="1991"/>
                  </a:lnTo>
                  <a:lnTo>
                    <a:pt x="1077" y="1999"/>
                  </a:lnTo>
                  <a:lnTo>
                    <a:pt x="1071" y="2008"/>
                  </a:lnTo>
                  <a:lnTo>
                    <a:pt x="1068" y="2020"/>
                  </a:lnTo>
                  <a:lnTo>
                    <a:pt x="1068" y="2028"/>
                  </a:lnTo>
                  <a:lnTo>
                    <a:pt x="1059" y="2031"/>
                  </a:lnTo>
                  <a:lnTo>
                    <a:pt x="1048" y="2031"/>
                  </a:lnTo>
                  <a:lnTo>
                    <a:pt x="1039" y="2031"/>
                  </a:lnTo>
                  <a:lnTo>
                    <a:pt x="1030" y="2031"/>
                  </a:lnTo>
                  <a:lnTo>
                    <a:pt x="1027" y="2020"/>
                  </a:lnTo>
                  <a:lnTo>
                    <a:pt x="1027" y="2011"/>
                  </a:lnTo>
                  <a:lnTo>
                    <a:pt x="1027" y="2002"/>
                  </a:lnTo>
                  <a:lnTo>
                    <a:pt x="1027" y="1994"/>
                  </a:lnTo>
                  <a:lnTo>
                    <a:pt x="1027" y="1985"/>
                  </a:lnTo>
                  <a:lnTo>
                    <a:pt x="1030" y="1976"/>
                  </a:lnTo>
                  <a:lnTo>
                    <a:pt x="1039" y="1974"/>
                  </a:lnTo>
                  <a:lnTo>
                    <a:pt x="1042" y="1982"/>
                  </a:lnTo>
                  <a:lnTo>
                    <a:pt x="1042" y="1994"/>
                  </a:lnTo>
                  <a:lnTo>
                    <a:pt x="1045" y="2002"/>
                  </a:lnTo>
                  <a:lnTo>
                    <a:pt x="1050" y="2011"/>
                  </a:lnTo>
                  <a:lnTo>
                    <a:pt x="1062" y="2014"/>
                  </a:lnTo>
                  <a:lnTo>
                    <a:pt x="1074" y="2014"/>
                  </a:lnTo>
                  <a:lnTo>
                    <a:pt x="1082" y="2005"/>
                  </a:lnTo>
                  <a:lnTo>
                    <a:pt x="1082" y="1997"/>
                  </a:lnTo>
                  <a:lnTo>
                    <a:pt x="1074" y="1985"/>
                  </a:lnTo>
                  <a:lnTo>
                    <a:pt x="1065" y="1979"/>
                  </a:lnTo>
                  <a:lnTo>
                    <a:pt x="1065" y="1971"/>
                  </a:lnTo>
                  <a:lnTo>
                    <a:pt x="1074" y="1968"/>
                  </a:lnTo>
                  <a:lnTo>
                    <a:pt x="1082" y="1968"/>
                  </a:lnTo>
                  <a:lnTo>
                    <a:pt x="1091" y="1962"/>
                  </a:lnTo>
                  <a:lnTo>
                    <a:pt x="1091" y="1953"/>
                  </a:lnTo>
                  <a:lnTo>
                    <a:pt x="1091" y="1945"/>
                  </a:lnTo>
                  <a:lnTo>
                    <a:pt x="1100" y="1939"/>
                  </a:lnTo>
                  <a:lnTo>
                    <a:pt x="1109" y="1936"/>
                  </a:lnTo>
                  <a:lnTo>
                    <a:pt x="1117" y="1936"/>
                  </a:lnTo>
                  <a:lnTo>
                    <a:pt x="1123" y="1927"/>
                  </a:lnTo>
                  <a:lnTo>
                    <a:pt x="1126" y="1919"/>
                  </a:lnTo>
                  <a:lnTo>
                    <a:pt x="1126" y="1910"/>
                  </a:lnTo>
                  <a:lnTo>
                    <a:pt x="1126" y="1901"/>
                  </a:lnTo>
                  <a:lnTo>
                    <a:pt x="1114" y="1901"/>
                  </a:lnTo>
                  <a:lnTo>
                    <a:pt x="1106" y="1901"/>
                  </a:lnTo>
                  <a:lnTo>
                    <a:pt x="1097" y="1901"/>
                  </a:lnTo>
                  <a:lnTo>
                    <a:pt x="1088" y="1904"/>
                  </a:lnTo>
                  <a:lnTo>
                    <a:pt x="1080" y="1910"/>
                  </a:lnTo>
                  <a:lnTo>
                    <a:pt x="1077" y="1925"/>
                  </a:lnTo>
                  <a:lnTo>
                    <a:pt x="1077" y="1933"/>
                  </a:lnTo>
                  <a:lnTo>
                    <a:pt x="1068" y="1933"/>
                  </a:lnTo>
                  <a:lnTo>
                    <a:pt x="1059" y="1922"/>
                  </a:lnTo>
                  <a:lnTo>
                    <a:pt x="1056" y="1913"/>
                  </a:lnTo>
                  <a:lnTo>
                    <a:pt x="1068" y="1910"/>
                  </a:lnTo>
                  <a:lnTo>
                    <a:pt x="1077" y="1910"/>
                  </a:lnTo>
                  <a:lnTo>
                    <a:pt x="1065" y="1901"/>
                  </a:lnTo>
                  <a:lnTo>
                    <a:pt x="1056" y="1896"/>
                  </a:lnTo>
                  <a:lnTo>
                    <a:pt x="1056" y="1904"/>
                  </a:lnTo>
                  <a:lnTo>
                    <a:pt x="1048" y="1910"/>
                  </a:lnTo>
                  <a:lnTo>
                    <a:pt x="1039" y="1919"/>
                  </a:lnTo>
                  <a:lnTo>
                    <a:pt x="1036" y="1927"/>
                  </a:lnTo>
                  <a:lnTo>
                    <a:pt x="1030" y="1936"/>
                  </a:lnTo>
                  <a:lnTo>
                    <a:pt x="1024" y="1945"/>
                  </a:lnTo>
                  <a:lnTo>
                    <a:pt x="1016" y="1950"/>
                  </a:lnTo>
                  <a:lnTo>
                    <a:pt x="1004" y="1953"/>
                  </a:lnTo>
                  <a:lnTo>
                    <a:pt x="1001" y="1962"/>
                  </a:lnTo>
                  <a:lnTo>
                    <a:pt x="1001" y="1971"/>
                  </a:lnTo>
                  <a:lnTo>
                    <a:pt x="1001" y="1979"/>
                  </a:lnTo>
                  <a:lnTo>
                    <a:pt x="1001" y="1988"/>
                  </a:lnTo>
                  <a:lnTo>
                    <a:pt x="1001" y="1997"/>
                  </a:lnTo>
                  <a:lnTo>
                    <a:pt x="995" y="2005"/>
                  </a:lnTo>
                  <a:lnTo>
                    <a:pt x="986" y="2011"/>
                  </a:lnTo>
                  <a:lnTo>
                    <a:pt x="981" y="2020"/>
                  </a:lnTo>
                  <a:lnTo>
                    <a:pt x="981" y="2028"/>
                  </a:lnTo>
                  <a:lnTo>
                    <a:pt x="981" y="2037"/>
                  </a:lnTo>
                  <a:lnTo>
                    <a:pt x="978" y="2046"/>
                  </a:lnTo>
                  <a:lnTo>
                    <a:pt x="978" y="2054"/>
                  </a:lnTo>
                  <a:lnTo>
                    <a:pt x="983" y="2046"/>
                  </a:lnTo>
                  <a:lnTo>
                    <a:pt x="983" y="2037"/>
                  </a:lnTo>
                  <a:lnTo>
                    <a:pt x="975" y="2034"/>
                  </a:lnTo>
                  <a:lnTo>
                    <a:pt x="966" y="2034"/>
                  </a:lnTo>
                  <a:lnTo>
                    <a:pt x="957" y="2034"/>
                  </a:lnTo>
                  <a:lnTo>
                    <a:pt x="949" y="2023"/>
                  </a:lnTo>
                  <a:lnTo>
                    <a:pt x="949" y="2011"/>
                  </a:lnTo>
                  <a:lnTo>
                    <a:pt x="940" y="2008"/>
                  </a:lnTo>
                  <a:lnTo>
                    <a:pt x="931" y="2008"/>
                  </a:lnTo>
                  <a:lnTo>
                    <a:pt x="922" y="2011"/>
                  </a:lnTo>
                  <a:lnTo>
                    <a:pt x="914" y="2008"/>
                  </a:lnTo>
                  <a:lnTo>
                    <a:pt x="899" y="2002"/>
                  </a:lnTo>
                  <a:lnTo>
                    <a:pt x="890" y="1988"/>
                  </a:lnTo>
                  <a:lnTo>
                    <a:pt x="885" y="1976"/>
                  </a:lnTo>
                  <a:lnTo>
                    <a:pt x="876" y="1976"/>
                  </a:lnTo>
                  <a:lnTo>
                    <a:pt x="867" y="1979"/>
                  </a:lnTo>
                  <a:lnTo>
                    <a:pt x="861" y="1988"/>
                  </a:lnTo>
                  <a:lnTo>
                    <a:pt x="852" y="1994"/>
                  </a:lnTo>
                  <a:lnTo>
                    <a:pt x="844" y="1999"/>
                  </a:lnTo>
                  <a:lnTo>
                    <a:pt x="835" y="2002"/>
                  </a:lnTo>
                  <a:lnTo>
                    <a:pt x="826" y="2005"/>
                  </a:lnTo>
                  <a:lnTo>
                    <a:pt x="818" y="2008"/>
                  </a:lnTo>
                  <a:lnTo>
                    <a:pt x="809" y="2008"/>
                  </a:lnTo>
                  <a:lnTo>
                    <a:pt x="797" y="2011"/>
                  </a:lnTo>
                  <a:lnTo>
                    <a:pt x="788" y="2011"/>
                  </a:lnTo>
                  <a:lnTo>
                    <a:pt x="797" y="2011"/>
                  </a:lnTo>
                  <a:lnTo>
                    <a:pt x="812" y="2014"/>
                  </a:lnTo>
                  <a:lnTo>
                    <a:pt x="803" y="2017"/>
                  </a:lnTo>
                  <a:lnTo>
                    <a:pt x="794" y="2020"/>
                  </a:lnTo>
                  <a:lnTo>
                    <a:pt x="803" y="2031"/>
                  </a:lnTo>
                  <a:lnTo>
                    <a:pt x="794" y="2031"/>
                  </a:lnTo>
                  <a:lnTo>
                    <a:pt x="786" y="2028"/>
                  </a:lnTo>
                  <a:lnTo>
                    <a:pt x="777" y="2023"/>
                  </a:lnTo>
                  <a:lnTo>
                    <a:pt x="771" y="2014"/>
                  </a:lnTo>
                  <a:lnTo>
                    <a:pt x="762" y="2011"/>
                  </a:lnTo>
                  <a:lnTo>
                    <a:pt x="751" y="2008"/>
                  </a:lnTo>
                  <a:lnTo>
                    <a:pt x="742" y="2008"/>
                  </a:lnTo>
                  <a:lnTo>
                    <a:pt x="733" y="2005"/>
                  </a:lnTo>
                  <a:lnTo>
                    <a:pt x="736" y="2002"/>
                  </a:lnTo>
                  <a:lnTo>
                    <a:pt x="721" y="1985"/>
                  </a:lnTo>
                  <a:lnTo>
                    <a:pt x="713" y="1985"/>
                  </a:lnTo>
                  <a:lnTo>
                    <a:pt x="710" y="1994"/>
                  </a:lnTo>
                  <a:lnTo>
                    <a:pt x="716" y="2005"/>
                  </a:lnTo>
                  <a:lnTo>
                    <a:pt x="713" y="2014"/>
                  </a:lnTo>
                  <a:lnTo>
                    <a:pt x="704" y="2020"/>
                  </a:lnTo>
                  <a:lnTo>
                    <a:pt x="704" y="2028"/>
                  </a:lnTo>
                  <a:lnTo>
                    <a:pt x="692" y="2031"/>
                  </a:lnTo>
                  <a:lnTo>
                    <a:pt x="684" y="2025"/>
                  </a:lnTo>
                  <a:lnTo>
                    <a:pt x="672" y="2020"/>
                  </a:lnTo>
                  <a:lnTo>
                    <a:pt x="660" y="2017"/>
                  </a:lnTo>
                  <a:lnTo>
                    <a:pt x="646" y="2011"/>
                  </a:lnTo>
                  <a:lnTo>
                    <a:pt x="634" y="2008"/>
                  </a:lnTo>
                  <a:lnTo>
                    <a:pt x="625" y="2005"/>
                  </a:lnTo>
                  <a:lnTo>
                    <a:pt x="622" y="1997"/>
                  </a:lnTo>
                  <a:lnTo>
                    <a:pt x="620" y="1988"/>
                  </a:lnTo>
                  <a:lnTo>
                    <a:pt x="611" y="1979"/>
                  </a:lnTo>
                  <a:lnTo>
                    <a:pt x="608" y="1971"/>
                  </a:lnTo>
                  <a:lnTo>
                    <a:pt x="599" y="1968"/>
                  </a:lnTo>
                  <a:lnTo>
                    <a:pt x="590" y="1974"/>
                  </a:lnTo>
                  <a:lnTo>
                    <a:pt x="588" y="1985"/>
                  </a:lnTo>
                  <a:lnTo>
                    <a:pt x="585" y="1997"/>
                  </a:lnTo>
                  <a:lnTo>
                    <a:pt x="576" y="2002"/>
                  </a:lnTo>
                  <a:lnTo>
                    <a:pt x="567" y="1991"/>
                  </a:lnTo>
                  <a:lnTo>
                    <a:pt x="561" y="1982"/>
                  </a:lnTo>
                  <a:lnTo>
                    <a:pt x="553" y="1976"/>
                  </a:lnTo>
                  <a:lnTo>
                    <a:pt x="547" y="1968"/>
                  </a:lnTo>
                  <a:lnTo>
                    <a:pt x="541" y="1959"/>
                  </a:lnTo>
                  <a:lnTo>
                    <a:pt x="532" y="1956"/>
                  </a:lnTo>
                  <a:lnTo>
                    <a:pt x="524" y="1953"/>
                  </a:lnTo>
                  <a:lnTo>
                    <a:pt x="518" y="1945"/>
                  </a:lnTo>
                  <a:lnTo>
                    <a:pt x="509" y="1939"/>
                  </a:lnTo>
                  <a:lnTo>
                    <a:pt x="500" y="1939"/>
                  </a:lnTo>
                  <a:lnTo>
                    <a:pt x="494" y="1948"/>
                  </a:lnTo>
                  <a:lnTo>
                    <a:pt x="491" y="1956"/>
                  </a:lnTo>
                  <a:lnTo>
                    <a:pt x="486" y="1965"/>
                  </a:lnTo>
                  <a:lnTo>
                    <a:pt x="491" y="1974"/>
                  </a:lnTo>
                  <a:lnTo>
                    <a:pt x="500" y="1976"/>
                  </a:lnTo>
                  <a:lnTo>
                    <a:pt x="503" y="1985"/>
                  </a:lnTo>
                  <a:lnTo>
                    <a:pt x="506" y="1994"/>
                  </a:lnTo>
                  <a:lnTo>
                    <a:pt x="509" y="2002"/>
                  </a:lnTo>
                  <a:lnTo>
                    <a:pt x="512" y="2011"/>
                  </a:lnTo>
                  <a:lnTo>
                    <a:pt x="515" y="2020"/>
                  </a:lnTo>
                  <a:lnTo>
                    <a:pt x="518" y="2028"/>
                  </a:lnTo>
                  <a:lnTo>
                    <a:pt x="518" y="2037"/>
                  </a:lnTo>
                  <a:lnTo>
                    <a:pt x="518" y="2046"/>
                  </a:lnTo>
                  <a:lnTo>
                    <a:pt x="518" y="2054"/>
                  </a:lnTo>
                  <a:lnTo>
                    <a:pt x="515" y="2063"/>
                  </a:lnTo>
                  <a:lnTo>
                    <a:pt x="506" y="2072"/>
                  </a:lnTo>
                  <a:lnTo>
                    <a:pt x="503" y="2080"/>
                  </a:lnTo>
                  <a:lnTo>
                    <a:pt x="503" y="2089"/>
                  </a:lnTo>
                  <a:lnTo>
                    <a:pt x="503" y="2097"/>
                  </a:lnTo>
                  <a:lnTo>
                    <a:pt x="500" y="2106"/>
                  </a:lnTo>
                  <a:lnTo>
                    <a:pt x="491" y="2112"/>
                  </a:lnTo>
                  <a:lnTo>
                    <a:pt x="483" y="2118"/>
                  </a:lnTo>
                  <a:lnTo>
                    <a:pt x="483" y="2126"/>
                  </a:lnTo>
                  <a:lnTo>
                    <a:pt x="480" y="2138"/>
                  </a:lnTo>
                  <a:lnTo>
                    <a:pt x="477" y="2149"/>
                  </a:lnTo>
                  <a:lnTo>
                    <a:pt x="468" y="2144"/>
                  </a:lnTo>
                  <a:lnTo>
                    <a:pt x="459" y="2144"/>
                  </a:lnTo>
                  <a:lnTo>
                    <a:pt x="451" y="2144"/>
                  </a:lnTo>
                  <a:lnTo>
                    <a:pt x="442" y="2152"/>
                  </a:lnTo>
                  <a:lnTo>
                    <a:pt x="436" y="2161"/>
                  </a:lnTo>
                  <a:lnTo>
                    <a:pt x="427" y="2167"/>
                  </a:lnTo>
                  <a:lnTo>
                    <a:pt x="419" y="2175"/>
                  </a:lnTo>
                  <a:lnTo>
                    <a:pt x="407" y="2181"/>
                  </a:lnTo>
                  <a:lnTo>
                    <a:pt x="398" y="2184"/>
                  </a:lnTo>
                  <a:lnTo>
                    <a:pt x="393" y="2175"/>
                  </a:lnTo>
                  <a:lnTo>
                    <a:pt x="390" y="2167"/>
                  </a:lnTo>
                  <a:lnTo>
                    <a:pt x="384" y="2158"/>
                  </a:lnTo>
                  <a:lnTo>
                    <a:pt x="369" y="2149"/>
                  </a:lnTo>
                  <a:lnTo>
                    <a:pt x="358" y="2144"/>
                  </a:lnTo>
                  <a:lnTo>
                    <a:pt x="355" y="2135"/>
                  </a:lnTo>
                  <a:lnTo>
                    <a:pt x="349" y="2126"/>
                  </a:lnTo>
                  <a:lnTo>
                    <a:pt x="343" y="2118"/>
                  </a:lnTo>
                  <a:lnTo>
                    <a:pt x="334" y="2109"/>
                  </a:lnTo>
                  <a:lnTo>
                    <a:pt x="328" y="2100"/>
                  </a:lnTo>
                  <a:lnTo>
                    <a:pt x="320" y="2092"/>
                  </a:lnTo>
                  <a:lnTo>
                    <a:pt x="317" y="2080"/>
                  </a:lnTo>
                  <a:lnTo>
                    <a:pt x="317" y="2048"/>
                  </a:lnTo>
                  <a:lnTo>
                    <a:pt x="311" y="2060"/>
                  </a:lnTo>
                  <a:lnTo>
                    <a:pt x="302" y="2057"/>
                  </a:lnTo>
                  <a:lnTo>
                    <a:pt x="294" y="2051"/>
                  </a:lnTo>
                  <a:lnTo>
                    <a:pt x="282" y="2048"/>
                  </a:lnTo>
                  <a:lnTo>
                    <a:pt x="276" y="2040"/>
                  </a:lnTo>
                  <a:lnTo>
                    <a:pt x="270" y="2031"/>
                  </a:lnTo>
                  <a:lnTo>
                    <a:pt x="264" y="2023"/>
                  </a:lnTo>
                  <a:lnTo>
                    <a:pt x="259" y="2014"/>
                  </a:lnTo>
                  <a:lnTo>
                    <a:pt x="250" y="2008"/>
                  </a:lnTo>
                  <a:lnTo>
                    <a:pt x="241" y="2011"/>
                  </a:lnTo>
                  <a:lnTo>
                    <a:pt x="232" y="2011"/>
                  </a:lnTo>
                  <a:lnTo>
                    <a:pt x="227" y="2002"/>
                  </a:lnTo>
                  <a:lnTo>
                    <a:pt x="218" y="2002"/>
                  </a:lnTo>
                  <a:lnTo>
                    <a:pt x="209" y="2002"/>
                  </a:lnTo>
                  <a:lnTo>
                    <a:pt x="200" y="2002"/>
                  </a:lnTo>
                  <a:lnTo>
                    <a:pt x="203" y="2014"/>
                  </a:lnTo>
                  <a:lnTo>
                    <a:pt x="203" y="2025"/>
                  </a:lnTo>
                  <a:lnTo>
                    <a:pt x="200" y="2034"/>
                  </a:lnTo>
                  <a:lnTo>
                    <a:pt x="189" y="2037"/>
                  </a:lnTo>
                  <a:lnTo>
                    <a:pt x="180" y="2043"/>
                  </a:lnTo>
                  <a:lnTo>
                    <a:pt x="171" y="2051"/>
                  </a:lnTo>
                  <a:lnTo>
                    <a:pt x="168" y="2060"/>
                  </a:lnTo>
                  <a:lnTo>
                    <a:pt x="163" y="2072"/>
                  </a:lnTo>
                  <a:lnTo>
                    <a:pt x="154" y="2077"/>
                  </a:lnTo>
                  <a:lnTo>
                    <a:pt x="145" y="2083"/>
                  </a:lnTo>
                  <a:lnTo>
                    <a:pt x="136" y="2086"/>
                  </a:lnTo>
                  <a:lnTo>
                    <a:pt x="122" y="2092"/>
                  </a:lnTo>
                  <a:lnTo>
                    <a:pt x="113" y="2095"/>
                  </a:lnTo>
                  <a:lnTo>
                    <a:pt x="104" y="2097"/>
                  </a:lnTo>
                  <a:lnTo>
                    <a:pt x="96" y="2103"/>
                  </a:lnTo>
                  <a:lnTo>
                    <a:pt x="87" y="2109"/>
                  </a:lnTo>
                  <a:lnTo>
                    <a:pt x="78" y="2112"/>
                  </a:lnTo>
                  <a:lnTo>
                    <a:pt x="66" y="2112"/>
                  </a:lnTo>
                  <a:lnTo>
                    <a:pt x="58" y="2115"/>
                  </a:lnTo>
                  <a:lnTo>
                    <a:pt x="55" y="2123"/>
                  </a:lnTo>
                  <a:lnTo>
                    <a:pt x="49" y="2132"/>
                  </a:lnTo>
                  <a:lnTo>
                    <a:pt x="46" y="2141"/>
                  </a:lnTo>
                  <a:lnTo>
                    <a:pt x="58" y="2146"/>
                  </a:lnTo>
                  <a:lnTo>
                    <a:pt x="66" y="2146"/>
                  </a:lnTo>
                  <a:lnTo>
                    <a:pt x="75" y="2146"/>
                  </a:lnTo>
                  <a:lnTo>
                    <a:pt x="66" y="2158"/>
                  </a:lnTo>
                  <a:lnTo>
                    <a:pt x="55" y="2164"/>
                  </a:lnTo>
                  <a:lnTo>
                    <a:pt x="43" y="2169"/>
                  </a:lnTo>
                  <a:lnTo>
                    <a:pt x="34" y="2175"/>
                  </a:lnTo>
                  <a:lnTo>
                    <a:pt x="26" y="2181"/>
                  </a:lnTo>
                  <a:lnTo>
                    <a:pt x="23" y="2190"/>
                  </a:lnTo>
                  <a:lnTo>
                    <a:pt x="23" y="2198"/>
                  </a:lnTo>
                  <a:lnTo>
                    <a:pt x="14" y="2207"/>
                  </a:lnTo>
                  <a:lnTo>
                    <a:pt x="5" y="2210"/>
                  </a:lnTo>
                  <a:lnTo>
                    <a:pt x="0" y="2218"/>
                  </a:lnTo>
                  <a:lnTo>
                    <a:pt x="5" y="2227"/>
                  </a:lnTo>
                  <a:lnTo>
                    <a:pt x="14" y="2236"/>
                  </a:lnTo>
                  <a:lnTo>
                    <a:pt x="23" y="2244"/>
                  </a:lnTo>
                  <a:lnTo>
                    <a:pt x="37" y="2233"/>
                  </a:lnTo>
                  <a:lnTo>
                    <a:pt x="46" y="2230"/>
                  </a:lnTo>
                  <a:lnTo>
                    <a:pt x="49" y="2239"/>
                  </a:lnTo>
                  <a:lnTo>
                    <a:pt x="49" y="2247"/>
                  </a:lnTo>
                  <a:lnTo>
                    <a:pt x="52" y="2256"/>
                  </a:lnTo>
                  <a:lnTo>
                    <a:pt x="55" y="2265"/>
                  </a:lnTo>
                  <a:lnTo>
                    <a:pt x="58" y="2273"/>
                  </a:lnTo>
                  <a:lnTo>
                    <a:pt x="58" y="2282"/>
                  </a:lnTo>
                  <a:lnTo>
                    <a:pt x="61" y="2291"/>
                  </a:lnTo>
                  <a:lnTo>
                    <a:pt x="61" y="2299"/>
                  </a:lnTo>
                  <a:lnTo>
                    <a:pt x="58" y="2308"/>
                  </a:lnTo>
                  <a:lnTo>
                    <a:pt x="52" y="2316"/>
                  </a:lnTo>
                  <a:lnTo>
                    <a:pt x="52" y="2325"/>
                  </a:lnTo>
                  <a:lnTo>
                    <a:pt x="52" y="2334"/>
                  </a:lnTo>
                  <a:lnTo>
                    <a:pt x="49" y="2342"/>
                  </a:lnTo>
                  <a:lnTo>
                    <a:pt x="58" y="2348"/>
                  </a:lnTo>
                  <a:lnTo>
                    <a:pt x="69" y="2348"/>
                  </a:lnTo>
                  <a:lnTo>
                    <a:pt x="78" y="2348"/>
                  </a:lnTo>
                  <a:lnTo>
                    <a:pt x="87" y="2357"/>
                  </a:lnTo>
                  <a:lnTo>
                    <a:pt x="96" y="2360"/>
                  </a:lnTo>
                  <a:lnTo>
                    <a:pt x="104" y="2360"/>
                  </a:lnTo>
                  <a:lnTo>
                    <a:pt x="113" y="2365"/>
                  </a:lnTo>
                  <a:lnTo>
                    <a:pt x="122" y="2371"/>
                  </a:lnTo>
                  <a:lnTo>
                    <a:pt x="128" y="2380"/>
                  </a:lnTo>
                  <a:lnTo>
                    <a:pt x="139" y="2389"/>
                  </a:lnTo>
                  <a:lnTo>
                    <a:pt x="142" y="2397"/>
                  </a:lnTo>
                  <a:lnTo>
                    <a:pt x="151" y="2406"/>
                  </a:lnTo>
                  <a:lnTo>
                    <a:pt x="160" y="2414"/>
                  </a:lnTo>
                  <a:lnTo>
                    <a:pt x="168" y="2417"/>
                  </a:lnTo>
                  <a:lnTo>
                    <a:pt x="177" y="2420"/>
                  </a:lnTo>
                  <a:lnTo>
                    <a:pt x="186" y="2423"/>
                  </a:lnTo>
                  <a:lnTo>
                    <a:pt x="195" y="2423"/>
                  </a:lnTo>
                  <a:lnTo>
                    <a:pt x="203" y="2423"/>
                  </a:lnTo>
                  <a:lnTo>
                    <a:pt x="212" y="2423"/>
                  </a:lnTo>
                  <a:lnTo>
                    <a:pt x="221" y="2420"/>
                  </a:lnTo>
                  <a:lnTo>
                    <a:pt x="229" y="2420"/>
                  </a:lnTo>
                  <a:lnTo>
                    <a:pt x="238" y="2420"/>
                  </a:lnTo>
                  <a:lnTo>
                    <a:pt x="247" y="2417"/>
                  </a:lnTo>
                  <a:lnTo>
                    <a:pt x="256" y="2412"/>
                  </a:lnTo>
                  <a:lnTo>
                    <a:pt x="264" y="2412"/>
                  </a:lnTo>
                  <a:lnTo>
                    <a:pt x="276" y="2412"/>
                  </a:lnTo>
                  <a:lnTo>
                    <a:pt x="285" y="2412"/>
                  </a:lnTo>
                  <a:lnTo>
                    <a:pt x="294" y="2414"/>
                  </a:lnTo>
                  <a:lnTo>
                    <a:pt x="302" y="2414"/>
                  </a:lnTo>
                  <a:lnTo>
                    <a:pt x="305" y="2406"/>
                  </a:lnTo>
                  <a:lnTo>
                    <a:pt x="305" y="2397"/>
                  </a:lnTo>
                  <a:lnTo>
                    <a:pt x="302" y="2389"/>
                  </a:lnTo>
                  <a:lnTo>
                    <a:pt x="299" y="2380"/>
                  </a:lnTo>
                  <a:lnTo>
                    <a:pt x="302" y="2371"/>
                  </a:lnTo>
                  <a:lnTo>
                    <a:pt x="314" y="2368"/>
                  </a:lnTo>
                  <a:lnTo>
                    <a:pt x="323" y="2368"/>
                  </a:lnTo>
                  <a:lnTo>
                    <a:pt x="331" y="2368"/>
                  </a:lnTo>
                  <a:lnTo>
                    <a:pt x="343" y="2368"/>
                  </a:lnTo>
                  <a:lnTo>
                    <a:pt x="346" y="2360"/>
                  </a:lnTo>
                  <a:lnTo>
                    <a:pt x="355" y="2354"/>
                  </a:lnTo>
                  <a:lnTo>
                    <a:pt x="363" y="2351"/>
                  </a:lnTo>
                  <a:lnTo>
                    <a:pt x="372" y="2351"/>
                  </a:lnTo>
                  <a:lnTo>
                    <a:pt x="381" y="2348"/>
                  </a:lnTo>
                  <a:lnTo>
                    <a:pt x="390" y="2348"/>
                  </a:lnTo>
                  <a:lnTo>
                    <a:pt x="398" y="2348"/>
                  </a:lnTo>
                  <a:lnTo>
                    <a:pt x="407" y="2348"/>
                  </a:lnTo>
                  <a:lnTo>
                    <a:pt x="419" y="2354"/>
                  </a:lnTo>
                  <a:lnTo>
                    <a:pt x="427" y="2360"/>
                  </a:lnTo>
                  <a:lnTo>
                    <a:pt x="436" y="2360"/>
                  </a:lnTo>
                  <a:lnTo>
                    <a:pt x="445" y="2360"/>
                  </a:lnTo>
                  <a:lnTo>
                    <a:pt x="454" y="2363"/>
                  </a:lnTo>
                  <a:lnTo>
                    <a:pt x="462" y="2363"/>
                  </a:lnTo>
                  <a:lnTo>
                    <a:pt x="471" y="2363"/>
                  </a:lnTo>
                  <a:lnTo>
                    <a:pt x="480" y="2363"/>
                  </a:lnTo>
                  <a:lnTo>
                    <a:pt x="489" y="2360"/>
                  </a:lnTo>
                  <a:lnTo>
                    <a:pt x="494" y="2351"/>
                  </a:lnTo>
                  <a:lnTo>
                    <a:pt x="494" y="2342"/>
                  </a:lnTo>
                  <a:lnTo>
                    <a:pt x="494" y="2334"/>
                  </a:lnTo>
                  <a:lnTo>
                    <a:pt x="497" y="2325"/>
                  </a:lnTo>
                  <a:lnTo>
                    <a:pt x="506" y="2322"/>
                  </a:lnTo>
                  <a:lnTo>
                    <a:pt x="515" y="2322"/>
                  </a:lnTo>
                  <a:lnTo>
                    <a:pt x="524" y="2322"/>
                  </a:lnTo>
                  <a:lnTo>
                    <a:pt x="532" y="2322"/>
                  </a:lnTo>
                  <a:lnTo>
                    <a:pt x="541" y="2322"/>
                  </a:lnTo>
                  <a:lnTo>
                    <a:pt x="550" y="2328"/>
                  </a:lnTo>
                  <a:lnTo>
                    <a:pt x="556" y="2337"/>
                  </a:lnTo>
                  <a:lnTo>
                    <a:pt x="564" y="2342"/>
                  </a:lnTo>
                  <a:lnTo>
                    <a:pt x="570" y="2351"/>
                  </a:lnTo>
                  <a:lnTo>
                    <a:pt x="576" y="2360"/>
                  </a:lnTo>
                  <a:lnTo>
                    <a:pt x="585" y="2368"/>
                  </a:lnTo>
                  <a:lnTo>
                    <a:pt x="590" y="2377"/>
                  </a:lnTo>
                  <a:lnTo>
                    <a:pt x="599" y="2383"/>
                  </a:lnTo>
                  <a:lnTo>
                    <a:pt x="611" y="2386"/>
                  </a:lnTo>
                  <a:lnTo>
                    <a:pt x="620" y="2386"/>
                  </a:lnTo>
                  <a:lnTo>
                    <a:pt x="628" y="2386"/>
                  </a:lnTo>
                  <a:lnTo>
                    <a:pt x="637" y="2386"/>
                  </a:lnTo>
                  <a:lnTo>
                    <a:pt x="646" y="2386"/>
                  </a:lnTo>
                  <a:lnTo>
                    <a:pt x="655" y="2386"/>
                  </a:lnTo>
                  <a:lnTo>
                    <a:pt x="663" y="2389"/>
                  </a:lnTo>
                  <a:lnTo>
                    <a:pt x="672" y="2389"/>
                  </a:lnTo>
                  <a:lnTo>
                    <a:pt x="681" y="2389"/>
                  </a:lnTo>
                  <a:lnTo>
                    <a:pt x="689" y="2389"/>
                  </a:lnTo>
                  <a:lnTo>
                    <a:pt x="698" y="2394"/>
                  </a:lnTo>
                  <a:lnTo>
                    <a:pt x="707" y="2403"/>
                  </a:lnTo>
                  <a:lnTo>
                    <a:pt x="713" y="2412"/>
                  </a:lnTo>
                  <a:lnTo>
                    <a:pt x="716" y="2420"/>
                  </a:lnTo>
                  <a:lnTo>
                    <a:pt x="716" y="2429"/>
                  </a:lnTo>
                  <a:lnTo>
                    <a:pt x="716" y="2437"/>
                  </a:lnTo>
                  <a:lnTo>
                    <a:pt x="719" y="2446"/>
                  </a:lnTo>
                  <a:lnTo>
                    <a:pt x="719" y="2455"/>
                  </a:lnTo>
                  <a:lnTo>
                    <a:pt x="721" y="2463"/>
                  </a:lnTo>
                  <a:lnTo>
                    <a:pt x="721" y="2472"/>
                  </a:lnTo>
                  <a:lnTo>
                    <a:pt x="721" y="2481"/>
                  </a:lnTo>
                  <a:lnTo>
                    <a:pt x="721" y="2489"/>
                  </a:lnTo>
                  <a:lnTo>
                    <a:pt x="713" y="2492"/>
                  </a:lnTo>
                  <a:lnTo>
                    <a:pt x="704" y="2492"/>
                  </a:lnTo>
                  <a:lnTo>
                    <a:pt x="698" y="2501"/>
                  </a:lnTo>
                  <a:lnTo>
                    <a:pt x="707" y="2507"/>
                  </a:lnTo>
                  <a:lnTo>
                    <a:pt x="716" y="2512"/>
                  </a:lnTo>
                  <a:lnTo>
                    <a:pt x="721" y="2521"/>
                  </a:lnTo>
                  <a:lnTo>
                    <a:pt x="721" y="2530"/>
                  </a:lnTo>
                  <a:lnTo>
                    <a:pt x="719" y="2538"/>
                  </a:lnTo>
                  <a:lnTo>
                    <a:pt x="719" y="2547"/>
                  </a:lnTo>
                  <a:lnTo>
                    <a:pt x="719" y="2556"/>
                  </a:lnTo>
                  <a:lnTo>
                    <a:pt x="719" y="2564"/>
                  </a:lnTo>
                  <a:lnTo>
                    <a:pt x="721" y="2576"/>
                  </a:lnTo>
                  <a:lnTo>
                    <a:pt x="721" y="2584"/>
                  </a:lnTo>
                  <a:lnTo>
                    <a:pt x="727" y="2593"/>
                  </a:lnTo>
                  <a:lnTo>
                    <a:pt x="736" y="2602"/>
                  </a:lnTo>
                  <a:lnTo>
                    <a:pt x="742" y="2613"/>
                  </a:lnTo>
                  <a:lnTo>
                    <a:pt x="745" y="2625"/>
                  </a:lnTo>
                  <a:lnTo>
                    <a:pt x="756" y="2633"/>
                  </a:lnTo>
                  <a:lnTo>
                    <a:pt x="765" y="2642"/>
                  </a:lnTo>
                  <a:lnTo>
                    <a:pt x="768" y="2654"/>
                  </a:lnTo>
                  <a:lnTo>
                    <a:pt x="768" y="2662"/>
                  </a:lnTo>
                  <a:lnTo>
                    <a:pt x="768" y="2671"/>
                  </a:lnTo>
                  <a:lnTo>
                    <a:pt x="771" y="2682"/>
                  </a:lnTo>
                  <a:lnTo>
                    <a:pt x="780" y="2688"/>
                  </a:lnTo>
                  <a:lnTo>
                    <a:pt x="783" y="2697"/>
                  </a:lnTo>
                  <a:lnTo>
                    <a:pt x="786" y="2705"/>
                  </a:lnTo>
                  <a:lnTo>
                    <a:pt x="788" y="2714"/>
                  </a:lnTo>
                  <a:lnTo>
                    <a:pt x="788" y="2723"/>
                  </a:lnTo>
                  <a:lnTo>
                    <a:pt x="788" y="2731"/>
                  </a:lnTo>
                  <a:lnTo>
                    <a:pt x="788" y="2740"/>
                  </a:lnTo>
                  <a:lnTo>
                    <a:pt x="788" y="2749"/>
                  </a:lnTo>
                  <a:lnTo>
                    <a:pt x="788" y="2757"/>
                  </a:lnTo>
                  <a:lnTo>
                    <a:pt x="788" y="2769"/>
                  </a:lnTo>
                  <a:lnTo>
                    <a:pt x="783" y="2778"/>
                  </a:lnTo>
                  <a:lnTo>
                    <a:pt x="774" y="2778"/>
                  </a:lnTo>
                  <a:lnTo>
                    <a:pt x="765" y="2783"/>
                  </a:lnTo>
                  <a:lnTo>
                    <a:pt x="759" y="2792"/>
                  </a:lnTo>
                  <a:lnTo>
                    <a:pt x="751" y="2795"/>
                  </a:lnTo>
                  <a:lnTo>
                    <a:pt x="742" y="2789"/>
                  </a:lnTo>
                  <a:lnTo>
                    <a:pt x="730" y="2786"/>
                  </a:lnTo>
                  <a:lnTo>
                    <a:pt x="721" y="2780"/>
                  </a:lnTo>
                  <a:lnTo>
                    <a:pt x="713" y="2778"/>
                  </a:lnTo>
                  <a:lnTo>
                    <a:pt x="710" y="2766"/>
                  </a:lnTo>
                  <a:lnTo>
                    <a:pt x="707" y="2757"/>
                  </a:lnTo>
                  <a:lnTo>
                    <a:pt x="698" y="2754"/>
                  </a:lnTo>
                  <a:lnTo>
                    <a:pt x="687" y="2754"/>
                  </a:lnTo>
                  <a:lnTo>
                    <a:pt x="678" y="2746"/>
                  </a:lnTo>
                  <a:lnTo>
                    <a:pt x="672" y="2737"/>
                  </a:lnTo>
                  <a:lnTo>
                    <a:pt x="660" y="2731"/>
                  </a:lnTo>
                  <a:lnTo>
                    <a:pt x="652" y="2729"/>
                  </a:lnTo>
                  <a:lnTo>
                    <a:pt x="643" y="2729"/>
                  </a:lnTo>
                  <a:lnTo>
                    <a:pt x="634" y="2729"/>
                  </a:lnTo>
                  <a:lnTo>
                    <a:pt x="628" y="2737"/>
                  </a:lnTo>
                  <a:lnTo>
                    <a:pt x="628" y="2746"/>
                  </a:lnTo>
                  <a:lnTo>
                    <a:pt x="631" y="2754"/>
                  </a:lnTo>
                  <a:lnTo>
                    <a:pt x="640" y="2763"/>
                  </a:lnTo>
                  <a:lnTo>
                    <a:pt x="652" y="2769"/>
                  </a:lnTo>
                  <a:lnTo>
                    <a:pt x="660" y="2775"/>
                  </a:lnTo>
                  <a:lnTo>
                    <a:pt x="666" y="2783"/>
                  </a:lnTo>
                  <a:lnTo>
                    <a:pt x="669" y="2792"/>
                  </a:lnTo>
                  <a:lnTo>
                    <a:pt x="672" y="2801"/>
                  </a:lnTo>
                  <a:lnTo>
                    <a:pt x="675" y="2809"/>
                  </a:lnTo>
                  <a:lnTo>
                    <a:pt x="678" y="2818"/>
                  </a:lnTo>
                  <a:lnTo>
                    <a:pt x="687" y="2827"/>
                  </a:lnTo>
                  <a:lnTo>
                    <a:pt x="695" y="2829"/>
                  </a:lnTo>
                  <a:lnTo>
                    <a:pt x="707" y="2829"/>
                  </a:lnTo>
                  <a:lnTo>
                    <a:pt x="713" y="2818"/>
                  </a:lnTo>
                  <a:lnTo>
                    <a:pt x="713" y="2809"/>
                  </a:lnTo>
                  <a:lnTo>
                    <a:pt x="716" y="2801"/>
                  </a:lnTo>
                  <a:lnTo>
                    <a:pt x="724" y="2795"/>
                  </a:lnTo>
                  <a:lnTo>
                    <a:pt x="733" y="2795"/>
                  </a:lnTo>
                  <a:lnTo>
                    <a:pt x="742" y="2792"/>
                  </a:lnTo>
                  <a:lnTo>
                    <a:pt x="751" y="2801"/>
                  </a:lnTo>
                  <a:lnTo>
                    <a:pt x="762" y="2803"/>
                  </a:lnTo>
                  <a:lnTo>
                    <a:pt x="771" y="2803"/>
                  </a:lnTo>
                  <a:lnTo>
                    <a:pt x="780" y="2803"/>
                  </a:lnTo>
                  <a:lnTo>
                    <a:pt x="788" y="2803"/>
                  </a:lnTo>
                  <a:lnTo>
                    <a:pt x="788" y="2795"/>
                  </a:lnTo>
                  <a:lnTo>
                    <a:pt x="788" y="2786"/>
                  </a:lnTo>
                  <a:lnTo>
                    <a:pt x="797" y="2780"/>
                  </a:lnTo>
                  <a:lnTo>
                    <a:pt x="806" y="2780"/>
                  </a:lnTo>
                  <a:lnTo>
                    <a:pt x="815" y="2772"/>
                  </a:lnTo>
                  <a:lnTo>
                    <a:pt x="815" y="2763"/>
                  </a:lnTo>
                  <a:lnTo>
                    <a:pt x="815" y="2754"/>
                  </a:lnTo>
                  <a:lnTo>
                    <a:pt x="815" y="2746"/>
                  </a:lnTo>
                  <a:lnTo>
                    <a:pt x="815" y="2737"/>
                  </a:lnTo>
                  <a:lnTo>
                    <a:pt x="818" y="2729"/>
                  </a:lnTo>
                  <a:lnTo>
                    <a:pt x="826" y="2726"/>
                  </a:lnTo>
                  <a:lnTo>
                    <a:pt x="835" y="2720"/>
                  </a:lnTo>
                  <a:lnTo>
                    <a:pt x="844" y="2717"/>
                  </a:lnTo>
                  <a:lnTo>
                    <a:pt x="852" y="2720"/>
                  </a:lnTo>
                  <a:lnTo>
                    <a:pt x="855" y="2729"/>
                  </a:lnTo>
                  <a:lnTo>
                    <a:pt x="858" y="2740"/>
                  </a:lnTo>
                  <a:lnTo>
                    <a:pt x="858" y="2749"/>
                  </a:lnTo>
                  <a:lnTo>
                    <a:pt x="861" y="2757"/>
                  </a:lnTo>
                  <a:lnTo>
                    <a:pt x="870" y="2763"/>
                  </a:lnTo>
                  <a:lnTo>
                    <a:pt x="882" y="2766"/>
                  </a:lnTo>
                  <a:lnTo>
                    <a:pt x="887" y="2757"/>
                  </a:lnTo>
                  <a:lnTo>
                    <a:pt x="887" y="2749"/>
                  </a:lnTo>
                  <a:lnTo>
                    <a:pt x="887" y="2740"/>
                  </a:lnTo>
                  <a:lnTo>
                    <a:pt x="887" y="2731"/>
                  </a:lnTo>
                  <a:lnTo>
                    <a:pt x="885" y="2723"/>
                  </a:lnTo>
                  <a:lnTo>
                    <a:pt x="876" y="2714"/>
                  </a:lnTo>
                  <a:lnTo>
                    <a:pt x="870" y="2705"/>
                  </a:lnTo>
                  <a:lnTo>
                    <a:pt x="864" y="2697"/>
                  </a:lnTo>
                  <a:lnTo>
                    <a:pt x="855" y="2691"/>
                  </a:lnTo>
                  <a:lnTo>
                    <a:pt x="847" y="2682"/>
                  </a:lnTo>
                  <a:lnTo>
                    <a:pt x="838" y="2674"/>
                  </a:lnTo>
                  <a:lnTo>
                    <a:pt x="835" y="2665"/>
                  </a:lnTo>
                  <a:lnTo>
                    <a:pt x="832" y="2657"/>
                  </a:lnTo>
                  <a:lnTo>
                    <a:pt x="832" y="2648"/>
                  </a:lnTo>
                  <a:lnTo>
                    <a:pt x="841" y="2642"/>
                  </a:lnTo>
                  <a:lnTo>
                    <a:pt x="850" y="2642"/>
                  </a:lnTo>
                  <a:lnTo>
                    <a:pt x="852" y="2633"/>
                  </a:lnTo>
                  <a:lnTo>
                    <a:pt x="844" y="2628"/>
                  </a:lnTo>
                  <a:lnTo>
                    <a:pt x="835" y="2622"/>
                  </a:lnTo>
                  <a:lnTo>
                    <a:pt x="826" y="2619"/>
                  </a:lnTo>
                  <a:lnTo>
                    <a:pt x="820" y="2610"/>
                  </a:lnTo>
                  <a:lnTo>
                    <a:pt x="818" y="2602"/>
                  </a:lnTo>
                  <a:lnTo>
                    <a:pt x="812" y="2593"/>
                  </a:lnTo>
                  <a:lnTo>
                    <a:pt x="812" y="2584"/>
                  </a:lnTo>
                  <a:lnTo>
                    <a:pt x="809" y="2576"/>
                  </a:lnTo>
                  <a:lnTo>
                    <a:pt x="806" y="2564"/>
                  </a:lnTo>
                  <a:lnTo>
                    <a:pt x="806" y="2556"/>
                  </a:lnTo>
                  <a:lnTo>
                    <a:pt x="806" y="2547"/>
                  </a:lnTo>
                  <a:lnTo>
                    <a:pt x="806" y="2538"/>
                  </a:lnTo>
                  <a:lnTo>
                    <a:pt x="806" y="2530"/>
                  </a:lnTo>
                  <a:lnTo>
                    <a:pt x="806" y="2521"/>
                  </a:lnTo>
                  <a:lnTo>
                    <a:pt x="806" y="2512"/>
                  </a:lnTo>
                  <a:lnTo>
                    <a:pt x="806" y="2504"/>
                  </a:lnTo>
                  <a:lnTo>
                    <a:pt x="803" y="2495"/>
                  </a:lnTo>
                  <a:lnTo>
                    <a:pt x="800" y="2486"/>
                  </a:lnTo>
                  <a:lnTo>
                    <a:pt x="800" y="2478"/>
                  </a:lnTo>
                  <a:lnTo>
                    <a:pt x="800" y="2469"/>
                  </a:lnTo>
                  <a:lnTo>
                    <a:pt x="800" y="2461"/>
                  </a:lnTo>
                  <a:lnTo>
                    <a:pt x="800" y="2452"/>
                  </a:lnTo>
                  <a:lnTo>
                    <a:pt x="809" y="2452"/>
                  </a:lnTo>
                  <a:lnTo>
                    <a:pt x="818" y="2452"/>
                  </a:lnTo>
                  <a:lnTo>
                    <a:pt x="818" y="2443"/>
                  </a:lnTo>
                  <a:lnTo>
                    <a:pt x="820" y="2435"/>
                  </a:lnTo>
                  <a:lnTo>
                    <a:pt x="826" y="2426"/>
                  </a:lnTo>
                  <a:lnTo>
                    <a:pt x="835" y="2426"/>
                  </a:lnTo>
                  <a:lnTo>
                    <a:pt x="838" y="2435"/>
                  </a:lnTo>
                  <a:lnTo>
                    <a:pt x="847" y="2440"/>
                  </a:lnTo>
                  <a:lnTo>
                    <a:pt x="855" y="2435"/>
                  </a:lnTo>
                  <a:lnTo>
                    <a:pt x="864" y="2432"/>
                  </a:lnTo>
                  <a:lnTo>
                    <a:pt x="864" y="2440"/>
                  </a:lnTo>
                  <a:lnTo>
                    <a:pt x="864" y="2449"/>
                  </a:lnTo>
                  <a:lnTo>
                    <a:pt x="858" y="2458"/>
                  </a:lnTo>
                  <a:lnTo>
                    <a:pt x="850" y="2466"/>
                  </a:lnTo>
                  <a:lnTo>
                    <a:pt x="847" y="2475"/>
                  </a:lnTo>
                  <a:lnTo>
                    <a:pt x="855" y="2478"/>
                  </a:lnTo>
                  <a:lnTo>
                    <a:pt x="864" y="2478"/>
                  </a:lnTo>
                  <a:lnTo>
                    <a:pt x="864" y="2486"/>
                  </a:lnTo>
                  <a:lnTo>
                    <a:pt x="864" y="2495"/>
                  </a:lnTo>
                  <a:lnTo>
                    <a:pt x="873" y="2498"/>
                  </a:lnTo>
                  <a:lnTo>
                    <a:pt x="882" y="2498"/>
                  </a:lnTo>
                  <a:lnTo>
                    <a:pt x="882" y="2507"/>
                  </a:lnTo>
                  <a:lnTo>
                    <a:pt x="882" y="2515"/>
                  </a:lnTo>
                  <a:lnTo>
                    <a:pt x="879" y="2524"/>
                  </a:lnTo>
                  <a:lnTo>
                    <a:pt x="870" y="2527"/>
                  </a:lnTo>
                  <a:lnTo>
                    <a:pt x="864" y="2535"/>
                  </a:lnTo>
                  <a:lnTo>
                    <a:pt x="867" y="2544"/>
                  </a:lnTo>
                  <a:lnTo>
                    <a:pt x="870" y="2553"/>
                  </a:lnTo>
                  <a:lnTo>
                    <a:pt x="876" y="2561"/>
                  </a:lnTo>
                  <a:lnTo>
                    <a:pt x="882" y="2573"/>
                  </a:lnTo>
                  <a:lnTo>
                    <a:pt x="890" y="2584"/>
                  </a:lnTo>
                  <a:lnTo>
                    <a:pt x="893" y="2593"/>
                  </a:lnTo>
                  <a:lnTo>
                    <a:pt x="896" y="2602"/>
                  </a:lnTo>
                  <a:lnTo>
                    <a:pt x="899" y="2613"/>
                  </a:lnTo>
                  <a:lnTo>
                    <a:pt x="899" y="2622"/>
                  </a:lnTo>
                  <a:lnTo>
                    <a:pt x="902" y="2631"/>
                  </a:lnTo>
                  <a:lnTo>
                    <a:pt x="905" y="2639"/>
                  </a:lnTo>
                  <a:lnTo>
                    <a:pt x="911" y="2648"/>
                  </a:lnTo>
                  <a:lnTo>
                    <a:pt x="919" y="2657"/>
                  </a:lnTo>
                  <a:lnTo>
                    <a:pt x="928" y="2662"/>
                  </a:lnTo>
                  <a:lnTo>
                    <a:pt x="937" y="2671"/>
                  </a:lnTo>
                  <a:lnTo>
                    <a:pt x="943" y="2680"/>
                  </a:lnTo>
                  <a:lnTo>
                    <a:pt x="946" y="2688"/>
                  </a:lnTo>
                  <a:lnTo>
                    <a:pt x="949" y="2697"/>
                  </a:lnTo>
                  <a:lnTo>
                    <a:pt x="949" y="2705"/>
                  </a:lnTo>
                  <a:lnTo>
                    <a:pt x="949" y="2714"/>
                  </a:lnTo>
                  <a:lnTo>
                    <a:pt x="949" y="2723"/>
                  </a:lnTo>
                  <a:lnTo>
                    <a:pt x="943" y="2731"/>
                  </a:lnTo>
                  <a:lnTo>
                    <a:pt x="934" y="2734"/>
                  </a:lnTo>
                  <a:lnTo>
                    <a:pt x="928" y="2743"/>
                  </a:lnTo>
                  <a:lnTo>
                    <a:pt x="925" y="2752"/>
                  </a:lnTo>
                  <a:lnTo>
                    <a:pt x="925" y="2760"/>
                  </a:lnTo>
                  <a:lnTo>
                    <a:pt x="922" y="2769"/>
                  </a:lnTo>
                  <a:lnTo>
                    <a:pt x="922" y="2778"/>
                  </a:lnTo>
                  <a:lnTo>
                    <a:pt x="919" y="2786"/>
                  </a:lnTo>
                  <a:lnTo>
                    <a:pt x="911" y="2795"/>
                  </a:lnTo>
                  <a:lnTo>
                    <a:pt x="908" y="2803"/>
                  </a:lnTo>
                  <a:lnTo>
                    <a:pt x="908" y="2812"/>
                  </a:lnTo>
                  <a:lnTo>
                    <a:pt x="911" y="2821"/>
                  </a:lnTo>
                  <a:lnTo>
                    <a:pt x="922" y="2827"/>
                  </a:lnTo>
                  <a:lnTo>
                    <a:pt x="934" y="2832"/>
                  </a:lnTo>
                  <a:lnTo>
                    <a:pt x="940" y="2841"/>
                  </a:lnTo>
                  <a:lnTo>
                    <a:pt x="922" y="2832"/>
                  </a:lnTo>
                  <a:lnTo>
                    <a:pt x="946" y="2824"/>
                  </a:lnTo>
                  <a:lnTo>
                    <a:pt x="946" y="2832"/>
                  </a:lnTo>
                  <a:lnTo>
                    <a:pt x="946" y="2841"/>
                  </a:lnTo>
                  <a:lnTo>
                    <a:pt x="946" y="2850"/>
                  </a:lnTo>
                  <a:lnTo>
                    <a:pt x="940" y="2858"/>
                  </a:lnTo>
                  <a:lnTo>
                    <a:pt x="931" y="2861"/>
                  </a:lnTo>
                  <a:lnTo>
                    <a:pt x="922" y="2867"/>
                  </a:lnTo>
                  <a:lnTo>
                    <a:pt x="917" y="2876"/>
                  </a:lnTo>
                  <a:lnTo>
                    <a:pt x="919" y="2884"/>
                  </a:lnTo>
                  <a:lnTo>
                    <a:pt x="922" y="2893"/>
                  </a:lnTo>
                  <a:lnTo>
                    <a:pt x="917" y="2901"/>
                  </a:lnTo>
                  <a:lnTo>
                    <a:pt x="925" y="2904"/>
                  </a:lnTo>
                  <a:lnTo>
                    <a:pt x="934" y="2904"/>
                  </a:lnTo>
                  <a:lnTo>
                    <a:pt x="943" y="2904"/>
                  </a:lnTo>
                  <a:lnTo>
                    <a:pt x="951" y="2899"/>
                  </a:lnTo>
                  <a:lnTo>
                    <a:pt x="960" y="2893"/>
                  </a:lnTo>
                  <a:lnTo>
                    <a:pt x="969" y="2893"/>
                  </a:lnTo>
                  <a:lnTo>
                    <a:pt x="978" y="2899"/>
                  </a:lnTo>
                  <a:lnTo>
                    <a:pt x="983" y="2907"/>
                  </a:lnTo>
                  <a:lnTo>
                    <a:pt x="975" y="2904"/>
                  </a:lnTo>
                  <a:lnTo>
                    <a:pt x="966" y="2899"/>
                  </a:lnTo>
                  <a:lnTo>
                    <a:pt x="954" y="2896"/>
                  </a:lnTo>
                  <a:lnTo>
                    <a:pt x="940" y="2893"/>
                  </a:lnTo>
                  <a:lnTo>
                    <a:pt x="943" y="2910"/>
                  </a:lnTo>
                  <a:lnTo>
                    <a:pt x="951" y="2930"/>
                  </a:lnTo>
                  <a:lnTo>
                    <a:pt x="943" y="2933"/>
                  </a:lnTo>
                  <a:lnTo>
                    <a:pt x="940" y="2942"/>
                  </a:lnTo>
                  <a:lnTo>
                    <a:pt x="937" y="2950"/>
                  </a:lnTo>
                  <a:lnTo>
                    <a:pt x="946" y="2956"/>
                  </a:lnTo>
                  <a:lnTo>
                    <a:pt x="949" y="2965"/>
                  </a:lnTo>
                  <a:lnTo>
                    <a:pt x="951" y="2974"/>
                  </a:lnTo>
                  <a:lnTo>
                    <a:pt x="951" y="2982"/>
                  </a:lnTo>
                  <a:lnTo>
                    <a:pt x="951" y="2991"/>
                  </a:lnTo>
                  <a:lnTo>
                    <a:pt x="954" y="2999"/>
                  </a:lnTo>
                  <a:lnTo>
                    <a:pt x="957" y="3011"/>
                  </a:lnTo>
                  <a:lnTo>
                    <a:pt x="963" y="3002"/>
                  </a:lnTo>
                  <a:lnTo>
                    <a:pt x="963" y="2994"/>
                  </a:lnTo>
                  <a:lnTo>
                    <a:pt x="963" y="2985"/>
                  </a:lnTo>
                  <a:lnTo>
                    <a:pt x="963" y="2976"/>
                  </a:lnTo>
                  <a:lnTo>
                    <a:pt x="963" y="2968"/>
                  </a:lnTo>
                  <a:lnTo>
                    <a:pt x="969" y="2959"/>
                  </a:lnTo>
                  <a:lnTo>
                    <a:pt x="978" y="2953"/>
                  </a:lnTo>
                  <a:lnTo>
                    <a:pt x="983" y="2945"/>
                  </a:lnTo>
                  <a:lnTo>
                    <a:pt x="992" y="2942"/>
                  </a:lnTo>
                  <a:lnTo>
                    <a:pt x="1004" y="2945"/>
                  </a:lnTo>
                  <a:lnTo>
                    <a:pt x="1016" y="2945"/>
                  </a:lnTo>
                  <a:lnTo>
                    <a:pt x="1024" y="2945"/>
                  </a:lnTo>
                  <a:lnTo>
                    <a:pt x="1027" y="2936"/>
                  </a:lnTo>
                  <a:lnTo>
                    <a:pt x="1036" y="2945"/>
                  </a:lnTo>
                  <a:lnTo>
                    <a:pt x="1042" y="2953"/>
                  </a:lnTo>
                  <a:lnTo>
                    <a:pt x="1050" y="2962"/>
                  </a:lnTo>
                  <a:lnTo>
                    <a:pt x="1059" y="2971"/>
                  </a:lnTo>
                  <a:lnTo>
                    <a:pt x="1045" y="2959"/>
                  </a:lnTo>
                  <a:lnTo>
                    <a:pt x="1042" y="2950"/>
                  </a:lnTo>
                  <a:lnTo>
                    <a:pt x="1042" y="2942"/>
                  </a:lnTo>
                  <a:lnTo>
                    <a:pt x="1042" y="2933"/>
                  </a:lnTo>
                  <a:lnTo>
                    <a:pt x="1042" y="2925"/>
                  </a:lnTo>
                  <a:lnTo>
                    <a:pt x="1033" y="2916"/>
                  </a:lnTo>
                  <a:lnTo>
                    <a:pt x="1021" y="2907"/>
                  </a:lnTo>
                  <a:lnTo>
                    <a:pt x="1013" y="2899"/>
                  </a:lnTo>
                  <a:lnTo>
                    <a:pt x="1007" y="2890"/>
                  </a:lnTo>
                  <a:lnTo>
                    <a:pt x="1018" y="2893"/>
                  </a:lnTo>
                  <a:lnTo>
                    <a:pt x="1027" y="2896"/>
                  </a:lnTo>
                  <a:lnTo>
                    <a:pt x="1036" y="2901"/>
                  </a:lnTo>
                  <a:lnTo>
                    <a:pt x="1045" y="2907"/>
                  </a:lnTo>
                  <a:lnTo>
                    <a:pt x="1050" y="2916"/>
                  </a:lnTo>
                  <a:lnTo>
                    <a:pt x="1042" y="2913"/>
                  </a:lnTo>
                  <a:lnTo>
                    <a:pt x="1033" y="2907"/>
                  </a:lnTo>
                  <a:lnTo>
                    <a:pt x="1021" y="2899"/>
                  </a:lnTo>
                  <a:lnTo>
                    <a:pt x="1010" y="2896"/>
                  </a:lnTo>
                  <a:lnTo>
                    <a:pt x="1004" y="2887"/>
                  </a:lnTo>
                  <a:lnTo>
                    <a:pt x="1013" y="2881"/>
                  </a:lnTo>
                  <a:lnTo>
                    <a:pt x="1018" y="2873"/>
                  </a:lnTo>
                  <a:lnTo>
                    <a:pt x="1018" y="2864"/>
                  </a:lnTo>
                  <a:lnTo>
                    <a:pt x="1021" y="2855"/>
                  </a:lnTo>
                  <a:lnTo>
                    <a:pt x="1021" y="2847"/>
                  </a:lnTo>
                  <a:lnTo>
                    <a:pt x="1021" y="2838"/>
                  </a:lnTo>
                  <a:lnTo>
                    <a:pt x="1021" y="2829"/>
                  </a:lnTo>
                  <a:lnTo>
                    <a:pt x="1021" y="2821"/>
                  </a:lnTo>
                  <a:lnTo>
                    <a:pt x="1024" y="2812"/>
                  </a:lnTo>
                  <a:lnTo>
                    <a:pt x="1033" y="2812"/>
                  </a:lnTo>
                  <a:lnTo>
                    <a:pt x="1042" y="2809"/>
                  </a:lnTo>
                  <a:lnTo>
                    <a:pt x="1042" y="2818"/>
                  </a:lnTo>
                  <a:lnTo>
                    <a:pt x="1042" y="2827"/>
                  </a:lnTo>
                  <a:lnTo>
                    <a:pt x="1042" y="2835"/>
                  </a:lnTo>
                  <a:lnTo>
                    <a:pt x="1042" y="2844"/>
                  </a:lnTo>
                  <a:lnTo>
                    <a:pt x="1050" y="2850"/>
                  </a:lnTo>
                  <a:lnTo>
                    <a:pt x="1056" y="2841"/>
                  </a:lnTo>
                  <a:lnTo>
                    <a:pt x="1065" y="2841"/>
                  </a:lnTo>
                  <a:lnTo>
                    <a:pt x="1068" y="2850"/>
                  </a:lnTo>
                  <a:lnTo>
                    <a:pt x="1071" y="2841"/>
                  </a:lnTo>
                  <a:lnTo>
                    <a:pt x="1071" y="2832"/>
                  </a:lnTo>
                  <a:lnTo>
                    <a:pt x="1080" y="2827"/>
                  </a:lnTo>
                  <a:lnTo>
                    <a:pt x="1088" y="2827"/>
                  </a:lnTo>
                  <a:lnTo>
                    <a:pt x="1100" y="2835"/>
                  </a:lnTo>
                  <a:lnTo>
                    <a:pt x="1109" y="2835"/>
                  </a:lnTo>
                  <a:lnTo>
                    <a:pt x="1120" y="2835"/>
                  </a:lnTo>
                  <a:lnTo>
                    <a:pt x="1129" y="2835"/>
                  </a:lnTo>
                  <a:lnTo>
                    <a:pt x="1138" y="2838"/>
                  </a:lnTo>
                  <a:lnTo>
                    <a:pt x="1147" y="2841"/>
                  </a:lnTo>
                  <a:lnTo>
                    <a:pt x="1155" y="2844"/>
                  </a:lnTo>
                  <a:lnTo>
                    <a:pt x="1149" y="2852"/>
                  </a:lnTo>
                  <a:lnTo>
                    <a:pt x="1149" y="2861"/>
                  </a:lnTo>
                  <a:lnTo>
                    <a:pt x="1149" y="2870"/>
                  </a:lnTo>
                  <a:lnTo>
                    <a:pt x="1158" y="2878"/>
                  </a:lnTo>
                  <a:lnTo>
                    <a:pt x="1170" y="2878"/>
                  </a:lnTo>
                  <a:lnTo>
                    <a:pt x="1179" y="2878"/>
                  </a:lnTo>
                  <a:lnTo>
                    <a:pt x="1187" y="2878"/>
                  </a:lnTo>
                  <a:lnTo>
                    <a:pt x="1196" y="2878"/>
                  </a:lnTo>
                  <a:lnTo>
                    <a:pt x="1205" y="2876"/>
                  </a:lnTo>
                  <a:lnTo>
                    <a:pt x="1216" y="2873"/>
                  </a:lnTo>
                  <a:lnTo>
                    <a:pt x="1225" y="2873"/>
                  </a:lnTo>
                  <a:lnTo>
                    <a:pt x="1234" y="2873"/>
                  </a:lnTo>
                  <a:lnTo>
                    <a:pt x="1243" y="2873"/>
                  </a:lnTo>
                  <a:lnTo>
                    <a:pt x="1251" y="2873"/>
                  </a:lnTo>
                  <a:lnTo>
                    <a:pt x="1254" y="2884"/>
                  </a:lnTo>
                  <a:lnTo>
                    <a:pt x="1257" y="2893"/>
                  </a:lnTo>
                  <a:lnTo>
                    <a:pt x="1257" y="2901"/>
                  </a:lnTo>
                  <a:lnTo>
                    <a:pt x="1272" y="2907"/>
                  </a:lnTo>
                  <a:lnTo>
                    <a:pt x="1263" y="2913"/>
                  </a:lnTo>
                  <a:lnTo>
                    <a:pt x="1254" y="2913"/>
                  </a:lnTo>
                  <a:lnTo>
                    <a:pt x="1245" y="2913"/>
                  </a:lnTo>
                  <a:lnTo>
                    <a:pt x="1248" y="2878"/>
                  </a:lnTo>
                  <a:lnTo>
                    <a:pt x="1245" y="2896"/>
                  </a:lnTo>
                  <a:lnTo>
                    <a:pt x="1237" y="2896"/>
                  </a:lnTo>
                  <a:lnTo>
                    <a:pt x="1228" y="2893"/>
                  </a:lnTo>
                  <a:lnTo>
                    <a:pt x="1219" y="2896"/>
                  </a:lnTo>
                  <a:lnTo>
                    <a:pt x="1211" y="2896"/>
                  </a:lnTo>
                  <a:lnTo>
                    <a:pt x="1202" y="2896"/>
                  </a:lnTo>
                  <a:lnTo>
                    <a:pt x="1193" y="2893"/>
                  </a:lnTo>
                  <a:lnTo>
                    <a:pt x="1184" y="2890"/>
                  </a:lnTo>
                  <a:lnTo>
                    <a:pt x="1176" y="2890"/>
                  </a:lnTo>
                  <a:lnTo>
                    <a:pt x="1167" y="2887"/>
                  </a:lnTo>
                  <a:lnTo>
                    <a:pt x="1155" y="2887"/>
                  </a:lnTo>
                  <a:lnTo>
                    <a:pt x="1147" y="2887"/>
                  </a:lnTo>
                  <a:lnTo>
                    <a:pt x="1135" y="2887"/>
                  </a:lnTo>
                  <a:lnTo>
                    <a:pt x="1132" y="2896"/>
                  </a:lnTo>
                  <a:lnTo>
                    <a:pt x="1132" y="2904"/>
                  </a:lnTo>
                  <a:lnTo>
                    <a:pt x="1132" y="2913"/>
                  </a:lnTo>
                  <a:lnTo>
                    <a:pt x="1144" y="2916"/>
                  </a:lnTo>
                  <a:lnTo>
                    <a:pt x="1144" y="2925"/>
                  </a:lnTo>
                  <a:lnTo>
                    <a:pt x="1129" y="2927"/>
                  </a:lnTo>
                  <a:lnTo>
                    <a:pt x="1120" y="2927"/>
                  </a:lnTo>
                  <a:lnTo>
                    <a:pt x="1112" y="2927"/>
                  </a:lnTo>
                  <a:lnTo>
                    <a:pt x="1114" y="2936"/>
                  </a:lnTo>
                  <a:lnTo>
                    <a:pt x="1123" y="2936"/>
                  </a:lnTo>
                  <a:lnTo>
                    <a:pt x="1132" y="2942"/>
                  </a:lnTo>
                  <a:lnTo>
                    <a:pt x="1144" y="2948"/>
                  </a:lnTo>
                  <a:lnTo>
                    <a:pt x="1135" y="2953"/>
                  </a:lnTo>
                  <a:lnTo>
                    <a:pt x="1123" y="2953"/>
                  </a:lnTo>
                  <a:lnTo>
                    <a:pt x="1112" y="2953"/>
                  </a:lnTo>
                  <a:lnTo>
                    <a:pt x="1103" y="2953"/>
                  </a:lnTo>
                  <a:lnTo>
                    <a:pt x="1106" y="2962"/>
                  </a:lnTo>
                  <a:lnTo>
                    <a:pt x="1114" y="2965"/>
                  </a:lnTo>
                  <a:lnTo>
                    <a:pt x="1123" y="2974"/>
                  </a:lnTo>
                  <a:lnTo>
                    <a:pt x="1114" y="2982"/>
                  </a:lnTo>
                  <a:lnTo>
                    <a:pt x="1117" y="2991"/>
                  </a:lnTo>
                  <a:lnTo>
                    <a:pt x="1126" y="2994"/>
                  </a:lnTo>
                  <a:lnTo>
                    <a:pt x="1114" y="2999"/>
                  </a:lnTo>
                  <a:lnTo>
                    <a:pt x="1106" y="2999"/>
                  </a:lnTo>
                  <a:lnTo>
                    <a:pt x="1117" y="3005"/>
                  </a:lnTo>
                  <a:lnTo>
                    <a:pt x="1132" y="3008"/>
                  </a:lnTo>
                  <a:lnTo>
                    <a:pt x="1135" y="3017"/>
                  </a:lnTo>
                  <a:lnTo>
                    <a:pt x="1126" y="3022"/>
                  </a:lnTo>
                  <a:lnTo>
                    <a:pt x="1126" y="3034"/>
                  </a:lnTo>
                  <a:lnTo>
                    <a:pt x="1126" y="3046"/>
                  </a:lnTo>
                  <a:lnTo>
                    <a:pt x="1126" y="3054"/>
                  </a:lnTo>
                  <a:lnTo>
                    <a:pt x="1135" y="3054"/>
                  </a:lnTo>
                  <a:lnTo>
                    <a:pt x="1144" y="3054"/>
                  </a:lnTo>
                  <a:lnTo>
                    <a:pt x="1155" y="3054"/>
                  </a:lnTo>
                  <a:lnTo>
                    <a:pt x="1164" y="3054"/>
                  </a:lnTo>
                  <a:lnTo>
                    <a:pt x="1167" y="3063"/>
                  </a:lnTo>
                  <a:lnTo>
                    <a:pt x="1179" y="3069"/>
                  </a:lnTo>
                  <a:lnTo>
                    <a:pt x="1187" y="3069"/>
                  </a:lnTo>
                  <a:lnTo>
                    <a:pt x="1190" y="3080"/>
                  </a:lnTo>
                  <a:lnTo>
                    <a:pt x="1193" y="3089"/>
                  </a:lnTo>
                  <a:lnTo>
                    <a:pt x="1199" y="3097"/>
                  </a:lnTo>
                  <a:lnTo>
                    <a:pt x="1211" y="3103"/>
                  </a:lnTo>
                  <a:lnTo>
                    <a:pt x="1219" y="3103"/>
                  </a:lnTo>
                  <a:lnTo>
                    <a:pt x="1231" y="3103"/>
                  </a:lnTo>
                  <a:lnTo>
                    <a:pt x="1240" y="3100"/>
                  </a:lnTo>
                  <a:lnTo>
                    <a:pt x="1243" y="3092"/>
                  </a:lnTo>
                  <a:lnTo>
                    <a:pt x="1248" y="3083"/>
                  </a:lnTo>
                  <a:lnTo>
                    <a:pt x="1257" y="3083"/>
                  </a:lnTo>
                  <a:lnTo>
                    <a:pt x="1278" y="3097"/>
                  </a:lnTo>
                  <a:lnTo>
                    <a:pt x="1286" y="3103"/>
                  </a:lnTo>
                  <a:lnTo>
                    <a:pt x="1289" y="3112"/>
                  </a:lnTo>
                  <a:lnTo>
                    <a:pt x="1295" y="3120"/>
                  </a:lnTo>
                  <a:lnTo>
                    <a:pt x="1301" y="3129"/>
                  </a:lnTo>
                  <a:lnTo>
                    <a:pt x="1312" y="3141"/>
                  </a:lnTo>
                  <a:lnTo>
                    <a:pt x="1324" y="3146"/>
                  </a:lnTo>
                  <a:lnTo>
                    <a:pt x="1336" y="3152"/>
                  </a:lnTo>
                  <a:lnTo>
                    <a:pt x="1347" y="3155"/>
                  </a:lnTo>
                  <a:lnTo>
                    <a:pt x="1356" y="3155"/>
                  </a:lnTo>
                  <a:lnTo>
                    <a:pt x="1365" y="3155"/>
                  </a:lnTo>
                  <a:lnTo>
                    <a:pt x="1374" y="3155"/>
                  </a:lnTo>
                  <a:lnTo>
                    <a:pt x="1376" y="3146"/>
                  </a:lnTo>
                  <a:lnTo>
                    <a:pt x="1385" y="3138"/>
                  </a:lnTo>
                  <a:lnTo>
                    <a:pt x="1391" y="3129"/>
                  </a:lnTo>
                  <a:lnTo>
                    <a:pt x="1400" y="3132"/>
                  </a:lnTo>
                  <a:lnTo>
                    <a:pt x="1409" y="3138"/>
                  </a:lnTo>
                  <a:lnTo>
                    <a:pt x="1417" y="3149"/>
                  </a:lnTo>
                  <a:lnTo>
                    <a:pt x="1429" y="3152"/>
                  </a:lnTo>
                  <a:lnTo>
                    <a:pt x="1435" y="3155"/>
                  </a:lnTo>
                  <a:lnTo>
                    <a:pt x="1438" y="3164"/>
                  </a:lnTo>
                  <a:lnTo>
                    <a:pt x="1441" y="3172"/>
                  </a:lnTo>
                  <a:lnTo>
                    <a:pt x="1449" y="3178"/>
                  </a:lnTo>
                  <a:lnTo>
                    <a:pt x="1458" y="3178"/>
                  </a:lnTo>
                  <a:lnTo>
                    <a:pt x="1464" y="3169"/>
                  </a:lnTo>
                  <a:lnTo>
                    <a:pt x="1464" y="3161"/>
                  </a:lnTo>
                  <a:lnTo>
                    <a:pt x="1470" y="3152"/>
                  </a:lnTo>
                  <a:lnTo>
                    <a:pt x="1478" y="3152"/>
                  </a:lnTo>
                  <a:lnTo>
                    <a:pt x="1487" y="3155"/>
                  </a:lnTo>
                  <a:lnTo>
                    <a:pt x="1499" y="3161"/>
                  </a:lnTo>
                  <a:lnTo>
                    <a:pt x="1510" y="3161"/>
                  </a:lnTo>
                  <a:lnTo>
                    <a:pt x="1519" y="3161"/>
                  </a:lnTo>
                  <a:lnTo>
                    <a:pt x="1528" y="3161"/>
                  </a:lnTo>
                  <a:lnTo>
                    <a:pt x="1537" y="3158"/>
                  </a:lnTo>
                  <a:lnTo>
                    <a:pt x="1545" y="3158"/>
                  </a:lnTo>
                  <a:lnTo>
                    <a:pt x="1554" y="3164"/>
                  </a:lnTo>
                  <a:lnTo>
                    <a:pt x="1569" y="3169"/>
                  </a:lnTo>
                  <a:lnTo>
                    <a:pt x="1580" y="3169"/>
                  </a:lnTo>
                  <a:lnTo>
                    <a:pt x="1592" y="3169"/>
                  </a:lnTo>
                  <a:lnTo>
                    <a:pt x="1601" y="3169"/>
                  </a:lnTo>
                  <a:lnTo>
                    <a:pt x="1609" y="3169"/>
                  </a:lnTo>
                  <a:lnTo>
                    <a:pt x="1618" y="3169"/>
                  </a:lnTo>
                  <a:lnTo>
                    <a:pt x="1627" y="3169"/>
                  </a:lnTo>
                  <a:lnTo>
                    <a:pt x="1636" y="3169"/>
                  </a:lnTo>
                  <a:lnTo>
                    <a:pt x="1644" y="3169"/>
                  </a:lnTo>
                  <a:lnTo>
                    <a:pt x="1653" y="3169"/>
                  </a:lnTo>
                  <a:lnTo>
                    <a:pt x="1662" y="3169"/>
                  </a:lnTo>
                  <a:lnTo>
                    <a:pt x="1671" y="3169"/>
                  </a:lnTo>
                  <a:lnTo>
                    <a:pt x="1679" y="3169"/>
                  </a:lnTo>
                  <a:lnTo>
                    <a:pt x="1688" y="3169"/>
                  </a:lnTo>
                  <a:lnTo>
                    <a:pt x="1703" y="3169"/>
                  </a:lnTo>
                  <a:lnTo>
                    <a:pt x="1714" y="3172"/>
                  </a:lnTo>
                  <a:lnTo>
                    <a:pt x="1726" y="3175"/>
                  </a:lnTo>
                  <a:lnTo>
                    <a:pt x="1735" y="3175"/>
                  </a:lnTo>
                  <a:lnTo>
                    <a:pt x="1743" y="3175"/>
                  </a:lnTo>
                  <a:lnTo>
                    <a:pt x="1758" y="3175"/>
                  </a:lnTo>
                  <a:lnTo>
                    <a:pt x="1767" y="3175"/>
                  </a:lnTo>
                  <a:lnTo>
                    <a:pt x="1772" y="3167"/>
                  </a:lnTo>
                  <a:lnTo>
                    <a:pt x="1772" y="3158"/>
                  </a:lnTo>
                  <a:lnTo>
                    <a:pt x="1772" y="3149"/>
                  </a:lnTo>
                  <a:lnTo>
                    <a:pt x="1772" y="3141"/>
                  </a:lnTo>
                  <a:lnTo>
                    <a:pt x="1772" y="3132"/>
                  </a:lnTo>
                  <a:lnTo>
                    <a:pt x="1772" y="3123"/>
                  </a:lnTo>
                  <a:lnTo>
                    <a:pt x="1772" y="3112"/>
                  </a:lnTo>
                  <a:lnTo>
                    <a:pt x="1770" y="3103"/>
                  </a:lnTo>
                  <a:lnTo>
                    <a:pt x="1770" y="3095"/>
                  </a:lnTo>
                  <a:lnTo>
                    <a:pt x="1770" y="3086"/>
                  </a:lnTo>
                  <a:lnTo>
                    <a:pt x="1778" y="3080"/>
                  </a:lnTo>
                  <a:lnTo>
                    <a:pt x="1787" y="3080"/>
                  </a:lnTo>
                  <a:lnTo>
                    <a:pt x="1796" y="3089"/>
                  </a:lnTo>
                  <a:lnTo>
                    <a:pt x="1802" y="3097"/>
                  </a:lnTo>
                  <a:lnTo>
                    <a:pt x="1813" y="3103"/>
                  </a:lnTo>
                  <a:lnTo>
                    <a:pt x="1825" y="3112"/>
                  </a:lnTo>
                  <a:lnTo>
                    <a:pt x="1854" y="3109"/>
                  </a:lnTo>
                  <a:lnTo>
                    <a:pt x="1836" y="3103"/>
                  </a:lnTo>
                  <a:lnTo>
                    <a:pt x="1854" y="3103"/>
                  </a:lnTo>
                  <a:lnTo>
                    <a:pt x="1863" y="3103"/>
                  </a:lnTo>
                  <a:lnTo>
                    <a:pt x="1871" y="3103"/>
                  </a:lnTo>
                  <a:lnTo>
                    <a:pt x="1880" y="3106"/>
                  </a:lnTo>
                  <a:lnTo>
                    <a:pt x="1889" y="3100"/>
                  </a:lnTo>
                  <a:lnTo>
                    <a:pt x="1898" y="3097"/>
                  </a:lnTo>
                  <a:lnTo>
                    <a:pt x="1906" y="3095"/>
                  </a:lnTo>
                  <a:lnTo>
                    <a:pt x="1918" y="3103"/>
                  </a:lnTo>
                  <a:lnTo>
                    <a:pt x="1924" y="3112"/>
                  </a:lnTo>
                  <a:lnTo>
                    <a:pt x="1924" y="3120"/>
                  </a:lnTo>
                  <a:lnTo>
                    <a:pt x="1921" y="3129"/>
                  </a:lnTo>
                  <a:lnTo>
                    <a:pt x="1924" y="3138"/>
                  </a:lnTo>
                  <a:lnTo>
                    <a:pt x="1933" y="3144"/>
                  </a:lnTo>
                  <a:lnTo>
                    <a:pt x="1944" y="3152"/>
                  </a:lnTo>
                  <a:lnTo>
                    <a:pt x="1947" y="3144"/>
                  </a:lnTo>
                  <a:lnTo>
                    <a:pt x="1947" y="3135"/>
                  </a:lnTo>
                  <a:lnTo>
                    <a:pt x="1947" y="3126"/>
                  </a:lnTo>
                  <a:lnTo>
                    <a:pt x="1947" y="3118"/>
                  </a:lnTo>
                  <a:lnTo>
                    <a:pt x="1956" y="3115"/>
                  </a:lnTo>
                  <a:lnTo>
                    <a:pt x="1962" y="3106"/>
                  </a:lnTo>
                  <a:lnTo>
                    <a:pt x="1962" y="3097"/>
                  </a:lnTo>
                  <a:lnTo>
                    <a:pt x="1962" y="3089"/>
                  </a:lnTo>
                  <a:lnTo>
                    <a:pt x="1962" y="3080"/>
                  </a:lnTo>
                  <a:lnTo>
                    <a:pt x="1962" y="3071"/>
                  </a:lnTo>
                  <a:lnTo>
                    <a:pt x="1967" y="3063"/>
                  </a:lnTo>
                  <a:lnTo>
                    <a:pt x="1976" y="3060"/>
                  </a:lnTo>
                  <a:lnTo>
                    <a:pt x="1988" y="3060"/>
                  </a:lnTo>
                  <a:lnTo>
                    <a:pt x="2002" y="3063"/>
                  </a:lnTo>
                  <a:lnTo>
                    <a:pt x="2011" y="3063"/>
                  </a:lnTo>
                  <a:lnTo>
                    <a:pt x="2002" y="3054"/>
                  </a:lnTo>
                  <a:lnTo>
                    <a:pt x="1994" y="3048"/>
                  </a:lnTo>
                  <a:lnTo>
                    <a:pt x="1979" y="3043"/>
                  </a:lnTo>
                  <a:lnTo>
                    <a:pt x="1967" y="3034"/>
                  </a:lnTo>
                  <a:lnTo>
                    <a:pt x="1962" y="3025"/>
                  </a:lnTo>
                  <a:lnTo>
                    <a:pt x="1959" y="3017"/>
                  </a:lnTo>
                  <a:lnTo>
                    <a:pt x="1956" y="3008"/>
                  </a:lnTo>
                  <a:lnTo>
                    <a:pt x="1950" y="2999"/>
                  </a:lnTo>
                  <a:lnTo>
                    <a:pt x="1944" y="2991"/>
                  </a:lnTo>
                  <a:lnTo>
                    <a:pt x="1938" y="2982"/>
                  </a:lnTo>
                  <a:lnTo>
                    <a:pt x="1933" y="2974"/>
                  </a:lnTo>
                  <a:lnTo>
                    <a:pt x="1927" y="2965"/>
                  </a:lnTo>
                  <a:lnTo>
                    <a:pt x="1924" y="2956"/>
                  </a:lnTo>
                  <a:lnTo>
                    <a:pt x="1921" y="2948"/>
                  </a:lnTo>
                  <a:lnTo>
                    <a:pt x="1918" y="2939"/>
                  </a:lnTo>
                  <a:lnTo>
                    <a:pt x="1915" y="2930"/>
                  </a:lnTo>
                  <a:lnTo>
                    <a:pt x="1912" y="2922"/>
                  </a:lnTo>
                  <a:lnTo>
                    <a:pt x="1915" y="2913"/>
                  </a:lnTo>
                  <a:lnTo>
                    <a:pt x="1915" y="2904"/>
                  </a:lnTo>
                  <a:lnTo>
                    <a:pt x="1915" y="2896"/>
                  </a:lnTo>
                  <a:lnTo>
                    <a:pt x="1915" y="2887"/>
                  </a:lnTo>
                  <a:lnTo>
                    <a:pt x="1912" y="2878"/>
                  </a:lnTo>
                  <a:lnTo>
                    <a:pt x="1909" y="2870"/>
                  </a:lnTo>
                  <a:lnTo>
                    <a:pt x="1903" y="2861"/>
                  </a:lnTo>
                  <a:lnTo>
                    <a:pt x="1895" y="2852"/>
                  </a:lnTo>
                  <a:lnTo>
                    <a:pt x="1892" y="2844"/>
                  </a:lnTo>
                  <a:lnTo>
                    <a:pt x="1892" y="2835"/>
                  </a:lnTo>
                  <a:lnTo>
                    <a:pt x="1898" y="2827"/>
                  </a:lnTo>
                  <a:lnTo>
                    <a:pt x="1906" y="2824"/>
                  </a:lnTo>
                  <a:lnTo>
                    <a:pt x="1918" y="2821"/>
                  </a:lnTo>
                  <a:lnTo>
                    <a:pt x="1930" y="2818"/>
                  </a:lnTo>
                  <a:lnTo>
                    <a:pt x="1938" y="2812"/>
                  </a:lnTo>
                  <a:lnTo>
                    <a:pt x="1944" y="2803"/>
                  </a:lnTo>
                  <a:lnTo>
                    <a:pt x="1953" y="2798"/>
                  </a:lnTo>
                  <a:lnTo>
                    <a:pt x="1962" y="2798"/>
                  </a:lnTo>
                  <a:lnTo>
                    <a:pt x="1970" y="2798"/>
                  </a:lnTo>
                  <a:lnTo>
                    <a:pt x="1976" y="2789"/>
                  </a:lnTo>
                  <a:lnTo>
                    <a:pt x="1982" y="2780"/>
                  </a:lnTo>
                  <a:lnTo>
                    <a:pt x="1991" y="2775"/>
                  </a:lnTo>
                  <a:lnTo>
                    <a:pt x="1999" y="2775"/>
                  </a:lnTo>
                  <a:lnTo>
                    <a:pt x="2008" y="2769"/>
                  </a:lnTo>
                  <a:lnTo>
                    <a:pt x="2017" y="2763"/>
                  </a:lnTo>
                  <a:lnTo>
                    <a:pt x="2026" y="2760"/>
                  </a:lnTo>
                  <a:lnTo>
                    <a:pt x="2034" y="2760"/>
                  </a:lnTo>
                  <a:lnTo>
                    <a:pt x="2043" y="2760"/>
                  </a:lnTo>
                  <a:lnTo>
                    <a:pt x="2052" y="2754"/>
                  </a:lnTo>
                  <a:lnTo>
                    <a:pt x="2061" y="2754"/>
                  </a:lnTo>
                  <a:lnTo>
                    <a:pt x="2069" y="2757"/>
                  </a:lnTo>
                  <a:lnTo>
                    <a:pt x="2078" y="2757"/>
                  </a:lnTo>
                  <a:lnTo>
                    <a:pt x="2093" y="2760"/>
                  </a:lnTo>
                  <a:lnTo>
                    <a:pt x="2101" y="2760"/>
                  </a:lnTo>
                  <a:lnTo>
                    <a:pt x="2101" y="2769"/>
                  </a:lnTo>
                  <a:lnTo>
                    <a:pt x="2101" y="2778"/>
                  </a:lnTo>
                  <a:lnTo>
                    <a:pt x="2101" y="2786"/>
                  </a:lnTo>
                  <a:lnTo>
                    <a:pt x="2104" y="2795"/>
                  </a:lnTo>
                  <a:lnTo>
                    <a:pt x="2104" y="2803"/>
                  </a:lnTo>
                  <a:lnTo>
                    <a:pt x="2104" y="2812"/>
                  </a:lnTo>
                  <a:lnTo>
                    <a:pt x="2104" y="2821"/>
                  </a:lnTo>
                  <a:lnTo>
                    <a:pt x="2104" y="2829"/>
                  </a:lnTo>
                  <a:lnTo>
                    <a:pt x="2104" y="2838"/>
                  </a:lnTo>
                  <a:lnTo>
                    <a:pt x="2096" y="2841"/>
                  </a:lnTo>
                  <a:lnTo>
                    <a:pt x="2087" y="2841"/>
                  </a:lnTo>
                  <a:lnTo>
                    <a:pt x="2078" y="2841"/>
                  </a:lnTo>
                  <a:lnTo>
                    <a:pt x="2069" y="2841"/>
                  </a:lnTo>
                  <a:lnTo>
                    <a:pt x="2061" y="2841"/>
                  </a:lnTo>
                  <a:lnTo>
                    <a:pt x="2069" y="2841"/>
                  </a:lnTo>
                  <a:lnTo>
                    <a:pt x="2078" y="2835"/>
                  </a:lnTo>
                  <a:lnTo>
                    <a:pt x="2090" y="2835"/>
                  </a:lnTo>
                  <a:lnTo>
                    <a:pt x="2081" y="2832"/>
                  </a:lnTo>
                  <a:lnTo>
                    <a:pt x="2072" y="2832"/>
                  </a:lnTo>
                  <a:lnTo>
                    <a:pt x="2064" y="2832"/>
                  </a:lnTo>
                  <a:lnTo>
                    <a:pt x="2058" y="2841"/>
                  </a:lnTo>
                  <a:lnTo>
                    <a:pt x="2049" y="2844"/>
                  </a:lnTo>
                  <a:lnTo>
                    <a:pt x="2040" y="2847"/>
                  </a:lnTo>
                  <a:lnTo>
                    <a:pt x="2040" y="2855"/>
                  </a:lnTo>
                  <a:lnTo>
                    <a:pt x="2040" y="2864"/>
                  </a:lnTo>
                  <a:lnTo>
                    <a:pt x="2032" y="2870"/>
                  </a:lnTo>
                  <a:lnTo>
                    <a:pt x="2020" y="2870"/>
                  </a:lnTo>
                  <a:lnTo>
                    <a:pt x="2017" y="2861"/>
                  </a:lnTo>
                  <a:lnTo>
                    <a:pt x="2008" y="2858"/>
                  </a:lnTo>
                  <a:lnTo>
                    <a:pt x="2002" y="2867"/>
                  </a:lnTo>
                  <a:lnTo>
                    <a:pt x="2002" y="2876"/>
                  </a:lnTo>
                  <a:lnTo>
                    <a:pt x="2011" y="2878"/>
                  </a:lnTo>
                  <a:lnTo>
                    <a:pt x="2020" y="2884"/>
                  </a:lnTo>
                  <a:lnTo>
                    <a:pt x="2029" y="2896"/>
                  </a:lnTo>
                  <a:lnTo>
                    <a:pt x="2034" y="2907"/>
                  </a:lnTo>
                  <a:lnTo>
                    <a:pt x="2037" y="2916"/>
                  </a:lnTo>
                  <a:lnTo>
                    <a:pt x="2037" y="2925"/>
                  </a:lnTo>
                  <a:lnTo>
                    <a:pt x="2040" y="2933"/>
                  </a:lnTo>
                  <a:lnTo>
                    <a:pt x="2040" y="2942"/>
                  </a:lnTo>
                  <a:lnTo>
                    <a:pt x="2052" y="2945"/>
                  </a:lnTo>
                  <a:lnTo>
                    <a:pt x="2061" y="2953"/>
                  </a:lnTo>
                  <a:lnTo>
                    <a:pt x="2069" y="2959"/>
                  </a:lnTo>
                  <a:lnTo>
                    <a:pt x="2078" y="2965"/>
                  </a:lnTo>
                  <a:lnTo>
                    <a:pt x="2087" y="2965"/>
                  </a:lnTo>
                  <a:lnTo>
                    <a:pt x="2093" y="2976"/>
                  </a:lnTo>
                  <a:lnTo>
                    <a:pt x="2087" y="2985"/>
                  </a:lnTo>
                  <a:lnTo>
                    <a:pt x="2084" y="2994"/>
                  </a:lnTo>
                  <a:lnTo>
                    <a:pt x="2084" y="3005"/>
                  </a:lnTo>
                  <a:lnTo>
                    <a:pt x="2090" y="3017"/>
                  </a:lnTo>
                  <a:lnTo>
                    <a:pt x="2090" y="3025"/>
                  </a:lnTo>
                  <a:lnTo>
                    <a:pt x="2093" y="3017"/>
                  </a:lnTo>
                  <a:lnTo>
                    <a:pt x="2093" y="3008"/>
                  </a:lnTo>
                  <a:lnTo>
                    <a:pt x="2096" y="2999"/>
                  </a:lnTo>
                  <a:lnTo>
                    <a:pt x="2096" y="2991"/>
                  </a:lnTo>
                  <a:lnTo>
                    <a:pt x="2104" y="2988"/>
                  </a:lnTo>
                  <a:lnTo>
                    <a:pt x="2113" y="2988"/>
                  </a:lnTo>
                  <a:lnTo>
                    <a:pt x="2125" y="2988"/>
                  </a:lnTo>
                  <a:lnTo>
                    <a:pt x="2130" y="2999"/>
                  </a:lnTo>
                  <a:lnTo>
                    <a:pt x="2130" y="3008"/>
                  </a:lnTo>
                  <a:lnTo>
                    <a:pt x="2133" y="3017"/>
                  </a:lnTo>
                  <a:lnTo>
                    <a:pt x="2139" y="3028"/>
                  </a:lnTo>
                  <a:lnTo>
                    <a:pt x="2148" y="3034"/>
                  </a:lnTo>
                  <a:lnTo>
                    <a:pt x="2160" y="3040"/>
                  </a:lnTo>
                  <a:lnTo>
                    <a:pt x="2151" y="3043"/>
                  </a:lnTo>
                  <a:lnTo>
                    <a:pt x="2148" y="3051"/>
                  </a:lnTo>
                  <a:lnTo>
                    <a:pt x="2133" y="3054"/>
                  </a:lnTo>
                  <a:lnTo>
                    <a:pt x="2125" y="3051"/>
                  </a:lnTo>
                  <a:lnTo>
                    <a:pt x="2116" y="3051"/>
                  </a:lnTo>
                  <a:lnTo>
                    <a:pt x="2101" y="3046"/>
                  </a:lnTo>
                  <a:lnTo>
                    <a:pt x="2093" y="3037"/>
                  </a:lnTo>
                  <a:lnTo>
                    <a:pt x="2090" y="3046"/>
                  </a:lnTo>
                  <a:lnTo>
                    <a:pt x="2090" y="3054"/>
                  </a:lnTo>
                  <a:lnTo>
                    <a:pt x="2090" y="3063"/>
                  </a:lnTo>
                  <a:lnTo>
                    <a:pt x="2090" y="3071"/>
                  </a:lnTo>
                  <a:lnTo>
                    <a:pt x="2087" y="3080"/>
                  </a:lnTo>
                  <a:lnTo>
                    <a:pt x="2084" y="3089"/>
                  </a:lnTo>
                  <a:lnTo>
                    <a:pt x="2084" y="3097"/>
                  </a:lnTo>
                  <a:lnTo>
                    <a:pt x="2096" y="3097"/>
                  </a:lnTo>
                  <a:lnTo>
                    <a:pt x="2104" y="3092"/>
                  </a:lnTo>
                  <a:lnTo>
                    <a:pt x="2110" y="3100"/>
                  </a:lnTo>
                  <a:lnTo>
                    <a:pt x="2107" y="3109"/>
                  </a:lnTo>
                  <a:lnTo>
                    <a:pt x="2098" y="3118"/>
                  </a:lnTo>
                  <a:lnTo>
                    <a:pt x="2090" y="3123"/>
                  </a:lnTo>
                  <a:lnTo>
                    <a:pt x="2087" y="3109"/>
                  </a:lnTo>
                  <a:lnTo>
                    <a:pt x="2087" y="3132"/>
                  </a:lnTo>
                  <a:lnTo>
                    <a:pt x="2096" y="3126"/>
                  </a:lnTo>
                  <a:lnTo>
                    <a:pt x="2087" y="3109"/>
                  </a:lnTo>
                  <a:lnTo>
                    <a:pt x="2104" y="3112"/>
                  </a:lnTo>
                  <a:lnTo>
                    <a:pt x="2110" y="3103"/>
                  </a:lnTo>
                  <a:lnTo>
                    <a:pt x="2110" y="3112"/>
                  </a:lnTo>
                  <a:lnTo>
                    <a:pt x="2110" y="3120"/>
                  </a:lnTo>
                  <a:lnTo>
                    <a:pt x="2116" y="3129"/>
                  </a:lnTo>
                  <a:lnTo>
                    <a:pt x="2119" y="3138"/>
                  </a:lnTo>
                  <a:lnTo>
                    <a:pt x="2122" y="3149"/>
                  </a:lnTo>
                  <a:lnTo>
                    <a:pt x="2122" y="3158"/>
                  </a:lnTo>
                  <a:lnTo>
                    <a:pt x="2125" y="3167"/>
                  </a:lnTo>
                  <a:lnTo>
                    <a:pt x="2125" y="3175"/>
                  </a:lnTo>
                  <a:lnTo>
                    <a:pt x="2125" y="3184"/>
                  </a:lnTo>
                  <a:lnTo>
                    <a:pt x="2125" y="3193"/>
                  </a:lnTo>
                  <a:lnTo>
                    <a:pt x="2128" y="3201"/>
                  </a:lnTo>
                  <a:lnTo>
                    <a:pt x="2130" y="3210"/>
                  </a:lnTo>
                  <a:lnTo>
                    <a:pt x="2139" y="3210"/>
                  </a:lnTo>
                  <a:lnTo>
                    <a:pt x="2148" y="3210"/>
                  </a:lnTo>
                  <a:lnTo>
                    <a:pt x="2157" y="3207"/>
                  </a:lnTo>
                  <a:lnTo>
                    <a:pt x="2163" y="3198"/>
                  </a:lnTo>
                  <a:lnTo>
                    <a:pt x="2171" y="3195"/>
                  </a:lnTo>
                  <a:lnTo>
                    <a:pt x="2183" y="3193"/>
                  </a:lnTo>
                  <a:lnTo>
                    <a:pt x="2192" y="3190"/>
                  </a:lnTo>
                  <a:lnTo>
                    <a:pt x="2200" y="3184"/>
                  </a:lnTo>
                  <a:lnTo>
                    <a:pt x="2209" y="3181"/>
                  </a:lnTo>
                  <a:lnTo>
                    <a:pt x="2218" y="3181"/>
                  </a:lnTo>
                  <a:lnTo>
                    <a:pt x="2224" y="3172"/>
                  </a:lnTo>
                  <a:lnTo>
                    <a:pt x="2232" y="3169"/>
                  </a:lnTo>
                  <a:lnTo>
                    <a:pt x="2241" y="3169"/>
                  </a:lnTo>
                  <a:lnTo>
                    <a:pt x="2256" y="3169"/>
                  </a:lnTo>
                  <a:lnTo>
                    <a:pt x="2264" y="3169"/>
                  </a:lnTo>
                  <a:lnTo>
                    <a:pt x="2276" y="3178"/>
                  </a:lnTo>
                  <a:lnTo>
                    <a:pt x="2288" y="3184"/>
                  </a:lnTo>
                  <a:lnTo>
                    <a:pt x="2296" y="3187"/>
                  </a:lnTo>
                  <a:lnTo>
                    <a:pt x="2308" y="3190"/>
                  </a:lnTo>
                  <a:lnTo>
                    <a:pt x="2317" y="3195"/>
                  </a:lnTo>
                  <a:lnTo>
                    <a:pt x="2328" y="3198"/>
                  </a:lnTo>
                  <a:lnTo>
                    <a:pt x="2340" y="3201"/>
                  </a:lnTo>
                  <a:lnTo>
                    <a:pt x="2349" y="3207"/>
                  </a:lnTo>
                  <a:lnTo>
                    <a:pt x="2358" y="3216"/>
                  </a:lnTo>
                  <a:lnTo>
                    <a:pt x="2366" y="3221"/>
                  </a:lnTo>
                  <a:lnTo>
                    <a:pt x="2375" y="3227"/>
                  </a:lnTo>
                  <a:lnTo>
                    <a:pt x="2387" y="3230"/>
                  </a:lnTo>
                  <a:lnTo>
                    <a:pt x="2395" y="3230"/>
                  </a:lnTo>
                  <a:lnTo>
                    <a:pt x="2404" y="3230"/>
                  </a:lnTo>
                  <a:lnTo>
                    <a:pt x="2407" y="3239"/>
                  </a:lnTo>
                  <a:lnTo>
                    <a:pt x="2407" y="3247"/>
                  </a:lnTo>
                  <a:lnTo>
                    <a:pt x="2413" y="3256"/>
                  </a:lnTo>
                  <a:lnTo>
                    <a:pt x="2422" y="3262"/>
                  </a:lnTo>
                  <a:lnTo>
                    <a:pt x="2436" y="3265"/>
                  </a:lnTo>
                  <a:lnTo>
                    <a:pt x="2451" y="3270"/>
                  </a:lnTo>
                  <a:lnTo>
                    <a:pt x="2457" y="3279"/>
                  </a:lnTo>
                  <a:lnTo>
                    <a:pt x="2457" y="3288"/>
                  </a:lnTo>
                  <a:lnTo>
                    <a:pt x="2468" y="3291"/>
                  </a:lnTo>
                  <a:lnTo>
                    <a:pt x="2483" y="3288"/>
                  </a:lnTo>
                  <a:lnTo>
                    <a:pt x="2491" y="3285"/>
                  </a:lnTo>
                  <a:lnTo>
                    <a:pt x="2500" y="3276"/>
                  </a:lnTo>
                  <a:lnTo>
                    <a:pt x="2509" y="3270"/>
                  </a:lnTo>
                  <a:lnTo>
                    <a:pt x="2515" y="3262"/>
                  </a:lnTo>
                  <a:lnTo>
                    <a:pt x="2521" y="3253"/>
                  </a:lnTo>
                  <a:lnTo>
                    <a:pt x="2526" y="3244"/>
                  </a:lnTo>
                  <a:lnTo>
                    <a:pt x="2532" y="3236"/>
                  </a:lnTo>
                  <a:lnTo>
                    <a:pt x="2535" y="3227"/>
                  </a:lnTo>
                  <a:lnTo>
                    <a:pt x="2541" y="3218"/>
                  </a:lnTo>
                  <a:lnTo>
                    <a:pt x="2544" y="3210"/>
                  </a:lnTo>
                  <a:lnTo>
                    <a:pt x="2544" y="3198"/>
                  </a:lnTo>
                  <a:lnTo>
                    <a:pt x="2544" y="3190"/>
                  </a:lnTo>
                  <a:lnTo>
                    <a:pt x="2553" y="3181"/>
                  </a:lnTo>
                  <a:lnTo>
                    <a:pt x="2567" y="3181"/>
                  </a:lnTo>
                  <a:lnTo>
                    <a:pt x="2599" y="3155"/>
                  </a:lnTo>
                  <a:lnTo>
                    <a:pt x="2599" y="3164"/>
                  </a:lnTo>
                  <a:lnTo>
                    <a:pt x="2608" y="3169"/>
                  </a:lnTo>
                  <a:lnTo>
                    <a:pt x="2617" y="3178"/>
                  </a:lnTo>
                  <a:lnTo>
                    <a:pt x="2625" y="3181"/>
                  </a:lnTo>
                  <a:lnTo>
                    <a:pt x="2634" y="3178"/>
                  </a:lnTo>
                  <a:lnTo>
                    <a:pt x="2643" y="3172"/>
                  </a:lnTo>
                  <a:lnTo>
                    <a:pt x="2657" y="3169"/>
                  </a:lnTo>
                  <a:lnTo>
                    <a:pt x="2666" y="3169"/>
                  </a:lnTo>
                  <a:lnTo>
                    <a:pt x="2675" y="3169"/>
                  </a:lnTo>
                  <a:lnTo>
                    <a:pt x="2684" y="3164"/>
                  </a:lnTo>
                  <a:lnTo>
                    <a:pt x="2692" y="3155"/>
                  </a:lnTo>
                  <a:lnTo>
                    <a:pt x="2739" y="3155"/>
                  </a:lnTo>
                  <a:lnTo>
                    <a:pt x="2733" y="3138"/>
                  </a:lnTo>
                  <a:lnTo>
                    <a:pt x="2733" y="3126"/>
                  </a:lnTo>
                  <a:lnTo>
                    <a:pt x="2730" y="3118"/>
                  </a:lnTo>
                  <a:lnTo>
                    <a:pt x="2739" y="3112"/>
                  </a:lnTo>
                  <a:lnTo>
                    <a:pt x="2748" y="3106"/>
                  </a:lnTo>
                  <a:lnTo>
                    <a:pt x="2753" y="3097"/>
                  </a:lnTo>
                  <a:lnTo>
                    <a:pt x="2762" y="3092"/>
                  </a:lnTo>
                  <a:lnTo>
                    <a:pt x="2771" y="3092"/>
                  </a:lnTo>
                  <a:lnTo>
                    <a:pt x="2780" y="3095"/>
                  </a:lnTo>
                  <a:lnTo>
                    <a:pt x="2783" y="3103"/>
                  </a:lnTo>
                  <a:lnTo>
                    <a:pt x="2786" y="3112"/>
                  </a:lnTo>
                  <a:lnTo>
                    <a:pt x="2786" y="3126"/>
                  </a:lnTo>
                  <a:lnTo>
                    <a:pt x="2788" y="3135"/>
                  </a:lnTo>
                  <a:lnTo>
                    <a:pt x="2791" y="3144"/>
                  </a:lnTo>
                  <a:lnTo>
                    <a:pt x="2794" y="3152"/>
                  </a:lnTo>
                  <a:lnTo>
                    <a:pt x="2800" y="3161"/>
                  </a:lnTo>
                  <a:lnTo>
                    <a:pt x="2809" y="3167"/>
                  </a:lnTo>
                  <a:lnTo>
                    <a:pt x="2818" y="3167"/>
                  </a:lnTo>
                  <a:lnTo>
                    <a:pt x="2826" y="3167"/>
                  </a:lnTo>
                  <a:lnTo>
                    <a:pt x="2832" y="3158"/>
                  </a:lnTo>
                  <a:lnTo>
                    <a:pt x="2841" y="3152"/>
                  </a:lnTo>
                  <a:lnTo>
                    <a:pt x="2844" y="3144"/>
                  </a:lnTo>
                  <a:lnTo>
                    <a:pt x="2847" y="3135"/>
                  </a:lnTo>
                  <a:lnTo>
                    <a:pt x="2850" y="3123"/>
                  </a:lnTo>
                  <a:lnTo>
                    <a:pt x="2858" y="3115"/>
                  </a:lnTo>
                  <a:lnTo>
                    <a:pt x="2870" y="3115"/>
                  </a:lnTo>
                  <a:lnTo>
                    <a:pt x="2879" y="3115"/>
                  </a:lnTo>
                  <a:lnTo>
                    <a:pt x="2887" y="3115"/>
                  </a:lnTo>
                  <a:lnTo>
                    <a:pt x="2896" y="3115"/>
                  </a:lnTo>
                  <a:lnTo>
                    <a:pt x="2902" y="3106"/>
                  </a:lnTo>
                  <a:lnTo>
                    <a:pt x="2914" y="3103"/>
                  </a:lnTo>
                  <a:lnTo>
                    <a:pt x="2922" y="3103"/>
                  </a:lnTo>
                  <a:lnTo>
                    <a:pt x="2925" y="3095"/>
                  </a:lnTo>
                  <a:lnTo>
                    <a:pt x="2925" y="3086"/>
                  </a:lnTo>
                  <a:lnTo>
                    <a:pt x="2922" y="3077"/>
                  </a:lnTo>
                  <a:lnTo>
                    <a:pt x="2917" y="3066"/>
                  </a:lnTo>
                  <a:lnTo>
                    <a:pt x="2911" y="3057"/>
                  </a:lnTo>
                  <a:lnTo>
                    <a:pt x="2905" y="3048"/>
                  </a:lnTo>
                  <a:lnTo>
                    <a:pt x="2896" y="3046"/>
                  </a:lnTo>
                  <a:lnTo>
                    <a:pt x="2887" y="3048"/>
                  </a:lnTo>
                  <a:lnTo>
                    <a:pt x="2879" y="3051"/>
                  </a:lnTo>
                  <a:lnTo>
                    <a:pt x="2876" y="3060"/>
                  </a:lnTo>
                  <a:lnTo>
                    <a:pt x="2873" y="3069"/>
                  </a:lnTo>
                  <a:lnTo>
                    <a:pt x="2864" y="3066"/>
                  </a:lnTo>
                  <a:lnTo>
                    <a:pt x="2861" y="3054"/>
                  </a:lnTo>
                  <a:lnTo>
                    <a:pt x="2858" y="3043"/>
                  </a:lnTo>
                  <a:lnTo>
                    <a:pt x="2858" y="3034"/>
                  </a:lnTo>
                  <a:lnTo>
                    <a:pt x="2855" y="3025"/>
                  </a:lnTo>
                  <a:lnTo>
                    <a:pt x="2850" y="3017"/>
                  </a:lnTo>
                  <a:lnTo>
                    <a:pt x="2850" y="3008"/>
                  </a:lnTo>
                  <a:lnTo>
                    <a:pt x="2850" y="2997"/>
                  </a:lnTo>
                  <a:lnTo>
                    <a:pt x="2850" y="2988"/>
                  </a:lnTo>
                  <a:lnTo>
                    <a:pt x="2858" y="2982"/>
                  </a:lnTo>
                  <a:lnTo>
                    <a:pt x="2867" y="2982"/>
                  </a:lnTo>
                  <a:lnTo>
                    <a:pt x="2876" y="2979"/>
                  </a:lnTo>
                  <a:lnTo>
                    <a:pt x="2884" y="2974"/>
                  </a:lnTo>
                  <a:lnTo>
                    <a:pt x="2887" y="2962"/>
                  </a:lnTo>
                  <a:lnTo>
                    <a:pt x="2896" y="2962"/>
                  </a:lnTo>
                  <a:lnTo>
                    <a:pt x="2905" y="2962"/>
                  </a:lnTo>
                  <a:lnTo>
                    <a:pt x="2914" y="2962"/>
                  </a:lnTo>
                  <a:lnTo>
                    <a:pt x="2922" y="2959"/>
                  </a:lnTo>
                  <a:lnTo>
                    <a:pt x="2931" y="2956"/>
                  </a:lnTo>
                  <a:lnTo>
                    <a:pt x="2937" y="2948"/>
                  </a:lnTo>
                  <a:lnTo>
                    <a:pt x="2943" y="2939"/>
                  </a:lnTo>
                  <a:lnTo>
                    <a:pt x="2946" y="2930"/>
                  </a:lnTo>
                  <a:lnTo>
                    <a:pt x="2954" y="2925"/>
                  </a:lnTo>
                  <a:lnTo>
                    <a:pt x="2963" y="2919"/>
                  </a:lnTo>
                  <a:lnTo>
                    <a:pt x="2972" y="2916"/>
                  </a:lnTo>
                  <a:lnTo>
                    <a:pt x="2981" y="2913"/>
                  </a:lnTo>
                  <a:lnTo>
                    <a:pt x="2983" y="2904"/>
                  </a:lnTo>
                  <a:lnTo>
                    <a:pt x="2989" y="2893"/>
                  </a:lnTo>
                  <a:lnTo>
                    <a:pt x="2998" y="2881"/>
                  </a:lnTo>
                  <a:lnTo>
                    <a:pt x="3004" y="2873"/>
                  </a:lnTo>
                  <a:lnTo>
                    <a:pt x="3010" y="2864"/>
                  </a:lnTo>
                  <a:lnTo>
                    <a:pt x="3018" y="2858"/>
                  </a:lnTo>
                  <a:lnTo>
                    <a:pt x="3027" y="2852"/>
                  </a:lnTo>
                  <a:lnTo>
                    <a:pt x="3036" y="2847"/>
                  </a:lnTo>
                  <a:lnTo>
                    <a:pt x="3045" y="2847"/>
                  </a:lnTo>
                  <a:lnTo>
                    <a:pt x="3053" y="2844"/>
                  </a:lnTo>
                  <a:lnTo>
                    <a:pt x="3053" y="2835"/>
                  </a:lnTo>
                  <a:lnTo>
                    <a:pt x="3053" y="2827"/>
                  </a:lnTo>
                  <a:lnTo>
                    <a:pt x="3053" y="2818"/>
                  </a:lnTo>
                  <a:lnTo>
                    <a:pt x="3053" y="2809"/>
                  </a:lnTo>
                  <a:lnTo>
                    <a:pt x="3050" y="2801"/>
                  </a:lnTo>
                  <a:lnTo>
                    <a:pt x="3045" y="2789"/>
                  </a:lnTo>
                  <a:lnTo>
                    <a:pt x="3045" y="2780"/>
                  </a:lnTo>
                  <a:lnTo>
                    <a:pt x="3045" y="2772"/>
                  </a:lnTo>
                  <a:lnTo>
                    <a:pt x="3045" y="2763"/>
                  </a:lnTo>
                  <a:lnTo>
                    <a:pt x="3036" y="2754"/>
                  </a:lnTo>
                  <a:lnTo>
                    <a:pt x="3027" y="2743"/>
                  </a:lnTo>
                  <a:lnTo>
                    <a:pt x="3024" y="2734"/>
                  </a:lnTo>
                  <a:lnTo>
                    <a:pt x="3021" y="2726"/>
                  </a:lnTo>
                  <a:lnTo>
                    <a:pt x="3018" y="2717"/>
                  </a:lnTo>
                  <a:lnTo>
                    <a:pt x="3010" y="2708"/>
                  </a:lnTo>
                  <a:lnTo>
                    <a:pt x="3001" y="2705"/>
                  </a:lnTo>
                  <a:lnTo>
                    <a:pt x="3001" y="2697"/>
                  </a:lnTo>
                  <a:lnTo>
                    <a:pt x="3010" y="2694"/>
                  </a:lnTo>
                  <a:lnTo>
                    <a:pt x="3018" y="2688"/>
                  </a:lnTo>
                  <a:lnTo>
                    <a:pt x="3027" y="2682"/>
                  </a:lnTo>
                  <a:lnTo>
                    <a:pt x="3030" y="2674"/>
                  </a:lnTo>
                  <a:lnTo>
                    <a:pt x="3039" y="2665"/>
                  </a:lnTo>
                  <a:lnTo>
                    <a:pt x="3045" y="2657"/>
                  </a:lnTo>
                  <a:lnTo>
                    <a:pt x="3056" y="2659"/>
                  </a:lnTo>
                  <a:lnTo>
                    <a:pt x="3065" y="2665"/>
                  </a:lnTo>
                  <a:lnTo>
                    <a:pt x="3074" y="2665"/>
                  </a:lnTo>
                  <a:lnTo>
                    <a:pt x="3077" y="2657"/>
                  </a:lnTo>
                  <a:lnTo>
                    <a:pt x="3077" y="2645"/>
                  </a:lnTo>
                  <a:lnTo>
                    <a:pt x="3077" y="2636"/>
                  </a:lnTo>
                  <a:lnTo>
                    <a:pt x="3077" y="2628"/>
                  </a:lnTo>
                  <a:lnTo>
                    <a:pt x="3071" y="2619"/>
                  </a:lnTo>
                  <a:lnTo>
                    <a:pt x="3062" y="2613"/>
                  </a:lnTo>
                  <a:lnTo>
                    <a:pt x="3056" y="2605"/>
                  </a:lnTo>
                  <a:lnTo>
                    <a:pt x="3056" y="2596"/>
                  </a:lnTo>
                  <a:lnTo>
                    <a:pt x="3053" y="2582"/>
                  </a:lnTo>
                  <a:lnTo>
                    <a:pt x="3053" y="2573"/>
                  </a:lnTo>
                  <a:lnTo>
                    <a:pt x="3062" y="2567"/>
                  </a:lnTo>
                  <a:lnTo>
                    <a:pt x="3071" y="2567"/>
                  </a:lnTo>
                  <a:lnTo>
                    <a:pt x="3080" y="2564"/>
                  </a:lnTo>
                  <a:lnTo>
                    <a:pt x="3088" y="2564"/>
                  </a:lnTo>
                  <a:lnTo>
                    <a:pt x="3097" y="2561"/>
                  </a:lnTo>
                  <a:lnTo>
                    <a:pt x="3109" y="2556"/>
                  </a:lnTo>
                  <a:lnTo>
                    <a:pt x="3117" y="2547"/>
                  </a:lnTo>
                  <a:lnTo>
                    <a:pt x="3120" y="2538"/>
                  </a:lnTo>
                  <a:lnTo>
                    <a:pt x="3120" y="2530"/>
                  </a:lnTo>
                  <a:lnTo>
                    <a:pt x="3120" y="2521"/>
                  </a:lnTo>
                  <a:lnTo>
                    <a:pt x="3120" y="2512"/>
                  </a:lnTo>
                  <a:lnTo>
                    <a:pt x="3114" y="2501"/>
                  </a:lnTo>
                  <a:lnTo>
                    <a:pt x="3112" y="2489"/>
                  </a:lnTo>
                  <a:lnTo>
                    <a:pt x="3112" y="2481"/>
                  </a:lnTo>
                  <a:lnTo>
                    <a:pt x="3112" y="2472"/>
                  </a:lnTo>
                  <a:lnTo>
                    <a:pt x="3120" y="2463"/>
                  </a:lnTo>
                  <a:lnTo>
                    <a:pt x="3129" y="2461"/>
                  </a:lnTo>
                  <a:lnTo>
                    <a:pt x="3135" y="2452"/>
                  </a:lnTo>
                  <a:lnTo>
                    <a:pt x="3135" y="2443"/>
                  </a:lnTo>
                  <a:lnTo>
                    <a:pt x="3135" y="2435"/>
                  </a:lnTo>
                  <a:lnTo>
                    <a:pt x="3144" y="2429"/>
                  </a:lnTo>
                  <a:lnTo>
                    <a:pt x="3152" y="2420"/>
                  </a:lnTo>
                  <a:lnTo>
                    <a:pt x="3155" y="2412"/>
                  </a:lnTo>
                  <a:lnTo>
                    <a:pt x="3158" y="2403"/>
                  </a:lnTo>
                  <a:lnTo>
                    <a:pt x="3167" y="2394"/>
                  </a:lnTo>
                  <a:lnTo>
                    <a:pt x="3176" y="2386"/>
                  </a:lnTo>
                  <a:lnTo>
                    <a:pt x="3184" y="2380"/>
                  </a:lnTo>
                  <a:lnTo>
                    <a:pt x="3184" y="2371"/>
                  </a:lnTo>
                  <a:lnTo>
                    <a:pt x="3187" y="2363"/>
                  </a:lnTo>
                  <a:lnTo>
                    <a:pt x="3193" y="2354"/>
                  </a:lnTo>
                  <a:lnTo>
                    <a:pt x="3202" y="2348"/>
                  </a:lnTo>
                  <a:lnTo>
                    <a:pt x="3208" y="2340"/>
                  </a:lnTo>
                  <a:lnTo>
                    <a:pt x="3213" y="2331"/>
                  </a:lnTo>
                  <a:lnTo>
                    <a:pt x="3216" y="2322"/>
                  </a:lnTo>
                  <a:lnTo>
                    <a:pt x="3219" y="2314"/>
                  </a:lnTo>
                  <a:lnTo>
                    <a:pt x="3222" y="2305"/>
                  </a:lnTo>
                  <a:lnTo>
                    <a:pt x="3228" y="2296"/>
                  </a:lnTo>
                  <a:lnTo>
                    <a:pt x="3237" y="2291"/>
                  </a:lnTo>
                  <a:lnTo>
                    <a:pt x="3245" y="2291"/>
                  </a:lnTo>
                  <a:lnTo>
                    <a:pt x="3254" y="2285"/>
                  </a:lnTo>
                  <a:lnTo>
                    <a:pt x="3263" y="2282"/>
                  </a:lnTo>
                  <a:lnTo>
                    <a:pt x="3272" y="2279"/>
                  </a:lnTo>
                  <a:lnTo>
                    <a:pt x="3280" y="2279"/>
                  </a:lnTo>
                  <a:lnTo>
                    <a:pt x="3289" y="2276"/>
                  </a:lnTo>
                  <a:lnTo>
                    <a:pt x="3298" y="2273"/>
                  </a:lnTo>
                  <a:lnTo>
                    <a:pt x="3307" y="2273"/>
                  </a:lnTo>
                  <a:lnTo>
                    <a:pt x="3318" y="2276"/>
                  </a:lnTo>
                  <a:lnTo>
                    <a:pt x="3327" y="2276"/>
                  </a:lnTo>
                  <a:lnTo>
                    <a:pt x="3336" y="2276"/>
                  </a:lnTo>
                  <a:lnTo>
                    <a:pt x="3344" y="2276"/>
                  </a:lnTo>
                  <a:lnTo>
                    <a:pt x="3344" y="2279"/>
                  </a:lnTo>
                  <a:lnTo>
                    <a:pt x="3356" y="2265"/>
                  </a:lnTo>
                  <a:lnTo>
                    <a:pt x="3365" y="2265"/>
                  </a:lnTo>
                  <a:lnTo>
                    <a:pt x="3374" y="2259"/>
                  </a:lnTo>
                  <a:lnTo>
                    <a:pt x="3382" y="2253"/>
                  </a:lnTo>
                  <a:lnTo>
                    <a:pt x="3385" y="2244"/>
                  </a:lnTo>
                  <a:lnTo>
                    <a:pt x="3391" y="2233"/>
                  </a:lnTo>
                  <a:lnTo>
                    <a:pt x="3400" y="2224"/>
                  </a:lnTo>
                  <a:lnTo>
                    <a:pt x="3397" y="2216"/>
                  </a:lnTo>
                  <a:lnTo>
                    <a:pt x="3391" y="2207"/>
                  </a:lnTo>
                  <a:lnTo>
                    <a:pt x="3382" y="2201"/>
                  </a:lnTo>
                  <a:lnTo>
                    <a:pt x="3376" y="2193"/>
                  </a:lnTo>
                  <a:lnTo>
                    <a:pt x="3368" y="2184"/>
                  </a:lnTo>
                  <a:lnTo>
                    <a:pt x="3362" y="2172"/>
                  </a:lnTo>
                  <a:lnTo>
                    <a:pt x="3356" y="2164"/>
                  </a:lnTo>
                  <a:lnTo>
                    <a:pt x="3356" y="2155"/>
                  </a:lnTo>
                  <a:lnTo>
                    <a:pt x="3356" y="2146"/>
                  </a:lnTo>
                  <a:lnTo>
                    <a:pt x="3368" y="2141"/>
                  </a:lnTo>
                  <a:lnTo>
                    <a:pt x="3376" y="2138"/>
                  </a:lnTo>
                  <a:lnTo>
                    <a:pt x="3385" y="2135"/>
                  </a:lnTo>
                  <a:lnTo>
                    <a:pt x="3394" y="2126"/>
                  </a:lnTo>
                  <a:lnTo>
                    <a:pt x="3400" y="2118"/>
                  </a:lnTo>
                  <a:lnTo>
                    <a:pt x="3406" y="2109"/>
                  </a:lnTo>
                  <a:lnTo>
                    <a:pt x="3414" y="2106"/>
                  </a:lnTo>
                  <a:lnTo>
                    <a:pt x="3426" y="2106"/>
                  </a:lnTo>
                  <a:lnTo>
                    <a:pt x="3435" y="2106"/>
                  </a:lnTo>
                  <a:lnTo>
                    <a:pt x="3443" y="2106"/>
                  </a:lnTo>
                  <a:lnTo>
                    <a:pt x="3452" y="2103"/>
                  </a:lnTo>
                  <a:lnTo>
                    <a:pt x="3461" y="2103"/>
                  </a:lnTo>
                  <a:lnTo>
                    <a:pt x="3470" y="2103"/>
                  </a:lnTo>
                  <a:lnTo>
                    <a:pt x="3478" y="2112"/>
                  </a:lnTo>
                  <a:lnTo>
                    <a:pt x="3484" y="2120"/>
                  </a:lnTo>
                  <a:lnTo>
                    <a:pt x="3493" y="2126"/>
                  </a:lnTo>
                  <a:lnTo>
                    <a:pt x="3502" y="2129"/>
                  </a:lnTo>
                  <a:lnTo>
                    <a:pt x="3510" y="2129"/>
                  </a:lnTo>
                  <a:lnTo>
                    <a:pt x="3519" y="2129"/>
                  </a:lnTo>
                  <a:lnTo>
                    <a:pt x="3528" y="2126"/>
                  </a:lnTo>
                  <a:lnTo>
                    <a:pt x="3537" y="2118"/>
                  </a:lnTo>
                  <a:lnTo>
                    <a:pt x="3542" y="2109"/>
                  </a:lnTo>
                  <a:lnTo>
                    <a:pt x="3548" y="2100"/>
                  </a:lnTo>
                  <a:lnTo>
                    <a:pt x="3551" y="2089"/>
                  </a:lnTo>
                  <a:lnTo>
                    <a:pt x="3554" y="2080"/>
                  </a:lnTo>
                  <a:lnTo>
                    <a:pt x="3563" y="2072"/>
                  </a:lnTo>
                  <a:lnTo>
                    <a:pt x="3572" y="2072"/>
                  </a:lnTo>
                  <a:lnTo>
                    <a:pt x="3583" y="2063"/>
                  </a:lnTo>
                  <a:lnTo>
                    <a:pt x="3589" y="2054"/>
                  </a:lnTo>
                  <a:lnTo>
                    <a:pt x="3595" y="2046"/>
                  </a:lnTo>
                  <a:lnTo>
                    <a:pt x="3604" y="2040"/>
                  </a:lnTo>
                  <a:lnTo>
                    <a:pt x="3612" y="2040"/>
                  </a:lnTo>
                  <a:lnTo>
                    <a:pt x="3621" y="2040"/>
                  </a:lnTo>
                  <a:lnTo>
                    <a:pt x="3630" y="2040"/>
                  </a:lnTo>
                  <a:lnTo>
                    <a:pt x="3638" y="2037"/>
                  </a:lnTo>
                  <a:lnTo>
                    <a:pt x="3647" y="2037"/>
                  </a:lnTo>
                  <a:lnTo>
                    <a:pt x="3656" y="2037"/>
                  </a:lnTo>
                  <a:lnTo>
                    <a:pt x="3665" y="2037"/>
                  </a:lnTo>
                  <a:lnTo>
                    <a:pt x="3673" y="2034"/>
                  </a:lnTo>
                  <a:lnTo>
                    <a:pt x="3682" y="2031"/>
                  </a:lnTo>
                  <a:lnTo>
                    <a:pt x="3691" y="2028"/>
                  </a:lnTo>
                  <a:lnTo>
                    <a:pt x="3700" y="2023"/>
                  </a:lnTo>
                  <a:lnTo>
                    <a:pt x="3705" y="2014"/>
                  </a:lnTo>
                  <a:lnTo>
                    <a:pt x="3714" y="2005"/>
                  </a:lnTo>
                  <a:lnTo>
                    <a:pt x="3723" y="1997"/>
                  </a:lnTo>
                  <a:lnTo>
                    <a:pt x="3726" y="1988"/>
                  </a:lnTo>
                  <a:lnTo>
                    <a:pt x="3735" y="1976"/>
                  </a:lnTo>
                  <a:lnTo>
                    <a:pt x="3740" y="1968"/>
                  </a:lnTo>
                  <a:lnTo>
                    <a:pt x="3746" y="1959"/>
                  </a:lnTo>
                  <a:lnTo>
                    <a:pt x="3749" y="1950"/>
                  </a:lnTo>
                  <a:lnTo>
                    <a:pt x="3755" y="1939"/>
                  </a:lnTo>
                  <a:lnTo>
                    <a:pt x="3761" y="1927"/>
                  </a:lnTo>
                  <a:lnTo>
                    <a:pt x="3767" y="1919"/>
                  </a:lnTo>
                  <a:lnTo>
                    <a:pt x="3767" y="1910"/>
                  </a:lnTo>
                  <a:lnTo>
                    <a:pt x="3758" y="1910"/>
                  </a:lnTo>
                  <a:lnTo>
                    <a:pt x="3758" y="1899"/>
                  </a:lnTo>
                  <a:lnTo>
                    <a:pt x="3758" y="1890"/>
                  </a:lnTo>
                  <a:lnTo>
                    <a:pt x="3767" y="1881"/>
                  </a:lnTo>
                  <a:lnTo>
                    <a:pt x="3775" y="1881"/>
                  </a:lnTo>
                  <a:lnTo>
                    <a:pt x="3781" y="1873"/>
                  </a:lnTo>
                  <a:lnTo>
                    <a:pt x="3784" y="1864"/>
                  </a:lnTo>
                  <a:lnTo>
                    <a:pt x="3787" y="1855"/>
                  </a:lnTo>
                  <a:lnTo>
                    <a:pt x="3796" y="1850"/>
                  </a:lnTo>
                  <a:lnTo>
                    <a:pt x="3804" y="1847"/>
                  </a:lnTo>
                  <a:lnTo>
                    <a:pt x="3813" y="1844"/>
                  </a:lnTo>
                  <a:lnTo>
                    <a:pt x="3822" y="1838"/>
                  </a:lnTo>
                  <a:lnTo>
                    <a:pt x="3831" y="1835"/>
                  </a:lnTo>
                  <a:lnTo>
                    <a:pt x="3839" y="1824"/>
                  </a:lnTo>
                  <a:lnTo>
                    <a:pt x="3845" y="1815"/>
                  </a:lnTo>
                  <a:lnTo>
                    <a:pt x="3851" y="1806"/>
                  </a:lnTo>
                  <a:lnTo>
                    <a:pt x="3857" y="1798"/>
                  </a:lnTo>
                  <a:lnTo>
                    <a:pt x="3860" y="1789"/>
                  </a:lnTo>
                  <a:lnTo>
                    <a:pt x="3863" y="1780"/>
                  </a:lnTo>
                  <a:lnTo>
                    <a:pt x="3857" y="1772"/>
                  </a:lnTo>
                  <a:lnTo>
                    <a:pt x="3851" y="1763"/>
                  </a:lnTo>
                  <a:lnTo>
                    <a:pt x="3842" y="1760"/>
                  </a:lnTo>
                  <a:lnTo>
                    <a:pt x="3834" y="1752"/>
                  </a:lnTo>
                  <a:lnTo>
                    <a:pt x="3831" y="1743"/>
                  </a:lnTo>
                  <a:lnTo>
                    <a:pt x="3828" y="1734"/>
                  </a:lnTo>
                  <a:lnTo>
                    <a:pt x="3825" y="1726"/>
                  </a:lnTo>
                  <a:lnTo>
                    <a:pt x="3822" y="1714"/>
                  </a:lnTo>
                  <a:lnTo>
                    <a:pt x="3819" y="1706"/>
                  </a:lnTo>
                  <a:lnTo>
                    <a:pt x="3816" y="1697"/>
                  </a:lnTo>
                  <a:lnTo>
                    <a:pt x="3813" y="1685"/>
                  </a:lnTo>
                  <a:lnTo>
                    <a:pt x="3810" y="1677"/>
                  </a:lnTo>
                  <a:lnTo>
                    <a:pt x="3807" y="1668"/>
                  </a:lnTo>
                  <a:lnTo>
                    <a:pt x="3804" y="1659"/>
                  </a:lnTo>
                  <a:lnTo>
                    <a:pt x="3796" y="1657"/>
                  </a:lnTo>
                  <a:lnTo>
                    <a:pt x="3787" y="1657"/>
                  </a:lnTo>
                  <a:lnTo>
                    <a:pt x="3775" y="1657"/>
                  </a:lnTo>
                  <a:lnTo>
                    <a:pt x="3767" y="1648"/>
                  </a:lnTo>
                  <a:lnTo>
                    <a:pt x="3767" y="1639"/>
                  </a:lnTo>
                  <a:lnTo>
                    <a:pt x="3767" y="1631"/>
                  </a:lnTo>
                  <a:lnTo>
                    <a:pt x="3767" y="1622"/>
                  </a:lnTo>
                  <a:lnTo>
                    <a:pt x="3767" y="1613"/>
                  </a:lnTo>
                  <a:lnTo>
                    <a:pt x="3770" y="1605"/>
                  </a:lnTo>
                  <a:lnTo>
                    <a:pt x="3770" y="1596"/>
                  </a:lnTo>
                  <a:lnTo>
                    <a:pt x="3772" y="1587"/>
                  </a:lnTo>
                  <a:lnTo>
                    <a:pt x="3810" y="1541"/>
                  </a:lnTo>
                  <a:lnTo>
                    <a:pt x="3793" y="1541"/>
                  </a:lnTo>
                  <a:lnTo>
                    <a:pt x="3799" y="1533"/>
                  </a:lnTo>
                  <a:lnTo>
                    <a:pt x="3807" y="1530"/>
                  </a:lnTo>
                  <a:lnTo>
                    <a:pt x="3816" y="1527"/>
                  </a:lnTo>
                  <a:lnTo>
                    <a:pt x="3828" y="1527"/>
                  </a:lnTo>
                  <a:lnTo>
                    <a:pt x="3839" y="1527"/>
                  </a:lnTo>
                  <a:lnTo>
                    <a:pt x="3851" y="1524"/>
                  </a:lnTo>
                  <a:lnTo>
                    <a:pt x="3863" y="1524"/>
                  </a:lnTo>
                  <a:lnTo>
                    <a:pt x="3874" y="1524"/>
                  </a:lnTo>
                  <a:lnTo>
                    <a:pt x="3883" y="1527"/>
                  </a:lnTo>
                  <a:lnTo>
                    <a:pt x="3892" y="1530"/>
                  </a:lnTo>
                  <a:lnTo>
                    <a:pt x="3901" y="1533"/>
                  </a:lnTo>
                  <a:lnTo>
                    <a:pt x="3909" y="1535"/>
                  </a:lnTo>
                  <a:lnTo>
                    <a:pt x="3918" y="1535"/>
                  </a:lnTo>
                  <a:lnTo>
                    <a:pt x="3930" y="1535"/>
                  </a:lnTo>
                  <a:lnTo>
                    <a:pt x="3941" y="1535"/>
                  </a:lnTo>
                  <a:lnTo>
                    <a:pt x="3950" y="1535"/>
                  </a:lnTo>
                  <a:lnTo>
                    <a:pt x="3959" y="1535"/>
                  </a:lnTo>
                  <a:lnTo>
                    <a:pt x="3970" y="1541"/>
                  </a:lnTo>
                  <a:lnTo>
                    <a:pt x="3979" y="1541"/>
                  </a:lnTo>
                  <a:lnTo>
                    <a:pt x="3985" y="1550"/>
                  </a:lnTo>
                  <a:lnTo>
                    <a:pt x="3997" y="1559"/>
                  </a:lnTo>
                  <a:lnTo>
                    <a:pt x="4005" y="1561"/>
                  </a:lnTo>
                  <a:lnTo>
                    <a:pt x="4017" y="1561"/>
                  </a:lnTo>
                  <a:lnTo>
                    <a:pt x="4026" y="1559"/>
                  </a:lnTo>
                  <a:lnTo>
                    <a:pt x="4029" y="1550"/>
                  </a:lnTo>
                  <a:lnTo>
                    <a:pt x="4037" y="1541"/>
                  </a:lnTo>
                  <a:lnTo>
                    <a:pt x="4040" y="1533"/>
                  </a:lnTo>
                  <a:lnTo>
                    <a:pt x="4043" y="1524"/>
                  </a:lnTo>
                  <a:lnTo>
                    <a:pt x="4055" y="1512"/>
                  </a:lnTo>
                  <a:lnTo>
                    <a:pt x="4066" y="1507"/>
                  </a:lnTo>
                  <a:lnTo>
                    <a:pt x="4075" y="1498"/>
                  </a:lnTo>
                  <a:lnTo>
                    <a:pt x="4084" y="1495"/>
                  </a:lnTo>
                  <a:lnTo>
                    <a:pt x="4093" y="1495"/>
                  </a:lnTo>
                  <a:lnTo>
                    <a:pt x="4101" y="1495"/>
                  </a:lnTo>
                  <a:lnTo>
                    <a:pt x="4110" y="1495"/>
                  </a:lnTo>
                  <a:lnTo>
                    <a:pt x="4119" y="1501"/>
                  </a:lnTo>
                  <a:lnTo>
                    <a:pt x="4130" y="1510"/>
                  </a:lnTo>
                  <a:lnTo>
                    <a:pt x="4139" y="1512"/>
                  </a:lnTo>
                  <a:lnTo>
                    <a:pt x="4148" y="1507"/>
                  </a:lnTo>
                  <a:lnTo>
                    <a:pt x="4154" y="1498"/>
                  </a:lnTo>
                  <a:lnTo>
                    <a:pt x="4157" y="1489"/>
                  </a:lnTo>
                  <a:lnTo>
                    <a:pt x="4165" y="1478"/>
                  </a:lnTo>
                  <a:lnTo>
                    <a:pt x="4168" y="1466"/>
                  </a:lnTo>
                  <a:lnTo>
                    <a:pt x="4163" y="1458"/>
                  </a:lnTo>
                  <a:lnTo>
                    <a:pt x="4157" y="1449"/>
                  </a:lnTo>
                  <a:lnTo>
                    <a:pt x="4154" y="1438"/>
                  </a:lnTo>
                  <a:lnTo>
                    <a:pt x="4151" y="1429"/>
                  </a:lnTo>
                  <a:lnTo>
                    <a:pt x="4151" y="1420"/>
                  </a:lnTo>
                  <a:lnTo>
                    <a:pt x="4151" y="1409"/>
                  </a:lnTo>
                  <a:lnTo>
                    <a:pt x="4151" y="1400"/>
                  </a:lnTo>
                  <a:lnTo>
                    <a:pt x="4160" y="1394"/>
                  </a:lnTo>
                  <a:lnTo>
                    <a:pt x="4174" y="1400"/>
                  </a:lnTo>
                  <a:lnTo>
                    <a:pt x="4183" y="1403"/>
                  </a:lnTo>
                  <a:lnTo>
                    <a:pt x="4183" y="1412"/>
                  </a:lnTo>
                  <a:lnTo>
                    <a:pt x="4192" y="1420"/>
                  </a:lnTo>
                  <a:lnTo>
                    <a:pt x="4203" y="1432"/>
                  </a:lnTo>
                  <a:lnTo>
                    <a:pt x="4212" y="1440"/>
                  </a:lnTo>
                  <a:lnTo>
                    <a:pt x="4215" y="1449"/>
                  </a:lnTo>
                  <a:lnTo>
                    <a:pt x="4218" y="1458"/>
                  </a:lnTo>
                  <a:lnTo>
                    <a:pt x="4227" y="1472"/>
                  </a:lnTo>
                  <a:lnTo>
                    <a:pt x="4235" y="1478"/>
                  </a:lnTo>
                  <a:lnTo>
                    <a:pt x="4241" y="1487"/>
                  </a:lnTo>
                  <a:lnTo>
                    <a:pt x="4253" y="1495"/>
                  </a:lnTo>
                  <a:lnTo>
                    <a:pt x="4264" y="1501"/>
                  </a:lnTo>
                  <a:lnTo>
                    <a:pt x="4270" y="1510"/>
                  </a:lnTo>
                  <a:lnTo>
                    <a:pt x="4273" y="1518"/>
                  </a:lnTo>
                  <a:lnTo>
                    <a:pt x="4273" y="1527"/>
                  </a:lnTo>
                  <a:lnTo>
                    <a:pt x="4273" y="1535"/>
                  </a:lnTo>
                  <a:lnTo>
                    <a:pt x="4273" y="1544"/>
                  </a:lnTo>
                  <a:lnTo>
                    <a:pt x="4264" y="1550"/>
                  </a:lnTo>
                  <a:lnTo>
                    <a:pt x="4256" y="1553"/>
                  </a:lnTo>
                  <a:lnTo>
                    <a:pt x="4256" y="1564"/>
                  </a:lnTo>
                  <a:lnTo>
                    <a:pt x="4256" y="1573"/>
                  </a:lnTo>
                  <a:lnTo>
                    <a:pt x="4256" y="1582"/>
                  </a:lnTo>
                  <a:lnTo>
                    <a:pt x="4264" y="1587"/>
                  </a:lnTo>
                  <a:lnTo>
                    <a:pt x="4276" y="1590"/>
                  </a:lnTo>
                  <a:lnTo>
                    <a:pt x="4285" y="1590"/>
                  </a:lnTo>
                  <a:lnTo>
                    <a:pt x="4294" y="1599"/>
                  </a:lnTo>
                  <a:lnTo>
                    <a:pt x="4302" y="1608"/>
                  </a:lnTo>
                  <a:lnTo>
                    <a:pt x="4314" y="1610"/>
                  </a:lnTo>
                  <a:lnTo>
                    <a:pt x="4326" y="1616"/>
                  </a:lnTo>
                  <a:lnTo>
                    <a:pt x="4334" y="1619"/>
                  </a:lnTo>
                  <a:lnTo>
                    <a:pt x="4340" y="1628"/>
                  </a:lnTo>
                  <a:lnTo>
                    <a:pt x="4343" y="1636"/>
                  </a:lnTo>
                  <a:lnTo>
                    <a:pt x="4343" y="1645"/>
                  </a:lnTo>
                  <a:lnTo>
                    <a:pt x="4343" y="1654"/>
                  </a:lnTo>
                  <a:lnTo>
                    <a:pt x="4343" y="1662"/>
                  </a:lnTo>
                  <a:lnTo>
                    <a:pt x="4346" y="1671"/>
                  </a:lnTo>
                  <a:lnTo>
                    <a:pt x="4355" y="1671"/>
                  </a:lnTo>
                  <a:lnTo>
                    <a:pt x="4366" y="1671"/>
                  </a:lnTo>
                  <a:lnTo>
                    <a:pt x="4369" y="1662"/>
                  </a:lnTo>
                  <a:lnTo>
                    <a:pt x="4363" y="1654"/>
                  </a:lnTo>
                  <a:lnTo>
                    <a:pt x="4360" y="1645"/>
                  </a:lnTo>
                  <a:lnTo>
                    <a:pt x="4355" y="1636"/>
                  </a:lnTo>
                  <a:lnTo>
                    <a:pt x="4352" y="1628"/>
                  </a:lnTo>
                  <a:lnTo>
                    <a:pt x="4349" y="1619"/>
                  </a:lnTo>
                  <a:lnTo>
                    <a:pt x="4346" y="1610"/>
                  </a:lnTo>
                  <a:lnTo>
                    <a:pt x="4346" y="1602"/>
                  </a:lnTo>
                  <a:lnTo>
                    <a:pt x="4346" y="1590"/>
                  </a:lnTo>
                  <a:lnTo>
                    <a:pt x="4346" y="1582"/>
                  </a:lnTo>
                  <a:lnTo>
                    <a:pt x="4355" y="1579"/>
                  </a:lnTo>
                  <a:lnTo>
                    <a:pt x="4363" y="1582"/>
                  </a:lnTo>
                  <a:lnTo>
                    <a:pt x="4372" y="1582"/>
                  </a:lnTo>
                  <a:lnTo>
                    <a:pt x="4381" y="1573"/>
                  </a:lnTo>
                  <a:lnTo>
                    <a:pt x="4390" y="1567"/>
                  </a:lnTo>
                  <a:lnTo>
                    <a:pt x="4393" y="1559"/>
                  </a:lnTo>
                  <a:lnTo>
                    <a:pt x="4393" y="1550"/>
                  </a:lnTo>
                  <a:lnTo>
                    <a:pt x="4393" y="1541"/>
                  </a:lnTo>
                  <a:lnTo>
                    <a:pt x="4393" y="1533"/>
                  </a:lnTo>
                  <a:lnTo>
                    <a:pt x="4393" y="1524"/>
                  </a:lnTo>
                  <a:lnTo>
                    <a:pt x="4393" y="1515"/>
                  </a:lnTo>
                  <a:lnTo>
                    <a:pt x="4390" y="1504"/>
                  </a:lnTo>
                  <a:lnTo>
                    <a:pt x="4384" y="1495"/>
                  </a:lnTo>
                  <a:lnTo>
                    <a:pt x="4381" y="1484"/>
                  </a:lnTo>
                  <a:lnTo>
                    <a:pt x="4378" y="1475"/>
                  </a:lnTo>
                  <a:lnTo>
                    <a:pt x="4369" y="1463"/>
                  </a:lnTo>
                  <a:lnTo>
                    <a:pt x="4363" y="1455"/>
                  </a:lnTo>
                  <a:lnTo>
                    <a:pt x="4360" y="1446"/>
                  </a:lnTo>
                  <a:lnTo>
                    <a:pt x="4358" y="1438"/>
                  </a:lnTo>
                  <a:lnTo>
                    <a:pt x="4352" y="1429"/>
                  </a:lnTo>
                  <a:lnTo>
                    <a:pt x="4346" y="1417"/>
                  </a:lnTo>
                  <a:lnTo>
                    <a:pt x="4340" y="1409"/>
                  </a:lnTo>
                  <a:lnTo>
                    <a:pt x="4337" y="1397"/>
                  </a:lnTo>
                  <a:lnTo>
                    <a:pt x="4334" y="1389"/>
                  </a:lnTo>
                  <a:lnTo>
                    <a:pt x="4334" y="1380"/>
                  </a:lnTo>
                  <a:lnTo>
                    <a:pt x="4331" y="1371"/>
                  </a:lnTo>
                  <a:lnTo>
                    <a:pt x="4328" y="1360"/>
                  </a:lnTo>
                  <a:lnTo>
                    <a:pt x="4323" y="1351"/>
                  </a:lnTo>
                  <a:lnTo>
                    <a:pt x="4320" y="1342"/>
                  </a:lnTo>
                  <a:lnTo>
                    <a:pt x="4314" y="1334"/>
                  </a:lnTo>
                  <a:lnTo>
                    <a:pt x="4305" y="1325"/>
                  </a:lnTo>
                  <a:lnTo>
                    <a:pt x="4296" y="1316"/>
                  </a:lnTo>
                  <a:lnTo>
                    <a:pt x="4288" y="1308"/>
                  </a:lnTo>
                  <a:lnTo>
                    <a:pt x="4276" y="1311"/>
                  </a:lnTo>
                  <a:lnTo>
                    <a:pt x="4279" y="1291"/>
                  </a:lnTo>
                  <a:lnTo>
                    <a:pt x="4276" y="1282"/>
                  </a:lnTo>
                  <a:lnTo>
                    <a:pt x="4270" y="1273"/>
                  </a:lnTo>
                  <a:lnTo>
                    <a:pt x="4261" y="1267"/>
                  </a:lnTo>
                  <a:lnTo>
                    <a:pt x="4253" y="1259"/>
                  </a:lnTo>
                  <a:lnTo>
                    <a:pt x="4244" y="1250"/>
                  </a:lnTo>
                  <a:lnTo>
                    <a:pt x="4238" y="1242"/>
                  </a:lnTo>
                  <a:lnTo>
                    <a:pt x="4232" y="1233"/>
                  </a:lnTo>
                  <a:lnTo>
                    <a:pt x="4229" y="1224"/>
                  </a:lnTo>
                  <a:lnTo>
                    <a:pt x="4221" y="1218"/>
                  </a:lnTo>
                  <a:lnTo>
                    <a:pt x="4212" y="1210"/>
                  </a:lnTo>
                  <a:lnTo>
                    <a:pt x="4200" y="1201"/>
                  </a:lnTo>
                  <a:lnTo>
                    <a:pt x="4192" y="1195"/>
                  </a:lnTo>
                  <a:lnTo>
                    <a:pt x="4183" y="1193"/>
                  </a:lnTo>
                  <a:lnTo>
                    <a:pt x="4171" y="1187"/>
                  </a:lnTo>
                  <a:lnTo>
                    <a:pt x="4163" y="1184"/>
                  </a:lnTo>
                  <a:lnTo>
                    <a:pt x="4154" y="1181"/>
                  </a:lnTo>
                  <a:lnTo>
                    <a:pt x="4145" y="1175"/>
                  </a:lnTo>
                  <a:lnTo>
                    <a:pt x="4136" y="1170"/>
                  </a:lnTo>
                  <a:lnTo>
                    <a:pt x="4130" y="1161"/>
                  </a:lnTo>
                  <a:lnTo>
                    <a:pt x="4119" y="1152"/>
                  </a:lnTo>
                  <a:lnTo>
                    <a:pt x="4110" y="1149"/>
                  </a:lnTo>
                  <a:lnTo>
                    <a:pt x="4098" y="1144"/>
                  </a:lnTo>
                  <a:lnTo>
                    <a:pt x="4090" y="1144"/>
                  </a:lnTo>
                  <a:lnTo>
                    <a:pt x="4078" y="1135"/>
                  </a:lnTo>
                  <a:lnTo>
                    <a:pt x="4069" y="1126"/>
                  </a:lnTo>
                  <a:lnTo>
                    <a:pt x="4064" y="1118"/>
                  </a:lnTo>
                  <a:lnTo>
                    <a:pt x="4058" y="1109"/>
                  </a:lnTo>
                  <a:lnTo>
                    <a:pt x="4049" y="1103"/>
                  </a:lnTo>
                  <a:lnTo>
                    <a:pt x="4058" y="1100"/>
                  </a:lnTo>
                  <a:lnTo>
                    <a:pt x="4066" y="1100"/>
                  </a:lnTo>
                  <a:lnTo>
                    <a:pt x="4078" y="1100"/>
                  </a:lnTo>
                  <a:lnTo>
                    <a:pt x="4090" y="1103"/>
                  </a:lnTo>
                  <a:lnTo>
                    <a:pt x="4098" y="1109"/>
                  </a:lnTo>
                  <a:lnTo>
                    <a:pt x="4107" y="1112"/>
                  </a:lnTo>
                  <a:lnTo>
                    <a:pt x="4116" y="1115"/>
                  </a:lnTo>
                  <a:lnTo>
                    <a:pt x="4125" y="1121"/>
                  </a:lnTo>
                  <a:lnTo>
                    <a:pt x="4133" y="1126"/>
                  </a:lnTo>
                  <a:lnTo>
                    <a:pt x="4142" y="1129"/>
                  </a:lnTo>
                  <a:lnTo>
                    <a:pt x="4154" y="1138"/>
                  </a:lnTo>
                  <a:lnTo>
                    <a:pt x="4163" y="1141"/>
                  </a:lnTo>
                  <a:lnTo>
                    <a:pt x="4171" y="1144"/>
                  </a:lnTo>
                  <a:lnTo>
                    <a:pt x="4180" y="1146"/>
                  </a:lnTo>
                  <a:lnTo>
                    <a:pt x="4192" y="1146"/>
                  </a:lnTo>
                  <a:lnTo>
                    <a:pt x="4200" y="1146"/>
                  </a:lnTo>
                  <a:lnTo>
                    <a:pt x="4212" y="1149"/>
                  </a:lnTo>
                  <a:lnTo>
                    <a:pt x="4221" y="1149"/>
                  </a:lnTo>
                  <a:lnTo>
                    <a:pt x="4229" y="1152"/>
                  </a:lnTo>
                  <a:lnTo>
                    <a:pt x="4238" y="1155"/>
                  </a:lnTo>
                  <a:lnTo>
                    <a:pt x="4247" y="1161"/>
                  </a:lnTo>
                  <a:lnTo>
                    <a:pt x="4256" y="1164"/>
                  </a:lnTo>
                  <a:lnTo>
                    <a:pt x="4264" y="1170"/>
                  </a:lnTo>
                  <a:lnTo>
                    <a:pt x="4273" y="1172"/>
                  </a:lnTo>
                  <a:lnTo>
                    <a:pt x="4282" y="1178"/>
                  </a:lnTo>
                  <a:lnTo>
                    <a:pt x="4291" y="1181"/>
                  </a:lnTo>
                  <a:lnTo>
                    <a:pt x="4299" y="1187"/>
                  </a:lnTo>
                  <a:lnTo>
                    <a:pt x="4308" y="1190"/>
                  </a:lnTo>
                  <a:lnTo>
                    <a:pt x="4317" y="1193"/>
                  </a:lnTo>
                  <a:lnTo>
                    <a:pt x="4326" y="1195"/>
                  </a:lnTo>
                  <a:lnTo>
                    <a:pt x="4334" y="1195"/>
                  </a:lnTo>
                  <a:lnTo>
                    <a:pt x="4326" y="1190"/>
                  </a:lnTo>
                  <a:lnTo>
                    <a:pt x="4314" y="1178"/>
                  </a:lnTo>
                  <a:lnTo>
                    <a:pt x="4305" y="1170"/>
                  </a:lnTo>
                  <a:lnTo>
                    <a:pt x="4305" y="1161"/>
                  </a:lnTo>
                  <a:lnTo>
                    <a:pt x="4317" y="1158"/>
                  </a:lnTo>
                  <a:lnTo>
                    <a:pt x="4328" y="1158"/>
                  </a:lnTo>
                  <a:lnTo>
                    <a:pt x="4337" y="1158"/>
                  </a:lnTo>
                  <a:lnTo>
                    <a:pt x="4346" y="1158"/>
                  </a:lnTo>
                  <a:lnTo>
                    <a:pt x="4346" y="1149"/>
                  </a:lnTo>
                  <a:lnTo>
                    <a:pt x="4349" y="1138"/>
                  </a:lnTo>
                  <a:lnTo>
                    <a:pt x="4349" y="1129"/>
                  </a:lnTo>
                  <a:lnTo>
                    <a:pt x="4340" y="1123"/>
                  </a:lnTo>
                  <a:lnTo>
                    <a:pt x="4331" y="1121"/>
                  </a:lnTo>
                  <a:lnTo>
                    <a:pt x="4323" y="1121"/>
                  </a:lnTo>
                  <a:lnTo>
                    <a:pt x="4314" y="1121"/>
                  </a:lnTo>
                  <a:lnTo>
                    <a:pt x="4302" y="1121"/>
                  </a:lnTo>
                  <a:lnTo>
                    <a:pt x="4296" y="1132"/>
                  </a:lnTo>
                  <a:lnTo>
                    <a:pt x="4288" y="1138"/>
                  </a:lnTo>
                  <a:lnTo>
                    <a:pt x="4279" y="1144"/>
                  </a:lnTo>
                  <a:lnTo>
                    <a:pt x="4270" y="1144"/>
                  </a:lnTo>
                  <a:lnTo>
                    <a:pt x="4261" y="1144"/>
                  </a:lnTo>
                  <a:lnTo>
                    <a:pt x="4253" y="1144"/>
                  </a:lnTo>
                  <a:lnTo>
                    <a:pt x="4244" y="1144"/>
                  </a:lnTo>
                  <a:lnTo>
                    <a:pt x="4238" y="1135"/>
                  </a:lnTo>
                  <a:lnTo>
                    <a:pt x="4227" y="1126"/>
                  </a:lnTo>
                  <a:lnTo>
                    <a:pt x="4218" y="1115"/>
                  </a:lnTo>
                  <a:lnTo>
                    <a:pt x="4209" y="1109"/>
                  </a:lnTo>
                  <a:lnTo>
                    <a:pt x="4197" y="1100"/>
                  </a:lnTo>
                  <a:lnTo>
                    <a:pt x="4192" y="1092"/>
                  </a:lnTo>
                  <a:lnTo>
                    <a:pt x="4200" y="1086"/>
                  </a:lnTo>
                  <a:lnTo>
                    <a:pt x="4209" y="1077"/>
                  </a:lnTo>
                  <a:lnTo>
                    <a:pt x="4218" y="1072"/>
                  </a:lnTo>
                  <a:lnTo>
                    <a:pt x="4227" y="1063"/>
                  </a:lnTo>
                  <a:lnTo>
                    <a:pt x="4229" y="1054"/>
                  </a:lnTo>
                  <a:lnTo>
                    <a:pt x="4221" y="1048"/>
                  </a:lnTo>
                  <a:lnTo>
                    <a:pt x="4209" y="1048"/>
                  </a:lnTo>
                  <a:lnTo>
                    <a:pt x="4200" y="1048"/>
                  </a:lnTo>
                  <a:lnTo>
                    <a:pt x="4189" y="1048"/>
                  </a:lnTo>
                  <a:lnTo>
                    <a:pt x="4180" y="1051"/>
                  </a:lnTo>
                  <a:lnTo>
                    <a:pt x="4171" y="1057"/>
                  </a:lnTo>
                  <a:lnTo>
                    <a:pt x="4160" y="1057"/>
                  </a:lnTo>
                  <a:lnTo>
                    <a:pt x="4151" y="1057"/>
                  </a:lnTo>
                  <a:lnTo>
                    <a:pt x="4142" y="1057"/>
                  </a:lnTo>
                  <a:lnTo>
                    <a:pt x="4133" y="1057"/>
                  </a:lnTo>
                  <a:lnTo>
                    <a:pt x="4125" y="1057"/>
                  </a:lnTo>
                  <a:lnTo>
                    <a:pt x="4116" y="1057"/>
                  </a:lnTo>
                  <a:lnTo>
                    <a:pt x="4107" y="1057"/>
                  </a:lnTo>
                  <a:lnTo>
                    <a:pt x="4098" y="1057"/>
                  </a:lnTo>
                  <a:lnTo>
                    <a:pt x="4090" y="1057"/>
                  </a:lnTo>
                  <a:lnTo>
                    <a:pt x="4081" y="1057"/>
                  </a:lnTo>
                  <a:lnTo>
                    <a:pt x="4072" y="1057"/>
                  </a:lnTo>
                  <a:lnTo>
                    <a:pt x="4064" y="1054"/>
                  </a:lnTo>
                  <a:lnTo>
                    <a:pt x="4055" y="1051"/>
                  </a:lnTo>
                  <a:lnTo>
                    <a:pt x="4043" y="1048"/>
                  </a:lnTo>
                  <a:lnTo>
                    <a:pt x="4032" y="1043"/>
                  </a:lnTo>
                  <a:lnTo>
                    <a:pt x="4023" y="1040"/>
                  </a:lnTo>
                  <a:lnTo>
                    <a:pt x="4008" y="1031"/>
                  </a:lnTo>
                  <a:lnTo>
                    <a:pt x="3994" y="1028"/>
                  </a:lnTo>
                  <a:lnTo>
                    <a:pt x="3982" y="1028"/>
                  </a:lnTo>
                  <a:lnTo>
                    <a:pt x="3973" y="1028"/>
                  </a:lnTo>
                  <a:lnTo>
                    <a:pt x="3965" y="1028"/>
                  </a:lnTo>
                  <a:lnTo>
                    <a:pt x="3953" y="1028"/>
                  </a:lnTo>
                  <a:lnTo>
                    <a:pt x="3941" y="1028"/>
                  </a:lnTo>
                  <a:lnTo>
                    <a:pt x="3933" y="1028"/>
                  </a:lnTo>
                  <a:lnTo>
                    <a:pt x="3927" y="1037"/>
                  </a:lnTo>
                  <a:lnTo>
                    <a:pt x="3941" y="1048"/>
                  </a:lnTo>
                  <a:lnTo>
                    <a:pt x="3950" y="1051"/>
                  </a:lnTo>
                  <a:lnTo>
                    <a:pt x="3962" y="1054"/>
                  </a:lnTo>
                  <a:lnTo>
                    <a:pt x="3970" y="1057"/>
                  </a:lnTo>
                  <a:lnTo>
                    <a:pt x="3979" y="1060"/>
                  </a:lnTo>
                  <a:lnTo>
                    <a:pt x="3982" y="1072"/>
                  </a:lnTo>
                  <a:lnTo>
                    <a:pt x="3982" y="1080"/>
                  </a:lnTo>
                  <a:lnTo>
                    <a:pt x="3982" y="1089"/>
                  </a:lnTo>
                  <a:lnTo>
                    <a:pt x="3994" y="1100"/>
                  </a:lnTo>
                  <a:lnTo>
                    <a:pt x="4002" y="1103"/>
                  </a:lnTo>
                  <a:lnTo>
                    <a:pt x="4014" y="1106"/>
                  </a:lnTo>
                  <a:lnTo>
                    <a:pt x="4026" y="1106"/>
                  </a:lnTo>
                  <a:lnTo>
                    <a:pt x="4034" y="1109"/>
                  </a:lnTo>
                  <a:lnTo>
                    <a:pt x="4046" y="1112"/>
                  </a:lnTo>
                  <a:lnTo>
                    <a:pt x="4037" y="1115"/>
                  </a:lnTo>
                  <a:lnTo>
                    <a:pt x="4029" y="1112"/>
                  </a:lnTo>
                  <a:lnTo>
                    <a:pt x="4020" y="1109"/>
                  </a:lnTo>
                  <a:lnTo>
                    <a:pt x="4011" y="1109"/>
                  </a:lnTo>
                  <a:lnTo>
                    <a:pt x="4002" y="1106"/>
                  </a:lnTo>
                  <a:lnTo>
                    <a:pt x="3994" y="1103"/>
                  </a:lnTo>
                  <a:lnTo>
                    <a:pt x="3979" y="1097"/>
                  </a:lnTo>
                  <a:lnTo>
                    <a:pt x="3970" y="1097"/>
                  </a:lnTo>
                  <a:lnTo>
                    <a:pt x="3962" y="1100"/>
                  </a:lnTo>
                  <a:lnTo>
                    <a:pt x="3959" y="1109"/>
                  </a:lnTo>
                  <a:lnTo>
                    <a:pt x="3950" y="1118"/>
                  </a:lnTo>
                  <a:lnTo>
                    <a:pt x="3941" y="1123"/>
                  </a:lnTo>
                  <a:lnTo>
                    <a:pt x="3935" y="1132"/>
                  </a:lnTo>
                  <a:lnTo>
                    <a:pt x="3927" y="1138"/>
                  </a:lnTo>
                  <a:lnTo>
                    <a:pt x="3927" y="1146"/>
                  </a:lnTo>
                  <a:lnTo>
                    <a:pt x="3930" y="1155"/>
                  </a:lnTo>
                  <a:lnTo>
                    <a:pt x="3938" y="1161"/>
                  </a:lnTo>
                  <a:lnTo>
                    <a:pt x="3941" y="1170"/>
                  </a:lnTo>
                  <a:lnTo>
                    <a:pt x="3941" y="1178"/>
                  </a:lnTo>
                  <a:lnTo>
                    <a:pt x="3941" y="1187"/>
                  </a:lnTo>
                  <a:lnTo>
                    <a:pt x="3938" y="1195"/>
                  </a:lnTo>
                  <a:lnTo>
                    <a:pt x="3933" y="1204"/>
                  </a:lnTo>
                  <a:lnTo>
                    <a:pt x="3924" y="1204"/>
                  </a:lnTo>
                  <a:lnTo>
                    <a:pt x="3915" y="1193"/>
                  </a:lnTo>
                  <a:lnTo>
                    <a:pt x="3912" y="1184"/>
                  </a:lnTo>
                  <a:lnTo>
                    <a:pt x="3903" y="1178"/>
                  </a:lnTo>
                  <a:lnTo>
                    <a:pt x="3892" y="1172"/>
                  </a:lnTo>
                  <a:lnTo>
                    <a:pt x="3883" y="1167"/>
                  </a:lnTo>
                  <a:lnTo>
                    <a:pt x="3877" y="1158"/>
                  </a:lnTo>
                  <a:lnTo>
                    <a:pt x="3874" y="1167"/>
                  </a:lnTo>
                  <a:lnTo>
                    <a:pt x="3874" y="1175"/>
                  </a:lnTo>
                  <a:lnTo>
                    <a:pt x="3874" y="1184"/>
                  </a:lnTo>
                  <a:lnTo>
                    <a:pt x="3886" y="1193"/>
                  </a:lnTo>
                  <a:lnTo>
                    <a:pt x="3898" y="1195"/>
                  </a:lnTo>
                  <a:lnTo>
                    <a:pt x="3906" y="1198"/>
                  </a:lnTo>
                  <a:lnTo>
                    <a:pt x="3915" y="1201"/>
                  </a:lnTo>
                  <a:lnTo>
                    <a:pt x="3924" y="1207"/>
                  </a:lnTo>
                  <a:lnTo>
                    <a:pt x="3912" y="1213"/>
                  </a:lnTo>
                  <a:lnTo>
                    <a:pt x="3903" y="1213"/>
                  </a:lnTo>
                  <a:lnTo>
                    <a:pt x="3895" y="1213"/>
                  </a:lnTo>
                  <a:lnTo>
                    <a:pt x="3886" y="1216"/>
                  </a:lnTo>
                  <a:lnTo>
                    <a:pt x="3886" y="1224"/>
                  </a:lnTo>
                  <a:lnTo>
                    <a:pt x="3880" y="1233"/>
                  </a:lnTo>
                  <a:lnTo>
                    <a:pt x="3868" y="1236"/>
                  </a:lnTo>
                  <a:lnTo>
                    <a:pt x="3860" y="1236"/>
                  </a:lnTo>
                  <a:lnTo>
                    <a:pt x="3854" y="1224"/>
                  </a:lnTo>
                  <a:lnTo>
                    <a:pt x="3854" y="1216"/>
                  </a:lnTo>
                  <a:lnTo>
                    <a:pt x="3851" y="1207"/>
                  </a:lnTo>
                  <a:lnTo>
                    <a:pt x="3845" y="1198"/>
                  </a:lnTo>
                  <a:lnTo>
                    <a:pt x="3842" y="1187"/>
                  </a:lnTo>
                  <a:lnTo>
                    <a:pt x="3836" y="1175"/>
                  </a:lnTo>
                  <a:lnTo>
                    <a:pt x="3834" y="1164"/>
                  </a:lnTo>
                  <a:lnTo>
                    <a:pt x="3828" y="1155"/>
                  </a:lnTo>
                  <a:lnTo>
                    <a:pt x="3822" y="1146"/>
                  </a:lnTo>
                  <a:lnTo>
                    <a:pt x="3816" y="1138"/>
                  </a:lnTo>
                  <a:lnTo>
                    <a:pt x="3810" y="1129"/>
                  </a:lnTo>
                  <a:lnTo>
                    <a:pt x="3799" y="1123"/>
                  </a:lnTo>
                  <a:lnTo>
                    <a:pt x="3793" y="1115"/>
                  </a:lnTo>
                  <a:lnTo>
                    <a:pt x="3790" y="1106"/>
                  </a:lnTo>
                  <a:lnTo>
                    <a:pt x="3784" y="1097"/>
                  </a:lnTo>
                  <a:lnTo>
                    <a:pt x="3778" y="1089"/>
                  </a:lnTo>
                  <a:lnTo>
                    <a:pt x="3775" y="1080"/>
                  </a:lnTo>
                  <a:lnTo>
                    <a:pt x="3772" y="1072"/>
                  </a:lnTo>
                  <a:lnTo>
                    <a:pt x="3767" y="1063"/>
                  </a:lnTo>
                  <a:lnTo>
                    <a:pt x="3761" y="1054"/>
                  </a:lnTo>
                  <a:lnTo>
                    <a:pt x="3752" y="1046"/>
                  </a:lnTo>
                  <a:lnTo>
                    <a:pt x="3746" y="1037"/>
                  </a:lnTo>
                  <a:lnTo>
                    <a:pt x="3737" y="1034"/>
                  </a:lnTo>
                  <a:lnTo>
                    <a:pt x="3717" y="988"/>
                  </a:lnTo>
                  <a:lnTo>
                    <a:pt x="3737" y="1008"/>
                  </a:lnTo>
                  <a:lnTo>
                    <a:pt x="3737" y="999"/>
                  </a:lnTo>
                  <a:lnTo>
                    <a:pt x="3732" y="991"/>
                  </a:lnTo>
                  <a:lnTo>
                    <a:pt x="3726" y="982"/>
                  </a:lnTo>
                  <a:lnTo>
                    <a:pt x="3723" y="974"/>
                  </a:lnTo>
                  <a:lnTo>
                    <a:pt x="3714" y="968"/>
                  </a:lnTo>
                  <a:lnTo>
                    <a:pt x="3703" y="965"/>
                  </a:lnTo>
                  <a:lnTo>
                    <a:pt x="3694" y="959"/>
                  </a:lnTo>
                  <a:lnTo>
                    <a:pt x="3691" y="950"/>
                  </a:lnTo>
                  <a:lnTo>
                    <a:pt x="3691" y="942"/>
                  </a:lnTo>
                  <a:lnTo>
                    <a:pt x="3691" y="930"/>
                  </a:lnTo>
                  <a:lnTo>
                    <a:pt x="3691" y="922"/>
                  </a:lnTo>
                  <a:lnTo>
                    <a:pt x="3691" y="913"/>
                  </a:lnTo>
                  <a:lnTo>
                    <a:pt x="3694" y="904"/>
                  </a:lnTo>
                  <a:lnTo>
                    <a:pt x="3700" y="896"/>
                  </a:lnTo>
                  <a:lnTo>
                    <a:pt x="3705" y="887"/>
                  </a:lnTo>
                  <a:lnTo>
                    <a:pt x="3714" y="887"/>
                  </a:lnTo>
                  <a:lnTo>
                    <a:pt x="3717" y="878"/>
                  </a:lnTo>
                  <a:lnTo>
                    <a:pt x="3705" y="867"/>
                  </a:lnTo>
                  <a:lnTo>
                    <a:pt x="3705" y="858"/>
                  </a:lnTo>
                  <a:lnTo>
                    <a:pt x="3705" y="847"/>
                  </a:lnTo>
                  <a:lnTo>
                    <a:pt x="3711" y="838"/>
                  </a:lnTo>
                  <a:lnTo>
                    <a:pt x="3717" y="827"/>
                  </a:lnTo>
                  <a:lnTo>
                    <a:pt x="3717" y="818"/>
                  </a:lnTo>
                  <a:lnTo>
                    <a:pt x="3717" y="809"/>
                  </a:lnTo>
                  <a:lnTo>
                    <a:pt x="3705" y="806"/>
                  </a:lnTo>
                  <a:lnTo>
                    <a:pt x="3694" y="801"/>
                  </a:lnTo>
                  <a:lnTo>
                    <a:pt x="3685" y="795"/>
                  </a:lnTo>
                  <a:lnTo>
                    <a:pt x="3685" y="786"/>
                  </a:lnTo>
                  <a:lnTo>
                    <a:pt x="3691" y="778"/>
                  </a:lnTo>
                  <a:lnTo>
                    <a:pt x="3697" y="769"/>
                  </a:lnTo>
                  <a:lnTo>
                    <a:pt x="3700" y="760"/>
                  </a:lnTo>
                  <a:lnTo>
                    <a:pt x="3708" y="757"/>
                  </a:lnTo>
                  <a:lnTo>
                    <a:pt x="3717" y="752"/>
                  </a:lnTo>
                  <a:lnTo>
                    <a:pt x="3726" y="757"/>
                  </a:lnTo>
                  <a:lnTo>
                    <a:pt x="3735" y="760"/>
                  </a:lnTo>
                  <a:lnTo>
                    <a:pt x="3743" y="763"/>
                  </a:lnTo>
                  <a:lnTo>
                    <a:pt x="3743" y="755"/>
                  </a:lnTo>
                  <a:lnTo>
                    <a:pt x="3737" y="746"/>
                  </a:lnTo>
                  <a:lnTo>
                    <a:pt x="3737" y="737"/>
                  </a:lnTo>
                  <a:lnTo>
                    <a:pt x="3735" y="729"/>
                  </a:lnTo>
                  <a:lnTo>
                    <a:pt x="3735" y="720"/>
                  </a:lnTo>
                  <a:lnTo>
                    <a:pt x="3732" y="711"/>
                  </a:lnTo>
                  <a:lnTo>
                    <a:pt x="3726" y="703"/>
                  </a:lnTo>
                  <a:lnTo>
                    <a:pt x="3723" y="691"/>
                  </a:lnTo>
                  <a:lnTo>
                    <a:pt x="3723" y="682"/>
                  </a:lnTo>
                  <a:lnTo>
                    <a:pt x="3723" y="674"/>
                  </a:lnTo>
                  <a:lnTo>
                    <a:pt x="3723" y="665"/>
                  </a:lnTo>
                  <a:lnTo>
                    <a:pt x="3714" y="662"/>
                  </a:lnTo>
                  <a:lnTo>
                    <a:pt x="3708" y="671"/>
                  </a:lnTo>
                  <a:lnTo>
                    <a:pt x="3700" y="671"/>
                  </a:lnTo>
                  <a:lnTo>
                    <a:pt x="3691" y="674"/>
                  </a:lnTo>
                  <a:lnTo>
                    <a:pt x="3682" y="671"/>
                  </a:lnTo>
                  <a:lnTo>
                    <a:pt x="3673" y="659"/>
                  </a:lnTo>
                  <a:lnTo>
                    <a:pt x="3668" y="651"/>
                  </a:lnTo>
                  <a:lnTo>
                    <a:pt x="3662" y="642"/>
                  </a:lnTo>
                  <a:lnTo>
                    <a:pt x="3653" y="633"/>
                  </a:lnTo>
                  <a:lnTo>
                    <a:pt x="3641" y="628"/>
                  </a:lnTo>
                  <a:lnTo>
                    <a:pt x="3633" y="622"/>
                  </a:lnTo>
                  <a:lnTo>
                    <a:pt x="3624" y="622"/>
                  </a:lnTo>
                  <a:lnTo>
                    <a:pt x="3615" y="616"/>
                  </a:lnTo>
                  <a:lnTo>
                    <a:pt x="3604" y="613"/>
                  </a:lnTo>
                  <a:lnTo>
                    <a:pt x="3595" y="608"/>
                  </a:lnTo>
                  <a:lnTo>
                    <a:pt x="3577" y="573"/>
                  </a:lnTo>
                  <a:lnTo>
                    <a:pt x="3592" y="587"/>
                  </a:lnTo>
                  <a:lnTo>
                    <a:pt x="3592" y="576"/>
                  </a:lnTo>
                  <a:lnTo>
                    <a:pt x="3589" y="567"/>
                  </a:lnTo>
                  <a:lnTo>
                    <a:pt x="3589" y="559"/>
                  </a:lnTo>
                  <a:lnTo>
                    <a:pt x="3583" y="547"/>
                  </a:lnTo>
                  <a:lnTo>
                    <a:pt x="3577" y="538"/>
                  </a:lnTo>
                  <a:lnTo>
                    <a:pt x="3569" y="530"/>
                  </a:lnTo>
                  <a:lnTo>
                    <a:pt x="3583" y="527"/>
                  </a:lnTo>
                  <a:lnTo>
                    <a:pt x="3592" y="530"/>
                  </a:lnTo>
                  <a:lnTo>
                    <a:pt x="3601" y="533"/>
                  </a:lnTo>
                  <a:lnTo>
                    <a:pt x="3609" y="538"/>
                  </a:lnTo>
                  <a:lnTo>
                    <a:pt x="3618" y="541"/>
                  </a:lnTo>
                  <a:lnTo>
                    <a:pt x="3621" y="533"/>
                  </a:lnTo>
                  <a:lnTo>
                    <a:pt x="3621" y="524"/>
                  </a:lnTo>
                  <a:lnTo>
                    <a:pt x="3612" y="518"/>
                  </a:lnTo>
                  <a:lnTo>
                    <a:pt x="3604" y="507"/>
                  </a:lnTo>
                  <a:lnTo>
                    <a:pt x="3598" y="498"/>
                  </a:lnTo>
                  <a:lnTo>
                    <a:pt x="3589" y="489"/>
                  </a:lnTo>
                  <a:lnTo>
                    <a:pt x="3586" y="481"/>
                  </a:lnTo>
                  <a:lnTo>
                    <a:pt x="3577" y="472"/>
                  </a:lnTo>
                  <a:lnTo>
                    <a:pt x="3566" y="469"/>
                  </a:lnTo>
                  <a:lnTo>
                    <a:pt x="3557" y="469"/>
                  </a:lnTo>
                  <a:lnTo>
                    <a:pt x="3548" y="469"/>
                  </a:lnTo>
                  <a:lnTo>
                    <a:pt x="3540" y="469"/>
                  </a:lnTo>
                  <a:lnTo>
                    <a:pt x="3531" y="466"/>
                  </a:lnTo>
                  <a:lnTo>
                    <a:pt x="3519" y="458"/>
                  </a:lnTo>
                  <a:lnTo>
                    <a:pt x="3516" y="449"/>
                  </a:lnTo>
                  <a:lnTo>
                    <a:pt x="3510" y="440"/>
                  </a:lnTo>
                  <a:lnTo>
                    <a:pt x="3507" y="432"/>
                  </a:lnTo>
                  <a:lnTo>
                    <a:pt x="3502" y="423"/>
                  </a:lnTo>
                  <a:lnTo>
                    <a:pt x="3502" y="412"/>
                  </a:lnTo>
                  <a:lnTo>
                    <a:pt x="3510" y="412"/>
                  </a:lnTo>
                  <a:lnTo>
                    <a:pt x="3519" y="417"/>
                  </a:lnTo>
                  <a:lnTo>
                    <a:pt x="3531" y="426"/>
                  </a:lnTo>
                  <a:lnTo>
                    <a:pt x="3540" y="432"/>
                  </a:lnTo>
                  <a:lnTo>
                    <a:pt x="3542" y="440"/>
                  </a:lnTo>
                  <a:lnTo>
                    <a:pt x="3551" y="446"/>
                  </a:lnTo>
                  <a:lnTo>
                    <a:pt x="3563" y="452"/>
                  </a:lnTo>
                  <a:lnTo>
                    <a:pt x="3572" y="458"/>
                  </a:lnTo>
                  <a:lnTo>
                    <a:pt x="3580" y="458"/>
                  </a:lnTo>
                  <a:lnTo>
                    <a:pt x="3589" y="458"/>
                  </a:lnTo>
                  <a:lnTo>
                    <a:pt x="3598" y="458"/>
                  </a:lnTo>
                  <a:lnTo>
                    <a:pt x="3606" y="461"/>
                  </a:lnTo>
                  <a:lnTo>
                    <a:pt x="3612" y="472"/>
                  </a:lnTo>
                  <a:lnTo>
                    <a:pt x="3618" y="481"/>
                  </a:lnTo>
                  <a:lnTo>
                    <a:pt x="3621" y="489"/>
                  </a:lnTo>
                  <a:lnTo>
                    <a:pt x="3627" y="498"/>
                  </a:lnTo>
                  <a:lnTo>
                    <a:pt x="3633" y="507"/>
                  </a:lnTo>
                  <a:lnTo>
                    <a:pt x="3641" y="518"/>
                  </a:lnTo>
                  <a:lnTo>
                    <a:pt x="3650" y="521"/>
                  </a:lnTo>
                  <a:lnTo>
                    <a:pt x="3662" y="524"/>
                  </a:lnTo>
                  <a:lnTo>
                    <a:pt x="3671" y="524"/>
                  </a:lnTo>
                  <a:lnTo>
                    <a:pt x="3679" y="527"/>
                  </a:lnTo>
                  <a:lnTo>
                    <a:pt x="3688" y="527"/>
                  </a:lnTo>
                  <a:lnTo>
                    <a:pt x="3700" y="530"/>
                  </a:lnTo>
                  <a:lnTo>
                    <a:pt x="3711" y="536"/>
                  </a:lnTo>
                  <a:lnTo>
                    <a:pt x="3723" y="544"/>
                  </a:lnTo>
                  <a:lnTo>
                    <a:pt x="3729" y="553"/>
                  </a:lnTo>
                  <a:lnTo>
                    <a:pt x="3735" y="561"/>
                  </a:lnTo>
                  <a:lnTo>
                    <a:pt x="3746" y="570"/>
                  </a:lnTo>
                  <a:lnTo>
                    <a:pt x="3761" y="579"/>
                  </a:lnTo>
                  <a:lnTo>
                    <a:pt x="3770" y="585"/>
                  </a:lnTo>
                  <a:lnTo>
                    <a:pt x="3772" y="593"/>
                  </a:lnTo>
                  <a:lnTo>
                    <a:pt x="3775" y="602"/>
                  </a:lnTo>
                  <a:lnTo>
                    <a:pt x="3778" y="610"/>
                  </a:lnTo>
                  <a:lnTo>
                    <a:pt x="3787" y="610"/>
                  </a:lnTo>
                  <a:lnTo>
                    <a:pt x="3790" y="619"/>
                  </a:lnTo>
                  <a:lnTo>
                    <a:pt x="3799" y="622"/>
                  </a:lnTo>
                  <a:lnTo>
                    <a:pt x="3807" y="628"/>
                  </a:lnTo>
                  <a:lnTo>
                    <a:pt x="3819" y="633"/>
                  </a:lnTo>
                  <a:lnTo>
                    <a:pt x="3828" y="636"/>
                  </a:lnTo>
                  <a:lnTo>
                    <a:pt x="3836" y="639"/>
                  </a:lnTo>
                  <a:lnTo>
                    <a:pt x="3845" y="642"/>
                  </a:lnTo>
                  <a:lnTo>
                    <a:pt x="3854" y="642"/>
                  </a:lnTo>
                  <a:lnTo>
                    <a:pt x="3866" y="645"/>
                  </a:lnTo>
                  <a:lnTo>
                    <a:pt x="3874" y="651"/>
                  </a:lnTo>
                  <a:lnTo>
                    <a:pt x="3883" y="657"/>
                  </a:lnTo>
                  <a:lnTo>
                    <a:pt x="3892" y="657"/>
                  </a:lnTo>
                  <a:lnTo>
                    <a:pt x="3901" y="657"/>
                  </a:lnTo>
                  <a:lnTo>
                    <a:pt x="3912" y="657"/>
                  </a:lnTo>
                  <a:lnTo>
                    <a:pt x="3924" y="657"/>
                  </a:lnTo>
                  <a:lnTo>
                    <a:pt x="3938" y="657"/>
                  </a:lnTo>
                  <a:lnTo>
                    <a:pt x="3947" y="657"/>
                  </a:lnTo>
                  <a:lnTo>
                    <a:pt x="3959" y="657"/>
                  </a:lnTo>
                  <a:lnTo>
                    <a:pt x="3967" y="659"/>
                  </a:lnTo>
                  <a:lnTo>
                    <a:pt x="3979" y="659"/>
                  </a:lnTo>
                  <a:lnTo>
                    <a:pt x="3991" y="659"/>
                  </a:lnTo>
                  <a:lnTo>
                    <a:pt x="4002" y="659"/>
                  </a:lnTo>
                  <a:lnTo>
                    <a:pt x="4017" y="659"/>
                  </a:lnTo>
                  <a:lnTo>
                    <a:pt x="4026" y="659"/>
                  </a:lnTo>
                  <a:lnTo>
                    <a:pt x="4037" y="659"/>
                  </a:lnTo>
                  <a:lnTo>
                    <a:pt x="4049" y="659"/>
                  </a:lnTo>
                  <a:lnTo>
                    <a:pt x="4061" y="659"/>
                  </a:lnTo>
                  <a:lnTo>
                    <a:pt x="4072" y="659"/>
                  </a:lnTo>
                  <a:lnTo>
                    <a:pt x="4084" y="659"/>
                  </a:lnTo>
                  <a:lnTo>
                    <a:pt x="4093" y="659"/>
                  </a:lnTo>
                  <a:lnTo>
                    <a:pt x="4101" y="659"/>
                  </a:lnTo>
                  <a:lnTo>
                    <a:pt x="4110" y="659"/>
                  </a:lnTo>
                  <a:lnTo>
                    <a:pt x="4119" y="659"/>
                  </a:lnTo>
                  <a:lnTo>
                    <a:pt x="4128" y="659"/>
                  </a:lnTo>
                  <a:lnTo>
                    <a:pt x="4136" y="659"/>
                  </a:lnTo>
                  <a:lnTo>
                    <a:pt x="4142" y="668"/>
                  </a:lnTo>
                  <a:lnTo>
                    <a:pt x="4145" y="677"/>
                  </a:lnTo>
                  <a:lnTo>
                    <a:pt x="4151" y="685"/>
                  </a:lnTo>
                  <a:lnTo>
                    <a:pt x="4160" y="691"/>
                  </a:lnTo>
                  <a:lnTo>
                    <a:pt x="4168" y="700"/>
                  </a:lnTo>
                  <a:lnTo>
                    <a:pt x="4177" y="700"/>
                  </a:lnTo>
                  <a:lnTo>
                    <a:pt x="4177" y="691"/>
                  </a:lnTo>
                  <a:lnTo>
                    <a:pt x="4168" y="682"/>
                  </a:lnTo>
                  <a:lnTo>
                    <a:pt x="4168" y="674"/>
                  </a:lnTo>
                  <a:lnTo>
                    <a:pt x="4160" y="665"/>
                  </a:lnTo>
                  <a:lnTo>
                    <a:pt x="4151" y="659"/>
                  </a:lnTo>
                  <a:lnTo>
                    <a:pt x="4136" y="619"/>
                  </a:lnTo>
                  <a:lnTo>
                    <a:pt x="4142" y="60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233880" y="36291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6" y="0"/>
                  </a:moveTo>
                  <a:lnTo>
                    <a:pt x="32" y="11"/>
                  </a:lnTo>
                  <a:lnTo>
                    <a:pt x="23" y="11"/>
                  </a:lnTo>
                  <a:lnTo>
                    <a:pt x="14" y="11"/>
                  </a:lnTo>
                  <a:lnTo>
                    <a:pt x="5" y="13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8" y="33"/>
                  </a:lnTo>
                  <a:lnTo>
                    <a:pt x="17" y="30"/>
                  </a:lnTo>
                  <a:lnTo>
                    <a:pt x="23" y="22"/>
                  </a:lnTo>
                  <a:lnTo>
                    <a:pt x="23" y="13"/>
                  </a:lnTo>
                  <a:lnTo>
                    <a:pt x="26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14480" y="5259240"/>
              <a:ext cx="4320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" y="20"/>
                  </a:moveTo>
                  <a:lnTo>
                    <a:pt x="8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4" y="17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2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81200" y="4390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0"/>
                  </a:moveTo>
                  <a:lnTo>
                    <a:pt x="11" y="16"/>
                  </a:lnTo>
                  <a:lnTo>
                    <a:pt x="11" y="25"/>
                  </a:lnTo>
                  <a:lnTo>
                    <a:pt x="2" y="33"/>
                  </a:lnTo>
                  <a:lnTo>
                    <a:pt x="11" y="45"/>
                  </a:lnTo>
                  <a:lnTo>
                    <a:pt x="26" y="48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2" y="22"/>
                  </a:lnTo>
                  <a:lnTo>
                    <a:pt x="23" y="14"/>
                  </a:lnTo>
                  <a:lnTo>
                    <a:pt x="14" y="11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229600" y="16905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0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05920" y="1801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lnTo>
                    <a:pt x="8" y="11"/>
                  </a:lnTo>
                  <a:lnTo>
                    <a:pt x="14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26" y="46"/>
                  </a:lnTo>
                  <a:lnTo>
                    <a:pt x="17" y="43"/>
                  </a:lnTo>
                  <a:lnTo>
                    <a:pt x="11" y="34"/>
                  </a:lnTo>
                  <a:lnTo>
                    <a:pt x="8" y="25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824440" y="16192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6" y="70"/>
                  </a:moveTo>
                  <a:lnTo>
                    <a:pt x="0" y="78"/>
                  </a:lnTo>
                  <a:lnTo>
                    <a:pt x="0" y="70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19" y="42"/>
                  </a:lnTo>
                  <a:lnTo>
                    <a:pt x="11" y="33"/>
                  </a:lnTo>
                  <a:lnTo>
                    <a:pt x="11" y="25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11"/>
                  </a:lnTo>
                  <a:lnTo>
                    <a:pt x="45" y="16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28" y="33"/>
                  </a:lnTo>
                  <a:lnTo>
                    <a:pt x="35" y="36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5" y="56"/>
                  </a:lnTo>
                  <a:lnTo>
                    <a:pt x="45" y="64"/>
                  </a:lnTo>
                  <a:lnTo>
                    <a:pt x="43" y="72"/>
                  </a:lnTo>
                  <a:lnTo>
                    <a:pt x="50" y="75"/>
                  </a:lnTo>
                  <a:lnTo>
                    <a:pt x="55" y="84"/>
                  </a:lnTo>
                  <a:lnTo>
                    <a:pt x="50" y="92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31" y="98"/>
                  </a:lnTo>
                  <a:lnTo>
                    <a:pt x="23" y="98"/>
                  </a:lnTo>
                  <a:lnTo>
                    <a:pt x="14" y="92"/>
                  </a:lnTo>
                  <a:lnTo>
                    <a:pt x="9" y="84"/>
                  </a:lnTo>
                  <a:lnTo>
                    <a:pt x="4" y="75"/>
                  </a:lnTo>
                  <a:lnTo>
                    <a:pt x="16" y="7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48200" y="17812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4"/>
                  </a:lnTo>
                  <a:lnTo>
                    <a:pt x="16" y="18"/>
                  </a:lnTo>
                  <a:lnTo>
                    <a:pt x="4" y="0"/>
                  </a:lnTo>
                  <a:lnTo>
                    <a:pt x="16" y="1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00840" y="167328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0"/>
                  </a:moveTo>
                  <a:lnTo>
                    <a:pt x="17" y="19"/>
                  </a:lnTo>
                  <a:lnTo>
                    <a:pt x="22" y="11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25" y="27"/>
                  </a:lnTo>
                  <a:lnTo>
                    <a:pt x="28" y="36"/>
                  </a:lnTo>
                  <a:lnTo>
                    <a:pt x="11" y="30"/>
                  </a:lnTo>
                  <a:lnTo>
                    <a:pt x="0" y="33"/>
                  </a:lnTo>
                  <a:lnTo>
                    <a:pt x="11" y="3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891040" y="1490760"/>
              <a:ext cx="84240" cy="10944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31" y="51"/>
                  </a:moveTo>
                  <a:lnTo>
                    <a:pt x="8" y="34"/>
                  </a:lnTo>
                  <a:lnTo>
                    <a:pt x="8" y="42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5" y="68"/>
                  </a:lnTo>
                  <a:lnTo>
                    <a:pt x="17" y="68"/>
                  </a:lnTo>
                  <a:lnTo>
                    <a:pt x="28" y="68"/>
                  </a:lnTo>
                  <a:lnTo>
                    <a:pt x="37" y="68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2" y="34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20" y="19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7" y="45"/>
                  </a:lnTo>
                  <a:lnTo>
                    <a:pt x="31" y="51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038480" y="2170080"/>
              <a:ext cx="293760" cy="235080"/>
            </a:xfrm>
            <a:custGeom>
              <a:avLst/>
              <a:gdLst/>
              <a:ahLst/>
              <a:rect l="l" t="t" r="r" b="b"/>
              <a:pathLst>
                <a:path w="185" h="148">
                  <a:moveTo>
                    <a:pt x="0" y="101"/>
                  </a:moveTo>
                  <a:lnTo>
                    <a:pt x="11" y="84"/>
                  </a:lnTo>
                  <a:lnTo>
                    <a:pt x="11" y="93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5" y="138"/>
                  </a:lnTo>
                  <a:lnTo>
                    <a:pt x="14" y="135"/>
                  </a:lnTo>
                  <a:lnTo>
                    <a:pt x="20" y="127"/>
                  </a:lnTo>
                  <a:lnTo>
                    <a:pt x="28" y="118"/>
                  </a:lnTo>
                  <a:lnTo>
                    <a:pt x="31" y="110"/>
                  </a:lnTo>
                  <a:lnTo>
                    <a:pt x="40" y="104"/>
                  </a:lnTo>
                  <a:lnTo>
                    <a:pt x="48" y="101"/>
                  </a:lnTo>
                  <a:lnTo>
                    <a:pt x="57" y="98"/>
                  </a:lnTo>
                  <a:lnTo>
                    <a:pt x="66" y="90"/>
                  </a:lnTo>
                  <a:lnTo>
                    <a:pt x="69" y="81"/>
                  </a:lnTo>
                  <a:lnTo>
                    <a:pt x="77" y="79"/>
                  </a:lnTo>
                  <a:lnTo>
                    <a:pt x="80" y="87"/>
                  </a:lnTo>
                  <a:lnTo>
                    <a:pt x="80" y="96"/>
                  </a:lnTo>
                  <a:lnTo>
                    <a:pt x="80" y="104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71" y="130"/>
                  </a:lnTo>
                  <a:lnTo>
                    <a:pt x="74" y="138"/>
                  </a:lnTo>
                  <a:lnTo>
                    <a:pt x="83" y="141"/>
                  </a:lnTo>
                  <a:lnTo>
                    <a:pt x="94" y="141"/>
                  </a:lnTo>
                  <a:lnTo>
                    <a:pt x="103" y="138"/>
                  </a:lnTo>
                  <a:lnTo>
                    <a:pt x="109" y="130"/>
                  </a:lnTo>
                  <a:lnTo>
                    <a:pt x="109" y="121"/>
                  </a:lnTo>
                  <a:lnTo>
                    <a:pt x="100" y="113"/>
                  </a:lnTo>
                  <a:lnTo>
                    <a:pt x="106" y="101"/>
                  </a:lnTo>
                  <a:lnTo>
                    <a:pt x="100" y="90"/>
                  </a:lnTo>
                  <a:lnTo>
                    <a:pt x="97" y="81"/>
                  </a:lnTo>
                  <a:lnTo>
                    <a:pt x="97" y="73"/>
                  </a:lnTo>
                  <a:lnTo>
                    <a:pt x="97" y="65"/>
                  </a:lnTo>
                  <a:lnTo>
                    <a:pt x="103" y="56"/>
                  </a:lnTo>
                  <a:lnTo>
                    <a:pt x="112" y="56"/>
                  </a:lnTo>
                  <a:lnTo>
                    <a:pt x="120" y="53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52" y="56"/>
                  </a:lnTo>
                  <a:lnTo>
                    <a:pt x="166" y="56"/>
                  </a:lnTo>
                  <a:lnTo>
                    <a:pt x="175" y="56"/>
                  </a:lnTo>
                  <a:lnTo>
                    <a:pt x="184" y="56"/>
                  </a:lnTo>
                  <a:lnTo>
                    <a:pt x="184" y="48"/>
                  </a:lnTo>
                  <a:lnTo>
                    <a:pt x="184" y="39"/>
                  </a:lnTo>
                  <a:lnTo>
                    <a:pt x="181" y="31"/>
                  </a:lnTo>
                  <a:lnTo>
                    <a:pt x="178" y="22"/>
                  </a:lnTo>
                  <a:lnTo>
                    <a:pt x="166" y="16"/>
                  </a:lnTo>
                  <a:lnTo>
                    <a:pt x="158" y="16"/>
                  </a:lnTo>
                  <a:lnTo>
                    <a:pt x="146" y="16"/>
                  </a:lnTo>
                  <a:lnTo>
                    <a:pt x="138" y="19"/>
                  </a:lnTo>
                  <a:lnTo>
                    <a:pt x="140" y="11"/>
                  </a:lnTo>
                  <a:lnTo>
                    <a:pt x="140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12" y="11"/>
                  </a:lnTo>
                  <a:lnTo>
                    <a:pt x="103" y="16"/>
                  </a:lnTo>
                  <a:lnTo>
                    <a:pt x="97" y="25"/>
                  </a:lnTo>
                  <a:lnTo>
                    <a:pt x="94" y="16"/>
                  </a:lnTo>
                  <a:lnTo>
                    <a:pt x="86" y="14"/>
                  </a:lnTo>
                  <a:lnTo>
                    <a:pt x="77" y="19"/>
                  </a:lnTo>
                  <a:lnTo>
                    <a:pt x="69" y="25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63" y="2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7" y="25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23" y="48"/>
                  </a:lnTo>
                  <a:lnTo>
                    <a:pt x="31" y="48"/>
                  </a:lnTo>
                  <a:lnTo>
                    <a:pt x="40" y="42"/>
                  </a:lnTo>
                  <a:lnTo>
                    <a:pt x="51" y="45"/>
                  </a:lnTo>
                  <a:lnTo>
                    <a:pt x="57" y="53"/>
                  </a:lnTo>
                  <a:lnTo>
                    <a:pt x="60" y="62"/>
                  </a:lnTo>
                  <a:lnTo>
                    <a:pt x="51" y="65"/>
                  </a:lnTo>
                  <a:lnTo>
                    <a:pt x="40" y="65"/>
                  </a:lnTo>
                  <a:lnTo>
                    <a:pt x="28" y="59"/>
                  </a:lnTo>
                  <a:lnTo>
                    <a:pt x="17" y="59"/>
                  </a:lnTo>
                  <a:lnTo>
                    <a:pt x="8" y="65"/>
                  </a:lnTo>
                  <a:lnTo>
                    <a:pt x="8" y="76"/>
                  </a:lnTo>
                  <a:lnTo>
                    <a:pt x="11" y="87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6"/>
                  </a:lnTo>
                  <a:lnTo>
                    <a:pt x="0" y="101"/>
                  </a:lnTo>
                  <a:lnTo>
                    <a:pt x="5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0" y="1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95760" y="2171880"/>
              <a:ext cx="220680" cy="18072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31" y="53"/>
                  </a:moveTo>
                  <a:lnTo>
                    <a:pt x="25" y="64"/>
                  </a:lnTo>
                  <a:lnTo>
                    <a:pt x="31" y="53"/>
                  </a:lnTo>
                  <a:lnTo>
                    <a:pt x="43" y="56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7" y="79"/>
                  </a:lnTo>
                  <a:lnTo>
                    <a:pt x="23" y="90"/>
                  </a:lnTo>
                  <a:lnTo>
                    <a:pt x="25" y="98"/>
                  </a:lnTo>
                  <a:lnTo>
                    <a:pt x="31" y="107"/>
                  </a:lnTo>
                  <a:lnTo>
                    <a:pt x="34" y="98"/>
                  </a:lnTo>
                  <a:lnTo>
                    <a:pt x="34" y="90"/>
                  </a:lnTo>
                  <a:lnTo>
                    <a:pt x="43" y="90"/>
                  </a:lnTo>
                  <a:lnTo>
                    <a:pt x="54" y="93"/>
                  </a:lnTo>
                  <a:lnTo>
                    <a:pt x="63" y="96"/>
                  </a:lnTo>
                  <a:lnTo>
                    <a:pt x="71" y="96"/>
                  </a:lnTo>
                  <a:lnTo>
                    <a:pt x="80" y="87"/>
                  </a:lnTo>
                  <a:lnTo>
                    <a:pt x="89" y="87"/>
                  </a:lnTo>
                  <a:lnTo>
                    <a:pt x="97" y="93"/>
                  </a:lnTo>
                  <a:lnTo>
                    <a:pt x="103" y="107"/>
                  </a:lnTo>
                  <a:lnTo>
                    <a:pt x="112" y="110"/>
                  </a:lnTo>
                  <a:lnTo>
                    <a:pt x="120" y="113"/>
                  </a:lnTo>
                  <a:lnTo>
                    <a:pt x="126" y="104"/>
                  </a:lnTo>
                  <a:lnTo>
                    <a:pt x="123" y="96"/>
                  </a:lnTo>
                  <a:lnTo>
                    <a:pt x="115" y="90"/>
                  </a:lnTo>
                  <a:lnTo>
                    <a:pt x="106" y="87"/>
                  </a:lnTo>
                  <a:lnTo>
                    <a:pt x="94" y="81"/>
                  </a:lnTo>
                  <a:lnTo>
                    <a:pt x="92" y="73"/>
                  </a:lnTo>
                  <a:lnTo>
                    <a:pt x="103" y="70"/>
                  </a:lnTo>
                  <a:lnTo>
                    <a:pt x="112" y="70"/>
                  </a:lnTo>
                  <a:lnTo>
                    <a:pt x="115" y="62"/>
                  </a:lnTo>
                  <a:lnTo>
                    <a:pt x="120" y="53"/>
                  </a:lnTo>
                  <a:lnTo>
                    <a:pt x="129" y="48"/>
                  </a:lnTo>
                  <a:lnTo>
                    <a:pt x="138" y="39"/>
                  </a:lnTo>
                  <a:lnTo>
                    <a:pt x="129" y="33"/>
                  </a:lnTo>
                  <a:lnTo>
                    <a:pt x="120" y="31"/>
                  </a:lnTo>
                  <a:lnTo>
                    <a:pt x="112" y="33"/>
                  </a:lnTo>
                  <a:lnTo>
                    <a:pt x="106" y="42"/>
                  </a:lnTo>
                  <a:lnTo>
                    <a:pt x="97" y="45"/>
                  </a:lnTo>
                  <a:lnTo>
                    <a:pt x="97" y="36"/>
                  </a:lnTo>
                  <a:lnTo>
                    <a:pt x="100" y="25"/>
                  </a:lnTo>
                  <a:lnTo>
                    <a:pt x="100" y="16"/>
                  </a:lnTo>
                  <a:lnTo>
                    <a:pt x="103" y="8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0" y="8"/>
                  </a:lnTo>
                  <a:lnTo>
                    <a:pt x="77" y="16"/>
                  </a:lnTo>
                  <a:lnTo>
                    <a:pt x="74" y="25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1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3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23" y="64"/>
                  </a:lnTo>
                  <a:lnTo>
                    <a:pt x="31" y="64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77" y="53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05520" y="2079720"/>
              <a:ext cx="298440" cy="156960"/>
            </a:xfrm>
            <a:custGeom>
              <a:avLst/>
              <a:gdLst/>
              <a:ahLst/>
              <a:rect l="l" t="t" r="r" b="b"/>
              <a:pathLst>
                <a:path w="188" h="99">
                  <a:moveTo>
                    <a:pt x="0" y="17"/>
                  </a:moveTo>
                  <a:lnTo>
                    <a:pt x="25" y="25"/>
                  </a:lnTo>
                  <a:lnTo>
                    <a:pt x="37" y="25"/>
                  </a:lnTo>
                  <a:lnTo>
                    <a:pt x="43" y="34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63" y="69"/>
                  </a:lnTo>
                  <a:lnTo>
                    <a:pt x="63" y="80"/>
                  </a:lnTo>
                  <a:lnTo>
                    <a:pt x="71" y="83"/>
                  </a:lnTo>
                  <a:lnTo>
                    <a:pt x="80" y="77"/>
                  </a:lnTo>
                  <a:lnTo>
                    <a:pt x="89" y="77"/>
                  </a:lnTo>
                  <a:lnTo>
                    <a:pt x="97" y="77"/>
                  </a:lnTo>
                  <a:lnTo>
                    <a:pt x="106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5" y="74"/>
                  </a:lnTo>
                  <a:lnTo>
                    <a:pt x="143" y="77"/>
                  </a:lnTo>
                  <a:lnTo>
                    <a:pt x="152" y="86"/>
                  </a:lnTo>
                  <a:lnTo>
                    <a:pt x="163" y="98"/>
                  </a:lnTo>
                  <a:lnTo>
                    <a:pt x="169" y="89"/>
                  </a:lnTo>
                  <a:lnTo>
                    <a:pt x="175" y="80"/>
                  </a:lnTo>
                  <a:lnTo>
                    <a:pt x="181" y="72"/>
                  </a:lnTo>
                  <a:lnTo>
                    <a:pt x="187" y="60"/>
                  </a:lnTo>
                  <a:lnTo>
                    <a:pt x="187" y="51"/>
                  </a:lnTo>
                  <a:lnTo>
                    <a:pt x="187" y="43"/>
                  </a:lnTo>
                  <a:lnTo>
                    <a:pt x="181" y="34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5" y="34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9" y="40"/>
                  </a:lnTo>
                  <a:lnTo>
                    <a:pt x="129" y="49"/>
                  </a:lnTo>
                  <a:lnTo>
                    <a:pt x="129" y="57"/>
                  </a:lnTo>
                  <a:lnTo>
                    <a:pt x="120" y="51"/>
                  </a:lnTo>
                  <a:lnTo>
                    <a:pt x="109" y="43"/>
                  </a:lnTo>
                  <a:lnTo>
                    <a:pt x="100" y="34"/>
                  </a:lnTo>
                  <a:lnTo>
                    <a:pt x="86" y="25"/>
                  </a:lnTo>
                  <a:lnTo>
                    <a:pt x="83" y="37"/>
                  </a:lnTo>
                  <a:lnTo>
                    <a:pt x="74" y="40"/>
                  </a:lnTo>
                  <a:lnTo>
                    <a:pt x="74" y="31"/>
                  </a:lnTo>
                  <a:lnTo>
                    <a:pt x="69" y="23"/>
                  </a:lnTo>
                  <a:lnTo>
                    <a:pt x="60" y="17"/>
                  </a:lnTo>
                  <a:lnTo>
                    <a:pt x="51" y="8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8" y="8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0" y="1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74960" y="2954160"/>
              <a:ext cx="680760" cy="700200"/>
            </a:xfrm>
            <a:custGeom>
              <a:avLst/>
              <a:gdLst/>
              <a:ahLst/>
              <a:rect l="l" t="t" r="r" b="b"/>
              <a:pathLst>
                <a:path w="429" h="441">
                  <a:moveTo>
                    <a:pt x="22" y="309"/>
                  </a:moveTo>
                  <a:lnTo>
                    <a:pt x="34" y="315"/>
                  </a:lnTo>
                  <a:lnTo>
                    <a:pt x="43" y="318"/>
                  </a:lnTo>
                  <a:lnTo>
                    <a:pt x="51" y="321"/>
                  </a:lnTo>
                  <a:lnTo>
                    <a:pt x="54" y="333"/>
                  </a:lnTo>
                  <a:lnTo>
                    <a:pt x="63" y="342"/>
                  </a:lnTo>
                  <a:lnTo>
                    <a:pt x="71" y="348"/>
                  </a:lnTo>
                  <a:lnTo>
                    <a:pt x="80" y="348"/>
                  </a:lnTo>
                  <a:lnTo>
                    <a:pt x="91" y="355"/>
                  </a:lnTo>
                  <a:lnTo>
                    <a:pt x="100" y="361"/>
                  </a:lnTo>
                  <a:lnTo>
                    <a:pt x="109" y="364"/>
                  </a:lnTo>
                  <a:lnTo>
                    <a:pt x="112" y="373"/>
                  </a:lnTo>
                  <a:lnTo>
                    <a:pt x="117" y="382"/>
                  </a:lnTo>
                  <a:lnTo>
                    <a:pt x="123" y="391"/>
                  </a:lnTo>
                  <a:lnTo>
                    <a:pt x="132" y="397"/>
                  </a:lnTo>
                  <a:lnTo>
                    <a:pt x="146" y="406"/>
                  </a:lnTo>
                  <a:lnTo>
                    <a:pt x="155" y="412"/>
                  </a:lnTo>
                  <a:lnTo>
                    <a:pt x="163" y="418"/>
                  </a:lnTo>
                  <a:lnTo>
                    <a:pt x="172" y="421"/>
                  </a:lnTo>
                  <a:lnTo>
                    <a:pt x="180" y="430"/>
                  </a:lnTo>
                  <a:lnTo>
                    <a:pt x="189" y="436"/>
                  </a:lnTo>
                  <a:lnTo>
                    <a:pt x="198" y="440"/>
                  </a:lnTo>
                  <a:lnTo>
                    <a:pt x="203" y="430"/>
                  </a:lnTo>
                  <a:lnTo>
                    <a:pt x="203" y="421"/>
                  </a:lnTo>
                  <a:lnTo>
                    <a:pt x="203" y="412"/>
                  </a:lnTo>
                  <a:lnTo>
                    <a:pt x="215" y="406"/>
                  </a:lnTo>
                  <a:lnTo>
                    <a:pt x="224" y="406"/>
                  </a:lnTo>
                  <a:lnTo>
                    <a:pt x="232" y="406"/>
                  </a:lnTo>
                  <a:lnTo>
                    <a:pt x="241" y="406"/>
                  </a:lnTo>
                  <a:lnTo>
                    <a:pt x="249" y="406"/>
                  </a:lnTo>
                  <a:lnTo>
                    <a:pt x="258" y="406"/>
                  </a:lnTo>
                  <a:lnTo>
                    <a:pt x="261" y="397"/>
                  </a:lnTo>
                  <a:lnTo>
                    <a:pt x="261" y="388"/>
                  </a:lnTo>
                  <a:lnTo>
                    <a:pt x="261" y="379"/>
                  </a:lnTo>
                  <a:lnTo>
                    <a:pt x="261" y="367"/>
                  </a:lnTo>
                  <a:lnTo>
                    <a:pt x="261" y="355"/>
                  </a:lnTo>
                  <a:lnTo>
                    <a:pt x="252" y="348"/>
                  </a:lnTo>
                  <a:lnTo>
                    <a:pt x="244" y="348"/>
                  </a:lnTo>
                  <a:lnTo>
                    <a:pt x="235" y="342"/>
                  </a:lnTo>
                  <a:lnTo>
                    <a:pt x="229" y="333"/>
                  </a:lnTo>
                  <a:lnTo>
                    <a:pt x="229" y="324"/>
                  </a:lnTo>
                  <a:lnTo>
                    <a:pt x="238" y="321"/>
                  </a:lnTo>
                  <a:lnTo>
                    <a:pt x="247" y="315"/>
                  </a:lnTo>
                  <a:lnTo>
                    <a:pt x="255" y="312"/>
                  </a:lnTo>
                  <a:lnTo>
                    <a:pt x="261" y="303"/>
                  </a:lnTo>
                  <a:lnTo>
                    <a:pt x="261" y="294"/>
                  </a:lnTo>
                  <a:lnTo>
                    <a:pt x="264" y="285"/>
                  </a:lnTo>
                  <a:lnTo>
                    <a:pt x="264" y="276"/>
                  </a:lnTo>
                  <a:lnTo>
                    <a:pt x="267" y="267"/>
                  </a:lnTo>
                  <a:lnTo>
                    <a:pt x="272" y="257"/>
                  </a:lnTo>
                  <a:lnTo>
                    <a:pt x="278" y="248"/>
                  </a:lnTo>
                  <a:lnTo>
                    <a:pt x="284" y="239"/>
                  </a:lnTo>
                  <a:lnTo>
                    <a:pt x="284" y="230"/>
                  </a:lnTo>
                  <a:lnTo>
                    <a:pt x="284" y="221"/>
                  </a:lnTo>
                  <a:lnTo>
                    <a:pt x="284" y="209"/>
                  </a:lnTo>
                  <a:lnTo>
                    <a:pt x="292" y="200"/>
                  </a:lnTo>
                  <a:lnTo>
                    <a:pt x="295" y="191"/>
                  </a:lnTo>
                  <a:lnTo>
                    <a:pt x="298" y="182"/>
                  </a:lnTo>
                  <a:lnTo>
                    <a:pt x="301" y="172"/>
                  </a:lnTo>
                  <a:lnTo>
                    <a:pt x="292" y="163"/>
                  </a:lnTo>
                  <a:lnTo>
                    <a:pt x="284" y="154"/>
                  </a:lnTo>
                  <a:lnTo>
                    <a:pt x="278" y="145"/>
                  </a:lnTo>
                  <a:lnTo>
                    <a:pt x="287" y="142"/>
                  </a:lnTo>
                  <a:lnTo>
                    <a:pt x="295" y="142"/>
                  </a:lnTo>
                  <a:lnTo>
                    <a:pt x="304" y="148"/>
                  </a:lnTo>
                  <a:lnTo>
                    <a:pt x="313" y="157"/>
                  </a:lnTo>
                  <a:lnTo>
                    <a:pt x="321" y="163"/>
                  </a:lnTo>
                  <a:lnTo>
                    <a:pt x="327" y="154"/>
                  </a:lnTo>
                  <a:lnTo>
                    <a:pt x="336" y="148"/>
                  </a:lnTo>
                  <a:lnTo>
                    <a:pt x="344" y="148"/>
                  </a:lnTo>
                  <a:lnTo>
                    <a:pt x="353" y="145"/>
                  </a:lnTo>
                  <a:lnTo>
                    <a:pt x="361" y="142"/>
                  </a:lnTo>
                  <a:lnTo>
                    <a:pt x="361" y="133"/>
                  </a:lnTo>
                  <a:lnTo>
                    <a:pt x="361" y="124"/>
                  </a:lnTo>
                  <a:lnTo>
                    <a:pt x="361" y="115"/>
                  </a:lnTo>
                  <a:lnTo>
                    <a:pt x="359" y="106"/>
                  </a:lnTo>
                  <a:lnTo>
                    <a:pt x="353" y="97"/>
                  </a:lnTo>
                  <a:lnTo>
                    <a:pt x="344" y="88"/>
                  </a:lnTo>
                  <a:lnTo>
                    <a:pt x="333" y="81"/>
                  </a:lnTo>
                  <a:lnTo>
                    <a:pt x="341" y="75"/>
                  </a:lnTo>
                  <a:lnTo>
                    <a:pt x="353" y="75"/>
                  </a:lnTo>
                  <a:lnTo>
                    <a:pt x="361" y="75"/>
                  </a:lnTo>
                  <a:lnTo>
                    <a:pt x="370" y="75"/>
                  </a:lnTo>
                  <a:lnTo>
                    <a:pt x="379" y="72"/>
                  </a:lnTo>
                  <a:lnTo>
                    <a:pt x="387" y="69"/>
                  </a:lnTo>
                  <a:lnTo>
                    <a:pt x="396" y="69"/>
                  </a:lnTo>
                  <a:lnTo>
                    <a:pt x="405" y="72"/>
                  </a:lnTo>
                  <a:lnTo>
                    <a:pt x="419" y="75"/>
                  </a:lnTo>
                  <a:lnTo>
                    <a:pt x="428" y="75"/>
                  </a:lnTo>
                  <a:lnTo>
                    <a:pt x="425" y="66"/>
                  </a:lnTo>
                  <a:lnTo>
                    <a:pt x="422" y="57"/>
                  </a:lnTo>
                  <a:lnTo>
                    <a:pt x="419" y="48"/>
                  </a:lnTo>
                  <a:lnTo>
                    <a:pt x="410" y="48"/>
                  </a:lnTo>
                  <a:lnTo>
                    <a:pt x="402" y="48"/>
                  </a:lnTo>
                  <a:lnTo>
                    <a:pt x="390" y="48"/>
                  </a:lnTo>
                  <a:lnTo>
                    <a:pt x="382" y="48"/>
                  </a:lnTo>
                  <a:lnTo>
                    <a:pt x="379" y="57"/>
                  </a:lnTo>
                  <a:lnTo>
                    <a:pt x="370" y="54"/>
                  </a:lnTo>
                  <a:lnTo>
                    <a:pt x="361" y="45"/>
                  </a:lnTo>
                  <a:lnTo>
                    <a:pt x="353" y="39"/>
                  </a:lnTo>
                  <a:lnTo>
                    <a:pt x="341" y="39"/>
                  </a:lnTo>
                  <a:lnTo>
                    <a:pt x="333" y="39"/>
                  </a:lnTo>
                  <a:lnTo>
                    <a:pt x="318" y="39"/>
                  </a:lnTo>
                  <a:lnTo>
                    <a:pt x="310" y="39"/>
                  </a:lnTo>
                  <a:lnTo>
                    <a:pt x="298" y="42"/>
                  </a:lnTo>
                  <a:lnTo>
                    <a:pt x="290" y="42"/>
                  </a:lnTo>
                  <a:lnTo>
                    <a:pt x="290" y="33"/>
                  </a:lnTo>
                  <a:lnTo>
                    <a:pt x="298" y="30"/>
                  </a:lnTo>
                  <a:lnTo>
                    <a:pt x="307" y="30"/>
                  </a:lnTo>
                  <a:lnTo>
                    <a:pt x="315" y="27"/>
                  </a:lnTo>
                  <a:lnTo>
                    <a:pt x="324" y="24"/>
                  </a:lnTo>
                  <a:lnTo>
                    <a:pt x="327" y="15"/>
                  </a:lnTo>
                  <a:lnTo>
                    <a:pt x="327" y="6"/>
                  </a:lnTo>
                  <a:lnTo>
                    <a:pt x="318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3"/>
                  </a:lnTo>
                  <a:lnTo>
                    <a:pt x="275" y="12"/>
                  </a:lnTo>
                  <a:lnTo>
                    <a:pt x="267" y="18"/>
                  </a:lnTo>
                  <a:lnTo>
                    <a:pt x="258" y="21"/>
                  </a:lnTo>
                  <a:lnTo>
                    <a:pt x="255" y="30"/>
                  </a:lnTo>
                  <a:lnTo>
                    <a:pt x="264" y="36"/>
                  </a:lnTo>
                  <a:lnTo>
                    <a:pt x="272" y="36"/>
                  </a:lnTo>
                  <a:lnTo>
                    <a:pt x="278" y="45"/>
                  </a:lnTo>
                  <a:lnTo>
                    <a:pt x="270" y="54"/>
                  </a:lnTo>
                  <a:lnTo>
                    <a:pt x="267" y="63"/>
                  </a:lnTo>
                  <a:lnTo>
                    <a:pt x="281" y="75"/>
                  </a:lnTo>
                  <a:lnTo>
                    <a:pt x="290" y="78"/>
                  </a:lnTo>
                  <a:lnTo>
                    <a:pt x="281" y="75"/>
                  </a:lnTo>
                  <a:lnTo>
                    <a:pt x="270" y="66"/>
                  </a:lnTo>
                  <a:lnTo>
                    <a:pt x="261" y="60"/>
                  </a:lnTo>
                  <a:lnTo>
                    <a:pt x="252" y="51"/>
                  </a:lnTo>
                  <a:lnTo>
                    <a:pt x="244" y="51"/>
                  </a:lnTo>
                  <a:lnTo>
                    <a:pt x="241" y="60"/>
                  </a:lnTo>
                  <a:lnTo>
                    <a:pt x="241" y="69"/>
                  </a:lnTo>
                  <a:lnTo>
                    <a:pt x="255" y="78"/>
                  </a:lnTo>
                  <a:lnTo>
                    <a:pt x="264" y="81"/>
                  </a:lnTo>
                  <a:lnTo>
                    <a:pt x="255" y="88"/>
                  </a:lnTo>
                  <a:lnTo>
                    <a:pt x="244" y="88"/>
                  </a:lnTo>
                  <a:lnTo>
                    <a:pt x="235" y="88"/>
                  </a:lnTo>
                  <a:lnTo>
                    <a:pt x="235" y="103"/>
                  </a:lnTo>
                  <a:lnTo>
                    <a:pt x="244" y="106"/>
                  </a:lnTo>
                  <a:lnTo>
                    <a:pt x="252" y="109"/>
                  </a:lnTo>
                  <a:lnTo>
                    <a:pt x="244" y="115"/>
                  </a:lnTo>
                  <a:lnTo>
                    <a:pt x="235" y="112"/>
                  </a:lnTo>
                  <a:lnTo>
                    <a:pt x="226" y="109"/>
                  </a:lnTo>
                  <a:lnTo>
                    <a:pt x="218" y="106"/>
                  </a:lnTo>
                  <a:lnTo>
                    <a:pt x="212" y="115"/>
                  </a:lnTo>
                  <a:lnTo>
                    <a:pt x="218" y="124"/>
                  </a:lnTo>
                  <a:lnTo>
                    <a:pt x="229" y="127"/>
                  </a:lnTo>
                  <a:lnTo>
                    <a:pt x="238" y="130"/>
                  </a:lnTo>
                  <a:lnTo>
                    <a:pt x="229" y="124"/>
                  </a:lnTo>
                  <a:lnTo>
                    <a:pt x="221" y="121"/>
                  </a:lnTo>
                  <a:lnTo>
                    <a:pt x="209" y="115"/>
                  </a:lnTo>
                  <a:lnTo>
                    <a:pt x="198" y="106"/>
                  </a:lnTo>
                  <a:lnTo>
                    <a:pt x="192" y="97"/>
                  </a:lnTo>
                  <a:lnTo>
                    <a:pt x="183" y="91"/>
                  </a:lnTo>
                  <a:lnTo>
                    <a:pt x="180" y="81"/>
                  </a:lnTo>
                  <a:lnTo>
                    <a:pt x="178" y="72"/>
                  </a:lnTo>
                  <a:lnTo>
                    <a:pt x="169" y="60"/>
                  </a:lnTo>
                  <a:lnTo>
                    <a:pt x="160" y="60"/>
                  </a:lnTo>
                  <a:lnTo>
                    <a:pt x="152" y="66"/>
                  </a:lnTo>
                  <a:lnTo>
                    <a:pt x="149" y="75"/>
                  </a:lnTo>
                  <a:lnTo>
                    <a:pt x="146" y="84"/>
                  </a:lnTo>
                  <a:lnTo>
                    <a:pt x="143" y="94"/>
                  </a:lnTo>
                  <a:lnTo>
                    <a:pt x="140" y="103"/>
                  </a:lnTo>
                  <a:lnTo>
                    <a:pt x="129" y="103"/>
                  </a:lnTo>
                  <a:lnTo>
                    <a:pt x="117" y="94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0" y="60"/>
                  </a:lnTo>
                  <a:lnTo>
                    <a:pt x="89" y="60"/>
                  </a:lnTo>
                  <a:lnTo>
                    <a:pt x="80" y="66"/>
                  </a:lnTo>
                  <a:lnTo>
                    <a:pt x="77" y="75"/>
                  </a:lnTo>
                  <a:lnTo>
                    <a:pt x="71" y="84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51" y="127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0" y="127"/>
                  </a:lnTo>
                  <a:lnTo>
                    <a:pt x="51" y="121"/>
                  </a:lnTo>
                  <a:lnTo>
                    <a:pt x="43" y="118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4" y="115"/>
                  </a:lnTo>
                  <a:lnTo>
                    <a:pt x="11" y="124"/>
                  </a:lnTo>
                  <a:lnTo>
                    <a:pt x="8" y="133"/>
                  </a:lnTo>
                  <a:lnTo>
                    <a:pt x="2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4" y="169"/>
                  </a:lnTo>
                  <a:lnTo>
                    <a:pt x="22" y="172"/>
                  </a:lnTo>
                  <a:lnTo>
                    <a:pt x="31" y="172"/>
                  </a:lnTo>
                  <a:lnTo>
                    <a:pt x="40" y="176"/>
                  </a:lnTo>
                  <a:lnTo>
                    <a:pt x="51" y="185"/>
                  </a:lnTo>
                  <a:lnTo>
                    <a:pt x="60" y="191"/>
                  </a:lnTo>
                  <a:lnTo>
                    <a:pt x="68" y="197"/>
                  </a:lnTo>
                  <a:lnTo>
                    <a:pt x="80" y="200"/>
                  </a:lnTo>
                  <a:lnTo>
                    <a:pt x="89" y="203"/>
                  </a:lnTo>
                  <a:lnTo>
                    <a:pt x="100" y="203"/>
                  </a:lnTo>
                  <a:lnTo>
                    <a:pt x="109" y="203"/>
                  </a:lnTo>
                  <a:lnTo>
                    <a:pt x="120" y="197"/>
                  </a:lnTo>
                  <a:lnTo>
                    <a:pt x="129" y="194"/>
                  </a:lnTo>
                  <a:lnTo>
                    <a:pt x="135" y="185"/>
                  </a:lnTo>
                  <a:lnTo>
                    <a:pt x="143" y="179"/>
                  </a:lnTo>
                  <a:lnTo>
                    <a:pt x="149" y="169"/>
                  </a:lnTo>
                  <a:lnTo>
                    <a:pt x="157" y="163"/>
                  </a:lnTo>
                  <a:lnTo>
                    <a:pt x="166" y="163"/>
                  </a:lnTo>
                  <a:lnTo>
                    <a:pt x="175" y="166"/>
                  </a:lnTo>
                  <a:lnTo>
                    <a:pt x="183" y="166"/>
                  </a:lnTo>
                  <a:lnTo>
                    <a:pt x="192" y="157"/>
                  </a:lnTo>
                  <a:lnTo>
                    <a:pt x="198" y="148"/>
                  </a:lnTo>
                  <a:lnTo>
                    <a:pt x="201" y="139"/>
                  </a:lnTo>
                  <a:lnTo>
                    <a:pt x="203" y="130"/>
                  </a:lnTo>
                  <a:lnTo>
                    <a:pt x="212" y="130"/>
                  </a:lnTo>
                  <a:lnTo>
                    <a:pt x="224" y="136"/>
                  </a:lnTo>
                  <a:lnTo>
                    <a:pt x="232" y="139"/>
                  </a:lnTo>
                  <a:lnTo>
                    <a:pt x="241" y="142"/>
                  </a:lnTo>
                  <a:lnTo>
                    <a:pt x="232" y="142"/>
                  </a:lnTo>
                  <a:lnTo>
                    <a:pt x="224" y="142"/>
                  </a:lnTo>
                  <a:lnTo>
                    <a:pt x="215" y="142"/>
                  </a:lnTo>
                  <a:lnTo>
                    <a:pt x="206" y="142"/>
                  </a:lnTo>
                  <a:lnTo>
                    <a:pt x="203" y="151"/>
                  </a:lnTo>
                  <a:lnTo>
                    <a:pt x="201" y="160"/>
                  </a:lnTo>
                  <a:lnTo>
                    <a:pt x="201" y="169"/>
                  </a:lnTo>
                  <a:lnTo>
                    <a:pt x="209" y="176"/>
                  </a:lnTo>
                  <a:lnTo>
                    <a:pt x="218" y="179"/>
                  </a:lnTo>
                  <a:lnTo>
                    <a:pt x="226" y="188"/>
                  </a:lnTo>
                  <a:lnTo>
                    <a:pt x="235" y="194"/>
                  </a:lnTo>
                  <a:lnTo>
                    <a:pt x="238" y="203"/>
                  </a:lnTo>
                  <a:lnTo>
                    <a:pt x="226" y="206"/>
                  </a:lnTo>
                  <a:lnTo>
                    <a:pt x="224" y="215"/>
                  </a:lnTo>
                  <a:lnTo>
                    <a:pt x="224" y="224"/>
                  </a:lnTo>
                  <a:lnTo>
                    <a:pt x="221" y="233"/>
                  </a:lnTo>
                  <a:lnTo>
                    <a:pt x="209" y="233"/>
                  </a:lnTo>
                  <a:lnTo>
                    <a:pt x="203" y="245"/>
                  </a:lnTo>
                  <a:lnTo>
                    <a:pt x="198" y="257"/>
                  </a:lnTo>
                  <a:lnTo>
                    <a:pt x="195" y="267"/>
                  </a:lnTo>
                  <a:lnTo>
                    <a:pt x="186" y="267"/>
                  </a:lnTo>
                  <a:lnTo>
                    <a:pt x="183" y="257"/>
                  </a:lnTo>
                  <a:lnTo>
                    <a:pt x="178" y="245"/>
                  </a:lnTo>
                  <a:lnTo>
                    <a:pt x="175" y="233"/>
                  </a:lnTo>
                  <a:lnTo>
                    <a:pt x="166" y="224"/>
                  </a:lnTo>
                  <a:lnTo>
                    <a:pt x="157" y="221"/>
                  </a:lnTo>
                  <a:lnTo>
                    <a:pt x="149" y="218"/>
                  </a:lnTo>
                  <a:lnTo>
                    <a:pt x="137" y="224"/>
                  </a:lnTo>
                  <a:lnTo>
                    <a:pt x="140" y="236"/>
                  </a:lnTo>
                  <a:lnTo>
                    <a:pt x="143" y="245"/>
                  </a:lnTo>
                  <a:lnTo>
                    <a:pt x="143" y="254"/>
                  </a:lnTo>
                  <a:lnTo>
                    <a:pt x="135" y="260"/>
                  </a:lnTo>
                  <a:lnTo>
                    <a:pt x="126" y="260"/>
                  </a:lnTo>
                  <a:lnTo>
                    <a:pt x="114" y="257"/>
                  </a:lnTo>
                  <a:lnTo>
                    <a:pt x="106" y="257"/>
                  </a:lnTo>
                  <a:lnTo>
                    <a:pt x="97" y="257"/>
                  </a:lnTo>
                  <a:lnTo>
                    <a:pt x="89" y="257"/>
                  </a:lnTo>
                  <a:lnTo>
                    <a:pt x="91" y="267"/>
                  </a:lnTo>
                  <a:lnTo>
                    <a:pt x="100" y="276"/>
                  </a:lnTo>
                  <a:lnTo>
                    <a:pt x="100" y="285"/>
                  </a:lnTo>
                  <a:lnTo>
                    <a:pt x="97" y="294"/>
                  </a:lnTo>
                  <a:lnTo>
                    <a:pt x="97" y="303"/>
                  </a:lnTo>
                  <a:lnTo>
                    <a:pt x="109" y="312"/>
                  </a:lnTo>
                  <a:lnTo>
                    <a:pt x="117" y="318"/>
                  </a:lnTo>
                  <a:lnTo>
                    <a:pt x="109" y="318"/>
                  </a:lnTo>
                  <a:lnTo>
                    <a:pt x="100" y="309"/>
                  </a:lnTo>
                  <a:lnTo>
                    <a:pt x="89" y="300"/>
                  </a:lnTo>
                  <a:lnTo>
                    <a:pt x="80" y="297"/>
                  </a:lnTo>
                  <a:lnTo>
                    <a:pt x="71" y="297"/>
                  </a:lnTo>
                  <a:lnTo>
                    <a:pt x="63" y="300"/>
                  </a:lnTo>
                  <a:lnTo>
                    <a:pt x="54" y="306"/>
                  </a:lnTo>
                  <a:lnTo>
                    <a:pt x="43" y="306"/>
                  </a:lnTo>
                  <a:lnTo>
                    <a:pt x="34" y="306"/>
                  </a:lnTo>
                  <a:lnTo>
                    <a:pt x="22" y="309"/>
                  </a:lnTo>
                  <a:lnTo>
                    <a:pt x="11" y="303"/>
                  </a:lnTo>
                  <a:lnTo>
                    <a:pt x="22" y="309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43200" y="27082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2"/>
                  </a:moveTo>
                  <a:lnTo>
                    <a:pt x="8" y="19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34" y="22"/>
                  </a:lnTo>
                  <a:lnTo>
                    <a:pt x="40" y="13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76680" y="294012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5" y="0"/>
                  </a:moveTo>
                  <a:lnTo>
                    <a:pt x="20" y="13"/>
                  </a:lnTo>
                  <a:lnTo>
                    <a:pt x="11" y="16"/>
                  </a:lnTo>
                  <a:lnTo>
                    <a:pt x="8" y="24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4" y="30"/>
                  </a:lnTo>
                  <a:lnTo>
                    <a:pt x="40" y="21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25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610160" y="2549520"/>
              <a:ext cx="339840" cy="509760"/>
            </a:xfrm>
            <a:custGeom>
              <a:avLst/>
              <a:gdLst/>
              <a:ahLst/>
              <a:rect l="l" t="t" r="r" b="b"/>
              <a:pathLst>
                <a:path w="214" h="321">
                  <a:moveTo>
                    <a:pt x="23" y="200"/>
                  </a:moveTo>
                  <a:lnTo>
                    <a:pt x="34" y="182"/>
                  </a:lnTo>
                  <a:lnTo>
                    <a:pt x="23" y="200"/>
                  </a:lnTo>
                  <a:lnTo>
                    <a:pt x="23" y="211"/>
                  </a:lnTo>
                  <a:lnTo>
                    <a:pt x="20" y="220"/>
                  </a:lnTo>
                  <a:lnTo>
                    <a:pt x="17" y="228"/>
                  </a:lnTo>
                  <a:lnTo>
                    <a:pt x="8" y="234"/>
                  </a:lnTo>
                  <a:lnTo>
                    <a:pt x="2" y="24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8" y="268"/>
                  </a:lnTo>
                  <a:lnTo>
                    <a:pt x="17" y="268"/>
                  </a:lnTo>
                  <a:lnTo>
                    <a:pt x="25" y="271"/>
                  </a:lnTo>
                  <a:lnTo>
                    <a:pt x="28" y="280"/>
                  </a:lnTo>
                  <a:lnTo>
                    <a:pt x="37" y="291"/>
                  </a:lnTo>
                  <a:lnTo>
                    <a:pt x="28" y="294"/>
                  </a:lnTo>
                  <a:lnTo>
                    <a:pt x="20" y="285"/>
                  </a:lnTo>
                  <a:lnTo>
                    <a:pt x="31" y="294"/>
                  </a:lnTo>
                  <a:lnTo>
                    <a:pt x="40" y="300"/>
                  </a:lnTo>
                  <a:lnTo>
                    <a:pt x="48" y="311"/>
                  </a:lnTo>
                  <a:lnTo>
                    <a:pt x="57" y="314"/>
                  </a:lnTo>
                  <a:lnTo>
                    <a:pt x="66" y="320"/>
                  </a:lnTo>
                  <a:lnTo>
                    <a:pt x="66" y="311"/>
                  </a:lnTo>
                  <a:lnTo>
                    <a:pt x="74" y="311"/>
                  </a:lnTo>
                  <a:lnTo>
                    <a:pt x="83" y="320"/>
                  </a:lnTo>
                  <a:lnTo>
                    <a:pt x="83" y="308"/>
                  </a:lnTo>
                  <a:lnTo>
                    <a:pt x="92" y="305"/>
                  </a:lnTo>
                  <a:lnTo>
                    <a:pt x="97" y="297"/>
                  </a:lnTo>
                  <a:lnTo>
                    <a:pt x="89" y="288"/>
                  </a:lnTo>
                  <a:lnTo>
                    <a:pt x="83" y="280"/>
                  </a:lnTo>
                  <a:lnTo>
                    <a:pt x="77" y="271"/>
                  </a:lnTo>
                  <a:lnTo>
                    <a:pt x="71" y="262"/>
                  </a:lnTo>
                  <a:lnTo>
                    <a:pt x="69" y="254"/>
                  </a:lnTo>
                  <a:lnTo>
                    <a:pt x="69" y="242"/>
                  </a:lnTo>
                  <a:lnTo>
                    <a:pt x="69" y="234"/>
                  </a:lnTo>
                  <a:lnTo>
                    <a:pt x="69" y="225"/>
                  </a:lnTo>
                  <a:lnTo>
                    <a:pt x="69" y="217"/>
                  </a:lnTo>
                  <a:lnTo>
                    <a:pt x="69" y="208"/>
                  </a:lnTo>
                  <a:lnTo>
                    <a:pt x="69" y="200"/>
                  </a:lnTo>
                  <a:lnTo>
                    <a:pt x="69" y="191"/>
                  </a:lnTo>
                  <a:lnTo>
                    <a:pt x="69" y="182"/>
                  </a:lnTo>
                  <a:lnTo>
                    <a:pt x="77" y="174"/>
                  </a:lnTo>
                  <a:lnTo>
                    <a:pt x="86" y="168"/>
                  </a:lnTo>
                  <a:lnTo>
                    <a:pt x="92" y="160"/>
                  </a:lnTo>
                  <a:lnTo>
                    <a:pt x="97" y="151"/>
                  </a:lnTo>
                  <a:lnTo>
                    <a:pt x="103" y="142"/>
                  </a:lnTo>
                  <a:lnTo>
                    <a:pt x="103" y="134"/>
                  </a:lnTo>
                  <a:lnTo>
                    <a:pt x="103" y="125"/>
                  </a:lnTo>
                  <a:lnTo>
                    <a:pt x="112" y="122"/>
                  </a:lnTo>
                  <a:lnTo>
                    <a:pt x="120" y="117"/>
                  </a:lnTo>
                  <a:lnTo>
                    <a:pt x="123" y="105"/>
                  </a:lnTo>
                  <a:lnTo>
                    <a:pt x="132" y="100"/>
                  </a:lnTo>
                  <a:lnTo>
                    <a:pt x="135" y="91"/>
                  </a:lnTo>
                  <a:lnTo>
                    <a:pt x="143" y="82"/>
                  </a:lnTo>
                  <a:lnTo>
                    <a:pt x="152" y="77"/>
                  </a:lnTo>
                  <a:lnTo>
                    <a:pt x="158" y="68"/>
                  </a:lnTo>
                  <a:lnTo>
                    <a:pt x="166" y="65"/>
                  </a:lnTo>
                  <a:lnTo>
                    <a:pt x="175" y="60"/>
                  </a:lnTo>
                  <a:lnTo>
                    <a:pt x="184" y="57"/>
                  </a:lnTo>
                  <a:lnTo>
                    <a:pt x="189" y="48"/>
                  </a:lnTo>
                  <a:lnTo>
                    <a:pt x="198" y="42"/>
                  </a:lnTo>
                  <a:lnTo>
                    <a:pt x="207" y="37"/>
                  </a:lnTo>
                  <a:lnTo>
                    <a:pt x="210" y="28"/>
                  </a:lnTo>
                  <a:lnTo>
                    <a:pt x="213" y="20"/>
                  </a:lnTo>
                  <a:lnTo>
                    <a:pt x="213" y="11"/>
                  </a:lnTo>
                  <a:lnTo>
                    <a:pt x="210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5" y="8"/>
                  </a:lnTo>
                  <a:lnTo>
                    <a:pt x="175" y="17"/>
                  </a:lnTo>
                  <a:lnTo>
                    <a:pt x="166" y="20"/>
                  </a:lnTo>
                  <a:lnTo>
                    <a:pt x="158" y="25"/>
                  </a:lnTo>
                  <a:lnTo>
                    <a:pt x="149" y="34"/>
                  </a:lnTo>
                  <a:lnTo>
                    <a:pt x="141" y="40"/>
                  </a:lnTo>
                  <a:lnTo>
                    <a:pt x="132" y="42"/>
                  </a:lnTo>
                  <a:lnTo>
                    <a:pt x="123" y="42"/>
                  </a:lnTo>
                  <a:lnTo>
                    <a:pt x="123" y="54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7" y="68"/>
                  </a:lnTo>
                  <a:lnTo>
                    <a:pt x="89" y="77"/>
                  </a:lnTo>
                  <a:lnTo>
                    <a:pt x="83" y="85"/>
                  </a:lnTo>
                  <a:lnTo>
                    <a:pt x="80" y="94"/>
                  </a:lnTo>
                  <a:lnTo>
                    <a:pt x="71" y="100"/>
                  </a:lnTo>
                  <a:lnTo>
                    <a:pt x="66" y="108"/>
                  </a:lnTo>
                  <a:lnTo>
                    <a:pt x="63" y="117"/>
                  </a:lnTo>
                  <a:lnTo>
                    <a:pt x="63" y="125"/>
                  </a:lnTo>
                  <a:lnTo>
                    <a:pt x="57" y="134"/>
                  </a:lnTo>
                  <a:lnTo>
                    <a:pt x="51" y="142"/>
                  </a:lnTo>
                  <a:lnTo>
                    <a:pt x="46" y="151"/>
                  </a:lnTo>
                  <a:lnTo>
                    <a:pt x="40" y="162"/>
                  </a:lnTo>
                  <a:lnTo>
                    <a:pt x="37" y="171"/>
                  </a:lnTo>
                  <a:lnTo>
                    <a:pt x="46" y="177"/>
                  </a:lnTo>
                  <a:lnTo>
                    <a:pt x="54" y="180"/>
                  </a:lnTo>
                  <a:lnTo>
                    <a:pt x="57" y="188"/>
                  </a:lnTo>
                  <a:lnTo>
                    <a:pt x="48" y="185"/>
                  </a:lnTo>
                  <a:lnTo>
                    <a:pt x="40" y="185"/>
                  </a:lnTo>
                  <a:lnTo>
                    <a:pt x="31" y="188"/>
                  </a:lnTo>
                  <a:lnTo>
                    <a:pt x="23" y="200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23" y="237"/>
                  </a:lnTo>
                  <a:lnTo>
                    <a:pt x="14" y="242"/>
                  </a:lnTo>
                  <a:lnTo>
                    <a:pt x="8" y="251"/>
                  </a:lnTo>
                  <a:lnTo>
                    <a:pt x="0" y="260"/>
                  </a:lnTo>
                  <a:lnTo>
                    <a:pt x="23" y="2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971720" y="444168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49" y="47"/>
                  </a:moveTo>
                  <a:lnTo>
                    <a:pt x="44" y="58"/>
                  </a:lnTo>
                  <a:lnTo>
                    <a:pt x="35" y="58"/>
                  </a:lnTo>
                  <a:lnTo>
                    <a:pt x="30" y="66"/>
                  </a:lnTo>
                  <a:lnTo>
                    <a:pt x="30" y="75"/>
                  </a:lnTo>
                  <a:lnTo>
                    <a:pt x="30" y="83"/>
                  </a:lnTo>
                  <a:lnTo>
                    <a:pt x="30" y="91"/>
                  </a:lnTo>
                  <a:lnTo>
                    <a:pt x="22" y="94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8" y="139"/>
                  </a:lnTo>
                  <a:lnTo>
                    <a:pt x="16" y="139"/>
                  </a:lnTo>
                  <a:lnTo>
                    <a:pt x="27" y="147"/>
                  </a:lnTo>
                  <a:lnTo>
                    <a:pt x="33" y="156"/>
                  </a:lnTo>
                  <a:lnTo>
                    <a:pt x="41" y="156"/>
                  </a:lnTo>
                  <a:lnTo>
                    <a:pt x="46" y="147"/>
                  </a:lnTo>
                  <a:lnTo>
                    <a:pt x="52" y="139"/>
                  </a:lnTo>
                  <a:lnTo>
                    <a:pt x="55" y="130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71" y="108"/>
                  </a:lnTo>
                  <a:lnTo>
                    <a:pt x="80" y="108"/>
                  </a:lnTo>
                  <a:lnTo>
                    <a:pt x="82" y="100"/>
                  </a:lnTo>
                  <a:lnTo>
                    <a:pt x="82" y="91"/>
                  </a:lnTo>
                  <a:lnTo>
                    <a:pt x="82" y="83"/>
                  </a:lnTo>
                  <a:lnTo>
                    <a:pt x="82" y="75"/>
                  </a:lnTo>
                  <a:lnTo>
                    <a:pt x="82" y="66"/>
                  </a:lnTo>
                  <a:lnTo>
                    <a:pt x="85" y="58"/>
                  </a:lnTo>
                  <a:lnTo>
                    <a:pt x="93" y="52"/>
                  </a:lnTo>
                  <a:lnTo>
                    <a:pt x="102" y="47"/>
                  </a:lnTo>
                  <a:lnTo>
                    <a:pt x="107" y="39"/>
                  </a:lnTo>
                  <a:lnTo>
                    <a:pt x="115" y="36"/>
                  </a:lnTo>
                  <a:lnTo>
                    <a:pt x="121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38" y="5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8" y="11"/>
                  </a:lnTo>
                  <a:lnTo>
                    <a:pt x="82" y="19"/>
                  </a:lnTo>
                  <a:lnTo>
                    <a:pt x="80" y="27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69" y="61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49" y="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90800" y="524844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1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6" y="21"/>
                  </a:lnTo>
                  <a:lnTo>
                    <a:pt x="23" y="27"/>
                  </a:lnTo>
                  <a:lnTo>
                    <a:pt x="18" y="18"/>
                  </a:lnTo>
                  <a:lnTo>
                    <a:pt x="13" y="9"/>
                  </a:lnTo>
                  <a:lnTo>
                    <a:pt x="6" y="21"/>
                  </a:lnTo>
                  <a:lnTo>
                    <a:pt x="9" y="6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57400" y="5361120"/>
              <a:ext cx="27000" cy="72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6" y="0"/>
                  </a:moveTo>
                  <a:lnTo>
                    <a:pt x="5" y="19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0" y="28"/>
                  </a:lnTo>
                  <a:lnTo>
                    <a:pt x="16" y="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52480" y="4357800"/>
              <a:ext cx="88920" cy="73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0"/>
                  </a:moveTo>
                  <a:lnTo>
                    <a:pt x="20" y="19"/>
                  </a:lnTo>
                  <a:lnTo>
                    <a:pt x="20" y="28"/>
                  </a:lnTo>
                  <a:lnTo>
                    <a:pt x="28" y="33"/>
                  </a:lnTo>
                  <a:lnTo>
                    <a:pt x="28" y="42"/>
                  </a:lnTo>
                  <a:lnTo>
                    <a:pt x="37" y="45"/>
                  </a:lnTo>
                  <a:lnTo>
                    <a:pt x="46" y="45"/>
                  </a:lnTo>
                  <a:lnTo>
                    <a:pt x="49" y="36"/>
                  </a:lnTo>
                  <a:lnTo>
                    <a:pt x="55" y="28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26" y="16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8" name="" descr=""/>
            <p:cNvPicPr/>
            <p:nvPr/>
          </p:nvPicPr>
          <p:blipFill>
            <a:blip r:embed="rId1"/>
            <a:stretch/>
          </p:blipFill>
          <p:spPr>
            <a:xfrm>
              <a:off x="228600" y="6137280"/>
              <a:ext cx="611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993600" y="6272280"/>
              <a:ext cx="47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HO European Centre for Environment and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972040" y="743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0"/>
                  </a:moveTo>
                  <a:lnTo>
                    <a:pt x="8" y="8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5" y="37"/>
                  </a:lnTo>
                  <a:lnTo>
                    <a:pt x="11" y="46"/>
                  </a:lnTo>
                  <a:lnTo>
                    <a:pt x="19" y="49"/>
                  </a:lnTo>
                  <a:lnTo>
                    <a:pt x="31" y="52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7" y="55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31" y="14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997360" y="4836960"/>
              <a:ext cx="788760" cy="408240"/>
            </a:xfrm>
            <a:custGeom>
              <a:avLst/>
              <a:gdLst/>
              <a:ahLst/>
              <a:rect l="l" t="t" r="r" b="b"/>
              <a:pathLst>
                <a:path w="497" h="257">
                  <a:moveTo>
                    <a:pt x="0" y="193"/>
                  </a:moveTo>
                  <a:lnTo>
                    <a:pt x="24" y="189"/>
                  </a:lnTo>
                  <a:lnTo>
                    <a:pt x="32" y="182"/>
                  </a:lnTo>
                  <a:lnTo>
                    <a:pt x="40" y="174"/>
                  </a:lnTo>
                  <a:lnTo>
                    <a:pt x="46" y="164"/>
                  </a:lnTo>
                  <a:lnTo>
                    <a:pt x="45" y="155"/>
                  </a:lnTo>
                  <a:lnTo>
                    <a:pt x="52" y="149"/>
                  </a:lnTo>
                  <a:lnTo>
                    <a:pt x="60" y="140"/>
                  </a:lnTo>
                  <a:lnTo>
                    <a:pt x="66" y="131"/>
                  </a:lnTo>
                  <a:lnTo>
                    <a:pt x="69" y="123"/>
                  </a:lnTo>
                  <a:lnTo>
                    <a:pt x="74" y="114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7" y="95"/>
                  </a:lnTo>
                  <a:lnTo>
                    <a:pt x="104" y="88"/>
                  </a:lnTo>
                  <a:lnTo>
                    <a:pt x="109" y="78"/>
                  </a:lnTo>
                  <a:lnTo>
                    <a:pt x="116" y="70"/>
                  </a:lnTo>
                  <a:lnTo>
                    <a:pt x="118" y="60"/>
                  </a:lnTo>
                  <a:lnTo>
                    <a:pt x="128" y="53"/>
                  </a:lnTo>
                  <a:lnTo>
                    <a:pt x="131" y="44"/>
                  </a:lnTo>
                  <a:lnTo>
                    <a:pt x="137" y="37"/>
                  </a:lnTo>
                  <a:lnTo>
                    <a:pt x="144" y="30"/>
                  </a:lnTo>
                  <a:lnTo>
                    <a:pt x="153" y="22"/>
                  </a:lnTo>
                  <a:lnTo>
                    <a:pt x="159" y="15"/>
                  </a:lnTo>
                  <a:lnTo>
                    <a:pt x="168" y="10"/>
                  </a:lnTo>
                  <a:lnTo>
                    <a:pt x="175" y="6"/>
                  </a:lnTo>
                  <a:lnTo>
                    <a:pt x="187" y="6"/>
                  </a:lnTo>
                  <a:lnTo>
                    <a:pt x="193" y="0"/>
                  </a:lnTo>
                  <a:lnTo>
                    <a:pt x="202" y="7"/>
                  </a:lnTo>
                  <a:lnTo>
                    <a:pt x="215" y="15"/>
                  </a:lnTo>
                  <a:lnTo>
                    <a:pt x="207" y="14"/>
                  </a:lnTo>
                  <a:lnTo>
                    <a:pt x="205" y="22"/>
                  </a:lnTo>
                  <a:lnTo>
                    <a:pt x="205" y="31"/>
                  </a:lnTo>
                  <a:lnTo>
                    <a:pt x="215" y="34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40" y="33"/>
                  </a:lnTo>
                  <a:lnTo>
                    <a:pt x="243" y="40"/>
                  </a:lnTo>
                  <a:lnTo>
                    <a:pt x="236" y="45"/>
                  </a:lnTo>
                  <a:lnTo>
                    <a:pt x="228" y="49"/>
                  </a:lnTo>
                  <a:lnTo>
                    <a:pt x="220" y="55"/>
                  </a:lnTo>
                  <a:lnTo>
                    <a:pt x="213" y="62"/>
                  </a:lnTo>
                  <a:lnTo>
                    <a:pt x="222" y="64"/>
                  </a:lnTo>
                  <a:lnTo>
                    <a:pt x="226" y="71"/>
                  </a:lnTo>
                  <a:lnTo>
                    <a:pt x="229" y="78"/>
                  </a:lnTo>
                  <a:lnTo>
                    <a:pt x="232" y="84"/>
                  </a:lnTo>
                  <a:lnTo>
                    <a:pt x="232" y="94"/>
                  </a:lnTo>
                  <a:lnTo>
                    <a:pt x="230" y="103"/>
                  </a:lnTo>
                  <a:lnTo>
                    <a:pt x="239" y="163"/>
                  </a:lnTo>
                  <a:lnTo>
                    <a:pt x="190" y="125"/>
                  </a:lnTo>
                  <a:lnTo>
                    <a:pt x="236" y="116"/>
                  </a:lnTo>
                  <a:lnTo>
                    <a:pt x="246" y="110"/>
                  </a:lnTo>
                  <a:lnTo>
                    <a:pt x="251" y="105"/>
                  </a:lnTo>
                  <a:lnTo>
                    <a:pt x="259" y="94"/>
                  </a:lnTo>
                  <a:lnTo>
                    <a:pt x="270" y="93"/>
                  </a:lnTo>
                  <a:lnTo>
                    <a:pt x="277" y="90"/>
                  </a:lnTo>
                  <a:lnTo>
                    <a:pt x="288" y="86"/>
                  </a:lnTo>
                  <a:lnTo>
                    <a:pt x="295" y="83"/>
                  </a:lnTo>
                  <a:lnTo>
                    <a:pt x="303" y="74"/>
                  </a:lnTo>
                  <a:lnTo>
                    <a:pt x="313" y="75"/>
                  </a:lnTo>
                  <a:lnTo>
                    <a:pt x="320" y="80"/>
                  </a:lnTo>
                  <a:lnTo>
                    <a:pt x="329" y="76"/>
                  </a:lnTo>
                  <a:lnTo>
                    <a:pt x="338" y="74"/>
                  </a:lnTo>
                  <a:lnTo>
                    <a:pt x="345" y="78"/>
                  </a:lnTo>
                  <a:lnTo>
                    <a:pt x="351" y="86"/>
                  </a:lnTo>
                  <a:lnTo>
                    <a:pt x="357" y="92"/>
                  </a:lnTo>
                  <a:lnTo>
                    <a:pt x="365" y="90"/>
                  </a:lnTo>
                  <a:lnTo>
                    <a:pt x="379" y="94"/>
                  </a:lnTo>
                  <a:lnTo>
                    <a:pt x="385" y="99"/>
                  </a:lnTo>
                  <a:lnTo>
                    <a:pt x="394" y="102"/>
                  </a:lnTo>
                  <a:lnTo>
                    <a:pt x="403" y="107"/>
                  </a:lnTo>
                  <a:lnTo>
                    <a:pt x="405" y="115"/>
                  </a:lnTo>
                  <a:lnTo>
                    <a:pt x="413" y="121"/>
                  </a:lnTo>
                  <a:lnTo>
                    <a:pt x="423" y="125"/>
                  </a:lnTo>
                  <a:lnTo>
                    <a:pt x="431" y="128"/>
                  </a:lnTo>
                  <a:lnTo>
                    <a:pt x="440" y="132"/>
                  </a:lnTo>
                  <a:lnTo>
                    <a:pt x="455" y="137"/>
                  </a:lnTo>
                  <a:lnTo>
                    <a:pt x="468" y="141"/>
                  </a:lnTo>
                  <a:lnTo>
                    <a:pt x="473" y="148"/>
                  </a:lnTo>
                  <a:lnTo>
                    <a:pt x="480" y="154"/>
                  </a:lnTo>
                  <a:lnTo>
                    <a:pt x="485" y="161"/>
                  </a:lnTo>
                  <a:lnTo>
                    <a:pt x="488" y="172"/>
                  </a:lnTo>
                  <a:lnTo>
                    <a:pt x="492" y="178"/>
                  </a:lnTo>
                  <a:lnTo>
                    <a:pt x="493" y="187"/>
                  </a:lnTo>
                  <a:lnTo>
                    <a:pt x="494" y="195"/>
                  </a:lnTo>
                  <a:lnTo>
                    <a:pt x="496" y="201"/>
                  </a:lnTo>
                  <a:lnTo>
                    <a:pt x="491" y="213"/>
                  </a:lnTo>
                  <a:lnTo>
                    <a:pt x="480" y="217"/>
                  </a:lnTo>
                  <a:lnTo>
                    <a:pt x="474" y="222"/>
                  </a:lnTo>
                  <a:lnTo>
                    <a:pt x="466" y="228"/>
                  </a:lnTo>
                  <a:lnTo>
                    <a:pt x="458" y="234"/>
                  </a:lnTo>
                  <a:lnTo>
                    <a:pt x="448" y="238"/>
                  </a:lnTo>
                  <a:lnTo>
                    <a:pt x="439" y="240"/>
                  </a:lnTo>
                  <a:lnTo>
                    <a:pt x="430" y="244"/>
                  </a:lnTo>
                  <a:lnTo>
                    <a:pt x="422" y="248"/>
                  </a:lnTo>
                  <a:lnTo>
                    <a:pt x="414" y="240"/>
                  </a:lnTo>
                  <a:lnTo>
                    <a:pt x="405" y="242"/>
                  </a:lnTo>
                  <a:lnTo>
                    <a:pt x="395" y="241"/>
                  </a:lnTo>
                  <a:lnTo>
                    <a:pt x="387" y="244"/>
                  </a:lnTo>
                  <a:lnTo>
                    <a:pt x="380" y="248"/>
                  </a:lnTo>
                  <a:lnTo>
                    <a:pt x="372" y="250"/>
                  </a:lnTo>
                  <a:lnTo>
                    <a:pt x="363" y="252"/>
                  </a:lnTo>
                  <a:lnTo>
                    <a:pt x="357" y="256"/>
                  </a:lnTo>
                  <a:lnTo>
                    <a:pt x="350" y="247"/>
                  </a:lnTo>
                  <a:lnTo>
                    <a:pt x="349" y="240"/>
                  </a:lnTo>
                  <a:lnTo>
                    <a:pt x="340" y="243"/>
                  </a:lnTo>
                  <a:lnTo>
                    <a:pt x="333" y="246"/>
                  </a:lnTo>
                  <a:lnTo>
                    <a:pt x="324" y="248"/>
                  </a:lnTo>
                  <a:lnTo>
                    <a:pt x="315" y="247"/>
                  </a:lnTo>
                  <a:lnTo>
                    <a:pt x="315" y="240"/>
                  </a:lnTo>
                  <a:lnTo>
                    <a:pt x="313" y="233"/>
                  </a:lnTo>
                  <a:lnTo>
                    <a:pt x="310" y="225"/>
                  </a:lnTo>
                  <a:lnTo>
                    <a:pt x="297" y="227"/>
                  </a:lnTo>
                  <a:lnTo>
                    <a:pt x="288" y="227"/>
                  </a:lnTo>
                  <a:lnTo>
                    <a:pt x="281" y="221"/>
                  </a:lnTo>
                  <a:lnTo>
                    <a:pt x="277" y="215"/>
                  </a:lnTo>
                  <a:lnTo>
                    <a:pt x="267" y="213"/>
                  </a:lnTo>
                  <a:lnTo>
                    <a:pt x="226" y="177"/>
                  </a:lnTo>
                  <a:lnTo>
                    <a:pt x="245" y="217"/>
                  </a:lnTo>
                  <a:lnTo>
                    <a:pt x="236" y="217"/>
                  </a:lnTo>
                  <a:lnTo>
                    <a:pt x="227" y="213"/>
                  </a:lnTo>
                  <a:lnTo>
                    <a:pt x="219" y="211"/>
                  </a:lnTo>
                  <a:lnTo>
                    <a:pt x="209" y="209"/>
                  </a:lnTo>
                  <a:lnTo>
                    <a:pt x="200" y="210"/>
                  </a:lnTo>
                  <a:lnTo>
                    <a:pt x="191" y="215"/>
                  </a:lnTo>
                  <a:lnTo>
                    <a:pt x="184" y="218"/>
                  </a:lnTo>
                  <a:lnTo>
                    <a:pt x="176" y="219"/>
                  </a:lnTo>
                  <a:lnTo>
                    <a:pt x="166" y="223"/>
                  </a:lnTo>
                  <a:lnTo>
                    <a:pt x="158" y="230"/>
                  </a:lnTo>
                  <a:lnTo>
                    <a:pt x="150" y="234"/>
                  </a:lnTo>
                  <a:lnTo>
                    <a:pt x="139" y="242"/>
                  </a:lnTo>
                  <a:lnTo>
                    <a:pt x="133" y="247"/>
                  </a:lnTo>
                  <a:lnTo>
                    <a:pt x="122" y="248"/>
                  </a:lnTo>
                  <a:lnTo>
                    <a:pt x="111" y="253"/>
                  </a:lnTo>
                  <a:lnTo>
                    <a:pt x="102" y="252"/>
                  </a:lnTo>
                  <a:lnTo>
                    <a:pt x="91" y="247"/>
                  </a:lnTo>
                  <a:lnTo>
                    <a:pt x="82" y="245"/>
                  </a:lnTo>
                  <a:lnTo>
                    <a:pt x="74" y="244"/>
                  </a:lnTo>
                  <a:lnTo>
                    <a:pt x="63" y="244"/>
                  </a:lnTo>
                  <a:lnTo>
                    <a:pt x="49" y="244"/>
                  </a:lnTo>
                  <a:lnTo>
                    <a:pt x="43" y="238"/>
                  </a:lnTo>
                  <a:lnTo>
                    <a:pt x="36" y="232"/>
                  </a:lnTo>
                  <a:lnTo>
                    <a:pt x="36" y="221"/>
                  </a:lnTo>
                  <a:lnTo>
                    <a:pt x="32" y="217"/>
                  </a:lnTo>
                  <a:lnTo>
                    <a:pt x="26" y="209"/>
                  </a:lnTo>
                  <a:lnTo>
                    <a:pt x="22" y="204"/>
                  </a:lnTo>
                  <a:lnTo>
                    <a:pt x="18" y="197"/>
                  </a:lnTo>
                  <a:lnTo>
                    <a:pt x="0" y="193"/>
                  </a:lnTo>
                  <a:lnTo>
                    <a:pt x="14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762120" y="3087720"/>
            <a:ext cx="790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07080" y="990720"/>
            <a:ext cx="28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LUSION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22860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M is associated with a wide range of health effec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th significant public health consequences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3520" y="3429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gnificant role of fine P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3520" y="4191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le of ultrafine particles – to be stud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d8a"/>
            </a:gs>
            <a:gs pos="50000">
              <a:srgbClr val="0f219b"/>
            </a:gs>
            <a:gs pos="100000">
              <a:srgbClr val="0d1d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228600" y="557280"/>
            <a:ext cx="8120160" cy="6118200"/>
            <a:chOff x="228600" y="557280"/>
            <a:chExt cx="8120160" cy="6118200"/>
          </a:xfrm>
        </p:grpSpPr>
        <p:sp>
          <p:nvSpPr>
            <p:cNvPr id="620" name=""/>
            <p:cNvSpPr/>
            <p:nvPr/>
          </p:nvSpPr>
          <p:spPr>
            <a:xfrm>
              <a:off x="2662200" y="20638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2" y="77"/>
                  </a:moveTo>
                  <a:lnTo>
                    <a:pt x="2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2" y="125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5" y="174"/>
                  </a:lnTo>
                  <a:lnTo>
                    <a:pt x="31" y="182"/>
                  </a:lnTo>
                  <a:lnTo>
                    <a:pt x="40" y="182"/>
                  </a:lnTo>
                  <a:lnTo>
                    <a:pt x="48" y="182"/>
                  </a:lnTo>
                  <a:lnTo>
                    <a:pt x="60" y="191"/>
                  </a:lnTo>
                  <a:lnTo>
                    <a:pt x="71" y="196"/>
                  </a:lnTo>
                  <a:lnTo>
                    <a:pt x="71" y="205"/>
                  </a:lnTo>
                  <a:lnTo>
                    <a:pt x="74" y="214"/>
                  </a:lnTo>
                  <a:lnTo>
                    <a:pt x="83" y="214"/>
                  </a:lnTo>
                  <a:lnTo>
                    <a:pt x="91" y="214"/>
                  </a:lnTo>
                  <a:lnTo>
                    <a:pt x="100" y="214"/>
                  </a:lnTo>
                  <a:lnTo>
                    <a:pt x="109" y="214"/>
                  </a:lnTo>
                  <a:lnTo>
                    <a:pt x="117" y="214"/>
                  </a:lnTo>
                  <a:lnTo>
                    <a:pt x="126" y="214"/>
                  </a:lnTo>
                  <a:lnTo>
                    <a:pt x="137" y="208"/>
                  </a:lnTo>
                  <a:lnTo>
                    <a:pt x="149" y="202"/>
                  </a:lnTo>
                  <a:lnTo>
                    <a:pt x="149" y="194"/>
                  </a:lnTo>
                  <a:lnTo>
                    <a:pt x="146" y="185"/>
                  </a:lnTo>
                  <a:lnTo>
                    <a:pt x="146" y="176"/>
                  </a:lnTo>
                  <a:lnTo>
                    <a:pt x="155" y="168"/>
                  </a:lnTo>
                  <a:lnTo>
                    <a:pt x="158" y="159"/>
                  </a:lnTo>
                  <a:lnTo>
                    <a:pt x="158" y="151"/>
                  </a:lnTo>
                  <a:lnTo>
                    <a:pt x="155" y="142"/>
                  </a:lnTo>
                  <a:lnTo>
                    <a:pt x="155" y="134"/>
                  </a:lnTo>
                  <a:lnTo>
                    <a:pt x="146" y="134"/>
                  </a:lnTo>
                  <a:lnTo>
                    <a:pt x="137" y="134"/>
                  </a:lnTo>
                  <a:lnTo>
                    <a:pt x="135" y="125"/>
                  </a:lnTo>
                  <a:lnTo>
                    <a:pt x="129" y="116"/>
                  </a:lnTo>
                  <a:lnTo>
                    <a:pt x="120" y="114"/>
                  </a:lnTo>
                  <a:lnTo>
                    <a:pt x="114" y="105"/>
                  </a:lnTo>
                  <a:lnTo>
                    <a:pt x="114" y="97"/>
                  </a:lnTo>
                  <a:lnTo>
                    <a:pt x="106" y="94"/>
                  </a:lnTo>
                  <a:lnTo>
                    <a:pt x="97" y="94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89" y="71"/>
                  </a:lnTo>
                  <a:lnTo>
                    <a:pt x="80" y="68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83" y="45"/>
                  </a:lnTo>
                  <a:lnTo>
                    <a:pt x="94" y="45"/>
                  </a:lnTo>
                  <a:lnTo>
                    <a:pt x="103" y="39"/>
                  </a:lnTo>
                  <a:lnTo>
                    <a:pt x="106" y="31"/>
                  </a:lnTo>
                  <a:lnTo>
                    <a:pt x="103" y="22"/>
                  </a:lnTo>
                  <a:lnTo>
                    <a:pt x="94" y="22"/>
                  </a:lnTo>
                  <a:lnTo>
                    <a:pt x="86" y="14"/>
                  </a:lnTo>
                  <a:lnTo>
                    <a:pt x="77" y="11"/>
                  </a:lnTo>
                  <a:lnTo>
                    <a:pt x="68" y="11"/>
                  </a:lnTo>
                  <a:lnTo>
                    <a:pt x="54" y="0"/>
                  </a:lnTo>
                  <a:lnTo>
                    <a:pt x="51" y="8"/>
                  </a:lnTo>
                  <a:lnTo>
                    <a:pt x="60" y="14"/>
                  </a:lnTo>
                  <a:lnTo>
                    <a:pt x="63" y="22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7" y="45"/>
                  </a:lnTo>
                  <a:lnTo>
                    <a:pt x="45" y="45"/>
                  </a:lnTo>
                  <a:lnTo>
                    <a:pt x="40" y="37"/>
                  </a:lnTo>
                  <a:lnTo>
                    <a:pt x="34" y="28"/>
                  </a:lnTo>
                  <a:lnTo>
                    <a:pt x="31" y="37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5" y="62"/>
                  </a:lnTo>
                  <a:lnTo>
                    <a:pt x="17" y="68"/>
                  </a:lnTo>
                  <a:lnTo>
                    <a:pt x="2" y="77"/>
                  </a:lnTo>
                  <a:lnTo>
                    <a:pt x="2" y="7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085760" y="557280"/>
              <a:ext cx="6975720" cy="5226120"/>
            </a:xfrm>
            <a:custGeom>
              <a:avLst/>
              <a:gdLst/>
              <a:ahLst/>
              <a:rect l="l" t="t" r="r" b="b"/>
              <a:pathLst>
                <a:path w="4394" h="3292">
                  <a:moveTo>
                    <a:pt x="4183" y="665"/>
                  </a:moveTo>
                  <a:lnTo>
                    <a:pt x="4174" y="685"/>
                  </a:lnTo>
                  <a:lnTo>
                    <a:pt x="4165" y="680"/>
                  </a:lnTo>
                  <a:lnTo>
                    <a:pt x="4154" y="671"/>
                  </a:lnTo>
                  <a:lnTo>
                    <a:pt x="4145" y="665"/>
                  </a:lnTo>
                  <a:lnTo>
                    <a:pt x="4136" y="657"/>
                  </a:lnTo>
                  <a:lnTo>
                    <a:pt x="4128" y="648"/>
                  </a:lnTo>
                  <a:lnTo>
                    <a:pt x="4122" y="639"/>
                  </a:lnTo>
                  <a:lnTo>
                    <a:pt x="4110" y="631"/>
                  </a:lnTo>
                  <a:lnTo>
                    <a:pt x="4104" y="622"/>
                  </a:lnTo>
                  <a:lnTo>
                    <a:pt x="4098" y="613"/>
                  </a:lnTo>
                  <a:lnTo>
                    <a:pt x="4093" y="605"/>
                  </a:lnTo>
                  <a:lnTo>
                    <a:pt x="4084" y="596"/>
                  </a:lnTo>
                  <a:lnTo>
                    <a:pt x="4075" y="593"/>
                  </a:lnTo>
                  <a:lnTo>
                    <a:pt x="4066" y="590"/>
                  </a:lnTo>
                  <a:lnTo>
                    <a:pt x="4058" y="587"/>
                  </a:lnTo>
                  <a:lnTo>
                    <a:pt x="4049" y="585"/>
                  </a:lnTo>
                  <a:lnTo>
                    <a:pt x="4037" y="585"/>
                  </a:lnTo>
                  <a:lnTo>
                    <a:pt x="4029" y="582"/>
                  </a:lnTo>
                  <a:lnTo>
                    <a:pt x="4023" y="573"/>
                  </a:lnTo>
                  <a:lnTo>
                    <a:pt x="4020" y="564"/>
                  </a:lnTo>
                  <a:lnTo>
                    <a:pt x="4011" y="556"/>
                  </a:lnTo>
                  <a:lnTo>
                    <a:pt x="4002" y="550"/>
                  </a:lnTo>
                  <a:lnTo>
                    <a:pt x="4002" y="541"/>
                  </a:lnTo>
                  <a:lnTo>
                    <a:pt x="3994" y="538"/>
                  </a:lnTo>
                  <a:lnTo>
                    <a:pt x="3982" y="538"/>
                  </a:lnTo>
                  <a:lnTo>
                    <a:pt x="3973" y="538"/>
                  </a:lnTo>
                  <a:lnTo>
                    <a:pt x="3965" y="538"/>
                  </a:lnTo>
                  <a:lnTo>
                    <a:pt x="3953" y="538"/>
                  </a:lnTo>
                  <a:lnTo>
                    <a:pt x="3947" y="530"/>
                  </a:lnTo>
                  <a:lnTo>
                    <a:pt x="3947" y="521"/>
                  </a:lnTo>
                  <a:lnTo>
                    <a:pt x="3938" y="512"/>
                  </a:lnTo>
                  <a:lnTo>
                    <a:pt x="3930" y="504"/>
                  </a:lnTo>
                  <a:lnTo>
                    <a:pt x="3930" y="495"/>
                  </a:lnTo>
                  <a:lnTo>
                    <a:pt x="3927" y="484"/>
                  </a:lnTo>
                  <a:lnTo>
                    <a:pt x="3918" y="481"/>
                  </a:lnTo>
                  <a:lnTo>
                    <a:pt x="3909" y="481"/>
                  </a:lnTo>
                  <a:lnTo>
                    <a:pt x="3901" y="481"/>
                  </a:lnTo>
                  <a:lnTo>
                    <a:pt x="3892" y="481"/>
                  </a:lnTo>
                  <a:lnTo>
                    <a:pt x="3883" y="481"/>
                  </a:lnTo>
                  <a:lnTo>
                    <a:pt x="3871" y="481"/>
                  </a:lnTo>
                  <a:lnTo>
                    <a:pt x="3863" y="481"/>
                  </a:lnTo>
                  <a:lnTo>
                    <a:pt x="3851" y="478"/>
                  </a:lnTo>
                  <a:lnTo>
                    <a:pt x="3842" y="472"/>
                  </a:lnTo>
                  <a:lnTo>
                    <a:pt x="3842" y="463"/>
                  </a:lnTo>
                  <a:lnTo>
                    <a:pt x="3842" y="455"/>
                  </a:lnTo>
                  <a:lnTo>
                    <a:pt x="3834" y="446"/>
                  </a:lnTo>
                  <a:lnTo>
                    <a:pt x="3825" y="446"/>
                  </a:lnTo>
                  <a:lnTo>
                    <a:pt x="3819" y="455"/>
                  </a:lnTo>
                  <a:lnTo>
                    <a:pt x="3810" y="458"/>
                  </a:lnTo>
                  <a:lnTo>
                    <a:pt x="3802" y="461"/>
                  </a:lnTo>
                  <a:lnTo>
                    <a:pt x="3793" y="461"/>
                  </a:lnTo>
                  <a:lnTo>
                    <a:pt x="3784" y="461"/>
                  </a:lnTo>
                  <a:lnTo>
                    <a:pt x="3775" y="461"/>
                  </a:lnTo>
                  <a:lnTo>
                    <a:pt x="3764" y="455"/>
                  </a:lnTo>
                  <a:lnTo>
                    <a:pt x="3755" y="452"/>
                  </a:lnTo>
                  <a:lnTo>
                    <a:pt x="3752" y="461"/>
                  </a:lnTo>
                  <a:lnTo>
                    <a:pt x="3755" y="469"/>
                  </a:lnTo>
                  <a:lnTo>
                    <a:pt x="3764" y="472"/>
                  </a:lnTo>
                  <a:lnTo>
                    <a:pt x="3755" y="475"/>
                  </a:lnTo>
                  <a:lnTo>
                    <a:pt x="3746" y="475"/>
                  </a:lnTo>
                  <a:lnTo>
                    <a:pt x="3737" y="478"/>
                  </a:lnTo>
                  <a:lnTo>
                    <a:pt x="3729" y="478"/>
                  </a:lnTo>
                  <a:lnTo>
                    <a:pt x="3720" y="478"/>
                  </a:lnTo>
                  <a:lnTo>
                    <a:pt x="3711" y="472"/>
                  </a:lnTo>
                  <a:lnTo>
                    <a:pt x="3703" y="463"/>
                  </a:lnTo>
                  <a:lnTo>
                    <a:pt x="3694" y="455"/>
                  </a:lnTo>
                  <a:lnTo>
                    <a:pt x="3685" y="452"/>
                  </a:lnTo>
                  <a:lnTo>
                    <a:pt x="3676" y="452"/>
                  </a:lnTo>
                  <a:lnTo>
                    <a:pt x="3668" y="449"/>
                  </a:lnTo>
                  <a:lnTo>
                    <a:pt x="3656" y="449"/>
                  </a:lnTo>
                  <a:lnTo>
                    <a:pt x="3647" y="449"/>
                  </a:lnTo>
                  <a:lnTo>
                    <a:pt x="3638" y="449"/>
                  </a:lnTo>
                  <a:lnTo>
                    <a:pt x="3636" y="440"/>
                  </a:lnTo>
                  <a:lnTo>
                    <a:pt x="3636" y="432"/>
                  </a:lnTo>
                  <a:lnTo>
                    <a:pt x="3630" y="423"/>
                  </a:lnTo>
                  <a:lnTo>
                    <a:pt x="3638" y="423"/>
                  </a:lnTo>
                  <a:lnTo>
                    <a:pt x="3636" y="414"/>
                  </a:lnTo>
                  <a:lnTo>
                    <a:pt x="3627" y="412"/>
                  </a:lnTo>
                  <a:lnTo>
                    <a:pt x="3618" y="409"/>
                  </a:lnTo>
                  <a:lnTo>
                    <a:pt x="3615" y="400"/>
                  </a:lnTo>
                  <a:lnTo>
                    <a:pt x="3609" y="391"/>
                  </a:lnTo>
                  <a:lnTo>
                    <a:pt x="3618" y="391"/>
                  </a:lnTo>
                  <a:lnTo>
                    <a:pt x="3627" y="391"/>
                  </a:lnTo>
                  <a:lnTo>
                    <a:pt x="3633" y="383"/>
                  </a:lnTo>
                  <a:lnTo>
                    <a:pt x="3624" y="377"/>
                  </a:lnTo>
                  <a:lnTo>
                    <a:pt x="3615" y="374"/>
                  </a:lnTo>
                  <a:lnTo>
                    <a:pt x="3606" y="363"/>
                  </a:lnTo>
                  <a:lnTo>
                    <a:pt x="3604" y="354"/>
                  </a:lnTo>
                  <a:lnTo>
                    <a:pt x="3598" y="345"/>
                  </a:lnTo>
                  <a:lnTo>
                    <a:pt x="3592" y="337"/>
                  </a:lnTo>
                  <a:lnTo>
                    <a:pt x="3583" y="322"/>
                  </a:lnTo>
                  <a:lnTo>
                    <a:pt x="3577" y="314"/>
                  </a:lnTo>
                  <a:lnTo>
                    <a:pt x="3586" y="305"/>
                  </a:lnTo>
                  <a:lnTo>
                    <a:pt x="3592" y="296"/>
                  </a:lnTo>
                  <a:lnTo>
                    <a:pt x="3595" y="288"/>
                  </a:lnTo>
                  <a:lnTo>
                    <a:pt x="3595" y="279"/>
                  </a:lnTo>
                  <a:lnTo>
                    <a:pt x="3586" y="276"/>
                  </a:lnTo>
                  <a:lnTo>
                    <a:pt x="3577" y="276"/>
                  </a:lnTo>
                  <a:lnTo>
                    <a:pt x="3569" y="276"/>
                  </a:lnTo>
                  <a:lnTo>
                    <a:pt x="3557" y="270"/>
                  </a:lnTo>
                  <a:lnTo>
                    <a:pt x="3548" y="259"/>
                  </a:lnTo>
                  <a:lnTo>
                    <a:pt x="3540" y="253"/>
                  </a:lnTo>
                  <a:lnTo>
                    <a:pt x="3531" y="250"/>
                  </a:lnTo>
                  <a:lnTo>
                    <a:pt x="3522" y="244"/>
                  </a:lnTo>
                  <a:lnTo>
                    <a:pt x="3510" y="236"/>
                  </a:lnTo>
                  <a:lnTo>
                    <a:pt x="3502" y="233"/>
                  </a:lnTo>
                  <a:lnTo>
                    <a:pt x="3493" y="227"/>
                  </a:lnTo>
                  <a:lnTo>
                    <a:pt x="3484" y="224"/>
                  </a:lnTo>
                  <a:lnTo>
                    <a:pt x="3475" y="219"/>
                  </a:lnTo>
                  <a:lnTo>
                    <a:pt x="3467" y="213"/>
                  </a:lnTo>
                  <a:lnTo>
                    <a:pt x="3458" y="207"/>
                  </a:lnTo>
                  <a:lnTo>
                    <a:pt x="3449" y="198"/>
                  </a:lnTo>
                  <a:lnTo>
                    <a:pt x="3441" y="193"/>
                  </a:lnTo>
                  <a:lnTo>
                    <a:pt x="3432" y="187"/>
                  </a:lnTo>
                  <a:lnTo>
                    <a:pt x="3423" y="184"/>
                  </a:lnTo>
                  <a:lnTo>
                    <a:pt x="3414" y="178"/>
                  </a:lnTo>
                  <a:lnTo>
                    <a:pt x="3406" y="172"/>
                  </a:lnTo>
                  <a:lnTo>
                    <a:pt x="3400" y="164"/>
                  </a:lnTo>
                  <a:lnTo>
                    <a:pt x="3397" y="155"/>
                  </a:lnTo>
                  <a:lnTo>
                    <a:pt x="3394" y="146"/>
                  </a:lnTo>
                  <a:lnTo>
                    <a:pt x="3388" y="138"/>
                  </a:lnTo>
                  <a:lnTo>
                    <a:pt x="3382" y="129"/>
                  </a:lnTo>
                  <a:lnTo>
                    <a:pt x="3388" y="121"/>
                  </a:lnTo>
                  <a:lnTo>
                    <a:pt x="3379" y="121"/>
                  </a:lnTo>
                  <a:lnTo>
                    <a:pt x="3371" y="121"/>
                  </a:lnTo>
                  <a:lnTo>
                    <a:pt x="3362" y="121"/>
                  </a:lnTo>
                  <a:lnTo>
                    <a:pt x="3359" y="129"/>
                  </a:lnTo>
                  <a:lnTo>
                    <a:pt x="3353" y="138"/>
                  </a:lnTo>
                  <a:lnTo>
                    <a:pt x="3347" y="146"/>
                  </a:lnTo>
                  <a:lnTo>
                    <a:pt x="3339" y="152"/>
                  </a:lnTo>
                  <a:lnTo>
                    <a:pt x="3327" y="158"/>
                  </a:lnTo>
                  <a:lnTo>
                    <a:pt x="3318" y="158"/>
                  </a:lnTo>
                  <a:lnTo>
                    <a:pt x="3310" y="167"/>
                  </a:lnTo>
                  <a:lnTo>
                    <a:pt x="3307" y="175"/>
                  </a:lnTo>
                  <a:lnTo>
                    <a:pt x="3307" y="184"/>
                  </a:lnTo>
                  <a:lnTo>
                    <a:pt x="3304" y="193"/>
                  </a:lnTo>
                  <a:lnTo>
                    <a:pt x="3295" y="195"/>
                  </a:lnTo>
                  <a:lnTo>
                    <a:pt x="3295" y="204"/>
                  </a:lnTo>
                  <a:lnTo>
                    <a:pt x="3298" y="213"/>
                  </a:lnTo>
                  <a:lnTo>
                    <a:pt x="3304" y="221"/>
                  </a:lnTo>
                  <a:lnTo>
                    <a:pt x="3310" y="230"/>
                  </a:lnTo>
                  <a:lnTo>
                    <a:pt x="3315" y="239"/>
                  </a:lnTo>
                  <a:lnTo>
                    <a:pt x="3318" y="250"/>
                  </a:lnTo>
                  <a:lnTo>
                    <a:pt x="3321" y="259"/>
                  </a:lnTo>
                  <a:lnTo>
                    <a:pt x="3321" y="247"/>
                  </a:lnTo>
                  <a:lnTo>
                    <a:pt x="3318" y="239"/>
                  </a:lnTo>
                  <a:lnTo>
                    <a:pt x="3315" y="230"/>
                  </a:lnTo>
                  <a:lnTo>
                    <a:pt x="3307" y="224"/>
                  </a:lnTo>
                  <a:lnTo>
                    <a:pt x="3298" y="216"/>
                  </a:lnTo>
                  <a:lnTo>
                    <a:pt x="3292" y="207"/>
                  </a:lnTo>
                  <a:lnTo>
                    <a:pt x="3292" y="198"/>
                  </a:lnTo>
                  <a:lnTo>
                    <a:pt x="3295" y="190"/>
                  </a:lnTo>
                  <a:lnTo>
                    <a:pt x="3292" y="181"/>
                  </a:lnTo>
                  <a:lnTo>
                    <a:pt x="3283" y="172"/>
                  </a:lnTo>
                  <a:lnTo>
                    <a:pt x="3275" y="170"/>
                  </a:lnTo>
                  <a:lnTo>
                    <a:pt x="3266" y="164"/>
                  </a:lnTo>
                  <a:lnTo>
                    <a:pt x="3257" y="161"/>
                  </a:lnTo>
                  <a:lnTo>
                    <a:pt x="3245" y="155"/>
                  </a:lnTo>
                  <a:lnTo>
                    <a:pt x="3237" y="155"/>
                  </a:lnTo>
                  <a:lnTo>
                    <a:pt x="3228" y="155"/>
                  </a:lnTo>
                  <a:lnTo>
                    <a:pt x="3219" y="155"/>
                  </a:lnTo>
                  <a:lnTo>
                    <a:pt x="3213" y="164"/>
                  </a:lnTo>
                  <a:lnTo>
                    <a:pt x="3208" y="172"/>
                  </a:lnTo>
                  <a:lnTo>
                    <a:pt x="3196" y="175"/>
                  </a:lnTo>
                  <a:lnTo>
                    <a:pt x="3184" y="175"/>
                  </a:lnTo>
                  <a:lnTo>
                    <a:pt x="3173" y="175"/>
                  </a:lnTo>
                  <a:lnTo>
                    <a:pt x="3167" y="167"/>
                  </a:lnTo>
                  <a:lnTo>
                    <a:pt x="3179" y="161"/>
                  </a:lnTo>
                  <a:lnTo>
                    <a:pt x="3187" y="161"/>
                  </a:lnTo>
                  <a:lnTo>
                    <a:pt x="3196" y="161"/>
                  </a:lnTo>
                  <a:lnTo>
                    <a:pt x="3205" y="155"/>
                  </a:lnTo>
                  <a:lnTo>
                    <a:pt x="3208" y="146"/>
                  </a:lnTo>
                  <a:lnTo>
                    <a:pt x="3208" y="138"/>
                  </a:lnTo>
                  <a:lnTo>
                    <a:pt x="3205" y="129"/>
                  </a:lnTo>
                  <a:lnTo>
                    <a:pt x="3199" y="121"/>
                  </a:lnTo>
                  <a:lnTo>
                    <a:pt x="3190" y="112"/>
                  </a:lnTo>
                  <a:lnTo>
                    <a:pt x="3184" y="103"/>
                  </a:lnTo>
                  <a:lnTo>
                    <a:pt x="3193" y="97"/>
                  </a:lnTo>
                  <a:lnTo>
                    <a:pt x="3202" y="92"/>
                  </a:lnTo>
                  <a:lnTo>
                    <a:pt x="3205" y="83"/>
                  </a:lnTo>
                  <a:lnTo>
                    <a:pt x="3208" y="74"/>
                  </a:lnTo>
                  <a:lnTo>
                    <a:pt x="3208" y="66"/>
                  </a:lnTo>
                  <a:lnTo>
                    <a:pt x="3202" y="57"/>
                  </a:lnTo>
                  <a:lnTo>
                    <a:pt x="3199" y="48"/>
                  </a:lnTo>
                  <a:lnTo>
                    <a:pt x="3199" y="40"/>
                  </a:lnTo>
                  <a:lnTo>
                    <a:pt x="3199" y="31"/>
                  </a:lnTo>
                  <a:lnTo>
                    <a:pt x="3196" y="23"/>
                  </a:lnTo>
                  <a:lnTo>
                    <a:pt x="3190" y="14"/>
                  </a:lnTo>
                  <a:lnTo>
                    <a:pt x="3184" y="5"/>
                  </a:lnTo>
                  <a:lnTo>
                    <a:pt x="3176" y="0"/>
                  </a:lnTo>
                  <a:lnTo>
                    <a:pt x="3167" y="2"/>
                  </a:lnTo>
                  <a:lnTo>
                    <a:pt x="3158" y="8"/>
                  </a:lnTo>
                  <a:lnTo>
                    <a:pt x="3149" y="14"/>
                  </a:lnTo>
                  <a:lnTo>
                    <a:pt x="3141" y="17"/>
                  </a:lnTo>
                  <a:lnTo>
                    <a:pt x="3132" y="23"/>
                  </a:lnTo>
                  <a:lnTo>
                    <a:pt x="3132" y="31"/>
                  </a:lnTo>
                  <a:lnTo>
                    <a:pt x="3123" y="25"/>
                  </a:lnTo>
                  <a:lnTo>
                    <a:pt x="3114" y="17"/>
                  </a:lnTo>
                  <a:lnTo>
                    <a:pt x="3106" y="14"/>
                  </a:lnTo>
                  <a:lnTo>
                    <a:pt x="3097" y="14"/>
                  </a:lnTo>
                  <a:lnTo>
                    <a:pt x="3088" y="14"/>
                  </a:lnTo>
                  <a:lnTo>
                    <a:pt x="3080" y="14"/>
                  </a:lnTo>
                  <a:lnTo>
                    <a:pt x="3071" y="14"/>
                  </a:lnTo>
                  <a:lnTo>
                    <a:pt x="3071" y="23"/>
                  </a:lnTo>
                  <a:lnTo>
                    <a:pt x="3071" y="31"/>
                  </a:lnTo>
                  <a:lnTo>
                    <a:pt x="3071" y="40"/>
                  </a:lnTo>
                  <a:lnTo>
                    <a:pt x="3068" y="48"/>
                  </a:lnTo>
                  <a:lnTo>
                    <a:pt x="3062" y="57"/>
                  </a:lnTo>
                  <a:lnTo>
                    <a:pt x="3059" y="66"/>
                  </a:lnTo>
                  <a:lnTo>
                    <a:pt x="3059" y="74"/>
                  </a:lnTo>
                  <a:lnTo>
                    <a:pt x="3059" y="83"/>
                  </a:lnTo>
                  <a:lnTo>
                    <a:pt x="3068" y="89"/>
                  </a:lnTo>
                  <a:lnTo>
                    <a:pt x="3077" y="92"/>
                  </a:lnTo>
                  <a:lnTo>
                    <a:pt x="3085" y="97"/>
                  </a:lnTo>
                  <a:lnTo>
                    <a:pt x="3097" y="103"/>
                  </a:lnTo>
                  <a:lnTo>
                    <a:pt x="3106" y="103"/>
                  </a:lnTo>
                  <a:lnTo>
                    <a:pt x="3114" y="103"/>
                  </a:lnTo>
                  <a:lnTo>
                    <a:pt x="3114" y="95"/>
                  </a:lnTo>
                  <a:lnTo>
                    <a:pt x="3123" y="95"/>
                  </a:lnTo>
                  <a:lnTo>
                    <a:pt x="3114" y="103"/>
                  </a:lnTo>
                  <a:lnTo>
                    <a:pt x="3106" y="103"/>
                  </a:lnTo>
                  <a:lnTo>
                    <a:pt x="3097" y="103"/>
                  </a:lnTo>
                  <a:lnTo>
                    <a:pt x="3088" y="109"/>
                  </a:lnTo>
                  <a:lnTo>
                    <a:pt x="3085" y="118"/>
                  </a:lnTo>
                  <a:lnTo>
                    <a:pt x="3085" y="126"/>
                  </a:lnTo>
                  <a:lnTo>
                    <a:pt x="3080" y="135"/>
                  </a:lnTo>
                  <a:lnTo>
                    <a:pt x="3088" y="138"/>
                  </a:lnTo>
                  <a:lnTo>
                    <a:pt x="3082" y="146"/>
                  </a:lnTo>
                  <a:lnTo>
                    <a:pt x="3080" y="155"/>
                  </a:lnTo>
                  <a:lnTo>
                    <a:pt x="3074" y="164"/>
                  </a:lnTo>
                  <a:lnTo>
                    <a:pt x="3074" y="172"/>
                  </a:lnTo>
                  <a:lnTo>
                    <a:pt x="3074" y="181"/>
                  </a:lnTo>
                  <a:lnTo>
                    <a:pt x="3074" y="190"/>
                  </a:lnTo>
                  <a:lnTo>
                    <a:pt x="3085" y="190"/>
                  </a:lnTo>
                  <a:lnTo>
                    <a:pt x="3094" y="190"/>
                  </a:lnTo>
                  <a:lnTo>
                    <a:pt x="3088" y="198"/>
                  </a:lnTo>
                  <a:lnTo>
                    <a:pt x="3080" y="204"/>
                  </a:lnTo>
                  <a:lnTo>
                    <a:pt x="3074" y="213"/>
                  </a:lnTo>
                  <a:lnTo>
                    <a:pt x="3071" y="221"/>
                  </a:lnTo>
                  <a:lnTo>
                    <a:pt x="3071" y="230"/>
                  </a:lnTo>
                  <a:lnTo>
                    <a:pt x="3071" y="239"/>
                  </a:lnTo>
                  <a:lnTo>
                    <a:pt x="3068" y="247"/>
                  </a:lnTo>
                  <a:lnTo>
                    <a:pt x="3062" y="256"/>
                  </a:lnTo>
                  <a:lnTo>
                    <a:pt x="3059" y="265"/>
                  </a:lnTo>
                  <a:lnTo>
                    <a:pt x="3059" y="273"/>
                  </a:lnTo>
                  <a:lnTo>
                    <a:pt x="3059" y="282"/>
                  </a:lnTo>
                  <a:lnTo>
                    <a:pt x="3059" y="291"/>
                  </a:lnTo>
                  <a:lnTo>
                    <a:pt x="3059" y="299"/>
                  </a:lnTo>
                  <a:lnTo>
                    <a:pt x="3059" y="311"/>
                  </a:lnTo>
                  <a:lnTo>
                    <a:pt x="3065" y="319"/>
                  </a:lnTo>
                  <a:lnTo>
                    <a:pt x="3074" y="325"/>
                  </a:lnTo>
                  <a:lnTo>
                    <a:pt x="3082" y="328"/>
                  </a:lnTo>
                  <a:lnTo>
                    <a:pt x="3082" y="337"/>
                  </a:lnTo>
                  <a:lnTo>
                    <a:pt x="3082" y="345"/>
                  </a:lnTo>
                  <a:lnTo>
                    <a:pt x="3085" y="354"/>
                  </a:lnTo>
                  <a:lnTo>
                    <a:pt x="3085" y="363"/>
                  </a:lnTo>
                  <a:lnTo>
                    <a:pt x="3088" y="371"/>
                  </a:lnTo>
                  <a:lnTo>
                    <a:pt x="3088" y="380"/>
                  </a:lnTo>
                  <a:lnTo>
                    <a:pt x="3091" y="389"/>
                  </a:lnTo>
                  <a:lnTo>
                    <a:pt x="3094" y="397"/>
                  </a:lnTo>
                  <a:lnTo>
                    <a:pt x="3097" y="406"/>
                  </a:lnTo>
                  <a:lnTo>
                    <a:pt x="3109" y="412"/>
                  </a:lnTo>
                  <a:lnTo>
                    <a:pt x="3117" y="412"/>
                  </a:lnTo>
                  <a:lnTo>
                    <a:pt x="3126" y="412"/>
                  </a:lnTo>
                  <a:lnTo>
                    <a:pt x="3135" y="412"/>
                  </a:lnTo>
                  <a:lnTo>
                    <a:pt x="3135" y="403"/>
                  </a:lnTo>
                  <a:lnTo>
                    <a:pt x="3138" y="394"/>
                  </a:lnTo>
                  <a:lnTo>
                    <a:pt x="3147" y="391"/>
                  </a:lnTo>
                  <a:lnTo>
                    <a:pt x="3155" y="391"/>
                  </a:lnTo>
                  <a:lnTo>
                    <a:pt x="3164" y="394"/>
                  </a:lnTo>
                  <a:lnTo>
                    <a:pt x="3167" y="403"/>
                  </a:lnTo>
                  <a:lnTo>
                    <a:pt x="3167" y="412"/>
                  </a:lnTo>
                  <a:lnTo>
                    <a:pt x="3164" y="420"/>
                  </a:lnTo>
                  <a:lnTo>
                    <a:pt x="3155" y="423"/>
                  </a:lnTo>
                  <a:lnTo>
                    <a:pt x="3152" y="432"/>
                  </a:lnTo>
                  <a:lnTo>
                    <a:pt x="3144" y="438"/>
                  </a:lnTo>
                  <a:lnTo>
                    <a:pt x="3138" y="429"/>
                  </a:lnTo>
                  <a:lnTo>
                    <a:pt x="3129" y="420"/>
                  </a:lnTo>
                  <a:lnTo>
                    <a:pt x="3120" y="420"/>
                  </a:lnTo>
                  <a:lnTo>
                    <a:pt x="3114" y="429"/>
                  </a:lnTo>
                  <a:lnTo>
                    <a:pt x="3114" y="438"/>
                  </a:lnTo>
                  <a:lnTo>
                    <a:pt x="3114" y="446"/>
                  </a:lnTo>
                  <a:lnTo>
                    <a:pt x="3123" y="452"/>
                  </a:lnTo>
                  <a:lnTo>
                    <a:pt x="3132" y="452"/>
                  </a:lnTo>
                  <a:lnTo>
                    <a:pt x="3141" y="452"/>
                  </a:lnTo>
                  <a:lnTo>
                    <a:pt x="3135" y="461"/>
                  </a:lnTo>
                  <a:lnTo>
                    <a:pt x="3138" y="469"/>
                  </a:lnTo>
                  <a:lnTo>
                    <a:pt x="3147" y="472"/>
                  </a:lnTo>
                  <a:lnTo>
                    <a:pt x="3147" y="463"/>
                  </a:lnTo>
                  <a:lnTo>
                    <a:pt x="3144" y="455"/>
                  </a:lnTo>
                  <a:lnTo>
                    <a:pt x="3144" y="466"/>
                  </a:lnTo>
                  <a:lnTo>
                    <a:pt x="3144" y="475"/>
                  </a:lnTo>
                  <a:lnTo>
                    <a:pt x="3144" y="484"/>
                  </a:lnTo>
                  <a:lnTo>
                    <a:pt x="3144" y="492"/>
                  </a:lnTo>
                  <a:lnTo>
                    <a:pt x="3144" y="501"/>
                  </a:lnTo>
                  <a:lnTo>
                    <a:pt x="3144" y="510"/>
                  </a:lnTo>
                  <a:lnTo>
                    <a:pt x="3152" y="518"/>
                  </a:lnTo>
                  <a:lnTo>
                    <a:pt x="3161" y="527"/>
                  </a:lnTo>
                  <a:lnTo>
                    <a:pt x="3167" y="538"/>
                  </a:lnTo>
                  <a:lnTo>
                    <a:pt x="3176" y="544"/>
                  </a:lnTo>
                  <a:lnTo>
                    <a:pt x="3184" y="550"/>
                  </a:lnTo>
                  <a:lnTo>
                    <a:pt x="3196" y="550"/>
                  </a:lnTo>
                  <a:lnTo>
                    <a:pt x="3205" y="550"/>
                  </a:lnTo>
                  <a:lnTo>
                    <a:pt x="3213" y="550"/>
                  </a:lnTo>
                  <a:lnTo>
                    <a:pt x="3205" y="550"/>
                  </a:lnTo>
                  <a:lnTo>
                    <a:pt x="3193" y="550"/>
                  </a:lnTo>
                  <a:lnTo>
                    <a:pt x="3184" y="553"/>
                  </a:lnTo>
                  <a:lnTo>
                    <a:pt x="3179" y="561"/>
                  </a:lnTo>
                  <a:lnTo>
                    <a:pt x="3176" y="570"/>
                  </a:lnTo>
                  <a:lnTo>
                    <a:pt x="3173" y="579"/>
                  </a:lnTo>
                  <a:lnTo>
                    <a:pt x="3164" y="582"/>
                  </a:lnTo>
                  <a:lnTo>
                    <a:pt x="3155" y="582"/>
                  </a:lnTo>
                  <a:lnTo>
                    <a:pt x="3147" y="582"/>
                  </a:lnTo>
                  <a:lnTo>
                    <a:pt x="3132" y="576"/>
                  </a:lnTo>
                  <a:lnTo>
                    <a:pt x="3120" y="576"/>
                  </a:lnTo>
                  <a:lnTo>
                    <a:pt x="3109" y="576"/>
                  </a:lnTo>
                  <a:lnTo>
                    <a:pt x="3103" y="585"/>
                  </a:lnTo>
                  <a:lnTo>
                    <a:pt x="3100" y="593"/>
                  </a:lnTo>
                  <a:lnTo>
                    <a:pt x="3100" y="602"/>
                  </a:lnTo>
                  <a:lnTo>
                    <a:pt x="3100" y="610"/>
                  </a:lnTo>
                  <a:lnTo>
                    <a:pt x="3100" y="619"/>
                  </a:lnTo>
                  <a:lnTo>
                    <a:pt x="3100" y="628"/>
                  </a:lnTo>
                  <a:lnTo>
                    <a:pt x="3103" y="636"/>
                  </a:lnTo>
                  <a:lnTo>
                    <a:pt x="3106" y="645"/>
                  </a:lnTo>
                  <a:lnTo>
                    <a:pt x="3112" y="654"/>
                  </a:lnTo>
                  <a:lnTo>
                    <a:pt x="3117" y="662"/>
                  </a:lnTo>
                  <a:lnTo>
                    <a:pt x="3120" y="671"/>
                  </a:lnTo>
                  <a:lnTo>
                    <a:pt x="3123" y="680"/>
                  </a:lnTo>
                  <a:lnTo>
                    <a:pt x="3123" y="688"/>
                  </a:lnTo>
                  <a:lnTo>
                    <a:pt x="3123" y="697"/>
                  </a:lnTo>
                  <a:lnTo>
                    <a:pt x="3123" y="706"/>
                  </a:lnTo>
                  <a:lnTo>
                    <a:pt x="3114" y="711"/>
                  </a:lnTo>
                  <a:lnTo>
                    <a:pt x="3106" y="720"/>
                  </a:lnTo>
                  <a:lnTo>
                    <a:pt x="3103" y="729"/>
                  </a:lnTo>
                  <a:lnTo>
                    <a:pt x="3103" y="737"/>
                  </a:lnTo>
                  <a:lnTo>
                    <a:pt x="3094" y="740"/>
                  </a:lnTo>
                  <a:lnTo>
                    <a:pt x="3085" y="743"/>
                  </a:lnTo>
                  <a:lnTo>
                    <a:pt x="3077" y="746"/>
                  </a:lnTo>
                  <a:lnTo>
                    <a:pt x="3068" y="746"/>
                  </a:lnTo>
                  <a:lnTo>
                    <a:pt x="3059" y="752"/>
                  </a:lnTo>
                  <a:lnTo>
                    <a:pt x="3050" y="760"/>
                  </a:lnTo>
                  <a:lnTo>
                    <a:pt x="3050" y="769"/>
                  </a:lnTo>
                  <a:lnTo>
                    <a:pt x="3050" y="778"/>
                  </a:lnTo>
                  <a:lnTo>
                    <a:pt x="3056" y="786"/>
                  </a:lnTo>
                  <a:lnTo>
                    <a:pt x="3065" y="789"/>
                  </a:lnTo>
                  <a:lnTo>
                    <a:pt x="3074" y="795"/>
                  </a:lnTo>
                  <a:lnTo>
                    <a:pt x="3074" y="804"/>
                  </a:lnTo>
                  <a:lnTo>
                    <a:pt x="3062" y="806"/>
                  </a:lnTo>
                  <a:lnTo>
                    <a:pt x="3050" y="806"/>
                  </a:lnTo>
                  <a:lnTo>
                    <a:pt x="3053" y="798"/>
                  </a:lnTo>
                  <a:lnTo>
                    <a:pt x="3045" y="792"/>
                  </a:lnTo>
                  <a:lnTo>
                    <a:pt x="3036" y="798"/>
                  </a:lnTo>
                  <a:lnTo>
                    <a:pt x="3036" y="809"/>
                  </a:lnTo>
                  <a:lnTo>
                    <a:pt x="3036" y="818"/>
                  </a:lnTo>
                  <a:lnTo>
                    <a:pt x="3033" y="827"/>
                  </a:lnTo>
                  <a:lnTo>
                    <a:pt x="3030" y="835"/>
                  </a:lnTo>
                  <a:lnTo>
                    <a:pt x="3024" y="844"/>
                  </a:lnTo>
                  <a:lnTo>
                    <a:pt x="3016" y="853"/>
                  </a:lnTo>
                  <a:lnTo>
                    <a:pt x="3013" y="861"/>
                  </a:lnTo>
                  <a:lnTo>
                    <a:pt x="3021" y="864"/>
                  </a:lnTo>
                  <a:lnTo>
                    <a:pt x="3030" y="864"/>
                  </a:lnTo>
                  <a:lnTo>
                    <a:pt x="3033" y="873"/>
                  </a:lnTo>
                  <a:lnTo>
                    <a:pt x="3033" y="881"/>
                  </a:lnTo>
                  <a:lnTo>
                    <a:pt x="3042" y="890"/>
                  </a:lnTo>
                  <a:lnTo>
                    <a:pt x="3050" y="893"/>
                  </a:lnTo>
                  <a:lnTo>
                    <a:pt x="3062" y="893"/>
                  </a:lnTo>
                  <a:lnTo>
                    <a:pt x="3071" y="887"/>
                  </a:lnTo>
                  <a:lnTo>
                    <a:pt x="3080" y="887"/>
                  </a:lnTo>
                  <a:lnTo>
                    <a:pt x="3088" y="887"/>
                  </a:lnTo>
                  <a:lnTo>
                    <a:pt x="3085" y="896"/>
                  </a:lnTo>
                  <a:lnTo>
                    <a:pt x="3082" y="904"/>
                  </a:lnTo>
                  <a:lnTo>
                    <a:pt x="3080" y="913"/>
                  </a:lnTo>
                  <a:lnTo>
                    <a:pt x="3088" y="919"/>
                  </a:lnTo>
                  <a:lnTo>
                    <a:pt x="3088" y="927"/>
                  </a:lnTo>
                  <a:lnTo>
                    <a:pt x="3080" y="933"/>
                  </a:lnTo>
                  <a:lnTo>
                    <a:pt x="3077" y="942"/>
                  </a:lnTo>
                  <a:lnTo>
                    <a:pt x="3077" y="950"/>
                  </a:lnTo>
                  <a:lnTo>
                    <a:pt x="3074" y="959"/>
                  </a:lnTo>
                  <a:lnTo>
                    <a:pt x="3074" y="968"/>
                  </a:lnTo>
                  <a:lnTo>
                    <a:pt x="3077" y="959"/>
                  </a:lnTo>
                  <a:lnTo>
                    <a:pt x="3065" y="942"/>
                  </a:lnTo>
                  <a:lnTo>
                    <a:pt x="3071" y="962"/>
                  </a:lnTo>
                  <a:lnTo>
                    <a:pt x="3062" y="962"/>
                  </a:lnTo>
                  <a:lnTo>
                    <a:pt x="3074" y="968"/>
                  </a:lnTo>
                  <a:lnTo>
                    <a:pt x="3074" y="976"/>
                  </a:lnTo>
                  <a:lnTo>
                    <a:pt x="3059" y="976"/>
                  </a:lnTo>
                  <a:lnTo>
                    <a:pt x="3050" y="979"/>
                  </a:lnTo>
                  <a:lnTo>
                    <a:pt x="3039" y="979"/>
                  </a:lnTo>
                  <a:lnTo>
                    <a:pt x="3039" y="988"/>
                  </a:lnTo>
                  <a:lnTo>
                    <a:pt x="3048" y="991"/>
                  </a:lnTo>
                  <a:lnTo>
                    <a:pt x="3056" y="991"/>
                  </a:lnTo>
                  <a:lnTo>
                    <a:pt x="3065" y="997"/>
                  </a:lnTo>
                  <a:lnTo>
                    <a:pt x="3074" y="1005"/>
                  </a:lnTo>
                  <a:lnTo>
                    <a:pt x="3077" y="1014"/>
                  </a:lnTo>
                  <a:lnTo>
                    <a:pt x="3082" y="1023"/>
                  </a:lnTo>
                  <a:lnTo>
                    <a:pt x="3088" y="1031"/>
                  </a:lnTo>
                  <a:lnTo>
                    <a:pt x="3080" y="1034"/>
                  </a:lnTo>
                  <a:lnTo>
                    <a:pt x="3071" y="1034"/>
                  </a:lnTo>
                  <a:lnTo>
                    <a:pt x="3062" y="1040"/>
                  </a:lnTo>
                  <a:lnTo>
                    <a:pt x="3050" y="1043"/>
                  </a:lnTo>
                  <a:lnTo>
                    <a:pt x="3039" y="1046"/>
                  </a:lnTo>
                  <a:lnTo>
                    <a:pt x="3030" y="1046"/>
                  </a:lnTo>
                  <a:lnTo>
                    <a:pt x="3018" y="1046"/>
                  </a:lnTo>
                  <a:lnTo>
                    <a:pt x="3010" y="1037"/>
                  </a:lnTo>
                  <a:lnTo>
                    <a:pt x="3007" y="1028"/>
                  </a:lnTo>
                  <a:lnTo>
                    <a:pt x="3010" y="1020"/>
                  </a:lnTo>
                  <a:lnTo>
                    <a:pt x="3013" y="1011"/>
                  </a:lnTo>
                  <a:lnTo>
                    <a:pt x="3004" y="1011"/>
                  </a:lnTo>
                  <a:lnTo>
                    <a:pt x="2992" y="1008"/>
                  </a:lnTo>
                  <a:lnTo>
                    <a:pt x="2983" y="1008"/>
                  </a:lnTo>
                  <a:lnTo>
                    <a:pt x="2978" y="1017"/>
                  </a:lnTo>
                  <a:lnTo>
                    <a:pt x="2978" y="1025"/>
                  </a:lnTo>
                  <a:lnTo>
                    <a:pt x="2983" y="1034"/>
                  </a:lnTo>
                  <a:lnTo>
                    <a:pt x="2989" y="1043"/>
                  </a:lnTo>
                  <a:lnTo>
                    <a:pt x="2992" y="1051"/>
                  </a:lnTo>
                  <a:lnTo>
                    <a:pt x="3001" y="1054"/>
                  </a:lnTo>
                  <a:lnTo>
                    <a:pt x="3010" y="1060"/>
                  </a:lnTo>
                  <a:lnTo>
                    <a:pt x="3018" y="1063"/>
                  </a:lnTo>
                  <a:lnTo>
                    <a:pt x="3027" y="1063"/>
                  </a:lnTo>
                  <a:lnTo>
                    <a:pt x="3036" y="1060"/>
                  </a:lnTo>
                  <a:lnTo>
                    <a:pt x="3027" y="1060"/>
                  </a:lnTo>
                  <a:lnTo>
                    <a:pt x="3018" y="1057"/>
                  </a:lnTo>
                  <a:lnTo>
                    <a:pt x="3010" y="1054"/>
                  </a:lnTo>
                  <a:lnTo>
                    <a:pt x="3004" y="1046"/>
                  </a:lnTo>
                  <a:lnTo>
                    <a:pt x="2995" y="1040"/>
                  </a:lnTo>
                  <a:lnTo>
                    <a:pt x="2992" y="1031"/>
                  </a:lnTo>
                  <a:lnTo>
                    <a:pt x="2983" y="1023"/>
                  </a:lnTo>
                  <a:lnTo>
                    <a:pt x="2978" y="1014"/>
                  </a:lnTo>
                  <a:lnTo>
                    <a:pt x="2969" y="1005"/>
                  </a:lnTo>
                  <a:lnTo>
                    <a:pt x="2966" y="1014"/>
                  </a:lnTo>
                  <a:lnTo>
                    <a:pt x="2954" y="1023"/>
                  </a:lnTo>
                  <a:lnTo>
                    <a:pt x="2946" y="1023"/>
                  </a:lnTo>
                  <a:lnTo>
                    <a:pt x="2943" y="1034"/>
                  </a:lnTo>
                  <a:lnTo>
                    <a:pt x="2943" y="1043"/>
                  </a:lnTo>
                  <a:lnTo>
                    <a:pt x="2951" y="1051"/>
                  </a:lnTo>
                  <a:lnTo>
                    <a:pt x="2963" y="1051"/>
                  </a:lnTo>
                  <a:lnTo>
                    <a:pt x="2975" y="1054"/>
                  </a:lnTo>
                  <a:lnTo>
                    <a:pt x="2963" y="1051"/>
                  </a:lnTo>
                  <a:lnTo>
                    <a:pt x="2951" y="1046"/>
                  </a:lnTo>
                  <a:lnTo>
                    <a:pt x="2943" y="1043"/>
                  </a:lnTo>
                  <a:lnTo>
                    <a:pt x="2934" y="1051"/>
                  </a:lnTo>
                  <a:lnTo>
                    <a:pt x="2928" y="1060"/>
                  </a:lnTo>
                  <a:lnTo>
                    <a:pt x="2919" y="1060"/>
                  </a:lnTo>
                  <a:lnTo>
                    <a:pt x="2919" y="1069"/>
                  </a:lnTo>
                  <a:lnTo>
                    <a:pt x="2931" y="1077"/>
                  </a:lnTo>
                  <a:lnTo>
                    <a:pt x="2943" y="1086"/>
                  </a:lnTo>
                  <a:lnTo>
                    <a:pt x="2951" y="1089"/>
                  </a:lnTo>
                  <a:lnTo>
                    <a:pt x="2960" y="1089"/>
                  </a:lnTo>
                  <a:lnTo>
                    <a:pt x="2969" y="1089"/>
                  </a:lnTo>
                  <a:lnTo>
                    <a:pt x="2972" y="1080"/>
                  </a:lnTo>
                  <a:lnTo>
                    <a:pt x="2975" y="1072"/>
                  </a:lnTo>
                  <a:lnTo>
                    <a:pt x="2975" y="1063"/>
                  </a:lnTo>
                  <a:lnTo>
                    <a:pt x="2978" y="1054"/>
                  </a:lnTo>
                  <a:lnTo>
                    <a:pt x="2981" y="1063"/>
                  </a:lnTo>
                  <a:lnTo>
                    <a:pt x="2981" y="1072"/>
                  </a:lnTo>
                  <a:lnTo>
                    <a:pt x="2975" y="1080"/>
                  </a:lnTo>
                  <a:lnTo>
                    <a:pt x="2969" y="1089"/>
                  </a:lnTo>
                  <a:lnTo>
                    <a:pt x="2957" y="1089"/>
                  </a:lnTo>
                  <a:lnTo>
                    <a:pt x="2949" y="1089"/>
                  </a:lnTo>
                  <a:lnTo>
                    <a:pt x="2940" y="1097"/>
                  </a:lnTo>
                  <a:lnTo>
                    <a:pt x="2937" y="1106"/>
                  </a:lnTo>
                  <a:lnTo>
                    <a:pt x="2934" y="1115"/>
                  </a:lnTo>
                  <a:lnTo>
                    <a:pt x="2934" y="1123"/>
                  </a:lnTo>
                  <a:lnTo>
                    <a:pt x="2925" y="1129"/>
                  </a:lnTo>
                  <a:lnTo>
                    <a:pt x="2917" y="1135"/>
                  </a:lnTo>
                  <a:lnTo>
                    <a:pt x="2908" y="1138"/>
                  </a:lnTo>
                  <a:lnTo>
                    <a:pt x="2899" y="1138"/>
                  </a:lnTo>
                  <a:lnTo>
                    <a:pt x="2893" y="1129"/>
                  </a:lnTo>
                  <a:lnTo>
                    <a:pt x="2884" y="1129"/>
                  </a:lnTo>
                  <a:lnTo>
                    <a:pt x="2876" y="1129"/>
                  </a:lnTo>
                  <a:lnTo>
                    <a:pt x="2867" y="1135"/>
                  </a:lnTo>
                  <a:lnTo>
                    <a:pt x="2864" y="1144"/>
                  </a:lnTo>
                  <a:lnTo>
                    <a:pt x="2861" y="1152"/>
                  </a:lnTo>
                  <a:lnTo>
                    <a:pt x="2861" y="1161"/>
                  </a:lnTo>
                  <a:lnTo>
                    <a:pt x="2858" y="1170"/>
                  </a:lnTo>
                  <a:lnTo>
                    <a:pt x="2852" y="1178"/>
                  </a:lnTo>
                  <a:lnTo>
                    <a:pt x="2844" y="1181"/>
                  </a:lnTo>
                  <a:lnTo>
                    <a:pt x="2835" y="1181"/>
                  </a:lnTo>
                  <a:lnTo>
                    <a:pt x="2826" y="1184"/>
                  </a:lnTo>
                  <a:lnTo>
                    <a:pt x="2818" y="1175"/>
                  </a:lnTo>
                  <a:lnTo>
                    <a:pt x="2809" y="1167"/>
                  </a:lnTo>
                  <a:lnTo>
                    <a:pt x="2806" y="1175"/>
                  </a:lnTo>
                  <a:lnTo>
                    <a:pt x="2806" y="1184"/>
                  </a:lnTo>
                  <a:lnTo>
                    <a:pt x="2806" y="1193"/>
                  </a:lnTo>
                  <a:lnTo>
                    <a:pt x="2806" y="1204"/>
                  </a:lnTo>
                  <a:lnTo>
                    <a:pt x="2806" y="1213"/>
                  </a:lnTo>
                  <a:lnTo>
                    <a:pt x="2815" y="1213"/>
                  </a:lnTo>
                  <a:lnTo>
                    <a:pt x="2823" y="1216"/>
                  </a:lnTo>
                  <a:lnTo>
                    <a:pt x="2826" y="1224"/>
                  </a:lnTo>
                  <a:lnTo>
                    <a:pt x="2826" y="1233"/>
                  </a:lnTo>
                  <a:lnTo>
                    <a:pt x="2826" y="1242"/>
                  </a:lnTo>
                  <a:lnTo>
                    <a:pt x="2823" y="1250"/>
                  </a:lnTo>
                  <a:lnTo>
                    <a:pt x="2815" y="1253"/>
                  </a:lnTo>
                  <a:lnTo>
                    <a:pt x="2809" y="1262"/>
                  </a:lnTo>
                  <a:lnTo>
                    <a:pt x="2809" y="1270"/>
                  </a:lnTo>
                  <a:lnTo>
                    <a:pt x="2809" y="1279"/>
                  </a:lnTo>
                  <a:lnTo>
                    <a:pt x="2809" y="1288"/>
                  </a:lnTo>
                  <a:lnTo>
                    <a:pt x="2809" y="1279"/>
                  </a:lnTo>
                  <a:lnTo>
                    <a:pt x="2806" y="1270"/>
                  </a:lnTo>
                  <a:lnTo>
                    <a:pt x="2806" y="1262"/>
                  </a:lnTo>
                  <a:lnTo>
                    <a:pt x="2800" y="1253"/>
                  </a:lnTo>
                  <a:lnTo>
                    <a:pt x="2797" y="1244"/>
                  </a:lnTo>
                  <a:lnTo>
                    <a:pt x="2794" y="1236"/>
                  </a:lnTo>
                  <a:lnTo>
                    <a:pt x="2794" y="1227"/>
                  </a:lnTo>
                  <a:lnTo>
                    <a:pt x="2794" y="1218"/>
                  </a:lnTo>
                  <a:lnTo>
                    <a:pt x="2800" y="1210"/>
                  </a:lnTo>
                  <a:lnTo>
                    <a:pt x="2803" y="1201"/>
                  </a:lnTo>
                  <a:lnTo>
                    <a:pt x="2800" y="1193"/>
                  </a:lnTo>
                  <a:lnTo>
                    <a:pt x="2791" y="1187"/>
                  </a:lnTo>
                  <a:lnTo>
                    <a:pt x="2788" y="1178"/>
                  </a:lnTo>
                  <a:lnTo>
                    <a:pt x="2788" y="1170"/>
                  </a:lnTo>
                  <a:lnTo>
                    <a:pt x="2788" y="1161"/>
                  </a:lnTo>
                  <a:lnTo>
                    <a:pt x="2788" y="1152"/>
                  </a:lnTo>
                  <a:lnTo>
                    <a:pt x="2786" y="1144"/>
                  </a:lnTo>
                  <a:lnTo>
                    <a:pt x="2786" y="1135"/>
                  </a:lnTo>
                  <a:lnTo>
                    <a:pt x="2780" y="1126"/>
                  </a:lnTo>
                  <a:lnTo>
                    <a:pt x="2768" y="1121"/>
                  </a:lnTo>
                  <a:lnTo>
                    <a:pt x="2759" y="1115"/>
                  </a:lnTo>
                  <a:lnTo>
                    <a:pt x="2748" y="1112"/>
                  </a:lnTo>
                  <a:lnTo>
                    <a:pt x="2736" y="1109"/>
                  </a:lnTo>
                  <a:lnTo>
                    <a:pt x="2724" y="1106"/>
                  </a:lnTo>
                  <a:lnTo>
                    <a:pt x="2716" y="1106"/>
                  </a:lnTo>
                  <a:lnTo>
                    <a:pt x="2710" y="1115"/>
                  </a:lnTo>
                  <a:lnTo>
                    <a:pt x="2704" y="1123"/>
                  </a:lnTo>
                  <a:lnTo>
                    <a:pt x="2698" y="1132"/>
                  </a:lnTo>
                  <a:lnTo>
                    <a:pt x="2692" y="1126"/>
                  </a:lnTo>
                  <a:lnTo>
                    <a:pt x="2695" y="1112"/>
                  </a:lnTo>
                  <a:lnTo>
                    <a:pt x="2695" y="1121"/>
                  </a:lnTo>
                  <a:lnTo>
                    <a:pt x="2692" y="1129"/>
                  </a:lnTo>
                  <a:lnTo>
                    <a:pt x="2692" y="1138"/>
                  </a:lnTo>
                  <a:lnTo>
                    <a:pt x="2687" y="1146"/>
                  </a:lnTo>
                  <a:lnTo>
                    <a:pt x="2687" y="1155"/>
                  </a:lnTo>
                  <a:lnTo>
                    <a:pt x="2687" y="1164"/>
                  </a:lnTo>
                  <a:lnTo>
                    <a:pt x="2678" y="1167"/>
                  </a:lnTo>
                  <a:lnTo>
                    <a:pt x="2669" y="1167"/>
                  </a:lnTo>
                  <a:lnTo>
                    <a:pt x="2666" y="1158"/>
                  </a:lnTo>
                  <a:lnTo>
                    <a:pt x="2666" y="1149"/>
                  </a:lnTo>
                  <a:lnTo>
                    <a:pt x="2657" y="1146"/>
                  </a:lnTo>
                  <a:lnTo>
                    <a:pt x="2649" y="1152"/>
                  </a:lnTo>
                  <a:lnTo>
                    <a:pt x="2646" y="1141"/>
                  </a:lnTo>
                  <a:lnTo>
                    <a:pt x="2634" y="1135"/>
                  </a:lnTo>
                  <a:lnTo>
                    <a:pt x="2625" y="1135"/>
                  </a:lnTo>
                  <a:lnTo>
                    <a:pt x="2617" y="1135"/>
                  </a:lnTo>
                  <a:lnTo>
                    <a:pt x="2614" y="1144"/>
                  </a:lnTo>
                  <a:lnTo>
                    <a:pt x="2614" y="1152"/>
                  </a:lnTo>
                  <a:lnTo>
                    <a:pt x="2614" y="1161"/>
                  </a:lnTo>
                  <a:lnTo>
                    <a:pt x="2617" y="1170"/>
                  </a:lnTo>
                  <a:lnTo>
                    <a:pt x="2617" y="1178"/>
                  </a:lnTo>
                  <a:lnTo>
                    <a:pt x="2620" y="1187"/>
                  </a:lnTo>
                  <a:lnTo>
                    <a:pt x="2625" y="1195"/>
                  </a:lnTo>
                  <a:lnTo>
                    <a:pt x="2634" y="1201"/>
                  </a:lnTo>
                  <a:lnTo>
                    <a:pt x="2643" y="1201"/>
                  </a:lnTo>
                  <a:lnTo>
                    <a:pt x="2652" y="1201"/>
                  </a:lnTo>
                  <a:lnTo>
                    <a:pt x="2643" y="1201"/>
                  </a:lnTo>
                  <a:lnTo>
                    <a:pt x="2634" y="1207"/>
                  </a:lnTo>
                  <a:lnTo>
                    <a:pt x="2625" y="1216"/>
                  </a:lnTo>
                  <a:lnTo>
                    <a:pt x="2625" y="1224"/>
                  </a:lnTo>
                  <a:lnTo>
                    <a:pt x="2634" y="1224"/>
                  </a:lnTo>
                  <a:lnTo>
                    <a:pt x="2643" y="1230"/>
                  </a:lnTo>
                  <a:lnTo>
                    <a:pt x="2646" y="1242"/>
                  </a:lnTo>
                  <a:lnTo>
                    <a:pt x="2652" y="1253"/>
                  </a:lnTo>
                  <a:lnTo>
                    <a:pt x="2660" y="1259"/>
                  </a:lnTo>
                  <a:lnTo>
                    <a:pt x="2672" y="1265"/>
                  </a:lnTo>
                  <a:lnTo>
                    <a:pt x="2663" y="1262"/>
                  </a:lnTo>
                  <a:lnTo>
                    <a:pt x="2655" y="1256"/>
                  </a:lnTo>
                  <a:lnTo>
                    <a:pt x="2663" y="1250"/>
                  </a:lnTo>
                  <a:lnTo>
                    <a:pt x="2672" y="1250"/>
                  </a:lnTo>
                  <a:lnTo>
                    <a:pt x="2681" y="1253"/>
                  </a:lnTo>
                  <a:lnTo>
                    <a:pt x="2669" y="1256"/>
                  </a:lnTo>
                  <a:lnTo>
                    <a:pt x="2655" y="1256"/>
                  </a:lnTo>
                  <a:lnTo>
                    <a:pt x="2646" y="1247"/>
                  </a:lnTo>
                  <a:lnTo>
                    <a:pt x="2643" y="1236"/>
                  </a:lnTo>
                  <a:lnTo>
                    <a:pt x="2640" y="1227"/>
                  </a:lnTo>
                  <a:lnTo>
                    <a:pt x="2631" y="1227"/>
                  </a:lnTo>
                  <a:lnTo>
                    <a:pt x="2625" y="1236"/>
                  </a:lnTo>
                  <a:lnTo>
                    <a:pt x="2625" y="1247"/>
                  </a:lnTo>
                  <a:lnTo>
                    <a:pt x="2625" y="1259"/>
                  </a:lnTo>
                  <a:lnTo>
                    <a:pt x="2617" y="1259"/>
                  </a:lnTo>
                  <a:lnTo>
                    <a:pt x="2608" y="1256"/>
                  </a:lnTo>
                  <a:lnTo>
                    <a:pt x="2605" y="1247"/>
                  </a:lnTo>
                  <a:lnTo>
                    <a:pt x="2596" y="1253"/>
                  </a:lnTo>
                  <a:lnTo>
                    <a:pt x="2588" y="1262"/>
                  </a:lnTo>
                  <a:lnTo>
                    <a:pt x="2582" y="1270"/>
                  </a:lnTo>
                  <a:lnTo>
                    <a:pt x="2582" y="1279"/>
                  </a:lnTo>
                  <a:lnTo>
                    <a:pt x="2582" y="1288"/>
                  </a:lnTo>
                  <a:lnTo>
                    <a:pt x="2576" y="1296"/>
                  </a:lnTo>
                  <a:lnTo>
                    <a:pt x="2573" y="1305"/>
                  </a:lnTo>
                  <a:lnTo>
                    <a:pt x="2567" y="1314"/>
                  </a:lnTo>
                  <a:lnTo>
                    <a:pt x="2553" y="1311"/>
                  </a:lnTo>
                  <a:lnTo>
                    <a:pt x="2567" y="1305"/>
                  </a:lnTo>
                  <a:lnTo>
                    <a:pt x="2561" y="1314"/>
                  </a:lnTo>
                  <a:lnTo>
                    <a:pt x="2558" y="1322"/>
                  </a:lnTo>
                  <a:lnTo>
                    <a:pt x="2558" y="1331"/>
                  </a:lnTo>
                  <a:lnTo>
                    <a:pt x="2558" y="1340"/>
                  </a:lnTo>
                  <a:lnTo>
                    <a:pt x="2558" y="1348"/>
                  </a:lnTo>
                  <a:lnTo>
                    <a:pt x="2558" y="1360"/>
                  </a:lnTo>
                  <a:lnTo>
                    <a:pt x="2558" y="1368"/>
                  </a:lnTo>
                  <a:lnTo>
                    <a:pt x="2550" y="1380"/>
                  </a:lnTo>
                  <a:lnTo>
                    <a:pt x="2547" y="1389"/>
                  </a:lnTo>
                  <a:lnTo>
                    <a:pt x="2544" y="1397"/>
                  </a:lnTo>
                  <a:lnTo>
                    <a:pt x="2538" y="1406"/>
                  </a:lnTo>
                  <a:lnTo>
                    <a:pt x="2529" y="1412"/>
                  </a:lnTo>
                  <a:lnTo>
                    <a:pt x="2538" y="1414"/>
                  </a:lnTo>
                  <a:lnTo>
                    <a:pt x="2547" y="1414"/>
                  </a:lnTo>
                  <a:lnTo>
                    <a:pt x="2553" y="1406"/>
                  </a:lnTo>
                  <a:lnTo>
                    <a:pt x="2553" y="1397"/>
                  </a:lnTo>
                  <a:lnTo>
                    <a:pt x="2561" y="1391"/>
                  </a:lnTo>
                  <a:lnTo>
                    <a:pt x="2567" y="1400"/>
                  </a:lnTo>
                  <a:lnTo>
                    <a:pt x="2567" y="1412"/>
                  </a:lnTo>
                  <a:lnTo>
                    <a:pt x="2570" y="1420"/>
                  </a:lnTo>
                  <a:lnTo>
                    <a:pt x="2579" y="1429"/>
                  </a:lnTo>
                  <a:lnTo>
                    <a:pt x="2588" y="1435"/>
                  </a:lnTo>
                  <a:lnTo>
                    <a:pt x="2599" y="1435"/>
                  </a:lnTo>
                  <a:lnTo>
                    <a:pt x="2593" y="1426"/>
                  </a:lnTo>
                  <a:lnTo>
                    <a:pt x="2585" y="1417"/>
                  </a:lnTo>
                  <a:lnTo>
                    <a:pt x="2582" y="1406"/>
                  </a:lnTo>
                  <a:lnTo>
                    <a:pt x="2579" y="1397"/>
                  </a:lnTo>
                  <a:lnTo>
                    <a:pt x="2573" y="1406"/>
                  </a:lnTo>
                  <a:lnTo>
                    <a:pt x="2570" y="1414"/>
                  </a:lnTo>
                  <a:lnTo>
                    <a:pt x="2561" y="1426"/>
                  </a:lnTo>
                  <a:lnTo>
                    <a:pt x="2553" y="1432"/>
                  </a:lnTo>
                  <a:lnTo>
                    <a:pt x="2544" y="1432"/>
                  </a:lnTo>
                  <a:lnTo>
                    <a:pt x="2535" y="1432"/>
                  </a:lnTo>
                  <a:lnTo>
                    <a:pt x="2526" y="1432"/>
                  </a:lnTo>
                  <a:lnTo>
                    <a:pt x="2515" y="1438"/>
                  </a:lnTo>
                  <a:lnTo>
                    <a:pt x="2506" y="1443"/>
                  </a:lnTo>
                  <a:lnTo>
                    <a:pt x="2503" y="1452"/>
                  </a:lnTo>
                  <a:lnTo>
                    <a:pt x="2509" y="1461"/>
                  </a:lnTo>
                  <a:lnTo>
                    <a:pt x="2515" y="1472"/>
                  </a:lnTo>
                  <a:lnTo>
                    <a:pt x="2521" y="1484"/>
                  </a:lnTo>
                  <a:lnTo>
                    <a:pt x="2529" y="1489"/>
                  </a:lnTo>
                  <a:lnTo>
                    <a:pt x="2538" y="1495"/>
                  </a:lnTo>
                  <a:lnTo>
                    <a:pt x="2544" y="1504"/>
                  </a:lnTo>
                  <a:lnTo>
                    <a:pt x="2553" y="1507"/>
                  </a:lnTo>
                  <a:lnTo>
                    <a:pt x="2561" y="1507"/>
                  </a:lnTo>
                  <a:lnTo>
                    <a:pt x="2570" y="1510"/>
                  </a:lnTo>
                  <a:lnTo>
                    <a:pt x="2576" y="1518"/>
                  </a:lnTo>
                  <a:lnTo>
                    <a:pt x="2585" y="1527"/>
                  </a:lnTo>
                  <a:lnTo>
                    <a:pt x="2588" y="1535"/>
                  </a:lnTo>
                  <a:lnTo>
                    <a:pt x="2588" y="1544"/>
                  </a:lnTo>
                  <a:lnTo>
                    <a:pt x="2588" y="1556"/>
                  </a:lnTo>
                  <a:lnTo>
                    <a:pt x="2590" y="1564"/>
                  </a:lnTo>
                  <a:lnTo>
                    <a:pt x="2599" y="1564"/>
                  </a:lnTo>
                  <a:lnTo>
                    <a:pt x="2614" y="1567"/>
                  </a:lnTo>
                  <a:lnTo>
                    <a:pt x="2617" y="1576"/>
                  </a:lnTo>
                  <a:lnTo>
                    <a:pt x="2617" y="1584"/>
                  </a:lnTo>
                  <a:lnTo>
                    <a:pt x="2608" y="1587"/>
                  </a:lnTo>
                  <a:lnTo>
                    <a:pt x="2596" y="1579"/>
                  </a:lnTo>
                  <a:lnTo>
                    <a:pt x="2588" y="1570"/>
                  </a:lnTo>
                  <a:lnTo>
                    <a:pt x="2582" y="1561"/>
                  </a:lnTo>
                  <a:lnTo>
                    <a:pt x="2582" y="1553"/>
                  </a:lnTo>
                  <a:lnTo>
                    <a:pt x="2582" y="1541"/>
                  </a:lnTo>
                  <a:lnTo>
                    <a:pt x="2579" y="1533"/>
                  </a:lnTo>
                  <a:lnTo>
                    <a:pt x="2573" y="1524"/>
                  </a:lnTo>
                  <a:lnTo>
                    <a:pt x="2564" y="1515"/>
                  </a:lnTo>
                  <a:lnTo>
                    <a:pt x="2556" y="1512"/>
                  </a:lnTo>
                  <a:lnTo>
                    <a:pt x="2550" y="1521"/>
                  </a:lnTo>
                  <a:lnTo>
                    <a:pt x="2541" y="1521"/>
                  </a:lnTo>
                  <a:lnTo>
                    <a:pt x="2532" y="1515"/>
                  </a:lnTo>
                  <a:lnTo>
                    <a:pt x="2524" y="1510"/>
                  </a:lnTo>
                  <a:lnTo>
                    <a:pt x="2515" y="1507"/>
                  </a:lnTo>
                  <a:lnTo>
                    <a:pt x="2506" y="1504"/>
                  </a:lnTo>
                  <a:lnTo>
                    <a:pt x="2497" y="1504"/>
                  </a:lnTo>
                  <a:lnTo>
                    <a:pt x="2489" y="1504"/>
                  </a:lnTo>
                  <a:lnTo>
                    <a:pt x="2486" y="1512"/>
                  </a:lnTo>
                  <a:lnTo>
                    <a:pt x="2486" y="1521"/>
                  </a:lnTo>
                  <a:lnTo>
                    <a:pt x="2491" y="1530"/>
                  </a:lnTo>
                  <a:lnTo>
                    <a:pt x="2486" y="1538"/>
                  </a:lnTo>
                  <a:lnTo>
                    <a:pt x="2477" y="1538"/>
                  </a:lnTo>
                  <a:lnTo>
                    <a:pt x="2474" y="1547"/>
                  </a:lnTo>
                  <a:lnTo>
                    <a:pt x="2489" y="1550"/>
                  </a:lnTo>
                  <a:lnTo>
                    <a:pt x="2497" y="1553"/>
                  </a:lnTo>
                  <a:lnTo>
                    <a:pt x="2506" y="1553"/>
                  </a:lnTo>
                  <a:lnTo>
                    <a:pt x="2515" y="1559"/>
                  </a:lnTo>
                  <a:lnTo>
                    <a:pt x="2521" y="1570"/>
                  </a:lnTo>
                  <a:lnTo>
                    <a:pt x="2529" y="1576"/>
                  </a:lnTo>
                  <a:lnTo>
                    <a:pt x="2521" y="1567"/>
                  </a:lnTo>
                  <a:lnTo>
                    <a:pt x="2509" y="1561"/>
                  </a:lnTo>
                  <a:lnTo>
                    <a:pt x="2500" y="1559"/>
                  </a:lnTo>
                  <a:lnTo>
                    <a:pt x="2491" y="1567"/>
                  </a:lnTo>
                  <a:lnTo>
                    <a:pt x="2483" y="1570"/>
                  </a:lnTo>
                  <a:lnTo>
                    <a:pt x="2474" y="1570"/>
                  </a:lnTo>
                  <a:lnTo>
                    <a:pt x="2471" y="1561"/>
                  </a:lnTo>
                  <a:lnTo>
                    <a:pt x="2471" y="1553"/>
                  </a:lnTo>
                  <a:lnTo>
                    <a:pt x="2465" y="1544"/>
                  </a:lnTo>
                  <a:lnTo>
                    <a:pt x="2462" y="1535"/>
                  </a:lnTo>
                  <a:lnTo>
                    <a:pt x="2459" y="1524"/>
                  </a:lnTo>
                  <a:lnTo>
                    <a:pt x="2457" y="1515"/>
                  </a:lnTo>
                  <a:lnTo>
                    <a:pt x="2448" y="1510"/>
                  </a:lnTo>
                  <a:lnTo>
                    <a:pt x="2439" y="1504"/>
                  </a:lnTo>
                  <a:lnTo>
                    <a:pt x="2439" y="1512"/>
                  </a:lnTo>
                  <a:lnTo>
                    <a:pt x="2439" y="1521"/>
                  </a:lnTo>
                  <a:lnTo>
                    <a:pt x="2439" y="1530"/>
                  </a:lnTo>
                  <a:lnTo>
                    <a:pt x="2439" y="1538"/>
                  </a:lnTo>
                  <a:lnTo>
                    <a:pt x="2439" y="1547"/>
                  </a:lnTo>
                  <a:lnTo>
                    <a:pt x="2439" y="1556"/>
                  </a:lnTo>
                  <a:lnTo>
                    <a:pt x="2442" y="1564"/>
                  </a:lnTo>
                  <a:lnTo>
                    <a:pt x="2436" y="1573"/>
                  </a:lnTo>
                  <a:lnTo>
                    <a:pt x="2433" y="1582"/>
                  </a:lnTo>
                  <a:lnTo>
                    <a:pt x="2430" y="1590"/>
                  </a:lnTo>
                  <a:lnTo>
                    <a:pt x="2433" y="1599"/>
                  </a:lnTo>
                  <a:lnTo>
                    <a:pt x="2442" y="1602"/>
                  </a:lnTo>
                  <a:lnTo>
                    <a:pt x="2451" y="1605"/>
                  </a:lnTo>
                  <a:lnTo>
                    <a:pt x="2459" y="1608"/>
                  </a:lnTo>
                  <a:lnTo>
                    <a:pt x="2465" y="1616"/>
                  </a:lnTo>
                  <a:lnTo>
                    <a:pt x="2474" y="1628"/>
                  </a:lnTo>
                  <a:lnTo>
                    <a:pt x="2474" y="1636"/>
                  </a:lnTo>
                  <a:lnTo>
                    <a:pt x="2474" y="1648"/>
                  </a:lnTo>
                  <a:lnTo>
                    <a:pt x="2474" y="1657"/>
                  </a:lnTo>
                  <a:lnTo>
                    <a:pt x="2474" y="1665"/>
                  </a:lnTo>
                  <a:lnTo>
                    <a:pt x="2474" y="1674"/>
                  </a:lnTo>
                  <a:lnTo>
                    <a:pt x="2483" y="1680"/>
                  </a:lnTo>
                  <a:lnTo>
                    <a:pt x="2491" y="1682"/>
                  </a:lnTo>
                  <a:lnTo>
                    <a:pt x="2500" y="1682"/>
                  </a:lnTo>
                  <a:lnTo>
                    <a:pt x="2509" y="1680"/>
                  </a:lnTo>
                  <a:lnTo>
                    <a:pt x="2515" y="1671"/>
                  </a:lnTo>
                  <a:lnTo>
                    <a:pt x="2524" y="1671"/>
                  </a:lnTo>
                  <a:lnTo>
                    <a:pt x="2532" y="1668"/>
                  </a:lnTo>
                  <a:lnTo>
                    <a:pt x="2541" y="1671"/>
                  </a:lnTo>
                  <a:lnTo>
                    <a:pt x="2544" y="1680"/>
                  </a:lnTo>
                  <a:lnTo>
                    <a:pt x="2547" y="1688"/>
                  </a:lnTo>
                  <a:lnTo>
                    <a:pt x="2547" y="1697"/>
                  </a:lnTo>
                  <a:lnTo>
                    <a:pt x="2547" y="1706"/>
                  </a:lnTo>
                  <a:lnTo>
                    <a:pt x="2556" y="1714"/>
                  </a:lnTo>
                  <a:lnTo>
                    <a:pt x="2564" y="1720"/>
                  </a:lnTo>
                  <a:lnTo>
                    <a:pt x="2576" y="1726"/>
                  </a:lnTo>
                  <a:lnTo>
                    <a:pt x="2588" y="1726"/>
                  </a:lnTo>
                  <a:lnTo>
                    <a:pt x="2596" y="1726"/>
                  </a:lnTo>
                  <a:lnTo>
                    <a:pt x="2588" y="1723"/>
                  </a:lnTo>
                  <a:lnTo>
                    <a:pt x="2579" y="1720"/>
                  </a:lnTo>
                  <a:lnTo>
                    <a:pt x="2570" y="1717"/>
                  </a:lnTo>
                  <a:lnTo>
                    <a:pt x="2567" y="1708"/>
                  </a:lnTo>
                  <a:lnTo>
                    <a:pt x="2564" y="1697"/>
                  </a:lnTo>
                  <a:lnTo>
                    <a:pt x="2564" y="1688"/>
                  </a:lnTo>
                  <a:lnTo>
                    <a:pt x="2561" y="1680"/>
                  </a:lnTo>
                  <a:lnTo>
                    <a:pt x="2550" y="1671"/>
                  </a:lnTo>
                  <a:lnTo>
                    <a:pt x="2538" y="1665"/>
                  </a:lnTo>
                  <a:lnTo>
                    <a:pt x="2529" y="1662"/>
                  </a:lnTo>
                  <a:lnTo>
                    <a:pt x="2521" y="1659"/>
                  </a:lnTo>
                  <a:lnTo>
                    <a:pt x="2512" y="1662"/>
                  </a:lnTo>
                  <a:lnTo>
                    <a:pt x="2506" y="1671"/>
                  </a:lnTo>
                  <a:lnTo>
                    <a:pt x="2506" y="1680"/>
                  </a:lnTo>
                  <a:lnTo>
                    <a:pt x="2503" y="1688"/>
                  </a:lnTo>
                  <a:lnTo>
                    <a:pt x="2500" y="1697"/>
                  </a:lnTo>
                  <a:lnTo>
                    <a:pt x="2500" y="1706"/>
                  </a:lnTo>
                  <a:lnTo>
                    <a:pt x="2500" y="1714"/>
                  </a:lnTo>
                  <a:lnTo>
                    <a:pt x="2509" y="1723"/>
                  </a:lnTo>
                  <a:lnTo>
                    <a:pt x="2509" y="1731"/>
                  </a:lnTo>
                  <a:lnTo>
                    <a:pt x="2509" y="1740"/>
                  </a:lnTo>
                  <a:lnTo>
                    <a:pt x="2509" y="1749"/>
                  </a:lnTo>
                  <a:lnTo>
                    <a:pt x="2509" y="1757"/>
                  </a:lnTo>
                  <a:lnTo>
                    <a:pt x="2509" y="1766"/>
                  </a:lnTo>
                  <a:lnTo>
                    <a:pt x="2509" y="1775"/>
                  </a:lnTo>
                  <a:lnTo>
                    <a:pt x="2509" y="1783"/>
                  </a:lnTo>
                  <a:lnTo>
                    <a:pt x="2506" y="1772"/>
                  </a:lnTo>
                  <a:lnTo>
                    <a:pt x="2515" y="1757"/>
                  </a:lnTo>
                  <a:lnTo>
                    <a:pt x="2509" y="1766"/>
                  </a:lnTo>
                  <a:lnTo>
                    <a:pt x="2506" y="1775"/>
                  </a:lnTo>
                  <a:lnTo>
                    <a:pt x="2503" y="1783"/>
                  </a:lnTo>
                  <a:lnTo>
                    <a:pt x="2497" y="1792"/>
                  </a:lnTo>
                  <a:lnTo>
                    <a:pt x="2494" y="1801"/>
                  </a:lnTo>
                  <a:lnTo>
                    <a:pt x="2494" y="1809"/>
                  </a:lnTo>
                  <a:lnTo>
                    <a:pt x="2494" y="1818"/>
                  </a:lnTo>
                  <a:lnTo>
                    <a:pt x="2483" y="1824"/>
                  </a:lnTo>
                  <a:lnTo>
                    <a:pt x="2465" y="1824"/>
                  </a:lnTo>
                  <a:lnTo>
                    <a:pt x="2457" y="1821"/>
                  </a:lnTo>
                  <a:lnTo>
                    <a:pt x="2448" y="1812"/>
                  </a:lnTo>
                  <a:lnTo>
                    <a:pt x="2439" y="1809"/>
                  </a:lnTo>
                  <a:lnTo>
                    <a:pt x="2430" y="1809"/>
                  </a:lnTo>
                  <a:lnTo>
                    <a:pt x="2427" y="1798"/>
                  </a:lnTo>
                  <a:lnTo>
                    <a:pt x="2439" y="1795"/>
                  </a:lnTo>
                  <a:lnTo>
                    <a:pt x="2454" y="1792"/>
                  </a:lnTo>
                  <a:lnTo>
                    <a:pt x="2462" y="1792"/>
                  </a:lnTo>
                  <a:lnTo>
                    <a:pt x="2471" y="1792"/>
                  </a:lnTo>
                  <a:lnTo>
                    <a:pt x="2477" y="1783"/>
                  </a:lnTo>
                  <a:lnTo>
                    <a:pt x="2480" y="1775"/>
                  </a:lnTo>
                  <a:lnTo>
                    <a:pt x="2480" y="1766"/>
                  </a:lnTo>
                  <a:lnTo>
                    <a:pt x="2483" y="1757"/>
                  </a:lnTo>
                  <a:lnTo>
                    <a:pt x="2486" y="1749"/>
                  </a:lnTo>
                  <a:lnTo>
                    <a:pt x="2489" y="1740"/>
                  </a:lnTo>
                  <a:lnTo>
                    <a:pt x="2491" y="1731"/>
                  </a:lnTo>
                  <a:lnTo>
                    <a:pt x="2489" y="1723"/>
                  </a:lnTo>
                  <a:lnTo>
                    <a:pt x="2489" y="1714"/>
                  </a:lnTo>
                  <a:lnTo>
                    <a:pt x="2480" y="1708"/>
                  </a:lnTo>
                  <a:lnTo>
                    <a:pt x="2474" y="1700"/>
                  </a:lnTo>
                  <a:lnTo>
                    <a:pt x="2468" y="1691"/>
                  </a:lnTo>
                  <a:lnTo>
                    <a:pt x="2465" y="1682"/>
                  </a:lnTo>
                  <a:lnTo>
                    <a:pt x="2459" y="1674"/>
                  </a:lnTo>
                  <a:lnTo>
                    <a:pt x="2454" y="1665"/>
                  </a:lnTo>
                  <a:lnTo>
                    <a:pt x="2454" y="1657"/>
                  </a:lnTo>
                  <a:lnTo>
                    <a:pt x="2454" y="1648"/>
                  </a:lnTo>
                  <a:lnTo>
                    <a:pt x="2454" y="1639"/>
                  </a:lnTo>
                  <a:lnTo>
                    <a:pt x="2451" y="1631"/>
                  </a:lnTo>
                  <a:lnTo>
                    <a:pt x="2448" y="1622"/>
                  </a:lnTo>
                  <a:lnTo>
                    <a:pt x="2442" y="1613"/>
                  </a:lnTo>
                  <a:lnTo>
                    <a:pt x="2433" y="1608"/>
                  </a:lnTo>
                  <a:lnTo>
                    <a:pt x="2427" y="1599"/>
                  </a:lnTo>
                  <a:lnTo>
                    <a:pt x="2422" y="1590"/>
                  </a:lnTo>
                  <a:lnTo>
                    <a:pt x="2419" y="1582"/>
                  </a:lnTo>
                  <a:lnTo>
                    <a:pt x="2419" y="1573"/>
                  </a:lnTo>
                  <a:lnTo>
                    <a:pt x="2416" y="1564"/>
                  </a:lnTo>
                  <a:lnTo>
                    <a:pt x="2416" y="1556"/>
                  </a:lnTo>
                  <a:lnTo>
                    <a:pt x="2416" y="1547"/>
                  </a:lnTo>
                  <a:lnTo>
                    <a:pt x="2416" y="1538"/>
                  </a:lnTo>
                  <a:lnTo>
                    <a:pt x="2416" y="1530"/>
                  </a:lnTo>
                  <a:lnTo>
                    <a:pt x="2407" y="1521"/>
                  </a:lnTo>
                  <a:lnTo>
                    <a:pt x="2395" y="1518"/>
                  </a:lnTo>
                  <a:lnTo>
                    <a:pt x="2390" y="1510"/>
                  </a:lnTo>
                  <a:lnTo>
                    <a:pt x="2390" y="1501"/>
                  </a:lnTo>
                  <a:lnTo>
                    <a:pt x="2381" y="1498"/>
                  </a:lnTo>
                  <a:lnTo>
                    <a:pt x="2390" y="1504"/>
                  </a:lnTo>
                  <a:lnTo>
                    <a:pt x="2381" y="1510"/>
                  </a:lnTo>
                  <a:lnTo>
                    <a:pt x="2372" y="1515"/>
                  </a:lnTo>
                  <a:lnTo>
                    <a:pt x="2372" y="1524"/>
                  </a:lnTo>
                  <a:lnTo>
                    <a:pt x="2366" y="1533"/>
                  </a:lnTo>
                  <a:lnTo>
                    <a:pt x="2366" y="1541"/>
                  </a:lnTo>
                  <a:lnTo>
                    <a:pt x="2366" y="1550"/>
                  </a:lnTo>
                  <a:lnTo>
                    <a:pt x="2366" y="1559"/>
                  </a:lnTo>
                  <a:lnTo>
                    <a:pt x="2366" y="1567"/>
                  </a:lnTo>
                  <a:lnTo>
                    <a:pt x="2363" y="1576"/>
                  </a:lnTo>
                  <a:lnTo>
                    <a:pt x="2360" y="1584"/>
                  </a:lnTo>
                  <a:lnTo>
                    <a:pt x="2358" y="1593"/>
                  </a:lnTo>
                  <a:lnTo>
                    <a:pt x="2352" y="1602"/>
                  </a:lnTo>
                  <a:lnTo>
                    <a:pt x="2349" y="1610"/>
                  </a:lnTo>
                  <a:lnTo>
                    <a:pt x="2346" y="1619"/>
                  </a:lnTo>
                  <a:lnTo>
                    <a:pt x="2346" y="1628"/>
                  </a:lnTo>
                  <a:lnTo>
                    <a:pt x="2346" y="1636"/>
                  </a:lnTo>
                  <a:lnTo>
                    <a:pt x="2355" y="1639"/>
                  </a:lnTo>
                  <a:lnTo>
                    <a:pt x="2363" y="1639"/>
                  </a:lnTo>
                  <a:lnTo>
                    <a:pt x="2372" y="1636"/>
                  </a:lnTo>
                  <a:lnTo>
                    <a:pt x="2372" y="1645"/>
                  </a:lnTo>
                  <a:lnTo>
                    <a:pt x="2372" y="1654"/>
                  </a:lnTo>
                  <a:lnTo>
                    <a:pt x="2372" y="1662"/>
                  </a:lnTo>
                  <a:lnTo>
                    <a:pt x="2372" y="1671"/>
                  </a:lnTo>
                  <a:lnTo>
                    <a:pt x="2372" y="1682"/>
                  </a:lnTo>
                  <a:lnTo>
                    <a:pt x="2369" y="1691"/>
                  </a:lnTo>
                  <a:lnTo>
                    <a:pt x="2378" y="1697"/>
                  </a:lnTo>
                  <a:lnTo>
                    <a:pt x="2381" y="1706"/>
                  </a:lnTo>
                  <a:lnTo>
                    <a:pt x="2390" y="1711"/>
                  </a:lnTo>
                  <a:lnTo>
                    <a:pt x="2401" y="1714"/>
                  </a:lnTo>
                  <a:lnTo>
                    <a:pt x="2404" y="1723"/>
                  </a:lnTo>
                  <a:lnTo>
                    <a:pt x="2404" y="1731"/>
                  </a:lnTo>
                  <a:lnTo>
                    <a:pt x="2404" y="1740"/>
                  </a:lnTo>
                  <a:lnTo>
                    <a:pt x="2404" y="1749"/>
                  </a:lnTo>
                  <a:lnTo>
                    <a:pt x="2395" y="1743"/>
                  </a:lnTo>
                  <a:lnTo>
                    <a:pt x="2393" y="1734"/>
                  </a:lnTo>
                  <a:lnTo>
                    <a:pt x="2387" y="1723"/>
                  </a:lnTo>
                  <a:lnTo>
                    <a:pt x="2381" y="1714"/>
                  </a:lnTo>
                  <a:lnTo>
                    <a:pt x="2372" y="1711"/>
                  </a:lnTo>
                  <a:lnTo>
                    <a:pt x="2363" y="1708"/>
                  </a:lnTo>
                  <a:lnTo>
                    <a:pt x="2355" y="1708"/>
                  </a:lnTo>
                  <a:lnTo>
                    <a:pt x="2340" y="1706"/>
                  </a:lnTo>
                  <a:lnTo>
                    <a:pt x="2328" y="1703"/>
                  </a:lnTo>
                  <a:lnTo>
                    <a:pt x="2320" y="1697"/>
                  </a:lnTo>
                  <a:lnTo>
                    <a:pt x="2311" y="1694"/>
                  </a:lnTo>
                  <a:lnTo>
                    <a:pt x="2302" y="1691"/>
                  </a:lnTo>
                  <a:lnTo>
                    <a:pt x="2294" y="1688"/>
                  </a:lnTo>
                  <a:lnTo>
                    <a:pt x="2285" y="1685"/>
                  </a:lnTo>
                  <a:lnTo>
                    <a:pt x="2276" y="1685"/>
                  </a:lnTo>
                  <a:lnTo>
                    <a:pt x="2267" y="1685"/>
                  </a:lnTo>
                  <a:lnTo>
                    <a:pt x="2273" y="1680"/>
                  </a:lnTo>
                  <a:lnTo>
                    <a:pt x="2262" y="1671"/>
                  </a:lnTo>
                  <a:lnTo>
                    <a:pt x="2262" y="1662"/>
                  </a:lnTo>
                  <a:lnTo>
                    <a:pt x="2256" y="1671"/>
                  </a:lnTo>
                  <a:lnTo>
                    <a:pt x="2247" y="1671"/>
                  </a:lnTo>
                  <a:lnTo>
                    <a:pt x="2235" y="1671"/>
                  </a:lnTo>
                  <a:lnTo>
                    <a:pt x="2227" y="1668"/>
                  </a:lnTo>
                  <a:lnTo>
                    <a:pt x="2227" y="1659"/>
                  </a:lnTo>
                  <a:lnTo>
                    <a:pt x="2221" y="1668"/>
                  </a:lnTo>
                  <a:lnTo>
                    <a:pt x="2221" y="1677"/>
                  </a:lnTo>
                  <a:lnTo>
                    <a:pt x="2232" y="1680"/>
                  </a:lnTo>
                  <a:lnTo>
                    <a:pt x="2241" y="1682"/>
                  </a:lnTo>
                  <a:lnTo>
                    <a:pt x="2244" y="1691"/>
                  </a:lnTo>
                  <a:lnTo>
                    <a:pt x="2247" y="1700"/>
                  </a:lnTo>
                  <a:lnTo>
                    <a:pt x="2250" y="1708"/>
                  </a:lnTo>
                  <a:lnTo>
                    <a:pt x="2259" y="1711"/>
                  </a:lnTo>
                  <a:lnTo>
                    <a:pt x="2262" y="1720"/>
                  </a:lnTo>
                  <a:lnTo>
                    <a:pt x="2262" y="1729"/>
                  </a:lnTo>
                  <a:lnTo>
                    <a:pt x="2262" y="1737"/>
                  </a:lnTo>
                  <a:lnTo>
                    <a:pt x="2253" y="1743"/>
                  </a:lnTo>
                  <a:lnTo>
                    <a:pt x="2250" y="1752"/>
                  </a:lnTo>
                  <a:lnTo>
                    <a:pt x="2250" y="1760"/>
                  </a:lnTo>
                  <a:lnTo>
                    <a:pt x="2244" y="1752"/>
                  </a:lnTo>
                  <a:lnTo>
                    <a:pt x="2241" y="1743"/>
                  </a:lnTo>
                  <a:lnTo>
                    <a:pt x="2232" y="1743"/>
                  </a:lnTo>
                  <a:lnTo>
                    <a:pt x="2232" y="1734"/>
                  </a:lnTo>
                  <a:lnTo>
                    <a:pt x="2221" y="1729"/>
                  </a:lnTo>
                  <a:lnTo>
                    <a:pt x="2209" y="1731"/>
                  </a:lnTo>
                  <a:lnTo>
                    <a:pt x="2200" y="1734"/>
                  </a:lnTo>
                  <a:lnTo>
                    <a:pt x="2192" y="1737"/>
                  </a:lnTo>
                  <a:lnTo>
                    <a:pt x="2183" y="1746"/>
                  </a:lnTo>
                  <a:lnTo>
                    <a:pt x="2177" y="1755"/>
                  </a:lnTo>
                  <a:lnTo>
                    <a:pt x="2168" y="1755"/>
                  </a:lnTo>
                  <a:lnTo>
                    <a:pt x="2160" y="1760"/>
                  </a:lnTo>
                  <a:lnTo>
                    <a:pt x="2151" y="1769"/>
                  </a:lnTo>
                  <a:lnTo>
                    <a:pt x="2142" y="1772"/>
                  </a:lnTo>
                  <a:lnTo>
                    <a:pt x="2133" y="1772"/>
                  </a:lnTo>
                  <a:lnTo>
                    <a:pt x="2133" y="1763"/>
                  </a:lnTo>
                  <a:lnTo>
                    <a:pt x="2142" y="1755"/>
                  </a:lnTo>
                  <a:lnTo>
                    <a:pt x="2151" y="1752"/>
                  </a:lnTo>
                  <a:lnTo>
                    <a:pt x="2160" y="1749"/>
                  </a:lnTo>
                  <a:lnTo>
                    <a:pt x="2160" y="1737"/>
                  </a:lnTo>
                  <a:lnTo>
                    <a:pt x="2154" y="1729"/>
                  </a:lnTo>
                  <a:lnTo>
                    <a:pt x="2145" y="1729"/>
                  </a:lnTo>
                  <a:lnTo>
                    <a:pt x="2136" y="1734"/>
                  </a:lnTo>
                  <a:lnTo>
                    <a:pt x="2128" y="1740"/>
                  </a:lnTo>
                  <a:lnTo>
                    <a:pt x="2122" y="1749"/>
                  </a:lnTo>
                  <a:lnTo>
                    <a:pt x="2113" y="1755"/>
                  </a:lnTo>
                  <a:lnTo>
                    <a:pt x="2104" y="1757"/>
                  </a:lnTo>
                  <a:lnTo>
                    <a:pt x="2096" y="1763"/>
                  </a:lnTo>
                  <a:lnTo>
                    <a:pt x="2087" y="1763"/>
                  </a:lnTo>
                  <a:lnTo>
                    <a:pt x="2078" y="1766"/>
                  </a:lnTo>
                  <a:lnTo>
                    <a:pt x="2069" y="1769"/>
                  </a:lnTo>
                  <a:lnTo>
                    <a:pt x="2061" y="1772"/>
                  </a:lnTo>
                  <a:lnTo>
                    <a:pt x="2055" y="1780"/>
                  </a:lnTo>
                  <a:lnTo>
                    <a:pt x="2052" y="1789"/>
                  </a:lnTo>
                  <a:lnTo>
                    <a:pt x="2040" y="1792"/>
                  </a:lnTo>
                  <a:lnTo>
                    <a:pt x="2034" y="1801"/>
                  </a:lnTo>
                  <a:lnTo>
                    <a:pt x="2034" y="1809"/>
                  </a:lnTo>
                  <a:lnTo>
                    <a:pt x="2029" y="1818"/>
                  </a:lnTo>
                  <a:lnTo>
                    <a:pt x="2020" y="1824"/>
                  </a:lnTo>
                  <a:lnTo>
                    <a:pt x="2011" y="1827"/>
                  </a:lnTo>
                  <a:lnTo>
                    <a:pt x="2008" y="1815"/>
                  </a:lnTo>
                  <a:lnTo>
                    <a:pt x="2005" y="1806"/>
                  </a:lnTo>
                  <a:lnTo>
                    <a:pt x="2005" y="1798"/>
                  </a:lnTo>
                  <a:lnTo>
                    <a:pt x="1997" y="1789"/>
                  </a:lnTo>
                  <a:lnTo>
                    <a:pt x="1988" y="1780"/>
                  </a:lnTo>
                  <a:lnTo>
                    <a:pt x="1999" y="1780"/>
                  </a:lnTo>
                  <a:lnTo>
                    <a:pt x="2011" y="1778"/>
                  </a:lnTo>
                  <a:lnTo>
                    <a:pt x="2020" y="1775"/>
                  </a:lnTo>
                  <a:lnTo>
                    <a:pt x="2020" y="1766"/>
                  </a:lnTo>
                  <a:lnTo>
                    <a:pt x="2023" y="1757"/>
                  </a:lnTo>
                  <a:lnTo>
                    <a:pt x="2023" y="1749"/>
                  </a:lnTo>
                  <a:lnTo>
                    <a:pt x="2014" y="1743"/>
                  </a:lnTo>
                  <a:lnTo>
                    <a:pt x="2005" y="1740"/>
                  </a:lnTo>
                  <a:lnTo>
                    <a:pt x="1994" y="1740"/>
                  </a:lnTo>
                  <a:lnTo>
                    <a:pt x="1985" y="1737"/>
                  </a:lnTo>
                  <a:lnTo>
                    <a:pt x="1976" y="1731"/>
                  </a:lnTo>
                  <a:lnTo>
                    <a:pt x="1967" y="1729"/>
                  </a:lnTo>
                  <a:lnTo>
                    <a:pt x="1967" y="1737"/>
                  </a:lnTo>
                  <a:lnTo>
                    <a:pt x="1970" y="1746"/>
                  </a:lnTo>
                  <a:lnTo>
                    <a:pt x="1976" y="1755"/>
                  </a:lnTo>
                  <a:lnTo>
                    <a:pt x="1976" y="1763"/>
                  </a:lnTo>
                  <a:lnTo>
                    <a:pt x="1976" y="1772"/>
                  </a:lnTo>
                  <a:lnTo>
                    <a:pt x="1973" y="1780"/>
                  </a:lnTo>
                  <a:lnTo>
                    <a:pt x="1965" y="1789"/>
                  </a:lnTo>
                  <a:lnTo>
                    <a:pt x="1956" y="1795"/>
                  </a:lnTo>
                  <a:lnTo>
                    <a:pt x="1953" y="1803"/>
                  </a:lnTo>
                  <a:lnTo>
                    <a:pt x="1962" y="1806"/>
                  </a:lnTo>
                  <a:lnTo>
                    <a:pt x="1970" y="1806"/>
                  </a:lnTo>
                  <a:lnTo>
                    <a:pt x="1979" y="1806"/>
                  </a:lnTo>
                  <a:lnTo>
                    <a:pt x="1982" y="1815"/>
                  </a:lnTo>
                  <a:lnTo>
                    <a:pt x="1976" y="1824"/>
                  </a:lnTo>
                  <a:lnTo>
                    <a:pt x="1965" y="1832"/>
                  </a:lnTo>
                  <a:lnTo>
                    <a:pt x="1959" y="1841"/>
                  </a:lnTo>
                  <a:lnTo>
                    <a:pt x="1959" y="1850"/>
                  </a:lnTo>
                  <a:lnTo>
                    <a:pt x="1947" y="1838"/>
                  </a:lnTo>
                  <a:lnTo>
                    <a:pt x="1938" y="1835"/>
                  </a:lnTo>
                  <a:lnTo>
                    <a:pt x="1933" y="1827"/>
                  </a:lnTo>
                  <a:lnTo>
                    <a:pt x="1924" y="1821"/>
                  </a:lnTo>
                  <a:lnTo>
                    <a:pt x="1915" y="1821"/>
                  </a:lnTo>
                  <a:lnTo>
                    <a:pt x="1906" y="1829"/>
                  </a:lnTo>
                  <a:lnTo>
                    <a:pt x="1898" y="1835"/>
                  </a:lnTo>
                  <a:lnTo>
                    <a:pt x="1889" y="1838"/>
                  </a:lnTo>
                  <a:lnTo>
                    <a:pt x="1880" y="1841"/>
                  </a:lnTo>
                  <a:lnTo>
                    <a:pt x="1874" y="1850"/>
                  </a:lnTo>
                  <a:lnTo>
                    <a:pt x="1871" y="1858"/>
                  </a:lnTo>
                  <a:lnTo>
                    <a:pt x="1868" y="1867"/>
                  </a:lnTo>
                  <a:lnTo>
                    <a:pt x="1868" y="1876"/>
                  </a:lnTo>
                  <a:lnTo>
                    <a:pt x="1868" y="1884"/>
                  </a:lnTo>
                  <a:lnTo>
                    <a:pt x="1868" y="1893"/>
                  </a:lnTo>
                  <a:lnTo>
                    <a:pt x="1868" y="1901"/>
                  </a:lnTo>
                  <a:lnTo>
                    <a:pt x="1860" y="1907"/>
                  </a:lnTo>
                  <a:lnTo>
                    <a:pt x="1848" y="1901"/>
                  </a:lnTo>
                  <a:lnTo>
                    <a:pt x="1845" y="1893"/>
                  </a:lnTo>
                  <a:lnTo>
                    <a:pt x="1839" y="1884"/>
                  </a:lnTo>
                  <a:lnTo>
                    <a:pt x="1831" y="1876"/>
                  </a:lnTo>
                  <a:lnTo>
                    <a:pt x="1822" y="1870"/>
                  </a:lnTo>
                  <a:lnTo>
                    <a:pt x="1813" y="1867"/>
                  </a:lnTo>
                  <a:lnTo>
                    <a:pt x="1804" y="1867"/>
                  </a:lnTo>
                  <a:lnTo>
                    <a:pt x="1799" y="1876"/>
                  </a:lnTo>
                  <a:lnTo>
                    <a:pt x="1796" y="1884"/>
                  </a:lnTo>
                  <a:lnTo>
                    <a:pt x="1796" y="1893"/>
                  </a:lnTo>
                  <a:lnTo>
                    <a:pt x="1804" y="1899"/>
                  </a:lnTo>
                  <a:lnTo>
                    <a:pt x="1816" y="1901"/>
                  </a:lnTo>
                  <a:lnTo>
                    <a:pt x="1819" y="1910"/>
                  </a:lnTo>
                  <a:lnTo>
                    <a:pt x="1807" y="1910"/>
                  </a:lnTo>
                  <a:lnTo>
                    <a:pt x="1819" y="1893"/>
                  </a:lnTo>
                  <a:lnTo>
                    <a:pt x="1810" y="1896"/>
                  </a:lnTo>
                  <a:lnTo>
                    <a:pt x="1822" y="1899"/>
                  </a:lnTo>
                  <a:lnTo>
                    <a:pt x="1822" y="1910"/>
                  </a:lnTo>
                  <a:lnTo>
                    <a:pt x="1822" y="1919"/>
                  </a:lnTo>
                  <a:lnTo>
                    <a:pt x="1816" y="1927"/>
                  </a:lnTo>
                  <a:lnTo>
                    <a:pt x="1802" y="1927"/>
                  </a:lnTo>
                  <a:lnTo>
                    <a:pt x="1793" y="1922"/>
                  </a:lnTo>
                  <a:lnTo>
                    <a:pt x="1790" y="1913"/>
                  </a:lnTo>
                  <a:lnTo>
                    <a:pt x="1790" y="1904"/>
                  </a:lnTo>
                  <a:lnTo>
                    <a:pt x="1784" y="1896"/>
                  </a:lnTo>
                  <a:lnTo>
                    <a:pt x="1778" y="1887"/>
                  </a:lnTo>
                  <a:lnTo>
                    <a:pt x="1770" y="1878"/>
                  </a:lnTo>
                  <a:lnTo>
                    <a:pt x="1767" y="1870"/>
                  </a:lnTo>
                  <a:lnTo>
                    <a:pt x="1764" y="1861"/>
                  </a:lnTo>
                  <a:lnTo>
                    <a:pt x="1764" y="1850"/>
                  </a:lnTo>
                  <a:lnTo>
                    <a:pt x="1764" y="1841"/>
                  </a:lnTo>
                  <a:lnTo>
                    <a:pt x="1764" y="1832"/>
                  </a:lnTo>
                  <a:lnTo>
                    <a:pt x="1772" y="1827"/>
                  </a:lnTo>
                  <a:lnTo>
                    <a:pt x="1778" y="1818"/>
                  </a:lnTo>
                  <a:lnTo>
                    <a:pt x="1778" y="1809"/>
                  </a:lnTo>
                  <a:lnTo>
                    <a:pt x="1778" y="1801"/>
                  </a:lnTo>
                  <a:lnTo>
                    <a:pt x="1778" y="1792"/>
                  </a:lnTo>
                  <a:lnTo>
                    <a:pt x="1770" y="1783"/>
                  </a:lnTo>
                  <a:lnTo>
                    <a:pt x="1761" y="1778"/>
                  </a:lnTo>
                  <a:lnTo>
                    <a:pt x="1752" y="1772"/>
                  </a:lnTo>
                  <a:lnTo>
                    <a:pt x="1752" y="1763"/>
                  </a:lnTo>
                  <a:lnTo>
                    <a:pt x="1752" y="1752"/>
                  </a:lnTo>
                  <a:lnTo>
                    <a:pt x="1752" y="1743"/>
                  </a:lnTo>
                  <a:lnTo>
                    <a:pt x="1764" y="1749"/>
                  </a:lnTo>
                  <a:lnTo>
                    <a:pt x="1772" y="1757"/>
                  </a:lnTo>
                  <a:lnTo>
                    <a:pt x="1781" y="1763"/>
                  </a:lnTo>
                  <a:lnTo>
                    <a:pt x="1781" y="1772"/>
                  </a:lnTo>
                  <a:lnTo>
                    <a:pt x="1787" y="1783"/>
                  </a:lnTo>
                  <a:lnTo>
                    <a:pt x="1796" y="1789"/>
                  </a:lnTo>
                  <a:lnTo>
                    <a:pt x="1804" y="1795"/>
                  </a:lnTo>
                  <a:lnTo>
                    <a:pt x="1816" y="1801"/>
                  </a:lnTo>
                  <a:lnTo>
                    <a:pt x="1822" y="1809"/>
                  </a:lnTo>
                  <a:lnTo>
                    <a:pt x="1831" y="1815"/>
                  </a:lnTo>
                  <a:lnTo>
                    <a:pt x="1836" y="1824"/>
                  </a:lnTo>
                  <a:lnTo>
                    <a:pt x="1845" y="1829"/>
                  </a:lnTo>
                  <a:lnTo>
                    <a:pt x="1854" y="1835"/>
                  </a:lnTo>
                  <a:lnTo>
                    <a:pt x="1866" y="1835"/>
                  </a:lnTo>
                  <a:lnTo>
                    <a:pt x="1874" y="1835"/>
                  </a:lnTo>
                  <a:lnTo>
                    <a:pt x="1883" y="1835"/>
                  </a:lnTo>
                  <a:lnTo>
                    <a:pt x="1892" y="1829"/>
                  </a:lnTo>
                  <a:lnTo>
                    <a:pt x="1901" y="1827"/>
                  </a:lnTo>
                  <a:lnTo>
                    <a:pt x="1909" y="1818"/>
                  </a:lnTo>
                  <a:lnTo>
                    <a:pt x="1909" y="1809"/>
                  </a:lnTo>
                  <a:lnTo>
                    <a:pt x="1909" y="1801"/>
                  </a:lnTo>
                  <a:lnTo>
                    <a:pt x="1909" y="1792"/>
                  </a:lnTo>
                  <a:lnTo>
                    <a:pt x="1915" y="1783"/>
                  </a:lnTo>
                  <a:lnTo>
                    <a:pt x="1918" y="1775"/>
                  </a:lnTo>
                  <a:lnTo>
                    <a:pt x="1918" y="1766"/>
                  </a:lnTo>
                  <a:lnTo>
                    <a:pt x="1915" y="1757"/>
                  </a:lnTo>
                  <a:lnTo>
                    <a:pt x="1909" y="1749"/>
                  </a:lnTo>
                  <a:lnTo>
                    <a:pt x="1901" y="1740"/>
                  </a:lnTo>
                  <a:lnTo>
                    <a:pt x="1895" y="1731"/>
                  </a:lnTo>
                  <a:lnTo>
                    <a:pt x="1892" y="1720"/>
                  </a:lnTo>
                  <a:lnTo>
                    <a:pt x="1889" y="1711"/>
                  </a:lnTo>
                  <a:lnTo>
                    <a:pt x="1880" y="1706"/>
                  </a:lnTo>
                  <a:lnTo>
                    <a:pt x="1871" y="1697"/>
                  </a:lnTo>
                  <a:lnTo>
                    <a:pt x="1866" y="1688"/>
                  </a:lnTo>
                  <a:lnTo>
                    <a:pt x="1860" y="1680"/>
                  </a:lnTo>
                  <a:lnTo>
                    <a:pt x="1851" y="1671"/>
                  </a:lnTo>
                  <a:lnTo>
                    <a:pt x="1842" y="1665"/>
                  </a:lnTo>
                  <a:lnTo>
                    <a:pt x="1831" y="1662"/>
                  </a:lnTo>
                  <a:lnTo>
                    <a:pt x="1819" y="1657"/>
                  </a:lnTo>
                  <a:lnTo>
                    <a:pt x="1813" y="1648"/>
                  </a:lnTo>
                  <a:lnTo>
                    <a:pt x="1810" y="1639"/>
                  </a:lnTo>
                  <a:lnTo>
                    <a:pt x="1807" y="1631"/>
                  </a:lnTo>
                  <a:lnTo>
                    <a:pt x="1799" y="1622"/>
                  </a:lnTo>
                  <a:lnTo>
                    <a:pt x="1793" y="1613"/>
                  </a:lnTo>
                  <a:lnTo>
                    <a:pt x="1784" y="1613"/>
                  </a:lnTo>
                  <a:lnTo>
                    <a:pt x="1772" y="1613"/>
                  </a:lnTo>
                  <a:lnTo>
                    <a:pt x="1764" y="1608"/>
                  </a:lnTo>
                  <a:lnTo>
                    <a:pt x="1761" y="1599"/>
                  </a:lnTo>
                  <a:lnTo>
                    <a:pt x="1772" y="1596"/>
                  </a:lnTo>
                  <a:lnTo>
                    <a:pt x="1781" y="1596"/>
                  </a:lnTo>
                  <a:lnTo>
                    <a:pt x="1787" y="1587"/>
                  </a:lnTo>
                  <a:lnTo>
                    <a:pt x="1778" y="1579"/>
                  </a:lnTo>
                  <a:lnTo>
                    <a:pt x="1770" y="1576"/>
                  </a:lnTo>
                  <a:lnTo>
                    <a:pt x="1761" y="1573"/>
                  </a:lnTo>
                  <a:lnTo>
                    <a:pt x="1758" y="1564"/>
                  </a:lnTo>
                  <a:lnTo>
                    <a:pt x="1758" y="1556"/>
                  </a:lnTo>
                  <a:lnTo>
                    <a:pt x="1758" y="1547"/>
                  </a:lnTo>
                  <a:lnTo>
                    <a:pt x="1749" y="1547"/>
                  </a:lnTo>
                  <a:lnTo>
                    <a:pt x="1737" y="1553"/>
                  </a:lnTo>
                  <a:lnTo>
                    <a:pt x="1729" y="1553"/>
                  </a:lnTo>
                  <a:lnTo>
                    <a:pt x="1720" y="1556"/>
                  </a:lnTo>
                  <a:lnTo>
                    <a:pt x="1720" y="1547"/>
                  </a:lnTo>
                  <a:lnTo>
                    <a:pt x="1723" y="1538"/>
                  </a:lnTo>
                  <a:lnTo>
                    <a:pt x="1726" y="1550"/>
                  </a:lnTo>
                  <a:lnTo>
                    <a:pt x="1723" y="1559"/>
                  </a:lnTo>
                  <a:lnTo>
                    <a:pt x="1723" y="1567"/>
                  </a:lnTo>
                  <a:lnTo>
                    <a:pt x="1732" y="1567"/>
                  </a:lnTo>
                  <a:lnTo>
                    <a:pt x="1740" y="1556"/>
                  </a:lnTo>
                  <a:lnTo>
                    <a:pt x="1726" y="1553"/>
                  </a:lnTo>
                  <a:lnTo>
                    <a:pt x="1717" y="1553"/>
                  </a:lnTo>
                  <a:lnTo>
                    <a:pt x="1705" y="1553"/>
                  </a:lnTo>
                  <a:lnTo>
                    <a:pt x="1705" y="1541"/>
                  </a:lnTo>
                  <a:lnTo>
                    <a:pt x="1711" y="1533"/>
                  </a:lnTo>
                  <a:lnTo>
                    <a:pt x="1700" y="1535"/>
                  </a:lnTo>
                  <a:lnTo>
                    <a:pt x="1691" y="1541"/>
                  </a:lnTo>
                  <a:lnTo>
                    <a:pt x="1679" y="1544"/>
                  </a:lnTo>
                  <a:lnTo>
                    <a:pt x="1685" y="1533"/>
                  </a:lnTo>
                  <a:lnTo>
                    <a:pt x="1685" y="1524"/>
                  </a:lnTo>
                  <a:lnTo>
                    <a:pt x="1676" y="1524"/>
                  </a:lnTo>
                  <a:lnTo>
                    <a:pt x="1668" y="1533"/>
                  </a:lnTo>
                  <a:lnTo>
                    <a:pt x="1662" y="1541"/>
                  </a:lnTo>
                  <a:lnTo>
                    <a:pt x="1653" y="1544"/>
                  </a:lnTo>
                  <a:lnTo>
                    <a:pt x="1653" y="1535"/>
                  </a:lnTo>
                  <a:lnTo>
                    <a:pt x="1644" y="1541"/>
                  </a:lnTo>
                  <a:lnTo>
                    <a:pt x="1641" y="1550"/>
                  </a:lnTo>
                  <a:lnTo>
                    <a:pt x="1633" y="1547"/>
                  </a:lnTo>
                  <a:lnTo>
                    <a:pt x="1633" y="1538"/>
                  </a:lnTo>
                  <a:lnTo>
                    <a:pt x="1624" y="1538"/>
                  </a:lnTo>
                  <a:lnTo>
                    <a:pt x="1615" y="1541"/>
                  </a:lnTo>
                  <a:lnTo>
                    <a:pt x="1609" y="1550"/>
                  </a:lnTo>
                  <a:lnTo>
                    <a:pt x="1601" y="1541"/>
                  </a:lnTo>
                  <a:lnTo>
                    <a:pt x="1598" y="1533"/>
                  </a:lnTo>
                  <a:lnTo>
                    <a:pt x="1589" y="1535"/>
                  </a:lnTo>
                  <a:lnTo>
                    <a:pt x="1580" y="1541"/>
                  </a:lnTo>
                  <a:lnTo>
                    <a:pt x="1569" y="1538"/>
                  </a:lnTo>
                  <a:lnTo>
                    <a:pt x="1563" y="1547"/>
                  </a:lnTo>
                  <a:lnTo>
                    <a:pt x="1557" y="1559"/>
                  </a:lnTo>
                  <a:lnTo>
                    <a:pt x="1554" y="1567"/>
                  </a:lnTo>
                  <a:lnTo>
                    <a:pt x="1548" y="1576"/>
                  </a:lnTo>
                  <a:lnTo>
                    <a:pt x="1540" y="1576"/>
                  </a:lnTo>
                  <a:lnTo>
                    <a:pt x="1531" y="1576"/>
                  </a:lnTo>
                  <a:lnTo>
                    <a:pt x="1525" y="1564"/>
                  </a:lnTo>
                  <a:lnTo>
                    <a:pt x="1525" y="1556"/>
                  </a:lnTo>
                  <a:lnTo>
                    <a:pt x="1525" y="1547"/>
                  </a:lnTo>
                  <a:lnTo>
                    <a:pt x="1516" y="1544"/>
                  </a:lnTo>
                  <a:lnTo>
                    <a:pt x="1513" y="1553"/>
                  </a:lnTo>
                  <a:lnTo>
                    <a:pt x="1528" y="1541"/>
                  </a:lnTo>
                  <a:lnTo>
                    <a:pt x="1510" y="1530"/>
                  </a:lnTo>
                  <a:lnTo>
                    <a:pt x="1502" y="1530"/>
                  </a:lnTo>
                  <a:lnTo>
                    <a:pt x="1493" y="1538"/>
                  </a:lnTo>
                  <a:lnTo>
                    <a:pt x="1484" y="1544"/>
                  </a:lnTo>
                  <a:lnTo>
                    <a:pt x="1481" y="1553"/>
                  </a:lnTo>
                  <a:lnTo>
                    <a:pt x="1481" y="1561"/>
                  </a:lnTo>
                  <a:lnTo>
                    <a:pt x="1487" y="1570"/>
                  </a:lnTo>
                  <a:lnTo>
                    <a:pt x="1487" y="1579"/>
                  </a:lnTo>
                  <a:lnTo>
                    <a:pt x="1478" y="1587"/>
                  </a:lnTo>
                  <a:lnTo>
                    <a:pt x="1470" y="1590"/>
                  </a:lnTo>
                  <a:lnTo>
                    <a:pt x="1461" y="1599"/>
                  </a:lnTo>
                  <a:lnTo>
                    <a:pt x="1443" y="1599"/>
                  </a:lnTo>
                  <a:lnTo>
                    <a:pt x="1432" y="1599"/>
                  </a:lnTo>
                  <a:lnTo>
                    <a:pt x="1426" y="1610"/>
                  </a:lnTo>
                  <a:lnTo>
                    <a:pt x="1420" y="1619"/>
                  </a:lnTo>
                  <a:lnTo>
                    <a:pt x="1429" y="1619"/>
                  </a:lnTo>
                  <a:lnTo>
                    <a:pt x="1417" y="1628"/>
                  </a:lnTo>
                  <a:lnTo>
                    <a:pt x="1406" y="1628"/>
                  </a:lnTo>
                  <a:lnTo>
                    <a:pt x="1397" y="1628"/>
                  </a:lnTo>
                  <a:lnTo>
                    <a:pt x="1388" y="1628"/>
                  </a:lnTo>
                  <a:lnTo>
                    <a:pt x="1382" y="1636"/>
                  </a:lnTo>
                  <a:lnTo>
                    <a:pt x="1379" y="1645"/>
                  </a:lnTo>
                  <a:lnTo>
                    <a:pt x="1371" y="1645"/>
                  </a:lnTo>
                  <a:lnTo>
                    <a:pt x="1362" y="1645"/>
                  </a:lnTo>
                  <a:lnTo>
                    <a:pt x="1356" y="1654"/>
                  </a:lnTo>
                  <a:lnTo>
                    <a:pt x="1347" y="1657"/>
                  </a:lnTo>
                  <a:lnTo>
                    <a:pt x="1336" y="1659"/>
                  </a:lnTo>
                  <a:lnTo>
                    <a:pt x="1327" y="1659"/>
                  </a:lnTo>
                  <a:lnTo>
                    <a:pt x="1318" y="1662"/>
                  </a:lnTo>
                  <a:lnTo>
                    <a:pt x="1310" y="1662"/>
                  </a:lnTo>
                  <a:lnTo>
                    <a:pt x="1298" y="1662"/>
                  </a:lnTo>
                  <a:lnTo>
                    <a:pt x="1289" y="1665"/>
                  </a:lnTo>
                  <a:lnTo>
                    <a:pt x="1280" y="1671"/>
                  </a:lnTo>
                  <a:lnTo>
                    <a:pt x="1278" y="1680"/>
                  </a:lnTo>
                  <a:lnTo>
                    <a:pt x="1280" y="1691"/>
                  </a:lnTo>
                  <a:lnTo>
                    <a:pt x="1289" y="1694"/>
                  </a:lnTo>
                  <a:lnTo>
                    <a:pt x="1301" y="1697"/>
                  </a:lnTo>
                  <a:lnTo>
                    <a:pt x="1312" y="1697"/>
                  </a:lnTo>
                  <a:lnTo>
                    <a:pt x="1321" y="1697"/>
                  </a:lnTo>
                  <a:lnTo>
                    <a:pt x="1310" y="1694"/>
                  </a:lnTo>
                  <a:lnTo>
                    <a:pt x="1298" y="1694"/>
                  </a:lnTo>
                  <a:lnTo>
                    <a:pt x="1289" y="1691"/>
                  </a:lnTo>
                  <a:lnTo>
                    <a:pt x="1304" y="1685"/>
                  </a:lnTo>
                  <a:lnTo>
                    <a:pt x="1312" y="1685"/>
                  </a:lnTo>
                  <a:lnTo>
                    <a:pt x="1321" y="1685"/>
                  </a:lnTo>
                  <a:lnTo>
                    <a:pt x="1312" y="1682"/>
                  </a:lnTo>
                  <a:lnTo>
                    <a:pt x="1301" y="1685"/>
                  </a:lnTo>
                  <a:lnTo>
                    <a:pt x="1292" y="1685"/>
                  </a:lnTo>
                  <a:lnTo>
                    <a:pt x="1286" y="1677"/>
                  </a:lnTo>
                  <a:lnTo>
                    <a:pt x="1275" y="1668"/>
                  </a:lnTo>
                  <a:lnTo>
                    <a:pt x="1266" y="1665"/>
                  </a:lnTo>
                  <a:lnTo>
                    <a:pt x="1248" y="1659"/>
                  </a:lnTo>
                  <a:lnTo>
                    <a:pt x="1240" y="1659"/>
                  </a:lnTo>
                  <a:lnTo>
                    <a:pt x="1234" y="1668"/>
                  </a:lnTo>
                  <a:lnTo>
                    <a:pt x="1225" y="1671"/>
                  </a:lnTo>
                  <a:lnTo>
                    <a:pt x="1216" y="1674"/>
                  </a:lnTo>
                  <a:lnTo>
                    <a:pt x="1208" y="1674"/>
                  </a:lnTo>
                  <a:lnTo>
                    <a:pt x="1199" y="1671"/>
                  </a:lnTo>
                  <a:lnTo>
                    <a:pt x="1190" y="1674"/>
                  </a:lnTo>
                  <a:lnTo>
                    <a:pt x="1176" y="1671"/>
                  </a:lnTo>
                  <a:lnTo>
                    <a:pt x="1167" y="1668"/>
                  </a:lnTo>
                  <a:lnTo>
                    <a:pt x="1161" y="1677"/>
                  </a:lnTo>
                  <a:lnTo>
                    <a:pt x="1152" y="1682"/>
                  </a:lnTo>
                  <a:lnTo>
                    <a:pt x="1144" y="1682"/>
                  </a:lnTo>
                  <a:lnTo>
                    <a:pt x="1132" y="1682"/>
                  </a:lnTo>
                  <a:lnTo>
                    <a:pt x="1132" y="1691"/>
                  </a:lnTo>
                  <a:lnTo>
                    <a:pt x="1132" y="1700"/>
                  </a:lnTo>
                  <a:lnTo>
                    <a:pt x="1147" y="1708"/>
                  </a:lnTo>
                  <a:lnTo>
                    <a:pt x="1155" y="1720"/>
                  </a:lnTo>
                  <a:lnTo>
                    <a:pt x="1158" y="1729"/>
                  </a:lnTo>
                  <a:lnTo>
                    <a:pt x="1158" y="1737"/>
                  </a:lnTo>
                  <a:lnTo>
                    <a:pt x="1161" y="1746"/>
                  </a:lnTo>
                  <a:lnTo>
                    <a:pt x="1161" y="1737"/>
                  </a:lnTo>
                  <a:lnTo>
                    <a:pt x="1155" y="1726"/>
                  </a:lnTo>
                  <a:lnTo>
                    <a:pt x="1152" y="1717"/>
                  </a:lnTo>
                  <a:lnTo>
                    <a:pt x="1138" y="1717"/>
                  </a:lnTo>
                  <a:lnTo>
                    <a:pt x="1129" y="1711"/>
                  </a:lnTo>
                  <a:lnTo>
                    <a:pt x="1120" y="1711"/>
                  </a:lnTo>
                  <a:lnTo>
                    <a:pt x="1117" y="1720"/>
                  </a:lnTo>
                  <a:lnTo>
                    <a:pt x="1114" y="1731"/>
                  </a:lnTo>
                  <a:lnTo>
                    <a:pt x="1114" y="1740"/>
                  </a:lnTo>
                  <a:lnTo>
                    <a:pt x="1126" y="1740"/>
                  </a:lnTo>
                  <a:lnTo>
                    <a:pt x="1138" y="1743"/>
                  </a:lnTo>
                  <a:lnTo>
                    <a:pt x="1129" y="1743"/>
                  </a:lnTo>
                  <a:lnTo>
                    <a:pt x="1120" y="1743"/>
                  </a:lnTo>
                  <a:lnTo>
                    <a:pt x="1112" y="1746"/>
                  </a:lnTo>
                  <a:lnTo>
                    <a:pt x="1103" y="1752"/>
                  </a:lnTo>
                  <a:lnTo>
                    <a:pt x="1094" y="1755"/>
                  </a:lnTo>
                  <a:lnTo>
                    <a:pt x="1085" y="1763"/>
                  </a:lnTo>
                  <a:lnTo>
                    <a:pt x="1077" y="1766"/>
                  </a:lnTo>
                  <a:lnTo>
                    <a:pt x="1068" y="1766"/>
                  </a:lnTo>
                  <a:lnTo>
                    <a:pt x="1077" y="1772"/>
                  </a:lnTo>
                  <a:lnTo>
                    <a:pt x="1085" y="1772"/>
                  </a:lnTo>
                  <a:lnTo>
                    <a:pt x="1097" y="1775"/>
                  </a:lnTo>
                  <a:lnTo>
                    <a:pt x="1091" y="1783"/>
                  </a:lnTo>
                  <a:lnTo>
                    <a:pt x="1080" y="1786"/>
                  </a:lnTo>
                  <a:lnTo>
                    <a:pt x="1071" y="1786"/>
                  </a:lnTo>
                  <a:lnTo>
                    <a:pt x="1062" y="1789"/>
                  </a:lnTo>
                  <a:lnTo>
                    <a:pt x="1056" y="1798"/>
                  </a:lnTo>
                  <a:lnTo>
                    <a:pt x="1056" y="1806"/>
                  </a:lnTo>
                  <a:lnTo>
                    <a:pt x="1056" y="1815"/>
                  </a:lnTo>
                  <a:lnTo>
                    <a:pt x="1056" y="1824"/>
                  </a:lnTo>
                  <a:lnTo>
                    <a:pt x="1056" y="1832"/>
                  </a:lnTo>
                  <a:lnTo>
                    <a:pt x="1056" y="1841"/>
                  </a:lnTo>
                  <a:lnTo>
                    <a:pt x="1062" y="1850"/>
                  </a:lnTo>
                  <a:lnTo>
                    <a:pt x="1074" y="1855"/>
                  </a:lnTo>
                  <a:lnTo>
                    <a:pt x="1082" y="1855"/>
                  </a:lnTo>
                  <a:lnTo>
                    <a:pt x="1091" y="1855"/>
                  </a:lnTo>
                  <a:lnTo>
                    <a:pt x="1103" y="1855"/>
                  </a:lnTo>
                  <a:lnTo>
                    <a:pt x="1112" y="1855"/>
                  </a:lnTo>
                  <a:lnTo>
                    <a:pt x="1120" y="1855"/>
                  </a:lnTo>
                  <a:lnTo>
                    <a:pt x="1132" y="1855"/>
                  </a:lnTo>
                  <a:lnTo>
                    <a:pt x="1144" y="1855"/>
                  </a:lnTo>
                  <a:lnTo>
                    <a:pt x="1152" y="1852"/>
                  </a:lnTo>
                  <a:lnTo>
                    <a:pt x="1167" y="1852"/>
                  </a:lnTo>
                  <a:lnTo>
                    <a:pt x="1176" y="1844"/>
                  </a:lnTo>
                  <a:lnTo>
                    <a:pt x="1179" y="1835"/>
                  </a:lnTo>
                  <a:lnTo>
                    <a:pt x="1181" y="1827"/>
                  </a:lnTo>
                  <a:lnTo>
                    <a:pt x="1184" y="1835"/>
                  </a:lnTo>
                  <a:lnTo>
                    <a:pt x="1184" y="1844"/>
                  </a:lnTo>
                  <a:lnTo>
                    <a:pt x="1181" y="1852"/>
                  </a:lnTo>
                  <a:lnTo>
                    <a:pt x="1170" y="1858"/>
                  </a:lnTo>
                  <a:lnTo>
                    <a:pt x="1173" y="1867"/>
                  </a:lnTo>
                  <a:lnTo>
                    <a:pt x="1170" y="1876"/>
                  </a:lnTo>
                  <a:lnTo>
                    <a:pt x="1164" y="1884"/>
                  </a:lnTo>
                  <a:lnTo>
                    <a:pt x="1161" y="1893"/>
                  </a:lnTo>
                  <a:lnTo>
                    <a:pt x="1161" y="1901"/>
                  </a:lnTo>
                  <a:lnTo>
                    <a:pt x="1158" y="1910"/>
                  </a:lnTo>
                  <a:lnTo>
                    <a:pt x="1149" y="1913"/>
                  </a:lnTo>
                  <a:lnTo>
                    <a:pt x="1147" y="1922"/>
                  </a:lnTo>
                  <a:lnTo>
                    <a:pt x="1147" y="1930"/>
                  </a:lnTo>
                  <a:lnTo>
                    <a:pt x="1144" y="1939"/>
                  </a:lnTo>
                  <a:lnTo>
                    <a:pt x="1144" y="1948"/>
                  </a:lnTo>
                  <a:lnTo>
                    <a:pt x="1141" y="1956"/>
                  </a:lnTo>
                  <a:lnTo>
                    <a:pt x="1141" y="1968"/>
                  </a:lnTo>
                  <a:lnTo>
                    <a:pt x="1141" y="1976"/>
                  </a:lnTo>
                  <a:lnTo>
                    <a:pt x="1155" y="1956"/>
                  </a:lnTo>
                  <a:lnTo>
                    <a:pt x="1144" y="1956"/>
                  </a:lnTo>
                  <a:lnTo>
                    <a:pt x="1144" y="1965"/>
                  </a:lnTo>
                  <a:lnTo>
                    <a:pt x="1144" y="1974"/>
                  </a:lnTo>
                  <a:lnTo>
                    <a:pt x="1144" y="1982"/>
                  </a:lnTo>
                  <a:lnTo>
                    <a:pt x="1138" y="1991"/>
                  </a:lnTo>
                  <a:lnTo>
                    <a:pt x="1129" y="1997"/>
                  </a:lnTo>
                  <a:lnTo>
                    <a:pt x="1120" y="1997"/>
                  </a:lnTo>
                  <a:lnTo>
                    <a:pt x="1117" y="2005"/>
                  </a:lnTo>
                  <a:lnTo>
                    <a:pt x="1117" y="2014"/>
                  </a:lnTo>
                  <a:lnTo>
                    <a:pt x="1117" y="2023"/>
                  </a:lnTo>
                  <a:lnTo>
                    <a:pt x="1117" y="2031"/>
                  </a:lnTo>
                  <a:lnTo>
                    <a:pt x="1120" y="2040"/>
                  </a:lnTo>
                  <a:lnTo>
                    <a:pt x="1129" y="2046"/>
                  </a:lnTo>
                  <a:lnTo>
                    <a:pt x="1144" y="2054"/>
                  </a:lnTo>
                  <a:lnTo>
                    <a:pt x="1152" y="2054"/>
                  </a:lnTo>
                  <a:lnTo>
                    <a:pt x="1158" y="2046"/>
                  </a:lnTo>
                  <a:lnTo>
                    <a:pt x="1158" y="2037"/>
                  </a:lnTo>
                  <a:lnTo>
                    <a:pt x="1170" y="2037"/>
                  </a:lnTo>
                  <a:lnTo>
                    <a:pt x="1179" y="2037"/>
                  </a:lnTo>
                  <a:lnTo>
                    <a:pt x="1187" y="2037"/>
                  </a:lnTo>
                  <a:lnTo>
                    <a:pt x="1199" y="2037"/>
                  </a:lnTo>
                  <a:lnTo>
                    <a:pt x="1208" y="2040"/>
                  </a:lnTo>
                  <a:lnTo>
                    <a:pt x="1216" y="2043"/>
                  </a:lnTo>
                  <a:lnTo>
                    <a:pt x="1225" y="2040"/>
                  </a:lnTo>
                  <a:lnTo>
                    <a:pt x="1228" y="2031"/>
                  </a:lnTo>
                  <a:lnTo>
                    <a:pt x="1231" y="2023"/>
                  </a:lnTo>
                  <a:lnTo>
                    <a:pt x="1237" y="2014"/>
                  </a:lnTo>
                  <a:lnTo>
                    <a:pt x="1245" y="2005"/>
                  </a:lnTo>
                  <a:lnTo>
                    <a:pt x="1251" y="1997"/>
                  </a:lnTo>
                  <a:lnTo>
                    <a:pt x="1260" y="1991"/>
                  </a:lnTo>
                  <a:lnTo>
                    <a:pt x="1266" y="1982"/>
                  </a:lnTo>
                  <a:lnTo>
                    <a:pt x="1269" y="1974"/>
                  </a:lnTo>
                  <a:lnTo>
                    <a:pt x="1272" y="1965"/>
                  </a:lnTo>
                  <a:lnTo>
                    <a:pt x="1280" y="1962"/>
                  </a:lnTo>
                  <a:lnTo>
                    <a:pt x="1289" y="1962"/>
                  </a:lnTo>
                  <a:lnTo>
                    <a:pt x="1298" y="1959"/>
                  </a:lnTo>
                  <a:lnTo>
                    <a:pt x="1301" y="1950"/>
                  </a:lnTo>
                  <a:lnTo>
                    <a:pt x="1304" y="1942"/>
                  </a:lnTo>
                  <a:lnTo>
                    <a:pt x="1301" y="1933"/>
                  </a:lnTo>
                  <a:lnTo>
                    <a:pt x="1292" y="1925"/>
                  </a:lnTo>
                  <a:lnTo>
                    <a:pt x="1301" y="1919"/>
                  </a:lnTo>
                  <a:lnTo>
                    <a:pt x="1310" y="1927"/>
                  </a:lnTo>
                  <a:lnTo>
                    <a:pt x="1318" y="1933"/>
                  </a:lnTo>
                  <a:lnTo>
                    <a:pt x="1324" y="1942"/>
                  </a:lnTo>
                  <a:lnTo>
                    <a:pt x="1333" y="1950"/>
                  </a:lnTo>
                  <a:lnTo>
                    <a:pt x="1342" y="1950"/>
                  </a:lnTo>
                  <a:lnTo>
                    <a:pt x="1350" y="1950"/>
                  </a:lnTo>
                  <a:lnTo>
                    <a:pt x="1353" y="1942"/>
                  </a:lnTo>
                  <a:lnTo>
                    <a:pt x="1353" y="1933"/>
                  </a:lnTo>
                  <a:lnTo>
                    <a:pt x="1356" y="1925"/>
                  </a:lnTo>
                  <a:lnTo>
                    <a:pt x="1356" y="1916"/>
                  </a:lnTo>
                  <a:lnTo>
                    <a:pt x="1359" y="1907"/>
                  </a:lnTo>
                  <a:lnTo>
                    <a:pt x="1359" y="1899"/>
                  </a:lnTo>
                  <a:lnTo>
                    <a:pt x="1356" y="1890"/>
                  </a:lnTo>
                  <a:lnTo>
                    <a:pt x="1347" y="1881"/>
                  </a:lnTo>
                  <a:lnTo>
                    <a:pt x="1347" y="1870"/>
                  </a:lnTo>
                  <a:lnTo>
                    <a:pt x="1347" y="1861"/>
                  </a:lnTo>
                  <a:lnTo>
                    <a:pt x="1356" y="1855"/>
                  </a:lnTo>
                  <a:lnTo>
                    <a:pt x="1362" y="1847"/>
                  </a:lnTo>
                  <a:lnTo>
                    <a:pt x="1371" y="1844"/>
                  </a:lnTo>
                  <a:lnTo>
                    <a:pt x="1379" y="1835"/>
                  </a:lnTo>
                  <a:lnTo>
                    <a:pt x="1382" y="1827"/>
                  </a:lnTo>
                  <a:lnTo>
                    <a:pt x="1391" y="1821"/>
                  </a:lnTo>
                  <a:lnTo>
                    <a:pt x="1400" y="1815"/>
                  </a:lnTo>
                  <a:lnTo>
                    <a:pt x="1406" y="1806"/>
                  </a:lnTo>
                  <a:lnTo>
                    <a:pt x="1414" y="1801"/>
                  </a:lnTo>
                  <a:lnTo>
                    <a:pt x="1423" y="1801"/>
                  </a:lnTo>
                  <a:lnTo>
                    <a:pt x="1435" y="1798"/>
                  </a:lnTo>
                  <a:lnTo>
                    <a:pt x="1443" y="1792"/>
                  </a:lnTo>
                  <a:lnTo>
                    <a:pt x="1452" y="1792"/>
                  </a:lnTo>
                  <a:lnTo>
                    <a:pt x="1464" y="1789"/>
                  </a:lnTo>
                  <a:lnTo>
                    <a:pt x="1473" y="1789"/>
                  </a:lnTo>
                  <a:lnTo>
                    <a:pt x="1481" y="1789"/>
                  </a:lnTo>
                  <a:lnTo>
                    <a:pt x="1490" y="1786"/>
                  </a:lnTo>
                  <a:lnTo>
                    <a:pt x="1499" y="1786"/>
                  </a:lnTo>
                  <a:lnTo>
                    <a:pt x="1508" y="1786"/>
                  </a:lnTo>
                  <a:lnTo>
                    <a:pt x="1516" y="1783"/>
                  </a:lnTo>
                  <a:lnTo>
                    <a:pt x="1516" y="1775"/>
                  </a:lnTo>
                  <a:lnTo>
                    <a:pt x="1516" y="1766"/>
                  </a:lnTo>
                  <a:lnTo>
                    <a:pt x="1513" y="1757"/>
                  </a:lnTo>
                  <a:lnTo>
                    <a:pt x="1522" y="1752"/>
                  </a:lnTo>
                  <a:lnTo>
                    <a:pt x="1528" y="1743"/>
                  </a:lnTo>
                  <a:lnTo>
                    <a:pt x="1537" y="1737"/>
                  </a:lnTo>
                  <a:lnTo>
                    <a:pt x="1545" y="1737"/>
                  </a:lnTo>
                  <a:lnTo>
                    <a:pt x="1554" y="1734"/>
                  </a:lnTo>
                  <a:lnTo>
                    <a:pt x="1563" y="1729"/>
                  </a:lnTo>
                  <a:lnTo>
                    <a:pt x="1572" y="1729"/>
                  </a:lnTo>
                  <a:lnTo>
                    <a:pt x="1580" y="1737"/>
                  </a:lnTo>
                  <a:lnTo>
                    <a:pt x="1589" y="1743"/>
                  </a:lnTo>
                  <a:lnTo>
                    <a:pt x="1598" y="1749"/>
                  </a:lnTo>
                  <a:lnTo>
                    <a:pt x="1601" y="1757"/>
                  </a:lnTo>
                  <a:lnTo>
                    <a:pt x="1601" y="1766"/>
                  </a:lnTo>
                  <a:lnTo>
                    <a:pt x="1604" y="1775"/>
                  </a:lnTo>
                  <a:lnTo>
                    <a:pt x="1604" y="1783"/>
                  </a:lnTo>
                  <a:lnTo>
                    <a:pt x="1592" y="1789"/>
                  </a:lnTo>
                  <a:lnTo>
                    <a:pt x="1580" y="1789"/>
                  </a:lnTo>
                  <a:lnTo>
                    <a:pt x="1572" y="1792"/>
                  </a:lnTo>
                  <a:lnTo>
                    <a:pt x="1566" y="1801"/>
                  </a:lnTo>
                  <a:lnTo>
                    <a:pt x="1557" y="1806"/>
                  </a:lnTo>
                  <a:lnTo>
                    <a:pt x="1548" y="1812"/>
                  </a:lnTo>
                  <a:lnTo>
                    <a:pt x="1537" y="1815"/>
                  </a:lnTo>
                  <a:lnTo>
                    <a:pt x="1528" y="1818"/>
                  </a:lnTo>
                  <a:lnTo>
                    <a:pt x="1519" y="1824"/>
                  </a:lnTo>
                  <a:lnTo>
                    <a:pt x="1510" y="1829"/>
                  </a:lnTo>
                  <a:lnTo>
                    <a:pt x="1502" y="1829"/>
                  </a:lnTo>
                  <a:lnTo>
                    <a:pt x="1490" y="1832"/>
                  </a:lnTo>
                  <a:lnTo>
                    <a:pt x="1481" y="1835"/>
                  </a:lnTo>
                  <a:lnTo>
                    <a:pt x="1473" y="1835"/>
                  </a:lnTo>
                  <a:lnTo>
                    <a:pt x="1464" y="1841"/>
                  </a:lnTo>
                  <a:lnTo>
                    <a:pt x="1458" y="1850"/>
                  </a:lnTo>
                  <a:lnTo>
                    <a:pt x="1452" y="1858"/>
                  </a:lnTo>
                  <a:lnTo>
                    <a:pt x="1449" y="1867"/>
                  </a:lnTo>
                  <a:lnTo>
                    <a:pt x="1449" y="1876"/>
                  </a:lnTo>
                  <a:lnTo>
                    <a:pt x="1446" y="1884"/>
                  </a:lnTo>
                  <a:lnTo>
                    <a:pt x="1443" y="1893"/>
                  </a:lnTo>
                  <a:lnTo>
                    <a:pt x="1438" y="1901"/>
                  </a:lnTo>
                  <a:lnTo>
                    <a:pt x="1435" y="1910"/>
                  </a:lnTo>
                  <a:lnTo>
                    <a:pt x="1429" y="1919"/>
                  </a:lnTo>
                  <a:lnTo>
                    <a:pt x="1426" y="1927"/>
                  </a:lnTo>
                  <a:lnTo>
                    <a:pt x="1423" y="1936"/>
                  </a:lnTo>
                  <a:lnTo>
                    <a:pt x="1423" y="1945"/>
                  </a:lnTo>
                  <a:lnTo>
                    <a:pt x="1417" y="1953"/>
                  </a:lnTo>
                  <a:lnTo>
                    <a:pt x="1417" y="1962"/>
                  </a:lnTo>
                  <a:lnTo>
                    <a:pt x="1426" y="1962"/>
                  </a:lnTo>
                  <a:lnTo>
                    <a:pt x="1435" y="1974"/>
                  </a:lnTo>
                  <a:lnTo>
                    <a:pt x="1441" y="1982"/>
                  </a:lnTo>
                  <a:lnTo>
                    <a:pt x="1441" y="1991"/>
                  </a:lnTo>
                  <a:lnTo>
                    <a:pt x="1449" y="1991"/>
                  </a:lnTo>
                  <a:lnTo>
                    <a:pt x="1461" y="1991"/>
                  </a:lnTo>
                  <a:lnTo>
                    <a:pt x="1470" y="1991"/>
                  </a:lnTo>
                  <a:lnTo>
                    <a:pt x="1484" y="1994"/>
                  </a:lnTo>
                  <a:lnTo>
                    <a:pt x="1493" y="1994"/>
                  </a:lnTo>
                  <a:lnTo>
                    <a:pt x="1502" y="1994"/>
                  </a:lnTo>
                  <a:lnTo>
                    <a:pt x="1510" y="1991"/>
                  </a:lnTo>
                  <a:lnTo>
                    <a:pt x="1519" y="1997"/>
                  </a:lnTo>
                  <a:lnTo>
                    <a:pt x="1531" y="1988"/>
                  </a:lnTo>
                  <a:lnTo>
                    <a:pt x="1540" y="1991"/>
                  </a:lnTo>
                  <a:lnTo>
                    <a:pt x="1548" y="1994"/>
                  </a:lnTo>
                  <a:lnTo>
                    <a:pt x="1557" y="1997"/>
                  </a:lnTo>
                  <a:lnTo>
                    <a:pt x="1566" y="1997"/>
                  </a:lnTo>
                  <a:lnTo>
                    <a:pt x="1569" y="2005"/>
                  </a:lnTo>
                  <a:lnTo>
                    <a:pt x="1569" y="2014"/>
                  </a:lnTo>
                  <a:lnTo>
                    <a:pt x="1569" y="2023"/>
                  </a:lnTo>
                  <a:lnTo>
                    <a:pt x="1572" y="2031"/>
                  </a:lnTo>
                  <a:lnTo>
                    <a:pt x="1577" y="2040"/>
                  </a:lnTo>
                  <a:lnTo>
                    <a:pt x="1586" y="2048"/>
                  </a:lnTo>
                  <a:lnTo>
                    <a:pt x="1577" y="2040"/>
                  </a:lnTo>
                  <a:lnTo>
                    <a:pt x="1569" y="2037"/>
                  </a:lnTo>
                  <a:lnTo>
                    <a:pt x="1557" y="2037"/>
                  </a:lnTo>
                  <a:lnTo>
                    <a:pt x="1548" y="2040"/>
                  </a:lnTo>
                  <a:lnTo>
                    <a:pt x="1548" y="2048"/>
                  </a:lnTo>
                  <a:lnTo>
                    <a:pt x="1540" y="2054"/>
                  </a:lnTo>
                  <a:lnTo>
                    <a:pt x="1531" y="2051"/>
                  </a:lnTo>
                  <a:lnTo>
                    <a:pt x="1522" y="2043"/>
                  </a:lnTo>
                  <a:lnTo>
                    <a:pt x="1513" y="2034"/>
                  </a:lnTo>
                  <a:lnTo>
                    <a:pt x="1505" y="2031"/>
                  </a:lnTo>
                  <a:lnTo>
                    <a:pt x="1496" y="2031"/>
                  </a:lnTo>
                  <a:lnTo>
                    <a:pt x="1487" y="2028"/>
                  </a:lnTo>
                  <a:lnTo>
                    <a:pt x="1478" y="2025"/>
                  </a:lnTo>
                  <a:lnTo>
                    <a:pt x="1470" y="2023"/>
                  </a:lnTo>
                  <a:lnTo>
                    <a:pt x="1461" y="2020"/>
                  </a:lnTo>
                  <a:lnTo>
                    <a:pt x="1452" y="2017"/>
                  </a:lnTo>
                  <a:lnTo>
                    <a:pt x="1441" y="2011"/>
                  </a:lnTo>
                  <a:lnTo>
                    <a:pt x="1432" y="2011"/>
                  </a:lnTo>
                  <a:lnTo>
                    <a:pt x="1426" y="2020"/>
                  </a:lnTo>
                  <a:lnTo>
                    <a:pt x="1426" y="2028"/>
                  </a:lnTo>
                  <a:lnTo>
                    <a:pt x="1423" y="2037"/>
                  </a:lnTo>
                  <a:lnTo>
                    <a:pt x="1417" y="2046"/>
                  </a:lnTo>
                  <a:lnTo>
                    <a:pt x="1414" y="2054"/>
                  </a:lnTo>
                  <a:lnTo>
                    <a:pt x="1426" y="2060"/>
                  </a:lnTo>
                  <a:lnTo>
                    <a:pt x="1432" y="2069"/>
                  </a:lnTo>
                  <a:lnTo>
                    <a:pt x="1429" y="2077"/>
                  </a:lnTo>
                  <a:lnTo>
                    <a:pt x="1423" y="2086"/>
                  </a:lnTo>
                  <a:lnTo>
                    <a:pt x="1414" y="2089"/>
                  </a:lnTo>
                  <a:lnTo>
                    <a:pt x="1409" y="2097"/>
                  </a:lnTo>
                  <a:lnTo>
                    <a:pt x="1403" y="2106"/>
                  </a:lnTo>
                  <a:lnTo>
                    <a:pt x="1400" y="2115"/>
                  </a:lnTo>
                  <a:lnTo>
                    <a:pt x="1391" y="2112"/>
                  </a:lnTo>
                  <a:lnTo>
                    <a:pt x="1388" y="2103"/>
                  </a:lnTo>
                  <a:lnTo>
                    <a:pt x="1385" y="2095"/>
                  </a:lnTo>
                  <a:lnTo>
                    <a:pt x="1382" y="2086"/>
                  </a:lnTo>
                  <a:lnTo>
                    <a:pt x="1382" y="2077"/>
                  </a:lnTo>
                  <a:lnTo>
                    <a:pt x="1379" y="2069"/>
                  </a:lnTo>
                  <a:lnTo>
                    <a:pt x="1371" y="2063"/>
                  </a:lnTo>
                  <a:lnTo>
                    <a:pt x="1359" y="2063"/>
                  </a:lnTo>
                  <a:lnTo>
                    <a:pt x="1350" y="2063"/>
                  </a:lnTo>
                  <a:lnTo>
                    <a:pt x="1344" y="2072"/>
                  </a:lnTo>
                  <a:lnTo>
                    <a:pt x="1339" y="2080"/>
                  </a:lnTo>
                  <a:lnTo>
                    <a:pt x="1333" y="2089"/>
                  </a:lnTo>
                  <a:lnTo>
                    <a:pt x="1327" y="2097"/>
                  </a:lnTo>
                  <a:lnTo>
                    <a:pt x="1321" y="2106"/>
                  </a:lnTo>
                  <a:lnTo>
                    <a:pt x="1312" y="2109"/>
                  </a:lnTo>
                  <a:lnTo>
                    <a:pt x="1304" y="2112"/>
                  </a:lnTo>
                  <a:lnTo>
                    <a:pt x="1304" y="2120"/>
                  </a:lnTo>
                  <a:lnTo>
                    <a:pt x="1301" y="2129"/>
                  </a:lnTo>
                  <a:lnTo>
                    <a:pt x="1298" y="2138"/>
                  </a:lnTo>
                  <a:lnTo>
                    <a:pt x="1295" y="2146"/>
                  </a:lnTo>
                  <a:lnTo>
                    <a:pt x="1295" y="2095"/>
                  </a:lnTo>
                  <a:lnTo>
                    <a:pt x="1304" y="2103"/>
                  </a:lnTo>
                  <a:lnTo>
                    <a:pt x="1304" y="2115"/>
                  </a:lnTo>
                  <a:lnTo>
                    <a:pt x="1301" y="2123"/>
                  </a:lnTo>
                  <a:lnTo>
                    <a:pt x="1298" y="2132"/>
                  </a:lnTo>
                  <a:lnTo>
                    <a:pt x="1298" y="2141"/>
                  </a:lnTo>
                  <a:lnTo>
                    <a:pt x="1295" y="2149"/>
                  </a:lnTo>
                  <a:lnTo>
                    <a:pt x="1292" y="2161"/>
                  </a:lnTo>
                  <a:lnTo>
                    <a:pt x="1289" y="2169"/>
                  </a:lnTo>
                  <a:lnTo>
                    <a:pt x="1280" y="2175"/>
                  </a:lnTo>
                  <a:lnTo>
                    <a:pt x="1278" y="2167"/>
                  </a:lnTo>
                  <a:lnTo>
                    <a:pt x="1275" y="2155"/>
                  </a:lnTo>
                  <a:lnTo>
                    <a:pt x="1272" y="2146"/>
                  </a:lnTo>
                  <a:lnTo>
                    <a:pt x="1263" y="2146"/>
                  </a:lnTo>
                  <a:lnTo>
                    <a:pt x="1251" y="2149"/>
                  </a:lnTo>
                  <a:lnTo>
                    <a:pt x="1245" y="2158"/>
                  </a:lnTo>
                  <a:lnTo>
                    <a:pt x="1240" y="2167"/>
                  </a:lnTo>
                  <a:lnTo>
                    <a:pt x="1228" y="2167"/>
                  </a:lnTo>
                  <a:lnTo>
                    <a:pt x="1216" y="2167"/>
                  </a:lnTo>
                  <a:lnTo>
                    <a:pt x="1213" y="2155"/>
                  </a:lnTo>
                  <a:lnTo>
                    <a:pt x="1213" y="2144"/>
                  </a:lnTo>
                  <a:lnTo>
                    <a:pt x="1205" y="2138"/>
                  </a:lnTo>
                  <a:lnTo>
                    <a:pt x="1196" y="2132"/>
                  </a:lnTo>
                  <a:lnTo>
                    <a:pt x="1179" y="2126"/>
                  </a:lnTo>
                  <a:lnTo>
                    <a:pt x="1170" y="2123"/>
                  </a:lnTo>
                  <a:lnTo>
                    <a:pt x="1158" y="2123"/>
                  </a:lnTo>
                  <a:lnTo>
                    <a:pt x="1152" y="2132"/>
                  </a:lnTo>
                  <a:lnTo>
                    <a:pt x="1141" y="2135"/>
                  </a:lnTo>
                  <a:lnTo>
                    <a:pt x="1132" y="2132"/>
                  </a:lnTo>
                  <a:lnTo>
                    <a:pt x="1123" y="2123"/>
                  </a:lnTo>
                  <a:lnTo>
                    <a:pt x="1114" y="2118"/>
                  </a:lnTo>
                  <a:lnTo>
                    <a:pt x="1106" y="2115"/>
                  </a:lnTo>
                  <a:lnTo>
                    <a:pt x="1097" y="2115"/>
                  </a:lnTo>
                  <a:lnTo>
                    <a:pt x="1094" y="2106"/>
                  </a:lnTo>
                  <a:lnTo>
                    <a:pt x="1094" y="2097"/>
                  </a:lnTo>
                  <a:lnTo>
                    <a:pt x="1094" y="2089"/>
                  </a:lnTo>
                  <a:lnTo>
                    <a:pt x="1091" y="2077"/>
                  </a:lnTo>
                  <a:lnTo>
                    <a:pt x="1091" y="2069"/>
                  </a:lnTo>
                  <a:lnTo>
                    <a:pt x="1082" y="2066"/>
                  </a:lnTo>
                  <a:lnTo>
                    <a:pt x="1074" y="2066"/>
                  </a:lnTo>
                  <a:lnTo>
                    <a:pt x="1065" y="2066"/>
                  </a:lnTo>
                  <a:lnTo>
                    <a:pt x="1056" y="2066"/>
                  </a:lnTo>
                  <a:lnTo>
                    <a:pt x="1048" y="2066"/>
                  </a:lnTo>
                  <a:lnTo>
                    <a:pt x="1039" y="2066"/>
                  </a:lnTo>
                  <a:lnTo>
                    <a:pt x="1027" y="2063"/>
                  </a:lnTo>
                  <a:lnTo>
                    <a:pt x="1021" y="2054"/>
                  </a:lnTo>
                  <a:lnTo>
                    <a:pt x="1021" y="2046"/>
                  </a:lnTo>
                  <a:lnTo>
                    <a:pt x="1016" y="2048"/>
                  </a:lnTo>
                  <a:lnTo>
                    <a:pt x="1036" y="2031"/>
                  </a:lnTo>
                  <a:lnTo>
                    <a:pt x="1048" y="2020"/>
                  </a:lnTo>
                  <a:lnTo>
                    <a:pt x="1059" y="2017"/>
                  </a:lnTo>
                  <a:lnTo>
                    <a:pt x="1062" y="2025"/>
                  </a:lnTo>
                  <a:lnTo>
                    <a:pt x="1050" y="2025"/>
                  </a:lnTo>
                  <a:lnTo>
                    <a:pt x="1059" y="2025"/>
                  </a:lnTo>
                  <a:lnTo>
                    <a:pt x="1071" y="2025"/>
                  </a:lnTo>
                  <a:lnTo>
                    <a:pt x="1080" y="2025"/>
                  </a:lnTo>
                  <a:lnTo>
                    <a:pt x="1088" y="2028"/>
                  </a:lnTo>
                  <a:lnTo>
                    <a:pt x="1097" y="2028"/>
                  </a:lnTo>
                  <a:lnTo>
                    <a:pt x="1106" y="2025"/>
                  </a:lnTo>
                  <a:lnTo>
                    <a:pt x="1109" y="2017"/>
                  </a:lnTo>
                  <a:lnTo>
                    <a:pt x="1112" y="2008"/>
                  </a:lnTo>
                  <a:lnTo>
                    <a:pt x="1103" y="1999"/>
                  </a:lnTo>
                  <a:lnTo>
                    <a:pt x="1100" y="1991"/>
                  </a:lnTo>
                  <a:lnTo>
                    <a:pt x="1094" y="1982"/>
                  </a:lnTo>
                  <a:lnTo>
                    <a:pt x="1091" y="1974"/>
                  </a:lnTo>
                  <a:lnTo>
                    <a:pt x="1082" y="1971"/>
                  </a:lnTo>
                  <a:lnTo>
                    <a:pt x="1077" y="1979"/>
                  </a:lnTo>
                  <a:lnTo>
                    <a:pt x="1077" y="1991"/>
                  </a:lnTo>
                  <a:lnTo>
                    <a:pt x="1077" y="1999"/>
                  </a:lnTo>
                  <a:lnTo>
                    <a:pt x="1071" y="2008"/>
                  </a:lnTo>
                  <a:lnTo>
                    <a:pt x="1068" y="2020"/>
                  </a:lnTo>
                  <a:lnTo>
                    <a:pt x="1068" y="2028"/>
                  </a:lnTo>
                  <a:lnTo>
                    <a:pt x="1059" y="2031"/>
                  </a:lnTo>
                  <a:lnTo>
                    <a:pt x="1048" y="2031"/>
                  </a:lnTo>
                  <a:lnTo>
                    <a:pt x="1039" y="2031"/>
                  </a:lnTo>
                  <a:lnTo>
                    <a:pt x="1030" y="2031"/>
                  </a:lnTo>
                  <a:lnTo>
                    <a:pt x="1027" y="2020"/>
                  </a:lnTo>
                  <a:lnTo>
                    <a:pt x="1027" y="2011"/>
                  </a:lnTo>
                  <a:lnTo>
                    <a:pt x="1027" y="2002"/>
                  </a:lnTo>
                  <a:lnTo>
                    <a:pt x="1027" y="1994"/>
                  </a:lnTo>
                  <a:lnTo>
                    <a:pt x="1027" y="1985"/>
                  </a:lnTo>
                  <a:lnTo>
                    <a:pt x="1030" y="1976"/>
                  </a:lnTo>
                  <a:lnTo>
                    <a:pt x="1039" y="1974"/>
                  </a:lnTo>
                  <a:lnTo>
                    <a:pt x="1042" y="1982"/>
                  </a:lnTo>
                  <a:lnTo>
                    <a:pt x="1042" y="1994"/>
                  </a:lnTo>
                  <a:lnTo>
                    <a:pt x="1045" y="2002"/>
                  </a:lnTo>
                  <a:lnTo>
                    <a:pt x="1050" y="2011"/>
                  </a:lnTo>
                  <a:lnTo>
                    <a:pt x="1062" y="2014"/>
                  </a:lnTo>
                  <a:lnTo>
                    <a:pt x="1074" y="2014"/>
                  </a:lnTo>
                  <a:lnTo>
                    <a:pt x="1082" y="2005"/>
                  </a:lnTo>
                  <a:lnTo>
                    <a:pt x="1082" y="1997"/>
                  </a:lnTo>
                  <a:lnTo>
                    <a:pt x="1074" y="1985"/>
                  </a:lnTo>
                  <a:lnTo>
                    <a:pt x="1065" y="1979"/>
                  </a:lnTo>
                  <a:lnTo>
                    <a:pt x="1065" y="1971"/>
                  </a:lnTo>
                  <a:lnTo>
                    <a:pt x="1074" y="1968"/>
                  </a:lnTo>
                  <a:lnTo>
                    <a:pt x="1082" y="1968"/>
                  </a:lnTo>
                  <a:lnTo>
                    <a:pt x="1091" y="1962"/>
                  </a:lnTo>
                  <a:lnTo>
                    <a:pt x="1091" y="1953"/>
                  </a:lnTo>
                  <a:lnTo>
                    <a:pt x="1091" y="1945"/>
                  </a:lnTo>
                  <a:lnTo>
                    <a:pt x="1100" y="1939"/>
                  </a:lnTo>
                  <a:lnTo>
                    <a:pt x="1109" y="1936"/>
                  </a:lnTo>
                  <a:lnTo>
                    <a:pt x="1117" y="1936"/>
                  </a:lnTo>
                  <a:lnTo>
                    <a:pt x="1123" y="1927"/>
                  </a:lnTo>
                  <a:lnTo>
                    <a:pt x="1126" y="1919"/>
                  </a:lnTo>
                  <a:lnTo>
                    <a:pt x="1126" y="1910"/>
                  </a:lnTo>
                  <a:lnTo>
                    <a:pt x="1126" y="1901"/>
                  </a:lnTo>
                  <a:lnTo>
                    <a:pt x="1114" y="1901"/>
                  </a:lnTo>
                  <a:lnTo>
                    <a:pt x="1106" y="1901"/>
                  </a:lnTo>
                  <a:lnTo>
                    <a:pt x="1097" y="1901"/>
                  </a:lnTo>
                  <a:lnTo>
                    <a:pt x="1088" y="1904"/>
                  </a:lnTo>
                  <a:lnTo>
                    <a:pt x="1080" y="1910"/>
                  </a:lnTo>
                  <a:lnTo>
                    <a:pt x="1077" y="1925"/>
                  </a:lnTo>
                  <a:lnTo>
                    <a:pt x="1077" y="1933"/>
                  </a:lnTo>
                  <a:lnTo>
                    <a:pt x="1068" y="1933"/>
                  </a:lnTo>
                  <a:lnTo>
                    <a:pt x="1059" y="1922"/>
                  </a:lnTo>
                  <a:lnTo>
                    <a:pt x="1056" y="1913"/>
                  </a:lnTo>
                  <a:lnTo>
                    <a:pt x="1068" y="1910"/>
                  </a:lnTo>
                  <a:lnTo>
                    <a:pt x="1077" y="1910"/>
                  </a:lnTo>
                  <a:lnTo>
                    <a:pt x="1065" y="1901"/>
                  </a:lnTo>
                  <a:lnTo>
                    <a:pt x="1056" y="1896"/>
                  </a:lnTo>
                  <a:lnTo>
                    <a:pt x="1056" y="1904"/>
                  </a:lnTo>
                  <a:lnTo>
                    <a:pt x="1048" y="1910"/>
                  </a:lnTo>
                  <a:lnTo>
                    <a:pt x="1039" y="1919"/>
                  </a:lnTo>
                  <a:lnTo>
                    <a:pt x="1036" y="1927"/>
                  </a:lnTo>
                  <a:lnTo>
                    <a:pt x="1030" y="1936"/>
                  </a:lnTo>
                  <a:lnTo>
                    <a:pt x="1024" y="1945"/>
                  </a:lnTo>
                  <a:lnTo>
                    <a:pt x="1016" y="1950"/>
                  </a:lnTo>
                  <a:lnTo>
                    <a:pt x="1004" y="1953"/>
                  </a:lnTo>
                  <a:lnTo>
                    <a:pt x="1001" y="1962"/>
                  </a:lnTo>
                  <a:lnTo>
                    <a:pt x="1001" y="1971"/>
                  </a:lnTo>
                  <a:lnTo>
                    <a:pt x="1001" y="1979"/>
                  </a:lnTo>
                  <a:lnTo>
                    <a:pt x="1001" y="1988"/>
                  </a:lnTo>
                  <a:lnTo>
                    <a:pt x="1001" y="1997"/>
                  </a:lnTo>
                  <a:lnTo>
                    <a:pt x="995" y="2005"/>
                  </a:lnTo>
                  <a:lnTo>
                    <a:pt x="986" y="2011"/>
                  </a:lnTo>
                  <a:lnTo>
                    <a:pt x="981" y="2020"/>
                  </a:lnTo>
                  <a:lnTo>
                    <a:pt x="981" y="2028"/>
                  </a:lnTo>
                  <a:lnTo>
                    <a:pt x="981" y="2037"/>
                  </a:lnTo>
                  <a:lnTo>
                    <a:pt x="978" y="2046"/>
                  </a:lnTo>
                  <a:lnTo>
                    <a:pt x="978" y="2054"/>
                  </a:lnTo>
                  <a:lnTo>
                    <a:pt x="983" y="2046"/>
                  </a:lnTo>
                  <a:lnTo>
                    <a:pt x="983" y="2037"/>
                  </a:lnTo>
                  <a:lnTo>
                    <a:pt x="975" y="2034"/>
                  </a:lnTo>
                  <a:lnTo>
                    <a:pt x="966" y="2034"/>
                  </a:lnTo>
                  <a:lnTo>
                    <a:pt x="957" y="2034"/>
                  </a:lnTo>
                  <a:lnTo>
                    <a:pt x="949" y="2023"/>
                  </a:lnTo>
                  <a:lnTo>
                    <a:pt x="949" y="2011"/>
                  </a:lnTo>
                  <a:lnTo>
                    <a:pt x="940" y="2008"/>
                  </a:lnTo>
                  <a:lnTo>
                    <a:pt x="931" y="2008"/>
                  </a:lnTo>
                  <a:lnTo>
                    <a:pt x="922" y="2011"/>
                  </a:lnTo>
                  <a:lnTo>
                    <a:pt x="914" y="2008"/>
                  </a:lnTo>
                  <a:lnTo>
                    <a:pt x="899" y="2002"/>
                  </a:lnTo>
                  <a:lnTo>
                    <a:pt x="890" y="1988"/>
                  </a:lnTo>
                  <a:lnTo>
                    <a:pt x="885" y="1976"/>
                  </a:lnTo>
                  <a:lnTo>
                    <a:pt x="876" y="1976"/>
                  </a:lnTo>
                  <a:lnTo>
                    <a:pt x="867" y="1979"/>
                  </a:lnTo>
                  <a:lnTo>
                    <a:pt x="861" y="1988"/>
                  </a:lnTo>
                  <a:lnTo>
                    <a:pt x="852" y="1994"/>
                  </a:lnTo>
                  <a:lnTo>
                    <a:pt x="844" y="1999"/>
                  </a:lnTo>
                  <a:lnTo>
                    <a:pt x="835" y="2002"/>
                  </a:lnTo>
                  <a:lnTo>
                    <a:pt x="826" y="2005"/>
                  </a:lnTo>
                  <a:lnTo>
                    <a:pt x="818" y="2008"/>
                  </a:lnTo>
                  <a:lnTo>
                    <a:pt x="809" y="2008"/>
                  </a:lnTo>
                  <a:lnTo>
                    <a:pt x="797" y="2011"/>
                  </a:lnTo>
                  <a:lnTo>
                    <a:pt x="788" y="2011"/>
                  </a:lnTo>
                  <a:lnTo>
                    <a:pt x="797" y="2011"/>
                  </a:lnTo>
                  <a:lnTo>
                    <a:pt x="812" y="2014"/>
                  </a:lnTo>
                  <a:lnTo>
                    <a:pt x="803" y="2017"/>
                  </a:lnTo>
                  <a:lnTo>
                    <a:pt x="794" y="2020"/>
                  </a:lnTo>
                  <a:lnTo>
                    <a:pt x="803" y="2031"/>
                  </a:lnTo>
                  <a:lnTo>
                    <a:pt x="794" y="2031"/>
                  </a:lnTo>
                  <a:lnTo>
                    <a:pt x="786" y="2028"/>
                  </a:lnTo>
                  <a:lnTo>
                    <a:pt x="777" y="2023"/>
                  </a:lnTo>
                  <a:lnTo>
                    <a:pt x="771" y="2014"/>
                  </a:lnTo>
                  <a:lnTo>
                    <a:pt x="762" y="2011"/>
                  </a:lnTo>
                  <a:lnTo>
                    <a:pt x="751" y="2008"/>
                  </a:lnTo>
                  <a:lnTo>
                    <a:pt x="742" y="2008"/>
                  </a:lnTo>
                  <a:lnTo>
                    <a:pt x="733" y="2005"/>
                  </a:lnTo>
                  <a:lnTo>
                    <a:pt x="736" y="2002"/>
                  </a:lnTo>
                  <a:lnTo>
                    <a:pt x="721" y="1985"/>
                  </a:lnTo>
                  <a:lnTo>
                    <a:pt x="713" y="1985"/>
                  </a:lnTo>
                  <a:lnTo>
                    <a:pt x="710" y="1994"/>
                  </a:lnTo>
                  <a:lnTo>
                    <a:pt x="716" y="2005"/>
                  </a:lnTo>
                  <a:lnTo>
                    <a:pt x="713" y="2014"/>
                  </a:lnTo>
                  <a:lnTo>
                    <a:pt x="704" y="2020"/>
                  </a:lnTo>
                  <a:lnTo>
                    <a:pt x="704" y="2028"/>
                  </a:lnTo>
                  <a:lnTo>
                    <a:pt x="692" y="2031"/>
                  </a:lnTo>
                  <a:lnTo>
                    <a:pt x="684" y="2025"/>
                  </a:lnTo>
                  <a:lnTo>
                    <a:pt x="672" y="2020"/>
                  </a:lnTo>
                  <a:lnTo>
                    <a:pt x="660" y="2017"/>
                  </a:lnTo>
                  <a:lnTo>
                    <a:pt x="646" y="2011"/>
                  </a:lnTo>
                  <a:lnTo>
                    <a:pt x="634" y="2008"/>
                  </a:lnTo>
                  <a:lnTo>
                    <a:pt x="625" y="2005"/>
                  </a:lnTo>
                  <a:lnTo>
                    <a:pt x="622" y="1997"/>
                  </a:lnTo>
                  <a:lnTo>
                    <a:pt x="620" y="1988"/>
                  </a:lnTo>
                  <a:lnTo>
                    <a:pt x="611" y="1979"/>
                  </a:lnTo>
                  <a:lnTo>
                    <a:pt x="608" y="1971"/>
                  </a:lnTo>
                  <a:lnTo>
                    <a:pt x="599" y="1968"/>
                  </a:lnTo>
                  <a:lnTo>
                    <a:pt x="590" y="1974"/>
                  </a:lnTo>
                  <a:lnTo>
                    <a:pt x="588" y="1985"/>
                  </a:lnTo>
                  <a:lnTo>
                    <a:pt x="585" y="1997"/>
                  </a:lnTo>
                  <a:lnTo>
                    <a:pt x="576" y="2002"/>
                  </a:lnTo>
                  <a:lnTo>
                    <a:pt x="567" y="1991"/>
                  </a:lnTo>
                  <a:lnTo>
                    <a:pt x="561" y="1982"/>
                  </a:lnTo>
                  <a:lnTo>
                    <a:pt x="553" y="1976"/>
                  </a:lnTo>
                  <a:lnTo>
                    <a:pt x="547" y="1968"/>
                  </a:lnTo>
                  <a:lnTo>
                    <a:pt x="541" y="1959"/>
                  </a:lnTo>
                  <a:lnTo>
                    <a:pt x="532" y="1956"/>
                  </a:lnTo>
                  <a:lnTo>
                    <a:pt x="524" y="1953"/>
                  </a:lnTo>
                  <a:lnTo>
                    <a:pt x="518" y="1945"/>
                  </a:lnTo>
                  <a:lnTo>
                    <a:pt x="509" y="1939"/>
                  </a:lnTo>
                  <a:lnTo>
                    <a:pt x="500" y="1939"/>
                  </a:lnTo>
                  <a:lnTo>
                    <a:pt x="494" y="1948"/>
                  </a:lnTo>
                  <a:lnTo>
                    <a:pt x="491" y="1956"/>
                  </a:lnTo>
                  <a:lnTo>
                    <a:pt x="486" y="1965"/>
                  </a:lnTo>
                  <a:lnTo>
                    <a:pt x="491" y="1974"/>
                  </a:lnTo>
                  <a:lnTo>
                    <a:pt x="500" y="1976"/>
                  </a:lnTo>
                  <a:lnTo>
                    <a:pt x="503" y="1985"/>
                  </a:lnTo>
                  <a:lnTo>
                    <a:pt x="506" y="1994"/>
                  </a:lnTo>
                  <a:lnTo>
                    <a:pt x="509" y="2002"/>
                  </a:lnTo>
                  <a:lnTo>
                    <a:pt x="512" y="2011"/>
                  </a:lnTo>
                  <a:lnTo>
                    <a:pt x="515" y="2020"/>
                  </a:lnTo>
                  <a:lnTo>
                    <a:pt x="518" y="2028"/>
                  </a:lnTo>
                  <a:lnTo>
                    <a:pt x="518" y="2037"/>
                  </a:lnTo>
                  <a:lnTo>
                    <a:pt x="518" y="2046"/>
                  </a:lnTo>
                  <a:lnTo>
                    <a:pt x="518" y="2054"/>
                  </a:lnTo>
                  <a:lnTo>
                    <a:pt x="515" y="2063"/>
                  </a:lnTo>
                  <a:lnTo>
                    <a:pt x="506" y="2072"/>
                  </a:lnTo>
                  <a:lnTo>
                    <a:pt x="503" y="2080"/>
                  </a:lnTo>
                  <a:lnTo>
                    <a:pt x="503" y="2089"/>
                  </a:lnTo>
                  <a:lnTo>
                    <a:pt x="503" y="2097"/>
                  </a:lnTo>
                  <a:lnTo>
                    <a:pt x="500" y="2106"/>
                  </a:lnTo>
                  <a:lnTo>
                    <a:pt x="491" y="2112"/>
                  </a:lnTo>
                  <a:lnTo>
                    <a:pt x="483" y="2118"/>
                  </a:lnTo>
                  <a:lnTo>
                    <a:pt x="483" y="2126"/>
                  </a:lnTo>
                  <a:lnTo>
                    <a:pt x="480" y="2138"/>
                  </a:lnTo>
                  <a:lnTo>
                    <a:pt x="477" y="2149"/>
                  </a:lnTo>
                  <a:lnTo>
                    <a:pt x="468" y="2144"/>
                  </a:lnTo>
                  <a:lnTo>
                    <a:pt x="459" y="2144"/>
                  </a:lnTo>
                  <a:lnTo>
                    <a:pt x="451" y="2144"/>
                  </a:lnTo>
                  <a:lnTo>
                    <a:pt x="442" y="2152"/>
                  </a:lnTo>
                  <a:lnTo>
                    <a:pt x="436" y="2161"/>
                  </a:lnTo>
                  <a:lnTo>
                    <a:pt x="427" y="2167"/>
                  </a:lnTo>
                  <a:lnTo>
                    <a:pt x="419" y="2175"/>
                  </a:lnTo>
                  <a:lnTo>
                    <a:pt x="407" y="2181"/>
                  </a:lnTo>
                  <a:lnTo>
                    <a:pt x="398" y="2184"/>
                  </a:lnTo>
                  <a:lnTo>
                    <a:pt x="393" y="2175"/>
                  </a:lnTo>
                  <a:lnTo>
                    <a:pt x="390" y="2167"/>
                  </a:lnTo>
                  <a:lnTo>
                    <a:pt x="384" y="2158"/>
                  </a:lnTo>
                  <a:lnTo>
                    <a:pt x="369" y="2149"/>
                  </a:lnTo>
                  <a:lnTo>
                    <a:pt x="358" y="2144"/>
                  </a:lnTo>
                  <a:lnTo>
                    <a:pt x="355" y="2135"/>
                  </a:lnTo>
                  <a:lnTo>
                    <a:pt x="349" y="2126"/>
                  </a:lnTo>
                  <a:lnTo>
                    <a:pt x="343" y="2118"/>
                  </a:lnTo>
                  <a:lnTo>
                    <a:pt x="334" y="2109"/>
                  </a:lnTo>
                  <a:lnTo>
                    <a:pt x="328" y="2100"/>
                  </a:lnTo>
                  <a:lnTo>
                    <a:pt x="320" y="2092"/>
                  </a:lnTo>
                  <a:lnTo>
                    <a:pt x="317" y="2080"/>
                  </a:lnTo>
                  <a:lnTo>
                    <a:pt x="317" y="2048"/>
                  </a:lnTo>
                  <a:lnTo>
                    <a:pt x="311" y="2060"/>
                  </a:lnTo>
                  <a:lnTo>
                    <a:pt x="302" y="2057"/>
                  </a:lnTo>
                  <a:lnTo>
                    <a:pt x="294" y="2051"/>
                  </a:lnTo>
                  <a:lnTo>
                    <a:pt x="282" y="2048"/>
                  </a:lnTo>
                  <a:lnTo>
                    <a:pt x="276" y="2040"/>
                  </a:lnTo>
                  <a:lnTo>
                    <a:pt x="270" y="2031"/>
                  </a:lnTo>
                  <a:lnTo>
                    <a:pt x="264" y="2023"/>
                  </a:lnTo>
                  <a:lnTo>
                    <a:pt x="259" y="2014"/>
                  </a:lnTo>
                  <a:lnTo>
                    <a:pt x="250" y="2008"/>
                  </a:lnTo>
                  <a:lnTo>
                    <a:pt x="241" y="2011"/>
                  </a:lnTo>
                  <a:lnTo>
                    <a:pt x="232" y="2011"/>
                  </a:lnTo>
                  <a:lnTo>
                    <a:pt x="227" y="2002"/>
                  </a:lnTo>
                  <a:lnTo>
                    <a:pt x="218" y="2002"/>
                  </a:lnTo>
                  <a:lnTo>
                    <a:pt x="209" y="2002"/>
                  </a:lnTo>
                  <a:lnTo>
                    <a:pt x="200" y="2002"/>
                  </a:lnTo>
                  <a:lnTo>
                    <a:pt x="203" y="2014"/>
                  </a:lnTo>
                  <a:lnTo>
                    <a:pt x="203" y="2025"/>
                  </a:lnTo>
                  <a:lnTo>
                    <a:pt x="200" y="2034"/>
                  </a:lnTo>
                  <a:lnTo>
                    <a:pt x="189" y="2037"/>
                  </a:lnTo>
                  <a:lnTo>
                    <a:pt x="180" y="2043"/>
                  </a:lnTo>
                  <a:lnTo>
                    <a:pt x="171" y="2051"/>
                  </a:lnTo>
                  <a:lnTo>
                    <a:pt x="168" y="2060"/>
                  </a:lnTo>
                  <a:lnTo>
                    <a:pt x="163" y="2072"/>
                  </a:lnTo>
                  <a:lnTo>
                    <a:pt x="154" y="2077"/>
                  </a:lnTo>
                  <a:lnTo>
                    <a:pt x="145" y="2083"/>
                  </a:lnTo>
                  <a:lnTo>
                    <a:pt x="136" y="2086"/>
                  </a:lnTo>
                  <a:lnTo>
                    <a:pt x="122" y="2092"/>
                  </a:lnTo>
                  <a:lnTo>
                    <a:pt x="113" y="2095"/>
                  </a:lnTo>
                  <a:lnTo>
                    <a:pt x="104" y="2097"/>
                  </a:lnTo>
                  <a:lnTo>
                    <a:pt x="96" y="2103"/>
                  </a:lnTo>
                  <a:lnTo>
                    <a:pt x="87" y="2109"/>
                  </a:lnTo>
                  <a:lnTo>
                    <a:pt x="78" y="2112"/>
                  </a:lnTo>
                  <a:lnTo>
                    <a:pt x="66" y="2112"/>
                  </a:lnTo>
                  <a:lnTo>
                    <a:pt x="58" y="2115"/>
                  </a:lnTo>
                  <a:lnTo>
                    <a:pt x="55" y="2123"/>
                  </a:lnTo>
                  <a:lnTo>
                    <a:pt x="49" y="2132"/>
                  </a:lnTo>
                  <a:lnTo>
                    <a:pt x="46" y="2141"/>
                  </a:lnTo>
                  <a:lnTo>
                    <a:pt x="58" y="2146"/>
                  </a:lnTo>
                  <a:lnTo>
                    <a:pt x="66" y="2146"/>
                  </a:lnTo>
                  <a:lnTo>
                    <a:pt x="75" y="2146"/>
                  </a:lnTo>
                  <a:lnTo>
                    <a:pt x="66" y="2158"/>
                  </a:lnTo>
                  <a:lnTo>
                    <a:pt x="55" y="2164"/>
                  </a:lnTo>
                  <a:lnTo>
                    <a:pt x="43" y="2169"/>
                  </a:lnTo>
                  <a:lnTo>
                    <a:pt x="34" y="2175"/>
                  </a:lnTo>
                  <a:lnTo>
                    <a:pt x="26" y="2181"/>
                  </a:lnTo>
                  <a:lnTo>
                    <a:pt x="23" y="2190"/>
                  </a:lnTo>
                  <a:lnTo>
                    <a:pt x="23" y="2198"/>
                  </a:lnTo>
                  <a:lnTo>
                    <a:pt x="14" y="2207"/>
                  </a:lnTo>
                  <a:lnTo>
                    <a:pt x="5" y="2210"/>
                  </a:lnTo>
                  <a:lnTo>
                    <a:pt x="0" y="2218"/>
                  </a:lnTo>
                  <a:lnTo>
                    <a:pt x="5" y="2227"/>
                  </a:lnTo>
                  <a:lnTo>
                    <a:pt x="14" y="2236"/>
                  </a:lnTo>
                  <a:lnTo>
                    <a:pt x="23" y="2244"/>
                  </a:lnTo>
                  <a:lnTo>
                    <a:pt x="37" y="2233"/>
                  </a:lnTo>
                  <a:lnTo>
                    <a:pt x="46" y="2230"/>
                  </a:lnTo>
                  <a:lnTo>
                    <a:pt x="49" y="2239"/>
                  </a:lnTo>
                  <a:lnTo>
                    <a:pt x="49" y="2247"/>
                  </a:lnTo>
                  <a:lnTo>
                    <a:pt x="52" y="2256"/>
                  </a:lnTo>
                  <a:lnTo>
                    <a:pt x="55" y="2265"/>
                  </a:lnTo>
                  <a:lnTo>
                    <a:pt x="58" y="2273"/>
                  </a:lnTo>
                  <a:lnTo>
                    <a:pt x="58" y="2282"/>
                  </a:lnTo>
                  <a:lnTo>
                    <a:pt x="61" y="2291"/>
                  </a:lnTo>
                  <a:lnTo>
                    <a:pt x="61" y="2299"/>
                  </a:lnTo>
                  <a:lnTo>
                    <a:pt x="58" y="2308"/>
                  </a:lnTo>
                  <a:lnTo>
                    <a:pt x="52" y="2316"/>
                  </a:lnTo>
                  <a:lnTo>
                    <a:pt x="52" y="2325"/>
                  </a:lnTo>
                  <a:lnTo>
                    <a:pt x="52" y="2334"/>
                  </a:lnTo>
                  <a:lnTo>
                    <a:pt x="49" y="2342"/>
                  </a:lnTo>
                  <a:lnTo>
                    <a:pt x="58" y="2348"/>
                  </a:lnTo>
                  <a:lnTo>
                    <a:pt x="69" y="2348"/>
                  </a:lnTo>
                  <a:lnTo>
                    <a:pt x="78" y="2348"/>
                  </a:lnTo>
                  <a:lnTo>
                    <a:pt x="87" y="2357"/>
                  </a:lnTo>
                  <a:lnTo>
                    <a:pt x="96" y="2360"/>
                  </a:lnTo>
                  <a:lnTo>
                    <a:pt x="104" y="2360"/>
                  </a:lnTo>
                  <a:lnTo>
                    <a:pt x="113" y="2365"/>
                  </a:lnTo>
                  <a:lnTo>
                    <a:pt x="122" y="2371"/>
                  </a:lnTo>
                  <a:lnTo>
                    <a:pt x="128" y="2380"/>
                  </a:lnTo>
                  <a:lnTo>
                    <a:pt x="139" y="2389"/>
                  </a:lnTo>
                  <a:lnTo>
                    <a:pt x="142" y="2397"/>
                  </a:lnTo>
                  <a:lnTo>
                    <a:pt x="151" y="2406"/>
                  </a:lnTo>
                  <a:lnTo>
                    <a:pt x="160" y="2414"/>
                  </a:lnTo>
                  <a:lnTo>
                    <a:pt x="168" y="2417"/>
                  </a:lnTo>
                  <a:lnTo>
                    <a:pt x="177" y="2420"/>
                  </a:lnTo>
                  <a:lnTo>
                    <a:pt x="186" y="2423"/>
                  </a:lnTo>
                  <a:lnTo>
                    <a:pt x="195" y="2423"/>
                  </a:lnTo>
                  <a:lnTo>
                    <a:pt x="203" y="2423"/>
                  </a:lnTo>
                  <a:lnTo>
                    <a:pt x="212" y="2423"/>
                  </a:lnTo>
                  <a:lnTo>
                    <a:pt x="221" y="2420"/>
                  </a:lnTo>
                  <a:lnTo>
                    <a:pt x="229" y="2420"/>
                  </a:lnTo>
                  <a:lnTo>
                    <a:pt x="238" y="2420"/>
                  </a:lnTo>
                  <a:lnTo>
                    <a:pt x="247" y="2417"/>
                  </a:lnTo>
                  <a:lnTo>
                    <a:pt x="256" y="2412"/>
                  </a:lnTo>
                  <a:lnTo>
                    <a:pt x="264" y="2412"/>
                  </a:lnTo>
                  <a:lnTo>
                    <a:pt x="276" y="2412"/>
                  </a:lnTo>
                  <a:lnTo>
                    <a:pt x="285" y="2412"/>
                  </a:lnTo>
                  <a:lnTo>
                    <a:pt x="294" y="2414"/>
                  </a:lnTo>
                  <a:lnTo>
                    <a:pt x="302" y="2414"/>
                  </a:lnTo>
                  <a:lnTo>
                    <a:pt x="305" y="2406"/>
                  </a:lnTo>
                  <a:lnTo>
                    <a:pt x="305" y="2397"/>
                  </a:lnTo>
                  <a:lnTo>
                    <a:pt x="302" y="2389"/>
                  </a:lnTo>
                  <a:lnTo>
                    <a:pt x="299" y="2380"/>
                  </a:lnTo>
                  <a:lnTo>
                    <a:pt x="302" y="2371"/>
                  </a:lnTo>
                  <a:lnTo>
                    <a:pt x="314" y="2368"/>
                  </a:lnTo>
                  <a:lnTo>
                    <a:pt x="323" y="2368"/>
                  </a:lnTo>
                  <a:lnTo>
                    <a:pt x="331" y="2368"/>
                  </a:lnTo>
                  <a:lnTo>
                    <a:pt x="343" y="2368"/>
                  </a:lnTo>
                  <a:lnTo>
                    <a:pt x="346" y="2360"/>
                  </a:lnTo>
                  <a:lnTo>
                    <a:pt x="355" y="2354"/>
                  </a:lnTo>
                  <a:lnTo>
                    <a:pt x="363" y="2351"/>
                  </a:lnTo>
                  <a:lnTo>
                    <a:pt x="372" y="2351"/>
                  </a:lnTo>
                  <a:lnTo>
                    <a:pt x="381" y="2348"/>
                  </a:lnTo>
                  <a:lnTo>
                    <a:pt x="390" y="2348"/>
                  </a:lnTo>
                  <a:lnTo>
                    <a:pt x="398" y="2348"/>
                  </a:lnTo>
                  <a:lnTo>
                    <a:pt x="407" y="2348"/>
                  </a:lnTo>
                  <a:lnTo>
                    <a:pt x="419" y="2354"/>
                  </a:lnTo>
                  <a:lnTo>
                    <a:pt x="427" y="2360"/>
                  </a:lnTo>
                  <a:lnTo>
                    <a:pt x="436" y="2360"/>
                  </a:lnTo>
                  <a:lnTo>
                    <a:pt x="445" y="2360"/>
                  </a:lnTo>
                  <a:lnTo>
                    <a:pt x="454" y="2363"/>
                  </a:lnTo>
                  <a:lnTo>
                    <a:pt x="462" y="2363"/>
                  </a:lnTo>
                  <a:lnTo>
                    <a:pt x="471" y="2363"/>
                  </a:lnTo>
                  <a:lnTo>
                    <a:pt x="480" y="2363"/>
                  </a:lnTo>
                  <a:lnTo>
                    <a:pt x="489" y="2360"/>
                  </a:lnTo>
                  <a:lnTo>
                    <a:pt x="494" y="2351"/>
                  </a:lnTo>
                  <a:lnTo>
                    <a:pt x="494" y="2342"/>
                  </a:lnTo>
                  <a:lnTo>
                    <a:pt x="494" y="2334"/>
                  </a:lnTo>
                  <a:lnTo>
                    <a:pt x="497" y="2325"/>
                  </a:lnTo>
                  <a:lnTo>
                    <a:pt x="506" y="2322"/>
                  </a:lnTo>
                  <a:lnTo>
                    <a:pt x="515" y="2322"/>
                  </a:lnTo>
                  <a:lnTo>
                    <a:pt x="524" y="2322"/>
                  </a:lnTo>
                  <a:lnTo>
                    <a:pt x="532" y="2322"/>
                  </a:lnTo>
                  <a:lnTo>
                    <a:pt x="541" y="2322"/>
                  </a:lnTo>
                  <a:lnTo>
                    <a:pt x="550" y="2328"/>
                  </a:lnTo>
                  <a:lnTo>
                    <a:pt x="556" y="2337"/>
                  </a:lnTo>
                  <a:lnTo>
                    <a:pt x="564" y="2342"/>
                  </a:lnTo>
                  <a:lnTo>
                    <a:pt x="570" y="2351"/>
                  </a:lnTo>
                  <a:lnTo>
                    <a:pt x="576" y="2360"/>
                  </a:lnTo>
                  <a:lnTo>
                    <a:pt x="585" y="2368"/>
                  </a:lnTo>
                  <a:lnTo>
                    <a:pt x="590" y="2377"/>
                  </a:lnTo>
                  <a:lnTo>
                    <a:pt x="599" y="2383"/>
                  </a:lnTo>
                  <a:lnTo>
                    <a:pt x="611" y="2386"/>
                  </a:lnTo>
                  <a:lnTo>
                    <a:pt x="620" y="2386"/>
                  </a:lnTo>
                  <a:lnTo>
                    <a:pt x="628" y="2386"/>
                  </a:lnTo>
                  <a:lnTo>
                    <a:pt x="637" y="2386"/>
                  </a:lnTo>
                  <a:lnTo>
                    <a:pt x="646" y="2386"/>
                  </a:lnTo>
                  <a:lnTo>
                    <a:pt x="655" y="2386"/>
                  </a:lnTo>
                  <a:lnTo>
                    <a:pt x="663" y="2389"/>
                  </a:lnTo>
                  <a:lnTo>
                    <a:pt x="672" y="2389"/>
                  </a:lnTo>
                  <a:lnTo>
                    <a:pt x="681" y="2389"/>
                  </a:lnTo>
                  <a:lnTo>
                    <a:pt x="689" y="2389"/>
                  </a:lnTo>
                  <a:lnTo>
                    <a:pt x="698" y="2394"/>
                  </a:lnTo>
                  <a:lnTo>
                    <a:pt x="707" y="2403"/>
                  </a:lnTo>
                  <a:lnTo>
                    <a:pt x="713" y="2412"/>
                  </a:lnTo>
                  <a:lnTo>
                    <a:pt x="716" y="2420"/>
                  </a:lnTo>
                  <a:lnTo>
                    <a:pt x="716" y="2429"/>
                  </a:lnTo>
                  <a:lnTo>
                    <a:pt x="716" y="2437"/>
                  </a:lnTo>
                  <a:lnTo>
                    <a:pt x="719" y="2446"/>
                  </a:lnTo>
                  <a:lnTo>
                    <a:pt x="719" y="2455"/>
                  </a:lnTo>
                  <a:lnTo>
                    <a:pt x="721" y="2463"/>
                  </a:lnTo>
                  <a:lnTo>
                    <a:pt x="721" y="2472"/>
                  </a:lnTo>
                  <a:lnTo>
                    <a:pt x="721" y="2481"/>
                  </a:lnTo>
                  <a:lnTo>
                    <a:pt x="721" y="2489"/>
                  </a:lnTo>
                  <a:lnTo>
                    <a:pt x="713" y="2492"/>
                  </a:lnTo>
                  <a:lnTo>
                    <a:pt x="704" y="2492"/>
                  </a:lnTo>
                  <a:lnTo>
                    <a:pt x="698" y="2501"/>
                  </a:lnTo>
                  <a:lnTo>
                    <a:pt x="707" y="2507"/>
                  </a:lnTo>
                  <a:lnTo>
                    <a:pt x="716" y="2512"/>
                  </a:lnTo>
                  <a:lnTo>
                    <a:pt x="721" y="2521"/>
                  </a:lnTo>
                  <a:lnTo>
                    <a:pt x="721" y="2530"/>
                  </a:lnTo>
                  <a:lnTo>
                    <a:pt x="719" y="2538"/>
                  </a:lnTo>
                  <a:lnTo>
                    <a:pt x="719" y="2547"/>
                  </a:lnTo>
                  <a:lnTo>
                    <a:pt x="719" y="2556"/>
                  </a:lnTo>
                  <a:lnTo>
                    <a:pt x="719" y="2564"/>
                  </a:lnTo>
                  <a:lnTo>
                    <a:pt x="721" y="2576"/>
                  </a:lnTo>
                  <a:lnTo>
                    <a:pt x="721" y="2584"/>
                  </a:lnTo>
                  <a:lnTo>
                    <a:pt x="727" y="2593"/>
                  </a:lnTo>
                  <a:lnTo>
                    <a:pt x="736" y="2602"/>
                  </a:lnTo>
                  <a:lnTo>
                    <a:pt x="742" y="2613"/>
                  </a:lnTo>
                  <a:lnTo>
                    <a:pt x="745" y="2625"/>
                  </a:lnTo>
                  <a:lnTo>
                    <a:pt x="756" y="2633"/>
                  </a:lnTo>
                  <a:lnTo>
                    <a:pt x="765" y="2642"/>
                  </a:lnTo>
                  <a:lnTo>
                    <a:pt x="768" y="2654"/>
                  </a:lnTo>
                  <a:lnTo>
                    <a:pt x="768" y="2662"/>
                  </a:lnTo>
                  <a:lnTo>
                    <a:pt x="768" y="2671"/>
                  </a:lnTo>
                  <a:lnTo>
                    <a:pt x="771" y="2682"/>
                  </a:lnTo>
                  <a:lnTo>
                    <a:pt x="780" y="2688"/>
                  </a:lnTo>
                  <a:lnTo>
                    <a:pt x="783" y="2697"/>
                  </a:lnTo>
                  <a:lnTo>
                    <a:pt x="786" y="2705"/>
                  </a:lnTo>
                  <a:lnTo>
                    <a:pt x="788" y="2714"/>
                  </a:lnTo>
                  <a:lnTo>
                    <a:pt x="788" y="2723"/>
                  </a:lnTo>
                  <a:lnTo>
                    <a:pt x="788" y="2731"/>
                  </a:lnTo>
                  <a:lnTo>
                    <a:pt x="788" y="2740"/>
                  </a:lnTo>
                  <a:lnTo>
                    <a:pt x="788" y="2749"/>
                  </a:lnTo>
                  <a:lnTo>
                    <a:pt x="788" y="2757"/>
                  </a:lnTo>
                  <a:lnTo>
                    <a:pt x="788" y="2769"/>
                  </a:lnTo>
                  <a:lnTo>
                    <a:pt x="783" y="2778"/>
                  </a:lnTo>
                  <a:lnTo>
                    <a:pt x="774" y="2778"/>
                  </a:lnTo>
                  <a:lnTo>
                    <a:pt x="765" y="2783"/>
                  </a:lnTo>
                  <a:lnTo>
                    <a:pt x="759" y="2792"/>
                  </a:lnTo>
                  <a:lnTo>
                    <a:pt x="751" y="2795"/>
                  </a:lnTo>
                  <a:lnTo>
                    <a:pt x="742" y="2789"/>
                  </a:lnTo>
                  <a:lnTo>
                    <a:pt x="730" y="2786"/>
                  </a:lnTo>
                  <a:lnTo>
                    <a:pt x="721" y="2780"/>
                  </a:lnTo>
                  <a:lnTo>
                    <a:pt x="713" y="2778"/>
                  </a:lnTo>
                  <a:lnTo>
                    <a:pt x="710" y="2766"/>
                  </a:lnTo>
                  <a:lnTo>
                    <a:pt x="707" y="2757"/>
                  </a:lnTo>
                  <a:lnTo>
                    <a:pt x="698" y="2754"/>
                  </a:lnTo>
                  <a:lnTo>
                    <a:pt x="687" y="2754"/>
                  </a:lnTo>
                  <a:lnTo>
                    <a:pt x="678" y="2746"/>
                  </a:lnTo>
                  <a:lnTo>
                    <a:pt x="672" y="2737"/>
                  </a:lnTo>
                  <a:lnTo>
                    <a:pt x="660" y="2731"/>
                  </a:lnTo>
                  <a:lnTo>
                    <a:pt x="652" y="2729"/>
                  </a:lnTo>
                  <a:lnTo>
                    <a:pt x="643" y="2729"/>
                  </a:lnTo>
                  <a:lnTo>
                    <a:pt x="634" y="2729"/>
                  </a:lnTo>
                  <a:lnTo>
                    <a:pt x="628" y="2737"/>
                  </a:lnTo>
                  <a:lnTo>
                    <a:pt x="628" y="2746"/>
                  </a:lnTo>
                  <a:lnTo>
                    <a:pt x="631" y="2754"/>
                  </a:lnTo>
                  <a:lnTo>
                    <a:pt x="640" y="2763"/>
                  </a:lnTo>
                  <a:lnTo>
                    <a:pt x="652" y="2769"/>
                  </a:lnTo>
                  <a:lnTo>
                    <a:pt x="660" y="2775"/>
                  </a:lnTo>
                  <a:lnTo>
                    <a:pt x="666" y="2783"/>
                  </a:lnTo>
                  <a:lnTo>
                    <a:pt x="669" y="2792"/>
                  </a:lnTo>
                  <a:lnTo>
                    <a:pt x="672" y="2801"/>
                  </a:lnTo>
                  <a:lnTo>
                    <a:pt x="675" y="2809"/>
                  </a:lnTo>
                  <a:lnTo>
                    <a:pt x="678" y="2818"/>
                  </a:lnTo>
                  <a:lnTo>
                    <a:pt x="687" y="2827"/>
                  </a:lnTo>
                  <a:lnTo>
                    <a:pt x="695" y="2829"/>
                  </a:lnTo>
                  <a:lnTo>
                    <a:pt x="707" y="2829"/>
                  </a:lnTo>
                  <a:lnTo>
                    <a:pt x="713" y="2818"/>
                  </a:lnTo>
                  <a:lnTo>
                    <a:pt x="713" y="2809"/>
                  </a:lnTo>
                  <a:lnTo>
                    <a:pt x="716" y="2801"/>
                  </a:lnTo>
                  <a:lnTo>
                    <a:pt x="724" y="2795"/>
                  </a:lnTo>
                  <a:lnTo>
                    <a:pt x="733" y="2795"/>
                  </a:lnTo>
                  <a:lnTo>
                    <a:pt x="742" y="2792"/>
                  </a:lnTo>
                  <a:lnTo>
                    <a:pt x="751" y="2801"/>
                  </a:lnTo>
                  <a:lnTo>
                    <a:pt x="762" y="2803"/>
                  </a:lnTo>
                  <a:lnTo>
                    <a:pt x="771" y="2803"/>
                  </a:lnTo>
                  <a:lnTo>
                    <a:pt x="780" y="2803"/>
                  </a:lnTo>
                  <a:lnTo>
                    <a:pt x="788" y="2803"/>
                  </a:lnTo>
                  <a:lnTo>
                    <a:pt x="788" y="2795"/>
                  </a:lnTo>
                  <a:lnTo>
                    <a:pt x="788" y="2786"/>
                  </a:lnTo>
                  <a:lnTo>
                    <a:pt x="797" y="2780"/>
                  </a:lnTo>
                  <a:lnTo>
                    <a:pt x="806" y="2780"/>
                  </a:lnTo>
                  <a:lnTo>
                    <a:pt x="815" y="2772"/>
                  </a:lnTo>
                  <a:lnTo>
                    <a:pt x="815" y="2763"/>
                  </a:lnTo>
                  <a:lnTo>
                    <a:pt x="815" y="2754"/>
                  </a:lnTo>
                  <a:lnTo>
                    <a:pt x="815" y="2746"/>
                  </a:lnTo>
                  <a:lnTo>
                    <a:pt x="815" y="2737"/>
                  </a:lnTo>
                  <a:lnTo>
                    <a:pt x="818" y="2729"/>
                  </a:lnTo>
                  <a:lnTo>
                    <a:pt x="826" y="2726"/>
                  </a:lnTo>
                  <a:lnTo>
                    <a:pt x="835" y="2720"/>
                  </a:lnTo>
                  <a:lnTo>
                    <a:pt x="844" y="2717"/>
                  </a:lnTo>
                  <a:lnTo>
                    <a:pt x="852" y="2720"/>
                  </a:lnTo>
                  <a:lnTo>
                    <a:pt x="855" y="2729"/>
                  </a:lnTo>
                  <a:lnTo>
                    <a:pt x="858" y="2740"/>
                  </a:lnTo>
                  <a:lnTo>
                    <a:pt x="858" y="2749"/>
                  </a:lnTo>
                  <a:lnTo>
                    <a:pt x="861" y="2757"/>
                  </a:lnTo>
                  <a:lnTo>
                    <a:pt x="870" y="2763"/>
                  </a:lnTo>
                  <a:lnTo>
                    <a:pt x="882" y="2766"/>
                  </a:lnTo>
                  <a:lnTo>
                    <a:pt x="887" y="2757"/>
                  </a:lnTo>
                  <a:lnTo>
                    <a:pt x="887" y="2749"/>
                  </a:lnTo>
                  <a:lnTo>
                    <a:pt x="887" y="2740"/>
                  </a:lnTo>
                  <a:lnTo>
                    <a:pt x="887" y="2731"/>
                  </a:lnTo>
                  <a:lnTo>
                    <a:pt x="885" y="2723"/>
                  </a:lnTo>
                  <a:lnTo>
                    <a:pt x="876" y="2714"/>
                  </a:lnTo>
                  <a:lnTo>
                    <a:pt x="870" y="2705"/>
                  </a:lnTo>
                  <a:lnTo>
                    <a:pt x="864" y="2697"/>
                  </a:lnTo>
                  <a:lnTo>
                    <a:pt x="855" y="2691"/>
                  </a:lnTo>
                  <a:lnTo>
                    <a:pt x="847" y="2682"/>
                  </a:lnTo>
                  <a:lnTo>
                    <a:pt x="838" y="2674"/>
                  </a:lnTo>
                  <a:lnTo>
                    <a:pt x="835" y="2665"/>
                  </a:lnTo>
                  <a:lnTo>
                    <a:pt x="832" y="2657"/>
                  </a:lnTo>
                  <a:lnTo>
                    <a:pt x="832" y="2648"/>
                  </a:lnTo>
                  <a:lnTo>
                    <a:pt x="841" y="2642"/>
                  </a:lnTo>
                  <a:lnTo>
                    <a:pt x="850" y="2642"/>
                  </a:lnTo>
                  <a:lnTo>
                    <a:pt x="852" y="2633"/>
                  </a:lnTo>
                  <a:lnTo>
                    <a:pt x="844" y="2628"/>
                  </a:lnTo>
                  <a:lnTo>
                    <a:pt x="835" y="2622"/>
                  </a:lnTo>
                  <a:lnTo>
                    <a:pt x="826" y="2619"/>
                  </a:lnTo>
                  <a:lnTo>
                    <a:pt x="820" y="2610"/>
                  </a:lnTo>
                  <a:lnTo>
                    <a:pt x="818" y="2602"/>
                  </a:lnTo>
                  <a:lnTo>
                    <a:pt x="812" y="2593"/>
                  </a:lnTo>
                  <a:lnTo>
                    <a:pt x="812" y="2584"/>
                  </a:lnTo>
                  <a:lnTo>
                    <a:pt x="809" y="2576"/>
                  </a:lnTo>
                  <a:lnTo>
                    <a:pt x="806" y="2564"/>
                  </a:lnTo>
                  <a:lnTo>
                    <a:pt x="806" y="2556"/>
                  </a:lnTo>
                  <a:lnTo>
                    <a:pt x="806" y="2547"/>
                  </a:lnTo>
                  <a:lnTo>
                    <a:pt x="806" y="2538"/>
                  </a:lnTo>
                  <a:lnTo>
                    <a:pt x="806" y="2530"/>
                  </a:lnTo>
                  <a:lnTo>
                    <a:pt x="806" y="2521"/>
                  </a:lnTo>
                  <a:lnTo>
                    <a:pt x="806" y="2512"/>
                  </a:lnTo>
                  <a:lnTo>
                    <a:pt x="806" y="2504"/>
                  </a:lnTo>
                  <a:lnTo>
                    <a:pt x="803" y="2495"/>
                  </a:lnTo>
                  <a:lnTo>
                    <a:pt x="800" y="2486"/>
                  </a:lnTo>
                  <a:lnTo>
                    <a:pt x="800" y="2478"/>
                  </a:lnTo>
                  <a:lnTo>
                    <a:pt x="800" y="2469"/>
                  </a:lnTo>
                  <a:lnTo>
                    <a:pt x="800" y="2461"/>
                  </a:lnTo>
                  <a:lnTo>
                    <a:pt x="800" y="2452"/>
                  </a:lnTo>
                  <a:lnTo>
                    <a:pt x="809" y="2452"/>
                  </a:lnTo>
                  <a:lnTo>
                    <a:pt x="818" y="2452"/>
                  </a:lnTo>
                  <a:lnTo>
                    <a:pt x="818" y="2443"/>
                  </a:lnTo>
                  <a:lnTo>
                    <a:pt x="820" y="2435"/>
                  </a:lnTo>
                  <a:lnTo>
                    <a:pt x="826" y="2426"/>
                  </a:lnTo>
                  <a:lnTo>
                    <a:pt x="835" y="2426"/>
                  </a:lnTo>
                  <a:lnTo>
                    <a:pt x="838" y="2435"/>
                  </a:lnTo>
                  <a:lnTo>
                    <a:pt x="847" y="2440"/>
                  </a:lnTo>
                  <a:lnTo>
                    <a:pt x="855" y="2435"/>
                  </a:lnTo>
                  <a:lnTo>
                    <a:pt x="864" y="2432"/>
                  </a:lnTo>
                  <a:lnTo>
                    <a:pt x="864" y="2440"/>
                  </a:lnTo>
                  <a:lnTo>
                    <a:pt x="864" y="2449"/>
                  </a:lnTo>
                  <a:lnTo>
                    <a:pt x="858" y="2458"/>
                  </a:lnTo>
                  <a:lnTo>
                    <a:pt x="850" y="2466"/>
                  </a:lnTo>
                  <a:lnTo>
                    <a:pt x="847" y="2475"/>
                  </a:lnTo>
                  <a:lnTo>
                    <a:pt x="855" y="2478"/>
                  </a:lnTo>
                  <a:lnTo>
                    <a:pt x="864" y="2478"/>
                  </a:lnTo>
                  <a:lnTo>
                    <a:pt x="864" y="2486"/>
                  </a:lnTo>
                  <a:lnTo>
                    <a:pt x="864" y="2495"/>
                  </a:lnTo>
                  <a:lnTo>
                    <a:pt x="873" y="2498"/>
                  </a:lnTo>
                  <a:lnTo>
                    <a:pt x="882" y="2498"/>
                  </a:lnTo>
                  <a:lnTo>
                    <a:pt x="882" y="2507"/>
                  </a:lnTo>
                  <a:lnTo>
                    <a:pt x="882" y="2515"/>
                  </a:lnTo>
                  <a:lnTo>
                    <a:pt x="879" y="2524"/>
                  </a:lnTo>
                  <a:lnTo>
                    <a:pt x="870" y="2527"/>
                  </a:lnTo>
                  <a:lnTo>
                    <a:pt x="864" y="2535"/>
                  </a:lnTo>
                  <a:lnTo>
                    <a:pt x="867" y="2544"/>
                  </a:lnTo>
                  <a:lnTo>
                    <a:pt x="870" y="2553"/>
                  </a:lnTo>
                  <a:lnTo>
                    <a:pt x="876" y="2561"/>
                  </a:lnTo>
                  <a:lnTo>
                    <a:pt x="882" y="2573"/>
                  </a:lnTo>
                  <a:lnTo>
                    <a:pt x="890" y="2584"/>
                  </a:lnTo>
                  <a:lnTo>
                    <a:pt x="893" y="2593"/>
                  </a:lnTo>
                  <a:lnTo>
                    <a:pt x="896" y="2602"/>
                  </a:lnTo>
                  <a:lnTo>
                    <a:pt x="899" y="2613"/>
                  </a:lnTo>
                  <a:lnTo>
                    <a:pt x="899" y="2622"/>
                  </a:lnTo>
                  <a:lnTo>
                    <a:pt x="902" y="2631"/>
                  </a:lnTo>
                  <a:lnTo>
                    <a:pt x="905" y="2639"/>
                  </a:lnTo>
                  <a:lnTo>
                    <a:pt x="911" y="2648"/>
                  </a:lnTo>
                  <a:lnTo>
                    <a:pt x="919" y="2657"/>
                  </a:lnTo>
                  <a:lnTo>
                    <a:pt x="928" y="2662"/>
                  </a:lnTo>
                  <a:lnTo>
                    <a:pt x="937" y="2671"/>
                  </a:lnTo>
                  <a:lnTo>
                    <a:pt x="943" y="2680"/>
                  </a:lnTo>
                  <a:lnTo>
                    <a:pt x="946" y="2688"/>
                  </a:lnTo>
                  <a:lnTo>
                    <a:pt x="949" y="2697"/>
                  </a:lnTo>
                  <a:lnTo>
                    <a:pt x="949" y="2705"/>
                  </a:lnTo>
                  <a:lnTo>
                    <a:pt x="949" y="2714"/>
                  </a:lnTo>
                  <a:lnTo>
                    <a:pt x="949" y="2723"/>
                  </a:lnTo>
                  <a:lnTo>
                    <a:pt x="943" y="2731"/>
                  </a:lnTo>
                  <a:lnTo>
                    <a:pt x="934" y="2734"/>
                  </a:lnTo>
                  <a:lnTo>
                    <a:pt x="928" y="2743"/>
                  </a:lnTo>
                  <a:lnTo>
                    <a:pt x="925" y="2752"/>
                  </a:lnTo>
                  <a:lnTo>
                    <a:pt x="925" y="2760"/>
                  </a:lnTo>
                  <a:lnTo>
                    <a:pt x="922" y="2769"/>
                  </a:lnTo>
                  <a:lnTo>
                    <a:pt x="922" y="2778"/>
                  </a:lnTo>
                  <a:lnTo>
                    <a:pt x="919" y="2786"/>
                  </a:lnTo>
                  <a:lnTo>
                    <a:pt x="911" y="2795"/>
                  </a:lnTo>
                  <a:lnTo>
                    <a:pt x="908" y="2803"/>
                  </a:lnTo>
                  <a:lnTo>
                    <a:pt x="908" y="2812"/>
                  </a:lnTo>
                  <a:lnTo>
                    <a:pt x="911" y="2821"/>
                  </a:lnTo>
                  <a:lnTo>
                    <a:pt x="922" y="2827"/>
                  </a:lnTo>
                  <a:lnTo>
                    <a:pt x="934" y="2832"/>
                  </a:lnTo>
                  <a:lnTo>
                    <a:pt x="940" y="2841"/>
                  </a:lnTo>
                  <a:lnTo>
                    <a:pt x="922" y="2832"/>
                  </a:lnTo>
                  <a:lnTo>
                    <a:pt x="946" y="2824"/>
                  </a:lnTo>
                  <a:lnTo>
                    <a:pt x="946" y="2832"/>
                  </a:lnTo>
                  <a:lnTo>
                    <a:pt x="946" y="2841"/>
                  </a:lnTo>
                  <a:lnTo>
                    <a:pt x="946" y="2850"/>
                  </a:lnTo>
                  <a:lnTo>
                    <a:pt x="940" y="2858"/>
                  </a:lnTo>
                  <a:lnTo>
                    <a:pt x="931" y="2861"/>
                  </a:lnTo>
                  <a:lnTo>
                    <a:pt x="922" y="2867"/>
                  </a:lnTo>
                  <a:lnTo>
                    <a:pt x="917" y="2876"/>
                  </a:lnTo>
                  <a:lnTo>
                    <a:pt x="919" y="2884"/>
                  </a:lnTo>
                  <a:lnTo>
                    <a:pt x="922" y="2893"/>
                  </a:lnTo>
                  <a:lnTo>
                    <a:pt x="917" y="2901"/>
                  </a:lnTo>
                  <a:lnTo>
                    <a:pt x="925" y="2904"/>
                  </a:lnTo>
                  <a:lnTo>
                    <a:pt x="934" y="2904"/>
                  </a:lnTo>
                  <a:lnTo>
                    <a:pt x="943" y="2904"/>
                  </a:lnTo>
                  <a:lnTo>
                    <a:pt x="951" y="2899"/>
                  </a:lnTo>
                  <a:lnTo>
                    <a:pt x="960" y="2893"/>
                  </a:lnTo>
                  <a:lnTo>
                    <a:pt x="969" y="2893"/>
                  </a:lnTo>
                  <a:lnTo>
                    <a:pt x="978" y="2899"/>
                  </a:lnTo>
                  <a:lnTo>
                    <a:pt x="983" y="2907"/>
                  </a:lnTo>
                  <a:lnTo>
                    <a:pt x="975" y="2904"/>
                  </a:lnTo>
                  <a:lnTo>
                    <a:pt x="966" y="2899"/>
                  </a:lnTo>
                  <a:lnTo>
                    <a:pt x="954" y="2896"/>
                  </a:lnTo>
                  <a:lnTo>
                    <a:pt x="940" y="2893"/>
                  </a:lnTo>
                  <a:lnTo>
                    <a:pt x="943" y="2910"/>
                  </a:lnTo>
                  <a:lnTo>
                    <a:pt x="951" y="2930"/>
                  </a:lnTo>
                  <a:lnTo>
                    <a:pt x="943" y="2933"/>
                  </a:lnTo>
                  <a:lnTo>
                    <a:pt x="940" y="2942"/>
                  </a:lnTo>
                  <a:lnTo>
                    <a:pt x="937" y="2950"/>
                  </a:lnTo>
                  <a:lnTo>
                    <a:pt x="946" y="2956"/>
                  </a:lnTo>
                  <a:lnTo>
                    <a:pt x="949" y="2965"/>
                  </a:lnTo>
                  <a:lnTo>
                    <a:pt x="951" y="2974"/>
                  </a:lnTo>
                  <a:lnTo>
                    <a:pt x="951" y="2982"/>
                  </a:lnTo>
                  <a:lnTo>
                    <a:pt x="951" y="2991"/>
                  </a:lnTo>
                  <a:lnTo>
                    <a:pt x="954" y="2999"/>
                  </a:lnTo>
                  <a:lnTo>
                    <a:pt x="957" y="3011"/>
                  </a:lnTo>
                  <a:lnTo>
                    <a:pt x="963" y="3002"/>
                  </a:lnTo>
                  <a:lnTo>
                    <a:pt x="963" y="2994"/>
                  </a:lnTo>
                  <a:lnTo>
                    <a:pt x="963" y="2985"/>
                  </a:lnTo>
                  <a:lnTo>
                    <a:pt x="963" y="2976"/>
                  </a:lnTo>
                  <a:lnTo>
                    <a:pt x="963" y="2968"/>
                  </a:lnTo>
                  <a:lnTo>
                    <a:pt x="969" y="2959"/>
                  </a:lnTo>
                  <a:lnTo>
                    <a:pt x="978" y="2953"/>
                  </a:lnTo>
                  <a:lnTo>
                    <a:pt x="983" y="2945"/>
                  </a:lnTo>
                  <a:lnTo>
                    <a:pt x="992" y="2942"/>
                  </a:lnTo>
                  <a:lnTo>
                    <a:pt x="1004" y="2945"/>
                  </a:lnTo>
                  <a:lnTo>
                    <a:pt x="1016" y="2945"/>
                  </a:lnTo>
                  <a:lnTo>
                    <a:pt x="1024" y="2945"/>
                  </a:lnTo>
                  <a:lnTo>
                    <a:pt x="1027" y="2936"/>
                  </a:lnTo>
                  <a:lnTo>
                    <a:pt x="1036" y="2945"/>
                  </a:lnTo>
                  <a:lnTo>
                    <a:pt x="1042" y="2953"/>
                  </a:lnTo>
                  <a:lnTo>
                    <a:pt x="1050" y="2962"/>
                  </a:lnTo>
                  <a:lnTo>
                    <a:pt x="1059" y="2971"/>
                  </a:lnTo>
                  <a:lnTo>
                    <a:pt x="1045" y="2959"/>
                  </a:lnTo>
                  <a:lnTo>
                    <a:pt x="1042" y="2950"/>
                  </a:lnTo>
                  <a:lnTo>
                    <a:pt x="1042" y="2942"/>
                  </a:lnTo>
                  <a:lnTo>
                    <a:pt x="1042" y="2933"/>
                  </a:lnTo>
                  <a:lnTo>
                    <a:pt x="1042" y="2925"/>
                  </a:lnTo>
                  <a:lnTo>
                    <a:pt x="1033" y="2916"/>
                  </a:lnTo>
                  <a:lnTo>
                    <a:pt x="1021" y="2907"/>
                  </a:lnTo>
                  <a:lnTo>
                    <a:pt x="1013" y="2899"/>
                  </a:lnTo>
                  <a:lnTo>
                    <a:pt x="1007" y="2890"/>
                  </a:lnTo>
                  <a:lnTo>
                    <a:pt x="1018" y="2893"/>
                  </a:lnTo>
                  <a:lnTo>
                    <a:pt x="1027" y="2896"/>
                  </a:lnTo>
                  <a:lnTo>
                    <a:pt x="1036" y="2901"/>
                  </a:lnTo>
                  <a:lnTo>
                    <a:pt x="1045" y="2907"/>
                  </a:lnTo>
                  <a:lnTo>
                    <a:pt x="1050" y="2916"/>
                  </a:lnTo>
                  <a:lnTo>
                    <a:pt x="1042" y="2913"/>
                  </a:lnTo>
                  <a:lnTo>
                    <a:pt x="1033" y="2907"/>
                  </a:lnTo>
                  <a:lnTo>
                    <a:pt x="1021" y="2899"/>
                  </a:lnTo>
                  <a:lnTo>
                    <a:pt x="1010" y="2896"/>
                  </a:lnTo>
                  <a:lnTo>
                    <a:pt x="1004" y="2887"/>
                  </a:lnTo>
                  <a:lnTo>
                    <a:pt x="1013" y="2881"/>
                  </a:lnTo>
                  <a:lnTo>
                    <a:pt x="1018" y="2873"/>
                  </a:lnTo>
                  <a:lnTo>
                    <a:pt x="1018" y="2864"/>
                  </a:lnTo>
                  <a:lnTo>
                    <a:pt x="1021" y="2855"/>
                  </a:lnTo>
                  <a:lnTo>
                    <a:pt x="1021" y="2847"/>
                  </a:lnTo>
                  <a:lnTo>
                    <a:pt x="1021" y="2838"/>
                  </a:lnTo>
                  <a:lnTo>
                    <a:pt x="1021" y="2829"/>
                  </a:lnTo>
                  <a:lnTo>
                    <a:pt x="1021" y="2821"/>
                  </a:lnTo>
                  <a:lnTo>
                    <a:pt x="1024" y="2812"/>
                  </a:lnTo>
                  <a:lnTo>
                    <a:pt x="1033" y="2812"/>
                  </a:lnTo>
                  <a:lnTo>
                    <a:pt x="1042" y="2809"/>
                  </a:lnTo>
                  <a:lnTo>
                    <a:pt x="1042" y="2818"/>
                  </a:lnTo>
                  <a:lnTo>
                    <a:pt x="1042" y="2827"/>
                  </a:lnTo>
                  <a:lnTo>
                    <a:pt x="1042" y="2835"/>
                  </a:lnTo>
                  <a:lnTo>
                    <a:pt x="1042" y="2844"/>
                  </a:lnTo>
                  <a:lnTo>
                    <a:pt x="1050" y="2850"/>
                  </a:lnTo>
                  <a:lnTo>
                    <a:pt x="1056" y="2841"/>
                  </a:lnTo>
                  <a:lnTo>
                    <a:pt x="1065" y="2841"/>
                  </a:lnTo>
                  <a:lnTo>
                    <a:pt x="1068" y="2850"/>
                  </a:lnTo>
                  <a:lnTo>
                    <a:pt x="1071" y="2841"/>
                  </a:lnTo>
                  <a:lnTo>
                    <a:pt x="1071" y="2832"/>
                  </a:lnTo>
                  <a:lnTo>
                    <a:pt x="1080" y="2827"/>
                  </a:lnTo>
                  <a:lnTo>
                    <a:pt x="1088" y="2827"/>
                  </a:lnTo>
                  <a:lnTo>
                    <a:pt x="1100" y="2835"/>
                  </a:lnTo>
                  <a:lnTo>
                    <a:pt x="1109" y="2835"/>
                  </a:lnTo>
                  <a:lnTo>
                    <a:pt x="1120" y="2835"/>
                  </a:lnTo>
                  <a:lnTo>
                    <a:pt x="1129" y="2835"/>
                  </a:lnTo>
                  <a:lnTo>
                    <a:pt x="1138" y="2838"/>
                  </a:lnTo>
                  <a:lnTo>
                    <a:pt x="1147" y="2841"/>
                  </a:lnTo>
                  <a:lnTo>
                    <a:pt x="1155" y="2844"/>
                  </a:lnTo>
                  <a:lnTo>
                    <a:pt x="1149" y="2852"/>
                  </a:lnTo>
                  <a:lnTo>
                    <a:pt x="1149" y="2861"/>
                  </a:lnTo>
                  <a:lnTo>
                    <a:pt x="1149" y="2870"/>
                  </a:lnTo>
                  <a:lnTo>
                    <a:pt x="1158" y="2878"/>
                  </a:lnTo>
                  <a:lnTo>
                    <a:pt x="1170" y="2878"/>
                  </a:lnTo>
                  <a:lnTo>
                    <a:pt x="1179" y="2878"/>
                  </a:lnTo>
                  <a:lnTo>
                    <a:pt x="1187" y="2878"/>
                  </a:lnTo>
                  <a:lnTo>
                    <a:pt x="1196" y="2878"/>
                  </a:lnTo>
                  <a:lnTo>
                    <a:pt x="1205" y="2876"/>
                  </a:lnTo>
                  <a:lnTo>
                    <a:pt x="1216" y="2873"/>
                  </a:lnTo>
                  <a:lnTo>
                    <a:pt x="1225" y="2873"/>
                  </a:lnTo>
                  <a:lnTo>
                    <a:pt x="1234" y="2873"/>
                  </a:lnTo>
                  <a:lnTo>
                    <a:pt x="1243" y="2873"/>
                  </a:lnTo>
                  <a:lnTo>
                    <a:pt x="1251" y="2873"/>
                  </a:lnTo>
                  <a:lnTo>
                    <a:pt x="1254" y="2884"/>
                  </a:lnTo>
                  <a:lnTo>
                    <a:pt x="1257" y="2893"/>
                  </a:lnTo>
                  <a:lnTo>
                    <a:pt x="1257" y="2901"/>
                  </a:lnTo>
                  <a:lnTo>
                    <a:pt x="1272" y="2907"/>
                  </a:lnTo>
                  <a:lnTo>
                    <a:pt x="1263" y="2913"/>
                  </a:lnTo>
                  <a:lnTo>
                    <a:pt x="1254" y="2913"/>
                  </a:lnTo>
                  <a:lnTo>
                    <a:pt x="1245" y="2913"/>
                  </a:lnTo>
                  <a:lnTo>
                    <a:pt x="1248" y="2878"/>
                  </a:lnTo>
                  <a:lnTo>
                    <a:pt x="1245" y="2896"/>
                  </a:lnTo>
                  <a:lnTo>
                    <a:pt x="1237" y="2896"/>
                  </a:lnTo>
                  <a:lnTo>
                    <a:pt x="1228" y="2893"/>
                  </a:lnTo>
                  <a:lnTo>
                    <a:pt x="1219" y="2896"/>
                  </a:lnTo>
                  <a:lnTo>
                    <a:pt x="1211" y="2896"/>
                  </a:lnTo>
                  <a:lnTo>
                    <a:pt x="1202" y="2896"/>
                  </a:lnTo>
                  <a:lnTo>
                    <a:pt x="1193" y="2893"/>
                  </a:lnTo>
                  <a:lnTo>
                    <a:pt x="1184" y="2890"/>
                  </a:lnTo>
                  <a:lnTo>
                    <a:pt x="1176" y="2890"/>
                  </a:lnTo>
                  <a:lnTo>
                    <a:pt x="1167" y="2887"/>
                  </a:lnTo>
                  <a:lnTo>
                    <a:pt x="1155" y="2887"/>
                  </a:lnTo>
                  <a:lnTo>
                    <a:pt x="1147" y="2887"/>
                  </a:lnTo>
                  <a:lnTo>
                    <a:pt x="1135" y="2887"/>
                  </a:lnTo>
                  <a:lnTo>
                    <a:pt x="1132" y="2896"/>
                  </a:lnTo>
                  <a:lnTo>
                    <a:pt x="1132" y="2904"/>
                  </a:lnTo>
                  <a:lnTo>
                    <a:pt x="1132" y="2913"/>
                  </a:lnTo>
                  <a:lnTo>
                    <a:pt x="1144" y="2916"/>
                  </a:lnTo>
                  <a:lnTo>
                    <a:pt x="1144" y="2925"/>
                  </a:lnTo>
                  <a:lnTo>
                    <a:pt x="1129" y="2927"/>
                  </a:lnTo>
                  <a:lnTo>
                    <a:pt x="1120" y="2927"/>
                  </a:lnTo>
                  <a:lnTo>
                    <a:pt x="1112" y="2927"/>
                  </a:lnTo>
                  <a:lnTo>
                    <a:pt x="1114" y="2936"/>
                  </a:lnTo>
                  <a:lnTo>
                    <a:pt x="1123" y="2936"/>
                  </a:lnTo>
                  <a:lnTo>
                    <a:pt x="1132" y="2942"/>
                  </a:lnTo>
                  <a:lnTo>
                    <a:pt x="1144" y="2948"/>
                  </a:lnTo>
                  <a:lnTo>
                    <a:pt x="1135" y="2953"/>
                  </a:lnTo>
                  <a:lnTo>
                    <a:pt x="1123" y="2953"/>
                  </a:lnTo>
                  <a:lnTo>
                    <a:pt x="1112" y="2953"/>
                  </a:lnTo>
                  <a:lnTo>
                    <a:pt x="1103" y="2953"/>
                  </a:lnTo>
                  <a:lnTo>
                    <a:pt x="1106" y="2962"/>
                  </a:lnTo>
                  <a:lnTo>
                    <a:pt x="1114" y="2965"/>
                  </a:lnTo>
                  <a:lnTo>
                    <a:pt x="1123" y="2974"/>
                  </a:lnTo>
                  <a:lnTo>
                    <a:pt x="1114" y="2982"/>
                  </a:lnTo>
                  <a:lnTo>
                    <a:pt x="1117" y="2991"/>
                  </a:lnTo>
                  <a:lnTo>
                    <a:pt x="1126" y="2994"/>
                  </a:lnTo>
                  <a:lnTo>
                    <a:pt x="1114" y="2999"/>
                  </a:lnTo>
                  <a:lnTo>
                    <a:pt x="1106" y="2999"/>
                  </a:lnTo>
                  <a:lnTo>
                    <a:pt x="1117" y="3005"/>
                  </a:lnTo>
                  <a:lnTo>
                    <a:pt x="1132" y="3008"/>
                  </a:lnTo>
                  <a:lnTo>
                    <a:pt x="1135" y="3017"/>
                  </a:lnTo>
                  <a:lnTo>
                    <a:pt x="1126" y="3022"/>
                  </a:lnTo>
                  <a:lnTo>
                    <a:pt x="1126" y="3034"/>
                  </a:lnTo>
                  <a:lnTo>
                    <a:pt x="1126" y="3046"/>
                  </a:lnTo>
                  <a:lnTo>
                    <a:pt x="1126" y="3054"/>
                  </a:lnTo>
                  <a:lnTo>
                    <a:pt x="1135" y="3054"/>
                  </a:lnTo>
                  <a:lnTo>
                    <a:pt x="1144" y="3054"/>
                  </a:lnTo>
                  <a:lnTo>
                    <a:pt x="1155" y="3054"/>
                  </a:lnTo>
                  <a:lnTo>
                    <a:pt x="1164" y="3054"/>
                  </a:lnTo>
                  <a:lnTo>
                    <a:pt x="1167" y="3063"/>
                  </a:lnTo>
                  <a:lnTo>
                    <a:pt x="1179" y="3069"/>
                  </a:lnTo>
                  <a:lnTo>
                    <a:pt x="1187" y="3069"/>
                  </a:lnTo>
                  <a:lnTo>
                    <a:pt x="1190" y="3080"/>
                  </a:lnTo>
                  <a:lnTo>
                    <a:pt x="1193" y="3089"/>
                  </a:lnTo>
                  <a:lnTo>
                    <a:pt x="1199" y="3097"/>
                  </a:lnTo>
                  <a:lnTo>
                    <a:pt x="1211" y="3103"/>
                  </a:lnTo>
                  <a:lnTo>
                    <a:pt x="1219" y="3103"/>
                  </a:lnTo>
                  <a:lnTo>
                    <a:pt x="1231" y="3103"/>
                  </a:lnTo>
                  <a:lnTo>
                    <a:pt x="1240" y="3100"/>
                  </a:lnTo>
                  <a:lnTo>
                    <a:pt x="1243" y="3092"/>
                  </a:lnTo>
                  <a:lnTo>
                    <a:pt x="1248" y="3083"/>
                  </a:lnTo>
                  <a:lnTo>
                    <a:pt x="1257" y="3083"/>
                  </a:lnTo>
                  <a:lnTo>
                    <a:pt x="1278" y="3097"/>
                  </a:lnTo>
                  <a:lnTo>
                    <a:pt x="1286" y="3103"/>
                  </a:lnTo>
                  <a:lnTo>
                    <a:pt x="1289" y="3112"/>
                  </a:lnTo>
                  <a:lnTo>
                    <a:pt x="1295" y="3120"/>
                  </a:lnTo>
                  <a:lnTo>
                    <a:pt x="1301" y="3129"/>
                  </a:lnTo>
                  <a:lnTo>
                    <a:pt x="1312" y="3141"/>
                  </a:lnTo>
                  <a:lnTo>
                    <a:pt x="1324" y="3146"/>
                  </a:lnTo>
                  <a:lnTo>
                    <a:pt x="1336" y="3152"/>
                  </a:lnTo>
                  <a:lnTo>
                    <a:pt x="1347" y="3155"/>
                  </a:lnTo>
                  <a:lnTo>
                    <a:pt x="1356" y="3155"/>
                  </a:lnTo>
                  <a:lnTo>
                    <a:pt x="1365" y="3155"/>
                  </a:lnTo>
                  <a:lnTo>
                    <a:pt x="1374" y="3155"/>
                  </a:lnTo>
                  <a:lnTo>
                    <a:pt x="1376" y="3146"/>
                  </a:lnTo>
                  <a:lnTo>
                    <a:pt x="1385" y="3138"/>
                  </a:lnTo>
                  <a:lnTo>
                    <a:pt x="1391" y="3129"/>
                  </a:lnTo>
                  <a:lnTo>
                    <a:pt x="1400" y="3132"/>
                  </a:lnTo>
                  <a:lnTo>
                    <a:pt x="1409" y="3138"/>
                  </a:lnTo>
                  <a:lnTo>
                    <a:pt x="1417" y="3149"/>
                  </a:lnTo>
                  <a:lnTo>
                    <a:pt x="1429" y="3152"/>
                  </a:lnTo>
                  <a:lnTo>
                    <a:pt x="1435" y="3155"/>
                  </a:lnTo>
                  <a:lnTo>
                    <a:pt x="1438" y="3164"/>
                  </a:lnTo>
                  <a:lnTo>
                    <a:pt x="1441" y="3172"/>
                  </a:lnTo>
                  <a:lnTo>
                    <a:pt x="1449" y="3178"/>
                  </a:lnTo>
                  <a:lnTo>
                    <a:pt x="1458" y="3178"/>
                  </a:lnTo>
                  <a:lnTo>
                    <a:pt x="1464" y="3169"/>
                  </a:lnTo>
                  <a:lnTo>
                    <a:pt x="1464" y="3161"/>
                  </a:lnTo>
                  <a:lnTo>
                    <a:pt x="1470" y="3152"/>
                  </a:lnTo>
                  <a:lnTo>
                    <a:pt x="1478" y="3152"/>
                  </a:lnTo>
                  <a:lnTo>
                    <a:pt x="1487" y="3155"/>
                  </a:lnTo>
                  <a:lnTo>
                    <a:pt x="1499" y="3161"/>
                  </a:lnTo>
                  <a:lnTo>
                    <a:pt x="1510" y="3161"/>
                  </a:lnTo>
                  <a:lnTo>
                    <a:pt x="1519" y="3161"/>
                  </a:lnTo>
                  <a:lnTo>
                    <a:pt x="1528" y="3161"/>
                  </a:lnTo>
                  <a:lnTo>
                    <a:pt x="1537" y="3158"/>
                  </a:lnTo>
                  <a:lnTo>
                    <a:pt x="1545" y="3158"/>
                  </a:lnTo>
                  <a:lnTo>
                    <a:pt x="1554" y="3164"/>
                  </a:lnTo>
                  <a:lnTo>
                    <a:pt x="1569" y="3169"/>
                  </a:lnTo>
                  <a:lnTo>
                    <a:pt x="1580" y="3169"/>
                  </a:lnTo>
                  <a:lnTo>
                    <a:pt x="1592" y="3169"/>
                  </a:lnTo>
                  <a:lnTo>
                    <a:pt x="1601" y="3169"/>
                  </a:lnTo>
                  <a:lnTo>
                    <a:pt x="1609" y="3169"/>
                  </a:lnTo>
                  <a:lnTo>
                    <a:pt x="1618" y="3169"/>
                  </a:lnTo>
                  <a:lnTo>
                    <a:pt x="1627" y="3169"/>
                  </a:lnTo>
                  <a:lnTo>
                    <a:pt x="1636" y="3169"/>
                  </a:lnTo>
                  <a:lnTo>
                    <a:pt x="1644" y="3169"/>
                  </a:lnTo>
                  <a:lnTo>
                    <a:pt x="1653" y="3169"/>
                  </a:lnTo>
                  <a:lnTo>
                    <a:pt x="1662" y="3169"/>
                  </a:lnTo>
                  <a:lnTo>
                    <a:pt x="1671" y="3169"/>
                  </a:lnTo>
                  <a:lnTo>
                    <a:pt x="1679" y="3169"/>
                  </a:lnTo>
                  <a:lnTo>
                    <a:pt x="1688" y="3169"/>
                  </a:lnTo>
                  <a:lnTo>
                    <a:pt x="1703" y="3169"/>
                  </a:lnTo>
                  <a:lnTo>
                    <a:pt x="1714" y="3172"/>
                  </a:lnTo>
                  <a:lnTo>
                    <a:pt x="1726" y="3175"/>
                  </a:lnTo>
                  <a:lnTo>
                    <a:pt x="1735" y="3175"/>
                  </a:lnTo>
                  <a:lnTo>
                    <a:pt x="1743" y="3175"/>
                  </a:lnTo>
                  <a:lnTo>
                    <a:pt x="1758" y="3175"/>
                  </a:lnTo>
                  <a:lnTo>
                    <a:pt x="1767" y="3175"/>
                  </a:lnTo>
                  <a:lnTo>
                    <a:pt x="1772" y="3167"/>
                  </a:lnTo>
                  <a:lnTo>
                    <a:pt x="1772" y="3158"/>
                  </a:lnTo>
                  <a:lnTo>
                    <a:pt x="1772" y="3149"/>
                  </a:lnTo>
                  <a:lnTo>
                    <a:pt x="1772" y="3141"/>
                  </a:lnTo>
                  <a:lnTo>
                    <a:pt x="1772" y="3132"/>
                  </a:lnTo>
                  <a:lnTo>
                    <a:pt x="1772" y="3123"/>
                  </a:lnTo>
                  <a:lnTo>
                    <a:pt x="1772" y="3112"/>
                  </a:lnTo>
                  <a:lnTo>
                    <a:pt x="1770" y="3103"/>
                  </a:lnTo>
                  <a:lnTo>
                    <a:pt x="1770" y="3095"/>
                  </a:lnTo>
                  <a:lnTo>
                    <a:pt x="1770" y="3086"/>
                  </a:lnTo>
                  <a:lnTo>
                    <a:pt x="1778" y="3080"/>
                  </a:lnTo>
                  <a:lnTo>
                    <a:pt x="1787" y="3080"/>
                  </a:lnTo>
                  <a:lnTo>
                    <a:pt x="1796" y="3089"/>
                  </a:lnTo>
                  <a:lnTo>
                    <a:pt x="1802" y="3097"/>
                  </a:lnTo>
                  <a:lnTo>
                    <a:pt x="1813" y="3103"/>
                  </a:lnTo>
                  <a:lnTo>
                    <a:pt x="1825" y="3112"/>
                  </a:lnTo>
                  <a:lnTo>
                    <a:pt x="1854" y="3109"/>
                  </a:lnTo>
                  <a:lnTo>
                    <a:pt x="1836" y="3103"/>
                  </a:lnTo>
                  <a:lnTo>
                    <a:pt x="1854" y="3103"/>
                  </a:lnTo>
                  <a:lnTo>
                    <a:pt x="1863" y="3103"/>
                  </a:lnTo>
                  <a:lnTo>
                    <a:pt x="1871" y="3103"/>
                  </a:lnTo>
                  <a:lnTo>
                    <a:pt x="1880" y="3106"/>
                  </a:lnTo>
                  <a:lnTo>
                    <a:pt x="1889" y="3100"/>
                  </a:lnTo>
                  <a:lnTo>
                    <a:pt x="1898" y="3097"/>
                  </a:lnTo>
                  <a:lnTo>
                    <a:pt x="1906" y="3095"/>
                  </a:lnTo>
                  <a:lnTo>
                    <a:pt x="1918" y="3103"/>
                  </a:lnTo>
                  <a:lnTo>
                    <a:pt x="1924" y="3112"/>
                  </a:lnTo>
                  <a:lnTo>
                    <a:pt x="1924" y="3120"/>
                  </a:lnTo>
                  <a:lnTo>
                    <a:pt x="1921" y="3129"/>
                  </a:lnTo>
                  <a:lnTo>
                    <a:pt x="1924" y="3138"/>
                  </a:lnTo>
                  <a:lnTo>
                    <a:pt x="1933" y="3144"/>
                  </a:lnTo>
                  <a:lnTo>
                    <a:pt x="1944" y="3152"/>
                  </a:lnTo>
                  <a:lnTo>
                    <a:pt x="1947" y="3144"/>
                  </a:lnTo>
                  <a:lnTo>
                    <a:pt x="1947" y="3135"/>
                  </a:lnTo>
                  <a:lnTo>
                    <a:pt x="1947" y="3126"/>
                  </a:lnTo>
                  <a:lnTo>
                    <a:pt x="1947" y="3118"/>
                  </a:lnTo>
                  <a:lnTo>
                    <a:pt x="1956" y="3115"/>
                  </a:lnTo>
                  <a:lnTo>
                    <a:pt x="1962" y="3106"/>
                  </a:lnTo>
                  <a:lnTo>
                    <a:pt x="1962" y="3097"/>
                  </a:lnTo>
                  <a:lnTo>
                    <a:pt x="1962" y="3089"/>
                  </a:lnTo>
                  <a:lnTo>
                    <a:pt x="1962" y="3080"/>
                  </a:lnTo>
                  <a:lnTo>
                    <a:pt x="1962" y="3071"/>
                  </a:lnTo>
                  <a:lnTo>
                    <a:pt x="1967" y="3063"/>
                  </a:lnTo>
                  <a:lnTo>
                    <a:pt x="1976" y="3060"/>
                  </a:lnTo>
                  <a:lnTo>
                    <a:pt x="1988" y="3060"/>
                  </a:lnTo>
                  <a:lnTo>
                    <a:pt x="2002" y="3063"/>
                  </a:lnTo>
                  <a:lnTo>
                    <a:pt x="2011" y="3063"/>
                  </a:lnTo>
                  <a:lnTo>
                    <a:pt x="2002" y="3054"/>
                  </a:lnTo>
                  <a:lnTo>
                    <a:pt x="1994" y="3048"/>
                  </a:lnTo>
                  <a:lnTo>
                    <a:pt x="1979" y="3043"/>
                  </a:lnTo>
                  <a:lnTo>
                    <a:pt x="1967" y="3034"/>
                  </a:lnTo>
                  <a:lnTo>
                    <a:pt x="1962" y="3025"/>
                  </a:lnTo>
                  <a:lnTo>
                    <a:pt x="1959" y="3017"/>
                  </a:lnTo>
                  <a:lnTo>
                    <a:pt x="1956" y="3008"/>
                  </a:lnTo>
                  <a:lnTo>
                    <a:pt x="1950" y="2999"/>
                  </a:lnTo>
                  <a:lnTo>
                    <a:pt x="1944" y="2991"/>
                  </a:lnTo>
                  <a:lnTo>
                    <a:pt x="1938" y="2982"/>
                  </a:lnTo>
                  <a:lnTo>
                    <a:pt x="1933" y="2974"/>
                  </a:lnTo>
                  <a:lnTo>
                    <a:pt x="1927" y="2965"/>
                  </a:lnTo>
                  <a:lnTo>
                    <a:pt x="1924" y="2956"/>
                  </a:lnTo>
                  <a:lnTo>
                    <a:pt x="1921" y="2948"/>
                  </a:lnTo>
                  <a:lnTo>
                    <a:pt x="1918" y="2939"/>
                  </a:lnTo>
                  <a:lnTo>
                    <a:pt x="1915" y="2930"/>
                  </a:lnTo>
                  <a:lnTo>
                    <a:pt x="1912" y="2922"/>
                  </a:lnTo>
                  <a:lnTo>
                    <a:pt x="1915" y="2913"/>
                  </a:lnTo>
                  <a:lnTo>
                    <a:pt x="1915" y="2904"/>
                  </a:lnTo>
                  <a:lnTo>
                    <a:pt x="1915" y="2896"/>
                  </a:lnTo>
                  <a:lnTo>
                    <a:pt x="1915" y="2887"/>
                  </a:lnTo>
                  <a:lnTo>
                    <a:pt x="1912" y="2878"/>
                  </a:lnTo>
                  <a:lnTo>
                    <a:pt x="1909" y="2870"/>
                  </a:lnTo>
                  <a:lnTo>
                    <a:pt x="1903" y="2861"/>
                  </a:lnTo>
                  <a:lnTo>
                    <a:pt x="1895" y="2852"/>
                  </a:lnTo>
                  <a:lnTo>
                    <a:pt x="1892" y="2844"/>
                  </a:lnTo>
                  <a:lnTo>
                    <a:pt x="1892" y="2835"/>
                  </a:lnTo>
                  <a:lnTo>
                    <a:pt x="1898" y="2827"/>
                  </a:lnTo>
                  <a:lnTo>
                    <a:pt x="1906" y="2824"/>
                  </a:lnTo>
                  <a:lnTo>
                    <a:pt x="1918" y="2821"/>
                  </a:lnTo>
                  <a:lnTo>
                    <a:pt x="1930" y="2818"/>
                  </a:lnTo>
                  <a:lnTo>
                    <a:pt x="1938" y="2812"/>
                  </a:lnTo>
                  <a:lnTo>
                    <a:pt x="1944" y="2803"/>
                  </a:lnTo>
                  <a:lnTo>
                    <a:pt x="1953" y="2798"/>
                  </a:lnTo>
                  <a:lnTo>
                    <a:pt x="1962" y="2798"/>
                  </a:lnTo>
                  <a:lnTo>
                    <a:pt x="1970" y="2798"/>
                  </a:lnTo>
                  <a:lnTo>
                    <a:pt x="1976" y="2789"/>
                  </a:lnTo>
                  <a:lnTo>
                    <a:pt x="1982" y="2780"/>
                  </a:lnTo>
                  <a:lnTo>
                    <a:pt x="1991" y="2775"/>
                  </a:lnTo>
                  <a:lnTo>
                    <a:pt x="1999" y="2775"/>
                  </a:lnTo>
                  <a:lnTo>
                    <a:pt x="2008" y="2769"/>
                  </a:lnTo>
                  <a:lnTo>
                    <a:pt x="2017" y="2763"/>
                  </a:lnTo>
                  <a:lnTo>
                    <a:pt x="2026" y="2760"/>
                  </a:lnTo>
                  <a:lnTo>
                    <a:pt x="2034" y="2760"/>
                  </a:lnTo>
                  <a:lnTo>
                    <a:pt x="2043" y="2760"/>
                  </a:lnTo>
                  <a:lnTo>
                    <a:pt x="2052" y="2754"/>
                  </a:lnTo>
                  <a:lnTo>
                    <a:pt x="2061" y="2754"/>
                  </a:lnTo>
                  <a:lnTo>
                    <a:pt x="2069" y="2757"/>
                  </a:lnTo>
                  <a:lnTo>
                    <a:pt x="2078" y="2757"/>
                  </a:lnTo>
                  <a:lnTo>
                    <a:pt x="2093" y="2760"/>
                  </a:lnTo>
                  <a:lnTo>
                    <a:pt x="2101" y="2760"/>
                  </a:lnTo>
                  <a:lnTo>
                    <a:pt x="2101" y="2769"/>
                  </a:lnTo>
                  <a:lnTo>
                    <a:pt x="2101" y="2778"/>
                  </a:lnTo>
                  <a:lnTo>
                    <a:pt x="2101" y="2786"/>
                  </a:lnTo>
                  <a:lnTo>
                    <a:pt x="2104" y="2795"/>
                  </a:lnTo>
                  <a:lnTo>
                    <a:pt x="2104" y="2803"/>
                  </a:lnTo>
                  <a:lnTo>
                    <a:pt x="2104" y="2812"/>
                  </a:lnTo>
                  <a:lnTo>
                    <a:pt x="2104" y="2821"/>
                  </a:lnTo>
                  <a:lnTo>
                    <a:pt x="2104" y="2829"/>
                  </a:lnTo>
                  <a:lnTo>
                    <a:pt x="2104" y="2838"/>
                  </a:lnTo>
                  <a:lnTo>
                    <a:pt x="2096" y="2841"/>
                  </a:lnTo>
                  <a:lnTo>
                    <a:pt x="2087" y="2841"/>
                  </a:lnTo>
                  <a:lnTo>
                    <a:pt x="2078" y="2841"/>
                  </a:lnTo>
                  <a:lnTo>
                    <a:pt x="2069" y="2841"/>
                  </a:lnTo>
                  <a:lnTo>
                    <a:pt x="2061" y="2841"/>
                  </a:lnTo>
                  <a:lnTo>
                    <a:pt x="2069" y="2841"/>
                  </a:lnTo>
                  <a:lnTo>
                    <a:pt x="2078" y="2835"/>
                  </a:lnTo>
                  <a:lnTo>
                    <a:pt x="2090" y="2835"/>
                  </a:lnTo>
                  <a:lnTo>
                    <a:pt x="2081" y="2832"/>
                  </a:lnTo>
                  <a:lnTo>
                    <a:pt x="2072" y="2832"/>
                  </a:lnTo>
                  <a:lnTo>
                    <a:pt x="2064" y="2832"/>
                  </a:lnTo>
                  <a:lnTo>
                    <a:pt x="2058" y="2841"/>
                  </a:lnTo>
                  <a:lnTo>
                    <a:pt x="2049" y="2844"/>
                  </a:lnTo>
                  <a:lnTo>
                    <a:pt x="2040" y="2847"/>
                  </a:lnTo>
                  <a:lnTo>
                    <a:pt x="2040" y="2855"/>
                  </a:lnTo>
                  <a:lnTo>
                    <a:pt x="2040" y="2864"/>
                  </a:lnTo>
                  <a:lnTo>
                    <a:pt x="2032" y="2870"/>
                  </a:lnTo>
                  <a:lnTo>
                    <a:pt x="2020" y="2870"/>
                  </a:lnTo>
                  <a:lnTo>
                    <a:pt x="2017" y="2861"/>
                  </a:lnTo>
                  <a:lnTo>
                    <a:pt x="2008" y="2858"/>
                  </a:lnTo>
                  <a:lnTo>
                    <a:pt x="2002" y="2867"/>
                  </a:lnTo>
                  <a:lnTo>
                    <a:pt x="2002" y="2876"/>
                  </a:lnTo>
                  <a:lnTo>
                    <a:pt x="2011" y="2878"/>
                  </a:lnTo>
                  <a:lnTo>
                    <a:pt x="2020" y="2884"/>
                  </a:lnTo>
                  <a:lnTo>
                    <a:pt x="2029" y="2896"/>
                  </a:lnTo>
                  <a:lnTo>
                    <a:pt x="2034" y="2907"/>
                  </a:lnTo>
                  <a:lnTo>
                    <a:pt x="2037" y="2916"/>
                  </a:lnTo>
                  <a:lnTo>
                    <a:pt x="2037" y="2925"/>
                  </a:lnTo>
                  <a:lnTo>
                    <a:pt x="2040" y="2933"/>
                  </a:lnTo>
                  <a:lnTo>
                    <a:pt x="2040" y="2942"/>
                  </a:lnTo>
                  <a:lnTo>
                    <a:pt x="2052" y="2945"/>
                  </a:lnTo>
                  <a:lnTo>
                    <a:pt x="2061" y="2953"/>
                  </a:lnTo>
                  <a:lnTo>
                    <a:pt x="2069" y="2959"/>
                  </a:lnTo>
                  <a:lnTo>
                    <a:pt x="2078" y="2965"/>
                  </a:lnTo>
                  <a:lnTo>
                    <a:pt x="2087" y="2965"/>
                  </a:lnTo>
                  <a:lnTo>
                    <a:pt x="2093" y="2976"/>
                  </a:lnTo>
                  <a:lnTo>
                    <a:pt x="2087" y="2985"/>
                  </a:lnTo>
                  <a:lnTo>
                    <a:pt x="2084" y="2994"/>
                  </a:lnTo>
                  <a:lnTo>
                    <a:pt x="2084" y="3005"/>
                  </a:lnTo>
                  <a:lnTo>
                    <a:pt x="2090" y="3017"/>
                  </a:lnTo>
                  <a:lnTo>
                    <a:pt x="2090" y="3025"/>
                  </a:lnTo>
                  <a:lnTo>
                    <a:pt x="2093" y="3017"/>
                  </a:lnTo>
                  <a:lnTo>
                    <a:pt x="2093" y="3008"/>
                  </a:lnTo>
                  <a:lnTo>
                    <a:pt x="2096" y="2999"/>
                  </a:lnTo>
                  <a:lnTo>
                    <a:pt x="2096" y="2991"/>
                  </a:lnTo>
                  <a:lnTo>
                    <a:pt x="2104" y="2988"/>
                  </a:lnTo>
                  <a:lnTo>
                    <a:pt x="2113" y="2988"/>
                  </a:lnTo>
                  <a:lnTo>
                    <a:pt x="2125" y="2988"/>
                  </a:lnTo>
                  <a:lnTo>
                    <a:pt x="2130" y="2999"/>
                  </a:lnTo>
                  <a:lnTo>
                    <a:pt x="2130" y="3008"/>
                  </a:lnTo>
                  <a:lnTo>
                    <a:pt x="2133" y="3017"/>
                  </a:lnTo>
                  <a:lnTo>
                    <a:pt x="2139" y="3028"/>
                  </a:lnTo>
                  <a:lnTo>
                    <a:pt x="2148" y="3034"/>
                  </a:lnTo>
                  <a:lnTo>
                    <a:pt x="2160" y="3040"/>
                  </a:lnTo>
                  <a:lnTo>
                    <a:pt x="2151" y="3043"/>
                  </a:lnTo>
                  <a:lnTo>
                    <a:pt x="2148" y="3051"/>
                  </a:lnTo>
                  <a:lnTo>
                    <a:pt x="2133" y="3054"/>
                  </a:lnTo>
                  <a:lnTo>
                    <a:pt x="2125" y="3051"/>
                  </a:lnTo>
                  <a:lnTo>
                    <a:pt x="2116" y="3051"/>
                  </a:lnTo>
                  <a:lnTo>
                    <a:pt x="2101" y="3046"/>
                  </a:lnTo>
                  <a:lnTo>
                    <a:pt x="2093" y="3037"/>
                  </a:lnTo>
                  <a:lnTo>
                    <a:pt x="2090" y="3046"/>
                  </a:lnTo>
                  <a:lnTo>
                    <a:pt x="2090" y="3054"/>
                  </a:lnTo>
                  <a:lnTo>
                    <a:pt x="2090" y="3063"/>
                  </a:lnTo>
                  <a:lnTo>
                    <a:pt x="2090" y="3071"/>
                  </a:lnTo>
                  <a:lnTo>
                    <a:pt x="2087" y="3080"/>
                  </a:lnTo>
                  <a:lnTo>
                    <a:pt x="2084" y="3089"/>
                  </a:lnTo>
                  <a:lnTo>
                    <a:pt x="2084" y="3097"/>
                  </a:lnTo>
                  <a:lnTo>
                    <a:pt x="2096" y="3097"/>
                  </a:lnTo>
                  <a:lnTo>
                    <a:pt x="2104" y="3092"/>
                  </a:lnTo>
                  <a:lnTo>
                    <a:pt x="2110" y="3100"/>
                  </a:lnTo>
                  <a:lnTo>
                    <a:pt x="2107" y="3109"/>
                  </a:lnTo>
                  <a:lnTo>
                    <a:pt x="2098" y="3118"/>
                  </a:lnTo>
                  <a:lnTo>
                    <a:pt x="2090" y="3123"/>
                  </a:lnTo>
                  <a:lnTo>
                    <a:pt x="2087" y="3109"/>
                  </a:lnTo>
                  <a:lnTo>
                    <a:pt x="2087" y="3132"/>
                  </a:lnTo>
                  <a:lnTo>
                    <a:pt x="2096" y="3126"/>
                  </a:lnTo>
                  <a:lnTo>
                    <a:pt x="2087" y="3109"/>
                  </a:lnTo>
                  <a:lnTo>
                    <a:pt x="2104" y="3112"/>
                  </a:lnTo>
                  <a:lnTo>
                    <a:pt x="2110" y="3103"/>
                  </a:lnTo>
                  <a:lnTo>
                    <a:pt x="2110" y="3112"/>
                  </a:lnTo>
                  <a:lnTo>
                    <a:pt x="2110" y="3120"/>
                  </a:lnTo>
                  <a:lnTo>
                    <a:pt x="2116" y="3129"/>
                  </a:lnTo>
                  <a:lnTo>
                    <a:pt x="2119" y="3138"/>
                  </a:lnTo>
                  <a:lnTo>
                    <a:pt x="2122" y="3149"/>
                  </a:lnTo>
                  <a:lnTo>
                    <a:pt x="2122" y="3158"/>
                  </a:lnTo>
                  <a:lnTo>
                    <a:pt x="2125" y="3167"/>
                  </a:lnTo>
                  <a:lnTo>
                    <a:pt x="2125" y="3175"/>
                  </a:lnTo>
                  <a:lnTo>
                    <a:pt x="2125" y="3184"/>
                  </a:lnTo>
                  <a:lnTo>
                    <a:pt x="2125" y="3193"/>
                  </a:lnTo>
                  <a:lnTo>
                    <a:pt x="2128" y="3201"/>
                  </a:lnTo>
                  <a:lnTo>
                    <a:pt x="2130" y="3210"/>
                  </a:lnTo>
                  <a:lnTo>
                    <a:pt x="2139" y="3210"/>
                  </a:lnTo>
                  <a:lnTo>
                    <a:pt x="2148" y="3210"/>
                  </a:lnTo>
                  <a:lnTo>
                    <a:pt x="2157" y="3207"/>
                  </a:lnTo>
                  <a:lnTo>
                    <a:pt x="2163" y="3198"/>
                  </a:lnTo>
                  <a:lnTo>
                    <a:pt x="2171" y="3195"/>
                  </a:lnTo>
                  <a:lnTo>
                    <a:pt x="2183" y="3193"/>
                  </a:lnTo>
                  <a:lnTo>
                    <a:pt x="2192" y="3190"/>
                  </a:lnTo>
                  <a:lnTo>
                    <a:pt x="2200" y="3184"/>
                  </a:lnTo>
                  <a:lnTo>
                    <a:pt x="2209" y="3181"/>
                  </a:lnTo>
                  <a:lnTo>
                    <a:pt x="2218" y="3181"/>
                  </a:lnTo>
                  <a:lnTo>
                    <a:pt x="2224" y="3172"/>
                  </a:lnTo>
                  <a:lnTo>
                    <a:pt x="2232" y="3169"/>
                  </a:lnTo>
                  <a:lnTo>
                    <a:pt x="2241" y="3169"/>
                  </a:lnTo>
                  <a:lnTo>
                    <a:pt x="2256" y="3169"/>
                  </a:lnTo>
                  <a:lnTo>
                    <a:pt x="2264" y="3169"/>
                  </a:lnTo>
                  <a:lnTo>
                    <a:pt x="2276" y="3178"/>
                  </a:lnTo>
                  <a:lnTo>
                    <a:pt x="2288" y="3184"/>
                  </a:lnTo>
                  <a:lnTo>
                    <a:pt x="2296" y="3187"/>
                  </a:lnTo>
                  <a:lnTo>
                    <a:pt x="2308" y="3190"/>
                  </a:lnTo>
                  <a:lnTo>
                    <a:pt x="2317" y="3195"/>
                  </a:lnTo>
                  <a:lnTo>
                    <a:pt x="2328" y="3198"/>
                  </a:lnTo>
                  <a:lnTo>
                    <a:pt x="2340" y="3201"/>
                  </a:lnTo>
                  <a:lnTo>
                    <a:pt x="2349" y="3207"/>
                  </a:lnTo>
                  <a:lnTo>
                    <a:pt x="2358" y="3216"/>
                  </a:lnTo>
                  <a:lnTo>
                    <a:pt x="2366" y="3221"/>
                  </a:lnTo>
                  <a:lnTo>
                    <a:pt x="2375" y="3227"/>
                  </a:lnTo>
                  <a:lnTo>
                    <a:pt x="2387" y="3230"/>
                  </a:lnTo>
                  <a:lnTo>
                    <a:pt x="2395" y="3230"/>
                  </a:lnTo>
                  <a:lnTo>
                    <a:pt x="2404" y="3230"/>
                  </a:lnTo>
                  <a:lnTo>
                    <a:pt x="2407" y="3239"/>
                  </a:lnTo>
                  <a:lnTo>
                    <a:pt x="2407" y="3247"/>
                  </a:lnTo>
                  <a:lnTo>
                    <a:pt x="2413" y="3256"/>
                  </a:lnTo>
                  <a:lnTo>
                    <a:pt x="2422" y="3262"/>
                  </a:lnTo>
                  <a:lnTo>
                    <a:pt x="2436" y="3265"/>
                  </a:lnTo>
                  <a:lnTo>
                    <a:pt x="2451" y="3270"/>
                  </a:lnTo>
                  <a:lnTo>
                    <a:pt x="2457" y="3279"/>
                  </a:lnTo>
                  <a:lnTo>
                    <a:pt x="2457" y="3288"/>
                  </a:lnTo>
                  <a:lnTo>
                    <a:pt x="2468" y="3291"/>
                  </a:lnTo>
                  <a:lnTo>
                    <a:pt x="2483" y="3288"/>
                  </a:lnTo>
                  <a:lnTo>
                    <a:pt x="2491" y="3285"/>
                  </a:lnTo>
                  <a:lnTo>
                    <a:pt x="2500" y="3276"/>
                  </a:lnTo>
                  <a:lnTo>
                    <a:pt x="2509" y="3270"/>
                  </a:lnTo>
                  <a:lnTo>
                    <a:pt x="2515" y="3262"/>
                  </a:lnTo>
                  <a:lnTo>
                    <a:pt x="2521" y="3253"/>
                  </a:lnTo>
                  <a:lnTo>
                    <a:pt x="2526" y="3244"/>
                  </a:lnTo>
                  <a:lnTo>
                    <a:pt x="2532" y="3236"/>
                  </a:lnTo>
                  <a:lnTo>
                    <a:pt x="2535" y="3227"/>
                  </a:lnTo>
                  <a:lnTo>
                    <a:pt x="2541" y="3218"/>
                  </a:lnTo>
                  <a:lnTo>
                    <a:pt x="2544" y="3210"/>
                  </a:lnTo>
                  <a:lnTo>
                    <a:pt x="2544" y="3198"/>
                  </a:lnTo>
                  <a:lnTo>
                    <a:pt x="2544" y="3190"/>
                  </a:lnTo>
                  <a:lnTo>
                    <a:pt x="2553" y="3181"/>
                  </a:lnTo>
                  <a:lnTo>
                    <a:pt x="2567" y="3181"/>
                  </a:lnTo>
                  <a:lnTo>
                    <a:pt x="2599" y="3155"/>
                  </a:lnTo>
                  <a:lnTo>
                    <a:pt x="2599" y="3164"/>
                  </a:lnTo>
                  <a:lnTo>
                    <a:pt x="2608" y="3169"/>
                  </a:lnTo>
                  <a:lnTo>
                    <a:pt x="2617" y="3178"/>
                  </a:lnTo>
                  <a:lnTo>
                    <a:pt x="2625" y="3181"/>
                  </a:lnTo>
                  <a:lnTo>
                    <a:pt x="2634" y="3178"/>
                  </a:lnTo>
                  <a:lnTo>
                    <a:pt x="2643" y="3172"/>
                  </a:lnTo>
                  <a:lnTo>
                    <a:pt x="2657" y="3169"/>
                  </a:lnTo>
                  <a:lnTo>
                    <a:pt x="2666" y="3169"/>
                  </a:lnTo>
                  <a:lnTo>
                    <a:pt x="2675" y="3169"/>
                  </a:lnTo>
                  <a:lnTo>
                    <a:pt x="2684" y="3164"/>
                  </a:lnTo>
                  <a:lnTo>
                    <a:pt x="2692" y="3155"/>
                  </a:lnTo>
                  <a:lnTo>
                    <a:pt x="2739" y="3155"/>
                  </a:lnTo>
                  <a:lnTo>
                    <a:pt x="2733" y="3138"/>
                  </a:lnTo>
                  <a:lnTo>
                    <a:pt x="2733" y="3126"/>
                  </a:lnTo>
                  <a:lnTo>
                    <a:pt x="2730" y="3118"/>
                  </a:lnTo>
                  <a:lnTo>
                    <a:pt x="2739" y="3112"/>
                  </a:lnTo>
                  <a:lnTo>
                    <a:pt x="2748" y="3106"/>
                  </a:lnTo>
                  <a:lnTo>
                    <a:pt x="2753" y="3097"/>
                  </a:lnTo>
                  <a:lnTo>
                    <a:pt x="2762" y="3092"/>
                  </a:lnTo>
                  <a:lnTo>
                    <a:pt x="2771" y="3092"/>
                  </a:lnTo>
                  <a:lnTo>
                    <a:pt x="2780" y="3095"/>
                  </a:lnTo>
                  <a:lnTo>
                    <a:pt x="2783" y="3103"/>
                  </a:lnTo>
                  <a:lnTo>
                    <a:pt x="2786" y="3112"/>
                  </a:lnTo>
                  <a:lnTo>
                    <a:pt x="2786" y="3126"/>
                  </a:lnTo>
                  <a:lnTo>
                    <a:pt x="2788" y="3135"/>
                  </a:lnTo>
                  <a:lnTo>
                    <a:pt x="2791" y="3144"/>
                  </a:lnTo>
                  <a:lnTo>
                    <a:pt x="2794" y="3152"/>
                  </a:lnTo>
                  <a:lnTo>
                    <a:pt x="2800" y="3161"/>
                  </a:lnTo>
                  <a:lnTo>
                    <a:pt x="2809" y="3167"/>
                  </a:lnTo>
                  <a:lnTo>
                    <a:pt x="2818" y="3167"/>
                  </a:lnTo>
                  <a:lnTo>
                    <a:pt x="2826" y="3167"/>
                  </a:lnTo>
                  <a:lnTo>
                    <a:pt x="2832" y="3158"/>
                  </a:lnTo>
                  <a:lnTo>
                    <a:pt x="2841" y="3152"/>
                  </a:lnTo>
                  <a:lnTo>
                    <a:pt x="2844" y="3144"/>
                  </a:lnTo>
                  <a:lnTo>
                    <a:pt x="2847" y="3135"/>
                  </a:lnTo>
                  <a:lnTo>
                    <a:pt x="2850" y="3123"/>
                  </a:lnTo>
                  <a:lnTo>
                    <a:pt x="2858" y="3115"/>
                  </a:lnTo>
                  <a:lnTo>
                    <a:pt x="2870" y="3115"/>
                  </a:lnTo>
                  <a:lnTo>
                    <a:pt x="2879" y="3115"/>
                  </a:lnTo>
                  <a:lnTo>
                    <a:pt x="2887" y="3115"/>
                  </a:lnTo>
                  <a:lnTo>
                    <a:pt x="2896" y="3115"/>
                  </a:lnTo>
                  <a:lnTo>
                    <a:pt x="2902" y="3106"/>
                  </a:lnTo>
                  <a:lnTo>
                    <a:pt x="2914" y="3103"/>
                  </a:lnTo>
                  <a:lnTo>
                    <a:pt x="2922" y="3103"/>
                  </a:lnTo>
                  <a:lnTo>
                    <a:pt x="2925" y="3095"/>
                  </a:lnTo>
                  <a:lnTo>
                    <a:pt x="2925" y="3086"/>
                  </a:lnTo>
                  <a:lnTo>
                    <a:pt x="2922" y="3077"/>
                  </a:lnTo>
                  <a:lnTo>
                    <a:pt x="2917" y="3066"/>
                  </a:lnTo>
                  <a:lnTo>
                    <a:pt x="2911" y="3057"/>
                  </a:lnTo>
                  <a:lnTo>
                    <a:pt x="2905" y="3048"/>
                  </a:lnTo>
                  <a:lnTo>
                    <a:pt x="2896" y="3046"/>
                  </a:lnTo>
                  <a:lnTo>
                    <a:pt x="2887" y="3048"/>
                  </a:lnTo>
                  <a:lnTo>
                    <a:pt x="2879" y="3051"/>
                  </a:lnTo>
                  <a:lnTo>
                    <a:pt x="2876" y="3060"/>
                  </a:lnTo>
                  <a:lnTo>
                    <a:pt x="2873" y="3069"/>
                  </a:lnTo>
                  <a:lnTo>
                    <a:pt x="2864" y="3066"/>
                  </a:lnTo>
                  <a:lnTo>
                    <a:pt x="2861" y="3054"/>
                  </a:lnTo>
                  <a:lnTo>
                    <a:pt x="2858" y="3043"/>
                  </a:lnTo>
                  <a:lnTo>
                    <a:pt x="2858" y="3034"/>
                  </a:lnTo>
                  <a:lnTo>
                    <a:pt x="2855" y="3025"/>
                  </a:lnTo>
                  <a:lnTo>
                    <a:pt x="2850" y="3017"/>
                  </a:lnTo>
                  <a:lnTo>
                    <a:pt x="2850" y="3008"/>
                  </a:lnTo>
                  <a:lnTo>
                    <a:pt x="2850" y="2997"/>
                  </a:lnTo>
                  <a:lnTo>
                    <a:pt x="2850" y="2988"/>
                  </a:lnTo>
                  <a:lnTo>
                    <a:pt x="2858" y="2982"/>
                  </a:lnTo>
                  <a:lnTo>
                    <a:pt x="2867" y="2982"/>
                  </a:lnTo>
                  <a:lnTo>
                    <a:pt x="2876" y="2979"/>
                  </a:lnTo>
                  <a:lnTo>
                    <a:pt x="2884" y="2974"/>
                  </a:lnTo>
                  <a:lnTo>
                    <a:pt x="2887" y="2962"/>
                  </a:lnTo>
                  <a:lnTo>
                    <a:pt x="2896" y="2962"/>
                  </a:lnTo>
                  <a:lnTo>
                    <a:pt x="2905" y="2962"/>
                  </a:lnTo>
                  <a:lnTo>
                    <a:pt x="2914" y="2962"/>
                  </a:lnTo>
                  <a:lnTo>
                    <a:pt x="2922" y="2959"/>
                  </a:lnTo>
                  <a:lnTo>
                    <a:pt x="2931" y="2956"/>
                  </a:lnTo>
                  <a:lnTo>
                    <a:pt x="2937" y="2948"/>
                  </a:lnTo>
                  <a:lnTo>
                    <a:pt x="2943" y="2939"/>
                  </a:lnTo>
                  <a:lnTo>
                    <a:pt x="2946" y="2930"/>
                  </a:lnTo>
                  <a:lnTo>
                    <a:pt x="2954" y="2925"/>
                  </a:lnTo>
                  <a:lnTo>
                    <a:pt x="2963" y="2919"/>
                  </a:lnTo>
                  <a:lnTo>
                    <a:pt x="2972" y="2916"/>
                  </a:lnTo>
                  <a:lnTo>
                    <a:pt x="2981" y="2913"/>
                  </a:lnTo>
                  <a:lnTo>
                    <a:pt x="2983" y="2904"/>
                  </a:lnTo>
                  <a:lnTo>
                    <a:pt x="2989" y="2893"/>
                  </a:lnTo>
                  <a:lnTo>
                    <a:pt x="2998" y="2881"/>
                  </a:lnTo>
                  <a:lnTo>
                    <a:pt x="3004" y="2873"/>
                  </a:lnTo>
                  <a:lnTo>
                    <a:pt x="3010" y="2864"/>
                  </a:lnTo>
                  <a:lnTo>
                    <a:pt x="3018" y="2858"/>
                  </a:lnTo>
                  <a:lnTo>
                    <a:pt x="3027" y="2852"/>
                  </a:lnTo>
                  <a:lnTo>
                    <a:pt x="3036" y="2847"/>
                  </a:lnTo>
                  <a:lnTo>
                    <a:pt x="3045" y="2847"/>
                  </a:lnTo>
                  <a:lnTo>
                    <a:pt x="3053" y="2844"/>
                  </a:lnTo>
                  <a:lnTo>
                    <a:pt x="3053" y="2835"/>
                  </a:lnTo>
                  <a:lnTo>
                    <a:pt x="3053" y="2827"/>
                  </a:lnTo>
                  <a:lnTo>
                    <a:pt x="3053" y="2818"/>
                  </a:lnTo>
                  <a:lnTo>
                    <a:pt x="3053" y="2809"/>
                  </a:lnTo>
                  <a:lnTo>
                    <a:pt x="3050" y="2801"/>
                  </a:lnTo>
                  <a:lnTo>
                    <a:pt x="3045" y="2789"/>
                  </a:lnTo>
                  <a:lnTo>
                    <a:pt x="3045" y="2780"/>
                  </a:lnTo>
                  <a:lnTo>
                    <a:pt x="3045" y="2772"/>
                  </a:lnTo>
                  <a:lnTo>
                    <a:pt x="3045" y="2763"/>
                  </a:lnTo>
                  <a:lnTo>
                    <a:pt x="3036" y="2754"/>
                  </a:lnTo>
                  <a:lnTo>
                    <a:pt x="3027" y="2743"/>
                  </a:lnTo>
                  <a:lnTo>
                    <a:pt x="3024" y="2734"/>
                  </a:lnTo>
                  <a:lnTo>
                    <a:pt x="3021" y="2726"/>
                  </a:lnTo>
                  <a:lnTo>
                    <a:pt x="3018" y="2717"/>
                  </a:lnTo>
                  <a:lnTo>
                    <a:pt x="3010" y="2708"/>
                  </a:lnTo>
                  <a:lnTo>
                    <a:pt x="3001" y="2705"/>
                  </a:lnTo>
                  <a:lnTo>
                    <a:pt x="3001" y="2697"/>
                  </a:lnTo>
                  <a:lnTo>
                    <a:pt x="3010" y="2694"/>
                  </a:lnTo>
                  <a:lnTo>
                    <a:pt x="3018" y="2688"/>
                  </a:lnTo>
                  <a:lnTo>
                    <a:pt x="3027" y="2682"/>
                  </a:lnTo>
                  <a:lnTo>
                    <a:pt x="3030" y="2674"/>
                  </a:lnTo>
                  <a:lnTo>
                    <a:pt x="3039" y="2665"/>
                  </a:lnTo>
                  <a:lnTo>
                    <a:pt x="3045" y="2657"/>
                  </a:lnTo>
                  <a:lnTo>
                    <a:pt x="3056" y="2659"/>
                  </a:lnTo>
                  <a:lnTo>
                    <a:pt x="3065" y="2665"/>
                  </a:lnTo>
                  <a:lnTo>
                    <a:pt x="3074" y="2665"/>
                  </a:lnTo>
                  <a:lnTo>
                    <a:pt x="3077" y="2657"/>
                  </a:lnTo>
                  <a:lnTo>
                    <a:pt x="3077" y="2645"/>
                  </a:lnTo>
                  <a:lnTo>
                    <a:pt x="3077" y="2636"/>
                  </a:lnTo>
                  <a:lnTo>
                    <a:pt x="3077" y="2628"/>
                  </a:lnTo>
                  <a:lnTo>
                    <a:pt x="3071" y="2619"/>
                  </a:lnTo>
                  <a:lnTo>
                    <a:pt x="3062" y="2613"/>
                  </a:lnTo>
                  <a:lnTo>
                    <a:pt x="3056" y="2605"/>
                  </a:lnTo>
                  <a:lnTo>
                    <a:pt x="3056" y="2596"/>
                  </a:lnTo>
                  <a:lnTo>
                    <a:pt x="3053" y="2582"/>
                  </a:lnTo>
                  <a:lnTo>
                    <a:pt x="3053" y="2573"/>
                  </a:lnTo>
                  <a:lnTo>
                    <a:pt x="3062" y="2567"/>
                  </a:lnTo>
                  <a:lnTo>
                    <a:pt x="3071" y="2567"/>
                  </a:lnTo>
                  <a:lnTo>
                    <a:pt x="3080" y="2564"/>
                  </a:lnTo>
                  <a:lnTo>
                    <a:pt x="3088" y="2564"/>
                  </a:lnTo>
                  <a:lnTo>
                    <a:pt x="3097" y="2561"/>
                  </a:lnTo>
                  <a:lnTo>
                    <a:pt x="3109" y="2556"/>
                  </a:lnTo>
                  <a:lnTo>
                    <a:pt x="3117" y="2547"/>
                  </a:lnTo>
                  <a:lnTo>
                    <a:pt x="3120" y="2538"/>
                  </a:lnTo>
                  <a:lnTo>
                    <a:pt x="3120" y="2530"/>
                  </a:lnTo>
                  <a:lnTo>
                    <a:pt x="3120" y="2521"/>
                  </a:lnTo>
                  <a:lnTo>
                    <a:pt x="3120" y="2512"/>
                  </a:lnTo>
                  <a:lnTo>
                    <a:pt x="3114" y="2501"/>
                  </a:lnTo>
                  <a:lnTo>
                    <a:pt x="3112" y="2489"/>
                  </a:lnTo>
                  <a:lnTo>
                    <a:pt x="3112" y="2481"/>
                  </a:lnTo>
                  <a:lnTo>
                    <a:pt x="3112" y="2472"/>
                  </a:lnTo>
                  <a:lnTo>
                    <a:pt x="3120" y="2463"/>
                  </a:lnTo>
                  <a:lnTo>
                    <a:pt x="3129" y="2461"/>
                  </a:lnTo>
                  <a:lnTo>
                    <a:pt x="3135" y="2452"/>
                  </a:lnTo>
                  <a:lnTo>
                    <a:pt x="3135" y="2443"/>
                  </a:lnTo>
                  <a:lnTo>
                    <a:pt x="3135" y="2435"/>
                  </a:lnTo>
                  <a:lnTo>
                    <a:pt x="3144" y="2429"/>
                  </a:lnTo>
                  <a:lnTo>
                    <a:pt x="3152" y="2420"/>
                  </a:lnTo>
                  <a:lnTo>
                    <a:pt x="3155" y="2412"/>
                  </a:lnTo>
                  <a:lnTo>
                    <a:pt x="3158" y="2403"/>
                  </a:lnTo>
                  <a:lnTo>
                    <a:pt x="3167" y="2394"/>
                  </a:lnTo>
                  <a:lnTo>
                    <a:pt x="3176" y="2386"/>
                  </a:lnTo>
                  <a:lnTo>
                    <a:pt x="3184" y="2380"/>
                  </a:lnTo>
                  <a:lnTo>
                    <a:pt x="3184" y="2371"/>
                  </a:lnTo>
                  <a:lnTo>
                    <a:pt x="3187" y="2363"/>
                  </a:lnTo>
                  <a:lnTo>
                    <a:pt x="3193" y="2354"/>
                  </a:lnTo>
                  <a:lnTo>
                    <a:pt x="3202" y="2348"/>
                  </a:lnTo>
                  <a:lnTo>
                    <a:pt x="3208" y="2340"/>
                  </a:lnTo>
                  <a:lnTo>
                    <a:pt x="3213" y="2331"/>
                  </a:lnTo>
                  <a:lnTo>
                    <a:pt x="3216" y="2322"/>
                  </a:lnTo>
                  <a:lnTo>
                    <a:pt x="3219" y="2314"/>
                  </a:lnTo>
                  <a:lnTo>
                    <a:pt x="3222" y="2305"/>
                  </a:lnTo>
                  <a:lnTo>
                    <a:pt x="3228" y="2296"/>
                  </a:lnTo>
                  <a:lnTo>
                    <a:pt x="3237" y="2291"/>
                  </a:lnTo>
                  <a:lnTo>
                    <a:pt x="3245" y="2291"/>
                  </a:lnTo>
                  <a:lnTo>
                    <a:pt x="3254" y="2285"/>
                  </a:lnTo>
                  <a:lnTo>
                    <a:pt x="3263" y="2282"/>
                  </a:lnTo>
                  <a:lnTo>
                    <a:pt x="3272" y="2279"/>
                  </a:lnTo>
                  <a:lnTo>
                    <a:pt x="3280" y="2279"/>
                  </a:lnTo>
                  <a:lnTo>
                    <a:pt x="3289" y="2276"/>
                  </a:lnTo>
                  <a:lnTo>
                    <a:pt x="3298" y="2273"/>
                  </a:lnTo>
                  <a:lnTo>
                    <a:pt x="3307" y="2273"/>
                  </a:lnTo>
                  <a:lnTo>
                    <a:pt x="3318" y="2276"/>
                  </a:lnTo>
                  <a:lnTo>
                    <a:pt x="3327" y="2276"/>
                  </a:lnTo>
                  <a:lnTo>
                    <a:pt x="3336" y="2276"/>
                  </a:lnTo>
                  <a:lnTo>
                    <a:pt x="3344" y="2276"/>
                  </a:lnTo>
                  <a:lnTo>
                    <a:pt x="3344" y="2279"/>
                  </a:lnTo>
                  <a:lnTo>
                    <a:pt x="3356" y="2265"/>
                  </a:lnTo>
                  <a:lnTo>
                    <a:pt x="3365" y="2265"/>
                  </a:lnTo>
                  <a:lnTo>
                    <a:pt x="3374" y="2259"/>
                  </a:lnTo>
                  <a:lnTo>
                    <a:pt x="3382" y="2253"/>
                  </a:lnTo>
                  <a:lnTo>
                    <a:pt x="3385" y="2244"/>
                  </a:lnTo>
                  <a:lnTo>
                    <a:pt x="3391" y="2233"/>
                  </a:lnTo>
                  <a:lnTo>
                    <a:pt x="3400" y="2224"/>
                  </a:lnTo>
                  <a:lnTo>
                    <a:pt x="3397" y="2216"/>
                  </a:lnTo>
                  <a:lnTo>
                    <a:pt x="3391" y="2207"/>
                  </a:lnTo>
                  <a:lnTo>
                    <a:pt x="3382" y="2201"/>
                  </a:lnTo>
                  <a:lnTo>
                    <a:pt x="3376" y="2193"/>
                  </a:lnTo>
                  <a:lnTo>
                    <a:pt x="3368" y="2184"/>
                  </a:lnTo>
                  <a:lnTo>
                    <a:pt x="3362" y="2172"/>
                  </a:lnTo>
                  <a:lnTo>
                    <a:pt x="3356" y="2164"/>
                  </a:lnTo>
                  <a:lnTo>
                    <a:pt x="3356" y="2155"/>
                  </a:lnTo>
                  <a:lnTo>
                    <a:pt x="3356" y="2146"/>
                  </a:lnTo>
                  <a:lnTo>
                    <a:pt x="3368" y="2141"/>
                  </a:lnTo>
                  <a:lnTo>
                    <a:pt x="3376" y="2138"/>
                  </a:lnTo>
                  <a:lnTo>
                    <a:pt x="3385" y="2135"/>
                  </a:lnTo>
                  <a:lnTo>
                    <a:pt x="3394" y="2126"/>
                  </a:lnTo>
                  <a:lnTo>
                    <a:pt x="3400" y="2118"/>
                  </a:lnTo>
                  <a:lnTo>
                    <a:pt x="3406" y="2109"/>
                  </a:lnTo>
                  <a:lnTo>
                    <a:pt x="3414" y="2106"/>
                  </a:lnTo>
                  <a:lnTo>
                    <a:pt x="3426" y="2106"/>
                  </a:lnTo>
                  <a:lnTo>
                    <a:pt x="3435" y="2106"/>
                  </a:lnTo>
                  <a:lnTo>
                    <a:pt x="3443" y="2106"/>
                  </a:lnTo>
                  <a:lnTo>
                    <a:pt x="3452" y="2103"/>
                  </a:lnTo>
                  <a:lnTo>
                    <a:pt x="3461" y="2103"/>
                  </a:lnTo>
                  <a:lnTo>
                    <a:pt x="3470" y="2103"/>
                  </a:lnTo>
                  <a:lnTo>
                    <a:pt x="3478" y="2112"/>
                  </a:lnTo>
                  <a:lnTo>
                    <a:pt x="3484" y="2120"/>
                  </a:lnTo>
                  <a:lnTo>
                    <a:pt x="3493" y="2126"/>
                  </a:lnTo>
                  <a:lnTo>
                    <a:pt x="3502" y="2129"/>
                  </a:lnTo>
                  <a:lnTo>
                    <a:pt x="3510" y="2129"/>
                  </a:lnTo>
                  <a:lnTo>
                    <a:pt x="3519" y="2129"/>
                  </a:lnTo>
                  <a:lnTo>
                    <a:pt x="3528" y="2126"/>
                  </a:lnTo>
                  <a:lnTo>
                    <a:pt x="3537" y="2118"/>
                  </a:lnTo>
                  <a:lnTo>
                    <a:pt x="3542" y="2109"/>
                  </a:lnTo>
                  <a:lnTo>
                    <a:pt x="3548" y="2100"/>
                  </a:lnTo>
                  <a:lnTo>
                    <a:pt x="3551" y="2089"/>
                  </a:lnTo>
                  <a:lnTo>
                    <a:pt x="3554" y="2080"/>
                  </a:lnTo>
                  <a:lnTo>
                    <a:pt x="3563" y="2072"/>
                  </a:lnTo>
                  <a:lnTo>
                    <a:pt x="3572" y="2072"/>
                  </a:lnTo>
                  <a:lnTo>
                    <a:pt x="3583" y="2063"/>
                  </a:lnTo>
                  <a:lnTo>
                    <a:pt x="3589" y="2054"/>
                  </a:lnTo>
                  <a:lnTo>
                    <a:pt x="3595" y="2046"/>
                  </a:lnTo>
                  <a:lnTo>
                    <a:pt x="3604" y="2040"/>
                  </a:lnTo>
                  <a:lnTo>
                    <a:pt x="3612" y="2040"/>
                  </a:lnTo>
                  <a:lnTo>
                    <a:pt x="3621" y="2040"/>
                  </a:lnTo>
                  <a:lnTo>
                    <a:pt x="3630" y="2040"/>
                  </a:lnTo>
                  <a:lnTo>
                    <a:pt x="3638" y="2037"/>
                  </a:lnTo>
                  <a:lnTo>
                    <a:pt x="3647" y="2037"/>
                  </a:lnTo>
                  <a:lnTo>
                    <a:pt x="3656" y="2037"/>
                  </a:lnTo>
                  <a:lnTo>
                    <a:pt x="3665" y="2037"/>
                  </a:lnTo>
                  <a:lnTo>
                    <a:pt x="3673" y="2034"/>
                  </a:lnTo>
                  <a:lnTo>
                    <a:pt x="3682" y="2031"/>
                  </a:lnTo>
                  <a:lnTo>
                    <a:pt x="3691" y="2028"/>
                  </a:lnTo>
                  <a:lnTo>
                    <a:pt x="3700" y="2023"/>
                  </a:lnTo>
                  <a:lnTo>
                    <a:pt x="3705" y="2014"/>
                  </a:lnTo>
                  <a:lnTo>
                    <a:pt x="3714" y="2005"/>
                  </a:lnTo>
                  <a:lnTo>
                    <a:pt x="3723" y="1997"/>
                  </a:lnTo>
                  <a:lnTo>
                    <a:pt x="3726" y="1988"/>
                  </a:lnTo>
                  <a:lnTo>
                    <a:pt x="3735" y="1976"/>
                  </a:lnTo>
                  <a:lnTo>
                    <a:pt x="3740" y="1968"/>
                  </a:lnTo>
                  <a:lnTo>
                    <a:pt x="3746" y="1959"/>
                  </a:lnTo>
                  <a:lnTo>
                    <a:pt x="3749" y="1950"/>
                  </a:lnTo>
                  <a:lnTo>
                    <a:pt x="3755" y="1939"/>
                  </a:lnTo>
                  <a:lnTo>
                    <a:pt x="3761" y="1927"/>
                  </a:lnTo>
                  <a:lnTo>
                    <a:pt x="3767" y="1919"/>
                  </a:lnTo>
                  <a:lnTo>
                    <a:pt x="3767" y="1910"/>
                  </a:lnTo>
                  <a:lnTo>
                    <a:pt x="3758" y="1910"/>
                  </a:lnTo>
                  <a:lnTo>
                    <a:pt x="3758" y="1899"/>
                  </a:lnTo>
                  <a:lnTo>
                    <a:pt x="3758" y="1890"/>
                  </a:lnTo>
                  <a:lnTo>
                    <a:pt x="3767" y="1881"/>
                  </a:lnTo>
                  <a:lnTo>
                    <a:pt x="3775" y="1881"/>
                  </a:lnTo>
                  <a:lnTo>
                    <a:pt x="3781" y="1873"/>
                  </a:lnTo>
                  <a:lnTo>
                    <a:pt x="3784" y="1864"/>
                  </a:lnTo>
                  <a:lnTo>
                    <a:pt x="3787" y="1855"/>
                  </a:lnTo>
                  <a:lnTo>
                    <a:pt x="3796" y="1850"/>
                  </a:lnTo>
                  <a:lnTo>
                    <a:pt x="3804" y="1847"/>
                  </a:lnTo>
                  <a:lnTo>
                    <a:pt x="3813" y="1844"/>
                  </a:lnTo>
                  <a:lnTo>
                    <a:pt x="3822" y="1838"/>
                  </a:lnTo>
                  <a:lnTo>
                    <a:pt x="3831" y="1835"/>
                  </a:lnTo>
                  <a:lnTo>
                    <a:pt x="3839" y="1824"/>
                  </a:lnTo>
                  <a:lnTo>
                    <a:pt x="3845" y="1815"/>
                  </a:lnTo>
                  <a:lnTo>
                    <a:pt x="3851" y="1806"/>
                  </a:lnTo>
                  <a:lnTo>
                    <a:pt x="3857" y="1798"/>
                  </a:lnTo>
                  <a:lnTo>
                    <a:pt x="3860" y="1789"/>
                  </a:lnTo>
                  <a:lnTo>
                    <a:pt x="3863" y="1780"/>
                  </a:lnTo>
                  <a:lnTo>
                    <a:pt x="3857" y="1772"/>
                  </a:lnTo>
                  <a:lnTo>
                    <a:pt x="3851" y="1763"/>
                  </a:lnTo>
                  <a:lnTo>
                    <a:pt x="3842" y="1760"/>
                  </a:lnTo>
                  <a:lnTo>
                    <a:pt x="3834" y="1752"/>
                  </a:lnTo>
                  <a:lnTo>
                    <a:pt x="3831" y="1743"/>
                  </a:lnTo>
                  <a:lnTo>
                    <a:pt x="3828" y="1734"/>
                  </a:lnTo>
                  <a:lnTo>
                    <a:pt x="3825" y="1726"/>
                  </a:lnTo>
                  <a:lnTo>
                    <a:pt x="3822" y="1714"/>
                  </a:lnTo>
                  <a:lnTo>
                    <a:pt x="3819" y="1706"/>
                  </a:lnTo>
                  <a:lnTo>
                    <a:pt x="3816" y="1697"/>
                  </a:lnTo>
                  <a:lnTo>
                    <a:pt x="3813" y="1685"/>
                  </a:lnTo>
                  <a:lnTo>
                    <a:pt x="3810" y="1677"/>
                  </a:lnTo>
                  <a:lnTo>
                    <a:pt x="3807" y="1668"/>
                  </a:lnTo>
                  <a:lnTo>
                    <a:pt x="3804" y="1659"/>
                  </a:lnTo>
                  <a:lnTo>
                    <a:pt x="3796" y="1657"/>
                  </a:lnTo>
                  <a:lnTo>
                    <a:pt x="3787" y="1657"/>
                  </a:lnTo>
                  <a:lnTo>
                    <a:pt x="3775" y="1657"/>
                  </a:lnTo>
                  <a:lnTo>
                    <a:pt x="3767" y="1648"/>
                  </a:lnTo>
                  <a:lnTo>
                    <a:pt x="3767" y="1639"/>
                  </a:lnTo>
                  <a:lnTo>
                    <a:pt x="3767" y="1631"/>
                  </a:lnTo>
                  <a:lnTo>
                    <a:pt x="3767" y="1622"/>
                  </a:lnTo>
                  <a:lnTo>
                    <a:pt x="3767" y="1613"/>
                  </a:lnTo>
                  <a:lnTo>
                    <a:pt x="3770" y="1605"/>
                  </a:lnTo>
                  <a:lnTo>
                    <a:pt x="3770" y="1596"/>
                  </a:lnTo>
                  <a:lnTo>
                    <a:pt x="3772" y="1587"/>
                  </a:lnTo>
                  <a:lnTo>
                    <a:pt x="3810" y="1541"/>
                  </a:lnTo>
                  <a:lnTo>
                    <a:pt x="3793" y="1541"/>
                  </a:lnTo>
                  <a:lnTo>
                    <a:pt x="3799" y="1533"/>
                  </a:lnTo>
                  <a:lnTo>
                    <a:pt x="3807" y="1530"/>
                  </a:lnTo>
                  <a:lnTo>
                    <a:pt x="3816" y="1527"/>
                  </a:lnTo>
                  <a:lnTo>
                    <a:pt x="3828" y="1527"/>
                  </a:lnTo>
                  <a:lnTo>
                    <a:pt x="3839" y="1527"/>
                  </a:lnTo>
                  <a:lnTo>
                    <a:pt x="3851" y="1524"/>
                  </a:lnTo>
                  <a:lnTo>
                    <a:pt x="3863" y="1524"/>
                  </a:lnTo>
                  <a:lnTo>
                    <a:pt x="3874" y="1524"/>
                  </a:lnTo>
                  <a:lnTo>
                    <a:pt x="3883" y="1527"/>
                  </a:lnTo>
                  <a:lnTo>
                    <a:pt x="3892" y="1530"/>
                  </a:lnTo>
                  <a:lnTo>
                    <a:pt x="3901" y="1533"/>
                  </a:lnTo>
                  <a:lnTo>
                    <a:pt x="3909" y="1535"/>
                  </a:lnTo>
                  <a:lnTo>
                    <a:pt x="3918" y="1535"/>
                  </a:lnTo>
                  <a:lnTo>
                    <a:pt x="3930" y="1535"/>
                  </a:lnTo>
                  <a:lnTo>
                    <a:pt x="3941" y="1535"/>
                  </a:lnTo>
                  <a:lnTo>
                    <a:pt x="3950" y="1535"/>
                  </a:lnTo>
                  <a:lnTo>
                    <a:pt x="3959" y="1535"/>
                  </a:lnTo>
                  <a:lnTo>
                    <a:pt x="3970" y="1541"/>
                  </a:lnTo>
                  <a:lnTo>
                    <a:pt x="3979" y="1541"/>
                  </a:lnTo>
                  <a:lnTo>
                    <a:pt x="3985" y="1550"/>
                  </a:lnTo>
                  <a:lnTo>
                    <a:pt x="3997" y="1559"/>
                  </a:lnTo>
                  <a:lnTo>
                    <a:pt x="4005" y="1561"/>
                  </a:lnTo>
                  <a:lnTo>
                    <a:pt x="4017" y="1561"/>
                  </a:lnTo>
                  <a:lnTo>
                    <a:pt x="4026" y="1559"/>
                  </a:lnTo>
                  <a:lnTo>
                    <a:pt x="4029" y="1550"/>
                  </a:lnTo>
                  <a:lnTo>
                    <a:pt x="4037" y="1541"/>
                  </a:lnTo>
                  <a:lnTo>
                    <a:pt x="4040" y="1533"/>
                  </a:lnTo>
                  <a:lnTo>
                    <a:pt x="4043" y="1524"/>
                  </a:lnTo>
                  <a:lnTo>
                    <a:pt x="4055" y="1512"/>
                  </a:lnTo>
                  <a:lnTo>
                    <a:pt x="4066" y="1507"/>
                  </a:lnTo>
                  <a:lnTo>
                    <a:pt x="4075" y="1498"/>
                  </a:lnTo>
                  <a:lnTo>
                    <a:pt x="4084" y="1495"/>
                  </a:lnTo>
                  <a:lnTo>
                    <a:pt x="4093" y="1495"/>
                  </a:lnTo>
                  <a:lnTo>
                    <a:pt x="4101" y="1495"/>
                  </a:lnTo>
                  <a:lnTo>
                    <a:pt x="4110" y="1495"/>
                  </a:lnTo>
                  <a:lnTo>
                    <a:pt x="4119" y="1501"/>
                  </a:lnTo>
                  <a:lnTo>
                    <a:pt x="4130" y="1510"/>
                  </a:lnTo>
                  <a:lnTo>
                    <a:pt x="4139" y="1512"/>
                  </a:lnTo>
                  <a:lnTo>
                    <a:pt x="4148" y="1507"/>
                  </a:lnTo>
                  <a:lnTo>
                    <a:pt x="4154" y="1498"/>
                  </a:lnTo>
                  <a:lnTo>
                    <a:pt x="4157" y="1489"/>
                  </a:lnTo>
                  <a:lnTo>
                    <a:pt x="4165" y="1478"/>
                  </a:lnTo>
                  <a:lnTo>
                    <a:pt x="4168" y="1466"/>
                  </a:lnTo>
                  <a:lnTo>
                    <a:pt x="4163" y="1458"/>
                  </a:lnTo>
                  <a:lnTo>
                    <a:pt x="4157" y="1449"/>
                  </a:lnTo>
                  <a:lnTo>
                    <a:pt x="4154" y="1438"/>
                  </a:lnTo>
                  <a:lnTo>
                    <a:pt x="4151" y="1429"/>
                  </a:lnTo>
                  <a:lnTo>
                    <a:pt x="4151" y="1420"/>
                  </a:lnTo>
                  <a:lnTo>
                    <a:pt x="4151" y="1409"/>
                  </a:lnTo>
                  <a:lnTo>
                    <a:pt x="4151" y="1400"/>
                  </a:lnTo>
                  <a:lnTo>
                    <a:pt x="4160" y="1394"/>
                  </a:lnTo>
                  <a:lnTo>
                    <a:pt x="4174" y="1400"/>
                  </a:lnTo>
                  <a:lnTo>
                    <a:pt x="4183" y="1403"/>
                  </a:lnTo>
                  <a:lnTo>
                    <a:pt x="4183" y="1412"/>
                  </a:lnTo>
                  <a:lnTo>
                    <a:pt x="4192" y="1420"/>
                  </a:lnTo>
                  <a:lnTo>
                    <a:pt x="4203" y="1432"/>
                  </a:lnTo>
                  <a:lnTo>
                    <a:pt x="4212" y="1440"/>
                  </a:lnTo>
                  <a:lnTo>
                    <a:pt x="4215" y="1449"/>
                  </a:lnTo>
                  <a:lnTo>
                    <a:pt x="4218" y="1458"/>
                  </a:lnTo>
                  <a:lnTo>
                    <a:pt x="4227" y="1472"/>
                  </a:lnTo>
                  <a:lnTo>
                    <a:pt x="4235" y="1478"/>
                  </a:lnTo>
                  <a:lnTo>
                    <a:pt x="4241" y="1487"/>
                  </a:lnTo>
                  <a:lnTo>
                    <a:pt x="4253" y="1495"/>
                  </a:lnTo>
                  <a:lnTo>
                    <a:pt x="4264" y="1501"/>
                  </a:lnTo>
                  <a:lnTo>
                    <a:pt x="4270" y="1510"/>
                  </a:lnTo>
                  <a:lnTo>
                    <a:pt x="4273" y="1518"/>
                  </a:lnTo>
                  <a:lnTo>
                    <a:pt x="4273" y="1527"/>
                  </a:lnTo>
                  <a:lnTo>
                    <a:pt x="4273" y="1535"/>
                  </a:lnTo>
                  <a:lnTo>
                    <a:pt x="4273" y="1544"/>
                  </a:lnTo>
                  <a:lnTo>
                    <a:pt x="4264" y="1550"/>
                  </a:lnTo>
                  <a:lnTo>
                    <a:pt x="4256" y="1553"/>
                  </a:lnTo>
                  <a:lnTo>
                    <a:pt x="4256" y="1564"/>
                  </a:lnTo>
                  <a:lnTo>
                    <a:pt x="4256" y="1573"/>
                  </a:lnTo>
                  <a:lnTo>
                    <a:pt x="4256" y="1582"/>
                  </a:lnTo>
                  <a:lnTo>
                    <a:pt x="4264" y="1587"/>
                  </a:lnTo>
                  <a:lnTo>
                    <a:pt x="4276" y="1590"/>
                  </a:lnTo>
                  <a:lnTo>
                    <a:pt x="4285" y="1590"/>
                  </a:lnTo>
                  <a:lnTo>
                    <a:pt x="4294" y="1599"/>
                  </a:lnTo>
                  <a:lnTo>
                    <a:pt x="4302" y="1608"/>
                  </a:lnTo>
                  <a:lnTo>
                    <a:pt x="4314" y="1610"/>
                  </a:lnTo>
                  <a:lnTo>
                    <a:pt x="4326" y="1616"/>
                  </a:lnTo>
                  <a:lnTo>
                    <a:pt x="4334" y="1619"/>
                  </a:lnTo>
                  <a:lnTo>
                    <a:pt x="4340" y="1628"/>
                  </a:lnTo>
                  <a:lnTo>
                    <a:pt x="4343" y="1636"/>
                  </a:lnTo>
                  <a:lnTo>
                    <a:pt x="4343" y="1645"/>
                  </a:lnTo>
                  <a:lnTo>
                    <a:pt x="4343" y="1654"/>
                  </a:lnTo>
                  <a:lnTo>
                    <a:pt x="4343" y="1662"/>
                  </a:lnTo>
                  <a:lnTo>
                    <a:pt x="4346" y="1671"/>
                  </a:lnTo>
                  <a:lnTo>
                    <a:pt x="4355" y="1671"/>
                  </a:lnTo>
                  <a:lnTo>
                    <a:pt x="4366" y="1671"/>
                  </a:lnTo>
                  <a:lnTo>
                    <a:pt x="4369" y="1662"/>
                  </a:lnTo>
                  <a:lnTo>
                    <a:pt x="4363" y="1654"/>
                  </a:lnTo>
                  <a:lnTo>
                    <a:pt x="4360" y="1645"/>
                  </a:lnTo>
                  <a:lnTo>
                    <a:pt x="4355" y="1636"/>
                  </a:lnTo>
                  <a:lnTo>
                    <a:pt x="4352" y="1628"/>
                  </a:lnTo>
                  <a:lnTo>
                    <a:pt x="4349" y="1619"/>
                  </a:lnTo>
                  <a:lnTo>
                    <a:pt x="4346" y="1610"/>
                  </a:lnTo>
                  <a:lnTo>
                    <a:pt x="4346" y="1602"/>
                  </a:lnTo>
                  <a:lnTo>
                    <a:pt x="4346" y="1590"/>
                  </a:lnTo>
                  <a:lnTo>
                    <a:pt x="4346" y="1582"/>
                  </a:lnTo>
                  <a:lnTo>
                    <a:pt x="4355" y="1579"/>
                  </a:lnTo>
                  <a:lnTo>
                    <a:pt x="4363" y="1582"/>
                  </a:lnTo>
                  <a:lnTo>
                    <a:pt x="4372" y="1582"/>
                  </a:lnTo>
                  <a:lnTo>
                    <a:pt x="4381" y="1573"/>
                  </a:lnTo>
                  <a:lnTo>
                    <a:pt x="4390" y="1567"/>
                  </a:lnTo>
                  <a:lnTo>
                    <a:pt x="4393" y="1559"/>
                  </a:lnTo>
                  <a:lnTo>
                    <a:pt x="4393" y="1550"/>
                  </a:lnTo>
                  <a:lnTo>
                    <a:pt x="4393" y="1541"/>
                  </a:lnTo>
                  <a:lnTo>
                    <a:pt x="4393" y="1533"/>
                  </a:lnTo>
                  <a:lnTo>
                    <a:pt x="4393" y="1524"/>
                  </a:lnTo>
                  <a:lnTo>
                    <a:pt x="4393" y="1515"/>
                  </a:lnTo>
                  <a:lnTo>
                    <a:pt x="4390" y="1504"/>
                  </a:lnTo>
                  <a:lnTo>
                    <a:pt x="4384" y="1495"/>
                  </a:lnTo>
                  <a:lnTo>
                    <a:pt x="4381" y="1484"/>
                  </a:lnTo>
                  <a:lnTo>
                    <a:pt x="4378" y="1475"/>
                  </a:lnTo>
                  <a:lnTo>
                    <a:pt x="4369" y="1463"/>
                  </a:lnTo>
                  <a:lnTo>
                    <a:pt x="4363" y="1455"/>
                  </a:lnTo>
                  <a:lnTo>
                    <a:pt x="4360" y="1446"/>
                  </a:lnTo>
                  <a:lnTo>
                    <a:pt x="4358" y="1438"/>
                  </a:lnTo>
                  <a:lnTo>
                    <a:pt x="4352" y="1429"/>
                  </a:lnTo>
                  <a:lnTo>
                    <a:pt x="4346" y="1417"/>
                  </a:lnTo>
                  <a:lnTo>
                    <a:pt x="4340" y="1409"/>
                  </a:lnTo>
                  <a:lnTo>
                    <a:pt x="4337" y="1397"/>
                  </a:lnTo>
                  <a:lnTo>
                    <a:pt x="4334" y="1389"/>
                  </a:lnTo>
                  <a:lnTo>
                    <a:pt x="4334" y="1380"/>
                  </a:lnTo>
                  <a:lnTo>
                    <a:pt x="4331" y="1371"/>
                  </a:lnTo>
                  <a:lnTo>
                    <a:pt x="4328" y="1360"/>
                  </a:lnTo>
                  <a:lnTo>
                    <a:pt x="4323" y="1351"/>
                  </a:lnTo>
                  <a:lnTo>
                    <a:pt x="4320" y="1342"/>
                  </a:lnTo>
                  <a:lnTo>
                    <a:pt x="4314" y="1334"/>
                  </a:lnTo>
                  <a:lnTo>
                    <a:pt x="4305" y="1325"/>
                  </a:lnTo>
                  <a:lnTo>
                    <a:pt x="4296" y="1316"/>
                  </a:lnTo>
                  <a:lnTo>
                    <a:pt x="4288" y="1308"/>
                  </a:lnTo>
                  <a:lnTo>
                    <a:pt x="4276" y="1311"/>
                  </a:lnTo>
                  <a:lnTo>
                    <a:pt x="4279" y="1291"/>
                  </a:lnTo>
                  <a:lnTo>
                    <a:pt x="4276" y="1282"/>
                  </a:lnTo>
                  <a:lnTo>
                    <a:pt x="4270" y="1273"/>
                  </a:lnTo>
                  <a:lnTo>
                    <a:pt x="4261" y="1267"/>
                  </a:lnTo>
                  <a:lnTo>
                    <a:pt x="4253" y="1259"/>
                  </a:lnTo>
                  <a:lnTo>
                    <a:pt x="4244" y="1250"/>
                  </a:lnTo>
                  <a:lnTo>
                    <a:pt x="4238" y="1242"/>
                  </a:lnTo>
                  <a:lnTo>
                    <a:pt x="4232" y="1233"/>
                  </a:lnTo>
                  <a:lnTo>
                    <a:pt x="4229" y="1224"/>
                  </a:lnTo>
                  <a:lnTo>
                    <a:pt x="4221" y="1218"/>
                  </a:lnTo>
                  <a:lnTo>
                    <a:pt x="4212" y="1210"/>
                  </a:lnTo>
                  <a:lnTo>
                    <a:pt x="4200" y="1201"/>
                  </a:lnTo>
                  <a:lnTo>
                    <a:pt x="4192" y="1195"/>
                  </a:lnTo>
                  <a:lnTo>
                    <a:pt x="4183" y="1193"/>
                  </a:lnTo>
                  <a:lnTo>
                    <a:pt x="4171" y="1187"/>
                  </a:lnTo>
                  <a:lnTo>
                    <a:pt x="4163" y="1184"/>
                  </a:lnTo>
                  <a:lnTo>
                    <a:pt x="4154" y="1181"/>
                  </a:lnTo>
                  <a:lnTo>
                    <a:pt x="4145" y="1175"/>
                  </a:lnTo>
                  <a:lnTo>
                    <a:pt x="4136" y="1170"/>
                  </a:lnTo>
                  <a:lnTo>
                    <a:pt x="4130" y="1161"/>
                  </a:lnTo>
                  <a:lnTo>
                    <a:pt x="4119" y="1152"/>
                  </a:lnTo>
                  <a:lnTo>
                    <a:pt x="4110" y="1149"/>
                  </a:lnTo>
                  <a:lnTo>
                    <a:pt x="4098" y="1144"/>
                  </a:lnTo>
                  <a:lnTo>
                    <a:pt x="4090" y="1144"/>
                  </a:lnTo>
                  <a:lnTo>
                    <a:pt x="4078" y="1135"/>
                  </a:lnTo>
                  <a:lnTo>
                    <a:pt x="4069" y="1126"/>
                  </a:lnTo>
                  <a:lnTo>
                    <a:pt x="4064" y="1118"/>
                  </a:lnTo>
                  <a:lnTo>
                    <a:pt x="4058" y="1109"/>
                  </a:lnTo>
                  <a:lnTo>
                    <a:pt x="4049" y="1103"/>
                  </a:lnTo>
                  <a:lnTo>
                    <a:pt x="4058" y="1100"/>
                  </a:lnTo>
                  <a:lnTo>
                    <a:pt x="4066" y="1100"/>
                  </a:lnTo>
                  <a:lnTo>
                    <a:pt x="4078" y="1100"/>
                  </a:lnTo>
                  <a:lnTo>
                    <a:pt x="4090" y="1103"/>
                  </a:lnTo>
                  <a:lnTo>
                    <a:pt x="4098" y="1109"/>
                  </a:lnTo>
                  <a:lnTo>
                    <a:pt x="4107" y="1112"/>
                  </a:lnTo>
                  <a:lnTo>
                    <a:pt x="4116" y="1115"/>
                  </a:lnTo>
                  <a:lnTo>
                    <a:pt x="4125" y="1121"/>
                  </a:lnTo>
                  <a:lnTo>
                    <a:pt x="4133" y="1126"/>
                  </a:lnTo>
                  <a:lnTo>
                    <a:pt x="4142" y="1129"/>
                  </a:lnTo>
                  <a:lnTo>
                    <a:pt x="4154" y="1138"/>
                  </a:lnTo>
                  <a:lnTo>
                    <a:pt x="4163" y="1141"/>
                  </a:lnTo>
                  <a:lnTo>
                    <a:pt x="4171" y="1144"/>
                  </a:lnTo>
                  <a:lnTo>
                    <a:pt x="4180" y="1146"/>
                  </a:lnTo>
                  <a:lnTo>
                    <a:pt x="4192" y="1146"/>
                  </a:lnTo>
                  <a:lnTo>
                    <a:pt x="4200" y="1146"/>
                  </a:lnTo>
                  <a:lnTo>
                    <a:pt x="4212" y="1149"/>
                  </a:lnTo>
                  <a:lnTo>
                    <a:pt x="4221" y="1149"/>
                  </a:lnTo>
                  <a:lnTo>
                    <a:pt x="4229" y="1152"/>
                  </a:lnTo>
                  <a:lnTo>
                    <a:pt x="4238" y="1155"/>
                  </a:lnTo>
                  <a:lnTo>
                    <a:pt x="4247" y="1161"/>
                  </a:lnTo>
                  <a:lnTo>
                    <a:pt x="4256" y="1164"/>
                  </a:lnTo>
                  <a:lnTo>
                    <a:pt x="4264" y="1170"/>
                  </a:lnTo>
                  <a:lnTo>
                    <a:pt x="4273" y="1172"/>
                  </a:lnTo>
                  <a:lnTo>
                    <a:pt x="4282" y="1178"/>
                  </a:lnTo>
                  <a:lnTo>
                    <a:pt x="4291" y="1181"/>
                  </a:lnTo>
                  <a:lnTo>
                    <a:pt x="4299" y="1187"/>
                  </a:lnTo>
                  <a:lnTo>
                    <a:pt x="4308" y="1190"/>
                  </a:lnTo>
                  <a:lnTo>
                    <a:pt x="4317" y="1193"/>
                  </a:lnTo>
                  <a:lnTo>
                    <a:pt x="4326" y="1195"/>
                  </a:lnTo>
                  <a:lnTo>
                    <a:pt x="4334" y="1195"/>
                  </a:lnTo>
                  <a:lnTo>
                    <a:pt x="4326" y="1190"/>
                  </a:lnTo>
                  <a:lnTo>
                    <a:pt x="4314" y="1178"/>
                  </a:lnTo>
                  <a:lnTo>
                    <a:pt x="4305" y="1170"/>
                  </a:lnTo>
                  <a:lnTo>
                    <a:pt x="4305" y="1161"/>
                  </a:lnTo>
                  <a:lnTo>
                    <a:pt x="4317" y="1158"/>
                  </a:lnTo>
                  <a:lnTo>
                    <a:pt x="4328" y="1158"/>
                  </a:lnTo>
                  <a:lnTo>
                    <a:pt x="4337" y="1158"/>
                  </a:lnTo>
                  <a:lnTo>
                    <a:pt x="4346" y="1158"/>
                  </a:lnTo>
                  <a:lnTo>
                    <a:pt x="4346" y="1149"/>
                  </a:lnTo>
                  <a:lnTo>
                    <a:pt x="4349" y="1138"/>
                  </a:lnTo>
                  <a:lnTo>
                    <a:pt x="4349" y="1129"/>
                  </a:lnTo>
                  <a:lnTo>
                    <a:pt x="4340" y="1123"/>
                  </a:lnTo>
                  <a:lnTo>
                    <a:pt x="4331" y="1121"/>
                  </a:lnTo>
                  <a:lnTo>
                    <a:pt x="4323" y="1121"/>
                  </a:lnTo>
                  <a:lnTo>
                    <a:pt x="4314" y="1121"/>
                  </a:lnTo>
                  <a:lnTo>
                    <a:pt x="4302" y="1121"/>
                  </a:lnTo>
                  <a:lnTo>
                    <a:pt x="4296" y="1132"/>
                  </a:lnTo>
                  <a:lnTo>
                    <a:pt x="4288" y="1138"/>
                  </a:lnTo>
                  <a:lnTo>
                    <a:pt x="4279" y="1144"/>
                  </a:lnTo>
                  <a:lnTo>
                    <a:pt x="4270" y="1144"/>
                  </a:lnTo>
                  <a:lnTo>
                    <a:pt x="4261" y="1144"/>
                  </a:lnTo>
                  <a:lnTo>
                    <a:pt x="4253" y="1144"/>
                  </a:lnTo>
                  <a:lnTo>
                    <a:pt x="4244" y="1144"/>
                  </a:lnTo>
                  <a:lnTo>
                    <a:pt x="4238" y="1135"/>
                  </a:lnTo>
                  <a:lnTo>
                    <a:pt x="4227" y="1126"/>
                  </a:lnTo>
                  <a:lnTo>
                    <a:pt x="4218" y="1115"/>
                  </a:lnTo>
                  <a:lnTo>
                    <a:pt x="4209" y="1109"/>
                  </a:lnTo>
                  <a:lnTo>
                    <a:pt x="4197" y="1100"/>
                  </a:lnTo>
                  <a:lnTo>
                    <a:pt x="4192" y="1092"/>
                  </a:lnTo>
                  <a:lnTo>
                    <a:pt x="4200" y="1086"/>
                  </a:lnTo>
                  <a:lnTo>
                    <a:pt x="4209" y="1077"/>
                  </a:lnTo>
                  <a:lnTo>
                    <a:pt x="4218" y="1072"/>
                  </a:lnTo>
                  <a:lnTo>
                    <a:pt x="4227" y="1063"/>
                  </a:lnTo>
                  <a:lnTo>
                    <a:pt x="4229" y="1054"/>
                  </a:lnTo>
                  <a:lnTo>
                    <a:pt x="4221" y="1048"/>
                  </a:lnTo>
                  <a:lnTo>
                    <a:pt x="4209" y="1048"/>
                  </a:lnTo>
                  <a:lnTo>
                    <a:pt x="4200" y="1048"/>
                  </a:lnTo>
                  <a:lnTo>
                    <a:pt x="4189" y="1048"/>
                  </a:lnTo>
                  <a:lnTo>
                    <a:pt x="4180" y="1051"/>
                  </a:lnTo>
                  <a:lnTo>
                    <a:pt x="4171" y="1057"/>
                  </a:lnTo>
                  <a:lnTo>
                    <a:pt x="4160" y="1057"/>
                  </a:lnTo>
                  <a:lnTo>
                    <a:pt x="4151" y="1057"/>
                  </a:lnTo>
                  <a:lnTo>
                    <a:pt x="4142" y="1057"/>
                  </a:lnTo>
                  <a:lnTo>
                    <a:pt x="4133" y="1057"/>
                  </a:lnTo>
                  <a:lnTo>
                    <a:pt x="4125" y="1057"/>
                  </a:lnTo>
                  <a:lnTo>
                    <a:pt x="4116" y="1057"/>
                  </a:lnTo>
                  <a:lnTo>
                    <a:pt x="4107" y="1057"/>
                  </a:lnTo>
                  <a:lnTo>
                    <a:pt x="4098" y="1057"/>
                  </a:lnTo>
                  <a:lnTo>
                    <a:pt x="4090" y="1057"/>
                  </a:lnTo>
                  <a:lnTo>
                    <a:pt x="4081" y="1057"/>
                  </a:lnTo>
                  <a:lnTo>
                    <a:pt x="4072" y="1057"/>
                  </a:lnTo>
                  <a:lnTo>
                    <a:pt x="4064" y="1054"/>
                  </a:lnTo>
                  <a:lnTo>
                    <a:pt x="4055" y="1051"/>
                  </a:lnTo>
                  <a:lnTo>
                    <a:pt x="4043" y="1048"/>
                  </a:lnTo>
                  <a:lnTo>
                    <a:pt x="4032" y="1043"/>
                  </a:lnTo>
                  <a:lnTo>
                    <a:pt x="4023" y="1040"/>
                  </a:lnTo>
                  <a:lnTo>
                    <a:pt x="4008" y="1031"/>
                  </a:lnTo>
                  <a:lnTo>
                    <a:pt x="3994" y="1028"/>
                  </a:lnTo>
                  <a:lnTo>
                    <a:pt x="3982" y="1028"/>
                  </a:lnTo>
                  <a:lnTo>
                    <a:pt x="3973" y="1028"/>
                  </a:lnTo>
                  <a:lnTo>
                    <a:pt x="3965" y="1028"/>
                  </a:lnTo>
                  <a:lnTo>
                    <a:pt x="3953" y="1028"/>
                  </a:lnTo>
                  <a:lnTo>
                    <a:pt x="3941" y="1028"/>
                  </a:lnTo>
                  <a:lnTo>
                    <a:pt x="3933" y="1028"/>
                  </a:lnTo>
                  <a:lnTo>
                    <a:pt x="3927" y="1037"/>
                  </a:lnTo>
                  <a:lnTo>
                    <a:pt x="3941" y="1048"/>
                  </a:lnTo>
                  <a:lnTo>
                    <a:pt x="3950" y="1051"/>
                  </a:lnTo>
                  <a:lnTo>
                    <a:pt x="3962" y="1054"/>
                  </a:lnTo>
                  <a:lnTo>
                    <a:pt x="3970" y="1057"/>
                  </a:lnTo>
                  <a:lnTo>
                    <a:pt x="3979" y="1060"/>
                  </a:lnTo>
                  <a:lnTo>
                    <a:pt x="3982" y="1072"/>
                  </a:lnTo>
                  <a:lnTo>
                    <a:pt x="3982" y="1080"/>
                  </a:lnTo>
                  <a:lnTo>
                    <a:pt x="3982" y="1089"/>
                  </a:lnTo>
                  <a:lnTo>
                    <a:pt x="3994" y="1100"/>
                  </a:lnTo>
                  <a:lnTo>
                    <a:pt x="4002" y="1103"/>
                  </a:lnTo>
                  <a:lnTo>
                    <a:pt x="4014" y="1106"/>
                  </a:lnTo>
                  <a:lnTo>
                    <a:pt x="4026" y="1106"/>
                  </a:lnTo>
                  <a:lnTo>
                    <a:pt x="4034" y="1109"/>
                  </a:lnTo>
                  <a:lnTo>
                    <a:pt x="4046" y="1112"/>
                  </a:lnTo>
                  <a:lnTo>
                    <a:pt x="4037" y="1115"/>
                  </a:lnTo>
                  <a:lnTo>
                    <a:pt x="4029" y="1112"/>
                  </a:lnTo>
                  <a:lnTo>
                    <a:pt x="4020" y="1109"/>
                  </a:lnTo>
                  <a:lnTo>
                    <a:pt x="4011" y="1109"/>
                  </a:lnTo>
                  <a:lnTo>
                    <a:pt x="4002" y="1106"/>
                  </a:lnTo>
                  <a:lnTo>
                    <a:pt x="3994" y="1103"/>
                  </a:lnTo>
                  <a:lnTo>
                    <a:pt x="3979" y="1097"/>
                  </a:lnTo>
                  <a:lnTo>
                    <a:pt x="3970" y="1097"/>
                  </a:lnTo>
                  <a:lnTo>
                    <a:pt x="3962" y="1100"/>
                  </a:lnTo>
                  <a:lnTo>
                    <a:pt x="3959" y="1109"/>
                  </a:lnTo>
                  <a:lnTo>
                    <a:pt x="3950" y="1118"/>
                  </a:lnTo>
                  <a:lnTo>
                    <a:pt x="3941" y="1123"/>
                  </a:lnTo>
                  <a:lnTo>
                    <a:pt x="3935" y="1132"/>
                  </a:lnTo>
                  <a:lnTo>
                    <a:pt x="3927" y="1138"/>
                  </a:lnTo>
                  <a:lnTo>
                    <a:pt x="3927" y="1146"/>
                  </a:lnTo>
                  <a:lnTo>
                    <a:pt x="3930" y="1155"/>
                  </a:lnTo>
                  <a:lnTo>
                    <a:pt x="3938" y="1161"/>
                  </a:lnTo>
                  <a:lnTo>
                    <a:pt x="3941" y="1170"/>
                  </a:lnTo>
                  <a:lnTo>
                    <a:pt x="3941" y="1178"/>
                  </a:lnTo>
                  <a:lnTo>
                    <a:pt x="3941" y="1187"/>
                  </a:lnTo>
                  <a:lnTo>
                    <a:pt x="3938" y="1195"/>
                  </a:lnTo>
                  <a:lnTo>
                    <a:pt x="3933" y="1204"/>
                  </a:lnTo>
                  <a:lnTo>
                    <a:pt x="3924" y="1204"/>
                  </a:lnTo>
                  <a:lnTo>
                    <a:pt x="3915" y="1193"/>
                  </a:lnTo>
                  <a:lnTo>
                    <a:pt x="3912" y="1184"/>
                  </a:lnTo>
                  <a:lnTo>
                    <a:pt x="3903" y="1178"/>
                  </a:lnTo>
                  <a:lnTo>
                    <a:pt x="3892" y="1172"/>
                  </a:lnTo>
                  <a:lnTo>
                    <a:pt x="3883" y="1167"/>
                  </a:lnTo>
                  <a:lnTo>
                    <a:pt x="3877" y="1158"/>
                  </a:lnTo>
                  <a:lnTo>
                    <a:pt x="3874" y="1167"/>
                  </a:lnTo>
                  <a:lnTo>
                    <a:pt x="3874" y="1175"/>
                  </a:lnTo>
                  <a:lnTo>
                    <a:pt x="3874" y="1184"/>
                  </a:lnTo>
                  <a:lnTo>
                    <a:pt x="3886" y="1193"/>
                  </a:lnTo>
                  <a:lnTo>
                    <a:pt x="3898" y="1195"/>
                  </a:lnTo>
                  <a:lnTo>
                    <a:pt x="3906" y="1198"/>
                  </a:lnTo>
                  <a:lnTo>
                    <a:pt x="3915" y="1201"/>
                  </a:lnTo>
                  <a:lnTo>
                    <a:pt x="3924" y="1207"/>
                  </a:lnTo>
                  <a:lnTo>
                    <a:pt x="3912" y="1213"/>
                  </a:lnTo>
                  <a:lnTo>
                    <a:pt x="3903" y="1213"/>
                  </a:lnTo>
                  <a:lnTo>
                    <a:pt x="3895" y="1213"/>
                  </a:lnTo>
                  <a:lnTo>
                    <a:pt x="3886" y="1216"/>
                  </a:lnTo>
                  <a:lnTo>
                    <a:pt x="3886" y="1224"/>
                  </a:lnTo>
                  <a:lnTo>
                    <a:pt x="3880" y="1233"/>
                  </a:lnTo>
                  <a:lnTo>
                    <a:pt x="3868" y="1236"/>
                  </a:lnTo>
                  <a:lnTo>
                    <a:pt x="3860" y="1236"/>
                  </a:lnTo>
                  <a:lnTo>
                    <a:pt x="3854" y="1224"/>
                  </a:lnTo>
                  <a:lnTo>
                    <a:pt x="3854" y="1216"/>
                  </a:lnTo>
                  <a:lnTo>
                    <a:pt x="3851" y="1207"/>
                  </a:lnTo>
                  <a:lnTo>
                    <a:pt x="3845" y="1198"/>
                  </a:lnTo>
                  <a:lnTo>
                    <a:pt x="3842" y="1187"/>
                  </a:lnTo>
                  <a:lnTo>
                    <a:pt x="3836" y="1175"/>
                  </a:lnTo>
                  <a:lnTo>
                    <a:pt x="3834" y="1164"/>
                  </a:lnTo>
                  <a:lnTo>
                    <a:pt x="3828" y="1155"/>
                  </a:lnTo>
                  <a:lnTo>
                    <a:pt x="3822" y="1146"/>
                  </a:lnTo>
                  <a:lnTo>
                    <a:pt x="3816" y="1138"/>
                  </a:lnTo>
                  <a:lnTo>
                    <a:pt x="3810" y="1129"/>
                  </a:lnTo>
                  <a:lnTo>
                    <a:pt x="3799" y="1123"/>
                  </a:lnTo>
                  <a:lnTo>
                    <a:pt x="3793" y="1115"/>
                  </a:lnTo>
                  <a:lnTo>
                    <a:pt x="3790" y="1106"/>
                  </a:lnTo>
                  <a:lnTo>
                    <a:pt x="3784" y="1097"/>
                  </a:lnTo>
                  <a:lnTo>
                    <a:pt x="3778" y="1089"/>
                  </a:lnTo>
                  <a:lnTo>
                    <a:pt x="3775" y="1080"/>
                  </a:lnTo>
                  <a:lnTo>
                    <a:pt x="3772" y="1072"/>
                  </a:lnTo>
                  <a:lnTo>
                    <a:pt x="3767" y="1063"/>
                  </a:lnTo>
                  <a:lnTo>
                    <a:pt x="3761" y="1054"/>
                  </a:lnTo>
                  <a:lnTo>
                    <a:pt x="3752" y="1046"/>
                  </a:lnTo>
                  <a:lnTo>
                    <a:pt x="3746" y="1037"/>
                  </a:lnTo>
                  <a:lnTo>
                    <a:pt x="3737" y="1034"/>
                  </a:lnTo>
                  <a:lnTo>
                    <a:pt x="3717" y="988"/>
                  </a:lnTo>
                  <a:lnTo>
                    <a:pt x="3737" y="1008"/>
                  </a:lnTo>
                  <a:lnTo>
                    <a:pt x="3737" y="999"/>
                  </a:lnTo>
                  <a:lnTo>
                    <a:pt x="3732" y="991"/>
                  </a:lnTo>
                  <a:lnTo>
                    <a:pt x="3726" y="982"/>
                  </a:lnTo>
                  <a:lnTo>
                    <a:pt x="3723" y="974"/>
                  </a:lnTo>
                  <a:lnTo>
                    <a:pt x="3714" y="968"/>
                  </a:lnTo>
                  <a:lnTo>
                    <a:pt x="3703" y="965"/>
                  </a:lnTo>
                  <a:lnTo>
                    <a:pt x="3694" y="959"/>
                  </a:lnTo>
                  <a:lnTo>
                    <a:pt x="3691" y="950"/>
                  </a:lnTo>
                  <a:lnTo>
                    <a:pt x="3691" y="942"/>
                  </a:lnTo>
                  <a:lnTo>
                    <a:pt x="3691" y="930"/>
                  </a:lnTo>
                  <a:lnTo>
                    <a:pt x="3691" y="922"/>
                  </a:lnTo>
                  <a:lnTo>
                    <a:pt x="3691" y="913"/>
                  </a:lnTo>
                  <a:lnTo>
                    <a:pt x="3694" y="904"/>
                  </a:lnTo>
                  <a:lnTo>
                    <a:pt x="3700" y="896"/>
                  </a:lnTo>
                  <a:lnTo>
                    <a:pt x="3705" y="887"/>
                  </a:lnTo>
                  <a:lnTo>
                    <a:pt x="3714" y="887"/>
                  </a:lnTo>
                  <a:lnTo>
                    <a:pt x="3717" y="878"/>
                  </a:lnTo>
                  <a:lnTo>
                    <a:pt x="3705" y="867"/>
                  </a:lnTo>
                  <a:lnTo>
                    <a:pt x="3705" y="858"/>
                  </a:lnTo>
                  <a:lnTo>
                    <a:pt x="3705" y="847"/>
                  </a:lnTo>
                  <a:lnTo>
                    <a:pt x="3711" y="838"/>
                  </a:lnTo>
                  <a:lnTo>
                    <a:pt x="3717" y="827"/>
                  </a:lnTo>
                  <a:lnTo>
                    <a:pt x="3717" y="818"/>
                  </a:lnTo>
                  <a:lnTo>
                    <a:pt x="3717" y="809"/>
                  </a:lnTo>
                  <a:lnTo>
                    <a:pt x="3705" y="806"/>
                  </a:lnTo>
                  <a:lnTo>
                    <a:pt x="3694" y="801"/>
                  </a:lnTo>
                  <a:lnTo>
                    <a:pt x="3685" y="795"/>
                  </a:lnTo>
                  <a:lnTo>
                    <a:pt x="3685" y="786"/>
                  </a:lnTo>
                  <a:lnTo>
                    <a:pt x="3691" y="778"/>
                  </a:lnTo>
                  <a:lnTo>
                    <a:pt x="3697" y="769"/>
                  </a:lnTo>
                  <a:lnTo>
                    <a:pt x="3700" y="760"/>
                  </a:lnTo>
                  <a:lnTo>
                    <a:pt x="3708" y="757"/>
                  </a:lnTo>
                  <a:lnTo>
                    <a:pt x="3717" y="752"/>
                  </a:lnTo>
                  <a:lnTo>
                    <a:pt x="3726" y="757"/>
                  </a:lnTo>
                  <a:lnTo>
                    <a:pt x="3735" y="760"/>
                  </a:lnTo>
                  <a:lnTo>
                    <a:pt x="3743" y="763"/>
                  </a:lnTo>
                  <a:lnTo>
                    <a:pt x="3743" y="755"/>
                  </a:lnTo>
                  <a:lnTo>
                    <a:pt x="3737" y="746"/>
                  </a:lnTo>
                  <a:lnTo>
                    <a:pt x="3737" y="737"/>
                  </a:lnTo>
                  <a:lnTo>
                    <a:pt x="3735" y="729"/>
                  </a:lnTo>
                  <a:lnTo>
                    <a:pt x="3735" y="720"/>
                  </a:lnTo>
                  <a:lnTo>
                    <a:pt x="3732" y="711"/>
                  </a:lnTo>
                  <a:lnTo>
                    <a:pt x="3726" y="703"/>
                  </a:lnTo>
                  <a:lnTo>
                    <a:pt x="3723" y="691"/>
                  </a:lnTo>
                  <a:lnTo>
                    <a:pt x="3723" y="682"/>
                  </a:lnTo>
                  <a:lnTo>
                    <a:pt x="3723" y="674"/>
                  </a:lnTo>
                  <a:lnTo>
                    <a:pt x="3723" y="665"/>
                  </a:lnTo>
                  <a:lnTo>
                    <a:pt x="3714" y="662"/>
                  </a:lnTo>
                  <a:lnTo>
                    <a:pt x="3708" y="671"/>
                  </a:lnTo>
                  <a:lnTo>
                    <a:pt x="3700" y="671"/>
                  </a:lnTo>
                  <a:lnTo>
                    <a:pt x="3691" y="674"/>
                  </a:lnTo>
                  <a:lnTo>
                    <a:pt x="3682" y="671"/>
                  </a:lnTo>
                  <a:lnTo>
                    <a:pt x="3673" y="659"/>
                  </a:lnTo>
                  <a:lnTo>
                    <a:pt x="3668" y="651"/>
                  </a:lnTo>
                  <a:lnTo>
                    <a:pt x="3662" y="642"/>
                  </a:lnTo>
                  <a:lnTo>
                    <a:pt x="3653" y="633"/>
                  </a:lnTo>
                  <a:lnTo>
                    <a:pt x="3641" y="628"/>
                  </a:lnTo>
                  <a:lnTo>
                    <a:pt x="3633" y="622"/>
                  </a:lnTo>
                  <a:lnTo>
                    <a:pt x="3624" y="622"/>
                  </a:lnTo>
                  <a:lnTo>
                    <a:pt x="3615" y="616"/>
                  </a:lnTo>
                  <a:lnTo>
                    <a:pt x="3604" y="613"/>
                  </a:lnTo>
                  <a:lnTo>
                    <a:pt x="3595" y="608"/>
                  </a:lnTo>
                  <a:lnTo>
                    <a:pt x="3577" y="573"/>
                  </a:lnTo>
                  <a:lnTo>
                    <a:pt x="3592" y="587"/>
                  </a:lnTo>
                  <a:lnTo>
                    <a:pt x="3592" y="576"/>
                  </a:lnTo>
                  <a:lnTo>
                    <a:pt x="3589" y="567"/>
                  </a:lnTo>
                  <a:lnTo>
                    <a:pt x="3589" y="559"/>
                  </a:lnTo>
                  <a:lnTo>
                    <a:pt x="3583" y="547"/>
                  </a:lnTo>
                  <a:lnTo>
                    <a:pt x="3577" y="538"/>
                  </a:lnTo>
                  <a:lnTo>
                    <a:pt x="3569" y="530"/>
                  </a:lnTo>
                  <a:lnTo>
                    <a:pt x="3583" y="527"/>
                  </a:lnTo>
                  <a:lnTo>
                    <a:pt x="3592" y="530"/>
                  </a:lnTo>
                  <a:lnTo>
                    <a:pt x="3601" y="533"/>
                  </a:lnTo>
                  <a:lnTo>
                    <a:pt x="3609" y="538"/>
                  </a:lnTo>
                  <a:lnTo>
                    <a:pt x="3618" y="541"/>
                  </a:lnTo>
                  <a:lnTo>
                    <a:pt x="3621" y="533"/>
                  </a:lnTo>
                  <a:lnTo>
                    <a:pt x="3621" y="524"/>
                  </a:lnTo>
                  <a:lnTo>
                    <a:pt x="3612" y="518"/>
                  </a:lnTo>
                  <a:lnTo>
                    <a:pt x="3604" y="507"/>
                  </a:lnTo>
                  <a:lnTo>
                    <a:pt x="3598" y="498"/>
                  </a:lnTo>
                  <a:lnTo>
                    <a:pt x="3589" y="489"/>
                  </a:lnTo>
                  <a:lnTo>
                    <a:pt x="3586" y="481"/>
                  </a:lnTo>
                  <a:lnTo>
                    <a:pt x="3577" y="472"/>
                  </a:lnTo>
                  <a:lnTo>
                    <a:pt x="3566" y="469"/>
                  </a:lnTo>
                  <a:lnTo>
                    <a:pt x="3557" y="469"/>
                  </a:lnTo>
                  <a:lnTo>
                    <a:pt x="3548" y="469"/>
                  </a:lnTo>
                  <a:lnTo>
                    <a:pt x="3540" y="469"/>
                  </a:lnTo>
                  <a:lnTo>
                    <a:pt x="3531" y="466"/>
                  </a:lnTo>
                  <a:lnTo>
                    <a:pt x="3519" y="458"/>
                  </a:lnTo>
                  <a:lnTo>
                    <a:pt x="3516" y="449"/>
                  </a:lnTo>
                  <a:lnTo>
                    <a:pt x="3510" y="440"/>
                  </a:lnTo>
                  <a:lnTo>
                    <a:pt x="3507" y="432"/>
                  </a:lnTo>
                  <a:lnTo>
                    <a:pt x="3502" y="423"/>
                  </a:lnTo>
                  <a:lnTo>
                    <a:pt x="3502" y="412"/>
                  </a:lnTo>
                  <a:lnTo>
                    <a:pt x="3510" y="412"/>
                  </a:lnTo>
                  <a:lnTo>
                    <a:pt x="3519" y="417"/>
                  </a:lnTo>
                  <a:lnTo>
                    <a:pt x="3531" y="426"/>
                  </a:lnTo>
                  <a:lnTo>
                    <a:pt x="3540" y="432"/>
                  </a:lnTo>
                  <a:lnTo>
                    <a:pt x="3542" y="440"/>
                  </a:lnTo>
                  <a:lnTo>
                    <a:pt x="3551" y="446"/>
                  </a:lnTo>
                  <a:lnTo>
                    <a:pt x="3563" y="452"/>
                  </a:lnTo>
                  <a:lnTo>
                    <a:pt x="3572" y="458"/>
                  </a:lnTo>
                  <a:lnTo>
                    <a:pt x="3580" y="458"/>
                  </a:lnTo>
                  <a:lnTo>
                    <a:pt x="3589" y="458"/>
                  </a:lnTo>
                  <a:lnTo>
                    <a:pt x="3598" y="458"/>
                  </a:lnTo>
                  <a:lnTo>
                    <a:pt x="3606" y="461"/>
                  </a:lnTo>
                  <a:lnTo>
                    <a:pt x="3612" y="472"/>
                  </a:lnTo>
                  <a:lnTo>
                    <a:pt x="3618" y="481"/>
                  </a:lnTo>
                  <a:lnTo>
                    <a:pt x="3621" y="489"/>
                  </a:lnTo>
                  <a:lnTo>
                    <a:pt x="3627" y="498"/>
                  </a:lnTo>
                  <a:lnTo>
                    <a:pt x="3633" y="507"/>
                  </a:lnTo>
                  <a:lnTo>
                    <a:pt x="3641" y="518"/>
                  </a:lnTo>
                  <a:lnTo>
                    <a:pt x="3650" y="521"/>
                  </a:lnTo>
                  <a:lnTo>
                    <a:pt x="3662" y="524"/>
                  </a:lnTo>
                  <a:lnTo>
                    <a:pt x="3671" y="524"/>
                  </a:lnTo>
                  <a:lnTo>
                    <a:pt x="3679" y="527"/>
                  </a:lnTo>
                  <a:lnTo>
                    <a:pt x="3688" y="527"/>
                  </a:lnTo>
                  <a:lnTo>
                    <a:pt x="3700" y="530"/>
                  </a:lnTo>
                  <a:lnTo>
                    <a:pt x="3711" y="536"/>
                  </a:lnTo>
                  <a:lnTo>
                    <a:pt x="3723" y="544"/>
                  </a:lnTo>
                  <a:lnTo>
                    <a:pt x="3729" y="553"/>
                  </a:lnTo>
                  <a:lnTo>
                    <a:pt x="3735" y="561"/>
                  </a:lnTo>
                  <a:lnTo>
                    <a:pt x="3746" y="570"/>
                  </a:lnTo>
                  <a:lnTo>
                    <a:pt x="3761" y="579"/>
                  </a:lnTo>
                  <a:lnTo>
                    <a:pt x="3770" y="585"/>
                  </a:lnTo>
                  <a:lnTo>
                    <a:pt x="3772" y="593"/>
                  </a:lnTo>
                  <a:lnTo>
                    <a:pt x="3775" y="602"/>
                  </a:lnTo>
                  <a:lnTo>
                    <a:pt x="3778" y="610"/>
                  </a:lnTo>
                  <a:lnTo>
                    <a:pt x="3787" y="610"/>
                  </a:lnTo>
                  <a:lnTo>
                    <a:pt x="3790" y="619"/>
                  </a:lnTo>
                  <a:lnTo>
                    <a:pt x="3799" y="622"/>
                  </a:lnTo>
                  <a:lnTo>
                    <a:pt x="3807" y="628"/>
                  </a:lnTo>
                  <a:lnTo>
                    <a:pt x="3819" y="633"/>
                  </a:lnTo>
                  <a:lnTo>
                    <a:pt x="3828" y="636"/>
                  </a:lnTo>
                  <a:lnTo>
                    <a:pt x="3836" y="639"/>
                  </a:lnTo>
                  <a:lnTo>
                    <a:pt x="3845" y="642"/>
                  </a:lnTo>
                  <a:lnTo>
                    <a:pt x="3854" y="642"/>
                  </a:lnTo>
                  <a:lnTo>
                    <a:pt x="3866" y="645"/>
                  </a:lnTo>
                  <a:lnTo>
                    <a:pt x="3874" y="651"/>
                  </a:lnTo>
                  <a:lnTo>
                    <a:pt x="3883" y="657"/>
                  </a:lnTo>
                  <a:lnTo>
                    <a:pt x="3892" y="657"/>
                  </a:lnTo>
                  <a:lnTo>
                    <a:pt x="3901" y="657"/>
                  </a:lnTo>
                  <a:lnTo>
                    <a:pt x="3912" y="657"/>
                  </a:lnTo>
                  <a:lnTo>
                    <a:pt x="3924" y="657"/>
                  </a:lnTo>
                  <a:lnTo>
                    <a:pt x="3938" y="657"/>
                  </a:lnTo>
                  <a:lnTo>
                    <a:pt x="3947" y="657"/>
                  </a:lnTo>
                  <a:lnTo>
                    <a:pt x="3959" y="657"/>
                  </a:lnTo>
                  <a:lnTo>
                    <a:pt x="3967" y="659"/>
                  </a:lnTo>
                  <a:lnTo>
                    <a:pt x="3979" y="659"/>
                  </a:lnTo>
                  <a:lnTo>
                    <a:pt x="3991" y="659"/>
                  </a:lnTo>
                  <a:lnTo>
                    <a:pt x="4002" y="659"/>
                  </a:lnTo>
                  <a:lnTo>
                    <a:pt x="4017" y="659"/>
                  </a:lnTo>
                  <a:lnTo>
                    <a:pt x="4026" y="659"/>
                  </a:lnTo>
                  <a:lnTo>
                    <a:pt x="4037" y="659"/>
                  </a:lnTo>
                  <a:lnTo>
                    <a:pt x="4049" y="659"/>
                  </a:lnTo>
                  <a:lnTo>
                    <a:pt x="4061" y="659"/>
                  </a:lnTo>
                  <a:lnTo>
                    <a:pt x="4072" y="659"/>
                  </a:lnTo>
                  <a:lnTo>
                    <a:pt x="4084" y="659"/>
                  </a:lnTo>
                  <a:lnTo>
                    <a:pt x="4093" y="659"/>
                  </a:lnTo>
                  <a:lnTo>
                    <a:pt x="4101" y="659"/>
                  </a:lnTo>
                  <a:lnTo>
                    <a:pt x="4110" y="659"/>
                  </a:lnTo>
                  <a:lnTo>
                    <a:pt x="4119" y="659"/>
                  </a:lnTo>
                  <a:lnTo>
                    <a:pt x="4128" y="659"/>
                  </a:lnTo>
                  <a:lnTo>
                    <a:pt x="4136" y="659"/>
                  </a:lnTo>
                  <a:lnTo>
                    <a:pt x="4142" y="668"/>
                  </a:lnTo>
                  <a:lnTo>
                    <a:pt x="4145" y="677"/>
                  </a:lnTo>
                  <a:lnTo>
                    <a:pt x="4151" y="685"/>
                  </a:lnTo>
                  <a:lnTo>
                    <a:pt x="4160" y="691"/>
                  </a:lnTo>
                  <a:lnTo>
                    <a:pt x="4168" y="700"/>
                  </a:lnTo>
                  <a:lnTo>
                    <a:pt x="4177" y="700"/>
                  </a:lnTo>
                  <a:lnTo>
                    <a:pt x="4177" y="691"/>
                  </a:lnTo>
                  <a:lnTo>
                    <a:pt x="4168" y="682"/>
                  </a:lnTo>
                  <a:lnTo>
                    <a:pt x="4168" y="674"/>
                  </a:lnTo>
                  <a:lnTo>
                    <a:pt x="4160" y="665"/>
                  </a:lnTo>
                  <a:lnTo>
                    <a:pt x="4151" y="659"/>
                  </a:lnTo>
                  <a:lnTo>
                    <a:pt x="4136" y="619"/>
                  </a:lnTo>
                  <a:lnTo>
                    <a:pt x="4142" y="60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33880" y="36291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6" y="0"/>
                  </a:moveTo>
                  <a:lnTo>
                    <a:pt x="32" y="11"/>
                  </a:lnTo>
                  <a:lnTo>
                    <a:pt x="23" y="11"/>
                  </a:lnTo>
                  <a:lnTo>
                    <a:pt x="14" y="11"/>
                  </a:lnTo>
                  <a:lnTo>
                    <a:pt x="5" y="13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8" y="33"/>
                  </a:lnTo>
                  <a:lnTo>
                    <a:pt x="17" y="30"/>
                  </a:lnTo>
                  <a:lnTo>
                    <a:pt x="23" y="22"/>
                  </a:lnTo>
                  <a:lnTo>
                    <a:pt x="23" y="13"/>
                  </a:lnTo>
                  <a:lnTo>
                    <a:pt x="26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814480" y="5259240"/>
              <a:ext cx="4320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" y="20"/>
                  </a:moveTo>
                  <a:lnTo>
                    <a:pt x="8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4" y="17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2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81200" y="4390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0"/>
                  </a:moveTo>
                  <a:lnTo>
                    <a:pt x="11" y="16"/>
                  </a:lnTo>
                  <a:lnTo>
                    <a:pt x="11" y="25"/>
                  </a:lnTo>
                  <a:lnTo>
                    <a:pt x="2" y="33"/>
                  </a:lnTo>
                  <a:lnTo>
                    <a:pt x="11" y="45"/>
                  </a:lnTo>
                  <a:lnTo>
                    <a:pt x="26" y="48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2" y="22"/>
                  </a:lnTo>
                  <a:lnTo>
                    <a:pt x="23" y="14"/>
                  </a:lnTo>
                  <a:lnTo>
                    <a:pt x="14" y="11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29600" y="16905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0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305920" y="1801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lnTo>
                    <a:pt x="8" y="11"/>
                  </a:lnTo>
                  <a:lnTo>
                    <a:pt x="14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26" y="46"/>
                  </a:lnTo>
                  <a:lnTo>
                    <a:pt x="17" y="43"/>
                  </a:lnTo>
                  <a:lnTo>
                    <a:pt x="11" y="34"/>
                  </a:lnTo>
                  <a:lnTo>
                    <a:pt x="8" y="25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4440" y="16192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6" y="70"/>
                  </a:moveTo>
                  <a:lnTo>
                    <a:pt x="0" y="78"/>
                  </a:lnTo>
                  <a:lnTo>
                    <a:pt x="0" y="70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19" y="42"/>
                  </a:lnTo>
                  <a:lnTo>
                    <a:pt x="11" y="33"/>
                  </a:lnTo>
                  <a:lnTo>
                    <a:pt x="11" y="25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11"/>
                  </a:lnTo>
                  <a:lnTo>
                    <a:pt x="45" y="16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28" y="33"/>
                  </a:lnTo>
                  <a:lnTo>
                    <a:pt x="35" y="36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5" y="56"/>
                  </a:lnTo>
                  <a:lnTo>
                    <a:pt x="45" y="64"/>
                  </a:lnTo>
                  <a:lnTo>
                    <a:pt x="43" y="72"/>
                  </a:lnTo>
                  <a:lnTo>
                    <a:pt x="50" y="75"/>
                  </a:lnTo>
                  <a:lnTo>
                    <a:pt x="55" y="84"/>
                  </a:lnTo>
                  <a:lnTo>
                    <a:pt x="50" y="92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31" y="98"/>
                  </a:lnTo>
                  <a:lnTo>
                    <a:pt x="23" y="98"/>
                  </a:lnTo>
                  <a:lnTo>
                    <a:pt x="14" y="92"/>
                  </a:lnTo>
                  <a:lnTo>
                    <a:pt x="9" y="84"/>
                  </a:lnTo>
                  <a:lnTo>
                    <a:pt x="4" y="75"/>
                  </a:lnTo>
                  <a:lnTo>
                    <a:pt x="16" y="7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48200" y="17812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4"/>
                  </a:lnTo>
                  <a:lnTo>
                    <a:pt x="16" y="18"/>
                  </a:lnTo>
                  <a:lnTo>
                    <a:pt x="4" y="0"/>
                  </a:lnTo>
                  <a:lnTo>
                    <a:pt x="16" y="1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00840" y="167328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0"/>
                  </a:moveTo>
                  <a:lnTo>
                    <a:pt x="17" y="19"/>
                  </a:lnTo>
                  <a:lnTo>
                    <a:pt x="22" y="11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25" y="27"/>
                  </a:lnTo>
                  <a:lnTo>
                    <a:pt x="28" y="36"/>
                  </a:lnTo>
                  <a:lnTo>
                    <a:pt x="11" y="30"/>
                  </a:lnTo>
                  <a:lnTo>
                    <a:pt x="0" y="33"/>
                  </a:lnTo>
                  <a:lnTo>
                    <a:pt x="11" y="3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1040" y="1490760"/>
              <a:ext cx="84240" cy="10944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31" y="51"/>
                  </a:moveTo>
                  <a:lnTo>
                    <a:pt x="8" y="34"/>
                  </a:lnTo>
                  <a:lnTo>
                    <a:pt x="8" y="42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5" y="68"/>
                  </a:lnTo>
                  <a:lnTo>
                    <a:pt x="17" y="68"/>
                  </a:lnTo>
                  <a:lnTo>
                    <a:pt x="28" y="68"/>
                  </a:lnTo>
                  <a:lnTo>
                    <a:pt x="37" y="68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2" y="34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20" y="19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7" y="45"/>
                  </a:lnTo>
                  <a:lnTo>
                    <a:pt x="31" y="51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38480" y="2170080"/>
              <a:ext cx="293760" cy="235080"/>
            </a:xfrm>
            <a:custGeom>
              <a:avLst/>
              <a:gdLst/>
              <a:ahLst/>
              <a:rect l="l" t="t" r="r" b="b"/>
              <a:pathLst>
                <a:path w="185" h="148">
                  <a:moveTo>
                    <a:pt x="0" y="101"/>
                  </a:moveTo>
                  <a:lnTo>
                    <a:pt x="11" y="84"/>
                  </a:lnTo>
                  <a:lnTo>
                    <a:pt x="11" y="93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5" y="138"/>
                  </a:lnTo>
                  <a:lnTo>
                    <a:pt x="14" y="135"/>
                  </a:lnTo>
                  <a:lnTo>
                    <a:pt x="20" y="127"/>
                  </a:lnTo>
                  <a:lnTo>
                    <a:pt x="28" y="118"/>
                  </a:lnTo>
                  <a:lnTo>
                    <a:pt x="31" y="110"/>
                  </a:lnTo>
                  <a:lnTo>
                    <a:pt x="40" y="104"/>
                  </a:lnTo>
                  <a:lnTo>
                    <a:pt x="48" y="101"/>
                  </a:lnTo>
                  <a:lnTo>
                    <a:pt x="57" y="98"/>
                  </a:lnTo>
                  <a:lnTo>
                    <a:pt x="66" y="90"/>
                  </a:lnTo>
                  <a:lnTo>
                    <a:pt x="69" y="81"/>
                  </a:lnTo>
                  <a:lnTo>
                    <a:pt x="77" y="79"/>
                  </a:lnTo>
                  <a:lnTo>
                    <a:pt x="80" y="87"/>
                  </a:lnTo>
                  <a:lnTo>
                    <a:pt x="80" y="96"/>
                  </a:lnTo>
                  <a:lnTo>
                    <a:pt x="80" y="104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71" y="130"/>
                  </a:lnTo>
                  <a:lnTo>
                    <a:pt x="74" y="138"/>
                  </a:lnTo>
                  <a:lnTo>
                    <a:pt x="83" y="141"/>
                  </a:lnTo>
                  <a:lnTo>
                    <a:pt x="94" y="141"/>
                  </a:lnTo>
                  <a:lnTo>
                    <a:pt x="103" y="138"/>
                  </a:lnTo>
                  <a:lnTo>
                    <a:pt x="109" y="130"/>
                  </a:lnTo>
                  <a:lnTo>
                    <a:pt x="109" y="121"/>
                  </a:lnTo>
                  <a:lnTo>
                    <a:pt x="100" y="113"/>
                  </a:lnTo>
                  <a:lnTo>
                    <a:pt x="106" y="101"/>
                  </a:lnTo>
                  <a:lnTo>
                    <a:pt x="100" y="90"/>
                  </a:lnTo>
                  <a:lnTo>
                    <a:pt x="97" y="81"/>
                  </a:lnTo>
                  <a:lnTo>
                    <a:pt x="97" y="73"/>
                  </a:lnTo>
                  <a:lnTo>
                    <a:pt x="97" y="65"/>
                  </a:lnTo>
                  <a:lnTo>
                    <a:pt x="103" y="56"/>
                  </a:lnTo>
                  <a:lnTo>
                    <a:pt x="112" y="56"/>
                  </a:lnTo>
                  <a:lnTo>
                    <a:pt x="120" y="53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52" y="56"/>
                  </a:lnTo>
                  <a:lnTo>
                    <a:pt x="166" y="56"/>
                  </a:lnTo>
                  <a:lnTo>
                    <a:pt x="175" y="56"/>
                  </a:lnTo>
                  <a:lnTo>
                    <a:pt x="184" y="56"/>
                  </a:lnTo>
                  <a:lnTo>
                    <a:pt x="184" y="48"/>
                  </a:lnTo>
                  <a:lnTo>
                    <a:pt x="184" y="39"/>
                  </a:lnTo>
                  <a:lnTo>
                    <a:pt x="181" y="31"/>
                  </a:lnTo>
                  <a:lnTo>
                    <a:pt x="178" y="22"/>
                  </a:lnTo>
                  <a:lnTo>
                    <a:pt x="166" y="16"/>
                  </a:lnTo>
                  <a:lnTo>
                    <a:pt x="158" y="16"/>
                  </a:lnTo>
                  <a:lnTo>
                    <a:pt x="146" y="16"/>
                  </a:lnTo>
                  <a:lnTo>
                    <a:pt x="138" y="19"/>
                  </a:lnTo>
                  <a:lnTo>
                    <a:pt x="140" y="11"/>
                  </a:lnTo>
                  <a:lnTo>
                    <a:pt x="140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12" y="11"/>
                  </a:lnTo>
                  <a:lnTo>
                    <a:pt x="103" y="16"/>
                  </a:lnTo>
                  <a:lnTo>
                    <a:pt x="97" y="25"/>
                  </a:lnTo>
                  <a:lnTo>
                    <a:pt x="94" y="16"/>
                  </a:lnTo>
                  <a:lnTo>
                    <a:pt x="86" y="14"/>
                  </a:lnTo>
                  <a:lnTo>
                    <a:pt x="77" y="19"/>
                  </a:lnTo>
                  <a:lnTo>
                    <a:pt x="69" y="25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63" y="2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7" y="25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23" y="48"/>
                  </a:lnTo>
                  <a:lnTo>
                    <a:pt x="31" y="48"/>
                  </a:lnTo>
                  <a:lnTo>
                    <a:pt x="40" y="42"/>
                  </a:lnTo>
                  <a:lnTo>
                    <a:pt x="51" y="45"/>
                  </a:lnTo>
                  <a:lnTo>
                    <a:pt x="57" y="53"/>
                  </a:lnTo>
                  <a:lnTo>
                    <a:pt x="60" y="62"/>
                  </a:lnTo>
                  <a:lnTo>
                    <a:pt x="51" y="65"/>
                  </a:lnTo>
                  <a:lnTo>
                    <a:pt x="40" y="65"/>
                  </a:lnTo>
                  <a:lnTo>
                    <a:pt x="28" y="59"/>
                  </a:lnTo>
                  <a:lnTo>
                    <a:pt x="17" y="59"/>
                  </a:lnTo>
                  <a:lnTo>
                    <a:pt x="8" y="65"/>
                  </a:lnTo>
                  <a:lnTo>
                    <a:pt x="8" y="76"/>
                  </a:lnTo>
                  <a:lnTo>
                    <a:pt x="11" y="87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6"/>
                  </a:lnTo>
                  <a:lnTo>
                    <a:pt x="0" y="101"/>
                  </a:lnTo>
                  <a:lnTo>
                    <a:pt x="5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0" y="1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95760" y="2171880"/>
              <a:ext cx="220680" cy="18072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31" y="53"/>
                  </a:moveTo>
                  <a:lnTo>
                    <a:pt x="25" y="64"/>
                  </a:lnTo>
                  <a:lnTo>
                    <a:pt x="31" y="53"/>
                  </a:lnTo>
                  <a:lnTo>
                    <a:pt x="43" y="56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7" y="79"/>
                  </a:lnTo>
                  <a:lnTo>
                    <a:pt x="23" y="90"/>
                  </a:lnTo>
                  <a:lnTo>
                    <a:pt x="25" y="98"/>
                  </a:lnTo>
                  <a:lnTo>
                    <a:pt x="31" y="107"/>
                  </a:lnTo>
                  <a:lnTo>
                    <a:pt x="34" y="98"/>
                  </a:lnTo>
                  <a:lnTo>
                    <a:pt x="34" y="90"/>
                  </a:lnTo>
                  <a:lnTo>
                    <a:pt x="43" y="90"/>
                  </a:lnTo>
                  <a:lnTo>
                    <a:pt x="54" y="93"/>
                  </a:lnTo>
                  <a:lnTo>
                    <a:pt x="63" y="96"/>
                  </a:lnTo>
                  <a:lnTo>
                    <a:pt x="71" y="96"/>
                  </a:lnTo>
                  <a:lnTo>
                    <a:pt x="80" y="87"/>
                  </a:lnTo>
                  <a:lnTo>
                    <a:pt x="89" y="87"/>
                  </a:lnTo>
                  <a:lnTo>
                    <a:pt x="97" y="93"/>
                  </a:lnTo>
                  <a:lnTo>
                    <a:pt x="103" y="107"/>
                  </a:lnTo>
                  <a:lnTo>
                    <a:pt x="112" y="110"/>
                  </a:lnTo>
                  <a:lnTo>
                    <a:pt x="120" y="113"/>
                  </a:lnTo>
                  <a:lnTo>
                    <a:pt x="126" y="104"/>
                  </a:lnTo>
                  <a:lnTo>
                    <a:pt x="123" y="96"/>
                  </a:lnTo>
                  <a:lnTo>
                    <a:pt x="115" y="90"/>
                  </a:lnTo>
                  <a:lnTo>
                    <a:pt x="106" y="87"/>
                  </a:lnTo>
                  <a:lnTo>
                    <a:pt x="94" y="81"/>
                  </a:lnTo>
                  <a:lnTo>
                    <a:pt x="92" y="73"/>
                  </a:lnTo>
                  <a:lnTo>
                    <a:pt x="103" y="70"/>
                  </a:lnTo>
                  <a:lnTo>
                    <a:pt x="112" y="70"/>
                  </a:lnTo>
                  <a:lnTo>
                    <a:pt x="115" y="62"/>
                  </a:lnTo>
                  <a:lnTo>
                    <a:pt x="120" y="53"/>
                  </a:lnTo>
                  <a:lnTo>
                    <a:pt x="129" y="48"/>
                  </a:lnTo>
                  <a:lnTo>
                    <a:pt x="138" y="39"/>
                  </a:lnTo>
                  <a:lnTo>
                    <a:pt x="129" y="33"/>
                  </a:lnTo>
                  <a:lnTo>
                    <a:pt x="120" y="31"/>
                  </a:lnTo>
                  <a:lnTo>
                    <a:pt x="112" y="33"/>
                  </a:lnTo>
                  <a:lnTo>
                    <a:pt x="106" y="42"/>
                  </a:lnTo>
                  <a:lnTo>
                    <a:pt x="97" y="45"/>
                  </a:lnTo>
                  <a:lnTo>
                    <a:pt x="97" y="36"/>
                  </a:lnTo>
                  <a:lnTo>
                    <a:pt x="100" y="25"/>
                  </a:lnTo>
                  <a:lnTo>
                    <a:pt x="100" y="16"/>
                  </a:lnTo>
                  <a:lnTo>
                    <a:pt x="103" y="8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0" y="8"/>
                  </a:lnTo>
                  <a:lnTo>
                    <a:pt x="77" y="16"/>
                  </a:lnTo>
                  <a:lnTo>
                    <a:pt x="74" y="25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1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3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23" y="64"/>
                  </a:lnTo>
                  <a:lnTo>
                    <a:pt x="31" y="64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77" y="53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05520" y="2079720"/>
              <a:ext cx="298440" cy="156960"/>
            </a:xfrm>
            <a:custGeom>
              <a:avLst/>
              <a:gdLst/>
              <a:ahLst/>
              <a:rect l="l" t="t" r="r" b="b"/>
              <a:pathLst>
                <a:path w="188" h="99">
                  <a:moveTo>
                    <a:pt x="0" y="17"/>
                  </a:moveTo>
                  <a:lnTo>
                    <a:pt x="25" y="25"/>
                  </a:lnTo>
                  <a:lnTo>
                    <a:pt x="37" y="25"/>
                  </a:lnTo>
                  <a:lnTo>
                    <a:pt x="43" y="34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63" y="69"/>
                  </a:lnTo>
                  <a:lnTo>
                    <a:pt x="63" y="80"/>
                  </a:lnTo>
                  <a:lnTo>
                    <a:pt x="71" y="83"/>
                  </a:lnTo>
                  <a:lnTo>
                    <a:pt x="80" y="77"/>
                  </a:lnTo>
                  <a:lnTo>
                    <a:pt x="89" y="77"/>
                  </a:lnTo>
                  <a:lnTo>
                    <a:pt x="97" y="77"/>
                  </a:lnTo>
                  <a:lnTo>
                    <a:pt x="106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5" y="74"/>
                  </a:lnTo>
                  <a:lnTo>
                    <a:pt x="143" y="77"/>
                  </a:lnTo>
                  <a:lnTo>
                    <a:pt x="152" y="86"/>
                  </a:lnTo>
                  <a:lnTo>
                    <a:pt x="163" y="98"/>
                  </a:lnTo>
                  <a:lnTo>
                    <a:pt x="169" y="89"/>
                  </a:lnTo>
                  <a:lnTo>
                    <a:pt x="175" y="80"/>
                  </a:lnTo>
                  <a:lnTo>
                    <a:pt x="181" y="72"/>
                  </a:lnTo>
                  <a:lnTo>
                    <a:pt x="187" y="60"/>
                  </a:lnTo>
                  <a:lnTo>
                    <a:pt x="187" y="51"/>
                  </a:lnTo>
                  <a:lnTo>
                    <a:pt x="187" y="43"/>
                  </a:lnTo>
                  <a:lnTo>
                    <a:pt x="181" y="34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5" y="34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9" y="40"/>
                  </a:lnTo>
                  <a:lnTo>
                    <a:pt x="129" y="49"/>
                  </a:lnTo>
                  <a:lnTo>
                    <a:pt x="129" y="57"/>
                  </a:lnTo>
                  <a:lnTo>
                    <a:pt x="120" y="51"/>
                  </a:lnTo>
                  <a:lnTo>
                    <a:pt x="109" y="43"/>
                  </a:lnTo>
                  <a:lnTo>
                    <a:pt x="100" y="34"/>
                  </a:lnTo>
                  <a:lnTo>
                    <a:pt x="86" y="25"/>
                  </a:lnTo>
                  <a:lnTo>
                    <a:pt x="83" y="37"/>
                  </a:lnTo>
                  <a:lnTo>
                    <a:pt x="74" y="40"/>
                  </a:lnTo>
                  <a:lnTo>
                    <a:pt x="74" y="31"/>
                  </a:lnTo>
                  <a:lnTo>
                    <a:pt x="69" y="23"/>
                  </a:lnTo>
                  <a:lnTo>
                    <a:pt x="60" y="17"/>
                  </a:lnTo>
                  <a:lnTo>
                    <a:pt x="51" y="8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8" y="8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0" y="1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974960" y="2954160"/>
              <a:ext cx="680760" cy="700200"/>
            </a:xfrm>
            <a:custGeom>
              <a:avLst/>
              <a:gdLst/>
              <a:ahLst/>
              <a:rect l="l" t="t" r="r" b="b"/>
              <a:pathLst>
                <a:path w="429" h="441">
                  <a:moveTo>
                    <a:pt x="22" y="309"/>
                  </a:moveTo>
                  <a:lnTo>
                    <a:pt x="34" y="315"/>
                  </a:lnTo>
                  <a:lnTo>
                    <a:pt x="43" y="318"/>
                  </a:lnTo>
                  <a:lnTo>
                    <a:pt x="51" y="321"/>
                  </a:lnTo>
                  <a:lnTo>
                    <a:pt x="54" y="333"/>
                  </a:lnTo>
                  <a:lnTo>
                    <a:pt x="63" y="342"/>
                  </a:lnTo>
                  <a:lnTo>
                    <a:pt x="71" y="348"/>
                  </a:lnTo>
                  <a:lnTo>
                    <a:pt x="80" y="348"/>
                  </a:lnTo>
                  <a:lnTo>
                    <a:pt x="91" y="355"/>
                  </a:lnTo>
                  <a:lnTo>
                    <a:pt x="100" y="361"/>
                  </a:lnTo>
                  <a:lnTo>
                    <a:pt x="109" y="364"/>
                  </a:lnTo>
                  <a:lnTo>
                    <a:pt x="112" y="373"/>
                  </a:lnTo>
                  <a:lnTo>
                    <a:pt x="117" y="382"/>
                  </a:lnTo>
                  <a:lnTo>
                    <a:pt x="123" y="391"/>
                  </a:lnTo>
                  <a:lnTo>
                    <a:pt x="132" y="397"/>
                  </a:lnTo>
                  <a:lnTo>
                    <a:pt x="146" y="406"/>
                  </a:lnTo>
                  <a:lnTo>
                    <a:pt x="155" y="412"/>
                  </a:lnTo>
                  <a:lnTo>
                    <a:pt x="163" y="418"/>
                  </a:lnTo>
                  <a:lnTo>
                    <a:pt x="172" y="421"/>
                  </a:lnTo>
                  <a:lnTo>
                    <a:pt x="180" y="430"/>
                  </a:lnTo>
                  <a:lnTo>
                    <a:pt x="189" y="436"/>
                  </a:lnTo>
                  <a:lnTo>
                    <a:pt x="198" y="440"/>
                  </a:lnTo>
                  <a:lnTo>
                    <a:pt x="203" y="430"/>
                  </a:lnTo>
                  <a:lnTo>
                    <a:pt x="203" y="421"/>
                  </a:lnTo>
                  <a:lnTo>
                    <a:pt x="203" y="412"/>
                  </a:lnTo>
                  <a:lnTo>
                    <a:pt x="215" y="406"/>
                  </a:lnTo>
                  <a:lnTo>
                    <a:pt x="224" y="406"/>
                  </a:lnTo>
                  <a:lnTo>
                    <a:pt x="232" y="406"/>
                  </a:lnTo>
                  <a:lnTo>
                    <a:pt x="241" y="406"/>
                  </a:lnTo>
                  <a:lnTo>
                    <a:pt x="249" y="406"/>
                  </a:lnTo>
                  <a:lnTo>
                    <a:pt x="258" y="406"/>
                  </a:lnTo>
                  <a:lnTo>
                    <a:pt x="261" y="397"/>
                  </a:lnTo>
                  <a:lnTo>
                    <a:pt x="261" y="388"/>
                  </a:lnTo>
                  <a:lnTo>
                    <a:pt x="261" y="379"/>
                  </a:lnTo>
                  <a:lnTo>
                    <a:pt x="261" y="367"/>
                  </a:lnTo>
                  <a:lnTo>
                    <a:pt x="261" y="355"/>
                  </a:lnTo>
                  <a:lnTo>
                    <a:pt x="252" y="348"/>
                  </a:lnTo>
                  <a:lnTo>
                    <a:pt x="244" y="348"/>
                  </a:lnTo>
                  <a:lnTo>
                    <a:pt x="235" y="342"/>
                  </a:lnTo>
                  <a:lnTo>
                    <a:pt x="229" y="333"/>
                  </a:lnTo>
                  <a:lnTo>
                    <a:pt x="229" y="324"/>
                  </a:lnTo>
                  <a:lnTo>
                    <a:pt x="238" y="321"/>
                  </a:lnTo>
                  <a:lnTo>
                    <a:pt x="247" y="315"/>
                  </a:lnTo>
                  <a:lnTo>
                    <a:pt x="255" y="312"/>
                  </a:lnTo>
                  <a:lnTo>
                    <a:pt x="261" y="303"/>
                  </a:lnTo>
                  <a:lnTo>
                    <a:pt x="261" y="294"/>
                  </a:lnTo>
                  <a:lnTo>
                    <a:pt x="264" y="285"/>
                  </a:lnTo>
                  <a:lnTo>
                    <a:pt x="264" y="276"/>
                  </a:lnTo>
                  <a:lnTo>
                    <a:pt x="267" y="267"/>
                  </a:lnTo>
                  <a:lnTo>
                    <a:pt x="272" y="257"/>
                  </a:lnTo>
                  <a:lnTo>
                    <a:pt x="278" y="248"/>
                  </a:lnTo>
                  <a:lnTo>
                    <a:pt x="284" y="239"/>
                  </a:lnTo>
                  <a:lnTo>
                    <a:pt x="284" y="230"/>
                  </a:lnTo>
                  <a:lnTo>
                    <a:pt x="284" y="221"/>
                  </a:lnTo>
                  <a:lnTo>
                    <a:pt x="284" y="209"/>
                  </a:lnTo>
                  <a:lnTo>
                    <a:pt x="292" y="200"/>
                  </a:lnTo>
                  <a:lnTo>
                    <a:pt x="295" y="191"/>
                  </a:lnTo>
                  <a:lnTo>
                    <a:pt x="298" y="182"/>
                  </a:lnTo>
                  <a:lnTo>
                    <a:pt x="301" y="172"/>
                  </a:lnTo>
                  <a:lnTo>
                    <a:pt x="292" y="163"/>
                  </a:lnTo>
                  <a:lnTo>
                    <a:pt x="284" y="154"/>
                  </a:lnTo>
                  <a:lnTo>
                    <a:pt x="278" y="145"/>
                  </a:lnTo>
                  <a:lnTo>
                    <a:pt x="287" y="142"/>
                  </a:lnTo>
                  <a:lnTo>
                    <a:pt x="295" y="142"/>
                  </a:lnTo>
                  <a:lnTo>
                    <a:pt x="304" y="148"/>
                  </a:lnTo>
                  <a:lnTo>
                    <a:pt x="313" y="157"/>
                  </a:lnTo>
                  <a:lnTo>
                    <a:pt x="321" y="163"/>
                  </a:lnTo>
                  <a:lnTo>
                    <a:pt x="327" y="154"/>
                  </a:lnTo>
                  <a:lnTo>
                    <a:pt x="336" y="148"/>
                  </a:lnTo>
                  <a:lnTo>
                    <a:pt x="344" y="148"/>
                  </a:lnTo>
                  <a:lnTo>
                    <a:pt x="353" y="145"/>
                  </a:lnTo>
                  <a:lnTo>
                    <a:pt x="361" y="142"/>
                  </a:lnTo>
                  <a:lnTo>
                    <a:pt x="361" y="133"/>
                  </a:lnTo>
                  <a:lnTo>
                    <a:pt x="361" y="124"/>
                  </a:lnTo>
                  <a:lnTo>
                    <a:pt x="361" y="115"/>
                  </a:lnTo>
                  <a:lnTo>
                    <a:pt x="359" y="106"/>
                  </a:lnTo>
                  <a:lnTo>
                    <a:pt x="353" y="97"/>
                  </a:lnTo>
                  <a:lnTo>
                    <a:pt x="344" y="88"/>
                  </a:lnTo>
                  <a:lnTo>
                    <a:pt x="333" y="81"/>
                  </a:lnTo>
                  <a:lnTo>
                    <a:pt x="341" y="75"/>
                  </a:lnTo>
                  <a:lnTo>
                    <a:pt x="353" y="75"/>
                  </a:lnTo>
                  <a:lnTo>
                    <a:pt x="361" y="75"/>
                  </a:lnTo>
                  <a:lnTo>
                    <a:pt x="370" y="75"/>
                  </a:lnTo>
                  <a:lnTo>
                    <a:pt x="379" y="72"/>
                  </a:lnTo>
                  <a:lnTo>
                    <a:pt x="387" y="69"/>
                  </a:lnTo>
                  <a:lnTo>
                    <a:pt x="396" y="69"/>
                  </a:lnTo>
                  <a:lnTo>
                    <a:pt x="405" y="72"/>
                  </a:lnTo>
                  <a:lnTo>
                    <a:pt x="419" y="75"/>
                  </a:lnTo>
                  <a:lnTo>
                    <a:pt x="428" y="75"/>
                  </a:lnTo>
                  <a:lnTo>
                    <a:pt x="425" y="66"/>
                  </a:lnTo>
                  <a:lnTo>
                    <a:pt x="422" y="57"/>
                  </a:lnTo>
                  <a:lnTo>
                    <a:pt x="419" y="48"/>
                  </a:lnTo>
                  <a:lnTo>
                    <a:pt x="410" y="48"/>
                  </a:lnTo>
                  <a:lnTo>
                    <a:pt x="402" y="48"/>
                  </a:lnTo>
                  <a:lnTo>
                    <a:pt x="390" y="48"/>
                  </a:lnTo>
                  <a:lnTo>
                    <a:pt x="382" y="48"/>
                  </a:lnTo>
                  <a:lnTo>
                    <a:pt x="379" y="57"/>
                  </a:lnTo>
                  <a:lnTo>
                    <a:pt x="370" y="54"/>
                  </a:lnTo>
                  <a:lnTo>
                    <a:pt x="361" y="45"/>
                  </a:lnTo>
                  <a:lnTo>
                    <a:pt x="353" y="39"/>
                  </a:lnTo>
                  <a:lnTo>
                    <a:pt x="341" y="39"/>
                  </a:lnTo>
                  <a:lnTo>
                    <a:pt x="333" y="39"/>
                  </a:lnTo>
                  <a:lnTo>
                    <a:pt x="318" y="39"/>
                  </a:lnTo>
                  <a:lnTo>
                    <a:pt x="310" y="39"/>
                  </a:lnTo>
                  <a:lnTo>
                    <a:pt x="298" y="42"/>
                  </a:lnTo>
                  <a:lnTo>
                    <a:pt x="290" y="42"/>
                  </a:lnTo>
                  <a:lnTo>
                    <a:pt x="290" y="33"/>
                  </a:lnTo>
                  <a:lnTo>
                    <a:pt x="298" y="30"/>
                  </a:lnTo>
                  <a:lnTo>
                    <a:pt x="307" y="30"/>
                  </a:lnTo>
                  <a:lnTo>
                    <a:pt x="315" y="27"/>
                  </a:lnTo>
                  <a:lnTo>
                    <a:pt x="324" y="24"/>
                  </a:lnTo>
                  <a:lnTo>
                    <a:pt x="327" y="15"/>
                  </a:lnTo>
                  <a:lnTo>
                    <a:pt x="327" y="6"/>
                  </a:lnTo>
                  <a:lnTo>
                    <a:pt x="318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3"/>
                  </a:lnTo>
                  <a:lnTo>
                    <a:pt x="275" y="12"/>
                  </a:lnTo>
                  <a:lnTo>
                    <a:pt x="267" y="18"/>
                  </a:lnTo>
                  <a:lnTo>
                    <a:pt x="258" y="21"/>
                  </a:lnTo>
                  <a:lnTo>
                    <a:pt x="255" y="30"/>
                  </a:lnTo>
                  <a:lnTo>
                    <a:pt x="264" y="36"/>
                  </a:lnTo>
                  <a:lnTo>
                    <a:pt x="272" y="36"/>
                  </a:lnTo>
                  <a:lnTo>
                    <a:pt x="278" y="45"/>
                  </a:lnTo>
                  <a:lnTo>
                    <a:pt x="270" y="54"/>
                  </a:lnTo>
                  <a:lnTo>
                    <a:pt x="267" y="63"/>
                  </a:lnTo>
                  <a:lnTo>
                    <a:pt x="281" y="75"/>
                  </a:lnTo>
                  <a:lnTo>
                    <a:pt x="290" y="78"/>
                  </a:lnTo>
                  <a:lnTo>
                    <a:pt x="281" y="75"/>
                  </a:lnTo>
                  <a:lnTo>
                    <a:pt x="270" y="66"/>
                  </a:lnTo>
                  <a:lnTo>
                    <a:pt x="261" y="60"/>
                  </a:lnTo>
                  <a:lnTo>
                    <a:pt x="252" y="51"/>
                  </a:lnTo>
                  <a:lnTo>
                    <a:pt x="244" y="51"/>
                  </a:lnTo>
                  <a:lnTo>
                    <a:pt x="241" y="60"/>
                  </a:lnTo>
                  <a:lnTo>
                    <a:pt x="241" y="69"/>
                  </a:lnTo>
                  <a:lnTo>
                    <a:pt x="255" y="78"/>
                  </a:lnTo>
                  <a:lnTo>
                    <a:pt x="264" y="81"/>
                  </a:lnTo>
                  <a:lnTo>
                    <a:pt x="255" y="88"/>
                  </a:lnTo>
                  <a:lnTo>
                    <a:pt x="244" y="88"/>
                  </a:lnTo>
                  <a:lnTo>
                    <a:pt x="235" y="88"/>
                  </a:lnTo>
                  <a:lnTo>
                    <a:pt x="235" y="103"/>
                  </a:lnTo>
                  <a:lnTo>
                    <a:pt x="244" y="106"/>
                  </a:lnTo>
                  <a:lnTo>
                    <a:pt x="252" y="109"/>
                  </a:lnTo>
                  <a:lnTo>
                    <a:pt x="244" y="115"/>
                  </a:lnTo>
                  <a:lnTo>
                    <a:pt x="235" y="112"/>
                  </a:lnTo>
                  <a:lnTo>
                    <a:pt x="226" y="109"/>
                  </a:lnTo>
                  <a:lnTo>
                    <a:pt x="218" y="106"/>
                  </a:lnTo>
                  <a:lnTo>
                    <a:pt x="212" y="115"/>
                  </a:lnTo>
                  <a:lnTo>
                    <a:pt x="218" y="124"/>
                  </a:lnTo>
                  <a:lnTo>
                    <a:pt x="229" y="127"/>
                  </a:lnTo>
                  <a:lnTo>
                    <a:pt x="238" y="130"/>
                  </a:lnTo>
                  <a:lnTo>
                    <a:pt x="229" y="124"/>
                  </a:lnTo>
                  <a:lnTo>
                    <a:pt x="221" y="121"/>
                  </a:lnTo>
                  <a:lnTo>
                    <a:pt x="209" y="115"/>
                  </a:lnTo>
                  <a:lnTo>
                    <a:pt x="198" y="106"/>
                  </a:lnTo>
                  <a:lnTo>
                    <a:pt x="192" y="97"/>
                  </a:lnTo>
                  <a:lnTo>
                    <a:pt x="183" y="91"/>
                  </a:lnTo>
                  <a:lnTo>
                    <a:pt x="180" y="81"/>
                  </a:lnTo>
                  <a:lnTo>
                    <a:pt x="178" y="72"/>
                  </a:lnTo>
                  <a:lnTo>
                    <a:pt x="169" y="60"/>
                  </a:lnTo>
                  <a:lnTo>
                    <a:pt x="160" y="60"/>
                  </a:lnTo>
                  <a:lnTo>
                    <a:pt x="152" y="66"/>
                  </a:lnTo>
                  <a:lnTo>
                    <a:pt x="149" y="75"/>
                  </a:lnTo>
                  <a:lnTo>
                    <a:pt x="146" y="84"/>
                  </a:lnTo>
                  <a:lnTo>
                    <a:pt x="143" y="94"/>
                  </a:lnTo>
                  <a:lnTo>
                    <a:pt x="140" y="103"/>
                  </a:lnTo>
                  <a:lnTo>
                    <a:pt x="129" y="103"/>
                  </a:lnTo>
                  <a:lnTo>
                    <a:pt x="117" y="94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0" y="60"/>
                  </a:lnTo>
                  <a:lnTo>
                    <a:pt x="89" y="60"/>
                  </a:lnTo>
                  <a:lnTo>
                    <a:pt x="80" y="66"/>
                  </a:lnTo>
                  <a:lnTo>
                    <a:pt x="77" y="75"/>
                  </a:lnTo>
                  <a:lnTo>
                    <a:pt x="71" y="84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51" y="127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0" y="127"/>
                  </a:lnTo>
                  <a:lnTo>
                    <a:pt x="51" y="121"/>
                  </a:lnTo>
                  <a:lnTo>
                    <a:pt x="43" y="118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4" y="115"/>
                  </a:lnTo>
                  <a:lnTo>
                    <a:pt x="11" y="124"/>
                  </a:lnTo>
                  <a:lnTo>
                    <a:pt x="8" y="133"/>
                  </a:lnTo>
                  <a:lnTo>
                    <a:pt x="2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4" y="169"/>
                  </a:lnTo>
                  <a:lnTo>
                    <a:pt x="22" y="172"/>
                  </a:lnTo>
                  <a:lnTo>
                    <a:pt x="31" y="172"/>
                  </a:lnTo>
                  <a:lnTo>
                    <a:pt x="40" y="176"/>
                  </a:lnTo>
                  <a:lnTo>
                    <a:pt x="51" y="185"/>
                  </a:lnTo>
                  <a:lnTo>
                    <a:pt x="60" y="191"/>
                  </a:lnTo>
                  <a:lnTo>
                    <a:pt x="68" y="197"/>
                  </a:lnTo>
                  <a:lnTo>
                    <a:pt x="80" y="200"/>
                  </a:lnTo>
                  <a:lnTo>
                    <a:pt x="89" y="203"/>
                  </a:lnTo>
                  <a:lnTo>
                    <a:pt x="100" y="203"/>
                  </a:lnTo>
                  <a:lnTo>
                    <a:pt x="109" y="203"/>
                  </a:lnTo>
                  <a:lnTo>
                    <a:pt x="120" y="197"/>
                  </a:lnTo>
                  <a:lnTo>
                    <a:pt x="129" y="194"/>
                  </a:lnTo>
                  <a:lnTo>
                    <a:pt x="135" y="185"/>
                  </a:lnTo>
                  <a:lnTo>
                    <a:pt x="143" y="179"/>
                  </a:lnTo>
                  <a:lnTo>
                    <a:pt x="149" y="169"/>
                  </a:lnTo>
                  <a:lnTo>
                    <a:pt x="157" y="163"/>
                  </a:lnTo>
                  <a:lnTo>
                    <a:pt x="166" y="163"/>
                  </a:lnTo>
                  <a:lnTo>
                    <a:pt x="175" y="166"/>
                  </a:lnTo>
                  <a:lnTo>
                    <a:pt x="183" y="166"/>
                  </a:lnTo>
                  <a:lnTo>
                    <a:pt x="192" y="157"/>
                  </a:lnTo>
                  <a:lnTo>
                    <a:pt x="198" y="148"/>
                  </a:lnTo>
                  <a:lnTo>
                    <a:pt x="201" y="139"/>
                  </a:lnTo>
                  <a:lnTo>
                    <a:pt x="203" y="130"/>
                  </a:lnTo>
                  <a:lnTo>
                    <a:pt x="212" y="130"/>
                  </a:lnTo>
                  <a:lnTo>
                    <a:pt x="224" y="136"/>
                  </a:lnTo>
                  <a:lnTo>
                    <a:pt x="232" y="139"/>
                  </a:lnTo>
                  <a:lnTo>
                    <a:pt x="241" y="142"/>
                  </a:lnTo>
                  <a:lnTo>
                    <a:pt x="232" y="142"/>
                  </a:lnTo>
                  <a:lnTo>
                    <a:pt x="224" y="142"/>
                  </a:lnTo>
                  <a:lnTo>
                    <a:pt x="215" y="142"/>
                  </a:lnTo>
                  <a:lnTo>
                    <a:pt x="206" y="142"/>
                  </a:lnTo>
                  <a:lnTo>
                    <a:pt x="203" y="151"/>
                  </a:lnTo>
                  <a:lnTo>
                    <a:pt x="201" y="160"/>
                  </a:lnTo>
                  <a:lnTo>
                    <a:pt x="201" y="169"/>
                  </a:lnTo>
                  <a:lnTo>
                    <a:pt x="209" y="176"/>
                  </a:lnTo>
                  <a:lnTo>
                    <a:pt x="218" y="179"/>
                  </a:lnTo>
                  <a:lnTo>
                    <a:pt x="226" y="188"/>
                  </a:lnTo>
                  <a:lnTo>
                    <a:pt x="235" y="194"/>
                  </a:lnTo>
                  <a:lnTo>
                    <a:pt x="238" y="203"/>
                  </a:lnTo>
                  <a:lnTo>
                    <a:pt x="226" y="206"/>
                  </a:lnTo>
                  <a:lnTo>
                    <a:pt x="224" y="215"/>
                  </a:lnTo>
                  <a:lnTo>
                    <a:pt x="224" y="224"/>
                  </a:lnTo>
                  <a:lnTo>
                    <a:pt x="221" y="233"/>
                  </a:lnTo>
                  <a:lnTo>
                    <a:pt x="209" y="233"/>
                  </a:lnTo>
                  <a:lnTo>
                    <a:pt x="203" y="245"/>
                  </a:lnTo>
                  <a:lnTo>
                    <a:pt x="198" y="257"/>
                  </a:lnTo>
                  <a:lnTo>
                    <a:pt x="195" y="267"/>
                  </a:lnTo>
                  <a:lnTo>
                    <a:pt x="186" y="267"/>
                  </a:lnTo>
                  <a:lnTo>
                    <a:pt x="183" y="257"/>
                  </a:lnTo>
                  <a:lnTo>
                    <a:pt x="178" y="245"/>
                  </a:lnTo>
                  <a:lnTo>
                    <a:pt x="175" y="233"/>
                  </a:lnTo>
                  <a:lnTo>
                    <a:pt x="166" y="224"/>
                  </a:lnTo>
                  <a:lnTo>
                    <a:pt x="157" y="221"/>
                  </a:lnTo>
                  <a:lnTo>
                    <a:pt x="149" y="218"/>
                  </a:lnTo>
                  <a:lnTo>
                    <a:pt x="137" y="224"/>
                  </a:lnTo>
                  <a:lnTo>
                    <a:pt x="140" y="236"/>
                  </a:lnTo>
                  <a:lnTo>
                    <a:pt x="143" y="245"/>
                  </a:lnTo>
                  <a:lnTo>
                    <a:pt x="143" y="254"/>
                  </a:lnTo>
                  <a:lnTo>
                    <a:pt x="135" y="260"/>
                  </a:lnTo>
                  <a:lnTo>
                    <a:pt x="126" y="260"/>
                  </a:lnTo>
                  <a:lnTo>
                    <a:pt x="114" y="257"/>
                  </a:lnTo>
                  <a:lnTo>
                    <a:pt x="106" y="257"/>
                  </a:lnTo>
                  <a:lnTo>
                    <a:pt x="97" y="257"/>
                  </a:lnTo>
                  <a:lnTo>
                    <a:pt x="89" y="257"/>
                  </a:lnTo>
                  <a:lnTo>
                    <a:pt x="91" y="267"/>
                  </a:lnTo>
                  <a:lnTo>
                    <a:pt x="100" y="276"/>
                  </a:lnTo>
                  <a:lnTo>
                    <a:pt x="100" y="285"/>
                  </a:lnTo>
                  <a:lnTo>
                    <a:pt x="97" y="294"/>
                  </a:lnTo>
                  <a:lnTo>
                    <a:pt x="97" y="303"/>
                  </a:lnTo>
                  <a:lnTo>
                    <a:pt x="109" y="312"/>
                  </a:lnTo>
                  <a:lnTo>
                    <a:pt x="117" y="318"/>
                  </a:lnTo>
                  <a:lnTo>
                    <a:pt x="109" y="318"/>
                  </a:lnTo>
                  <a:lnTo>
                    <a:pt x="100" y="309"/>
                  </a:lnTo>
                  <a:lnTo>
                    <a:pt x="89" y="300"/>
                  </a:lnTo>
                  <a:lnTo>
                    <a:pt x="80" y="297"/>
                  </a:lnTo>
                  <a:lnTo>
                    <a:pt x="71" y="297"/>
                  </a:lnTo>
                  <a:lnTo>
                    <a:pt x="63" y="300"/>
                  </a:lnTo>
                  <a:lnTo>
                    <a:pt x="54" y="306"/>
                  </a:lnTo>
                  <a:lnTo>
                    <a:pt x="43" y="306"/>
                  </a:lnTo>
                  <a:lnTo>
                    <a:pt x="34" y="306"/>
                  </a:lnTo>
                  <a:lnTo>
                    <a:pt x="22" y="309"/>
                  </a:lnTo>
                  <a:lnTo>
                    <a:pt x="11" y="303"/>
                  </a:lnTo>
                  <a:lnTo>
                    <a:pt x="22" y="309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743200" y="27082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2"/>
                  </a:moveTo>
                  <a:lnTo>
                    <a:pt x="8" y="19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34" y="22"/>
                  </a:lnTo>
                  <a:lnTo>
                    <a:pt x="40" y="13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76680" y="294012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5" y="0"/>
                  </a:moveTo>
                  <a:lnTo>
                    <a:pt x="20" y="13"/>
                  </a:lnTo>
                  <a:lnTo>
                    <a:pt x="11" y="16"/>
                  </a:lnTo>
                  <a:lnTo>
                    <a:pt x="8" y="24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4" y="30"/>
                  </a:lnTo>
                  <a:lnTo>
                    <a:pt x="40" y="21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25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610160" y="2549520"/>
              <a:ext cx="339840" cy="509760"/>
            </a:xfrm>
            <a:custGeom>
              <a:avLst/>
              <a:gdLst/>
              <a:ahLst/>
              <a:rect l="l" t="t" r="r" b="b"/>
              <a:pathLst>
                <a:path w="214" h="321">
                  <a:moveTo>
                    <a:pt x="23" y="200"/>
                  </a:moveTo>
                  <a:lnTo>
                    <a:pt x="34" y="182"/>
                  </a:lnTo>
                  <a:lnTo>
                    <a:pt x="23" y="200"/>
                  </a:lnTo>
                  <a:lnTo>
                    <a:pt x="23" y="211"/>
                  </a:lnTo>
                  <a:lnTo>
                    <a:pt x="20" y="220"/>
                  </a:lnTo>
                  <a:lnTo>
                    <a:pt x="17" y="228"/>
                  </a:lnTo>
                  <a:lnTo>
                    <a:pt x="8" y="234"/>
                  </a:lnTo>
                  <a:lnTo>
                    <a:pt x="2" y="24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8" y="268"/>
                  </a:lnTo>
                  <a:lnTo>
                    <a:pt x="17" y="268"/>
                  </a:lnTo>
                  <a:lnTo>
                    <a:pt x="25" y="271"/>
                  </a:lnTo>
                  <a:lnTo>
                    <a:pt x="28" y="280"/>
                  </a:lnTo>
                  <a:lnTo>
                    <a:pt x="37" y="291"/>
                  </a:lnTo>
                  <a:lnTo>
                    <a:pt x="28" y="294"/>
                  </a:lnTo>
                  <a:lnTo>
                    <a:pt x="20" y="285"/>
                  </a:lnTo>
                  <a:lnTo>
                    <a:pt x="31" y="294"/>
                  </a:lnTo>
                  <a:lnTo>
                    <a:pt x="40" y="300"/>
                  </a:lnTo>
                  <a:lnTo>
                    <a:pt x="48" y="311"/>
                  </a:lnTo>
                  <a:lnTo>
                    <a:pt x="57" y="314"/>
                  </a:lnTo>
                  <a:lnTo>
                    <a:pt x="66" y="320"/>
                  </a:lnTo>
                  <a:lnTo>
                    <a:pt x="66" y="311"/>
                  </a:lnTo>
                  <a:lnTo>
                    <a:pt x="74" y="311"/>
                  </a:lnTo>
                  <a:lnTo>
                    <a:pt x="83" y="320"/>
                  </a:lnTo>
                  <a:lnTo>
                    <a:pt x="83" y="308"/>
                  </a:lnTo>
                  <a:lnTo>
                    <a:pt x="92" y="305"/>
                  </a:lnTo>
                  <a:lnTo>
                    <a:pt x="97" y="297"/>
                  </a:lnTo>
                  <a:lnTo>
                    <a:pt x="89" y="288"/>
                  </a:lnTo>
                  <a:lnTo>
                    <a:pt x="83" y="280"/>
                  </a:lnTo>
                  <a:lnTo>
                    <a:pt x="77" y="271"/>
                  </a:lnTo>
                  <a:lnTo>
                    <a:pt x="71" y="262"/>
                  </a:lnTo>
                  <a:lnTo>
                    <a:pt x="69" y="254"/>
                  </a:lnTo>
                  <a:lnTo>
                    <a:pt x="69" y="242"/>
                  </a:lnTo>
                  <a:lnTo>
                    <a:pt x="69" y="234"/>
                  </a:lnTo>
                  <a:lnTo>
                    <a:pt x="69" y="225"/>
                  </a:lnTo>
                  <a:lnTo>
                    <a:pt x="69" y="217"/>
                  </a:lnTo>
                  <a:lnTo>
                    <a:pt x="69" y="208"/>
                  </a:lnTo>
                  <a:lnTo>
                    <a:pt x="69" y="200"/>
                  </a:lnTo>
                  <a:lnTo>
                    <a:pt x="69" y="191"/>
                  </a:lnTo>
                  <a:lnTo>
                    <a:pt x="69" y="182"/>
                  </a:lnTo>
                  <a:lnTo>
                    <a:pt x="77" y="174"/>
                  </a:lnTo>
                  <a:lnTo>
                    <a:pt x="86" y="168"/>
                  </a:lnTo>
                  <a:lnTo>
                    <a:pt x="92" y="160"/>
                  </a:lnTo>
                  <a:lnTo>
                    <a:pt x="97" y="151"/>
                  </a:lnTo>
                  <a:lnTo>
                    <a:pt x="103" y="142"/>
                  </a:lnTo>
                  <a:lnTo>
                    <a:pt x="103" y="134"/>
                  </a:lnTo>
                  <a:lnTo>
                    <a:pt x="103" y="125"/>
                  </a:lnTo>
                  <a:lnTo>
                    <a:pt x="112" y="122"/>
                  </a:lnTo>
                  <a:lnTo>
                    <a:pt x="120" y="117"/>
                  </a:lnTo>
                  <a:lnTo>
                    <a:pt x="123" y="105"/>
                  </a:lnTo>
                  <a:lnTo>
                    <a:pt x="132" y="100"/>
                  </a:lnTo>
                  <a:lnTo>
                    <a:pt x="135" y="91"/>
                  </a:lnTo>
                  <a:lnTo>
                    <a:pt x="143" y="82"/>
                  </a:lnTo>
                  <a:lnTo>
                    <a:pt x="152" y="77"/>
                  </a:lnTo>
                  <a:lnTo>
                    <a:pt x="158" y="68"/>
                  </a:lnTo>
                  <a:lnTo>
                    <a:pt x="166" y="65"/>
                  </a:lnTo>
                  <a:lnTo>
                    <a:pt x="175" y="60"/>
                  </a:lnTo>
                  <a:lnTo>
                    <a:pt x="184" y="57"/>
                  </a:lnTo>
                  <a:lnTo>
                    <a:pt x="189" y="48"/>
                  </a:lnTo>
                  <a:lnTo>
                    <a:pt x="198" y="42"/>
                  </a:lnTo>
                  <a:lnTo>
                    <a:pt x="207" y="37"/>
                  </a:lnTo>
                  <a:lnTo>
                    <a:pt x="210" y="28"/>
                  </a:lnTo>
                  <a:lnTo>
                    <a:pt x="213" y="20"/>
                  </a:lnTo>
                  <a:lnTo>
                    <a:pt x="213" y="11"/>
                  </a:lnTo>
                  <a:lnTo>
                    <a:pt x="210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5" y="8"/>
                  </a:lnTo>
                  <a:lnTo>
                    <a:pt x="175" y="17"/>
                  </a:lnTo>
                  <a:lnTo>
                    <a:pt x="166" y="20"/>
                  </a:lnTo>
                  <a:lnTo>
                    <a:pt x="158" y="25"/>
                  </a:lnTo>
                  <a:lnTo>
                    <a:pt x="149" y="34"/>
                  </a:lnTo>
                  <a:lnTo>
                    <a:pt x="141" y="40"/>
                  </a:lnTo>
                  <a:lnTo>
                    <a:pt x="132" y="42"/>
                  </a:lnTo>
                  <a:lnTo>
                    <a:pt x="123" y="42"/>
                  </a:lnTo>
                  <a:lnTo>
                    <a:pt x="123" y="54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7" y="68"/>
                  </a:lnTo>
                  <a:lnTo>
                    <a:pt x="89" y="77"/>
                  </a:lnTo>
                  <a:lnTo>
                    <a:pt x="83" y="85"/>
                  </a:lnTo>
                  <a:lnTo>
                    <a:pt x="80" y="94"/>
                  </a:lnTo>
                  <a:lnTo>
                    <a:pt x="71" y="100"/>
                  </a:lnTo>
                  <a:lnTo>
                    <a:pt x="66" y="108"/>
                  </a:lnTo>
                  <a:lnTo>
                    <a:pt x="63" y="117"/>
                  </a:lnTo>
                  <a:lnTo>
                    <a:pt x="63" y="125"/>
                  </a:lnTo>
                  <a:lnTo>
                    <a:pt x="57" y="134"/>
                  </a:lnTo>
                  <a:lnTo>
                    <a:pt x="51" y="142"/>
                  </a:lnTo>
                  <a:lnTo>
                    <a:pt x="46" y="151"/>
                  </a:lnTo>
                  <a:lnTo>
                    <a:pt x="40" y="162"/>
                  </a:lnTo>
                  <a:lnTo>
                    <a:pt x="37" y="171"/>
                  </a:lnTo>
                  <a:lnTo>
                    <a:pt x="46" y="177"/>
                  </a:lnTo>
                  <a:lnTo>
                    <a:pt x="54" y="180"/>
                  </a:lnTo>
                  <a:lnTo>
                    <a:pt x="57" y="188"/>
                  </a:lnTo>
                  <a:lnTo>
                    <a:pt x="48" y="185"/>
                  </a:lnTo>
                  <a:lnTo>
                    <a:pt x="40" y="185"/>
                  </a:lnTo>
                  <a:lnTo>
                    <a:pt x="31" y="188"/>
                  </a:lnTo>
                  <a:lnTo>
                    <a:pt x="23" y="200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23" y="237"/>
                  </a:lnTo>
                  <a:lnTo>
                    <a:pt x="14" y="242"/>
                  </a:lnTo>
                  <a:lnTo>
                    <a:pt x="8" y="251"/>
                  </a:lnTo>
                  <a:lnTo>
                    <a:pt x="0" y="260"/>
                  </a:lnTo>
                  <a:lnTo>
                    <a:pt x="23" y="2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71720" y="444168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49" y="47"/>
                  </a:moveTo>
                  <a:lnTo>
                    <a:pt x="44" y="58"/>
                  </a:lnTo>
                  <a:lnTo>
                    <a:pt x="35" y="58"/>
                  </a:lnTo>
                  <a:lnTo>
                    <a:pt x="30" y="66"/>
                  </a:lnTo>
                  <a:lnTo>
                    <a:pt x="30" y="75"/>
                  </a:lnTo>
                  <a:lnTo>
                    <a:pt x="30" y="83"/>
                  </a:lnTo>
                  <a:lnTo>
                    <a:pt x="30" y="91"/>
                  </a:lnTo>
                  <a:lnTo>
                    <a:pt x="22" y="94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8" y="139"/>
                  </a:lnTo>
                  <a:lnTo>
                    <a:pt x="16" y="139"/>
                  </a:lnTo>
                  <a:lnTo>
                    <a:pt x="27" y="147"/>
                  </a:lnTo>
                  <a:lnTo>
                    <a:pt x="33" y="156"/>
                  </a:lnTo>
                  <a:lnTo>
                    <a:pt x="41" y="156"/>
                  </a:lnTo>
                  <a:lnTo>
                    <a:pt x="46" y="147"/>
                  </a:lnTo>
                  <a:lnTo>
                    <a:pt x="52" y="139"/>
                  </a:lnTo>
                  <a:lnTo>
                    <a:pt x="55" y="130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71" y="108"/>
                  </a:lnTo>
                  <a:lnTo>
                    <a:pt x="80" y="108"/>
                  </a:lnTo>
                  <a:lnTo>
                    <a:pt x="82" y="100"/>
                  </a:lnTo>
                  <a:lnTo>
                    <a:pt x="82" y="91"/>
                  </a:lnTo>
                  <a:lnTo>
                    <a:pt x="82" y="83"/>
                  </a:lnTo>
                  <a:lnTo>
                    <a:pt x="82" y="75"/>
                  </a:lnTo>
                  <a:lnTo>
                    <a:pt x="82" y="66"/>
                  </a:lnTo>
                  <a:lnTo>
                    <a:pt x="85" y="58"/>
                  </a:lnTo>
                  <a:lnTo>
                    <a:pt x="93" y="52"/>
                  </a:lnTo>
                  <a:lnTo>
                    <a:pt x="102" y="47"/>
                  </a:lnTo>
                  <a:lnTo>
                    <a:pt x="107" y="39"/>
                  </a:lnTo>
                  <a:lnTo>
                    <a:pt x="115" y="36"/>
                  </a:lnTo>
                  <a:lnTo>
                    <a:pt x="121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38" y="5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8" y="11"/>
                  </a:lnTo>
                  <a:lnTo>
                    <a:pt x="82" y="19"/>
                  </a:lnTo>
                  <a:lnTo>
                    <a:pt x="80" y="27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69" y="61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49" y="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890800" y="524844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1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6" y="21"/>
                  </a:lnTo>
                  <a:lnTo>
                    <a:pt x="23" y="27"/>
                  </a:lnTo>
                  <a:lnTo>
                    <a:pt x="18" y="18"/>
                  </a:lnTo>
                  <a:lnTo>
                    <a:pt x="13" y="9"/>
                  </a:lnTo>
                  <a:lnTo>
                    <a:pt x="6" y="21"/>
                  </a:lnTo>
                  <a:lnTo>
                    <a:pt x="9" y="6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957400" y="5361120"/>
              <a:ext cx="27000" cy="72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6" y="0"/>
                  </a:moveTo>
                  <a:lnTo>
                    <a:pt x="5" y="19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0" y="28"/>
                  </a:lnTo>
                  <a:lnTo>
                    <a:pt x="16" y="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52480" y="4357800"/>
              <a:ext cx="88920" cy="73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0"/>
                  </a:moveTo>
                  <a:lnTo>
                    <a:pt x="20" y="19"/>
                  </a:lnTo>
                  <a:lnTo>
                    <a:pt x="20" y="28"/>
                  </a:lnTo>
                  <a:lnTo>
                    <a:pt x="28" y="33"/>
                  </a:lnTo>
                  <a:lnTo>
                    <a:pt x="28" y="42"/>
                  </a:lnTo>
                  <a:lnTo>
                    <a:pt x="37" y="45"/>
                  </a:lnTo>
                  <a:lnTo>
                    <a:pt x="46" y="45"/>
                  </a:lnTo>
                  <a:lnTo>
                    <a:pt x="49" y="36"/>
                  </a:lnTo>
                  <a:lnTo>
                    <a:pt x="55" y="28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26" y="16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2" name="" descr=""/>
            <p:cNvPicPr/>
            <p:nvPr/>
          </p:nvPicPr>
          <p:blipFill>
            <a:blip r:embed="rId1"/>
            <a:stretch/>
          </p:blipFill>
          <p:spPr>
            <a:xfrm>
              <a:off x="228600" y="6137280"/>
              <a:ext cx="611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993600" y="6272280"/>
              <a:ext cx="47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HO European Centre for Environment and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72040" y="743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0"/>
                  </a:moveTo>
                  <a:lnTo>
                    <a:pt x="8" y="8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5" y="37"/>
                  </a:lnTo>
                  <a:lnTo>
                    <a:pt x="11" y="46"/>
                  </a:lnTo>
                  <a:lnTo>
                    <a:pt x="19" y="49"/>
                  </a:lnTo>
                  <a:lnTo>
                    <a:pt x="31" y="52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7" y="55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31" y="14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997360" y="4836960"/>
              <a:ext cx="788760" cy="408240"/>
            </a:xfrm>
            <a:custGeom>
              <a:avLst/>
              <a:gdLst/>
              <a:ahLst/>
              <a:rect l="l" t="t" r="r" b="b"/>
              <a:pathLst>
                <a:path w="497" h="257">
                  <a:moveTo>
                    <a:pt x="0" y="193"/>
                  </a:moveTo>
                  <a:lnTo>
                    <a:pt x="24" y="189"/>
                  </a:lnTo>
                  <a:lnTo>
                    <a:pt x="32" y="182"/>
                  </a:lnTo>
                  <a:lnTo>
                    <a:pt x="40" y="174"/>
                  </a:lnTo>
                  <a:lnTo>
                    <a:pt x="46" y="164"/>
                  </a:lnTo>
                  <a:lnTo>
                    <a:pt x="45" y="155"/>
                  </a:lnTo>
                  <a:lnTo>
                    <a:pt x="52" y="149"/>
                  </a:lnTo>
                  <a:lnTo>
                    <a:pt x="60" y="140"/>
                  </a:lnTo>
                  <a:lnTo>
                    <a:pt x="66" y="131"/>
                  </a:lnTo>
                  <a:lnTo>
                    <a:pt x="69" y="123"/>
                  </a:lnTo>
                  <a:lnTo>
                    <a:pt x="74" y="114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7" y="95"/>
                  </a:lnTo>
                  <a:lnTo>
                    <a:pt x="104" y="88"/>
                  </a:lnTo>
                  <a:lnTo>
                    <a:pt x="109" y="78"/>
                  </a:lnTo>
                  <a:lnTo>
                    <a:pt x="116" y="70"/>
                  </a:lnTo>
                  <a:lnTo>
                    <a:pt x="118" y="60"/>
                  </a:lnTo>
                  <a:lnTo>
                    <a:pt x="128" y="53"/>
                  </a:lnTo>
                  <a:lnTo>
                    <a:pt x="131" y="44"/>
                  </a:lnTo>
                  <a:lnTo>
                    <a:pt x="137" y="37"/>
                  </a:lnTo>
                  <a:lnTo>
                    <a:pt x="144" y="30"/>
                  </a:lnTo>
                  <a:lnTo>
                    <a:pt x="153" y="22"/>
                  </a:lnTo>
                  <a:lnTo>
                    <a:pt x="159" y="15"/>
                  </a:lnTo>
                  <a:lnTo>
                    <a:pt x="168" y="10"/>
                  </a:lnTo>
                  <a:lnTo>
                    <a:pt x="175" y="6"/>
                  </a:lnTo>
                  <a:lnTo>
                    <a:pt x="187" y="6"/>
                  </a:lnTo>
                  <a:lnTo>
                    <a:pt x="193" y="0"/>
                  </a:lnTo>
                  <a:lnTo>
                    <a:pt x="202" y="7"/>
                  </a:lnTo>
                  <a:lnTo>
                    <a:pt x="215" y="15"/>
                  </a:lnTo>
                  <a:lnTo>
                    <a:pt x="207" y="14"/>
                  </a:lnTo>
                  <a:lnTo>
                    <a:pt x="205" y="22"/>
                  </a:lnTo>
                  <a:lnTo>
                    <a:pt x="205" y="31"/>
                  </a:lnTo>
                  <a:lnTo>
                    <a:pt x="215" y="34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40" y="33"/>
                  </a:lnTo>
                  <a:lnTo>
                    <a:pt x="243" y="40"/>
                  </a:lnTo>
                  <a:lnTo>
                    <a:pt x="236" y="45"/>
                  </a:lnTo>
                  <a:lnTo>
                    <a:pt x="228" y="49"/>
                  </a:lnTo>
                  <a:lnTo>
                    <a:pt x="220" y="55"/>
                  </a:lnTo>
                  <a:lnTo>
                    <a:pt x="213" y="62"/>
                  </a:lnTo>
                  <a:lnTo>
                    <a:pt x="222" y="64"/>
                  </a:lnTo>
                  <a:lnTo>
                    <a:pt x="226" y="71"/>
                  </a:lnTo>
                  <a:lnTo>
                    <a:pt x="229" y="78"/>
                  </a:lnTo>
                  <a:lnTo>
                    <a:pt x="232" y="84"/>
                  </a:lnTo>
                  <a:lnTo>
                    <a:pt x="232" y="94"/>
                  </a:lnTo>
                  <a:lnTo>
                    <a:pt x="230" y="103"/>
                  </a:lnTo>
                  <a:lnTo>
                    <a:pt x="239" y="163"/>
                  </a:lnTo>
                  <a:lnTo>
                    <a:pt x="190" y="125"/>
                  </a:lnTo>
                  <a:lnTo>
                    <a:pt x="236" y="116"/>
                  </a:lnTo>
                  <a:lnTo>
                    <a:pt x="246" y="110"/>
                  </a:lnTo>
                  <a:lnTo>
                    <a:pt x="251" y="105"/>
                  </a:lnTo>
                  <a:lnTo>
                    <a:pt x="259" y="94"/>
                  </a:lnTo>
                  <a:lnTo>
                    <a:pt x="270" y="93"/>
                  </a:lnTo>
                  <a:lnTo>
                    <a:pt x="277" y="90"/>
                  </a:lnTo>
                  <a:lnTo>
                    <a:pt x="288" y="86"/>
                  </a:lnTo>
                  <a:lnTo>
                    <a:pt x="295" y="83"/>
                  </a:lnTo>
                  <a:lnTo>
                    <a:pt x="303" y="74"/>
                  </a:lnTo>
                  <a:lnTo>
                    <a:pt x="313" y="75"/>
                  </a:lnTo>
                  <a:lnTo>
                    <a:pt x="320" y="80"/>
                  </a:lnTo>
                  <a:lnTo>
                    <a:pt x="329" y="76"/>
                  </a:lnTo>
                  <a:lnTo>
                    <a:pt x="338" y="74"/>
                  </a:lnTo>
                  <a:lnTo>
                    <a:pt x="345" y="78"/>
                  </a:lnTo>
                  <a:lnTo>
                    <a:pt x="351" y="86"/>
                  </a:lnTo>
                  <a:lnTo>
                    <a:pt x="357" y="92"/>
                  </a:lnTo>
                  <a:lnTo>
                    <a:pt x="365" y="90"/>
                  </a:lnTo>
                  <a:lnTo>
                    <a:pt x="379" y="94"/>
                  </a:lnTo>
                  <a:lnTo>
                    <a:pt x="385" y="99"/>
                  </a:lnTo>
                  <a:lnTo>
                    <a:pt x="394" y="102"/>
                  </a:lnTo>
                  <a:lnTo>
                    <a:pt x="403" y="107"/>
                  </a:lnTo>
                  <a:lnTo>
                    <a:pt x="405" y="115"/>
                  </a:lnTo>
                  <a:lnTo>
                    <a:pt x="413" y="121"/>
                  </a:lnTo>
                  <a:lnTo>
                    <a:pt x="423" y="125"/>
                  </a:lnTo>
                  <a:lnTo>
                    <a:pt x="431" y="128"/>
                  </a:lnTo>
                  <a:lnTo>
                    <a:pt x="440" y="132"/>
                  </a:lnTo>
                  <a:lnTo>
                    <a:pt x="455" y="137"/>
                  </a:lnTo>
                  <a:lnTo>
                    <a:pt x="468" y="141"/>
                  </a:lnTo>
                  <a:lnTo>
                    <a:pt x="473" y="148"/>
                  </a:lnTo>
                  <a:lnTo>
                    <a:pt x="480" y="154"/>
                  </a:lnTo>
                  <a:lnTo>
                    <a:pt x="485" y="161"/>
                  </a:lnTo>
                  <a:lnTo>
                    <a:pt x="488" y="172"/>
                  </a:lnTo>
                  <a:lnTo>
                    <a:pt x="492" y="178"/>
                  </a:lnTo>
                  <a:lnTo>
                    <a:pt x="493" y="187"/>
                  </a:lnTo>
                  <a:lnTo>
                    <a:pt x="494" y="195"/>
                  </a:lnTo>
                  <a:lnTo>
                    <a:pt x="496" y="201"/>
                  </a:lnTo>
                  <a:lnTo>
                    <a:pt x="491" y="213"/>
                  </a:lnTo>
                  <a:lnTo>
                    <a:pt x="480" y="217"/>
                  </a:lnTo>
                  <a:lnTo>
                    <a:pt x="474" y="222"/>
                  </a:lnTo>
                  <a:lnTo>
                    <a:pt x="466" y="228"/>
                  </a:lnTo>
                  <a:lnTo>
                    <a:pt x="458" y="234"/>
                  </a:lnTo>
                  <a:lnTo>
                    <a:pt x="448" y="238"/>
                  </a:lnTo>
                  <a:lnTo>
                    <a:pt x="439" y="240"/>
                  </a:lnTo>
                  <a:lnTo>
                    <a:pt x="430" y="244"/>
                  </a:lnTo>
                  <a:lnTo>
                    <a:pt x="422" y="248"/>
                  </a:lnTo>
                  <a:lnTo>
                    <a:pt x="414" y="240"/>
                  </a:lnTo>
                  <a:lnTo>
                    <a:pt x="405" y="242"/>
                  </a:lnTo>
                  <a:lnTo>
                    <a:pt x="395" y="241"/>
                  </a:lnTo>
                  <a:lnTo>
                    <a:pt x="387" y="244"/>
                  </a:lnTo>
                  <a:lnTo>
                    <a:pt x="380" y="248"/>
                  </a:lnTo>
                  <a:lnTo>
                    <a:pt x="372" y="250"/>
                  </a:lnTo>
                  <a:lnTo>
                    <a:pt x="363" y="252"/>
                  </a:lnTo>
                  <a:lnTo>
                    <a:pt x="357" y="256"/>
                  </a:lnTo>
                  <a:lnTo>
                    <a:pt x="350" y="247"/>
                  </a:lnTo>
                  <a:lnTo>
                    <a:pt x="349" y="240"/>
                  </a:lnTo>
                  <a:lnTo>
                    <a:pt x="340" y="243"/>
                  </a:lnTo>
                  <a:lnTo>
                    <a:pt x="333" y="246"/>
                  </a:lnTo>
                  <a:lnTo>
                    <a:pt x="324" y="248"/>
                  </a:lnTo>
                  <a:lnTo>
                    <a:pt x="315" y="247"/>
                  </a:lnTo>
                  <a:lnTo>
                    <a:pt x="315" y="240"/>
                  </a:lnTo>
                  <a:lnTo>
                    <a:pt x="313" y="233"/>
                  </a:lnTo>
                  <a:lnTo>
                    <a:pt x="310" y="225"/>
                  </a:lnTo>
                  <a:lnTo>
                    <a:pt x="297" y="227"/>
                  </a:lnTo>
                  <a:lnTo>
                    <a:pt x="288" y="227"/>
                  </a:lnTo>
                  <a:lnTo>
                    <a:pt x="281" y="221"/>
                  </a:lnTo>
                  <a:lnTo>
                    <a:pt x="277" y="215"/>
                  </a:lnTo>
                  <a:lnTo>
                    <a:pt x="267" y="213"/>
                  </a:lnTo>
                  <a:lnTo>
                    <a:pt x="226" y="177"/>
                  </a:lnTo>
                  <a:lnTo>
                    <a:pt x="245" y="217"/>
                  </a:lnTo>
                  <a:lnTo>
                    <a:pt x="236" y="217"/>
                  </a:lnTo>
                  <a:lnTo>
                    <a:pt x="227" y="213"/>
                  </a:lnTo>
                  <a:lnTo>
                    <a:pt x="219" y="211"/>
                  </a:lnTo>
                  <a:lnTo>
                    <a:pt x="209" y="209"/>
                  </a:lnTo>
                  <a:lnTo>
                    <a:pt x="200" y="210"/>
                  </a:lnTo>
                  <a:lnTo>
                    <a:pt x="191" y="215"/>
                  </a:lnTo>
                  <a:lnTo>
                    <a:pt x="184" y="218"/>
                  </a:lnTo>
                  <a:lnTo>
                    <a:pt x="176" y="219"/>
                  </a:lnTo>
                  <a:lnTo>
                    <a:pt x="166" y="223"/>
                  </a:lnTo>
                  <a:lnTo>
                    <a:pt x="158" y="230"/>
                  </a:lnTo>
                  <a:lnTo>
                    <a:pt x="150" y="234"/>
                  </a:lnTo>
                  <a:lnTo>
                    <a:pt x="139" y="242"/>
                  </a:lnTo>
                  <a:lnTo>
                    <a:pt x="133" y="247"/>
                  </a:lnTo>
                  <a:lnTo>
                    <a:pt x="122" y="248"/>
                  </a:lnTo>
                  <a:lnTo>
                    <a:pt x="111" y="253"/>
                  </a:lnTo>
                  <a:lnTo>
                    <a:pt x="102" y="252"/>
                  </a:lnTo>
                  <a:lnTo>
                    <a:pt x="91" y="247"/>
                  </a:lnTo>
                  <a:lnTo>
                    <a:pt x="82" y="245"/>
                  </a:lnTo>
                  <a:lnTo>
                    <a:pt x="74" y="244"/>
                  </a:lnTo>
                  <a:lnTo>
                    <a:pt x="63" y="244"/>
                  </a:lnTo>
                  <a:lnTo>
                    <a:pt x="49" y="244"/>
                  </a:lnTo>
                  <a:lnTo>
                    <a:pt x="43" y="238"/>
                  </a:lnTo>
                  <a:lnTo>
                    <a:pt x="36" y="232"/>
                  </a:lnTo>
                  <a:lnTo>
                    <a:pt x="36" y="221"/>
                  </a:lnTo>
                  <a:lnTo>
                    <a:pt x="32" y="217"/>
                  </a:lnTo>
                  <a:lnTo>
                    <a:pt x="26" y="209"/>
                  </a:lnTo>
                  <a:lnTo>
                    <a:pt x="22" y="204"/>
                  </a:lnTo>
                  <a:lnTo>
                    <a:pt x="18" y="197"/>
                  </a:lnTo>
                  <a:lnTo>
                    <a:pt x="0" y="193"/>
                  </a:lnTo>
                  <a:lnTo>
                    <a:pt x="14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762120" y="3087720"/>
            <a:ext cx="790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16400" y="9907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8080" y="1676520"/>
            <a:ext cx="830592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Understanding the Health Effects of Particulate Air Pollution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Recent Advances and Outstanding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 Meeting for Members of Governmen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dustry and the 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Organized by WHO and HE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 cooperation with EC DG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russels , 6-7 March  20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447920" y="457200"/>
            <a:ext cx="6248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nouncement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0" name=""/>
          <p:cNvSpPr/>
          <p:nvPr/>
        </p:nvSpPr>
        <p:spPr>
          <a:xfrm>
            <a:off x="1296000" y="5791320"/>
            <a:ext cx="76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Information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mkr@who.nl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or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rokeefe@healtheffects.o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71760" y="380880"/>
            <a:ext cx="5927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d8a"/>
            </a:gs>
            <a:gs pos="50000">
              <a:srgbClr val="0f219b"/>
            </a:gs>
            <a:gs pos="100000">
              <a:srgbClr val="0d1d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8600" y="557280"/>
            <a:ext cx="8120160" cy="6118200"/>
            <a:chOff x="228600" y="557280"/>
            <a:chExt cx="8120160" cy="6118200"/>
          </a:xfrm>
        </p:grpSpPr>
        <p:sp>
          <p:nvSpPr>
            <p:cNvPr id="80" name=""/>
            <p:cNvSpPr/>
            <p:nvPr/>
          </p:nvSpPr>
          <p:spPr>
            <a:xfrm>
              <a:off x="2662200" y="20638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2" y="77"/>
                  </a:moveTo>
                  <a:lnTo>
                    <a:pt x="2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2" y="125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5" y="174"/>
                  </a:lnTo>
                  <a:lnTo>
                    <a:pt x="31" y="182"/>
                  </a:lnTo>
                  <a:lnTo>
                    <a:pt x="40" y="182"/>
                  </a:lnTo>
                  <a:lnTo>
                    <a:pt x="48" y="182"/>
                  </a:lnTo>
                  <a:lnTo>
                    <a:pt x="60" y="191"/>
                  </a:lnTo>
                  <a:lnTo>
                    <a:pt x="71" y="196"/>
                  </a:lnTo>
                  <a:lnTo>
                    <a:pt x="71" y="205"/>
                  </a:lnTo>
                  <a:lnTo>
                    <a:pt x="74" y="214"/>
                  </a:lnTo>
                  <a:lnTo>
                    <a:pt x="83" y="214"/>
                  </a:lnTo>
                  <a:lnTo>
                    <a:pt x="91" y="214"/>
                  </a:lnTo>
                  <a:lnTo>
                    <a:pt x="100" y="214"/>
                  </a:lnTo>
                  <a:lnTo>
                    <a:pt x="109" y="214"/>
                  </a:lnTo>
                  <a:lnTo>
                    <a:pt x="117" y="214"/>
                  </a:lnTo>
                  <a:lnTo>
                    <a:pt x="126" y="214"/>
                  </a:lnTo>
                  <a:lnTo>
                    <a:pt x="137" y="208"/>
                  </a:lnTo>
                  <a:lnTo>
                    <a:pt x="149" y="202"/>
                  </a:lnTo>
                  <a:lnTo>
                    <a:pt x="149" y="194"/>
                  </a:lnTo>
                  <a:lnTo>
                    <a:pt x="146" y="185"/>
                  </a:lnTo>
                  <a:lnTo>
                    <a:pt x="146" y="176"/>
                  </a:lnTo>
                  <a:lnTo>
                    <a:pt x="155" y="168"/>
                  </a:lnTo>
                  <a:lnTo>
                    <a:pt x="158" y="159"/>
                  </a:lnTo>
                  <a:lnTo>
                    <a:pt x="158" y="151"/>
                  </a:lnTo>
                  <a:lnTo>
                    <a:pt x="155" y="142"/>
                  </a:lnTo>
                  <a:lnTo>
                    <a:pt x="155" y="134"/>
                  </a:lnTo>
                  <a:lnTo>
                    <a:pt x="146" y="134"/>
                  </a:lnTo>
                  <a:lnTo>
                    <a:pt x="137" y="134"/>
                  </a:lnTo>
                  <a:lnTo>
                    <a:pt x="135" y="125"/>
                  </a:lnTo>
                  <a:lnTo>
                    <a:pt x="129" y="116"/>
                  </a:lnTo>
                  <a:lnTo>
                    <a:pt x="120" y="114"/>
                  </a:lnTo>
                  <a:lnTo>
                    <a:pt x="114" y="105"/>
                  </a:lnTo>
                  <a:lnTo>
                    <a:pt x="114" y="97"/>
                  </a:lnTo>
                  <a:lnTo>
                    <a:pt x="106" y="94"/>
                  </a:lnTo>
                  <a:lnTo>
                    <a:pt x="97" y="94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89" y="71"/>
                  </a:lnTo>
                  <a:lnTo>
                    <a:pt x="80" y="68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83" y="45"/>
                  </a:lnTo>
                  <a:lnTo>
                    <a:pt x="94" y="45"/>
                  </a:lnTo>
                  <a:lnTo>
                    <a:pt x="103" y="39"/>
                  </a:lnTo>
                  <a:lnTo>
                    <a:pt x="106" y="31"/>
                  </a:lnTo>
                  <a:lnTo>
                    <a:pt x="103" y="22"/>
                  </a:lnTo>
                  <a:lnTo>
                    <a:pt x="94" y="22"/>
                  </a:lnTo>
                  <a:lnTo>
                    <a:pt x="86" y="14"/>
                  </a:lnTo>
                  <a:lnTo>
                    <a:pt x="77" y="11"/>
                  </a:lnTo>
                  <a:lnTo>
                    <a:pt x="68" y="11"/>
                  </a:lnTo>
                  <a:lnTo>
                    <a:pt x="54" y="0"/>
                  </a:lnTo>
                  <a:lnTo>
                    <a:pt x="51" y="8"/>
                  </a:lnTo>
                  <a:lnTo>
                    <a:pt x="60" y="14"/>
                  </a:lnTo>
                  <a:lnTo>
                    <a:pt x="63" y="22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7" y="45"/>
                  </a:lnTo>
                  <a:lnTo>
                    <a:pt x="45" y="45"/>
                  </a:lnTo>
                  <a:lnTo>
                    <a:pt x="40" y="37"/>
                  </a:lnTo>
                  <a:lnTo>
                    <a:pt x="34" y="28"/>
                  </a:lnTo>
                  <a:lnTo>
                    <a:pt x="31" y="37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5" y="62"/>
                  </a:lnTo>
                  <a:lnTo>
                    <a:pt x="17" y="68"/>
                  </a:lnTo>
                  <a:lnTo>
                    <a:pt x="2" y="77"/>
                  </a:lnTo>
                  <a:lnTo>
                    <a:pt x="2" y="7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85760" y="557280"/>
              <a:ext cx="6975720" cy="5226120"/>
            </a:xfrm>
            <a:custGeom>
              <a:avLst/>
              <a:gdLst/>
              <a:ahLst/>
              <a:rect l="l" t="t" r="r" b="b"/>
              <a:pathLst>
                <a:path w="4394" h="3292">
                  <a:moveTo>
                    <a:pt x="4183" y="665"/>
                  </a:moveTo>
                  <a:lnTo>
                    <a:pt x="4174" y="685"/>
                  </a:lnTo>
                  <a:lnTo>
                    <a:pt x="4165" y="680"/>
                  </a:lnTo>
                  <a:lnTo>
                    <a:pt x="4154" y="671"/>
                  </a:lnTo>
                  <a:lnTo>
                    <a:pt x="4145" y="665"/>
                  </a:lnTo>
                  <a:lnTo>
                    <a:pt x="4136" y="657"/>
                  </a:lnTo>
                  <a:lnTo>
                    <a:pt x="4128" y="648"/>
                  </a:lnTo>
                  <a:lnTo>
                    <a:pt x="4122" y="639"/>
                  </a:lnTo>
                  <a:lnTo>
                    <a:pt x="4110" y="631"/>
                  </a:lnTo>
                  <a:lnTo>
                    <a:pt x="4104" y="622"/>
                  </a:lnTo>
                  <a:lnTo>
                    <a:pt x="4098" y="613"/>
                  </a:lnTo>
                  <a:lnTo>
                    <a:pt x="4093" y="605"/>
                  </a:lnTo>
                  <a:lnTo>
                    <a:pt x="4084" y="596"/>
                  </a:lnTo>
                  <a:lnTo>
                    <a:pt x="4075" y="593"/>
                  </a:lnTo>
                  <a:lnTo>
                    <a:pt x="4066" y="590"/>
                  </a:lnTo>
                  <a:lnTo>
                    <a:pt x="4058" y="587"/>
                  </a:lnTo>
                  <a:lnTo>
                    <a:pt x="4049" y="585"/>
                  </a:lnTo>
                  <a:lnTo>
                    <a:pt x="4037" y="585"/>
                  </a:lnTo>
                  <a:lnTo>
                    <a:pt x="4029" y="582"/>
                  </a:lnTo>
                  <a:lnTo>
                    <a:pt x="4023" y="573"/>
                  </a:lnTo>
                  <a:lnTo>
                    <a:pt x="4020" y="564"/>
                  </a:lnTo>
                  <a:lnTo>
                    <a:pt x="4011" y="556"/>
                  </a:lnTo>
                  <a:lnTo>
                    <a:pt x="4002" y="550"/>
                  </a:lnTo>
                  <a:lnTo>
                    <a:pt x="4002" y="541"/>
                  </a:lnTo>
                  <a:lnTo>
                    <a:pt x="3994" y="538"/>
                  </a:lnTo>
                  <a:lnTo>
                    <a:pt x="3982" y="538"/>
                  </a:lnTo>
                  <a:lnTo>
                    <a:pt x="3973" y="538"/>
                  </a:lnTo>
                  <a:lnTo>
                    <a:pt x="3965" y="538"/>
                  </a:lnTo>
                  <a:lnTo>
                    <a:pt x="3953" y="538"/>
                  </a:lnTo>
                  <a:lnTo>
                    <a:pt x="3947" y="530"/>
                  </a:lnTo>
                  <a:lnTo>
                    <a:pt x="3947" y="521"/>
                  </a:lnTo>
                  <a:lnTo>
                    <a:pt x="3938" y="512"/>
                  </a:lnTo>
                  <a:lnTo>
                    <a:pt x="3930" y="504"/>
                  </a:lnTo>
                  <a:lnTo>
                    <a:pt x="3930" y="495"/>
                  </a:lnTo>
                  <a:lnTo>
                    <a:pt x="3927" y="484"/>
                  </a:lnTo>
                  <a:lnTo>
                    <a:pt x="3918" y="481"/>
                  </a:lnTo>
                  <a:lnTo>
                    <a:pt x="3909" y="481"/>
                  </a:lnTo>
                  <a:lnTo>
                    <a:pt x="3901" y="481"/>
                  </a:lnTo>
                  <a:lnTo>
                    <a:pt x="3892" y="481"/>
                  </a:lnTo>
                  <a:lnTo>
                    <a:pt x="3883" y="481"/>
                  </a:lnTo>
                  <a:lnTo>
                    <a:pt x="3871" y="481"/>
                  </a:lnTo>
                  <a:lnTo>
                    <a:pt x="3863" y="481"/>
                  </a:lnTo>
                  <a:lnTo>
                    <a:pt x="3851" y="478"/>
                  </a:lnTo>
                  <a:lnTo>
                    <a:pt x="3842" y="472"/>
                  </a:lnTo>
                  <a:lnTo>
                    <a:pt x="3842" y="463"/>
                  </a:lnTo>
                  <a:lnTo>
                    <a:pt x="3842" y="455"/>
                  </a:lnTo>
                  <a:lnTo>
                    <a:pt x="3834" y="446"/>
                  </a:lnTo>
                  <a:lnTo>
                    <a:pt x="3825" y="446"/>
                  </a:lnTo>
                  <a:lnTo>
                    <a:pt x="3819" y="455"/>
                  </a:lnTo>
                  <a:lnTo>
                    <a:pt x="3810" y="458"/>
                  </a:lnTo>
                  <a:lnTo>
                    <a:pt x="3802" y="461"/>
                  </a:lnTo>
                  <a:lnTo>
                    <a:pt x="3793" y="461"/>
                  </a:lnTo>
                  <a:lnTo>
                    <a:pt x="3784" y="461"/>
                  </a:lnTo>
                  <a:lnTo>
                    <a:pt x="3775" y="461"/>
                  </a:lnTo>
                  <a:lnTo>
                    <a:pt x="3764" y="455"/>
                  </a:lnTo>
                  <a:lnTo>
                    <a:pt x="3755" y="452"/>
                  </a:lnTo>
                  <a:lnTo>
                    <a:pt x="3752" y="461"/>
                  </a:lnTo>
                  <a:lnTo>
                    <a:pt x="3755" y="469"/>
                  </a:lnTo>
                  <a:lnTo>
                    <a:pt x="3764" y="472"/>
                  </a:lnTo>
                  <a:lnTo>
                    <a:pt x="3755" y="475"/>
                  </a:lnTo>
                  <a:lnTo>
                    <a:pt x="3746" y="475"/>
                  </a:lnTo>
                  <a:lnTo>
                    <a:pt x="3737" y="478"/>
                  </a:lnTo>
                  <a:lnTo>
                    <a:pt x="3729" y="478"/>
                  </a:lnTo>
                  <a:lnTo>
                    <a:pt x="3720" y="478"/>
                  </a:lnTo>
                  <a:lnTo>
                    <a:pt x="3711" y="472"/>
                  </a:lnTo>
                  <a:lnTo>
                    <a:pt x="3703" y="463"/>
                  </a:lnTo>
                  <a:lnTo>
                    <a:pt x="3694" y="455"/>
                  </a:lnTo>
                  <a:lnTo>
                    <a:pt x="3685" y="452"/>
                  </a:lnTo>
                  <a:lnTo>
                    <a:pt x="3676" y="452"/>
                  </a:lnTo>
                  <a:lnTo>
                    <a:pt x="3668" y="449"/>
                  </a:lnTo>
                  <a:lnTo>
                    <a:pt x="3656" y="449"/>
                  </a:lnTo>
                  <a:lnTo>
                    <a:pt x="3647" y="449"/>
                  </a:lnTo>
                  <a:lnTo>
                    <a:pt x="3638" y="449"/>
                  </a:lnTo>
                  <a:lnTo>
                    <a:pt x="3636" y="440"/>
                  </a:lnTo>
                  <a:lnTo>
                    <a:pt x="3636" y="432"/>
                  </a:lnTo>
                  <a:lnTo>
                    <a:pt x="3630" y="423"/>
                  </a:lnTo>
                  <a:lnTo>
                    <a:pt x="3638" y="423"/>
                  </a:lnTo>
                  <a:lnTo>
                    <a:pt x="3636" y="414"/>
                  </a:lnTo>
                  <a:lnTo>
                    <a:pt x="3627" y="412"/>
                  </a:lnTo>
                  <a:lnTo>
                    <a:pt x="3618" y="409"/>
                  </a:lnTo>
                  <a:lnTo>
                    <a:pt x="3615" y="400"/>
                  </a:lnTo>
                  <a:lnTo>
                    <a:pt x="3609" y="391"/>
                  </a:lnTo>
                  <a:lnTo>
                    <a:pt x="3618" y="391"/>
                  </a:lnTo>
                  <a:lnTo>
                    <a:pt x="3627" y="391"/>
                  </a:lnTo>
                  <a:lnTo>
                    <a:pt x="3633" y="383"/>
                  </a:lnTo>
                  <a:lnTo>
                    <a:pt x="3624" y="377"/>
                  </a:lnTo>
                  <a:lnTo>
                    <a:pt x="3615" y="374"/>
                  </a:lnTo>
                  <a:lnTo>
                    <a:pt x="3606" y="363"/>
                  </a:lnTo>
                  <a:lnTo>
                    <a:pt x="3604" y="354"/>
                  </a:lnTo>
                  <a:lnTo>
                    <a:pt x="3598" y="345"/>
                  </a:lnTo>
                  <a:lnTo>
                    <a:pt x="3592" y="337"/>
                  </a:lnTo>
                  <a:lnTo>
                    <a:pt x="3583" y="322"/>
                  </a:lnTo>
                  <a:lnTo>
                    <a:pt x="3577" y="314"/>
                  </a:lnTo>
                  <a:lnTo>
                    <a:pt x="3586" y="305"/>
                  </a:lnTo>
                  <a:lnTo>
                    <a:pt x="3592" y="296"/>
                  </a:lnTo>
                  <a:lnTo>
                    <a:pt x="3595" y="288"/>
                  </a:lnTo>
                  <a:lnTo>
                    <a:pt x="3595" y="279"/>
                  </a:lnTo>
                  <a:lnTo>
                    <a:pt x="3586" y="276"/>
                  </a:lnTo>
                  <a:lnTo>
                    <a:pt x="3577" y="276"/>
                  </a:lnTo>
                  <a:lnTo>
                    <a:pt x="3569" y="276"/>
                  </a:lnTo>
                  <a:lnTo>
                    <a:pt x="3557" y="270"/>
                  </a:lnTo>
                  <a:lnTo>
                    <a:pt x="3548" y="259"/>
                  </a:lnTo>
                  <a:lnTo>
                    <a:pt x="3540" y="253"/>
                  </a:lnTo>
                  <a:lnTo>
                    <a:pt x="3531" y="250"/>
                  </a:lnTo>
                  <a:lnTo>
                    <a:pt x="3522" y="244"/>
                  </a:lnTo>
                  <a:lnTo>
                    <a:pt x="3510" y="236"/>
                  </a:lnTo>
                  <a:lnTo>
                    <a:pt x="3502" y="233"/>
                  </a:lnTo>
                  <a:lnTo>
                    <a:pt x="3493" y="227"/>
                  </a:lnTo>
                  <a:lnTo>
                    <a:pt x="3484" y="224"/>
                  </a:lnTo>
                  <a:lnTo>
                    <a:pt x="3475" y="219"/>
                  </a:lnTo>
                  <a:lnTo>
                    <a:pt x="3467" y="213"/>
                  </a:lnTo>
                  <a:lnTo>
                    <a:pt x="3458" y="207"/>
                  </a:lnTo>
                  <a:lnTo>
                    <a:pt x="3449" y="198"/>
                  </a:lnTo>
                  <a:lnTo>
                    <a:pt x="3441" y="193"/>
                  </a:lnTo>
                  <a:lnTo>
                    <a:pt x="3432" y="187"/>
                  </a:lnTo>
                  <a:lnTo>
                    <a:pt x="3423" y="184"/>
                  </a:lnTo>
                  <a:lnTo>
                    <a:pt x="3414" y="178"/>
                  </a:lnTo>
                  <a:lnTo>
                    <a:pt x="3406" y="172"/>
                  </a:lnTo>
                  <a:lnTo>
                    <a:pt x="3400" y="164"/>
                  </a:lnTo>
                  <a:lnTo>
                    <a:pt x="3397" y="155"/>
                  </a:lnTo>
                  <a:lnTo>
                    <a:pt x="3394" y="146"/>
                  </a:lnTo>
                  <a:lnTo>
                    <a:pt x="3388" y="138"/>
                  </a:lnTo>
                  <a:lnTo>
                    <a:pt x="3382" y="129"/>
                  </a:lnTo>
                  <a:lnTo>
                    <a:pt x="3388" y="121"/>
                  </a:lnTo>
                  <a:lnTo>
                    <a:pt x="3379" y="121"/>
                  </a:lnTo>
                  <a:lnTo>
                    <a:pt x="3371" y="121"/>
                  </a:lnTo>
                  <a:lnTo>
                    <a:pt x="3362" y="121"/>
                  </a:lnTo>
                  <a:lnTo>
                    <a:pt x="3359" y="129"/>
                  </a:lnTo>
                  <a:lnTo>
                    <a:pt x="3353" y="138"/>
                  </a:lnTo>
                  <a:lnTo>
                    <a:pt x="3347" y="146"/>
                  </a:lnTo>
                  <a:lnTo>
                    <a:pt x="3339" y="152"/>
                  </a:lnTo>
                  <a:lnTo>
                    <a:pt x="3327" y="158"/>
                  </a:lnTo>
                  <a:lnTo>
                    <a:pt x="3318" y="158"/>
                  </a:lnTo>
                  <a:lnTo>
                    <a:pt x="3310" y="167"/>
                  </a:lnTo>
                  <a:lnTo>
                    <a:pt x="3307" y="175"/>
                  </a:lnTo>
                  <a:lnTo>
                    <a:pt x="3307" y="184"/>
                  </a:lnTo>
                  <a:lnTo>
                    <a:pt x="3304" y="193"/>
                  </a:lnTo>
                  <a:lnTo>
                    <a:pt x="3295" y="195"/>
                  </a:lnTo>
                  <a:lnTo>
                    <a:pt x="3295" y="204"/>
                  </a:lnTo>
                  <a:lnTo>
                    <a:pt x="3298" y="213"/>
                  </a:lnTo>
                  <a:lnTo>
                    <a:pt x="3304" y="221"/>
                  </a:lnTo>
                  <a:lnTo>
                    <a:pt x="3310" y="230"/>
                  </a:lnTo>
                  <a:lnTo>
                    <a:pt x="3315" y="239"/>
                  </a:lnTo>
                  <a:lnTo>
                    <a:pt x="3318" y="250"/>
                  </a:lnTo>
                  <a:lnTo>
                    <a:pt x="3321" y="259"/>
                  </a:lnTo>
                  <a:lnTo>
                    <a:pt x="3321" y="247"/>
                  </a:lnTo>
                  <a:lnTo>
                    <a:pt x="3318" y="239"/>
                  </a:lnTo>
                  <a:lnTo>
                    <a:pt x="3315" y="230"/>
                  </a:lnTo>
                  <a:lnTo>
                    <a:pt x="3307" y="224"/>
                  </a:lnTo>
                  <a:lnTo>
                    <a:pt x="3298" y="216"/>
                  </a:lnTo>
                  <a:lnTo>
                    <a:pt x="3292" y="207"/>
                  </a:lnTo>
                  <a:lnTo>
                    <a:pt x="3292" y="198"/>
                  </a:lnTo>
                  <a:lnTo>
                    <a:pt x="3295" y="190"/>
                  </a:lnTo>
                  <a:lnTo>
                    <a:pt x="3292" y="181"/>
                  </a:lnTo>
                  <a:lnTo>
                    <a:pt x="3283" y="172"/>
                  </a:lnTo>
                  <a:lnTo>
                    <a:pt x="3275" y="170"/>
                  </a:lnTo>
                  <a:lnTo>
                    <a:pt x="3266" y="164"/>
                  </a:lnTo>
                  <a:lnTo>
                    <a:pt x="3257" y="161"/>
                  </a:lnTo>
                  <a:lnTo>
                    <a:pt x="3245" y="155"/>
                  </a:lnTo>
                  <a:lnTo>
                    <a:pt x="3237" y="155"/>
                  </a:lnTo>
                  <a:lnTo>
                    <a:pt x="3228" y="155"/>
                  </a:lnTo>
                  <a:lnTo>
                    <a:pt x="3219" y="155"/>
                  </a:lnTo>
                  <a:lnTo>
                    <a:pt x="3213" y="164"/>
                  </a:lnTo>
                  <a:lnTo>
                    <a:pt x="3208" y="172"/>
                  </a:lnTo>
                  <a:lnTo>
                    <a:pt x="3196" y="175"/>
                  </a:lnTo>
                  <a:lnTo>
                    <a:pt x="3184" y="175"/>
                  </a:lnTo>
                  <a:lnTo>
                    <a:pt x="3173" y="175"/>
                  </a:lnTo>
                  <a:lnTo>
                    <a:pt x="3167" y="167"/>
                  </a:lnTo>
                  <a:lnTo>
                    <a:pt x="3179" y="161"/>
                  </a:lnTo>
                  <a:lnTo>
                    <a:pt x="3187" y="161"/>
                  </a:lnTo>
                  <a:lnTo>
                    <a:pt x="3196" y="161"/>
                  </a:lnTo>
                  <a:lnTo>
                    <a:pt x="3205" y="155"/>
                  </a:lnTo>
                  <a:lnTo>
                    <a:pt x="3208" y="146"/>
                  </a:lnTo>
                  <a:lnTo>
                    <a:pt x="3208" y="138"/>
                  </a:lnTo>
                  <a:lnTo>
                    <a:pt x="3205" y="129"/>
                  </a:lnTo>
                  <a:lnTo>
                    <a:pt x="3199" y="121"/>
                  </a:lnTo>
                  <a:lnTo>
                    <a:pt x="3190" y="112"/>
                  </a:lnTo>
                  <a:lnTo>
                    <a:pt x="3184" y="103"/>
                  </a:lnTo>
                  <a:lnTo>
                    <a:pt x="3193" y="97"/>
                  </a:lnTo>
                  <a:lnTo>
                    <a:pt x="3202" y="92"/>
                  </a:lnTo>
                  <a:lnTo>
                    <a:pt x="3205" y="83"/>
                  </a:lnTo>
                  <a:lnTo>
                    <a:pt x="3208" y="74"/>
                  </a:lnTo>
                  <a:lnTo>
                    <a:pt x="3208" y="66"/>
                  </a:lnTo>
                  <a:lnTo>
                    <a:pt x="3202" y="57"/>
                  </a:lnTo>
                  <a:lnTo>
                    <a:pt x="3199" y="48"/>
                  </a:lnTo>
                  <a:lnTo>
                    <a:pt x="3199" y="40"/>
                  </a:lnTo>
                  <a:lnTo>
                    <a:pt x="3199" y="31"/>
                  </a:lnTo>
                  <a:lnTo>
                    <a:pt x="3196" y="23"/>
                  </a:lnTo>
                  <a:lnTo>
                    <a:pt x="3190" y="14"/>
                  </a:lnTo>
                  <a:lnTo>
                    <a:pt x="3184" y="5"/>
                  </a:lnTo>
                  <a:lnTo>
                    <a:pt x="3176" y="0"/>
                  </a:lnTo>
                  <a:lnTo>
                    <a:pt x="3167" y="2"/>
                  </a:lnTo>
                  <a:lnTo>
                    <a:pt x="3158" y="8"/>
                  </a:lnTo>
                  <a:lnTo>
                    <a:pt x="3149" y="14"/>
                  </a:lnTo>
                  <a:lnTo>
                    <a:pt x="3141" y="17"/>
                  </a:lnTo>
                  <a:lnTo>
                    <a:pt x="3132" y="23"/>
                  </a:lnTo>
                  <a:lnTo>
                    <a:pt x="3132" y="31"/>
                  </a:lnTo>
                  <a:lnTo>
                    <a:pt x="3123" y="25"/>
                  </a:lnTo>
                  <a:lnTo>
                    <a:pt x="3114" y="17"/>
                  </a:lnTo>
                  <a:lnTo>
                    <a:pt x="3106" y="14"/>
                  </a:lnTo>
                  <a:lnTo>
                    <a:pt x="3097" y="14"/>
                  </a:lnTo>
                  <a:lnTo>
                    <a:pt x="3088" y="14"/>
                  </a:lnTo>
                  <a:lnTo>
                    <a:pt x="3080" y="14"/>
                  </a:lnTo>
                  <a:lnTo>
                    <a:pt x="3071" y="14"/>
                  </a:lnTo>
                  <a:lnTo>
                    <a:pt x="3071" y="23"/>
                  </a:lnTo>
                  <a:lnTo>
                    <a:pt x="3071" y="31"/>
                  </a:lnTo>
                  <a:lnTo>
                    <a:pt x="3071" y="40"/>
                  </a:lnTo>
                  <a:lnTo>
                    <a:pt x="3068" y="48"/>
                  </a:lnTo>
                  <a:lnTo>
                    <a:pt x="3062" y="57"/>
                  </a:lnTo>
                  <a:lnTo>
                    <a:pt x="3059" y="66"/>
                  </a:lnTo>
                  <a:lnTo>
                    <a:pt x="3059" y="74"/>
                  </a:lnTo>
                  <a:lnTo>
                    <a:pt x="3059" y="83"/>
                  </a:lnTo>
                  <a:lnTo>
                    <a:pt x="3068" y="89"/>
                  </a:lnTo>
                  <a:lnTo>
                    <a:pt x="3077" y="92"/>
                  </a:lnTo>
                  <a:lnTo>
                    <a:pt x="3085" y="97"/>
                  </a:lnTo>
                  <a:lnTo>
                    <a:pt x="3097" y="103"/>
                  </a:lnTo>
                  <a:lnTo>
                    <a:pt x="3106" y="103"/>
                  </a:lnTo>
                  <a:lnTo>
                    <a:pt x="3114" y="103"/>
                  </a:lnTo>
                  <a:lnTo>
                    <a:pt x="3114" y="95"/>
                  </a:lnTo>
                  <a:lnTo>
                    <a:pt x="3123" y="95"/>
                  </a:lnTo>
                  <a:lnTo>
                    <a:pt x="3114" y="103"/>
                  </a:lnTo>
                  <a:lnTo>
                    <a:pt x="3106" y="103"/>
                  </a:lnTo>
                  <a:lnTo>
                    <a:pt x="3097" y="103"/>
                  </a:lnTo>
                  <a:lnTo>
                    <a:pt x="3088" y="109"/>
                  </a:lnTo>
                  <a:lnTo>
                    <a:pt x="3085" y="118"/>
                  </a:lnTo>
                  <a:lnTo>
                    <a:pt x="3085" y="126"/>
                  </a:lnTo>
                  <a:lnTo>
                    <a:pt x="3080" y="135"/>
                  </a:lnTo>
                  <a:lnTo>
                    <a:pt x="3088" y="138"/>
                  </a:lnTo>
                  <a:lnTo>
                    <a:pt x="3082" y="146"/>
                  </a:lnTo>
                  <a:lnTo>
                    <a:pt x="3080" y="155"/>
                  </a:lnTo>
                  <a:lnTo>
                    <a:pt x="3074" y="164"/>
                  </a:lnTo>
                  <a:lnTo>
                    <a:pt x="3074" y="172"/>
                  </a:lnTo>
                  <a:lnTo>
                    <a:pt x="3074" y="181"/>
                  </a:lnTo>
                  <a:lnTo>
                    <a:pt x="3074" y="190"/>
                  </a:lnTo>
                  <a:lnTo>
                    <a:pt x="3085" y="190"/>
                  </a:lnTo>
                  <a:lnTo>
                    <a:pt x="3094" y="190"/>
                  </a:lnTo>
                  <a:lnTo>
                    <a:pt x="3088" y="198"/>
                  </a:lnTo>
                  <a:lnTo>
                    <a:pt x="3080" y="204"/>
                  </a:lnTo>
                  <a:lnTo>
                    <a:pt x="3074" y="213"/>
                  </a:lnTo>
                  <a:lnTo>
                    <a:pt x="3071" y="221"/>
                  </a:lnTo>
                  <a:lnTo>
                    <a:pt x="3071" y="230"/>
                  </a:lnTo>
                  <a:lnTo>
                    <a:pt x="3071" y="239"/>
                  </a:lnTo>
                  <a:lnTo>
                    <a:pt x="3068" y="247"/>
                  </a:lnTo>
                  <a:lnTo>
                    <a:pt x="3062" y="256"/>
                  </a:lnTo>
                  <a:lnTo>
                    <a:pt x="3059" y="265"/>
                  </a:lnTo>
                  <a:lnTo>
                    <a:pt x="3059" y="273"/>
                  </a:lnTo>
                  <a:lnTo>
                    <a:pt x="3059" y="282"/>
                  </a:lnTo>
                  <a:lnTo>
                    <a:pt x="3059" y="291"/>
                  </a:lnTo>
                  <a:lnTo>
                    <a:pt x="3059" y="299"/>
                  </a:lnTo>
                  <a:lnTo>
                    <a:pt x="3059" y="311"/>
                  </a:lnTo>
                  <a:lnTo>
                    <a:pt x="3065" y="319"/>
                  </a:lnTo>
                  <a:lnTo>
                    <a:pt x="3074" y="325"/>
                  </a:lnTo>
                  <a:lnTo>
                    <a:pt x="3082" y="328"/>
                  </a:lnTo>
                  <a:lnTo>
                    <a:pt x="3082" y="337"/>
                  </a:lnTo>
                  <a:lnTo>
                    <a:pt x="3082" y="345"/>
                  </a:lnTo>
                  <a:lnTo>
                    <a:pt x="3085" y="354"/>
                  </a:lnTo>
                  <a:lnTo>
                    <a:pt x="3085" y="363"/>
                  </a:lnTo>
                  <a:lnTo>
                    <a:pt x="3088" y="371"/>
                  </a:lnTo>
                  <a:lnTo>
                    <a:pt x="3088" y="380"/>
                  </a:lnTo>
                  <a:lnTo>
                    <a:pt x="3091" y="389"/>
                  </a:lnTo>
                  <a:lnTo>
                    <a:pt x="3094" y="397"/>
                  </a:lnTo>
                  <a:lnTo>
                    <a:pt x="3097" y="406"/>
                  </a:lnTo>
                  <a:lnTo>
                    <a:pt x="3109" y="412"/>
                  </a:lnTo>
                  <a:lnTo>
                    <a:pt x="3117" y="412"/>
                  </a:lnTo>
                  <a:lnTo>
                    <a:pt x="3126" y="412"/>
                  </a:lnTo>
                  <a:lnTo>
                    <a:pt x="3135" y="412"/>
                  </a:lnTo>
                  <a:lnTo>
                    <a:pt x="3135" y="403"/>
                  </a:lnTo>
                  <a:lnTo>
                    <a:pt x="3138" y="394"/>
                  </a:lnTo>
                  <a:lnTo>
                    <a:pt x="3147" y="391"/>
                  </a:lnTo>
                  <a:lnTo>
                    <a:pt x="3155" y="391"/>
                  </a:lnTo>
                  <a:lnTo>
                    <a:pt x="3164" y="394"/>
                  </a:lnTo>
                  <a:lnTo>
                    <a:pt x="3167" y="403"/>
                  </a:lnTo>
                  <a:lnTo>
                    <a:pt x="3167" y="412"/>
                  </a:lnTo>
                  <a:lnTo>
                    <a:pt x="3164" y="420"/>
                  </a:lnTo>
                  <a:lnTo>
                    <a:pt x="3155" y="423"/>
                  </a:lnTo>
                  <a:lnTo>
                    <a:pt x="3152" y="432"/>
                  </a:lnTo>
                  <a:lnTo>
                    <a:pt x="3144" y="438"/>
                  </a:lnTo>
                  <a:lnTo>
                    <a:pt x="3138" y="429"/>
                  </a:lnTo>
                  <a:lnTo>
                    <a:pt x="3129" y="420"/>
                  </a:lnTo>
                  <a:lnTo>
                    <a:pt x="3120" y="420"/>
                  </a:lnTo>
                  <a:lnTo>
                    <a:pt x="3114" y="429"/>
                  </a:lnTo>
                  <a:lnTo>
                    <a:pt x="3114" y="438"/>
                  </a:lnTo>
                  <a:lnTo>
                    <a:pt x="3114" y="446"/>
                  </a:lnTo>
                  <a:lnTo>
                    <a:pt x="3123" y="452"/>
                  </a:lnTo>
                  <a:lnTo>
                    <a:pt x="3132" y="452"/>
                  </a:lnTo>
                  <a:lnTo>
                    <a:pt x="3141" y="452"/>
                  </a:lnTo>
                  <a:lnTo>
                    <a:pt x="3135" y="461"/>
                  </a:lnTo>
                  <a:lnTo>
                    <a:pt x="3138" y="469"/>
                  </a:lnTo>
                  <a:lnTo>
                    <a:pt x="3147" y="472"/>
                  </a:lnTo>
                  <a:lnTo>
                    <a:pt x="3147" y="463"/>
                  </a:lnTo>
                  <a:lnTo>
                    <a:pt x="3144" y="455"/>
                  </a:lnTo>
                  <a:lnTo>
                    <a:pt x="3144" y="466"/>
                  </a:lnTo>
                  <a:lnTo>
                    <a:pt x="3144" y="475"/>
                  </a:lnTo>
                  <a:lnTo>
                    <a:pt x="3144" y="484"/>
                  </a:lnTo>
                  <a:lnTo>
                    <a:pt x="3144" y="492"/>
                  </a:lnTo>
                  <a:lnTo>
                    <a:pt x="3144" y="501"/>
                  </a:lnTo>
                  <a:lnTo>
                    <a:pt x="3144" y="510"/>
                  </a:lnTo>
                  <a:lnTo>
                    <a:pt x="3152" y="518"/>
                  </a:lnTo>
                  <a:lnTo>
                    <a:pt x="3161" y="527"/>
                  </a:lnTo>
                  <a:lnTo>
                    <a:pt x="3167" y="538"/>
                  </a:lnTo>
                  <a:lnTo>
                    <a:pt x="3176" y="544"/>
                  </a:lnTo>
                  <a:lnTo>
                    <a:pt x="3184" y="550"/>
                  </a:lnTo>
                  <a:lnTo>
                    <a:pt x="3196" y="550"/>
                  </a:lnTo>
                  <a:lnTo>
                    <a:pt x="3205" y="550"/>
                  </a:lnTo>
                  <a:lnTo>
                    <a:pt x="3213" y="550"/>
                  </a:lnTo>
                  <a:lnTo>
                    <a:pt x="3205" y="550"/>
                  </a:lnTo>
                  <a:lnTo>
                    <a:pt x="3193" y="550"/>
                  </a:lnTo>
                  <a:lnTo>
                    <a:pt x="3184" y="553"/>
                  </a:lnTo>
                  <a:lnTo>
                    <a:pt x="3179" y="561"/>
                  </a:lnTo>
                  <a:lnTo>
                    <a:pt x="3176" y="570"/>
                  </a:lnTo>
                  <a:lnTo>
                    <a:pt x="3173" y="579"/>
                  </a:lnTo>
                  <a:lnTo>
                    <a:pt x="3164" y="582"/>
                  </a:lnTo>
                  <a:lnTo>
                    <a:pt x="3155" y="582"/>
                  </a:lnTo>
                  <a:lnTo>
                    <a:pt x="3147" y="582"/>
                  </a:lnTo>
                  <a:lnTo>
                    <a:pt x="3132" y="576"/>
                  </a:lnTo>
                  <a:lnTo>
                    <a:pt x="3120" y="576"/>
                  </a:lnTo>
                  <a:lnTo>
                    <a:pt x="3109" y="576"/>
                  </a:lnTo>
                  <a:lnTo>
                    <a:pt x="3103" y="585"/>
                  </a:lnTo>
                  <a:lnTo>
                    <a:pt x="3100" y="593"/>
                  </a:lnTo>
                  <a:lnTo>
                    <a:pt x="3100" y="602"/>
                  </a:lnTo>
                  <a:lnTo>
                    <a:pt x="3100" y="610"/>
                  </a:lnTo>
                  <a:lnTo>
                    <a:pt x="3100" y="619"/>
                  </a:lnTo>
                  <a:lnTo>
                    <a:pt x="3100" y="628"/>
                  </a:lnTo>
                  <a:lnTo>
                    <a:pt x="3103" y="636"/>
                  </a:lnTo>
                  <a:lnTo>
                    <a:pt x="3106" y="645"/>
                  </a:lnTo>
                  <a:lnTo>
                    <a:pt x="3112" y="654"/>
                  </a:lnTo>
                  <a:lnTo>
                    <a:pt x="3117" y="662"/>
                  </a:lnTo>
                  <a:lnTo>
                    <a:pt x="3120" y="671"/>
                  </a:lnTo>
                  <a:lnTo>
                    <a:pt x="3123" y="680"/>
                  </a:lnTo>
                  <a:lnTo>
                    <a:pt x="3123" y="688"/>
                  </a:lnTo>
                  <a:lnTo>
                    <a:pt x="3123" y="697"/>
                  </a:lnTo>
                  <a:lnTo>
                    <a:pt x="3123" y="706"/>
                  </a:lnTo>
                  <a:lnTo>
                    <a:pt x="3114" y="711"/>
                  </a:lnTo>
                  <a:lnTo>
                    <a:pt x="3106" y="720"/>
                  </a:lnTo>
                  <a:lnTo>
                    <a:pt x="3103" y="729"/>
                  </a:lnTo>
                  <a:lnTo>
                    <a:pt x="3103" y="737"/>
                  </a:lnTo>
                  <a:lnTo>
                    <a:pt x="3094" y="740"/>
                  </a:lnTo>
                  <a:lnTo>
                    <a:pt x="3085" y="743"/>
                  </a:lnTo>
                  <a:lnTo>
                    <a:pt x="3077" y="746"/>
                  </a:lnTo>
                  <a:lnTo>
                    <a:pt x="3068" y="746"/>
                  </a:lnTo>
                  <a:lnTo>
                    <a:pt x="3059" y="752"/>
                  </a:lnTo>
                  <a:lnTo>
                    <a:pt x="3050" y="760"/>
                  </a:lnTo>
                  <a:lnTo>
                    <a:pt x="3050" y="769"/>
                  </a:lnTo>
                  <a:lnTo>
                    <a:pt x="3050" y="778"/>
                  </a:lnTo>
                  <a:lnTo>
                    <a:pt x="3056" y="786"/>
                  </a:lnTo>
                  <a:lnTo>
                    <a:pt x="3065" y="789"/>
                  </a:lnTo>
                  <a:lnTo>
                    <a:pt x="3074" y="795"/>
                  </a:lnTo>
                  <a:lnTo>
                    <a:pt x="3074" y="804"/>
                  </a:lnTo>
                  <a:lnTo>
                    <a:pt x="3062" y="806"/>
                  </a:lnTo>
                  <a:lnTo>
                    <a:pt x="3050" y="806"/>
                  </a:lnTo>
                  <a:lnTo>
                    <a:pt x="3053" y="798"/>
                  </a:lnTo>
                  <a:lnTo>
                    <a:pt x="3045" y="792"/>
                  </a:lnTo>
                  <a:lnTo>
                    <a:pt x="3036" y="798"/>
                  </a:lnTo>
                  <a:lnTo>
                    <a:pt x="3036" y="809"/>
                  </a:lnTo>
                  <a:lnTo>
                    <a:pt x="3036" y="818"/>
                  </a:lnTo>
                  <a:lnTo>
                    <a:pt x="3033" y="827"/>
                  </a:lnTo>
                  <a:lnTo>
                    <a:pt x="3030" y="835"/>
                  </a:lnTo>
                  <a:lnTo>
                    <a:pt x="3024" y="844"/>
                  </a:lnTo>
                  <a:lnTo>
                    <a:pt x="3016" y="853"/>
                  </a:lnTo>
                  <a:lnTo>
                    <a:pt x="3013" y="861"/>
                  </a:lnTo>
                  <a:lnTo>
                    <a:pt x="3021" y="864"/>
                  </a:lnTo>
                  <a:lnTo>
                    <a:pt x="3030" y="864"/>
                  </a:lnTo>
                  <a:lnTo>
                    <a:pt x="3033" y="873"/>
                  </a:lnTo>
                  <a:lnTo>
                    <a:pt x="3033" y="881"/>
                  </a:lnTo>
                  <a:lnTo>
                    <a:pt x="3042" y="890"/>
                  </a:lnTo>
                  <a:lnTo>
                    <a:pt x="3050" y="893"/>
                  </a:lnTo>
                  <a:lnTo>
                    <a:pt x="3062" y="893"/>
                  </a:lnTo>
                  <a:lnTo>
                    <a:pt x="3071" y="887"/>
                  </a:lnTo>
                  <a:lnTo>
                    <a:pt x="3080" y="887"/>
                  </a:lnTo>
                  <a:lnTo>
                    <a:pt x="3088" y="887"/>
                  </a:lnTo>
                  <a:lnTo>
                    <a:pt x="3085" y="896"/>
                  </a:lnTo>
                  <a:lnTo>
                    <a:pt x="3082" y="904"/>
                  </a:lnTo>
                  <a:lnTo>
                    <a:pt x="3080" y="913"/>
                  </a:lnTo>
                  <a:lnTo>
                    <a:pt x="3088" y="919"/>
                  </a:lnTo>
                  <a:lnTo>
                    <a:pt x="3088" y="927"/>
                  </a:lnTo>
                  <a:lnTo>
                    <a:pt x="3080" y="933"/>
                  </a:lnTo>
                  <a:lnTo>
                    <a:pt x="3077" y="942"/>
                  </a:lnTo>
                  <a:lnTo>
                    <a:pt x="3077" y="950"/>
                  </a:lnTo>
                  <a:lnTo>
                    <a:pt x="3074" y="959"/>
                  </a:lnTo>
                  <a:lnTo>
                    <a:pt x="3074" y="968"/>
                  </a:lnTo>
                  <a:lnTo>
                    <a:pt x="3077" y="959"/>
                  </a:lnTo>
                  <a:lnTo>
                    <a:pt x="3065" y="942"/>
                  </a:lnTo>
                  <a:lnTo>
                    <a:pt x="3071" y="962"/>
                  </a:lnTo>
                  <a:lnTo>
                    <a:pt x="3062" y="962"/>
                  </a:lnTo>
                  <a:lnTo>
                    <a:pt x="3074" y="968"/>
                  </a:lnTo>
                  <a:lnTo>
                    <a:pt x="3074" y="976"/>
                  </a:lnTo>
                  <a:lnTo>
                    <a:pt x="3059" y="976"/>
                  </a:lnTo>
                  <a:lnTo>
                    <a:pt x="3050" y="979"/>
                  </a:lnTo>
                  <a:lnTo>
                    <a:pt x="3039" y="979"/>
                  </a:lnTo>
                  <a:lnTo>
                    <a:pt x="3039" y="988"/>
                  </a:lnTo>
                  <a:lnTo>
                    <a:pt x="3048" y="991"/>
                  </a:lnTo>
                  <a:lnTo>
                    <a:pt x="3056" y="991"/>
                  </a:lnTo>
                  <a:lnTo>
                    <a:pt x="3065" y="997"/>
                  </a:lnTo>
                  <a:lnTo>
                    <a:pt x="3074" y="1005"/>
                  </a:lnTo>
                  <a:lnTo>
                    <a:pt x="3077" y="1014"/>
                  </a:lnTo>
                  <a:lnTo>
                    <a:pt x="3082" y="1023"/>
                  </a:lnTo>
                  <a:lnTo>
                    <a:pt x="3088" y="1031"/>
                  </a:lnTo>
                  <a:lnTo>
                    <a:pt x="3080" y="1034"/>
                  </a:lnTo>
                  <a:lnTo>
                    <a:pt x="3071" y="1034"/>
                  </a:lnTo>
                  <a:lnTo>
                    <a:pt x="3062" y="1040"/>
                  </a:lnTo>
                  <a:lnTo>
                    <a:pt x="3050" y="1043"/>
                  </a:lnTo>
                  <a:lnTo>
                    <a:pt x="3039" y="1046"/>
                  </a:lnTo>
                  <a:lnTo>
                    <a:pt x="3030" y="1046"/>
                  </a:lnTo>
                  <a:lnTo>
                    <a:pt x="3018" y="1046"/>
                  </a:lnTo>
                  <a:lnTo>
                    <a:pt x="3010" y="1037"/>
                  </a:lnTo>
                  <a:lnTo>
                    <a:pt x="3007" y="1028"/>
                  </a:lnTo>
                  <a:lnTo>
                    <a:pt x="3010" y="1020"/>
                  </a:lnTo>
                  <a:lnTo>
                    <a:pt x="3013" y="1011"/>
                  </a:lnTo>
                  <a:lnTo>
                    <a:pt x="3004" y="1011"/>
                  </a:lnTo>
                  <a:lnTo>
                    <a:pt x="2992" y="1008"/>
                  </a:lnTo>
                  <a:lnTo>
                    <a:pt x="2983" y="1008"/>
                  </a:lnTo>
                  <a:lnTo>
                    <a:pt x="2978" y="1017"/>
                  </a:lnTo>
                  <a:lnTo>
                    <a:pt x="2978" y="1025"/>
                  </a:lnTo>
                  <a:lnTo>
                    <a:pt x="2983" y="1034"/>
                  </a:lnTo>
                  <a:lnTo>
                    <a:pt x="2989" y="1043"/>
                  </a:lnTo>
                  <a:lnTo>
                    <a:pt x="2992" y="1051"/>
                  </a:lnTo>
                  <a:lnTo>
                    <a:pt x="3001" y="1054"/>
                  </a:lnTo>
                  <a:lnTo>
                    <a:pt x="3010" y="1060"/>
                  </a:lnTo>
                  <a:lnTo>
                    <a:pt x="3018" y="1063"/>
                  </a:lnTo>
                  <a:lnTo>
                    <a:pt x="3027" y="1063"/>
                  </a:lnTo>
                  <a:lnTo>
                    <a:pt x="3036" y="1060"/>
                  </a:lnTo>
                  <a:lnTo>
                    <a:pt x="3027" y="1060"/>
                  </a:lnTo>
                  <a:lnTo>
                    <a:pt x="3018" y="1057"/>
                  </a:lnTo>
                  <a:lnTo>
                    <a:pt x="3010" y="1054"/>
                  </a:lnTo>
                  <a:lnTo>
                    <a:pt x="3004" y="1046"/>
                  </a:lnTo>
                  <a:lnTo>
                    <a:pt x="2995" y="1040"/>
                  </a:lnTo>
                  <a:lnTo>
                    <a:pt x="2992" y="1031"/>
                  </a:lnTo>
                  <a:lnTo>
                    <a:pt x="2983" y="1023"/>
                  </a:lnTo>
                  <a:lnTo>
                    <a:pt x="2978" y="1014"/>
                  </a:lnTo>
                  <a:lnTo>
                    <a:pt x="2969" y="1005"/>
                  </a:lnTo>
                  <a:lnTo>
                    <a:pt x="2966" y="1014"/>
                  </a:lnTo>
                  <a:lnTo>
                    <a:pt x="2954" y="1023"/>
                  </a:lnTo>
                  <a:lnTo>
                    <a:pt x="2946" y="1023"/>
                  </a:lnTo>
                  <a:lnTo>
                    <a:pt x="2943" y="1034"/>
                  </a:lnTo>
                  <a:lnTo>
                    <a:pt x="2943" y="1043"/>
                  </a:lnTo>
                  <a:lnTo>
                    <a:pt x="2951" y="1051"/>
                  </a:lnTo>
                  <a:lnTo>
                    <a:pt x="2963" y="1051"/>
                  </a:lnTo>
                  <a:lnTo>
                    <a:pt x="2975" y="1054"/>
                  </a:lnTo>
                  <a:lnTo>
                    <a:pt x="2963" y="1051"/>
                  </a:lnTo>
                  <a:lnTo>
                    <a:pt x="2951" y="1046"/>
                  </a:lnTo>
                  <a:lnTo>
                    <a:pt x="2943" y="1043"/>
                  </a:lnTo>
                  <a:lnTo>
                    <a:pt x="2934" y="1051"/>
                  </a:lnTo>
                  <a:lnTo>
                    <a:pt x="2928" y="1060"/>
                  </a:lnTo>
                  <a:lnTo>
                    <a:pt x="2919" y="1060"/>
                  </a:lnTo>
                  <a:lnTo>
                    <a:pt x="2919" y="1069"/>
                  </a:lnTo>
                  <a:lnTo>
                    <a:pt x="2931" y="1077"/>
                  </a:lnTo>
                  <a:lnTo>
                    <a:pt x="2943" y="1086"/>
                  </a:lnTo>
                  <a:lnTo>
                    <a:pt x="2951" y="1089"/>
                  </a:lnTo>
                  <a:lnTo>
                    <a:pt x="2960" y="1089"/>
                  </a:lnTo>
                  <a:lnTo>
                    <a:pt x="2969" y="1089"/>
                  </a:lnTo>
                  <a:lnTo>
                    <a:pt x="2972" y="1080"/>
                  </a:lnTo>
                  <a:lnTo>
                    <a:pt x="2975" y="1072"/>
                  </a:lnTo>
                  <a:lnTo>
                    <a:pt x="2975" y="1063"/>
                  </a:lnTo>
                  <a:lnTo>
                    <a:pt x="2978" y="1054"/>
                  </a:lnTo>
                  <a:lnTo>
                    <a:pt x="2981" y="1063"/>
                  </a:lnTo>
                  <a:lnTo>
                    <a:pt x="2981" y="1072"/>
                  </a:lnTo>
                  <a:lnTo>
                    <a:pt x="2975" y="1080"/>
                  </a:lnTo>
                  <a:lnTo>
                    <a:pt x="2969" y="1089"/>
                  </a:lnTo>
                  <a:lnTo>
                    <a:pt x="2957" y="1089"/>
                  </a:lnTo>
                  <a:lnTo>
                    <a:pt x="2949" y="1089"/>
                  </a:lnTo>
                  <a:lnTo>
                    <a:pt x="2940" y="1097"/>
                  </a:lnTo>
                  <a:lnTo>
                    <a:pt x="2937" y="1106"/>
                  </a:lnTo>
                  <a:lnTo>
                    <a:pt x="2934" y="1115"/>
                  </a:lnTo>
                  <a:lnTo>
                    <a:pt x="2934" y="1123"/>
                  </a:lnTo>
                  <a:lnTo>
                    <a:pt x="2925" y="1129"/>
                  </a:lnTo>
                  <a:lnTo>
                    <a:pt x="2917" y="1135"/>
                  </a:lnTo>
                  <a:lnTo>
                    <a:pt x="2908" y="1138"/>
                  </a:lnTo>
                  <a:lnTo>
                    <a:pt x="2899" y="1138"/>
                  </a:lnTo>
                  <a:lnTo>
                    <a:pt x="2893" y="1129"/>
                  </a:lnTo>
                  <a:lnTo>
                    <a:pt x="2884" y="1129"/>
                  </a:lnTo>
                  <a:lnTo>
                    <a:pt x="2876" y="1129"/>
                  </a:lnTo>
                  <a:lnTo>
                    <a:pt x="2867" y="1135"/>
                  </a:lnTo>
                  <a:lnTo>
                    <a:pt x="2864" y="1144"/>
                  </a:lnTo>
                  <a:lnTo>
                    <a:pt x="2861" y="1152"/>
                  </a:lnTo>
                  <a:lnTo>
                    <a:pt x="2861" y="1161"/>
                  </a:lnTo>
                  <a:lnTo>
                    <a:pt x="2858" y="1170"/>
                  </a:lnTo>
                  <a:lnTo>
                    <a:pt x="2852" y="1178"/>
                  </a:lnTo>
                  <a:lnTo>
                    <a:pt x="2844" y="1181"/>
                  </a:lnTo>
                  <a:lnTo>
                    <a:pt x="2835" y="1181"/>
                  </a:lnTo>
                  <a:lnTo>
                    <a:pt x="2826" y="1184"/>
                  </a:lnTo>
                  <a:lnTo>
                    <a:pt x="2818" y="1175"/>
                  </a:lnTo>
                  <a:lnTo>
                    <a:pt x="2809" y="1167"/>
                  </a:lnTo>
                  <a:lnTo>
                    <a:pt x="2806" y="1175"/>
                  </a:lnTo>
                  <a:lnTo>
                    <a:pt x="2806" y="1184"/>
                  </a:lnTo>
                  <a:lnTo>
                    <a:pt x="2806" y="1193"/>
                  </a:lnTo>
                  <a:lnTo>
                    <a:pt x="2806" y="1204"/>
                  </a:lnTo>
                  <a:lnTo>
                    <a:pt x="2806" y="1213"/>
                  </a:lnTo>
                  <a:lnTo>
                    <a:pt x="2815" y="1213"/>
                  </a:lnTo>
                  <a:lnTo>
                    <a:pt x="2823" y="1216"/>
                  </a:lnTo>
                  <a:lnTo>
                    <a:pt x="2826" y="1224"/>
                  </a:lnTo>
                  <a:lnTo>
                    <a:pt x="2826" y="1233"/>
                  </a:lnTo>
                  <a:lnTo>
                    <a:pt x="2826" y="1242"/>
                  </a:lnTo>
                  <a:lnTo>
                    <a:pt x="2823" y="1250"/>
                  </a:lnTo>
                  <a:lnTo>
                    <a:pt x="2815" y="1253"/>
                  </a:lnTo>
                  <a:lnTo>
                    <a:pt x="2809" y="1262"/>
                  </a:lnTo>
                  <a:lnTo>
                    <a:pt x="2809" y="1270"/>
                  </a:lnTo>
                  <a:lnTo>
                    <a:pt x="2809" y="1279"/>
                  </a:lnTo>
                  <a:lnTo>
                    <a:pt x="2809" y="1288"/>
                  </a:lnTo>
                  <a:lnTo>
                    <a:pt x="2809" y="1279"/>
                  </a:lnTo>
                  <a:lnTo>
                    <a:pt x="2806" y="1270"/>
                  </a:lnTo>
                  <a:lnTo>
                    <a:pt x="2806" y="1262"/>
                  </a:lnTo>
                  <a:lnTo>
                    <a:pt x="2800" y="1253"/>
                  </a:lnTo>
                  <a:lnTo>
                    <a:pt x="2797" y="1244"/>
                  </a:lnTo>
                  <a:lnTo>
                    <a:pt x="2794" y="1236"/>
                  </a:lnTo>
                  <a:lnTo>
                    <a:pt x="2794" y="1227"/>
                  </a:lnTo>
                  <a:lnTo>
                    <a:pt x="2794" y="1218"/>
                  </a:lnTo>
                  <a:lnTo>
                    <a:pt x="2800" y="1210"/>
                  </a:lnTo>
                  <a:lnTo>
                    <a:pt x="2803" y="1201"/>
                  </a:lnTo>
                  <a:lnTo>
                    <a:pt x="2800" y="1193"/>
                  </a:lnTo>
                  <a:lnTo>
                    <a:pt x="2791" y="1187"/>
                  </a:lnTo>
                  <a:lnTo>
                    <a:pt x="2788" y="1178"/>
                  </a:lnTo>
                  <a:lnTo>
                    <a:pt x="2788" y="1170"/>
                  </a:lnTo>
                  <a:lnTo>
                    <a:pt x="2788" y="1161"/>
                  </a:lnTo>
                  <a:lnTo>
                    <a:pt x="2788" y="1152"/>
                  </a:lnTo>
                  <a:lnTo>
                    <a:pt x="2786" y="1144"/>
                  </a:lnTo>
                  <a:lnTo>
                    <a:pt x="2786" y="1135"/>
                  </a:lnTo>
                  <a:lnTo>
                    <a:pt x="2780" y="1126"/>
                  </a:lnTo>
                  <a:lnTo>
                    <a:pt x="2768" y="1121"/>
                  </a:lnTo>
                  <a:lnTo>
                    <a:pt x="2759" y="1115"/>
                  </a:lnTo>
                  <a:lnTo>
                    <a:pt x="2748" y="1112"/>
                  </a:lnTo>
                  <a:lnTo>
                    <a:pt x="2736" y="1109"/>
                  </a:lnTo>
                  <a:lnTo>
                    <a:pt x="2724" y="1106"/>
                  </a:lnTo>
                  <a:lnTo>
                    <a:pt x="2716" y="1106"/>
                  </a:lnTo>
                  <a:lnTo>
                    <a:pt x="2710" y="1115"/>
                  </a:lnTo>
                  <a:lnTo>
                    <a:pt x="2704" y="1123"/>
                  </a:lnTo>
                  <a:lnTo>
                    <a:pt x="2698" y="1132"/>
                  </a:lnTo>
                  <a:lnTo>
                    <a:pt x="2692" y="1126"/>
                  </a:lnTo>
                  <a:lnTo>
                    <a:pt x="2695" y="1112"/>
                  </a:lnTo>
                  <a:lnTo>
                    <a:pt x="2695" y="1121"/>
                  </a:lnTo>
                  <a:lnTo>
                    <a:pt x="2692" y="1129"/>
                  </a:lnTo>
                  <a:lnTo>
                    <a:pt x="2692" y="1138"/>
                  </a:lnTo>
                  <a:lnTo>
                    <a:pt x="2687" y="1146"/>
                  </a:lnTo>
                  <a:lnTo>
                    <a:pt x="2687" y="1155"/>
                  </a:lnTo>
                  <a:lnTo>
                    <a:pt x="2687" y="1164"/>
                  </a:lnTo>
                  <a:lnTo>
                    <a:pt x="2678" y="1167"/>
                  </a:lnTo>
                  <a:lnTo>
                    <a:pt x="2669" y="1167"/>
                  </a:lnTo>
                  <a:lnTo>
                    <a:pt x="2666" y="1158"/>
                  </a:lnTo>
                  <a:lnTo>
                    <a:pt x="2666" y="1149"/>
                  </a:lnTo>
                  <a:lnTo>
                    <a:pt x="2657" y="1146"/>
                  </a:lnTo>
                  <a:lnTo>
                    <a:pt x="2649" y="1152"/>
                  </a:lnTo>
                  <a:lnTo>
                    <a:pt x="2646" y="1141"/>
                  </a:lnTo>
                  <a:lnTo>
                    <a:pt x="2634" y="1135"/>
                  </a:lnTo>
                  <a:lnTo>
                    <a:pt x="2625" y="1135"/>
                  </a:lnTo>
                  <a:lnTo>
                    <a:pt x="2617" y="1135"/>
                  </a:lnTo>
                  <a:lnTo>
                    <a:pt x="2614" y="1144"/>
                  </a:lnTo>
                  <a:lnTo>
                    <a:pt x="2614" y="1152"/>
                  </a:lnTo>
                  <a:lnTo>
                    <a:pt x="2614" y="1161"/>
                  </a:lnTo>
                  <a:lnTo>
                    <a:pt x="2617" y="1170"/>
                  </a:lnTo>
                  <a:lnTo>
                    <a:pt x="2617" y="1178"/>
                  </a:lnTo>
                  <a:lnTo>
                    <a:pt x="2620" y="1187"/>
                  </a:lnTo>
                  <a:lnTo>
                    <a:pt x="2625" y="1195"/>
                  </a:lnTo>
                  <a:lnTo>
                    <a:pt x="2634" y="1201"/>
                  </a:lnTo>
                  <a:lnTo>
                    <a:pt x="2643" y="1201"/>
                  </a:lnTo>
                  <a:lnTo>
                    <a:pt x="2652" y="1201"/>
                  </a:lnTo>
                  <a:lnTo>
                    <a:pt x="2643" y="1201"/>
                  </a:lnTo>
                  <a:lnTo>
                    <a:pt x="2634" y="1207"/>
                  </a:lnTo>
                  <a:lnTo>
                    <a:pt x="2625" y="1216"/>
                  </a:lnTo>
                  <a:lnTo>
                    <a:pt x="2625" y="1224"/>
                  </a:lnTo>
                  <a:lnTo>
                    <a:pt x="2634" y="1224"/>
                  </a:lnTo>
                  <a:lnTo>
                    <a:pt x="2643" y="1230"/>
                  </a:lnTo>
                  <a:lnTo>
                    <a:pt x="2646" y="1242"/>
                  </a:lnTo>
                  <a:lnTo>
                    <a:pt x="2652" y="1253"/>
                  </a:lnTo>
                  <a:lnTo>
                    <a:pt x="2660" y="1259"/>
                  </a:lnTo>
                  <a:lnTo>
                    <a:pt x="2672" y="1265"/>
                  </a:lnTo>
                  <a:lnTo>
                    <a:pt x="2663" y="1262"/>
                  </a:lnTo>
                  <a:lnTo>
                    <a:pt x="2655" y="1256"/>
                  </a:lnTo>
                  <a:lnTo>
                    <a:pt x="2663" y="1250"/>
                  </a:lnTo>
                  <a:lnTo>
                    <a:pt x="2672" y="1250"/>
                  </a:lnTo>
                  <a:lnTo>
                    <a:pt x="2681" y="1253"/>
                  </a:lnTo>
                  <a:lnTo>
                    <a:pt x="2669" y="1256"/>
                  </a:lnTo>
                  <a:lnTo>
                    <a:pt x="2655" y="1256"/>
                  </a:lnTo>
                  <a:lnTo>
                    <a:pt x="2646" y="1247"/>
                  </a:lnTo>
                  <a:lnTo>
                    <a:pt x="2643" y="1236"/>
                  </a:lnTo>
                  <a:lnTo>
                    <a:pt x="2640" y="1227"/>
                  </a:lnTo>
                  <a:lnTo>
                    <a:pt x="2631" y="1227"/>
                  </a:lnTo>
                  <a:lnTo>
                    <a:pt x="2625" y="1236"/>
                  </a:lnTo>
                  <a:lnTo>
                    <a:pt x="2625" y="1247"/>
                  </a:lnTo>
                  <a:lnTo>
                    <a:pt x="2625" y="1259"/>
                  </a:lnTo>
                  <a:lnTo>
                    <a:pt x="2617" y="1259"/>
                  </a:lnTo>
                  <a:lnTo>
                    <a:pt x="2608" y="1256"/>
                  </a:lnTo>
                  <a:lnTo>
                    <a:pt x="2605" y="1247"/>
                  </a:lnTo>
                  <a:lnTo>
                    <a:pt x="2596" y="1253"/>
                  </a:lnTo>
                  <a:lnTo>
                    <a:pt x="2588" y="1262"/>
                  </a:lnTo>
                  <a:lnTo>
                    <a:pt x="2582" y="1270"/>
                  </a:lnTo>
                  <a:lnTo>
                    <a:pt x="2582" y="1279"/>
                  </a:lnTo>
                  <a:lnTo>
                    <a:pt x="2582" y="1288"/>
                  </a:lnTo>
                  <a:lnTo>
                    <a:pt x="2576" y="1296"/>
                  </a:lnTo>
                  <a:lnTo>
                    <a:pt x="2573" y="1305"/>
                  </a:lnTo>
                  <a:lnTo>
                    <a:pt x="2567" y="1314"/>
                  </a:lnTo>
                  <a:lnTo>
                    <a:pt x="2553" y="1311"/>
                  </a:lnTo>
                  <a:lnTo>
                    <a:pt x="2567" y="1305"/>
                  </a:lnTo>
                  <a:lnTo>
                    <a:pt x="2561" y="1314"/>
                  </a:lnTo>
                  <a:lnTo>
                    <a:pt x="2558" y="1322"/>
                  </a:lnTo>
                  <a:lnTo>
                    <a:pt x="2558" y="1331"/>
                  </a:lnTo>
                  <a:lnTo>
                    <a:pt x="2558" y="1340"/>
                  </a:lnTo>
                  <a:lnTo>
                    <a:pt x="2558" y="1348"/>
                  </a:lnTo>
                  <a:lnTo>
                    <a:pt x="2558" y="1360"/>
                  </a:lnTo>
                  <a:lnTo>
                    <a:pt x="2558" y="1368"/>
                  </a:lnTo>
                  <a:lnTo>
                    <a:pt x="2550" y="1380"/>
                  </a:lnTo>
                  <a:lnTo>
                    <a:pt x="2547" y="1389"/>
                  </a:lnTo>
                  <a:lnTo>
                    <a:pt x="2544" y="1397"/>
                  </a:lnTo>
                  <a:lnTo>
                    <a:pt x="2538" y="1406"/>
                  </a:lnTo>
                  <a:lnTo>
                    <a:pt x="2529" y="1412"/>
                  </a:lnTo>
                  <a:lnTo>
                    <a:pt x="2538" y="1414"/>
                  </a:lnTo>
                  <a:lnTo>
                    <a:pt x="2547" y="1414"/>
                  </a:lnTo>
                  <a:lnTo>
                    <a:pt x="2553" y="1406"/>
                  </a:lnTo>
                  <a:lnTo>
                    <a:pt x="2553" y="1397"/>
                  </a:lnTo>
                  <a:lnTo>
                    <a:pt x="2561" y="1391"/>
                  </a:lnTo>
                  <a:lnTo>
                    <a:pt x="2567" y="1400"/>
                  </a:lnTo>
                  <a:lnTo>
                    <a:pt x="2567" y="1412"/>
                  </a:lnTo>
                  <a:lnTo>
                    <a:pt x="2570" y="1420"/>
                  </a:lnTo>
                  <a:lnTo>
                    <a:pt x="2579" y="1429"/>
                  </a:lnTo>
                  <a:lnTo>
                    <a:pt x="2588" y="1435"/>
                  </a:lnTo>
                  <a:lnTo>
                    <a:pt x="2599" y="1435"/>
                  </a:lnTo>
                  <a:lnTo>
                    <a:pt x="2593" y="1426"/>
                  </a:lnTo>
                  <a:lnTo>
                    <a:pt x="2585" y="1417"/>
                  </a:lnTo>
                  <a:lnTo>
                    <a:pt x="2582" y="1406"/>
                  </a:lnTo>
                  <a:lnTo>
                    <a:pt x="2579" y="1397"/>
                  </a:lnTo>
                  <a:lnTo>
                    <a:pt x="2573" y="1406"/>
                  </a:lnTo>
                  <a:lnTo>
                    <a:pt x="2570" y="1414"/>
                  </a:lnTo>
                  <a:lnTo>
                    <a:pt x="2561" y="1426"/>
                  </a:lnTo>
                  <a:lnTo>
                    <a:pt x="2553" y="1432"/>
                  </a:lnTo>
                  <a:lnTo>
                    <a:pt x="2544" y="1432"/>
                  </a:lnTo>
                  <a:lnTo>
                    <a:pt x="2535" y="1432"/>
                  </a:lnTo>
                  <a:lnTo>
                    <a:pt x="2526" y="1432"/>
                  </a:lnTo>
                  <a:lnTo>
                    <a:pt x="2515" y="1438"/>
                  </a:lnTo>
                  <a:lnTo>
                    <a:pt x="2506" y="1443"/>
                  </a:lnTo>
                  <a:lnTo>
                    <a:pt x="2503" y="1452"/>
                  </a:lnTo>
                  <a:lnTo>
                    <a:pt x="2509" y="1461"/>
                  </a:lnTo>
                  <a:lnTo>
                    <a:pt x="2515" y="1472"/>
                  </a:lnTo>
                  <a:lnTo>
                    <a:pt x="2521" y="1484"/>
                  </a:lnTo>
                  <a:lnTo>
                    <a:pt x="2529" y="1489"/>
                  </a:lnTo>
                  <a:lnTo>
                    <a:pt x="2538" y="1495"/>
                  </a:lnTo>
                  <a:lnTo>
                    <a:pt x="2544" y="1504"/>
                  </a:lnTo>
                  <a:lnTo>
                    <a:pt x="2553" y="1507"/>
                  </a:lnTo>
                  <a:lnTo>
                    <a:pt x="2561" y="1507"/>
                  </a:lnTo>
                  <a:lnTo>
                    <a:pt x="2570" y="1510"/>
                  </a:lnTo>
                  <a:lnTo>
                    <a:pt x="2576" y="1518"/>
                  </a:lnTo>
                  <a:lnTo>
                    <a:pt x="2585" y="1527"/>
                  </a:lnTo>
                  <a:lnTo>
                    <a:pt x="2588" y="1535"/>
                  </a:lnTo>
                  <a:lnTo>
                    <a:pt x="2588" y="1544"/>
                  </a:lnTo>
                  <a:lnTo>
                    <a:pt x="2588" y="1556"/>
                  </a:lnTo>
                  <a:lnTo>
                    <a:pt x="2590" y="1564"/>
                  </a:lnTo>
                  <a:lnTo>
                    <a:pt x="2599" y="1564"/>
                  </a:lnTo>
                  <a:lnTo>
                    <a:pt x="2614" y="1567"/>
                  </a:lnTo>
                  <a:lnTo>
                    <a:pt x="2617" y="1576"/>
                  </a:lnTo>
                  <a:lnTo>
                    <a:pt x="2617" y="1584"/>
                  </a:lnTo>
                  <a:lnTo>
                    <a:pt x="2608" y="1587"/>
                  </a:lnTo>
                  <a:lnTo>
                    <a:pt x="2596" y="1579"/>
                  </a:lnTo>
                  <a:lnTo>
                    <a:pt x="2588" y="1570"/>
                  </a:lnTo>
                  <a:lnTo>
                    <a:pt x="2582" y="1561"/>
                  </a:lnTo>
                  <a:lnTo>
                    <a:pt x="2582" y="1553"/>
                  </a:lnTo>
                  <a:lnTo>
                    <a:pt x="2582" y="1541"/>
                  </a:lnTo>
                  <a:lnTo>
                    <a:pt x="2579" y="1533"/>
                  </a:lnTo>
                  <a:lnTo>
                    <a:pt x="2573" y="1524"/>
                  </a:lnTo>
                  <a:lnTo>
                    <a:pt x="2564" y="1515"/>
                  </a:lnTo>
                  <a:lnTo>
                    <a:pt x="2556" y="1512"/>
                  </a:lnTo>
                  <a:lnTo>
                    <a:pt x="2550" y="1521"/>
                  </a:lnTo>
                  <a:lnTo>
                    <a:pt x="2541" y="1521"/>
                  </a:lnTo>
                  <a:lnTo>
                    <a:pt x="2532" y="1515"/>
                  </a:lnTo>
                  <a:lnTo>
                    <a:pt x="2524" y="1510"/>
                  </a:lnTo>
                  <a:lnTo>
                    <a:pt x="2515" y="1507"/>
                  </a:lnTo>
                  <a:lnTo>
                    <a:pt x="2506" y="1504"/>
                  </a:lnTo>
                  <a:lnTo>
                    <a:pt x="2497" y="1504"/>
                  </a:lnTo>
                  <a:lnTo>
                    <a:pt x="2489" y="1504"/>
                  </a:lnTo>
                  <a:lnTo>
                    <a:pt x="2486" y="1512"/>
                  </a:lnTo>
                  <a:lnTo>
                    <a:pt x="2486" y="1521"/>
                  </a:lnTo>
                  <a:lnTo>
                    <a:pt x="2491" y="1530"/>
                  </a:lnTo>
                  <a:lnTo>
                    <a:pt x="2486" y="1538"/>
                  </a:lnTo>
                  <a:lnTo>
                    <a:pt x="2477" y="1538"/>
                  </a:lnTo>
                  <a:lnTo>
                    <a:pt x="2474" y="1547"/>
                  </a:lnTo>
                  <a:lnTo>
                    <a:pt x="2489" y="1550"/>
                  </a:lnTo>
                  <a:lnTo>
                    <a:pt x="2497" y="1553"/>
                  </a:lnTo>
                  <a:lnTo>
                    <a:pt x="2506" y="1553"/>
                  </a:lnTo>
                  <a:lnTo>
                    <a:pt x="2515" y="1559"/>
                  </a:lnTo>
                  <a:lnTo>
                    <a:pt x="2521" y="1570"/>
                  </a:lnTo>
                  <a:lnTo>
                    <a:pt x="2529" y="1576"/>
                  </a:lnTo>
                  <a:lnTo>
                    <a:pt x="2521" y="1567"/>
                  </a:lnTo>
                  <a:lnTo>
                    <a:pt x="2509" y="1561"/>
                  </a:lnTo>
                  <a:lnTo>
                    <a:pt x="2500" y="1559"/>
                  </a:lnTo>
                  <a:lnTo>
                    <a:pt x="2491" y="1567"/>
                  </a:lnTo>
                  <a:lnTo>
                    <a:pt x="2483" y="1570"/>
                  </a:lnTo>
                  <a:lnTo>
                    <a:pt x="2474" y="1570"/>
                  </a:lnTo>
                  <a:lnTo>
                    <a:pt x="2471" y="1561"/>
                  </a:lnTo>
                  <a:lnTo>
                    <a:pt x="2471" y="1553"/>
                  </a:lnTo>
                  <a:lnTo>
                    <a:pt x="2465" y="1544"/>
                  </a:lnTo>
                  <a:lnTo>
                    <a:pt x="2462" y="1535"/>
                  </a:lnTo>
                  <a:lnTo>
                    <a:pt x="2459" y="1524"/>
                  </a:lnTo>
                  <a:lnTo>
                    <a:pt x="2457" y="1515"/>
                  </a:lnTo>
                  <a:lnTo>
                    <a:pt x="2448" y="1510"/>
                  </a:lnTo>
                  <a:lnTo>
                    <a:pt x="2439" y="1504"/>
                  </a:lnTo>
                  <a:lnTo>
                    <a:pt x="2439" y="1512"/>
                  </a:lnTo>
                  <a:lnTo>
                    <a:pt x="2439" y="1521"/>
                  </a:lnTo>
                  <a:lnTo>
                    <a:pt x="2439" y="1530"/>
                  </a:lnTo>
                  <a:lnTo>
                    <a:pt x="2439" y="1538"/>
                  </a:lnTo>
                  <a:lnTo>
                    <a:pt x="2439" y="1547"/>
                  </a:lnTo>
                  <a:lnTo>
                    <a:pt x="2439" y="1556"/>
                  </a:lnTo>
                  <a:lnTo>
                    <a:pt x="2442" y="1564"/>
                  </a:lnTo>
                  <a:lnTo>
                    <a:pt x="2436" y="1573"/>
                  </a:lnTo>
                  <a:lnTo>
                    <a:pt x="2433" y="1582"/>
                  </a:lnTo>
                  <a:lnTo>
                    <a:pt x="2430" y="1590"/>
                  </a:lnTo>
                  <a:lnTo>
                    <a:pt x="2433" y="1599"/>
                  </a:lnTo>
                  <a:lnTo>
                    <a:pt x="2442" y="1602"/>
                  </a:lnTo>
                  <a:lnTo>
                    <a:pt x="2451" y="1605"/>
                  </a:lnTo>
                  <a:lnTo>
                    <a:pt x="2459" y="1608"/>
                  </a:lnTo>
                  <a:lnTo>
                    <a:pt x="2465" y="1616"/>
                  </a:lnTo>
                  <a:lnTo>
                    <a:pt x="2474" y="1628"/>
                  </a:lnTo>
                  <a:lnTo>
                    <a:pt x="2474" y="1636"/>
                  </a:lnTo>
                  <a:lnTo>
                    <a:pt x="2474" y="1648"/>
                  </a:lnTo>
                  <a:lnTo>
                    <a:pt x="2474" y="1657"/>
                  </a:lnTo>
                  <a:lnTo>
                    <a:pt x="2474" y="1665"/>
                  </a:lnTo>
                  <a:lnTo>
                    <a:pt x="2474" y="1674"/>
                  </a:lnTo>
                  <a:lnTo>
                    <a:pt x="2483" y="1680"/>
                  </a:lnTo>
                  <a:lnTo>
                    <a:pt x="2491" y="1682"/>
                  </a:lnTo>
                  <a:lnTo>
                    <a:pt x="2500" y="1682"/>
                  </a:lnTo>
                  <a:lnTo>
                    <a:pt x="2509" y="1680"/>
                  </a:lnTo>
                  <a:lnTo>
                    <a:pt x="2515" y="1671"/>
                  </a:lnTo>
                  <a:lnTo>
                    <a:pt x="2524" y="1671"/>
                  </a:lnTo>
                  <a:lnTo>
                    <a:pt x="2532" y="1668"/>
                  </a:lnTo>
                  <a:lnTo>
                    <a:pt x="2541" y="1671"/>
                  </a:lnTo>
                  <a:lnTo>
                    <a:pt x="2544" y="1680"/>
                  </a:lnTo>
                  <a:lnTo>
                    <a:pt x="2547" y="1688"/>
                  </a:lnTo>
                  <a:lnTo>
                    <a:pt x="2547" y="1697"/>
                  </a:lnTo>
                  <a:lnTo>
                    <a:pt x="2547" y="1706"/>
                  </a:lnTo>
                  <a:lnTo>
                    <a:pt x="2556" y="1714"/>
                  </a:lnTo>
                  <a:lnTo>
                    <a:pt x="2564" y="1720"/>
                  </a:lnTo>
                  <a:lnTo>
                    <a:pt x="2576" y="1726"/>
                  </a:lnTo>
                  <a:lnTo>
                    <a:pt x="2588" y="1726"/>
                  </a:lnTo>
                  <a:lnTo>
                    <a:pt x="2596" y="1726"/>
                  </a:lnTo>
                  <a:lnTo>
                    <a:pt x="2588" y="1723"/>
                  </a:lnTo>
                  <a:lnTo>
                    <a:pt x="2579" y="1720"/>
                  </a:lnTo>
                  <a:lnTo>
                    <a:pt x="2570" y="1717"/>
                  </a:lnTo>
                  <a:lnTo>
                    <a:pt x="2567" y="1708"/>
                  </a:lnTo>
                  <a:lnTo>
                    <a:pt x="2564" y="1697"/>
                  </a:lnTo>
                  <a:lnTo>
                    <a:pt x="2564" y="1688"/>
                  </a:lnTo>
                  <a:lnTo>
                    <a:pt x="2561" y="1680"/>
                  </a:lnTo>
                  <a:lnTo>
                    <a:pt x="2550" y="1671"/>
                  </a:lnTo>
                  <a:lnTo>
                    <a:pt x="2538" y="1665"/>
                  </a:lnTo>
                  <a:lnTo>
                    <a:pt x="2529" y="1662"/>
                  </a:lnTo>
                  <a:lnTo>
                    <a:pt x="2521" y="1659"/>
                  </a:lnTo>
                  <a:lnTo>
                    <a:pt x="2512" y="1662"/>
                  </a:lnTo>
                  <a:lnTo>
                    <a:pt x="2506" y="1671"/>
                  </a:lnTo>
                  <a:lnTo>
                    <a:pt x="2506" y="1680"/>
                  </a:lnTo>
                  <a:lnTo>
                    <a:pt x="2503" y="1688"/>
                  </a:lnTo>
                  <a:lnTo>
                    <a:pt x="2500" y="1697"/>
                  </a:lnTo>
                  <a:lnTo>
                    <a:pt x="2500" y="1706"/>
                  </a:lnTo>
                  <a:lnTo>
                    <a:pt x="2500" y="1714"/>
                  </a:lnTo>
                  <a:lnTo>
                    <a:pt x="2509" y="1723"/>
                  </a:lnTo>
                  <a:lnTo>
                    <a:pt x="2509" y="1731"/>
                  </a:lnTo>
                  <a:lnTo>
                    <a:pt x="2509" y="1740"/>
                  </a:lnTo>
                  <a:lnTo>
                    <a:pt x="2509" y="1749"/>
                  </a:lnTo>
                  <a:lnTo>
                    <a:pt x="2509" y="1757"/>
                  </a:lnTo>
                  <a:lnTo>
                    <a:pt x="2509" y="1766"/>
                  </a:lnTo>
                  <a:lnTo>
                    <a:pt x="2509" y="1775"/>
                  </a:lnTo>
                  <a:lnTo>
                    <a:pt x="2509" y="1783"/>
                  </a:lnTo>
                  <a:lnTo>
                    <a:pt x="2506" y="1772"/>
                  </a:lnTo>
                  <a:lnTo>
                    <a:pt x="2515" y="1757"/>
                  </a:lnTo>
                  <a:lnTo>
                    <a:pt x="2509" y="1766"/>
                  </a:lnTo>
                  <a:lnTo>
                    <a:pt x="2506" y="1775"/>
                  </a:lnTo>
                  <a:lnTo>
                    <a:pt x="2503" y="1783"/>
                  </a:lnTo>
                  <a:lnTo>
                    <a:pt x="2497" y="1792"/>
                  </a:lnTo>
                  <a:lnTo>
                    <a:pt x="2494" y="1801"/>
                  </a:lnTo>
                  <a:lnTo>
                    <a:pt x="2494" y="1809"/>
                  </a:lnTo>
                  <a:lnTo>
                    <a:pt x="2494" y="1818"/>
                  </a:lnTo>
                  <a:lnTo>
                    <a:pt x="2483" y="1824"/>
                  </a:lnTo>
                  <a:lnTo>
                    <a:pt x="2465" y="1824"/>
                  </a:lnTo>
                  <a:lnTo>
                    <a:pt x="2457" y="1821"/>
                  </a:lnTo>
                  <a:lnTo>
                    <a:pt x="2448" y="1812"/>
                  </a:lnTo>
                  <a:lnTo>
                    <a:pt x="2439" y="1809"/>
                  </a:lnTo>
                  <a:lnTo>
                    <a:pt x="2430" y="1809"/>
                  </a:lnTo>
                  <a:lnTo>
                    <a:pt x="2427" y="1798"/>
                  </a:lnTo>
                  <a:lnTo>
                    <a:pt x="2439" y="1795"/>
                  </a:lnTo>
                  <a:lnTo>
                    <a:pt x="2454" y="1792"/>
                  </a:lnTo>
                  <a:lnTo>
                    <a:pt x="2462" y="1792"/>
                  </a:lnTo>
                  <a:lnTo>
                    <a:pt x="2471" y="1792"/>
                  </a:lnTo>
                  <a:lnTo>
                    <a:pt x="2477" y="1783"/>
                  </a:lnTo>
                  <a:lnTo>
                    <a:pt x="2480" y="1775"/>
                  </a:lnTo>
                  <a:lnTo>
                    <a:pt x="2480" y="1766"/>
                  </a:lnTo>
                  <a:lnTo>
                    <a:pt x="2483" y="1757"/>
                  </a:lnTo>
                  <a:lnTo>
                    <a:pt x="2486" y="1749"/>
                  </a:lnTo>
                  <a:lnTo>
                    <a:pt x="2489" y="1740"/>
                  </a:lnTo>
                  <a:lnTo>
                    <a:pt x="2491" y="1731"/>
                  </a:lnTo>
                  <a:lnTo>
                    <a:pt x="2489" y="1723"/>
                  </a:lnTo>
                  <a:lnTo>
                    <a:pt x="2489" y="1714"/>
                  </a:lnTo>
                  <a:lnTo>
                    <a:pt x="2480" y="1708"/>
                  </a:lnTo>
                  <a:lnTo>
                    <a:pt x="2474" y="1700"/>
                  </a:lnTo>
                  <a:lnTo>
                    <a:pt x="2468" y="1691"/>
                  </a:lnTo>
                  <a:lnTo>
                    <a:pt x="2465" y="1682"/>
                  </a:lnTo>
                  <a:lnTo>
                    <a:pt x="2459" y="1674"/>
                  </a:lnTo>
                  <a:lnTo>
                    <a:pt x="2454" y="1665"/>
                  </a:lnTo>
                  <a:lnTo>
                    <a:pt x="2454" y="1657"/>
                  </a:lnTo>
                  <a:lnTo>
                    <a:pt x="2454" y="1648"/>
                  </a:lnTo>
                  <a:lnTo>
                    <a:pt x="2454" y="1639"/>
                  </a:lnTo>
                  <a:lnTo>
                    <a:pt x="2451" y="1631"/>
                  </a:lnTo>
                  <a:lnTo>
                    <a:pt x="2448" y="1622"/>
                  </a:lnTo>
                  <a:lnTo>
                    <a:pt x="2442" y="1613"/>
                  </a:lnTo>
                  <a:lnTo>
                    <a:pt x="2433" y="1608"/>
                  </a:lnTo>
                  <a:lnTo>
                    <a:pt x="2427" y="1599"/>
                  </a:lnTo>
                  <a:lnTo>
                    <a:pt x="2422" y="1590"/>
                  </a:lnTo>
                  <a:lnTo>
                    <a:pt x="2419" y="1582"/>
                  </a:lnTo>
                  <a:lnTo>
                    <a:pt x="2419" y="1573"/>
                  </a:lnTo>
                  <a:lnTo>
                    <a:pt x="2416" y="1564"/>
                  </a:lnTo>
                  <a:lnTo>
                    <a:pt x="2416" y="1556"/>
                  </a:lnTo>
                  <a:lnTo>
                    <a:pt x="2416" y="1547"/>
                  </a:lnTo>
                  <a:lnTo>
                    <a:pt x="2416" y="1538"/>
                  </a:lnTo>
                  <a:lnTo>
                    <a:pt x="2416" y="1530"/>
                  </a:lnTo>
                  <a:lnTo>
                    <a:pt x="2407" y="1521"/>
                  </a:lnTo>
                  <a:lnTo>
                    <a:pt x="2395" y="1518"/>
                  </a:lnTo>
                  <a:lnTo>
                    <a:pt x="2390" y="1510"/>
                  </a:lnTo>
                  <a:lnTo>
                    <a:pt x="2390" y="1501"/>
                  </a:lnTo>
                  <a:lnTo>
                    <a:pt x="2381" y="1498"/>
                  </a:lnTo>
                  <a:lnTo>
                    <a:pt x="2390" y="1504"/>
                  </a:lnTo>
                  <a:lnTo>
                    <a:pt x="2381" y="1510"/>
                  </a:lnTo>
                  <a:lnTo>
                    <a:pt x="2372" y="1515"/>
                  </a:lnTo>
                  <a:lnTo>
                    <a:pt x="2372" y="1524"/>
                  </a:lnTo>
                  <a:lnTo>
                    <a:pt x="2366" y="1533"/>
                  </a:lnTo>
                  <a:lnTo>
                    <a:pt x="2366" y="1541"/>
                  </a:lnTo>
                  <a:lnTo>
                    <a:pt x="2366" y="1550"/>
                  </a:lnTo>
                  <a:lnTo>
                    <a:pt x="2366" y="1559"/>
                  </a:lnTo>
                  <a:lnTo>
                    <a:pt x="2366" y="1567"/>
                  </a:lnTo>
                  <a:lnTo>
                    <a:pt x="2363" y="1576"/>
                  </a:lnTo>
                  <a:lnTo>
                    <a:pt x="2360" y="1584"/>
                  </a:lnTo>
                  <a:lnTo>
                    <a:pt x="2358" y="1593"/>
                  </a:lnTo>
                  <a:lnTo>
                    <a:pt x="2352" y="1602"/>
                  </a:lnTo>
                  <a:lnTo>
                    <a:pt x="2349" y="1610"/>
                  </a:lnTo>
                  <a:lnTo>
                    <a:pt x="2346" y="1619"/>
                  </a:lnTo>
                  <a:lnTo>
                    <a:pt x="2346" y="1628"/>
                  </a:lnTo>
                  <a:lnTo>
                    <a:pt x="2346" y="1636"/>
                  </a:lnTo>
                  <a:lnTo>
                    <a:pt x="2355" y="1639"/>
                  </a:lnTo>
                  <a:lnTo>
                    <a:pt x="2363" y="1639"/>
                  </a:lnTo>
                  <a:lnTo>
                    <a:pt x="2372" y="1636"/>
                  </a:lnTo>
                  <a:lnTo>
                    <a:pt x="2372" y="1645"/>
                  </a:lnTo>
                  <a:lnTo>
                    <a:pt x="2372" y="1654"/>
                  </a:lnTo>
                  <a:lnTo>
                    <a:pt x="2372" y="1662"/>
                  </a:lnTo>
                  <a:lnTo>
                    <a:pt x="2372" y="1671"/>
                  </a:lnTo>
                  <a:lnTo>
                    <a:pt x="2372" y="1682"/>
                  </a:lnTo>
                  <a:lnTo>
                    <a:pt x="2369" y="1691"/>
                  </a:lnTo>
                  <a:lnTo>
                    <a:pt x="2378" y="1697"/>
                  </a:lnTo>
                  <a:lnTo>
                    <a:pt x="2381" y="1706"/>
                  </a:lnTo>
                  <a:lnTo>
                    <a:pt x="2390" y="1711"/>
                  </a:lnTo>
                  <a:lnTo>
                    <a:pt x="2401" y="1714"/>
                  </a:lnTo>
                  <a:lnTo>
                    <a:pt x="2404" y="1723"/>
                  </a:lnTo>
                  <a:lnTo>
                    <a:pt x="2404" y="1731"/>
                  </a:lnTo>
                  <a:lnTo>
                    <a:pt x="2404" y="1740"/>
                  </a:lnTo>
                  <a:lnTo>
                    <a:pt x="2404" y="1749"/>
                  </a:lnTo>
                  <a:lnTo>
                    <a:pt x="2395" y="1743"/>
                  </a:lnTo>
                  <a:lnTo>
                    <a:pt x="2393" y="1734"/>
                  </a:lnTo>
                  <a:lnTo>
                    <a:pt x="2387" y="1723"/>
                  </a:lnTo>
                  <a:lnTo>
                    <a:pt x="2381" y="1714"/>
                  </a:lnTo>
                  <a:lnTo>
                    <a:pt x="2372" y="1711"/>
                  </a:lnTo>
                  <a:lnTo>
                    <a:pt x="2363" y="1708"/>
                  </a:lnTo>
                  <a:lnTo>
                    <a:pt x="2355" y="1708"/>
                  </a:lnTo>
                  <a:lnTo>
                    <a:pt x="2340" y="1706"/>
                  </a:lnTo>
                  <a:lnTo>
                    <a:pt x="2328" y="1703"/>
                  </a:lnTo>
                  <a:lnTo>
                    <a:pt x="2320" y="1697"/>
                  </a:lnTo>
                  <a:lnTo>
                    <a:pt x="2311" y="1694"/>
                  </a:lnTo>
                  <a:lnTo>
                    <a:pt x="2302" y="1691"/>
                  </a:lnTo>
                  <a:lnTo>
                    <a:pt x="2294" y="1688"/>
                  </a:lnTo>
                  <a:lnTo>
                    <a:pt x="2285" y="1685"/>
                  </a:lnTo>
                  <a:lnTo>
                    <a:pt x="2276" y="1685"/>
                  </a:lnTo>
                  <a:lnTo>
                    <a:pt x="2267" y="1685"/>
                  </a:lnTo>
                  <a:lnTo>
                    <a:pt x="2273" y="1680"/>
                  </a:lnTo>
                  <a:lnTo>
                    <a:pt x="2262" y="1671"/>
                  </a:lnTo>
                  <a:lnTo>
                    <a:pt x="2262" y="1662"/>
                  </a:lnTo>
                  <a:lnTo>
                    <a:pt x="2256" y="1671"/>
                  </a:lnTo>
                  <a:lnTo>
                    <a:pt x="2247" y="1671"/>
                  </a:lnTo>
                  <a:lnTo>
                    <a:pt x="2235" y="1671"/>
                  </a:lnTo>
                  <a:lnTo>
                    <a:pt x="2227" y="1668"/>
                  </a:lnTo>
                  <a:lnTo>
                    <a:pt x="2227" y="1659"/>
                  </a:lnTo>
                  <a:lnTo>
                    <a:pt x="2221" y="1668"/>
                  </a:lnTo>
                  <a:lnTo>
                    <a:pt x="2221" y="1677"/>
                  </a:lnTo>
                  <a:lnTo>
                    <a:pt x="2232" y="1680"/>
                  </a:lnTo>
                  <a:lnTo>
                    <a:pt x="2241" y="1682"/>
                  </a:lnTo>
                  <a:lnTo>
                    <a:pt x="2244" y="1691"/>
                  </a:lnTo>
                  <a:lnTo>
                    <a:pt x="2247" y="1700"/>
                  </a:lnTo>
                  <a:lnTo>
                    <a:pt x="2250" y="1708"/>
                  </a:lnTo>
                  <a:lnTo>
                    <a:pt x="2259" y="1711"/>
                  </a:lnTo>
                  <a:lnTo>
                    <a:pt x="2262" y="1720"/>
                  </a:lnTo>
                  <a:lnTo>
                    <a:pt x="2262" y="1729"/>
                  </a:lnTo>
                  <a:lnTo>
                    <a:pt x="2262" y="1737"/>
                  </a:lnTo>
                  <a:lnTo>
                    <a:pt x="2253" y="1743"/>
                  </a:lnTo>
                  <a:lnTo>
                    <a:pt x="2250" y="1752"/>
                  </a:lnTo>
                  <a:lnTo>
                    <a:pt x="2250" y="1760"/>
                  </a:lnTo>
                  <a:lnTo>
                    <a:pt x="2244" y="1752"/>
                  </a:lnTo>
                  <a:lnTo>
                    <a:pt x="2241" y="1743"/>
                  </a:lnTo>
                  <a:lnTo>
                    <a:pt x="2232" y="1743"/>
                  </a:lnTo>
                  <a:lnTo>
                    <a:pt x="2232" y="1734"/>
                  </a:lnTo>
                  <a:lnTo>
                    <a:pt x="2221" y="1729"/>
                  </a:lnTo>
                  <a:lnTo>
                    <a:pt x="2209" y="1731"/>
                  </a:lnTo>
                  <a:lnTo>
                    <a:pt x="2200" y="1734"/>
                  </a:lnTo>
                  <a:lnTo>
                    <a:pt x="2192" y="1737"/>
                  </a:lnTo>
                  <a:lnTo>
                    <a:pt x="2183" y="1746"/>
                  </a:lnTo>
                  <a:lnTo>
                    <a:pt x="2177" y="1755"/>
                  </a:lnTo>
                  <a:lnTo>
                    <a:pt x="2168" y="1755"/>
                  </a:lnTo>
                  <a:lnTo>
                    <a:pt x="2160" y="1760"/>
                  </a:lnTo>
                  <a:lnTo>
                    <a:pt x="2151" y="1769"/>
                  </a:lnTo>
                  <a:lnTo>
                    <a:pt x="2142" y="1772"/>
                  </a:lnTo>
                  <a:lnTo>
                    <a:pt x="2133" y="1772"/>
                  </a:lnTo>
                  <a:lnTo>
                    <a:pt x="2133" y="1763"/>
                  </a:lnTo>
                  <a:lnTo>
                    <a:pt x="2142" y="1755"/>
                  </a:lnTo>
                  <a:lnTo>
                    <a:pt x="2151" y="1752"/>
                  </a:lnTo>
                  <a:lnTo>
                    <a:pt x="2160" y="1749"/>
                  </a:lnTo>
                  <a:lnTo>
                    <a:pt x="2160" y="1737"/>
                  </a:lnTo>
                  <a:lnTo>
                    <a:pt x="2154" y="1729"/>
                  </a:lnTo>
                  <a:lnTo>
                    <a:pt x="2145" y="1729"/>
                  </a:lnTo>
                  <a:lnTo>
                    <a:pt x="2136" y="1734"/>
                  </a:lnTo>
                  <a:lnTo>
                    <a:pt x="2128" y="1740"/>
                  </a:lnTo>
                  <a:lnTo>
                    <a:pt x="2122" y="1749"/>
                  </a:lnTo>
                  <a:lnTo>
                    <a:pt x="2113" y="1755"/>
                  </a:lnTo>
                  <a:lnTo>
                    <a:pt x="2104" y="1757"/>
                  </a:lnTo>
                  <a:lnTo>
                    <a:pt x="2096" y="1763"/>
                  </a:lnTo>
                  <a:lnTo>
                    <a:pt x="2087" y="1763"/>
                  </a:lnTo>
                  <a:lnTo>
                    <a:pt x="2078" y="1766"/>
                  </a:lnTo>
                  <a:lnTo>
                    <a:pt x="2069" y="1769"/>
                  </a:lnTo>
                  <a:lnTo>
                    <a:pt x="2061" y="1772"/>
                  </a:lnTo>
                  <a:lnTo>
                    <a:pt x="2055" y="1780"/>
                  </a:lnTo>
                  <a:lnTo>
                    <a:pt x="2052" y="1789"/>
                  </a:lnTo>
                  <a:lnTo>
                    <a:pt x="2040" y="1792"/>
                  </a:lnTo>
                  <a:lnTo>
                    <a:pt x="2034" y="1801"/>
                  </a:lnTo>
                  <a:lnTo>
                    <a:pt x="2034" y="1809"/>
                  </a:lnTo>
                  <a:lnTo>
                    <a:pt x="2029" y="1818"/>
                  </a:lnTo>
                  <a:lnTo>
                    <a:pt x="2020" y="1824"/>
                  </a:lnTo>
                  <a:lnTo>
                    <a:pt x="2011" y="1827"/>
                  </a:lnTo>
                  <a:lnTo>
                    <a:pt x="2008" y="1815"/>
                  </a:lnTo>
                  <a:lnTo>
                    <a:pt x="2005" y="1806"/>
                  </a:lnTo>
                  <a:lnTo>
                    <a:pt x="2005" y="1798"/>
                  </a:lnTo>
                  <a:lnTo>
                    <a:pt x="1997" y="1789"/>
                  </a:lnTo>
                  <a:lnTo>
                    <a:pt x="1988" y="1780"/>
                  </a:lnTo>
                  <a:lnTo>
                    <a:pt x="1999" y="1780"/>
                  </a:lnTo>
                  <a:lnTo>
                    <a:pt x="2011" y="1778"/>
                  </a:lnTo>
                  <a:lnTo>
                    <a:pt x="2020" y="1775"/>
                  </a:lnTo>
                  <a:lnTo>
                    <a:pt x="2020" y="1766"/>
                  </a:lnTo>
                  <a:lnTo>
                    <a:pt x="2023" y="1757"/>
                  </a:lnTo>
                  <a:lnTo>
                    <a:pt x="2023" y="1749"/>
                  </a:lnTo>
                  <a:lnTo>
                    <a:pt x="2014" y="1743"/>
                  </a:lnTo>
                  <a:lnTo>
                    <a:pt x="2005" y="1740"/>
                  </a:lnTo>
                  <a:lnTo>
                    <a:pt x="1994" y="1740"/>
                  </a:lnTo>
                  <a:lnTo>
                    <a:pt x="1985" y="1737"/>
                  </a:lnTo>
                  <a:lnTo>
                    <a:pt x="1976" y="1731"/>
                  </a:lnTo>
                  <a:lnTo>
                    <a:pt x="1967" y="1729"/>
                  </a:lnTo>
                  <a:lnTo>
                    <a:pt x="1967" y="1737"/>
                  </a:lnTo>
                  <a:lnTo>
                    <a:pt x="1970" y="1746"/>
                  </a:lnTo>
                  <a:lnTo>
                    <a:pt x="1976" y="1755"/>
                  </a:lnTo>
                  <a:lnTo>
                    <a:pt x="1976" y="1763"/>
                  </a:lnTo>
                  <a:lnTo>
                    <a:pt x="1976" y="1772"/>
                  </a:lnTo>
                  <a:lnTo>
                    <a:pt x="1973" y="1780"/>
                  </a:lnTo>
                  <a:lnTo>
                    <a:pt x="1965" y="1789"/>
                  </a:lnTo>
                  <a:lnTo>
                    <a:pt x="1956" y="1795"/>
                  </a:lnTo>
                  <a:lnTo>
                    <a:pt x="1953" y="1803"/>
                  </a:lnTo>
                  <a:lnTo>
                    <a:pt x="1962" y="1806"/>
                  </a:lnTo>
                  <a:lnTo>
                    <a:pt x="1970" y="1806"/>
                  </a:lnTo>
                  <a:lnTo>
                    <a:pt x="1979" y="1806"/>
                  </a:lnTo>
                  <a:lnTo>
                    <a:pt x="1982" y="1815"/>
                  </a:lnTo>
                  <a:lnTo>
                    <a:pt x="1976" y="1824"/>
                  </a:lnTo>
                  <a:lnTo>
                    <a:pt x="1965" y="1832"/>
                  </a:lnTo>
                  <a:lnTo>
                    <a:pt x="1959" y="1841"/>
                  </a:lnTo>
                  <a:lnTo>
                    <a:pt x="1959" y="1850"/>
                  </a:lnTo>
                  <a:lnTo>
                    <a:pt x="1947" y="1838"/>
                  </a:lnTo>
                  <a:lnTo>
                    <a:pt x="1938" y="1835"/>
                  </a:lnTo>
                  <a:lnTo>
                    <a:pt x="1933" y="1827"/>
                  </a:lnTo>
                  <a:lnTo>
                    <a:pt x="1924" y="1821"/>
                  </a:lnTo>
                  <a:lnTo>
                    <a:pt x="1915" y="1821"/>
                  </a:lnTo>
                  <a:lnTo>
                    <a:pt x="1906" y="1829"/>
                  </a:lnTo>
                  <a:lnTo>
                    <a:pt x="1898" y="1835"/>
                  </a:lnTo>
                  <a:lnTo>
                    <a:pt x="1889" y="1838"/>
                  </a:lnTo>
                  <a:lnTo>
                    <a:pt x="1880" y="1841"/>
                  </a:lnTo>
                  <a:lnTo>
                    <a:pt x="1874" y="1850"/>
                  </a:lnTo>
                  <a:lnTo>
                    <a:pt x="1871" y="1858"/>
                  </a:lnTo>
                  <a:lnTo>
                    <a:pt x="1868" y="1867"/>
                  </a:lnTo>
                  <a:lnTo>
                    <a:pt x="1868" y="1876"/>
                  </a:lnTo>
                  <a:lnTo>
                    <a:pt x="1868" y="1884"/>
                  </a:lnTo>
                  <a:lnTo>
                    <a:pt x="1868" y="1893"/>
                  </a:lnTo>
                  <a:lnTo>
                    <a:pt x="1868" y="1901"/>
                  </a:lnTo>
                  <a:lnTo>
                    <a:pt x="1860" y="1907"/>
                  </a:lnTo>
                  <a:lnTo>
                    <a:pt x="1848" y="1901"/>
                  </a:lnTo>
                  <a:lnTo>
                    <a:pt x="1845" y="1893"/>
                  </a:lnTo>
                  <a:lnTo>
                    <a:pt x="1839" y="1884"/>
                  </a:lnTo>
                  <a:lnTo>
                    <a:pt x="1831" y="1876"/>
                  </a:lnTo>
                  <a:lnTo>
                    <a:pt x="1822" y="1870"/>
                  </a:lnTo>
                  <a:lnTo>
                    <a:pt x="1813" y="1867"/>
                  </a:lnTo>
                  <a:lnTo>
                    <a:pt x="1804" y="1867"/>
                  </a:lnTo>
                  <a:lnTo>
                    <a:pt x="1799" y="1876"/>
                  </a:lnTo>
                  <a:lnTo>
                    <a:pt x="1796" y="1884"/>
                  </a:lnTo>
                  <a:lnTo>
                    <a:pt x="1796" y="1893"/>
                  </a:lnTo>
                  <a:lnTo>
                    <a:pt x="1804" y="1899"/>
                  </a:lnTo>
                  <a:lnTo>
                    <a:pt x="1816" y="1901"/>
                  </a:lnTo>
                  <a:lnTo>
                    <a:pt x="1819" y="1910"/>
                  </a:lnTo>
                  <a:lnTo>
                    <a:pt x="1807" y="1910"/>
                  </a:lnTo>
                  <a:lnTo>
                    <a:pt x="1819" y="1893"/>
                  </a:lnTo>
                  <a:lnTo>
                    <a:pt x="1810" y="1896"/>
                  </a:lnTo>
                  <a:lnTo>
                    <a:pt x="1822" y="1899"/>
                  </a:lnTo>
                  <a:lnTo>
                    <a:pt x="1822" y="1910"/>
                  </a:lnTo>
                  <a:lnTo>
                    <a:pt x="1822" y="1919"/>
                  </a:lnTo>
                  <a:lnTo>
                    <a:pt x="1816" y="1927"/>
                  </a:lnTo>
                  <a:lnTo>
                    <a:pt x="1802" y="1927"/>
                  </a:lnTo>
                  <a:lnTo>
                    <a:pt x="1793" y="1922"/>
                  </a:lnTo>
                  <a:lnTo>
                    <a:pt x="1790" y="1913"/>
                  </a:lnTo>
                  <a:lnTo>
                    <a:pt x="1790" y="1904"/>
                  </a:lnTo>
                  <a:lnTo>
                    <a:pt x="1784" y="1896"/>
                  </a:lnTo>
                  <a:lnTo>
                    <a:pt x="1778" y="1887"/>
                  </a:lnTo>
                  <a:lnTo>
                    <a:pt x="1770" y="1878"/>
                  </a:lnTo>
                  <a:lnTo>
                    <a:pt x="1767" y="1870"/>
                  </a:lnTo>
                  <a:lnTo>
                    <a:pt x="1764" y="1861"/>
                  </a:lnTo>
                  <a:lnTo>
                    <a:pt x="1764" y="1850"/>
                  </a:lnTo>
                  <a:lnTo>
                    <a:pt x="1764" y="1841"/>
                  </a:lnTo>
                  <a:lnTo>
                    <a:pt x="1764" y="1832"/>
                  </a:lnTo>
                  <a:lnTo>
                    <a:pt x="1772" y="1827"/>
                  </a:lnTo>
                  <a:lnTo>
                    <a:pt x="1778" y="1818"/>
                  </a:lnTo>
                  <a:lnTo>
                    <a:pt x="1778" y="1809"/>
                  </a:lnTo>
                  <a:lnTo>
                    <a:pt x="1778" y="1801"/>
                  </a:lnTo>
                  <a:lnTo>
                    <a:pt x="1778" y="1792"/>
                  </a:lnTo>
                  <a:lnTo>
                    <a:pt x="1770" y="1783"/>
                  </a:lnTo>
                  <a:lnTo>
                    <a:pt x="1761" y="1778"/>
                  </a:lnTo>
                  <a:lnTo>
                    <a:pt x="1752" y="1772"/>
                  </a:lnTo>
                  <a:lnTo>
                    <a:pt x="1752" y="1763"/>
                  </a:lnTo>
                  <a:lnTo>
                    <a:pt x="1752" y="1752"/>
                  </a:lnTo>
                  <a:lnTo>
                    <a:pt x="1752" y="1743"/>
                  </a:lnTo>
                  <a:lnTo>
                    <a:pt x="1764" y="1749"/>
                  </a:lnTo>
                  <a:lnTo>
                    <a:pt x="1772" y="1757"/>
                  </a:lnTo>
                  <a:lnTo>
                    <a:pt x="1781" y="1763"/>
                  </a:lnTo>
                  <a:lnTo>
                    <a:pt x="1781" y="1772"/>
                  </a:lnTo>
                  <a:lnTo>
                    <a:pt x="1787" y="1783"/>
                  </a:lnTo>
                  <a:lnTo>
                    <a:pt x="1796" y="1789"/>
                  </a:lnTo>
                  <a:lnTo>
                    <a:pt x="1804" y="1795"/>
                  </a:lnTo>
                  <a:lnTo>
                    <a:pt x="1816" y="1801"/>
                  </a:lnTo>
                  <a:lnTo>
                    <a:pt x="1822" y="1809"/>
                  </a:lnTo>
                  <a:lnTo>
                    <a:pt x="1831" y="1815"/>
                  </a:lnTo>
                  <a:lnTo>
                    <a:pt x="1836" y="1824"/>
                  </a:lnTo>
                  <a:lnTo>
                    <a:pt x="1845" y="1829"/>
                  </a:lnTo>
                  <a:lnTo>
                    <a:pt x="1854" y="1835"/>
                  </a:lnTo>
                  <a:lnTo>
                    <a:pt x="1866" y="1835"/>
                  </a:lnTo>
                  <a:lnTo>
                    <a:pt x="1874" y="1835"/>
                  </a:lnTo>
                  <a:lnTo>
                    <a:pt x="1883" y="1835"/>
                  </a:lnTo>
                  <a:lnTo>
                    <a:pt x="1892" y="1829"/>
                  </a:lnTo>
                  <a:lnTo>
                    <a:pt x="1901" y="1827"/>
                  </a:lnTo>
                  <a:lnTo>
                    <a:pt x="1909" y="1818"/>
                  </a:lnTo>
                  <a:lnTo>
                    <a:pt x="1909" y="1809"/>
                  </a:lnTo>
                  <a:lnTo>
                    <a:pt x="1909" y="1801"/>
                  </a:lnTo>
                  <a:lnTo>
                    <a:pt x="1909" y="1792"/>
                  </a:lnTo>
                  <a:lnTo>
                    <a:pt x="1915" y="1783"/>
                  </a:lnTo>
                  <a:lnTo>
                    <a:pt x="1918" y="1775"/>
                  </a:lnTo>
                  <a:lnTo>
                    <a:pt x="1918" y="1766"/>
                  </a:lnTo>
                  <a:lnTo>
                    <a:pt x="1915" y="1757"/>
                  </a:lnTo>
                  <a:lnTo>
                    <a:pt x="1909" y="1749"/>
                  </a:lnTo>
                  <a:lnTo>
                    <a:pt x="1901" y="1740"/>
                  </a:lnTo>
                  <a:lnTo>
                    <a:pt x="1895" y="1731"/>
                  </a:lnTo>
                  <a:lnTo>
                    <a:pt x="1892" y="1720"/>
                  </a:lnTo>
                  <a:lnTo>
                    <a:pt x="1889" y="1711"/>
                  </a:lnTo>
                  <a:lnTo>
                    <a:pt x="1880" y="1706"/>
                  </a:lnTo>
                  <a:lnTo>
                    <a:pt x="1871" y="1697"/>
                  </a:lnTo>
                  <a:lnTo>
                    <a:pt x="1866" y="1688"/>
                  </a:lnTo>
                  <a:lnTo>
                    <a:pt x="1860" y="1680"/>
                  </a:lnTo>
                  <a:lnTo>
                    <a:pt x="1851" y="1671"/>
                  </a:lnTo>
                  <a:lnTo>
                    <a:pt x="1842" y="1665"/>
                  </a:lnTo>
                  <a:lnTo>
                    <a:pt x="1831" y="1662"/>
                  </a:lnTo>
                  <a:lnTo>
                    <a:pt x="1819" y="1657"/>
                  </a:lnTo>
                  <a:lnTo>
                    <a:pt x="1813" y="1648"/>
                  </a:lnTo>
                  <a:lnTo>
                    <a:pt x="1810" y="1639"/>
                  </a:lnTo>
                  <a:lnTo>
                    <a:pt x="1807" y="1631"/>
                  </a:lnTo>
                  <a:lnTo>
                    <a:pt x="1799" y="1622"/>
                  </a:lnTo>
                  <a:lnTo>
                    <a:pt x="1793" y="1613"/>
                  </a:lnTo>
                  <a:lnTo>
                    <a:pt x="1784" y="1613"/>
                  </a:lnTo>
                  <a:lnTo>
                    <a:pt x="1772" y="1613"/>
                  </a:lnTo>
                  <a:lnTo>
                    <a:pt x="1764" y="1608"/>
                  </a:lnTo>
                  <a:lnTo>
                    <a:pt x="1761" y="1599"/>
                  </a:lnTo>
                  <a:lnTo>
                    <a:pt x="1772" y="1596"/>
                  </a:lnTo>
                  <a:lnTo>
                    <a:pt x="1781" y="1596"/>
                  </a:lnTo>
                  <a:lnTo>
                    <a:pt x="1787" y="1587"/>
                  </a:lnTo>
                  <a:lnTo>
                    <a:pt x="1778" y="1579"/>
                  </a:lnTo>
                  <a:lnTo>
                    <a:pt x="1770" y="1576"/>
                  </a:lnTo>
                  <a:lnTo>
                    <a:pt x="1761" y="1573"/>
                  </a:lnTo>
                  <a:lnTo>
                    <a:pt x="1758" y="1564"/>
                  </a:lnTo>
                  <a:lnTo>
                    <a:pt x="1758" y="1556"/>
                  </a:lnTo>
                  <a:lnTo>
                    <a:pt x="1758" y="1547"/>
                  </a:lnTo>
                  <a:lnTo>
                    <a:pt x="1749" y="1547"/>
                  </a:lnTo>
                  <a:lnTo>
                    <a:pt x="1737" y="1553"/>
                  </a:lnTo>
                  <a:lnTo>
                    <a:pt x="1729" y="1553"/>
                  </a:lnTo>
                  <a:lnTo>
                    <a:pt x="1720" y="1556"/>
                  </a:lnTo>
                  <a:lnTo>
                    <a:pt x="1720" y="1547"/>
                  </a:lnTo>
                  <a:lnTo>
                    <a:pt x="1723" y="1538"/>
                  </a:lnTo>
                  <a:lnTo>
                    <a:pt x="1726" y="1550"/>
                  </a:lnTo>
                  <a:lnTo>
                    <a:pt x="1723" y="1559"/>
                  </a:lnTo>
                  <a:lnTo>
                    <a:pt x="1723" y="1567"/>
                  </a:lnTo>
                  <a:lnTo>
                    <a:pt x="1732" y="1567"/>
                  </a:lnTo>
                  <a:lnTo>
                    <a:pt x="1740" y="1556"/>
                  </a:lnTo>
                  <a:lnTo>
                    <a:pt x="1726" y="1553"/>
                  </a:lnTo>
                  <a:lnTo>
                    <a:pt x="1717" y="1553"/>
                  </a:lnTo>
                  <a:lnTo>
                    <a:pt x="1705" y="1553"/>
                  </a:lnTo>
                  <a:lnTo>
                    <a:pt x="1705" y="1541"/>
                  </a:lnTo>
                  <a:lnTo>
                    <a:pt x="1711" y="1533"/>
                  </a:lnTo>
                  <a:lnTo>
                    <a:pt x="1700" y="1535"/>
                  </a:lnTo>
                  <a:lnTo>
                    <a:pt x="1691" y="1541"/>
                  </a:lnTo>
                  <a:lnTo>
                    <a:pt x="1679" y="1544"/>
                  </a:lnTo>
                  <a:lnTo>
                    <a:pt x="1685" y="1533"/>
                  </a:lnTo>
                  <a:lnTo>
                    <a:pt x="1685" y="1524"/>
                  </a:lnTo>
                  <a:lnTo>
                    <a:pt x="1676" y="1524"/>
                  </a:lnTo>
                  <a:lnTo>
                    <a:pt x="1668" y="1533"/>
                  </a:lnTo>
                  <a:lnTo>
                    <a:pt x="1662" y="1541"/>
                  </a:lnTo>
                  <a:lnTo>
                    <a:pt x="1653" y="1544"/>
                  </a:lnTo>
                  <a:lnTo>
                    <a:pt x="1653" y="1535"/>
                  </a:lnTo>
                  <a:lnTo>
                    <a:pt x="1644" y="1541"/>
                  </a:lnTo>
                  <a:lnTo>
                    <a:pt x="1641" y="1550"/>
                  </a:lnTo>
                  <a:lnTo>
                    <a:pt x="1633" y="1547"/>
                  </a:lnTo>
                  <a:lnTo>
                    <a:pt x="1633" y="1538"/>
                  </a:lnTo>
                  <a:lnTo>
                    <a:pt x="1624" y="1538"/>
                  </a:lnTo>
                  <a:lnTo>
                    <a:pt x="1615" y="1541"/>
                  </a:lnTo>
                  <a:lnTo>
                    <a:pt x="1609" y="1550"/>
                  </a:lnTo>
                  <a:lnTo>
                    <a:pt x="1601" y="1541"/>
                  </a:lnTo>
                  <a:lnTo>
                    <a:pt x="1598" y="1533"/>
                  </a:lnTo>
                  <a:lnTo>
                    <a:pt x="1589" y="1535"/>
                  </a:lnTo>
                  <a:lnTo>
                    <a:pt x="1580" y="1541"/>
                  </a:lnTo>
                  <a:lnTo>
                    <a:pt x="1569" y="1538"/>
                  </a:lnTo>
                  <a:lnTo>
                    <a:pt x="1563" y="1547"/>
                  </a:lnTo>
                  <a:lnTo>
                    <a:pt x="1557" y="1559"/>
                  </a:lnTo>
                  <a:lnTo>
                    <a:pt x="1554" y="1567"/>
                  </a:lnTo>
                  <a:lnTo>
                    <a:pt x="1548" y="1576"/>
                  </a:lnTo>
                  <a:lnTo>
                    <a:pt x="1540" y="1576"/>
                  </a:lnTo>
                  <a:lnTo>
                    <a:pt x="1531" y="1576"/>
                  </a:lnTo>
                  <a:lnTo>
                    <a:pt x="1525" y="1564"/>
                  </a:lnTo>
                  <a:lnTo>
                    <a:pt x="1525" y="1556"/>
                  </a:lnTo>
                  <a:lnTo>
                    <a:pt x="1525" y="1547"/>
                  </a:lnTo>
                  <a:lnTo>
                    <a:pt x="1516" y="1544"/>
                  </a:lnTo>
                  <a:lnTo>
                    <a:pt x="1513" y="1553"/>
                  </a:lnTo>
                  <a:lnTo>
                    <a:pt x="1528" y="1541"/>
                  </a:lnTo>
                  <a:lnTo>
                    <a:pt x="1510" y="1530"/>
                  </a:lnTo>
                  <a:lnTo>
                    <a:pt x="1502" y="1530"/>
                  </a:lnTo>
                  <a:lnTo>
                    <a:pt x="1493" y="1538"/>
                  </a:lnTo>
                  <a:lnTo>
                    <a:pt x="1484" y="1544"/>
                  </a:lnTo>
                  <a:lnTo>
                    <a:pt x="1481" y="1553"/>
                  </a:lnTo>
                  <a:lnTo>
                    <a:pt x="1481" y="1561"/>
                  </a:lnTo>
                  <a:lnTo>
                    <a:pt x="1487" y="1570"/>
                  </a:lnTo>
                  <a:lnTo>
                    <a:pt x="1487" y="1579"/>
                  </a:lnTo>
                  <a:lnTo>
                    <a:pt x="1478" y="1587"/>
                  </a:lnTo>
                  <a:lnTo>
                    <a:pt x="1470" y="1590"/>
                  </a:lnTo>
                  <a:lnTo>
                    <a:pt x="1461" y="1599"/>
                  </a:lnTo>
                  <a:lnTo>
                    <a:pt x="1443" y="1599"/>
                  </a:lnTo>
                  <a:lnTo>
                    <a:pt x="1432" y="1599"/>
                  </a:lnTo>
                  <a:lnTo>
                    <a:pt x="1426" y="1610"/>
                  </a:lnTo>
                  <a:lnTo>
                    <a:pt x="1420" y="1619"/>
                  </a:lnTo>
                  <a:lnTo>
                    <a:pt x="1429" y="1619"/>
                  </a:lnTo>
                  <a:lnTo>
                    <a:pt x="1417" y="1628"/>
                  </a:lnTo>
                  <a:lnTo>
                    <a:pt x="1406" y="1628"/>
                  </a:lnTo>
                  <a:lnTo>
                    <a:pt x="1397" y="1628"/>
                  </a:lnTo>
                  <a:lnTo>
                    <a:pt x="1388" y="1628"/>
                  </a:lnTo>
                  <a:lnTo>
                    <a:pt x="1382" y="1636"/>
                  </a:lnTo>
                  <a:lnTo>
                    <a:pt x="1379" y="1645"/>
                  </a:lnTo>
                  <a:lnTo>
                    <a:pt x="1371" y="1645"/>
                  </a:lnTo>
                  <a:lnTo>
                    <a:pt x="1362" y="1645"/>
                  </a:lnTo>
                  <a:lnTo>
                    <a:pt x="1356" y="1654"/>
                  </a:lnTo>
                  <a:lnTo>
                    <a:pt x="1347" y="1657"/>
                  </a:lnTo>
                  <a:lnTo>
                    <a:pt x="1336" y="1659"/>
                  </a:lnTo>
                  <a:lnTo>
                    <a:pt x="1327" y="1659"/>
                  </a:lnTo>
                  <a:lnTo>
                    <a:pt x="1318" y="1662"/>
                  </a:lnTo>
                  <a:lnTo>
                    <a:pt x="1310" y="1662"/>
                  </a:lnTo>
                  <a:lnTo>
                    <a:pt x="1298" y="1662"/>
                  </a:lnTo>
                  <a:lnTo>
                    <a:pt x="1289" y="1665"/>
                  </a:lnTo>
                  <a:lnTo>
                    <a:pt x="1280" y="1671"/>
                  </a:lnTo>
                  <a:lnTo>
                    <a:pt x="1278" y="1680"/>
                  </a:lnTo>
                  <a:lnTo>
                    <a:pt x="1280" y="1691"/>
                  </a:lnTo>
                  <a:lnTo>
                    <a:pt x="1289" y="1694"/>
                  </a:lnTo>
                  <a:lnTo>
                    <a:pt x="1301" y="1697"/>
                  </a:lnTo>
                  <a:lnTo>
                    <a:pt x="1312" y="1697"/>
                  </a:lnTo>
                  <a:lnTo>
                    <a:pt x="1321" y="1697"/>
                  </a:lnTo>
                  <a:lnTo>
                    <a:pt x="1310" y="1694"/>
                  </a:lnTo>
                  <a:lnTo>
                    <a:pt x="1298" y="1694"/>
                  </a:lnTo>
                  <a:lnTo>
                    <a:pt x="1289" y="1691"/>
                  </a:lnTo>
                  <a:lnTo>
                    <a:pt x="1304" y="1685"/>
                  </a:lnTo>
                  <a:lnTo>
                    <a:pt x="1312" y="1685"/>
                  </a:lnTo>
                  <a:lnTo>
                    <a:pt x="1321" y="1685"/>
                  </a:lnTo>
                  <a:lnTo>
                    <a:pt x="1312" y="1682"/>
                  </a:lnTo>
                  <a:lnTo>
                    <a:pt x="1301" y="1685"/>
                  </a:lnTo>
                  <a:lnTo>
                    <a:pt x="1292" y="1685"/>
                  </a:lnTo>
                  <a:lnTo>
                    <a:pt x="1286" y="1677"/>
                  </a:lnTo>
                  <a:lnTo>
                    <a:pt x="1275" y="1668"/>
                  </a:lnTo>
                  <a:lnTo>
                    <a:pt x="1266" y="1665"/>
                  </a:lnTo>
                  <a:lnTo>
                    <a:pt x="1248" y="1659"/>
                  </a:lnTo>
                  <a:lnTo>
                    <a:pt x="1240" y="1659"/>
                  </a:lnTo>
                  <a:lnTo>
                    <a:pt x="1234" y="1668"/>
                  </a:lnTo>
                  <a:lnTo>
                    <a:pt x="1225" y="1671"/>
                  </a:lnTo>
                  <a:lnTo>
                    <a:pt x="1216" y="1674"/>
                  </a:lnTo>
                  <a:lnTo>
                    <a:pt x="1208" y="1674"/>
                  </a:lnTo>
                  <a:lnTo>
                    <a:pt x="1199" y="1671"/>
                  </a:lnTo>
                  <a:lnTo>
                    <a:pt x="1190" y="1674"/>
                  </a:lnTo>
                  <a:lnTo>
                    <a:pt x="1176" y="1671"/>
                  </a:lnTo>
                  <a:lnTo>
                    <a:pt x="1167" y="1668"/>
                  </a:lnTo>
                  <a:lnTo>
                    <a:pt x="1161" y="1677"/>
                  </a:lnTo>
                  <a:lnTo>
                    <a:pt x="1152" y="1682"/>
                  </a:lnTo>
                  <a:lnTo>
                    <a:pt x="1144" y="1682"/>
                  </a:lnTo>
                  <a:lnTo>
                    <a:pt x="1132" y="1682"/>
                  </a:lnTo>
                  <a:lnTo>
                    <a:pt x="1132" y="1691"/>
                  </a:lnTo>
                  <a:lnTo>
                    <a:pt x="1132" y="1700"/>
                  </a:lnTo>
                  <a:lnTo>
                    <a:pt x="1147" y="1708"/>
                  </a:lnTo>
                  <a:lnTo>
                    <a:pt x="1155" y="1720"/>
                  </a:lnTo>
                  <a:lnTo>
                    <a:pt x="1158" y="1729"/>
                  </a:lnTo>
                  <a:lnTo>
                    <a:pt x="1158" y="1737"/>
                  </a:lnTo>
                  <a:lnTo>
                    <a:pt x="1161" y="1746"/>
                  </a:lnTo>
                  <a:lnTo>
                    <a:pt x="1161" y="1737"/>
                  </a:lnTo>
                  <a:lnTo>
                    <a:pt x="1155" y="1726"/>
                  </a:lnTo>
                  <a:lnTo>
                    <a:pt x="1152" y="1717"/>
                  </a:lnTo>
                  <a:lnTo>
                    <a:pt x="1138" y="1717"/>
                  </a:lnTo>
                  <a:lnTo>
                    <a:pt x="1129" y="1711"/>
                  </a:lnTo>
                  <a:lnTo>
                    <a:pt x="1120" y="1711"/>
                  </a:lnTo>
                  <a:lnTo>
                    <a:pt x="1117" y="1720"/>
                  </a:lnTo>
                  <a:lnTo>
                    <a:pt x="1114" y="1731"/>
                  </a:lnTo>
                  <a:lnTo>
                    <a:pt x="1114" y="1740"/>
                  </a:lnTo>
                  <a:lnTo>
                    <a:pt x="1126" y="1740"/>
                  </a:lnTo>
                  <a:lnTo>
                    <a:pt x="1138" y="1743"/>
                  </a:lnTo>
                  <a:lnTo>
                    <a:pt x="1129" y="1743"/>
                  </a:lnTo>
                  <a:lnTo>
                    <a:pt x="1120" y="1743"/>
                  </a:lnTo>
                  <a:lnTo>
                    <a:pt x="1112" y="1746"/>
                  </a:lnTo>
                  <a:lnTo>
                    <a:pt x="1103" y="1752"/>
                  </a:lnTo>
                  <a:lnTo>
                    <a:pt x="1094" y="1755"/>
                  </a:lnTo>
                  <a:lnTo>
                    <a:pt x="1085" y="1763"/>
                  </a:lnTo>
                  <a:lnTo>
                    <a:pt x="1077" y="1766"/>
                  </a:lnTo>
                  <a:lnTo>
                    <a:pt x="1068" y="1766"/>
                  </a:lnTo>
                  <a:lnTo>
                    <a:pt x="1077" y="1772"/>
                  </a:lnTo>
                  <a:lnTo>
                    <a:pt x="1085" y="1772"/>
                  </a:lnTo>
                  <a:lnTo>
                    <a:pt x="1097" y="1775"/>
                  </a:lnTo>
                  <a:lnTo>
                    <a:pt x="1091" y="1783"/>
                  </a:lnTo>
                  <a:lnTo>
                    <a:pt x="1080" y="1786"/>
                  </a:lnTo>
                  <a:lnTo>
                    <a:pt x="1071" y="1786"/>
                  </a:lnTo>
                  <a:lnTo>
                    <a:pt x="1062" y="1789"/>
                  </a:lnTo>
                  <a:lnTo>
                    <a:pt x="1056" y="1798"/>
                  </a:lnTo>
                  <a:lnTo>
                    <a:pt x="1056" y="1806"/>
                  </a:lnTo>
                  <a:lnTo>
                    <a:pt x="1056" y="1815"/>
                  </a:lnTo>
                  <a:lnTo>
                    <a:pt x="1056" y="1824"/>
                  </a:lnTo>
                  <a:lnTo>
                    <a:pt x="1056" y="1832"/>
                  </a:lnTo>
                  <a:lnTo>
                    <a:pt x="1056" y="1841"/>
                  </a:lnTo>
                  <a:lnTo>
                    <a:pt x="1062" y="1850"/>
                  </a:lnTo>
                  <a:lnTo>
                    <a:pt x="1074" y="1855"/>
                  </a:lnTo>
                  <a:lnTo>
                    <a:pt x="1082" y="1855"/>
                  </a:lnTo>
                  <a:lnTo>
                    <a:pt x="1091" y="1855"/>
                  </a:lnTo>
                  <a:lnTo>
                    <a:pt x="1103" y="1855"/>
                  </a:lnTo>
                  <a:lnTo>
                    <a:pt x="1112" y="1855"/>
                  </a:lnTo>
                  <a:lnTo>
                    <a:pt x="1120" y="1855"/>
                  </a:lnTo>
                  <a:lnTo>
                    <a:pt x="1132" y="1855"/>
                  </a:lnTo>
                  <a:lnTo>
                    <a:pt x="1144" y="1855"/>
                  </a:lnTo>
                  <a:lnTo>
                    <a:pt x="1152" y="1852"/>
                  </a:lnTo>
                  <a:lnTo>
                    <a:pt x="1167" y="1852"/>
                  </a:lnTo>
                  <a:lnTo>
                    <a:pt x="1176" y="1844"/>
                  </a:lnTo>
                  <a:lnTo>
                    <a:pt x="1179" y="1835"/>
                  </a:lnTo>
                  <a:lnTo>
                    <a:pt x="1181" y="1827"/>
                  </a:lnTo>
                  <a:lnTo>
                    <a:pt x="1184" y="1835"/>
                  </a:lnTo>
                  <a:lnTo>
                    <a:pt x="1184" y="1844"/>
                  </a:lnTo>
                  <a:lnTo>
                    <a:pt x="1181" y="1852"/>
                  </a:lnTo>
                  <a:lnTo>
                    <a:pt x="1170" y="1858"/>
                  </a:lnTo>
                  <a:lnTo>
                    <a:pt x="1173" y="1867"/>
                  </a:lnTo>
                  <a:lnTo>
                    <a:pt x="1170" y="1876"/>
                  </a:lnTo>
                  <a:lnTo>
                    <a:pt x="1164" y="1884"/>
                  </a:lnTo>
                  <a:lnTo>
                    <a:pt x="1161" y="1893"/>
                  </a:lnTo>
                  <a:lnTo>
                    <a:pt x="1161" y="1901"/>
                  </a:lnTo>
                  <a:lnTo>
                    <a:pt x="1158" y="1910"/>
                  </a:lnTo>
                  <a:lnTo>
                    <a:pt x="1149" y="1913"/>
                  </a:lnTo>
                  <a:lnTo>
                    <a:pt x="1147" y="1922"/>
                  </a:lnTo>
                  <a:lnTo>
                    <a:pt x="1147" y="1930"/>
                  </a:lnTo>
                  <a:lnTo>
                    <a:pt x="1144" y="1939"/>
                  </a:lnTo>
                  <a:lnTo>
                    <a:pt x="1144" y="1948"/>
                  </a:lnTo>
                  <a:lnTo>
                    <a:pt x="1141" y="1956"/>
                  </a:lnTo>
                  <a:lnTo>
                    <a:pt x="1141" y="1968"/>
                  </a:lnTo>
                  <a:lnTo>
                    <a:pt x="1141" y="1976"/>
                  </a:lnTo>
                  <a:lnTo>
                    <a:pt x="1155" y="1956"/>
                  </a:lnTo>
                  <a:lnTo>
                    <a:pt x="1144" y="1956"/>
                  </a:lnTo>
                  <a:lnTo>
                    <a:pt x="1144" y="1965"/>
                  </a:lnTo>
                  <a:lnTo>
                    <a:pt x="1144" y="1974"/>
                  </a:lnTo>
                  <a:lnTo>
                    <a:pt x="1144" y="1982"/>
                  </a:lnTo>
                  <a:lnTo>
                    <a:pt x="1138" y="1991"/>
                  </a:lnTo>
                  <a:lnTo>
                    <a:pt x="1129" y="1997"/>
                  </a:lnTo>
                  <a:lnTo>
                    <a:pt x="1120" y="1997"/>
                  </a:lnTo>
                  <a:lnTo>
                    <a:pt x="1117" y="2005"/>
                  </a:lnTo>
                  <a:lnTo>
                    <a:pt x="1117" y="2014"/>
                  </a:lnTo>
                  <a:lnTo>
                    <a:pt x="1117" y="2023"/>
                  </a:lnTo>
                  <a:lnTo>
                    <a:pt x="1117" y="2031"/>
                  </a:lnTo>
                  <a:lnTo>
                    <a:pt x="1120" y="2040"/>
                  </a:lnTo>
                  <a:lnTo>
                    <a:pt x="1129" y="2046"/>
                  </a:lnTo>
                  <a:lnTo>
                    <a:pt x="1144" y="2054"/>
                  </a:lnTo>
                  <a:lnTo>
                    <a:pt x="1152" y="2054"/>
                  </a:lnTo>
                  <a:lnTo>
                    <a:pt x="1158" y="2046"/>
                  </a:lnTo>
                  <a:lnTo>
                    <a:pt x="1158" y="2037"/>
                  </a:lnTo>
                  <a:lnTo>
                    <a:pt x="1170" y="2037"/>
                  </a:lnTo>
                  <a:lnTo>
                    <a:pt x="1179" y="2037"/>
                  </a:lnTo>
                  <a:lnTo>
                    <a:pt x="1187" y="2037"/>
                  </a:lnTo>
                  <a:lnTo>
                    <a:pt x="1199" y="2037"/>
                  </a:lnTo>
                  <a:lnTo>
                    <a:pt x="1208" y="2040"/>
                  </a:lnTo>
                  <a:lnTo>
                    <a:pt x="1216" y="2043"/>
                  </a:lnTo>
                  <a:lnTo>
                    <a:pt x="1225" y="2040"/>
                  </a:lnTo>
                  <a:lnTo>
                    <a:pt x="1228" y="2031"/>
                  </a:lnTo>
                  <a:lnTo>
                    <a:pt x="1231" y="2023"/>
                  </a:lnTo>
                  <a:lnTo>
                    <a:pt x="1237" y="2014"/>
                  </a:lnTo>
                  <a:lnTo>
                    <a:pt x="1245" y="2005"/>
                  </a:lnTo>
                  <a:lnTo>
                    <a:pt x="1251" y="1997"/>
                  </a:lnTo>
                  <a:lnTo>
                    <a:pt x="1260" y="1991"/>
                  </a:lnTo>
                  <a:lnTo>
                    <a:pt x="1266" y="1982"/>
                  </a:lnTo>
                  <a:lnTo>
                    <a:pt x="1269" y="1974"/>
                  </a:lnTo>
                  <a:lnTo>
                    <a:pt x="1272" y="1965"/>
                  </a:lnTo>
                  <a:lnTo>
                    <a:pt x="1280" y="1962"/>
                  </a:lnTo>
                  <a:lnTo>
                    <a:pt x="1289" y="1962"/>
                  </a:lnTo>
                  <a:lnTo>
                    <a:pt x="1298" y="1959"/>
                  </a:lnTo>
                  <a:lnTo>
                    <a:pt x="1301" y="1950"/>
                  </a:lnTo>
                  <a:lnTo>
                    <a:pt x="1304" y="1942"/>
                  </a:lnTo>
                  <a:lnTo>
                    <a:pt x="1301" y="1933"/>
                  </a:lnTo>
                  <a:lnTo>
                    <a:pt x="1292" y="1925"/>
                  </a:lnTo>
                  <a:lnTo>
                    <a:pt x="1301" y="1919"/>
                  </a:lnTo>
                  <a:lnTo>
                    <a:pt x="1310" y="1927"/>
                  </a:lnTo>
                  <a:lnTo>
                    <a:pt x="1318" y="1933"/>
                  </a:lnTo>
                  <a:lnTo>
                    <a:pt x="1324" y="1942"/>
                  </a:lnTo>
                  <a:lnTo>
                    <a:pt x="1333" y="1950"/>
                  </a:lnTo>
                  <a:lnTo>
                    <a:pt x="1342" y="1950"/>
                  </a:lnTo>
                  <a:lnTo>
                    <a:pt x="1350" y="1950"/>
                  </a:lnTo>
                  <a:lnTo>
                    <a:pt x="1353" y="1942"/>
                  </a:lnTo>
                  <a:lnTo>
                    <a:pt x="1353" y="1933"/>
                  </a:lnTo>
                  <a:lnTo>
                    <a:pt x="1356" y="1925"/>
                  </a:lnTo>
                  <a:lnTo>
                    <a:pt x="1356" y="1916"/>
                  </a:lnTo>
                  <a:lnTo>
                    <a:pt x="1359" y="1907"/>
                  </a:lnTo>
                  <a:lnTo>
                    <a:pt x="1359" y="1899"/>
                  </a:lnTo>
                  <a:lnTo>
                    <a:pt x="1356" y="1890"/>
                  </a:lnTo>
                  <a:lnTo>
                    <a:pt x="1347" y="1881"/>
                  </a:lnTo>
                  <a:lnTo>
                    <a:pt x="1347" y="1870"/>
                  </a:lnTo>
                  <a:lnTo>
                    <a:pt x="1347" y="1861"/>
                  </a:lnTo>
                  <a:lnTo>
                    <a:pt x="1356" y="1855"/>
                  </a:lnTo>
                  <a:lnTo>
                    <a:pt x="1362" y="1847"/>
                  </a:lnTo>
                  <a:lnTo>
                    <a:pt x="1371" y="1844"/>
                  </a:lnTo>
                  <a:lnTo>
                    <a:pt x="1379" y="1835"/>
                  </a:lnTo>
                  <a:lnTo>
                    <a:pt x="1382" y="1827"/>
                  </a:lnTo>
                  <a:lnTo>
                    <a:pt x="1391" y="1821"/>
                  </a:lnTo>
                  <a:lnTo>
                    <a:pt x="1400" y="1815"/>
                  </a:lnTo>
                  <a:lnTo>
                    <a:pt x="1406" y="1806"/>
                  </a:lnTo>
                  <a:lnTo>
                    <a:pt x="1414" y="1801"/>
                  </a:lnTo>
                  <a:lnTo>
                    <a:pt x="1423" y="1801"/>
                  </a:lnTo>
                  <a:lnTo>
                    <a:pt x="1435" y="1798"/>
                  </a:lnTo>
                  <a:lnTo>
                    <a:pt x="1443" y="1792"/>
                  </a:lnTo>
                  <a:lnTo>
                    <a:pt x="1452" y="1792"/>
                  </a:lnTo>
                  <a:lnTo>
                    <a:pt x="1464" y="1789"/>
                  </a:lnTo>
                  <a:lnTo>
                    <a:pt x="1473" y="1789"/>
                  </a:lnTo>
                  <a:lnTo>
                    <a:pt x="1481" y="1789"/>
                  </a:lnTo>
                  <a:lnTo>
                    <a:pt x="1490" y="1786"/>
                  </a:lnTo>
                  <a:lnTo>
                    <a:pt x="1499" y="1786"/>
                  </a:lnTo>
                  <a:lnTo>
                    <a:pt x="1508" y="1786"/>
                  </a:lnTo>
                  <a:lnTo>
                    <a:pt x="1516" y="1783"/>
                  </a:lnTo>
                  <a:lnTo>
                    <a:pt x="1516" y="1775"/>
                  </a:lnTo>
                  <a:lnTo>
                    <a:pt x="1516" y="1766"/>
                  </a:lnTo>
                  <a:lnTo>
                    <a:pt x="1513" y="1757"/>
                  </a:lnTo>
                  <a:lnTo>
                    <a:pt x="1522" y="1752"/>
                  </a:lnTo>
                  <a:lnTo>
                    <a:pt x="1528" y="1743"/>
                  </a:lnTo>
                  <a:lnTo>
                    <a:pt x="1537" y="1737"/>
                  </a:lnTo>
                  <a:lnTo>
                    <a:pt x="1545" y="1737"/>
                  </a:lnTo>
                  <a:lnTo>
                    <a:pt x="1554" y="1734"/>
                  </a:lnTo>
                  <a:lnTo>
                    <a:pt x="1563" y="1729"/>
                  </a:lnTo>
                  <a:lnTo>
                    <a:pt x="1572" y="1729"/>
                  </a:lnTo>
                  <a:lnTo>
                    <a:pt x="1580" y="1737"/>
                  </a:lnTo>
                  <a:lnTo>
                    <a:pt x="1589" y="1743"/>
                  </a:lnTo>
                  <a:lnTo>
                    <a:pt x="1598" y="1749"/>
                  </a:lnTo>
                  <a:lnTo>
                    <a:pt x="1601" y="1757"/>
                  </a:lnTo>
                  <a:lnTo>
                    <a:pt x="1601" y="1766"/>
                  </a:lnTo>
                  <a:lnTo>
                    <a:pt x="1604" y="1775"/>
                  </a:lnTo>
                  <a:lnTo>
                    <a:pt x="1604" y="1783"/>
                  </a:lnTo>
                  <a:lnTo>
                    <a:pt x="1592" y="1789"/>
                  </a:lnTo>
                  <a:lnTo>
                    <a:pt x="1580" y="1789"/>
                  </a:lnTo>
                  <a:lnTo>
                    <a:pt x="1572" y="1792"/>
                  </a:lnTo>
                  <a:lnTo>
                    <a:pt x="1566" y="1801"/>
                  </a:lnTo>
                  <a:lnTo>
                    <a:pt x="1557" y="1806"/>
                  </a:lnTo>
                  <a:lnTo>
                    <a:pt x="1548" y="1812"/>
                  </a:lnTo>
                  <a:lnTo>
                    <a:pt x="1537" y="1815"/>
                  </a:lnTo>
                  <a:lnTo>
                    <a:pt x="1528" y="1818"/>
                  </a:lnTo>
                  <a:lnTo>
                    <a:pt x="1519" y="1824"/>
                  </a:lnTo>
                  <a:lnTo>
                    <a:pt x="1510" y="1829"/>
                  </a:lnTo>
                  <a:lnTo>
                    <a:pt x="1502" y="1829"/>
                  </a:lnTo>
                  <a:lnTo>
                    <a:pt x="1490" y="1832"/>
                  </a:lnTo>
                  <a:lnTo>
                    <a:pt x="1481" y="1835"/>
                  </a:lnTo>
                  <a:lnTo>
                    <a:pt x="1473" y="1835"/>
                  </a:lnTo>
                  <a:lnTo>
                    <a:pt x="1464" y="1841"/>
                  </a:lnTo>
                  <a:lnTo>
                    <a:pt x="1458" y="1850"/>
                  </a:lnTo>
                  <a:lnTo>
                    <a:pt x="1452" y="1858"/>
                  </a:lnTo>
                  <a:lnTo>
                    <a:pt x="1449" y="1867"/>
                  </a:lnTo>
                  <a:lnTo>
                    <a:pt x="1449" y="1876"/>
                  </a:lnTo>
                  <a:lnTo>
                    <a:pt x="1446" y="1884"/>
                  </a:lnTo>
                  <a:lnTo>
                    <a:pt x="1443" y="1893"/>
                  </a:lnTo>
                  <a:lnTo>
                    <a:pt x="1438" y="1901"/>
                  </a:lnTo>
                  <a:lnTo>
                    <a:pt x="1435" y="1910"/>
                  </a:lnTo>
                  <a:lnTo>
                    <a:pt x="1429" y="1919"/>
                  </a:lnTo>
                  <a:lnTo>
                    <a:pt x="1426" y="1927"/>
                  </a:lnTo>
                  <a:lnTo>
                    <a:pt x="1423" y="1936"/>
                  </a:lnTo>
                  <a:lnTo>
                    <a:pt x="1423" y="1945"/>
                  </a:lnTo>
                  <a:lnTo>
                    <a:pt x="1417" y="1953"/>
                  </a:lnTo>
                  <a:lnTo>
                    <a:pt x="1417" y="1962"/>
                  </a:lnTo>
                  <a:lnTo>
                    <a:pt x="1426" y="1962"/>
                  </a:lnTo>
                  <a:lnTo>
                    <a:pt x="1435" y="1974"/>
                  </a:lnTo>
                  <a:lnTo>
                    <a:pt x="1441" y="1982"/>
                  </a:lnTo>
                  <a:lnTo>
                    <a:pt x="1441" y="1991"/>
                  </a:lnTo>
                  <a:lnTo>
                    <a:pt x="1449" y="1991"/>
                  </a:lnTo>
                  <a:lnTo>
                    <a:pt x="1461" y="1991"/>
                  </a:lnTo>
                  <a:lnTo>
                    <a:pt x="1470" y="1991"/>
                  </a:lnTo>
                  <a:lnTo>
                    <a:pt x="1484" y="1994"/>
                  </a:lnTo>
                  <a:lnTo>
                    <a:pt x="1493" y="1994"/>
                  </a:lnTo>
                  <a:lnTo>
                    <a:pt x="1502" y="1994"/>
                  </a:lnTo>
                  <a:lnTo>
                    <a:pt x="1510" y="1991"/>
                  </a:lnTo>
                  <a:lnTo>
                    <a:pt x="1519" y="1997"/>
                  </a:lnTo>
                  <a:lnTo>
                    <a:pt x="1531" y="1988"/>
                  </a:lnTo>
                  <a:lnTo>
                    <a:pt x="1540" y="1991"/>
                  </a:lnTo>
                  <a:lnTo>
                    <a:pt x="1548" y="1994"/>
                  </a:lnTo>
                  <a:lnTo>
                    <a:pt x="1557" y="1997"/>
                  </a:lnTo>
                  <a:lnTo>
                    <a:pt x="1566" y="1997"/>
                  </a:lnTo>
                  <a:lnTo>
                    <a:pt x="1569" y="2005"/>
                  </a:lnTo>
                  <a:lnTo>
                    <a:pt x="1569" y="2014"/>
                  </a:lnTo>
                  <a:lnTo>
                    <a:pt x="1569" y="2023"/>
                  </a:lnTo>
                  <a:lnTo>
                    <a:pt x="1572" y="2031"/>
                  </a:lnTo>
                  <a:lnTo>
                    <a:pt x="1577" y="2040"/>
                  </a:lnTo>
                  <a:lnTo>
                    <a:pt x="1586" y="2048"/>
                  </a:lnTo>
                  <a:lnTo>
                    <a:pt x="1577" y="2040"/>
                  </a:lnTo>
                  <a:lnTo>
                    <a:pt x="1569" y="2037"/>
                  </a:lnTo>
                  <a:lnTo>
                    <a:pt x="1557" y="2037"/>
                  </a:lnTo>
                  <a:lnTo>
                    <a:pt x="1548" y="2040"/>
                  </a:lnTo>
                  <a:lnTo>
                    <a:pt x="1548" y="2048"/>
                  </a:lnTo>
                  <a:lnTo>
                    <a:pt x="1540" y="2054"/>
                  </a:lnTo>
                  <a:lnTo>
                    <a:pt x="1531" y="2051"/>
                  </a:lnTo>
                  <a:lnTo>
                    <a:pt x="1522" y="2043"/>
                  </a:lnTo>
                  <a:lnTo>
                    <a:pt x="1513" y="2034"/>
                  </a:lnTo>
                  <a:lnTo>
                    <a:pt x="1505" y="2031"/>
                  </a:lnTo>
                  <a:lnTo>
                    <a:pt x="1496" y="2031"/>
                  </a:lnTo>
                  <a:lnTo>
                    <a:pt x="1487" y="2028"/>
                  </a:lnTo>
                  <a:lnTo>
                    <a:pt x="1478" y="2025"/>
                  </a:lnTo>
                  <a:lnTo>
                    <a:pt x="1470" y="2023"/>
                  </a:lnTo>
                  <a:lnTo>
                    <a:pt x="1461" y="2020"/>
                  </a:lnTo>
                  <a:lnTo>
                    <a:pt x="1452" y="2017"/>
                  </a:lnTo>
                  <a:lnTo>
                    <a:pt x="1441" y="2011"/>
                  </a:lnTo>
                  <a:lnTo>
                    <a:pt x="1432" y="2011"/>
                  </a:lnTo>
                  <a:lnTo>
                    <a:pt x="1426" y="2020"/>
                  </a:lnTo>
                  <a:lnTo>
                    <a:pt x="1426" y="2028"/>
                  </a:lnTo>
                  <a:lnTo>
                    <a:pt x="1423" y="2037"/>
                  </a:lnTo>
                  <a:lnTo>
                    <a:pt x="1417" y="2046"/>
                  </a:lnTo>
                  <a:lnTo>
                    <a:pt x="1414" y="2054"/>
                  </a:lnTo>
                  <a:lnTo>
                    <a:pt x="1426" y="2060"/>
                  </a:lnTo>
                  <a:lnTo>
                    <a:pt x="1432" y="2069"/>
                  </a:lnTo>
                  <a:lnTo>
                    <a:pt x="1429" y="2077"/>
                  </a:lnTo>
                  <a:lnTo>
                    <a:pt x="1423" y="2086"/>
                  </a:lnTo>
                  <a:lnTo>
                    <a:pt x="1414" y="2089"/>
                  </a:lnTo>
                  <a:lnTo>
                    <a:pt x="1409" y="2097"/>
                  </a:lnTo>
                  <a:lnTo>
                    <a:pt x="1403" y="2106"/>
                  </a:lnTo>
                  <a:lnTo>
                    <a:pt x="1400" y="2115"/>
                  </a:lnTo>
                  <a:lnTo>
                    <a:pt x="1391" y="2112"/>
                  </a:lnTo>
                  <a:lnTo>
                    <a:pt x="1388" y="2103"/>
                  </a:lnTo>
                  <a:lnTo>
                    <a:pt x="1385" y="2095"/>
                  </a:lnTo>
                  <a:lnTo>
                    <a:pt x="1382" y="2086"/>
                  </a:lnTo>
                  <a:lnTo>
                    <a:pt x="1382" y="2077"/>
                  </a:lnTo>
                  <a:lnTo>
                    <a:pt x="1379" y="2069"/>
                  </a:lnTo>
                  <a:lnTo>
                    <a:pt x="1371" y="2063"/>
                  </a:lnTo>
                  <a:lnTo>
                    <a:pt x="1359" y="2063"/>
                  </a:lnTo>
                  <a:lnTo>
                    <a:pt x="1350" y="2063"/>
                  </a:lnTo>
                  <a:lnTo>
                    <a:pt x="1344" y="2072"/>
                  </a:lnTo>
                  <a:lnTo>
                    <a:pt x="1339" y="2080"/>
                  </a:lnTo>
                  <a:lnTo>
                    <a:pt x="1333" y="2089"/>
                  </a:lnTo>
                  <a:lnTo>
                    <a:pt x="1327" y="2097"/>
                  </a:lnTo>
                  <a:lnTo>
                    <a:pt x="1321" y="2106"/>
                  </a:lnTo>
                  <a:lnTo>
                    <a:pt x="1312" y="2109"/>
                  </a:lnTo>
                  <a:lnTo>
                    <a:pt x="1304" y="2112"/>
                  </a:lnTo>
                  <a:lnTo>
                    <a:pt x="1304" y="2120"/>
                  </a:lnTo>
                  <a:lnTo>
                    <a:pt x="1301" y="2129"/>
                  </a:lnTo>
                  <a:lnTo>
                    <a:pt x="1298" y="2138"/>
                  </a:lnTo>
                  <a:lnTo>
                    <a:pt x="1295" y="2146"/>
                  </a:lnTo>
                  <a:lnTo>
                    <a:pt x="1295" y="2095"/>
                  </a:lnTo>
                  <a:lnTo>
                    <a:pt x="1304" y="2103"/>
                  </a:lnTo>
                  <a:lnTo>
                    <a:pt x="1304" y="2115"/>
                  </a:lnTo>
                  <a:lnTo>
                    <a:pt x="1301" y="2123"/>
                  </a:lnTo>
                  <a:lnTo>
                    <a:pt x="1298" y="2132"/>
                  </a:lnTo>
                  <a:lnTo>
                    <a:pt x="1298" y="2141"/>
                  </a:lnTo>
                  <a:lnTo>
                    <a:pt x="1295" y="2149"/>
                  </a:lnTo>
                  <a:lnTo>
                    <a:pt x="1292" y="2161"/>
                  </a:lnTo>
                  <a:lnTo>
                    <a:pt x="1289" y="2169"/>
                  </a:lnTo>
                  <a:lnTo>
                    <a:pt x="1280" y="2175"/>
                  </a:lnTo>
                  <a:lnTo>
                    <a:pt x="1278" y="2167"/>
                  </a:lnTo>
                  <a:lnTo>
                    <a:pt x="1275" y="2155"/>
                  </a:lnTo>
                  <a:lnTo>
                    <a:pt x="1272" y="2146"/>
                  </a:lnTo>
                  <a:lnTo>
                    <a:pt x="1263" y="2146"/>
                  </a:lnTo>
                  <a:lnTo>
                    <a:pt x="1251" y="2149"/>
                  </a:lnTo>
                  <a:lnTo>
                    <a:pt x="1245" y="2158"/>
                  </a:lnTo>
                  <a:lnTo>
                    <a:pt x="1240" y="2167"/>
                  </a:lnTo>
                  <a:lnTo>
                    <a:pt x="1228" y="2167"/>
                  </a:lnTo>
                  <a:lnTo>
                    <a:pt x="1216" y="2167"/>
                  </a:lnTo>
                  <a:lnTo>
                    <a:pt x="1213" y="2155"/>
                  </a:lnTo>
                  <a:lnTo>
                    <a:pt x="1213" y="2144"/>
                  </a:lnTo>
                  <a:lnTo>
                    <a:pt x="1205" y="2138"/>
                  </a:lnTo>
                  <a:lnTo>
                    <a:pt x="1196" y="2132"/>
                  </a:lnTo>
                  <a:lnTo>
                    <a:pt x="1179" y="2126"/>
                  </a:lnTo>
                  <a:lnTo>
                    <a:pt x="1170" y="2123"/>
                  </a:lnTo>
                  <a:lnTo>
                    <a:pt x="1158" y="2123"/>
                  </a:lnTo>
                  <a:lnTo>
                    <a:pt x="1152" y="2132"/>
                  </a:lnTo>
                  <a:lnTo>
                    <a:pt x="1141" y="2135"/>
                  </a:lnTo>
                  <a:lnTo>
                    <a:pt x="1132" y="2132"/>
                  </a:lnTo>
                  <a:lnTo>
                    <a:pt x="1123" y="2123"/>
                  </a:lnTo>
                  <a:lnTo>
                    <a:pt x="1114" y="2118"/>
                  </a:lnTo>
                  <a:lnTo>
                    <a:pt x="1106" y="2115"/>
                  </a:lnTo>
                  <a:lnTo>
                    <a:pt x="1097" y="2115"/>
                  </a:lnTo>
                  <a:lnTo>
                    <a:pt x="1094" y="2106"/>
                  </a:lnTo>
                  <a:lnTo>
                    <a:pt x="1094" y="2097"/>
                  </a:lnTo>
                  <a:lnTo>
                    <a:pt x="1094" y="2089"/>
                  </a:lnTo>
                  <a:lnTo>
                    <a:pt x="1091" y="2077"/>
                  </a:lnTo>
                  <a:lnTo>
                    <a:pt x="1091" y="2069"/>
                  </a:lnTo>
                  <a:lnTo>
                    <a:pt x="1082" y="2066"/>
                  </a:lnTo>
                  <a:lnTo>
                    <a:pt x="1074" y="2066"/>
                  </a:lnTo>
                  <a:lnTo>
                    <a:pt x="1065" y="2066"/>
                  </a:lnTo>
                  <a:lnTo>
                    <a:pt x="1056" y="2066"/>
                  </a:lnTo>
                  <a:lnTo>
                    <a:pt x="1048" y="2066"/>
                  </a:lnTo>
                  <a:lnTo>
                    <a:pt x="1039" y="2066"/>
                  </a:lnTo>
                  <a:lnTo>
                    <a:pt x="1027" y="2063"/>
                  </a:lnTo>
                  <a:lnTo>
                    <a:pt x="1021" y="2054"/>
                  </a:lnTo>
                  <a:lnTo>
                    <a:pt x="1021" y="2046"/>
                  </a:lnTo>
                  <a:lnTo>
                    <a:pt x="1016" y="2048"/>
                  </a:lnTo>
                  <a:lnTo>
                    <a:pt x="1036" y="2031"/>
                  </a:lnTo>
                  <a:lnTo>
                    <a:pt x="1048" y="2020"/>
                  </a:lnTo>
                  <a:lnTo>
                    <a:pt x="1059" y="2017"/>
                  </a:lnTo>
                  <a:lnTo>
                    <a:pt x="1062" y="2025"/>
                  </a:lnTo>
                  <a:lnTo>
                    <a:pt x="1050" y="2025"/>
                  </a:lnTo>
                  <a:lnTo>
                    <a:pt x="1059" y="2025"/>
                  </a:lnTo>
                  <a:lnTo>
                    <a:pt x="1071" y="2025"/>
                  </a:lnTo>
                  <a:lnTo>
                    <a:pt x="1080" y="2025"/>
                  </a:lnTo>
                  <a:lnTo>
                    <a:pt x="1088" y="2028"/>
                  </a:lnTo>
                  <a:lnTo>
                    <a:pt x="1097" y="2028"/>
                  </a:lnTo>
                  <a:lnTo>
                    <a:pt x="1106" y="2025"/>
                  </a:lnTo>
                  <a:lnTo>
                    <a:pt x="1109" y="2017"/>
                  </a:lnTo>
                  <a:lnTo>
                    <a:pt x="1112" y="2008"/>
                  </a:lnTo>
                  <a:lnTo>
                    <a:pt x="1103" y="1999"/>
                  </a:lnTo>
                  <a:lnTo>
                    <a:pt x="1100" y="1991"/>
                  </a:lnTo>
                  <a:lnTo>
                    <a:pt x="1094" y="1982"/>
                  </a:lnTo>
                  <a:lnTo>
                    <a:pt x="1091" y="1974"/>
                  </a:lnTo>
                  <a:lnTo>
                    <a:pt x="1082" y="1971"/>
                  </a:lnTo>
                  <a:lnTo>
                    <a:pt x="1077" y="1979"/>
                  </a:lnTo>
                  <a:lnTo>
                    <a:pt x="1077" y="1991"/>
                  </a:lnTo>
                  <a:lnTo>
                    <a:pt x="1077" y="1999"/>
                  </a:lnTo>
                  <a:lnTo>
                    <a:pt x="1071" y="2008"/>
                  </a:lnTo>
                  <a:lnTo>
                    <a:pt x="1068" y="2020"/>
                  </a:lnTo>
                  <a:lnTo>
                    <a:pt x="1068" y="2028"/>
                  </a:lnTo>
                  <a:lnTo>
                    <a:pt x="1059" y="2031"/>
                  </a:lnTo>
                  <a:lnTo>
                    <a:pt x="1048" y="2031"/>
                  </a:lnTo>
                  <a:lnTo>
                    <a:pt x="1039" y="2031"/>
                  </a:lnTo>
                  <a:lnTo>
                    <a:pt x="1030" y="2031"/>
                  </a:lnTo>
                  <a:lnTo>
                    <a:pt x="1027" y="2020"/>
                  </a:lnTo>
                  <a:lnTo>
                    <a:pt x="1027" y="2011"/>
                  </a:lnTo>
                  <a:lnTo>
                    <a:pt x="1027" y="2002"/>
                  </a:lnTo>
                  <a:lnTo>
                    <a:pt x="1027" y="1994"/>
                  </a:lnTo>
                  <a:lnTo>
                    <a:pt x="1027" y="1985"/>
                  </a:lnTo>
                  <a:lnTo>
                    <a:pt x="1030" y="1976"/>
                  </a:lnTo>
                  <a:lnTo>
                    <a:pt x="1039" y="1974"/>
                  </a:lnTo>
                  <a:lnTo>
                    <a:pt x="1042" y="1982"/>
                  </a:lnTo>
                  <a:lnTo>
                    <a:pt x="1042" y="1994"/>
                  </a:lnTo>
                  <a:lnTo>
                    <a:pt x="1045" y="2002"/>
                  </a:lnTo>
                  <a:lnTo>
                    <a:pt x="1050" y="2011"/>
                  </a:lnTo>
                  <a:lnTo>
                    <a:pt x="1062" y="2014"/>
                  </a:lnTo>
                  <a:lnTo>
                    <a:pt x="1074" y="2014"/>
                  </a:lnTo>
                  <a:lnTo>
                    <a:pt x="1082" y="2005"/>
                  </a:lnTo>
                  <a:lnTo>
                    <a:pt x="1082" y="1997"/>
                  </a:lnTo>
                  <a:lnTo>
                    <a:pt x="1074" y="1985"/>
                  </a:lnTo>
                  <a:lnTo>
                    <a:pt x="1065" y="1979"/>
                  </a:lnTo>
                  <a:lnTo>
                    <a:pt x="1065" y="1971"/>
                  </a:lnTo>
                  <a:lnTo>
                    <a:pt x="1074" y="1968"/>
                  </a:lnTo>
                  <a:lnTo>
                    <a:pt x="1082" y="1968"/>
                  </a:lnTo>
                  <a:lnTo>
                    <a:pt x="1091" y="1962"/>
                  </a:lnTo>
                  <a:lnTo>
                    <a:pt x="1091" y="1953"/>
                  </a:lnTo>
                  <a:lnTo>
                    <a:pt x="1091" y="1945"/>
                  </a:lnTo>
                  <a:lnTo>
                    <a:pt x="1100" y="1939"/>
                  </a:lnTo>
                  <a:lnTo>
                    <a:pt x="1109" y="1936"/>
                  </a:lnTo>
                  <a:lnTo>
                    <a:pt x="1117" y="1936"/>
                  </a:lnTo>
                  <a:lnTo>
                    <a:pt x="1123" y="1927"/>
                  </a:lnTo>
                  <a:lnTo>
                    <a:pt x="1126" y="1919"/>
                  </a:lnTo>
                  <a:lnTo>
                    <a:pt x="1126" y="1910"/>
                  </a:lnTo>
                  <a:lnTo>
                    <a:pt x="1126" y="1901"/>
                  </a:lnTo>
                  <a:lnTo>
                    <a:pt x="1114" y="1901"/>
                  </a:lnTo>
                  <a:lnTo>
                    <a:pt x="1106" y="1901"/>
                  </a:lnTo>
                  <a:lnTo>
                    <a:pt x="1097" y="1901"/>
                  </a:lnTo>
                  <a:lnTo>
                    <a:pt x="1088" y="1904"/>
                  </a:lnTo>
                  <a:lnTo>
                    <a:pt x="1080" y="1910"/>
                  </a:lnTo>
                  <a:lnTo>
                    <a:pt x="1077" y="1925"/>
                  </a:lnTo>
                  <a:lnTo>
                    <a:pt x="1077" y="1933"/>
                  </a:lnTo>
                  <a:lnTo>
                    <a:pt x="1068" y="1933"/>
                  </a:lnTo>
                  <a:lnTo>
                    <a:pt x="1059" y="1922"/>
                  </a:lnTo>
                  <a:lnTo>
                    <a:pt x="1056" y="1913"/>
                  </a:lnTo>
                  <a:lnTo>
                    <a:pt x="1068" y="1910"/>
                  </a:lnTo>
                  <a:lnTo>
                    <a:pt x="1077" y="1910"/>
                  </a:lnTo>
                  <a:lnTo>
                    <a:pt x="1065" y="1901"/>
                  </a:lnTo>
                  <a:lnTo>
                    <a:pt x="1056" y="1896"/>
                  </a:lnTo>
                  <a:lnTo>
                    <a:pt x="1056" y="1904"/>
                  </a:lnTo>
                  <a:lnTo>
                    <a:pt x="1048" y="1910"/>
                  </a:lnTo>
                  <a:lnTo>
                    <a:pt x="1039" y="1919"/>
                  </a:lnTo>
                  <a:lnTo>
                    <a:pt x="1036" y="1927"/>
                  </a:lnTo>
                  <a:lnTo>
                    <a:pt x="1030" y="1936"/>
                  </a:lnTo>
                  <a:lnTo>
                    <a:pt x="1024" y="1945"/>
                  </a:lnTo>
                  <a:lnTo>
                    <a:pt x="1016" y="1950"/>
                  </a:lnTo>
                  <a:lnTo>
                    <a:pt x="1004" y="1953"/>
                  </a:lnTo>
                  <a:lnTo>
                    <a:pt x="1001" y="1962"/>
                  </a:lnTo>
                  <a:lnTo>
                    <a:pt x="1001" y="1971"/>
                  </a:lnTo>
                  <a:lnTo>
                    <a:pt x="1001" y="1979"/>
                  </a:lnTo>
                  <a:lnTo>
                    <a:pt x="1001" y="1988"/>
                  </a:lnTo>
                  <a:lnTo>
                    <a:pt x="1001" y="1997"/>
                  </a:lnTo>
                  <a:lnTo>
                    <a:pt x="995" y="2005"/>
                  </a:lnTo>
                  <a:lnTo>
                    <a:pt x="986" y="2011"/>
                  </a:lnTo>
                  <a:lnTo>
                    <a:pt x="981" y="2020"/>
                  </a:lnTo>
                  <a:lnTo>
                    <a:pt x="981" y="2028"/>
                  </a:lnTo>
                  <a:lnTo>
                    <a:pt x="981" y="2037"/>
                  </a:lnTo>
                  <a:lnTo>
                    <a:pt x="978" y="2046"/>
                  </a:lnTo>
                  <a:lnTo>
                    <a:pt x="978" y="2054"/>
                  </a:lnTo>
                  <a:lnTo>
                    <a:pt x="983" y="2046"/>
                  </a:lnTo>
                  <a:lnTo>
                    <a:pt x="983" y="2037"/>
                  </a:lnTo>
                  <a:lnTo>
                    <a:pt x="975" y="2034"/>
                  </a:lnTo>
                  <a:lnTo>
                    <a:pt x="966" y="2034"/>
                  </a:lnTo>
                  <a:lnTo>
                    <a:pt x="957" y="2034"/>
                  </a:lnTo>
                  <a:lnTo>
                    <a:pt x="949" y="2023"/>
                  </a:lnTo>
                  <a:lnTo>
                    <a:pt x="949" y="2011"/>
                  </a:lnTo>
                  <a:lnTo>
                    <a:pt x="940" y="2008"/>
                  </a:lnTo>
                  <a:lnTo>
                    <a:pt x="931" y="2008"/>
                  </a:lnTo>
                  <a:lnTo>
                    <a:pt x="922" y="2011"/>
                  </a:lnTo>
                  <a:lnTo>
                    <a:pt x="914" y="2008"/>
                  </a:lnTo>
                  <a:lnTo>
                    <a:pt x="899" y="2002"/>
                  </a:lnTo>
                  <a:lnTo>
                    <a:pt x="890" y="1988"/>
                  </a:lnTo>
                  <a:lnTo>
                    <a:pt x="885" y="1976"/>
                  </a:lnTo>
                  <a:lnTo>
                    <a:pt x="876" y="1976"/>
                  </a:lnTo>
                  <a:lnTo>
                    <a:pt x="867" y="1979"/>
                  </a:lnTo>
                  <a:lnTo>
                    <a:pt x="861" y="1988"/>
                  </a:lnTo>
                  <a:lnTo>
                    <a:pt x="852" y="1994"/>
                  </a:lnTo>
                  <a:lnTo>
                    <a:pt x="844" y="1999"/>
                  </a:lnTo>
                  <a:lnTo>
                    <a:pt x="835" y="2002"/>
                  </a:lnTo>
                  <a:lnTo>
                    <a:pt x="826" y="2005"/>
                  </a:lnTo>
                  <a:lnTo>
                    <a:pt x="818" y="2008"/>
                  </a:lnTo>
                  <a:lnTo>
                    <a:pt x="809" y="2008"/>
                  </a:lnTo>
                  <a:lnTo>
                    <a:pt x="797" y="2011"/>
                  </a:lnTo>
                  <a:lnTo>
                    <a:pt x="788" y="2011"/>
                  </a:lnTo>
                  <a:lnTo>
                    <a:pt x="797" y="2011"/>
                  </a:lnTo>
                  <a:lnTo>
                    <a:pt x="812" y="2014"/>
                  </a:lnTo>
                  <a:lnTo>
                    <a:pt x="803" y="2017"/>
                  </a:lnTo>
                  <a:lnTo>
                    <a:pt x="794" y="2020"/>
                  </a:lnTo>
                  <a:lnTo>
                    <a:pt x="803" y="2031"/>
                  </a:lnTo>
                  <a:lnTo>
                    <a:pt x="794" y="2031"/>
                  </a:lnTo>
                  <a:lnTo>
                    <a:pt x="786" y="2028"/>
                  </a:lnTo>
                  <a:lnTo>
                    <a:pt x="777" y="2023"/>
                  </a:lnTo>
                  <a:lnTo>
                    <a:pt x="771" y="2014"/>
                  </a:lnTo>
                  <a:lnTo>
                    <a:pt x="762" y="2011"/>
                  </a:lnTo>
                  <a:lnTo>
                    <a:pt x="751" y="2008"/>
                  </a:lnTo>
                  <a:lnTo>
                    <a:pt x="742" y="2008"/>
                  </a:lnTo>
                  <a:lnTo>
                    <a:pt x="733" y="2005"/>
                  </a:lnTo>
                  <a:lnTo>
                    <a:pt x="736" y="2002"/>
                  </a:lnTo>
                  <a:lnTo>
                    <a:pt x="721" y="1985"/>
                  </a:lnTo>
                  <a:lnTo>
                    <a:pt x="713" y="1985"/>
                  </a:lnTo>
                  <a:lnTo>
                    <a:pt x="710" y="1994"/>
                  </a:lnTo>
                  <a:lnTo>
                    <a:pt x="716" y="2005"/>
                  </a:lnTo>
                  <a:lnTo>
                    <a:pt x="713" y="2014"/>
                  </a:lnTo>
                  <a:lnTo>
                    <a:pt x="704" y="2020"/>
                  </a:lnTo>
                  <a:lnTo>
                    <a:pt x="704" y="2028"/>
                  </a:lnTo>
                  <a:lnTo>
                    <a:pt x="692" y="2031"/>
                  </a:lnTo>
                  <a:lnTo>
                    <a:pt x="684" y="2025"/>
                  </a:lnTo>
                  <a:lnTo>
                    <a:pt x="672" y="2020"/>
                  </a:lnTo>
                  <a:lnTo>
                    <a:pt x="660" y="2017"/>
                  </a:lnTo>
                  <a:lnTo>
                    <a:pt x="646" y="2011"/>
                  </a:lnTo>
                  <a:lnTo>
                    <a:pt x="634" y="2008"/>
                  </a:lnTo>
                  <a:lnTo>
                    <a:pt x="625" y="2005"/>
                  </a:lnTo>
                  <a:lnTo>
                    <a:pt x="622" y="1997"/>
                  </a:lnTo>
                  <a:lnTo>
                    <a:pt x="620" y="1988"/>
                  </a:lnTo>
                  <a:lnTo>
                    <a:pt x="611" y="1979"/>
                  </a:lnTo>
                  <a:lnTo>
                    <a:pt x="608" y="1971"/>
                  </a:lnTo>
                  <a:lnTo>
                    <a:pt x="599" y="1968"/>
                  </a:lnTo>
                  <a:lnTo>
                    <a:pt x="590" y="1974"/>
                  </a:lnTo>
                  <a:lnTo>
                    <a:pt x="588" y="1985"/>
                  </a:lnTo>
                  <a:lnTo>
                    <a:pt x="585" y="1997"/>
                  </a:lnTo>
                  <a:lnTo>
                    <a:pt x="576" y="2002"/>
                  </a:lnTo>
                  <a:lnTo>
                    <a:pt x="567" y="1991"/>
                  </a:lnTo>
                  <a:lnTo>
                    <a:pt x="561" y="1982"/>
                  </a:lnTo>
                  <a:lnTo>
                    <a:pt x="553" y="1976"/>
                  </a:lnTo>
                  <a:lnTo>
                    <a:pt x="547" y="1968"/>
                  </a:lnTo>
                  <a:lnTo>
                    <a:pt x="541" y="1959"/>
                  </a:lnTo>
                  <a:lnTo>
                    <a:pt x="532" y="1956"/>
                  </a:lnTo>
                  <a:lnTo>
                    <a:pt x="524" y="1953"/>
                  </a:lnTo>
                  <a:lnTo>
                    <a:pt x="518" y="1945"/>
                  </a:lnTo>
                  <a:lnTo>
                    <a:pt x="509" y="1939"/>
                  </a:lnTo>
                  <a:lnTo>
                    <a:pt x="500" y="1939"/>
                  </a:lnTo>
                  <a:lnTo>
                    <a:pt x="494" y="1948"/>
                  </a:lnTo>
                  <a:lnTo>
                    <a:pt x="491" y="1956"/>
                  </a:lnTo>
                  <a:lnTo>
                    <a:pt x="486" y="1965"/>
                  </a:lnTo>
                  <a:lnTo>
                    <a:pt x="491" y="1974"/>
                  </a:lnTo>
                  <a:lnTo>
                    <a:pt x="500" y="1976"/>
                  </a:lnTo>
                  <a:lnTo>
                    <a:pt x="503" y="1985"/>
                  </a:lnTo>
                  <a:lnTo>
                    <a:pt x="506" y="1994"/>
                  </a:lnTo>
                  <a:lnTo>
                    <a:pt x="509" y="2002"/>
                  </a:lnTo>
                  <a:lnTo>
                    <a:pt x="512" y="2011"/>
                  </a:lnTo>
                  <a:lnTo>
                    <a:pt x="515" y="2020"/>
                  </a:lnTo>
                  <a:lnTo>
                    <a:pt x="518" y="2028"/>
                  </a:lnTo>
                  <a:lnTo>
                    <a:pt x="518" y="2037"/>
                  </a:lnTo>
                  <a:lnTo>
                    <a:pt x="518" y="2046"/>
                  </a:lnTo>
                  <a:lnTo>
                    <a:pt x="518" y="2054"/>
                  </a:lnTo>
                  <a:lnTo>
                    <a:pt x="515" y="2063"/>
                  </a:lnTo>
                  <a:lnTo>
                    <a:pt x="506" y="2072"/>
                  </a:lnTo>
                  <a:lnTo>
                    <a:pt x="503" y="2080"/>
                  </a:lnTo>
                  <a:lnTo>
                    <a:pt x="503" y="2089"/>
                  </a:lnTo>
                  <a:lnTo>
                    <a:pt x="503" y="2097"/>
                  </a:lnTo>
                  <a:lnTo>
                    <a:pt x="500" y="2106"/>
                  </a:lnTo>
                  <a:lnTo>
                    <a:pt x="491" y="2112"/>
                  </a:lnTo>
                  <a:lnTo>
                    <a:pt x="483" y="2118"/>
                  </a:lnTo>
                  <a:lnTo>
                    <a:pt x="483" y="2126"/>
                  </a:lnTo>
                  <a:lnTo>
                    <a:pt x="480" y="2138"/>
                  </a:lnTo>
                  <a:lnTo>
                    <a:pt x="477" y="2149"/>
                  </a:lnTo>
                  <a:lnTo>
                    <a:pt x="468" y="2144"/>
                  </a:lnTo>
                  <a:lnTo>
                    <a:pt x="459" y="2144"/>
                  </a:lnTo>
                  <a:lnTo>
                    <a:pt x="451" y="2144"/>
                  </a:lnTo>
                  <a:lnTo>
                    <a:pt x="442" y="2152"/>
                  </a:lnTo>
                  <a:lnTo>
                    <a:pt x="436" y="2161"/>
                  </a:lnTo>
                  <a:lnTo>
                    <a:pt x="427" y="2167"/>
                  </a:lnTo>
                  <a:lnTo>
                    <a:pt x="419" y="2175"/>
                  </a:lnTo>
                  <a:lnTo>
                    <a:pt x="407" y="2181"/>
                  </a:lnTo>
                  <a:lnTo>
                    <a:pt x="398" y="2184"/>
                  </a:lnTo>
                  <a:lnTo>
                    <a:pt x="393" y="2175"/>
                  </a:lnTo>
                  <a:lnTo>
                    <a:pt x="390" y="2167"/>
                  </a:lnTo>
                  <a:lnTo>
                    <a:pt x="384" y="2158"/>
                  </a:lnTo>
                  <a:lnTo>
                    <a:pt x="369" y="2149"/>
                  </a:lnTo>
                  <a:lnTo>
                    <a:pt x="358" y="2144"/>
                  </a:lnTo>
                  <a:lnTo>
                    <a:pt x="355" y="2135"/>
                  </a:lnTo>
                  <a:lnTo>
                    <a:pt x="349" y="2126"/>
                  </a:lnTo>
                  <a:lnTo>
                    <a:pt x="343" y="2118"/>
                  </a:lnTo>
                  <a:lnTo>
                    <a:pt x="334" y="2109"/>
                  </a:lnTo>
                  <a:lnTo>
                    <a:pt x="328" y="2100"/>
                  </a:lnTo>
                  <a:lnTo>
                    <a:pt x="320" y="2092"/>
                  </a:lnTo>
                  <a:lnTo>
                    <a:pt x="317" y="2080"/>
                  </a:lnTo>
                  <a:lnTo>
                    <a:pt x="317" y="2048"/>
                  </a:lnTo>
                  <a:lnTo>
                    <a:pt x="311" y="2060"/>
                  </a:lnTo>
                  <a:lnTo>
                    <a:pt x="302" y="2057"/>
                  </a:lnTo>
                  <a:lnTo>
                    <a:pt x="294" y="2051"/>
                  </a:lnTo>
                  <a:lnTo>
                    <a:pt x="282" y="2048"/>
                  </a:lnTo>
                  <a:lnTo>
                    <a:pt x="276" y="2040"/>
                  </a:lnTo>
                  <a:lnTo>
                    <a:pt x="270" y="2031"/>
                  </a:lnTo>
                  <a:lnTo>
                    <a:pt x="264" y="2023"/>
                  </a:lnTo>
                  <a:lnTo>
                    <a:pt x="259" y="2014"/>
                  </a:lnTo>
                  <a:lnTo>
                    <a:pt x="250" y="2008"/>
                  </a:lnTo>
                  <a:lnTo>
                    <a:pt x="241" y="2011"/>
                  </a:lnTo>
                  <a:lnTo>
                    <a:pt x="232" y="2011"/>
                  </a:lnTo>
                  <a:lnTo>
                    <a:pt x="227" y="2002"/>
                  </a:lnTo>
                  <a:lnTo>
                    <a:pt x="218" y="2002"/>
                  </a:lnTo>
                  <a:lnTo>
                    <a:pt x="209" y="2002"/>
                  </a:lnTo>
                  <a:lnTo>
                    <a:pt x="200" y="2002"/>
                  </a:lnTo>
                  <a:lnTo>
                    <a:pt x="203" y="2014"/>
                  </a:lnTo>
                  <a:lnTo>
                    <a:pt x="203" y="2025"/>
                  </a:lnTo>
                  <a:lnTo>
                    <a:pt x="200" y="2034"/>
                  </a:lnTo>
                  <a:lnTo>
                    <a:pt x="189" y="2037"/>
                  </a:lnTo>
                  <a:lnTo>
                    <a:pt x="180" y="2043"/>
                  </a:lnTo>
                  <a:lnTo>
                    <a:pt x="171" y="2051"/>
                  </a:lnTo>
                  <a:lnTo>
                    <a:pt x="168" y="2060"/>
                  </a:lnTo>
                  <a:lnTo>
                    <a:pt x="163" y="2072"/>
                  </a:lnTo>
                  <a:lnTo>
                    <a:pt x="154" y="2077"/>
                  </a:lnTo>
                  <a:lnTo>
                    <a:pt x="145" y="2083"/>
                  </a:lnTo>
                  <a:lnTo>
                    <a:pt x="136" y="2086"/>
                  </a:lnTo>
                  <a:lnTo>
                    <a:pt x="122" y="2092"/>
                  </a:lnTo>
                  <a:lnTo>
                    <a:pt x="113" y="2095"/>
                  </a:lnTo>
                  <a:lnTo>
                    <a:pt x="104" y="2097"/>
                  </a:lnTo>
                  <a:lnTo>
                    <a:pt x="96" y="2103"/>
                  </a:lnTo>
                  <a:lnTo>
                    <a:pt x="87" y="2109"/>
                  </a:lnTo>
                  <a:lnTo>
                    <a:pt x="78" y="2112"/>
                  </a:lnTo>
                  <a:lnTo>
                    <a:pt x="66" y="2112"/>
                  </a:lnTo>
                  <a:lnTo>
                    <a:pt x="58" y="2115"/>
                  </a:lnTo>
                  <a:lnTo>
                    <a:pt x="55" y="2123"/>
                  </a:lnTo>
                  <a:lnTo>
                    <a:pt x="49" y="2132"/>
                  </a:lnTo>
                  <a:lnTo>
                    <a:pt x="46" y="2141"/>
                  </a:lnTo>
                  <a:lnTo>
                    <a:pt x="58" y="2146"/>
                  </a:lnTo>
                  <a:lnTo>
                    <a:pt x="66" y="2146"/>
                  </a:lnTo>
                  <a:lnTo>
                    <a:pt x="75" y="2146"/>
                  </a:lnTo>
                  <a:lnTo>
                    <a:pt x="66" y="2158"/>
                  </a:lnTo>
                  <a:lnTo>
                    <a:pt x="55" y="2164"/>
                  </a:lnTo>
                  <a:lnTo>
                    <a:pt x="43" y="2169"/>
                  </a:lnTo>
                  <a:lnTo>
                    <a:pt x="34" y="2175"/>
                  </a:lnTo>
                  <a:lnTo>
                    <a:pt x="26" y="2181"/>
                  </a:lnTo>
                  <a:lnTo>
                    <a:pt x="23" y="2190"/>
                  </a:lnTo>
                  <a:lnTo>
                    <a:pt x="23" y="2198"/>
                  </a:lnTo>
                  <a:lnTo>
                    <a:pt x="14" y="2207"/>
                  </a:lnTo>
                  <a:lnTo>
                    <a:pt x="5" y="2210"/>
                  </a:lnTo>
                  <a:lnTo>
                    <a:pt x="0" y="2218"/>
                  </a:lnTo>
                  <a:lnTo>
                    <a:pt x="5" y="2227"/>
                  </a:lnTo>
                  <a:lnTo>
                    <a:pt x="14" y="2236"/>
                  </a:lnTo>
                  <a:lnTo>
                    <a:pt x="23" y="2244"/>
                  </a:lnTo>
                  <a:lnTo>
                    <a:pt x="37" y="2233"/>
                  </a:lnTo>
                  <a:lnTo>
                    <a:pt x="46" y="2230"/>
                  </a:lnTo>
                  <a:lnTo>
                    <a:pt x="49" y="2239"/>
                  </a:lnTo>
                  <a:lnTo>
                    <a:pt x="49" y="2247"/>
                  </a:lnTo>
                  <a:lnTo>
                    <a:pt x="52" y="2256"/>
                  </a:lnTo>
                  <a:lnTo>
                    <a:pt x="55" y="2265"/>
                  </a:lnTo>
                  <a:lnTo>
                    <a:pt x="58" y="2273"/>
                  </a:lnTo>
                  <a:lnTo>
                    <a:pt x="58" y="2282"/>
                  </a:lnTo>
                  <a:lnTo>
                    <a:pt x="61" y="2291"/>
                  </a:lnTo>
                  <a:lnTo>
                    <a:pt x="61" y="2299"/>
                  </a:lnTo>
                  <a:lnTo>
                    <a:pt x="58" y="2308"/>
                  </a:lnTo>
                  <a:lnTo>
                    <a:pt x="52" y="2316"/>
                  </a:lnTo>
                  <a:lnTo>
                    <a:pt x="52" y="2325"/>
                  </a:lnTo>
                  <a:lnTo>
                    <a:pt x="52" y="2334"/>
                  </a:lnTo>
                  <a:lnTo>
                    <a:pt x="49" y="2342"/>
                  </a:lnTo>
                  <a:lnTo>
                    <a:pt x="58" y="2348"/>
                  </a:lnTo>
                  <a:lnTo>
                    <a:pt x="69" y="2348"/>
                  </a:lnTo>
                  <a:lnTo>
                    <a:pt x="78" y="2348"/>
                  </a:lnTo>
                  <a:lnTo>
                    <a:pt x="87" y="2357"/>
                  </a:lnTo>
                  <a:lnTo>
                    <a:pt x="96" y="2360"/>
                  </a:lnTo>
                  <a:lnTo>
                    <a:pt x="104" y="2360"/>
                  </a:lnTo>
                  <a:lnTo>
                    <a:pt x="113" y="2365"/>
                  </a:lnTo>
                  <a:lnTo>
                    <a:pt x="122" y="2371"/>
                  </a:lnTo>
                  <a:lnTo>
                    <a:pt x="128" y="2380"/>
                  </a:lnTo>
                  <a:lnTo>
                    <a:pt x="139" y="2389"/>
                  </a:lnTo>
                  <a:lnTo>
                    <a:pt x="142" y="2397"/>
                  </a:lnTo>
                  <a:lnTo>
                    <a:pt x="151" y="2406"/>
                  </a:lnTo>
                  <a:lnTo>
                    <a:pt x="160" y="2414"/>
                  </a:lnTo>
                  <a:lnTo>
                    <a:pt x="168" y="2417"/>
                  </a:lnTo>
                  <a:lnTo>
                    <a:pt x="177" y="2420"/>
                  </a:lnTo>
                  <a:lnTo>
                    <a:pt x="186" y="2423"/>
                  </a:lnTo>
                  <a:lnTo>
                    <a:pt x="195" y="2423"/>
                  </a:lnTo>
                  <a:lnTo>
                    <a:pt x="203" y="2423"/>
                  </a:lnTo>
                  <a:lnTo>
                    <a:pt x="212" y="2423"/>
                  </a:lnTo>
                  <a:lnTo>
                    <a:pt x="221" y="2420"/>
                  </a:lnTo>
                  <a:lnTo>
                    <a:pt x="229" y="2420"/>
                  </a:lnTo>
                  <a:lnTo>
                    <a:pt x="238" y="2420"/>
                  </a:lnTo>
                  <a:lnTo>
                    <a:pt x="247" y="2417"/>
                  </a:lnTo>
                  <a:lnTo>
                    <a:pt x="256" y="2412"/>
                  </a:lnTo>
                  <a:lnTo>
                    <a:pt x="264" y="2412"/>
                  </a:lnTo>
                  <a:lnTo>
                    <a:pt x="276" y="2412"/>
                  </a:lnTo>
                  <a:lnTo>
                    <a:pt x="285" y="2412"/>
                  </a:lnTo>
                  <a:lnTo>
                    <a:pt x="294" y="2414"/>
                  </a:lnTo>
                  <a:lnTo>
                    <a:pt x="302" y="2414"/>
                  </a:lnTo>
                  <a:lnTo>
                    <a:pt x="305" y="2406"/>
                  </a:lnTo>
                  <a:lnTo>
                    <a:pt x="305" y="2397"/>
                  </a:lnTo>
                  <a:lnTo>
                    <a:pt x="302" y="2389"/>
                  </a:lnTo>
                  <a:lnTo>
                    <a:pt x="299" y="2380"/>
                  </a:lnTo>
                  <a:lnTo>
                    <a:pt x="302" y="2371"/>
                  </a:lnTo>
                  <a:lnTo>
                    <a:pt x="314" y="2368"/>
                  </a:lnTo>
                  <a:lnTo>
                    <a:pt x="323" y="2368"/>
                  </a:lnTo>
                  <a:lnTo>
                    <a:pt x="331" y="2368"/>
                  </a:lnTo>
                  <a:lnTo>
                    <a:pt x="343" y="2368"/>
                  </a:lnTo>
                  <a:lnTo>
                    <a:pt x="346" y="2360"/>
                  </a:lnTo>
                  <a:lnTo>
                    <a:pt x="355" y="2354"/>
                  </a:lnTo>
                  <a:lnTo>
                    <a:pt x="363" y="2351"/>
                  </a:lnTo>
                  <a:lnTo>
                    <a:pt x="372" y="2351"/>
                  </a:lnTo>
                  <a:lnTo>
                    <a:pt x="381" y="2348"/>
                  </a:lnTo>
                  <a:lnTo>
                    <a:pt x="390" y="2348"/>
                  </a:lnTo>
                  <a:lnTo>
                    <a:pt x="398" y="2348"/>
                  </a:lnTo>
                  <a:lnTo>
                    <a:pt x="407" y="2348"/>
                  </a:lnTo>
                  <a:lnTo>
                    <a:pt x="419" y="2354"/>
                  </a:lnTo>
                  <a:lnTo>
                    <a:pt x="427" y="2360"/>
                  </a:lnTo>
                  <a:lnTo>
                    <a:pt x="436" y="2360"/>
                  </a:lnTo>
                  <a:lnTo>
                    <a:pt x="445" y="2360"/>
                  </a:lnTo>
                  <a:lnTo>
                    <a:pt x="454" y="2363"/>
                  </a:lnTo>
                  <a:lnTo>
                    <a:pt x="462" y="2363"/>
                  </a:lnTo>
                  <a:lnTo>
                    <a:pt x="471" y="2363"/>
                  </a:lnTo>
                  <a:lnTo>
                    <a:pt x="480" y="2363"/>
                  </a:lnTo>
                  <a:lnTo>
                    <a:pt x="489" y="2360"/>
                  </a:lnTo>
                  <a:lnTo>
                    <a:pt x="494" y="2351"/>
                  </a:lnTo>
                  <a:lnTo>
                    <a:pt x="494" y="2342"/>
                  </a:lnTo>
                  <a:lnTo>
                    <a:pt x="494" y="2334"/>
                  </a:lnTo>
                  <a:lnTo>
                    <a:pt x="497" y="2325"/>
                  </a:lnTo>
                  <a:lnTo>
                    <a:pt x="506" y="2322"/>
                  </a:lnTo>
                  <a:lnTo>
                    <a:pt x="515" y="2322"/>
                  </a:lnTo>
                  <a:lnTo>
                    <a:pt x="524" y="2322"/>
                  </a:lnTo>
                  <a:lnTo>
                    <a:pt x="532" y="2322"/>
                  </a:lnTo>
                  <a:lnTo>
                    <a:pt x="541" y="2322"/>
                  </a:lnTo>
                  <a:lnTo>
                    <a:pt x="550" y="2328"/>
                  </a:lnTo>
                  <a:lnTo>
                    <a:pt x="556" y="2337"/>
                  </a:lnTo>
                  <a:lnTo>
                    <a:pt x="564" y="2342"/>
                  </a:lnTo>
                  <a:lnTo>
                    <a:pt x="570" y="2351"/>
                  </a:lnTo>
                  <a:lnTo>
                    <a:pt x="576" y="2360"/>
                  </a:lnTo>
                  <a:lnTo>
                    <a:pt x="585" y="2368"/>
                  </a:lnTo>
                  <a:lnTo>
                    <a:pt x="590" y="2377"/>
                  </a:lnTo>
                  <a:lnTo>
                    <a:pt x="599" y="2383"/>
                  </a:lnTo>
                  <a:lnTo>
                    <a:pt x="611" y="2386"/>
                  </a:lnTo>
                  <a:lnTo>
                    <a:pt x="620" y="2386"/>
                  </a:lnTo>
                  <a:lnTo>
                    <a:pt x="628" y="2386"/>
                  </a:lnTo>
                  <a:lnTo>
                    <a:pt x="637" y="2386"/>
                  </a:lnTo>
                  <a:lnTo>
                    <a:pt x="646" y="2386"/>
                  </a:lnTo>
                  <a:lnTo>
                    <a:pt x="655" y="2386"/>
                  </a:lnTo>
                  <a:lnTo>
                    <a:pt x="663" y="2389"/>
                  </a:lnTo>
                  <a:lnTo>
                    <a:pt x="672" y="2389"/>
                  </a:lnTo>
                  <a:lnTo>
                    <a:pt x="681" y="2389"/>
                  </a:lnTo>
                  <a:lnTo>
                    <a:pt x="689" y="2389"/>
                  </a:lnTo>
                  <a:lnTo>
                    <a:pt x="698" y="2394"/>
                  </a:lnTo>
                  <a:lnTo>
                    <a:pt x="707" y="2403"/>
                  </a:lnTo>
                  <a:lnTo>
                    <a:pt x="713" y="2412"/>
                  </a:lnTo>
                  <a:lnTo>
                    <a:pt x="716" y="2420"/>
                  </a:lnTo>
                  <a:lnTo>
                    <a:pt x="716" y="2429"/>
                  </a:lnTo>
                  <a:lnTo>
                    <a:pt x="716" y="2437"/>
                  </a:lnTo>
                  <a:lnTo>
                    <a:pt x="719" y="2446"/>
                  </a:lnTo>
                  <a:lnTo>
                    <a:pt x="719" y="2455"/>
                  </a:lnTo>
                  <a:lnTo>
                    <a:pt x="721" y="2463"/>
                  </a:lnTo>
                  <a:lnTo>
                    <a:pt x="721" y="2472"/>
                  </a:lnTo>
                  <a:lnTo>
                    <a:pt x="721" y="2481"/>
                  </a:lnTo>
                  <a:lnTo>
                    <a:pt x="721" y="2489"/>
                  </a:lnTo>
                  <a:lnTo>
                    <a:pt x="713" y="2492"/>
                  </a:lnTo>
                  <a:lnTo>
                    <a:pt x="704" y="2492"/>
                  </a:lnTo>
                  <a:lnTo>
                    <a:pt x="698" y="2501"/>
                  </a:lnTo>
                  <a:lnTo>
                    <a:pt x="707" y="2507"/>
                  </a:lnTo>
                  <a:lnTo>
                    <a:pt x="716" y="2512"/>
                  </a:lnTo>
                  <a:lnTo>
                    <a:pt x="721" y="2521"/>
                  </a:lnTo>
                  <a:lnTo>
                    <a:pt x="721" y="2530"/>
                  </a:lnTo>
                  <a:lnTo>
                    <a:pt x="719" y="2538"/>
                  </a:lnTo>
                  <a:lnTo>
                    <a:pt x="719" y="2547"/>
                  </a:lnTo>
                  <a:lnTo>
                    <a:pt x="719" y="2556"/>
                  </a:lnTo>
                  <a:lnTo>
                    <a:pt x="719" y="2564"/>
                  </a:lnTo>
                  <a:lnTo>
                    <a:pt x="721" y="2576"/>
                  </a:lnTo>
                  <a:lnTo>
                    <a:pt x="721" y="2584"/>
                  </a:lnTo>
                  <a:lnTo>
                    <a:pt x="727" y="2593"/>
                  </a:lnTo>
                  <a:lnTo>
                    <a:pt x="736" y="2602"/>
                  </a:lnTo>
                  <a:lnTo>
                    <a:pt x="742" y="2613"/>
                  </a:lnTo>
                  <a:lnTo>
                    <a:pt x="745" y="2625"/>
                  </a:lnTo>
                  <a:lnTo>
                    <a:pt x="756" y="2633"/>
                  </a:lnTo>
                  <a:lnTo>
                    <a:pt x="765" y="2642"/>
                  </a:lnTo>
                  <a:lnTo>
                    <a:pt x="768" y="2654"/>
                  </a:lnTo>
                  <a:lnTo>
                    <a:pt x="768" y="2662"/>
                  </a:lnTo>
                  <a:lnTo>
                    <a:pt x="768" y="2671"/>
                  </a:lnTo>
                  <a:lnTo>
                    <a:pt x="771" y="2682"/>
                  </a:lnTo>
                  <a:lnTo>
                    <a:pt x="780" y="2688"/>
                  </a:lnTo>
                  <a:lnTo>
                    <a:pt x="783" y="2697"/>
                  </a:lnTo>
                  <a:lnTo>
                    <a:pt x="786" y="2705"/>
                  </a:lnTo>
                  <a:lnTo>
                    <a:pt x="788" y="2714"/>
                  </a:lnTo>
                  <a:lnTo>
                    <a:pt x="788" y="2723"/>
                  </a:lnTo>
                  <a:lnTo>
                    <a:pt x="788" y="2731"/>
                  </a:lnTo>
                  <a:lnTo>
                    <a:pt x="788" y="2740"/>
                  </a:lnTo>
                  <a:lnTo>
                    <a:pt x="788" y="2749"/>
                  </a:lnTo>
                  <a:lnTo>
                    <a:pt x="788" y="2757"/>
                  </a:lnTo>
                  <a:lnTo>
                    <a:pt x="788" y="2769"/>
                  </a:lnTo>
                  <a:lnTo>
                    <a:pt x="783" y="2778"/>
                  </a:lnTo>
                  <a:lnTo>
                    <a:pt x="774" y="2778"/>
                  </a:lnTo>
                  <a:lnTo>
                    <a:pt x="765" y="2783"/>
                  </a:lnTo>
                  <a:lnTo>
                    <a:pt x="759" y="2792"/>
                  </a:lnTo>
                  <a:lnTo>
                    <a:pt x="751" y="2795"/>
                  </a:lnTo>
                  <a:lnTo>
                    <a:pt x="742" y="2789"/>
                  </a:lnTo>
                  <a:lnTo>
                    <a:pt x="730" y="2786"/>
                  </a:lnTo>
                  <a:lnTo>
                    <a:pt x="721" y="2780"/>
                  </a:lnTo>
                  <a:lnTo>
                    <a:pt x="713" y="2778"/>
                  </a:lnTo>
                  <a:lnTo>
                    <a:pt x="710" y="2766"/>
                  </a:lnTo>
                  <a:lnTo>
                    <a:pt x="707" y="2757"/>
                  </a:lnTo>
                  <a:lnTo>
                    <a:pt x="698" y="2754"/>
                  </a:lnTo>
                  <a:lnTo>
                    <a:pt x="687" y="2754"/>
                  </a:lnTo>
                  <a:lnTo>
                    <a:pt x="678" y="2746"/>
                  </a:lnTo>
                  <a:lnTo>
                    <a:pt x="672" y="2737"/>
                  </a:lnTo>
                  <a:lnTo>
                    <a:pt x="660" y="2731"/>
                  </a:lnTo>
                  <a:lnTo>
                    <a:pt x="652" y="2729"/>
                  </a:lnTo>
                  <a:lnTo>
                    <a:pt x="643" y="2729"/>
                  </a:lnTo>
                  <a:lnTo>
                    <a:pt x="634" y="2729"/>
                  </a:lnTo>
                  <a:lnTo>
                    <a:pt x="628" y="2737"/>
                  </a:lnTo>
                  <a:lnTo>
                    <a:pt x="628" y="2746"/>
                  </a:lnTo>
                  <a:lnTo>
                    <a:pt x="631" y="2754"/>
                  </a:lnTo>
                  <a:lnTo>
                    <a:pt x="640" y="2763"/>
                  </a:lnTo>
                  <a:lnTo>
                    <a:pt x="652" y="2769"/>
                  </a:lnTo>
                  <a:lnTo>
                    <a:pt x="660" y="2775"/>
                  </a:lnTo>
                  <a:lnTo>
                    <a:pt x="666" y="2783"/>
                  </a:lnTo>
                  <a:lnTo>
                    <a:pt x="669" y="2792"/>
                  </a:lnTo>
                  <a:lnTo>
                    <a:pt x="672" y="2801"/>
                  </a:lnTo>
                  <a:lnTo>
                    <a:pt x="675" y="2809"/>
                  </a:lnTo>
                  <a:lnTo>
                    <a:pt x="678" y="2818"/>
                  </a:lnTo>
                  <a:lnTo>
                    <a:pt x="687" y="2827"/>
                  </a:lnTo>
                  <a:lnTo>
                    <a:pt x="695" y="2829"/>
                  </a:lnTo>
                  <a:lnTo>
                    <a:pt x="707" y="2829"/>
                  </a:lnTo>
                  <a:lnTo>
                    <a:pt x="713" y="2818"/>
                  </a:lnTo>
                  <a:lnTo>
                    <a:pt x="713" y="2809"/>
                  </a:lnTo>
                  <a:lnTo>
                    <a:pt x="716" y="2801"/>
                  </a:lnTo>
                  <a:lnTo>
                    <a:pt x="724" y="2795"/>
                  </a:lnTo>
                  <a:lnTo>
                    <a:pt x="733" y="2795"/>
                  </a:lnTo>
                  <a:lnTo>
                    <a:pt x="742" y="2792"/>
                  </a:lnTo>
                  <a:lnTo>
                    <a:pt x="751" y="2801"/>
                  </a:lnTo>
                  <a:lnTo>
                    <a:pt x="762" y="2803"/>
                  </a:lnTo>
                  <a:lnTo>
                    <a:pt x="771" y="2803"/>
                  </a:lnTo>
                  <a:lnTo>
                    <a:pt x="780" y="2803"/>
                  </a:lnTo>
                  <a:lnTo>
                    <a:pt x="788" y="2803"/>
                  </a:lnTo>
                  <a:lnTo>
                    <a:pt x="788" y="2795"/>
                  </a:lnTo>
                  <a:lnTo>
                    <a:pt x="788" y="2786"/>
                  </a:lnTo>
                  <a:lnTo>
                    <a:pt x="797" y="2780"/>
                  </a:lnTo>
                  <a:lnTo>
                    <a:pt x="806" y="2780"/>
                  </a:lnTo>
                  <a:lnTo>
                    <a:pt x="815" y="2772"/>
                  </a:lnTo>
                  <a:lnTo>
                    <a:pt x="815" y="2763"/>
                  </a:lnTo>
                  <a:lnTo>
                    <a:pt x="815" y="2754"/>
                  </a:lnTo>
                  <a:lnTo>
                    <a:pt x="815" y="2746"/>
                  </a:lnTo>
                  <a:lnTo>
                    <a:pt x="815" y="2737"/>
                  </a:lnTo>
                  <a:lnTo>
                    <a:pt x="818" y="2729"/>
                  </a:lnTo>
                  <a:lnTo>
                    <a:pt x="826" y="2726"/>
                  </a:lnTo>
                  <a:lnTo>
                    <a:pt x="835" y="2720"/>
                  </a:lnTo>
                  <a:lnTo>
                    <a:pt x="844" y="2717"/>
                  </a:lnTo>
                  <a:lnTo>
                    <a:pt x="852" y="2720"/>
                  </a:lnTo>
                  <a:lnTo>
                    <a:pt x="855" y="2729"/>
                  </a:lnTo>
                  <a:lnTo>
                    <a:pt x="858" y="2740"/>
                  </a:lnTo>
                  <a:lnTo>
                    <a:pt x="858" y="2749"/>
                  </a:lnTo>
                  <a:lnTo>
                    <a:pt x="861" y="2757"/>
                  </a:lnTo>
                  <a:lnTo>
                    <a:pt x="870" y="2763"/>
                  </a:lnTo>
                  <a:lnTo>
                    <a:pt x="882" y="2766"/>
                  </a:lnTo>
                  <a:lnTo>
                    <a:pt x="887" y="2757"/>
                  </a:lnTo>
                  <a:lnTo>
                    <a:pt x="887" y="2749"/>
                  </a:lnTo>
                  <a:lnTo>
                    <a:pt x="887" y="2740"/>
                  </a:lnTo>
                  <a:lnTo>
                    <a:pt x="887" y="2731"/>
                  </a:lnTo>
                  <a:lnTo>
                    <a:pt x="885" y="2723"/>
                  </a:lnTo>
                  <a:lnTo>
                    <a:pt x="876" y="2714"/>
                  </a:lnTo>
                  <a:lnTo>
                    <a:pt x="870" y="2705"/>
                  </a:lnTo>
                  <a:lnTo>
                    <a:pt x="864" y="2697"/>
                  </a:lnTo>
                  <a:lnTo>
                    <a:pt x="855" y="2691"/>
                  </a:lnTo>
                  <a:lnTo>
                    <a:pt x="847" y="2682"/>
                  </a:lnTo>
                  <a:lnTo>
                    <a:pt x="838" y="2674"/>
                  </a:lnTo>
                  <a:lnTo>
                    <a:pt x="835" y="2665"/>
                  </a:lnTo>
                  <a:lnTo>
                    <a:pt x="832" y="2657"/>
                  </a:lnTo>
                  <a:lnTo>
                    <a:pt x="832" y="2648"/>
                  </a:lnTo>
                  <a:lnTo>
                    <a:pt x="841" y="2642"/>
                  </a:lnTo>
                  <a:lnTo>
                    <a:pt x="850" y="2642"/>
                  </a:lnTo>
                  <a:lnTo>
                    <a:pt x="852" y="2633"/>
                  </a:lnTo>
                  <a:lnTo>
                    <a:pt x="844" y="2628"/>
                  </a:lnTo>
                  <a:lnTo>
                    <a:pt x="835" y="2622"/>
                  </a:lnTo>
                  <a:lnTo>
                    <a:pt x="826" y="2619"/>
                  </a:lnTo>
                  <a:lnTo>
                    <a:pt x="820" y="2610"/>
                  </a:lnTo>
                  <a:lnTo>
                    <a:pt x="818" y="2602"/>
                  </a:lnTo>
                  <a:lnTo>
                    <a:pt x="812" y="2593"/>
                  </a:lnTo>
                  <a:lnTo>
                    <a:pt x="812" y="2584"/>
                  </a:lnTo>
                  <a:lnTo>
                    <a:pt x="809" y="2576"/>
                  </a:lnTo>
                  <a:lnTo>
                    <a:pt x="806" y="2564"/>
                  </a:lnTo>
                  <a:lnTo>
                    <a:pt x="806" y="2556"/>
                  </a:lnTo>
                  <a:lnTo>
                    <a:pt x="806" y="2547"/>
                  </a:lnTo>
                  <a:lnTo>
                    <a:pt x="806" y="2538"/>
                  </a:lnTo>
                  <a:lnTo>
                    <a:pt x="806" y="2530"/>
                  </a:lnTo>
                  <a:lnTo>
                    <a:pt x="806" y="2521"/>
                  </a:lnTo>
                  <a:lnTo>
                    <a:pt x="806" y="2512"/>
                  </a:lnTo>
                  <a:lnTo>
                    <a:pt x="806" y="2504"/>
                  </a:lnTo>
                  <a:lnTo>
                    <a:pt x="803" y="2495"/>
                  </a:lnTo>
                  <a:lnTo>
                    <a:pt x="800" y="2486"/>
                  </a:lnTo>
                  <a:lnTo>
                    <a:pt x="800" y="2478"/>
                  </a:lnTo>
                  <a:lnTo>
                    <a:pt x="800" y="2469"/>
                  </a:lnTo>
                  <a:lnTo>
                    <a:pt x="800" y="2461"/>
                  </a:lnTo>
                  <a:lnTo>
                    <a:pt x="800" y="2452"/>
                  </a:lnTo>
                  <a:lnTo>
                    <a:pt x="809" y="2452"/>
                  </a:lnTo>
                  <a:lnTo>
                    <a:pt x="818" y="2452"/>
                  </a:lnTo>
                  <a:lnTo>
                    <a:pt x="818" y="2443"/>
                  </a:lnTo>
                  <a:lnTo>
                    <a:pt x="820" y="2435"/>
                  </a:lnTo>
                  <a:lnTo>
                    <a:pt x="826" y="2426"/>
                  </a:lnTo>
                  <a:lnTo>
                    <a:pt x="835" y="2426"/>
                  </a:lnTo>
                  <a:lnTo>
                    <a:pt x="838" y="2435"/>
                  </a:lnTo>
                  <a:lnTo>
                    <a:pt x="847" y="2440"/>
                  </a:lnTo>
                  <a:lnTo>
                    <a:pt x="855" y="2435"/>
                  </a:lnTo>
                  <a:lnTo>
                    <a:pt x="864" y="2432"/>
                  </a:lnTo>
                  <a:lnTo>
                    <a:pt x="864" y="2440"/>
                  </a:lnTo>
                  <a:lnTo>
                    <a:pt x="864" y="2449"/>
                  </a:lnTo>
                  <a:lnTo>
                    <a:pt x="858" y="2458"/>
                  </a:lnTo>
                  <a:lnTo>
                    <a:pt x="850" y="2466"/>
                  </a:lnTo>
                  <a:lnTo>
                    <a:pt x="847" y="2475"/>
                  </a:lnTo>
                  <a:lnTo>
                    <a:pt x="855" y="2478"/>
                  </a:lnTo>
                  <a:lnTo>
                    <a:pt x="864" y="2478"/>
                  </a:lnTo>
                  <a:lnTo>
                    <a:pt x="864" y="2486"/>
                  </a:lnTo>
                  <a:lnTo>
                    <a:pt x="864" y="2495"/>
                  </a:lnTo>
                  <a:lnTo>
                    <a:pt x="873" y="2498"/>
                  </a:lnTo>
                  <a:lnTo>
                    <a:pt x="882" y="2498"/>
                  </a:lnTo>
                  <a:lnTo>
                    <a:pt x="882" y="2507"/>
                  </a:lnTo>
                  <a:lnTo>
                    <a:pt x="882" y="2515"/>
                  </a:lnTo>
                  <a:lnTo>
                    <a:pt x="879" y="2524"/>
                  </a:lnTo>
                  <a:lnTo>
                    <a:pt x="870" y="2527"/>
                  </a:lnTo>
                  <a:lnTo>
                    <a:pt x="864" y="2535"/>
                  </a:lnTo>
                  <a:lnTo>
                    <a:pt x="867" y="2544"/>
                  </a:lnTo>
                  <a:lnTo>
                    <a:pt x="870" y="2553"/>
                  </a:lnTo>
                  <a:lnTo>
                    <a:pt x="876" y="2561"/>
                  </a:lnTo>
                  <a:lnTo>
                    <a:pt x="882" y="2573"/>
                  </a:lnTo>
                  <a:lnTo>
                    <a:pt x="890" y="2584"/>
                  </a:lnTo>
                  <a:lnTo>
                    <a:pt x="893" y="2593"/>
                  </a:lnTo>
                  <a:lnTo>
                    <a:pt x="896" y="2602"/>
                  </a:lnTo>
                  <a:lnTo>
                    <a:pt x="899" y="2613"/>
                  </a:lnTo>
                  <a:lnTo>
                    <a:pt x="899" y="2622"/>
                  </a:lnTo>
                  <a:lnTo>
                    <a:pt x="902" y="2631"/>
                  </a:lnTo>
                  <a:lnTo>
                    <a:pt x="905" y="2639"/>
                  </a:lnTo>
                  <a:lnTo>
                    <a:pt x="911" y="2648"/>
                  </a:lnTo>
                  <a:lnTo>
                    <a:pt x="919" y="2657"/>
                  </a:lnTo>
                  <a:lnTo>
                    <a:pt x="928" y="2662"/>
                  </a:lnTo>
                  <a:lnTo>
                    <a:pt x="937" y="2671"/>
                  </a:lnTo>
                  <a:lnTo>
                    <a:pt x="943" y="2680"/>
                  </a:lnTo>
                  <a:lnTo>
                    <a:pt x="946" y="2688"/>
                  </a:lnTo>
                  <a:lnTo>
                    <a:pt x="949" y="2697"/>
                  </a:lnTo>
                  <a:lnTo>
                    <a:pt x="949" y="2705"/>
                  </a:lnTo>
                  <a:lnTo>
                    <a:pt x="949" y="2714"/>
                  </a:lnTo>
                  <a:lnTo>
                    <a:pt x="949" y="2723"/>
                  </a:lnTo>
                  <a:lnTo>
                    <a:pt x="943" y="2731"/>
                  </a:lnTo>
                  <a:lnTo>
                    <a:pt x="934" y="2734"/>
                  </a:lnTo>
                  <a:lnTo>
                    <a:pt x="928" y="2743"/>
                  </a:lnTo>
                  <a:lnTo>
                    <a:pt x="925" y="2752"/>
                  </a:lnTo>
                  <a:lnTo>
                    <a:pt x="925" y="2760"/>
                  </a:lnTo>
                  <a:lnTo>
                    <a:pt x="922" y="2769"/>
                  </a:lnTo>
                  <a:lnTo>
                    <a:pt x="922" y="2778"/>
                  </a:lnTo>
                  <a:lnTo>
                    <a:pt x="919" y="2786"/>
                  </a:lnTo>
                  <a:lnTo>
                    <a:pt x="911" y="2795"/>
                  </a:lnTo>
                  <a:lnTo>
                    <a:pt x="908" y="2803"/>
                  </a:lnTo>
                  <a:lnTo>
                    <a:pt x="908" y="2812"/>
                  </a:lnTo>
                  <a:lnTo>
                    <a:pt x="911" y="2821"/>
                  </a:lnTo>
                  <a:lnTo>
                    <a:pt x="922" y="2827"/>
                  </a:lnTo>
                  <a:lnTo>
                    <a:pt x="934" y="2832"/>
                  </a:lnTo>
                  <a:lnTo>
                    <a:pt x="940" y="2841"/>
                  </a:lnTo>
                  <a:lnTo>
                    <a:pt x="922" y="2832"/>
                  </a:lnTo>
                  <a:lnTo>
                    <a:pt x="946" y="2824"/>
                  </a:lnTo>
                  <a:lnTo>
                    <a:pt x="946" y="2832"/>
                  </a:lnTo>
                  <a:lnTo>
                    <a:pt x="946" y="2841"/>
                  </a:lnTo>
                  <a:lnTo>
                    <a:pt x="946" y="2850"/>
                  </a:lnTo>
                  <a:lnTo>
                    <a:pt x="940" y="2858"/>
                  </a:lnTo>
                  <a:lnTo>
                    <a:pt x="931" y="2861"/>
                  </a:lnTo>
                  <a:lnTo>
                    <a:pt x="922" y="2867"/>
                  </a:lnTo>
                  <a:lnTo>
                    <a:pt x="917" y="2876"/>
                  </a:lnTo>
                  <a:lnTo>
                    <a:pt x="919" y="2884"/>
                  </a:lnTo>
                  <a:lnTo>
                    <a:pt x="922" y="2893"/>
                  </a:lnTo>
                  <a:lnTo>
                    <a:pt x="917" y="2901"/>
                  </a:lnTo>
                  <a:lnTo>
                    <a:pt x="925" y="2904"/>
                  </a:lnTo>
                  <a:lnTo>
                    <a:pt x="934" y="2904"/>
                  </a:lnTo>
                  <a:lnTo>
                    <a:pt x="943" y="2904"/>
                  </a:lnTo>
                  <a:lnTo>
                    <a:pt x="951" y="2899"/>
                  </a:lnTo>
                  <a:lnTo>
                    <a:pt x="960" y="2893"/>
                  </a:lnTo>
                  <a:lnTo>
                    <a:pt x="969" y="2893"/>
                  </a:lnTo>
                  <a:lnTo>
                    <a:pt x="978" y="2899"/>
                  </a:lnTo>
                  <a:lnTo>
                    <a:pt x="983" y="2907"/>
                  </a:lnTo>
                  <a:lnTo>
                    <a:pt x="975" y="2904"/>
                  </a:lnTo>
                  <a:lnTo>
                    <a:pt x="966" y="2899"/>
                  </a:lnTo>
                  <a:lnTo>
                    <a:pt x="954" y="2896"/>
                  </a:lnTo>
                  <a:lnTo>
                    <a:pt x="940" y="2893"/>
                  </a:lnTo>
                  <a:lnTo>
                    <a:pt x="943" y="2910"/>
                  </a:lnTo>
                  <a:lnTo>
                    <a:pt x="951" y="2930"/>
                  </a:lnTo>
                  <a:lnTo>
                    <a:pt x="943" y="2933"/>
                  </a:lnTo>
                  <a:lnTo>
                    <a:pt x="940" y="2942"/>
                  </a:lnTo>
                  <a:lnTo>
                    <a:pt x="937" y="2950"/>
                  </a:lnTo>
                  <a:lnTo>
                    <a:pt x="946" y="2956"/>
                  </a:lnTo>
                  <a:lnTo>
                    <a:pt x="949" y="2965"/>
                  </a:lnTo>
                  <a:lnTo>
                    <a:pt x="951" y="2974"/>
                  </a:lnTo>
                  <a:lnTo>
                    <a:pt x="951" y="2982"/>
                  </a:lnTo>
                  <a:lnTo>
                    <a:pt x="951" y="2991"/>
                  </a:lnTo>
                  <a:lnTo>
                    <a:pt x="954" y="2999"/>
                  </a:lnTo>
                  <a:lnTo>
                    <a:pt x="957" y="3011"/>
                  </a:lnTo>
                  <a:lnTo>
                    <a:pt x="963" y="3002"/>
                  </a:lnTo>
                  <a:lnTo>
                    <a:pt x="963" y="2994"/>
                  </a:lnTo>
                  <a:lnTo>
                    <a:pt x="963" y="2985"/>
                  </a:lnTo>
                  <a:lnTo>
                    <a:pt x="963" y="2976"/>
                  </a:lnTo>
                  <a:lnTo>
                    <a:pt x="963" y="2968"/>
                  </a:lnTo>
                  <a:lnTo>
                    <a:pt x="969" y="2959"/>
                  </a:lnTo>
                  <a:lnTo>
                    <a:pt x="978" y="2953"/>
                  </a:lnTo>
                  <a:lnTo>
                    <a:pt x="983" y="2945"/>
                  </a:lnTo>
                  <a:lnTo>
                    <a:pt x="992" y="2942"/>
                  </a:lnTo>
                  <a:lnTo>
                    <a:pt x="1004" y="2945"/>
                  </a:lnTo>
                  <a:lnTo>
                    <a:pt x="1016" y="2945"/>
                  </a:lnTo>
                  <a:lnTo>
                    <a:pt x="1024" y="2945"/>
                  </a:lnTo>
                  <a:lnTo>
                    <a:pt x="1027" y="2936"/>
                  </a:lnTo>
                  <a:lnTo>
                    <a:pt x="1036" y="2945"/>
                  </a:lnTo>
                  <a:lnTo>
                    <a:pt x="1042" y="2953"/>
                  </a:lnTo>
                  <a:lnTo>
                    <a:pt x="1050" y="2962"/>
                  </a:lnTo>
                  <a:lnTo>
                    <a:pt x="1059" y="2971"/>
                  </a:lnTo>
                  <a:lnTo>
                    <a:pt x="1045" y="2959"/>
                  </a:lnTo>
                  <a:lnTo>
                    <a:pt x="1042" y="2950"/>
                  </a:lnTo>
                  <a:lnTo>
                    <a:pt x="1042" y="2942"/>
                  </a:lnTo>
                  <a:lnTo>
                    <a:pt x="1042" y="2933"/>
                  </a:lnTo>
                  <a:lnTo>
                    <a:pt x="1042" y="2925"/>
                  </a:lnTo>
                  <a:lnTo>
                    <a:pt x="1033" y="2916"/>
                  </a:lnTo>
                  <a:lnTo>
                    <a:pt x="1021" y="2907"/>
                  </a:lnTo>
                  <a:lnTo>
                    <a:pt x="1013" y="2899"/>
                  </a:lnTo>
                  <a:lnTo>
                    <a:pt x="1007" y="2890"/>
                  </a:lnTo>
                  <a:lnTo>
                    <a:pt x="1018" y="2893"/>
                  </a:lnTo>
                  <a:lnTo>
                    <a:pt x="1027" y="2896"/>
                  </a:lnTo>
                  <a:lnTo>
                    <a:pt x="1036" y="2901"/>
                  </a:lnTo>
                  <a:lnTo>
                    <a:pt x="1045" y="2907"/>
                  </a:lnTo>
                  <a:lnTo>
                    <a:pt x="1050" y="2916"/>
                  </a:lnTo>
                  <a:lnTo>
                    <a:pt x="1042" y="2913"/>
                  </a:lnTo>
                  <a:lnTo>
                    <a:pt x="1033" y="2907"/>
                  </a:lnTo>
                  <a:lnTo>
                    <a:pt x="1021" y="2899"/>
                  </a:lnTo>
                  <a:lnTo>
                    <a:pt x="1010" y="2896"/>
                  </a:lnTo>
                  <a:lnTo>
                    <a:pt x="1004" y="2887"/>
                  </a:lnTo>
                  <a:lnTo>
                    <a:pt x="1013" y="2881"/>
                  </a:lnTo>
                  <a:lnTo>
                    <a:pt x="1018" y="2873"/>
                  </a:lnTo>
                  <a:lnTo>
                    <a:pt x="1018" y="2864"/>
                  </a:lnTo>
                  <a:lnTo>
                    <a:pt x="1021" y="2855"/>
                  </a:lnTo>
                  <a:lnTo>
                    <a:pt x="1021" y="2847"/>
                  </a:lnTo>
                  <a:lnTo>
                    <a:pt x="1021" y="2838"/>
                  </a:lnTo>
                  <a:lnTo>
                    <a:pt x="1021" y="2829"/>
                  </a:lnTo>
                  <a:lnTo>
                    <a:pt x="1021" y="2821"/>
                  </a:lnTo>
                  <a:lnTo>
                    <a:pt x="1024" y="2812"/>
                  </a:lnTo>
                  <a:lnTo>
                    <a:pt x="1033" y="2812"/>
                  </a:lnTo>
                  <a:lnTo>
                    <a:pt x="1042" y="2809"/>
                  </a:lnTo>
                  <a:lnTo>
                    <a:pt x="1042" y="2818"/>
                  </a:lnTo>
                  <a:lnTo>
                    <a:pt x="1042" y="2827"/>
                  </a:lnTo>
                  <a:lnTo>
                    <a:pt x="1042" y="2835"/>
                  </a:lnTo>
                  <a:lnTo>
                    <a:pt x="1042" y="2844"/>
                  </a:lnTo>
                  <a:lnTo>
                    <a:pt x="1050" y="2850"/>
                  </a:lnTo>
                  <a:lnTo>
                    <a:pt x="1056" y="2841"/>
                  </a:lnTo>
                  <a:lnTo>
                    <a:pt x="1065" y="2841"/>
                  </a:lnTo>
                  <a:lnTo>
                    <a:pt x="1068" y="2850"/>
                  </a:lnTo>
                  <a:lnTo>
                    <a:pt x="1071" y="2841"/>
                  </a:lnTo>
                  <a:lnTo>
                    <a:pt x="1071" y="2832"/>
                  </a:lnTo>
                  <a:lnTo>
                    <a:pt x="1080" y="2827"/>
                  </a:lnTo>
                  <a:lnTo>
                    <a:pt x="1088" y="2827"/>
                  </a:lnTo>
                  <a:lnTo>
                    <a:pt x="1100" y="2835"/>
                  </a:lnTo>
                  <a:lnTo>
                    <a:pt x="1109" y="2835"/>
                  </a:lnTo>
                  <a:lnTo>
                    <a:pt x="1120" y="2835"/>
                  </a:lnTo>
                  <a:lnTo>
                    <a:pt x="1129" y="2835"/>
                  </a:lnTo>
                  <a:lnTo>
                    <a:pt x="1138" y="2838"/>
                  </a:lnTo>
                  <a:lnTo>
                    <a:pt x="1147" y="2841"/>
                  </a:lnTo>
                  <a:lnTo>
                    <a:pt x="1155" y="2844"/>
                  </a:lnTo>
                  <a:lnTo>
                    <a:pt x="1149" y="2852"/>
                  </a:lnTo>
                  <a:lnTo>
                    <a:pt x="1149" y="2861"/>
                  </a:lnTo>
                  <a:lnTo>
                    <a:pt x="1149" y="2870"/>
                  </a:lnTo>
                  <a:lnTo>
                    <a:pt x="1158" y="2878"/>
                  </a:lnTo>
                  <a:lnTo>
                    <a:pt x="1170" y="2878"/>
                  </a:lnTo>
                  <a:lnTo>
                    <a:pt x="1179" y="2878"/>
                  </a:lnTo>
                  <a:lnTo>
                    <a:pt x="1187" y="2878"/>
                  </a:lnTo>
                  <a:lnTo>
                    <a:pt x="1196" y="2878"/>
                  </a:lnTo>
                  <a:lnTo>
                    <a:pt x="1205" y="2876"/>
                  </a:lnTo>
                  <a:lnTo>
                    <a:pt x="1216" y="2873"/>
                  </a:lnTo>
                  <a:lnTo>
                    <a:pt x="1225" y="2873"/>
                  </a:lnTo>
                  <a:lnTo>
                    <a:pt x="1234" y="2873"/>
                  </a:lnTo>
                  <a:lnTo>
                    <a:pt x="1243" y="2873"/>
                  </a:lnTo>
                  <a:lnTo>
                    <a:pt x="1251" y="2873"/>
                  </a:lnTo>
                  <a:lnTo>
                    <a:pt x="1254" y="2884"/>
                  </a:lnTo>
                  <a:lnTo>
                    <a:pt x="1257" y="2893"/>
                  </a:lnTo>
                  <a:lnTo>
                    <a:pt x="1257" y="2901"/>
                  </a:lnTo>
                  <a:lnTo>
                    <a:pt x="1272" y="2907"/>
                  </a:lnTo>
                  <a:lnTo>
                    <a:pt x="1263" y="2913"/>
                  </a:lnTo>
                  <a:lnTo>
                    <a:pt x="1254" y="2913"/>
                  </a:lnTo>
                  <a:lnTo>
                    <a:pt x="1245" y="2913"/>
                  </a:lnTo>
                  <a:lnTo>
                    <a:pt x="1248" y="2878"/>
                  </a:lnTo>
                  <a:lnTo>
                    <a:pt x="1245" y="2896"/>
                  </a:lnTo>
                  <a:lnTo>
                    <a:pt x="1237" y="2896"/>
                  </a:lnTo>
                  <a:lnTo>
                    <a:pt x="1228" y="2893"/>
                  </a:lnTo>
                  <a:lnTo>
                    <a:pt x="1219" y="2896"/>
                  </a:lnTo>
                  <a:lnTo>
                    <a:pt x="1211" y="2896"/>
                  </a:lnTo>
                  <a:lnTo>
                    <a:pt x="1202" y="2896"/>
                  </a:lnTo>
                  <a:lnTo>
                    <a:pt x="1193" y="2893"/>
                  </a:lnTo>
                  <a:lnTo>
                    <a:pt x="1184" y="2890"/>
                  </a:lnTo>
                  <a:lnTo>
                    <a:pt x="1176" y="2890"/>
                  </a:lnTo>
                  <a:lnTo>
                    <a:pt x="1167" y="2887"/>
                  </a:lnTo>
                  <a:lnTo>
                    <a:pt x="1155" y="2887"/>
                  </a:lnTo>
                  <a:lnTo>
                    <a:pt x="1147" y="2887"/>
                  </a:lnTo>
                  <a:lnTo>
                    <a:pt x="1135" y="2887"/>
                  </a:lnTo>
                  <a:lnTo>
                    <a:pt x="1132" y="2896"/>
                  </a:lnTo>
                  <a:lnTo>
                    <a:pt x="1132" y="2904"/>
                  </a:lnTo>
                  <a:lnTo>
                    <a:pt x="1132" y="2913"/>
                  </a:lnTo>
                  <a:lnTo>
                    <a:pt x="1144" y="2916"/>
                  </a:lnTo>
                  <a:lnTo>
                    <a:pt x="1144" y="2925"/>
                  </a:lnTo>
                  <a:lnTo>
                    <a:pt x="1129" y="2927"/>
                  </a:lnTo>
                  <a:lnTo>
                    <a:pt x="1120" y="2927"/>
                  </a:lnTo>
                  <a:lnTo>
                    <a:pt x="1112" y="2927"/>
                  </a:lnTo>
                  <a:lnTo>
                    <a:pt x="1114" y="2936"/>
                  </a:lnTo>
                  <a:lnTo>
                    <a:pt x="1123" y="2936"/>
                  </a:lnTo>
                  <a:lnTo>
                    <a:pt x="1132" y="2942"/>
                  </a:lnTo>
                  <a:lnTo>
                    <a:pt x="1144" y="2948"/>
                  </a:lnTo>
                  <a:lnTo>
                    <a:pt x="1135" y="2953"/>
                  </a:lnTo>
                  <a:lnTo>
                    <a:pt x="1123" y="2953"/>
                  </a:lnTo>
                  <a:lnTo>
                    <a:pt x="1112" y="2953"/>
                  </a:lnTo>
                  <a:lnTo>
                    <a:pt x="1103" y="2953"/>
                  </a:lnTo>
                  <a:lnTo>
                    <a:pt x="1106" y="2962"/>
                  </a:lnTo>
                  <a:lnTo>
                    <a:pt x="1114" y="2965"/>
                  </a:lnTo>
                  <a:lnTo>
                    <a:pt x="1123" y="2974"/>
                  </a:lnTo>
                  <a:lnTo>
                    <a:pt x="1114" y="2982"/>
                  </a:lnTo>
                  <a:lnTo>
                    <a:pt x="1117" y="2991"/>
                  </a:lnTo>
                  <a:lnTo>
                    <a:pt x="1126" y="2994"/>
                  </a:lnTo>
                  <a:lnTo>
                    <a:pt x="1114" y="2999"/>
                  </a:lnTo>
                  <a:lnTo>
                    <a:pt x="1106" y="2999"/>
                  </a:lnTo>
                  <a:lnTo>
                    <a:pt x="1117" y="3005"/>
                  </a:lnTo>
                  <a:lnTo>
                    <a:pt x="1132" y="3008"/>
                  </a:lnTo>
                  <a:lnTo>
                    <a:pt x="1135" y="3017"/>
                  </a:lnTo>
                  <a:lnTo>
                    <a:pt x="1126" y="3022"/>
                  </a:lnTo>
                  <a:lnTo>
                    <a:pt x="1126" y="3034"/>
                  </a:lnTo>
                  <a:lnTo>
                    <a:pt x="1126" y="3046"/>
                  </a:lnTo>
                  <a:lnTo>
                    <a:pt x="1126" y="3054"/>
                  </a:lnTo>
                  <a:lnTo>
                    <a:pt x="1135" y="3054"/>
                  </a:lnTo>
                  <a:lnTo>
                    <a:pt x="1144" y="3054"/>
                  </a:lnTo>
                  <a:lnTo>
                    <a:pt x="1155" y="3054"/>
                  </a:lnTo>
                  <a:lnTo>
                    <a:pt x="1164" y="3054"/>
                  </a:lnTo>
                  <a:lnTo>
                    <a:pt x="1167" y="3063"/>
                  </a:lnTo>
                  <a:lnTo>
                    <a:pt x="1179" y="3069"/>
                  </a:lnTo>
                  <a:lnTo>
                    <a:pt x="1187" y="3069"/>
                  </a:lnTo>
                  <a:lnTo>
                    <a:pt x="1190" y="3080"/>
                  </a:lnTo>
                  <a:lnTo>
                    <a:pt x="1193" y="3089"/>
                  </a:lnTo>
                  <a:lnTo>
                    <a:pt x="1199" y="3097"/>
                  </a:lnTo>
                  <a:lnTo>
                    <a:pt x="1211" y="3103"/>
                  </a:lnTo>
                  <a:lnTo>
                    <a:pt x="1219" y="3103"/>
                  </a:lnTo>
                  <a:lnTo>
                    <a:pt x="1231" y="3103"/>
                  </a:lnTo>
                  <a:lnTo>
                    <a:pt x="1240" y="3100"/>
                  </a:lnTo>
                  <a:lnTo>
                    <a:pt x="1243" y="3092"/>
                  </a:lnTo>
                  <a:lnTo>
                    <a:pt x="1248" y="3083"/>
                  </a:lnTo>
                  <a:lnTo>
                    <a:pt x="1257" y="3083"/>
                  </a:lnTo>
                  <a:lnTo>
                    <a:pt x="1278" y="3097"/>
                  </a:lnTo>
                  <a:lnTo>
                    <a:pt x="1286" y="3103"/>
                  </a:lnTo>
                  <a:lnTo>
                    <a:pt x="1289" y="3112"/>
                  </a:lnTo>
                  <a:lnTo>
                    <a:pt x="1295" y="3120"/>
                  </a:lnTo>
                  <a:lnTo>
                    <a:pt x="1301" y="3129"/>
                  </a:lnTo>
                  <a:lnTo>
                    <a:pt x="1312" y="3141"/>
                  </a:lnTo>
                  <a:lnTo>
                    <a:pt x="1324" y="3146"/>
                  </a:lnTo>
                  <a:lnTo>
                    <a:pt x="1336" y="3152"/>
                  </a:lnTo>
                  <a:lnTo>
                    <a:pt x="1347" y="3155"/>
                  </a:lnTo>
                  <a:lnTo>
                    <a:pt x="1356" y="3155"/>
                  </a:lnTo>
                  <a:lnTo>
                    <a:pt x="1365" y="3155"/>
                  </a:lnTo>
                  <a:lnTo>
                    <a:pt x="1374" y="3155"/>
                  </a:lnTo>
                  <a:lnTo>
                    <a:pt x="1376" y="3146"/>
                  </a:lnTo>
                  <a:lnTo>
                    <a:pt x="1385" y="3138"/>
                  </a:lnTo>
                  <a:lnTo>
                    <a:pt x="1391" y="3129"/>
                  </a:lnTo>
                  <a:lnTo>
                    <a:pt x="1400" y="3132"/>
                  </a:lnTo>
                  <a:lnTo>
                    <a:pt x="1409" y="3138"/>
                  </a:lnTo>
                  <a:lnTo>
                    <a:pt x="1417" y="3149"/>
                  </a:lnTo>
                  <a:lnTo>
                    <a:pt x="1429" y="3152"/>
                  </a:lnTo>
                  <a:lnTo>
                    <a:pt x="1435" y="3155"/>
                  </a:lnTo>
                  <a:lnTo>
                    <a:pt x="1438" y="3164"/>
                  </a:lnTo>
                  <a:lnTo>
                    <a:pt x="1441" y="3172"/>
                  </a:lnTo>
                  <a:lnTo>
                    <a:pt x="1449" y="3178"/>
                  </a:lnTo>
                  <a:lnTo>
                    <a:pt x="1458" y="3178"/>
                  </a:lnTo>
                  <a:lnTo>
                    <a:pt x="1464" y="3169"/>
                  </a:lnTo>
                  <a:lnTo>
                    <a:pt x="1464" y="3161"/>
                  </a:lnTo>
                  <a:lnTo>
                    <a:pt x="1470" y="3152"/>
                  </a:lnTo>
                  <a:lnTo>
                    <a:pt x="1478" y="3152"/>
                  </a:lnTo>
                  <a:lnTo>
                    <a:pt x="1487" y="3155"/>
                  </a:lnTo>
                  <a:lnTo>
                    <a:pt x="1499" y="3161"/>
                  </a:lnTo>
                  <a:lnTo>
                    <a:pt x="1510" y="3161"/>
                  </a:lnTo>
                  <a:lnTo>
                    <a:pt x="1519" y="3161"/>
                  </a:lnTo>
                  <a:lnTo>
                    <a:pt x="1528" y="3161"/>
                  </a:lnTo>
                  <a:lnTo>
                    <a:pt x="1537" y="3158"/>
                  </a:lnTo>
                  <a:lnTo>
                    <a:pt x="1545" y="3158"/>
                  </a:lnTo>
                  <a:lnTo>
                    <a:pt x="1554" y="3164"/>
                  </a:lnTo>
                  <a:lnTo>
                    <a:pt x="1569" y="3169"/>
                  </a:lnTo>
                  <a:lnTo>
                    <a:pt x="1580" y="3169"/>
                  </a:lnTo>
                  <a:lnTo>
                    <a:pt x="1592" y="3169"/>
                  </a:lnTo>
                  <a:lnTo>
                    <a:pt x="1601" y="3169"/>
                  </a:lnTo>
                  <a:lnTo>
                    <a:pt x="1609" y="3169"/>
                  </a:lnTo>
                  <a:lnTo>
                    <a:pt x="1618" y="3169"/>
                  </a:lnTo>
                  <a:lnTo>
                    <a:pt x="1627" y="3169"/>
                  </a:lnTo>
                  <a:lnTo>
                    <a:pt x="1636" y="3169"/>
                  </a:lnTo>
                  <a:lnTo>
                    <a:pt x="1644" y="3169"/>
                  </a:lnTo>
                  <a:lnTo>
                    <a:pt x="1653" y="3169"/>
                  </a:lnTo>
                  <a:lnTo>
                    <a:pt x="1662" y="3169"/>
                  </a:lnTo>
                  <a:lnTo>
                    <a:pt x="1671" y="3169"/>
                  </a:lnTo>
                  <a:lnTo>
                    <a:pt x="1679" y="3169"/>
                  </a:lnTo>
                  <a:lnTo>
                    <a:pt x="1688" y="3169"/>
                  </a:lnTo>
                  <a:lnTo>
                    <a:pt x="1703" y="3169"/>
                  </a:lnTo>
                  <a:lnTo>
                    <a:pt x="1714" y="3172"/>
                  </a:lnTo>
                  <a:lnTo>
                    <a:pt x="1726" y="3175"/>
                  </a:lnTo>
                  <a:lnTo>
                    <a:pt x="1735" y="3175"/>
                  </a:lnTo>
                  <a:lnTo>
                    <a:pt x="1743" y="3175"/>
                  </a:lnTo>
                  <a:lnTo>
                    <a:pt x="1758" y="3175"/>
                  </a:lnTo>
                  <a:lnTo>
                    <a:pt x="1767" y="3175"/>
                  </a:lnTo>
                  <a:lnTo>
                    <a:pt x="1772" y="3167"/>
                  </a:lnTo>
                  <a:lnTo>
                    <a:pt x="1772" y="3158"/>
                  </a:lnTo>
                  <a:lnTo>
                    <a:pt x="1772" y="3149"/>
                  </a:lnTo>
                  <a:lnTo>
                    <a:pt x="1772" y="3141"/>
                  </a:lnTo>
                  <a:lnTo>
                    <a:pt x="1772" y="3132"/>
                  </a:lnTo>
                  <a:lnTo>
                    <a:pt x="1772" y="3123"/>
                  </a:lnTo>
                  <a:lnTo>
                    <a:pt x="1772" y="3112"/>
                  </a:lnTo>
                  <a:lnTo>
                    <a:pt x="1770" y="3103"/>
                  </a:lnTo>
                  <a:lnTo>
                    <a:pt x="1770" y="3095"/>
                  </a:lnTo>
                  <a:lnTo>
                    <a:pt x="1770" y="3086"/>
                  </a:lnTo>
                  <a:lnTo>
                    <a:pt x="1778" y="3080"/>
                  </a:lnTo>
                  <a:lnTo>
                    <a:pt x="1787" y="3080"/>
                  </a:lnTo>
                  <a:lnTo>
                    <a:pt x="1796" y="3089"/>
                  </a:lnTo>
                  <a:lnTo>
                    <a:pt x="1802" y="3097"/>
                  </a:lnTo>
                  <a:lnTo>
                    <a:pt x="1813" y="3103"/>
                  </a:lnTo>
                  <a:lnTo>
                    <a:pt x="1825" y="3112"/>
                  </a:lnTo>
                  <a:lnTo>
                    <a:pt x="1854" y="3109"/>
                  </a:lnTo>
                  <a:lnTo>
                    <a:pt x="1836" y="3103"/>
                  </a:lnTo>
                  <a:lnTo>
                    <a:pt x="1854" y="3103"/>
                  </a:lnTo>
                  <a:lnTo>
                    <a:pt x="1863" y="3103"/>
                  </a:lnTo>
                  <a:lnTo>
                    <a:pt x="1871" y="3103"/>
                  </a:lnTo>
                  <a:lnTo>
                    <a:pt x="1880" y="3106"/>
                  </a:lnTo>
                  <a:lnTo>
                    <a:pt x="1889" y="3100"/>
                  </a:lnTo>
                  <a:lnTo>
                    <a:pt x="1898" y="3097"/>
                  </a:lnTo>
                  <a:lnTo>
                    <a:pt x="1906" y="3095"/>
                  </a:lnTo>
                  <a:lnTo>
                    <a:pt x="1918" y="3103"/>
                  </a:lnTo>
                  <a:lnTo>
                    <a:pt x="1924" y="3112"/>
                  </a:lnTo>
                  <a:lnTo>
                    <a:pt x="1924" y="3120"/>
                  </a:lnTo>
                  <a:lnTo>
                    <a:pt x="1921" y="3129"/>
                  </a:lnTo>
                  <a:lnTo>
                    <a:pt x="1924" y="3138"/>
                  </a:lnTo>
                  <a:lnTo>
                    <a:pt x="1933" y="3144"/>
                  </a:lnTo>
                  <a:lnTo>
                    <a:pt x="1944" y="3152"/>
                  </a:lnTo>
                  <a:lnTo>
                    <a:pt x="1947" y="3144"/>
                  </a:lnTo>
                  <a:lnTo>
                    <a:pt x="1947" y="3135"/>
                  </a:lnTo>
                  <a:lnTo>
                    <a:pt x="1947" y="3126"/>
                  </a:lnTo>
                  <a:lnTo>
                    <a:pt x="1947" y="3118"/>
                  </a:lnTo>
                  <a:lnTo>
                    <a:pt x="1956" y="3115"/>
                  </a:lnTo>
                  <a:lnTo>
                    <a:pt x="1962" y="3106"/>
                  </a:lnTo>
                  <a:lnTo>
                    <a:pt x="1962" y="3097"/>
                  </a:lnTo>
                  <a:lnTo>
                    <a:pt x="1962" y="3089"/>
                  </a:lnTo>
                  <a:lnTo>
                    <a:pt x="1962" y="3080"/>
                  </a:lnTo>
                  <a:lnTo>
                    <a:pt x="1962" y="3071"/>
                  </a:lnTo>
                  <a:lnTo>
                    <a:pt x="1967" y="3063"/>
                  </a:lnTo>
                  <a:lnTo>
                    <a:pt x="1976" y="3060"/>
                  </a:lnTo>
                  <a:lnTo>
                    <a:pt x="1988" y="3060"/>
                  </a:lnTo>
                  <a:lnTo>
                    <a:pt x="2002" y="3063"/>
                  </a:lnTo>
                  <a:lnTo>
                    <a:pt x="2011" y="3063"/>
                  </a:lnTo>
                  <a:lnTo>
                    <a:pt x="2002" y="3054"/>
                  </a:lnTo>
                  <a:lnTo>
                    <a:pt x="1994" y="3048"/>
                  </a:lnTo>
                  <a:lnTo>
                    <a:pt x="1979" y="3043"/>
                  </a:lnTo>
                  <a:lnTo>
                    <a:pt x="1967" y="3034"/>
                  </a:lnTo>
                  <a:lnTo>
                    <a:pt x="1962" y="3025"/>
                  </a:lnTo>
                  <a:lnTo>
                    <a:pt x="1959" y="3017"/>
                  </a:lnTo>
                  <a:lnTo>
                    <a:pt x="1956" y="3008"/>
                  </a:lnTo>
                  <a:lnTo>
                    <a:pt x="1950" y="2999"/>
                  </a:lnTo>
                  <a:lnTo>
                    <a:pt x="1944" y="2991"/>
                  </a:lnTo>
                  <a:lnTo>
                    <a:pt x="1938" y="2982"/>
                  </a:lnTo>
                  <a:lnTo>
                    <a:pt x="1933" y="2974"/>
                  </a:lnTo>
                  <a:lnTo>
                    <a:pt x="1927" y="2965"/>
                  </a:lnTo>
                  <a:lnTo>
                    <a:pt x="1924" y="2956"/>
                  </a:lnTo>
                  <a:lnTo>
                    <a:pt x="1921" y="2948"/>
                  </a:lnTo>
                  <a:lnTo>
                    <a:pt x="1918" y="2939"/>
                  </a:lnTo>
                  <a:lnTo>
                    <a:pt x="1915" y="2930"/>
                  </a:lnTo>
                  <a:lnTo>
                    <a:pt x="1912" y="2922"/>
                  </a:lnTo>
                  <a:lnTo>
                    <a:pt x="1915" y="2913"/>
                  </a:lnTo>
                  <a:lnTo>
                    <a:pt x="1915" y="2904"/>
                  </a:lnTo>
                  <a:lnTo>
                    <a:pt x="1915" y="2896"/>
                  </a:lnTo>
                  <a:lnTo>
                    <a:pt x="1915" y="2887"/>
                  </a:lnTo>
                  <a:lnTo>
                    <a:pt x="1912" y="2878"/>
                  </a:lnTo>
                  <a:lnTo>
                    <a:pt x="1909" y="2870"/>
                  </a:lnTo>
                  <a:lnTo>
                    <a:pt x="1903" y="2861"/>
                  </a:lnTo>
                  <a:lnTo>
                    <a:pt x="1895" y="2852"/>
                  </a:lnTo>
                  <a:lnTo>
                    <a:pt x="1892" y="2844"/>
                  </a:lnTo>
                  <a:lnTo>
                    <a:pt x="1892" y="2835"/>
                  </a:lnTo>
                  <a:lnTo>
                    <a:pt x="1898" y="2827"/>
                  </a:lnTo>
                  <a:lnTo>
                    <a:pt x="1906" y="2824"/>
                  </a:lnTo>
                  <a:lnTo>
                    <a:pt x="1918" y="2821"/>
                  </a:lnTo>
                  <a:lnTo>
                    <a:pt x="1930" y="2818"/>
                  </a:lnTo>
                  <a:lnTo>
                    <a:pt x="1938" y="2812"/>
                  </a:lnTo>
                  <a:lnTo>
                    <a:pt x="1944" y="2803"/>
                  </a:lnTo>
                  <a:lnTo>
                    <a:pt x="1953" y="2798"/>
                  </a:lnTo>
                  <a:lnTo>
                    <a:pt x="1962" y="2798"/>
                  </a:lnTo>
                  <a:lnTo>
                    <a:pt x="1970" y="2798"/>
                  </a:lnTo>
                  <a:lnTo>
                    <a:pt x="1976" y="2789"/>
                  </a:lnTo>
                  <a:lnTo>
                    <a:pt x="1982" y="2780"/>
                  </a:lnTo>
                  <a:lnTo>
                    <a:pt x="1991" y="2775"/>
                  </a:lnTo>
                  <a:lnTo>
                    <a:pt x="1999" y="2775"/>
                  </a:lnTo>
                  <a:lnTo>
                    <a:pt x="2008" y="2769"/>
                  </a:lnTo>
                  <a:lnTo>
                    <a:pt x="2017" y="2763"/>
                  </a:lnTo>
                  <a:lnTo>
                    <a:pt x="2026" y="2760"/>
                  </a:lnTo>
                  <a:lnTo>
                    <a:pt x="2034" y="2760"/>
                  </a:lnTo>
                  <a:lnTo>
                    <a:pt x="2043" y="2760"/>
                  </a:lnTo>
                  <a:lnTo>
                    <a:pt x="2052" y="2754"/>
                  </a:lnTo>
                  <a:lnTo>
                    <a:pt x="2061" y="2754"/>
                  </a:lnTo>
                  <a:lnTo>
                    <a:pt x="2069" y="2757"/>
                  </a:lnTo>
                  <a:lnTo>
                    <a:pt x="2078" y="2757"/>
                  </a:lnTo>
                  <a:lnTo>
                    <a:pt x="2093" y="2760"/>
                  </a:lnTo>
                  <a:lnTo>
                    <a:pt x="2101" y="2760"/>
                  </a:lnTo>
                  <a:lnTo>
                    <a:pt x="2101" y="2769"/>
                  </a:lnTo>
                  <a:lnTo>
                    <a:pt x="2101" y="2778"/>
                  </a:lnTo>
                  <a:lnTo>
                    <a:pt x="2101" y="2786"/>
                  </a:lnTo>
                  <a:lnTo>
                    <a:pt x="2104" y="2795"/>
                  </a:lnTo>
                  <a:lnTo>
                    <a:pt x="2104" y="2803"/>
                  </a:lnTo>
                  <a:lnTo>
                    <a:pt x="2104" y="2812"/>
                  </a:lnTo>
                  <a:lnTo>
                    <a:pt x="2104" y="2821"/>
                  </a:lnTo>
                  <a:lnTo>
                    <a:pt x="2104" y="2829"/>
                  </a:lnTo>
                  <a:lnTo>
                    <a:pt x="2104" y="2838"/>
                  </a:lnTo>
                  <a:lnTo>
                    <a:pt x="2096" y="2841"/>
                  </a:lnTo>
                  <a:lnTo>
                    <a:pt x="2087" y="2841"/>
                  </a:lnTo>
                  <a:lnTo>
                    <a:pt x="2078" y="2841"/>
                  </a:lnTo>
                  <a:lnTo>
                    <a:pt x="2069" y="2841"/>
                  </a:lnTo>
                  <a:lnTo>
                    <a:pt x="2061" y="2841"/>
                  </a:lnTo>
                  <a:lnTo>
                    <a:pt x="2069" y="2841"/>
                  </a:lnTo>
                  <a:lnTo>
                    <a:pt x="2078" y="2835"/>
                  </a:lnTo>
                  <a:lnTo>
                    <a:pt x="2090" y="2835"/>
                  </a:lnTo>
                  <a:lnTo>
                    <a:pt x="2081" y="2832"/>
                  </a:lnTo>
                  <a:lnTo>
                    <a:pt x="2072" y="2832"/>
                  </a:lnTo>
                  <a:lnTo>
                    <a:pt x="2064" y="2832"/>
                  </a:lnTo>
                  <a:lnTo>
                    <a:pt x="2058" y="2841"/>
                  </a:lnTo>
                  <a:lnTo>
                    <a:pt x="2049" y="2844"/>
                  </a:lnTo>
                  <a:lnTo>
                    <a:pt x="2040" y="2847"/>
                  </a:lnTo>
                  <a:lnTo>
                    <a:pt x="2040" y="2855"/>
                  </a:lnTo>
                  <a:lnTo>
                    <a:pt x="2040" y="2864"/>
                  </a:lnTo>
                  <a:lnTo>
                    <a:pt x="2032" y="2870"/>
                  </a:lnTo>
                  <a:lnTo>
                    <a:pt x="2020" y="2870"/>
                  </a:lnTo>
                  <a:lnTo>
                    <a:pt x="2017" y="2861"/>
                  </a:lnTo>
                  <a:lnTo>
                    <a:pt x="2008" y="2858"/>
                  </a:lnTo>
                  <a:lnTo>
                    <a:pt x="2002" y="2867"/>
                  </a:lnTo>
                  <a:lnTo>
                    <a:pt x="2002" y="2876"/>
                  </a:lnTo>
                  <a:lnTo>
                    <a:pt x="2011" y="2878"/>
                  </a:lnTo>
                  <a:lnTo>
                    <a:pt x="2020" y="2884"/>
                  </a:lnTo>
                  <a:lnTo>
                    <a:pt x="2029" y="2896"/>
                  </a:lnTo>
                  <a:lnTo>
                    <a:pt x="2034" y="2907"/>
                  </a:lnTo>
                  <a:lnTo>
                    <a:pt x="2037" y="2916"/>
                  </a:lnTo>
                  <a:lnTo>
                    <a:pt x="2037" y="2925"/>
                  </a:lnTo>
                  <a:lnTo>
                    <a:pt x="2040" y="2933"/>
                  </a:lnTo>
                  <a:lnTo>
                    <a:pt x="2040" y="2942"/>
                  </a:lnTo>
                  <a:lnTo>
                    <a:pt x="2052" y="2945"/>
                  </a:lnTo>
                  <a:lnTo>
                    <a:pt x="2061" y="2953"/>
                  </a:lnTo>
                  <a:lnTo>
                    <a:pt x="2069" y="2959"/>
                  </a:lnTo>
                  <a:lnTo>
                    <a:pt x="2078" y="2965"/>
                  </a:lnTo>
                  <a:lnTo>
                    <a:pt x="2087" y="2965"/>
                  </a:lnTo>
                  <a:lnTo>
                    <a:pt x="2093" y="2976"/>
                  </a:lnTo>
                  <a:lnTo>
                    <a:pt x="2087" y="2985"/>
                  </a:lnTo>
                  <a:lnTo>
                    <a:pt x="2084" y="2994"/>
                  </a:lnTo>
                  <a:lnTo>
                    <a:pt x="2084" y="3005"/>
                  </a:lnTo>
                  <a:lnTo>
                    <a:pt x="2090" y="3017"/>
                  </a:lnTo>
                  <a:lnTo>
                    <a:pt x="2090" y="3025"/>
                  </a:lnTo>
                  <a:lnTo>
                    <a:pt x="2093" y="3017"/>
                  </a:lnTo>
                  <a:lnTo>
                    <a:pt x="2093" y="3008"/>
                  </a:lnTo>
                  <a:lnTo>
                    <a:pt x="2096" y="2999"/>
                  </a:lnTo>
                  <a:lnTo>
                    <a:pt x="2096" y="2991"/>
                  </a:lnTo>
                  <a:lnTo>
                    <a:pt x="2104" y="2988"/>
                  </a:lnTo>
                  <a:lnTo>
                    <a:pt x="2113" y="2988"/>
                  </a:lnTo>
                  <a:lnTo>
                    <a:pt x="2125" y="2988"/>
                  </a:lnTo>
                  <a:lnTo>
                    <a:pt x="2130" y="2999"/>
                  </a:lnTo>
                  <a:lnTo>
                    <a:pt x="2130" y="3008"/>
                  </a:lnTo>
                  <a:lnTo>
                    <a:pt x="2133" y="3017"/>
                  </a:lnTo>
                  <a:lnTo>
                    <a:pt x="2139" y="3028"/>
                  </a:lnTo>
                  <a:lnTo>
                    <a:pt x="2148" y="3034"/>
                  </a:lnTo>
                  <a:lnTo>
                    <a:pt x="2160" y="3040"/>
                  </a:lnTo>
                  <a:lnTo>
                    <a:pt x="2151" y="3043"/>
                  </a:lnTo>
                  <a:lnTo>
                    <a:pt x="2148" y="3051"/>
                  </a:lnTo>
                  <a:lnTo>
                    <a:pt x="2133" y="3054"/>
                  </a:lnTo>
                  <a:lnTo>
                    <a:pt x="2125" y="3051"/>
                  </a:lnTo>
                  <a:lnTo>
                    <a:pt x="2116" y="3051"/>
                  </a:lnTo>
                  <a:lnTo>
                    <a:pt x="2101" y="3046"/>
                  </a:lnTo>
                  <a:lnTo>
                    <a:pt x="2093" y="3037"/>
                  </a:lnTo>
                  <a:lnTo>
                    <a:pt x="2090" y="3046"/>
                  </a:lnTo>
                  <a:lnTo>
                    <a:pt x="2090" y="3054"/>
                  </a:lnTo>
                  <a:lnTo>
                    <a:pt x="2090" y="3063"/>
                  </a:lnTo>
                  <a:lnTo>
                    <a:pt x="2090" y="3071"/>
                  </a:lnTo>
                  <a:lnTo>
                    <a:pt x="2087" y="3080"/>
                  </a:lnTo>
                  <a:lnTo>
                    <a:pt x="2084" y="3089"/>
                  </a:lnTo>
                  <a:lnTo>
                    <a:pt x="2084" y="3097"/>
                  </a:lnTo>
                  <a:lnTo>
                    <a:pt x="2096" y="3097"/>
                  </a:lnTo>
                  <a:lnTo>
                    <a:pt x="2104" y="3092"/>
                  </a:lnTo>
                  <a:lnTo>
                    <a:pt x="2110" y="3100"/>
                  </a:lnTo>
                  <a:lnTo>
                    <a:pt x="2107" y="3109"/>
                  </a:lnTo>
                  <a:lnTo>
                    <a:pt x="2098" y="3118"/>
                  </a:lnTo>
                  <a:lnTo>
                    <a:pt x="2090" y="3123"/>
                  </a:lnTo>
                  <a:lnTo>
                    <a:pt x="2087" y="3109"/>
                  </a:lnTo>
                  <a:lnTo>
                    <a:pt x="2087" y="3132"/>
                  </a:lnTo>
                  <a:lnTo>
                    <a:pt x="2096" y="3126"/>
                  </a:lnTo>
                  <a:lnTo>
                    <a:pt x="2087" y="3109"/>
                  </a:lnTo>
                  <a:lnTo>
                    <a:pt x="2104" y="3112"/>
                  </a:lnTo>
                  <a:lnTo>
                    <a:pt x="2110" y="3103"/>
                  </a:lnTo>
                  <a:lnTo>
                    <a:pt x="2110" y="3112"/>
                  </a:lnTo>
                  <a:lnTo>
                    <a:pt x="2110" y="3120"/>
                  </a:lnTo>
                  <a:lnTo>
                    <a:pt x="2116" y="3129"/>
                  </a:lnTo>
                  <a:lnTo>
                    <a:pt x="2119" y="3138"/>
                  </a:lnTo>
                  <a:lnTo>
                    <a:pt x="2122" y="3149"/>
                  </a:lnTo>
                  <a:lnTo>
                    <a:pt x="2122" y="3158"/>
                  </a:lnTo>
                  <a:lnTo>
                    <a:pt x="2125" y="3167"/>
                  </a:lnTo>
                  <a:lnTo>
                    <a:pt x="2125" y="3175"/>
                  </a:lnTo>
                  <a:lnTo>
                    <a:pt x="2125" y="3184"/>
                  </a:lnTo>
                  <a:lnTo>
                    <a:pt x="2125" y="3193"/>
                  </a:lnTo>
                  <a:lnTo>
                    <a:pt x="2128" y="3201"/>
                  </a:lnTo>
                  <a:lnTo>
                    <a:pt x="2130" y="3210"/>
                  </a:lnTo>
                  <a:lnTo>
                    <a:pt x="2139" y="3210"/>
                  </a:lnTo>
                  <a:lnTo>
                    <a:pt x="2148" y="3210"/>
                  </a:lnTo>
                  <a:lnTo>
                    <a:pt x="2157" y="3207"/>
                  </a:lnTo>
                  <a:lnTo>
                    <a:pt x="2163" y="3198"/>
                  </a:lnTo>
                  <a:lnTo>
                    <a:pt x="2171" y="3195"/>
                  </a:lnTo>
                  <a:lnTo>
                    <a:pt x="2183" y="3193"/>
                  </a:lnTo>
                  <a:lnTo>
                    <a:pt x="2192" y="3190"/>
                  </a:lnTo>
                  <a:lnTo>
                    <a:pt x="2200" y="3184"/>
                  </a:lnTo>
                  <a:lnTo>
                    <a:pt x="2209" y="3181"/>
                  </a:lnTo>
                  <a:lnTo>
                    <a:pt x="2218" y="3181"/>
                  </a:lnTo>
                  <a:lnTo>
                    <a:pt x="2224" y="3172"/>
                  </a:lnTo>
                  <a:lnTo>
                    <a:pt x="2232" y="3169"/>
                  </a:lnTo>
                  <a:lnTo>
                    <a:pt x="2241" y="3169"/>
                  </a:lnTo>
                  <a:lnTo>
                    <a:pt x="2256" y="3169"/>
                  </a:lnTo>
                  <a:lnTo>
                    <a:pt x="2264" y="3169"/>
                  </a:lnTo>
                  <a:lnTo>
                    <a:pt x="2276" y="3178"/>
                  </a:lnTo>
                  <a:lnTo>
                    <a:pt x="2288" y="3184"/>
                  </a:lnTo>
                  <a:lnTo>
                    <a:pt x="2296" y="3187"/>
                  </a:lnTo>
                  <a:lnTo>
                    <a:pt x="2308" y="3190"/>
                  </a:lnTo>
                  <a:lnTo>
                    <a:pt x="2317" y="3195"/>
                  </a:lnTo>
                  <a:lnTo>
                    <a:pt x="2328" y="3198"/>
                  </a:lnTo>
                  <a:lnTo>
                    <a:pt x="2340" y="3201"/>
                  </a:lnTo>
                  <a:lnTo>
                    <a:pt x="2349" y="3207"/>
                  </a:lnTo>
                  <a:lnTo>
                    <a:pt x="2358" y="3216"/>
                  </a:lnTo>
                  <a:lnTo>
                    <a:pt x="2366" y="3221"/>
                  </a:lnTo>
                  <a:lnTo>
                    <a:pt x="2375" y="3227"/>
                  </a:lnTo>
                  <a:lnTo>
                    <a:pt x="2387" y="3230"/>
                  </a:lnTo>
                  <a:lnTo>
                    <a:pt x="2395" y="3230"/>
                  </a:lnTo>
                  <a:lnTo>
                    <a:pt x="2404" y="3230"/>
                  </a:lnTo>
                  <a:lnTo>
                    <a:pt x="2407" y="3239"/>
                  </a:lnTo>
                  <a:lnTo>
                    <a:pt x="2407" y="3247"/>
                  </a:lnTo>
                  <a:lnTo>
                    <a:pt x="2413" y="3256"/>
                  </a:lnTo>
                  <a:lnTo>
                    <a:pt x="2422" y="3262"/>
                  </a:lnTo>
                  <a:lnTo>
                    <a:pt x="2436" y="3265"/>
                  </a:lnTo>
                  <a:lnTo>
                    <a:pt x="2451" y="3270"/>
                  </a:lnTo>
                  <a:lnTo>
                    <a:pt x="2457" y="3279"/>
                  </a:lnTo>
                  <a:lnTo>
                    <a:pt x="2457" y="3288"/>
                  </a:lnTo>
                  <a:lnTo>
                    <a:pt x="2468" y="3291"/>
                  </a:lnTo>
                  <a:lnTo>
                    <a:pt x="2483" y="3288"/>
                  </a:lnTo>
                  <a:lnTo>
                    <a:pt x="2491" y="3285"/>
                  </a:lnTo>
                  <a:lnTo>
                    <a:pt x="2500" y="3276"/>
                  </a:lnTo>
                  <a:lnTo>
                    <a:pt x="2509" y="3270"/>
                  </a:lnTo>
                  <a:lnTo>
                    <a:pt x="2515" y="3262"/>
                  </a:lnTo>
                  <a:lnTo>
                    <a:pt x="2521" y="3253"/>
                  </a:lnTo>
                  <a:lnTo>
                    <a:pt x="2526" y="3244"/>
                  </a:lnTo>
                  <a:lnTo>
                    <a:pt x="2532" y="3236"/>
                  </a:lnTo>
                  <a:lnTo>
                    <a:pt x="2535" y="3227"/>
                  </a:lnTo>
                  <a:lnTo>
                    <a:pt x="2541" y="3218"/>
                  </a:lnTo>
                  <a:lnTo>
                    <a:pt x="2544" y="3210"/>
                  </a:lnTo>
                  <a:lnTo>
                    <a:pt x="2544" y="3198"/>
                  </a:lnTo>
                  <a:lnTo>
                    <a:pt x="2544" y="3190"/>
                  </a:lnTo>
                  <a:lnTo>
                    <a:pt x="2553" y="3181"/>
                  </a:lnTo>
                  <a:lnTo>
                    <a:pt x="2567" y="3181"/>
                  </a:lnTo>
                  <a:lnTo>
                    <a:pt x="2599" y="3155"/>
                  </a:lnTo>
                  <a:lnTo>
                    <a:pt x="2599" y="3164"/>
                  </a:lnTo>
                  <a:lnTo>
                    <a:pt x="2608" y="3169"/>
                  </a:lnTo>
                  <a:lnTo>
                    <a:pt x="2617" y="3178"/>
                  </a:lnTo>
                  <a:lnTo>
                    <a:pt x="2625" y="3181"/>
                  </a:lnTo>
                  <a:lnTo>
                    <a:pt x="2634" y="3178"/>
                  </a:lnTo>
                  <a:lnTo>
                    <a:pt x="2643" y="3172"/>
                  </a:lnTo>
                  <a:lnTo>
                    <a:pt x="2657" y="3169"/>
                  </a:lnTo>
                  <a:lnTo>
                    <a:pt x="2666" y="3169"/>
                  </a:lnTo>
                  <a:lnTo>
                    <a:pt x="2675" y="3169"/>
                  </a:lnTo>
                  <a:lnTo>
                    <a:pt x="2684" y="3164"/>
                  </a:lnTo>
                  <a:lnTo>
                    <a:pt x="2692" y="3155"/>
                  </a:lnTo>
                  <a:lnTo>
                    <a:pt x="2739" y="3155"/>
                  </a:lnTo>
                  <a:lnTo>
                    <a:pt x="2733" y="3138"/>
                  </a:lnTo>
                  <a:lnTo>
                    <a:pt x="2733" y="3126"/>
                  </a:lnTo>
                  <a:lnTo>
                    <a:pt x="2730" y="3118"/>
                  </a:lnTo>
                  <a:lnTo>
                    <a:pt x="2739" y="3112"/>
                  </a:lnTo>
                  <a:lnTo>
                    <a:pt x="2748" y="3106"/>
                  </a:lnTo>
                  <a:lnTo>
                    <a:pt x="2753" y="3097"/>
                  </a:lnTo>
                  <a:lnTo>
                    <a:pt x="2762" y="3092"/>
                  </a:lnTo>
                  <a:lnTo>
                    <a:pt x="2771" y="3092"/>
                  </a:lnTo>
                  <a:lnTo>
                    <a:pt x="2780" y="3095"/>
                  </a:lnTo>
                  <a:lnTo>
                    <a:pt x="2783" y="3103"/>
                  </a:lnTo>
                  <a:lnTo>
                    <a:pt x="2786" y="3112"/>
                  </a:lnTo>
                  <a:lnTo>
                    <a:pt x="2786" y="3126"/>
                  </a:lnTo>
                  <a:lnTo>
                    <a:pt x="2788" y="3135"/>
                  </a:lnTo>
                  <a:lnTo>
                    <a:pt x="2791" y="3144"/>
                  </a:lnTo>
                  <a:lnTo>
                    <a:pt x="2794" y="3152"/>
                  </a:lnTo>
                  <a:lnTo>
                    <a:pt x="2800" y="3161"/>
                  </a:lnTo>
                  <a:lnTo>
                    <a:pt x="2809" y="3167"/>
                  </a:lnTo>
                  <a:lnTo>
                    <a:pt x="2818" y="3167"/>
                  </a:lnTo>
                  <a:lnTo>
                    <a:pt x="2826" y="3167"/>
                  </a:lnTo>
                  <a:lnTo>
                    <a:pt x="2832" y="3158"/>
                  </a:lnTo>
                  <a:lnTo>
                    <a:pt x="2841" y="3152"/>
                  </a:lnTo>
                  <a:lnTo>
                    <a:pt x="2844" y="3144"/>
                  </a:lnTo>
                  <a:lnTo>
                    <a:pt x="2847" y="3135"/>
                  </a:lnTo>
                  <a:lnTo>
                    <a:pt x="2850" y="3123"/>
                  </a:lnTo>
                  <a:lnTo>
                    <a:pt x="2858" y="3115"/>
                  </a:lnTo>
                  <a:lnTo>
                    <a:pt x="2870" y="3115"/>
                  </a:lnTo>
                  <a:lnTo>
                    <a:pt x="2879" y="3115"/>
                  </a:lnTo>
                  <a:lnTo>
                    <a:pt x="2887" y="3115"/>
                  </a:lnTo>
                  <a:lnTo>
                    <a:pt x="2896" y="3115"/>
                  </a:lnTo>
                  <a:lnTo>
                    <a:pt x="2902" y="3106"/>
                  </a:lnTo>
                  <a:lnTo>
                    <a:pt x="2914" y="3103"/>
                  </a:lnTo>
                  <a:lnTo>
                    <a:pt x="2922" y="3103"/>
                  </a:lnTo>
                  <a:lnTo>
                    <a:pt x="2925" y="3095"/>
                  </a:lnTo>
                  <a:lnTo>
                    <a:pt x="2925" y="3086"/>
                  </a:lnTo>
                  <a:lnTo>
                    <a:pt x="2922" y="3077"/>
                  </a:lnTo>
                  <a:lnTo>
                    <a:pt x="2917" y="3066"/>
                  </a:lnTo>
                  <a:lnTo>
                    <a:pt x="2911" y="3057"/>
                  </a:lnTo>
                  <a:lnTo>
                    <a:pt x="2905" y="3048"/>
                  </a:lnTo>
                  <a:lnTo>
                    <a:pt x="2896" y="3046"/>
                  </a:lnTo>
                  <a:lnTo>
                    <a:pt x="2887" y="3048"/>
                  </a:lnTo>
                  <a:lnTo>
                    <a:pt x="2879" y="3051"/>
                  </a:lnTo>
                  <a:lnTo>
                    <a:pt x="2876" y="3060"/>
                  </a:lnTo>
                  <a:lnTo>
                    <a:pt x="2873" y="3069"/>
                  </a:lnTo>
                  <a:lnTo>
                    <a:pt x="2864" y="3066"/>
                  </a:lnTo>
                  <a:lnTo>
                    <a:pt x="2861" y="3054"/>
                  </a:lnTo>
                  <a:lnTo>
                    <a:pt x="2858" y="3043"/>
                  </a:lnTo>
                  <a:lnTo>
                    <a:pt x="2858" y="3034"/>
                  </a:lnTo>
                  <a:lnTo>
                    <a:pt x="2855" y="3025"/>
                  </a:lnTo>
                  <a:lnTo>
                    <a:pt x="2850" y="3017"/>
                  </a:lnTo>
                  <a:lnTo>
                    <a:pt x="2850" y="3008"/>
                  </a:lnTo>
                  <a:lnTo>
                    <a:pt x="2850" y="2997"/>
                  </a:lnTo>
                  <a:lnTo>
                    <a:pt x="2850" y="2988"/>
                  </a:lnTo>
                  <a:lnTo>
                    <a:pt x="2858" y="2982"/>
                  </a:lnTo>
                  <a:lnTo>
                    <a:pt x="2867" y="2982"/>
                  </a:lnTo>
                  <a:lnTo>
                    <a:pt x="2876" y="2979"/>
                  </a:lnTo>
                  <a:lnTo>
                    <a:pt x="2884" y="2974"/>
                  </a:lnTo>
                  <a:lnTo>
                    <a:pt x="2887" y="2962"/>
                  </a:lnTo>
                  <a:lnTo>
                    <a:pt x="2896" y="2962"/>
                  </a:lnTo>
                  <a:lnTo>
                    <a:pt x="2905" y="2962"/>
                  </a:lnTo>
                  <a:lnTo>
                    <a:pt x="2914" y="2962"/>
                  </a:lnTo>
                  <a:lnTo>
                    <a:pt x="2922" y="2959"/>
                  </a:lnTo>
                  <a:lnTo>
                    <a:pt x="2931" y="2956"/>
                  </a:lnTo>
                  <a:lnTo>
                    <a:pt x="2937" y="2948"/>
                  </a:lnTo>
                  <a:lnTo>
                    <a:pt x="2943" y="2939"/>
                  </a:lnTo>
                  <a:lnTo>
                    <a:pt x="2946" y="2930"/>
                  </a:lnTo>
                  <a:lnTo>
                    <a:pt x="2954" y="2925"/>
                  </a:lnTo>
                  <a:lnTo>
                    <a:pt x="2963" y="2919"/>
                  </a:lnTo>
                  <a:lnTo>
                    <a:pt x="2972" y="2916"/>
                  </a:lnTo>
                  <a:lnTo>
                    <a:pt x="2981" y="2913"/>
                  </a:lnTo>
                  <a:lnTo>
                    <a:pt x="2983" y="2904"/>
                  </a:lnTo>
                  <a:lnTo>
                    <a:pt x="2989" y="2893"/>
                  </a:lnTo>
                  <a:lnTo>
                    <a:pt x="2998" y="2881"/>
                  </a:lnTo>
                  <a:lnTo>
                    <a:pt x="3004" y="2873"/>
                  </a:lnTo>
                  <a:lnTo>
                    <a:pt x="3010" y="2864"/>
                  </a:lnTo>
                  <a:lnTo>
                    <a:pt x="3018" y="2858"/>
                  </a:lnTo>
                  <a:lnTo>
                    <a:pt x="3027" y="2852"/>
                  </a:lnTo>
                  <a:lnTo>
                    <a:pt x="3036" y="2847"/>
                  </a:lnTo>
                  <a:lnTo>
                    <a:pt x="3045" y="2847"/>
                  </a:lnTo>
                  <a:lnTo>
                    <a:pt x="3053" y="2844"/>
                  </a:lnTo>
                  <a:lnTo>
                    <a:pt x="3053" y="2835"/>
                  </a:lnTo>
                  <a:lnTo>
                    <a:pt x="3053" y="2827"/>
                  </a:lnTo>
                  <a:lnTo>
                    <a:pt x="3053" y="2818"/>
                  </a:lnTo>
                  <a:lnTo>
                    <a:pt x="3053" y="2809"/>
                  </a:lnTo>
                  <a:lnTo>
                    <a:pt x="3050" y="2801"/>
                  </a:lnTo>
                  <a:lnTo>
                    <a:pt x="3045" y="2789"/>
                  </a:lnTo>
                  <a:lnTo>
                    <a:pt x="3045" y="2780"/>
                  </a:lnTo>
                  <a:lnTo>
                    <a:pt x="3045" y="2772"/>
                  </a:lnTo>
                  <a:lnTo>
                    <a:pt x="3045" y="2763"/>
                  </a:lnTo>
                  <a:lnTo>
                    <a:pt x="3036" y="2754"/>
                  </a:lnTo>
                  <a:lnTo>
                    <a:pt x="3027" y="2743"/>
                  </a:lnTo>
                  <a:lnTo>
                    <a:pt x="3024" y="2734"/>
                  </a:lnTo>
                  <a:lnTo>
                    <a:pt x="3021" y="2726"/>
                  </a:lnTo>
                  <a:lnTo>
                    <a:pt x="3018" y="2717"/>
                  </a:lnTo>
                  <a:lnTo>
                    <a:pt x="3010" y="2708"/>
                  </a:lnTo>
                  <a:lnTo>
                    <a:pt x="3001" y="2705"/>
                  </a:lnTo>
                  <a:lnTo>
                    <a:pt x="3001" y="2697"/>
                  </a:lnTo>
                  <a:lnTo>
                    <a:pt x="3010" y="2694"/>
                  </a:lnTo>
                  <a:lnTo>
                    <a:pt x="3018" y="2688"/>
                  </a:lnTo>
                  <a:lnTo>
                    <a:pt x="3027" y="2682"/>
                  </a:lnTo>
                  <a:lnTo>
                    <a:pt x="3030" y="2674"/>
                  </a:lnTo>
                  <a:lnTo>
                    <a:pt x="3039" y="2665"/>
                  </a:lnTo>
                  <a:lnTo>
                    <a:pt x="3045" y="2657"/>
                  </a:lnTo>
                  <a:lnTo>
                    <a:pt x="3056" y="2659"/>
                  </a:lnTo>
                  <a:lnTo>
                    <a:pt x="3065" y="2665"/>
                  </a:lnTo>
                  <a:lnTo>
                    <a:pt x="3074" y="2665"/>
                  </a:lnTo>
                  <a:lnTo>
                    <a:pt x="3077" y="2657"/>
                  </a:lnTo>
                  <a:lnTo>
                    <a:pt x="3077" y="2645"/>
                  </a:lnTo>
                  <a:lnTo>
                    <a:pt x="3077" y="2636"/>
                  </a:lnTo>
                  <a:lnTo>
                    <a:pt x="3077" y="2628"/>
                  </a:lnTo>
                  <a:lnTo>
                    <a:pt x="3071" y="2619"/>
                  </a:lnTo>
                  <a:lnTo>
                    <a:pt x="3062" y="2613"/>
                  </a:lnTo>
                  <a:lnTo>
                    <a:pt x="3056" y="2605"/>
                  </a:lnTo>
                  <a:lnTo>
                    <a:pt x="3056" y="2596"/>
                  </a:lnTo>
                  <a:lnTo>
                    <a:pt x="3053" y="2582"/>
                  </a:lnTo>
                  <a:lnTo>
                    <a:pt x="3053" y="2573"/>
                  </a:lnTo>
                  <a:lnTo>
                    <a:pt x="3062" y="2567"/>
                  </a:lnTo>
                  <a:lnTo>
                    <a:pt x="3071" y="2567"/>
                  </a:lnTo>
                  <a:lnTo>
                    <a:pt x="3080" y="2564"/>
                  </a:lnTo>
                  <a:lnTo>
                    <a:pt x="3088" y="2564"/>
                  </a:lnTo>
                  <a:lnTo>
                    <a:pt x="3097" y="2561"/>
                  </a:lnTo>
                  <a:lnTo>
                    <a:pt x="3109" y="2556"/>
                  </a:lnTo>
                  <a:lnTo>
                    <a:pt x="3117" y="2547"/>
                  </a:lnTo>
                  <a:lnTo>
                    <a:pt x="3120" y="2538"/>
                  </a:lnTo>
                  <a:lnTo>
                    <a:pt x="3120" y="2530"/>
                  </a:lnTo>
                  <a:lnTo>
                    <a:pt x="3120" y="2521"/>
                  </a:lnTo>
                  <a:lnTo>
                    <a:pt x="3120" y="2512"/>
                  </a:lnTo>
                  <a:lnTo>
                    <a:pt x="3114" y="2501"/>
                  </a:lnTo>
                  <a:lnTo>
                    <a:pt x="3112" y="2489"/>
                  </a:lnTo>
                  <a:lnTo>
                    <a:pt x="3112" y="2481"/>
                  </a:lnTo>
                  <a:lnTo>
                    <a:pt x="3112" y="2472"/>
                  </a:lnTo>
                  <a:lnTo>
                    <a:pt x="3120" y="2463"/>
                  </a:lnTo>
                  <a:lnTo>
                    <a:pt x="3129" y="2461"/>
                  </a:lnTo>
                  <a:lnTo>
                    <a:pt x="3135" y="2452"/>
                  </a:lnTo>
                  <a:lnTo>
                    <a:pt x="3135" y="2443"/>
                  </a:lnTo>
                  <a:lnTo>
                    <a:pt x="3135" y="2435"/>
                  </a:lnTo>
                  <a:lnTo>
                    <a:pt x="3144" y="2429"/>
                  </a:lnTo>
                  <a:lnTo>
                    <a:pt x="3152" y="2420"/>
                  </a:lnTo>
                  <a:lnTo>
                    <a:pt x="3155" y="2412"/>
                  </a:lnTo>
                  <a:lnTo>
                    <a:pt x="3158" y="2403"/>
                  </a:lnTo>
                  <a:lnTo>
                    <a:pt x="3167" y="2394"/>
                  </a:lnTo>
                  <a:lnTo>
                    <a:pt x="3176" y="2386"/>
                  </a:lnTo>
                  <a:lnTo>
                    <a:pt x="3184" y="2380"/>
                  </a:lnTo>
                  <a:lnTo>
                    <a:pt x="3184" y="2371"/>
                  </a:lnTo>
                  <a:lnTo>
                    <a:pt x="3187" y="2363"/>
                  </a:lnTo>
                  <a:lnTo>
                    <a:pt x="3193" y="2354"/>
                  </a:lnTo>
                  <a:lnTo>
                    <a:pt x="3202" y="2348"/>
                  </a:lnTo>
                  <a:lnTo>
                    <a:pt x="3208" y="2340"/>
                  </a:lnTo>
                  <a:lnTo>
                    <a:pt x="3213" y="2331"/>
                  </a:lnTo>
                  <a:lnTo>
                    <a:pt x="3216" y="2322"/>
                  </a:lnTo>
                  <a:lnTo>
                    <a:pt x="3219" y="2314"/>
                  </a:lnTo>
                  <a:lnTo>
                    <a:pt x="3222" y="2305"/>
                  </a:lnTo>
                  <a:lnTo>
                    <a:pt x="3228" y="2296"/>
                  </a:lnTo>
                  <a:lnTo>
                    <a:pt x="3237" y="2291"/>
                  </a:lnTo>
                  <a:lnTo>
                    <a:pt x="3245" y="2291"/>
                  </a:lnTo>
                  <a:lnTo>
                    <a:pt x="3254" y="2285"/>
                  </a:lnTo>
                  <a:lnTo>
                    <a:pt x="3263" y="2282"/>
                  </a:lnTo>
                  <a:lnTo>
                    <a:pt x="3272" y="2279"/>
                  </a:lnTo>
                  <a:lnTo>
                    <a:pt x="3280" y="2279"/>
                  </a:lnTo>
                  <a:lnTo>
                    <a:pt x="3289" y="2276"/>
                  </a:lnTo>
                  <a:lnTo>
                    <a:pt x="3298" y="2273"/>
                  </a:lnTo>
                  <a:lnTo>
                    <a:pt x="3307" y="2273"/>
                  </a:lnTo>
                  <a:lnTo>
                    <a:pt x="3318" y="2276"/>
                  </a:lnTo>
                  <a:lnTo>
                    <a:pt x="3327" y="2276"/>
                  </a:lnTo>
                  <a:lnTo>
                    <a:pt x="3336" y="2276"/>
                  </a:lnTo>
                  <a:lnTo>
                    <a:pt x="3344" y="2276"/>
                  </a:lnTo>
                  <a:lnTo>
                    <a:pt x="3344" y="2279"/>
                  </a:lnTo>
                  <a:lnTo>
                    <a:pt x="3356" y="2265"/>
                  </a:lnTo>
                  <a:lnTo>
                    <a:pt x="3365" y="2265"/>
                  </a:lnTo>
                  <a:lnTo>
                    <a:pt x="3374" y="2259"/>
                  </a:lnTo>
                  <a:lnTo>
                    <a:pt x="3382" y="2253"/>
                  </a:lnTo>
                  <a:lnTo>
                    <a:pt x="3385" y="2244"/>
                  </a:lnTo>
                  <a:lnTo>
                    <a:pt x="3391" y="2233"/>
                  </a:lnTo>
                  <a:lnTo>
                    <a:pt x="3400" y="2224"/>
                  </a:lnTo>
                  <a:lnTo>
                    <a:pt x="3397" y="2216"/>
                  </a:lnTo>
                  <a:lnTo>
                    <a:pt x="3391" y="2207"/>
                  </a:lnTo>
                  <a:lnTo>
                    <a:pt x="3382" y="2201"/>
                  </a:lnTo>
                  <a:lnTo>
                    <a:pt x="3376" y="2193"/>
                  </a:lnTo>
                  <a:lnTo>
                    <a:pt x="3368" y="2184"/>
                  </a:lnTo>
                  <a:lnTo>
                    <a:pt x="3362" y="2172"/>
                  </a:lnTo>
                  <a:lnTo>
                    <a:pt x="3356" y="2164"/>
                  </a:lnTo>
                  <a:lnTo>
                    <a:pt x="3356" y="2155"/>
                  </a:lnTo>
                  <a:lnTo>
                    <a:pt x="3356" y="2146"/>
                  </a:lnTo>
                  <a:lnTo>
                    <a:pt x="3368" y="2141"/>
                  </a:lnTo>
                  <a:lnTo>
                    <a:pt x="3376" y="2138"/>
                  </a:lnTo>
                  <a:lnTo>
                    <a:pt x="3385" y="2135"/>
                  </a:lnTo>
                  <a:lnTo>
                    <a:pt x="3394" y="2126"/>
                  </a:lnTo>
                  <a:lnTo>
                    <a:pt x="3400" y="2118"/>
                  </a:lnTo>
                  <a:lnTo>
                    <a:pt x="3406" y="2109"/>
                  </a:lnTo>
                  <a:lnTo>
                    <a:pt x="3414" y="2106"/>
                  </a:lnTo>
                  <a:lnTo>
                    <a:pt x="3426" y="2106"/>
                  </a:lnTo>
                  <a:lnTo>
                    <a:pt x="3435" y="2106"/>
                  </a:lnTo>
                  <a:lnTo>
                    <a:pt x="3443" y="2106"/>
                  </a:lnTo>
                  <a:lnTo>
                    <a:pt x="3452" y="2103"/>
                  </a:lnTo>
                  <a:lnTo>
                    <a:pt x="3461" y="2103"/>
                  </a:lnTo>
                  <a:lnTo>
                    <a:pt x="3470" y="2103"/>
                  </a:lnTo>
                  <a:lnTo>
                    <a:pt x="3478" y="2112"/>
                  </a:lnTo>
                  <a:lnTo>
                    <a:pt x="3484" y="2120"/>
                  </a:lnTo>
                  <a:lnTo>
                    <a:pt x="3493" y="2126"/>
                  </a:lnTo>
                  <a:lnTo>
                    <a:pt x="3502" y="2129"/>
                  </a:lnTo>
                  <a:lnTo>
                    <a:pt x="3510" y="2129"/>
                  </a:lnTo>
                  <a:lnTo>
                    <a:pt x="3519" y="2129"/>
                  </a:lnTo>
                  <a:lnTo>
                    <a:pt x="3528" y="2126"/>
                  </a:lnTo>
                  <a:lnTo>
                    <a:pt x="3537" y="2118"/>
                  </a:lnTo>
                  <a:lnTo>
                    <a:pt x="3542" y="2109"/>
                  </a:lnTo>
                  <a:lnTo>
                    <a:pt x="3548" y="2100"/>
                  </a:lnTo>
                  <a:lnTo>
                    <a:pt x="3551" y="2089"/>
                  </a:lnTo>
                  <a:lnTo>
                    <a:pt x="3554" y="2080"/>
                  </a:lnTo>
                  <a:lnTo>
                    <a:pt x="3563" y="2072"/>
                  </a:lnTo>
                  <a:lnTo>
                    <a:pt x="3572" y="2072"/>
                  </a:lnTo>
                  <a:lnTo>
                    <a:pt x="3583" y="2063"/>
                  </a:lnTo>
                  <a:lnTo>
                    <a:pt x="3589" y="2054"/>
                  </a:lnTo>
                  <a:lnTo>
                    <a:pt x="3595" y="2046"/>
                  </a:lnTo>
                  <a:lnTo>
                    <a:pt x="3604" y="2040"/>
                  </a:lnTo>
                  <a:lnTo>
                    <a:pt x="3612" y="2040"/>
                  </a:lnTo>
                  <a:lnTo>
                    <a:pt x="3621" y="2040"/>
                  </a:lnTo>
                  <a:lnTo>
                    <a:pt x="3630" y="2040"/>
                  </a:lnTo>
                  <a:lnTo>
                    <a:pt x="3638" y="2037"/>
                  </a:lnTo>
                  <a:lnTo>
                    <a:pt x="3647" y="2037"/>
                  </a:lnTo>
                  <a:lnTo>
                    <a:pt x="3656" y="2037"/>
                  </a:lnTo>
                  <a:lnTo>
                    <a:pt x="3665" y="2037"/>
                  </a:lnTo>
                  <a:lnTo>
                    <a:pt x="3673" y="2034"/>
                  </a:lnTo>
                  <a:lnTo>
                    <a:pt x="3682" y="2031"/>
                  </a:lnTo>
                  <a:lnTo>
                    <a:pt x="3691" y="2028"/>
                  </a:lnTo>
                  <a:lnTo>
                    <a:pt x="3700" y="2023"/>
                  </a:lnTo>
                  <a:lnTo>
                    <a:pt x="3705" y="2014"/>
                  </a:lnTo>
                  <a:lnTo>
                    <a:pt x="3714" y="2005"/>
                  </a:lnTo>
                  <a:lnTo>
                    <a:pt x="3723" y="1997"/>
                  </a:lnTo>
                  <a:lnTo>
                    <a:pt x="3726" y="1988"/>
                  </a:lnTo>
                  <a:lnTo>
                    <a:pt x="3735" y="1976"/>
                  </a:lnTo>
                  <a:lnTo>
                    <a:pt x="3740" y="1968"/>
                  </a:lnTo>
                  <a:lnTo>
                    <a:pt x="3746" y="1959"/>
                  </a:lnTo>
                  <a:lnTo>
                    <a:pt x="3749" y="1950"/>
                  </a:lnTo>
                  <a:lnTo>
                    <a:pt x="3755" y="1939"/>
                  </a:lnTo>
                  <a:lnTo>
                    <a:pt x="3761" y="1927"/>
                  </a:lnTo>
                  <a:lnTo>
                    <a:pt x="3767" y="1919"/>
                  </a:lnTo>
                  <a:lnTo>
                    <a:pt x="3767" y="1910"/>
                  </a:lnTo>
                  <a:lnTo>
                    <a:pt x="3758" y="1910"/>
                  </a:lnTo>
                  <a:lnTo>
                    <a:pt x="3758" y="1899"/>
                  </a:lnTo>
                  <a:lnTo>
                    <a:pt x="3758" y="1890"/>
                  </a:lnTo>
                  <a:lnTo>
                    <a:pt x="3767" y="1881"/>
                  </a:lnTo>
                  <a:lnTo>
                    <a:pt x="3775" y="1881"/>
                  </a:lnTo>
                  <a:lnTo>
                    <a:pt x="3781" y="1873"/>
                  </a:lnTo>
                  <a:lnTo>
                    <a:pt x="3784" y="1864"/>
                  </a:lnTo>
                  <a:lnTo>
                    <a:pt x="3787" y="1855"/>
                  </a:lnTo>
                  <a:lnTo>
                    <a:pt x="3796" y="1850"/>
                  </a:lnTo>
                  <a:lnTo>
                    <a:pt x="3804" y="1847"/>
                  </a:lnTo>
                  <a:lnTo>
                    <a:pt x="3813" y="1844"/>
                  </a:lnTo>
                  <a:lnTo>
                    <a:pt x="3822" y="1838"/>
                  </a:lnTo>
                  <a:lnTo>
                    <a:pt x="3831" y="1835"/>
                  </a:lnTo>
                  <a:lnTo>
                    <a:pt x="3839" y="1824"/>
                  </a:lnTo>
                  <a:lnTo>
                    <a:pt x="3845" y="1815"/>
                  </a:lnTo>
                  <a:lnTo>
                    <a:pt x="3851" y="1806"/>
                  </a:lnTo>
                  <a:lnTo>
                    <a:pt x="3857" y="1798"/>
                  </a:lnTo>
                  <a:lnTo>
                    <a:pt x="3860" y="1789"/>
                  </a:lnTo>
                  <a:lnTo>
                    <a:pt x="3863" y="1780"/>
                  </a:lnTo>
                  <a:lnTo>
                    <a:pt x="3857" y="1772"/>
                  </a:lnTo>
                  <a:lnTo>
                    <a:pt x="3851" y="1763"/>
                  </a:lnTo>
                  <a:lnTo>
                    <a:pt x="3842" y="1760"/>
                  </a:lnTo>
                  <a:lnTo>
                    <a:pt x="3834" y="1752"/>
                  </a:lnTo>
                  <a:lnTo>
                    <a:pt x="3831" y="1743"/>
                  </a:lnTo>
                  <a:lnTo>
                    <a:pt x="3828" y="1734"/>
                  </a:lnTo>
                  <a:lnTo>
                    <a:pt x="3825" y="1726"/>
                  </a:lnTo>
                  <a:lnTo>
                    <a:pt x="3822" y="1714"/>
                  </a:lnTo>
                  <a:lnTo>
                    <a:pt x="3819" y="1706"/>
                  </a:lnTo>
                  <a:lnTo>
                    <a:pt x="3816" y="1697"/>
                  </a:lnTo>
                  <a:lnTo>
                    <a:pt x="3813" y="1685"/>
                  </a:lnTo>
                  <a:lnTo>
                    <a:pt x="3810" y="1677"/>
                  </a:lnTo>
                  <a:lnTo>
                    <a:pt x="3807" y="1668"/>
                  </a:lnTo>
                  <a:lnTo>
                    <a:pt x="3804" y="1659"/>
                  </a:lnTo>
                  <a:lnTo>
                    <a:pt x="3796" y="1657"/>
                  </a:lnTo>
                  <a:lnTo>
                    <a:pt x="3787" y="1657"/>
                  </a:lnTo>
                  <a:lnTo>
                    <a:pt x="3775" y="1657"/>
                  </a:lnTo>
                  <a:lnTo>
                    <a:pt x="3767" y="1648"/>
                  </a:lnTo>
                  <a:lnTo>
                    <a:pt x="3767" y="1639"/>
                  </a:lnTo>
                  <a:lnTo>
                    <a:pt x="3767" y="1631"/>
                  </a:lnTo>
                  <a:lnTo>
                    <a:pt x="3767" y="1622"/>
                  </a:lnTo>
                  <a:lnTo>
                    <a:pt x="3767" y="1613"/>
                  </a:lnTo>
                  <a:lnTo>
                    <a:pt x="3770" y="1605"/>
                  </a:lnTo>
                  <a:lnTo>
                    <a:pt x="3770" y="1596"/>
                  </a:lnTo>
                  <a:lnTo>
                    <a:pt x="3772" y="1587"/>
                  </a:lnTo>
                  <a:lnTo>
                    <a:pt x="3810" y="1541"/>
                  </a:lnTo>
                  <a:lnTo>
                    <a:pt x="3793" y="1541"/>
                  </a:lnTo>
                  <a:lnTo>
                    <a:pt x="3799" y="1533"/>
                  </a:lnTo>
                  <a:lnTo>
                    <a:pt x="3807" y="1530"/>
                  </a:lnTo>
                  <a:lnTo>
                    <a:pt x="3816" y="1527"/>
                  </a:lnTo>
                  <a:lnTo>
                    <a:pt x="3828" y="1527"/>
                  </a:lnTo>
                  <a:lnTo>
                    <a:pt x="3839" y="1527"/>
                  </a:lnTo>
                  <a:lnTo>
                    <a:pt x="3851" y="1524"/>
                  </a:lnTo>
                  <a:lnTo>
                    <a:pt x="3863" y="1524"/>
                  </a:lnTo>
                  <a:lnTo>
                    <a:pt x="3874" y="1524"/>
                  </a:lnTo>
                  <a:lnTo>
                    <a:pt x="3883" y="1527"/>
                  </a:lnTo>
                  <a:lnTo>
                    <a:pt x="3892" y="1530"/>
                  </a:lnTo>
                  <a:lnTo>
                    <a:pt x="3901" y="1533"/>
                  </a:lnTo>
                  <a:lnTo>
                    <a:pt x="3909" y="1535"/>
                  </a:lnTo>
                  <a:lnTo>
                    <a:pt x="3918" y="1535"/>
                  </a:lnTo>
                  <a:lnTo>
                    <a:pt x="3930" y="1535"/>
                  </a:lnTo>
                  <a:lnTo>
                    <a:pt x="3941" y="1535"/>
                  </a:lnTo>
                  <a:lnTo>
                    <a:pt x="3950" y="1535"/>
                  </a:lnTo>
                  <a:lnTo>
                    <a:pt x="3959" y="1535"/>
                  </a:lnTo>
                  <a:lnTo>
                    <a:pt x="3970" y="1541"/>
                  </a:lnTo>
                  <a:lnTo>
                    <a:pt x="3979" y="1541"/>
                  </a:lnTo>
                  <a:lnTo>
                    <a:pt x="3985" y="1550"/>
                  </a:lnTo>
                  <a:lnTo>
                    <a:pt x="3997" y="1559"/>
                  </a:lnTo>
                  <a:lnTo>
                    <a:pt x="4005" y="1561"/>
                  </a:lnTo>
                  <a:lnTo>
                    <a:pt x="4017" y="1561"/>
                  </a:lnTo>
                  <a:lnTo>
                    <a:pt x="4026" y="1559"/>
                  </a:lnTo>
                  <a:lnTo>
                    <a:pt x="4029" y="1550"/>
                  </a:lnTo>
                  <a:lnTo>
                    <a:pt x="4037" y="1541"/>
                  </a:lnTo>
                  <a:lnTo>
                    <a:pt x="4040" y="1533"/>
                  </a:lnTo>
                  <a:lnTo>
                    <a:pt x="4043" y="1524"/>
                  </a:lnTo>
                  <a:lnTo>
                    <a:pt x="4055" y="1512"/>
                  </a:lnTo>
                  <a:lnTo>
                    <a:pt x="4066" y="1507"/>
                  </a:lnTo>
                  <a:lnTo>
                    <a:pt x="4075" y="1498"/>
                  </a:lnTo>
                  <a:lnTo>
                    <a:pt x="4084" y="1495"/>
                  </a:lnTo>
                  <a:lnTo>
                    <a:pt x="4093" y="1495"/>
                  </a:lnTo>
                  <a:lnTo>
                    <a:pt x="4101" y="1495"/>
                  </a:lnTo>
                  <a:lnTo>
                    <a:pt x="4110" y="1495"/>
                  </a:lnTo>
                  <a:lnTo>
                    <a:pt x="4119" y="1501"/>
                  </a:lnTo>
                  <a:lnTo>
                    <a:pt x="4130" y="1510"/>
                  </a:lnTo>
                  <a:lnTo>
                    <a:pt x="4139" y="1512"/>
                  </a:lnTo>
                  <a:lnTo>
                    <a:pt x="4148" y="1507"/>
                  </a:lnTo>
                  <a:lnTo>
                    <a:pt x="4154" y="1498"/>
                  </a:lnTo>
                  <a:lnTo>
                    <a:pt x="4157" y="1489"/>
                  </a:lnTo>
                  <a:lnTo>
                    <a:pt x="4165" y="1478"/>
                  </a:lnTo>
                  <a:lnTo>
                    <a:pt x="4168" y="1466"/>
                  </a:lnTo>
                  <a:lnTo>
                    <a:pt x="4163" y="1458"/>
                  </a:lnTo>
                  <a:lnTo>
                    <a:pt x="4157" y="1449"/>
                  </a:lnTo>
                  <a:lnTo>
                    <a:pt x="4154" y="1438"/>
                  </a:lnTo>
                  <a:lnTo>
                    <a:pt x="4151" y="1429"/>
                  </a:lnTo>
                  <a:lnTo>
                    <a:pt x="4151" y="1420"/>
                  </a:lnTo>
                  <a:lnTo>
                    <a:pt x="4151" y="1409"/>
                  </a:lnTo>
                  <a:lnTo>
                    <a:pt x="4151" y="1400"/>
                  </a:lnTo>
                  <a:lnTo>
                    <a:pt x="4160" y="1394"/>
                  </a:lnTo>
                  <a:lnTo>
                    <a:pt x="4174" y="1400"/>
                  </a:lnTo>
                  <a:lnTo>
                    <a:pt x="4183" y="1403"/>
                  </a:lnTo>
                  <a:lnTo>
                    <a:pt x="4183" y="1412"/>
                  </a:lnTo>
                  <a:lnTo>
                    <a:pt x="4192" y="1420"/>
                  </a:lnTo>
                  <a:lnTo>
                    <a:pt x="4203" y="1432"/>
                  </a:lnTo>
                  <a:lnTo>
                    <a:pt x="4212" y="1440"/>
                  </a:lnTo>
                  <a:lnTo>
                    <a:pt x="4215" y="1449"/>
                  </a:lnTo>
                  <a:lnTo>
                    <a:pt x="4218" y="1458"/>
                  </a:lnTo>
                  <a:lnTo>
                    <a:pt x="4227" y="1472"/>
                  </a:lnTo>
                  <a:lnTo>
                    <a:pt x="4235" y="1478"/>
                  </a:lnTo>
                  <a:lnTo>
                    <a:pt x="4241" y="1487"/>
                  </a:lnTo>
                  <a:lnTo>
                    <a:pt x="4253" y="1495"/>
                  </a:lnTo>
                  <a:lnTo>
                    <a:pt x="4264" y="1501"/>
                  </a:lnTo>
                  <a:lnTo>
                    <a:pt x="4270" y="1510"/>
                  </a:lnTo>
                  <a:lnTo>
                    <a:pt x="4273" y="1518"/>
                  </a:lnTo>
                  <a:lnTo>
                    <a:pt x="4273" y="1527"/>
                  </a:lnTo>
                  <a:lnTo>
                    <a:pt x="4273" y="1535"/>
                  </a:lnTo>
                  <a:lnTo>
                    <a:pt x="4273" y="1544"/>
                  </a:lnTo>
                  <a:lnTo>
                    <a:pt x="4264" y="1550"/>
                  </a:lnTo>
                  <a:lnTo>
                    <a:pt x="4256" y="1553"/>
                  </a:lnTo>
                  <a:lnTo>
                    <a:pt x="4256" y="1564"/>
                  </a:lnTo>
                  <a:lnTo>
                    <a:pt x="4256" y="1573"/>
                  </a:lnTo>
                  <a:lnTo>
                    <a:pt x="4256" y="1582"/>
                  </a:lnTo>
                  <a:lnTo>
                    <a:pt x="4264" y="1587"/>
                  </a:lnTo>
                  <a:lnTo>
                    <a:pt x="4276" y="1590"/>
                  </a:lnTo>
                  <a:lnTo>
                    <a:pt x="4285" y="1590"/>
                  </a:lnTo>
                  <a:lnTo>
                    <a:pt x="4294" y="1599"/>
                  </a:lnTo>
                  <a:lnTo>
                    <a:pt x="4302" y="1608"/>
                  </a:lnTo>
                  <a:lnTo>
                    <a:pt x="4314" y="1610"/>
                  </a:lnTo>
                  <a:lnTo>
                    <a:pt x="4326" y="1616"/>
                  </a:lnTo>
                  <a:lnTo>
                    <a:pt x="4334" y="1619"/>
                  </a:lnTo>
                  <a:lnTo>
                    <a:pt x="4340" y="1628"/>
                  </a:lnTo>
                  <a:lnTo>
                    <a:pt x="4343" y="1636"/>
                  </a:lnTo>
                  <a:lnTo>
                    <a:pt x="4343" y="1645"/>
                  </a:lnTo>
                  <a:lnTo>
                    <a:pt x="4343" y="1654"/>
                  </a:lnTo>
                  <a:lnTo>
                    <a:pt x="4343" y="1662"/>
                  </a:lnTo>
                  <a:lnTo>
                    <a:pt x="4346" y="1671"/>
                  </a:lnTo>
                  <a:lnTo>
                    <a:pt x="4355" y="1671"/>
                  </a:lnTo>
                  <a:lnTo>
                    <a:pt x="4366" y="1671"/>
                  </a:lnTo>
                  <a:lnTo>
                    <a:pt x="4369" y="1662"/>
                  </a:lnTo>
                  <a:lnTo>
                    <a:pt x="4363" y="1654"/>
                  </a:lnTo>
                  <a:lnTo>
                    <a:pt x="4360" y="1645"/>
                  </a:lnTo>
                  <a:lnTo>
                    <a:pt x="4355" y="1636"/>
                  </a:lnTo>
                  <a:lnTo>
                    <a:pt x="4352" y="1628"/>
                  </a:lnTo>
                  <a:lnTo>
                    <a:pt x="4349" y="1619"/>
                  </a:lnTo>
                  <a:lnTo>
                    <a:pt x="4346" y="1610"/>
                  </a:lnTo>
                  <a:lnTo>
                    <a:pt x="4346" y="1602"/>
                  </a:lnTo>
                  <a:lnTo>
                    <a:pt x="4346" y="1590"/>
                  </a:lnTo>
                  <a:lnTo>
                    <a:pt x="4346" y="1582"/>
                  </a:lnTo>
                  <a:lnTo>
                    <a:pt x="4355" y="1579"/>
                  </a:lnTo>
                  <a:lnTo>
                    <a:pt x="4363" y="1582"/>
                  </a:lnTo>
                  <a:lnTo>
                    <a:pt x="4372" y="1582"/>
                  </a:lnTo>
                  <a:lnTo>
                    <a:pt x="4381" y="1573"/>
                  </a:lnTo>
                  <a:lnTo>
                    <a:pt x="4390" y="1567"/>
                  </a:lnTo>
                  <a:lnTo>
                    <a:pt x="4393" y="1559"/>
                  </a:lnTo>
                  <a:lnTo>
                    <a:pt x="4393" y="1550"/>
                  </a:lnTo>
                  <a:lnTo>
                    <a:pt x="4393" y="1541"/>
                  </a:lnTo>
                  <a:lnTo>
                    <a:pt x="4393" y="1533"/>
                  </a:lnTo>
                  <a:lnTo>
                    <a:pt x="4393" y="1524"/>
                  </a:lnTo>
                  <a:lnTo>
                    <a:pt x="4393" y="1515"/>
                  </a:lnTo>
                  <a:lnTo>
                    <a:pt x="4390" y="1504"/>
                  </a:lnTo>
                  <a:lnTo>
                    <a:pt x="4384" y="1495"/>
                  </a:lnTo>
                  <a:lnTo>
                    <a:pt x="4381" y="1484"/>
                  </a:lnTo>
                  <a:lnTo>
                    <a:pt x="4378" y="1475"/>
                  </a:lnTo>
                  <a:lnTo>
                    <a:pt x="4369" y="1463"/>
                  </a:lnTo>
                  <a:lnTo>
                    <a:pt x="4363" y="1455"/>
                  </a:lnTo>
                  <a:lnTo>
                    <a:pt x="4360" y="1446"/>
                  </a:lnTo>
                  <a:lnTo>
                    <a:pt x="4358" y="1438"/>
                  </a:lnTo>
                  <a:lnTo>
                    <a:pt x="4352" y="1429"/>
                  </a:lnTo>
                  <a:lnTo>
                    <a:pt x="4346" y="1417"/>
                  </a:lnTo>
                  <a:lnTo>
                    <a:pt x="4340" y="1409"/>
                  </a:lnTo>
                  <a:lnTo>
                    <a:pt x="4337" y="1397"/>
                  </a:lnTo>
                  <a:lnTo>
                    <a:pt x="4334" y="1389"/>
                  </a:lnTo>
                  <a:lnTo>
                    <a:pt x="4334" y="1380"/>
                  </a:lnTo>
                  <a:lnTo>
                    <a:pt x="4331" y="1371"/>
                  </a:lnTo>
                  <a:lnTo>
                    <a:pt x="4328" y="1360"/>
                  </a:lnTo>
                  <a:lnTo>
                    <a:pt x="4323" y="1351"/>
                  </a:lnTo>
                  <a:lnTo>
                    <a:pt x="4320" y="1342"/>
                  </a:lnTo>
                  <a:lnTo>
                    <a:pt x="4314" y="1334"/>
                  </a:lnTo>
                  <a:lnTo>
                    <a:pt x="4305" y="1325"/>
                  </a:lnTo>
                  <a:lnTo>
                    <a:pt x="4296" y="1316"/>
                  </a:lnTo>
                  <a:lnTo>
                    <a:pt x="4288" y="1308"/>
                  </a:lnTo>
                  <a:lnTo>
                    <a:pt x="4276" y="1311"/>
                  </a:lnTo>
                  <a:lnTo>
                    <a:pt x="4279" y="1291"/>
                  </a:lnTo>
                  <a:lnTo>
                    <a:pt x="4276" y="1282"/>
                  </a:lnTo>
                  <a:lnTo>
                    <a:pt x="4270" y="1273"/>
                  </a:lnTo>
                  <a:lnTo>
                    <a:pt x="4261" y="1267"/>
                  </a:lnTo>
                  <a:lnTo>
                    <a:pt x="4253" y="1259"/>
                  </a:lnTo>
                  <a:lnTo>
                    <a:pt x="4244" y="1250"/>
                  </a:lnTo>
                  <a:lnTo>
                    <a:pt x="4238" y="1242"/>
                  </a:lnTo>
                  <a:lnTo>
                    <a:pt x="4232" y="1233"/>
                  </a:lnTo>
                  <a:lnTo>
                    <a:pt x="4229" y="1224"/>
                  </a:lnTo>
                  <a:lnTo>
                    <a:pt x="4221" y="1218"/>
                  </a:lnTo>
                  <a:lnTo>
                    <a:pt x="4212" y="1210"/>
                  </a:lnTo>
                  <a:lnTo>
                    <a:pt x="4200" y="1201"/>
                  </a:lnTo>
                  <a:lnTo>
                    <a:pt x="4192" y="1195"/>
                  </a:lnTo>
                  <a:lnTo>
                    <a:pt x="4183" y="1193"/>
                  </a:lnTo>
                  <a:lnTo>
                    <a:pt x="4171" y="1187"/>
                  </a:lnTo>
                  <a:lnTo>
                    <a:pt x="4163" y="1184"/>
                  </a:lnTo>
                  <a:lnTo>
                    <a:pt x="4154" y="1181"/>
                  </a:lnTo>
                  <a:lnTo>
                    <a:pt x="4145" y="1175"/>
                  </a:lnTo>
                  <a:lnTo>
                    <a:pt x="4136" y="1170"/>
                  </a:lnTo>
                  <a:lnTo>
                    <a:pt x="4130" y="1161"/>
                  </a:lnTo>
                  <a:lnTo>
                    <a:pt x="4119" y="1152"/>
                  </a:lnTo>
                  <a:lnTo>
                    <a:pt x="4110" y="1149"/>
                  </a:lnTo>
                  <a:lnTo>
                    <a:pt x="4098" y="1144"/>
                  </a:lnTo>
                  <a:lnTo>
                    <a:pt x="4090" y="1144"/>
                  </a:lnTo>
                  <a:lnTo>
                    <a:pt x="4078" y="1135"/>
                  </a:lnTo>
                  <a:lnTo>
                    <a:pt x="4069" y="1126"/>
                  </a:lnTo>
                  <a:lnTo>
                    <a:pt x="4064" y="1118"/>
                  </a:lnTo>
                  <a:lnTo>
                    <a:pt x="4058" y="1109"/>
                  </a:lnTo>
                  <a:lnTo>
                    <a:pt x="4049" y="1103"/>
                  </a:lnTo>
                  <a:lnTo>
                    <a:pt x="4058" y="1100"/>
                  </a:lnTo>
                  <a:lnTo>
                    <a:pt x="4066" y="1100"/>
                  </a:lnTo>
                  <a:lnTo>
                    <a:pt x="4078" y="1100"/>
                  </a:lnTo>
                  <a:lnTo>
                    <a:pt x="4090" y="1103"/>
                  </a:lnTo>
                  <a:lnTo>
                    <a:pt x="4098" y="1109"/>
                  </a:lnTo>
                  <a:lnTo>
                    <a:pt x="4107" y="1112"/>
                  </a:lnTo>
                  <a:lnTo>
                    <a:pt x="4116" y="1115"/>
                  </a:lnTo>
                  <a:lnTo>
                    <a:pt x="4125" y="1121"/>
                  </a:lnTo>
                  <a:lnTo>
                    <a:pt x="4133" y="1126"/>
                  </a:lnTo>
                  <a:lnTo>
                    <a:pt x="4142" y="1129"/>
                  </a:lnTo>
                  <a:lnTo>
                    <a:pt x="4154" y="1138"/>
                  </a:lnTo>
                  <a:lnTo>
                    <a:pt x="4163" y="1141"/>
                  </a:lnTo>
                  <a:lnTo>
                    <a:pt x="4171" y="1144"/>
                  </a:lnTo>
                  <a:lnTo>
                    <a:pt x="4180" y="1146"/>
                  </a:lnTo>
                  <a:lnTo>
                    <a:pt x="4192" y="1146"/>
                  </a:lnTo>
                  <a:lnTo>
                    <a:pt x="4200" y="1146"/>
                  </a:lnTo>
                  <a:lnTo>
                    <a:pt x="4212" y="1149"/>
                  </a:lnTo>
                  <a:lnTo>
                    <a:pt x="4221" y="1149"/>
                  </a:lnTo>
                  <a:lnTo>
                    <a:pt x="4229" y="1152"/>
                  </a:lnTo>
                  <a:lnTo>
                    <a:pt x="4238" y="1155"/>
                  </a:lnTo>
                  <a:lnTo>
                    <a:pt x="4247" y="1161"/>
                  </a:lnTo>
                  <a:lnTo>
                    <a:pt x="4256" y="1164"/>
                  </a:lnTo>
                  <a:lnTo>
                    <a:pt x="4264" y="1170"/>
                  </a:lnTo>
                  <a:lnTo>
                    <a:pt x="4273" y="1172"/>
                  </a:lnTo>
                  <a:lnTo>
                    <a:pt x="4282" y="1178"/>
                  </a:lnTo>
                  <a:lnTo>
                    <a:pt x="4291" y="1181"/>
                  </a:lnTo>
                  <a:lnTo>
                    <a:pt x="4299" y="1187"/>
                  </a:lnTo>
                  <a:lnTo>
                    <a:pt x="4308" y="1190"/>
                  </a:lnTo>
                  <a:lnTo>
                    <a:pt x="4317" y="1193"/>
                  </a:lnTo>
                  <a:lnTo>
                    <a:pt x="4326" y="1195"/>
                  </a:lnTo>
                  <a:lnTo>
                    <a:pt x="4334" y="1195"/>
                  </a:lnTo>
                  <a:lnTo>
                    <a:pt x="4326" y="1190"/>
                  </a:lnTo>
                  <a:lnTo>
                    <a:pt x="4314" y="1178"/>
                  </a:lnTo>
                  <a:lnTo>
                    <a:pt x="4305" y="1170"/>
                  </a:lnTo>
                  <a:lnTo>
                    <a:pt x="4305" y="1161"/>
                  </a:lnTo>
                  <a:lnTo>
                    <a:pt x="4317" y="1158"/>
                  </a:lnTo>
                  <a:lnTo>
                    <a:pt x="4328" y="1158"/>
                  </a:lnTo>
                  <a:lnTo>
                    <a:pt x="4337" y="1158"/>
                  </a:lnTo>
                  <a:lnTo>
                    <a:pt x="4346" y="1158"/>
                  </a:lnTo>
                  <a:lnTo>
                    <a:pt x="4346" y="1149"/>
                  </a:lnTo>
                  <a:lnTo>
                    <a:pt x="4349" y="1138"/>
                  </a:lnTo>
                  <a:lnTo>
                    <a:pt x="4349" y="1129"/>
                  </a:lnTo>
                  <a:lnTo>
                    <a:pt x="4340" y="1123"/>
                  </a:lnTo>
                  <a:lnTo>
                    <a:pt x="4331" y="1121"/>
                  </a:lnTo>
                  <a:lnTo>
                    <a:pt x="4323" y="1121"/>
                  </a:lnTo>
                  <a:lnTo>
                    <a:pt x="4314" y="1121"/>
                  </a:lnTo>
                  <a:lnTo>
                    <a:pt x="4302" y="1121"/>
                  </a:lnTo>
                  <a:lnTo>
                    <a:pt x="4296" y="1132"/>
                  </a:lnTo>
                  <a:lnTo>
                    <a:pt x="4288" y="1138"/>
                  </a:lnTo>
                  <a:lnTo>
                    <a:pt x="4279" y="1144"/>
                  </a:lnTo>
                  <a:lnTo>
                    <a:pt x="4270" y="1144"/>
                  </a:lnTo>
                  <a:lnTo>
                    <a:pt x="4261" y="1144"/>
                  </a:lnTo>
                  <a:lnTo>
                    <a:pt x="4253" y="1144"/>
                  </a:lnTo>
                  <a:lnTo>
                    <a:pt x="4244" y="1144"/>
                  </a:lnTo>
                  <a:lnTo>
                    <a:pt x="4238" y="1135"/>
                  </a:lnTo>
                  <a:lnTo>
                    <a:pt x="4227" y="1126"/>
                  </a:lnTo>
                  <a:lnTo>
                    <a:pt x="4218" y="1115"/>
                  </a:lnTo>
                  <a:lnTo>
                    <a:pt x="4209" y="1109"/>
                  </a:lnTo>
                  <a:lnTo>
                    <a:pt x="4197" y="1100"/>
                  </a:lnTo>
                  <a:lnTo>
                    <a:pt x="4192" y="1092"/>
                  </a:lnTo>
                  <a:lnTo>
                    <a:pt x="4200" y="1086"/>
                  </a:lnTo>
                  <a:lnTo>
                    <a:pt x="4209" y="1077"/>
                  </a:lnTo>
                  <a:lnTo>
                    <a:pt x="4218" y="1072"/>
                  </a:lnTo>
                  <a:lnTo>
                    <a:pt x="4227" y="1063"/>
                  </a:lnTo>
                  <a:lnTo>
                    <a:pt x="4229" y="1054"/>
                  </a:lnTo>
                  <a:lnTo>
                    <a:pt x="4221" y="1048"/>
                  </a:lnTo>
                  <a:lnTo>
                    <a:pt x="4209" y="1048"/>
                  </a:lnTo>
                  <a:lnTo>
                    <a:pt x="4200" y="1048"/>
                  </a:lnTo>
                  <a:lnTo>
                    <a:pt x="4189" y="1048"/>
                  </a:lnTo>
                  <a:lnTo>
                    <a:pt x="4180" y="1051"/>
                  </a:lnTo>
                  <a:lnTo>
                    <a:pt x="4171" y="1057"/>
                  </a:lnTo>
                  <a:lnTo>
                    <a:pt x="4160" y="1057"/>
                  </a:lnTo>
                  <a:lnTo>
                    <a:pt x="4151" y="1057"/>
                  </a:lnTo>
                  <a:lnTo>
                    <a:pt x="4142" y="1057"/>
                  </a:lnTo>
                  <a:lnTo>
                    <a:pt x="4133" y="1057"/>
                  </a:lnTo>
                  <a:lnTo>
                    <a:pt x="4125" y="1057"/>
                  </a:lnTo>
                  <a:lnTo>
                    <a:pt x="4116" y="1057"/>
                  </a:lnTo>
                  <a:lnTo>
                    <a:pt x="4107" y="1057"/>
                  </a:lnTo>
                  <a:lnTo>
                    <a:pt x="4098" y="1057"/>
                  </a:lnTo>
                  <a:lnTo>
                    <a:pt x="4090" y="1057"/>
                  </a:lnTo>
                  <a:lnTo>
                    <a:pt x="4081" y="1057"/>
                  </a:lnTo>
                  <a:lnTo>
                    <a:pt x="4072" y="1057"/>
                  </a:lnTo>
                  <a:lnTo>
                    <a:pt x="4064" y="1054"/>
                  </a:lnTo>
                  <a:lnTo>
                    <a:pt x="4055" y="1051"/>
                  </a:lnTo>
                  <a:lnTo>
                    <a:pt x="4043" y="1048"/>
                  </a:lnTo>
                  <a:lnTo>
                    <a:pt x="4032" y="1043"/>
                  </a:lnTo>
                  <a:lnTo>
                    <a:pt x="4023" y="1040"/>
                  </a:lnTo>
                  <a:lnTo>
                    <a:pt x="4008" y="1031"/>
                  </a:lnTo>
                  <a:lnTo>
                    <a:pt x="3994" y="1028"/>
                  </a:lnTo>
                  <a:lnTo>
                    <a:pt x="3982" y="1028"/>
                  </a:lnTo>
                  <a:lnTo>
                    <a:pt x="3973" y="1028"/>
                  </a:lnTo>
                  <a:lnTo>
                    <a:pt x="3965" y="1028"/>
                  </a:lnTo>
                  <a:lnTo>
                    <a:pt x="3953" y="1028"/>
                  </a:lnTo>
                  <a:lnTo>
                    <a:pt x="3941" y="1028"/>
                  </a:lnTo>
                  <a:lnTo>
                    <a:pt x="3933" y="1028"/>
                  </a:lnTo>
                  <a:lnTo>
                    <a:pt x="3927" y="1037"/>
                  </a:lnTo>
                  <a:lnTo>
                    <a:pt x="3941" y="1048"/>
                  </a:lnTo>
                  <a:lnTo>
                    <a:pt x="3950" y="1051"/>
                  </a:lnTo>
                  <a:lnTo>
                    <a:pt x="3962" y="1054"/>
                  </a:lnTo>
                  <a:lnTo>
                    <a:pt x="3970" y="1057"/>
                  </a:lnTo>
                  <a:lnTo>
                    <a:pt x="3979" y="1060"/>
                  </a:lnTo>
                  <a:lnTo>
                    <a:pt x="3982" y="1072"/>
                  </a:lnTo>
                  <a:lnTo>
                    <a:pt x="3982" y="1080"/>
                  </a:lnTo>
                  <a:lnTo>
                    <a:pt x="3982" y="1089"/>
                  </a:lnTo>
                  <a:lnTo>
                    <a:pt x="3994" y="1100"/>
                  </a:lnTo>
                  <a:lnTo>
                    <a:pt x="4002" y="1103"/>
                  </a:lnTo>
                  <a:lnTo>
                    <a:pt x="4014" y="1106"/>
                  </a:lnTo>
                  <a:lnTo>
                    <a:pt x="4026" y="1106"/>
                  </a:lnTo>
                  <a:lnTo>
                    <a:pt x="4034" y="1109"/>
                  </a:lnTo>
                  <a:lnTo>
                    <a:pt x="4046" y="1112"/>
                  </a:lnTo>
                  <a:lnTo>
                    <a:pt x="4037" y="1115"/>
                  </a:lnTo>
                  <a:lnTo>
                    <a:pt x="4029" y="1112"/>
                  </a:lnTo>
                  <a:lnTo>
                    <a:pt x="4020" y="1109"/>
                  </a:lnTo>
                  <a:lnTo>
                    <a:pt x="4011" y="1109"/>
                  </a:lnTo>
                  <a:lnTo>
                    <a:pt x="4002" y="1106"/>
                  </a:lnTo>
                  <a:lnTo>
                    <a:pt x="3994" y="1103"/>
                  </a:lnTo>
                  <a:lnTo>
                    <a:pt x="3979" y="1097"/>
                  </a:lnTo>
                  <a:lnTo>
                    <a:pt x="3970" y="1097"/>
                  </a:lnTo>
                  <a:lnTo>
                    <a:pt x="3962" y="1100"/>
                  </a:lnTo>
                  <a:lnTo>
                    <a:pt x="3959" y="1109"/>
                  </a:lnTo>
                  <a:lnTo>
                    <a:pt x="3950" y="1118"/>
                  </a:lnTo>
                  <a:lnTo>
                    <a:pt x="3941" y="1123"/>
                  </a:lnTo>
                  <a:lnTo>
                    <a:pt x="3935" y="1132"/>
                  </a:lnTo>
                  <a:lnTo>
                    <a:pt x="3927" y="1138"/>
                  </a:lnTo>
                  <a:lnTo>
                    <a:pt x="3927" y="1146"/>
                  </a:lnTo>
                  <a:lnTo>
                    <a:pt x="3930" y="1155"/>
                  </a:lnTo>
                  <a:lnTo>
                    <a:pt x="3938" y="1161"/>
                  </a:lnTo>
                  <a:lnTo>
                    <a:pt x="3941" y="1170"/>
                  </a:lnTo>
                  <a:lnTo>
                    <a:pt x="3941" y="1178"/>
                  </a:lnTo>
                  <a:lnTo>
                    <a:pt x="3941" y="1187"/>
                  </a:lnTo>
                  <a:lnTo>
                    <a:pt x="3938" y="1195"/>
                  </a:lnTo>
                  <a:lnTo>
                    <a:pt x="3933" y="1204"/>
                  </a:lnTo>
                  <a:lnTo>
                    <a:pt x="3924" y="1204"/>
                  </a:lnTo>
                  <a:lnTo>
                    <a:pt x="3915" y="1193"/>
                  </a:lnTo>
                  <a:lnTo>
                    <a:pt x="3912" y="1184"/>
                  </a:lnTo>
                  <a:lnTo>
                    <a:pt x="3903" y="1178"/>
                  </a:lnTo>
                  <a:lnTo>
                    <a:pt x="3892" y="1172"/>
                  </a:lnTo>
                  <a:lnTo>
                    <a:pt x="3883" y="1167"/>
                  </a:lnTo>
                  <a:lnTo>
                    <a:pt x="3877" y="1158"/>
                  </a:lnTo>
                  <a:lnTo>
                    <a:pt x="3874" y="1167"/>
                  </a:lnTo>
                  <a:lnTo>
                    <a:pt x="3874" y="1175"/>
                  </a:lnTo>
                  <a:lnTo>
                    <a:pt x="3874" y="1184"/>
                  </a:lnTo>
                  <a:lnTo>
                    <a:pt x="3886" y="1193"/>
                  </a:lnTo>
                  <a:lnTo>
                    <a:pt x="3898" y="1195"/>
                  </a:lnTo>
                  <a:lnTo>
                    <a:pt x="3906" y="1198"/>
                  </a:lnTo>
                  <a:lnTo>
                    <a:pt x="3915" y="1201"/>
                  </a:lnTo>
                  <a:lnTo>
                    <a:pt x="3924" y="1207"/>
                  </a:lnTo>
                  <a:lnTo>
                    <a:pt x="3912" y="1213"/>
                  </a:lnTo>
                  <a:lnTo>
                    <a:pt x="3903" y="1213"/>
                  </a:lnTo>
                  <a:lnTo>
                    <a:pt x="3895" y="1213"/>
                  </a:lnTo>
                  <a:lnTo>
                    <a:pt x="3886" y="1216"/>
                  </a:lnTo>
                  <a:lnTo>
                    <a:pt x="3886" y="1224"/>
                  </a:lnTo>
                  <a:lnTo>
                    <a:pt x="3880" y="1233"/>
                  </a:lnTo>
                  <a:lnTo>
                    <a:pt x="3868" y="1236"/>
                  </a:lnTo>
                  <a:lnTo>
                    <a:pt x="3860" y="1236"/>
                  </a:lnTo>
                  <a:lnTo>
                    <a:pt x="3854" y="1224"/>
                  </a:lnTo>
                  <a:lnTo>
                    <a:pt x="3854" y="1216"/>
                  </a:lnTo>
                  <a:lnTo>
                    <a:pt x="3851" y="1207"/>
                  </a:lnTo>
                  <a:lnTo>
                    <a:pt x="3845" y="1198"/>
                  </a:lnTo>
                  <a:lnTo>
                    <a:pt x="3842" y="1187"/>
                  </a:lnTo>
                  <a:lnTo>
                    <a:pt x="3836" y="1175"/>
                  </a:lnTo>
                  <a:lnTo>
                    <a:pt x="3834" y="1164"/>
                  </a:lnTo>
                  <a:lnTo>
                    <a:pt x="3828" y="1155"/>
                  </a:lnTo>
                  <a:lnTo>
                    <a:pt x="3822" y="1146"/>
                  </a:lnTo>
                  <a:lnTo>
                    <a:pt x="3816" y="1138"/>
                  </a:lnTo>
                  <a:lnTo>
                    <a:pt x="3810" y="1129"/>
                  </a:lnTo>
                  <a:lnTo>
                    <a:pt x="3799" y="1123"/>
                  </a:lnTo>
                  <a:lnTo>
                    <a:pt x="3793" y="1115"/>
                  </a:lnTo>
                  <a:lnTo>
                    <a:pt x="3790" y="1106"/>
                  </a:lnTo>
                  <a:lnTo>
                    <a:pt x="3784" y="1097"/>
                  </a:lnTo>
                  <a:lnTo>
                    <a:pt x="3778" y="1089"/>
                  </a:lnTo>
                  <a:lnTo>
                    <a:pt x="3775" y="1080"/>
                  </a:lnTo>
                  <a:lnTo>
                    <a:pt x="3772" y="1072"/>
                  </a:lnTo>
                  <a:lnTo>
                    <a:pt x="3767" y="1063"/>
                  </a:lnTo>
                  <a:lnTo>
                    <a:pt x="3761" y="1054"/>
                  </a:lnTo>
                  <a:lnTo>
                    <a:pt x="3752" y="1046"/>
                  </a:lnTo>
                  <a:lnTo>
                    <a:pt x="3746" y="1037"/>
                  </a:lnTo>
                  <a:lnTo>
                    <a:pt x="3737" y="1034"/>
                  </a:lnTo>
                  <a:lnTo>
                    <a:pt x="3717" y="988"/>
                  </a:lnTo>
                  <a:lnTo>
                    <a:pt x="3737" y="1008"/>
                  </a:lnTo>
                  <a:lnTo>
                    <a:pt x="3737" y="999"/>
                  </a:lnTo>
                  <a:lnTo>
                    <a:pt x="3732" y="991"/>
                  </a:lnTo>
                  <a:lnTo>
                    <a:pt x="3726" y="982"/>
                  </a:lnTo>
                  <a:lnTo>
                    <a:pt x="3723" y="974"/>
                  </a:lnTo>
                  <a:lnTo>
                    <a:pt x="3714" y="968"/>
                  </a:lnTo>
                  <a:lnTo>
                    <a:pt x="3703" y="965"/>
                  </a:lnTo>
                  <a:lnTo>
                    <a:pt x="3694" y="959"/>
                  </a:lnTo>
                  <a:lnTo>
                    <a:pt x="3691" y="950"/>
                  </a:lnTo>
                  <a:lnTo>
                    <a:pt x="3691" y="942"/>
                  </a:lnTo>
                  <a:lnTo>
                    <a:pt x="3691" y="930"/>
                  </a:lnTo>
                  <a:lnTo>
                    <a:pt x="3691" y="922"/>
                  </a:lnTo>
                  <a:lnTo>
                    <a:pt x="3691" y="913"/>
                  </a:lnTo>
                  <a:lnTo>
                    <a:pt x="3694" y="904"/>
                  </a:lnTo>
                  <a:lnTo>
                    <a:pt x="3700" y="896"/>
                  </a:lnTo>
                  <a:lnTo>
                    <a:pt x="3705" y="887"/>
                  </a:lnTo>
                  <a:lnTo>
                    <a:pt x="3714" y="887"/>
                  </a:lnTo>
                  <a:lnTo>
                    <a:pt x="3717" y="878"/>
                  </a:lnTo>
                  <a:lnTo>
                    <a:pt x="3705" y="867"/>
                  </a:lnTo>
                  <a:lnTo>
                    <a:pt x="3705" y="858"/>
                  </a:lnTo>
                  <a:lnTo>
                    <a:pt x="3705" y="847"/>
                  </a:lnTo>
                  <a:lnTo>
                    <a:pt x="3711" y="838"/>
                  </a:lnTo>
                  <a:lnTo>
                    <a:pt x="3717" y="827"/>
                  </a:lnTo>
                  <a:lnTo>
                    <a:pt x="3717" y="818"/>
                  </a:lnTo>
                  <a:lnTo>
                    <a:pt x="3717" y="809"/>
                  </a:lnTo>
                  <a:lnTo>
                    <a:pt x="3705" y="806"/>
                  </a:lnTo>
                  <a:lnTo>
                    <a:pt x="3694" y="801"/>
                  </a:lnTo>
                  <a:lnTo>
                    <a:pt x="3685" y="795"/>
                  </a:lnTo>
                  <a:lnTo>
                    <a:pt x="3685" y="786"/>
                  </a:lnTo>
                  <a:lnTo>
                    <a:pt x="3691" y="778"/>
                  </a:lnTo>
                  <a:lnTo>
                    <a:pt x="3697" y="769"/>
                  </a:lnTo>
                  <a:lnTo>
                    <a:pt x="3700" y="760"/>
                  </a:lnTo>
                  <a:lnTo>
                    <a:pt x="3708" y="757"/>
                  </a:lnTo>
                  <a:lnTo>
                    <a:pt x="3717" y="752"/>
                  </a:lnTo>
                  <a:lnTo>
                    <a:pt x="3726" y="757"/>
                  </a:lnTo>
                  <a:lnTo>
                    <a:pt x="3735" y="760"/>
                  </a:lnTo>
                  <a:lnTo>
                    <a:pt x="3743" y="763"/>
                  </a:lnTo>
                  <a:lnTo>
                    <a:pt x="3743" y="755"/>
                  </a:lnTo>
                  <a:lnTo>
                    <a:pt x="3737" y="746"/>
                  </a:lnTo>
                  <a:lnTo>
                    <a:pt x="3737" y="737"/>
                  </a:lnTo>
                  <a:lnTo>
                    <a:pt x="3735" y="729"/>
                  </a:lnTo>
                  <a:lnTo>
                    <a:pt x="3735" y="720"/>
                  </a:lnTo>
                  <a:lnTo>
                    <a:pt x="3732" y="711"/>
                  </a:lnTo>
                  <a:lnTo>
                    <a:pt x="3726" y="703"/>
                  </a:lnTo>
                  <a:lnTo>
                    <a:pt x="3723" y="691"/>
                  </a:lnTo>
                  <a:lnTo>
                    <a:pt x="3723" y="682"/>
                  </a:lnTo>
                  <a:lnTo>
                    <a:pt x="3723" y="674"/>
                  </a:lnTo>
                  <a:lnTo>
                    <a:pt x="3723" y="665"/>
                  </a:lnTo>
                  <a:lnTo>
                    <a:pt x="3714" y="662"/>
                  </a:lnTo>
                  <a:lnTo>
                    <a:pt x="3708" y="671"/>
                  </a:lnTo>
                  <a:lnTo>
                    <a:pt x="3700" y="671"/>
                  </a:lnTo>
                  <a:lnTo>
                    <a:pt x="3691" y="674"/>
                  </a:lnTo>
                  <a:lnTo>
                    <a:pt x="3682" y="671"/>
                  </a:lnTo>
                  <a:lnTo>
                    <a:pt x="3673" y="659"/>
                  </a:lnTo>
                  <a:lnTo>
                    <a:pt x="3668" y="651"/>
                  </a:lnTo>
                  <a:lnTo>
                    <a:pt x="3662" y="642"/>
                  </a:lnTo>
                  <a:lnTo>
                    <a:pt x="3653" y="633"/>
                  </a:lnTo>
                  <a:lnTo>
                    <a:pt x="3641" y="628"/>
                  </a:lnTo>
                  <a:lnTo>
                    <a:pt x="3633" y="622"/>
                  </a:lnTo>
                  <a:lnTo>
                    <a:pt x="3624" y="622"/>
                  </a:lnTo>
                  <a:lnTo>
                    <a:pt x="3615" y="616"/>
                  </a:lnTo>
                  <a:lnTo>
                    <a:pt x="3604" y="613"/>
                  </a:lnTo>
                  <a:lnTo>
                    <a:pt x="3595" y="608"/>
                  </a:lnTo>
                  <a:lnTo>
                    <a:pt x="3577" y="573"/>
                  </a:lnTo>
                  <a:lnTo>
                    <a:pt x="3592" y="587"/>
                  </a:lnTo>
                  <a:lnTo>
                    <a:pt x="3592" y="576"/>
                  </a:lnTo>
                  <a:lnTo>
                    <a:pt x="3589" y="567"/>
                  </a:lnTo>
                  <a:lnTo>
                    <a:pt x="3589" y="559"/>
                  </a:lnTo>
                  <a:lnTo>
                    <a:pt x="3583" y="547"/>
                  </a:lnTo>
                  <a:lnTo>
                    <a:pt x="3577" y="538"/>
                  </a:lnTo>
                  <a:lnTo>
                    <a:pt x="3569" y="530"/>
                  </a:lnTo>
                  <a:lnTo>
                    <a:pt x="3583" y="527"/>
                  </a:lnTo>
                  <a:lnTo>
                    <a:pt x="3592" y="530"/>
                  </a:lnTo>
                  <a:lnTo>
                    <a:pt x="3601" y="533"/>
                  </a:lnTo>
                  <a:lnTo>
                    <a:pt x="3609" y="538"/>
                  </a:lnTo>
                  <a:lnTo>
                    <a:pt x="3618" y="541"/>
                  </a:lnTo>
                  <a:lnTo>
                    <a:pt x="3621" y="533"/>
                  </a:lnTo>
                  <a:lnTo>
                    <a:pt x="3621" y="524"/>
                  </a:lnTo>
                  <a:lnTo>
                    <a:pt x="3612" y="518"/>
                  </a:lnTo>
                  <a:lnTo>
                    <a:pt x="3604" y="507"/>
                  </a:lnTo>
                  <a:lnTo>
                    <a:pt x="3598" y="498"/>
                  </a:lnTo>
                  <a:lnTo>
                    <a:pt x="3589" y="489"/>
                  </a:lnTo>
                  <a:lnTo>
                    <a:pt x="3586" y="481"/>
                  </a:lnTo>
                  <a:lnTo>
                    <a:pt x="3577" y="472"/>
                  </a:lnTo>
                  <a:lnTo>
                    <a:pt x="3566" y="469"/>
                  </a:lnTo>
                  <a:lnTo>
                    <a:pt x="3557" y="469"/>
                  </a:lnTo>
                  <a:lnTo>
                    <a:pt x="3548" y="469"/>
                  </a:lnTo>
                  <a:lnTo>
                    <a:pt x="3540" y="469"/>
                  </a:lnTo>
                  <a:lnTo>
                    <a:pt x="3531" y="466"/>
                  </a:lnTo>
                  <a:lnTo>
                    <a:pt x="3519" y="458"/>
                  </a:lnTo>
                  <a:lnTo>
                    <a:pt x="3516" y="449"/>
                  </a:lnTo>
                  <a:lnTo>
                    <a:pt x="3510" y="440"/>
                  </a:lnTo>
                  <a:lnTo>
                    <a:pt x="3507" y="432"/>
                  </a:lnTo>
                  <a:lnTo>
                    <a:pt x="3502" y="423"/>
                  </a:lnTo>
                  <a:lnTo>
                    <a:pt x="3502" y="412"/>
                  </a:lnTo>
                  <a:lnTo>
                    <a:pt x="3510" y="412"/>
                  </a:lnTo>
                  <a:lnTo>
                    <a:pt x="3519" y="417"/>
                  </a:lnTo>
                  <a:lnTo>
                    <a:pt x="3531" y="426"/>
                  </a:lnTo>
                  <a:lnTo>
                    <a:pt x="3540" y="432"/>
                  </a:lnTo>
                  <a:lnTo>
                    <a:pt x="3542" y="440"/>
                  </a:lnTo>
                  <a:lnTo>
                    <a:pt x="3551" y="446"/>
                  </a:lnTo>
                  <a:lnTo>
                    <a:pt x="3563" y="452"/>
                  </a:lnTo>
                  <a:lnTo>
                    <a:pt x="3572" y="458"/>
                  </a:lnTo>
                  <a:lnTo>
                    <a:pt x="3580" y="458"/>
                  </a:lnTo>
                  <a:lnTo>
                    <a:pt x="3589" y="458"/>
                  </a:lnTo>
                  <a:lnTo>
                    <a:pt x="3598" y="458"/>
                  </a:lnTo>
                  <a:lnTo>
                    <a:pt x="3606" y="461"/>
                  </a:lnTo>
                  <a:lnTo>
                    <a:pt x="3612" y="472"/>
                  </a:lnTo>
                  <a:lnTo>
                    <a:pt x="3618" y="481"/>
                  </a:lnTo>
                  <a:lnTo>
                    <a:pt x="3621" y="489"/>
                  </a:lnTo>
                  <a:lnTo>
                    <a:pt x="3627" y="498"/>
                  </a:lnTo>
                  <a:lnTo>
                    <a:pt x="3633" y="507"/>
                  </a:lnTo>
                  <a:lnTo>
                    <a:pt x="3641" y="518"/>
                  </a:lnTo>
                  <a:lnTo>
                    <a:pt x="3650" y="521"/>
                  </a:lnTo>
                  <a:lnTo>
                    <a:pt x="3662" y="524"/>
                  </a:lnTo>
                  <a:lnTo>
                    <a:pt x="3671" y="524"/>
                  </a:lnTo>
                  <a:lnTo>
                    <a:pt x="3679" y="527"/>
                  </a:lnTo>
                  <a:lnTo>
                    <a:pt x="3688" y="527"/>
                  </a:lnTo>
                  <a:lnTo>
                    <a:pt x="3700" y="530"/>
                  </a:lnTo>
                  <a:lnTo>
                    <a:pt x="3711" y="536"/>
                  </a:lnTo>
                  <a:lnTo>
                    <a:pt x="3723" y="544"/>
                  </a:lnTo>
                  <a:lnTo>
                    <a:pt x="3729" y="553"/>
                  </a:lnTo>
                  <a:lnTo>
                    <a:pt x="3735" y="561"/>
                  </a:lnTo>
                  <a:lnTo>
                    <a:pt x="3746" y="570"/>
                  </a:lnTo>
                  <a:lnTo>
                    <a:pt x="3761" y="579"/>
                  </a:lnTo>
                  <a:lnTo>
                    <a:pt x="3770" y="585"/>
                  </a:lnTo>
                  <a:lnTo>
                    <a:pt x="3772" y="593"/>
                  </a:lnTo>
                  <a:lnTo>
                    <a:pt x="3775" y="602"/>
                  </a:lnTo>
                  <a:lnTo>
                    <a:pt x="3778" y="610"/>
                  </a:lnTo>
                  <a:lnTo>
                    <a:pt x="3787" y="610"/>
                  </a:lnTo>
                  <a:lnTo>
                    <a:pt x="3790" y="619"/>
                  </a:lnTo>
                  <a:lnTo>
                    <a:pt x="3799" y="622"/>
                  </a:lnTo>
                  <a:lnTo>
                    <a:pt x="3807" y="628"/>
                  </a:lnTo>
                  <a:lnTo>
                    <a:pt x="3819" y="633"/>
                  </a:lnTo>
                  <a:lnTo>
                    <a:pt x="3828" y="636"/>
                  </a:lnTo>
                  <a:lnTo>
                    <a:pt x="3836" y="639"/>
                  </a:lnTo>
                  <a:lnTo>
                    <a:pt x="3845" y="642"/>
                  </a:lnTo>
                  <a:lnTo>
                    <a:pt x="3854" y="642"/>
                  </a:lnTo>
                  <a:lnTo>
                    <a:pt x="3866" y="645"/>
                  </a:lnTo>
                  <a:lnTo>
                    <a:pt x="3874" y="651"/>
                  </a:lnTo>
                  <a:lnTo>
                    <a:pt x="3883" y="657"/>
                  </a:lnTo>
                  <a:lnTo>
                    <a:pt x="3892" y="657"/>
                  </a:lnTo>
                  <a:lnTo>
                    <a:pt x="3901" y="657"/>
                  </a:lnTo>
                  <a:lnTo>
                    <a:pt x="3912" y="657"/>
                  </a:lnTo>
                  <a:lnTo>
                    <a:pt x="3924" y="657"/>
                  </a:lnTo>
                  <a:lnTo>
                    <a:pt x="3938" y="657"/>
                  </a:lnTo>
                  <a:lnTo>
                    <a:pt x="3947" y="657"/>
                  </a:lnTo>
                  <a:lnTo>
                    <a:pt x="3959" y="657"/>
                  </a:lnTo>
                  <a:lnTo>
                    <a:pt x="3967" y="659"/>
                  </a:lnTo>
                  <a:lnTo>
                    <a:pt x="3979" y="659"/>
                  </a:lnTo>
                  <a:lnTo>
                    <a:pt x="3991" y="659"/>
                  </a:lnTo>
                  <a:lnTo>
                    <a:pt x="4002" y="659"/>
                  </a:lnTo>
                  <a:lnTo>
                    <a:pt x="4017" y="659"/>
                  </a:lnTo>
                  <a:lnTo>
                    <a:pt x="4026" y="659"/>
                  </a:lnTo>
                  <a:lnTo>
                    <a:pt x="4037" y="659"/>
                  </a:lnTo>
                  <a:lnTo>
                    <a:pt x="4049" y="659"/>
                  </a:lnTo>
                  <a:lnTo>
                    <a:pt x="4061" y="659"/>
                  </a:lnTo>
                  <a:lnTo>
                    <a:pt x="4072" y="659"/>
                  </a:lnTo>
                  <a:lnTo>
                    <a:pt x="4084" y="659"/>
                  </a:lnTo>
                  <a:lnTo>
                    <a:pt x="4093" y="659"/>
                  </a:lnTo>
                  <a:lnTo>
                    <a:pt x="4101" y="659"/>
                  </a:lnTo>
                  <a:lnTo>
                    <a:pt x="4110" y="659"/>
                  </a:lnTo>
                  <a:lnTo>
                    <a:pt x="4119" y="659"/>
                  </a:lnTo>
                  <a:lnTo>
                    <a:pt x="4128" y="659"/>
                  </a:lnTo>
                  <a:lnTo>
                    <a:pt x="4136" y="659"/>
                  </a:lnTo>
                  <a:lnTo>
                    <a:pt x="4142" y="668"/>
                  </a:lnTo>
                  <a:lnTo>
                    <a:pt x="4145" y="677"/>
                  </a:lnTo>
                  <a:lnTo>
                    <a:pt x="4151" y="685"/>
                  </a:lnTo>
                  <a:lnTo>
                    <a:pt x="4160" y="691"/>
                  </a:lnTo>
                  <a:lnTo>
                    <a:pt x="4168" y="700"/>
                  </a:lnTo>
                  <a:lnTo>
                    <a:pt x="4177" y="700"/>
                  </a:lnTo>
                  <a:lnTo>
                    <a:pt x="4177" y="691"/>
                  </a:lnTo>
                  <a:lnTo>
                    <a:pt x="4168" y="682"/>
                  </a:lnTo>
                  <a:lnTo>
                    <a:pt x="4168" y="674"/>
                  </a:lnTo>
                  <a:lnTo>
                    <a:pt x="4160" y="665"/>
                  </a:lnTo>
                  <a:lnTo>
                    <a:pt x="4151" y="659"/>
                  </a:lnTo>
                  <a:lnTo>
                    <a:pt x="4136" y="619"/>
                  </a:lnTo>
                  <a:lnTo>
                    <a:pt x="4142" y="60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33880" y="36291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6" y="0"/>
                  </a:moveTo>
                  <a:lnTo>
                    <a:pt x="32" y="11"/>
                  </a:lnTo>
                  <a:lnTo>
                    <a:pt x="23" y="11"/>
                  </a:lnTo>
                  <a:lnTo>
                    <a:pt x="14" y="11"/>
                  </a:lnTo>
                  <a:lnTo>
                    <a:pt x="5" y="13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8" y="33"/>
                  </a:lnTo>
                  <a:lnTo>
                    <a:pt x="17" y="30"/>
                  </a:lnTo>
                  <a:lnTo>
                    <a:pt x="23" y="22"/>
                  </a:lnTo>
                  <a:lnTo>
                    <a:pt x="23" y="13"/>
                  </a:lnTo>
                  <a:lnTo>
                    <a:pt x="26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14480" y="5259240"/>
              <a:ext cx="4320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" y="20"/>
                  </a:moveTo>
                  <a:lnTo>
                    <a:pt x="8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4" y="17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2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81200" y="4390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0"/>
                  </a:moveTo>
                  <a:lnTo>
                    <a:pt x="11" y="16"/>
                  </a:lnTo>
                  <a:lnTo>
                    <a:pt x="11" y="25"/>
                  </a:lnTo>
                  <a:lnTo>
                    <a:pt x="2" y="33"/>
                  </a:lnTo>
                  <a:lnTo>
                    <a:pt x="11" y="45"/>
                  </a:lnTo>
                  <a:lnTo>
                    <a:pt x="26" y="48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2" y="22"/>
                  </a:lnTo>
                  <a:lnTo>
                    <a:pt x="23" y="14"/>
                  </a:lnTo>
                  <a:lnTo>
                    <a:pt x="14" y="11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29600" y="16905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0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05920" y="1801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lnTo>
                    <a:pt x="8" y="11"/>
                  </a:lnTo>
                  <a:lnTo>
                    <a:pt x="14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26" y="46"/>
                  </a:lnTo>
                  <a:lnTo>
                    <a:pt x="17" y="43"/>
                  </a:lnTo>
                  <a:lnTo>
                    <a:pt x="11" y="34"/>
                  </a:lnTo>
                  <a:lnTo>
                    <a:pt x="8" y="25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24440" y="16192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6" y="70"/>
                  </a:moveTo>
                  <a:lnTo>
                    <a:pt x="0" y="78"/>
                  </a:lnTo>
                  <a:lnTo>
                    <a:pt x="0" y="70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19" y="42"/>
                  </a:lnTo>
                  <a:lnTo>
                    <a:pt x="11" y="33"/>
                  </a:lnTo>
                  <a:lnTo>
                    <a:pt x="11" y="25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11"/>
                  </a:lnTo>
                  <a:lnTo>
                    <a:pt x="45" y="16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28" y="33"/>
                  </a:lnTo>
                  <a:lnTo>
                    <a:pt x="35" y="36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5" y="56"/>
                  </a:lnTo>
                  <a:lnTo>
                    <a:pt x="45" y="64"/>
                  </a:lnTo>
                  <a:lnTo>
                    <a:pt x="43" y="72"/>
                  </a:lnTo>
                  <a:lnTo>
                    <a:pt x="50" y="75"/>
                  </a:lnTo>
                  <a:lnTo>
                    <a:pt x="55" y="84"/>
                  </a:lnTo>
                  <a:lnTo>
                    <a:pt x="50" y="92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31" y="98"/>
                  </a:lnTo>
                  <a:lnTo>
                    <a:pt x="23" y="98"/>
                  </a:lnTo>
                  <a:lnTo>
                    <a:pt x="14" y="92"/>
                  </a:lnTo>
                  <a:lnTo>
                    <a:pt x="9" y="84"/>
                  </a:lnTo>
                  <a:lnTo>
                    <a:pt x="4" y="75"/>
                  </a:lnTo>
                  <a:lnTo>
                    <a:pt x="16" y="7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48200" y="17812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4"/>
                  </a:lnTo>
                  <a:lnTo>
                    <a:pt x="16" y="18"/>
                  </a:lnTo>
                  <a:lnTo>
                    <a:pt x="4" y="0"/>
                  </a:lnTo>
                  <a:lnTo>
                    <a:pt x="16" y="1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00840" y="167328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0"/>
                  </a:moveTo>
                  <a:lnTo>
                    <a:pt x="17" y="19"/>
                  </a:lnTo>
                  <a:lnTo>
                    <a:pt x="22" y="11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25" y="27"/>
                  </a:lnTo>
                  <a:lnTo>
                    <a:pt x="28" y="36"/>
                  </a:lnTo>
                  <a:lnTo>
                    <a:pt x="11" y="30"/>
                  </a:lnTo>
                  <a:lnTo>
                    <a:pt x="0" y="33"/>
                  </a:lnTo>
                  <a:lnTo>
                    <a:pt x="11" y="3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91040" y="1490760"/>
              <a:ext cx="84240" cy="10944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31" y="51"/>
                  </a:moveTo>
                  <a:lnTo>
                    <a:pt x="8" y="34"/>
                  </a:lnTo>
                  <a:lnTo>
                    <a:pt x="8" y="42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5" y="68"/>
                  </a:lnTo>
                  <a:lnTo>
                    <a:pt x="17" y="68"/>
                  </a:lnTo>
                  <a:lnTo>
                    <a:pt x="28" y="68"/>
                  </a:lnTo>
                  <a:lnTo>
                    <a:pt x="37" y="68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2" y="34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20" y="19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7" y="45"/>
                  </a:lnTo>
                  <a:lnTo>
                    <a:pt x="31" y="51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38480" y="2170080"/>
              <a:ext cx="293760" cy="235080"/>
            </a:xfrm>
            <a:custGeom>
              <a:avLst/>
              <a:gdLst/>
              <a:ahLst/>
              <a:rect l="l" t="t" r="r" b="b"/>
              <a:pathLst>
                <a:path w="185" h="148">
                  <a:moveTo>
                    <a:pt x="0" y="101"/>
                  </a:moveTo>
                  <a:lnTo>
                    <a:pt x="11" y="84"/>
                  </a:lnTo>
                  <a:lnTo>
                    <a:pt x="11" y="93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5" y="138"/>
                  </a:lnTo>
                  <a:lnTo>
                    <a:pt x="14" y="135"/>
                  </a:lnTo>
                  <a:lnTo>
                    <a:pt x="20" y="127"/>
                  </a:lnTo>
                  <a:lnTo>
                    <a:pt x="28" y="118"/>
                  </a:lnTo>
                  <a:lnTo>
                    <a:pt x="31" y="110"/>
                  </a:lnTo>
                  <a:lnTo>
                    <a:pt x="40" y="104"/>
                  </a:lnTo>
                  <a:lnTo>
                    <a:pt x="48" y="101"/>
                  </a:lnTo>
                  <a:lnTo>
                    <a:pt x="57" y="98"/>
                  </a:lnTo>
                  <a:lnTo>
                    <a:pt x="66" y="90"/>
                  </a:lnTo>
                  <a:lnTo>
                    <a:pt x="69" y="81"/>
                  </a:lnTo>
                  <a:lnTo>
                    <a:pt x="77" y="79"/>
                  </a:lnTo>
                  <a:lnTo>
                    <a:pt x="80" y="87"/>
                  </a:lnTo>
                  <a:lnTo>
                    <a:pt x="80" y="96"/>
                  </a:lnTo>
                  <a:lnTo>
                    <a:pt x="80" y="104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71" y="130"/>
                  </a:lnTo>
                  <a:lnTo>
                    <a:pt x="74" y="138"/>
                  </a:lnTo>
                  <a:lnTo>
                    <a:pt x="83" y="141"/>
                  </a:lnTo>
                  <a:lnTo>
                    <a:pt x="94" y="141"/>
                  </a:lnTo>
                  <a:lnTo>
                    <a:pt x="103" y="138"/>
                  </a:lnTo>
                  <a:lnTo>
                    <a:pt x="109" y="130"/>
                  </a:lnTo>
                  <a:lnTo>
                    <a:pt x="109" y="121"/>
                  </a:lnTo>
                  <a:lnTo>
                    <a:pt x="100" y="113"/>
                  </a:lnTo>
                  <a:lnTo>
                    <a:pt x="106" y="101"/>
                  </a:lnTo>
                  <a:lnTo>
                    <a:pt x="100" y="90"/>
                  </a:lnTo>
                  <a:lnTo>
                    <a:pt x="97" y="81"/>
                  </a:lnTo>
                  <a:lnTo>
                    <a:pt x="97" y="73"/>
                  </a:lnTo>
                  <a:lnTo>
                    <a:pt x="97" y="65"/>
                  </a:lnTo>
                  <a:lnTo>
                    <a:pt x="103" y="56"/>
                  </a:lnTo>
                  <a:lnTo>
                    <a:pt x="112" y="56"/>
                  </a:lnTo>
                  <a:lnTo>
                    <a:pt x="120" y="53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52" y="56"/>
                  </a:lnTo>
                  <a:lnTo>
                    <a:pt x="166" y="56"/>
                  </a:lnTo>
                  <a:lnTo>
                    <a:pt x="175" y="56"/>
                  </a:lnTo>
                  <a:lnTo>
                    <a:pt x="184" y="56"/>
                  </a:lnTo>
                  <a:lnTo>
                    <a:pt x="184" y="48"/>
                  </a:lnTo>
                  <a:lnTo>
                    <a:pt x="184" y="39"/>
                  </a:lnTo>
                  <a:lnTo>
                    <a:pt x="181" y="31"/>
                  </a:lnTo>
                  <a:lnTo>
                    <a:pt x="178" y="22"/>
                  </a:lnTo>
                  <a:lnTo>
                    <a:pt x="166" y="16"/>
                  </a:lnTo>
                  <a:lnTo>
                    <a:pt x="158" y="16"/>
                  </a:lnTo>
                  <a:lnTo>
                    <a:pt x="146" y="16"/>
                  </a:lnTo>
                  <a:lnTo>
                    <a:pt x="138" y="19"/>
                  </a:lnTo>
                  <a:lnTo>
                    <a:pt x="140" y="11"/>
                  </a:lnTo>
                  <a:lnTo>
                    <a:pt x="140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12" y="11"/>
                  </a:lnTo>
                  <a:lnTo>
                    <a:pt x="103" y="16"/>
                  </a:lnTo>
                  <a:lnTo>
                    <a:pt x="97" y="25"/>
                  </a:lnTo>
                  <a:lnTo>
                    <a:pt x="94" y="16"/>
                  </a:lnTo>
                  <a:lnTo>
                    <a:pt x="86" y="14"/>
                  </a:lnTo>
                  <a:lnTo>
                    <a:pt x="77" y="19"/>
                  </a:lnTo>
                  <a:lnTo>
                    <a:pt x="69" y="25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63" y="2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7" y="25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23" y="48"/>
                  </a:lnTo>
                  <a:lnTo>
                    <a:pt x="31" y="48"/>
                  </a:lnTo>
                  <a:lnTo>
                    <a:pt x="40" y="42"/>
                  </a:lnTo>
                  <a:lnTo>
                    <a:pt x="51" y="45"/>
                  </a:lnTo>
                  <a:lnTo>
                    <a:pt x="57" y="53"/>
                  </a:lnTo>
                  <a:lnTo>
                    <a:pt x="60" y="62"/>
                  </a:lnTo>
                  <a:lnTo>
                    <a:pt x="51" y="65"/>
                  </a:lnTo>
                  <a:lnTo>
                    <a:pt x="40" y="65"/>
                  </a:lnTo>
                  <a:lnTo>
                    <a:pt x="28" y="59"/>
                  </a:lnTo>
                  <a:lnTo>
                    <a:pt x="17" y="59"/>
                  </a:lnTo>
                  <a:lnTo>
                    <a:pt x="8" y="65"/>
                  </a:lnTo>
                  <a:lnTo>
                    <a:pt x="8" y="76"/>
                  </a:lnTo>
                  <a:lnTo>
                    <a:pt x="11" y="87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6"/>
                  </a:lnTo>
                  <a:lnTo>
                    <a:pt x="0" y="101"/>
                  </a:lnTo>
                  <a:lnTo>
                    <a:pt x="5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0" y="1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95760" y="2171880"/>
              <a:ext cx="220680" cy="18072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31" y="53"/>
                  </a:moveTo>
                  <a:lnTo>
                    <a:pt x="25" y="64"/>
                  </a:lnTo>
                  <a:lnTo>
                    <a:pt x="31" y="53"/>
                  </a:lnTo>
                  <a:lnTo>
                    <a:pt x="43" y="56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7" y="79"/>
                  </a:lnTo>
                  <a:lnTo>
                    <a:pt x="23" y="90"/>
                  </a:lnTo>
                  <a:lnTo>
                    <a:pt x="25" y="98"/>
                  </a:lnTo>
                  <a:lnTo>
                    <a:pt x="31" y="107"/>
                  </a:lnTo>
                  <a:lnTo>
                    <a:pt x="34" y="98"/>
                  </a:lnTo>
                  <a:lnTo>
                    <a:pt x="34" y="90"/>
                  </a:lnTo>
                  <a:lnTo>
                    <a:pt x="43" y="90"/>
                  </a:lnTo>
                  <a:lnTo>
                    <a:pt x="54" y="93"/>
                  </a:lnTo>
                  <a:lnTo>
                    <a:pt x="63" y="96"/>
                  </a:lnTo>
                  <a:lnTo>
                    <a:pt x="71" y="96"/>
                  </a:lnTo>
                  <a:lnTo>
                    <a:pt x="80" y="87"/>
                  </a:lnTo>
                  <a:lnTo>
                    <a:pt x="89" y="87"/>
                  </a:lnTo>
                  <a:lnTo>
                    <a:pt x="97" y="93"/>
                  </a:lnTo>
                  <a:lnTo>
                    <a:pt x="103" y="107"/>
                  </a:lnTo>
                  <a:lnTo>
                    <a:pt x="112" y="110"/>
                  </a:lnTo>
                  <a:lnTo>
                    <a:pt x="120" y="113"/>
                  </a:lnTo>
                  <a:lnTo>
                    <a:pt x="126" y="104"/>
                  </a:lnTo>
                  <a:lnTo>
                    <a:pt x="123" y="96"/>
                  </a:lnTo>
                  <a:lnTo>
                    <a:pt x="115" y="90"/>
                  </a:lnTo>
                  <a:lnTo>
                    <a:pt x="106" y="87"/>
                  </a:lnTo>
                  <a:lnTo>
                    <a:pt x="94" y="81"/>
                  </a:lnTo>
                  <a:lnTo>
                    <a:pt x="92" y="73"/>
                  </a:lnTo>
                  <a:lnTo>
                    <a:pt x="103" y="70"/>
                  </a:lnTo>
                  <a:lnTo>
                    <a:pt x="112" y="70"/>
                  </a:lnTo>
                  <a:lnTo>
                    <a:pt x="115" y="62"/>
                  </a:lnTo>
                  <a:lnTo>
                    <a:pt x="120" y="53"/>
                  </a:lnTo>
                  <a:lnTo>
                    <a:pt x="129" y="48"/>
                  </a:lnTo>
                  <a:lnTo>
                    <a:pt x="138" y="39"/>
                  </a:lnTo>
                  <a:lnTo>
                    <a:pt x="129" y="33"/>
                  </a:lnTo>
                  <a:lnTo>
                    <a:pt x="120" y="31"/>
                  </a:lnTo>
                  <a:lnTo>
                    <a:pt x="112" y="33"/>
                  </a:lnTo>
                  <a:lnTo>
                    <a:pt x="106" y="42"/>
                  </a:lnTo>
                  <a:lnTo>
                    <a:pt x="97" y="45"/>
                  </a:lnTo>
                  <a:lnTo>
                    <a:pt x="97" y="36"/>
                  </a:lnTo>
                  <a:lnTo>
                    <a:pt x="100" y="25"/>
                  </a:lnTo>
                  <a:lnTo>
                    <a:pt x="100" y="16"/>
                  </a:lnTo>
                  <a:lnTo>
                    <a:pt x="103" y="8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0" y="8"/>
                  </a:lnTo>
                  <a:lnTo>
                    <a:pt x="77" y="16"/>
                  </a:lnTo>
                  <a:lnTo>
                    <a:pt x="74" y="25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1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3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23" y="64"/>
                  </a:lnTo>
                  <a:lnTo>
                    <a:pt x="31" y="64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77" y="53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2079720"/>
              <a:ext cx="298440" cy="156960"/>
            </a:xfrm>
            <a:custGeom>
              <a:avLst/>
              <a:gdLst/>
              <a:ahLst/>
              <a:rect l="l" t="t" r="r" b="b"/>
              <a:pathLst>
                <a:path w="188" h="99">
                  <a:moveTo>
                    <a:pt x="0" y="17"/>
                  </a:moveTo>
                  <a:lnTo>
                    <a:pt x="25" y="25"/>
                  </a:lnTo>
                  <a:lnTo>
                    <a:pt x="37" y="25"/>
                  </a:lnTo>
                  <a:lnTo>
                    <a:pt x="43" y="34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63" y="69"/>
                  </a:lnTo>
                  <a:lnTo>
                    <a:pt x="63" y="80"/>
                  </a:lnTo>
                  <a:lnTo>
                    <a:pt x="71" y="83"/>
                  </a:lnTo>
                  <a:lnTo>
                    <a:pt x="80" y="77"/>
                  </a:lnTo>
                  <a:lnTo>
                    <a:pt x="89" y="77"/>
                  </a:lnTo>
                  <a:lnTo>
                    <a:pt x="97" y="77"/>
                  </a:lnTo>
                  <a:lnTo>
                    <a:pt x="106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5" y="74"/>
                  </a:lnTo>
                  <a:lnTo>
                    <a:pt x="143" y="77"/>
                  </a:lnTo>
                  <a:lnTo>
                    <a:pt x="152" y="86"/>
                  </a:lnTo>
                  <a:lnTo>
                    <a:pt x="163" y="98"/>
                  </a:lnTo>
                  <a:lnTo>
                    <a:pt x="169" y="89"/>
                  </a:lnTo>
                  <a:lnTo>
                    <a:pt x="175" y="80"/>
                  </a:lnTo>
                  <a:lnTo>
                    <a:pt x="181" y="72"/>
                  </a:lnTo>
                  <a:lnTo>
                    <a:pt x="187" y="60"/>
                  </a:lnTo>
                  <a:lnTo>
                    <a:pt x="187" y="51"/>
                  </a:lnTo>
                  <a:lnTo>
                    <a:pt x="187" y="43"/>
                  </a:lnTo>
                  <a:lnTo>
                    <a:pt x="181" y="34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5" y="34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9" y="40"/>
                  </a:lnTo>
                  <a:lnTo>
                    <a:pt x="129" y="49"/>
                  </a:lnTo>
                  <a:lnTo>
                    <a:pt x="129" y="57"/>
                  </a:lnTo>
                  <a:lnTo>
                    <a:pt x="120" y="51"/>
                  </a:lnTo>
                  <a:lnTo>
                    <a:pt x="109" y="43"/>
                  </a:lnTo>
                  <a:lnTo>
                    <a:pt x="100" y="34"/>
                  </a:lnTo>
                  <a:lnTo>
                    <a:pt x="86" y="25"/>
                  </a:lnTo>
                  <a:lnTo>
                    <a:pt x="83" y="37"/>
                  </a:lnTo>
                  <a:lnTo>
                    <a:pt x="74" y="40"/>
                  </a:lnTo>
                  <a:lnTo>
                    <a:pt x="74" y="31"/>
                  </a:lnTo>
                  <a:lnTo>
                    <a:pt x="69" y="23"/>
                  </a:lnTo>
                  <a:lnTo>
                    <a:pt x="60" y="17"/>
                  </a:lnTo>
                  <a:lnTo>
                    <a:pt x="51" y="8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8" y="8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0" y="1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74960" y="2954160"/>
              <a:ext cx="680760" cy="700200"/>
            </a:xfrm>
            <a:custGeom>
              <a:avLst/>
              <a:gdLst/>
              <a:ahLst/>
              <a:rect l="l" t="t" r="r" b="b"/>
              <a:pathLst>
                <a:path w="429" h="441">
                  <a:moveTo>
                    <a:pt x="22" y="309"/>
                  </a:moveTo>
                  <a:lnTo>
                    <a:pt x="34" y="315"/>
                  </a:lnTo>
                  <a:lnTo>
                    <a:pt x="43" y="318"/>
                  </a:lnTo>
                  <a:lnTo>
                    <a:pt x="51" y="321"/>
                  </a:lnTo>
                  <a:lnTo>
                    <a:pt x="54" y="333"/>
                  </a:lnTo>
                  <a:lnTo>
                    <a:pt x="63" y="342"/>
                  </a:lnTo>
                  <a:lnTo>
                    <a:pt x="71" y="348"/>
                  </a:lnTo>
                  <a:lnTo>
                    <a:pt x="80" y="348"/>
                  </a:lnTo>
                  <a:lnTo>
                    <a:pt x="91" y="355"/>
                  </a:lnTo>
                  <a:lnTo>
                    <a:pt x="100" y="361"/>
                  </a:lnTo>
                  <a:lnTo>
                    <a:pt x="109" y="364"/>
                  </a:lnTo>
                  <a:lnTo>
                    <a:pt x="112" y="373"/>
                  </a:lnTo>
                  <a:lnTo>
                    <a:pt x="117" y="382"/>
                  </a:lnTo>
                  <a:lnTo>
                    <a:pt x="123" y="391"/>
                  </a:lnTo>
                  <a:lnTo>
                    <a:pt x="132" y="397"/>
                  </a:lnTo>
                  <a:lnTo>
                    <a:pt x="146" y="406"/>
                  </a:lnTo>
                  <a:lnTo>
                    <a:pt x="155" y="412"/>
                  </a:lnTo>
                  <a:lnTo>
                    <a:pt x="163" y="418"/>
                  </a:lnTo>
                  <a:lnTo>
                    <a:pt x="172" y="421"/>
                  </a:lnTo>
                  <a:lnTo>
                    <a:pt x="180" y="430"/>
                  </a:lnTo>
                  <a:lnTo>
                    <a:pt x="189" y="436"/>
                  </a:lnTo>
                  <a:lnTo>
                    <a:pt x="198" y="440"/>
                  </a:lnTo>
                  <a:lnTo>
                    <a:pt x="203" y="430"/>
                  </a:lnTo>
                  <a:lnTo>
                    <a:pt x="203" y="421"/>
                  </a:lnTo>
                  <a:lnTo>
                    <a:pt x="203" y="412"/>
                  </a:lnTo>
                  <a:lnTo>
                    <a:pt x="215" y="406"/>
                  </a:lnTo>
                  <a:lnTo>
                    <a:pt x="224" y="406"/>
                  </a:lnTo>
                  <a:lnTo>
                    <a:pt x="232" y="406"/>
                  </a:lnTo>
                  <a:lnTo>
                    <a:pt x="241" y="406"/>
                  </a:lnTo>
                  <a:lnTo>
                    <a:pt x="249" y="406"/>
                  </a:lnTo>
                  <a:lnTo>
                    <a:pt x="258" y="406"/>
                  </a:lnTo>
                  <a:lnTo>
                    <a:pt x="261" y="397"/>
                  </a:lnTo>
                  <a:lnTo>
                    <a:pt x="261" y="388"/>
                  </a:lnTo>
                  <a:lnTo>
                    <a:pt x="261" y="379"/>
                  </a:lnTo>
                  <a:lnTo>
                    <a:pt x="261" y="367"/>
                  </a:lnTo>
                  <a:lnTo>
                    <a:pt x="261" y="355"/>
                  </a:lnTo>
                  <a:lnTo>
                    <a:pt x="252" y="348"/>
                  </a:lnTo>
                  <a:lnTo>
                    <a:pt x="244" y="348"/>
                  </a:lnTo>
                  <a:lnTo>
                    <a:pt x="235" y="342"/>
                  </a:lnTo>
                  <a:lnTo>
                    <a:pt x="229" y="333"/>
                  </a:lnTo>
                  <a:lnTo>
                    <a:pt x="229" y="324"/>
                  </a:lnTo>
                  <a:lnTo>
                    <a:pt x="238" y="321"/>
                  </a:lnTo>
                  <a:lnTo>
                    <a:pt x="247" y="315"/>
                  </a:lnTo>
                  <a:lnTo>
                    <a:pt x="255" y="312"/>
                  </a:lnTo>
                  <a:lnTo>
                    <a:pt x="261" y="303"/>
                  </a:lnTo>
                  <a:lnTo>
                    <a:pt x="261" y="294"/>
                  </a:lnTo>
                  <a:lnTo>
                    <a:pt x="264" y="285"/>
                  </a:lnTo>
                  <a:lnTo>
                    <a:pt x="264" y="276"/>
                  </a:lnTo>
                  <a:lnTo>
                    <a:pt x="267" y="267"/>
                  </a:lnTo>
                  <a:lnTo>
                    <a:pt x="272" y="257"/>
                  </a:lnTo>
                  <a:lnTo>
                    <a:pt x="278" y="248"/>
                  </a:lnTo>
                  <a:lnTo>
                    <a:pt x="284" y="239"/>
                  </a:lnTo>
                  <a:lnTo>
                    <a:pt x="284" y="230"/>
                  </a:lnTo>
                  <a:lnTo>
                    <a:pt x="284" y="221"/>
                  </a:lnTo>
                  <a:lnTo>
                    <a:pt x="284" y="209"/>
                  </a:lnTo>
                  <a:lnTo>
                    <a:pt x="292" y="200"/>
                  </a:lnTo>
                  <a:lnTo>
                    <a:pt x="295" y="191"/>
                  </a:lnTo>
                  <a:lnTo>
                    <a:pt x="298" y="182"/>
                  </a:lnTo>
                  <a:lnTo>
                    <a:pt x="301" y="172"/>
                  </a:lnTo>
                  <a:lnTo>
                    <a:pt x="292" y="163"/>
                  </a:lnTo>
                  <a:lnTo>
                    <a:pt x="284" y="154"/>
                  </a:lnTo>
                  <a:lnTo>
                    <a:pt x="278" y="145"/>
                  </a:lnTo>
                  <a:lnTo>
                    <a:pt x="287" y="142"/>
                  </a:lnTo>
                  <a:lnTo>
                    <a:pt x="295" y="142"/>
                  </a:lnTo>
                  <a:lnTo>
                    <a:pt x="304" y="148"/>
                  </a:lnTo>
                  <a:lnTo>
                    <a:pt x="313" y="157"/>
                  </a:lnTo>
                  <a:lnTo>
                    <a:pt x="321" y="163"/>
                  </a:lnTo>
                  <a:lnTo>
                    <a:pt x="327" y="154"/>
                  </a:lnTo>
                  <a:lnTo>
                    <a:pt x="336" y="148"/>
                  </a:lnTo>
                  <a:lnTo>
                    <a:pt x="344" y="148"/>
                  </a:lnTo>
                  <a:lnTo>
                    <a:pt x="353" y="145"/>
                  </a:lnTo>
                  <a:lnTo>
                    <a:pt x="361" y="142"/>
                  </a:lnTo>
                  <a:lnTo>
                    <a:pt x="361" y="133"/>
                  </a:lnTo>
                  <a:lnTo>
                    <a:pt x="361" y="124"/>
                  </a:lnTo>
                  <a:lnTo>
                    <a:pt x="361" y="115"/>
                  </a:lnTo>
                  <a:lnTo>
                    <a:pt x="359" y="106"/>
                  </a:lnTo>
                  <a:lnTo>
                    <a:pt x="353" y="97"/>
                  </a:lnTo>
                  <a:lnTo>
                    <a:pt x="344" y="88"/>
                  </a:lnTo>
                  <a:lnTo>
                    <a:pt x="333" y="81"/>
                  </a:lnTo>
                  <a:lnTo>
                    <a:pt x="341" y="75"/>
                  </a:lnTo>
                  <a:lnTo>
                    <a:pt x="353" y="75"/>
                  </a:lnTo>
                  <a:lnTo>
                    <a:pt x="361" y="75"/>
                  </a:lnTo>
                  <a:lnTo>
                    <a:pt x="370" y="75"/>
                  </a:lnTo>
                  <a:lnTo>
                    <a:pt x="379" y="72"/>
                  </a:lnTo>
                  <a:lnTo>
                    <a:pt x="387" y="69"/>
                  </a:lnTo>
                  <a:lnTo>
                    <a:pt x="396" y="69"/>
                  </a:lnTo>
                  <a:lnTo>
                    <a:pt x="405" y="72"/>
                  </a:lnTo>
                  <a:lnTo>
                    <a:pt x="419" y="75"/>
                  </a:lnTo>
                  <a:lnTo>
                    <a:pt x="428" y="75"/>
                  </a:lnTo>
                  <a:lnTo>
                    <a:pt x="425" y="66"/>
                  </a:lnTo>
                  <a:lnTo>
                    <a:pt x="422" y="57"/>
                  </a:lnTo>
                  <a:lnTo>
                    <a:pt x="419" y="48"/>
                  </a:lnTo>
                  <a:lnTo>
                    <a:pt x="410" y="48"/>
                  </a:lnTo>
                  <a:lnTo>
                    <a:pt x="402" y="48"/>
                  </a:lnTo>
                  <a:lnTo>
                    <a:pt x="390" y="48"/>
                  </a:lnTo>
                  <a:lnTo>
                    <a:pt x="382" y="48"/>
                  </a:lnTo>
                  <a:lnTo>
                    <a:pt x="379" y="57"/>
                  </a:lnTo>
                  <a:lnTo>
                    <a:pt x="370" y="54"/>
                  </a:lnTo>
                  <a:lnTo>
                    <a:pt x="361" y="45"/>
                  </a:lnTo>
                  <a:lnTo>
                    <a:pt x="353" y="39"/>
                  </a:lnTo>
                  <a:lnTo>
                    <a:pt x="341" y="39"/>
                  </a:lnTo>
                  <a:lnTo>
                    <a:pt x="333" y="39"/>
                  </a:lnTo>
                  <a:lnTo>
                    <a:pt x="318" y="39"/>
                  </a:lnTo>
                  <a:lnTo>
                    <a:pt x="310" y="39"/>
                  </a:lnTo>
                  <a:lnTo>
                    <a:pt x="298" y="42"/>
                  </a:lnTo>
                  <a:lnTo>
                    <a:pt x="290" y="42"/>
                  </a:lnTo>
                  <a:lnTo>
                    <a:pt x="290" y="33"/>
                  </a:lnTo>
                  <a:lnTo>
                    <a:pt x="298" y="30"/>
                  </a:lnTo>
                  <a:lnTo>
                    <a:pt x="307" y="30"/>
                  </a:lnTo>
                  <a:lnTo>
                    <a:pt x="315" y="27"/>
                  </a:lnTo>
                  <a:lnTo>
                    <a:pt x="324" y="24"/>
                  </a:lnTo>
                  <a:lnTo>
                    <a:pt x="327" y="15"/>
                  </a:lnTo>
                  <a:lnTo>
                    <a:pt x="327" y="6"/>
                  </a:lnTo>
                  <a:lnTo>
                    <a:pt x="318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3"/>
                  </a:lnTo>
                  <a:lnTo>
                    <a:pt x="275" y="12"/>
                  </a:lnTo>
                  <a:lnTo>
                    <a:pt x="267" y="18"/>
                  </a:lnTo>
                  <a:lnTo>
                    <a:pt x="258" y="21"/>
                  </a:lnTo>
                  <a:lnTo>
                    <a:pt x="255" y="30"/>
                  </a:lnTo>
                  <a:lnTo>
                    <a:pt x="264" y="36"/>
                  </a:lnTo>
                  <a:lnTo>
                    <a:pt x="272" y="36"/>
                  </a:lnTo>
                  <a:lnTo>
                    <a:pt x="278" y="45"/>
                  </a:lnTo>
                  <a:lnTo>
                    <a:pt x="270" y="54"/>
                  </a:lnTo>
                  <a:lnTo>
                    <a:pt x="267" y="63"/>
                  </a:lnTo>
                  <a:lnTo>
                    <a:pt x="281" y="75"/>
                  </a:lnTo>
                  <a:lnTo>
                    <a:pt x="290" y="78"/>
                  </a:lnTo>
                  <a:lnTo>
                    <a:pt x="281" y="75"/>
                  </a:lnTo>
                  <a:lnTo>
                    <a:pt x="270" y="66"/>
                  </a:lnTo>
                  <a:lnTo>
                    <a:pt x="261" y="60"/>
                  </a:lnTo>
                  <a:lnTo>
                    <a:pt x="252" y="51"/>
                  </a:lnTo>
                  <a:lnTo>
                    <a:pt x="244" y="51"/>
                  </a:lnTo>
                  <a:lnTo>
                    <a:pt x="241" y="60"/>
                  </a:lnTo>
                  <a:lnTo>
                    <a:pt x="241" y="69"/>
                  </a:lnTo>
                  <a:lnTo>
                    <a:pt x="255" y="78"/>
                  </a:lnTo>
                  <a:lnTo>
                    <a:pt x="264" y="81"/>
                  </a:lnTo>
                  <a:lnTo>
                    <a:pt x="255" y="88"/>
                  </a:lnTo>
                  <a:lnTo>
                    <a:pt x="244" y="88"/>
                  </a:lnTo>
                  <a:lnTo>
                    <a:pt x="235" y="88"/>
                  </a:lnTo>
                  <a:lnTo>
                    <a:pt x="235" y="103"/>
                  </a:lnTo>
                  <a:lnTo>
                    <a:pt x="244" y="106"/>
                  </a:lnTo>
                  <a:lnTo>
                    <a:pt x="252" y="109"/>
                  </a:lnTo>
                  <a:lnTo>
                    <a:pt x="244" y="115"/>
                  </a:lnTo>
                  <a:lnTo>
                    <a:pt x="235" y="112"/>
                  </a:lnTo>
                  <a:lnTo>
                    <a:pt x="226" y="109"/>
                  </a:lnTo>
                  <a:lnTo>
                    <a:pt x="218" y="106"/>
                  </a:lnTo>
                  <a:lnTo>
                    <a:pt x="212" y="115"/>
                  </a:lnTo>
                  <a:lnTo>
                    <a:pt x="218" y="124"/>
                  </a:lnTo>
                  <a:lnTo>
                    <a:pt x="229" y="127"/>
                  </a:lnTo>
                  <a:lnTo>
                    <a:pt x="238" y="130"/>
                  </a:lnTo>
                  <a:lnTo>
                    <a:pt x="229" y="124"/>
                  </a:lnTo>
                  <a:lnTo>
                    <a:pt x="221" y="121"/>
                  </a:lnTo>
                  <a:lnTo>
                    <a:pt x="209" y="115"/>
                  </a:lnTo>
                  <a:lnTo>
                    <a:pt x="198" y="106"/>
                  </a:lnTo>
                  <a:lnTo>
                    <a:pt x="192" y="97"/>
                  </a:lnTo>
                  <a:lnTo>
                    <a:pt x="183" y="91"/>
                  </a:lnTo>
                  <a:lnTo>
                    <a:pt x="180" y="81"/>
                  </a:lnTo>
                  <a:lnTo>
                    <a:pt x="178" y="72"/>
                  </a:lnTo>
                  <a:lnTo>
                    <a:pt x="169" y="60"/>
                  </a:lnTo>
                  <a:lnTo>
                    <a:pt x="160" y="60"/>
                  </a:lnTo>
                  <a:lnTo>
                    <a:pt x="152" y="66"/>
                  </a:lnTo>
                  <a:lnTo>
                    <a:pt x="149" y="75"/>
                  </a:lnTo>
                  <a:lnTo>
                    <a:pt x="146" y="84"/>
                  </a:lnTo>
                  <a:lnTo>
                    <a:pt x="143" y="94"/>
                  </a:lnTo>
                  <a:lnTo>
                    <a:pt x="140" y="103"/>
                  </a:lnTo>
                  <a:lnTo>
                    <a:pt x="129" y="103"/>
                  </a:lnTo>
                  <a:lnTo>
                    <a:pt x="117" y="94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0" y="60"/>
                  </a:lnTo>
                  <a:lnTo>
                    <a:pt x="89" y="60"/>
                  </a:lnTo>
                  <a:lnTo>
                    <a:pt x="80" y="66"/>
                  </a:lnTo>
                  <a:lnTo>
                    <a:pt x="77" y="75"/>
                  </a:lnTo>
                  <a:lnTo>
                    <a:pt x="71" y="84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51" y="127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0" y="127"/>
                  </a:lnTo>
                  <a:lnTo>
                    <a:pt x="51" y="121"/>
                  </a:lnTo>
                  <a:lnTo>
                    <a:pt x="43" y="118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4" y="115"/>
                  </a:lnTo>
                  <a:lnTo>
                    <a:pt x="11" y="124"/>
                  </a:lnTo>
                  <a:lnTo>
                    <a:pt x="8" y="133"/>
                  </a:lnTo>
                  <a:lnTo>
                    <a:pt x="2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4" y="169"/>
                  </a:lnTo>
                  <a:lnTo>
                    <a:pt x="22" y="172"/>
                  </a:lnTo>
                  <a:lnTo>
                    <a:pt x="31" y="172"/>
                  </a:lnTo>
                  <a:lnTo>
                    <a:pt x="40" y="176"/>
                  </a:lnTo>
                  <a:lnTo>
                    <a:pt x="51" y="185"/>
                  </a:lnTo>
                  <a:lnTo>
                    <a:pt x="60" y="191"/>
                  </a:lnTo>
                  <a:lnTo>
                    <a:pt x="68" y="197"/>
                  </a:lnTo>
                  <a:lnTo>
                    <a:pt x="80" y="200"/>
                  </a:lnTo>
                  <a:lnTo>
                    <a:pt x="89" y="203"/>
                  </a:lnTo>
                  <a:lnTo>
                    <a:pt x="100" y="203"/>
                  </a:lnTo>
                  <a:lnTo>
                    <a:pt x="109" y="203"/>
                  </a:lnTo>
                  <a:lnTo>
                    <a:pt x="120" y="197"/>
                  </a:lnTo>
                  <a:lnTo>
                    <a:pt x="129" y="194"/>
                  </a:lnTo>
                  <a:lnTo>
                    <a:pt x="135" y="185"/>
                  </a:lnTo>
                  <a:lnTo>
                    <a:pt x="143" y="179"/>
                  </a:lnTo>
                  <a:lnTo>
                    <a:pt x="149" y="169"/>
                  </a:lnTo>
                  <a:lnTo>
                    <a:pt x="157" y="163"/>
                  </a:lnTo>
                  <a:lnTo>
                    <a:pt x="166" y="163"/>
                  </a:lnTo>
                  <a:lnTo>
                    <a:pt x="175" y="166"/>
                  </a:lnTo>
                  <a:lnTo>
                    <a:pt x="183" y="166"/>
                  </a:lnTo>
                  <a:lnTo>
                    <a:pt x="192" y="157"/>
                  </a:lnTo>
                  <a:lnTo>
                    <a:pt x="198" y="148"/>
                  </a:lnTo>
                  <a:lnTo>
                    <a:pt x="201" y="139"/>
                  </a:lnTo>
                  <a:lnTo>
                    <a:pt x="203" y="130"/>
                  </a:lnTo>
                  <a:lnTo>
                    <a:pt x="212" y="130"/>
                  </a:lnTo>
                  <a:lnTo>
                    <a:pt x="224" y="136"/>
                  </a:lnTo>
                  <a:lnTo>
                    <a:pt x="232" y="139"/>
                  </a:lnTo>
                  <a:lnTo>
                    <a:pt x="241" y="142"/>
                  </a:lnTo>
                  <a:lnTo>
                    <a:pt x="232" y="142"/>
                  </a:lnTo>
                  <a:lnTo>
                    <a:pt x="224" y="142"/>
                  </a:lnTo>
                  <a:lnTo>
                    <a:pt x="215" y="142"/>
                  </a:lnTo>
                  <a:lnTo>
                    <a:pt x="206" y="142"/>
                  </a:lnTo>
                  <a:lnTo>
                    <a:pt x="203" y="151"/>
                  </a:lnTo>
                  <a:lnTo>
                    <a:pt x="201" y="160"/>
                  </a:lnTo>
                  <a:lnTo>
                    <a:pt x="201" y="169"/>
                  </a:lnTo>
                  <a:lnTo>
                    <a:pt x="209" y="176"/>
                  </a:lnTo>
                  <a:lnTo>
                    <a:pt x="218" y="179"/>
                  </a:lnTo>
                  <a:lnTo>
                    <a:pt x="226" y="188"/>
                  </a:lnTo>
                  <a:lnTo>
                    <a:pt x="235" y="194"/>
                  </a:lnTo>
                  <a:lnTo>
                    <a:pt x="238" y="203"/>
                  </a:lnTo>
                  <a:lnTo>
                    <a:pt x="226" y="206"/>
                  </a:lnTo>
                  <a:lnTo>
                    <a:pt x="224" y="215"/>
                  </a:lnTo>
                  <a:lnTo>
                    <a:pt x="224" y="224"/>
                  </a:lnTo>
                  <a:lnTo>
                    <a:pt x="221" y="233"/>
                  </a:lnTo>
                  <a:lnTo>
                    <a:pt x="209" y="233"/>
                  </a:lnTo>
                  <a:lnTo>
                    <a:pt x="203" y="245"/>
                  </a:lnTo>
                  <a:lnTo>
                    <a:pt x="198" y="257"/>
                  </a:lnTo>
                  <a:lnTo>
                    <a:pt x="195" y="267"/>
                  </a:lnTo>
                  <a:lnTo>
                    <a:pt x="186" y="267"/>
                  </a:lnTo>
                  <a:lnTo>
                    <a:pt x="183" y="257"/>
                  </a:lnTo>
                  <a:lnTo>
                    <a:pt x="178" y="245"/>
                  </a:lnTo>
                  <a:lnTo>
                    <a:pt x="175" y="233"/>
                  </a:lnTo>
                  <a:lnTo>
                    <a:pt x="166" y="224"/>
                  </a:lnTo>
                  <a:lnTo>
                    <a:pt x="157" y="221"/>
                  </a:lnTo>
                  <a:lnTo>
                    <a:pt x="149" y="218"/>
                  </a:lnTo>
                  <a:lnTo>
                    <a:pt x="137" y="224"/>
                  </a:lnTo>
                  <a:lnTo>
                    <a:pt x="140" y="236"/>
                  </a:lnTo>
                  <a:lnTo>
                    <a:pt x="143" y="245"/>
                  </a:lnTo>
                  <a:lnTo>
                    <a:pt x="143" y="254"/>
                  </a:lnTo>
                  <a:lnTo>
                    <a:pt x="135" y="260"/>
                  </a:lnTo>
                  <a:lnTo>
                    <a:pt x="126" y="260"/>
                  </a:lnTo>
                  <a:lnTo>
                    <a:pt x="114" y="257"/>
                  </a:lnTo>
                  <a:lnTo>
                    <a:pt x="106" y="257"/>
                  </a:lnTo>
                  <a:lnTo>
                    <a:pt x="97" y="257"/>
                  </a:lnTo>
                  <a:lnTo>
                    <a:pt x="89" y="257"/>
                  </a:lnTo>
                  <a:lnTo>
                    <a:pt x="91" y="267"/>
                  </a:lnTo>
                  <a:lnTo>
                    <a:pt x="100" y="276"/>
                  </a:lnTo>
                  <a:lnTo>
                    <a:pt x="100" y="285"/>
                  </a:lnTo>
                  <a:lnTo>
                    <a:pt x="97" y="294"/>
                  </a:lnTo>
                  <a:lnTo>
                    <a:pt x="97" y="303"/>
                  </a:lnTo>
                  <a:lnTo>
                    <a:pt x="109" y="312"/>
                  </a:lnTo>
                  <a:lnTo>
                    <a:pt x="117" y="318"/>
                  </a:lnTo>
                  <a:lnTo>
                    <a:pt x="109" y="318"/>
                  </a:lnTo>
                  <a:lnTo>
                    <a:pt x="100" y="309"/>
                  </a:lnTo>
                  <a:lnTo>
                    <a:pt x="89" y="300"/>
                  </a:lnTo>
                  <a:lnTo>
                    <a:pt x="80" y="297"/>
                  </a:lnTo>
                  <a:lnTo>
                    <a:pt x="71" y="297"/>
                  </a:lnTo>
                  <a:lnTo>
                    <a:pt x="63" y="300"/>
                  </a:lnTo>
                  <a:lnTo>
                    <a:pt x="54" y="306"/>
                  </a:lnTo>
                  <a:lnTo>
                    <a:pt x="43" y="306"/>
                  </a:lnTo>
                  <a:lnTo>
                    <a:pt x="34" y="306"/>
                  </a:lnTo>
                  <a:lnTo>
                    <a:pt x="22" y="309"/>
                  </a:lnTo>
                  <a:lnTo>
                    <a:pt x="11" y="303"/>
                  </a:lnTo>
                  <a:lnTo>
                    <a:pt x="22" y="309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43200" y="27082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2"/>
                  </a:moveTo>
                  <a:lnTo>
                    <a:pt x="8" y="19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34" y="22"/>
                  </a:lnTo>
                  <a:lnTo>
                    <a:pt x="40" y="13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76680" y="294012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5" y="0"/>
                  </a:moveTo>
                  <a:lnTo>
                    <a:pt x="20" y="13"/>
                  </a:lnTo>
                  <a:lnTo>
                    <a:pt x="11" y="16"/>
                  </a:lnTo>
                  <a:lnTo>
                    <a:pt x="8" y="24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4" y="30"/>
                  </a:lnTo>
                  <a:lnTo>
                    <a:pt x="40" y="21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25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10160" y="2549520"/>
              <a:ext cx="339840" cy="509760"/>
            </a:xfrm>
            <a:custGeom>
              <a:avLst/>
              <a:gdLst/>
              <a:ahLst/>
              <a:rect l="l" t="t" r="r" b="b"/>
              <a:pathLst>
                <a:path w="214" h="321">
                  <a:moveTo>
                    <a:pt x="23" y="200"/>
                  </a:moveTo>
                  <a:lnTo>
                    <a:pt x="34" y="182"/>
                  </a:lnTo>
                  <a:lnTo>
                    <a:pt x="23" y="200"/>
                  </a:lnTo>
                  <a:lnTo>
                    <a:pt x="23" y="211"/>
                  </a:lnTo>
                  <a:lnTo>
                    <a:pt x="20" y="220"/>
                  </a:lnTo>
                  <a:lnTo>
                    <a:pt x="17" y="228"/>
                  </a:lnTo>
                  <a:lnTo>
                    <a:pt x="8" y="234"/>
                  </a:lnTo>
                  <a:lnTo>
                    <a:pt x="2" y="24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8" y="268"/>
                  </a:lnTo>
                  <a:lnTo>
                    <a:pt x="17" y="268"/>
                  </a:lnTo>
                  <a:lnTo>
                    <a:pt x="25" y="271"/>
                  </a:lnTo>
                  <a:lnTo>
                    <a:pt x="28" y="280"/>
                  </a:lnTo>
                  <a:lnTo>
                    <a:pt x="37" y="291"/>
                  </a:lnTo>
                  <a:lnTo>
                    <a:pt x="28" y="294"/>
                  </a:lnTo>
                  <a:lnTo>
                    <a:pt x="20" y="285"/>
                  </a:lnTo>
                  <a:lnTo>
                    <a:pt x="31" y="294"/>
                  </a:lnTo>
                  <a:lnTo>
                    <a:pt x="40" y="300"/>
                  </a:lnTo>
                  <a:lnTo>
                    <a:pt x="48" y="311"/>
                  </a:lnTo>
                  <a:lnTo>
                    <a:pt x="57" y="314"/>
                  </a:lnTo>
                  <a:lnTo>
                    <a:pt x="66" y="320"/>
                  </a:lnTo>
                  <a:lnTo>
                    <a:pt x="66" y="311"/>
                  </a:lnTo>
                  <a:lnTo>
                    <a:pt x="74" y="311"/>
                  </a:lnTo>
                  <a:lnTo>
                    <a:pt x="83" y="320"/>
                  </a:lnTo>
                  <a:lnTo>
                    <a:pt x="83" y="308"/>
                  </a:lnTo>
                  <a:lnTo>
                    <a:pt x="92" y="305"/>
                  </a:lnTo>
                  <a:lnTo>
                    <a:pt x="97" y="297"/>
                  </a:lnTo>
                  <a:lnTo>
                    <a:pt x="89" y="288"/>
                  </a:lnTo>
                  <a:lnTo>
                    <a:pt x="83" y="280"/>
                  </a:lnTo>
                  <a:lnTo>
                    <a:pt x="77" y="271"/>
                  </a:lnTo>
                  <a:lnTo>
                    <a:pt x="71" y="262"/>
                  </a:lnTo>
                  <a:lnTo>
                    <a:pt x="69" y="254"/>
                  </a:lnTo>
                  <a:lnTo>
                    <a:pt x="69" y="242"/>
                  </a:lnTo>
                  <a:lnTo>
                    <a:pt x="69" y="234"/>
                  </a:lnTo>
                  <a:lnTo>
                    <a:pt x="69" y="225"/>
                  </a:lnTo>
                  <a:lnTo>
                    <a:pt x="69" y="217"/>
                  </a:lnTo>
                  <a:lnTo>
                    <a:pt x="69" y="208"/>
                  </a:lnTo>
                  <a:lnTo>
                    <a:pt x="69" y="200"/>
                  </a:lnTo>
                  <a:lnTo>
                    <a:pt x="69" y="191"/>
                  </a:lnTo>
                  <a:lnTo>
                    <a:pt x="69" y="182"/>
                  </a:lnTo>
                  <a:lnTo>
                    <a:pt x="77" y="174"/>
                  </a:lnTo>
                  <a:lnTo>
                    <a:pt x="86" y="168"/>
                  </a:lnTo>
                  <a:lnTo>
                    <a:pt x="92" y="160"/>
                  </a:lnTo>
                  <a:lnTo>
                    <a:pt x="97" y="151"/>
                  </a:lnTo>
                  <a:lnTo>
                    <a:pt x="103" y="142"/>
                  </a:lnTo>
                  <a:lnTo>
                    <a:pt x="103" y="134"/>
                  </a:lnTo>
                  <a:lnTo>
                    <a:pt x="103" y="125"/>
                  </a:lnTo>
                  <a:lnTo>
                    <a:pt x="112" y="122"/>
                  </a:lnTo>
                  <a:lnTo>
                    <a:pt x="120" y="117"/>
                  </a:lnTo>
                  <a:lnTo>
                    <a:pt x="123" y="105"/>
                  </a:lnTo>
                  <a:lnTo>
                    <a:pt x="132" y="100"/>
                  </a:lnTo>
                  <a:lnTo>
                    <a:pt x="135" y="91"/>
                  </a:lnTo>
                  <a:lnTo>
                    <a:pt x="143" y="82"/>
                  </a:lnTo>
                  <a:lnTo>
                    <a:pt x="152" y="77"/>
                  </a:lnTo>
                  <a:lnTo>
                    <a:pt x="158" y="68"/>
                  </a:lnTo>
                  <a:lnTo>
                    <a:pt x="166" y="65"/>
                  </a:lnTo>
                  <a:lnTo>
                    <a:pt x="175" y="60"/>
                  </a:lnTo>
                  <a:lnTo>
                    <a:pt x="184" y="57"/>
                  </a:lnTo>
                  <a:lnTo>
                    <a:pt x="189" y="48"/>
                  </a:lnTo>
                  <a:lnTo>
                    <a:pt x="198" y="42"/>
                  </a:lnTo>
                  <a:lnTo>
                    <a:pt x="207" y="37"/>
                  </a:lnTo>
                  <a:lnTo>
                    <a:pt x="210" y="28"/>
                  </a:lnTo>
                  <a:lnTo>
                    <a:pt x="213" y="20"/>
                  </a:lnTo>
                  <a:lnTo>
                    <a:pt x="213" y="11"/>
                  </a:lnTo>
                  <a:lnTo>
                    <a:pt x="210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5" y="8"/>
                  </a:lnTo>
                  <a:lnTo>
                    <a:pt x="175" y="17"/>
                  </a:lnTo>
                  <a:lnTo>
                    <a:pt x="166" y="20"/>
                  </a:lnTo>
                  <a:lnTo>
                    <a:pt x="158" y="25"/>
                  </a:lnTo>
                  <a:lnTo>
                    <a:pt x="149" y="34"/>
                  </a:lnTo>
                  <a:lnTo>
                    <a:pt x="141" y="40"/>
                  </a:lnTo>
                  <a:lnTo>
                    <a:pt x="132" y="42"/>
                  </a:lnTo>
                  <a:lnTo>
                    <a:pt x="123" y="42"/>
                  </a:lnTo>
                  <a:lnTo>
                    <a:pt x="123" y="54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7" y="68"/>
                  </a:lnTo>
                  <a:lnTo>
                    <a:pt x="89" y="77"/>
                  </a:lnTo>
                  <a:lnTo>
                    <a:pt x="83" y="85"/>
                  </a:lnTo>
                  <a:lnTo>
                    <a:pt x="80" y="94"/>
                  </a:lnTo>
                  <a:lnTo>
                    <a:pt x="71" y="100"/>
                  </a:lnTo>
                  <a:lnTo>
                    <a:pt x="66" y="108"/>
                  </a:lnTo>
                  <a:lnTo>
                    <a:pt x="63" y="117"/>
                  </a:lnTo>
                  <a:lnTo>
                    <a:pt x="63" y="125"/>
                  </a:lnTo>
                  <a:lnTo>
                    <a:pt x="57" y="134"/>
                  </a:lnTo>
                  <a:lnTo>
                    <a:pt x="51" y="142"/>
                  </a:lnTo>
                  <a:lnTo>
                    <a:pt x="46" y="151"/>
                  </a:lnTo>
                  <a:lnTo>
                    <a:pt x="40" y="162"/>
                  </a:lnTo>
                  <a:lnTo>
                    <a:pt x="37" y="171"/>
                  </a:lnTo>
                  <a:lnTo>
                    <a:pt x="46" y="177"/>
                  </a:lnTo>
                  <a:lnTo>
                    <a:pt x="54" y="180"/>
                  </a:lnTo>
                  <a:lnTo>
                    <a:pt x="57" y="188"/>
                  </a:lnTo>
                  <a:lnTo>
                    <a:pt x="48" y="185"/>
                  </a:lnTo>
                  <a:lnTo>
                    <a:pt x="40" y="185"/>
                  </a:lnTo>
                  <a:lnTo>
                    <a:pt x="31" y="188"/>
                  </a:lnTo>
                  <a:lnTo>
                    <a:pt x="23" y="200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23" y="237"/>
                  </a:lnTo>
                  <a:lnTo>
                    <a:pt x="14" y="242"/>
                  </a:lnTo>
                  <a:lnTo>
                    <a:pt x="8" y="251"/>
                  </a:lnTo>
                  <a:lnTo>
                    <a:pt x="0" y="260"/>
                  </a:lnTo>
                  <a:lnTo>
                    <a:pt x="23" y="2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71720" y="444168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49" y="47"/>
                  </a:moveTo>
                  <a:lnTo>
                    <a:pt x="44" y="58"/>
                  </a:lnTo>
                  <a:lnTo>
                    <a:pt x="35" y="58"/>
                  </a:lnTo>
                  <a:lnTo>
                    <a:pt x="30" y="66"/>
                  </a:lnTo>
                  <a:lnTo>
                    <a:pt x="30" y="75"/>
                  </a:lnTo>
                  <a:lnTo>
                    <a:pt x="30" y="83"/>
                  </a:lnTo>
                  <a:lnTo>
                    <a:pt x="30" y="91"/>
                  </a:lnTo>
                  <a:lnTo>
                    <a:pt x="22" y="94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8" y="139"/>
                  </a:lnTo>
                  <a:lnTo>
                    <a:pt x="16" y="139"/>
                  </a:lnTo>
                  <a:lnTo>
                    <a:pt x="27" y="147"/>
                  </a:lnTo>
                  <a:lnTo>
                    <a:pt x="33" y="156"/>
                  </a:lnTo>
                  <a:lnTo>
                    <a:pt x="41" y="156"/>
                  </a:lnTo>
                  <a:lnTo>
                    <a:pt x="46" y="147"/>
                  </a:lnTo>
                  <a:lnTo>
                    <a:pt x="52" y="139"/>
                  </a:lnTo>
                  <a:lnTo>
                    <a:pt x="55" y="130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71" y="108"/>
                  </a:lnTo>
                  <a:lnTo>
                    <a:pt x="80" y="108"/>
                  </a:lnTo>
                  <a:lnTo>
                    <a:pt x="82" y="100"/>
                  </a:lnTo>
                  <a:lnTo>
                    <a:pt x="82" y="91"/>
                  </a:lnTo>
                  <a:lnTo>
                    <a:pt x="82" y="83"/>
                  </a:lnTo>
                  <a:lnTo>
                    <a:pt x="82" y="75"/>
                  </a:lnTo>
                  <a:lnTo>
                    <a:pt x="82" y="66"/>
                  </a:lnTo>
                  <a:lnTo>
                    <a:pt x="85" y="58"/>
                  </a:lnTo>
                  <a:lnTo>
                    <a:pt x="93" y="52"/>
                  </a:lnTo>
                  <a:lnTo>
                    <a:pt x="102" y="47"/>
                  </a:lnTo>
                  <a:lnTo>
                    <a:pt x="107" y="39"/>
                  </a:lnTo>
                  <a:lnTo>
                    <a:pt x="115" y="36"/>
                  </a:lnTo>
                  <a:lnTo>
                    <a:pt x="121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38" y="5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8" y="11"/>
                  </a:lnTo>
                  <a:lnTo>
                    <a:pt x="82" y="19"/>
                  </a:lnTo>
                  <a:lnTo>
                    <a:pt x="80" y="27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69" y="61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49" y="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0800" y="524844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1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6" y="21"/>
                  </a:lnTo>
                  <a:lnTo>
                    <a:pt x="23" y="27"/>
                  </a:lnTo>
                  <a:lnTo>
                    <a:pt x="18" y="18"/>
                  </a:lnTo>
                  <a:lnTo>
                    <a:pt x="13" y="9"/>
                  </a:lnTo>
                  <a:lnTo>
                    <a:pt x="6" y="21"/>
                  </a:lnTo>
                  <a:lnTo>
                    <a:pt x="9" y="6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57400" y="5361120"/>
              <a:ext cx="27000" cy="72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6" y="0"/>
                  </a:moveTo>
                  <a:lnTo>
                    <a:pt x="5" y="19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0" y="28"/>
                  </a:lnTo>
                  <a:lnTo>
                    <a:pt x="16" y="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2480" y="4357800"/>
              <a:ext cx="88920" cy="73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0"/>
                  </a:moveTo>
                  <a:lnTo>
                    <a:pt x="20" y="19"/>
                  </a:lnTo>
                  <a:lnTo>
                    <a:pt x="20" y="28"/>
                  </a:lnTo>
                  <a:lnTo>
                    <a:pt x="28" y="33"/>
                  </a:lnTo>
                  <a:lnTo>
                    <a:pt x="28" y="42"/>
                  </a:lnTo>
                  <a:lnTo>
                    <a:pt x="37" y="45"/>
                  </a:lnTo>
                  <a:lnTo>
                    <a:pt x="46" y="45"/>
                  </a:lnTo>
                  <a:lnTo>
                    <a:pt x="49" y="36"/>
                  </a:lnTo>
                  <a:lnTo>
                    <a:pt x="55" y="28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26" y="16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228600" y="6137280"/>
              <a:ext cx="611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993600" y="6272280"/>
              <a:ext cx="47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HO European Centre for Environment and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72040" y="743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0"/>
                  </a:moveTo>
                  <a:lnTo>
                    <a:pt x="8" y="8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5" y="37"/>
                  </a:lnTo>
                  <a:lnTo>
                    <a:pt x="11" y="46"/>
                  </a:lnTo>
                  <a:lnTo>
                    <a:pt x="19" y="49"/>
                  </a:lnTo>
                  <a:lnTo>
                    <a:pt x="31" y="52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7" y="55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31" y="14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97360" y="4836960"/>
              <a:ext cx="788760" cy="408240"/>
            </a:xfrm>
            <a:custGeom>
              <a:avLst/>
              <a:gdLst/>
              <a:ahLst/>
              <a:rect l="l" t="t" r="r" b="b"/>
              <a:pathLst>
                <a:path w="497" h="257">
                  <a:moveTo>
                    <a:pt x="0" y="193"/>
                  </a:moveTo>
                  <a:lnTo>
                    <a:pt x="24" y="189"/>
                  </a:lnTo>
                  <a:lnTo>
                    <a:pt x="32" y="182"/>
                  </a:lnTo>
                  <a:lnTo>
                    <a:pt x="40" y="174"/>
                  </a:lnTo>
                  <a:lnTo>
                    <a:pt x="46" y="164"/>
                  </a:lnTo>
                  <a:lnTo>
                    <a:pt x="45" y="155"/>
                  </a:lnTo>
                  <a:lnTo>
                    <a:pt x="52" y="149"/>
                  </a:lnTo>
                  <a:lnTo>
                    <a:pt x="60" y="140"/>
                  </a:lnTo>
                  <a:lnTo>
                    <a:pt x="66" y="131"/>
                  </a:lnTo>
                  <a:lnTo>
                    <a:pt x="69" y="123"/>
                  </a:lnTo>
                  <a:lnTo>
                    <a:pt x="74" y="114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7" y="95"/>
                  </a:lnTo>
                  <a:lnTo>
                    <a:pt x="104" y="88"/>
                  </a:lnTo>
                  <a:lnTo>
                    <a:pt x="109" y="78"/>
                  </a:lnTo>
                  <a:lnTo>
                    <a:pt x="116" y="70"/>
                  </a:lnTo>
                  <a:lnTo>
                    <a:pt x="118" y="60"/>
                  </a:lnTo>
                  <a:lnTo>
                    <a:pt x="128" y="53"/>
                  </a:lnTo>
                  <a:lnTo>
                    <a:pt x="131" y="44"/>
                  </a:lnTo>
                  <a:lnTo>
                    <a:pt x="137" y="37"/>
                  </a:lnTo>
                  <a:lnTo>
                    <a:pt x="144" y="30"/>
                  </a:lnTo>
                  <a:lnTo>
                    <a:pt x="153" y="22"/>
                  </a:lnTo>
                  <a:lnTo>
                    <a:pt x="159" y="15"/>
                  </a:lnTo>
                  <a:lnTo>
                    <a:pt x="168" y="10"/>
                  </a:lnTo>
                  <a:lnTo>
                    <a:pt x="175" y="6"/>
                  </a:lnTo>
                  <a:lnTo>
                    <a:pt x="187" y="6"/>
                  </a:lnTo>
                  <a:lnTo>
                    <a:pt x="193" y="0"/>
                  </a:lnTo>
                  <a:lnTo>
                    <a:pt x="202" y="7"/>
                  </a:lnTo>
                  <a:lnTo>
                    <a:pt x="215" y="15"/>
                  </a:lnTo>
                  <a:lnTo>
                    <a:pt x="207" y="14"/>
                  </a:lnTo>
                  <a:lnTo>
                    <a:pt x="205" y="22"/>
                  </a:lnTo>
                  <a:lnTo>
                    <a:pt x="205" y="31"/>
                  </a:lnTo>
                  <a:lnTo>
                    <a:pt x="215" y="34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40" y="33"/>
                  </a:lnTo>
                  <a:lnTo>
                    <a:pt x="243" y="40"/>
                  </a:lnTo>
                  <a:lnTo>
                    <a:pt x="236" y="45"/>
                  </a:lnTo>
                  <a:lnTo>
                    <a:pt x="228" y="49"/>
                  </a:lnTo>
                  <a:lnTo>
                    <a:pt x="220" y="55"/>
                  </a:lnTo>
                  <a:lnTo>
                    <a:pt x="213" y="62"/>
                  </a:lnTo>
                  <a:lnTo>
                    <a:pt x="222" y="64"/>
                  </a:lnTo>
                  <a:lnTo>
                    <a:pt x="226" y="71"/>
                  </a:lnTo>
                  <a:lnTo>
                    <a:pt x="229" y="78"/>
                  </a:lnTo>
                  <a:lnTo>
                    <a:pt x="232" y="84"/>
                  </a:lnTo>
                  <a:lnTo>
                    <a:pt x="232" y="94"/>
                  </a:lnTo>
                  <a:lnTo>
                    <a:pt x="230" y="103"/>
                  </a:lnTo>
                  <a:lnTo>
                    <a:pt x="239" y="163"/>
                  </a:lnTo>
                  <a:lnTo>
                    <a:pt x="190" y="125"/>
                  </a:lnTo>
                  <a:lnTo>
                    <a:pt x="236" y="116"/>
                  </a:lnTo>
                  <a:lnTo>
                    <a:pt x="246" y="110"/>
                  </a:lnTo>
                  <a:lnTo>
                    <a:pt x="251" y="105"/>
                  </a:lnTo>
                  <a:lnTo>
                    <a:pt x="259" y="94"/>
                  </a:lnTo>
                  <a:lnTo>
                    <a:pt x="270" y="93"/>
                  </a:lnTo>
                  <a:lnTo>
                    <a:pt x="277" y="90"/>
                  </a:lnTo>
                  <a:lnTo>
                    <a:pt x="288" y="86"/>
                  </a:lnTo>
                  <a:lnTo>
                    <a:pt x="295" y="83"/>
                  </a:lnTo>
                  <a:lnTo>
                    <a:pt x="303" y="74"/>
                  </a:lnTo>
                  <a:lnTo>
                    <a:pt x="313" y="75"/>
                  </a:lnTo>
                  <a:lnTo>
                    <a:pt x="320" y="80"/>
                  </a:lnTo>
                  <a:lnTo>
                    <a:pt x="329" y="76"/>
                  </a:lnTo>
                  <a:lnTo>
                    <a:pt x="338" y="74"/>
                  </a:lnTo>
                  <a:lnTo>
                    <a:pt x="345" y="78"/>
                  </a:lnTo>
                  <a:lnTo>
                    <a:pt x="351" y="86"/>
                  </a:lnTo>
                  <a:lnTo>
                    <a:pt x="357" y="92"/>
                  </a:lnTo>
                  <a:lnTo>
                    <a:pt x="365" y="90"/>
                  </a:lnTo>
                  <a:lnTo>
                    <a:pt x="379" y="94"/>
                  </a:lnTo>
                  <a:lnTo>
                    <a:pt x="385" y="99"/>
                  </a:lnTo>
                  <a:lnTo>
                    <a:pt x="394" y="102"/>
                  </a:lnTo>
                  <a:lnTo>
                    <a:pt x="403" y="107"/>
                  </a:lnTo>
                  <a:lnTo>
                    <a:pt x="405" y="115"/>
                  </a:lnTo>
                  <a:lnTo>
                    <a:pt x="413" y="121"/>
                  </a:lnTo>
                  <a:lnTo>
                    <a:pt x="423" y="125"/>
                  </a:lnTo>
                  <a:lnTo>
                    <a:pt x="431" y="128"/>
                  </a:lnTo>
                  <a:lnTo>
                    <a:pt x="440" y="132"/>
                  </a:lnTo>
                  <a:lnTo>
                    <a:pt x="455" y="137"/>
                  </a:lnTo>
                  <a:lnTo>
                    <a:pt x="468" y="141"/>
                  </a:lnTo>
                  <a:lnTo>
                    <a:pt x="473" y="148"/>
                  </a:lnTo>
                  <a:lnTo>
                    <a:pt x="480" y="154"/>
                  </a:lnTo>
                  <a:lnTo>
                    <a:pt x="485" y="161"/>
                  </a:lnTo>
                  <a:lnTo>
                    <a:pt x="488" y="172"/>
                  </a:lnTo>
                  <a:lnTo>
                    <a:pt x="492" y="178"/>
                  </a:lnTo>
                  <a:lnTo>
                    <a:pt x="493" y="187"/>
                  </a:lnTo>
                  <a:lnTo>
                    <a:pt x="494" y="195"/>
                  </a:lnTo>
                  <a:lnTo>
                    <a:pt x="496" y="201"/>
                  </a:lnTo>
                  <a:lnTo>
                    <a:pt x="491" y="213"/>
                  </a:lnTo>
                  <a:lnTo>
                    <a:pt x="480" y="217"/>
                  </a:lnTo>
                  <a:lnTo>
                    <a:pt x="474" y="222"/>
                  </a:lnTo>
                  <a:lnTo>
                    <a:pt x="466" y="228"/>
                  </a:lnTo>
                  <a:lnTo>
                    <a:pt x="458" y="234"/>
                  </a:lnTo>
                  <a:lnTo>
                    <a:pt x="448" y="238"/>
                  </a:lnTo>
                  <a:lnTo>
                    <a:pt x="439" y="240"/>
                  </a:lnTo>
                  <a:lnTo>
                    <a:pt x="430" y="244"/>
                  </a:lnTo>
                  <a:lnTo>
                    <a:pt x="422" y="248"/>
                  </a:lnTo>
                  <a:lnTo>
                    <a:pt x="414" y="240"/>
                  </a:lnTo>
                  <a:lnTo>
                    <a:pt x="405" y="242"/>
                  </a:lnTo>
                  <a:lnTo>
                    <a:pt x="395" y="241"/>
                  </a:lnTo>
                  <a:lnTo>
                    <a:pt x="387" y="244"/>
                  </a:lnTo>
                  <a:lnTo>
                    <a:pt x="380" y="248"/>
                  </a:lnTo>
                  <a:lnTo>
                    <a:pt x="372" y="250"/>
                  </a:lnTo>
                  <a:lnTo>
                    <a:pt x="363" y="252"/>
                  </a:lnTo>
                  <a:lnTo>
                    <a:pt x="357" y="256"/>
                  </a:lnTo>
                  <a:lnTo>
                    <a:pt x="350" y="247"/>
                  </a:lnTo>
                  <a:lnTo>
                    <a:pt x="349" y="240"/>
                  </a:lnTo>
                  <a:lnTo>
                    <a:pt x="340" y="243"/>
                  </a:lnTo>
                  <a:lnTo>
                    <a:pt x="333" y="246"/>
                  </a:lnTo>
                  <a:lnTo>
                    <a:pt x="324" y="248"/>
                  </a:lnTo>
                  <a:lnTo>
                    <a:pt x="315" y="247"/>
                  </a:lnTo>
                  <a:lnTo>
                    <a:pt x="315" y="240"/>
                  </a:lnTo>
                  <a:lnTo>
                    <a:pt x="313" y="233"/>
                  </a:lnTo>
                  <a:lnTo>
                    <a:pt x="310" y="225"/>
                  </a:lnTo>
                  <a:lnTo>
                    <a:pt x="297" y="227"/>
                  </a:lnTo>
                  <a:lnTo>
                    <a:pt x="288" y="227"/>
                  </a:lnTo>
                  <a:lnTo>
                    <a:pt x="281" y="221"/>
                  </a:lnTo>
                  <a:lnTo>
                    <a:pt x="277" y="215"/>
                  </a:lnTo>
                  <a:lnTo>
                    <a:pt x="267" y="213"/>
                  </a:lnTo>
                  <a:lnTo>
                    <a:pt x="226" y="177"/>
                  </a:lnTo>
                  <a:lnTo>
                    <a:pt x="245" y="217"/>
                  </a:lnTo>
                  <a:lnTo>
                    <a:pt x="236" y="217"/>
                  </a:lnTo>
                  <a:lnTo>
                    <a:pt x="227" y="213"/>
                  </a:lnTo>
                  <a:lnTo>
                    <a:pt x="219" y="211"/>
                  </a:lnTo>
                  <a:lnTo>
                    <a:pt x="209" y="209"/>
                  </a:lnTo>
                  <a:lnTo>
                    <a:pt x="200" y="210"/>
                  </a:lnTo>
                  <a:lnTo>
                    <a:pt x="191" y="215"/>
                  </a:lnTo>
                  <a:lnTo>
                    <a:pt x="184" y="218"/>
                  </a:lnTo>
                  <a:lnTo>
                    <a:pt x="176" y="219"/>
                  </a:lnTo>
                  <a:lnTo>
                    <a:pt x="166" y="223"/>
                  </a:lnTo>
                  <a:lnTo>
                    <a:pt x="158" y="230"/>
                  </a:lnTo>
                  <a:lnTo>
                    <a:pt x="150" y="234"/>
                  </a:lnTo>
                  <a:lnTo>
                    <a:pt x="139" y="242"/>
                  </a:lnTo>
                  <a:lnTo>
                    <a:pt x="133" y="247"/>
                  </a:lnTo>
                  <a:lnTo>
                    <a:pt x="122" y="248"/>
                  </a:lnTo>
                  <a:lnTo>
                    <a:pt x="111" y="253"/>
                  </a:lnTo>
                  <a:lnTo>
                    <a:pt x="102" y="252"/>
                  </a:lnTo>
                  <a:lnTo>
                    <a:pt x="91" y="247"/>
                  </a:lnTo>
                  <a:lnTo>
                    <a:pt x="82" y="245"/>
                  </a:lnTo>
                  <a:lnTo>
                    <a:pt x="74" y="244"/>
                  </a:lnTo>
                  <a:lnTo>
                    <a:pt x="63" y="244"/>
                  </a:lnTo>
                  <a:lnTo>
                    <a:pt x="49" y="244"/>
                  </a:lnTo>
                  <a:lnTo>
                    <a:pt x="43" y="238"/>
                  </a:lnTo>
                  <a:lnTo>
                    <a:pt x="36" y="232"/>
                  </a:lnTo>
                  <a:lnTo>
                    <a:pt x="36" y="221"/>
                  </a:lnTo>
                  <a:lnTo>
                    <a:pt x="32" y="217"/>
                  </a:lnTo>
                  <a:lnTo>
                    <a:pt x="26" y="209"/>
                  </a:lnTo>
                  <a:lnTo>
                    <a:pt x="22" y="204"/>
                  </a:lnTo>
                  <a:lnTo>
                    <a:pt x="18" y="197"/>
                  </a:lnTo>
                  <a:lnTo>
                    <a:pt x="0" y="193"/>
                  </a:lnTo>
                  <a:lnTo>
                    <a:pt x="14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62120" y="3087720"/>
            <a:ext cx="790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05480" y="990720"/>
            <a:ext cx="686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O Air Quality Guidelines, 2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ed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iculate matter (PM10 or PM2.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3000" y="2895480"/>
            <a:ext cx="788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vailable information does not allow a jud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 be made of concentrations below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 effects would be expect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risk estimates for standard sett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d8a"/>
            </a:gs>
            <a:gs pos="50000">
              <a:srgbClr val="0f219b"/>
            </a:gs>
            <a:gs pos="100000">
              <a:srgbClr val="0d1d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28600" y="557280"/>
            <a:ext cx="8120160" cy="6118200"/>
            <a:chOff x="228600" y="557280"/>
            <a:chExt cx="8120160" cy="6118200"/>
          </a:xfrm>
        </p:grpSpPr>
        <p:sp>
          <p:nvSpPr>
            <p:cNvPr id="112" name=""/>
            <p:cNvSpPr/>
            <p:nvPr/>
          </p:nvSpPr>
          <p:spPr>
            <a:xfrm>
              <a:off x="2662200" y="20638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2" y="77"/>
                  </a:moveTo>
                  <a:lnTo>
                    <a:pt x="2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2" y="125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5" y="174"/>
                  </a:lnTo>
                  <a:lnTo>
                    <a:pt x="31" y="182"/>
                  </a:lnTo>
                  <a:lnTo>
                    <a:pt x="40" y="182"/>
                  </a:lnTo>
                  <a:lnTo>
                    <a:pt x="48" y="182"/>
                  </a:lnTo>
                  <a:lnTo>
                    <a:pt x="60" y="191"/>
                  </a:lnTo>
                  <a:lnTo>
                    <a:pt x="71" y="196"/>
                  </a:lnTo>
                  <a:lnTo>
                    <a:pt x="71" y="205"/>
                  </a:lnTo>
                  <a:lnTo>
                    <a:pt x="74" y="214"/>
                  </a:lnTo>
                  <a:lnTo>
                    <a:pt x="83" y="214"/>
                  </a:lnTo>
                  <a:lnTo>
                    <a:pt x="91" y="214"/>
                  </a:lnTo>
                  <a:lnTo>
                    <a:pt x="100" y="214"/>
                  </a:lnTo>
                  <a:lnTo>
                    <a:pt x="109" y="214"/>
                  </a:lnTo>
                  <a:lnTo>
                    <a:pt x="117" y="214"/>
                  </a:lnTo>
                  <a:lnTo>
                    <a:pt x="126" y="214"/>
                  </a:lnTo>
                  <a:lnTo>
                    <a:pt x="137" y="208"/>
                  </a:lnTo>
                  <a:lnTo>
                    <a:pt x="149" y="202"/>
                  </a:lnTo>
                  <a:lnTo>
                    <a:pt x="149" y="194"/>
                  </a:lnTo>
                  <a:lnTo>
                    <a:pt x="146" y="185"/>
                  </a:lnTo>
                  <a:lnTo>
                    <a:pt x="146" y="176"/>
                  </a:lnTo>
                  <a:lnTo>
                    <a:pt x="155" y="168"/>
                  </a:lnTo>
                  <a:lnTo>
                    <a:pt x="158" y="159"/>
                  </a:lnTo>
                  <a:lnTo>
                    <a:pt x="158" y="151"/>
                  </a:lnTo>
                  <a:lnTo>
                    <a:pt x="155" y="142"/>
                  </a:lnTo>
                  <a:lnTo>
                    <a:pt x="155" y="134"/>
                  </a:lnTo>
                  <a:lnTo>
                    <a:pt x="146" y="134"/>
                  </a:lnTo>
                  <a:lnTo>
                    <a:pt x="137" y="134"/>
                  </a:lnTo>
                  <a:lnTo>
                    <a:pt x="135" y="125"/>
                  </a:lnTo>
                  <a:lnTo>
                    <a:pt x="129" y="116"/>
                  </a:lnTo>
                  <a:lnTo>
                    <a:pt x="120" y="114"/>
                  </a:lnTo>
                  <a:lnTo>
                    <a:pt x="114" y="105"/>
                  </a:lnTo>
                  <a:lnTo>
                    <a:pt x="114" y="97"/>
                  </a:lnTo>
                  <a:lnTo>
                    <a:pt x="106" y="94"/>
                  </a:lnTo>
                  <a:lnTo>
                    <a:pt x="97" y="94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89" y="71"/>
                  </a:lnTo>
                  <a:lnTo>
                    <a:pt x="80" y="68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83" y="45"/>
                  </a:lnTo>
                  <a:lnTo>
                    <a:pt x="94" y="45"/>
                  </a:lnTo>
                  <a:lnTo>
                    <a:pt x="103" y="39"/>
                  </a:lnTo>
                  <a:lnTo>
                    <a:pt x="106" y="31"/>
                  </a:lnTo>
                  <a:lnTo>
                    <a:pt x="103" y="22"/>
                  </a:lnTo>
                  <a:lnTo>
                    <a:pt x="94" y="22"/>
                  </a:lnTo>
                  <a:lnTo>
                    <a:pt x="86" y="14"/>
                  </a:lnTo>
                  <a:lnTo>
                    <a:pt x="77" y="11"/>
                  </a:lnTo>
                  <a:lnTo>
                    <a:pt x="68" y="11"/>
                  </a:lnTo>
                  <a:lnTo>
                    <a:pt x="54" y="0"/>
                  </a:lnTo>
                  <a:lnTo>
                    <a:pt x="51" y="8"/>
                  </a:lnTo>
                  <a:lnTo>
                    <a:pt x="60" y="14"/>
                  </a:lnTo>
                  <a:lnTo>
                    <a:pt x="63" y="22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7" y="45"/>
                  </a:lnTo>
                  <a:lnTo>
                    <a:pt x="45" y="45"/>
                  </a:lnTo>
                  <a:lnTo>
                    <a:pt x="40" y="37"/>
                  </a:lnTo>
                  <a:lnTo>
                    <a:pt x="34" y="28"/>
                  </a:lnTo>
                  <a:lnTo>
                    <a:pt x="31" y="37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5" y="62"/>
                  </a:lnTo>
                  <a:lnTo>
                    <a:pt x="17" y="68"/>
                  </a:lnTo>
                  <a:lnTo>
                    <a:pt x="2" y="77"/>
                  </a:lnTo>
                  <a:lnTo>
                    <a:pt x="2" y="7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85760" y="557280"/>
              <a:ext cx="6975720" cy="5226120"/>
            </a:xfrm>
            <a:custGeom>
              <a:avLst/>
              <a:gdLst/>
              <a:ahLst/>
              <a:rect l="l" t="t" r="r" b="b"/>
              <a:pathLst>
                <a:path w="4394" h="3292">
                  <a:moveTo>
                    <a:pt x="4183" y="665"/>
                  </a:moveTo>
                  <a:lnTo>
                    <a:pt x="4174" y="685"/>
                  </a:lnTo>
                  <a:lnTo>
                    <a:pt x="4165" y="680"/>
                  </a:lnTo>
                  <a:lnTo>
                    <a:pt x="4154" y="671"/>
                  </a:lnTo>
                  <a:lnTo>
                    <a:pt x="4145" y="665"/>
                  </a:lnTo>
                  <a:lnTo>
                    <a:pt x="4136" y="657"/>
                  </a:lnTo>
                  <a:lnTo>
                    <a:pt x="4128" y="648"/>
                  </a:lnTo>
                  <a:lnTo>
                    <a:pt x="4122" y="639"/>
                  </a:lnTo>
                  <a:lnTo>
                    <a:pt x="4110" y="631"/>
                  </a:lnTo>
                  <a:lnTo>
                    <a:pt x="4104" y="622"/>
                  </a:lnTo>
                  <a:lnTo>
                    <a:pt x="4098" y="613"/>
                  </a:lnTo>
                  <a:lnTo>
                    <a:pt x="4093" y="605"/>
                  </a:lnTo>
                  <a:lnTo>
                    <a:pt x="4084" y="596"/>
                  </a:lnTo>
                  <a:lnTo>
                    <a:pt x="4075" y="593"/>
                  </a:lnTo>
                  <a:lnTo>
                    <a:pt x="4066" y="590"/>
                  </a:lnTo>
                  <a:lnTo>
                    <a:pt x="4058" y="587"/>
                  </a:lnTo>
                  <a:lnTo>
                    <a:pt x="4049" y="585"/>
                  </a:lnTo>
                  <a:lnTo>
                    <a:pt x="4037" y="585"/>
                  </a:lnTo>
                  <a:lnTo>
                    <a:pt x="4029" y="582"/>
                  </a:lnTo>
                  <a:lnTo>
                    <a:pt x="4023" y="573"/>
                  </a:lnTo>
                  <a:lnTo>
                    <a:pt x="4020" y="564"/>
                  </a:lnTo>
                  <a:lnTo>
                    <a:pt x="4011" y="556"/>
                  </a:lnTo>
                  <a:lnTo>
                    <a:pt x="4002" y="550"/>
                  </a:lnTo>
                  <a:lnTo>
                    <a:pt x="4002" y="541"/>
                  </a:lnTo>
                  <a:lnTo>
                    <a:pt x="3994" y="538"/>
                  </a:lnTo>
                  <a:lnTo>
                    <a:pt x="3982" y="538"/>
                  </a:lnTo>
                  <a:lnTo>
                    <a:pt x="3973" y="538"/>
                  </a:lnTo>
                  <a:lnTo>
                    <a:pt x="3965" y="538"/>
                  </a:lnTo>
                  <a:lnTo>
                    <a:pt x="3953" y="538"/>
                  </a:lnTo>
                  <a:lnTo>
                    <a:pt x="3947" y="530"/>
                  </a:lnTo>
                  <a:lnTo>
                    <a:pt x="3947" y="521"/>
                  </a:lnTo>
                  <a:lnTo>
                    <a:pt x="3938" y="512"/>
                  </a:lnTo>
                  <a:lnTo>
                    <a:pt x="3930" y="504"/>
                  </a:lnTo>
                  <a:lnTo>
                    <a:pt x="3930" y="495"/>
                  </a:lnTo>
                  <a:lnTo>
                    <a:pt x="3927" y="484"/>
                  </a:lnTo>
                  <a:lnTo>
                    <a:pt x="3918" y="481"/>
                  </a:lnTo>
                  <a:lnTo>
                    <a:pt x="3909" y="481"/>
                  </a:lnTo>
                  <a:lnTo>
                    <a:pt x="3901" y="481"/>
                  </a:lnTo>
                  <a:lnTo>
                    <a:pt x="3892" y="481"/>
                  </a:lnTo>
                  <a:lnTo>
                    <a:pt x="3883" y="481"/>
                  </a:lnTo>
                  <a:lnTo>
                    <a:pt x="3871" y="481"/>
                  </a:lnTo>
                  <a:lnTo>
                    <a:pt x="3863" y="481"/>
                  </a:lnTo>
                  <a:lnTo>
                    <a:pt x="3851" y="478"/>
                  </a:lnTo>
                  <a:lnTo>
                    <a:pt x="3842" y="472"/>
                  </a:lnTo>
                  <a:lnTo>
                    <a:pt x="3842" y="463"/>
                  </a:lnTo>
                  <a:lnTo>
                    <a:pt x="3842" y="455"/>
                  </a:lnTo>
                  <a:lnTo>
                    <a:pt x="3834" y="446"/>
                  </a:lnTo>
                  <a:lnTo>
                    <a:pt x="3825" y="446"/>
                  </a:lnTo>
                  <a:lnTo>
                    <a:pt x="3819" y="455"/>
                  </a:lnTo>
                  <a:lnTo>
                    <a:pt x="3810" y="458"/>
                  </a:lnTo>
                  <a:lnTo>
                    <a:pt x="3802" y="461"/>
                  </a:lnTo>
                  <a:lnTo>
                    <a:pt x="3793" y="461"/>
                  </a:lnTo>
                  <a:lnTo>
                    <a:pt x="3784" y="461"/>
                  </a:lnTo>
                  <a:lnTo>
                    <a:pt x="3775" y="461"/>
                  </a:lnTo>
                  <a:lnTo>
                    <a:pt x="3764" y="455"/>
                  </a:lnTo>
                  <a:lnTo>
                    <a:pt x="3755" y="452"/>
                  </a:lnTo>
                  <a:lnTo>
                    <a:pt x="3752" y="461"/>
                  </a:lnTo>
                  <a:lnTo>
                    <a:pt x="3755" y="469"/>
                  </a:lnTo>
                  <a:lnTo>
                    <a:pt x="3764" y="472"/>
                  </a:lnTo>
                  <a:lnTo>
                    <a:pt x="3755" y="475"/>
                  </a:lnTo>
                  <a:lnTo>
                    <a:pt x="3746" y="475"/>
                  </a:lnTo>
                  <a:lnTo>
                    <a:pt x="3737" y="478"/>
                  </a:lnTo>
                  <a:lnTo>
                    <a:pt x="3729" y="478"/>
                  </a:lnTo>
                  <a:lnTo>
                    <a:pt x="3720" y="478"/>
                  </a:lnTo>
                  <a:lnTo>
                    <a:pt x="3711" y="472"/>
                  </a:lnTo>
                  <a:lnTo>
                    <a:pt x="3703" y="463"/>
                  </a:lnTo>
                  <a:lnTo>
                    <a:pt x="3694" y="455"/>
                  </a:lnTo>
                  <a:lnTo>
                    <a:pt x="3685" y="452"/>
                  </a:lnTo>
                  <a:lnTo>
                    <a:pt x="3676" y="452"/>
                  </a:lnTo>
                  <a:lnTo>
                    <a:pt x="3668" y="449"/>
                  </a:lnTo>
                  <a:lnTo>
                    <a:pt x="3656" y="449"/>
                  </a:lnTo>
                  <a:lnTo>
                    <a:pt x="3647" y="449"/>
                  </a:lnTo>
                  <a:lnTo>
                    <a:pt x="3638" y="449"/>
                  </a:lnTo>
                  <a:lnTo>
                    <a:pt x="3636" y="440"/>
                  </a:lnTo>
                  <a:lnTo>
                    <a:pt x="3636" y="432"/>
                  </a:lnTo>
                  <a:lnTo>
                    <a:pt x="3630" y="423"/>
                  </a:lnTo>
                  <a:lnTo>
                    <a:pt x="3638" y="423"/>
                  </a:lnTo>
                  <a:lnTo>
                    <a:pt x="3636" y="414"/>
                  </a:lnTo>
                  <a:lnTo>
                    <a:pt x="3627" y="412"/>
                  </a:lnTo>
                  <a:lnTo>
                    <a:pt x="3618" y="409"/>
                  </a:lnTo>
                  <a:lnTo>
                    <a:pt x="3615" y="400"/>
                  </a:lnTo>
                  <a:lnTo>
                    <a:pt x="3609" y="391"/>
                  </a:lnTo>
                  <a:lnTo>
                    <a:pt x="3618" y="391"/>
                  </a:lnTo>
                  <a:lnTo>
                    <a:pt x="3627" y="391"/>
                  </a:lnTo>
                  <a:lnTo>
                    <a:pt x="3633" y="383"/>
                  </a:lnTo>
                  <a:lnTo>
                    <a:pt x="3624" y="377"/>
                  </a:lnTo>
                  <a:lnTo>
                    <a:pt x="3615" y="374"/>
                  </a:lnTo>
                  <a:lnTo>
                    <a:pt x="3606" y="363"/>
                  </a:lnTo>
                  <a:lnTo>
                    <a:pt x="3604" y="354"/>
                  </a:lnTo>
                  <a:lnTo>
                    <a:pt x="3598" y="345"/>
                  </a:lnTo>
                  <a:lnTo>
                    <a:pt x="3592" y="337"/>
                  </a:lnTo>
                  <a:lnTo>
                    <a:pt x="3583" y="322"/>
                  </a:lnTo>
                  <a:lnTo>
                    <a:pt x="3577" y="314"/>
                  </a:lnTo>
                  <a:lnTo>
                    <a:pt x="3586" y="305"/>
                  </a:lnTo>
                  <a:lnTo>
                    <a:pt x="3592" y="296"/>
                  </a:lnTo>
                  <a:lnTo>
                    <a:pt x="3595" y="288"/>
                  </a:lnTo>
                  <a:lnTo>
                    <a:pt x="3595" y="279"/>
                  </a:lnTo>
                  <a:lnTo>
                    <a:pt x="3586" y="276"/>
                  </a:lnTo>
                  <a:lnTo>
                    <a:pt x="3577" y="276"/>
                  </a:lnTo>
                  <a:lnTo>
                    <a:pt x="3569" y="276"/>
                  </a:lnTo>
                  <a:lnTo>
                    <a:pt x="3557" y="270"/>
                  </a:lnTo>
                  <a:lnTo>
                    <a:pt x="3548" y="259"/>
                  </a:lnTo>
                  <a:lnTo>
                    <a:pt x="3540" y="253"/>
                  </a:lnTo>
                  <a:lnTo>
                    <a:pt x="3531" y="250"/>
                  </a:lnTo>
                  <a:lnTo>
                    <a:pt x="3522" y="244"/>
                  </a:lnTo>
                  <a:lnTo>
                    <a:pt x="3510" y="236"/>
                  </a:lnTo>
                  <a:lnTo>
                    <a:pt x="3502" y="233"/>
                  </a:lnTo>
                  <a:lnTo>
                    <a:pt x="3493" y="227"/>
                  </a:lnTo>
                  <a:lnTo>
                    <a:pt x="3484" y="224"/>
                  </a:lnTo>
                  <a:lnTo>
                    <a:pt x="3475" y="219"/>
                  </a:lnTo>
                  <a:lnTo>
                    <a:pt x="3467" y="213"/>
                  </a:lnTo>
                  <a:lnTo>
                    <a:pt x="3458" y="207"/>
                  </a:lnTo>
                  <a:lnTo>
                    <a:pt x="3449" y="198"/>
                  </a:lnTo>
                  <a:lnTo>
                    <a:pt x="3441" y="193"/>
                  </a:lnTo>
                  <a:lnTo>
                    <a:pt x="3432" y="187"/>
                  </a:lnTo>
                  <a:lnTo>
                    <a:pt x="3423" y="184"/>
                  </a:lnTo>
                  <a:lnTo>
                    <a:pt x="3414" y="178"/>
                  </a:lnTo>
                  <a:lnTo>
                    <a:pt x="3406" y="172"/>
                  </a:lnTo>
                  <a:lnTo>
                    <a:pt x="3400" y="164"/>
                  </a:lnTo>
                  <a:lnTo>
                    <a:pt x="3397" y="155"/>
                  </a:lnTo>
                  <a:lnTo>
                    <a:pt x="3394" y="146"/>
                  </a:lnTo>
                  <a:lnTo>
                    <a:pt x="3388" y="138"/>
                  </a:lnTo>
                  <a:lnTo>
                    <a:pt x="3382" y="129"/>
                  </a:lnTo>
                  <a:lnTo>
                    <a:pt x="3388" y="121"/>
                  </a:lnTo>
                  <a:lnTo>
                    <a:pt x="3379" y="121"/>
                  </a:lnTo>
                  <a:lnTo>
                    <a:pt x="3371" y="121"/>
                  </a:lnTo>
                  <a:lnTo>
                    <a:pt x="3362" y="121"/>
                  </a:lnTo>
                  <a:lnTo>
                    <a:pt x="3359" y="129"/>
                  </a:lnTo>
                  <a:lnTo>
                    <a:pt x="3353" y="138"/>
                  </a:lnTo>
                  <a:lnTo>
                    <a:pt x="3347" y="146"/>
                  </a:lnTo>
                  <a:lnTo>
                    <a:pt x="3339" y="152"/>
                  </a:lnTo>
                  <a:lnTo>
                    <a:pt x="3327" y="158"/>
                  </a:lnTo>
                  <a:lnTo>
                    <a:pt x="3318" y="158"/>
                  </a:lnTo>
                  <a:lnTo>
                    <a:pt x="3310" y="167"/>
                  </a:lnTo>
                  <a:lnTo>
                    <a:pt x="3307" y="175"/>
                  </a:lnTo>
                  <a:lnTo>
                    <a:pt x="3307" y="184"/>
                  </a:lnTo>
                  <a:lnTo>
                    <a:pt x="3304" y="193"/>
                  </a:lnTo>
                  <a:lnTo>
                    <a:pt x="3295" y="195"/>
                  </a:lnTo>
                  <a:lnTo>
                    <a:pt x="3295" y="204"/>
                  </a:lnTo>
                  <a:lnTo>
                    <a:pt x="3298" y="213"/>
                  </a:lnTo>
                  <a:lnTo>
                    <a:pt x="3304" y="221"/>
                  </a:lnTo>
                  <a:lnTo>
                    <a:pt x="3310" y="230"/>
                  </a:lnTo>
                  <a:lnTo>
                    <a:pt x="3315" y="239"/>
                  </a:lnTo>
                  <a:lnTo>
                    <a:pt x="3318" y="250"/>
                  </a:lnTo>
                  <a:lnTo>
                    <a:pt x="3321" y="259"/>
                  </a:lnTo>
                  <a:lnTo>
                    <a:pt x="3321" y="247"/>
                  </a:lnTo>
                  <a:lnTo>
                    <a:pt x="3318" y="239"/>
                  </a:lnTo>
                  <a:lnTo>
                    <a:pt x="3315" y="230"/>
                  </a:lnTo>
                  <a:lnTo>
                    <a:pt x="3307" y="224"/>
                  </a:lnTo>
                  <a:lnTo>
                    <a:pt x="3298" y="216"/>
                  </a:lnTo>
                  <a:lnTo>
                    <a:pt x="3292" y="207"/>
                  </a:lnTo>
                  <a:lnTo>
                    <a:pt x="3292" y="198"/>
                  </a:lnTo>
                  <a:lnTo>
                    <a:pt x="3295" y="190"/>
                  </a:lnTo>
                  <a:lnTo>
                    <a:pt x="3292" y="181"/>
                  </a:lnTo>
                  <a:lnTo>
                    <a:pt x="3283" y="172"/>
                  </a:lnTo>
                  <a:lnTo>
                    <a:pt x="3275" y="170"/>
                  </a:lnTo>
                  <a:lnTo>
                    <a:pt x="3266" y="164"/>
                  </a:lnTo>
                  <a:lnTo>
                    <a:pt x="3257" y="161"/>
                  </a:lnTo>
                  <a:lnTo>
                    <a:pt x="3245" y="155"/>
                  </a:lnTo>
                  <a:lnTo>
                    <a:pt x="3237" y="155"/>
                  </a:lnTo>
                  <a:lnTo>
                    <a:pt x="3228" y="155"/>
                  </a:lnTo>
                  <a:lnTo>
                    <a:pt x="3219" y="155"/>
                  </a:lnTo>
                  <a:lnTo>
                    <a:pt x="3213" y="164"/>
                  </a:lnTo>
                  <a:lnTo>
                    <a:pt x="3208" y="172"/>
                  </a:lnTo>
                  <a:lnTo>
                    <a:pt x="3196" y="175"/>
                  </a:lnTo>
                  <a:lnTo>
                    <a:pt x="3184" y="175"/>
                  </a:lnTo>
                  <a:lnTo>
                    <a:pt x="3173" y="175"/>
                  </a:lnTo>
                  <a:lnTo>
                    <a:pt x="3167" y="167"/>
                  </a:lnTo>
                  <a:lnTo>
                    <a:pt x="3179" y="161"/>
                  </a:lnTo>
                  <a:lnTo>
                    <a:pt x="3187" y="161"/>
                  </a:lnTo>
                  <a:lnTo>
                    <a:pt x="3196" y="161"/>
                  </a:lnTo>
                  <a:lnTo>
                    <a:pt x="3205" y="155"/>
                  </a:lnTo>
                  <a:lnTo>
                    <a:pt x="3208" y="146"/>
                  </a:lnTo>
                  <a:lnTo>
                    <a:pt x="3208" y="138"/>
                  </a:lnTo>
                  <a:lnTo>
                    <a:pt x="3205" y="129"/>
                  </a:lnTo>
                  <a:lnTo>
                    <a:pt x="3199" y="121"/>
                  </a:lnTo>
                  <a:lnTo>
                    <a:pt x="3190" y="112"/>
                  </a:lnTo>
                  <a:lnTo>
                    <a:pt x="3184" y="103"/>
                  </a:lnTo>
                  <a:lnTo>
                    <a:pt x="3193" y="97"/>
                  </a:lnTo>
                  <a:lnTo>
                    <a:pt x="3202" y="92"/>
                  </a:lnTo>
                  <a:lnTo>
                    <a:pt x="3205" y="83"/>
                  </a:lnTo>
                  <a:lnTo>
                    <a:pt x="3208" y="74"/>
                  </a:lnTo>
                  <a:lnTo>
                    <a:pt x="3208" y="66"/>
                  </a:lnTo>
                  <a:lnTo>
                    <a:pt x="3202" y="57"/>
                  </a:lnTo>
                  <a:lnTo>
                    <a:pt x="3199" y="48"/>
                  </a:lnTo>
                  <a:lnTo>
                    <a:pt x="3199" y="40"/>
                  </a:lnTo>
                  <a:lnTo>
                    <a:pt x="3199" y="31"/>
                  </a:lnTo>
                  <a:lnTo>
                    <a:pt x="3196" y="23"/>
                  </a:lnTo>
                  <a:lnTo>
                    <a:pt x="3190" y="14"/>
                  </a:lnTo>
                  <a:lnTo>
                    <a:pt x="3184" y="5"/>
                  </a:lnTo>
                  <a:lnTo>
                    <a:pt x="3176" y="0"/>
                  </a:lnTo>
                  <a:lnTo>
                    <a:pt x="3167" y="2"/>
                  </a:lnTo>
                  <a:lnTo>
                    <a:pt x="3158" y="8"/>
                  </a:lnTo>
                  <a:lnTo>
                    <a:pt x="3149" y="14"/>
                  </a:lnTo>
                  <a:lnTo>
                    <a:pt x="3141" y="17"/>
                  </a:lnTo>
                  <a:lnTo>
                    <a:pt x="3132" y="23"/>
                  </a:lnTo>
                  <a:lnTo>
                    <a:pt x="3132" y="31"/>
                  </a:lnTo>
                  <a:lnTo>
                    <a:pt x="3123" y="25"/>
                  </a:lnTo>
                  <a:lnTo>
                    <a:pt x="3114" y="17"/>
                  </a:lnTo>
                  <a:lnTo>
                    <a:pt x="3106" y="14"/>
                  </a:lnTo>
                  <a:lnTo>
                    <a:pt x="3097" y="14"/>
                  </a:lnTo>
                  <a:lnTo>
                    <a:pt x="3088" y="14"/>
                  </a:lnTo>
                  <a:lnTo>
                    <a:pt x="3080" y="14"/>
                  </a:lnTo>
                  <a:lnTo>
                    <a:pt x="3071" y="14"/>
                  </a:lnTo>
                  <a:lnTo>
                    <a:pt x="3071" y="23"/>
                  </a:lnTo>
                  <a:lnTo>
                    <a:pt x="3071" y="31"/>
                  </a:lnTo>
                  <a:lnTo>
                    <a:pt x="3071" y="40"/>
                  </a:lnTo>
                  <a:lnTo>
                    <a:pt x="3068" y="48"/>
                  </a:lnTo>
                  <a:lnTo>
                    <a:pt x="3062" y="57"/>
                  </a:lnTo>
                  <a:lnTo>
                    <a:pt x="3059" y="66"/>
                  </a:lnTo>
                  <a:lnTo>
                    <a:pt x="3059" y="74"/>
                  </a:lnTo>
                  <a:lnTo>
                    <a:pt x="3059" y="83"/>
                  </a:lnTo>
                  <a:lnTo>
                    <a:pt x="3068" y="89"/>
                  </a:lnTo>
                  <a:lnTo>
                    <a:pt x="3077" y="92"/>
                  </a:lnTo>
                  <a:lnTo>
                    <a:pt x="3085" y="97"/>
                  </a:lnTo>
                  <a:lnTo>
                    <a:pt x="3097" y="103"/>
                  </a:lnTo>
                  <a:lnTo>
                    <a:pt x="3106" y="103"/>
                  </a:lnTo>
                  <a:lnTo>
                    <a:pt x="3114" y="103"/>
                  </a:lnTo>
                  <a:lnTo>
                    <a:pt x="3114" y="95"/>
                  </a:lnTo>
                  <a:lnTo>
                    <a:pt x="3123" y="95"/>
                  </a:lnTo>
                  <a:lnTo>
                    <a:pt x="3114" y="103"/>
                  </a:lnTo>
                  <a:lnTo>
                    <a:pt x="3106" y="103"/>
                  </a:lnTo>
                  <a:lnTo>
                    <a:pt x="3097" y="103"/>
                  </a:lnTo>
                  <a:lnTo>
                    <a:pt x="3088" y="109"/>
                  </a:lnTo>
                  <a:lnTo>
                    <a:pt x="3085" y="118"/>
                  </a:lnTo>
                  <a:lnTo>
                    <a:pt x="3085" y="126"/>
                  </a:lnTo>
                  <a:lnTo>
                    <a:pt x="3080" y="135"/>
                  </a:lnTo>
                  <a:lnTo>
                    <a:pt x="3088" y="138"/>
                  </a:lnTo>
                  <a:lnTo>
                    <a:pt x="3082" y="146"/>
                  </a:lnTo>
                  <a:lnTo>
                    <a:pt x="3080" y="155"/>
                  </a:lnTo>
                  <a:lnTo>
                    <a:pt x="3074" y="164"/>
                  </a:lnTo>
                  <a:lnTo>
                    <a:pt x="3074" y="172"/>
                  </a:lnTo>
                  <a:lnTo>
                    <a:pt x="3074" y="181"/>
                  </a:lnTo>
                  <a:lnTo>
                    <a:pt x="3074" y="190"/>
                  </a:lnTo>
                  <a:lnTo>
                    <a:pt x="3085" y="190"/>
                  </a:lnTo>
                  <a:lnTo>
                    <a:pt x="3094" y="190"/>
                  </a:lnTo>
                  <a:lnTo>
                    <a:pt x="3088" y="198"/>
                  </a:lnTo>
                  <a:lnTo>
                    <a:pt x="3080" y="204"/>
                  </a:lnTo>
                  <a:lnTo>
                    <a:pt x="3074" y="213"/>
                  </a:lnTo>
                  <a:lnTo>
                    <a:pt x="3071" y="221"/>
                  </a:lnTo>
                  <a:lnTo>
                    <a:pt x="3071" y="230"/>
                  </a:lnTo>
                  <a:lnTo>
                    <a:pt x="3071" y="239"/>
                  </a:lnTo>
                  <a:lnTo>
                    <a:pt x="3068" y="247"/>
                  </a:lnTo>
                  <a:lnTo>
                    <a:pt x="3062" y="256"/>
                  </a:lnTo>
                  <a:lnTo>
                    <a:pt x="3059" y="265"/>
                  </a:lnTo>
                  <a:lnTo>
                    <a:pt x="3059" y="273"/>
                  </a:lnTo>
                  <a:lnTo>
                    <a:pt x="3059" y="282"/>
                  </a:lnTo>
                  <a:lnTo>
                    <a:pt x="3059" y="291"/>
                  </a:lnTo>
                  <a:lnTo>
                    <a:pt x="3059" y="299"/>
                  </a:lnTo>
                  <a:lnTo>
                    <a:pt x="3059" y="311"/>
                  </a:lnTo>
                  <a:lnTo>
                    <a:pt x="3065" y="319"/>
                  </a:lnTo>
                  <a:lnTo>
                    <a:pt x="3074" y="325"/>
                  </a:lnTo>
                  <a:lnTo>
                    <a:pt x="3082" y="328"/>
                  </a:lnTo>
                  <a:lnTo>
                    <a:pt x="3082" y="337"/>
                  </a:lnTo>
                  <a:lnTo>
                    <a:pt x="3082" y="345"/>
                  </a:lnTo>
                  <a:lnTo>
                    <a:pt x="3085" y="354"/>
                  </a:lnTo>
                  <a:lnTo>
                    <a:pt x="3085" y="363"/>
                  </a:lnTo>
                  <a:lnTo>
                    <a:pt x="3088" y="371"/>
                  </a:lnTo>
                  <a:lnTo>
                    <a:pt x="3088" y="380"/>
                  </a:lnTo>
                  <a:lnTo>
                    <a:pt x="3091" y="389"/>
                  </a:lnTo>
                  <a:lnTo>
                    <a:pt x="3094" y="397"/>
                  </a:lnTo>
                  <a:lnTo>
                    <a:pt x="3097" y="406"/>
                  </a:lnTo>
                  <a:lnTo>
                    <a:pt x="3109" y="412"/>
                  </a:lnTo>
                  <a:lnTo>
                    <a:pt x="3117" y="412"/>
                  </a:lnTo>
                  <a:lnTo>
                    <a:pt x="3126" y="412"/>
                  </a:lnTo>
                  <a:lnTo>
                    <a:pt x="3135" y="412"/>
                  </a:lnTo>
                  <a:lnTo>
                    <a:pt x="3135" y="403"/>
                  </a:lnTo>
                  <a:lnTo>
                    <a:pt x="3138" y="394"/>
                  </a:lnTo>
                  <a:lnTo>
                    <a:pt x="3147" y="391"/>
                  </a:lnTo>
                  <a:lnTo>
                    <a:pt x="3155" y="391"/>
                  </a:lnTo>
                  <a:lnTo>
                    <a:pt x="3164" y="394"/>
                  </a:lnTo>
                  <a:lnTo>
                    <a:pt x="3167" y="403"/>
                  </a:lnTo>
                  <a:lnTo>
                    <a:pt x="3167" y="412"/>
                  </a:lnTo>
                  <a:lnTo>
                    <a:pt x="3164" y="420"/>
                  </a:lnTo>
                  <a:lnTo>
                    <a:pt x="3155" y="423"/>
                  </a:lnTo>
                  <a:lnTo>
                    <a:pt x="3152" y="432"/>
                  </a:lnTo>
                  <a:lnTo>
                    <a:pt x="3144" y="438"/>
                  </a:lnTo>
                  <a:lnTo>
                    <a:pt x="3138" y="429"/>
                  </a:lnTo>
                  <a:lnTo>
                    <a:pt x="3129" y="420"/>
                  </a:lnTo>
                  <a:lnTo>
                    <a:pt x="3120" y="420"/>
                  </a:lnTo>
                  <a:lnTo>
                    <a:pt x="3114" y="429"/>
                  </a:lnTo>
                  <a:lnTo>
                    <a:pt x="3114" y="438"/>
                  </a:lnTo>
                  <a:lnTo>
                    <a:pt x="3114" y="446"/>
                  </a:lnTo>
                  <a:lnTo>
                    <a:pt x="3123" y="452"/>
                  </a:lnTo>
                  <a:lnTo>
                    <a:pt x="3132" y="452"/>
                  </a:lnTo>
                  <a:lnTo>
                    <a:pt x="3141" y="452"/>
                  </a:lnTo>
                  <a:lnTo>
                    <a:pt x="3135" y="461"/>
                  </a:lnTo>
                  <a:lnTo>
                    <a:pt x="3138" y="469"/>
                  </a:lnTo>
                  <a:lnTo>
                    <a:pt x="3147" y="472"/>
                  </a:lnTo>
                  <a:lnTo>
                    <a:pt x="3147" y="463"/>
                  </a:lnTo>
                  <a:lnTo>
                    <a:pt x="3144" y="455"/>
                  </a:lnTo>
                  <a:lnTo>
                    <a:pt x="3144" y="466"/>
                  </a:lnTo>
                  <a:lnTo>
                    <a:pt x="3144" y="475"/>
                  </a:lnTo>
                  <a:lnTo>
                    <a:pt x="3144" y="484"/>
                  </a:lnTo>
                  <a:lnTo>
                    <a:pt x="3144" y="492"/>
                  </a:lnTo>
                  <a:lnTo>
                    <a:pt x="3144" y="501"/>
                  </a:lnTo>
                  <a:lnTo>
                    <a:pt x="3144" y="510"/>
                  </a:lnTo>
                  <a:lnTo>
                    <a:pt x="3152" y="518"/>
                  </a:lnTo>
                  <a:lnTo>
                    <a:pt x="3161" y="527"/>
                  </a:lnTo>
                  <a:lnTo>
                    <a:pt x="3167" y="538"/>
                  </a:lnTo>
                  <a:lnTo>
                    <a:pt x="3176" y="544"/>
                  </a:lnTo>
                  <a:lnTo>
                    <a:pt x="3184" y="550"/>
                  </a:lnTo>
                  <a:lnTo>
                    <a:pt x="3196" y="550"/>
                  </a:lnTo>
                  <a:lnTo>
                    <a:pt x="3205" y="550"/>
                  </a:lnTo>
                  <a:lnTo>
                    <a:pt x="3213" y="550"/>
                  </a:lnTo>
                  <a:lnTo>
                    <a:pt x="3205" y="550"/>
                  </a:lnTo>
                  <a:lnTo>
                    <a:pt x="3193" y="550"/>
                  </a:lnTo>
                  <a:lnTo>
                    <a:pt x="3184" y="553"/>
                  </a:lnTo>
                  <a:lnTo>
                    <a:pt x="3179" y="561"/>
                  </a:lnTo>
                  <a:lnTo>
                    <a:pt x="3176" y="570"/>
                  </a:lnTo>
                  <a:lnTo>
                    <a:pt x="3173" y="579"/>
                  </a:lnTo>
                  <a:lnTo>
                    <a:pt x="3164" y="582"/>
                  </a:lnTo>
                  <a:lnTo>
                    <a:pt x="3155" y="582"/>
                  </a:lnTo>
                  <a:lnTo>
                    <a:pt x="3147" y="582"/>
                  </a:lnTo>
                  <a:lnTo>
                    <a:pt x="3132" y="576"/>
                  </a:lnTo>
                  <a:lnTo>
                    <a:pt x="3120" y="576"/>
                  </a:lnTo>
                  <a:lnTo>
                    <a:pt x="3109" y="576"/>
                  </a:lnTo>
                  <a:lnTo>
                    <a:pt x="3103" y="585"/>
                  </a:lnTo>
                  <a:lnTo>
                    <a:pt x="3100" y="593"/>
                  </a:lnTo>
                  <a:lnTo>
                    <a:pt x="3100" y="602"/>
                  </a:lnTo>
                  <a:lnTo>
                    <a:pt x="3100" y="610"/>
                  </a:lnTo>
                  <a:lnTo>
                    <a:pt x="3100" y="619"/>
                  </a:lnTo>
                  <a:lnTo>
                    <a:pt x="3100" y="628"/>
                  </a:lnTo>
                  <a:lnTo>
                    <a:pt x="3103" y="636"/>
                  </a:lnTo>
                  <a:lnTo>
                    <a:pt x="3106" y="645"/>
                  </a:lnTo>
                  <a:lnTo>
                    <a:pt x="3112" y="654"/>
                  </a:lnTo>
                  <a:lnTo>
                    <a:pt x="3117" y="662"/>
                  </a:lnTo>
                  <a:lnTo>
                    <a:pt x="3120" y="671"/>
                  </a:lnTo>
                  <a:lnTo>
                    <a:pt x="3123" y="680"/>
                  </a:lnTo>
                  <a:lnTo>
                    <a:pt x="3123" y="688"/>
                  </a:lnTo>
                  <a:lnTo>
                    <a:pt x="3123" y="697"/>
                  </a:lnTo>
                  <a:lnTo>
                    <a:pt x="3123" y="706"/>
                  </a:lnTo>
                  <a:lnTo>
                    <a:pt x="3114" y="711"/>
                  </a:lnTo>
                  <a:lnTo>
                    <a:pt x="3106" y="720"/>
                  </a:lnTo>
                  <a:lnTo>
                    <a:pt x="3103" y="729"/>
                  </a:lnTo>
                  <a:lnTo>
                    <a:pt x="3103" y="737"/>
                  </a:lnTo>
                  <a:lnTo>
                    <a:pt x="3094" y="740"/>
                  </a:lnTo>
                  <a:lnTo>
                    <a:pt x="3085" y="743"/>
                  </a:lnTo>
                  <a:lnTo>
                    <a:pt x="3077" y="746"/>
                  </a:lnTo>
                  <a:lnTo>
                    <a:pt x="3068" y="746"/>
                  </a:lnTo>
                  <a:lnTo>
                    <a:pt x="3059" y="752"/>
                  </a:lnTo>
                  <a:lnTo>
                    <a:pt x="3050" y="760"/>
                  </a:lnTo>
                  <a:lnTo>
                    <a:pt x="3050" y="769"/>
                  </a:lnTo>
                  <a:lnTo>
                    <a:pt x="3050" y="778"/>
                  </a:lnTo>
                  <a:lnTo>
                    <a:pt x="3056" y="786"/>
                  </a:lnTo>
                  <a:lnTo>
                    <a:pt x="3065" y="789"/>
                  </a:lnTo>
                  <a:lnTo>
                    <a:pt x="3074" y="795"/>
                  </a:lnTo>
                  <a:lnTo>
                    <a:pt x="3074" y="804"/>
                  </a:lnTo>
                  <a:lnTo>
                    <a:pt x="3062" y="806"/>
                  </a:lnTo>
                  <a:lnTo>
                    <a:pt x="3050" y="806"/>
                  </a:lnTo>
                  <a:lnTo>
                    <a:pt x="3053" y="798"/>
                  </a:lnTo>
                  <a:lnTo>
                    <a:pt x="3045" y="792"/>
                  </a:lnTo>
                  <a:lnTo>
                    <a:pt x="3036" y="798"/>
                  </a:lnTo>
                  <a:lnTo>
                    <a:pt x="3036" y="809"/>
                  </a:lnTo>
                  <a:lnTo>
                    <a:pt x="3036" y="818"/>
                  </a:lnTo>
                  <a:lnTo>
                    <a:pt x="3033" y="827"/>
                  </a:lnTo>
                  <a:lnTo>
                    <a:pt x="3030" y="835"/>
                  </a:lnTo>
                  <a:lnTo>
                    <a:pt x="3024" y="844"/>
                  </a:lnTo>
                  <a:lnTo>
                    <a:pt x="3016" y="853"/>
                  </a:lnTo>
                  <a:lnTo>
                    <a:pt x="3013" y="861"/>
                  </a:lnTo>
                  <a:lnTo>
                    <a:pt x="3021" y="864"/>
                  </a:lnTo>
                  <a:lnTo>
                    <a:pt x="3030" y="864"/>
                  </a:lnTo>
                  <a:lnTo>
                    <a:pt x="3033" y="873"/>
                  </a:lnTo>
                  <a:lnTo>
                    <a:pt x="3033" y="881"/>
                  </a:lnTo>
                  <a:lnTo>
                    <a:pt x="3042" y="890"/>
                  </a:lnTo>
                  <a:lnTo>
                    <a:pt x="3050" y="893"/>
                  </a:lnTo>
                  <a:lnTo>
                    <a:pt x="3062" y="893"/>
                  </a:lnTo>
                  <a:lnTo>
                    <a:pt x="3071" y="887"/>
                  </a:lnTo>
                  <a:lnTo>
                    <a:pt x="3080" y="887"/>
                  </a:lnTo>
                  <a:lnTo>
                    <a:pt x="3088" y="887"/>
                  </a:lnTo>
                  <a:lnTo>
                    <a:pt x="3085" y="896"/>
                  </a:lnTo>
                  <a:lnTo>
                    <a:pt x="3082" y="904"/>
                  </a:lnTo>
                  <a:lnTo>
                    <a:pt x="3080" y="913"/>
                  </a:lnTo>
                  <a:lnTo>
                    <a:pt x="3088" y="919"/>
                  </a:lnTo>
                  <a:lnTo>
                    <a:pt x="3088" y="927"/>
                  </a:lnTo>
                  <a:lnTo>
                    <a:pt x="3080" y="933"/>
                  </a:lnTo>
                  <a:lnTo>
                    <a:pt x="3077" y="942"/>
                  </a:lnTo>
                  <a:lnTo>
                    <a:pt x="3077" y="950"/>
                  </a:lnTo>
                  <a:lnTo>
                    <a:pt x="3074" y="959"/>
                  </a:lnTo>
                  <a:lnTo>
                    <a:pt x="3074" y="968"/>
                  </a:lnTo>
                  <a:lnTo>
                    <a:pt x="3077" y="959"/>
                  </a:lnTo>
                  <a:lnTo>
                    <a:pt x="3065" y="942"/>
                  </a:lnTo>
                  <a:lnTo>
                    <a:pt x="3071" y="962"/>
                  </a:lnTo>
                  <a:lnTo>
                    <a:pt x="3062" y="962"/>
                  </a:lnTo>
                  <a:lnTo>
                    <a:pt x="3074" y="968"/>
                  </a:lnTo>
                  <a:lnTo>
                    <a:pt x="3074" y="976"/>
                  </a:lnTo>
                  <a:lnTo>
                    <a:pt x="3059" y="976"/>
                  </a:lnTo>
                  <a:lnTo>
                    <a:pt x="3050" y="979"/>
                  </a:lnTo>
                  <a:lnTo>
                    <a:pt x="3039" y="979"/>
                  </a:lnTo>
                  <a:lnTo>
                    <a:pt x="3039" y="988"/>
                  </a:lnTo>
                  <a:lnTo>
                    <a:pt x="3048" y="991"/>
                  </a:lnTo>
                  <a:lnTo>
                    <a:pt x="3056" y="991"/>
                  </a:lnTo>
                  <a:lnTo>
                    <a:pt x="3065" y="997"/>
                  </a:lnTo>
                  <a:lnTo>
                    <a:pt x="3074" y="1005"/>
                  </a:lnTo>
                  <a:lnTo>
                    <a:pt x="3077" y="1014"/>
                  </a:lnTo>
                  <a:lnTo>
                    <a:pt x="3082" y="1023"/>
                  </a:lnTo>
                  <a:lnTo>
                    <a:pt x="3088" y="1031"/>
                  </a:lnTo>
                  <a:lnTo>
                    <a:pt x="3080" y="1034"/>
                  </a:lnTo>
                  <a:lnTo>
                    <a:pt x="3071" y="1034"/>
                  </a:lnTo>
                  <a:lnTo>
                    <a:pt x="3062" y="1040"/>
                  </a:lnTo>
                  <a:lnTo>
                    <a:pt x="3050" y="1043"/>
                  </a:lnTo>
                  <a:lnTo>
                    <a:pt x="3039" y="1046"/>
                  </a:lnTo>
                  <a:lnTo>
                    <a:pt x="3030" y="1046"/>
                  </a:lnTo>
                  <a:lnTo>
                    <a:pt x="3018" y="1046"/>
                  </a:lnTo>
                  <a:lnTo>
                    <a:pt x="3010" y="1037"/>
                  </a:lnTo>
                  <a:lnTo>
                    <a:pt x="3007" y="1028"/>
                  </a:lnTo>
                  <a:lnTo>
                    <a:pt x="3010" y="1020"/>
                  </a:lnTo>
                  <a:lnTo>
                    <a:pt x="3013" y="1011"/>
                  </a:lnTo>
                  <a:lnTo>
                    <a:pt x="3004" y="1011"/>
                  </a:lnTo>
                  <a:lnTo>
                    <a:pt x="2992" y="1008"/>
                  </a:lnTo>
                  <a:lnTo>
                    <a:pt x="2983" y="1008"/>
                  </a:lnTo>
                  <a:lnTo>
                    <a:pt x="2978" y="1017"/>
                  </a:lnTo>
                  <a:lnTo>
                    <a:pt x="2978" y="1025"/>
                  </a:lnTo>
                  <a:lnTo>
                    <a:pt x="2983" y="1034"/>
                  </a:lnTo>
                  <a:lnTo>
                    <a:pt x="2989" y="1043"/>
                  </a:lnTo>
                  <a:lnTo>
                    <a:pt x="2992" y="1051"/>
                  </a:lnTo>
                  <a:lnTo>
                    <a:pt x="3001" y="1054"/>
                  </a:lnTo>
                  <a:lnTo>
                    <a:pt x="3010" y="1060"/>
                  </a:lnTo>
                  <a:lnTo>
                    <a:pt x="3018" y="1063"/>
                  </a:lnTo>
                  <a:lnTo>
                    <a:pt x="3027" y="1063"/>
                  </a:lnTo>
                  <a:lnTo>
                    <a:pt x="3036" y="1060"/>
                  </a:lnTo>
                  <a:lnTo>
                    <a:pt x="3027" y="1060"/>
                  </a:lnTo>
                  <a:lnTo>
                    <a:pt x="3018" y="1057"/>
                  </a:lnTo>
                  <a:lnTo>
                    <a:pt x="3010" y="1054"/>
                  </a:lnTo>
                  <a:lnTo>
                    <a:pt x="3004" y="1046"/>
                  </a:lnTo>
                  <a:lnTo>
                    <a:pt x="2995" y="1040"/>
                  </a:lnTo>
                  <a:lnTo>
                    <a:pt x="2992" y="1031"/>
                  </a:lnTo>
                  <a:lnTo>
                    <a:pt x="2983" y="1023"/>
                  </a:lnTo>
                  <a:lnTo>
                    <a:pt x="2978" y="1014"/>
                  </a:lnTo>
                  <a:lnTo>
                    <a:pt x="2969" y="1005"/>
                  </a:lnTo>
                  <a:lnTo>
                    <a:pt x="2966" y="1014"/>
                  </a:lnTo>
                  <a:lnTo>
                    <a:pt x="2954" y="1023"/>
                  </a:lnTo>
                  <a:lnTo>
                    <a:pt x="2946" y="1023"/>
                  </a:lnTo>
                  <a:lnTo>
                    <a:pt x="2943" y="1034"/>
                  </a:lnTo>
                  <a:lnTo>
                    <a:pt x="2943" y="1043"/>
                  </a:lnTo>
                  <a:lnTo>
                    <a:pt x="2951" y="1051"/>
                  </a:lnTo>
                  <a:lnTo>
                    <a:pt x="2963" y="1051"/>
                  </a:lnTo>
                  <a:lnTo>
                    <a:pt x="2975" y="1054"/>
                  </a:lnTo>
                  <a:lnTo>
                    <a:pt x="2963" y="1051"/>
                  </a:lnTo>
                  <a:lnTo>
                    <a:pt x="2951" y="1046"/>
                  </a:lnTo>
                  <a:lnTo>
                    <a:pt x="2943" y="1043"/>
                  </a:lnTo>
                  <a:lnTo>
                    <a:pt x="2934" y="1051"/>
                  </a:lnTo>
                  <a:lnTo>
                    <a:pt x="2928" y="1060"/>
                  </a:lnTo>
                  <a:lnTo>
                    <a:pt x="2919" y="1060"/>
                  </a:lnTo>
                  <a:lnTo>
                    <a:pt x="2919" y="1069"/>
                  </a:lnTo>
                  <a:lnTo>
                    <a:pt x="2931" y="1077"/>
                  </a:lnTo>
                  <a:lnTo>
                    <a:pt x="2943" y="1086"/>
                  </a:lnTo>
                  <a:lnTo>
                    <a:pt x="2951" y="1089"/>
                  </a:lnTo>
                  <a:lnTo>
                    <a:pt x="2960" y="1089"/>
                  </a:lnTo>
                  <a:lnTo>
                    <a:pt x="2969" y="1089"/>
                  </a:lnTo>
                  <a:lnTo>
                    <a:pt x="2972" y="1080"/>
                  </a:lnTo>
                  <a:lnTo>
                    <a:pt x="2975" y="1072"/>
                  </a:lnTo>
                  <a:lnTo>
                    <a:pt x="2975" y="1063"/>
                  </a:lnTo>
                  <a:lnTo>
                    <a:pt x="2978" y="1054"/>
                  </a:lnTo>
                  <a:lnTo>
                    <a:pt x="2981" y="1063"/>
                  </a:lnTo>
                  <a:lnTo>
                    <a:pt x="2981" y="1072"/>
                  </a:lnTo>
                  <a:lnTo>
                    <a:pt x="2975" y="1080"/>
                  </a:lnTo>
                  <a:lnTo>
                    <a:pt x="2969" y="1089"/>
                  </a:lnTo>
                  <a:lnTo>
                    <a:pt x="2957" y="1089"/>
                  </a:lnTo>
                  <a:lnTo>
                    <a:pt x="2949" y="1089"/>
                  </a:lnTo>
                  <a:lnTo>
                    <a:pt x="2940" y="1097"/>
                  </a:lnTo>
                  <a:lnTo>
                    <a:pt x="2937" y="1106"/>
                  </a:lnTo>
                  <a:lnTo>
                    <a:pt x="2934" y="1115"/>
                  </a:lnTo>
                  <a:lnTo>
                    <a:pt x="2934" y="1123"/>
                  </a:lnTo>
                  <a:lnTo>
                    <a:pt x="2925" y="1129"/>
                  </a:lnTo>
                  <a:lnTo>
                    <a:pt x="2917" y="1135"/>
                  </a:lnTo>
                  <a:lnTo>
                    <a:pt x="2908" y="1138"/>
                  </a:lnTo>
                  <a:lnTo>
                    <a:pt x="2899" y="1138"/>
                  </a:lnTo>
                  <a:lnTo>
                    <a:pt x="2893" y="1129"/>
                  </a:lnTo>
                  <a:lnTo>
                    <a:pt x="2884" y="1129"/>
                  </a:lnTo>
                  <a:lnTo>
                    <a:pt x="2876" y="1129"/>
                  </a:lnTo>
                  <a:lnTo>
                    <a:pt x="2867" y="1135"/>
                  </a:lnTo>
                  <a:lnTo>
                    <a:pt x="2864" y="1144"/>
                  </a:lnTo>
                  <a:lnTo>
                    <a:pt x="2861" y="1152"/>
                  </a:lnTo>
                  <a:lnTo>
                    <a:pt x="2861" y="1161"/>
                  </a:lnTo>
                  <a:lnTo>
                    <a:pt x="2858" y="1170"/>
                  </a:lnTo>
                  <a:lnTo>
                    <a:pt x="2852" y="1178"/>
                  </a:lnTo>
                  <a:lnTo>
                    <a:pt x="2844" y="1181"/>
                  </a:lnTo>
                  <a:lnTo>
                    <a:pt x="2835" y="1181"/>
                  </a:lnTo>
                  <a:lnTo>
                    <a:pt x="2826" y="1184"/>
                  </a:lnTo>
                  <a:lnTo>
                    <a:pt x="2818" y="1175"/>
                  </a:lnTo>
                  <a:lnTo>
                    <a:pt x="2809" y="1167"/>
                  </a:lnTo>
                  <a:lnTo>
                    <a:pt x="2806" y="1175"/>
                  </a:lnTo>
                  <a:lnTo>
                    <a:pt x="2806" y="1184"/>
                  </a:lnTo>
                  <a:lnTo>
                    <a:pt x="2806" y="1193"/>
                  </a:lnTo>
                  <a:lnTo>
                    <a:pt x="2806" y="1204"/>
                  </a:lnTo>
                  <a:lnTo>
                    <a:pt x="2806" y="1213"/>
                  </a:lnTo>
                  <a:lnTo>
                    <a:pt x="2815" y="1213"/>
                  </a:lnTo>
                  <a:lnTo>
                    <a:pt x="2823" y="1216"/>
                  </a:lnTo>
                  <a:lnTo>
                    <a:pt x="2826" y="1224"/>
                  </a:lnTo>
                  <a:lnTo>
                    <a:pt x="2826" y="1233"/>
                  </a:lnTo>
                  <a:lnTo>
                    <a:pt x="2826" y="1242"/>
                  </a:lnTo>
                  <a:lnTo>
                    <a:pt x="2823" y="1250"/>
                  </a:lnTo>
                  <a:lnTo>
                    <a:pt x="2815" y="1253"/>
                  </a:lnTo>
                  <a:lnTo>
                    <a:pt x="2809" y="1262"/>
                  </a:lnTo>
                  <a:lnTo>
                    <a:pt x="2809" y="1270"/>
                  </a:lnTo>
                  <a:lnTo>
                    <a:pt x="2809" y="1279"/>
                  </a:lnTo>
                  <a:lnTo>
                    <a:pt x="2809" y="1288"/>
                  </a:lnTo>
                  <a:lnTo>
                    <a:pt x="2809" y="1279"/>
                  </a:lnTo>
                  <a:lnTo>
                    <a:pt x="2806" y="1270"/>
                  </a:lnTo>
                  <a:lnTo>
                    <a:pt x="2806" y="1262"/>
                  </a:lnTo>
                  <a:lnTo>
                    <a:pt x="2800" y="1253"/>
                  </a:lnTo>
                  <a:lnTo>
                    <a:pt x="2797" y="1244"/>
                  </a:lnTo>
                  <a:lnTo>
                    <a:pt x="2794" y="1236"/>
                  </a:lnTo>
                  <a:lnTo>
                    <a:pt x="2794" y="1227"/>
                  </a:lnTo>
                  <a:lnTo>
                    <a:pt x="2794" y="1218"/>
                  </a:lnTo>
                  <a:lnTo>
                    <a:pt x="2800" y="1210"/>
                  </a:lnTo>
                  <a:lnTo>
                    <a:pt x="2803" y="1201"/>
                  </a:lnTo>
                  <a:lnTo>
                    <a:pt x="2800" y="1193"/>
                  </a:lnTo>
                  <a:lnTo>
                    <a:pt x="2791" y="1187"/>
                  </a:lnTo>
                  <a:lnTo>
                    <a:pt x="2788" y="1178"/>
                  </a:lnTo>
                  <a:lnTo>
                    <a:pt x="2788" y="1170"/>
                  </a:lnTo>
                  <a:lnTo>
                    <a:pt x="2788" y="1161"/>
                  </a:lnTo>
                  <a:lnTo>
                    <a:pt x="2788" y="1152"/>
                  </a:lnTo>
                  <a:lnTo>
                    <a:pt x="2786" y="1144"/>
                  </a:lnTo>
                  <a:lnTo>
                    <a:pt x="2786" y="1135"/>
                  </a:lnTo>
                  <a:lnTo>
                    <a:pt x="2780" y="1126"/>
                  </a:lnTo>
                  <a:lnTo>
                    <a:pt x="2768" y="1121"/>
                  </a:lnTo>
                  <a:lnTo>
                    <a:pt x="2759" y="1115"/>
                  </a:lnTo>
                  <a:lnTo>
                    <a:pt x="2748" y="1112"/>
                  </a:lnTo>
                  <a:lnTo>
                    <a:pt x="2736" y="1109"/>
                  </a:lnTo>
                  <a:lnTo>
                    <a:pt x="2724" y="1106"/>
                  </a:lnTo>
                  <a:lnTo>
                    <a:pt x="2716" y="1106"/>
                  </a:lnTo>
                  <a:lnTo>
                    <a:pt x="2710" y="1115"/>
                  </a:lnTo>
                  <a:lnTo>
                    <a:pt x="2704" y="1123"/>
                  </a:lnTo>
                  <a:lnTo>
                    <a:pt x="2698" y="1132"/>
                  </a:lnTo>
                  <a:lnTo>
                    <a:pt x="2692" y="1126"/>
                  </a:lnTo>
                  <a:lnTo>
                    <a:pt x="2695" y="1112"/>
                  </a:lnTo>
                  <a:lnTo>
                    <a:pt x="2695" y="1121"/>
                  </a:lnTo>
                  <a:lnTo>
                    <a:pt x="2692" y="1129"/>
                  </a:lnTo>
                  <a:lnTo>
                    <a:pt x="2692" y="1138"/>
                  </a:lnTo>
                  <a:lnTo>
                    <a:pt x="2687" y="1146"/>
                  </a:lnTo>
                  <a:lnTo>
                    <a:pt x="2687" y="1155"/>
                  </a:lnTo>
                  <a:lnTo>
                    <a:pt x="2687" y="1164"/>
                  </a:lnTo>
                  <a:lnTo>
                    <a:pt x="2678" y="1167"/>
                  </a:lnTo>
                  <a:lnTo>
                    <a:pt x="2669" y="1167"/>
                  </a:lnTo>
                  <a:lnTo>
                    <a:pt x="2666" y="1158"/>
                  </a:lnTo>
                  <a:lnTo>
                    <a:pt x="2666" y="1149"/>
                  </a:lnTo>
                  <a:lnTo>
                    <a:pt x="2657" y="1146"/>
                  </a:lnTo>
                  <a:lnTo>
                    <a:pt x="2649" y="1152"/>
                  </a:lnTo>
                  <a:lnTo>
                    <a:pt x="2646" y="1141"/>
                  </a:lnTo>
                  <a:lnTo>
                    <a:pt x="2634" y="1135"/>
                  </a:lnTo>
                  <a:lnTo>
                    <a:pt x="2625" y="1135"/>
                  </a:lnTo>
                  <a:lnTo>
                    <a:pt x="2617" y="1135"/>
                  </a:lnTo>
                  <a:lnTo>
                    <a:pt x="2614" y="1144"/>
                  </a:lnTo>
                  <a:lnTo>
                    <a:pt x="2614" y="1152"/>
                  </a:lnTo>
                  <a:lnTo>
                    <a:pt x="2614" y="1161"/>
                  </a:lnTo>
                  <a:lnTo>
                    <a:pt x="2617" y="1170"/>
                  </a:lnTo>
                  <a:lnTo>
                    <a:pt x="2617" y="1178"/>
                  </a:lnTo>
                  <a:lnTo>
                    <a:pt x="2620" y="1187"/>
                  </a:lnTo>
                  <a:lnTo>
                    <a:pt x="2625" y="1195"/>
                  </a:lnTo>
                  <a:lnTo>
                    <a:pt x="2634" y="1201"/>
                  </a:lnTo>
                  <a:lnTo>
                    <a:pt x="2643" y="1201"/>
                  </a:lnTo>
                  <a:lnTo>
                    <a:pt x="2652" y="1201"/>
                  </a:lnTo>
                  <a:lnTo>
                    <a:pt x="2643" y="1201"/>
                  </a:lnTo>
                  <a:lnTo>
                    <a:pt x="2634" y="1207"/>
                  </a:lnTo>
                  <a:lnTo>
                    <a:pt x="2625" y="1216"/>
                  </a:lnTo>
                  <a:lnTo>
                    <a:pt x="2625" y="1224"/>
                  </a:lnTo>
                  <a:lnTo>
                    <a:pt x="2634" y="1224"/>
                  </a:lnTo>
                  <a:lnTo>
                    <a:pt x="2643" y="1230"/>
                  </a:lnTo>
                  <a:lnTo>
                    <a:pt x="2646" y="1242"/>
                  </a:lnTo>
                  <a:lnTo>
                    <a:pt x="2652" y="1253"/>
                  </a:lnTo>
                  <a:lnTo>
                    <a:pt x="2660" y="1259"/>
                  </a:lnTo>
                  <a:lnTo>
                    <a:pt x="2672" y="1265"/>
                  </a:lnTo>
                  <a:lnTo>
                    <a:pt x="2663" y="1262"/>
                  </a:lnTo>
                  <a:lnTo>
                    <a:pt x="2655" y="1256"/>
                  </a:lnTo>
                  <a:lnTo>
                    <a:pt x="2663" y="1250"/>
                  </a:lnTo>
                  <a:lnTo>
                    <a:pt x="2672" y="1250"/>
                  </a:lnTo>
                  <a:lnTo>
                    <a:pt x="2681" y="1253"/>
                  </a:lnTo>
                  <a:lnTo>
                    <a:pt x="2669" y="1256"/>
                  </a:lnTo>
                  <a:lnTo>
                    <a:pt x="2655" y="1256"/>
                  </a:lnTo>
                  <a:lnTo>
                    <a:pt x="2646" y="1247"/>
                  </a:lnTo>
                  <a:lnTo>
                    <a:pt x="2643" y="1236"/>
                  </a:lnTo>
                  <a:lnTo>
                    <a:pt x="2640" y="1227"/>
                  </a:lnTo>
                  <a:lnTo>
                    <a:pt x="2631" y="1227"/>
                  </a:lnTo>
                  <a:lnTo>
                    <a:pt x="2625" y="1236"/>
                  </a:lnTo>
                  <a:lnTo>
                    <a:pt x="2625" y="1247"/>
                  </a:lnTo>
                  <a:lnTo>
                    <a:pt x="2625" y="1259"/>
                  </a:lnTo>
                  <a:lnTo>
                    <a:pt x="2617" y="1259"/>
                  </a:lnTo>
                  <a:lnTo>
                    <a:pt x="2608" y="1256"/>
                  </a:lnTo>
                  <a:lnTo>
                    <a:pt x="2605" y="1247"/>
                  </a:lnTo>
                  <a:lnTo>
                    <a:pt x="2596" y="1253"/>
                  </a:lnTo>
                  <a:lnTo>
                    <a:pt x="2588" y="1262"/>
                  </a:lnTo>
                  <a:lnTo>
                    <a:pt x="2582" y="1270"/>
                  </a:lnTo>
                  <a:lnTo>
                    <a:pt x="2582" y="1279"/>
                  </a:lnTo>
                  <a:lnTo>
                    <a:pt x="2582" y="1288"/>
                  </a:lnTo>
                  <a:lnTo>
                    <a:pt x="2576" y="1296"/>
                  </a:lnTo>
                  <a:lnTo>
                    <a:pt x="2573" y="1305"/>
                  </a:lnTo>
                  <a:lnTo>
                    <a:pt x="2567" y="1314"/>
                  </a:lnTo>
                  <a:lnTo>
                    <a:pt x="2553" y="1311"/>
                  </a:lnTo>
                  <a:lnTo>
                    <a:pt x="2567" y="1305"/>
                  </a:lnTo>
                  <a:lnTo>
                    <a:pt x="2561" y="1314"/>
                  </a:lnTo>
                  <a:lnTo>
                    <a:pt x="2558" y="1322"/>
                  </a:lnTo>
                  <a:lnTo>
                    <a:pt x="2558" y="1331"/>
                  </a:lnTo>
                  <a:lnTo>
                    <a:pt x="2558" y="1340"/>
                  </a:lnTo>
                  <a:lnTo>
                    <a:pt x="2558" y="1348"/>
                  </a:lnTo>
                  <a:lnTo>
                    <a:pt x="2558" y="1360"/>
                  </a:lnTo>
                  <a:lnTo>
                    <a:pt x="2558" y="1368"/>
                  </a:lnTo>
                  <a:lnTo>
                    <a:pt x="2550" y="1380"/>
                  </a:lnTo>
                  <a:lnTo>
                    <a:pt x="2547" y="1389"/>
                  </a:lnTo>
                  <a:lnTo>
                    <a:pt x="2544" y="1397"/>
                  </a:lnTo>
                  <a:lnTo>
                    <a:pt x="2538" y="1406"/>
                  </a:lnTo>
                  <a:lnTo>
                    <a:pt x="2529" y="1412"/>
                  </a:lnTo>
                  <a:lnTo>
                    <a:pt x="2538" y="1414"/>
                  </a:lnTo>
                  <a:lnTo>
                    <a:pt x="2547" y="1414"/>
                  </a:lnTo>
                  <a:lnTo>
                    <a:pt x="2553" y="1406"/>
                  </a:lnTo>
                  <a:lnTo>
                    <a:pt x="2553" y="1397"/>
                  </a:lnTo>
                  <a:lnTo>
                    <a:pt x="2561" y="1391"/>
                  </a:lnTo>
                  <a:lnTo>
                    <a:pt x="2567" y="1400"/>
                  </a:lnTo>
                  <a:lnTo>
                    <a:pt x="2567" y="1412"/>
                  </a:lnTo>
                  <a:lnTo>
                    <a:pt x="2570" y="1420"/>
                  </a:lnTo>
                  <a:lnTo>
                    <a:pt x="2579" y="1429"/>
                  </a:lnTo>
                  <a:lnTo>
                    <a:pt x="2588" y="1435"/>
                  </a:lnTo>
                  <a:lnTo>
                    <a:pt x="2599" y="1435"/>
                  </a:lnTo>
                  <a:lnTo>
                    <a:pt x="2593" y="1426"/>
                  </a:lnTo>
                  <a:lnTo>
                    <a:pt x="2585" y="1417"/>
                  </a:lnTo>
                  <a:lnTo>
                    <a:pt x="2582" y="1406"/>
                  </a:lnTo>
                  <a:lnTo>
                    <a:pt x="2579" y="1397"/>
                  </a:lnTo>
                  <a:lnTo>
                    <a:pt x="2573" y="1406"/>
                  </a:lnTo>
                  <a:lnTo>
                    <a:pt x="2570" y="1414"/>
                  </a:lnTo>
                  <a:lnTo>
                    <a:pt x="2561" y="1426"/>
                  </a:lnTo>
                  <a:lnTo>
                    <a:pt x="2553" y="1432"/>
                  </a:lnTo>
                  <a:lnTo>
                    <a:pt x="2544" y="1432"/>
                  </a:lnTo>
                  <a:lnTo>
                    <a:pt x="2535" y="1432"/>
                  </a:lnTo>
                  <a:lnTo>
                    <a:pt x="2526" y="1432"/>
                  </a:lnTo>
                  <a:lnTo>
                    <a:pt x="2515" y="1438"/>
                  </a:lnTo>
                  <a:lnTo>
                    <a:pt x="2506" y="1443"/>
                  </a:lnTo>
                  <a:lnTo>
                    <a:pt x="2503" y="1452"/>
                  </a:lnTo>
                  <a:lnTo>
                    <a:pt x="2509" y="1461"/>
                  </a:lnTo>
                  <a:lnTo>
                    <a:pt x="2515" y="1472"/>
                  </a:lnTo>
                  <a:lnTo>
                    <a:pt x="2521" y="1484"/>
                  </a:lnTo>
                  <a:lnTo>
                    <a:pt x="2529" y="1489"/>
                  </a:lnTo>
                  <a:lnTo>
                    <a:pt x="2538" y="1495"/>
                  </a:lnTo>
                  <a:lnTo>
                    <a:pt x="2544" y="1504"/>
                  </a:lnTo>
                  <a:lnTo>
                    <a:pt x="2553" y="1507"/>
                  </a:lnTo>
                  <a:lnTo>
                    <a:pt x="2561" y="1507"/>
                  </a:lnTo>
                  <a:lnTo>
                    <a:pt x="2570" y="1510"/>
                  </a:lnTo>
                  <a:lnTo>
                    <a:pt x="2576" y="1518"/>
                  </a:lnTo>
                  <a:lnTo>
                    <a:pt x="2585" y="1527"/>
                  </a:lnTo>
                  <a:lnTo>
                    <a:pt x="2588" y="1535"/>
                  </a:lnTo>
                  <a:lnTo>
                    <a:pt x="2588" y="1544"/>
                  </a:lnTo>
                  <a:lnTo>
                    <a:pt x="2588" y="1556"/>
                  </a:lnTo>
                  <a:lnTo>
                    <a:pt x="2590" y="1564"/>
                  </a:lnTo>
                  <a:lnTo>
                    <a:pt x="2599" y="1564"/>
                  </a:lnTo>
                  <a:lnTo>
                    <a:pt x="2614" y="1567"/>
                  </a:lnTo>
                  <a:lnTo>
                    <a:pt x="2617" y="1576"/>
                  </a:lnTo>
                  <a:lnTo>
                    <a:pt x="2617" y="1584"/>
                  </a:lnTo>
                  <a:lnTo>
                    <a:pt x="2608" y="1587"/>
                  </a:lnTo>
                  <a:lnTo>
                    <a:pt x="2596" y="1579"/>
                  </a:lnTo>
                  <a:lnTo>
                    <a:pt x="2588" y="1570"/>
                  </a:lnTo>
                  <a:lnTo>
                    <a:pt x="2582" y="1561"/>
                  </a:lnTo>
                  <a:lnTo>
                    <a:pt x="2582" y="1553"/>
                  </a:lnTo>
                  <a:lnTo>
                    <a:pt x="2582" y="1541"/>
                  </a:lnTo>
                  <a:lnTo>
                    <a:pt x="2579" y="1533"/>
                  </a:lnTo>
                  <a:lnTo>
                    <a:pt x="2573" y="1524"/>
                  </a:lnTo>
                  <a:lnTo>
                    <a:pt x="2564" y="1515"/>
                  </a:lnTo>
                  <a:lnTo>
                    <a:pt x="2556" y="1512"/>
                  </a:lnTo>
                  <a:lnTo>
                    <a:pt x="2550" y="1521"/>
                  </a:lnTo>
                  <a:lnTo>
                    <a:pt x="2541" y="1521"/>
                  </a:lnTo>
                  <a:lnTo>
                    <a:pt x="2532" y="1515"/>
                  </a:lnTo>
                  <a:lnTo>
                    <a:pt x="2524" y="1510"/>
                  </a:lnTo>
                  <a:lnTo>
                    <a:pt x="2515" y="1507"/>
                  </a:lnTo>
                  <a:lnTo>
                    <a:pt x="2506" y="1504"/>
                  </a:lnTo>
                  <a:lnTo>
                    <a:pt x="2497" y="1504"/>
                  </a:lnTo>
                  <a:lnTo>
                    <a:pt x="2489" y="1504"/>
                  </a:lnTo>
                  <a:lnTo>
                    <a:pt x="2486" y="1512"/>
                  </a:lnTo>
                  <a:lnTo>
                    <a:pt x="2486" y="1521"/>
                  </a:lnTo>
                  <a:lnTo>
                    <a:pt x="2491" y="1530"/>
                  </a:lnTo>
                  <a:lnTo>
                    <a:pt x="2486" y="1538"/>
                  </a:lnTo>
                  <a:lnTo>
                    <a:pt x="2477" y="1538"/>
                  </a:lnTo>
                  <a:lnTo>
                    <a:pt x="2474" y="1547"/>
                  </a:lnTo>
                  <a:lnTo>
                    <a:pt x="2489" y="1550"/>
                  </a:lnTo>
                  <a:lnTo>
                    <a:pt x="2497" y="1553"/>
                  </a:lnTo>
                  <a:lnTo>
                    <a:pt x="2506" y="1553"/>
                  </a:lnTo>
                  <a:lnTo>
                    <a:pt x="2515" y="1559"/>
                  </a:lnTo>
                  <a:lnTo>
                    <a:pt x="2521" y="1570"/>
                  </a:lnTo>
                  <a:lnTo>
                    <a:pt x="2529" y="1576"/>
                  </a:lnTo>
                  <a:lnTo>
                    <a:pt x="2521" y="1567"/>
                  </a:lnTo>
                  <a:lnTo>
                    <a:pt x="2509" y="1561"/>
                  </a:lnTo>
                  <a:lnTo>
                    <a:pt x="2500" y="1559"/>
                  </a:lnTo>
                  <a:lnTo>
                    <a:pt x="2491" y="1567"/>
                  </a:lnTo>
                  <a:lnTo>
                    <a:pt x="2483" y="1570"/>
                  </a:lnTo>
                  <a:lnTo>
                    <a:pt x="2474" y="1570"/>
                  </a:lnTo>
                  <a:lnTo>
                    <a:pt x="2471" y="1561"/>
                  </a:lnTo>
                  <a:lnTo>
                    <a:pt x="2471" y="1553"/>
                  </a:lnTo>
                  <a:lnTo>
                    <a:pt x="2465" y="1544"/>
                  </a:lnTo>
                  <a:lnTo>
                    <a:pt x="2462" y="1535"/>
                  </a:lnTo>
                  <a:lnTo>
                    <a:pt x="2459" y="1524"/>
                  </a:lnTo>
                  <a:lnTo>
                    <a:pt x="2457" y="1515"/>
                  </a:lnTo>
                  <a:lnTo>
                    <a:pt x="2448" y="1510"/>
                  </a:lnTo>
                  <a:lnTo>
                    <a:pt x="2439" y="1504"/>
                  </a:lnTo>
                  <a:lnTo>
                    <a:pt x="2439" y="1512"/>
                  </a:lnTo>
                  <a:lnTo>
                    <a:pt x="2439" y="1521"/>
                  </a:lnTo>
                  <a:lnTo>
                    <a:pt x="2439" y="1530"/>
                  </a:lnTo>
                  <a:lnTo>
                    <a:pt x="2439" y="1538"/>
                  </a:lnTo>
                  <a:lnTo>
                    <a:pt x="2439" y="1547"/>
                  </a:lnTo>
                  <a:lnTo>
                    <a:pt x="2439" y="1556"/>
                  </a:lnTo>
                  <a:lnTo>
                    <a:pt x="2442" y="1564"/>
                  </a:lnTo>
                  <a:lnTo>
                    <a:pt x="2436" y="1573"/>
                  </a:lnTo>
                  <a:lnTo>
                    <a:pt x="2433" y="1582"/>
                  </a:lnTo>
                  <a:lnTo>
                    <a:pt x="2430" y="1590"/>
                  </a:lnTo>
                  <a:lnTo>
                    <a:pt x="2433" y="1599"/>
                  </a:lnTo>
                  <a:lnTo>
                    <a:pt x="2442" y="1602"/>
                  </a:lnTo>
                  <a:lnTo>
                    <a:pt x="2451" y="1605"/>
                  </a:lnTo>
                  <a:lnTo>
                    <a:pt x="2459" y="1608"/>
                  </a:lnTo>
                  <a:lnTo>
                    <a:pt x="2465" y="1616"/>
                  </a:lnTo>
                  <a:lnTo>
                    <a:pt x="2474" y="1628"/>
                  </a:lnTo>
                  <a:lnTo>
                    <a:pt x="2474" y="1636"/>
                  </a:lnTo>
                  <a:lnTo>
                    <a:pt x="2474" y="1648"/>
                  </a:lnTo>
                  <a:lnTo>
                    <a:pt x="2474" y="1657"/>
                  </a:lnTo>
                  <a:lnTo>
                    <a:pt x="2474" y="1665"/>
                  </a:lnTo>
                  <a:lnTo>
                    <a:pt x="2474" y="1674"/>
                  </a:lnTo>
                  <a:lnTo>
                    <a:pt x="2483" y="1680"/>
                  </a:lnTo>
                  <a:lnTo>
                    <a:pt x="2491" y="1682"/>
                  </a:lnTo>
                  <a:lnTo>
                    <a:pt x="2500" y="1682"/>
                  </a:lnTo>
                  <a:lnTo>
                    <a:pt x="2509" y="1680"/>
                  </a:lnTo>
                  <a:lnTo>
                    <a:pt x="2515" y="1671"/>
                  </a:lnTo>
                  <a:lnTo>
                    <a:pt x="2524" y="1671"/>
                  </a:lnTo>
                  <a:lnTo>
                    <a:pt x="2532" y="1668"/>
                  </a:lnTo>
                  <a:lnTo>
                    <a:pt x="2541" y="1671"/>
                  </a:lnTo>
                  <a:lnTo>
                    <a:pt x="2544" y="1680"/>
                  </a:lnTo>
                  <a:lnTo>
                    <a:pt x="2547" y="1688"/>
                  </a:lnTo>
                  <a:lnTo>
                    <a:pt x="2547" y="1697"/>
                  </a:lnTo>
                  <a:lnTo>
                    <a:pt x="2547" y="1706"/>
                  </a:lnTo>
                  <a:lnTo>
                    <a:pt x="2556" y="1714"/>
                  </a:lnTo>
                  <a:lnTo>
                    <a:pt x="2564" y="1720"/>
                  </a:lnTo>
                  <a:lnTo>
                    <a:pt x="2576" y="1726"/>
                  </a:lnTo>
                  <a:lnTo>
                    <a:pt x="2588" y="1726"/>
                  </a:lnTo>
                  <a:lnTo>
                    <a:pt x="2596" y="1726"/>
                  </a:lnTo>
                  <a:lnTo>
                    <a:pt x="2588" y="1723"/>
                  </a:lnTo>
                  <a:lnTo>
                    <a:pt x="2579" y="1720"/>
                  </a:lnTo>
                  <a:lnTo>
                    <a:pt x="2570" y="1717"/>
                  </a:lnTo>
                  <a:lnTo>
                    <a:pt x="2567" y="1708"/>
                  </a:lnTo>
                  <a:lnTo>
                    <a:pt x="2564" y="1697"/>
                  </a:lnTo>
                  <a:lnTo>
                    <a:pt x="2564" y="1688"/>
                  </a:lnTo>
                  <a:lnTo>
                    <a:pt x="2561" y="1680"/>
                  </a:lnTo>
                  <a:lnTo>
                    <a:pt x="2550" y="1671"/>
                  </a:lnTo>
                  <a:lnTo>
                    <a:pt x="2538" y="1665"/>
                  </a:lnTo>
                  <a:lnTo>
                    <a:pt x="2529" y="1662"/>
                  </a:lnTo>
                  <a:lnTo>
                    <a:pt x="2521" y="1659"/>
                  </a:lnTo>
                  <a:lnTo>
                    <a:pt x="2512" y="1662"/>
                  </a:lnTo>
                  <a:lnTo>
                    <a:pt x="2506" y="1671"/>
                  </a:lnTo>
                  <a:lnTo>
                    <a:pt x="2506" y="1680"/>
                  </a:lnTo>
                  <a:lnTo>
                    <a:pt x="2503" y="1688"/>
                  </a:lnTo>
                  <a:lnTo>
                    <a:pt x="2500" y="1697"/>
                  </a:lnTo>
                  <a:lnTo>
                    <a:pt x="2500" y="1706"/>
                  </a:lnTo>
                  <a:lnTo>
                    <a:pt x="2500" y="1714"/>
                  </a:lnTo>
                  <a:lnTo>
                    <a:pt x="2509" y="1723"/>
                  </a:lnTo>
                  <a:lnTo>
                    <a:pt x="2509" y="1731"/>
                  </a:lnTo>
                  <a:lnTo>
                    <a:pt x="2509" y="1740"/>
                  </a:lnTo>
                  <a:lnTo>
                    <a:pt x="2509" y="1749"/>
                  </a:lnTo>
                  <a:lnTo>
                    <a:pt x="2509" y="1757"/>
                  </a:lnTo>
                  <a:lnTo>
                    <a:pt x="2509" y="1766"/>
                  </a:lnTo>
                  <a:lnTo>
                    <a:pt x="2509" y="1775"/>
                  </a:lnTo>
                  <a:lnTo>
                    <a:pt x="2509" y="1783"/>
                  </a:lnTo>
                  <a:lnTo>
                    <a:pt x="2506" y="1772"/>
                  </a:lnTo>
                  <a:lnTo>
                    <a:pt x="2515" y="1757"/>
                  </a:lnTo>
                  <a:lnTo>
                    <a:pt x="2509" y="1766"/>
                  </a:lnTo>
                  <a:lnTo>
                    <a:pt x="2506" y="1775"/>
                  </a:lnTo>
                  <a:lnTo>
                    <a:pt x="2503" y="1783"/>
                  </a:lnTo>
                  <a:lnTo>
                    <a:pt x="2497" y="1792"/>
                  </a:lnTo>
                  <a:lnTo>
                    <a:pt x="2494" y="1801"/>
                  </a:lnTo>
                  <a:lnTo>
                    <a:pt x="2494" y="1809"/>
                  </a:lnTo>
                  <a:lnTo>
                    <a:pt x="2494" y="1818"/>
                  </a:lnTo>
                  <a:lnTo>
                    <a:pt x="2483" y="1824"/>
                  </a:lnTo>
                  <a:lnTo>
                    <a:pt x="2465" y="1824"/>
                  </a:lnTo>
                  <a:lnTo>
                    <a:pt x="2457" y="1821"/>
                  </a:lnTo>
                  <a:lnTo>
                    <a:pt x="2448" y="1812"/>
                  </a:lnTo>
                  <a:lnTo>
                    <a:pt x="2439" y="1809"/>
                  </a:lnTo>
                  <a:lnTo>
                    <a:pt x="2430" y="1809"/>
                  </a:lnTo>
                  <a:lnTo>
                    <a:pt x="2427" y="1798"/>
                  </a:lnTo>
                  <a:lnTo>
                    <a:pt x="2439" y="1795"/>
                  </a:lnTo>
                  <a:lnTo>
                    <a:pt x="2454" y="1792"/>
                  </a:lnTo>
                  <a:lnTo>
                    <a:pt x="2462" y="1792"/>
                  </a:lnTo>
                  <a:lnTo>
                    <a:pt x="2471" y="1792"/>
                  </a:lnTo>
                  <a:lnTo>
                    <a:pt x="2477" y="1783"/>
                  </a:lnTo>
                  <a:lnTo>
                    <a:pt x="2480" y="1775"/>
                  </a:lnTo>
                  <a:lnTo>
                    <a:pt x="2480" y="1766"/>
                  </a:lnTo>
                  <a:lnTo>
                    <a:pt x="2483" y="1757"/>
                  </a:lnTo>
                  <a:lnTo>
                    <a:pt x="2486" y="1749"/>
                  </a:lnTo>
                  <a:lnTo>
                    <a:pt x="2489" y="1740"/>
                  </a:lnTo>
                  <a:lnTo>
                    <a:pt x="2491" y="1731"/>
                  </a:lnTo>
                  <a:lnTo>
                    <a:pt x="2489" y="1723"/>
                  </a:lnTo>
                  <a:lnTo>
                    <a:pt x="2489" y="1714"/>
                  </a:lnTo>
                  <a:lnTo>
                    <a:pt x="2480" y="1708"/>
                  </a:lnTo>
                  <a:lnTo>
                    <a:pt x="2474" y="1700"/>
                  </a:lnTo>
                  <a:lnTo>
                    <a:pt x="2468" y="1691"/>
                  </a:lnTo>
                  <a:lnTo>
                    <a:pt x="2465" y="1682"/>
                  </a:lnTo>
                  <a:lnTo>
                    <a:pt x="2459" y="1674"/>
                  </a:lnTo>
                  <a:lnTo>
                    <a:pt x="2454" y="1665"/>
                  </a:lnTo>
                  <a:lnTo>
                    <a:pt x="2454" y="1657"/>
                  </a:lnTo>
                  <a:lnTo>
                    <a:pt x="2454" y="1648"/>
                  </a:lnTo>
                  <a:lnTo>
                    <a:pt x="2454" y="1639"/>
                  </a:lnTo>
                  <a:lnTo>
                    <a:pt x="2451" y="1631"/>
                  </a:lnTo>
                  <a:lnTo>
                    <a:pt x="2448" y="1622"/>
                  </a:lnTo>
                  <a:lnTo>
                    <a:pt x="2442" y="1613"/>
                  </a:lnTo>
                  <a:lnTo>
                    <a:pt x="2433" y="1608"/>
                  </a:lnTo>
                  <a:lnTo>
                    <a:pt x="2427" y="1599"/>
                  </a:lnTo>
                  <a:lnTo>
                    <a:pt x="2422" y="1590"/>
                  </a:lnTo>
                  <a:lnTo>
                    <a:pt x="2419" y="1582"/>
                  </a:lnTo>
                  <a:lnTo>
                    <a:pt x="2419" y="1573"/>
                  </a:lnTo>
                  <a:lnTo>
                    <a:pt x="2416" y="1564"/>
                  </a:lnTo>
                  <a:lnTo>
                    <a:pt x="2416" y="1556"/>
                  </a:lnTo>
                  <a:lnTo>
                    <a:pt x="2416" y="1547"/>
                  </a:lnTo>
                  <a:lnTo>
                    <a:pt x="2416" y="1538"/>
                  </a:lnTo>
                  <a:lnTo>
                    <a:pt x="2416" y="1530"/>
                  </a:lnTo>
                  <a:lnTo>
                    <a:pt x="2407" y="1521"/>
                  </a:lnTo>
                  <a:lnTo>
                    <a:pt x="2395" y="1518"/>
                  </a:lnTo>
                  <a:lnTo>
                    <a:pt x="2390" y="1510"/>
                  </a:lnTo>
                  <a:lnTo>
                    <a:pt x="2390" y="1501"/>
                  </a:lnTo>
                  <a:lnTo>
                    <a:pt x="2381" y="1498"/>
                  </a:lnTo>
                  <a:lnTo>
                    <a:pt x="2390" y="1504"/>
                  </a:lnTo>
                  <a:lnTo>
                    <a:pt x="2381" y="1510"/>
                  </a:lnTo>
                  <a:lnTo>
                    <a:pt x="2372" y="1515"/>
                  </a:lnTo>
                  <a:lnTo>
                    <a:pt x="2372" y="1524"/>
                  </a:lnTo>
                  <a:lnTo>
                    <a:pt x="2366" y="1533"/>
                  </a:lnTo>
                  <a:lnTo>
                    <a:pt x="2366" y="1541"/>
                  </a:lnTo>
                  <a:lnTo>
                    <a:pt x="2366" y="1550"/>
                  </a:lnTo>
                  <a:lnTo>
                    <a:pt x="2366" y="1559"/>
                  </a:lnTo>
                  <a:lnTo>
                    <a:pt x="2366" y="1567"/>
                  </a:lnTo>
                  <a:lnTo>
                    <a:pt x="2363" y="1576"/>
                  </a:lnTo>
                  <a:lnTo>
                    <a:pt x="2360" y="1584"/>
                  </a:lnTo>
                  <a:lnTo>
                    <a:pt x="2358" y="1593"/>
                  </a:lnTo>
                  <a:lnTo>
                    <a:pt x="2352" y="1602"/>
                  </a:lnTo>
                  <a:lnTo>
                    <a:pt x="2349" y="1610"/>
                  </a:lnTo>
                  <a:lnTo>
                    <a:pt x="2346" y="1619"/>
                  </a:lnTo>
                  <a:lnTo>
                    <a:pt x="2346" y="1628"/>
                  </a:lnTo>
                  <a:lnTo>
                    <a:pt x="2346" y="1636"/>
                  </a:lnTo>
                  <a:lnTo>
                    <a:pt x="2355" y="1639"/>
                  </a:lnTo>
                  <a:lnTo>
                    <a:pt x="2363" y="1639"/>
                  </a:lnTo>
                  <a:lnTo>
                    <a:pt x="2372" y="1636"/>
                  </a:lnTo>
                  <a:lnTo>
                    <a:pt x="2372" y="1645"/>
                  </a:lnTo>
                  <a:lnTo>
                    <a:pt x="2372" y="1654"/>
                  </a:lnTo>
                  <a:lnTo>
                    <a:pt x="2372" y="1662"/>
                  </a:lnTo>
                  <a:lnTo>
                    <a:pt x="2372" y="1671"/>
                  </a:lnTo>
                  <a:lnTo>
                    <a:pt x="2372" y="1682"/>
                  </a:lnTo>
                  <a:lnTo>
                    <a:pt x="2369" y="1691"/>
                  </a:lnTo>
                  <a:lnTo>
                    <a:pt x="2378" y="1697"/>
                  </a:lnTo>
                  <a:lnTo>
                    <a:pt x="2381" y="1706"/>
                  </a:lnTo>
                  <a:lnTo>
                    <a:pt x="2390" y="1711"/>
                  </a:lnTo>
                  <a:lnTo>
                    <a:pt x="2401" y="1714"/>
                  </a:lnTo>
                  <a:lnTo>
                    <a:pt x="2404" y="1723"/>
                  </a:lnTo>
                  <a:lnTo>
                    <a:pt x="2404" y="1731"/>
                  </a:lnTo>
                  <a:lnTo>
                    <a:pt x="2404" y="1740"/>
                  </a:lnTo>
                  <a:lnTo>
                    <a:pt x="2404" y="1749"/>
                  </a:lnTo>
                  <a:lnTo>
                    <a:pt x="2395" y="1743"/>
                  </a:lnTo>
                  <a:lnTo>
                    <a:pt x="2393" y="1734"/>
                  </a:lnTo>
                  <a:lnTo>
                    <a:pt x="2387" y="1723"/>
                  </a:lnTo>
                  <a:lnTo>
                    <a:pt x="2381" y="1714"/>
                  </a:lnTo>
                  <a:lnTo>
                    <a:pt x="2372" y="1711"/>
                  </a:lnTo>
                  <a:lnTo>
                    <a:pt x="2363" y="1708"/>
                  </a:lnTo>
                  <a:lnTo>
                    <a:pt x="2355" y="1708"/>
                  </a:lnTo>
                  <a:lnTo>
                    <a:pt x="2340" y="1706"/>
                  </a:lnTo>
                  <a:lnTo>
                    <a:pt x="2328" y="1703"/>
                  </a:lnTo>
                  <a:lnTo>
                    <a:pt x="2320" y="1697"/>
                  </a:lnTo>
                  <a:lnTo>
                    <a:pt x="2311" y="1694"/>
                  </a:lnTo>
                  <a:lnTo>
                    <a:pt x="2302" y="1691"/>
                  </a:lnTo>
                  <a:lnTo>
                    <a:pt x="2294" y="1688"/>
                  </a:lnTo>
                  <a:lnTo>
                    <a:pt x="2285" y="1685"/>
                  </a:lnTo>
                  <a:lnTo>
                    <a:pt x="2276" y="1685"/>
                  </a:lnTo>
                  <a:lnTo>
                    <a:pt x="2267" y="1685"/>
                  </a:lnTo>
                  <a:lnTo>
                    <a:pt x="2273" y="1680"/>
                  </a:lnTo>
                  <a:lnTo>
                    <a:pt x="2262" y="1671"/>
                  </a:lnTo>
                  <a:lnTo>
                    <a:pt x="2262" y="1662"/>
                  </a:lnTo>
                  <a:lnTo>
                    <a:pt x="2256" y="1671"/>
                  </a:lnTo>
                  <a:lnTo>
                    <a:pt x="2247" y="1671"/>
                  </a:lnTo>
                  <a:lnTo>
                    <a:pt x="2235" y="1671"/>
                  </a:lnTo>
                  <a:lnTo>
                    <a:pt x="2227" y="1668"/>
                  </a:lnTo>
                  <a:lnTo>
                    <a:pt x="2227" y="1659"/>
                  </a:lnTo>
                  <a:lnTo>
                    <a:pt x="2221" y="1668"/>
                  </a:lnTo>
                  <a:lnTo>
                    <a:pt x="2221" y="1677"/>
                  </a:lnTo>
                  <a:lnTo>
                    <a:pt x="2232" y="1680"/>
                  </a:lnTo>
                  <a:lnTo>
                    <a:pt x="2241" y="1682"/>
                  </a:lnTo>
                  <a:lnTo>
                    <a:pt x="2244" y="1691"/>
                  </a:lnTo>
                  <a:lnTo>
                    <a:pt x="2247" y="1700"/>
                  </a:lnTo>
                  <a:lnTo>
                    <a:pt x="2250" y="1708"/>
                  </a:lnTo>
                  <a:lnTo>
                    <a:pt x="2259" y="1711"/>
                  </a:lnTo>
                  <a:lnTo>
                    <a:pt x="2262" y="1720"/>
                  </a:lnTo>
                  <a:lnTo>
                    <a:pt x="2262" y="1729"/>
                  </a:lnTo>
                  <a:lnTo>
                    <a:pt x="2262" y="1737"/>
                  </a:lnTo>
                  <a:lnTo>
                    <a:pt x="2253" y="1743"/>
                  </a:lnTo>
                  <a:lnTo>
                    <a:pt x="2250" y="1752"/>
                  </a:lnTo>
                  <a:lnTo>
                    <a:pt x="2250" y="1760"/>
                  </a:lnTo>
                  <a:lnTo>
                    <a:pt x="2244" y="1752"/>
                  </a:lnTo>
                  <a:lnTo>
                    <a:pt x="2241" y="1743"/>
                  </a:lnTo>
                  <a:lnTo>
                    <a:pt x="2232" y="1743"/>
                  </a:lnTo>
                  <a:lnTo>
                    <a:pt x="2232" y="1734"/>
                  </a:lnTo>
                  <a:lnTo>
                    <a:pt x="2221" y="1729"/>
                  </a:lnTo>
                  <a:lnTo>
                    <a:pt x="2209" y="1731"/>
                  </a:lnTo>
                  <a:lnTo>
                    <a:pt x="2200" y="1734"/>
                  </a:lnTo>
                  <a:lnTo>
                    <a:pt x="2192" y="1737"/>
                  </a:lnTo>
                  <a:lnTo>
                    <a:pt x="2183" y="1746"/>
                  </a:lnTo>
                  <a:lnTo>
                    <a:pt x="2177" y="1755"/>
                  </a:lnTo>
                  <a:lnTo>
                    <a:pt x="2168" y="1755"/>
                  </a:lnTo>
                  <a:lnTo>
                    <a:pt x="2160" y="1760"/>
                  </a:lnTo>
                  <a:lnTo>
                    <a:pt x="2151" y="1769"/>
                  </a:lnTo>
                  <a:lnTo>
                    <a:pt x="2142" y="1772"/>
                  </a:lnTo>
                  <a:lnTo>
                    <a:pt x="2133" y="1772"/>
                  </a:lnTo>
                  <a:lnTo>
                    <a:pt x="2133" y="1763"/>
                  </a:lnTo>
                  <a:lnTo>
                    <a:pt x="2142" y="1755"/>
                  </a:lnTo>
                  <a:lnTo>
                    <a:pt x="2151" y="1752"/>
                  </a:lnTo>
                  <a:lnTo>
                    <a:pt x="2160" y="1749"/>
                  </a:lnTo>
                  <a:lnTo>
                    <a:pt x="2160" y="1737"/>
                  </a:lnTo>
                  <a:lnTo>
                    <a:pt x="2154" y="1729"/>
                  </a:lnTo>
                  <a:lnTo>
                    <a:pt x="2145" y="1729"/>
                  </a:lnTo>
                  <a:lnTo>
                    <a:pt x="2136" y="1734"/>
                  </a:lnTo>
                  <a:lnTo>
                    <a:pt x="2128" y="1740"/>
                  </a:lnTo>
                  <a:lnTo>
                    <a:pt x="2122" y="1749"/>
                  </a:lnTo>
                  <a:lnTo>
                    <a:pt x="2113" y="1755"/>
                  </a:lnTo>
                  <a:lnTo>
                    <a:pt x="2104" y="1757"/>
                  </a:lnTo>
                  <a:lnTo>
                    <a:pt x="2096" y="1763"/>
                  </a:lnTo>
                  <a:lnTo>
                    <a:pt x="2087" y="1763"/>
                  </a:lnTo>
                  <a:lnTo>
                    <a:pt x="2078" y="1766"/>
                  </a:lnTo>
                  <a:lnTo>
                    <a:pt x="2069" y="1769"/>
                  </a:lnTo>
                  <a:lnTo>
                    <a:pt x="2061" y="1772"/>
                  </a:lnTo>
                  <a:lnTo>
                    <a:pt x="2055" y="1780"/>
                  </a:lnTo>
                  <a:lnTo>
                    <a:pt x="2052" y="1789"/>
                  </a:lnTo>
                  <a:lnTo>
                    <a:pt x="2040" y="1792"/>
                  </a:lnTo>
                  <a:lnTo>
                    <a:pt x="2034" y="1801"/>
                  </a:lnTo>
                  <a:lnTo>
                    <a:pt x="2034" y="1809"/>
                  </a:lnTo>
                  <a:lnTo>
                    <a:pt x="2029" y="1818"/>
                  </a:lnTo>
                  <a:lnTo>
                    <a:pt x="2020" y="1824"/>
                  </a:lnTo>
                  <a:lnTo>
                    <a:pt x="2011" y="1827"/>
                  </a:lnTo>
                  <a:lnTo>
                    <a:pt x="2008" y="1815"/>
                  </a:lnTo>
                  <a:lnTo>
                    <a:pt x="2005" y="1806"/>
                  </a:lnTo>
                  <a:lnTo>
                    <a:pt x="2005" y="1798"/>
                  </a:lnTo>
                  <a:lnTo>
                    <a:pt x="1997" y="1789"/>
                  </a:lnTo>
                  <a:lnTo>
                    <a:pt x="1988" y="1780"/>
                  </a:lnTo>
                  <a:lnTo>
                    <a:pt x="1999" y="1780"/>
                  </a:lnTo>
                  <a:lnTo>
                    <a:pt x="2011" y="1778"/>
                  </a:lnTo>
                  <a:lnTo>
                    <a:pt x="2020" y="1775"/>
                  </a:lnTo>
                  <a:lnTo>
                    <a:pt x="2020" y="1766"/>
                  </a:lnTo>
                  <a:lnTo>
                    <a:pt x="2023" y="1757"/>
                  </a:lnTo>
                  <a:lnTo>
                    <a:pt x="2023" y="1749"/>
                  </a:lnTo>
                  <a:lnTo>
                    <a:pt x="2014" y="1743"/>
                  </a:lnTo>
                  <a:lnTo>
                    <a:pt x="2005" y="1740"/>
                  </a:lnTo>
                  <a:lnTo>
                    <a:pt x="1994" y="1740"/>
                  </a:lnTo>
                  <a:lnTo>
                    <a:pt x="1985" y="1737"/>
                  </a:lnTo>
                  <a:lnTo>
                    <a:pt x="1976" y="1731"/>
                  </a:lnTo>
                  <a:lnTo>
                    <a:pt x="1967" y="1729"/>
                  </a:lnTo>
                  <a:lnTo>
                    <a:pt x="1967" y="1737"/>
                  </a:lnTo>
                  <a:lnTo>
                    <a:pt x="1970" y="1746"/>
                  </a:lnTo>
                  <a:lnTo>
                    <a:pt x="1976" y="1755"/>
                  </a:lnTo>
                  <a:lnTo>
                    <a:pt x="1976" y="1763"/>
                  </a:lnTo>
                  <a:lnTo>
                    <a:pt x="1976" y="1772"/>
                  </a:lnTo>
                  <a:lnTo>
                    <a:pt x="1973" y="1780"/>
                  </a:lnTo>
                  <a:lnTo>
                    <a:pt x="1965" y="1789"/>
                  </a:lnTo>
                  <a:lnTo>
                    <a:pt x="1956" y="1795"/>
                  </a:lnTo>
                  <a:lnTo>
                    <a:pt x="1953" y="1803"/>
                  </a:lnTo>
                  <a:lnTo>
                    <a:pt x="1962" y="1806"/>
                  </a:lnTo>
                  <a:lnTo>
                    <a:pt x="1970" y="1806"/>
                  </a:lnTo>
                  <a:lnTo>
                    <a:pt x="1979" y="1806"/>
                  </a:lnTo>
                  <a:lnTo>
                    <a:pt x="1982" y="1815"/>
                  </a:lnTo>
                  <a:lnTo>
                    <a:pt x="1976" y="1824"/>
                  </a:lnTo>
                  <a:lnTo>
                    <a:pt x="1965" y="1832"/>
                  </a:lnTo>
                  <a:lnTo>
                    <a:pt x="1959" y="1841"/>
                  </a:lnTo>
                  <a:lnTo>
                    <a:pt x="1959" y="1850"/>
                  </a:lnTo>
                  <a:lnTo>
                    <a:pt x="1947" y="1838"/>
                  </a:lnTo>
                  <a:lnTo>
                    <a:pt x="1938" y="1835"/>
                  </a:lnTo>
                  <a:lnTo>
                    <a:pt x="1933" y="1827"/>
                  </a:lnTo>
                  <a:lnTo>
                    <a:pt x="1924" y="1821"/>
                  </a:lnTo>
                  <a:lnTo>
                    <a:pt x="1915" y="1821"/>
                  </a:lnTo>
                  <a:lnTo>
                    <a:pt x="1906" y="1829"/>
                  </a:lnTo>
                  <a:lnTo>
                    <a:pt x="1898" y="1835"/>
                  </a:lnTo>
                  <a:lnTo>
                    <a:pt x="1889" y="1838"/>
                  </a:lnTo>
                  <a:lnTo>
                    <a:pt x="1880" y="1841"/>
                  </a:lnTo>
                  <a:lnTo>
                    <a:pt x="1874" y="1850"/>
                  </a:lnTo>
                  <a:lnTo>
                    <a:pt x="1871" y="1858"/>
                  </a:lnTo>
                  <a:lnTo>
                    <a:pt x="1868" y="1867"/>
                  </a:lnTo>
                  <a:lnTo>
                    <a:pt x="1868" y="1876"/>
                  </a:lnTo>
                  <a:lnTo>
                    <a:pt x="1868" y="1884"/>
                  </a:lnTo>
                  <a:lnTo>
                    <a:pt x="1868" y="1893"/>
                  </a:lnTo>
                  <a:lnTo>
                    <a:pt x="1868" y="1901"/>
                  </a:lnTo>
                  <a:lnTo>
                    <a:pt x="1860" y="1907"/>
                  </a:lnTo>
                  <a:lnTo>
                    <a:pt x="1848" y="1901"/>
                  </a:lnTo>
                  <a:lnTo>
                    <a:pt x="1845" y="1893"/>
                  </a:lnTo>
                  <a:lnTo>
                    <a:pt x="1839" y="1884"/>
                  </a:lnTo>
                  <a:lnTo>
                    <a:pt x="1831" y="1876"/>
                  </a:lnTo>
                  <a:lnTo>
                    <a:pt x="1822" y="1870"/>
                  </a:lnTo>
                  <a:lnTo>
                    <a:pt x="1813" y="1867"/>
                  </a:lnTo>
                  <a:lnTo>
                    <a:pt x="1804" y="1867"/>
                  </a:lnTo>
                  <a:lnTo>
                    <a:pt x="1799" y="1876"/>
                  </a:lnTo>
                  <a:lnTo>
                    <a:pt x="1796" y="1884"/>
                  </a:lnTo>
                  <a:lnTo>
                    <a:pt x="1796" y="1893"/>
                  </a:lnTo>
                  <a:lnTo>
                    <a:pt x="1804" y="1899"/>
                  </a:lnTo>
                  <a:lnTo>
                    <a:pt x="1816" y="1901"/>
                  </a:lnTo>
                  <a:lnTo>
                    <a:pt x="1819" y="1910"/>
                  </a:lnTo>
                  <a:lnTo>
                    <a:pt x="1807" y="1910"/>
                  </a:lnTo>
                  <a:lnTo>
                    <a:pt x="1819" y="1893"/>
                  </a:lnTo>
                  <a:lnTo>
                    <a:pt x="1810" y="1896"/>
                  </a:lnTo>
                  <a:lnTo>
                    <a:pt x="1822" y="1899"/>
                  </a:lnTo>
                  <a:lnTo>
                    <a:pt x="1822" y="1910"/>
                  </a:lnTo>
                  <a:lnTo>
                    <a:pt x="1822" y="1919"/>
                  </a:lnTo>
                  <a:lnTo>
                    <a:pt x="1816" y="1927"/>
                  </a:lnTo>
                  <a:lnTo>
                    <a:pt x="1802" y="1927"/>
                  </a:lnTo>
                  <a:lnTo>
                    <a:pt x="1793" y="1922"/>
                  </a:lnTo>
                  <a:lnTo>
                    <a:pt x="1790" y="1913"/>
                  </a:lnTo>
                  <a:lnTo>
                    <a:pt x="1790" y="1904"/>
                  </a:lnTo>
                  <a:lnTo>
                    <a:pt x="1784" y="1896"/>
                  </a:lnTo>
                  <a:lnTo>
                    <a:pt x="1778" y="1887"/>
                  </a:lnTo>
                  <a:lnTo>
                    <a:pt x="1770" y="1878"/>
                  </a:lnTo>
                  <a:lnTo>
                    <a:pt x="1767" y="1870"/>
                  </a:lnTo>
                  <a:lnTo>
                    <a:pt x="1764" y="1861"/>
                  </a:lnTo>
                  <a:lnTo>
                    <a:pt x="1764" y="1850"/>
                  </a:lnTo>
                  <a:lnTo>
                    <a:pt x="1764" y="1841"/>
                  </a:lnTo>
                  <a:lnTo>
                    <a:pt x="1764" y="1832"/>
                  </a:lnTo>
                  <a:lnTo>
                    <a:pt x="1772" y="1827"/>
                  </a:lnTo>
                  <a:lnTo>
                    <a:pt x="1778" y="1818"/>
                  </a:lnTo>
                  <a:lnTo>
                    <a:pt x="1778" y="1809"/>
                  </a:lnTo>
                  <a:lnTo>
                    <a:pt x="1778" y="1801"/>
                  </a:lnTo>
                  <a:lnTo>
                    <a:pt x="1778" y="1792"/>
                  </a:lnTo>
                  <a:lnTo>
                    <a:pt x="1770" y="1783"/>
                  </a:lnTo>
                  <a:lnTo>
                    <a:pt x="1761" y="1778"/>
                  </a:lnTo>
                  <a:lnTo>
                    <a:pt x="1752" y="1772"/>
                  </a:lnTo>
                  <a:lnTo>
                    <a:pt x="1752" y="1763"/>
                  </a:lnTo>
                  <a:lnTo>
                    <a:pt x="1752" y="1752"/>
                  </a:lnTo>
                  <a:lnTo>
                    <a:pt x="1752" y="1743"/>
                  </a:lnTo>
                  <a:lnTo>
                    <a:pt x="1764" y="1749"/>
                  </a:lnTo>
                  <a:lnTo>
                    <a:pt x="1772" y="1757"/>
                  </a:lnTo>
                  <a:lnTo>
                    <a:pt x="1781" y="1763"/>
                  </a:lnTo>
                  <a:lnTo>
                    <a:pt x="1781" y="1772"/>
                  </a:lnTo>
                  <a:lnTo>
                    <a:pt x="1787" y="1783"/>
                  </a:lnTo>
                  <a:lnTo>
                    <a:pt x="1796" y="1789"/>
                  </a:lnTo>
                  <a:lnTo>
                    <a:pt x="1804" y="1795"/>
                  </a:lnTo>
                  <a:lnTo>
                    <a:pt x="1816" y="1801"/>
                  </a:lnTo>
                  <a:lnTo>
                    <a:pt x="1822" y="1809"/>
                  </a:lnTo>
                  <a:lnTo>
                    <a:pt x="1831" y="1815"/>
                  </a:lnTo>
                  <a:lnTo>
                    <a:pt x="1836" y="1824"/>
                  </a:lnTo>
                  <a:lnTo>
                    <a:pt x="1845" y="1829"/>
                  </a:lnTo>
                  <a:lnTo>
                    <a:pt x="1854" y="1835"/>
                  </a:lnTo>
                  <a:lnTo>
                    <a:pt x="1866" y="1835"/>
                  </a:lnTo>
                  <a:lnTo>
                    <a:pt x="1874" y="1835"/>
                  </a:lnTo>
                  <a:lnTo>
                    <a:pt x="1883" y="1835"/>
                  </a:lnTo>
                  <a:lnTo>
                    <a:pt x="1892" y="1829"/>
                  </a:lnTo>
                  <a:lnTo>
                    <a:pt x="1901" y="1827"/>
                  </a:lnTo>
                  <a:lnTo>
                    <a:pt x="1909" y="1818"/>
                  </a:lnTo>
                  <a:lnTo>
                    <a:pt x="1909" y="1809"/>
                  </a:lnTo>
                  <a:lnTo>
                    <a:pt x="1909" y="1801"/>
                  </a:lnTo>
                  <a:lnTo>
                    <a:pt x="1909" y="1792"/>
                  </a:lnTo>
                  <a:lnTo>
                    <a:pt x="1915" y="1783"/>
                  </a:lnTo>
                  <a:lnTo>
                    <a:pt x="1918" y="1775"/>
                  </a:lnTo>
                  <a:lnTo>
                    <a:pt x="1918" y="1766"/>
                  </a:lnTo>
                  <a:lnTo>
                    <a:pt x="1915" y="1757"/>
                  </a:lnTo>
                  <a:lnTo>
                    <a:pt x="1909" y="1749"/>
                  </a:lnTo>
                  <a:lnTo>
                    <a:pt x="1901" y="1740"/>
                  </a:lnTo>
                  <a:lnTo>
                    <a:pt x="1895" y="1731"/>
                  </a:lnTo>
                  <a:lnTo>
                    <a:pt x="1892" y="1720"/>
                  </a:lnTo>
                  <a:lnTo>
                    <a:pt x="1889" y="1711"/>
                  </a:lnTo>
                  <a:lnTo>
                    <a:pt x="1880" y="1706"/>
                  </a:lnTo>
                  <a:lnTo>
                    <a:pt x="1871" y="1697"/>
                  </a:lnTo>
                  <a:lnTo>
                    <a:pt x="1866" y="1688"/>
                  </a:lnTo>
                  <a:lnTo>
                    <a:pt x="1860" y="1680"/>
                  </a:lnTo>
                  <a:lnTo>
                    <a:pt x="1851" y="1671"/>
                  </a:lnTo>
                  <a:lnTo>
                    <a:pt x="1842" y="1665"/>
                  </a:lnTo>
                  <a:lnTo>
                    <a:pt x="1831" y="1662"/>
                  </a:lnTo>
                  <a:lnTo>
                    <a:pt x="1819" y="1657"/>
                  </a:lnTo>
                  <a:lnTo>
                    <a:pt x="1813" y="1648"/>
                  </a:lnTo>
                  <a:lnTo>
                    <a:pt x="1810" y="1639"/>
                  </a:lnTo>
                  <a:lnTo>
                    <a:pt x="1807" y="1631"/>
                  </a:lnTo>
                  <a:lnTo>
                    <a:pt x="1799" y="1622"/>
                  </a:lnTo>
                  <a:lnTo>
                    <a:pt x="1793" y="1613"/>
                  </a:lnTo>
                  <a:lnTo>
                    <a:pt x="1784" y="1613"/>
                  </a:lnTo>
                  <a:lnTo>
                    <a:pt x="1772" y="1613"/>
                  </a:lnTo>
                  <a:lnTo>
                    <a:pt x="1764" y="1608"/>
                  </a:lnTo>
                  <a:lnTo>
                    <a:pt x="1761" y="1599"/>
                  </a:lnTo>
                  <a:lnTo>
                    <a:pt x="1772" y="1596"/>
                  </a:lnTo>
                  <a:lnTo>
                    <a:pt x="1781" y="1596"/>
                  </a:lnTo>
                  <a:lnTo>
                    <a:pt x="1787" y="1587"/>
                  </a:lnTo>
                  <a:lnTo>
                    <a:pt x="1778" y="1579"/>
                  </a:lnTo>
                  <a:lnTo>
                    <a:pt x="1770" y="1576"/>
                  </a:lnTo>
                  <a:lnTo>
                    <a:pt x="1761" y="1573"/>
                  </a:lnTo>
                  <a:lnTo>
                    <a:pt x="1758" y="1564"/>
                  </a:lnTo>
                  <a:lnTo>
                    <a:pt x="1758" y="1556"/>
                  </a:lnTo>
                  <a:lnTo>
                    <a:pt x="1758" y="1547"/>
                  </a:lnTo>
                  <a:lnTo>
                    <a:pt x="1749" y="1547"/>
                  </a:lnTo>
                  <a:lnTo>
                    <a:pt x="1737" y="1553"/>
                  </a:lnTo>
                  <a:lnTo>
                    <a:pt x="1729" y="1553"/>
                  </a:lnTo>
                  <a:lnTo>
                    <a:pt x="1720" y="1556"/>
                  </a:lnTo>
                  <a:lnTo>
                    <a:pt x="1720" y="1547"/>
                  </a:lnTo>
                  <a:lnTo>
                    <a:pt x="1723" y="1538"/>
                  </a:lnTo>
                  <a:lnTo>
                    <a:pt x="1726" y="1550"/>
                  </a:lnTo>
                  <a:lnTo>
                    <a:pt x="1723" y="1559"/>
                  </a:lnTo>
                  <a:lnTo>
                    <a:pt x="1723" y="1567"/>
                  </a:lnTo>
                  <a:lnTo>
                    <a:pt x="1732" y="1567"/>
                  </a:lnTo>
                  <a:lnTo>
                    <a:pt x="1740" y="1556"/>
                  </a:lnTo>
                  <a:lnTo>
                    <a:pt x="1726" y="1553"/>
                  </a:lnTo>
                  <a:lnTo>
                    <a:pt x="1717" y="1553"/>
                  </a:lnTo>
                  <a:lnTo>
                    <a:pt x="1705" y="1553"/>
                  </a:lnTo>
                  <a:lnTo>
                    <a:pt x="1705" y="1541"/>
                  </a:lnTo>
                  <a:lnTo>
                    <a:pt x="1711" y="1533"/>
                  </a:lnTo>
                  <a:lnTo>
                    <a:pt x="1700" y="1535"/>
                  </a:lnTo>
                  <a:lnTo>
                    <a:pt x="1691" y="1541"/>
                  </a:lnTo>
                  <a:lnTo>
                    <a:pt x="1679" y="1544"/>
                  </a:lnTo>
                  <a:lnTo>
                    <a:pt x="1685" y="1533"/>
                  </a:lnTo>
                  <a:lnTo>
                    <a:pt x="1685" y="1524"/>
                  </a:lnTo>
                  <a:lnTo>
                    <a:pt x="1676" y="1524"/>
                  </a:lnTo>
                  <a:lnTo>
                    <a:pt x="1668" y="1533"/>
                  </a:lnTo>
                  <a:lnTo>
                    <a:pt x="1662" y="1541"/>
                  </a:lnTo>
                  <a:lnTo>
                    <a:pt x="1653" y="1544"/>
                  </a:lnTo>
                  <a:lnTo>
                    <a:pt x="1653" y="1535"/>
                  </a:lnTo>
                  <a:lnTo>
                    <a:pt x="1644" y="1541"/>
                  </a:lnTo>
                  <a:lnTo>
                    <a:pt x="1641" y="1550"/>
                  </a:lnTo>
                  <a:lnTo>
                    <a:pt x="1633" y="1547"/>
                  </a:lnTo>
                  <a:lnTo>
                    <a:pt x="1633" y="1538"/>
                  </a:lnTo>
                  <a:lnTo>
                    <a:pt x="1624" y="1538"/>
                  </a:lnTo>
                  <a:lnTo>
                    <a:pt x="1615" y="1541"/>
                  </a:lnTo>
                  <a:lnTo>
                    <a:pt x="1609" y="1550"/>
                  </a:lnTo>
                  <a:lnTo>
                    <a:pt x="1601" y="1541"/>
                  </a:lnTo>
                  <a:lnTo>
                    <a:pt x="1598" y="1533"/>
                  </a:lnTo>
                  <a:lnTo>
                    <a:pt x="1589" y="1535"/>
                  </a:lnTo>
                  <a:lnTo>
                    <a:pt x="1580" y="1541"/>
                  </a:lnTo>
                  <a:lnTo>
                    <a:pt x="1569" y="1538"/>
                  </a:lnTo>
                  <a:lnTo>
                    <a:pt x="1563" y="1547"/>
                  </a:lnTo>
                  <a:lnTo>
                    <a:pt x="1557" y="1559"/>
                  </a:lnTo>
                  <a:lnTo>
                    <a:pt x="1554" y="1567"/>
                  </a:lnTo>
                  <a:lnTo>
                    <a:pt x="1548" y="1576"/>
                  </a:lnTo>
                  <a:lnTo>
                    <a:pt x="1540" y="1576"/>
                  </a:lnTo>
                  <a:lnTo>
                    <a:pt x="1531" y="1576"/>
                  </a:lnTo>
                  <a:lnTo>
                    <a:pt x="1525" y="1564"/>
                  </a:lnTo>
                  <a:lnTo>
                    <a:pt x="1525" y="1556"/>
                  </a:lnTo>
                  <a:lnTo>
                    <a:pt x="1525" y="1547"/>
                  </a:lnTo>
                  <a:lnTo>
                    <a:pt x="1516" y="1544"/>
                  </a:lnTo>
                  <a:lnTo>
                    <a:pt x="1513" y="1553"/>
                  </a:lnTo>
                  <a:lnTo>
                    <a:pt x="1528" y="1541"/>
                  </a:lnTo>
                  <a:lnTo>
                    <a:pt x="1510" y="1530"/>
                  </a:lnTo>
                  <a:lnTo>
                    <a:pt x="1502" y="1530"/>
                  </a:lnTo>
                  <a:lnTo>
                    <a:pt x="1493" y="1538"/>
                  </a:lnTo>
                  <a:lnTo>
                    <a:pt x="1484" y="1544"/>
                  </a:lnTo>
                  <a:lnTo>
                    <a:pt x="1481" y="1553"/>
                  </a:lnTo>
                  <a:lnTo>
                    <a:pt x="1481" y="1561"/>
                  </a:lnTo>
                  <a:lnTo>
                    <a:pt x="1487" y="1570"/>
                  </a:lnTo>
                  <a:lnTo>
                    <a:pt x="1487" y="1579"/>
                  </a:lnTo>
                  <a:lnTo>
                    <a:pt x="1478" y="1587"/>
                  </a:lnTo>
                  <a:lnTo>
                    <a:pt x="1470" y="1590"/>
                  </a:lnTo>
                  <a:lnTo>
                    <a:pt x="1461" y="1599"/>
                  </a:lnTo>
                  <a:lnTo>
                    <a:pt x="1443" y="1599"/>
                  </a:lnTo>
                  <a:lnTo>
                    <a:pt x="1432" y="1599"/>
                  </a:lnTo>
                  <a:lnTo>
                    <a:pt x="1426" y="1610"/>
                  </a:lnTo>
                  <a:lnTo>
                    <a:pt x="1420" y="1619"/>
                  </a:lnTo>
                  <a:lnTo>
                    <a:pt x="1429" y="1619"/>
                  </a:lnTo>
                  <a:lnTo>
                    <a:pt x="1417" y="1628"/>
                  </a:lnTo>
                  <a:lnTo>
                    <a:pt x="1406" y="1628"/>
                  </a:lnTo>
                  <a:lnTo>
                    <a:pt x="1397" y="1628"/>
                  </a:lnTo>
                  <a:lnTo>
                    <a:pt x="1388" y="1628"/>
                  </a:lnTo>
                  <a:lnTo>
                    <a:pt x="1382" y="1636"/>
                  </a:lnTo>
                  <a:lnTo>
                    <a:pt x="1379" y="1645"/>
                  </a:lnTo>
                  <a:lnTo>
                    <a:pt x="1371" y="1645"/>
                  </a:lnTo>
                  <a:lnTo>
                    <a:pt x="1362" y="1645"/>
                  </a:lnTo>
                  <a:lnTo>
                    <a:pt x="1356" y="1654"/>
                  </a:lnTo>
                  <a:lnTo>
                    <a:pt x="1347" y="1657"/>
                  </a:lnTo>
                  <a:lnTo>
                    <a:pt x="1336" y="1659"/>
                  </a:lnTo>
                  <a:lnTo>
                    <a:pt x="1327" y="1659"/>
                  </a:lnTo>
                  <a:lnTo>
                    <a:pt x="1318" y="1662"/>
                  </a:lnTo>
                  <a:lnTo>
                    <a:pt x="1310" y="1662"/>
                  </a:lnTo>
                  <a:lnTo>
                    <a:pt x="1298" y="1662"/>
                  </a:lnTo>
                  <a:lnTo>
                    <a:pt x="1289" y="1665"/>
                  </a:lnTo>
                  <a:lnTo>
                    <a:pt x="1280" y="1671"/>
                  </a:lnTo>
                  <a:lnTo>
                    <a:pt x="1278" y="1680"/>
                  </a:lnTo>
                  <a:lnTo>
                    <a:pt x="1280" y="1691"/>
                  </a:lnTo>
                  <a:lnTo>
                    <a:pt x="1289" y="1694"/>
                  </a:lnTo>
                  <a:lnTo>
                    <a:pt x="1301" y="1697"/>
                  </a:lnTo>
                  <a:lnTo>
                    <a:pt x="1312" y="1697"/>
                  </a:lnTo>
                  <a:lnTo>
                    <a:pt x="1321" y="1697"/>
                  </a:lnTo>
                  <a:lnTo>
                    <a:pt x="1310" y="1694"/>
                  </a:lnTo>
                  <a:lnTo>
                    <a:pt x="1298" y="1694"/>
                  </a:lnTo>
                  <a:lnTo>
                    <a:pt x="1289" y="1691"/>
                  </a:lnTo>
                  <a:lnTo>
                    <a:pt x="1304" y="1685"/>
                  </a:lnTo>
                  <a:lnTo>
                    <a:pt x="1312" y="1685"/>
                  </a:lnTo>
                  <a:lnTo>
                    <a:pt x="1321" y="1685"/>
                  </a:lnTo>
                  <a:lnTo>
                    <a:pt x="1312" y="1682"/>
                  </a:lnTo>
                  <a:lnTo>
                    <a:pt x="1301" y="1685"/>
                  </a:lnTo>
                  <a:lnTo>
                    <a:pt x="1292" y="1685"/>
                  </a:lnTo>
                  <a:lnTo>
                    <a:pt x="1286" y="1677"/>
                  </a:lnTo>
                  <a:lnTo>
                    <a:pt x="1275" y="1668"/>
                  </a:lnTo>
                  <a:lnTo>
                    <a:pt x="1266" y="1665"/>
                  </a:lnTo>
                  <a:lnTo>
                    <a:pt x="1248" y="1659"/>
                  </a:lnTo>
                  <a:lnTo>
                    <a:pt x="1240" y="1659"/>
                  </a:lnTo>
                  <a:lnTo>
                    <a:pt x="1234" y="1668"/>
                  </a:lnTo>
                  <a:lnTo>
                    <a:pt x="1225" y="1671"/>
                  </a:lnTo>
                  <a:lnTo>
                    <a:pt x="1216" y="1674"/>
                  </a:lnTo>
                  <a:lnTo>
                    <a:pt x="1208" y="1674"/>
                  </a:lnTo>
                  <a:lnTo>
                    <a:pt x="1199" y="1671"/>
                  </a:lnTo>
                  <a:lnTo>
                    <a:pt x="1190" y="1674"/>
                  </a:lnTo>
                  <a:lnTo>
                    <a:pt x="1176" y="1671"/>
                  </a:lnTo>
                  <a:lnTo>
                    <a:pt x="1167" y="1668"/>
                  </a:lnTo>
                  <a:lnTo>
                    <a:pt x="1161" y="1677"/>
                  </a:lnTo>
                  <a:lnTo>
                    <a:pt x="1152" y="1682"/>
                  </a:lnTo>
                  <a:lnTo>
                    <a:pt x="1144" y="1682"/>
                  </a:lnTo>
                  <a:lnTo>
                    <a:pt x="1132" y="1682"/>
                  </a:lnTo>
                  <a:lnTo>
                    <a:pt x="1132" y="1691"/>
                  </a:lnTo>
                  <a:lnTo>
                    <a:pt x="1132" y="1700"/>
                  </a:lnTo>
                  <a:lnTo>
                    <a:pt x="1147" y="1708"/>
                  </a:lnTo>
                  <a:lnTo>
                    <a:pt x="1155" y="1720"/>
                  </a:lnTo>
                  <a:lnTo>
                    <a:pt x="1158" y="1729"/>
                  </a:lnTo>
                  <a:lnTo>
                    <a:pt x="1158" y="1737"/>
                  </a:lnTo>
                  <a:lnTo>
                    <a:pt x="1161" y="1746"/>
                  </a:lnTo>
                  <a:lnTo>
                    <a:pt x="1161" y="1737"/>
                  </a:lnTo>
                  <a:lnTo>
                    <a:pt x="1155" y="1726"/>
                  </a:lnTo>
                  <a:lnTo>
                    <a:pt x="1152" y="1717"/>
                  </a:lnTo>
                  <a:lnTo>
                    <a:pt x="1138" y="1717"/>
                  </a:lnTo>
                  <a:lnTo>
                    <a:pt x="1129" y="1711"/>
                  </a:lnTo>
                  <a:lnTo>
                    <a:pt x="1120" y="1711"/>
                  </a:lnTo>
                  <a:lnTo>
                    <a:pt x="1117" y="1720"/>
                  </a:lnTo>
                  <a:lnTo>
                    <a:pt x="1114" y="1731"/>
                  </a:lnTo>
                  <a:lnTo>
                    <a:pt x="1114" y="1740"/>
                  </a:lnTo>
                  <a:lnTo>
                    <a:pt x="1126" y="1740"/>
                  </a:lnTo>
                  <a:lnTo>
                    <a:pt x="1138" y="1743"/>
                  </a:lnTo>
                  <a:lnTo>
                    <a:pt x="1129" y="1743"/>
                  </a:lnTo>
                  <a:lnTo>
                    <a:pt x="1120" y="1743"/>
                  </a:lnTo>
                  <a:lnTo>
                    <a:pt x="1112" y="1746"/>
                  </a:lnTo>
                  <a:lnTo>
                    <a:pt x="1103" y="1752"/>
                  </a:lnTo>
                  <a:lnTo>
                    <a:pt x="1094" y="1755"/>
                  </a:lnTo>
                  <a:lnTo>
                    <a:pt x="1085" y="1763"/>
                  </a:lnTo>
                  <a:lnTo>
                    <a:pt x="1077" y="1766"/>
                  </a:lnTo>
                  <a:lnTo>
                    <a:pt x="1068" y="1766"/>
                  </a:lnTo>
                  <a:lnTo>
                    <a:pt x="1077" y="1772"/>
                  </a:lnTo>
                  <a:lnTo>
                    <a:pt x="1085" y="1772"/>
                  </a:lnTo>
                  <a:lnTo>
                    <a:pt x="1097" y="1775"/>
                  </a:lnTo>
                  <a:lnTo>
                    <a:pt x="1091" y="1783"/>
                  </a:lnTo>
                  <a:lnTo>
                    <a:pt x="1080" y="1786"/>
                  </a:lnTo>
                  <a:lnTo>
                    <a:pt x="1071" y="1786"/>
                  </a:lnTo>
                  <a:lnTo>
                    <a:pt x="1062" y="1789"/>
                  </a:lnTo>
                  <a:lnTo>
                    <a:pt x="1056" y="1798"/>
                  </a:lnTo>
                  <a:lnTo>
                    <a:pt x="1056" y="1806"/>
                  </a:lnTo>
                  <a:lnTo>
                    <a:pt x="1056" y="1815"/>
                  </a:lnTo>
                  <a:lnTo>
                    <a:pt x="1056" y="1824"/>
                  </a:lnTo>
                  <a:lnTo>
                    <a:pt x="1056" y="1832"/>
                  </a:lnTo>
                  <a:lnTo>
                    <a:pt x="1056" y="1841"/>
                  </a:lnTo>
                  <a:lnTo>
                    <a:pt x="1062" y="1850"/>
                  </a:lnTo>
                  <a:lnTo>
                    <a:pt x="1074" y="1855"/>
                  </a:lnTo>
                  <a:lnTo>
                    <a:pt x="1082" y="1855"/>
                  </a:lnTo>
                  <a:lnTo>
                    <a:pt x="1091" y="1855"/>
                  </a:lnTo>
                  <a:lnTo>
                    <a:pt x="1103" y="1855"/>
                  </a:lnTo>
                  <a:lnTo>
                    <a:pt x="1112" y="1855"/>
                  </a:lnTo>
                  <a:lnTo>
                    <a:pt x="1120" y="1855"/>
                  </a:lnTo>
                  <a:lnTo>
                    <a:pt x="1132" y="1855"/>
                  </a:lnTo>
                  <a:lnTo>
                    <a:pt x="1144" y="1855"/>
                  </a:lnTo>
                  <a:lnTo>
                    <a:pt x="1152" y="1852"/>
                  </a:lnTo>
                  <a:lnTo>
                    <a:pt x="1167" y="1852"/>
                  </a:lnTo>
                  <a:lnTo>
                    <a:pt x="1176" y="1844"/>
                  </a:lnTo>
                  <a:lnTo>
                    <a:pt x="1179" y="1835"/>
                  </a:lnTo>
                  <a:lnTo>
                    <a:pt x="1181" y="1827"/>
                  </a:lnTo>
                  <a:lnTo>
                    <a:pt x="1184" y="1835"/>
                  </a:lnTo>
                  <a:lnTo>
                    <a:pt x="1184" y="1844"/>
                  </a:lnTo>
                  <a:lnTo>
                    <a:pt x="1181" y="1852"/>
                  </a:lnTo>
                  <a:lnTo>
                    <a:pt x="1170" y="1858"/>
                  </a:lnTo>
                  <a:lnTo>
                    <a:pt x="1173" y="1867"/>
                  </a:lnTo>
                  <a:lnTo>
                    <a:pt x="1170" y="1876"/>
                  </a:lnTo>
                  <a:lnTo>
                    <a:pt x="1164" y="1884"/>
                  </a:lnTo>
                  <a:lnTo>
                    <a:pt x="1161" y="1893"/>
                  </a:lnTo>
                  <a:lnTo>
                    <a:pt x="1161" y="1901"/>
                  </a:lnTo>
                  <a:lnTo>
                    <a:pt x="1158" y="1910"/>
                  </a:lnTo>
                  <a:lnTo>
                    <a:pt x="1149" y="1913"/>
                  </a:lnTo>
                  <a:lnTo>
                    <a:pt x="1147" y="1922"/>
                  </a:lnTo>
                  <a:lnTo>
                    <a:pt x="1147" y="1930"/>
                  </a:lnTo>
                  <a:lnTo>
                    <a:pt x="1144" y="1939"/>
                  </a:lnTo>
                  <a:lnTo>
                    <a:pt x="1144" y="1948"/>
                  </a:lnTo>
                  <a:lnTo>
                    <a:pt x="1141" y="1956"/>
                  </a:lnTo>
                  <a:lnTo>
                    <a:pt x="1141" y="1968"/>
                  </a:lnTo>
                  <a:lnTo>
                    <a:pt x="1141" y="1976"/>
                  </a:lnTo>
                  <a:lnTo>
                    <a:pt x="1155" y="1956"/>
                  </a:lnTo>
                  <a:lnTo>
                    <a:pt x="1144" y="1956"/>
                  </a:lnTo>
                  <a:lnTo>
                    <a:pt x="1144" y="1965"/>
                  </a:lnTo>
                  <a:lnTo>
                    <a:pt x="1144" y="1974"/>
                  </a:lnTo>
                  <a:lnTo>
                    <a:pt x="1144" y="1982"/>
                  </a:lnTo>
                  <a:lnTo>
                    <a:pt x="1138" y="1991"/>
                  </a:lnTo>
                  <a:lnTo>
                    <a:pt x="1129" y="1997"/>
                  </a:lnTo>
                  <a:lnTo>
                    <a:pt x="1120" y="1997"/>
                  </a:lnTo>
                  <a:lnTo>
                    <a:pt x="1117" y="2005"/>
                  </a:lnTo>
                  <a:lnTo>
                    <a:pt x="1117" y="2014"/>
                  </a:lnTo>
                  <a:lnTo>
                    <a:pt x="1117" y="2023"/>
                  </a:lnTo>
                  <a:lnTo>
                    <a:pt x="1117" y="2031"/>
                  </a:lnTo>
                  <a:lnTo>
                    <a:pt x="1120" y="2040"/>
                  </a:lnTo>
                  <a:lnTo>
                    <a:pt x="1129" y="2046"/>
                  </a:lnTo>
                  <a:lnTo>
                    <a:pt x="1144" y="2054"/>
                  </a:lnTo>
                  <a:lnTo>
                    <a:pt x="1152" y="2054"/>
                  </a:lnTo>
                  <a:lnTo>
                    <a:pt x="1158" y="2046"/>
                  </a:lnTo>
                  <a:lnTo>
                    <a:pt x="1158" y="2037"/>
                  </a:lnTo>
                  <a:lnTo>
                    <a:pt x="1170" y="2037"/>
                  </a:lnTo>
                  <a:lnTo>
                    <a:pt x="1179" y="2037"/>
                  </a:lnTo>
                  <a:lnTo>
                    <a:pt x="1187" y="2037"/>
                  </a:lnTo>
                  <a:lnTo>
                    <a:pt x="1199" y="2037"/>
                  </a:lnTo>
                  <a:lnTo>
                    <a:pt x="1208" y="2040"/>
                  </a:lnTo>
                  <a:lnTo>
                    <a:pt x="1216" y="2043"/>
                  </a:lnTo>
                  <a:lnTo>
                    <a:pt x="1225" y="2040"/>
                  </a:lnTo>
                  <a:lnTo>
                    <a:pt x="1228" y="2031"/>
                  </a:lnTo>
                  <a:lnTo>
                    <a:pt x="1231" y="2023"/>
                  </a:lnTo>
                  <a:lnTo>
                    <a:pt x="1237" y="2014"/>
                  </a:lnTo>
                  <a:lnTo>
                    <a:pt x="1245" y="2005"/>
                  </a:lnTo>
                  <a:lnTo>
                    <a:pt x="1251" y="1997"/>
                  </a:lnTo>
                  <a:lnTo>
                    <a:pt x="1260" y="1991"/>
                  </a:lnTo>
                  <a:lnTo>
                    <a:pt x="1266" y="1982"/>
                  </a:lnTo>
                  <a:lnTo>
                    <a:pt x="1269" y="1974"/>
                  </a:lnTo>
                  <a:lnTo>
                    <a:pt x="1272" y="1965"/>
                  </a:lnTo>
                  <a:lnTo>
                    <a:pt x="1280" y="1962"/>
                  </a:lnTo>
                  <a:lnTo>
                    <a:pt x="1289" y="1962"/>
                  </a:lnTo>
                  <a:lnTo>
                    <a:pt x="1298" y="1959"/>
                  </a:lnTo>
                  <a:lnTo>
                    <a:pt x="1301" y="1950"/>
                  </a:lnTo>
                  <a:lnTo>
                    <a:pt x="1304" y="1942"/>
                  </a:lnTo>
                  <a:lnTo>
                    <a:pt x="1301" y="1933"/>
                  </a:lnTo>
                  <a:lnTo>
                    <a:pt x="1292" y="1925"/>
                  </a:lnTo>
                  <a:lnTo>
                    <a:pt x="1301" y="1919"/>
                  </a:lnTo>
                  <a:lnTo>
                    <a:pt x="1310" y="1927"/>
                  </a:lnTo>
                  <a:lnTo>
                    <a:pt x="1318" y="1933"/>
                  </a:lnTo>
                  <a:lnTo>
                    <a:pt x="1324" y="1942"/>
                  </a:lnTo>
                  <a:lnTo>
                    <a:pt x="1333" y="1950"/>
                  </a:lnTo>
                  <a:lnTo>
                    <a:pt x="1342" y="1950"/>
                  </a:lnTo>
                  <a:lnTo>
                    <a:pt x="1350" y="1950"/>
                  </a:lnTo>
                  <a:lnTo>
                    <a:pt x="1353" y="1942"/>
                  </a:lnTo>
                  <a:lnTo>
                    <a:pt x="1353" y="1933"/>
                  </a:lnTo>
                  <a:lnTo>
                    <a:pt x="1356" y="1925"/>
                  </a:lnTo>
                  <a:lnTo>
                    <a:pt x="1356" y="1916"/>
                  </a:lnTo>
                  <a:lnTo>
                    <a:pt x="1359" y="1907"/>
                  </a:lnTo>
                  <a:lnTo>
                    <a:pt x="1359" y="1899"/>
                  </a:lnTo>
                  <a:lnTo>
                    <a:pt x="1356" y="1890"/>
                  </a:lnTo>
                  <a:lnTo>
                    <a:pt x="1347" y="1881"/>
                  </a:lnTo>
                  <a:lnTo>
                    <a:pt x="1347" y="1870"/>
                  </a:lnTo>
                  <a:lnTo>
                    <a:pt x="1347" y="1861"/>
                  </a:lnTo>
                  <a:lnTo>
                    <a:pt x="1356" y="1855"/>
                  </a:lnTo>
                  <a:lnTo>
                    <a:pt x="1362" y="1847"/>
                  </a:lnTo>
                  <a:lnTo>
                    <a:pt x="1371" y="1844"/>
                  </a:lnTo>
                  <a:lnTo>
                    <a:pt x="1379" y="1835"/>
                  </a:lnTo>
                  <a:lnTo>
                    <a:pt x="1382" y="1827"/>
                  </a:lnTo>
                  <a:lnTo>
                    <a:pt x="1391" y="1821"/>
                  </a:lnTo>
                  <a:lnTo>
                    <a:pt x="1400" y="1815"/>
                  </a:lnTo>
                  <a:lnTo>
                    <a:pt x="1406" y="1806"/>
                  </a:lnTo>
                  <a:lnTo>
                    <a:pt x="1414" y="1801"/>
                  </a:lnTo>
                  <a:lnTo>
                    <a:pt x="1423" y="1801"/>
                  </a:lnTo>
                  <a:lnTo>
                    <a:pt x="1435" y="1798"/>
                  </a:lnTo>
                  <a:lnTo>
                    <a:pt x="1443" y="1792"/>
                  </a:lnTo>
                  <a:lnTo>
                    <a:pt x="1452" y="1792"/>
                  </a:lnTo>
                  <a:lnTo>
                    <a:pt x="1464" y="1789"/>
                  </a:lnTo>
                  <a:lnTo>
                    <a:pt x="1473" y="1789"/>
                  </a:lnTo>
                  <a:lnTo>
                    <a:pt x="1481" y="1789"/>
                  </a:lnTo>
                  <a:lnTo>
                    <a:pt x="1490" y="1786"/>
                  </a:lnTo>
                  <a:lnTo>
                    <a:pt x="1499" y="1786"/>
                  </a:lnTo>
                  <a:lnTo>
                    <a:pt x="1508" y="1786"/>
                  </a:lnTo>
                  <a:lnTo>
                    <a:pt x="1516" y="1783"/>
                  </a:lnTo>
                  <a:lnTo>
                    <a:pt x="1516" y="1775"/>
                  </a:lnTo>
                  <a:lnTo>
                    <a:pt x="1516" y="1766"/>
                  </a:lnTo>
                  <a:lnTo>
                    <a:pt x="1513" y="1757"/>
                  </a:lnTo>
                  <a:lnTo>
                    <a:pt x="1522" y="1752"/>
                  </a:lnTo>
                  <a:lnTo>
                    <a:pt x="1528" y="1743"/>
                  </a:lnTo>
                  <a:lnTo>
                    <a:pt x="1537" y="1737"/>
                  </a:lnTo>
                  <a:lnTo>
                    <a:pt x="1545" y="1737"/>
                  </a:lnTo>
                  <a:lnTo>
                    <a:pt x="1554" y="1734"/>
                  </a:lnTo>
                  <a:lnTo>
                    <a:pt x="1563" y="1729"/>
                  </a:lnTo>
                  <a:lnTo>
                    <a:pt x="1572" y="1729"/>
                  </a:lnTo>
                  <a:lnTo>
                    <a:pt x="1580" y="1737"/>
                  </a:lnTo>
                  <a:lnTo>
                    <a:pt x="1589" y="1743"/>
                  </a:lnTo>
                  <a:lnTo>
                    <a:pt x="1598" y="1749"/>
                  </a:lnTo>
                  <a:lnTo>
                    <a:pt x="1601" y="1757"/>
                  </a:lnTo>
                  <a:lnTo>
                    <a:pt x="1601" y="1766"/>
                  </a:lnTo>
                  <a:lnTo>
                    <a:pt x="1604" y="1775"/>
                  </a:lnTo>
                  <a:lnTo>
                    <a:pt x="1604" y="1783"/>
                  </a:lnTo>
                  <a:lnTo>
                    <a:pt x="1592" y="1789"/>
                  </a:lnTo>
                  <a:lnTo>
                    <a:pt x="1580" y="1789"/>
                  </a:lnTo>
                  <a:lnTo>
                    <a:pt x="1572" y="1792"/>
                  </a:lnTo>
                  <a:lnTo>
                    <a:pt x="1566" y="1801"/>
                  </a:lnTo>
                  <a:lnTo>
                    <a:pt x="1557" y="1806"/>
                  </a:lnTo>
                  <a:lnTo>
                    <a:pt x="1548" y="1812"/>
                  </a:lnTo>
                  <a:lnTo>
                    <a:pt x="1537" y="1815"/>
                  </a:lnTo>
                  <a:lnTo>
                    <a:pt x="1528" y="1818"/>
                  </a:lnTo>
                  <a:lnTo>
                    <a:pt x="1519" y="1824"/>
                  </a:lnTo>
                  <a:lnTo>
                    <a:pt x="1510" y="1829"/>
                  </a:lnTo>
                  <a:lnTo>
                    <a:pt x="1502" y="1829"/>
                  </a:lnTo>
                  <a:lnTo>
                    <a:pt x="1490" y="1832"/>
                  </a:lnTo>
                  <a:lnTo>
                    <a:pt x="1481" y="1835"/>
                  </a:lnTo>
                  <a:lnTo>
                    <a:pt x="1473" y="1835"/>
                  </a:lnTo>
                  <a:lnTo>
                    <a:pt x="1464" y="1841"/>
                  </a:lnTo>
                  <a:lnTo>
                    <a:pt x="1458" y="1850"/>
                  </a:lnTo>
                  <a:lnTo>
                    <a:pt x="1452" y="1858"/>
                  </a:lnTo>
                  <a:lnTo>
                    <a:pt x="1449" y="1867"/>
                  </a:lnTo>
                  <a:lnTo>
                    <a:pt x="1449" y="1876"/>
                  </a:lnTo>
                  <a:lnTo>
                    <a:pt x="1446" y="1884"/>
                  </a:lnTo>
                  <a:lnTo>
                    <a:pt x="1443" y="1893"/>
                  </a:lnTo>
                  <a:lnTo>
                    <a:pt x="1438" y="1901"/>
                  </a:lnTo>
                  <a:lnTo>
                    <a:pt x="1435" y="1910"/>
                  </a:lnTo>
                  <a:lnTo>
                    <a:pt x="1429" y="1919"/>
                  </a:lnTo>
                  <a:lnTo>
                    <a:pt x="1426" y="1927"/>
                  </a:lnTo>
                  <a:lnTo>
                    <a:pt x="1423" y="1936"/>
                  </a:lnTo>
                  <a:lnTo>
                    <a:pt x="1423" y="1945"/>
                  </a:lnTo>
                  <a:lnTo>
                    <a:pt x="1417" y="1953"/>
                  </a:lnTo>
                  <a:lnTo>
                    <a:pt x="1417" y="1962"/>
                  </a:lnTo>
                  <a:lnTo>
                    <a:pt x="1426" y="1962"/>
                  </a:lnTo>
                  <a:lnTo>
                    <a:pt x="1435" y="1974"/>
                  </a:lnTo>
                  <a:lnTo>
                    <a:pt x="1441" y="1982"/>
                  </a:lnTo>
                  <a:lnTo>
                    <a:pt x="1441" y="1991"/>
                  </a:lnTo>
                  <a:lnTo>
                    <a:pt x="1449" y="1991"/>
                  </a:lnTo>
                  <a:lnTo>
                    <a:pt x="1461" y="1991"/>
                  </a:lnTo>
                  <a:lnTo>
                    <a:pt x="1470" y="1991"/>
                  </a:lnTo>
                  <a:lnTo>
                    <a:pt x="1484" y="1994"/>
                  </a:lnTo>
                  <a:lnTo>
                    <a:pt x="1493" y="1994"/>
                  </a:lnTo>
                  <a:lnTo>
                    <a:pt x="1502" y="1994"/>
                  </a:lnTo>
                  <a:lnTo>
                    <a:pt x="1510" y="1991"/>
                  </a:lnTo>
                  <a:lnTo>
                    <a:pt x="1519" y="1997"/>
                  </a:lnTo>
                  <a:lnTo>
                    <a:pt x="1531" y="1988"/>
                  </a:lnTo>
                  <a:lnTo>
                    <a:pt x="1540" y="1991"/>
                  </a:lnTo>
                  <a:lnTo>
                    <a:pt x="1548" y="1994"/>
                  </a:lnTo>
                  <a:lnTo>
                    <a:pt x="1557" y="1997"/>
                  </a:lnTo>
                  <a:lnTo>
                    <a:pt x="1566" y="1997"/>
                  </a:lnTo>
                  <a:lnTo>
                    <a:pt x="1569" y="2005"/>
                  </a:lnTo>
                  <a:lnTo>
                    <a:pt x="1569" y="2014"/>
                  </a:lnTo>
                  <a:lnTo>
                    <a:pt x="1569" y="2023"/>
                  </a:lnTo>
                  <a:lnTo>
                    <a:pt x="1572" y="2031"/>
                  </a:lnTo>
                  <a:lnTo>
                    <a:pt x="1577" y="2040"/>
                  </a:lnTo>
                  <a:lnTo>
                    <a:pt x="1586" y="2048"/>
                  </a:lnTo>
                  <a:lnTo>
                    <a:pt x="1577" y="2040"/>
                  </a:lnTo>
                  <a:lnTo>
                    <a:pt x="1569" y="2037"/>
                  </a:lnTo>
                  <a:lnTo>
                    <a:pt x="1557" y="2037"/>
                  </a:lnTo>
                  <a:lnTo>
                    <a:pt x="1548" y="2040"/>
                  </a:lnTo>
                  <a:lnTo>
                    <a:pt x="1548" y="2048"/>
                  </a:lnTo>
                  <a:lnTo>
                    <a:pt x="1540" y="2054"/>
                  </a:lnTo>
                  <a:lnTo>
                    <a:pt x="1531" y="2051"/>
                  </a:lnTo>
                  <a:lnTo>
                    <a:pt x="1522" y="2043"/>
                  </a:lnTo>
                  <a:lnTo>
                    <a:pt x="1513" y="2034"/>
                  </a:lnTo>
                  <a:lnTo>
                    <a:pt x="1505" y="2031"/>
                  </a:lnTo>
                  <a:lnTo>
                    <a:pt x="1496" y="2031"/>
                  </a:lnTo>
                  <a:lnTo>
                    <a:pt x="1487" y="2028"/>
                  </a:lnTo>
                  <a:lnTo>
                    <a:pt x="1478" y="2025"/>
                  </a:lnTo>
                  <a:lnTo>
                    <a:pt x="1470" y="2023"/>
                  </a:lnTo>
                  <a:lnTo>
                    <a:pt x="1461" y="2020"/>
                  </a:lnTo>
                  <a:lnTo>
                    <a:pt x="1452" y="2017"/>
                  </a:lnTo>
                  <a:lnTo>
                    <a:pt x="1441" y="2011"/>
                  </a:lnTo>
                  <a:lnTo>
                    <a:pt x="1432" y="2011"/>
                  </a:lnTo>
                  <a:lnTo>
                    <a:pt x="1426" y="2020"/>
                  </a:lnTo>
                  <a:lnTo>
                    <a:pt x="1426" y="2028"/>
                  </a:lnTo>
                  <a:lnTo>
                    <a:pt x="1423" y="2037"/>
                  </a:lnTo>
                  <a:lnTo>
                    <a:pt x="1417" y="2046"/>
                  </a:lnTo>
                  <a:lnTo>
                    <a:pt x="1414" y="2054"/>
                  </a:lnTo>
                  <a:lnTo>
                    <a:pt x="1426" y="2060"/>
                  </a:lnTo>
                  <a:lnTo>
                    <a:pt x="1432" y="2069"/>
                  </a:lnTo>
                  <a:lnTo>
                    <a:pt x="1429" y="2077"/>
                  </a:lnTo>
                  <a:lnTo>
                    <a:pt x="1423" y="2086"/>
                  </a:lnTo>
                  <a:lnTo>
                    <a:pt x="1414" y="2089"/>
                  </a:lnTo>
                  <a:lnTo>
                    <a:pt x="1409" y="2097"/>
                  </a:lnTo>
                  <a:lnTo>
                    <a:pt x="1403" y="2106"/>
                  </a:lnTo>
                  <a:lnTo>
                    <a:pt x="1400" y="2115"/>
                  </a:lnTo>
                  <a:lnTo>
                    <a:pt x="1391" y="2112"/>
                  </a:lnTo>
                  <a:lnTo>
                    <a:pt x="1388" y="2103"/>
                  </a:lnTo>
                  <a:lnTo>
                    <a:pt x="1385" y="2095"/>
                  </a:lnTo>
                  <a:lnTo>
                    <a:pt x="1382" y="2086"/>
                  </a:lnTo>
                  <a:lnTo>
                    <a:pt x="1382" y="2077"/>
                  </a:lnTo>
                  <a:lnTo>
                    <a:pt x="1379" y="2069"/>
                  </a:lnTo>
                  <a:lnTo>
                    <a:pt x="1371" y="2063"/>
                  </a:lnTo>
                  <a:lnTo>
                    <a:pt x="1359" y="2063"/>
                  </a:lnTo>
                  <a:lnTo>
                    <a:pt x="1350" y="2063"/>
                  </a:lnTo>
                  <a:lnTo>
                    <a:pt x="1344" y="2072"/>
                  </a:lnTo>
                  <a:lnTo>
                    <a:pt x="1339" y="2080"/>
                  </a:lnTo>
                  <a:lnTo>
                    <a:pt x="1333" y="2089"/>
                  </a:lnTo>
                  <a:lnTo>
                    <a:pt x="1327" y="2097"/>
                  </a:lnTo>
                  <a:lnTo>
                    <a:pt x="1321" y="2106"/>
                  </a:lnTo>
                  <a:lnTo>
                    <a:pt x="1312" y="2109"/>
                  </a:lnTo>
                  <a:lnTo>
                    <a:pt x="1304" y="2112"/>
                  </a:lnTo>
                  <a:lnTo>
                    <a:pt x="1304" y="2120"/>
                  </a:lnTo>
                  <a:lnTo>
                    <a:pt x="1301" y="2129"/>
                  </a:lnTo>
                  <a:lnTo>
                    <a:pt x="1298" y="2138"/>
                  </a:lnTo>
                  <a:lnTo>
                    <a:pt x="1295" y="2146"/>
                  </a:lnTo>
                  <a:lnTo>
                    <a:pt x="1295" y="2095"/>
                  </a:lnTo>
                  <a:lnTo>
                    <a:pt x="1304" y="2103"/>
                  </a:lnTo>
                  <a:lnTo>
                    <a:pt x="1304" y="2115"/>
                  </a:lnTo>
                  <a:lnTo>
                    <a:pt x="1301" y="2123"/>
                  </a:lnTo>
                  <a:lnTo>
                    <a:pt x="1298" y="2132"/>
                  </a:lnTo>
                  <a:lnTo>
                    <a:pt x="1298" y="2141"/>
                  </a:lnTo>
                  <a:lnTo>
                    <a:pt x="1295" y="2149"/>
                  </a:lnTo>
                  <a:lnTo>
                    <a:pt x="1292" y="2161"/>
                  </a:lnTo>
                  <a:lnTo>
                    <a:pt x="1289" y="2169"/>
                  </a:lnTo>
                  <a:lnTo>
                    <a:pt x="1280" y="2175"/>
                  </a:lnTo>
                  <a:lnTo>
                    <a:pt x="1278" y="2167"/>
                  </a:lnTo>
                  <a:lnTo>
                    <a:pt x="1275" y="2155"/>
                  </a:lnTo>
                  <a:lnTo>
                    <a:pt x="1272" y="2146"/>
                  </a:lnTo>
                  <a:lnTo>
                    <a:pt x="1263" y="2146"/>
                  </a:lnTo>
                  <a:lnTo>
                    <a:pt x="1251" y="2149"/>
                  </a:lnTo>
                  <a:lnTo>
                    <a:pt x="1245" y="2158"/>
                  </a:lnTo>
                  <a:lnTo>
                    <a:pt x="1240" y="2167"/>
                  </a:lnTo>
                  <a:lnTo>
                    <a:pt x="1228" y="2167"/>
                  </a:lnTo>
                  <a:lnTo>
                    <a:pt x="1216" y="2167"/>
                  </a:lnTo>
                  <a:lnTo>
                    <a:pt x="1213" y="2155"/>
                  </a:lnTo>
                  <a:lnTo>
                    <a:pt x="1213" y="2144"/>
                  </a:lnTo>
                  <a:lnTo>
                    <a:pt x="1205" y="2138"/>
                  </a:lnTo>
                  <a:lnTo>
                    <a:pt x="1196" y="2132"/>
                  </a:lnTo>
                  <a:lnTo>
                    <a:pt x="1179" y="2126"/>
                  </a:lnTo>
                  <a:lnTo>
                    <a:pt x="1170" y="2123"/>
                  </a:lnTo>
                  <a:lnTo>
                    <a:pt x="1158" y="2123"/>
                  </a:lnTo>
                  <a:lnTo>
                    <a:pt x="1152" y="2132"/>
                  </a:lnTo>
                  <a:lnTo>
                    <a:pt x="1141" y="2135"/>
                  </a:lnTo>
                  <a:lnTo>
                    <a:pt x="1132" y="2132"/>
                  </a:lnTo>
                  <a:lnTo>
                    <a:pt x="1123" y="2123"/>
                  </a:lnTo>
                  <a:lnTo>
                    <a:pt x="1114" y="2118"/>
                  </a:lnTo>
                  <a:lnTo>
                    <a:pt x="1106" y="2115"/>
                  </a:lnTo>
                  <a:lnTo>
                    <a:pt x="1097" y="2115"/>
                  </a:lnTo>
                  <a:lnTo>
                    <a:pt x="1094" y="2106"/>
                  </a:lnTo>
                  <a:lnTo>
                    <a:pt x="1094" y="2097"/>
                  </a:lnTo>
                  <a:lnTo>
                    <a:pt x="1094" y="2089"/>
                  </a:lnTo>
                  <a:lnTo>
                    <a:pt x="1091" y="2077"/>
                  </a:lnTo>
                  <a:lnTo>
                    <a:pt x="1091" y="2069"/>
                  </a:lnTo>
                  <a:lnTo>
                    <a:pt x="1082" y="2066"/>
                  </a:lnTo>
                  <a:lnTo>
                    <a:pt x="1074" y="2066"/>
                  </a:lnTo>
                  <a:lnTo>
                    <a:pt x="1065" y="2066"/>
                  </a:lnTo>
                  <a:lnTo>
                    <a:pt x="1056" y="2066"/>
                  </a:lnTo>
                  <a:lnTo>
                    <a:pt x="1048" y="2066"/>
                  </a:lnTo>
                  <a:lnTo>
                    <a:pt x="1039" y="2066"/>
                  </a:lnTo>
                  <a:lnTo>
                    <a:pt x="1027" y="2063"/>
                  </a:lnTo>
                  <a:lnTo>
                    <a:pt x="1021" y="2054"/>
                  </a:lnTo>
                  <a:lnTo>
                    <a:pt x="1021" y="2046"/>
                  </a:lnTo>
                  <a:lnTo>
                    <a:pt x="1016" y="2048"/>
                  </a:lnTo>
                  <a:lnTo>
                    <a:pt x="1036" y="2031"/>
                  </a:lnTo>
                  <a:lnTo>
                    <a:pt x="1048" y="2020"/>
                  </a:lnTo>
                  <a:lnTo>
                    <a:pt x="1059" y="2017"/>
                  </a:lnTo>
                  <a:lnTo>
                    <a:pt x="1062" y="2025"/>
                  </a:lnTo>
                  <a:lnTo>
                    <a:pt x="1050" y="2025"/>
                  </a:lnTo>
                  <a:lnTo>
                    <a:pt x="1059" y="2025"/>
                  </a:lnTo>
                  <a:lnTo>
                    <a:pt x="1071" y="2025"/>
                  </a:lnTo>
                  <a:lnTo>
                    <a:pt x="1080" y="2025"/>
                  </a:lnTo>
                  <a:lnTo>
                    <a:pt x="1088" y="2028"/>
                  </a:lnTo>
                  <a:lnTo>
                    <a:pt x="1097" y="2028"/>
                  </a:lnTo>
                  <a:lnTo>
                    <a:pt x="1106" y="2025"/>
                  </a:lnTo>
                  <a:lnTo>
                    <a:pt x="1109" y="2017"/>
                  </a:lnTo>
                  <a:lnTo>
                    <a:pt x="1112" y="2008"/>
                  </a:lnTo>
                  <a:lnTo>
                    <a:pt x="1103" y="1999"/>
                  </a:lnTo>
                  <a:lnTo>
                    <a:pt x="1100" y="1991"/>
                  </a:lnTo>
                  <a:lnTo>
                    <a:pt x="1094" y="1982"/>
                  </a:lnTo>
                  <a:lnTo>
                    <a:pt x="1091" y="1974"/>
                  </a:lnTo>
                  <a:lnTo>
                    <a:pt x="1082" y="1971"/>
                  </a:lnTo>
                  <a:lnTo>
                    <a:pt x="1077" y="1979"/>
                  </a:lnTo>
                  <a:lnTo>
                    <a:pt x="1077" y="1991"/>
                  </a:lnTo>
                  <a:lnTo>
                    <a:pt x="1077" y="1999"/>
                  </a:lnTo>
                  <a:lnTo>
                    <a:pt x="1071" y="2008"/>
                  </a:lnTo>
                  <a:lnTo>
                    <a:pt x="1068" y="2020"/>
                  </a:lnTo>
                  <a:lnTo>
                    <a:pt x="1068" y="2028"/>
                  </a:lnTo>
                  <a:lnTo>
                    <a:pt x="1059" y="2031"/>
                  </a:lnTo>
                  <a:lnTo>
                    <a:pt x="1048" y="2031"/>
                  </a:lnTo>
                  <a:lnTo>
                    <a:pt x="1039" y="2031"/>
                  </a:lnTo>
                  <a:lnTo>
                    <a:pt x="1030" y="2031"/>
                  </a:lnTo>
                  <a:lnTo>
                    <a:pt x="1027" y="2020"/>
                  </a:lnTo>
                  <a:lnTo>
                    <a:pt x="1027" y="2011"/>
                  </a:lnTo>
                  <a:lnTo>
                    <a:pt x="1027" y="2002"/>
                  </a:lnTo>
                  <a:lnTo>
                    <a:pt x="1027" y="1994"/>
                  </a:lnTo>
                  <a:lnTo>
                    <a:pt x="1027" y="1985"/>
                  </a:lnTo>
                  <a:lnTo>
                    <a:pt x="1030" y="1976"/>
                  </a:lnTo>
                  <a:lnTo>
                    <a:pt x="1039" y="1974"/>
                  </a:lnTo>
                  <a:lnTo>
                    <a:pt x="1042" y="1982"/>
                  </a:lnTo>
                  <a:lnTo>
                    <a:pt x="1042" y="1994"/>
                  </a:lnTo>
                  <a:lnTo>
                    <a:pt x="1045" y="2002"/>
                  </a:lnTo>
                  <a:lnTo>
                    <a:pt x="1050" y="2011"/>
                  </a:lnTo>
                  <a:lnTo>
                    <a:pt x="1062" y="2014"/>
                  </a:lnTo>
                  <a:lnTo>
                    <a:pt x="1074" y="2014"/>
                  </a:lnTo>
                  <a:lnTo>
                    <a:pt x="1082" y="2005"/>
                  </a:lnTo>
                  <a:lnTo>
                    <a:pt x="1082" y="1997"/>
                  </a:lnTo>
                  <a:lnTo>
                    <a:pt x="1074" y="1985"/>
                  </a:lnTo>
                  <a:lnTo>
                    <a:pt x="1065" y="1979"/>
                  </a:lnTo>
                  <a:lnTo>
                    <a:pt x="1065" y="1971"/>
                  </a:lnTo>
                  <a:lnTo>
                    <a:pt x="1074" y="1968"/>
                  </a:lnTo>
                  <a:lnTo>
                    <a:pt x="1082" y="1968"/>
                  </a:lnTo>
                  <a:lnTo>
                    <a:pt x="1091" y="1962"/>
                  </a:lnTo>
                  <a:lnTo>
                    <a:pt x="1091" y="1953"/>
                  </a:lnTo>
                  <a:lnTo>
                    <a:pt x="1091" y="1945"/>
                  </a:lnTo>
                  <a:lnTo>
                    <a:pt x="1100" y="1939"/>
                  </a:lnTo>
                  <a:lnTo>
                    <a:pt x="1109" y="1936"/>
                  </a:lnTo>
                  <a:lnTo>
                    <a:pt x="1117" y="1936"/>
                  </a:lnTo>
                  <a:lnTo>
                    <a:pt x="1123" y="1927"/>
                  </a:lnTo>
                  <a:lnTo>
                    <a:pt x="1126" y="1919"/>
                  </a:lnTo>
                  <a:lnTo>
                    <a:pt x="1126" y="1910"/>
                  </a:lnTo>
                  <a:lnTo>
                    <a:pt x="1126" y="1901"/>
                  </a:lnTo>
                  <a:lnTo>
                    <a:pt x="1114" y="1901"/>
                  </a:lnTo>
                  <a:lnTo>
                    <a:pt x="1106" y="1901"/>
                  </a:lnTo>
                  <a:lnTo>
                    <a:pt x="1097" y="1901"/>
                  </a:lnTo>
                  <a:lnTo>
                    <a:pt x="1088" y="1904"/>
                  </a:lnTo>
                  <a:lnTo>
                    <a:pt x="1080" y="1910"/>
                  </a:lnTo>
                  <a:lnTo>
                    <a:pt x="1077" y="1925"/>
                  </a:lnTo>
                  <a:lnTo>
                    <a:pt x="1077" y="1933"/>
                  </a:lnTo>
                  <a:lnTo>
                    <a:pt x="1068" y="1933"/>
                  </a:lnTo>
                  <a:lnTo>
                    <a:pt x="1059" y="1922"/>
                  </a:lnTo>
                  <a:lnTo>
                    <a:pt x="1056" y="1913"/>
                  </a:lnTo>
                  <a:lnTo>
                    <a:pt x="1068" y="1910"/>
                  </a:lnTo>
                  <a:lnTo>
                    <a:pt x="1077" y="1910"/>
                  </a:lnTo>
                  <a:lnTo>
                    <a:pt x="1065" y="1901"/>
                  </a:lnTo>
                  <a:lnTo>
                    <a:pt x="1056" y="1896"/>
                  </a:lnTo>
                  <a:lnTo>
                    <a:pt x="1056" y="1904"/>
                  </a:lnTo>
                  <a:lnTo>
                    <a:pt x="1048" y="1910"/>
                  </a:lnTo>
                  <a:lnTo>
                    <a:pt x="1039" y="1919"/>
                  </a:lnTo>
                  <a:lnTo>
                    <a:pt x="1036" y="1927"/>
                  </a:lnTo>
                  <a:lnTo>
                    <a:pt x="1030" y="1936"/>
                  </a:lnTo>
                  <a:lnTo>
                    <a:pt x="1024" y="1945"/>
                  </a:lnTo>
                  <a:lnTo>
                    <a:pt x="1016" y="1950"/>
                  </a:lnTo>
                  <a:lnTo>
                    <a:pt x="1004" y="1953"/>
                  </a:lnTo>
                  <a:lnTo>
                    <a:pt x="1001" y="1962"/>
                  </a:lnTo>
                  <a:lnTo>
                    <a:pt x="1001" y="1971"/>
                  </a:lnTo>
                  <a:lnTo>
                    <a:pt x="1001" y="1979"/>
                  </a:lnTo>
                  <a:lnTo>
                    <a:pt x="1001" y="1988"/>
                  </a:lnTo>
                  <a:lnTo>
                    <a:pt x="1001" y="1997"/>
                  </a:lnTo>
                  <a:lnTo>
                    <a:pt x="995" y="2005"/>
                  </a:lnTo>
                  <a:lnTo>
                    <a:pt x="986" y="2011"/>
                  </a:lnTo>
                  <a:lnTo>
                    <a:pt x="981" y="2020"/>
                  </a:lnTo>
                  <a:lnTo>
                    <a:pt x="981" y="2028"/>
                  </a:lnTo>
                  <a:lnTo>
                    <a:pt x="981" y="2037"/>
                  </a:lnTo>
                  <a:lnTo>
                    <a:pt x="978" y="2046"/>
                  </a:lnTo>
                  <a:lnTo>
                    <a:pt x="978" y="2054"/>
                  </a:lnTo>
                  <a:lnTo>
                    <a:pt x="983" y="2046"/>
                  </a:lnTo>
                  <a:lnTo>
                    <a:pt x="983" y="2037"/>
                  </a:lnTo>
                  <a:lnTo>
                    <a:pt x="975" y="2034"/>
                  </a:lnTo>
                  <a:lnTo>
                    <a:pt x="966" y="2034"/>
                  </a:lnTo>
                  <a:lnTo>
                    <a:pt x="957" y="2034"/>
                  </a:lnTo>
                  <a:lnTo>
                    <a:pt x="949" y="2023"/>
                  </a:lnTo>
                  <a:lnTo>
                    <a:pt x="949" y="2011"/>
                  </a:lnTo>
                  <a:lnTo>
                    <a:pt x="940" y="2008"/>
                  </a:lnTo>
                  <a:lnTo>
                    <a:pt x="931" y="2008"/>
                  </a:lnTo>
                  <a:lnTo>
                    <a:pt x="922" y="2011"/>
                  </a:lnTo>
                  <a:lnTo>
                    <a:pt x="914" y="2008"/>
                  </a:lnTo>
                  <a:lnTo>
                    <a:pt x="899" y="2002"/>
                  </a:lnTo>
                  <a:lnTo>
                    <a:pt x="890" y="1988"/>
                  </a:lnTo>
                  <a:lnTo>
                    <a:pt x="885" y="1976"/>
                  </a:lnTo>
                  <a:lnTo>
                    <a:pt x="876" y="1976"/>
                  </a:lnTo>
                  <a:lnTo>
                    <a:pt x="867" y="1979"/>
                  </a:lnTo>
                  <a:lnTo>
                    <a:pt x="861" y="1988"/>
                  </a:lnTo>
                  <a:lnTo>
                    <a:pt x="852" y="1994"/>
                  </a:lnTo>
                  <a:lnTo>
                    <a:pt x="844" y="1999"/>
                  </a:lnTo>
                  <a:lnTo>
                    <a:pt x="835" y="2002"/>
                  </a:lnTo>
                  <a:lnTo>
                    <a:pt x="826" y="2005"/>
                  </a:lnTo>
                  <a:lnTo>
                    <a:pt x="818" y="2008"/>
                  </a:lnTo>
                  <a:lnTo>
                    <a:pt x="809" y="2008"/>
                  </a:lnTo>
                  <a:lnTo>
                    <a:pt x="797" y="2011"/>
                  </a:lnTo>
                  <a:lnTo>
                    <a:pt x="788" y="2011"/>
                  </a:lnTo>
                  <a:lnTo>
                    <a:pt x="797" y="2011"/>
                  </a:lnTo>
                  <a:lnTo>
                    <a:pt x="812" y="2014"/>
                  </a:lnTo>
                  <a:lnTo>
                    <a:pt x="803" y="2017"/>
                  </a:lnTo>
                  <a:lnTo>
                    <a:pt x="794" y="2020"/>
                  </a:lnTo>
                  <a:lnTo>
                    <a:pt x="803" y="2031"/>
                  </a:lnTo>
                  <a:lnTo>
                    <a:pt x="794" y="2031"/>
                  </a:lnTo>
                  <a:lnTo>
                    <a:pt x="786" y="2028"/>
                  </a:lnTo>
                  <a:lnTo>
                    <a:pt x="777" y="2023"/>
                  </a:lnTo>
                  <a:lnTo>
                    <a:pt x="771" y="2014"/>
                  </a:lnTo>
                  <a:lnTo>
                    <a:pt x="762" y="2011"/>
                  </a:lnTo>
                  <a:lnTo>
                    <a:pt x="751" y="2008"/>
                  </a:lnTo>
                  <a:lnTo>
                    <a:pt x="742" y="2008"/>
                  </a:lnTo>
                  <a:lnTo>
                    <a:pt x="733" y="2005"/>
                  </a:lnTo>
                  <a:lnTo>
                    <a:pt x="736" y="2002"/>
                  </a:lnTo>
                  <a:lnTo>
                    <a:pt x="721" y="1985"/>
                  </a:lnTo>
                  <a:lnTo>
                    <a:pt x="713" y="1985"/>
                  </a:lnTo>
                  <a:lnTo>
                    <a:pt x="710" y="1994"/>
                  </a:lnTo>
                  <a:lnTo>
                    <a:pt x="716" y="2005"/>
                  </a:lnTo>
                  <a:lnTo>
                    <a:pt x="713" y="2014"/>
                  </a:lnTo>
                  <a:lnTo>
                    <a:pt x="704" y="2020"/>
                  </a:lnTo>
                  <a:lnTo>
                    <a:pt x="704" y="2028"/>
                  </a:lnTo>
                  <a:lnTo>
                    <a:pt x="692" y="2031"/>
                  </a:lnTo>
                  <a:lnTo>
                    <a:pt x="684" y="2025"/>
                  </a:lnTo>
                  <a:lnTo>
                    <a:pt x="672" y="2020"/>
                  </a:lnTo>
                  <a:lnTo>
                    <a:pt x="660" y="2017"/>
                  </a:lnTo>
                  <a:lnTo>
                    <a:pt x="646" y="2011"/>
                  </a:lnTo>
                  <a:lnTo>
                    <a:pt x="634" y="2008"/>
                  </a:lnTo>
                  <a:lnTo>
                    <a:pt x="625" y="2005"/>
                  </a:lnTo>
                  <a:lnTo>
                    <a:pt x="622" y="1997"/>
                  </a:lnTo>
                  <a:lnTo>
                    <a:pt x="620" y="1988"/>
                  </a:lnTo>
                  <a:lnTo>
                    <a:pt x="611" y="1979"/>
                  </a:lnTo>
                  <a:lnTo>
                    <a:pt x="608" y="1971"/>
                  </a:lnTo>
                  <a:lnTo>
                    <a:pt x="599" y="1968"/>
                  </a:lnTo>
                  <a:lnTo>
                    <a:pt x="590" y="1974"/>
                  </a:lnTo>
                  <a:lnTo>
                    <a:pt x="588" y="1985"/>
                  </a:lnTo>
                  <a:lnTo>
                    <a:pt x="585" y="1997"/>
                  </a:lnTo>
                  <a:lnTo>
                    <a:pt x="576" y="2002"/>
                  </a:lnTo>
                  <a:lnTo>
                    <a:pt x="567" y="1991"/>
                  </a:lnTo>
                  <a:lnTo>
                    <a:pt x="561" y="1982"/>
                  </a:lnTo>
                  <a:lnTo>
                    <a:pt x="553" y="1976"/>
                  </a:lnTo>
                  <a:lnTo>
                    <a:pt x="547" y="1968"/>
                  </a:lnTo>
                  <a:lnTo>
                    <a:pt x="541" y="1959"/>
                  </a:lnTo>
                  <a:lnTo>
                    <a:pt x="532" y="1956"/>
                  </a:lnTo>
                  <a:lnTo>
                    <a:pt x="524" y="1953"/>
                  </a:lnTo>
                  <a:lnTo>
                    <a:pt x="518" y="1945"/>
                  </a:lnTo>
                  <a:lnTo>
                    <a:pt x="509" y="1939"/>
                  </a:lnTo>
                  <a:lnTo>
                    <a:pt x="500" y="1939"/>
                  </a:lnTo>
                  <a:lnTo>
                    <a:pt x="494" y="1948"/>
                  </a:lnTo>
                  <a:lnTo>
                    <a:pt x="491" y="1956"/>
                  </a:lnTo>
                  <a:lnTo>
                    <a:pt x="486" y="1965"/>
                  </a:lnTo>
                  <a:lnTo>
                    <a:pt x="491" y="1974"/>
                  </a:lnTo>
                  <a:lnTo>
                    <a:pt x="500" y="1976"/>
                  </a:lnTo>
                  <a:lnTo>
                    <a:pt x="503" y="1985"/>
                  </a:lnTo>
                  <a:lnTo>
                    <a:pt x="506" y="1994"/>
                  </a:lnTo>
                  <a:lnTo>
                    <a:pt x="509" y="2002"/>
                  </a:lnTo>
                  <a:lnTo>
                    <a:pt x="512" y="2011"/>
                  </a:lnTo>
                  <a:lnTo>
                    <a:pt x="515" y="2020"/>
                  </a:lnTo>
                  <a:lnTo>
                    <a:pt x="518" y="2028"/>
                  </a:lnTo>
                  <a:lnTo>
                    <a:pt x="518" y="2037"/>
                  </a:lnTo>
                  <a:lnTo>
                    <a:pt x="518" y="2046"/>
                  </a:lnTo>
                  <a:lnTo>
                    <a:pt x="518" y="2054"/>
                  </a:lnTo>
                  <a:lnTo>
                    <a:pt x="515" y="2063"/>
                  </a:lnTo>
                  <a:lnTo>
                    <a:pt x="506" y="2072"/>
                  </a:lnTo>
                  <a:lnTo>
                    <a:pt x="503" y="2080"/>
                  </a:lnTo>
                  <a:lnTo>
                    <a:pt x="503" y="2089"/>
                  </a:lnTo>
                  <a:lnTo>
                    <a:pt x="503" y="2097"/>
                  </a:lnTo>
                  <a:lnTo>
                    <a:pt x="500" y="2106"/>
                  </a:lnTo>
                  <a:lnTo>
                    <a:pt x="491" y="2112"/>
                  </a:lnTo>
                  <a:lnTo>
                    <a:pt x="483" y="2118"/>
                  </a:lnTo>
                  <a:lnTo>
                    <a:pt x="483" y="2126"/>
                  </a:lnTo>
                  <a:lnTo>
                    <a:pt x="480" y="2138"/>
                  </a:lnTo>
                  <a:lnTo>
                    <a:pt x="477" y="2149"/>
                  </a:lnTo>
                  <a:lnTo>
                    <a:pt x="468" y="2144"/>
                  </a:lnTo>
                  <a:lnTo>
                    <a:pt x="459" y="2144"/>
                  </a:lnTo>
                  <a:lnTo>
                    <a:pt x="451" y="2144"/>
                  </a:lnTo>
                  <a:lnTo>
                    <a:pt x="442" y="2152"/>
                  </a:lnTo>
                  <a:lnTo>
                    <a:pt x="436" y="2161"/>
                  </a:lnTo>
                  <a:lnTo>
                    <a:pt x="427" y="2167"/>
                  </a:lnTo>
                  <a:lnTo>
                    <a:pt x="419" y="2175"/>
                  </a:lnTo>
                  <a:lnTo>
                    <a:pt x="407" y="2181"/>
                  </a:lnTo>
                  <a:lnTo>
                    <a:pt x="398" y="2184"/>
                  </a:lnTo>
                  <a:lnTo>
                    <a:pt x="393" y="2175"/>
                  </a:lnTo>
                  <a:lnTo>
                    <a:pt x="390" y="2167"/>
                  </a:lnTo>
                  <a:lnTo>
                    <a:pt x="384" y="2158"/>
                  </a:lnTo>
                  <a:lnTo>
                    <a:pt x="369" y="2149"/>
                  </a:lnTo>
                  <a:lnTo>
                    <a:pt x="358" y="2144"/>
                  </a:lnTo>
                  <a:lnTo>
                    <a:pt x="355" y="2135"/>
                  </a:lnTo>
                  <a:lnTo>
                    <a:pt x="349" y="2126"/>
                  </a:lnTo>
                  <a:lnTo>
                    <a:pt x="343" y="2118"/>
                  </a:lnTo>
                  <a:lnTo>
                    <a:pt x="334" y="2109"/>
                  </a:lnTo>
                  <a:lnTo>
                    <a:pt x="328" y="2100"/>
                  </a:lnTo>
                  <a:lnTo>
                    <a:pt x="320" y="2092"/>
                  </a:lnTo>
                  <a:lnTo>
                    <a:pt x="317" y="2080"/>
                  </a:lnTo>
                  <a:lnTo>
                    <a:pt x="317" y="2048"/>
                  </a:lnTo>
                  <a:lnTo>
                    <a:pt x="311" y="2060"/>
                  </a:lnTo>
                  <a:lnTo>
                    <a:pt x="302" y="2057"/>
                  </a:lnTo>
                  <a:lnTo>
                    <a:pt x="294" y="2051"/>
                  </a:lnTo>
                  <a:lnTo>
                    <a:pt x="282" y="2048"/>
                  </a:lnTo>
                  <a:lnTo>
                    <a:pt x="276" y="2040"/>
                  </a:lnTo>
                  <a:lnTo>
                    <a:pt x="270" y="2031"/>
                  </a:lnTo>
                  <a:lnTo>
                    <a:pt x="264" y="2023"/>
                  </a:lnTo>
                  <a:lnTo>
                    <a:pt x="259" y="2014"/>
                  </a:lnTo>
                  <a:lnTo>
                    <a:pt x="250" y="2008"/>
                  </a:lnTo>
                  <a:lnTo>
                    <a:pt x="241" y="2011"/>
                  </a:lnTo>
                  <a:lnTo>
                    <a:pt x="232" y="2011"/>
                  </a:lnTo>
                  <a:lnTo>
                    <a:pt x="227" y="2002"/>
                  </a:lnTo>
                  <a:lnTo>
                    <a:pt x="218" y="2002"/>
                  </a:lnTo>
                  <a:lnTo>
                    <a:pt x="209" y="2002"/>
                  </a:lnTo>
                  <a:lnTo>
                    <a:pt x="200" y="2002"/>
                  </a:lnTo>
                  <a:lnTo>
                    <a:pt x="203" y="2014"/>
                  </a:lnTo>
                  <a:lnTo>
                    <a:pt x="203" y="2025"/>
                  </a:lnTo>
                  <a:lnTo>
                    <a:pt x="200" y="2034"/>
                  </a:lnTo>
                  <a:lnTo>
                    <a:pt x="189" y="2037"/>
                  </a:lnTo>
                  <a:lnTo>
                    <a:pt x="180" y="2043"/>
                  </a:lnTo>
                  <a:lnTo>
                    <a:pt x="171" y="2051"/>
                  </a:lnTo>
                  <a:lnTo>
                    <a:pt x="168" y="2060"/>
                  </a:lnTo>
                  <a:lnTo>
                    <a:pt x="163" y="2072"/>
                  </a:lnTo>
                  <a:lnTo>
                    <a:pt x="154" y="2077"/>
                  </a:lnTo>
                  <a:lnTo>
                    <a:pt x="145" y="2083"/>
                  </a:lnTo>
                  <a:lnTo>
                    <a:pt x="136" y="2086"/>
                  </a:lnTo>
                  <a:lnTo>
                    <a:pt x="122" y="2092"/>
                  </a:lnTo>
                  <a:lnTo>
                    <a:pt x="113" y="2095"/>
                  </a:lnTo>
                  <a:lnTo>
                    <a:pt x="104" y="2097"/>
                  </a:lnTo>
                  <a:lnTo>
                    <a:pt x="96" y="2103"/>
                  </a:lnTo>
                  <a:lnTo>
                    <a:pt x="87" y="2109"/>
                  </a:lnTo>
                  <a:lnTo>
                    <a:pt x="78" y="2112"/>
                  </a:lnTo>
                  <a:lnTo>
                    <a:pt x="66" y="2112"/>
                  </a:lnTo>
                  <a:lnTo>
                    <a:pt x="58" y="2115"/>
                  </a:lnTo>
                  <a:lnTo>
                    <a:pt x="55" y="2123"/>
                  </a:lnTo>
                  <a:lnTo>
                    <a:pt x="49" y="2132"/>
                  </a:lnTo>
                  <a:lnTo>
                    <a:pt x="46" y="2141"/>
                  </a:lnTo>
                  <a:lnTo>
                    <a:pt x="58" y="2146"/>
                  </a:lnTo>
                  <a:lnTo>
                    <a:pt x="66" y="2146"/>
                  </a:lnTo>
                  <a:lnTo>
                    <a:pt x="75" y="2146"/>
                  </a:lnTo>
                  <a:lnTo>
                    <a:pt x="66" y="2158"/>
                  </a:lnTo>
                  <a:lnTo>
                    <a:pt x="55" y="2164"/>
                  </a:lnTo>
                  <a:lnTo>
                    <a:pt x="43" y="2169"/>
                  </a:lnTo>
                  <a:lnTo>
                    <a:pt x="34" y="2175"/>
                  </a:lnTo>
                  <a:lnTo>
                    <a:pt x="26" y="2181"/>
                  </a:lnTo>
                  <a:lnTo>
                    <a:pt x="23" y="2190"/>
                  </a:lnTo>
                  <a:lnTo>
                    <a:pt x="23" y="2198"/>
                  </a:lnTo>
                  <a:lnTo>
                    <a:pt x="14" y="2207"/>
                  </a:lnTo>
                  <a:lnTo>
                    <a:pt x="5" y="2210"/>
                  </a:lnTo>
                  <a:lnTo>
                    <a:pt x="0" y="2218"/>
                  </a:lnTo>
                  <a:lnTo>
                    <a:pt x="5" y="2227"/>
                  </a:lnTo>
                  <a:lnTo>
                    <a:pt x="14" y="2236"/>
                  </a:lnTo>
                  <a:lnTo>
                    <a:pt x="23" y="2244"/>
                  </a:lnTo>
                  <a:lnTo>
                    <a:pt x="37" y="2233"/>
                  </a:lnTo>
                  <a:lnTo>
                    <a:pt x="46" y="2230"/>
                  </a:lnTo>
                  <a:lnTo>
                    <a:pt x="49" y="2239"/>
                  </a:lnTo>
                  <a:lnTo>
                    <a:pt x="49" y="2247"/>
                  </a:lnTo>
                  <a:lnTo>
                    <a:pt x="52" y="2256"/>
                  </a:lnTo>
                  <a:lnTo>
                    <a:pt x="55" y="2265"/>
                  </a:lnTo>
                  <a:lnTo>
                    <a:pt x="58" y="2273"/>
                  </a:lnTo>
                  <a:lnTo>
                    <a:pt x="58" y="2282"/>
                  </a:lnTo>
                  <a:lnTo>
                    <a:pt x="61" y="2291"/>
                  </a:lnTo>
                  <a:lnTo>
                    <a:pt x="61" y="2299"/>
                  </a:lnTo>
                  <a:lnTo>
                    <a:pt x="58" y="2308"/>
                  </a:lnTo>
                  <a:lnTo>
                    <a:pt x="52" y="2316"/>
                  </a:lnTo>
                  <a:lnTo>
                    <a:pt x="52" y="2325"/>
                  </a:lnTo>
                  <a:lnTo>
                    <a:pt x="52" y="2334"/>
                  </a:lnTo>
                  <a:lnTo>
                    <a:pt x="49" y="2342"/>
                  </a:lnTo>
                  <a:lnTo>
                    <a:pt x="58" y="2348"/>
                  </a:lnTo>
                  <a:lnTo>
                    <a:pt x="69" y="2348"/>
                  </a:lnTo>
                  <a:lnTo>
                    <a:pt x="78" y="2348"/>
                  </a:lnTo>
                  <a:lnTo>
                    <a:pt x="87" y="2357"/>
                  </a:lnTo>
                  <a:lnTo>
                    <a:pt x="96" y="2360"/>
                  </a:lnTo>
                  <a:lnTo>
                    <a:pt x="104" y="2360"/>
                  </a:lnTo>
                  <a:lnTo>
                    <a:pt x="113" y="2365"/>
                  </a:lnTo>
                  <a:lnTo>
                    <a:pt x="122" y="2371"/>
                  </a:lnTo>
                  <a:lnTo>
                    <a:pt x="128" y="2380"/>
                  </a:lnTo>
                  <a:lnTo>
                    <a:pt x="139" y="2389"/>
                  </a:lnTo>
                  <a:lnTo>
                    <a:pt x="142" y="2397"/>
                  </a:lnTo>
                  <a:lnTo>
                    <a:pt x="151" y="2406"/>
                  </a:lnTo>
                  <a:lnTo>
                    <a:pt x="160" y="2414"/>
                  </a:lnTo>
                  <a:lnTo>
                    <a:pt x="168" y="2417"/>
                  </a:lnTo>
                  <a:lnTo>
                    <a:pt x="177" y="2420"/>
                  </a:lnTo>
                  <a:lnTo>
                    <a:pt x="186" y="2423"/>
                  </a:lnTo>
                  <a:lnTo>
                    <a:pt x="195" y="2423"/>
                  </a:lnTo>
                  <a:lnTo>
                    <a:pt x="203" y="2423"/>
                  </a:lnTo>
                  <a:lnTo>
                    <a:pt x="212" y="2423"/>
                  </a:lnTo>
                  <a:lnTo>
                    <a:pt x="221" y="2420"/>
                  </a:lnTo>
                  <a:lnTo>
                    <a:pt x="229" y="2420"/>
                  </a:lnTo>
                  <a:lnTo>
                    <a:pt x="238" y="2420"/>
                  </a:lnTo>
                  <a:lnTo>
                    <a:pt x="247" y="2417"/>
                  </a:lnTo>
                  <a:lnTo>
                    <a:pt x="256" y="2412"/>
                  </a:lnTo>
                  <a:lnTo>
                    <a:pt x="264" y="2412"/>
                  </a:lnTo>
                  <a:lnTo>
                    <a:pt x="276" y="2412"/>
                  </a:lnTo>
                  <a:lnTo>
                    <a:pt x="285" y="2412"/>
                  </a:lnTo>
                  <a:lnTo>
                    <a:pt x="294" y="2414"/>
                  </a:lnTo>
                  <a:lnTo>
                    <a:pt x="302" y="2414"/>
                  </a:lnTo>
                  <a:lnTo>
                    <a:pt x="305" y="2406"/>
                  </a:lnTo>
                  <a:lnTo>
                    <a:pt x="305" y="2397"/>
                  </a:lnTo>
                  <a:lnTo>
                    <a:pt x="302" y="2389"/>
                  </a:lnTo>
                  <a:lnTo>
                    <a:pt x="299" y="2380"/>
                  </a:lnTo>
                  <a:lnTo>
                    <a:pt x="302" y="2371"/>
                  </a:lnTo>
                  <a:lnTo>
                    <a:pt x="314" y="2368"/>
                  </a:lnTo>
                  <a:lnTo>
                    <a:pt x="323" y="2368"/>
                  </a:lnTo>
                  <a:lnTo>
                    <a:pt x="331" y="2368"/>
                  </a:lnTo>
                  <a:lnTo>
                    <a:pt x="343" y="2368"/>
                  </a:lnTo>
                  <a:lnTo>
                    <a:pt x="346" y="2360"/>
                  </a:lnTo>
                  <a:lnTo>
                    <a:pt x="355" y="2354"/>
                  </a:lnTo>
                  <a:lnTo>
                    <a:pt x="363" y="2351"/>
                  </a:lnTo>
                  <a:lnTo>
                    <a:pt x="372" y="2351"/>
                  </a:lnTo>
                  <a:lnTo>
                    <a:pt x="381" y="2348"/>
                  </a:lnTo>
                  <a:lnTo>
                    <a:pt x="390" y="2348"/>
                  </a:lnTo>
                  <a:lnTo>
                    <a:pt x="398" y="2348"/>
                  </a:lnTo>
                  <a:lnTo>
                    <a:pt x="407" y="2348"/>
                  </a:lnTo>
                  <a:lnTo>
                    <a:pt x="419" y="2354"/>
                  </a:lnTo>
                  <a:lnTo>
                    <a:pt x="427" y="2360"/>
                  </a:lnTo>
                  <a:lnTo>
                    <a:pt x="436" y="2360"/>
                  </a:lnTo>
                  <a:lnTo>
                    <a:pt x="445" y="2360"/>
                  </a:lnTo>
                  <a:lnTo>
                    <a:pt x="454" y="2363"/>
                  </a:lnTo>
                  <a:lnTo>
                    <a:pt x="462" y="2363"/>
                  </a:lnTo>
                  <a:lnTo>
                    <a:pt x="471" y="2363"/>
                  </a:lnTo>
                  <a:lnTo>
                    <a:pt x="480" y="2363"/>
                  </a:lnTo>
                  <a:lnTo>
                    <a:pt x="489" y="2360"/>
                  </a:lnTo>
                  <a:lnTo>
                    <a:pt x="494" y="2351"/>
                  </a:lnTo>
                  <a:lnTo>
                    <a:pt x="494" y="2342"/>
                  </a:lnTo>
                  <a:lnTo>
                    <a:pt x="494" y="2334"/>
                  </a:lnTo>
                  <a:lnTo>
                    <a:pt x="497" y="2325"/>
                  </a:lnTo>
                  <a:lnTo>
                    <a:pt x="506" y="2322"/>
                  </a:lnTo>
                  <a:lnTo>
                    <a:pt x="515" y="2322"/>
                  </a:lnTo>
                  <a:lnTo>
                    <a:pt x="524" y="2322"/>
                  </a:lnTo>
                  <a:lnTo>
                    <a:pt x="532" y="2322"/>
                  </a:lnTo>
                  <a:lnTo>
                    <a:pt x="541" y="2322"/>
                  </a:lnTo>
                  <a:lnTo>
                    <a:pt x="550" y="2328"/>
                  </a:lnTo>
                  <a:lnTo>
                    <a:pt x="556" y="2337"/>
                  </a:lnTo>
                  <a:lnTo>
                    <a:pt x="564" y="2342"/>
                  </a:lnTo>
                  <a:lnTo>
                    <a:pt x="570" y="2351"/>
                  </a:lnTo>
                  <a:lnTo>
                    <a:pt x="576" y="2360"/>
                  </a:lnTo>
                  <a:lnTo>
                    <a:pt x="585" y="2368"/>
                  </a:lnTo>
                  <a:lnTo>
                    <a:pt x="590" y="2377"/>
                  </a:lnTo>
                  <a:lnTo>
                    <a:pt x="599" y="2383"/>
                  </a:lnTo>
                  <a:lnTo>
                    <a:pt x="611" y="2386"/>
                  </a:lnTo>
                  <a:lnTo>
                    <a:pt x="620" y="2386"/>
                  </a:lnTo>
                  <a:lnTo>
                    <a:pt x="628" y="2386"/>
                  </a:lnTo>
                  <a:lnTo>
                    <a:pt x="637" y="2386"/>
                  </a:lnTo>
                  <a:lnTo>
                    <a:pt x="646" y="2386"/>
                  </a:lnTo>
                  <a:lnTo>
                    <a:pt x="655" y="2386"/>
                  </a:lnTo>
                  <a:lnTo>
                    <a:pt x="663" y="2389"/>
                  </a:lnTo>
                  <a:lnTo>
                    <a:pt x="672" y="2389"/>
                  </a:lnTo>
                  <a:lnTo>
                    <a:pt x="681" y="2389"/>
                  </a:lnTo>
                  <a:lnTo>
                    <a:pt x="689" y="2389"/>
                  </a:lnTo>
                  <a:lnTo>
                    <a:pt x="698" y="2394"/>
                  </a:lnTo>
                  <a:lnTo>
                    <a:pt x="707" y="2403"/>
                  </a:lnTo>
                  <a:lnTo>
                    <a:pt x="713" y="2412"/>
                  </a:lnTo>
                  <a:lnTo>
                    <a:pt x="716" y="2420"/>
                  </a:lnTo>
                  <a:lnTo>
                    <a:pt x="716" y="2429"/>
                  </a:lnTo>
                  <a:lnTo>
                    <a:pt x="716" y="2437"/>
                  </a:lnTo>
                  <a:lnTo>
                    <a:pt x="719" y="2446"/>
                  </a:lnTo>
                  <a:lnTo>
                    <a:pt x="719" y="2455"/>
                  </a:lnTo>
                  <a:lnTo>
                    <a:pt x="721" y="2463"/>
                  </a:lnTo>
                  <a:lnTo>
                    <a:pt x="721" y="2472"/>
                  </a:lnTo>
                  <a:lnTo>
                    <a:pt x="721" y="2481"/>
                  </a:lnTo>
                  <a:lnTo>
                    <a:pt x="721" y="2489"/>
                  </a:lnTo>
                  <a:lnTo>
                    <a:pt x="713" y="2492"/>
                  </a:lnTo>
                  <a:lnTo>
                    <a:pt x="704" y="2492"/>
                  </a:lnTo>
                  <a:lnTo>
                    <a:pt x="698" y="2501"/>
                  </a:lnTo>
                  <a:lnTo>
                    <a:pt x="707" y="2507"/>
                  </a:lnTo>
                  <a:lnTo>
                    <a:pt x="716" y="2512"/>
                  </a:lnTo>
                  <a:lnTo>
                    <a:pt x="721" y="2521"/>
                  </a:lnTo>
                  <a:lnTo>
                    <a:pt x="721" y="2530"/>
                  </a:lnTo>
                  <a:lnTo>
                    <a:pt x="719" y="2538"/>
                  </a:lnTo>
                  <a:lnTo>
                    <a:pt x="719" y="2547"/>
                  </a:lnTo>
                  <a:lnTo>
                    <a:pt x="719" y="2556"/>
                  </a:lnTo>
                  <a:lnTo>
                    <a:pt x="719" y="2564"/>
                  </a:lnTo>
                  <a:lnTo>
                    <a:pt x="721" y="2576"/>
                  </a:lnTo>
                  <a:lnTo>
                    <a:pt x="721" y="2584"/>
                  </a:lnTo>
                  <a:lnTo>
                    <a:pt x="727" y="2593"/>
                  </a:lnTo>
                  <a:lnTo>
                    <a:pt x="736" y="2602"/>
                  </a:lnTo>
                  <a:lnTo>
                    <a:pt x="742" y="2613"/>
                  </a:lnTo>
                  <a:lnTo>
                    <a:pt x="745" y="2625"/>
                  </a:lnTo>
                  <a:lnTo>
                    <a:pt x="756" y="2633"/>
                  </a:lnTo>
                  <a:lnTo>
                    <a:pt x="765" y="2642"/>
                  </a:lnTo>
                  <a:lnTo>
                    <a:pt x="768" y="2654"/>
                  </a:lnTo>
                  <a:lnTo>
                    <a:pt x="768" y="2662"/>
                  </a:lnTo>
                  <a:lnTo>
                    <a:pt x="768" y="2671"/>
                  </a:lnTo>
                  <a:lnTo>
                    <a:pt x="771" y="2682"/>
                  </a:lnTo>
                  <a:lnTo>
                    <a:pt x="780" y="2688"/>
                  </a:lnTo>
                  <a:lnTo>
                    <a:pt x="783" y="2697"/>
                  </a:lnTo>
                  <a:lnTo>
                    <a:pt x="786" y="2705"/>
                  </a:lnTo>
                  <a:lnTo>
                    <a:pt x="788" y="2714"/>
                  </a:lnTo>
                  <a:lnTo>
                    <a:pt x="788" y="2723"/>
                  </a:lnTo>
                  <a:lnTo>
                    <a:pt x="788" y="2731"/>
                  </a:lnTo>
                  <a:lnTo>
                    <a:pt x="788" y="2740"/>
                  </a:lnTo>
                  <a:lnTo>
                    <a:pt x="788" y="2749"/>
                  </a:lnTo>
                  <a:lnTo>
                    <a:pt x="788" y="2757"/>
                  </a:lnTo>
                  <a:lnTo>
                    <a:pt x="788" y="2769"/>
                  </a:lnTo>
                  <a:lnTo>
                    <a:pt x="783" y="2778"/>
                  </a:lnTo>
                  <a:lnTo>
                    <a:pt x="774" y="2778"/>
                  </a:lnTo>
                  <a:lnTo>
                    <a:pt x="765" y="2783"/>
                  </a:lnTo>
                  <a:lnTo>
                    <a:pt x="759" y="2792"/>
                  </a:lnTo>
                  <a:lnTo>
                    <a:pt x="751" y="2795"/>
                  </a:lnTo>
                  <a:lnTo>
                    <a:pt x="742" y="2789"/>
                  </a:lnTo>
                  <a:lnTo>
                    <a:pt x="730" y="2786"/>
                  </a:lnTo>
                  <a:lnTo>
                    <a:pt x="721" y="2780"/>
                  </a:lnTo>
                  <a:lnTo>
                    <a:pt x="713" y="2778"/>
                  </a:lnTo>
                  <a:lnTo>
                    <a:pt x="710" y="2766"/>
                  </a:lnTo>
                  <a:lnTo>
                    <a:pt x="707" y="2757"/>
                  </a:lnTo>
                  <a:lnTo>
                    <a:pt x="698" y="2754"/>
                  </a:lnTo>
                  <a:lnTo>
                    <a:pt x="687" y="2754"/>
                  </a:lnTo>
                  <a:lnTo>
                    <a:pt x="678" y="2746"/>
                  </a:lnTo>
                  <a:lnTo>
                    <a:pt x="672" y="2737"/>
                  </a:lnTo>
                  <a:lnTo>
                    <a:pt x="660" y="2731"/>
                  </a:lnTo>
                  <a:lnTo>
                    <a:pt x="652" y="2729"/>
                  </a:lnTo>
                  <a:lnTo>
                    <a:pt x="643" y="2729"/>
                  </a:lnTo>
                  <a:lnTo>
                    <a:pt x="634" y="2729"/>
                  </a:lnTo>
                  <a:lnTo>
                    <a:pt x="628" y="2737"/>
                  </a:lnTo>
                  <a:lnTo>
                    <a:pt x="628" y="2746"/>
                  </a:lnTo>
                  <a:lnTo>
                    <a:pt x="631" y="2754"/>
                  </a:lnTo>
                  <a:lnTo>
                    <a:pt x="640" y="2763"/>
                  </a:lnTo>
                  <a:lnTo>
                    <a:pt x="652" y="2769"/>
                  </a:lnTo>
                  <a:lnTo>
                    <a:pt x="660" y="2775"/>
                  </a:lnTo>
                  <a:lnTo>
                    <a:pt x="666" y="2783"/>
                  </a:lnTo>
                  <a:lnTo>
                    <a:pt x="669" y="2792"/>
                  </a:lnTo>
                  <a:lnTo>
                    <a:pt x="672" y="2801"/>
                  </a:lnTo>
                  <a:lnTo>
                    <a:pt x="675" y="2809"/>
                  </a:lnTo>
                  <a:lnTo>
                    <a:pt x="678" y="2818"/>
                  </a:lnTo>
                  <a:lnTo>
                    <a:pt x="687" y="2827"/>
                  </a:lnTo>
                  <a:lnTo>
                    <a:pt x="695" y="2829"/>
                  </a:lnTo>
                  <a:lnTo>
                    <a:pt x="707" y="2829"/>
                  </a:lnTo>
                  <a:lnTo>
                    <a:pt x="713" y="2818"/>
                  </a:lnTo>
                  <a:lnTo>
                    <a:pt x="713" y="2809"/>
                  </a:lnTo>
                  <a:lnTo>
                    <a:pt x="716" y="2801"/>
                  </a:lnTo>
                  <a:lnTo>
                    <a:pt x="724" y="2795"/>
                  </a:lnTo>
                  <a:lnTo>
                    <a:pt x="733" y="2795"/>
                  </a:lnTo>
                  <a:lnTo>
                    <a:pt x="742" y="2792"/>
                  </a:lnTo>
                  <a:lnTo>
                    <a:pt x="751" y="2801"/>
                  </a:lnTo>
                  <a:lnTo>
                    <a:pt x="762" y="2803"/>
                  </a:lnTo>
                  <a:lnTo>
                    <a:pt x="771" y="2803"/>
                  </a:lnTo>
                  <a:lnTo>
                    <a:pt x="780" y="2803"/>
                  </a:lnTo>
                  <a:lnTo>
                    <a:pt x="788" y="2803"/>
                  </a:lnTo>
                  <a:lnTo>
                    <a:pt x="788" y="2795"/>
                  </a:lnTo>
                  <a:lnTo>
                    <a:pt x="788" y="2786"/>
                  </a:lnTo>
                  <a:lnTo>
                    <a:pt x="797" y="2780"/>
                  </a:lnTo>
                  <a:lnTo>
                    <a:pt x="806" y="2780"/>
                  </a:lnTo>
                  <a:lnTo>
                    <a:pt x="815" y="2772"/>
                  </a:lnTo>
                  <a:lnTo>
                    <a:pt x="815" y="2763"/>
                  </a:lnTo>
                  <a:lnTo>
                    <a:pt x="815" y="2754"/>
                  </a:lnTo>
                  <a:lnTo>
                    <a:pt x="815" y="2746"/>
                  </a:lnTo>
                  <a:lnTo>
                    <a:pt x="815" y="2737"/>
                  </a:lnTo>
                  <a:lnTo>
                    <a:pt x="818" y="2729"/>
                  </a:lnTo>
                  <a:lnTo>
                    <a:pt x="826" y="2726"/>
                  </a:lnTo>
                  <a:lnTo>
                    <a:pt x="835" y="2720"/>
                  </a:lnTo>
                  <a:lnTo>
                    <a:pt x="844" y="2717"/>
                  </a:lnTo>
                  <a:lnTo>
                    <a:pt x="852" y="2720"/>
                  </a:lnTo>
                  <a:lnTo>
                    <a:pt x="855" y="2729"/>
                  </a:lnTo>
                  <a:lnTo>
                    <a:pt x="858" y="2740"/>
                  </a:lnTo>
                  <a:lnTo>
                    <a:pt x="858" y="2749"/>
                  </a:lnTo>
                  <a:lnTo>
                    <a:pt x="861" y="2757"/>
                  </a:lnTo>
                  <a:lnTo>
                    <a:pt x="870" y="2763"/>
                  </a:lnTo>
                  <a:lnTo>
                    <a:pt x="882" y="2766"/>
                  </a:lnTo>
                  <a:lnTo>
                    <a:pt x="887" y="2757"/>
                  </a:lnTo>
                  <a:lnTo>
                    <a:pt x="887" y="2749"/>
                  </a:lnTo>
                  <a:lnTo>
                    <a:pt x="887" y="2740"/>
                  </a:lnTo>
                  <a:lnTo>
                    <a:pt x="887" y="2731"/>
                  </a:lnTo>
                  <a:lnTo>
                    <a:pt x="885" y="2723"/>
                  </a:lnTo>
                  <a:lnTo>
                    <a:pt x="876" y="2714"/>
                  </a:lnTo>
                  <a:lnTo>
                    <a:pt x="870" y="2705"/>
                  </a:lnTo>
                  <a:lnTo>
                    <a:pt x="864" y="2697"/>
                  </a:lnTo>
                  <a:lnTo>
                    <a:pt x="855" y="2691"/>
                  </a:lnTo>
                  <a:lnTo>
                    <a:pt x="847" y="2682"/>
                  </a:lnTo>
                  <a:lnTo>
                    <a:pt x="838" y="2674"/>
                  </a:lnTo>
                  <a:lnTo>
                    <a:pt x="835" y="2665"/>
                  </a:lnTo>
                  <a:lnTo>
                    <a:pt x="832" y="2657"/>
                  </a:lnTo>
                  <a:lnTo>
                    <a:pt x="832" y="2648"/>
                  </a:lnTo>
                  <a:lnTo>
                    <a:pt x="841" y="2642"/>
                  </a:lnTo>
                  <a:lnTo>
                    <a:pt x="850" y="2642"/>
                  </a:lnTo>
                  <a:lnTo>
                    <a:pt x="852" y="2633"/>
                  </a:lnTo>
                  <a:lnTo>
                    <a:pt x="844" y="2628"/>
                  </a:lnTo>
                  <a:lnTo>
                    <a:pt x="835" y="2622"/>
                  </a:lnTo>
                  <a:lnTo>
                    <a:pt x="826" y="2619"/>
                  </a:lnTo>
                  <a:lnTo>
                    <a:pt x="820" y="2610"/>
                  </a:lnTo>
                  <a:lnTo>
                    <a:pt x="818" y="2602"/>
                  </a:lnTo>
                  <a:lnTo>
                    <a:pt x="812" y="2593"/>
                  </a:lnTo>
                  <a:lnTo>
                    <a:pt x="812" y="2584"/>
                  </a:lnTo>
                  <a:lnTo>
                    <a:pt x="809" y="2576"/>
                  </a:lnTo>
                  <a:lnTo>
                    <a:pt x="806" y="2564"/>
                  </a:lnTo>
                  <a:lnTo>
                    <a:pt x="806" y="2556"/>
                  </a:lnTo>
                  <a:lnTo>
                    <a:pt x="806" y="2547"/>
                  </a:lnTo>
                  <a:lnTo>
                    <a:pt x="806" y="2538"/>
                  </a:lnTo>
                  <a:lnTo>
                    <a:pt x="806" y="2530"/>
                  </a:lnTo>
                  <a:lnTo>
                    <a:pt x="806" y="2521"/>
                  </a:lnTo>
                  <a:lnTo>
                    <a:pt x="806" y="2512"/>
                  </a:lnTo>
                  <a:lnTo>
                    <a:pt x="806" y="2504"/>
                  </a:lnTo>
                  <a:lnTo>
                    <a:pt x="803" y="2495"/>
                  </a:lnTo>
                  <a:lnTo>
                    <a:pt x="800" y="2486"/>
                  </a:lnTo>
                  <a:lnTo>
                    <a:pt x="800" y="2478"/>
                  </a:lnTo>
                  <a:lnTo>
                    <a:pt x="800" y="2469"/>
                  </a:lnTo>
                  <a:lnTo>
                    <a:pt x="800" y="2461"/>
                  </a:lnTo>
                  <a:lnTo>
                    <a:pt x="800" y="2452"/>
                  </a:lnTo>
                  <a:lnTo>
                    <a:pt x="809" y="2452"/>
                  </a:lnTo>
                  <a:lnTo>
                    <a:pt x="818" y="2452"/>
                  </a:lnTo>
                  <a:lnTo>
                    <a:pt x="818" y="2443"/>
                  </a:lnTo>
                  <a:lnTo>
                    <a:pt x="820" y="2435"/>
                  </a:lnTo>
                  <a:lnTo>
                    <a:pt x="826" y="2426"/>
                  </a:lnTo>
                  <a:lnTo>
                    <a:pt x="835" y="2426"/>
                  </a:lnTo>
                  <a:lnTo>
                    <a:pt x="838" y="2435"/>
                  </a:lnTo>
                  <a:lnTo>
                    <a:pt x="847" y="2440"/>
                  </a:lnTo>
                  <a:lnTo>
                    <a:pt x="855" y="2435"/>
                  </a:lnTo>
                  <a:lnTo>
                    <a:pt x="864" y="2432"/>
                  </a:lnTo>
                  <a:lnTo>
                    <a:pt x="864" y="2440"/>
                  </a:lnTo>
                  <a:lnTo>
                    <a:pt x="864" y="2449"/>
                  </a:lnTo>
                  <a:lnTo>
                    <a:pt x="858" y="2458"/>
                  </a:lnTo>
                  <a:lnTo>
                    <a:pt x="850" y="2466"/>
                  </a:lnTo>
                  <a:lnTo>
                    <a:pt x="847" y="2475"/>
                  </a:lnTo>
                  <a:lnTo>
                    <a:pt x="855" y="2478"/>
                  </a:lnTo>
                  <a:lnTo>
                    <a:pt x="864" y="2478"/>
                  </a:lnTo>
                  <a:lnTo>
                    <a:pt x="864" y="2486"/>
                  </a:lnTo>
                  <a:lnTo>
                    <a:pt x="864" y="2495"/>
                  </a:lnTo>
                  <a:lnTo>
                    <a:pt x="873" y="2498"/>
                  </a:lnTo>
                  <a:lnTo>
                    <a:pt x="882" y="2498"/>
                  </a:lnTo>
                  <a:lnTo>
                    <a:pt x="882" y="2507"/>
                  </a:lnTo>
                  <a:lnTo>
                    <a:pt x="882" y="2515"/>
                  </a:lnTo>
                  <a:lnTo>
                    <a:pt x="879" y="2524"/>
                  </a:lnTo>
                  <a:lnTo>
                    <a:pt x="870" y="2527"/>
                  </a:lnTo>
                  <a:lnTo>
                    <a:pt x="864" y="2535"/>
                  </a:lnTo>
                  <a:lnTo>
                    <a:pt x="867" y="2544"/>
                  </a:lnTo>
                  <a:lnTo>
                    <a:pt x="870" y="2553"/>
                  </a:lnTo>
                  <a:lnTo>
                    <a:pt x="876" y="2561"/>
                  </a:lnTo>
                  <a:lnTo>
                    <a:pt x="882" y="2573"/>
                  </a:lnTo>
                  <a:lnTo>
                    <a:pt x="890" y="2584"/>
                  </a:lnTo>
                  <a:lnTo>
                    <a:pt x="893" y="2593"/>
                  </a:lnTo>
                  <a:lnTo>
                    <a:pt x="896" y="2602"/>
                  </a:lnTo>
                  <a:lnTo>
                    <a:pt x="899" y="2613"/>
                  </a:lnTo>
                  <a:lnTo>
                    <a:pt x="899" y="2622"/>
                  </a:lnTo>
                  <a:lnTo>
                    <a:pt x="902" y="2631"/>
                  </a:lnTo>
                  <a:lnTo>
                    <a:pt x="905" y="2639"/>
                  </a:lnTo>
                  <a:lnTo>
                    <a:pt x="911" y="2648"/>
                  </a:lnTo>
                  <a:lnTo>
                    <a:pt x="919" y="2657"/>
                  </a:lnTo>
                  <a:lnTo>
                    <a:pt x="928" y="2662"/>
                  </a:lnTo>
                  <a:lnTo>
                    <a:pt x="937" y="2671"/>
                  </a:lnTo>
                  <a:lnTo>
                    <a:pt x="943" y="2680"/>
                  </a:lnTo>
                  <a:lnTo>
                    <a:pt x="946" y="2688"/>
                  </a:lnTo>
                  <a:lnTo>
                    <a:pt x="949" y="2697"/>
                  </a:lnTo>
                  <a:lnTo>
                    <a:pt x="949" y="2705"/>
                  </a:lnTo>
                  <a:lnTo>
                    <a:pt x="949" y="2714"/>
                  </a:lnTo>
                  <a:lnTo>
                    <a:pt x="949" y="2723"/>
                  </a:lnTo>
                  <a:lnTo>
                    <a:pt x="943" y="2731"/>
                  </a:lnTo>
                  <a:lnTo>
                    <a:pt x="934" y="2734"/>
                  </a:lnTo>
                  <a:lnTo>
                    <a:pt x="928" y="2743"/>
                  </a:lnTo>
                  <a:lnTo>
                    <a:pt x="925" y="2752"/>
                  </a:lnTo>
                  <a:lnTo>
                    <a:pt x="925" y="2760"/>
                  </a:lnTo>
                  <a:lnTo>
                    <a:pt x="922" y="2769"/>
                  </a:lnTo>
                  <a:lnTo>
                    <a:pt x="922" y="2778"/>
                  </a:lnTo>
                  <a:lnTo>
                    <a:pt x="919" y="2786"/>
                  </a:lnTo>
                  <a:lnTo>
                    <a:pt x="911" y="2795"/>
                  </a:lnTo>
                  <a:lnTo>
                    <a:pt x="908" y="2803"/>
                  </a:lnTo>
                  <a:lnTo>
                    <a:pt x="908" y="2812"/>
                  </a:lnTo>
                  <a:lnTo>
                    <a:pt x="911" y="2821"/>
                  </a:lnTo>
                  <a:lnTo>
                    <a:pt x="922" y="2827"/>
                  </a:lnTo>
                  <a:lnTo>
                    <a:pt x="934" y="2832"/>
                  </a:lnTo>
                  <a:lnTo>
                    <a:pt x="940" y="2841"/>
                  </a:lnTo>
                  <a:lnTo>
                    <a:pt x="922" y="2832"/>
                  </a:lnTo>
                  <a:lnTo>
                    <a:pt x="946" y="2824"/>
                  </a:lnTo>
                  <a:lnTo>
                    <a:pt x="946" y="2832"/>
                  </a:lnTo>
                  <a:lnTo>
                    <a:pt x="946" y="2841"/>
                  </a:lnTo>
                  <a:lnTo>
                    <a:pt x="946" y="2850"/>
                  </a:lnTo>
                  <a:lnTo>
                    <a:pt x="940" y="2858"/>
                  </a:lnTo>
                  <a:lnTo>
                    <a:pt x="931" y="2861"/>
                  </a:lnTo>
                  <a:lnTo>
                    <a:pt x="922" y="2867"/>
                  </a:lnTo>
                  <a:lnTo>
                    <a:pt x="917" y="2876"/>
                  </a:lnTo>
                  <a:lnTo>
                    <a:pt x="919" y="2884"/>
                  </a:lnTo>
                  <a:lnTo>
                    <a:pt x="922" y="2893"/>
                  </a:lnTo>
                  <a:lnTo>
                    <a:pt x="917" y="2901"/>
                  </a:lnTo>
                  <a:lnTo>
                    <a:pt x="925" y="2904"/>
                  </a:lnTo>
                  <a:lnTo>
                    <a:pt x="934" y="2904"/>
                  </a:lnTo>
                  <a:lnTo>
                    <a:pt x="943" y="2904"/>
                  </a:lnTo>
                  <a:lnTo>
                    <a:pt x="951" y="2899"/>
                  </a:lnTo>
                  <a:lnTo>
                    <a:pt x="960" y="2893"/>
                  </a:lnTo>
                  <a:lnTo>
                    <a:pt x="969" y="2893"/>
                  </a:lnTo>
                  <a:lnTo>
                    <a:pt x="978" y="2899"/>
                  </a:lnTo>
                  <a:lnTo>
                    <a:pt x="983" y="2907"/>
                  </a:lnTo>
                  <a:lnTo>
                    <a:pt x="975" y="2904"/>
                  </a:lnTo>
                  <a:lnTo>
                    <a:pt x="966" y="2899"/>
                  </a:lnTo>
                  <a:lnTo>
                    <a:pt x="954" y="2896"/>
                  </a:lnTo>
                  <a:lnTo>
                    <a:pt x="940" y="2893"/>
                  </a:lnTo>
                  <a:lnTo>
                    <a:pt x="943" y="2910"/>
                  </a:lnTo>
                  <a:lnTo>
                    <a:pt x="951" y="2930"/>
                  </a:lnTo>
                  <a:lnTo>
                    <a:pt x="943" y="2933"/>
                  </a:lnTo>
                  <a:lnTo>
                    <a:pt x="940" y="2942"/>
                  </a:lnTo>
                  <a:lnTo>
                    <a:pt x="937" y="2950"/>
                  </a:lnTo>
                  <a:lnTo>
                    <a:pt x="946" y="2956"/>
                  </a:lnTo>
                  <a:lnTo>
                    <a:pt x="949" y="2965"/>
                  </a:lnTo>
                  <a:lnTo>
                    <a:pt x="951" y="2974"/>
                  </a:lnTo>
                  <a:lnTo>
                    <a:pt x="951" y="2982"/>
                  </a:lnTo>
                  <a:lnTo>
                    <a:pt x="951" y="2991"/>
                  </a:lnTo>
                  <a:lnTo>
                    <a:pt x="954" y="2999"/>
                  </a:lnTo>
                  <a:lnTo>
                    <a:pt x="957" y="3011"/>
                  </a:lnTo>
                  <a:lnTo>
                    <a:pt x="963" y="3002"/>
                  </a:lnTo>
                  <a:lnTo>
                    <a:pt x="963" y="2994"/>
                  </a:lnTo>
                  <a:lnTo>
                    <a:pt x="963" y="2985"/>
                  </a:lnTo>
                  <a:lnTo>
                    <a:pt x="963" y="2976"/>
                  </a:lnTo>
                  <a:lnTo>
                    <a:pt x="963" y="2968"/>
                  </a:lnTo>
                  <a:lnTo>
                    <a:pt x="969" y="2959"/>
                  </a:lnTo>
                  <a:lnTo>
                    <a:pt x="978" y="2953"/>
                  </a:lnTo>
                  <a:lnTo>
                    <a:pt x="983" y="2945"/>
                  </a:lnTo>
                  <a:lnTo>
                    <a:pt x="992" y="2942"/>
                  </a:lnTo>
                  <a:lnTo>
                    <a:pt x="1004" y="2945"/>
                  </a:lnTo>
                  <a:lnTo>
                    <a:pt x="1016" y="2945"/>
                  </a:lnTo>
                  <a:lnTo>
                    <a:pt x="1024" y="2945"/>
                  </a:lnTo>
                  <a:lnTo>
                    <a:pt x="1027" y="2936"/>
                  </a:lnTo>
                  <a:lnTo>
                    <a:pt x="1036" y="2945"/>
                  </a:lnTo>
                  <a:lnTo>
                    <a:pt x="1042" y="2953"/>
                  </a:lnTo>
                  <a:lnTo>
                    <a:pt x="1050" y="2962"/>
                  </a:lnTo>
                  <a:lnTo>
                    <a:pt x="1059" y="2971"/>
                  </a:lnTo>
                  <a:lnTo>
                    <a:pt x="1045" y="2959"/>
                  </a:lnTo>
                  <a:lnTo>
                    <a:pt x="1042" y="2950"/>
                  </a:lnTo>
                  <a:lnTo>
                    <a:pt x="1042" y="2942"/>
                  </a:lnTo>
                  <a:lnTo>
                    <a:pt x="1042" y="2933"/>
                  </a:lnTo>
                  <a:lnTo>
                    <a:pt x="1042" y="2925"/>
                  </a:lnTo>
                  <a:lnTo>
                    <a:pt x="1033" y="2916"/>
                  </a:lnTo>
                  <a:lnTo>
                    <a:pt x="1021" y="2907"/>
                  </a:lnTo>
                  <a:lnTo>
                    <a:pt x="1013" y="2899"/>
                  </a:lnTo>
                  <a:lnTo>
                    <a:pt x="1007" y="2890"/>
                  </a:lnTo>
                  <a:lnTo>
                    <a:pt x="1018" y="2893"/>
                  </a:lnTo>
                  <a:lnTo>
                    <a:pt x="1027" y="2896"/>
                  </a:lnTo>
                  <a:lnTo>
                    <a:pt x="1036" y="2901"/>
                  </a:lnTo>
                  <a:lnTo>
                    <a:pt x="1045" y="2907"/>
                  </a:lnTo>
                  <a:lnTo>
                    <a:pt x="1050" y="2916"/>
                  </a:lnTo>
                  <a:lnTo>
                    <a:pt x="1042" y="2913"/>
                  </a:lnTo>
                  <a:lnTo>
                    <a:pt x="1033" y="2907"/>
                  </a:lnTo>
                  <a:lnTo>
                    <a:pt x="1021" y="2899"/>
                  </a:lnTo>
                  <a:lnTo>
                    <a:pt x="1010" y="2896"/>
                  </a:lnTo>
                  <a:lnTo>
                    <a:pt x="1004" y="2887"/>
                  </a:lnTo>
                  <a:lnTo>
                    <a:pt x="1013" y="2881"/>
                  </a:lnTo>
                  <a:lnTo>
                    <a:pt x="1018" y="2873"/>
                  </a:lnTo>
                  <a:lnTo>
                    <a:pt x="1018" y="2864"/>
                  </a:lnTo>
                  <a:lnTo>
                    <a:pt x="1021" y="2855"/>
                  </a:lnTo>
                  <a:lnTo>
                    <a:pt x="1021" y="2847"/>
                  </a:lnTo>
                  <a:lnTo>
                    <a:pt x="1021" y="2838"/>
                  </a:lnTo>
                  <a:lnTo>
                    <a:pt x="1021" y="2829"/>
                  </a:lnTo>
                  <a:lnTo>
                    <a:pt x="1021" y="2821"/>
                  </a:lnTo>
                  <a:lnTo>
                    <a:pt x="1024" y="2812"/>
                  </a:lnTo>
                  <a:lnTo>
                    <a:pt x="1033" y="2812"/>
                  </a:lnTo>
                  <a:lnTo>
                    <a:pt x="1042" y="2809"/>
                  </a:lnTo>
                  <a:lnTo>
                    <a:pt x="1042" y="2818"/>
                  </a:lnTo>
                  <a:lnTo>
                    <a:pt x="1042" y="2827"/>
                  </a:lnTo>
                  <a:lnTo>
                    <a:pt x="1042" y="2835"/>
                  </a:lnTo>
                  <a:lnTo>
                    <a:pt x="1042" y="2844"/>
                  </a:lnTo>
                  <a:lnTo>
                    <a:pt x="1050" y="2850"/>
                  </a:lnTo>
                  <a:lnTo>
                    <a:pt x="1056" y="2841"/>
                  </a:lnTo>
                  <a:lnTo>
                    <a:pt x="1065" y="2841"/>
                  </a:lnTo>
                  <a:lnTo>
                    <a:pt x="1068" y="2850"/>
                  </a:lnTo>
                  <a:lnTo>
                    <a:pt x="1071" y="2841"/>
                  </a:lnTo>
                  <a:lnTo>
                    <a:pt x="1071" y="2832"/>
                  </a:lnTo>
                  <a:lnTo>
                    <a:pt x="1080" y="2827"/>
                  </a:lnTo>
                  <a:lnTo>
                    <a:pt x="1088" y="2827"/>
                  </a:lnTo>
                  <a:lnTo>
                    <a:pt x="1100" y="2835"/>
                  </a:lnTo>
                  <a:lnTo>
                    <a:pt x="1109" y="2835"/>
                  </a:lnTo>
                  <a:lnTo>
                    <a:pt x="1120" y="2835"/>
                  </a:lnTo>
                  <a:lnTo>
                    <a:pt x="1129" y="2835"/>
                  </a:lnTo>
                  <a:lnTo>
                    <a:pt x="1138" y="2838"/>
                  </a:lnTo>
                  <a:lnTo>
                    <a:pt x="1147" y="2841"/>
                  </a:lnTo>
                  <a:lnTo>
                    <a:pt x="1155" y="2844"/>
                  </a:lnTo>
                  <a:lnTo>
                    <a:pt x="1149" y="2852"/>
                  </a:lnTo>
                  <a:lnTo>
                    <a:pt x="1149" y="2861"/>
                  </a:lnTo>
                  <a:lnTo>
                    <a:pt x="1149" y="2870"/>
                  </a:lnTo>
                  <a:lnTo>
                    <a:pt x="1158" y="2878"/>
                  </a:lnTo>
                  <a:lnTo>
                    <a:pt x="1170" y="2878"/>
                  </a:lnTo>
                  <a:lnTo>
                    <a:pt x="1179" y="2878"/>
                  </a:lnTo>
                  <a:lnTo>
                    <a:pt x="1187" y="2878"/>
                  </a:lnTo>
                  <a:lnTo>
                    <a:pt x="1196" y="2878"/>
                  </a:lnTo>
                  <a:lnTo>
                    <a:pt x="1205" y="2876"/>
                  </a:lnTo>
                  <a:lnTo>
                    <a:pt x="1216" y="2873"/>
                  </a:lnTo>
                  <a:lnTo>
                    <a:pt x="1225" y="2873"/>
                  </a:lnTo>
                  <a:lnTo>
                    <a:pt x="1234" y="2873"/>
                  </a:lnTo>
                  <a:lnTo>
                    <a:pt x="1243" y="2873"/>
                  </a:lnTo>
                  <a:lnTo>
                    <a:pt x="1251" y="2873"/>
                  </a:lnTo>
                  <a:lnTo>
                    <a:pt x="1254" y="2884"/>
                  </a:lnTo>
                  <a:lnTo>
                    <a:pt x="1257" y="2893"/>
                  </a:lnTo>
                  <a:lnTo>
                    <a:pt x="1257" y="2901"/>
                  </a:lnTo>
                  <a:lnTo>
                    <a:pt x="1272" y="2907"/>
                  </a:lnTo>
                  <a:lnTo>
                    <a:pt x="1263" y="2913"/>
                  </a:lnTo>
                  <a:lnTo>
                    <a:pt x="1254" y="2913"/>
                  </a:lnTo>
                  <a:lnTo>
                    <a:pt x="1245" y="2913"/>
                  </a:lnTo>
                  <a:lnTo>
                    <a:pt x="1248" y="2878"/>
                  </a:lnTo>
                  <a:lnTo>
                    <a:pt x="1245" y="2896"/>
                  </a:lnTo>
                  <a:lnTo>
                    <a:pt x="1237" y="2896"/>
                  </a:lnTo>
                  <a:lnTo>
                    <a:pt x="1228" y="2893"/>
                  </a:lnTo>
                  <a:lnTo>
                    <a:pt x="1219" y="2896"/>
                  </a:lnTo>
                  <a:lnTo>
                    <a:pt x="1211" y="2896"/>
                  </a:lnTo>
                  <a:lnTo>
                    <a:pt x="1202" y="2896"/>
                  </a:lnTo>
                  <a:lnTo>
                    <a:pt x="1193" y="2893"/>
                  </a:lnTo>
                  <a:lnTo>
                    <a:pt x="1184" y="2890"/>
                  </a:lnTo>
                  <a:lnTo>
                    <a:pt x="1176" y="2890"/>
                  </a:lnTo>
                  <a:lnTo>
                    <a:pt x="1167" y="2887"/>
                  </a:lnTo>
                  <a:lnTo>
                    <a:pt x="1155" y="2887"/>
                  </a:lnTo>
                  <a:lnTo>
                    <a:pt x="1147" y="2887"/>
                  </a:lnTo>
                  <a:lnTo>
                    <a:pt x="1135" y="2887"/>
                  </a:lnTo>
                  <a:lnTo>
                    <a:pt x="1132" y="2896"/>
                  </a:lnTo>
                  <a:lnTo>
                    <a:pt x="1132" y="2904"/>
                  </a:lnTo>
                  <a:lnTo>
                    <a:pt x="1132" y="2913"/>
                  </a:lnTo>
                  <a:lnTo>
                    <a:pt x="1144" y="2916"/>
                  </a:lnTo>
                  <a:lnTo>
                    <a:pt x="1144" y="2925"/>
                  </a:lnTo>
                  <a:lnTo>
                    <a:pt x="1129" y="2927"/>
                  </a:lnTo>
                  <a:lnTo>
                    <a:pt x="1120" y="2927"/>
                  </a:lnTo>
                  <a:lnTo>
                    <a:pt x="1112" y="2927"/>
                  </a:lnTo>
                  <a:lnTo>
                    <a:pt x="1114" y="2936"/>
                  </a:lnTo>
                  <a:lnTo>
                    <a:pt x="1123" y="2936"/>
                  </a:lnTo>
                  <a:lnTo>
                    <a:pt x="1132" y="2942"/>
                  </a:lnTo>
                  <a:lnTo>
                    <a:pt x="1144" y="2948"/>
                  </a:lnTo>
                  <a:lnTo>
                    <a:pt x="1135" y="2953"/>
                  </a:lnTo>
                  <a:lnTo>
                    <a:pt x="1123" y="2953"/>
                  </a:lnTo>
                  <a:lnTo>
                    <a:pt x="1112" y="2953"/>
                  </a:lnTo>
                  <a:lnTo>
                    <a:pt x="1103" y="2953"/>
                  </a:lnTo>
                  <a:lnTo>
                    <a:pt x="1106" y="2962"/>
                  </a:lnTo>
                  <a:lnTo>
                    <a:pt x="1114" y="2965"/>
                  </a:lnTo>
                  <a:lnTo>
                    <a:pt x="1123" y="2974"/>
                  </a:lnTo>
                  <a:lnTo>
                    <a:pt x="1114" y="2982"/>
                  </a:lnTo>
                  <a:lnTo>
                    <a:pt x="1117" y="2991"/>
                  </a:lnTo>
                  <a:lnTo>
                    <a:pt x="1126" y="2994"/>
                  </a:lnTo>
                  <a:lnTo>
                    <a:pt x="1114" y="2999"/>
                  </a:lnTo>
                  <a:lnTo>
                    <a:pt x="1106" y="2999"/>
                  </a:lnTo>
                  <a:lnTo>
                    <a:pt x="1117" y="3005"/>
                  </a:lnTo>
                  <a:lnTo>
                    <a:pt x="1132" y="3008"/>
                  </a:lnTo>
                  <a:lnTo>
                    <a:pt x="1135" y="3017"/>
                  </a:lnTo>
                  <a:lnTo>
                    <a:pt x="1126" y="3022"/>
                  </a:lnTo>
                  <a:lnTo>
                    <a:pt x="1126" y="3034"/>
                  </a:lnTo>
                  <a:lnTo>
                    <a:pt x="1126" y="3046"/>
                  </a:lnTo>
                  <a:lnTo>
                    <a:pt x="1126" y="3054"/>
                  </a:lnTo>
                  <a:lnTo>
                    <a:pt x="1135" y="3054"/>
                  </a:lnTo>
                  <a:lnTo>
                    <a:pt x="1144" y="3054"/>
                  </a:lnTo>
                  <a:lnTo>
                    <a:pt x="1155" y="3054"/>
                  </a:lnTo>
                  <a:lnTo>
                    <a:pt x="1164" y="3054"/>
                  </a:lnTo>
                  <a:lnTo>
                    <a:pt x="1167" y="3063"/>
                  </a:lnTo>
                  <a:lnTo>
                    <a:pt x="1179" y="3069"/>
                  </a:lnTo>
                  <a:lnTo>
                    <a:pt x="1187" y="3069"/>
                  </a:lnTo>
                  <a:lnTo>
                    <a:pt x="1190" y="3080"/>
                  </a:lnTo>
                  <a:lnTo>
                    <a:pt x="1193" y="3089"/>
                  </a:lnTo>
                  <a:lnTo>
                    <a:pt x="1199" y="3097"/>
                  </a:lnTo>
                  <a:lnTo>
                    <a:pt x="1211" y="3103"/>
                  </a:lnTo>
                  <a:lnTo>
                    <a:pt x="1219" y="3103"/>
                  </a:lnTo>
                  <a:lnTo>
                    <a:pt x="1231" y="3103"/>
                  </a:lnTo>
                  <a:lnTo>
                    <a:pt x="1240" y="3100"/>
                  </a:lnTo>
                  <a:lnTo>
                    <a:pt x="1243" y="3092"/>
                  </a:lnTo>
                  <a:lnTo>
                    <a:pt x="1248" y="3083"/>
                  </a:lnTo>
                  <a:lnTo>
                    <a:pt x="1257" y="3083"/>
                  </a:lnTo>
                  <a:lnTo>
                    <a:pt x="1278" y="3097"/>
                  </a:lnTo>
                  <a:lnTo>
                    <a:pt x="1286" y="3103"/>
                  </a:lnTo>
                  <a:lnTo>
                    <a:pt x="1289" y="3112"/>
                  </a:lnTo>
                  <a:lnTo>
                    <a:pt x="1295" y="3120"/>
                  </a:lnTo>
                  <a:lnTo>
                    <a:pt x="1301" y="3129"/>
                  </a:lnTo>
                  <a:lnTo>
                    <a:pt x="1312" y="3141"/>
                  </a:lnTo>
                  <a:lnTo>
                    <a:pt x="1324" y="3146"/>
                  </a:lnTo>
                  <a:lnTo>
                    <a:pt x="1336" y="3152"/>
                  </a:lnTo>
                  <a:lnTo>
                    <a:pt x="1347" y="3155"/>
                  </a:lnTo>
                  <a:lnTo>
                    <a:pt x="1356" y="3155"/>
                  </a:lnTo>
                  <a:lnTo>
                    <a:pt x="1365" y="3155"/>
                  </a:lnTo>
                  <a:lnTo>
                    <a:pt x="1374" y="3155"/>
                  </a:lnTo>
                  <a:lnTo>
                    <a:pt x="1376" y="3146"/>
                  </a:lnTo>
                  <a:lnTo>
                    <a:pt x="1385" y="3138"/>
                  </a:lnTo>
                  <a:lnTo>
                    <a:pt x="1391" y="3129"/>
                  </a:lnTo>
                  <a:lnTo>
                    <a:pt x="1400" y="3132"/>
                  </a:lnTo>
                  <a:lnTo>
                    <a:pt x="1409" y="3138"/>
                  </a:lnTo>
                  <a:lnTo>
                    <a:pt x="1417" y="3149"/>
                  </a:lnTo>
                  <a:lnTo>
                    <a:pt x="1429" y="3152"/>
                  </a:lnTo>
                  <a:lnTo>
                    <a:pt x="1435" y="3155"/>
                  </a:lnTo>
                  <a:lnTo>
                    <a:pt x="1438" y="3164"/>
                  </a:lnTo>
                  <a:lnTo>
                    <a:pt x="1441" y="3172"/>
                  </a:lnTo>
                  <a:lnTo>
                    <a:pt x="1449" y="3178"/>
                  </a:lnTo>
                  <a:lnTo>
                    <a:pt x="1458" y="3178"/>
                  </a:lnTo>
                  <a:lnTo>
                    <a:pt x="1464" y="3169"/>
                  </a:lnTo>
                  <a:lnTo>
                    <a:pt x="1464" y="3161"/>
                  </a:lnTo>
                  <a:lnTo>
                    <a:pt x="1470" y="3152"/>
                  </a:lnTo>
                  <a:lnTo>
                    <a:pt x="1478" y="3152"/>
                  </a:lnTo>
                  <a:lnTo>
                    <a:pt x="1487" y="3155"/>
                  </a:lnTo>
                  <a:lnTo>
                    <a:pt x="1499" y="3161"/>
                  </a:lnTo>
                  <a:lnTo>
                    <a:pt x="1510" y="3161"/>
                  </a:lnTo>
                  <a:lnTo>
                    <a:pt x="1519" y="3161"/>
                  </a:lnTo>
                  <a:lnTo>
                    <a:pt x="1528" y="3161"/>
                  </a:lnTo>
                  <a:lnTo>
                    <a:pt x="1537" y="3158"/>
                  </a:lnTo>
                  <a:lnTo>
                    <a:pt x="1545" y="3158"/>
                  </a:lnTo>
                  <a:lnTo>
                    <a:pt x="1554" y="3164"/>
                  </a:lnTo>
                  <a:lnTo>
                    <a:pt x="1569" y="3169"/>
                  </a:lnTo>
                  <a:lnTo>
                    <a:pt x="1580" y="3169"/>
                  </a:lnTo>
                  <a:lnTo>
                    <a:pt x="1592" y="3169"/>
                  </a:lnTo>
                  <a:lnTo>
                    <a:pt x="1601" y="3169"/>
                  </a:lnTo>
                  <a:lnTo>
                    <a:pt x="1609" y="3169"/>
                  </a:lnTo>
                  <a:lnTo>
                    <a:pt x="1618" y="3169"/>
                  </a:lnTo>
                  <a:lnTo>
                    <a:pt x="1627" y="3169"/>
                  </a:lnTo>
                  <a:lnTo>
                    <a:pt x="1636" y="3169"/>
                  </a:lnTo>
                  <a:lnTo>
                    <a:pt x="1644" y="3169"/>
                  </a:lnTo>
                  <a:lnTo>
                    <a:pt x="1653" y="3169"/>
                  </a:lnTo>
                  <a:lnTo>
                    <a:pt x="1662" y="3169"/>
                  </a:lnTo>
                  <a:lnTo>
                    <a:pt x="1671" y="3169"/>
                  </a:lnTo>
                  <a:lnTo>
                    <a:pt x="1679" y="3169"/>
                  </a:lnTo>
                  <a:lnTo>
                    <a:pt x="1688" y="3169"/>
                  </a:lnTo>
                  <a:lnTo>
                    <a:pt x="1703" y="3169"/>
                  </a:lnTo>
                  <a:lnTo>
                    <a:pt x="1714" y="3172"/>
                  </a:lnTo>
                  <a:lnTo>
                    <a:pt x="1726" y="3175"/>
                  </a:lnTo>
                  <a:lnTo>
                    <a:pt x="1735" y="3175"/>
                  </a:lnTo>
                  <a:lnTo>
                    <a:pt x="1743" y="3175"/>
                  </a:lnTo>
                  <a:lnTo>
                    <a:pt x="1758" y="3175"/>
                  </a:lnTo>
                  <a:lnTo>
                    <a:pt x="1767" y="3175"/>
                  </a:lnTo>
                  <a:lnTo>
                    <a:pt x="1772" y="3167"/>
                  </a:lnTo>
                  <a:lnTo>
                    <a:pt x="1772" y="3158"/>
                  </a:lnTo>
                  <a:lnTo>
                    <a:pt x="1772" y="3149"/>
                  </a:lnTo>
                  <a:lnTo>
                    <a:pt x="1772" y="3141"/>
                  </a:lnTo>
                  <a:lnTo>
                    <a:pt x="1772" y="3132"/>
                  </a:lnTo>
                  <a:lnTo>
                    <a:pt x="1772" y="3123"/>
                  </a:lnTo>
                  <a:lnTo>
                    <a:pt x="1772" y="3112"/>
                  </a:lnTo>
                  <a:lnTo>
                    <a:pt x="1770" y="3103"/>
                  </a:lnTo>
                  <a:lnTo>
                    <a:pt x="1770" y="3095"/>
                  </a:lnTo>
                  <a:lnTo>
                    <a:pt x="1770" y="3086"/>
                  </a:lnTo>
                  <a:lnTo>
                    <a:pt x="1778" y="3080"/>
                  </a:lnTo>
                  <a:lnTo>
                    <a:pt x="1787" y="3080"/>
                  </a:lnTo>
                  <a:lnTo>
                    <a:pt x="1796" y="3089"/>
                  </a:lnTo>
                  <a:lnTo>
                    <a:pt x="1802" y="3097"/>
                  </a:lnTo>
                  <a:lnTo>
                    <a:pt x="1813" y="3103"/>
                  </a:lnTo>
                  <a:lnTo>
                    <a:pt x="1825" y="3112"/>
                  </a:lnTo>
                  <a:lnTo>
                    <a:pt x="1854" y="3109"/>
                  </a:lnTo>
                  <a:lnTo>
                    <a:pt x="1836" y="3103"/>
                  </a:lnTo>
                  <a:lnTo>
                    <a:pt x="1854" y="3103"/>
                  </a:lnTo>
                  <a:lnTo>
                    <a:pt x="1863" y="3103"/>
                  </a:lnTo>
                  <a:lnTo>
                    <a:pt x="1871" y="3103"/>
                  </a:lnTo>
                  <a:lnTo>
                    <a:pt x="1880" y="3106"/>
                  </a:lnTo>
                  <a:lnTo>
                    <a:pt x="1889" y="3100"/>
                  </a:lnTo>
                  <a:lnTo>
                    <a:pt x="1898" y="3097"/>
                  </a:lnTo>
                  <a:lnTo>
                    <a:pt x="1906" y="3095"/>
                  </a:lnTo>
                  <a:lnTo>
                    <a:pt x="1918" y="3103"/>
                  </a:lnTo>
                  <a:lnTo>
                    <a:pt x="1924" y="3112"/>
                  </a:lnTo>
                  <a:lnTo>
                    <a:pt x="1924" y="3120"/>
                  </a:lnTo>
                  <a:lnTo>
                    <a:pt x="1921" y="3129"/>
                  </a:lnTo>
                  <a:lnTo>
                    <a:pt x="1924" y="3138"/>
                  </a:lnTo>
                  <a:lnTo>
                    <a:pt x="1933" y="3144"/>
                  </a:lnTo>
                  <a:lnTo>
                    <a:pt x="1944" y="3152"/>
                  </a:lnTo>
                  <a:lnTo>
                    <a:pt x="1947" y="3144"/>
                  </a:lnTo>
                  <a:lnTo>
                    <a:pt x="1947" y="3135"/>
                  </a:lnTo>
                  <a:lnTo>
                    <a:pt x="1947" y="3126"/>
                  </a:lnTo>
                  <a:lnTo>
                    <a:pt x="1947" y="3118"/>
                  </a:lnTo>
                  <a:lnTo>
                    <a:pt x="1956" y="3115"/>
                  </a:lnTo>
                  <a:lnTo>
                    <a:pt x="1962" y="3106"/>
                  </a:lnTo>
                  <a:lnTo>
                    <a:pt x="1962" y="3097"/>
                  </a:lnTo>
                  <a:lnTo>
                    <a:pt x="1962" y="3089"/>
                  </a:lnTo>
                  <a:lnTo>
                    <a:pt x="1962" y="3080"/>
                  </a:lnTo>
                  <a:lnTo>
                    <a:pt x="1962" y="3071"/>
                  </a:lnTo>
                  <a:lnTo>
                    <a:pt x="1967" y="3063"/>
                  </a:lnTo>
                  <a:lnTo>
                    <a:pt x="1976" y="3060"/>
                  </a:lnTo>
                  <a:lnTo>
                    <a:pt x="1988" y="3060"/>
                  </a:lnTo>
                  <a:lnTo>
                    <a:pt x="2002" y="3063"/>
                  </a:lnTo>
                  <a:lnTo>
                    <a:pt x="2011" y="3063"/>
                  </a:lnTo>
                  <a:lnTo>
                    <a:pt x="2002" y="3054"/>
                  </a:lnTo>
                  <a:lnTo>
                    <a:pt x="1994" y="3048"/>
                  </a:lnTo>
                  <a:lnTo>
                    <a:pt x="1979" y="3043"/>
                  </a:lnTo>
                  <a:lnTo>
                    <a:pt x="1967" y="3034"/>
                  </a:lnTo>
                  <a:lnTo>
                    <a:pt x="1962" y="3025"/>
                  </a:lnTo>
                  <a:lnTo>
                    <a:pt x="1959" y="3017"/>
                  </a:lnTo>
                  <a:lnTo>
                    <a:pt x="1956" y="3008"/>
                  </a:lnTo>
                  <a:lnTo>
                    <a:pt x="1950" y="2999"/>
                  </a:lnTo>
                  <a:lnTo>
                    <a:pt x="1944" y="2991"/>
                  </a:lnTo>
                  <a:lnTo>
                    <a:pt x="1938" y="2982"/>
                  </a:lnTo>
                  <a:lnTo>
                    <a:pt x="1933" y="2974"/>
                  </a:lnTo>
                  <a:lnTo>
                    <a:pt x="1927" y="2965"/>
                  </a:lnTo>
                  <a:lnTo>
                    <a:pt x="1924" y="2956"/>
                  </a:lnTo>
                  <a:lnTo>
                    <a:pt x="1921" y="2948"/>
                  </a:lnTo>
                  <a:lnTo>
                    <a:pt x="1918" y="2939"/>
                  </a:lnTo>
                  <a:lnTo>
                    <a:pt x="1915" y="2930"/>
                  </a:lnTo>
                  <a:lnTo>
                    <a:pt x="1912" y="2922"/>
                  </a:lnTo>
                  <a:lnTo>
                    <a:pt x="1915" y="2913"/>
                  </a:lnTo>
                  <a:lnTo>
                    <a:pt x="1915" y="2904"/>
                  </a:lnTo>
                  <a:lnTo>
                    <a:pt x="1915" y="2896"/>
                  </a:lnTo>
                  <a:lnTo>
                    <a:pt x="1915" y="2887"/>
                  </a:lnTo>
                  <a:lnTo>
                    <a:pt x="1912" y="2878"/>
                  </a:lnTo>
                  <a:lnTo>
                    <a:pt x="1909" y="2870"/>
                  </a:lnTo>
                  <a:lnTo>
                    <a:pt x="1903" y="2861"/>
                  </a:lnTo>
                  <a:lnTo>
                    <a:pt x="1895" y="2852"/>
                  </a:lnTo>
                  <a:lnTo>
                    <a:pt x="1892" y="2844"/>
                  </a:lnTo>
                  <a:lnTo>
                    <a:pt x="1892" y="2835"/>
                  </a:lnTo>
                  <a:lnTo>
                    <a:pt x="1898" y="2827"/>
                  </a:lnTo>
                  <a:lnTo>
                    <a:pt x="1906" y="2824"/>
                  </a:lnTo>
                  <a:lnTo>
                    <a:pt x="1918" y="2821"/>
                  </a:lnTo>
                  <a:lnTo>
                    <a:pt x="1930" y="2818"/>
                  </a:lnTo>
                  <a:lnTo>
                    <a:pt x="1938" y="2812"/>
                  </a:lnTo>
                  <a:lnTo>
                    <a:pt x="1944" y="2803"/>
                  </a:lnTo>
                  <a:lnTo>
                    <a:pt x="1953" y="2798"/>
                  </a:lnTo>
                  <a:lnTo>
                    <a:pt x="1962" y="2798"/>
                  </a:lnTo>
                  <a:lnTo>
                    <a:pt x="1970" y="2798"/>
                  </a:lnTo>
                  <a:lnTo>
                    <a:pt x="1976" y="2789"/>
                  </a:lnTo>
                  <a:lnTo>
                    <a:pt x="1982" y="2780"/>
                  </a:lnTo>
                  <a:lnTo>
                    <a:pt x="1991" y="2775"/>
                  </a:lnTo>
                  <a:lnTo>
                    <a:pt x="1999" y="2775"/>
                  </a:lnTo>
                  <a:lnTo>
                    <a:pt x="2008" y="2769"/>
                  </a:lnTo>
                  <a:lnTo>
                    <a:pt x="2017" y="2763"/>
                  </a:lnTo>
                  <a:lnTo>
                    <a:pt x="2026" y="2760"/>
                  </a:lnTo>
                  <a:lnTo>
                    <a:pt x="2034" y="2760"/>
                  </a:lnTo>
                  <a:lnTo>
                    <a:pt x="2043" y="2760"/>
                  </a:lnTo>
                  <a:lnTo>
                    <a:pt x="2052" y="2754"/>
                  </a:lnTo>
                  <a:lnTo>
                    <a:pt x="2061" y="2754"/>
                  </a:lnTo>
                  <a:lnTo>
                    <a:pt x="2069" y="2757"/>
                  </a:lnTo>
                  <a:lnTo>
                    <a:pt x="2078" y="2757"/>
                  </a:lnTo>
                  <a:lnTo>
                    <a:pt x="2093" y="2760"/>
                  </a:lnTo>
                  <a:lnTo>
                    <a:pt x="2101" y="2760"/>
                  </a:lnTo>
                  <a:lnTo>
                    <a:pt x="2101" y="2769"/>
                  </a:lnTo>
                  <a:lnTo>
                    <a:pt x="2101" y="2778"/>
                  </a:lnTo>
                  <a:lnTo>
                    <a:pt x="2101" y="2786"/>
                  </a:lnTo>
                  <a:lnTo>
                    <a:pt x="2104" y="2795"/>
                  </a:lnTo>
                  <a:lnTo>
                    <a:pt x="2104" y="2803"/>
                  </a:lnTo>
                  <a:lnTo>
                    <a:pt x="2104" y="2812"/>
                  </a:lnTo>
                  <a:lnTo>
                    <a:pt x="2104" y="2821"/>
                  </a:lnTo>
                  <a:lnTo>
                    <a:pt x="2104" y="2829"/>
                  </a:lnTo>
                  <a:lnTo>
                    <a:pt x="2104" y="2838"/>
                  </a:lnTo>
                  <a:lnTo>
                    <a:pt x="2096" y="2841"/>
                  </a:lnTo>
                  <a:lnTo>
                    <a:pt x="2087" y="2841"/>
                  </a:lnTo>
                  <a:lnTo>
                    <a:pt x="2078" y="2841"/>
                  </a:lnTo>
                  <a:lnTo>
                    <a:pt x="2069" y="2841"/>
                  </a:lnTo>
                  <a:lnTo>
                    <a:pt x="2061" y="2841"/>
                  </a:lnTo>
                  <a:lnTo>
                    <a:pt x="2069" y="2841"/>
                  </a:lnTo>
                  <a:lnTo>
                    <a:pt x="2078" y="2835"/>
                  </a:lnTo>
                  <a:lnTo>
                    <a:pt x="2090" y="2835"/>
                  </a:lnTo>
                  <a:lnTo>
                    <a:pt x="2081" y="2832"/>
                  </a:lnTo>
                  <a:lnTo>
                    <a:pt x="2072" y="2832"/>
                  </a:lnTo>
                  <a:lnTo>
                    <a:pt x="2064" y="2832"/>
                  </a:lnTo>
                  <a:lnTo>
                    <a:pt x="2058" y="2841"/>
                  </a:lnTo>
                  <a:lnTo>
                    <a:pt x="2049" y="2844"/>
                  </a:lnTo>
                  <a:lnTo>
                    <a:pt x="2040" y="2847"/>
                  </a:lnTo>
                  <a:lnTo>
                    <a:pt x="2040" y="2855"/>
                  </a:lnTo>
                  <a:lnTo>
                    <a:pt x="2040" y="2864"/>
                  </a:lnTo>
                  <a:lnTo>
                    <a:pt x="2032" y="2870"/>
                  </a:lnTo>
                  <a:lnTo>
                    <a:pt x="2020" y="2870"/>
                  </a:lnTo>
                  <a:lnTo>
                    <a:pt x="2017" y="2861"/>
                  </a:lnTo>
                  <a:lnTo>
                    <a:pt x="2008" y="2858"/>
                  </a:lnTo>
                  <a:lnTo>
                    <a:pt x="2002" y="2867"/>
                  </a:lnTo>
                  <a:lnTo>
                    <a:pt x="2002" y="2876"/>
                  </a:lnTo>
                  <a:lnTo>
                    <a:pt x="2011" y="2878"/>
                  </a:lnTo>
                  <a:lnTo>
                    <a:pt x="2020" y="2884"/>
                  </a:lnTo>
                  <a:lnTo>
                    <a:pt x="2029" y="2896"/>
                  </a:lnTo>
                  <a:lnTo>
                    <a:pt x="2034" y="2907"/>
                  </a:lnTo>
                  <a:lnTo>
                    <a:pt x="2037" y="2916"/>
                  </a:lnTo>
                  <a:lnTo>
                    <a:pt x="2037" y="2925"/>
                  </a:lnTo>
                  <a:lnTo>
                    <a:pt x="2040" y="2933"/>
                  </a:lnTo>
                  <a:lnTo>
                    <a:pt x="2040" y="2942"/>
                  </a:lnTo>
                  <a:lnTo>
                    <a:pt x="2052" y="2945"/>
                  </a:lnTo>
                  <a:lnTo>
                    <a:pt x="2061" y="2953"/>
                  </a:lnTo>
                  <a:lnTo>
                    <a:pt x="2069" y="2959"/>
                  </a:lnTo>
                  <a:lnTo>
                    <a:pt x="2078" y="2965"/>
                  </a:lnTo>
                  <a:lnTo>
                    <a:pt x="2087" y="2965"/>
                  </a:lnTo>
                  <a:lnTo>
                    <a:pt x="2093" y="2976"/>
                  </a:lnTo>
                  <a:lnTo>
                    <a:pt x="2087" y="2985"/>
                  </a:lnTo>
                  <a:lnTo>
                    <a:pt x="2084" y="2994"/>
                  </a:lnTo>
                  <a:lnTo>
                    <a:pt x="2084" y="3005"/>
                  </a:lnTo>
                  <a:lnTo>
                    <a:pt x="2090" y="3017"/>
                  </a:lnTo>
                  <a:lnTo>
                    <a:pt x="2090" y="3025"/>
                  </a:lnTo>
                  <a:lnTo>
                    <a:pt x="2093" y="3017"/>
                  </a:lnTo>
                  <a:lnTo>
                    <a:pt x="2093" y="3008"/>
                  </a:lnTo>
                  <a:lnTo>
                    <a:pt x="2096" y="2999"/>
                  </a:lnTo>
                  <a:lnTo>
                    <a:pt x="2096" y="2991"/>
                  </a:lnTo>
                  <a:lnTo>
                    <a:pt x="2104" y="2988"/>
                  </a:lnTo>
                  <a:lnTo>
                    <a:pt x="2113" y="2988"/>
                  </a:lnTo>
                  <a:lnTo>
                    <a:pt x="2125" y="2988"/>
                  </a:lnTo>
                  <a:lnTo>
                    <a:pt x="2130" y="2999"/>
                  </a:lnTo>
                  <a:lnTo>
                    <a:pt x="2130" y="3008"/>
                  </a:lnTo>
                  <a:lnTo>
                    <a:pt x="2133" y="3017"/>
                  </a:lnTo>
                  <a:lnTo>
                    <a:pt x="2139" y="3028"/>
                  </a:lnTo>
                  <a:lnTo>
                    <a:pt x="2148" y="3034"/>
                  </a:lnTo>
                  <a:lnTo>
                    <a:pt x="2160" y="3040"/>
                  </a:lnTo>
                  <a:lnTo>
                    <a:pt x="2151" y="3043"/>
                  </a:lnTo>
                  <a:lnTo>
                    <a:pt x="2148" y="3051"/>
                  </a:lnTo>
                  <a:lnTo>
                    <a:pt x="2133" y="3054"/>
                  </a:lnTo>
                  <a:lnTo>
                    <a:pt x="2125" y="3051"/>
                  </a:lnTo>
                  <a:lnTo>
                    <a:pt x="2116" y="3051"/>
                  </a:lnTo>
                  <a:lnTo>
                    <a:pt x="2101" y="3046"/>
                  </a:lnTo>
                  <a:lnTo>
                    <a:pt x="2093" y="3037"/>
                  </a:lnTo>
                  <a:lnTo>
                    <a:pt x="2090" y="3046"/>
                  </a:lnTo>
                  <a:lnTo>
                    <a:pt x="2090" y="3054"/>
                  </a:lnTo>
                  <a:lnTo>
                    <a:pt x="2090" y="3063"/>
                  </a:lnTo>
                  <a:lnTo>
                    <a:pt x="2090" y="3071"/>
                  </a:lnTo>
                  <a:lnTo>
                    <a:pt x="2087" y="3080"/>
                  </a:lnTo>
                  <a:lnTo>
                    <a:pt x="2084" y="3089"/>
                  </a:lnTo>
                  <a:lnTo>
                    <a:pt x="2084" y="3097"/>
                  </a:lnTo>
                  <a:lnTo>
                    <a:pt x="2096" y="3097"/>
                  </a:lnTo>
                  <a:lnTo>
                    <a:pt x="2104" y="3092"/>
                  </a:lnTo>
                  <a:lnTo>
                    <a:pt x="2110" y="3100"/>
                  </a:lnTo>
                  <a:lnTo>
                    <a:pt x="2107" y="3109"/>
                  </a:lnTo>
                  <a:lnTo>
                    <a:pt x="2098" y="3118"/>
                  </a:lnTo>
                  <a:lnTo>
                    <a:pt x="2090" y="3123"/>
                  </a:lnTo>
                  <a:lnTo>
                    <a:pt x="2087" y="3109"/>
                  </a:lnTo>
                  <a:lnTo>
                    <a:pt x="2087" y="3132"/>
                  </a:lnTo>
                  <a:lnTo>
                    <a:pt x="2096" y="3126"/>
                  </a:lnTo>
                  <a:lnTo>
                    <a:pt x="2087" y="3109"/>
                  </a:lnTo>
                  <a:lnTo>
                    <a:pt x="2104" y="3112"/>
                  </a:lnTo>
                  <a:lnTo>
                    <a:pt x="2110" y="3103"/>
                  </a:lnTo>
                  <a:lnTo>
                    <a:pt x="2110" y="3112"/>
                  </a:lnTo>
                  <a:lnTo>
                    <a:pt x="2110" y="3120"/>
                  </a:lnTo>
                  <a:lnTo>
                    <a:pt x="2116" y="3129"/>
                  </a:lnTo>
                  <a:lnTo>
                    <a:pt x="2119" y="3138"/>
                  </a:lnTo>
                  <a:lnTo>
                    <a:pt x="2122" y="3149"/>
                  </a:lnTo>
                  <a:lnTo>
                    <a:pt x="2122" y="3158"/>
                  </a:lnTo>
                  <a:lnTo>
                    <a:pt x="2125" y="3167"/>
                  </a:lnTo>
                  <a:lnTo>
                    <a:pt x="2125" y="3175"/>
                  </a:lnTo>
                  <a:lnTo>
                    <a:pt x="2125" y="3184"/>
                  </a:lnTo>
                  <a:lnTo>
                    <a:pt x="2125" y="3193"/>
                  </a:lnTo>
                  <a:lnTo>
                    <a:pt x="2128" y="3201"/>
                  </a:lnTo>
                  <a:lnTo>
                    <a:pt x="2130" y="3210"/>
                  </a:lnTo>
                  <a:lnTo>
                    <a:pt x="2139" y="3210"/>
                  </a:lnTo>
                  <a:lnTo>
                    <a:pt x="2148" y="3210"/>
                  </a:lnTo>
                  <a:lnTo>
                    <a:pt x="2157" y="3207"/>
                  </a:lnTo>
                  <a:lnTo>
                    <a:pt x="2163" y="3198"/>
                  </a:lnTo>
                  <a:lnTo>
                    <a:pt x="2171" y="3195"/>
                  </a:lnTo>
                  <a:lnTo>
                    <a:pt x="2183" y="3193"/>
                  </a:lnTo>
                  <a:lnTo>
                    <a:pt x="2192" y="3190"/>
                  </a:lnTo>
                  <a:lnTo>
                    <a:pt x="2200" y="3184"/>
                  </a:lnTo>
                  <a:lnTo>
                    <a:pt x="2209" y="3181"/>
                  </a:lnTo>
                  <a:lnTo>
                    <a:pt x="2218" y="3181"/>
                  </a:lnTo>
                  <a:lnTo>
                    <a:pt x="2224" y="3172"/>
                  </a:lnTo>
                  <a:lnTo>
                    <a:pt x="2232" y="3169"/>
                  </a:lnTo>
                  <a:lnTo>
                    <a:pt x="2241" y="3169"/>
                  </a:lnTo>
                  <a:lnTo>
                    <a:pt x="2256" y="3169"/>
                  </a:lnTo>
                  <a:lnTo>
                    <a:pt x="2264" y="3169"/>
                  </a:lnTo>
                  <a:lnTo>
                    <a:pt x="2276" y="3178"/>
                  </a:lnTo>
                  <a:lnTo>
                    <a:pt x="2288" y="3184"/>
                  </a:lnTo>
                  <a:lnTo>
                    <a:pt x="2296" y="3187"/>
                  </a:lnTo>
                  <a:lnTo>
                    <a:pt x="2308" y="3190"/>
                  </a:lnTo>
                  <a:lnTo>
                    <a:pt x="2317" y="3195"/>
                  </a:lnTo>
                  <a:lnTo>
                    <a:pt x="2328" y="3198"/>
                  </a:lnTo>
                  <a:lnTo>
                    <a:pt x="2340" y="3201"/>
                  </a:lnTo>
                  <a:lnTo>
                    <a:pt x="2349" y="3207"/>
                  </a:lnTo>
                  <a:lnTo>
                    <a:pt x="2358" y="3216"/>
                  </a:lnTo>
                  <a:lnTo>
                    <a:pt x="2366" y="3221"/>
                  </a:lnTo>
                  <a:lnTo>
                    <a:pt x="2375" y="3227"/>
                  </a:lnTo>
                  <a:lnTo>
                    <a:pt x="2387" y="3230"/>
                  </a:lnTo>
                  <a:lnTo>
                    <a:pt x="2395" y="3230"/>
                  </a:lnTo>
                  <a:lnTo>
                    <a:pt x="2404" y="3230"/>
                  </a:lnTo>
                  <a:lnTo>
                    <a:pt x="2407" y="3239"/>
                  </a:lnTo>
                  <a:lnTo>
                    <a:pt x="2407" y="3247"/>
                  </a:lnTo>
                  <a:lnTo>
                    <a:pt x="2413" y="3256"/>
                  </a:lnTo>
                  <a:lnTo>
                    <a:pt x="2422" y="3262"/>
                  </a:lnTo>
                  <a:lnTo>
                    <a:pt x="2436" y="3265"/>
                  </a:lnTo>
                  <a:lnTo>
                    <a:pt x="2451" y="3270"/>
                  </a:lnTo>
                  <a:lnTo>
                    <a:pt x="2457" y="3279"/>
                  </a:lnTo>
                  <a:lnTo>
                    <a:pt x="2457" y="3288"/>
                  </a:lnTo>
                  <a:lnTo>
                    <a:pt x="2468" y="3291"/>
                  </a:lnTo>
                  <a:lnTo>
                    <a:pt x="2483" y="3288"/>
                  </a:lnTo>
                  <a:lnTo>
                    <a:pt x="2491" y="3285"/>
                  </a:lnTo>
                  <a:lnTo>
                    <a:pt x="2500" y="3276"/>
                  </a:lnTo>
                  <a:lnTo>
                    <a:pt x="2509" y="3270"/>
                  </a:lnTo>
                  <a:lnTo>
                    <a:pt x="2515" y="3262"/>
                  </a:lnTo>
                  <a:lnTo>
                    <a:pt x="2521" y="3253"/>
                  </a:lnTo>
                  <a:lnTo>
                    <a:pt x="2526" y="3244"/>
                  </a:lnTo>
                  <a:lnTo>
                    <a:pt x="2532" y="3236"/>
                  </a:lnTo>
                  <a:lnTo>
                    <a:pt x="2535" y="3227"/>
                  </a:lnTo>
                  <a:lnTo>
                    <a:pt x="2541" y="3218"/>
                  </a:lnTo>
                  <a:lnTo>
                    <a:pt x="2544" y="3210"/>
                  </a:lnTo>
                  <a:lnTo>
                    <a:pt x="2544" y="3198"/>
                  </a:lnTo>
                  <a:lnTo>
                    <a:pt x="2544" y="3190"/>
                  </a:lnTo>
                  <a:lnTo>
                    <a:pt x="2553" y="3181"/>
                  </a:lnTo>
                  <a:lnTo>
                    <a:pt x="2567" y="3181"/>
                  </a:lnTo>
                  <a:lnTo>
                    <a:pt x="2599" y="3155"/>
                  </a:lnTo>
                  <a:lnTo>
                    <a:pt x="2599" y="3164"/>
                  </a:lnTo>
                  <a:lnTo>
                    <a:pt x="2608" y="3169"/>
                  </a:lnTo>
                  <a:lnTo>
                    <a:pt x="2617" y="3178"/>
                  </a:lnTo>
                  <a:lnTo>
                    <a:pt x="2625" y="3181"/>
                  </a:lnTo>
                  <a:lnTo>
                    <a:pt x="2634" y="3178"/>
                  </a:lnTo>
                  <a:lnTo>
                    <a:pt x="2643" y="3172"/>
                  </a:lnTo>
                  <a:lnTo>
                    <a:pt x="2657" y="3169"/>
                  </a:lnTo>
                  <a:lnTo>
                    <a:pt x="2666" y="3169"/>
                  </a:lnTo>
                  <a:lnTo>
                    <a:pt x="2675" y="3169"/>
                  </a:lnTo>
                  <a:lnTo>
                    <a:pt x="2684" y="3164"/>
                  </a:lnTo>
                  <a:lnTo>
                    <a:pt x="2692" y="3155"/>
                  </a:lnTo>
                  <a:lnTo>
                    <a:pt x="2739" y="3155"/>
                  </a:lnTo>
                  <a:lnTo>
                    <a:pt x="2733" y="3138"/>
                  </a:lnTo>
                  <a:lnTo>
                    <a:pt x="2733" y="3126"/>
                  </a:lnTo>
                  <a:lnTo>
                    <a:pt x="2730" y="3118"/>
                  </a:lnTo>
                  <a:lnTo>
                    <a:pt x="2739" y="3112"/>
                  </a:lnTo>
                  <a:lnTo>
                    <a:pt x="2748" y="3106"/>
                  </a:lnTo>
                  <a:lnTo>
                    <a:pt x="2753" y="3097"/>
                  </a:lnTo>
                  <a:lnTo>
                    <a:pt x="2762" y="3092"/>
                  </a:lnTo>
                  <a:lnTo>
                    <a:pt x="2771" y="3092"/>
                  </a:lnTo>
                  <a:lnTo>
                    <a:pt x="2780" y="3095"/>
                  </a:lnTo>
                  <a:lnTo>
                    <a:pt x="2783" y="3103"/>
                  </a:lnTo>
                  <a:lnTo>
                    <a:pt x="2786" y="3112"/>
                  </a:lnTo>
                  <a:lnTo>
                    <a:pt x="2786" y="3126"/>
                  </a:lnTo>
                  <a:lnTo>
                    <a:pt x="2788" y="3135"/>
                  </a:lnTo>
                  <a:lnTo>
                    <a:pt x="2791" y="3144"/>
                  </a:lnTo>
                  <a:lnTo>
                    <a:pt x="2794" y="3152"/>
                  </a:lnTo>
                  <a:lnTo>
                    <a:pt x="2800" y="3161"/>
                  </a:lnTo>
                  <a:lnTo>
                    <a:pt x="2809" y="3167"/>
                  </a:lnTo>
                  <a:lnTo>
                    <a:pt x="2818" y="3167"/>
                  </a:lnTo>
                  <a:lnTo>
                    <a:pt x="2826" y="3167"/>
                  </a:lnTo>
                  <a:lnTo>
                    <a:pt x="2832" y="3158"/>
                  </a:lnTo>
                  <a:lnTo>
                    <a:pt x="2841" y="3152"/>
                  </a:lnTo>
                  <a:lnTo>
                    <a:pt x="2844" y="3144"/>
                  </a:lnTo>
                  <a:lnTo>
                    <a:pt x="2847" y="3135"/>
                  </a:lnTo>
                  <a:lnTo>
                    <a:pt x="2850" y="3123"/>
                  </a:lnTo>
                  <a:lnTo>
                    <a:pt x="2858" y="3115"/>
                  </a:lnTo>
                  <a:lnTo>
                    <a:pt x="2870" y="3115"/>
                  </a:lnTo>
                  <a:lnTo>
                    <a:pt x="2879" y="3115"/>
                  </a:lnTo>
                  <a:lnTo>
                    <a:pt x="2887" y="3115"/>
                  </a:lnTo>
                  <a:lnTo>
                    <a:pt x="2896" y="3115"/>
                  </a:lnTo>
                  <a:lnTo>
                    <a:pt x="2902" y="3106"/>
                  </a:lnTo>
                  <a:lnTo>
                    <a:pt x="2914" y="3103"/>
                  </a:lnTo>
                  <a:lnTo>
                    <a:pt x="2922" y="3103"/>
                  </a:lnTo>
                  <a:lnTo>
                    <a:pt x="2925" y="3095"/>
                  </a:lnTo>
                  <a:lnTo>
                    <a:pt x="2925" y="3086"/>
                  </a:lnTo>
                  <a:lnTo>
                    <a:pt x="2922" y="3077"/>
                  </a:lnTo>
                  <a:lnTo>
                    <a:pt x="2917" y="3066"/>
                  </a:lnTo>
                  <a:lnTo>
                    <a:pt x="2911" y="3057"/>
                  </a:lnTo>
                  <a:lnTo>
                    <a:pt x="2905" y="3048"/>
                  </a:lnTo>
                  <a:lnTo>
                    <a:pt x="2896" y="3046"/>
                  </a:lnTo>
                  <a:lnTo>
                    <a:pt x="2887" y="3048"/>
                  </a:lnTo>
                  <a:lnTo>
                    <a:pt x="2879" y="3051"/>
                  </a:lnTo>
                  <a:lnTo>
                    <a:pt x="2876" y="3060"/>
                  </a:lnTo>
                  <a:lnTo>
                    <a:pt x="2873" y="3069"/>
                  </a:lnTo>
                  <a:lnTo>
                    <a:pt x="2864" y="3066"/>
                  </a:lnTo>
                  <a:lnTo>
                    <a:pt x="2861" y="3054"/>
                  </a:lnTo>
                  <a:lnTo>
                    <a:pt x="2858" y="3043"/>
                  </a:lnTo>
                  <a:lnTo>
                    <a:pt x="2858" y="3034"/>
                  </a:lnTo>
                  <a:lnTo>
                    <a:pt x="2855" y="3025"/>
                  </a:lnTo>
                  <a:lnTo>
                    <a:pt x="2850" y="3017"/>
                  </a:lnTo>
                  <a:lnTo>
                    <a:pt x="2850" y="3008"/>
                  </a:lnTo>
                  <a:lnTo>
                    <a:pt x="2850" y="2997"/>
                  </a:lnTo>
                  <a:lnTo>
                    <a:pt x="2850" y="2988"/>
                  </a:lnTo>
                  <a:lnTo>
                    <a:pt x="2858" y="2982"/>
                  </a:lnTo>
                  <a:lnTo>
                    <a:pt x="2867" y="2982"/>
                  </a:lnTo>
                  <a:lnTo>
                    <a:pt x="2876" y="2979"/>
                  </a:lnTo>
                  <a:lnTo>
                    <a:pt x="2884" y="2974"/>
                  </a:lnTo>
                  <a:lnTo>
                    <a:pt x="2887" y="2962"/>
                  </a:lnTo>
                  <a:lnTo>
                    <a:pt x="2896" y="2962"/>
                  </a:lnTo>
                  <a:lnTo>
                    <a:pt x="2905" y="2962"/>
                  </a:lnTo>
                  <a:lnTo>
                    <a:pt x="2914" y="2962"/>
                  </a:lnTo>
                  <a:lnTo>
                    <a:pt x="2922" y="2959"/>
                  </a:lnTo>
                  <a:lnTo>
                    <a:pt x="2931" y="2956"/>
                  </a:lnTo>
                  <a:lnTo>
                    <a:pt x="2937" y="2948"/>
                  </a:lnTo>
                  <a:lnTo>
                    <a:pt x="2943" y="2939"/>
                  </a:lnTo>
                  <a:lnTo>
                    <a:pt x="2946" y="2930"/>
                  </a:lnTo>
                  <a:lnTo>
                    <a:pt x="2954" y="2925"/>
                  </a:lnTo>
                  <a:lnTo>
                    <a:pt x="2963" y="2919"/>
                  </a:lnTo>
                  <a:lnTo>
                    <a:pt x="2972" y="2916"/>
                  </a:lnTo>
                  <a:lnTo>
                    <a:pt x="2981" y="2913"/>
                  </a:lnTo>
                  <a:lnTo>
                    <a:pt x="2983" y="2904"/>
                  </a:lnTo>
                  <a:lnTo>
                    <a:pt x="2989" y="2893"/>
                  </a:lnTo>
                  <a:lnTo>
                    <a:pt x="2998" y="2881"/>
                  </a:lnTo>
                  <a:lnTo>
                    <a:pt x="3004" y="2873"/>
                  </a:lnTo>
                  <a:lnTo>
                    <a:pt x="3010" y="2864"/>
                  </a:lnTo>
                  <a:lnTo>
                    <a:pt x="3018" y="2858"/>
                  </a:lnTo>
                  <a:lnTo>
                    <a:pt x="3027" y="2852"/>
                  </a:lnTo>
                  <a:lnTo>
                    <a:pt x="3036" y="2847"/>
                  </a:lnTo>
                  <a:lnTo>
                    <a:pt x="3045" y="2847"/>
                  </a:lnTo>
                  <a:lnTo>
                    <a:pt x="3053" y="2844"/>
                  </a:lnTo>
                  <a:lnTo>
                    <a:pt x="3053" y="2835"/>
                  </a:lnTo>
                  <a:lnTo>
                    <a:pt x="3053" y="2827"/>
                  </a:lnTo>
                  <a:lnTo>
                    <a:pt x="3053" y="2818"/>
                  </a:lnTo>
                  <a:lnTo>
                    <a:pt x="3053" y="2809"/>
                  </a:lnTo>
                  <a:lnTo>
                    <a:pt x="3050" y="2801"/>
                  </a:lnTo>
                  <a:lnTo>
                    <a:pt x="3045" y="2789"/>
                  </a:lnTo>
                  <a:lnTo>
                    <a:pt x="3045" y="2780"/>
                  </a:lnTo>
                  <a:lnTo>
                    <a:pt x="3045" y="2772"/>
                  </a:lnTo>
                  <a:lnTo>
                    <a:pt x="3045" y="2763"/>
                  </a:lnTo>
                  <a:lnTo>
                    <a:pt x="3036" y="2754"/>
                  </a:lnTo>
                  <a:lnTo>
                    <a:pt x="3027" y="2743"/>
                  </a:lnTo>
                  <a:lnTo>
                    <a:pt x="3024" y="2734"/>
                  </a:lnTo>
                  <a:lnTo>
                    <a:pt x="3021" y="2726"/>
                  </a:lnTo>
                  <a:lnTo>
                    <a:pt x="3018" y="2717"/>
                  </a:lnTo>
                  <a:lnTo>
                    <a:pt x="3010" y="2708"/>
                  </a:lnTo>
                  <a:lnTo>
                    <a:pt x="3001" y="2705"/>
                  </a:lnTo>
                  <a:lnTo>
                    <a:pt x="3001" y="2697"/>
                  </a:lnTo>
                  <a:lnTo>
                    <a:pt x="3010" y="2694"/>
                  </a:lnTo>
                  <a:lnTo>
                    <a:pt x="3018" y="2688"/>
                  </a:lnTo>
                  <a:lnTo>
                    <a:pt x="3027" y="2682"/>
                  </a:lnTo>
                  <a:lnTo>
                    <a:pt x="3030" y="2674"/>
                  </a:lnTo>
                  <a:lnTo>
                    <a:pt x="3039" y="2665"/>
                  </a:lnTo>
                  <a:lnTo>
                    <a:pt x="3045" y="2657"/>
                  </a:lnTo>
                  <a:lnTo>
                    <a:pt x="3056" y="2659"/>
                  </a:lnTo>
                  <a:lnTo>
                    <a:pt x="3065" y="2665"/>
                  </a:lnTo>
                  <a:lnTo>
                    <a:pt x="3074" y="2665"/>
                  </a:lnTo>
                  <a:lnTo>
                    <a:pt x="3077" y="2657"/>
                  </a:lnTo>
                  <a:lnTo>
                    <a:pt x="3077" y="2645"/>
                  </a:lnTo>
                  <a:lnTo>
                    <a:pt x="3077" y="2636"/>
                  </a:lnTo>
                  <a:lnTo>
                    <a:pt x="3077" y="2628"/>
                  </a:lnTo>
                  <a:lnTo>
                    <a:pt x="3071" y="2619"/>
                  </a:lnTo>
                  <a:lnTo>
                    <a:pt x="3062" y="2613"/>
                  </a:lnTo>
                  <a:lnTo>
                    <a:pt x="3056" y="2605"/>
                  </a:lnTo>
                  <a:lnTo>
                    <a:pt x="3056" y="2596"/>
                  </a:lnTo>
                  <a:lnTo>
                    <a:pt x="3053" y="2582"/>
                  </a:lnTo>
                  <a:lnTo>
                    <a:pt x="3053" y="2573"/>
                  </a:lnTo>
                  <a:lnTo>
                    <a:pt x="3062" y="2567"/>
                  </a:lnTo>
                  <a:lnTo>
                    <a:pt x="3071" y="2567"/>
                  </a:lnTo>
                  <a:lnTo>
                    <a:pt x="3080" y="2564"/>
                  </a:lnTo>
                  <a:lnTo>
                    <a:pt x="3088" y="2564"/>
                  </a:lnTo>
                  <a:lnTo>
                    <a:pt x="3097" y="2561"/>
                  </a:lnTo>
                  <a:lnTo>
                    <a:pt x="3109" y="2556"/>
                  </a:lnTo>
                  <a:lnTo>
                    <a:pt x="3117" y="2547"/>
                  </a:lnTo>
                  <a:lnTo>
                    <a:pt x="3120" y="2538"/>
                  </a:lnTo>
                  <a:lnTo>
                    <a:pt x="3120" y="2530"/>
                  </a:lnTo>
                  <a:lnTo>
                    <a:pt x="3120" y="2521"/>
                  </a:lnTo>
                  <a:lnTo>
                    <a:pt x="3120" y="2512"/>
                  </a:lnTo>
                  <a:lnTo>
                    <a:pt x="3114" y="2501"/>
                  </a:lnTo>
                  <a:lnTo>
                    <a:pt x="3112" y="2489"/>
                  </a:lnTo>
                  <a:lnTo>
                    <a:pt x="3112" y="2481"/>
                  </a:lnTo>
                  <a:lnTo>
                    <a:pt x="3112" y="2472"/>
                  </a:lnTo>
                  <a:lnTo>
                    <a:pt x="3120" y="2463"/>
                  </a:lnTo>
                  <a:lnTo>
                    <a:pt x="3129" y="2461"/>
                  </a:lnTo>
                  <a:lnTo>
                    <a:pt x="3135" y="2452"/>
                  </a:lnTo>
                  <a:lnTo>
                    <a:pt x="3135" y="2443"/>
                  </a:lnTo>
                  <a:lnTo>
                    <a:pt x="3135" y="2435"/>
                  </a:lnTo>
                  <a:lnTo>
                    <a:pt x="3144" y="2429"/>
                  </a:lnTo>
                  <a:lnTo>
                    <a:pt x="3152" y="2420"/>
                  </a:lnTo>
                  <a:lnTo>
                    <a:pt x="3155" y="2412"/>
                  </a:lnTo>
                  <a:lnTo>
                    <a:pt x="3158" y="2403"/>
                  </a:lnTo>
                  <a:lnTo>
                    <a:pt x="3167" y="2394"/>
                  </a:lnTo>
                  <a:lnTo>
                    <a:pt x="3176" y="2386"/>
                  </a:lnTo>
                  <a:lnTo>
                    <a:pt x="3184" y="2380"/>
                  </a:lnTo>
                  <a:lnTo>
                    <a:pt x="3184" y="2371"/>
                  </a:lnTo>
                  <a:lnTo>
                    <a:pt x="3187" y="2363"/>
                  </a:lnTo>
                  <a:lnTo>
                    <a:pt x="3193" y="2354"/>
                  </a:lnTo>
                  <a:lnTo>
                    <a:pt x="3202" y="2348"/>
                  </a:lnTo>
                  <a:lnTo>
                    <a:pt x="3208" y="2340"/>
                  </a:lnTo>
                  <a:lnTo>
                    <a:pt x="3213" y="2331"/>
                  </a:lnTo>
                  <a:lnTo>
                    <a:pt x="3216" y="2322"/>
                  </a:lnTo>
                  <a:lnTo>
                    <a:pt x="3219" y="2314"/>
                  </a:lnTo>
                  <a:lnTo>
                    <a:pt x="3222" y="2305"/>
                  </a:lnTo>
                  <a:lnTo>
                    <a:pt x="3228" y="2296"/>
                  </a:lnTo>
                  <a:lnTo>
                    <a:pt x="3237" y="2291"/>
                  </a:lnTo>
                  <a:lnTo>
                    <a:pt x="3245" y="2291"/>
                  </a:lnTo>
                  <a:lnTo>
                    <a:pt x="3254" y="2285"/>
                  </a:lnTo>
                  <a:lnTo>
                    <a:pt x="3263" y="2282"/>
                  </a:lnTo>
                  <a:lnTo>
                    <a:pt x="3272" y="2279"/>
                  </a:lnTo>
                  <a:lnTo>
                    <a:pt x="3280" y="2279"/>
                  </a:lnTo>
                  <a:lnTo>
                    <a:pt x="3289" y="2276"/>
                  </a:lnTo>
                  <a:lnTo>
                    <a:pt x="3298" y="2273"/>
                  </a:lnTo>
                  <a:lnTo>
                    <a:pt x="3307" y="2273"/>
                  </a:lnTo>
                  <a:lnTo>
                    <a:pt x="3318" y="2276"/>
                  </a:lnTo>
                  <a:lnTo>
                    <a:pt x="3327" y="2276"/>
                  </a:lnTo>
                  <a:lnTo>
                    <a:pt x="3336" y="2276"/>
                  </a:lnTo>
                  <a:lnTo>
                    <a:pt x="3344" y="2276"/>
                  </a:lnTo>
                  <a:lnTo>
                    <a:pt x="3344" y="2279"/>
                  </a:lnTo>
                  <a:lnTo>
                    <a:pt x="3356" y="2265"/>
                  </a:lnTo>
                  <a:lnTo>
                    <a:pt x="3365" y="2265"/>
                  </a:lnTo>
                  <a:lnTo>
                    <a:pt x="3374" y="2259"/>
                  </a:lnTo>
                  <a:lnTo>
                    <a:pt x="3382" y="2253"/>
                  </a:lnTo>
                  <a:lnTo>
                    <a:pt x="3385" y="2244"/>
                  </a:lnTo>
                  <a:lnTo>
                    <a:pt x="3391" y="2233"/>
                  </a:lnTo>
                  <a:lnTo>
                    <a:pt x="3400" y="2224"/>
                  </a:lnTo>
                  <a:lnTo>
                    <a:pt x="3397" y="2216"/>
                  </a:lnTo>
                  <a:lnTo>
                    <a:pt x="3391" y="2207"/>
                  </a:lnTo>
                  <a:lnTo>
                    <a:pt x="3382" y="2201"/>
                  </a:lnTo>
                  <a:lnTo>
                    <a:pt x="3376" y="2193"/>
                  </a:lnTo>
                  <a:lnTo>
                    <a:pt x="3368" y="2184"/>
                  </a:lnTo>
                  <a:lnTo>
                    <a:pt x="3362" y="2172"/>
                  </a:lnTo>
                  <a:lnTo>
                    <a:pt x="3356" y="2164"/>
                  </a:lnTo>
                  <a:lnTo>
                    <a:pt x="3356" y="2155"/>
                  </a:lnTo>
                  <a:lnTo>
                    <a:pt x="3356" y="2146"/>
                  </a:lnTo>
                  <a:lnTo>
                    <a:pt x="3368" y="2141"/>
                  </a:lnTo>
                  <a:lnTo>
                    <a:pt x="3376" y="2138"/>
                  </a:lnTo>
                  <a:lnTo>
                    <a:pt x="3385" y="2135"/>
                  </a:lnTo>
                  <a:lnTo>
                    <a:pt x="3394" y="2126"/>
                  </a:lnTo>
                  <a:lnTo>
                    <a:pt x="3400" y="2118"/>
                  </a:lnTo>
                  <a:lnTo>
                    <a:pt x="3406" y="2109"/>
                  </a:lnTo>
                  <a:lnTo>
                    <a:pt x="3414" y="2106"/>
                  </a:lnTo>
                  <a:lnTo>
                    <a:pt x="3426" y="2106"/>
                  </a:lnTo>
                  <a:lnTo>
                    <a:pt x="3435" y="2106"/>
                  </a:lnTo>
                  <a:lnTo>
                    <a:pt x="3443" y="2106"/>
                  </a:lnTo>
                  <a:lnTo>
                    <a:pt x="3452" y="2103"/>
                  </a:lnTo>
                  <a:lnTo>
                    <a:pt x="3461" y="2103"/>
                  </a:lnTo>
                  <a:lnTo>
                    <a:pt x="3470" y="2103"/>
                  </a:lnTo>
                  <a:lnTo>
                    <a:pt x="3478" y="2112"/>
                  </a:lnTo>
                  <a:lnTo>
                    <a:pt x="3484" y="2120"/>
                  </a:lnTo>
                  <a:lnTo>
                    <a:pt x="3493" y="2126"/>
                  </a:lnTo>
                  <a:lnTo>
                    <a:pt x="3502" y="2129"/>
                  </a:lnTo>
                  <a:lnTo>
                    <a:pt x="3510" y="2129"/>
                  </a:lnTo>
                  <a:lnTo>
                    <a:pt x="3519" y="2129"/>
                  </a:lnTo>
                  <a:lnTo>
                    <a:pt x="3528" y="2126"/>
                  </a:lnTo>
                  <a:lnTo>
                    <a:pt x="3537" y="2118"/>
                  </a:lnTo>
                  <a:lnTo>
                    <a:pt x="3542" y="2109"/>
                  </a:lnTo>
                  <a:lnTo>
                    <a:pt x="3548" y="2100"/>
                  </a:lnTo>
                  <a:lnTo>
                    <a:pt x="3551" y="2089"/>
                  </a:lnTo>
                  <a:lnTo>
                    <a:pt x="3554" y="2080"/>
                  </a:lnTo>
                  <a:lnTo>
                    <a:pt x="3563" y="2072"/>
                  </a:lnTo>
                  <a:lnTo>
                    <a:pt x="3572" y="2072"/>
                  </a:lnTo>
                  <a:lnTo>
                    <a:pt x="3583" y="2063"/>
                  </a:lnTo>
                  <a:lnTo>
                    <a:pt x="3589" y="2054"/>
                  </a:lnTo>
                  <a:lnTo>
                    <a:pt x="3595" y="2046"/>
                  </a:lnTo>
                  <a:lnTo>
                    <a:pt x="3604" y="2040"/>
                  </a:lnTo>
                  <a:lnTo>
                    <a:pt x="3612" y="2040"/>
                  </a:lnTo>
                  <a:lnTo>
                    <a:pt x="3621" y="2040"/>
                  </a:lnTo>
                  <a:lnTo>
                    <a:pt x="3630" y="2040"/>
                  </a:lnTo>
                  <a:lnTo>
                    <a:pt x="3638" y="2037"/>
                  </a:lnTo>
                  <a:lnTo>
                    <a:pt x="3647" y="2037"/>
                  </a:lnTo>
                  <a:lnTo>
                    <a:pt x="3656" y="2037"/>
                  </a:lnTo>
                  <a:lnTo>
                    <a:pt x="3665" y="2037"/>
                  </a:lnTo>
                  <a:lnTo>
                    <a:pt x="3673" y="2034"/>
                  </a:lnTo>
                  <a:lnTo>
                    <a:pt x="3682" y="2031"/>
                  </a:lnTo>
                  <a:lnTo>
                    <a:pt x="3691" y="2028"/>
                  </a:lnTo>
                  <a:lnTo>
                    <a:pt x="3700" y="2023"/>
                  </a:lnTo>
                  <a:lnTo>
                    <a:pt x="3705" y="2014"/>
                  </a:lnTo>
                  <a:lnTo>
                    <a:pt x="3714" y="2005"/>
                  </a:lnTo>
                  <a:lnTo>
                    <a:pt x="3723" y="1997"/>
                  </a:lnTo>
                  <a:lnTo>
                    <a:pt x="3726" y="1988"/>
                  </a:lnTo>
                  <a:lnTo>
                    <a:pt x="3735" y="1976"/>
                  </a:lnTo>
                  <a:lnTo>
                    <a:pt x="3740" y="1968"/>
                  </a:lnTo>
                  <a:lnTo>
                    <a:pt x="3746" y="1959"/>
                  </a:lnTo>
                  <a:lnTo>
                    <a:pt x="3749" y="1950"/>
                  </a:lnTo>
                  <a:lnTo>
                    <a:pt x="3755" y="1939"/>
                  </a:lnTo>
                  <a:lnTo>
                    <a:pt x="3761" y="1927"/>
                  </a:lnTo>
                  <a:lnTo>
                    <a:pt x="3767" y="1919"/>
                  </a:lnTo>
                  <a:lnTo>
                    <a:pt x="3767" y="1910"/>
                  </a:lnTo>
                  <a:lnTo>
                    <a:pt x="3758" y="1910"/>
                  </a:lnTo>
                  <a:lnTo>
                    <a:pt x="3758" y="1899"/>
                  </a:lnTo>
                  <a:lnTo>
                    <a:pt x="3758" y="1890"/>
                  </a:lnTo>
                  <a:lnTo>
                    <a:pt x="3767" y="1881"/>
                  </a:lnTo>
                  <a:lnTo>
                    <a:pt x="3775" y="1881"/>
                  </a:lnTo>
                  <a:lnTo>
                    <a:pt x="3781" y="1873"/>
                  </a:lnTo>
                  <a:lnTo>
                    <a:pt x="3784" y="1864"/>
                  </a:lnTo>
                  <a:lnTo>
                    <a:pt x="3787" y="1855"/>
                  </a:lnTo>
                  <a:lnTo>
                    <a:pt x="3796" y="1850"/>
                  </a:lnTo>
                  <a:lnTo>
                    <a:pt x="3804" y="1847"/>
                  </a:lnTo>
                  <a:lnTo>
                    <a:pt x="3813" y="1844"/>
                  </a:lnTo>
                  <a:lnTo>
                    <a:pt x="3822" y="1838"/>
                  </a:lnTo>
                  <a:lnTo>
                    <a:pt x="3831" y="1835"/>
                  </a:lnTo>
                  <a:lnTo>
                    <a:pt x="3839" y="1824"/>
                  </a:lnTo>
                  <a:lnTo>
                    <a:pt x="3845" y="1815"/>
                  </a:lnTo>
                  <a:lnTo>
                    <a:pt x="3851" y="1806"/>
                  </a:lnTo>
                  <a:lnTo>
                    <a:pt x="3857" y="1798"/>
                  </a:lnTo>
                  <a:lnTo>
                    <a:pt x="3860" y="1789"/>
                  </a:lnTo>
                  <a:lnTo>
                    <a:pt x="3863" y="1780"/>
                  </a:lnTo>
                  <a:lnTo>
                    <a:pt x="3857" y="1772"/>
                  </a:lnTo>
                  <a:lnTo>
                    <a:pt x="3851" y="1763"/>
                  </a:lnTo>
                  <a:lnTo>
                    <a:pt x="3842" y="1760"/>
                  </a:lnTo>
                  <a:lnTo>
                    <a:pt x="3834" y="1752"/>
                  </a:lnTo>
                  <a:lnTo>
                    <a:pt x="3831" y="1743"/>
                  </a:lnTo>
                  <a:lnTo>
                    <a:pt x="3828" y="1734"/>
                  </a:lnTo>
                  <a:lnTo>
                    <a:pt x="3825" y="1726"/>
                  </a:lnTo>
                  <a:lnTo>
                    <a:pt x="3822" y="1714"/>
                  </a:lnTo>
                  <a:lnTo>
                    <a:pt x="3819" y="1706"/>
                  </a:lnTo>
                  <a:lnTo>
                    <a:pt x="3816" y="1697"/>
                  </a:lnTo>
                  <a:lnTo>
                    <a:pt x="3813" y="1685"/>
                  </a:lnTo>
                  <a:lnTo>
                    <a:pt x="3810" y="1677"/>
                  </a:lnTo>
                  <a:lnTo>
                    <a:pt x="3807" y="1668"/>
                  </a:lnTo>
                  <a:lnTo>
                    <a:pt x="3804" y="1659"/>
                  </a:lnTo>
                  <a:lnTo>
                    <a:pt x="3796" y="1657"/>
                  </a:lnTo>
                  <a:lnTo>
                    <a:pt x="3787" y="1657"/>
                  </a:lnTo>
                  <a:lnTo>
                    <a:pt x="3775" y="1657"/>
                  </a:lnTo>
                  <a:lnTo>
                    <a:pt x="3767" y="1648"/>
                  </a:lnTo>
                  <a:lnTo>
                    <a:pt x="3767" y="1639"/>
                  </a:lnTo>
                  <a:lnTo>
                    <a:pt x="3767" y="1631"/>
                  </a:lnTo>
                  <a:lnTo>
                    <a:pt x="3767" y="1622"/>
                  </a:lnTo>
                  <a:lnTo>
                    <a:pt x="3767" y="1613"/>
                  </a:lnTo>
                  <a:lnTo>
                    <a:pt x="3770" y="1605"/>
                  </a:lnTo>
                  <a:lnTo>
                    <a:pt x="3770" y="1596"/>
                  </a:lnTo>
                  <a:lnTo>
                    <a:pt x="3772" y="1587"/>
                  </a:lnTo>
                  <a:lnTo>
                    <a:pt x="3810" y="1541"/>
                  </a:lnTo>
                  <a:lnTo>
                    <a:pt x="3793" y="1541"/>
                  </a:lnTo>
                  <a:lnTo>
                    <a:pt x="3799" y="1533"/>
                  </a:lnTo>
                  <a:lnTo>
                    <a:pt x="3807" y="1530"/>
                  </a:lnTo>
                  <a:lnTo>
                    <a:pt x="3816" y="1527"/>
                  </a:lnTo>
                  <a:lnTo>
                    <a:pt x="3828" y="1527"/>
                  </a:lnTo>
                  <a:lnTo>
                    <a:pt x="3839" y="1527"/>
                  </a:lnTo>
                  <a:lnTo>
                    <a:pt x="3851" y="1524"/>
                  </a:lnTo>
                  <a:lnTo>
                    <a:pt x="3863" y="1524"/>
                  </a:lnTo>
                  <a:lnTo>
                    <a:pt x="3874" y="1524"/>
                  </a:lnTo>
                  <a:lnTo>
                    <a:pt x="3883" y="1527"/>
                  </a:lnTo>
                  <a:lnTo>
                    <a:pt x="3892" y="1530"/>
                  </a:lnTo>
                  <a:lnTo>
                    <a:pt x="3901" y="1533"/>
                  </a:lnTo>
                  <a:lnTo>
                    <a:pt x="3909" y="1535"/>
                  </a:lnTo>
                  <a:lnTo>
                    <a:pt x="3918" y="1535"/>
                  </a:lnTo>
                  <a:lnTo>
                    <a:pt x="3930" y="1535"/>
                  </a:lnTo>
                  <a:lnTo>
                    <a:pt x="3941" y="1535"/>
                  </a:lnTo>
                  <a:lnTo>
                    <a:pt x="3950" y="1535"/>
                  </a:lnTo>
                  <a:lnTo>
                    <a:pt x="3959" y="1535"/>
                  </a:lnTo>
                  <a:lnTo>
                    <a:pt x="3970" y="1541"/>
                  </a:lnTo>
                  <a:lnTo>
                    <a:pt x="3979" y="1541"/>
                  </a:lnTo>
                  <a:lnTo>
                    <a:pt x="3985" y="1550"/>
                  </a:lnTo>
                  <a:lnTo>
                    <a:pt x="3997" y="1559"/>
                  </a:lnTo>
                  <a:lnTo>
                    <a:pt x="4005" y="1561"/>
                  </a:lnTo>
                  <a:lnTo>
                    <a:pt x="4017" y="1561"/>
                  </a:lnTo>
                  <a:lnTo>
                    <a:pt x="4026" y="1559"/>
                  </a:lnTo>
                  <a:lnTo>
                    <a:pt x="4029" y="1550"/>
                  </a:lnTo>
                  <a:lnTo>
                    <a:pt x="4037" y="1541"/>
                  </a:lnTo>
                  <a:lnTo>
                    <a:pt x="4040" y="1533"/>
                  </a:lnTo>
                  <a:lnTo>
                    <a:pt x="4043" y="1524"/>
                  </a:lnTo>
                  <a:lnTo>
                    <a:pt x="4055" y="1512"/>
                  </a:lnTo>
                  <a:lnTo>
                    <a:pt x="4066" y="1507"/>
                  </a:lnTo>
                  <a:lnTo>
                    <a:pt x="4075" y="1498"/>
                  </a:lnTo>
                  <a:lnTo>
                    <a:pt x="4084" y="1495"/>
                  </a:lnTo>
                  <a:lnTo>
                    <a:pt x="4093" y="1495"/>
                  </a:lnTo>
                  <a:lnTo>
                    <a:pt x="4101" y="1495"/>
                  </a:lnTo>
                  <a:lnTo>
                    <a:pt x="4110" y="1495"/>
                  </a:lnTo>
                  <a:lnTo>
                    <a:pt x="4119" y="1501"/>
                  </a:lnTo>
                  <a:lnTo>
                    <a:pt x="4130" y="1510"/>
                  </a:lnTo>
                  <a:lnTo>
                    <a:pt x="4139" y="1512"/>
                  </a:lnTo>
                  <a:lnTo>
                    <a:pt x="4148" y="1507"/>
                  </a:lnTo>
                  <a:lnTo>
                    <a:pt x="4154" y="1498"/>
                  </a:lnTo>
                  <a:lnTo>
                    <a:pt x="4157" y="1489"/>
                  </a:lnTo>
                  <a:lnTo>
                    <a:pt x="4165" y="1478"/>
                  </a:lnTo>
                  <a:lnTo>
                    <a:pt x="4168" y="1466"/>
                  </a:lnTo>
                  <a:lnTo>
                    <a:pt x="4163" y="1458"/>
                  </a:lnTo>
                  <a:lnTo>
                    <a:pt x="4157" y="1449"/>
                  </a:lnTo>
                  <a:lnTo>
                    <a:pt x="4154" y="1438"/>
                  </a:lnTo>
                  <a:lnTo>
                    <a:pt x="4151" y="1429"/>
                  </a:lnTo>
                  <a:lnTo>
                    <a:pt x="4151" y="1420"/>
                  </a:lnTo>
                  <a:lnTo>
                    <a:pt x="4151" y="1409"/>
                  </a:lnTo>
                  <a:lnTo>
                    <a:pt x="4151" y="1400"/>
                  </a:lnTo>
                  <a:lnTo>
                    <a:pt x="4160" y="1394"/>
                  </a:lnTo>
                  <a:lnTo>
                    <a:pt x="4174" y="1400"/>
                  </a:lnTo>
                  <a:lnTo>
                    <a:pt x="4183" y="1403"/>
                  </a:lnTo>
                  <a:lnTo>
                    <a:pt x="4183" y="1412"/>
                  </a:lnTo>
                  <a:lnTo>
                    <a:pt x="4192" y="1420"/>
                  </a:lnTo>
                  <a:lnTo>
                    <a:pt x="4203" y="1432"/>
                  </a:lnTo>
                  <a:lnTo>
                    <a:pt x="4212" y="1440"/>
                  </a:lnTo>
                  <a:lnTo>
                    <a:pt x="4215" y="1449"/>
                  </a:lnTo>
                  <a:lnTo>
                    <a:pt x="4218" y="1458"/>
                  </a:lnTo>
                  <a:lnTo>
                    <a:pt x="4227" y="1472"/>
                  </a:lnTo>
                  <a:lnTo>
                    <a:pt x="4235" y="1478"/>
                  </a:lnTo>
                  <a:lnTo>
                    <a:pt x="4241" y="1487"/>
                  </a:lnTo>
                  <a:lnTo>
                    <a:pt x="4253" y="1495"/>
                  </a:lnTo>
                  <a:lnTo>
                    <a:pt x="4264" y="1501"/>
                  </a:lnTo>
                  <a:lnTo>
                    <a:pt x="4270" y="1510"/>
                  </a:lnTo>
                  <a:lnTo>
                    <a:pt x="4273" y="1518"/>
                  </a:lnTo>
                  <a:lnTo>
                    <a:pt x="4273" y="1527"/>
                  </a:lnTo>
                  <a:lnTo>
                    <a:pt x="4273" y="1535"/>
                  </a:lnTo>
                  <a:lnTo>
                    <a:pt x="4273" y="1544"/>
                  </a:lnTo>
                  <a:lnTo>
                    <a:pt x="4264" y="1550"/>
                  </a:lnTo>
                  <a:lnTo>
                    <a:pt x="4256" y="1553"/>
                  </a:lnTo>
                  <a:lnTo>
                    <a:pt x="4256" y="1564"/>
                  </a:lnTo>
                  <a:lnTo>
                    <a:pt x="4256" y="1573"/>
                  </a:lnTo>
                  <a:lnTo>
                    <a:pt x="4256" y="1582"/>
                  </a:lnTo>
                  <a:lnTo>
                    <a:pt x="4264" y="1587"/>
                  </a:lnTo>
                  <a:lnTo>
                    <a:pt x="4276" y="1590"/>
                  </a:lnTo>
                  <a:lnTo>
                    <a:pt x="4285" y="1590"/>
                  </a:lnTo>
                  <a:lnTo>
                    <a:pt x="4294" y="1599"/>
                  </a:lnTo>
                  <a:lnTo>
                    <a:pt x="4302" y="1608"/>
                  </a:lnTo>
                  <a:lnTo>
                    <a:pt x="4314" y="1610"/>
                  </a:lnTo>
                  <a:lnTo>
                    <a:pt x="4326" y="1616"/>
                  </a:lnTo>
                  <a:lnTo>
                    <a:pt x="4334" y="1619"/>
                  </a:lnTo>
                  <a:lnTo>
                    <a:pt x="4340" y="1628"/>
                  </a:lnTo>
                  <a:lnTo>
                    <a:pt x="4343" y="1636"/>
                  </a:lnTo>
                  <a:lnTo>
                    <a:pt x="4343" y="1645"/>
                  </a:lnTo>
                  <a:lnTo>
                    <a:pt x="4343" y="1654"/>
                  </a:lnTo>
                  <a:lnTo>
                    <a:pt x="4343" y="1662"/>
                  </a:lnTo>
                  <a:lnTo>
                    <a:pt x="4346" y="1671"/>
                  </a:lnTo>
                  <a:lnTo>
                    <a:pt x="4355" y="1671"/>
                  </a:lnTo>
                  <a:lnTo>
                    <a:pt x="4366" y="1671"/>
                  </a:lnTo>
                  <a:lnTo>
                    <a:pt x="4369" y="1662"/>
                  </a:lnTo>
                  <a:lnTo>
                    <a:pt x="4363" y="1654"/>
                  </a:lnTo>
                  <a:lnTo>
                    <a:pt x="4360" y="1645"/>
                  </a:lnTo>
                  <a:lnTo>
                    <a:pt x="4355" y="1636"/>
                  </a:lnTo>
                  <a:lnTo>
                    <a:pt x="4352" y="1628"/>
                  </a:lnTo>
                  <a:lnTo>
                    <a:pt x="4349" y="1619"/>
                  </a:lnTo>
                  <a:lnTo>
                    <a:pt x="4346" y="1610"/>
                  </a:lnTo>
                  <a:lnTo>
                    <a:pt x="4346" y="1602"/>
                  </a:lnTo>
                  <a:lnTo>
                    <a:pt x="4346" y="1590"/>
                  </a:lnTo>
                  <a:lnTo>
                    <a:pt x="4346" y="1582"/>
                  </a:lnTo>
                  <a:lnTo>
                    <a:pt x="4355" y="1579"/>
                  </a:lnTo>
                  <a:lnTo>
                    <a:pt x="4363" y="1582"/>
                  </a:lnTo>
                  <a:lnTo>
                    <a:pt x="4372" y="1582"/>
                  </a:lnTo>
                  <a:lnTo>
                    <a:pt x="4381" y="1573"/>
                  </a:lnTo>
                  <a:lnTo>
                    <a:pt x="4390" y="1567"/>
                  </a:lnTo>
                  <a:lnTo>
                    <a:pt x="4393" y="1559"/>
                  </a:lnTo>
                  <a:lnTo>
                    <a:pt x="4393" y="1550"/>
                  </a:lnTo>
                  <a:lnTo>
                    <a:pt x="4393" y="1541"/>
                  </a:lnTo>
                  <a:lnTo>
                    <a:pt x="4393" y="1533"/>
                  </a:lnTo>
                  <a:lnTo>
                    <a:pt x="4393" y="1524"/>
                  </a:lnTo>
                  <a:lnTo>
                    <a:pt x="4393" y="1515"/>
                  </a:lnTo>
                  <a:lnTo>
                    <a:pt x="4390" y="1504"/>
                  </a:lnTo>
                  <a:lnTo>
                    <a:pt x="4384" y="1495"/>
                  </a:lnTo>
                  <a:lnTo>
                    <a:pt x="4381" y="1484"/>
                  </a:lnTo>
                  <a:lnTo>
                    <a:pt x="4378" y="1475"/>
                  </a:lnTo>
                  <a:lnTo>
                    <a:pt x="4369" y="1463"/>
                  </a:lnTo>
                  <a:lnTo>
                    <a:pt x="4363" y="1455"/>
                  </a:lnTo>
                  <a:lnTo>
                    <a:pt x="4360" y="1446"/>
                  </a:lnTo>
                  <a:lnTo>
                    <a:pt x="4358" y="1438"/>
                  </a:lnTo>
                  <a:lnTo>
                    <a:pt x="4352" y="1429"/>
                  </a:lnTo>
                  <a:lnTo>
                    <a:pt x="4346" y="1417"/>
                  </a:lnTo>
                  <a:lnTo>
                    <a:pt x="4340" y="1409"/>
                  </a:lnTo>
                  <a:lnTo>
                    <a:pt x="4337" y="1397"/>
                  </a:lnTo>
                  <a:lnTo>
                    <a:pt x="4334" y="1389"/>
                  </a:lnTo>
                  <a:lnTo>
                    <a:pt x="4334" y="1380"/>
                  </a:lnTo>
                  <a:lnTo>
                    <a:pt x="4331" y="1371"/>
                  </a:lnTo>
                  <a:lnTo>
                    <a:pt x="4328" y="1360"/>
                  </a:lnTo>
                  <a:lnTo>
                    <a:pt x="4323" y="1351"/>
                  </a:lnTo>
                  <a:lnTo>
                    <a:pt x="4320" y="1342"/>
                  </a:lnTo>
                  <a:lnTo>
                    <a:pt x="4314" y="1334"/>
                  </a:lnTo>
                  <a:lnTo>
                    <a:pt x="4305" y="1325"/>
                  </a:lnTo>
                  <a:lnTo>
                    <a:pt x="4296" y="1316"/>
                  </a:lnTo>
                  <a:lnTo>
                    <a:pt x="4288" y="1308"/>
                  </a:lnTo>
                  <a:lnTo>
                    <a:pt x="4276" y="1311"/>
                  </a:lnTo>
                  <a:lnTo>
                    <a:pt x="4279" y="1291"/>
                  </a:lnTo>
                  <a:lnTo>
                    <a:pt x="4276" y="1282"/>
                  </a:lnTo>
                  <a:lnTo>
                    <a:pt x="4270" y="1273"/>
                  </a:lnTo>
                  <a:lnTo>
                    <a:pt x="4261" y="1267"/>
                  </a:lnTo>
                  <a:lnTo>
                    <a:pt x="4253" y="1259"/>
                  </a:lnTo>
                  <a:lnTo>
                    <a:pt x="4244" y="1250"/>
                  </a:lnTo>
                  <a:lnTo>
                    <a:pt x="4238" y="1242"/>
                  </a:lnTo>
                  <a:lnTo>
                    <a:pt x="4232" y="1233"/>
                  </a:lnTo>
                  <a:lnTo>
                    <a:pt x="4229" y="1224"/>
                  </a:lnTo>
                  <a:lnTo>
                    <a:pt x="4221" y="1218"/>
                  </a:lnTo>
                  <a:lnTo>
                    <a:pt x="4212" y="1210"/>
                  </a:lnTo>
                  <a:lnTo>
                    <a:pt x="4200" y="1201"/>
                  </a:lnTo>
                  <a:lnTo>
                    <a:pt x="4192" y="1195"/>
                  </a:lnTo>
                  <a:lnTo>
                    <a:pt x="4183" y="1193"/>
                  </a:lnTo>
                  <a:lnTo>
                    <a:pt x="4171" y="1187"/>
                  </a:lnTo>
                  <a:lnTo>
                    <a:pt x="4163" y="1184"/>
                  </a:lnTo>
                  <a:lnTo>
                    <a:pt x="4154" y="1181"/>
                  </a:lnTo>
                  <a:lnTo>
                    <a:pt x="4145" y="1175"/>
                  </a:lnTo>
                  <a:lnTo>
                    <a:pt x="4136" y="1170"/>
                  </a:lnTo>
                  <a:lnTo>
                    <a:pt x="4130" y="1161"/>
                  </a:lnTo>
                  <a:lnTo>
                    <a:pt x="4119" y="1152"/>
                  </a:lnTo>
                  <a:lnTo>
                    <a:pt x="4110" y="1149"/>
                  </a:lnTo>
                  <a:lnTo>
                    <a:pt x="4098" y="1144"/>
                  </a:lnTo>
                  <a:lnTo>
                    <a:pt x="4090" y="1144"/>
                  </a:lnTo>
                  <a:lnTo>
                    <a:pt x="4078" y="1135"/>
                  </a:lnTo>
                  <a:lnTo>
                    <a:pt x="4069" y="1126"/>
                  </a:lnTo>
                  <a:lnTo>
                    <a:pt x="4064" y="1118"/>
                  </a:lnTo>
                  <a:lnTo>
                    <a:pt x="4058" y="1109"/>
                  </a:lnTo>
                  <a:lnTo>
                    <a:pt x="4049" y="1103"/>
                  </a:lnTo>
                  <a:lnTo>
                    <a:pt x="4058" y="1100"/>
                  </a:lnTo>
                  <a:lnTo>
                    <a:pt x="4066" y="1100"/>
                  </a:lnTo>
                  <a:lnTo>
                    <a:pt x="4078" y="1100"/>
                  </a:lnTo>
                  <a:lnTo>
                    <a:pt x="4090" y="1103"/>
                  </a:lnTo>
                  <a:lnTo>
                    <a:pt x="4098" y="1109"/>
                  </a:lnTo>
                  <a:lnTo>
                    <a:pt x="4107" y="1112"/>
                  </a:lnTo>
                  <a:lnTo>
                    <a:pt x="4116" y="1115"/>
                  </a:lnTo>
                  <a:lnTo>
                    <a:pt x="4125" y="1121"/>
                  </a:lnTo>
                  <a:lnTo>
                    <a:pt x="4133" y="1126"/>
                  </a:lnTo>
                  <a:lnTo>
                    <a:pt x="4142" y="1129"/>
                  </a:lnTo>
                  <a:lnTo>
                    <a:pt x="4154" y="1138"/>
                  </a:lnTo>
                  <a:lnTo>
                    <a:pt x="4163" y="1141"/>
                  </a:lnTo>
                  <a:lnTo>
                    <a:pt x="4171" y="1144"/>
                  </a:lnTo>
                  <a:lnTo>
                    <a:pt x="4180" y="1146"/>
                  </a:lnTo>
                  <a:lnTo>
                    <a:pt x="4192" y="1146"/>
                  </a:lnTo>
                  <a:lnTo>
                    <a:pt x="4200" y="1146"/>
                  </a:lnTo>
                  <a:lnTo>
                    <a:pt x="4212" y="1149"/>
                  </a:lnTo>
                  <a:lnTo>
                    <a:pt x="4221" y="1149"/>
                  </a:lnTo>
                  <a:lnTo>
                    <a:pt x="4229" y="1152"/>
                  </a:lnTo>
                  <a:lnTo>
                    <a:pt x="4238" y="1155"/>
                  </a:lnTo>
                  <a:lnTo>
                    <a:pt x="4247" y="1161"/>
                  </a:lnTo>
                  <a:lnTo>
                    <a:pt x="4256" y="1164"/>
                  </a:lnTo>
                  <a:lnTo>
                    <a:pt x="4264" y="1170"/>
                  </a:lnTo>
                  <a:lnTo>
                    <a:pt x="4273" y="1172"/>
                  </a:lnTo>
                  <a:lnTo>
                    <a:pt x="4282" y="1178"/>
                  </a:lnTo>
                  <a:lnTo>
                    <a:pt x="4291" y="1181"/>
                  </a:lnTo>
                  <a:lnTo>
                    <a:pt x="4299" y="1187"/>
                  </a:lnTo>
                  <a:lnTo>
                    <a:pt x="4308" y="1190"/>
                  </a:lnTo>
                  <a:lnTo>
                    <a:pt x="4317" y="1193"/>
                  </a:lnTo>
                  <a:lnTo>
                    <a:pt x="4326" y="1195"/>
                  </a:lnTo>
                  <a:lnTo>
                    <a:pt x="4334" y="1195"/>
                  </a:lnTo>
                  <a:lnTo>
                    <a:pt x="4326" y="1190"/>
                  </a:lnTo>
                  <a:lnTo>
                    <a:pt x="4314" y="1178"/>
                  </a:lnTo>
                  <a:lnTo>
                    <a:pt x="4305" y="1170"/>
                  </a:lnTo>
                  <a:lnTo>
                    <a:pt x="4305" y="1161"/>
                  </a:lnTo>
                  <a:lnTo>
                    <a:pt x="4317" y="1158"/>
                  </a:lnTo>
                  <a:lnTo>
                    <a:pt x="4328" y="1158"/>
                  </a:lnTo>
                  <a:lnTo>
                    <a:pt x="4337" y="1158"/>
                  </a:lnTo>
                  <a:lnTo>
                    <a:pt x="4346" y="1158"/>
                  </a:lnTo>
                  <a:lnTo>
                    <a:pt x="4346" y="1149"/>
                  </a:lnTo>
                  <a:lnTo>
                    <a:pt x="4349" y="1138"/>
                  </a:lnTo>
                  <a:lnTo>
                    <a:pt x="4349" y="1129"/>
                  </a:lnTo>
                  <a:lnTo>
                    <a:pt x="4340" y="1123"/>
                  </a:lnTo>
                  <a:lnTo>
                    <a:pt x="4331" y="1121"/>
                  </a:lnTo>
                  <a:lnTo>
                    <a:pt x="4323" y="1121"/>
                  </a:lnTo>
                  <a:lnTo>
                    <a:pt x="4314" y="1121"/>
                  </a:lnTo>
                  <a:lnTo>
                    <a:pt x="4302" y="1121"/>
                  </a:lnTo>
                  <a:lnTo>
                    <a:pt x="4296" y="1132"/>
                  </a:lnTo>
                  <a:lnTo>
                    <a:pt x="4288" y="1138"/>
                  </a:lnTo>
                  <a:lnTo>
                    <a:pt x="4279" y="1144"/>
                  </a:lnTo>
                  <a:lnTo>
                    <a:pt x="4270" y="1144"/>
                  </a:lnTo>
                  <a:lnTo>
                    <a:pt x="4261" y="1144"/>
                  </a:lnTo>
                  <a:lnTo>
                    <a:pt x="4253" y="1144"/>
                  </a:lnTo>
                  <a:lnTo>
                    <a:pt x="4244" y="1144"/>
                  </a:lnTo>
                  <a:lnTo>
                    <a:pt x="4238" y="1135"/>
                  </a:lnTo>
                  <a:lnTo>
                    <a:pt x="4227" y="1126"/>
                  </a:lnTo>
                  <a:lnTo>
                    <a:pt x="4218" y="1115"/>
                  </a:lnTo>
                  <a:lnTo>
                    <a:pt x="4209" y="1109"/>
                  </a:lnTo>
                  <a:lnTo>
                    <a:pt x="4197" y="1100"/>
                  </a:lnTo>
                  <a:lnTo>
                    <a:pt x="4192" y="1092"/>
                  </a:lnTo>
                  <a:lnTo>
                    <a:pt x="4200" y="1086"/>
                  </a:lnTo>
                  <a:lnTo>
                    <a:pt x="4209" y="1077"/>
                  </a:lnTo>
                  <a:lnTo>
                    <a:pt x="4218" y="1072"/>
                  </a:lnTo>
                  <a:lnTo>
                    <a:pt x="4227" y="1063"/>
                  </a:lnTo>
                  <a:lnTo>
                    <a:pt x="4229" y="1054"/>
                  </a:lnTo>
                  <a:lnTo>
                    <a:pt x="4221" y="1048"/>
                  </a:lnTo>
                  <a:lnTo>
                    <a:pt x="4209" y="1048"/>
                  </a:lnTo>
                  <a:lnTo>
                    <a:pt x="4200" y="1048"/>
                  </a:lnTo>
                  <a:lnTo>
                    <a:pt x="4189" y="1048"/>
                  </a:lnTo>
                  <a:lnTo>
                    <a:pt x="4180" y="1051"/>
                  </a:lnTo>
                  <a:lnTo>
                    <a:pt x="4171" y="1057"/>
                  </a:lnTo>
                  <a:lnTo>
                    <a:pt x="4160" y="1057"/>
                  </a:lnTo>
                  <a:lnTo>
                    <a:pt x="4151" y="1057"/>
                  </a:lnTo>
                  <a:lnTo>
                    <a:pt x="4142" y="1057"/>
                  </a:lnTo>
                  <a:lnTo>
                    <a:pt x="4133" y="1057"/>
                  </a:lnTo>
                  <a:lnTo>
                    <a:pt x="4125" y="1057"/>
                  </a:lnTo>
                  <a:lnTo>
                    <a:pt x="4116" y="1057"/>
                  </a:lnTo>
                  <a:lnTo>
                    <a:pt x="4107" y="1057"/>
                  </a:lnTo>
                  <a:lnTo>
                    <a:pt x="4098" y="1057"/>
                  </a:lnTo>
                  <a:lnTo>
                    <a:pt x="4090" y="1057"/>
                  </a:lnTo>
                  <a:lnTo>
                    <a:pt x="4081" y="1057"/>
                  </a:lnTo>
                  <a:lnTo>
                    <a:pt x="4072" y="1057"/>
                  </a:lnTo>
                  <a:lnTo>
                    <a:pt x="4064" y="1054"/>
                  </a:lnTo>
                  <a:lnTo>
                    <a:pt x="4055" y="1051"/>
                  </a:lnTo>
                  <a:lnTo>
                    <a:pt x="4043" y="1048"/>
                  </a:lnTo>
                  <a:lnTo>
                    <a:pt x="4032" y="1043"/>
                  </a:lnTo>
                  <a:lnTo>
                    <a:pt x="4023" y="1040"/>
                  </a:lnTo>
                  <a:lnTo>
                    <a:pt x="4008" y="1031"/>
                  </a:lnTo>
                  <a:lnTo>
                    <a:pt x="3994" y="1028"/>
                  </a:lnTo>
                  <a:lnTo>
                    <a:pt x="3982" y="1028"/>
                  </a:lnTo>
                  <a:lnTo>
                    <a:pt x="3973" y="1028"/>
                  </a:lnTo>
                  <a:lnTo>
                    <a:pt x="3965" y="1028"/>
                  </a:lnTo>
                  <a:lnTo>
                    <a:pt x="3953" y="1028"/>
                  </a:lnTo>
                  <a:lnTo>
                    <a:pt x="3941" y="1028"/>
                  </a:lnTo>
                  <a:lnTo>
                    <a:pt x="3933" y="1028"/>
                  </a:lnTo>
                  <a:lnTo>
                    <a:pt x="3927" y="1037"/>
                  </a:lnTo>
                  <a:lnTo>
                    <a:pt x="3941" y="1048"/>
                  </a:lnTo>
                  <a:lnTo>
                    <a:pt x="3950" y="1051"/>
                  </a:lnTo>
                  <a:lnTo>
                    <a:pt x="3962" y="1054"/>
                  </a:lnTo>
                  <a:lnTo>
                    <a:pt x="3970" y="1057"/>
                  </a:lnTo>
                  <a:lnTo>
                    <a:pt x="3979" y="1060"/>
                  </a:lnTo>
                  <a:lnTo>
                    <a:pt x="3982" y="1072"/>
                  </a:lnTo>
                  <a:lnTo>
                    <a:pt x="3982" y="1080"/>
                  </a:lnTo>
                  <a:lnTo>
                    <a:pt x="3982" y="1089"/>
                  </a:lnTo>
                  <a:lnTo>
                    <a:pt x="3994" y="1100"/>
                  </a:lnTo>
                  <a:lnTo>
                    <a:pt x="4002" y="1103"/>
                  </a:lnTo>
                  <a:lnTo>
                    <a:pt x="4014" y="1106"/>
                  </a:lnTo>
                  <a:lnTo>
                    <a:pt x="4026" y="1106"/>
                  </a:lnTo>
                  <a:lnTo>
                    <a:pt x="4034" y="1109"/>
                  </a:lnTo>
                  <a:lnTo>
                    <a:pt x="4046" y="1112"/>
                  </a:lnTo>
                  <a:lnTo>
                    <a:pt x="4037" y="1115"/>
                  </a:lnTo>
                  <a:lnTo>
                    <a:pt x="4029" y="1112"/>
                  </a:lnTo>
                  <a:lnTo>
                    <a:pt x="4020" y="1109"/>
                  </a:lnTo>
                  <a:lnTo>
                    <a:pt x="4011" y="1109"/>
                  </a:lnTo>
                  <a:lnTo>
                    <a:pt x="4002" y="1106"/>
                  </a:lnTo>
                  <a:lnTo>
                    <a:pt x="3994" y="1103"/>
                  </a:lnTo>
                  <a:lnTo>
                    <a:pt x="3979" y="1097"/>
                  </a:lnTo>
                  <a:lnTo>
                    <a:pt x="3970" y="1097"/>
                  </a:lnTo>
                  <a:lnTo>
                    <a:pt x="3962" y="1100"/>
                  </a:lnTo>
                  <a:lnTo>
                    <a:pt x="3959" y="1109"/>
                  </a:lnTo>
                  <a:lnTo>
                    <a:pt x="3950" y="1118"/>
                  </a:lnTo>
                  <a:lnTo>
                    <a:pt x="3941" y="1123"/>
                  </a:lnTo>
                  <a:lnTo>
                    <a:pt x="3935" y="1132"/>
                  </a:lnTo>
                  <a:lnTo>
                    <a:pt x="3927" y="1138"/>
                  </a:lnTo>
                  <a:lnTo>
                    <a:pt x="3927" y="1146"/>
                  </a:lnTo>
                  <a:lnTo>
                    <a:pt x="3930" y="1155"/>
                  </a:lnTo>
                  <a:lnTo>
                    <a:pt x="3938" y="1161"/>
                  </a:lnTo>
                  <a:lnTo>
                    <a:pt x="3941" y="1170"/>
                  </a:lnTo>
                  <a:lnTo>
                    <a:pt x="3941" y="1178"/>
                  </a:lnTo>
                  <a:lnTo>
                    <a:pt x="3941" y="1187"/>
                  </a:lnTo>
                  <a:lnTo>
                    <a:pt x="3938" y="1195"/>
                  </a:lnTo>
                  <a:lnTo>
                    <a:pt x="3933" y="1204"/>
                  </a:lnTo>
                  <a:lnTo>
                    <a:pt x="3924" y="1204"/>
                  </a:lnTo>
                  <a:lnTo>
                    <a:pt x="3915" y="1193"/>
                  </a:lnTo>
                  <a:lnTo>
                    <a:pt x="3912" y="1184"/>
                  </a:lnTo>
                  <a:lnTo>
                    <a:pt x="3903" y="1178"/>
                  </a:lnTo>
                  <a:lnTo>
                    <a:pt x="3892" y="1172"/>
                  </a:lnTo>
                  <a:lnTo>
                    <a:pt x="3883" y="1167"/>
                  </a:lnTo>
                  <a:lnTo>
                    <a:pt x="3877" y="1158"/>
                  </a:lnTo>
                  <a:lnTo>
                    <a:pt x="3874" y="1167"/>
                  </a:lnTo>
                  <a:lnTo>
                    <a:pt x="3874" y="1175"/>
                  </a:lnTo>
                  <a:lnTo>
                    <a:pt x="3874" y="1184"/>
                  </a:lnTo>
                  <a:lnTo>
                    <a:pt x="3886" y="1193"/>
                  </a:lnTo>
                  <a:lnTo>
                    <a:pt x="3898" y="1195"/>
                  </a:lnTo>
                  <a:lnTo>
                    <a:pt x="3906" y="1198"/>
                  </a:lnTo>
                  <a:lnTo>
                    <a:pt x="3915" y="1201"/>
                  </a:lnTo>
                  <a:lnTo>
                    <a:pt x="3924" y="1207"/>
                  </a:lnTo>
                  <a:lnTo>
                    <a:pt x="3912" y="1213"/>
                  </a:lnTo>
                  <a:lnTo>
                    <a:pt x="3903" y="1213"/>
                  </a:lnTo>
                  <a:lnTo>
                    <a:pt x="3895" y="1213"/>
                  </a:lnTo>
                  <a:lnTo>
                    <a:pt x="3886" y="1216"/>
                  </a:lnTo>
                  <a:lnTo>
                    <a:pt x="3886" y="1224"/>
                  </a:lnTo>
                  <a:lnTo>
                    <a:pt x="3880" y="1233"/>
                  </a:lnTo>
                  <a:lnTo>
                    <a:pt x="3868" y="1236"/>
                  </a:lnTo>
                  <a:lnTo>
                    <a:pt x="3860" y="1236"/>
                  </a:lnTo>
                  <a:lnTo>
                    <a:pt x="3854" y="1224"/>
                  </a:lnTo>
                  <a:lnTo>
                    <a:pt x="3854" y="1216"/>
                  </a:lnTo>
                  <a:lnTo>
                    <a:pt x="3851" y="1207"/>
                  </a:lnTo>
                  <a:lnTo>
                    <a:pt x="3845" y="1198"/>
                  </a:lnTo>
                  <a:lnTo>
                    <a:pt x="3842" y="1187"/>
                  </a:lnTo>
                  <a:lnTo>
                    <a:pt x="3836" y="1175"/>
                  </a:lnTo>
                  <a:lnTo>
                    <a:pt x="3834" y="1164"/>
                  </a:lnTo>
                  <a:lnTo>
                    <a:pt x="3828" y="1155"/>
                  </a:lnTo>
                  <a:lnTo>
                    <a:pt x="3822" y="1146"/>
                  </a:lnTo>
                  <a:lnTo>
                    <a:pt x="3816" y="1138"/>
                  </a:lnTo>
                  <a:lnTo>
                    <a:pt x="3810" y="1129"/>
                  </a:lnTo>
                  <a:lnTo>
                    <a:pt x="3799" y="1123"/>
                  </a:lnTo>
                  <a:lnTo>
                    <a:pt x="3793" y="1115"/>
                  </a:lnTo>
                  <a:lnTo>
                    <a:pt x="3790" y="1106"/>
                  </a:lnTo>
                  <a:lnTo>
                    <a:pt x="3784" y="1097"/>
                  </a:lnTo>
                  <a:lnTo>
                    <a:pt x="3778" y="1089"/>
                  </a:lnTo>
                  <a:lnTo>
                    <a:pt x="3775" y="1080"/>
                  </a:lnTo>
                  <a:lnTo>
                    <a:pt x="3772" y="1072"/>
                  </a:lnTo>
                  <a:lnTo>
                    <a:pt x="3767" y="1063"/>
                  </a:lnTo>
                  <a:lnTo>
                    <a:pt x="3761" y="1054"/>
                  </a:lnTo>
                  <a:lnTo>
                    <a:pt x="3752" y="1046"/>
                  </a:lnTo>
                  <a:lnTo>
                    <a:pt x="3746" y="1037"/>
                  </a:lnTo>
                  <a:lnTo>
                    <a:pt x="3737" y="1034"/>
                  </a:lnTo>
                  <a:lnTo>
                    <a:pt x="3717" y="988"/>
                  </a:lnTo>
                  <a:lnTo>
                    <a:pt x="3737" y="1008"/>
                  </a:lnTo>
                  <a:lnTo>
                    <a:pt x="3737" y="999"/>
                  </a:lnTo>
                  <a:lnTo>
                    <a:pt x="3732" y="991"/>
                  </a:lnTo>
                  <a:lnTo>
                    <a:pt x="3726" y="982"/>
                  </a:lnTo>
                  <a:lnTo>
                    <a:pt x="3723" y="974"/>
                  </a:lnTo>
                  <a:lnTo>
                    <a:pt x="3714" y="968"/>
                  </a:lnTo>
                  <a:lnTo>
                    <a:pt x="3703" y="965"/>
                  </a:lnTo>
                  <a:lnTo>
                    <a:pt x="3694" y="959"/>
                  </a:lnTo>
                  <a:lnTo>
                    <a:pt x="3691" y="950"/>
                  </a:lnTo>
                  <a:lnTo>
                    <a:pt x="3691" y="942"/>
                  </a:lnTo>
                  <a:lnTo>
                    <a:pt x="3691" y="930"/>
                  </a:lnTo>
                  <a:lnTo>
                    <a:pt x="3691" y="922"/>
                  </a:lnTo>
                  <a:lnTo>
                    <a:pt x="3691" y="913"/>
                  </a:lnTo>
                  <a:lnTo>
                    <a:pt x="3694" y="904"/>
                  </a:lnTo>
                  <a:lnTo>
                    <a:pt x="3700" y="896"/>
                  </a:lnTo>
                  <a:lnTo>
                    <a:pt x="3705" y="887"/>
                  </a:lnTo>
                  <a:lnTo>
                    <a:pt x="3714" y="887"/>
                  </a:lnTo>
                  <a:lnTo>
                    <a:pt x="3717" y="878"/>
                  </a:lnTo>
                  <a:lnTo>
                    <a:pt x="3705" y="867"/>
                  </a:lnTo>
                  <a:lnTo>
                    <a:pt x="3705" y="858"/>
                  </a:lnTo>
                  <a:lnTo>
                    <a:pt x="3705" y="847"/>
                  </a:lnTo>
                  <a:lnTo>
                    <a:pt x="3711" y="838"/>
                  </a:lnTo>
                  <a:lnTo>
                    <a:pt x="3717" y="827"/>
                  </a:lnTo>
                  <a:lnTo>
                    <a:pt x="3717" y="818"/>
                  </a:lnTo>
                  <a:lnTo>
                    <a:pt x="3717" y="809"/>
                  </a:lnTo>
                  <a:lnTo>
                    <a:pt x="3705" y="806"/>
                  </a:lnTo>
                  <a:lnTo>
                    <a:pt x="3694" y="801"/>
                  </a:lnTo>
                  <a:lnTo>
                    <a:pt x="3685" y="795"/>
                  </a:lnTo>
                  <a:lnTo>
                    <a:pt x="3685" y="786"/>
                  </a:lnTo>
                  <a:lnTo>
                    <a:pt x="3691" y="778"/>
                  </a:lnTo>
                  <a:lnTo>
                    <a:pt x="3697" y="769"/>
                  </a:lnTo>
                  <a:lnTo>
                    <a:pt x="3700" y="760"/>
                  </a:lnTo>
                  <a:lnTo>
                    <a:pt x="3708" y="757"/>
                  </a:lnTo>
                  <a:lnTo>
                    <a:pt x="3717" y="752"/>
                  </a:lnTo>
                  <a:lnTo>
                    <a:pt x="3726" y="757"/>
                  </a:lnTo>
                  <a:lnTo>
                    <a:pt x="3735" y="760"/>
                  </a:lnTo>
                  <a:lnTo>
                    <a:pt x="3743" y="763"/>
                  </a:lnTo>
                  <a:lnTo>
                    <a:pt x="3743" y="755"/>
                  </a:lnTo>
                  <a:lnTo>
                    <a:pt x="3737" y="746"/>
                  </a:lnTo>
                  <a:lnTo>
                    <a:pt x="3737" y="737"/>
                  </a:lnTo>
                  <a:lnTo>
                    <a:pt x="3735" y="729"/>
                  </a:lnTo>
                  <a:lnTo>
                    <a:pt x="3735" y="720"/>
                  </a:lnTo>
                  <a:lnTo>
                    <a:pt x="3732" y="711"/>
                  </a:lnTo>
                  <a:lnTo>
                    <a:pt x="3726" y="703"/>
                  </a:lnTo>
                  <a:lnTo>
                    <a:pt x="3723" y="691"/>
                  </a:lnTo>
                  <a:lnTo>
                    <a:pt x="3723" y="682"/>
                  </a:lnTo>
                  <a:lnTo>
                    <a:pt x="3723" y="674"/>
                  </a:lnTo>
                  <a:lnTo>
                    <a:pt x="3723" y="665"/>
                  </a:lnTo>
                  <a:lnTo>
                    <a:pt x="3714" y="662"/>
                  </a:lnTo>
                  <a:lnTo>
                    <a:pt x="3708" y="671"/>
                  </a:lnTo>
                  <a:lnTo>
                    <a:pt x="3700" y="671"/>
                  </a:lnTo>
                  <a:lnTo>
                    <a:pt x="3691" y="674"/>
                  </a:lnTo>
                  <a:lnTo>
                    <a:pt x="3682" y="671"/>
                  </a:lnTo>
                  <a:lnTo>
                    <a:pt x="3673" y="659"/>
                  </a:lnTo>
                  <a:lnTo>
                    <a:pt x="3668" y="651"/>
                  </a:lnTo>
                  <a:lnTo>
                    <a:pt x="3662" y="642"/>
                  </a:lnTo>
                  <a:lnTo>
                    <a:pt x="3653" y="633"/>
                  </a:lnTo>
                  <a:lnTo>
                    <a:pt x="3641" y="628"/>
                  </a:lnTo>
                  <a:lnTo>
                    <a:pt x="3633" y="622"/>
                  </a:lnTo>
                  <a:lnTo>
                    <a:pt x="3624" y="622"/>
                  </a:lnTo>
                  <a:lnTo>
                    <a:pt x="3615" y="616"/>
                  </a:lnTo>
                  <a:lnTo>
                    <a:pt x="3604" y="613"/>
                  </a:lnTo>
                  <a:lnTo>
                    <a:pt x="3595" y="608"/>
                  </a:lnTo>
                  <a:lnTo>
                    <a:pt x="3577" y="573"/>
                  </a:lnTo>
                  <a:lnTo>
                    <a:pt x="3592" y="587"/>
                  </a:lnTo>
                  <a:lnTo>
                    <a:pt x="3592" y="576"/>
                  </a:lnTo>
                  <a:lnTo>
                    <a:pt x="3589" y="567"/>
                  </a:lnTo>
                  <a:lnTo>
                    <a:pt x="3589" y="559"/>
                  </a:lnTo>
                  <a:lnTo>
                    <a:pt x="3583" y="547"/>
                  </a:lnTo>
                  <a:lnTo>
                    <a:pt x="3577" y="538"/>
                  </a:lnTo>
                  <a:lnTo>
                    <a:pt x="3569" y="530"/>
                  </a:lnTo>
                  <a:lnTo>
                    <a:pt x="3583" y="527"/>
                  </a:lnTo>
                  <a:lnTo>
                    <a:pt x="3592" y="530"/>
                  </a:lnTo>
                  <a:lnTo>
                    <a:pt x="3601" y="533"/>
                  </a:lnTo>
                  <a:lnTo>
                    <a:pt x="3609" y="538"/>
                  </a:lnTo>
                  <a:lnTo>
                    <a:pt x="3618" y="541"/>
                  </a:lnTo>
                  <a:lnTo>
                    <a:pt x="3621" y="533"/>
                  </a:lnTo>
                  <a:lnTo>
                    <a:pt x="3621" y="524"/>
                  </a:lnTo>
                  <a:lnTo>
                    <a:pt x="3612" y="518"/>
                  </a:lnTo>
                  <a:lnTo>
                    <a:pt x="3604" y="507"/>
                  </a:lnTo>
                  <a:lnTo>
                    <a:pt x="3598" y="498"/>
                  </a:lnTo>
                  <a:lnTo>
                    <a:pt x="3589" y="489"/>
                  </a:lnTo>
                  <a:lnTo>
                    <a:pt x="3586" y="481"/>
                  </a:lnTo>
                  <a:lnTo>
                    <a:pt x="3577" y="472"/>
                  </a:lnTo>
                  <a:lnTo>
                    <a:pt x="3566" y="469"/>
                  </a:lnTo>
                  <a:lnTo>
                    <a:pt x="3557" y="469"/>
                  </a:lnTo>
                  <a:lnTo>
                    <a:pt x="3548" y="469"/>
                  </a:lnTo>
                  <a:lnTo>
                    <a:pt x="3540" y="469"/>
                  </a:lnTo>
                  <a:lnTo>
                    <a:pt x="3531" y="466"/>
                  </a:lnTo>
                  <a:lnTo>
                    <a:pt x="3519" y="458"/>
                  </a:lnTo>
                  <a:lnTo>
                    <a:pt x="3516" y="449"/>
                  </a:lnTo>
                  <a:lnTo>
                    <a:pt x="3510" y="440"/>
                  </a:lnTo>
                  <a:lnTo>
                    <a:pt x="3507" y="432"/>
                  </a:lnTo>
                  <a:lnTo>
                    <a:pt x="3502" y="423"/>
                  </a:lnTo>
                  <a:lnTo>
                    <a:pt x="3502" y="412"/>
                  </a:lnTo>
                  <a:lnTo>
                    <a:pt x="3510" y="412"/>
                  </a:lnTo>
                  <a:lnTo>
                    <a:pt x="3519" y="417"/>
                  </a:lnTo>
                  <a:lnTo>
                    <a:pt x="3531" y="426"/>
                  </a:lnTo>
                  <a:lnTo>
                    <a:pt x="3540" y="432"/>
                  </a:lnTo>
                  <a:lnTo>
                    <a:pt x="3542" y="440"/>
                  </a:lnTo>
                  <a:lnTo>
                    <a:pt x="3551" y="446"/>
                  </a:lnTo>
                  <a:lnTo>
                    <a:pt x="3563" y="452"/>
                  </a:lnTo>
                  <a:lnTo>
                    <a:pt x="3572" y="458"/>
                  </a:lnTo>
                  <a:lnTo>
                    <a:pt x="3580" y="458"/>
                  </a:lnTo>
                  <a:lnTo>
                    <a:pt x="3589" y="458"/>
                  </a:lnTo>
                  <a:lnTo>
                    <a:pt x="3598" y="458"/>
                  </a:lnTo>
                  <a:lnTo>
                    <a:pt x="3606" y="461"/>
                  </a:lnTo>
                  <a:lnTo>
                    <a:pt x="3612" y="472"/>
                  </a:lnTo>
                  <a:lnTo>
                    <a:pt x="3618" y="481"/>
                  </a:lnTo>
                  <a:lnTo>
                    <a:pt x="3621" y="489"/>
                  </a:lnTo>
                  <a:lnTo>
                    <a:pt x="3627" y="498"/>
                  </a:lnTo>
                  <a:lnTo>
                    <a:pt x="3633" y="507"/>
                  </a:lnTo>
                  <a:lnTo>
                    <a:pt x="3641" y="518"/>
                  </a:lnTo>
                  <a:lnTo>
                    <a:pt x="3650" y="521"/>
                  </a:lnTo>
                  <a:lnTo>
                    <a:pt x="3662" y="524"/>
                  </a:lnTo>
                  <a:lnTo>
                    <a:pt x="3671" y="524"/>
                  </a:lnTo>
                  <a:lnTo>
                    <a:pt x="3679" y="527"/>
                  </a:lnTo>
                  <a:lnTo>
                    <a:pt x="3688" y="527"/>
                  </a:lnTo>
                  <a:lnTo>
                    <a:pt x="3700" y="530"/>
                  </a:lnTo>
                  <a:lnTo>
                    <a:pt x="3711" y="536"/>
                  </a:lnTo>
                  <a:lnTo>
                    <a:pt x="3723" y="544"/>
                  </a:lnTo>
                  <a:lnTo>
                    <a:pt x="3729" y="553"/>
                  </a:lnTo>
                  <a:lnTo>
                    <a:pt x="3735" y="561"/>
                  </a:lnTo>
                  <a:lnTo>
                    <a:pt x="3746" y="570"/>
                  </a:lnTo>
                  <a:lnTo>
                    <a:pt x="3761" y="579"/>
                  </a:lnTo>
                  <a:lnTo>
                    <a:pt x="3770" y="585"/>
                  </a:lnTo>
                  <a:lnTo>
                    <a:pt x="3772" y="593"/>
                  </a:lnTo>
                  <a:lnTo>
                    <a:pt x="3775" y="602"/>
                  </a:lnTo>
                  <a:lnTo>
                    <a:pt x="3778" y="610"/>
                  </a:lnTo>
                  <a:lnTo>
                    <a:pt x="3787" y="610"/>
                  </a:lnTo>
                  <a:lnTo>
                    <a:pt x="3790" y="619"/>
                  </a:lnTo>
                  <a:lnTo>
                    <a:pt x="3799" y="622"/>
                  </a:lnTo>
                  <a:lnTo>
                    <a:pt x="3807" y="628"/>
                  </a:lnTo>
                  <a:lnTo>
                    <a:pt x="3819" y="633"/>
                  </a:lnTo>
                  <a:lnTo>
                    <a:pt x="3828" y="636"/>
                  </a:lnTo>
                  <a:lnTo>
                    <a:pt x="3836" y="639"/>
                  </a:lnTo>
                  <a:lnTo>
                    <a:pt x="3845" y="642"/>
                  </a:lnTo>
                  <a:lnTo>
                    <a:pt x="3854" y="642"/>
                  </a:lnTo>
                  <a:lnTo>
                    <a:pt x="3866" y="645"/>
                  </a:lnTo>
                  <a:lnTo>
                    <a:pt x="3874" y="651"/>
                  </a:lnTo>
                  <a:lnTo>
                    <a:pt x="3883" y="657"/>
                  </a:lnTo>
                  <a:lnTo>
                    <a:pt x="3892" y="657"/>
                  </a:lnTo>
                  <a:lnTo>
                    <a:pt x="3901" y="657"/>
                  </a:lnTo>
                  <a:lnTo>
                    <a:pt x="3912" y="657"/>
                  </a:lnTo>
                  <a:lnTo>
                    <a:pt x="3924" y="657"/>
                  </a:lnTo>
                  <a:lnTo>
                    <a:pt x="3938" y="657"/>
                  </a:lnTo>
                  <a:lnTo>
                    <a:pt x="3947" y="657"/>
                  </a:lnTo>
                  <a:lnTo>
                    <a:pt x="3959" y="657"/>
                  </a:lnTo>
                  <a:lnTo>
                    <a:pt x="3967" y="659"/>
                  </a:lnTo>
                  <a:lnTo>
                    <a:pt x="3979" y="659"/>
                  </a:lnTo>
                  <a:lnTo>
                    <a:pt x="3991" y="659"/>
                  </a:lnTo>
                  <a:lnTo>
                    <a:pt x="4002" y="659"/>
                  </a:lnTo>
                  <a:lnTo>
                    <a:pt x="4017" y="659"/>
                  </a:lnTo>
                  <a:lnTo>
                    <a:pt x="4026" y="659"/>
                  </a:lnTo>
                  <a:lnTo>
                    <a:pt x="4037" y="659"/>
                  </a:lnTo>
                  <a:lnTo>
                    <a:pt x="4049" y="659"/>
                  </a:lnTo>
                  <a:lnTo>
                    <a:pt x="4061" y="659"/>
                  </a:lnTo>
                  <a:lnTo>
                    <a:pt x="4072" y="659"/>
                  </a:lnTo>
                  <a:lnTo>
                    <a:pt x="4084" y="659"/>
                  </a:lnTo>
                  <a:lnTo>
                    <a:pt x="4093" y="659"/>
                  </a:lnTo>
                  <a:lnTo>
                    <a:pt x="4101" y="659"/>
                  </a:lnTo>
                  <a:lnTo>
                    <a:pt x="4110" y="659"/>
                  </a:lnTo>
                  <a:lnTo>
                    <a:pt x="4119" y="659"/>
                  </a:lnTo>
                  <a:lnTo>
                    <a:pt x="4128" y="659"/>
                  </a:lnTo>
                  <a:lnTo>
                    <a:pt x="4136" y="659"/>
                  </a:lnTo>
                  <a:lnTo>
                    <a:pt x="4142" y="668"/>
                  </a:lnTo>
                  <a:lnTo>
                    <a:pt x="4145" y="677"/>
                  </a:lnTo>
                  <a:lnTo>
                    <a:pt x="4151" y="685"/>
                  </a:lnTo>
                  <a:lnTo>
                    <a:pt x="4160" y="691"/>
                  </a:lnTo>
                  <a:lnTo>
                    <a:pt x="4168" y="700"/>
                  </a:lnTo>
                  <a:lnTo>
                    <a:pt x="4177" y="700"/>
                  </a:lnTo>
                  <a:lnTo>
                    <a:pt x="4177" y="691"/>
                  </a:lnTo>
                  <a:lnTo>
                    <a:pt x="4168" y="682"/>
                  </a:lnTo>
                  <a:lnTo>
                    <a:pt x="4168" y="674"/>
                  </a:lnTo>
                  <a:lnTo>
                    <a:pt x="4160" y="665"/>
                  </a:lnTo>
                  <a:lnTo>
                    <a:pt x="4151" y="659"/>
                  </a:lnTo>
                  <a:lnTo>
                    <a:pt x="4136" y="619"/>
                  </a:lnTo>
                  <a:lnTo>
                    <a:pt x="4142" y="60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33880" y="36291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6" y="0"/>
                  </a:moveTo>
                  <a:lnTo>
                    <a:pt x="32" y="11"/>
                  </a:lnTo>
                  <a:lnTo>
                    <a:pt x="23" y="11"/>
                  </a:lnTo>
                  <a:lnTo>
                    <a:pt x="14" y="11"/>
                  </a:lnTo>
                  <a:lnTo>
                    <a:pt x="5" y="13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8" y="33"/>
                  </a:lnTo>
                  <a:lnTo>
                    <a:pt x="17" y="30"/>
                  </a:lnTo>
                  <a:lnTo>
                    <a:pt x="23" y="22"/>
                  </a:lnTo>
                  <a:lnTo>
                    <a:pt x="23" y="13"/>
                  </a:lnTo>
                  <a:lnTo>
                    <a:pt x="26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14480" y="5259240"/>
              <a:ext cx="4320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" y="20"/>
                  </a:moveTo>
                  <a:lnTo>
                    <a:pt x="8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4" y="17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2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81200" y="4390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0"/>
                  </a:moveTo>
                  <a:lnTo>
                    <a:pt x="11" y="16"/>
                  </a:lnTo>
                  <a:lnTo>
                    <a:pt x="11" y="25"/>
                  </a:lnTo>
                  <a:lnTo>
                    <a:pt x="2" y="33"/>
                  </a:lnTo>
                  <a:lnTo>
                    <a:pt x="11" y="45"/>
                  </a:lnTo>
                  <a:lnTo>
                    <a:pt x="26" y="48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2" y="22"/>
                  </a:lnTo>
                  <a:lnTo>
                    <a:pt x="23" y="14"/>
                  </a:lnTo>
                  <a:lnTo>
                    <a:pt x="14" y="11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29600" y="16905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0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05920" y="1801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lnTo>
                    <a:pt x="8" y="11"/>
                  </a:lnTo>
                  <a:lnTo>
                    <a:pt x="14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26" y="46"/>
                  </a:lnTo>
                  <a:lnTo>
                    <a:pt x="17" y="43"/>
                  </a:lnTo>
                  <a:lnTo>
                    <a:pt x="11" y="34"/>
                  </a:lnTo>
                  <a:lnTo>
                    <a:pt x="8" y="25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24440" y="16192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6" y="70"/>
                  </a:moveTo>
                  <a:lnTo>
                    <a:pt x="0" y="78"/>
                  </a:lnTo>
                  <a:lnTo>
                    <a:pt x="0" y="70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19" y="42"/>
                  </a:lnTo>
                  <a:lnTo>
                    <a:pt x="11" y="33"/>
                  </a:lnTo>
                  <a:lnTo>
                    <a:pt x="11" y="25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11"/>
                  </a:lnTo>
                  <a:lnTo>
                    <a:pt x="45" y="16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28" y="33"/>
                  </a:lnTo>
                  <a:lnTo>
                    <a:pt x="35" y="36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5" y="56"/>
                  </a:lnTo>
                  <a:lnTo>
                    <a:pt x="45" y="64"/>
                  </a:lnTo>
                  <a:lnTo>
                    <a:pt x="43" y="72"/>
                  </a:lnTo>
                  <a:lnTo>
                    <a:pt x="50" y="75"/>
                  </a:lnTo>
                  <a:lnTo>
                    <a:pt x="55" y="84"/>
                  </a:lnTo>
                  <a:lnTo>
                    <a:pt x="50" y="92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31" y="98"/>
                  </a:lnTo>
                  <a:lnTo>
                    <a:pt x="23" y="98"/>
                  </a:lnTo>
                  <a:lnTo>
                    <a:pt x="14" y="92"/>
                  </a:lnTo>
                  <a:lnTo>
                    <a:pt x="9" y="84"/>
                  </a:lnTo>
                  <a:lnTo>
                    <a:pt x="4" y="75"/>
                  </a:lnTo>
                  <a:lnTo>
                    <a:pt x="16" y="7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48200" y="17812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4"/>
                  </a:lnTo>
                  <a:lnTo>
                    <a:pt x="16" y="18"/>
                  </a:lnTo>
                  <a:lnTo>
                    <a:pt x="4" y="0"/>
                  </a:lnTo>
                  <a:lnTo>
                    <a:pt x="16" y="1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00840" y="167328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0"/>
                  </a:moveTo>
                  <a:lnTo>
                    <a:pt x="17" y="19"/>
                  </a:lnTo>
                  <a:lnTo>
                    <a:pt x="22" y="11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25" y="27"/>
                  </a:lnTo>
                  <a:lnTo>
                    <a:pt x="28" y="36"/>
                  </a:lnTo>
                  <a:lnTo>
                    <a:pt x="11" y="30"/>
                  </a:lnTo>
                  <a:lnTo>
                    <a:pt x="0" y="33"/>
                  </a:lnTo>
                  <a:lnTo>
                    <a:pt x="11" y="3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91040" y="1490760"/>
              <a:ext cx="84240" cy="10944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31" y="51"/>
                  </a:moveTo>
                  <a:lnTo>
                    <a:pt x="8" y="34"/>
                  </a:lnTo>
                  <a:lnTo>
                    <a:pt x="8" y="42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5" y="68"/>
                  </a:lnTo>
                  <a:lnTo>
                    <a:pt x="17" y="68"/>
                  </a:lnTo>
                  <a:lnTo>
                    <a:pt x="28" y="68"/>
                  </a:lnTo>
                  <a:lnTo>
                    <a:pt x="37" y="68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2" y="34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20" y="19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7" y="45"/>
                  </a:lnTo>
                  <a:lnTo>
                    <a:pt x="31" y="51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38480" y="2170080"/>
              <a:ext cx="293760" cy="235080"/>
            </a:xfrm>
            <a:custGeom>
              <a:avLst/>
              <a:gdLst/>
              <a:ahLst/>
              <a:rect l="l" t="t" r="r" b="b"/>
              <a:pathLst>
                <a:path w="185" h="148">
                  <a:moveTo>
                    <a:pt x="0" y="101"/>
                  </a:moveTo>
                  <a:lnTo>
                    <a:pt x="11" y="84"/>
                  </a:lnTo>
                  <a:lnTo>
                    <a:pt x="11" y="93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5" y="138"/>
                  </a:lnTo>
                  <a:lnTo>
                    <a:pt x="14" y="135"/>
                  </a:lnTo>
                  <a:lnTo>
                    <a:pt x="20" y="127"/>
                  </a:lnTo>
                  <a:lnTo>
                    <a:pt x="28" y="118"/>
                  </a:lnTo>
                  <a:lnTo>
                    <a:pt x="31" y="110"/>
                  </a:lnTo>
                  <a:lnTo>
                    <a:pt x="40" y="104"/>
                  </a:lnTo>
                  <a:lnTo>
                    <a:pt x="48" y="101"/>
                  </a:lnTo>
                  <a:lnTo>
                    <a:pt x="57" y="98"/>
                  </a:lnTo>
                  <a:lnTo>
                    <a:pt x="66" y="90"/>
                  </a:lnTo>
                  <a:lnTo>
                    <a:pt x="69" y="81"/>
                  </a:lnTo>
                  <a:lnTo>
                    <a:pt x="77" y="79"/>
                  </a:lnTo>
                  <a:lnTo>
                    <a:pt x="80" y="87"/>
                  </a:lnTo>
                  <a:lnTo>
                    <a:pt x="80" y="96"/>
                  </a:lnTo>
                  <a:lnTo>
                    <a:pt x="80" y="104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71" y="130"/>
                  </a:lnTo>
                  <a:lnTo>
                    <a:pt x="74" y="138"/>
                  </a:lnTo>
                  <a:lnTo>
                    <a:pt x="83" y="141"/>
                  </a:lnTo>
                  <a:lnTo>
                    <a:pt x="94" y="141"/>
                  </a:lnTo>
                  <a:lnTo>
                    <a:pt x="103" y="138"/>
                  </a:lnTo>
                  <a:lnTo>
                    <a:pt x="109" y="130"/>
                  </a:lnTo>
                  <a:lnTo>
                    <a:pt x="109" y="121"/>
                  </a:lnTo>
                  <a:lnTo>
                    <a:pt x="100" y="113"/>
                  </a:lnTo>
                  <a:lnTo>
                    <a:pt x="106" y="101"/>
                  </a:lnTo>
                  <a:lnTo>
                    <a:pt x="100" y="90"/>
                  </a:lnTo>
                  <a:lnTo>
                    <a:pt x="97" y="81"/>
                  </a:lnTo>
                  <a:lnTo>
                    <a:pt x="97" y="73"/>
                  </a:lnTo>
                  <a:lnTo>
                    <a:pt x="97" y="65"/>
                  </a:lnTo>
                  <a:lnTo>
                    <a:pt x="103" y="56"/>
                  </a:lnTo>
                  <a:lnTo>
                    <a:pt x="112" y="56"/>
                  </a:lnTo>
                  <a:lnTo>
                    <a:pt x="120" y="53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52" y="56"/>
                  </a:lnTo>
                  <a:lnTo>
                    <a:pt x="166" y="56"/>
                  </a:lnTo>
                  <a:lnTo>
                    <a:pt x="175" y="56"/>
                  </a:lnTo>
                  <a:lnTo>
                    <a:pt x="184" y="56"/>
                  </a:lnTo>
                  <a:lnTo>
                    <a:pt x="184" y="48"/>
                  </a:lnTo>
                  <a:lnTo>
                    <a:pt x="184" y="39"/>
                  </a:lnTo>
                  <a:lnTo>
                    <a:pt x="181" y="31"/>
                  </a:lnTo>
                  <a:lnTo>
                    <a:pt x="178" y="22"/>
                  </a:lnTo>
                  <a:lnTo>
                    <a:pt x="166" y="16"/>
                  </a:lnTo>
                  <a:lnTo>
                    <a:pt x="158" y="16"/>
                  </a:lnTo>
                  <a:lnTo>
                    <a:pt x="146" y="16"/>
                  </a:lnTo>
                  <a:lnTo>
                    <a:pt x="138" y="19"/>
                  </a:lnTo>
                  <a:lnTo>
                    <a:pt x="140" y="11"/>
                  </a:lnTo>
                  <a:lnTo>
                    <a:pt x="140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12" y="11"/>
                  </a:lnTo>
                  <a:lnTo>
                    <a:pt x="103" y="16"/>
                  </a:lnTo>
                  <a:lnTo>
                    <a:pt x="97" y="25"/>
                  </a:lnTo>
                  <a:lnTo>
                    <a:pt x="94" y="16"/>
                  </a:lnTo>
                  <a:lnTo>
                    <a:pt x="86" y="14"/>
                  </a:lnTo>
                  <a:lnTo>
                    <a:pt x="77" y="19"/>
                  </a:lnTo>
                  <a:lnTo>
                    <a:pt x="69" y="25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63" y="2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7" y="25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23" y="48"/>
                  </a:lnTo>
                  <a:lnTo>
                    <a:pt x="31" y="48"/>
                  </a:lnTo>
                  <a:lnTo>
                    <a:pt x="40" y="42"/>
                  </a:lnTo>
                  <a:lnTo>
                    <a:pt x="51" y="45"/>
                  </a:lnTo>
                  <a:lnTo>
                    <a:pt x="57" y="53"/>
                  </a:lnTo>
                  <a:lnTo>
                    <a:pt x="60" y="62"/>
                  </a:lnTo>
                  <a:lnTo>
                    <a:pt x="51" y="65"/>
                  </a:lnTo>
                  <a:lnTo>
                    <a:pt x="40" y="65"/>
                  </a:lnTo>
                  <a:lnTo>
                    <a:pt x="28" y="59"/>
                  </a:lnTo>
                  <a:lnTo>
                    <a:pt x="17" y="59"/>
                  </a:lnTo>
                  <a:lnTo>
                    <a:pt x="8" y="65"/>
                  </a:lnTo>
                  <a:lnTo>
                    <a:pt x="8" y="76"/>
                  </a:lnTo>
                  <a:lnTo>
                    <a:pt x="11" y="87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6"/>
                  </a:lnTo>
                  <a:lnTo>
                    <a:pt x="0" y="101"/>
                  </a:lnTo>
                  <a:lnTo>
                    <a:pt x="5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0" y="1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5760" y="2171880"/>
              <a:ext cx="220680" cy="18072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31" y="53"/>
                  </a:moveTo>
                  <a:lnTo>
                    <a:pt x="25" y="64"/>
                  </a:lnTo>
                  <a:lnTo>
                    <a:pt x="31" y="53"/>
                  </a:lnTo>
                  <a:lnTo>
                    <a:pt x="43" y="56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7" y="79"/>
                  </a:lnTo>
                  <a:lnTo>
                    <a:pt x="23" y="90"/>
                  </a:lnTo>
                  <a:lnTo>
                    <a:pt x="25" y="98"/>
                  </a:lnTo>
                  <a:lnTo>
                    <a:pt x="31" y="107"/>
                  </a:lnTo>
                  <a:lnTo>
                    <a:pt x="34" y="98"/>
                  </a:lnTo>
                  <a:lnTo>
                    <a:pt x="34" y="90"/>
                  </a:lnTo>
                  <a:lnTo>
                    <a:pt x="43" y="90"/>
                  </a:lnTo>
                  <a:lnTo>
                    <a:pt x="54" y="93"/>
                  </a:lnTo>
                  <a:lnTo>
                    <a:pt x="63" y="96"/>
                  </a:lnTo>
                  <a:lnTo>
                    <a:pt x="71" y="96"/>
                  </a:lnTo>
                  <a:lnTo>
                    <a:pt x="80" y="87"/>
                  </a:lnTo>
                  <a:lnTo>
                    <a:pt x="89" y="87"/>
                  </a:lnTo>
                  <a:lnTo>
                    <a:pt x="97" y="93"/>
                  </a:lnTo>
                  <a:lnTo>
                    <a:pt x="103" y="107"/>
                  </a:lnTo>
                  <a:lnTo>
                    <a:pt x="112" y="110"/>
                  </a:lnTo>
                  <a:lnTo>
                    <a:pt x="120" y="113"/>
                  </a:lnTo>
                  <a:lnTo>
                    <a:pt x="126" y="104"/>
                  </a:lnTo>
                  <a:lnTo>
                    <a:pt x="123" y="96"/>
                  </a:lnTo>
                  <a:lnTo>
                    <a:pt x="115" y="90"/>
                  </a:lnTo>
                  <a:lnTo>
                    <a:pt x="106" y="87"/>
                  </a:lnTo>
                  <a:lnTo>
                    <a:pt x="94" y="81"/>
                  </a:lnTo>
                  <a:lnTo>
                    <a:pt x="92" y="73"/>
                  </a:lnTo>
                  <a:lnTo>
                    <a:pt x="103" y="70"/>
                  </a:lnTo>
                  <a:lnTo>
                    <a:pt x="112" y="70"/>
                  </a:lnTo>
                  <a:lnTo>
                    <a:pt x="115" y="62"/>
                  </a:lnTo>
                  <a:lnTo>
                    <a:pt x="120" y="53"/>
                  </a:lnTo>
                  <a:lnTo>
                    <a:pt x="129" y="48"/>
                  </a:lnTo>
                  <a:lnTo>
                    <a:pt x="138" y="39"/>
                  </a:lnTo>
                  <a:lnTo>
                    <a:pt x="129" y="33"/>
                  </a:lnTo>
                  <a:lnTo>
                    <a:pt x="120" y="31"/>
                  </a:lnTo>
                  <a:lnTo>
                    <a:pt x="112" y="33"/>
                  </a:lnTo>
                  <a:lnTo>
                    <a:pt x="106" y="42"/>
                  </a:lnTo>
                  <a:lnTo>
                    <a:pt x="97" y="45"/>
                  </a:lnTo>
                  <a:lnTo>
                    <a:pt x="97" y="36"/>
                  </a:lnTo>
                  <a:lnTo>
                    <a:pt x="100" y="25"/>
                  </a:lnTo>
                  <a:lnTo>
                    <a:pt x="100" y="16"/>
                  </a:lnTo>
                  <a:lnTo>
                    <a:pt x="103" y="8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0" y="8"/>
                  </a:lnTo>
                  <a:lnTo>
                    <a:pt x="77" y="16"/>
                  </a:lnTo>
                  <a:lnTo>
                    <a:pt x="74" y="25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1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3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23" y="64"/>
                  </a:lnTo>
                  <a:lnTo>
                    <a:pt x="31" y="64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77" y="53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05520" y="2079720"/>
              <a:ext cx="298440" cy="156960"/>
            </a:xfrm>
            <a:custGeom>
              <a:avLst/>
              <a:gdLst/>
              <a:ahLst/>
              <a:rect l="l" t="t" r="r" b="b"/>
              <a:pathLst>
                <a:path w="188" h="99">
                  <a:moveTo>
                    <a:pt x="0" y="17"/>
                  </a:moveTo>
                  <a:lnTo>
                    <a:pt x="25" y="25"/>
                  </a:lnTo>
                  <a:lnTo>
                    <a:pt x="37" y="25"/>
                  </a:lnTo>
                  <a:lnTo>
                    <a:pt x="43" y="34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63" y="69"/>
                  </a:lnTo>
                  <a:lnTo>
                    <a:pt x="63" y="80"/>
                  </a:lnTo>
                  <a:lnTo>
                    <a:pt x="71" y="83"/>
                  </a:lnTo>
                  <a:lnTo>
                    <a:pt x="80" y="77"/>
                  </a:lnTo>
                  <a:lnTo>
                    <a:pt x="89" y="77"/>
                  </a:lnTo>
                  <a:lnTo>
                    <a:pt x="97" y="77"/>
                  </a:lnTo>
                  <a:lnTo>
                    <a:pt x="106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5" y="74"/>
                  </a:lnTo>
                  <a:lnTo>
                    <a:pt x="143" y="77"/>
                  </a:lnTo>
                  <a:lnTo>
                    <a:pt x="152" y="86"/>
                  </a:lnTo>
                  <a:lnTo>
                    <a:pt x="163" y="98"/>
                  </a:lnTo>
                  <a:lnTo>
                    <a:pt x="169" y="89"/>
                  </a:lnTo>
                  <a:lnTo>
                    <a:pt x="175" y="80"/>
                  </a:lnTo>
                  <a:lnTo>
                    <a:pt x="181" y="72"/>
                  </a:lnTo>
                  <a:lnTo>
                    <a:pt x="187" y="60"/>
                  </a:lnTo>
                  <a:lnTo>
                    <a:pt x="187" y="51"/>
                  </a:lnTo>
                  <a:lnTo>
                    <a:pt x="187" y="43"/>
                  </a:lnTo>
                  <a:lnTo>
                    <a:pt x="181" y="34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5" y="34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9" y="40"/>
                  </a:lnTo>
                  <a:lnTo>
                    <a:pt x="129" y="49"/>
                  </a:lnTo>
                  <a:lnTo>
                    <a:pt x="129" y="57"/>
                  </a:lnTo>
                  <a:lnTo>
                    <a:pt x="120" y="51"/>
                  </a:lnTo>
                  <a:lnTo>
                    <a:pt x="109" y="43"/>
                  </a:lnTo>
                  <a:lnTo>
                    <a:pt x="100" y="34"/>
                  </a:lnTo>
                  <a:lnTo>
                    <a:pt x="86" y="25"/>
                  </a:lnTo>
                  <a:lnTo>
                    <a:pt x="83" y="37"/>
                  </a:lnTo>
                  <a:lnTo>
                    <a:pt x="74" y="40"/>
                  </a:lnTo>
                  <a:lnTo>
                    <a:pt x="74" y="31"/>
                  </a:lnTo>
                  <a:lnTo>
                    <a:pt x="69" y="23"/>
                  </a:lnTo>
                  <a:lnTo>
                    <a:pt x="60" y="17"/>
                  </a:lnTo>
                  <a:lnTo>
                    <a:pt x="51" y="8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8" y="8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0" y="1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74960" y="2954160"/>
              <a:ext cx="680760" cy="700200"/>
            </a:xfrm>
            <a:custGeom>
              <a:avLst/>
              <a:gdLst/>
              <a:ahLst/>
              <a:rect l="l" t="t" r="r" b="b"/>
              <a:pathLst>
                <a:path w="429" h="441">
                  <a:moveTo>
                    <a:pt x="22" y="309"/>
                  </a:moveTo>
                  <a:lnTo>
                    <a:pt x="34" y="315"/>
                  </a:lnTo>
                  <a:lnTo>
                    <a:pt x="43" y="318"/>
                  </a:lnTo>
                  <a:lnTo>
                    <a:pt x="51" y="321"/>
                  </a:lnTo>
                  <a:lnTo>
                    <a:pt x="54" y="333"/>
                  </a:lnTo>
                  <a:lnTo>
                    <a:pt x="63" y="342"/>
                  </a:lnTo>
                  <a:lnTo>
                    <a:pt x="71" y="348"/>
                  </a:lnTo>
                  <a:lnTo>
                    <a:pt x="80" y="348"/>
                  </a:lnTo>
                  <a:lnTo>
                    <a:pt x="91" y="355"/>
                  </a:lnTo>
                  <a:lnTo>
                    <a:pt x="100" y="361"/>
                  </a:lnTo>
                  <a:lnTo>
                    <a:pt x="109" y="364"/>
                  </a:lnTo>
                  <a:lnTo>
                    <a:pt x="112" y="373"/>
                  </a:lnTo>
                  <a:lnTo>
                    <a:pt x="117" y="382"/>
                  </a:lnTo>
                  <a:lnTo>
                    <a:pt x="123" y="391"/>
                  </a:lnTo>
                  <a:lnTo>
                    <a:pt x="132" y="397"/>
                  </a:lnTo>
                  <a:lnTo>
                    <a:pt x="146" y="406"/>
                  </a:lnTo>
                  <a:lnTo>
                    <a:pt x="155" y="412"/>
                  </a:lnTo>
                  <a:lnTo>
                    <a:pt x="163" y="418"/>
                  </a:lnTo>
                  <a:lnTo>
                    <a:pt x="172" y="421"/>
                  </a:lnTo>
                  <a:lnTo>
                    <a:pt x="180" y="430"/>
                  </a:lnTo>
                  <a:lnTo>
                    <a:pt x="189" y="436"/>
                  </a:lnTo>
                  <a:lnTo>
                    <a:pt x="198" y="440"/>
                  </a:lnTo>
                  <a:lnTo>
                    <a:pt x="203" y="430"/>
                  </a:lnTo>
                  <a:lnTo>
                    <a:pt x="203" y="421"/>
                  </a:lnTo>
                  <a:lnTo>
                    <a:pt x="203" y="412"/>
                  </a:lnTo>
                  <a:lnTo>
                    <a:pt x="215" y="406"/>
                  </a:lnTo>
                  <a:lnTo>
                    <a:pt x="224" y="406"/>
                  </a:lnTo>
                  <a:lnTo>
                    <a:pt x="232" y="406"/>
                  </a:lnTo>
                  <a:lnTo>
                    <a:pt x="241" y="406"/>
                  </a:lnTo>
                  <a:lnTo>
                    <a:pt x="249" y="406"/>
                  </a:lnTo>
                  <a:lnTo>
                    <a:pt x="258" y="406"/>
                  </a:lnTo>
                  <a:lnTo>
                    <a:pt x="261" y="397"/>
                  </a:lnTo>
                  <a:lnTo>
                    <a:pt x="261" y="388"/>
                  </a:lnTo>
                  <a:lnTo>
                    <a:pt x="261" y="379"/>
                  </a:lnTo>
                  <a:lnTo>
                    <a:pt x="261" y="367"/>
                  </a:lnTo>
                  <a:lnTo>
                    <a:pt x="261" y="355"/>
                  </a:lnTo>
                  <a:lnTo>
                    <a:pt x="252" y="348"/>
                  </a:lnTo>
                  <a:lnTo>
                    <a:pt x="244" y="348"/>
                  </a:lnTo>
                  <a:lnTo>
                    <a:pt x="235" y="342"/>
                  </a:lnTo>
                  <a:lnTo>
                    <a:pt x="229" y="333"/>
                  </a:lnTo>
                  <a:lnTo>
                    <a:pt x="229" y="324"/>
                  </a:lnTo>
                  <a:lnTo>
                    <a:pt x="238" y="321"/>
                  </a:lnTo>
                  <a:lnTo>
                    <a:pt x="247" y="315"/>
                  </a:lnTo>
                  <a:lnTo>
                    <a:pt x="255" y="312"/>
                  </a:lnTo>
                  <a:lnTo>
                    <a:pt x="261" y="303"/>
                  </a:lnTo>
                  <a:lnTo>
                    <a:pt x="261" y="294"/>
                  </a:lnTo>
                  <a:lnTo>
                    <a:pt x="264" y="285"/>
                  </a:lnTo>
                  <a:lnTo>
                    <a:pt x="264" y="276"/>
                  </a:lnTo>
                  <a:lnTo>
                    <a:pt x="267" y="267"/>
                  </a:lnTo>
                  <a:lnTo>
                    <a:pt x="272" y="257"/>
                  </a:lnTo>
                  <a:lnTo>
                    <a:pt x="278" y="248"/>
                  </a:lnTo>
                  <a:lnTo>
                    <a:pt x="284" y="239"/>
                  </a:lnTo>
                  <a:lnTo>
                    <a:pt x="284" y="230"/>
                  </a:lnTo>
                  <a:lnTo>
                    <a:pt x="284" y="221"/>
                  </a:lnTo>
                  <a:lnTo>
                    <a:pt x="284" y="209"/>
                  </a:lnTo>
                  <a:lnTo>
                    <a:pt x="292" y="200"/>
                  </a:lnTo>
                  <a:lnTo>
                    <a:pt x="295" y="191"/>
                  </a:lnTo>
                  <a:lnTo>
                    <a:pt x="298" y="182"/>
                  </a:lnTo>
                  <a:lnTo>
                    <a:pt x="301" y="172"/>
                  </a:lnTo>
                  <a:lnTo>
                    <a:pt x="292" y="163"/>
                  </a:lnTo>
                  <a:lnTo>
                    <a:pt x="284" y="154"/>
                  </a:lnTo>
                  <a:lnTo>
                    <a:pt x="278" y="145"/>
                  </a:lnTo>
                  <a:lnTo>
                    <a:pt x="287" y="142"/>
                  </a:lnTo>
                  <a:lnTo>
                    <a:pt x="295" y="142"/>
                  </a:lnTo>
                  <a:lnTo>
                    <a:pt x="304" y="148"/>
                  </a:lnTo>
                  <a:lnTo>
                    <a:pt x="313" y="157"/>
                  </a:lnTo>
                  <a:lnTo>
                    <a:pt x="321" y="163"/>
                  </a:lnTo>
                  <a:lnTo>
                    <a:pt x="327" y="154"/>
                  </a:lnTo>
                  <a:lnTo>
                    <a:pt x="336" y="148"/>
                  </a:lnTo>
                  <a:lnTo>
                    <a:pt x="344" y="148"/>
                  </a:lnTo>
                  <a:lnTo>
                    <a:pt x="353" y="145"/>
                  </a:lnTo>
                  <a:lnTo>
                    <a:pt x="361" y="142"/>
                  </a:lnTo>
                  <a:lnTo>
                    <a:pt x="361" y="133"/>
                  </a:lnTo>
                  <a:lnTo>
                    <a:pt x="361" y="124"/>
                  </a:lnTo>
                  <a:lnTo>
                    <a:pt x="361" y="115"/>
                  </a:lnTo>
                  <a:lnTo>
                    <a:pt x="359" y="106"/>
                  </a:lnTo>
                  <a:lnTo>
                    <a:pt x="353" y="97"/>
                  </a:lnTo>
                  <a:lnTo>
                    <a:pt x="344" y="88"/>
                  </a:lnTo>
                  <a:lnTo>
                    <a:pt x="333" y="81"/>
                  </a:lnTo>
                  <a:lnTo>
                    <a:pt x="341" y="75"/>
                  </a:lnTo>
                  <a:lnTo>
                    <a:pt x="353" y="75"/>
                  </a:lnTo>
                  <a:lnTo>
                    <a:pt x="361" y="75"/>
                  </a:lnTo>
                  <a:lnTo>
                    <a:pt x="370" y="75"/>
                  </a:lnTo>
                  <a:lnTo>
                    <a:pt x="379" y="72"/>
                  </a:lnTo>
                  <a:lnTo>
                    <a:pt x="387" y="69"/>
                  </a:lnTo>
                  <a:lnTo>
                    <a:pt x="396" y="69"/>
                  </a:lnTo>
                  <a:lnTo>
                    <a:pt x="405" y="72"/>
                  </a:lnTo>
                  <a:lnTo>
                    <a:pt x="419" y="75"/>
                  </a:lnTo>
                  <a:lnTo>
                    <a:pt x="428" y="75"/>
                  </a:lnTo>
                  <a:lnTo>
                    <a:pt x="425" y="66"/>
                  </a:lnTo>
                  <a:lnTo>
                    <a:pt x="422" y="57"/>
                  </a:lnTo>
                  <a:lnTo>
                    <a:pt x="419" y="48"/>
                  </a:lnTo>
                  <a:lnTo>
                    <a:pt x="410" y="48"/>
                  </a:lnTo>
                  <a:lnTo>
                    <a:pt x="402" y="48"/>
                  </a:lnTo>
                  <a:lnTo>
                    <a:pt x="390" y="48"/>
                  </a:lnTo>
                  <a:lnTo>
                    <a:pt x="382" y="48"/>
                  </a:lnTo>
                  <a:lnTo>
                    <a:pt x="379" y="57"/>
                  </a:lnTo>
                  <a:lnTo>
                    <a:pt x="370" y="54"/>
                  </a:lnTo>
                  <a:lnTo>
                    <a:pt x="361" y="45"/>
                  </a:lnTo>
                  <a:lnTo>
                    <a:pt x="353" y="39"/>
                  </a:lnTo>
                  <a:lnTo>
                    <a:pt x="341" y="39"/>
                  </a:lnTo>
                  <a:lnTo>
                    <a:pt x="333" y="39"/>
                  </a:lnTo>
                  <a:lnTo>
                    <a:pt x="318" y="39"/>
                  </a:lnTo>
                  <a:lnTo>
                    <a:pt x="310" y="39"/>
                  </a:lnTo>
                  <a:lnTo>
                    <a:pt x="298" y="42"/>
                  </a:lnTo>
                  <a:lnTo>
                    <a:pt x="290" y="42"/>
                  </a:lnTo>
                  <a:lnTo>
                    <a:pt x="290" y="33"/>
                  </a:lnTo>
                  <a:lnTo>
                    <a:pt x="298" y="30"/>
                  </a:lnTo>
                  <a:lnTo>
                    <a:pt x="307" y="30"/>
                  </a:lnTo>
                  <a:lnTo>
                    <a:pt x="315" y="27"/>
                  </a:lnTo>
                  <a:lnTo>
                    <a:pt x="324" y="24"/>
                  </a:lnTo>
                  <a:lnTo>
                    <a:pt x="327" y="15"/>
                  </a:lnTo>
                  <a:lnTo>
                    <a:pt x="327" y="6"/>
                  </a:lnTo>
                  <a:lnTo>
                    <a:pt x="318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3"/>
                  </a:lnTo>
                  <a:lnTo>
                    <a:pt x="275" y="12"/>
                  </a:lnTo>
                  <a:lnTo>
                    <a:pt x="267" y="18"/>
                  </a:lnTo>
                  <a:lnTo>
                    <a:pt x="258" y="21"/>
                  </a:lnTo>
                  <a:lnTo>
                    <a:pt x="255" y="30"/>
                  </a:lnTo>
                  <a:lnTo>
                    <a:pt x="264" y="36"/>
                  </a:lnTo>
                  <a:lnTo>
                    <a:pt x="272" y="36"/>
                  </a:lnTo>
                  <a:lnTo>
                    <a:pt x="278" y="45"/>
                  </a:lnTo>
                  <a:lnTo>
                    <a:pt x="270" y="54"/>
                  </a:lnTo>
                  <a:lnTo>
                    <a:pt x="267" y="63"/>
                  </a:lnTo>
                  <a:lnTo>
                    <a:pt x="281" y="75"/>
                  </a:lnTo>
                  <a:lnTo>
                    <a:pt x="290" y="78"/>
                  </a:lnTo>
                  <a:lnTo>
                    <a:pt x="281" y="75"/>
                  </a:lnTo>
                  <a:lnTo>
                    <a:pt x="270" y="66"/>
                  </a:lnTo>
                  <a:lnTo>
                    <a:pt x="261" y="60"/>
                  </a:lnTo>
                  <a:lnTo>
                    <a:pt x="252" y="51"/>
                  </a:lnTo>
                  <a:lnTo>
                    <a:pt x="244" y="51"/>
                  </a:lnTo>
                  <a:lnTo>
                    <a:pt x="241" y="60"/>
                  </a:lnTo>
                  <a:lnTo>
                    <a:pt x="241" y="69"/>
                  </a:lnTo>
                  <a:lnTo>
                    <a:pt x="255" y="78"/>
                  </a:lnTo>
                  <a:lnTo>
                    <a:pt x="264" y="81"/>
                  </a:lnTo>
                  <a:lnTo>
                    <a:pt x="255" y="88"/>
                  </a:lnTo>
                  <a:lnTo>
                    <a:pt x="244" y="88"/>
                  </a:lnTo>
                  <a:lnTo>
                    <a:pt x="235" y="88"/>
                  </a:lnTo>
                  <a:lnTo>
                    <a:pt x="235" y="103"/>
                  </a:lnTo>
                  <a:lnTo>
                    <a:pt x="244" y="106"/>
                  </a:lnTo>
                  <a:lnTo>
                    <a:pt x="252" y="109"/>
                  </a:lnTo>
                  <a:lnTo>
                    <a:pt x="244" y="115"/>
                  </a:lnTo>
                  <a:lnTo>
                    <a:pt x="235" y="112"/>
                  </a:lnTo>
                  <a:lnTo>
                    <a:pt x="226" y="109"/>
                  </a:lnTo>
                  <a:lnTo>
                    <a:pt x="218" y="106"/>
                  </a:lnTo>
                  <a:lnTo>
                    <a:pt x="212" y="115"/>
                  </a:lnTo>
                  <a:lnTo>
                    <a:pt x="218" y="124"/>
                  </a:lnTo>
                  <a:lnTo>
                    <a:pt x="229" y="127"/>
                  </a:lnTo>
                  <a:lnTo>
                    <a:pt x="238" y="130"/>
                  </a:lnTo>
                  <a:lnTo>
                    <a:pt x="229" y="124"/>
                  </a:lnTo>
                  <a:lnTo>
                    <a:pt x="221" y="121"/>
                  </a:lnTo>
                  <a:lnTo>
                    <a:pt x="209" y="115"/>
                  </a:lnTo>
                  <a:lnTo>
                    <a:pt x="198" y="106"/>
                  </a:lnTo>
                  <a:lnTo>
                    <a:pt x="192" y="97"/>
                  </a:lnTo>
                  <a:lnTo>
                    <a:pt x="183" y="91"/>
                  </a:lnTo>
                  <a:lnTo>
                    <a:pt x="180" y="81"/>
                  </a:lnTo>
                  <a:lnTo>
                    <a:pt x="178" y="72"/>
                  </a:lnTo>
                  <a:lnTo>
                    <a:pt x="169" y="60"/>
                  </a:lnTo>
                  <a:lnTo>
                    <a:pt x="160" y="60"/>
                  </a:lnTo>
                  <a:lnTo>
                    <a:pt x="152" y="66"/>
                  </a:lnTo>
                  <a:lnTo>
                    <a:pt x="149" y="75"/>
                  </a:lnTo>
                  <a:lnTo>
                    <a:pt x="146" y="84"/>
                  </a:lnTo>
                  <a:lnTo>
                    <a:pt x="143" y="94"/>
                  </a:lnTo>
                  <a:lnTo>
                    <a:pt x="140" y="103"/>
                  </a:lnTo>
                  <a:lnTo>
                    <a:pt x="129" y="103"/>
                  </a:lnTo>
                  <a:lnTo>
                    <a:pt x="117" y="94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0" y="60"/>
                  </a:lnTo>
                  <a:lnTo>
                    <a:pt x="89" y="60"/>
                  </a:lnTo>
                  <a:lnTo>
                    <a:pt x="80" y="66"/>
                  </a:lnTo>
                  <a:lnTo>
                    <a:pt x="77" y="75"/>
                  </a:lnTo>
                  <a:lnTo>
                    <a:pt x="71" y="84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51" y="127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0" y="127"/>
                  </a:lnTo>
                  <a:lnTo>
                    <a:pt x="51" y="121"/>
                  </a:lnTo>
                  <a:lnTo>
                    <a:pt x="43" y="118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4" y="115"/>
                  </a:lnTo>
                  <a:lnTo>
                    <a:pt x="11" y="124"/>
                  </a:lnTo>
                  <a:lnTo>
                    <a:pt x="8" y="133"/>
                  </a:lnTo>
                  <a:lnTo>
                    <a:pt x="2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4" y="169"/>
                  </a:lnTo>
                  <a:lnTo>
                    <a:pt x="22" y="172"/>
                  </a:lnTo>
                  <a:lnTo>
                    <a:pt x="31" y="172"/>
                  </a:lnTo>
                  <a:lnTo>
                    <a:pt x="40" y="176"/>
                  </a:lnTo>
                  <a:lnTo>
                    <a:pt x="51" y="185"/>
                  </a:lnTo>
                  <a:lnTo>
                    <a:pt x="60" y="191"/>
                  </a:lnTo>
                  <a:lnTo>
                    <a:pt x="68" y="197"/>
                  </a:lnTo>
                  <a:lnTo>
                    <a:pt x="80" y="200"/>
                  </a:lnTo>
                  <a:lnTo>
                    <a:pt x="89" y="203"/>
                  </a:lnTo>
                  <a:lnTo>
                    <a:pt x="100" y="203"/>
                  </a:lnTo>
                  <a:lnTo>
                    <a:pt x="109" y="203"/>
                  </a:lnTo>
                  <a:lnTo>
                    <a:pt x="120" y="197"/>
                  </a:lnTo>
                  <a:lnTo>
                    <a:pt x="129" y="194"/>
                  </a:lnTo>
                  <a:lnTo>
                    <a:pt x="135" y="185"/>
                  </a:lnTo>
                  <a:lnTo>
                    <a:pt x="143" y="179"/>
                  </a:lnTo>
                  <a:lnTo>
                    <a:pt x="149" y="169"/>
                  </a:lnTo>
                  <a:lnTo>
                    <a:pt x="157" y="163"/>
                  </a:lnTo>
                  <a:lnTo>
                    <a:pt x="166" y="163"/>
                  </a:lnTo>
                  <a:lnTo>
                    <a:pt x="175" y="166"/>
                  </a:lnTo>
                  <a:lnTo>
                    <a:pt x="183" y="166"/>
                  </a:lnTo>
                  <a:lnTo>
                    <a:pt x="192" y="157"/>
                  </a:lnTo>
                  <a:lnTo>
                    <a:pt x="198" y="148"/>
                  </a:lnTo>
                  <a:lnTo>
                    <a:pt x="201" y="139"/>
                  </a:lnTo>
                  <a:lnTo>
                    <a:pt x="203" y="130"/>
                  </a:lnTo>
                  <a:lnTo>
                    <a:pt x="212" y="130"/>
                  </a:lnTo>
                  <a:lnTo>
                    <a:pt x="224" y="136"/>
                  </a:lnTo>
                  <a:lnTo>
                    <a:pt x="232" y="139"/>
                  </a:lnTo>
                  <a:lnTo>
                    <a:pt x="241" y="142"/>
                  </a:lnTo>
                  <a:lnTo>
                    <a:pt x="232" y="142"/>
                  </a:lnTo>
                  <a:lnTo>
                    <a:pt x="224" y="142"/>
                  </a:lnTo>
                  <a:lnTo>
                    <a:pt x="215" y="142"/>
                  </a:lnTo>
                  <a:lnTo>
                    <a:pt x="206" y="142"/>
                  </a:lnTo>
                  <a:lnTo>
                    <a:pt x="203" y="151"/>
                  </a:lnTo>
                  <a:lnTo>
                    <a:pt x="201" y="160"/>
                  </a:lnTo>
                  <a:lnTo>
                    <a:pt x="201" y="169"/>
                  </a:lnTo>
                  <a:lnTo>
                    <a:pt x="209" y="176"/>
                  </a:lnTo>
                  <a:lnTo>
                    <a:pt x="218" y="179"/>
                  </a:lnTo>
                  <a:lnTo>
                    <a:pt x="226" y="188"/>
                  </a:lnTo>
                  <a:lnTo>
                    <a:pt x="235" y="194"/>
                  </a:lnTo>
                  <a:lnTo>
                    <a:pt x="238" y="203"/>
                  </a:lnTo>
                  <a:lnTo>
                    <a:pt x="226" y="206"/>
                  </a:lnTo>
                  <a:lnTo>
                    <a:pt x="224" y="215"/>
                  </a:lnTo>
                  <a:lnTo>
                    <a:pt x="224" y="224"/>
                  </a:lnTo>
                  <a:lnTo>
                    <a:pt x="221" y="233"/>
                  </a:lnTo>
                  <a:lnTo>
                    <a:pt x="209" y="233"/>
                  </a:lnTo>
                  <a:lnTo>
                    <a:pt x="203" y="245"/>
                  </a:lnTo>
                  <a:lnTo>
                    <a:pt x="198" y="257"/>
                  </a:lnTo>
                  <a:lnTo>
                    <a:pt x="195" y="267"/>
                  </a:lnTo>
                  <a:lnTo>
                    <a:pt x="186" y="267"/>
                  </a:lnTo>
                  <a:lnTo>
                    <a:pt x="183" y="257"/>
                  </a:lnTo>
                  <a:lnTo>
                    <a:pt x="178" y="245"/>
                  </a:lnTo>
                  <a:lnTo>
                    <a:pt x="175" y="233"/>
                  </a:lnTo>
                  <a:lnTo>
                    <a:pt x="166" y="224"/>
                  </a:lnTo>
                  <a:lnTo>
                    <a:pt x="157" y="221"/>
                  </a:lnTo>
                  <a:lnTo>
                    <a:pt x="149" y="218"/>
                  </a:lnTo>
                  <a:lnTo>
                    <a:pt x="137" y="224"/>
                  </a:lnTo>
                  <a:lnTo>
                    <a:pt x="140" y="236"/>
                  </a:lnTo>
                  <a:lnTo>
                    <a:pt x="143" y="245"/>
                  </a:lnTo>
                  <a:lnTo>
                    <a:pt x="143" y="254"/>
                  </a:lnTo>
                  <a:lnTo>
                    <a:pt x="135" y="260"/>
                  </a:lnTo>
                  <a:lnTo>
                    <a:pt x="126" y="260"/>
                  </a:lnTo>
                  <a:lnTo>
                    <a:pt x="114" y="257"/>
                  </a:lnTo>
                  <a:lnTo>
                    <a:pt x="106" y="257"/>
                  </a:lnTo>
                  <a:lnTo>
                    <a:pt x="97" y="257"/>
                  </a:lnTo>
                  <a:lnTo>
                    <a:pt x="89" y="257"/>
                  </a:lnTo>
                  <a:lnTo>
                    <a:pt x="91" y="267"/>
                  </a:lnTo>
                  <a:lnTo>
                    <a:pt x="100" y="276"/>
                  </a:lnTo>
                  <a:lnTo>
                    <a:pt x="100" y="285"/>
                  </a:lnTo>
                  <a:lnTo>
                    <a:pt x="97" y="294"/>
                  </a:lnTo>
                  <a:lnTo>
                    <a:pt x="97" y="303"/>
                  </a:lnTo>
                  <a:lnTo>
                    <a:pt x="109" y="312"/>
                  </a:lnTo>
                  <a:lnTo>
                    <a:pt x="117" y="318"/>
                  </a:lnTo>
                  <a:lnTo>
                    <a:pt x="109" y="318"/>
                  </a:lnTo>
                  <a:lnTo>
                    <a:pt x="100" y="309"/>
                  </a:lnTo>
                  <a:lnTo>
                    <a:pt x="89" y="300"/>
                  </a:lnTo>
                  <a:lnTo>
                    <a:pt x="80" y="297"/>
                  </a:lnTo>
                  <a:lnTo>
                    <a:pt x="71" y="297"/>
                  </a:lnTo>
                  <a:lnTo>
                    <a:pt x="63" y="300"/>
                  </a:lnTo>
                  <a:lnTo>
                    <a:pt x="54" y="306"/>
                  </a:lnTo>
                  <a:lnTo>
                    <a:pt x="43" y="306"/>
                  </a:lnTo>
                  <a:lnTo>
                    <a:pt x="34" y="306"/>
                  </a:lnTo>
                  <a:lnTo>
                    <a:pt x="22" y="309"/>
                  </a:lnTo>
                  <a:lnTo>
                    <a:pt x="11" y="303"/>
                  </a:lnTo>
                  <a:lnTo>
                    <a:pt x="22" y="309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27082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2"/>
                  </a:moveTo>
                  <a:lnTo>
                    <a:pt x="8" y="19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34" y="22"/>
                  </a:lnTo>
                  <a:lnTo>
                    <a:pt x="40" y="13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76680" y="294012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5" y="0"/>
                  </a:moveTo>
                  <a:lnTo>
                    <a:pt x="20" y="13"/>
                  </a:lnTo>
                  <a:lnTo>
                    <a:pt x="11" y="16"/>
                  </a:lnTo>
                  <a:lnTo>
                    <a:pt x="8" y="24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4" y="30"/>
                  </a:lnTo>
                  <a:lnTo>
                    <a:pt x="40" y="21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25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10160" y="2549520"/>
              <a:ext cx="339840" cy="509760"/>
            </a:xfrm>
            <a:custGeom>
              <a:avLst/>
              <a:gdLst/>
              <a:ahLst/>
              <a:rect l="l" t="t" r="r" b="b"/>
              <a:pathLst>
                <a:path w="214" h="321">
                  <a:moveTo>
                    <a:pt x="23" y="200"/>
                  </a:moveTo>
                  <a:lnTo>
                    <a:pt x="34" y="182"/>
                  </a:lnTo>
                  <a:lnTo>
                    <a:pt x="23" y="200"/>
                  </a:lnTo>
                  <a:lnTo>
                    <a:pt x="23" y="211"/>
                  </a:lnTo>
                  <a:lnTo>
                    <a:pt x="20" y="220"/>
                  </a:lnTo>
                  <a:lnTo>
                    <a:pt x="17" y="228"/>
                  </a:lnTo>
                  <a:lnTo>
                    <a:pt x="8" y="234"/>
                  </a:lnTo>
                  <a:lnTo>
                    <a:pt x="2" y="24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8" y="268"/>
                  </a:lnTo>
                  <a:lnTo>
                    <a:pt x="17" y="268"/>
                  </a:lnTo>
                  <a:lnTo>
                    <a:pt x="25" y="271"/>
                  </a:lnTo>
                  <a:lnTo>
                    <a:pt x="28" y="280"/>
                  </a:lnTo>
                  <a:lnTo>
                    <a:pt x="37" y="291"/>
                  </a:lnTo>
                  <a:lnTo>
                    <a:pt x="28" y="294"/>
                  </a:lnTo>
                  <a:lnTo>
                    <a:pt x="20" y="285"/>
                  </a:lnTo>
                  <a:lnTo>
                    <a:pt x="31" y="294"/>
                  </a:lnTo>
                  <a:lnTo>
                    <a:pt x="40" y="300"/>
                  </a:lnTo>
                  <a:lnTo>
                    <a:pt x="48" y="311"/>
                  </a:lnTo>
                  <a:lnTo>
                    <a:pt x="57" y="314"/>
                  </a:lnTo>
                  <a:lnTo>
                    <a:pt x="66" y="320"/>
                  </a:lnTo>
                  <a:lnTo>
                    <a:pt x="66" y="311"/>
                  </a:lnTo>
                  <a:lnTo>
                    <a:pt x="74" y="311"/>
                  </a:lnTo>
                  <a:lnTo>
                    <a:pt x="83" y="320"/>
                  </a:lnTo>
                  <a:lnTo>
                    <a:pt x="83" y="308"/>
                  </a:lnTo>
                  <a:lnTo>
                    <a:pt x="92" y="305"/>
                  </a:lnTo>
                  <a:lnTo>
                    <a:pt x="97" y="297"/>
                  </a:lnTo>
                  <a:lnTo>
                    <a:pt x="89" y="288"/>
                  </a:lnTo>
                  <a:lnTo>
                    <a:pt x="83" y="280"/>
                  </a:lnTo>
                  <a:lnTo>
                    <a:pt x="77" y="271"/>
                  </a:lnTo>
                  <a:lnTo>
                    <a:pt x="71" y="262"/>
                  </a:lnTo>
                  <a:lnTo>
                    <a:pt x="69" y="254"/>
                  </a:lnTo>
                  <a:lnTo>
                    <a:pt x="69" y="242"/>
                  </a:lnTo>
                  <a:lnTo>
                    <a:pt x="69" y="234"/>
                  </a:lnTo>
                  <a:lnTo>
                    <a:pt x="69" y="225"/>
                  </a:lnTo>
                  <a:lnTo>
                    <a:pt x="69" y="217"/>
                  </a:lnTo>
                  <a:lnTo>
                    <a:pt x="69" y="208"/>
                  </a:lnTo>
                  <a:lnTo>
                    <a:pt x="69" y="200"/>
                  </a:lnTo>
                  <a:lnTo>
                    <a:pt x="69" y="191"/>
                  </a:lnTo>
                  <a:lnTo>
                    <a:pt x="69" y="182"/>
                  </a:lnTo>
                  <a:lnTo>
                    <a:pt x="77" y="174"/>
                  </a:lnTo>
                  <a:lnTo>
                    <a:pt x="86" y="168"/>
                  </a:lnTo>
                  <a:lnTo>
                    <a:pt x="92" y="160"/>
                  </a:lnTo>
                  <a:lnTo>
                    <a:pt x="97" y="151"/>
                  </a:lnTo>
                  <a:lnTo>
                    <a:pt x="103" y="142"/>
                  </a:lnTo>
                  <a:lnTo>
                    <a:pt x="103" y="134"/>
                  </a:lnTo>
                  <a:lnTo>
                    <a:pt x="103" y="125"/>
                  </a:lnTo>
                  <a:lnTo>
                    <a:pt x="112" y="122"/>
                  </a:lnTo>
                  <a:lnTo>
                    <a:pt x="120" y="117"/>
                  </a:lnTo>
                  <a:lnTo>
                    <a:pt x="123" y="105"/>
                  </a:lnTo>
                  <a:lnTo>
                    <a:pt x="132" y="100"/>
                  </a:lnTo>
                  <a:lnTo>
                    <a:pt x="135" y="91"/>
                  </a:lnTo>
                  <a:lnTo>
                    <a:pt x="143" y="82"/>
                  </a:lnTo>
                  <a:lnTo>
                    <a:pt x="152" y="77"/>
                  </a:lnTo>
                  <a:lnTo>
                    <a:pt x="158" y="68"/>
                  </a:lnTo>
                  <a:lnTo>
                    <a:pt x="166" y="65"/>
                  </a:lnTo>
                  <a:lnTo>
                    <a:pt x="175" y="60"/>
                  </a:lnTo>
                  <a:lnTo>
                    <a:pt x="184" y="57"/>
                  </a:lnTo>
                  <a:lnTo>
                    <a:pt x="189" y="48"/>
                  </a:lnTo>
                  <a:lnTo>
                    <a:pt x="198" y="42"/>
                  </a:lnTo>
                  <a:lnTo>
                    <a:pt x="207" y="37"/>
                  </a:lnTo>
                  <a:lnTo>
                    <a:pt x="210" y="28"/>
                  </a:lnTo>
                  <a:lnTo>
                    <a:pt x="213" y="20"/>
                  </a:lnTo>
                  <a:lnTo>
                    <a:pt x="213" y="11"/>
                  </a:lnTo>
                  <a:lnTo>
                    <a:pt x="210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5" y="8"/>
                  </a:lnTo>
                  <a:lnTo>
                    <a:pt x="175" y="17"/>
                  </a:lnTo>
                  <a:lnTo>
                    <a:pt x="166" y="20"/>
                  </a:lnTo>
                  <a:lnTo>
                    <a:pt x="158" y="25"/>
                  </a:lnTo>
                  <a:lnTo>
                    <a:pt x="149" y="34"/>
                  </a:lnTo>
                  <a:lnTo>
                    <a:pt x="141" y="40"/>
                  </a:lnTo>
                  <a:lnTo>
                    <a:pt x="132" y="42"/>
                  </a:lnTo>
                  <a:lnTo>
                    <a:pt x="123" y="42"/>
                  </a:lnTo>
                  <a:lnTo>
                    <a:pt x="123" y="54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7" y="68"/>
                  </a:lnTo>
                  <a:lnTo>
                    <a:pt x="89" y="77"/>
                  </a:lnTo>
                  <a:lnTo>
                    <a:pt x="83" y="85"/>
                  </a:lnTo>
                  <a:lnTo>
                    <a:pt x="80" y="94"/>
                  </a:lnTo>
                  <a:lnTo>
                    <a:pt x="71" y="100"/>
                  </a:lnTo>
                  <a:lnTo>
                    <a:pt x="66" y="108"/>
                  </a:lnTo>
                  <a:lnTo>
                    <a:pt x="63" y="117"/>
                  </a:lnTo>
                  <a:lnTo>
                    <a:pt x="63" y="125"/>
                  </a:lnTo>
                  <a:lnTo>
                    <a:pt x="57" y="134"/>
                  </a:lnTo>
                  <a:lnTo>
                    <a:pt x="51" y="142"/>
                  </a:lnTo>
                  <a:lnTo>
                    <a:pt x="46" y="151"/>
                  </a:lnTo>
                  <a:lnTo>
                    <a:pt x="40" y="162"/>
                  </a:lnTo>
                  <a:lnTo>
                    <a:pt x="37" y="171"/>
                  </a:lnTo>
                  <a:lnTo>
                    <a:pt x="46" y="177"/>
                  </a:lnTo>
                  <a:lnTo>
                    <a:pt x="54" y="180"/>
                  </a:lnTo>
                  <a:lnTo>
                    <a:pt x="57" y="188"/>
                  </a:lnTo>
                  <a:lnTo>
                    <a:pt x="48" y="185"/>
                  </a:lnTo>
                  <a:lnTo>
                    <a:pt x="40" y="185"/>
                  </a:lnTo>
                  <a:lnTo>
                    <a:pt x="31" y="188"/>
                  </a:lnTo>
                  <a:lnTo>
                    <a:pt x="23" y="200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23" y="237"/>
                  </a:lnTo>
                  <a:lnTo>
                    <a:pt x="14" y="242"/>
                  </a:lnTo>
                  <a:lnTo>
                    <a:pt x="8" y="251"/>
                  </a:lnTo>
                  <a:lnTo>
                    <a:pt x="0" y="260"/>
                  </a:lnTo>
                  <a:lnTo>
                    <a:pt x="23" y="2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71720" y="444168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49" y="47"/>
                  </a:moveTo>
                  <a:lnTo>
                    <a:pt x="44" y="58"/>
                  </a:lnTo>
                  <a:lnTo>
                    <a:pt x="35" y="58"/>
                  </a:lnTo>
                  <a:lnTo>
                    <a:pt x="30" y="66"/>
                  </a:lnTo>
                  <a:lnTo>
                    <a:pt x="30" y="75"/>
                  </a:lnTo>
                  <a:lnTo>
                    <a:pt x="30" y="83"/>
                  </a:lnTo>
                  <a:lnTo>
                    <a:pt x="30" y="91"/>
                  </a:lnTo>
                  <a:lnTo>
                    <a:pt x="22" y="94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8" y="139"/>
                  </a:lnTo>
                  <a:lnTo>
                    <a:pt x="16" y="139"/>
                  </a:lnTo>
                  <a:lnTo>
                    <a:pt x="27" y="147"/>
                  </a:lnTo>
                  <a:lnTo>
                    <a:pt x="33" y="156"/>
                  </a:lnTo>
                  <a:lnTo>
                    <a:pt x="41" y="156"/>
                  </a:lnTo>
                  <a:lnTo>
                    <a:pt x="46" y="147"/>
                  </a:lnTo>
                  <a:lnTo>
                    <a:pt x="52" y="139"/>
                  </a:lnTo>
                  <a:lnTo>
                    <a:pt x="55" y="130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71" y="108"/>
                  </a:lnTo>
                  <a:lnTo>
                    <a:pt x="80" y="108"/>
                  </a:lnTo>
                  <a:lnTo>
                    <a:pt x="82" y="100"/>
                  </a:lnTo>
                  <a:lnTo>
                    <a:pt x="82" y="91"/>
                  </a:lnTo>
                  <a:lnTo>
                    <a:pt x="82" y="83"/>
                  </a:lnTo>
                  <a:lnTo>
                    <a:pt x="82" y="75"/>
                  </a:lnTo>
                  <a:lnTo>
                    <a:pt x="82" y="66"/>
                  </a:lnTo>
                  <a:lnTo>
                    <a:pt x="85" y="58"/>
                  </a:lnTo>
                  <a:lnTo>
                    <a:pt x="93" y="52"/>
                  </a:lnTo>
                  <a:lnTo>
                    <a:pt x="102" y="47"/>
                  </a:lnTo>
                  <a:lnTo>
                    <a:pt x="107" y="39"/>
                  </a:lnTo>
                  <a:lnTo>
                    <a:pt x="115" y="36"/>
                  </a:lnTo>
                  <a:lnTo>
                    <a:pt x="121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38" y="5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8" y="11"/>
                  </a:lnTo>
                  <a:lnTo>
                    <a:pt x="82" y="19"/>
                  </a:lnTo>
                  <a:lnTo>
                    <a:pt x="80" y="27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69" y="61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49" y="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0800" y="524844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1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6" y="21"/>
                  </a:lnTo>
                  <a:lnTo>
                    <a:pt x="23" y="27"/>
                  </a:lnTo>
                  <a:lnTo>
                    <a:pt x="18" y="18"/>
                  </a:lnTo>
                  <a:lnTo>
                    <a:pt x="13" y="9"/>
                  </a:lnTo>
                  <a:lnTo>
                    <a:pt x="6" y="21"/>
                  </a:lnTo>
                  <a:lnTo>
                    <a:pt x="9" y="6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57400" y="5361120"/>
              <a:ext cx="27000" cy="72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6" y="0"/>
                  </a:moveTo>
                  <a:lnTo>
                    <a:pt x="5" y="19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0" y="28"/>
                  </a:lnTo>
                  <a:lnTo>
                    <a:pt x="16" y="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2480" y="4357800"/>
              <a:ext cx="88920" cy="73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0"/>
                  </a:moveTo>
                  <a:lnTo>
                    <a:pt x="20" y="19"/>
                  </a:lnTo>
                  <a:lnTo>
                    <a:pt x="20" y="28"/>
                  </a:lnTo>
                  <a:lnTo>
                    <a:pt x="28" y="33"/>
                  </a:lnTo>
                  <a:lnTo>
                    <a:pt x="28" y="42"/>
                  </a:lnTo>
                  <a:lnTo>
                    <a:pt x="37" y="45"/>
                  </a:lnTo>
                  <a:lnTo>
                    <a:pt x="46" y="45"/>
                  </a:lnTo>
                  <a:lnTo>
                    <a:pt x="49" y="36"/>
                  </a:lnTo>
                  <a:lnTo>
                    <a:pt x="55" y="28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26" y="16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228600" y="6137280"/>
              <a:ext cx="611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993600" y="6272280"/>
              <a:ext cx="47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HO European Centre for Environment and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72040" y="743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0"/>
                  </a:moveTo>
                  <a:lnTo>
                    <a:pt x="8" y="8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5" y="37"/>
                  </a:lnTo>
                  <a:lnTo>
                    <a:pt x="11" y="46"/>
                  </a:lnTo>
                  <a:lnTo>
                    <a:pt x="19" y="49"/>
                  </a:lnTo>
                  <a:lnTo>
                    <a:pt x="31" y="52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7" y="55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31" y="14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97360" y="4836960"/>
              <a:ext cx="788760" cy="408240"/>
            </a:xfrm>
            <a:custGeom>
              <a:avLst/>
              <a:gdLst/>
              <a:ahLst/>
              <a:rect l="l" t="t" r="r" b="b"/>
              <a:pathLst>
                <a:path w="497" h="257">
                  <a:moveTo>
                    <a:pt x="0" y="193"/>
                  </a:moveTo>
                  <a:lnTo>
                    <a:pt x="24" y="189"/>
                  </a:lnTo>
                  <a:lnTo>
                    <a:pt x="32" y="182"/>
                  </a:lnTo>
                  <a:lnTo>
                    <a:pt x="40" y="174"/>
                  </a:lnTo>
                  <a:lnTo>
                    <a:pt x="46" y="164"/>
                  </a:lnTo>
                  <a:lnTo>
                    <a:pt x="45" y="155"/>
                  </a:lnTo>
                  <a:lnTo>
                    <a:pt x="52" y="149"/>
                  </a:lnTo>
                  <a:lnTo>
                    <a:pt x="60" y="140"/>
                  </a:lnTo>
                  <a:lnTo>
                    <a:pt x="66" y="131"/>
                  </a:lnTo>
                  <a:lnTo>
                    <a:pt x="69" y="123"/>
                  </a:lnTo>
                  <a:lnTo>
                    <a:pt x="74" y="114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7" y="95"/>
                  </a:lnTo>
                  <a:lnTo>
                    <a:pt x="104" y="88"/>
                  </a:lnTo>
                  <a:lnTo>
                    <a:pt x="109" y="78"/>
                  </a:lnTo>
                  <a:lnTo>
                    <a:pt x="116" y="70"/>
                  </a:lnTo>
                  <a:lnTo>
                    <a:pt x="118" y="60"/>
                  </a:lnTo>
                  <a:lnTo>
                    <a:pt x="128" y="53"/>
                  </a:lnTo>
                  <a:lnTo>
                    <a:pt x="131" y="44"/>
                  </a:lnTo>
                  <a:lnTo>
                    <a:pt x="137" y="37"/>
                  </a:lnTo>
                  <a:lnTo>
                    <a:pt x="144" y="30"/>
                  </a:lnTo>
                  <a:lnTo>
                    <a:pt x="153" y="22"/>
                  </a:lnTo>
                  <a:lnTo>
                    <a:pt x="159" y="15"/>
                  </a:lnTo>
                  <a:lnTo>
                    <a:pt x="168" y="10"/>
                  </a:lnTo>
                  <a:lnTo>
                    <a:pt x="175" y="6"/>
                  </a:lnTo>
                  <a:lnTo>
                    <a:pt x="187" y="6"/>
                  </a:lnTo>
                  <a:lnTo>
                    <a:pt x="193" y="0"/>
                  </a:lnTo>
                  <a:lnTo>
                    <a:pt x="202" y="7"/>
                  </a:lnTo>
                  <a:lnTo>
                    <a:pt x="215" y="15"/>
                  </a:lnTo>
                  <a:lnTo>
                    <a:pt x="207" y="14"/>
                  </a:lnTo>
                  <a:lnTo>
                    <a:pt x="205" y="22"/>
                  </a:lnTo>
                  <a:lnTo>
                    <a:pt x="205" y="31"/>
                  </a:lnTo>
                  <a:lnTo>
                    <a:pt x="215" y="34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40" y="33"/>
                  </a:lnTo>
                  <a:lnTo>
                    <a:pt x="243" y="40"/>
                  </a:lnTo>
                  <a:lnTo>
                    <a:pt x="236" y="45"/>
                  </a:lnTo>
                  <a:lnTo>
                    <a:pt x="228" y="49"/>
                  </a:lnTo>
                  <a:lnTo>
                    <a:pt x="220" y="55"/>
                  </a:lnTo>
                  <a:lnTo>
                    <a:pt x="213" y="62"/>
                  </a:lnTo>
                  <a:lnTo>
                    <a:pt x="222" y="64"/>
                  </a:lnTo>
                  <a:lnTo>
                    <a:pt x="226" y="71"/>
                  </a:lnTo>
                  <a:lnTo>
                    <a:pt x="229" y="78"/>
                  </a:lnTo>
                  <a:lnTo>
                    <a:pt x="232" y="84"/>
                  </a:lnTo>
                  <a:lnTo>
                    <a:pt x="232" y="94"/>
                  </a:lnTo>
                  <a:lnTo>
                    <a:pt x="230" y="103"/>
                  </a:lnTo>
                  <a:lnTo>
                    <a:pt x="239" y="163"/>
                  </a:lnTo>
                  <a:lnTo>
                    <a:pt x="190" y="125"/>
                  </a:lnTo>
                  <a:lnTo>
                    <a:pt x="236" y="116"/>
                  </a:lnTo>
                  <a:lnTo>
                    <a:pt x="246" y="110"/>
                  </a:lnTo>
                  <a:lnTo>
                    <a:pt x="251" y="105"/>
                  </a:lnTo>
                  <a:lnTo>
                    <a:pt x="259" y="94"/>
                  </a:lnTo>
                  <a:lnTo>
                    <a:pt x="270" y="93"/>
                  </a:lnTo>
                  <a:lnTo>
                    <a:pt x="277" y="90"/>
                  </a:lnTo>
                  <a:lnTo>
                    <a:pt x="288" y="86"/>
                  </a:lnTo>
                  <a:lnTo>
                    <a:pt x="295" y="83"/>
                  </a:lnTo>
                  <a:lnTo>
                    <a:pt x="303" y="74"/>
                  </a:lnTo>
                  <a:lnTo>
                    <a:pt x="313" y="75"/>
                  </a:lnTo>
                  <a:lnTo>
                    <a:pt x="320" y="80"/>
                  </a:lnTo>
                  <a:lnTo>
                    <a:pt x="329" y="76"/>
                  </a:lnTo>
                  <a:lnTo>
                    <a:pt x="338" y="74"/>
                  </a:lnTo>
                  <a:lnTo>
                    <a:pt x="345" y="78"/>
                  </a:lnTo>
                  <a:lnTo>
                    <a:pt x="351" y="86"/>
                  </a:lnTo>
                  <a:lnTo>
                    <a:pt x="357" y="92"/>
                  </a:lnTo>
                  <a:lnTo>
                    <a:pt x="365" y="90"/>
                  </a:lnTo>
                  <a:lnTo>
                    <a:pt x="379" y="94"/>
                  </a:lnTo>
                  <a:lnTo>
                    <a:pt x="385" y="99"/>
                  </a:lnTo>
                  <a:lnTo>
                    <a:pt x="394" y="102"/>
                  </a:lnTo>
                  <a:lnTo>
                    <a:pt x="403" y="107"/>
                  </a:lnTo>
                  <a:lnTo>
                    <a:pt x="405" y="115"/>
                  </a:lnTo>
                  <a:lnTo>
                    <a:pt x="413" y="121"/>
                  </a:lnTo>
                  <a:lnTo>
                    <a:pt x="423" y="125"/>
                  </a:lnTo>
                  <a:lnTo>
                    <a:pt x="431" y="128"/>
                  </a:lnTo>
                  <a:lnTo>
                    <a:pt x="440" y="132"/>
                  </a:lnTo>
                  <a:lnTo>
                    <a:pt x="455" y="137"/>
                  </a:lnTo>
                  <a:lnTo>
                    <a:pt x="468" y="141"/>
                  </a:lnTo>
                  <a:lnTo>
                    <a:pt x="473" y="148"/>
                  </a:lnTo>
                  <a:lnTo>
                    <a:pt x="480" y="154"/>
                  </a:lnTo>
                  <a:lnTo>
                    <a:pt x="485" y="161"/>
                  </a:lnTo>
                  <a:lnTo>
                    <a:pt x="488" y="172"/>
                  </a:lnTo>
                  <a:lnTo>
                    <a:pt x="492" y="178"/>
                  </a:lnTo>
                  <a:lnTo>
                    <a:pt x="493" y="187"/>
                  </a:lnTo>
                  <a:lnTo>
                    <a:pt x="494" y="195"/>
                  </a:lnTo>
                  <a:lnTo>
                    <a:pt x="496" y="201"/>
                  </a:lnTo>
                  <a:lnTo>
                    <a:pt x="491" y="213"/>
                  </a:lnTo>
                  <a:lnTo>
                    <a:pt x="480" y="217"/>
                  </a:lnTo>
                  <a:lnTo>
                    <a:pt x="474" y="222"/>
                  </a:lnTo>
                  <a:lnTo>
                    <a:pt x="466" y="228"/>
                  </a:lnTo>
                  <a:lnTo>
                    <a:pt x="458" y="234"/>
                  </a:lnTo>
                  <a:lnTo>
                    <a:pt x="448" y="238"/>
                  </a:lnTo>
                  <a:lnTo>
                    <a:pt x="439" y="240"/>
                  </a:lnTo>
                  <a:lnTo>
                    <a:pt x="430" y="244"/>
                  </a:lnTo>
                  <a:lnTo>
                    <a:pt x="422" y="248"/>
                  </a:lnTo>
                  <a:lnTo>
                    <a:pt x="414" y="240"/>
                  </a:lnTo>
                  <a:lnTo>
                    <a:pt x="405" y="242"/>
                  </a:lnTo>
                  <a:lnTo>
                    <a:pt x="395" y="241"/>
                  </a:lnTo>
                  <a:lnTo>
                    <a:pt x="387" y="244"/>
                  </a:lnTo>
                  <a:lnTo>
                    <a:pt x="380" y="248"/>
                  </a:lnTo>
                  <a:lnTo>
                    <a:pt x="372" y="250"/>
                  </a:lnTo>
                  <a:lnTo>
                    <a:pt x="363" y="252"/>
                  </a:lnTo>
                  <a:lnTo>
                    <a:pt x="357" y="256"/>
                  </a:lnTo>
                  <a:lnTo>
                    <a:pt x="350" y="247"/>
                  </a:lnTo>
                  <a:lnTo>
                    <a:pt x="349" y="240"/>
                  </a:lnTo>
                  <a:lnTo>
                    <a:pt x="340" y="243"/>
                  </a:lnTo>
                  <a:lnTo>
                    <a:pt x="333" y="246"/>
                  </a:lnTo>
                  <a:lnTo>
                    <a:pt x="324" y="248"/>
                  </a:lnTo>
                  <a:lnTo>
                    <a:pt x="315" y="247"/>
                  </a:lnTo>
                  <a:lnTo>
                    <a:pt x="315" y="240"/>
                  </a:lnTo>
                  <a:lnTo>
                    <a:pt x="313" y="233"/>
                  </a:lnTo>
                  <a:lnTo>
                    <a:pt x="310" y="225"/>
                  </a:lnTo>
                  <a:lnTo>
                    <a:pt x="297" y="227"/>
                  </a:lnTo>
                  <a:lnTo>
                    <a:pt x="288" y="227"/>
                  </a:lnTo>
                  <a:lnTo>
                    <a:pt x="281" y="221"/>
                  </a:lnTo>
                  <a:lnTo>
                    <a:pt x="277" y="215"/>
                  </a:lnTo>
                  <a:lnTo>
                    <a:pt x="267" y="213"/>
                  </a:lnTo>
                  <a:lnTo>
                    <a:pt x="226" y="177"/>
                  </a:lnTo>
                  <a:lnTo>
                    <a:pt x="245" y="217"/>
                  </a:lnTo>
                  <a:lnTo>
                    <a:pt x="236" y="217"/>
                  </a:lnTo>
                  <a:lnTo>
                    <a:pt x="227" y="213"/>
                  </a:lnTo>
                  <a:lnTo>
                    <a:pt x="219" y="211"/>
                  </a:lnTo>
                  <a:lnTo>
                    <a:pt x="209" y="209"/>
                  </a:lnTo>
                  <a:lnTo>
                    <a:pt x="200" y="210"/>
                  </a:lnTo>
                  <a:lnTo>
                    <a:pt x="191" y="215"/>
                  </a:lnTo>
                  <a:lnTo>
                    <a:pt x="184" y="218"/>
                  </a:lnTo>
                  <a:lnTo>
                    <a:pt x="176" y="219"/>
                  </a:lnTo>
                  <a:lnTo>
                    <a:pt x="166" y="223"/>
                  </a:lnTo>
                  <a:lnTo>
                    <a:pt x="158" y="230"/>
                  </a:lnTo>
                  <a:lnTo>
                    <a:pt x="150" y="234"/>
                  </a:lnTo>
                  <a:lnTo>
                    <a:pt x="139" y="242"/>
                  </a:lnTo>
                  <a:lnTo>
                    <a:pt x="133" y="247"/>
                  </a:lnTo>
                  <a:lnTo>
                    <a:pt x="122" y="248"/>
                  </a:lnTo>
                  <a:lnTo>
                    <a:pt x="111" y="253"/>
                  </a:lnTo>
                  <a:lnTo>
                    <a:pt x="102" y="252"/>
                  </a:lnTo>
                  <a:lnTo>
                    <a:pt x="91" y="247"/>
                  </a:lnTo>
                  <a:lnTo>
                    <a:pt x="82" y="245"/>
                  </a:lnTo>
                  <a:lnTo>
                    <a:pt x="74" y="244"/>
                  </a:lnTo>
                  <a:lnTo>
                    <a:pt x="63" y="244"/>
                  </a:lnTo>
                  <a:lnTo>
                    <a:pt x="49" y="244"/>
                  </a:lnTo>
                  <a:lnTo>
                    <a:pt x="43" y="238"/>
                  </a:lnTo>
                  <a:lnTo>
                    <a:pt x="36" y="232"/>
                  </a:lnTo>
                  <a:lnTo>
                    <a:pt x="36" y="221"/>
                  </a:lnTo>
                  <a:lnTo>
                    <a:pt x="32" y="217"/>
                  </a:lnTo>
                  <a:lnTo>
                    <a:pt x="26" y="209"/>
                  </a:lnTo>
                  <a:lnTo>
                    <a:pt x="22" y="204"/>
                  </a:lnTo>
                  <a:lnTo>
                    <a:pt x="18" y="197"/>
                  </a:lnTo>
                  <a:lnTo>
                    <a:pt x="0" y="193"/>
                  </a:lnTo>
                  <a:lnTo>
                    <a:pt x="14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62120" y="3087720"/>
            <a:ext cx="790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1520" y="9907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udies on health impacts of P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286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hort term changes in pollution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(Time-series; pa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6576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fects of long-term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(cohort studies)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d8a"/>
            </a:gs>
            <a:gs pos="50000">
              <a:srgbClr val="0f219b"/>
            </a:gs>
            <a:gs pos="100000">
              <a:srgbClr val="0d1d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" y="557280"/>
            <a:ext cx="8120160" cy="6118200"/>
            <a:chOff x="228600" y="557280"/>
            <a:chExt cx="8120160" cy="6118200"/>
          </a:xfrm>
        </p:grpSpPr>
        <p:sp>
          <p:nvSpPr>
            <p:cNvPr id="145" name=""/>
            <p:cNvSpPr/>
            <p:nvPr/>
          </p:nvSpPr>
          <p:spPr>
            <a:xfrm>
              <a:off x="2662200" y="20638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2" y="77"/>
                  </a:moveTo>
                  <a:lnTo>
                    <a:pt x="2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2" y="125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5" y="174"/>
                  </a:lnTo>
                  <a:lnTo>
                    <a:pt x="31" y="182"/>
                  </a:lnTo>
                  <a:lnTo>
                    <a:pt x="40" y="182"/>
                  </a:lnTo>
                  <a:lnTo>
                    <a:pt x="48" y="182"/>
                  </a:lnTo>
                  <a:lnTo>
                    <a:pt x="60" y="191"/>
                  </a:lnTo>
                  <a:lnTo>
                    <a:pt x="71" y="196"/>
                  </a:lnTo>
                  <a:lnTo>
                    <a:pt x="71" y="205"/>
                  </a:lnTo>
                  <a:lnTo>
                    <a:pt x="74" y="214"/>
                  </a:lnTo>
                  <a:lnTo>
                    <a:pt x="83" y="214"/>
                  </a:lnTo>
                  <a:lnTo>
                    <a:pt x="91" y="214"/>
                  </a:lnTo>
                  <a:lnTo>
                    <a:pt x="100" y="214"/>
                  </a:lnTo>
                  <a:lnTo>
                    <a:pt x="109" y="214"/>
                  </a:lnTo>
                  <a:lnTo>
                    <a:pt x="117" y="214"/>
                  </a:lnTo>
                  <a:lnTo>
                    <a:pt x="126" y="214"/>
                  </a:lnTo>
                  <a:lnTo>
                    <a:pt x="137" y="208"/>
                  </a:lnTo>
                  <a:lnTo>
                    <a:pt x="149" y="202"/>
                  </a:lnTo>
                  <a:lnTo>
                    <a:pt x="149" y="194"/>
                  </a:lnTo>
                  <a:lnTo>
                    <a:pt x="146" y="185"/>
                  </a:lnTo>
                  <a:lnTo>
                    <a:pt x="146" y="176"/>
                  </a:lnTo>
                  <a:lnTo>
                    <a:pt x="155" y="168"/>
                  </a:lnTo>
                  <a:lnTo>
                    <a:pt x="158" y="159"/>
                  </a:lnTo>
                  <a:lnTo>
                    <a:pt x="158" y="151"/>
                  </a:lnTo>
                  <a:lnTo>
                    <a:pt x="155" y="142"/>
                  </a:lnTo>
                  <a:lnTo>
                    <a:pt x="155" y="134"/>
                  </a:lnTo>
                  <a:lnTo>
                    <a:pt x="146" y="134"/>
                  </a:lnTo>
                  <a:lnTo>
                    <a:pt x="137" y="134"/>
                  </a:lnTo>
                  <a:lnTo>
                    <a:pt x="135" y="125"/>
                  </a:lnTo>
                  <a:lnTo>
                    <a:pt x="129" y="116"/>
                  </a:lnTo>
                  <a:lnTo>
                    <a:pt x="120" y="114"/>
                  </a:lnTo>
                  <a:lnTo>
                    <a:pt x="114" y="105"/>
                  </a:lnTo>
                  <a:lnTo>
                    <a:pt x="114" y="97"/>
                  </a:lnTo>
                  <a:lnTo>
                    <a:pt x="106" y="94"/>
                  </a:lnTo>
                  <a:lnTo>
                    <a:pt x="97" y="94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89" y="71"/>
                  </a:lnTo>
                  <a:lnTo>
                    <a:pt x="80" y="68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83" y="45"/>
                  </a:lnTo>
                  <a:lnTo>
                    <a:pt x="94" y="45"/>
                  </a:lnTo>
                  <a:lnTo>
                    <a:pt x="103" y="39"/>
                  </a:lnTo>
                  <a:lnTo>
                    <a:pt x="106" y="31"/>
                  </a:lnTo>
                  <a:lnTo>
                    <a:pt x="103" y="22"/>
                  </a:lnTo>
                  <a:lnTo>
                    <a:pt x="94" y="22"/>
                  </a:lnTo>
                  <a:lnTo>
                    <a:pt x="86" y="14"/>
                  </a:lnTo>
                  <a:lnTo>
                    <a:pt x="77" y="11"/>
                  </a:lnTo>
                  <a:lnTo>
                    <a:pt x="68" y="11"/>
                  </a:lnTo>
                  <a:lnTo>
                    <a:pt x="54" y="0"/>
                  </a:lnTo>
                  <a:lnTo>
                    <a:pt x="51" y="8"/>
                  </a:lnTo>
                  <a:lnTo>
                    <a:pt x="60" y="14"/>
                  </a:lnTo>
                  <a:lnTo>
                    <a:pt x="63" y="22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7" y="45"/>
                  </a:lnTo>
                  <a:lnTo>
                    <a:pt x="45" y="45"/>
                  </a:lnTo>
                  <a:lnTo>
                    <a:pt x="40" y="37"/>
                  </a:lnTo>
                  <a:lnTo>
                    <a:pt x="34" y="28"/>
                  </a:lnTo>
                  <a:lnTo>
                    <a:pt x="31" y="37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5" y="62"/>
                  </a:lnTo>
                  <a:lnTo>
                    <a:pt x="17" y="68"/>
                  </a:lnTo>
                  <a:lnTo>
                    <a:pt x="2" y="77"/>
                  </a:lnTo>
                  <a:lnTo>
                    <a:pt x="2" y="7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85760" y="557280"/>
              <a:ext cx="6975720" cy="5226120"/>
            </a:xfrm>
            <a:custGeom>
              <a:avLst/>
              <a:gdLst/>
              <a:ahLst/>
              <a:rect l="l" t="t" r="r" b="b"/>
              <a:pathLst>
                <a:path w="4394" h="3292">
                  <a:moveTo>
                    <a:pt x="4183" y="665"/>
                  </a:moveTo>
                  <a:lnTo>
                    <a:pt x="4174" y="685"/>
                  </a:lnTo>
                  <a:lnTo>
                    <a:pt x="4165" y="680"/>
                  </a:lnTo>
                  <a:lnTo>
                    <a:pt x="4154" y="671"/>
                  </a:lnTo>
                  <a:lnTo>
                    <a:pt x="4145" y="665"/>
                  </a:lnTo>
                  <a:lnTo>
                    <a:pt x="4136" y="657"/>
                  </a:lnTo>
                  <a:lnTo>
                    <a:pt x="4128" y="648"/>
                  </a:lnTo>
                  <a:lnTo>
                    <a:pt x="4122" y="639"/>
                  </a:lnTo>
                  <a:lnTo>
                    <a:pt x="4110" y="631"/>
                  </a:lnTo>
                  <a:lnTo>
                    <a:pt x="4104" y="622"/>
                  </a:lnTo>
                  <a:lnTo>
                    <a:pt x="4098" y="613"/>
                  </a:lnTo>
                  <a:lnTo>
                    <a:pt x="4093" y="605"/>
                  </a:lnTo>
                  <a:lnTo>
                    <a:pt x="4084" y="596"/>
                  </a:lnTo>
                  <a:lnTo>
                    <a:pt x="4075" y="593"/>
                  </a:lnTo>
                  <a:lnTo>
                    <a:pt x="4066" y="590"/>
                  </a:lnTo>
                  <a:lnTo>
                    <a:pt x="4058" y="587"/>
                  </a:lnTo>
                  <a:lnTo>
                    <a:pt x="4049" y="585"/>
                  </a:lnTo>
                  <a:lnTo>
                    <a:pt x="4037" y="585"/>
                  </a:lnTo>
                  <a:lnTo>
                    <a:pt x="4029" y="582"/>
                  </a:lnTo>
                  <a:lnTo>
                    <a:pt x="4023" y="573"/>
                  </a:lnTo>
                  <a:lnTo>
                    <a:pt x="4020" y="564"/>
                  </a:lnTo>
                  <a:lnTo>
                    <a:pt x="4011" y="556"/>
                  </a:lnTo>
                  <a:lnTo>
                    <a:pt x="4002" y="550"/>
                  </a:lnTo>
                  <a:lnTo>
                    <a:pt x="4002" y="541"/>
                  </a:lnTo>
                  <a:lnTo>
                    <a:pt x="3994" y="538"/>
                  </a:lnTo>
                  <a:lnTo>
                    <a:pt x="3982" y="538"/>
                  </a:lnTo>
                  <a:lnTo>
                    <a:pt x="3973" y="538"/>
                  </a:lnTo>
                  <a:lnTo>
                    <a:pt x="3965" y="538"/>
                  </a:lnTo>
                  <a:lnTo>
                    <a:pt x="3953" y="538"/>
                  </a:lnTo>
                  <a:lnTo>
                    <a:pt x="3947" y="530"/>
                  </a:lnTo>
                  <a:lnTo>
                    <a:pt x="3947" y="521"/>
                  </a:lnTo>
                  <a:lnTo>
                    <a:pt x="3938" y="512"/>
                  </a:lnTo>
                  <a:lnTo>
                    <a:pt x="3930" y="504"/>
                  </a:lnTo>
                  <a:lnTo>
                    <a:pt x="3930" y="495"/>
                  </a:lnTo>
                  <a:lnTo>
                    <a:pt x="3927" y="484"/>
                  </a:lnTo>
                  <a:lnTo>
                    <a:pt x="3918" y="481"/>
                  </a:lnTo>
                  <a:lnTo>
                    <a:pt x="3909" y="481"/>
                  </a:lnTo>
                  <a:lnTo>
                    <a:pt x="3901" y="481"/>
                  </a:lnTo>
                  <a:lnTo>
                    <a:pt x="3892" y="481"/>
                  </a:lnTo>
                  <a:lnTo>
                    <a:pt x="3883" y="481"/>
                  </a:lnTo>
                  <a:lnTo>
                    <a:pt x="3871" y="481"/>
                  </a:lnTo>
                  <a:lnTo>
                    <a:pt x="3863" y="481"/>
                  </a:lnTo>
                  <a:lnTo>
                    <a:pt x="3851" y="478"/>
                  </a:lnTo>
                  <a:lnTo>
                    <a:pt x="3842" y="472"/>
                  </a:lnTo>
                  <a:lnTo>
                    <a:pt x="3842" y="463"/>
                  </a:lnTo>
                  <a:lnTo>
                    <a:pt x="3842" y="455"/>
                  </a:lnTo>
                  <a:lnTo>
                    <a:pt x="3834" y="446"/>
                  </a:lnTo>
                  <a:lnTo>
                    <a:pt x="3825" y="446"/>
                  </a:lnTo>
                  <a:lnTo>
                    <a:pt x="3819" y="455"/>
                  </a:lnTo>
                  <a:lnTo>
                    <a:pt x="3810" y="458"/>
                  </a:lnTo>
                  <a:lnTo>
                    <a:pt x="3802" y="461"/>
                  </a:lnTo>
                  <a:lnTo>
                    <a:pt x="3793" y="461"/>
                  </a:lnTo>
                  <a:lnTo>
                    <a:pt x="3784" y="461"/>
                  </a:lnTo>
                  <a:lnTo>
                    <a:pt x="3775" y="461"/>
                  </a:lnTo>
                  <a:lnTo>
                    <a:pt x="3764" y="455"/>
                  </a:lnTo>
                  <a:lnTo>
                    <a:pt x="3755" y="452"/>
                  </a:lnTo>
                  <a:lnTo>
                    <a:pt x="3752" y="461"/>
                  </a:lnTo>
                  <a:lnTo>
                    <a:pt x="3755" y="469"/>
                  </a:lnTo>
                  <a:lnTo>
                    <a:pt x="3764" y="472"/>
                  </a:lnTo>
                  <a:lnTo>
                    <a:pt x="3755" y="475"/>
                  </a:lnTo>
                  <a:lnTo>
                    <a:pt x="3746" y="475"/>
                  </a:lnTo>
                  <a:lnTo>
                    <a:pt x="3737" y="478"/>
                  </a:lnTo>
                  <a:lnTo>
                    <a:pt x="3729" y="478"/>
                  </a:lnTo>
                  <a:lnTo>
                    <a:pt x="3720" y="478"/>
                  </a:lnTo>
                  <a:lnTo>
                    <a:pt x="3711" y="472"/>
                  </a:lnTo>
                  <a:lnTo>
                    <a:pt x="3703" y="463"/>
                  </a:lnTo>
                  <a:lnTo>
                    <a:pt x="3694" y="455"/>
                  </a:lnTo>
                  <a:lnTo>
                    <a:pt x="3685" y="452"/>
                  </a:lnTo>
                  <a:lnTo>
                    <a:pt x="3676" y="452"/>
                  </a:lnTo>
                  <a:lnTo>
                    <a:pt x="3668" y="449"/>
                  </a:lnTo>
                  <a:lnTo>
                    <a:pt x="3656" y="449"/>
                  </a:lnTo>
                  <a:lnTo>
                    <a:pt x="3647" y="449"/>
                  </a:lnTo>
                  <a:lnTo>
                    <a:pt x="3638" y="449"/>
                  </a:lnTo>
                  <a:lnTo>
                    <a:pt x="3636" y="440"/>
                  </a:lnTo>
                  <a:lnTo>
                    <a:pt x="3636" y="432"/>
                  </a:lnTo>
                  <a:lnTo>
                    <a:pt x="3630" y="423"/>
                  </a:lnTo>
                  <a:lnTo>
                    <a:pt x="3638" y="423"/>
                  </a:lnTo>
                  <a:lnTo>
                    <a:pt x="3636" y="414"/>
                  </a:lnTo>
                  <a:lnTo>
                    <a:pt x="3627" y="412"/>
                  </a:lnTo>
                  <a:lnTo>
                    <a:pt x="3618" y="409"/>
                  </a:lnTo>
                  <a:lnTo>
                    <a:pt x="3615" y="400"/>
                  </a:lnTo>
                  <a:lnTo>
                    <a:pt x="3609" y="391"/>
                  </a:lnTo>
                  <a:lnTo>
                    <a:pt x="3618" y="391"/>
                  </a:lnTo>
                  <a:lnTo>
                    <a:pt x="3627" y="391"/>
                  </a:lnTo>
                  <a:lnTo>
                    <a:pt x="3633" y="383"/>
                  </a:lnTo>
                  <a:lnTo>
                    <a:pt x="3624" y="377"/>
                  </a:lnTo>
                  <a:lnTo>
                    <a:pt x="3615" y="374"/>
                  </a:lnTo>
                  <a:lnTo>
                    <a:pt x="3606" y="363"/>
                  </a:lnTo>
                  <a:lnTo>
                    <a:pt x="3604" y="354"/>
                  </a:lnTo>
                  <a:lnTo>
                    <a:pt x="3598" y="345"/>
                  </a:lnTo>
                  <a:lnTo>
                    <a:pt x="3592" y="337"/>
                  </a:lnTo>
                  <a:lnTo>
                    <a:pt x="3583" y="322"/>
                  </a:lnTo>
                  <a:lnTo>
                    <a:pt x="3577" y="314"/>
                  </a:lnTo>
                  <a:lnTo>
                    <a:pt x="3586" y="305"/>
                  </a:lnTo>
                  <a:lnTo>
                    <a:pt x="3592" y="296"/>
                  </a:lnTo>
                  <a:lnTo>
                    <a:pt x="3595" y="288"/>
                  </a:lnTo>
                  <a:lnTo>
                    <a:pt x="3595" y="279"/>
                  </a:lnTo>
                  <a:lnTo>
                    <a:pt x="3586" y="276"/>
                  </a:lnTo>
                  <a:lnTo>
                    <a:pt x="3577" y="276"/>
                  </a:lnTo>
                  <a:lnTo>
                    <a:pt x="3569" y="276"/>
                  </a:lnTo>
                  <a:lnTo>
                    <a:pt x="3557" y="270"/>
                  </a:lnTo>
                  <a:lnTo>
                    <a:pt x="3548" y="259"/>
                  </a:lnTo>
                  <a:lnTo>
                    <a:pt x="3540" y="253"/>
                  </a:lnTo>
                  <a:lnTo>
                    <a:pt x="3531" y="250"/>
                  </a:lnTo>
                  <a:lnTo>
                    <a:pt x="3522" y="244"/>
                  </a:lnTo>
                  <a:lnTo>
                    <a:pt x="3510" y="236"/>
                  </a:lnTo>
                  <a:lnTo>
                    <a:pt x="3502" y="233"/>
                  </a:lnTo>
                  <a:lnTo>
                    <a:pt x="3493" y="227"/>
                  </a:lnTo>
                  <a:lnTo>
                    <a:pt x="3484" y="224"/>
                  </a:lnTo>
                  <a:lnTo>
                    <a:pt x="3475" y="219"/>
                  </a:lnTo>
                  <a:lnTo>
                    <a:pt x="3467" y="213"/>
                  </a:lnTo>
                  <a:lnTo>
                    <a:pt x="3458" y="207"/>
                  </a:lnTo>
                  <a:lnTo>
                    <a:pt x="3449" y="198"/>
                  </a:lnTo>
                  <a:lnTo>
                    <a:pt x="3441" y="193"/>
                  </a:lnTo>
                  <a:lnTo>
                    <a:pt x="3432" y="187"/>
                  </a:lnTo>
                  <a:lnTo>
                    <a:pt x="3423" y="184"/>
                  </a:lnTo>
                  <a:lnTo>
                    <a:pt x="3414" y="178"/>
                  </a:lnTo>
                  <a:lnTo>
                    <a:pt x="3406" y="172"/>
                  </a:lnTo>
                  <a:lnTo>
                    <a:pt x="3400" y="164"/>
                  </a:lnTo>
                  <a:lnTo>
                    <a:pt x="3397" y="155"/>
                  </a:lnTo>
                  <a:lnTo>
                    <a:pt x="3394" y="146"/>
                  </a:lnTo>
                  <a:lnTo>
                    <a:pt x="3388" y="138"/>
                  </a:lnTo>
                  <a:lnTo>
                    <a:pt x="3382" y="129"/>
                  </a:lnTo>
                  <a:lnTo>
                    <a:pt x="3388" y="121"/>
                  </a:lnTo>
                  <a:lnTo>
                    <a:pt x="3379" y="121"/>
                  </a:lnTo>
                  <a:lnTo>
                    <a:pt x="3371" y="121"/>
                  </a:lnTo>
                  <a:lnTo>
                    <a:pt x="3362" y="121"/>
                  </a:lnTo>
                  <a:lnTo>
                    <a:pt x="3359" y="129"/>
                  </a:lnTo>
                  <a:lnTo>
                    <a:pt x="3353" y="138"/>
                  </a:lnTo>
                  <a:lnTo>
                    <a:pt x="3347" y="146"/>
                  </a:lnTo>
                  <a:lnTo>
                    <a:pt x="3339" y="152"/>
                  </a:lnTo>
                  <a:lnTo>
                    <a:pt x="3327" y="158"/>
                  </a:lnTo>
                  <a:lnTo>
                    <a:pt x="3318" y="158"/>
                  </a:lnTo>
                  <a:lnTo>
                    <a:pt x="3310" y="167"/>
                  </a:lnTo>
                  <a:lnTo>
                    <a:pt x="3307" y="175"/>
                  </a:lnTo>
                  <a:lnTo>
                    <a:pt x="3307" y="184"/>
                  </a:lnTo>
                  <a:lnTo>
                    <a:pt x="3304" y="193"/>
                  </a:lnTo>
                  <a:lnTo>
                    <a:pt x="3295" y="195"/>
                  </a:lnTo>
                  <a:lnTo>
                    <a:pt x="3295" y="204"/>
                  </a:lnTo>
                  <a:lnTo>
                    <a:pt x="3298" y="213"/>
                  </a:lnTo>
                  <a:lnTo>
                    <a:pt x="3304" y="221"/>
                  </a:lnTo>
                  <a:lnTo>
                    <a:pt x="3310" y="230"/>
                  </a:lnTo>
                  <a:lnTo>
                    <a:pt x="3315" y="239"/>
                  </a:lnTo>
                  <a:lnTo>
                    <a:pt x="3318" y="250"/>
                  </a:lnTo>
                  <a:lnTo>
                    <a:pt x="3321" y="259"/>
                  </a:lnTo>
                  <a:lnTo>
                    <a:pt x="3321" y="247"/>
                  </a:lnTo>
                  <a:lnTo>
                    <a:pt x="3318" y="239"/>
                  </a:lnTo>
                  <a:lnTo>
                    <a:pt x="3315" y="230"/>
                  </a:lnTo>
                  <a:lnTo>
                    <a:pt x="3307" y="224"/>
                  </a:lnTo>
                  <a:lnTo>
                    <a:pt x="3298" y="216"/>
                  </a:lnTo>
                  <a:lnTo>
                    <a:pt x="3292" y="207"/>
                  </a:lnTo>
                  <a:lnTo>
                    <a:pt x="3292" y="198"/>
                  </a:lnTo>
                  <a:lnTo>
                    <a:pt x="3295" y="190"/>
                  </a:lnTo>
                  <a:lnTo>
                    <a:pt x="3292" y="181"/>
                  </a:lnTo>
                  <a:lnTo>
                    <a:pt x="3283" y="172"/>
                  </a:lnTo>
                  <a:lnTo>
                    <a:pt x="3275" y="170"/>
                  </a:lnTo>
                  <a:lnTo>
                    <a:pt x="3266" y="164"/>
                  </a:lnTo>
                  <a:lnTo>
                    <a:pt x="3257" y="161"/>
                  </a:lnTo>
                  <a:lnTo>
                    <a:pt x="3245" y="155"/>
                  </a:lnTo>
                  <a:lnTo>
                    <a:pt x="3237" y="155"/>
                  </a:lnTo>
                  <a:lnTo>
                    <a:pt x="3228" y="155"/>
                  </a:lnTo>
                  <a:lnTo>
                    <a:pt x="3219" y="155"/>
                  </a:lnTo>
                  <a:lnTo>
                    <a:pt x="3213" y="164"/>
                  </a:lnTo>
                  <a:lnTo>
                    <a:pt x="3208" y="172"/>
                  </a:lnTo>
                  <a:lnTo>
                    <a:pt x="3196" y="175"/>
                  </a:lnTo>
                  <a:lnTo>
                    <a:pt x="3184" y="175"/>
                  </a:lnTo>
                  <a:lnTo>
                    <a:pt x="3173" y="175"/>
                  </a:lnTo>
                  <a:lnTo>
                    <a:pt x="3167" y="167"/>
                  </a:lnTo>
                  <a:lnTo>
                    <a:pt x="3179" y="161"/>
                  </a:lnTo>
                  <a:lnTo>
                    <a:pt x="3187" y="161"/>
                  </a:lnTo>
                  <a:lnTo>
                    <a:pt x="3196" y="161"/>
                  </a:lnTo>
                  <a:lnTo>
                    <a:pt x="3205" y="155"/>
                  </a:lnTo>
                  <a:lnTo>
                    <a:pt x="3208" y="146"/>
                  </a:lnTo>
                  <a:lnTo>
                    <a:pt x="3208" y="138"/>
                  </a:lnTo>
                  <a:lnTo>
                    <a:pt x="3205" y="129"/>
                  </a:lnTo>
                  <a:lnTo>
                    <a:pt x="3199" y="121"/>
                  </a:lnTo>
                  <a:lnTo>
                    <a:pt x="3190" y="112"/>
                  </a:lnTo>
                  <a:lnTo>
                    <a:pt x="3184" y="103"/>
                  </a:lnTo>
                  <a:lnTo>
                    <a:pt x="3193" y="97"/>
                  </a:lnTo>
                  <a:lnTo>
                    <a:pt x="3202" y="92"/>
                  </a:lnTo>
                  <a:lnTo>
                    <a:pt x="3205" y="83"/>
                  </a:lnTo>
                  <a:lnTo>
                    <a:pt x="3208" y="74"/>
                  </a:lnTo>
                  <a:lnTo>
                    <a:pt x="3208" y="66"/>
                  </a:lnTo>
                  <a:lnTo>
                    <a:pt x="3202" y="57"/>
                  </a:lnTo>
                  <a:lnTo>
                    <a:pt x="3199" y="48"/>
                  </a:lnTo>
                  <a:lnTo>
                    <a:pt x="3199" y="40"/>
                  </a:lnTo>
                  <a:lnTo>
                    <a:pt x="3199" y="31"/>
                  </a:lnTo>
                  <a:lnTo>
                    <a:pt x="3196" y="23"/>
                  </a:lnTo>
                  <a:lnTo>
                    <a:pt x="3190" y="14"/>
                  </a:lnTo>
                  <a:lnTo>
                    <a:pt x="3184" y="5"/>
                  </a:lnTo>
                  <a:lnTo>
                    <a:pt x="3176" y="0"/>
                  </a:lnTo>
                  <a:lnTo>
                    <a:pt x="3167" y="2"/>
                  </a:lnTo>
                  <a:lnTo>
                    <a:pt x="3158" y="8"/>
                  </a:lnTo>
                  <a:lnTo>
                    <a:pt x="3149" y="14"/>
                  </a:lnTo>
                  <a:lnTo>
                    <a:pt x="3141" y="17"/>
                  </a:lnTo>
                  <a:lnTo>
                    <a:pt x="3132" y="23"/>
                  </a:lnTo>
                  <a:lnTo>
                    <a:pt x="3132" y="31"/>
                  </a:lnTo>
                  <a:lnTo>
                    <a:pt x="3123" y="25"/>
                  </a:lnTo>
                  <a:lnTo>
                    <a:pt x="3114" y="17"/>
                  </a:lnTo>
                  <a:lnTo>
                    <a:pt x="3106" y="14"/>
                  </a:lnTo>
                  <a:lnTo>
                    <a:pt x="3097" y="14"/>
                  </a:lnTo>
                  <a:lnTo>
                    <a:pt x="3088" y="14"/>
                  </a:lnTo>
                  <a:lnTo>
                    <a:pt x="3080" y="14"/>
                  </a:lnTo>
                  <a:lnTo>
                    <a:pt x="3071" y="14"/>
                  </a:lnTo>
                  <a:lnTo>
                    <a:pt x="3071" y="23"/>
                  </a:lnTo>
                  <a:lnTo>
                    <a:pt x="3071" y="31"/>
                  </a:lnTo>
                  <a:lnTo>
                    <a:pt x="3071" y="40"/>
                  </a:lnTo>
                  <a:lnTo>
                    <a:pt x="3068" y="48"/>
                  </a:lnTo>
                  <a:lnTo>
                    <a:pt x="3062" y="57"/>
                  </a:lnTo>
                  <a:lnTo>
                    <a:pt x="3059" y="66"/>
                  </a:lnTo>
                  <a:lnTo>
                    <a:pt x="3059" y="74"/>
                  </a:lnTo>
                  <a:lnTo>
                    <a:pt x="3059" y="83"/>
                  </a:lnTo>
                  <a:lnTo>
                    <a:pt x="3068" y="89"/>
                  </a:lnTo>
                  <a:lnTo>
                    <a:pt x="3077" y="92"/>
                  </a:lnTo>
                  <a:lnTo>
                    <a:pt x="3085" y="97"/>
                  </a:lnTo>
                  <a:lnTo>
                    <a:pt x="3097" y="103"/>
                  </a:lnTo>
                  <a:lnTo>
                    <a:pt x="3106" y="103"/>
                  </a:lnTo>
                  <a:lnTo>
                    <a:pt x="3114" y="103"/>
                  </a:lnTo>
                  <a:lnTo>
                    <a:pt x="3114" y="95"/>
                  </a:lnTo>
                  <a:lnTo>
                    <a:pt x="3123" y="95"/>
                  </a:lnTo>
                  <a:lnTo>
                    <a:pt x="3114" y="103"/>
                  </a:lnTo>
                  <a:lnTo>
                    <a:pt x="3106" y="103"/>
                  </a:lnTo>
                  <a:lnTo>
                    <a:pt x="3097" y="103"/>
                  </a:lnTo>
                  <a:lnTo>
                    <a:pt x="3088" y="109"/>
                  </a:lnTo>
                  <a:lnTo>
                    <a:pt x="3085" y="118"/>
                  </a:lnTo>
                  <a:lnTo>
                    <a:pt x="3085" y="126"/>
                  </a:lnTo>
                  <a:lnTo>
                    <a:pt x="3080" y="135"/>
                  </a:lnTo>
                  <a:lnTo>
                    <a:pt x="3088" y="138"/>
                  </a:lnTo>
                  <a:lnTo>
                    <a:pt x="3082" y="146"/>
                  </a:lnTo>
                  <a:lnTo>
                    <a:pt x="3080" y="155"/>
                  </a:lnTo>
                  <a:lnTo>
                    <a:pt x="3074" y="164"/>
                  </a:lnTo>
                  <a:lnTo>
                    <a:pt x="3074" y="172"/>
                  </a:lnTo>
                  <a:lnTo>
                    <a:pt x="3074" y="181"/>
                  </a:lnTo>
                  <a:lnTo>
                    <a:pt x="3074" y="190"/>
                  </a:lnTo>
                  <a:lnTo>
                    <a:pt x="3085" y="190"/>
                  </a:lnTo>
                  <a:lnTo>
                    <a:pt x="3094" y="190"/>
                  </a:lnTo>
                  <a:lnTo>
                    <a:pt x="3088" y="198"/>
                  </a:lnTo>
                  <a:lnTo>
                    <a:pt x="3080" y="204"/>
                  </a:lnTo>
                  <a:lnTo>
                    <a:pt x="3074" y="213"/>
                  </a:lnTo>
                  <a:lnTo>
                    <a:pt x="3071" y="221"/>
                  </a:lnTo>
                  <a:lnTo>
                    <a:pt x="3071" y="230"/>
                  </a:lnTo>
                  <a:lnTo>
                    <a:pt x="3071" y="239"/>
                  </a:lnTo>
                  <a:lnTo>
                    <a:pt x="3068" y="247"/>
                  </a:lnTo>
                  <a:lnTo>
                    <a:pt x="3062" y="256"/>
                  </a:lnTo>
                  <a:lnTo>
                    <a:pt x="3059" y="265"/>
                  </a:lnTo>
                  <a:lnTo>
                    <a:pt x="3059" y="273"/>
                  </a:lnTo>
                  <a:lnTo>
                    <a:pt x="3059" y="282"/>
                  </a:lnTo>
                  <a:lnTo>
                    <a:pt x="3059" y="291"/>
                  </a:lnTo>
                  <a:lnTo>
                    <a:pt x="3059" y="299"/>
                  </a:lnTo>
                  <a:lnTo>
                    <a:pt x="3059" y="311"/>
                  </a:lnTo>
                  <a:lnTo>
                    <a:pt x="3065" y="319"/>
                  </a:lnTo>
                  <a:lnTo>
                    <a:pt x="3074" y="325"/>
                  </a:lnTo>
                  <a:lnTo>
                    <a:pt x="3082" y="328"/>
                  </a:lnTo>
                  <a:lnTo>
                    <a:pt x="3082" y="337"/>
                  </a:lnTo>
                  <a:lnTo>
                    <a:pt x="3082" y="345"/>
                  </a:lnTo>
                  <a:lnTo>
                    <a:pt x="3085" y="354"/>
                  </a:lnTo>
                  <a:lnTo>
                    <a:pt x="3085" y="363"/>
                  </a:lnTo>
                  <a:lnTo>
                    <a:pt x="3088" y="371"/>
                  </a:lnTo>
                  <a:lnTo>
                    <a:pt x="3088" y="380"/>
                  </a:lnTo>
                  <a:lnTo>
                    <a:pt x="3091" y="389"/>
                  </a:lnTo>
                  <a:lnTo>
                    <a:pt x="3094" y="397"/>
                  </a:lnTo>
                  <a:lnTo>
                    <a:pt x="3097" y="406"/>
                  </a:lnTo>
                  <a:lnTo>
                    <a:pt x="3109" y="412"/>
                  </a:lnTo>
                  <a:lnTo>
                    <a:pt x="3117" y="412"/>
                  </a:lnTo>
                  <a:lnTo>
                    <a:pt x="3126" y="412"/>
                  </a:lnTo>
                  <a:lnTo>
                    <a:pt x="3135" y="412"/>
                  </a:lnTo>
                  <a:lnTo>
                    <a:pt x="3135" y="403"/>
                  </a:lnTo>
                  <a:lnTo>
                    <a:pt x="3138" y="394"/>
                  </a:lnTo>
                  <a:lnTo>
                    <a:pt x="3147" y="391"/>
                  </a:lnTo>
                  <a:lnTo>
                    <a:pt x="3155" y="391"/>
                  </a:lnTo>
                  <a:lnTo>
                    <a:pt x="3164" y="394"/>
                  </a:lnTo>
                  <a:lnTo>
                    <a:pt x="3167" y="403"/>
                  </a:lnTo>
                  <a:lnTo>
                    <a:pt x="3167" y="412"/>
                  </a:lnTo>
                  <a:lnTo>
                    <a:pt x="3164" y="420"/>
                  </a:lnTo>
                  <a:lnTo>
                    <a:pt x="3155" y="423"/>
                  </a:lnTo>
                  <a:lnTo>
                    <a:pt x="3152" y="432"/>
                  </a:lnTo>
                  <a:lnTo>
                    <a:pt x="3144" y="438"/>
                  </a:lnTo>
                  <a:lnTo>
                    <a:pt x="3138" y="429"/>
                  </a:lnTo>
                  <a:lnTo>
                    <a:pt x="3129" y="420"/>
                  </a:lnTo>
                  <a:lnTo>
                    <a:pt x="3120" y="420"/>
                  </a:lnTo>
                  <a:lnTo>
                    <a:pt x="3114" y="429"/>
                  </a:lnTo>
                  <a:lnTo>
                    <a:pt x="3114" y="438"/>
                  </a:lnTo>
                  <a:lnTo>
                    <a:pt x="3114" y="446"/>
                  </a:lnTo>
                  <a:lnTo>
                    <a:pt x="3123" y="452"/>
                  </a:lnTo>
                  <a:lnTo>
                    <a:pt x="3132" y="452"/>
                  </a:lnTo>
                  <a:lnTo>
                    <a:pt x="3141" y="452"/>
                  </a:lnTo>
                  <a:lnTo>
                    <a:pt x="3135" y="461"/>
                  </a:lnTo>
                  <a:lnTo>
                    <a:pt x="3138" y="469"/>
                  </a:lnTo>
                  <a:lnTo>
                    <a:pt x="3147" y="472"/>
                  </a:lnTo>
                  <a:lnTo>
                    <a:pt x="3147" y="463"/>
                  </a:lnTo>
                  <a:lnTo>
                    <a:pt x="3144" y="455"/>
                  </a:lnTo>
                  <a:lnTo>
                    <a:pt x="3144" y="466"/>
                  </a:lnTo>
                  <a:lnTo>
                    <a:pt x="3144" y="475"/>
                  </a:lnTo>
                  <a:lnTo>
                    <a:pt x="3144" y="484"/>
                  </a:lnTo>
                  <a:lnTo>
                    <a:pt x="3144" y="492"/>
                  </a:lnTo>
                  <a:lnTo>
                    <a:pt x="3144" y="501"/>
                  </a:lnTo>
                  <a:lnTo>
                    <a:pt x="3144" y="510"/>
                  </a:lnTo>
                  <a:lnTo>
                    <a:pt x="3152" y="518"/>
                  </a:lnTo>
                  <a:lnTo>
                    <a:pt x="3161" y="527"/>
                  </a:lnTo>
                  <a:lnTo>
                    <a:pt x="3167" y="538"/>
                  </a:lnTo>
                  <a:lnTo>
                    <a:pt x="3176" y="544"/>
                  </a:lnTo>
                  <a:lnTo>
                    <a:pt x="3184" y="550"/>
                  </a:lnTo>
                  <a:lnTo>
                    <a:pt x="3196" y="550"/>
                  </a:lnTo>
                  <a:lnTo>
                    <a:pt x="3205" y="550"/>
                  </a:lnTo>
                  <a:lnTo>
                    <a:pt x="3213" y="550"/>
                  </a:lnTo>
                  <a:lnTo>
                    <a:pt x="3205" y="550"/>
                  </a:lnTo>
                  <a:lnTo>
                    <a:pt x="3193" y="550"/>
                  </a:lnTo>
                  <a:lnTo>
                    <a:pt x="3184" y="553"/>
                  </a:lnTo>
                  <a:lnTo>
                    <a:pt x="3179" y="561"/>
                  </a:lnTo>
                  <a:lnTo>
                    <a:pt x="3176" y="570"/>
                  </a:lnTo>
                  <a:lnTo>
                    <a:pt x="3173" y="579"/>
                  </a:lnTo>
                  <a:lnTo>
                    <a:pt x="3164" y="582"/>
                  </a:lnTo>
                  <a:lnTo>
                    <a:pt x="3155" y="582"/>
                  </a:lnTo>
                  <a:lnTo>
                    <a:pt x="3147" y="582"/>
                  </a:lnTo>
                  <a:lnTo>
                    <a:pt x="3132" y="576"/>
                  </a:lnTo>
                  <a:lnTo>
                    <a:pt x="3120" y="576"/>
                  </a:lnTo>
                  <a:lnTo>
                    <a:pt x="3109" y="576"/>
                  </a:lnTo>
                  <a:lnTo>
                    <a:pt x="3103" y="585"/>
                  </a:lnTo>
                  <a:lnTo>
                    <a:pt x="3100" y="593"/>
                  </a:lnTo>
                  <a:lnTo>
                    <a:pt x="3100" y="602"/>
                  </a:lnTo>
                  <a:lnTo>
                    <a:pt x="3100" y="610"/>
                  </a:lnTo>
                  <a:lnTo>
                    <a:pt x="3100" y="619"/>
                  </a:lnTo>
                  <a:lnTo>
                    <a:pt x="3100" y="628"/>
                  </a:lnTo>
                  <a:lnTo>
                    <a:pt x="3103" y="636"/>
                  </a:lnTo>
                  <a:lnTo>
                    <a:pt x="3106" y="645"/>
                  </a:lnTo>
                  <a:lnTo>
                    <a:pt x="3112" y="654"/>
                  </a:lnTo>
                  <a:lnTo>
                    <a:pt x="3117" y="662"/>
                  </a:lnTo>
                  <a:lnTo>
                    <a:pt x="3120" y="671"/>
                  </a:lnTo>
                  <a:lnTo>
                    <a:pt x="3123" y="680"/>
                  </a:lnTo>
                  <a:lnTo>
                    <a:pt x="3123" y="688"/>
                  </a:lnTo>
                  <a:lnTo>
                    <a:pt x="3123" y="697"/>
                  </a:lnTo>
                  <a:lnTo>
                    <a:pt x="3123" y="706"/>
                  </a:lnTo>
                  <a:lnTo>
                    <a:pt x="3114" y="711"/>
                  </a:lnTo>
                  <a:lnTo>
                    <a:pt x="3106" y="720"/>
                  </a:lnTo>
                  <a:lnTo>
                    <a:pt x="3103" y="729"/>
                  </a:lnTo>
                  <a:lnTo>
                    <a:pt x="3103" y="737"/>
                  </a:lnTo>
                  <a:lnTo>
                    <a:pt x="3094" y="740"/>
                  </a:lnTo>
                  <a:lnTo>
                    <a:pt x="3085" y="743"/>
                  </a:lnTo>
                  <a:lnTo>
                    <a:pt x="3077" y="746"/>
                  </a:lnTo>
                  <a:lnTo>
                    <a:pt x="3068" y="746"/>
                  </a:lnTo>
                  <a:lnTo>
                    <a:pt x="3059" y="752"/>
                  </a:lnTo>
                  <a:lnTo>
                    <a:pt x="3050" y="760"/>
                  </a:lnTo>
                  <a:lnTo>
                    <a:pt x="3050" y="769"/>
                  </a:lnTo>
                  <a:lnTo>
                    <a:pt x="3050" y="778"/>
                  </a:lnTo>
                  <a:lnTo>
                    <a:pt x="3056" y="786"/>
                  </a:lnTo>
                  <a:lnTo>
                    <a:pt x="3065" y="789"/>
                  </a:lnTo>
                  <a:lnTo>
                    <a:pt x="3074" y="795"/>
                  </a:lnTo>
                  <a:lnTo>
                    <a:pt x="3074" y="804"/>
                  </a:lnTo>
                  <a:lnTo>
                    <a:pt x="3062" y="806"/>
                  </a:lnTo>
                  <a:lnTo>
                    <a:pt x="3050" y="806"/>
                  </a:lnTo>
                  <a:lnTo>
                    <a:pt x="3053" y="798"/>
                  </a:lnTo>
                  <a:lnTo>
                    <a:pt x="3045" y="792"/>
                  </a:lnTo>
                  <a:lnTo>
                    <a:pt x="3036" y="798"/>
                  </a:lnTo>
                  <a:lnTo>
                    <a:pt x="3036" y="809"/>
                  </a:lnTo>
                  <a:lnTo>
                    <a:pt x="3036" y="818"/>
                  </a:lnTo>
                  <a:lnTo>
                    <a:pt x="3033" y="827"/>
                  </a:lnTo>
                  <a:lnTo>
                    <a:pt x="3030" y="835"/>
                  </a:lnTo>
                  <a:lnTo>
                    <a:pt x="3024" y="844"/>
                  </a:lnTo>
                  <a:lnTo>
                    <a:pt x="3016" y="853"/>
                  </a:lnTo>
                  <a:lnTo>
                    <a:pt x="3013" y="861"/>
                  </a:lnTo>
                  <a:lnTo>
                    <a:pt x="3021" y="864"/>
                  </a:lnTo>
                  <a:lnTo>
                    <a:pt x="3030" y="864"/>
                  </a:lnTo>
                  <a:lnTo>
                    <a:pt x="3033" y="873"/>
                  </a:lnTo>
                  <a:lnTo>
                    <a:pt x="3033" y="881"/>
                  </a:lnTo>
                  <a:lnTo>
                    <a:pt x="3042" y="890"/>
                  </a:lnTo>
                  <a:lnTo>
                    <a:pt x="3050" y="893"/>
                  </a:lnTo>
                  <a:lnTo>
                    <a:pt x="3062" y="893"/>
                  </a:lnTo>
                  <a:lnTo>
                    <a:pt x="3071" y="887"/>
                  </a:lnTo>
                  <a:lnTo>
                    <a:pt x="3080" y="887"/>
                  </a:lnTo>
                  <a:lnTo>
                    <a:pt x="3088" y="887"/>
                  </a:lnTo>
                  <a:lnTo>
                    <a:pt x="3085" y="896"/>
                  </a:lnTo>
                  <a:lnTo>
                    <a:pt x="3082" y="904"/>
                  </a:lnTo>
                  <a:lnTo>
                    <a:pt x="3080" y="913"/>
                  </a:lnTo>
                  <a:lnTo>
                    <a:pt x="3088" y="919"/>
                  </a:lnTo>
                  <a:lnTo>
                    <a:pt x="3088" y="927"/>
                  </a:lnTo>
                  <a:lnTo>
                    <a:pt x="3080" y="933"/>
                  </a:lnTo>
                  <a:lnTo>
                    <a:pt x="3077" y="942"/>
                  </a:lnTo>
                  <a:lnTo>
                    <a:pt x="3077" y="950"/>
                  </a:lnTo>
                  <a:lnTo>
                    <a:pt x="3074" y="959"/>
                  </a:lnTo>
                  <a:lnTo>
                    <a:pt x="3074" y="968"/>
                  </a:lnTo>
                  <a:lnTo>
                    <a:pt x="3077" y="959"/>
                  </a:lnTo>
                  <a:lnTo>
                    <a:pt x="3065" y="942"/>
                  </a:lnTo>
                  <a:lnTo>
                    <a:pt x="3071" y="962"/>
                  </a:lnTo>
                  <a:lnTo>
                    <a:pt x="3062" y="962"/>
                  </a:lnTo>
                  <a:lnTo>
                    <a:pt x="3074" y="968"/>
                  </a:lnTo>
                  <a:lnTo>
                    <a:pt x="3074" y="976"/>
                  </a:lnTo>
                  <a:lnTo>
                    <a:pt x="3059" y="976"/>
                  </a:lnTo>
                  <a:lnTo>
                    <a:pt x="3050" y="979"/>
                  </a:lnTo>
                  <a:lnTo>
                    <a:pt x="3039" y="979"/>
                  </a:lnTo>
                  <a:lnTo>
                    <a:pt x="3039" y="988"/>
                  </a:lnTo>
                  <a:lnTo>
                    <a:pt x="3048" y="991"/>
                  </a:lnTo>
                  <a:lnTo>
                    <a:pt x="3056" y="991"/>
                  </a:lnTo>
                  <a:lnTo>
                    <a:pt x="3065" y="997"/>
                  </a:lnTo>
                  <a:lnTo>
                    <a:pt x="3074" y="1005"/>
                  </a:lnTo>
                  <a:lnTo>
                    <a:pt x="3077" y="1014"/>
                  </a:lnTo>
                  <a:lnTo>
                    <a:pt x="3082" y="1023"/>
                  </a:lnTo>
                  <a:lnTo>
                    <a:pt x="3088" y="1031"/>
                  </a:lnTo>
                  <a:lnTo>
                    <a:pt x="3080" y="1034"/>
                  </a:lnTo>
                  <a:lnTo>
                    <a:pt x="3071" y="1034"/>
                  </a:lnTo>
                  <a:lnTo>
                    <a:pt x="3062" y="1040"/>
                  </a:lnTo>
                  <a:lnTo>
                    <a:pt x="3050" y="1043"/>
                  </a:lnTo>
                  <a:lnTo>
                    <a:pt x="3039" y="1046"/>
                  </a:lnTo>
                  <a:lnTo>
                    <a:pt x="3030" y="1046"/>
                  </a:lnTo>
                  <a:lnTo>
                    <a:pt x="3018" y="1046"/>
                  </a:lnTo>
                  <a:lnTo>
                    <a:pt x="3010" y="1037"/>
                  </a:lnTo>
                  <a:lnTo>
                    <a:pt x="3007" y="1028"/>
                  </a:lnTo>
                  <a:lnTo>
                    <a:pt x="3010" y="1020"/>
                  </a:lnTo>
                  <a:lnTo>
                    <a:pt x="3013" y="1011"/>
                  </a:lnTo>
                  <a:lnTo>
                    <a:pt x="3004" y="1011"/>
                  </a:lnTo>
                  <a:lnTo>
                    <a:pt x="2992" y="1008"/>
                  </a:lnTo>
                  <a:lnTo>
                    <a:pt x="2983" y="1008"/>
                  </a:lnTo>
                  <a:lnTo>
                    <a:pt x="2978" y="1017"/>
                  </a:lnTo>
                  <a:lnTo>
                    <a:pt x="2978" y="1025"/>
                  </a:lnTo>
                  <a:lnTo>
                    <a:pt x="2983" y="1034"/>
                  </a:lnTo>
                  <a:lnTo>
                    <a:pt x="2989" y="1043"/>
                  </a:lnTo>
                  <a:lnTo>
                    <a:pt x="2992" y="1051"/>
                  </a:lnTo>
                  <a:lnTo>
                    <a:pt x="3001" y="1054"/>
                  </a:lnTo>
                  <a:lnTo>
                    <a:pt x="3010" y="1060"/>
                  </a:lnTo>
                  <a:lnTo>
                    <a:pt x="3018" y="1063"/>
                  </a:lnTo>
                  <a:lnTo>
                    <a:pt x="3027" y="1063"/>
                  </a:lnTo>
                  <a:lnTo>
                    <a:pt x="3036" y="1060"/>
                  </a:lnTo>
                  <a:lnTo>
                    <a:pt x="3027" y="1060"/>
                  </a:lnTo>
                  <a:lnTo>
                    <a:pt x="3018" y="1057"/>
                  </a:lnTo>
                  <a:lnTo>
                    <a:pt x="3010" y="1054"/>
                  </a:lnTo>
                  <a:lnTo>
                    <a:pt x="3004" y="1046"/>
                  </a:lnTo>
                  <a:lnTo>
                    <a:pt x="2995" y="1040"/>
                  </a:lnTo>
                  <a:lnTo>
                    <a:pt x="2992" y="1031"/>
                  </a:lnTo>
                  <a:lnTo>
                    <a:pt x="2983" y="1023"/>
                  </a:lnTo>
                  <a:lnTo>
                    <a:pt x="2978" y="1014"/>
                  </a:lnTo>
                  <a:lnTo>
                    <a:pt x="2969" y="1005"/>
                  </a:lnTo>
                  <a:lnTo>
                    <a:pt x="2966" y="1014"/>
                  </a:lnTo>
                  <a:lnTo>
                    <a:pt x="2954" y="1023"/>
                  </a:lnTo>
                  <a:lnTo>
                    <a:pt x="2946" y="1023"/>
                  </a:lnTo>
                  <a:lnTo>
                    <a:pt x="2943" y="1034"/>
                  </a:lnTo>
                  <a:lnTo>
                    <a:pt x="2943" y="1043"/>
                  </a:lnTo>
                  <a:lnTo>
                    <a:pt x="2951" y="1051"/>
                  </a:lnTo>
                  <a:lnTo>
                    <a:pt x="2963" y="1051"/>
                  </a:lnTo>
                  <a:lnTo>
                    <a:pt x="2975" y="1054"/>
                  </a:lnTo>
                  <a:lnTo>
                    <a:pt x="2963" y="1051"/>
                  </a:lnTo>
                  <a:lnTo>
                    <a:pt x="2951" y="1046"/>
                  </a:lnTo>
                  <a:lnTo>
                    <a:pt x="2943" y="1043"/>
                  </a:lnTo>
                  <a:lnTo>
                    <a:pt x="2934" y="1051"/>
                  </a:lnTo>
                  <a:lnTo>
                    <a:pt x="2928" y="1060"/>
                  </a:lnTo>
                  <a:lnTo>
                    <a:pt x="2919" y="1060"/>
                  </a:lnTo>
                  <a:lnTo>
                    <a:pt x="2919" y="1069"/>
                  </a:lnTo>
                  <a:lnTo>
                    <a:pt x="2931" y="1077"/>
                  </a:lnTo>
                  <a:lnTo>
                    <a:pt x="2943" y="1086"/>
                  </a:lnTo>
                  <a:lnTo>
                    <a:pt x="2951" y="1089"/>
                  </a:lnTo>
                  <a:lnTo>
                    <a:pt x="2960" y="1089"/>
                  </a:lnTo>
                  <a:lnTo>
                    <a:pt x="2969" y="1089"/>
                  </a:lnTo>
                  <a:lnTo>
                    <a:pt x="2972" y="1080"/>
                  </a:lnTo>
                  <a:lnTo>
                    <a:pt x="2975" y="1072"/>
                  </a:lnTo>
                  <a:lnTo>
                    <a:pt x="2975" y="1063"/>
                  </a:lnTo>
                  <a:lnTo>
                    <a:pt x="2978" y="1054"/>
                  </a:lnTo>
                  <a:lnTo>
                    <a:pt x="2981" y="1063"/>
                  </a:lnTo>
                  <a:lnTo>
                    <a:pt x="2981" y="1072"/>
                  </a:lnTo>
                  <a:lnTo>
                    <a:pt x="2975" y="1080"/>
                  </a:lnTo>
                  <a:lnTo>
                    <a:pt x="2969" y="1089"/>
                  </a:lnTo>
                  <a:lnTo>
                    <a:pt x="2957" y="1089"/>
                  </a:lnTo>
                  <a:lnTo>
                    <a:pt x="2949" y="1089"/>
                  </a:lnTo>
                  <a:lnTo>
                    <a:pt x="2940" y="1097"/>
                  </a:lnTo>
                  <a:lnTo>
                    <a:pt x="2937" y="1106"/>
                  </a:lnTo>
                  <a:lnTo>
                    <a:pt x="2934" y="1115"/>
                  </a:lnTo>
                  <a:lnTo>
                    <a:pt x="2934" y="1123"/>
                  </a:lnTo>
                  <a:lnTo>
                    <a:pt x="2925" y="1129"/>
                  </a:lnTo>
                  <a:lnTo>
                    <a:pt x="2917" y="1135"/>
                  </a:lnTo>
                  <a:lnTo>
                    <a:pt x="2908" y="1138"/>
                  </a:lnTo>
                  <a:lnTo>
                    <a:pt x="2899" y="1138"/>
                  </a:lnTo>
                  <a:lnTo>
                    <a:pt x="2893" y="1129"/>
                  </a:lnTo>
                  <a:lnTo>
                    <a:pt x="2884" y="1129"/>
                  </a:lnTo>
                  <a:lnTo>
                    <a:pt x="2876" y="1129"/>
                  </a:lnTo>
                  <a:lnTo>
                    <a:pt x="2867" y="1135"/>
                  </a:lnTo>
                  <a:lnTo>
                    <a:pt x="2864" y="1144"/>
                  </a:lnTo>
                  <a:lnTo>
                    <a:pt x="2861" y="1152"/>
                  </a:lnTo>
                  <a:lnTo>
                    <a:pt x="2861" y="1161"/>
                  </a:lnTo>
                  <a:lnTo>
                    <a:pt x="2858" y="1170"/>
                  </a:lnTo>
                  <a:lnTo>
                    <a:pt x="2852" y="1178"/>
                  </a:lnTo>
                  <a:lnTo>
                    <a:pt x="2844" y="1181"/>
                  </a:lnTo>
                  <a:lnTo>
                    <a:pt x="2835" y="1181"/>
                  </a:lnTo>
                  <a:lnTo>
                    <a:pt x="2826" y="1184"/>
                  </a:lnTo>
                  <a:lnTo>
                    <a:pt x="2818" y="1175"/>
                  </a:lnTo>
                  <a:lnTo>
                    <a:pt x="2809" y="1167"/>
                  </a:lnTo>
                  <a:lnTo>
                    <a:pt x="2806" y="1175"/>
                  </a:lnTo>
                  <a:lnTo>
                    <a:pt x="2806" y="1184"/>
                  </a:lnTo>
                  <a:lnTo>
                    <a:pt x="2806" y="1193"/>
                  </a:lnTo>
                  <a:lnTo>
                    <a:pt x="2806" y="1204"/>
                  </a:lnTo>
                  <a:lnTo>
                    <a:pt x="2806" y="1213"/>
                  </a:lnTo>
                  <a:lnTo>
                    <a:pt x="2815" y="1213"/>
                  </a:lnTo>
                  <a:lnTo>
                    <a:pt x="2823" y="1216"/>
                  </a:lnTo>
                  <a:lnTo>
                    <a:pt x="2826" y="1224"/>
                  </a:lnTo>
                  <a:lnTo>
                    <a:pt x="2826" y="1233"/>
                  </a:lnTo>
                  <a:lnTo>
                    <a:pt x="2826" y="1242"/>
                  </a:lnTo>
                  <a:lnTo>
                    <a:pt x="2823" y="1250"/>
                  </a:lnTo>
                  <a:lnTo>
                    <a:pt x="2815" y="1253"/>
                  </a:lnTo>
                  <a:lnTo>
                    <a:pt x="2809" y="1262"/>
                  </a:lnTo>
                  <a:lnTo>
                    <a:pt x="2809" y="1270"/>
                  </a:lnTo>
                  <a:lnTo>
                    <a:pt x="2809" y="1279"/>
                  </a:lnTo>
                  <a:lnTo>
                    <a:pt x="2809" y="1288"/>
                  </a:lnTo>
                  <a:lnTo>
                    <a:pt x="2809" y="1279"/>
                  </a:lnTo>
                  <a:lnTo>
                    <a:pt x="2806" y="1270"/>
                  </a:lnTo>
                  <a:lnTo>
                    <a:pt x="2806" y="1262"/>
                  </a:lnTo>
                  <a:lnTo>
                    <a:pt x="2800" y="1253"/>
                  </a:lnTo>
                  <a:lnTo>
                    <a:pt x="2797" y="1244"/>
                  </a:lnTo>
                  <a:lnTo>
                    <a:pt x="2794" y="1236"/>
                  </a:lnTo>
                  <a:lnTo>
                    <a:pt x="2794" y="1227"/>
                  </a:lnTo>
                  <a:lnTo>
                    <a:pt x="2794" y="1218"/>
                  </a:lnTo>
                  <a:lnTo>
                    <a:pt x="2800" y="1210"/>
                  </a:lnTo>
                  <a:lnTo>
                    <a:pt x="2803" y="1201"/>
                  </a:lnTo>
                  <a:lnTo>
                    <a:pt x="2800" y="1193"/>
                  </a:lnTo>
                  <a:lnTo>
                    <a:pt x="2791" y="1187"/>
                  </a:lnTo>
                  <a:lnTo>
                    <a:pt x="2788" y="1178"/>
                  </a:lnTo>
                  <a:lnTo>
                    <a:pt x="2788" y="1170"/>
                  </a:lnTo>
                  <a:lnTo>
                    <a:pt x="2788" y="1161"/>
                  </a:lnTo>
                  <a:lnTo>
                    <a:pt x="2788" y="1152"/>
                  </a:lnTo>
                  <a:lnTo>
                    <a:pt x="2786" y="1144"/>
                  </a:lnTo>
                  <a:lnTo>
                    <a:pt x="2786" y="1135"/>
                  </a:lnTo>
                  <a:lnTo>
                    <a:pt x="2780" y="1126"/>
                  </a:lnTo>
                  <a:lnTo>
                    <a:pt x="2768" y="1121"/>
                  </a:lnTo>
                  <a:lnTo>
                    <a:pt x="2759" y="1115"/>
                  </a:lnTo>
                  <a:lnTo>
                    <a:pt x="2748" y="1112"/>
                  </a:lnTo>
                  <a:lnTo>
                    <a:pt x="2736" y="1109"/>
                  </a:lnTo>
                  <a:lnTo>
                    <a:pt x="2724" y="1106"/>
                  </a:lnTo>
                  <a:lnTo>
                    <a:pt x="2716" y="1106"/>
                  </a:lnTo>
                  <a:lnTo>
                    <a:pt x="2710" y="1115"/>
                  </a:lnTo>
                  <a:lnTo>
                    <a:pt x="2704" y="1123"/>
                  </a:lnTo>
                  <a:lnTo>
                    <a:pt x="2698" y="1132"/>
                  </a:lnTo>
                  <a:lnTo>
                    <a:pt x="2692" y="1126"/>
                  </a:lnTo>
                  <a:lnTo>
                    <a:pt x="2695" y="1112"/>
                  </a:lnTo>
                  <a:lnTo>
                    <a:pt x="2695" y="1121"/>
                  </a:lnTo>
                  <a:lnTo>
                    <a:pt x="2692" y="1129"/>
                  </a:lnTo>
                  <a:lnTo>
                    <a:pt x="2692" y="1138"/>
                  </a:lnTo>
                  <a:lnTo>
                    <a:pt x="2687" y="1146"/>
                  </a:lnTo>
                  <a:lnTo>
                    <a:pt x="2687" y="1155"/>
                  </a:lnTo>
                  <a:lnTo>
                    <a:pt x="2687" y="1164"/>
                  </a:lnTo>
                  <a:lnTo>
                    <a:pt x="2678" y="1167"/>
                  </a:lnTo>
                  <a:lnTo>
                    <a:pt x="2669" y="1167"/>
                  </a:lnTo>
                  <a:lnTo>
                    <a:pt x="2666" y="1158"/>
                  </a:lnTo>
                  <a:lnTo>
                    <a:pt x="2666" y="1149"/>
                  </a:lnTo>
                  <a:lnTo>
                    <a:pt x="2657" y="1146"/>
                  </a:lnTo>
                  <a:lnTo>
                    <a:pt x="2649" y="1152"/>
                  </a:lnTo>
                  <a:lnTo>
                    <a:pt x="2646" y="1141"/>
                  </a:lnTo>
                  <a:lnTo>
                    <a:pt x="2634" y="1135"/>
                  </a:lnTo>
                  <a:lnTo>
                    <a:pt x="2625" y="1135"/>
                  </a:lnTo>
                  <a:lnTo>
                    <a:pt x="2617" y="1135"/>
                  </a:lnTo>
                  <a:lnTo>
                    <a:pt x="2614" y="1144"/>
                  </a:lnTo>
                  <a:lnTo>
                    <a:pt x="2614" y="1152"/>
                  </a:lnTo>
                  <a:lnTo>
                    <a:pt x="2614" y="1161"/>
                  </a:lnTo>
                  <a:lnTo>
                    <a:pt x="2617" y="1170"/>
                  </a:lnTo>
                  <a:lnTo>
                    <a:pt x="2617" y="1178"/>
                  </a:lnTo>
                  <a:lnTo>
                    <a:pt x="2620" y="1187"/>
                  </a:lnTo>
                  <a:lnTo>
                    <a:pt x="2625" y="1195"/>
                  </a:lnTo>
                  <a:lnTo>
                    <a:pt x="2634" y="1201"/>
                  </a:lnTo>
                  <a:lnTo>
                    <a:pt x="2643" y="1201"/>
                  </a:lnTo>
                  <a:lnTo>
                    <a:pt x="2652" y="1201"/>
                  </a:lnTo>
                  <a:lnTo>
                    <a:pt x="2643" y="1201"/>
                  </a:lnTo>
                  <a:lnTo>
                    <a:pt x="2634" y="1207"/>
                  </a:lnTo>
                  <a:lnTo>
                    <a:pt x="2625" y="1216"/>
                  </a:lnTo>
                  <a:lnTo>
                    <a:pt x="2625" y="1224"/>
                  </a:lnTo>
                  <a:lnTo>
                    <a:pt x="2634" y="1224"/>
                  </a:lnTo>
                  <a:lnTo>
                    <a:pt x="2643" y="1230"/>
                  </a:lnTo>
                  <a:lnTo>
                    <a:pt x="2646" y="1242"/>
                  </a:lnTo>
                  <a:lnTo>
                    <a:pt x="2652" y="1253"/>
                  </a:lnTo>
                  <a:lnTo>
                    <a:pt x="2660" y="1259"/>
                  </a:lnTo>
                  <a:lnTo>
                    <a:pt x="2672" y="1265"/>
                  </a:lnTo>
                  <a:lnTo>
                    <a:pt x="2663" y="1262"/>
                  </a:lnTo>
                  <a:lnTo>
                    <a:pt x="2655" y="1256"/>
                  </a:lnTo>
                  <a:lnTo>
                    <a:pt x="2663" y="1250"/>
                  </a:lnTo>
                  <a:lnTo>
                    <a:pt x="2672" y="1250"/>
                  </a:lnTo>
                  <a:lnTo>
                    <a:pt x="2681" y="1253"/>
                  </a:lnTo>
                  <a:lnTo>
                    <a:pt x="2669" y="1256"/>
                  </a:lnTo>
                  <a:lnTo>
                    <a:pt x="2655" y="1256"/>
                  </a:lnTo>
                  <a:lnTo>
                    <a:pt x="2646" y="1247"/>
                  </a:lnTo>
                  <a:lnTo>
                    <a:pt x="2643" y="1236"/>
                  </a:lnTo>
                  <a:lnTo>
                    <a:pt x="2640" y="1227"/>
                  </a:lnTo>
                  <a:lnTo>
                    <a:pt x="2631" y="1227"/>
                  </a:lnTo>
                  <a:lnTo>
                    <a:pt x="2625" y="1236"/>
                  </a:lnTo>
                  <a:lnTo>
                    <a:pt x="2625" y="1247"/>
                  </a:lnTo>
                  <a:lnTo>
                    <a:pt x="2625" y="1259"/>
                  </a:lnTo>
                  <a:lnTo>
                    <a:pt x="2617" y="1259"/>
                  </a:lnTo>
                  <a:lnTo>
                    <a:pt x="2608" y="1256"/>
                  </a:lnTo>
                  <a:lnTo>
                    <a:pt x="2605" y="1247"/>
                  </a:lnTo>
                  <a:lnTo>
                    <a:pt x="2596" y="1253"/>
                  </a:lnTo>
                  <a:lnTo>
                    <a:pt x="2588" y="1262"/>
                  </a:lnTo>
                  <a:lnTo>
                    <a:pt x="2582" y="1270"/>
                  </a:lnTo>
                  <a:lnTo>
                    <a:pt x="2582" y="1279"/>
                  </a:lnTo>
                  <a:lnTo>
                    <a:pt x="2582" y="1288"/>
                  </a:lnTo>
                  <a:lnTo>
                    <a:pt x="2576" y="1296"/>
                  </a:lnTo>
                  <a:lnTo>
                    <a:pt x="2573" y="1305"/>
                  </a:lnTo>
                  <a:lnTo>
                    <a:pt x="2567" y="1314"/>
                  </a:lnTo>
                  <a:lnTo>
                    <a:pt x="2553" y="1311"/>
                  </a:lnTo>
                  <a:lnTo>
                    <a:pt x="2567" y="1305"/>
                  </a:lnTo>
                  <a:lnTo>
                    <a:pt x="2561" y="1314"/>
                  </a:lnTo>
                  <a:lnTo>
                    <a:pt x="2558" y="1322"/>
                  </a:lnTo>
                  <a:lnTo>
                    <a:pt x="2558" y="1331"/>
                  </a:lnTo>
                  <a:lnTo>
                    <a:pt x="2558" y="1340"/>
                  </a:lnTo>
                  <a:lnTo>
                    <a:pt x="2558" y="1348"/>
                  </a:lnTo>
                  <a:lnTo>
                    <a:pt x="2558" y="1360"/>
                  </a:lnTo>
                  <a:lnTo>
                    <a:pt x="2558" y="1368"/>
                  </a:lnTo>
                  <a:lnTo>
                    <a:pt x="2550" y="1380"/>
                  </a:lnTo>
                  <a:lnTo>
                    <a:pt x="2547" y="1389"/>
                  </a:lnTo>
                  <a:lnTo>
                    <a:pt x="2544" y="1397"/>
                  </a:lnTo>
                  <a:lnTo>
                    <a:pt x="2538" y="1406"/>
                  </a:lnTo>
                  <a:lnTo>
                    <a:pt x="2529" y="1412"/>
                  </a:lnTo>
                  <a:lnTo>
                    <a:pt x="2538" y="1414"/>
                  </a:lnTo>
                  <a:lnTo>
                    <a:pt x="2547" y="1414"/>
                  </a:lnTo>
                  <a:lnTo>
                    <a:pt x="2553" y="1406"/>
                  </a:lnTo>
                  <a:lnTo>
                    <a:pt x="2553" y="1397"/>
                  </a:lnTo>
                  <a:lnTo>
                    <a:pt x="2561" y="1391"/>
                  </a:lnTo>
                  <a:lnTo>
                    <a:pt x="2567" y="1400"/>
                  </a:lnTo>
                  <a:lnTo>
                    <a:pt x="2567" y="1412"/>
                  </a:lnTo>
                  <a:lnTo>
                    <a:pt x="2570" y="1420"/>
                  </a:lnTo>
                  <a:lnTo>
                    <a:pt x="2579" y="1429"/>
                  </a:lnTo>
                  <a:lnTo>
                    <a:pt x="2588" y="1435"/>
                  </a:lnTo>
                  <a:lnTo>
                    <a:pt x="2599" y="1435"/>
                  </a:lnTo>
                  <a:lnTo>
                    <a:pt x="2593" y="1426"/>
                  </a:lnTo>
                  <a:lnTo>
                    <a:pt x="2585" y="1417"/>
                  </a:lnTo>
                  <a:lnTo>
                    <a:pt x="2582" y="1406"/>
                  </a:lnTo>
                  <a:lnTo>
                    <a:pt x="2579" y="1397"/>
                  </a:lnTo>
                  <a:lnTo>
                    <a:pt x="2573" y="1406"/>
                  </a:lnTo>
                  <a:lnTo>
                    <a:pt x="2570" y="1414"/>
                  </a:lnTo>
                  <a:lnTo>
                    <a:pt x="2561" y="1426"/>
                  </a:lnTo>
                  <a:lnTo>
                    <a:pt x="2553" y="1432"/>
                  </a:lnTo>
                  <a:lnTo>
                    <a:pt x="2544" y="1432"/>
                  </a:lnTo>
                  <a:lnTo>
                    <a:pt x="2535" y="1432"/>
                  </a:lnTo>
                  <a:lnTo>
                    <a:pt x="2526" y="1432"/>
                  </a:lnTo>
                  <a:lnTo>
                    <a:pt x="2515" y="1438"/>
                  </a:lnTo>
                  <a:lnTo>
                    <a:pt x="2506" y="1443"/>
                  </a:lnTo>
                  <a:lnTo>
                    <a:pt x="2503" y="1452"/>
                  </a:lnTo>
                  <a:lnTo>
                    <a:pt x="2509" y="1461"/>
                  </a:lnTo>
                  <a:lnTo>
                    <a:pt x="2515" y="1472"/>
                  </a:lnTo>
                  <a:lnTo>
                    <a:pt x="2521" y="1484"/>
                  </a:lnTo>
                  <a:lnTo>
                    <a:pt x="2529" y="1489"/>
                  </a:lnTo>
                  <a:lnTo>
                    <a:pt x="2538" y="1495"/>
                  </a:lnTo>
                  <a:lnTo>
                    <a:pt x="2544" y="1504"/>
                  </a:lnTo>
                  <a:lnTo>
                    <a:pt x="2553" y="1507"/>
                  </a:lnTo>
                  <a:lnTo>
                    <a:pt x="2561" y="1507"/>
                  </a:lnTo>
                  <a:lnTo>
                    <a:pt x="2570" y="1510"/>
                  </a:lnTo>
                  <a:lnTo>
                    <a:pt x="2576" y="1518"/>
                  </a:lnTo>
                  <a:lnTo>
                    <a:pt x="2585" y="1527"/>
                  </a:lnTo>
                  <a:lnTo>
                    <a:pt x="2588" y="1535"/>
                  </a:lnTo>
                  <a:lnTo>
                    <a:pt x="2588" y="1544"/>
                  </a:lnTo>
                  <a:lnTo>
                    <a:pt x="2588" y="1556"/>
                  </a:lnTo>
                  <a:lnTo>
                    <a:pt x="2590" y="1564"/>
                  </a:lnTo>
                  <a:lnTo>
                    <a:pt x="2599" y="1564"/>
                  </a:lnTo>
                  <a:lnTo>
                    <a:pt x="2614" y="1567"/>
                  </a:lnTo>
                  <a:lnTo>
                    <a:pt x="2617" y="1576"/>
                  </a:lnTo>
                  <a:lnTo>
                    <a:pt x="2617" y="1584"/>
                  </a:lnTo>
                  <a:lnTo>
                    <a:pt x="2608" y="1587"/>
                  </a:lnTo>
                  <a:lnTo>
                    <a:pt x="2596" y="1579"/>
                  </a:lnTo>
                  <a:lnTo>
                    <a:pt x="2588" y="1570"/>
                  </a:lnTo>
                  <a:lnTo>
                    <a:pt x="2582" y="1561"/>
                  </a:lnTo>
                  <a:lnTo>
                    <a:pt x="2582" y="1553"/>
                  </a:lnTo>
                  <a:lnTo>
                    <a:pt x="2582" y="1541"/>
                  </a:lnTo>
                  <a:lnTo>
                    <a:pt x="2579" y="1533"/>
                  </a:lnTo>
                  <a:lnTo>
                    <a:pt x="2573" y="1524"/>
                  </a:lnTo>
                  <a:lnTo>
                    <a:pt x="2564" y="1515"/>
                  </a:lnTo>
                  <a:lnTo>
                    <a:pt x="2556" y="1512"/>
                  </a:lnTo>
                  <a:lnTo>
                    <a:pt x="2550" y="1521"/>
                  </a:lnTo>
                  <a:lnTo>
                    <a:pt x="2541" y="1521"/>
                  </a:lnTo>
                  <a:lnTo>
                    <a:pt x="2532" y="1515"/>
                  </a:lnTo>
                  <a:lnTo>
                    <a:pt x="2524" y="1510"/>
                  </a:lnTo>
                  <a:lnTo>
                    <a:pt x="2515" y="1507"/>
                  </a:lnTo>
                  <a:lnTo>
                    <a:pt x="2506" y="1504"/>
                  </a:lnTo>
                  <a:lnTo>
                    <a:pt x="2497" y="1504"/>
                  </a:lnTo>
                  <a:lnTo>
                    <a:pt x="2489" y="1504"/>
                  </a:lnTo>
                  <a:lnTo>
                    <a:pt x="2486" y="1512"/>
                  </a:lnTo>
                  <a:lnTo>
                    <a:pt x="2486" y="1521"/>
                  </a:lnTo>
                  <a:lnTo>
                    <a:pt x="2491" y="1530"/>
                  </a:lnTo>
                  <a:lnTo>
                    <a:pt x="2486" y="1538"/>
                  </a:lnTo>
                  <a:lnTo>
                    <a:pt x="2477" y="1538"/>
                  </a:lnTo>
                  <a:lnTo>
                    <a:pt x="2474" y="1547"/>
                  </a:lnTo>
                  <a:lnTo>
                    <a:pt x="2489" y="1550"/>
                  </a:lnTo>
                  <a:lnTo>
                    <a:pt x="2497" y="1553"/>
                  </a:lnTo>
                  <a:lnTo>
                    <a:pt x="2506" y="1553"/>
                  </a:lnTo>
                  <a:lnTo>
                    <a:pt x="2515" y="1559"/>
                  </a:lnTo>
                  <a:lnTo>
                    <a:pt x="2521" y="1570"/>
                  </a:lnTo>
                  <a:lnTo>
                    <a:pt x="2529" y="1576"/>
                  </a:lnTo>
                  <a:lnTo>
                    <a:pt x="2521" y="1567"/>
                  </a:lnTo>
                  <a:lnTo>
                    <a:pt x="2509" y="1561"/>
                  </a:lnTo>
                  <a:lnTo>
                    <a:pt x="2500" y="1559"/>
                  </a:lnTo>
                  <a:lnTo>
                    <a:pt x="2491" y="1567"/>
                  </a:lnTo>
                  <a:lnTo>
                    <a:pt x="2483" y="1570"/>
                  </a:lnTo>
                  <a:lnTo>
                    <a:pt x="2474" y="1570"/>
                  </a:lnTo>
                  <a:lnTo>
                    <a:pt x="2471" y="1561"/>
                  </a:lnTo>
                  <a:lnTo>
                    <a:pt x="2471" y="1553"/>
                  </a:lnTo>
                  <a:lnTo>
                    <a:pt x="2465" y="1544"/>
                  </a:lnTo>
                  <a:lnTo>
                    <a:pt x="2462" y="1535"/>
                  </a:lnTo>
                  <a:lnTo>
                    <a:pt x="2459" y="1524"/>
                  </a:lnTo>
                  <a:lnTo>
                    <a:pt x="2457" y="1515"/>
                  </a:lnTo>
                  <a:lnTo>
                    <a:pt x="2448" y="1510"/>
                  </a:lnTo>
                  <a:lnTo>
                    <a:pt x="2439" y="1504"/>
                  </a:lnTo>
                  <a:lnTo>
                    <a:pt x="2439" y="1512"/>
                  </a:lnTo>
                  <a:lnTo>
                    <a:pt x="2439" y="1521"/>
                  </a:lnTo>
                  <a:lnTo>
                    <a:pt x="2439" y="1530"/>
                  </a:lnTo>
                  <a:lnTo>
                    <a:pt x="2439" y="1538"/>
                  </a:lnTo>
                  <a:lnTo>
                    <a:pt x="2439" y="1547"/>
                  </a:lnTo>
                  <a:lnTo>
                    <a:pt x="2439" y="1556"/>
                  </a:lnTo>
                  <a:lnTo>
                    <a:pt x="2442" y="1564"/>
                  </a:lnTo>
                  <a:lnTo>
                    <a:pt x="2436" y="1573"/>
                  </a:lnTo>
                  <a:lnTo>
                    <a:pt x="2433" y="1582"/>
                  </a:lnTo>
                  <a:lnTo>
                    <a:pt x="2430" y="1590"/>
                  </a:lnTo>
                  <a:lnTo>
                    <a:pt x="2433" y="1599"/>
                  </a:lnTo>
                  <a:lnTo>
                    <a:pt x="2442" y="1602"/>
                  </a:lnTo>
                  <a:lnTo>
                    <a:pt x="2451" y="1605"/>
                  </a:lnTo>
                  <a:lnTo>
                    <a:pt x="2459" y="1608"/>
                  </a:lnTo>
                  <a:lnTo>
                    <a:pt x="2465" y="1616"/>
                  </a:lnTo>
                  <a:lnTo>
                    <a:pt x="2474" y="1628"/>
                  </a:lnTo>
                  <a:lnTo>
                    <a:pt x="2474" y="1636"/>
                  </a:lnTo>
                  <a:lnTo>
                    <a:pt x="2474" y="1648"/>
                  </a:lnTo>
                  <a:lnTo>
                    <a:pt x="2474" y="1657"/>
                  </a:lnTo>
                  <a:lnTo>
                    <a:pt x="2474" y="1665"/>
                  </a:lnTo>
                  <a:lnTo>
                    <a:pt x="2474" y="1674"/>
                  </a:lnTo>
                  <a:lnTo>
                    <a:pt x="2483" y="1680"/>
                  </a:lnTo>
                  <a:lnTo>
                    <a:pt x="2491" y="1682"/>
                  </a:lnTo>
                  <a:lnTo>
                    <a:pt x="2500" y="1682"/>
                  </a:lnTo>
                  <a:lnTo>
                    <a:pt x="2509" y="1680"/>
                  </a:lnTo>
                  <a:lnTo>
                    <a:pt x="2515" y="1671"/>
                  </a:lnTo>
                  <a:lnTo>
                    <a:pt x="2524" y="1671"/>
                  </a:lnTo>
                  <a:lnTo>
                    <a:pt x="2532" y="1668"/>
                  </a:lnTo>
                  <a:lnTo>
                    <a:pt x="2541" y="1671"/>
                  </a:lnTo>
                  <a:lnTo>
                    <a:pt x="2544" y="1680"/>
                  </a:lnTo>
                  <a:lnTo>
                    <a:pt x="2547" y="1688"/>
                  </a:lnTo>
                  <a:lnTo>
                    <a:pt x="2547" y="1697"/>
                  </a:lnTo>
                  <a:lnTo>
                    <a:pt x="2547" y="1706"/>
                  </a:lnTo>
                  <a:lnTo>
                    <a:pt x="2556" y="1714"/>
                  </a:lnTo>
                  <a:lnTo>
                    <a:pt x="2564" y="1720"/>
                  </a:lnTo>
                  <a:lnTo>
                    <a:pt x="2576" y="1726"/>
                  </a:lnTo>
                  <a:lnTo>
                    <a:pt x="2588" y="1726"/>
                  </a:lnTo>
                  <a:lnTo>
                    <a:pt x="2596" y="1726"/>
                  </a:lnTo>
                  <a:lnTo>
                    <a:pt x="2588" y="1723"/>
                  </a:lnTo>
                  <a:lnTo>
                    <a:pt x="2579" y="1720"/>
                  </a:lnTo>
                  <a:lnTo>
                    <a:pt x="2570" y="1717"/>
                  </a:lnTo>
                  <a:lnTo>
                    <a:pt x="2567" y="1708"/>
                  </a:lnTo>
                  <a:lnTo>
                    <a:pt x="2564" y="1697"/>
                  </a:lnTo>
                  <a:lnTo>
                    <a:pt x="2564" y="1688"/>
                  </a:lnTo>
                  <a:lnTo>
                    <a:pt x="2561" y="1680"/>
                  </a:lnTo>
                  <a:lnTo>
                    <a:pt x="2550" y="1671"/>
                  </a:lnTo>
                  <a:lnTo>
                    <a:pt x="2538" y="1665"/>
                  </a:lnTo>
                  <a:lnTo>
                    <a:pt x="2529" y="1662"/>
                  </a:lnTo>
                  <a:lnTo>
                    <a:pt x="2521" y="1659"/>
                  </a:lnTo>
                  <a:lnTo>
                    <a:pt x="2512" y="1662"/>
                  </a:lnTo>
                  <a:lnTo>
                    <a:pt x="2506" y="1671"/>
                  </a:lnTo>
                  <a:lnTo>
                    <a:pt x="2506" y="1680"/>
                  </a:lnTo>
                  <a:lnTo>
                    <a:pt x="2503" y="1688"/>
                  </a:lnTo>
                  <a:lnTo>
                    <a:pt x="2500" y="1697"/>
                  </a:lnTo>
                  <a:lnTo>
                    <a:pt x="2500" y="1706"/>
                  </a:lnTo>
                  <a:lnTo>
                    <a:pt x="2500" y="1714"/>
                  </a:lnTo>
                  <a:lnTo>
                    <a:pt x="2509" y="1723"/>
                  </a:lnTo>
                  <a:lnTo>
                    <a:pt x="2509" y="1731"/>
                  </a:lnTo>
                  <a:lnTo>
                    <a:pt x="2509" y="1740"/>
                  </a:lnTo>
                  <a:lnTo>
                    <a:pt x="2509" y="1749"/>
                  </a:lnTo>
                  <a:lnTo>
                    <a:pt x="2509" y="1757"/>
                  </a:lnTo>
                  <a:lnTo>
                    <a:pt x="2509" y="1766"/>
                  </a:lnTo>
                  <a:lnTo>
                    <a:pt x="2509" y="1775"/>
                  </a:lnTo>
                  <a:lnTo>
                    <a:pt x="2509" y="1783"/>
                  </a:lnTo>
                  <a:lnTo>
                    <a:pt x="2506" y="1772"/>
                  </a:lnTo>
                  <a:lnTo>
                    <a:pt x="2515" y="1757"/>
                  </a:lnTo>
                  <a:lnTo>
                    <a:pt x="2509" y="1766"/>
                  </a:lnTo>
                  <a:lnTo>
                    <a:pt x="2506" y="1775"/>
                  </a:lnTo>
                  <a:lnTo>
                    <a:pt x="2503" y="1783"/>
                  </a:lnTo>
                  <a:lnTo>
                    <a:pt x="2497" y="1792"/>
                  </a:lnTo>
                  <a:lnTo>
                    <a:pt x="2494" y="1801"/>
                  </a:lnTo>
                  <a:lnTo>
                    <a:pt x="2494" y="1809"/>
                  </a:lnTo>
                  <a:lnTo>
                    <a:pt x="2494" y="1818"/>
                  </a:lnTo>
                  <a:lnTo>
                    <a:pt x="2483" y="1824"/>
                  </a:lnTo>
                  <a:lnTo>
                    <a:pt x="2465" y="1824"/>
                  </a:lnTo>
                  <a:lnTo>
                    <a:pt x="2457" y="1821"/>
                  </a:lnTo>
                  <a:lnTo>
                    <a:pt x="2448" y="1812"/>
                  </a:lnTo>
                  <a:lnTo>
                    <a:pt x="2439" y="1809"/>
                  </a:lnTo>
                  <a:lnTo>
                    <a:pt x="2430" y="1809"/>
                  </a:lnTo>
                  <a:lnTo>
                    <a:pt x="2427" y="1798"/>
                  </a:lnTo>
                  <a:lnTo>
                    <a:pt x="2439" y="1795"/>
                  </a:lnTo>
                  <a:lnTo>
                    <a:pt x="2454" y="1792"/>
                  </a:lnTo>
                  <a:lnTo>
                    <a:pt x="2462" y="1792"/>
                  </a:lnTo>
                  <a:lnTo>
                    <a:pt x="2471" y="1792"/>
                  </a:lnTo>
                  <a:lnTo>
                    <a:pt x="2477" y="1783"/>
                  </a:lnTo>
                  <a:lnTo>
                    <a:pt x="2480" y="1775"/>
                  </a:lnTo>
                  <a:lnTo>
                    <a:pt x="2480" y="1766"/>
                  </a:lnTo>
                  <a:lnTo>
                    <a:pt x="2483" y="1757"/>
                  </a:lnTo>
                  <a:lnTo>
                    <a:pt x="2486" y="1749"/>
                  </a:lnTo>
                  <a:lnTo>
                    <a:pt x="2489" y="1740"/>
                  </a:lnTo>
                  <a:lnTo>
                    <a:pt x="2491" y="1731"/>
                  </a:lnTo>
                  <a:lnTo>
                    <a:pt x="2489" y="1723"/>
                  </a:lnTo>
                  <a:lnTo>
                    <a:pt x="2489" y="1714"/>
                  </a:lnTo>
                  <a:lnTo>
                    <a:pt x="2480" y="1708"/>
                  </a:lnTo>
                  <a:lnTo>
                    <a:pt x="2474" y="1700"/>
                  </a:lnTo>
                  <a:lnTo>
                    <a:pt x="2468" y="1691"/>
                  </a:lnTo>
                  <a:lnTo>
                    <a:pt x="2465" y="1682"/>
                  </a:lnTo>
                  <a:lnTo>
                    <a:pt x="2459" y="1674"/>
                  </a:lnTo>
                  <a:lnTo>
                    <a:pt x="2454" y="1665"/>
                  </a:lnTo>
                  <a:lnTo>
                    <a:pt x="2454" y="1657"/>
                  </a:lnTo>
                  <a:lnTo>
                    <a:pt x="2454" y="1648"/>
                  </a:lnTo>
                  <a:lnTo>
                    <a:pt x="2454" y="1639"/>
                  </a:lnTo>
                  <a:lnTo>
                    <a:pt x="2451" y="1631"/>
                  </a:lnTo>
                  <a:lnTo>
                    <a:pt x="2448" y="1622"/>
                  </a:lnTo>
                  <a:lnTo>
                    <a:pt x="2442" y="1613"/>
                  </a:lnTo>
                  <a:lnTo>
                    <a:pt x="2433" y="1608"/>
                  </a:lnTo>
                  <a:lnTo>
                    <a:pt x="2427" y="1599"/>
                  </a:lnTo>
                  <a:lnTo>
                    <a:pt x="2422" y="1590"/>
                  </a:lnTo>
                  <a:lnTo>
                    <a:pt x="2419" y="1582"/>
                  </a:lnTo>
                  <a:lnTo>
                    <a:pt x="2419" y="1573"/>
                  </a:lnTo>
                  <a:lnTo>
                    <a:pt x="2416" y="1564"/>
                  </a:lnTo>
                  <a:lnTo>
                    <a:pt x="2416" y="1556"/>
                  </a:lnTo>
                  <a:lnTo>
                    <a:pt x="2416" y="1547"/>
                  </a:lnTo>
                  <a:lnTo>
                    <a:pt x="2416" y="1538"/>
                  </a:lnTo>
                  <a:lnTo>
                    <a:pt x="2416" y="1530"/>
                  </a:lnTo>
                  <a:lnTo>
                    <a:pt x="2407" y="1521"/>
                  </a:lnTo>
                  <a:lnTo>
                    <a:pt x="2395" y="1518"/>
                  </a:lnTo>
                  <a:lnTo>
                    <a:pt x="2390" y="1510"/>
                  </a:lnTo>
                  <a:lnTo>
                    <a:pt x="2390" y="1501"/>
                  </a:lnTo>
                  <a:lnTo>
                    <a:pt x="2381" y="1498"/>
                  </a:lnTo>
                  <a:lnTo>
                    <a:pt x="2390" y="1504"/>
                  </a:lnTo>
                  <a:lnTo>
                    <a:pt x="2381" y="1510"/>
                  </a:lnTo>
                  <a:lnTo>
                    <a:pt x="2372" y="1515"/>
                  </a:lnTo>
                  <a:lnTo>
                    <a:pt x="2372" y="1524"/>
                  </a:lnTo>
                  <a:lnTo>
                    <a:pt x="2366" y="1533"/>
                  </a:lnTo>
                  <a:lnTo>
                    <a:pt x="2366" y="1541"/>
                  </a:lnTo>
                  <a:lnTo>
                    <a:pt x="2366" y="1550"/>
                  </a:lnTo>
                  <a:lnTo>
                    <a:pt x="2366" y="1559"/>
                  </a:lnTo>
                  <a:lnTo>
                    <a:pt x="2366" y="1567"/>
                  </a:lnTo>
                  <a:lnTo>
                    <a:pt x="2363" y="1576"/>
                  </a:lnTo>
                  <a:lnTo>
                    <a:pt x="2360" y="1584"/>
                  </a:lnTo>
                  <a:lnTo>
                    <a:pt x="2358" y="1593"/>
                  </a:lnTo>
                  <a:lnTo>
                    <a:pt x="2352" y="1602"/>
                  </a:lnTo>
                  <a:lnTo>
                    <a:pt x="2349" y="1610"/>
                  </a:lnTo>
                  <a:lnTo>
                    <a:pt x="2346" y="1619"/>
                  </a:lnTo>
                  <a:lnTo>
                    <a:pt x="2346" y="1628"/>
                  </a:lnTo>
                  <a:lnTo>
                    <a:pt x="2346" y="1636"/>
                  </a:lnTo>
                  <a:lnTo>
                    <a:pt x="2355" y="1639"/>
                  </a:lnTo>
                  <a:lnTo>
                    <a:pt x="2363" y="1639"/>
                  </a:lnTo>
                  <a:lnTo>
                    <a:pt x="2372" y="1636"/>
                  </a:lnTo>
                  <a:lnTo>
                    <a:pt x="2372" y="1645"/>
                  </a:lnTo>
                  <a:lnTo>
                    <a:pt x="2372" y="1654"/>
                  </a:lnTo>
                  <a:lnTo>
                    <a:pt x="2372" y="1662"/>
                  </a:lnTo>
                  <a:lnTo>
                    <a:pt x="2372" y="1671"/>
                  </a:lnTo>
                  <a:lnTo>
                    <a:pt x="2372" y="1682"/>
                  </a:lnTo>
                  <a:lnTo>
                    <a:pt x="2369" y="1691"/>
                  </a:lnTo>
                  <a:lnTo>
                    <a:pt x="2378" y="1697"/>
                  </a:lnTo>
                  <a:lnTo>
                    <a:pt x="2381" y="1706"/>
                  </a:lnTo>
                  <a:lnTo>
                    <a:pt x="2390" y="1711"/>
                  </a:lnTo>
                  <a:lnTo>
                    <a:pt x="2401" y="1714"/>
                  </a:lnTo>
                  <a:lnTo>
                    <a:pt x="2404" y="1723"/>
                  </a:lnTo>
                  <a:lnTo>
                    <a:pt x="2404" y="1731"/>
                  </a:lnTo>
                  <a:lnTo>
                    <a:pt x="2404" y="1740"/>
                  </a:lnTo>
                  <a:lnTo>
                    <a:pt x="2404" y="1749"/>
                  </a:lnTo>
                  <a:lnTo>
                    <a:pt x="2395" y="1743"/>
                  </a:lnTo>
                  <a:lnTo>
                    <a:pt x="2393" y="1734"/>
                  </a:lnTo>
                  <a:lnTo>
                    <a:pt x="2387" y="1723"/>
                  </a:lnTo>
                  <a:lnTo>
                    <a:pt x="2381" y="1714"/>
                  </a:lnTo>
                  <a:lnTo>
                    <a:pt x="2372" y="1711"/>
                  </a:lnTo>
                  <a:lnTo>
                    <a:pt x="2363" y="1708"/>
                  </a:lnTo>
                  <a:lnTo>
                    <a:pt x="2355" y="1708"/>
                  </a:lnTo>
                  <a:lnTo>
                    <a:pt x="2340" y="1706"/>
                  </a:lnTo>
                  <a:lnTo>
                    <a:pt x="2328" y="1703"/>
                  </a:lnTo>
                  <a:lnTo>
                    <a:pt x="2320" y="1697"/>
                  </a:lnTo>
                  <a:lnTo>
                    <a:pt x="2311" y="1694"/>
                  </a:lnTo>
                  <a:lnTo>
                    <a:pt x="2302" y="1691"/>
                  </a:lnTo>
                  <a:lnTo>
                    <a:pt x="2294" y="1688"/>
                  </a:lnTo>
                  <a:lnTo>
                    <a:pt x="2285" y="1685"/>
                  </a:lnTo>
                  <a:lnTo>
                    <a:pt x="2276" y="1685"/>
                  </a:lnTo>
                  <a:lnTo>
                    <a:pt x="2267" y="1685"/>
                  </a:lnTo>
                  <a:lnTo>
                    <a:pt x="2273" y="1680"/>
                  </a:lnTo>
                  <a:lnTo>
                    <a:pt x="2262" y="1671"/>
                  </a:lnTo>
                  <a:lnTo>
                    <a:pt x="2262" y="1662"/>
                  </a:lnTo>
                  <a:lnTo>
                    <a:pt x="2256" y="1671"/>
                  </a:lnTo>
                  <a:lnTo>
                    <a:pt x="2247" y="1671"/>
                  </a:lnTo>
                  <a:lnTo>
                    <a:pt x="2235" y="1671"/>
                  </a:lnTo>
                  <a:lnTo>
                    <a:pt x="2227" y="1668"/>
                  </a:lnTo>
                  <a:lnTo>
                    <a:pt x="2227" y="1659"/>
                  </a:lnTo>
                  <a:lnTo>
                    <a:pt x="2221" y="1668"/>
                  </a:lnTo>
                  <a:lnTo>
                    <a:pt x="2221" y="1677"/>
                  </a:lnTo>
                  <a:lnTo>
                    <a:pt x="2232" y="1680"/>
                  </a:lnTo>
                  <a:lnTo>
                    <a:pt x="2241" y="1682"/>
                  </a:lnTo>
                  <a:lnTo>
                    <a:pt x="2244" y="1691"/>
                  </a:lnTo>
                  <a:lnTo>
                    <a:pt x="2247" y="1700"/>
                  </a:lnTo>
                  <a:lnTo>
                    <a:pt x="2250" y="1708"/>
                  </a:lnTo>
                  <a:lnTo>
                    <a:pt x="2259" y="1711"/>
                  </a:lnTo>
                  <a:lnTo>
                    <a:pt x="2262" y="1720"/>
                  </a:lnTo>
                  <a:lnTo>
                    <a:pt x="2262" y="1729"/>
                  </a:lnTo>
                  <a:lnTo>
                    <a:pt x="2262" y="1737"/>
                  </a:lnTo>
                  <a:lnTo>
                    <a:pt x="2253" y="1743"/>
                  </a:lnTo>
                  <a:lnTo>
                    <a:pt x="2250" y="1752"/>
                  </a:lnTo>
                  <a:lnTo>
                    <a:pt x="2250" y="1760"/>
                  </a:lnTo>
                  <a:lnTo>
                    <a:pt x="2244" y="1752"/>
                  </a:lnTo>
                  <a:lnTo>
                    <a:pt x="2241" y="1743"/>
                  </a:lnTo>
                  <a:lnTo>
                    <a:pt x="2232" y="1743"/>
                  </a:lnTo>
                  <a:lnTo>
                    <a:pt x="2232" y="1734"/>
                  </a:lnTo>
                  <a:lnTo>
                    <a:pt x="2221" y="1729"/>
                  </a:lnTo>
                  <a:lnTo>
                    <a:pt x="2209" y="1731"/>
                  </a:lnTo>
                  <a:lnTo>
                    <a:pt x="2200" y="1734"/>
                  </a:lnTo>
                  <a:lnTo>
                    <a:pt x="2192" y="1737"/>
                  </a:lnTo>
                  <a:lnTo>
                    <a:pt x="2183" y="1746"/>
                  </a:lnTo>
                  <a:lnTo>
                    <a:pt x="2177" y="1755"/>
                  </a:lnTo>
                  <a:lnTo>
                    <a:pt x="2168" y="1755"/>
                  </a:lnTo>
                  <a:lnTo>
                    <a:pt x="2160" y="1760"/>
                  </a:lnTo>
                  <a:lnTo>
                    <a:pt x="2151" y="1769"/>
                  </a:lnTo>
                  <a:lnTo>
                    <a:pt x="2142" y="1772"/>
                  </a:lnTo>
                  <a:lnTo>
                    <a:pt x="2133" y="1772"/>
                  </a:lnTo>
                  <a:lnTo>
                    <a:pt x="2133" y="1763"/>
                  </a:lnTo>
                  <a:lnTo>
                    <a:pt x="2142" y="1755"/>
                  </a:lnTo>
                  <a:lnTo>
                    <a:pt x="2151" y="1752"/>
                  </a:lnTo>
                  <a:lnTo>
                    <a:pt x="2160" y="1749"/>
                  </a:lnTo>
                  <a:lnTo>
                    <a:pt x="2160" y="1737"/>
                  </a:lnTo>
                  <a:lnTo>
                    <a:pt x="2154" y="1729"/>
                  </a:lnTo>
                  <a:lnTo>
                    <a:pt x="2145" y="1729"/>
                  </a:lnTo>
                  <a:lnTo>
                    <a:pt x="2136" y="1734"/>
                  </a:lnTo>
                  <a:lnTo>
                    <a:pt x="2128" y="1740"/>
                  </a:lnTo>
                  <a:lnTo>
                    <a:pt x="2122" y="1749"/>
                  </a:lnTo>
                  <a:lnTo>
                    <a:pt x="2113" y="1755"/>
                  </a:lnTo>
                  <a:lnTo>
                    <a:pt x="2104" y="1757"/>
                  </a:lnTo>
                  <a:lnTo>
                    <a:pt x="2096" y="1763"/>
                  </a:lnTo>
                  <a:lnTo>
                    <a:pt x="2087" y="1763"/>
                  </a:lnTo>
                  <a:lnTo>
                    <a:pt x="2078" y="1766"/>
                  </a:lnTo>
                  <a:lnTo>
                    <a:pt x="2069" y="1769"/>
                  </a:lnTo>
                  <a:lnTo>
                    <a:pt x="2061" y="1772"/>
                  </a:lnTo>
                  <a:lnTo>
                    <a:pt x="2055" y="1780"/>
                  </a:lnTo>
                  <a:lnTo>
                    <a:pt x="2052" y="1789"/>
                  </a:lnTo>
                  <a:lnTo>
                    <a:pt x="2040" y="1792"/>
                  </a:lnTo>
                  <a:lnTo>
                    <a:pt x="2034" y="1801"/>
                  </a:lnTo>
                  <a:lnTo>
                    <a:pt x="2034" y="1809"/>
                  </a:lnTo>
                  <a:lnTo>
                    <a:pt x="2029" y="1818"/>
                  </a:lnTo>
                  <a:lnTo>
                    <a:pt x="2020" y="1824"/>
                  </a:lnTo>
                  <a:lnTo>
                    <a:pt x="2011" y="1827"/>
                  </a:lnTo>
                  <a:lnTo>
                    <a:pt x="2008" y="1815"/>
                  </a:lnTo>
                  <a:lnTo>
                    <a:pt x="2005" y="1806"/>
                  </a:lnTo>
                  <a:lnTo>
                    <a:pt x="2005" y="1798"/>
                  </a:lnTo>
                  <a:lnTo>
                    <a:pt x="1997" y="1789"/>
                  </a:lnTo>
                  <a:lnTo>
                    <a:pt x="1988" y="1780"/>
                  </a:lnTo>
                  <a:lnTo>
                    <a:pt x="1999" y="1780"/>
                  </a:lnTo>
                  <a:lnTo>
                    <a:pt x="2011" y="1778"/>
                  </a:lnTo>
                  <a:lnTo>
                    <a:pt x="2020" y="1775"/>
                  </a:lnTo>
                  <a:lnTo>
                    <a:pt x="2020" y="1766"/>
                  </a:lnTo>
                  <a:lnTo>
                    <a:pt x="2023" y="1757"/>
                  </a:lnTo>
                  <a:lnTo>
                    <a:pt x="2023" y="1749"/>
                  </a:lnTo>
                  <a:lnTo>
                    <a:pt x="2014" y="1743"/>
                  </a:lnTo>
                  <a:lnTo>
                    <a:pt x="2005" y="1740"/>
                  </a:lnTo>
                  <a:lnTo>
                    <a:pt x="1994" y="1740"/>
                  </a:lnTo>
                  <a:lnTo>
                    <a:pt x="1985" y="1737"/>
                  </a:lnTo>
                  <a:lnTo>
                    <a:pt x="1976" y="1731"/>
                  </a:lnTo>
                  <a:lnTo>
                    <a:pt x="1967" y="1729"/>
                  </a:lnTo>
                  <a:lnTo>
                    <a:pt x="1967" y="1737"/>
                  </a:lnTo>
                  <a:lnTo>
                    <a:pt x="1970" y="1746"/>
                  </a:lnTo>
                  <a:lnTo>
                    <a:pt x="1976" y="1755"/>
                  </a:lnTo>
                  <a:lnTo>
                    <a:pt x="1976" y="1763"/>
                  </a:lnTo>
                  <a:lnTo>
                    <a:pt x="1976" y="1772"/>
                  </a:lnTo>
                  <a:lnTo>
                    <a:pt x="1973" y="1780"/>
                  </a:lnTo>
                  <a:lnTo>
                    <a:pt x="1965" y="1789"/>
                  </a:lnTo>
                  <a:lnTo>
                    <a:pt x="1956" y="1795"/>
                  </a:lnTo>
                  <a:lnTo>
                    <a:pt x="1953" y="1803"/>
                  </a:lnTo>
                  <a:lnTo>
                    <a:pt x="1962" y="1806"/>
                  </a:lnTo>
                  <a:lnTo>
                    <a:pt x="1970" y="1806"/>
                  </a:lnTo>
                  <a:lnTo>
                    <a:pt x="1979" y="1806"/>
                  </a:lnTo>
                  <a:lnTo>
                    <a:pt x="1982" y="1815"/>
                  </a:lnTo>
                  <a:lnTo>
                    <a:pt x="1976" y="1824"/>
                  </a:lnTo>
                  <a:lnTo>
                    <a:pt x="1965" y="1832"/>
                  </a:lnTo>
                  <a:lnTo>
                    <a:pt x="1959" y="1841"/>
                  </a:lnTo>
                  <a:lnTo>
                    <a:pt x="1959" y="1850"/>
                  </a:lnTo>
                  <a:lnTo>
                    <a:pt x="1947" y="1838"/>
                  </a:lnTo>
                  <a:lnTo>
                    <a:pt x="1938" y="1835"/>
                  </a:lnTo>
                  <a:lnTo>
                    <a:pt x="1933" y="1827"/>
                  </a:lnTo>
                  <a:lnTo>
                    <a:pt x="1924" y="1821"/>
                  </a:lnTo>
                  <a:lnTo>
                    <a:pt x="1915" y="1821"/>
                  </a:lnTo>
                  <a:lnTo>
                    <a:pt x="1906" y="1829"/>
                  </a:lnTo>
                  <a:lnTo>
                    <a:pt x="1898" y="1835"/>
                  </a:lnTo>
                  <a:lnTo>
                    <a:pt x="1889" y="1838"/>
                  </a:lnTo>
                  <a:lnTo>
                    <a:pt x="1880" y="1841"/>
                  </a:lnTo>
                  <a:lnTo>
                    <a:pt x="1874" y="1850"/>
                  </a:lnTo>
                  <a:lnTo>
                    <a:pt x="1871" y="1858"/>
                  </a:lnTo>
                  <a:lnTo>
                    <a:pt x="1868" y="1867"/>
                  </a:lnTo>
                  <a:lnTo>
                    <a:pt x="1868" y="1876"/>
                  </a:lnTo>
                  <a:lnTo>
                    <a:pt x="1868" y="1884"/>
                  </a:lnTo>
                  <a:lnTo>
                    <a:pt x="1868" y="1893"/>
                  </a:lnTo>
                  <a:lnTo>
                    <a:pt x="1868" y="1901"/>
                  </a:lnTo>
                  <a:lnTo>
                    <a:pt x="1860" y="1907"/>
                  </a:lnTo>
                  <a:lnTo>
                    <a:pt x="1848" y="1901"/>
                  </a:lnTo>
                  <a:lnTo>
                    <a:pt x="1845" y="1893"/>
                  </a:lnTo>
                  <a:lnTo>
                    <a:pt x="1839" y="1884"/>
                  </a:lnTo>
                  <a:lnTo>
                    <a:pt x="1831" y="1876"/>
                  </a:lnTo>
                  <a:lnTo>
                    <a:pt x="1822" y="1870"/>
                  </a:lnTo>
                  <a:lnTo>
                    <a:pt x="1813" y="1867"/>
                  </a:lnTo>
                  <a:lnTo>
                    <a:pt x="1804" y="1867"/>
                  </a:lnTo>
                  <a:lnTo>
                    <a:pt x="1799" y="1876"/>
                  </a:lnTo>
                  <a:lnTo>
                    <a:pt x="1796" y="1884"/>
                  </a:lnTo>
                  <a:lnTo>
                    <a:pt x="1796" y="1893"/>
                  </a:lnTo>
                  <a:lnTo>
                    <a:pt x="1804" y="1899"/>
                  </a:lnTo>
                  <a:lnTo>
                    <a:pt x="1816" y="1901"/>
                  </a:lnTo>
                  <a:lnTo>
                    <a:pt x="1819" y="1910"/>
                  </a:lnTo>
                  <a:lnTo>
                    <a:pt x="1807" y="1910"/>
                  </a:lnTo>
                  <a:lnTo>
                    <a:pt x="1819" y="1893"/>
                  </a:lnTo>
                  <a:lnTo>
                    <a:pt x="1810" y="1896"/>
                  </a:lnTo>
                  <a:lnTo>
                    <a:pt x="1822" y="1899"/>
                  </a:lnTo>
                  <a:lnTo>
                    <a:pt x="1822" y="1910"/>
                  </a:lnTo>
                  <a:lnTo>
                    <a:pt x="1822" y="1919"/>
                  </a:lnTo>
                  <a:lnTo>
                    <a:pt x="1816" y="1927"/>
                  </a:lnTo>
                  <a:lnTo>
                    <a:pt x="1802" y="1927"/>
                  </a:lnTo>
                  <a:lnTo>
                    <a:pt x="1793" y="1922"/>
                  </a:lnTo>
                  <a:lnTo>
                    <a:pt x="1790" y="1913"/>
                  </a:lnTo>
                  <a:lnTo>
                    <a:pt x="1790" y="1904"/>
                  </a:lnTo>
                  <a:lnTo>
                    <a:pt x="1784" y="1896"/>
                  </a:lnTo>
                  <a:lnTo>
                    <a:pt x="1778" y="1887"/>
                  </a:lnTo>
                  <a:lnTo>
                    <a:pt x="1770" y="1878"/>
                  </a:lnTo>
                  <a:lnTo>
                    <a:pt x="1767" y="1870"/>
                  </a:lnTo>
                  <a:lnTo>
                    <a:pt x="1764" y="1861"/>
                  </a:lnTo>
                  <a:lnTo>
                    <a:pt x="1764" y="1850"/>
                  </a:lnTo>
                  <a:lnTo>
                    <a:pt x="1764" y="1841"/>
                  </a:lnTo>
                  <a:lnTo>
                    <a:pt x="1764" y="1832"/>
                  </a:lnTo>
                  <a:lnTo>
                    <a:pt x="1772" y="1827"/>
                  </a:lnTo>
                  <a:lnTo>
                    <a:pt x="1778" y="1818"/>
                  </a:lnTo>
                  <a:lnTo>
                    <a:pt x="1778" y="1809"/>
                  </a:lnTo>
                  <a:lnTo>
                    <a:pt x="1778" y="1801"/>
                  </a:lnTo>
                  <a:lnTo>
                    <a:pt x="1778" y="1792"/>
                  </a:lnTo>
                  <a:lnTo>
                    <a:pt x="1770" y="1783"/>
                  </a:lnTo>
                  <a:lnTo>
                    <a:pt x="1761" y="1778"/>
                  </a:lnTo>
                  <a:lnTo>
                    <a:pt x="1752" y="1772"/>
                  </a:lnTo>
                  <a:lnTo>
                    <a:pt x="1752" y="1763"/>
                  </a:lnTo>
                  <a:lnTo>
                    <a:pt x="1752" y="1752"/>
                  </a:lnTo>
                  <a:lnTo>
                    <a:pt x="1752" y="1743"/>
                  </a:lnTo>
                  <a:lnTo>
                    <a:pt x="1764" y="1749"/>
                  </a:lnTo>
                  <a:lnTo>
                    <a:pt x="1772" y="1757"/>
                  </a:lnTo>
                  <a:lnTo>
                    <a:pt x="1781" y="1763"/>
                  </a:lnTo>
                  <a:lnTo>
                    <a:pt x="1781" y="1772"/>
                  </a:lnTo>
                  <a:lnTo>
                    <a:pt x="1787" y="1783"/>
                  </a:lnTo>
                  <a:lnTo>
                    <a:pt x="1796" y="1789"/>
                  </a:lnTo>
                  <a:lnTo>
                    <a:pt x="1804" y="1795"/>
                  </a:lnTo>
                  <a:lnTo>
                    <a:pt x="1816" y="1801"/>
                  </a:lnTo>
                  <a:lnTo>
                    <a:pt x="1822" y="1809"/>
                  </a:lnTo>
                  <a:lnTo>
                    <a:pt x="1831" y="1815"/>
                  </a:lnTo>
                  <a:lnTo>
                    <a:pt x="1836" y="1824"/>
                  </a:lnTo>
                  <a:lnTo>
                    <a:pt x="1845" y="1829"/>
                  </a:lnTo>
                  <a:lnTo>
                    <a:pt x="1854" y="1835"/>
                  </a:lnTo>
                  <a:lnTo>
                    <a:pt x="1866" y="1835"/>
                  </a:lnTo>
                  <a:lnTo>
                    <a:pt x="1874" y="1835"/>
                  </a:lnTo>
                  <a:lnTo>
                    <a:pt x="1883" y="1835"/>
                  </a:lnTo>
                  <a:lnTo>
                    <a:pt x="1892" y="1829"/>
                  </a:lnTo>
                  <a:lnTo>
                    <a:pt x="1901" y="1827"/>
                  </a:lnTo>
                  <a:lnTo>
                    <a:pt x="1909" y="1818"/>
                  </a:lnTo>
                  <a:lnTo>
                    <a:pt x="1909" y="1809"/>
                  </a:lnTo>
                  <a:lnTo>
                    <a:pt x="1909" y="1801"/>
                  </a:lnTo>
                  <a:lnTo>
                    <a:pt x="1909" y="1792"/>
                  </a:lnTo>
                  <a:lnTo>
                    <a:pt x="1915" y="1783"/>
                  </a:lnTo>
                  <a:lnTo>
                    <a:pt x="1918" y="1775"/>
                  </a:lnTo>
                  <a:lnTo>
                    <a:pt x="1918" y="1766"/>
                  </a:lnTo>
                  <a:lnTo>
                    <a:pt x="1915" y="1757"/>
                  </a:lnTo>
                  <a:lnTo>
                    <a:pt x="1909" y="1749"/>
                  </a:lnTo>
                  <a:lnTo>
                    <a:pt x="1901" y="1740"/>
                  </a:lnTo>
                  <a:lnTo>
                    <a:pt x="1895" y="1731"/>
                  </a:lnTo>
                  <a:lnTo>
                    <a:pt x="1892" y="1720"/>
                  </a:lnTo>
                  <a:lnTo>
                    <a:pt x="1889" y="1711"/>
                  </a:lnTo>
                  <a:lnTo>
                    <a:pt x="1880" y="1706"/>
                  </a:lnTo>
                  <a:lnTo>
                    <a:pt x="1871" y="1697"/>
                  </a:lnTo>
                  <a:lnTo>
                    <a:pt x="1866" y="1688"/>
                  </a:lnTo>
                  <a:lnTo>
                    <a:pt x="1860" y="1680"/>
                  </a:lnTo>
                  <a:lnTo>
                    <a:pt x="1851" y="1671"/>
                  </a:lnTo>
                  <a:lnTo>
                    <a:pt x="1842" y="1665"/>
                  </a:lnTo>
                  <a:lnTo>
                    <a:pt x="1831" y="1662"/>
                  </a:lnTo>
                  <a:lnTo>
                    <a:pt x="1819" y="1657"/>
                  </a:lnTo>
                  <a:lnTo>
                    <a:pt x="1813" y="1648"/>
                  </a:lnTo>
                  <a:lnTo>
                    <a:pt x="1810" y="1639"/>
                  </a:lnTo>
                  <a:lnTo>
                    <a:pt x="1807" y="1631"/>
                  </a:lnTo>
                  <a:lnTo>
                    <a:pt x="1799" y="1622"/>
                  </a:lnTo>
                  <a:lnTo>
                    <a:pt x="1793" y="1613"/>
                  </a:lnTo>
                  <a:lnTo>
                    <a:pt x="1784" y="1613"/>
                  </a:lnTo>
                  <a:lnTo>
                    <a:pt x="1772" y="1613"/>
                  </a:lnTo>
                  <a:lnTo>
                    <a:pt x="1764" y="1608"/>
                  </a:lnTo>
                  <a:lnTo>
                    <a:pt x="1761" y="1599"/>
                  </a:lnTo>
                  <a:lnTo>
                    <a:pt x="1772" y="1596"/>
                  </a:lnTo>
                  <a:lnTo>
                    <a:pt x="1781" y="1596"/>
                  </a:lnTo>
                  <a:lnTo>
                    <a:pt x="1787" y="1587"/>
                  </a:lnTo>
                  <a:lnTo>
                    <a:pt x="1778" y="1579"/>
                  </a:lnTo>
                  <a:lnTo>
                    <a:pt x="1770" y="1576"/>
                  </a:lnTo>
                  <a:lnTo>
                    <a:pt x="1761" y="1573"/>
                  </a:lnTo>
                  <a:lnTo>
                    <a:pt x="1758" y="1564"/>
                  </a:lnTo>
                  <a:lnTo>
                    <a:pt x="1758" y="1556"/>
                  </a:lnTo>
                  <a:lnTo>
                    <a:pt x="1758" y="1547"/>
                  </a:lnTo>
                  <a:lnTo>
                    <a:pt x="1749" y="1547"/>
                  </a:lnTo>
                  <a:lnTo>
                    <a:pt x="1737" y="1553"/>
                  </a:lnTo>
                  <a:lnTo>
                    <a:pt x="1729" y="1553"/>
                  </a:lnTo>
                  <a:lnTo>
                    <a:pt x="1720" y="1556"/>
                  </a:lnTo>
                  <a:lnTo>
                    <a:pt x="1720" y="1547"/>
                  </a:lnTo>
                  <a:lnTo>
                    <a:pt x="1723" y="1538"/>
                  </a:lnTo>
                  <a:lnTo>
                    <a:pt x="1726" y="1550"/>
                  </a:lnTo>
                  <a:lnTo>
                    <a:pt x="1723" y="1559"/>
                  </a:lnTo>
                  <a:lnTo>
                    <a:pt x="1723" y="1567"/>
                  </a:lnTo>
                  <a:lnTo>
                    <a:pt x="1732" y="1567"/>
                  </a:lnTo>
                  <a:lnTo>
                    <a:pt x="1740" y="1556"/>
                  </a:lnTo>
                  <a:lnTo>
                    <a:pt x="1726" y="1553"/>
                  </a:lnTo>
                  <a:lnTo>
                    <a:pt x="1717" y="1553"/>
                  </a:lnTo>
                  <a:lnTo>
                    <a:pt x="1705" y="1553"/>
                  </a:lnTo>
                  <a:lnTo>
                    <a:pt x="1705" y="1541"/>
                  </a:lnTo>
                  <a:lnTo>
                    <a:pt x="1711" y="1533"/>
                  </a:lnTo>
                  <a:lnTo>
                    <a:pt x="1700" y="1535"/>
                  </a:lnTo>
                  <a:lnTo>
                    <a:pt x="1691" y="1541"/>
                  </a:lnTo>
                  <a:lnTo>
                    <a:pt x="1679" y="1544"/>
                  </a:lnTo>
                  <a:lnTo>
                    <a:pt x="1685" y="1533"/>
                  </a:lnTo>
                  <a:lnTo>
                    <a:pt x="1685" y="1524"/>
                  </a:lnTo>
                  <a:lnTo>
                    <a:pt x="1676" y="1524"/>
                  </a:lnTo>
                  <a:lnTo>
                    <a:pt x="1668" y="1533"/>
                  </a:lnTo>
                  <a:lnTo>
                    <a:pt x="1662" y="1541"/>
                  </a:lnTo>
                  <a:lnTo>
                    <a:pt x="1653" y="1544"/>
                  </a:lnTo>
                  <a:lnTo>
                    <a:pt x="1653" y="1535"/>
                  </a:lnTo>
                  <a:lnTo>
                    <a:pt x="1644" y="1541"/>
                  </a:lnTo>
                  <a:lnTo>
                    <a:pt x="1641" y="1550"/>
                  </a:lnTo>
                  <a:lnTo>
                    <a:pt x="1633" y="1547"/>
                  </a:lnTo>
                  <a:lnTo>
                    <a:pt x="1633" y="1538"/>
                  </a:lnTo>
                  <a:lnTo>
                    <a:pt x="1624" y="1538"/>
                  </a:lnTo>
                  <a:lnTo>
                    <a:pt x="1615" y="1541"/>
                  </a:lnTo>
                  <a:lnTo>
                    <a:pt x="1609" y="1550"/>
                  </a:lnTo>
                  <a:lnTo>
                    <a:pt x="1601" y="1541"/>
                  </a:lnTo>
                  <a:lnTo>
                    <a:pt x="1598" y="1533"/>
                  </a:lnTo>
                  <a:lnTo>
                    <a:pt x="1589" y="1535"/>
                  </a:lnTo>
                  <a:lnTo>
                    <a:pt x="1580" y="1541"/>
                  </a:lnTo>
                  <a:lnTo>
                    <a:pt x="1569" y="1538"/>
                  </a:lnTo>
                  <a:lnTo>
                    <a:pt x="1563" y="1547"/>
                  </a:lnTo>
                  <a:lnTo>
                    <a:pt x="1557" y="1559"/>
                  </a:lnTo>
                  <a:lnTo>
                    <a:pt x="1554" y="1567"/>
                  </a:lnTo>
                  <a:lnTo>
                    <a:pt x="1548" y="1576"/>
                  </a:lnTo>
                  <a:lnTo>
                    <a:pt x="1540" y="1576"/>
                  </a:lnTo>
                  <a:lnTo>
                    <a:pt x="1531" y="1576"/>
                  </a:lnTo>
                  <a:lnTo>
                    <a:pt x="1525" y="1564"/>
                  </a:lnTo>
                  <a:lnTo>
                    <a:pt x="1525" y="1556"/>
                  </a:lnTo>
                  <a:lnTo>
                    <a:pt x="1525" y="1547"/>
                  </a:lnTo>
                  <a:lnTo>
                    <a:pt x="1516" y="1544"/>
                  </a:lnTo>
                  <a:lnTo>
                    <a:pt x="1513" y="1553"/>
                  </a:lnTo>
                  <a:lnTo>
                    <a:pt x="1528" y="1541"/>
                  </a:lnTo>
                  <a:lnTo>
                    <a:pt x="1510" y="1530"/>
                  </a:lnTo>
                  <a:lnTo>
                    <a:pt x="1502" y="1530"/>
                  </a:lnTo>
                  <a:lnTo>
                    <a:pt x="1493" y="1538"/>
                  </a:lnTo>
                  <a:lnTo>
                    <a:pt x="1484" y="1544"/>
                  </a:lnTo>
                  <a:lnTo>
                    <a:pt x="1481" y="1553"/>
                  </a:lnTo>
                  <a:lnTo>
                    <a:pt x="1481" y="1561"/>
                  </a:lnTo>
                  <a:lnTo>
                    <a:pt x="1487" y="1570"/>
                  </a:lnTo>
                  <a:lnTo>
                    <a:pt x="1487" y="1579"/>
                  </a:lnTo>
                  <a:lnTo>
                    <a:pt x="1478" y="1587"/>
                  </a:lnTo>
                  <a:lnTo>
                    <a:pt x="1470" y="1590"/>
                  </a:lnTo>
                  <a:lnTo>
                    <a:pt x="1461" y="1599"/>
                  </a:lnTo>
                  <a:lnTo>
                    <a:pt x="1443" y="1599"/>
                  </a:lnTo>
                  <a:lnTo>
                    <a:pt x="1432" y="1599"/>
                  </a:lnTo>
                  <a:lnTo>
                    <a:pt x="1426" y="1610"/>
                  </a:lnTo>
                  <a:lnTo>
                    <a:pt x="1420" y="1619"/>
                  </a:lnTo>
                  <a:lnTo>
                    <a:pt x="1429" y="1619"/>
                  </a:lnTo>
                  <a:lnTo>
                    <a:pt x="1417" y="1628"/>
                  </a:lnTo>
                  <a:lnTo>
                    <a:pt x="1406" y="1628"/>
                  </a:lnTo>
                  <a:lnTo>
                    <a:pt x="1397" y="1628"/>
                  </a:lnTo>
                  <a:lnTo>
                    <a:pt x="1388" y="1628"/>
                  </a:lnTo>
                  <a:lnTo>
                    <a:pt x="1382" y="1636"/>
                  </a:lnTo>
                  <a:lnTo>
                    <a:pt x="1379" y="1645"/>
                  </a:lnTo>
                  <a:lnTo>
                    <a:pt x="1371" y="1645"/>
                  </a:lnTo>
                  <a:lnTo>
                    <a:pt x="1362" y="1645"/>
                  </a:lnTo>
                  <a:lnTo>
                    <a:pt x="1356" y="1654"/>
                  </a:lnTo>
                  <a:lnTo>
                    <a:pt x="1347" y="1657"/>
                  </a:lnTo>
                  <a:lnTo>
                    <a:pt x="1336" y="1659"/>
                  </a:lnTo>
                  <a:lnTo>
                    <a:pt x="1327" y="1659"/>
                  </a:lnTo>
                  <a:lnTo>
                    <a:pt x="1318" y="1662"/>
                  </a:lnTo>
                  <a:lnTo>
                    <a:pt x="1310" y="1662"/>
                  </a:lnTo>
                  <a:lnTo>
                    <a:pt x="1298" y="1662"/>
                  </a:lnTo>
                  <a:lnTo>
                    <a:pt x="1289" y="1665"/>
                  </a:lnTo>
                  <a:lnTo>
                    <a:pt x="1280" y="1671"/>
                  </a:lnTo>
                  <a:lnTo>
                    <a:pt x="1278" y="1680"/>
                  </a:lnTo>
                  <a:lnTo>
                    <a:pt x="1280" y="1691"/>
                  </a:lnTo>
                  <a:lnTo>
                    <a:pt x="1289" y="1694"/>
                  </a:lnTo>
                  <a:lnTo>
                    <a:pt x="1301" y="1697"/>
                  </a:lnTo>
                  <a:lnTo>
                    <a:pt x="1312" y="1697"/>
                  </a:lnTo>
                  <a:lnTo>
                    <a:pt x="1321" y="1697"/>
                  </a:lnTo>
                  <a:lnTo>
                    <a:pt x="1310" y="1694"/>
                  </a:lnTo>
                  <a:lnTo>
                    <a:pt x="1298" y="1694"/>
                  </a:lnTo>
                  <a:lnTo>
                    <a:pt x="1289" y="1691"/>
                  </a:lnTo>
                  <a:lnTo>
                    <a:pt x="1304" y="1685"/>
                  </a:lnTo>
                  <a:lnTo>
                    <a:pt x="1312" y="1685"/>
                  </a:lnTo>
                  <a:lnTo>
                    <a:pt x="1321" y="1685"/>
                  </a:lnTo>
                  <a:lnTo>
                    <a:pt x="1312" y="1682"/>
                  </a:lnTo>
                  <a:lnTo>
                    <a:pt x="1301" y="1685"/>
                  </a:lnTo>
                  <a:lnTo>
                    <a:pt x="1292" y="1685"/>
                  </a:lnTo>
                  <a:lnTo>
                    <a:pt x="1286" y="1677"/>
                  </a:lnTo>
                  <a:lnTo>
                    <a:pt x="1275" y="1668"/>
                  </a:lnTo>
                  <a:lnTo>
                    <a:pt x="1266" y="1665"/>
                  </a:lnTo>
                  <a:lnTo>
                    <a:pt x="1248" y="1659"/>
                  </a:lnTo>
                  <a:lnTo>
                    <a:pt x="1240" y="1659"/>
                  </a:lnTo>
                  <a:lnTo>
                    <a:pt x="1234" y="1668"/>
                  </a:lnTo>
                  <a:lnTo>
                    <a:pt x="1225" y="1671"/>
                  </a:lnTo>
                  <a:lnTo>
                    <a:pt x="1216" y="1674"/>
                  </a:lnTo>
                  <a:lnTo>
                    <a:pt x="1208" y="1674"/>
                  </a:lnTo>
                  <a:lnTo>
                    <a:pt x="1199" y="1671"/>
                  </a:lnTo>
                  <a:lnTo>
                    <a:pt x="1190" y="1674"/>
                  </a:lnTo>
                  <a:lnTo>
                    <a:pt x="1176" y="1671"/>
                  </a:lnTo>
                  <a:lnTo>
                    <a:pt x="1167" y="1668"/>
                  </a:lnTo>
                  <a:lnTo>
                    <a:pt x="1161" y="1677"/>
                  </a:lnTo>
                  <a:lnTo>
                    <a:pt x="1152" y="1682"/>
                  </a:lnTo>
                  <a:lnTo>
                    <a:pt x="1144" y="1682"/>
                  </a:lnTo>
                  <a:lnTo>
                    <a:pt x="1132" y="1682"/>
                  </a:lnTo>
                  <a:lnTo>
                    <a:pt x="1132" y="1691"/>
                  </a:lnTo>
                  <a:lnTo>
                    <a:pt x="1132" y="1700"/>
                  </a:lnTo>
                  <a:lnTo>
                    <a:pt x="1147" y="1708"/>
                  </a:lnTo>
                  <a:lnTo>
                    <a:pt x="1155" y="1720"/>
                  </a:lnTo>
                  <a:lnTo>
                    <a:pt x="1158" y="1729"/>
                  </a:lnTo>
                  <a:lnTo>
                    <a:pt x="1158" y="1737"/>
                  </a:lnTo>
                  <a:lnTo>
                    <a:pt x="1161" y="1746"/>
                  </a:lnTo>
                  <a:lnTo>
                    <a:pt x="1161" y="1737"/>
                  </a:lnTo>
                  <a:lnTo>
                    <a:pt x="1155" y="1726"/>
                  </a:lnTo>
                  <a:lnTo>
                    <a:pt x="1152" y="1717"/>
                  </a:lnTo>
                  <a:lnTo>
                    <a:pt x="1138" y="1717"/>
                  </a:lnTo>
                  <a:lnTo>
                    <a:pt x="1129" y="1711"/>
                  </a:lnTo>
                  <a:lnTo>
                    <a:pt x="1120" y="1711"/>
                  </a:lnTo>
                  <a:lnTo>
                    <a:pt x="1117" y="1720"/>
                  </a:lnTo>
                  <a:lnTo>
                    <a:pt x="1114" y="1731"/>
                  </a:lnTo>
                  <a:lnTo>
                    <a:pt x="1114" y="1740"/>
                  </a:lnTo>
                  <a:lnTo>
                    <a:pt x="1126" y="1740"/>
                  </a:lnTo>
                  <a:lnTo>
                    <a:pt x="1138" y="1743"/>
                  </a:lnTo>
                  <a:lnTo>
                    <a:pt x="1129" y="1743"/>
                  </a:lnTo>
                  <a:lnTo>
                    <a:pt x="1120" y="1743"/>
                  </a:lnTo>
                  <a:lnTo>
                    <a:pt x="1112" y="1746"/>
                  </a:lnTo>
                  <a:lnTo>
                    <a:pt x="1103" y="1752"/>
                  </a:lnTo>
                  <a:lnTo>
                    <a:pt x="1094" y="1755"/>
                  </a:lnTo>
                  <a:lnTo>
                    <a:pt x="1085" y="1763"/>
                  </a:lnTo>
                  <a:lnTo>
                    <a:pt x="1077" y="1766"/>
                  </a:lnTo>
                  <a:lnTo>
                    <a:pt x="1068" y="1766"/>
                  </a:lnTo>
                  <a:lnTo>
                    <a:pt x="1077" y="1772"/>
                  </a:lnTo>
                  <a:lnTo>
                    <a:pt x="1085" y="1772"/>
                  </a:lnTo>
                  <a:lnTo>
                    <a:pt x="1097" y="1775"/>
                  </a:lnTo>
                  <a:lnTo>
                    <a:pt x="1091" y="1783"/>
                  </a:lnTo>
                  <a:lnTo>
                    <a:pt x="1080" y="1786"/>
                  </a:lnTo>
                  <a:lnTo>
                    <a:pt x="1071" y="1786"/>
                  </a:lnTo>
                  <a:lnTo>
                    <a:pt x="1062" y="1789"/>
                  </a:lnTo>
                  <a:lnTo>
                    <a:pt x="1056" y="1798"/>
                  </a:lnTo>
                  <a:lnTo>
                    <a:pt x="1056" y="1806"/>
                  </a:lnTo>
                  <a:lnTo>
                    <a:pt x="1056" y="1815"/>
                  </a:lnTo>
                  <a:lnTo>
                    <a:pt x="1056" y="1824"/>
                  </a:lnTo>
                  <a:lnTo>
                    <a:pt x="1056" y="1832"/>
                  </a:lnTo>
                  <a:lnTo>
                    <a:pt x="1056" y="1841"/>
                  </a:lnTo>
                  <a:lnTo>
                    <a:pt x="1062" y="1850"/>
                  </a:lnTo>
                  <a:lnTo>
                    <a:pt x="1074" y="1855"/>
                  </a:lnTo>
                  <a:lnTo>
                    <a:pt x="1082" y="1855"/>
                  </a:lnTo>
                  <a:lnTo>
                    <a:pt x="1091" y="1855"/>
                  </a:lnTo>
                  <a:lnTo>
                    <a:pt x="1103" y="1855"/>
                  </a:lnTo>
                  <a:lnTo>
                    <a:pt x="1112" y="1855"/>
                  </a:lnTo>
                  <a:lnTo>
                    <a:pt x="1120" y="1855"/>
                  </a:lnTo>
                  <a:lnTo>
                    <a:pt x="1132" y="1855"/>
                  </a:lnTo>
                  <a:lnTo>
                    <a:pt x="1144" y="1855"/>
                  </a:lnTo>
                  <a:lnTo>
                    <a:pt x="1152" y="1852"/>
                  </a:lnTo>
                  <a:lnTo>
                    <a:pt x="1167" y="1852"/>
                  </a:lnTo>
                  <a:lnTo>
                    <a:pt x="1176" y="1844"/>
                  </a:lnTo>
                  <a:lnTo>
                    <a:pt x="1179" y="1835"/>
                  </a:lnTo>
                  <a:lnTo>
                    <a:pt x="1181" y="1827"/>
                  </a:lnTo>
                  <a:lnTo>
                    <a:pt x="1184" y="1835"/>
                  </a:lnTo>
                  <a:lnTo>
                    <a:pt x="1184" y="1844"/>
                  </a:lnTo>
                  <a:lnTo>
                    <a:pt x="1181" y="1852"/>
                  </a:lnTo>
                  <a:lnTo>
                    <a:pt x="1170" y="1858"/>
                  </a:lnTo>
                  <a:lnTo>
                    <a:pt x="1173" y="1867"/>
                  </a:lnTo>
                  <a:lnTo>
                    <a:pt x="1170" y="1876"/>
                  </a:lnTo>
                  <a:lnTo>
                    <a:pt x="1164" y="1884"/>
                  </a:lnTo>
                  <a:lnTo>
                    <a:pt x="1161" y="1893"/>
                  </a:lnTo>
                  <a:lnTo>
                    <a:pt x="1161" y="1901"/>
                  </a:lnTo>
                  <a:lnTo>
                    <a:pt x="1158" y="1910"/>
                  </a:lnTo>
                  <a:lnTo>
                    <a:pt x="1149" y="1913"/>
                  </a:lnTo>
                  <a:lnTo>
                    <a:pt x="1147" y="1922"/>
                  </a:lnTo>
                  <a:lnTo>
                    <a:pt x="1147" y="1930"/>
                  </a:lnTo>
                  <a:lnTo>
                    <a:pt x="1144" y="1939"/>
                  </a:lnTo>
                  <a:lnTo>
                    <a:pt x="1144" y="1948"/>
                  </a:lnTo>
                  <a:lnTo>
                    <a:pt x="1141" y="1956"/>
                  </a:lnTo>
                  <a:lnTo>
                    <a:pt x="1141" y="1968"/>
                  </a:lnTo>
                  <a:lnTo>
                    <a:pt x="1141" y="1976"/>
                  </a:lnTo>
                  <a:lnTo>
                    <a:pt x="1155" y="1956"/>
                  </a:lnTo>
                  <a:lnTo>
                    <a:pt x="1144" y="1956"/>
                  </a:lnTo>
                  <a:lnTo>
                    <a:pt x="1144" y="1965"/>
                  </a:lnTo>
                  <a:lnTo>
                    <a:pt x="1144" y="1974"/>
                  </a:lnTo>
                  <a:lnTo>
                    <a:pt x="1144" y="1982"/>
                  </a:lnTo>
                  <a:lnTo>
                    <a:pt x="1138" y="1991"/>
                  </a:lnTo>
                  <a:lnTo>
                    <a:pt x="1129" y="1997"/>
                  </a:lnTo>
                  <a:lnTo>
                    <a:pt x="1120" y="1997"/>
                  </a:lnTo>
                  <a:lnTo>
                    <a:pt x="1117" y="2005"/>
                  </a:lnTo>
                  <a:lnTo>
                    <a:pt x="1117" y="2014"/>
                  </a:lnTo>
                  <a:lnTo>
                    <a:pt x="1117" y="2023"/>
                  </a:lnTo>
                  <a:lnTo>
                    <a:pt x="1117" y="2031"/>
                  </a:lnTo>
                  <a:lnTo>
                    <a:pt x="1120" y="2040"/>
                  </a:lnTo>
                  <a:lnTo>
                    <a:pt x="1129" y="2046"/>
                  </a:lnTo>
                  <a:lnTo>
                    <a:pt x="1144" y="2054"/>
                  </a:lnTo>
                  <a:lnTo>
                    <a:pt x="1152" y="2054"/>
                  </a:lnTo>
                  <a:lnTo>
                    <a:pt x="1158" y="2046"/>
                  </a:lnTo>
                  <a:lnTo>
                    <a:pt x="1158" y="2037"/>
                  </a:lnTo>
                  <a:lnTo>
                    <a:pt x="1170" y="2037"/>
                  </a:lnTo>
                  <a:lnTo>
                    <a:pt x="1179" y="2037"/>
                  </a:lnTo>
                  <a:lnTo>
                    <a:pt x="1187" y="2037"/>
                  </a:lnTo>
                  <a:lnTo>
                    <a:pt x="1199" y="2037"/>
                  </a:lnTo>
                  <a:lnTo>
                    <a:pt x="1208" y="2040"/>
                  </a:lnTo>
                  <a:lnTo>
                    <a:pt x="1216" y="2043"/>
                  </a:lnTo>
                  <a:lnTo>
                    <a:pt x="1225" y="2040"/>
                  </a:lnTo>
                  <a:lnTo>
                    <a:pt x="1228" y="2031"/>
                  </a:lnTo>
                  <a:lnTo>
                    <a:pt x="1231" y="2023"/>
                  </a:lnTo>
                  <a:lnTo>
                    <a:pt x="1237" y="2014"/>
                  </a:lnTo>
                  <a:lnTo>
                    <a:pt x="1245" y="2005"/>
                  </a:lnTo>
                  <a:lnTo>
                    <a:pt x="1251" y="1997"/>
                  </a:lnTo>
                  <a:lnTo>
                    <a:pt x="1260" y="1991"/>
                  </a:lnTo>
                  <a:lnTo>
                    <a:pt x="1266" y="1982"/>
                  </a:lnTo>
                  <a:lnTo>
                    <a:pt x="1269" y="1974"/>
                  </a:lnTo>
                  <a:lnTo>
                    <a:pt x="1272" y="1965"/>
                  </a:lnTo>
                  <a:lnTo>
                    <a:pt x="1280" y="1962"/>
                  </a:lnTo>
                  <a:lnTo>
                    <a:pt x="1289" y="1962"/>
                  </a:lnTo>
                  <a:lnTo>
                    <a:pt x="1298" y="1959"/>
                  </a:lnTo>
                  <a:lnTo>
                    <a:pt x="1301" y="1950"/>
                  </a:lnTo>
                  <a:lnTo>
                    <a:pt x="1304" y="1942"/>
                  </a:lnTo>
                  <a:lnTo>
                    <a:pt x="1301" y="1933"/>
                  </a:lnTo>
                  <a:lnTo>
                    <a:pt x="1292" y="1925"/>
                  </a:lnTo>
                  <a:lnTo>
                    <a:pt x="1301" y="1919"/>
                  </a:lnTo>
                  <a:lnTo>
                    <a:pt x="1310" y="1927"/>
                  </a:lnTo>
                  <a:lnTo>
                    <a:pt x="1318" y="1933"/>
                  </a:lnTo>
                  <a:lnTo>
                    <a:pt x="1324" y="1942"/>
                  </a:lnTo>
                  <a:lnTo>
                    <a:pt x="1333" y="1950"/>
                  </a:lnTo>
                  <a:lnTo>
                    <a:pt x="1342" y="1950"/>
                  </a:lnTo>
                  <a:lnTo>
                    <a:pt x="1350" y="1950"/>
                  </a:lnTo>
                  <a:lnTo>
                    <a:pt x="1353" y="1942"/>
                  </a:lnTo>
                  <a:lnTo>
                    <a:pt x="1353" y="1933"/>
                  </a:lnTo>
                  <a:lnTo>
                    <a:pt x="1356" y="1925"/>
                  </a:lnTo>
                  <a:lnTo>
                    <a:pt x="1356" y="1916"/>
                  </a:lnTo>
                  <a:lnTo>
                    <a:pt x="1359" y="1907"/>
                  </a:lnTo>
                  <a:lnTo>
                    <a:pt x="1359" y="1899"/>
                  </a:lnTo>
                  <a:lnTo>
                    <a:pt x="1356" y="1890"/>
                  </a:lnTo>
                  <a:lnTo>
                    <a:pt x="1347" y="1881"/>
                  </a:lnTo>
                  <a:lnTo>
                    <a:pt x="1347" y="1870"/>
                  </a:lnTo>
                  <a:lnTo>
                    <a:pt x="1347" y="1861"/>
                  </a:lnTo>
                  <a:lnTo>
                    <a:pt x="1356" y="1855"/>
                  </a:lnTo>
                  <a:lnTo>
                    <a:pt x="1362" y="1847"/>
                  </a:lnTo>
                  <a:lnTo>
                    <a:pt x="1371" y="1844"/>
                  </a:lnTo>
                  <a:lnTo>
                    <a:pt x="1379" y="1835"/>
                  </a:lnTo>
                  <a:lnTo>
                    <a:pt x="1382" y="1827"/>
                  </a:lnTo>
                  <a:lnTo>
                    <a:pt x="1391" y="1821"/>
                  </a:lnTo>
                  <a:lnTo>
                    <a:pt x="1400" y="1815"/>
                  </a:lnTo>
                  <a:lnTo>
                    <a:pt x="1406" y="1806"/>
                  </a:lnTo>
                  <a:lnTo>
                    <a:pt x="1414" y="1801"/>
                  </a:lnTo>
                  <a:lnTo>
                    <a:pt x="1423" y="1801"/>
                  </a:lnTo>
                  <a:lnTo>
                    <a:pt x="1435" y="1798"/>
                  </a:lnTo>
                  <a:lnTo>
                    <a:pt x="1443" y="1792"/>
                  </a:lnTo>
                  <a:lnTo>
                    <a:pt x="1452" y="1792"/>
                  </a:lnTo>
                  <a:lnTo>
                    <a:pt x="1464" y="1789"/>
                  </a:lnTo>
                  <a:lnTo>
                    <a:pt x="1473" y="1789"/>
                  </a:lnTo>
                  <a:lnTo>
                    <a:pt x="1481" y="1789"/>
                  </a:lnTo>
                  <a:lnTo>
                    <a:pt x="1490" y="1786"/>
                  </a:lnTo>
                  <a:lnTo>
                    <a:pt x="1499" y="1786"/>
                  </a:lnTo>
                  <a:lnTo>
                    <a:pt x="1508" y="1786"/>
                  </a:lnTo>
                  <a:lnTo>
                    <a:pt x="1516" y="1783"/>
                  </a:lnTo>
                  <a:lnTo>
                    <a:pt x="1516" y="1775"/>
                  </a:lnTo>
                  <a:lnTo>
                    <a:pt x="1516" y="1766"/>
                  </a:lnTo>
                  <a:lnTo>
                    <a:pt x="1513" y="1757"/>
                  </a:lnTo>
                  <a:lnTo>
                    <a:pt x="1522" y="1752"/>
                  </a:lnTo>
                  <a:lnTo>
                    <a:pt x="1528" y="1743"/>
                  </a:lnTo>
                  <a:lnTo>
                    <a:pt x="1537" y="1737"/>
                  </a:lnTo>
                  <a:lnTo>
                    <a:pt x="1545" y="1737"/>
                  </a:lnTo>
                  <a:lnTo>
                    <a:pt x="1554" y="1734"/>
                  </a:lnTo>
                  <a:lnTo>
                    <a:pt x="1563" y="1729"/>
                  </a:lnTo>
                  <a:lnTo>
                    <a:pt x="1572" y="1729"/>
                  </a:lnTo>
                  <a:lnTo>
                    <a:pt x="1580" y="1737"/>
                  </a:lnTo>
                  <a:lnTo>
                    <a:pt x="1589" y="1743"/>
                  </a:lnTo>
                  <a:lnTo>
                    <a:pt x="1598" y="1749"/>
                  </a:lnTo>
                  <a:lnTo>
                    <a:pt x="1601" y="1757"/>
                  </a:lnTo>
                  <a:lnTo>
                    <a:pt x="1601" y="1766"/>
                  </a:lnTo>
                  <a:lnTo>
                    <a:pt x="1604" y="1775"/>
                  </a:lnTo>
                  <a:lnTo>
                    <a:pt x="1604" y="1783"/>
                  </a:lnTo>
                  <a:lnTo>
                    <a:pt x="1592" y="1789"/>
                  </a:lnTo>
                  <a:lnTo>
                    <a:pt x="1580" y="1789"/>
                  </a:lnTo>
                  <a:lnTo>
                    <a:pt x="1572" y="1792"/>
                  </a:lnTo>
                  <a:lnTo>
                    <a:pt x="1566" y="1801"/>
                  </a:lnTo>
                  <a:lnTo>
                    <a:pt x="1557" y="1806"/>
                  </a:lnTo>
                  <a:lnTo>
                    <a:pt x="1548" y="1812"/>
                  </a:lnTo>
                  <a:lnTo>
                    <a:pt x="1537" y="1815"/>
                  </a:lnTo>
                  <a:lnTo>
                    <a:pt x="1528" y="1818"/>
                  </a:lnTo>
                  <a:lnTo>
                    <a:pt x="1519" y="1824"/>
                  </a:lnTo>
                  <a:lnTo>
                    <a:pt x="1510" y="1829"/>
                  </a:lnTo>
                  <a:lnTo>
                    <a:pt x="1502" y="1829"/>
                  </a:lnTo>
                  <a:lnTo>
                    <a:pt x="1490" y="1832"/>
                  </a:lnTo>
                  <a:lnTo>
                    <a:pt x="1481" y="1835"/>
                  </a:lnTo>
                  <a:lnTo>
                    <a:pt x="1473" y="1835"/>
                  </a:lnTo>
                  <a:lnTo>
                    <a:pt x="1464" y="1841"/>
                  </a:lnTo>
                  <a:lnTo>
                    <a:pt x="1458" y="1850"/>
                  </a:lnTo>
                  <a:lnTo>
                    <a:pt x="1452" y="1858"/>
                  </a:lnTo>
                  <a:lnTo>
                    <a:pt x="1449" y="1867"/>
                  </a:lnTo>
                  <a:lnTo>
                    <a:pt x="1449" y="1876"/>
                  </a:lnTo>
                  <a:lnTo>
                    <a:pt x="1446" y="1884"/>
                  </a:lnTo>
                  <a:lnTo>
                    <a:pt x="1443" y="1893"/>
                  </a:lnTo>
                  <a:lnTo>
                    <a:pt x="1438" y="1901"/>
                  </a:lnTo>
                  <a:lnTo>
                    <a:pt x="1435" y="1910"/>
                  </a:lnTo>
                  <a:lnTo>
                    <a:pt x="1429" y="1919"/>
                  </a:lnTo>
                  <a:lnTo>
                    <a:pt x="1426" y="1927"/>
                  </a:lnTo>
                  <a:lnTo>
                    <a:pt x="1423" y="1936"/>
                  </a:lnTo>
                  <a:lnTo>
                    <a:pt x="1423" y="1945"/>
                  </a:lnTo>
                  <a:lnTo>
                    <a:pt x="1417" y="1953"/>
                  </a:lnTo>
                  <a:lnTo>
                    <a:pt x="1417" y="1962"/>
                  </a:lnTo>
                  <a:lnTo>
                    <a:pt x="1426" y="1962"/>
                  </a:lnTo>
                  <a:lnTo>
                    <a:pt x="1435" y="1974"/>
                  </a:lnTo>
                  <a:lnTo>
                    <a:pt x="1441" y="1982"/>
                  </a:lnTo>
                  <a:lnTo>
                    <a:pt x="1441" y="1991"/>
                  </a:lnTo>
                  <a:lnTo>
                    <a:pt x="1449" y="1991"/>
                  </a:lnTo>
                  <a:lnTo>
                    <a:pt x="1461" y="1991"/>
                  </a:lnTo>
                  <a:lnTo>
                    <a:pt x="1470" y="1991"/>
                  </a:lnTo>
                  <a:lnTo>
                    <a:pt x="1484" y="1994"/>
                  </a:lnTo>
                  <a:lnTo>
                    <a:pt x="1493" y="1994"/>
                  </a:lnTo>
                  <a:lnTo>
                    <a:pt x="1502" y="1994"/>
                  </a:lnTo>
                  <a:lnTo>
                    <a:pt x="1510" y="1991"/>
                  </a:lnTo>
                  <a:lnTo>
                    <a:pt x="1519" y="1997"/>
                  </a:lnTo>
                  <a:lnTo>
                    <a:pt x="1531" y="1988"/>
                  </a:lnTo>
                  <a:lnTo>
                    <a:pt x="1540" y="1991"/>
                  </a:lnTo>
                  <a:lnTo>
                    <a:pt x="1548" y="1994"/>
                  </a:lnTo>
                  <a:lnTo>
                    <a:pt x="1557" y="1997"/>
                  </a:lnTo>
                  <a:lnTo>
                    <a:pt x="1566" y="1997"/>
                  </a:lnTo>
                  <a:lnTo>
                    <a:pt x="1569" y="2005"/>
                  </a:lnTo>
                  <a:lnTo>
                    <a:pt x="1569" y="2014"/>
                  </a:lnTo>
                  <a:lnTo>
                    <a:pt x="1569" y="2023"/>
                  </a:lnTo>
                  <a:lnTo>
                    <a:pt x="1572" y="2031"/>
                  </a:lnTo>
                  <a:lnTo>
                    <a:pt x="1577" y="2040"/>
                  </a:lnTo>
                  <a:lnTo>
                    <a:pt x="1586" y="2048"/>
                  </a:lnTo>
                  <a:lnTo>
                    <a:pt x="1577" y="2040"/>
                  </a:lnTo>
                  <a:lnTo>
                    <a:pt x="1569" y="2037"/>
                  </a:lnTo>
                  <a:lnTo>
                    <a:pt x="1557" y="2037"/>
                  </a:lnTo>
                  <a:lnTo>
                    <a:pt x="1548" y="2040"/>
                  </a:lnTo>
                  <a:lnTo>
                    <a:pt x="1548" y="2048"/>
                  </a:lnTo>
                  <a:lnTo>
                    <a:pt x="1540" y="2054"/>
                  </a:lnTo>
                  <a:lnTo>
                    <a:pt x="1531" y="2051"/>
                  </a:lnTo>
                  <a:lnTo>
                    <a:pt x="1522" y="2043"/>
                  </a:lnTo>
                  <a:lnTo>
                    <a:pt x="1513" y="2034"/>
                  </a:lnTo>
                  <a:lnTo>
                    <a:pt x="1505" y="2031"/>
                  </a:lnTo>
                  <a:lnTo>
                    <a:pt x="1496" y="2031"/>
                  </a:lnTo>
                  <a:lnTo>
                    <a:pt x="1487" y="2028"/>
                  </a:lnTo>
                  <a:lnTo>
                    <a:pt x="1478" y="2025"/>
                  </a:lnTo>
                  <a:lnTo>
                    <a:pt x="1470" y="2023"/>
                  </a:lnTo>
                  <a:lnTo>
                    <a:pt x="1461" y="2020"/>
                  </a:lnTo>
                  <a:lnTo>
                    <a:pt x="1452" y="2017"/>
                  </a:lnTo>
                  <a:lnTo>
                    <a:pt x="1441" y="2011"/>
                  </a:lnTo>
                  <a:lnTo>
                    <a:pt x="1432" y="2011"/>
                  </a:lnTo>
                  <a:lnTo>
                    <a:pt x="1426" y="2020"/>
                  </a:lnTo>
                  <a:lnTo>
                    <a:pt x="1426" y="2028"/>
                  </a:lnTo>
                  <a:lnTo>
                    <a:pt x="1423" y="2037"/>
                  </a:lnTo>
                  <a:lnTo>
                    <a:pt x="1417" y="2046"/>
                  </a:lnTo>
                  <a:lnTo>
                    <a:pt x="1414" y="2054"/>
                  </a:lnTo>
                  <a:lnTo>
                    <a:pt x="1426" y="2060"/>
                  </a:lnTo>
                  <a:lnTo>
                    <a:pt x="1432" y="2069"/>
                  </a:lnTo>
                  <a:lnTo>
                    <a:pt x="1429" y="2077"/>
                  </a:lnTo>
                  <a:lnTo>
                    <a:pt x="1423" y="2086"/>
                  </a:lnTo>
                  <a:lnTo>
                    <a:pt x="1414" y="2089"/>
                  </a:lnTo>
                  <a:lnTo>
                    <a:pt x="1409" y="2097"/>
                  </a:lnTo>
                  <a:lnTo>
                    <a:pt x="1403" y="2106"/>
                  </a:lnTo>
                  <a:lnTo>
                    <a:pt x="1400" y="2115"/>
                  </a:lnTo>
                  <a:lnTo>
                    <a:pt x="1391" y="2112"/>
                  </a:lnTo>
                  <a:lnTo>
                    <a:pt x="1388" y="2103"/>
                  </a:lnTo>
                  <a:lnTo>
                    <a:pt x="1385" y="2095"/>
                  </a:lnTo>
                  <a:lnTo>
                    <a:pt x="1382" y="2086"/>
                  </a:lnTo>
                  <a:lnTo>
                    <a:pt x="1382" y="2077"/>
                  </a:lnTo>
                  <a:lnTo>
                    <a:pt x="1379" y="2069"/>
                  </a:lnTo>
                  <a:lnTo>
                    <a:pt x="1371" y="2063"/>
                  </a:lnTo>
                  <a:lnTo>
                    <a:pt x="1359" y="2063"/>
                  </a:lnTo>
                  <a:lnTo>
                    <a:pt x="1350" y="2063"/>
                  </a:lnTo>
                  <a:lnTo>
                    <a:pt x="1344" y="2072"/>
                  </a:lnTo>
                  <a:lnTo>
                    <a:pt x="1339" y="2080"/>
                  </a:lnTo>
                  <a:lnTo>
                    <a:pt x="1333" y="2089"/>
                  </a:lnTo>
                  <a:lnTo>
                    <a:pt x="1327" y="2097"/>
                  </a:lnTo>
                  <a:lnTo>
                    <a:pt x="1321" y="2106"/>
                  </a:lnTo>
                  <a:lnTo>
                    <a:pt x="1312" y="2109"/>
                  </a:lnTo>
                  <a:lnTo>
                    <a:pt x="1304" y="2112"/>
                  </a:lnTo>
                  <a:lnTo>
                    <a:pt x="1304" y="2120"/>
                  </a:lnTo>
                  <a:lnTo>
                    <a:pt x="1301" y="2129"/>
                  </a:lnTo>
                  <a:lnTo>
                    <a:pt x="1298" y="2138"/>
                  </a:lnTo>
                  <a:lnTo>
                    <a:pt x="1295" y="2146"/>
                  </a:lnTo>
                  <a:lnTo>
                    <a:pt x="1295" y="2095"/>
                  </a:lnTo>
                  <a:lnTo>
                    <a:pt x="1304" y="2103"/>
                  </a:lnTo>
                  <a:lnTo>
                    <a:pt x="1304" y="2115"/>
                  </a:lnTo>
                  <a:lnTo>
                    <a:pt x="1301" y="2123"/>
                  </a:lnTo>
                  <a:lnTo>
                    <a:pt x="1298" y="2132"/>
                  </a:lnTo>
                  <a:lnTo>
                    <a:pt x="1298" y="2141"/>
                  </a:lnTo>
                  <a:lnTo>
                    <a:pt x="1295" y="2149"/>
                  </a:lnTo>
                  <a:lnTo>
                    <a:pt x="1292" y="2161"/>
                  </a:lnTo>
                  <a:lnTo>
                    <a:pt x="1289" y="2169"/>
                  </a:lnTo>
                  <a:lnTo>
                    <a:pt x="1280" y="2175"/>
                  </a:lnTo>
                  <a:lnTo>
                    <a:pt x="1278" y="2167"/>
                  </a:lnTo>
                  <a:lnTo>
                    <a:pt x="1275" y="2155"/>
                  </a:lnTo>
                  <a:lnTo>
                    <a:pt x="1272" y="2146"/>
                  </a:lnTo>
                  <a:lnTo>
                    <a:pt x="1263" y="2146"/>
                  </a:lnTo>
                  <a:lnTo>
                    <a:pt x="1251" y="2149"/>
                  </a:lnTo>
                  <a:lnTo>
                    <a:pt x="1245" y="2158"/>
                  </a:lnTo>
                  <a:lnTo>
                    <a:pt x="1240" y="2167"/>
                  </a:lnTo>
                  <a:lnTo>
                    <a:pt x="1228" y="2167"/>
                  </a:lnTo>
                  <a:lnTo>
                    <a:pt x="1216" y="2167"/>
                  </a:lnTo>
                  <a:lnTo>
                    <a:pt x="1213" y="2155"/>
                  </a:lnTo>
                  <a:lnTo>
                    <a:pt x="1213" y="2144"/>
                  </a:lnTo>
                  <a:lnTo>
                    <a:pt x="1205" y="2138"/>
                  </a:lnTo>
                  <a:lnTo>
                    <a:pt x="1196" y="2132"/>
                  </a:lnTo>
                  <a:lnTo>
                    <a:pt x="1179" y="2126"/>
                  </a:lnTo>
                  <a:lnTo>
                    <a:pt x="1170" y="2123"/>
                  </a:lnTo>
                  <a:lnTo>
                    <a:pt x="1158" y="2123"/>
                  </a:lnTo>
                  <a:lnTo>
                    <a:pt x="1152" y="2132"/>
                  </a:lnTo>
                  <a:lnTo>
                    <a:pt x="1141" y="2135"/>
                  </a:lnTo>
                  <a:lnTo>
                    <a:pt x="1132" y="2132"/>
                  </a:lnTo>
                  <a:lnTo>
                    <a:pt x="1123" y="2123"/>
                  </a:lnTo>
                  <a:lnTo>
                    <a:pt x="1114" y="2118"/>
                  </a:lnTo>
                  <a:lnTo>
                    <a:pt x="1106" y="2115"/>
                  </a:lnTo>
                  <a:lnTo>
                    <a:pt x="1097" y="2115"/>
                  </a:lnTo>
                  <a:lnTo>
                    <a:pt x="1094" y="2106"/>
                  </a:lnTo>
                  <a:lnTo>
                    <a:pt x="1094" y="2097"/>
                  </a:lnTo>
                  <a:lnTo>
                    <a:pt x="1094" y="2089"/>
                  </a:lnTo>
                  <a:lnTo>
                    <a:pt x="1091" y="2077"/>
                  </a:lnTo>
                  <a:lnTo>
                    <a:pt x="1091" y="2069"/>
                  </a:lnTo>
                  <a:lnTo>
                    <a:pt x="1082" y="2066"/>
                  </a:lnTo>
                  <a:lnTo>
                    <a:pt x="1074" y="2066"/>
                  </a:lnTo>
                  <a:lnTo>
                    <a:pt x="1065" y="2066"/>
                  </a:lnTo>
                  <a:lnTo>
                    <a:pt x="1056" y="2066"/>
                  </a:lnTo>
                  <a:lnTo>
                    <a:pt x="1048" y="2066"/>
                  </a:lnTo>
                  <a:lnTo>
                    <a:pt x="1039" y="2066"/>
                  </a:lnTo>
                  <a:lnTo>
                    <a:pt x="1027" y="2063"/>
                  </a:lnTo>
                  <a:lnTo>
                    <a:pt x="1021" y="2054"/>
                  </a:lnTo>
                  <a:lnTo>
                    <a:pt x="1021" y="2046"/>
                  </a:lnTo>
                  <a:lnTo>
                    <a:pt x="1016" y="2048"/>
                  </a:lnTo>
                  <a:lnTo>
                    <a:pt x="1036" y="2031"/>
                  </a:lnTo>
                  <a:lnTo>
                    <a:pt x="1048" y="2020"/>
                  </a:lnTo>
                  <a:lnTo>
                    <a:pt x="1059" y="2017"/>
                  </a:lnTo>
                  <a:lnTo>
                    <a:pt x="1062" y="2025"/>
                  </a:lnTo>
                  <a:lnTo>
                    <a:pt x="1050" y="2025"/>
                  </a:lnTo>
                  <a:lnTo>
                    <a:pt x="1059" y="2025"/>
                  </a:lnTo>
                  <a:lnTo>
                    <a:pt x="1071" y="2025"/>
                  </a:lnTo>
                  <a:lnTo>
                    <a:pt x="1080" y="2025"/>
                  </a:lnTo>
                  <a:lnTo>
                    <a:pt x="1088" y="2028"/>
                  </a:lnTo>
                  <a:lnTo>
                    <a:pt x="1097" y="2028"/>
                  </a:lnTo>
                  <a:lnTo>
                    <a:pt x="1106" y="2025"/>
                  </a:lnTo>
                  <a:lnTo>
                    <a:pt x="1109" y="2017"/>
                  </a:lnTo>
                  <a:lnTo>
                    <a:pt x="1112" y="2008"/>
                  </a:lnTo>
                  <a:lnTo>
                    <a:pt x="1103" y="1999"/>
                  </a:lnTo>
                  <a:lnTo>
                    <a:pt x="1100" y="1991"/>
                  </a:lnTo>
                  <a:lnTo>
                    <a:pt x="1094" y="1982"/>
                  </a:lnTo>
                  <a:lnTo>
                    <a:pt x="1091" y="1974"/>
                  </a:lnTo>
                  <a:lnTo>
                    <a:pt x="1082" y="1971"/>
                  </a:lnTo>
                  <a:lnTo>
                    <a:pt x="1077" y="1979"/>
                  </a:lnTo>
                  <a:lnTo>
                    <a:pt x="1077" y="1991"/>
                  </a:lnTo>
                  <a:lnTo>
                    <a:pt x="1077" y="1999"/>
                  </a:lnTo>
                  <a:lnTo>
                    <a:pt x="1071" y="2008"/>
                  </a:lnTo>
                  <a:lnTo>
                    <a:pt x="1068" y="2020"/>
                  </a:lnTo>
                  <a:lnTo>
                    <a:pt x="1068" y="2028"/>
                  </a:lnTo>
                  <a:lnTo>
                    <a:pt x="1059" y="2031"/>
                  </a:lnTo>
                  <a:lnTo>
                    <a:pt x="1048" y="2031"/>
                  </a:lnTo>
                  <a:lnTo>
                    <a:pt x="1039" y="2031"/>
                  </a:lnTo>
                  <a:lnTo>
                    <a:pt x="1030" y="2031"/>
                  </a:lnTo>
                  <a:lnTo>
                    <a:pt x="1027" y="2020"/>
                  </a:lnTo>
                  <a:lnTo>
                    <a:pt x="1027" y="2011"/>
                  </a:lnTo>
                  <a:lnTo>
                    <a:pt x="1027" y="2002"/>
                  </a:lnTo>
                  <a:lnTo>
                    <a:pt x="1027" y="1994"/>
                  </a:lnTo>
                  <a:lnTo>
                    <a:pt x="1027" y="1985"/>
                  </a:lnTo>
                  <a:lnTo>
                    <a:pt x="1030" y="1976"/>
                  </a:lnTo>
                  <a:lnTo>
                    <a:pt x="1039" y="1974"/>
                  </a:lnTo>
                  <a:lnTo>
                    <a:pt x="1042" y="1982"/>
                  </a:lnTo>
                  <a:lnTo>
                    <a:pt x="1042" y="1994"/>
                  </a:lnTo>
                  <a:lnTo>
                    <a:pt x="1045" y="2002"/>
                  </a:lnTo>
                  <a:lnTo>
                    <a:pt x="1050" y="2011"/>
                  </a:lnTo>
                  <a:lnTo>
                    <a:pt x="1062" y="2014"/>
                  </a:lnTo>
                  <a:lnTo>
                    <a:pt x="1074" y="2014"/>
                  </a:lnTo>
                  <a:lnTo>
                    <a:pt x="1082" y="2005"/>
                  </a:lnTo>
                  <a:lnTo>
                    <a:pt x="1082" y="1997"/>
                  </a:lnTo>
                  <a:lnTo>
                    <a:pt x="1074" y="1985"/>
                  </a:lnTo>
                  <a:lnTo>
                    <a:pt x="1065" y="1979"/>
                  </a:lnTo>
                  <a:lnTo>
                    <a:pt x="1065" y="1971"/>
                  </a:lnTo>
                  <a:lnTo>
                    <a:pt x="1074" y="1968"/>
                  </a:lnTo>
                  <a:lnTo>
                    <a:pt x="1082" y="1968"/>
                  </a:lnTo>
                  <a:lnTo>
                    <a:pt x="1091" y="1962"/>
                  </a:lnTo>
                  <a:lnTo>
                    <a:pt x="1091" y="1953"/>
                  </a:lnTo>
                  <a:lnTo>
                    <a:pt x="1091" y="1945"/>
                  </a:lnTo>
                  <a:lnTo>
                    <a:pt x="1100" y="1939"/>
                  </a:lnTo>
                  <a:lnTo>
                    <a:pt x="1109" y="1936"/>
                  </a:lnTo>
                  <a:lnTo>
                    <a:pt x="1117" y="1936"/>
                  </a:lnTo>
                  <a:lnTo>
                    <a:pt x="1123" y="1927"/>
                  </a:lnTo>
                  <a:lnTo>
                    <a:pt x="1126" y="1919"/>
                  </a:lnTo>
                  <a:lnTo>
                    <a:pt x="1126" y="1910"/>
                  </a:lnTo>
                  <a:lnTo>
                    <a:pt x="1126" y="1901"/>
                  </a:lnTo>
                  <a:lnTo>
                    <a:pt x="1114" y="1901"/>
                  </a:lnTo>
                  <a:lnTo>
                    <a:pt x="1106" y="1901"/>
                  </a:lnTo>
                  <a:lnTo>
                    <a:pt x="1097" y="1901"/>
                  </a:lnTo>
                  <a:lnTo>
                    <a:pt x="1088" y="1904"/>
                  </a:lnTo>
                  <a:lnTo>
                    <a:pt x="1080" y="1910"/>
                  </a:lnTo>
                  <a:lnTo>
                    <a:pt x="1077" y="1925"/>
                  </a:lnTo>
                  <a:lnTo>
                    <a:pt x="1077" y="1933"/>
                  </a:lnTo>
                  <a:lnTo>
                    <a:pt x="1068" y="1933"/>
                  </a:lnTo>
                  <a:lnTo>
                    <a:pt x="1059" y="1922"/>
                  </a:lnTo>
                  <a:lnTo>
                    <a:pt x="1056" y="1913"/>
                  </a:lnTo>
                  <a:lnTo>
                    <a:pt x="1068" y="1910"/>
                  </a:lnTo>
                  <a:lnTo>
                    <a:pt x="1077" y="1910"/>
                  </a:lnTo>
                  <a:lnTo>
                    <a:pt x="1065" y="1901"/>
                  </a:lnTo>
                  <a:lnTo>
                    <a:pt x="1056" y="1896"/>
                  </a:lnTo>
                  <a:lnTo>
                    <a:pt x="1056" y="1904"/>
                  </a:lnTo>
                  <a:lnTo>
                    <a:pt x="1048" y="1910"/>
                  </a:lnTo>
                  <a:lnTo>
                    <a:pt x="1039" y="1919"/>
                  </a:lnTo>
                  <a:lnTo>
                    <a:pt x="1036" y="1927"/>
                  </a:lnTo>
                  <a:lnTo>
                    <a:pt x="1030" y="1936"/>
                  </a:lnTo>
                  <a:lnTo>
                    <a:pt x="1024" y="1945"/>
                  </a:lnTo>
                  <a:lnTo>
                    <a:pt x="1016" y="1950"/>
                  </a:lnTo>
                  <a:lnTo>
                    <a:pt x="1004" y="1953"/>
                  </a:lnTo>
                  <a:lnTo>
                    <a:pt x="1001" y="1962"/>
                  </a:lnTo>
                  <a:lnTo>
                    <a:pt x="1001" y="1971"/>
                  </a:lnTo>
                  <a:lnTo>
                    <a:pt x="1001" y="1979"/>
                  </a:lnTo>
                  <a:lnTo>
                    <a:pt x="1001" y="1988"/>
                  </a:lnTo>
                  <a:lnTo>
                    <a:pt x="1001" y="1997"/>
                  </a:lnTo>
                  <a:lnTo>
                    <a:pt x="995" y="2005"/>
                  </a:lnTo>
                  <a:lnTo>
                    <a:pt x="986" y="2011"/>
                  </a:lnTo>
                  <a:lnTo>
                    <a:pt x="981" y="2020"/>
                  </a:lnTo>
                  <a:lnTo>
                    <a:pt x="981" y="2028"/>
                  </a:lnTo>
                  <a:lnTo>
                    <a:pt x="981" y="2037"/>
                  </a:lnTo>
                  <a:lnTo>
                    <a:pt x="978" y="2046"/>
                  </a:lnTo>
                  <a:lnTo>
                    <a:pt x="978" y="2054"/>
                  </a:lnTo>
                  <a:lnTo>
                    <a:pt x="983" y="2046"/>
                  </a:lnTo>
                  <a:lnTo>
                    <a:pt x="983" y="2037"/>
                  </a:lnTo>
                  <a:lnTo>
                    <a:pt x="975" y="2034"/>
                  </a:lnTo>
                  <a:lnTo>
                    <a:pt x="966" y="2034"/>
                  </a:lnTo>
                  <a:lnTo>
                    <a:pt x="957" y="2034"/>
                  </a:lnTo>
                  <a:lnTo>
                    <a:pt x="949" y="2023"/>
                  </a:lnTo>
                  <a:lnTo>
                    <a:pt x="949" y="2011"/>
                  </a:lnTo>
                  <a:lnTo>
                    <a:pt x="940" y="2008"/>
                  </a:lnTo>
                  <a:lnTo>
                    <a:pt x="931" y="2008"/>
                  </a:lnTo>
                  <a:lnTo>
                    <a:pt x="922" y="2011"/>
                  </a:lnTo>
                  <a:lnTo>
                    <a:pt x="914" y="2008"/>
                  </a:lnTo>
                  <a:lnTo>
                    <a:pt x="899" y="2002"/>
                  </a:lnTo>
                  <a:lnTo>
                    <a:pt x="890" y="1988"/>
                  </a:lnTo>
                  <a:lnTo>
                    <a:pt x="885" y="1976"/>
                  </a:lnTo>
                  <a:lnTo>
                    <a:pt x="876" y="1976"/>
                  </a:lnTo>
                  <a:lnTo>
                    <a:pt x="867" y="1979"/>
                  </a:lnTo>
                  <a:lnTo>
                    <a:pt x="861" y="1988"/>
                  </a:lnTo>
                  <a:lnTo>
                    <a:pt x="852" y="1994"/>
                  </a:lnTo>
                  <a:lnTo>
                    <a:pt x="844" y="1999"/>
                  </a:lnTo>
                  <a:lnTo>
                    <a:pt x="835" y="2002"/>
                  </a:lnTo>
                  <a:lnTo>
                    <a:pt x="826" y="2005"/>
                  </a:lnTo>
                  <a:lnTo>
                    <a:pt x="818" y="2008"/>
                  </a:lnTo>
                  <a:lnTo>
                    <a:pt x="809" y="2008"/>
                  </a:lnTo>
                  <a:lnTo>
                    <a:pt x="797" y="2011"/>
                  </a:lnTo>
                  <a:lnTo>
                    <a:pt x="788" y="2011"/>
                  </a:lnTo>
                  <a:lnTo>
                    <a:pt x="797" y="2011"/>
                  </a:lnTo>
                  <a:lnTo>
                    <a:pt x="812" y="2014"/>
                  </a:lnTo>
                  <a:lnTo>
                    <a:pt x="803" y="2017"/>
                  </a:lnTo>
                  <a:lnTo>
                    <a:pt x="794" y="2020"/>
                  </a:lnTo>
                  <a:lnTo>
                    <a:pt x="803" y="2031"/>
                  </a:lnTo>
                  <a:lnTo>
                    <a:pt x="794" y="2031"/>
                  </a:lnTo>
                  <a:lnTo>
                    <a:pt x="786" y="2028"/>
                  </a:lnTo>
                  <a:lnTo>
                    <a:pt x="777" y="2023"/>
                  </a:lnTo>
                  <a:lnTo>
                    <a:pt x="771" y="2014"/>
                  </a:lnTo>
                  <a:lnTo>
                    <a:pt x="762" y="2011"/>
                  </a:lnTo>
                  <a:lnTo>
                    <a:pt x="751" y="2008"/>
                  </a:lnTo>
                  <a:lnTo>
                    <a:pt x="742" y="2008"/>
                  </a:lnTo>
                  <a:lnTo>
                    <a:pt x="733" y="2005"/>
                  </a:lnTo>
                  <a:lnTo>
                    <a:pt x="736" y="2002"/>
                  </a:lnTo>
                  <a:lnTo>
                    <a:pt x="721" y="1985"/>
                  </a:lnTo>
                  <a:lnTo>
                    <a:pt x="713" y="1985"/>
                  </a:lnTo>
                  <a:lnTo>
                    <a:pt x="710" y="1994"/>
                  </a:lnTo>
                  <a:lnTo>
                    <a:pt x="716" y="2005"/>
                  </a:lnTo>
                  <a:lnTo>
                    <a:pt x="713" y="2014"/>
                  </a:lnTo>
                  <a:lnTo>
                    <a:pt x="704" y="2020"/>
                  </a:lnTo>
                  <a:lnTo>
                    <a:pt x="704" y="2028"/>
                  </a:lnTo>
                  <a:lnTo>
                    <a:pt x="692" y="2031"/>
                  </a:lnTo>
                  <a:lnTo>
                    <a:pt x="684" y="2025"/>
                  </a:lnTo>
                  <a:lnTo>
                    <a:pt x="672" y="2020"/>
                  </a:lnTo>
                  <a:lnTo>
                    <a:pt x="660" y="2017"/>
                  </a:lnTo>
                  <a:lnTo>
                    <a:pt x="646" y="2011"/>
                  </a:lnTo>
                  <a:lnTo>
                    <a:pt x="634" y="2008"/>
                  </a:lnTo>
                  <a:lnTo>
                    <a:pt x="625" y="2005"/>
                  </a:lnTo>
                  <a:lnTo>
                    <a:pt x="622" y="1997"/>
                  </a:lnTo>
                  <a:lnTo>
                    <a:pt x="620" y="1988"/>
                  </a:lnTo>
                  <a:lnTo>
                    <a:pt x="611" y="1979"/>
                  </a:lnTo>
                  <a:lnTo>
                    <a:pt x="608" y="1971"/>
                  </a:lnTo>
                  <a:lnTo>
                    <a:pt x="599" y="1968"/>
                  </a:lnTo>
                  <a:lnTo>
                    <a:pt x="590" y="1974"/>
                  </a:lnTo>
                  <a:lnTo>
                    <a:pt x="588" y="1985"/>
                  </a:lnTo>
                  <a:lnTo>
                    <a:pt x="585" y="1997"/>
                  </a:lnTo>
                  <a:lnTo>
                    <a:pt x="576" y="2002"/>
                  </a:lnTo>
                  <a:lnTo>
                    <a:pt x="567" y="1991"/>
                  </a:lnTo>
                  <a:lnTo>
                    <a:pt x="561" y="1982"/>
                  </a:lnTo>
                  <a:lnTo>
                    <a:pt x="553" y="1976"/>
                  </a:lnTo>
                  <a:lnTo>
                    <a:pt x="547" y="1968"/>
                  </a:lnTo>
                  <a:lnTo>
                    <a:pt x="541" y="1959"/>
                  </a:lnTo>
                  <a:lnTo>
                    <a:pt x="532" y="1956"/>
                  </a:lnTo>
                  <a:lnTo>
                    <a:pt x="524" y="1953"/>
                  </a:lnTo>
                  <a:lnTo>
                    <a:pt x="518" y="1945"/>
                  </a:lnTo>
                  <a:lnTo>
                    <a:pt x="509" y="1939"/>
                  </a:lnTo>
                  <a:lnTo>
                    <a:pt x="500" y="1939"/>
                  </a:lnTo>
                  <a:lnTo>
                    <a:pt x="494" y="1948"/>
                  </a:lnTo>
                  <a:lnTo>
                    <a:pt x="491" y="1956"/>
                  </a:lnTo>
                  <a:lnTo>
                    <a:pt x="486" y="1965"/>
                  </a:lnTo>
                  <a:lnTo>
                    <a:pt x="491" y="1974"/>
                  </a:lnTo>
                  <a:lnTo>
                    <a:pt x="500" y="1976"/>
                  </a:lnTo>
                  <a:lnTo>
                    <a:pt x="503" y="1985"/>
                  </a:lnTo>
                  <a:lnTo>
                    <a:pt x="506" y="1994"/>
                  </a:lnTo>
                  <a:lnTo>
                    <a:pt x="509" y="2002"/>
                  </a:lnTo>
                  <a:lnTo>
                    <a:pt x="512" y="2011"/>
                  </a:lnTo>
                  <a:lnTo>
                    <a:pt x="515" y="2020"/>
                  </a:lnTo>
                  <a:lnTo>
                    <a:pt x="518" y="2028"/>
                  </a:lnTo>
                  <a:lnTo>
                    <a:pt x="518" y="2037"/>
                  </a:lnTo>
                  <a:lnTo>
                    <a:pt x="518" y="2046"/>
                  </a:lnTo>
                  <a:lnTo>
                    <a:pt x="518" y="2054"/>
                  </a:lnTo>
                  <a:lnTo>
                    <a:pt x="515" y="2063"/>
                  </a:lnTo>
                  <a:lnTo>
                    <a:pt x="506" y="2072"/>
                  </a:lnTo>
                  <a:lnTo>
                    <a:pt x="503" y="2080"/>
                  </a:lnTo>
                  <a:lnTo>
                    <a:pt x="503" y="2089"/>
                  </a:lnTo>
                  <a:lnTo>
                    <a:pt x="503" y="2097"/>
                  </a:lnTo>
                  <a:lnTo>
                    <a:pt x="500" y="2106"/>
                  </a:lnTo>
                  <a:lnTo>
                    <a:pt x="491" y="2112"/>
                  </a:lnTo>
                  <a:lnTo>
                    <a:pt x="483" y="2118"/>
                  </a:lnTo>
                  <a:lnTo>
                    <a:pt x="483" y="2126"/>
                  </a:lnTo>
                  <a:lnTo>
                    <a:pt x="480" y="2138"/>
                  </a:lnTo>
                  <a:lnTo>
                    <a:pt x="477" y="2149"/>
                  </a:lnTo>
                  <a:lnTo>
                    <a:pt x="468" y="2144"/>
                  </a:lnTo>
                  <a:lnTo>
                    <a:pt x="459" y="2144"/>
                  </a:lnTo>
                  <a:lnTo>
                    <a:pt x="451" y="2144"/>
                  </a:lnTo>
                  <a:lnTo>
                    <a:pt x="442" y="2152"/>
                  </a:lnTo>
                  <a:lnTo>
                    <a:pt x="436" y="2161"/>
                  </a:lnTo>
                  <a:lnTo>
                    <a:pt x="427" y="2167"/>
                  </a:lnTo>
                  <a:lnTo>
                    <a:pt x="419" y="2175"/>
                  </a:lnTo>
                  <a:lnTo>
                    <a:pt x="407" y="2181"/>
                  </a:lnTo>
                  <a:lnTo>
                    <a:pt x="398" y="2184"/>
                  </a:lnTo>
                  <a:lnTo>
                    <a:pt x="393" y="2175"/>
                  </a:lnTo>
                  <a:lnTo>
                    <a:pt x="390" y="2167"/>
                  </a:lnTo>
                  <a:lnTo>
                    <a:pt x="384" y="2158"/>
                  </a:lnTo>
                  <a:lnTo>
                    <a:pt x="369" y="2149"/>
                  </a:lnTo>
                  <a:lnTo>
                    <a:pt x="358" y="2144"/>
                  </a:lnTo>
                  <a:lnTo>
                    <a:pt x="355" y="2135"/>
                  </a:lnTo>
                  <a:lnTo>
                    <a:pt x="349" y="2126"/>
                  </a:lnTo>
                  <a:lnTo>
                    <a:pt x="343" y="2118"/>
                  </a:lnTo>
                  <a:lnTo>
                    <a:pt x="334" y="2109"/>
                  </a:lnTo>
                  <a:lnTo>
                    <a:pt x="328" y="2100"/>
                  </a:lnTo>
                  <a:lnTo>
                    <a:pt x="320" y="2092"/>
                  </a:lnTo>
                  <a:lnTo>
                    <a:pt x="317" y="2080"/>
                  </a:lnTo>
                  <a:lnTo>
                    <a:pt x="317" y="2048"/>
                  </a:lnTo>
                  <a:lnTo>
                    <a:pt x="311" y="2060"/>
                  </a:lnTo>
                  <a:lnTo>
                    <a:pt x="302" y="2057"/>
                  </a:lnTo>
                  <a:lnTo>
                    <a:pt x="294" y="2051"/>
                  </a:lnTo>
                  <a:lnTo>
                    <a:pt x="282" y="2048"/>
                  </a:lnTo>
                  <a:lnTo>
                    <a:pt x="276" y="2040"/>
                  </a:lnTo>
                  <a:lnTo>
                    <a:pt x="270" y="2031"/>
                  </a:lnTo>
                  <a:lnTo>
                    <a:pt x="264" y="2023"/>
                  </a:lnTo>
                  <a:lnTo>
                    <a:pt x="259" y="2014"/>
                  </a:lnTo>
                  <a:lnTo>
                    <a:pt x="250" y="2008"/>
                  </a:lnTo>
                  <a:lnTo>
                    <a:pt x="241" y="2011"/>
                  </a:lnTo>
                  <a:lnTo>
                    <a:pt x="232" y="2011"/>
                  </a:lnTo>
                  <a:lnTo>
                    <a:pt x="227" y="2002"/>
                  </a:lnTo>
                  <a:lnTo>
                    <a:pt x="218" y="2002"/>
                  </a:lnTo>
                  <a:lnTo>
                    <a:pt x="209" y="2002"/>
                  </a:lnTo>
                  <a:lnTo>
                    <a:pt x="200" y="2002"/>
                  </a:lnTo>
                  <a:lnTo>
                    <a:pt x="203" y="2014"/>
                  </a:lnTo>
                  <a:lnTo>
                    <a:pt x="203" y="2025"/>
                  </a:lnTo>
                  <a:lnTo>
                    <a:pt x="200" y="2034"/>
                  </a:lnTo>
                  <a:lnTo>
                    <a:pt x="189" y="2037"/>
                  </a:lnTo>
                  <a:lnTo>
                    <a:pt x="180" y="2043"/>
                  </a:lnTo>
                  <a:lnTo>
                    <a:pt x="171" y="2051"/>
                  </a:lnTo>
                  <a:lnTo>
                    <a:pt x="168" y="2060"/>
                  </a:lnTo>
                  <a:lnTo>
                    <a:pt x="163" y="2072"/>
                  </a:lnTo>
                  <a:lnTo>
                    <a:pt x="154" y="2077"/>
                  </a:lnTo>
                  <a:lnTo>
                    <a:pt x="145" y="2083"/>
                  </a:lnTo>
                  <a:lnTo>
                    <a:pt x="136" y="2086"/>
                  </a:lnTo>
                  <a:lnTo>
                    <a:pt x="122" y="2092"/>
                  </a:lnTo>
                  <a:lnTo>
                    <a:pt x="113" y="2095"/>
                  </a:lnTo>
                  <a:lnTo>
                    <a:pt x="104" y="2097"/>
                  </a:lnTo>
                  <a:lnTo>
                    <a:pt x="96" y="2103"/>
                  </a:lnTo>
                  <a:lnTo>
                    <a:pt x="87" y="2109"/>
                  </a:lnTo>
                  <a:lnTo>
                    <a:pt x="78" y="2112"/>
                  </a:lnTo>
                  <a:lnTo>
                    <a:pt x="66" y="2112"/>
                  </a:lnTo>
                  <a:lnTo>
                    <a:pt x="58" y="2115"/>
                  </a:lnTo>
                  <a:lnTo>
                    <a:pt x="55" y="2123"/>
                  </a:lnTo>
                  <a:lnTo>
                    <a:pt x="49" y="2132"/>
                  </a:lnTo>
                  <a:lnTo>
                    <a:pt x="46" y="2141"/>
                  </a:lnTo>
                  <a:lnTo>
                    <a:pt x="58" y="2146"/>
                  </a:lnTo>
                  <a:lnTo>
                    <a:pt x="66" y="2146"/>
                  </a:lnTo>
                  <a:lnTo>
                    <a:pt x="75" y="2146"/>
                  </a:lnTo>
                  <a:lnTo>
                    <a:pt x="66" y="2158"/>
                  </a:lnTo>
                  <a:lnTo>
                    <a:pt x="55" y="2164"/>
                  </a:lnTo>
                  <a:lnTo>
                    <a:pt x="43" y="2169"/>
                  </a:lnTo>
                  <a:lnTo>
                    <a:pt x="34" y="2175"/>
                  </a:lnTo>
                  <a:lnTo>
                    <a:pt x="26" y="2181"/>
                  </a:lnTo>
                  <a:lnTo>
                    <a:pt x="23" y="2190"/>
                  </a:lnTo>
                  <a:lnTo>
                    <a:pt x="23" y="2198"/>
                  </a:lnTo>
                  <a:lnTo>
                    <a:pt x="14" y="2207"/>
                  </a:lnTo>
                  <a:lnTo>
                    <a:pt x="5" y="2210"/>
                  </a:lnTo>
                  <a:lnTo>
                    <a:pt x="0" y="2218"/>
                  </a:lnTo>
                  <a:lnTo>
                    <a:pt x="5" y="2227"/>
                  </a:lnTo>
                  <a:lnTo>
                    <a:pt x="14" y="2236"/>
                  </a:lnTo>
                  <a:lnTo>
                    <a:pt x="23" y="2244"/>
                  </a:lnTo>
                  <a:lnTo>
                    <a:pt x="37" y="2233"/>
                  </a:lnTo>
                  <a:lnTo>
                    <a:pt x="46" y="2230"/>
                  </a:lnTo>
                  <a:lnTo>
                    <a:pt x="49" y="2239"/>
                  </a:lnTo>
                  <a:lnTo>
                    <a:pt x="49" y="2247"/>
                  </a:lnTo>
                  <a:lnTo>
                    <a:pt x="52" y="2256"/>
                  </a:lnTo>
                  <a:lnTo>
                    <a:pt x="55" y="2265"/>
                  </a:lnTo>
                  <a:lnTo>
                    <a:pt x="58" y="2273"/>
                  </a:lnTo>
                  <a:lnTo>
                    <a:pt x="58" y="2282"/>
                  </a:lnTo>
                  <a:lnTo>
                    <a:pt x="61" y="2291"/>
                  </a:lnTo>
                  <a:lnTo>
                    <a:pt x="61" y="2299"/>
                  </a:lnTo>
                  <a:lnTo>
                    <a:pt x="58" y="2308"/>
                  </a:lnTo>
                  <a:lnTo>
                    <a:pt x="52" y="2316"/>
                  </a:lnTo>
                  <a:lnTo>
                    <a:pt x="52" y="2325"/>
                  </a:lnTo>
                  <a:lnTo>
                    <a:pt x="52" y="2334"/>
                  </a:lnTo>
                  <a:lnTo>
                    <a:pt x="49" y="2342"/>
                  </a:lnTo>
                  <a:lnTo>
                    <a:pt x="58" y="2348"/>
                  </a:lnTo>
                  <a:lnTo>
                    <a:pt x="69" y="2348"/>
                  </a:lnTo>
                  <a:lnTo>
                    <a:pt x="78" y="2348"/>
                  </a:lnTo>
                  <a:lnTo>
                    <a:pt x="87" y="2357"/>
                  </a:lnTo>
                  <a:lnTo>
                    <a:pt x="96" y="2360"/>
                  </a:lnTo>
                  <a:lnTo>
                    <a:pt x="104" y="2360"/>
                  </a:lnTo>
                  <a:lnTo>
                    <a:pt x="113" y="2365"/>
                  </a:lnTo>
                  <a:lnTo>
                    <a:pt x="122" y="2371"/>
                  </a:lnTo>
                  <a:lnTo>
                    <a:pt x="128" y="2380"/>
                  </a:lnTo>
                  <a:lnTo>
                    <a:pt x="139" y="2389"/>
                  </a:lnTo>
                  <a:lnTo>
                    <a:pt x="142" y="2397"/>
                  </a:lnTo>
                  <a:lnTo>
                    <a:pt x="151" y="2406"/>
                  </a:lnTo>
                  <a:lnTo>
                    <a:pt x="160" y="2414"/>
                  </a:lnTo>
                  <a:lnTo>
                    <a:pt x="168" y="2417"/>
                  </a:lnTo>
                  <a:lnTo>
                    <a:pt x="177" y="2420"/>
                  </a:lnTo>
                  <a:lnTo>
                    <a:pt x="186" y="2423"/>
                  </a:lnTo>
                  <a:lnTo>
                    <a:pt x="195" y="2423"/>
                  </a:lnTo>
                  <a:lnTo>
                    <a:pt x="203" y="2423"/>
                  </a:lnTo>
                  <a:lnTo>
                    <a:pt x="212" y="2423"/>
                  </a:lnTo>
                  <a:lnTo>
                    <a:pt x="221" y="2420"/>
                  </a:lnTo>
                  <a:lnTo>
                    <a:pt x="229" y="2420"/>
                  </a:lnTo>
                  <a:lnTo>
                    <a:pt x="238" y="2420"/>
                  </a:lnTo>
                  <a:lnTo>
                    <a:pt x="247" y="2417"/>
                  </a:lnTo>
                  <a:lnTo>
                    <a:pt x="256" y="2412"/>
                  </a:lnTo>
                  <a:lnTo>
                    <a:pt x="264" y="2412"/>
                  </a:lnTo>
                  <a:lnTo>
                    <a:pt x="276" y="2412"/>
                  </a:lnTo>
                  <a:lnTo>
                    <a:pt x="285" y="2412"/>
                  </a:lnTo>
                  <a:lnTo>
                    <a:pt x="294" y="2414"/>
                  </a:lnTo>
                  <a:lnTo>
                    <a:pt x="302" y="2414"/>
                  </a:lnTo>
                  <a:lnTo>
                    <a:pt x="305" y="2406"/>
                  </a:lnTo>
                  <a:lnTo>
                    <a:pt x="305" y="2397"/>
                  </a:lnTo>
                  <a:lnTo>
                    <a:pt x="302" y="2389"/>
                  </a:lnTo>
                  <a:lnTo>
                    <a:pt x="299" y="2380"/>
                  </a:lnTo>
                  <a:lnTo>
                    <a:pt x="302" y="2371"/>
                  </a:lnTo>
                  <a:lnTo>
                    <a:pt x="314" y="2368"/>
                  </a:lnTo>
                  <a:lnTo>
                    <a:pt x="323" y="2368"/>
                  </a:lnTo>
                  <a:lnTo>
                    <a:pt x="331" y="2368"/>
                  </a:lnTo>
                  <a:lnTo>
                    <a:pt x="343" y="2368"/>
                  </a:lnTo>
                  <a:lnTo>
                    <a:pt x="346" y="2360"/>
                  </a:lnTo>
                  <a:lnTo>
                    <a:pt x="355" y="2354"/>
                  </a:lnTo>
                  <a:lnTo>
                    <a:pt x="363" y="2351"/>
                  </a:lnTo>
                  <a:lnTo>
                    <a:pt x="372" y="2351"/>
                  </a:lnTo>
                  <a:lnTo>
                    <a:pt x="381" y="2348"/>
                  </a:lnTo>
                  <a:lnTo>
                    <a:pt x="390" y="2348"/>
                  </a:lnTo>
                  <a:lnTo>
                    <a:pt x="398" y="2348"/>
                  </a:lnTo>
                  <a:lnTo>
                    <a:pt x="407" y="2348"/>
                  </a:lnTo>
                  <a:lnTo>
                    <a:pt x="419" y="2354"/>
                  </a:lnTo>
                  <a:lnTo>
                    <a:pt x="427" y="2360"/>
                  </a:lnTo>
                  <a:lnTo>
                    <a:pt x="436" y="2360"/>
                  </a:lnTo>
                  <a:lnTo>
                    <a:pt x="445" y="2360"/>
                  </a:lnTo>
                  <a:lnTo>
                    <a:pt x="454" y="2363"/>
                  </a:lnTo>
                  <a:lnTo>
                    <a:pt x="462" y="2363"/>
                  </a:lnTo>
                  <a:lnTo>
                    <a:pt x="471" y="2363"/>
                  </a:lnTo>
                  <a:lnTo>
                    <a:pt x="480" y="2363"/>
                  </a:lnTo>
                  <a:lnTo>
                    <a:pt x="489" y="2360"/>
                  </a:lnTo>
                  <a:lnTo>
                    <a:pt x="494" y="2351"/>
                  </a:lnTo>
                  <a:lnTo>
                    <a:pt x="494" y="2342"/>
                  </a:lnTo>
                  <a:lnTo>
                    <a:pt x="494" y="2334"/>
                  </a:lnTo>
                  <a:lnTo>
                    <a:pt x="497" y="2325"/>
                  </a:lnTo>
                  <a:lnTo>
                    <a:pt x="506" y="2322"/>
                  </a:lnTo>
                  <a:lnTo>
                    <a:pt x="515" y="2322"/>
                  </a:lnTo>
                  <a:lnTo>
                    <a:pt x="524" y="2322"/>
                  </a:lnTo>
                  <a:lnTo>
                    <a:pt x="532" y="2322"/>
                  </a:lnTo>
                  <a:lnTo>
                    <a:pt x="541" y="2322"/>
                  </a:lnTo>
                  <a:lnTo>
                    <a:pt x="550" y="2328"/>
                  </a:lnTo>
                  <a:lnTo>
                    <a:pt x="556" y="2337"/>
                  </a:lnTo>
                  <a:lnTo>
                    <a:pt x="564" y="2342"/>
                  </a:lnTo>
                  <a:lnTo>
                    <a:pt x="570" y="2351"/>
                  </a:lnTo>
                  <a:lnTo>
                    <a:pt x="576" y="2360"/>
                  </a:lnTo>
                  <a:lnTo>
                    <a:pt x="585" y="2368"/>
                  </a:lnTo>
                  <a:lnTo>
                    <a:pt x="590" y="2377"/>
                  </a:lnTo>
                  <a:lnTo>
                    <a:pt x="599" y="2383"/>
                  </a:lnTo>
                  <a:lnTo>
                    <a:pt x="611" y="2386"/>
                  </a:lnTo>
                  <a:lnTo>
                    <a:pt x="620" y="2386"/>
                  </a:lnTo>
                  <a:lnTo>
                    <a:pt x="628" y="2386"/>
                  </a:lnTo>
                  <a:lnTo>
                    <a:pt x="637" y="2386"/>
                  </a:lnTo>
                  <a:lnTo>
                    <a:pt x="646" y="2386"/>
                  </a:lnTo>
                  <a:lnTo>
                    <a:pt x="655" y="2386"/>
                  </a:lnTo>
                  <a:lnTo>
                    <a:pt x="663" y="2389"/>
                  </a:lnTo>
                  <a:lnTo>
                    <a:pt x="672" y="2389"/>
                  </a:lnTo>
                  <a:lnTo>
                    <a:pt x="681" y="2389"/>
                  </a:lnTo>
                  <a:lnTo>
                    <a:pt x="689" y="2389"/>
                  </a:lnTo>
                  <a:lnTo>
                    <a:pt x="698" y="2394"/>
                  </a:lnTo>
                  <a:lnTo>
                    <a:pt x="707" y="2403"/>
                  </a:lnTo>
                  <a:lnTo>
                    <a:pt x="713" y="2412"/>
                  </a:lnTo>
                  <a:lnTo>
                    <a:pt x="716" y="2420"/>
                  </a:lnTo>
                  <a:lnTo>
                    <a:pt x="716" y="2429"/>
                  </a:lnTo>
                  <a:lnTo>
                    <a:pt x="716" y="2437"/>
                  </a:lnTo>
                  <a:lnTo>
                    <a:pt x="719" y="2446"/>
                  </a:lnTo>
                  <a:lnTo>
                    <a:pt x="719" y="2455"/>
                  </a:lnTo>
                  <a:lnTo>
                    <a:pt x="721" y="2463"/>
                  </a:lnTo>
                  <a:lnTo>
                    <a:pt x="721" y="2472"/>
                  </a:lnTo>
                  <a:lnTo>
                    <a:pt x="721" y="2481"/>
                  </a:lnTo>
                  <a:lnTo>
                    <a:pt x="721" y="2489"/>
                  </a:lnTo>
                  <a:lnTo>
                    <a:pt x="713" y="2492"/>
                  </a:lnTo>
                  <a:lnTo>
                    <a:pt x="704" y="2492"/>
                  </a:lnTo>
                  <a:lnTo>
                    <a:pt x="698" y="2501"/>
                  </a:lnTo>
                  <a:lnTo>
                    <a:pt x="707" y="2507"/>
                  </a:lnTo>
                  <a:lnTo>
                    <a:pt x="716" y="2512"/>
                  </a:lnTo>
                  <a:lnTo>
                    <a:pt x="721" y="2521"/>
                  </a:lnTo>
                  <a:lnTo>
                    <a:pt x="721" y="2530"/>
                  </a:lnTo>
                  <a:lnTo>
                    <a:pt x="719" y="2538"/>
                  </a:lnTo>
                  <a:lnTo>
                    <a:pt x="719" y="2547"/>
                  </a:lnTo>
                  <a:lnTo>
                    <a:pt x="719" y="2556"/>
                  </a:lnTo>
                  <a:lnTo>
                    <a:pt x="719" y="2564"/>
                  </a:lnTo>
                  <a:lnTo>
                    <a:pt x="721" y="2576"/>
                  </a:lnTo>
                  <a:lnTo>
                    <a:pt x="721" y="2584"/>
                  </a:lnTo>
                  <a:lnTo>
                    <a:pt x="727" y="2593"/>
                  </a:lnTo>
                  <a:lnTo>
                    <a:pt x="736" y="2602"/>
                  </a:lnTo>
                  <a:lnTo>
                    <a:pt x="742" y="2613"/>
                  </a:lnTo>
                  <a:lnTo>
                    <a:pt x="745" y="2625"/>
                  </a:lnTo>
                  <a:lnTo>
                    <a:pt x="756" y="2633"/>
                  </a:lnTo>
                  <a:lnTo>
                    <a:pt x="765" y="2642"/>
                  </a:lnTo>
                  <a:lnTo>
                    <a:pt x="768" y="2654"/>
                  </a:lnTo>
                  <a:lnTo>
                    <a:pt x="768" y="2662"/>
                  </a:lnTo>
                  <a:lnTo>
                    <a:pt x="768" y="2671"/>
                  </a:lnTo>
                  <a:lnTo>
                    <a:pt x="771" y="2682"/>
                  </a:lnTo>
                  <a:lnTo>
                    <a:pt x="780" y="2688"/>
                  </a:lnTo>
                  <a:lnTo>
                    <a:pt x="783" y="2697"/>
                  </a:lnTo>
                  <a:lnTo>
                    <a:pt x="786" y="2705"/>
                  </a:lnTo>
                  <a:lnTo>
                    <a:pt x="788" y="2714"/>
                  </a:lnTo>
                  <a:lnTo>
                    <a:pt x="788" y="2723"/>
                  </a:lnTo>
                  <a:lnTo>
                    <a:pt x="788" y="2731"/>
                  </a:lnTo>
                  <a:lnTo>
                    <a:pt x="788" y="2740"/>
                  </a:lnTo>
                  <a:lnTo>
                    <a:pt x="788" y="2749"/>
                  </a:lnTo>
                  <a:lnTo>
                    <a:pt x="788" y="2757"/>
                  </a:lnTo>
                  <a:lnTo>
                    <a:pt x="788" y="2769"/>
                  </a:lnTo>
                  <a:lnTo>
                    <a:pt x="783" y="2778"/>
                  </a:lnTo>
                  <a:lnTo>
                    <a:pt x="774" y="2778"/>
                  </a:lnTo>
                  <a:lnTo>
                    <a:pt x="765" y="2783"/>
                  </a:lnTo>
                  <a:lnTo>
                    <a:pt x="759" y="2792"/>
                  </a:lnTo>
                  <a:lnTo>
                    <a:pt x="751" y="2795"/>
                  </a:lnTo>
                  <a:lnTo>
                    <a:pt x="742" y="2789"/>
                  </a:lnTo>
                  <a:lnTo>
                    <a:pt x="730" y="2786"/>
                  </a:lnTo>
                  <a:lnTo>
                    <a:pt x="721" y="2780"/>
                  </a:lnTo>
                  <a:lnTo>
                    <a:pt x="713" y="2778"/>
                  </a:lnTo>
                  <a:lnTo>
                    <a:pt x="710" y="2766"/>
                  </a:lnTo>
                  <a:lnTo>
                    <a:pt x="707" y="2757"/>
                  </a:lnTo>
                  <a:lnTo>
                    <a:pt x="698" y="2754"/>
                  </a:lnTo>
                  <a:lnTo>
                    <a:pt x="687" y="2754"/>
                  </a:lnTo>
                  <a:lnTo>
                    <a:pt x="678" y="2746"/>
                  </a:lnTo>
                  <a:lnTo>
                    <a:pt x="672" y="2737"/>
                  </a:lnTo>
                  <a:lnTo>
                    <a:pt x="660" y="2731"/>
                  </a:lnTo>
                  <a:lnTo>
                    <a:pt x="652" y="2729"/>
                  </a:lnTo>
                  <a:lnTo>
                    <a:pt x="643" y="2729"/>
                  </a:lnTo>
                  <a:lnTo>
                    <a:pt x="634" y="2729"/>
                  </a:lnTo>
                  <a:lnTo>
                    <a:pt x="628" y="2737"/>
                  </a:lnTo>
                  <a:lnTo>
                    <a:pt x="628" y="2746"/>
                  </a:lnTo>
                  <a:lnTo>
                    <a:pt x="631" y="2754"/>
                  </a:lnTo>
                  <a:lnTo>
                    <a:pt x="640" y="2763"/>
                  </a:lnTo>
                  <a:lnTo>
                    <a:pt x="652" y="2769"/>
                  </a:lnTo>
                  <a:lnTo>
                    <a:pt x="660" y="2775"/>
                  </a:lnTo>
                  <a:lnTo>
                    <a:pt x="666" y="2783"/>
                  </a:lnTo>
                  <a:lnTo>
                    <a:pt x="669" y="2792"/>
                  </a:lnTo>
                  <a:lnTo>
                    <a:pt x="672" y="2801"/>
                  </a:lnTo>
                  <a:lnTo>
                    <a:pt x="675" y="2809"/>
                  </a:lnTo>
                  <a:lnTo>
                    <a:pt x="678" y="2818"/>
                  </a:lnTo>
                  <a:lnTo>
                    <a:pt x="687" y="2827"/>
                  </a:lnTo>
                  <a:lnTo>
                    <a:pt x="695" y="2829"/>
                  </a:lnTo>
                  <a:lnTo>
                    <a:pt x="707" y="2829"/>
                  </a:lnTo>
                  <a:lnTo>
                    <a:pt x="713" y="2818"/>
                  </a:lnTo>
                  <a:lnTo>
                    <a:pt x="713" y="2809"/>
                  </a:lnTo>
                  <a:lnTo>
                    <a:pt x="716" y="2801"/>
                  </a:lnTo>
                  <a:lnTo>
                    <a:pt x="724" y="2795"/>
                  </a:lnTo>
                  <a:lnTo>
                    <a:pt x="733" y="2795"/>
                  </a:lnTo>
                  <a:lnTo>
                    <a:pt x="742" y="2792"/>
                  </a:lnTo>
                  <a:lnTo>
                    <a:pt x="751" y="2801"/>
                  </a:lnTo>
                  <a:lnTo>
                    <a:pt x="762" y="2803"/>
                  </a:lnTo>
                  <a:lnTo>
                    <a:pt x="771" y="2803"/>
                  </a:lnTo>
                  <a:lnTo>
                    <a:pt x="780" y="2803"/>
                  </a:lnTo>
                  <a:lnTo>
                    <a:pt x="788" y="2803"/>
                  </a:lnTo>
                  <a:lnTo>
                    <a:pt x="788" y="2795"/>
                  </a:lnTo>
                  <a:lnTo>
                    <a:pt x="788" y="2786"/>
                  </a:lnTo>
                  <a:lnTo>
                    <a:pt x="797" y="2780"/>
                  </a:lnTo>
                  <a:lnTo>
                    <a:pt x="806" y="2780"/>
                  </a:lnTo>
                  <a:lnTo>
                    <a:pt x="815" y="2772"/>
                  </a:lnTo>
                  <a:lnTo>
                    <a:pt x="815" y="2763"/>
                  </a:lnTo>
                  <a:lnTo>
                    <a:pt x="815" y="2754"/>
                  </a:lnTo>
                  <a:lnTo>
                    <a:pt x="815" y="2746"/>
                  </a:lnTo>
                  <a:lnTo>
                    <a:pt x="815" y="2737"/>
                  </a:lnTo>
                  <a:lnTo>
                    <a:pt x="818" y="2729"/>
                  </a:lnTo>
                  <a:lnTo>
                    <a:pt x="826" y="2726"/>
                  </a:lnTo>
                  <a:lnTo>
                    <a:pt x="835" y="2720"/>
                  </a:lnTo>
                  <a:lnTo>
                    <a:pt x="844" y="2717"/>
                  </a:lnTo>
                  <a:lnTo>
                    <a:pt x="852" y="2720"/>
                  </a:lnTo>
                  <a:lnTo>
                    <a:pt x="855" y="2729"/>
                  </a:lnTo>
                  <a:lnTo>
                    <a:pt x="858" y="2740"/>
                  </a:lnTo>
                  <a:lnTo>
                    <a:pt x="858" y="2749"/>
                  </a:lnTo>
                  <a:lnTo>
                    <a:pt x="861" y="2757"/>
                  </a:lnTo>
                  <a:lnTo>
                    <a:pt x="870" y="2763"/>
                  </a:lnTo>
                  <a:lnTo>
                    <a:pt x="882" y="2766"/>
                  </a:lnTo>
                  <a:lnTo>
                    <a:pt x="887" y="2757"/>
                  </a:lnTo>
                  <a:lnTo>
                    <a:pt x="887" y="2749"/>
                  </a:lnTo>
                  <a:lnTo>
                    <a:pt x="887" y="2740"/>
                  </a:lnTo>
                  <a:lnTo>
                    <a:pt x="887" y="2731"/>
                  </a:lnTo>
                  <a:lnTo>
                    <a:pt x="885" y="2723"/>
                  </a:lnTo>
                  <a:lnTo>
                    <a:pt x="876" y="2714"/>
                  </a:lnTo>
                  <a:lnTo>
                    <a:pt x="870" y="2705"/>
                  </a:lnTo>
                  <a:lnTo>
                    <a:pt x="864" y="2697"/>
                  </a:lnTo>
                  <a:lnTo>
                    <a:pt x="855" y="2691"/>
                  </a:lnTo>
                  <a:lnTo>
                    <a:pt x="847" y="2682"/>
                  </a:lnTo>
                  <a:lnTo>
                    <a:pt x="838" y="2674"/>
                  </a:lnTo>
                  <a:lnTo>
                    <a:pt x="835" y="2665"/>
                  </a:lnTo>
                  <a:lnTo>
                    <a:pt x="832" y="2657"/>
                  </a:lnTo>
                  <a:lnTo>
                    <a:pt x="832" y="2648"/>
                  </a:lnTo>
                  <a:lnTo>
                    <a:pt x="841" y="2642"/>
                  </a:lnTo>
                  <a:lnTo>
                    <a:pt x="850" y="2642"/>
                  </a:lnTo>
                  <a:lnTo>
                    <a:pt x="852" y="2633"/>
                  </a:lnTo>
                  <a:lnTo>
                    <a:pt x="844" y="2628"/>
                  </a:lnTo>
                  <a:lnTo>
                    <a:pt x="835" y="2622"/>
                  </a:lnTo>
                  <a:lnTo>
                    <a:pt x="826" y="2619"/>
                  </a:lnTo>
                  <a:lnTo>
                    <a:pt x="820" y="2610"/>
                  </a:lnTo>
                  <a:lnTo>
                    <a:pt x="818" y="2602"/>
                  </a:lnTo>
                  <a:lnTo>
                    <a:pt x="812" y="2593"/>
                  </a:lnTo>
                  <a:lnTo>
                    <a:pt x="812" y="2584"/>
                  </a:lnTo>
                  <a:lnTo>
                    <a:pt x="809" y="2576"/>
                  </a:lnTo>
                  <a:lnTo>
                    <a:pt x="806" y="2564"/>
                  </a:lnTo>
                  <a:lnTo>
                    <a:pt x="806" y="2556"/>
                  </a:lnTo>
                  <a:lnTo>
                    <a:pt x="806" y="2547"/>
                  </a:lnTo>
                  <a:lnTo>
                    <a:pt x="806" y="2538"/>
                  </a:lnTo>
                  <a:lnTo>
                    <a:pt x="806" y="2530"/>
                  </a:lnTo>
                  <a:lnTo>
                    <a:pt x="806" y="2521"/>
                  </a:lnTo>
                  <a:lnTo>
                    <a:pt x="806" y="2512"/>
                  </a:lnTo>
                  <a:lnTo>
                    <a:pt x="806" y="2504"/>
                  </a:lnTo>
                  <a:lnTo>
                    <a:pt x="803" y="2495"/>
                  </a:lnTo>
                  <a:lnTo>
                    <a:pt x="800" y="2486"/>
                  </a:lnTo>
                  <a:lnTo>
                    <a:pt x="800" y="2478"/>
                  </a:lnTo>
                  <a:lnTo>
                    <a:pt x="800" y="2469"/>
                  </a:lnTo>
                  <a:lnTo>
                    <a:pt x="800" y="2461"/>
                  </a:lnTo>
                  <a:lnTo>
                    <a:pt x="800" y="2452"/>
                  </a:lnTo>
                  <a:lnTo>
                    <a:pt x="809" y="2452"/>
                  </a:lnTo>
                  <a:lnTo>
                    <a:pt x="818" y="2452"/>
                  </a:lnTo>
                  <a:lnTo>
                    <a:pt x="818" y="2443"/>
                  </a:lnTo>
                  <a:lnTo>
                    <a:pt x="820" y="2435"/>
                  </a:lnTo>
                  <a:lnTo>
                    <a:pt x="826" y="2426"/>
                  </a:lnTo>
                  <a:lnTo>
                    <a:pt x="835" y="2426"/>
                  </a:lnTo>
                  <a:lnTo>
                    <a:pt x="838" y="2435"/>
                  </a:lnTo>
                  <a:lnTo>
                    <a:pt x="847" y="2440"/>
                  </a:lnTo>
                  <a:lnTo>
                    <a:pt x="855" y="2435"/>
                  </a:lnTo>
                  <a:lnTo>
                    <a:pt x="864" y="2432"/>
                  </a:lnTo>
                  <a:lnTo>
                    <a:pt x="864" y="2440"/>
                  </a:lnTo>
                  <a:lnTo>
                    <a:pt x="864" y="2449"/>
                  </a:lnTo>
                  <a:lnTo>
                    <a:pt x="858" y="2458"/>
                  </a:lnTo>
                  <a:lnTo>
                    <a:pt x="850" y="2466"/>
                  </a:lnTo>
                  <a:lnTo>
                    <a:pt x="847" y="2475"/>
                  </a:lnTo>
                  <a:lnTo>
                    <a:pt x="855" y="2478"/>
                  </a:lnTo>
                  <a:lnTo>
                    <a:pt x="864" y="2478"/>
                  </a:lnTo>
                  <a:lnTo>
                    <a:pt x="864" y="2486"/>
                  </a:lnTo>
                  <a:lnTo>
                    <a:pt x="864" y="2495"/>
                  </a:lnTo>
                  <a:lnTo>
                    <a:pt x="873" y="2498"/>
                  </a:lnTo>
                  <a:lnTo>
                    <a:pt x="882" y="2498"/>
                  </a:lnTo>
                  <a:lnTo>
                    <a:pt x="882" y="2507"/>
                  </a:lnTo>
                  <a:lnTo>
                    <a:pt x="882" y="2515"/>
                  </a:lnTo>
                  <a:lnTo>
                    <a:pt x="879" y="2524"/>
                  </a:lnTo>
                  <a:lnTo>
                    <a:pt x="870" y="2527"/>
                  </a:lnTo>
                  <a:lnTo>
                    <a:pt x="864" y="2535"/>
                  </a:lnTo>
                  <a:lnTo>
                    <a:pt x="867" y="2544"/>
                  </a:lnTo>
                  <a:lnTo>
                    <a:pt x="870" y="2553"/>
                  </a:lnTo>
                  <a:lnTo>
                    <a:pt x="876" y="2561"/>
                  </a:lnTo>
                  <a:lnTo>
                    <a:pt x="882" y="2573"/>
                  </a:lnTo>
                  <a:lnTo>
                    <a:pt x="890" y="2584"/>
                  </a:lnTo>
                  <a:lnTo>
                    <a:pt x="893" y="2593"/>
                  </a:lnTo>
                  <a:lnTo>
                    <a:pt x="896" y="2602"/>
                  </a:lnTo>
                  <a:lnTo>
                    <a:pt x="899" y="2613"/>
                  </a:lnTo>
                  <a:lnTo>
                    <a:pt x="899" y="2622"/>
                  </a:lnTo>
                  <a:lnTo>
                    <a:pt x="902" y="2631"/>
                  </a:lnTo>
                  <a:lnTo>
                    <a:pt x="905" y="2639"/>
                  </a:lnTo>
                  <a:lnTo>
                    <a:pt x="911" y="2648"/>
                  </a:lnTo>
                  <a:lnTo>
                    <a:pt x="919" y="2657"/>
                  </a:lnTo>
                  <a:lnTo>
                    <a:pt x="928" y="2662"/>
                  </a:lnTo>
                  <a:lnTo>
                    <a:pt x="937" y="2671"/>
                  </a:lnTo>
                  <a:lnTo>
                    <a:pt x="943" y="2680"/>
                  </a:lnTo>
                  <a:lnTo>
                    <a:pt x="946" y="2688"/>
                  </a:lnTo>
                  <a:lnTo>
                    <a:pt x="949" y="2697"/>
                  </a:lnTo>
                  <a:lnTo>
                    <a:pt x="949" y="2705"/>
                  </a:lnTo>
                  <a:lnTo>
                    <a:pt x="949" y="2714"/>
                  </a:lnTo>
                  <a:lnTo>
                    <a:pt x="949" y="2723"/>
                  </a:lnTo>
                  <a:lnTo>
                    <a:pt x="943" y="2731"/>
                  </a:lnTo>
                  <a:lnTo>
                    <a:pt x="934" y="2734"/>
                  </a:lnTo>
                  <a:lnTo>
                    <a:pt x="928" y="2743"/>
                  </a:lnTo>
                  <a:lnTo>
                    <a:pt x="925" y="2752"/>
                  </a:lnTo>
                  <a:lnTo>
                    <a:pt x="925" y="2760"/>
                  </a:lnTo>
                  <a:lnTo>
                    <a:pt x="922" y="2769"/>
                  </a:lnTo>
                  <a:lnTo>
                    <a:pt x="922" y="2778"/>
                  </a:lnTo>
                  <a:lnTo>
                    <a:pt x="919" y="2786"/>
                  </a:lnTo>
                  <a:lnTo>
                    <a:pt x="911" y="2795"/>
                  </a:lnTo>
                  <a:lnTo>
                    <a:pt x="908" y="2803"/>
                  </a:lnTo>
                  <a:lnTo>
                    <a:pt x="908" y="2812"/>
                  </a:lnTo>
                  <a:lnTo>
                    <a:pt x="911" y="2821"/>
                  </a:lnTo>
                  <a:lnTo>
                    <a:pt x="922" y="2827"/>
                  </a:lnTo>
                  <a:lnTo>
                    <a:pt x="934" y="2832"/>
                  </a:lnTo>
                  <a:lnTo>
                    <a:pt x="940" y="2841"/>
                  </a:lnTo>
                  <a:lnTo>
                    <a:pt x="922" y="2832"/>
                  </a:lnTo>
                  <a:lnTo>
                    <a:pt x="946" y="2824"/>
                  </a:lnTo>
                  <a:lnTo>
                    <a:pt x="946" y="2832"/>
                  </a:lnTo>
                  <a:lnTo>
                    <a:pt x="946" y="2841"/>
                  </a:lnTo>
                  <a:lnTo>
                    <a:pt x="946" y="2850"/>
                  </a:lnTo>
                  <a:lnTo>
                    <a:pt x="940" y="2858"/>
                  </a:lnTo>
                  <a:lnTo>
                    <a:pt x="931" y="2861"/>
                  </a:lnTo>
                  <a:lnTo>
                    <a:pt x="922" y="2867"/>
                  </a:lnTo>
                  <a:lnTo>
                    <a:pt x="917" y="2876"/>
                  </a:lnTo>
                  <a:lnTo>
                    <a:pt x="919" y="2884"/>
                  </a:lnTo>
                  <a:lnTo>
                    <a:pt x="922" y="2893"/>
                  </a:lnTo>
                  <a:lnTo>
                    <a:pt x="917" y="2901"/>
                  </a:lnTo>
                  <a:lnTo>
                    <a:pt x="925" y="2904"/>
                  </a:lnTo>
                  <a:lnTo>
                    <a:pt x="934" y="2904"/>
                  </a:lnTo>
                  <a:lnTo>
                    <a:pt x="943" y="2904"/>
                  </a:lnTo>
                  <a:lnTo>
                    <a:pt x="951" y="2899"/>
                  </a:lnTo>
                  <a:lnTo>
                    <a:pt x="960" y="2893"/>
                  </a:lnTo>
                  <a:lnTo>
                    <a:pt x="969" y="2893"/>
                  </a:lnTo>
                  <a:lnTo>
                    <a:pt x="978" y="2899"/>
                  </a:lnTo>
                  <a:lnTo>
                    <a:pt x="983" y="2907"/>
                  </a:lnTo>
                  <a:lnTo>
                    <a:pt x="975" y="2904"/>
                  </a:lnTo>
                  <a:lnTo>
                    <a:pt x="966" y="2899"/>
                  </a:lnTo>
                  <a:lnTo>
                    <a:pt x="954" y="2896"/>
                  </a:lnTo>
                  <a:lnTo>
                    <a:pt x="940" y="2893"/>
                  </a:lnTo>
                  <a:lnTo>
                    <a:pt x="943" y="2910"/>
                  </a:lnTo>
                  <a:lnTo>
                    <a:pt x="951" y="2930"/>
                  </a:lnTo>
                  <a:lnTo>
                    <a:pt x="943" y="2933"/>
                  </a:lnTo>
                  <a:lnTo>
                    <a:pt x="940" y="2942"/>
                  </a:lnTo>
                  <a:lnTo>
                    <a:pt x="937" y="2950"/>
                  </a:lnTo>
                  <a:lnTo>
                    <a:pt x="946" y="2956"/>
                  </a:lnTo>
                  <a:lnTo>
                    <a:pt x="949" y="2965"/>
                  </a:lnTo>
                  <a:lnTo>
                    <a:pt x="951" y="2974"/>
                  </a:lnTo>
                  <a:lnTo>
                    <a:pt x="951" y="2982"/>
                  </a:lnTo>
                  <a:lnTo>
                    <a:pt x="951" y="2991"/>
                  </a:lnTo>
                  <a:lnTo>
                    <a:pt x="954" y="2999"/>
                  </a:lnTo>
                  <a:lnTo>
                    <a:pt x="957" y="3011"/>
                  </a:lnTo>
                  <a:lnTo>
                    <a:pt x="963" y="3002"/>
                  </a:lnTo>
                  <a:lnTo>
                    <a:pt x="963" y="2994"/>
                  </a:lnTo>
                  <a:lnTo>
                    <a:pt x="963" y="2985"/>
                  </a:lnTo>
                  <a:lnTo>
                    <a:pt x="963" y="2976"/>
                  </a:lnTo>
                  <a:lnTo>
                    <a:pt x="963" y="2968"/>
                  </a:lnTo>
                  <a:lnTo>
                    <a:pt x="969" y="2959"/>
                  </a:lnTo>
                  <a:lnTo>
                    <a:pt x="978" y="2953"/>
                  </a:lnTo>
                  <a:lnTo>
                    <a:pt x="983" y="2945"/>
                  </a:lnTo>
                  <a:lnTo>
                    <a:pt x="992" y="2942"/>
                  </a:lnTo>
                  <a:lnTo>
                    <a:pt x="1004" y="2945"/>
                  </a:lnTo>
                  <a:lnTo>
                    <a:pt x="1016" y="2945"/>
                  </a:lnTo>
                  <a:lnTo>
                    <a:pt x="1024" y="2945"/>
                  </a:lnTo>
                  <a:lnTo>
                    <a:pt x="1027" y="2936"/>
                  </a:lnTo>
                  <a:lnTo>
                    <a:pt x="1036" y="2945"/>
                  </a:lnTo>
                  <a:lnTo>
                    <a:pt x="1042" y="2953"/>
                  </a:lnTo>
                  <a:lnTo>
                    <a:pt x="1050" y="2962"/>
                  </a:lnTo>
                  <a:lnTo>
                    <a:pt x="1059" y="2971"/>
                  </a:lnTo>
                  <a:lnTo>
                    <a:pt x="1045" y="2959"/>
                  </a:lnTo>
                  <a:lnTo>
                    <a:pt x="1042" y="2950"/>
                  </a:lnTo>
                  <a:lnTo>
                    <a:pt x="1042" y="2942"/>
                  </a:lnTo>
                  <a:lnTo>
                    <a:pt x="1042" y="2933"/>
                  </a:lnTo>
                  <a:lnTo>
                    <a:pt x="1042" y="2925"/>
                  </a:lnTo>
                  <a:lnTo>
                    <a:pt x="1033" y="2916"/>
                  </a:lnTo>
                  <a:lnTo>
                    <a:pt x="1021" y="2907"/>
                  </a:lnTo>
                  <a:lnTo>
                    <a:pt x="1013" y="2899"/>
                  </a:lnTo>
                  <a:lnTo>
                    <a:pt x="1007" y="2890"/>
                  </a:lnTo>
                  <a:lnTo>
                    <a:pt x="1018" y="2893"/>
                  </a:lnTo>
                  <a:lnTo>
                    <a:pt x="1027" y="2896"/>
                  </a:lnTo>
                  <a:lnTo>
                    <a:pt x="1036" y="2901"/>
                  </a:lnTo>
                  <a:lnTo>
                    <a:pt x="1045" y="2907"/>
                  </a:lnTo>
                  <a:lnTo>
                    <a:pt x="1050" y="2916"/>
                  </a:lnTo>
                  <a:lnTo>
                    <a:pt x="1042" y="2913"/>
                  </a:lnTo>
                  <a:lnTo>
                    <a:pt x="1033" y="2907"/>
                  </a:lnTo>
                  <a:lnTo>
                    <a:pt x="1021" y="2899"/>
                  </a:lnTo>
                  <a:lnTo>
                    <a:pt x="1010" y="2896"/>
                  </a:lnTo>
                  <a:lnTo>
                    <a:pt x="1004" y="2887"/>
                  </a:lnTo>
                  <a:lnTo>
                    <a:pt x="1013" y="2881"/>
                  </a:lnTo>
                  <a:lnTo>
                    <a:pt x="1018" y="2873"/>
                  </a:lnTo>
                  <a:lnTo>
                    <a:pt x="1018" y="2864"/>
                  </a:lnTo>
                  <a:lnTo>
                    <a:pt x="1021" y="2855"/>
                  </a:lnTo>
                  <a:lnTo>
                    <a:pt x="1021" y="2847"/>
                  </a:lnTo>
                  <a:lnTo>
                    <a:pt x="1021" y="2838"/>
                  </a:lnTo>
                  <a:lnTo>
                    <a:pt x="1021" y="2829"/>
                  </a:lnTo>
                  <a:lnTo>
                    <a:pt x="1021" y="2821"/>
                  </a:lnTo>
                  <a:lnTo>
                    <a:pt x="1024" y="2812"/>
                  </a:lnTo>
                  <a:lnTo>
                    <a:pt x="1033" y="2812"/>
                  </a:lnTo>
                  <a:lnTo>
                    <a:pt x="1042" y="2809"/>
                  </a:lnTo>
                  <a:lnTo>
                    <a:pt x="1042" y="2818"/>
                  </a:lnTo>
                  <a:lnTo>
                    <a:pt x="1042" y="2827"/>
                  </a:lnTo>
                  <a:lnTo>
                    <a:pt x="1042" y="2835"/>
                  </a:lnTo>
                  <a:lnTo>
                    <a:pt x="1042" y="2844"/>
                  </a:lnTo>
                  <a:lnTo>
                    <a:pt x="1050" y="2850"/>
                  </a:lnTo>
                  <a:lnTo>
                    <a:pt x="1056" y="2841"/>
                  </a:lnTo>
                  <a:lnTo>
                    <a:pt x="1065" y="2841"/>
                  </a:lnTo>
                  <a:lnTo>
                    <a:pt x="1068" y="2850"/>
                  </a:lnTo>
                  <a:lnTo>
                    <a:pt x="1071" y="2841"/>
                  </a:lnTo>
                  <a:lnTo>
                    <a:pt x="1071" y="2832"/>
                  </a:lnTo>
                  <a:lnTo>
                    <a:pt x="1080" y="2827"/>
                  </a:lnTo>
                  <a:lnTo>
                    <a:pt x="1088" y="2827"/>
                  </a:lnTo>
                  <a:lnTo>
                    <a:pt x="1100" y="2835"/>
                  </a:lnTo>
                  <a:lnTo>
                    <a:pt x="1109" y="2835"/>
                  </a:lnTo>
                  <a:lnTo>
                    <a:pt x="1120" y="2835"/>
                  </a:lnTo>
                  <a:lnTo>
                    <a:pt x="1129" y="2835"/>
                  </a:lnTo>
                  <a:lnTo>
                    <a:pt x="1138" y="2838"/>
                  </a:lnTo>
                  <a:lnTo>
                    <a:pt x="1147" y="2841"/>
                  </a:lnTo>
                  <a:lnTo>
                    <a:pt x="1155" y="2844"/>
                  </a:lnTo>
                  <a:lnTo>
                    <a:pt x="1149" y="2852"/>
                  </a:lnTo>
                  <a:lnTo>
                    <a:pt x="1149" y="2861"/>
                  </a:lnTo>
                  <a:lnTo>
                    <a:pt x="1149" y="2870"/>
                  </a:lnTo>
                  <a:lnTo>
                    <a:pt x="1158" y="2878"/>
                  </a:lnTo>
                  <a:lnTo>
                    <a:pt x="1170" y="2878"/>
                  </a:lnTo>
                  <a:lnTo>
                    <a:pt x="1179" y="2878"/>
                  </a:lnTo>
                  <a:lnTo>
                    <a:pt x="1187" y="2878"/>
                  </a:lnTo>
                  <a:lnTo>
                    <a:pt x="1196" y="2878"/>
                  </a:lnTo>
                  <a:lnTo>
                    <a:pt x="1205" y="2876"/>
                  </a:lnTo>
                  <a:lnTo>
                    <a:pt x="1216" y="2873"/>
                  </a:lnTo>
                  <a:lnTo>
                    <a:pt x="1225" y="2873"/>
                  </a:lnTo>
                  <a:lnTo>
                    <a:pt x="1234" y="2873"/>
                  </a:lnTo>
                  <a:lnTo>
                    <a:pt x="1243" y="2873"/>
                  </a:lnTo>
                  <a:lnTo>
                    <a:pt x="1251" y="2873"/>
                  </a:lnTo>
                  <a:lnTo>
                    <a:pt x="1254" y="2884"/>
                  </a:lnTo>
                  <a:lnTo>
                    <a:pt x="1257" y="2893"/>
                  </a:lnTo>
                  <a:lnTo>
                    <a:pt x="1257" y="2901"/>
                  </a:lnTo>
                  <a:lnTo>
                    <a:pt x="1272" y="2907"/>
                  </a:lnTo>
                  <a:lnTo>
                    <a:pt x="1263" y="2913"/>
                  </a:lnTo>
                  <a:lnTo>
                    <a:pt x="1254" y="2913"/>
                  </a:lnTo>
                  <a:lnTo>
                    <a:pt x="1245" y="2913"/>
                  </a:lnTo>
                  <a:lnTo>
                    <a:pt x="1248" y="2878"/>
                  </a:lnTo>
                  <a:lnTo>
                    <a:pt x="1245" y="2896"/>
                  </a:lnTo>
                  <a:lnTo>
                    <a:pt x="1237" y="2896"/>
                  </a:lnTo>
                  <a:lnTo>
                    <a:pt x="1228" y="2893"/>
                  </a:lnTo>
                  <a:lnTo>
                    <a:pt x="1219" y="2896"/>
                  </a:lnTo>
                  <a:lnTo>
                    <a:pt x="1211" y="2896"/>
                  </a:lnTo>
                  <a:lnTo>
                    <a:pt x="1202" y="2896"/>
                  </a:lnTo>
                  <a:lnTo>
                    <a:pt x="1193" y="2893"/>
                  </a:lnTo>
                  <a:lnTo>
                    <a:pt x="1184" y="2890"/>
                  </a:lnTo>
                  <a:lnTo>
                    <a:pt x="1176" y="2890"/>
                  </a:lnTo>
                  <a:lnTo>
                    <a:pt x="1167" y="2887"/>
                  </a:lnTo>
                  <a:lnTo>
                    <a:pt x="1155" y="2887"/>
                  </a:lnTo>
                  <a:lnTo>
                    <a:pt x="1147" y="2887"/>
                  </a:lnTo>
                  <a:lnTo>
                    <a:pt x="1135" y="2887"/>
                  </a:lnTo>
                  <a:lnTo>
                    <a:pt x="1132" y="2896"/>
                  </a:lnTo>
                  <a:lnTo>
                    <a:pt x="1132" y="2904"/>
                  </a:lnTo>
                  <a:lnTo>
                    <a:pt x="1132" y="2913"/>
                  </a:lnTo>
                  <a:lnTo>
                    <a:pt x="1144" y="2916"/>
                  </a:lnTo>
                  <a:lnTo>
                    <a:pt x="1144" y="2925"/>
                  </a:lnTo>
                  <a:lnTo>
                    <a:pt x="1129" y="2927"/>
                  </a:lnTo>
                  <a:lnTo>
                    <a:pt x="1120" y="2927"/>
                  </a:lnTo>
                  <a:lnTo>
                    <a:pt x="1112" y="2927"/>
                  </a:lnTo>
                  <a:lnTo>
                    <a:pt x="1114" y="2936"/>
                  </a:lnTo>
                  <a:lnTo>
                    <a:pt x="1123" y="2936"/>
                  </a:lnTo>
                  <a:lnTo>
                    <a:pt x="1132" y="2942"/>
                  </a:lnTo>
                  <a:lnTo>
                    <a:pt x="1144" y="2948"/>
                  </a:lnTo>
                  <a:lnTo>
                    <a:pt x="1135" y="2953"/>
                  </a:lnTo>
                  <a:lnTo>
                    <a:pt x="1123" y="2953"/>
                  </a:lnTo>
                  <a:lnTo>
                    <a:pt x="1112" y="2953"/>
                  </a:lnTo>
                  <a:lnTo>
                    <a:pt x="1103" y="2953"/>
                  </a:lnTo>
                  <a:lnTo>
                    <a:pt x="1106" y="2962"/>
                  </a:lnTo>
                  <a:lnTo>
                    <a:pt x="1114" y="2965"/>
                  </a:lnTo>
                  <a:lnTo>
                    <a:pt x="1123" y="2974"/>
                  </a:lnTo>
                  <a:lnTo>
                    <a:pt x="1114" y="2982"/>
                  </a:lnTo>
                  <a:lnTo>
                    <a:pt x="1117" y="2991"/>
                  </a:lnTo>
                  <a:lnTo>
                    <a:pt x="1126" y="2994"/>
                  </a:lnTo>
                  <a:lnTo>
                    <a:pt x="1114" y="2999"/>
                  </a:lnTo>
                  <a:lnTo>
                    <a:pt x="1106" y="2999"/>
                  </a:lnTo>
                  <a:lnTo>
                    <a:pt x="1117" y="3005"/>
                  </a:lnTo>
                  <a:lnTo>
                    <a:pt x="1132" y="3008"/>
                  </a:lnTo>
                  <a:lnTo>
                    <a:pt x="1135" y="3017"/>
                  </a:lnTo>
                  <a:lnTo>
                    <a:pt x="1126" y="3022"/>
                  </a:lnTo>
                  <a:lnTo>
                    <a:pt x="1126" y="3034"/>
                  </a:lnTo>
                  <a:lnTo>
                    <a:pt x="1126" y="3046"/>
                  </a:lnTo>
                  <a:lnTo>
                    <a:pt x="1126" y="3054"/>
                  </a:lnTo>
                  <a:lnTo>
                    <a:pt x="1135" y="3054"/>
                  </a:lnTo>
                  <a:lnTo>
                    <a:pt x="1144" y="3054"/>
                  </a:lnTo>
                  <a:lnTo>
                    <a:pt x="1155" y="3054"/>
                  </a:lnTo>
                  <a:lnTo>
                    <a:pt x="1164" y="3054"/>
                  </a:lnTo>
                  <a:lnTo>
                    <a:pt x="1167" y="3063"/>
                  </a:lnTo>
                  <a:lnTo>
                    <a:pt x="1179" y="3069"/>
                  </a:lnTo>
                  <a:lnTo>
                    <a:pt x="1187" y="3069"/>
                  </a:lnTo>
                  <a:lnTo>
                    <a:pt x="1190" y="3080"/>
                  </a:lnTo>
                  <a:lnTo>
                    <a:pt x="1193" y="3089"/>
                  </a:lnTo>
                  <a:lnTo>
                    <a:pt x="1199" y="3097"/>
                  </a:lnTo>
                  <a:lnTo>
                    <a:pt x="1211" y="3103"/>
                  </a:lnTo>
                  <a:lnTo>
                    <a:pt x="1219" y="3103"/>
                  </a:lnTo>
                  <a:lnTo>
                    <a:pt x="1231" y="3103"/>
                  </a:lnTo>
                  <a:lnTo>
                    <a:pt x="1240" y="3100"/>
                  </a:lnTo>
                  <a:lnTo>
                    <a:pt x="1243" y="3092"/>
                  </a:lnTo>
                  <a:lnTo>
                    <a:pt x="1248" y="3083"/>
                  </a:lnTo>
                  <a:lnTo>
                    <a:pt x="1257" y="3083"/>
                  </a:lnTo>
                  <a:lnTo>
                    <a:pt x="1278" y="3097"/>
                  </a:lnTo>
                  <a:lnTo>
                    <a:pt x="1286" y="3103"/>
                  </a:lnTo>
                  <a:lnTo>
                    <a:pt x="1289" y="3112"/>
                  </a:lnTo>
                  <a:lnTo>
                    <a:pt x="1295" y="3120"/>
                  </a:lnTo>
                  <a:lnTo>
                    <a:pt x="1301" y="3129"/>
                  </a:lnTo>
                  <a:lnTo>
                    <a:pt x="1312" y="3141"/>
                  </a:lnTo>
                  <a:lnTo>
                    <a:pt x="1324" y="3146"/>
                  </a:lnTo>
                  <a:lnTo>
                    <a:pt x="1336" y="3152"/>
                  </a:lnTo>
                  <a:lnTo>
                    <a:pt x="1347" y="3155"/>
                  </a:lnTo>
                  <a:lnTo>
                    <a:pt x="1356" y="3155"/>
                  </a:lnTo>
                  <a:lnTo>
                    <a:pt x="1365" y="3155"/>
                  </a:lnTo>
                  <a:lnTo>
                    <a:pt x="1374" y="3155"/>
                  </a:lnTo>
                  <a:lnTo>
                    <a:pt x="1376" y="3146"/>
                  </a:lnTo>
                  <a:lnTo>
                    <a:pt x="1385" y="3138"/>
                  </a:lnTo>
                  <a:lnTo>
                    <a:pt x="1391" y="3129"/>
                  </a:lnTo>
                  <a:lnTo>
                    <a:pt x="1400" y="3132"/>
                  </a:lnTo>
                  <a:lnTo>
                    <a:pt x="1409" y="3138"/>
                  </a:lnTo>
                  <a:lnTo>
                    <a:pt x="1417" y="3149"/>
                  </a:lnTo>
                  <a:lnTo>
                    <a:pt x="1429" y="3152"/>
                  </a:lnTo>
                  <a:lnTo>
                    <a:pt x="1435" y="3155"/>
                  </a:lnTo>
                  <a:lnTo>
                    <a:pt x="1438" y="3164"/>
                  </a:lnTo>
                  <a:lnTo>
                    <a:pt x="1441" y="3172"/>
                  </a:lnTo>
                  <a:lnTo>
                    <a:pt x="1449" y="3178"/>
                  </a:lnTo>
                  <a:lnTo>
                    <a:pt x="1458" y="3178"/>
                  </a:lnTo>
                  <a:lnTo>
                    <a:pt x="1464" y="3169"/>
                  </a:lnTo>
                  <a:lnTo>
                    <a:pt x="1464" y="3161"/>
                  </a:lnTo>
                  <a:lnTo>
                    <a:pt x="1470" y="3152"/>
                  </a:lnTo>
                  <a:lnTo>
                    <a:pt x="1478" y="3152"/>
                  </a:lnTo>
                  <a:lnTo>
                    <a:pt x="1487" y="3155"/>
                  </a:lnTo>
                  <a:lnTo>
                    <a:pt x="1499" y="3161"/>
                  </a:lnTo>
                  <a:lnTo>
                    <a:pt x="1510" y="3161"/>
                  </a:lnTo>
                  <a:lnTo>
                    <a:pt x="1519" y="3161"/>
                  </a:lnTo>
                  <a:lnTo>
                    <a:pt x="1528" y="3161"/>
                  </a:lnTo>
                  <a:lnTo>
                    <a:pt x="1537" y="3158"/>
                  </a:lnTo>
                  <a:lnTo>
                    <a:pt x="1545" y="3158"/>
                  </a:lnTo>
                  <a:lnTo>
                    <a:pt x="1554" y="3164"/>
                  </a:lnTo>
                  <a:lnTo>
                    <a:pt x="1569" y="3169"/>
                  </a:lnTo>
                  <a:lnTo>
                    <a:pt x="1580" y="3169"/>
                  </a:lnTo>
                  <a:lnTo>
                    <a:pt x="1592" y="3169"/>
                  </a:lnTo>
                  <a:lnTo>
                    <a:pt x="1601" y="3169"/>
                  </a:lnTo>
                  <a:lnTo>
                    <a:pt x="1609" y="3169"/>
                  </a:lnTo>
                  <a:lnTo>
                    <a:pt x="1618" y="3169"/>
                  </a:lnTo>
                  <a:lnTo>
                    <a:pt x="1627" y="3169"/>
                  </a:lnTo>
                  <a:lnTo>
                    <a:pt x="1636" y="3169"/>
                  </a:lnTo>
                  <a:lnTo>
                    <a:pt x="1644" y="3169"/>
                  </a:lnTo>
                  <a:lnTo>
                    <a:pt x="1653" y="3169"/>
                  </a:lnTo>
                  <a:lnTo>
                    <a:pt x="1662" y="3169"/>
                  </a:lnTo>
                  <a:lnTo>
                    <a:pt x="1671" y="3169"/>
                  </a:lnTo>
                  <a:lnTo>
                    <a:pt x="1679" y="3169"/>
                  </a:lnTo>
                  <a:lnTo>
                    <a:pt x="1688" y="3169"/>
                  </a:lnTo>
                  <a:lnTo>
                    <a:pt x="1703" y="3169"/>
                  </a:lnTo>
                  <a:lnTo>
                    <a:pt x="1714" y="3172"/>
                  </a:lnTo>
                  <a:lnTo>
                    <a:pt x="1726" y="3175"/>
                  </a:lnTo>
                  <a:lnTo>
                    <a:pt x="1735" y="3175"/>
                  </a:lnTo>
                  <a:lnTo>
                    <a:pt x="1743" y="3175"/>
                  </a:lnTo>
                  <a:lnTo>
                    <a:pt x="1758" y="3175"/>
                  </a:lnTo>
                  <a:lnTo>
                    <a:pt x="1767" y="3175"/>
                  </a:lnTo>
                  <a:lnTo>
                    <a:pt x="1772" y="3167"/>
                  </a:lnTo>
                  <a:lnTo>
                    <a:pt x="1772" y="3158"/>
                  </a:lnTo>
                  <a:lnTo>
                    <a:pt x="1772" y="3149"/>
                  </a:lnTo>
                  <a:lnTo>
                    <a:pt x="1772" y="3141"/>
                  </a:lnTo>
                  <a:lnTo>
                    <a:pt x="1772" y="3132"/>
                  </a:lnTo>
                  <a:lnTo>
                    <a:pt x="1772" y="3123"/>
                  </a:lnTo>
                  <a:lnTo>
                    <a:pt x="1772" y="3112"/>
                  </a:lnTo>
                  <a:lnTo>
                    <a:pt x="1770" y="3103"/>
                  </a:lnTo>
                  <a:lnTo>
                    <a:pt x="1770" y="3095"/>
                  </a:lnTo>
                  <a:lnTo>
                    <a:pt x="1770" y="3086"/>
                  </a:lnTo>
                  <a:lnTo>
                    <a:pt x="1778" y="3080"/>
                  </a:lnTo>
                  <a:lnTo>
                    <a:pt x="1787" y="3080"/>
                  </a:lnTo>
                  <a:lnTo>
                    <a:pt x="1796" y="3089"/>
                  </a:lnTo>
                  <a:lnTo>
                    <a:pt x="1802" y="3097"/>
                  </a:lnTo>
                  <a:lnTo>
                    <a:pt x="1813" y="3103"/>
                  </a:lnTo>
                  <a:lnTo>
                    <a:pt x="1825" y="3112"/>
                  </a:lnTo>
                  <a:lnTo>
                    <a:pt x="1854" y="3109"/>
                  </a:lnTo>
                  <a:lnTo>
                    <a:pt x="1836" y="3103"/>
                  </a:lnTo>
                  <a:lnTo>
                    <a:pt x="1854" y="3103"/>
                  </a:lnTo>
                  <a:lnTo>
                    <a:pt x="1863" y="3103"/>
                  </a:lnTo>
                  <a:lnTo>
                    <a:pt x="1871" y="3103"/>
                  </a:lnTo>
                  <a:lnTo>
                    <a:pt x="1880" y="3106"/>
                  </a:lnTo>
                  <a:lnTo>
                    <a:pt x="1889" y="3100"/>
                  </a:lnTo>
                  <a:lnTo>
                    <a:pt x="1898" y="3097"/>
                  </a:lnTo>
                  <a:lnTo>
                    <a:pt x="1906" y="3095"/>
                  </a:lnTo>
                  <a:lnTo>
                    <a:pt x="1918" y="3103"/>
                  </a:lnTo>
                  <a:lnTo>
                    <a:pt x="1924" y="3112"/>
                  </a:lnTo>
                  <a:lnTo>
                    <a:pt x="1924" y="3120"/>
                  </a:lnTo>
                  <a:lnTo>
                    <a:pt x="1921" y="3129"/>
                  </a:lnTo>
                  <a:lnTo>
                    <a:pt x="1924" y="3138"/>
                  </a:lnTo>
                  <a:lnTo>
                    <a:pt x="1933" y="3144"/>
                  </a:lnTo>
                  <a:lnTo>
                    <a:pt x="1944" y="3152"/>
                  </a:lnTo>
                  <a:lnTo>
                    <a:pt x="1947" y="3144"/>
                  </a:lnTo>
                  <a:lnTo>
                    <a:pt x="1947" y="3135"/>
                  </a:lnTo>
                  <a:lnTo>
                    <a:pt x="1947" y="3126"/>
                  </a:lnTo>
                  <a:lnTo>
                    <a:pt x="1947" y="3118"/>
                  </a:lnTo>
                  <a:lnTo>
                    <a:pt x="1956" y="3115"/>
                  </a:lnTo>
                  <a:lnTo>
                    <a:pt x="1962" y="3106"/>
                  </a:lnTo>
                  <a:lnTo>
                    <a:pt x="1962" y="3097"/>
                  </a:lnTo>
                  <a:lnTo>
                    <a:pt x="1962" y="3089"/>
                  </a:lnTo>
                  <a:lnTo>
                    <a:pt x="1962" y="3080"/>
                  </a:lnTo>
                  <a:lnTo>
                    <a:pt x="1962" y="3071"/>
                  </a:lnTo>
                  <a:lnTo>
                    <a:pt x="1967" y="3063"/>
                  </a:lnTo>
                  <a:lnTo>
                    <a:pt x="1976" y="3060"/>
                  </a:lnTo>
                  <a:lnTo>
                    <a:pt x="1988" y="3060"/>
                  </a:lnTo>
                  <a:lnTo>
                    <a:pt x="2002" y="3063"/>
                  </a:lnTo>
                  <a:lnTo>
                    <a:pt x="2011" y="3063"/>
                  </a:lnTo>
                  <a:lnTo>
                    <a:pt x="2002" y="3054"/>
                  </a:lnTo>
                  <a:lnTo>
                    <a:pt x="1994" y="3048"/>
                  </a:lnTo>
                  <a:lnTo>
                    <a:pt x="1979" y="3043"/>
                  </a:lnTo>
                  <a:lnTo>
                    <a:pt x="1967" y="3034"/>
                  </a:lnTo>
                  <a:lnTo>
                    <a:pt x="1962" y="3025"/>
                  </a:lnTo>
                  <a:lnTo>
                    <a:pt x="1959" y="3017"/>
                  </a:lnTo>
                  <a:lnTo>
                    <a:pt x="1956" y="3008"/>
                  </a:lnTo>
                  <a:lnTo>
                    <a:pt x="1950" y="2999"/>
                  </a:lnTo>
                  <a:lnTo>
                    <a:pt x="1944" y="2991"/>
                  </a:lnTo>
                  <a:lnTo>
                    <a:pt x="1938" y="2982"/>
                  </a:lnTo>
                  <a:lnTo>
                    <a:pt x="1933" y="2974"/>
                  </a:lnTo>
                  <a:lnTo>
                    <a:pt x="1927" y="2965"/>
                  </a:lnTo>
                  <a:lnTo>
                    <a:pt x="1924" y="2956"/>
                  </a:lnTo>
                  <a:lnTo>
                    <a:pt x="1921" y="2948"/>
                  </a:lnTo>
                  <a:lnTo>
                    <a:pt x="1918" y="2939"/>
                  </a:lnTo>
                  <a:lnTo>
                    <a:pt x="1915" y="2930"/>
                  </a:lnTo>
                  <a:lnTo>
                    <a:pt x="1912" y="2922"/>
                  </a:lnTo>
                  <a:lnTo>
                    <a:pt x="1915" y="2913"/>
                  </a:lnTo>
                  <a:lnTo>
                    <a:pt x="1915" y="2904"/>
                  </a:lnTo>
                  <a:lnTo>
                    <a:pt x="1915" y="2896"/>
                  </a:lnTo>
                  <a:lnTo>
                    <a:pt x="1915" y="2887"/>
                  </a:lnTo>
                  <a:lnTo>
                    <a:pt x="1912" y="2878"/>
                  </a:lnTo>
                  <a:lnTo>
                    <a:pt x="1909" y="2870"/>
                  </a:lnTo>
                  <a:lnTo>
                    <a:pt x="1903" y="2861"/>
                  </a:lnTo>
                  <a:lnTo>
                    <a:pt x="1895" y="2852"/>
                  </a:lnTo>
                  <a:lnTo>
                    <a:pt x="1892" y="2844"/>
                  </a:lnTo>
                  <a:lnTo>
                    <a:pt x="1892" y="2835"/>
                  </a:lnTo>
                  <a:lnTo>
                    <a:pt x="1898" y="2827"/>
                  </a:lnTo>
                  <a:lnTo>
                    <a:pt x="1906" y="2824"/>
                  </a:lnTo>
                  <a:lnTo>
                    <a:pt x="1918" y="2821"/>
                  </a:lnTo>
                  <a:lnTo>
                    <a:pt x="1930" y="2818"/>
                  </a:lnTo>
                  <a:lnTo>
                    <a:pt x="1938" y="2812"/>
                  </a:lnTo>
                  <a:lnTo>
                    <a:pt x="1944" y="2803"/>
                  </a:lnTo>
                  <a:lnTo>
                    <a:pt x="1953" y="2798"/>
                  </a:lnTo>
                  <a:lnTo>
                    <a:pt x="1962" y="2798"/>
                  </a:lnTo>
                  <a:lnTo>
                    <a:pt x="1970" y="2798"/>
                  </a:lnTo>
                  <a:lnTo>
                    <a:pt x="1976" y="2789"/>
                  </a:lnTo>
                  <a:lnTo>
                    <a:pt x="1982" y="2780"/>
                  </a:lnTo>
                  <a:lnTo>
                    <a:pt x="1991" y="2775"/>
                  </a:lnTo>
                  <a:lnTo>
                    <a:pt x="1999" y="2775"/>
                  </a:lnTo>
                  <a:lnTo>
                    <a:pt x="2008" y="2769"/>
                  </a:lnTo>
                  <a:lnTo>
                    <a:pt x="2017" y="2763"/>
                  </a:lnTo>
                  <a:lnTo>
                    <a:pt x="2026" y="2760"/>
                  </a:lnTo>
                  <a:lnTo>
                    <a:pt x="2034" y="2760"/>
                  </a:lnTo>
                  <a:lnTo>
                    <a:pt x="2043" y="2760"/>
                  </a:lnTo>
                  <a:lnTo>
                    <a:pt x="2052" y="2754"/>
                  </a:lnTo>
                  <a:lnTo>
                    <a:pt x="2061" y="2754"/>
                  </a:lnTo>
                  <a:lnTo>
                    <a:pt x="2069" y="2757"/>
                  </a:lnTo>
                  <a:lnTo>
                    <a:pt x="2078" y="2757"/>
                  </a:lnTo>
                  <a:lnTo>
                    <a:pt x="2093" y="2760"/>
                  </a:lnTo>
                  <a:lnTo>
                    <a:pt x="2101" y="2760"/>
                  </a:lnTo>
                  <a:lnTo>
                    <a:pt x="2101" y="2769"/>
                  </a:lnTo>
                  <a:lnTo>
                    <a:pt x="2101" y="2778"/>
                  </a:lnTo>
                  <a:lnTo>
                    <a:pt x="2101" y="2786"/>
                  </a:lnTo>
                  <a:lnTo>
                    <a:pt x="2104" y="2795"/>
                  </a:lnTo>
                  <a:lnTo>
                    <a:pt x="2104" y="2803"/>
                  </a:lnTo>
                  <a:lnTo>
                    <a:pt x="2104" y="2812"/>
                  </a:lnTo>
                  <a:lnTo>
                    <a:pt x="2104" y="2821"/>
                  </a:lnTo>
                  <a:lnTo>
                    <a:pt x="2104" y="2829"/>
                  </a:lnTo>
                  <a:lnTo>
                    <a:pt x="2104" y="2838"/>
                  </a:lnTo>
                  <a:lnTo>
                    <a:pt x="2096" y="2841"/>
                  </a:lnTo>
                  <a:lnTo>
                    <a:pt x="2087" y="2841"/>
                  </a:lnTo>
                  <a:lnTo>
                    <a:pt x="2078" y="2841"/>
                  </a:lnTo>
                  <a:lnTo>
                    <a:pt x="2069" y="2841"/>
                  </a:lnTo>
                  <a:lnTo>
                    <a:pt x="2061" y="2841"/>
                  </a:lnTo>
                  <a:lnTo>
                    <a:pt x="2069" y="2841"/>
                  </a:lnTo>
                  <a:lnTo>
                    <a:pt x="2078" y="2835"/>
                  </a:lnTo>
                  <a:lnTo>
                    <a:pt x="2090" y="2835"/>
                  </a:lnTo>
                  <a:lnTo>
                    <a:pt x="2081" y="2832"/>
                  </a:lnTo>
                  <a:lnTo>
                    <a:pt x="2072" y="2832"/>
                  </a:lnTo>
                  <a:lnTo>
                    <a:pt x="2064" y="2832"/>
                  </a:lnTo>
                  <a:lnTo>
                    <a:pt x="2058" y="2841"/>
                  </a:lnTo>
                  <a:lnTo>
                    <a:pt x="2049" y="2844"/>
                  </a:lnTo>
                  <a:lnTo>
                    <a:pt x="2040" y="2847"/>
                  </a:lnTo>
                  <a:lnTo>
                    <a:pt x="2040" y="2855"/>
                  </a:lnTo>
                  <a:lnTo>
                    <a:pt x="2040" y="2864"/>
                  </a:lnTo>
                  <a:lnTo>
                    <a:pt x="2032" y="2870"/>
                  </a:lnTo>
                  <a:lnTo>
                    <a:pt x="2020" y="2870"/>
                  </a:lnTo>
                  <a:lnTo>
                    <a:pt x="2017" y="2861"/>
                  </a:lnTo>
                  <a:lnTo>
                    <a:pt x="2008" y="2858"/>
                  </a:lnTo>
                  <a:lnTo>
                    <a:pt x="2002" y="2867"/>
                  </a:lnTo>
                  <a:lnTo>
                    <a:pt x="2002" y="2876"/>
                  </a:lnTo>
                  <a:lnTo>
                    <a:pt x="2011" y="2878"/>
                  </a:lnTo>
                  <a:lnTo>
                    <a:pt x="2020" y="2884"/>
                  </a:lnTo>
                  <a:lnTo>
                    <a:pt x="2029" y="2896"/>
                  </a:lnTo>
                  <a:lnTo>
                    <a:pt x="2034" y="2907"/>
                  </a:lnTo>
                  <a:lnTo>
                    <a:pt x="2037" y="2916"/>
                  </a:lnTo>
                  <a:lnTo>
                    <a:pt x="2037" y="2925"/>
                  </a:lnTo>
                  <a:lnTo>
                    <a:pt x="2040" y="2933"/>
                  </a:lnTo>
                  <a:lnTo>
                    <a:pt x="2040" y="2942"/>
                  </a:lnTo>
                  <a:lnTo>
                    <a:pt x="2052" y="2945"/>
                  </a:lnTo>
                  <a:lnTo>
                    <a:pt x="2061" y="2953"/>
                  </a:lnTo>
                  <a:lnTo>
                    <a:pt x="2069" y="2959"/>
                  </a:lnTo>
                  <a:lnTo>
                    <a:pt x="2078" y="2965"/>
                  </a:lnTo>
                  <a:lnTo>
                    <a:pt x="2087" y="2965"/>
                  </a:lnTo>
                  <a:lnTo>
                    <a:pt x="2093" y="2976"/>
                  </a:lnTo>
                  <a:lnTo>
                    <a:pt x="2087" y="2985"/>
                  </a:lnTo>
                  <a:lnTo>
                    <a:pt x="2084" y="2994"/>
                  </a:lnTo>
                  <a:lnTo>
                    <a:pt x="2084" y="3005"/>
                  </a:lnTo>
                  <a:lnTo>
                    <a:pt x="2090" y="3017"/>
                  </a:lnTo>
                  <a:lnTo>
                    <a:pt x="2090" y="3025"/>
                  </a:lnTo>
                  <a:lnTo>
                    <a:pt x="2093" y="3017"/>
                  </a:lnTo>
                  <a:lnTo>
                    <a:pt x="2093" y="3008"/>
                  </a:lnTo>
                  <a:lnTo>
                    <a:pt x="2096" y="2999"/>
                  </a:lnTo>
                  <a:lnTo>
                    <a:pt x="2096" y="2991"/>
                  </a:lnTo>
                  <a:lnTo>
                    <a:pt x="2104" y="2988"/>
                  </a:lnTo>
                  <a:lnTo>
                    <a:pt x="2113" y="2988"/>
                  </a:lnTo>
                  <a:lnTo>
                    <a:pt x="2125" y="2988"/>
                  </a:lnTo>
                  <a:lnTo>
                    <a:pt x="2130" y="2999"/>
                  </a:lnTo>
                  <a:lnTo>
                    <a:pt x="2130" y="3008"/>
                  </a:lnTo>
                  <a:lnTo>
                    <a:pt x="2133" y="3017"/>
                  </a:lnTo>
                  <a:lnTo>
                    <a:pt x="2139" y="3028"/>
                  </a:lnTo>
                  <a:lnTo>
                    <a:pt x="2148" y="3034"/>
                  </a:lnTo>
                  <a:lnTo>
                    <a:pt x="2160" y="3040"/>
                  </a:lnTo>
                  <a:lnTo>
                    <a:pt x="2151" y="3043"/>
                  </a:lnTo>
                  <a:lnTo>
                    <a:pt x="2148" y="3051"/>
                  </a:lnTo>
                  <a:lnTo>
                    <a:pt x="2133" y="3054"/>
                  </a:lnTo>
                  <a:lnTo>
                    <a:pt x="2125" y="3051"/>
                  </a:lnTo>
                  <a:lnTo>
                    <a:pt x="2116" y="3051"/>
                  </a:lnTo>
                  <a:lnTo>
                    <a:pt x="2101" y="3046"/>
                  </a:lnTo>
                  <a:lnTo>
                    <a:pt x="2093" y="3037"/>
                  </a:lnTo>
                  <a:lnTo>
                    <a:pt x="2090" y="3046"/>
                  </a:lnTo>
                  <a:lnTo>
                    <a:pt x="2090" y="3054"/>
                  </a:lnTo>
                  <a:lnTo>
                    <a:pt x="2090" y="3063"/>
                  </a:lnTo>
                  <a:lnTo>
                    <a:pt x="2090" y="3071"/>
                  </a:lnTo>
                  <a:lnTo>
                    <a:pt x="2087" y="3080"/>
                  </a:lnTo>
                  <a:lnTo>
                    <a:pt x="2084" y="3089"/>
                  </a:lnTo>
                  <a:lnTo>
                    <a:pt x="2084" y="3097"/>
                  </a:lnTo>
                  <a:lnTo>
                    <a:pt x="2096" y="3097"/>
                  </a:lnTo>
                  <a:lnTo>
                    <a:pt x="2104" y="3092"/>
                  </a:lnTo>
                  <a:lnTo>
                    <a:pt x="2110" y="3100"/>
                  </a:lnTo>
                  <a:lnTo>
                    <a:pt x="2107" y="3109"/>
                  </a:lnTo>
                  <a:lnTo>
                    <a:pt x="2098" y="3118"/>
                  </a:lnTo>
                  <a:lnTo>
                    <a:pt x="2090" y="3123"/>
                  </a:lnTo>
                  <a:lnTo>
                    <a:pt x="2087" y="3109"/>
                  </a:lnTo>
                  <a:lnTo>
                    <a:pt x="2087" y="3132"/>
                  </a:lnTo>
                  <a:lnTo>
                    <a:pt x="2096" y="3126"/>
                  </a:lnTo>
                  <a:lnTo>
                    <a:pt x="2087" y="3109"/>
                  </a:lnTo>
                  <a:lnTo>
                    <a:pt x="2104" y="3112"/>
                  </a:lnTo>
                  <a:lnTo>
                    <a:pt x="2110" y="3103"/>
                  </a:lnTo>
                  <a:lnTo>
                    <a:pt x="2110" y="3112"/>
                  </a:lnTo>
                  <a:lnTo>
                    <a:pt x="2110" y="3120"/>
                  </a:lnTo>
                  <a:lnTo>
                    <a:pt x="2116" y="3129"/>
                  </a:lnTo>
                  <a:lnTo>
                    <a:pt x="2119" y="3138"/>
                  </a:lnTo>
                  <a:lnTo>
                    <a:pt x="2122" y="3149"/>
                  </a:lnTo>
                  <a:lnTo>
                    <a:pt x="2122" y="3158"/>
                  </a:lnTo>
                  <a:lnTo>
                    <a:pt x="2125" y="3167"/>
                  </a:lnTo>
                  <a:lnTo>
                    <a:pt x="2125" y="3175"/>
                  </a:lnTo>
                  <a:lnTo>
                    <a:pt x="2125" y="3184"/>
                  </a:lnTo>
                  <a:lnTo>
                    <a:pt x="2125" y="3193"/>
                  </a:lnTo>
                  <a:lnTo>
                    <a:pt x="2128" y="3201"/>
                  </a:lnTo>
                  <a:lnTo>
                    <a:pt x="2130" y="3210"/>
                  </a:lnTo>
                  <a:lnTo>
                    <a:pt x="2139" y="3210"/>
                  </a:lnTo>
                  <a:lnTo>
                    <a:pt x="2148" y="3210"/>
                  </a:lnTo>
                  <a:lnTo>
                    <a:pt x="2157" y="3207"/>
                  </a:lnTo>
                  <a:lnTo>
                    <a:pt x="2163" y="3198"/>
                  </a:lnTo>
                  <a:lnTo>
                    <a:pt x="2171" y="3195"/>
                  </a:lnTo>
                  <a:lnTo>
                    <a:pt x="2183" y="3193"/>
                  </a:lnTo>
                  <a:lnTo>
                    <a:pt x="2192" y="3190"/>
                  </a:lnTo>
                  <a:lnTo>
                    <a:pt x="2200" y="3184"/>
                  </a:lnTo>
                  <a:lnTo>
                    <a:pt x="2209" y="3181"/>
                  </a:lnTo>
                  <a:lnTo>
                    <a:pt x="2218" y="3181"/>
                  </a:lnTo>
                  <a:lnTo>
                    <a:pt x="2224" y="3172"/>
                  </a:lnTo>
                  <a:lnTo>
                    <a:pt x="2232" y="3169"/>
                  </a:lnTo>
                  <a:lnTo>
                    <a:pt x="2241" y="3169"/>
                  </a:lnTo>
                  <a:lnTo>
                    <a:pt x="2256" y="3169"/>
                  </a:lnTo>
                  <a:lnTo>
                    <a:pt x="2264" y="3169"/>
                  </a:lnTo>
                  <a:lnTo>
                    <a:pt x="2276" y="3178"/>
                  </a:lnTo>
                  <a:lnTo>
                    <a:pt x="2288" y="3184"/>
                  </a:lnTo>
                  <a:lnTo>
                    <a:pt x="2296" y="3187"/>
                  </a:lnTo>
                  <a:lnTo>
                    <a:pt x="2308" y="3190"/>
                  </a:lnTo>
                  <a:lnTo>
                    <a:pt x="2317" y="3195"/>
                  </a:lnTo>
                  <a:lnTo>
                    <a:pt x="2328" y="3198"/>
                  </a:lnTo>
                  <a:lnTo>
                    <a:pt x="2340" y="3201"/>
                  </a:lnTo>
                  <a:lnTo>
                    <a:pt x="2349" y="3207"/>
                  </a:lnTo>
                  <a:lnTo>
                    <a:pt x="2358" y="3216"/>
                  </a:lnTo>
                  <a:lnTo>
                    <a:pt x="2366" y="3221"/>
                  </a:lnTo>
                  <a:lnTo>
                    <a:pt x="2375" y="3227"/>
                  </a:lnTo>
                  <a:lnTo>
                    <a:pt x="2387" y="3230"/>
                  </a:lnTo>
                  <a:lnTo>
                    <a:pt x="2395" y="3230"/>
                  </a:lnTo>
                  <a:lnTo>
                    <a:pt x="2404" y="3230"/>
                  </a:lnTo>
                  <a:lnTo>
                    <a:pt x="2407" y="3239"/>
                  </a:lnTo>
                  <a:lnTo>
                    <a:pt x="2407" y="3247"/>
                  </a:lnTo>
                  <a:lnTo>
                    <a:pt x="2413" y="3256"/>
                  </a:lnTo>
                  <a:lnTo>
                    <a:pt x="2422" y="3262"/>
                  </a:lnTo>
                  <a:lnTo>
                    <a:pt x="2436" y="3265"/>
                  </a:lnTo>
                  <a:lnTo>
                    <a:pt x="2451" y="3270"/>
                  </a:lnTo>
                  <a:lnTo>
                    <a:pt x="2457" y="3279"/>
                  </a:lnTo>
                  <a:lnTo>
                    <a:pt x="2457" y="3288"/>
                  </a:lnTo>
                  <a:lnTo>
                    <a:pt x="2468" y="3291"/>
                  </a:lnTo>
                  <a:lnTo>
                    <a:pt x="2483" y="3288"/>
                  </a:lnTo>
                  <a:lnTo>
                    <a:pt x="2491" y="3285"/>
                  </a:lnTo>
                  <a:lnTo>
                    <a:pt x="2500" y="3276"/>
                  </a:lnTo>
                  <a:lnTo>
                    <a:pt x="2509" y="3270"/>
                  </a:lnTo>
                  <a:lnTo>
                    <a:pt x="2515" y="3262"/>
                  </a:lnTo>
                  <a:lnTo>
                    <a:pt x="2521" y="3253"/>
                  </a:lnTo>
                  <a:lnTo>
                    <a:pt x="2526" y="3244"/>
                  </a:lnTo>
                  <a:lnTo>
                    <a:pt x="2532" y="3236"/>
                  </a:lnTo>
                  <a:lnTo>
                    <a:pt x="2535" y="3227"/>
                  </a:lnTo>
                  <a:lnTo>
                    <a:pt x="2541" y="3218"/>
                  </a:lnTo>
                  <a:lnTo>
                    <a:pt x="2544" y="3210"/>
                  </a:lnTo>
                  <a:lnTo>
                    <a:pt x="2544" y="3198"/>
                  </a:lnTo>
                  <a:lnTo>
                    <a:pt x="2544" y="3190"/>
                  </a:lnTo>
                  <a:lnTo>
                    <a:pt x="2553" y="3181"/>
                  </a:lnTo>
                  <a:lnTo>
                    <a:pt x="2567" y="3181"/>
                  </a:lnTo>
                  <a:lnTo>
                    <a:pt x="2599" y="3155"/>
                  </a:lnTo>
                  <a:lnTo>
                    <a:pt x="2599" y="3164"/>
                  </a:lnTo>
                  <a:lnTo>
                    <a:pt x="2608" y="3169"/>
                  </a:lnTo>
                  <a:lnTo>
                    <a:pt x="2617" y="3178"/>
                  </a:lnTo>
                  <a:lnTo>
                    <a:pt x="2625" y="3181"/>
                  </a:lnTo>
                  <a:lnTo>
                    <a:pt x="2634" y="3178"/>
                  </a:lnTo>
                  <a:lnTo>
                    <a:pt x="2643" y="3172"/>
                  </a:lnTo>
                  <a:lnTo>
                    <a:pt x="2657" y="3169"/>
                  </a:lnTo>
                  <a:lnTo>
                    <a:pt x="2666" y="3169"/>
                  </a:lnTo>
                  <a:lnTo>
                    <a:pt x="2675" y="3169"/>
                  </a:lnTo>
                  <a:lnTo>
                    <a:pt x="2684" y="3164"/>
                  </a:lnTo>
                  <a:lnTo>
                    <a:pt x="2692" y="3155"/>
                  </a:lnTo>
                  <a:lnTo>
                    <a:pt x="2739" y="3155"/>
                  </a:lnTo>
                  <a:lnTo>
                    <a:pt x="2733" y="3138"/>
                  </a:lnTo>
                  <a:lnTo>
                    <a:pt x="2733" y="3126"/>
                  </a:lnTo>
                  <a:lnTo>
                    <a:pt x="2730" y="3118"/>
                  </a:lnTo>
                  <a:lnTo>
                    <a:pt x="2739" y="3112"/>
                  </a:lnTo>
                  <a:lnTo>
                    <a:pt x="2748" y="3106"/>
                  </a:lnTo>
                  <a:lnTo>
                    <a:pt x="2753" y="3097"/>
                  </a:lnTo>
                  <a:lnTo>
                    <a:pt x="2762" y="3092"/>
                  </a:lnTo>
                  <a:lnTo>
                    <a:pt x="2771" y="3092"/>
                  </a:lnTo>
                  <a:lnTo>
                    <a:pt x="2780" y="3095"/>
                  </a:lnTo>
                  <a:lnTo>
                    <a:pt x="2783" y="3103"/>
                  </a:lnTo>
                  <a:lnTo>
                    <a:pt x="2786" y="3112"/>
                  </a:lnTo>
                  <a:lnTo>
                    <a:pt x="2786" y="3126"/>
                  </a:lnTo>
                  <a:lnTo>
                    <a:pt x="2788" y="3135"/>
                  </a:lnTo>
                  <a:lnTo>
                    <a:pt x="2791" y="3144"/>
                  </a:lnTo>
                  <a:lnTo>
                    <a:pt x="2794" y="3152"/>
                  </a:lnTo>
                  <a:lnTo>
                    <a:pt x="2800" y="3161"/>
                  </a:lnTo>
                  <a:lnTo>
                    <a:pt x="2809" y="3167"/>
                  </a:lnTo>
                  <a:lnTo>
                    <a:pt x="2818" y="3167"/>
                  </a:lnTo>
                  <a:lnTo>
                    <a:pt x="2826" y="3167"/>
                  </a:lnTo>
                  <a:lnTo>
                    <a:pt x="2832" y="3158"/>
                  </a:lnTo>
                  <a:lnTo>
                    <a:pt x="2841" y="3152"/>
                  </a:lnTo>
                  <a:lnTo>
                    <a:pt x="2844" y="3144"/>
                  </a:lnTo>
                  <a:lnTo>
                    <a:pt x="2847" y="3135"/>
                  </a:lnTo>
                  <a:lnTo>
                    <a:pt x="2850" y="3123"/>
                  </a:lnTo>
                  <a:lnTo>
                    <a:pt x="2858" y="3115"/>
                  </a:lnTo>
                  <a:lnTo>
                    <a:pt x="2870" y="3115"/>
                  </a:lnTo>
                  <a:lnTo>
                    <a:pt x="2879" y="3115"/>
                  </a:lnTo>
                  <a:lnTo>
                    <a:pt x="2887" y="3115"/>
                  </a:lnTo>
                  <a:lnTo>
                    <a:pt x="2896" y="3115"/>
                  </a:lnTo>
                  <a:lnTo>
                    <a:pt x="2902" y="3106"/>
                  </a:lnTo>
                  <a:lnTo>
                    <a:pt x="2914" y="3103"/>
                  </a:lnTo>
                  <a:lnTo>
                    <a:pt x="2922" y="3103"/>
                  </a:lnTo>
                  <a:lnTo>
                    <a:pt x="2925" y="3095"/>
                  </a:lnTo>
                  <a:lnTo>
                    <a:pt x="2925" y="3086"/>
                  </a:lnTo>
                  <a:lnTo>
                    <a:pt x="2922" y="3077"/>
                  </a:lnTo>
                  <a:lnTo>
                    <a:pt x="2917" y="3066"/>
                  </a:lnTo>
                  <a:lnTo>
                    <a:pt x="2911" y="3057"/>
                  </a:lnTo>
                  <a:lnTo>
                    <a:pt x="2905" y="3048"/>
                  </a:lnTo>
                  <a:lnTo>
                    <a:pt x="2896" y="3046"/>
                  </a:lnTo>
                  <a:lnTo>
                    <a:pt x="2887" y="3048"/>
                  </a:lnTo>
                  <a:lnTo>
                    <a:pt x="2879" y="3051"/>
                  </a:lnTo>
                  <a:lnTo>
                    <a:pt x="2876" y="3060"/>
                  </a:lnTo>
                  <a:lnTo>
                    <a:pt x="2873" y="3069"/>
                  </a:lnTo>
                  <a:lnTo>
                    <a:pt x="2864" y="3066"/>
                  </a:lnTo>
                  <a:lnTo>
                    <a:pt x="2861" y="3054"/>
                  </a:lnTo>
                  <a:lnTo>
                    <a:pt x="2858" y="3043"/>
                  </a:lnTo>
                  <a:lnTo>
                    <a:pt x="2858" y="3034"/>
                  </a:lnTo>
                  <a:lnTo>
                    <a:pt x="2855" y="3025"/>
                  </a:lnTo>
                  <a:lnTo>
                    <a:pt x="2850" y="3017"/>
                  </a:lnTo>
                  <a:lnTo>
                    <a:pt x="2850" y="3008"/>
                  </a:lnTo>
                  <a:lnTo>
                    <a:pt x="2850" y="2997"/>
                  </a:lnTo>
                  <a:lnTo>
                    <a:pt x="2850" y="2988"/>
                  </a:lnTo>
                  <a:lnTo>
                    <a:pt x="2858" y="2982"/>
                  </a:lnTo>
                  <a:lnTo>
                    <a:pt x="2867" y="2982"/>
                  </a:lnTo>
                  <a:lnTo>
                    <a:pt x="2876" y="2979"/>
                  </a:lnTo>
                  <a:lnTo>
                    <a:pt x="2884" y="2974"/>
                  </a:lnTo>
                  <a:lnTo>
                    <a:pt x="2887" y="2962"/>
                  </a:lnTo>
                  <a:lnTo>
                    <a:pt x="2896" y="2962"/>
                  </a:lnTo>
                  <a:lnTo>
                    <a:pt x="2905" y="2962"/>
                  </a:lnTo>
                  <a:lnTo>
                    <a:pt x="2914" y="2962"/>
                  </a:lnTo>
                  <a:lnTo>
                    <a:pt x="2922" y="2959"/>
                  </a:lnTo>
                  <a:lnTo>
                    <a:pt x="2931" y="2956"/>
                  </a:lnTo>
                  <a:lnTo>
                    <a:pt x="2937" y="2948"/>
                  </a:lnTo>
                  <a:lnTo>
                    <a:pt x="2943" y="2939"/>
                  </a:lnTo>
                  <a:lnTo>
                    <a:pt x="2946" y="2930"/>
                  </a:lnTo>
                  <a:lnTo>
                    <a:pt x="2954" y="2925"/>
                  </a:lnTo>
                  <a:lnTo>
                    <a:pt x="2963" y="2919"/>
                  </a:lnTo>
                  <a:lnTo>
                    <a:pt x="2972" y="2916"/>
                  </a:lnTo>
                  <a:lnTo>
                    <a:pt x="2981" y="2913"/>
                  </a:lnTo>
                  <a:lnTo>
                    <a:pt x="2983" y="2904"/>
                  </a:lnTo>
                  <a:lnTo>
                    <a:pt x="2989" y="2893"/>
                  </a:lnTo>
                  <a:lnTo>
                    <a:pt x="2998" y="2881"/>
                  </a:lnTo>
                  <a:lnTo>
                    <a:pt x="3004" y="2873"/>
                  </a:lnTo>
                  <a:lnTo>
                    <a:pt x="3010" y="2864"/>
                  </a:lnTo>
                  <a:lnTo>
                    <a:pt x="3018" y="2858"/>
                  </a:lnTo>
                  <a:lnTo>
                    <a:pt x="3027" y="2852"/>
                  </a:lnTo>
                  <a:lnTo>
                    <a:pt x="3036" y="2847"/>
                  </a:lnTo>
                  <a:lnTo>
                    <a:pt x="3045" y="2847"/>
                  </a:lnTo>
                  <a:lnTo>
                    <a:pt x="3053" y="2844"/>
                  </a:lnTo>
                  <a:lnTo>
                    <a:pt x="3053" y="2835"/>
                  </a:lnTo>
                  <a:lnTo>
                    <a:pt x="3053" y="2827"/>
                  </a:lnTo>
                  <a:lnTo>
                    <a:pt x="3053" y="2818"/>
                  </a:lnTo>
                  <a:lnTo>
                    <a:pt x="3053" y="2809"/>
                  </a:lnTo>
                  <a:lnTo>
                    <a:pt x="3050" y="2801"/>
                  </a:lnTo>
                  <a:lnTo>
                    <a:pt x="3045" y="2789"/>
                  </a:lnTo>
                  <a:lnTo>
                    <a:pt x="3045" y="2780"/>
                  </a:lnTo>
                  <a:lnTo>
                    <a:pt x="3045" y="2772"/>
                  </a:lnTo>
                  <a:lnTo>
                    <a:pt x="3045" y="2763"/>
                  </a:lnTo>
                  <a:lnTo>
                    <a:pt x="3036" y="2754"/>
                  </a:lnTo>
                  <a:lnTo>
                    <a:pt x="3027" y="2743"/>
                  </a:lnTo>
                  <a:lnTo>
                    <a:pt x="3024" y="2734"/>
                  </a:lnTo>
                  <a:lnTo>
                    <a:pt x="3021" y="2726"/>
                  </a:lnTo>
                  <a:lnTo>
                    <a:pt x="3018" y="2717"/>
                  </a:lnTo>
                  <a:lnTo>
                    <a:pt x="3010" y="2708"/>
                  </a:lnTo>
                  <a:lnTo>
                    <a:pt x="3001" y="2705"/>
                  </a:lnTo>
                  <a:lnTo>
                    <a:pt x="3001" y="2697"/>
                  </a:lnTo>
                  <a:lnTo>
                    <a:pt x="3010" y="2694"/>
                  </a:lnTo>
                  <a:lnTo>
                    <a:pt x="3018" y="2688"/>
                  </a:lnTo>
                  <a:lnTo>
                    <a:pt x="3027" y="2682"/>
                  </a:lnTo>
                  <a:lnTo>
                    <a:pt x="3030" y="2674"/>
                  </a:lnTo>
                  <a:lnTo>
                    <a:pt x="3039" y="2665"/>
                  </a:lnTo>
                  <a:lnTo>
                    <a:pt x="3045" y="2657"/>
                  </a:lnTo>
                  <a:lnTo>
                    <a:pt x="3056" y="2659"/>
                  </a:lnTo>
                  <a:lnTo>
                    <a:pt x="3065" y="2665"/>
                  </a:lnTo>
                  <a:lnTo>
                    <a:pt x="3074" y="2665"/>
                  </a:lnTo>
                  <a:lnTo>
                    <a:pt x="3077" y="2657"/>
                  </a:lnTo>
                  <a:lnTo>
                    <a:pt x="3077" y="2645"/>
                  </a:lnTo>
                  <a:lnTo>
                    <a:pt x="3077" y="2636"/>
                  </a:lnTo>
                  <a:lnTo>
                    <a:pt x="3077" y="2628"/>
                  </a:lnTo>
                  <a:lnTo>
                    <a:pt x="3071" y="2619"/>
                  </a:lnTo>
                  <a:lnTo>
                    <a:pt x="3062" y="2613"/>
                  </a:lnTo>
                  <a:lnTo>
                    <a:pt x="3056" y="2605"/>
                  </a:lnTo>
                  <a:lnTo>
                    <a:pt x="3056" y="2596"/>
                  </a:lnTo>
                  <a:lnTo>
                    <a:pt x="3053" y="2582"/>
                  </a:lnTo>
                  <a:lnTo>
                    <a:pt x="3053" y="2573"/>
                  </a:lnTo>
                  <a:lnTo>
                    <a:pt x="3062" y="2567"/>
                  </a:lnTo>
                  <a:lnTo>
                    <a:pt x="3071" y="2567"/>
                  </a:lnTo>
                  <a:lnTo>
                    <a:pt x="3080" y="2564"/>
                  </a:lnTo>
                  <a:lnTo>
                    <a:pt x="3088" y="2564"/>
                  </a:lnTo>
                  <a:lnTo>
                    <a:pt x="3097" y="2561"/>
                  </a:lnTo>
                  <a:lnTo>
                    <a:pt x="3109" y="2556"/>
                  </a:lnTo>
                  <a:lnTo>
                    <a:pt x="3117" y="2547"/>
                  </a:lnTo>
                  <a:lnTo>
                    <a:pt x="3120" y="2538"/>
                  </a:lnTo>
                  <a:lnTo>
                    <a:pt x="3120" y="2530"/>
                  </a:lnTo>
                  <a:lnTo>
                    <a:pt x="3120" y="2521"/>
                  </a:lnTo>
                  <a:lnTo>
                    <a:pt x="3120" y="2512"/>
                  </a:lnTo>
                  <a:lnTo>
                    <a:pt x="3114" y="2501"/>
                  </a:lnTo>
                  <a:lnTo>
                    <a:pt x="3112" y="2489"/>
                  </a:lnTo>
                  <a:lnTo>
                    <a:pt x="3112" y="2481"/>
                  </a:lnTo>
                  <a:lnTo>
                    <a:pt x="3112" y="2472"/>
                  </a:lnTo>
                  <a:lnTo>
                    <a:pt x="3120" y="2463"/>
                  </a:lnTo>
                  <a:lnTo>
                    <a:pt x="3129" y="2461"/>
                  </a:lnTo>
                  <a:lnTo>
                    <a:pt x="3135" y="2452"/>
                  </a:lnTo>
                  <a:lnTo>
                    <a:pt x="3135" y="2443"/>
                  </a:lnTo>
                  <a:lnTo>
                    <a:pt x="3135" y="2435"/>
                  </a:lnTo>
                  <a:lnTo>
                    <a:pt x="3144" y="2429"/>
                  </a:lnTo>
                  <a:lnTo>
                    <a:pt x="3152" y="2420"/>
                  </a:lnTo>
                  <a:lnTo>
                    <a:pt x="3155" y="2412"/>
                  </a:lnTo>
                  <a:lnTo>
                    <a:pt x="3158" y="2403"/>
                  </a:lnTo>
                  <a:lnTo>
                    <a:pt x="3167" y="2394"/>
                  </a:lnTo>
                  <a:lnTo>
                    <a:pt x="3176" y="2386"/>
                  </a:lnTo>
                  <a:lnTo>
                    <a:pt x="3184" y="2380"/>
                  </a:lnTo>
                  <a:lnTo>
                    <a:pt x="3184" y="2371"/>
                  </a:lnTo>
                  <a:lnTo>
                    <a:pt x="3187" y="2363"/>
                  </a:lnTo>
                  <a:lnTo>
                    <a:pt x="3193" y="2354"/>
                  </a:lnTo>
                  <a:lnTo>
                    <a:pt x="3202" y="2348"/>
                  </a:lnTo>
                  <a:lnTo>
                    <a:pt x="3208" y="2340"/>
                  </a:lnTo>
                  <a:lnTo>
                    <a:pt x="3213" y="2331"/>
                  </a:lnTo>
                  <a:lnTo>
                    <a:pt x="3216" y="2322"/>
                  </a:lnTo>
                  <a:lnTo>
                    <a:pt x="3219" y="2314"/>
                  </a:lnTo>
                  <a:lnTo>
                    <a:pt x="3222" y="2305"/>
                  </a:lnTo>
                  <a:lnTo>
                    <a:pt x="3228" y="2296"/>
                  </a:lnTo>
                  <a:lnTo>
                    <a:pt x="3237" y="2291"/>
                  </a:lnTo>
                  <a:lnTo>
                    <a:pt x="3245" y="2291"/>
                  </a:lnTo>
                  <a:lnTo>
                    <a:pt x="3254" y="2285"/>
                  </a:lnTo>
                  <a:lnTo>
                    <a:pt x="3263" y="2282"/>
                  </a:lnTo>
                  <a:lnTo>
                    <a:pt x="3272" y="2279"/>
                  </a:lnTo>
                  <a:lnTo>
                    <a:pt x="3280" y="2279"/>
                  </a:lnTo>
                  <a:lnTo>
                    <a:pt x="3289" y="2276"/>
                  </a:lnTo>
                  <a:lnTo>
                    <a:pt x="3298" y="2273"/>
                  </a:lnTo>
                  <a:lnTo>
                    <a:pt x="3307" y="2273"/>
                  </a:lnTo>
                  <a:lnTo>
                    <a:pt x="3318" y="2276"/>
                  </a:lnTo>
                  <a:lnTo>
                    <a:pt x="3327" y="2276"/>
                  </a:lnTo>
                  <a:lnTo>
                    <a:pt x="3336" y="2276"/>
                  </a:lnTo>
                  <a:lnTo>
                    <a:pt x="3344" y="2276"/>
                  </a:lnTo>
                  <a:lnTo>
                    <a:pt x="3344" y="2279"/>
                  </a:lnTo>
                  <a:lnTo>
                    <a:pt x="3356" y="2265"/>
                  </a:lnTo>
                  <a:lnTo>
                    <a:pt x="3365" y="2265"/>
                  </a:lnTo>
                  <a:lnTo>
                    <a:pt x="3374" y="2259"/>
                  </a:lnTo>
                  <a:lnTo>
                    <a:pt x="3382" y="2253"/>
                  </a:lnTo>
                  <a:lnTo>
                    <a:pt x="3385" y="2244"/>
                  </a:lnTo>
                  <a:lnTo>
                    <a:pt x="3391" y="2233"/>
                  </a:lnTo>
                  <a:lnTo>
                    <a:pt x="3400" y="2224"/>
                  </a:lnTo>
                  <a:lnTo>
                    <a:pt x="3397" y="2216"/>
                  </a:lnTo>
                  <a:lnTo>
                    <a:pt x="3391" y="2207"/>
                  </a:lnTo>
                  <a:lnTo>
                    <a:pt x="3382" y="2201"/>
                  </a:lnTo>
                  <a:lnTo>
                    <a:pt x="3376" y="2193"/>
                  </a:lnTo>
                  <a:lnTo>
                    <a:pt x="3368" y="2184"/>
                  </a:lnTo>
                  <a:lnTo>
                    <a:pt x="3362" y="2172"/>
                  </a:lnTo>
                  <a:lnTo>
                    <a:pt x="3356" y="2164"/>
                  </a:lnTo>
                  <a:lnTo>
                    <a:pt x="3356" y="2155"/>
                  </a:lnTo>
                  <a:lnTo>
                    <a:pt x="3356" y="2146"/>
                  </a:lnTo>
                  <a:lnTo>
                    <a:pt x="3368" y="2141"/>
                  </a:lnTo>
                  <a:lnTo>
                    <a:pt x="3376" y="2138"/>
                  </a:lnTo>
                  <a:lnTo>
                    <a:pt x="3385" y="2135"/>
                  </a:lnTo>
                  <a:lnTo>
                    <a:pt x="3394" y="2126"/>
                  </a:lnTo>
                  <a:lnTo>
                    <a:pt x="3400" y="2118"/>
                  </a:lnTo>
                  <a:lnTo>
                    <a:pt x="3406" y="2109"/>
                  </a:lnTo>
                  <a:lnTo>
                    <a:pt x="3414" y="2106"/>
                  </a:lnTo>
                  <a:lnTo>
                    <a:pt x="3426" y="2106"/>
                  </a:lnTo>
                  <a:lnTo>
                    <a:pt x="3435" y="2106"/>
                  </a:lnTo>
                  <a:lnTo>
                    <a:pt x="3443" y="2106"/>
                  </a:lnTo>
                  <a:lnTo>
                    <a:pt x="3452" y="2103"/>
                  </a:lnTo>
                  <a:lnTo>
                    <a:pt x="3461" y="2103"/>
                  </a:lnTo>
                  <a:lnTo>
                    <a:pt x="3470" y="2103"/>
                  </a:lnTo>
                  <a:lnTo>
                    <a:pt x="3478" y="2112"/>
                  </a:lnTo>
                  <a:lnTo>
                    <a:pt x="3484" y="2120"/>
                  </a:lnTo>
                  <a:lnTo>
                    <a:pt x="3493" y="2126"/>
                  </a:lnTo>
                  <a:lnTo>
                    <a:pt x="3502" y="2129"/>
                  </a:lnTo>
                  <a:lnTo>
                    <a:pt x="3510" y="2129"/>
                  </a:lnTo>
                  <a:lnTo>
                    <a:pt x="3519" y="2129"/>
                  </a:lnTo>
                  <a:lnTo>
                    <a:pt x="3528" y="2126"/>
                  </a:lnTo>
                  <a:lnTo>
                    <a:pt x="3537" y="2118"/>
                  </a:lnTo>
                  <a:lnTo>
                    <a:pt x="3542" y="2109"/>
                  </a:lnTo>
                  <a:lnTo>
                    <a:pt x="3548" y="2100"/>
                  </a:lnTo>
                  <a:lnTo>
                    <a:pt x="3551" y="2089"/>
                  </a:lnTo>
                  <a:lnTo>
                    <a:pt x="3554" y="2080"/>
                  </a:lnTo>
                  <a:lnTo>
                    <a:pt x="3563" y="2072"/>
                  </a:lnTo>
                  <a:lnTo>
                    <a:pt x="3572" y="2072"/>
                  </a:lnTo>
                  <a:lnTo>
                    <a:pt x="3583" y="2063"/>
                  </a:lnTo>
                  <a:lnTo>
                    <a:pt x="3589" y="2054"/>
                  </a:lnTo>
                  <a:lnTo>
                    <a:pt x="3595" y="2046"/>
                  </a:lnTo>
                  <a:lnTo>
                    <a:pt x="3604" y="2040"/>
                  </a:lnTo>
                  <a:lnTo>
                    <a:pt x="3612" y="2040"/>
                  </a:lnTo>
                  <a:lnTo>
                    <a:pt x="3621" y="2040"/>
                  </a:lnTo>
                  <a:lnTo>
                    <a:pt x="3630" y="2040"/>
                  </a:lnTo>
                  <a:lnTo>
                    <a:pt x="3638" y="2037"/>
                  </a:lnTo>
                  <a:lnTo>
                    <a:pt x="3647" y="2037"/>
                  </a:lnTo>
                  <a:lnTo>
                    <a:pt x="3656" y="2037"/>
                  </a:lnTo>
                  <a:lnTo>
                    <a:pt x="3665" y="2037"/>
                  </a:lnTo>
                  <a:lnTo>
                    <a:pt x="3673" y="2034"/>
                  </a:lnTo>
                  <a:lnTo>
                    <a:pt x="3682" y="2031"/>
                  </a:lnTo>
                  <a:lnTo>
                    <a:pt x="3691" y="2028"/>
                  </a:lnTo>
                  <a:lnTo>
                    <a:pt x="3700" y="2023"/>
                  </a:lnTo>
                  <a:lnTo>
                    <a:pt x="3705" y="2014"/>
                  </a:lnTo>
                  <a:lnTo>
                    <a:pt x="3714" y="2005"/>
                  </a:lnTo>
                  <a:lnTo>
                    <a:pt x="3723" y="1997"/>
                  </a:lnTo>
                  <a:lnTo>
                    <a:pt x="3726" y="1988"/>
                  </a:lnTo>
                  <a:lnTo>
                    <a:pt x="3735" y="1976"/>
                  </a:lnTo>
                  <a:lnTo>
                    <a:pt x="3740" y="1968"/>
                  </a:lnTo>
                  <a:lnTo>
                    <a:pt x="3746" y="1959"/>
                  </a:lnTo>
                  <a:lnTo>
                    <a:pt x="3749" y="1950"/>
                  </a:lnTo>
                  <a:lnTo>
                    <a:pt x="3755" y="1939"/>
                  </a:lnTo>
                  <a:lnTo>
                    <a:pt x="3761" y="1927"/>
                  </a:lnTo>
                  <a:lnTo>
                    <a:pt x="3767" y="1919"/>
                  </a:lnTo>
                  <a:lnTo>
                    <a:pt x="3767" y="1910"/>
                  </a:lnTo>
                  <a:lnTo>
                    <a:pt x="3758" y="1910"/>
                  </a:lnTo>
                  <a:lnTo>
                    <a:pt x="3758" y="1899"/>
                  </a:lnTo>
                  <a:lnTo>
                    <a:pt x="3758" y="1890"/>
                  </a:lnTo>
                  <a:lnTo>
                    <a:pt x="3767" y="1881"/>
                  </a:lnTo>
                  <a:lnTo>
                    <a:pt x="3775" y="1881"/>
                  </a:lnTo>
                  <a:lnTo>
                    <a:pt x="3781" y="1873"/>
                  </a:lnTo>
                  <a:lnTo>
                    <a:pt x="3784" y="1864"/>
                  </a:lnTo>
                  <a:lnTo>
                    <a:pt x="3787" y="1855"/>
                  </a:lnTo>
                  <a:lnTo>
                    <a:pt x="3796" y="1850"/>
                  </a:lnTo>
                  <a:lnTo>
                    <a:pt x="3804" y="1847"/>
                  </a:lnTo>
                  <a:lnTo>
                    <a:pt x="3813" y="1844"/>
                  </a:lnTo>
                  <a:lnTo>
                    <a:pt x="3822" y="1838"/>
                  </a:lnTo>
                  <a:lnTo>
                    <a:pt x="3831" y="1835"/>
                  </a:lnTo>
                  <a:lnTo>
                    <a:pt x="3839" y="1824"/>
                  </a:lnTo>
                  <a:lnTo>
                    <a:pt x="3845" y="1815"/>
                  </a:lnTo>
                  <a:lnTo>
                    <a:pt x="3851" y="1806"/>
                  </a:lnTo>
                  <a:lnTo>
                    <a:pt x="3857" y="1798"/>
                  </a:lnTo>
                  <a:lnTo>
                    <a:pt x="3860" y="1789"/>
                  </a:lnTo>
                  <a:lnTo>
                    <a:pt x="3863" y="1780"/>
                  </a:lnTo>
                  <a:lnTo>
                    <a:pt x="3857" y="1772"/>
                  </a:lnTo>
                  <a:lnTo>
                    <a:pt x="3851" y="1763"/>
                  </a:lnTo>
                  <a:lnTo>
                    <a:pt x="3842" y="1760"/>
                  </a:lnTo>
                  <a:lnTo>
                    <a:pt x="3834" y="1752"/>
                  </a:lnTo>
                  <a:lnTo>
                    <a:pt x="3831" y="1743"/>
                  </a:lnTo>
                  <a:lnTo>
                    <a:pt x="3828" y="1734"/>
                  </a:lnTo>
                  <a:lnTo>
                    <a:pt x="3825" y="1726"/>
                  </a:lnTo>
                  <a:lnTo>
                    <a:pt x="3822" y="1714"/>
                  </a:lnTo>
                  <a:lnTo>
                    <a:pt x="3819" y="1706"/>
                  </a:lnTo>
                  <a:lnTo>
                    <a:pt x="3816" y="1697"/>
                  </a:lnTo>
                  <a:lnTo>
                    <a:pt x="3813" y="1685"/>
                  </a:lnTo>
                  <a:lnTo>
                    <a:pt x="3810" y="1677"/>
                  </a:lnTo>
                  <a:lnTo>
                    <a:pt x="3807" y="1668"/>
                  </a:lnTo>
                  <a:lnTo>
                    <a:pt x="3804" y="1659"/>
                  </a:lnTo>
                  <a:lnTo>
                    <a:pt x="3796" y="1657"/>
                  </a:lnTo>
                  <a:lnTo>
                    <a:pt x="3787" y="1657"/>
                  </a:lnTo>
                  <a:lnTo>
                    <a:pt x="3775" y="1657"/>
                  </a:lnTo>
                  <a:lnTo>
                    <a:pt x="3767" y="1648"/>
                  </a:lnTo>
                  <a:lnTo>
                    <a:pt x="3767" y="1639"/>
                  </a:lnTo>
                  <a:lnTo>
                    <a:pt x="3767" y="1631"/>
                  </a:lnTo>
                  <a:lnTo>
                    <a:pt x="3767" y="1622"/>
                  </a:lnTo>
                  <a:lnTo>
                    <a:pt x="3767" y="1613"/>
                  </a:lnTo>
                  <a:lnTo>
                    <a:pt x="3770" y="1605"/>
                  </a:lnTo>
                  <a:lnTo>
                    <a:pt x="3770" y="1596"/>
                  </a:lnTo>
                  <a:lnTo>
                    <a:pt x="3772" y="1587"/>
                  </a:lnTo>
                  <a:lnTo>
                    <a:pt x="3810" y="1541"/>
                  </a:lnTo>
                  <a:lnTo>
                    <a:pt x="3793" y="1541"/>
                  </a:lnTo>
                  <a:lnTo>
                    <a:pt x="3799" y="1533"/>
                  </a:lnTo>
                  <a:lnTo>
                    <a:pt x="3807" y="1530"/>
                  </a:lnTo>
                  <a:lnTo>
                    <a:pt x="3816" y="1527"/>
                  </a:lnTo>
                  <a:lnTo>
                    <a:pt x="3828" y="1527"/>
                  </a:lnTo>
                  <a:lnTo>
                    <a:pt x="3839" y="1527"/>
                  </a:lnTo>
                  <a:lnTo>
                    <a:pt x="3851" y="1524"/>
                  </a:lnTo>
                  <a:lnTo>
                    <a:pt x="3863" y="1524"/>
                  </a:lnTo>
                  <a:lnTo>
                    <a:pt x="3874" y="1524"/>
                  </a:lnTo>
                  <a:lnTo>
                    <a:pt x="3883" y="1527"/>
                  </a:lnTo>
                  <a:lnTo>
                    <a:pt x="3892" y="1530"/>
                  </a:lnTo>
                  <a:lnTo>
                    <a:pt x="3901" y="1533"/>
                  </a:lnTo>
                  <a:lnTo>
                    <a:pt x="3909" y="1535"/>
                  </a:lnTo>
                  <a:lnTo>
                    <a:pt x="3918" y="1535"/>
                  </a:lnTo>
                  <a:lnTo>
                    <a:pt x="3930" y="1535"/>
                  </a:lnTo>
                  <a:lnTo>
                    <a:pt x="3941" y="1535"/>
                  </a:lnTo>
                  <a:lnTo>
                    <a:pt x="3950" y="1535"/>
                  </a:lnTo>
                  <a:lnTo>
                    <a:pt x="3959" y="1535"/>
                  </a:lnTo>
                  <a:lnTo>
                    <a:pt x="3970" y="1541"/>
                  </a:lnTo>
                  <a:lnTo>
                    <a:pt x="3979" y="1541"/>
                  </a:lnTo>
                  <a:lnTo>
                    <a:pt x="3985" y="1550"/>
                  </a:lnTo>
                  <a:lnTo>
                    <a:pt x="3997" y="1559"/>
                  </a:lnTo>
                  <a:lnTo>
                    <a:pt x="4005" y="1561"/>
                  </a:lnTo>
                  <a:lnTo>
                    <a:pt x="4017" y="1561"/>
                  </a:lnTo>
                  <a:lnTo>
                    <a:pt x="4026" y="1559"/>
                  </a:lnTo>
                  <a:lnTo>
                    <a:pt x="4029" y="1550"/>
                  </a:lnTo>
                  <a:lnTo>
                    <a:pt x="4037" y="1541"/>
                  </a:lnTo>
                  <a:lnTo>
                    <a:pt x="4040" y="1533"/>
                  </a:lnTo>
                  <a:lnTo>
                    <a:pt x="4043" y="1524"/>
                  </a:lnTo>
                  <a:lnTo>
                    <a:pt x="4055" y="1512"/>
                  </a:lnTo>
                  <a:lnTo>
                    <a:pt x="4066" y="1507"/>
                  </a:lnTo>
                  <a:lnTo>
                    <a:pt x="4075" y="1498"/>
                  </a:lnTo>
                  <a:lnTo>
                    <a:pt x="4084" y="1495"/>
                  </a:lnTo>
                  <a:lnTo>
                    <a:pt x="4093" y="1495"/>
                  </a:lnTo>
                  <a:lnTo>
                    <a:pt x="4101" y="1495"/>
                  </a:lnTo>
                  <a:lnTo>
                    <a:pt x="4110" y="1495"/>
                  </a:lnTo>
                  <a:lnTo>
                    <a:pt x="4119" y="1501"/>
                  </a:lnTo>
                  <a:lnTo>
                    <a:pt x="4130" y="1510"/>
                  </a:lnTo>
                  <a:lnTo>
                    <a:pt x="4139" y="1512"/>
                  </a:lnTo>
                  <a:lnTo>
                    <a:pt x="4148" y="1507"/>
                  </a:lnTo>
                  <a:lnTo>
                    <a:pt x="4154" y="1498"/>
                  </a:lnTo>
                  <a:lnTo>
                    <a:pt x="4157" y="1489"/>
                  </a:lnTo>
                  <a:lnTo>
                    <a:pt x="4165" y="1478"/>
                  </a:lnTo>
                  <a:lnTo>
                    <a:pt x="4168" y="1466"/>
                  </a:lnTo>
                  <a:lnTo>
                    <a:pt x="4163" y="1458"/>
                  </a:lnTo>
                  <a:lnTo>
                    <a:pt x="4157" y="1449"/>
                  </a:lnTo>
                  <a:lnTo>
                    <a:pt x="4154" y="1438"/>
                  </a:lnTo>
                  <a:lnTo>
                    <a:pt x="4151" y="1429"/>
                  </a:lnTo>
                  <a:lnTo>
                    <a:pt x="4151" y="1420"/>
                  </a:lnTo>
                  <a:lnTo>
                    <a:pt x="4151" y="1409"/>
                  </a:lnTo>
                  <a:lnTo>
                    <a:pt x="4151" y="1400"/>
                  </a:lnTo>
                  <a:lnTo>
                    <a:pt x="4160" y="1394"/>
                  </a:lnTo>
                  <a:lnTo>
                    <a:pt x="4174" y="1400"/>
                  </a:lnTo>
                  <a:lnTo>
                    <a:pt x="4183" y="1403"/>
                  </a:lnTo>
                  <a:lnTo>
                    <a:pt x="4183" y="1412"/>
                  </a:lnTo>
                  <a:lnTo>
                    <a:pt x="4192" y="1420"/>
                  </a:lnTo>
                  <a:lnTo>
                    <a:pt x="4203" y="1432"/>
                  </a:lnTo>
                  <a:lnTo>
                    <a:pt x="4212" y="1440"/>
                  </a:lnTo>
                  <a:lnTo>
                    <a:pt x="4215" y="1449"/>
                  </a:lnTo>
                  <a:lnTo>
                    <a:pt x="4218" y="1458"/>
                  </a:lnTo>
                  <a:lnTo>
                    <a:pt x="4227" y="1472"/>
                  </a:lnTo>
                  <a:lnTo>
                    <a:pt x="4235" y="1478"/>
                  </a:lnTo>
                  <a:lnTo>
                    <a:pt x="4241" y="1487"/>
                  </a:lnTo>
                  <a:lnTo>
                    <a:pt x="4253" y="1495"/>
                  </a:lnTo>
                  <a:lnTo>
                    <a:pt x="4264" y="1501"/>
                  </a:lnTo>
                  <a:lnTo>
                    <a:pt x="4270" y="1510"/>
                  </a:lnTo>
                  <a:lnTo>
                    <a:pt x="4273" y="1518"/>
                  </a:lnTo>
                  <a:lnTo>
                    <a:pt x="4273" y="1527"/>
                  </a:lnTo>
                  <a:lnTo>
                    <a:pt x="4273" y="1535"/>
                  </a:lnTo>
                  <a:lnTo>
                    <a:pt x="4273" y="1544"/>
                  </a:lnTo>
                  <a:lnTo>
                    <a:pt x="4264" y="1550"/>
                  </a:lnTo>
                  <a:lnTo>
                    <a:pt x="4256" y="1553"/>
                  </a:lnTo>
                  <a:lnTo>
                    <a:pt x="4256" y="1564"/>
                  </a:lnTo>
                  <a:lnTo>
                    <a:pt x="4256" y="1573"/>
                  </a:lnTo>
                  <a:lnTo>
                    <a:pt x="4256" y="1582"/>
                  </a:lnTo>
                  <a:lnTo>
                    <a:pt x="4264" y="1587"/>
                  </a:lnTo>
                  <a:lnTo>
                    <a:pt x="4276" y="1590"/>
                  </a:lnTo>
                  <a:lnTo>
                    <a:pt x="4285" y="1590"/>
                  </a:lnTo>
                  <a:lnTo>
                    <a:pt x="4294" y="1599"/>
                  </a:lnTo>
                  <a:lnTo>
                    <a:pt x="4302" y="1608"/>
                  </a:lnTo>
                  <a:lnTo>
                    <a:pt x="4314" y="1610"/>
                  </a:lnTo>
                  <a:lnTo>
                    <a:pt x="4326" y="1616"/>
                  </a:lnTo>
                  <a:lnTo>
                    <a:pt x="4334" y="1619"/>
                  </a:lnTo>
                  <a:lnTo>
                    <a:pt x="4340" y="1628"/>
                  </a:lnTo>
                  <a:lnTo>
                    <a:pt x="4343" y="1636"/>
                  </a:lnTo>
                  <a:lnTo>
                    <a:pt x="4343" y="1645"/>
                  </a:lnTo>
                  <a:lnTo>
                    <a:pt x="4343" y="1654"/>
                  </a:lnTo>
                  <a:lnTo>
                    <a:pt x="4343" y="1662"/>
                  </a:lnTo>
                  <a:lnTo>
                    <a:pt x="4346" y="1671"/>
                  </a:lnTo>
                  <a:lnTo>
                    <a:pt x="4355" y="1671"/>
                  </a:lnTo>
                  <a:lnTo>
                    <a:pt x="4366" y="1671"/>
                  </a:lnTo>
                  <a:lnTo>
                    <a:pt x="4369" y="1662"/>
                  </a:lnTo>
                  <a:lnTo>
                    <a:pt x="4363" y="1654"/>
                  </a:lnTo>
                  <a:lnTo>
                    <a:pt x="4360" y="1645"/>
                  </a:lnTo>
                  <a:lnTo>
                    <a:pt x="4355" y="1636"/>
                  </a:lnTo>
                  <a:lnTo>
                    <a:pt x="4352" y="1628"/>
                  </a:lnTo>
                  <a:lnTo>
                    <a:pt x="4349" y="1619"/>
                  </a:lnTo>
                  <a:lnTo>
                    <a:pt x="4346" y="1610"/>
                  </a:lnTo>
                  <a:lnTo>
                    <a:pt x="4346" y="1602"/>
                  </a:lnTo>
                  <a:lnTo>
                    <a:pt x="4346" y="1590"/>
                  </a:lnTo>
                  <a:lnTo>
                    <a:pt x="4346" y="1582"/>
                  </a:lnTo>
                  <a:lnTo>
                    <a:pt x="4355" y="1579"/>
                  </a:lnTo>
                  <a:lnTo>
                    <a:pt x="4363" y="1582"/>
                  </a:lnTo>
                  <a:lnTo>
                    <a:pt x="4372" y="1582"/>
                  </a:lnTo>
                  <a:lnTo>
                    <a:pt x="4381" y="1573"/>
                  </a:lnTo>
                  <a:lnTo>
                    <a:pt x="4390" y="1567"/>
                  </a:lnTo>
                  <a:lnTo>
                    <a:pt x="4393" y="1559"/>
                  </a:lnTo>
                  <a:lnTo>
                    <a:pt x="4393" y="1550"/>
                  </a:lnTo>
                  <a:lnTo>
                    <a:pt x="4393" y="1541"/>
                  </a:lnTo>
                  <a:lnTo>
                    <a:pt x="4393" y="1533"/>
                  </a:lnTo>
                  <a:lnTo>
                    <a:pt x="4393" y="1524"/>
                  </a:lnTo>
                  <a:lnTo>
                    <a:pt x="4393" y="1515"/>
                  </a:lnTo>
                  <a:lnTo>
                    <a:pt x="4390" y="1504"/>
                  </a:lnTo>
                  <a:lnTo>
                    <a:pt x="4384" y="1495"/>
                  </a:lnTo>
                  <a:lnTo>
                    <a:pt x="4381" y="1484"/>
                  </a:lnTo>
                  <a:lnTo>
                    <a:pt x="4378" y="1475"/>
                  </a:lnTo>
                  <a:lnTo>
                    <a:pt x="4369" y="1463"/>
                  </a:lnTo>
                  <a:lnTo>
                    <a:pt x="4363" y="1455"/>
                  </a:lnTo>
                  <a:lnTo>
                    <a:pt x="4360" y="1446"/>
                  </a:lnTo>
                  <a:lnTo>
                    <a:pt x="4358" y="1438"/>
                  </a:lnTo>
                  <a:lnTo>
                    <a:pt x="4352" y="1429"/>
                  </a:lnTo>
                  <a:lnTo>
                    <a:pt x="4346" y="1417"/>
                  </a:lnTo>
                  <a:lnTo>
                    <a:pt x="4340" y="1409"/>
                  </a:lnTo>
                  <a:lnTo>
                    <a:pt x="4337" y="1397"/>
                  </a:lnTo>
                  <a:lnTo>
                    <a:pt x="4334" y="1389"/>
                  </a:lnTo>
                  <a:lnTo>
                    <a:pt x="4334" y="1380"/>
                  </a:lnTo>
                  <a:lnTo>
                    <a:pt x="4331" y="1371"/>
                  </a:lnTo>
                  <a:lnTo>
                    <a:pt x="4328" y="1360"/>
                  </a:lnTo>
                  <a:lnTo>
                    <a:pt x="4323" y="1351"/>
                  </a:lnTo>
                  <a:lnTo>
                    <a:pt x="4320" y="1342"/>
                  </a:lnTo>
                  <a:lnTo>
                    <a:pt x="4314" y="1334"/>
                  </a:lnTo>
                  <a:lnTo>
                    <a:pt x="4305" y="1325"/>
                  </a:lnTo>
                  <a:lnTo>
                    <a:pt x="4296" y="1316"/>
                  </a:lnTo>
                  <a:lnTo>
                    <a:pt x="4288" y="1308"/>
                  </a:lnTo>
                  <a:lnTo>
                    <a:pt x="4276" y="1311"/>
                  </a:lnTo>
                  <a:lnTo>
                    <a:pt x="4279" y="1291"/>
                  </a:lnTo>
                  <a:lnTo>
                    <a:pt x="4276" y="1282"/>
                  </a:lnTo>
                  <a:lnTo>
                    <a:pt x="4270" y="1273"/>
                  </a:lnTo>
                  <a:lnTo>
                    <a:pt x="4261" y="1267"/>
                  </a:lnTo>
                  <a:lnTo>
                    <a:pt x="4253" y="1259"/>
                  </a:lnTo>
                  <a:lnTo>
                    <a:pt x="4244" y="1250"/>
                  </a:lnTo>
                  <a:lnTo>
                    <a:pt x="4238" y="1242"/>
                  </a:lnTo>
                  <a:lnTo>
                    <a:pt x="4232" y="1233"/>
                  </a:lnTo>
                  <a:lnTo>
                    <a:pt x="4229" y="1224"/>
                  </a:lnTo>
                  <a:lnTo>
                    <a:pt x="4221" y="1218"/>
                  </a:lnTo>
                  <a:lnTo>
                    <a:pt x="4212" y="1210"/>
                  </a:lnTo>
                  <a:lnTo>
                    <a:pt x="4200" y="1201"/>
                  </a:lnTo>
                  <a:lnTo>
                    <a:pt x="4192" y="1195"/>
                  </a:lnTo>
                  <a:lnTo>
                    <a:pt x="4183" y="1193"/>
                  </a:lnTo>
                  <a:lnTo>
                    <a:pt x="4171" y="1187"/>
                  </a:lnTo>
                  <a:lnTo>
                    <a:pt x="4163" y="1184"/>
                  </a:lnTo>
                  <a:lnTo>
                    <a:pt x="4154" y="1181"/>
                  </a:lnTo>
                  <a:lnTo>
                    <a:pt x="4145" y="1175"/>
                  </a:lnTo>
                  <a:lnTo>
                    <a:pt x="4136" y="1170"/>
                  </a:lnTo>
                  <a:lnTo>
                    <a:pt x="4130" y="1161"/>
                  </a:lnTo>
                  <a:lnTo>
                    <a:pt x="4119" y="1152"/>
                  </a:lnTo>
                  <a:lnTo>
                    <a:pt x="4110" y="1149"/>
                  </a:lnTo>
                  <a:lnTo>
                    <a:pt x="4098" y="1144"/>
                  </a:lnTo>
                  <a:lnTo>
                    <a:pt x="4090" y="1144"/>
                  </a:lnTo>
                  <a:lnTo>
                    <a:pt x="4078" y="1135"/>
                  </a:lnTo>
                  <a:lnTo>
                    <a:pt x="4069" y="1126"/>
                  </a:lnTo>
                  <a:lnTo>
                    <a:pt x="4064" y="1118"/>
                  </a:lnTo>
                  <a:lnTo>
                    <a:pt x="4058" y="1109"/>
                  </a:lnTo>
                  <a:lnTo>
                    <a:pt x="4049" y="1103"/>
                  </a:lnTo>
                  <a:lnTo>
                    <a:pt x="4058" y="1100"/>
                  </a:lnTo>
                  <a:lnTo>
                    <a:pt x="4066" y="1100"/>
                  </a:lnTo>
                  <a:lnTo>
                    <a:pt x="4078" y="1100"/>
                  </a:lnTo>
                  <a:lnTo>
                    <a:pt x="4090" y="1103"/>
                  </a:lnTo>
                  <a:lnTo>
                    <a:pt x="4098" y="1109"/>
                  </a:lnTo>
                  <a:lnTo>
                    <a:pt x="4107" y="1112"/>
                  </a:lnTo>
                  <a:lnTo>
                    <a:pt x="4116" y="1115"/>
                  </a:lnTo>
                  <a:lnTo>
                    <a:pt x="4125" y="1121"/>
                  </a:lnTo>
                  <a:lnTo>
                    <a:pt x="4133" y="1126"/>
                  </a:lnTo>
                  <a:lnTo>
                    <a:pt x="4142" y="1129"/>
                  </a:lnTo>
                  <a:lnTo>
                    <a:pt x="4154" y="1138"/>
                  </a:lnTo>
                  <a:lnTo>
                    <a:pt x="4163" y="1141"/>
                  </a:lnTo>
                  <a:lnTo>
                    <a:pt x="4171" y="1144"/>
                  </a:lnTo>
                  <a:lnTo>
                    <a:pt x="4180" y="1146"/>
                  </a:lnTo>
                  <a:lnTo>
                    <a:pt x="4192" y="1146"/>
                  </a:lnTo>
                  <a:lnTo>
                    <a:pt x="4200" y="1146"/>
                  </a:lnTo>
                  <a:lnTo>
                    <a:pt x="4212" y="1149"/>
                  </a:lnTo>
                  <a:lnTo>
                    <a:pt x="4221" y="1149"/>
                  </a:lnTo>
                  <a:lnTo>
                    <a:pt x="4229" y="1152"/>
                  </a:lnTo>
                  <a:lnTo>
                    <a:pt x="4238" y="1155"/>
                  </a:lnTo>
                  <a:lnTo>
                    <a:pt x="4247" y="1161"/>
                  </a:lnTo>
                  <a:lnTo>
                    <a:pt x="4256" y="1164"/>
                  </a:lnTo>
                  <a:lnTo>
                    <a:pt x="4264" y="1170"/>
                  </a:lnTo>
                  <a:lnTo>
                    <a:pt x="4273" y="1172"/>
                  </a:lnTo>
                  <a:lnTo>
                    <a:pt x="4282" y="1178"/>
                  </a:lnTo>
                  <a:lnTo>
                    <a:pt x="4291" y="1181"/>
                  </a:lnTo>
                  <a:lnTo>
                    <a:pt x="4299" y="1187"/>
                  </a:lnTo>
                  <a:lnTo>
                    <a:pt x="4308" y="1190"/>
                  </a:lnTo>
                  <a:lnTo>
                    <a:pt x="4317" y="1193"/>
                  </a:lnTo>
                  <a:lnTo>
                    <a:pt x="4326" y="1195"/>
                  </a:lnTo>
                  <a:lnTo>
                    <a:pt x="4334" y="1195"/>
                  </a:lnTo>
                  <a:lnTo>
                    <a:pt x="4326" y="1190"/>
                  </a:lnTo>
                  <a:lnTo>
                    <a:pt x="4314" y="1178"/>
                  </a:lnTo>
                  <a:lnTo>
                    <a:pt x="4305" y="1170"/>
                  </a:lnTo>
                  <a:lnTo>
                    <a:pt x="4305" y="1161"/>
                  </a:lnTo>
                  <a:lnTo>
                    <a:pt x="4317" y="1158"/>
                  </a:lnTo>
                  <a:lnTo>
                    <a:pt x="4328" y="1158"/>
                  </a:lnTo>
                  <a:lnTo>
                    <a:pt x="4337" y="1158"/>
                  </a:lnTo>
                  <a:lnTo>
                    <a:pt x="4346" y="1158"/>
                  </a:lnTo>
                  <a:lnTo>
                    <a:pt x="4346" y="1149"/>
                  </a:lnTo>
                  <a:lnTo>
                    <a:pt x="4349" y="1138"/>
                  </a:lnTo>
                  <a:lnTo>
                    <a:pt x="4349" y="1129"/>
                  </a:lnTo>
                  <a:lnTo>
                    <a:pt x="4340" y="1123"/>
                  </a:lnTo>
                  <a:lnTo>
                    <a:pt x="4331" y="1121"/>
                  </a:lnTo>
                  <a:lnTo>
                    <a:pt x="4323" y="1121"/>
                  </a:lnTo>
                  <a:lnTo>
                    <a:pt x="4314" y="1121"/>
                  </a:lnTo>
                  <a:lnTo>
                    <a:pt x="4302" y="1121"/>
                  </a:lnTo>
                  <a:lnTo>
                    <a:pt x="4296" y="1132"/>
                  </a:lnTo>
                  <a:lnTo>
                    <a:pt x="4288" y="1138"/>
                  </a:lnTo>
                  <a:lnTo>
                    <a:pt x="4279" y="1144"/>
                  </a:lnTo>
                  <a:lnTo>
                    <a:pt x="4270" y="1144"/>
                  </a:lnTo>
                  <a:lnTo>
                    <a:pt x="4261" y="1144"/>
                  </a:lnTo>
                  <a:lnTo>
                    <a:pt x="4253" y="1144"/>
                  </a:lnTo>
                  <a:lnTo>
                    <a:pt x="4244" y="1144"/>
                  </a:lnTo>
                  <a:lnTo>
                    <a:pt x="4238" y="1135"/>
                  </a:lnTo>
                  <a:lnTo>
                    <a:pt x="4227" y="1126"/>
                  </a:lnTo>
                  <a:lnTo>
                    <a:pt x="4218" y="1115"/>
                  </a:lnTo>
                  <a:lnTo>
                    <a:pt x="4209" y="1109"/>
                  </a:lnTo>
                  <a:lnTo>
                    <a:pt x="4197" y="1100"/>
                  </a:lnTo>
                  <a:lnTo>
                    <a:pt x="4192" y="1092"/>
                  </a:lnTo>
                  <a:lnTo>
                    <a:pt x="4200" y="1086"/>
                  </a:lnTo>
                  <a:lnTo>
                    <a:pt x="4209" y="1077"/>
                  </a:lnTo>
                  <a:lnTo>
                    <a:pt x="4218" y="1072"/>
                  </a:lnTo>
                  <a:lnTo>
                    <a:pt x="4227" y="1063"/>
                  </a:lnTo>
                  <a:lnTo>
                    <a:pt x="4229" y="1054"/>
                  </a:lnTo>
                  <a:lnTo>
                    <a:pt x="4221" y="1048"/>
                  </a:lnTo>
                  <a:lnTo>
                    <a:pt x="4209" y="1048"/>
                  </a:lnTo>
                  <a:lnTo>
                    <a:pt x="4200" y="1048"/>
                  </a:lnTo>
                  <a:lnTo>
                    <a:pt x="4189" y="1048"/>
                  </a:lnTo>
                  <a:lnTo>
                    <a:pt x="4180" y="1051"/>
                  </a:lnTo>
                  <a:lnTo>
                    <a:pt x="4171" y="1057"/>
                  </a:lnTo>
                  <a:lnTo>
                    <a:pt x="4160" y="1057"/>
                  </a:lnTo>
                  <a:lnTo>
                    <a:pt x="4151" y="1057"/>
                  </a:lnTo>
                  <a:lnTo>
                    <a:pt x="4142" y="1057"/>
                  </a:lnTo>
                  <a:lnTo>
                    <a:pt x="4133" y="1057"/>
                  </a:lnTo>
                  <a:lnTo>
                    <a:pt x="4125" y="1057"/>
                  </a:lnTo>
                  <a:lnTo>
                    <a:pt x="4116" y="1057"/>
                  </a:lnTo>
                  <a:lnTo>
                    <a:pt x="4107" y="1057"/>
                  </a:lnTo>
                  <a:lnTo>
                    <a:pt x="4098" y="1057"/>
                  </a:lnTo>
                  <a:lnTo>
                    <a:pt x="4090" y="1057"/>
                  </a:lnTo>
                  <a:lnTo>
                    <a:pt x="4081" y="1057"/>
                  </a:lnTo>
                  <a:lnTo>
                    <a:pt x="4072" y="1057"/>
                  </a:lnTo>
                  <a:lnTo>
                    <a:pt x="4064" y="1054"/>
                  </a:lnTo>
                  <a:lnTo>
                    <a:pt x="4055" y="1051"/>
                  </a:lnTo>
                  <a:lnTo>
                    <a:pt x="4043" y="1048"/>
                  </a:lnTo>
                  <a:lnTo>
                    <a:pt x="4032" y="1043"/>
                  </a:lnTo>
                  <a:lnTo>
                    <a:pt x="4023" y="1040"/>
                  </a:lnTo>
                  <a:lnTo>
                    <a:pt x="4008" y="1031"/>
                  </a:lnTo>
                  <a:lnTo>
                    <a:pt x="3994" y="1028"/>
                  </a:lnTo>
                  <a:lnTo>
                    <a:pt x="3982" y="1028"/>
                  </a:lnTo>
                  <a:lnTo>
                    <a:pt x="3973" y="1028"/>
                  </a:lnTo>
                  <a:lnTo>
                    <a:pt x="3965" y="1028"/>
                  </a:lnTo>
                  <a:lnTo>
                    <a:pt x="3953" y="1028"/>
                  </a:lnTo>
                  <a:lnTo>
                    <a:pt x="3941" y="1028"/>
                  </a:lnTo>
                  <a:lnTo>
                    <a:pt x="3933" y="1028"/>
                  </a:lnTo>
                  <a:lnTo>
                    <a:pt x="3927" y="1037"/>
                  </a:lnTo>
                  <a:lnTo>
                    <a:pt x="3941" y="1048"/>
                  </a:lnTo>
                  <a:lnTo>
                    <a:pt x="3950" y="1051"/>
                  </a:lnTo>
                  <a:lnTo>
                    <a:pt x="3962" y="1054"/>
                  </a:lnTo>
                  <a:lnTo>
                    <a:pt x="3970" y="1057"/>
                  </a:lnTo>
                  <a:lnTo>
                    <a:pt x="3979" y="1060"/>
                  </a:lnTo>
                  <a:lnTo>
                    <a:pt x="3982" y="1072"/>
                  </a:lnTo>
                  <a:lnTo>
                    <a:pt x="3982" y="1080"/>
                  </a:lnTo>
                  <a:lnTo>
                    <a:pt x="3982" y="1089"/>
                  </a:lnTo>
                  <a:lnTo>
                    <a:pt x="3994" y="1100"/>
                  </a:lnTo>
                  <a:lnTo>
                    <a:pt x="4002" y="1103"/>
                  </a:lnTo>
                  <a:lnTo>
                    <a:pt x="4014" y="1106"/>
                  </a:lnTo>
                  <a:lnTo>
                    <a:pt x="4026" y="1106"/>
                  </a:lnTo>
                  <a:lnTo>
                    <a:pt x="4034" y="1109"/>
                  </a:lnTo>
                  <a:lnTo>
                    <a:pt x="4046" y="1112"/>
                  </a:lnTo>
                  <a:lnTo>
                    <a:pt x="4037" y="1115"/>
                  </a:lnTo>
                  <a:lnTo>
                    <a:pt x="4029" y="1112"/>
                  </a:lnTo>
                  <a:lnTo>
                    <a:pt x="4020" y="1109"/>
                  </a:lnTo>
                  <a:lnTo>
                    <a:pt x="4011" y="1109"/>
                  </a:lnTo>
                  <a:lnTo>
                    <a:pt x="4002" y="1106"/>
                  </a:lnTo>
                  <a:lnTo>
                    <a:pt x="3994" y="1103"/>
                  </a:lnTo>
                  <a:lnTo>
                    <a:pt x="3979" y="1097"/>
                  </a:lnTo>
                  <a:lnTo>
                    <a:pt x="3970" y="1097"/>
                  </a:lnTo>
                  <a:lnTo>
                    <a:pt x="3962" y="1100"/>
                  </a:lnTo>
                  <a:lnTo>
                    <a:pt x="3959" y="1109"/>
                  </a:lnTo>
                  <a:lnTo>
                    <a:pt x="3950" y="1118"/>
                  </a:lnTo>
                  <a:lnTo>
                    <a:pt x="3941" y="1123"/>
                  </a:lnTo>
                  <a:lnTo>
                    <a:pt x="3935" y="1132"/>
                  </a:lnTo>
                  <a:lnTo>
                    <a:pt x="3927" y="1138"/>
                  </a:lnTo>
                  <a:lnTo>
                    <a:pt x="3927" y="1146"/>
                  </a:lnTo>
                  <a:lnTo>
                    <a:pt x="3930" y="1155"/>
                  </a:lnTo>
                  <a:lnTo>
                    <a:pt x="3938" y="1161"/>
                  </a:lnTo>
                  <a:lnTo>
                    <a:pt x="3941" y="1170"/>
                  </a:lnTo>
                  <a:lnTo>
                    <a:pt x="3941" y="1178"/>
                  </a:lnTo>
                  <a:lnTo>
                    <a:pt x="3941" y="1187"/>
                  </a:lnTo>
                  <a:lnTo>
                    <a:pt x="3938" y="1195"/>
                  </a:lnTo>
                  <a:lnTo>
                    <a:pt x="3933" y="1204"/>
                  </a:lnTo>
                  <a:lnTo>
                    <a:pt x="3924" y="1204"/>
                  </a:lnTo>
                  <a:lnTo>
                    <a:pt x="3915" y="1193"/>
                  </a:lnTo>
                  <a:lnTo>
                    <a:pt x="3912" y="1184"/>
                  </a:lnTo>
                  <a:lnTo>
                    <a:pt x="3903" y="1178"/>
                  </a:lnTo>
                  <a:lnTo>
                    <a:pt x="3892" y="1172"/>
                  </a:lnTo>
                  <a:lnTo>
                    <a:pt x="3883" y="1167"/>
                  </a:lnTo>
                  <a:lnTo>
                    <a:pt x="3877" y="1158"/>
                  </a:lnTo>
                  <a:lnTo>
                    <a:pt x="3874" y="1167"/>
                  </a:lnTo>
                  <a:lnTo>
                    <a:pt x="3874" y="1175"/>
                  </a:lnTo>
                  <a:lnTo>
                    <a:pt x="3874" y="1184"/>
                  </a:lnTo>
                  <a:lnTo>
                    <a:pt x="3886" y="1193"/>
                  </a:lnTo>
                  <a:lnTo>
                    <a:pt x="3898" y="1195"/>
                  </a:lnTo>
                  <a:lnTo>
                    <a:pt x="3906" y="1198"/>
                  </a:lnTo>
                  <a:lnTo>
                    <a:pt x="3915" y="1201"/>
                  </a:lnTo>
                  <a:lnTo>
                    <a:pt x="3924" y="1207"/>
                  </a:lnTo>
                  <a:lnTo>
                    <a:pt x="3912" y="1213"/>
                  </a:lnTo>
                  <a:lnTo>
                    <a:pt x="3903" y="1213"/>
                  </a:lnTo>
                  <a:lnTo>
                    <a:pt x="3895" y="1213"/>
                  </a:lnTo>
                  <a:lnTo>
                    <a:pt x="3886" y="1216"/>
                  </a:lnTo>
                  <a:lnTo>
                    <a:pt x="3886" y="1224"/>
                  </a:lnTo>
                  <a:lnTo>
                    <a:pt x="3880" y="1233"/>
                  </a:lnTo>
                  <a:lnTo>
                    <a:pt x="3868" y="1236"/>
                  </a:lnTo>
                  <a:lnTo>
                    <a:pt x="3860" y="1236"/>
                  </a:lnTo>
                  <a:lnTo>
                    <a:pt x="3854" y="1224"/>
                  </a:lnTo>
                  <a:lnTo>
                    <a:pt x="3854" y="1216"/>
                  </a:lnTo>
                  <a:lnTo>
                    <a:pt x="3851" y="1207"/>
                  </a:lnTo>
                  <a:lnTo>
                    <a:pt x="3845" y="1198"/>
                  </a:lnTo>
                  <a:lnTo>
                    <a:pt x="3842" y="1187"/>
                  </a:lnTo>
                  <a:lnTo>
                    <a:pt x="3836" y="1175"/>
                  </a:lnTo>
                  <a:lnTo>
                    <a:pt x="3834" y="1164"/>
                  </a:lnTo>
                  <a:lnTo>
                    <a:pt x="3828" y="1155"/>
                  </a:lnTo>
                  <a:lnTo>
                    <a:pt x="3822" y="1146"/>
                  </a:lnTo>
                  <a:lnTo>
                    <a:pt x="3816" y="1138"/>
                  </a:lnTo>
                  <a:lnTo>
                    <a:pt x="3810" y="1129"/>
                  </a:lnTo>
                  <a:lnTo>
                    <a:pt x="3799" y="1123"/>
                  </a:lnTo>
                  <a:lnTo>
                    <a:pt x="3793" y="1115"/>
                  </a:lnTo>
                  <a:lnTo>
                    <a:pt x="3790" y="1106"/>
                  </a:lnTo>
                  <a:lnTo>
                    <a:pt x="3784" y="1097"/>
                  </a:lnTo>
                  <a:lnTo>
                    <a:pt x="3778" y="1089"/>
                  </a:lnTo>
                  <a:lnTo>
                    <a:pt x="3775" y="1080"/>
                  </a:lnTo>
                  <a:lnTo>
                    <a:pt x="3772" y="1072"/>
                  </a:lnTo>
                  <a:lnTo>
                    <a:pt x="3767" y="1063"/>
                  </a:lnTo>
                  <a:lnTo>
                    <a:pt x="3761" y="1054"/>
                  </a:lnTo>
                  <a:lnTo>
                    <a:pt x="3752" y="1046"/>
                  </a:lnTo>
                  <a:lnTo>
                    <a:pt x="3746" y="1037"/>
                  </a:lnTo>
                  <a:lnTo>
                    <a:pt x="3737" y="1034"/>
                  </a:lnTo>
                  <a:lnTo>
                    <a:pt x="3717" y="988"/>
                  </a:lnTo>
                  <a:lnTo>
                    <a:pt x="3737" y="1008"/>
                  </a:lnTo>
                  <a:lnTo>
                    <a:pt x="3737" y="999"/>
                  </a:lnTo>
                  <a:lnTo>
                    <a:pt x="3732" y="991"/>
                  </a:lnTo>
                  <a:lnTo>
                    <a:pt x="3726" y="982"/>
                  </a:lnTo>
                  <a:lnTo>
                    <a:pt x="3723" y="974"/>
                  </a:lnTo>
                  <a:lnTo>
                    <a:pt x="3714" y="968"/>
                  </a:lnTo>
                  <a:lnTo>
                    <a:pt x="3703" y="965"/>
                  </a:lnTo>
                  <a:lnTo>
                    <a:pt x="3694" y="959"/>
                  </a:lnTo>
                  <a:lnTo>
                    <a:pt x="3691" y="950"/>
                  </a:lnTo>
                  <a:lnTo>
                    <a:pt x="3691" y="942"/>
                  </a:lnTo>
                  <a:lnTo>
                    <a:pt x="3691" y="930"/>
                  </a:lnTo>
                  <a:lnTo>
                    <a:pt x="3691" y="922"/>
                  </a:lnTo>
                  <a:lnTo>
                    <a:pt x="3691" y="913"/>
                  </a:lnTo>
                  <a:lnTo>
                    <a:pt x="3694" y="904"/>
                  </a:lnTo>
                  <a:lnTo>
                    <a:pt x="3700" y="896"/>
                  </a:lnTo>
                  <a:lnTo>
                    <a:pt x="3705" y="887"/>
                  </a:lnTo>
                  <a:lnTo>
                    <a:pt x="3714" y="887"/>
                  </a:lnTo>
                  <a:lnTo>
                    <a:pt x="3717" y="878"/>
                  </a:lnTo>
                  <a:lnTo>
                    <a:pt x="3705" y="867"/>
                  </a:lnTo>
                  <a:lnTo>
                    <a:pt x="3705" y="858"/>
                  </a:lnTo>
                  <a:lnTo>
                    <a:pt x="3705" y="847"/>
                  </a:lnTo>
                  <a:lnTo>
                    <a:pt x="3711" y="838"/>
                  </a:lnTo>
                  <a:lnTo>
                    <a:pt x="3717" y="827"/>
                  </a:lnTo>
                  <a:lnTo>
                    <a:pt x="3717" y="818"/>
                  </a:lnTo>
                  <a:lnTo>
                    <a:pt x="3717" y="809"/>
                  </a:lnTo>
                  <a:lnTo>
                    <a:pt x="3705" y="806"/>
                  </a:lnTo>
                  <a:lnTo>
                    <a:pt x="3694" y="801"/>
                  </a:lnTo>
                  <a:lnTo>
                    <a:pt x="3685" y="795"/>
                  </a:lnTo>
                  <a:lnTo>
                    <a:pt x="3685" y="786"/>
                  </a:lnTo>
                  <a:lnTo>
                    <a:pt x="3691" y="778"/>
                  </a:lnTo>
                  <a:lnTo>
                    <a:pt x="3697" y="769"/>
                  </a:lnTo>
                  <a:lnTo>
                    <a:pt x="3700" y="760"/>
                  </a:lnTo>
                  <a:lnTo>
                    <a:pt x="3708" y="757"/>
                  </a:lnTo>
                  <a:lnTo>
                    <a:pt x="3717" y="752"/>
                  </a:lnTo>
                  <a:lnTo>
                    <a:pt x="3726" y="757"/>
                  </a:lnTo>
                  <a:lnTo>
                    <a:pt x="3735" y="760"/>
                  </a:lnTo>
                  <a:lnTo>
                    <a:pt x="3743" y="763"/>
                  </a:lnTo>
                  <a:lnTo>
                    <a:pt x="3743" y="755"/>
                  </a:lnTo>
                  <a:lnTo>
                    <a:pt x="3737" y="746"/>
                  </a:lnTo>
                  <a:lnTo>
                    <a:pt x="3737" y="737"/>
                  </a:lnTo>
                  <a:lnTo>
                    <a:pt x="3735" y="729"/>
                  </a:lnTo>
                  <a:lnTo>
                    <a:pt x="3735" y="720"/>
                  </a:lnTo>
                  <a:lnTo>
                    <a:pt x="3732" y="711"/>
                  </a:lnTo>
                  <a:lnTo>
                    <a:pt x="3726" y="703"/>
                  </a:lnTo>
                  <a:lnTo>
                    <a:pt x="3723" y="691"/>
                  </a:lnTo>
                  <a:lnTo>
                    <a:pt x="3723" y="682"/>
                  </a:lnTo>
                  <a:lnTo>
                    <a:pt x="3723" y="674"/>
                  </a:lnTo>
                  <a:lnTo>
                    <a:pt x="3723" y="665"/>
                  </a:lnTo>
                  <a:lnTo>
                    <a:pt x="3714" y="662"/>
                  </a:lnTo>
                  <a:lnTo>
                    <a:pt x="3708" y="671"/>
                  </a:lnTo>
                  <a:lnTo>
                    <a:pt x="3700" y="671"/>
                  </a:lnTo>
                  <a:lnTo>
                    <a:pt x="3691" y="674"/>
                  </a:lnTo>
                  <a:lnTo>
                    <a:pt x="3682" y="671"/>
                  </a:lnTo>
                  <a:lnTo>
                    <a:pt x="3673" y="659"/>
                  </a:lnTo>
                  <a:lnTo>
                    <a:pt x="3668" y="651"/>
                  </a:lnTo>
                  <a:lnTo>
                    <a:pt x="3662" y="642"/>
                  </a:lnTo>
                  <a:lnTo>
                    <a:pt x="3653" y="633"/>
                  </a:lnTo>
                  <a:lnTo>
                    <a:pt x="3641" y="628"/>
                  </a:lnTo>
                  <a:lnTo>
                    <a:pt x="3633" y="622"/>
                  </a:lnTo>
                  <a:lnTo>
                    <a:pt x="3624" y="622"/>
                  </a:lnTo>
                  <a:lnTo>
                    <a:pt x="3615" y="616"/>
                  </a:lnTo>
                  <a:lnTo>
                    <a:pt x="3604" y="613"/>
                  </a:lnTo>
                  <a:lnTo>
                    <a:pt x="3595" y="608"/>
                  </a:lnTo>
                  <a:lnTo>
                    <a:pt x="3577" y="573"/>
                  </a:lnTo>
                  <a:lnTo>
                    <a:pt x="3592" y="587"/>
                  </a:lnTo>
                  <a:lnTo>
                    <a:pt x="3592" y="576"/>
                  </a:lnTo>
                  <a:lnTo>
                    <a:pt x="3589" y="567"/>
                  </a:lnTo>
                  <a:lnTo>
                    <a:pt x="3589" y="559"/>
                  </a:lnTo>
                  <a:lnTo>
                    <a:pt x="3583" y="547"/>
                  </a:lnTo>
                  <a:lnTo>
                    <a:pt x="3577" y="538"/>
                  </a:lnTo>
                  <a:lnTo>
                    <a:pt x="3569" y="530"/>
                  </a:lnTo>
                  <a:lnTo>
                    <a:pt x="3583" y="527"/>
                  </a:lnTo>
                  <a:lnTo>
                    <a:pt x="3592" y="530"/>
                  </a:lnTo>
                  <a:lnTo>
                    <a:pt x="3601" y="533"/>
                  </a:lnTo>
                  <a:lnTo>
                    <a:pt x="3609" y="538"/>
                  </a:lnTo>
                  <a:lnTo>
                    <a:pt x="3618" y="541"/>
                  </a:lnTo>
                  <a:lnTo>
                    <a:pt x="3621" y="533"/>
                  </a:lnTo>
                  <a:lnTo>
                    <a:pt x="3621" y="524"/>
                  </a:lnTo>
                  <a:lnTo>
                    <a:pt x="3612" y="518"/>
                  </a:lnTo>
                  <a:lnTo>
                    <a:pt x="3604" y="507"/>
                  </a:lnTo>
                  <a:lnTo>
                    <a:pt x="3598" y="498"/>
                  </a:lnTo>
                  <a:lnTo>
                    <a:pt x="3589" y="489"/>
                  </a:lnTo>
                  <a:lnTo>
                    <a:pt x="3586" y="481"/>
                  </a:lnTo>
                  <a:lnTo>
                    <a:pt x="3577" y="472"/>
                  </a:lnTo>
                  <a:lnTo>
                    <a:pt x="3566" y="469"/>
                  </a:lnTo>
                  <a:lnTo>
                    <a:pt x="3557" y="469"/>
                  </a:lnTo>
                  <a:lnTo>
                    <a:pt x="3548" y="469"/>
                  </a:lnTo>
                  <a:lnTo>
                    <a:pt x="3540" y="469"/>
                  </a:lnTo>
                  <a:lnTo>
                    <a:pt x="3531" y="466"/>
                  </a:lnTo>
                  <a:lnTo>
                    <a:pt x="3519" y="458"/>
                  </a:lnTo>
                  <a:lnTo>
                    <a:pt x="3516" y="449"/>
                  </a:lnTo>
                  <a:lnTo>
                    <a:pt x="3510" y="440"/>
                  </a:lnTo>
                  <a:lnTo>
                    <a:pt x="3507" y="432"/>
                  </a:lnTo>
                  <a:lnTo>
                    <a:pt x="3502" y="423"/>
                  </a:lnTo>
                  <a:lnTo>
                    <a:pt x="3502" y="412"/>
                  </a:lnTo>
                  <a:lnTo>
                    <a:pt x="3510" y="412"/>
                  </a:lnTo>
                  <a:lnTo>
                    <a:pt x="3519" y="417"/>
                  </a:lnTo>
                  <a:lnTo>
                    <a:pt x="3531" y="426"/>
                  </a:lnTo>
                  <a:lnTo>
                    <a:pt x="3540" y="432"/>
                  </a:lnTo>
                  <a:lnTo>
                    <a:pt x="3542" y="440"/>
                  </a:lnTo>
                  <a:lnTo>
                    <a:pt x="3551" y="446"/>
                  </a:lnTo>
                  <a:lnTo>
                    <a:pt x="3563" y="452"/>
                  </a:lnTo>
                  <a:lnTo>
                    <a:pt x="3572" y="458"/>
                  </a:lnTo>
                  <a:lnTo>
                    <a:pt x="3580" y="458"/>
                  </a:lnTo>
                  <a:lnTo>
                    <a:pt x="3589" y="458"/>
                  </a:lnTo>
                  <a:lnTo>
                    <a:pt x="3598" y="458"/>
                  </a:lnTo>
                  <a:lnTo>
                    <a:pt x="3606" y="461"/>
                  </a:lnTo>
                  <a:lnTo>
                    <a:pt x="3612" y="472"/>
                  </a:lnTo>
                  <a:lnTo>
                    <a:pt x="3618" y="481"/>
                  </a:lnTo>
                  <a:lnTo>
                    <a:pt x="3621" y="489"/>
                  </a:lnTo>
                  <a:lnTo>
                    <a:pt x="3627" y="498"/>
                  </a:lnTo>
                  <a:lnTo>
                    <a:pt x="3633" y="507"/>
                  </a:lnTo>
                  <a:lnTo>
                    <a:pt x="3641" y="518"/>
                  </a:lnTo>
                  <a:lnTo>
                    <a:pt x="3650" y="521"/>
                  </a:lnTo>
                  <a:lnTo>
                    <a:pt x="3662" y="524"/>
                  </a:lnTo>
                  <a:lnTo>
                    <a:pt x="3671" y="524"/>
                  </a:lnTo>
                  <a:lnTo>
                    <a:pt x="3679" y="527"/>
                  </a:lnTo>
                  <a:lnTo>
                    <a:pt x="3688" y="527"/>
                  </a:lnTo>
                  <a:lnTo>
                    <a:pt x="3700" y="530"/>
                  </a:lnTo>
                  <a:lnTo>
                    <a:pt x="3711" y="536"/>
                  </a:lnTo>
                  <a:lnTo>
                    <a:pt x="3723" y="544"/>
                  </a:lnTo>
                  <a:lnTo>
                    <a:pt x="3729" y="553"/>
                  </a:lnTo>
                  <a:lnTo>
                    <a:pt x="3735" y="561"/>
                  </a:lnTo>
                  <a:lnTo>
                    <a:pt x="3746" y="570"/>
                  </a:lnTo>
                  <a:lnTo>
                    <a:pt x="3761" y="579"/>
                  </a:lnTo>
                  <a:lnTo>
                    <a:pt x="3770" y="585"/>
                  </a:lnTo>
                  <a:lnTo>
                    <a:pt x="3772" y="593"/>
                  </a:lnTo>
                  <a:lnTo>
                    <a:pt x="3775" y="602"/>
                  </a:lnTo>
                  <a:lnTo>
                    <a:pt x="3778" y="610"/>
                  </a:lnTo>
                  <a:lnTo>
                    <a:pt x="3787" y="610"/>
                  </a:lnTo>
                  <a:lnTo>
                    <a:pt x="3790" y="619"/>
                  </a:lnTo>
                  <a:lnTo>
                    <a:pt x="3799" y="622"/>
                  </a:lnTo>
                  <a:lnTo>
                    <a:pt x="3807" y="628"/>
                  </a:lnTo>
                  <a:lnTo>
                    <a:pt x="3819" y="633"/>
                  </a:lnTo>
                  <a:lnTo>
                    <a:pt x="3828" y="636"/>
                  </a:lnTo>
                  <a:lnTo>
                    <a:pt x="3836" y="639"/>
                  </a:lnTo>
                  <a:lnTo>
                    <a:pt x="3845" y="642"/>
                  </a:lnTo>
                  <a:lnTo>
                    <a:pt x="3854" y="642"/>
                  </a:lnTo>
                  <a:lnTo>
                    <a:pt x="3866" y="645"/>
                  </a:lnTo>
                  <a:lnTo>
                    <a:pt x="3874" y="651"/>
                  </a:lnTo>
                  <a:lnTo>
                    <a:pt x="3883" y="657"/>
                  </a:lnTo>
                  <a:lnTo>
                    <a:pt x="3892" y="657"/>
                  </a:lnTo>
                  <a:lnTo>
                    <a:pt x="3901" y="657"/>
                  </a:lnTo>
                  <a:lnTo>
                    <a:pt x="3912" y="657"/>
                  </a:lnTo>
                  <a:lnTo>
                    <a:pt x="3924" y="657"/>
                  </a:lnTo>
                  <a:lnTo>
                    <a:pt x="3938" y="657"/>
                  </a:lnTo>
                  <a:lnTo>
                    <a:pt x="3947" y="657"/>
                  </a:lnTo>
                  <a:lnTo>
                    <a:pt x="3959" y="657"/>
                  </a:lnTo>
                  <a:lnTo>
                    <a:pt x="3967" y="659"/>
                  </a:lnTo>
                  <a:lnTo>
                    <a:pt x="3979" y="659"/>
                  </a:lnTo>
                  <a:lnTo>
                    <a:pt x="3991" y="659"/>
                  </a:lnTo>
                  <a:lnTo>
                    <a:pt x="4002" y="659"/>
                  </a:lnTo>
                  <a:lnTo>
                    <a:pt x="4017" y="659"/>
                  </a:lnTo>
                  <a:lnTo>
                    <a:pt x="4026" y="659"/>
                  </a:lnTo>
                  <a:lnTo>
                    <a:pt x="4037" y="659"/>
                  </a:lnTo>
                  <a:lnTo>
                    <a:pt x="4049" y="659"/>
                  </a:lnTo>
                  <a:lnTo>
                    <a:pt x="4061" y="659"/>
                  </a:lnTo>
                  <a:lnTo>
                    <a:pt x="4072" y="659"/>
                  </a:lnTo>
                  <a:lnTo>
                    <a:pt x="4084" y="659"/>
                  </a:lnTo>
                  <a:lnTo>
                    <a:pt x="4093" y="659"/>
                  </a:lnTo>
                  <a:lnTo>
                    <a:pt x="4101" y="659"/>
                  </a:lnTo>
                  <a:lnTo>
                    <a:pt x="4110" y="659"/>
                  </a:lnTo>
                  <a:lnTo>
                    <a:pt x="4119" y="659"/>
                  </a:lnTo>
                  <a:lnTo>
                    <a:pt x="4128" y="659"/>
                  </a:lnTo>
                  <a:lnTo>
                    <a:pt x="4136" y="659"/>
                  </a:lnTo>
                  <a:lnTo>
                    <a:pt x="4142" y="668"/>
                  </a:lnTo>
                  <a:lnTo>
                    <a:pt x="4145" y="677"/>
                  </a:lnTo>
                  <a:lnTo>
                    <a:pt x="4151" y="685"/>
                  </a:lnTo>
                  <a:lnTo>
                    <a:pt x="4160" y="691"/>
                  </a:lnTo>
                  <a:lnTo>
                    <a:pt x="4168" y="700"/>
                  </a:lnTo>
                  <a:lnTo>
                    <a:pt x="4177" y="700"/>
                  </a:lnTo>
                  <a:lnTo>
                    <a:pt x="4177" y="691"/>
                  </a:lnTo>
                  <a:lnTo>
                    <a:pt x="4168" y="682"/>
                  </a:lnTo>
                  <a:lnTo>
                    <a:pt x="4168" y="674"/>
                  </a:lnTo>
                  <a:lnTo>
                    <a:pt x="4160" y="665"/>
                  </a:lnTo>
                  <a:lnTo>
                    <a:pt x="4151" y="659"/>
                  </a:lnTo>
                  <a:lnTo>
                    <a:pt x="4136" y="619"/>
                  </a:lnTo>
                  <a:lnTo>
                    <a:pt x="4142" y="60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33880" y="36291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6" y="0"/>
                  </a:moveTo>
                  <a:lnTo>
                    <a:pt x="32" y="11"/>
                  </a:lnTo>
                  <a:lnTo>
                    <a:pt x="23" y="11"/>
                  </a:lnTo>
                  <a:lnTo>
                    <a:pt x="14" y="11"/>
                  </a:lnTo>
                  <a:lnTo>
                    <a:pt x="5" y="13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8" y="33"/>
                  </a:lnTo>
                  <a:lnTo>
                    <a:pt x="17" y="30"/>
                  </a:lnTo>
                  <a:lnTo>
                    <a:pt x="23" y="22"/>
                  </a:lnTo>
                  <a:lnTo>
                    <a:pt x="23" y="13"/>
                  </a:lnTo>
                  <a:lnTo>
                    <a:pt x="26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14480" y="5259240"/>
              <a:ext cx="4320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" y="20"/>
                  </a:moveTo>
                  <a:lnTo>
                    <a:pt x="8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4" y="17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2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1200" y="4390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0"/>
                  </a:moveTo>
                  <a:lnTo>
                    <a:pt x="11" y="16"/>
                  </a:lnTo>
                  <a:lnTo>
                    <a:pt x="11" y="25"/>
                  </a:lnTo>
                  <a:lnTo>
                    <a:pt x="2" y="33"/>
                  </a:lnTo>
                  <a:lnTo>
                    <a:pt x="11" y="45"/>
                  </a:lnTo>
                  <a:lnTo>
                    <a:pt x="26" y="48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2" y="22"/>
                  </a:lnTo>
                  <a:lnTo>
                    <a:pt x="23" y="14"/>
                  </a:lnTo>
                  <a:lnTo>
                    <a:pt x="14" y="11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29600" y="16905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0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05920" y="1801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lnTo>
                    <a:pt x="8" y="11"/>
                  </a:lnTo>
                  <a:lnTo>
                    <a:pt x="14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26" y="46"/>
                  </a:lnTo>
                  <a:lnTo>
                    <a:pt x="17" y="43"/>
                  </a:lnTo>
                  <a:lnTo>
                    <a:pt x="11" y="34"/>
                  </a:lnTo>
                  <a:lnTo>
                    <a:pt x="8" y="25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4440" y="16192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6" y="70"/>
                  </a:moveTo>
                  <a:lnTo>
                    <a:pt x="0" y="78"/>
                  </a:lnTo>
                  <a:lnTo>
                    <a:pt x="0" y="70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19" y="42"/>
                  </a:lnTo>
                  <a:lnTo>
                    <a:pt x="11" y="33"/>
                  </a:lnTo>
                  <a:lnTo>
                    <a:pt x="11" y="25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11"/>
                  </a:lnTo>
                  <a:lnTo>
                    <a:pt x="45" y="16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28" y="33"/>
                  </a:lnTo>
                  <a:lnTo>
                    <a:pt x="35" y="36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5" y="56"/>
                  </a:lnTo>
                  <a:lnTo>
                    <a:pt x="45" y="64"/>
                  </a:lnTo>
                  <a:lnTo>
                    <a:pt x="43" y="72"/>
                  </a:lnTo>
                  <a:lnTo>
                    <a:pt x="50" y="75"/>
                  </a:lnTo>
                  <a:lnTo>
                    <a:pt x="55" y="84"/>
                  </a:lnTo>
                  <a:lnTo>
                    <a:pt x="50" y="92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31" y="98"/>
                  </a:lnTo>
                  <a:lnTo>
                    <a:pt x="23" y="98"/>
                  </a:lnTo>
                  <a:lnTo>
                    <a:pt x="14" y="92"/>
                  </a:lnTo>
                  <a:lnTo>
                    <a:pt x="9" y="84"/>
                  </a:lnTo>
                  <a:lnTo>
                    <a:pt x="4" y="75"/>
                  </a:lnTo>
                  <a:lnTo>
                    <a:pt x="16" y="7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48200" y="17812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4"/>
                  </a:lnTo>
                  <a:lnTo>
                    <a:pt x="16" y="18"/>
                  </a:lnTo>
                  <a:lnTo>
                    <a:pt x="4" y="0"/>
                  </a:lnTo>
                  <a:lnTo>
                    <a:pt x="16" y="1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00840" y="167328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0"/>
                  </a:moveTo>
                  <a:lnTo>
                    <a:pt x="17" y="19"/>
                  </a:lnTo>
                  <a:lnTo>
                    <a:pt x="22" y="11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25" y="27"/>
                  </a:lnTo>
                  <a:lnTo>
                    <a:pt x="28" y="36"/>
                  </a:lnTo>
                  <a:lnTo>
                    <a:pt x="11" y="30"/>
                  </a:lnTo>
                  <a:lnTo>
                    <a:pt x="0" y="33"/>
                  </a:lnTo>
                  <a:lnTo>
                    <a:pt x="11" y="3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91040" y="1490760"/>
              <a:ext cx="84240" cy="10944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31" y="51"/>
                  </a:moveTo>
                  <a:lnTo>
                    <a:pt x="8" y="34"/>
                  </a:lnTo>
                  <a:lnTo>
                    <a:pt x="8" y="42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5" y="68"/>
                  </a:lnTo>
                  <a:lnTo>
                    <a:pt x="17" y="68"/>
                  </a:lnTo>
                  <a:lnTo>
                    <a:pt x="28" y="68"/>
                  </a:lnTo>
                  <a:lnTo>
                    <a:pt x="37" y="68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2" y="34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20" y="19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7" y="45"/>
                  </a:lnTo>
                  <a:lnTo>
                    <a:pt x="31" y="51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38480" y="2170080"/>
              <a:ext cx="293760" cy="235080"/>
            </a:xfrm>
            <a:custGeom>
              <a:avLst/>
              <a:gdLst/>
              <a:ahLst/>
              <a:rect l="l" t="t" r="r" b="b"/>
              <a:pathLst>
                <a:path w="185" h="148">
                  <a:moveTo>
                    <a:pt x="0" y="101"/>
                  </a:moveTo>
                  <a:lnTo>
                    <a:pt x="11" y="84"/>
                  </a:lnTo>
                  <a:lnTo>
                    <a:pt x="11" y="93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5" y="138"/>
                  </a:lnTo>
                  <a:lnTo>
                    <a:pt x="14" y="135"/>
                  </a:lnTo>
                  <a:lnTo>
                    <a:pt x="20" y="127"/>
                  </a:lnTo>
                  <a:lnTo>
                    <a:pt x="28" y="118"/>
                  </a:lnTo>
                  <a:lnTo>
                    <a:pt x="31" y="110"/>
                  </a:lnTo>
                  <a:lnTo>
                    <a:pt x="40" y="104"/>
                  </a:lnTo>
                  <a:lnTo>
                    <a:pt x="48" y="101"/>
                  </a:lnTo>
                  <a:lnTo>
                    <a:pt x="57" y="98"/>
                  </a:lnTo>
                  <a:lnTo>
                    <a:pt x="66" y="90"/>
                  </a:lnTo>
                  <a:lnTo>
                    <a:pt x="69" y="81"/>
                  </a:lnTo>
                  <a:lnTo>
                    <a:pt x="77" y="79"/>
                  </a:lnTo>
                  <a:lnTo>
                    <a:pt x="80" y="87"/>
                  </a:lnTo>
                  <a:lnTo>
                    <a:pt x="80" y="96"/>
                  </a:lnTo>
                  <a:lnTo>
                    <a:pt x="80" y="104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71" y="130"/>
                  </a:lnTo>
                  <a:lnTo>
                    <a:pt x="74" y="138"/>
                  </a:lnTo>
                  <a:lnTo>
                    <a:pt x="83" y="141"/>
                  </a:lnTo>
                  <a:lnTo>
                    <a:pt x="94" y="141"/>
                  </a:lnTo>
                  <a:lnTo>
                    <a:pt x="103" y="138"/>
                  </a:lnTo>
                  <a:lnTo>
                    <a:pt x="109" y="130"/>
                  </a:lnTo>
                  <a:lnTo>
                    <a:pt x="109" y="121"/>
                  </a:lnTo>
                  <a:lnTo>
                    <a:pt x="100" y="113"/>
                  </a:lnTo>
                  <a:lnTo>
                    <a:pt x="106" y="101"/>
                  </a:lnTo>
                  <a:lnTo>
                    <a:pt x="100" y="90"/>
                  </a:lnTo>
                  <a:lnTo>
                    <a:pt x="97" y="81"/>
                  </a:lnTo>
                  <a:lnTo>
                    <a:pt x="97" y="73"/>
                  </a:lnTo>
                  <a:lnTo>
                    <a:pt x="97" y="65"/>
                  </a:lnTo>
                  <a:lnTo>
                    <a:pt x="103" y="56"/>
                  </a:lnTo>
                  <a:lnTo>
                    <a:pt x="112" y="56"/>
                  </a:lnTo>
                  <a:lnTo>
                    <a:pt x="120" y="53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52" y="56"/>
                  </a:lnTo>
                  <a:lnTo>
                    <a:pt x="166" y="56"/>
                  </a:lnTo>
                  <a:lnTo>
                    <a:pt x="175" y="56"/>
                  </a:lnTo>
                  <a:lnTo>
                    <a:pt x="184" y="56"/>
                  </a:lnTo>
                  <a:lnTo>
                    <a:pt x="184" y="48"/>
                  </a:lnTo>
                  <a:lnTo>
                    <a:pt x="184" y="39"/>
                  </a:lnTo>
                  <a:lnTo>
                    <a:pt x="181" y="31"/>
                  </a:lnTo>
                  <a:lnTo>
                    <a:pt x="178" y="22"/>
                  </a:lnTo>
                  <a:lnTo>
                    <a:pt x="166" y="16"/>
                  </a:lnTo>
                  <a:lnTo>
                    <a:pt x="158" y="16"/>
                  </a:lnTo>
                  <a:lnTo>
                    <a:pt x="146" y="16"/>
                  </a:lnTo>
                  <a:lnTo>
                    <a:pt x="138" y="19"/>
                  </a:lnTo>
                  <a:lnTo>
                    <a:pt x="140" y="11"/>
                  </a:lnTo>
                  <a:lnTo>
                    <a:pt x="140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12" y="11"/>
                  </a:lnTo>
                  <a:lnTo>
                    <a:pt x="103" y="16"/>
                  </a:lnTo>
                  <a:lnTo>
                    <a:pt x="97" y="25"/>
                  </a:lnTo>
                  <a:lnTo>
                    <a:pt x="94" y="16"/>
                  </a:lnTo>
                  <a:lnTo>
                    <a:pt x="86" y="14"/>
                  </a:lnTo>
                  <a:lnTo>
                    <a:pt x="77" y="19"/>
                  </a:lnTo>
                  <a:lnTo>
                    <a:pt x="69" y="25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63" y="2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7" y="25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23" y="48"/>
                  </a:lnTo>
                  <a:lnTo>
                    <a:pt x="31" y="48"/>
                  </a:lnTo>
                  <a:lnTo>
                    <a:pt x="40" y="42"/>
                  </a:lnTo>
                  <a:lnTo>
                    <a:pt x="51" y="45"/>
                  </a:lnTo>
                  <a:lnTo>
                    <a:pt x="57" y="53"/>
                  </a:lnTo>
                  <a:lnTo>
                    <a:pt x="60" y="62"/>
                  </a:lnTo>
                  <a:lnTo>
                    <a:pt x="51" y="65"/>
                  </a:lnTo>
                  <a:lnTo>
                    <a:pt x="40" y="65"/>
                  </a:lnTo>
                  <a:lnTo>
                    <a:pt x="28" y="59"/>
                  </a:lnTo>
                  <a:lnTo>
                    <a:pt x="17" y="59"/>
                  </a:lnTo>
                  <a:lnTo>
                    <a:pt x="8" y="65"/>
                  </a:lnTo>
                  <a:lnTo>
                    <a:pt x="8" y="76"/>
                  </a:lnTo>
                  <a:lnTo>
                    <a:pt x="11" y="87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6"/>
                  </a:lnTo>
                  <a:lnTo>
                    <a:pt x="0" y="101"/>
                  </a:lnTo>
                  <a:lnTo>
                    <a:pt x="5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0" y="1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95760" y="2171880"/>
              <a:ext cx="220680" cy="18072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31" y="53"/>
                  </a:moveTo>
                  <a:lnTo>
                    <a:pt x="25" y="64"/>
                  </a:lnTo>
                  <a:lnTo>
                    <a:pt x="31" y="53"/>
                  </a:lnTo>
                  <a:lnTo>
                    <a:pt x="43" y="56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7" y="79"/>
                  </a:lnTo>
                  <a:lnTo>
                    <a:pt x="23" y="90"/>
                  </a:lnTo>
                  <a:lnTo>
                    <a:pt x="25" y="98"/>
                  </a:lnTo>
                  <a:lnTo>
                    <a:pt x="31" y="107"/>
                  </a:lnTo>
                  <a:lnTo>
                    <a:pt x="34" y="98"/>
                  </a:lnTo>
                  <a:lnTo>
                    <a:pt x="34" y="90"/>
                  </a:lnTo>
                  <a:lnTo>
                    <a:pt x="43" y="90"/>
                  </a:lnTo>
                  <a:lnTo>
                    <a:pt x="54" y="93"/>
                  </a:lnTo>
                  <a:lnTo>
                    <a:pt x="63" y="96"/>
                  </a:lnTo>
                  <a:lnTo>
                    <a:pt x="71" y="96"/>
                  </a:lnTo>
                  <a:lnTo>
                    <a:pt x="80" y="87"/>
                  </a:lnTo>
                  <a:lnTo>
                    <a:pt x="89" y="87"/>
                  </a:lnTo>
                  <a:lnTo>
                    <a:pt x="97" y="93"/>
                  </a:lnTo>
                  <a:lnTo>
                    <a:pt x="103" y="107"/>
                  </a:lnTo>
                  <a:lnTo>
                    <a:pt x="112" y="110"/>
                  </a:lnTo>
                  <a:lnTo>
                    <a:pt x="120" y="113"/>
                  </a:lnTo>
                  <a:lnTo>
                    <a:pt x="126" y="104"/>
                  </a:lnTo>
                  <a:lnTo>
                    <a:pt x="123" y="96"/>
                  </a:lnTo>
                  <a:lnTo>
                    <a:pt x="115" y="90"/>
                  </a:lnTo>
                  <a:lnTo>
                    <a:pt x="106" y="87"/>
                  </a:lnTo>
                  <a:lnTo>
                    <a:pt x="94" y="81"/>
                  </a:lnTo>
                  <a:lnTo>
                    <a:pt x="92" y="73"/>
                  </a:lnTo>
                  <a:lnTo>
                    <a:pt x="103" y="70"/>
                  </a:lnTo>
                  <a:lnTo>
                    <a:pt x="112" y="70"/>
                  </a:lnTo>
                  <a:lnTo>
                    <a:pt x="115" y="62"/>
                  </a:lnTo>
                  <a:lnTo>
                    <a:pt x="120" y="53"/>
                  </a:lnTo>
                  <a:lnTo>
                    <a:pt x="129" y="48"/>
                  </a:lnTo>
                  <a:lnTo>
                    <a:pt x="138" y="39"/>
                  </a:lnTo>
                  <a:lnTo>
                    <a:pt x="129" y="33"/>
                  </a:lnTo>
                  <a:lnTo>
                    <a:pt x="120" y="31"/>
                  </a:lnTo>
                  <a:lnTo>
                    <a:pt x="112" y="33"/>
                  </a:lnTo>
                  <a:lnTo>
                    <a:pt x="106" y="42"/>
                  </a:lnTo>
                  <a:lnTo>
                    <a:pt x="97" y="45"/>
                  </a:lnTo>
                  <a:lnTo>
                    <a:pt x="97" y="36"/>
                  </a:lnTo>
                  <a:lnTo>
                    <a:pt x="100" y="25"/>
                  </a:lnTo>
                  <a:lnTo>
                    <a:pt x="100" y="16"/>
                  </a:lnTo>
                  <a:lnTo>
                    <a:pt x="103" y="8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0" y="8"/>
                  </a:lnTo>
                  <a:lnTo>
                    <a:pt x="77" y="16"/>
                  </a:lnTo>
                  <a:lnTo>
                    <a:pt x="74" y="25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1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3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23" y="64"/>
                  </a:lnTo>
                  <a:lnTo>
                    <a:pt x="31" y="64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77" y="53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05520" y="2079720"/>
              <a:ext cx="298440" cy="156960"/>
            </a:xfrm>
            <a:custGeom>
              <a:avLst/>
              <a:gdLst/>
              <a:ahLst/>
              <a:rect l="l" t="t" r="r" b="b"/>
              <a:pathLst>
                <a:path w="188" h="99">
                  <a:moveTo>
                    <a:pt x="0" y="17"/>
                  </a:moveTo>
                  <a:lnTo>
                    <a:pt x="25" y="25"/>
                  </a:lnTo>
                  <a:lnTo>
                    <a:pt x="37" y="25"/>
                  </a:lnTo>
                  <a:lnTo>
                    <a:pt x="43" y="34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63" y="69"/>
                  </a:lnTo>
                  <a:lnTo>
                    <a:pt x="63" y="80"/>
                  </a:lnTo>
                  <a:lnTo>
                    <a:pt x="71" y="83"/>
                  </a:lnTo>
                  <a:lnTo>
                    <a:pt x="80" y="77"/>
                  </a:lnTo>
                  <a:lnTo>
                    <a:pt x="89" y="77"/>
                  </a:lnTo>
                  <a:lnTo>
                    <a:pt x="97" y="77"/>
                  </a:lnTo>
                  <a:lnTo>
                    <a:pt x="106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5" y="74"/>
                  </a:lnTo>
                  <a:lnTo>
                    <a:pt x="143" y="77"/>
                  </a:lnTo>
                  <a:lnTo>
                    <a:pt x="152" y="86"/>
                  </a:lnTo>
                  <a:lnTo>
                    <a:pt x="163" y="98"/>
                  </a:lnTo>
                  <a:lnTo>
                    <a:pt x="169" y="89"/>
                  </a:lnTo>
                  <a:lnTo>
                    <a:pt x="175" y="80"/>
                  </a:lnTo>
                  <a:lnTo>
                    <a:pt x="181" y="72"/>
                  </a:lnTo>
                  <a:lnTo>
                    <a:pt x="187" y="60"/>
                  </a:lnTo>
                  <a:lnTo>
                    <a:pt x="187" y="51"/>
                  </a:lnTo>
                  <a:lnTo>
                    <a:pt x="187" y="43"/>
                  </a:lnTo>
                  <a:lnTo>
                    <a:pt x="181" y="34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5" y="34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9" y="40"/>
                  </a:lnTo>
                  <a:lnTo>
                    <a:pt x="129" y="49"/>
                  </a:lnTo>
                  <a:lnTo>
                    <a:pt x="129" y="57"/>
                  </a:lnTo>
                  <a:lnTo>
                    <a:pt x="120" y="51"/>
                  </a:lnTo>
                  <a:lnTo>
                    <a:pt x="109" y="43"/>
                  </a:lnTo>
                  <a:lnTo>
                    <a:pt x="100" y="34"/>
                  </a:lnTo>
                  <a:lnTo>
                    <a:pt x="86" y="25"/>
                  </a:lnTo>
                  <a:lnTo>
                    <a:pt x="83" y="37"/>
                  </a:lnTo>
                  <a:lnTo>
                    <a:pt x="74" y="40"/>
                  </a:lnTo>
                  <a:lnTo>
                    <a:pt x="74" y="31"/>
                  </a:lnTo>
                  <a:lnTo>
                    <a:pt x="69" y="23"/>
                  </a:lnTo>
                  <a:lnTo>
                    <a:pt x="60" y="17"/>
                  </a:lnTo>
                  <a:lnTo>
                    <a:pt x="51" y="8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8" y="8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0" y="1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74960" y="2954160"/>
              <a:ext cx="680760" cy="700200"/>
            </a:xfrm>
            <a:custGeom>
              <a:avLst/>
              <a:gdLst/>
              <a:ahLst/>
              <a:rect l="l" t="t" r="r" b="b"/>
              <a:pathLst>
                <a:path w="429" h="441">
                  <a:moveTo>
                    <a:pt x="22" y="309"/>
                  </a:moveTo>
                  <a:lnTo>
                    <a:pt x="34" y="315"/>
                  </a:lnTo>
                  <a:lnTo>
                    <a:pt x="43" y="318"/>
                  </a:lnTo>
                  <a:lnTo>
                    <a:pt x="51" y="321"/>
                  </a:lnTo>
                  <a:lnTo>
                    <a:pt x="54" y="333"/>
                  </a:lnTo>
                  <a:lnTo>
                    <a:pt x="63" y="342"/>
                  </a:lnTo>
                  <a:lnTo>
                    <a:pt x="71" y="348"/>
                  </a:lnTo>
                  <a:lnTo>
                    <a:pt x="80" y="348"/>
                  </a:lnTo>
                  <a:lnTo>
                    <a:pt x="91" y="355"/>
                  </a:lnTo>
                  <a:lnTo>
                    <a:pt x="100" y="361"/>
                  </a:lnTo>
                  <a:lnTo>
                    <a:pt x="109" y="364"/>
                  </a:lnTo>
                  <a:lnTo>
                    <a:pt x="112" y="373"/>
                  </a:lnTo>
                  <a:lnTo>
                    <a:pt x="117" y="382"/>
                  </a:lnTo>
                  <a:lnTo>
                    <a:pt x="123" y="391"/>
                  </a:lnTo>
                  <a:lnTo>
                    <a:pt x="132" y="397"/>
                  </a:lnTo>
                  <a:lnTo>
                    <a:pt x="146" y="406"/>
                  </a:lnTo>
                  <a:lnTo>
                    <a:pt x="155" y="412"/>
                  </a:lnTo>
                  <a:lnTo>
                    <a:pt x="163" y="418"/>
                  </a:lnTo>
                  <a:lnTo>
                    <a:pt x="172" y="421"/>
                  </a:lnTo>
                  <a:lnTo>
                    <a:pt x="180" y="430"/>
                  </a:lnTo>
                  <a:lnTo>
                    <a:pt x="189" y="436"/>
                  </a:lnTo>
                  <a:lnTo>
                    <a:pt x="198" y="440"/>
                  </a:lnTo>
                  <a:lnTo>
                    <a:pt x="203" y="430"/>
                  </a:lnTo>
                  <a:lnTo>
                    <a:pt x="203" y="421"/>
                  </a:lnTo>
                  <a:lnTo>
                    <a:pt x="203" y="412"/>
                  </a:lnTo>
                  <a:lnTo>
                    <a:pt x="215" y="406"/>
                  </a:lnTo>
                  <a:lnTo>
                    <a:pt x="224" y="406"/>
                  </a:lnTo>
                  <a:lnTo>
                    <a:pt x="232" y="406"/>
                  </a:lnTo>
                  <a:lnTo>
                    <a:pt x="241" y="406"/>
                  </a:lnTo>
                  <a:lnTo>
                    <a:pt x="249" y="406"/>
                  </a:lnTo>
                  <a:lnTo>
                    <a:pt x="258" y="406"/>
                  </a:lnTo>
                  <a:lnTo>
                    <a:pt x="261" y="397"/>
                  </a:lnTo>
                  <a:lnTo>
                    <a:pt x="261" y="388"/>
                  </a:lnTo>
                  <a:lnTo>
                    <a:pt x="261" y="379"/>
                  </a:lnTo>
                  <a:lnTo>
                    <a:pt x="261" y="367"/>
                  </a:lnTo>
                  <a:lnTo>
                    <a:pt x="261" y="355"/>
                  </a:lnTo>
                  <a:lnTo>
                    <a:pt x="252" y="348"/>
                  </a:lnTo>
                  <a:lnTo>
                    <a:pt x="244" y="348"/>
                  </a:lnTo>
                  <a:lnTo>
                    <a:pt x="235" y="342"/>
                  </a:lnTo>
                  <a:lnTo>
                    <a:pt x="229" y="333"/>
                  </a:lnTo>
                  <a:lnTo>
                    <a:pt x="229" y="324"/>
                  </a:lnTo>
                  <a:lnTo>
                    <a:pt x="238" y="321"/>
                  </a:lnTo>
                  <a:lnTo>
                    <a:pt x="247" y="315"/>
                  </a:lnTo>
                  <a:lnTo>
                    <a:pt x="255" y="312"/>
                  </a:lnTo>
                  <a:lnTo>
                    <a:pt x="261" y="303"/>
                  </a:lnTo>
                  <a:lnTo>
                    <a:pt x="261" y="294"/>
                  </a:lnTo>
                  <a:lnTo>
                    <a:pt x="264" y="285"/>
                  </a:lnTo>
                  <a:lnTo>
                    <a:pt x="264" y="276"/>
                  </a:lnTo>
                  <a:lnTo>
                    <a:pt x="267" y="267"/>
                  </a:lnTo>
                  <a:lnTo>
                    <a:pt x="272" y="257"/>
                  </a:lnTo>
                  <a:lnTo>
                    <a:pt x="278" y="248"/>
                  </a:lnTo>
                  <a:lnTo>
                    <a:pt x="284" y="239"/>
                  </a:lnTo>
                  <a:lnTo>
                    <a:pt x="284" y="230"/>
                  </a:lnTo>
                  <a:lnTo>
                    <a:pt x="284" y="221"/>
                  </a:lnTo>
                  <a:lnTo>
                    <a:pt x="284" y="209"/>
                  </a:lnTo>
                  <a:lnTo>
                    <a:pt x="292" y="200"/>
                  </a:lnTo>
                  <a:lnTo>
                    <a:pt x="295" y="191"/>
                  </a:lnTo>
                  <a:lnTo>
                    <a:pt x="298" y="182"/>
                  </a:lnTo>
                  <a:lnTo>
                    <a:pt x="301" y="172"/>
                  </a:lnTo>
                  <a:lnTo>
                    <a:pt x="292" y="163"/>
                  </a:lnTo>
                  <a:lnTo>
                    <a:pt x="284" y="154"/>
                  </a:lnTo>
                  <a:lnTo>
                    <a:pt x="278" y="145"/>
                  </a:lnTo>
                  <a:lnTo>
                    <a:pt x="287" y="142"/>
                  </a:lnTo>
                  <a:lnTo>
                    <a:pt x="295" y="142"/>
                  </a:lnTo>
                  <a:lnTo>
                    <a:pt x="304" y="148"/>
                  </a:lnTo>
                  <a:lnTo>
                    <a:pt x="313" y="157"/>
                  </a:lnTo>
                  <a:lnTo>
                    <a:pt x="321" y="163"/>
                  </a:lnTo>
                  <a:lnTo>
                    <a:pt x="327" y="154"/>
                  </a:lnTo>
                  <a:lnTo>
                    <a:pt x="336" y="148"/>
                  </a:lnTo>
                  <a:lnTo>
                    <a:pt x="344" y="148"/>
                  </a:lnTo>
                  <a:lnTo>
                    <a:pt x="353" y="145"/>
                  </a:lnTo>
                  <a:lnTo>
                    <a:pt x="361" y="142"/>
                  </a:lnTo>
                  <a:lnTo>
                    <a:pt x="361" y="133"/>
                  </a:lnTo>
                  <a:lnTo>
                    <a:pt x="361" y="124"/>
                  </a:lnTo>
                  <a:lnTo>
                    <a:pt x="361" y="115"/>
                  </a:lnTo>
                  <a:lnTo>
                    <a:pt x="359" y="106"/>
                  </a:lnTo>
                  <a:lnTo>
                    <a:pt x="353" y="97"/>
                  </a:lnTo>
                  <a:lnTo>
                    <a:pt x="344" y="88"/>
                  </a:lnTo>
                  <a:lnTo>
                    <a:pt x="333" y="81"/>
                  </a:lnTo>
                  <a:lnTo>
                    <a:pt x="341" y="75"/>
                  </a:lnTo>
                  <a:lnTo>
                    <a:pt x="353" y="75"/>
                  </a:lnTo>
                  <a:lnTo>
                    <a:pt x="361" y="75"/>
                  </a:lnTo>
                  <a:lnTo>
                    <a:pt x="370" y="75"/>
                  </a:lnTo>
                  <a:lnTo>
                    <a:pt x="379" y="72"/>
                  </a:lnTo>
                  <a:lnTo>
                    <a:pt x="387" y="69"/>
                  </a:lnTo>
                  <a:lnTo>
                    <a:pt x="396" y="69"/>
                  </a:lnTo>
                  <a:lnTo>
                    <a:pt x="405" y="72"/>
                  </a:lnTo>
                  <a:lnTo>
                    <a:pt x="419" y="75"/>
                  </a:lnTo>
                  <a:lnTo>
                    <a:pt x="428" y="75"/>
                  </a:lnTo>
                  <a:lnTo>
                    <a:pt x="425" y="66"/>
                  </a:lnTo>
                  <a:lnTo>
                    <a:pt x="422" y="57"/>
                  </a:lnTo>
                  <a:lnTo>
                    <a:pt x="419" y="48"/>
                  </a:lnTo>
                  <a:lnTo>
                    <a:pt x="410" y="48"/>
                  </a:lnTo>
                  <a:lnTo>
                    <a:pt x="402" y="48"/>
                  </a:lnTo>
                  <a:lnTo>
                    <a:pt x="390" y="48"/>
                  </a:lnTo>
                  <a:lnTo>
                    <a:pt x="382" y="48"/>
                  </a:lnTo>
                  <a:lnTo>
                    <a:pt x="379" y="57"/>
                  </a:lnTo>
                  <a:lnTo>
                    <a:pt x="370" y="54"/>
                  </a:lnTo>
                  <a:lnTo>
                    <a:pt x="361" y="45"/>
                  </a:lnTo>
                  <a:lnTo>
                    <a:pt x="353" y="39"/>
                  </a:lnTo>
                  <a:lnTo>
                    <a:pt x="341" y="39"/>
                  </a:lnTo>
                  <a:lnTo>
                    <a:pt x="333" y="39"/>
                  </a:lnTo>
                  <a:lnTo>
                    <a:pt x="318" y="39"/>
                  </a:lnTo>
                  <a:lnTo>
                    <a:pt x="310" y="39"/>
                  </a:lnTo>
                  <a:lnTo>
                    <a:pt x="298" y="42"/>
                  </a:lnTo>
                  <a:lnTo>
                    <a:pt x="290" y="42"/>
                  </a:lnTo>
                  <a:lnTo>
                    <a:pt x="290" y="33"/>
                  </a:lnTo>
                  <a:lnTo>
                    <a:pt x="298" y="30"/>
                  </a:lnTo>
                  <a:lnTo>
                    <a:pt x="307" y="30"/>
                  </a:lnTo>
                  <a:lnTo>
                    <a:pt x="315" y="27"/>
                  </a:lnTo>
                  <a:lnTo>
                    <a:pt x="324" y="24"/>
                  </a:lnTo>
                  <a:lnTo>
                    <a:pt x="327" y="15"/>
                  </a:lnTo>
                  <a:lnTo>
                    <a:pt x="327" y="6"/>
                  </a:lnTo>
                  <a:lnTo>
                    <a:pt x="318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3"/>
                  </a:lnTo>
                  <a:lnTo>
                    <a:pt x="275" y="12"/>
                  </a:lnTo>
                  <a:lnTo>
                    <a:pt x="267" y="18"/>
                  </a:lnTo>
                  <a:lnTo>
                    <a:pt x="258" y="21"/>
                  </a:lnTo>
                  <a:lnTo>
                    <a:pt x="255" y="30"/>
                  </a:lnTo>
                  <a:lnTo>
                    <a:pt x="264" y="36"/>
                  </a:lnTo>
                  <a:lnTo>
                    <a:pt x="272" y="36"/>
                  </a:lnTo>
                  <a:lnTo>
                    <a:pt x="278" y="45"/>
                  </a:lnTo>
                  <a:lnTo>
                    <a:pt x="270" y="54"/>
                  </a:lnTo>
                  <a:lnTo>
                    <a:pt x="267" y="63"/>
                  </a:lnTo>
                  <a:lnTo>
                    <a:pt x="281" y="75"/>
                  </a:lnTo>
                  <a:lnTo>
                    <a:pt x="290" y="78"/>
                  </a:lnTo>
                  <a:lnTo>
                    <a:pt x="281" y="75"/>
                  </a:lnTo>
                  <a:lnTo>
                    <a:pt x="270" y="66"/>
                  </a:lnTo>
                  <a:lnTo>
                    <a:pt x="261" y="60"/>
                  </a:lnTo>
                  <a:lnTo>
                    <a:pt x="252" y="51"/>
                  </a:lnTo>
                  <a:lnTo>
                    <a:pt x="244" y="51"/>
                  </a:lnTo>
                  <a:lnTo>
                    <a:pt x="241" y="60"/>
                  </a:lnTo>
                  <a:lnTo>
                    <a:pt x="241" y="69"/>
                  </a:lnTo>
                  <a:lnTo>
                    <a:pt x="255" y="78"/>
                  </a:lnTo>
                  <a:lnTo>
                    <a:pt x="264" y="81"/>
                  </a:lnTo>
                  <a:lnTo>
                    <a:pt x="255" y="88"/>
                  </a:lnTo>
                  <a:lnTo>
                    <a:pt x="244" y="88"/>
                  </a:lnTo>
                  <a:lnTo>
                    <a:pt x="235" y="88"/>
                  </a:lnTo>
                  <a:lnTo>
                    <a:pt x="235" y="103"/>
                  </a:lnTo>
                  <a:lnTo>
                    <a:pt x="244" y="106"/>
                  </a:lnTo>
                  <a:lnTo>
                    <a:pt x="252" y="109"/>
                  </a:lnTo>
                  <a:lnTo>
                    <a:pt x="244" y="115"/>
                  </a:lnTo>
                  <a:lnTo>
                    <a:pt x="235" y="112"/>
                  </a:lnTo>
                  <a:lnTo>
                    <a:pt x="226" y="109"/>
                  </a:lnTo>
                  <a:lnTo>
                    <a:pt x="218" y="106"/>
                  </a:lnTo>
                  <a:lnTo>
                    <a:pt x="212" y="115"/>
                  </a:lnTo>
                  <a:lnTo>
                    <a:pt x="218" y="124"/>
                  </a:lnTo>
                  <a:lnTo>
                    <a:pt x="229" y="127"/>
                  </a:lnTo>
                  <a:lnTo>
                    <a:pt x="238" y="130"/>
                  </a:lnTo>
                  <a:lnTo>
                    <a:pt x="229" y="124"/>
                  </a:lnTo>
                  <a:lnTo>
                    <a:pt x="221" y="121"/>
                  </a:lnTo>
                  <a:lnTo>
                    <a:pt x="209" y="115"/>
                  </a:lnTo>
                  <a:lnTo>
                    <a:pt x="198" y="106"/>
                  </a:lnTo>
                  <a:lnTo>
                    <a:pt x="192" y="97"/>
                  </a:lnTo>
                  <a:lnTo>
                    <a:pt x="183" y="91"/>
                  </a:lnTo>
                  <a:lnTo>
                    <a:pt x="180" y="81"/>
                  </a:lnTo>
                  <a:lnTo>
                    <a:pt x="178" y="72"/>
                  </a:lnTo>
                  <a:lnTo>
                    <a:pt x="169" y="60"/>
                  </a:lnTo>
                  <a:lnTo>
                    <a:pt x="160" y="60"/>
                  </a:lnTo>
                  <a:lnTo>
                    <a:pt x="152" y="66"/>
                  </a:lnTo>
                  <a:lnTo>
                    <a:pt x="149" y="75"/>
                  </a:lnTo>
                  <a:lnTo>
                    <a:pt x="146" y="84"/>
                  </a:lnTo>
                  <a:lnTo>
                    <a:pt x="143" y="94"/>
                  </a:lnTo>
                  <a:lnTo>
                    <a:pt x="140" y="103"/>
                  </a:lnTo>
                  <a:lnTo>
                    <a:pt x="129" y="103"/>
                  </a:lnTo>
                  <a:lnTo>
                    <a:pt x="117" y="94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0" y="60"/>
                  </a:lnTo>
                  <a:lnTo>
                    <a:pt x="89" y="60"/>
                  </a:lnTo>
                  <a:lnTo>
                    <a:pt x="80" y="66"/>
                  </a:lnTo>
                  <a:lnTo>
                    <a:pt x="77" y="75"/>
                  </a:lnTo>
                  <a:lnTo>
                    <a:pt x="71" y="84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51" y="127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0" y="127"/>
                  </a:lnTo>
                  <a:lnTo>
                    <a:pt x="51" y="121"/>
                  </a:lnTo>
                  <a:lnTo>
                    <a:pt x="43" y="118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4" y="115"/>
                  </a:lnTo>
                  <a:lnTo>
                    <a:pt x="11" y="124"/>
                  </a:lnTo>
                  <a:lnTo>
                    <a:pt x="8" y="133"/>
                  </a:lnTo>
                  <a:lnTo>
                    <a:pt x="2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4" y="169"/>
                  </a:lnTo>
                  <a:lnTo>
                    <a:pt x="22" y="172"/>
                  </a:lnTo>
                  <a:lnTo>
                    <a:pt x="31" y="172"/>
                  </a:lnTo>
                  <a:lnTo>
                    <a:pt x="40" y="176"/>
                  </a:lnTo>
                  <a:lnTo>
                    <a:pt x="51" y="185"/>
                  </a:lnTo>
                  <a:lnTo>
                    <a:pt x="60" y="191"/>
                  </a:lnTo>
                  <a:lnTo>
                    <a:pt x="68" y="197"/>
                  </a:lnTo>
                  <a:lnTo>
                    <a:pt x="80" y="200"/>
                  </a:lnTo>
                  <a:lnTo>
                    <a:pt x="89" y="203"/>
                  </a:lnTo>
                  <a:lnTo>
                    <a:pt x="100" y="203"/>
                  </a:lnTo>
                  <a:lnTo>
                    <a:pt x="109" y="203"/>
                  </a:lnTo>
                  <a:lnTo>
                    <a:pt x="120" y="197"/>
                  </a:lnTo>
                  <a:lnTo>
                    <a:pt x="129" y="194"/>
                  </a:lnTo>
                  <a:lnTo>
                    <a:pt x="135" y="185"/>
                  </a:lnTo>
                  <a:lnTo>
                    <a:pt x="143" y="179"/>
                  </a:lnTo>
                  <a:lnTo>
                    <a:pt x="149" y="169"/>
                  </a:lnTo>
                  <a:lnTo>
                    <a:pt x="157" y="163"/>
                  </a:lnTo>
                  <a:lnTo>
                    <a:pt x="166" y="163"/>
                  </a:lnTo>
                  <a:lnTo>
                    <a:pt x="175" y="166"/>
                  </a:lnTo>
                  <a:lnTo>
                    <a:pt x="183" y="166"/>
                  </a:lnTo>
                  <a:lnTo>
                    <a:pt x="192" y="157"/>
                  </a:lnTo>
                  <a:lnTo>
                    <a:pt x="198" y="148"/>
                  </a:lnTo>
                  <a:lnTo>
                    <a:pt x="201" y="139"/>
                  </a:lnTo>
                  <a:lnTo>
                    <a:pt x="203" y="130"/>
                  </a:lnTo>
                  <a:lnTo>
                    <a:pt x="212" y="130"/>
                  </a:lnTo>
                  <a:lnTo>
                    <a:pt x="224" y="136"/>
                  </a:lnTo>
                  <a:lnTo>
                    <a:pt x="232" y="139"/>
                  </a:lnTo>
                  <a:lnTo>
                    <a:pt x="241" y="142"/>
                  </a:lnTo>
                  <a:lnTo>
                    <a:pt x="232" y="142"/>
                  </a:lnTo>
                  <a:lnTo>
                    <a:pt x="224" y="142"/>
                  </a:lnTo>
                  <a:lnTo>
                    <a:pt x="215" y="142"/>
                  </a:lnTo>
                  <a:lnTo>
                    <a:pt x="206" y="142"/>
                  </a:lnTo>
                  <a:lnTo>
                    <a:pt x="203" y="151"/>
                  </a:lnTo>
                  <a:lnTo>
                    <a:pt x="201" y="160"/>
                  </a:lnTo>
                  <a:lnTo>
                    <a:pt x="201" y="169"/>
                  </a:lnTo>
                  <a:lnTo>
                    <a:pt x="209" y="176"/>
                  </a:lnTo>
                  <a:lnTo>
                    <a:pt x="218" y="179"/>
                  </a:lnTo>
                  <a:lnTo>
                    <a:pt x="226" y="188"/>
                  </a:lnTo>
                  <a:lnTo>
                    <a:pt x="235" y="194"/>
                  </a:lnTo>
                  <a:lnTo>
                    <a:pt x="238" y="203"/>
                  </a:lnTo>
                  <a:lnTo>
                    <a:pt x="226" y="206"/>
                  </a:lnTo>
                  <a:lnTo>
                    <a:pt x="224" y="215"/>
                  </a:lnTo>
                  <a:lnTo>
                    <a:pt x="224" y="224"/>
                  </a:lnTo>
                  <a:lnTo>
                    <a:pt x="221" y="233"/>
                  </a:lnTo>
                  <a:lnTo>
                    <a:pt x="209" y="233"/>
                  </a:lnTo>
                  <a:lnTo>
                    <a:pt x="203" y="245"/>
                  </a:lnTo>
                  <a:lnTo>
                    <a:pt x="198" y="257"/>
                  </a:lnTo>
                  <a:lnTo>
                    <a:pt x="195" y="267"/>
                  </a:lnTo>
                  <a:lnTo>
                    <a:pt x="186" y="267"/>
                  </a:lnTo>
                  <a:lnTo>
                    <a:pt x="183" y="257"/>
                  </a:lnTo>
                  <a:lnTo>
                    <a:pt x="178" y="245"/>
                  </a:lnTo>
                  <a:lnTo>
                    <a:pt x="175" y="233"/>
                  </a:lnTo>
                  <a:lnTo>
                    <a:pt x="166" y="224"/>
                  </a:lnTo>
                  <a:lnTo>
                    <a:pt x="157" y="221"/>
                  </a:lnTo>
                  <a:lnTo>
                    <a:pt x="149" y="218"/>
                  </a:lnTo>
                  <a:lnTo>
                    <a:pt x="137" y="224"/>
                  </a:lnTo>
                  <a:lnTo>
                    <a:pt x="140" y="236"/>
                  </a:lnTo>
                  <a:lnTo>
                    <a:pt x="143" y="245"/>
                  </a:lnTo>
                  <a:lnTo>
                    <a:pt x="143" y="254"/>
                  </a:lnTo>
                  <a:lnTo>
                    <a:pt x="135" y="260"/>
                  </a:lnTo>
                  <a:lnTo>
                    <a:pt x="126" y="260"/>
                  </a:lnTo>
                  <a:lnTo>
                    <a:pt x="114" y="257"/>
                  </a:lnTo>
                  <a:lnTo>
                    <a:pt x="106" y="257"/>
                  </a:lnTo>
                  <a:lnTo>
                    <a:pt x="97" y="257"/>
                  </a:lnTo>
                  <a:lnTo>
                    <a:pt x="89" y="257"/>
                  </a:lnTo>
                  <a:lnTo>
                    <a:pt x="91" y="267"/>
                  </a:lnTo>
                  <a:lnTo>
                    <a:pt x="100" y="276"/>
                  </a:lnTo>
                  <a:lnTo>
                    <a:pt x="100" y="285"/>
                  </a:lnTo>
                  <a:lnTo>
                    <a:pt x="97" y="294"/>
                  </a:lnTo>
                  <a:lnTo>
                    <a:pt x="97" y="303"/>
                  </a:lnTo>
                  <a:lnTo>
                    <a:pt x="109" y="312"/>
                  </a:lnTo>
                  <a:lnTo>
                    <a:pt x="117" y="318"/>
                  </a:lnTo>
                  <a:lnTo>
                    <a:pt x="109" y="318"/>
                  </a:lnTo>
                  <a:lnTo>
                    <a:pt x="100" y="309"/>
                  </a:lnTo>
                  <a:lnTo>
                    <a:pt x="89" y="300"/>
                  </a:lnTo>
                  <a:lnTo>
                    <a:pt x="80" y="297"/>
                  </a:lnTo>
                  <a:lnTo>
                    <a:pt x="71" y="297"/>
                  </a:lnTo>
                  <a:lnTo>
                    <a:pt x="63" y="300"/>
                  </a:lnTo>
                  <a:lnTo>
                    <a:pt x="54" y="306"/>
                  </a:lnTo>
                  <a:lnTo>
                    <a:pt x="43" y="306"/>
                  </a:lnTo>
                  <a:lnTo>
                    <a:pt x="34" y="306"/>
                  </a:lnTo>
                  <a:lnTo>
                    <a:pt x="22" y="309"/>
                  </a:lnTo>
                  <a:lnTo>
                    <a:pt x="11" y="303"/>
                  </a:lnTo>
                  <a:lnTo>
                    <a:pt x="22" y="309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200" y="27082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2"/>
                  </a:moveTo>
                  <a:lnTo>
                    <a:pt x="8" y="19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34" y="22"/>
                  </a:lnTo>
                  <a:lnTo>
                    <a:pt x="40" y="13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76680" y="294012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5" y="0"/>
                  </a:moveTo>
                  <a:lnTo>
                    <a:pt x="20" y="13"/>
                  </a:lnTo>
                  <a:lnTo>
                    <a:pt x="11" y="16"/>
                  </a:lnTo>
                  <a:lnTo>
                    <a:pt x="8" y="24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4" y="30"/>
                  </a:lnTo>
                  <a:lnTo>
                    <a:pt x="40" y="21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25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10160" y="2549520"/>
              <a:ext cx="339840" cy="509760"/>
            </a:xfrm>
            <a:custGeom>
              <a:avLst/>
              <a:gdLst/>
              <a:ahLst/>
              <a:rect l="l" t="t" r="r" b="b"/>
              <a:pathLst>
                <a:path w="214" h="321">
                  <a:moveTo>
                    <a:pt x="23" y="200"/>
                  </a:moveTo>
                  <a:lnTo>
                    <a:pt x="34" y="182"/>
                  </a:lnTo>
                  <a:lnTo>
                    <a:pt x="23" y="200"/>
                  </a:lnTo>
                  <a:lnTo>
                    <a:pt x="23" y="211"/>
                  </a:lnTo>
                  <a:lnTo>
                    <a:pt x="20" y="220"/>
                  </a:lnTo>
                  <a:lnTo>
                    <a:pt x="17" y="228"/>
                  </a:lnTo>
                  <a:lnTo>
                    <a:pt x="8" y="234"/>
                  </a:lnTo>
                  <a:lnTo>
                    <a:pt x="2" y="24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8" y="268"/>
                  </a:lnTo>
                  <a:lnTo>
                    <a:pt x="17" y="268"/>
                  </a:lnTo>
                  <a:lnTo>
                    <a:pt x="25" y="271"/>
                  </a:lnTo>
                  <a:lnTo>
                    <a:pt x="28" y="280"/>
                  </a:lnTo>
                  <a:lnTo>
                    <a:pt x="37" y="291"/>
                  </a:lnTo>
                  <a:lnTo>
                    <a:pt x="28" y="294"/>
                  </a:lnTo>
                  <a:lnTo>
                    <a:pt x="20" y="285"/>
                  </a:lnTo>
                  <a:lnTo>
                    <a:pt x="31" y="294"/>
                  </a:lnTo>
                  <a:lnTo>
                    <a:pt x="40" y="300"/>
                  </a:lnTo>
                  <a:lnTo>
                    <a:pt x="48" y="311"/>
                  </a:lnTo>
                  <a:lnTo>
                    <a:pt x="57" y="314"/>
                  </a:lnTo>
                  <a:lnTo>
                    <a:pt x="66" y="320"/>
                  </a:lnTo>
                  <a:lnTo>
                    <a:pt x="66" y="311"/>
                  </a:lnTo>
                  <a:lnTo>
                    <a:pt x="74" y="311"/>
                  </a:lnTo>
                  <a:lnTo>
                    <a:pt x="83" y="320"/>
                  </a:lnTo>
                  <a:lnTo>
                    <a:pt x="83" y="308"/>
                  </a:lnTo>
                  <a:lnTo>
                    <a:pt x="92" y="305"/>
                  </a:lnTo>
                  <a:lnTo>
                    <a:pt x="97" y="297"/>
                  </a:lnTo>
                  <a:lnTo>
                    <a:pt x="89" y="288"/>
                  </a:lnTo>
                  <a:lnTo>
                    <a:pt x="83" y="280"/>
                  </a:lnTo>
                  <a:lnTo>
                    <a:pt x="77" y="271"/>
                  </a:lnTo>
                  <a:lnTo>
                    <a:pt x="71" y="262"/>
                  </a:lnTo>
                  <a:lnTo>
                    <a:pt x="69" y="254"/>
                  </a:lnTo>
                  <a:lnTo>
                    <a:pt x="69" y="242"/>
                  </a:lnTo>
                  <a:lnTo>
                    <a:pt x="69" y="234"/>
                  </a:lnTo>
                  <a:lnTo>
                    <a:pt x="69" y="225"/>
                  </a:lnTo>
                  <a:lnTo>
                    <a:pt x="69" y="217"/>
                  </a:lnTo>
                  <a:lnTo>
                    <a:pt x="69" y="208"/>
                  </a:lnTo>
                  <a:lnTo>
                    <a:pt x="69" y="200"/>
                  </a:lnTo>
                  <a:lnTo>
                    <a:pt x="69" y="191"/>
                  </a:lnTo>
                  <a:lnTo>
                    <a:pt x="69" y="182"/>
                  </a:lnTo>
                  <a:lnTo>
                    <a:pt x="77" y="174"/>
                  </a:lnTo>
                  <a:lnTo>
                    <a:pt x="86" y="168"/>
                  </a:lnTo>
                  <a:lnTo>
                    <a:pt x="92" y="160"/>
                  </a:lnTo>
                  <a:lnTo>
                    <a:pt x="97" y="151"/>
                  </a:lnTo>
                  <a:lnTo>
                    <a:pt x="103" y="142"/>
                  </a:lnTo>
                  <a:lnTo>
                    <a:pt x="103" y="134"/>
                  </a:lnTo>
                  <a:lnTo>
                    <a:pt x="103" y="125"/>
                  </a:lnTo>
                  <a:lnTo>
                    <a:pt x="112" y="122"/>
                  </a:lnTo>
                  <a:lnTo>
                    <a:pt x="120" y="117"/>
                  </a:lnTo>
                  <a:lnTo>
                    <a:pt x="123" y="105"/>
                  </a:lnTo>
                  <a:lnTo>
                    <a:pt x="132" y="100"/>
                  </a:lnTo>
                  <a:lnTo>
                    <a:pt x="135" y="91"/>
                  </a:lnTo>
                  <a:lnTo>
                    <a:pt x="143" y="82"/>
                  </a:lnTo>
                  <a:lnTo>
                    <a:pt x="152" y="77"/>
                  </a:lnTo>
                  <a:lnTo>
                    <a:pt x="158" y="68"/>
                  </a:lnTo>
                  <a:lnTo>
                    <a:pt x="166" y="65"/>
                  </a:lnTo>
                  <a:lnTo>
                    <a:pt x="175" y="60"/>
                  </a:lnTo>
                  <a:lnTo>
                    <a:pt x="184" y="57"/>
                  </a:lnTo>
                  <a:lnTo>
                    <a:pt x="189" y="48"/>
                  </a:lnTo>
                  <a:lnTo>
                    <a:pt x="198" y="42"/>
                  </a:lnTo>
                  <a:lnTo>
                    <a:pt x="207" y="37"/>
                  </a:lnTo>
                  <a:lnTo>
                    <a:pt x="210" y="28"/>
                  </a:lnTo>
                  <a:lnTo>
                    <a:pt x="213" y="20"/>
                  </a:lnTo>
                  <a:lnTo>
                    <a:pt x="213" y="11"/>
                  </a:lnTo>
                  <a:lnTo>
                    <a:pt x="210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5" y="8"/>
                  </a:lnTo>
                  <a:lnTo>
                    <a:pt x="175" y="17"/>
                  </a:lnTo>
                  <a:lnTo>
                    <a:pt x="166" y="20"/>
                  </a:lnTo>
                  <a:lnTo>
                    <a:pt x="158" y="25"/>
                  </a:lnTo>
                  <a:lnTo>
                    <a:pt x="149" y="34"/>
                  </a:lnTo>
                  <a:lnTo>
                    <a:pt x="141" y="40"/>
                  </a:lnTo>
                  <a:lnTo>
                    <a:pt x="132" y="42"/>
                  </a:lnTo>
                  <a:lnTo>
                    <a:pt x="123" y="42"/>
                  </a:lnTo>
                  <a:lnTo>
                    <a:pt x="123" y="54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7" y="68"/>
                  </a:lnTo>
                  <a:lnTo>
                    <a:pt x="89" y="77"/>
                  </a:lnTo>
                  <a:lnTo>
                    <a:pt x="83" y="85"/>
                  </a:lnTo>
                  <a:lnTo>
                    <a:pt x="80" y="94"/>
                  </a:lnTo>
                  <a:lnTo>
                    <a:pt x="71" y="100"/>
                  </a:lnTo>
                  <a:lnTo>
                    <a:pt x="66" y="108"/>
                  </a:lnTo>
                  <a:lnTo>
                    <a:pt x="63" y="117"/>
                  </a:lnTo>
                  <a:lnTo>
                    <a:pt x="63" y="125"/>
                  </a:lnTo>
                  <a:lnTo>
                    <a:pt x="57" y="134"/>
                  </a:lnTo>
                  <a:lnTo>
                    <a:pt x="51" y="142"/>
                  </a:lnTo>
                  <a:lnTo>
                    <a:pt x="46" y="151"/>
                  </a:lnTo>
                  <a:lnTo>
                    <a:pt x="40" y="162"/>
                  </a:lnTo>
                  <a:lnTo>
                    <a:pt x="37" y="171"/>
                  </a:lnTo>
                  <a:lnTo>
                    <a:pt x="46" y="177"/>
                  </a:lnTo>
                  <a:lnTo>
                    <a:pt x="54" y="180"/>
                  </a:lnTo>
                  <a:lnTo>
                    <a:pt x="57" y="188"/>
                  </a:lnTo>
                  <a:lnTo>
                    <a:pt x="48" y="185"/>
                  </a:lnTo>
                  <a:lnTo>
                    <a:pt x="40" y="185"/>
                  </a:lnTo>
                  <a:lnTo>
                    <a:pt x="31" y="188"/>
                  </a:lnTo>
                  <a:lnTo>
                    <a:pt x="23" y="200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23" y="237"/>
                  </a:lnTo>
                  <a:lnTo>
                    <a:pt x="14" y="242"/>
                  </a:lnTo>
                  <a:lnTo>
                    <a:pt x="8" y="251"/>
                  </a:lnTo>
                  <a:lnTo>
                    <a:pt x="0" y="260"/>
                  </a:lnTo>
                  <a:lnTo>
                    <a:pt x="23" y="2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71720" y="444168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49" y="47"/>
                  </a:moveTo>
                  <a:lnTo>
                    <a:pt x="44" y="58"/>
                  </a:lnTo>
                  <a:lnTo>
                    <a:pt x="35" y="58"/>
                  </a:lnTo>
                  <a:lnTo>
                    <a:pt x="30" y="66"/>
                  </a:lnTo>
                  <a:lnTo>
                    <a:pt x="30" y="75"/>
                  </a:lnTo>
                  <a:lnTo>
                    <a:pt x="30" y="83"/>
                  </a:lnTo>
                  <a:lnTo>
                    <a:pt x="30" y="91"/>
                  </a:lnTo>
                  <a:lnTo>
                    <a:pt x="22" y="94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8" y="139"/>
                  </a:lnTo>
                  <a:lnTo>
                    <a:pt x="16" y="139"/>
                  </a:lnTo>
                  <a:lnTo>
                    <a:pt x="27" y="147"/>
                  </a:lnTo>
                  <a:lnTo>
                    <a:pt x="33" y="156"/>
                  </a:lnTo>
                  <a:lnTo>
                    <a:pt x="41" y="156"/>
                  </a:lnTo>
                  <a:lnTo>
                    <a:pt x="46" y="147"/>
                  </a:lnTo>
                  <a:lnTo>
                    <a:pt x="52" y="139"/>
                  </a:lnTo>
                  <a:lnTo>
                    <a:pt x="55" y="130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71" y="108"/>
                  </a:lnTo>
                  <a:lnTo>
                    <a:pt x="80" y="108"/>
                  </a:lnTo>
                  <a:lnTo>
                    <a:pt x="82" y="100"/>
                  </a:lnTo>
                  <a:lnTo>
                    <a:pt x="82" y="91"/>
                  </a:lnTo>
                  <a:lnTo>
                    <a:pt x="82" y="83"/>
                  </a:lnTo>
                  <a:lnTo>
                    <a:pt x="82" y="75"/>
                  </a:lnTo>
                  <a:lnTo>
                    <a:pt x="82" y="66"/>
                  </a:lnTo>
                  <a:lnTo>
                    <a:pt x="85" y="58"/>
                  </a:lnTo>
                  <a:lnTo>
                    <a:pt x="93" y="52"/>
                  </a:lnTo>
                  <a:lnTo>
                    <a:pt x="102" y="47"/>
                  </a:lnTo>
                  <a:lnTo>
                    <a:pt x="107" y="39"/>
                  </a:lnTo>
                  <a:lnTo>
                    <a:pt x="115" y="36"/>
                  </a:lnTo>
                  <a:lnTo>
                    <a:pt x="121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38" y="5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8" y="11"/>
                  </a:lnTo>
                  <a:lnTo>
                    <a:pt x="82" y="19"/>
                  </a:lnTo>
                  <a:lnTo>
                    <a:pt x="80" y="27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69" y="61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49" y="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90800" y="524844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1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6" y="21"/>
                  </a:lnTo>
                  <a:lnTo>
                    <a:pt x="23" y="27"/>
                  </a:lnTo>
                  <a:lnTo>
                    <a:pt x="18" y="18"/>
                  </a:lnTo>
                  <a:lnTo>
                    <a:pt x="13" y="9"/>
                  </a:lnTo>
                  <a:lnTo>
                    <a:pt x="6" y="21"/>
                  </a:lnTo>
                  <a:lnTo>
                    <a:pt x="9" y="6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57400" y="5361120"/>
              <a:ext cx="27000" cy="72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6" y="0"/>
                  </a:moveTo>
                  <a:lnTo>
                    <a:pt x="5" y="19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0" y="28"/>
                  </a:lnTo>
                  <a:lnTo>
                    <a:pt x="16" y="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52480" y="4357800"/>
              <a:ext cx="88920" cy="73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0"/>
                  </a:moveTo>
                  <a:lnTo>
                    <a:pt x="20" y="19"/>
                  </a:lnTo>
                  <a:lnTo>
                    <a:pt x="20" y="28"/>
                  </a:lnTo>
                  <a:lnTo>
                    <a:pt x="28" y="33"/>
                  </a:lnTo>
                  <a:lnTo>
                    <a:pt x="28" y="42"/>
                  </a:lnTo>
                  <a:lnTo>
                    <a:pt x="37" y="45"/>
                  </a:lnTo>
                  <a:lnTo>
                    <a:pt x="46" y="45"/>
                  </a:lnTo>
                  <a:lnTo>
                    <a:pt x="49" y="36"/>
                  </a:lnTo>
                  <a:lnTo>
                    <a:pt x="55" y="28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26" y="16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228600" y="6137280"/>
              <a:ext cx="611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993600" y="6272280"/>
              <a:ext cx="47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HO European Centre for Environment and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72040" y="743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0"/>
                  </a:moveTo>
                  <a:lnTo>
                    <a:pt x="8" y="8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5" y="37"/>
                  </a:lnTo>
                  <a:lnTo>
                    <a:pt x="11" y="46"/>
                  </a:lnTo>
                  <a:lnTo>
                    <a:pt x="19" y="49"/>
                  </a:lnTo>
                  <a:lnTo>
                    <a:pt x="31" y="52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7" y="55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31" y="14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97360" y="4836960"/>
              <a:ext cx="788760" cy="408240"/>
            </a:xfrm>
            <a:custGeom>
              <a:avLst/>
              <a:gdLst/>
              <a:ahLst/>
              <a:rect l="l" t="t" r="r" b="b"/>
              <a:pathLst>
                <a:path w="497" h="257">
                  <a:moveTo>
                    <a:pt x="0" y="193"/>
                  </a:moveTo>
                  <a:lnTo>
                    <a:pt x="24" y="189"/>
                  </a:lnTo>
                  <a:lnTo>
                    <a:pt x="32" y="182"/>
                  </a:lnTo>
                  <a:lnTo>
                    <a:pt x="40" y="174"/>
                  </a:lnTo>
                  <a:lnTo>
                    <a:pt x="46" y="164"/>
                  </a:lnTo>
                  <a:lnTo>
                    <a:pt x="45" y="155"/>
                  </a:lnTo>
                  <a:lnTo>
                    <a:pt x="52" y="149"/>
                  </a:lnTo>
                  <a:lnTo>
                    <a:pt x="60" y="140"/>
                  </a:lnTo>
                  <a:lnTo>
                    <a:pt x="66" y="131"/>
                  </a:lnTo>
                  <a:lnTo>
                    <a:pt x="69" y="123"/>
                  </a:lnTo>
                  <a:lnTo>
                    <a:pt x="74" y="114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7" y="95"/>
                  </a:lnTo>
                  <a:lnTo>
                    <a:pt x="104" y="88"/>
                  </a:lnTo>
                  <a:lnTo>
                    <a:pt x="109" y="78"/>
                  </a:lnTo>
                  <a:lnTo>
                    <a:pt x="116" y="70"/>
                  </a:lnTo>
                  <a:lnTo>
                    <a:pt x="118" y="60"/>
                  </a:lnTo>
                  <a:lnTo>
                    <a:pt x="128" y="53"/>
                  </a:lnTo>
                  <a:lnTo>
                    <a:pt x="131" y="44"/>
                  </a:lnTo>
                  <a:lnTo>
                    <a:pt x="137" y="37"/>
                  </a:lnTo>
                  <a:lnTo>
                    <a:pt x="144" y="30"/>
                  </a:lnTo>
                  <a:lnTo>
                    <a:pt x="153" y="22"/>
                  </a:lnTo>
                  <a:lnTo>
                    <a:pt x="159" y="15"/>
                  </a:lnTo>
                  <a:lnTo>
                    <a:pt x="168" y="10"/>
                  </a:lnTo>
                  <a:lnTo>
                    <a:pt x="175" y="6"/>
                  </a:lnTo>
                  <a:lnTo>
                    <a:pt x="187" y="6"/>
                  </a:lnTo>
                  <a:lnTo>
                    <a:pt x="193" y="0"/>
                  </a:lnTo>
                  <a:lnTo>
                    <a:pt x="202" y="7"/>
                  </a:lnTo>
                  <a:lnTo>
                    <a:pt x="215" y="15"/>
                  </a:lnTo>
                  <a:lnTo>
                    <a:pt x="207" y="14"/>
                  </a:lnTo>
                  <a:lnTo>
                    <a:pt x="205" y="22"/>
                  </a:lnTo>
                  <a:lnTo>
                    <a:pt x="205" y="31"/>
                  </a:lnTo>
                  <a:lnTo>
                    <a:pt x="215" y="34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40" y="33"/>
                  </a:lnTo>
                  <a:lnTo>
                    <a:pt x="243" y="40"/>
                  </a:lnTo>
                  <a:lnTo>
                    <a:pt x="236" y="45"/>
                  </a:lnTo>
                  <a:lnTo>
                    <a:pt x="228" y="49"/>
                  </a:lnTo>
                  <a:lnTo>
                    <a:pt x="220" y="55"/>
                  </a:lnTo>
                  <a:lnTo>
                    <a:pt x="213" y="62"/>
                  </a:lnTo>
                  <a:lnTo>
                    <a:pt x="222" y="64"/>
                  </a:lnTo>
                  <a:lnTo>
                    <a:pt x="226" y="71"/>
                  </a:lnTo>
                  <a:lnTo>
                    <a:pt x="229" y="78"/>
                  </a:lnTo>
                  <a:lnTo>
                    <a:pt x="232" y="84"/>
                  </a:lnTo>
                  <a:lnTo>
                    <a:pt x="232" y="94"/>
                  </a:lnTo>
                  <a:lnTo>
                    <a:pt x="230" y="103"/>
                  </a:lnTo>
                  <a:lnTo>
                    <a:pt x="239" y="163"/>
                  </a:lnTo>
                  <a:lnTo>
                    <a:pt x="190" y="125"/>
                  </a:lnTo>
                  <a:lnTo>
                    <a:pt x="236" y="116"/>
                  </a:lnTo>
                  <a:lnTo>
                    <a:pt x="246" y="110"/>
                  </a:lnTo>
                  <a:lnTo>
                    <a:pt x="251" y="105"/>
                  </a:lnTo>
                  <a:lnTo>
                    <a:pt x="259" y="94"/>
                  </a:lnTo>
                  <a:lnTo>
                    <a:pt x="270" y="93"/>
                  </a:lnTo>
                  <a:lnTo>
                    <a:pt x="277" y="90"/>
                  </a:lnTo>
                  <a:lnTo>
                    <a:pt x="288" y="86"/>
                  </a:lnTo>
                  <a:lnTo>
                    <a:pt x="295" y="83"/>
                  </a:lnTo>
                  <a:lnTo>
                    <a:pt x="303" y="74"/>
                  </a:lnTo>
                  <a:lnTo>
                    <a:pt x="313" y="75"/>
                  </a:lnTo>
                  <a:lnTo>
                    <a:pt x="320" y="80"/>
                  </a:lnTo>
                  <a:lnTo>
                    <a:pt x="329" y="76"/>
                  </a:lnTo>
                  <a:lnTo>
                    <a:pt x="338" y="74"/>
                  </a:lnTo>
                  <a:lnTo>
                    <a:pt x="345" y="78"/>
                  </a:lnTo>
                  <a:lnTo>
                    <a:pt x="351" y="86"/>
                  </a:lnTo>
                  <a:lnTo>
                    <a:pt x="357" y="92"/>
                  </a:lnTo>
                  <a:lnTo>
                    <a:pt x="365" y="90"/>
                  </a:lnTo>
                  <a:lnTo>
                    <a:pt x="379" y="94"/>
                  </a:lnTo>
                  <a:lnTo>
                    <a:pt x="385" y="99"/>
                  </a:lnTo>
                  <a:lnTo>
                    <a:pt x="394" y="102"/>
                  </a:lnTo>
                  <a:lnTo>
                    <a:pt x="403" y="107"/>
                  </a:lnTo>
                  <a:lnTo>
                    <a:pt x="405" y="115"/>
                  </a:lnTo>
                  <a:lnTo>
                    <a:pt x="413" y="121"/>
                  </a:lnTo>
                  <a:lnTo>
                    <a:pt x="423" y="125"/>
                  </a:lnTo>
                  <a:lnTo>
                    <a:pt x="431" y="128"/>
                  </a:lnTo>
                  <a:lnTo>
                    <a:pt x="440" y="132"/>
                  </a:lnTo>
                  <a:lnTo>
                    <a:pt x="455" y="137"/>
                  </a:lnTo>
                  <a:lnTo>
                    <a:pt x="468" y="141"/>
                  </a:lnTo>
                  <a:lnTo>
                    <a:pt x="473" y="148"/>
                  </a:lnTo>
                  <a:lnTo>
                    <a:pt x="480" y="154"/>
                  </a:lnTo>
                  <a:lnTo>
                    <a:pt x="485" y="161"/>
                  </a:lnTo>
                  <a:lnTo>
                    <a:pt x="488" y="172"/>
                  </a:lnTo>
                  <a:lnTo>
                    <a:pt x="492" y="178"/>
                  </a:lnTo>
                  <a:lnTo>
                    <a:pt x="493" y="187"/>
                  </a:lnTo>
                  <a:lnTo>
                    <a:pt x="494" y="195"/>
                  </a:lnTo>
                  <a:lnTo>
                    <a:pt x="496" y="201"/>
                  </a:lnTo>
                  <a:lnTo>
                    <a:pt x="491" y="213"/>
                  </a:lnTo>
                  <a:lnTo>
                    <a:pt x="480" y="217"/>
                  </a:lnTo>
                  <a:lnTo>
                    <a:pt x="474" y="222"/>
                  </a:lnTo>
                  <a:lnTo>
                    <a:pt x="466" y="228"/>
                  </a:lnTo>
                  <a:lnTo>
                    <a:pt x="458" y="234"/>
                  </a:lnTo>
                  <a:lnTo>
                    <a:pt x="448" y="238"/>
                  </a:lnTo>
                  <a:lnTo>
                    <a:pt x="439" y="240"/>
                  </a:lnTo>
                  <a:lnTo>
                    <a:pt x="430" y="244"/>
                  </a:lnTo>
                  <a:lnTo>
                    <a:pt x="422" y="248"/>
                  </a:lnTo>
                  <a:lnTo>
                    <a:pt x="414" y="240"/>
                  </a:lnTo>
                  <a:lnTo>
                    <a:pt x="405" y="242"/>
                  </a:lnTo>
                  <a:lnTo>
                    <a:pt x="395" y="241"/>
                  </a:lnTo>
                  <a:lnTo>
                    <a:pt x="387" y="244"/>
                  </a:lnTo>
                  <a:lnTo>
                    <a:pt x="380" y="248"/>
                  </a:lnTo>
                  <a:lnTo>
                    <a:pt x="372" y="250"/>
                  </a:lnTo>
                  <a:lnTo>
                    <a:pt x="363" y="252"/>
                  </a:lnTo>
                  <a:lnTo>
                    <a:pt x="357" y="256"/>
                  </a:lnTo>
                  <a:lnTo>
                    <a:pt x="350" y="247"/>
                  </a:lnTo>
                  <a:lnTo>
                    <a:pt x="349" y="240"/>
                  </a:lnTo>
                  <a:lnTo>
                    <a:pt x="340" y="243"/>
                  </a:lnTo>
                  <a:lnTo>
                    <a:pt x="333" y="246"/>
                  </a:lnTo>
                  <a:lnTo>
                    <a:pt x="324" y="248"/>
                  </a:lnTo>
                  <a:lnTo>
                    <a:pt x="315" y="247"/>
                  </a:lnTo>
                  <a:lnTo>
                    <a:pt x="315" y="240"/>
                  </a:lnTo>
                  <a:lnTo>
                    <a:pt x="313" y="233"/>
                  </a:lnTo>
                  <a:lnTo>
                    <a:pt x="310" y="225"/>
                  </a:lnTo>
                  <a:lnTo>
                    <a:pt x="297" y="227"/>
                  </a:lnTo>
                  <a:lnTo>
                    <a:pt x="288" y="227"/>
                  </a:lnTo>
                  <a:lnTo>
                    <a:pt x="281" y="221"/>
                  </a:lnTo>
                  <a:lnTo>
                    <a:pt x="277" y="215"/>
                  </a:lnTo>
                  <a:lnTo>
                    <a:pt x="267" y="213"/>
                  </a:lnTo>
                  <a:lnTo>
                    <a:pt x="226" y="177"/>
                  </a:lnTo>
                  <a:lnTo>
                    <a:pt x="245" y="217"/>
                  </a:lnTo>
                  <a:lnTo>
                    <a:pt x="236" y="217"/>
                  </a:lnTo>
                  <a:lnTo>
                    <a:pt x="227" y="213"/>
                  </a:lnTo>
                  <a:lnTo>
                    <a:pt x="219" y="211"/>
                  </a:lnTo>
                  <a:lnTo>
                    <a:pt x="209" y="209"/>
                  </a:lnTo>
                  <a:lnTo>
                    <a:pt x="200" y="210"/>
                  </a:lnTo>
                  <a:lnTo>
                    <a:pt x="191" y="215"/>
                  </a:lnTo>
                  <a:lnTo>
                    <a:pt x="184" y="218"/>
                  </a:lnTo>
                  <a:lnTo>
                    <a:pt x="176" y="219"/>
                  </a:lnTo>
                  <a:lnTo>
                    <a:pt x="166" y="223"/>
                  </a:lnTo>
                  <a:lnTo>
                    <a:pt x="158" y="230"/>
                  </a:lnTo>
                  <a:lnTo>
                    <a:pt x="150" y="234"/>
                  </a:lnTo>
                  <a:lnTo>
                    <a:pt x="139" y="242"/>
                  </a:lnTo>
                  <a:lnTo>
                    <a:pt x="133" y="247"/>
                  </a:lnTo>
                  <a:lnTo>
                    <a:pt x="122" y="248"/>
                  </a:lnTo>
                  <a:lnTo>
                    <a:pt x="111" y="253"/>
                  </a:lnTo>
                  <a:lnTo>
                    <a:pt x="102" y="252"/>
                  </a:lnTo>
                  <a:lnTo>
                    <a:pt x="91" y="247"/>
                  </a:lnTo>
                  <a:lnTo>
                    <a:pt x="82" y="245"/>
                  </a:lnTo>
                  <a:lnTo>
                    <a:pt x="74" y="244"/>
                  </a:lnTo>
                  <a:lnTo>
                    <a:pt x="63" y="244"/>
                  </a:lnTo>
                  <a:lnTo>
                    <a:pt x="49" y="244"/>
                  </a:lnTo>
                  <a:lnTo>
                    <a:pt x="43" y="238"/>
                  </a:lnTo>
                  <a:lnTo>
                    <a:pt x="36" y="232"/>
                  </a:lnTo>
                  <a:lnTo>
                    <a:pt x="36" y="221"/>
                  </a:lnTo>
                  <a:lnTo>
                    <a:pt x="32" y="217"/>
                  </a:lnTo>
                  <a:lnTo>
                    <a:pt x="26" y="209"/>
                  </a:lnTo>
                  <a:lnTo>
                    <a:pt x="22" y="204"/>
                  </a:lnTo>
                  <a:lnTo>
                    <a:pt x="18" y="197"/>
                  </a:lnTo>
                  <a:lnTo>
                    <a:pt x="0" y="193"/>
                  </a:lnTo>
                  <a:lnTo>
                    <a:pt x="14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62120" y="2533680"/>
            <a:ext cx="78483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25520"/>
            <a:ext cx="8096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lth effect estimates per 10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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/m3 increase in 24-h mean PM10 concent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57160" y="1581120"/>
          <a:ext cx="7639200" cy="4438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1581120"/>
                    <a:ext cx="763920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789240" y="6095880"/>
            <a:ext cx="19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Source: WHO AQG 2</a:t>
            </a:r>
            <a:r>
              <a:rPr b="0" i="1" lang="en-US" sz="12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 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d8a"/>
            </a:gs>
            <a:gs pos="50000">
              <a:srgbClr val="0f219b"/>
            </a:gs>
            <a:gs pos="100000">
              <a:srgbClr val="0d1d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28600" y="557280"/>
            <a:ext cx="8120160" cy="6118200"/>
            <a:chOff x="228600" y="557280"/>
            <a:chExt cx="8120160" cy="6118200"/>
          </a:xfrm>
        </p:grpSpPr>
        <p:sp>
          <p:nvSpPr>
            <p:cNvPr id="179" name=""/>
            <p:cNvSpPr/>
            <p:nvPr/>
          </p:nvSpPr>
          <p:spPr>
            <a:xfrm>
              <a:off x="2662200" y="20638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2" y="77"/>
                  </a:moveTo>
                  <a:lnTo>
                    <a:pt x="2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2" y="125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5" y="174"/>
                  </a:lnTo>
                  <a:lnTo>
                    <a:pt x="31" y="182"/>
                  </a:lnTo>
                  <a:lnTo>
                    <a:pt x="40" y="182"/>
                  </a:lnTo>
                  <a:lnTo>
                    <a:pt x="48" y="182"/>
                  </a:lnTo>
                  <a:lnTo>
                    <a:pt x="60" y="191"/>
                  </a:lnTo>
                  <a:lnTo>
                    <a:pt x="71" y="196"/>
                  </a:lnTo>
                  <a:lnTo>
                    <a:pt x="71" y="205"/>
                  </a:lnTo>
                  <a:lnTo>
                    <a:pt x="74" y="214"/>
                  </a:lnTo>
                  <a:lnTo>
                    <a:pt x="83" y="214"/>
                  </a:lnTo>
                  <a:lnTo>
                    <a:pt x="91" y="214"/>
                  </a:lnTo>
                  <a:lnTo>
                    <a:pt x="100" y="214"/>
                  </a:lnTo>
                  <a:lnTo>
                    <a:pt x="109" y="214"/>
                  </a:lnTo>
                  <a:lnTo>
                    <a:pt x="117" y="214"/>
                  </a:lnTo>
                  <a:lnTo>
                    <a:pt x="126" y="214"/>
                  </a:lnTo>
                  <a:lnTo>
                    <a:pt x="137" y="208"/>
                  </a:lnTo>
                  <a:lnTo>
                    <a:pt x="149" y="202"/>
                  </a:lnTo>
                  <a:lnTo>
                    <a:pt x="149" y="194"/>
                  </a:lnTo>
                  <a:lnTo>
                    <a:pt x="146" y="185"/>
                  </a:lnTo>
                  <a:lnTo>
                    <a:pt x="146" y="176"/>
                  </a:lnTo>
                  <a:lnTo>
                    <a:pt x="155" y="168"/>
                  </a:lnTo>
                  <a:lnTo>
                    <a:pt x="158" y="159"/>
                  </a:lnTo>
                  <a:lnTo>
                    <a:pt x="158" y="151"/>
                  </a:lnTo>
                  <a:lnTo>
                    <a:pt x="155" y="142"/>
                  </a:lnTo>
                  <a:lnTo>
                    <a:pt x="155" y="134"/>
                  </a:lnTo>
                  <a:lnTo>
                    <a:pt x="146" y="134"/>
                  </a:lnTo>
                  <a:lnTo>
                    <a:pt x="137" y="134"/>
                  </a:lnTo>
                  <a:lnTo>
                    <a:pt x="135" y="125"/>
                  </a:lnTo>
                  <a:lnTo>
                    <a:pt x="129" y="116"/>
                  </a:lnTo>
                  <a:lnTo>
                    <a:pt x="120" y="114"/>
                  </a:lnTo>
                  <a:lnTo>
                    <a:pt x="114" y="105"/>
                  </a:lnTo>
                  <a:lnTo>
                    <a:pt x="114" y="97"/>
                  </a:lnTo>
                  <a:lnTo>
                    <a:pt x="106" y="94"/>
                  </a:lnTo>
                  <a:lnTo>
                    <a:pt x="97" y="94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89" y="71"/>
                  </a:lnTo>
                  <a:lnTo>
                    <a:pt x="80" y="68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83" y="45"/>
                  </a:lnTo>
                  <a:lnTo>
                    <a:pt x="94" y="45"/>
                  </a:lnTo>
                  <a:lnTo>
                    <a:pt x="103" y="39"/>
                  </a:lnTo>
                  <a:lnTo>
                    <a:pt x="106" y="31"/>
                  </a:lnTo>
                  <a:lnTo>
                    <a:pt x="103" y="22"/>
                  </a:lnTo>
                  <a:lnTo>
                    <a:pt x="94" y="22"/>
                  </a:lnTo>
                  <a:lnTo>
                    <a:pt x="86" y="14"/>
                  </a:lnTo>
                  <a:lnTo>
                    <a:pt x="77" y="11"/>
                  </a:lnTo>
                  <a:lnTo>
                    <a:pt x="68" y="11"/>
                  </a:lnTo>
                  <a:lnTo>
                    <a:pt x="54" y="0"/>
                  </a:lnTo>
                  <a:lnTo>
                    <a:pt x="51" y="8"/>
                  </a:lnTo>
                  <a:lnTo>
                    <a:pt x="60" y="14"/>
                  </a:lnTo>
                  <a:lnTo>
                    <a:pt x="63" y="22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7" y="45"/>
                  </a:lnTo>
                  <a:lnTo>
                    <a:pt x="45" y="45"/>
                  </a:lnTo>
                  <a:lnTo>
                    <a:pt x="40" y="37"/>
                  </a:lnTo>
                  <a:lnTo>
                    <a:pt x="34" y="28"/>
                  </a:lnTo>
                  <a:lnTo>
                    <a:pt x="31" y="37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5" y="62"/>
                  </a:lnTo>
                  <a:lnTo>
                    <a:pt x="17" y="68"/>
                  </a:lnTo>
                  <a:lnTo>
                    <a:pt x="2" y="77"/>
                  </a:lnTo>
                  <a:lnTo>
                    <a:pt x="2" y="7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85760" y="557280"/>
              <a:ext cx="6975720" cy="5226120"/>
            </a:xfrm>
            <a:custGeom>
              <a:avLst/>
              <a:gdLst/>
              <a:ahLst/>
              <a:rect l="l" t="t" r="r" b="b"/>
              <a:pathLst>
                <a:path w="4394" h="3292">
                  <a:moveTo>
                    <a:pt x="4183" y="665"/>
                  </a:moveTo>
                  <a:lnTo>
                    <a:pt x="4174" y="685"/>
                  </a:lnTo>
                  <a:lnTo>
                    <a:pt x="4165" y="680"/>
                  </a:lnTo>
                  <a:lnTo>
                    <a:pt x="4154" y="671"/>
                  </a:lnTo>
                  <a:lnTo>
                    <a:pt x="4145" y="665"/>
                  </a:lnTo>
                  <a:lnTo>
                    <a:pt x="4136" y="657"/>
                  </a:lnTo>
                  <a:lnTo>
                    <a:pt x="4128" y="648"/>
                  </a:lnTo>
                  <a:lnTo>
                    <a:pt x="4122" y="639"/>
                  </a:lnTo>
                  <a:lnTo>
                    <a:pt x="4110" y="631"/>
                  </a:lnTo>
                  <a:lnTo>
                    <a:pt x="4104" y="622"/>
                  </a:lnTo>
                  <a:lnTo>
                    <a:pt x="4098" y="613"/>
                  </a:lnTo>
                  <a:lnTo>
                    <a:pt x="4093" y="605"/>
                  </a:lnTo>
                  <a:lnTo>
                    <a:pt x="4084" y="596"/>
                  </a:lnTo>
                  <a:lnTo>
                    <a:pt x="4075" y="593"/>
                  </a:lnTo>
                  <a:lnTo>
                    <a:pt x="4066" y="590"/>
                  </a:lnTo>
                  <a:lnTo>
                    <a:pt x="4058" y="587"/>
                  </a:lnTo>
                  <a:lnTo>
                    <a:pt x="4049" y="585"/>
                  </a:lnTo>
                  <a:lnTo>
                    <a:pt x="4037" y="585"/>
                  </a:lnTo>
                  <a:lnTo>
                    <a:pt x="4029" y="582"/>
                  </a:lnTo>
                  <a:lnTo>
                    <a:pt x="4023" y="573"/>
                  </a:lnTo>
                  <a:lnTo>
                    <a:pt x="4020" y="564"/>
                  </a:lnTo>
                  <a:lnTo>
                    <a:pt x="4011" y="556"/>
                  </a:lnTo>
                  <a:lnTo>
                    <a:pt x="4002" y="550"/>
                  </a:lnTo>
                  <a:lnTo>
                    <a:pt x="4002" y="541"/>
                  </a:lnTo>
                  <a:lnTo>
                    <a:pt x="3994" y="538"/>
                  </a:lnTo>
                  <a:lnTo>
                    <a:pt x="3982" y="538"/>
                  </a:lnTo>
                  <a:lnTo>
                    <a:pt x="3973" y="538"/>
                  </a:lnTo>
                  <a:lnTo>
                    <a:pt x="3965" y="538"/>
                  </a:lnTo>
                  <a:lnTo>
                    <a:pt x="3953" y="538"/>
                  </a:lnTo>
                  <a:lnTo>
                    <a:pt x="3947" y="530"/>
                  </a:lnTo>
                  <a:lnTo>
                    <a:pt x="3947" y="521"/>
                  </a:lnTo>
                  <a:lnTo>
                    <a:pt x="3938" y="512"/>
                  </a:lnTo>
                  <a:lnTo>
                    <a:pt x="3930" y="504"/>
                  </a:lnTo>
                  <a:lnTo>
                    <a:pt x="3930" y="495"/>
                  </a:lnTo>
                  <a:lnTo>
                    <a:pt x="3927" y="484"/>
                  </a:lnTo>
                  <a:lnTo>
                    <a:pt x="3918" y="481"/>
                  </a:lnTo>
                  <a:lnTo>
                    <a:pt x="3909" y="481"/>
                  </a:lnTo>
                  <a:lnTo>
                    <a:pt x="3901" y="481"/>
                  </a:lnTo>
                  <a:lnTo>
                    <a:pt x="3892" y="481"/>
                  </a:lnTo>
                  <a:lnTo>
                    <a:pt x="3883" y="481"/>
                  </a:lnTo>
                  <a:lnTo>
                    <a:pt x="3871" y="481"/>
                  </a:lnTo>
                  <a:lnTo>
                    <a:pt x="3863" y="481"/>
                  </a:lnTo>
                  <a:lnTo>
                    <a:pt x="3851" y="478"/>
                  </a:lnTo>
                  <a:lnTo>
                    <a:pt x="3842" y="472"/>
                  </a:lnTo>
                  <a:lnTo>
                    <a:pt x="3842" y="463"/>
                  </a:lnTo>
                  <a:lnTo>
                    <a:pt x="3842" y="455"/>
                  </a:lnTo>
                  <a:lnTo>
                    <a:pt x="3834" y="446"/>
                  </a:lnTo>
                  <a:lnTo>
                    <a:pt x="3825" y="446"/>
                  </a:lnTo>
                  <a:lnTo>
                    <a:pt x="3819" y="455"/>
                  </a:lnTo>
                  <a:lnTo>
                    <a:pt x="3810" y="458"/>
                  </a:lnTo>
                  <a:lnTo>
                    <a:pt x="3802" y="461"/>
                  </a:lnTo>
                  <a:lnTo>
                    <a:pt x="3793" y="461"/>
                  </a:lnTo>
                  <a:lnTo>
                    <a:pt x="3784" y="461"/>
                  </a:lnTo>
                  <a:lnTo>
                    <a:pt x="3775" y="461"/>
                  </a:lnTo>
                  <a:lnTo>
                    <a:pt x="3764" y="455"/>
                  </a:lnTo>
                  <a:lnTo>
                    <a:pt x="3755" y="452"/>
                  </a:lnTo>
                  <a:lnTo>
                    <a:pt x="3752" y="461"/>
                  </a:lnTo>
                  <a:lnTo>
                    <a:pt x="3755" y="469"/>
                  </a:lnTo>
                  <a:lnTo>
                    <a:pt x="3764" y="472"/>
                  </a:lnTo>
                  <a:lnTo>
                    <a:pt x="3755" y="475"/>
                  </a:lnTo>
                  <a:lnTo>
                    <a:pt x="3746" y="475"/>
                  </a:lnTo>
                  <a:lnTo>
                    <a:pt x="3737" y="478"/>
                  </a:lnTo>
                  <a:lnTo>
                    <a:pt x="3729" y="478"/>
                  </a:lnTo>
                  <a:lnTo>
                    <a:pt x="3720" y="478"/>
                  </a:lnTo>
                  <a:lnTo>
                    <a:pt x="3711" y="472"/>
                  </a:lnTo>
                  <a:lnTo>
                    <a:pt x="3703" y="463"/>
                  </a:lnTo>
                  <a:lnTo>
                    <a:pt x="3694" y="455"/>
                  </a:lnTo>
                  <a:lnTo>
                    <a:pt x="3685" y="452"/>
                  </a:lnTo>
                  <a:lnTo>
                    <a:pt x="3676" y="452"/>
                  </a:lnTo>
                  <a:lnTo>
                    <a:pt x="3668" y="449"/>
                  </a:lnTo>
                  <a:lnTo>
                    <a:pt x="3656" y="449"/>
                  </a:lnTo>
                  <a:lnTo>
                    <a:pt x="3647" y="449"/>
                  </a:lnTo>
                  <a:lnTo>
                    <a:pt x="3638" y="449"/>
                  </a:lnTo>
                  <a:lnTo>
                    <a:pt x="3636" y="440"/>
                  </a:lnTo>
                  <a:lnTo>
                    <a:pt x="3636" y="432"/>
                  </a:lnTo>
                  <a:lnTo>
                    <a:pt x="3630" y="423"/>
                  </a:lnTo>
                  <a:lnTo>
                    <a:pt x="3638" y="423"/>
                  </a:lnTo>
                  <a:lnTo>
                    <a:pt x="3636" y="414"/>
                  </a:lnTo>
                  <a:lnTo>
                    <a:pt x="3627" y="412"/>
                  </a:lnTo>
                  <a:lnTo>
                    <a:pt x="3618" y="409"/>
                  </a:lnTo>
                  <a:lnTo>
                    <a:pt x="3615" y="400"/>
                  </a:lnTo>
                  <a:lnTo>
                    <a:pt x="3609" y="391"/>
                  </a:lnTo>
                  <a:lnTo>
                    <a:pt x="3618" y="391"/>
                  </a:lnTo>
                  <a:lnTo>
                    <a:pt x="3627" y="391"/>
                  </a:lnTo>
                  <a:lnTo>
                    <a:pt x="3633" y="383"/>
                  </a:lnTo>
                  <a:lnTo>
                    <a:pt x="3624" y="377"/>
                  </a:lnTo>
                  <a:lnTo>
                    <a:pt x="3615" y="374"/>
                  </a:lnTo>
                  <a:lnTo>
                    <a:pt x="3606" y="363"/>
                  </a:lnTo>
                  <a:lnTo>
                    <a:pt x="3604" y="354"/>
                  </a:lnTo>
                  <a:lnTo>
                    <a:pt x="3598" y="345"/>
                  </a:lnTo>
                  <a:lnTo>
                    <a:pt x="3592" y="337"/>
                  </a:lnTo>
                  <a:lnTo>
                    <a:pt x="3583" y="322"/>
                  </a:lnTo>
                  <a:lnTo>
                    <a:pt x="3577" y="314"/>
                  </a:lnTo>
                  <a:lnTo>
                    <a:pt x="3586" y="305"/>
                  </a:lnTo>
                  <a:lnTo>
                    <a:pt x="3592" y="296"/>
                  </a:lnTo>
                  <a:lnTo>
                    <a:pt x="3595" y="288"/>
                  </a:lnTo>
                  <a:lnTo>
                    <a:pt x="3595" y="279"/>
                  </a:lnTo>
                  <a:lnTo>
                    <a:pt x="3586" y="276"/>
                  </a:lnTo>
                  <a:lnTo>
                    <a:pt x="3577" y="276"/>
                  </a:lnTo>
                  <a:lnTo>
                    <a:pt x="3569" y="276"/>
                  </a:lnTo>
                  <a:lnTo>
                    <a:pt x="3557" y="270"/>
                  </a:lnTo>
                  <a:lnTo>
                    <a:pt x="3548" y="259"/>
                  </a:lnTo>
                  <a:lnTo>
                    <a:pt x="3540" y="253"/>
                  </a:lnTo>
                  <a:lnTo>
                    <a:pt x="3531" y="250"/>
                  </a:lnTo>
                  <a:lnTo>
                    <a:pt x="3522" y="244"/>
                  </a:lnTo>
                  <a:lnTo>
                    <a:pt x="3510" y="236"/>
                  </a:lnTo>
                  <a:lnTo>
                    <a:pt x="3502" y="233"/>
                  </a:lnTo>
                  <a:lnTo>
                    <a:pt x="3493" y="227"/>
                  </a:lnTo>
                  <a:lnTo>
                    <a:pt x="3484" y="224"/>
                  </a:lnTo>
                  <a:lnTo>
                    <a:pt x="3475" y="219"/>
                  </a:lnTo>
                  <a:lnTo>
                    <a:pt x="3467" y="213"/>
                  </a:lnTo>
                  <a:lnTo>
                    <a:pt x="3458" y="207"/>
                  </a:lnTo>
                  <a:lnTo>
                    <a:pt x="3449" y="198"/>
                  </a:lnTo>
                  <a:lnTo>
                    <a:pt x="3441" y="193"/>
                  </a:lnTo>
                  <a:lnTo>
                    <a:pt x="3432" y="187"/>
                  </a:lnTo>
                  <a:lnTo>
                    <a:pt x="3423" y="184"/>
                  </a:lnTo>
                  <a:lnTo>
                    <a:pt x="3414" y="178"/>
                  </a:lnTo>
                  <a:lnTo>
                    <a:pt x="3406" y="172"/>
                  </a:lnTo>
                  <a:lnTo>
                    <a:pt x="3400" y="164"/>
                  </a:lnTo>
                  <a:lnTo>
                    <a:pt x="3397" y="155"/>
                  </a:lnTo>
                  <a:lnTo>
                    <a:pt x="3394" y="146"/>
                  </a:lnTo>
                  <a:lnTo>
                    <a:pt x="3388" y="138"/>
                  </a:lnTo>
                  <a:lnTo>
                    <a:pt x="3382" y="129"/>
                  </a:lnTo>
                  <a:lnTo>
                    <a:pt x="3388" y="121"/>
                  </a:lnTo>
                  <a:lnTo>
                    <a:pt x="3379" y="121"/>
                  </a:lnTo>
                  <a:lnTo>
                    <a:pt x="3371" y="121"/>
                  </a:lnTo>
                  <a:lnTo>
                    <a:pt x="3362" y="121"/>
                  </a:lnTo>
                  <a:lnTo>
                    <a:pt x="3359" y="129"/>
                  </a:lnTo>
                  <a:lnTo>
                    <a:pt x="3353" y="138"/>
                  </a:lnTo>
                  <a:lnTo>
                    <a:pt x="3347" y="146"/>
                  </a:lnTo>
                  <a:lnTo>
                    <a:pt x="3339" y="152"/>
                  </a:lnTo>
                  <a:lnTo>
                    <a:pt x="3327" y="158"/>
                  </a:lnTo>
                  <a:lnTo>
                    <a:pt x="3318" y="158"/>
                  </a:lnTo>
                  <a:lnTo>
                    <a:pt x="3310" y="167"/>
                  </a:lnTo>
                  <a:lnTo>
                    <a:pt x="3307" y="175"/>
                  </a:lnTo>
                  <a:lnTo>
                    <a:pt x="3307" y="184"/>
                  </a:lnTo>
                  <a:lnTo>
                    <a:pt x="3304" y="193"/>
                  </a:lnTo>
                  <a:lnTo>
                    <a:pt x="3295" y="195"/>
                  </a:lnTo>
                  <a:lnTo>
                    <a:pt x="3295" y="204"/>
                  </a:lnTo>
                  <a:lnTo>
                    <a:pt x="3298" y="213"/>
                  </a:lnTo>
                  <a:lnTo>
                    <a:pt x="3304" y="221"/>
                  </a:lnTo>
                  <a:lnTo>
                    <a:pt x="3310" y="230"/>
                  </a:lnTo>
                  <a:lnTo>
                    <a:pt x="3315" y="239"/>
                  </a:lnTo>
                  <a:lnTo>
                    <a:pt x="3318" y="250"/>
                  </a:lnTo>
                  <a:lnTo>
                    <a:pt x="3321" y="259"/>
                  </a:lnTo>
                  <a:lnTo>
                    <a:pt x="3321" y="247"/>
                  </a:lnTo>
                  <a:lnTo>
                    <a:pt x="3318" y="239"/>
                  </a:lnTo>
                  <a:lnTo>
                    <a:pt x="3315" y="230"/>
                  </a:lnTo>
                  <a:lnTo>
                    <a:pt x="3307" y="224"/>
                  </a:lnTo>
                  <a:lnTo>
                    <a:pt x="3298" y="216"/>
                  </a:lnTo>
                  <a:lnTo>
                    <a:pt x="3292" y="207"/>
                  </a:lnTo>
                  <a:lnTo>
                    <a:pt x="3292" y="198"/>
                  </a:lnTo>
                  <a:lnTo>
                    <a:pt x="3295" y="190"/>
                  </a:lnTo>
                  <a:lnTo>
                    <a:pt x="3292" y="181"/>
                  </a:lnTo>
                  <a:lnTo>
                    <a:pt x="3283" y="172"/>
                  </a:lnTo>
                  <a:lnTo>
                    <a:pt x="3275" y="170"/>
                  </a:lnTo>
                  <a:lnTo>
                    <a:pt x="3266" y="164"/>
                  </a:lnTo>
                  <a:lnTo>
                    <a:pt x="3257" y="161"/>
                  </a:lnTo>
                  <a:lnTo>
                    <a:pt x="3245" y="155"/>
                  </a:lnTo>
                  <a:lnTo>
                    <a:pt x="3237" y="155"/>
                  </a:lnTo>
                  <a:lnTo>
                    <a:pt x="3228" y="155"/>
                  </a:lnTo>
                  <a:lnTo>
                    <a:pt x="3219" y="155"/>
                  </a:lnTo>
                  <a:lnTo>
                    <a:pt x="3213" y="164"/>
                  </a:lnTo>
                  <a:lnTo>
                    <a:pt x="3208" y="172"/>
                  </a:lnTo>
                  <a:lnTo>
                    <a:pt x="3196" y="175"/>
                  </a:lnTo>
                  <a:lnTo>
                    <a:pt x="3184" y="175"/>
                  </a:lnTo>
                  <a:lnTo>
                    <a:pt x="3173" y="175"/>
                  </a:lnTo>
                  <a:lnTo>
                    <a:pt x="3167" y="167"/>
                  </a:lnTo>
                  <a:lnTo>
                    <a:pt x="3179" y="161"/>
                  </a:lnTo>
                  <a:lnTo>
                    <a:pt x="3187" y="161"/>
                  </a:lnTo>
                  <a:lnTo>
                    <a:pt x="3196" y="161"/>
                  </a:lnTo>
                  <a:lnTo>
                    <a:pt x="3205" y="155"/>
                  </a:lnTo>
                  <a:lnTo>
                    <a:pt x="3208" y="146"/>
                  </a:lnTo>
                  <a:lnTo>
                    <a:pt x="3208" y="138"/>
                  </a:lnTo>
                  <a:lnTo>
                    <a:pt x="3205" y="129"/>
                  </a:lnTo>
                  <a:lnTo>
                    <a:pt x="3199" y="121"/>
                  </a:lnTo>
                  <a:lnTo>
                    <a:pt x="3190" y="112"/>
                  </a:lnTo>
                  <a:lnTo>
                    <a:pt x="3184" y="103"/>
                  </a:lnTo>
                  <a:lnTo>
                    <a:pt x="3193" y="97"/>
                  </a:lnTo>
                  <a:lnTo>
                    <a:pt x="3202" y="92"/>
                  </a:lnTo>
                  <a:lnTo>
                    <a:pt x="3205" y="83"/>
                  </a:lnTo>
                  <a:lnTo>
                    <a:pt x="3208" y="74"/>
                  </a:lnTo>
                  <a:lnTo>
                    <a:pt x="3208" y="66"/>
                  </a:lnTo>
                  <a:lnTo>
                    <a:pt x="3202" y="57"/>
                  </a:lnTo>
                  <a:lnTo>
                    <a:pt x="3199" y="48"/>
                  </a:lnTo>
                  <a:lnTo>
                    <a:pt x="3199" y="40"/>
                  </a:lnTo>
                  <a:lnTo>
                    <a:pt x="3199" y="31"/>
                  </a:lnTo>
                  <a:lnTo>
                    <a:pt x="3196" y="23"/>
                  </a:lnTo>
                  <a:lnTo>
                    <a:pt x="3190" y="14"/>
                  </a:lnTo>
                  <a:lnTo>
                    <a:pt x="3184" y="5"/>
                  </a:lnTo>
                  <a:lnTo>
                    <a:pt x="3176" y="0"/>
                  </a:lnTo>
                  <a:lnTo>
                    <a:pt x="3167" y="2"/>
                  </a:lnTo>
                  <a:lnTo>
                    <a:pt x="3158" y="8"/>
                  </a:lnTo>
                  <a:lnTo>
                    <a:pt x="3149" y="14"/>
                  </a:lnTo>
                  <a:lnTo>
                    <a:pt x="3141" y="17"/>
                  </a:lnTo>
                  <a:lnTo>
                    <a:pt x="3132" y="23"/>
                  </a:lnTo>
                  <a:lnTo>
                    <a:pt x="3132" y="31"/>
                  </a:lnTo>
                  <a:lnTo>
                    <a:pt x="3123" y="25"/>
                  </a:lnTo>
                  <a:lnTo>
                    <a:pt x="3114" y="17"/>
                  </a:lnTo>
                  <a:lnTo>
                    <a:pt x="3106" y="14"/>
                  </a:lnTo>
                  <a:lnTo>
                    <a:pt x="3097" y="14"/>
                  </a:lnTo>
                  <a:lnTo>
                    <a:pt x="3088" y="14"/>
                  </a:lnTo>
                  <a:lnTo>
                    <a:pt x="3080" y="14"/>
                  </a:lnTo>
                  <a:lnTo>
                    <a:pt x="3071" y="14"/>
                  </a:lnTo>
                  <a:lnTo>
                    <a:pt x="3071" y="23"/>
                  </a:lnTo>
                  <a:lnTo>
                    <a:pt x="3071" y="31"/>
                  </a:lnTo>
                  <a:lnTo>
                    <a:pt x="3071" y="40"/>
                  </a:lnTo>
                  <a:lnTo>
                    <a:pt x="3068" y="48"/>
                  </a:lnTo>
                  <a:lnTo>
                    <a:pt x="3062" y="57"/>
                  </a:lnTo>
                  <a:lnTo>
                    <a:pt x="3059" y="66"/>
                  </a:lnTo>
                  <a:lnTo>
                    <a:pt x="3059" y="74"/>
                  </a:lnTo>
                  <a:lnTo>
                    <a:pt x="3059" y="83"/>
                  </a:lnTo>
                  <a:lnTo>
                    <a:pt x="3068" y="89"/>
                  </a:lnTo>
                  <a:lnTo>
                    <a:pt x="3077" y="92"/>
                  </a:lnTo>
                  <a:lnTo>
                    <a:pt x="3085" y="97"/>
                  </a:lnTo>
                  <a:lnTo>
                    <a:pt x="3097" y="103"/>
                  </a:lnTo>
                  <a:lnTo>
                    <a:pt x="3106" y="103"/>
                  </a:lnTo>
                  <a:lnTo>
                    <a:pt x="3114" y="103"/>
                  </a:lnTo>
                  <a:lnTo>
                    <a:pt x="3114" y="95"/>
                  </a:lnTo>
                  <a:lnTo>
                    <a:pt x="3123" y="95"/>
                  </a:lnTo>
                  <a:lnTo>
                    <a:pt x="3114" y="103"/>
                  </a:lnTo>
                  <a:lnTo>
                    <a:pt x="3106" y="103"/>
                  </a:lnTo>
                  <a:lnTo>
                    <a:pt x="3097" y="103"/>
                  </a:lnTo>
                  <a:lnTo>
                    <a:pt x="3088" y="109"/>
                  </a:lnTo>
                  <a:lnTo>
                    <a:pt x="3085" y="118"/>
                  </a:lnTo>
                  <a:lnTo>
                    <a:pt x="3085" y="126"/>
                  </a:lnTo>
                  <a:lnTo>
                    <a:pt x="3080" y="135"/>
                  </a:lnTo>
                  <a:lnTo>
                    <a:pt x="3088" y="138"/>
                  </a:lnTo>
                  <a:lnTo>
                    <a:pt x="3082" y="146"/>
                  </a:lnTo>
                  <a:lnTo>
                    <a:pt x="3080" y="155"/>
                  </a:lnTo>
                  <a:lnTo>
                    <a:pt x="3074" y="164"/>
                  </a:lnTo>
                  <a:lnTo>
                    <a:pt x="3074" y="172"/>
                  </a:lnTo>
                  <a:lnTo>
                    <a:pt x="3074" y="181"/>
                  </a:lnTo>
                  <a:lnTo>
                    <a:pt x="3074" y="190"/>
                  </a:lnTo>
                  <a:lnTo>
                    <a:pt x="3085" y="190"/>
                  </a:lnTo>
                  <a:lnTo>
                    <a:pt x="3094" y="190"/>
                  </a:lnTo>
                  <a:lnTo>
                    <a:pt x="3088" y="198"/>
                  </a:lnTo>
                  <a:lnTo>
                    <a:pt x="3080" y="204"/>
                  </a:lnTo>
                  <a:lnTo>
                    <a:pt x="3074" y="213"/>
                  </a:lnTo>
                  <a:lnTo>
                    <a:pt x="3071" y="221"/>
                  </a:lnTo>
                  <a:lnTo>
                    <a:pt x="3071" y="230"/>
                  </a:lnTo>
                  <a:lnTo>
                    <a:pt x="3071" y="239"/>
                  </a:lnTo>
                  <a:lnTo>
                    <a:pt x="3068" y="247"/>
                  </a:lnTo>
                  <a:lnTo>
                    <a:pt x="3062" y="256"/>
                  </a:lnTo>
                  <a:lnTo>
                    <a:pt x="3059" y="265"/>
                  </a:lnTo>
                  <a:lnTo>
                    <a:pt x="3059" y="273"/>
                  </a:lnTo>
                  <a:lnTo>
                    <a:pt x="3059" y="282"/>
                  </a:lnTo>
                  <a:lnTo>
                    <a:pt x="3059" y="291"/>
                  </a:lnTo>
                  <a:lnTo>
                    <a:pt x="3059" y="299"/>
                  </a:lnTo>
                  <a:lnTo>
                    <a:pt x="3059" y="311"/>
                  </a:lnTo>
                  <a:lnTo>
                    <a:pt x="3065" y="319"/>
                  </a:lnTo>
                  <a:lnTo>
                    <a:pt x="3074" y="325"/>
                  </a:lnTo>
                  <a:lnTo>
                    <a:pt x="3082" y="328"/>
                  </a:lnTo>
                  <a:lnTo>
                    <a:pt x="3082" y="337"/>
                  </a:lnTo>
                  <a:lnTo>
                    <a:pt x="3082" y="345"/>
                  </a:lnTo>
                  <a:lnTo>
                    <a:pt x="3085" y="354"/>
                  </a:lnTo>
                  <a:lnTo>
                    <a:pt x="3085" y="363"/>
                  </a:lnTo>
                  <a:lnTo>
                    <a:pt x="3088" y="371"/>
                  </a:lnTo>
                  <a:lnTo>
                    <a:pt x="3088" y="380"/>
                  </a:lnTo>
                  <a:lnTo>
                    <a:pt x="3091" y="389"/>
                  </a:lnTo>
                  <a:lnTo>
                    <a:pt x="3094" y="397"/>
                  </a:lnTo>
                  <a:lnTo>
                    <a:pt x="3097" y="406"/>
                  </a:lnTo>
                  <a:lnTo>
                    <a:pt x="3109" y="412"/>
                  </a:lnTo>
                  <a:lnTo>
                    <a:pt x="3117" y="412"/>
                  </a:lnTo>
                  <a:lnTo>
                    <a:pt x="3126" y="412"/>
                  </a:lnTo>
                  <a:lnTo>
                    <a:pt x="3135" y="412"/>
                  </a:lnTo>
                  <a:lnTo>
                    <a:pt x="3135" y="403"/>
                  </a:lnTo>
                  <a:lnTo>
                    <a:pt x="3138" y="394"/>
                  </a:lnTo>
                  <a:lnTo>
                    <a:pt x="3147" y="391"/>
                  </a:lnTo>
                  <a:lnTo>
                    <a:pt x="3155" y="391"/>
                  </a:lnTo>
                  <a:lnTo>
                    <a:pt x="3164" y="394"/>
                  </a:lnTo>
                  <a:lnTo>
                    <a:pt x="3167" y="403"/>
                  </a:lnTo>
                  <a:lnTo>
                    <a:pt x="3167" y="412"/>
                  </a:lnTo>
                  <a:lnTo>
                    <a:pt x="3164" y="420"/>
                  </a:lnTo>
                  <a:lnTo>
                    <a:pt x="3155" y="423"/>
                  </a:lnTo>
                  <a:lnTo>
                    <a:pt x="3152" y="432"/>
                  </a:lnTo>
                  <a:lnTo>
                    <a:pt x="3144" y="438"/>
                  </a:lnTo>
                  <a:lnTo>
                    <a:pt x="3138" y="429"/>
                  </a:lnTo>
                  <a:lnTo>
                    <a:pt x="3129" y="420"/>
                  </a:lnTo>
                  <a:lnTo>
                    <a:pt x="3120" y="420"/>
                  </a:lnTo>
                  <a:lnTo>
                    <a:pt x="3114" y="429"/>
                  </a:lnTo>
                  <a:lnTo>
                    <a:pt x="3114" y="438"/>
                  </a:lnTo>
                  <a:lnTo>
                    <a:pt x="3114" y="446"/>
                  </a:lnTo>
                  <a:lnTo>
                    <a:pt x="3123" y="452"/>
                  </a:lnTo>
                  <a:lnTo>
                    <a:pt x="3132" y="452"/>
                  </a:lnTo>
                  <a:lnTo>
                    <a:pt x="3141" y="452"/>
                  </a:lnTo>
                  <a:lnTo>
                    <a:pt x="3135" y="461"/>
                  </a:lnTo>
                  <a:lnTo>
                    <a:pt x="3138" y="469"/>
                  </a:lnTo>
                  <a:lnTo>
                    <a:pt x="3147" y="472"/>
                  </a:lnTo>
                  <a:lnTo>
                    <a:pt x="3147" y="463"/>
                  </a:lnTo>
                  <a:lnTo>
                    <a:pt x="3144" y="455"/>
                  </a:lnTo>
                  <a:lnTo>
                    <a:pt x="3144" y="466"/>
                  </a:lnTo>
                  <a:lnTo>
                    <a:pt x="3144" y="475"/>
                  </a:lnTo>
                  <a:lnTo>
                    <a:pt x="3144" y="484"/>
                  </a:lnTo>
                  <a:lnTo>
                    <a:pt x="3144" y="492"/>
                  </a:lnTo>
                  <a:lnTo>
                    <a:pt x="3144" y="501"/>
                  </a:lnTo>
                  <a:lnTo>
                    <a:pt x="3144" y="510"/>
                  </a:lnTo>
                  <a:lnTo>
                    <a:pt x="3152" y="518"/>
                  </a:lnTo>
                  <a:lnTo>
                    <a:pt x="3161" y="527"/>
                  </a:lnTo>
                  <a:lnTo>
                    <a:pt x="3167" y="538"/>
                  </a:lnTo>
                  <a:lnTo>
                    <a:pt x="3176" y="544"/>
                  </a:lnTo>
                  <a:lnTo>
                    <a:pt x="3184" y="550"/>
                  </a:lnTo>
                  <a:lnTo>
                    <a:pt x="3196" y="550"/>
                  </a:lnTo>
                  <a:lnTo>
                    <a:pt x="3205" y="550"/>
                  </a:lnTo>
                  <a:lnTo>
                    <a:pt x="3213" y="550"/>
                  </a:lnTo>
                  <a:lnTo>
                    <a:pt x="3205" y="550"/>
                  </a:lnTo>
                  <a:lnTo>
                    <a:pt x="3193" y="550"/>
                  </a:lnTo>
                  <a:lnTo>
                    <a:pt x="3184" y="553"/>
                  </a:lnTo>
                  <a:lnTo>
                    <a:pt x="3179" y="561"/>
                  </a:lnTo>
                  <a:lnTo>
                    <a:pt x="3176" y="570"/>
                  </a:lnTo>
                  <a:lnTo>
                    <a:pt x="3173" y="579"/>
                  </a:lnTo>
                  <a:lnTo>
                    <a:pt x="3164" y="582"/>
                  </a:lnTo>
                  <a:lnTo>
                    <a:pt x="3155" y="582"/>
                  </a:lnTo>
                  <a:lnTo>
                    <a:pt x="3147" y="582"/>
                  </a:lnTo>
                  <a:lnTo>
                    <a:pt x="3132" y="576"/>
                  </a:lnTo>
                  <a:lnTo>
                    <a:pt x="3120" y="576"/>
                  </a:lnTo>
                  <a:lnTo>
                    <a:pt x="3109" y="576"/>
                  </a:lnTo>
                  <a:lnTo>
                    <a:pt x="3103" y="585"/>
                  </a:lnTo>
                  <a:lnTo>
                    <a:pt x="3100" y="593"/>
                  </a:lnTo>
                  <a:lnTo>
                    <a:pt x="3100" y="602"/>
                  </a:lnTo>
                  <a:lnTo>
                    <a:pt x="3100" y="610"/>
                  </a:lnTo>
                  <a:lnTo>
                    <a:pt x="3100" y="619"/>
                  </a:lnTo>
                  <a:lnTo>
                    <a:pt x="3100" y="628"/>
                  </a:lnTo>
                  <a:lnTo>
                    <a:pt x="3103" y="636"/>
                  </a:lnTo>
                  <a:lnTo>
                    <a:pt x="3106" y="645"/>
                  </a:lnTo>
                  <a:lnTo>
                    <a:pt x="3112" y="654"/>
                  </a:lnTo>
                  <a:lnTo>
                    <a:pt x="3117" y="662"/>
                  </a:lnTo>
                  <a:lnTo>
                    <a:pt x="3120" y="671"/>
                  </a:lnTo>
                  <a:lnTo>
                    <a:pt x="3123" y="680"/>
                  </a:lnTo>
                  <a:lnTo>
                    <a:pt x="3123" y="688"/>
                  </a:lnTo>
                  <a:lnTo>
                    <a:pt x="3123" y="697"/>
                  </a:lnTo>
                  <a:lnTo>
                    <a:pt x="3123" y="706"/>
                  </a:lnTo>
                  <a:lnTo>
                    <a:pt x="3114" y="711"/>
                  </a:lnTo>
                  <a:lnTo>
                    <a:pt x="3106" y="720"/>
                  </a:lnTo>
                  <a:lnTo>
                    <a:pt x="3103" y="729"/>
                  </a:lnTo>
                  <a:lnTo>
                    <a:pt x="3103" y="737"/>
                  </a:lnTo>
                  <a:lnTo>
                    <a:pt x="3094" y="740"/>
                  </a:lnTo>
                  <a:lnTo>
                    <a:pt x="3085" y="743"/>
                  </a:lnTo>
                  <a:lnTo>
                    <a:pt x="3077" y="746"/>
                  </a:lnTo>
                  <a:lnTo>
                    <a:pt x="3068" y="746"/>
                  </a:lnTo>
                  <a:lnTo>
                    <a:pt x="3059" y="752"/>
                  </a:lnTo>
                  <a:lnTo>
                    <a:pt x="3050" y="760"/>
                  </a:lnTo>
                  <a:lnTo>
                    <a:pt x="3050" y="769"/>
                  </a:lnTo>
                  <a:lnTo>
                    <a:pt x="3050" y="778"/>
                  </a:lnTo>
                  <a:lnTo>
                    <a:pt x="3056" y="786"/>
                  </a:lnTo>
                  <a:lnTo>
                    <a:pt x="3065" y="789"/>
                  </a:lnTo>
                  <a:lnTo>
                    <a:pt x="3074" y="795"/>
                  </a:lnTo>
                  <a:lnTo>
                    <a:pt x="3074" y="804"/>
                  </a:lnTo>
                  <a:lnTo>
                    <a:pt x="3062" y="806"/>
                  </a:lnTo>
                  <a:lnTo>
                    <a:pt x="3050" y="806"/>
                  </a:lnTo>
                  <a:lnTo>
                    <a:pt x="3053" y="798"/>
                  </a:lnTo>
                  <a:lnTo>
                    <a:pt x="3045" y="792"/>
                  </a:lnTo>
                  <a:lnTo>
                    <a:pt x="3036" y="798"/>
                  </a:lnTo>
                  <a:lnTo>
                    <a:pt x="3036" y="809"/>
                  </a:lnTo>
                  <a:lnTo>
                    <a:pt x="3036" y="818"/>
                  </a:lnTo>
                  <a:lnTo>
                    <a:pt x="3033" y="827"/>
                  </a:lnTo>
                  <a:lnTo>
                    <a:pt x="3030" y="835"/>
                  </a:lnTo>
                  <a:lnTo>
                    <a:pt x="3024" y="844"/>
                  </a:lnTo>
                  <a:lnTo>
                    <a:pt x="3016" y="853"/>
                  </a:lnTo>
                  <a:lnTo>
                    <a:pt x="3013" y="861"/>
                  </a:lnTo>
                  <a:lnTo>
                    <a:pt x="3021" y="864"/>
                  </a:lnTo>
                  <a:lnTo>
                    <a:pt x="3030" y="864"/>
                  </a:lnTo>
                  <a:lnTo>
                    <a:pt x="3033" y="873"/>
                  </a:lnTo>
                  <a:lnTo>
                    <a:pt x="3033" y="881"/>
                  </a:lnTo>
                  <a:lnTo>
                    <a:pt x="3042" y="890"/>
                  </a:lnTo>
                  <a:lnTo>
                    <a:pt x="3050" y="893"/>
                  </a:lnTo>
                  <a:lnTo>
                    <a:pt x="3062" y="893"/>
                  </a:lnTo>
                  <a:lnTo>
                    <a:pt x="3071" y="887"/>
                  </a:lnTo>
                  <a:lnTo>
                    <a:pt x="3080" y="887"/>
                  </a:lnTo>
                  <a:lnTo>
                    <a:pt x="3088" y="887"/>
                  </a:lnTo>
                  <a:lnTo>
                    <a:pt x="3085" y="896"/>
                  </a:lnTo>
                  <a:lnTo>
                    <a:pt x="3082" y="904"/>
                  </a:lnTo>
                  <a:lnTo>
                    <a:pt x="3080" y="913"/>
                  </a:lnTo>
                  <a:lnTo>
                    <a:pt x="3088" y="919"/>
                  </a:lnTo>
                  <a:lnTo>
                    <a:pt x="3088" y="927"/>
                  </a:lnTo>
                  <a:lnTo>
                    <a:pt x="3080" y="933"/>
                  </a:lnTo>
                  <a:lnTo>
                    <a:pt x="3077" y="942"/>
                  </a:lnTo>
                  <a:lnTo>
                    <a:pt x="3077" y="950"/>
                  </a:lnTo>
                  <a:lnTo>
                    <a:pt x="3074" y="959"/>
                  </a:lnTo>
                  <a:lnTo>
                    <a:pt x="3074" y="968"/>
                  </a:lnTo>
                  <a:lnTo>
                    <a:pt x="3077" y="959"/>
                  </a:lnTo>
                  <a:lnTo>
                    <a:pt x="3065" y="942"/>
                  </a:lnTo>
                  <a:lnTo>
                    <a:pt x="3071" y="962"/>
                  </a:lnTo>
                  <a:lnTo>
                    <a:pt x="3062" y="962"/>
                  </a:lnTo>
                  <a:lnTo>
                    <a:pt x="3074" y="968"/>
                  </a:lnTo>
                  <a:lnTo>
                    <a:pt x="3074" y="976"/>
                  </a:lnTo>
                  <a:lnTo>
                    <a:pt x="3059" y="976"/>
                  </a:lnTo>
                  <a:lnTo>
                    <a:pt x="3050" y="979"/>
                  </a:lnTo>
                  <a:lnTo>
                    <a:pt x="3039" y="979"/>
                  </a:lnTo>
                  <a:lnTo>
                    <a:pt x="3039" y="988"/>
                  </a:lnTo>
                  <a:lnTo>
                    <a:pt x="3048" y="991"/>
                  </a:lnTo>
                  <a:lnTo>
                    <a:pt x="3056" y="991"/>
                  </a:lnTo>
                  <a:lnTo>
                    <a:pt x="3065" y="997"/>
                  </a:lnTo>
                  <a:lnTo>
                    <a:pt x="3074" y="1005"/>
                  </a:lnTo>
                  <a:lnTo>
                    <a:pt x="3077" y="1014"/>
                  </a:lnTo>
                  <a:lnTo>
                    <a:pt x="3082" y="1023"/>
                  </a:lnTo>
                  <a:lnTo>
                    <a:pt x="3088" y="1031"/>
                  </a:lnTo>
                  <a:lnTo>
                    <a:pt x="3080" y="1034"/>
                  </a:lnTo>
                  <a:lnTo>
                    <a:pt x="3071" y="1034"/>
                  </a:lnTo>
                  <a:lnTo>
                    <a:pt x="3062" y="1040"/>
                  </a:lnTo>
                  <a:lnTo>
                    <a:pt x="3050" y="1043"/>
                  </a:lnTo>
                  <a:lnTo>
                    <a:pt x="3039" y="1046"/>
                  </a:lnTo>
                  <a:lnTo>
                    <a:pt x="3030" y="1046"/>
                  </a:lnTo>
                  <a:lnTo>
                    <a:pt x="3018" y="1046"/>
                  </a:lnTo>
                  <a:lnTo>
                    <a:pt x="3010" y="1037"/>
                  </a:lnTo>
                  <a:lnTo>
                    <a:pt x="3007" y="1028"/>
                  </a:lnTo>
                  <a:lnTo>
                    <a:pt x="3010" y="1020"/>
                  </a:lnTo>
                  <a:lnTo>
                    <a:pt x="3013" y="1011"/>
                  </a:lnTo>
                  <a:lnTo>
                    <a:pt x="3004" y="1011"/>
                  </a:lnTo>
                  <a:lnTo>
                    <a:pt x="2992" y="1008"/>
                  </a:lnTo>
                  <a:lnTo>
                    <a:pt x="2983" y="1008"/>
                  </a:lnTo>
                  <a:lnTo>
                    <a:pt x="2978" y="1017"/>
                  </a:lnTo>
                  <a:lnTo>
                    <a:pt x="2978" y="1025"/>
                  </a:lnTo>
                  <a:lnTo>
                    <a:pt x="2983" y="1034"/>
                  </a:lnTo>
                  <a:lnTo>
                    <a:pt x="2989" y="1043"/>
                  </a:lnTo>
                  <a:lnTo>
                    <a:pt x="2992" y="1051"/>
                  </a:lnTo>
                  <a:lnTo>
                    <a:pt x="3001" y="1054"/>
                  </a:lnTo>
                  <a:lnTo>
                    <a:pt x="3010" y="1060"/>
                  </a:lnTo>
                  <a:lnTo>
                    <a:pt x="3018" y="1063"/>
                  </a:lnTo>
                  <a:lnTo>
                    <a:pt x="3027" y="1063"/>
                  </a:lnTo>
                  <a:lnTo>
                    <a:pt x="3036" y="1060"/>
                  </a:lnTo>
                  <a:lnTo>
                    <a:pt x="3027" y="1060"/>
                  </a:lnTo>
                  <a:lnTo>
                    <a:pt x="3018" y="1057"/>
                  </a:lnTo>
                  <a:lnTo>
                    <a:pt x="3010" y="1054"/>
                  </a:lnTo>
                  <a:lnTo>
                    <a:pt x="3004" y="1046"/>
                  </a:lnTo>
                  <a:lnTo>
                    <a:pt x="2995" y="1040"/>
                  </a:lnTo>
                  <a:lnTo>
                    <a:pt x="2992" y="1031"/>
                  </a:lnTo>
                  <a:lnTo>
                    <a:pt x="2983" y="1023"/>
                  </a:lnTo>
                  <a:lnTo>
                    <a:pt x="2978" y="1014"/>
                  </a:lnTo>
                  <a:lnTo>
                    <a:pt x="2969" y="1005"/>
                  </a:lnTo>
                  <a:lnTo>
                    <a:pt x="2966" y="1014"/>
                  </a:lnTo>
                  <a:lnTo>
                    <a:pt x="2954" y="1023"/>
                  </a:lnTo>
                  <a:lnTo>
                    <a:pt x="2946" y="1023"/>
                  </a:lnTo>
                  <a:lnTo>
                    <a:pt x="2943" y="1034"/>
                  </a:lnTo>
                  <a:lnTo>
                    <a:pt x="2943" y="1043"/>
                  </a:lnTo>
                  <a:lnTo>
                    <a:pt x="2951" y="1051"/>
                  </a:lnTo>
                  <a:lnTo>
                    <a:pt x="2963" y="1051"/>
                  </a:lnTo>
                  <a:lnTo>
                    <a:pt x="2975" y="1054"/>
                  </a:lnTo>
                  <a:lnTo>
                    <a:pt x="2963" y="1051"/>
                  </a:lnTo>
                  <a:lnTo>
                    <a:pt x="2951" y="1046"/>
                  </a:lnTo>
                  <a:lnTo>
                    <a:pt x="2943" y="1043"/>
                  </a:lnTo>
                  <a:lnTo>
                    <a:pt x="2934" y="1051"/>
                  </a:lnTo>
                  <a:lnTo>
                    <a:pt x="2928" y="1060"/>
                  </a:lnTo>
                  <a:lnTo>
                    <a:pt x="2919" y="1060"/>
                  </a:lnTo>
                  <a:lnTo>
                    <a:pt x="2919" y="1069"/>
                  </a:lnTo>
                  <a:lnTo>
                    <a:pt x="2931" y="1077"/>
                  </a:lnTo>
                  <a:lnTo>
                    <a:pt x="2943" y="1086"/>
                  </a:lnTo>
                  <a:lnTo>
                    <a:pt x="2951" y="1089"/>
                  </a:lnTo>
                  <a:lnTo>
                    <a:pt x="2960" y="1089"/>
                  </a:lnTo>
                  <a:lnTo>
                    <a:pt x="2969" y="1089"/>
                  </a:lnTo>
                  <a:lnTo>
                    <a:pt x="2972" y="1080"/>
                  </a:lnTo>
                  <a:lnTo>
                    <a:pt x="2975" y="1072"/>
                  </a:lnTo>
                  <a:lnTo>
                    <a:pt x="2975" y="1063"/>
                  </a:lnTo>
                  <a:lnTo>
                    <a:pt x="2978" y="1054"/>
                  </a:lnTo>
                  <a:lnTo>
                    <a:pt x="2981" y="1063"/>
                  </a:lnTo>
                  <a:lnTo>
                    <a:pt x="2981" y="1072"/>
                  </a:lnTo>
                  <a:lnTo>
                    <a:pt x="2975" y="1080"/>
                  </a:lnTo>
                  <a:lnTo>
                    <a:pt x="2969" y="1089"/>
                  </a:lnTo>
                  <a:lnTo>
                    <a:pt x="2957" y="1089"/>
                  </a:lnTo>
                  <a:lnTo>
                    <a:pt x="2949" y="1089"/>
                  </a:lnTo>
                  <a:lnTo>
                    <a:pt x="2940" y="1097"/>
                  </a:lnTo>
                  <a:lnTo>
                    <a:pt x="2937" y="1106"/>
                  </a:lnTo>
                  <a:lnTo>
                    <a:pt x="2934" y="1115"/>
                  </a:lnTo>
                  <a:lnTo>
                    <a:pt x="2934" y="1123"/>
                  </a:lnTo>
                  <a:lnTo>
                    <a:pt x="2925" y="1129"/>
                  </a:lnTo>
                  <a:lnTo>
                    <a:pt x="2917" y="1135"/>
                  </a:lnTo>
                  <a:lnTo>
                    <a:pt x="2908" y="1138"/>
                  </a:lnTo>
                  <a:lnTo>
                    <a:pt x="2899" y="1138"/>
                  </a:lnTo>
                  <a:lnTo>
                    <a:pt x="2893" y="1129"/>
                  </a:lnTo>
                  <a:lnTo>
                    <a:pt x="2884" y="1129"/>
                  </a:lnTo>
                  <a:lnTo>
                    <a:pt x="2876" y="1129"/>
                  </a:lnTo>
                  <a:lnTo>
                    <a:pt x="2867" y="1135"/>
                  </a:lnTo>
                  <a:lnTo>
                    <a:pt x="2864" y="1144"/>
                  </a:lnTo>
                  <a:lnTo>
                    <a:pt x="2861" y="1152"/>
                  </a:lnTo>
                  <a:lnTo>
                    <a:pt x="2861" y="1161"/>
                  </a:lnTo>
                  <a:lnTo>
                    <a:pt x="2858" y="1170"/>
                  </a:lnTo>
                  <a:lnTo>
                    <a:pt x="2852" y="1178"/>
                  </a:lnTo>
                  <a:lnTo>
                    <a:pt x="2844" y="1181"/>
                  </a:lnTo>
                  <a:lnTo>
                    <a:pt x="2835" y="1181"/>
                  </a:lnTo>
                  <a:lnTo>
                    <a:pt x="2826" y="1184"/>
                  </a:lnTo>
                  <a:lnTo>
                    <a:pt x="2818" y="1175"/>
                  </a:lnTo>
                  <a:lnTo>
                    <a:pt x="2809" y="1167"/>
                  </a:lnTo>
                  <a:lnTo>
                    <a:pt x="2806" y="1175"/>
                  </a:lnTo>
                  <a:lnTo>
                    <a:pt x="2806" y="1184"/>
                  </a:lnTo>
                  <a:lnTo>
                    <a:pt x="2806" y="1193"/>
                  </a:lnTo>
                  <a:lnTo>
                    <a:pt x="2806" y="1204"/>
                  </a:lnTo>
                  <a:lnTo>
                    <a:pt x="2806" y="1213"/>
                  </a:lnTo>
                  <a:lnTo>
                    <a:pt x="2815" y="1213"/>
                  </a:lnTo>
                  <a:lnTo>
                    <a:pt x="2823" y="1216"/>
                  </a:lnTo>
                  <a:lnTo>
                    <a:pt x="2826" y="1224"/>
                  </a:lnTo>
                  <a:lnTo>
                    <a:pt x="2826" y="1233"/>
                  </a:lnTo>
                  <a:lnTo>
                    <a:pt x="2826" y="1242"/>
                  </a:lnTo>
                  <a:lnTo>
                    <a:pt x="2823" y="1250"/>
                  </a:lnTo>
                  <a:lnTo>
                    <a:pt x="2815" y="1253"/>
                  </a:lnTo>
                  <a:lnTo>
                    <a:pt x="2809" y="1262"/>
                  </a:lnTo>
                  <a:lnTo>
                    <a:pt x="2809" y="1270"/>
                  </a:lnTo>
                  <a:lnTo>
                    <a:pt x="2809" y="1279"/>
                  </a:lnTo>
                  <a:lnTo>
                    <a:pt x="2809" y="1288"/>
                  </a:lnTo>
                  <a:lnTo>
                    <a:pt x="2809" y="1279"/>
                  </a:lnTo>
                  <a:lnTo>
                    <a:pt x="2806" y="1270"/>
                  </a:lnTo>
                  <a:lnTo>
                    <a:pt x="2806" y="1262"/>
                  </a:lnTo>
                  <a:lnTo>
                    <a:pt x="2800" y="1253"/>
                  </a:lnTo>
                  <a:lnTo>
                    <a:pt x="2797" y="1244"/>
                  </a:lnTo>
                  <a:lnTo>
                    <a:pt x="2794" y="1236"/>
                  </a:lnTo>
                  <a:lnTo>
                    <a:pt x="2794" y="1227"/>
                  </a:lnTo>
                  <a:lnTo>
                    <a:pt x="2794" y="1218"/>
                  </a:lnTo>
                  <a:lnTo>
                    <a:pt x="2800" y="1210"/>
                  </a:lnTo>
                  <a:lnTo>
                    <a:pt x="2803" y="1201"/>
                  </a:lnTo>
                  <a:lnTo>
                    <a:pt x="2800" y="1193"/>
                  </a:lnTo>
                  <a:lnTo>
                    <a:pt x="2791" y="1187"/>
                  </a:lnTo>
                  <a:lnTo>
                    <a:pt x="2788" y="1178"/>
                  </a:lnTo>
                  <a:lnTo>
                    <a:pt x="2788" y="1170"/>
                  </a:lnTo>
                  <a:lnTo>
                    <a:pt x="2788" y="1161"/>
                  </a:lnTo>
                  <a:lnTo>
                    <a:pt x="2788" y="1152"/>
                  </a:lnTo>
                  <a:lnTo>
                    <a:pt x="2786" y="1144"/>
                  </a:lnTo>
                  <a:lnTo>
                    <a:pt x="2786" y="1135"/>
                  </a:lnTo>
                  <a:lnTo>
                    <a:pt x="2780" y="1126"/>
                  </a:lnTo>
                  <a:lnTo>
                    <a:pt x="2768" y="1121"/>
                  </a:lnTo>
                  <a:lnTo>
                    <a:pt x="2759" y="1115"/>
                  </a:lnTo>
                  <a:lnTo>
                    <a:pt x="2748" y="1112"/>
                  </a:lnTo>
                  <a:lnTo>
                    <a:pt x="2736" y="1109"/>
                  </a:lnTo>
                  <a:lnTo>
                    <a:pt x="2724" y="1106"/>
                  </a:lnTo>
                  <a:lnTo>
                    <a:pt x="2716" y="1106"/>
                  </a:lnTo>
                  <a:lnTo>
                    <a:pt x="2710" y="1115"/>
                  </a:lnTo>
                  <a:lnTo>
                    <a:pt x="2704" y="1123"/>
                  </a:lnTo>
                  <a:lnTo>
                    <a:pt x="2698" y="1132"/>
                  </a:lnTo>
                  <a:lnTo>
                    <a:pt x="2692" y="1126"/>
                  </a:lnTo>
                  <a:lnTo>
                    <a:pt x="2695" y="1112"/>
                  </a:lnTo>
                  <a:lnTo>
                    <a:pt x="2695" y="1121"/>
                  </a:lnTo>
                  <a:lnTo>
                    <a:pt x="2692" y="1129"/>
                  </a:lnTo>
                  <a:lnTo>
                    <a:pt x="2692" y="1138"/>
                  </a:lnTo>
                  <a:lnTo>
                    <a:pt x="2687" y="1146"/>
                  </a:lnTo>
                  <a:lnTo>
                    <a:pt x="2687" y="1155"/>
                  </a:lnTo>
                  <a:lnTo>
                    <a:pt x="2687" y="1164"/>
                  </a:lnTo>
                  <a:lnTo>
                    <a:pt x="2678" y="1167"/>
                  </a:lnTo>
                  <a:lnTo>
                    <a:pt x="2669" y="1167"/>
                  </a:lnTo>
                  <a:lnTo>
                    <a:pt x="2666" y="1158"/>
                  </a:lnTo>
                  <a:lnTo>
                    <a:pt x="2666" y="1149"/>
                  </a:lnTo>
                  <a:lnTo>
                    <a:pt x="2657" y="1146"/>
                  </a:lnTo>
                  <a:lnTo>
                    <a:pt x="2649" y="1152"/>
                  </a:lnTo>
                  <a:lnTo>
                    <a:pt x="2646" y="1141"/>
                  </a:lnTo>
                  <a:lnTo>
                    <a:pt x="2634" y="1135"/>
                  </a:lnTo>
                  <a:lnTo>
                    <a:pt x="2625" y="1135"/>
                  </a:lnTo>
                  <a:lnTo>
                    <a:pt x="2617" y="1135"/>
                  </a:lnTo>
                  <a:lnTo>
                    <a:pt x="2614" y="1144"/>
                  </a:lnTo>
                  <a:lnTo>
                    <a:pt x="2614" y="1152"/>
                  </a:lnTo>
                  <a:lnTo>
                    <a:pt x="2614" y="1161"/>
                  </a:lnTo>
                  <a:lnTo>
                    <a:pt x="2617" y="1170"/>
                  </a:lnTo>
                  <a:lnTo>
                    <a:pt x="2617" y="1178"/>
                  </a:lnTo>
                  <a:lnTo>
                    <a:pt x="2620" y="1187"/>
                  </a:lnTo>
                  <a:lnTo>
                    <a:pt x="2625" y="1195"/>
                  </a:lnTo>
                  <a:lnTo>
                    <a:pt x="2634" y="1201"/>
                  </a:lnTo>
                  <a:lnTo>
                    <a:pt x="2643" y="1201"/>
                  </a:lnTo>
                  <a:lnTo>
                    <a:pt x="2652" y="1201"/>
                  </a:lnTo>
                  <a:lnTo>
                    <a:pt x="2643" y="1201"/>
                  </a:lnTo>
                  <a:lnTo>
                    <a:pt x="2634" y="1207"/>
                  </a:lnTo>
                  <a:lnTo>
                    <a:pt x="2625" y="1216"/>
                  </a:lnTo>
                  <a:lnTo>
                    <a:pt x="2625" y="1224"/>
                  </a:lnTo>
                  <a:lnTo>
                    <a:pt x="2634" y="1224"/>
                  </a:lnTo>
                  <a:lnTo>
                    <a:pt x="2643" y="1230"/>
                  </a:lnTo>
                  <a:lnTo>
                    <a:pt x="2646" y="1242"/>
                  </a:lnTo>
                  <a:lnTo>
                    <a:pt x="2652" y="1253"/>
                  </a:lnTo>
                  <a:lnTo>
                    <a:pt x="2660" y="1259"/>
                  </a:lnTo>
                  <a:lnTo>
                    <a:pt x="2672" y="1265"/>
                  </a:lnTo>
                  <a:lnTo>
                    <a:pt x="2663" y="1262"/>
                  </a:lnTo>
                  <a:lnTo>
                    <a:pt x="2655" y="1256"/>
                  </a:lnTo>
                  <a:lnTo>
                    <a:pt x="2663" y="1250"/>
                  </a:lnTo>
                  <a:lnTo>
                    <a:pt x="2672" y="1250"/>
                  </a:lnTo>
                  <a:lnTo>
                    <a:pt x="2681" y="1253"/>
                  </a:lnTo>
                  <a:lnTo>
                    <a:pt x="2669" y="1256"/>
                  </a:lnTo>
                  <a:lnTo>
                    <a:pt x="2655" y="1256"/>
                  </a:lnTo>
                  <a:lnTo>
                    <a:pt x="2646" y="1247"/>
                  </a:lnTo>
                  <a:lnTo>
                    <a:pt x="2643" y="1236"/>
                  </a:lnTo>
                  <a:lnTo>
                    <a:pt x="2640" y="1227"/>
                  </a:lnTo>
                  <a:lnTo>
                    <a:pt x="2631" y="1227"/>
                  </a:lnTo>
                  <a:lnTo>
                    <a:pt x="2625" y="1236"/>
                  </a:lnTo>
                  <a:lnTo>
                    <a:pt x="2625" y="1247"/>
                  </a:lnTo>
                  <a:lnTo>
                    <a:pt x="2625" y="1259"/>
                  </a:lnTo>
                  <a:lnTo>
                    <a:pt x="2617" y="1259"/>
                  </a:lnTo>
                  <a:lnTo>
                    <a:pt x="2608" y="1256"/>
                  </a:lnTo>
                  <a:lnTo>
                    <a:pt x="2605" y="1247"/>
                  </a:lnTo>
                  <a:lnTo>
                    <a:pt x="2596" y="1253"/>
                  </a:lnTo>
                  <a:lnTo>
                    <a:pt x="2588" y="1262"/>
                  </a:lnTo>
                  <a:lnTo>
                    <a:pt x="2582" y="1270"/>
                  </a:lnTo>
                  <a:lnTo>
                    <a:pt x="2582" y="1279"/>
                  </a:lnTo>
                  <a:lnTo>
                    <a:pt x="2582" y="1288"/>
                  </a:lnTo>
                  <a:lnTo>
                    <a:pt x="2576" y="1296"/>
                  </a:lnTo>
                  <a:lnTo>
                    <a:pt x="2573" y="1305"/>
                  </a:lnTo>
                  <a:lnTo>
                    <a:pt x="2567" y="1314"/>
                  </a:lnTo>
                  <a:lnTo>
                    <a:pt x="2553" y="1311"/>
                  </a:lnTo>
                  <a:lnTo>
                    <a:pt x="2567" y="1305"/>
                  </a:lnTo>
                  <a:lnTo>
                    <a:pt x="2561" y="1314"/>
                  </a:lnTo>
                  <a:lnTo>
                    <a:pt x="2558" y="1322"/>
                  </a:lnTo>
                  <a:lnTo>
                    <a:pt x="2558" y="1331"/>
                  </a:lnTo>
                  <a:lnTo>
                    <a:pt x="2558" y="1340"/>
                  </a:lnTo>
                  <a:lnTo>
                    <a:pt x="2558" y="1348"/>
                  </a:lnTo>
                  <a:lnTo>
                    <a:pt x="2558" y="1360"/>
                  </a:lnTo>
                  <a:lnTo>
                    <a:pt x="2558" y="1368"/>
                  </a:lnTo>
                  <a:lnTo>
                    <a:pt x="2550" y="1380"/>
                  </a:lnTo>
                  <a:lnTo>
                    <a:pt x="2547" y="1389"/>
                  </a:lnTo>
                  <a:lnTo>
                    <a:pt x="2544" y="1397"/>
                  </a:lnTo>
                  <a:lnTo>
                    <a:pt x="2538" y="1406"/>
                  </a:lnTo>
                  <a:lnTo>
                    <a:pt x="2529" y="1412"/>
                  </a:lnTo>
                  <a:lnTo>
                    <a:pt x="2538" y="1414"/>
                  </a:lnTo>
                  <a:lnTo>
                    <a:pt x="2547" y="1414"/>
                  </a:lnTo>
                  <a:lnTo>
                    <a:pt x="2553" y="1406"/>
                  </a:lnTo>
                  <a:lnTo>
                    <a:pt x="2553" y="1397"/>
                  </a:lnTo>
                  <a:lnTo>
                    <a:pt x="2561" y="1391"/>
                  </a:lnTo>
                  <a:lnTo>
                    <a:pt x="2567" y="1400"/>
                  </a:lnTo>
                  <a:lnTo>
                    <a:pt x="2567" y="1412"/>
                  </a:lnTo>
                  <a:lnTo>
                    <a:pt x="2570" y="1420"/>
                  </a:lnTo>
                  <a:lnTo>
                    <a:pt x="2579" y="1429"/>
                  </a:lnTo>
                  <a:lnTo>
                    <a:pt x="2588" y="1435"/>
                  </a:lnTo>
                  <a:lnTo>
                    <a:pt x="2599" y="1435"/>
                  </a:lnTo>
                  <a:lnTo>
                    <a:pt x="2593" y="1426"/>
                  </a:lnTo>
                  <a:lnTo>
                    <a:pt x="2585" y="1417"/>
                  </a:lnTo>
                  <a:lnTo>
                    <a:pt x="2582" y="1406"/>
                  </a:lnTo>
                  <a:lnTo>
                    <a:pt x="2579" y="1397"/>
                  </a:lnTo>
                  <a:lnTo>
                    <a:pt x="2573" y="1406"/>
                  </a:lnTo>
                  <a:lnTo>
                    <a:pt x="2570" y="1414"/>
                  </a:lnTo>
                  <a:lnTo>
                    <a:pt x="2561" y="1426"/>
                  </a:lnTo>
                  <a:lnTo>
                    <a:pt x="2553" y="1432"/>
                  </a:lnTo>
                  <a:lnTo>
                    <a:pt x="2544" y="1432"/>
                  </a:lnTo>
                  <a:lnTo>
                    <a:pt x="2535" y="1432"/>
                  </a:lnTo>
                  <a:lnTo>
                    <a:pt x="2526" y="1432"/>
                  </a:lnTo>
                  <a:lnTo>
                    <a:pt x="2515" y="1438"/>
                  </a:lnTo>
                  <a:lnTo>
                    <a:pt x="2506" y="1443"/>
                  </a:lnTo>
                  <a:lnTo>
                    <a:pt x="2503" y="1452"/>
                  </a:lnTo>
                  <a:lnTo>
                    <a:pt x="2509" y="1461"/>
                  </a:lnTo>
                  <a:lnTo>
                    <a:pt x="2515" y="1472"/>
                  </a:lnTo>
                  <a:lnTo>
                    <a:pt x="2521" y="1484"/>
                  </a:lnTo>
                  <a:lnTo>
                    <a:pt x="2529" y="1489"/>
                  </a:lnTo>
                  <a:lnTo>
                    <a:pt x="2538" y="1495"/>
                  </a:lnTo>
                  <a:lnTo>
                    <a:pt x="2544" y="1504"/>
                  </a:lnTo>
                  <a:lnTo>
                    <a:pt x="2553" y="1507"/>
                  </a:lnTo>
                  <a:lnTo>
                    <a:pt x="2561" y="1507"/>
                  </a:lnTo>
                  <a:lnTo>
                    <a:pt x="2570" y="1510"/>
                  </a:lnTo>
                  <a:lnTo>
                    <a:pt x="2576" y="1518"/>
                  </a:lnTo>
                  <a:lnTo>
                    <a:pt x="2585" y="1527"/>
                  </a:lnTo>
                  <a:lnTo>
                    <a:pt x="2588" y="1535"/>
                  </a:lnTo>
                  <a:lnTo>
                    <a:pt x="2588" y="1544"/>
                  </a:lnTo>
                  <a:lnTo>
                    <a:pt x="2588" y="1556"/>
                  </a:lnTo>
                  <a:lnTo>
                    <a:pt x="2590" y="1564"/>
                  </a:lnTo>
                  <a:lnTo>
                    <a:pt x="2599" y="1564"/>
                  </a:lnTo>
                  <a:lnTo>
                    <a:pt x="2614" y="1567"/>
                  </a:lnTo>
                  <a:lnTo>
                    <a:pt x="2617" y="1576"/>
                  </a:lnTo>
                  <a:lnTo>
                    <a:pt x="2617" y="1584"/>
                  </a:lnTo>
                  <a:lnTo>
                    <a:pt x="2608" y="1587"/>
                  </a:lnTo>
                  <a:lnTo>
                    <a:pt x="2596" y="1579"/>
                  </a:lnTo>
                  <a:lnTo>
                    <a:pt x="2588" y="1570"/>
                  </a:lnTo>
                  <a:lnTo>
                    <a:pt x="2582" y="1561"/>
                  </a:lnTo>
                  <a:lnTo>
                    <a:pt x="2582" y="1553"/>
                  </a:lnTo>
                  <a:lnTo>
                    <a:pt x="2582" y="1541"/>
                  </a:lnTo>
                  <a:lnTo>
                    <a:pt x="2579" y="1533"/>
                  </a:lnTo>
                  <a:lnTo>
                    <a:pt x="2573" y="1524"/>
                  </a:lnTo>
                  <a:lnTo>
                    <a:pt x="2564" y="1515"/>
                  </a:lnTo>
                  <a:lnTo>
                    <a:pt x="2556" y="1512"/>
                  </a:lnTo>
                  <a:lnTo>
                    <a:pt x="2550" y="1521"/>
                  </a:lnTo>
                  <a:lnTo>
                    <a:pt x="2541" y="1521"/>
                  </a:lnTo>
                  <a:lnTo>
                    <a:pt x="2532" y="1515"/>
                  </a:lnTo>
                  <a:lnTo>
                    <a:pt x="2524" y="1510"/>
                  </a:lnTo>
                  <a:lnTo>
                    <a:pt x="2515" y="1507"/>
                  </a:lnTo>
                  <a:lnTo>
                    <a:pt x="2506" y="1504"/>
                  </a:lnTo>
                  <a:lnTo>
                    <a:pt x="2497" y="1504"/>
                  </a:lnTo>
                  <a:lnTo>
                    <a:pt x="2489" y="1504"/>
                  </a:lnTo>
                  <a:lnTo>
                    <a:pt x="2486" y="1512"/>
                  </a:lnTo>
                  <a:lnTo>
                    <a:pt x="2486" y="1521"/>
                  </a:lnTo>
                  <a:lnTo>
                    <a:pt x="2491" y="1530"/>
                  </a:lnTo>
                  <a:lnTo>
                    <a:pt x="2486" y="1538"/>
                  </a:lnTo>
                  <a:lnTo>
                    <a:pt x="2477" y="1538"/>
                  </a:lnTo>
                  <a:lnTo>
                    <a:pt x="2474" y="1547"/>
                  </a:lnTo>
                  <a:lnTo>
                    <a:pt x="2489" y="1550"/>
                  </a:lnTo>
                  <a:lnTo>
                    <a:pt x="2497" y="1553"/>
                  </a:lnTo>
                  <a:lnTo>
                    <a:pt x="2506" y="1553"/>
                  </a:lnTo>
                  <a:lnTo>
                    <a:pt x="2515" y="1559"/>
                  </a:lnTo>
                  <a:lnTo>
                    <a:pt x="2521" y="1570"/>
                  </a:lnTo>
                  <a:lnTo>
                    <a:pt x="2529" y="1576"/>
                  </a:lnTo>
                  <a:lnTo>
                    <a:pt x="2521" y="1567"/>
                  </a:lnTo>
                  <a:lnTo>
                    <a:pt x="2509" y="1561"/>
                  </a:lnTo>
                  <a:lnTo>
                    <a:pt x="2500" y="1559"/>
                  </a:lnTo>
                  <a:lnTo>
                    <a:pt x="2491" y="1567"/>
                  </a:lnTo>
                  <a:lnTo>
                    <a:pt x="2483" y="1570"/>
                  </a:lnTo>
                  <a:lnTo>
                    <a:pt x="2474" y="1570"/>
                  </a:lnTo>
                  <a:lnTo>
                    <a:pt x="2471" y="1561"/>
                  </a:lnTo>
                  <a:lnTo>
                    <a:pt x="2471" y="1553"/>
                  </a:lnTo>
                  <a:lnTo>
                    <a:pt x="2465" y="1544"/>
                  </a:lnTo>
                  <a:lnTo>
                    <a:pt x="2462" y="1535"/>
                  </a:lnTo>
                  <a:lnTo>
                    <a:pt x="2459" y="1524"/>
                  </a:lnTo>
                  <a:lnTo>
                    <a:pt x="2457" y="1515"/>
                  </a:lnTo>
                  <a:lnTo>
                    <a:pt x="2448" y="1510"/>
                  </a:lnTo>
                  <a:lnTo>
                    <a:pt x="2439" y="1504"/>
                  </a:lnTo>
                  <a:lnTo>
                    <a:pt x="2439" y="1512"/>
                  </a:lnTo>
                  <a:lnTo>
                    <a:pt x="2439" y="1521"/>
                  </a:lnTo>
                  <a:lnTo>
                    <a:pt x="2439" y="1530"/>
                  </a:lnTo>
                  <a:lnTo>
                    <a:pt x="2439" y="1538"/>
                  </a:lnTo>
                  <a:lnTo>
                    <a:pt x="2439" y="1547"/>
                  </a:lnTo>
                  <a:lnTo>
                    <a:pt x="2439" y="1556"/>
                  </a:lnTo>
                  <a:lnTo>
                    <a:pt x="2442" y="1564"/>
                  </a:lnTo>
                  <a:lnTo>
                    <a:pt x="2436" y="1573"/>
                  </a:lnTo>
                  <a:lnTo>
                    <a:pt x="2433" y="1582"/>
                  </a:lnTo>
                  <a:lnTo>
                    <a:pt x="2430" y="1590"/>
                  </a:lnTo>
                  <a:lnTo>
                    <a:pt x="2433" y="1599"/>
                  </a:lnTo>
                  <a:lnTo>
                    <a:pt x="2442" y="1602"/>
                  </a:lnTo>
                  <a:lnTo>
                    <a:pt x="2451" y="1605"/>
                  </a:lnTo>
                  <a:lnTo>
                    <a:pt x="2459" y="1608"/>
                  </a:lnTo>
                  <a:lnTo>
                    <a:pt x="2465" y="1616"/>
                  </a:lnTo>
                  <a:lnTo>
                    <a:pt x="2474" y="1628"/>
                  </a:lnTo>
                  <a:lnTo>
                    <a:pt x="2474" y="1636"/>
                  </a:lnTo>
                  <a:lnTo>
                    <a:pt x="2474" y="1648"/>
                  </a:lnTo>
                  <a:lnTo>
                    <a:pt x="2474" y="1657"/>
                  </a:lnTo>
                  <a:lnTo>
                    <a:pt x="2474" y="1665"/>
                  </a:lnTo>
                  <a:lnTo>
                    <a:pt x="2474" y="1674"/>
                  </a:lnTo>
                  <a:lnTo>
                    <a:pt x="2483" y="1680"/>
                  </a:lnTo>
                  <a:lnTo>
                    <a:pt x="2491" y="1682"/>
                  </a:lnTo>
                  <a:lnTo>
                    <a:pt x="2500" y="1682"/>
                  </a:lnTo>
                  <a:lnTo>
                    <a:pt x="2509" y="1680"/>
                  </a:lnTo>
                  <a:lnTo>
                    <a:pt x="2515" y="1671"/>
                  </a:lnTo>
                  <a:lnTo>
                    <a:pt x="2524" y="1671"/>
                  </a:lnTo>
                  <a:lnTo>
                    <a:pt x="2532" y="1668"/>
                  </a:lnTo>
                  <a:lnTo>
                    <a:pt x="2541" y="1671"/>
                  </a:lnTo>
                  <a:lnTo>
                    <a:pt x="2544" y="1680"/>
                  </a:lnTo>
                  <a:lnTo>
                    <a:pt x="2547" y="1688"/>
                  </a:lnTo>
                  <a:lnTo>
                    <a:pt x="2547" y="1697"/>
                  </a:lnTo>
                  <a:lnTo>
                    <a:pt x="2547" y="1706"/>
                  </a:lnTo>
                  <a:lnTo>
                    <a:pt x="2556" y="1714"/>
                  </a:lnTo>
                  <a:lnTo>
                    <a:pt x="2564" y="1720"/>
                  </a:lnTo>
                  <a:lnTo>
                    <a:pt x="2576" y="1726"/>
                  </a:lnTo>
                  <a:lnTo>
                    <a:pt x="2588" y="1726"/>
                  </a:lnTo>
                  <a:lnTo>
                    <a:pt x="2596" y="1726"/>
                  </a:lnTo>
                  <a:lnTo>
                    <a:pt x="2588" y="1723"/>
                  </a:lnTo>
                  <a:lnTo>
                    <a:pt x="2579" y="1720"/>
                  </a:lnTo>
                  <a:lnTo>
                    <a:pt x="2570" y="1717"/>
                  </a:lnTo>
                  <a:lnTo>
                    <a:pt x="2567" y="1708"/>
                  </a:lnTo>
                  <a:lnTo>
                    <a:pt x="2564" y="1697"/>
                  </a:lnTo>
                  <a:lnTo>
                    <a:pt x="2564" y="1688"/>
                  </a:lnTo>
                  <a:lnTo>
                    <a:pt x="2561" y="1680"/>
                  </a:lnTo>
                  <a:lnTo>
                    <a:pt x="2550" y="1671"/>
                  </a:lnTo>
                  <a:lnTo>
                    <a:pt x="2538" y="1665"/>
                  </a:lnTo>
                  <a:lnTo>
                    <a:pt x="2529" y="1662"/>
                  </a:lnTo>
                  <a:lnTo>
                    <a:pt x="2521" y="1659"/>
                  </a:lnTo>
                  <a:lnTo>
                    <a:pt x="2512" y="1662"/>
                  </a:lnTo>
                  <a:lnTo>
                    <a:pt x="2506" y="1671"/>
                  </a:lnTo>
                  <a:lnTo>
                    <a:pt x="2506" y="1680"/>
                  </a:lnTo>
                  <a:lnTo>
                    <a:pt x="2503" y="1688"/>
                  </a:lnTo>
                  <a:lnTo>
                    <a:pt x="2500" y="1697"/>
                  </a:lnTo>
                  <a:lnTo>
                    <a:pt x="2500" y="1706"/>
                  </a:lnTo>
                  <a:lnTo>
                    <a:pt x="2500" y="1714"/>
                  </a:lnTo>
                  <a:lnTo>
                    <a:pt x="2509" y="1723"/>
                  </a:lnTo>
                  <a:lnTo>
                    <a:pt x="2509" y="1731"/>
                  </a:lnTo>
                  <a:lnTo>
                    <a:pt x="2509" y="1740"/>
                  </a:lnTo>
                  <a:lnTo>
                    <a:pt x="2509" y="1749"/>
                  </a:lnTo>
                  <a:lnTo>
                    <a:pt x="2509" y="1757"/>
                  </a:lnTo>
                  <a:lnTo>
                    <a:pt x="2509" y="1766"/>
                  </a:lnTo>
                  <a:lnTo>
                    <a:pt x="2509" y="1775"/>
                  </a:lnTo>
                  <a:lnTo>
                    <a:pt x="2509" y="1783"/>
                  </a:lnTo>
                  <a:lnTo>
                    <a:pt x="2506" y="1772"/>
                  </a:lnTo>
                  <a:lnTo>
                    <a:pt x="2515" y="1757"/>
                  </a:lnTo>
                  <a:lnTo>
                    <a:pt x="2509" y="1766"/>
                  </a:lnTo>
                  <a:lnTo>
                    <a:pt x="2506" y="1775"/>
                  </a:lnTo>
                  <a:lnTo>
                    <a:pt x="2503" y="1783"/>
                  </a:lnTo>
                  <a:lnTo>
                    <a:pt x="2497" y="1792"/>
                  </a:lnTo>
                  <a:lnTo>
                    <a:pt x="2494" y="1801"/>
                  </a:lnTo>
                  <a:lnTo>
                    <a:pt x="2494" y="1809"/>
                  </a:lnTo>
                  <a:lnTo>
                    <a:pt x="2494" y="1818"/>
                  </a:lnTo>
                  <a:lnTo>
                    <a:pt x="2483" y="1824"/>
                  </a:lnTo>
                  <a:lnTo>
                    <a:pt x="2465" y="1824"/>
                  </a:lnTo>
                  <a:lnTo>
                    <a:pt x="2457" y="1821"/>
                  </a:lnTo>
                  <a:lnTo>
                    <a:pt x="2448" y="1812"/>
                  </a:lnTo>
                  <a:lnTo>
                    <a:pt x="2439" y="1809"/>
                  </a:lnTo>
                  <a:lnTo>
                    <a:pt x="2430" y="1809"/>
                  </a:lnTo>
                  <a:lnTo>
                    <a:pt x="2427" y="1798"/>
                  </a:lnTo>
                  <a:lnTo>
                    <a:pt x="2439" y="1795"/>
                  </a:lnTo>
                  <a:lnTo>
                    <a:pt x="2454" y="1792"/>
                  </a:lnTo>
                  <a:lnTo>
                    <a:pt x="2462" y="1792"/>
                  </a:lnTo>
                  <a:lnTo>
                    <a:pt x="2471" y="1792"/>
                  </a:lnTo>
                  <a:lnTo>
                    <a:pt x="2477" y="1783"/>
                  </a:lnTo>
                  <a:lnTo>
                    <a:pt x="2480" y="1775"/>
                  </a:lnTo>
                  <a:lnTo>
                    <a:pt x="2480" y="1766"/>
                  </a:lnTo>
                  <a:lnTo>
                    <a:pt x="2483" y="1757"/>
                  </a:lnTo>
                  <a:lnTo>
                    <a:pt x="2486" y="1749"/>
                  </a:lnTo>
                  <a:lnTo>
                    <a:pt x="2489" y="1740"/>
                  </a:lnTo>
                  <a:lnTo>
                    <a:pt x="2491" y="1731"/>
                  </a:lnTo>
                  <a:lnTo>
                    <a:pt x="2489" y="1723"/>
                  </a:lnTo>
                  <a:lnTo>
                    <a:pt x="2489" y="1714"/>
                  </a:lnTo>
                  <a:lnTo>
                    <a:pt x="2480" y="1708"/>
                  </a:lnTo>
                  <a:lnTo>
                    <a:pt x="2474" y="1700"/>
                  </a:lnTo>
                  <a:lnTo>
                    <a:pt x="2468" y="1691"/>
                  </a:lnTo>
                  <a:lnTo>
                    <a:pt x="2465" y="1682"/>
                  </a:lnTo>
                  <a:lnTo>
                    <a:pt x="2459" y="1674"/>
                  </a:lnTo>
                  <a:lnTo>
                    <a:pt x="2454" y="1665"/>
                  </a:lnTo>
                  <a:lnTo>
                    <a:pt x="2454" y="1657"/>
                  </a:lnTo>
                  <a:lnTo>
                    <a:pt x="2454" y="1648"/>
                  </a:lnTo>
                  <a:lnTo>
                    <a:pt x="2454" y="1639"/>
                  </a:lnTo>
                  <a:lnTo>
                    <a:pt x="2451" y="1631"/>
                  </a:lnTo>
                  <a:lnTo>
                    <a:pt x="2448" y="1622"/>
                  </a:lnTo>
                  <a:lnTo>
                    <a:pt x="2442" y="1613"/>
                  </a:lnTo>
                  <a:lnTo>
                    <a:pt x="2433" y="1608"/>
                  </a:lnTo>
                  <a:lnTo>
                    <a:pt x="2427" y="1599"/>
                  </a:lnTo>
                  <a:lnTo>
                    <a:pt x="2422" y="1590"/>
                  </a:lnTo>
                  <a:lnTo>
                    <a:pt x="2419" y="1582"/>
                  </a:lnTo>
                  <a:lnTo>
                    <a:pt x="2419" y="1573"/>
                  </a:lnTo>
                  <a:lnTo>
                    <a:pt x="2416" y="1564"/>
                  </a:lnTo>
                  <a:lnTo>
                    <a:pt x="2416" y="1556"/>
                  </a:lnTo>
                  <a:lnTo>
                    <a:pt x="2416" y="1547"/>
                  </a:lnTo>
                  <a:lnTo>
                    <a:pt x="2416" y="1538"/>
                  </a:lnTo>
                  <a:lnTo>
                    <a:pt x="2416" y="1530"/>
                  </a:lnTo>
                  <a:lnTo>
                    <a:pt x="2407" y="1521"/>
                  </a:lnTo>
                  <a:lnTo>
                    <a:pt x="2395" y="1518"/>
                  </a:lnTo>
                  <a:lnTo>
                    <a:pt x="2390" y="1510"/>
                  </a:lnTo>
                  <a:lnTo>
                    <a:pt x="2390" y="1501"/>
                  </a:lnTo>
                  <a:lnTo>
                    <a:pt x="2381" y="1498"/>
                  </a:lnTo>
                  <a:lnTo>
                    <a:pt x="2390" y="1504"/>
                  </a:lnTo>
                  <a:lnTo>
                    <a:pt x="2381" y="1510"/>
                  </a:lnTo>
                  <a:lnTo>
                    <a:pt x="2372" y="1515"/>
                  </a:lnTo>
                  <a:lnTo>
                    <a:pt x="2372" y="1524"/>
                  </a:lnTo>
                  <a:lnTo>
                    <a:pt x="2366" y="1533"/>
                  </a:lnTo>
                  <a:lnTo>
                    <a:pt x="2366" y="1541"/>
                  </a:lnTo>
                  <a:lnTo>
                    <a:pt x="2366" y="1550"/>
                  </a:lnTo>
                  <a:lnTo>
                    <a:pt x="2366" y="1559"/>
                  </a:lnTo>
                  <a:lnTo>
                    <a:pt x="2366" y="1567"/>
                  </a:lnTo>
                  <a:lnTo>
                    <a:pt x="2363" y="1576"/>
                  </a:lnTo>
                  <a:lnTo>
                    <a:pt x="2360" y="1584"/>
                  </a:lnTo>
                  <a:lnTo>
                    <a:pt x="2358" y="1593"/>
                  </a:lnTo>
                  <a:lnTo>
                    <a:pt x="2352" y="1602"/>
                  </a:lnTo>
                  <a:lnTo>
                    <a:pt x="2349" y="1610"/>
                  </a:lnTo>
                  <a:lnTo>
                    <a:pt x="2346" y="1619"/>
                  </a:lnTo>
                  <a:lnTo>
                    <a:pt x="2346" y="1628"/>
                  </a:lnTo>
                  <a:lnTo>
                    <a:pt x="2346" y="1636"/>
                  </a:lnTo>
                  <a:lnTo>
                    <a:pt x="2355" y="1639"/>
                  </a:lnTo>
                  <a:lnTo>
                    <a:pt x="2363" y="1639"/>
                  </a:lnTo>
                  <a:lnTo>
                    <a:pt x="2372" y="1636"/>
                  </a:lnTo>
                  <a:lnTo>
                    <a:pt x="2372" y="1645"/>
                  </a:lnTo>
                  <a:lnTo>
                    <a:pt x="2372" y="1654"/>
                  </a:lnTo>
                  <a:lnTo>
                    <a:pt x="2372" y="1662"/>
                  </a:lnTo>
                  <a:lnTo>
                    <a:pt x="2372" y="1671"/>
                  </a:lnTo>
                  <a:lnTo>
                    <a:pt x="2372" y="1682"/>
                  </a:lnTo>
                  <a:lnTo>
                    <a:pt x="2369" y="1691"/>
                  </a:lnTo>
                  <a:lnTo>
                    <a:pt x="2378" y="1697"/>
                  </a:lnTo>
                  <a:lnTo>
                    <a:pt x="2381" y="1706"/>
                  </a:lnTo>
                  <a:lnTo>
                    <a:pt x="2390" y="1711"/>
                  </a:lnTo>
                  <a:lnTo>
                    <a:pt x="2401" y="1714"/>
                  </a:lnTo>
                  <a:lnTo>
                    <a:pt x="2404" y="1723"/>
                  </a:lnTo>
                  <a:lnTo>
                    <a:pt x="2404" y="1731"/>
                  </a:lnTo>
                  <a:lnTo>
                    <a:pt x="2404" y="1740"/>
                  </a:lnTo>
                  <a:lnTo>
                    <a:pt x="2404" y="1749"/>
                  </a:lnTo>
                  <a:lnTo>
                    <a:pt x="2395" y="1743"/>
                  </a:lnTo>
                  <a:lnTo>
                    <a:pt x="2393" y="1734"/>
                  </a:lnTo>
                  <a:lnTo>
                    <a:pt x="2387" y="1723"/>
                  </a:lnTo>
                  <a:lnTo>
                    <a:pt x="2381" y="1714"/>
                  </a:lnTo>
                  <a:lnTo>
                    <a:pt x="2372" y="1711"/>
                  </a:lnTo>
                  <a:lnTo>
                    <a:pt x="2363" y="1708"/>
                  </a:lnTo>
                  <a:lnTo>
                    <a:pt x="2355" y="1708"/>
                  </a:lnTo>
                  <a:lnTo>
                    <a:pt x="2340" y="1706"/>
                  </a:lnTo>
                  <a:lnTo>
                    <a:pt x="2328" y="1703"/>
                  </a:lnTo>
                  <a:lnTo>
                    <a:pt x="2320" y="1697"/>
                  </a:lnTo>
                  <a:lnTo>
                    <a:pt x="2311" y="1694"/>
                  </a:lnTo>
                  <a:lnTo>
                    <a:pt x="2302" y="1691"/>
                  </a:lnTo>
                  <a:lnTo>
                    <a:pt x="2294" y="1688"/>
                  </a:lnTo>
                  <a:lnTo>
                    <a:pt x="2285" y="1685"/>
                  </a:lnTo>
                  <a:lnTo>
                    <a:pt x="2276" y="1685"/>
                  </a:lnTo>
                  <a:lnTo>
                    <a:pt x="2267" y="1685"/>
                  </a:lnTo>
                  <a:lnTo>
                    <a:pt x="2273" y="1680"/>
                  </a:lnTo>
                  <a:lnTo>
                    <a:pt x="2262" y="1671"/>
                  </a:lnTo>
                  <a:lnTo>
                    <a:pt x="2262" y="1662"/>
                  </a:lnTo>
                  <a:lnTo>
                    <a:pt x="2256" y="1671"/>
                  </a:lnTo>
                  <a:lnTo>
                    <a:pt x="2247" y="1671"/>
                  </a:lnTo>
                  <a:lnTo>
                    <a:pt x="2235" y="1671"/>
                  </a:lnTo>
                  <a:lnTo>
                    <a:pt x="2227" y="1668"/>
                  </a:lnTo>
                  <a:lnTo>
                    <a:pt x="2227" y="1659"/>
                  </a:lnTo>
                  <a:lnTo>
                    <a:pt x="2221" y="1668"/>
                  </a:lnTo>
                  <a:lnTo>
                    <a:pt x="2221" y="1677"/>
                  </a:lnTo>
                  <a:lnTo>
                    <a:pt x="2232" y="1680"/>
                  </a:lnTo>
                  <a:lnTo>
                    <a:pt x="2241" y="1682"/>
                  </a:lnTo>
                  <a:lnTo>
                    <a:pt x="2244" y="1691"/>
                  </a:lnTo>
                  <a:lnTo>
                    <a:pt x="2247" y="1700"/>
                  </a:lnTo>
                  <a:lnTo>
                    <a:pt x="2250" y="1708"/>
                  </a:lnTo>
                  <a:lnTo>
                    <a:pt x="2259" y="1711"/>
                  </a:lnTo>
                  <a:lnTo>
                    <a:pt x="2262" y="1720"/>
                  </a:lnTo>
                  <a:lnTo>
                    <a:pt x="2262" y="1729"/>
                  </a:lnTo>
                  <a:lnTo>
                    <a:pt x="2262" y="1737"/>
                  </a:lnTo>
                  <a:lnTo>
                    <a:pt x="2253" y="1743"/>
                  </a:lnTo>
                  <a:lnTo>
                    <a:pt x="2250" y="1752"/>
                  </a:lnTo>
                  <a:lnTo>
                    <a:pt x="2250" y="1760"/>
                  </a:lnTo>
                  <a:lnTo>
                    <a:pt x="2244" y="1752"/>
                  </a:lnTo>
                  <a:lnTo>
                    <a:pt x="2241" y="1743"/>
                  </a:lnTo>
                  <a:lnTo>
                    <a:pt x="2232" y="1743"/>
                  </a:lnTo>
                  <a:lnTo>
                    <a:pt x="2232" y="1734"/>
                  </a:lnTo>
                  <a:lnTo>
                    <a:pt x="2221" y="1729"/>
                  </a:lnTo>
                  <a:lnTo>
                    <a:pt x="2209" y="1731"/>
                  </a:lnTo>
                  <a:lnTo>
                    <a:pt x="2200" y="1734"/>
                  </a:lnTo>
                  <a:lnTo>
                    <a:pt x="2192" y="1737"/>
                  </a:lnTo>
                  <a:lnTo>
                    <a:pt x="2183" y="1746"/>
                  </a:lnTo>
                  <a:lnTo>
                    <a:pt x="2177" y="1755"/>
                  </a:lnTo>
                  <a:lnTo>
                    <a:pt x="2168" y="1755"/>
                  </a:lnTo>
                  <a:lnTo>
                    <a:pt x="2160" y="1760"/>
                  </a:lnTo>
                  <a:lnTo>
                    <a:pt x="2151" y="1769"/>
                  </a:lnTo>
                  <a:lnTo>
                    <a:pt x="2142" y="1772"/>
                  </a:lnTo>
                  <a:lnTo>
                    <a:pt x="2133" y="1772"/>
                  </a:lnTo>
                  <a:lnTo>
                    <a:pt x="2133" y="1763"/>
                  </a:lnTo>
                  <a:lnTo>
                    <a:pt x="2142" y="1755"/>
                  </a:lnTo>
                  <a:lnTo>
                    <a:pt x="2151" y="1752"/>
                  </a:lnTo>
                  <a:lnTo>
                    <a:pt x="2160" y="1749"/>
                  </a:lnTo>
                  <a:lnTo>
                    <a:pt x="2160" y="1737"/>
                  </a:lnTo>
                  <a:lnTo>
                    <a:pt x="2154" y="1729"/>
                  </a:lnTo>
                  <a:lnTo>
                    <a:pt x="2145" y="1729"/>
                  </a:lnTo>
                  <a:lnTo>
                    <a:pt x="2136" y="1734"/>
                  </a:lnTo>
                  <a:lnTo>
                    <a:pt x="2128" y="1740"/>
                  </a:lnTo>
                  <a:lnTo>
                    <a:pt x="2122" y="1749"/>
                  </a:lnTo>
                  <a:lnTo>
                    <a:pt x="2113" y="1755"/>
                  </a:lnTo>
                  <a:lnTo>
                    <a:pt x="2104" y="1757"/>
                  </a:lnTo>
                  <a:lnTo>
                    <a:pt x="2096" y="1763"/>
                  </a:lnTo>
                  <a:lnTo>
                    <a:pt x="2087" y="1763"/>
                  </a:lnTo>
                  <a:lnTo>
                    <a:pt x="2078" y="1766"/>
                  </a:lnTo>
                  <a:lnTo>
                    <a:pt x="2069" y="1769"/>
                  </a:lnTo>
                  <a:lnTo>
                    <a:pt x="2061" y="1772"/>
                  </a:lnTo>
                  <a:lnTo>
                    <a:pt x="2055" y="1780"/>
                  </a:lnTo>
                  <a:lnTo>
                    <a:pt x="2052" y="1789"/>
                  </a:lnTo>
                  <a:lnTo>
                    <a:pt x="2040" y="1792"/>
                  </a:lnTo>
                  <a:lnTo>
                    <a:pt x="2034" y="1801"/>
                  </a:lnTo>
                  <a:lnTo>
                    <a:pt x="2034" y="1809"/>
                  </a:lnTo>
                  <a:lnTo>
                    <a:pt x="2029" y="1818"/>
                  </a:lnTo>
                  <a:lnTo>
                    <a:pt x="2020" y="1824"/>
                  </a:lnTo>
                  <a:lnTo>
                    <a:pt x="2011" y="1827"/>
                  </a:lnTo>
                  <a:lnTo>
                    <a:pt x="2008" y="1815"/>
                  </a:lnTo>
                  <a:lnTo>
                    <a:pt x="2005" y="1806"/>
                  </a:lnTo>
                  <a:lnTo>
                    <a:pt x="2005" y="1798"/>
                  </a:lnTo>
                  <a:lnTo>
                    <a:pt x="1997" y="1789"/>
                  </a:lnTo>
                  <a:lnTo>
                    <a:pt x="1988" y="1780"/>
                  </a:lnTo>
                  <a:lnTo>
                    <a:pt x="1999" y="1780"/>
                  </a:lnTo>
                  <a:lnTo>
                    <a:pt x="2011" y="1778"/>
                  </a:lnTo>
                  <a:lnTo>
                    <a:pt x="2020" y="1775"/>
                  </a:lnTo>
                  <a:lnTo>
                    <a:pt x="2020" y="1766"/>
                  </a:lnTo>
                  <a:lnTo>
                    <a:pt x="2023" y="1757"/>
                  </a:lnTo>
                  <a:lnTo>
                    <a:pt x="2023" y="1749"/>
                  </a:lnTo>
                  <a:lnTo>
                    <a:pt x="2014" y="1743"/>
                  </a:lnTo>
                  <a:lnTo>
                    <a:pt x="2005" y="1740"/>
                  </a:lnTo>
                  <a:lnTo>
                    <a:pt x="1994" y="1740"/>
                  </a:lnTo>
                  <a:lnTo>
                    <a:pt x="1985" y="1737"/>
                  </a:lnTo>
                  <a:lnTo>
                    <a:pt x="1976" y="1731"/>
                  </a:lnTo>
                  <a:lnTo>
                    <a:pt x="1967" y="1729"/>
                  </a:lnTo>
                  <a:lnTo>
                    <a:pt x="1967" y="1737"/>
                  </a:lnTo>
                  <a:lnTo>
                    <a:pt x="1970" y="1746"/>
                  </a:lnTo>
                  <a:lnTo>
                    <a:pt x="1976" y="1755"/>
                  </a:lnTo>
                  <a:lnTo>
                    <a:pt x="1976" y="1763"/>
                  </a:lnTo>
                  <a:lnTo>
                    <a:pt x="1976" y="1772"/>
                  </a:lnTo>
                  <a:lnTo>
                    <a:pt x="1973" y="1780"/>
                  </a:lnTo>
                  <a:lnTo>
                    <a:pt x="1965" y="1789"/>
                  </a:lnTo>
                  <a:lnTo>
                    <a:pt x="1956" y="1795"/>
                  </a:lnTo>
                  <a:lnTo>
                    <a:pt x="1953" y="1803"/>
                  </a:lnTo>
                  <a:lnTo>
                    <a:pt x="1962" y="1806"/>
                  </a:lnTo>
                  <a:lnTo>
                    <a:pt x="1970" y="1806"/>
                  </a:lnTo>
                  <a:lnTo>
                    <a:pt x="1979" y="1806"/>
                  </a:lnTo>
                  <a:lnTo>
                    <a:pt x="1982" y="1815"/>
                  </a:lnTo>
                  <a:lnTo>
                    <a:pt x="1976" y="1824"/>
                  </a:lnTo>
                  <a:lnTo>
                    <a:pt x="1965" y="1832"/>
                  </a:lnTo>
                  <a:lnTo>
                    <a:pt x="1959" y="1841"/>
                  </a:lnTo>
                  <a:lnTo>
                    <a:pt x="1959" y="1850"/>
                  </a:lnTo>
                  <a:lnTo>
                    <a:pt x="1947" y="1838"/>
                  </a:lnTo>
                  <a:lnTo>
                    <a:pt x="1938" y="1835"/>
                  </a:lnTo>
                  <a:lnTo>
                    <a:pt x="1933" y="1827"/>
                  </a:lnTo>
                  <a:lnTo>
                    <a:pt x="1924" y="1821"/>
                  </a:lnTo>
                  <a:lnTo>
                    <a:pt x="1915" y="1821"/>
                  </a:lnTo>
                  <a:lnTo>
                    <a:pt x="1906" y="1829"/>
                  </a:lnTo>
                  <a:lnTo>
                    <a:pt x="1898" y="1835"/>
                  </a:lnTo>
                  <a:lnTo>
                    <a:pt x="1889" y="1838"/>
                  </a:lnTo>
                  <a:lnTo>
                    <a:pt x="1880" y="1841"/>
                  </a:lnTo>
                  <a:lnTo>
                    <a:pt x="1874" y="1850"/>
                  </a:lnTo>
                  <a:lnTo>
                    <a:pt x="1871" y="1858"/>
                  </a:lnTo>
                  <a:lnTo>
                    <a:pt x="1868" y="1867"/>
                  </a:lnTo>
                  <a:lnTo>
                    <a:pt x="1868" y="1876"/>
                  </a:lnTo>
                  <a:lnTo>
                    <a:pt x="1868" y="1884"/>
                  </a:lnTo>
                  <a:lnTo>
                    <a:pt x="1868" y="1893"/>
                  </a:lnTo>
                  <a:lnTo>
                    <a:pt x="1868" y="1901"/>
                  </a:lnTo>
                  <a:lnTo>
                    <a:pt x="1860" y="1907"/>
                  </a:lnTo>
                  <a:lnTo>
                    <a:pt x="1848" y="1901"/>
                  </a:lnTo>
                  <a:lnTo>
                    <a:pt x="1845" y="1893"/>
                  </a:lnTo>
                  <a:lnTo>
                    <a:pt x="1839" y="1884"/>
                  </a:lnTo>
                  <a:lnTo>
                    <a:pt x="1831" y="1876"/>
                  </a:lnTo>
                  <a:lnTo>
                    <a:pt x="1822" y="1870"/>
                  </a:lnTo>
                  <a:lnTo>
                    <a:pt x="1813" y="1867"/>
                  </a:lnTo>
                  <a:lnTo>
                    <a:pt x="1804" y="1867"/>
                  </a:lnTo>
                  <a:lnTo>
                    <a:pt x="1799" y="1876"/>
                  </a:lnTo>
                  <a:lnTo>
                    <a:pt x="1796" y="1884"/>
                  </a:lnTo>
                  <a:lnTo>
                    <a:pt x="1796" y="1893"/>
                  </a:lnTo>
                  <a:lnTo>
                    <a:pt x="1804" y="1899"/>
                  </a:lnTo>
                  <a:lnTo>
                    <a:pt x="1816" y="1901"/>
                  </a:lnTo>
                  <a:lnTo>
                    <a:pt x="1819" y="1910"/>
                  </a:lnTo>
                  <a:lnTo>
                    <a:pt x="1807" y="1910"/>
                  </a:lnTo>
                  <a:lnTo>
                    <a:pt x="1819" y="1893"/>
                  </a:lnTo>
                  <a:lnTo>
                    <a:pt x="1810" y="1896"/>
                  </a:lnTo>
                  <a:lnTo>
                    <a:pt x="1822" y="1899"/>
                  </a:lnTo>
                  <a:lnTo>
                    <a:pt x="1822" y="1910"/>
                  </a:lnTo>
                  <a:lnTo>
                    <a:pt x="1822" y="1919"/>
                  </a:lnTo>
                  <a:lnTo>
                    <a:pt x="1816" y="1927"/>
                  </a:lnTo>
                  <a:lnTo>
                    <a:pt x="1802" y="1927"/>
                  </a:lnTo>
                  <a:lnTo>
                    <a:pt x="1793" y="1922"/>
                  </a:lnTo>
                  <a:lnTo>
                    <a:pt x="1790" y="1913"/>
                  </a:lnTo>
                  <a:lnTo>
                    <a:pt x="1790" y="1904"/>
                  </a:lnTo>
                  <a:lnTo>
                    <a:pt x="1784" y="1896"/>
                  </a:lnTo>
                  <a:lnTo>
                    <a:pt x="1778" y="1887"/>
                  </a:lnTo>
                  <a:lnTo>
                    <a:pt x="1770" y="1878"/>
                  </a:lnTo>
                  <a:lnTo>
                    <a:pt x="1767" y="1870"/>
                  </a:lnTo>
                  <a:lnTo>
                    <a:pt x="1764" y="1861"/>
                  </a:lnTo>
                  <a:lnTo>
                    <a:pt x="1764" y="1850"/>
                  </a:lnTo>
                  <a:lnTo>
                    <a:pt x="1764" y="1841"/>
                  </a:lnTo>
                  <a:lnTo>
                    <a:pt x="1764" y="1832"/>
                  </a:lnTo>
                  <a:lnTo>
                    <a:pt x="1772" y="1827"/>
                  </a:lnTo>
                  <a:lnTo>
                    <a:pt x="1778" y="1818"/>
                  </a:lnTo>
                  <a:lnTo>
                    <a:pt x="1778" y="1809"/>
                  </a:lnTo>
                  <a:lnTo>
                    <a:pt x="1778" y="1801"/>
                  </a:lnTo>
                  <a:lnTo>
                    <a:pt x="1778" y="1792"/>
                  </a:lnTo>
                  <a:lnTo>
                    <a:pt x="1770" y="1783"/>
                  </a:lnTo>
                  <a:lnTo>
                    <a:pt x="1761" y="1778"/>
                  </a:lnTo>
                  <a:lnTo>
                    <a:pt x="1752" y="1772"/>
                  </a:lnTo>
                  <a:lnTo>
                    <a:pt x="1752" y="1763"/>
                  </a:lnTo>
                  <a:lnTo>
                    <a:pt x="1752" y="1752"/>
                  </a:lnTo>
                  <a:lnTo>
                    <a:pt x="1752" y="1743"/>
                  </a:lnTo>
                  <a:lnTo>
                    <a:pt x="1764" y="1749"/>
                  </a:lnTo>
                  <a:lnTo>
                    <a:pt x="1772" y="1757"/>
                  </a:lnTo>
                  <a:lnTo>
                    <a:pt x="1781" y="1763"/>
                  </a:lnTo>
                  <a:lnTo>
                    <a:pt x="1781" y="1772"/>
                  </a:lnTo>
                  <a:lnTo>
                    <a:pt x="1787" y="1783"/>
                  </a:lnTo>
                  <a:lnTo>
                    <a:pt x="1796" y="1789"/>
                  </a:lnTo>
                  <a:lnTo>
                    <a:pt x="1804" y="1795"/>
                  </a:lnTo>
                  <a:lnTo>
                    <a:pt x="1816" y="1801"/>
                  </a:lnTo>
                  <a:lnTo>
                    <a:pt x="1822" y="1809"/>
                  </a:lnTo>
                  <a:lnTo>
                    <a:pt x="1831" y="1815"/>
                  </a:lnTo>
                  <a:lnTo>
                    <a:pt x="1836" y="1824"/>
                  </a:lnTo>
                  <a:lnTo>
                    <a:pt x="1845" y="1829"/>
                  </a:lnTo>
                  <a:lnTo>
                    <a:pt x="1854" y="1835"/>
                  </a:lnTo>
                  <a:lnTo>
                    <a:pt x="1866" y="1835"/>
                  </a:lnTo>
                  <a:lnTo>
                    <a:pt x="1874" y="1835"/>
                  </a:lnTo>
                  <a:lnTo>
                    <a:pt x="1883" y="1835"/>
                  </a:lnTo>
                  <a:lnTo>
                    <a:pt x="1892" y="1829"/>
                  </a:lnTo>
                  <a:lnTo>
                    <a:pt x="1901" y="1827"/>
                  </a:lnTo>
                  <a:lnTo>
                    <a:pt x="1909" y="1818"/>
                  </a:lnTo>
                  <a:lnTo>
                    <a:pt x="1909" y="1809"/>
                  </a:lnTo>
                  <a:lnTo>
                    <a:pt x="1909" y="1801"/>
                  </a:lnTo>
                  <a:lnTo>
                    <a:pt x="1909" y="1792"/>
                  </a:lnTo>
                  <a:lnTo>
                    <a:pt x="1915" y="1783"/>
                  </a:lnTo>
                  <a:lnTo>
                    <a:pt x="1918" y="1775"/>
                  </a:lnTo>
                  <a:lnTo>
                    <a:pt x="1918" y="1766"/>
                  </a:lnTo>
                  <a:lnTo>
                    <a:pt x="1915" y="1757"/>
                  </a:lnTo>
                  <a:lnTo>
                    <a:pt x="1909" y="1749"/>
                  </a:lnTo>
                  <a:lnTo>
                    <a:pt x="1901" y="1740"/>
                  </a:lnTo>
                  <a:lnTo>
                    <a:pt x="1895" y="1731"/>
                  </a:lnTo>
                  <a:lnTo>
                    <a:pt x="1892" y="1720"/>
                  </a:lnTo>
                  <a:lnTo>
                    <a:pt x="1889" y="1711"/>
                  </a:lnTo>
                  <a:lnTo>
                    <a:pt x="1880" y="1706"/>
                  </a:lnTo>
                  <a:lnTo>
                    <a:pt x="1871" y="1697"/>
                  </a:lnTo>
                  <a:lnTo>
                    <a:pt x="1866" y="1688"/>
                  </a:lnTo>
                  <a:lnTo>
                    <a:pt x="1860" y="1680"/>
                  </a:lnTo>
                  <a:lnTo>
                    <a:pt x="1851" y="1671"/>
                  </a:lnTo>
                  <a:lnTo>
                    <a:pt x="1842" y="1665"/>
                  </a:lnTo>
                  <a:lnTo>
                    <a:pt x="1831" y="1662"/>
                  </a:lnTo>
                  <a:lnTo>
                    <a:pt x="1819" y="1657"/>
                  </a:lnTo>
                  <a:lnTo>
                    <a:pt x="1813" y="1648"/>
                  </a:lnTo>
                  <a:lnTo>
                    <a:pt x="1810" y="1639"/>
                  </a:lnTo>
                  <a:lnTo>
                    <a:pt x="1807" y="1631"/>
                  </a:lnTo>
                  <a:lnTo>
                    <a:pt x="1799" y="1622"/>
                  </a:lnTo>
                  <a:lnTo>
                    <a:pt x="1793" y="1613"/>
                  </a:lnTo>
                  <a:lnTo>
                    <a:pt x="1784" y="1613"/>
                  </a:lnTo>
                  <a:lnTo>
                    <a:pt x="1772" y="1613"/>
                  </a:lnTo>
                  <a:lnTo>
                    <a:pt x="1764" y="1608"/>
                  </a:lnTo>
                  <a:lnTo>
                    <a:pt x="1761" y="1599"/>
                  </a:lnTo>
                  <a:lnTo>
                    <a:pt x="1772" y="1596"/>
                  </a:lnTo>
                  <a:lnTo>
                    <a:pt x="1781" y="1596"/>
                  </a:lnTo>
                  <a:lnTo>
                    <a:pt x="1787" y="1587"/>
                  </a:lnTo>
                  <a:lnTo>
                    <a:pt x="1778" y="1579"/>
                  </a:lnTo>
                  <a:lnTo>
                    <a:pt x="1770" y="1576"/>
                  </a:lnTo>
                  <a:lnTo>
                    <a:pt x="1761" y="1573"/>
                  </a:lnTo>
                  <a:lnTo>
                    <a:pt x="1758" y="1564"/>
                  </a:lnTo>
                  <a:lnTo>
                    <a:pt x="1758" y="1556"/>
                  </a:lnTo>
                  <a:lnTo>
                    <a:pt x="1758" y="1547"/>
                  </a:lnTo>
                  <a:lnTo>
                    <a:pt x="1749" y="1547"/>
                  </a:lnTo>
                  <a:lnTo>
                    <a:pt x="1737" y="1553"/>
                  </a:lnTo>
                  <a:lnTo>
                    <a:pt x="1729" y="1553"/>
                  </a:lnTo>
                  <a:lnTo>
                    <a:pt x="1720" y="1556"/>
                  </a:lnTo>
                  <a:lnTo>
                    <a:pt x="1720" y="1547"/>
                  </a:lnTo>
                  <a:lnTo>
                    <a:pt x="1723" y="1538"/>
                  </a:lnTo>
                  <a:lnTo>
                    <a:pt x="1726" y="1550"/>
                  </a:lnTo>
                  <a:lnTo>
                    <a:pt x="1723" y="1559"/>
                  </a:lnTo>
                  <a:lnTo>
                    <a:pt x="1723" y="1567"/>
                  </a:lnTo>
                  <a:lnTo>
                    <a:pt x="1732" y="1567"/>
                  </a:lnTo>
                  <a:lnTo>
                    <a:pt x="1740" y="1556"/>
                  </a:lnTo>
                  <a:lnTo>
                    <a:pt x="1726" y="1553"/>
                  </a:lnTo>
                  <a:lnTo>
                    <a:pt x="1717" y="1553"/>
                  </a:lnTo>
                  <a:lnTo>
                    <a:pt x="1705" y="1553"/>
                  </a:lnTo>
                  <a:lnTo>
                    <a:pt x="1705" y="1541"/>
                  </a:lnTo>
                  <a:lnTo>
                    <a:pt x="1711" y="1533"/>
                  </a:lnTo>
                  <a:lnTo>
                    <a:pt x="1700" y="1535"/>
                  </a:lnTo>
                  <a:lnTo>
                    <a:pt x="1691" y="1541"/>
                  </a:lnTo>
                  <a:lnTo>
                    <a:pt x="1679" y="1544"/>
                  </a:lnTo>
                  <a:lnTo>
                    <a:pt x="1685" y="1533"/>
                  </a:lnTo>
                  <a:lnTo>
                    <a:pt x="1685" y="1524"/>
                  </a:lnTo>
                  <a:lnTo>
                    <a:pt x="1676" y="1524"/>
                  </a:lnTo>
                  <a:lnTo>
                    <a:pt x="1668" y="1533"/>
                  </a:lnTo>
                  <a:lnTo>
                    <a:pt x="1662" y="1541"/>
                  </a:lnTo>
                  <a:lnTo>
                    <a:pt x="1653" y="1544"/>
                  </a:lnTo>
                  <a:lnTo>
                    <a:pt x="1653" y="1535"/>
                  </a:lnTo>
                  <a:lnTo>
                    <a:pt x="1644" y="1541"/>
                  </a:lnTo>
                  <a:lnTo>
                    <a:pt x="1641" y="1550"/>
                  </a:lnTo>
                  <a:lnTo>
                    <a:pt x="1633" y="1547"/>
                  </a:lnTo>
                  <a:lnTo>
                    <a:pt x="1633" y="1538"/>
                  </a:lnTo>
                  <a:lnTo>
                    <a:pt x="1624" y="1538"/>
                  </a:lnTo>
                  <a:lnTo>
                    <a:pt x="1615" y="1541"/>
                  </a:lnTo>
                  <a:lnTo>
                    <a:pt x="1609" y="1550"/>
                  </a:lnTo>
                  <a:lnTo>
                    <a:pt x="1601" y="1541"/>
                  </a:lnTo>
                  <a:lnTo>
                    <a:pt x="1598" y="1533"/>
                  </a:lnTo>
                  <a:lnTo>
                    <a:pt x="1589" y="1535"/>
                  </a:lnTo>
                  <a:lnTo>
                    <a:pt x="1580" y="1541"/>
                  </a:lnTo>
                  <a:lnTo>
                    <a:pt x="1569" y="1538"/>
                  </a:lnTo>
                  <a:lnTo>
                    <a:pt x="1563" y="1547"/>
                  </a:lnTo>
                  <a:lnTo>
                    <a:pt x="1557" y="1559"/>
                  </a:lnTo>
                  <a:lnTo>
                    <a:pt x="1554" y="1567"/>
                  </a:lnTo>
                  <a:lnTo>
                    <a:pt x="1548" y="1576"/>
                  </a:lnTo>
                  <a:lnTo>
                    <a:pt x="1540" y="1576"/>
                  </a:lnTo>
                  <a:lnTo>
                    <a:pt x="1531" y="1576"/>
                  </a:lnTo>
                  <a:lnTo>
                    <a:pt x="1525" y="1564"/>
                  </a:lnTo>
                  <a:lnTo>
                    <a:pt x="1525" y="1556"/>
                  </a:lnTo>
                  <a:lnTo>
                    <a:pt x="1525" y="1547"/>
                  </a:lnTo>
                  <a:lnTo>
                    <a:pt x="1516" y="1544"/>
                  </a:lnTo>
                  <a:lnTo>
                    <a:pt x="1513" y="1553"/>
                  </a:lnTo>
                  <a:lnTo>
                    <a:pt x="1528" y="1541"/>
                  </a:lnTo>
                  <a:lnTo>
                    <a:pt x="1510" y="1530"/>
                  </a:lnTo>
                  <a:lnTo>
                    <a:pt x="1502" y="1530"/>
                  </a:lnTo>
                  <a:lnTo>
                    <a:pt x="1493" y="1538"/>
                  </a:lnTo>
                  <a:lnTo>
                    <a:pt x="1484" y="1544"/>
                  </a:lnTo>
                  <a:lnTo>
                    <a:pt x="1481" y="1553"/>
                  </a:lnTo>
                  <a:lnTo>
                    <a:pt x="1481" y="1561"/>
                  </a:lnTo>
                  <a:lnTo>
                    <a:pt x="1487" y="1570"/>
                  </a:lnTo>
                  <a:lnTo>
                    <a:pt x="1487" y="1579"/>
                  </a:lnTo>
                  <a:lnTo>
                    <a:pt x="1478" y="1587"/>
                  </a:lnTo>
                  <a:lnTo>
                    <a:pt x="1470" y="1590"/>
                  </a:lnTo>
                  <a:lnTo>
                    <a:pt x="1461" y="1599"/>
                  </a:lnTo>
                  <a:lnTo>
                    <a:pt x="1443" y="1599"/>
                  </a:lnTo>
                  <a:lnTo>
                    <a:pt x="1432" y="1599"/>
                  </a:lnTo>
                  <a:lnTo>
                    <a:pt x="1426" y="1610"/>
                  </a:lnTo>
                  <a:lnTo>
                    <a:pt x="1420" y="1619"/>
                  </a:lnTo>
                  <a:lnTo>
                    <a:pt x="1429" y="1619"/>
                  </a:lnTo>
                  <a:lnTo>
                    <a:pt x="1417" y="1628"/>
                  </a:lnTo>
                  <a:lnTo>
                    <a:pt x="1406" y="1628"/>
                  </a:lnTo>
                  <a:lnTo>
                    <a:pt x="1397" y="1628"/>
                  </a:lnTo>
                  <a:lnTo>
                    <a:pt x="1388" y="1628"/>
                  </a:lnTo>
                  <a:lnTo>
                    <a:pt x="1382" y="1636"/>
                  </a:lnTo>
                  <a:lnTo>
                    <a:pt x="1379" y="1645"/>
                  </a:lnTo>
                  <a:lnTo>
                    <a:pt x="1371" y="1645"/>
                  </a:lnTo>
                  <a:lnTo>
                    <a:pt x="1362" y="1645"/>
                  </a:lnTo>
                  <a:lnTo>
                    <a:pt x="1356" y="1654"/>
                  </a:lnTo>
                  <a:lnTo>
                    <a:pt x="1347" y="1657"/>
                  </a:lnTo>
                  <a:lnTo>
                    <a:pt x="1336" y="1659"/>
                  </a:lnTo>
                  <a:lnTo>
                    <a:pt x="1327" y="1659"/>
                  </a:lnTo>
                  <a:lnTo>
                    <a:pt x="1318" y="1662"/>
                  </a:lnTo>
                  <a:lnTo>
                    <a:pt x="1310" y="1662"/>
                  </a:lnTo>
                  <a:lnTo>
                    <a:pt x="1298" y="1662"/>
                  </a:lnTo>
                  <a:lnTo>
                    <a:pt x="1289" y="1665"/>
                  </a:lnTo>
                  <a:lnTo>
                    <a:pt x="1280" y="1671"/>
                  </a:lnTo>
                  <a:lnTo>
                    <a:pt x="1278" y="1680"/>
                  </a:lnTo>
                  <a:lnTo>
                    <a:pt x="1280" y="1691"/>
                  </a:lnTo>
                  <a:lnTo>
                    <a:pt x="1289" y="1694"/>
                  </a:lnTo>
                  <a:lnTo>
                    <a:pt x="1301" y="1697"/>
                  </a:lnTo>
                  <a:lnTo>
                    <a:pt x="1312" y="1697"/>
                  </a:lnTo>
                  <a:lnTo>
                    <a:pt x="1321" y="1697"/>
                  </a:lnTo>
                  <a:lnTo>
                    <a:pt x="1310" y="1694"/>
                  </a:lnTo>
                  <a:lnTo>
                    <a:pt x="1298" y="1694"/>
                  </a:lnTo>
                  <a:lnTo>
                    <a:pt x="1289" y="1691"/>
                  </a:lnTo>
                  <a:lnTo>
                    <a:pt x="1304" y="1685"/>
                  </a:lnTo>
                  <a:lnTo>
                    <a:pt x="1312" y="1685"/>
                  </a:lnTo>
                  <a:lnTo>
                    <a:pt x="1321" y="1685"/>
                  </a:lnTo>
                  <a:lnTo>
                    <a:pt x="1312" y="1682"/>
                  </a:lnTo>
                  <a:lnTo>
                    <a:pt x="1301" y="1685"/>
                  </a:lnTo>
                  <a:lnTo>
                    <a:pt x="1292" y="1685"/>
                  </a:lnTo>
                  <a:lnTo>
                    <a:pt x="1286" y="1677"/>
                  </a:lnTo>
                  <a:lnTo>
                    <a:pt x="1275" y="1668"/>
                  </a:lnTo>
                  <a:lnTo>
                    <a:pt x="1266" y="1665"/>
                  </a:lnTo>
                  <a:lnTo>
                    <a:pt x="1248" y="1659"/>
                  </a:lnTo>
                  <a:lnTo>
                    <a:pt x="1240" y="1659"/>
                  </a:lnTo>
                  <a:lnTo>
                    <a:pt x="1234" y="1668"/>
                  </a:lnTo>
                  <a:lnTo>
                    <a:pt x="1225" y="1671"/>
                  </a:lnTo>
                  <a:lnTo>
                    <a:pt x="1216" y="1674"/>
                  </a:lnTo>
                  <a:lnTo>
                    <a:pt x="1208" y="1674"/>
                  </a:lnTo>
                  <a:lnTo>
                    <a:pt x="1199" y="1671"/>
                  </a:lnTo>
                  <a:lnTo>
                    <a:pt x="1190" y="1674"/>
                  </a:lnTo>
                  <a:lnTo>
                    <a:pt x="1176" y="1671"/>
                  </a:lnTo>
                  <a:lnTo>
                    <a:pt x="1167" y="1668"/>
                  </a:lnTo>
                  <a:lnTo>
                    <a:pt x="1161" y="1677"/>
                  </a:lnTo>
                  <a:lnTo>
                    <a:pt x="1152" y="1682"/>
                  </a:lnTo>
                  <a:lnTo>
                    <a:pt x="1144" y="1682"/>
                  </a:lnTo>
                  <a:lnTo>
                    <a:pt x="1132" y="1682"/>
                  </a:lnTo>
                  <a:lnTo>
                    <a:pt x="1132" y="1691"/>
                  </a:lnTo>
                  <a:lnTo>
                    <a:pt x="1132" y="1700"/>
                  </a:lnTo>
                  <a:lnTo>
                    <a:pt x="1147" y="1708"/>
                  </a:lnTo>
                  <a:lnTo>
                    <a:pt x="1155" y="1720"/>
                  </a:lnTo>
                  <a:lnTo>
                    <a:pt x="1158" y="1729"/>
                  </a:lnTo>
                  <a:lnTo>
                    <a:pt x="1158" y="1737"/>
                  </a:lnTo>
                  <a:lnTo>
                    <a:pt x="1161" y="1746"/>
                  </a:lnTo>
                  <a:lnTo>
                    <a:pt x="1161" y="1737"/>
                  </a:lnTo>
                  <a:lnTo>
                    <a:pt x="1155" y="1726"/>
                  </a:lnTo>
                  <a:lnTo>
                    <a:pt x="1152" y="1717"/>
                  </a:lnTo>
                  <a:lnTo>
                    <a:pt x="1138" y="1717"/>
                  </a:lnTo>
                  <a:lnTo>
                    <a:pt x="1129" y="1711"/>
                  </a:lnTo>
                  <a:lnTo>
                    <a:pt x="1120" y="1711"/>
                  </a:lnTo>
                  <a:lnTo>
                    <a:pt x="1117" y="1720"/>
                  </a:lnTo>
                  <a:lnTo>
                    <a:pt x="1114" y="1731"/>
                  </a:lnTo>
                  <a:lnTo>
                    <a:pt x="1114" y="1740"/>
                  </a:lnTo>
                  <a:lnTo>
                    <a:pt x="1126" y="1740"/>
                  </a:lnTo>
                  <a:lnTo>
                    <a:pt x="1138" y="1743"/>
                  </a:lnTo>
                  <a:lnTo>
                    <a:pt x="1129" y="1743"/>
                  </a:lnTo>
                  <a:lnTo>
                    <a:pt x="1120" y="1743"/>
                  </a:lnTo>
                  <a:lnTo>
                    <a:pt x="1112" y="1746"/>
                  </a:lnTo>
                  <a:lnTo>
                    <a:pt x="1103" y="1752"/>
                  </a:lnTo>
                  <a:lnTo>
                    <a:pt x="1094" y="1755"/>
                  </a:lnTo>
                  <a:lnTo>
                    <a:pt x="1085" y="1763"/>
                  </a:lnTo>
                  <a:lnTo>
                    <a:pt x="1077" y="1766"/>
                  </a:lnTo>
                  <a:lnTo>
                    <a:pt x="1068" y="1766"/>
                  </a:lnTo>
                  <a:lnTo>
                    <a:pt x="1077" y="1772"/>
                  </a:lnTo>
                  <a:lnTo>
                    <a:pt x="1085" y="1772"/>
                  </a:lnTo>
                  <a:lnTo>
                    <a:pt x="1097" y="1775"/>
                  </a:lnTo>
                  <a:lnTo>
                    <a:pt x="1091" y="1783"/>
                  </a:lnTo>
                  <a:lnTo>
                    <a:pt x="1080" y="1786"/>
                  </a:lnTo>
                  <a:lnTo>
                    <a:pt x="1071" y="1786"/>
                  </a:lnTo>
                  <a:lnTo>
                    <a:pt x="1062" y="1789"/>
                  </a:lnTo>
                  <a:lnTo>
                    <a:pt x="1056" y="1798"/>
                  </a:lnTo>
                  <a:lnTo>
                    <a:pt x="1056" y="1806"/>
                  </a:lnTo>
                  <a:lnTo>
                    <a:pt x="1056" y="1815"/>
                  </a:lnTo>
                  <a:lnTo>
                    <a:pt x="1056" y="1824"/>
                  </a:lnTo>
                  <a:lnTo>
                    <a:pt x="1056" y="1832"/>
                  </a:lnTo>
                  <a:lnTo>
                    <a:pt x="1056" y="1841"/>
                  </a:lnTo>
                  <a:lnTo>
                    <a:pt x="1062" y="1850"/>
                  </a:lnTo>
                  <a:lnTo>
                    <a:pt x="1074" y="1855"/>
                  </a:lnTo>
                  <a:lnTo>
                    <a:pt x="1082" y="1855"/>
                  </a:lnTo>
                  <a:lnTo>
                    <a:pt x="1091" y="1855"/>
                  </a:lnTo>
                  <a:lnTo>
                    <a:pt x="1103" y="1855"/>
                  </a:lnTo>
                  <a:lnTo>
                    <a:pt x="1112" y="1855"/>
                  </a:lnTo>
                  <a:lnTo>
                    <a:pt x="1120" y="1855"/>
                  </a:lnTo>
                  <a:lnTo>
                    <a:pt x="1132" y="1855"/>
                  </a:lnTo>
                  <a:lnTo>
                    <a:pt x="1144" y="1855"/>
                  </a:lnTo>
                  <a:lnTo>
                    <a:pt x="1152" y="1852"/>
                  </a:lnTo>
                  <a:lnTo>
                    <a:pt x="1167" y="1852"/>
                  </a:lnTo>
                  <a:lnTo>
                    <a:pt x="1176" y="1844"/>
                  </a:lnTo>
                  <a:lnTo>
                    <a:pt x="1179" y="1835"/>
                  </a:lnTo>
                  <a:lnTo>
                    <a:pt x="1181" y="1827"/>
                  </a:lnTo>
                  <a:lnTo>
                    <a:pt x="1184" y="1835"/>
                  </a:lnTo>
                  <a:lnTo>
                    <a:pt x="1184" y="1844"/>
                  </a:lnTo>
                  <a:lnTo>
                    <a:pt x="1181" y="1852"/>
                  </a:lnTo>
                  <a:lnTo>
                    <a:pt x="1170" y="1858"/>
                  </a:lnTo>
                  <a:lnTo>
                    <a:pt x="1173" y="1867"/>
                  </a:lnTo>
                  <a:lnTo>
                    <a:pt x="1170" y="1876"/>
                  </a:lnTo>
                  <a:lnTo>
                    <a:pt x="1164" y="1884"/>
                  </a:lnTo>
                  <a:lnTo>
                    <a:pt x="1161" y="1893"/>
                  </a:lnTo>
                  <a:lnTo>
                    <a:pt x="1161" y="1901"/>
                  </a:lnTo>
                  <a:lnTo>
                    <a:pt x="1158" y="1910"/>
                  </a:lnTo>
                  <a:lnTo>
                    <a:pt x="1149" y="1913"/>
                  </a:lnTo>
                  <a:lnTo>
                    <a:pt x="1147" y="1922"/>
                  </a:lnTo>
                  <a:lnTo>
                    <a:pt x="1147" y="1930"/>
                  </a:lnTo>
                  <a:lnTo>
                    <a:pt x="1144" y="1939"/>
                  </a:lnTo>
                  <a:lnTo>
                    <a:pt x="1144" y="1948"/>
                  </a:lnTo>
                  <a:lnTo>
                    <a:pt x="1141" y="1956"/>
                  </a:lnTo>
                  <a:lnTo>
                    <a:pt x="1141" y="1968"/>
                  </a:lnTo>
                  <a:lnTo>
                    <a:pt x="1141" y="1976"/>
                  </a:lnTo>
                  <a:lnTo>
                    <a:pt x="1155" y="1956"/>
                  </a:lnTo>
                  <a:lnTo>
                    <a:pt x="1144" y="1956"/>
                  </a:lnTo>
                  <a:lnTo>
                    <a:pt x="1144" y="1965"/>
                  </a:lnTo>
                  <a:lnTo>
                    <a:pt x="1144" y="1974"/>
                  </a:lnTo>
                  <a:lnTo>
                    <a:pt x="1144" y="1982"/>
                  </a:lnTo>
                  <a:lnTo>
                    <a:pt x="1138" y="1991"/>
                  </a:lnTo>
                  <a:lnTo>
                    <a:pt x="1129" y="1997"/>
                  </a:lnTo>
                  <a:lnTo>
                    <a:pt x="1120" y="1997"/>
                  </a:lnTo>
                  <a:lnTo>
                    <a:pt x="1117" y="2005"/>
                  </a:lnTo>
                  <a:lnTo>
                    <a:pt x="1117" y="2014"/>
                  </a:lnTo>
                  <a:lnTo>
                    <a:pt x="1117" y="2023"/>
                  </a:lnTo>
                  <a:lnTo>
                    <a:pt x="1117" y="2031"/>
                  </a:lnTo>
                  <a:lnTo>
                    <a:pt x="1120" y="2040"/>
                  </a:lnTo>
                  <a:lnTo>
                    <a:pt x="1129" y="2046"/>
                  </a:lnTo>
                  <a:lnTo>
                    <a:pt x="1144" y="2054"/>
                  </a:lnTo>
                  <a:lnTo>
                    <a:pt x="1152" y="2054"/>
                  </a:lnTo>
                  <a:lnTo>
                    <a:pt x="1158" y="2046"/>
                  </a:lnTo>
                  <a:lnTo>
                    <a:pt x="1158" y="2037"/>
                  </a:lnTo>
                  <a:lnTo>
                    <a:pt x="1170" y="2037"/>
                  </a:lnTo>
                  <a:lnTo>
                    <a:pt x="1179" y="2037"/>
                  </a:lnTo>
                  <a:lnTo>
                    <a:pt x="1187" y="2037"/>
                  </a:lnTo>
                  <a:lnTo>
                    <a:pt x="1199" y="2037"/>
                  </a:lnTo>
                  <a:lnTo>
                    <a:pt x="1208" y="2040"/>
                  </a:lnTo>
                  <a:lnTo>
                    <a:pt x="1216" y="2043"/>
                  </a:lnTo>
                  <a:lnTo>
                    <a:pt x="1225" y="2040"/>
                  </a:lnTo>
                  <a:lnTo>
                    <a:pt x="1228" y="2031"/>
                  </a:lnTo>
                  <a:lnTo>
                    <a:pt x="1231" y="2023"/>
                  </a:lnTo>
                  <a:lnTo>
                    <a:pt x="1237" y="2014"/>
                  </a:lnTo>
                  <a:lnTo>
                    <a:pt x="1245" y="2005"/>
                  </a:lnTo>
                  <a:lnTo>
                    <a:pt x="1251" y="1997"/>
                  </a:lnTo>
                  <a:lnTo>
                    <a:pt x="1260" y="1991"/>
                  </a:lnTo>
                  <a:lnTo>
                    <a:pt x="1266" y="1982"/>
                  </a:lnTo>
                  <a:lnTo>
                    <a:pt x="1269" y="1974"/>
                  </a:lnTo>
                  <a:lnTo>
                    <a:pt x="1272" y="1965"/>
                  </a:lnTo>
                  <a:lnTo>
                    <a:pt x="1280" y="1962"/>
                  </a:lnTo>
                  <a:lnTo>
                    <a:pt x="1289" y="1962"/>
                  </a:lnTo>
                  <a:lnTo>
                    <a:pt x="1298" y="1959"/>
                  </a:lnTo>
                  <a:lnTo>
                    <a:pt x="1301" y="1950"/>
                  </a:lnTo>
                  <a:lnTo>
                    <a:pt x="1304" y="1942"/>
                  </a:lnTo>
                  <a:lnTo>
                    <a:pt x="1301" y="1933"/>
                  </a:lnTo>
                  <a:lnTo>
                    <a:pt x="1292" y="1925"/>
                  </a:lnTo>
                  <a:lnTo>
                    <a:pt x="1301" y="1919"/>
                  </a:lnTo>
                  <a:lnTo>
                    <a:pt x="1310" y="1927"/>
                  </a:lnTo>
                  <a:lnTo>
                    <a:pt x="1318" y="1933"/>
                  </a:lnTo>
                  <a:lnTo>
                    <a:pt x="1324" y="1942"/>
                  </a:lnTo>
                  <a:lnTo>
                    <a:pt x="1333" y="1950"/>
                  </a:lnTo>
                  <a:lnTo>
                    <a:pt x="1342" y="1950"/>
                  </a:lnTo>
                  <a:lnTo>
                    <a:pt x="1350" y="1950"/>
                  </a:lnTo>
                  <a:lnTo>
                    <a:pt x="1353" y="1942"/>
                  </a:lnTo>
                  <a:lnTo>
                    <a:pt x="1353" y="1933"/>
                  </a:lnTo>
                  <a:lnTo>
                    <a:pt x="1356" y="1925"/>
                  </a:lnTo>
                  <a:lnTo>
                    <a:pt x="1356" y="1916"/>
                  </a:lnTo>
                  <a:lnTo>
                    <a:pt x="1359" y="1907"/>
                  </a:lnTo>
                  <a:lnTo>
                    <a:pt x="1359" y="1899"/>
                  </a:lnTo>
                  <a:lnTo>
                    <a:pt x="1356" y="1890"/>
                  </a:lnTo>
                  <a:lnTo>
                    <a:pt x="1347" y="1881"/>
                  </a:lnTo>
                  <a:lnTo>
                    <a:pt x="1347" y="1870"/>
                  </a:lnTo>
                  <a:lnTo>
                    <a:pt x="1347" y="1861"/>
                  </a:lnTo>
                  <a:lnTo>
                    <a:pt x="1356" y="1855"/>
                  </a:lnTo>
                  <a:lnTo>
                    <a:pt x="1362" y="1847"/>
                  </a:lnTo>
                  <a:lnTo>
                    <a:pt x="1371" y="1844"/>
                  </a:lnTo>
                  <a:lnTo>
                    <a:pt x="1379" y="1835"/>
                  </a:lnTo>
                  <a:lnTo>
                    <a:pt x="1382" y="1827"/>
                  </a:lnTo>
                  <a:lnTo>
                    <a:pt x="1391" y="1821"/>
                  </a:lnTo>
                  <a:lnTo>
                    <a:pt x="1400" y="1815"/>
                  </a:lnTo>
                  <a:lnTo>
                    <a:pt x="1406" y="1806"/>
                  </a:lnTo>
                  <a:lnTo>
                    <a:pt x="1414" y="1801"/>
                  </a:lnTo>
                  <a:lnTo>
                    <a:pt x="1423" y="1801"/>
                  </a:lnTo>
                  <a:lnTo>
                    <a:pt x="1435" y="1798"/>
                  </a:lnTo>
                  <a:lnTo>
                    <a:pt x="1443" y="1792"/>
                  </a:lnTo>
                  <a:lnTo>
                    <a:pt x="1452" y="1792"/>
                  </a:lnTo>
                  <a:lnTo>
                    <a:pt x="1464" y="1789"/>
                  </a:lnTo>
                  <a:lnTo>
                    <a:pt x="1473" y="1789"/>
                  </a:lnTo>
                  <a:lnTo>
                    <a:pt x="1481" y="1789"/>
                  </a:lnTo>
                  <a:lnTo>
                    <a:pt x="1490" y="1786"/>
                  </a:lnTo>
                  <a:lnTo>
                    <a:pt x="1499" y="1786"/>
                  </a:lnTo>
                  <a:lnTo>
                    <a:pt x="1508" y="1786"/>
                  </a:lnTo>
                  <a:lnTo>
                    <a:pt x="1516" y="1783"/>
                  </a:lnTo>
                  <a:lnTo>
                    <a:pt x="1516" y="1775"/>
                  </a:lnTo>
                  <a:lnTo>
                    <a:pt x="1516" y="1766"/>
                  </a:lnTo>
                  <a:lnTo>
                    <a:pt x="1513" y="1757"/>
                  </a:lnTo>
                  <a:lnTo>
                    <a:pt x="1522" y="1752"/>
                  </a:lnTo>
                  <a:lnTo>
                    <a:pt x="1528" y="1743"/>
                  </a:lnTo>
                  <a:lnTo>
                    <a:pt x="1537" y="1737"/>
                  </a:lnTo>
                  <a:lnTo>
                    <a:pt x="1545" y="1737"/>
                  </a:lnTo>
                  <a:lnTo>
                    <a:pt x="1554" y="1734"/>
                  </a:lnTo>
                  <a:lnTo>
                    <a:pt x="1563" y="1729"/>
                  </a:lnTo>
                  <a:lnTo>
                    <a:pt x="1572" y="1729"/>
                  </a:lnTo>
                  <a:lnTo>
                    <a:pt x="1580" y="1737"/>
                  </a:lnTo>
                  <a:lnTo>
                    <a:pt x="1589" y="1743"/>
                  </a:lnTo>
                  <a:lnTo>
                    <a:pt x="1598" y="1749"/>
                  </a:lnTo>
                  <a:lnTo>
                    <a:pt x="1601" y="1757"/>
                  </a:lnTo>
                  <a:lnTo>
                    <a:pt x="1601" y="1766"/>
                  </a:lnTo>
                  <a:lnTo>
                    <a:pt x="1604" y="1775"/>
                  </a:lnTo>
                  <a:lnTo>
                    <a:pt x="1604" y="1783"/>
                  </a:lnTo>
                  <a:lnTo>
                    <a:pt x="1592" y="1789"/>
                  </a:lnTo>
                  <a:lnTo>
                    <a:pt x="1580" y="1789"/>
                  </a:lnTo>
                  <a:lnTo>
                    <a:pt x="1572" y="1792"/>
                  </a:lnTo>
                  <a:lnTo>
                    <a:pt x="1566" y="1801"/>
                  </a:lnTo>
                  <a:lnTo>
                    <a:pt x="1557" y="1806"/>
                  </a:lnTo>
                  <a:lnTo>
                    <a:pt x="1548" y="1812"/>
                  </a:lnTo>
                  <a:lnTo>
                    <a:pt x="1537" y="1815"/>
                  </a:lnTo>
                  <a:lnTo>
                    <a:pt x="1528" y="1818"/>
                  </a:lnTo>
                  <a:lnTo>
                    <a:pt x="1519" y="1824"/>
                  </a:lnTo>
                  <a:lnTo>
                    <a:pt x="1510" y="1829"/>
                  </a:lnTo>
                  <a:lnTo>
                    <a:pt x="1502" y="1829"/>
                  </a:lnTo>
                  <a:lnTo>
                    <a:pt x="1490" y="1832"/>
                  </a:lnTo>
                  <a:lnTo>
                    <a:pt x="1481" y="1835"/>
                  </a:lnTo>
                  <a:lnTo>
                    <a:pt x="1473" y="1835"/>
                  </a:lnTo>
                  <a:lnTo>
                    <a:pt x="1464" y="1841"/>
                  </a:lnTo>
                  <a:lnTo>
                    <a:pt x="1458" y="1850"/>
                  </a:lnTo>
                  <a:lnTo>
                    <a:pt x="1452" y="1858"/>
                  </a:lnTo>
                  <a:lnTo>
                    <a:pt x="1449" y="1867"/>
                  </a:lnTo>
                  <a:lnTo>
                    <a:pt x="1449" y="1876"/>
                  </a:lnTo>
                  <a:lnTo>
                    <a:pt x="1446" y="1884"/>
                  </a:lnTo>
                  <a:lnTo>
                    <a:pt x="1443" y="1893"/>
                  </a:lnTo>
                  <a:lnTo>
                    <a:pt x="1438" y="1901"/>
                  </a:lnTo>
                  <a:lnTo>
                    <a:pt x="1435" y="1910"/>
                  </a:lnTo>
                  <a:lnTo>
                    <a:pt x="1429" y="1919"/>
                  </a:lnTo>
                  <a:lnTo>
                    <a:pt x="1426" y="1927"/>
                  </a:lnTo>
                  <a:lnTo>
                    <a:pt x="1423" y="1936"/>
                  </a:lnTo>
                  <a:lnTo>
                    <a:pt x="1423" y="1945"/>
                  </a:lnTo>
                  <a:lnTo>
                    <a:pt x="1417" y="1953"/>
                  </a:lnTo>
                  <a:lnTo>
                    <a:pt x="1417" y="1962"/>
                  </a:lnTo>
                  <a:lnTo>
                    <a:pt x="1426" y="1962"/>
                  </a:lnTo>
                  <a:lnTo>
                    <a:pt x="1435" y="1974"/>
                  </a:lnTo>
                  <a:lnTo>
                    <a:pt x="1441" y="1982"/>
                  </a:lnTo>
                  <a:lnTo>
                    <a:pt x="1441" y="1991"/>
                  </a:lnTo>
                  <a:lnTo>
                    <a:pt x="1449" y="1991"/>
                  </a:lnTo>
                  <a:lnTo>
                    <a:pt x="1461" y="1991"/>
                  </a:lnTo>
                  <a:lnTo>
                    <a:pt x="1470" y="1991"/>
                  </a:lnTo>
                  <a:lnTo>
                    <a:pt x="1484" y="1994"/>
                  </a:lnTo>
                  <a:lnTo>
                    <a:pt x="1493" y="1994"/>
                  </a:lnTo>
                  <a:lnTo>
                    <a:pt x="1502" y="1994"/>
                  </a:lnTo>
                  <a:lnTo>
                    <a:pt x="1510" y="1991"/>
                  </a:lnTo>
                  <a:lnTo>
                    <a:pt x="1519" y="1997"/>
                  </a:lnTo>
                  <a:lnTo>
                    <a:pt x="1531" y="1988"/>
                  </a:lnTo>
                  <a:lnTo>
                    <a:pt x="1540" y="1991"/>
                  </a:lnTo>
                  <a:lnTo>
                    <a:pt x="1548" y="1994"/>
                  </a:lnTo>
                  <a:lnTo>
                    <a:pt x="1557" y="1997"/>
                  </a:lnTo>
                  <a:lnTo>
                    <a:pt x="1566" y="1997"/>
                  </a:lnTo>
                  <a:lnTo>
                    <a:pt x="1569" y="2005"/>
                  </a:lnTo>
                  <a:lnTo>
                    <a:pt x="1569" y="2014"/>
                  </a:lnTo>
                  <a:lnTo>
                    <a:pt x="1569" y="2023"/>
                  </a:lnTo>
                  <a:lnTo>
                    <a:pt x="1572" y="2031"/>
                  </a:lnTo>
                  <a:lnTo>
                    <a:pt x="1577" y="2040"/>
                  </a:lnTo>
                  <a:lnTo>
                    <a:pt x="1586" y="2048"/>
                  </a:lnTo>
                  <a:lnTo>
                    <a:pt x="1577" y="2040"/>
                  </a:lnTo>
                  <a:lnTo>
                    <a:pt x="1569" y="2037"/>
                  </a:lnTo>
                  <a:lnTo>
                    <a:pt x="1557" y="2037"/>
                  </a:lnTo>
                  <a:lnTo>
                    <a:pt x="1548" y="2040"/>
                  </a:lnTo>
                  <a:lnTo>
                    <a:pt x="1548" y="2048"/>
                  </a:lnTo>
                  <a:lnTo>
                    <a:pt x="1540" y="2054"/>
                  </a:lnTo>
                  <a:lnTo>
                    <a:pt x="1531" y="2051"/>
                  </a:lnTo>
                  <a:lnTo>
                    <a:pt x="1522" y="2043"/>
                  </a:lnTo>
                  <a:lnTo>
                    <a:pt x="1513" y="2034"/>
                  </a:lnTo>
                  <a:lnTo>
                    <a:pt x="1505" y="2031"/>
                  </a:lnTo>
                  <a:lnTo>
                    <a:pt x="1496" y="2031"/>
                  </a:lnTo>
                  <a:lnTo>
                    <a:pt x="1487" y="2028"/>
                  </a:lnTo>
                  <a:lnTo>
                    <a:pt x="1478" y="2025"/>
                  </a:lnTo>
                  <a:lnTo>
                    <a:pt x="1470" y="2023"/>
                  </a:lnTo>
                  <a:lnTo>
                    <a:pt x="1461" y="2020"/>
                  </a:lnTo>
                  <a:lnTo>
                    <a:pt x="1452" y="2017"/>
                  </a:lnTo>
                  <a:lnTo>
                    <a:pt x="1441" y="2011"/>
                  </a:lnTo>
                  <a:lnTo>
                    <a:pt x="1432" y="2011"/>
                  </a:lnTo>
                  <a:lnTo>
                    <a:pt x="1426" y="2020"/>
                  </a:lnTo>
                  <a:lnTo>
                    <a:pt x="1426" y="2028"/>
                  </a:lnTo>
                  <a:lnTo>
                    <a:pt x="1423" y="2037"/>
                  </a:lnTo>
                  <a:lnTo>
                    <a:pt x="1417" y="2046"/>
                  </a:lnTo>
                  <a:lnTo>
                    <a:pt x="1414" y="2054"/>
                  </a:lnTo>
                  <a:lnTo>
                    <a:pt x="1426" y="2060"/>
                  </a:lnTo>
                  <a:lnTo>
                    <a:pt x="1432" y="2069"/>
                  </a:lnTo>
                  <a:lnTo>
                    <a:pt x="1429" y="2077"/>
                  </a:lnTo>
                  <a:lnTo>
                    <a:pt x="1423" y="2086"/>
                  </a:lnTo>
                  <a:lnTo>
                    <a:pt x="1414" y="2089"/>
                  </a:lnTo>
                  <a:lnTo>
                    <a:pt x="1409" y="2097"/>
                  </a:lnTo>
                  <a:lnTo>
                    <a:pt x="1403" y="2106"/>
                  </a:lnTo>
                  <a:lnTo>
                    <a:pt x="1400" y="2115"/>
                  </a:lnTo>
                  <a:lnTo>
                    <a:pt x="1391" y="2112"/>
                  </a:lnTo>
                  <a:lnTo>
                    <a:pt x="1388" y="2103"/>
                  </a:lnTo>
                  <a:lnTo>
                    <a:pt x="1385" y="2095"/>
                  </a:lnTo>
                  <a:lnTo>
                    <a:pt x="1382" y="2086"/>
                  </a:lnTo>
                  <a:lnTo>
                    <a:pt x="1382" y="2077"/>
                  </a:lnTo>
                  <a:lnTo>
                    <a:pt x="1379" y="2069"/>
                  </a:lnTo>
                  <a:lnTo>
                    <a:pt x="1371" y="2063"/>
                  </a:lnTo>
                  <a:lnTo>
                    <a:pt x="1359" y="2063"/>
                  </a:lnTo>
                  <a:lnTo>
                    <a:pt x="1350" y="2063"/>
                  </a:lnTo>
                  <a:lnTo>
                    <a:pt x="1344" y="2072"/>
                  </a:lnTo>
                  <a:lnTo>
                    <a:pt x="1339" y="2080"/>
                  </a:lnTo>
                  <a:lnTo>
                    <a:pt x="1333" y="2089"/>
                  </a:lnTo>
                  <a:lnTo>
                    <a:pt x="1327" y="2097"/>
                  </a:lnTo>
                  <a:lnTo>
                    <a:pt x="1321" y="2106"/>
                  </a:lnTo>
                  <a:lnTo>
                    <a:pt x="1312" y="2109"/>
                  </a:lnTo>
                  <a:lnTo>
                    <a:pt x="1304" y="2112"/>
                  </a:lnTo>
                  <a:lnTo>
                    <a:pt x="1304" y="2120"/>
                  </a:lnTo>
                  <a:lnTo>
                    <a:pt x="1301" y="2129"/>
                  </a:lnTo>
                  <a:lnTo>
                    <a:pt x="1298" y="2138"/>
                  </a:lnTo>
                  <a:lnTo>
                    <a:pt x="1295" y="2146"/>
                  </a:lnTo>
                  <a:lnTo>
                    <a:pt x="1295" y="2095"/>
                  </a:lnTo>
                  <a:lnTo>
                    <a:pt x="1304" y="2103"/>
                  </a:lnTo>
                  <a:lnTo>
                    <a:pt x="1304" y="2115"/>
                  </a:lnTo>
                  <a:lnTo>
                    <a:pt x="1301" y="2123"/>
                  </a:lnTo>
                  <a:lnTo>
                    <a:pt x="1298" y="2132"/>
                  </a:lnTo>
                  <a:lnTo>
                    <a:pt x="1298" y="2141"/>
                  </a:lnTo>
                  <a:lnTo>
                    <a:pt x="1295" y="2149"/>
                  </a:lnTo>
                  <a:lnTo>
                    <a:pt x="1292" y="2161"/>
                  </a:lnTo>
                  <a:lnTo>
                    <a:pt x="1289" y="2169"/>
                  </a:lnTo>
                  <a:lnTo>
                    <a:pt x="1280" y="2175"/>
                  </a:lnTo>
                  <a:lnTo>
                    <a:pt x="1278" y="2167"/>
                  </a:lnTo>
                  <a:lnTo>
                    <a:pt x="1275" y="2155"/>
                  </a:lnTo>
                  <a:lnTo>
                    <a:pt x="1272" y="2146"/>
                  </a:lnTo>
                  <a:lnTo>
                    <a:pt x="1263" y="2146"/>
                  </a:lnTo>
                  <a:lnTo>
                    <a:pt x="1251" y="2149"/>
                  </a:lnTo>
                  <a:lnTo>
                    <a:pt x="1245" y="2158"/>
                  </a:lnTo>
                  <a:lnTo>
                    <a:pt x="1240" y="2167"/>
                  </a:lnTo>
                  <a:lnTo>
                    <a:pt x="1228" y="2167"/>
                  </a:lnTo>
                  <a:lnTo>
                    <a:pt x="1216" y="2167"/>
                  </a:lnTo>
                  <a:lnTo>
                    <a:pt x="1213" y="2155"/>
                  </a:lnTo>
                  <a:lnTo>
                    <a:pt x="1213" y="2144"/>
                  </a:lnTo>
                  <a:lnTo>
                    <a:pt x="1205" y="2138"/>
                  </a:lnTo>
                  <a:lnTo>
                    <a:pt x="1196" y="2132"/>
                  </a:lnTo>
                  <a:lnTo>
                    <a:pt x="1179" y="2126"/>
                  </a:lnTo>
                  <a:lnTo>
                    <a:pt x="1170" y="2123"/>
                  </a:lnTo>
                  <a:lnTo>
                    <a:pt x="1158" y="2123"/>
                  </a:lnTo>
                  <a:lnTo>
                    <a:pt x="1152" y="2132"/>
                  </a:lnTo>
                  <a:lnTo>
                    <a:pt x="1141" y="2135"/>
                  </a:lnTo>
                  <a:lnTo>
                    <a:pt x="1132" y="2132"/>
                  </a:lnTo>
                  <a:lnTo>
                    <a:pt x="1123" y="2123"/>
                  </a:lnTo>
                  <a:lnTo>
                    <a:pt x="1114" y="2118"/>
                  </a:lnTo>
                  <a:lnTo>
                    <a:pt x="1106" y="2115"/>
                  </a:lnTo>
                  <a:lnTo>
                    <a:pt x="1097" y="2115"/>
                  </a:lnTo>
                  <a:lnTo>
                    <a:pt x="1094" y="2106"/>
                  </a:lnTo>
                  <a:lnTo>
                    <a:pt x="1094" y="2097"/>
                  </a:lnTo>
                  <a:lnTo>
                    <a:pt x="1094" y="2089"/>
                  </a:lnTo>
                  <a:lnTo>
                    <a:pt x="1091" y="2077"/>
                  </a:lnTo>
                  <a:lnTo>
                    <a:pt x="1091" y="2069"/>
                  </a:lnTo>
                  <a:lnTo>
                    <a:pt x="1082" y="2066"/>
                  </a:lnTo>
                  <a:lnTo>
                    <a:pt x="1074" y="2066"/>
                  </a:lnTo>
                  <a:lnTo>
                    <a:pt x="1065" y="2066"/>
                  </a:lnTo>
                  <a:lnTo>
                    <a:pt x="1056" y="2066"/>
                  </a:lnTo>
                  <a:lnTo>
                    <a:pt x="1048" y="2066"/>
                  </a:lnTo>
                  <a:lnTo>
                    <a:pt x="1039" y="2066"/>
                  </a:lnTo>
                  <a:lnTo>
                    <a:pt x="1027" y="2063"/>
                  </a:lnTo>
                  <a:lnTo>
                    <a:pt x="1021" y="2054"/>
                  </a:lnTo>
                  <a:lnTo>
                    <a:pt x="1021" y="2046"/>
                  </a:lnTo>
                  <a:lnTo>
                    <a:pt x="1016" y="2048"/>
                  </a:lnTo>
                  <a:lnTo>
                    <a:pt x="1036" y="2031"/>
                  </a:lnTo>
                  <a:lnTo>
                    <a:pt x="1048" y="2020"/>
                  </a:lnTo>
                  <a:lnTo>
                    <a:pt x="1059" y="2017"/>
                  </a:lnTo>
                  <a:lnTo>
                    <a:pt x="1062" y="2025"/>
                  </a:lnTo>
                  <a:lnTo>
                    <a:pt x="1050" y="2025"/>
                  </a:lnTo>
                  <a:lnTo>
                    <a:pt x="1059" y="2025"/>
                  </a:lnTo>
                  <a:lnTo>
                    <a:pt x="1071" y="2025"/>
                  </a:lnTo>
                  <a:lnTo>
                    <a:pt x="1080" y="2025"/>
                  </a:lnTo>
                  <a:lnTo>
                    <a:pt x="1088" y="2028"/>
                  </a:lnTo>
                  <a:lnTo>
                    <a:pt x="1097" y="2028"/>
                  </a:lnTo>
                  <a:lnTo>
                    <a:pt x="1106" y="2025"/>
                  </a:lnTo>
                  <a:lnTo>
                    <a:pt x="1109" y="2017"/>
                  </a:lnTo>
                  <a:lnTo>
                    <a:pt x="1112" y="2008"/>
                  </a:lnTo>
                  <a:lnTo>
                    <a:pt x="1103" y="1999"/>
                  </a:lnTo>
                  <a:lnTo>
                    <a:pt x="1100" y="1991"/>
                  </a:lnTo>
                  <a:lnTo>
                    <a:pt x="1094" y="1982"/>
                  </a:lnTo>
                  <a:lnTo>
                    <a:pt x="1091" y="1974"/>
                  </a:lnTo>
                  <a:lnTo>
                    <a:pt x="1082" y="1971"/>
                  </a:lnTo>
                  <a:lnTo>
                    <a:pt x="1077" y="1979"/>
                  </a:lnTo>
                  <a:lnTo>
                    <a:pt x="1077" y="1991"/>
                  </a:lnTo>
                  <a:lnTo>
                    <a:pt x="1077" y="1999"/>
                  </a:lnTo>
                  <a:lnTo>
                    <a:pt x="1071" y="2008"/>
                  </a:lnTo>
                  <a:lnTo>
                    <a:pt x="1068" y="2020"/>
                  </a:lnTo>
                  <a:lnTo>
                    <a:pt x="1068" y="2028"/>
                  </a:lnTo>
                  <a:lnTo>
                    <a:pt x="1059" y="2031"/>
                  </a:lnTo>
                  <a:lnTo>
                    <a:pt x="1048" y="2031"/>
                  </a:lnTo>
                  <a:lnTo>
                    <a:pt x="1039" y="2031"/>
                  </a:lnTo>
                  <a:lnTo>
                    <a:pt x="1030" y="2031"/>
                  </a:lnTo>
                  <a:lnTo>
                    <a:pt x="1027" y="2020"/>
                  </a:lnTo>
                  <a:lnTo>
                    <a:pt x="1027" y="2011"/>
                  </a:lnTo>
                  <a:lnTo>
                    <a:pt x="1027" y="2002"/>
                  </a:lnTo>
                  <a:lnTo>
                    <a:pt x="1027" y="1994"/>
                  </a:lnTo>
                  <a:lnTo>
                    <a:pt x="1027" y="1985"/>
                  </a:lnTo>
                  <a:lnTo>
                    <a:pt x="1030" y="1976"/>
                  </a:lnTo>
                  <a:lnTo>
                    <a:pt x="1039" y="1974"/>
                  </a:lnTo>
                  <a:lnTo>
                    <a:pt x="1042" y="1982"/>
                  </a:lnTo>
                  <a:lnTo>
                    <a:pt x="1042" y="1994"/>
                  </a:lnTo>
                  <a:lnTo>
                    <a:pt x="1045" y="2002"/>
                  </a:lnTo>
                  <a:lnTo>
                    <a:pt x="1050" y="2011"/>
                  </a:lnTo>
                  <a:lnTo>
                    <a:pt x="1062" y="2014"/>
                  </a:lnTo>
                  <a:lnTo>
                    <a:pt x="1074" y="2014"/>
                  </a:lnTo>
                  <a:lnTo>
                    <a:pt x="1082" y="2005"/>
                  </a:lnTo>
                  <a:lnTo>
                    <a:pt x="1082" y="1997"/>
                  </a:lnTo>
                  <a:lnTo>
                    <a:pt x="1074" y="1985"/>
                  </a:lnTo>
                  <a:lnTo>
                    <a:pt x="1065" y="1979"/>
                  </a:lnTo>
                  <a:lnTo>
                    <a:pt x="1065" y="1971"/>
                  </a:lnTo>
                  <a:lnTo>
                    <a:pt x="1074" y="1968"/>
                  </a:lnTo>
                  <a:lnTo>
                    <a:pt x="1082" y="1968"/>
                  </a:lnTo>
                  <a:lnTo>
                    <a:pt x="1091" y="1962"/>
                  </a:lnTo>
                  <a:lnTo>
                    <a:pt x="1091" y="1953"/>
                  </a:lnTo>
                  <a:lnTo>
                    <a:pt x="1091" y="1945"/>
                  </a:lnTo>
                  <a:lnTo>
                    <a:pt x="1100" y="1939"/>
                  </a:lnTo>
                  <a:lnTo>
                    <a:pt x="1109" y="1936"/>
                  </a:lnTo>
                  <a:lnTo>
                    <a:pt x="1117" y="1936"/>
                  </a:lnTo>
                  <a:lnTo>
                    <a:pt x="1123" y="1927"/>
                  </a:lnTo>
                  <a:lnTo>
                    <a:pt x="1126" y="1919"/>
                  </a:lnTo>
                  <a:lnTo>
                    <a:pt x="1126" y="1910"/>
                  </a:lnTo>
                  <a:lnTo>
                    <a:pt x="1126" y="1901"/>
                  </a:lnTo>
                  <a:lnTo>
                    <a:pt x="1114" y="1901"/>
                  </a:lnTo>
                  <a:lnTo>
                    <a:pt x="1106" y="1901"/>
                  </a:lnTo>
                  <a:lnTo>
                    <a:pt x="1097" y="1901"/>
                  </a:lnTo>
                  <a:lnTo>
                    <a:pt x="1088" y="1904"/>
                  </a:lnTo>
                  <a:lnTo>
                    <a:pt x="1080" y="1910"/>
                  </a:lnTo>
                  <a:lnTo>
                    <a:pt x="1077" y="1925"/>
                  </a:lnTo>
                  <a:lnTo>
                    <a:pt x="1077" y="1933"/>
                  </a:lnTo>
                  <a:lnTo>
                    <a:pt x="1068" y="1933"/>
                  </a:lnTo>
                  <a:lnTo>
                    <a:pt x="1059" y="1922"/>
                  </a:lnTo>
                  <a:lnTo>
                    <a:pt x="1056" y="1913"/>
                  </a:lnTo>
                  <a:lnTo>
                    <a:pt x="1068" y="1910"/>
                  </a:lnTo>
                  <a:lnTo>
                    <a:pt x="1077" y="1910"/>
                  </a:lnTo>
                  <a:lnTo>
                    <a:pt x="1065" y="1901"/>
                  </a:lnTo>
                  <a:lnTo>
                    <a:pt x="1056" y="1896"/>
                  </a:lnTo>
                  <a:lnTo>
                    <a:pt x="1056" y="1904"/>
                  </a:lnTo>
                  <a:lnTo>
                    <a:pt x="1048" y="1910"/>
                  </a:lnTo>
                  <a:lnTo>
                    <a:pt x="1039" y="1919"/>
                  </a:lnTo>
                  <a:lnTo>
                    <a:pt x="1036" y="1927"/>
                  </a:lnTo>
                  <a:lnTo>
                    <a:pt x="1030" y="1936"/>
                  </a:lnTo>
                  <a:lnTo>
                    <a:pt x="1024" y="1945"/>
                  </a:lnTo>
                  <a:lnTo>
                    <a:pt x="1016" y="1950"/>
                  </a:lnTo>
                  <a:lnTo>
                    <a:pt x="1004" y="1953"/>
                  </a:lnTo>
                  <a:lnTo>
                    <a:pt x="1001" y="1962"/>
                  </a:lnTo>
                  <a:lnTo>
                    <a:pt x="1001" y="1971"/>
                  </a:lnTo>
                  <a:lnTo>
                    <a:pt x="1001" y="1979"/>
                  </a:lnTo>
                  <a:lnTo>
                    <a:pt x="1001" y="1988"/>
                  </a:lnTo>
                  <a:lnTo>
                    <a:pt x="1001" y="1997"/>
                  </a:lnTo>
                  <a:lnTo>
                    <a:pt x="995" y="2005"/>
                  </a:lnTo>
                  <a:lnTo>
                    <a:pt x="986" y="2011"/>
                  </a:lnTo>
                  <a:lnTo>
                    <a:pt x="981" y="2020"/>
                  </a:lnTo>
                  <a:lnTo>
                    <a:pt x="981" y="2028"/>
                  </a:lnTo>
                  <a:lnTo>
                    <a:pt x="981" y="2037"/>
                  </a:lnTo>
                  <a:lnTo>
                    <a:pt x="978" y="2046"/>
                  </a:lnTo>
                  <a:lnTo>
                    <a:pt x="978" y="2054"/>
                  </a:lnTo>
                  <a:lnTo>
                    <a:pt x="983" y="2046"/>
                  </a:lnTo>
                  <a:lnTo>
                    <a:pt x="983" y="2037"/>
                  </a:lnTo>
                  <a:lnTo>
                    <a:pt x="975" y="2034"/>
                  </a:lnTo>
                  <a:lnTo>
                    <a:pt x="966" y="2034"/>
                  </a:lnTo>
                  <a:lnTo>
                    <a:pt x="957" y="2034"/>
                  </a:lnTo>
                  <a:lnTo>
                    <a:pt x="949" y="2023"/>
                  </a:lnTo>
                  <a:lnTo>
                    <a:pt x="949" y="2011"/>
                  </a:lnTo>
                  <a:lnTo>
                    <a:pt x="940" y="2008"/>
                  </a:lnTo>
                  <a:lnTo>
                    <a:pt x="931" y="2008"/>
                  </a:lnTo>
                  <a:lnTo>
                    <a:pt x="922" y="2011"/>
                  </a:lnTo>
                  <a:lnTo>
                    <a:pt x="914" y="2008"/>
                  </a:lnTo>
                  <a:lnTo>
                    <a:pt x="899" y="2002"/>
                  </a:lnTo>
                  <a:lnTo>
                    <a:pt x="890" y="1988"/>
                  </a:lnTo>
                  <a:lnTo>
                    <a:pt x="885" y="1976"/>
                  </a:lnTo>
                  <a:lnTo>
                    <a:pt x="876" y="1976"/>
                  </a:lnTo>
                  <a:lnTo>
                    <a:pt x="867" y="1979"/>
                  </a:lnTo>
                  <a:lnTo>
                    <a:pt x="861" y="1988"/>
                  </a:lnTo>
                  <a:lnTo>
                    <a:pt x="852" y="1994"/>
                  </a:lnTo>
                  <a:lnTo>
                    <a:pt x="844" y="1999"/>
                  </a:lnTo>
                  <a:lnTo>
                    <a:pt x="835" y="2002"/>
                  </a:lnTo>
                  <a:lnTo>
                    <a:pt x="826" y="2005"/>
                  </a:lnTo>
                  <a:lnTo>
                    <a:pt x="818" y="2008"/>
                  </a:lnTo>
                  <a:lnTo>
                    <a:pt x="809" y="2008"/>
                  </a:lnTo>
                  <a:lnTo>
                    <a:pt x="797" y="2011"/>
                  </a:lnTo>
                  <a:lnTo>
                    <a:pt x="788" y="2011"/>
                  </a:lnTo>
                  <a:lnTo>
                    <a:pt x="797" y="2011"/>
                  </a:lnTo>
                  <a:lnTo>
                    <a:pt x="812" y="2014"/>
                  </a:lnTo>
                  <a:lnTo>
                    <a:pt x="803" y="2017"/>
                  </a:lnTo>
                  <a:lnTo>
                    <a:pt x="794" y="2020"/>
                  </a:lnTo>
                  <a:lnTo>
                    <a:pt x="803" y="2031"/>
                  </a:lnTo>
                  <a:lnTo>
                    <a:pt x="794" y="2031"/>
                  </a:lnTo>
                  <a:lnTo>
                    <a:pt x="786" y="2028"/>
                  </a:lnTo>
                  <a:lnTo>
                    <a:pt x="777" y="2023"/>
                  </a:lnTo>
                  <a:lnTo>
                    <a:pt x="771" y="2014"/>
                  </a:lnTo>
                  <a:lnTo>
                    <a:pt x="762" y="2011"/>
                  </a:lnTo>
                  <a:lnTo>
                    <a:pt x="751" y="2008"/>
                  </a:lnTo>
                  <a:lnTo>
                    <a:pt x="742" y="2008"/>
                  </a:lnTo>
                  <a:lnTo>
                    <a:pt x="733" y="2005"/>
                  </a:lnTo>
                  <a:lnTo>
                    <a:pt x="736" y="2002"/>
                  </a:lnTo>
                  <a:lnTo>
                    <a:pt x="721" y="1985"/>
                  </a:lnTo>
                  <a:lnTo>
                    <a:pt x="713" y="1985"/>
                  </a:lnTo>
                  <a:lnTo>
                    <a:pt x="710" y="1994"/>
                  </a:lnTo>
                  <a:lnTo>
                    <a:pt x="716" y="2005"/>
                  </a:lnTo>
                  <a:lnTo>
                    <a:pt x="713" y="2014"/>
                  </a:lnTo>
                  <a:lnTo>
                    <a:pt x="704" y="2020"/>
                  </a:lnTo>
                  <a:lnTo>
                    <a:pt x="704" y="2028"/>
                  </a:lnTo>
                  <a:lnTo>
                    <a:pt x="692" y="2031"/>
                  </a:lnTo>
                  <a:lnTo>
                    <a:pt x="684" y="2025"/>
                  </a:lnTo>
                  <a:lnTo>
                    <a:pt x="672" y="2020"/>
                  </a:lnTo>
                  <a:lnTo>
                    <a:pt x="660" y="2017"/>
                  </a:lnTo>
                  <a:lnTo>
                    <a:pt x="646" y="2011"/>
                  </a:lnTo>
                  <a:lnTo>
                    <a:pt x="634" y="2008"/>
                  </a:lnTo>
                  <a:lnTo>
                    <a:pt x="625" y="2005"/>
                  </a:lnTo>
                  <a:lnTo>
                    <a:pt x="622" y="1997"/>
                  </a:lnTo>
                  <a:lnTo>
                    <a:pt x="620" y="1988"/>
                  </a:lnTo>
                  <a:lnTo>
                    <a:pt x="611" y="1979"/>
                  </a:lnTo>
                  <a:lnTo>
                    <a:pt x="608" y="1971"/>
                  </a:lnTo>
                  <a:lnTo>
                    <a:pt x="599" y="1968"/>
                  </a:lnTo>
                  <a:lnTo>
                    <a:pt x="590" y="1974"/>
                  </a:lnTo>
                  <a:lnTo>
                    <a:pt x="588" y="1985"/>
                  </a:lnTo>
                  <a:lnTo>
                    <a:pt x="585" y="1997"/>
                  </a:lnTo>
                  <a:lnTo>
                    <a:pt x="576" y="2002"/>
                  </a:lnTo>
                  <a:lnTo>
                    <a:pt x="567" y="1991"/>
                  </a:lnTo>
                  <a:lnTo>
                    <a:pt x="561" y="1982"/>
                  </a:lnTo>
                  <a:lnTo>
                    <a:pt x="553" y="1976"/>
                  </a:lnTo>
                  <a:lnTo>
                    <a:pt x="547" y="1968"/>
                  </a:lnTo>
                  <a:lnTo>
                    <a:pt x="541" y="1959"/>
                  </a:lnTo>
                  <a:lnTo>
                    <a:pt x="532" y="1956"/>
                  </a:lnTo>
                  <a:lnTo>
                    <a:pt x="524" y="1953"/>
                  </a:lnTo>
                  <a:lnTo>
                    <a:pt x="518" y="1945"/>
                  </a:lnTo>
                  <a:lnTo>
                    <a:pt x="509" y="1939"/>
                  </a:lnTo>
                  <a:lnTo>
                    <a:pt x="500" y="1939"/>
                  </a:lnTo>
                  <a:lnTo>
                    <a:pt x="494" y="1948"/>
                  </a:lnTo>
                  <a:lnTo>
                    <a:pt x="491" y="1956"/>
                  </a:lnTo>
                  <a:lnTo>
                    <a:pt x="486" y="1965"/>
                  </a:lnTo>
                  <a:lnTo>
                    <a:pt x="491" y="1974"/>
                  </a:lnTo>
                  <a:lnTo>
                    <a:pt x="500" y="1976"/>
                  </a:lnTo>
                  <a:lnTo>
                    <a:pt x="503" y="1985"/>
                  </a:lnTo>
                  <a:lnTo>
                    <a:pt x="506" y="1994"/>
                  </a:lnTo>
                  <a:lnTo>
                    <a:pt x="509" y="2002"/>
                  </a:lnTo>
                  <a:lnTo>
                    <a:pt x="512" y="2011"/>
                  </a:lnTo>
                  <a:lnTo>
                    <a:pt x="515" y="2020"/>
                  </a:lnTo>
                  <a:lnTo>
                    <a:pt x="518" y="2028"/>
                  </a:lnTo>
                  <a:lnTo>
                    <a:pt x="518" y="2037"/>
                  </a:lnTo>
                  <a:lnTo>
                    <a:pt x="518" y="2046"/>
                  </a:lnTo>
                  <a:lnTo>
                    <a:pt x="518" y="2054"/>
                  </a:lnTo>
                  <a:lnTo>
                    <a:pt x="515" y="2063"/>
                  </a:lnTo>
                  <a:lnTo>
                    <a:pt x="506" y="2072"/>
                  </a:lnTo>
                  <a:lnTo>
                    <a:pt x="503" y="2080"/>
                  </a:lnTo>
                  <a:lnTo>
                    <a:pt x="503" y="2089"/>
                  </a:lnTo>
                  <a:lnTo>
                    <a:pt x="503" y="2097"/>
                  </a:lnTo>
                  <a:lnTo>
                    <a:pt x="500" y="2106"/>
                  </a:lnTo>
                  <a:lnTo>
                    <a:pt x="491" y="2112"/>
                  </a:lnTo>
                  <a:lnTo>
                    <a:pt x="483" y="2118"/>
                  </a:lnTo>
                  <a:lnTo>
                    <a:pt x="483" y="2126"/>
                  </a:lnTo>
                  <a:lnTo>
                    <a:pt x="480" y="2138"/>
                  </a:lnTo>
                  <a:lnTo>
                    <a:pt x="477" y="2149"/>
                  </a:lnTo>
                  <a:lnTo>
                    <a:pt x="468" y="2144"/>
                  </a:lnTo>
                  <a:lnTo>
                    <a:pt x="459" y="2144"/>
                  </a:lnTo>
                  <a:lnTo>
                    <a:pt x="451" y="2144"/>
                  </a:lnTo>
                  <a:lnTo>
                    <a:pt x="442" y="2152"/>
                  </a:lnTo>
                  <a:lnTo>
                    <a:pt x="436" y="2161"/>
                  </a:lnTo>
                  <a:lnTo>
                    <a:pt x="427" y="2167"/>
                  </a:lnTo>
                  <a:lnTo>
                    <a:pt x="419" y="2175"/>
                  </a:lnTo>
                  <a:lnTo>
                    <a:pt x="407" y="2181"/>
                  </a:lnTo>
                  <a:lnTo>
                    <a:pt x="398" y="2184"/>
                  </a:lnTo>
                  <a:lnTo>
                    <a:pt x="393" y="2175"/>
                  </a:lnTo>
                  <a:lnTo>
                    <a:pt x="390" y="2167"/>
                  </a:lnTo>
                  <a:lnTo>
                    <a:pt x="384" y="2158"/>
                  </a:lnTo>
                  <a:lnTo>
                    <a:pt x="369" y="2149"/>
                  </a:lnTo>
                  <a:lnTo>
                    <a:pt x="358" y="2144"/>
                  </a:lnTo>
                  <a:lnTo>
                    <a:pt x="355" y="2135"/>
                  </a:lnTo>
                  <a:lnTo>
                    <a:pt x="349" y="2126"/>
                  </a:lnTo>
                  <a:lnTo>
                    <a:pt x="343" y="2118"/>
                  </a:lnTo>
                  <a:lnTo>
                    <a:pt x="334" y="2109"/>
                  </a:lnTo>
                  <a:lnTo>
                    <a:pt x="328" y="2100"/>
                  </a:lnTo>
                  <a:lnTo>
                    <a:pt x="320" y="2092"/>
                  </a:lnTo>
                  <a:lnTo>
                    <a:pt x="317" y="2080"/>
                  </a:lnTo>
                  <a:lnTo>
                    <a:pt x="317" y="2048"/>
                  </a:lnTo>
                  <a:lnTo>
                    <a:pt x="311" y="2060"/>
                  </a:lnTo>
                  <a:lnTo>
                    <a:pt x="302" y="2057"/>
                  </a:lnTo>
                  <a:lnTo>
                    <a:pt x="294" y="2051"/>
                  </a:lnTo>
                  <a:lnTo>
                    <a:pt x="282" y="2048"/>
                  </a:lnTo>
                  <a:lnTo>
                    <a:pt x="276" y="2040"/>
                  </a:lnTo>
                  <a:lnTo>
                    <a:pt x="270" y="2031"/>
                  </a:lnTo>
                  <a:lnTo>
                    <a:pt x="264" y="2023"/>
                  </a:lnTo>
                  <a:lnTo>
                    <a:pt x="259" y="2014"/>
                  </a:lnTo>
                  <a:lnTo>
                    <a:pt x="250" y="2008"/>
                  </a:lnTo>
                  <a:lnTo>
                    <a:pt x="241" y="2011"/>
                  </a:lnTo>
                  <a:lnTo>
                    <a:pt x="232" y="2011"/>
                  </a:lnTo>
                  <a:lnTo>
                    <a:pt x="227" y="2002"/>
                  </a:lnTo>
                  <a:lnTo>
                    <a:pt x="218" y="2002"/>
                  </a:lnTo>
                  <a:lnTo>
                    <a:pt x="209" y="2002"/>
                  </a:lnTo>
                  <a:lnTo>
                    <a:pt x="200" y="2002"/>
                  </a:lnTo>
                  <a:lnTo>
                    <a:pt x="203" y="2014"/>
                  </a:lnTo>
                  <a:lnTo>
                    <a:pt x="203" y="2025"/>
                  </a:lnTo>
                  <a:lnTo>
                    <a:pt x="200" y="2034"/>
                  </a:lnTo>
                  <a:lnTo>
                    <a:pt x="189" y="2037"/>
                  </a:lnTo>
                  <a:lnTo>
                    <a:pt x="180" y="2043"/>
                  </a:lnTo>
                  <a:lnTo>
                    <a:pt x="171" y="2051"/>
                  </a:lnTo>
                  <a:lnTo>
                    <a:pt x="168" y="2060"/>
                  </a:lnTo>
                  <a:lnTo>
                    <a:pt x="163" y="2072"/>
                  </a:lnTo>
                  <a:lnTo>
                    <a:pt x="154" y="2077"/>
                  </a:lnTo>
                  <a:lnTo>
                    <a:pt x="145" y="2083"/>
                  </a:lnTo>
                  <a:lnTo>
                    <a:pt x="136" y="2086"/>
                  </a:lnTo>
                  <a:lnTo>
                    <a:pt x="122" y="2092"/>
                  </a:lnTo>
                  <a:lnTo>
                    <a:pt x="113" y="2095"/>
                  </a:lnTo>
                  <a:lnTo>
                    <a:pt x="104" y="2097"/>
                  </a:lnTo>
                  <a:lnTo>
                    <a:pt x="96" y="2103"/>
                  </a:lnTo>
                  <a:lnTo>
                    <a:pt x="87" y="2109"/>
                  </a:lnTo>
                  <a:lnTo>
                    <a:pt x="78" y="2112"/>
                  </a:lnTo>
                  <a:lnTo>
                    <a:pt x="66" y="2112"/>
                  </a:lnTo>
                  <a:lnTo>
                    <a:pt x="58" y="2115"/>
                  </a:lnTo>
                  <a:lnTo>
                    <a:pt x="55" y="2123"/>
                  </a:lnTo>
                  <a:lnTo>
                    <a:pt x="49" y="2132"/>
                  </a:lnTo>
                  <a:lnTo>
                    <a:pt x="46" y="2141"/>
                  </a:lnTo>
                  <a:lnTo>
                    <a:pt x="58" y="2146"/>
                  </a:lnTo>
                  <a:lnTo>
                    <a:pt x="66" y="2146"/>
                  </a:lnTo>
                  <a:lnTo>
                    <a:pt x="75" y="2146"/>
                  </a:lnTo>
                  <a:lnTo>
                    <a:pt x="66" y="2158"/>
                  </a:lnTo>
                  <a:lnTo>
                    <a:pt x="55" y="2164"/>
                  </a:lnTo>
                  <a:lnTo>
                    <a:pt x="43" y="2169"/>
                  </a:lnTo>
                  <a:lnTo>
                    <a:pt x="34" y="2175"/>
                  </a:lnTo>
                  <a:lnTo>
                    <a:pt x="26" y="2181"/>
                  </a:lnTo>
                  <a:lnTo>
                    <a:pt x="23" y="2190"/>
                  </a:lnTo>
                  <a:lnTo>
                    <a:pt x="23" y="2198"/>
                  </a:lnTo>
                  <a:lnTo>
                    <a:pt x="14" y="2207"/>
                  </a:lnTo>
                  <a:lnTo>
                    <a:pt x="5" y="2210"/>
                  </a:lnTo>
                  <a:lnTo>
                    <a:pt x="0" y="2218"/>
                  </a:lnTo>
                  <a:lnTo>
                    <a:pt x="5" y="2227"/>
                  </a:lnTo>
                  <a:lnTo>
                    <a:pt x="14" y="2236"/>
                  </a:lnTo>
                  <a:lnTo>
                    <a:pt x="23" y="2244"/>
                  </a:lnTo>
                  <a:lnTo>
                    <a:pt x="37" y="2233"/>
                  </a:lnTo>
                  <a:lnTo>
                    <a:pt x="46" y="2230"/>
                  </a:lnTo>
                  <a:lnTo>
                    <a:pt x="49" y="2239"/>
                  </a:lnTo>
                  <a:lnTo>
                    <a:pt x="49" y="2247"/>
                  </a:lnTo>
                  <a:lnTo>
                    <a:pt x="52" y="2256"/>
                  </a:lnTo>
                  <a:lnTo>
                    <a:pt x="55" y="2265"/>
                  </a:lnTo>
                  <a:lnTo>
                    <a:pt x="58" y="2273"/>
                  </a:lnTo>
                  <a:lnTo>
                    <a:pt x="58" y="2282"/>
                  </a:lnTo>
                  <a:lnTo>
                    <a:pt x="61" y="2291"/>
                  </a:lnTo>
                  <a:lnTo>
                    <a:pt x="61" y="2299"/>
                  </a:lnTo>
                  <a:lnTo>
                    <a:pt x="58" y="2308"/>
                  </a:lnTo>
                  <a:lnTo>
                    <a:pt x="52" y="2316"/>
                  </a:lnTo>
                  <a:lnTo>
                    <a:pt x="52" y="2325"/>
                  </a:lnTo>
                  <a:lnTo>
                    <a:pt x="52" y="2334"/>
                  </a:lnTo>
                  <a:lnTo>
                    <a:pt x="49" y="2342"/>
                  </a:lnTo>
                  <a:lnTo>
                    <a:pt x="58" y="2348"/>
                  </a:lnTo>
                  <a:lnTo>
                    <a:pt x="69" y="2348"/>
                  </a:lnTo>
                  <a:lnTo>
                    <a:pt x="78" y="2348"/>
                  </a:lnTo>
                  <a:lnTo>
                    <a:pt x="87" y="2357"/>
                  </a:lnTo>
                  <a:lnTo>
                    <a:pt x="96" y="2360"/>
                  </a:lnTo>
                  <a:lnTo>
                    <a:pt x="104" y="2360"/>
                  </a:lnTo>
                  <a:lnTo>
                    <a:pt x="113" y="2365"/>
                  </a:lnTo>
                  <a:lnTo>
                    <a:pt x="122" y="2371"/>
                  </a:lnTo>
                  <a:lnTo>
                    <a:pt x="128" y="2380"/>
                  </a:lnTo>
                  <a:lnTo>
                    <a:pt x="139" y="2389"/>
                  </a:lnTo>
                  <a:lnTo>
                    <a:pt x="142" y="2397"/>
                  </a:lnTo>
                  <a:lnTo>
                    <a:pt x="151" y="2406"/>
                  </a:lnTo>
                  <a:lnTo>
                    <a:pt x="160" y="2414"/>
                  </a:lnTo>
                  <a:lnTo>
                    <a:pt x="168" y="2417"/>
                  </a:lnTo>
                  <a:lnTo>
                    <a:pt x="177" y="2420"/>
                  </a:lnTo>
                  <a:lnTo>
                    <a:pt x="186" y="2423"/>
                  </a:lnTo>
                  <a:lnTo>
                    <a:pt x="195" y="2423"/>
                  </a:lnTo>
                  <a:lnTo>
                    <a:pt x="203" y="2423"/>
                  </a:lnTo>
                  <a:lnTo>
                    <a:pt x="212" y="2423"/>
                  </a:lnTo>
                  <a:lnTo>
                    <a:pt x="221" y="2420"/>
                  </a:lnTo>
                  <a:lnTo>
                    <a:pt x="229" y="2420"/>
                  </a:lnTo>
                  <a:lnTo>
                    <a:pt x="238" y="2420"/>
                  </a:lnTo>
                  <a:lnTo>
                    <a:pt x="247" y="2417"/>
                  </a:lnTo>
                  <a:lnTo>
                    <a:pt x="256" y="2412"/>
                  </a:lnTo>
                  <a:lnTo>
                    <a:pt x="264" y="2412"/>
                  </a:lnTo>
                  <a:lnTo>
                    <a:pt x="276" y="2412"/>
                  </a:lnTo>
                  <a:lnTo>
                    <a:pt x="285" y="2412"/>
                  </a:lnTo>
                  <a:lnTo>
                    <a:pt x="294" y="2414"/>
                  </a:lnTo>
                  <a:lnTo>
                    <a:pt x="302" y="2414"/>
                  </a:lnTo>
                  <a:lnTo>
                    <a:pt x="305" y="2406"/>
                  </a:lnTo>
                  <a:lnTo>
                    <a:pt x="305" y="2397"/>
                  </a:lnTo>
                  <a:lnTo>
                    <a:pt x="302" y="2389"/>
                  </a:lnTo>
                  <a:lnTo>
                    <a:pt x="299" y="2380"/>
                  </a:lnTo>
                  <a:lnTo>
                    <a:pt x="302" y="2371"/>
                  </a:lnTo>
                  <a:lnTo>
                    <a:pt x="314" y="2368"/>
                  </a:lnTo>
                  <a:lnTo>
                    <a:pt x="323" y="2368"/>
                  </a:lnTo>
                  <a:lnTo>
                    <a:pt x="331" y="2368"/>
                  </a:lnTo>
                  <a:lnTo>
                    <a:pt x="343" y="2368"/>
                  </a:lnTo>
                  <a:lnTo>
                    <a:pt x="346" y="2360"/>
                  </a:lnTo>
                  <a:lnTo>
                    <a:pt x="355" y="2354"/>
                  </a:lnTo>
                  <a:lnTo>
                    <a:pt x="363" y="2351"/>
                  </a:lnTo>
                  <a:lnTo>
                    <a:pt x="372" y="2351"/>
                  </a:lnTo>
                  <a:lnTo>
                    <a:pt x="381" y="2348"/>
                  </a:lnTo>
                  <a:lnTo>
                    <a:pt x="390" y="2348"/>
                  </a:lnTo>
                  <a:lnTo>
                    <a:pt x="398" y="2348"/>
                  </a:lnTo>
                  <a:lnTo>
                    <a:pt x="407" y="2348"/>
                  </a:lnTo>
                  <a:lnTo>
                    <a:pt x="419" y="2354"/>
                  </a:lnTo>
                  <a:lnTo>
                    <a:pt x="427" y="2360"/>
                  </a:lnTo>
                  <a:lnTo>
                    <a:pt x="436" y="2360"/>
                  </a:lnTo>
                  <a:lnTo>
                    <a:pt x="445" y="2360"/>
                  </a:lnTo>
                  <a:lnTo>
                    <a:pt x="454" y="2363"/>
                  </a:lnTo>
                  <a:lnTo>
                    <a:pt x="462" y="2363"/>
                  </a:lnTo>
                  <a:lnTo>
                    <a:pt x="471" y="2363"/>
                  </a:lnTo>
                  <a:lnTo>
                    <a:pt x="480" y="2363"/>
                  </a:lnTo>
                  <a:lnTo>
                    <a:pt x="489" y="2360"/>
                  </a:lnTo>
                  <a:lnTo>
                    <a:pt x="494" y="2351"/>
                  </a:lnTo>
                  <a:lnTo>
                    <a:pt x="494" y="2342"/>
                  </a:lnTo>
                  <a:lnTo>
                    <a:pt x="494" y="2334"/>
                  </a:lnTo>
                  <a:lnTo>
                    <a:pt x="497" y="2325"/>
                  </a:lnTo>
                  <a:lnTo>
                    <a:pt x="506" y="2322"/>
                  </a:lnTo>
                  <a:lnTo>
                    <a:pt x="515" y="2322"/>
                  </a:lnTo>
                  <a:lnTo>
                    <a:pt x="524" y="2322"/>
                  </a:lnTo>
                  <a:lnTo>
                    <a:pt x="532" y="2322"/>
                  </a:lnTo>
                  <a:lnTo>
                    <a:pt x="541" y="2322"/>
                  </a:lnTo>
                  <a:lnTo>
                    <a:pt x="550" y="2328"/>
                  </a:lnTo>
                  <a:lnTo>
                    <a:pt x="556" y="2337"/>
                  </a:lnTo>
                  <a:lnTo>
                    <a:pt x="564" y="2342"/>
                  </a:lnTo>
                  <a:lnTo>
                    <a:pt x="570" y="2351"/>
                  </a:lnTo>
                  <a:lnTo>
                    <a:pt x="576" y="2360"/>
                  </a:lnTo>
                  <a:lnTo>
                    <a:pt x="585" y="2368"/>
                  </a:lnTo>
                  <a:lnTo>
                    <a:pt x="590" y="2377"/>
                  </a:lnTo>
                  <a:lnTo>
                    <a:pt x="599" y="2383"/>
                  </a:lnTo>
                  <a:lnTo>
                    <a:pt x="611" y="2386"/>
                  </a:lnTo>
                  <a:lnTo>
                    <a:pt x="620" y="2386"/>
                  </a:lnTo>
                  <a:lnTo>
                    <a:pt x="628" y="2386"/>
                  </a:lnTo>
                  <a:lnTo>
                    <a:pt x="637" y="2386"/>
                  </a:lnTo>
                  <a:lnTo>
                    <a:pt x="646" y="2386"/>
                  </a:lnTo>
                  <a:lnTo>
                    <a:pt x="655" y="2386"/>
                  </a:lnTo>
                  <a:lnTo>
                    <a:pt x="663" y="2389"/>
                  </a:lnTo>
                  <a:lnTo>
                    <a:pt x="672" y="2389"/>
                  </a:lnTo>
                  <a:lnTo>
                    <a:pt x="681" y="2389"/>
                  </a:lnTo>
                  <a:lnTo>
                    <a:pt x="689" y="2389"/>
                  </a:lnTo>
                  <a:lnTo>
                    <a:pt x="698" y="2394"/>
                  </a:lnTo>
                  <a:lnTo>
                    <a:pt x="707" y="2403"/>
                  </a:lnTo>
                  <a:lnTo>
                    <a:pt x="713" y="2412"/>
                  </a:lnTo>
                  <a:lnTo>
                    <a:pt x="716" y="2420"/>
                  </a:lnTo>
                  <a:lnTo>
                    <a:pt x="716" y="2429"/>
                  </a:lnTo>
                  <a:lnTo>
                    <a:pt x="716" y="2437"/>
                  </a:lnTo>
                  <a:lnTo>
                    <a:pt x="719" y="2446"/>
                  </a:lnTo>
                  <a:lnTo>
                    <a:pt x="719" y="2455"/>
                  </a:lnTo>
                  <a:lnTo>
                    <a:pt x="721" y="2463"/>
                  </a:lnTo>
                  <a:lnTo>
                    <a:pt x="721" y="2472"/>
                  </a:lnTo>
                  <a:lnTo>
                    <a:pt x="721" y="2481"/>
                  </a:lnTo>
                  <a:lnTo>
                    <a:pt x="721" y="2489"/>
                  </a:lnTo>
                  <a:lnTo>
                    <a:pt x="713" y="2492"/>
                  </a:lnTo>
                  <a:lnTo>
                    <a:pt x="704" y="2492"/>
                  </a:lnTo>
                  <a:lnTo>
                    <a:pt x="698" y="2501"/>
                  </a:lnTo>
                  <a:lnTo>
                    <a:pt x="707" y="2507"/>
                  </a:lnTo>
                  <a:lnTo>
                    <a:pt x="716" y="2512"/>
                  </a:lnTo>
                  <a:lnTo>
                    <a:pt x="721" y="2521"/>
                  </a:lnTo>
                  <a:lnTo>
                    <a:pt x="721" y="2530"/>
                  </a:lnTo>
                  <a:lnTo>
                    <a:pt x="719" y="2538"/>
                  </a:lnTo>
                  <a:lnTo>
                    <a:pt x="719" y="2547"/>
                  </a:lnTo>
                  <a:lnTo>
                    <a:pt x="719" y="2556"/>
                  </a:lnTo>
                  <a:lnTo>
                    <a:pt x="719" y="2564"/>
                  </a:lnTo>
                  <a:lnTo>
                    <a:pt x="721" y="2576"/>
                  </a:lnTo>
                  <a:lnTo>
                    <a:pt x="721" y="2584"/>
                  </a:lnTo>
                  <a:lnTo>
                    <a:pt x="727" y="2593"/>
                  </a:lnTo>
                  <a:lnTo>
                    <a:pt x="736" y="2602"/>
                  </a:lnTo>
                  <a:lnTo>
                    <a:pt x="742" y="2613"/>
                  </a:lnTo>
                  <a:lnTo>
                    <a:pt x="745" y="2625"/>
                  </a:lnTo>
                  <a:lnTo>
                    <a:pt x="756" y="2633"/>
                  </a:lnTo>
                  <a:lnTo>
                    <a:pt x="765" y="2642"/>
                  </a:lnTo>
                  <a:lnTo>
                    <a:pt x="768" y="2654"/>
                  </a:lnTo>
                  <a:lnTo>
                    <a:pt x="768" y="2662"/>
                  </a:lnTo>
                  <a:lnTo>
                    <a:pt x="768" y="2671"/>
                  </a:lnTo>
                  <a:lnTo>
                    <a:pt x="771" y="2682"/>
                  </a:lnTo>
                  <a:lnTo>
                    <a:pt x="780" y="2688"/>
                  </a:lnTo>
                  <a:lnTo>
                    <a:pt x="783" y="2697"/>
                  </a:lnTo>
                  <a:lnTo>
                    <a:pt x="786" y="2705"/>
                  </a:lnTo>
                  <a:lnTo>
                    <a:pt x="788" y="2714"/>
                  </a:lnTo>
                  <a:lnTo>
                    <a:pt x="788" y="2723"/>
                  </a:lnTo>
                  <a:lnTo>
                    <a:pt x="788" y="2731"/>
                  </a:lnTo>
                  <a:lnTo>
                    <a:pt x="788" y="2740"/>
                  </a:lnTo>
                  <a:lnTo>
                    <a:pt x="788" y="2749"/>
                  </a:lnTo>
                  <a:lnTo>
                    <a:pt x="788" y="2757"/>
                  </a:lnTo>
                  <a:lnTo>
                    <a:pt x="788" y="2769"/>
                  </a:lnTo>
                  <a:lnTo>
                    <a:pt x="783" y="2778"/>
                  </a:lnTo>
                  <a:lnTo>
                    <a:pt x="774" y="2778"/>
                  </a:lnTo>
                  <a:lnTo>
                    <a:pt x="765" y="2783"/>
                  </a:lnTo>
                  <a:lnTo>
                    <a:pt x="759" y="2792"/>
                  </a:lnTo>
                  <a:lnTo>
                    <a:pt x="751" y="2795"/>
                  </a:lnTo>
                  <a:lnTo>
                    <a:pt x="742" y="2789"/>
                  </a:lnTo>
                  <a:lnTo>
                    <a:pt x="730" y="2786"/>
                  </a:lnTo>
                  <a:lnTo>
                    <a:pt x="721" y="2780"/>
                  </a:lnTo>
                  <a:lnTo>
                    <a:pt x="713" y="2778"/>
                  </a:lnTo>
                  <a:lnTo>
                    <a:pt x="710" y="2766"/>
                  </a:lnTo>
                  <a:lnTo>
                    <a:pt x="707" y="2757"/>
                  </a:lnTo>
                  <a:lnTo>
                    <a:pt x="698" y="2754"/>
                  </a:lnTo>
                  <a:lnTo>
                    <a:pt x="687" y="2754"/>
                  </a:lnTo>
                  <a:lnTo>
                    <a:pt x="678" y="2746"/>
                  </a:lnTo>
                  <a:lnTo>
                    <a:pt x="672" y="2737"/>
                  </a:lnTo>
                  <a:lnTo>
                    <a:pt x="660" y="2731"/>
                  </a:lnTo>
                  <a:lnTo>
                    <a:pt x="652" y="2729"/>
                  </a:lnTo>
                  <a:lnTo>
                    <a:pt x="643" y="2729"/>
                  </a:lnTo>
                  <a:lnTo>
                    <a:pt x="634" y="2729"/>
                  </a:lnTo>
                  <a:lnTo>
                    <a:pt x="628" y="2737"/>
                  </a:lnTo>
                  <a:lnTo>
                    <a:pt x="628" y="2746"/>
                  </a:lnTo>
                  <a:lnTo>
                    <a:pt x="631" y="2754"/>
                  </a:lnTo>
                  <a:lnTo>
                    <a:pt x="640" y="2763"/>
                  </a:lnTo>
                  <a:lnTo>
                    <a:pt x="652" y="2769"/>
                  </a:lnTo>
                  <a:lnTo>
                    <a:pt x="660" y="2775"/>
                  </a:lnTo>
                  <a:lnTo>
                    <a:pt x="666" y="2783"/>
                  </a:lnTo>
                  <a:lnTo>
                    <a:pt x="669" y="2792"/>
                  </a:lnTo>
                  <a:lnTo>
                    <a:pt x="672" y="2801"/>
                  </a:lnTo>
                  <a:lnTo>
                    <a:pt x="675" y="2809"/>
                  </a:lnTo>
                  <a:lnTo>
                    <a:pt x="678" y="2818"/>
                  </a:lnTo>
                  <a:lnTo>
                    <a:pt x="687" y="2827"/>
                  </a:lnTo>
                  <a:lnTo>
                    <a:pt x="695" y="2829"/>
                  </a:lnTo>
                  <a:lnTo>
                    <a:pt x="707" y="2829"/>
                  </a:lnTo>
                  <a:lnTo>
                    <a:pt x="713" y="2818"/>
                  </a:lnTo>
                  <a:lnTo>
                    <a:pt x="713" y="2809"/>
                  </a:lnTo>
                  <a:lnTo>
                    <a:pt x="716" y="2801"/>
                  </a:lnTo>
                  <a:lnTo>
                    <a:pt x="724" y="2795"/>
                  </a:lnTo>
                  <a:lnTo>
                    <a:pt x="733" y="2795"/>
                  </a:lnTo>
                  <a:lnTo>
                    <a:pt x="742" y="2792"/>
                  </a:lnTo>
                  <a:lnTo>
                    <a:pt x="751" y="2801"/>
                  </a:lnTo>
                  <a:lnTo>
                    <a:pt x="762" y="2803"/>
                  </a:lnTo>
                  <a:lnTo>
                    <a:pt x="771" y="2803"/>
                  </a:lnTo>
                  <a:lnTo>
                    <a:pt x="780" y="2803"/>
                  </a:lnTo>
                  <a:lnTo>
                    <a:pt x="788" y="2803"/>
                  </a:lnTo>
                  <a:lnTo>
                    <a:pt x="788" y="2795"/>
                  </a:lnTo>
                  <a:lnTo>
                    <a:pt x="788" y="2786"/>
                  </a:lnTo>
                  <a:lnTo>
                    <a:pt x="797" y="2780"/>
                  </a:lnTo>
                  <a:lnTo>
                    <a:pt x="806" y="2780"/>
                  </a:lnTo>
                  <a:lnTo>
                    <a:pt x="815" y="2772"/>
                  </a:lnTo>
                  <a:lnTo>
                    <a:pt x="815" y="2763"/>
                  </a:lnTo>
                  <a:lnTo>
                    <a:pt x="815" y="2754"/>
                  </a:lnTo>
                  <a:lnTo>
                    <a:pt x="815" y="2746"/>
                  </a:lnTo>
                  <a:lnTo>
                    <a:pt x="815" y="2737"/>
                  </a:lnTo>
                  <a:lnTo>
                    <a:pt x="818" y="2729"/>
                  </a:lnTo>
                  <a:lnTo>
                    <a:pt x="826" y="2726"/>
                  </a:lnTo>
                  <a:lnTo>
                    <a:pt x="835" y="2720"/>
                  </a:lnTo>
                  <a:lnTo>
                    <a:pt x="844" y="2717"/>
                  </a:lnTo>
                  <a:lnTo>
                    <a:pt x="852" y="2720"/>
                  </a:lnTo>
                  <a:lnTo>
                    <a:pt x="855" y="2729"/>
                  </a:lnTo>
                  <a:lnTo>
                    <a:pt x="858" y="2740"/>
                  </a:lnTo>
                  <a:lnTo>
                    <a:pt x="858" y="2749"/>
                  </a:lnTo>
                  <a:lnTo>
                    <a:pt x="861" y="2757"/>
                  </a:lnTo>
                  <a:lnTo>
                    <a:pt x="870" y="2763"/>
                  </a:lnTo>
                  <a:lnTo>
                    <a:pt x="882" y="2766"/>
                  </a:lnTo>
                  <a:lnTo>
                    <a:pt x="887" y="2757"/>
                  </a:lnTo>
                  <a:lnTo>
                    <a:pt x="887" y="2749"/>
                  </a:lnTo>
                  <a:lnTo>
                    <a:pt x="887" y="2740"/>
                  </a:lnTo>
                  <a:lnTo>
                    <a:pt x="887" y="2731"/>
                  </a:lnTo>
                  <a:lnTo>
                    <a:pt x="885" y="2723"/>
                  </a:lnTo>
                  <a:lnTo>
                    <a:pt x="876" y="2714"/>
                  </a:lnTo>
                  <a:lnTo>
                    <a:pt x="870" y="2705"/>
                  </a:lnTo>
                  <a:lnTo>
                    <a:pt x="864" y="2697"/>
                  </a:lnTo>
                  <a:lnTo>
                    <a:pt x="855" y="2691"/>
                  </a:lnTo>
                  <a:lnTo>
                    <a:pt x="847" y="2682"/>
                  </a:lnTo>
                  <a:lnTo>
                    <a:pt x="838" y="2674"/>
                  </a:lnTo>
                  <a:lnTo>
                    <a:pt x="835" y="2665"/>
                  </a:lnTo>
                  <a:lnTo>
                    <a:pt x="832" y="2657"/>
                  </a:lnTo>
                  <a:lnTo>
                    <a:pt x="832" y="2648"/>
                  </a:lnTo>
                  <a:lnTo>
                    <a:pt x="841" y="2642"/>
                  </a:lnTo>
                  <a:lnTo>
                    <a:pt x="850" y="2642"/>
                  </a:lnTo>
                  <a:lnTo>
                    <a:pt x="852" y="2633"/>
                  </a:lnTo>
                  <a:lnTo>
                    <a:pt x="844" y="2628"/>
                  </a:lnTo>
                  <a:lnTo>
                    <a:pt x="835" y="2622"/>
                  </a:lnTo>
                  <a:lnTo>
                    <a:pt x="826" y="2619"/>
                  </a:lnTo>
                  <a:lnTo>
                    <a:pt x="820" y="2610"/>
                  </a:lnTo>
                  <a:lnTo>
                    <a:pt x="818" y="2602"/>
                  </a:lnTo>
                  <a:lnTo>
                    <a:pt x="812" y="2593"/>
                  </a:lnTo>
                  <a:lnTo>
                    <a:pt x="812" y="2584"/>
                  </a:lnTo>
                  <a:lnTo>
                    <a:pt x="809" y="2576"/>
                  </a:lnTo>
                  <a:lnTo>
                    <a:pt x="806" y="2564"/>
                  </a:lnTo>
                  <a:lnTo>
                    <a:pt x="806" y="2556"/>
                  </a:lnTo>
                  <a:lnTo>
                    <a:pt x="806" y="2547"/>
                  </a:lnTo>
                  <a:lnTo>
                    <a:pt x="806" y="2538"/>
                  </a:lnTo>
                  <a:lnTo>
                    <a:pt x="806" y="2530"/>
                  </a:lnTo>
                  <a:lnTo>
                    <a:pt x="806" y="2521"/>
                  </a:lnTo>
                  <a:lnTo>
                    <a:pt x="806" y="2512"/>
                  </a:lnTo>
                  <a:lnTo>
                    <a:pt x="806" y="2504"/>
                  </a:lnTo>
                  <a:lnTo>
                    <a:pt x="803" y="2495"/>
                  </a:lnTo>
                  <a:lnTo>
                    <a:pt x="800" y="2486"/>
                  </a:lnTo>
                  <a:lnTo>
                    <a:pt x="800" y="2478"/>
                  </a:lnTo>
                  <a:lnTo>
                    <a:pt x="800" y="2469"/>
                  </a:lnTo>
                  <a:lnTo>
                    <a:pt x="800" y="2461"/>
                  </a:lnTo>
                  <a:lnTo>
                    <a:pt x="800" y="2452"/>
                  </a:lnTo>
                  <a:lnTo>
                    <a:pt x="809" y="2452"/>
                  </a:lnTo>
                  <a:lnTo>
                    <a:pt x="818" y="2452"/>
                  </a:lnTo>
                  <a:lnTo>
                    <a:pt x="818" y="2443"/>
                  </a:lnTo>
                  <a:lnTo>
                    <a:pt x="820" y="2435"/>
                  </a:lnTo>
                  <a:lnTo>
                    <a:pt x="826" y="2426"/>
                  </a:lnTo>
                  <a:lnTo>
                    <a:pt x="835" y="2426"/>
                  </a:lnTo>
                  <a:lnTo>
                    <a:pt x="838" y="2435"/>
                  </a:lnTo>
                  <a:lnTo>
                    <a:pt x="847" y="2440"/>
                  </a:lnTo>
                  <a:lnTo>
                    <a:pt x="855" y="2435"/>
                  </a:lnTo>
                  <a:lnTo>
                    <a:pt x="864" y="2432"/>
                  </a:lnTo>
                  <a:lnTo>
                    <a:pt x="864" y="2440"/>
                  </a:lnTo>
                  <a:lnTo>
                    <a:pt x="864" y="2449"/>
                  </a:lnTo>
                  <a:lnTo>
                    <a:pt x="858" y="2458"/>
                  </a:lnTo>
                  <a:lnTo>
                    <a:pt x="850" y="2466"/>
                  </a:lnTo>
                  <a:lnTo>
                    <a:pt x="847" y="2475"/>
                  </a:lnTo>
                  <a:lnTo>
                    <a:pt x="855" y="2478"/>
                  </a:lnTo>
                  <a:lnTo>
                    <a:pt x="864" y="2478"/>
                  </a:lnTo>
                  <a:lnTo>
                    <a:pt x="864" y="2486"/>
                  </a:lnTo>
                  <a:lnTo>
                    <a:pt x="864" y="2495"/>
                  </a:lnTo>
                  <a:lnTo>
                    <a:pt x="873" y="2498"/>
                  </a:lnTo>
                  <a:lnTo>
                    <a:pt x="882" y="2498"/>
                  </a:lnTo>
                  <a:lnTo>
                    <a:pt x="882" y="2507"/>
                  </a:lnTo>
                  <a:lnTo>
                    <a:pt x="882" y="2515"/>
                  </a:lnTo>
                  <a:lnTo>
                    <a:pt x="879" y="2524"/>
                  </a:lnTo>
                  <a:lnTo>
                    <a:pt x="870" y="2527"/>
                  </a:lnTo>
                  <a:lnTo>
                    <a:pt x="864" y="2535"/>
                  </a:lnTo>
                  <a:lnTo>
                    <a:pt x="867" y="2544"/>
                  </a:lnTo>
                  <a:lnTo>
                    <a:pt x="870" y="2553"/>
                  </a:lnTo>
                  <a:lnTo>
                    <a:pt x="876" y="2561"/>
                  </a:lnTo>
                  <a:lnTo>
                    <a:pt x="882" y="2573"/>
                  </a:lnTo>
                  <a:lnTo>
                    <a:pt x="890" y="2584"/>
                  </a:lnTo>
                  <a:lnTo>
                    <a:pt x="893" y="2593"/>
                  </a:lnTo>
                  <a:lnTo>
                    <a:pt x="896" y="2602"/>
                  </a:lnTo>
                  <a:lnTo>
                    <a:pt x="899" y="2613"/>
                  </a:lnTo>
                  <a:lnTo>
                    <a:pt x="899" y="2622"/>
                  </a:lnTo>
                  <a:lnTo>
                    <a:pt x="902" y="2631"/>
                  </a:lnTo>
                  <a:lnTo>
                    <a:pt x="905" y="2639"/>
                  </a:lnTo>
                  <a:lnTo>
                    <a:pt x="911" y="2648"/>
                  </a:lnTo>
                  <a:lnTo>
                    <a:pt x="919" y="2657"/>
                  </a:lnTo>
                  <a:lnTo>
                    <a:pt x="928" y="2662"/>
                  </a:lnTo>
                  <a:lnTo>
                    <a:pt x="937" y="2671"/>
                  </a:lnTo>
                  <a:lnTo>
                    <a:pt x="943" y="2680"/>
                  </a:lnTo>
                  <a:lnTo>
                    <a:pt x="946" y="2688"/>
                  </a:lnTo>
                  <a:lnTo>
                    <a:pt x="949" y="2697"/>
                  </a:lnTo>
                  <a:lnTo>
                    <a:pt x="949" y="2705"/>
                  </a:lnTo>
                  <a:lnTo>
                    <a:pt x="949" y="2714"/>
                  </a:lnTo>
                  <a:lnTo>
                    <a:pt x="949" y="2723"/>
                  </a:lnTo>
                  <a:lnTo>
                    <a:pt x="943" y="2731"/>
                  </a:lnTo>
                  <a:lnTo>
                    <a:pt x="934" y="2734"/>
                  </a:lnTo>
                  <a:lnTo>
                    <a:pt x="928" y="2743"/>
                  </a:lnTo>
                  <a:lnTo>
                    <a:pt x="925" y="2752"/>
                  </a:lnTo>
                  <a:lnTo>
                    <a:pt x="925" y="2760"/>
                  </a:lnTo>
                  <a:lnTo>
                    <a:pt x="922" y="2769"/>
                  </a:lnTo>
                  <a:lnTo>
                    <a:pt x="922" y="2778"/>
                  </a:lnTo>
                  <a:lnTo>
                    <a:pt x="919" y="2786"/>
                  </a:lnTo>
                  <a:lnTo>
                    <a:pt x="911" y="2795"/>
                  </a:lnTo>
                  <a:lnTo>
                    <a:pt x="908" y="2803"/>
                  </a:lnTo>
                  <a:lnTo>
                    <a:pt x="908" y="2812"/>
                  </a:lnTo>
                  <a:lnTo>
                    <a:pt x="911" y="2821"/>
                  </a:lnTo>
                  <a:lnTo>
                    <a:pt x="922" y="2827"/>
                  </a:lnTo>
                  <a:lnTo>
                    <a:pt x="934" y="2832"/>
                  </a:lnTo>
                  <a:lnTo>
                    <a:pt x="940" y="2841"/>
                  </a:lnTo>
                  <a:lnTo>
                    <a:pt x="922" y="2832"/>
                  </a:lnTo>
                  <a:lnTo>
                    <a:pt x="946" y="2824"/>
                  </a:lnTo>
                  <a:lnTo>
                    <a:pt x="946" y="2832"/>
                  </a:lnTo>
                  <a:lnTo>
                    <a:pt x="946" y="2841"/>
                  </a:lnTo>
                  <a:lnTo>
                    <a:pt x="946" y="2850"/>
                  </a:lnTo>
                  <a:lnTo>
                    <a:pt x="940" y="2858"/>
                  </a:lnTo>
                  <a:lnTo>
                    <a:pt x="931" y="2861"/>
                  </a:lnTo>
                  <a:lnTo>
                    <a:pt x="922" y="2867"/>
                  </a:lnTo>
                  <a:lnTo>
                    <a:pt x="917" y="2876"/>
                  </a:lnTo>
                  <a:lnTo>
                    <a:pt x="919" y="2884"/>
                  </a:lnTo>
                  <a:lnTo>
                    <a:pt x="922" y="2893"/>
                  </a:lnTo>
                  <a:lnTo>
                    <a:pt x="917" y="2901"/>
                  </a:lnTo>
                  <a:lnTo>
                    <a:pt x="925" y="2904"/>
                  </a:lnTo>
                  <a:lnTo>
                    <a:pt x="934" y="2904"/>
                  </a:lnTo>
                  <a:lnTo>
                    <a:pt x="943" y="2904"/>
                  </a:lnTo>
                  <a:lnTo>
                    <a:pt x="951" y="2899"/>
                  </a:lnTo>
                  <a:lnTo>
                    <a:pt x="960" y="2893"/>
                  </a:lnTo>
                  <a:lnTo>
                    <a:pt x="969" y="2893"/>
                  </a:lnTo>
                  <a:lnTo>
                    <a:pt x="978" y="2899"/>
                  </a:lnTo>
                  <a:lnTo>
                    <a:pt x="983" y="2907"/>
                  </a:lnTo>
                  <a:lnTo>
                    <a:pt x="975" y="2904"/>
                  </a:lnTo>
                  <a:lnTo>
                    <a:pt x="966" y="2899"/>
                  </a:lnTo>
                  <a:lnTo>
                    <a:pt x="954" y="2896"/>
                  </a:lnTo>
                  <a:lnTo>
                    <a:pt x="940" y="2893"/>
                  </a:lnTo>
                  <a:lnTo>
                    <a:pt x="943" y="2910"/>
                  </a:lnTo>
                  <a:lnTo>
                    <a:pt x="951" y="2930"/>
                  </a:lnTo>
                  <a:lnTo>
                    <a:pt x="943" y="2933"/>
                  </a:lnTo>
                  <a:lnTo>
                    <a:pt x="940" y="2942"/>
                  </a:lnTo>
                  <a:lnTo>
                    <a:pt x="937" y="2950"/>
                  </a:lnTo>
                  <a:lnTo>
                    <a:pt x="946" y="2956"/>
                  </a:lnTo>
                  <a:lnTo>
                    <a:pt x="949" y="2965"/>
                  </a:lnTo>
                  <a:lnTo>
                    <a:pt x="951" y="2974"/>
                  </a:lnTo>
                  <a:lnTo>
                    <a:pt x="951" y="2982"/>
                  </a:lnTo>
                  <a:lnTo>
                    <a:pt x="951" y="2991"/>
                  </a:lnTo>
                  <a:lnTo>
                    <a:pt x="954" y="2999"/>
                  </a:lnTo>
                  <a:lnTo>
                    <a:pt x="957" y="3011"/>
                  </a:lnTo>
                  <a:lnTo>
                    <a:pt x="963" y="3002"/>
                  </a:lnTo>
                  <a:lnTo>
                    <a:pt x="963" y="2994"/>
                  </a:lnTo>
                  <a:lnTo>
                    <a:pt x="963" y="2985"/>
                  </a:lnTo>
                  <a:lnTo>
                    <a:pt x="963" y="2976"/>
                  </a:lnTo>
                  <a:lnTo>
                    <a:pt x="963" y="2968"/>
                  </a:lnTo>
                  <a:lnTo>
                    <a:pt x="969" y="2959"/>
                  </a:lnTo>
                  <a:lnTo>
                    <a:pt x="978" y="2953"/>
                  </a:lnTo>
                  <a:lnTo>
                    <a:pt x="983" y="2945"/>
                  </a:lnTo>
                  <a:lnTo>
                    <a:pt x="992" y="2942"/>
                  </a:lnTo>
                  <a:lnTo>
                    <a:pt x="1004" y="2945"/>
                  </a:lnTo>
                  <a:lnTo>
                    <a:pt x="1016" y="2945"/>
                  </a:lnTo>
                  <a:lnTo>
                    <a:pt x="1024" y="2945"/>
                  </a:lnTo>
                  <a:lnTo>
                    <a:pt x="1027" y="2936"/>
                  </a:lnTo>
                  <a:lnTo>
                    <a:pt x="1036" y="2945"/>
                  </a:lnTo>
                  <a:lnTo>
                    <a:pt x="1042" y="2953"/>
                  </a:lnTo>
                  <a:lnTo>
                    <a:pt x="1050" y="2962"/>
                  </a:lnTo>
                  <a:lnTo>
                    <a:pt x="1059" y="2971"/>
                  </a:lnTo>
                  <a:lnTo>
                    <a:pt x="1045" y="2959"/>
                  </a:lnTo>
                  <a:lnTo>
                    <a:pt x="1042" y="2950"/>
                  </a:lnTo>
                  <a:lnTo>
                    <a:pt x="1042" y="2942"/>
                  </a:lnTo>
                  <a:lnTo>
                    <a:pt x="1042" y="2933"/>
                  </a:lnTo>
                  <a:lnTo>
                    <a:pt x="1042" y="2925"/>
                  </a:lnTo>
                  <a:lnTo>
                    <a:pt x="1033" y="2916"/>
                  </a:lnTo>
                  <a:lnTo>
                    <a:pt x="1021" y="2907"/>
                  </a:lnTo>
                  <a:lnTo>
                    <a:pt x="1013" y="2899"/>
                  </a:lnTo>
                  <a:lnTo>
                    <a:pt x="1007" y="2890"/>
                  </a:lnTo>
                  <a:lnTo>
                    <a:pt x="1018" y="2893"/>
                  </a:lnTo>
                  <a:lnTo>
                    <a:pt x="1027" y="2896"/>
                  </a:lnTo>
                  <a:lnTo>
                    <a:pt x="1036" y="2901"/>
                  </a:lnTo>
                  <a:lnTo>
                    <a:pt x="1045" y="2907"/>
                  </a:lnTo>
                  <a:lnTo>
                    <a:pt x="1050" y="2916"/>
                  </a:lnTo>
                  <a:lnTo>
                    <a:pt x="1042" y="2913"/>
                  </a:lnTo>
                  <a:lnTo>
                    <a:pt x="1033" y="2907"/>
                  </a:lnTo>
                  <a:lnTo>
                    <a:pt x="1021" y="2899"/>
                  </a:lnTo>
                  <a:lnTo>
                    <a:pt x="1010" y="2896"/>
                  </a:lnTo>
                  <a:lnTo>
                    <a:pt x="1004" y="2887"/>
                  </a:lnTo>
                  <a:lnTo>
                    <a:pt x="1013" y="2881"/>
                  </a:lnTo>
                  <a:lnTo>
                    <a:pt x="1018" y="2873"/>
                  </a:lnTo>
                  <a:lnTo>
                    <a:pt x="1018" y="2864"/>
                  </a:lnTo>
                  <a:lnTo>
                    <a:pt x="1021" y="2855"/>
                  </a:lnTo>
                  <a:lnTo>
                    <a:pt x="1021" y="2847"/>
                  </a:lnTo>
                  <a:lnTo>
                    <a:pt x="1021" y="2838"/>
                  </a:lnTo>
                  <a:lnTo>
                    <a:pt x="1021" y="2829"/>
                  </a:lnTo>
                  <a:lnTo>
                    <a:pt x="1021" y="2821"/>
                  </a:lnTo>
                  <a:lnTo>
                    <a:pt x="1024" y="2812"/>
                  </a:lnTo>
                  <a:lnTo>
                    <a:pt x="1033" y="2812"/>
                  </a:lnTo>
                  <a:lnTo>
                    <a:pt x="1042" y="2809"/>
                  </a:lnTo>
                  <a:lnTo>
                    <a:pt x="1042" y="2818"/>
                  </a:lnTo>
                  <a:lnTo>
                    <a:pt x="1042" y="2827"/>
                  </a:lnTo>
                  <a:lnTo>
                    <a:pt x="1042" y="2835"/>
                  </a:lnTo>
                  <a:lnTo>
                    <a:pt x="1042" y="2844"/>
                  </a:lnTo>
                  <a:lnTo>
                    <a:pt x="1050" y="2850"/>
                  </a:lnTo>
                  <a:lnTo>
                    <a:pt x="1056" y="2841"/>
                  </a:lnTo>
                  <a:lnTo>
                    <a:pt x="1065" y="2841"/>
                  </a:lnTo>
                  <a:lnTo>
                    <a:pt x="1068" y="2850"/>
                  </a:lnTo>
                  <a:lnTo>
                    <a:pt x="1071" y="2841"/>
                  </a:lnTo>
                  <a:lnTo>
                    <a:pt x="1071" y="2832"/>
                  </a:lnTo>
                  <a:lnTo>
                    <a:pt x="1080" y="2827"/>
                  </a:lnTo>
                  <a:lnTo>
                    <a:pt x="1088" y="2827"/>
                  </a:lnTo>
                  <a:lnTo>
                    <a:pt x="1100" y="2835"/>
                  </a:lnTo>
                  <a:lnTo>
                    <a:pt x="1109" y="2835"/>
                  </a:lnTo>
                  <a:lnTo>
                    <a:pt x="1120" y="2835"/>
                  </a:lnTo>
                  <a:lnTo>
                    <a:pt x="1129" y="2835"/>
                  </a:lnTo>
                  <a:lnTo>
                    <a:pt x="1138" y="2838"/>
                  </a:lnTo>
                  <a:lnTo>
                    <a:pt x="1147" y="2841"/>
                  </a:lnTo>
                  <a:lnTo>
                    <a:pt x="1155" y="2844"/>
                  </a:lnTo>
                  <a:lnTo>
                    <a:pt x="1149" y="2852"/>
                  </a:lnTo>
                  <a:lnTo>
                    <a:pt x="1149" y="2861"/>
                  </a:lnTo>
                  <a:lnTo>
                    <a:pt x="1149" y="2870"/>
                  </a:lnTo>
                  <a:lnTo>
                    <a:pt x="1158" y="2878"/>
                  </a:lnTo>
                  <a:lnTo>
                    <a:pt x="1170" y="2878"/>
                  </a:lnTo>
                  <a:lnTo>
                    <a:pt x="1179" y="2878"/>
                  </a:lnTo>
                  <a:lnTo>
                    <a:pt x="1187" y="2878"/>
                  </a:lnTo>
                  <a:lnTo>
                    <a:pt x="1196" y="2878"/>
                  </a:lnTo>
                  <a:lnTo>
                    <a:pt x="1205" y="2876"/>
                  </a:lnTo>
                  <a:lnTo>
                    <a:pt x="1216" y="2873"/>
                  </a:lnTo>
                  <a:lnTo>
                    <a:pt x="1225" y="2873"/>
                  </a:lnTo>
                  <a:lnTo>
                    <a:pt x="1234" y="2873"/>
                  </a:lnTo>
                  <a:lnTo>
                    <a:pt x="1243" y="2873"/>
                  </a:lnTo>
                  <a:lnTo>
                    <a:pt x="1251" y="2873"/>
                  </a:lnTo>
                  <a:lnTo>
                    <a:pt x="1254" y="2884"/>
                  </a:lnTo>
                  <a:lnTo>
                    <a:pt x="1257" y="2893"/>
                  </a:lnTo>
                  <a:lnTo>
                    <a:pt x="1257" y="2901"/>
                  </a:lnTo>
                  <a:lnTo>
                    <a:pt x="1272" y="2907"/>
                  </a:lnTo>
                  <a:lnTo>
                    <a:pt x="1263" y="2913"/>
                  </a:lnTo>
                  <a:lnTo>
                    <a:pt x="1254" y="2913"/>
                  </a:lnTo>
                  <a:lnTo>
                    <a:pt x="1245" y="2913"/>
                  </a:lnTo>
                  <a:lnTo>
                    <a:pt x="1248" y="2878"/>
                  </a:lnTo>
                  <a:lnTo>
                    <a:pt x="1245" y="2896"/>
                  </a:lnTo>
                  <a:lnTo>
                    <a:pt x="1237" y="2896"/>
                  </a:lnTo>
                  <a:lnTo>
                    <a:pt x="1228" y="2893"/>
                  </a:lnTo>
                  <a:lnTo>
                    <a:pt x="1219" y="2896"/>
                  </a:lnTo>
                  <a:lnTo>
                    <a:pt x="1211" y="2896"/>
                  </a:lnTo>
                  <a:lnTo>
                    <a:pt x="1202" y="2896"/>
                  </a:lnTo>
                  <a:lnTo>
                    <a:pt x="1193" y="2893"/>
                  </a:lnTo>
                  <a:lnTo>
                    <a:pt x="1184" y="2890"/>
                  </a:lnTo>
                  <a:lnTo>
                    <a:pt x="1176" y="2890"/>
                  </a:lnTo>
                  <a:lnTo>
                    <a:pt x="1167" y="2887"/>
                  </a:lnTo>
                  <a:lnTo>
                    <a:pt x="1155" y="2887"/>
                  </a:lnTo>
                  <a:lnTo>
                    <a:pt x="1147" y="2887"/>
                  </a:lnTo>
                  <a:lnTo>
                    <a:pt x="1135" y="2887"/>
                  </a:lnTo>
                  <a:lnTo>
                    <a:pt x="1132" y="2896"/>
                  </a:lnTo>
                  <a:lnTo>
                    <a:pt x="1132" y="2904"/>
                  </a:lnTo>
                  <a:lnTo>
                    <a:pt x="1132" y="2913"/>
                  </a:lnTo>
                  <a:lnTo>
                    <a:pt x="1144" y="2916"/>
                  </a:lnTo>
                  <a:lnTo>
                    <a:pt x="1144" y="2925"/>
                  </a:lnTo>
                  <a:lnTo>
                    <a:pt x="1129" y="2927"/>
                  </a:lnTo>
                  <a:lnTo>
                    <a:pt x="1120" y="2927"/>
                  </a:lnTo>
                  <a:lnTo>
                    <a:pt x="1112" y="2927"/>
                  </a:lnTo>
                  <a:lnTo>
                    <a:pt x="1114" y="2936"/>
                  </a:lnTo>
                  <a:lnTo>
                    <a:pt x="1123" y="2936"/>
                  </a:lnTo>
                  <a:lnTo>
                    <a:pt x="1132" y="2942"/>
                  </a:lnTo>
                  <a:lnTo>
                    <a:pt x="1144" y="2948"/>
                  </a:lnTo>
                  <a:lnTo>
                    <a:pt x="1135" y="2953"/>
                  </a:lnTo>
                  <a:lnTo>
                    <a:pt x="1123" y="2953"/>
                  </a:lnTo>
                  <a:lnTo>
                    <a:pt x="1112" y="2953"/>
                  </a:lnTo>
                  <a:lnTo>
                    <a:pt x="1103" y="2953"/>
                  </a:lnTo>
                  <a:lnTo>
                    <a:pt x="1106" y="2962"/>
                  </a:lnTo>
                  <a:lnTo>
                    <a:pt x="1114" y="2965"/>
                  </a:lnTo>
                  <a:lnTo>
                    <a:pt x="1123" y="2974"/>
                  </a:lnTo>
                  <a:lnTo>
                    <a:pt x="1114" y="2982"/>
                  </a:lnTo>
                  <a:lnTo>
                    <a:pt x="1117" y="2991"/>
                  </a:lnTo>
                  <a:lnTo>
                    <a:pt x="1126" y="2994"/>
                  </a:lnTo>
                  <a:lnTo>
                    <a:pt x="1114" y="2999"/>
                  </a:lnTo>
                  <a:lnTo>
                    <a:pt x="1106" y="2999"/>
                  </a:lnTo>
                  <a:lnTo>
                    <a:pt x="1117" y="3005"/>
                  </a:lnTo>
                  <a:lnTo>
                    <a:pt x="1132" y="3008"/>
                  </a:lnTo>
                  <a:lnTo>
                    <a:pt x="1135" y="3017"/>
                  </a:lnTo>
                  <a:lnTo>
                    <a:pt x="1126" y="3022"/>
                  </a:lnTo>
                  <a:lnTo>
                    <a:pt x="1126" y="3034"/>
                  </a:lnTo>
                  <a:lnTo>
                    <a:pt x="1126" y="3046"/>
                  </a:lnTo>
                  <a:lnTo>
                    <a:pt x="1126" y="3054"/>
                  </a:lnTo>
                  <a:lnTo>
                    <a:pt x="1135" y="3054"/>
                  </a:lnTo>
                  <a:lnTo>
                    <a:pt x="1144" y="3054"/>
                  </a:lnTo>
                  <a:lnTo>
                    <a:pt x="1155" y="3054"/>
                  </a:lnTo>
                  <a:lnTo>
                    <a:pt x="1164" y="3054"/>
                  </a:lnTo>
                  <a:lnTo>
                    <a:pt x="1167" y="3063"/>
                  </a:lnTo>
                  <a:lnTo>
                    <a:pt x="1179" y="3069"/>
                  </a:lnTo>
                  <a:lnTo>
                    <a:pt x="1187" y="3069"/>
                  </a:lnTo>
                  <a:lnTo>
                    <a:pt x="1190" y="3080"/>
                  </a:lnTo>
                  <a:lnTo>
                    <a:pt x="1193" y="3089"/>
                  </a:lnTo>
                  <a:lnTo>
                    <a:pt x="1199" y="3097"/>
                  </a:lnTo>
                  <a:lnTo>
                    <a:pt x="1211" y="3103"/>
                  </a:lnTo>
                  <a:lnTo>
                    <a:pt x="1219" y="3103"/>
                  </a:lnTo>
                  <a:lnTo>
                    <a:pt x="1231" y="3103"/>
                  </a:lnTo>
                  <a:lnTo>
                    <a:pt x="1240" y="3100"/>
                  </a:lnTo>
                  <a:lnTo>
                    <a:pt x="1243" y="3092"/>
                  </a:lnTo>
                  <a:lnTo>
                    <a:pt x="1248" y="3083"/>
                  </a:lnTo>
                  <a:lnTo>
                    <a:pt x="1257" y="3083"/>
                  </a:lnTo>
                  <a:lnTo>
                    <a:pt x="1278" y="3097"/>
                  </a:lnTo>
                  <a:lnTo>
                    <a:pt x="1286" y="3103"/>
                  </a:lnTo>
                  <a:lnTo>
                    <a:pt x="1289" y="3112"/>
                  </a:lnTo>
                  <a:lnTo>
                    <a:pt x="1295" y="3120"/>
                  </a:lnTo>
                  <a:lnTo>
                    <a:pt x="1301" y="3129"/>
                  </a:lnTo>
                  <a:lnTo>
                    <a:pt x="1312" y="3141"/>
                  </a:lnTo>
                  <a:lnTo>
                    <a:pt x="1324" y="3146"/>
                  </a:lnTo>
                  <a:lnTo>
                    <a:pt x="1336" y="3152"/>
                  </a:lnTo>
                  <a:lnTo>
                    <a:pt x="1347" y="3155"/>
                  </a:lnTo>
                  <a:lnTo>
                    <a:pt x="1356" y="3155"/>
                  </a:lnTo>
                  <a:lnTo>
                    <a:pt x="1365" y="3155"/>
                  </a:lnTo>
                  <a:lnTo>
                    <a:pt x="1374" y="3155"/>
                  </a:lnTo>
                  <a:lnTo>
                    <a:pt x="1376" y="3146"/>
                  </a:lnTo>
                  <a:lnTo>
                    <a:pt x="1385" y="3138"/>
                  </a:lnTo>
                  <a:lnTo>
                    <a:pt x="1391" y="3129"/>
                  </a:lnTo>
                  <a:lnTo>
                    <a:pt x="1400" y="3132"/>
                  </a:lnTo>
                  <a:lnTo>
                    <a:pt x="1409" y="3138"/>
                  </a:lnTo>
                  <a:lnTo>
                    <a:pt x="1417" y="3149"/>
                  </a:lnTo>
                  <a:lnTo>
                    <a:pt x="1429" y="3152"/>
                  </a:lnTo>
                  <a:lnTo>
                    <a:pt x="1435" y="3155"/>
                  </a:lnTo>
                  <a:lnTo>
                    <a:pt x="1438" y="3164"/>
                  </a:lnTo>
                  <a:lnTo>
                    <a:pt x="1441" y="3172"/>
                  </a:lnTo>
                  <a:lnTo>
                    <a:pt x="1449" y="3178"/>
                  </a:lnTo>
                  <a:lnTo>
                    <a:pt x="1458" y="3178"/>
                  </a:lnTo>
                  <a:lnTo>
                    <a:pt x="1464" y="3169"/>
                  </a:lnTo>
                  <a:lnTo>
                    <a:pt x="1464" y="3161"/>
                  </a:lnTo>
                  <a:lnTo>
                    <a:pt x="1470" y="3152"/>
                  </a:lnTo>
                  <a:lnTo>
                    <a:pt x="1478" y="3152"/>
                  </a:lnTo>
                  <a:lnTo>
                    <a:pt x="1487" y="3155"/>
                  </a:lnTo>
                  <a:lnTo>
                    <a:pt x="1499" y="3161"/>
                  </a:lnTo>
                  <a:lnTo>
                    <a:pt x="1510" y="3161"/>
                  </a:lnTo>
                  <a:lnTo>
                    <a:pt x="1519" y="3161"/>
                  </a:lnTo>
                  <a:lnTo>
                    <a:pt x="1528" y="3161"/>
                  </a:lnTo>
                  <a:lnTo>
                    <a:pt x="1537" y="3158"/>
                  </a:lnTo>
                  <a:lnTo>
                    <a:pt x="1545" y="3158"/>
                  </a:lnTo>
                  <a:lnTo>
                    <a:pt x="1554" y="3164"/>
                  </a:lnTo>
                  <a:lnTo>
                    <a:pt x="1569" y="3169"/>
                  </a:lnTo>
                  <a:lnTo>
                    <a:pt x="1580" y="3169"/>
                  </a:lnTo>
                  <a:lnTo>
                    <a:pt x="1592" y="3169"/>
                  </a:lnTo>
                  <a:lnTo>
                    <a:pt x="1601" y="3169"/>
                  </a:lnTo>
                  <a:lnTo>
                    <a:pt x="1609" y="3169"/>
                  </a:lnTo>
                  <a:lnTo>
                    <a:pt x="1618" y="3169"/>
                  </a:lnTo>
                  <a:lnTo>
                    <a:pt x="1627" y="3169"/>
                  </a:lnTo>
                  <a:lnTo>
                    <a:pt x="1636" y="3169"/>
                  </a:lnTo>
                  <a:lnTo>
                    <a:pt x="1644" y="3169"/>
                  </a:lnTo>
                  <a:lnTo>
                    <a:pt x="1653" y="3169"/>
                  </a:lnTo>
                  <a:lnTo>
                    <a:pt x="1662" y="3169"/>
                  </a:lnTo>
                  <a:lnTo>
                    <a:pt x="1671" y="3169"/>
                  </a:lnTo>
                  <a:lnTo>
                    <a:pt x="1679" y="3169"/>
                  </a:lnTo>
                  <a:lnTo>
                    <a:pt x="1688" y="3169"/>
                  </a:lnTo>
                  <a:lnTo>
                    <a:pt x="1703" y="3169"/>
                  </a:lnTo>
                  <a:lnTo>
                    <a:pt x="1714" y="3172"/>
                  </a:lnTo>
                  <a:lnTo>
                    <a:pt x="1726" y="3175"/>
                  </a:lnTo>
                  <a:lnTo>
                    <a:pt x="1735" y="3175"/>
                  </a:lnTo>
                  <a:lnTo>
                    <a:pt x="1743" y="3175"/>
                  </a:lnTo>
                  <a:lnTo>
                    <a:pt x="1758" y="3175"/>
                  </a:lnTo>
                  <a:lnTo>
                    <a:pt x="1767" y="3175"/>
                  </a:lnTo>
                  <a:lnTo>
                    <a:pt x="1772" y="3167"/>
                  </a:lnTo>
                  <a:lnTo>
                    <a:pt x="1772" y="3158"/>
                  </a:lnTo>
                  <a:lnTo>
                    <a:pt x="1772" y="3149"/>
                  </a:lnTo>
                  <a:lnTo>
                    <a:pt x="1772" y="3141"/>
                  </a:lnTo>
                  <a:lnTo>
                    <a:pt x="1772" y="3132"/>
                  </a:lnTo>
                  <a:lnTo>
                    <a:pt x="1772" y="3123"/>
                  </a:lnTo>
                  <a:lnTo>
                    <a:pt x="1772" y="3112"/>
                  </a:lnTo>
                  <a:lnTo>
                    <a:pt x="1770" y="3103"/>
                  </a:lnTo>
                  <a:lnTo>
                    <a:pt x="1770" y="3095"/>
                  </a:lnTo>
                  <a:lnTo>
                    <a:pt x="1770" y="3086"/>
                  </a:lnTo>
                  <a:lnTo>
                    <a:pt x="1778" y="3080"/>
                  </a:lnTo>
                  <a:lnTo>
                    <a:pt x="1787" y="3080"/>
                  </a:lnTo>
                  <a:lnTo>
                    <a:pt x="1796" y="3089"/>
                  </a:lnTo>
                  <a:lnTo>
                    <a:pt x="1802" y="3097"/>
                  </a:lnTo>
                  <a:lnTo>
                    <a:pt x="1813" y="3103"/>
                  </a:lnTo>
                  <a:lnTo>
                    <a:pt x="1825" y="3112"/>
                  </a:lnTo>
                  <a:lnTo>
                    <a:pt x="1854" y="3109"/>
                  </a:lnTo>
                  <a:lnTo>
                    <a:pt x="1836" y="3103"/>
                  </a:lnTo>
                  <a:lnTo>
                    <a:pt x="1854" y="3103"/>
                  </a:lnTo>
                  <a:lnTo>
                    <a:pt x="1863" y="3103"/>
                  </a:lnTo>
                  <a:lnTo>
                    <a:pt x="1871" y="3103"/>
                  </a:lnTo>
                  <a:lnTo>
                    <a:pt x="1880" y="3106"/>
                  </a:lnTo>
                  <a:lnTo>
                    <a:pt x="1889" y="3100"/>
                  </a:lnTo>
                  <a:lnTo>
                    <a:pt x="1898" y="3097"/>
                  </a:lnTo>
                  <a:lnTo>
                    <a:pt x="1906" y="3095"/>
                  </a:lnTo>
                  <a:lnTo>
                    <a:pt x="1918" y="3103"/>
                  </a:lnTo>
                  <a:lnTo>
                    <a:pt x="1924" y="3112"/>
                  </a:lnTo>
                  <a:lnTo>
                    <a:pt x="1924" y="3120"/>
                  </a:lnTo>
                  <a:lnTo>
                    <a:pt x="1921" y="3129"/>
                  </a:lnTo>
                  <a:lnTo>
                    <a:pt x="1924" y="3138"/>
                  </a:lnTo>
                  <a:lnTo>
                    <a:pt x="1933" y="3144"/>
                  </a:lnTo>
                  <a:lnTo>
                    <a:pt x="1944" y="3152"/>
                  </a:lnTo>
                  <a:lnTo>
                    <a:pt x="1947" y="3144"/>
                  </a:lnTo>
                  <a:lnTo>
                    <a:pt x="1947" y="3135"/>
                  </a:lnTo>
                  <a:lnTo>
                    <a:pt x="1947" y="3126"/>
                  </a:lnTo>
                  <a:lnTo>
                    <a:pt x="1947" y="3118"/>
                  </a:lnTo>
                  <a:lnTo>
                    <a:pt x="1956" y="3115"/>
                  </a:lnTo>
                  <a:lnTo>
                    <a:pt x="1962" y="3106"/>
                  </a:lnTo>
                  <a:lnTo>
                    <a:pt x="1962" y="3097"/>
                  </a:lnTo>
                  <a:lnTo>
                    <a:pt x="1962" y="3089"/>
                  </a:lnTo>
                  <a:lnTo>
                    <a:pt x="1962" y="3080"/>
                  </a:lnTo>
                  <a:lnTo>
                    <a:pt x="1962" y="3071"/>
                  </a:lnTo>
                  <a:lnTo>
                    <a:pt x="1967" y="3063"/>
                  </a:lnTo>
                  <a:lnTo>
                    <a:pt x="1976" y="3060"/>
                  </a:lnTo>
                  <a:lnTo>
                    <a:pt x="1988" y="3060"/>
                  </a:lnTo>
                  <a:lnTo>
                    <a:pt x="2002" y="3063"/>
                  </a:lnTo>
                  <a:lnTo>
                    <a:pt x="2011" y="3063"/>
                  </a:lnTo>
                  <a:lnTo>
                    <a:pt x="2002" y="3054"/>
                  </a:lnTo>
                  <a:lnTo>
                    <a:pt x="1994" y="3048"/>
                  </a:lnTo>
                  <a:lnTo>
                    <a:pt x="1979" y="3043"/>
                  </a:lnTo>
                  <a:lnTo>
                    <a:pt x="1967" y="3034"/>
                  </a:lnTo>
                  <a:lnTo>
                    <a:pt x="1962" y="3025"/>
                  </a:lnTo>
                  <a:lnTo>
                    <a:pt x="1959" y="3017"/>
                  </a:lnTo>
                  <a:lnTo>
                    <a:pt x="1956" y="3008"/>
                  </a:lnTo>
                  <a:lnTo>
                    <a:pt x="1950" y="2999"/>
                  </a:lnTo>
                  <a:lnTo>
                    <a:pt x="1944" y="2991"/>
                  </a:lnTo>
                  <a:lnTo>
                    <a:pt x="1938" y="2982"/>
                  </a:lnTo>
                  <a:lnTo>
                    <a:pt x="1933" y="2974"/>
                  </a:lnTo>
                  <a:lnTo>
                    <a:pt x="1927" y="2965"/>
                  </a:lnTo>
                  <a:lnTo>
                    <a:pt x="1924" y="2956"/>
                  </a:lnTo>
                  <a:lnTo>
                    <a:pt x="1921" y="2948"/>
                  </a:lnTo>
                  <a:lnTo>
                    <a:pt x="1918" y="2939"/>
                  </a:lnTo>
                  <a:lnTo>
                    <a:pt x="1915" y="2930"/>
                  </a:lnTo>
                  <a:lnTo>
                    <a:pt x="1912" y="2922"/>
                  </a:lnTo>
                  <a:lnTo>
                    <a:pt x="1915" y="2913"/>
                  </a:lnTo>
                  <a:lnTo>
                    <a:pt x="1915" y="2904"/>
                  </a:lnTo>
                  <a:lnTo>
                    <a:pt x="1915" y="2896"/>
                  </a:lnTo>
                  <a:lnTo>
                    <a:pt x="1915" y="2887"/>
                  </a:lnTo>
                  <a:lnTo>
                    <a:pt x="1912" y="2878"/>
                  </a:lnTo>
                  <a:lnTo>
                    <a:pt x="1909" y="2870"/>
                  </a:lnTo>
                  <a:lnTo>
                    <a:pt x="1903" y="2861"/>
                  </a:lnTo>
                  <a:lnTo>
                    <a:pt x="1895" y="2852"/>
                  </a:lnTo>
                  <a:lnTo>
                    <a:pt x="1892" y="2844"/>
                  </a:lnTo>
                  <a:lnTo>
                    <a:pt x="1892" y="2835"/>
                  </a:lnTo>
                  <a:lnTo>
                    <a:pt x="1898" y="2827"/>
                  </a:lnTo>
                  <a:lnTo>
                    <a:pt x="1906" y="2824"/>
                  </a:lnTo>
                  <a:lnTo>
                    <a:pt x="1918" y="2821"/>
                  </a:lnTo>
                  <a:lnTo>
                    <a:pt x="1930" y="2818"/>
                  </a:lnTo>
                  <a:lnTo>
                    <a:pt x="1938" y="2812"/>
                  </a:lnTo>
                  <a:lnTo>
                    <a:pt x="1944" y="2803"/>
                  </a:lnTo>
                  <a:lnTo>
                    <a:pt x="1953" y="2798"/>
                  </a:lnTo>
                  <a:lnTo>
                    <a:pt x="1962" y="2798"/>
                  </a:lnTo>
                  <a:lnTo>
                    <a:pt x="1970" y="2798"/>
                  </a:lnTo>
                  <a:lnTo>
                    <a:pt x="1976" y="2789"/>
                  </a:lnTo>
                  <a:lnTo>
                    <a:pt x="1982" y="2780"/>
                  </a:lnTo>
                  <a:lnTo>
                    <a:pt x="1991" y="2775"/>
                  </a:lnTo>
                  <a:lnTo>
                    <a:pt x="1999" y="2775"/>
                  </a:lnTo>
                  <a:lnTo>
                    <a:pt x="2008" y="2769"/>
                  </a:lnTo>
                  <a:lnTo>
                    <a:pt x="2017" y="2763"/>
                  </a:lnTo>
                  <a:lnTo>
                    <a:pt x="2026" y="2760"/>
                  </a:lnTo>
                  <a:lnTo>
                    <a:pt x="2034" y="2760"/>
                  </a:lnTo>
                  <a:lnTo>
                    <a:pt x="2043" y="2760"/>
                  </a:lnTo>
                  <a:lnTo>
                    <a:pt x="2052" y="2754"/>
                  </a:lnTo>
                  <a:lnTo>
                    <a:pt x="2061" y="2754"/>
                  </a:lnTo>
                  <a:lnTo>
                    <a:pt x="2069" y="2757"/>
                  </a:lnTo>
                  <a:lnTo>
                    <a:pt x="2078" y="2757"/>
                  </a:lnTo>
                  <a:lnTo>
                    <a:pt x="2093" y="2760"/>
                  </a:lnTo>
                  <a:lnTo>
                    <a:pt x="2101" y="2760"/>
                  </a:lnTo>
                  <a:lnTo>
                    <a:pt x="2101" y="2769"/>
                  </a:lnTo>
                  <a:lnTo>
                    <a:pt x="2101" y="2778"/>
                  </a:lnTo>
                  <a:lnTo>
                    <a:pt x="2101" y="2786"/>
                  </a:lnTo>
                  <a:lnTo>
                    <a:pt x="2104" y="2795"/>
                  </a:lnTo>
                  <a:lnTo>
                    <a:pt x="2104" y="2803"/>
                  </a:lnTo>
                  <a:lnTo>
                    <a:pt x="2104" y="2812"/>
                  </a:lnTo>
                  <a:lnTo>
                    <a:pt x="2104" y="2821"/>
                  </a:lnTo>
                  <a:lnTo>
                    <a:pt x="2104" y="2829"/>
                  </a:lnTo>
                  <a:lnTo>
                    <a:pt x="2104" y="2838"/>
                  </a:lnTo>
                  <a:lnTo>
                    <a:pt x="2096" y="2841"/>
                  </a:lnTo>
                  <a:lnTo>
                    <a:pt x="2087" y="2841"/>
                  </a:lnTo>
                  <a:lnTo>
                    <a:pt x="2078" y="2841"/>
                  </a:lnTo>
                  <a:lnTo>
                    <a:pt x="2069" y="2841"/>
                  </a:lnTo>
                  <a:lnTo>
                    <a:pt x="2061" y="2841"/>
                  </a:lnTo>
                  <a:lnTo>
                    <a:pt x="2069" y="2841"/>
                  </a:lnTo>
                  <a:lnTo>
                    <a:pt x="2078" y="2835"/>
                  </a:lnTo>
                  <a:lnTo>
                    <a:pt x="2090" y="2835"/>
                  </a:lnTo>
                  <a:lnTo>
                    <a:pt x="2081" y="2832"/>
                  </a:lnTo>
                  <a:lnTo>
                    <a:pt x="2072" y="2832"/>
                  </a:lnTo>
                  <a:lnTo>
                    <a:pt x="2064" y="2832"/>
                  </a:lnTo>
                  <a:lnTo>
                    <a:pt x="2058" y="2841"/>
                  </a:lnTo>
                  <a:lnTo>
                    <a:pt x="2049" y="2844"/>
                  </a:lnTo>
                  <a:lnTo>
                    <a:pt x="2040" y="2847"/>
                  </a:lnTo>
                  <a:lnTo>
                    <a:pt x="2040" y="2855"/>
                  </a:lnTo>
                  <a:lnTo>
                    <a:pt x="2040" y="2864"/>
                  </a:lnTo>
                  <a:lnTo>
                    <a:pt x="2032" y="2870"/>
                  </a:lnTo>
                  <a:lnTo>
                    <a:pt x="2020" y="2870"/>
                  </a:lnTo>
                  <a:lnTo>
                    <a:pt x="2017" y="2861"/>
                  </a:lnTo>
                  <a:lnTo>
                    <a:pt x="2008" y="2858"/>
                  </a:lnTo>
                  <a:lnTo>
                    <a:pt x="2002" y="2867"/>
                  </a:lnTo>
                  <a:lnTo>
                    <a:pt x="2002" y="2876"/>
                  </a:lnTo>
                  <a:lnTo>
                    <a:pt x="2011" y="2878"/>
                  </a:lnTo>
                  <a:lnTo>
                    <a:pt x="2020" y="2884"/>
                  </a:lnTo>
                  <a:lnTo>
                    <a:pt x="2029" y="2896"/>
                  </a:lnTo>
                  <a:lnTo>
                    <a:pt x="2034" y="2907"/>
                  </a:lnTo>
                  <a:lnTo>
                    <a:pt x="2037" y="2916"/>
                  </a:lnTo>
                  <a:lnTo>
                    <a:pt x="2037" y="2925"/>
                  </a:lnTo>
                  <a:lnTo>
                    <a:pt x="2040" y="2933"/>
                  </a:lnTo>
                  <a:lnTo>
                    <a:pt x="2040" y="2942"/>
                  </a:lnTo>
                  <a:lnTo>
                    <a:pt x="2052" y="2945"/>
                  </a:lnTo>
                  <a:lnTo>
                    <a:pt x="2061" y="2953"/>
                  </a:lnTo>
                  <a:lnTo>
                    <a:pt x="2069" y="2959"/>
                  </a:lnTo>
                  <a:lnTo>
                    <a:pt x="2078" y="2965"/>
                  </a:lnTo>
                  <a:lnTo>
                    <a:pt x="2087" y="2965"/>
                  </a:lnTo>
                  <a:lnTo>
                    <a:pt x="2093" y="2976"/>
                  </a:lnTo>
                  <a:lnTo>
                    <a:pt x="2087" y="2985"/>
                  </a:lnTo>
                  <a:lnTo>
                    <a:pt x="2084" y="2994"/>
                  </a:lnTo>
                  <a:lnTo>
                    <a:pt x="2084" y="3005"/>
                  </a:lnTo>
                  <a:lnTo>
                    <a:pt x="2090" y="3017"/>
                  </a:lnTo>
                  <a:lnTo>
                    <a:pt x="2090" y="3025"/>
                  </a:lnTo>
                  <a:lnTo>
                    <a:pt x="2093" y="3017"/>
                  </a:lnTo>
                  <a:lnTo>
                    <a:pt x="2093" y="3008"/>
                  </a:lnTo>
                  <a:lnTo>
                    <a:pt x="2096" y="2999"/>
                  </a:lnTo>
                  <a:lnTo>
                    <a:pt x="2096" y="2991"/>
                  </a:lnTo>
                  <a:lnTo>
                    <a:pt x="2104" y="2988"/>
                  </a:lnTo>
                  <a:lnTo>
                    <a:pt x="2113" y="2988"/>
                  </a:lnTo>
                  <a:lnTo>
                    <a:pt x="2125" y="2988"/>
                  </a:lnTo>
                  <a:lnTo>
                    <a:pt x="2130" y="2999"/>
                  </a:lnTo>
                  <a:lnTo>
                    <a:pt x="2130" y="3008"/>
                  </a:lnTo>
                  <a:lnTo>
                    <a:pt x="2133" y="3017"/>
                  </a:lnTo>
                  <a:lnTo>
                    <a:pt x="2139" y="3028"/>
                  </a:lnTo>
                  <a:lnTo>
                    <a:pt x="2148" y="3034"/>
                  </a:lnTo>
                  <a:lnTo>
                    <a:pt x="2160" y="3040"/>
                  </a:lnTo>
                  <a:lnTo>
                    <a:pt x="2151" y="3043"/>
                  </a:lnTo>
                  <a:lnTo>
                    <a:pt x="2148" y="3051"/>
                  </a:lnTo>
                  <a:lnTo>
                    <a:pt x="2133" y="3054"/>
                  </a:lnTo>
                  <a:lnTo>
                    <a:pt x="2125" y="3051"/>
                  </a:lnTo>
                  <a:lnTo>
                    <a:pt x="2116" y="3051"/>
                  </a:lnTo>
                  <a:lnTo>
                    <a:pt x="2101" y="3046"/>
                  </a:lnTo>
                  <a:lnTo>
                    <a:pt x="2093" y="3037"/>
                  </a:lnTo>
                  <a:lnTo>
                    <a:pt x="2090" y="3046"/>
                  </a:lnTo>
                  <a:lnTo>
                    <a:pt x="2090" y="3054"/>
                  </a:lnTo>
                  <a:lnTo>
                    <a:pt x="2090" y="3063"/>
                  </a:lnTo>
                  <a:lnTo>
                    <a:pt x="2090" y="3071"/>
                  </a:lnTo>
                  <a:lnTo>
                    <a:pt x="2087" y="3080"/>
                  </a:lnTo>
                  <a:lnTo>
                    <a:pt x="2084" y="3089"/>
                  </a:lnTo>
                  <a:lnTo>
                    <a:pt x="2084" y="3097"/>
                  </a:lnTo>
                  <a:lnTo>
                    <a:pt x="2096" y="3097"/>
                  </a:lnTo>
                  <a:lnTo>
                    <a:pt x="2104" y="3092"/>
                  </a:lnTo>
                  <a:lnTo>
                    <a:pt x="2110" y="3100"/>
                  </a:lnTo>
                  <a:lnTo>
                    <a:pt x="2107" y="3109"/>
                  </a:lnTo>
                  <a:lnTo>
                    <a:pt x="2098" y="3118"/>
                  </a:lnTo>
                  <a:lnTo>
                    <a:pt x="2090" y="3123"/>
                  </a:lnTo>
                  <a:lnTo>
                    <a:pt x="2087" y="3109"/>
                  </a:lnTo>
                  <a:lnTo>
                    <a:pt x="2087" y="3132"/>
                  </a:lnTo>
                  <a:lnTo>
                    <a:pt x="2096" y="3126"/>
                  </a:lnTo>
                  <a:lnTo>
                    <a:pt x="2087" y="3109"/>
                  </a:lnTo>
                  <a:lnTo>
                    <a:pt x="2104" y="3112"/>
                  </a:lnTo>
                  <a:lnTo>
                    <a:pt x="2110" y="3103"/>
                  </a:lnTo>
                  <a:lnTo>
                    <a:pt x="2110" y="3112"/>
                  </a:lnTo>
                  <a:lnTo>
                    <a:pt x="2110" y="3120"/>
                  </a:lnTo>
                  <a:lnTo>
                    <a:pt x="2116" y="3129"/>
                  </a:lnTo>
                  <a:lnTo>
                    <a:pt x="2119" y="3138"/>
                  </a:lnTo>
                  <a:lnTo>
                    <a:pt x="2122" y="3149"/>
                  </a:lnTo>
                  <a:lnTo>
                    <a:pt x="2122" y="3158"/>
                  </a:lnTo>
                  <a:lnTo>
                    <a:pt x="2125" y="3167"/>
                  </a:lnTo>
                  <a:lnTo>
                    <a:pt x="2125" y="3175"/>
                  </a:lnTo>
                  <a:lnTo>
                    <a:pt x="2125" y="3184"/>
                  </a:lnTo>
                  <a:lnTo>
                    <a:pt x="2125" y="3193"/>
                  </a:lnTo>
                  <a:lnTo>
                    <a:pt x="2128" y="3201"/>
                  </a:lnTo>
                  <a:lnTo>
                    <a:pt x="2130" y="3210"/>
                  </a:lnTo>
                  <a:lnTo>
                    <a:pt x="2139" y="3210"/>
                  </a:lnTo>
                  <a:lnTo>
                    <a:pt x="2148" y="3210"/>
                  </a:lnTo>
                  <a:lnTo>
                    <a:pt x="2157" y="3207"/>
                  </a:lnTo>
                  <a:lnTo>
                    <a:pt x="2163" y="3198"/>
                  </a:lnTo>
                  <a:lnTo>
                    <a:pt x="2171" y="3195"/>
                  </a:lnTo>
                  <a:lnTo>
                    <a:pt x="2183" y="3193"/>
                  </a:lnTo>
                  <a:lnTo>
                    <a:pt x="2192" y="3190"/>
                  </a:lnTo>
                  <a:lnTo>
                    <a:pt x="2200" y="3184"/>
                  </a:lnTo>
                  <a:lnTo>
                    <a:pt x="2209" y="3181"/>
                  </a:lnTo>
                  <a:lnTo>
                    <a:pt x="2218" y="3181"/>
                  </a:lnTo>
                  <a:lnTo>
                    <a:pt x="2224" y="3172"/>
                  </a:lnTo>
                  <a:lnTo>
                    <a:pt x="2232" y="3169"/>
                  </a:lnTo>
                  <a:lnTo>
                    <a:pt x="2241" y="3169"/>
                  </a:lnTo>
                  <a:lnTo>
                    <a:pt x="2256" y="3169"/>
                  </a:lnTo>
                  <a:lnTo>
                    <a:pt x="2264" y="3169"/>
                  </a:lnTo>
                  <a:lnTo>
                    <a:pt x="2276" y="3178"/>
                  </a:lnTo>
                  <a:lnTo>
                    <a:pt x="2288" y="3184"/>
                  </a:lnTo>
                  <a:lnTo>
                    <a:pt x="2296" y="3187"/>
                  </a:lnTo>
                  <a:lnTo>
                    <a:pt x="2308" y="3190"/>
                  </a:lnTo>
                  <a:lnTo>
                    <a:pt x="2317" y="3195"/>
                  </a:lnTo>
                  <a:lnTo>
                    <a:pt x="2328" y="3198"/>
                  </a:lnTo>
                  <a:lnTo>
                    <a:pt x="2340" y="3201"/>
                  </a:lnTo>
                  <a:lnTo>
                    <a:pt x="2349" y="3207"/>
                  </a:lnTo>
                  <a:lnTo>
                    <a:pt x="2358" y="3216"/>
                  </a:lnTo>
                  <a:lnTo>
                    <a:pt x="2366" y="3221"/>
                  </a:lnTo>
                  <a:lnTo>
                    <a:pt x="2375" y="3227"/>
                  </a:lnTo>
                  <a:lnTo>
                    <a:pt x="2387" y="3230"/>
                  </a:lnTo>
                  <a:lnTo>
                    <a:pt x="2395" y="3230"/>
                  </a:lnTo>
                  <a:lnTo>
                    <a:pt x="2404" y="3230"/>
                  </a:lnTo>
                  <a:lnTo>
                    <a:pt x="2407" y="3239"/>
                  </a:lnTo>
                  <a:lnTo>
                    <a:pt x="2407" y="3247"/>
                  </a:lnTo>
                  <a:lnTo>
                    <a:pt x="2413" y="3256"/>
                  </a:lnTo>
                  <a:lnTo>
                    <a:pt x="2422" y="3262"/>
                  </a:lnTo>
                  <a:lnTo>
                    <a:pt x="2436" y="3265"/>
                  </a:lnTo>
                  <a:lnTo>
                    <a:pt x="2451" y="3270"/>
                  </a:lnTo>
                  <a:lnTo>
                    <a:pt x="2457" y="3279"/>
                  </a:lnTo>
                  <a:lnTo>
                    <a:pt x="2457" y="3288"/>
                  </a:lnTo>
                  <a:lnTo>
                    <a:pt x="2468" y="3291"/>
                  </a:lnTo>
                  <a:lnTo>
                    <a:pt x="2483" y="3288"/>
                  </a:lnTo>
                  <a:lnTo>
                    <a:pt x="2491" y="3285"/>
                  </a:lnTo>
                  <a:lnTo>
                    <a:pt x="2500" y="3276"/>
                  </a:lnTo>
                  <a:lnTo>
                    <a:pt x="2509" y="3270"/>
                  </a:lnTo>
                  <a:lnTo>
                    <a:pt x="2515" y="3262"/>
                  </a:lnTo>
                  <a:lnTo>
                    <a:pt x="2521" y="3253"/>
                  </a:lnTo>
                  <a:lnTo>
                    <a:pt x="2526" y="3244"/>
                  </a:lnTo>
                  <a:lnTo>
                    <a:pt x="2532" y="3236"/>
                  </a:lnTo>
                  <a:lnTo>
                    <a:pt x="2535" y="3227"/>
                  </a:lnTo>
                  <a:lnTo>
                    <a:pt x="2541" y="3218"/>
                  </a:lnTo>
                  <a:lnTo>
                    <a:pt x="2544" y="3210"/>
                  </a:lnTo>
                  <a:lnTo>
                    <a:pt x="2544" y="3198"/>
                  </a:lnTo>
                  <a:lnTo>
                    <a:pt x="2544" y="3190"/>
                  </a:lnTo>
                  <a:lnTo>
                    <a:pt x="2553" y="3181"/>
                  </a:lnTo>
                  <a:lnTo>
                    <a:pt x="2567" y="3181"/>
                  </a:lnTo>
                  <a:lnTo>
                    <a:pt x="2599" y="3155"/>
                  </a:lnTo>
                  <a:lnTo>
                    <a:pt x="2599" y="3164"/>
                  </a:lnTo>
                  <a:lnTo>
                    <a:pt x="2608" y="3169"/>
                  </a:lnTo>
                  <a:lnTo>
                    <a:pt x="2617" y="3178"/>
                  </a:lnTo>
                  <a:lnTo>
                    <a:pt x="2625" y="3181"/>
                  </a:lnTo>
                  <a:lnTo>
                    <a:pt x="2634" y="3178"/>
                  </a:lnTo>
                  <a:lnTo>
                    <a:pt x="2643" y="3172"/>
                  </a:lnTo>
                  <a:lnTo>
                    <a:pt x="2657" y="3169"/>
                  </a:lnTo>
                  <a:lnTo>
                    <a:pt x="2666" y="3169"/>
                  </a:lnTo>
                  <a:lnTo>
                    <a:pt x="2675" y="3169"/>
                  </a:lnTo>
                  <a:lnTo>
                    <a:pt x="2684" y="3164"/>
                  </a:lnTo>
                  <a:lnTo>
                    <a:pt x="2692" y="3155"/>
                  </a:lnTo>
                  <a:lnTo>
                    <a:pt x="2739" y="3155"/>
                  </a:lnTo>
                  <a:lnTo>
                    <a:pt x="2733" y="3138"/>
                  </a:lnTo>
                  <a:lnTo>
                    <a:pt x="2733" y="3126"/>
                  </a:lnTo>
                  <a:lnTo>
                    <a:pt x="2730" y="3118"/>
                  </a:lnTo>
                  <a:lnTo>
                    <a:pt x="2739" y="3112"/>
                  </a:lnTo>
                  <a:lnTo>
                    <a:pt x="2748" y="3106"/>
                  </a:lnTo>
                  <a:lnTo>
                    <a:pt x="2753" y="3097"/>
                  </a:lnTo>
                  <a:lnTo>
                    <a:pt x="2762" y="3092"/>
                  </a:lnTo>
                  <a:lnTo>
                    <a:pt x="2771" y="3092"/>
                  </a:lnTo>
                  <a:lnTo>
                    <a:pt x="2780" y="3095"/>
                  </a:lnTo>
                  <a:lnTo>
                    <a:pt x="2783" y="3103"/>
                  </a:lnTo>
                  <a:lnTo>
                    <a:pt x="2786" y="3112"/>
                  </a:lnTo>
                  <a:lnTo>
                    <a:pt x="2786" y="3126"/>
                  </a:lnTo>
                  <a:lnTo>
                    <a:pt x="2788" y="3135"/>
                  </a:lnTo>
                  <a:lnTo>
                    <a:pt x="2791" y="3144"/>
                  </a:lnTo>
                  <a:lnTo>
                    <a:pt x="2794" y="3152"/>
                  </a:lnTo>
                  <a:lnTo>
                    <a:pt x="2800" y="3161"/>
                  </a:lnTo>
                  <a:lnTo>
                    <a:pt x="2809" y="3167"/>
                  </a:lnTo>
                  <a:lnTo>
                    <a:pt x="2818" y="3167"/>
                  </a:lnTo>
                  <a:lnTo>
                    <a:pt x="2826" y="3167"/>
                  </a:lnTo>
                  <a:lnTo>
                    <a:pt x="2832" y="3158"/>
                  </a:lnTo>
                  <a:lnTo>
                    <a:pt x="2841" y="3152"/>
                  </a:lnTo>
                  <a:lnTo>
                    <a:pt x="2844" y="3144"/>
                  </a:lnTo>
                  <a:lnTo>
                    <a:pt x="2847" y="3135"/>
                  </a:lnTo>
                  <a:lnTo>
                    <a:pt x="2850" y="3123"/>
                  </a:lnTo>
                  <a:lnTo>
                    <a:pt x="2858" y="3115"/>
                  </a:lnTo>
                  <a:lnTo>
                    <a:pt x="2870" y="3115"/>
                  </a:lnTo>
                  <a:lnTo>
                    <a:pt x="2879" y="3115"/>
                  </a:lnTo>
                  <a:lnTo>
                    <a:pt x="2887" y="3115"/>
                  </a:lnTo>
                  <a:lnTo>
                    <a:pt x="2896" y="3115"/>
                  </a:lnTo>
                  <a:lnTo>
                    <a:pt x="2902" y="3106"/>
                  </a:lnTo>
                  <a:lnTo>
                    <a:pt x="2914" y="3103"/>
                  </a:lnTo>
                  <a:lnTo>
                    <a:pt x="2922" y="3103"/>
                  </a:lnTo>
                  <a:lnTo>
                    <a:pt x="2925" y="3095"/>
                  </a:lnTo>
                  <a:lnTo>
                    <a:pt x="2925" y="3086"/>
                  </a:lnTo>
                  <a:lnTo>
                    <a:pt x="2922" y="3077"/>
                  </a:lnTo>
                  <a:lnTo>
                    <a:pt x="2917" y="3066"/>
                  </a:lnTo>
                  <a:lnTo>
                    <a:pt x="2911" y="3057"/>
                  </a:lnTo>
                  <a:lnTo>
                    <a:pt x="2905" y="3048"/>
                  </a:lnTo>
                  <a:lnTo>
                    <a:pt x="2896" y="3046"/>
                  </a:lnTo>
                  <a:lnTo>
                    <a:pt x="2887" y="3048"/>
                  </a:lnTo>
                  <a:lnTo>
                    <a:pt x="2879" y="3051"/>
                  </a:lnTo>
                  <a:lnTo>
                    <a:pt x="2876" y="3060"/>
                  </a:lnTo>
                  <a:lnTo>
                    <a:pt x="2873" y="3069"/>
                  </a:lnTo>
                  <a:lnTo>
                    <a:pt x="2864" y="3066"/>
                  </a:lnTo>
                  <a:lnTo>
                    <a:pt x="2861" y="3054"/>
                  </a:lnTo>
                  <a:lnTo>
                    <a:pt x="2858" y="3043"/>
                  </a:lnTo>
                  <a:lnTo>
                    <a:pt x="2858" y="3034"/>
                  </a:lnTo>
                  <a:lnTo>
                    <a:pt x="2855" y="3025"/>
                  </a:lnTo>
                  <a:lnTo>
                    <a:pt x="2850" y="3017"/>
                  </a:lnTo>
                  <a:lnTo>
                    <a:pt x="2850" y="3008"/>
                  </a:lnTo>
                  <a:lnTo>
                    <a:pt x="2850" y="2997"/>
                  </a:lnTo>
                  <a:lnTo>
                    <a:pt x="2850" y="2988"/>
                  </a:lnTo>
                  <a:lnTo>
                    <a:pt x="2858" y="2982"/>
                  </a:lnTo>
                  <a:lnTo>
                    <a:pt x="2867" y="2982"/>
                  </a:lnTo>
                  <a:lnTo>
                    <a:pt x="2876" y="2979"/>
                  </a:lnTo>
                  <a:lnTo>
                    <a:pt x="2884" y="2974"/>
                  </a:lnTo>
                  <a:lnTo>
                    <a:pt x="2887" y="2962"/>
                  </a:lnTo>
                  <a:lnTo>
                    <a:pt x="2896" y="2962"/>
                  </a:lnTo>
                  <a:lnTo>
                    <a:pt x="2905" y="2962"/>
                  </a:lnTo>
                  <a:lnTo>
                    <a:pt x="2914" y="2962"/>
                  </a:lnTo>
                  <a:lnTo>
                    <a:pt x="2922" y="2959"/>
                  </a:lnTo>
                  <a:lnTo>
                    <a:pt x="2931" y="2956"/>
                  </a:lnTo>
                  <a:lnTo>
                    <a:pt x="2937" y="2948"/>
                  </a:lnTo>
                  <a:lnTo>
                    <a:pt x="2943" y="2939"/>
                  </a:lnTo>
                  <a:lnTo>
                    <a:pt x="2946" y="2930"/>
                  </a:lnTo>
                  <a:lnTo>
                    <a:pt x="2954" y="2925"/>
                  </a:lnTo>
                  <a:lnTo>
                    <a:pt x="2963" y="2919"/>
                  </a:lnTo>
                  <a:lnTo>
                    <a:pt x="2972" y="2916"/>
                  </a:lnTo>
                  <a:lnTo>
                    <a:pt x="2981" y="2913"/>
                  </a:lnTo>
                  <a:lnTo>
                    <a:pt x="2983" y="2904"/>
                  </a:lnTo>
                  <a:lnTo>
                    <a:pt x="2989" y="2893"/>
                  </a:lnTo>
                  <a:lnTo>
                    <a:pt x="2998" y="2881"/>
                  </a:lnTo>
                  <a:lnTo>
                    <a:pt x="3004" y="2873"/>
                  </a:lnTo>
                  <a:lnTo>
                    <a:pt x="3010" y="2864"/>
                  </a:lnTo>
                  <a:lnTo>
                    <a:pt x="3018" y="2858"/>
                  </a:lnTo>
                  <a:lnTo>
                    <a:pt x="3027" y="2852"/>
                  </a:lnTo>
                  <a:lnTo>
                    <a:pt x="3036" y="2847"/>
                  </a:lnTo>
                  <a:lnTo>
                    <a:pt x="3045" y="2847"/>
                  </a:lnTo>
                  <a:lnTo>
                    <a:pt x="3053" y="2844"/>
                  </a:lnTo>
                  <a:lnTo>
                    <a:pt x="3053" y="2835"/>
                  </a:lnTo>
                  <a:lnTo>
                    <a:pt x="3053" y="2827"/>
                  </a:lnTo>
                  <a:lnTo>
                    <a:pt x="3053" y="2818"/>
                  </a:lnTo>
                  <a:lnTo>
                    <a:pt x="3053" y="2809"/>
                  </a:lnTo>
                  <a:lnTo>
                    <a:pt x="3050" y="2801"/>
                  </a:lnTo>
                  <a:lnTo>
                    <a:pt x="3045" y="2789"/>
                  </a:lnTo>
                  <a:lnTo>
                    <a:pt x="3045" y="2780"/>
                  </a:lnTo>
                  <a:lnTo>
                    <a:pt x="3045" y="2772"/>
                  </a:lnTo>
                  <a:lnTo>
                    <a:pt x="3045" y="2763"/>
                  </a:lnTo>
                  <a:lnTo>
                    <a:pt x="3036" y="2754"/>
                  </a:lnTo>
                  <a:lnTo>
                    <a:pt x="3027" y="2743"/>
                  </a:lnTo>
                  <a:lnTo>
                    <a:pt x="3024" y="2734"/>
                  </a:lnTo>
                  <a:lnTo>
                    <a:pt x="3021" y="2726"/>
                  </a:lnTo>
                  <a:lnTo>
                    <a:pt x="3018" y="2717"/>
                  </a:lnTo>
                  <a:lnTo>
                    <a:pt x="3010" y="2708"/>
                  </a:lnTo>
                  <a:lnTo>
                    <a:pt x="3001" y="2705"/>
                  </a:lnTo>
                  <a:lnTo>
                    <a:pt x="3001" y="2697"/>
                  </a:lnTo>
                  <a:lnTo>
                    <a:pt x="3010" y="2694"/>
                  </a:lnTo>
                  <a:lnTo>
                    <a:pt x="3018" y="2688"/>
                  </a:lnTo>
                  <a:lnTo>
                    <a:pt x="3027" y="2682"/>
                  </a:lnTo>
                  <a:lnTo>
                    <a:pt x="3030" y="2674"/>
                  </a:lnTo>
                  <a:lnTo>
                    <a:pt x="3039" y="2665"/>
                  </a:lnTo>
                  <a:lnTo>
                    <a:pt x="3045" y="2657"/>
                  </a:lnTo>
                  <a:lnTo>
                    <a:pt x="3056" y="2659"/>
                  </a:lnTo>
                  <a:lnTo>
                    <a:pt x="3065" y="2665"/>
                  </a:lnTo>
                  <a:lnTo>
                    <a:pt x="3074" y="2665"/>
                  </a:lnTo>
                  <a:lnTo>
                    <a:pt x="3077" y="2657"/>
                  </a:lnTo>
                  <a:lnTo>
                    <a:pt x="3077" y="2645"/>
                  </a:lnTo>
                  <a:lnTo>
                    <a:pt x="3077" y="2636"/>
                  </a:lnTo>
                  <a:lnTo>
                    <a:pt x="3077" y="2628"/>
                  </a:lnTo>
                  <a:lnTo>
                    <a:pt x="3071" y="2619"/>
                  </a:lnTo>
                  <a:lnTo>
                    <a:pt x="3062" y="2613"/>
                  </a:lnTo>
                  <a:lnTo>
                    <a:pt x="3056" y="2605"/>
                  </a:lnTo>
                  <a:lnTo>
                    <a:pt x="3056" y="2596"/>
                  </a:lnTo>
                  <a:lnTo>
                    <a:pt x="3053" y="2582"/>
                  </a:lnTo>
                  <a:lnTo>
                    <a:pt x="3053" y="2573"/>
                  </a:lnTo>
                  <a:lnTo>
                    <a:pt x="3062" y="2567"/>
                  </a:lnTo>
                  <a:lnTo>
                    <a:pt x="3071" y="2567"/>
                  </a:lnTo>
                  <a:lnTo>
                    <a:pt x="3080" y="2564"/>
                  </a:lnTo>
                  <a:lnTo>
                    <a:pt x="3088" y="2564"/>
                  </a:lnTo>
                  <a:lnTo>
                    <a:pt x="3097" y="2561"/>
                  </a:lnTo>
                  <a:lnTo>
                    <a:pt x="3109" y="2556"/>
                  </a:lnTo>
                  <a:lnTo>
                    <a:pt x="3117" y="2547"/>
                  </a:lnTo>
                  <a:lnTo>
                    <a:pt x="3120" y="2538"/>
                  </a:lnTo>
                  <a:lnTo>
                    <a:pt x="3120" y="2530"/>
                  </a:lnTo>
                  <a:lnTo>
                    <a:pt x="3120" y="2521"/>
                  </a:lnTo>
                  <a:lnTo>
                    <a:pt x="3120" y="2512"/>
                  </a:lnTo>
                  <a:lnTo>
                    <a:pt x="3114" y="2501"/>
                  </a:lnTo>
                  <a:lnTo>
                    <a:pt x="3112" y="2489"/>
                  </a:lnTo>
                  <a:lnTo>
                    <a:pt x="3112" y="2481"/>
                  </a:lnTo>
                  <a:lnTo>
                    <a:pt x="3112" y="2472"/>
                  </a:lnTo>
                  <a:lnTo>
                    <a:pt x="3120" y="2463"/>
                  </a:lnTo>
                  <a:lnTo>
                    <a:pt x="3129" y="2461"/>
                  </a:lnTo>
                  <a:lnTo>
                    <a:pt x="3135" y="2452"/>
                  </a:lnTo>
                  <a:lnTo>
                    <a:pt x="3135" y="2443"/>
                  </a:lnTo>
                  <a:lnTo>
                    <a:pt x="3135" y="2435"/>
                  </a:lnTo>
                  <a:lnTo>
                    <a:pt x="3144" y="2429"/>
                  </a:lnTo>
                  <a:lnTo>
                    <a:pt x="3152" y="2420"/>
                  </a:lnTo>
                  <a:lnTo>
                    <a:pt x="3155" y="2412"/>
                  </a:lnTo>
                  <a:lnTo>
                    <a:pt x="3158" y="2403"/>
                  </a:lnTo>
                  <a:lnTo>
                    <a:pt x="3167" y="2394"/>
                  </a:lnTo>
                  <a:lnTo>
                    <a:pt x="3176" y="2386"/>
                  </a:lnTo>
                  <a:lnTo>
                    <a:pt x="3184" y="2380"/>
                  </a:lnTo>
                  <a:lnTo>
                    <a:pt x="3184" y="2371"/>
                  </a:lnTo>
                  <a:lnTo>
                    <a:pt x="3187" y="2363"/>
                  </a:lnTo>
                  <a:lnTo>
                    <a:pt x="3193" y="2354"/>
                  </a:lnTo>
                  <a:lnTo>
                    <a:pt x="3202" y="2348"/>
                  </a:lnTo>
                  <a:lnTo>
                    <a:pt x="3208" y="2340"/>
                  </a:lnTo>
                  <a:lnTo>
                    <a:pt x="3213" y="2331"/>
                  </a:lnTo>
                  <a:lnTo>
                    <a:pt x="3216" y="2322"/>
                  </a:lnTo>
                  <a:lnTo>
                    <a:pt x="3219" y="2314"/>
                  </a:lnTo>
                  <a:lnTo>
                    <a:pt x="3222" y="2305"/>
                  </a:lnTo>
                  <a:lnTo>
                    <a:pt x="3228" y="2296"/>
                  </a:lnTo>
                  <a:lnTo>
                    <a:pt x="3237" y="2291"/>
                  </a:lnTo>
                  <a:lnTo>
                    <a:pt x="3245" y="2291"/>
                  </a:lnTo>
                  <a:lnTo>
                    <a:pt x="3254" y="2285"/>
                  </a:lnTo>
                  <a:lnTo>
                    <a:pt x="3263" y="2282"/>
                  </a:lnTo>
                  <a:lnTo>
                    <a:pt x="3272" y="2279"/>
                  </a:lnTo>
                  <a:lnTo>
                    <a:pt x="3280" y="2279"/>
                  </a:lnTo>
                  <a:lnTo>
                    <a:pt x="3289" y="2276"/>
                  </a:lnTo>
                  <a:lnTo>
                    <a:pt x="3298" y="2273"/>
                  </a:lnTo>
                  <a:lnTo>
                    <a:pt x="3307" y="2273"/>
                  </a:lnTo>
                  <a:lnTo>
                    <a:pt x="3318" y="2276"/>
                  </a:lnTo>
                  <a:lnTo>
                    <a:pt x="3327" y="2276"/>
                  </a:lnTo>
                  <a:lnTo>
                    <a:pt x="3336" y="2276"/>
                  </a:lnTo>
                  <a:lnTo>
                    <a:pt x="3344" y="2276"/>
                  </a:lnTo>
                  <a:lnTo>
                    <a:pt x="3344" y="2279"/>
                  </a:lnTo>
                  <a:lnTo>
                    <a:pt x="3356" y="2265"/>
                  </a:lnTo>
                  <a:lnTo>
                    <a:pt x="3365" y="2265"/>
                  </a:lnTo>
                  <a:lnTo>
                    <a:pt x="3374" y="2259"/>
                  </a:lnTo>
                  <a:lnTo>
                    <a:pt x="3382" y="2253"/>
                  </a:lnTo>
                  <a:lnTo>
                    <a:pt x="3385" y="2244"/>
                  </a:lnTo>
                  <a:lnTo>
                    <a:pt x="3391" y="2233"/>
                  </a:lnTo>
                  <a:lnTo>
                    <a:pt x="3400" y="2224"/>
                  </a:lnTo>
                  <a:lnTo>
                    <a:pt x="3397" y="2216"/>
                  </a:lnTo>
                  <a:lnTo>
                    <a:pt x="3391" y="2207"/>
                  </a:lnTo>
                  <a:lnTo>
                    <a:pt x="3382" y="2201"/>
                  </a:lnTo>
                  <a:lnTo>
                    <a:pt x="3376" y="2193"/>
                  </a:lnTo>
                  <a:lnTo>
                    <a:pt x="3368" y="2184"/>
                  </a:lnTo>
                  <a:lnTo>
                    <a:pt x="3362" y="2172"/>
                  </a:lnTo>
                  <a:lnTo>
                    <a:pt x="3356" y="2164"/>
                  </a:lnTo>
                  <a:lnTo>
                    <a:pt x="3356" y="2155"/>
                  </a:lnTo>
                  <a:lnTo>
                    <a:pt x="3356" y="2146"/>
                  </a:lnTo>
                  <a:lnTo>
                    <a:pt x="3368" y="2141"/>
                  </a:lnTo>
                  <a:lnTo>
                    <a:pt x="3376" y="2138"/>
                  </a:lnTo>
                  <a:lnTo>
                    <a:pt x="3385" y="2135"/>
                  </a:lnTo>
                  <a:lnTo>
                    <a:pt x="3394" y="2126"/>
                  </a:lnTo>
                  <a:lnTo>
                    <a:pt x="3400" y="2118"/>
                  </a:lnTo>
                  <a:lnTo>
                    <a:pt x="3406" y="2109"/>
                  </a:lnTo>
                  <a:lnTo>
                    <a:pt x="3414" y="2106"/>
                  </a:lnTo>
                  <a:lnTo>
                    <a:pt x="3426" y="2106"/>
                  </a:lnTo>
                  <a:lnTo>
                    <a:pt x="3435" y="2106"/>
                  </a:lnTo>
                  <a:lnTo>
                    <a:pt x="3443" y="2106"/>
                  </a:lnTo>
                  <a:lnTo>
                    <a:pt x="3452" y="2103"/>
                  </a:lnTo>
                  <a:lnTo>
                    <a:pt x="3461" y="2103"/>
                  </a:lnTo>
                  <a:lnTo>
                    <a:pt x="3470" y="2103"/>
                  </a:lnTo>
                  <a:lnTo>
                    <a:pt x="3478" y="2112"/>
                  </a:lnTo>
                  <a:lnTo>
                    <a:pt x="3484" y="2120"/>
                  </a:lnTo>
                  <a:lnTo>
                    <a:pt x="3493" y="2126"/>
                  </a:lnTo>
                  <a:lnTo>
                    <a:pt x="3502" y="2129"/>
                  </a:lnTo>
                  <a:lnTo>
                    <a:pt x="3510" y="2129"/>
                  </a:lnTo>
                  <a:lnTo>
                    <a:pt x="3519" y="2129"/>
                  </a:lnTo>
                  <a:lnTo>
                    <a:pt x="3528" y="2126"/>
                  </a:lnTo>
                  <a:lnTo>
                    <a:pt x="3537" y="2118"/>
                  </a:lnTo>
                  <a:lnTo>
                    <a:pt x="3542" y="2109"/>
                  </a:lnTo>
                  <a:lnTo>
                    <a:pt x="3548" y="2100"/>
                  </a:lnTo>
                  <a:lnTo>
                    <a:pt x="3551" y="2089"/>
                  </a:lnTo>
                  <a:lnTo>
                    <a:pt x="3554" y="2080"/>
                  </a:lnTo>
                  <a:lnTo>
                    <a:pt x="3563" y="2072"/>
                  </a:lnTo>
                  <a:lnTo>
                    <a:pt x="3572" y="2072"/>
                  </a:lnTo>
                  <a:lnTo>
                    <a:pt x="3583" y="2063"/>
                  </a:lnTo>
                  <a:lnTo>
                    <a:pt x="3589" y="2054"/>
                  </a:lnTo>
                  <a:lnTo>
                    <a:pt x="3595" y="2046"/>
                  </a:lnTo>
                  <a:lnTo>
                    <a:pt x="3604" y="2040"/>
                  </a:lnTo>
                  <a:lnTo>
                    <a:pt x="3612" y="2040"/>
                  </a:lnTo>
                  <a:lnTo>
                    <a:pt x="3621" y="2040"/>
                  </a:lnTo>
                  <a:lnTo>
                    <a:pt x="3630" y="2040"/>
                  </a:lnTo>
                  <a:lnTo>
                    <a:pt x="3638" y="2037"/>
                  </a:lnTo>
                  <a:lnTo>
                    <a:pt x="3647" y="2037"/>
                  </a:lnTo>
                  <a:lnTo>
                    <a:pt x="3656" y="2037"/>
                  </a:lnTo>
                  <a:lnTo>
                    <a:pt x="3665" y="2037"/>
                  </a:lnTo>
                  <a:lnTo>
                    <a:pt x="3673" y="2034"/>
                  </a:lnTo>
                  <a:lnTo>
                    <a:pt x="3682" y="2031"/>
                  </a:lnTo>
                  <a:lnTo>
                    <a:pt x="3691" y="2028"/>
                  </a:lnTo>
                  <a:lnTo>
                    <a:pt x="3700" y="2023"/>
                  </a:lnTo>
                  <a:lnTo>
                    <a:pt x="3705" y="2014"/>
                  </a:lnTo>
                  <a:lnTo>
                    <a:pt x="3714" y="2005"/>
                  </a:lnTo>
                  <a:lnTo>
                    <a:pt x="3723" y="1997"/>
                  </a:lnTo>
                  <a:lnTo>
                    <a:pt x="3726" y="1988"/>
                  </a:lnTo>
                  <a:lnTo>
                    <a:pt x="3735" y="1976"/>
                  </a:lnTo>
                  <a:lnTo>
                    <a:pt x="3740" y="1968"/>
                  </a:lnTo>
                  <a:lnTo>
                    <a:pt x="3746" y="1959"/>
                  </a:lnTo>
                  <a:lnTo>
                    <a:pt x="3749" y="1950"/>
                  </a:lnTo>
                  <a:lnTo>
                    <a:pt x="3755" y="1939"/>
                  </a:lnTo>
                  <a:lnTo>
                    <a:pt x="3761" y="1927"/>
                  </a:lnTo>
                  <a:lnTo>
                    <a:pt x="3767" y="1919"/>
                  </a:lnTo>
                  <a:lnTo>
                    <a:pt x="3767" y="1910"/>
                  </a:lnTo>
                  <a:lnTo>
                    <a:pt x="3758" y="1910"/>
                  </a:lnTo>
                  <a:lnTo>
                    <a:pt x="3758" y="1899"/>
                  </a:lnTo>
                  <a:lnTo>
                    <a:pt x="3758" y="1890"/>
                  </a:lnTo>
                  <a:lnTo>
                    <a:pt x="3767" y="1881"/>
                  </a:lnTo>
                  <a:lnTo>
                    <a:pt x="3775" y="1881"/>
                  </a:lnTo>
                  <a:lnTo>
                    <a:pt x="3781" y="1873"/>
                  </a:lnTo>
                  <a:lnTo>
                    <a:pt x="3784" y="1864"/>
                  </a:lnTo>
                  <a:lnTo>
                    <a:pt x="3787" y="1855"/>
                  </a:lnTo>
                  <a:lnTo>
                    <a:pt x="3796" y="1850"/>
                  </a:lnTo>
                  <a:lnTo>
                    <a:pt x="3804" y="1847"/>
                  </a:lnTo>
                  <a:lnTo>
                    <a:pt x="3813" y="1844"/>
                  </a:lnTo>
                  <a:lnTo>
                    <a:pt x="3822" y="1838"/>
                  </a:lnTo>
                  <a:lnTo>
                    <a:pt x="3831" y="1835"/>
                  </a:lnTo>
                  <a:lnTo>
                    <a:pt x="3839" y="1824"/>
                  </a:lnTo>
                  <a:lnTo>
                    <a:pt x="3845" y="1815"/>
                  </a:lnTo>
                  <a:lnTo>
                    <a:pt x="3851" y="1806"/>
                  </a:lnTo>
                  <a:lnTo>
                    <a:pt x="3857" y="1798"/>
                  </a:lnTo>
                  <a:lnTo>
                    <a:pt x="3860" y="1789"/>
                  </a:lnTo>
                  <a:lnTo>
                    <a:pt x="3863" y="1780"/>
                  </a:lnTo>
                  <a:lnTo>
                    <a:pt x="3857" y="1772"/>
                  </a:lnTo>
                  <a:lnTo>
                    <a:pt x="3851" y="1763"/>
                  </a:lnTo>
                  <a:lnTo>
                    <a:pt x="3842" y="1760"/>
                  </a:lnTo>
                  <a:lnTo>
                    <a:pt x="3834" y="1752"/>
                  </a:lnTo>
                  <a:lnTo>
                    <a:pt x="3831" y="1743"/>
                  </a:lnTo>
                  <a:lnTo>
                    <a:pt x="3828" y="1734"/>
                  </a:lnTo>
                  <a:lnTo>
                    <a:pt x="3825" y="1726"/>
                  </a:lnTo>
                  <a:lnTo>
                    <a:pt x="3822" y="1714"/>
                  </a:lnTo>
                  <a:lnTo>
                    <a:pt x="3819" y="1706"/>
                  </a:lnTo>
                  <a:lnTo>
                    <a:pt x="3816" y="1697"/>
                  </a:lnTo>
                  <a:lnTo>
                    <a:pt x="3813" y="1685"/>
                  </a:lnTo>
                  <a:lnTo>
                    <a:pt x="3810" y="1677"/>
                  </a:lnTo>
                  <a:lnTo>
                    <a:pt x="3807" y="1668"/>
                  </a:lnTo>
                  <a:lnTo>
                    <a:pt x="3804" y="1659"/>
                  </a:lnTo>
                  <a:lnTo>
                    <a:pt x="3796" y="1657"/>
                  </a:lnTo>
                  <a:lnTo>
                    <a:pt x="3787" y="1657"/>
                  </a:lnTo>
                  <a:lnTo>
                    <a:pt x="3775" y="1657"/>
                  </a:lnTo>
                  <a:lnTo>
                    <a:pt x="3767" y="1648"/>
                  </a:lnTo>
                  <a:lnTo>
                    <a:pt x="3767" y="1639"/>
                  </a:lnTo>
                  <a:lnTo>
                    <a:pt x="3767" y="1631"/>
                  </a:lnTo>
                  <a:lnTo>
                    <a:pt x="3767" y="1622"/>
                  </a:lnTo>
                  <a:lnTo>
                    <a:pt x="3767" y="1613"/>
                  </a:lnTo>
                  <a:lnTo>
                    <a:pt x="3770" y="1605"/>
                  </a:lnTo>
                  <a:lnTo>
                    <a:pt x="3770" y="1596"/>
                  </a:lnTo>
                  <a:lnTo>
                    <a:pt x="3772" y="1587"/>
                  </a:lnTo>
                  <a:lnTo>
                    <a:pt x="3810" y="1541"/>
                  </a:lnTo>
                  <a:lnTo>
                    <a:pt x="3793" y="1541"/>
                  </a:lnTo>
                  <a:lnTo>
                    <a:pt x="3799" y="1533"/>
                  </a:lnTo>
                  <a:lnTo>
                    <a:pt x="3807" y="1530"/>
                  </a:lnTo>
                  <a:lnTo>
                    <a:pt x="3816" y="1527"/>
                  </a:lnTo>
                  <a:lnTo>
                    <a:pt x="3828" y="1527"/>
                  </a:lnTo>
                  <a:lnTo>
                    <a:pt x="3839" y="1527"/>
                  </a:lnTo>
                  <a:lnTo>
                    <a:pt x="3851" y="1524"/>
                  </a:lnTo>
                  <a:lnTo>
                    <a:pt x="3863" y="1524"/>
                  </a:lnTo>
                  <a:lnTo>
                    <a:pt x="3874" y="1524"/>
                  </a:lnTo>
                  <a:lnTo>
                    <a:pt x="3883" y="1527"/>
                  </a:lnTo>
                  <a:lnTo>
                    <a:pt x="3892" y="1530"/>
                  </a:lnTo>
                  <a:lnTo>
                    <a:pt x="3901" y="1533"/>
                  </a:lnTo>
                  <a:lnTo>
                    <a:pt x="3909" y="1535"/>
                  </a:lnTo>
                  <a:lnTo>
                    <a:pt x="3918" y="1535"/>
                  </a:lnTo>
                  <a:lnTo>
                    <a:pt x="3930" y="1535"/>
                  </a:lnTo>
                  <a:lnTo>
                    <a:pt x="3941" y="1535"/>
                  </a:lnTo>
                  <a:lnTo>
                    <a:pt x="3950" y="1535"/>
                  </a:lnTo>
                  <a:lnTo>
                    <a:pt x="3959" y="1535"/>
                  </a:lnTo>
                  <a:lnTo>
                    <a:pt x="3970" y="1541"/>
                  </a:lnTo>
                  <a:lnTo>
                    <a:pt x="3979" y="1541"/>
                  </a:lnTo>
                  <a:lnTo>
                    <a:pt x="3985" y="1550"/>
                  </a:lnTo>
                  <a:lnTo>
                    <a:pt x="3997" y="1559"/>
                  </a:lnTo>
                  <a:lnTo>
                    <a:pt x="4005" y="1561"/>
                  </a:lnTo>
                  <a:lnTo>
                    <a:pt x="4017" y="1561"/>
                  </a:lnTo>
                  <a:lnTo>
                    <a:pt x="4026" y="1559"/>
                  </a:lnTo>
                  <a:lnTo>
                    <a:pt x="4029" y="1550"/>
                  </a:lnTo>
                  <a:lnTo>
                    <a:pt x="4037" y="1541"/>
                  </a:lnTo>
                  <a:lnTo>
                    <a:pt x="4040" y="1533"/>
                  </a:lnTo>
                  <a:lnTo>
                    <a:pt x="4043" y="1524"/>
                  </a:lnTo>
                  <a:lnTo>
                    <a:pt x="4055" y="1512"/>
                  </a:lnTo>
                  <a:lnTo>
                    <a:pt x="4066" y="1507"/>
                  </a:lnTo>
                  <a:lnTo>
                    <a:pt x="4075" y="1498"/>
                  </a:lnTo>
                  <a:lnTo>
                    <a:pt x="4084" y="1495"/>
                  </a:lnTo>
                  <a:lnTo>
                    <a:pt x="4093" y="1495"/>
                  </a:lnTo>
                  <a:lnTo>
                    <a:pt x="4101" y="1495"/>
                  </a:lnTo>
                  <a:lnTo>
                    <a:pt x="4110" y="1495"/>
                  </a:lnTo>
                  <a:lnTo>
                    <a:pt x="4119" y="1501"/>
                  </a:lnTo>
                  <a:lnTo>
                    <a:pt x="4130" y="1510"/>
                  </a:lnTo>
                  <a:lnTo>
                    <a:pt x="4139" y="1512"/>
                  </a:lnTo>
                  <a:lnTo>
                    <a:pt x="4148" y="1507"/>
                  </a:lnTo>
                  <a:lnTo>
                    <a:pt x="4154" y="1498"/>
                  </a:lnTo>
                  <a:lnTo>
                    <a:pt x="4157" y="1489"/>
                  </a:lnTo>
                  <a:lnTo>
                    <a:pt x="4165" y="1478"/>
                  </a:lnTo>
                  <a:lnTo>
                    <a:pt x="4168" y="1466"/>
                  </a:lnTo>
                  <a:lnTo>
                    <a:pt x="4163" y="1458"/>
                  </a:lnTo>
                  <a:lnTo>
                    <a:pt x="4157" y="1449"/>
                  </a:lnTo>
                  <a:lnTo>
                    <a:pt x="4154" y="1438"/>
                  </a:lnTo>
                  <a:lnTo>
                    <a:pt x="4151" y="1429"/>
                  </a:lnTo>
                  <a:lnTo>
                    <a:pt x="4151" y="1420"/>
                  </a:lnTo>
                  <a:lnTo>
                    <a:pt x="4151" y="1409"/>
                  </a:lnTo>
                  <a:lnTo>
                    <a:pt x="4151" y="1400"/>
                  </a:lnTo>
                  <a:lnTo>
                    <a:pt x="4160" y="1394"/>
                  </a:lnTo>
                  <a:lnTo>
                    <a:pt x="4174" y="1400"/>
                  </a:lnTo>
                  <a:lnTo>
                    <a:pt x="4183" y="1403"/>
                  </a:lnTo>
                  <a:lnTo>
                    <a:pt x="4183" y="1412"/>
                  </a:lnTo>
                  <a:lnTo>
                    <a:pt x="4192" y="1420"/>
                  </a:lnTo>
                  <a:lnTo>
                    <a:pt x="4203" y="1432"/>
                  </a:lnTo>
                  <a:lnTo>
                    <a:pt x="4212" y="1440"/>
                  </a:lnTo>
                  <a:lnTo>
                    <a:pt x="4215" y="1449"/>
                  </a:lnTo>
                  <a:lnTo>
                    <a:pt x="4218" y="1458"/>
                  </a:lnTo>
                  <a:lnTo>
                    <a:pt x="4227" y="1472"/>
                  </a:lnTo>
                  <a:lnTo>
                    <a:pt x="4235" y="1478"/>
                  </a:lnTo>
                  <a:lnTo>
                    <a:pt x="4241" y="1487"/>
                  </a:lnTo>
                  <a:lnTo>
                    <a:pt x="4253" y="1495"/>
                  </a:lnTo>
                  <a:lnTo>
                    <a:pt x="4264" y="1501"/>
                  </a:lnTo>
                  <a:lnTo>
                    <a:pt x="4270" y="1510"/>
                  </a:lnTo>
                  <a:lnTo>
                    <a:pt x="4273" y="1518"/>
                  </a:lnTo>
                  <a:lnTo>
                    <a:pt x="4273" y="1527"/>
                  </a:lnTo>
                  <a:lnTo>
                    <a:pt x="4273" y="1535"/>
                  </a:lnTo>
                  <a:lnTo>
                    <a:pt x="4273" y="1544"/>
                  </a:lnTo>
                  <a:lnTo>
                    <a:pt x="4264" y="1550"/>
                  </a:lnTo>
                  <a:lnTo>
                    <a:pt x="4256" y="1553"/>
                  </a:lnTo>
                  <a:lnTo>
                    <a:pt x="4256" y="1564"/>
                  </a:lnTo>
                  <a:lnTo>
                    <a:pt x="4256" y="1573"/>
                  </a:lnTo>
                  <a:lnTo>
                    <a:pt x="4256" y="1582"/>
                  </a:lnTo>
                  <a:lnTo>
                    <a:pt x="4264" y="1587"/>
                  </a:lnTo>
                  <a:lnTo>
                    <a:pt x="4276" y="1590"/>
                  </a:lnTo>
                  <a:lnTo>
                    <a:pt x="4285" y="1590"/>
                  </a:lnTo>
                  <a:lnTo>
                    <a:pt x="4294" y="1599"/>
                  </a:lnTo>
                  <a:lnTo>
                    <a:pt x="4302" y="1608"/>
                  </a:lnTo>
                  <a:lnTo>
                    <a:pt x="4314" y="1610"/>
                  </a:lnTo>
                  <a:lnTo>
                    <a:pt x="4326" y="1616"/>
                  </a:lnTo>
                  <a:lnTo>
                    <a:pt x="4334" y="1619"/>
                  </a:lnTo>
                  <a:lnTo>
                    <a:pt x="4340" y="1628"/>
                  </a:lnTo>
                  <a:lnTo>
                    <a:pt x="4343" y="1636"/>
                  </a:lnTo>
                  <a:lnTo>
                    <a:pt x="4343" y="1645"/>
                  </a:lnTo>
                  <a:lnTo>
                    <a:pt x="4343" y="1654"/>
                  </a:lnTo>
                  <a:lnTo>
                    <a:pt x="4343" y="1662"/>
                  </a:lnTo>
                  <a:lnTo>
                    <a:pt x="4346" y="1671"/>
                  </a:lnTo>
                  <a:lnTo>
                    <a:pt x="4355" y="1671"/>
                  </a:lnTo>
                  <a:lnTo>
                    <a:pt x="4366" y="1671"/>
                  </a:lnTo>
                  <a:lnTo>
                    <a:pt x="4369" y="1662"/>
                  </a:lnTo>
                  <a:lnTo>
                    <a:pt x="4363" y="1654"/>
                  </a:lnTo>
                  <a:lnTo>
                    <a:pt x="4360" y="1645"/>
                  </a:lnTo>
                  <a:lnTo>
                    <a:pt x="4355" y="1636"/>
                  </a:lnTo>
                  <a:lnTo>
                    <a:pt x="4352" y="1628"/>
                  </a:lnTo>
                  <a:lnTo>
                    <a:pt x="4349" y="1619"/>
                  </a:lnTo>
                  <a:lnTo>
                    <a:pt x="4346" y="1610"/>
                  </a:lnTo>
                  <a:lnTo>
                    <a:pt x="4346" y="1602"/>
                  </a:lnTo>
                  <a:lnTo>
                    <a:pt x="4346" y="1590"/>
                  </a:lnTo>
                  <a:lnTo>
                    <a:pt x="4346" y="1582"/>
                  </a:lnTo>
                  <a:lnTo>
                    <a:pt x="4355" y="1579"/>
                  </a:lnTo>
                  <a:lnTo>
                    <a:pt x="4363" y="1582"/>
                  </a:lnTo>
                  <a:lnTo>
                    <a:pt x="4372" y="1582"/>
                  </a:lnTo>
                  <a:lnTo>
                    <a:pt x="4381" y="1573"/>
                  </a:lnTo>
                  <a:lnTo>
                    <a:pt x="4390" y="1567"/>
                  </a:lnTo>
                  <a:lnTo>
                    <a:pt x="4393" y="1559"/>
                  </a:lnTo>
                  <a:lnTo>
                    <a:pt x="4393" y="1550"/>
                  </a:lnTo>
                  <a:lnTo>
                    <a:pt x="4393" y="1541"/>
                  </a:lnTo>
                  <a:lnTo>
                    <a:pt x="4393" y="1533"/>
                  </a:lnTo>
                  <a:lnTo>
                    <a:pt x="4393" y="1524"/>
                  </a:lnTo>
                  <a:lnTo>
                    <a:pt x="4393" y="1515"/>
                  </a:lnTo>
                  <a:lnTo>
                    <a:pt x="4390" y="1504"/>
                  </a:lnTo>
                  <a:lnTo>
                    <a:pt x="4384" y="1495"/>
                  </a:lnTo>
                  <a:lnTo>
                    <a:pt x="4381" y="1484"/>
                  </a:lnTo>
                  <a:lnTo>
                    <a:pt x="4378" y="1475"/>
                  </a:lnTo>
                  <a:lnTo>
                    <a:pt x="4369" y="1463"/>
                  </a:lnTo>
                  <a:lnTo>
                    <a:pt x="4363" y="1455"/>
                  </a:lnTo>
                  <a:lnTo>
                    <a:pt x="4360" y="1446"/>
                  </a:lnTo>
                  <a:lnTo>
                    <a:pt x="4358" y="1438"/>
                  </a:lnTo>
                  <a:lnTo>
                    <a:pt x="4352" y="1429"/>
                  </a:lnTo>
                  <a:lnTo>
                    <a:pt x="4346" y="1417"/>
                  </a:lnTo>
                  <a:lnTo>
                    <a:pt x="4340" y="1409"/>
                  </a:lnTo>
                  <a:lnTo>
                    <a:pt x="4337" y="1397"/>
                  </a:lnTo>
                  <a:lnTo>
                    <a:pt x="4334" y="1389"/>
                  </a:lnTo>
                  <a:lnTo>
                    <a:pt x="4334" y="1380"/>
                  </a:lnTo>
                  <a:lnTo>
                    <a:pt x="4331" y="1371"/>
                  </a:lnTo>
                  <a:lnTo>
                    <a:pt x="4328" y="1360"/>
                  </a:lnTo>
                  <a:lnTo>
                    <a:pt x="4323" y="1351"/>
                  </a:lnTo>
                  <a:lnTo>
                    <a:pt x="4320" y="1342"/>
                  </a:lnTo>
                  <a:lnTo>
                    <a:pt x="4314" y="1334"/>
                  </a:lnTo>
                  <a:lnTo>
                    <a:pt x="4305" y="1325"/>
                  </a:lnTo>
                  <a:lnTo>
                    <a:pt x="4296" y="1316"/>
                  </a:lnTo>
                  <a:lnTo>
                    <a:pt x="4288" y="1308"/>
                  </a:lnTo>
                  <a:lnTo>
                    <a:pt x="4276" y="1311"/>
                  </a:lnTo>
                  <a:lnTo>
                    <a:pt x="4279" y="1291"/>
                  </a:lnTo>
                  <a:lnTo>
                    <a:pt x="4276" y="1282"/>
                  </a:lnTo>
                  <a:lnTo>
                    <a:pt x="4270" y="1273"/>
                  </a:lnTo>
                  <a:lnTo>
                    <a:pt x="4261" y="1267"/>
                  </a:lnTo>
                  <a:lnTo>
                    <a:pt x="4253" y="1259"/>
                  </a:lnTo>
                  <a:lnTo>
                    <a:pt x="4244" y="1250"/>
                  </a:lnTo>
                  <a:lnTo>
                    <a:pt x="4238" y="1242"/>
                  </a:lnTo>
                  <a:lnTo>
                    <a:pt x="4232" y="1233"/>
                  </a:lnTo>
                  <a:lnTo>
                    <a:pt x="4229" y="1224"/>
                  </a:lnTo>
                  <a:lnTo>
                    <a:pt x="4221" y="1218"/>
                  </a:lnTo>
                  <a:lnTo>
                    <a:pt x="4212" y="1210"/>
                  </a:lnTo>
                  <a:lnTo>
                    <a:pt x="4200" y="1201"/>
                  </a:lnTo>
                  <a:lnTo>
                    <a:pt x="4192" y="1195"/>
                  </a:lnTo>
                  <a:lnTo>
                    <a:pt x="4183" y="1193"/>
                  </a:lnTo>
                  <a:lnTo>
                    <a:pt x="4171" y="1187"/>
                  </a:lnTo>
                  <a:lnTo>
                    <a:pt x="4163" y="1184"/>
                  </a:lnTo>
                  <a:lnTo>
                    <a:pt x="4154" y="1181"/>
                  </a:lnTo>
                  <a:lnTo>
                    <a:pt x="4145" y="1175"/>
                  </a:lnTo>
                  <a:lnTo>
                    <a:pt x="4136" y="1170"/>
                  </a:lnTo>
                  <a:lnTo>
                    <a:pt x="4130" y="1161"/>
                  </a:lnTo>
                  <a:lnTo>
                    <a:pt x="4119" y="1152"/>
                  </a:lnTo>
                  <a:lnTo>
                    <a:pt x="4110" y="1149"/>
                  </a:lnTo>
                  <a:lnTo>
                    <a:pt x="4098" y="1144"/>
                  </a:lnTo>
                  <a:lnTo>
                    <a:pt x="4090" y="1144"/>
                  </a:lnTo>
                  <a:lnTo>
                    <a:pt x="4078" y="1135"/>
                  </a:lnTo>
                  <a:lnTo>
                    <a:pt x="4069" y="1126"/>
                  </a:lnTo>
                  <a:lnTo>
                    <a:pt x="4064" y="1118"/>
                  </a:lnTo>
                  <a:lnTo>
                    <a:pt x="4058" y="1109"/>
                  </a:lnTo>
                  <a:lnTo>
                    <a:pt x="4049" y="1103"/>
                  </a:lnTo>
                  <a:lnTo>
                    <a:pt x="4058" y="1100"/>
                  </a:lnTo>
                  <a:lnTo>
                    <a:pt x="4066" y="1100"/>
                  </a:lnTo>
                  <a:lnTo>
                    <a:pt x="4078" y="1100"/>
                  </a:lnTo>
                  <a:lnTo>
                    <a:pt x="4090" y="1103"/>
                  </a:lnTo>
                  <a:lnTo>
                    <a:pt x="4098" y="1109"/>
                  </a:lnTo>
                  <a:lnTo>
                    <a:pt x="4107" y="1112"/>
                  </a:lnTo>
                  <a:lnTo>
                    <a:pt x="4116" y="1115"/>
                  </a:lnTo>
                  <a:lnTo>
                    <a:pt x="4125" y="1121"/>
                  </a:lnTo>
                  <a:lnTo>
                    <a:pt x="4133" y="1126"/>
                  </a:lnTo>
                  <a:lnTo>
                    <a:pt x="4142" y="1129"/>
                  </a:lnTo>
                  <a:lnTo>
                    <a:pt x="4154" y="1138"/>
                  </a:lnTo>
                  <a:lnTo>
                    <a:pt x="4163" y="1141"/>
                  </a:lnTo>
                  <a:lnTo>
                    <a:pt x="4171" y="1144"/>
                  </a:lnTo>
                  <a:lnTo>
                    <a:pt x="4180" y="1146"/>
                  </a:lnTo>
                  <a:lnTo>
                    <a:pt x="4192" y="1146"/>
                  </a:lnTo>
                  <a:lnTo>
                    <a:pt x="4200" y="1146"/>
                  </a:lnTo>
                  <a:lnTo>
                    <a:pt x="4212" y="1149"/>
                  </a:lnTo>
                  <a:lnTo>
                    <a:pt x="4221" y="1149"/>
                  </a:lnTo>
                  <a:lnTo>
                    <a:pt x="4229" y="1152"/>
                  </a:lnTo>
                  <a:lnTo>
                    <a:pt x="4238" y="1155"/>
                  </a:lnTo>
                  <a:lnTo>
                    <a:pt x="4247" y="1161"/>
                  </a:lnTo>
                  <a:lnTo>
                    <a:pt x="4256" y="1164"/>
                  </a:lnTo>
                  <a:lnTo>
                    <a:pt x="4264" y="1170"/>
                  </a:lnTo>
                  <a:lnTo>
                    <a:pt x="4273" y="1172"/>
                  </a:lnTo>
                  <a:lnTo>
                    <a:pt x="4282" y="1178"/>
                  </a:lnTo>
                  <a:lnTo>
                    <a:pt x="4291" y="1181"/>
                  </a:lnTo>
                  <a:lnTo>
                    <a:pt x="4299" y="1187"/>
                  </a:lnTo>
                  <a:lnTo>
                    <a:pt x="4308" y="1190"/>
                  </a:lnTo>
                  <a:lnTo>
                    <a:pt x="4317" y="1193"/>
                  </a:lnTo>
                  <a:lnTo>
                    <a:pt x="4326" y="1195"/>
                  </a:lnTo>
                  <a:lnTo>
                    <a:pt x="4334" y="1195"/>
                  </a:lnTo>
                  <a:lnTo>
                    <a:pt x="4326" y="1190"/>
                  </a:lnTo>
                  <a:lnTo>
                    <a:pt x="4314" y="1178"/>
                  </a:lnTo>
                  <a:lnTo>
                    <a:pt x="4305" y="1170"/>
                  </a:lnTo>
                  <a:lnTo>
                    <a:pt x="4305" y="1161"/>
                  </a:lnTo>
                  <a:lnTo>
                    <a:pt x="4317" y="1158"/>
                  </a:lnTo>
                  <a:lnTo>
                    <a:pt x="4328" y="1158"/>
                  </a:lnTo>
                  <a:lnTo>
                    <a:pt x="4337" y="1158"/>
                  </a:lnTo>
                  <a:lnTo>
                    <a:pt x="4346" y="1158"/>
                  </a:lnTo>
                  <a:lnTo>
                    <a:pt x="4346" y="1149"/>
                  </a:lnTo>
                  <a:lnTo>
                    <a:pt x="4349" y="1138"/>
                  </a:lnTo>
                  <a:lnTo>
                    <a:pt x="4349" y="1129"/>
                  </a:lnTo>
                  <a:lnTo>
                    <a:pt x="4340" y="1123"/>
                  </a:lnTo>
                  <a:lnTo>
                    <a:pt x="4331" y="1121"/>
                  </a:lnTo>
                  <a:lnTo>
                    <a:pt x="4323" y="1121"/>
                  </a:lnTo>
                  <a:lnTo>
                    <a:pt x="4314" y="1121"/>
                  </a:lnTo>
                  <a:lnTo>
                    <a:pt x="4302" y="1121"/>
                  </a:lnTo>
                  <a:lnTo>
                    <a:pt x="4296" y="1132"/>
                  </a:lnTo>
                  <a:lnTo>
                    <a:pt x="4288" y="1138"/>
                  </a:lnTo>
                  <a:lnTo>
                    <a:pt x="4279" y="1144"/>
                  </a:lnTo>
                  <a:lnTo>
                    <a:pt x="4270" y="1144"/>
                  </a:lnTo>
                  <a:lnTo>
                    <a:pt x="4261" y="1144"/>
                  </a:lnTo>
                  <a:lnTo>
                    <a:pt x="4253" y="1144"/>
                  </a:lnTo>
                  <a:lnTo>
                    <a:pt x="4244" y="1144"/>
                  </a:lnTo>
                  <a:lnTo>
                    <a:pt x="4238" y="1135"/>
                  </a:lnTo>
                  <a:lnTo>
                    <a:pt x="4227" y="1126"/>
                  </a:lnTo>
                  <a:lnTo>
                    <a:pt x="4218" y="1115"/>
                  </a:lnTo>
                  <a:lnTo>
                    <a:pt x="4209" y="1109"/>
                  </a:lnTo>
                  <a:lnTo>
                    <a:pt x="4197" y="1100"/>
                  </a:lnTo>
                  <a:lnTo>
                    <a:pt x="4192" y="1092"/>
                  </a:lnTo>
                  <a:lnTo>
                    <a:pt x="4200" y="1086"/>
                  </a:lnTo>
                  <a:lnTo>
                    <a:pt x="4209" y="1077"/>
                  </a:lnTo>
                  <a:lnTo>
                    <a:pt x="4218" y="1072"/>
                  </a:lnTo>
                  <a:lnTo>
                    <a:pt x="4227" y="1063"/>
                  </a:lnTo>
                  <a:lnTo>
                    <a:pt x="4229" y="1054"/>
                  </a:lnTo>
                  <a:lnTo>
                    <a:pt x="4221" y="1048"/>
                  </a:lnTo>
                  <a:lnTo>
                    <a:pt x="4209" y="1048"/>
                  </a:lnTo>
                  <a:lnTo>
                    <a:pt x="4200" y="1048"/>
                  </a:lnTo>
                  <a:lnTo>
                    <a:pt x="4189" y="1048"/>
                  </a:lnTo>
                  <a:lnTo>
                    <a:pt x="4180" y="1051"/>
                  </a:lnTo>
                  <a:lnTo>
                    <a:pt x="4171" y="1057"/>
                  </a:lnTo>
                  <a:lnTo>
                    <a:pt x="4160" y="1057"/>
                  </a:lnTo>
                  <a:lnTo>
                    <a:pt x="4151" y="1057"/>
                  </a:lnTo>
                  <a:lnTo>
                    <a:pt x="4142" y="1057"/>
                  </a:lnTo>
                  <a:lnTo>
                    <a:pt x="4133" y="1057"/>
                  </a:lnTo>
                  <a:lnTo>
                    <a:pt x="4125" y="1057"/>
                  </a:lnTo>
                  <a:lnTo>
                    <a:pt x="4116" y="1057"/>
                  </a:lnTo>
                  <a:lnTo>
                    <a:pt x="4107" y="1057"/>
                  </a:lnTo>
                  <a:lnTo>
                    <a:pt x="4098" y="1057"/>
                  </a:lnTo>
                  <a:lnTo>
                    <a:pt x="4090" y="1057"/>
                  </a:lnTo>
                  <a:lnTo>
                    <a:pt x="4081" y="1057"/>
                  </a:lnTo>
                  <a:lnTo>
                    <a:pt x="4072" y="1057"/>
                  </a:lnTo>
                  <a:lnTo>
                    <a:pt x="4064" y="1054"/>
                  </a:lnTo>
                  <a:lnTo>
                    <a:pt x="4055" y="1051"/>
                  </a:lnTo>
                  <a:lnTo>
                    <a:pt x="4043" y="1048"/>
                  </a:lnTo>
                  <a:lnTo>
                    <a:pt x="4032" y="1043"/>
                  </a:lnTo>
                  <a:lnTo>
                    <a:pt x="4023" y="1040"/>
                  </a:lnTo>
                  <a:lnTo>
                    <a:pt x="4008" y="1031"/>
                  </a:lnTo>
                  <a:lnTo>
                    <a:pt x="3994" y="1028"/>
                  </a:lnTo>
                  <a:lnTo>
                    <a:pt x="3982" y="1028"/>
                  </a:lnTo>
                  <a:lnTo>
                    <a:pt x="3973" y="1028"/>
                  </a:lnTo>
                  <a:lnTo>
                    <a:pt x="3965" y="1028"/>
                  </a:lnTo>
                  <a:lnTo>
                    <a:pt x="3953" y="1028"/>
                  </a:lnTo>
                  <a:lnTo>
                    <a:pt x="3941" y="1028"/>
                  </a:lnTo>
                  <a:lnTo>
                    <a:pt x="3933" y="1028"/>
                  </a:lnTo>
                  <a:lnTo>
                    <a:pt x="3927" y="1037"/>
                  </a:lnTo>
                  <a:lnTo>
                    <a:pt x="3941" y="1048"/>
                  </a:lnTo>
                  <a:lnTo>
                    <a:pt x="3950" y="1051"/>
                  </a:lnTo>
                  <a:lnTo>
                    <a:pt x="3962" y="1054"/>
                  </a:lnTo>
                  <a:lnTo>
                    <a:pt x="3970" y="1057"/>
                  </a:lnTo>
                  <a:lnTo>
                    <a:pt x="3979" y="1060"/>
                  </a:lnTo>
                  <a:lnTo>
                    <a:pt x="3982" y="1072"/>
                  </a:lnTo>
                  <a:lnTo>
                    <a:pt x="3982" y="1080"/>
                  </a:lnTo>
                  <a:lnTo>
                    <a:pt x="3982" y="1089"/>
                  </a:lnTo>
                  <a:lnTo>
                    <a:pt x="3994" y="1100"/>
                  </a:lnTo>
                  <a:lnTo>
                    <a:pt x="4002" y="1103"/>
                  </a:lnTo>
                  <a:lnTo>
                    <a:pt x="4014" y="1106"/>
                  </a:lnTo>
                  <a:lnTo>
                    <a:pt x="4026" y="1106"/>
                  </a:lnTo>
                  <a:lnTo>
                    <a:pt x="4034" y="1109"/>
                  </a:lnTo>
                  <a:lnTo>
                    <a:pt x="4046" y="1112"/>
                  </a:lnTo>
                  <a:lnTo>
                    <a:pt x="4037" y="1115"/>
                  </a:lnTo>
                  <a:lnTo>
                    <a:pt x="4029" y="1112"/>
                  </a:lnTo>
                  <a:lnTo>
                    <a:pt x="4020" y="1109"/>
                  </a:lnTo>
                  <a:lnTo>
                    <a:pt x="4011" y="1109"/>
                  </a:lnTo>
                  <a:lnTo>
                    <a:pt x="4002" y="1106"/>
                  </a:lnTo>
                  <a:lnTo>
                    <a:pt x="3994" y="1103"/>
                  </a:lnTo>
                  <a:lnTo>
                    <a:pt x="3979" y="1097"/>
                  </a:lnTo>
                  <a:lnTo>
                    <a:pt x="3970" y="1097"/>
                  </a:lnTo>
                  <a:lnTo>
                    <a:pt x="3962" y="1100"/>
                  </a:lnTo>
                  <a:lnTo>
                    <a:pt x="3959" y="1109"/>
                  </a:lnTo>
                  <a:lnTo>
                    <a:pt x="3950" y="1118"/>
                  </a:lnTo>
                  <a:lnTo>
                    <a:pt x="3941" y="1123"/>
                  </a:lnTo>
                  <a:lnTo>
                    <a:pt x="3935" y="1132"/>
                  </a:lnTo>
                  <a:lnTo>
                    <a:pt x="3927" y="1138"/>
                  </a:lnTo>
                  <a:lnTo>
                    <a:pt x="3927" y="1146"/>
                  </a:lnTo>
                  <a:lnTo>
                    <a:pt x="3930" y="1155"/>
                  </a:lnTo>
                  <a:lnTo>
                    <a:pt x="3938" y="1161"/>
                  </a:lnTo>
                  <a:lnTo>
                    <a:pt x="3941" y="1170"/>
                  </a:lnTo>
                  <a:lnTo>
                    <a:pt x="3941" y="1178"/>
                  </a:lnTo>
                  <a:lnTo>
                    <a:pt x="3941" y="1187"/>
                  </a:lnTo>
                  <a:lnTo>
                    <a:pt x="3938" y="1195"/>
                  </a:lnTo>
                  <a:lnTo>
                    <a:pt x="3933" y="1204"/>
                  </a:lnTo>
                  <a:lnTo>
                    <a:pt x="3924" y="1204"/>
                  </a:lnTo>
                  <a:lnTo>
                    <a:pt x="3915" y="1193"/>
                  </a:lnTo>
                  <a:lnTo>
                    <a:pt x="3912" y="1184"/>
                  </a:lnTo>
                  <a:lnTo>
                    <a:pt x="3903" y="1178"/>
                  </a:lnTo>
                  <a:lnTo>
                    <a:pt x="3892" y="1172"/>
                  </a:lnTo>
                  <a:lnTo>
                    <a:pt x="3883" y="1167"/>
                  </a:lnTo>
                  <a:lnTo>
                    <a:pt x="3877" y="1158"/>
                  </a:lnTo>
                  <a:lnTo>
                    <a:pt x="3874" y="1167"/>
                  </a:lnTo>
                  <a:lnTo>
                    <a:pt x="3874" y="1175"/>
                  </a:lnTo>
                  <a:lnTo>
                    <a:pt x="3874" y="1184"/>
                  </a:lnTo>
                  <a:lnTo>
                    <a:pt x="3886" y="1193"/>
                  </a:lnTo>
                  <a:lnTo>
                    <a:pt x="3898" y="1195"/>
                  </a:lnTo>
                  <a:lnTo>
                    <a:pt x="3906" y="1198"/>
                  </a:lnTo>
                  <a:lnTo>
                    <a:pt x="3915" y="1201"/>
                  </a:lnTo>
                  <a:lnTo>
                    <a:pt x="3924" y="1207"/>
                  </a:lnTo>
                  <a:lnTo>
                    <a:pt x="3912" y="1213"/>
                  </a:lnTo>
                  <a:lnTo>
                    <a:pt x="3903" y="1213"/>
                  </a:lnTo>
                  <a:lnTo>
                    <a:pt x="3895" y="1213"/>
                  </a:lnTo>
                  <a:lnTo>
                    <a:pt x="3886" y="1216"/>
                  </a:lnTo>
                  <a:lnTo>
                    <a:pt x="3886" y="1224"/>
                  </a:lnTo>
                  <a:lnTo>
                    <a:pt x="3880" y="1233"/>
                  </a:lnTo>
                  <a:lnTo>
                    <a:pt x="3868" y="1236"/>
                  </a:lnTo>
                  <a:lnTo>
                    <a:pt x="3860" y="1236"/>
                  </a:lnTo>
                  <a:lnTo>
                    <a:pt x="3854" y="1224"/>
                  </a:lnTo>
                  <a:lnTo>
                    <a:pt x="3854" y="1216"/>
                  </a:lnTo>
                  <a:lnTo>
                    <a:pt x="3851" y="1207"/>
                  </a:lnTo>
                  <a:lnTo>
                    <a:pt x="3845" y="1198"/>
                  </a:lnTo>
                  <a:lnTo>
                    <a:pt x="3842" y="1187"/>
                  </a:lnTo>
                  <a:lnTo>
                    <a:pt x="3836" y="1175"/>
                  </a:lnTo>
                  <a:lnTo>
                    <a:pt x="3834" y="1164"/>
                  </a:lnTo>
                  <a:lnTo>
                    <a:pt x="3828" y="1155"/>
                  </a:lnTo>
                  <a:lnTo>
                    <a:pt x="3822" y="1146"/>
                  </a:lnTo>
                  <a:lnTo>
                    <a:pt x="3816" y="1138"/>
                  </a:lnTo>
                  <a:lnTo>
                    <a:pt x="3810" y="1129"/>
                  </a:lnTo>
                  <a:lnTo>
                    <a:pt x="3799" y="1123"/>
                  </a:lnTo>
                  <a:lnTo>
                    <a:pt x="3793" y="1115"/>
                  </a:lnTo>
                  <a:lnTo>
                    <a:pt x="3790" y="1106"/>
                  </a:lnTo>
                  <a:lnTo>
                    <a:pt x="3784" y="1097"/>
                  </a:lnTo>
                  <a:lnTo>
                    <a:pt x="3778" y="1089"/>
                  </a:lnTo>
                  <a:lnTo>
                    <a:pt x="3775" y="1080"/>
                  </a:lnTo>
                  <a:lnTo>
                    <a:pt x="3772" y="1072"/>
                  </a:lnTo>
                  <a:lnTo>
                    <a:pt x="3767" y="1063"/>
                  </a:lnTo>
                  <a:lnTo>
                    <a:pt x="3761" y="1054"/>
                  </a:lnTo>
                  <a:lnTo>
                    <a:pt x="3752" y="1046"/>
                  </a:lnTo>
                  <a:lnTo>
                    <a:pt x="3746" y="1037"/>
                  </a:lnTo>
                  <a:lnTo>
                    <a:pt x="3737" y="1034"/>
                  </a:lnTo>
                  <a:lnTo>
                    <a:pt x="3717" y="988"/>
                  </a:lnTo>
                  <a:lnTo>
                    <a:pt x="3737" y="1008"/>
                  </a:lnTo>
                  <a:lnTo>
                    <a:pt x="3737" y="999"/>
                  </a:lnTo>
                  <a:lnTo>
                    <a:pt x="3732" y="991"/>
                  </a:lnTo>
                  <a:lnTo>
                    <a:pt x="3726" y="982"/>
                  </a:lnTo>
                  <a:lnTo>
                    <a:pt x="3723" y="974"/>
                  </a:lnTo>
                  <a:lnTo>
                    <a:pt x="3714" y="968"/>
                  </a:lnTo>
                  <a:lnTo>
                    <a:pt x="3703" y="965"/>
                  </a:lnTo>
                  <a:lnTo>
                    <a:pt x="3694" y="959"/>
                  </a:lnTo>
                  <a:lnTo>
                    <a:pt x="3691" y="950"/>
                  </a:lnTo>
                  <a:lnTo>
                    <a:pt x="3691" y="942"/>
                  </a:lnTo>
                  <a:lnTo>
                    <a:pt x="3691" y="930"/>
                  </a:lnTo>
                  <a:lnTo>
                    <a:pt x="3691" y="922"/>
                  </a:lnTo>
                  <a:lnTo>
                    <a:pt x="3691" y="913"/>
                  </a:lnTo>
                  <a:lnTo>
                    <a:pt x="3694" y="904"/>
                  </a:lnTo>
                  <a:lnTo>
                    <a:pt x="3700" y="896"/>
                  </a:lnTo>
                  <a:lnTo>
                    <a:pt x="3705" y="887"/>
                  </a:lnTo>
                  <a:lnTo>
                    <a:pt x="3714" y="887"/>
                  </a:lnTo>
                  <a:lnTo>
                    <a:pt x="3717" y="878"/>
                  </a:lnTo>
                  <a:lnTo>
                    <a:pt x="3705" y="867"/>
                  </a:lnTo>
                  <a:lnTo>
                    <a:pt x="3705" y="858"/>
                  </a:lnTo>
                  <a:lnTo>
                    <a:pt x="3705" y="847"/>
                  </a:lnTo>
                  <a:lnTo>
                    <a:pt x="3711" y="838"/>
                  </a:lnTo>
                  <a:lnTo>
                    <a:pt x="3717" y="827"/>
                  </a:lnTo>
                  <a:lnTo>
                    <a:pt x="3717" y="818"/>
                  </a:lnTo>
                  <a:lnTo>
                    <a:pt x="3717" y="809"/>
                  </a:lnTo>
                  <a:lnTo>
                    <a:pt x="3705" y="806"/>
                  </a:lnTo>
                  <a:lnTo>
                    <a:pt x="3694" y="801"/>
                  </a:lnTo>
                  <a:lnTo>
                    <a:pt x="3685" y="795"/>
                  </a:lnTo>
                  <a:lnTo>
                    <a:pt x="3685" y="786"/>
                  </a:lnTo>
                  <a:lnTo>
                    <a:pt x="3691" y="778"/>
                  </a:lnTo>
                  <a:lnTo>
                    <a:pt x="3697" y="769"/>
                  </a:lnTo>
                  <a:lnTo>
                    <a:pt x="3700" y="760"/>
                  </a:lnTo>
                  <a:lnTo>
                    <a:pt x="3708" y="757"/>
                  </a:lnTo>
                  <a:lnTo>
                    <a:pt x="3717" y="752"/>
                  </a:lnTo>
                  <a:lnTo>
                    <a:pt x="3726" y="757"/>
                  </a:lnTo>
                  <a:lnTo>
                    <a:pt x="3735" y="760"/>
                  </a:lnTo>
                  <a:lnTo>
                    <a:pt x="3743" y="763"/>
                  </a:lnTo>
                  <a:lnTo>
                    <a:pt x="3743" y="755"/>
                  </a:lnTo>
                  <a:lnTo>
                    <a:pt x="3737" y="746"/>
                  </a:lnTo>
                  <a:lnTo>
                    <a:pt x="3737" y="737"/>
                  </a:lnTo>
                  <a:lnTo>
                    <a:pt x="3735" y="729"/>
                  </a:lnTo>
                  <a:lnTo>
                    <a:pt x="3735" y="720"/>
                  </a:lnTo>
                  <a:lnTo>
                    <a:pt x="3732" y="711"/>
                  </a:lnTo>
                  <a:lnTo>
                    <a:pt x="3726" y="703"/>
                  </a:lnTo>
                  <a:lnTo>
                    <a:pt x="3723" y="691"/>
                  </a:lnTo>
                  <a:lnTo>
                    <a:pt x="3723" y="682"/>
                  </a:lnTo>
                  <a:lnTo>
                    <a:pt x="3723" y="674"/>
                  </a:lnTo>
                  <a:lnTo>
                    <a:pt x="3723" y="665"/>
                  </a:lnTo>
                  <a:lnTo>
                    <a:pt x="3714" y="662"/>
                  </a:lnTo>
                  <a:lnTo>
                    <a:pt x="3708" y="671"/>
                  </a:lnTo>
                  <a:lnTo>
                    <a:pt x="3700" y="671"/>
                  </a:lnTo>
                  <a:lnTo>
                    <a:pt x="3691" y="674"/>
                  </a:lnTo>
                  <a:lnTo>
                    <a:pt x="3682" y="671"/>
                  </a:lnTo>
                  <a:lnTo>
                    <a:pt x="3673" y="659"/>
                  </a:lnTo>
                  <a:lnTo>
                    <a:pt x="3668" y="651"/>
                  </a:lnTo>
                  <a:lnTo>
                    <a:pt x="3662" y="642"/>
                  </a:lnTo>
                  <a:lnTo>
                    <a:pt x="3653" y="633"/>
                  </a:lnTo>
                  <a:lnTo>
                    <a:pt x="3641" y="628"/>
                  </a:lnTo>
                  <a:lnTo>
                    <a:pt x="3633" y="622"/>
                  </a:lnTo>
                  <a:lnTo>
                    <a:pt x="3624" y="622"/>
                  </a:lnTo>
                  <a:lnTo>
                    <a:pt x="3615" y="616"/>
                  </a:lnTo>
                  <a:lnTo>
                    <a:pt x="3604" y="613"/>
                  </a:lnTo>
                  <a:lnTo>
                    <a:pt x="3595" y="608"/>
                  </a:lnTo>
                  <a:lnTo>
                    <a:pt x="3577" y="573"/>
                  </a:lnTo>
                  <a:lnTo>
                    <a:pt x="3592" y="587"/>
                  </a:lnTo>
                  <a:lnTo>
                    <a:pt x="3592" y="576"/>
                  </a:lnTo>
                  <a:lnTo>
                    <a:pt x="3589" y="567"/>
                  </a:lnTo>
                  <a:lnTo>
                    <a:pt x="3589" y="559"/>
                  </a:lnTo>
                  <a:lnTo>
                    <a:pt x="3583" y="547"/>
                  </a:lnTo>
                  <a:lnTo>
                    <a:pt x="3577" y="538"/>
                  </a:lnTo>
                  <a:lnTo>
                    <a:pt x="3569" y="530"/>
                  </a:lnTo>
                  <a:lnTo>
                    <a:pt x="3583" y="527"/>
                  </a:lnTo>
                  <a:lnTo>
                    <a:pt x="3592" y="530"/>
                  </a:lnTo>
                  <a:lnTo>
                    <a:pt x="3601" y="533"/>
                  </a:lnTo>
                  <a:lnTo>
                    <a:pt x="3609" y="538"/>
                  </a:lnTo>
                  <a:lnTo>
                    <a:pt x="3618" y="541"/>
                  </a:lnTo>
                  <a:lnTo>
                    <a:pt x="3621" y="533"/>
                  </a:lnTo>
                  <a:lnTo>
                    <a:pt x="3621" y="524"/>
                  </a:lnTo>
                  <a:lnTo>
                    <a:pt x="3612" y="518"/>
                  </a:lnTo>
                  <a:lnTo>
                    <a:pt x="3604" y="507"/>
                  </a:lnTo>
                  <a:lnTo>
                    <a:pt x="3598" y="498"/>
                  </a:lnTo>
                  <a:lnTo>
                    <a:pt x="3589" y="489"/>
                  </a:lnTo>
                  <a:lnTo>
                    <a:pt x="3586" y="481"/>
                  </a:lnTo>
                  <a:lnTo>
                    <a:pt x="3577" y="472"/>
                  </a:lnTo>
                  <a:lnTo>
                    <a:pt x="3566" y="469"/>
                  </a:lnTo>
                  <a:lnTo>
                    <a:pt x="3557" y="469"/>
                  </a:lnTo>
                  <a:lnTo>
                    <a:pt x="3548" y="469"/>
                  </a:lnTo>
                  <a:lnTo>
                    <a:pt x="3540" y="469"/>
                  </a:lnTo>
                  <a:lnTo>
                    <a:pt x="3531" y="466"/>
                  </a:lnTo>
                  <a:lnTo>
                    <a:pt x="3519" y="458"/>
                  </a:lnTo>
                  <a:lnTo>
                    <a:pt x="3516" y="449"/>
                  </a:lnTo>
                  <a:lnTo>
                    <a:pt x="3510" y="440"/>
                  </a:lnTo>
                  <a:lnTo>
                    <a:pt x="3507" y="432"/>
                  </a:lnTo>
                  <a:lnTo>
                    <a:pt x="3502" y="423"/>
                  </a:lnTo>
                  <a:lnTo>
                    <a:pt x="3502" y="412"/>
                  </a:lnTo>
                  <a:lnTo>
                    <a:pt x="3510" y="412"/>
                  </a:lnTo>
                  <a:lnTo>
                    <a:pt x="3519" y="417"/>
                  </a:lnTo>
                  <a:lnTo>
                    <a:pt x="3531" y="426"/>
                  </a:lnTo>
                  <a:lnTo>
                    <a:pt x="3540" y="432"/>
                  </a:lnTo>
                  <a:lnTo>
                    <a:pt x="3542" y="440"/>
                  </a:lnTo>
                  <a:lnTo>
                    <a:pt x="3551" y="446"/>
                  </a:lnTo>
                  <a:lnTo>
                    <a:pt x="3563" y="452"/>
                  </a:lnTo>
                  <a:lnTo>
                    <a:pt x="3572" y="458"/>
                  </a:lnTo>
                  <a:lnTo>
                    <a:pt x="3580" y="458"/>
                  </a:lnTo>
                  <a:lnTo>
                    <a:pt x="3589" y="458"/>
                  </a:lnTo>
                  <a:lnTo>
                    <a:pt x="3598" y="458"/>
                  </a:lnTo>
                  <a:lnTo>
                    <a:pt x="3606" y="461"/>
                  </a:lnTo>
                  <a:lnTo>
                    <a:pt x="3612" y="472"/>
                  </a:lnTo>
                  <a:lnTo>
                    <a:pt x="3618" y="481"/>
                  </a:lnTo>
                  <a:lnTo>
                    <a:pt x="3621" y="489"/>
                  </a:lnTo>
                  <a:lnTo>
                    <a:pt x="3627" y="498"/>
                  </a:lnTo>
                  <a:lnTo>
                    <a:pt x="3633" y="507"/>
                  </a:lnTo>
                  <a:lnTo>
                    <a:pt x="3641" y="518"/>
                  </a:lnTo>
                  <a:lnTo>
                    <a:pt x="3650" y="521"/>
                  </a:lnTo>
                  <a:lnTo>
                    <a:pt x="3662" y="524"/>
                  </a:lnTo>
                  <a:lnTo>
                    <a:pt x="3671" y="524"/>
                  </a:lnTo>
                  <a:lnTo>
                    <a:pt x="3679" y="527"/>
                  </a:lnTo>
                  <a:lnTo>
                    <a:pt x="3688" y="527"/>
                  </a:lnTo>
                  <a:lnTo>
                    <a:pt x="3700" y="530"/>
                  </a:lnTo>
                  <a:lnTo>
                    <a:pt x="3711" y="536"/>
                  </a:lnTo>
                  <a:lnTo>
                    <a:pt x="3723" y="544"/>
                  </a:lnTo>
                  <a:lnTo>
                    <a:pt x="3729" y="553"/>
                  </a:lnTo>
                  <a:lnTo>
                    <a:pt x="3735" y="561"/>
                  </a:lnTo>
                  <a:lnTo>
                    <a:pt x="3746" y="570"/>
                  </a:lnTo>
                  <a:lnTo>
                    <a:pt x="3761" y="579"/>
                  </a:lnTo>
                  <a:lnTo>
                    <a:pt x="3770" y="585"/>
                  </a:lnTo>
                  <a:lnTo>
                    <a:pt x="3772" y="593"/>
                  </a:lnTo>
                  <a:lnTo>
                    <a:pt x="3775" y="602"/>
                  </a:lnTo>
                  <a:lnTo>
                    <a:pt x="3778" y="610"/>
                  </a:lnTo>
                  <a:lnTo>
                    <a:pt x="3787" y="610"/>
                  </a:lnTo>
                  <a:lnTo>
                    <a:pt x="3790" y="619"/>
                  </a:lnTo>
                  <a:lnTo>
                    <a:pt x="3799" y="622"/>
                  </a:lnTo>
                  <a:lnTo>
                    <a:pt x="3807" y="628"/>
                  </a:lnTo>
                  <a:lnTo>
                    <a:pt x="3819" y="633"/>
                  </a:lnTo>
                  <a:lnTo>
                    <a:pt x="3828" y="636"/>
                  </a:lnTo>
                  <a:lnTo>
                    <a:pt x="3836" y="639"/>
                  </a:lnTo>
                  <a:lnTo>
                    <a:pt x="3845" y="642"/>
                  </a:lnTo>
                  <a:lnTo>
                    <a:pt x="3854" y="642"/>
                  </a:lnTo>
                  <a:lnTo>
                    <a:pt x="3866" y="645"/>
                  </a:lnTo>
                  <a:lnTo>
                    <a:pt x="3874" y="651"/>
                  </a:lnTo>
                  <a:lnTo>
                    <a:pt x="3883" y="657"/>
                  </a:lnTo>
                  <a:lnTo>
                    <a:pt x="3892" y="657"/>
                  </a:lnTo>
                  <a:lnTo>
                    <a:pt x="3901" y="657"/>
                  </a:lnTo>
                  <a:lnTo>
                    <a:pt x="3912" y="657"/>
                  </a:lnTo>
                  <a:lnTo>
                    <a:pt x="3924" y="657"/>
                  </a:lnTo>
                  <a:lnTo>
                    <a:pt x="3938" y="657"/>
                  </a:lnTo>
                  <a:lnTo>
                    <a:pt x="3947" y="657"/>
                  </a:lnTo>
                  <a:lnTo>
                    <a:pt x="3959" y="657"/>
                  </a:lnTo>
                  <a:lnTo>
                    <a:pt x="3967" y="659"/>
                  </a:lnTo>
                  <a:lnTo>
                    <a:pt x="3979" y="659"/>
                  </a:lnTo>
                  <a:lnTo>
                    <a:pt x="3991" y="659"/>
                  </a:lnTo>
                  <a:lnTo>
                    <a:pt x="4002" y="659"/>
                  </a:lnTo>
                  <a:lnTo>
                    <a:pt x="4017" y="659"/>
                  </a:lnTo>
                  <a:lnTo>
                    <a:pt x="4026" y="659"/>
                  </a:lnTo>
                  <a:lnTo>
                    <a:pt x="4037" y="659"/>
                  </a:lnTo>
                  <a:lnTo>
                    <a:pt x="4049" y="659"/>
                  </a:lnTo>
                  <a:lnTo>
                    <a:pt x="4061" y="659"/>
                  </a:lnTo>
                  <a:lnTo>
                    <a:pt x="4072" y="659"/>
                  </a:lnTo>
                  <a:lnTo>
                    <a:pt x="4084" y="659"/>
                  </a:lnTo>
                  <a:lnTo>
                    <a:pt x="4093" y="659"/>
                  </a:lnTo>
                  <a:lnTo>
                    <a:pt x="4101" y="659"/>
                  </a:lnTo>
                  <a:lnTo>
                    <a:pt x="4110" y="659"/>
                  </a:lnTo>
                  <a:lnTo>
                    <a:pt x="4119" y="659"/>
                  </a:lnTo>
                  <a:lnTo>
                    <a:pt x="4128" y="659"/>
                  </a:lnTo>
                  <a:lnTo>
                    <a:pt x="4136" y="659"/>
                  </a:lnTo>
                  <a:lnTo>
                    <a:pt x="4142" y="668"/>
                  </a:lnTo>
                  <a:lnTo>
                    <a:pt x="4145" y="677"/>
                  </a:lnTo>
                  <a:lnTo>
                    <a:pt x="4151" y="685"/>
                  </a:lnTo>
                  <a:lnTo>
                    <a:pt x="4160" y="691"/>
                  </a:lnTo>
                  <a:lnTo>
                    <a:pt x="4168" y="700"/>
                  </a:lnTo>
                  <a:lnTo>
                    <a:pt x="4177" y="700"/>
                  </a:lnTo>
                  <a:lnTo>
                    <a:pt x="4177" y="691"/>
                  </a:lnTo>
                  <a:lnTo>
                    <a:pt x="4168" y="682"/>
                  </a:lnTo>
                  <a:lnTo>
                    <a:pt x="4168" y="674"/>
                  </a:lnTo>
                  <a:lnTo>
                    <a:pt x="4160" y="665"/>
                  </a:lnTo>
                  <a:lnTo>
                    <a:pt x="4151" y="659"/>
                  </a:lnTo>
                  <a:lnTo>
                    <a:pt x="4136" y="619"/>
                  </a:lnTo>
                  <a:lnTo>
                    <a:pt x="4142" y="60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33880" y="36291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6" y="0"/>
                  </a:moveTo>
                  <a:lnTo>
                    <a:pt x="32" y="11"/>
                  </a:lnTo>
                  <a:lnTo>
                    <a:pt x="23" y="11"/>
                  </a:lnTo>
                  <a:lnTo>
                    <a:pt x="14" y="11"/>
                  </a:lnTo>
                  <a:lnTo>
                    <a:pt x="5" y="13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8" y="33"/>
                  </a:lnTo>
                  <a:lnTo>
                    <a:pt x="17" y="30"/>
                  </a:lnTo>
                  <a:lnTo>
                    <a:pt x="23" y="22"/>
                  </a:lnTo>
                  <a:lnTo>
                    <a:pt x="23" y="13"/>
                  </a:lnTo>
                  <a:lnTo>
                    <a:pt x="26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14480" y="5259240"/>
              <a:ext cx="4320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" y="20"/>
                  </a:moveTo>
                  <a:lnTo>
                    <a:pt x="8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4" y="17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2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81200" y="4390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0"/>
                  </a:moveTo>
                  <a:lnTo>
                    <a:pt x="11" y="16"/>
                  </a:lnTo>
                  <a:lnTo>
                    <a:pt x="11" y="25"/>
                  </a:lnTo>
                  <a:lnTo>
                    <a:pt x="2" y="33"/>
                  </a:lnTo>
                  <a:lnTo>
                    <a:pt x="11" y="45"/>
                  </a:lnTo>
                  <a:lnTo>
                    <a:pt x="26" y="48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2" y="22"/>
                  </a:lnTo>
                  <a:lnTo>
                    <a:pt x="23" y="14"/>
                  </a:lnTo>
                  <a:lnTo>
                    <a:pt x="14" y="11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29600" y="16905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0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05920" y="1801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lnTo>
                    <a:pt x="8" y="11"/>
                  </a:lnTo>
                  <a:lnTo>
                    <a:pt x="14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26" y="46"/>
                  </a:lnTo>
                  <a:lnTo>
                    <a:pt x="17" y="43"/>
                  </a:lnTo>
                  <a:lnTo>
                    <a:pt x="11" y="34"/>
                  </a:lnTo>
                  <a:lnTo>
                    <a:pt x="8" y="25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24440" y="16192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6" y="70"/>
                  </a:moveTo>
                  <a:lnTo>
                    <a:pt x="0" y="78"/>
                  </a:lnTo>
                  <a:lnTo>
                    <a:pt x="0" y="70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19" y="42"/>
                  </a:lnTo>
                  <a:lnTo>
                    <a:pt x="11" y="33"/>
                  </a:lnTo>
                  <a:lnTo>
                    <a:pt x="11" y="25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11"/>
                  </a:lnTo>
                  <a:lnTo>
                    <a:pt x="45" y="16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28" y="33"/>
                  </a:lnTo>
                  <a:lnTo>
                    <a:pt x="35" y="36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5" y="56"/>
                  </a:lnTo>
                  <a:lnTo>
                    <a:pt x="45" y="64"/>
                  </a:lnTo>
                  <a:lnTo>
                    <a:pt x="43" y="72"/>
                  </a:lnTo>
                  <a:lnTo>
                    <a:pt x="50" y="75"/>
                  </a:lnTo>
                  <a:lnTo>
                    <a:pt x="55" y="84"/>
                  </a:lnTo>
                  <a:lnTo>
                    <a:pt x="50" y="92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31" y="98"/>
                  </a:lnTo>
                  <a:lnTo>
                    <a:pt x="23" y="98"/>
                  </a:lnTo>
                  <a:lnTo>
                    <a:pt x="14" y="92"/>
                  </a:lnTo>
                  <a:lnTo>
                    <a:pt x="9" y="84"/>
                  </a:lnTo>
                  <a:lnTo>
                    <a:pt x="4" y="75"/>
                  </a:lnTo>
                  <a:lnTo>
                    <a:pt x="16" y="7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48200" y="17812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4"/>
                  </a:lnTo>
                  <a:lnTo>
                    <a:pt x="16" y="18"/>
                  </a:lnTo>
                  <a:lnTo>
                    <a:pt x="4" y="0"/>
                  </a:lnTo>
                  <a:lnTo>
                    <a:pt x="16" y="1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00840" y="167328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0"/>
                  </a:moveTo>
                  <a:lnTo>
                    <a:pt x="17" y="19"/>
                  </a:lnTo>
                  <a:lnTo>
                    <a:pt x="22" y="11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25" y="27"/>
                  </a:lnTo>
                  <a:lnTo>
                    <a:pt x="28" y="36"/>
                  </a:lnTo>
                  <a:lnTo>
                    <a:pt x="11" y="30"/>
                  </a:lnTo>
                  <a:lnTo>
                    <a:pt x="0" y="33"/>
                  </a:lnTo>
                  <a:lnTo>
                    <a:pt x="11" y="3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91040" y="1490760"/>
              <a:ext cx="84240" cy="10944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31" y="51"/>
                  </a:moveTo>
                  <a:lnTo>
                    <a:pt x="8" y="34"/>
                  </a:lnTo>
                  <a:lnTo>
                    <a:pt x="8" y="42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5" y="68"/>
                  </a:lnTo>
                  <a:lnTo>
                    <a:pt x="17" y="68"/>
                  </a:lnTo>
                  <a:lnTo>
                    <a:pt x="28" y="68"/>
                  </a:lnTo>
                  <a:lnTo>
                    <a:pt x="37" y="68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2" y="34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20" y="19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7" y="45"/>
                  </a:lnTo>
                  <a:lnTo>
                    <a:pt x="31" y="51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8480" y="2170080"/>
              <a:ext cx="293760" cy="235080"/>
            </a:xfrm>
            <a:custGeom>
              <a:avLst/>
              <a:gdLst/>
              <a:ahLst/>
              <a:rect l="l" t="t" r="r" b="b"/>
              <a:pathLst>
                <a:path w="185" h="148">
                  <a:moveTo>
                    <a:pt x="0" y="101"/>
                  </a:moveTo>
                  <a:lnTo>
                    <a:pt x="11" y="84"/>
                  </a:lnTo>
                  <a:lnTo>
                    <a:pt x="11" y="93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5" y="138"/>
                  </a:lnTo>
                  <a:lnTo>
                    <a:pt x="14" y="135"/>
                  </a:lnTo>
                  <a:lnTo>
                    <a:pt x="20" y="127"/>
                  </a:lnTo>
                  <a:lnTo>
                    <a:pt x="28" y="118"/>
                  </a:lnTo>
                  <a:lnTo>
                    <a:pt x="31" y="110"/>
                  </a:lnTo>
                  <a:lnTo>
                    <a:pt x="40" y="104"/>
                  </a:lnTo>
                  <a:lnTo>
                    <a:pt x="48" y="101"/>
                  </a:lnTo>
                  <a:lnTo>
                    <a:pt x="57" y="98"/>
                  </a:lnTo>
                  <a:lnTo>
                    <a:pt x="66" y="90"/>
                  </a:lnTo>
                  <a:lnTo>
                    <a:pt x="69" y="81"/>
                  </a:lnTo>
                  <a:lnTo>
                    <a:pt x="77" y="79"/>
                  </a:lnTo>
                  <a:lnTo>
                    <a:pt x="80" y="87"/>
                  </a:lnTo>
                  <a:lnTo>
                    <a:pt x="80" y="96"/>
                  </a:lnTo>
                  <a:lnTo>
                    <a:pt x="80" y="104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71" y="130"/>
                  </a:lnTo>
                  <a:lnTo>
                    <a:pt x="74" y="138"/>
                  </a:lnTo>
                  <a:lnTo>
                    <a:pt x="83" y="141"/>
                  </a:lnTo>
                  <a:lnTo>
                    <a:pt x="94" y="141"/>
                  </a:lnTo>
                  <a:lnTo>
                    <a:pt x="103" y="138"/>
                  </a:lnTo>
                  <a:lnTo>
                    <a:pt x="109" y="130"/>
                  </a:lnTo>
                  <a:lnTo>
                    <a:pt x="109" y="121"/>
                  </a:lnTo>
                  <a:lnTo>
                    <a:pt x="100" y="113"/>
                  </a:lnTo>
                  <a:lnTo>
                    <a:pt x="106" y="101"/>
                  </a:lnTo>
                  <a:lnTo>
                    <a:pt x="100" y="90"/>
                  </a:lnTo>
                  <a:lnTo>
                    <a:pt x="97" y="81"/>
                  </a:lnTo>
                  <a:lnTo>
                    <a:pt x="97" y="73"/>
                  </a:lnTo>
                  <a:lnTo>
                    <a:pt x="97" y="65"/>
                  </a:lnTo>
                  <a:lnTo>
                    <a:pt x="103" y="56"/>
                  </a:lnTo>
                  <a:lnTo>
                    <a:pt x="112" y="56"/>
                  </a:lnTo>
                  <a:lnTo>
                    <a:pt x="120" y="53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52" y="56"/>
                  </a:lnTo>
                  <a:lnTo>
                    <a:pt x="166" y="56"/>
                  </a:lnTo>
                  <a:lnTo>
                    <a:pt x="175" y="56"/>
                  </a:lnTo>
                  <a:lnTo>
                    <a:pt x="184" y="56"/>
                  </a:lnTo>
                  <a:lnTo>
                    <a:pt x="184" y="48"/>
                  </a:lnTo>
                  <a:lnTo>
                    <a:pt x="184" y="39"/>
                  </a:lnTo>
                  <a:lnTo>
                    <a:pt x="181" y="31"/>
                  </a:lnTo>
                  <a:lnTo>
                    <a:pt x="178" y="22"/>
                  </a:lnTo>
                  <a:lnTo>
                    <a:pt x="166" y="16"/>
                  </a:lnTo>
                  <a:lnTo>
                    <a:pt x="158" y="16"/>
                  </a:lnTo>
                  <a:lnTo>
                    <a:pt x="146" y="16"/>
                  </a:lnTo>
                  <a:lnTo>
                    <a:pt x="138" y="19"/>
                  </a:lnTo>
                  <a:lnTo>
                    <a:pt x="140" y="11"/>
                  </a:lnTo>
                  <a:lnTo>
                    <a:pt x="140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12" y="11"/>
                  </a:lnTo>
                  <a:lnTo>
                    <a:pt x="103" y="16"/>
                  </a:lnTo>
                  <a:lnTo>
                    <a:pt x="97" y="25"/>
                  </a:lnTo>
                  <a:lnTo>
                    <a:pt x="94" y="16"/>
                  </a:lnTo>
                  <a:lnTo>
                    <a:pt x="86" y="14"/>
                  </a:lnTo>
                  <a:lnTo>
                    <a:pt x="77" y="19"/>
                  </a:lnTo>
                  <a:lnTo>
                    <a:pt x="69" y="25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63" y="2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7" y="25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23" y="48"/>
                  </a:lnTo>
                  <a:lnTo>
                    <a:pt x="31" y="48"/>
                  </a:lnTo>
                  <a:lnTo>
                    <a:pt x="40" y="42"/>
                  </a:lnTo>
                  <a:lnTo>
                    <a:pt x="51" y="45"/>
                  </a:lnTo>
                  <a:lnTo>
                    <a:pt x="57" y="53"/>
                  </a:lnTo>
                  <a:lnTo>
                    <a:pt x="60" y="62"/>
                  </a:lnTo>
                  <a:lnTo>
                    <a:pt x="51" y="65"/>
                  </a:lnTo>
                  <a:lnTo>
                    <a:pt x="40" y="65"/>
                  </a:lnTo>
                  <a:lnTo>
                    <a:pt x="28" y="59"/>
                  </a:lnTo>
                  <a:lnTo>
                    <a:pt x="17" y="59"/>
                  </a:lnTo>
                  <a:lnTo>
                    <a:pt x="8" y="65"/>
                  </a:lnTo>
                  <a:lnTo>
                    <a:pt x="8" y="76"/>
                  </a:lnTo>
                  <a:lnTo>
                    <a:pt x="11" y="87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6"/>
                  </a:lnTo>
                  <a:lnTo>
                    <a:pt x="0" y="101"/>
                  </a:lnTo>
                  <a:lnTo>
                    <a:pt x="5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0" y="1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95760" y="2171880"/>
              <a:ext cx="220680" cy="18072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31" y="53"/>
                  </a:moveTo>
                  <a:lnTo>
                    <a:pt x="25" y="64"/>
                  </a:lnTo>
                  <a:lnTo>
                    <a:pt x="31" y="53"/>
                  </a:lnTo>
                  <a:lnTo>
                    <a:pt x="43" y="56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7" y="79"/>
                  </a:lnTo>
                  <a:lnTo>
                    <a:pt x="23" y="90"/>
                  </a:lnTo>
                  <a:lnTo>
                    <a:pt x="25" y="98"/>
                  </a:lnTo>
                  <a:lnTo>
                    <a:pt x="31" y="107"/>
                  </a:lnTo>
                  <a:lnTo>
                    <a:pt x="34" y="98"/>
                  </a:lnTo>
                  <a:lnTo>
                    <a:pt x="34" y="90"/>
                  </a:lnTo>
                  <a:lnTo>
                    <a:pt x="43" y="90"/>
                  </a:lnTo>
                  <a:lnTo>
                    <a:pt x="54" y="93"/>
                  </a:lnTo>
                  <a:lnTo>
                    <a:pt x="63" y="96"/>
                  </a:lnTo>
                  <a:lnTo>
                    <a:pt x="71" y="96"/>
                  </a:lnTo>
                  <a:lnTo>
                    <a:pt x="80" y="87"/>
                  </a:lnTo>
                  <a:lnTo>
                    <a:pt x="89" y="87"/>
                  </a:lnTo>
                  <a:lnTo>
                    <a:pt x="97" y="93"/>
                  </a:lnTo>
                  <a:lnTo>
                    <a:pt x="103" y="107"/>
                  </a:lnTo>
                  <a:lnTo>
                    <a:pt x="112" y="110"/>
                  </a:lnTo>
                  <a:lnTo>
                    <a:pt x="120" y="113"/>
                  </a:lnTo>
                  <a:lnTo>
                    <a:pt x="126" y="104"/>
                  </a:lnTo>
                  <a:lnTo>
                    <a:pt x="123" y="96"/>
                  </a:lnTo>
                  <a:lnTo>
                    <a:pt x="115" y="90"/>
                  </a:lnTo>
                  <a:lnTo>
                    <a:pt x="106" y="87"/>
                  </a:lnTo>
                  <a:lnTo>
                    <a:pt x="94" y="81"/>
                  </a:lnTo>
                  <a:lnTo>
                    <a:pt x="92" y="73"/>
                  </a:lnTo>
                  <a:lnTo>
                    <a:pt x="103" y="70"/>
                  </a:lnTo>
                  <a:lnTo>
                    <a:pt x="112" y="70"/>
                  </a:lnTo>
                  <a:lnTo>
                    <a:pt x="115" y="62"/>
                  </a:lnTo>
                  <a:lnTo>
                    <a:pt x="120" y="53"/>
                  </a:lnTo>
                  <a:lnTo>
                    <a:pt x="129" y="48"/>
                  </a:lnTo>
                  <a:lnTo>
                    <a:pt x="138" y="39"/>
                  </a:lnTo>
                  <a:lnTo>
                    <a:pt x="129" y="33"/>
                  </a:lnTo>
                  <a:lnTo>
                    <a:pt x="120" y="31"/>
                  </a:lnTo>
                  <a:lnTo>
                    <a:pt x="112" y="33"/>
                  </a:lnTo>
                  <a:lnTo>
                    <a:pt x="106" y="42"/>
                  </a:lnTo>
                  <a:lnTo>
                    <a:pt x="97" y="45"/>
                  </a:lnTo>
                  <a:lnTo>
                    <a:pt x="97" y="36"/>
                  </a:lnTo>
                  <a:lnTo>
                    <a:pt x="100" y="25"/>
                  </a:lnTo>
                  <a:lnTo>
                    <a:pt x="100" y="16"/>
                  </a:lnTo>
                  <a:lnTo>
                    <a:pt x="103" y="8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0" y="8"/>
                  </a:lnTo>
                  <a:lnTo>
                    <a:pt x="77" y="16"/>
                  </a:lnTo>
                  <a:lnTo>
                    <a:pt x="74" y="25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1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3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23" y="64"/>
                  </a:lnTo>
                  <a:lnTo>
                    <a:pt x="31" y="64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77" y="53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05520" y="2079720"/>
              <a:ext cx="298440" cy="156960"/>
            </a:xfrm>
            <a:custGeom>
              <a:avLst/>
              <a:gdLst/>
              <a:ahLst/>
              <a:rect l="l" t="t" r="r" b="b"/>
              <a:pathLst>
                <a:path w="188" h="99">
                  <a:moveTo>
                    <a:pt x="0" y="17"/>
                  </a:moveTo>
                  <a:lnTo>
                    <a:pt x="25" y="25"/>
                  </a:lnTo>
                  <a:lnTo>
                    <a:pt x="37" y="25"/>
                  </a:lnTo>
                  <a:lnTo>
                    <a:pt x="43" y="34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63" y="69"/>
                  </a:lnTo>
                  <a:lnTo>
                    <a:pt x="63" y="80"/>
                  </a:lnTo>
                  <a:lnTo>
                    <a:pt x="71" y="83"/>
                  </a:lnTo>
                  <a:lnTo>
                    <a:pt x="80" y="77"/>
                  </a:lnTo>
                  <a:lnTo>
                    <a:pt x="89" y="77"/>
                  </a:lnTo>
                  <a:lnTo>
                    <a:pt x="97" y="77"/>
                  </a:lnTo>
                  <a:lnTo>
                    <a:pt x="106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5" y="74"/>
                  </a:lnTo>
                  <a:lnTo>
                    <a:pt x="143" y="77"/>
                  </a:lnTo>
                  <a:lnTo>
                    <a:pt x="152" y="86"/>
                  </a:lnTo>
                  <a:lnTo>
                    <a:pt x="163" y="98"/>
                  </a:lnTo>
                  <a:lnTo>
                    <a:pt x="169" y="89"/>
                  </a:lnTo>
                  <a:lnTo>
                    <a:pt x="175" y="80"/>
                  </a:lnTo>
                  <a:lnTo>
                    <a:pt x="181" y="72"/>
                  </a:lnTo>
                  <a:lnTo>
                    <a:pt x="187" y="60"/>
                  </a:lnTo>
                  <a:lnTo>
                    <a:pt x="187" y="51"/>
                  </a:lnTo>
                  <a:lnTo>
                    <a:pt x="187" y="43"/>
                  </a:lnTo>
                  <a:lnTo>
                    <a:pt x="181" y="34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5" y="34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9" y="40"/>
                  </a:lnTo>
                  <a:lnTo>
                    <a:pt x="129" y="49"/>
                  </a:lnTo>
                  <a:lnTo>
                    <a:pt x="129" y="57"/>
                  </a:lnTo>
                  <a:lnTo>
                    <a:pt x="120" y="51"/>
                  </a:lnTo>
                  <a:lnTo>
                    <a:pt x="109" y="43"/>
                  </a:lnTo>
                  <a:lnTo>
                    <a:pt x="100" y="34"/>
                  </a:lnTo>
                  <a:lnTo>
                    <a:pt x="86" y="25"/>
                  </a:lnTo>
                  <a:lnTo>
                    <a:pt x="83" y="37"/>
                  </a:lnTo>
                  <a:lnTo>
                    <a:pt x="74" y="40"/>
                  </a:lnTo>
                  <a:lnTo>
                    <a:pt x="74" y="31"/>
                  </a:lnTo>
                  <a:lnTo>
                    <a:pt x="69" y="23"/>
                  </a:lnTo>
                  <a:lnTo>
                    <a:pt x="60" y="17"/>
                  </a:lnTo>
                  <a:lnTo>
                    <a:pt x="51" y="8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8" y="8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0" y="1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74960" y="2954160"/>
              <a:ext cx="680760" cy="700200"/>
            </a:xfrm>
            <a:custGeom>
              <a:avLst/>
              <a:gdLst/>
              <a:ahLst/>
              <a:rect l="l" t="t" r="r" b="b"/>
              <a:pathLst>
                <a:path w="429" h="441">
                  <a:moveTo>
                    <a:pt x="22" y="309"/>
                  </a:moveTo>
                  <a:lnTo>
                    <a:pt x="34" y="315"/>
                  </a:lnTo>
                  <a:lnTo>
                    <a:pt x="43" y="318"/>
                  </a:lnTo>
                  <a:lnTo>
                    <a:pt x="51" y="321"/>
                  </a:lnTo>
                  <a:lnTo>
                    <a:pt x="54" y="333"/>
                  </a:lnTo>
                  <a:lnTo>
                    <a:pt x="63" y="342"/>
                  </a:lnTo>
                  <a:lnTo>
                    <a:pt x="71" y="348"/>
                  </a:lnTo>
                  <a:lnTo>
                    <a:pt x="80" y="348"/>
                  </a:lnTo>
                  <a:lnTo>
                    <a:pt x="91" y="355"/>
                  </a:lnTo>
                  <a:lnTo>
                    <a:pt x="100" y="361"/>
                  </a:lnTo>
                  <a:lnTo>
                    <a:pt x="109" y="364"/>
                  </a:lnTo>
                  <a:lnTo>
                    <a:pt x="112" y="373"/>
                  </a:lnTo>
                  <a:lnTo>
                    <a:pt x="117" y="382"/>
                  </a:lnTo>
                  <a:lnTo>
                    <a:pt x="123" y="391"/>
                  </a:lnTo>
                  <a:lnTo>
                    <a:pt x="132" y="397"/>
                  </a:lnTo>
                  <a:lnTo>
                    <a:pt x="146" y="406"/>
                  </a:lnTo>
                  <a:lnTo>
                    <a:pt x="155" y="412"/>
                  </a:lnTo>
                  <a:lnTo>
                    <a:pt x="163" y="418"/>
                  </a:lnTo>
                  <a:lnTo>
                    <a:pt x="172" y="421"/>
                  </a:lnTo>
                  <a:lnTo>
                    <a:pt x="180" y="430"/>
                  </a:lnTo>
                  <a:lnTo>
                    <a:pt x="189" y="436"/>
                  </a:lnTo>
                  <a:lnTo>
                    <a:pt x="198" y="440"/>
                  </a:lnTo>
                  <a:lnTo>
                    <a:pt x="203" y="430"/>
                  </a:lnTo>
                  <a:lnTo>
                    <a:pt x="203" y="421"/>
                  </a:lnTo>
                  <a:lnTo>
                    <a:pt x="203" y="412"/>
                  </a:lnTo>
                  <a:lnTo>
                    <a:pt x="215" y="406"/>
                  </a:lnTo>
                  <a:lnTo>
                    <a:pt x="224" y="406"/>
                  </a:lnTo>
                  <a:lnTo>
                    <a:pt x="232" y="406"/>
                  </a:lnTo>
                  <a:lnTo>
                    <a:pt x="241" y="406"/>
                  </a:lnTo>
                  <a:lnTo>
                    <a:pt x="249" y="406"/>
                  </a:lnTo>
                  <a:lnTo>
                    <a:pt x="258" y="406"/>
                  </a:lnTo>
                  <a:lnTo>
                    <a:pt x="261" y="397"/>
                  </a:lnTo>
                  <a:lnTo>
                    <a:pt x="261" y="388"/>
                  </a:lnTo>
                  <a:lnTo>
                    <a:pt x="261" y="379"/>
                  </a:lnTo>
                  <a:lnTo>
                    <a:pt x="261" y="367"/>
                  </a:lnTo>
                  <a:lnTo>
                    <a:pt x="261" y="355"/>
                  </a:lnTo>
                  <a:lnTo>
                    <a:pt x="252" y="348"/>
                  </a:lnTo>
                  <a:lnTo>
                    <a:pt x="244" y="348"/>
                  </a:lnTo>
                  <a:lnTo>
                    <a:pt x="235" y="342"/>
                  </a:lnTo>
                  <a:lnTo>
                    <a:pt x="229" y="333"/>
                  </a:lnTo>
                  <a:lnTo>
                    <a:pt x="229" y="324"/>
                  </a:lnTo>
                  <a:lnTo>
                    <a:pt x="238" y="321"/>
                  </a:lnTo>
                  <a:lnTo>
                    <a:pt x="247" y="315"/>
                  </a:lnTo>
                  <a:lnTo>
                    <a:pt x="255" y="312"/>
                  </a:lnTo>
                  <a:lnTo>
                    <a:pt x="261" y="303"/>
                  </a:lnTo>
                  <a:lnTo>
                    <a:pt x="261" y="294"/>
                  </a:lnTo>
                  <a:lnTo>
                    <a:pt x="264" y="285"/>
                  </a:lnTo>
                  <a:lnTo>
                    <a:pt x="264" y="276"/>
                  </a:lnTo>
                  <a:lnTo>
                    <a:pt x="267" y="267"/>
                  </a:lnTo>
                  <a:lnTo>
                    <a:pt x="272" y="257"/>
                  </a:lnTo>
                  <a:lnTo>
                    <a:pt x="278" y="248"/>
                  </a:lnTo>
                  <a:lnTo>
                    <a:pt x="284" y="239"/>
                  </a:lnTo>
                  <a:lnTo>
                    <a:pt x="284" y="230"/>
                  </a:lnTo>
                  <a:lnTo>
                    <a:pt x="284" y="221"/>
                  </a:lnTo>
                  <a:lnTo>
                    <a:pt x="284" y="209"/>
                  </a:lnTo>
                  <a:lnTo>
                    <a:pt x="292" y="200"/>
                  </a:lnTo>
                  <a:lnTo>
                    <a:pt x="295" y="191"/>
                  </a:lnTo>
                  <a:lnTo>
                    <a:pt x="298" y="182"/>
                  </a:lnTo>
                  <a:lnTo>
                    <a:pt x="301" y="172"/>
                  </a:lnTo>
                  <a:lnTo>
                    <a:pt x="292" y="163"/>
                  </a:lnTo>
                  <a:lnTo>
                    <a:pt x="284" y="154"/>
                  </a:lnTo>
                  <a:lnTo>
                    <a:pt x="278" y="145"/>
                  </a:lnTo>
                  <a:lnTo>
                    <a:pt x="287" y="142"/>
                  </a:lnTo>
                  <a:lnTo>
                    <a:pt x="295" y="142"/>
                  </a:lnTo>
                  <a:lnTo>
                    <a:pt x="304" y="148"/>
                  </a:lnTo>
                  <a:lnTo>
                    <a:pt x="313" y="157"/>
                  </a:lnTo>
                  <a:lnTo>
                    <a:pt x="321" y="163"/>
                  </a:lnTo>
                  <a:lnTo>
                    <a:pt x="327" y="154"/>
                  </a:lnTo>
                  <a:lnTo>
                    <a:pt x="336" y="148"/>
                  </a:lnTo>
                  <a:lnTo>
                    <a:pt x="344" y="148"/>
                  </a:lnTo>
                  <a:lnTo>
                    <a:pt x="353" y="145"/>
                  </a:lnTo>
                  <a:lnTo>
                    <a:pt x="361" y="142"/>
                  </a:lnTo>
                  <a:lnTo>
                    <a:pt x="361" y="133"/>
                  </a:lnTo>
                  <a:lnTo>
                    <a:pt x="361" y="124"/>
                  </a:lnTo>
                  <a:lnTo>
                    <a:pt x="361" y="115"/>
                  </a:lnTo>
                  <a:lnTo>
                    <a:pt x="359" y="106"/>
                  </a:lnTo>
                  <a:lnTo>
                    <a:pt x="353" y="97"/>
                  </a:lnTo>
                  <a:lnTo>
                    <a:pt x="344" y="88"/>
                  </a:lnTo>
                  <a:lnTo>
                    <a:pt x="333" y="81"/>
                  </a:lnTo>
                  <a:lnTo>
                    <a:pt x="341" y="75"/>
                  </a:lnTo>
                  <a:lnTo>
                    <a:pt x="353" y="75"/>
                  </a:lnTo>
                  <a:lnTo>
                    <a:pt x="361" y="75"/>
                  </a:lnTo>
                  <a:lnTo>
                    <a:pt x="370" y="75"/>
                  </a:lnTo>
                  <a:lnTo>
                    <a:pt x="379" y="72"/>
                  </a:lnTo>
                  <a:lnTo>
                    <a:pt x="387" y="69"/>
                  </a:lnTo>
                  <a:lnTo>
                    <a:pt x="396" y="69"/>
                  </a:lnTo>
                  <a:lnTo>
                    <a:pt x="405" y="72"/>
                  </a:lnTo>
                  <a:lnTo>
                    <a:pt x="419" y="75"/>
                  </a:lnTo>
                  <a:lnTo>
                    <a:pt x="428" y="75"/>
                  </a:lnTo>
                  <a:lnTo>
                    <a:pt x="425" y="66"/>
                  </a:lnTo>
                  <a:lnTo>
                    <a:pt x="422" y="57"/>
                  </a:lnTo>
                  <a:lnTo>
                    <a:pt x="419" y="48"/>
                  </a:lnTo>
                  <a:lnTo>
                    <a:pt x="410" y="48"/>
                  </a:lnTo>
                  <a:lnTo>
                    <a:pt x="402" y="48"/>
                  </a:lnTo>
                  <a:lnTo>
                    <a:pt x="390" y="48"/>
                  </a:lnTo>
                  <a:lnTo>
                    <a:pt x="382" y="48"/>
                  </a:lnTo>
                  <a:lnTo>
                    <a:pt x="379" y="57"/>
                  </a:lnTo>
                  <a:lnTo>
                    <a:pt x="370" y="54"/>
                  </a:lnTo>
                  <a:lnTo>
                    <a:pt x="361" y="45"/>
                  </a:lnTo>
                  <a:lnTo>
                    <a:pt x="353" y="39"/>
                  </a:lnTo>
                  <a:lnTo>
                    <a:pt x="341" y="39"/>
                  </a:lnTo>
                  <a:lnTo>
                    <a:pt x="333" y="39"/>
                  </a:lnTo>
                  <a:lnTo>
                    <a:pt x="318" y="39"/>
                  </a:lnTo>
                  <a:lnTo>
                    <a:pt x="310" y="39"/>
                  </a:lnTo>
                  <a:lnTo>
                    <a:pt x="298" y="42"/>
                  </a:lnTo>
                  <a:lnTo>
                    <a:pt x="290" y="42"/>
                  </a:lnTo>
                  <a:lnTo>
                    <a:pt x="290" y="33"/>
                  </a:lnTo>
                  <a:lnTo>
                    <a:pt x="298" y="30"/>
                  </a:lnTo>
                  <a:lnTo>
                    <a:pt x="307" y="30"/>
                  </a:lnTo>
                  <a:lnTo>
                    <a:pt x="315" y="27"/>
                  </a:lnTo>
                  <a:lnTo>
                    <a:pt x="324" y="24"/>
                  </a:lnTo>
                  <a:lnTo>
                    <a:pt x="327" y="15"/>
                  </a:lnTo>
                  <a:lnTo>
                    <a:pt x="327" y="6"/>
                  </a:lnTo>
                  <a:lnTo>
                    <a:pt x="318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3"/>
                  </a:lnTo>
                  <a:lnTo>
                    <a:pt x="275" y="12"/>
                  </a:lnTo>
                  <a:lnTo>
                    <a:pt x="267" y="18"/>
                  </a:lnTo>
                  <a:lnTo>
                    <a:pt x="258" y="21"/>
                  </a:lnTo>
                  <a:lnTo>
                    <a:pt x="255" y="30"/>
                  </a:lnTo>
                  <a:lnTo>
                    <a:pt x="264" y="36"/>
                  </a:lnTo>
                  <a:lnTo>
                    <a:pt x="272" y="36"/>
                  </a:lnTo>
                  <a:lnTo>
                    <a:pt x="278" y="45"/>
                  </a:lnTo>
                  <a:lnTo>
                    <a:pt x="270" y="54"/>
                  </a:lnTo>
                  <a:lnTo>
                    <a:pt x="267" y="63"/>
                  </a:lnTo>
                  <a:lnTo>
                    <a:pt x="281" y="75"/>
                  </a:lnTo>
                  <a:lnTo>
                    <a:pt x="290" y="78"/>
                  </a:lnTo>
                  <a:lnTo>
                    <a:pt x="281" y="75"/>
                  </a:lnTo>
                  <a:lnTo>
                    <a:pt x="270" y="66"/>
                  </a:lnTo>
                  <a:lnTo>
                    <a:pt x="261" y="60"/>
                  </a:lnTo>
                  <a:lnTo>
                    <a:pt x="252" y="51"/>
                  </a:lnTo>
                  <a:lnTo>
                    <a:pt x="244" y="51"/>
                  </a:lnTo>
                  <a:lnTo>
                    <a:pt x="241" y="60"/>
                  </a:lnTo>
                  <a:lnTo>
                    <a:pt x="241" y="69"/>
                  </a:lnTo>
                  <a:lnTo>
                    <a:pt x="255" y="78"/>
                  </a:lnTo>
                  <a:lnTo>
                    <a:pt x="264" y="81"/>
                  </a:lnTo>
                  <a:lnTo>
                    <a:pt x="255" y="88"/>
                  </a:lnTo>
                  <a:lnTo>
                    <a:pt x="244" y="88"/>
                  </a:lnTo>
                  <a:lnTo>
                    <a:pt x="235" y="88"/>
                  </a:lnTo>
                  <a:lnTo>
                    <a:pt x="235" y="103"/>
                  </a:lnTo>
                  <a:lnTo>
                    <a:pt x="244" y="106"/>
                  </a:lnTo>
                  <a:lnTo>
                    <a:pt x="252" y="109"/>
                  </a:lnTo>
                  <a:lnTo>
                    <a:pt x="244" y="115"/>
                  </a:lnTo>
                  <a:lnTo>
                    <a:pt x="235" y="112"/>
                  </a:lnTo>
                  <a:lnTo>
                    <a:pt x="226" y="109"/>
                  </a:lnTo>
                  <a:lnTo>
                    <a:pt x="218" y="106"/>
                  </a:lnTo>
                  <a:lnTo>
                    <a:pt x="212" y="115"/>
                  </a:lnTo>
                  <a:lnTo>
                    <a:pt x="218" y="124"/>
                  </a:lnTo>
                  <a:lnTo>
                    <a:pt x="229" y="127"/>
                  </a:lnTo>
                  <a:lnTo>
                    <a:pt x="238" y="130"/>
                  </a:lnTo>
                  <a:lnTo>
                    <a:pt x="229" y="124"/>
                  </a:lnTo>
                  <a:lnTo>
                    <a:pt x="221" y="121"/>
                  </a:lnTo>
                  <a:lnTo>
                    <a:pt x="209" y="115"/>
                  </a:lnTo>
                  <a:lnTo>
                    <a:pt x="198" y="106"/>
                  </a:lnTo>
                  <a:lnTo>
                    <a:pt x="192" y="97"/>
                  </a:lnTo>
                  <a:lnTo>
                    <a:pt x="183" y="91"/>
                  </a:lnTo>
                  <a:lnTo>
                    <a:pt x="180" y="81"/>
                  </a:lnTo>
                  <a:lnTo>
                    <a:pt x="178" y="72"/>
                  </a:lnTo>
                  <a:lnTo>
                    <a:pt x="169" y="60"/>
                  </a:lnTo>
                  <a:lnTo>
                    <a:pt x="160" y="60"/>
                  </a:lnTo>
                  <a:lnTo>
                    <a:pt x="152" y="66"/>
                  </a:lnTo>
                  <a:lnTo>
                    <a:pt x="149" y="75"/>
                  </a:lnTo>
                  <a:lnTo>
                    <a:pt x="146" y="84"/>
                  </a:lnTo>
                  <a:lnTo>
                    <a:pt x="143" y="94"/>
                  </a:lnTo>
                  <a:lnTo>
                    <a:pt x="140" y="103"/>
                  </a:lnTo>
                  <a:lnTo>
                    <a:pt x="129" y="103"/>
                  </a:lnTo>
                  <a:lnTo>
                    <a:pt x="117" y="94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0" y="60"/>
                  </a:lnTo>
                  <a:lnTo>
                    <a:pt x="89" y="60"/>
                  </a:lnTo>
                  <a:lnTo>
                    <a:pt x="80" y="66"/>
                  </a:lnTo>
                  <a:lnTo>
                    <a:pt x="77" y="75"/>
                  </a:lnTo>
                  <a:lnTo>
                    <a:pt x="71" y="84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51" y="127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0" y="127"/>
                  </a:lnTo>
                  <a:lnTo>
                    <a:pt x="51" y="121"/>
                  </a:lnTo>
                  <a:lnTo>
                    <a:pt x="43" y="118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4" y="115"/>
                  </a:lnTo>
                  <a:lnTo>
                    <a:pt x="11" y="124"/>
                  </a:lnTo>
                  <a:lnTo>
                    <a:pt x="8" y="133"/>
                  </a:lnTo>
                  <a:lnTo>
                    <a:pt x="2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4" y="169"/>
                  </a:lnTo>
                  <a:lnTo>
                    <a:pt x="22" y="172"/>
                  </a:lnTo>
                  <a:lnTo>
                    <a:pt x="31" y="172"/>
                  </a:lnTo>
                  <a:lnTo>
                    <a:pt x="40" y="176"/>
                  </a:lnTo>
                  <a:lnTo>
                    <a:pt x="51" y="185"/>
                  </a:lnTo>
                  <a:lnTo>
                    <a:pt x="60" y="191"/>
                  </a:lnTo>
                  <a:lnTo>
                    <a:pt x="68" y="197"/>
                  </a:lnTo>
                  <a:lnTo>
                    <a:pt x="80" y="200"/>
                  </a:lnTo>
                  <a:lnTo>
                    <a:pt x="89" y="203"/>
                  </a:lnTo>
                  <a:lnTo>
                    <a:pt x="100" y="203"/>
                  </a:lnTo>
                  <a:lnTo>
                    <a:pt x="109" y="203"/>
                  </a:lnTo>
                  <a:lnTo>
                    <a:pt x="120" y="197"/>
                  </a:lnTo>
                  <a:lnTo>
                    <a:pt x="129" y="194"/>
                  </a:lnTo>
                  <a:lnTo>
                    <a:pt x="135" y="185"/>
                  </a:lnTo>
                  <a:lnTo>
                    <a:pt x="143" y="179"/>
                  </a:lnTo>
                  <a:lnTo>
                    <a:pt x="149" y="169"/>
                  </a:lnTo>
                  <a:lnTo>
                    <a:pt x="157" y="163"/>
                  </a:lnTo>
                  <a:lnTo>
                    <a:pt x="166" y="163"/>
                  </a:lnTo>
                  <a:lnTo>
                    <a:pt x="175" y="166"/>
                  </a:lnTo>
                  <a:lnTo>
                    <a:pt x="183" y="166"/>
                  </a:lnTo>
                  <a:lnTo>
                    <a:pt x="192" y="157"/>
                  </a:lnTo>
                  <a:lnTo>
                    <a:pt x="198" y="148"/>
                  </a:lnTo>
                  <a:lnTo>
                    <a:pt x="201" y="139"/>
                  </a:lnTo>
                  <a:lnTo>
                    <a:pt x="203" y="130"/>
                  </a:lnTo>
                  <a:lnTo>
                    <a:pt x="212" y="130"/>
                  </a:lnTo>
                  <a:lnTo>
                    <a:pt x="224" y="136"/>
                  </a:lnTo>
                  <a:lnTo>
                    <a:pt x="232" y="139"/>
                  </a:lnTo>
                  <a:lnTo>
                    <a:pt x="241" y="142"/>
                  </a:lnTo>
                  <a:lnTo>
                    <a:pt x="232" y="142"/>
                  </a:lnTo>
                  <a:lnTo>
                    <a:pt x="224" y="142"/>
                  </a:lnTo>
                  <a:lnTo>
                    <a:pt x="215" y="142"/>
                  </a:lnTo>
                  <a:lnTo>
                    <a:pt x="206" y="142"/>
                  </a:lnTo>
                  <a:lnTo>
                    <a:pt x="203" y="151"/>
                  </a:lnTo>
                  <a:lnTo>
                    <a:pt x="201" y="160"/>
                  </a:lnTo>
                  <a:lnTo>
                    <a:pt x="201" y="169"/>
                  </a:lnTo>
                  <a:lnTo>
                    <a:pt x="209" y="176"/>
                  </a:lnTo>
                  <a:lnTo>
                    <a:pt x="218" y="179"/>
                  </a:lnTo>
                  <a:lnTo>
                    <a:pt x="226" y="188"/>
                  </a:lnTo>
                  <a:lnTo>
                    <a:pt x="235" y="194"/>
                  </a:lnTo>
                  <a:lnTo>
                    <a:pt x="238" y="203"/>
                  </a:lnTo>
                  <a:lnTo>
                    <a:pt x="226" y="206"/>
                  </a:lnTo>
                  <a:lnTo>
                    <a:pt x="224" y="215"/>
                  </a:lnTo>
                  <a:lnTo>
                    <a:pt x="224" y="224"/>
                  </a:lnTo>
                  <a:lnTo>
                    <a:pt x="221" y="233"/>
                  </a:lnTo>
                  <a:lnTo>
                    <a:pt x="209" y="233"/>
                  </a:lnTo>
                  <a:lnTo>
                    <a:pt x="203" y="245"/>
                  </a:lnTo>
                  <a:lnTo>
                    <a:pt x="198" y="257"/>
                  </a:lnTo>
                  <a:lnTo>
                    <a:pt x="195" y="267"/>
                  </a:lnTo>
                  <a:lnTo>
                    <a:pt x="186" y="267"/>
                  </a:lnTo>
                  <a:lnTo>
                    <a:pt x="183" y="257"/>
                  </a:lnTo>
                  <a:lnTo>
                    <a:pt x="178" y="245"/>
                  </a:lnTo>
                  <a:lnTo>
                    <a:pt x="175" y="233"/>
                  </a:lnTo>
                  <a:lnTo>
                    <a:pt x="166" y="224"/>
                  </a:lnTo>
                  <a:lnTo>
                    <a:pt x="157" y="221"/>
                  </a:lnTo>
                  <a:lnTo>
                    <a:pt x="149" y="218"/>
                  </a:lnTo>
                  <a:lnTo>
                    <a:pt x="137" y="224"/>
                  </a:lnTo>
                  <a:lnTo>
                    <a:pt x="140" y="236"/>
                  </a:lnTo>
                  <a:lnTo>
                    <a:pt x="143" y="245"/>
                  </a:lnTo>
                  <a:lnTo>
                    <a:pt x="143" y="254"/>
                  </a:lnTo>
                  <a:lnTo>
                    <a:pt x="135" y="260"/>
                  </a:lnTo>
                  <a:lnTo>
                    <a:pt x="126" y="260"/>
                  </a:lnTo>
                  <a:lnTo>
                    <a:pt x="114" y="257"/>
                  </a:lnTo>
                  <a:lnTo>
                    <a:pt x="106" y="257"/>
                  </a:lnTo>
                  <a:lnTo>
                    <a:pt x="97" y="257"/>
                  </a:lnTo>
                  <a:lnTo>
                    <a:pt x="89" y="257"/>
                  </a:lnTo>
                  <a:lnTo>
                    <a:pt x="91" y="267"/>
                  </a:lnTo>
                  <a:lnTo>
                    <a:pt x="100" y="276"/>
                  </a:lnTo>
                  <a:lnTo>
                    <a:pt x="100" y="285"/>
                  </a:lnTo>
                  <a:lnTo>
                    <a:pt x="97" y="294"/>
                  </a:lnTo>
                  <a:lnTo>
                    <a:pt x="97" y="303"/>
                  </a:lnTo>
                  <a:lnTo>
                    <a:pt x="109" y="312"/>
                  </a:lnTo>
                  <a:lnTo>
                    <a:pt x="117" y="318"/>
                  </a:lnTo>
                  <a:lnTo>
                    <a:pt x="109" y="318"/>
                  </a:lnTo>
                  <a:lnTo>
                    <a:pt x="100" y="309"/>
                  </a:lnTo>
                  <a:lnTo>
                    <a:pt x="89" y="300"/>
                  </a:lnTo>
                  <a:lnTo>
                    <a:pt x="80" y="297"/>
                  </a:lnTo>
                  <a:lnTo>
                    <a:pt x="71" y="297"/>
                  </a:lnTo>
                  <a:lnTo>
                    <a:pt x="63" y="300"/>
                  </a:lnTo>
                  <a:lnTo>
                    <a:pt x="54" y="306"/>
                  </a:lnTo>
                  <a:lnTo>
                    <a:pt x="43" y="306"/>
                  </a:lnTo>
                  <a:lnTo>
                    <a:pt x="34" y="306"/>
                  </a:lnTo>
                  <a:lnTo>
                    <a:pt x="22" y="309"/>
                  </a:lnTo>
                  <a:lnTo>
                    <a:pt x="11" y="303"/>
                  </a:lnTo>
                  <a:lnTo>
                    <a:pt x="22" y="309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43200" y="27082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2"/>
                  </a:moveTo>
                  <a:lnTo>
                    <a:pt x="8" y="19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34" y="22"/>
                  </a:lnTo>
                  <a:lnTo>
                    <a:pt x="40" y="13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76680" y="294012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5" y="0"/>
                  </a:moveTo>
                  <a:lnTo>
                    <a:pt x="20" y="13"/>
                  </a:lnTo>
                  <a:lnTo>
                    <a:pt x="11" y="16"/>
                  </a:lnTo>
                  <a:lnTo>
                    <a:pt x="8" y="24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4" y="30"/>
                  </a:lnTo>
                  <a:lnTo>
                    <a:pt x="40" y="21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25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10160" y="2549520"/>
              <a:ext cx="339840" cy="509760"/>
            </a:xfrm>
            <a:custGeom>
              <a:avLst/>
              <a:gdLst/>
              <a:ahLst/>
              <a:rect l="l" t="t" r="r" b="b"/>
              <a:pathLst>
                <a:path w="214" h="321">
                  <a:moveTo>
                    <a:pt x="23" y="200"/>
                  </a:moveTo>
                  <a:lnTo>
                    <a:pt x="34" y="182"/>
                  </a:lnTo>
                  <a:lnTo>
                    <a:pt x="23" y="200"/>
                  </a:lnTo>
                  <a:lnTo>
                    <a:pt x="23" y="211"/>
                  </a:lnTo>
                  <a:lnTo>
                    <a:pt x="20" y="220"/>
                  </a:lnTo>
                  <a:lnTo>
                    <a:pt x="17" y="228"/>
                  </a:lnTo>
                  <a:lnTo>
                    <a:pt x="8" y="234"/>
                  </a:lnTo>
                  <a:lnTo>
                    <a:pt x="2" y="24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8" y="268"/>
                  </a:lnTo>
                  <a:lnTo>
                    <a:pt x="17" y="268"/>
                  </a:lnTo>
                  <a:lnTo>
                    <a:pt x="25" y="271"/>
                  </a:lnTo>
                  <a:lnTo>
                    <a:pt x="28" y="280"/>
                  </a:lnTo>
                  <a:lnTo>
                    <a:pt x="37" y="291"/>
                  </a:lnTo>
                  <a:lnTo>
                    <a:pt x="28" y="294"/>
                  </a:lnTo>
                  <a:lnTo>
                    <a:pt x="20" y="285"/>
                  </a:lnTo>
                  <a:lnTo>
                    <a:pt x="31" y="294"/>
                  </a:lnTo>
                  <a:lnTo>
                    <a:pt x="40" y="300"/>
                  </a:lnTo>
                  <a:lnTo>
                    <a:pt x="48" y="311"/>
                  </a:lnTo>
                  <a:lnTo>
                    <a:pt x="57" y="314"/>
                  </a:lnTo>
                  <a:lnTo>
                    <a:pt x="66" y="320"/>
                  </a:lnTo>
                  <a:lnTo>
                    <a:pt x="66" y="311"/>
                  </a:lnTo>
                  <a:lnTo>
                    <a:pt x="74" y="311"/>
                  </a:lnTo>
                  <a:lnTo>
                    <a:pt x="83" y="320"/>
                  </a:lnTo>
                  <a:lnTo>
                    <a:pt x="83" y="308"/>
                  </a:lnTo>
                  <a:lnTo>
                    <a:pt x="92" y="305"/>
                  </a:lnTo>
                  <a:lnTo>
                    <a:pt x="97" y="297"/>
                  </a:lnTo>
                  <a:lnTo>
                    <a:pt x="89" y="288"/>
                  </a:lnTo>
                  <a:lnTo>
                    <a:pt x="83" y="280"/>
                  </a:lnTo>
                  <a:lnTo>
                    <a:pt x="77" y="271"/>
                  </a:lnTo>
                  <a:lnTo>
                    <a:pt x="71" y="262"/>
                  </a:lnTo>
                  <a:lnTo>
                    <a:pt x="69" y="254"/>
                  </a:lnTo>
                  <a:lnTo>
                    <a:pt x="69" y="242"/>
                  </a:lnTo>
                  <a:lnTo>
                    <a:pt x="69" y="234"/>
                  </a:lnTo>
                  <a:lnTo>
                    <a:pt x="69" y="225"/>
                  </a:lnTo>
                  <a:lnTo>
                    <a:pt x="69" y="217"/>
                  </a:lnTo>
                  <a:lnTo>
                    <a:pt x="69" y="208"/>
                  </a:lnTo>
                  <a:lnTo>
                    <a:pt x="69" y="200"/>
                  </a:lnTo>
                  <a:lnTo>
                    <a:pt x="69" y="191"/>
                  </a:lnTo>
                  <a:lnTo>
                    <a:pt x="69" y="182"/>
                  </a:lnTo>
                  <a:lnTo>
                    <a:pt x="77" y="174"/>
                  </a:lnTo>
                  <a:lnTo>
                    <a:pt x="86" y="168"/>
                  </a:lnTo>
                  <a:lnTo>
                    <a:pt x="92" y="160"/>
                  </a:lnTo>
                  <a:lnTo>
                    <a:pt x="97" y="151"/>
                  </a:lnTo>
                  <a:lnTo>
                    <a:pt x="103" y="142"/>
                  </a:lnTo>
                  <a:lnTo>
                    <a:pt x="103" y="134"/>
                  </a:lnTo>
                  <a:lnTo>
                    <a:pt x="103" y="125"/>
                  </a:lnTo>
                  <a:lnTo>
                    <a:pt x="112" y="122"/>
                  </a:lnTo>
                  <a:lnTo>
                    <a:pt x="120" y="117"/>
                  </a:lnTo>
                  <a:lnTo>
                    <a:pt x="123" y="105"/>
                  </a:lnTo>
                  <a:lnTo>
                    <a:pt x="132" y="100"/>
                  </a:lnTo>
                  <a:lnTo>
                    <a:pt x="135" y="91"/>
                  </a:lnTo>
                  <a:lnTo>
                    <a:pt x="143" y="82"/>
                  </a:lnTo>
                  <a:lnTo>
                    <a:pt x="152" y="77"/>
                  </a:lnTo>
                  <a:lnTo>
                    <a:pt x="158" y="68"/>
                  </a:lnTo>
                  <a:lnTo>
                    <a:pt x="166" y="65"/>
                  </a:lnTo>
                  <a:lnTo>
                    <a:pt x="175" y="60"/>
                  </a:lnTo>
                  <a:lnTo>
                    <a:pt x="184" y="57"/>
                  </a:lnTo>
                  <a:lnTo>
                    <a:pt x="189" y="48"/>
                  </a:lnTo>
                  <a:lnTo>
                    <a:pt x="198" y="42"/>
                  </a:lnTo>
                  <a:lnTo>
                    <a:pt x="207" y="37"/>
                  </a:lnTo>
                  <a:lnTo>
                    <a:pt x="210" y="28"/>
                  </a:lnTo>
                  <a:lnTo>
                    <a:pt x="213" y="20"/>
                  </a:lnTo>
                  <a:lnTo>
                    <a:pt x="213" y="11"/>
                  </a:lnTo>
                  <a:lnTo>
                    <a:pt x="210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5" y="8"/>
                  </a:lnTo>
                  <a:lnTo>
                    <a:pt x="175" y="17"/>
                  </a:lnTo>
                  <a:lnTo>
                    <a:pt x="166" y="20"/>
                  </a:lnTo>
                  <a:lnTo>
                    <a:pt x="158" y="25"/>
                  </a:lnTo>
                  <a:lnTo>
                    <a:pt x="149" y="34"/>
                  </a:lnTo>
                  <a:lnTo>
                    <a:pt x="141" y="40"/>
                  </a:lnTo>
                  <a:lnTo>
                    <a:pt x="132" y="42"/>
                  </a:lnTo>
                  <a:lnTo>
                    <a:pt x="123" y="42"/>
                  </a:lnTo>
                  <a:lnTo>
                    <a:pt x="123" y="54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7" y="68"/>
                  </a:lnTo>
                  <a:lnTo>
                    <a:pt x="89" y="77"/>
                  </a:lnTo>
                  <a:lnTo>
                    <a:pt x="83" y="85"/>
                  </a:lnTo>
                  <a:lnTo>
                    <a:pt x="80" y="94"/>
                  </a:lnTo>
                  <a:lnTo>
                    <a:pt x="71" y="100"/>
                  </a:lnTo>
                  <a:lnTo>
                    <a:pt x="66" y="108"/>
                  </a:lnTo>
                  <a:lnTo>
                    <a:pt x="63" y="117"/>
                  </a:lnTo>
                  <a:lnTo>
                    <a:pt x="63" y="125"/>
                  </a:lnTo>
                  <a:lnTo>
                    <a:pt x="57" y="134"/>
                  </a:lnTo>
                  <a:lnTo>
                    <a:pt x="51" y="142"/>
                  </a:lnTo>
                  <a:lnTo>
                    <a:pt x="46" y="151"/>
                  </a:lnTo>
                  <a:lnTo>
                    <a:pt x="40" y="162"/>
                  </a:lnTo>
                  <a:lnTo>
                    <a:pt x="37" y="171"/>
                  </a:lnTo>
                  <a:lnTo>
                    <a:pt x="46" y="177"/>
                  </a:lnTo>
                  <a:lnTo>
                    <a:pt x="54" y="180"/>
                  </a:lnTo>
                  <a:lnTo>
                    <a:pt x="57" y="188"/>
                  </a:lnTo>
                  <a:lnTo>
                    <a:pt x="48" y="185"/>
                  </a:lnTo>
                  <a:lnTo>
                    <a:pt x="40" y="185"/>
                  </a:lnTo>
                  <a:lnTo>
                    <a:pt x="31" y="188"/>
                  </a:lnTo>
                  <a:lnTo>
                    <a:pt x="23" y="200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23" y="237"/>
                  </a:lnTo>
                  <a:lnTo>
                    <a:pt x="14" y="242"/>
                  </a:lnTo>
                  <a:lnTo>
                    <a:pt x="8" y="251"/>
                  </a:lnTo>
                  <a:lnTo>
                    <a:pt x="0" y="260"/>
                  </a:lnTo>
                  <a:lnTo>
                    <a:pt x="23" y="2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71720" y="444168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49" y="47"/>
                  </a:moveTo>
                  <a:lnTo>
                    <a:pt x="44" y="58"/>
                  </a:lnTo>
                  <a:lnTo>
                    <a:pt x="35" y="58"/>
                  </a:lnTo>
                  <a:lnTo>
                    <a:pt x="30" y="66"/>
                  </a:lnTo>
                  <a:lnTo>
                    <a:pt x="30" y="75"/>
                  </a:lnTo>
                  <a:lnTo>
                    <a:pt x="30" y="83"/>
                  </a:lnTo>
                  <a:lnTo>
                    <a:pt x="30" y="91"/>
                  </a:lnTo>
                  <a:lnTo>
                    <a:pt x="22" y="94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8" y="139"/>
                  </a:lnTo>
                  <a:lnTo>
                    <a:pt x="16" y="139"/>
                  </a:lnTo>
                  <a:lnTo>
                    <a:pt x="27" y="147"/>
                  </a:lnTo>
                  <a:lnTo>
                    <a:pt x="33" y="156"/>
                  </a:lnTo>
                  <a:lnTo>
                    <a:pt x="41" y="156"/>
                  </a:lnTo>
                  <a:lnTo>
                    <a:pt x="46" y="147"/>
                  </a:lnTo>
                  <a:lnTo>
                    <a:pt x="52" y="139"/>
                  </a:lnTo>
                  <a:lnTo>
                    <a:pt x="55" y="130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71" y="108"/>
                  </a:lnTo>
                  <a:lnTo>
                    <a:pt x="80" y="108"/>
                  </a:lnTo>
                  <a:lnTo>
                    <a:pt x="82" y="100"/>
                  </a:lnTo>
                  <a:lnTo>
                    <a:pt x="82" y="91"/>
                  </a:lnTo>
                  <a:lnTo>
                    <a:pt x="82" y="83"/>
                  </a:lnTo>
                  <a:lnTo>
                    <a:pt x="82" y="75"/>
                  </a:lnTo>
                  <a:lnTo>
                    <a:pt x="82" y="66"/>
                  </a:lnTo>
                  <a:lnTo>
                    <a:pt x="85" y="58"/>
                  </a:lnTo>
                  <a:lnTo>
                    <a:pt x="93" y="52"/>
                  </a:lnTo>
                  <a:lnTo>
                    <a:pt x="102" y="47"/>
                  </a:lnTo>
                  <a:lnTo>
                    <a:pt x="107" y="39"/>
                  </a:lnTo>
                  <a:lnTo>
                    <a:pt x="115" y="36"/>
                  </a:lnTo>
                  <a:lnTo>
                    <a:pt x="121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38" y="5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8" y="11"/>
                  </a:lnTo>
                  <a:lnTo>
                    <a:pt x="82" y="19"/>
                  </a:lnTo>
                  <a:lnTo>
                    <a:pt x="80" y="27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69" y="61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49" y="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0800" y="524844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1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6" y="21"/>
                  </a:lnTo>
                  <a:lnTo>
                    <a:pt x="23" y="27"/>
                  </a:lnTo>
                  <a:lnTo>
                    <a:pt x="18" y="18"/>
                  </a:lnTo>
                  <a:lnTo>
                    <a:pt x="13" y="9"/>
                  </a:lnTo>
                  <a:lnTo>
                    <a:pt x="6" y="21"/>
                  </a:lnTo>
                  <a:lnTo>
                    <a:pt x="9" y="6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57400" y="5361120"/>
              <a:ext cx="27000" cy="72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6" y="0"/>
                  </a:moveTo>
                  <a:lnTo>
                    <a:pt x="5" y="19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0" y="28"/>
                  </a:lnTo>
                  <a:lnTo>
                    <a:pt x="16" y="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52480" y="4357800"/>
              <a:ext cx="88920" cy="73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0"/>
                  </a:moveTo>
                  <a:lnTo>
                    <a:pt x="20" y="19"/>
                  </a:lnTo>
                  <a:lnTo>
                    <a:pt x="20" y="28"/>
                  </a:lnTo>
                  <a:lnTo>
                    <a:pt x="28" y="33"/>
                  </a:lnTo>
                  <a:lnTo>
                    <a:pt x="28" y="42"/>
                  </a:lnTo>
                  <a:lnTo>
                    <a:pt x="37" y="45"/>
                  </a:lnTo>
                  <a:lnTo>
                    <a:pt x="46" y="45"/>
                  </a:lnTo>
                  <a:lnTo>
                    <a:pt x="49" y="36"/>
                  </a:lnTo>
                  <a:lnTo>
                    <a:pt x="55" y="28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26" y="16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228600" y="6137280"/>
              <a:ext cx="611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993600" y="6272280"/>
              <a:ext cx="47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HO European Centre for Environment and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72040" y="743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0"/>
                  </a:moveTo>
                  <a:lnTo>
                    <a:pt x="8" y="8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5" y="37"/>
                  </a:lnTo>
                  <a:lnTo>
                    <a:pt x="11" y="46"/>
                  </a:lnTo>
                  <a:lnTo>
                    <a:pt x="19" y="49"/>
                  </a:lnTo>
                  <a:lnTo>
                    <a:pt x="31" y="52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7" y="55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31" y="14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97360" y="4836960"/>
              <a:ext cx="788760" cy="408240"/>
            </a:xfrm>
            <a:custGeom>
              <a:avLst/>
              <a:gdLst/>
              <a:ahLst/>
              <a:rect l="l" t="t" r="r" b="b"/>
              <a:pathLst>
                <a:path w="497" h="257">
                  <a:moveTo>
                    <a:pt x="0" y="193"/>
                  </a:moveTo>
                  <a:lnTo>
                    <a:pt x="24" y="189"/>
                  </a:lnTo>
                  <a:lnTo>
                    <a:pt x="32" y="182"/>
                  </a:lnTo>
                  <a:lnTo>
                    <a:pt x="40" y="174"/>
                  </a:lnTo>
                  <a:lnTo>
                    <a:pt x="46" y="164"/>
                  </a:lnTo>
                  <a:lnTo>
                    <a:pt x="45" y="155"/>
                  </a:lnTo>
                  <a:lnTo>
                    <a:pt x="52" y="149"/>
                  </a:lnTo>
                  <a:lnTo>
                    <a:pt x="60" y="140"/>
                  </a:lnTo>
                  <a:lnTo>
                    <a:pt x="66" y="131"/>
                  </a:lnTo>
                  <a:lnTo>
                    <a:pt x="69" y="123"/>
                  </a:lnTo>
                  <a:lnTo>
                    <a:pt x="74" y="114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7" y="95"/>
                  </a:lnTo>
                  <a:lnTo>
                    <a:pt x="104" y="88"/>
                  </a:lnTo>
                  <a:lnTo>
                    <a:pt x="109" y="78"/>
                  </a:lnTo>
                  <a:lnTo>
                    <a:pt x="116" y="70"/>
                  </a:lnTo>
                  <a:lnTo>
                    <a:pt x="118" y="60"/>
                  </a:lnTo>
                  <a:lnTo>
                    <a:pt x="128" y="53"/>
                  </a:lnTo>
                  <a:lnTo>
                    <a:pt x="131" y="44"/>
                  </a:lnTo>
                  <a:lnTo>
                    <a:pt x="137" y="37"/>
                  </a:lnTo>
                  <a:lnTo>
                    <a:pt x="144" y="30"/>
                  </a:lnTo>
                  <a:lnTo>
                    <a:pt x="153" y="22"/>
                  </a:lnTo>
                  <a:lnTo>
                    <a:pt x="159" y="15"/>
                  </a:lnTo>
                  <a:lnTo>
                    <a:pt x="168" y="10"/>
                  </a:lnTo>
                  <a:lnTo>
                    <a:pt x="175" y="6"/>
                  </a:lnTo>
                  <a:lnTo>
                    <a:pt x="187" y="6"/>
                  </a:lnTo>
                  <a:lnTo>
                    <a:pt x="193" y="0"/>
                  </a:lnTo>
                  <a:lnTo>
                    <a:pt x="202" y="7"/>
                  </a:lnTo>
                  <a:lnTo>
                    <a:pt x="215" y="15"/>
                  </a:lnTo>
                  <a:lnTo>
                    <a:pt x="207" y="14"/>
                  </a:lnTo>
                  <a:lnTo>
                    <a:pt x="205" y="22"/>
                  </a:lnTo>
                  <a:lnTo>
                    <a:pt x="205" y="31"/>
                  </a:lnTo>
                  <a:lnTo>
                    <a:pt x="215" y="34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40" y="33"/>
                  </a:lnTo>
                  <a:lnTo>
                    <a:pt x="243" y="40"/>
                  </a:lnTo>
                  <a:lnTo>
                    <a:pt x="236" y="45"/>
                  </a:lnTo>
                  <a:lnTo>
                    <a:pt x="228" y="49"/>
                  </a:lnTo>
                  <a:lnTo>
                    <a:pt x="220" y="55"/>
                  </a:lnTo>
                  <a:lnTo>
                    <a:pt x="213" y="62"/>
                  </a:lnTo>
                  <a:lnTo>
                    <a:pt x="222" y="64"/>
                  </a:lnTo>
                  <a:lnTo>
                    <a:pt x="226" y="71"/>
                  </a:lnTo>
                  <a:lnTo>
                    <a:pt x="229" y="78"/>
                  </a:lnTo>
                  <a:lnTo>
                    <a:pt x="232" y="84"/>
                  </a:lnTo>
                  <a:lnTo>
                    <a:pt x="232" y="94"/>
                  </a:lnTo>
                  <a:lnTo>
                    <a:pt x="230" y="103"/>
                  </a:lnTo>
                  <a:lnTo>
                    <a:pt x="239" y="163"/>
                  </a:lnTo>
                  <a:lnTo>
                    <a:pt x="190" y="125"/>
                  </a:lnTo>
                  <a:lnTo>
                    <a:pt x="236" y="116"/>
                  </a:lnTo>
                  <a:lnTo>
                    <a:pt x="246" y="110"/>
                  </a:lnTo>
                  <a:lnTo>
                    <a:pt x="251" y="105"/>
                  </a:lnTo>
                  <a:lnTo>
                    <a:pt x="259" y="94"/>
                  </a:lnTo>
                  <a:lnTo>
                    <a:pt x="270" y="93"/>
                  </a:lnTo>
                  <a:lnTo>
                    <a:pt x="277" y="90"/>
                  </a:lnTo>
                  <a:lnTo>
                    <a:pt x="288" y="86"/>
                  </a:lnTo>
                  <a:lnTo>
                    <a:pt x="295" y="83"/>
                  </a:lnTo>
                  <a:lnTo>
                    <a:pt x="303" y="74"/>
                  </a:lnTo>
                  <a:lnTo>
                    <a:pt x="313" y="75"/>
                  </a:lnTo>
                  <a:lnTo>
                    <a:pt x="320" y="80"/>
                  </a:lnTo>
                  <a:lnTo>
                    <a:pt x="329" y="76"/>
                  </a:lnTo>
                  <a:lnTo>
                    <a:pt x="338" y="74"/>
                  </a:lnTo>
                  <a:lnTo>
                    <a:pt x="345" y="78"/>
                  </a:lnTo>
                  <a:lnTo>
                    <a:pt x="351" y="86"/>
                  </a:lnTo>
                  <a:lnTo>
                    <a:pt x="357" y="92"/>
                  </a:lnTo>
                  <a:lnTo>
                    <a:pt x="365" y="90"/>
                  </a:lnTo>
                  <a:lnTo>
                    <a:pt x="379" y="94"/>
                  </a:lnTo>
                  <a:lnTo>
                    <a:pt x="385" y="99"/>
                  </a:lnTo>
                  <a:lnTo>
                    <a:pt x="394" y="102"/>
                  </a:lnTo>
                  <a:lnTo>
                    <a:pt x="403" y="107"/>
                  </a:lnTo>
                  <a:lnTo>
                    <a:pt x="405" y="115"/>
                  </a:lnTo>
                  <a:lnTo>
                    <a:pt x="413" y="121"/>
                  </a:lnTo>
                  <a:lnTo>
                    <a:pt x="423" y="125"/>
                  </a:lnTo>
                  <a:lnTo>
                    <a:pt x="431" y="128"/>
                  </a:lnTo>
                  <a:lnTo>
                    <a:pt x="440" y="132"/>
                  </a:lnTo>
                  <a:lnTo>
                    <a:pt x="455" y="137"/>
                  </a:lnTo>
                  <a:lnTo>
                    <a:pt x="468" y="141"/>
                  </a:lnTo>
                  <a:lnTo>
                    <a:pt x="473" y="148"/>
                  </a:lnTo>
                  <a:lnTo>
                    <a:pt x="480" y="154"/>
                  </a:lnTo>
                  <a:lnTo>
                    <a:pt x="485" y="161"/>
                  </a:lnTo>
                  <a:lnTo>
                    <a:pt x="488" y="172"/>
                  </a:lnTo>
                  <a:lnTo>
                    <a:pt x="492" y="178"/>
                  </a:lnTo>
                  <a:lnTo>
                    <a:pt x="493" y="187"/>
                  </a:lnTo>
                  <a:lnTo>
                    <a:pt x="494" y="195"/>
                  </a:lnTo>
                  <a:lnTo>
                    <a:pt x="496" y="201"/>
                  </a:lnTo>
                  <a:lnTo>
                    <a:pt x="491" y="213"/>
                  </a:lnTo>
                  <a:lnTo>
                    <a:pt x="480" y="217"/>
                  </a:lnTo>
                  <a:lnTo>
                    <a:pt x="474" y="222"/>
                  </a:lnTo>
                  <a:lnTo>
                    <a:pt x="466" y="228"/>
                  </a:lnTo>
                  <a:lnTo>
                    <a:pt x="458" y="234"/>
                  </a:lnTo>
                  <a:lnTo>
                    <a:pt x="448" y="238"/>
                  </a:lnTo>
                  <a:lnTo>
                    <a:pt x="439" y="240"/>
                  </a:lnTo>
                  <a:lnTo>
                    <a:pt x="430" y="244"/>
                  </a:lnTo>
                  <a:lnTo>
                    <a:pt x="422" y="248"/>
                  </a:lnTo>
                  <a:lnTo>
                    <a:pt x="414" y="240"/>
                  </a:lnTo>
                  <a:lnTo>
                    <a:pt x="405" y="242"/>
                  </a:lnTo>
                  <a:lnTo>
                    <a:pt x="395" y="241"/>
                  </a:lnTo>
                  <a:lnTo>
                    <a:pt x="387" y="244"/>
                  </a:lnTo>
                  <a:lnTo>
                    <a:pt x="380" y="248"/>
                  </a:lnTo>
                  <a:lnTo>
                    <a:pt x="372" y="250"/>
                  </a:lnTo>
                  <a:lnTo>
                    <a:pt x="363" y="252"/>
                  </a:lnTo>
                  <a:lnTo>
                    <a:pt x="357" y="256"/>
                  </a:lnTo>
                  <a:lnTo>
                    <a:pt x="350" y="247"/>
                  </a:lnTo>
                  <a:lnTo>
                    <a:pt x="349" y="240"/>
                  </a:lnTo>
                  <a:lnTo>
                    <a:pt x="340" y="243"/>
                  </a:lnTo>
                  <a:lnTo>
                    <a:pt x="333" y="246"/>
                  </a:lnTo>
                  <a:lnTo>
                    <a:pt x="324" y="248"/>
                  </a:lnTo>
                  <a:lnTo>
                    <a:pt x="315" y="247"/>
                  </a:lnTo>
                  <a:lnTo>
                    <a:pt x="315" y="240"/>
                  </a:lnTo>
                  <a:lnTo>
                    <a:pt x="313" y="233"/>
                  </a:lnTo>
                  <a:lnTo>
                    <a:pt x="310" y="225"/>
                  </a:lnTo>
                  <a:lnTo>
                    <a:pt x="297" y="227"/>
                  </a:lnTo>
                  <a:lnTo>
                    <a:pt x="288" y="227"/>
                  </a:lnTo>
                  <a:lnTo>
                    <a:pt x="281" y="221"/>
                  </a:lnTo>
                  <a:lnTo>
                    <a:pt x="277" y="215"/>
                  </a:lnTo>
                  <a:lnTo>
                    <a:pt x="267" y="213"/>
                  </a:lnTo>
                  <a:lnTo>
                    <a:pt x="226" y="177"/>
                  </a:lnTo>
                  <a:lnTo>
                    <a:pt x="245" y="217"/>
                  </a:lnTo>
                  <a:lnTo>
                    <a:pt x="236" y="217"/>
                  </a:lnTo>
                  <a:lnTo>
                    <a:pt x="227" y="213"/>
                  </a:lnTo>
                  <a:lnTo>
                    <a:pt x="219" y="211"/>
                  </a:lnTo>
                  <a:lnTo>
                    <a:pt x="209" y="209"/>
                  </a:lnTo>
                  <a:lnTo>
                    <a:pt x="200" y="210"/>
                  </a:lnTo>
                  <a:lnTo>
                    <a:pt x="191" y="215"/>
                  </a:lnTo>
                  <a:lnTo>
                    <a:pt x="184" y="218"/>
                  </a:lnTo>
                  <a:lnTo>
                    <a:pt x="176" y="219"/>
                  </a:lnTo>
                  <a:lnTo>
                    <a:pt x="166" y="223"/>
                  </a:lnTo>
                  <a:lnTo>
                    <a:pt x="158" y="230"/>
                  </a:lnTo>
                  <a:lnTo>
                    <a:pt x="150" y="234"/>
                  </a:lnTo>
                  <a:lnTo>
                    <a:pt x="139" y="242"/>
                  </a:lnTo>
                  <a:lnTo>
                    <a:pt x="133" y="247"/>
                  </a:lnTo>
                  <a:lnTo>
                    <a:pt x="122" y="248"/>
                  </a:lnTo>
                  <a:lnTo>
                    <a:pt x="111" y="253"/>
                  </a:lnTo>
                  <a:lnTo>
                    <a:pt x="102" y="252"/>
                  </a:lnTo>
                  <a:lnTo>
                    <a:pt x="91" y="247"/>
                  </a:lnTo>
                  <a:lnTo>
                    <a:pt x="82" y="245"/>
                  </a:lnTo>
                  <a:lnTo>
                    <a:pt x="74" y="244"/>
                  </a:lnTo>
                  <a:lnTo>
                    <a:pt x="63" y="244"/>
                  </a:lnTo>
                  <a:lnTo>
                    <a:pt x="49" y="244"/>
                  </a:lnTo>
                  <a:lnTo>
                    <a:pt x="43" y="238"/>
                  </a:lnTo>
                  <a:lnTo>
                    <a:pt x="36" y="232"/>
                  </a:lnTo>
                  <a:lnTo>
                    <a:pt x="36" y="221"/>
                  </a:lnTo>
                  <a:lnTo>
                    <a:pt x="32" y="217"/>
                  </a:lnTo>
                  <a:lnTo>
                    <a:pt x="26" y="209"/>
                  </a:lnTo>
                  <a:lnTo>
                    <a:pt x="22" y="204"/>
                  </a:lnTo>
                  <a:lnTo>
                    <a:pt x="18" y="197"/>
                  </a:lnTo>
                  <a:lnTo>
                    <a:pt x="0" y="193"/>
                  </a:lnTo>
                  <a:lnTo>
                    <a:pt x="14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762120" y="3087720"/>
            <a:ext cx="790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96640" y="990720"/>
            <a:ext cx="660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Questions in interpretation of stud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 short-term impacts of P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2286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hysiopathological mechanism of effec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32004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tent of displacement of time of health effect?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41911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rves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d8a"/>
            </a:gs>
            <a:gs pos="50000">
              <a:srgbClr val="0f219b"/>
            </a:gs>
            <a:gs pos="100000">
              <a:srgbClr val="0d1d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557280"/>
            <a:ext cx="8120160" cy="6118200"/>
            <a:chOff x="228600" y="557280"/>
            <a:chExt cx="8120160" cy="6118200"/>
          </a:xfrm>
        </p:grpSpPr>
        <p:sp>
          <p:nvSpPr>
            <p:cNvPr id="213" name=""/>
            <p:cNvSpPr/>
            <p:nvPr/>
          </p:nvSpPr>
          <p:spPr>
            <a:xfrm>
              <a:off x="2662200" y="20638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2" y="77"/>
                  </a:moveTo>
                  <a:lnTo>
                    <a:pt x="2" y="91"/>
                  </a:lnTo>
                  <a:lnTo>
                    <a:pt x="2" y="99"/>
                  </a:lnTo>
                  <a:lnTo>
                    <a:pt x="2" y="108"/>
                  </a:lnTo>
                  <a:lnTo>
                    <a:pt x="2" y="116"/>
                  </a:lnTo>
                  <a:lnTo>
                    <a:pt x="2" y="125"/>
                  </a:lnTo>
                  <a:lnTo>
                    <a:pt x="2" y="134"/>
                  </a:lnTo>
                  <a:lnTo>
                    <a:pt x="0" y="142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8" y="171"/>
                  </a:lnTo>
                  <a:lnTo>
                    <a:pt x="17" y="165"/>
                  </a:lnTo>
                  <a:lnTo>
                    <a:pt x="25" y="174"/>
                  </a:lnTo>
                  <a:lnTo>
                    <a:pt x="31" y="182"/>
                  </a:lnTo>
                  <a:lnTo>
                    <a:pt x="40" y="182"/>
                  </a:lnTo>
                  <a:lnTo>
                    <a:pt x="48" y="182"/>
                  </a:lnTo>
                  <a:lnTo>
                    <a:pt x="60" y="191"/>
                  </a:lnTo>
                  <a:lnTo>
                    <a:pt x="71" y="196"/>
                  </a:lnTo>
                  <a:lnTo>
                    <a:pt x="71" y="205"/>
                  </a:lnTo>
                  <a:lnTo>
                    <a:pt x="74" y="214"/>
                  </a:lnTo>
                  <a:lnTo>
                    <a:pt x="83" y="214"/>
                  </a:lnTo>
                  <a:lnTo>
                    <a:pt x="91" y="214"/>
                  </a:lnTo>
                  <a:lnTo>
                    <a:pt x="100" y="214"/>
                  </a:lnTo>
                  <a:lnTo>
                    <a:pt x="109" y="214"/>
                  </a:lnTo>
                  <a:lnTo>
                    <a:pt x="117" y="214"/>
                  </a:lnTo>
                  <a:lnTo>
                    <a:pt x="126" y="214"/>
                  </a:lnTo>
                  <a:lnTo>
                    <a:pt x="137" y="208"/>
                  </a:lnTo>
                  <a:lnTo>
                    <a:pt x="149" y="202"/>
                  </a:lnTo>
                  <a:lnTo>
                    <a:pt x="149" y="194"/>
                  </a:lnTo>
                  <a:lnTo>
                    <a:pt x="146" y="185"/>
                  </a:lnTo>
                  <a:lnTo>
                    <a:pt x="146" y="176"/>
                  </a:lnTo>
                  <a:lnTo>
                    <a:pt x="155" y="168"/>
                  </a:lnTo>
                  <a:lnTo>
                    <a:pt x="158" y="159"/>
                  </a:lnTo>
                  <a:lnTo>
                    <a:pt x="158" y="151"/>
                  </a:lnTo>
                  <a:lnTo>
                    <a:pt x="155" y="142"/>
                  </a:lnTo>
                  <a:lnTo>
                    <a:pt x="155" y="134"/>
                  </a:lnTo>
                  <a:lnTo>
                    <a:pt x="146" y="134"/>
                  </a:lnTo>
                  <a:lnTo>
                    <a:pt x="137" y="134"/>
                  </a:lnTo>
                  <a:lnTo>
                    <a:pt x="135" y="125"/>
                  </a:lnTo>
                  <a:lnTo>
                    <a:pt x="129" y="116"/>
                  </a:lnTo>
                  <a:lnTo>
                    <a:pt x="120" y="114"/>
                  </a:lnTo>
                  <a:lnTo>
                    <a:pt x="114" y="105"/>
                  </a:lnTo>
                  <a:lnTo>
                    <a:pt x="114" y="97"/>
                  </a:lnTo>
                  <a:lnTo>
                    <a:pt x="106" y="94"/>
                  </a:lnTo>
                  <a:lnTo>
                    <a:pt x="97" y="94"/>
                  </a:lnTo>
                  <a:lnTo>
                    <a:pt x="97" y="85"/>
                  </a:lnTo>
                  <a:lnTo>
                    <a:pt x="100" y="77"/>
                  </a:lnTo>
                  <a:lnTo>
                    <a:pt x="89" y="71"/>
                  </a:lnTo>
                  <a:lnTo>
                    <a:pt x="80" y="68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83" y="45"/>
                  </a:lnTo>
                  <a:lnTo>
                    <a:pt x="94" y="45"/>
                  </a:lnTo>
                  <a:lnTo>
                    <a:pt x="103" y="39"/>
                  </a:lnTo>
                  <a:lnTo>
                    <a:pt x="106" y="31"/>
                  </a:lnTo>
                  <a:lnTo>
                    <a:pt x="103" y="22"/>
                  </a:lnTo>
                  <a:lnTo>
                    <a:pt x="94" y="22"/>
                  </a:lnTo>
                  <a:lnTo>
                    <a:pt x="86" y="14"/>
                  </a:lnTo>
                  <a:lnTo>
                    <a:pt x="77" y="11"/>
                  </a:lnTo>
                  <a:lnTo>
                    <a:pt x="68" y="11"/>
                  </a:lnTo>
                  <a:lnTo>
                    <a:pt x="54" y="0"/>
                  </a:lnTo>
                  <a:lnTo>
                    <a:pt x="51" y="8"/>
                  </a:lnTo>
                  <a:lnTo>
                    <a:pt x="60" y="14"/>
                  </a:lnTo>
                  <a:lnTo>
                    <a:pt x="63" y="22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7" y="45"/>
                  </a:lnTo>
                  <a:lnTo>
                    <a:pt x="45" y="45"/>
                  </a:lnTo>
                  <a:lnTo>
                    <a:pt x="40" y="37"/>
                  </a:lnTo>
                  <a:lnTo>
                    <a:pt x="34" y="28"/>
                  </a:lnTo>
                  <a:lnTo>
                    <a:pt x="31" y="37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5" y="62"/>
                  </a:lnTo>
                  <a:lnTo>
                    <a:pt x="17" y="68"/>
                  </a:lnTo>
                  <a:lnTo>
                    <a:pt x="2" y="77"/>
                  </a:lnTo>
                  <a:lnTo>
                    <a:pt x="2" y="7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85760" y="557280"/>
              <a:ext cx="6975720" cy="5226120"/>
            </a:xfrm>
            <a:custGeom>
              <a:avLst/>
              <a:gdLst/>
              <a:ahLst/>
              <a:rect l="l" t="t" r="r" b="b"/>
              <a:pathLst>
                <a:path w="4394" h="3292">
                  <a:moveTo>
                    <a:pt x="4183" y="665"/>
                  </a:moveTo>
                  <a:lnTo>
                    <a:pt x="4174" y="685"/>
                  </a:lnTo>
                  <a:lnTo>
                    <a:pt x="4165" y="680"/>
                  </a:lnTo>
                  <a:lnTo>
                    <a:pt x="4154" y="671"/>
                  </a:lnTo>
                  <a:lnTo>
                    <a:pt x="4145" y="665"/>
                  </a:lnTo>
                  <a:lnTo>
                    <a:pt x="4136" y="657"/>
                  </a:lnTo>
                  <a:lnTo>
                    <a:pt x="4128" y="648"/>
                  </a:lnTo>
                  <a:lnTo>
                    <a:pt x="4122" y="639"/>
                  </a:lnTo>
                  <a:lnTo>
                    <a:pt x="4110" y="631"/>
                  </a:lnTo>
                  <a:lnTo>
                    <a:pt x="4104" y="622"/>
                  </a:lnTo>
                  <a:lnTo>
                    <a:pt x="4098" y="613"/>
                  </a:lnTo>
                  <a:lnTo>
                    <a:pt x="4093" y="605"/>
                  </a:lnTo>
                  <a:lnTo>
                    <a:pt x="4084" y="596"/>
                  </a:lnTo>
                  <a:lnTo>
                    <a:pt x="4075" y="593"/>
                  </a:lnTo>
                  <a:lnTo>
                    <a:pt x="4066" y="590"/>
                  </a:lnTo>
                  <a:lnTo>
                    <a:pt x="4058" y="587"/>
                  </a:lnTo>
                  <a:lnTo>
                    <a:pt x="4049" y="585"/>
                  </a:lnTo>
                  <a:lnTo>
                    <a:pt x="4037" y="585"/>
                  </a:lnTo>
                  <a:lnTo>
                    <a:pt x="4029" y="582"/>
                  </a:lnTo>
                  <a:lnTo>
                    <a:pt x="4023" y="573"/>
                  </a:lnTo>
                  <a:lnTo>
                    <a:pt x="4020" y="564"/>
                  </a:lnTo>
                  <a:lnTo>
                    <a:pt x="4011" y="556"/>
                  </a:lnTo>
                  <a:lnTo>
                    <a:pt x="4002" y="550"/>
                  </a:lnTo>
                  <a:lnTo>
                    <a:pt x="4002" y="541"/>
                  </a:lnTo>
                  <a:lnTo>
                    <a:pt x="3994" y="538"/>
                  </a:lnTo>
                  <a:lnTo>
                    <a:pt x="3982" y="538"/>
                  </a:lnTo>
                  <a:lnTo>
                    <a:pt x="3973" y="538"/>
                  </a:lnTo>
                  <a:lnTo>
                    <a:pt x="3965" y="538"/>
                  </a:lnTo>
                  <a:lnTo>
                    <a:pt x="3953" y="538"/>
                  </a:lnTo>
                  <a:lnTo>
                    <a:pt x="3947" y="530"/>
                  </a:lnTo>
                  <a:lnTo>
                    <a:pt x="3947" y="521"/>
                  </a:lnTo>
                  <a:lnTo>
                    <a:pt x="3938" y="512"/>
                  </a:lnTo>
                  <a:lnTo>
                    <a:pt x="3930" y="504"/>
                  </a:lnTo>
                  <a:lnTo>
                    <a:pt x="3930" y="495"/>
                  </a:lnTo>
                  <a:lnTo>
                    <a:pt x="3927" y="484"/>
                  </a:lnTo>
                  <a:lnTo>
                    <a:pt x="3918" y="481"/>
                  </a:lnTo>
                  <a:lnTo>
                    <a:pt x="3909" y="481"/>
                  </a:lnTo>
                  <a:lnTo>
                    <a:pt x="3901" y="481"/>
                  </a:lnTo>
                  <a:lnTo>
                    <a:pt x="3892" y="481"/>
                  </a:lnTo>
                  <a:lnTo>
                    <a:pt x="3883" y="481"/>
                  </a:lnTo>
                  <a:lnTo>
                    <a:pt x="3871" y="481"/>
                  </a:lnTo>
                  <a:lnTo>
                    <a:pt x="3863" y="481"/>
                  </a:lnTo>
                  <a:lnTo>
                    <a:pt x="3851" y="478"/>
                  </a:lnTo>
                  <a:lnTo>
                    <a:pt x="3842" y="472"/>
                  </a:lnTo>
                  <a:lnTo>
                    <a:pt x="3842" y="463"/>
                  </a:lnTo>
                  <a:lnTo>
                    <a:pt x="3842" y="455"/>
                  </a:lnTo>
                  <a:lnTo>
                    <a:pt x="3834" y="446"/>
                  </a:lnTo>
                  <a:lnTo>
                    <a:pt x="3825" y="446"/>
                  </a:lnTo>
                  <a:lnTo>
                    <a:pt x="3819" y="455"/>
                  </a:lnTo>
                  <a:lnTo>
                    <a:pt x="3810" y="458"/>
                  </a:lnTo>
                  <a:lnTo>
                    <a:pt x="3802" y="461"/>
                  </a:lnTo>
                  <a:lnTo>
                    <a:pt x="3793" y="461"/>
                  </a:lnTo>
                  <a:lnTo>
                    <a:pt x="3784" y="461"/>
                  </a:lnTo>
                  <a:lnTo>
                    <a:pt x="3775" y="461"/>
                  </a:lnTo>
                  <a:lnTo>
                    <a:pt x="3764" y="455"/>
                  </a:lnTo>
                  <a:lnTo>
                    <a:pt x="3755" y="452"/>
                  </a:lnTo>
                  <a:lnTo>
                    <a:pt x="3752" y="461"/>
                  </a:lnTo>
                  <a:lnTo>
                    <a:pt x="3755" y="469"/>
                  </a:lnTo>
                  <a:lnTo>
                    <a:pt x="3764" y="472"/>
                  </a:lnTo>
                  <a:lnTo>
                    <a:pt x="3755" y="475"/>
                  </a:lnTo>
                  <a:lnTo>
                    <a:pt x="3746" y="475"/>
                  </a:lnTo>
                  <a:lnTo>
                    <a:pt x="3737" y="478"/>
                  </a:lnTo>
                  <a:lnTo>
                    <a:pt x="3729" y="478"/>
                  </a:lnTo>
                  <a:lnTo>
                    <a:pt x="3720" y="478"/>
                  </a:lnTo>
                  <a:lnTo>
                    <a:pt x="3711" y="472"/>
                  </a:lnTo>
                  <a:lnTo>
                    <a:pt x="3703" y="463"/>
                  </a:lnTo>
                  <a:lnTo>
                    <a:pt x="3694" y="455"/>
                  </a:lnTo>
                  <a:lnTo>
                    <a:pt x="3685" y="452"/>
                  </a:lnTo>
                  <a:lnTo>
                    <a:pt x="3676" y="452"/>
                  </a:lnTo>
                  <a:lnTo>
                    <a:pt x="3668" y="449"/>
                  </a:lnTo>
                  <a:lnTo>
                    <a:pt x="3656" y="449"/>
                  </a:lnTo>
                  <a:lnTo>
                    <a:pt x="3647" y="449"/>
                  </a:lnTo>
                  <a:lnTo>
                    <a:pt x="3638" y="449"/>
                  </a:lnTo>
                  <a:lnTo>
                    <a:pt x="3636" y="440"/>
                  </a:lnTo>
                  <a:lnTo>
                    <a:pt x="3636" y="432"/>
                  </a:lnTo>
                  <a:lnTo>
                    <a:pt x="3630" y="423"/>
                  </a:lnTo>
                  <a:lnTo>
                    <a:pt x="3638" y="423"/>
                  </a:lnTo>
                  <a:lnTo>
                    <a:pt x="3636" y="414"/>
                  </a:lnTo>
                  <a:lnTo>
                    <a:pt x="3627" y="412"/>
                  </a:lnTo>
                  <a:lnTo>
                    <a:pt x="3618" y="409"/>
                  </a:lnTo>
                  <a:lnTo>
                    <a:pt x="3615" y="400"/>
                  </a:lnTo>
                  <a:lnTo>
                    <a:pt x="3609" y="391"/>
                  </a:lnTo>
                  <a:lnTo>
                    <a:pt x="3618" y="391"/>
                  </a:lnTo>
                  <a:lnTo>
                    <a:pt x="3627" y="391"/>
                  </a:lnTo>
                  <a:lnTo>
                    <a:pt x="3633" y="383"/>
                  </a:lnTo>
                  <a:lnTo>
                    <a:pt x="3624" y="377"/>
                  </a:lnTo>
                  <a:lnTo>
                    <a:pt x="3615" y="374"/>
                  </a:lnTo>
                  <a:lnTo>
                    <a:pt x="3606" y="363"/>
                  </a:lnTo>
                  <a:lnTo>
                    <a:pt x="3604" y="354"/>
                  </a:lnTo>
                  <a:lnTo>
                    <a:pt x="3598" y="345"/>
                  </a:lnTo>
                  <a:lnTo>
                    <a:pt x="3592" y="337"/>
                  </a:lnTo>
                  <a:lnTo>
                    <a:pt x="3583" y="322"/>
                  </a:lnTo>
                  <a:lnTo>
                    <a:pt x="3577" y="314"/>
                  </a:lnTo>
                  <a:lnTo>
                    <a:pt x="3586" y="305"/>
                  </a:lnTo>
                  <a:lnTo>
                    <a:pt x="3592" y="296"/>
                  </a:lnTo>
                  <a:lnTo>
                    <a:pt x="3595" y="288"/>
                  </a:lnTo>
                  <a:lnTo>
                    <a:pt x="3595" y="279"/>
                  </a:lnTo>
                  <a:lnTo>
                    <a:pt x="3586" y="276"/>
                  </a:lnTo>
                  <a:lnTo>
                    <a:pt x="3577" y="276"/>
                  </a:lnTo>
                  <a:lnTo>
                    <a:pt x="3569" y="276"/>
                  </a:lnTo>
                  <a:lnTo>
                    <a:pt x="3557" y="270"/>
                  </a:lnTo>
                  <a:lnTo>
                    <a:pt x="3548" y="259"/>
                  </a:lnTo>
                  <a:lnTo>
                    <a:pt x="3540" y="253"/>
                  </a:lnTo>
                  <a:lnTo>
                    <a:pt x="3531" y="250"/>
                  </a:lnTo>
                  <a:lnTo>
                    <a:pt x="3522" y="244"/>
                  </a:lnTo>
                  <a:lnTo>
                    <a:pt x="3510" y="236"/>
                  </a:lnTo>
                  <a:lnTo>
                    <a:pt x="3502" y="233"/>
                  </a:lnTo>
                  <a:lnTo>
                    <a:pt x="3493" y="227"/>
                  </a:lnTo>
                  <a:lnTo>
                    <a:pt x="3484" y="224"/>
                  </a:lnTo>
                  <a:lnTo>
                    <a:pt x="3475" y="219"/>
                  </a:lnTo>
                  <a:lnTo>
                    <a:pt x="3467" y="213"/>
                  </a:lnTo>
                  <a:lnTo>
                    <a:pt x="3458" y="207"/>
                  </a:lnTo>
                  <a:lnTo>
                    <a:pt x="3449" y="198"/>
                  </a:lnTo>
                  <a:lnTo>
                    <a:pt x="3441" y="193"/>
                  </a:lnTo>
                  <a:lnTo>
                    <a:pt x="3432" y="187"/>
                  </a:lnTo>
                  <a:lnTo>
                    <a:pt x="3423" y="184"/>
                  </a:lnTo>
                  <a:lnTo>
                    <a:pt x="3414" y="178"/>
                  </a:lnTo>
                  <a:lnTo>
                    <a:pt x="3406" y="172"/>
                  </a:lnTo>
                  <a:lnTo>
                    <a:pt x="3400" y="164"/>
                  </a:lnTo>
                  <a:lnTo>
                    <a:pt x="3397" y="155"/>
                  </a:lnTo>
                  <a:lnTo>
                    <a:pt x="3394" y="146"/>
                  </a:lnTo>
                  <a:lnTo>
                    <a:pt x="3388" y="138"/>
                  </a:lnTo>
                  <a:lnTo>
                    <a:pt x="3382" y="129"/>
                  </a:lnTo>
                  <a:lnTo>
                    <a:pt x="3388" y="121"/>
                  </a:lnTo>
                  <a:lnTo>
                    <a:pt x="3379" y="121"/>
                  </a:lnTo>
                  <a:lnTo>
                    <a:pt x="3371" y="121"/>
                  </a:lnTo>
                  <a:lnTo>
                    <a:pt x="3362" y="121"/>
                  </a:lnTo>
                  <a:lnTo>
                    <a:pt x="3359" y="129"/>
                  </a:lnTo>
                  <a:lnTo>
                    <a:pt x="3353" y="138"/>
                  </a:lnTo>
                  <a:lnTo>
                    <a:pt x="3347" y="146"/>
                  </a:lnTo>
                  <a:lnTo>
                    <a:pt x="3339" y="152"/>
                  </a:lnTo>
                  <a:lnTo>
                    <a:pt x="3327" y="158"/>
                  </a:lnTo>
                  <a:lnTo>
                    <a:pt x="3318" y="158"/>
                  </a:lnTo>
                  <a:lnTo>
                    <a:pt x="3310" y="167"/>
                  </a:lnTo>
                  <a:lnTo>
                    <a:pt x="3307" y="175"/>
                  </a:lnTo>
                  <a:lnTo>
                    <a:pt x="3307" y="184"/>
                  </a:lnTo>
                  <a:lnTo>
                    <a:pt x="3304" y="193"/>
                  </a:lnTo>
                  <a:lnTo>
                    <a:pt x="3295" y="195"/>
                  </a:lnTo>
                  <a:lnTo>
                    <a:pt x="3295" y="204"/>
                  </a:lnTo>
                  <a:lnTo>
                    <a:pt x="3298" y="213"/>
                  </a:lnTo>
                  <a:lnTo>
                    <a:pt x="3304" y="221"/>
                  </a:lnTo>
                  <a:lnTo>
                    <a:pt x="3310" y="230"/>
                  </a:lnTo>
                  <a:lnTo>
                    <a:pt x="3315" y="239"/>
                  </a:lnTo>
                  <a:lnTo>
                    <a:pt x="3318" y="250"/>
                  </a:lnTo>
                  <a:lnTo>
                    <a:pt x="3321" y="259"/>
                  </a:lnTo>
                  <a:lnTo>
                    <a:pt x="3321" y="247"/>
                  </a:lnTo>
                  <a:lnTo>
                    <a:pt x="3318" y="239"/>
                  </a:lnTo>
                  <a:lnTo>
                    <a:pt x="3315" y="230"/>
                  </a:lnTo>
                  <a:lnTo>
                    <a:pt x="3307" y="224"/>
                  </a:lnTo>
                  <a:lnTo>
                    <a:pt x="3298" y="216"/>
                  </a:lnTo>
                  <a:lnTo>
                    <a:pt x="3292" y="207"/>
                  </a:lnTo>
                  <a:lnTo>
                    <a:pt x="3292" y="198"/>
                  </a:lnTo>
                  <a:lnTo>
                    <a:pt x="3295" y="190"/>
                  </a:lnTo>
                  <a:lnTo>
                    <a:pt x="3292" y="181"/>
                  </a:lnTo>
                  <a:lnTo>
                    <a:pt x="3283" y="172"/>
                  </a:lnTo>
                  <a:lnTo>
                    <a:pt x="3275" y="170"/>
                  </a:lnTo>
                  <a:lnTo>
                    <a:pt x="3266" y="164"/>
                  </a:lnTo>
                  <a:lnTo>
                    <a:pt x="3257" y="161"/>
                  </a:lnTo>
                  <a:lnTo>
                    <a:pt x="3245" y="155"/>
                  </a:lnTo>
                  <a:lnTo>
                    <a:pt x="3237" y="155"/>
                  </a:lnTo>
                  <a:lnTo>
                    <a:pt x="3228" y="155"/>
                  </a:lnTo>
                  <a:lnTo>
                    <a:pt x="3219" y="155"/>
                  </a:lnTo>
                  <a:lnTo>
                    <a:pt x="3213" y="164"/>
                  </a:lnTo>
                  <a:lnTo>
                    <a:pt x="3208" y="172"/>
                  </a:lnTo>
                  <a:lnTo>
                    <a:pt x="3196" y="175"/>
                  </a:lnTo>
                  <a:lnTo>
                    <a:pt x="3184" y="175"/>
                  </a:lnTo>
                  <a:lnTo>
                    <a:pt x="3173" y="175"/>
                  </a:lnTo>
                  <a:lnTo>
                    <a:pt x="3167" y="167"/>
                  </a:lnTo>
                  <a:lnTo>
                    <a:pt x="3179" y="161"/>
                  </a:lnTo>
                  <a:lnTo>
                    <a:pt x="3187" y="161"/>
                  </a:lnTo>
                  <a:lnTo>
                    <a:pt x="3196" y="161"/>
                  </a:lnTo>
                  <a:lnTo>
                    <a:pt x="3205" y="155"/>
                  </a:lnTo>
                  <a:lnTo>
                    <a:pt x="3208" y="146"/>
                  </a:lnTo>
                  <a:lnTo>
                    <a:pt x="3208" y="138"/>
                  </a:lnTo>
                  <a:lnTo>
                    <a:pt x="3205" y="129"/>
                  </a:lnTo>
                  <a:lnTo>
                    <a:pt x="3199" y="121"/>
                  </a:lnTo>
                  <a:lnTo>
                    <a:pt x="3190" y="112"/>
                  </a:lnTo>
                  <a:lnTo>
                    <a:pt x="3184" y="103"/>
                  </a:lnTo>
                  <a:lnTo>
                    <a:pt x="3193" y="97"/>
                  </a:lnTo>
                  <a:lnTo>
                    <a:pt x="3202" y="92"/>
                  </a:lnTo>
                  <a:lnTo>
                    <a:pt x="3205" y="83"/>
                  </a:lnTo>
                  <a:lnTo>
                    <a:pt x="3208" y="74"/>
                  </a:lnTo>
                  <a:lnTo>
                    <a:pt x="3208" y="66"/>
                  </a:lnTo>
                  <a:lnTo>
                    <a:pt x="3202" y="57"/>
                  </a:lnTo>
                  <a:lnTo>
                    <a:pt x="3199" y="48"/>
                  </a:lnTo>
                  <a:lnTo>
                    <a:pt x="3199" y="40"/>
                  </a:lnTo>
                  <a:lnTo>
                    <a:pt x="3199" y="31"/>
                  </a:lnTo>
                  <a:lnTo>
                    <a:pt x="3196" y="23"/>
                  </a:lnTo>
                  <a:lnTo>
                    <a:pt x="3190" y="14"/>
                  </a:lnTo>
                  <a:lnTo>
                    <a:pt x="3184" y="5"/>
                  </a:lnTo>
                  <a:lnTo>
                    <a:pt x="3176" y="0"/>
                  </a:lnTo>
                  <a:lnTo>
                    <a:pt x="3167" y="2"/>
                  </a:lnTo>
                  <a:lnTo>
                    <a:pt x="3158" y="8"/>
                  </a:lnTo>
                  <a:lnTo>
                    <a:pt x="3149" y="14"/>
                  </a:lnTo>
                  <a:lnTo>
                    <a:pt x="3141" y="17"/>
                  </a:lnTo>
                  <a:lnTo>
                    <a:pt x="3132" y="23"/>
                  </a:lnTo>
                  <a:lnTo>
                    <a:pt x="3132" y="31"/>
                  </a:lnTo>
                  <a:lnTo>
                    <a:pt x="3123" y="25"/>
                  </a:lnTo>
                  <a:lnTo>
                    <a:pt x="3114" y="17"/>
                  </a:lnTo>
                  <a:lnTo>
                    <a:pt x="3106" y="14"/>
                  </a:lnTo>
                  <a:lnTo>
                    <a:pt x="3097" y="14"/>
                  </a:lnTo>
                  <a:lnTo>
                    <a:pt x="3088" y="14"/>
                  </a:lnTo>
                  <a:lnTo>
                    <a:pt x="3080" y="14"/>
                  </a:lnTo>
                  <a:lnTo>
                    <a:pt x="3071" y="14"/>
                  </a:lnTo>
                  <a:lnTo>
                    <a:pt x="3071" y="23"/>
                  </a:lnTo>
                  <a:lnTo>
                    <a:pt x="3071" y="31"/>
                  </a:lnTo>
                  <a:lnTo>
                    <a:pt x="3071" y="40"/>
                  </a:lnTo>
                  <a:lnTo>
                    <a:pt x="3068" y="48"/>
                  </a:lnTo>
                  <a:lnTo>
                    <a:pt x="3062" y="57"/>
                  </a:lnTo>
                  <a:lnTo>
                    <a:pt x="3059" y="66"/>
                  </a:lnTo>
                  <a:lnTo>
                    <a:pt x="3059" y="74"/>
                  </a:lnTo>
                  <a:lnTo>
                    <a:pt x="3059" y="83"/>
                  </a:lnTo>
                  <a:lnTo>
                    <a:pt x="3068" y="89"/>
                  </a:lnTo>
                  <a:lnTo>
                    <a:pt x="3077" y="92"/>
                  </a:lnTo>
                  <a:lnTo>
                    <a:pt x="3085" y="97"/>
                  </a:lnTo>
                  <a:lnTo>
                    <a:pt x="3097" y="103"/>
                  </a:lnTo>
                  <a:lnTo>
                    <a:pt x="3106" y="103"/>
                  </a:lnTo>
                  <a:lnTo>
                    <a:pt x="3114" y="103"/>
                  </a:lnTo>
                  <a:lnTo>
                    <a:pt x="3114" y="95"/>
                  </a:lnTo>
                  <a:lnTo>
                    <a:pt x="3123" y="95"/>
                  </a:lnTo>
                  <a:lnTo>
                    <a:pt x="3114" y="103"/>
                  </a:lnTo>
                  <a:lnTo>
                    <a:pt x="3106" y="103"/>
                  </a:lnTo>
                  <a:lnTo>
                    <a:pt x="3097" y="103"/>
                  </a:lnTo>
                  <a:lnTo>
                    <a:pt x="3088" y="109"/>
                  </a:lnTo>
                  <a:lnTo>
                    <a:pt x="3085" y="118"/>
                  </a:lnTo>
                  <a:lnTo>
                    <a:pt x="3085" y="126"/>
                  </a:lnTo>
                  <a:lnTo>
                    <a:pt x="3080" y="135"/>
                  </a:lnTo>
                  <a:lnTo>
                    <a:pt x="3088" y="138"/>
                  </a:lnTo>
                  <a:lnTo>
                    <a:pt x="3082" y="146"/>
                  </a:lnTo>
                  <a:lnTo>
                    <a:pt x="3080" y="155"/>
                  </a:lnTo>
                  <a:lnTo>
                    <a:pt x="3074" y="164"/>
                  </a:lnTo>
                  <a:lnTo>
                    <a:pt x="3074" y="172"/>
                  </a:lnTo>
                  <a:lnTo>
                    <a:pt x="3074" y="181"/>
                  </a:lnTo>
                  <a:lnTo>
                    <a:pt x="3074" y="190"/>
                  </a:lnTo>
                  <a:lnTo>
                    <a:pt x="3085" y="190"/>
                  </a:lnTo>
                  <a:lnTo>
                    <a:pt x="3094" y="190"/>
                  </a:lnTo>
                  <a:lnTo>
                    <a:pt x="3088" y="198"/>
                  </a:lnTo>
                  <a:lnTo>
                    <a:pt x="3080" y="204"/>
                  </a:lnTo>
                  <a:lnTo>
                    <a:pt x="3074" y="213"/>
                  </a:lnTo>
                  <a:lnTo>
                    <a:pt x="3071" y="221"/>
                  </a:lnTo>
                  <a:lnTo>
                    <a:pt x="3071" y="230"/>
                  </a:lnTo>
                  <a:lnTo>
                    <a:pt x="3071" y="239"/>
                  </a:lnTo>
                  <a:lnTo>
                    <a:pt x="3068" y="247"/>
                  </a:lnTo>
                  <a:lnTo>
                    <a:pt x="3062" y="256"/>
                  </a:lnTo>
                  <a:lnTo>
                    <a:pt x="3059" y="265"/>
                  </a:lnTo>
                  <a:lnTo>
                    <a:pt x="3059" y="273"/>
                  </a:lnTo>
                  <a:lnTo>
                    <a:pt x="3059" y="282"/>
                  </a:lnTo>
                  <a:lnTo>
                    <a:pt x="3059" y="291"/>
                  </a:lnTo>
                  <a:lnTo>
                    <a:pt x="3059" y="299"/>
                  </a:lnTo>
                  <a:lnTo>
                    <a:pt x="3059" y="311"/>
                  </a:lnTo>
                  <a:lnTo>
                    <a:pt x="3065" y="319"/>
                  </a:lnTo>
                  <a:lnTo>
                    <a:pt x="3074" y="325"/>
                  </a:lnTo>
                  <a:lnTo>
                    <a:pt x="3082" y="328"/>
                  </a:lnTo>
                  <a:lnTo>
                    <a:pt x="3082" y="337"/>
                  </a:lnTo>
                  <a:lnTo>
                    <a:pt x="3082" y="345"/>
                  </a:lnTo>
                  <a:lnTo>
                    <a:pt x="3085" y="354"/>
                  </a:lnTo>
                  <a:lnTo>
                    <a:pt x="3085" y="363"/>
                  </a:lnTo>
                  <a:lnTo>
                    <a:pt x="3088" y="371"/>
                  </a:lnTo>
                  <a:lnTo>
                    <a:pt x="3088" y="380"/>
                  </a:lnTo>
                  <a:lnTo>
                    <a:pt x="3091" y="389"/>
                  </a:lnTo>
                  <a:lnTo>
                    <a:pt x="3094" y="397"/>
                  </a:lnTo>
                  <a:lnTo>
                    <a:pt x="3097" y="406"/>
                  </a:lnTo>
                  <a:lnTo>
                    <a:pt x="3109" y="412"/>
                  </a:lnTo>
                  <a:lnTo>
                    <a:pt x="3117" y="412"/>
                  </a:lnTo>
                  <a:lnTo>
                    <a:pt x="3126" y="412"/>
                  </a:lnTo>
                  <a:lnTo>
                    <a:pt x="3135" y="412"/>
                  </a:lnTo>
                  <a:lnTo>
                    <a:pt x="3135" y="403"/>
                  </a:lnTo>
                  <a:lnTo>
                    <a:pt x="3138" y="394"/>
                  </a:lnTo>
                  <a:lnTo>
                    <a:pt x="3147" y="391"/>
                  </a:lnTo>
                  <a:lnTo>
                    <a:pt x="3155" y="391"/>
                  </a:lnTo>
                  <a:lnTo>
                    <a:pt x="3164" y="394"/>
                  </a:lnTo>
                  <a:lnTo>
                    <a:pt x="3167" y="403"/>
                  </a:lnTo>
                  <a:lnTo>
                    <a:pt x="3167" y="412"/>
                  </a:lnTo>
                  <a:lnTo>
                    <a:pt x="3164" y="420"/>
                  </a:lnTo>
                  <a:lnTo>
                    <a:pt x="3155" y="423"/>
                  </a:lnTo>
                  <a:lnTo>
                    <a:pt x="3152" y="432"/>
                  </a:lnTo>
                  <a:lnTo>
                    <a:pt x="3144" y="438"/>
                  </a:lnTo>
                  <a:lnTo>
                    <a:pt x="3138" y="429"/>
                  </a:lnTo>
                  <a:lnTo>
                    <a:pt x="3129" y="420"/>
                  </a:lnTo>
                  <a:lnTo>
                    <a:pt x="3120" y="420"/>
                  </a:lnTo>
                  <a:lnTo>
                    <a:pt x="3114" y="429"/>
                  </a:lnTo>
                  <a:lnTo>
                    <a:pt x="3114" y="438"/>
                  </a:lnTo>
                  <a:lnTo>
                    <a:pt x="3114" y="446"/>
                  </a:lnTo>
                  <a:lnTo>
                    <a:pt x="3123" y="452"/>
                  </a:lnTo>
                  <a:lnTo>
                    <a:pt x="3132" y="452"/>
                  </a:lnTo>
                  <a:lnTo>
                    <a:pt x="3141" y="452"/>
                  </a:lnTo>
                  <a:lnTo>
                    <a:pt x="3135" y="461"/>
                  </a:lnTo>
                  <a:lnTo>
                    <a:pt x="3138" y="469"/>
                  </a:lnTo>
                  <a:lnTo>
                    <a:pt x="3147" y="472"/>
                  </a:lnTo>
                  <a:lnTo>
                    <a:pt x="3147" y="463"/>
                  </a:lnTo>
                  <a:lnTo>
                    <a:pt x="3144" y="455"/>
                  </a:lnTo>
                  <a:lnTo>
                    <a:pt x="3144" y="466"/>
                  </a:lnTo>
                  <a:lnTo>
                    <a:pt x="3144" y="475"/>
                  </a:lnTo>
                  <a:lnTo>
                    <a:pt x="3144" y="484"/>
                  </a:lnTo>
                  <a:lnTo>
                    <a:pt x="3144" y="492"/>
                  </a:lnTo>
                  <a:lnTo>
                    <a:pt x="3144" y="501"/>
                  </a:lnTo>
                  <a:lnTo>
                    <a:pt x="3144" y="510"/>
                  </a:lnTo>
                  <a:lnTo>
                    <a:pt x="3152" y="518"/>
                  </a:lnTo>
                  <a:lnTo>
                    <a:pt x="3161" y="527"/>
                  </a:lnTo>
                  <a:lnTo>
                    <a:pt x="3167" y="538"/>
                  </a:lnTo>
                  <a:lnTo>
                    <a:pt x="3176" y="544"/>
                  </a:lnTo>
                  <a:lnTo>
                    <a:pt x="3184" y="550"/>
                  </a:lnTo>
                  <a:lnTo>
                    <a:pt x="3196" y="550"/>
                  </a:lnTo>
                  <a:lnTo>
                    <a:pt x="3205" y="550"/>
                  </a:lnTo>
                  <a:lnTo>
                    <a:pt x="3213" y="550"/>
                  </a:lnTo>
                  <a:lnTo>
                    <a:pt x="3205" y="550"/>
                  </a:lnTo>
                  <a:lnTo>
                    <a:pt x="3193" y="550"/>
                  </a:lnTo>
                  <a:lnTo>
                    <a:pt x="3184" y="553"/>
                  </a:lnTo>
                  <a:lnTo>
                    <a:pt x="3179" y="561"/>
                  </a:lnTo>
                  <a:lnTo>
                    <a:pt x="3176" y="570"/>
                  </a:lnTo>
                  <a:lnTo>
                    <a:pt x="3173" y="579"/>
                  </a:lnTo>
                  <a:lnTo>
                    <a:pt x="3164" y="582"/>
                  </a:lnTo>
                  <a:lnTo>
                    <a:pt x="3155" y="582"/>
                  </a:lnTo>
                  <a:lnTo>
                    <a:pt x="3147" y="582"/>
                  </a:lnTo>
                  <a:lnTo>
                    <a:pt x="3132" y="576"/>
                  </a:lnTo>
                  <a:lnTo>
                    <a:pt x="3120" y="576"/>
                  </a:lnTo>
                  <a:lnTo>
                    <a:pt x="3109" y="576"/>
                  </a:lnTo>
                  <a:lnTo>
                    <a:pt x="3103" y="585"/>
                  </a:lnTo>
                  <a:lnTo>
                    <a:pt x="3100" y="593"/>
                  </a:lnTo>
                  <a:lnTo>
                    <a:pt x="3100" y="602"/>
                  </a:lnTo>
                  <a:lnTo>
                    <a:pt x="3100" y="610"/>
                  </a:lnTo>
                  <a:lnTo>
                    <a:pt x="3100" y="619"/>
                  </a:lnTo>
                  <a:lnTo>
                    <a:pt x="3100" y="628"/>
                  </a:lnTo>
                  <a:lnTo>
                    <a:pt x="3103" y="636"/>
                  </a:lnTo>
                  <a:lnTo>
                    <a:pt x="3106" y="645"/>
                  </a:lnTo>
                  <a:lnTo>
                    <a:pt x="3112" y="654"/>
                  </a:lnTo>
                  <a:lnTo>
                    <a:pt x="3117" y="662"/>
                  </a:lnTo>
                  <a:lnTo>
                    <a:pt x="3120" y="671"/>
                  </a:lnTo>
                  <a:lnTo>
                    <a:pt x="3123" y="680"/>
                  </a:lnTo>
                  <a:lnTo>
                    <a:pt x="3123" y="688"/>
                  </a:lnTo>
                  <a:lnTo>
                    <a:pt x="3123" y="697"/>
                  </a:lnTo>
                  <a:lnTo>
                    <a:pt x="3123" y="706"/>
                  </a:lnTo>
                  <a:lnTo>
                    <a:pt x="3114" y="711"/>
                  </a:lnTo>
                  <a:lnTo>
                    <a:pt x="3106" y="720"/>
                  </a:lnTo>
                  <a:lnTo>
                    <a:pt x="3103" y="729"/>
                  </a:lnTo>
                  <a:lnTo>
                    <a:pt x="3103" y="737"/>
                  </a:lnTo>
                  <a:lnTo>
                    <a:pt x="3094" y="740"/>
                  </a:lnTo>
                  <a:lnTo>
                    <a:pt x="3085" y="743"/>
                  </a:lnTo>
                  <a:lnTo>
                    <a:pt x="3077" y="746"/>
                  </a:lnTo>
                  <a:lnTo>
                    <a:pt x="3068" y="746"/>
                  </a:lnTo>
                  <a:lnTo>
                    <a:pt x="3059" y="752"/>
                  </a:lnTo>
                  <a:lnTo>
                    <a:pt x="3050" y="760"/>
                  </a:lnTo>
                  <a:lnTo>
                    <a:pt x="3050" y="769"/>
                  </a:lnTo>
                  <a:lnTo>
                    <a:pt x="3050" y="778"/>
                  </a:lnTo>
                  <a:lnTo>
                    <a:pt x="3056" y="786"/>
                  </a:lnTo>
                  <a:lnTo>
                    <a:pt x="3065" y="789"/>
                  </a:lnTo>
                  <a:lnTo>
                    <a:pt x="3074" y="795"/>
                  </a:lnTo>
                  <a:lnTo>
                    <a:pt x="3074" y="804"/>
                  </a:lnTo>
                  <a:lnTo>
                    <a:pt x="3062" y="806"/>
                  </a:lnTo>
                  <a:lnTo>
                    <a:pt x="3050" y="806"/>
                  </a:lnTo>
                  <a:lnTo>
                    <a:pt x="3053" y="798"/>
                  </a:lnTo>
                  <a:lnTo>
                    <a:pt x="3045" y="792"/>
                  </a:lnTo>
                  <a:lnTo>
                    <a:pt x="3036" y="798"/>
                  </a:lnTo>
                  <a:lnTo>
                    <a:pt x="3036" y="809"/>
                  </a:lnTo>
                  <a:lnTo>
                    <a:pt x="3036" y="818"/>
                  </a:lnTo>
                  <a:lnTo>
                    <a:pt x="3033" y="827"/>
                  </a:lnTo>
                  <a:lnTo>
                    <a:pt x="3030" y="835"/>
                  </a:lnTo>
                  <a:lnTo>
                    <a:pt x="3024" y="844"/>
                  </a:lnTo>
                  <a:lnTo>
                    <a:pt x="3016" y="853"/>
                  </a:lnTo>
                  <a:lnTo>
                    <a:pt x="3013" y="861"/>
                  </a:lnTo>
                  <a:lnTo>
                    <a:pt x="3021" y="864"/>
                  </a:lnTo>
                  <a:lnTo>
                    <a:pt x="3030" y="864"/>
                  </a:lnTo>
                  <a:lnTo>
                    <a:pt x="3033" y="873"/>
                  </a:lnTo>
                  <a:lnTo>
                    <a:pt x="3033" y="881"/>
                  </a:lnTo>
                  <a:lnTo>
                    <a:pt x="3042" y="890"/>
                  </a:lnTo>
                  <a:lnTo>
                    <a:pt x="3050" y="893"/>
                  </a:lnTo>
                  <a:lnTo>
                    <a:pt x="3062" y="893"/>
                  </a:lnTo>
                  <a:lnTo>
                    <a:pt x="3071" y="887"/>
                  </a:lnTo>
                  <a:lnTo>
                    <a:pt x="3080" y="887"/>
                  </a:lnTo>
                  <a:lnTo>
                    <a:pt x="3088" y="887"/>
                  </a:lnTo>
                  <a:lnTo>
                    <a:pt x="3085" y="896"/>
                  </a:lnTo>
                  <a:lnTo>
                    <a:pt x="3082" y="904"/>
                  </a:lnTo>
                  <a:lnTo>
                    <a:pt x="3080" y="913"/>
                  </a:lnTo>
                  <a:lnTo>
                    <a:pt x="3088" y="919"/>
                  </a:lnTo>
                  <a:lnTo>
                    <a:pt x="3088" y="927"/>
                  </a:lnTo>
                  <a:lnTo>
                    <a:pt x="3080" y="933"/>
                  </a:lnTo>
                  <a:lnTo>
                    <a:pt x="3077" y="942"/>
                  </a:lnTo>
                  <a:lnTo>
                    <a:pt x="3077" y="950"/>
                  </a:lnTo>
                  <a:lnTo>
                    <a:pt x="3074" y="959"/>
                  </a:lnTo>
                  <a:lnTo>
                    <a:pt x="3074" y="968"/>
                  </a:lnTo>
                  <a:lnTo>
                    <a:pt x="3077" y="959"/>
                  </a:lnTo>
                  <a:lnTo>
                    <a:pt x="3065" y="942"/>
                  </a:lnTo>
                  <a:lnTo>
                    <a:pt x="3071" y="962"/>
                  </a:lnTo>
                  <a:lnTo>
                    <a:pt x="3062" y="962"/>
                  </a:lnTo>
                  <a:lnTo>
                    <a:pt x="3074" y="968"/>
                  </a:lnTo>
                  <a:lnTo>
                    <a:pt x="3074" y="976"/>
                  </a:lnTo>
                  <a:lnTo>
                    <a:pt x="3059" y="976"/>
                  </a:lnTo>
                  <a:lnTo>
                    <a:pt x="3050" y="979"/>
                  </a:lnTo>
                  <a:lnTo>
                    <a:pt x="3039" y="979"/>
                  </a:lnTo>
                  <a:lnTo>
                    <a:pt x="3039" y="988"/>
                  </a:lnTo>
                  <a:lnTo>
                    <a:pt x="3048" y="991"/>
                  </a:lnTo>
                  <a:lnTo>
                    <a:pt x="3056" y="991"/>
                  </a:lnTo>
                  <a:lnTo>
                    <a:pt x="3065" y="997"/>
                  </a:lnTo>
                  <a:lnTo>
                    <a:pt x="3074" y="1005"/>
                  </a:lnTo>
                  <a:lnTo>
                    <a:pt x="3077" y="1014"/>
                  </a:lnTo>
                  <a:lnTo>
                    <a:pt x="3082" y="1023"/>
                  </a:lnTo>
                  <a:lnTo>
                    <a:pt x="3088" y="1031"/>
                  </a:lnTo>
                  <a:lnTo>
                    <a:pt x="3080" y="1034"/>
                  </a:lnTo>
                  <a:lnTo>
                    <a:pt x="3071" y="1034"/>
                  </a:lnTo>
                  <a:lnTo>
                    <a:pt x="3062" y="1040"/>
                  </a:lnTo>
                  <a:lnTo>
                    <a:pt x="3050" y="1043"/>
                  </a:lnTo>
                  <a:lnTo>
                    <a:pt x="3039" y="1046"/>
                  </a:lnTo>
                  <a:lnTo>
                    <a:pt x="3030" y="1046"/>
                  </a:lnTo>
                  <a:lnTo>
                    <a:pt x="3018" y="1046"/>
                  </a:lnTo>
                  <a:lnTo>
                    <a:pt x="3010" y="1037"/>
                  </a:lnTo>
                  <a:lnTo>
                    <a:pt x="3007" y="1028"/>
                  </a:lnTo>
                  <a:lnTo>
                    <a:pt x="3010" y="1020"/>
                  </a:lnTo>
                  <a:lnTo>
                    <a:pt x="3013" y="1011"/>
                  </a:lnTo>
                  <a:lnTo>
                    <a:pt x="3004" y="1011"/>
                  </a:lnTo>
                  <a:lnTo>
                    <a:pt x="2992" y="1008"/>
                  </a:lnTo>
                  <a:lnTo>
                    <a:pt x="2983" y="1008"/>
                  </a:lnTo>
                  <a:lnTo>
                    <a:pt x="2978" y="1017"/>
                  </a:lnTo>
                  <a:lnTo>
                    <a:pt x="2978" y="1025"/>
                  </a:lnTo>
                  <a:lnTo>
                    <a:pt x="2983" y="1034"/>
                  </a:lnTo>
                  <a:lnTo>
                    <a:pt x="2989" y="1043"/>
                  </a:lnTo>
                  <a:lnTo>
                    <a:pt x="2992" y="1051"/>
                  </a:lnTo>
                  <a:lnTo>
                    <a:pt x="3001" y="1054"/>
                  </a:lnTo>
                  <a:lnTo>
                    <a:pt x="3010" y="1060"/>
                  </a:lnTo>
                  <a:lnTo>
                    <a:pt x="3018" y="1063"/>
                  </a:lnTo>
                  <a:lnTo>
                    <a:pt x="3027" y="1063"/>
                  </a:lnTo>
                  <a:lnTo>
                    <a:pt x="3036" y="1060"/>
                  </a:lnTo>
                  <a:lnTo>
                    <a:pt x="3027" y="1060"/>
                  </a:lnTo>
                  <a:lnTo>
                    <a:pt x="3018" y="1057"/>
                  </a:lnTo>
                  <a:lnTo>
                    <a:pt x="3010" y="1054"/>
                  </a:lnTo>
                  <a:lnTo>
                    <a:pt x="3004" y="1046"/>
                  </a:lnTo>
                  <a:lnTo>
                    <a:pt x="2995" y="1040"/>
                  </a:lnTo>
                  <a:lnTo>
                    <a:pt x="2992" y="1031"/>
                  </a:lnTo>
                  <a:lnTo>
                    <a:pt x="2983" y="1023"/>
                  </a:lnTo>
                  <a:lnTo>
                    <a:pt x="2978" y="1014"/>
                  </a:lnTo>
                  <a:lnTo>
                    <a:pt x="2969" y="1005"/>
                  </a:lnTo>
                  <a:lnTo>
                    <a:pt x="2966" y="1014"/>
                  </a:lnTo>
                  <a:lnTo>
                    <a:pt x="2954" y="1023"/>
                  </a:lnTo>
                  <a:lnTo>
                    <a:pt x="2946" y="1023"/>
                  </a:lnTo>
                  <a:lnTo>
                    <a:pt x="2943" y="1034"/>
                  </a:lnTo>
                  <a:lnTo>
                    <a:pt x="2943" y="1043"/>
                  </a:lnTo>
                  <a:lnTo>
                    <a:pt x="2951" y="1051"/>
                  </a:lnTo>
                  <a:lnTo>
                    <a:pt x="2963" y="1051"/>
                  </a:lnTo>
                  <a:lnTo>
                    <a:pt x="2975" y="1054"/>
                  </a:lnTo>
                  <a:lnTo>
                    <a:pt x="2963" y="1051"/>
                  </a:lnTo>
                  <a:lnTo>
                    <a:pt x="2951" y="1046"/>
                  </a:lnTo>
                  <a:lnTo>
                    <a:pt x="2943" y="1043"/>
                  </a:lnTo>
                  <a:lnTo>
                    <a:pt x="2934" y="1051"/>
                  </a:lnTo>
                  <a:lnTo>
                    <a:pt x="2928" y="1060"/>
                  </a:lnTo>
                  <a:lnTo>
                    <a:pt x="2919" y="1060"/>
                  </a:lnTo>
                  <a:lnTo>
                    <a:pt x="2919" y="1069"/>
                  </a:lnTo>
                  <a:lnTo>
                    <a:pt x="2931" y="1077"/>
                  </a:lnTo>
                  <a:lnTo>
                    <a:pt x="2943" y="1086"/>
                  </a:lnTo>
                  <a:lnTo>
                    <a:pt x="2951" y="1089"/>
                  </a:lnTo>
                  <a:lnTo>
                    <a:pt x="2960" y="1089"/>
                  </a:lnTo>
                  <a:lnTo>
                    <a:pt x="2969" y="1089"/>
                  </a:lnTo>
                  <a:lnTo>
                    <a:pt x="2972" y="1080"/>
                  </a:lnTo>
                  <a:lnTo>
                    <a:pt x="2975" y="1072"/>
                  </a:lnTo>
                  <a:lnTo>
                    <a:pt x="2975" y="1063"/>
                  </a:lnTo>
                  <a:lnTo>
                    <a:pt x="2978" y="1054"/>
                  </a:lnTo>
                  <a:lnTo>
                    <a:pt x="2981" y="1063"/>
                  </a:lnTo>
                  <a:lnTo>
                    <a:pt x="2981" y="1072"/>
                  </a:lnTo>
                  <a:lnTo>
                    <a:pt x="2975" y="1080"/>
                  </a:lnTo>
                  <a:lnTo>
                    <a:pt x="2969" y="1089"/>
                  </a:lnTo>
                  <a:lnTo>
                    <a:pt x="2957" y="1089"/>
                  </a:lnTo>
                  <a:lnTo>
                    <a:pt x="2949" y="1089"/>
                  </a:lnTo>
                  <a:lnTo>
                    <a:pt x="2940" y="1097"/>
                  </a:lnTo>
                  <a:lnTo>
                    <a:pt x="2937" y="1106"/>
                  </a:lnTo>
                  <a:lnTo>
                    <a:pt x="2934" y="1115"/>
                  </a:lnTo>
                  <a:lnTo>
                    <a:pt x="2934" y="1123"/>
                  </a:lnTo>
                  <a:lnTo>
                    <a:pt x="2925" y="1129"/>
                  </a:lnTo>
                  <a:lnTo>
                    <a:pt x="2917" y="1135"/>
                  </a:lnTo>
                  <a:lnTo>
                    <a:pt x="2908" y="1138"/>
                  </a:lnTo>
                  <a:lnTo>
                    <a:pt x="2899" y="1138"/>
                  </a:lnTo>
                  <a:lnTo>
                    <a:pt x="2893" y="1129"/>
                  </a:lnTo>
                  <a:lnTo>
                    <a:pt x="2884" y="1129"/>
                  </a:lnTo>
                  <a:lnTo>
                    <a:pt x="2876" y="1129"/>
                  </a:lnTo>
                  <a:lnTo>
                    <a:pt x="2867" y="1135"/>
                  </a:lnTo>
                  <a:lnTo>
                    <a:pt x="2864" y="1144"/>
                  </a:lnTo>
                  <a:lnTo>
                    <a:pt x="2861" y="1152"/>
                  </a:lnTo>
                  <a:lnTo>
                    <a:pt x="2861" y="1161"/>
                  </a:lnTo>
                  <a:lnTo>
                    <a:pt x="2858" y="1170"/>
                  </a:lnTo>
                  <a:lnTo>
                    <a:pt x="2852" y="1178"/>
                  </a:lnTo>
                  <a:lnTo>
                    <a:pt x="2844" y="1181"/>
                  </a:lnTo>
                  <a:lnTo>
                    <a:pt x="2835" y="1181"/>
                  </a:lnTo>
                  <a:lnTo>
                    <a:pt x="2826" y="1184"/>
                  </a:lnTo>
                  <a:lnTo>
                    <a:pt x="2818" y="1175"/>
                  </a:lnTo>
                  <a:lnTo>
                    <a:pt x="2809" y="1167"/>
                  </a:lnTo>
                  <a:lnTo>
                    <a:pt x="2806" y="1175"/>
                  </a:lnTo>
                  <a:lnTo>
                    <a:pt x="2806" y="1184"/>
                  </a:lnTo>
                  <a:lnTo>
                    <a:pt x="2806" y="1193"/>
                  </a:lnTo>
                  <a:lnTo>
                    <a:pt x="2806" y="1204"/>
                  </a:lnTo>
                  <a:lnTo>
                    <a:pt x="2806" y="1213"/>
                  </a:lnTo>
                  <a:lnTo>
                    <a:pt x="2815" y="1213"/>
                  </a:lnTo>
                  <a:lnTo>
                    <a:pt x="2823" y="1216"/>
                  </a:lnTo>
                  <a:lnTo>
                    <a:pt x="2826" y="1224"/>
                  </a:lnTo>
                  <a:lnTo>
                    <a:pt x="2826" y="1233"/>
                  </a:lnTo>
                  <a:lnTo>
                    <a:pt x="2826" y="1242"/>
                  </a:lnTo>
                  <a:lnTo>
                    <a:pt x="2823" y="1250"/>
                  </a:lnTo>
                  <a:lnTo>
                    <a:pt x="2815" y="1253"/>
                  </a:lnTo>
                  <a:lnTo>
                    <a:pt x="2809" y="1262"/>
                  </a:lnTo>
                  <a:lnTo>
                    <a:pt x="2809" y="1270"/>
                  </a:lnTo>
                  <a:lnTo>
                    <a:pt x="2809" y="1279"/>
                  </a:lnTo>
                  <a:lnTo>
                    <a:pt x="2809" y="1288"/>
                  </a:lnTo>
                  <a:lnTo>
                    <a:pt x="2809" y="1279"/>
                  </a:lnTo>
                  <a:lnTo>
                    <a:pt x="2806" y="1270"/>
                  </a:lnTo>
                  <a:lnTo>
                    <a:pt x="2806" y="1262"/>
                  </a:lnTo>
                  <a:lnTo>
                    <a:pt x="2800" y="1253"/>
                  </a:lnTo>
                  <a:lnTo>
                    <a:pt x="2797" y="1244"/>
                  </a:lnTo>
                  <a:lnTo>
                    <a:pt x="2794" y="1236"/>
                  </a:lnTo>
                  <a:lnTo>
                    <a:pt x="2794" y="1227"/>
                  </a:lnTo>
                  <a:lnTo>
                    <a:pt x="2794" y="1218"/>
                  </a:lnTo>
                  <a:lnTo>
                    <a:pt x="2800" y="1210"/>
                  </a:lnTo>
                  <a:lnTo>
                    <a:pt x="2803" y="1201"/>
                  </a:lnTo>
                  <a:lnTo>
                    <a:pt x="2800" y="1193"/>
                  </a:lnTo>
                  <a:lnTo>
                    <a:pt x="2791" y="1187"/>
                  </a:lnTo>
                  <a:lnTo>
                    <a:pt x="2788" y="1178"/>
                  </a:lnTo>
                  <a:lnTo>
                    <a:pt x="2788" y="1170"/>
                  </a:lnTo>
                  <a:lnTo>
                    <a:pt x="2788" y="1161"/>
                  </a:lnTo>
                  <a:lnTo>
                    <a:pt x="2788" y="1152"/>
                  </a:lnTo>
                  <a:lnTo>
                    <a:pt x="2786" y="1144"/>
                  </a:lnTo>
                  <a:lnTo>
                    <a:pt x="2786" y="1135"/>
                  </a:lnTo>
                  <a:lnTo>
                    <a:pt x="2780" y="1126"/>
                  </a:lnTo>
                  <a:lnTo>
                    <a:pt x="2768" y="1121"/>
                  </a:lnTo>
                  <a:lnTo>
                    <a:pt x="2759" y="1115"/>
                  </a:lnTo>
                  <a:lnTo>
                    <a:pt x="2748" y="1112"/>
                  </a:lnTo>
                  <a:lnTo>
                    <a:pt x="2736" y="1109"/>
                  </a:lnTo>
                  <a:lnTo>
                    <a:pt x="2724" y="1106"/>
                  </a:lnTo>
                  <a:lnTo>
                    <a:pt x="2716" y="1106"/>
                  </a:lnTo>
                  <a:lnTo>
                    <a:pt x="2710" y="1115"/>
                  </a:lnTo>
                  <a:lnTo>
                    <a:pt x="2704" y="1123"/>
                  </a:lnTo>
                  <a:lnTo>
                    <a:pt x="2698" y="1132"/>
                  </a:lnTo>
                  <a:lnTo>
                    <a:pt x="2692" y="1126"/>
                  </a:lnTo>
                  <a:lnTo>
                    <a:pt x="2695" y="1112"/>
                  </a:lnTo>
                  <a:lnTo>
                    <a:pt x="2695" y="1121"/>
                  </a:lnTo>
                  <a:lnTo>
                    <a:pt x="2692" y="1129"/>
                  </a:lnTo>
                  <a:lnTo>
                    <a:pt x="2692" y="1138"/>
                  </a:lnTo>
                  <a:lnTo>
                    <a:pt x="2687" y="1146"/>
                  </a:lnTo>
                  <a:lnTo>
                    <a:pt x="2687" y="1155"/>
                  </a:lnTo>
                  <a:lnTo>
                    <a:pt x="2687" y="1164"/>
                  </a:lnTo>
                  <a:lnTo>
                    <a:pt x="2678" y="1167"/>
                  </a:lnTo>
                  <a:lnTo>
                    <a:pt x="2669" y="1167"/>
                  </a:lnTo>
                  <a:lnTo>
                    <a:pt x="2666" y="1158"/>
                  </a:lnTo>
                  <a:lnTo>
                    <a:pt x="2666" y="1149"/>
                  </a:lnTo>
                  <a:lnTo>
                    <a:pt x="2657" y="1146"/>
                  </a:lnTo>
                  <a:lnTo>
                    <a:pt x="2649" y="1152"/>
                  </a:lnTo>
                  <a:lnTo>
                    <a:pt x="2646" y="1141"/>
                  </a:lnTo>
                  <a:lnTo>
                    <a:pt x="2634" y="1135"/>
                  </a:lnTo>
                  <a:lnTo>
                    <a:pt x="2625" y="1135"/>
                  </a:lnTo>
                  <a:lnTo>
                    <a:pt x="2617" y="1135"/>
                  </a:lnTo>
                  <a:lnTo>
                    <a:pt x="2614" y="1144"/>
                  </a:lnTo>
                  <a:lnTo>
                    <a:pt x="2614" y="1152"/>
                  </a:lnTo>
                  <a:lnTo>
                    <a:pt x="2614" y="1161"/>
                  </a:lnTo>
                  <a:lnTo>
                    <a:pt x="2617" y="1170"/>
                  </a:lnTo>
                  <a:lnTo>
                    <a:pt x="2617" y="1178"/>
                  </a:lnTo>
                  <a:lnTo>
                    <a:pt x="2620" y="1187"/>
                  </a:lnTo>
                  <a:lnTo>
                    <a:pt x="2625" y="1195"/>
                  </a:lnTo>
                  <a:lnTo>
                    <a:pt x="2634" y="1201"/>
                  </a:lnTo>
                  <a:lnTo>
                    <a:pt x="2643" y="1201"/>
                  </a:lnTo>
                  <a:lnTo>
                    <a:pt x="2652" y="1201"/>
                  </a:lnTo>
                  <a:lnTo>
                    <a:pt x="2643" y="1201"/>
                  </a:lnTo>
                  <a:lnTo>
                    <a:pt x="2634" y="1207"/>
                  </a:lnTo>
                  <a:lnTo>
                    <a:pt x="2625" y="1216"/>
                  </a:lnTo>
                  <a:lnTo>
                    <a:pt x="2625" y="1224"/>
                  </a:lnTo>
                  <a:lnTo>
                    <a:pt x="2634" y="1224"/>
                  </a:lnTo>
                  <a:lnTo>
                    <a:pt x="2643" y="1230"/>
                  </a:lnTo>
                  <a:lnTo>
                    <a:pt x="2646" y="1242"/>
                  </a:lnTo>
                  <a:lnTo>
                    <a:pt x="2652" y="1253"/>
                  </a:lnTo>
                  <a:lnTo>
                    <a:pt x="2660" y="1259"/>
                  </a:lnTo>
                  <a:lnTo>
                    <a:pt x="2672" y="1265"/>
                  </a:lnTo>
                  <a:lnTo>
                    <a:pt x="2663" y="1262"/>
                  </a:lnTo>
                  <a:lnTo>
                    <a:pt x="2655" y="1256"/>
                  </a:lnTo>
                  <a:lnTo>
                    <a:pt x="2663" y="1250"/>
                  </a:lnTo>
                  <a:lnTo>
                    <a:pt x="2672" y="1250"/>
                  </a:lnTo>
                  <a:lnTo>
                    <a:pt x="2681" y="1253"/>
                  </a:lnTo>
                  <a:lnTo>
                    <a:pt x="2669" y="1256"/>
                  </a:lnTo>
                  <a:lnTo>
                    <a:pt x="2655" y="1256"/>
                  </a:lnTo>
                  <a:lnTo>
                    <a:pt x="2646" y="1247"/>
                  </a:lnTo>
                  <a:lnTo>
                    <a:pt x="2643" y="1236"/>
                  </a:lnTo>
                  <a:lnTo>
                    <a:pt x="2640" y="1227"/>
                  </a:lnTo>
                  <a:lnTo>
                    <a:pt x="2631" y="1227"/>
                  </a:lnTo>
                  <a:lnTo>
                    <a:pt x="2625" y="1236"/>
                  </a:lnTo>
                  <a:lnTo>
                    <a:pt x="2625" y="1247"/>
                  </a:lnTo>
                  <a:lnTo>
                    <a:pt x="2625" y="1259"/>
                  </a:lnTo>
                  <a:lnTo>
                    <a:pt x="2617" y="1259"/>
                  </a:lnTo>
                  <a:lnTo>
                    <a:pt x="2608" y="1256"/>
                  </a:lnTo>
                  <a:lnTo>
                    <a:pt x="2605" y="1247"/>
                  </a:lnTo>
                  <a:lnTo>
                    <a:pt x="2596" y="1253"/>
                  </a:lnTo>
                  <a:lnTo>
                    <a:pt x="2588" y="1262"/>
                  </a:lnTo>
                  <a:lnTo>
                    <a:pt x="2582" y="1270"/>
                  </a:lnTo>
                  <a:lnTo>
                    <a:pt x="2582" y="1279"/>
                  </a:lnTo>
                  <a:lnTo>
                    <a:pt x="2582" y="1288"/>
                  </a:lnTo>
                  <a:lnTo>
                    <a:pt x="2576" y="1296"/>
                  </a:lnTo>
                  <a:lnTo>
                    <a:pt x="2573" y="1305"/>
                  </a:lnTo>
                  <a:lnTo>
                    <a:pt x="2567" y="1314"/>
                  </a:lnTo>
                  <a:lnTo>
                    <a:pt x="2553" y="1311"/>
                  </a:lnTo>
                  <a:lnTo>
                    <a:pt x="2567" y="1305"/>
                  </a:lnTo>
                  <a:lnTo>
                    <a:pt x="2561" y="1314"/>
                  </a:lnTo>
                  <a:lnTo>
                    <a:pt x="2558" y="1322"/>
                  </a:lnTo>
                  <a:lnTo>
                    <a:pt x="2558" y="1331"/>
                  </a:lnTo>
                  <a:lnTo>
                    <a:pt x="2558" y="1340"/>
                  </a:lnTo>
                  <a:lnTo>
                    <a:pt x="2558" y="1348"/>
                  </a:lnTo>
                  <a:lnTo>
                    <a:pt x="2558" y="1360"/>
                  </a:lnTo>
                  <a:lnTo>
                    <a:pt x="2558" y="1368"/>
                  </a:lnTo>
                  <a:lnTo>
                    <a:pt x="2550" y="1380"/>
                  </a:lnTo>
                  <a:lnTo>
                    <a:pt x="2547" y="1389"/>
                  </a:lnTo>
                  <a:lnTo>
                    <a:pt x="2544" y="1397"/>
                  </a:lnTo>
                  <a:lnTo>
                    <a:pt x="2538" y="1406"/>
                  </a:lnTo>
                  <a:lnTo>
                    <a:pt x="2529" y="1412"/>
                  </a:lnTo>
                  <a:lnTo>
                    <a:pt x="2538" y="1414"/>
                  </a:lnTo>
                  <a:lnTo>
                    <a:pt x="2547" y="1414"/>
                  </a:lnTo>
                  <a:lnTo>
                    <a:pt x="2553" y="1406"/>
                  </a:lnTo>
                  <a:lnTo>
                    <a:pt x="2553" y="1397"/>
                  </a:lnTo>
                  <a:lnTo>
                    <a:pt x="2561" y="1391"/>
                  </a:lnTo>
                  <a:lnTo>
                    <a:pt x="2567" y="1400"/>
                  </a:lnTo>
                  <a:lnTo>
                    <a:pt x="2567" y="1412"/>
                  </a:lnTo>
                  <a:lnTo>
                    <a:pt x="2570" y="1420"/>
                  </a:lnTo>
                  <a:lnTo>
                    <a:pt x="2579" y="1429"/>
                  </a:lnTo>
                  <a:lnTo>
                    <a:pt x="2588" y="1435"/>
                  </a:lnTo>
                  <a:lnTo>
                    <a:pt x="2599" y="1435"/>
                  </a:lnTo>
                  <a:lnTo>
                    <a:pt x="2593" y="1426"/>
                  </a:lnTo>
                  <a:lnTo>
                    <a:pt x="2585" y="1417"/>
                  </a:lnTo>
                  <a:lnTo>
                    <a:pt x="2582" y="1406"/>
                  </a:lnTo>
                  <a:lnTo>
                    <a:pt x="2579" y="1397"/>
                  </a:lnTo>
                  <a:lnTo>
                    <a:pt x="2573" y="1406"/>
                  </a:lnTo>
                  <a:lnTo>
                    <a:pt x="2570" y="1414"/>
                  </a:lnTo>
                  <a:lnTo>
                    <a:pt x="2561" y="1426"/>
                  </a:lnTo>
                  <a:lnTo>
                    <a:pt x="2553" y="1432"/>
                  </a:lnTo>
                  <a:lnTo>
                    <a:pt x="2544" y="1432"/>
                  </a:lnTo>
                  <a:lnTo>
                    <a:pt x="2535" y="1432"/>
                  </a:lnTo>
                  <a:lnTo>
                    <a:pt x="2526" y="1432"/>
                  </a:lnTo>
                  <a:lnTo>
                    <a:pt x="2515" y="1438"/>
                  </a:lnTo>
                  <a:lnTo>
                    <a:pt x="2506" y="1443"/>
                  </a:lnTo>
                  <a:lnTo>
                    <a:pt x="2503" y="1452"/>
                  </a:lnTo>
                  <a:lnTo>
                    <a:pt x="2509" y="1461"/>
                  </a:lnTo>
                  <a:lnTo>
                    <a:pt x="2515" y="1472"/>
                  </a:lnTo>
                  <a:lnTo>
                    <a:pt x="2521" y="1484"/>
                  </a:lnTo>
                  <a:lnTo>
                    <a:pt x="2529" y="1489"/>
                  </a:lnTo>
                  <a:lnTo>
                    <a:pt x="2538" y="1495"/>
                  </a:lnTo>
                  <a:lnTo>
                    <a:pt x="2544" y="1504"/>
                  </a:lnTo>
                  <a:lnTo>
                    <a:pt x="2553" y="1507"/>
                  </a:lnTo>
                  <a:lnTo>
                    <a:pt x="2561" y="1507"/>
                  </a:lnTo>
                  <a:lnTo>
                    <a:pt x="2570" y="1510"/>
                  </a:lnTo>
                  <a:lnTo>
                    <a:pt x="2576" y="1518"/>
                  </a:lnTo>
                  <a:lnTo>
                    <a:pt x="2585" y="1527"/>
                  </a:lnTo>
                  <a:lnTo>
                    <a:pt x="2588" y="1535"/>
                  </a:lnTo>
                  <a:lnTo>
                    <a:pt x="2588" y="1544"/>
                  </a:lnTo>
                  <a:lnTo>
                    <a:pt x="2588" y="1556"/>
                  </a:lnTo>
                  <a:lnTo>
                    <a:pt x="2590" y="1564"/>
                  </a:lnTo>
                  <a:lnTo>
                    <a:pt x="2599" y="1564"/>
                  </a:lnTo>
                  <a:lnTo>
                    <a:pt x="2614" y="1567"/>
                  </a:lnTo>
                  <a:lnTo>
                    <a:pt x="2617" y="1576"/>
                  </a:lnTo>
                  <a:lnTo>
                    <a:pt x="2617" y="1584"/>
                  </a:lnTo>
                  <a:lnTo>
                    <a:pt x="2608" y="1587"/>
                  </a:lnTo>
                  <a:lnTo>
                    <a:pt x="2596" y="1579"/>
                  </a:lnTo>
                  <a:lnTo>
                    <a:pt x="2588" y="1570"/>
                  </a:lnTo>
                  <a:lnTo>
                    <a:pt x="2582" y="1561"/>
                  </a:lnTo>
                  <a:lnTo>
                    <a:pt x="2582" y="1553"/>
                  </a:lnTo>
                  <a:lnTo>
                    <a:pt x="2582" y="1541"/>
                  </a:lnTo>
                  <a:lnTo>
                    <a:pt x="2579" y="1533"/>
                  </a:lnTo>
                  <a:lnTo>
                    <a:pt x="2573" y="1524"/>
                  </a:lnTo>
                  <a:lnTo>
                    <a:pt x="2564" y="1515"/>
                  </a:lnTo>
                  <a:lnTo>
                    <a:pt x="2556" y="1512"/>
                  </a:lnTo>
                  <a:lnTo>
                    <a:pt x="2550" y="1521"/>
                  </a:lnTo>
                  <a:lnTo>
                    <a:pt x="2541" y="1521"/>
                  </a:lnTo>
                  <a:lnTo>
                    <a:pt x="2532" y="1515"/>
                  </a:lnTo>
                  <a:lnTo>
                    <a:pt x="2524" y="1510"/>
                  </a:lnTo>
                  <a:lnTo>
                    <a:pt x="2515" y="1507"/>
                  </a:lnTo>
                  <a:lnTo>
                    <a:pt x="2506" y="1504"/>
                  </a:lnTo>
                  <a:lnTo>
                    <a:pt x="2497" y="1504"/>
                  </a:lnTo>
                  <a:lnTo>
                    <a:pt x="2489" y="1504"/>
                  </a:lnTo>
                  <a:lnTo>
                    <a:pt x="2486" y="1512"/>
                  </a:lnTo>
                  <a:lnTo>
                    <a:pt x="2486" y="1521"/>
                  </a:lnTo>
                  <a:lnTo>
                    <a:pt x="2491" y="1530"/>
                  </a:lnTo>
                  <a:lnTo>
                    <a:pt x="2486" y="1538"/>
                  </a:lnTo>
                  <a:lnTo>
                    <a:pt x="2477" y="1538"/>
                  </a:lnTo>
                  <a:lnTo>
                    <a:pt x="2474" y="1547"/>
                  </a:lnTo>
                  <a:lnTo>
                    <a:pt x="2489" y="1550"/>
                  </a:lnTo>
                  <a:lnTo>
                    <a:pt x="2497" y="1553"/>
                  </a:lnTo>
                  <a:lnTo>
                    <a:pt x="2506" y="1553"/>
                  </a:lnTo>
                  <a:lnTo>
                    <a:pt x="2515" y="1559"/>
                  </a:lnTo>
                  <a:lnTo>
                    <a:pt x="2521" y="1570"/>
                  </a:lnTo>
                  <a:lnTo>
                    <a:pt x="2529" y="1576"/>
                  </a:lnTo>
                  <a:lnTo>
                    <a:pt x="2521" y="1567"/>
                  </a:lnTo>
                  <a:lnTo>
                    <a:pt x="2509" y="1561"/>
                  </a:lnTo>
                  <a:lnTo>
                    <a:pt x="2500" y="1559"/>
                  </a:lnTo>
                  <a:lnTo>
                    <a:pt x="2491" y="1567"/>
                  </a:lnTo>
                  <a:lnTo>
                    <a:pt x="2483" y="1570"/>
                  </a:lnTo>
                  <a:lnTo>
                    <a:pt x="2474" y="1570"/>
                  </a:lnTo>
                  <a:lnTo>
                    <a:pt x="2471" y="1561"/>
                  </a:lnTo>
                  <a:lnTo>
                    <a:pt x="2471" y="1553"/>
                  </a:lnTo>
                  <a:lnTo>
                    <a:pt x="2465" y="1544"/>
                  </a:lnTo>
                  <a:lnTo>
                    <a:pt x="2462" y="1535"/>
                  </a:lnTo>
                  <a:lnTo>
                    <a:pt x="2459" y="1524"/>
                  </a:lnTo>
                  <a:lnTo>
                    <a:pt x="2457" y="1515"/>
                  </a:lnTo>
                  <a:lnTo>
                    <a:pt x="2448" y="1510"/>
                  </a:lnTo>
                  <a:lnTo>
                    <a:pt x="2439" y="1504"/>
                  </a:lnTo>
                  <a:lnTo>
                    <a:pt x="2439" y="1512"/>
                  </a:lnTo>
                  <a:lnTo>
                    <a:pt x="2439" y="1521"/>
                  </a:lnTo>
                  <a:lnTo>
                    <a:pt x="2439" y="1530"/>
                  </a:lnTo>
                  <a:lnTo>
                    <a:pt x="2439" y="1538"/>
                  </a:lnTo>
                  <a:lnTo>
                    <a:pt x="2439" y="1547"/>
                  </a:lnTo>
                  <a:lnTo>
                    <a:pt x="2439" y="1556"/>
                  </a:lnTo>
                  <a:lnTo>
                    <a:pt x="2442" y="1564"/>
                  </a:lnTo>
                  <a:lnTo>
                    <a:pt x="2436" y="1573"/>
                  </a:lnTo>
                  <a:lnTo>
                    <a:pt x="2433" y="1582"/>
                  </a:lnTo>
                  <a:lnTo>
                    <a:pt x="2430" y="1590"/>
                  </a:lnTo>
                  <a:lnTo>
                    <a:pt x="2433" y="1599"/>
                  </a:lnTo>
                  <a:lnTo>
                    <a:pt x="2442" y="1602"/>
                  </a:lnTo>
                  <a:lnTo>
                    <a:pt x="2451" y="1605"/>
                  </a:lnTo>
                  <a:lnTo>
                    <a:pt x="2459" y="1608"/>
                  </a:lnTo>
                  <a:lnTo>
                    <a:pt x="2465" y="1616"/>
                  </a:lnTo>
                  <a:lnTo>
                    <a:pt x="2474" y="1628"/>
                  </a:lnTo>
                  <a:lnTo>
                    <a:pt x="2474" y="1636"/>
                  </a:lnTo>
                  <a:lnTo>
                    <a:pt x="2474" y="1648"/>
                  </a:lnTo>
                  <a:lnTo>
                    <a:pt x="2474" y="1657"/>
                  </a:lnTo>
                  <a:lnTo>
                    <a:pt x="2474" y="1665"/>
                  </a:lnTo>
                  <a:lnTo>
                    <a:pt x="2474" y="1674"/>
                  </a:lnTo>
                  <a:lnTo>
                    <a:pt x="2483" y="1680"/>
                  </a:lnTo>
                  <a:lnTo>
                    <a:pt x="2491" y="1682"/>
                  </a:lnTo>
                  <a:lnTo>
                    <a:pt x="2500" y="1682"/>
                  </a:lnTo>
                  <a:lnTo>
                    <a:pt x="2509" y="1680"/>
                  </a:lnTo>
                  <a:lnTo>
                    <a:pt x="2515" y="1671"/>
                  </a:lnTo>
                  <a:lnTo>
                    <a:pt x="2524" y="1671"/>
                  </a:lnTo>
                  <a:lnTo>
                    <a:pt x="2532" y="1668"/>
                  </a:lnTo>
                  <a:lnTo>
                    <a:pt x="2541" y="1671"/>
                  </a:lnTo>
                  <a:lnTo>
                    <a:pt x="2544" y="1680"/>
                  </a:lnTo>
                  <a:lnTo>
                    <a:pt x="2547" y="1688"/>
                  </a:lnTo>
                  <a:lnTo>
                    <a:pt x="2547" y="1697"/>
                  </a:lnTo>
                  <a:lnTo>
                    <a:pt x="2547" y="1706"/>
                  </a:lnTo>
                  <a:lnTo>
                    <a:pt x="2556" y="1714"/>
                  </a:lnTo>
                  <a:lnTo>
                    <a:pt x="2564" y="1720"/>
                  </a:lnTo>
                  <a:lnTo>
                    <a:pt x="2576" y="1726"/>
                  </a:lnTo>
                  <a:lnTo>
                    <a:pt x="2588" y="1726"/>
                  </a:lnTo>
                  <a:lnTo>
                    <a:pt x="2596" y="1726"/>
                  </a:lnTo>
                  <a:lnTo>
                    <a:pt x="2588" y="1723"/>
                  </a:lnTo>
                  <a:lnTo>
                    <a:pt x="2579" y="1720"/>
                  </a:lnTo>
                  <a:lnTo>
                    <a:pt x="2570" y="1717"/>
                  </a:lnTo>
                  <a:lnTo>
                    <a:pt x="2567" y="1708"/>
                  </a:lnTo>
                  <a:lnTo>
                    <a:pt x="2564" y="1697"/>
                  </a:lnTo>
                  <a:lnTo>
                    <a:pt x="2564" y="1688"/>
                  </a:lnTo>
                  <a:lnTo>
                    <a:pt x="2561" y="1680"/>
                  </a:lnTo>
                  <a:lnTo>
                    <a:pt x="2550" y="1671"/>
                  </a:lnTo>
                  <a:lnTo>
                    <a:pt x="2538" y="1665"/>
                  </a:lnTo>
                  <a:lnTo>
                    <a:pt x="2529" y="1662"/>
                  </a:lnTo>
                  <a:lnTo>
                    <a:pt x="2521" y="1659"/>
                  </a:lnTo>
                  <a:lnTo>
                    <a:pt x="2512" y="1662"/>
                  </a:lnTo>
                  <a:lnTo>
                    <a:pt x="2506" y="1671"/>
                  </a:lnTo>
                  <a:lnTo>
                    <a:pt x="2506" y="1680"/>
                  </a:lnTo>
                  <a:lnTo>
                    <a:pt x="2503" y="1688"/>
                  </a:lnTo>
                  <a:lnTo>
                    <a:pt x="2500" y="1697"/>
                  </a:lnTo>
                  <a:lnTo>
                    <a:pt x="2500" y="1706"/>
                  </a:lnTo>
                  <a:lnTo>
                    <a:pt x="2500" y="1714"/>
                  </a:lnTo>
                  <a:lnTo>
                    <a:pt x="2509" y="1723"/>
                  </a:lnTo>
                  <a:lnTo>
                    <a:pt x="2509" y="1731"/>
                  </a:lnTo>
                  <a:lnTo>
                    <a:pt x="2509" y="1740"/>
                  </a:lnTo>
                  <a:lnTo>
                    <a:pt x="2509" y="1749"/>
                  </a:lnTo>
                  <a:lnTo>
                    <a:pt x="2509" y="1757"/>
                  </a:lnTo>
                  <a:lnTo>
                    <a:pt x="2509" y="1766"/>
                  </a:lnTo>
                  <a:lnTo>
                    <a:pt x="2509" y="1775"/>
                  </a:lnTo>
                  <a:lnTo>
                    <a:pt x="2509" y="1783"/>
                  </a:lnTo>
                  <a:lnTo>
                    <a:pt x="2506" y="1772"/>
                  </a:lnTo>
                  <a:lnTo>
                    <a:pt x="2515" y="1757"/>
                  </a:lnTo>
                  <a:lnTo>
                    <a:pt x="2509" y="1766"/>
                  </a:lnTo>
                  <a:lnTo>
                    <a:pt x="2506" y="1775"/>
                  </a:lnTo>
                  <a:lnTo>
                    <a:pt x="2503" y="1783"/>
                  </a:lnTo>
                  <a:lnTo>
                    <a:pt x="2497" y="1792"/>
                  </a:lnTo>
                  <a:lnTo>
                    <a:pt x="2494" y="1801"/>
                  </a:lnTo>
                  <a:lnTo>
                    <a:pt x="2494" y="1809"/>
                  </a:lnTo>
                  <a:lnTo>
                    <a:pt x="2494" y="1818"/>
                  </a:lnTo>
                  <a:lnTo>
                    <a:pt x="2483" y="1824"/>
                  </a:lnTo>
                  <a:lnTo>
                    <a:pt x="2465" y="1824"/>
                  </a:lnTo>
                  <a:lnTo>
                    <a:pt x="2457" y="1821"/>
                  </a:lnTo>
                  <a:lnTo>
                    <a:pt x="2448" y="1812"/>
                  </a:lnTo>
                  <a:lnTo>
                    <a:pt x="2439" y="1809"/>
                  </a:lnTo>
                  <a:lnTo>
                    <a:pt x="2430" y="1809"/>
                  </a:lnTo>
                  <a:lnTo>
                    <a:pt x="2427" y="1798"/>
                  </a:lnTo>
                  <a:lnTo>
                    <a:pt x="2439" y="1795"/>
                  </a:lnTo>
                  <a:lnTo>
                    <a:pt x="2454" y="1792"/>
                  </a:lnTo>
                  <a:lnTo>
                    <a:pt x="2462" y="1792"/>
                  </a:lnTo>
                  <a:lnTo>
                    <a:pt x="2471" y="1792"/>
                  </a:lnTo>
                  <a:lnTo>
                    <a:pt x="2477" y="1783"/>
                  </a:lnTo>
                  <a:lnTo>
                    <a:pt x="2480" y="1775"/>
                  </a:lnTo>
                  <a:lnTo>
                    <a:pt x="2480" y="1766"/>
                  </a:lnTo>
                  <a:lnTo>
                    <a:pt x="2483" y="1757"/>
                  </a:lnTo>
                  <a:lnTo>
                    <a:pt x="2486" y="1749"/>
                  </a:lnTo>
                  <a:lnTo>
                    <a:pt x="2489" y="1740"/>
                  </a:lnTo>
                  <a:lnTo>
                    <a:pt x="2491" y="1731"/>
                  </a:lnTo>
                  <a:lnTo>
                    <a:pt x="2489" y="1723"/>
                  </a:lnTo>
                  <a:lnTo>
                    <a:pt x="2489" y="1714"/>
                  </a:lnTo>
                  <a:lnTo>
                    <a:pt x="2480" y="1708"/>
                  </a:lnTo>
                  <a:lnTo>
                    <a:pt x="2474" y="1700"/>
                  </a:lnTo>
                  <a:lnTo>
                    <a:pt x="2468" y="1691"/>
                  </a:lnTo>
                  <a:lnTo>
                    <a:pt x="2465" y="1682"/>
                  </a:lnTo>
                  <a:lnTo>
                    <a:pt x="2459" y="1674"/>
                  </a:lnTo>
                  <a:lnTo>
                    <a:pt x="2454" y="1665"/>
                  </a:lnTo>
                  <a:lnTo>
                    <a:pt x="2454" y="1657"/>
                  </a:lnTo>
                  <a:lnTo>
                    <a:pt x="2454" y="1648"/>
                  </a:lnTo>
                  <a:lnTo>
                    <a:pt x="2454" y="1639"/>
                  </a:lnTo>
                  <a:lnTo>
                    <a:pt x="2451" y="1631"/>
                  </a:lnTo>
                  <a:lnTo>
                    <a:pt x="2448" y="1622"/>
                  </a:lnTo>
                  <a:lnTo>
                    <a:pt x="2442" y="1613"/>
                  </a:lnTo>
                  <a:lnTo>
                    <a:pt x="2433" y="1608"/>
                  </a:lnTo>
                  <a:lnTo>
                    <a:pt x="2427" y="1599"/>
                  </a:lnTo>
                  <a:lnTo>
                    <a:pt x="2422" y="1590"/>
                  </a:lnTo>
                  <a:lnTo>
                    <a:pt x="2419" y="1582"/>
                  </a:lnTo>
                  <a:lnTo>
                    <a:pt x="2419" y="1573"/>
                  </a:lnTo>
                  <a:lnTo>
                    <a:pt x="2416" y="1564"/>
                  </a:lnTo>
                  <a:lnTo>
                    <a:pt x="2416" y="1556"/>
                  </a:lnTo>
                  <a:lnTo>
                    <a:pt x="2416" y="1547"/>
                  </a:lnTo>
                  <a:lnTo>
                    <a:pt x="2416" y="1538"/>
                  </a:lnTo>
                  <a:lnTo>
                    <a:pt x="2416" y="1530"/>
                  </a:lnTo>
                  <a:lnTo>
                    <a:pt x="2407" y="1521"/>
                  </a:lnTo>
                  <a:lnTo>
                    <a:pt x="2395" y="1518"/>
                  </a:lnTo>
                  <a:lnTo>
                    <a:pt x="2390" y="1510"/>
                  </a:lnTo>
                  <a:lnTo>
                    <a:pt x="2390" y="1501"/>
                  </a:lnTo>
                  <a:lnTo>
                    <a:pt x="2381" y="1498"/>
                  </a:lnTo>
                  <a:lnTo>
                    <a:pt x="2390" y="1504"/>
                  </a:lnTo>
                  <a:lnTo>
                    <a:pt x="2381" y="1510"/>
                  </a:lnTo>
                  <a:lnTo>
                    <a:pt x="2372" y="1515"/>
                  </a:lnTo>
                  <a:lnTo>
                    <a:pt x="2372" y="1524"/>
                  </a:lnTo>
                  <a:lnTo>
                    <a:pt x="2366" y="1533"/>
                  </a:lnTo>
                  <a:lnTo>
                    <a:pt x="2366" y="1541"/>
                  </a:lnTo>
                  <a:lnTo>
                    <a:pt x="2366" y="1550"/>
                  </a:lnTo>
                  <a:lnTo>
                    <a:pt x="2366" y="1559"/>
                  </a:lnTo>
                  <a:lnTo>
                    <a:pt x="2366" y="1567"/>
                  </a:lnTo>
                  <a:lnTo>
                    <a:pt x="2363" y="1576"/>
                  </a:lnTo>
                  <a:lnTo>
                    <a:pt x="2360" y="1584"/>
                  </a:lnTo>
                  <a:lnTo>
                    <a:pt x="2358" y="1593"/>
                  </a:lnTo>
                  <a:lnTo>
                    <a:pt x="2352" y="1602"/>
                  </a:lnTo>
                  <a:lnTo>
                    <a:pt x="2349" y="1610"/>
                  </a:lnTo>
                  <a:lnTo>
                    <a:pt x="2346" y="1619"/>
                  </a:lnTo>
                  <a:lnTo>
                    <a:pt x="2346" y="1628"/>
                  </a:lnTo>
                  <a:lnTo>
                    <a:pt x="2346" y="1636"/>
                  </a:lnTo>
                  <a:lnTo>
                    <a:pt x="2355" y="1639"/>
                  </a:lnTo>
                  <a:lnTo>
                    <a:pt x="2363" y="1639"/>
                  </a:lnTo>
                  <a:lnTo>
                    <a:pt x="2372" y="1636"/>
                  </a:lnTo>
                  <a:lnTo>
                    <a:pt x="2372" y="1645"/>
                  </a:lnTo>
                  <a:lnTo>
                    <a:pt x="2372" y="1654"/>
                  </a:lnTo>
                  <a:lnTo>
                    <a:pt x="2372" y="1662"/>
                  </a:lnTo>
                  <a:lnTo>
                    <a:pt x="2372" y="1671"/>
                  </a:lnTo>
                  <a:lnTo>
                    <a:pt x="2372" y="1682"/>
                  </a:lnTo>
                  <a:lnTo>
                    <a:pt x="2369" y="1691"/>
                  </a:lnTo>
                  <a:lnTo>
                    <a:pt x="2378" y="1697"/>
                  </a:lnTo>
                  <a:lnTo>
                    <a:pt x="2381" y="1706"/>
                  </a:lnTo>
                  <a:lnTo>
                    <a:pt x="2390" y="1711"/>
                  </a:lnTo>
                  <a:lnTo>
                    <a:pt x="2401" y="1714"/>
                  </a:lnTo>
                  <a:lnTo>
                    <a:pt x="2404" y="1723"/>
                  </a:lnTo>
                  <a:lnTo>
                    <a:pt x="2404" y="1731"/>
                  </a:lnTo>
                  <a:lnTo>
                    <a:pt x="2404" y="1740"/>
                  </a:lnTo>
                  <a:lnTo>
                    <a:pt x="2404" y="1749"/>
                  </a:lnTo>
                  <a:lnTo>
                    <a:pt x="2395" y="1743"/>
                  </a:lnTo>
                  <a:lnTo>
                    <a:pt x="2393" y="1734"/>
                  </a:lnTo>
                  <a:lnTo>
                    <a:pt x="2387" y="1723"/>
                  </a:lnTo>
                  <a:lnTo>
                    <a:pt x="2381" y="1714"/>
                  </a:lnTo>
                  <a:lnTo>
                    <a:pt x="2372" y="1711"/>
                  </a:lnTo>
                  <a:lnTo>
                    <a:pt x="2363" y="1708"/>
                  </a:lnTo>
                  <a:lnTo>
                    <a:pt x="2355" y="1708"/>
                  </a:lnTo>
                  <a:lnTo>
                    <a:pt x="2340" y="1706"/>
                  </a:lnTo>
                  <a:lnTo>
                    <a:pt x="2328" y="1703"/>
                  </a:lnTo>
                  <a:lnTo>
                    <a:pt x="2320" y="1697"/>
                  </a:lnTo>
                  <a:lnTo>
                    <a:pt x="2311" y="1694"/>
                  </a:lnTo>
                  <a:lnTo>
                    <a:pt x="2302" y="1691"/>
                  </a:lnTo>
                  <a:lnTo>
                    <a:pt x="2294" y="1688"/>
                  </a:lnTo>
                  <a:lnTo>
                    <a:pt x="2285" y="1685"/>
                  </a:lnTo>
                  <a:lnTo>
                    <a:pt x="2276" y="1685"/>
                  </a:lnTo>
                  <a:lnTo>
                    <a:pt x="2267" y="1685"/>
                  </a:lnTo>
                  <a:lnTo>
                    <a:pt x="2273" y="1680"/>
                  </a:lnTo>
                  <a:lnTo>
                    <a:pt x="2262" y="1671"/>
                  </a:lnTo>
                  <a:lnTo>
                    <a:pt x="2262" y="1662"/>
                  </a:lnTo>
                  <a:lnTo>
                    <a:pt x="2256" y="1671"/>
                  </a:lnTo>
                  <a:lnTo>
                    <a:pt x="2247" y="1671"/>
                  </a:lnTo>
                  <a:lnTo>
                    <a:pt x="2235" y="1671"/>
                  </a:lnTo>
                  <a:lnTo>
                    <a:pt x="2227" y="1668"/>
                  </a:lnTo>
                  <a:lnTo>
                    <a:pt x="2227" y="1659"/>
                  </a:lnTo>
                  <a:lnTo>
                    <a:pt x="2221" y="1668"/>
                  </a:lnTo>
                  <a:lnTo>
                    <a:pt x="2221" y="1677"/>
                  </a:lnTo>
                  <a:lnTo>
                    <a:pt x="2232" y="1680"/>
                  </a:lnTo>
                  <a:lnTo>
                    <a:pt x="2241" y="1682"/>
                  </a:lnTo>
                  <a:lnTo>
                    <a:pt x="2244" y="1691"/>
                  </a:lnTo>
                  <a:lnTo>
                    <a:pt x="2247" y="1700"/>
                  </a:lnTo>
                  <a:lnTo>
                    <a:pt x="2250" y="1708"/>
                  </a:lnTo>
                  <a:lnTo>
                    <a:pt x="2259" y="1711"/>
                  </a:lnTo>
                  <a:lnTo>
                    <a:pt x="2262" y="1720"/>
                  </a:lnTo>
                  <a:lnTo>
                    <a:pt x="2262" y="1729"/>
                  </a:lnTo>
                  <a:lnTo>
                    <a:pt x="2262" y="1737"/>
                  </a:lnTo>
                  <a:lnTo>
                    <a:pt x="2253" y="1743"/>
                  </a:lnTo>
                  <a:lnTo>
                    <a:pt x="2250" y="1752"/>
                  </a:lnTo>
                  <a:lnTo>
                    <a:pt x="2250" y="1760"/>
                  </a:lnTo>
                  <a:lnTo>
                    <a:pt x="2244" y="1752"/>
                  </a:lnTo>
                  <a:lnTo>
                    <a:pt x="2241" y="1743"/>
                  </a:lnTo>
                  <a:lnTo>
                    <a:pt x="2232" y="1743"/>
                  </a:lnTo>
                  <a:lnTo>
                    <a:pt x="2232" y="1734"/>
                  </a:lnTo>
                  <a:lnTo>
                    <a:pt x="2221" y="1729"/>
                  </a:lnTo>
                  <a:lnTo>
                    <a:pt x="2209" y="1731"/>
                  </a:lnTo>
                  <a:lnTo>
                    <a:pt x="2200" y="1734"/>
                  </a:lnTo>
                  <a:lnTo>
                    <a:pt x="2192" y="1737"/>
                  </a:lnTo>
                  <a:lnTo>
                    <a:pt x="2183" y="1746"/>
                  </a:lnTo>
                  <a:lnTo>
                    <a:pt x="2177" y="1755"/>
                  </a:lnTo>
                  <a:lnTo>
                    <a:pt x="2168" y="1755"/>
                  </a:lnTo>
                  <a:lnTo>
                    <a:pt x="2160" y="1760"/>
                  </a:lnTo>
                  <a:lnTo>
                    <a:pt x="2151" y="1769"/>
                  </a:lnTo>
                  <a:lnTo>
                    <a:pt x="2142" y="1772"/>
                  </a:lnTo>
                  <a:lnTo>
                    <a:pt x="2133" y="1772"/>
                  </a:lnTo>
                  <a:lnTo>
                    <a:pt x="2133" y="1763"/>
                  </a:lnTo>
                  <a:lnTo>
                    <a:pt x="2142" y="1755"/>
                  </a:lnTo>
                  <a:lnTo>
                    <a:pt x="2151" y="1752"/>
                  </a:lnTo>
                  <a:lnTo>
                    <a:pt x="2160" y="1749"/>
                  </a:lnTo>
                  <a:lnTo>
                    <a:pt x="2160" y="1737"/>
                  </a:lnTo>
                  <a:lnTo>
                    <a:pt x="2154" y="1729"/>
                  </a:lnTo>
                  <a:lnTo>
                    <a:pt x="2145" y="1729"/>
                  </a:lnTo>
                  <a:lnTo>
                    <a:pt x="2136" y="1734"/>
                  </a:lnTo>
                  <a:lnTo>
                    <a:pt x="2128" y="1740"/>
                  </a:lnTo>
                  <a:lnTo>
                    <a:pt x="2122" y="1749"/>
                  </a:lnTo>
                  <a:lnTo>
                    <a:pt x="2113" y="1755"/>
                  </a:lnTo>
                  <a:lnTo>
                    <a:pt x="2104" y="1757"/>
                  </a:lnTo>
                  <a:lnTo>
                    <a:pt x="2096" y="1763"/>
                  </a:lnTo>
                  <a:lnTo>
                    <a:pt x="2087" y="1763"/>
                  </a:lnTo>
                  <a:lnTo>
                    <a:pt x="2078" y="1766"/>
                  </a:lnTo>
                  <a:lnTo>
                    <a:pt x="2069" y="1769"/>
                  </a:lnTo>
                  <a:lnTo>
                    <a:pt x="2061" y="1772"/>
                  </a:lnTo>
                  <a:lnTo>
                    <a:pt x="2055" y="1780"/>
                  </a:lnTo>
                  <a:lnTo>
                    <a:pt x="2052" y="1789"/>
                  </a:lnTo>
                  <a:lnTo>
                    <a:pt x="2040" y="1792"/>
                  </a:lnTo>
                  <a:lnTo>
                    <a:pt x="2034" y="1801"/>
                  </a:lnTo>
                  <a:lnTo>
                    <a:pt x="2034" y="1809"/>
                  </a:lnTo>
                  <a:lnTo>
                    <a:pt x="2029" y="1818"/>
                  </a:lnTo>
                  <a:lnTo>
                    <a:pt x="2020" y="1824"/>
                  </a:lnTo>
                  <a:lnTo>
                    <a:pt x="2011" y="1827"/>
                  </a:lnTo>
                  <a:lnTo>
                    <a:pt x="2008" y="1815"/>
                  </a:lnTo>
                  <a:lnTo>
                    <a:pt x="2005" y="1806"/>
                  </a:lnTo>
                  <a:lnTo>
                    <a:pt x="2005" y="1798"/>
                  </a:lnTo>
                  <a:lnTo>
                    <a:pt x="1997" y="1789"/>
                  </a:lnTo>
                  <a:lnTo>
                    <a:pt x="1988" y="1780"/>
                  </a:lnTo>
                  <a:lnTo>
                    <a:pt x="1999" y="1780"/>
                  </a:lnTo>
                  <a:lnTo>
                    <a:pt x="2011" y="1778"/>
                  </a:lnTo>
                  <a:lnTo>
                    <a:pt x="2020" y="1775"/>
                  </a:lnTo>
                  <a:lnTo>
                    <a:pt x="2020" y="1766"/>
                  </a:lnTo>
                  <a:lnTo>
                    <a:pt x="2023" y="1757"/>
                  </a:lnTo>
                  <a:lnTo>
                    <a:pt x="2023" y="1749"/>
                  </a:lnTo>
                  <a:lnTo>
                    <a:pt x="2014" y="1743"/>
                  </a:lnTo>
                  <a:lnTo>
                    <a:pt x="2005" y="1740"/>
                  </a:lnTo>
                  <a:lnTo>
                    <a:pt x="1994" y="1740"/>
                  </a:lnTo>
                  <a:lnTo>
                    <a:pt x="1985" y="1737"/>
                  </a:lnTo>
                  <a:lnTo>
                    <a:pt x="1976" y="1731"/>
                  </a:lnTo>
                  <a:lnTo>
                    <a:pt x="1967" y="1729"/>
                  </a:lnTo>
                  <a:lnTo>
                    <a:pt x="1967" y="1737"/>
                  </a:lnTo>
                  <a:lnTo>
                    <a:pt x="1970" y="1746"/>
                  </a:lnTo>
                  <a:lnTo>
                    <a:pt x="1976" y="1755"/>
                  </a:lnTo>
                  <a:lnTo>
                    <a:pt x="1976" y="1763"/>
                  </a:lnTo>
                  <a:lnTo>
                    <a:pt x="1976" y="1772"/>
                  </a:lnTo>
                  <a:lnTo>
                    <a:pt x="1973" y="1780"/>
                  </a:lnTo>
                  <a:lnTo>
                    <a:pt x="1965" y="1789"/>
                  </a:lnTo>
                  <a:lnTo>
                    <a:pt x="1956" y="1795"/>
                  </a:lnTo>
                  <a:lnTo>
                    <a:pt x="1953" y="1803"/>
                  </a:lnTo>
                  <a:lnTo>
                    <a:pt x="1962" y="1806"/>
                  </a:lnTo>
                  <a:lnTo>
                    <a:pt x="1970" y="1806"/>
                  </a:lnTo>
                  <a:lnTo>
                    <a:pt x="1979" y="1806"/>
                  </a:lnTo>
                  <a:lnTo>
                    <a:pt x="1982" y="1815"/>
                  </a:lnTo>
                  <a:lnTo>
                    <a:pt x="1976" y="1824"/>
                  </a:lnTo>
                  <a:lnTo>
                    <a:pt x="1965" y="1832"/>
                  </a:lnTo>
                  <a:lnTo>
                    <a:pt x="1959" y="1841"/>
                  </a:lnTo>
                  <a:lnTo>
                    <a:pt x="1959" y="1850"/>
                  </a:lnTo>
                  <a:lnTo>
                    <a:pt x="1947" y="1838"/>
                  </a:lnTo>
                  <a:lnTo>
                    <a:pt x="1938" y="1835"/>
                  </a:lnTo>
                  <a:lnTo>
                    <a:pt x="1933" y="1827"/>
                  </a:lnTo>
                  <a:lnTo>
                    <a:pt x="1924" y="1821"/>
                  </a:lnTo>
                  <a:lnTo>
                    <a:pt x="1915" y="1821"/>
                  </a:lnTo>
                  <a:lnTo>
                    <a:pt x="1906" y="1829"/>
                  </a:lnTo>
                  <a:lnTo>
                    <a:pt x="1898" y="1835"/>
                  </a:lnTo>
                  <a:lnTo>
                    <a:pt x="1889" y="1838"/>
                  </a:lnTo>
                  <a:lnTo>
                    <a:pt x="1880" y="1841"/>
                  </a:lnTo>
                  <a:lnTo>
                    <a:pt x="1874" y="1850"/>
                  </a:lnTo>
                  <a:lnTo>
                    <a:pt x="1871" y="1858"/>
                  </a:lnTo>
                  <a:lnTo>
                    <a:pt x="1868" y="1867"/>
                  </a:lnTo>
                  <a:lnTo>
                    <a:pt x="1868" y="1876"/>
                  </a:lnTo>
                  <a:lnTo>
                    <a:pt x="1868" y="1884"/>
                  </a:lnTo>
                  <a:lnTo>
                    <a:pt x="1868" y="1893"/>
                  </a:lnTo>
                  <a:lnTo>
                    <a:pt x="1868" y="1901"/>
                  </a:lnTo>
                  <a:lnTo>
                    <a:pt x="1860" y="1907"/>
                  </a:lnTo>
                  <a:lnTo>
                    <a:pt x="1848" y="1901"/>
                  </a:lnTo>
                  <a:lnTo>
                    <a:pt x="1845" y="1893"/>
                  </a:lnTo>
                  <a:lnTo>
                    <a:pt x="1839" y="1884"/>
                  </a:lnTo>
                  <a:lnTo>
                    <a:pt x="1831" y="1876"/>
                  </a:lnTo>
                  <a:lnTo>
                    <a:pt x="1822" y="1870"/>
                  </a:lnTo>
                  <a:lnTo>
                    <a:pt x="1813" y="1867"/>
                  </a:lnTo>
                  <a:lnTo>
                    <a:pt x="1804" y="1867"/>
                  </a:lnTo>
                  <a:lnTo>
                    <a:pt x="1799" y="1876"/>
                  </a:lnTo>
                  <a:lnTo>
                    <a:pt x="1796" y="1884"/>
                  </a:lnTo>
                  <a:lnTo>
                    <a:pt x="1796" y="1893"/>
                  </a:lnTo>
                  <a:lnTo>
                    <a:pt x="1804" y="1899"/>
                  </a:lnTo>
                  <a:lnTo>
                    <a:pt x="1816" y="1901"/>
                  </a:lnTo>
                  <a:lnTo>
                    <a:pt x="1819" y="1910"/>
                  </a:lnTo>
                  <a:lnTo>
                    <a:pt x="1807" y="1910"/>
                  </a:lnTo>
                  <a:lnTo>
                    <a:pt x="1819" y="1893"/>
                  </a:lnTo>
                  <a:lnTo>
                    <a:pt x="1810" y="1896"/>
                  </a:lnTo>
                  <a:lnTo>
                    <a:pt x="1822" y="1899"/>
                  </a:lnTo>
                  <a:lnTo>
                    <a:pt x="1822" y="1910"/>
                  </a:lnTo>
                  <a:lnTo>
                    <a:pt x="1822" y="1919"/>
                  </a:lnTo>
                  <a:lnTo>
                    <a:pt x="1816" y="1927"/>
                  </a:lnTo>
                  <a:lnTo>
                    <a:pt x="1802" y="1927"/>
                  </a:lnTo>
                  <a:lnTo>
                    <a:pt x="1793" y="1922"/>
                  </a:lnTo>
                  <a:lnTo>
                    <a:pt x="1790" y="1913"/>
                  </a:lnTo>
                  <a:lnTo>
                    <a:pt x="1790" y="1904"/>
                  </a:lnTo>
                  <a:lnTo>
                    <a:pt x="1784" y="1896"/>
                  </a:lnTo>
                  <a:lnTo>
                    <a:pt x="1778" y="1887"/>
                  </a:lnTo>
                  <a:lnTo>
                    <a:pt x="1770" y="1878"/>
                  </a:lnTo>
                  <a:lnTo>
                    <a:pt x="1767" y="1870"/>
                  </a:lnTo>
                  <a:lnTo>
                    <a:pt x="1764" y="1861"/>
                  </a:lnTo>
                  <a:lnTo>
                    <a:pt x="1764" y="1850"/>
                  </a:lnTo>
                  <a:lnTo>
                    <a:pt x="1764" y="1841"/>
                  </a:lnTo>
                  <a:lnTo>
                    <a:pt x="1764" y="1832"/>
                  </a:lnTo>
                  <a:lnTo>
                    <a:pt x="1772" y="1827"/>
                  </a:lnTo>
                  <a:lnTo>
                    <a:pt x="1778" y="1818"/>
                  </a:lnTo>
                  <a:lnTo>
                    <a:pt x="1778" y="1809"/>
                  </a:lnTo>
                  <a:lnTo>
                    <a:pt x="1778" y="1801"/>
                  </a:lnTo>
                  <a:lnTo>
                    <a:pt x="1778" y="1792"/>
                  </a:lnTo>
                  <a:lnTo>
                    <a:pt x="1770" y="1783"/>
                  </a:lnTo>
                  <a:lnTo>
                    <a:pt x="1761" y="1778"/>
                  </a:lnTo>
                  <a:lnTo>
                    <a:pt x="1752" y="1772"/>
                  </a:lnTo>
                  <a:lnTo>
                    <a:pt x="1752" y="1763"/>
                  </a:lnTo>
                  <a:lnTo>
                    <a:pt x="1752" y="1752"/>
                  </a:lnTo>
                  <a:lnTo>
                    <a:pt x="1752" y="1743"/>
                  </a:lnTo>
                  <a:lnTo>
                    <a:pt x="1764" y="1749"/>
                  </a:lnTo>
                  <a:lnTo>
                    <a:pt x="1772" y="1757"/>
                  </a:lnTo>
                  <a:lnTo>
                    <a:pt x="1781" y="1763"/>
                  </a:lnTo>
                  <a:lnTo>
                    <a:pt x="1781" y="1772"/>
                  </a:lnTo>
                  <a:lnTo>
                    <a:pt x="1787" y="1783"/>
                  </a:lnTo>
                  <a:lnTo>
                    <a:pt x="1796" y="1789"/>
                  </a:lnTo>
                  <a:lnTo>
                    <a:pt x="1804" y="1795"/>
                  </a:lnTo>
                  <a:lnTo>
                    <a:pt x="1816" y="1801"/>
                  </a:lnTo>
                  <a:lnTo>
                    <a:pt x="1822" y="1809"/>
                  </a:lnTo>
                  <a:lnTo>
                    <a:pt x="1831" y="1815"/>
                  </a:lnTo>
                  <a:lnTo>
                    <a:pt x="1836" y="1824"/>
                  </a:lnTo>
                  <a:lnTo>
                    <a:pt x="1845" y="1829"/>
                  </a:lnTo>
                  <a:lnTo>
                    <a:pt x="1854" y="1835"/>
                  </a:lnTo>
                  <a:lnTo>
                    <a:pt x="1866" y="1835"/>
                  </a:lnTo>
                  <a:lnTo>
                    <a:pt x="1874" y="1835"/>
                  </a:lnTo>
                  <a:lnTo>
                    <a:pt x="1883" y="1835"/>
                  </a:lnTo>
                  <a:lnTo>
                    <a:pt x="1892" y="1829"/>
                  </a:lnTo>
                  <a:lnTo>
                    <a:pt x="1901" y="1827"/>
                  </a:lnTo>
                  <a:lnTo>
                    <a:pt x="1909" y="1818"/>
                  </a:lnTo>
                  <a:lnTo>
                    <a:pt x="1909" y="1809"/>
                  </a:lnTo>
                  <a:lnTo>
                    <a:pt x="1909" y="1801"/>
                  </a:lnTo>
                  <a:lnTo>
                    <a:pt x="1909" y="1792"/>
                  </a:lnTo>
                  <a:lnTo>
                    <a:pt x="1915" y="1783"/>
                  </a:lnTo>
                  <a:lnTo>
                    <a:pt x="1918" y="1775"/>
                  </a:lnTo>
                  <a:lnTo>
                    <a:pt x="1918" y="1766"/>
                  </a:lnTo>
                  <a:lnTo>
                    <a:pt x="1915" y="1757"/>
                  </a:lnTo>
                  <a:lnTo>
                    <a:pt x="1909" y="1749"/>
                  </a:lnTo>
                  <a:lnTo>
                    <a:pt x="1901" y="1740"/>
                  </a:lnTo>
                  <a:lnTo>
                    <a:pt x="1895" y="1731"/>
                  </a:lnTo>
                  <a:lnTo>
                    <a:pt x="1892" y="1720"/>
                  </a:lnTo>
                  <a:lnTo>
                    <a:pt x="1889" y="1711"/>
                  </a:lnTo>
                  <a:lnTo>
                    <a:pt x="1880" y="1706"/>
                  </a:lnTo>
                  <a:lnTo>
                    <a:pt x="1871" y="1697"/>
                  </a:lnTo>
                  <a:lnTo>
                    <a:pt x="1866" y="1688"/>
                  </a:lnTo>
                  <a:lnTo>
                    <a:pt x="1860" y="1680"/>
                  </a:lnTo>
                  <a:lnTo>
                    <a:pt x="1851" y="1671"/>
                  </a:lnTo>
                  <a:lnTo>
                    <a:pt x="1842" y="1665"/>
                  </a:lnTo>
                  <a:lnTo>
                    <a:pt x="1831" y="1662"/>
                  </a:lnTo>
                  <a:lnTo>
                    <a:pt x="1819" y="1657"/>
                  </a:lnTo>
                  <a:lnTo>
                    <a:pt x="1813" y="1648"/>
                  </a:lnTo>
                  <a:lnTo>
                    <a:pt x="1810" y="1639"/>
                  </a:lnTo>
                  <a:lnTo>
                    <a:pt x="1807" y="1631"/>
                  </a:lnTo>
                  <a:lnTo>
                    <a:pt x="1799" y="1622"/>
                  </a:lnTo>
                  <a:lnTo>
                    <a:pt x="1793" y="1613"/>
                  </a:lnTo>
                  <a:lnTo>
                    <a:pt x="1784" y="1613"/>
                  </a:lnTo>
                  <a:lnTo>
                    <a:pt x="1772" y="1613"/>
                  </a:lnTo>
                  <a:lnTo>
                    <a:pt x="1764" y="1608"/>
                  </a:lnTo>
                  <a:lnTo>
                    <a:pt x="1761" y="1599"/>
                  </a:lnTo>
                  <a:lnTo>
                    <a:pt x="1772" y="1596"/>
                  </a:lnTo>
                  <a:lnTo>
                    <a:pt x="1781" y="1596"/>
                  </a:lnTo>
                  <a:lnTo>
                    <a:pt x="1787" y="1587"/>
                  </a:lnTo>
                  <a:lnTo>
                    <a:pt x="1778" y="1579"/>
                  </a:lnTo>
                  <a:lnTo>
                    <a:pt x="1770" y="1576"/>
                  </a:lnTo>
                  <a:lnTo>
                    <a:pt x="1761" y="1573"/>
                  </a:lnTo>
                  <a:lnTo>
                    <a:pt x="1758" y="1564"/>
                  </a:lnTo>
                  <a:lnTo>
                    <a:pt x="1758" y="1556"/>
                  </a:lnTo>
                  <a:lnTo>
                    <a:pt x="1758" y="1547"/>
                  </a:lnTo>
                  <a:lnTo>
                    <a:pt x="1749" y="1547"/>
                  </a:lnTo>
                  <a:lnTo>
                    <a:pt x="1737" y="1553"/>
                  </a:lnTo>
                  <a:lnTo>
                    <a:pt x="1729" y="1553"/>
                  </a:lnTo>
                  <a:lnTo>
                    <a:pt x="1720" y="1556"/>
                  </a:lnTo>
                  <a:lnTo>
                    <a:pt x="1720" y="1547"/>
                  </a:lnTo>
                  <a:lnTo>
                    <a:pt x="1723" y="1538"/>
                  </a:lnTo>
                  <a:lnTo>
                    <a:pt x="1726" y="1550"/>
                  </a:lnTo>
                  <a:lnTo>
                    <a:pt x="1723" y="1559"/>
                  </a:lnTo>
                  <a:lnTo>
                    <a:pt x="1723" y="1567"/>
                  </a:lnTo>
                  <a:lnTo>
                    <a:pt x="1732" y="1567"/>
                  </a:lnTo>
                  <a:lnTo>
                    <a:pt x="1740" y="1556"/>
                  </a:lnTo>
                  <a:lnTo>
                    <a:pt x="1726" y="1553"/>
                  </a:lnTo>
                  <a:lnTo>
                    <a:pt x="1717" y="1553"/>
                  </a:lnTo>
                  <a:lnTo>
                    <a:pt x="1705" y="1553"/>
                  </a:lnTo>
                  <a:lnTo>
                    <a:pt x="1705" y="1541"/>
                  </a:lnTo>
                  <a:lnTo>
                    <a:pt x="1711" y="1533"/>
                  </a:lnTo>
                  <a:lnTo>
                    <a:pt x="1700" y="1535"/>
                  </a:lnTo>
                  <a:lnTo>
                    <a:pt x="1691" y="1541"/>
                  </a:lnTo>
                  <a:lnTo>
                    <a:pt x="1679" y="1544"/>
                  </a:lnTo>
                  <a:lnTo>
                    <a:pt x="1685" y="1533"/>
                  </a:lnTo>
                  <a:lnTo>
                    <a:pt x="1685" y="1524"/>
                  </a:lnTo>
                  <a:lnTo>
                    <a:pt x="1676" y="1524"/>
                  </a:lnTo>
                  <a:lnTo>
                    <a:pt x="1668" y="1533"/>
                  </a:lnTo>
                  <a:lnTo>
                    <a:pt x="1662" y="1541"/>
                  </a:lnTo>
                  <a:lnTo>
                    <a:pt x="1653" y="1544"/>
                  </a:lnTo>
                  <a:lnTo>
                    <a:pt x="1653" y="1535"/>
                  </a:lnTo>
                  <a:lnTo>
                    <a:pt x="1644" y="1541"/>
                  </a:lnTo>
                  <a:lnTo>
                    <a:pt x="1641" y="1550"/>
                  </a:lnTo>
                  <a:lnTo>
                    <a:pt x="1633" y="1547"/>
                  </a:lnTo>
                  <a:lnTo>
                    <a:pt x="1633" y="1538"/>
                  </a:lnTo>
                  <a:lnTo>
                    <a:pt x="1624" y="1538"/>
                  </a:lnTo>
                  <a:lnTo>
                    <a:pt x="1615" y="1541"/>
                  </a:lnTo>
                  <a:lnTo>
                    <a:pt x="1609" y="1550"/>
                  </a:lnTo>
                  <a:lnTo>
                    <a:pt x="1601" y="1541"/>
                  </a:lnTo>
                  <a:lnTo>
                    <a:pt x="1598" y="1533"/>
                  </a:lnTo>
                  <a:lnTo>
                    <a:pt x="1589" y="1535"/>
                  </a:lnTo>
                  <a:lnTo>
                    <a:pt x="1580" y="1541"/>
                  </a:lnTo>
                  <a:lnTo>
                    <a:pt x="1569" y="1538"/>
                  </a:lnTo>
                  <a:lnTo>
                    <a:pt x="1563" y="1547"/>
                  </a:lnTo>
                  <a:lnTo>
                    <a:pt x="1557" y="1559"/>
                  </a:lnTo>
                  <a:lnTo>
                    <a:pt x="1554" y="1567"/>
                  </a:lnTo>
                  <a:lnTo>
                    <a:pt x="1548" y="1576"/>
                  </a:lnTo>
                  <a:lnTo>
                    <a:pt x="1540" y="1576"/>
                  </a:lnTo>
                  <a:lnTo>
                    <a:pt x="1531" y="1576"/>
                  </a:lnTo>
                  <a:lnTo>
                    <a:pt x="1525" y="1564"/>
                  </a:lnTo>
                  <a:lnTo>
                    <a:pt x="1525" y="1556"/>
                  </a:lnTo>
                  <a:lnTo>
                    <a:pt x="1525" y="1547"/>
                  </a:lnTo>
                  <a:lnTo>
                    <a:pt x="1516" y="1544"/>
                  </a:lnTo>
                  <a:lnTo>
                    <a:pt x="1513" y="1553"/>
                  </a:lnTo>
                  <a:lnTo>
                    <a:pt x="1528" y="1541"/>
                  </a:lnTo>
                  <a:lnTo>
                    <a:pt x="1510" y="1530"/>
                  </a:lnTo>
                  <a:lnTo>
                    <a:pt x="1502" y="1530"/>
                  </a:lnTo>
                  <a:lnTo>
                    <a:pt x="1493" y="1538"/>
                  </a:lnTo>
                  <a:lnTo>
                    <a:pt x="1484" y="1544"/>
                  </a:lnTo>
                  <a:lnTo>
                    <a:pt x="1481" y="1553"/>
                  </a:lnTo>
                  <a:lnTo>
                    <a:pt x="1481" y="1561"/>
                  </a:lnTo>
                  <a:lnTo>
                    <a:pt x="1487" y="1570"/>
                  </a:lnTo>
                  <a:lnTo>
                    <a:pt x="1487" y="1579"/>
                  </a:lnTo>
                  <a:lnTo>
                    <a:pt x="1478" y="1587"/>
                  </a:lnTo>
                  <a:lnTo>
                    <a:pt x="1470" y="1590"/>
                  </a:lnTo>
                  <a:lnTo>
                    <a:pt x="1461" y="1599"/>
                  </a:lnTo>
                  <a:lnTo>
                    <a:pt x="1443" y="1599"/>
                  </a:lnTo>
                  <a:lnTo>
                    <a:pt x="1432" y="1599"/>
                  </a:lnTo>
                  <a:lnTo>
                    <a:pt x="1426" y="1610"/>
                  </a:lnTo>
                  <a:lnTo>
                    <a:pt x="1420" y="1619"/>
                  </a:lnTo>
                  <a:lnTo>
                    <a:pt x="1429" y="1619"/>
                  </a:lnTo>
                  <a:lnTo>
                    <a:pt x="1417" y="1628"/>
                  </a:lnTo>
                  <a:lnTo>
                    <a:pt x="1406" y="1628"/>
                  </a:lnTo>
                  <a:lnTo>
                    <a:pt x="1397" y="1628"/>
                  </a:lnTo>
                  <a:lnTo>
                    <a:pt x="1388" y="1628"/>
                  </a:lnTo>
                  <a:lnTo>
                    <a:pt x="1382" y="1636"/>
                  </a:lnTo>
                  <a:lnTo>
                    <a:pt x="1379" y="1645"/>
                  </a:lnTo>
                  <a:lnTo>
                    <a:pt x="1371" y="1645"/>
                  </a:lnTo>
                  <a:lnTo>
                    <a:pt x="1362" y="1645"/>
                  </a:lnTo>
                  <a:lnTo>
                    <a:pt x="1356" y="1654"/>
                  </a:lnTo>
                  <a:lnTo>
                    <a:pt x="1347" y="1657"/>
                  </a:lnTo>
                  <a:lnTo>
                    <a:pt x="1336" y="1659"/>
                  </a:lnTo>
                  <a:lnTo>
                    <a:pt x="1327" y="1659"/>
                  </a:lnTo>
                  <a:lnTo>
                    <a:pt x="1318" y="1662"/>
                  </a:lnTo>
                  <a:lnTo>
                    <a:pt x="1310" y="1662"/>
                  </a:lnTo>
                  <a:lnTo>
                    <a:pt x="1298" y="1662"/>
                  </a:lnTo>
                  <a:lnTo>
                    <a:pt x="1289" y="1665"/>
                  </a:lnTo>
                  <a:lnTo>
                    <a:pt x="1280" y="1671"/>
                  </a:lnTo>
                  <a:lnTo>
                    <a:pt x="1278" y="1680"/>
                  </a:lnTo>
                  <a:lnTo>
                    <a:pt x="1280" y="1691"/>
                  </a:lnTo>
                  <a:lnTo>
                    <a:pt x="1289" y="1694"/>
                  </a:lnTo>
                  <a:lnTo>
                    <a:pt x="1301" y="1697"/>
                  </a:lnTo>
                  <a:lnTo>
                    <a:pt x="1312" y="1697"/>
                  </a:lnTo>
                  <a:lnTo>
                    <a:pt x="1321" y="1697"/>
                  </a:lnTo>
                  <a:lnTo>
                    <a:pt x="1310" y="1694"/>
                  </a:lnTo>
                  <a:lnTo>
                    <a:pt x="1298" y="1694"/>
                  </a:lnTo>
                  <a:lnTo>
                    <a:pt x="1289" y="1691"/>
                  </a:lnTo>
                  <a:lnTo>
                    <a:pt x="1304" y="1685"/>
                  </a:lnTo>
                  <a:lnTo>
                    <a:pt x="1312" y="1685"/>
                  </a:lnTo>
                  <a:lnTo>
                    <a:pt x="1321" y="1685"/>
                  </a:lnTo>
                  <a:lnTo>
                    <a:pt x="1312" y="1682"/>
                  </a:lnTo>
                  <a:lnTo>
                    <a:pt x="1301" y="1685"/>
                  </a:lnTo>
                  <a:lnTo>
                    <a:pt x="1292" y="1685"/>
                  </a:lnTo>
                  <a:lnTo>
                    <a:pt x="1286" y="1677"/>
                  </a:lnTo>
                  <a:lnTo>
                    <a:pt x="1275" y="1668"/>
                  </a:lnTo>
                  <a:lnTo>
                    <a:pt x="1266" y="1665"/>
                  </a:lnTo>
                  <a:lnTo>
                    <a:pt x="1248" y="1659"/>
                  </a:lnTo>
                  <a:lnTo>
                    <a:pt x="1240" y="1659"/>
                  </a:lnTo>
                  <a:lnTo>
                    <a:pt x="1234" y="1668"/>
                  </a:lnTo>
                  <a:lnTo>
                    <a:pt x="1225" y="1671"/>
                  </a:lnTo>
                  <a:lnTo>
                    <a:pt x="1216" y="1674"/>
                  </a:lnTo>
                  <a:lnTo>
                    <a:pt x="1208" y="1674"/>
                  </a:lnTo>
                  <a:lnTo>
                    <a:pt x="1199" y="1671"/>
                  </a:lnTo>
                  <a:lnTo>
                    <a:pt x="1190" y="1674"/>
                  </a:lnTo>
                  <a:lnTo>
                    <a:pt x="1176" y="1671"/>
                  </a:lnTo>
                  <a:lnTo>
                    <a:pt x="1167" y="1668"/>
                  </a:lnTo>
                  <a:lnTo>
                    <a:pt x="1161" y="1677"/>
                  </a:lnTo>
                  <a:lnTo>
                    <a:pt x="1152" y="1682"/>
                  </a:lnTo>
                  <a:lnTo>
                    <a:pt x="1144" y="1682"/>
                  </a:lnTo>
                  <a:lnTo>
                    <a:pt x="1132" y="1682"/>
                  </a:lnTo>
                  <a:lnTo>
                    <a:pt x="1132" y="1691"/>
                  </a:lnTo>
                  <a:lnTo>
                    <a:pt x="1132" y="1700"/>
                  </a:lnTo>
                  <a:lnTo>
                    <a:pt x="1147" y="1708"/>
                  </a:lnTo>
                  <a:lnTo>
                    <a:pt x="1155" y="1720"/>
                  </a:lnTo>
                  <a:lnTo>
                    <a:pt x="1158" y="1729"/>
                  </a:lnTo>
                  <a:lnTo>
                    <a:pt x="1158" y="1737"/>
                  </a:lnTo>
                  <a:lnTo>
                    <a:pt x="1161" y="1746"/>
                  </a:lnTo>
                  <a:lnTo>
                    <a:pt x="1161" y="1737"/>
                  </a:lnTo>
                  <a:lnTo>
                    <a:pt x="1155" y="1726"/>
                  </a:lnTo>
                  <a:lnTo>
                    <a:pt x="1152" y="1717"/>
                  </a:lnTo>
                  <a:lnTo>
                    <a:pt x="1138" y="1717"/>
                  </a:lnTo>
                  <a:lnTo>
                    <a:pt x="1129" y="1711"/>
                  </a:lnTo>
                  <a:lnTo>
                    <a:pt x="1120" y="1711"/>
                  </a:lnTo>
                  <a:lnTo>
                    <a:pt x="1117" y="1720"/>
                  </a:lnTo>
                  <a:lnTo>
                    <a:pt x="1114" y="1731"/>
                  </a:lnTo>
                  <a:lnTo>
                    <a:pt x="1114" y="1740"/>
                  </a:lnTo>
                  <a:lnTo>
                    <a:pt x="1126" y="1740"/>
                  </a:lnTo>
                  <a:lnTo>
                    <a:pt x="1138" y="1743"/>
                  </a:lnTo>
                  <a:lnTo>
                    <a:pt x="1129" y="1743"/>
                  </a:lnTo>
                  <a:lnTo>
                    <a:pt x="1120" y="1743"/>
                  </a:lnTo>
                  <a:lnTo>
                    <a:pt x="1112" y="1746"/>
                  </a:lnTo>
                  <a:lnTo>
                    <a:pt x="1103" y="1752"/>
                  </a:lnTo>
                  <a:lnTo>
                    <a:pt x="1094" y="1755"/>
                  </a:lnTo>
                  <a:lnTo>
                    <a:pt x="1085" y="1763"/>
                  </a:lnTo>
                  <a:lnTo>
                    <a:pt x="1077" y="1766"/>
                  </a:lnTo>
                  <a:lnTo>
                    <a:pt x="1068" y="1766"/>
                  </a:lnTo>
                  <a:lnTo>
                    <a:pt x="1077" y="1772"/>
                  </a:lnTo>
                  <a:lnTo>
                    <a:pt x="1085" y="1772"/>
                  </a:lnTo>
                  <a:lnTo>
                    <a:pt x="1097" y="1775"/>
                  </a:lnTo>
                  <a:lnTo>
                    <a:pt x="1091" y="1783"/>
                  </a:lnTo>
                  <a:lnTo>
                    <a:pt x="1080" y="1786"/>
                  </a:lnTo>
                  <a:lnTo>
                    <a:pt x="1071" y="1786"/>
                  </a:lnTo>
                  <a:lnTo>
                    <a:pt x="1062" y="1789"/>
                  </a:lnTo>
                  <a:lnTo>
                    <a:pt x="1056" y="1798"/>
                  </a:lnTo>
                  <a:lnTo>
                    <a:pt x="1056" y="1806"/>
                  </a:lnTo>
                  <a:lnTo>
                    <a:pt x="1056" y="1815"/>
                  </a:lnTo>
                  <a:lnTo>
                    <a:pt x="1056" y="1824"/>
                  </a:lnTo>
                  <a:lnTo>
                    <a:pt x="1056" y="1832"/>
                  </a:lnTo>
                  <a:lnTo>
                    <a:pt x="1056" y="1841"/>
                  </a:lnTo>
                  <a:lnTo>
                    <a:pt x="1062" y="1850"/>
                  </a:lnTo>
                  <a:lnTo>
                    <a:pt x="1074" y="1855"/>
                  </a:lnTo>
                  <a:lnTo>
                    <a:pt x="1082" y="1855"/>
                  </a:lnTo>
                  <a:lnTo>
                    <a:pt x="1091" y="1855"/>
                  </a:lnTo>
                  <a:lnTo>
                    <a:pt x="1103" y="1855"/>
                  </a:lnTo>
                  <a:lnTo>
                    <a:pt x="1112" y="1855"/>
                  </a:lnTo>
                  <a:lnTo>
                    <a:pt x="1120" y="1855"/>
                  </a:lnTo>
                  <a:lnTo>
                    <a:pt x="1132" y="1855"/>
                  </a:lnTo>
                  <a:lnTo>
                    <a:pt x="1144" y="1855"/>
                  </a:lnTo>
                  <a:lnTo>
                    <a:pt x="1152" y="1852"/>
                  </a:lnTo>
                  <a:lnTo>
                    <a:pt x="1167" y="1852"/>
                  </a:lnTo>
                  <a:lnTo>
                    <a:pt x="1176" y="1844"/>
                  </a:lnTo>
                  <a:lnTo>
                    <a:pt x="1179" y="1835"/>
                  </a:lnTo>
                  <a:lnTo>
                    <a:pt x="1181" y="1827"/>
                  </a:lnTo>
                  <a:lnTo>
                    <a:pt x="1184" y="1835"/>
                  </a:lnTo>
                  <a:lnTo>
                    <a:pt x="1184" y="1844"/>
                  </a:lnTo>
                  <a:lnTo>
                    <a:pt x="1181" y="1852"/>
                  </a:lnTo>
                  <a:lnTo>
                    <a:pt x="1170" y="1858"/>
                  </a:lnTo>
                  <a:lnTo>
                    <a:pt x="1173" y="1867"/>
                  </a:lnTo>
                  <a:lnTo>
                    <a:pt x="1170" y="1876"/>
                  </a:lnTo>
                  <a:lnTo>
                    <a:pt x="1164" y="1884"/>
                  </a:lnTo>
                  <a:lnTo>
                    <a:pt x="1161" y="1893"/>
                  </a:lnTo>
                  <a:lnTo>
                    <a:pt x="1161" y="1901"/>
                  </a:lnTo>
                  <a:lnTo>
                    <a:pt x="1158" y="1910"/>
                  </a:lnTo>
                  <a:lnTo>
                    <a:pt x="1149" y="1913"/>
                  </a:lnTo>
                  <a:lnTo>
                    <a:pt x="1147" y="1922"/>
                  </a:lnTo>
                  <a:lnTo>
                    <a:pt x="1147" y="1930"/>
                  </a:lnTo>
                  <a:lnTo>
                    <a:pt x="1144" y="1939"/>
                  </a:lnTo>
                  <a:lnTo>
                    <a:pt x="1144" y="1948"/>
                  </a:lnTo>
                  <a:lnTo>
                    <a:pt x="1141" y="1956"/>
                  </a:lnTo>
                  <a:lnTo>
                    <a:pt x="1141" y="1968"/>
                  </a:lnTo>
                  <a:lnTo>
                    <a:pt x="1141" y="1976"/>
                  </a:lnTo>
                  <a:lnTo>
                    <a:pt x="1155" y="1956"/>
                  </a:lnTo>
                  <a:lnTo>
                    <a:pt x="1144" y="1956"/>
                  </a:lnTo>
                  <a:lnTo>
                    <a:pt x="1144" y="1965"/>
                  </a:lnTo>
                  <a:lnTo>
                    <a:pt x="1144" y="1974"/>
                  </a:lnTo>
                  <a:lnTo>
                    <a:pt x="1144" y="1982"/>
                  </a:lnTo>
                  <a:lnTo>
                    <a:pt x="1138" y="1991"/>
                  </a:lnTo>
                  <a:lnTo>
                    <a:pt x="1129" y="1997"/>
                  </a:lnTo>
                  <a:lnTo>
                    <a:pt x="1120" y="1997"/>
                  </a:lnTo>
                  <a:lnTo>
                    <a:pt x="1117" y="2005"/>
                  </a:lnTo>
                  <a:lnTo>
                    <a:pt x="1117" y="2014"/>
                  </a:lnTo>
                  <a:lnTo>
                    <a:pt x="1117" y="2023"/>
                  </a:lnTo>
                  <a:lnTo>
                    <a:pt x="1117" y="2031"/>
                  </a:lnTo>
                  <a:lnTo>
                    <a:pt x="1120" y="2040"/>
                  </a:lnTo>
                  <a:lnTo>
                    <a:pt x="1129" y="2046"/>
                  </a:lnTo>
                  <a:lnTo>
                    <a:pt x="1144" y="2054"/>
                  </a:lnTo>
                  <a:lnTo>
                    <a:pt x="1152" y="2054"/>
                  </a:lnTo>
                  <a:lnTo>
                    <a:pt x="1158" y="2046"/>
                  </a:lnTo>
                  <a:lnTo>
                    <a:pt x="1158" y="2037"/>
                  </a:lnTo>
                  <a:lnTo>
                    <a:pt x="1170" y="2037"/>
                  </a:lnTo>
                  <a:lnTo>
                    <a:pt x="1179" y="2037"/>
                  </a:lnTo>
                  <a:lnTo>
                    <a:pt x="1187" y="2037"/>
                  </a:lnTo>
                  <a:lnTo>
                    <a:pt x="1199" y="2037"/>
                  </a:lnTo>
                  <a:lnTo>
                    <a:pt x="1208" y="2040"/>
                  </a:lnTo>
                  <a:lnTo>
                    <a:pt x="1216" y="2043"/>
                  </a:lnTo>
                  <a:lnTo>
                    <a:pt x="1225" y="2040"/>
                  </a:lnTo>
                  <a:lnTo>
                    <a:pt x="1228" y="2031"/>
                  </a:lnTo>
                  <a:lnTo>
                    <a:pt x="1231" y="2023"/>
                  </a:lnTo>
                  <a:lnTo>
                    <a:pt x="1237" y="2014"/>
                  </a:lnTo>
                  <a:lnTo>
                    <a:pt x="1245" y="2005"/>
                  </a:lnTo>
                  <a:lnTo>
                    <a:pt x="1251" y="1997"/>
                  </a:lnTo>
                  <a:lnTo>
                    <a:pt x="1260" y="1991"/>
                  </a:lnTo>
                  <a:lnTo>
                    <a:pt x="1266" y="1982"/>
                  </a:lnTo>
                  <a:lnTo>
                    <a:pt x="1269" y="1974"/>
                  </a:lnTo>
                  <a:lnTo>
                    <a:pt x="1272" y="1965"/>
                  </a:lnTo>
                  <a:lnTo>
                    <a:pt x="1280" y="1962"/>
                  </a:lnTo>
                  <a:lnTo>
                    <a:pt x="1289" y="1962"/>
                  </a:lnTo>
                  <a:lnTo>
                    <a:pt x="1298" y="1959"/>
                  </a:lnTo>
                  <a:lnTo>
                    <a:pt x="1301" y="1950"/>
                  </a:lnTo>
                  <a:lnTo>
                    <a:pt x="1304" y="1942"/>
                  </a:lnTo>
                  <a:lnTo>
                    <a:pt x="1301" y="1933"/>
                  </a:lnTo>
                  <a:lnTo>
                    <a:pt x="1292" y="1925"/>
                  </a:lnTo>
                  <a:lnTo>
                    <a:pt x="1301" y="1919"/>
                  </a:lnTo>
                  <a:lnTo>
                    <a:pt x="1310" y="1927"/>
                  </a:lnTo>
                  <a:lnTo>
                    <a:pt x="1318" y="1933"/>
                  </a:lnTo>
                  <a:lnTo>
                    <a:pt x="1324" y="1942"/>
                  </a:lnTo>
                  <a:lnTo>
                    <a:pt x="1333" y="1950"/>
                  </a:lnTo>
                  <a:lnTo>
                    <a:pt x="1342" y="1950"/>
                  </a:lnTo>
                  <a:lnTo>
                    <a:pt x="1350" y="1950"/>
                  </a:lnTo>
                  <a:lnTo>
                    <a:pt x="1353" y="1942"/>
                  </a:lnTo>
                  <a:lnTo>
                    <a:pt x="1353" y="1933"/>
                  </a:lnTo>
                  <a:lnTo>
                    <a:pt x="1356" y="1925"/>
                  </a:lnTo>
                  <a:lnTo>
                    <a:pt x="1356" y="1916"/>
                  </a:lnTo>
                  <a:lnTo>
                    <a:pt x="1359" y="1907"/>
                  </a:lnTo>
                  <a:lnTo>
                    <a:pt x="1359" y="1899"/>
                  </a:lnTo>
                  <a:lnTo>
                    <a:pt x="1356" y="1890"/>
                  </a:lnTo>
                  <a:lnTo>
                    <a:pt x="1347" y="1881"/>
                  </a:lnTo>
                  <a:lnTo>
                    <a:pt x="1347" y="1870"/>
                  </a:lnTo>
                  <a:lnTo>
                    <a:pt x="1347" y="1861"/>
                  </a:lnTo>
                  <a:lnTo>
                    <a:pt x="1356" y="1855"/>
                  </a:lnTo>
                  <a:lnTo>
                    <a:pt x="1362" y="1847"/>
                  </a:lnTo>
                  <a:lnTo>
                    <a:pt x="1371" y="1844"/>
                  </a:lnTo>
                  <a:lnTo>
                    <a:pt x="1379" y="1835"/>
                  </a:lnTo>
                  <a:lnTo>
                    <a:pt x="1382" y="1827"/>
                  </a:lnTo>
                  <a:lnTo>
                    <a:pt x="1391" y="1821"/>
                  </a:lnTo>
                  <a:lnTo>
                    <a:pt x="1400" y="1815"/>
                  </a:lnTo>
                  <a:lnTo>
                    <a:pt x="1406" y="1806"/>
                  </a:lnTo>
                  <a:lnTo>
                    <a:pt x="1414" y="1801"/>
                  </a:lnTo>
                  <a:lnTo>
                    <a:pt x="1423" y="1801"/>
                  </a:lnTo>
                  <a:lnTo>
                    <a:pt x="1435" y="1798"/>
                  </a:lnTo>
                  <a:lnTo>
                    <a:pt x="1443" y="1792"/>
                  </a:lnTo>
                  <a:lnTo>
                    <a:pt x="1452" y="1792"/>
                  </a:lnTo>
                  <a:lnTo>
                    <a:pt x="1464" y="1789"/>
                  </a:lnTo>
                  <a:lnTo>
                    <a:pt x="1473" y="1789"/>
                  </a:lnTo>
                  <a:lnTo>
                    <a:pt x="1481" y="1789"/>
                  </a:lnTo>
                  <a:lnTo>
                    <a:pt x="1490" y="1786"/>
                  </a:lnTo>
                  <a:lnTo>
                    <a:pt x="1499" y="1786"/>
                  </a:lnTo>
                  <a:lnTo>
                    <a:pt x="1508" y="1786"/>
                  </a:lnTo>
                  <a:lnTo>
                    <a:pt x="1516" y="1783"/>
                  </a:lnTo>
                  <a:lnTo>
                    <a:pt x="1516" y="1775"/>
                  </a:lnTo>
                  <a:lnTo>
                    <a:pt x="1516" y="1766"/>
                  </a:lnTo>
                  <a:lnTo>
                    <a:pt x="1513" y="1757"/>
                  </a:lnTo>
                  <a:lnTo>
                    <a:pt x="1522" y="1752"/>
                  </a:lnTo>
                  <a:lnTo>
                    <a:pt x="1528" y="1743"/>
                  </a:lnTo>
                  <a:lnTo>
                    <a:pt x="1537" y="1737"/>
                  </a:lnTo>
                  <a:lnTo>
                    <a:pt x="1545" y="1737"/>
                  </a:lnTo>
                  <a:lnTo>
                    <a:pt x="1554" y="1734"/>
                  </a:lnTo>
                  <a:lnTo>
                    <a:pt x="1563" y="1729"/>
                  </a:lnTo>
                  <a:lnTo>
                    <a:pt x="1572" y="1729"/>
                  </a:lnTo>
                  <a:lnTo>
                    <a:pt x="1580" y="1737"/>
                  </a:lnTo>
                  <a:lnTo>
                    <a:pt x="1589" y="1743"/>
                  </a:lnTo>
                  <a:lnTo>
                    <a:pt x="1598" y="1749"/>
                  </a:lnTo>
                  <a:lnTo>
                    <a:pt x="1601" y="1757"/>
                  </a:lnTo>
                  <a:lnTo>
                    <a:pt x="1601" y="1766"/>
                  </a:lnTo>
                  <a:lnTo>
                    <a:pt x="1604" y="1775"/>
                  </a:lnTo>
                  <a:lnTo>
                    <a:pt x="1604" y="1783"/>
                  </a:lnTo>
                  <a:lnTo>
                    <a:pt x="1592" y="1789"/>
                  </a:lnTo>
                  <a:lnTo>
                    <a:pt x="1580" y="1789"/>
                  </a:lnTo>
                  <a:lnTo>
                    <a:pt x="1572" y="1792"/>
                  </a:lnTo>
                  <a:lnTo>
                    <a:pt x="1566" y="1801"/>
                  </a:lnTo>
                  <a:lnTo>
                    <a:pt x="1557" y="1806"/>
                  </a:lnTo>
                  <a:lnTo>
                    <a:pt x="1548" y="1812"/>
                  </a:lnTo>
                  <a:lnTo>
                    <a:pt x="1537" y="1815"/>
                  </a:lnTo>
                  <a:lnTo>
                    <a:pt x="1528" y="1818"/>
                  </a:lnTo>
                  <a:lnTo>
                    <a:pt x="1519" y="1824"/>
                  </a:lnTo>
                  <a:lnTo>
                    <a:pt x="1510" y="1829"/>
                  </a:lnTo>
                  <a:lnTo>
                    <a:pt x="1502" y="1829"/>
                  </a:lnTo>
                  <a:lnTo>
                    <a:pt x="1490" y="1832"/>
                  </a:lnTo>
                  <a:lnTo>
                    <a:pt x="1481" y="1835"/>
                  </a:lnTo>
                  <a:lnTo>
                    <a:pt x="1473" y="1835"/>
                  </a:lnTo>
                  <a:lnTo>
                    <a:pt x="1464" y="1841"/>
                  </a:lnTo>
                  <a:lnTo>
                    <a:pt x="1458" y="1850"/>
                  </a:lnTo>
                  <a:lnTo>
                    <a:pt x="1452" y="1858"/>
                  </a:lnTo>
                  <a:lnTo>
                    <a:pt x="1449" y="1867"/>
                  </a:lnTo>
                  <a:lnTo>
                    <a:pt x="1449" y="1876"/>
                  </a:lnTo>
                  <a:lnTo>
                    <a:pt x="1446" y="1884"/>
                  </a:lnTo>
                  <a:lnTo>
                    <a:pt x="1443" y="1893"/>
                  </a:lnTo>
                  <a:lnTo>
                    <a:pt x="1438" y="1901"/>
                  </a:lnTo>
                  <a:lnTo>
                    <a:pt x="1435" y="1910"/>
                  </a:lnTo>
                  <a:lnTo>
                    <a:pt x="1429" y="1919"/>
                  </a:lnTo>
                  <a:lnTo>
                    <a:pt x="1426" y="1927"/>
                  </a:lnTo>
                  <a:lnTo>
                    <a:pt x="1423" y="1936"/>
                  </a:lnTo>
                  <a:lnTo>
                    <a:pt x="1423" y="1945"/>
                  </a:lnTo>
                  <a:lnTo>
                    <a:pt x="1417" y="1953"/>
                  </a:lnTo>
                  <a:lnTo>
                    <a:pt x="1417" y="1962"/>
                  </a:lnTo>
                  <a:lnTo>
                    <a:pt x="1426" y="1962"/>
                  </a:lnTo>
                  <a:lnTo>
                    <a:pt x="1435" y="1974"/>
                  </a:lnTo>
                  <a:lnTo>
                    <a:pt x="1441" y="1982"/>
                  </a:lnTo>
                  <a:lnTo>
                    <a:pt x="1441" y="1991"/>
                  </a:lnTo>
                  <a:lnTo>
                    <a:pt x="1449" y="1991"/>
                  </a:lnTo>
                  <a:lnTo>
                    <a:pt x="1461" y="1991"/>
                  </a:lnTo>
                  <a:lnTo>
                    <a:pt x="1470" y="1991"/>
                  </a:lnTo>
                  <a:lnTo>
                    <a:pt x="1484" y="1994"/>
                  </a:lnTo>
                  <a:lnTo>
                    <a:pt x="1493" y="1994"/>
                  </a:lnTo>
                  <a:lnTo>
                    <a:pt x="1502" y="1994"/>
                  </a:lnTo>
                  <a:lnTo>
                    <a:pt x="1510" y="1991"/>
                  </a:lnTo>
                  <a:lnTo>
                    <a:pt x="1519" y="1997"/>
                  </a:lnTo>
                  <a:lnTo>
                    <a:pt x="1531" y="1988"/>
                  </a:lnTo>
                  <a:lnTo>
                    <a:pt x="1540" y="1991"/>
                  </a:lnTo>
                  <a:lnTo>
                    <a:pt x="1548" y="1994"/>
                  </a:lnTo>
                  <a:lnTo>
                    <a:pt x="1557" y="1997"/>
                  </a:lnTo>
                  <a:lnTo>
                    <a:pt x="1566" y="1997"/>
                  </a:lnTo>
                  <a:lnTo>
                    <a:pt x="1569" y="2005"/>
                  </a:lnTo>
                  <a:lnTo>
                    <a:pt x="1569" y="2014"/>
                  </a:lnTo>
                  <a:lnTo>
                    <a:pt x="1569" y="2023"/>
                  </a:lnTo>
                  <a:lnTo>
                    <a:pt x="1572" y="2031"/>
                  </a:lnTo>
                  <a:lnTo>
                    <a:pt x="1577" y="2040"/>
                  </a:lnTo>
                  <a:lnTo>
                    <a:pt x="1586" y="2048"/>
                  </a:lnTo>
                  <a:lnTo>
                    <a:pt x="1577" y="2040"/>
                  </a:lnTo>
                  <a:lnTo>
                    <a:pt x="1569" y="2037"/>
                  </a:lnTo>
                  <a:lnTo>
                    <a:pt x="1557" y="2037"/>
                  </a:lnTo>
                  <a:lnTo>
                    <a:pt x="1548" y="2040"/>
                  </a:lnTo>
                  <a:lnTo>
                    <a:pt x="1548" y="2048"/>
                  </a:lnTo>
                  <a:lnTo>
                    <a:pt x="1540" y="2054"/>
                  </a:lnTo>
                  <a:lnTo>
                    <a:pt x="1531" y="2051"/>
                  </a:lnTo>
                  <a:lnTo>
                    <a:pt x="1522" y="2043"/>
                  </a:lnTo>
                  <a:lnTo>
                    <a:pt x="1513" y="2034"/>
                  </a:lnTo>
                  <a:lnTo>
                    <a:pt x="1505" y="2031"/>
                  </a:lnTo>
                  <a:lnTo>
                    <a:pt x="1496" y="2031"/>
                  </a:lnTo>
                  <a:lnTo>
                    <a:pt x="1487" y="2028"/>
                  </a:lnTo>
                  <a:lnTo>
                    <a:pt x="1478" y="2025"/>
                  </a:lnTo>
                  <a:lnTo>
                    <a:pt x="1470" y="2023"/>
                  </a:lnTo>
                  <a:lnTo>
                    <a:pt x="1461" y="2020"/>
                  </a:lnTo>
                  <a:lnTo>
                    <a:pt x="1452" y="2017"/>
                  </a:lnTo>
                  <a:lnTo>
                    <a:pt x="1441" y="2011"/>
                  </a:lnTo>
                  <a:lnTo>
                    <a:pt x="1432" y="2011"/>
                  </a:lnTo>
                  <a:lnTo>
                    <a:pt x="1426" y="2020"/>
                  </a:lnTo>
                  <a:lnTo>
                    <a:pt x="1426" y="2028"/>
                  </a:lnTo>
                  <a:lnTo>
                    <a:pt x="1423" y="2037"/>
                  </a:lnTo>
                  <a:lnTo>
                    <a:pt x="1417" y="2046"/>
                  </a:lnTo>
                  <a:lnTo>
                    <a:pt x="1414" y="2054"/>
                  </a:lnTo>
                  <a:lnTo>
                    <a:pt x="1426" y="2060"/>
                  </a:lnTo>
                  <a:lnTo>
                    <a:pt x="1432" y="2069"/>
                  </a:lnTo>
                  <a:lnTo>
                    <a:pt x="1429" y="2077"/>
                  </a:lnTo>
                  <a:lnTo>
                    <a:pt x="1423" y="2086"/>
                  </a:lnTo>
                  <a:lnTo>
                    <a:pt x="1414" y="2089"/>
                  </a:lnTo>
                  <a:lnTo>
                    <a:pt x="1409" y="2097"/>
                  </a:lnTo>
                  <a:lnTo>
                    <a:pt x="1403" y="2106"/>
                  </a:lnTo>
                  <a:lnTo>
                    <a:pt x="1400" y="2115"/>
                  </a:lnTo>
                  <a:lnTo>
                    <a:pt x="1391" y="2112"/>
                  </a:lnTo>
                  <a:lnTo>
                    <a:pt x="1388" y="2103"/>
                  </a:lnTo>
                  <a:lnTo>
                    <a:pt x="1385" y="2095"/>
                  </a:lnTo>
                  <a:lnTo>
                    <a:pt x="1382" y="2086"/>
                  </a:lnTo>
                  <a:lnTo>
                    <a:pt x="1382" y="2077"/>
                  </a:lnTo>
                  <a:lnTo>
                    <a:pt x="1379" y="2069"/>
                  </a:lnTo>
                  <a:lnTo>
                    <a:pt x="1371" y="2063"/>
                  </a:lnTo>
                  <a:lnTo>
                    <a:pt x="1359" y="2063"/>
                  </a:lnTo>
                  <a:lnTo>
                    <a:pt x="1350" y="2063"/>
                  </a:lnTo>
                  <a:lnTo>
                    <a:pt x="1344" y="2072"/>
                  </a:lnTo>
                  <a:lnTo>
                    <a:pt x="1339" y="2080"/>
                  </a:lnTo>
                  <a:lnTo>
                    <a:pt x="1333" y="2089"/>
                  </a:lnTo>
                  <a:lnTo>
                    <a:pt x="1327" y="2097"/>
                  </a:lnTo>
                  <a:lnTo>
                    <a:pt x="1321" y="2106"/>
                  </a:lnTo>
                  <a:lnTo>
                    <a:pt x="1312" y="2109"/>
                  </a:lnTo>
                  <a:lnTo>
                    <a:pt x="1304" y="2112"/>
                  </a:lnTo>
                  <a:lnTo>
                    <a:pt x="1304" y="2120"/>
                  </a:lnTo>
                  <a:lnTo>
                    <a:pt x="1301" y="2129"/>
                  </a:lnTo>
                  <a:lnTo>
                    <a:pt x="1298" y="2138"/>
                  </a:lnTo>
                  <a:lnTo>
                    <a:pt x="1295" y="2146"/>
                  </a:lnTo>
                  <a:lnTo>
                    <a:pt x="1295" y="2095"/>
                  </a:lnTo>
                  <a:lnTo>
                    <a:pt x="1304" y="2103"/>
                  </a:lnTo>
                  <a:lnTo>
                    <a:pt x="1304" y="2115"/>
                  </a:lnTo>
                  <a:lnTo>
                    <a:pt x="1301" y="2123"/>
                  </a:lnTo>
                  <a:lnTo>
                    <a:pt x="1298" y="2132"/>
                  </a:lnTo>
                  <a:lnTo>
                    <a:pt x="1298" y="2141"/>
                  </a:lnTo>
                  <a:lnTo>
                    <a:pt x="1295" y="2149"/>
                  </a:lnTo>
                  <a:lnTo>
                    <a:pt x="1292" y="2161"/>
                  </a:lnTo>
                  <a:lnTo>
                    <a:pt x="1289" y="2169"/>
                  </a:lnTo>
                  <a:lnTo>
                    <a:pt x="1280" y="2175"/>
                  </a:lnTo>
                  <a:lnTo>
                    <a:pt x="1278" y="2167"/>
                  </a:lnTo>
                  <a:lnTo>
                    <a:pt x="1275" y="2155"/>
                  </a:lnTo>
                  <a:lnTo>
                    <a:pt x="1272" y="2146"/>
                  </a:lnTo>
                  <a:lnTo>
                    <a:pt x="1263" y="2146"/>
                  </a:lnTo>
                  <a:lnTo>
                    <a:pt x="1251" y="2149"/>
                  </a:lnTo>
                  <a:lnTo>
                    <a:pt x="1245" y="2158"/>
                  </a:lnTo>
                  <a:lnTo>
                    <a:pt x="1240" y="2167"/>
                  </a:lnTo>
                  <a:lnTo>
                    <a:pt x="1228" y="2167"/>
                  </a:lnTo>
                  <a:lnTo>
                    <a:pt x="1216" y="2167"/>
                  </a:lnTo>
                  <a:lnTo>
                    <a:pt x="1213" y="2155"/>
                  </a:lnTo>
                  <a:lnTo>
                    <a:pt x="1213" y="2144"/>
                  </a:lnTo>
                  <a:lnTo>
                    <a:pt x="1205" y="2138"/>
                  </a:lnTo>
                  <a:lnTo>
                    <a:pt x="1196" y="2132"/>
                  </a:lnTo>
                  <a:lnTo>
                    <a:pt x="1179" y="2126"/>
                  </a:lnTo>
                  <a:lnTo>
                    <a:pt x="1170" y="2123"/>
                  </a:lnTo>
                  <a:lnTo>
                    <a:pt x="1158" y="2123"/>
                  </a:lnTo>
                  <a:lnTo>
                    <a:pt x="1152" y="2132"/>
                  </a:lnTo>
                  <a:lnTo>
                    <a:pt x="1141" y="2135"/>
                  </a:lnTo>
                  <a:lnTo>
                    <a:pt x="1132" y="2132"/>
                  </a:lnTo>
                  <a:lnTo>
                    <a:pt x="1123" y="2123"/>
                  </a:lnTo>
                  <a:lnTo>
                    <a:pt x="1114" y="2118"/>
                  </a:lnTo>
                  <a:lnTo>
                    <a:pt x="1106" y="2115"/>
                  </a:lnTo>
                  <a:lnTo>
                    <a:pt x="1097" y="2115"/>
                  </a:lnTo>
                  <a:lnTo>
                    <a:pt x="1094" y="2106"/>
                  </a:lnTo>
                  <a:lnTo>
                    <a:pt x="1094" y="2097"/>
                  </a:lnTo>
                  <a:lnTo>
                    <a:pt x="1094" y="2089"/>
                  </a:lnTo>
                  <a:lnTo>
                    <a:pt x="1091" y="2077"/>
                  </a:lnTo>
                  <a:lnTo>
                    <a:pt x="1091" y="2069"/>
                  </a:lnTo>
                  <a:lnTo>
                    <a:pt x="1082" y="2066"/>
                  </a:lnTo>
                  <a:lnTo>
                    <a:pt x="1074" y="2066"/>
                  </a:lnTo>
                  <a:lnTo>
                    <a:pt x="1065" y="2066"/>
                  </a:lnTo>
                  <a:lnTo>
                    <a:pt x="1056" y="2066"/>
                  </a:lnTo>
                  <a:lnTo>
                    <a:pt x="1048" y="2066"/>
                  </a:lnTo>
                  <a:lnTo>
                    <a:pt x="1039" y="2066"/>
                  </a:lnTo>
                  <a:lnTo>
                    <a:pt x="1027" y="2063"/>
                  </a:lnTo>
                  <a:lnTo>
                    <a:pt x="1021" y="2054"/>
                  </a:lnTo>
                  <a:lnTo>
                    <a:pt x="1021" y="2046"/>
                  </a:lnTo>
                  <a:lnTo>
                    <a:pt x="1016" y="2048"/>
                  </a:lnTo>
                  <a:lnTo>
                    <a:pt x="1036" y="2031"/>
                  </a:lnTo>
                  <a:lnTo>
                    <a:pt x="1048" y="2020"/>
                  </a:lnTo>
                  <a:lnTo>
                    <a:pt x="1059" y="2017"/>
                  </a:lnTo>
                  <a:lnTo>
                    <a:pt x="1062" y="2025"/>
                  </a:lnTo>
                  <a:lnTo>
                    <a:pt x="1050" y="2025"/>
                  </a:lnTo>
                  <a:lnTo>
                    <a:pt x="1059" y="2025"/>
                  </a:lnTo>
                  <a:lnTo>
                    <a:pt x="1071" y="2025"/>
                  </a:lnTo>
                  <a:lnTo>
                    <a:pt x="1080" y="2025"/>
                  </a:lnTo>
                  <a:lnTo>
                    <a:pt x="1088" y="2028"/>
                  </a:lnTo>
                  <a:lnTo>
                    <a:pt x="1097" y="2028"/>
                  </a:lnTo>
                  <a:lnTo>
                    <a:pt x="1106" y="2025"/>
                  </a:lnTo>
                  <a:lnTo>
                    <a:pt x="1109" y="2017"/>
                  </a:lnTo>
                  <a:lnTo>
                    <a:pt x="1112" y="2008"/>
                  </a:lnTo>
                  <a:lnTo>
                    <a:pt x="1103" y="1999"/>
                  </a:lnTo>
                  <a:lnTo>
                    <a:pt x="1100" y="1991"/>
                  </a:lnTo>
                  <a:lnTo>
                    <a:pt x="1094" y="1982"/>
                  </a:lnTo>
                  <a:lnTo>
                    <a:pt x="1091" y="1974"/>
                  </a:lnTo>
                  <a:lnTo>
                    <a:pt x="1082" y="1971"/>
                  </a:lnTo>
                  <a:lnTo>
                    <a:pt x="1077" y="1979"/>
                  </a:lnTo>
                  <a:lnTo>
                    <a:pt x="1077" y="1991"/>
                  </a:lnTo>
                  <a:lnTo>
                    <a:pt x="1077" y="1999"/>
                  </a:lnTo>
                  <a:lnTo>
                    <a:pt x="1071" y="2008"/>
                  </a:lnTo>
                  <a:lnTo>
                    <a:pt x="1068" y="2020"/>
                  </a:lnTo>
                  <a:lnTo>
                    <a:pt x="1068" y="2028"/>
                  </a:lnTo>
                  <a:lnTo>
                    <a:pt x="1059" y="2031"/>
                  </a:lnTo>
                  <a:lnTo>
                    <a:pt x="1048" y="2031"/>
                  </a:lnTo>
                  <a:lnTo>
                    <a:pt x="1039" y="2031"/>
                  </a:lnTo>
                  <a:lnTo>
                    <a:pt x="1030" y="2031"/>
                  </a:lnTo>
                  <a:lnTo>
                    <a:pt x="1027" y="2020"/>
                  </a:lnTo>
                  <a:lnTo>
                    <a:pt x="1027" y="2011"/>
                  </a:lnTo>
                  <a:lnTo>
                    <a:pt x="1027" y="2002"/>
                  </a:lnTo>
                  <a:lnTo>
                    <a:pt x="1027" y="1994"/>
                  </a:lnTo>
                  <a:lnTo>
                    <a:pt x="1027" y="1985"/>
                  </a:lnTo>
                  <a:lnTo>
                    <a:pt x="1030" y="1976"/>
                  </a:lnTo>
                  <a:lnTo>
                    <a:pt x="1039" y="1974"/>
                  </a:lnTo>
                  <a:lnTo>
                    <a:pt x="1042" y="1982"/>
                  </a:lnTo>
                  <a:lnTo>
                    <a:pt x="1042" y="1994"/>
                  </a:lnTo>
                  <a:lnTo>
                    <a:pt x="1045" y="2002"/>
                  </a:lnTo>
                  <a:lnTo>
                    <a:pt x="1050" y="2011"/>
                  </a:lnTo>
                  <a:lnTo>
                    <a:pt x="1062" y="2014"/>
                  </a:lnTo>
                  <a:lnTo>
                    <a:pt x="1074" y="2014"/>
                  </a:lnTo>
                  <a:lnTo>
                    <a:pt x="1082" y="2005"/>
                  </a:lnTo>
                  <a:lnTo>
                    <a:pt x="1082" y="1997"/>
                  </a:lnTo>
                  <a:lnTo>
                    <a:pt x="1074" y="1985"/>
                  </a:lnTo>
                  <a:lnTo>
                    <a:pt x="1065" y="1979"/>
                  </a:lnTo>
                  <a:lnTo>
                    <a:pt x="1065" y="1971"/>
                  </a:lnTo>
                  <a:lnTo>
                    <a:pt x="1074" y="1968"/>
                  </a:lnTo>
                  <a:lnTo>
                    <a:pt x="1082" y="1968"/>
                  </a:lnTo>
                  <a:lnTo>
                    <a:pt x="1091" y="1962"/>
                  </a:lnTo>
                  <a:lnTo>
                    <a:pt x="1091" y="1953"/>
                  </a:lnTo>
                  <a:lnTo>
                    <a:pt x="1091" y="1945"/>
                  </a:lnTo>
                  <a:lnTo>
                    <a:pt x="1100" y="1939"/>
                  </a:lnTo>
                  <a:lnTo>
                    <a:pt x="1109" y="1936"/>
                  </a:lnTo>
                  <a:lnTo>
                    <a:pt x="1117" y="1936"/>
                  </a:lnTo>
                  <a:lnTo>
                    <a:pt x="1123" y="1927"/>
                  </a:lnTo>
                  <a:lnTo>
                    <a:pt x="1126" y="1919"/>
                  </a:lnTo>
                  <a:lnTo>
                    <a:pt x="1126" y="1910"/>
                  </a:lnTo>
                  <a:lnTo>
                    <a:pt x="1126" y="1901"/>
                  </a:lnTo>
                  <a:lnTo>
                    <a:pt x="1114" y="1901"/>
                  </a:lnTo>
                  <a:lnTo>
                    <a:pt x="1106" y="1901"/>
                  </a:lnTo>
                  <a:lnTo>
                    <a:pt x="1097" y="1901"/>
                  </a:lnTo>
                  <a:lnTo>
                    <a:pt x="1088" y="1904"/>
                  </a:lnTo>
                  <a:lnTo>
                    <a:pt x="1080" y="1910"/>
                  </a:lnTo>
                  <a:lnTo>
                    <a:pt x="1077" y="1925"/>
                  </a:lnTo>
                  <a:lnTo>
                    <a:pt x="1077" y="1933"/>
                  </a:lnTo>
                  <a:lnTo>
                    <a:pt x="1068" y="1933"/>
                  </a:lnTo>
                  <a:lnTo>
                    <a:pt x="1059" y="1922"/>
                  </a:lnTo>
                  <a:lnTo>
                    <a:pt x="1056" y="1913"/>
                  </a:lnTo>
                  <a:lnTo>
                    <a:pt x="1068" y="1910"/>
                  </a:lnTo>
                  <a:lnTo>
                    <a:pt x="1077" y="1910"/>
                  </a:lnTo>
                  <a:lnTo>
                    <a:pt x="1065" y="1901"/>
                  </a:lnTo>
                  <a:lnTo>
                    <a:pt x="1056" y="1896"/>
                  </a:lnTo>
                  <a:lnTo>
                    <a:pt x="1056" y="1904"/>
                  </a:lnTo>
                  <a:lnTo>
                    <a:pt x="1048" y="1910"/>
                  </a:lnTo>
                  <a:lnTo>
                    <a:pt x="1039" y="1919"/>
                  </a:lnTo>
                  <a:lnTo>
                    <a:pt x="1036" y="1927"/>
                  </a:lnTo>
                  <a:lnTo>
                    <a:pt x="1030" y="1936"/>
                  </a:lnTo>
                  <a:lnTo>
                    <a:pt x="1024" y="1945"/>
                  </a:lnTo>
                  <a:lnTo>
                    <a:pt x="1016" y="1950"/>
                  </a:lnTo>
                  <a:lnTo>
                    <a:pt x="1004" y="1953"/>
                  </a:lnTo>
                  <a:lnTo>
                    <a:pt x="1001" y="1962"/>
                  </a:lnTo>
                  <a:lnTo>
                    <a:pt x="1001" y="1971"/>
                  </a:lnTo>
                  <a:lnTo>
                    <a:pt x="1001" y="1979"/>
                  </a:lnTo>
                  <a:lnTo>
                    <a:pt x="1001" y="1988"/>
                  </a:lnTo>
                  <a:lnTo>
                    <a:pt x="1001" y="1997"/>
                  </a:lnTo>
                  <a:lnTo>
                    <a:pt x="995" y="2005"/>
                  </a:lnTo>
                  <a:lnTo>
                    <a:pt x="986" y="2011"/>
                  </a:lnTo>
                  <a:lnTo>
                    <a:pt x="981" y="2020"/>
                  </a:lnTo>
                  <a:lnTo>
                    <a:pt x="981" y="2028"/>
                  </a:lnTo>
                  <a:lnTo>
                    <a:pt x="981" y="2037"/>
                  </a:lnTo>
                  <a:lnTo>
                    <a:pt x="978" y="2046"/>
                  </a:lnTo>
                  <a:lnTo>
                    <a:pt x="978" y="2054"/>
                  </a:lnTo>
                  <a:lnTo>
                    <a:pt x="983" y="2046"/>
                  </a:lnTo>
                  <a:lnTo>
                    <a:pt x="983" y="2037"/>
                  </a:lnTo>
                  <a:lnTo>
                    <a:pt x="975" y="2034"/>
                  </a:lnTo>
                  <a:lnTo>
                    <a:pt x="966" y="2034"/>
                  </a:lnTo>
                  <a:lnTo>
                    <a:pt x="957" y="2034"/>
                  </a:lnTo>
                  <a:lnTo>
                    <a:pt x="949" y="2023"/>
                  </a:lnTo>
                  <a:lnTo>
                    <a:pt x="949" y="2011"/>
                  </a:lnTo>
                  <a:lnTo>
                    <a:pt x="940" y="2008"/>
                  </a:lnTo>
                  <a:lnTo>
                    <a:pt x="931" y="2008"/>
                  </a:lnTo>
                  <a:lnTo>
                    <a:pt x="922" y="2011"/>
                  </a:lnTo>
                  <a:lnTo>
                    <a:pt x="914" y="2008"/>
                  </a:lnTo>
                  <a:lnTo>
                    <a:pt x="899" y="2002"/>
                  </a:lnTo>
                  <a:lnTo>
                    <a:pt x="890" y="1988"/>
                  </a:lnTo>
                  <a:lnTo>
                    <a:pt x="885" y="1976"/>
                  </a:lnTo>
                  <a:lnTo>
                    <a:pt x="876" y="1976"/>
                  </a:lnTo>
                  <a:lnTo>
                    <a:pt x="867" y="1979"/>
                  </a:lnTo>
                  <a:lnTo>
                    <a:pt x="861" y="1988"/>
                  </a:lnTo>
                  <a:lnTo>
                    <a:pt x="852" y="1994"/>
                  </a:lnTo>
                  <a:lnTo>
                    <a:pt x="844" y="1999"/>
                  </a:lnTo>
                  <a:lnTo>
                    <a:pt x="835" y="2002"/>
                  </a:lnTo>
                  <a:lnTo>
                    <a:pt x="826" y="2005"/>
                  </a:lnTo>
                  <a:lnTo>
                    <a:pt x="818" y="2008"/>
                  </a:lnTo>
                  <a:lnTo>
                    <a:pt x="809" y="2008"/>
                  </a:lnTo>
                  <a:lnTo>
                    <a:pt x="797" y="2011"/>
                  </a:lnTo>
                  <a:lnTo>
                    <a:pt x="788" y="2011"/>
                  </a:lnTo>
                  <a:lnTo>
                    <a:pt x="797" y="2011"/>
                  </a:lnTo>
                  <a:lnTo>
                    <a:pt x="812" y="2014"/>
                  </a:lnTo>
                  <a:lnTo>
                    <a:pt x="803" y="2017"/>
                  </a:lnTo>
                  <a:lnTo>
                    <a:pt x="794" y="2020"/>
                  </a:lnTo>
                  <a:lnTo>
                    <a:pt x="803" y="2031"/>
                  </a:lnTo>
                  <a:lnTo>
                    <a:pt x="794" y="2031"/>
                  </a:lnTo>
                  <a:lnTo>
                    <a:pt x="786" y="2028"/>
                  </a:lnTo>
                  <a:lnTo>
                    <a:pt x="777" y="2023"/>
                  </a:lnTo>
                  <a:lnTo>
                    <a:pt x="771" y="2014"/>
                  </a:lnTo>
                  <a:lnTo>
                    <a:pt x="762" y="2011"/>
                  </a:lnTo>
                  <a:lnTo>
                    <a:pt x="751" y="2008"/>
                  </a:lnTo>
                  <a:lnTo>
                    <a:pt x="742" y="2008"/>
                  </a:lnTo>
                  <a:lnTo>
                    <a:pt x="733" y="2005"/>
                  </a:lnTo>
                  <a:lnTo>
                    <a:pt x="736" y="2002"/>
                  </a:lnTo>
                  <a:lnTo>
                    <a:pt x="721" y="1985"/>
                  </a:lnTo>
                  <a:lnTo>
                    <a:pt x="713" y="1985"/>
                  </a:lnTo>
                  <a:lnTo>
                    <a:pt x="710" y="1994"/>
                  </a:lnTo>
                  <a:lnTo>
                    <a:pt x="716" y="2005"/>
                  </a:lnTo>
                  <a:lnTo>
                    <a:pt x="713" y="2014"/>
                  </a:lnTo>
                  <a:lnTo>
                    <a:pt x="704" y="2020"/>
                  </a:lnTo>
                  <a:lnTo>
                    <a:pt x="704" y="2028"/>
                  </a:lnTo>
                  <a:lnTo>
                    <a:pt x="692" y="2031"/>
                  </a:lnTo>
                  <a:lnTo>
                    <a:pt x="684" y="2025"/>
                  </a:lnTo>
                  <a:lnTo>
                    <a:pt x="672" y="2020"/>
                  </a:lnTo>
                  <a:lnTo>
                    <a:pt x="660" y="2017"/>
                  </a:lnTo>
                  <a:lnTo>
                    <a:pt x="646" y="2011"/>
                  </a:lnTo>
                  <a:lnTo>
                    <a:pt x="634" y="2008"/>
                  </a:lnTo>
                  <a:lnTo>
                    <a:pt x="625" y="2005"/>
                  </a:lnTo>
                  <a:lnTo>
                    <a:pt x="622" y="1997"/>
                  </a:lnTo>
                  <a:lnTo>
                    <a:pt x="620" y="1988"/>
                  </a:lnTo>
                  <a:lnTo>
                    <a:pt x="611" y="1979"/>
                  </a:lnTo>
                  <a:lnTo>
                    <a:pt x="608" y="1971"/>
                  </a:lnTo>
                  <a:lnTo>
                    <a:pt x="599" y="1968"/>
                  </a:lnTo>
                  <a:lnTo>
                    <a:pt x="590" y="1974"/>
                  </a:lnTo>
                  <a:lnTo>
                    <a:pt x="588" y="1985"/>
                  </a:lnTo>
                  <a:lnTo>
                    <a:pt x="585" y="1997"/>
                  </a:lnTo>
                  <a:lnTo>
                    <a:pt x="576" y="2002"/>
                  </a:lnTo>
                  <a:lnTo>
                    <a:pt x="567" y="1991"/>
                  </a:lnTo>
                  <a:lnTo>
                    <a:pt x="561" y="1982"/>
                  </a:lnTo>
                  <a:lnTo>
                    <a:pt x="553" y="1976"/>
                  </a:lnTo>
                  <a:lnTo>
                    <a:pt x="547" y="1968"/>
                  </a:lnTo>
                  <a:lnTo>
                    <a:pt x="541" y="1959"/>
                  </a:lnTo>
                  <a:lnTo>
                    <a:pt x="532" y="1956"/>
                  </a:lnTo>
                  <a:lnTo>
                    <a:pt x="524" y="1953"/>
                  </a:lnTo>
                  <a:lnTo>
                    <a:pt x="518" y="1945"/>
                  </a:lnTo>
                  <a:lnTo>
                    <a:pt x="509" y="1939"/>
                  </a:lnTo>
                  <a:lnTo>
                    <a:pt x="500" y="1939"/>
                  </a:lnTo>
                  <a:lnTo>
                    <a:pt x="494" y="1948"/>
                  </a:lnTo>
                  <a:lnTo>
                    <a:pt x="491" y="1956"/>
                  </a:lnTo>
                  <a:lnTo>
                    <a:pt x="486" y="1965"/>
                  </a:lnTo>
                  <a:lnTo>
                    <a:pt x="491" y="1974"/>
                  </a:lnTo>
                  <a:lnTo>
                    <a:pt x="500" y="1976"/>
                  </a:lnTo>
                  <a:lnTo>
                    <a:pt x="503" y="1985"/>
                  </a:lnTo>
                  <a:lnTo>
                    <a:pt x="506" y="1994"/>
                  </a:lnTo>
                  <a:lnTo>
                    <a:pt x="509" y="2002"/>
                  </a:lnTo>
                  <a:lnTo>
                    <a:pt x="512" y="2011"/>
                  </a:lnTo>
                  <a:lnTo>
                    <a:pt x="515" y="2020"/>
                  </a:lnTo>
                  <a:lnTo>
                    <a:pt x="518" y="2028"/>
                  </a:lnTo>
                  <a:lnTo>
                    <a:pt x="518" y="2037"/>
                  </a:lnTo>
                  <a:lnTo>
                    <a:pt x="518" y="2046"/>
                  </a:lnTo>
                  <a:lnTo>
                    <a:pt x="518" y="2054"/>
                  </a:lnTo>
                  <a:lnTo>
                    <a:pt x="515" y="2063"/>
                  </a:lnTo>
                  <a:lnTo>
                    <a:pt x="506" y="2072"/>
                  </a:lnTo>
                  <a:lnTo>
                    <a:pt x="503" y="2080"/>
                  </a:lnTo>
                  <a:lnTo>
                    <a:pt x="503" y="2089"/>
                  </a:lnTo>
                  <a:lnTo>
                    <a:pt x="503" y="2097"/>
                  </a:lnTo>
                  <a:lnTo>
                    <a:pt x="500" y="2106"/>
                  </a:lnTo>
                  <a:lnTo>
                    <a:pt x="491" y="2112"/>
                  </a:lnTo>
                  <a:lnTo>
                    <a:pt x="483" y="2118"/>
                  </a:lnTo>
                  <a:lnTo>
                    <a:pt x="483" y="2126"/>
                  </a:lnTo>
                  <a:lnTo>
                    <a:pt x="480" y="2138"/>
                  </a:lnTo>
                  <a:lnTo>
                    <a:pt x="477" y="2149"/>
                  </a:lnTo>
                  <a:lnTo>
                    <a:pt x="468" y="2144"/>
                  </a:lnTo>
                  <a:lnTo>
                    <a:pt x="459" y="2144"/>
                  </a:lnTo>
                  <a:lnTo>
                    <a:pt x="451" y="2144"/>
                  </a:lnTo>
                  <a:lnTo>
                    <a:pt x="442" y="2152"/>
                  </a:lnTo>
                  <a:lnTo>
                    <a:pt x="436" y="2161"/>
                  </a:lnTo>
                  <a:lnTo>
                    <a:pt x="427" y="2167"/>
                  </a:lnTo>
                  <a:lnTo>
                    <a:pt x="419" y="2175"/>
                  </a:lnTo>
                  <a:lnTo>
                    <a:pt x="407" y="2181"/>
                  </a:lnTo>
                  <a:lnTo>
                    <a:pt x="398" y="2184"/>
                  </a:lnTo>
                  <a:lnTo>
                    <a:pt x="393" y="2175"/>
                  </a:lnTo>
                  <a:lnTo>
                    <a:pt x="390" y="2167"/>
                  </a:lnTo>
                  <a:lnTo>
                    <a:pt x="384" y="2158"/>
                  </a:lnTo>
                  <a:lnTo>
                    <a:pt x="369" y="2149"/>
                  </a:lnTo>
                  <a:lnTo>
                    <a:pt x="358" y="2144"/>
                  </a:lnTo>
                  <a:lnTo>
                    <a:pt x="355" y="2135"/>
                  </a:lnTo>
                  <a:lnTo>
                    <a:pt x="349" y="2126"/>
                  </a:lnTo>
                  <a:lnTo>
                    <a:pt x="343" y="2118"/>
                  </a:lnTo>
                  <a:lnTo>
                    <a:pt x="334" y="2109"/>
                  </a:lnTo>
                  <a:lnTo>
                    <a:pt x="328" y="2100"/>
                  </a:lnTo>
                  <a:lnTo>
                    <a:pt x="320" y="2092"/>
                  </a:lnTo>
                  <a:lnTo>
                    <a:pt x="317" y="2080"/>
                  </a:lnTo>
                  <a:lnTo>
                    <a:pt x="317" y="2048"/>
                  </a:lnTo>
                  <a:lnTo>
                    <a:pt x="311" y="2060"/>
                  </a:lnTo>
                  <a:lnTo>
                    <a:pt x="302" y="2057"/>
                  </a:lnTo>
                  <a:lnTo>
                    <a:pt x="294" y="2051"/>
                  </a:lnTo>
                  <a:lnTo>
                    <a:pt x="282" y="2048"/>
                  </a:lnTo>
                  <a:lnTo>
                    <a:pt x="276" y="2040"/>
                  </a:lnTo>
                  <a:lnTo>
                    <a:pt x="270" y="2031"/>
                  </a:lnTo>
                  <a:lnTo>
                    <a:pt x="264" y="2023"/>
                  </a:lnTo>
                  <a:lnTo>
                    <a:pt x="259" y="2014"/>
                  </a:lnTo>
                  <a:lnTo>
                    <a:pt x="250" y="2008"/>
                  </a:lnTo>
                  <a:lnTo>
                    <a:pt x="241" y="2011"/>
                  </a:lnTo>
                  <a:lnTo>
                    <a:pt x="232" y="2011"/>
                  </a:lnTo>
                  <a:lnTo>
                    <a:pt x="227" y="2002"/>
                  </a:lnTo>
                  <a:lnTo>
                    <a:pt x="218" y="2002"/>
                  </a:lnTo>
                  <a:lnTo>
                    <a:pt x="209" y="2002"/>
                  </a:lnTo>
                  <a:lnTo>
                    <a:pt x="200" y="2002"/>
                  </a:lnTo>
                  <a:lnTo>
                    <a:pt x="203" y="2014"/>
                  </a:lnTo>
                  <a:lnTo>
                    <a:pt x="203" y="2025"/>
                  </a:lnTo>
                  <a:lnTo>
                    <a:pt x="200" y="2034"/>
                  </a:lnTo>
                  <a:lnTo>
                    <a:pt x="189" y="2037"/>
                  </a:lnTo>
                  <a:lnTo>
                    <a:pt x="180" y="2043"/>
                  </a:lnTo>
                  <a:lnTo>
                    <a:pt x="171" y="2051"/>
                  </a:lnTo>
                  <a:lnTo>
                    <a:pt x="168" y="2060"/>
                  </a:lnTo>
                  <a:lnTo>
                    <a:pt x="163" y="2072"/>
                  </a:lnTo>
                  <a:lnTo>
                    <a:pt x="154" y="2077"/>
                  </a:lnTo>
                  <a:lnTo>
                    <a:pt x="145" y="2083"/>
                  </a:lnTo>
                  <a:lnTo>
                    <a:pt x="136" y="2086"/>
                  </a:lnTo>
                  <a:lnTo>
                    <a:pt x="122" y="2092"/>
                  </a:lnTo>
                  <a:lnTo>
                    <a:pt x="113" y="2095"/>
                  </a:lnTo>
                  <a:lnTo>
                    <a:pt x="104" y="2097"/>
                  </a:lnTo>
                  <a:lnTo>
                    <a:pt x="96" y="2103"/>
                  </a:lnTo>
                  <a:lnTo>
                    <a:pt x="87" y="2109"/>
                  </a:lnTo>
                  <a:lnTo>
                    <a:pt x="78" y="2112"/>
                  </a:lnTo>
                  <a:lnTo>
                    <a:pt x="66" y="2112"/>
                  </a:lnTo>
                  <a:lnTo>
                    <a:pt x="58" y="2115"/>
                  </a:lnTo>
                  <a:lnTo>
                    <a:pt x="55" y="2123"/>
                  </a:lnTo>
                  <a:lnTo>
                    <a:pt x="49" y="2132"/>
                  </a:lnTo>
                  <a:lnTo>
                    <a:pt x="46" y="2141"/>
                  </a:lnTo>
                  <a:lnTo>
                    <a:pt x="58" y="2146"/>
                  </a:lnTo>
                  <a:lnTo>
                    <a:pt x="66" y="2146"/>
                  </a:lnTo>
                  <a:lnTo>
                    <a:pt x="75" y="2146"/>
                  </a:lnTo>
                  <a:lnTo>
                    <a:pt x="66" y="2158"/>
                  </a:lnTo>
                  <a:lnTo>
                    <a:pt x="55" y="2164"/>
                  </a:lnTo>
                  <a:lnTo>
                    <a:pt x="43" y="2169"/>
                  </a:lnTo>
                  <a:lnTo>
                    <a:pt x="34" y="2175"/>
                  </a:lnTo>
                  <a:lnTo>
                    <a:pt x="26" y="2181"/>
                  </a:lnTo>
                  <a:lnTo>
                    <a:pt x="23" y="2190"/>
                  </a:lnTo>
                  <a:lnTo>
                    <a:pt x="23" y="2198"/>
                  </a:lnTo>
                  <a:lnTo>
                    <a:pt x="14" y="2207"/>
                  </a:lnTo>
                  <a:lnTo>
                    <a:pt x="5" y="2210"/>
                  </a:lnTo>
                  <a:lnTo>
                    <a:pt x="0" y="2218"/>
                  </a:lnTo>
                  <a:lnTo>
                    <a:pt x="5" y="2227"/>
                  </a:lnTo>
                  <a:lnTo>
                    <a:pt x="14" y="2236"/>
                  </a:lnTo>
                  <a:lnTo>
                    <a:pt x="23" y="2244"/>
                  </a:lnTo>
                  <a:lnTo>
                    <a:pt x="37" y="2233"/>
                  </a:lnTo>
                  <a:lnTo>
                    <a:pt x="46" y="2230"/>
                  </a:lnTo>
                  <a:lnTo>
                    <a:pt x="49" y="2239"/>
                  </a:lnTo>
                  <a:lnTo>
                    <a:pt x="49" y="2247"/>
                  </a:lnTo>
                  <a:lnTo>
                    <a:pt x="52" y="2256"/>
                  </a:lnTo>
                  <a:lnTo>
                    <a:pt x="55" y="2265"/>
                  </a:lnTo>
                  <a:lnTo>
                    <a:pt x="58" y="2273"/>
                  </a:lnTo>
                  <a:lnTo>
                    <a:pt x="58" y="2282"/>
                  </a:lnTo>
                  <a:lnTo>
                    <a:pt x="61" y="2291"/>
                  </a:lnTo>
                  <a:lnTo>
                    <a:pt x="61" y="2299"/>
                  </a:lnTo>
                  <a:lnTo>
                    <a:pt x="58" y="2308"/>
                  </a:lnTo>
                  <a:lnTo>
                    <a:pt x="52" y="2316"/>
                  </a:lnTo>
                  <a:lnTo>
                    <a:pt x="52" y="2325"/>
                  </a:lnTo>
                  <a:lnTo>
                    <a:pt x="52" y="2334"/>
                  </a:lnTo>
                  <a:lnTo>
                    <a:pt x="49" y="2342"/>
                  </a:lnTo>
                  <a:lnTo>
                    <a:pt x="58" y="2348"/>
                  </a:lnTo>
                  <a:lnTo>
                    <a:pt x="69" y="2348"/>
                  </a:lnTo>
                  <a:lnTo>
                    <a:pt x="78" y="2348"/>
                  </a:lnTo>
                  <a:lnTo>
                    <a:pt x="87" y="2357"/>
                  </a:lnTo>
                  <a:lnTo>
                    <a:pt x="96" y="2360"/>
                  </a:lnTo>
                  <a:lnTo>
                    <a:pt x="104" y="2360"/>
                  </a:lnTo>
                  <a:lnTo>
                    <a:pt x="113" y="2365"/>
                  </a:lnTo>
                  <a:lnTo>
                    <a:pt x="122" y="2371"/>
                  </a:lnTo>
                  <a:lnTo>
                    <a:pt x="128" y="2380"/>
                  </a:lnTo>
                  <a:lnTo>
                    <a:pt x="139" y="2389"/>
                  </a:lnTo>
                  <a:lnTo>
                    <a:pt x="142" y="2397"/>
                  </a:lnTo>
                  <a:lnTo>
                    <a:pt x="151" y="2406"/>
                  </a:lnTo>
                  <a:lnTo>
                    <a:pt x="160" y="2414"/>
                  </a:lnTo>
                  <a:lnTo>
                    <a:pt x="168" y="2417"/>
                  </a:lnTo>
                  <a:lnTo>
                    <a:pt x="177" y="2420"/>
                  </a:lnTo>
                  <a:lnTo>
                    <a:pt x="186" y="2423"/>
                  </a:lnTo>
                  <a:lnTo>
                    <a:pt x="195" y="2423"/>
                  </a:lnTo>
                  <a:lnTo>
                    <a:pt x="203" y="2423"/>
                  </a:lnTo>
                  <a:lnTo>
                    <a:pt x="212" y="2423"/>
                  </a:lnTo>
                  <a:lnTo>
                    <a:pt x="221" y="2420"/>
                  </a:lnTo>
                  <a:lnTo>
                    <a:pt x="229" y="2420"/>
                  </a:lnTo>
                  <a:lnTo>
                    <a:pt x="238" y="2420"/>
                  </a:lnTo>
                  <a:lnTo>
                    <a:pt x="247" y="2417"/>
                  </a:lnTo>
                  <a:lnTo>
                    <a:pt x="256" y="2412"/>
                  </a:lnTo>
                  <a:lnTo>
                    <a:pt x="264" y="2412"/>
                  </a:lnTo>
                  <a:lnTo>
                    <a:pt x="276" y="2412"/>
                  </a:lnTo>
                  <a:lnTo>
                    <a:pt x="285" y="2412"/>
                  </a:lnTo>
                  <a:lnTo>
                    <a:pt x="294" y="2414"/>
                  </a:lnTo>
                  <a:lnTo>
                    <a:pt x="302" y="2414"/>
                  </a:lnTo>
                  <a:lnTo>
                    <a:pt x="305" y="2406"/>
                  </a:lnTo>
                  <a:lnTo>
                    <a:pt x="305" y="2397"/>
                  </a:lnTo>
                  <a:lnTo>
                    <a:pt x="302" y="2389"/>
                  </a:lnTo>
                  <a:lnTo>
                    <a:pt x="299" y="2380"/>
                  </a:lnTo>
                  <a:lnTo>
                    <a:pt x="302" y="2371"/>
                  </a:lnTo>
                  <a:lnTo>
                    <a:pt x="314" y="2368"/>
                  </a:lnTo>
                  <a:lnTo>
                    <a:pt x="323" y="2368"/>
                  </a:lnTo>
                  <a:lnTo>
                    <a:pt x="331" y="2368"/>
                  </a:lnTo>
                  <a:lnTo>
                    <a:pt x="343" y="2368"/>
                  </a:lnTo>
                  <a:lnTo>
                    <a:pt x="346" y="2360"/>
                  </a:lnTo>
                  <a:lnTo>
                    <a:pt x="355" y="2354"/>
                  </a:lnTo>
                  <a:lnTo>
                    <a:pt x="363" y="2351"/>
                  </a:lnTo>
                  <a:lnTo>
                    <a:pt x="372" y="2351"/>
                  </a:lnTo>
                  <a:lnTo>
                    <a:pt x="381" y="2348"/>
                  </a:lnTo>
                  <a:lnTo>
                    <a:pt x="390" y="2348"/>
                  </a:lnTo>
                  <a:lnTo>
                    <a:pt x="398" y="2348"/>
                  </a:lnTo>
                  <a:lnTo>
                    <a:pt x="407" y="2348"/>
                  </a:lnTo>
                  <a:lnTo>
                    <a:pt x="419" y="2354"/>
                  </a:lnTo>
                  <a:lnTo>
                    <a:pt x="427" y="2360"/>
                  </a:lnTo>
                  <a:lnTo>
                    <a:pt x="436" y="2360"/>
                  </a:lnTo>
                  <a:lnTo>
                    <a:pt x="445" y="2360"/>
                  </a:lnTo>
                  <a:lnTo>
                    <a:pt x="454" y="2363"/>
                  </a:lnTo>
                  <a:lnTo>
                    <a:pt x="462" y="2363"/>
                  </a:lnTo>
                  <a:lnTo>
                    <a:pt x="471" y="2363"/>
                  </a:lnTo>
                  <a:lnTo>
                    <a:pt x="480" y="2363"/>
                  </a:lnTo>
                  <a:lnTo>
                    <a:pt x="489" y="2360"/>
                  </a:lnTo>
                  <a:lnTo>
                    <a:pt x="494" y="2351"/>
                  </a:lnTo>
                  <a:lnTo>
                    <a:pt x="494" y="2342"/>
                  </a:lnTo>
                  <a:lnTo>
                    <a:pt x="494" y="2334"/>
                  </a:lnTo>
                  <a:lnTo>
                    <a:pt x="497" y="2325"/>
                  </a:lnTo>
                  <a:lnTo>
                    <a:pt x="506" y="2322"/>
                  </a:lnTo>
                  <a:lnTo>
                    <a:pt x="515" y="2322"/>
                  </a:lnTo>
                  <a:lnTo>
                    <a:pt x="524" y="2322"/>
                  </a:lnTo>
                  <a:lnTo>
                    <a:pt x="532" y="2322"/>
                  </a:lnTo>
                  <a:lnTo>
                    <a:pt x="541" y="2322"/>
                  </a:lnTo>
                  <a:lnTo>
                    <a:pt x="550" y="2328"/>
                  </a:lnTo>
                  <a:lnTo>
                    <a:pt x="556" y="2337"/>
                  </a:lnTo>
                  <a:lnTo>
                    <a:pt x="564" y="2342"/>
                  </a:lnTo>
                  <a:lnTo>
                    <a:pt x="570" y="2351"/>
                  </a:lnTo>
                  <a:lnTo>
                    <a:pt x="576" y="2360"/>
                  </a:lnTo>
                  <a:lnTo>
                    <a:pt x="585" y="2368"/>
                  </a:lnTo>
                  <a:lnTo>
                    <a:pt x="590" y="2377"/>
                  </a:lnTo>
                  <a:lnTo>
                    <a:pt x="599" y="2383"/>
                  </a:lnTo>
                  <a:lnTo>
                    <a:pt x="611" y="2386"/>
                  </a:lnTo>
                  <a:lnTo>
                    <a:pt x="620" y="2386"/>
                  </a:lnTo>
                  <a:lnTo>
                    <a:pt x="628" y="2386"/>
                  </a:lnTo>
                  <a:lnTo>
                    <a:pt x="637" y="2386"/>
                  </a:lnTo>
                  <a:lnTo>
                    <a:pt x="646" y="2386"/>
                  </a:lnTo>
                  <a:lnTo>
                    <a:pt x="655" y="2386"/>
                  </a:lnTo>
                  <a:lnTo>
                    <a:pt x="663" y="2389"/>
                  </a:lnTo>
                  <a:lnTo>
                    <a:pt x="672" y="2389"/>
                  </a:lnTo>
                  <a:lnTo>
                    <a:pt x="681" y="2389"/>
                  </a:lnTo>
                  <a:lnTo>
                    <a:pt x="689" y="2389"/>
                  </a:lnTo>
                  <a:lnTo>
                    <a:pt x="698" y="2394"/>
                  </a:lnTo>
                  <a:lnTo>
                    <a:pt x="707" y="2403"/>
                  </a:lnTo>
                  <a:lnTo>
                    <a:pt x="713" y="2412"/>
                  </a:lnTo>
                  <a:lnTo>
                    <a:pt x="716" y="2420"/>
                  </a:lnTo>
                  <a:lnTo>
                    <a:pt x="716" y="2429"/>
                  </a:lnTo>
                  <a:lnTo>
                    <a:pt x="716" y="2437"/>
                  </a:lnTo>
                  <a:lnTo>
                    <a:pt x="719" y="2446"/>
                  </a:lnTo>
                  <a:lnTo>
                    <a:pt x="719" y="2455"/>
                  </a:lnTo>
                  <a:lnTo>
                    <a:pt x="721" y="2463"/>
                  </a:lnTo>
                  <a:lnTo>
                    <a:pt x="721" y="2472"/>
                  </a:lnTo>
                  <a:lnTo>
                    <a:pt x="721" y="2481"/>
                  </a:lnTo>
                  <a:lnTo>
                    <a:pt x="721" y="2489"/>
                  </a:lnTo>
                  <a:lnTo>
                    <a:pt x="713" y="2492"/>
                  </a:lnTo>
                  <a:lnTo>
                    <a:pt x="704" y="2492"/>
                  </a:lnTo>
                  <a:lnTo>
                    <a:pt x="698" y="2501"/>
                  </a:lnTo>
                  <a:lnTo>
                    <a:pt x="707" y="2507"/>
                  </a:lnTo>
                  <a:lnTo>
                    <a:pt x="716" y="2512"/>
                  </a:lnTo>
                  <a:lnTo>
                    <a:pt x="721" y="2521"/>
                  </a:lnTo>
                  <a:lnTo>
                    <a:pt x="721" y="2530"/>
                  </a:lnTo>
                  <a:lnTo>
                    <a:pt x="719" y="2538"/>
                  </a:lnTo>
                  <a:lnTo>
                    <a:pt x="719" y="2547"/>
                  </a:lnTo>
                  <a:lnTo>
                    <a:pt x="719" y="2556"/>
                  </a:lnTo>
                  <a:lnTo>
                    <a:pt x="719" y="2564"/>
                  </a:lnTo>
                  <a:lnTo>
                    <a:pt x="721" y="2576"/>
                  </a:lnTo>
                  <a:lnTo>
                    <a:pt x="721" y="2584"/>
                  </a:lnTo>
                  <a:lnTo>
                    <a:pt x="727" y="2593"/>
                  </a:lnTo>
                  <a:lnTo>
                    <a:pt x="736" y="2602"/>
                  </a:lnTo>
                  <a:lnTo>
                    <a:pt x="742" y="2613"/>
                  </a:lnTo>
                  <a:lnTo>
                    <a:pt x="745" y="2625"/>
                  </a:lnTo>
                  <a:lnTo>
                    <a:pt x="756" y="2633"/>
                  </a:lnTo>
                  <a:lnTo>
                    <a:pt x="765" y="2642"/>
                  </a:lnTo>
                  <a:lnTo>
                    <a:pt x="768" y="2654"/>
                  </a:lnTo>
                  <a:lnTo>
                    <a:pt x="768" y="2662"/>
                  </a:lnTo>
                  <a:lnTo>
                    <a:pt x="768" y="2671"/>
                  </a:lnTo>
                  <a:lnTo>
                    <a:pt x="771" y="2682"/>
                  </a:lnTo>
                  <a:lnTo>
                    <a:pt x="780" y="2688"/>
                  </a:lnTo>
                  <a:lnTo>
                    <a:pt x="783" y="2697"/>
                  </a:lnTo>
                  <a:lnTo>
                    <a:pt x="786" y="2705"/>
                  </a:lnTo>
                  <a:lnTo>
                    <a:pt x="788" y="2714"/>
                  </a:lnTo>
                  <a:lnTo>
                    <a:pt x="788" y="2723"/>
                  </a:lnTo>
                  <a:lnTo>
                    <a:pt x="788" y="2731"/>
                  </a:lnTo>
                  <a:lnTo>
                    <a:pt x="788" y="2740"/>
                  </a:lnTo>
                  <a:lnTo>
                    <a:pt x="788" y="2749"/>
                  </a:lnTo>
                  <a:lnTo>
                    <a:pt x="788" y="2757"/>
                  </a:lnTo>
                  <a:lnTo>
                    <a:pt x="788" y="2769"/>
                  </a:lnTo>
                  <a:lnTo>
                    <a:pt x="783" y="2778"/>
                  </a:lnTo>
                  <a:lnTo>
                    <a:pt x="774" y="2778"/>
                  </a:lnTo>
                  <a:lnTo>
                    <a:pt x="765" y="2783"/>
                  </a:lnTo>
                  <a:lnTo>
                    <a:pt x="759" y="2792"/>
                  </a:lnTo>
                  <a:lnTo>
                    <a:pt x="751" y="2795"/>
                  </a:lnTo>
                  <a:lnTo>
                    <a:pt x="742" y="2789"/>
                  </a:lnTo>
                  <a:lnTo>
                    <a:pt x="730" y="2786"/>
                  </a:lnTo>
                  <a:lnTo>
                    <a:pt x="721" y="2780"/>
                  </a:lnTo>
                  <a:lnTo>
                    <a:pt x="713" y="2778"/>
                  </a:lnTo>
                  <a:lnTo>
                    <a:pt x="710" y="2766"/>
                  </a:lnTo>
                  <a:lnTo>
                    <a:pt x="707" y="2757"/>
                  </a:lnTo>
                  <a:lnTo>
                    <a:pt x="698" y="2754"/>
                  </a:lnTo>
                  <a:lnTo>
                    <a:pt x="687" y="2754"/>
                  </a:lnTo>
                  <a:lnTo>
                    <a:pt x="678" y="2746"/>
                  </a:lnTo>
                  <a:lnTo>
                    <a:pt x="672" y="2737"/>
                  </a:lnTo>
                  <a:lnTo>
                    <a:pt x="660" y="2731"/>
                  </a:lnTo>
                  <a:lnTo>
                    <a:pt x="652" y="2729"/>
                  </a:lnTo>
                  <a:lnTo>
                    <a:pt x="643" y="2729"/>
                  </a:lnTo>
                  <a:lnTo>
                    <a:pt x="634" y="2729"/>
                  </a:lnTo>
                  <a:lnTo>
                    <a:pt x="628" y="2737"/>
                  </a:lnTo>
                  <a:lnTo>
                    <a:pt x="628" y="2746"/>
                  </a:lnTo>
                  <a:lnTo>
                    <a:pt x="631" y="2754"/>
                  </a:lnTo>
                  <a:lnTo>
                    <a:pt x="640" y="2763"/>
                  </a:lnTo>
                  <a:lnTo>
                    <a:pt x="652" y="2769"/>
                  </a:lnTo>
                  <a:lnTo>
                    <a:pt x="660" y="2775"/>
                  </a:lnTo>
                  <a:lnTo>
                    <a:pt x="666" y="2783"/>
                  </a:lnTo>
                  <a:lnTo>
                    <a:pt x="669" y="2792"/>
                  </a:lnTo>
                  <a:lnTo>
                    <a:pt x="672" y="2801"/>
                  </a:lnTo>
                  <a:lnTo>
                    <a:pt x="675" y="2809"/>
                  </a:lnTo>
                  <a:lnTo>
                    <a:pt x="678" y="2818"/>
                  </a:lnTo>
                  <a:lnTo>
                    <a:pt x="687" y="2827"/>
                  </a:lnTo>
                  <a:lnTo>
                    <a:pt x="695" y="2829"/>
                  </a:lnTo>
                  <a:lnTo>
                    <a:pt x="707" y="2829"/>
                  </a:lnTo>
                  <a:lnTo>
                    <a:pt x="713" y="2818"/>
                  </a:lnTo>
                  <a:lnTo>
                    <a:pt x="713" y="2809"/>
                  </a:lnTo>
                  <a:lnTo>
                    <a:pt x="716" y="2801"/>
                  </a:lnTo>
                  <a:lnTo>
                    <a:pt x="724" y="2795"/>
                  </a:lnTo>
                  <a:lnTo>
                    <a:pt x="733" y="2795"/>
                  </a:lnTo>
                  <a:lnTo>
                    <a:pt x="742" y="2792"/>
                  </a:lnTo>
                  <a:lnTo>
                    <a:pt x="751" y="2801"/>
                  </a:lnTo>
                  <a:lnTo>
                    <a:pt x="762" y="2803"/>
                  </a:lnTo>
                  <a:lnTo>
                    <a:pt x="771" y="2803"/>
                  </a:lnTo>
                  <a:lnTo>
                    <a:pt x="780" y="2803"/>
                  </a:lnTo>
                  <a:lnTo>
                    <a:pt x="788" y="2803"/>
                  </a:lnTo>
                  <a:lnTo>
                    <a:pt x="788" y="2795"/>
                  </a:lnTo>
                  <a:lnTo>
                    <a:pt x="788" y="2786"/>
                  </a:lnTo>
                  <a:lnTo>
                    <a:pt x="797" y="2780"/>
                  </a:lnTo>
                  <a:lnTo>
                    <a:pt x="806" y="2780"/>
                  </a:lnTo>
                  <a:lnTo>
                    <a:pt x="815" y="2772"/>
                  </a:lnTo>
                  <a:lnTo>
                    <a:pt x="815" y="2763"/>
                  </a:lnTo>
                  <a:lnTo>
                    <a:pt x="815" y="2754"/>
                  </a:lnTo>
                  <a:lnTo>
                    <a:pt x="815" y="2746"/>
                  </a:lnTo>
                  <a:lnTo>
                    <a:pt x="815" y="2737"/>
                  </a:lnTo>
                  <a:lnTo>
                    <a:pt x="818" y="2729"/>
                  </a:lnTo>
                  <a:lnTo>
                    <a:pt x="826" y="2726"/>
                  </a:lnTo>
                  <a:lnTo>
                    <a:pt x="835" y="2720"/>
                  </a:lnTo>
                  <a:lnTo>
                    <a:pt x="844" y="2717"/>
                  </a:lnTo>
                  <a:lnTo>
                    <a:pt x="852" y="2720"/>
                  </a:lnTo>
                  <a:lnTo>
                    <a:pt x="855" y="2729"/>
                  </a:lnTo>
                  <a:lnTo>
                    <a:pt x="858" y="2740"/>
                  </a:lnTo>
                  <a:lnTo>
                    <a:pt x="858" y="2749"/>
                  </a:lnTo>
                  <a:lnTo>
                    <a:pt x="861" y="2757"/>
                  </a:lnTo>
                  <a:lnTo>
                    <a:pt x="870" y="2763"/>
                  </a:lnTo>
                  <a:lnTo>
                    <a:pt x="882" y="2766"/>
                  </a:lnTo>
                  <a:lnTo>
                    <a:pt x="887" y="2757"/>
                  </a:lnTo>
                  <a:lnTo>
                    <a:pt x="887" y="2749"/>
                  </a:lnTo>
                  <a:lnTo>
                    <a:pt x="887" y="2740"/>
                  </a:lnTo>
                  <a:lnTo>
                    <a:pt x="887" y="2731"/>
                  </a:lnTo>
                  <a:lnTo>
                    <a:pt x="885" y="2723"/>
                  </a:lnTo>
                  <a:lnTo>
                    <a:pt x="876" y="2714"/>
                  </a:lnTo>
                  <a:lnTo>
                    <a:pt x="870" y="2705"/>
                  </a:lnTo>
                  <a:lnTo>
                    <a:pt x="864" y="2697"/>
                  </a:lnTo>
                  <a:lnTo>
                    <a:pt x="855" y="2691"/>
                  </a:lnTo>
                  <a:lnTo>
                    <a:pt x="847" y="2682"/>
                  </a:lnTo>
                  <a:lnTo>
                    <a:pt x="838" y="2674"/>
                  </a:lnTo>
                  <a:lnTo>
                    <a:pt x="835" y="2665"/>
                  </a:lnTo>
                  <a:lnTo>
                    <a:pt x="832" y="2657"/>
                  </a:lnTo>
                  <a:lnTo>
                    <a:pt x="832" y="2648"/>
                  </a:lnTo>
                  <a:lnTo>
                    <a:pt x="841" y="2642"/>
                  </a:lnTo>
                  <a:lnTo>
                    <a:pt x="850" y="2642"/>
                  </a:lnTo>
                  <a:lnTo>
                    <a:pt x="852" y="2633"/>
                  </a:lnTo>
                  <a:lnTo>
                    <a:pt x="844" y="2628"/>
                  </a:lnTo>
                  <a:lnTo>
                    <a:pt x="835" y="2622"/>
                  </a:lnTo>
                  <a:lnTo>
                    <a:pt x="826" y="2619"/>
                  </a:lnTo>
                  <a:lnTo>
                    <a:pt x="820" y="2610"/>
                  </a:lnTo>
                  <a:lnTo>
                    <a:pt x="818" y="2602"/>
                  </a:lnTo>
                  <a:lnTo>
                    <a:pt x="812" y="2593"/>
                  </a:lnTo>
                  <a:lnTo>
                    <a:pt x="812" y="2584"/>
                  </a:lnTo>
                  <a:lnTo>
                    <a:pt x="809" y="2576"/>
                  </a:lnTo>
                  <a:lnTo>
                    <a:pt x="806" y="2564"/>
                  </a:lnTo>
                  <a:lnTo>
                    <a:pt x="806" y="2556"/>
                  </a:lnTo>
                  <a:lnTo>
                    <a:pt x="806" y="2547"/>
                  </a:lnTo>
                  <a:lnTo>
                    <a:pt x="806" y="2538"/>
                  </a:lnTo>
                  <a:lnTo>
                    <a:pt x="806" y="2530"/>
                  </a:lnTo>
                  <a:lnTo>
                    <a:pt x="806" y="2521"/>
                  </a:lnTo>
                  <a:lnTo>
                    <a:pt x="806" y="2512"/>
                  </a:lnTo>
                  <a:lnTo>
                    <a:pt x="806" y="2504"/>
                  </a:lnTo>
                  <a:lnTo>
                    <a:pt x="803" y="2495"/>
                  </a:lnTo>
                  <a:lnTo>
                    <a:pt x="800" y="2486"/>
                  </a:lnTo>
                  <a:lnTo>
                    <a:pt x="800" y="2478"/>
                  </a:lnTo>
                  <a:lnTo>
                    <a:pt x="800" y="2469"/>
                  </a:lnTo>
                  <a:lnTo>
                    <a:pt x="800" y="2461"/>
                  </a:lnTo>
                  <a:lnTo>
                    <a:pt x="800" y="2452"/>
                  </a:lnTo>
                  <a:lnTo>
                    <a:pt x="809" y="2452"/>
                  </a:lnTo>
                  <a:lnTo>
                    <a:pt x="818" y="2452"/>
                  </a:lnTo>
                  <a:lnTo>
                    <a:pt x="818" y="2443"/>
                  </a:lnTo>
                  <a:lnTo>
                    <a:pt x="820" y="2435"/>
                  </a:lnTo>
                  <a:lnTo>
                    <a:pt x="826" y="2426"/>
                  </a:lnTo>
                  <a:lnTo>
                    <a:pt x="835" y="2426"/>
                  </a:lnTo>
                  <a:lnTo>
                    <a:pt x="838" y="2435"/>
                  </a:lnTo>
                  <a:lnTo>
                    <a:pt x="847" y="2440"/>
                  </a:lnTo>
                  <a:lnTo>
                    <a:pt x="855" y="2435"/>
                  </a:lnTo>
                  <a:lnTo>
                    <a:pt x="864" y="2432"/>
                  </a:lnTo>
                  <a:lnTo>
                    <a:pt x="864" y="2440"/>
                  </a:lnTo>
                  <a:lnTo>
                    <a:pt x="864" y="2449"/>
                  </a:lnTo>
                  <a:lnTo>
                    <a:pt x="858" y="2458"/>
                  </a:lnTo>
                  <a:lnTo>
                    <a:pt x="850" y="2466"/>
                  </a:lnTo>
                  <a:lnTo>
                    <a:pt x="847" y="2475"/>
                  </a:lnTo>
                  <a:lnTo>
                    <a:pt x="855" y="2478"/>
                  </a:lnTo>
                  <a:lnTo>
                    <a:pt x="864" y="2478"/>
                  </a:lnTo>
                  <a:lnTo>
                    <a:pt x="864" y="2486"/>
                  </a:lnTo>
                  <a:lnTo>
                    <a:pt x="864" y="2495"/>
                  </a:lnTo>
                  <a:lnTo>
                    <a:pt x="873" y="2498"/>
                  </a:lnTo>
                  <a:lnTo>
                    <a:pt x="882" y="2498"/>
                  </a:lnTo>
                  <a:lnTo>
                    <a:pt x="882" y="2507"/>
                  </a:lnTo>
                  <a:lnTo>
                    <a:pt x="882" y="2515"/>
                  </a:lnTo>
                  <a:lnTo>
                    <a:pt x="879" y="2524"/>
                  </a:lnTo>
                  <a:lnTo>
                    <a:pt x="870" y="2527"/>
                  </a:lnTo>
                  <a:lnTo>
                    <a:pt x="864" y="2535"/>
                  </a:lnTo>
                  <a:lnTo>
                    <a:pt x="867" y="2544"/>
                  </a:lnTo>
                  <a:lnTo>
                    <a:pt x="870" y="2553"/>
                  </a:lnTo>
                  <a:lnTo>
                    <a:pt x="876" y="2561"/>
                  </a:lnTo>
                  <a:lnTo>
                    <a:pt x="882" y="2573"/>
                  </a:lnTo>
                  <a:lnTo>
                    <a:pt x="890" y="2584"/>
                  </a:lnTo>
                  <a:lnTo>
                    <a:pt x="893" y="2593"/>
                  </a:lnTo>
                  <a:lnTo>
                    <a:pt x="896" y="2602"/>
                  </a:lnTo>
                  <a:lnTo>
                    <a:pt x="899" y="2613"/>
                  </a:lnTo>
                  <a:lnTo>
                    <a:pt x="899" y="2622"/>
                  </a:lnTo>
                  <a:lnTo>
                    <a:pt x="902" y="2631"/>
                  </a:lnTo>
                  <a:lnTo>
                    <a:pt x="905" y="2639"/>
                  </a:lnTo>
                  <a:lnTo>
                    <a:pt x="911" y="2648"/>
                  </a:lnTo>
                  <a:lnTo>
                    <a:pt x="919" y="2657"/>
                  </a:lnTo>
                  <a:lnTo>
                    <a:pt x="928" y="2662"/>
                  </a:lnTo>
                  <a:lnTo>
                    <a:pt x="937" y="2671"/>
                  </a:lnTo>
                  <a:lnTo>
                    <a:pt x="943" y="2680"/>
                  </a:lnTo>
                  <a:lnTo>
                    <a:pt x="946" y="2688"/>
                  </a:lnTo>
                  <a:lnTo>
                    <a:pt x="949" y="2697"/>
                  </a:lnTo>
                  <a:lnTo>
                    <a:pt x="949" y="2705"/>
                  </a:lnTo>
                  <a:lnTo>
                    <a:pt x="949" y="2714"/>
                  </a:lnTo>
                  <a:lnTo>
                    <a:pt x="949" y="2723"/>
                  </a:lnTo>
                  <a:lnTo>
                    <a:pt x="943" y="2731"/>
                  </a:lnTo>
                  <a:lnTo>
                    <a:pt x="934" y="2734"/>
                  </a:lnTo>
                  <a:lnTo>
                    <a:pt x="928" y="2743"/>
                  </a:lnTo>
                  <a:lnTo>
                    <a:pt x="925" y="2752"/>
                  </a:lnTo>
                  <a:lnTo>
                    <a:pt x="925" y="2760"/>
                  </a:lnTo>
                  <a:lnTo>
                    <a:pt x="922" y="2769"/>
                  </a:lnTo>
                  <a:lnTo>
                    <a:pt x="922" y="2778"/>
                  </a:lnTo>
                  <a:lnTo>
                    <a:pt x="919" y="2786"/>
                  </a:lnTo>
                  <a:lnTo>
                    <a:pt x="911" y="2795"/>
                  </a:lnTo>
                  <a:lnTo>
                    <a:pt x="908" y="2803"/>
                  </a:lnTo>
                  <a:lnTo>
                    <a:pt x="908" y="2812"/>
                  </a:lnTo>
                  <a:lnTo>
                    <a:pt x="911" y="2821"/>
                  </a:lnTo>
                  <a:lnTo>
                    <a:pt x="922" y="2827"/>
                  </a:lnTo>
                  <a:lnTo>
                    <a:pt x="934" y="2832"/>
                  </a:lnTo>
                  <a:lnTo>
                    <a:pt x="940" y="2841"/>
                  </a:lnTo>
                  <a:lnTo>
                    <a:pt x="922" y="2832"/>
                  </a:lnTo>
                  <a:lnTo>
                    <a:pt x="946" y="2824"/>
                  </a:lnTo>
                  <a:lnTo>
                    <a:pt x="946" y="2832"/>
                  </a:lnTo>
                  <a:lnTo>
                    <a:pt x="946" y="2841"/>
                  </a:lnTo>
                  <a:lnTo>
                    <a:pt x="946" y="2850"/>
                  </a:lnTo>
                  <a:lnTo>
                    <a:pt x="940" y="2858"/>
                  </a:lnTo>
                  <a:lnTo>
                    <a:pt x="931" y="2861"/>
                  </a:lnTo>
                  <a:lnTo>
                    <a:pt x="922" y="2867"/>
                  </a:lnTo>
                  <a:lnTo>
                    <a:pt x="917" y="2876"/>
                  </a:lnTo>
                  <a:lnTo>
                    <a:pt x="919" y="2884"/>
                  </a:lnTo>
                  <a:lnTo>
                    <a:pt x="922" y="2893"/>
                  </a:lnTo>
                  <a:lnTo>
                    <a:pt x="917" y="2901"/>
                  </a:lnTo>
                  <a:lnTo>
                    <a:pt x="925" y="2904"/>
                  </a:lnTo>
                  <a:lnTo>
                    <a:pt x="934" y="2904"/>
                  </a:lnTo>
                  <a:lnTo>
                    <a:pt x="943" y="2904"/>
                  </a:lnTo>
                  <a:lnTo>
                    <a:pt x="951" y="2899"/>
                  </a:lnTo>
                  <a:lnTo>
                    <a:pt x="960" y="2893"/>
                  </a:lnTo>
                  <a:lnTo>
                    <a:pt x="969" y="2893"/>
                  </a:lnTo>
                  <a:lnTo>
                    <a:pt x="978" y="2899"/>
                  </a:lnTo>
                  <a:lnTo>
                    <a:pt x="983" y="2907"/>
                  </a:lnTo>
                  <a:lnTo>
                    <a:pt x="975" y="2904"/>
                  </a:lnTo>
                  <a:lnTo>
                    <a:pt x="966" y="2899"/>
                  </a:lnTo>
                  <a:lnTo>
                    <a:pt x="954" y="2896"/>
                  </a:lnTo>
                  <a:lnTo>
                    <a:pt x="940" y="2893"/>
                  </a:lnTo>
                  <a:lnTo>
                    <a:pt x="943" y="2910"/>
                  </a:lnTo>
                  <a:lnTo>
                    <a:pt x="951" y="2930"/>
                  </a:lnTo>
                  <a:lnTo>
                    <a:pt x="943" y="2933"/>
                  </a:lnTo>
                  <a:lnTo>
                    <a:pt x="940" y="2942"/>
                  </a:lnTo>
                  <a:lnTo>
                    <a:pt x="937" y="2950"/>
                  </a:lnTo>
                  <a:lnTo>
                    <a:pt x="946" y="2956"/>
                  </a:lnTo>
                  <a:lnTo>
                    <a:pt x="949" y="2965"/>
                  </a:lnTo>
                  <a:lnTo>
                    <a:pt x="951" y="2974"/>
                  </a:lnTo>
                  <a:lnTo>
                    <a:pt x="951" y="2982"/>
                  </a:lnTo>
                  <a:lnTo>
                    <a:pt x="951" y="2991"/>
                  </a:lnTo>
                  <a:lnTo>
                    <a:pt x="954" y="2999"/>
                  </a:lnTo>
                  <a:lnTo>
                    <a:pt x="957" y="3011"/>
                  </a:lnTo>
                  <a:lnTo>
                    <a:pt x="963" y="3002"/>
                  </a:lnTo>
                  <a:lnTo>
                    <a:pt x="963" y="2994"/>
                  </a:lnTo>
                  <a:lnTo>
                    <a:pt x="963" y="2985"/>
                  </a:lnTo>
                  <a:lnTo>
                    <a:pt x="963" y="2976"/>
                  </a:lnTo>
                  <a:lnTo>
                    <a:pt x="963" y="2968"/>
                  </a:lnTo>
                  <a:lnTo>
                    <a:pt x="969" y="2959"/>
                  </a:lnTo>
                  <a:lnTo>
                    <a:pt x="978" y="2953"/>
                  </a:lnTo>
                  <a:lnTo>
                    <a:pt x="983" y="2945"/>
                  </a:lnTo>
                  <a:lnTo>
                    <a:pt x="992" y="2942"/>
                  </a:lnTo>
                  <a:lnTo>
                    <a:pt x="1004" y="2945"/>
                  </a:lnTo>
                  <a:lnTo>
                    <a:pt x="1016" y="2945"/>
                  </a:lnTo>
                  <a:lnTo>
                    <a:pt x="1024" y="2945"/>
                  </a:lnTo>
                  <a:lnTo>
                    <a:pt x="1027" y="2936"/>
                  </a:lnTo>
                  <a:lnTo>
                    <a:pt x="1036" y="2945"/>
                  </a:lnTo>
                  <a:lnTo>
                    <a:pt x="1042" y="2953"/>
                  </a:lnTo>
                  <a:lnTo>
                    <a:pt x="1050" y="2962"/>
                  </a:lnTo>
                  <a:lnTo>
                    <a:pt x="1059" y="2971"/>
                  </a:lnTo>
                  <a:lnTo>
                    <a:pt x="1045" y="2959"/>
                  </a:lnTo>
                  <a:lnTo>
                    <a:pt x="1042" y="2950"/>
                  </a:lnTo>
                  <a:lnTo>
                    <a:pt x="1042" y="2942"/>
                  </a:lnTo>
                  <a:lnTo>
                    <a:pt x="1042" y="2933"/>
                  </a:lnTo>
                  <a:lnTo>
                    <a:pt x="1042" y="2925"/>
                  </a:lnTo>
                  <a:lnTo>
                    <a:pt x="1033" y="2916"/>
                  </a:lnTo>
                  <a:lnTo>
                    <a:pt x="1021" y="2907"/>
                  </a:lnTo>
                  <a:lnTo>
                    <a:pt x="1013" y="2899"/>
                  </a:lnTo>
                  <a:lnTo>
                    <a:pt x="1007" y="2890"/>
                  </a:lnTo>
                  <a:lnTo>
                    <a:pt x="1018" y="2893"/>
                  </a:lnTo>
                  <a:lnTo>
                    <a:pt x="1027" y="2896"/>
                  </a:lnTo>
                  <a:lnTo>
                    <a:pt x="1036" y="2901"/>
                  </a:lnTo>
                  <a:lnTo>
                    <a:pt x="1045" y="2907"/>
                  </a:lnTo>
                  <a:lnTo>
                    <a:pt x="1050" y="2916"/>
                  </a:lnTo>
                  <a:lnTo>
                    <a:pt x="1042" y="2913"/>
                  </a:lnTo>
                  <a:lnTo>
                    <a:pt x="1033" y="2907"/>
                  </a:lnTo>
                  <a:lnTo>
                    <a:pt x="1021" y="2899"/>
                  </a:lnTo>
                  <a:lnTo>
                    <a:pt x="1010" y="2896"/>
                  </a:lnTo>
                  <a:lnTo>
                    <a:pt x="1004" y="2887"/>
                  </a:lnTo>
                  <a:lnTo>
                    <a:pt x="1013" y="2881"/>
                  </a:lnTo>
                  <a:lnTo>
                    <a:pt x="1018" y="2873"/>
                  </a:lnTo>
                  <a:lnTo>
                    <a:pt x="1018" y="2864"/>
                  </a:lnTo>
                  <a:lnTo>
                    <a:pt x="1021" y="2855"/>
                  </a:lnTo>
                  <a:lnTo>
                    <a:pt x="1021" y="2847"/>
                  </a:lnTo>
                  <a:lnTo>
                    <a:pt x="1021" y="2838"/>
                  </a:lnTo>
                  <a:lnTo>
                    <a:pt x="1021" y="2829"/>
                  </a:lnTo>
                  <a:lnTo>
                    <a:pt x="1021" y="2821"/>
                  </a:lnTo>
                  <a:lnTo>
                    <a:pt x="1024" y="2812"/>
                  </a:lnTo>
                  <a:lnTo>
                    <a:pt x="1033" y="2812"/>
                  </a:lnTo>
                  <a:lnTo>
                    <a:pt x="1042" y="2809"/>
                  </a:lnTo>
                  <a:lnTo>
                    <a:pt x="1042" y="2818"/>
                  </a:lnTo>
                  <a:lnTo>
                    <a:pt x="1042" y="2827"/>
                  </a:lnTo>
                  <a:lnTo>
                    <a:pt x="1042" y="2835"/>
                  </a:lnTo>
                  <a:lnTo>
                    <a:pt x="1042" y="2844"/>
                  </a:lnTo>
                  <a:lnTo>
                    <a:pt x="1050" y="2850"/>
                  </a:lnTo>
                  <a:lnTo>
                    <a:pt x="1056" y="2841"/>
                  </a:lnTo>
                  <a:lnTo>
                    <a:pt x="1065" y="2841"/>
                  </a:lnTo>
                  <a:lnTo>
                    <a:pt x="1068" y="2850"/>
                  </a:lnTo>
                  <a:lnTo>
                    <a:pt x="1071" y="2841"/>
                  </a:lnTo>
                  <a:lnTo>
                    <a:pt x="1071" y="2832"/>
                  </a:lnTo>
                  <a:lnTo>
                    <a:pt x="1080" y="2827"/>
                  </a:lnTo>
                  <a:lnTo>
                    <a:pt x="1088" y="2827"/>
                  </a:lnTo>
                  <a:lnTo>
                    <a:pt x="1100" y="2835"/>
                  </a:lnTo>
                  <a:lnTo>
                    <a:pt x="1109" y="2835"/>
                  </a:lnTo>
                  <a:lnTo>
                    <a:pt x="1120" y="2835"/>
                  </a:lnTo>
                  <a:lnTo>
                    <a:pt x="1129" y="2835"/>
                  </a:lnTo>
                  <a:lnTo>
                    <a:pt x="1138" y="2838"/>
                  </a:lnTo>
                  <a:lnTo>
                    <a:pt x="1147" y="2841"/>
                  </a:lnTo>
                  <a:lnTo>
                    <a:pt x="1155" y="2844"/>
                  </a:lnTo>
                  <a:lnTo>
                    <a:pt x="1149" y="2852"/>
                  </a:lnTo>
                  <a:lnTo>
                    <a:pt x="1149" y="2861"/>
                  </a:lnTo>
                  <a:lnTo>
                    <a:pt x="1149" y="2870"/>
                  </a:lnTo>
                  <a:lnTo>
                    <a:pt x="1158" y="2878"/>
                  </a:lnTo>
                  <a:lnTo>
                    <a:pt x="1170" y="2878"/>
                  </a:lnTo>
                  <a:lnTo>
                    <a:pt x="1179" y="2878"/>
                  </a:lnTo>
                  <a:lnTo>
                    <a:pt x="1187" y="2878"/>
                  </a:lnTo>
                  <a:lnTo>
                    <a:pt x="1196" y="2878"/>
                  </a:lnTo>
                  <a:lnTo>
                    <a:pt x="1205" y="2876"/>
                  </a:lnTo>
                  <a:lnTo>
                    <a:pt x="1216" y="2873"/>
                  </a:lnTo>
                  <a:lnTo>
                    <a:pt x="1225" y="2873"/>
                  </a:lnTo>
                  <a:lnTo>
                    <a:pt x="1234" y="2873"/>
                  </a:lnTo>
                  <a:lnTo>
                    <a:pt x="1243" y="2873"/>
                  </a:lnTo>
                  <a:lnTo>
                    <a:pt x="1251" y="2873"/>
                  </a:lnTo>
                  <a:lnTo>
                    <a:pt x="1254" y="2884"/>
                  </a:lnTo>
                  <a:lnTo>
                    <a:pt x="1257" y="2893"/>
                  </a:lnTo>
                  <a:lnTo>
                    <a:pt x="1257" y="2901"/>
                  </a:lnTo>
                  <a:lnTo>
                    <a:pt x="1272" y="2907"/>
                  </a:lnTo>
                  <a:lnTo>
                    <a:pt x="1263" y="2913"/>
                  </a:lnTo>
                  <a:lnTo>
                    <a:pt x="1254" y="2913"/>
                  </a:lnTo>
                  <a:lnTo>
                    <a:pt x="1245" y="2913"/>
                  </a:lnTo>
                  <a:lnTo>
                    <a:pt x="1248" y="2878"/>
                  </a:lnTo>
                  <a:lnTo>
                    <a:pt x="1245" y="2896"/>
                  </a:lnTo>
                  <a:lnTo>
                    <a:pt x="1237" y="2896"/>
                  </a:lnTo>
                  <a:lnTo>
                    <a:pt x="1228" y="2893"/>
                  </a:lnTo>
                  <a:lnTo>
                    <a:pt x="1219" y="2896"/>
                  </a:lnTo>
                  <a:lnTo>
                    <a:pt x="1211" y="2896"/>
                  </a:lnTo>
                  <a:lnTo>
                    <a:pt x="1202" y="2896"/>
                  </a:lnTo>
                  <a:lnTo>
                    <a:pt x="1193" y="2893"/>
                  </a:lnTo>
                  <a:lnTo>
                    <a:pt x="1184" y="2890"/>
                  </a:lnTo>
                  <a:lnTo>
                    <a:pt x="1176" y="2890"/>
                  </a:lnTo>
                  <a:lnTo>
                    <a:pt x="1167" y="2887"/>
                  </a:lnTo>
                  <a:lnTo>
                    <a:pt x="1155" y="2887"/>
                  </a:lnTo>
                  <a:lnTo>
                    <a:pt x="1147" y="2887"/>
                  </a:lnTo>
                  <a:lnTo>
                    <a:pt x="1135" y="2887"/>
                  </a:lnTo>
                  <a:lnTo>
                    <a:pt x="1132" y="2896"/>
                  </a:lnTo>
                  <a:lnTo>
                    <a:pt x="1132" y="2904"/>
                  </a:lnTo>
                  <a:lnTo>
                    <a:pt x="1132" y="2913"/>
                  </a:lnTo>
                  <a:lnTo>
                    <a:pt x="1144" y="2916"/>
                  </a:lnTo>
                  <a:lnTo>
                    <a:pt x="1144" y="2925"/>
                  </a:lnTo>
                  <a:lnTo>
                    <a:pt x="1129" y="2927"/>
                  </a:lnTo>
                  <a:lnTo>
                    <a:pt x="1120" y="2927"/>
                  </a:lnTo>
                  <a:lnTo>
                    <a:pt x="1112" y="2927"/>
                  </a:lnTo>
                  <a:lnTo>
                    <a:pt x="1114" y="2936"/>
                  </a:lnTo>
                  <a:lnTo>
                    <a:pt x="1123" y="2936"/>
                  </a:lnTo>
                  <a:lnTo>
                    <a:pt x="1132" y="2942"/>
                  </a:lnTo>
                  <a:lnTo>
                    <a:pt x="1144" y="2948"/>
                  </a:lnTo>
                  <a:lnTo>
                    <a:pt x="1135" y="2953"/>
                  </a:lnTo>
                  <a:lnTo>
                    <a:pt x="1123" y="2953"/>
                  </a:lnTo>
                  <a:lnTo>
                    <a:pt x="1112" y="2953"/>
                  </a:lnTo>
                  <a:lnTo>
                    <a:pt x="1103" y="2953"/>
                  </a:lnTo>
                  <a:lnTo>
                    <a:pt x="1106" y="2962"/>
                  </a:lnTo>
                  <a:lnTo>
                    <a:pt x="1114" y="2965"/>
                  </a:lnTo>
                  <a:lnTo>
                    <a:pt x="1123" y="2974"/>
                  </a:lnTo>
                  <a:lnTo>
                    <a:pt x="1114" y="2982"/>
                  </a:lnTo>
                  <a:lnTo>
                    <a:pt x="1117" y="2991"/>
                  </a:lnTo>
                  <a:lnTo>
                    <a:pt x="1126" y="2994"/>
                  </a:lnTo>
                  <a:lnTo>
                    <a:pt x="1114" y="2999"/>
                  </a:lnTo>
                  <a:lnTo>
                    <a:pt x="1106" y="2999"/>
                  </a:lnTo>
                  <a:lnTo>
                    <a:pt x="1117" y="3005"/>
                  </a:lnTo>
                  <a:lnTo>
                    <a:pt x="1132" y="3008"/>
                  </a:lnTo>
                  <a:lnTo>
                    <a:pt x="1135" y="3017"/>
                  </a:lnTo>
                  <a:lnTo>
                    <a:pt x="1126" y="3022"/>
                  </a:lnTo>
                  <a:lnTo>
                    <a:pt x="1126" y="3034"/>
                  </a:lnTo>
                  <a:lnTo>
                    <a:pt x="1126" y="3046"/>
                  </a:lnTo>
                  <a:lnTo>
                    <a:pt x="1126" y="3054"/>
                  </a:lnTo>
                  <a:lnTo>
                    <a:pt x="1135" y="3054"/>
                  </a:lnTo>
                  <a:lnTo>
                    <a:pt x="1144" y="3054"/>
                  </a:lnTo>
                  <a:lnTo>
                    <a:pt x="1155" y="3054"/>
                  </a:lnTo>
                  <a:lnTo>
                    <a:pt x="1164" y="3054"/>
                  </a:lnTo>
                  <a:lnTo>
                    <a:pt x="1167" y="3063"/>
                  </a:lnTo>
                  <a:lnTo>
                    <a:pt x="1179" y="3069"/>
                  </a:lnTo>
                  <a:lnTo>
                    <a:pt x="1187" y="3069"/>
                  </a:lnTo>
                  <a:lnTo>
                    <a:pt x="1190" y="3080"/>
                  </a:lnTo>
                  <a:lnTo>
                    <a:pt x="1193" y="3089"/>
                  </a:lnTo>
                  <a:lnTo>
                    <a:pt x="1199" y="3097"/>
                  </a:lnTo>
                  <a:lnTo>
                    <a:pt x="1211" y="3103"/>
                  </a:lnTo>
                  <a:lnTo>
                    <a:pt x="1219" y="3103"/>
                  </a:lnTo>
                  <a:lnTo>
                    <a:pt x="1231" y="3103"/>
                  </a:lnTo>
                  <a:lnTo>
                    <a:pt x="1240" y="3100"/>
                  </a:lnTo>
                  <a:lnTo>
                    <a:pt x="1243" y="3092"/>
                  </a:lnTo>
                  <a:lnTo>
                    <a:pt x="1248" y="3083"/>
                  </a:lnTo>
                  <a:lnTo>
                    <a:pt x="1257" y="3083"/>
                  </a:lnTo>
                  <a:lnTo>
                    <a:pt x="1278" y="3097"/>
                  </a:lnTo>
                  <a:lnTo>
                    <a:pt x="1286" y="3103"/>
                  </a:lnTo>
                  <a:lnTo>
                    <a:pt x="1289" y="3112"/>
                  </a:lnTo>
                  <a:lnTo>
                    <a:pt x="1295" y="3120"/>
                  </a:lnTo>
                  <a:lnTo>
                    <a:pt x="1301" y="3129"/>
                  </a:lnTo>
                  <a:lnTo>
                    <a:pt x="1312" y="3141"/>
                  </a:lnTo>
                  <a:lnTo>
                    <a:pt x="1324" y="3146"/>
                  </a:lnTo>
                  <a:lnTo>
                    <a:pt x="1336" y="3152"/>
                  </a:lnTo>
                  <a:lnTo>
                    <a:pt x="1347" y="3155"/>
                  </a:lnTo>
                  <a:lnTo>
                    <a:pt x="1356" y="3155"/>
                  </a:lnTo>
                  <a:lnTo>
                    <a:pt x="1365" y="3155"/>
                  </a:lnTo>
                  <a:lnTo>
                    <a:pt x="1374" y="3155"/>
                  </a:lnTo>
                  <a:lnTo>
                    <a:pt x="1376" y="3146"/>
                  </a:lnTo>
                  <a:lnTo>
                    <a:pt x="1385" y="3138"/>
                  </a:lnTo>
                  <a:lnTo>
                    <a:pt x="1391" y="3129"/>
                  </a:lnTo>
                  <a:lnTo>
                    <a:pt x="1400" y="3132"/>
                  </a:lnTo>
                  <a:lnTo>
                    <a:pt x="1409" y="3138"/>
                  </a:lnTo>
                  <a:lnTo>
                    <a:pt x="1417" y="3149"/>
                  </a:lnTo>
                  <a:lnTo>
                    <a:pt x="1429" y="3152"/>
                  </a:lnTo>
                  <a:lnTo>
                    <a:pt x="1435" y="3155"/>
                  </a:lnTo>
                  <a:lnTo>
                    <a:pt x="1438" y="3164"/>
                  </a:lnTo>
                  <a:lnTo>
                    <a:pt x="1441" y="3172"/>
                  </a:lnTo>
                  <a:lnTo>
                    <a:pt x="1449" y="3178"/>
                  </a:lnTo>
                  <a:lnTo>
                    <a:pt x="1458" y="3178"/>
                  </a:lnTo>
                  <a:lnTo>
                    <a:pt x="1464" y="3169"/>
                  </a:lnTo>
                  <a:lnTo>
                    <a:pt x="1464" y="3161"/>
                  </a:lnTo>
                  <a:lnTo>
                    <a:pt x="1470" y="3152"/>
                  </a:lnTo>
                  <a:lnTo>
                    <a:pt x="1478" y="3152"/>
                  </a:lnTo>
                  <a:lnTo>
                    <a:pt x="1487" y="3155"/>
                  </a:lnTo>
                  <a:lnTo>
                    <a:pt x="1499" y="3161"/>
                  </a:lnTo>
                  <a:lnTo>
                    <a:pt x="1510" y="3161"/>
                  </a:lnTo>
                  <a:lnTo>
                    <a:pt x="1519" y="3161"/>
                  </a:lnTo>
                  <a:lnTo>
                    <a:pt x="1528" y="3161"/>
                  </a:lnTo>
                  <a:lnTo>
                    <a:pt x="1537" y="3158"/>
                  </a:lnTo>
                  <a:lnTo>
                    <a:pt x="1545" y="3158"/>
                  </a:lnTo>
                  <a:lnTo>
                    <a:pt x="1554" y="3164"/>
                  </a:lnTo>
                  <a:lnTo>
                    <a:pt x="1569" y="3169"/>
                  </a:lnTo>
                  <a:lnTo>
                    <a:pt x="1580" y="3169"/>
                  </a:lnTo>
                  <a:lnTo>
                    <a:pt x="1592" y="3169"/>
                  </a:lnTo>
                  <a:lnTo>
                    <a:pt x="1601" y="3169"/>
                  </a:lnTo>
                  <a:lnTo>
                    <a:pt x="1609" y="3169"/>
                  </a:lnTo>
                  <a:lnTo>
                    <a:pt x="1618" y="3169"/>
                  </a:lnTo>
                  <a:lnTo>
                    <a:pt x="1627" y="3169"/>
                  </a:lnTo>
                  <a:lnTo>
                    <a:pt x="1636" y="3169"/>
                  </a:lnTo>
                  <a:lnTo>
                    <a:pt x="1644" y="3169"/>
                  </a:lnTo>
                  <a:lnTo>
                    <a:pt x="1653" y="3169"/>
                  </a:lnTo>
                  <a:lnTo>
                    <a:pt x="1662" y="3169"/>
                  </a:lnTo>
                  <a:lnTo>
                    <a:pt x="1671" y="3169"/>
                  </a:lnTo>
                  <a:lnTo>
                    <a:pt x="1679" y="3169"/>
                  </a:lnTo>
                  <a:lnTo>
                    <a:pt x="1688" y="3169"/>
                  </a:lnTo>
                  <a:lnTo>
                    <a:pt x="1703" y="3169"/>
                  </a:lnTo>
                  <a:lnTo>
                    <a:pt x="1714" y="3172"/>
                  </a:lnTo>
                  <a:lnTo>
                    <a:pt x="1726" y="3175"/>
                  </a:lnTo>
                  <a:lnTo>
                    <a:pt x="1735" y="3175"/>
                  </a:lnTo>
                  <a:lnTo>
                    <a:pt x="1743" y="3175"/>
                  </a:lnTo>
                  <a:lnTo>
                    <a:pt x="1758" y="3175"/>
                  </a:lnTo>
                  <a:lnTo>
                    <a:pt x="1767" y="3175"/>
                  </a:lnTo>
                  <a:lnTo>
                    <a:pt x="1772" y="3167"/>
                  </a:lnTo>
                  <a:lnTo>
                    <a:pt x="1772" y="3158"/>
                  </a:lnTo>
                  <a:lnTo>
                    <a:pt x="1772" y="3149"/>
                  </a:lnTo>
                  <a:lnTo>
                    <a:pt x="1772" y="3141"/>
                  </a:lnTo>
                  <a:lnTo>
                    <a:pt x="1772" y="3132"/>
                  </a:lnTo>
                  <a:lnTo>
                    <a:pt x="1772" y="3123"/>
                  </a:lnTo>
                  <a:lnTo>
                    <a:pt x="1772" y="3112"/>
                  </a:lnTo>
                  <a:lnTo>
                    <a:pt x="1770" y="3103"/>
                  </a:lnTo>
                  <a:lnTo>
                    <a:pt x="1770" y="3095"/>
                  </a:lnTo>
                  <a:lnTo>
                    <a:pt x="1770" y="3086"/>
                  </a:lnTo>
                  <a:lnTo>
                    <a:pt x="1778" y="3080"/>
                  </a:lnTo>
                  <a:lnTo>
                    <a:pt x="1787" y="3080"/>
                  </a:lnTo>
                  <a:lnTo>
                    <a:pt x="1796" y="3089"/>
                  </a:lnTo>
                  <a:lnTo>
                    <a:pt x="1802" y="3097"/>
                  </a:lnTo>
                  <a:lnTo>
                    <a:pt x="1813" y="3103"/>
                  </a:lnTo>
                  <a:lnTo>
                    <a:pt x="1825" y="3112"/>
                  </a:lnTo>
                  <a:lnTo>
                    <a:pt x="1854" y="3109"/>
                  </a:lnTo>
                  <a:lnTo>
                    <a:pt x="1836" y="3103"/>
                  </a:lnTo>
                  <a:lnTo>
                    <a:pt x="1854" y="3103"/>
                  </a:lnTo>
                  <a:lnTo>
                    <a:pt x="1863" y="3103"/>
                  </a:lnTo>
                  <a:lnTo>
                    <a:pt x="1871" y="3103"/>
                  </a:lnTo>
                  <a:lnTo>
                    <a:pt x="1880" y="3106"/>
                  </a:lnTo>
                  <a:lnTo>
                    <a:pt x="1889" y="3100"/>
                  </a:lnTo>
                  <a:lnTo>
                    <a:pt x="1898" y="3097"/>
                  </a:lnTo>
                  <a:lnTo>
                    <a:pt x="1906" y="3095"/>
                  </a:lnTo>
                  <a:lnTo>
                    <a:pt x="1918" y="3103"/>
                  </a:lnTo>
                  <a:lnTo>
                    <a:pt x="1924" y="3112"/>
                  </a:lnTo>
                  <a:lnTo>
                    <a:pt x="1924" y="3120"/>
                  </a:lnTo>
                  <a:lnTo>
                    <a:pt x="1921" y="3129"/>
                  </a:lnTo>
                  <a:lnTo>
                    <a:pt x="1924" y="3138"/>
                  </a:lnTo>
                  <a:lnTo>
                    <a:pt x="1933" y="3144"/>
                  </a:lnTo>
                  <a:lnTo>
                    <a:pt x="1944" y="3152"/>
                  </a:lnTo>
                  <a:lnTo>
                    <a:pt x="1947" y="3144"/>
                  </a:lnTo>
                  <a:lnTo>
                    <a:pt x="1947" y="3135"/>
                  </a:lnTo>
                  <a:lnTo>
                    <a:pt x="1947" y="3126"/>
                  </a:lnTo>
                  <a:lnTo>
                    <a:pt x="1947" y="3118"/>
                  </a:lnTo>
                  <a:lnTo>
                    <a:pt x="1956" y="3115"/>
                  </a:lnTo>
                  <a:lnTo>
                    <a:pt x="1962" y="3106"/>
                  </a:lnTo>
                  <a:lnTo>
                    <a:pt x="1962" y="3097"/>
                  </a:lnTo>
                  <a:lnTo>
                    <a:pt x="1962" y="3089"/>
                  </a:lnTo>
                  <a:lnTo>
                    <a:pt x="1962" y="3080"/>
                  </a:lnTo>
                  <a:lnTo>
                    <a:pt x="1962" y="3071"/>
                  </a:lnTo>
                  <a:lnTo>
                    <a:pt x="1967" y="3063"/>
                  </a:lnTo>
                  <a:lnTo>
                    <a:pt x="1976" y="3060"/>
                  </a:lnTo>
                  <a:lnTo>
                    <a:pt x="1988" y="3060"/>
                  </a:lnTo>
                  <a:lnTo>
                    <a:pt x="2002" y="3063"/>
                  </a:lnTo>
                  <a:lnTo>
                    <a:pt x="2011" y="3063"/>
                  </a:lnTo>
                  <a:lnTo>
                    <a:pt x="2002" y="3054"/>
                  </a:lnTo>
                  <a:lnTo>
                    <a:pt x="1994" y="3048"/>
                  </a:lnTo>
                  <a:lnTo>
                    <a:pt x="1979" y="3043"/>
                  </a:lnTo>
                  <a:lnTo>
                    <a:pt x="1967" y="3034"/>
                  </a:lnTo>
                  <a:lnTo>
                    <a:pt x="1962" y="3025"/>
                  </a:lnTo>
                  <a:lnTo>
                    <a:pt x="1959" y="3017"/>
                  </a:lnTo>
                  <a:lnTo>
                    <a:pt x="1956" y="3008"/>
                  </a:lnTo>
                  <a:lnTo>
                    <a:pt x="1950" y="2999"/>
                  </a:lnTo>
                  <a:lnTo>
                    <a:pt x="1944" y="2991"/>
                  </a:lnTo>
                  <a:lnTo>
                    <a:pt x="1938" y="2982"/>
                  </a:lnTo>
                  <a:lnTo>
                    <a:pt x="1933" y="2974"/>
                  </a:lnTo>
                  <a:lnTo>
                    <a:pt x="1927" y="2965"/>
                  </a:lnTo>
                  <a:lnTo>
                    <a:pt x="1924" y="2956"/>
                  </a:lnTo>
                  <a:lnTo>
                    <a:pt x="1921" y="2948"/>
                  </a:lnTo>
                  <a:lnTo>
                    <a:pt x="1918" y="2939"/>
                  </a:lnTo>
                  <a:lnTo>
                    <a:pt x="1915" y="2930"/>
                  </a:lnTo>
                  <a:lnTo>
                    <a:pt x="1912" y="2922"/>
                  </a:lnTo>
                  <a:lnTo>
                    <a:pt x="1915" y="2913"/>
                  </a:lnTo>
                  <a:lnTo>
                    <a:pt x="1915" y="2904"/>
                  </a:lnTo>
                  <a:lnTo>
                    <a:pt x="1915" y="2896"/>
                  </a:lnTo>
                  <a:lnTo>
                    <a:pt x="1915" y="2887"/>
                  </a:lnTo>
                  <a:lnTo>
                    <a:pt x="1912" y="2878"/>
                  </a:lnTo>
                  <a:lnTo>
                    <a:pt x="1909" y="2870"/>
                  </a:lnTo>
                  <a:lnTo>
                    <a:pt x="1903" y="2861"/>
                  </a:lnTo>
                  <a:lnTo>
                    <a:pt x="1895" y="2852"/>
                  </a:lnTo>
                  <a:lnTo>
                    <a:pt x="1892" y="2844"/>
                  </a:lnTo>
                  <a:lnTo>
                    <a:pt x="1892" y="2835"/>
                  </a:lnTo>
                  <a:lnTo>
                    <a:pt x="1898" y="2827"/>
                  </a:lnTo>
                  <a:lnTo>
                    <a:pt x="1906" y="2824"/>
                  </a:lnTo>
                  <a:lnTo>
                    <a:pt x="1918" y="2821"/>
                  </a:lnTo>
                  <a:lnTo>
                    <a:pt x="1930" y="2818"/>
                  </a:lnTo>
                  <a:lnTo>
                    <a:pt x="1938" y="2812"/>
                  </a:lnTo>
                  <a:lnTo>
                    <a:pt x="1944" y="2803"/>
                  </a:lnTo>
                  <a:lnTo>
                    <a:pt x="1953" y="2798"/>
                  </a:lnTo>
                  <a:lnTo>
                    <a:pt x="1962" y="2798"/>
                  </a:lnTo>
                  <a:lnTo>
                    <a:pt x="1970" y="2798"/>
                  </a:lnTo>
                  <a:lnTo>
                    <a:pt x="1976" y="2789"/>
                  </a:lnTo>
                  <a:lnTo>
                    <a:pt x="1982" y="2780"/>
                  </a:lnTo>
                  <a:lnTo>
                    <a:pt x="1991" y="2775"/>
                  </a:lnTo>
                  <a:lnTo>
                    <a:pt x="1999" y="2775"/>
                  </a:lnTo>
                  <a:lnTo>
                    <a:pt x="2008" y="2769"/>
                  </a:lnTo>
                  <a:lnTo>
                    <a:pt x="2017" y="2763"/>
                  </a:lnTo>
                  <a:lnTo>
                    <a:pt x="2026" y="2760"/>
                  </a:lnTo>
                  <a:lnTo>
                    <a:pt x="2034" y="2760"/>
                  </a:lnTo>
                  <a:lnTo>
                    <a:pt x="2043" y="2760"/>
                  </a:lnTo>
                  <a:lnTo>
                    <a:pt x="2052" y="2754"/>
                  </a:lnTo>
                  <a:lnTo>
                    <a:pt x="2061" y="2754"/>
                  </a:lnTo>
                  <a:lnTo>
                    <a:pt x="2069" y="2757"/>
                  </a:lnTo>
                  <a:lnTo>
                    <a:pt x="2078" y="2757"/>
                  </a:lnTo>
                  <a:lnTo>
                    <a:pt x="2093" y="2760"/>
                  </a:lnTo>
                  <a:lnTo>
                    <a:pt x="2101" y="2760"/>
                  </a:lnTo>
                  <a:lnTo>
                    <a:pt x="2101" y="2769"/>
                  </a:lnTo>
                  <a:lnTo>
                    <a:pt x="2101" y="2778"/>
                  </a:lnTo>
                  <a:lnTo>
                    <a:pt x="2101" y="2786"/>
                  </a:lnTo>
                  <a:lnTo>
                    <a:pt x="2104" y="2795"/>
                  </a:lnTo>
                  <a:lnTo>
                    <a:pt x="2104" y="2803"/>
                  </a:lnTo>
                  <a:lnTo>
                    <a:pt x="2104" y="2812"/>
                  </a:lnTo>
                  <a:lnTo>
                    <a:pt x="2104" y="2821"/>
                  </a:lnTo>
                  <a:lnTo>
                    <a:pt x="2104" y="2829"/>
                  </a:lnTo>
                  <a:lnTo>
                    <a:pt x="2104" y="2838"/>
                  </a:lnTo>
                  <a:lnTo>
                    <a:pt x="2096" y="2841"/>
                  </a:lnTo>
                  <a:lnTo>
                    <a:pt x="2087" y="2841"/>
                  </a:lnTo>
                  <a:lnTo>
                    <a:pt x="2078" y="2841"/>
                  </a:lnTo>
                  <a:lnTo>
                    <a:pt x="2069" y="2841"/>
                  </a:lnTo>
                  <a:lnTo>
                    <a:pt x="2061" y="2841"/>
                  </a:lnTo>
                  <a:lnTo>
                    <a:pt x="2069" y="2841"/>
                  </a:lnTo>
                  <a:lnTo>
                    <a:pt x="2078" y="2835"/>
                  </a:lnTo>
                  <a:lnTo>
                    <a:pt x="2090" y="2835"/>
                  </a:lnTo>
                  <a:lnTo>
                    <a:pt x="2081" y="2832"/>
                  </a:lnTo>
                  <a:lnTo>
                    <a:pt x="2072" y="2832"/>
                  </a:lnTo>
                  <a:lnTo>
                    <a:pt x="2064" y="2832"/>
                  </a:lnTo>
                  <a:lnTo>
                    <a:pt x="2058" y="2841"/>
                  </a:lnTo>
                  <a:lnTo>
                    <a:pt x="2049" y="2844"/>
                  </a:lnTo>
                  <a:lnTo>
                    <a:pt x="2040" y="2847"/>
                  </a:lnTo>
                  <a:lnTo>
                    <a:pt x="2040" y="2855"/>
                  </a:lnTo>
                  <a:lnTo>
                    <a:pt x="2040" y="2864"/>
                  </a:lnTo>
                  <a:lnTo>
                    <a:pt x="2032" y="2870"/>
                  </a:lnTo>
                  <a:lnTo>
                    <a:pt x="2020" y="2870"/>
                  </a:lnTo>
                  <a:lnTo>
                    <a:pt x="2017" y="2861"/>
                  </a:lnTo>
                  <a:lnTo>
                    <a:pt x="2008" y="2858"/>
                  </a:lnTo>
                  <a:lnTo>
                    <a:pt x="2002" y="2867"/>
                  </a:lnTo>
                  <a:lnTo>
                    <a:pt x="2002" y="2876"/>
                  </a:lnTo>
                  <a:lnTo>
                    <a:pt x="2011" y="2878"/>
                  </a:lnTo>
                  <a:lnTo>
                    <a:pt x="2020" y="2884"/>
                  </a:lnTo>
                  <a:lnTo>
                    <a:pt x="2029" y="2896"/>
                  </a:lnTo>
                  <a:lnTo>
                    <a:pt x="2034" y="2907"/>
                  </a:lnTo>
                  <a:lnTo>
                    <a:pt x="2037" y="2916"/>
                  </a:lnTo>
                  <a:lnTo>
                    <a:pt x="2037" y="2925"/>
                  </a:lnTo>
                  <a:lnTo>
                    <a:pt x="2040" y="2933"/>
                  </a:lnTo>
                  <a:lnTo>
                    <a:pt x="2040" y="2942"/>
                  </a:lnTo>
                  <a:lnTo>
                    <a:pt x="2052" y="2945"/>
                  </a:lnTo>
                  <a:lnTo>
                    <a:pt x="2061" y="2953"/>
                  </a:lnTo>
                  <a:lnTo>
                    <a:pt x="2069" y="2959"/>
                  </a:lnTo>
                  <a:lnTo>
                    <a:pt x="2078" y="2965"/>
                  </a:lnTo>
                  <a:lnTo>
                    <a:pt x="2087" y="2965"/>
                  </a:lnTo>
                  <a:lnTo>
                    <a:pt x="2093" y="2976"/>
                  </a:lnTo>
                  <a:lnTo>
                    <a:pt x="2087" y="2985"/>
                  </a:lnTo>
                  <a:lnTo>
                    <a:pt x="2084" y="2994"/>
                  </a:lnTo>
                  <a:lnTo>
                    <a:pt x="2084" y="3005"/>
                  </a:lnTo>
                  <a:lnTo>
                    <a:pt x="2090" y="3017"/>
                  </a:lnTo>
                  <a:lnTo>
                    <a:pt x="2090" y="3025"/>
                  </a:lnTo>
                  <a:lnTo>
                    <a:pt x="2093" y="3017"/>
                  </a:lnTo>
                  <a:lnTo>
                    <a:pt x="2093" y="3008"/>
                  </a:lnTo>
                  <a:lnTo>
                    <a:pt x="2096" y="2999"/>
                  </a:lnTo>
                  <a:lnTo>
                    <a:pt x="2096" y="2991"/>
                  </a:lnTo>
                  <a:lnTo>
                    <a:pt x="2104" y="2988"/>
                  </a:lnTo>
                  <a:lnTo>
                    <a:pt x="2113" y="2988"/>
                  </a:lnTo>
                  <a:lnTo>
                    <a:pt x="2125" y="2988"/>
                  </a:lnTo>
                  <a:lnTo>
                    <a:pt x="2130" y="2999"/>
                  </a:lnTo>
                  <a:lnTo>
                    <a:pt x="2130" y="3008"/>
                  </a:lnTo>
                  <a:lnTo>
                    <a:pt x="2133" y="3017"/>
                  </a:lnTo>
                  <a:lnTo>
                    <a:pt x="2139" y="3028"/>
                  </a:lnTo>
                  <a:lnTo>
                    <a:pt x="2148" y="3034"/>
                  </a:lnTo>
                  <a:lnTo>
                    <a:pt x="2160" y="3040"/>
                  </a:lnTo>
                  <a:lnTo>
                    <a:pt x="2151" y="3043"/>
                  </a:lnTo>
                  <a:lnTo>
                    <a:pt x="2148" y="3051"/>
                  </a:lnTo>
                  <a:lnTo>
                    <a:pt x="2133" y="3054"/>
                  </a:lnTo>
                  <a:lnTo>
                    <a:pt x="2125" y="3051"/>
                  </a:lnTo>
                  <a:lnTo>
                    <a:pt x="2116" y="3051"/>
                  </a:lnTo>
                  <a:lnTo>
                    <a:pt x="2101" y="3046"/>
                  </a:lnTo>
                  <a:lnTo>
                    <a:pt x="2093" y="3037"/>
                  </a:lnTo>
                  <a:lnTo>
                    <a:pt x="2090" y="3046"/>
                  </a:lnTo>
                  <a:lnTo>
                    <a:pt x="2090" y="3054"/>
                  </a:lnTo>
                  <a:lnTo>
                    <a:pt x="2090" y="3063"/>
                  </a:lnTo>
                  <a:lnTo>
                    <a:pt x="2090" y="3071"/>
                  </a:lnTo>
                  <a:lnTo>
                    <a:pt x="2087" y="3080"/>
                  </a:lnTo>
                  <a:lnTo>
                    <a:pt x="2084" y="3089"/>
                  </a:lnTo>
                  <a:lnTo>
                    <a:pt x="2084" y="3097"/>
                  </a:lnTo>
                  <a:lnTo>
                    <a:pt x="2096" y="3097"/>
                  </a:lnTo>
                  <a:lnTo>
                    <a:pt x="2104" y="3092"/>
                  </a:lnTo>
                  <a:lnTo>
                    <a:pt x="2110" y="3100"/>
                  </a:lnTo>
                  <a:lnTo>
                    <a:pt x="2107" y="3109"/>
                  </a:lnTo>
                  <a:lnTo>
                    <a:pt x="2098" y="3118"/>
                  </a:lnTo>
                  <a:lnTo>
                    <a:pt x="2090" y="3123"/>
                  </a:lnTo>
                  <a:lnTo>
                    <a:pt x="2087" y="3109"/>
                  </a:lnTo>
                  <a:lnTo>
                    <a:pt x="2087" y="3132"/>
                  </a:lnTo>
                  <a:lnTo>
                    <a:pt x="2096" y="3126"/>
                  </a:lnTo>
                  <a:lnTo>
                    <a:pt x="2087" y="3109"/>
                  </a:lnTo>
                  <a:lnTo>
                    <a:pt x="2104" y="3112"/>
                  </a:lnTo>
                  <a:lnTo>
                    <a:pt x="2110" y="3103"/>
                  </a:lnTo>
                  <a:lnTo>
                    <a:pt x="2110" y="3112"/>
                  </a:lnTo>
                  <a:lnTo>
                    <a:pt x="2110" y="3120"/>
                  </a:lnTo>
                  <a:lnTo>
                    <a:pt x="2116" y="3129"/>
                  </a:lnTo>
                  <a:lnTo>
                    <a:pt x="2119" y="3138"/>
                  </a:lnTo>
                  <a:lnTo>
                    <a:pt x="2122" y="3149"/>
                  </a:lnTo>
                  <a:lnTo>
                    <a:pt x="2122" y="3158"/>
                  </a:lnTo>
                  <a:lnTo>
                    <a:pt x="2125" y="3167"/>
                  </a:lnTo>
                  <a:lnTo>
                    <a:pt x="2125" y="3175"/>
                  </a:lnTo>
                  <a:lnTo>
                    <a:pt x="2125" y="3184"/>
                  </a:lnTo>
                  <a:lnTo>
                    <a:pt x="2125" y="3193"/>
                  </a:lnTo>
                  <a:lnTo>
                    <a:pt x="2128" y="3201"/>
                  </a:lnTo>
                  <a:lnTo>
                    <a:pt x="2130" y="3210"/>
                  </a:lnTo>
                  <a:lnTo>
                    <a:pt x="2139" y="3210"/>
                  </a:lnTo>
                  <a:lnTo>
                    <a:pt x="2148" y="3210"/>
                  </a:lnTo>
                  <a:lnTo>
                    <a:pt x="2157" y="3207"/>
                  </a:lnTo>
                  <a:lnTo>
                    <a:pt x="2163" y="3198"/>
                  </a:lnTo>
                  <a:lnTo>
                    <a:pt x="2171" y="3195"/>
                  </a:lnTo>
                  <a:lnTo>
                    <a:pt x="2183" y="3193"/>
                  </a:lnTo>
                  <a:lnTo>
                    <a:pt x="2192" y="3190"/>
                  </a:lnTo>
                  <a:lnTo>
                    <a:pt x="2200" y="3184"/>
                  </a:lnTo>
                  <a:lnTo>
                    <a:pt x="2209" y="3181"/>
                  </a:lnTo>
                  <a:lnTo>
                    <a:pt x="2218" y="3181"/>
                  </a:lnTo>
                  <a:lnTo>
                    <a:pt x="2224" y="3172"/>
                  </a:lnTo>
                  <a:lnTo>
                    <a:pt x="2232" y="3169"/>
                  </a:lnTo>
                  <a:lnTo>
                    <a:pt x="2241" y="3169"/>
                  </a:lnTo>
                  <a:lnTo>
                    <a:pt x="2256" y="3169"/>
                  </a:lnTo>
                  <a:lnTo>
                    <a:pt x="2264" y="3169"/>
                  </a:lnTo>
                  <a:lnTo>
                    <a:pt x="2276" y="3178"/>
                  </a:lnTo>
                  <a:lnTo>
                    <a:pt x="2288" y="3184"/>
                  </a:lnTo>
                  <a:lnTo>
                    <a:pt x="2296" y="3187"/>
                  </a:lnTo>
                  <a:lnTo>
                    <a:pt x="2308" y="3190"/>
                  </a:lnTo>
                  <a:lnTo>
                    <a:pt x="2317" y="3195"/>
                  </a:lnTo>
                  <a:lnTo>
                    <a:pt x="2328" y="3198"/>
                  </a:lnTo>
                  <a:lnTo>
                    <a:pt x="2340" y="3201"/>
                  </a:lnTo>
                  <a:lnTo>
                    <a:pt x="2349" y="3207"/>
                  </a:lnTo>
                  <a:lnTo>
                    <a:pt x="2358" y="3216"/>
                  </a:lnTo>
                  <a:lnTo>
                    <a:pt x="2366" y="3221"/>
                  </a:lnTo>
                  <a:lnTo>
                    <a:pt x="2375" y="3227"/>
                  </a:lnTo>
                  <a:lnTo>
                    <a:pt x="2387" y="3230"/>
                  </a:lnTo>
                  <a:lnTo>
                    <a:pt x="2395" y="3230"/>
                  </a:lnTo>
                  <a:lnTo>
                    <a:pt x="2404" y="3230"/>
                  </a:lnTo>
                  <a:lnTo>
                    <a:pt x="2407" y="3239"/>
                  </a:lnTo>
                  <a:lnTo>
                    <a:pt x="2407" y="3247"/>
                  </a:lnTo>
                  <a:lnTo>
                    <a:pt x="2413" y="3256"/>
                  </a:lnTo>
                  <a:lnTo>
                    <a:pt x="2422" y="3262"/>
                  </a:lnTo>
                  <a:lnTo>
                    <a:pt x="2436" y="3265"/>
                  </a:lnTo>
                  <a:lnTo>
                    <a:pt x="2451" y="3270"/>
                  </a:lnTo>
                  <a:lnTo>
                    <a:pt x="2457" y="3279"/>
                  </a:lnTo>
                  <a:lnTo>
                    <a:pt x="2457" y="3288"/>
                  </a:lnTo>
                  <a:lnTo>
                    <a:pt x="2468" y="3291"/>
                  </a:lnTo>
                  <a:lnTo>
                    <a:pt x="2483" y="3288"/>
                  </a:lnTo>
                  <a:lnTo>
                    <a:pt x="2491" y="3285"/>
                  </a:lnTo>
                  <a:lnTo>
                    <a:pt x="2500" y="3276"/>
                  </a:lnTo>
                  <a:lnTo>
                    <a:pt x="2509" y="3270"/>
                  </a:lnTo>
                  <a:lnTo>
                    <a:pt x="2515" y="3262"/>
                  </a:lnTo>
                  <a:lnTo>
                    <a:pt x="2521" y="3253"/>
                  </a:lnTo>
                  <a:lnTo>
                    <a:pt x="2526" y="3244"/>
                  </a:lnTo>
                  <a:lnTo>
                    <a:pt x="2532" y="3236"/>
                  </a:lnTo>
                  <a:lnTo>
                    <a:pt x="2535" y="3227"/>
                  </a:lnTo>
                  <a:lnTo>
                    <a:pt x="2541" y="3218"/>
                  </a:lnTo>
                  <a:lnTo>
                    <a:pt x="2544" y="3210"/>
                  </a:lnTo>
                  <a:lnTo>
                    <a:pt x="2544" y="3198"/>
                  </a:lnTo>
                  <a:lnTo>
                    <a:pt x="2544" y="3190"/>
                  </a:lnTo>
                  <a:lnTo>
                    <a:pt x="2553" y="3181"/>
                  </a:lnTo>
                  <a:lnTo>
                    <a:pt x="2567" y="3181"/>
                  </a:lnTo>
                  <a:lnTo>
                    <a:pt x="2599" y="3155"/>
                  </a:lnTo>
                  <a:lnTo>
                    <a:pt x="2599" y="3164"/>
                  </a:lnTo>
                  <a:lnTo>
                    <a:pt x="2608" y="3169"/>
                  </a:lnTo>
                  <a:lnTo>
                    <a:pt x="2617" y="3178"/>
                  </a:lnTo>
                  <a:lnTo>
                    <a:pt x="2625" y="3181"/>
                  </a:lnTo>
                  <a:lnTo>
                    <a:pt x="2634" y="3178"/>
                  </a:lnTo>
                  <a:lnTo>
                    <a:pt x="2643" y="3172"/>
                  </a:lnTo>
                  <a:lnTo>
                    <a:pt x="2657" y="3169"/>
                  </a:lnTo>
                  <a:lnTo>
                    <a:pt x="2666" y="3169"/>
                  </a:lnTo>
                  <a:lnTo>
                    <a:pt x="2675" y="3169"/>
                  </a:lnTo>
                  <a:lnTo>
                    <a:pt x="2684" y="3164"/>
                  </a:lnTo>
                  <a:lnTo>
                    <a:pt x="2692" y="3155"/>
                  </a:lnTo>
                  <a:lnTo>
                    <a:pt x="2739" y="3155"/>
                  </a:lnTo>
                  <a:lnTo>
                    <a:pt x="2733" y="3138"/>
                  </a:lnTo>
                  <a:lnTo>
                    <a:pt x="2733" y="3126"/>
                  </a:lnTo>
                  <a:lnTo>
                    <a:pt x="2730" y="3118"/>
                  </a:lnTo>
                  <a:lnTo>
                    <a:pt x="2739" y="3112"/>
                  </a:lnTo>
                  <a:lnTo>
                    <a:pt x="2748" y="3106"/>
                  </a:lnTo>
                  <a:lnTo>
                    <a:pt x="2753" y="3097"/>
                  </a:lnTo>
                  <a:lnTo>
                    <a:pt x="2762" y="3092"/>
                  </a:lnTo>
                  <a:lnTo>
                    <a:pt x="2771" y="3092"/>
                  </a:lnTo>
                  <a:lnTo>
                    <a:pt x="2780" y="3095"/>
                  </a:lnTo>
                  <a:lnTo>
                    <a:pt x="2783" y="3103"/>
                  </a:lnTo>
                  <a:lnTo>
                    <a:pt x="2786" y="3112"/>
                  </a:lnTo>
                  <a:lnTo>
                    <a:pt x="2786" y="3126"/>
                  </a:lnTo>
                  <a:lnTo>
                    <a:pt x="2788" y="3135"/>
                  </a:lnTo>
                  <a:lnTo>
                    <a:pt x="2791" y="3144"/>
                  </a:lnTo>
                  <a:lnTo>
                    <a:pt x="2794" y="3152"/>
                  </a:lnTo>
                  <a:lnTo>
                    <a:pt x="2800" y="3161"/>
                  </a:lnTo>
                  <a:lnTo>
                    <a:pt x="2809" y="3167"/>
                  </a:lnTo>
                  <a:lnTo>
                    <a:pt x="2818" y="3167"/>
                  </a:lnTo>
                  <a:lnTo>
                    <a:pt x="2826" y="3167"/>
                  </a:lnTo>
                  <a:lnTo>
                    <a:pt x="2832" y="3158"/>
                  </a:lnTo>
                  <a:lnTo>
                    <a:pt x="2841" y="3152"/>
                  </a:lnTo>
                  <a:lnTo>
                    <a:pt x="2844" y="3144"/>
                  </a:lnTo>
                  <a:lnTo>
                    <a:pt x="2847" y="3135"/>
                  </a:lnTo>
                  <a:lnTo>
                    <a:pt x="2850" y="3123"/>
                  </a:lnTo>
                  <a:lnTo>
                    <a:pt x="2858" y="3115"/>
                  </a:lnTo>
                  <a:lnTo>
                    <a:pt x="2870" y="3115"/>
                  </a:lnTo>
                  <a:lnTo>
                    <a:pt x="2879" y="3115"/>
                  </a:lnTo>
                  <a:lnTo>
                    <a:pt x="2887" y="3115"/>
                  </a:lnTo>
                  <a:lnTo>
                    <a:pt x="2896" y="3115"/>
                  </a:lnTo>
                  <a:lnTo>
                    <a:pt x="2902" y="3106"/>
                  </a:lnTo>
                  <a:lnTo>
                    <a:pt x="2914" y="3103"/>
                  </a:lnTo>
                  <a:lnTo>
                    <a:pt x="2922" y="3103"/>
                  </a:lnTo>
                  <a:lnTo>
                    <a:pt x="2925" y="3095"/>
                  </a:lnTo>
                  <a:lnTo>
                    <a:pt x="2925" y="3086"/>
                  </a:lnTo>
                  <a:lnTo>
                    <a:pt x="2922" y="3077"/>
                  </a:lnTo>
                  <a:lnTo>
                    <a:pt x="2917" y="3066"/>
                  </a:lnTo>
                  <a:lnTo>
                    <a:pt x="2911" y="3057"/>
                  </a:lnTo>
                  <a:lnTo>
                    <a:pt x="2905" y="3048"/>
                  </a:lnTo>
                  <a:lnTo>
                    <a:pt x="2896" y="3046"/>
                  </a:lnTo>
                  <a:lnTo>
                    <a:pt x="2887" y="3048"/>
                  </a:lnTo>
                  <a:lnTo>
                    <a:pt x="2879" y="3051"/>
                  </a:lnTo>
                  <a:lnTo>
                    <a:pt x="2876" y="3060"/>
                  </a:lnTo>
                  <a:lnTo>
                    <a:pt x="2873" y="3069"/>
                  </a:lnTo>
                  <a:lnTo>
                    <a:pt x="2864" y="3066"/>
                  </a:lnTo>
                  <a:lnTo>
                    <a:pt x="2861" y="3054"/>
                  </a:lnTo>
                  <a:lnTo>
                    <a:pt x="2858" y="3043"/>
                  </a:lnTo>
                  <a:lnTo>
                    <a:pt x="2858" y="3034"/>
                  </a:lnTo>
                  <a:lnTo>
                    <a:pt x="2855" y="3025"/>
                  </a:lnTo>
                  <a:lnTo>
                    <a:pt x="2850" y="3017"/>
                  </a:lnTo>
                  <a:lnTo>
                    <a:pt x="2850" y="3008"/>
                  </a:lnTo>
                  <a:lnTo>
                    <a:pt x="2850" y="2997"/>
                  </a:lnTo>
                  <a:lnTo>
                    <a:pt x="2850" y="2988"/>
                  </a:lnTo>
                  <a:lnTo>
                    <a:pt x="2858" y="2982"/>
                  </a:lnTo>
                  <a:lnTo>
                    <a:pt x="2867" y="2982"/>
                  </a:lnTo>
                  <a:lnTo>
                    <a:pt x="2876" y="2979"/>
                  </a:lnTo>
                  <a:lnTo>
                    <a:pt x="2884" y="2974"/>
                  </a:lnTo>
                  <a:lnTo>
                    <a:pt x="2887" y="2962"/>
                  </a:lnTo>
                  <a:lnTo>
                    <a:pt x="2896" y="2962"/>
                  </a:lnTo>
                  <a:lnTo>
                    <a:pt x="2905" y="2962"/>
                  </a:lnTo>
                  <a:lnTo>
                    <a:pt x="2914" y="2962"/>
                  </a:lnTo>
                  <a:lnTo>
                    <a:pt x="2922" y="2959"/>
                  </a:lnTo>
                  <a:lnTo>
                    <a:pt x="2931" y="2956"/>
                  </a:lnTo>
                  <a:lnTo>
                    <a:pt x="2937" y="2948"/>
                  </a:lnTo>
                  <a:lnTo>
                    <a:pt x="2943" y="2939"/>
                  </a:lnTo>
                  <a:lnTo>
                    <a:pt x="2946" y="2930"/>
                  </a:lnTo>
                  <a:lnTo>
                    <a:pt x="2954" y="2925"/>
                  </a:lnTo>
                  <a:lnTo>
                    <a:pt x="2963" y="2919"/>
                  </a:lnTo>
                  <a:lnTo>
                    <a:pt x="2972" y="2916"/>
                  </a:lnTo>
                  <a:lnTo>
                    <a:pt x="2981" y="2913"/>
                  </a:lnTo>
                  <a:lnTo>
                    <a:pt x="2983" y="2904"/>
                  </a:lnTo>
                  <a:lnTo>
                    <a:pt x="2989" y="2893"/>
                  </a:lnTo>
                  <a:lnTo>
                    <a:pt x="2998" y="2881"/>
                  </a:lnTo>
                  <a:lnTo>
                    <a:pt x="3004" y="2873"/>
                  </a:lnTo>
                  <a:lnTo>
                    <a:pt x="3010" y="2864"/>
                  </a:lnTo>
                  <a:lnTo>
                    <a:pt x="3018" y="2858"/>
                  </a:lnTo>
                  <a:lnTo>
                    <a:pt x="3027" y="2852"/>
                  </a:lnTo>
                  <a:lnTo>
                    <a:pt x="3036" y="2847"/>
                  </a:lnTo>
                  <a:lnTo>
                    <a:pt x="3045" y="2847"/>
                  </a:lnTo>
                  <a:lnTo>
                    <a:pt x="3053" y="2844"/>
                  </a:lnTo>
                  <a:lnTo>
                    <a:pt x="3053" y="2835"/>
                  </a:lnTo>
                  <a:lnTo>
                    <a:pt x="3053" y="2827"/>
                  </a:lnTo>
                  <a:lnTo>
                    <a:pt x="3053" y="2818"/>
                  </a:lnTo>
                  <a:lnTo>
                    <a:pt x="3053" y="2809"/>
                  </a:lnTo>
                  <a:lnTo>
                    <a:pt x="3050" y="2801"/>
                  </a:lnTo>
                  <a:lnTo>
                    <a:pt x="3045" y="2789"/>
                  </a:lnTo>
                  <a:lnTo>
                    <a:pt x="3045" y="2780"/>
                  </a:lnTo>
                  <a:lnTo>
                    <a:pt x="3045" y="2772"/>
                  </a:lnTo>
                  <a:lnTo>
                    <a:pt x="3045" y="2763"/>
                  </a:lnTo>
                  <a:lnTo>
                    <a:pt x="3036" y="2754"/>
                  </a:lnTo>
                  <a:lnTo>
                    <a:pt x="3027" y="2743"/>
                  </a:lnTo>
                  <a:lnTo>
                    <a:pt x="3024" y="2734"/>
                  </a:lnTo>
                  <a:lnTo>
                    <a:pt x="3021" y="2726"/>
                  </a:lnTo>
                  <a:lnTo>
                    <a:pt x="3018" y="2717"/>
                  </a:lnTo>
                  <a:lnTo>
                    <a:pt x="3010" y="2708"/>
                  </a:lnTo>
                  <a:lnTo>
                    <a:pt x="3001" y="2705"/>
                  </a:lnTo>
                  <a:lnTo>
                    <a:pt x="3001" y="2697"/>
                  </a:lnTo>
                  <a:lnTo>
                    <a:pt x="3010" y="2694"/>
                  </a:lnTo>
                  <a:lnTo>
                    <a:pt x="3018" y="2688"/>
                  </a:lnTo>
                  <a:lnTo>
                    <a:pt x="3027" y="2682"/>
                  </a:lnTo>
                  <a:lnTo>
                    <a:pt x="3030" y="2674"/>
                  </a:lnTo>
                  <a:lnTo>
                    <a:pt x="3039" y="2665"/>
                  </a:lnTo>
                  <a:lnTo>
                    <a:pt x="3045" y="2657"/>
                  </a:lnTo>
                  <a:lnTo>
                    <a:pt x="3056" y="2659"/>
                  </a:lnTo>
                  <a:lnTo>
                    <a:pt x="3065" y="2665"/>
                  </a:lnTo>
                  <a:lnTo>
                    <a:pt x="3074" y="2665"/>
                  </a:lnTo>
                  <a:lnTo>
                    <a:pt x="3077" y="2657"/>
                  </a:lnTo>
                  <a:lnTo>
                    <a:pt x="3077" y="2645"/>
                  </a:lnTo>
                  <a:lnTo>
                    <a:pt x="3077" y="2636"/>
                  </a:lnTo>
                  <a:lnTo>
                    <a:pt x="3077" y="2628"/>
                  </a:lnTo>
                  <a:lnTo>
                    <a:pt x="3071" y="2619"/>
                  </a:lnTo>
                  <a:lnTo>
                    <a:pt x="3062" y="2613"/>
                  </a:lnTo>
                  <a:lnTo>
                    <a:pt x="3056" y="2605"/>
                  </a:lnTo>
                  <a:lnTo>
                    <a:pt x="3056" y="2596"/>
                  </a:lnTo>
                  <a:lnTo>
                    <a:pt x="3053" y="2582"/>
                  </a:lnTo>
                  <a:lnTo>
                    <a:pt x="3053" y="2573"/>
                  </a:lnTo>
                  <a:lnTo>
                    <a:pt x="3062" y="2567"/>
                  </a:lnTo>
                  <a:lnTo>
                    <a:pt x="3071" y="2567"/>
                  </a:lnTo>
                  <a:lnTo>
                    <a:pt x="3080" y="2564"/>
                  </a:lnTo>
                  <a:lnTo>
                    <a:pt x="3088" y="2564"/>
                  </a:lnTo>
                  <a:lnTo>
                    <a:pt x="3097" y="2561"/>
                  </a:lnTo>
                  <a:lnTo>
                    <a:pt x="3109" y="2556"/>
                  </a:lnTo>
                  <a:lnTo>
                    <a:pt x="3117" y="2547"/>
                  </a:lnTo>
                  <a:lnTo>
                    <a:pt x="3120" y="2538"/>
                  </a:lnTo>
                  <a:lnTo>
                    <a:pt x="3120" y="2530"/>
                  </a:lnTo>
                  <a:lnTo>
                    <a:pt x="3120" y="2521"/>
                  </a:lnTo>
                  <a:lnTo>
                    <a:pt x="3120" y="2512"/>
                  </a:lnTo>
                  <a:lnTo>
                    <a:pt x="3114" y="2501"/>
                  </a:lnTo>
                  <a:lnTo>
                    <a:pt x="3112" y="2489"/>
                  </a:lnTo>
                  <a:lnTo>
                    <a:pt x="3112" y="2481"/>
                  </a:lnTo>
                  <a:lnTo>
                    <a:pt x="3112" y="2472"/>
                  </a:lnTo>
                  <a:lnTo>
                    <a:pt x="3120" y="2463"/>
                  </a:lnTo>
                  <a:lnTo>
                    <a:pt x="3129" y="2461"/>
                  </a:lnTo>
                  <a:lnTo>
                    <a:pt x="3135" y="2452"/>
                  </a:lnTo>
                  <a:lnTo>
                    <a:pt x="3135" y="2443"/>
                  </a:lnTo>
                  <a:lnTo>
                    <a:pt x="3135" y="2435"/>
                  </a:lnTo>
                  <a:lnTo>
                    <a:pt x="3144" y="2429"/>
                  </a:lnTo>
                  <a:lnTo>
                    <a:pt x="3152" y="2420"/>
                  </a:lnTo>
                  <a:lnTo>
                    <a:pt x="3155" y="2412"/>
                  </a:lnTo>
                  <a:lnTo>
                    <a:pt x="3158" y="2403"/>
                  </a:lnTo>
                  <a:lnTo>
                    <a:pt x="3167" y="2394"/>
                  </a:lnTo>
                  <a:lnTo>
                    <a:pt x="3176" y="2386"/>
                  </a:lnTo>
                  <a:lnTo>
                    <a:pt x="3184" y="2380"/>
                  </a:lnTo>
                  <a:lnTo>
                    <a:pt x="3184" y="2371"/>
                  </a:lnTo>
                  <a:lnTo>
                    <a:pt x="3187" y="2363"/>
                  </a:lnTo>
                  <a:lnTo>
                    <a:pt x="3193" y="2354"/>
                  </a:lnTo>
                  <a:lnTo>
                    <a:pt x="3202" y="2348"/>
                  </a:lnTo>
                  <a:lnTo>
                    <a:pt x="3208" y="2340"/>
                  </a:lnTo>
                  <a:lnTo>
                    <a:pt x="3213" y="2331"/>
                  </a:lnTo>
                  <a:lnTo>
                    <a:pt x="3216" y="2322"/>
                  </a:lnTo>
                  <a:lnTo>
                    <a:pt x="3219" y="2314"/>
                  </a:lnTo>
                  <a:lnTo>
                    <a:pt x="3222" y="2305"/>
                  </a:lnTo>
                  <a:lnTo>
                    <a:pt x="3228" y="2296"/>
                  </a:lnTo>
                  <a:lnTo>
                    <a:pt x="3237" y="2291"/>
                  </a:lnTo>
                  <a:lnTo>
                    <a:pt x="3245" y="2291"/>
                  </a:lnTo>
                  <a:lnTo>
                    <a:pt x="3254" y="2285"/>
                  </a:lnTo>
                  <a:lnTo>
                    <a:pt x="3263" y="2282"/>
                  </a:lnTo>
                  <a:lnTo>
                    <a:pt x="3272" y="2279"/>
                  </a:lnTo>
                  <a:lnTo>
                    <a:pt x="3280" y="2279"/>
                  </a:lnTo>
                  <a:lnTo>
                    <a:pt x="3289" y="2276"/>
                  </a:lnTo>
                  <a:lnTo>
                    <a:pt x="3298" y="2273"/>
                  </a:lnTo>
                  <a:lnTo>
                    <a:pt x="3307" y="2273"/>
                  </a:lnTo>
                  <a:lnTo>
                    <a:pt x="3318" y="2276"/>
                  </a:lnTo>
                  <a:lnTo>
                    <a:pt x="3327" y="2276"/>
                  </a:lnTo>
                  <a:lnTo>
                    <a:pt x="3336" y="2276"/>
                  </a:lnTo>
                  <a:lnTo>
                    <a:pt x="3344" y="2276"/>
                  </a:lnTo>
                  <a:lnTo>
                    <a:pt x="3344" y="2279"/>
                  </a:lnTo>
                  <a:lnTo>
                    <a:pt x="3356" y="2265"/>
                  </a:lnTo>
                  <a:lnTo>
                    <a:pt x="3365" y="2265"/>
                  </a:lnTo>
                  <a:lnTo>
                    <a:pt x="3374" y="2259"/>
                  </a:lnTo>
                  <a:lnTo>
                    <a:pt x="3382" y="2253"/>
                  </a:lnTo>
                  <a:lnTo>
                    <a:pt x="3385" y="2244"/>
                  </a:lnTo>
                  <a:lnTo>
                    <a:pt x="3391" y="2233"/>
                  </a:lnTo>
                  <a:lnTo>
                    <a:pt x="3400" y="2224"/>
                  </a:lnTo>
                  <a:lnTo>
                    <a:pt x="3397" y="2216"/>
                  </a:lnTo>
                  <a:lnTo>
                    <a:pt x="3391" y="2207"/>
                  </a:lnTo>
                  <a:lnTo>
                    <a:pt x="3382" y="2201"/>
                  </a:lnTo>
                  <a:lnTo>
                    <a:pt x="3376" y="2193"/>
                  </a:lnTo>
                  <a:lnTo>
                    <a:pt x="3368" y="2184"/>
                  </a:lnTo>
                  <a:lnTo>
                    <a:pt x="3362" y="2172"/>
                  </a:lnTo>
                  <a:lnTo>
                    <a:pt x="3356" y="2164"/>
                  </a:lnTo>
                  <a:lnTo>
                    <a:pt x="3356" y="2155"/>
                  </a:lnTo>
                  <a:lnTo>
                    <a:pt x="3356" y="2146"/>
                  </a:lnTo>
                  <a:lnTo>
                    <a:pt x="3368" y="2141"/>
                  </a:lnTo>
                  <a:lnTo>
                    <a:pt x="3376" y="2138"/>
                  </a:lnTo>
                  <a:lnTo>
                    <a:pt x="3385" y="2135"/>
                  </a:lnTo>
                  <a:lnTo>
                    <a:pt x="3394" y="2126"/>
                  </a:lnTo>
                  <a:lnTo>
                    <a:pt x="3400" y="2118"/>
                  </a:lnTo>
                  <a:lnTo>
                    <a:pt x="3406" y="2109"/>
                  </a:lnTo>
                  <a:lnTo>
                    <a:pt x="3414" y="2106"/>
                  </a:lnTo>
                  <a:lnTo>
                    <a:pt x="3426" y="2106"/>
                  </a:lnTo>
                  <a:lnTo>
                    <a:pt x="3435" y="2106"/>
                  </a:lnTo>
                  <a:lnTo>
                    <a:pt x="3443" y="2106"/>
                  </a:lnTo>
                  <a:lnTo>
                    <a:pt x="3452" y="2103"/>
                  </a:lnTo>
                  <a:lnTo>
                    <a:pt x="3461" y="2103"/>
                  </a:lnTo>
                  <a:lnTo>
                    <a:pt x="3470" y="2103"/>
                  </a:lnTo>
                  <a:lnTo>
                    <a:pt x="3478" y="2112"/>
                  </a:lnTo>
                  <a:lnTo>
                    <a:pt x="3484" y="2120"/>
                  </a:lnTo>
                  <a:lnTo>
                    <a:pt x="3493" y="2126"/>
                  </a:lnTo>
                  <a:lnTo>
                    <a:pt x="3502" y="2129"/>
                  </a:lnTo>
                  <a:lnTo>
                    <a:pt x="3510" y="2129"/>
                  </a:lnTo>
                  <a:lnTo>
                    <a:pt x="3519" y="2129"/>
                  </a:lnTo>
                  <a:lnTo>
                    <a:pt x="3528" y="2126"/>
                  </a:lnTo>
                  <a:lnTo>
                    <a:pt x="3537" y="2118"/>
                  </a:lnTo>
                  <a:lnTo>
                    <a:pt x="3542" y="2109"/>
                  </a:lnTo>
                  <a:lnTo>
                    <a:pt x="3548" y="2100"/>
                  </a:lnTo>
                  <a:lnTo>
                    <a:pt x="3551" y="2089"/>
                  </a:lnTo>
                  <a:lnTo>
                    <a:pt x="3554" y="2080"/>
                  </a:lnTo>
                  <a:lnTo>
                    <a:pt x="3563" y="2072"/>
                  </a:lnTo>
                  <a:lnTo>
                    <a:pt x="3572" y="2072"/>
                  </a:lnTo>
                  <a:lnTo>
                    <a:pt x="3583" y="2063"/>
                  </a:lnTo>
                  <a:lnTo>
                    <a:pt x="3589" y="2054"/>
                  </a:lnTo>
                  <a:lnTo>
                    <a:pt x="3595" y="2046"/>
                  </a:lnTo>
                  <a:lnTo>
                    <a:pt x="3604" y="2040"/>
                  </a:lnTo>
                  <a:lnTo>
                    <a:pt x="3612" y="2040"/>
                  </a:lnTo>
                  <a:lnTo>
                    <a:pt x="3621" y="2040"/>
                  </a:lnTo>
                  <a:lnTo>
                    <a:pt x="3630" y="2040"/>
                  </a:lnTo>
                  <a:lnTo>
                    <a:pt x="3638" y="2037"/>
                  </a:lnTo>
                  <a:lnTo>
                    <a:pt x="3647" y="2037"/>
                  </a:lnTo>
                  <a:lnTo>
                    <a:pt x="3656" y="2037"/>
                  </a:lnTo>
                  <a:lnTo>
                    <a:pt x="3665" y="2037"/>
                  </a:lnTo>
                  <a:lnTo>
                    <a:pt x="3673" y="2034"/>
                  </a:lnTo>
                  <a:lnTo>
                    <a:pt x="3682" y="2031"/>
                  </a:lnTo>
                  <a:lnTo>
                    <a:pt x="3691" y="2028"/>
                  </a:lnTo>
                  <a:lnTo>
                    <a:pt x="3700" y="2023"/>
                  </a:lnTo>
                  <a:lnTo>
                    <a:pt x="3705" y="2014"/>
                  </a:lnTo>
                  <a:lnTo>
                    <a:pt x="3714" y="2005"/>
                  </a:lnTo>
                  <a:lnTo>
                    <a:pt x="3723" y="1997"/>
                  </a:lnTo>
                  <a:lnTo>
                    <a:pt x="3726" y="1988"/>
                  </a:lnTo>
                  <a:lnTo>
                    <a:pt x="3735" y="1976"/>
                  </a:lnTo>
                  <a:lnTo>
                    <a:pt x="3740" y="1968"/>
                  </a:lnTo>
                  <a:lnTo>
                    <a:pt x="3746" y="1959"/>
                  </a:lnTo>
                  <a:lnTo>
                    <a:pt x="3749" y="1950"/>
                  </a:lnTo>
                  <a:lnTo>
                    <a:pt x="3755" y="1939"/>
                  </a:lnTo>
                  <a:lnTo>
                    <a:pt x="3761" y="1927"/>
                  </a:lnTo>
                  <a:lnTo>
                    <a:pt x="3767" y="1919"/>
                  </a:lnTo>
                  <a:lnTo>
                    <a:pt x="3767" y="1910"/>
                  </a:lnTo>
                  <a:lnTo>
                    <a:pt x="3758" y="1910"/>
                  </a:lnTo>
                  <a:lnTo>
                    <a:pt x="3758" y="1899"/>
                  </a:lnTo>
                  <a:lnTo>
                    <a:pt x="3758" y="1890"/>
                  </a:lnTo>
                  <a:lnTo>
                    <a:pt x="3767" y="1881"/>
                  </a:lnTo>
                  <a:lnTo>
                    <a:pt x="3775" y="1881"/>
                  </a:lnTo>
                  <a:lnTo>
                    <a:pt x="3781" y="1873"/>
                  </a:lnTo>
                  <a:lnTo>
                    <a:pt x="3784" y="1864"/>
                  </a:lnTo>
                  <a:lnTo>
                    <a:pt x="3787" y="1855"/>
                  </a:lnTo>
                  <a:lnTo>
                    <a:pt x="3796" y="1850"/>
                  </a:lnTo>
                  <a:lnTo>
                    <a:pt x="3804" y="1847"/>
                  </a:lnTo>
                  <a:lnTo>
                    <a:pt x="3813" y="1844"/>
                  </a:lnTo>
                  <a:lnTo>
                    <a:pt x="3822" y="1838"/>
                  </a:lnTo>
                  <a:lnTo>
                    <a:pt x="3831" y="1835"/>
                  </a:lnTo>
                  <a:lnTo>
                    <a:pt x="3839" y="1824"/>
                  </a:lnTo>
                  <a:lnTo>
                    <a:pt x="3845" y="1815"/>
                  </a:lnTo>
                  <a:lnTo>
                    <a:pt x="3851" y="1806"/>
                  </a:lnTo>
                  <a:lnTo>
                    <a:pt x="3857" y="1798"/>
                  </a:lnTo>
                  <a:lnTo>
                    <a:pt x="3860" y="1789"/>
                  </a:lnTo>
                  <a:lnTo>
                    <a:pt x="3863" y="1780"/>
                  </a:lnTo>
                  <a:lnTo>
                    <a:pt x="3857" y="1772"/>
                  </a:lnTo>
                  <a:lnTo>
                    <a:pt x="3851" y="1763"/>
                  </a:lnTo>
                  <a:lnTo>
                    <a:pt x="3842" y="1760"/>
                  </a:lnTo>
                  <a:lnTo>
                    <a:pt x="3834" y="1752"/>
                  </a:lnTo>
                  <a:lnTo>
                    <a:pt x="3831" y="1743"/>
                  </a:lnTo>
                  <a:lnTo>
                    <a:pt x="3828" y="1734"/>
                  </a:lnTo>
                  <a:lnTo>
                    <a:pt x="3825" y="1726"/>
                  </a:lnTo>
                  <a:lnTo>
                    <a:pt x="3822" y="1714"/>
                  </a:lnTo>
                  <a:lnTo>
                    <a:pt x="3819" y="1706"/>
                  </a:lnTo>
                  <a:lnTo>
                    <a:pt x="3816" y="1697"/>
                  </a:lnTo>
                  <a:lnTo>
                    <a:pt x="3813" y="1685"/>
                  </a:lnTo>
                  <a:lnTo>
                    <a:pt x="3810" y="1677"/>
                  </a:lnTo>
                  <a:lnTo>
                    <a:pt x="3807" y="1668"/>
                  </a:lnTo>
                  <a:lnTo>
                    <a:pt x="3804" y="1659"/>
                  </a:lnTo>
                  <a:lnTo>
                    <a:pt x="3796" y="1657"/>
                  </a:lnTo>
                  <a:lnTo>
                    <a:pt x="3787" y="1657"/>
                  </a:lnTo>
                  <a:lnTo>
                    <a:pt x="3775" y="1657"/>
                  </a:lnTo>
                  <a:lnTo>
                    <a:pt x="3767" y="1648"/>
                  </a:lnTo>
                  <a:lnTo>
                    <a:pt x="3767" y="1639"/>
                  </a:lnTo>
                  <a:lnTo>
                    <a:pt x="3767" y="1631"/>
                  </a:lnTo>
                  <a:lnTo>
                    <a:pt x="3767" y="1622"/>
                  </a:lnTo>
                  <a:lnTo>
                    <a:pt x="3767" y="1613"/>
                  </a:lnTo>
                  <a:lnTo>
                    <a:pt x="3770" y="1605"/>
                  </a:lnTo>
                  <a:lnTo>
                    <a:pt x="3770" y="1596"/>
                  </a:lnTo>
                  <a:lnTo>
                    <a:pt x="3772" y="1587"/>
                  </a:lnTo>
                  <a:lnTo>
                    <a:pt x="3810" y="1541"/>
                  </a:lnTo>
                  <a:lnTo>
                    <a:pt x="3793" y="1541"/>
                  </a:lnTo>
                  <a:lnTo>
                    <a:pt x="3799" y="1533"/>
                  </a:lnTo>
                  <a:lnTo>
                    <a:pt x="3807" y="1530"/>
                  </a:lnTo>
                  <a:lnTo>
                    <a:pt x="3816" y="1527"/>
                  </a:lnTo>
                  <a:lnTo>
                    <a:pt x="3828" y="1527"/>
                  </a:lnTo>
                  <a:lnTo>
                    <a:pt x="3839" y="1527"/>
                  </a:lnTo>
                  <a:lnTo>
                    <a:pt x="3851" y="1524"/>
                  </a:lnTo>
                  <a:lnTo>
                    <a:pt x="3863" y="1524"/>
                  </a:lnTo>
                  <a:lnTo>
                    <a:pt x="3874" y="1524"/>
                  </a:lnTo>
                  <a:lnTo>
                    <a:pt x="3883" y="1527"/>
                  </a:lnTo>
                  <a:lnTo>
                    <a:pt x="3892" y="1530"/>
                  </a:lnTo>
                  <a:lnTo>
                    <a:pt x="3901" y="1533"/>
                  </a:lnTo>
                  <a:lnTo>
                    <a:pt x="3909" y="1535"/>
                  </a:lnTo>
                  <a:lnTo>
                    <a:pt x="3918" y="1535"/>
                  </a:lnTo>
                  <a:lnTo>
                    <a:pt x="3930" y="1535"/>
                  </a:lnTo>
                  <a:lnTo>
                    <a:pt x="3941" y="1535"/>
                  </a:lnTo>
                  <a:lnTo>
                    <a:pt x="3950" y="1535"/>
                  </a:lnTo>
                  <a:lnTo>
                    <a:pt x="3959" y="1535"/>
                  </a:lnTo>
                  <a:lnTo>
                    <a:pt x="3970" y="1541"/>
                  </a:lnTo>
                  <a:lnTo>
                    <a:pt x="3979" y="1541"/>
                  </a:lnTo>
                  <a:lnTo>
                    <a:pt x="3985" y="1550"/>
                  </a:lnTo>
                  <a:lnTo>
                    <a:pt x="3997" y="1559"/>
                  </a:lnTo>
                  <a:lnTo>
                    <a:pt x="4005" y="1561"/>
                  </a:lnTo>
                  <a:lnTo>
                    <a:pt x="4017" y="1561"/>
                  </a:lnTo>
                  <a:lnTo>
                    <a:pt x="4026" y="1559"/>
                  </a:lnTo>
                  <a:lnTo>
                    <a:pt x="4029" y="1550"/>
                  </a:lnTo>
                  <a:lnTo>
                    <a:pt x="4037" y="1541"/>
                  </a:lnTo>
                  <a:lnTo>
                    <a:pt x="4040" y="1533"/>
                  </a:lnTo>
                  <a:lnTo>
                    <a:pt x="4043" y="1524"/>
                  </a:lnTo>
                  <a:lnTo>
                    <a:pt x="4055" y="1512"/>
                  </a:lnTo>
                  <a:lnTo>
                    <a:pt x="4066" y="1507"/>
                  </a:lnTo>
                  <a:lnTo>
                    <a:pt x="4075" y="1498"/>
                  </a:lnTo>
                  <a:lnTo>
                    <a:pt x="4084" y="1495"/>
                  </a:lnTo>
                  <a:lnTo>
                    <a:pt x="4093" y="1495"/>
                  </a:lnTo>
                  <a:lnTo>
                    <a:pt x="4101" y="1495"/>
                  </a:lnTo>
                  <a:lnTo>
                    <a:pt x="4110" y="1495"/>
                  </a:lnTo>
                  <a:lnTo>
                    <a:pt x="4119" y="1501"/>
                  </a:lnTo>
                  <a:lnTo>
                    <a:pt x="4130" y="1510"/>
                  </a:lnTo>
                  <a:lnTo>
                    <a:pt x="4139" y="1512"/>
                  </a:lnTo>
                  <a:lnTo>
                    <a:pt x="4148" y="1507"/>
                  </a:lnTo>
                  <a:lnTo>
                    <a:pt x="4154" y="1498"/>
                  </a:lnTo>
                  <a:lnTo>
                    <a:pt x="4157" y="1489"/>
                  </a:lnTo>
                  <a:lnTo>
                    <a:pt x="4165" y="1478"/>
                  </a:lnTo>
                  <a:lnTo>
                    <a:pt x="4168" y="1466"/>
                  </a:lnTo>
                  <a:lnTo>
                    <a:pt x="4163" y="1458"/>
                  </a:lnTo>
                  <a:lnTo>
                    <a:pt x="4157" y="1449"/>
                  </a:lnTo>
                  <a:lnTo>
                    <a:pt x="4154" y="1438"/>
                  </a:lnTo>
                  <a:lnTo>
                    <a:pt x="4151" y="1429"/>
                  </a:lnTo>
                  <a:lnTo>
                    <a:pt x="4151" y="1420"/>
                  </a:lnTo>
                  <a:lnTo>
                    <a:pt x="4151" y="1409"/>
                  </a:lnTo>
                  <a:lnTo>
                    <a:pt x="4151" y="1400"/>
                  </a:lnTo>
                  <a:lnTo>
                    <a:pt x="4160" y="1394"/>
                  </a:lnTo>
                  <a:lnTo>
                    <a:pt x="4174" y="1400"/>
                  </a:lnTo>
                  <a:lnTo>
                    <a:pt x="4183" y="1403"/>
                  </a:lnTo>
                  <a:lnTo>
                    <a:pt x="4183" y="1412"/>
                  </a:lnTo>
                  <a:lnTo>
                    <a:pt x="4192" y="1420"/>
                  </a:lnTo>
                  <a:lnTo>
                    <a:pt x="4203" y="1432"/>
                  </a:lnTo>
                  <a:lnTo>
                    <a:pt x="4212" y="1440"/>
                  </a:lnTo>
                  <a:lnTo>
                    <a:pt x="4215" y="1449"/>
                  </a:lnTo>
                  <a:lnTo>
                    <a:pt x="4218" y="1458"/>
                  </a:lnTo>
                  <a:lnTo>
                    <a:pt x="4227" y="1472"/>
                  </a:lnTo>
                  <a:lnTo>
                    <a:pt x="4235" y="1478"/>
                  </a:lnTo>
                  <a:lnTo>
                    <a:pt x="4241" y="1487"/>
                  </a:lnTo>
                  <a:lnTo>
                    <a:pt x="4253" y="1495"/>
                  </a:lnTo>
                  <a:lnTo>
                    <a:pt x="4264" y="1501"/>
                  </a:lnTo>
                  <a:lnTo>
                    <a:pt x="4270" y="1510"/>
                  </a:lnTo>
                  <a:lnTo>
                    <a:pt x="4273" y="1518"/>
                  </a:lnTo>
                  <a:lnTo>
                    <a:pt x="4273" y="1527"/>
                  </a:lnTo>
                  <a:lnTo>
                    <a:pt x="4273" y="1535"/>
                  </a:lnTo>
                  <a:lnTo>
                    <a:pt x="4273" y="1544"/>
                  </a:lnTo>
                  <a:lnTo>
                    <a:pt x="4264" y="1550"/>
                  </a:lnTo>
                  <a:lnTo>
                    <a:pt x="4256" y="1553"/>
                  </a:lnTo>
                  <a:lnTo>
                    <a:pt x="4256" y="1564"/>
                  </a:lnTo>
                  <a:lnTo>
                    <a:pt x="4256" y="1573"/>
                  </a:lnTo>
                  <a:lnTo>
                    <a:pt x="4256" y="1582"/>
                  </a:lnTo>
                  <a:lnTo>
                    <a:pt x="4264" y="1587"/>
                  </a:lnTo>
                  <a:lnTo>
                    <a:pt x="4276" y="1590"/>
                  </a:lnTo>
                  <a:lnTo>
                    <a:pt x="4285" y="1590"/>
                  </a:lnTo>
                  <a:lnTo>
                    <a:pt x="4294" y="1599"/>
                  </a:lnTo>
                  <a:lnTo>
                    <a:pt x="4302" y="1608"/>
                  </a:lnTo>
                  <a:lnTo>
                    <a:pt x="4314" y="1610"/>
                  </a:lnTo>
                  <a:lnTo>
                    <a:pt x="4326" y="1616"/>
                  </a:lnTo>
                  <a:lnTo>
                    <a:pt x="4334" y="1619"/>
                  </a:lnTo>
                  <a:lnTo>
                    <a:pt x="4340" y="1628"/>
                  </a:lnTo>
                  <a:lnTo>
                    <a:pt x="4343" y="1636"/>
                  </a:lnTo>
                  <a:lnTo>
                    <a:pt x="4343" y="1645"/>
                  </a:lnTo>
                  <a:lnTo>
                    <a:pt x="4343" y="1654"/>
                  </a:lnTo>
                  <a:lnTo>
                    <a:pt x="4343" y="1662"/>
                  </a:lnTo>
                  <a:lnTo>
                    <a:pt x="4346" y="1671"/>
                  </a:lnTo>
                  <a:lnTo>
                    <a:pt x="4355" y="1671"/>
                  </a:lnTo>
                  <a:lnTo>
                    <a:pt x="4366" y="1671"/>
                  </a:lnTo>
                  <a:lnTo>
                    <a:pt x="4369" y="1662"/>
                  </a:lnTo>
                  <a:lnTo>
                    <a:pt x="4363" y="1654"/>
                  </a:lnTo>
                  <a:lnTo>
                    <a:pt x="4360" y="1645"/>
                  </a:lnTo>
                  <a:lnTo>
                    <a:pt x="4355" y="1636"/>
                  </a:lnTo>
                  <a:lnTo>
                    <a:pt x="4352" y="1628"/>
                  </a:lnTo>
                  <a:lnTo>
                    <a:pt x="4349" y="1619"/>
                  </a:lnTo>
                  <a:lnTo>
                    <a:pt x="4346" y="1610"/>
                  </a:lnTo>
                  <a:lnTo>
                    <a:pt x="4346" y="1602"/>
                  </a:lnTo>
                  <a:lnTo>
                    <a:pt x="4346" y="1590"/>
                  </a:lnTo>
                  <a:lnTo>
                    <a:pt x="4346" y="1582"/>
                  </a:lnTo>
                  <a:lnTo>
                    <a:pt x="4355" y="1579"/>
                  </a:lnTo>
                  <a:lnTo>
                    <a:pt x="4363" y="1582"/>
                  </a:lnTo>
                  <a:lnTo>
                    <a:pt x="4372" y="1582"/>
                  </a:lnTo>
                  <a:lnTo>
                    <a:pt x="4381" y="1573"/>
                  </a:lnTo>
                  <a:lnTo>
                    <a:pt x="4390" y="1567"/>
                  </a:lnTo>
                  <a:lnTo>
                    <a:pt x="4393" y="1559"/>
                  </a:lnTo>
                  <a:lnTo>
                    <a:pt x="4393" y="1550"/>
                  </a:lnTo>
                  <a:lnTo>
                    <a:pt x="4393" y="1541"/>
                  </a:lnTo>
                  <a:lnTo>
                    <a:pt x="4393" y="1533"/>
                  </a:lnTo>
                  <a:lnTo>
                    <a:pt x="4393" y="1524"/>
                  </a:lnTo>
                  <a:lnTo>
                    <a:pt x="4393" y="1515"/>
                  </a:lnTo>
                  <a:lnTo>
                    <a:pt x="4390" y="1504"/>
                  </a:lnTo>
                  <a:lnTo>
                    <a:pt x="4384" y="1495"/>
                  </a:lnTo>
                  <a:lnTo>
                    <a:pt x="4381" y="1484"/>
                  </a:lnTo>
                  <a:lnTo>
                    <a:pt x="4378" y="1475"/>
                  </a:lnTo>
                  <a:lnTo>
                    <a:pt x="4369" y="1463"/>
                  </a:lnTo>
                  <a:lnTo>
                    <a:pt x="4363" y="1455"/>
                  </a:lnTo>
                  <a:lnTo>
                    <a:pt x="4360" y="1446"/>
                  </a:lnTo>
                  <a:lnTo>
                    <a:pt x="4358" y="1438"/>
                  </a:lnTo>
                  <a:lnTo>
                    <a:pt x="4352" y="1429"/>
                  </a:lnTo>
                  <a:lnTo>
                    <a:pt x="4346" y="1417"/>
                  </a:lnTo>
                  <a:lnTo>
                    <a:pt x="4340" y="1409"/>
                  </a:lnTo>
                  <a:lnTo>
                    <a:pt x="4337" y="1397"/>
                  </a:lnTo>
                  <a:lnTo>
                    <a:pt x="4334" y="1389"/>
                  </a:lnTo>
                  <a:lnTo>
                    <a:pt x="4334" y="1380"/>
                  </a:lnTo>
                  <a:lnTo>
                    <a:pt x="4331" y="1371"/>
                  </a:lnTo>
                  <a:lnTo>
                    <a:pt x="4328" y="1360"/>
                  </a:lnTo>
                  <a:lnTo>
                    <a:pt x="4323" y="1351"/>
                  </a:lnTo>
                  <a:lnTo>
                    <a:pt x="4320" y="1342"/>
                  </a:lnTo>
                  <a:lnTo>
                    <a:pt x="4314" y="1334"/>
                  </a:lnTo>
                  <a:lnTo>
                    <a:pt x="4305" y="1325"/>
                  </a:lnTo>
                  <a:lnTo>
                    <a:pt x="4296" y="1316"/>
                  </a:lnTo>
                  <a:lnTo>
                    <a:pt x="4288" y="1308"/>
                  </a:lnTo>
                  <a:lnTo>
                    <a:pt x="4276" y="1311"/>
                  </a:lnTo>
                  <a:lnTo>
                    <a:pt x="4279" y="1291"/>
                  </a:lnTo>
                  <a:lnTo>
                    <a:pt x="4276" y="1282"/>
                  </a:lnTo>
                  <a:lnTo>
                    <a:pt x="4270" y="1273"/>
                  </a:lnTo>
                  <a:lnTo>
                    <a:pt x="4261" y="1267"/>
                  </a:lnTo>
                  <a:lnTo>
                    <a:pt x="4253" y="1259"/>
                  </a:lnTo>
                  <a:lnTo>
                    <a:pt x="4244" y="1250"/>
                  </a:lnTo>
                  <a:lnTo>
                    <a:pt x="4238" y="1242"/>
                  </a:lnTo>
                  <a:lnTo>
                    <a:pt x="4232" y="1233"/>
                  </a:lnTo>
                  <a:lnTo>
                    <a:pt x="4229" y="1224"/>
                  </a:lnTo>
                  <a:lnTo>
                    <a:pt x="4221" y="1218"/>
                  </a:lnTo>
                  <a:lnTo>
                    <a:pt x="4212" y="1210"/>
                  </a:lnTo>
                  <a:lnTo>
                    <a:pt x="4200" y="1201"/>
                  </a:lnTo>
                  <a:lnTo>
                    <a:pt x="4192" y="1195"/>
                  </a:lnTo>
                  <a:lnTo>
                    <a:pt x="4183" y="1193"/>
                  </a:lnTo>
                  <a:lnTo>
                    <a:pt x="4171" y="1187"/>
                  </a:lnTo>
                  <a:lnTo>
                    <a:pt x="4163" y="1184"/>
                  </a:lnTo>
                  <a:lnTo>
                    <a:pt x="4154" y="1181"/>
                  </a:lnTo>
                  <a:lnTo>
                    <a:pt x="4145" y="1175"/>
                  </a:lnTo>
                  <a:lnTo>
                    <a:pt x="4136" y="1170"/>
                  </a:lnTo>
                  <a:lnTo>
                    <a:pt x="4130" y="1161"/>
                  </a:lnTo>
                  <a:lnTo>
                    <a:pt x="4119" y="1152"/>
                  </a:lnTo>
                  <a:lnTo>
                    <a:pt x="4110" y="1149"/>
                  </a:lnTo>
                  <a:lnTo>
                    <a:pt x="4098" y="1144"/>
                  </a:lnTo>
                  <a:lnTo>
                    <a:pt x="4090" y="1144"/>
                  </a:lnTo>
                  <a:lnTo>
                    <a:pt x="4078" y="1135"/>
                  </a:lnTo>
                  <a:lnTo>
                    <a:pt x="4069" y="1126"/>
                  </a:lnTo>
                  <a:lnTo>
                    <a:pt x="4064" y="1118"/>
                  </a:lnTo>
                  <a:lnTo>
                    <a:pt x="4058" y="1109"/>
                  </a:lnTo>
                  <a:lnTo>
                    <a:pt x="4049" y="1103"/>
                  </a:lnTo>
                  <a:lnTo>
                    <a:pt x="4058" y="1100"/>
                  </a:lnTo>
                  <a:lnTo>
                    <a:pt x="4066" y="1100"/>
                  </a:lnTo>
                  <a:lnTo>
                    <a:pt x="4078" y="1100"/>
                  </a:lnTo>
                  <a:lnTo>
                    <a:pt x="4090" y="1103"/>
                  </a:lnTo>
                  <a:lnTo>
                    <a:pt x="4098" y="1109"/>
                  </a:lnTo>
                  <a:lnTo>
                    <a:pt x="4107" y="1112"/>
                  </a:lnTo>
                  <a:lnTo>
                    <a:pt x="4116" y="1115"/>
                  </a:lnTo>
                  <a:lnTo>
                    <a:pt x="4125" y="1121"/>
                  </a:lnTo>
                  <a:lnTo>
                    <a:pt x="4133" y="1126"/>
                  </a:lnTo>
                  <a:lnTo>
                    <a:pt x="4142" y="1129"/>
                  </a:lnTo>
                  <a:lnTo>
                    <a:pt x="4154" y="1138"/>
                  </a:lnTo>
                  <a:lnTo>
                    <a:pt x="4163" y="1141"/>
                  </a:lnTo>
                  <a:lnTo>
                    <a:pt x="4171" y="1144"/>
                  </a:lnTo>
                  <a:lnTo>
                    <a:pt x="4180" y="1146"/>
                  </a:lnTo>
                  <a:lnTo>
                    <a:pt x="4192" y="1146"/>
                  </a:lnTo>
                  <a:lnTo>
                    <a:pt x="4200" y="1146"/>
                  </a:lnTo>
                  <a:lnTo>
                    <a:pt x="4212" y="1149"/>
                  </a:lnTo>
                  <a:lnTo>
                    <a:pt x="4221" y="1149"/>
                  </a:lnTo>
                  <a:lnTo>
                    <a:pt x="4229" y="1152"/>
                  </a:lnTo>
                  <a:lnTo>
                    <a:pt x="4238" y="1155"/>
                  </a:lnTo>
                  <a:lnTo>
                    <a:pt x="4247" y="1161"/>
                  </a:lnTo>
                  <a:lnTo>
                    <a:pt x="4256" y="1164"/>
                  </a:lnTo>
                  <a:lnTo>
                    <a:pt x="4264" y="1170"/>
                  </a:lnTo>
                  <a:lnTo>
                    <a:pt x="4273" y="1172"/>
                  </a:lnTo>
                  <a:lnTo>
                    <a:pt x="4282" y="1178"/>
                  </a:lnTo>
                  <a:lnTo>
                    <a:pt x="4291" y="1181"/>
                  </a:lnTo>
                  <a:lnTo>
                    <a:pt x="4299" y="1187"/>
                  </a:lnTo>
                  <a:lnTo>
                    <a:pt x="4308" y="1190"/>
                  </a:lnTo>
                  <a:lnTo>
                    <a:pt x="4317" y="1193"/>
                  </a:lnTo>
                  <a:lnTo>
                    <a:pt x="4326" y="1195"/>
                  </a:lnTo>
                  <a:lnTo>
                    <a:pt x="4334" y="1195"/>
                  </a:lnTo>
                  <a:lnTo>
                    <a:pt x="4326" y="1190"/>
                  </a:lnTo>
                  <a:lnTo>
                    <a:pt x="4314" y="1178"/>
                  </a:lnTo>
                  <a:lnTo>
                    <a:pt x="4305" y="1170"/>
                  </a:lnTo>
                  <a:lnTo>
                    <a:pt x="4305" y="1161"/>
                  </a:lnTo>
                  <a:lnTo>
                    <a:pt x="4317" y="1158"/>
                  </a:lnTo>
                  <a:lnTo>
                    <a:pt x="4328" y="1158"/>
                  </a:lnTo>
                  <a:lnTo>
                    <a:pt x="4337" y="1158"/>
                  </a:lnTo>
                  <a:lnTo>
                    <a:pt x="4346" y="1158"/>
                  </a:lnTo>
                  <a:lnTo>
                    <a:pt x="4346" y="1149"/>
                  </a:lnTo>
                  <a:lnTo>
                    <a:pt x="4349" y="1138"/>
                  </a:lnTo>
                  <a:lnTo>
                    <a:pt x="4349" y="1129"/>
                  </a:lnTo>
                  <a:lnTo>
                    <a:pt x="4340" y="1123"/>
                  </a:lnTo>
                  <a:lnTo>
                    <a:pt x="4331" y="1121"/>
                  </a:lnTo>
                  <a:lnTo>
                    <a:pt x="4323" y="1121"/>
                  </a:lnTo>
                  <a:lnTo>
                    <a:pt x="4314" y="1121"/>
                  </a:lnTo>
                  <a:lnTo>
                    <a:pt x="4302" y="1121"/>
                  </a:lnTo>
                  <a:lnTo>
                    <a:pt x="4296" y="1132"/>
                  </a:lnTo>
                  <a:lnTo>
                    <a:pt x="4288" y="1138"/>
                  </a:lnTo>
                  <a:lnTo>
                    <a:pt x="4279" y="1144"/>
                  </a:lnTo>
                  <a:lnTo>
                    <a:pt x="4270" y="1144"/>
                  </a:lnTo>
                  <a:lnTo>
                    <a:pt x="4261" y="1144"/>
                  </a:lnTo>
                  <a:lnTo>
                    <a:pt x="4253" y="1144"/>
                  </a:lnTo>
                  <a:lnTo>
                    <a:pt x="4244" y="1144"/>
                  </a:lnTo>
                  <a:lnTo>
                    <a:pt x="4238" y="1135"/>
                  </a:lnTo>
                  <a:lnTo>
                    <a:pt x="4227" y="1126"/>
                  </a:lnTo>
                  <a:lnTo>
                    <a:pt x="4218" y="1115"/>
                  </a:lnTo>
                  <a:lnTo>
                    <a:pt x="4209" y="1109"/>
                  </a:lnTo>
                  <a:lnTo>
                    <a:pt x="4197" y="1100"/>
                  </a:lnTo>
                  <a:lnTo>
                    <a:pt x="4192" y="1092"/>
                  </a:lnTo>
                  <a:lnTo>
                    <a:pt x="4200" y="1086"/>
                  </a:lnTo>
                  <a:lnTo>
                    <a:pt x="4209" y="1077"/>
                  </a:lnTo>
                  <a:lnTo>
                    <a:pt x="4218" y="1072"/>
                  </a:lnTo>
                  <a:lnTo>
                    <a:pt x="4227" y="1063"/>
                  </a:lnTo>
                  <a:lnTo>
                    <a:pt x="4229" y="1054"/>
                  </a:lnTo>
                  <a:lnTo>
                    <a:pt x="4221" y="1048"/>
                  </a:lnTo>
                  <a:lnTo>
                    <a:pt x="4209" y="1048"/>
                  </a:lnTo>
                  <a:lnTo>
                    <a:pt x="4200" y="1048"/>
                  </a:lnTo>
                  <a:lnTo>
                    <a:pt x="4189" y="1048"/>
                  </a:lnTo>
                  <a:lnTo>
                    <a:pt x="4180" y="1051"/>
                  </a:lnTo>
                  <a:lnTo>
                    <a:pt x="4171" y="1057"/>
                  </a:lnTo>
                  <a:lnTo>
                    <a:pt x="4160" y="1057"/>
                  </a:lnTo>
                  <a:lnTo>
                    <a:pt x="4151" y="1057"/>
                  </a:lnTo>
                  <a:lnTo>
                    <a:pt x="4142" y="1057"/>
                  </a:lnTo>
                  <a:lnTo>
                    <a:pt x="4133" y="1057"/>
                  </a:lnTo>
                  <a:lnTo>
                    <a:pt x="4125" y="1057"/>
                  </a:lnTo>
                  <a:lnTo>
                    <a:pt x="4116" y="1057"/>
                  </a:lnTo>
                  <a:lnTo>
                    <a:pt x="4107" y="1057"/>
                  </a:lnTo>
                  <a:lnTo>
                    <a:pt x="4098" y="1057"/>
                  </a:lnTo>
                  <a:lnTo>
                    <a:pt x="4090" y="1057"/>
                  </a:lnTo>
                  <a:lnTo>
                    <a:pt x="4081" y="1057"/>
                  </a:lnTo>
                  <a:lnTo>
                    <a:pt x="4072" y="1057"/>
                  </a:lnTo>
                  <a:lnTo>
                    <a:pt x="4064" y="1054"/>
                  </a:lnTo>
                  <a:lnTo>
                    <a:pt x="4055" y="1051"/>
                  </a:lnTo>
                  <a:lnTo>
                    <a:pt x="4043" y="1048"/>
                  </a:lnTo>
                  <a:lnTo>
                    <a:pt x="4032" y="1043"/>
                  </a:lnTo>
                  <a:lnTo>
                    <a:pt x="4023" y="1040"/>
                  </a:lnTo>
                  <a:lnTo>
                    <a:pt x="4008" y="1031"/>
                  </a:lnTo>
                  <a:lnTo>
                    <a:pt x="3994" y="1028"/>
                  </a:lnTo>
                  <a:lnTo>
                    <a:pt x="3982" y="1028"/>
                  </a:lnTo>
                  <a:lnTo>
                    <a:pt x="3973" y="1028"/>
                  </a:lnTo>
                  <a:lnTo>
                    <a:pt x="3965" y="1028"/>
                  </a:lnTo>
                  <a:lnTo>
                    <a:pt x="3953" y="1028"/>
                  </a:lnTo>
                  <a:lnTo>
                    <a:pt x="3941" y="1028"/>
                  </a:lnTo>
                  <a:lnTo>
                    <a:pt x="3933" y="1028"/>
                  </a:lnTo>
                  <a:lnTo>
                    <a:pt x="3927" y="1037"/>
                  </a:lnTo>
                  <a:lnTo>
                    <a:pt x="3941" y="1048"/>
                  </a:lnTo>
                  <a:lnTo>
                    <a:pt x="3950" y="1051"/>
                  </a:lnTo>
                  <a:lnTo>
                    <a:pt x="3962" y="1054"/>
                  </a:lnTo>
                  <a:lnTo>
                    <a:pt x="3970" y="1057"/>
                  </a:lnTo>
                  <a:lnTo>
                    <a:pt x="3979" y="1060"/>
                  </a:lnTo>
                  <a:lnTo>
                    <a:pt x="3982" y="1072"/>
                  </a:lnTo>
                  <a:lnTo>
                    <a:pt x="3982" y="1080"/>
                  </a:lnTo>
                  <a:lnTo>
                    <a:pt x="3982" y="1089"/>
                  </a:lnTo>
                  <a:lnTo>
                    <a:pt x="3994" y="1100"/>
                  </a:lnTo>
                  <a:lnTo>
                    <a:pt x="4002" y="1103"/>
                  </a:lnTo>
                  <a:lnTo>
                    <a:pt x="4014" y="1106"/>
                  </a:lnTo>
                  <a:lnTo>
                    <a:pt x="4026" y="1106"/>
                  </a:lnTo>
                  <a:lnTo>
                    <a:pt x="4034" y="1109"/>
                  </a:lnTo>
                  <a:lnTo>
                    <a:pt x="4046" y="1112"/>
                  </a:lnTo>
                  <a:lnTo>
                    <a:pt x="4037" y="1115"/>
                  </a:lnTo>
                  <a:lnTo>
                    <a:pt x="4029" y="1112"/>
                  </a:lnTo>
                  <a:lnTo>
                    <a:pt x="4020" y="1109"/>
                  </a:lnTo>
                  <a:lnTo>
                    <a:pt x="4011" y="1109"/>
                  </a:lnTo>
                  <a:lnTo>
                    <a:pt x="4002" y="1106"/>
                  </a:lnTo>
                  <a:lnTo>
                    <a:pt x="3994" y="1103"/>
                  </a:lnTo>
                  <a:lnTo>
                    <a:pt x="3979" y="1097"/>
                  </a:lnTo>
                  <a:lnTo>
                    <a:pt x="3970" y="1097"/>
                  </a:lnTo>
                  <a:lnTo>
                    <a:pt x="3962" y="1100"/>
                  </a:lnTo>
                  <a:lnTo>
                    <a:pt x="3959" y="1109"/>
                  </a:lnTo>
                  <a:lnTo>
                    <a:pt x="3950" y="1118"/>
                  </a:lnTo>
                  <a:lnTo>
                    <a:pt x="3941" y="1123"/>
                  </a:lnTo>
                  <a:lnTo>
                    <a:pt x="3935" y="1132"/>
                  </a:lnTo>
                  <a:lnTo>
                    <a:pt x="3927" y="1138"/>
                  </a:lnTo>
                  <a:lnTo>
                    <a:pt x="3927" y="1146"/>
                  </a:lnTo>
                  <a:lnTo>
                    <a:pt x="3930" y="1155"/>
                  </a:lnTo>
                  <a:lnTo>
                    <a:pt x="3938" y="1161"/>
                  </a:lnTo>
                  <a:lnTo>
                    <a:pt x="3941" y="1170"/>
                  </a:lnTo>
                  <a:lnTo>
                    <a:pt x="3941" y="1178"/>
                  </a:lnTo>
                  <a:lnTo>
                    <a:pt x="3941" y="1187"/>
                  </a:lnTo>
                  <a:lnTo>
                    <a:pt x="3938" y="1195"/>
                  </a:lnTo>
                  <a:lnTo>
                    <a:pt x="3933" y="1204"/>
                  </a:lnTo>
                  <a:lnTo>
                    <a:pt x="3924" y="1204"/>
                  </a:lnTo>
                  <a:lnTo>
                    <a:pt x="3915" y="1193"/>
                  </a:lnTo>
                  <a:lnTo>
                    <a:pt x="3912" y="1184"/>
                  </a:lnTo>
                  <a:lnTo>
                    <a:pt x="3903" y="1178"/>
                  </a:lnTo>
                  <a:lnTo>
                    <a:pt x="3892" y="1172"/>
                  </a:lnTo>
                  <a:lnTo>
                    <a:pt x="3883" y="1167"/>
                  </a:lnTo>
                  <a:lnTo>
                    <a:pt x="3877" y="1158"/>
                  </a:lnTo>
                  <a:lnTo>
                    <a:pt x="3874" y="1167"/>
                  </a:lnTo>
                  <a:lnTo>
                    <a:pt x="3874" y="1175"/>
                  </a:lnTo>
                  <a:lnTo>
                    <a:pt x="3874" y="1184"/>
                  </a:lnTo>
                  <a:lnTo>
                    <a:pt x="3886" y="1193"/>
                  </a:lnTo>
                  <a:lnTo>
                    <a:pt x="3898" y="1195"/>
                  </a:lnTo>
                  <a:lnTo>
                    <a:pt x="3906" y="1198"/>
                  </a:lnTo>
                  <a:lnTo>
                    <a:pt x="3915" y="1201"/>
                  </a:lnTo>
                  <a:lnTo>
                    <a:pt x="3924" y="1207"/>
                  </a:lnTo>
                  <a:lnTo>
                    <a:pt x="3912" y="1213"/>
                  </a:lnTo>
                  <a:lnTo>
                    <a:pt x="3903" y="1213"/>
                  </a:lnTo>
                  <a:lnTo>
                    <a:pt x="3895" y="1213"/>
                  </a:lnTo>
                  <a:lnTo>
                    <a:pt x="3886" y="1216"/>
                  </a:lnTo>
                  <a:lnTo>
                    <a:pt x="3886" y="1224"/>
                  </a:lnTo>
                  <a:lnTo>
                    <a:pt x="3880" y="1233"/>
                  </a:lnTo>
                  <a:lnTo>
                    <a:pt x="3868" y="1236"/>
                  </a:lnTo>
                  <a:lnTo>
                    <a:pt x="3860" y="1236"/>
                  </a:lnTo>
                  <a:lnTo>
                    <a:pt x="3854" y="1224"/>
                  </a:lnTo>
                  <a:lnTo>
                    <a:pt x="3854" y="1216"/>
                  </a:lnTo>
                  <a:lnTo>
                    <a:pt x="3851" y="1207"/>
                  </a:lnTo>
                  <a:lnTo>
                    <a:pt x="3845" y="1198"/>
                  </a:lnTo>
                  <a:lnTo>
                    <a:pt x="3842" y="1187"/>
                  </a:lnTo>
                  <a:lnTo>
                    <a:pt x="3836" y="1175"/>
                  </a:lnTo>
                  <a:lnTo>
                    <a:pt x="3834" y="1164"/>
                  </a:lnTo>
                  <a:lnTo>
                    <a:pt x="3828" y="1155"/>
                  </a:lnTo>
                  <a:lnTo>
                    <a:pt x="3822" y="1146"/>
                  </a:lnTo>
                  <a:lnTo>
                    <a:pt x="3816" y="1138"/>
                  </a:lnTo>
                  <a:lnTo>
                    <a:pt x="3810" y="1129"/>
                  </a:lnTo>
                  <a:lnTo>
                    <a:pt x="3799" y="1123"/>
                  </a:lnTo>
                  <a:lnTo>
                    <a:pt x="3793" y="1115"/>
                  </a:lnTo>
                  <a:lnTo>
                    <a:pt x="3790" y="1106"/>
                  </a:lnTo>
                  <a:lnTo>
                    <a:pt x="3784" y="1097"/>
                  </a:lnTo>
                  <a:lnTo>
                    <a:pt x="3778" y="1089"/>
                  </a:lnTo>
                  <a:lnTo>
                    <a:pt x="3775" y="1080"/>
                  </a:lnTo>
                  <a:lnTo>
                    <a:pt x="3772" y="1072"/>
                  </a:lnTo>
                  <a:lnTo>
                    <a:pt x="3767" y="1063"/>
                  </a:lnTo>
                  <a:lnTo>
                    <a:pt x="3761" y="1054"/>
                  </a:lnTo>
                  <a:lnTo>
                    <a:pt x="3752" y="1046"/>
                  </a:lnTo>
                  <a:lnTo>
                    <a:pt x="3746" y="1037"/>
                  </a:lnTo>
                  <a:lnTo>
                    <a:pt x="3737" y="1034"/>
                  </a:lnTo>
                  <a:lnTo>
                    <a:pt x="3717" y="988"/>
                  </a:lnTo>
                  <a:lnTo>
                    <a:pt x="3737" y="1008"/>
                  </a:lnTo>
                  <a:lnTo>
                    <a:pt x="3737" y="999"/>
                  </a:lnTo>
                  <a:lnTo>
                    <a:pt x="3732" y="991"/>
                  </a:lnTo>
                  <a:lnTo>
                    <a:pt x="3726" y="982"/>
                  </a:lnTo>
                  <a:lnTo>
                    <a:pt x="3723" y="974"/>
                  </a:lnTo>
                  <a:lnTo>
                    <a:pt x="3714" y="968"/>
                  </a:lnTo>
                  <a:lnTo>
                    <a:pt x="3703" y="965"/>
                  </a:lnTo>
                  <a:lnTo>
                    <a:pt x="3694" y="959"/>
                  </a:lnTo>
                  <a:lnTo>
                    <a:pt x="3691" y="950"/>
                  </a:lnTo>
                  <a:lnTo>
                    <a:pt x="3691" y="942"/>
                  </a:lnTo>
                  <a:lnTo>
                    <a:pt x="3691" y="930"/>
                  </a:lnTo>
                  <a:lnTo>
                    <a:pt x="3691" y="922"/>
                  </a:lnTo>
                  <a:lnTo>
                    <a:pt x="3691" y="913"/>
                  </a:lnTo>
                  <a:lnTo>
                    <a:pt x="3694" y="904"/>
                  </a:lnTo>
                  <a:lnTo>
                    <a:pt x="3700" y="896"/>
                  </a:lnTo>
                  <a:lnTo>
                    <a:pt x="3705" y="887"/>
                  </a:lnTo>
                  <a:lnTo>
                    <a:pt x="3714" y="887"/>
                  </a:lnTo>
                  <a:lnTo>
                    <a:pt x="3717" y="878"/>
                  </a:lnTo>
                  <a:lnTo>
                    <a:pt x="3705" y="867"/>
                  </a:lnTo>
                  <a:lnTo>
                    <a:pt x="3705" y="858"/>
                  </a:lnTo>
                  <a:lnTo>
                    <a:pt x="3705" y="847"/>
                  </a:lnTo>
                  <a:lnTo>
                    <a:pt x="3711" y="838"/>
                  </a:lnTo>
                  <a:lnTo>
                    <a:pt x="3717" y="827"/>
                  </a:lnTo>
                  <a:lnTo>
                    <a:pt x="3717" y="818"/>
                  </a:lnTo>
                  <a:lnTo>
                    <a:pt x="3717" y="809"/>
                  </a:lnTo>
                  <a:lnTo>
                    <a:pt x="3705" y="806"/>
                  </a:lnTo>
                  <a:lnTo>
                    <a:pt x="3694" y="801"/>
                  </a:lnTo>
                  <a:lnTo>
                    <a:pt x="3685" y="795"/>
                  </a:lnTo>
                  <a:lnTo>
                    <a:pt x="3685" y="786"/>
                  </a:lnTo>
                  <a:lnTo>
                    <a:pt x="3691" y="778"/>
                  </a:lnTo>
                  <a:lnTo>
                    <a:pt x="3697" y="769"/>
                  </a:lnTo>
                  <a:lnTo>
                    <a:pt x="3700" y="760"/>
                  </a:lnTo>
                  <a:lnTo>
                    <a:pt x="3708" y="757"/>
                  </a:lnTo>
                  <a:lnTo>
                    <a:pt x="3717" y="752"/>
                  </a:lnTo>
                  <a:lnTo>
                    <a:pt x="3726" y="757"/>
                  </a:lnTo>
                  <a:lnTo>
                    <a:pt x="3735" y="760"/>
                  </a:lnTo>
                  <a:lnTo>
                    <a:pt x="3743" y="763"/>
                  </a:lnTo>
                  <a:lnTo>
                    <a:pt x="3743" y="755"/>
                  </a:lnTo>
                  <a:lnTo>
                    <a:pt x="3737" y="746"/>
                  </a:lnTo>
                  <a:lnTo>
                    <a:pt x="3737" y="737"/>
                  </a:lnTo>
                  <a:lnTo>
                    <a:pt x="3735" y="729"/>
                  </a:lnTo>
                  <a:lnTo>
                    <a:pt x="3735" y="720"/>
                  </a:lnTo>
                  <a:lnTo>
                    <a:pt x="3732" y="711"/>
                  </a:lnTo>
                  <a:lnTo>
                    <a:pt x="3726" y="703"/>
                  </a:lnTo>
                  <a:lnTo>
                    <a:pt x="3723" y="691"/>
                  </a:lnTo>
                  <a:lnTo>
                    <a:pt x="3723" y="682"/>
                  </a:lnTo>
                  <a:lnTo>
                    <a:pt x="3723" y="674"/>
                  </a:lnTo>
                  <a:lnTo>
                    <a:pt x="3723" y="665"/>
                  </a:lnTo>
                  <a:lnTo>
                    <a:pt x="3714" y="662"/>
                  </a:lnTo>
                  <a:lnTo>
                    <a:pt x="3708" y="671"/>
                  </a:lnTo>
                  <a:lnTo>
                    <a:pt x="3700" y="671"/>
                  </a:lnTo>
                  <a:lnTo>
                    <a:pt x="3691" y="674"/>
                  </a:lnTo>
                  <a:lnTo>
                    <a:pt x="3682" y="671"/>
                  </a:lnTo>
                  <a:lnTo>
                    <a:pt x="3673" y="659"/>
                  </a:lnTo>
                  <a:lnTo>
                    <a:pt x="3668" y="651"/>
                  </a:lnTo>
                  <a:lnTo>
                    <a:pt x="3662" y="642"/>
                  </a:lnTo>
                  <a:lnTo>
                    <a:pt x="3653" y="633"/>
                  </a:lnTo>
                  <a:lnTo>
                    <a:pt x="3641" y="628"/>
                  </a:lnTo>
                  <a:lnTo>
                    <a:pt x="3633" y="622"/>
                  </a:lnTo>
                  <a:lnTo>
                    <a:pt x="3624" y="622"/>
                  </a:lnTo>
                  <a:lnTo>
                    <a:pt x="3615" y="616"/>
                  </a:lnTo>
                  <a:lnTo>
                    <a:pt x="3604" y="613"/>
                  </a:lnTo>
                  <a:lnTo>
                    <a:pt x="3595" y="608"/>
                  </a:lnTo>
                  <a:lnTo>
                    <a:pt x="3577" y="573"/>
                  </a:lnTo>
                  <a:lnTo>
                    <a:pt x="3592" y="587"/>
                  </a:lnTo>
                  <a:lnTo>
                    <a:pt x="3592" y="576"/>
                  </a:lnTo>
                  <a:lnTo>
                    <a:pt x="3589" y="567"/>
                  </a:lnTo>
                  <a:lnTo>
                    <a:pt x="3589" y="559"/>
                  </a:lnTo>
                  <a:lnTo>
                    <a:pt x="3583" y="547"/>
                  </a:lnTo>
                  <a:lnTo>
                    <a:pt x="3577" y="538"/>
                  </a:lnTo>
                  <a:lnTo>
                    <a:pt x="3569" y="530"/>
                  </a:lnTo>
                  <a:lnTo>
                    <a:pt x="3583" y="527"/>
                  </a:lnTo>
                  <a:lnTo>
                    <a:pt x="3592" y="530"/>
                  </a:lnTo>
                  <a:lnTo>
                    <a:pt x="3601" y="533"/>
                  </a:lnTo>
                  <a:lnTo>
                    <a:pt x="3609" y="538"/>
                  </a:lnTo>
                  <a:lnTo>
                    <a:pt x="3618" y="541"/>
                  </a:lnTo>
                  <a:lnTo>
                    <a:pt x="3621" y="533"/>
                  </a:lnTo>
                  <a:lnTo>
                    <a:pt x="3621" y="524"/>
                  </a:lnTo>
                  <a:lnTo>
                    <a:pt x="3612" y="518"/>
                  </a:lnTo>
                  <a:lnTo>
                    <a:pt x="3604" y="507"/>
                  </a:lnTo>
                  <a:lnTo>
                    <a:pt x="3598" y="498"/>
                  </a:lnTo>
                  <a:lnTo>
                    <a:pt x="3589" y="489"/>
                  </a:lnTo>
                  <a:lnTo>
                    <a:pt x="3586" y="481"/>
                  </a:lnTo>
                  <a:lnTo>
                    <a:pt x="3577" y="472"/>
                  </a:lnTo>
                  <a:lnTo>
                    <a:pt x="3566" y="469"/>
                  </a:lnTo>
                  <a:lnTo>
                    <a:pt x="3557" y="469"/>
                  </a:lnTo>
                  <a:lnTo>
                    <a:pt x="3548" y="469"/>
                  </a:lnTo>
                  <a:lnTo>
                    <a:pt x="3540" y="469"/>
                  </a:lnTo>
                  <a:lnTo>
                    <a:pt x="3531" y="466"/>
                  </a:lnTo>
                  <a:lnTo>
                    <a:pt x="3519" y="458"/>
                  </a:lnTo>
                  <a:lnTo>
                    <a:pt x="3516" y="449"/>
                  </a:lnTo>
                  <a:lnTo>
                    <a:pt x="3510" y="440"/>
                  </a:lnTo>
                  <a:lnTo>
                    <a:pt x="3507" y="432"/>
                  </a:lnTo>
                  <a:lnTo>
                    <a:pt x="3502" y="423"/>
                  </a:lnTo>
                  <a:lnTo>
                    <a:pt x="3502" y="412"/>
                  </a:lnTo>
                  <a:lnTo>
                    <a:pt x="3510" y="412"/>
                  </a:lnTo>
                  <a:lnTo>
                    <a:pt x="3519" y="417"/>
                  </a:lnTo>
                  <a:lnTo>
                    <a:pt x="3531" y="426"/>
                  </a:lnTo>
                  <a:lnTo>
                    <a:pt x="3540" y="432"/>
                  </a:lnTo>
                  <a:lnTo>
                    <a:pt x="3542" y="440"/>
                  </a:lnTo>
                  <a:lnTo>
                    <a:pt x="3551" y="446"/>
                  </a:lnTo>
                  <a:lnTo>
                    <a:pt x="3563" y="452"/>
                  </a:lnTo>
                  <a:lnTo>
                    <a:pt x="3572" y="458"/>
                  </a:lnTo>
                  <a:lnTo>
                    <a:pt x="3580" y="458"/>
                  </a:lnTo>
                  <a:lnTo>
                    <a:pt x="3589" y="458"/>
                  </a:lnTo>
                  <a:lnTo>
                    <a:pt x="3598" y="458"/>
                  </a:lnTo>
                  <a:lnTo>
                    <a:pt x="3606" y="461"/>
                  </a:lnTo>
                  <a:lnTo>
                    <a:pt x="3612" y="472"/>
                  </a:lnTo>
                  <a:lnTo>
                    <a:pt x="3618" y="481"/>
                  </a:lnTo>
                  <a:lnTo>
                    <a:pt x="3621" y="489"/>
                  </a:lnTo>
                  <a:lnTo>
                    <a:pt x="3627" y="498"/>
                  </a:lnTo>
                  <a:lnTo>
                    <a:pt x="3633" y="507"/>
                  </a:lnTo>
                  <a:lnTo>
                    <a:pt x="3641" y="518"/>
                  </a:lnTo>
                  <a:lnTo>
                    <a:pt x="3650" y="521"/>
                  </a:lnTo>
                  <a:lnTo>
                    <a:pt x="3662" y="524"/>
                  </a:lnTo>
                  <a:lnTo>
                    <a:pt x="3671" y="524"/>
                  </a:lnTo>
                  <a:lnTo>
                    <a:pt x="3679" y="527"/>
                  </a:lnTo>
                  <a:lnTo>
                    <a:pt x="3688" y="527"/>
                  </a:lnTo>
                  <a:lnTo>
                    <a:pt x="3700" y="530"/>
                  </a:lnTo>
                  <a:lnTo>
                    <a:pt x="3711" y="536"/>
                  </a:lnTo>
                  <a:lnTo>
                    <a:pt x="3723" y="544"/>
                  </a:lnTo>
                  <a:lnTo>
                    <a:pt x="3729" y="553"/>
                  </a:lnTo>
                  <a:lnTo>
                    <a:pt x="3735" y="561"/>
                  </a:lnTo>
                  <a:lnTo>
                    <a:pt x="3746" y="570"/>
                  </a:lnTo>
                  <a:lnTo>
                    <a:pt x="3761" y="579"/>
                  </a:lnTo>
                  <a:lnTo>
                    <a:pt x="3770" y="585"/>
                  </a:lnTo>
                  <a:lnTo>
                    <a:pt x="3772" y="593"/>
                  </a:lnTo>
                  <a:lnTo>
                    <a:pt x="3775" y="602"/>
                  </a:lnTo>
                  <a:lnTo>
                    <a:pt x="3778" y="610"/>
                  </a:lnTo>
                  <a:lnTo>
                    <a:pt x="3787" y="610"/>
                  </a:lnTo>
                  <a:lnTo>
                    <a:pt x="3790" y="619"/>
                  </a:lnTo>
                  <a:lnTo>
                    <a:pt x="3799" y="622"/>
                  </a:lnTo>
                  <a:lnTo>
                    <a:pt x="3807" y="628"/>
                  </a:lnTo>
                  <a:lnTo>
                    <a:pt x="3819" y="633"/>
                  </a:lnTo>
                  <a:lnTo>
                    <a:pt x="3828" y="636"/>
                  </a:lnTo>
                  <a:lnTo>
                    <a:pt x="3836" y="639"/>
                  </a:lnTo>
                  <a:lnTo>
                    <a:pt x="3845" y="642"/>
                  </a:lnTo>
                  <a:lnTo>
                    <a:pt x="3854" y="642"/>
                  </a:lnTo>
                  <a:lnTo>
                    <a:pt x="3866" y="645"/>
                  </a:lnTo>
                  <a:lnTo>
                    <a:pt x="3874" y="651"/>
                  </a:lnTo>
                  <a:lnTo>
                    <a:pt x="3883" y="657"/>
                  </a:lnTo>
                  <a:lnTo>
                    <a:pt x="3892" y="657"/>
                  </a:lnTo>
                  <a:lnTo>
                    <a:pt x="3901" y="657"/>
                  </a:lnTo>
                  <a:lnTo>
                    <a:pt x="3912" y="657"/>
                  </a:lnTo>
                  <a:lnTo>
                    <a:pt x="3924" y="657"/>
                  </a:lnTo>
                  <a:lnTo>
                    <a:pt x="3938" y="657"/>
                  </a:lnTo>
                  <a:lnTo>
                    <a:pt x="3947" y="657"/>
                  </a:lnTo>
                  <a:lnTo>
                    <a:pt x="3959" y="657"/>
                  </a:lnTo>
                  <a:lnTo>
                    <a:pt x="3967" y="659"/>
                  </a:lnTo>
                  <a:lnTo>
                    <a:pt x="3979" y="659"/>
                  </a:lnTo>
                  <a:lnTo>
                    <a:pt x="3991" y="659"/>
                  </a:lnTo>
                  <a:lnTo>
                    <a:pt x="4002" y="659"/>
                  </a:lnTo>
                  <a:lnTo>
                    <a:pt x="4017" y="659"/>
                  </a:lnTo>
                  <a:lnTo>
                    <a:pt x="4026" y="659"/>
                  </a:lnTo>
                  <a:lnTo>
                    <a:pt x="4037" y="659"/>
                  </a:lnTo>
                  <a:lnTo>
                    <a:pt x="4049" y="659"/>
                  </a:lnTo>
                  <a:lnTo>
                    <a:pt x="4061" y="659"/>
                  </a:lnTo>
                  <a:lnTo>
                    <a:pt x="4072" y="659"/>
                  </a:lnTo>
                  <a:lnTo>
                    <a:pt x="4084" y="659"/>
                  </a:lnTo>
                  <a:lnTo>
                    <a:pt x="4093" y="659"/>
                  </a:lnTo>
                  <a:lnTo>
                    <a:pt x="4101" y="659"/>
                  </a:lnTo>
                  <a:lnTo>
                    <a:pt x="4110" y="659"/>
                  </a:lnTo>
                  <a:lnTo>
                    <a:pt x="4119" y="659"/>
                  </a:lnTo>
                  <a:lnTo>
                    <a:pt x="4128" y="659"/>
                  </a:lnTo>
                  <a:lnTo>
                    <a:pt x="4136" y="659"/>
                  </a:lnTo>
                  <a:lnTo>
                    <a:pt x="4142" y="668"/>
                  </a:lnTo>
                  <a:lnTo>
                    <a:pt x="4145" y="677"/>
                  </a:lnTo>
                  <a:lnTo>
                    <a:pt x="4151" y="685"/>
                  </a:lnTo>
                  <a:lnTo>
                    <a:pt x="4160" y="691"/>
                  </a:lnTo>
                  <a:lnTo>
                    <a:pt x="4168" y="700"/>
                  </a:lnTo>
                  <a:lnTo>
                    <a:pt x="4177" y="700"/>
                  </a:lnTo>
                  <a:lnTo>
                    <a:pt x="4177" y="691"/>
                  </a:lnTo>
                  <a:lnTo>
                    <a:pt x="4168" y="682"/>
                  </a:lnTo>
                  <a:lnTo>
                    <a:pt x="4168" y="674"/>
                  </a:lnTo>
                  <a:lnTo>
                    <a:pt x="4160" y="665"/>
                  </a:lnTo>
                  <a:lnTo>
                    <a:pt x="4151" y="659"/>
                  </a:lnTo>
                  <a:lnTo>
                    <a:pt x="4136" y="619"/>
                  </a:lnTo>
                  <a:lnTo>
                    <a:pt x="4142" y="60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33880" y="362916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26" y="0"/>
                  </a:moveTo>
                  <a:lnTo>
                    <a:pt x="32" y="11"/>
                  </a:lnTo>
                  <a:lnTo>
                    <a:pt x="23" y="11"/>
                  </a:lnTo>
                  <a:lnTo>
                    <a:pt x="14" y="11"/>
                  </a:lnTo>
                  <a:lnTo>
                    <a:pt x="5" y="13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8" y="33"/>
                  </a:lnTo>
                  <a:lnTo>
                    <a:pt x="17" y="30"/>
                  </a:lnTo>
                  <a:lnTo>
                    <a:pt x="23" y="22"/>
                  </a:lnTo>
                  <a:lnTo>
                    <a:pt x="23" y="13"/>
                  </a:lnTo>
                  <a:lnTo>
                    <a:pt x="26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14480" y="5259240"/>
              <a:ext cx="4320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" y="20"/>
                  </a:moveTo>
                  <a:lnTo>
                    <a:pt x="8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14" y="17"/>
                  </a:lnTo>
                  <a:lnTo>
                    <a:pt x="26" y="17"/>
                  </a:lnTo>
                  <a:lnTo>
                    <a:pt x="26" y="8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2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81200" y="4390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0"/>
                  </a:moveTo>
                  <a:lnTo>
                    <a:pt x="11" y="16"/>
                  </a:lnTo>
                  <a:lnTo>
                    <a:pt x="11" y="25"/>
                  </a:lnTo>
                  <a:lnTo>
                    <a:pt x="2" y="33"/>
                  </a:lnTo>
                  <a:lnTo>
                    <a:pt x="11" y="45"/>
                  </a:lnTo>
                  <a:lnTo>
                    <a:pt x="26" y="48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2" y="22"/>
                  </a:lnTo>
                  <a:lnTo>
                    <a:pt x="23" y="14"/>
                  </a:lnTo>
                  <a:lnTo>
                    <a:pt x="14" y="11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29600" y="16905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11" y="0"/>
                  </a:lnTo>
                  <a:lnTo>
                    <a:pt x="14" y="8"/>
                  </a:lnTo>
                  <a:lnTo>
                    <a:pt x="20" y="17"/>
                  </a:lnTo>
                  <a:lnTo>
                    <a:pt x="14" y="8"/>
                  </a:lnTo>
                  <a:lnTo>
                    <a:pt x="0" y="2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05920" y="180180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0"/>
                  </a:moveTo>
                  <a:lnTo>
                    <a:pt x="8" y="11"/>
                  </a:lnTo>
                  <a:lnTo>
                    <a:pt x="14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26" y="46"/>
                  </a:lnTo>
                  <a:lnTo>
                    <a:pt x="17" y="43"/>
                  </a:lnTo>
                  <a:lnTo>
                    <a:pt x="11" y="34"/>
                  </a:lnTo>
                  <a:lnTo>
                    <a:pt x="8" y="25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4440" y="16192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6" y="70"/>
                  </a:moveTo>
                  <a:lnTo>
                    <a:pt x="0" y="78"/>
                  </a:lnTo>
                  <a:lnTo>
                    <a:pt x="0" y="70"/>
                  </a:lnTo>
                  <a:lnTo>
                    <a:pt x="7" y="64"/>
                  </a:lnTo>
                  <a:lnTo>
                    <a:pt x="16" y="70"/>
                  </a:lnTo>
                  <a:lnTo>
                    <a:pt x="16" y="58"/>
                  </a:lnTo>
                  <a:lnTo>
                    <a:pt x="19" y="50"/>
                  </a:lnTo>
                  <a:lnTo>
                    <a:pt x="19" y="42"/>
                  </a:lnTo>
                  <a:lnTo>
                    <a:pt x="11" y="33"/>
                  </a:lnTo>
                  <a:lnTo>
                    <a:pt x="11" y="25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16" y="5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11"/>
                  </a:lnTo>
                  <a:lnTo>
                    <a:pt x="45" y="16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28" y="33"/>
                  </a:lnTo>
                  <a:lnTo>
                    <a:pt x="35" y="36"/>
                  </a:lnTo>
                  <a:lnTo>
                    <a:pt x="43" y="36"/>
                  </a:lnTo>
                  <a:lnTo>
                    <a:pt x="47" y="44"/>
                  </a:lnTo>
                  <a:lnTo>
                    <a:pt x="45" y="56"/>
                  </a:lnTo>
                  <a:lnTo>
                    <a:pt x="45" y="64"/>
                  </a:lnTo>
                  <a:lnTo>
                    <a:pt x="43" y="72"/>
                  </a:lnTo>
                  <a:lnTo>
                    <a:pt x="50" y="75"/>
                  </a:lnTo>
                  <a:lnTo>
                    <a:pt x="55" y="84"/>
                  </a:lnTo>
                  <a:lnTo>
                    <a:pt x="50" y="92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31" y="98"/>
                  </a:lnTo>
                  <a:lnTo>
                    <a:pt x="23" y="98"/>
                  </a:lnTo>
                  <a:lnTo>
                    <a:pt x="14" y="92"/>
                  </a:lnTo>
                  <a:lnTo>
                    <a:pt x="9" y="84"/>
                  </a:lnTo>
                  <a:lnTo>
                    <a:pt x="4" y="75"/>
                  </a:lnTo>
                  <a:lnTo>
                    <a:pt x="16" y="7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48200" y="17812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4"/>
                  </a:lnTo>
                  <a:lnTo>
                    <a:pt x="16" y="18"/>
                  </a:lnTo>
                  <a:lnTo>
                    <a:pt x="4" y="0"/>
                  </a:lnTo>
                  <a:lnTo>
                    <a:pt x="16" y="18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00840" y="167328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0"/>
                  </a:moveTo>
                  <a:lnTo>
                    <a:pt x="17" y="19"/>
                  </a:lnTo>
                  <a:lnTo>
                    <a:pt x="22" y="11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28" y="16"/>
                  </a:lnTo>
                  <a:lnTo>
                    <a:pt x="25" y="27"/>
                  </a:lnTo>
                  <a:lnTo>
                    <a:pt x="28" y="36"/>
                  </a:lnTo>
                  <a:lnTo>
                    <a:pt x="11" y="30"/>
                  </a:lnTo>
                  <a:lnTo>
                    <a:pt x="0" y="33"/>
                  </a:lnTo>
                  <a:lnTo>
                    <a:pt x="11" y="3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91040" y="1490760"/>
              <a:ext cx="84240" cy="10944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31" y="51"/>
                  </a:moveTo>
                  <a:lnTo>
                    <a:pt x="8" y="34"/>
                  </a:lnTo>
                  <a:lnTo>
                    <a:pt x="8" y="42"/>
                  </a:lnTo>
                  <a:lnTo>
                    <a:pt x="8" y="51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5" y="68"/>
                  </a:lnTo>
                  <a:lnTo>
                    <a:pt x="17" y="68"/>
                  </a:lnTo>
                  <a:lnTo>
                    <a:pt x="28" y="68"/>
                  </a:lnTo>
                  <a:lnTo>
                    <a:pt x="37" y="68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2" y="34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20" y="19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7" y="45"/>
                  </a:lnTo>
                  <a:lnTo>
                    <a:pt x="31" y="51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38480" y="2170080"/>
              <a:ext cx="293760" cy="235080"/>
            </a:xfrm>
            <a:custGeom>
              <a:avLst/>
              <a:gdLst/>
              <a:ahLst/>
              <a:rect l="l" t="t" r="r" b="b"/>
              <a:pathLst>
                <a:path w="185" h="148">
                  <a:moveTo>
                    <a:pt x="0" y="101"/>
                  </a:moveTo>
                  <a:lnTo>
                    <a:pt x="11" y="84"/>
                  </a:lnTo>
                  <a:lnTo>
                    <a:pt x="11" y="93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5" y="138"/>
                  </a:lnTo>
                  <a:lnTo>
                    <a:pt x="14" y="135"/>
                  </a:lnTo>
                  <a:lnTo>
                    <a:pt x="20" y="127"/>
                  </a:lnTo>
                  <a:lnTo>
                    <a:pt x="28" y="118"/>
                  </a:lnTo>
                  <a:lnTo>
                    <a:pt x="31" y="110"/>
                  </a:lnTo>
                  <a:lnTo>
                    <a:pt x="40" y="104"/>
                  </a:lnTo>
                  <a:lnTo>
                    <a:pt x="48" y="101"/>
                  </a:lnTo>
                  <a:lnTo>
                    <a:pt x="57" y="98"/>
                  </a:lnTo>
                  <a:lnTo>
                    <a:pt x="66" y="90"/>
                  </a:lnTo>
                  <a:lnTo>
                    <a:pt x="69" y="81"/>
                  </a:lnTo>
                  <a:lnTo>
                    <a:pt x="77" y="79"/>
                  </a:lnTo>
                  <a:lnTo>
                    <a:pt x="80" y="87"/>
                  </a:lnTo>
                  <a:lnTo>
                    <a:pt x="80" y="96"/>
                  </a:lnTo>
                  <a:lnTo>
                    <a:pt x="80" y="104"/>
                  </a:lnTo>
                  <a:lnTo>
                    <a:pt x="83" y="115"/>
                  </a:lnTo>
                  <a:lnTo>
                    <a:pt x="74" y="121"/>
                  </a:lnTo>
                  <a:lnTo>
                    <a:pt x="71" y="130"/>
                  </a:lnTo>
                  <a:lnTo>
                    <a:pt x="74" y="138"/>
                  </a:lnTo>
                  <a:lnTo>
                    <a:pt x="83" y="141"/>
                  </a:lnTo>
                  <a:lnTo>
                    <a:pt x="94" y="141"/>
                  </a:lnTo>
                  <a:lnTo>
                    <a:pt x="103" y="138"/>
                  </a:lnTo>
                  <a:lnTo>
                    <a:pt x="109" y="130"/>
                  </a:lnTo>
                  <a:lnTo>
                    <a:pt x="109" y="121"/>
                  </a:lnTo>
                  <a:lnTo>
                    <a:pt x="100" y="113"/>
                  </a:lnTo>
                  <a:lnTo>
                    <a:pt x="106" y="101"/>
                  </a:lnTo>
                  <a:lnTo>
                    <a:pt x="100" y="90"/>
                  </a:lnTo>
                  <a:lnTo>
                    <a:pt x="97" y="81"/>
                  </a:lnTo>
                  <a:lnTo>
                    <a:pt x="97" y="73"/>
                  </a:lnTo>
                  <a:lnTo>
                    <a:pt x="97" y="65"/>
                  </a:lnTo>
                  <a:lnTo>
                    <a:pt x="103" y="56"/>
                  </a:lnTo>
                  <a:lnTo>
                    <a:pt x="112" y="56"/>
                  </a:lnTo>
                  <a:lnTo>
                    <a:pt x="120" y="53"/>
                  </a:lnTo>
                  <a:lnTo>
                    <a:pt x="132" y="53"/>
                  </a:lnTo>
                  <a:lnTo>
                    <a:pt x="140" y="56"/>
                  </a:lnTo>
                  <a:lnTo>
                    <a:pt x="152" y="56"/>
                  </a:lnTo>
                  <a:lnTo>
                    <a:pt x="166" y="56"/>
                  </a:lnTo>
                  <a:lnTo>
                    <a:pt x="175" y="56"/>
                  </a:lnTo>
                  <a:lnTo>
                    <a:pt x="184" y="56"/>
                  </a:lnTo>
                  <a:lnTo>
                    <a:pt x="184" y="48"/>
                  </a:lnTo>
                  <a:lnTo>
                    <a:pt x="184" y="39"/>
                  </a:lnTo>
                  <a:lnTo>
                    <a:pt x="181" y="31"/>
                  </a:lnTo>
                  <a:lnTo>
                    <a:pt x="178" y="22"/>
                  </a:lnTo>
                  <a:lnTo>
                    <a:pt x="166" y="16"/>
                  </a:lnTo>
                  <a:lnTo>
                    <a:pt x="158" y="16"/>
                  </a:lnTo>
                  <a:lnTo>
                    <a:pt x="146" y="16"/>
                  </a:lnTo>
                  <a:lnTo>
                    <a:pt x="138" y="19"/>
                  </a:lnTo>
                  <a:lnTo>
                    <a:pt x="140" y="11"/>
                  </a:lnTo>
                  <a:lnTo>
                    <a:pt x="140" y="2"/>
                  </a:lnTo>
                  <a:lnTo>
                    <a:pt x="132" y="0"/>
                  </a:lnTo>
                  <a:lnTo>
                    <a:pt x="120" y="2"/>
                  </a:lnTo>
                  <a:lnTo>
                    <a:pt x="112" y="11"/>
                  </a:lnTo>
                  <a:lnTo>
                    <a:pt x="103" y="16"/>
                  </a:lnTo>
                  <a:lnTo>
                    <a:pt x="97" y="25"/>
                  </a:lnTo>
                  <a:lnTo>
                    <a:pt x="94" y="16"/>
                  </a:lnTo>
                  <a:lnTo>
                    <a:pt x="86" y="14"/>
                  </a:lnTo>
                  <a:lnTo>
                    <a:pt x="77" y="19"/>
                  </a:lnTo>
                  <a:lnTo>
                    <a:pt x="69" y="25"/>
                  </a:lnTo>
                  <a:lnTo>
                    <a:pt x="66" y="33"/>
                  </a:lnTo>
                  <a:lnTo>
                    <a:pt x="66" y="22"/>
                  </a:lnTo>
                  <a:lnTo>
                    <a:pt x="66" y="11"/>
                  </a:lnTo>
                  <a:lnTo>
                    <a:pt x="63" y="2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34" y="11"/>
                  </a:lnTo>
                  <a:lnTo>
                    <a:pt x="23" y="16"/>
                  </a:lnTo>
                  <a:lnTo>
                    <a:pt x="17" y="25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23" y="48"/>
                  </a:lnTo>
                  <a:lnTo>
                    <a:pt x="31" y="48"/>
                  </a:lnTo>
                  <a:lnTo>
                    <a:pt x="40" y="42"/>
                  </a:lnTo>
                  <a:lnTo>
                    <a:pt x="51" y="45"/>
                  </a:lnTo>
                  <a:lnTo>
                    <a:pt x="57" y="53"/>
                  </a:lnTo>
                  <a:lnTo>
                    <a:pt x="60" y="62"/>
                  </a:lnTo>
                  <a:lnTo>
                    <a:pt x="51" y="65"/>
                  </a:lnTo>
                  <a:lnTo>
                    <a:pt x="40" y="65"/>
                  </a:lnTo>
                  <a:lnTo>
                    <a:pt x="28" y="59"/>
                  </a:lnTo>
                  <a:lnTo>
                    <a:pt x="17" y="59"/>
                  </a:lnTo>
                  <a:lnTo>
                    <a:pt x="8" y="65"/>
                  </a:lnTo>
                  <a:lnTo>
                    <a:pt x="8" y="76"/>
                  </a:lnTo>
                  <a:lnTo>
                    <a:pt x="11" y="87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20" y="96"/>
                  </a:lnTo>
                  <a:lnTo>
                    <a:pt x="11" y="96"/>
                  </a:lnTo>
                  <a:lnTo>
                    <a:pt x="0" y="101"/>
                  </a:lnTo>
                  <a:lnTo>
                    <a:pt x="5" y="113"/>
                  </a:lnTo>
                  <a:lnTo>
                    <a:pt x="5" y="121"/>
                  </a:lnTo>
                  <a:lnTo>
                    <a:pt x="5" y="130"/>
                  </a:lnTo>
                  <a:lnTo>
                    <a:pt x="0" y="1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95760" y="2171880"/>
              <a:ext cx="220680" cy="18072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31" y="53"/>
                  </a:moveTo>
                  <a:lnTo>
                    <a:pt x="25" y="64"/>
                  </a:lnTo>
                  <a:lnTo>
                    <a:pt x="31" y="53"/>
                  </a:lnTo>
                  <a:lnTo>
                    <a:pt x="43" y="56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1" y="42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7" y="79"/>
                  </a:lnTo>
                  <a:lnTo>
                    <a:pt x="23" y="90"/>
                  </a:lnTo>
                  <a:lnTo>
                    <a:pt x="25" y="98"/>
                  </a:lnTo>
                  <a:lnTo>
                    <a:pt x="31" y="107"/>
                  </a:lnTo>
                  <a:lnTo>
                    <a:pt x="34" y="98"/>
                  </a:lnTo>
                  <a:lnTo>
                    <a:pt x="34" y="90"/>
                  </a:lnTo>
                  <a:lnTo>
                    <a:pt x="43" y="90"/>
                  </a:lnTo>
                  <a:lnTo>
                    <a:pt x="54" y="93"/>
                  </a:lnTo>
                  <a:lnTo>
                    <a:pt x="63" y="96"/>
                  </a:lnTo>
                  <a:lnTo>
                    <a:pt x="71" y="96"/>
                  </a:lnTo>
                  <a:lnTo>
                    <a:pt x="80" y="87"/>
                  </a:lnTo>
                  <a:lnTo>
                    <a:pt x="89" y="87"/>
                  </a:lnTo>
                  <a:lnTo>
                    <a:pt x="97" y="93"/>
                  </a:lnTo>
                  <a:lnTo>
                    <a:pt x="103" y="107"/>
                  </a:lnTo>
                  <a:lnTo>
                    <a:pt x="112" y="110"/>
                  </a:lnTo>
                  <a:lnTo>
                    <a:pt x="120" y="113"/>
                  </a:lnTo>
                  <a:lnTo>
                    <a:pt x="126" y="104"/>
                  </a:lnTo>
                  <a:lnTo>
                    <a:pt x="123" y="96"/>
                  </a:lnTo>
                  <a:lnTo>
                    <a:pt x="115" y="90"/>
                  </a:lnTo>
                  <a:lnTo>
                    <a:pt x="106" y="87"/>
                  </a:lnTo>
                  <a:lnTo>
                    <a:pt x="94" y="81"/>
                  </a:lnTo>
                  <a:lnTo>
                    <a:pt x="92" y="73"/>
                  </a:lnTo>
                  <a:lnTo>
                    <a:pt x="103" y="70"/>
                  </a:lnTo>
                  <a:lnTo>
                    <a:pt x="112" y="70"/>
                  </a:lnTo>
                  <a:lnTo>
                    <a:pt x="115" y="62"/>
                  </a:lnTo>
                  <a:lnTo>
                    <a:pt x="120" y="53"/>
                  </a:lnTo>
                  <a:lnTo>
                    <a:pt x="129" y="48"/>
                  </a:lnTo>
                  <a:lnTo>
                    <a:pt x="138" y="39"/>
                  </a:lnTo>
                  <a:lnTo>
                    <a:pt x="129" y="33"/>
                  </a:lnTo>
                  <a:lnTo>
                    <a:pt x="120" y="31"/>
                  </a:lnTo>
                  <a:lnTo>
                    <a:pt x="112" y="33"/>
                  </a:lnTo>
                  <a:lnTo>
                    <a:pt x="106" y="42"/>
                  </a:lnTo>
                  <a:lnTo>
                    <a:pt x="97" y="45"/>
                  </a:lnTo>
                  <a:lnTo>
                    <a:pt x="97" y="36"/>
                  </a:lnTo>
                  <a:lnTo>
                    <a:pt x="100" y="25"/>
                  </a:lnTo>
                  <a:lnTo>
                    <a:pt x="100" y="16"/>
                  </a:lnTo>
                  <a:lnTo>
                    <a:pt x="103" y="8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80" y="8"/>
                  </a:lnTo>
                  <a:lnTo>
                    <a:pt x="77" y="16"/>
                  </a:lnTo>
                  <a:lnTo>
                    <a:pt x="74" y="25"/>
                  </a:lnTo>
                  <a:lnTo>
                    <a:pt x="69" y="33"/>
                  </a:lnTo>
                  <a:lnTo>
                    <a:pt x="60" y="39"/>
                  </a:lnTo>
                  <a:lnTo>
                    <a:pt x="51" y="48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0" y="73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23" y="64"/>
                  </a:lnTo>
                  <a:lnTo>
                    <a:pt x="31" y="64"/>
                  </a:lnTo>
                  <a:lnTo>
                    <a:pt x="31" y="53"/>
                  </a:lnTo>
                  <a:lnTo>
                    <a:pt x="28" y="4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77" y="53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05520" y="2079720"/>
              <a:ext cx="298440" cy="156960"/>
            </a:xfrm>
            <a:custGeom>
              <a:avLst/>
              <a:gdLst/>
              <a:ahLst/>
              <a:rect l="l" t="t" r="r" b="b"/>
              <a:pathLst>
                <a:path w="188" h="99">
                  <a:moveTo>
                    <a:pt x="0" y="17"/>
                  </a:moveTo>
                  <a:lnTo>
                    <a:pt x="25" y="25"/>
                  </a:lnTo>
                  <a:lnTo>
                    <a:pt x="37" y="25"/>
                  </a:lnTo>
                  <a:lnTo>
                    <a:pt x="43" y="34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63" y="69"/>
                  </a:lnTo>
                  <a:lnTo>
                    <a:pt x="63" y="80"/>
                  </a:lnTo>
                  <a:lnTo>
                    <a:pt x="71" y="83"/>
                  </a:lnTo>
                  <a:lnTo>
                    <a:pt x="80" y="77"/>
                  </a:lnTo>
                  <a:lnTo>
                    <a:pt x="89" y="77"/>
                  </a:lnTo>
                  <a:lnTo>
                    <a:pt x="97" y="77"/>
                  </a:lnTo>
                  <a:lnTo>
                    <a:pt x="106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5" y="74"/>
                  </a:lnTo>
                  <a:lnTo>
                    <a:pt x="143" y="77"/>
                  </a:lnTo>
                  <a:lnTo>
                    <a:pt x="152" y="86"/>
                  </a:lnTo>
                  <a:lnTo>
                    <a:pt x="163" y="98"/>
                  </a:lnTo>
                  <a:lnTo>
                    <a:pt x="169" y="89"/>
                  </a:lnTo>
                  <a:lnTo>
                    <a:pt x="175" y="80"/>
                  </a:lnTo>
                  <a:lnTo>
                    <a:pt x="181" y="72"/>
                  </a:lnTo>
                  <a:lnTo>
                    <a:pt x="187" y="60"/>
                  </a:lnTo>
                  <a:lnTo>
                    <a:pt x="187" y="51"/>
                  </a:lnTo>
                  <a:lnTo>
                    <a:pt x="187" y="43"/>
                  </a:lnTo>
                  <a:lnTo>
                    <a:pt x="181" y="34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5" y="34"/>
                  </a:lnTo>
                  <a:lnTo>
                    <a:pt x="146" y="34"/>
                  </a:lnTo>
                  <a:lnTo>
                    <a:pt x="138" y="31"/>
                  </a:lnTo>
                  <a:lnTo>
                    <a:pt x="129" y="40"/>
                  </a:lnTo>
                  <a:lnTo>
                    <a:pt x="129" y="49"/>
                  </a:lnTo>
                  <a:lnTo>
                    <a:pt x="129" y="57"/>
                  </a:lnTo>
                  <a:lnTo>
                    <a:pt x="120" y="51"/>
                  </a:lnTo>
                  <a:lnTo>
                    <a:pt x="109" y="43"/>
                  </a:lnTo>
                  <a:lnTo>
                    <a:pt x="100" y="34"/>
                  </a:lnTo>
                  <a:lnTo>
                    <a:pt x="86" y="25"/>
                  </a:lnTo>
                  <a:lnTo>
                    <a:pt x="83" y="37"/>
                  </a:lnTo>
                  <a:lnTo>
                    <a:pt x="74" y="40"/>
                  </a:lnTo>
                  <a:lnTo>
                    <a:pt x="74" y="31"/>
                  </a:lnTo>
                  <a:lnTo>
                    <a:pt x="69" y="23"/>
                  </a:lnTo>
                  <a:lnTo>
                    <a:pt x="60" y="17"/>
                  </a:lnTo>
                  <a:lnTo>
                    <a:pt x="51" y="8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8" y="8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0" y="1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74960" y="2954160"/>
              <a:ext cx="680760" cy="700200"/>
            </a:xfrm>
            <a:custGeom>
              <a:avLst/>
              <a:gdLst/>
              <a:ahLst/>
              <a:rect l="l" t="t" r="r" b="b"/>
              <a:pathLst>
                <a:path w="429" h="441">
                  <a:moveTo>
                    <a:pt x="22" y="309"/>
                  </a:moveTo>
                  <a:lnTo>
                    <a:pt x="34" y="315"/>
                  </a:lnTo>
                  <a:lnTo>
                    <a:pt x="43" y="318"/>
                  </a:lnTo>
                  <a:lnTo>
                    <a:pt x="51" y="321"/>
                  </a:lnTo>
                  <a:lnTo>
                    <a:pt x="54" y="333"/>
                  </a:lnTo>
                  <a:lnTo>
                    <a:pt x="63" y="342"/>
                  </a:lnTo>
                  <a:lnTo>
                    <a:pt x="71" y="348"/>
                  </a:lnTo>
                  <a:lnTo>
                    <a:pt x="80" y="348"/>
                  </a:lnTo>
                  <a:lnTo>
                    <a:pt x="91" y="355"/>
                  </a:lnTo>
                  <a:lnTo>
                    <a:pt x="100" y="361"/>
                  </a:lnTo>
                  <a:lnTo>
                    <a:pt x="109" y="364"/>
                  </a:lnTo>
                  <a:lnTo>
                    <a:pt x="112" y="373"/>
                  </a:lnTo>
                  <a:lnTo>
                    <a:pt x="117" y="382"/>
                  </a:lnTo>
                  <a:lnTo>
                    <a:pt x="123" y="391"/>
                  </a:lnTo>
                  <a:lnTo>
                    <a:pt x="132" y="397"/>
                  </a:lnTo>
                  <a:lnTo>
                    <a:pt x="146" y="406"/>
                  </a:lnTo>
                  <a:lnTo>
                    <a:pt x="155" y="412"/>
                  </a:lnTo>
                  <a:lnTo>
                    <a:pt x="163" y="418"/>
                  </a:lnTo>
                  <a:lnTo>
                    <a:pt x="172" y="421"/>
                  </a:lnTo>
                  <a:lnTo>
                    <a:pt x="180" y="430"/>
                  </a:lnTo>
                  <a:lnTo>
                    <a:pt x="189" y="436"/>
                  </a:lnTo>
                  <a:lnTo>
                    <a:pt x="198" y="440"/>
                  </a:lnTo>
                  <a:lnTo>
                    <a:pt x="203" y="430"/>
                  </a:lnTo>
                  <a:lnTo>
                    <a:pt x="203" y="421"/>
                  </a:lnTo>
                  <a:lnTo>
                    <a:pt x="203" y="412"/>
                  </a:lnTo>
                  <a:lnTo>
                    <a:pt x="215" y="406"/>
                  </a:lnTo>
                  <a:lnTo>
                    <a:pt x="224" y="406"/>
                  </a:lnTo>
                  <a:lnTo>
                    <a:pt x="232" y="406"/>
                  </a:lnTo>
                  <a:lnTo>
                    <a:pt x="241" y="406"/>
                  </a:lnTo>
                  <a:lnTo>
                    <a:pt x="249" y="406"/>
                  </a:lnTo>
                  <a:lnTo>
                    <a:pt x="258" y="406"/>
                  </a:lnTo>
                  <a:lnTo>
                    <a:pt x="261" y="397"/>
                  </a:lnTo>
                  <a:lnTo>
                    <a:pt x="261" y="388"/>
                  </a:lnTo>
                  <a:lnTo>
                    <a:pt x="261" y="379"/>
                  </a:lnTo>
                  <a:lnTo>
                    <a:pt x="261" y="367"/>
                  </a:lnTo>
                  <a:lnTo>
                    <a:pt x="261" y="355"/>
                  </a:lnTo>
                  <a:lnTo>
                    <a:pt x="252" y="348"/>
                  </a:lnTo>
                  <a:lnTo>
                    <a:pt x="244" y="348"/>
                  </a:lnTo>
                  <a:lnTo>
                    <a:pt x="235" y="342"/>
                  </a:lnTo>
                  <a:lnTo>
                    <a:pt x="229" y="333"/>
                  </a:lnTo>
                  <a:lnTo>
                    <a:pt x="229" y="324"/>
                  </a:lnTo>
                  <a:lnTo>
                    <a:pt x="238" y="321"/>
                  </a:lnTo>
                  <a:lnTo>
                    <a:pt x="247" y="315"/>
                  </a:lnTo>
                  <a:lnTo>
                    <a:pt x="255" y="312"/>
                  </a:lnTo>
                  <a:lnTo>
                    <a:pt x="261" y="303"/>
                  </a:lnTo>
                  <a:lnTo>
                    <a:pt x="261" y="294"/>
                  </a:lnTo>
                  <a:lnTo>
                    <a:pt x="264" y="285"/>
                  </a:lnTo>
                  <a:lnTo>
                    <a:pt x="264" y="276"/>
                  </a:lnTo>
                  <a:lnTo>
                    <a:pt x="267" y="267"/>
                  </a:lnTo>
                  <a:lnTo>
                    <a:pt x="272" y="257"/>
                  </a:lnTo>
                  <a:lnTo>
                    <a:pt x="278" y="248"/>
                  </a:lnTo>
                  <a:lnTo>
                    <a:pt x="284" y="239"/>
                  </a:lnTo>
                  <a:lnTo>
                    <a:pt x="284" y="230"/>
                  </a:lnTo>
                  <a:lnTo>
                    <a:pt x="284" y="221"/>
                  </a:lnTo>
                  <a:lnTo>
                    <a:pt x="284" y="209"/>
                  </a:lnTo>
                  <a:lnTo>
                    <a:pt x="292" y="200"/>
                  </a:lnTo>
                  <a:lnTo>
                    <a:pt x="295" y="191"/>
                  </a:lnTo>
                  <a:lnTo>
                    <a:pt x="298" y="182"/>
                  </a:lnTo>
                  <a:lnTo>
                    <a:pt x="301" y="172"/>
                  </a:lnTo>
                  <a:lnTo>
                    <a:pt x="292" y="163"/>
                  </a:lnTo>
                  <a:lnTo>
                    <a:pt x="284" y="154"/>
                  </a:lnTo>
                  <a:lnTo>
                    <a:pt x="278" y="145"/>
                  </a:lnTo>
                  <a:lnTo>
                    <a:pt x="287" y="142"/>
                  </a:lnTo>
                  <a:lnTo>
                    <a:pt x="295" y="142"/>
                  </a:lnTo>
                  <a:lnTo>
                    <a:pt x="304" y="148"/>
                  </a:lnTo>
                  <a:lnTo>
                    <a:pt x="313" y="157"/>
                  </a:lnTo>
                  <a:lnTo>
                    <a:pt x="321" y="163"/>
                  </a:lnTo>
                  <a:lnTo>
                    <a:pt x="327" y="154"/>
                  </a:lnTo>
                  <a:lnTo>
                    <a:pt x="336" y="148"/>
                  </a:lnTo>
                  <a:lnTo>
                    <a:pt x="344" y="148"/>
                  </a:lnTo>
                  <a:lnTo>
                    <a:pt x="353" y="145"/>
                  </a:lnTo>
                  <a:lnTo>
                    <a:pt x="361" y="142"/>
                  </a:lnTo>
                  <a:lnTo>
                    <a:pt x="361" y="133"/>
                  </a:lnTo>
                  <a:lnTo>
                    <a:pt x="361" y="124"/>
                  </a:lnTo>
                  <a:lnTo>
                    <a:pt x="361" y="115"/>
                  </a:lnTo>
                  <a:lnTo>
                    <a:pt x="359" y="106"/>
                  </a:lnTo>
                  <a:lnTo>
                    <a:pt x="353" y="97"/>
                  </a:lnTo>
                  <a:lnTo>
                    <a:pt x="344" y="88"/>
                  </a:lnTo>
                  <a:lnTo>
                    <a:pt x="333" y="81"/>
                  </a:lnTo>
                  <a:lnTo>
                    <a:pt x="341" y="75"/>
                  </a:lnTo>
                  <a:lnTo>
                    <a:pt x="353" y="75"/>
                  </a:lnTo>
                  <a:lnTo>
                    <a:pt x="361" y="75"/>
                  </a:lnTo>
                  <a:lnTo>
                    <a:pt x="370" y="75"/>
                  </a:lnTo>
                  <a:lnTo>
                    <a:pt x="379" y="72"/>
                  </a:lnTo>
                  <a:lnTo>
                    <a:pt x="387" y="69"/>
                  </a:lnTo>
                  <a:lnTo>
                    <a:pt x="396" y="69"/>
                  </a:lnTo>
                  <a:lnTo>
                    <a:pt x="405" y="72"/>
                  </a:lnTo>
                  <a:lnTo>
                    <a:pt x="419" y="75"/>
                  </a:lnTo>
                  <a:lnTo>
                    <a:pt x="428" y="75"/>
                  </a:lnTo>
                  <a:lnTo>
                    <a:pt x="425" y="66"/>
                  </a:lnTo>
                  <a:lnTo>
                    <a:pt x="422" y="57"/>
                  </a:lnTo>
                  <a:lnTo>
                    <a:pt x="419" y="48"/>
                  </a:lnTo>
                  <a:lnTo>
                    <a:pt x="410" y="48"/>
                  </a:lnTo>
                  <a:lnTo>
                    <a:pt x="402" y="48"/>
                  </a:lnTo>
                  <a:lnTo>
                    <a:pt x="390" y="48"/>
                  </a:lnTo>
                  <a:lnTo>
                    <a:pt x="382" y="48"/>
                  </a:lnTo>
                  <a:lnTo>
                    <a:pt x="379" y="57"/>
                  </a:lnTo>
                  <a:lnTo>
                    <a:pt x="370" y="54"/>
                  </a:lnTo>
                  <a:lnTo>
                    <a:pt x="361" y="45"/>
                  </a:lnTo>
                  <a:lnTo>
                    <a:pt x="353" y="39"/>
                  </a:lnTo>
                  <a:lnTo>
                    <a:pt x="341" y="39"/>
                  </a:lnTo>
                  <a:lnTo>
                    <a:pt x="333" y="39"/>
                  </a:lnTo>
                  <a:lnTo>
                    <a:pt x="318" y="39"/>
                  </a:lnTo>
                  <a:lnTo>
                    <a:pt x="310" y="39"/>
                  </a:lnTo>
                  <a:lnTo>
                    <a:pt x="298" y="42"/>
                  </a:lnTo>
                  <a:lnTo>
                    <a:pt x="290" y="42"/>
                  </a:lnTo>
                  <a:lnTo>
                    <a:pt x="290" y="33"/>
                  </a:lnTo>
                  <a:lnTo>
                    <a:pt x="298" y="30"/>
                  </a:lnTo>
                  <a:lnTo>
                    <a:pt x="307" y="30"/>
                  </a:lnTo>
                  <a:lnTo>
                    <a:pt x="315" y="27"/>
                  </a:lnTo>
                  <a:lnTo>
                    <a:pt x="324" y="24"/>
                  </a:lnTo>
                  <a:lnTo>
                    <a:pt x="327" y="15"/>
                  </a:lnTo>
                  <a:lnTo>
                    <a:pt x="327" y="6"/>
                  </a:lnTo>
                  <a:lnTo>
                    <a:pt x="318" y="3"/>
                  </a:lnTo>
                  <a:lnTo>
                    <a:pt x="310" y="3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3"/>
                  </a:lnTo>
                  <a:lnTo>
                    <a:pt x="275" y="12"/>
                  </a:lnTo>
                  <a:lnTo>
                    <a:pt x="267" y="18"/>
                  </a:lnTo>
                  <a:lnTo>
                    <a:pt x="258" y="21"/>
                  </a:lnTo>
                  <a:lnTo>
                    <a:pt x="255" y="30"/>
                  </a:lnTo>
                  <a:lnTo>
                    <a:pt x="264" y="36"/>
                  </a:lnTo>
                  <a:lnTo>
                    <a:pt x="272" y="36"/>
                  </a:lnTo>
                  <a:lnTo>
                    <a:pt x="278" y="45"/>
                  </a:lnTo>
                  <a:lnTo>
                    <a:pt x="270" y="54"/>
                  </a:lnTo>
                  <a:lnTo>
                    <a:pt x="267" y="63"/>
                  </a:lnTo>
                  <a:lnTo>
                    <a:pt x="281" y="75"/>
                  </a:lnTo>
                  <a:lnTo>
                    <a:pt x="290" y="78"/>
                  </a:lnTo>
                  <a:lnTo>
                    <a:pt x="281" y="75"/>
                  </a:lnTo>
                  <a:lnTo>
                    <a:pt x="270" y="66"/>
                  </a:lnTo>
                  <a:lnTo>
                    <a:pt x="261" y="60"/>
                  </a:lnTo>
                  <a:lnTo>
                    <a:pt x="252" y="51"/>
                  </a:lnTo>
                  <a:lnTo>
                    <a:pt x="244" y="51"/>
                  </a:lnTo>
                  <a:lnTo>
                    <a:pt x="241" y="60"/>
                  </a:lnTo>
                  <a:lnTo>
                    <a:pt x="241" y="69"/>
                  </a:lnTo>
                  <a:lnTo>
                    <a:pt x="255" y="78"/>
                  </a:lnTo>
                  <a:lnTo>
                    <a:pt x="264" y="81"/>
                  </a:lnTo>
                  <a:lnTo>
                    <a:pt x="255" y="88"/>
                  </a:lnTo>
                  <a:lnTo>
                    <a:pt x="244" y="88"/>
                  </a:lnTo>
                  <a:lnTo>
                    <a:pt x="235" y="88"/>
                  </a:lnTo>
                  <a:lnTo>
                    <a:pt x="235" y="103"/>
                  </a:lnTo>
                  <a:lnTo>
                    <a:pt x="244" y="106"/>
                  </a:lnTo>
                  <a:lnTo>
                    <a:pt x="252" y="109"/>
                  </a:lnTo>
                  <a:lnTo>
                    <a:pt x="244" y="115"/>
                  </a:lnTo>
                  <a:lnTo>
                    <a:pt x="235" y="112"/>
                  </a:lnTo>
                  <a:lnTo>
                    <a:pt x="226" y="109"/>
                  </a:lnTo>
                  <a:lnTo>
                    <a:pt x="218" y="106"/>
                  </a:lnTo>
                  <a:lnTo>
                    <a:pt x="212" y="115"/>
                  </a:lnTo>
                  <a:lnTo>
                    <a:pt x="218" y="124"/>
                  </a:lnTo>
                  <a:lnTo>
                    <a:pt x="229" y="127"/>
                  </a:lnTo>
                  <a:lnTo>
                    <a:pt x="238" y="130"/>
                  </a:lnTo>
                  <a:lnTo>
                    <a:pt x="229" y="124"/>
                  </a:lnTo>
                  <a:lnTo>
                    <a:pt x="221" y="121"/>
                  </a:lnTo>
                  <a:lnTo>
                    <a:pt x="209" y="115"/>
                  </a:lnTo>
                  <a:lnTo>
                    <a:pt x="198" y="106"/>
                  </a:lnTo>
                  <a:lnTo>
                    <a:pt x="192" y="97"/>
                  </a:lnTo>
                  <a:lnTo>
                    <a:pt x="183" y="91"/>
                  </a:lnTo>
                  <a:lnTo>
                    <a:pt x="180" y="81"/>
                  </a:lnTo>
                  <a:lnTo>
                    <a:pt x="178" y="72"/>
                  </a:lnTo>
                  <a:lnTo>
                    <a:pt x="169" y="60"/>
                  </a:lnTo>
                  <a:lnTo>
                    <a:pt x="160" y="60"/>
                  </a:lnTo>
                  <a:lnTo>
                    <a:pt x="152" y="66"/>
                  </a:lnTo>
                  <a:lnTo>
                    <a:pt x="149" y="75"/>
                  </a:lnTo>
                  <a:lnTo>
                    <a:pt x="146" y="84"/>
                  </a:lnTo>
                  <a:lnTo>
                    <a:pt x="143" y="94"/>
                  </a:lnTo>
                  <a:lnTo>
                    <a:pt x="140" y="103"/>
                  </a:lnTo>
                  <a:lnTo>
                    <a:pt x="129" y="103"/>
                  </a:lnTo>
                  <a:lnTo>
                    <a:pt x="117" y="94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0" y="60"/>
                  </a:lnTo>
                  <a:lnTo>
                    <a:pt x="89" y="60"/>
                  </a:lnTo>
                  <a:lnTo>
                    <a:pt x="80" y="66"/>
                  </a:lnTo>
                  <a:lnTo>
                    <a:pt x="77" y="75"/>
                  </a:lnTo>
                  <a:lnTo>
                    <a:pt x="71" y="84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63" y="106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51" y="127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60" y="127"/>
                  </a:lnTo>
                  <a:lnTo>
                    <a:pt x="51" y="121"/>
                  </a:lnTo>
                  <a:lnTo>
                    <a:pt x="43" y="118"/>
                  </a:lnTo>
                  <a:lnTo>
                    <a:pt x="31" y="115"/>
                  </a:lnTo>
                  <a:lnTo>
                    <a:pt x="22" y="115"/>
                  </a:lnTo>
                  <a:lnTo>
                    <a:pt x="14" y="115"/>
                  </a:lnTo>
                  <a:lnTo>
                    <a:pt x="11" y="124"/>
                  </a:lnTo>
                  <a:lnTo>
                    <a:pt x="8" y="133"/>
                  </a:lnTo>
                  <a:lnTo>
                    <a:pt x="2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4" y="169"/>
                  </a:lnTo>
                  <a:lnTo>
                    <a:pt x="22" y="172"/>
                  </a:lnTo>
                  <a:lnTo>
                    <a:pt x="31" y="172"/>
                  </a:lnTo>
                  <a:lnTo>
                    <a:pt x="40" y="176"/>
                  </a:lnTo>
                  <a:lnTo>
                    <a:pt x="51" y="185"/>
                  </a:lnTo>
                  <a:lnTo>
                    <a:pt x="60" y="191"/>
                  </a:lnTo>
                  <a:lnTo>
                    <a:pt x="68" y="197"/>
                  </a:lnTo>
                  <a:lnTo>
                    <a:pt x="80" y="200"/>
                  </a:lnTo>
                  <a:lnTo>
                    <a:pt x="89" y="203"/>
                  </a:lnTo>
                  <a:lnTo>
                    <a:pt x="100" y="203"/>
                  </a:lnTo>
                  <a:lnTo>
                    <a:pt x="109" y="203"/>
                  </a:lnTo>
                  <a:lnTo>
                    <a:pt x="120" y="197"/>
                  </a:lnTo>
                  <a:lnTo>
                    <a:pt x="129" y="194"/>
                  </a:lnTo>
                  <a:lnTo>
                    <a:pt x="135" y="185"/>
                  </a:lnTo>
                  <a:lnTo>
                    <a:pt x="143" y="179"/>
                  </a:lnTo>
                  <a:lnTo>
                    <a:pt x="149" y="169"/>
                  </a:lnTo>
                  <a:lnTo>
                    <a:pt x="157" y="163"/>
                  </a:lnTo>
                  <a:lnTo>
                    <a:pt x="166" y="163"/>
                  </a:lnTo>
                  <a:lnTo>
                    <a:pt x="175" y="166"/>
                  </a:lnTo>
                  <a:lnTo>
                    <a:pt x="183" y="166"/>
                  </a:lnTo>
                  <a:lnTo>
                    <a:pt x="192" y="157"/>
                  </a:lnTo>
                  <a:lnTo>
                    <a:pt x="198" y="148"/>
                  </a:lnTo>
                  <a:lnTo>
                    <a:pt x="201" y="139"/>
                  </a:lnTo>
                  <a:lnTo>
                    <a:pt x="203" y="130"/>
                  </a:lnTo>
                  <a:lnTo>
                    <a:pt x="212" y="130"/>
                  </a:lnTo>
                  <a:lnTo>
                    <a:pt x="224" y="136"/>
                  </a:lnTo>
                  <a:lnTo>
                    <a:pt x="232" y="139"/>
                  </a:lnTo>
                  <a:lnTo>
                    <a:pt x="241" y="142"/>
                  </a:lnTo>
                  <a:lnTo>
                    <a:pt x="232" y="142"/>
                  </a:lnTo>
                  <a:lnTo>
                    <a:pt x="224" y="142"/>
                  </a:lnTo>
                  <a:lnTo>
                    <a:pt x="215" y="142"/>
                  </a:lnTo>
                  <a:lnTo>
                    <a:pt x="206" y="142"/>
                  </a:lnTo>
                  <a:lnTo>
                    <a:pt x="203" y="151"/>
                  </a:lnTo>
                  <a:lnTo>
                    <a:pt x="201" y="160"/>
                  </a:lnTo>
                  <a:lnTo>
                    <a:pt x="201" y="169"/>
                  </a:lnTo>
                  <a:lnTo>
                    <a:pt x="209" y="176"/>
                  </a:lnTo>
                  <a:lnTo>
                    <a:pt x="218" y="179"/>
                  </a:lnTo>
                  <a:lnTo>
                    <a:pt x="226" y="188"/>
                  </a:lnTo>
                  <a:lnTo>
                    <a:pt x="235" y="194"/>
                  </a:lnTo>
                  <a:lnTo>
                    <a:pt x="238" y="203"/>
                  </a:lnTo>
                  <a:lnTo>
                    <a:pt x="226" y="206"/>
                  </a:lnTo>
                  <a:lnTo>
                    <a:pt x="224" y="215"/>
                  </a:lnTo>
                  <a:lnTo>
                    <a:pt x="224" y="224"/>
                  </a:lnTo>
                  <a:lnTo>
                    <a:pt x="221" y="233"/>
                  </a:lnTo>
                  <a:lnTo>
                    <a:pt x="209" y="233"/>
                  </a:lnTo>
                  <a:lnTo>
                    <a:pt x="203" y="245"/>
                  </a:lnTo>
                  <a:lnTo>
                    <a:pt x="198" y="257"/>
                  </a:lnTo>
                  <a:lnTo>
                    <a:pt x="195" y="267"/>
                  </a:lnTo>
                  <a:lnTo>
                    <a:pt x="186" y="267"/>
                  </a:lnTo>
                  <a:lnTo>
                    <a:pt x="183" y="257"/>
                  </a:lnTo>
                  <a:lnTo>
                    <a:pt x="178" y="245"/>
                  </a:lnTo>
                  <a:lnTo>
                    <a:pt x="175" y="233"/>
                  </a:lnTo>
                  <a:lnTo>
                    <a:pt x="166" y="224"/>
                  </a:lnTo>
                  <a:lnTo>
                    <a:pt x="157" y="221"/>
                  </a:lnTo>
                  <a:lnTo>
                    <a:pt x="149" y="218"/>
                  </a:lnTo>
                  <a:lnTo>
                    <a:pt x="137" y="224"/>
                  </a:lnTo>
                  <a:lnTo>
                    <a:pt x="140" y="236"/>
                  </a:lnTo>
                  <a:lnTo>
                    <a:pt x="143" y="245"/>
                  </a:lnTo>
                  <a:lnTo>
                    <a:pt x="143" y="254"/>
                  </a:lnTo>
                  <a:lnTo>
                    <a:pt x="135" y="260"/>
                  </a:lnTo>
                  <a:lnTo>
                    <a:pt x="126" y="260"/>
                  </a:lnTo>
                  <a:lnTo>
                    <a:pt x="114" y="257"/>
                  </a:lnTo>
                  <a:lnTo>
                    <a:pt x="106" y="257"/>
                  </a:lnTo>
                  <a:lnTo>
                    <a:pt x="97" y="257"/>
                  </a:lnTo>
                  <a:lnTo>
                    <a:pt x="89" y="257"/>
                  </a:lnTo>
                  <a:lnTo>
                    <a:pt x="91" y="267"/>
                  </a:lnTo>
                  <a:lnTo>
                    <a:pt x="100" y="276"/>
                  </a:lnTo>
                  <a:lnTo>
                    <a:pt x="100" y="285"/>
                  </a:lnTo>
                  <a:lnTo>
                    <a:pt x="97" y="294"/>
                  </a:lnTo>
                  <a:lnTo>
                    <a:pt x="97" y="303"/>
                  </a:lnTo>
                  <a:lnTo>
                    <a:pt x="109" y="312"/>
                  </a:lnTo>
                  <a:lnTo>
                    <a:pt x="117" y="318"/>
                  </a:lnTo>
                  <a:lnTo>
                    <a:pt x="109" y="318"/>
                  </a:lnTo>
                  <a:lnTo>
                    <a:pt x="100" y="309"/>
                  </a:lnTo>
                  <a:lnTo>
                    <a:pt x="89" y="300"/>
                  </a:lnTo>
                  <a:lnTo>
                    <a:pt x="80" y="297"/>
                  </a:lnTo>
                  <a:lnTo>
                    <a:pt x="71" y="297"/>
                  </a:lnTo>
                  <a:lnTo>
                    <a:pt x="63" y="300"/>
                  </a:lnTo>
                  <a:lnTo>
                    <a:pt x="54" y="306"/>
                  </a:lnTo>
                  <a:lnTo>
                    <a:pt x="43" y="306"/>
                  </a:lnTo>
                  <a:lnTo>
                    <a:pt x="34" y="306"/>
                  </a:lnTo>
                  <a:lnTo>
                    <a:pt x="22" y="309"/>
                  </a:lnTo>
                  <a:lnTo>
                    <a:pt x="11" y="303"/>
                  </a:lnTo>
                  <a:lnTo>
                    <a:pt x="22" y="309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43200" y="270828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2"/>
                  </a:moveTo>
                  <a:lnTo>
                    <a:pt x="8" y="19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34" y="22"/>
                  </a:lnTo>
                  <a:lnTo>
                    <a:pt x="40" y="13"/>
                  </a:lnTo>
                  <a:lnTo>
                    <a:pt x="34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76680" y="294012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5" y="0"/>
                  </a:moveTo>
                  <a:lnTo>
                    <a:pt x="20" y="13"/>
                  </a:lnTo>
                  <a:lnTo>
                    <a:pt x="11" y="16"/>
                  </a:lnTo>
                  <a:lnTo>
                    <a:pt x="8" y="24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4" y="30"/>
                  </a:lnTo>
                  <a:lnTo>
                    <a:pt x="40" y="21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25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10160" y="2549520"/>
              <a:ext cx="339840" cy="509760"/>
            </a:xfrm>
            <a:custGeom>
              <a:avLst/>
              <a:gdLst/>
              <a:ahLst/>
              <a:rect l="l" t="t" r="r" b="b"/>
              <a:pathLst>
                <a:path w="214" h="321">
                  <a:moveTo>
                    <a:pt x="23" y="200"/>
                  </a:moveTo>
                  <a:lnTo>
                    <a:pt x="34" y="182"/>
                  </a:lnTo>
                  <a:lnTo>
                    <a:pt x="23" y="200"/>
                  </a:lnTo>
                  <a:lnTo>
                    <a:pt x="23" y="211"/>
                  </a:lnTo>
                  <a:lnTo>
                    <a:pt x="20" y="220"/>
                  </a:lnTo>
                  <a:lnTo>
                    <a:pt x="17" y="228"/>
                  </a:lnTo>
                  <a:lnTo>
                    <a:pt x="8" y="234"/>
                  </a:lnTo>
                  <a:lnTo>
                    <a:pt x="2" y="242"/>
                  </a:lnTo>
                  <a:lnTo>
                    <a:pt x="0" y="251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8" y="268"/>
                  </a:lnTo>
                  <a:lnTo>
                    <a:pt x="17" y="268"/>
                  </a:lnTo>
                  <a:lnTo>
                    <a:pt x="25" y="271"/>
                  </a:lnTo>
                  <a:lnTo>
                    <a:pt x="28" y="280"/>
                  </a:lnTo>
                  <a:lnTo>
                    <a:pt x="37" y="291"/>
                  </a:lnTo>
                  <a:lnTo>
                    <a:pt x="28" y="294"/>
                  </a:lnTo>
                  <a:lnTo>
                    <a:pt x="20" y="285"/>
                  </a:lnTo>
                  <a:lnTo>
                    <a:pt x="31" y="294"/>
                  </a:lnTo>
                  <a:lnTo>
                    <a:pt x="40" y="300"/>
                  </a:lnTo>
                  <a:lnTo>
                    <a:pt x="48" y="311"/>
                  </a:lnTo>
                  <a:lnTo>
                    <a:pt x="57" y="314"/>
                  </a:lnTo>
                  <a:lnTo>
                    <a:pt x="66" y="320"/>
                  </a:lnTo>
                  <a:lnTo>
                    <a:pt x="66" y="311"/>
                  </a:lnTo>
                  <a:lnTo>
                    <a:pt x="74" y="311"/>
                  </a:lnTo>
                  <a:lnTo>
                    <a:pt x="83" y="320"/>
                  </a:lnTo>
                  <a:lnTo>
                    <a:pt x="83" y="308"/>
                  </a:lnTo>
                  <a:lnTo>
                    <a:pt x="92" y="305"/>
                  </a:lnTo>
                  <a:lnTo>
                    <a:pt x="97" y="297"/>
                  </a:lnTo>
                  <a:lnTo>
                    <a:pt x="89" y="288"/>
                  </a:lnTo>
                  <a:lnTo>
                    <a:pt x="83" y="280"/>
                  </a:lnTo>
                  <a:lnTo>
                    <a:pt x="77" y="271"/>
                  </a:lnTo>
                  <a:lnTo>
                    <a:pt x="71" y="262"/>
                  </a:lnTo>
                  <a:lnTo>
                    <a:pt x="69" y="254"/>
                  </a:lnTo>
                  <a:lnTo>
                    <a:pt x="69" y="242"/>
                  </a:lnTo>
                  <a:lnTo>
                    <a:pt x="69" y="234"/>
                  </a:lnTo>
                  <a:lnTo>
                    <a:pt x="69" y="225"/>
                  </a:lnTo>
                  <a:lnTo>
                    <a:pt x="69" y="217"/>
                  </a:lnTo>
                  <a:lnTo>
                    <a:pt x="69" y="208"/>
                  </a:lnTo>
                  <a:lnTo>
                    <a:pt x="69" y="200"/>
                  </a:lnTo>
                  <a:lnTo>
                    <a:pt x="69" y="191"/>
                  </a:lnTo>
                  <a:lnTo>
                    <a:pt x="69" y="182"/>
                  </a:lnTo>
                  <a:lnTo>
                    <a:pt x="77" y="174"/>
                  </a:lnTo>
                  <a:lnTo>
                    <a:pt x="86" y="168"/>
                  </a:lnTo>
                  <a:lnTo>
                    <a:pt x="92" y="160"/>
                  </a:lnTo>
                  <a:lnTo>
                    <a:pt x="97" y="151"/>
                  </a:lnTo>
                  <a:lnTo>
                    <a:pt x="103" y="142"/>
                  </a:lnTo>
                  <a:lnTo>
                    <a:pt x="103" y="134"/>
                  </a:lnTo>
                  <a:lnTo>
                    <a:pt x="103" y="125"/>
                  </a:lnTo>
                  <a:lnTo>
                    <a:pt x="112" y="122"/>
                  </a:lnTo>
                  <a:lnTo>
                    <a:pt x="120" y="117"/>
                  </a:lnTo>
                  <a:lnTo>
                    <a:pt x="123" y="105"/>
                  </a:lnTo>
                  <a:lnTo>
                    <a:pt x="132" y="100"/>
                  </a:lnTo>
                  <a:lnTo>
                    <a:pt x="135" y="91"/>
                  </a:lnTo>
                  <a:lnTo>
                    <a:pt x="143" y="82"/>
                  </a:lnTo>
                  <a:lnTo>
                    <a:pt x="152" y="77"/>
                  </a:lnTo>
                  <a:lnTo>
                    <a:pt x="158" y="68"/>
                  </a:lnTo>
                  <a:lnTo>
                    <a:pt x="166" y="65"/>
                  </a:lnTo>
                  <a:lnTo>
                    <a:pt x="175" y="60"/>
                  </a:lnTo>
                  <a:lnTo>
                    <a:pt x="184" y="57"/>
                  </a:lnTo>
                  <a:lnTo>
                    <a:pt x="189" y="48"/>
                  </a:lnTo>
                  <a:lnTo>
                    <a:pt x="198" y="42"/>
                  </a:lnTo>
                  <a:lnTo>
                    <a:pt x="207" y="37"/>
                  </a:lnTo>
                  <a:lnTo>
                    <a:pt x="210" y="28"/>
                  </a:lnTo>
                  <a:lnTo>
                    <a:pt x="213" y="20"/>
                  </a:lnTo>
                  <a:lnTo>
                    <a:pt x="213" y="11"/>
                  </a:lnTo>
                  <a:lnTo>
                    <a:pt x="210" y="2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4" y="2"/>
                  </a:lnTo>
                  <a:lnTo>
                    <a:pt x="175" y="8"/>
                  </a:lnTo>
                  <a:lnTo>
                    <a:pt x="175" y="17"/>
                  </a:lnTo>
                  <a:lnTo>
                    <a:pt x="166" y="20"/>
                  </a:lnTo>
                  <a:lnTo>
                    <a:pt x="158" y="25"/>
                  </a:lnTo>
                  <a:lnTo>
                    <a:pt x="149" y="34"/>
                  </a:lnTo>
                  <a:lnTo>
                    <a:pt x="141" y="40"/>
                  </a:lnTo>
                  <a:lnTo>
                    <a:pt x="132" y="42"/>
                  </a:lnTo>
                  <a:lnTo>
                    <a:pt x="123" y="42"/>
                  </a:lnTo>
                  <a:lnTo>
                    <a:pt x="123" y="54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7" y="68"/>
                  </a:lnTo>
                  <a:lnTo>
                    <a:pt x="89" y="77"/>
                  </a:lnTo>
                  <a:lnTo>
                    <a:pt x="83" y="85"/>
                  </a:lnTo>
                  <a:lnTo>
                    <a:pt x="80" y="94"/>
                  </a:lnTo>
                  <a:lnTo>
                    <a:pt x="71" y="100"/>
                  </a:lnTo>
                  <a:lnTo>
                    <a:pt x="66" y="108"/>
                  </a:lnTo>
                  <a:lnTo>
                    <a:pt x="63" y="117"/>
                  </a:lnTo>
                  <a:lnTo>
                    <a:pt x="63" y="125"/>
                  </a:lnTo>
                  <a:lnTo>
                    <a:pt x="57" y="134"/>
                  </a:lnTo>
                  <a:lnTo>
                    <a:pt x="51" y="142"/>
                  </a:lnTo>
                  <a:lnTo>
                    <a:pt x="46" y="151"/>
                  </a:lnTo>
                  <a:lnTo>
                    <a:pt x="40" y="162"/>
                  </a:lnTo>
                  <a:lnTo>
                    <a:pt x="37" y="171"/>
                  </a:lnTo>
                  <a:lnTo>
                    <a:pt x="46" y="177"/>
                  </a:lnTo>
                  <a:lnTo>
                    <a:pt x="54" y="180"/>
                  </a:lnTo>
                  <a:lnTo>
                    <a:pt x="57" y="188"/>
                  </a:lnTo>
                  <a:lnTo>
                    <a:pt x="48" y="185"/>
                  </a:lnTo>
                  <a:lnTo>
                    <a:pt x="40" y="185"/>
                  </a:lnTo>
                  <a:lnTo>
                    <a:pt x="31" y="188"/>
                  </a:lnTo>
                  <a:lnTo>
                    <a:pt x="23" y="200"/>
                  </a:lnTo>
                  <a:lnTo>
                    <a:pt x="31" y="211"/>
                  </a:lnTo>
                  <a:lnTo>
                    <a:pt x="31" y="220"/>
                  </a:lnTo>
                  <a:lnTo>
                    <a:pt x="31" y="228"/>
                  </a:lnTo>
                  <a:lnTo>
                    <a:pt x="23" y="237"/>
                  </a:lnTo>
                  <a:lnTo>
                    <a:pt x="14" y="242"/>
                  </a:lnTo>
                  <a:lnTo>
                    <a:pt x="8" y="251"/>
                  </a:lnTo>
                  <a:lnTo>
                    <a:pt x="0" y="260"/>
                  </a:lnTo>
                  <a:lnTo>
                    <a:pt x="23" y="2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71720" y="444168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49" y="47"/>
                  </a:moveTo>
                  <a:lnTo>
                    <a:pt x="44" y="58"/>
                  </a:lnTo>
                  <a:lnTo>
                    <a:pt x="35" y="58"/>
                  </a:lnTo>
                  <a:lnTo>
                    <a:pt x="30" y="66"/>
                  </a:lnTo>
                  <a:lnTo>
                    <a:pt x="30" y="75"/>
                  </a:lnTo>
                  <a:lnTo>
                    <a:pt x="30" y="83"/>
                  </a:lnTo>
                  <a:lnTo>
                    <a:pt x="30" y="91"/>
                  </a:lnTo>
                  <a:lnTo>
                    <a:pt x="22" y="94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8" y="139"/>
                  </a:lnTo>
                  <a:lnTo>
                    <a:pt x="16" y="139"/>
                  </a:lnTo>
                  <a:lnTo>
                    <a:pt x="27" y="147"/>
                  </a:lnTo>
                  <a:lnTo>
                    <a:pt x="33" y="156"/>
                  </a:lnTo>
                  <a:lnTo>
                    <a:pt x="41" y="156"/>
                  </a:lnTo>
                  <a:lnTo>
                    <a:pt x="46" y="147"/>
                  </a:lnTo>
                  <a:lnTo>
                    <a:pt x="52" y="139"/>
                  </a:lnTo>
                  <a:lnTo>
                    <a:pt x="55" y="130"/>
                  </a:lnTo>
                  <a:lnTo>
                    <a:pt x="57" y="122"/>
                  </a:lnTo>
                  <a:lnTo>
                    <a:pt x="63" y="114"/>
                  </a:lnTo>
                  <a:lnTo>
                    <a:pt x="71" y="108"/>
                  </a:lnTo>
                  <a:lnTo>
                    <a:pt x="80" y="108"/>
                  </a:lnTo>
                  <a:lnTo>
                    <a:pt x="82" y="100"/>
                  </a:lnTo>
                  <a:lnTo>
                    <a:pt x="82" y="91"/>
                  </a:lnTo>
                  <a:lnTo>
                    <a:pt x="82" y="83"/>
                  </a:lnTo>
                  <a:lnTo>
                    <a:pt x="82" y="75"/>
                  </a:lnTo>
                  <a:lnTo>
                    <a:pt x="82" y="66"/>
                  </a:lnTo>
                  <a:lnTo>
                    <a:pt x="85" y="58"/>
                  </a:lnTo>
                  <a:lnTo>
                    <a:pt x="93" y="52"/>
                  </a:lnTo>
                  <a:lnTo>
                    <a:pt x="102" y="47"/>
                  </a:lnTo>
                  <a:lnTo>
                    <a:pt x="107" y="39"/>
                  </a:lnTo>
                  <a:lnTo>
                    <a:pt x="115" y="36"/>
                  </a:lnTo>
                  <a:lnTo>
                    <a:pt x="121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38" y="5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8" y="11"/>
                  </a:lnTo>
                  <a:lnTo>
                    <a:pt x="82" y="19"/>
                  </a:lnTo>
                  <a:lnTo>
                    <a:pt x="80" y="27"/>
                  </a:lnTo>
                  <a:lnTo>
                    <a:pt x="80" y="36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69" y="61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49" y="47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90800" y="524844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6" y="21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16" y="21"/>
                  </a:lnTo>
                  <a:lnTo>
                    <a:pt x="23" y="27"/>
                  </a:lnTo>
                  <a:lnTo>
                    <a:pt x="18" y="18"/>
                  </a:lnTo>
                  <a:lnTo>
                    <a:pt x="13" y="9"/>
                  </a:lnTo>
                  <a:lnTo>
                    <a:pt x="6" y="21"/>
                  </a:lnTo>
                  <a:lnTo>
                    <a:pt x="9" y="6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57400" y="5361120"/>
              <a:ext cx="27000" cy="727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6" y="0"/>
                  </a:moveTo>
                  <a:lnTo>
                    <a:pt x="5" y="19"/>
                  </a:lnTo>
                  <a:lnTo>
                    <a:pt x="5" y="28"/>
                  </a:lnTo>
                  <a:lnTo>
                    <a:pt x="0" y="36"/>
                  </a:lnTo>
                  <a:lnTo>
                    <a:pt x="10" y="28"/>
                  </a:lnTo>
                  <a:lnTo>
                    <a:pt x="16" y="45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52480" y="4357800"/>
              <a:ext cx="88920" cy="73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0" y="0"/>
                  </a:moveTo>
                  <a:lnTo>
                    <a:pt x="20" y="19"/>
                  </a:lnTo>
                  <a:lnTo>
                    <a:pt x="20" y="28"/>
                  </a:lnTo>
                  <a:lnTo>
                    <a:pt x="28" y="33"/>
                  </a:lnTo>
                  <a:lnTo>
                    <a:pt x="28" y="42"/>
                  </a:lnTo>
                  <a:lnTo>
                    <a:pt x="37" y="45"/>
                  </a:lnTo>
                  <a:lnTo>
                    <a:pt x="46" y="45"/>
                  </a:lnTo>
                  <a:lnTo>
                    <a:pt x="49" y="36"/>
                  </a:lnTo>
                  <a:lnTo>
                    <a:pt x="55" y="28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26" y="16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228600" y="6137280"/>
              <a:ext cx="611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993600" y="6272280"/>
              <a:ext cx="47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HO European Centre for Environment and Heal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72040" y="743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8" y="0"/>
                  </a:moveTo>
                  <a:lnTo>
                    <a:pt x="8" y="8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5" y="37"/>
                  </a:lnTo>
                  <a:lnTo>
                    <a:pt x="11" y="46"/>
                  </a:lnTo>
                  <a:lnTo>
                    <a:pt x="19" y="49"/>
                  </a:lnTo>
                  <a:lnTo>
                    <a:pt x="31" y="52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7" y="55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1" y="2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31" y="14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solidFill>
              <a:srgbClr val="123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97360" y="4836960"/>
              <a:ext cx="788760" cy="408240"/>
            </a:xfrm>
            <a:custGeom>
              <a:avLst/>
              <a:gdLst/>
              <a:ahLst/>
              <a:rect l="l" t="t" r="r" b="b"/>
              <a:pathLst>
                <a:path w="497" h="257">
                  <a:moveTo>
                    <a:pt x="0" y="193"/>
                  </a:moveTo>
                  <a:lnTo>
                    <a:pt x="24" y="189"/>
                  </a:lnTo>
                  <a:lnTo>
                    <a:pt x="32" y="182"/>
                  </a:lnTo>
                  <a:lnTo>
                    <a:pt x="40" y="174"/>
                  </a:lnTo>
                  <a:lnTo>
                    <a:pt x="46" y="164"/>
                  </a:lnTo>
                  <a:lnTo>
                    <a:pt x="45" y="155"/>
                  </a:lnTo>
                  <a:lnTo>
                    <a:pt x="52" y="149"/>
                  </a:lnTo>
                  <a:lnTo>
                    <a:pt x="60" y="140"/>
                  </a:lnTo>
                  <a:lnTo>
                    <a:pt x="66" y="131"/>
                  </a:lnTo>
                  <a:lnTo>
                    <a:pt x="69" y="123"/>
                  </a:lnTo>
                  <a:lnTo>
                    <a:pt x="74" y="114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7" y="95"/>
                  </a:lnTo>
                  <a:lnTo>
                    <a:pt x="104" y="88"/>
                  </a:lnTo>
                  <a:lnTo>
                    <a:pt x="109" y="78"/>
                  </a:lnTo>
                  <a:lnTo>
                    <a:pt x="116" y="70"/>
                  </a:lnTo>
                  <a:lnTo>
                    <a:pt x="118" y="60"/>
                  </a:lnTo>
                  <a:lnTo>
                    <a:pt x="128" y="53"/>
                  </a:lnTo>
                  <a:lnTo>
                    <a:pt x="131" y="44"/>
                  </a:lnTo>
                  <a:lnTo>
                    <a:pt x="137" y="37"/>
                  </a:lnTo>
                  <a:lnTo>
                    <a:pt x="144" y="30"/>
                  </a:lnTo>
                  <a:lnTo>
                    <a:pt x="153" y="22"/>
                  </a:lnTo>
                  <a:lnTo>
                    <a:pt x="159" y="15"/>
                  </a:lnTo>
                  <a:lnTo>
                    <a:pt x="168" y="10"/>
                  </a:lnTo>
                  <a:lnTo>
                    <a:pt x="175" y="6"/>
                  </a:lnTo>
                  <a:lnTo>
                    <a:pt x="187" y="6"/>
                  </a:lnTo>
                  <a:lnTo>
                    <a:pt x="193" y="0"/>
                  </a:lnTo>
                  <a:lnTo>
                    <a:pt x="202" y="7"/>
                  </a:lnTo>
                  <a:lnTo>
                    <a:pt x="215" y="15"/>
                  </a:lnTo>
                  <a:lnTo>
                    <a:pt x="207" y="14"/>
                  </a:lnTo>
                  <a:lnTo>
                    <a:pt x="205" y="22"/>
                  </a:lnTo>
                  <a:lnTo>
                    <a:pt x="205" y="31"/>
                  </a:lnTo>
                  <a:lnTo>
                    <a:pt x="215" y="34"/>
                  </a:lnTo>
                  <a:lnTo>
                    <a:pt x="225" y="31"/>
                  </a:lnTo>
                  <a:lnTo>
                    <a:pt x="232" y="28"/>
                  </a:lnTo>
                  <a:lnTo>
                    <a:pt x="240" y="33"/>
                  </a:lnTo>
                  <a:lnTo>
                    <a:pt x="243" y="40"/>
                  </a:lnTo>
                  <a:lnTo>
                    <a:pt x="236" y="45"/>
                  </a:lnTo>
                  <a:lnTo>
                    <a:pt x="228" y="49"/>
                  </a:lnTo>
                  <a:lnTo>
                    <a:pt x="220" y="55"/>
                  </a:lnTo>
                  <a:lnTo>
                    <a:pt x="213" y="62"/>
                  </a:lnTo>
                  <a:lnTo>
                    <a:pt x="222" y="64"/>
                  </a:lnTo>
                  <a:lnTo>
                    <a:pt x="226" y="71"/>
                  </a:lnTo>
                  <a:lnTo>
                    <a:pt x="229" y="78"/>
                  </a:lnTo>
                  <a:lnTo>
                    <a:pt x="232" y="84"/>
                  </a:lnTo>
                  <a:lnTo>
                    <a:pt x="232" y="94"/>
                  </a:lnTo>
                  <a:lnTo>
                    <a:pt x="230" y="103"/>
                  </a:lnTo>
                  <a:lnTo>
                    <a:pt x="239" y="163"/>
                  </a:lnTo>
                  <a:lnTo>
                    <a:pt x="190" y="125"/>
                  </a:lnTo>
                  <a:lnTo>
                    <a:pt x="236" y="116"/>
                  </a:lnTo>
                  <a:lnTo>
                    <a:pt x="246" y="110"/>
                  </a:lnTo>
                  <a:lnTo>
                    <a:pt x="251" y="105"/>
                  </a:lnTo>
                  <a:lnTo>
                    <a:pt x="259" y="94"/>
                  </a:lnTo>
                  <a:lnTo>
                    <a:pt x="270" y="93"/>
                  </a:lnTo>
                  <a:lnTo>
                    <a:pt x="277" y="90"/>
                  </a:lnTo>
                  <a:lnTo>
                    <a:pt x="288" y="86"/>
                  </a:lnTo>
                  <a:lnTo>
                    <a:pt x="295" y="83"/>
                  </a:lnTo>
                  <a:lnTo>
                    <a:pt x="303" y="74"/>
                  </a:lnTo>
                  <a:lnTo>
                    <a:pt x="313" y="75"/>
                  </a:lnTo>
                  <a:lnTo>
                    <a:pt x="320" y="80"/>
                  </a:lnTo>
                  <a:lnTo>
                    <a:pt x="329" y="76"/>
                  </a:lnTo>
                  <a:lnTo>
                    <a:pt x="338" y="74"/>
                  </a:lnTo>
                  <a:lnTo>
                    <a:pt x="345" y="78"/>
                  </a:lnTo>
                  <a:lnTo>
                    <a:pt x="351" y="86"/>
                  </a:lnTo>
                  <a:lnTo>
                    <a:pt x="357" y="92"/>
                  </a:lnTo>
                  <a:lnTo>
                    <a:pt x="365" y="90"/>
                  </a:lnTo>
                  <a:lnTo>
                    <a:pt x="379" y="94"/>
                  </a:lnTo>
                  <a:lnTo>
                    <a:pt x="385" y="99"/>
                  </a:lnTo>
                  <a:lnTo>
                    <a:pt x="394" y="102"/>
                  </a:lnTo>
                  <a:lnTo>
                    <a:pt x="403" y="107"/>
                  </a:lnTo>
                  <a:lnTo>
                    <a:pt x="405" y="115"/>
                  </a:lnTo>
                  <a:lnTo>
                    <a:pt x="413" y="121"/>
                  </a:lnTo>
                  <a:lnTo>
                    <a:pt x="423" y="125"/>
                  </a:lnTo>
                  <a:lnTo>
                    <a:pt x="431" y="128"/>
                  </a:lnTo>
                  <a:lnTo>
                    <a:pt x="440" y="132"/>
                  </a:lnTo>
                  <a:lnTo>
                    <a:pt x="455" y="137"/>
                  </a:lnTo>
                  <a:lnTo>
                    <a:pt x="468" y="141"/>
                  </a:lnTo>
                  <a:lnTo>
                    <a:pt x="473" y="148"/>
                  </a:lnTo>
                  <a:lnTo>
                    <a:pt x="480" y="154"/>
                  </a:lnTo>
                  <a:lnTo>
                    <a:pt x="485" y="161"/>
                  </a:lnTo>
                  <a:lnTo>
                    <a:pt x="488" y="172"/>
                  </a:lnTo>
                  <a:lnTo>
                    <a:pt x="492" y="178"/>
                  </a:lnTo>
                  <a:lnTo>
                    <a:pt x="493" y="187"/>
                  </a:lnTo>
                  <a:lnTo>
                    <a:pt x="494" y="195"/>
                  </a:lnTo>
                  <a:lnTo>
                    <a:pt x="496" y="201"/>
                  </a:lnTo>
                  <a:lnTo>
                    <a:pt x="491" y="213"/>
                  </a:lnTo>
                  <a:lnTo>
                    <a:pt x="480" y="217"/>
                  </a:lnTo>
                  <a:lnTo>
                    <a:pt x="474" y="222"/>
                  </a:lnTo>
                  <a:lnTo>
                    <a:pt x="466" y="228"/>
                  </a:lnTo>
                  <a:lnTo>
                    <a:pt x="458" y="234"/>
                  </a:lnTo>
                  <a:lnTo>
                    <a:pt x="448" y="238"/>
                  </a:lnTo>
                  <a:lnTo>
                    <a:pt x="439" y="240"/>
                  </a:lnTo>
                  <a:lnTo>
                    <a:pt x="430" y="244"/>
                  </a:lnTo>
                  <a:lnTo>
                    <a:pt x="422" y="248"/>
                  </a:lnTo>
                  <a:lnTo>
                    <a:pt x="414" y="240"/>
                  </a:lnTo>
                  <a:lnTo>
                    <a:pt x="405" y="242"/>
                  </a:lnTo>
                  <a:lnTo>
                    <a:pt x="395" y="241"/>
                  </a:lnTo>
                  <a:lnTo>
                    <a:pt x="387" y="244"/>
                  </a:lnTo>
                  <a:lnTo>
                    <a:pt x="380" y="248"/>
                  </a:lnTo>
                  <a:lnTo>
                    <a:pt x="372" y="250"/>
                  </a:lnTo>
                  <a:lnTo>
                    <a:pt x="363" y="252"/>
                  </a:lnTo>
                  <a:lnTo>
                    <a:pt x="357" y="256"/>
                  </a:lnTo>
                  <a:lnTo>
                    <a:pt x="350" y="247"/>
                  </a:lnTo>
                  <a:lnTo>
                    <a:pt x="349" y="240"/>
                  </a:lnTo>
                  <a:lnTo>
                    <a:pt x="340" y="243"/>
                  </a:lnTo>
                  <a:lnTo>
                    <a:pt x="333" y="246"/>
                  </a:lnTo>
                  <a:lnTo>
                    <a:pt x="324" y="248"/>
                  </a:lnTo>
                  <a:lnTo>
                    <a:pt x="315" y="247"/>
                  </a:lnTo>
                  <a:lnTo>
                    <a:pt x="315" y="240"/>
                  </a:lnTo>
                  <a:lnTo>
                    <a:pt x="313" y="233"/>
                  </a:lnTo>
                  <a:lnTo>
                    <a:pt x="310" y="225"/>
                  </a:lnTo>
                  <a:lnTo>
                    <a:pt x="297" y="227"/>
                  </a:lnTo>
                  <a:lnTo>
                    <a:pt x="288" y="227"/>
                  </a:lnTo>
                  <a:lnTo>
                    <a:pt x="281" y="221"/>
                  </a:lnTo>
                  <a:lnTo>
                    <a:pt x="277" y="215"/>
                  </a:lnTo>
                  <a:lnTo>
                    <a:pt x="267" y="213"/>
                  </a:lnTo>
                  <a:lnTo>
                    <a:pt x="226" y="177"/>
                  </a:lnTo>
                  <a:lnTo>
                    <a:pt x="245" y="217"/>
                  </a:lnTo>
                  <a:lnTo>
                    <a:pt x="236" y="217"/>
                  </a:lnTo>
                  <a:lnTo>
                    <a:pt x="227" y="213"/>
                  </a:lnTo>
                  <a:lnTo>
                    <a:pt x="219" y="211"/>
                  </a:lnTo>
                  <a:lnTo>
                    <a:pt x="209" y="209"/>
                  </a:lnTo>
                  <a:lnTo>
                    <a:pt x="200" y="210"/>
                  </a:lnTo>
                  <a:lnTo>
                    <a:pt x="191" y="215"/>
                  </a:lnTo>
                  <a:lnTo>
                    <a:pt x="184" y="218"/>
                  </a:lnTo>
                  <a:lnTo>
                    <a:pt x="176" y="219"/>
                  </a:lnTo>
                  <a:lnTo>
                    <a:pt x="166" y="223"/>
                  </a:lnTo>
                  <a:lnTo>
                    <a:pt x="158" y="230"/>
                  </a:lnTo>
                  <a:lnTo>
                    <a:pt x="150" y="234"/>
                  </a:lnTo>
                  <a:lnTo>
                    <a:pt x="139" y="242"/>
                  </a:lnTo>
                  <a:lnTo>
                    <a:pt x="133" y="247"/>
                  </a:lnTo>
                  <a:lnTo>
                    <a:pt x="122" y="248"/>
                  </a:lnTo>
                  <a:lnTo>
                    <a:pt x="111" y="253"/>
                  </a:lnTo>
                  <a:lnTo>
                    <a:pt x="102" y="252"/>
                  </a:lnTo>
                  <a:lnTo>
                    <a:pt x="91" y="247"/>
                  </a:lnTo>
                  <a:lnTo>
                    <a:pt x="82" y="245"/>
                  </a:lnTo>
                  <a:lnTo>
                    <a:pt x="74" y="244"/>
                  </a:lnTo>
                  <a:lnTo>
                    <a:pt x="63" y="244"/>
                  </a:lnTo>
                  <a:lnTo>
                    <a:pt x="49" y="244"/>
                  </a:lnTo>
                  <a:lnTo>
                    <a:pt x="43" y="238"/>
                  </a:lnTo>
                  <a:lnTo>
                    <a:pt x="36" y="232"/>
                  </a:lnTo>
                  <a:lnTo>
                    <a:pt x="36" y="221"/>
                  </a:lnTo>
                  <a:lnTo>
                    <a:pt x="32" y="217"/>
                  </a:lnTo>
                  <a:lnTo>
                    <a:pt x="26" y="209"/>
                  </a:lnTo>
                  <a:lnTo>
                    <a:pt x="22" y="204"/>
                  </a:lnTo>
                  <a:lnTo>
                    <a:pt x="18" y="197"/>
                  </a:lnTo>
                  <a:lnTo>
                    <a:pt x="0" y="193"/>
                  </a:lnTo>
                  <a:lnTo>
                    <a:pt x="14" y="1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762120" y="3087720"/>
            <a:ext cx="790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26840" y="990720"/>
            <a:ext cx="565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cent studies on effects of P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 cardiovascular syste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2286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rease in blood viscosity in days with high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(Peters et al, 1997; no effect in Seaton et al 1999)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3429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reased heart rate associated with increa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M level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(Stone &amp; Godleski 1999, Peters et al, 1999, Pope et al. 1999)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648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idence in cardiac arrhythmia and PM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(Peters et al,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schwartz1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5486400" cy="4813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49760" y="268200"/>
            <a:ext cx="72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timated effect of a 10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µ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/m3 increase in PM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01080" y="597996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ource: Schwartz, Am J Epi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0:23:09Z</dcterms:created>
  <dc:creator>M Krzyzanowski</dc:creator>
  <dc:description/>
  <dc:language>en-US</dc:language>
  <cp:lastModifiedBy>ECB WHO</cp:lastModifiedBy>
  <dcterms:modified xsi:type="dcterms:W3CDTF">2001-01-18T15:18:04Z</dcterms:modified>
  <cp:revision>13</cp:revision>
  <dc:subject/>
  <dc:title> </dc:title>
</cp:coreProperties>
</file>