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2.png" ContentType="image/png"/>
  <Override PartName="/ppt/media/image24.jpeg" ContentType="image/jpeg"/>
  <Override PartName="/ppt/media/image21.wmf" ContentType="image/x-wmf"/>
  <Override PartName="/ppt/media/image18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7.png" ContentType="image/png"/>
  <Override PartName="/ppt/media/image20.jpeg" ContentType="image/jpeg"/>
  <Override PartName="/ppt/media/image34.jpeg" ContentType="image/jpeg"/>
  <Override PartName="/ppt/media/image28.jpeg" ContentType="image/jpeg"/>
  <Override PartName="/ppt/media/image39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41.jpeg" ContentType="image/jpeg"/>
  <Override PartName="/ppt/media/image42.png" ContentType="image/png"/>
  <Override PartName="/ppt/media/image43.png" ContentType="image/png"/>
  <Override PartName="/ppt/media/image33.png" ContentType="image/png"/>
  <Override PartName="/ppt/media/image8.png" ContentType="image/png"/>
  <Override PartName="/ppt/media/image44.wmf" ContentType="image/x-wmf"/>
  <Override PartName="/ppt/media/image35.jpeg" ContentType="image/jpeg"/>
  <Override PartName="/ppt/media/image48.wmf" ContentType="image/x-wmf"/>
  <Override PartName="/ppt/media/image5.png" ContentType="image/png"/>
  <Override PartName="/ppt/media/image29.jpeg" ContentType="image/jpeg"/>
  <Override PartName="/ppt/media/image45.wmf" ContentType="image/x-wmf"/>
  <Override PartName="/ppt/media/image46.wmf" ContentType="image/x-wmf"/>
  <Override PartName="/ppt/media/image10.wmf" ContentType="image/x-wmf"/>
  <Override PartName="/ppt/media/image47.wmf" ContentType="image/x-wmf"/>
  <Override PartName="/ppt/media/image4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38.jpeg" ContentType="image/jpeg"/>
  <Override PartName="/ppt/media/image36.png" ContentType="image/png"/>
  <Override PartName="/ppt/media/image6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928225"/>
</p:presentation>
</file>

<file path=ppt/commentAuthors.xml><?xml version="1.0" encoding="utf-8"?>
<p:cmAuthorLst xmlns:p="http://schemas.openxmlformats.org/presentationml/2006/main">
  <p:cmAuthor id="0" name="Marieke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07-01-15T10:53:06.578000000" idx="1">
    <p:pos x="10" y="10"/>
    <p:text>Waarom Quality en OHS niet? (zie animatie) alleen social Consumer health and safety en environment worden groen.
Moeten we ervan maken "what are we talking about today?"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08A6-CFA2-4CE0-90F9-6104E97F2C7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16FE-D2A4-4B09-9467-025F548EDD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06C4-86D3-439C-B4FF-6FA963C5890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5432-24C8-431B-8957-71C10BFD2B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64CD-3723-49CA-AB90-B2B7CCE555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84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204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968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204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968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2384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2384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204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0968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204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0968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84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752480"/>
            <a:ext cx="72388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4419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maxhavelaar.nl/pages/default.asp?rID=4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hyperlink" Target="http://images.google.nl/imgres?imgurl=http://www.biologischpootgoed.nl/images/globalgap.jpg&amp;imgrefurl=http://www.biologischpootgoed.nl/eurogap_certificaat.htm&amp;h=845&amp;w=612&amp;sz=42&amp;hl=nl&amp;start=9&amp;um=1&amp;tbnid=7kDaAYvJR0L5yM:&amp;tbnh=145&amp;tbnw=105&amp;prev=/images%3Fq%3Dglobalgap%26um%3D1%26hl%3Dnl%26rlz%3D1T4ADBS_nl___NL218%26sa%3DN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2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25.jpeg"/><Relationship Id="rId5" Type="http://schemas.openxmlformats.org/officeDocument/2006/relationships/image" Target="../media/image19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13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bi.eu/" TargetMode="External"/><Relationship Id="rId2" Type="http://schemas.openxmlformats.org/officeDocument/2006/relationships/image" Target="../media/image42.png"/><Relationship Id="rId3" Type="http://schemas.openxmlformats.org/officeDocument/2006/relationships/hyperlink" Target="http://www.cbi.eu/marketinfo" TargetMode="External"/><Relationship Id="rId4" Type="http://schemas.openxmlformats.org/officeDocument/2006/relationships/hyperlink" Target="http://www.cbi.eu/marketinfo" TargetMode="External"/><Relationship Id="rId5" Type="http://schemas.openxmlformats.org/officeDocument/2006/relationships/hyperlink" Target="http://www.cbi.eu/marketinfo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l.gizmodo.com/levi&apos;s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hema.nl/SITE/HEMA-NL/Home/default.aspx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images.google.nl/imgres?imgurl=http://www.fujitsu-siemens.de/Resources/243/533239429.jpg&amp;imgrefurl=http://www.fujitsu-siemens.de/home/aktionsangebote/deutschland_pc7/index.html&amp;h=12&amp;w=90&amp;sz=2&amp;hl=nl&amp;start=19&amp;tbnid=Z5Heyk6ZtL5AfM:&amp;tbnh=10&amp;tbnw=78&amp;prev=/images%3Fq%3Dkarstadt.de%26svnum%3D10%26hl%3Dnl%26lr%3D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6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hyperlink" Target="http://www.libmutov.be/cms/Mut407/fruit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bi.eu/marketinfo/cbi/docs/international_consumer_health_label_ko_tex_for_textiles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hm.com/nl/corporateresponsibility/environment/environmentalrequirementsonsuppliers__supplierarticle4.nhtml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images.google.nl/imgres?imgurl=http://www.biologischpootgoed.nl/images/globalgap.jpg&amp;imgrefurl=http://www.biologischpootgoed.nl/eurogap_certificaat.htm&amp;h=845&amp;w=612&amp;sz=42&amp;hl=nl&amp;start=9&amp;um=1&amp;tbnid=7kDaAYvJR0L5yM:&amp;tbnh=145&amp;tbnw=105&amp;prev=/images%3Fq%3Dglobalgap%26um%3D1%26hl%3Dnl%26rlz%3D1T4ADBS_nl___NL218%26sa%3D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bi.eu/marketinfo/cbi/docs/international_management_system_iso_14001_on_environment" TargetMode="External"/><Relationship Id="rId2" Type="http://schemas.openxmlformats.org/officeDocument/2006/relationships/hyperlink" Target="http://www.cbi.eu/marketinfo/cbi/docs/eu_environmental_label_eco_label_for_home_textiles" TargetMode="External"/><Relationship Id="rId3" Type="http://schemas.openxmlformats.org/officeDocument/2006/relationships/hyperlink" Target="http://www.cbi.eu/marketinfo/cbi/docs/overview_of_organic_labels_for_food_on_the_eu_market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hyperlink" Target="http://images.google.nl/imgres?imgurl=http://www.biologischpootgoed.nl/images/globalgap.jpg&amp;imgrefurl=http://www.biologischpootgoed.nl/eurogap_certificaat.htm&amp;h=845&amp;w=612&amp;sz=42&amp;hl=nl&amp;start=9&amp;um=1&amp;tbnid=7kDaAYvJR0L5yM:&amp;tbnh=145&amp;tbnw=105&amp;prev=/images%3Fq%3Dglobalgap%26um%3D1%26hl%3Dnl%26rlz%3D1T4ADBS_nl___NL218%26sa%3DN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407664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U market access requi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00000" y="558972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y Ivar Fo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var Foss Quality Management AS, Norw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ocial issu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abour conditions &amp; ILO Convention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nagement syste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 labe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des of conduc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5013360"/>
            <a:ext cx="2016000" cy="717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Ga naar de Max Havelaar homepage">
            <a:hlinkClick r:id="rId2"/>
          </p:cNvPr>
          <p:cNvPicPr/>
          <p:nvPr/>
        </p:nvPicPr>
        <p:blipFill>
          <a:blip r:embed="rId3"/>
          <a:srcRect l="17825" t="12630" r="75052" b="18047"/>
          <a:stretch/>
        </p:blipFill>
        <p:spPr>
          <a:xfrm>
            <a:off x="7885080" y="5013360"/>
            <a:ext cx="787320" cy="1081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651640" y="5013360"/>
            <a:ext cx="1771560" cy="666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348000" y="5805360"/>
            <a:ext cx="2016000" cy="79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63640" y="4869000"/>
            <a:ext cx="1366920" cy="174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324000" y="4941720"/>
            <a:ext cx="1223640" cy="165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H&amp;M"/>
          <p:cNvPicPr/>
          <p:nvPr/>
        </p:nvPicPr>
        <p:blipFill>
          <a:blip r:embed="rId9"/>
          <a:stretch/>
        </p:blipFill>
        <p:spPr>
          <a:xfrm>
            <a:off x="5940360" y="5734080"/>
            <a:ext cx="1656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Label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09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609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8000" y="29671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812000" y="4869000"/>
            <a:ext cx="1143000" cy="1742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812000" y="155736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8000" y="4437000"/>
            <a:ext cx="112392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2195640" y="5931000"/>
            <a:ext cx="1771560" cy="666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8028000" y="4149720"/>
            <a:ext cx="895320" cy="581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108000" y="1773360"/>
            <a:ext cx="1143000" cy="1114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6084720" y="5516640"/>
            <a:ext cx="165132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5003640" y="5589720"/>
            <a:ext cx="1057320" cy="1114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4067280" y="57340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8028000" y="2852640"/>
            <a:ext cx="863640" cy="1144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108000" y="5877000"/>
            <a:ext cx="2016000" cy="792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92360" y="1989000"/>
            <a:ext cx="5761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unication tool: Business to business or consumer 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inly niche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pliance is monitored by a competent 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fee is paid to carry the lab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Example: H&amp;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238880" cy="4114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13669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Example: EIC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761240" cy="468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17622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Growing number of requir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EU legisl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rivate sector involvemen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Business ethic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Social responsibili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rporate imag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Stakeholders deman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Media coverag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nsumer awarenes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9844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More stringent requirements – why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73000"/>
            <a:ext cx="79786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fe-cycle approach (design - waste disposal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raceability through the entire product chai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Zero-tolerance for risks and recal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cumulating scientific evidenc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tter testing equipmen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re procedures (compliance, testing, certification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ertification only by accredited bod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ivate sector fills ‘gaps’ of legisl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Process requirements includ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60948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Increased attention to product safet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11280" y="1906560"/>
            <a:ext cx="49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Nutricia baby foo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Growth hormones mea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BS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Foot and Mouth diseas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Birds flu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Dioxin in chicken, animal fe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Salmonella in chick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Shigella bacteria in shrimp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Glycol in Austrian win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ntaminated Nile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er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4360" y="2209680"/>
            <a:ext cx="338292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Damage to your im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651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0" t="3871" r="0" b="0"/>
          <a:stretch/>
        </p:blipFill>
        <p:spPr>
          <a:xfrm>
            <a:off x="2987640" y="4149720"/>
            <a:ext cx="1467000" cy="1981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332000" y="4149720"/>
            <a:ext cx="1400040" cy="1981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572000" y="200484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Market access denied: No marke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07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EU non-legislation in CBI databa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Database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Relevant buyer require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Labe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des of Conduc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Management syste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Market impac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Links to other websites for more inform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5369040"/>
            <a:ext cx="889308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U companies are often prepared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work together with supplier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reach the desir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EU market access requir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European law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Rules and regulation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European standards for traded produc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International standard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Buyers’ purchase requirement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Other non-tariff measur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.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CBI database for market inform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Through the main menu of the CBI homepage</a:t>
            </a:r>
            <a:br>
              <a:rPr sz="2400"/>
            </a:b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cbi.eu</a:t>
            </a: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71640" y="3429000"/>
            <a:ext cx="7200720" cy="1224000"/>
            <a:chOff x="971640" y="3429000"/>
            <a:chExt cx="7200720" cy="12240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971640" y="3429000"/>
              <a:ext cx="7200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332000" y="4005000"/>
              <a:ext cx="1297080" cy="432000"/>
            </a:xfrm>
            <a:prstGeom prst="ellipse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900000" y="4435560"/>
            <a:ext cx="7201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r directly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cbi.eu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/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market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Verdana"/>
              </a:rPr>
              <a:t>Scope of the databa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Market access require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Market survey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Marketing guidelines and manua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37 secto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EU and 27 Member States + Norwa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ocus on analysi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Many relevant links to other websi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Helpdesk for question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2388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arch in the databa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977840"/>
            <a:ext cx="78487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33360"/>
            <a:ext cx="7238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54000" y="1820880"/>
            <a:ext cx="7794720" cy="4776840"/>
            <a:chOff x="954000" y="1820880"/>
            <a:chExt cx="7794720" cy="477684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rcRect l="0" t="23937" r="0" b="9449"/>
            <a:stretch/>
          </p:blipFill>
          <p:spPr>
            <a:xfrm>
              <a:off x="954000" y="1820880"/>
              <a:ext cx="7794720" cy="47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rcRect l="0" t="0" r="96869" b="0"/>
            <a:stretch/>
          </p:blipFill>
          <p:spPr>
            <a:xfrm>
              <a:off x="968400" y="1867320"/>
              <a:ext cx="22716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"/>
            <a:srcRect l="0" t="0" r="96869" b="0"/>
            <a:stretch/>
          </p:blipFill>
          <p:spPr>
            <a:xfrm>
              <a:off x="1114200" y="4538520"/>
              <a:ext cx="2304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rcRect l="0" t="0" r="96869" b="0"/>
            <a:stretch/>
          </p:blipFill>
          <p:spPr>
            <a:xfrm>
              <a:off x="5776560" y="2388960"/>
              <a:ext cx="2304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5"/>
            <a:srcRect l="0" t="0" r="96869" b="0"/>
            <a:stretch/>
          </p:blipFill>
          <p:spPr>
            <a:xfrm>
              <a:off x="5776560" y="3284640"/>
              <a:ext cx="23040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6"/>
            <a:srcRect l="0" t="0" r="96869" b="0"/>
            <a:stretch/>
          </p:blipFill>
          <p:spPr>
            <a:xfrm>
              <a:off x="968400" y="5434200"/>
              <a:ext cx="23040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Two categories of requri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2276640"/>
            <a:ext cx="77043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1. EU buyers require compliance with EU and national laws and egu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  <a:ea typeface="Arial"/>
              </a:rPr>
              <a:t>CBI terminology: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. EU buyers possibly request additional requirements, beyond what is required by EU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  <a:ea typeface="Arial"/>
              </a:rPr>
              <a:t>CBI terminology: Non-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  <a:ea typeface="Arial"/>
              </a:rPr>
              <a:t>UN ECE terminology: Privat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851280" y="1263600"/>
            <a:ext cx="2448000" cy="5600520"/>
            <a:chOff x="3851280" y="1263600"/>
            <a:chExt cx="2448000" cy="5600520"/>
          </a:xfrm>
        </p:grpSpPr>
        <p:sp>
          <p:nvSpPr>
            <p:cNvPr id="94" name=""/>
            <p:cNvSpPr/>
            <p:nvPr/>
          </p:nvSpPr>
          <p:spPr>
            <a:xfrm>
              <a:off x="3851280" y="1263600"/>
              <a:ext cx="2448000" cy="559260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ack Bo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851280" y="2249280"/>
              <a:ext cx="96192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rcRect l="26899" t="0" r="26075" b="2994"/>
            <a:stretch/>
          </p:blipFill>
          <p:spPr>
            <a:xfrm>
              <a:off x="4786200" y="3346200"/>
              <a:ext cx="1008000" cy="35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3851280" y="5759280"/>
              <a:ext cx="7920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859280" y="2360520"/>
              <a:ext cx="752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19768800">
              <a:off x="3922560" y="3455640"/>
              <a:ext cx="158436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9"/>
            <a:srcRect l="0" t="5697" r="13259" b="31320"/>
            <a:stretch/>
          </p:blipFill>
          <p:spPr>
            <a:xfrm>
              <a:off x="3851280" y="4444920"/>
              <a:ext cx="1008000" cy="12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7236000" y="3429000"/>
            <a:ext cx="1908000" cy="2809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require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Product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3851280" cy="685800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5013360"/>
            <a:ext cx="2232000" cy="936720"/>
          </a:xfrm>
          <a:custGeom>
            <a:avLst/>
            <a:gdLst>
              <a:gd name="textAreaLeft" fmla="*/ 279000 w 2232000"/>
              <a:gd name="textAreaRight" fmla="*/ 1953000 w 223200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Tahom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1844640"/>
            <a:ext cx="1905120" cy="81108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202680 h 811080"/>
              <a:gd name="textAreaBottom" fmla="*/ 608400 h 81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189000"/>
            <a:ext cx="2232000" cy="1079280"/>
          </a:xfrm>
          <a:custGeom>
            <a:avLst/>
            <a:gdLst>
              <a:gd name="textAreaLeft" fmla="*/ 279000 w 2232000"/>
              <a:gd name="textAreaRight" fmla="*/ 1953000 w 2232000"/>
              <a:gd name="textAreaTop" fmla="*/ 269640 h 1079280"/>
              <a:gd name="textAreaBottom" fmla="*/ 80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3429000"/>
            <a:ext cx="1513080" cy="936720"/>
          </a:xfrm>
          <a:custGeom>
            <a:avLst/>
            <a:gdLst>
              <a:gd name="textAreaLeft" fmla="*/ 189000 w 1513080"/>
              <a:gd name="textAreaRight" fmla="*/ 1324080 w 151308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421000"/>
            <a:ext cx="1800000" cy="1439640"/>
          </a:xfrm>
          <a:prstGeom prst="rightArrow">
            <a:avLst>
              <a:gd name="adj1" fmla="val 50000"/>
              <a:gd name="adj2" fmla="val 312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Comp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0" y="1054080"/>
            <a:ext cx="344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Legislative compli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- Consumer health and saf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-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" y="2522520"/>
            <a:ext cx="35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Public press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- Replace dangerous 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- Brands: responsibility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20" y="4005360"/>
            <a:ext cx="312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Report bad circumst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00" y="5734080"/>
            <a:ext cx="258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Exp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Saf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Good circum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49360" y="260280"/>
            <a:ext cx="2448360" cy="1338480"/>
            <a:chOff x="4149360" y="260280"/>
            <a:chExt cx="2448360" cy="1338480"/>
          </a:xfrm>
        </p:grpSpPr>
        <p:sp>
          <p:nvSpPr>
            <p:cNvPr id="113" name=""/>
            <p:cNvSpPr/>
            <p:nvPr/>
          </p:nvSpPr>
          <p:spPr>
            <a:xfrm rot="5400000">
              <a:off x="4721040" y="733320"/>
              <a:ext cx="1009800" cy="720720"/>
            </a:xfrm>
            <a:custGeom>
              <a:avLst/>
              <a:gdLst>
                <a:gd name="textAreaLeft" fmla="*/ 126000 w 1009800"/>
                <a:gd name="textAreaRight" fmla="*/ 883800 w 1009800"/>
                <a:gd name="textAreaTop" fmla="*/ 180000 h 720720"/>
                <a:gd name="textAreaBottom" fmla="*/ 5407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49360" y="260280"/>
              <a:ext cx="2448360" cy="459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66"/>
                  </a:solidFill>
                  <a:latin typeface="Arial"/>
                </a:rPr>
                <a:t>Company val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56000" y="2924280"/>
            <a:ext cx="194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U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08600">
            <a:off x="2482560" y="443664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393372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Supply chain managem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3933720"/>
            <a:ext cx="1944720" cy="165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x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773360"/>
            <a:ext cx="194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U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391600">
            <a:off x="2981160" y="4763520"/>
            <a:ext cx="647640" cy="139680"/>
          </a:xfrm>
          <a:prstGeom prst="rightArrow">
            <a:avLst>
              <a:gd name="adj1" fmla="val 50000"/>
              <a:gd name="adj2" fmla="val 11591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2720" y="5229360"/>
            <a:ext cx="136692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3840" y="3718080"/>
            <a:ext cx="165708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4437000"/>
            <a:ext cx="86364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731000">
            <a:off x="4212720" y="4149720"/>
            <a:ext cx="719280" cy="504720"/>
          </a:xfrm>
          <a:custGeom>
            <a:avLst/>
            <a:gdLst>
              <a:gd name="textAreaLeft" fmla="*/ 89640 w 719280"/>
              <a:gd name="textAreaRight" fmla="*/ 629640 w 719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731000">
            <a:off x="1907640" y="2997360"/>
            <a:ext cx="719280" cy="504720"/>
          </a:xfrm>
          <a:custGeom>
            <a:avLst/>
            <a:gdLst>
              <a:gd name="textAreaLeft" fmla="*/ 89640 w 719280"/>
              <a:gd name="textAreaRight" fmla="*/ 629640 w 719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109000">
            <a:off x="4282920" y="3141720"/>
            <a:ext cx="2233800" cy="482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3480" y="2060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 rot="20109000">
            <a:off x="2050920" y="2154240"/>
            <a:ext cx="2233800" cy="482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4941720"/>
            <a:ext cx="194472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731000">
            <a:off x="6587640" y="5084280"/>
            <a:ext cx="719280" cy="505080"/>
          </a:xfrm>
          <a:custGeom>
            <a:avLst/>
            <a:gdLst>
              <a:gd name="textAreaLeft" fmla="*/ 89640 w 719280"/>
              <a:gd name="textAreaRight" fmla="*/ 629640 w 719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109000">
            <a:off x="6732720" y="4241880"/>
            <a:ext cx="2233440" cy="482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Verdana"/>
              </a:rPr>
              <a:t>CBI classification of market access requir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Exporters need to take into account for successful export to the EU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5720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6094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2924280"/>
            <a:ext cx="228600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alth &amp;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3500280"/>
            <a:ext cx="2305080" cy="1224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cial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3716280"/>
            <a:ext cx="175284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roduc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2924280"/>
            <a:ext cx="2133720" cy="121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he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951360" y="2839680"/>
            <a:ext cx="1241280" cy="5184720"/>
          </a:xfrm>
          <a:prstGeom prst="rightArrowCallout">
            <a:avLst>
              <a:gd name="adj1" fmla="val 0"/>
              <a:gd name="adj2" fmla="val 104423"/>
              <a:gd name="adj3" fmla="val 25380"/>
              <a:gd name="adj4" fmla="val 6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70240" y="4908600"/>
            <a:ext cx="43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roducts, processes and conformity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6920" y="6207120"/>
            <a:ext cx="4608720" cy="620640"/>
          </a:xfrm>
          <a:prstGeom prst="foldedCorner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arket acc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Quality issues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2036520" cy="1981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08720" y="378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xtile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1538280" cy="77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00000" y="50846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otwear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5084640"/>
            <a:ext cx="1870200" cy="1503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03640" y="530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lity standards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ISO 9001"/>
          <p:cNvPicPr/>
          <p:nvPr/>
        </p:nvPicPr>
        <p:blipFill>
          <a:blip r:embed="rId5"/>
          <a:stretch/>
        </p:blipFill>
        <p:spPr>
          <a:xfrm>
            <a:off x="2484360" y="1989000"/>
            <a:ext cx="2217960" cy="2217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2276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onsumer health and safety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 labe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quirements on dangerous substances beyond legisl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nagement syste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5229360"/>
            <a:ext cx="165096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&amp;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5300640"/>
            <a:ext cx="1656000" cy="936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4797360"/>
            <a:ext cx="13669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Environmental issue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e of raw materials and natural resourc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e of chemical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aste managemen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management system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co label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organic l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020000" y="4653000"/>
            <a:ext cx="1469880" cy="1655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50920" y="486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348000" y="4941720"/>
            <a:ext cx="1143000" cy="1743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403280" y="5157720"/>
            <a:ext cx="1771560" cy="666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0" y="6066000"/>
            <a:ext cx="2016000" cy="79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4653000"/>
            <a:ext cx="136692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5:10:04Z</dcterms:created>
  <dc:creator> </dc:creator>
  <dc:description> </dc:description>
  <cp:keywords/>
  <dc:language>en-US</dc:language>
  <cp:lastModifiedBy>ONU</cp:lastModifiedBy>
  <dcterms:modified xsi:type="dcterms:W3CDTF">2008-11-04T08:55:40Z</dcterms:modified>
  <cp:revision>11</cp:revision>
  <dc:subject> </dc:subject>
  <dc:title> </dc:title>
</cp:coreProperties>
</file>