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BB3-9551-4520-8FBD-C548A486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D86-FE0D-4C8B-B803-005694DF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DE9-638A-4194-8514-AD09A1AB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910-642E-4D46-B6BC-FC182481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A62-AD3F-4E6A-A01E-6E0DFF6D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4C1-01B3-440E-854D-D0EC2783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6A7-BC25-4BA3-84E5-65108118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29F-E217-4CFD-AACA-FEBF1BAD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9F1-D912-48EE-9684-FB5DD23F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51A-C9BD-45BD-8E0B-F09EA65D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893-0A40-47A0-8E64-A56312BC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3BB-11FD-41BB-B264-F1A2E47C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0F30-2203-4C54-9038-3D3EDC070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isk Management Initi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rebuchet MS"/>
              </a:rPr>
              <a:t>Valentin Nikonov, PhD (Economics), PMP IPMA, QMS Auditor, Member of the Risk Management Journal Editorial Board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rebuchet MS"/>
              </a:rPr>
              <a:t>Advisor to the Head of the Board of the Directors of Bank24.ru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rebuchet MS"/>
              </a:rPr>
              <a:t>Managing Director, Trajectory of Growth Consulting Company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isk Managemen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as been mentioned in almost every report;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 very broad methodology that is now being actively developed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an be used on all levels: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isk Management &amp; WP.6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e issues debated at WP.6 – indeed risk mitigation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afety measures (costs) must be adequate – ‘not more than needed’ and ‘not less than needed’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Hence we need to know the risks and to manage them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isk management is already used in market surveillance, technical regulation, standardization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mitigate the risk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the effectiveness of market surveil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 lot of standards that are not harmonised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Very theoretical – not clear how to use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We have 5 RM steps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risk managemen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the risk managemen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ontinuity management (‘safety pillow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mphasis being laid on ‘quantification’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Different organizations and authorities use different approach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 lot of people speak about risk management – but practices remain unclear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Initi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 complementary subject to what WP.6 is doing - essentia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Its development would be beneficial for the WP.6 – the subject of the futur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International seminar next year to start with: governmental level, business, academia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Exchange of experience and best practices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urther – development of methodologies, best practices, recommendations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0:48:30Z</dcterms:created>
  <dc:creator>valentin</dc:creator>
  <dc:description/>
  <dc:language>en-US</dc:language>
  <cp:lastModifiedBy>valentin</cp:lastModifiedBy>
  <dcterms:modified xsi:type="dcterms:W3CDTF">2008-11-04T07:05:45Z</dcterms:modified>
  <cp:revision>3</cp:revision>
  <dc:subject/>
  <dc:title>Risk Management Initiative</dc:title>
</cp:coreProperties>
</file>