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DF9-EA43-40F3-ABD5-4CAF6CFD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4D2-29E2-44C2-8332-ADD6208A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B23-FE35-4CF0-AFA4-C9908140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F9A-D62A-4E27-8567-A3FCF04D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C06-E7FC-450F-BA3E-6C1B4CB5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09E-3196-4734-9BD9-CF8E952E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1736-826D-4FEC-8D81-764BA062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F9D-33DC-452E-AB9E-F9A5B8EA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82AF-8705-4F3D-B349-F8BB6E6D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1B0A-9390-47CC-B08A-9BB6D83C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E20-E89D-4770-846F-978298E9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3FF-A475-4EE4-BC46-C96026ED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031A-7BDE-468A-9F9D-B13A66A9C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Risk Management Initi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rebuchet MS"/>
              </a:rPr>
              <a:t>Valentin Nikonov, PhD (Economics), PMP IPMA, QMS Auditor, Member of the Risk Management Journal Editorial Board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rebuchet MS"/>
              </a:rPr>
              <a:t>Advisor to the Head of the Board of the Directors of Bank24.ru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rebuchet MS"/>
              </a:rPr>
              <a:t>Managing Director, Trajectory of Growth Consulting Company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Risk Managemen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Has been mentioned in almost every report;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A very broad methodology that is now being actively developed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an be used on all levels: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Risk Management &amp; WP.6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The issues debated at WP.6 – indeed risk mitigation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afety measures (costs) must be adequate – ‘not more than needed’ and ‘not less than needed’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Hence we need to know the risks and to manage them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Risk management is already used in market surveillance, technical regulation, standardization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mitigate the risk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the effectiveness of market surveil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A lot of standards that are not harmonised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Very theoretical – not clear how to use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We have 5 RM steps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of the risk management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the risk management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ontinuity management (‘safety pillows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mphasis being laid on ‘quantification’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Different organizations and authorities use different approache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A lot of people speak about risk management – but practices remain unclear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Initi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A complementary subject to what WP.6 is doing - essentia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Its development would be beneficial for the WP.6 – the subject of the future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International seminar next year to start with: governmental level, business, academia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Exchange of experience and best practices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urther – development of methodologies, best practices, recommendations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0:48:30Z</dcterms:created>
  <dc:creator>valentin</dc:creator>
  <dc:description/>
  <dc:language>en-US</dc:language>
  <cp:lastModifiedBy>valentin</cp:lastModifiedBy>
  <dcterms:modified xsi:type="dcterms:W3CDTF">2008-11-04T07:05:45Z</dcterms:modified>
  <cp:revision>3</cp:revision>
  <dc:subject/>
  <dc:title>Risk Management Initiative</dc:title>
</cp:coreProperties>
</file>