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26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6765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26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26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6765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6765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26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26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26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24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6765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6765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26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6765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26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6765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26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24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65960"/>
            <a:ext cx="9906120" cy="392040"/>
          </a:xfrm>
          <a:prstGeom prst="rect">
            <a:avLst/>
          </a:prstGeom>
          <a:solidFill>
            <a:srgbClr val="dcd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505800" y="6539040"/>
            <a:ext cx="400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9"/>
          <a:stretch/>
        </p:blipFill>
        <p:spPr>
          <a:xfrm>
            <a:off x="71280" y="6508800"/>
            <a:ext cx="352440" cy="317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06440" y="6491160"/>
            <a:ext cx="32004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IAF/ILAC 08 Stockho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so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906120" cy="6019920"/>
            </a:xfrm>
            <a:prstGeom prst="rect">
              <a:avLst/>
            </a:prstGeom>
            <a:solidFill>
              <a:srgbClr val="dcd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105520"/>
              <a:ext cx="9906120" cy="1752480"/>
            </a:xfrm>
            <a:prstGeom prst="rect">
              <a:avLst/>
            </a:prstGeom>
            <a:solidFill>
              <a:srgbClr val="006d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4501"/>
                </a:spcAft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ww.iso.or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639960" y="762120"/>
              <a:ext cx="262440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969200" y="3581280"/>
              <a:ext cx="5967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nternational Organization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or Standardiz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Common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2840" y="1590480"/>
            <a:ext cx="95932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21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/IEC International Standards and Guides on conformity assessment are written on an understanding of some basic comm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arti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lated bodi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ISO/PAS 17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ISO/PAS 17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laints and appea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ISO/PAS 17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losure of inform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ISO/PAS 17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21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syste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ISO/PAS 17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SCO projects in prog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4160" y="1268280"/>
            <a:ext cx="921708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188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SO/IEC 17007 (CASCO WG 27)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Conformity assessmen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—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Guidelines for drafting normative documents for use for conformity assess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88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SO/IEC 17021 Part 2 (CASCO WG 21)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Conformity assessment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—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 3rd party certification auditing of management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88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SO/IEC 17043 (CASCO WG 28),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Conformity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—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 Requirements for proficiency tes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88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SO/IEC 17065 (CASCO WG 29)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Conformity assessmen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— Requirements for certification bodies certifying products (including services) and proc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88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of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/IEC 17020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inspec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88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of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/IEC 17024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personnel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920" y="14400"/>
            <a:ext cx="4886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ims of the worksh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Aft>
                <a:spcPts val="35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rket surveillance practices at national level and discuss various modes of interven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35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awareness and capacity to use CASCO toolbox in market surveil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35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urveillance of conformity assessment activities generall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24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corrective actions when products do not com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 surveillance worksh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speakers gave presentations in 3 different s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s/Governmental bod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rmity assessment activit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and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 of market surveillance worksh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1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CO re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SCO n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port of CASCO Chair Mr. O. Peyrat on the outcomes and discussions of the market surveillance workshop and thanks all speakers and participants for their involvement and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PC to produce a summary of the conclusions with proposed actions and submit to the CASCO members for information and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confirmed outpu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1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CO to investigate how to facilitate sharing information on market surveill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possibility of a publication of examples of good pract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to investigate market surveillance in the field of serv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ISO standards should be promot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exchange of information between all interested par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21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guidelines/standards on market surveil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4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4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9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 u="sng">
                <a:solidFill>
                  <a:srgbClr val="3333cc"/>
                </a:solidFill>
                <a:uFillTx/>
                <a:latin typeface="Arial"/>
              </a:rPr>
              <a:t>www.iso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9800" y="1915920"/>
            <a:ext cx="9705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db8"/>
                </a:solidFill>
                <a:latin typeface="Arial Black"/>
              </a:rPr>
              <a:t>ISO/CA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db8"/>
                </a:solidFill>
                <a:latin typeface="Arial Black"/>
              </a:rPr>
              <a:t>UN Economic Commission for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db8"/>
                </a:solidFill>
                <a:latin typeface="Arial Black"/>
              </a:rPr>
              <a:t>Working Party on Regulatory Cooperation and standardizatio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db8"/>
                </a:solidFill>
                <a:latin typeface="Arial"/>
              </a:rPr>
              <a:t>by Sean Mac Cu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db8"/>
                </a:solidFill>
                <a:latin typeface="Arial"/>
              </a:rPr>
              <a:t>ISO/CASCO 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Geneva,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906120" cy="1066680"/>
            <a:chOff x="0" y="0"/>
            <a:chExt cx="9906120" cy="106668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906120" cy="1066680"/>
            </a:xfrm>
            <a:prstGeom prst="rect">
              <a:avLst/>
            </a:prstGeom>
            <a:solidFill>
              <a:srgbClr val="006d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411800" y="36360"/>
              <a:ext cx="1082520" cy="978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Arial"/>
              </a:rPr>
              <a:t>ISO and conformity assess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520" y="1341360"/>
            <a:ext cx="5834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Aft>
                <a:spcPts val="1375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Trade Organization– </a:t>
            </a:r>
            <a:r>
              <a:rPr b="0" lang="en-US" sz="2200" spc="-1" strike="noStrike">
                <a:solidFill>
                  <a:srgbClr val="006db8"/>
                </a:solidFill>
                <a:latin typeface="Arial"/>
              </a:rPr>
              <a:t>non accep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est reports and certificates one of the biggest </a:t>
            </a:r>
            <a:r>
              <a:rPr b="0" lang="en-US" sz="2200" spc="-1" strike="noStrike">
                <a:solidFill>
                  <a:srgbClr val="006db8"/>
                </a:solidFill>
                <a:latin typeface="Arial"/>
              </a:rPr>
              <a:t>obstacles to tr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375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recognition and acceptance to be based on </a:t>
            </a:r>
            <a:r>
              <a:rPr b="0" lang="en-US" sz="2200" spc="-1" strike="noStrike">
                <a:solidFill>
                  <a:srgbClr val="006db8"/>
                </a:solidFill>
                <a:latin typeface="Arial"/>
              </a:rPr>
              <a:t>confidence and good pract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3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ay forward: implementing the ISO/IEC Standards and Guides, with a </a:t>
            </a:r>
            <a:r>
              <a:rPr b="0" lang="en-US" sz="2200" spc="-1" strike="noStrike">
                <a:solidFill>
                  <a:srgbClr val="006db8"/>
                </a:solidFill>
                <a:latin typeface="Arial"/>
              </a:rPr>
              <a:t>double level of consens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mongst countries and across stakehol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37240" y="1413000"/>
            <a:ext cx="304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SO Strategic Plan 2005-20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90720" y="1143000"/>
            <a:ext cx="7924680" cy="2646360"/>
            <a:chOff x="990720" y="1143000"/>
            <a:chExt cx="7924680" cy="26463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rcRect l="24530" t="16720" r="24530" b="57129"/>
            <a:stretch/>
          </p:blipFill>
          <p:spPr>
            <a:xfrm>
              <a:off x="990720" y="1143000"/>
              <a:ext cx="792468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990720" y="1143000"/>
              <a:ext cx="7924680" cy="264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Aft>
                  <a:spcPts val="35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1800" y="3860640"/>
            <a:ext cx="86407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cc3300"/>
                </a:solidFill>
                <a:latin typeface="Arial Black"/>
              </a:rPr>
              <a:t>Objective 6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: ISO, in cooperation with IEC, provides a comprehensive range of 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standards and guides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implementation and recognition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of good 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conformity assessment practices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, suitable for all forms of first, second or third party involvement and evaluation, widely used by suppliers, conformity assessment operators and accreditors and recognized by customers and public author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Arial"/>
              </a:rPr>
              <a:t>ISO/CASCO stru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8520" y="1268280"/>
            <a:ext cx="4103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7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db8"/>
                </a:solidFill>
                <a:latin typeface="Arial"/>
              </a:rPr>
              <a:t>107 ISO member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re represented in CASCO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76  participating members and 31 observer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fteen international organizations are </a:t>
            </a:r>
            <a:r>
              <a:rPr b="1" lang="en-GB" sz="2000" spc="-1" strike="noStrike">
                <a:solidFill>
                  <a:srgbClr val="006db8"/>
                </a:solidFill>
                <a:latin typeface="Arial"/>
              </a:rPr>
              <a:t>liaison member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CASCO: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PM, CEOC, CODEX Alimentarius, EOQ, Eurolab, IAF, IFAN, IFIA, IIOC, ILAC, IPC, IQNet, ITU-T, OIML, UI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th policy and technica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al improvement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305240" y="1236600"/>
            <a:ext cx="5552640" cy="5126040"/>
            <a:chOff x="4305240" y="1236600"/>
            <a:chExt cx="5552640" cy="5126040"/>
          </a:xfrm>
        </p:grpSpPr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4305240" y="1341360"/>
              <a:ext cx="533412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337600" y="5426280"/>
              <a:ext cx="1520280" cy="936360"/>
            </a:xfrm>
            <a:prstGeom prst="ellipse">
              <a:avLst/>
            </a:prstGeom>
            <a:noFill/>
            <a:ln w="38160">
              <a:solidFill>
                <a:srgbClr val="006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2320" y="1236600"/>
              <a:ext cx="2144160" cy="505080"/>
            </a:xfrm>
            <a:prstGeom prst="ellipse">
              <a:avLst/>
            </a:prstGeom>
            <a:noFill/>
            <a:ln w="38160">
              <a:solidFill>
                <a:srgbClr val="006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Arial"/>
              </a:rPr>
              <a:t>The 1-1-1 dream of Conformity Assess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76280" y="1121760"/>
            <a:ext cx="5351760" cy="5320440"/>
            <a:chOff x="2276280" y="1121760"/>
            <a:chExt cx="5351760" cy="5320440"/>
          </a:xfrm>
        </p:grpSpPr>
        <p:sp>
          <p:nvSpPr>
            <p:cNvPr id="68" name="_s122885"/>
            <p:cNvSpPr/>
            <p:nvPr/>
          </p:nvSpPr>
          <p:spPr>
            <a:xfrm>
              <a:off x="2978280" y="1850400"/>
              <a:ext cx="3948120" cy="3863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22886"/>
            <p:cNvSpPr/>
            <p:nvPr/>
          </p:nvSpPr>
          <p:spPr>
            <a:xfrm rot="7200000">
              <a:off x="3019680" y="1807920"/>
              <a:ext cx="3863880" cy="39481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22887"/>
            <p:cNvSpPr/>
            <p:nvPr/>
          </p:nvSpPr>
          <p:spPr>
            <a:xfrm rot="14400000">
              <a:off x="3020400" y="1807920"/>
              <a:ext cx="3863880" cy="39481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122888"/>
            <p:cNvSpPr/>
            <p:nvPr/>
          </p:nvSpPr>
          <p:spPr>
            <a:xfrm>
              <a:off x="5774040" y="2387880"/>
              <a:ext cx="1204920" cy="11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122889"/>
            <p:cNvSpPr/>
            <p:nvPr/>
          </p:nvSpPr>
          <p:spPr>
            <a:xfrm>
              <a:off x="4349880" y="4802760"/>
              <a:ext cx="1204920" cy="11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Conform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122890"/>
            <p:cNvSpPr/>
            <p:nvPr/>
          </p:nvSpPr>
          <p:spPr>
            <a:xfrm>
              <a:off x="2924280" y="2389320"/>
              <a:ext cx="1204920" cy="11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88000" y="3025800"/>
              <a:ext cx="2305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2800" spc="-1" strike="noStrike">
                  <a:solidFill>
                    <a:srgbClr val="0033cc"/>
                  </a:solidFill>
                  <a:latin typeface="Arial"/>
                </a:rPr>
                <a:t>Accepted</a:t>
              </a:r>
              <a:r>
                <a:rPr b="1" lang="fr-CH" sz="2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fr-CH" sz="2800" spc="-1" strike="noStrike">
                  <a:solidFill>
                    <a:srgbClr val="0033cc"/>
                  </a:solidFill>
                  <a:latin typeface="Arial"/>
                </a:rPr>
                <a:t>every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The ISO/CASC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lbo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2880" y="1484280"/>
            <a:ext cx="9088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24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006db8"/>
                </a:solidFill>
                <a:latin typeface="Arial"/>
              </a:rPr>
              <a:t>CASCO tool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ists of 26 documents cove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576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cabulary, principles and common elements of conform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576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of 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576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, system, and persons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576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ing, calibration, inspection, marks of confor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576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lier’s declaration of conformity, accreditation, peer assessment, and mutual recognition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s of the CASCO toolbo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3960" y="2359080"/>
          <a:ext cx="9191160" cy="3529080"/>
        </p:xfrm>
        <a:graphic>
          <a:graphicData uri="http://schemas.openxmlformats.org/drawingml/2006/table">
            <a:tbl>
              <a:tblPr/>
              <a:tblGrid>
                <a:gridCol w="4038120"/>
                <a:gridCol w="1926360"/>
                <a:gridCol w="3226680"/>
              </a:tblGrid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ation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of good pract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 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l Recognition Arrangements (MRA’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 6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r assess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redi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s of conform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15800" y="1720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6db8"/>
                </a:solidFill>
                <a:latin typeface="Arial"/>
              </a:rPr>
              <a:t>General standards and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66680"/>
          </a:xfrm>
          <a:prstGeom prst="rect">
            <a:avLst/>
          </a:prstGeom>
          <a:solidFill>
            <a:srgbClr val="006db8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s of the CASCO toolbo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10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6db8"/>
                </a:solidFill>
                <a:latin typeface="Arial"/>
              </a:rPr>
              <a:t>Techn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7840" y="1657440"/>
          <a:ext cx="9563040" cy="3614760"/>
        </p:xfrm>
        <a:graphic>
          <a:graphicData uri="http://schemas.openxmlformats.org/drawingml/2006/table">
            <a:tbl>
              <a:tblPr/>
              <a:tblGrid>
                <a:gridCol w="4775040"/>
                <a:gridCol w="2159280"/>
                <a:gridCol w="2628720"/>
              </a:tblGrid>
              <a:tr h="5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ation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s declaration of conform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&amp; calibration laborator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ciency</a:t>
                      </a:r>
                      <a:r>
                        <a:rPr b="0" lang="fr-C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 4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p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certif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 23, 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s 53, 65, 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, 20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, 1996, 20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ertif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2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 certif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03400" y="5638680"/>
            <a:ext cx="86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For a full list of CASCO documents, visit </a:t>
            </a:r>
            <a:r>
              <a:rPr b="0" lang="fr-CH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so.org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and follow this pat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Conformity Assessment 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ations and resources &gt; List of CASCO standards and gui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56:12Z</dcterms:created>
  <dc:creator>NEW INSTALLER</dc:creator>
  <dc:description/>
  <dc:language>en-US</dc:language>
  <cp:lastModifiedBy>NEW INSTALLER</cp:lastModifiedBy>
  <dcterms:modified xsi:type="dcterms:W3CDTF">2008-11-03T10:16:29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temID">
    <vt:lpwstr>15090899</vt:lpwstr>
  </property>
  <property fmtid="{D5CDD505-2E9C-101B-9397-08002B2CF9AE}" pid="3" name="StringToDisplay">
    <vt:lpwstr> </vt:lpwstr>
  </property>
</Properties>
</file>