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4557-E27A-46B7-80BF-66DFB352C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9EFF-0C54-4CDE-A782-481478D2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BE8B-F856-46BB-BFCD-B370165EB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0D0E-28AF-43E4-91F5-8958B7B9F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AC36-ABDE-4EC6-A0B3-81245A83D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0B39-36C8-4254-9592-E0BDE319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2421-AA07-405C-B2CB-77A83271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0D55-5E7B-4160-84FA-F9B68935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5609-5B5C-4F95-A8EC-6E6028CD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CE70-BBF1-48B1-BC14-6CC474AB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2AE9-5B75-487B-BE75-7BD6C22B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2DBA-B108-40A2-85C7-E93E3289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D1B0-D844-4FC2-B88D-7EB0DE08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DC40-C65C-441A-A0E0-56F6ED65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5892-2D0F-4201-AA31-59F4203E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A8D1-6BEA-4C7F-8555-30ACDA9BD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E952-484A-428A-AC6D-345BBB14E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0880-7329-4B25-9306-7427C4E2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E757-9AB8-4739-845D-C1DCDC30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C3B4-3AEC-4422-815D-30220D22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913C-2AC6-4D04-A456-CD3B29F2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54DF-15C0-4A11-A0D2-34B0B521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7A2C-C4DD-4740-9BEE-5BBD6F82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F3D9-C482-4977-8089-B7ECDD9D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F982-4E2A-4EFC-804A-C060F0A526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9A64-4361-497E-BDD5-706E68F6D5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90720" y="16765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ampling considerations within Market Surveillance ac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86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ikola Tuneski, Ph.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artment of Mathematics and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ulty of Mechanical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opje, Macedon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ampling considerations within Market Surveillance ac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II.2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Bayesian statistic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Gives excellent results when small samples are given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main idea behind the Bayesian statistics is that the parameters (proportion, mean, deviation,…) are viewed as random variable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n classical statistics they are viewed as variables with fixed (unknown) value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34F2-8AA9-4098-A99D-7FA96F37D4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ampling considerations within Market Surveillance ac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35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nce a parameter (denoted by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) is now a random variable, its probability distribution can be specified.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uch a distribution is called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prior distribution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(denoted by </a:t>
            </a:r>
            <a:r>
              <a:rPr b="0" i="1" lang="el-G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) and it usually reflects our prior beliefs about the parameter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A7FF-0741-4B0E-9535-A6AEDA7684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ampling considerations within Market Surveillance ac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Once the experiment (inspection) is conducted  and sample (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) is observed 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posterior distribu-tion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of the parameter can be obtained that collects all knowledge (prior and sample)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  <a:ea typeface="Times New Roman"/>
              </a:rPr>
              <a:t>is the distribution of the population given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  <a:ea typeface="Times New Roman"/>
              </a:rPr>
              <a:t>(or with respect to) the parameter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  <a:ea typeface="Times New Roman"/>
              </a:rPr>
              <a:t>is the marginal distribution of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971800" y="3809880"/>
                <a:ext cx="327672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</m:e>
                        </m:d>
                      </m:num>
                      <m:den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D1D7-53B4-4498-BB86-CDF322A49A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ampling considerations within Market Surveillance ac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fter the posterior distribution is obtained we can calculate a 100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C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%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Bayesian interval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) by solving the following two equation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828800" y="3809880"/>
                <a:ext cx="5867280" cy="125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5DB7-14A7-4D54-A2E5-F6D849F8A8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ampling considerations within Market Surveillance ac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Tahoma"/>
              </a:rPr>
              <a:t>Example: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t is known (prior knowledge) that the percentage of defective bulbs in a lot is uniformly distributed between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500" spc="-1" strike="noStrike" baseline="-2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=0% and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5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=20%. In a sample of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bulbs we find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defective.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Level of confidence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LC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=95%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041E-CD3E-4059-9573-509A024B11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ampling considerations within Market Surveillance ac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182600" y="2017800"/>
          <a:ext cx="6970680" cy="4689360"/>
        </p:xfrm>
        <a:graphic>
          <a:graphicData uri="http://schemas.openxmlformats.org/drawingml/2006/table">
            <a:tbl>
              <a:tblPr/>
              <a:tblGrid>
                <a:gridCol w="417600"/>
                <a:gridCol w="304920"/>
                <a:gridCol w="1752480"/>
                <a:gridCol w="1371600"/>
                <a:gridCol w="1676520"/>
                <a:gridCol w="144756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yes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ditional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 (in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dth (in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 (in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dth (in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37, 19.2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80, 19.7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 86.6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5.62, 19.8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3.32, 1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31, 19.0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48, 19.6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 55.0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.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.18, 0.198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 82.9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52, 19.8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7.06, 1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21, 18.2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86, 19.4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 28.5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21, 19.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 44.7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.48, 19.8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59, 58.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41, 19.8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.64, 70.3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6EDB-3971-448F-BBE5-DC20104084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ampling considerations within Market Surveillance ac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Tahoma"/>
              </a:rPr>
              <a:t>Advantages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estimates for same sample siz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sample size and margin of error comparing with the binomial approa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Tahoma"/>
              </a:rPr>
              <a:t>Disadvantages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d” choice of the prior distribution leads to wrong conclu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no explicit formulas for the Bayesian interval or for the sample siz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icated calculations not suitable for practical u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7FCB-21D3-48AA-AB02-012417112E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ampling considerations within Market Surveillance ac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Tahoma"/>
              </a:rPr>
              <a:t>Research questions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575"/>
              </a:spcBef>
              <a:buNone/>
              <a:tabLst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8584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Developing mathematical procedures for calculating Bayesian interval and sample size for different types of prior distributions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0">
              <a:spcBef>
                <a:spcPts val="575"/>
              </a:spcBef>
              <a:buNone/>
              <a:tabLst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8584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Writing a computer program(s) that performs those calculations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0">
              <a:spcBef>
                <a:spcPts val="575"/>
              </a:spcBef>
              <a:buNone/>
              <a:tabLst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8584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reating tables and/or charts for practical usage.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3107-3357-405B-A707-B052E71D62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ampling considerations within Market Surveillance ac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Cont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 sit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s for improv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FD38-2B3C-49D2-9C21-D6ABA94BF0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ampling considerations within Market Surveillance ac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I.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Present situatio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n general ISO 2859-1 (Sampling procedures for inspection by attributes) is used.</a:t>
            </a: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SO 2859-1 was developed for production quality control</a:t>
            </a: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AB57-0C08-4DAC-94B8-E460945D61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ampling considerations within Market Surveillance ac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I.1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Sample size by ISO 2859-1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Depends on the size of the lot and the inspection level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Tahoma"/>
              </a:rPr>
              <a:t>Disadvantag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: Brings large sample sizes for big lots and rises the cost of the </a:t>
            </a: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inspection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C530-CAED-4D63-B914-69594D50A2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ampling considerations within Market Surveillance ac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219320" y="2666880"/>
          <a:ext cx="6742080" cy="3560760"/>
        </p:xfrm>
        <a:graphic>
          <a:graphicData uri="http://schemas.openxmlformats.org/drawingml/2006/table">
            <a:tbl>
              <a:tblPr/>
              <a:tblGrid>
                <a:gridCol w="1554120"/>
                <a:gridCol w="1073160"/>
                <a:gridCol w="533160"/>
                <a:gridCol w="24386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mp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mp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to  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1 to     1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 to  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01 to     3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 to  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01 to   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 to  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01 to   3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1 to  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001 to 15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 to 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0001 to 5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1 to 2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er 500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1 to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1182600" y="2017800"/>
            <a:ext cx="7772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r inspection level II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620A-606A-4BFE-A43F-0184DF378B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ampling considerations within Market Surveillance ac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n logarithmic scaling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95280" y="2514600"/>
          <a:ext cx="7004160" cy="362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14600"/>
                    <a:ext cx="7004160" cy="36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5E8F-F251-41F9-85AC-8A3F0242C1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ampling considerations within Market Surveillance ac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II.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Ideas for improvemen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Binomial distribution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Bayesian statistic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000E-9C96-477C-B1FB-DAEA3A7D46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ampling considerations within Market Surveillance ac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24"/>
              </a:spcBef>
              <a:buNone/>
              <a:tabLst>
                <a:tab algn="l" pos="0"/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II.1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Binomial distributio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24"/>
              </a:spcBef>
              <a:buNone/>
              <a:tabLst>
                <a:tab algn="l" pos="0"/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24"/>
              </a:spcBef>
              <a:buNone/>
              <a:tabLst>
                <a:tab algn="l" pos="0"/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Tahoma"/>
              </a:rPr>
              <a:t>Sample siz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24"/>
              </a:spcBef>
              <a:buNone/>
              <a:tabLst>
                <a:tab algn="l" pos="0"/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LC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s the level of confidence (0.9, 0.95,…)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500" spc="-1" strike="noStrike" baseline="-20000">
                <a:solidFill>
                  <a:srgbClr val="000000"/>
                </a:solidFill>
                <a:latin typeface="Times New Roman"/>
              </a:rPr>
              <a:t>LC</a:t>
            </a:r>
            <a:r>
              <a:rPr b="0" i="1" lang="en-US" sz="2500" spc="-1" strike="noStrike" baseline="-2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s the z-value for level of confidence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LC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s a prior knowledge about the proportion of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defective items in the lot (if not know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=0.5)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s margin of erro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200400" y="2629080"/>
          <a:ext cx="2438280" cy="102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629080"/>
                    <a:ext cx="243828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0B66-D5D7-48E3-821F-E9086E4BD2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ampling considerations within Market Surveillance ac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Tahoma"/>
              </a:rPr>
              <a:t>Referenc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ISO 11453 (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Statistical interpretation of data - Tests and confidence intervals relating to proportions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Tahoma"/>
              </a:rPr>
              <a:t>Advantages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ailor made sample sizes that does not depend on the size of the lot.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For large lots implies smaller sample sizes than the ones obtained by ISO 2859-1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Tahoma"/>
              </a:rPr>
              <a:t>Disadvantag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It can be used only when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p</a:t>
            </a: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1-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are bigger or equal to 5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FB0C-BF64-449E-9D4F-25A1103B54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07:35:52Z</dcterms:created>
  <dc:creator>Nikola Tuneski</dc:creator>
  <dc:description/>
  <dc:language>en-US</dc:language>
  <cp:lastModifiedBy>ONU</cp:lastModifiedBy>
  <dcterms:modified xsi:type="dcterms:W3CDTF">2008-11-03T14:00:47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