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0AB-731E-4C2A-AA23-B4E94FB6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AF5-8C93-43AC-8E9A-7762B920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57C-1B22-4086-9538-A9CE61B1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990-96B2-426D-AA27-CBBCCD2C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8EE1-B4DB-4783-BD5D-4996EED3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4339-1491-4197-88DA-E1FD5A65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54E0-5421-49AC-8BC8-E2E52C9B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8C99-BA35-4263-8BB8-42B66C81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5A7D-1E2D-4ABE-B333-9FBFC103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5261-0A4D-4F8E-8608-3ADF92A0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95AB-A79C-4CD9-9983-CCBB50B9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F5C-3AC1-452B-8AD8-985DA59D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450C-52F1-43E2-90B2-BB38157A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75F4-776F-44CE-9A6E-4C6094D3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655F-A341-468F-B7E9-B724A704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6185-F78C-4A70-8E2F-8A2C5D1A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E4C6-DF51-400E-9574-AC4783A6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3EB-59C0-4B7D-AF8E-E24701C2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268-5FF6-499D-A754-7E318B0A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403-8DBE-4D1E-9629-B433AEA4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273-7588-4193-9594-74A975D1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E84-E9FE-499D-906D-AF8CB909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E3B-2A6E-4B58-B1DD-C168FC55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AC9-4005-4801-A9C3-9C8621B0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3F1C-6CDE-4162-899D-B9ADAA59B0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CB02-668C-4B73-81BA-D04DFD6C9E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kola Tuneski, Ph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artment of Mathematics and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ulty of Mechanical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opje, Macedo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I.2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Bayesian statistic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Gives excellent results when small samples are give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main idea behind the Bayesian statistics is that the parameters (proportion, mean, deviation,…) are viewed as random variabl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classical statistics they are viewed as variables with fixed (unknown) value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A4C-DEAC-4A4B-B50A-94AABE47F5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nce a parameter (denoted by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) is now a random variable, its probability distribution can be specified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uch a distribution is called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rior distribution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(denoted by </a:t>
            </a:r>
            <a:r>
              <a:rPr b="0" i="1" lang="el-G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) and it usually reflects our prior beliefs about the parameter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7D5-968A-4AF9-8D79-B4EC56DCDD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nce the experiment (inspection) is conducted  and sample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) is observed 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osterior distribu-tion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f the parameter can be obtained that collects all knowledge (prior and sample)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is the distribution of the population given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(or with respect to) the parameter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is the marginal distribution of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971800" y="3809880"/>
                <a:ext cx="3276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num>
                      <m:den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CC7-9BE3-4C47-96FC-09E9DBBEE4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fter the posterior distribution is obtained we can calculate a 100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C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% 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Bayesian interval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) by solving the following two equatio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828800" y="3809880"/>
                <a:ext cx="586728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B9F-3104-4C7B-AABB-EB2C171F92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Example: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t is known (prior knowledge) that the percentage of defective bulbs in a lot is uniformly distributed betwee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 baseline="-2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=0% and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=20%. In a sample of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bulbs we find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defective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evel of confidence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C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=95%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359-C92C-4486-8A74-690C49E33D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82600" y="2017800"/>
          <a:ext cx="6970680" cy="4689360"/>
        </p:xfrm>
        <a:graphic>
          <a:graphicData uri="http://schemas.openxmlformats.org/drawingml/2006/table">
            <a:tbl>
              <a:tblPr/>
              <a:tblGrid>
                <a:gridCol w="417600"/>
                <a:gridCol w="304920"/>
                <a:gridCol w="1752480"/>
                <a:gridCol w="1371600"/>
                <a:gridCol w="1676520"/>
                <a:gridCol w="144756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es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(in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 (in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(in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 (in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37, 19.2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80, 19.7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86.6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5.62, 19.8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32, 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31, 19.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48, 19.6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55.0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18, 0.198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82.9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52, 19.8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7.06, 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21, 18.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86, 19.4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28.5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21, 19.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44.7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.48, 19.8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9, 58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41, 19.8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64, 70.3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5FB-84CB-4CDD-8D2D-DC62B4DD60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Advantage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estimates for same sample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sample size and margin of error comparing with the binomial appro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Disadvantage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d” choice of the prior distribution leads to wrong conclu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no explicit formulas for the Bayesian interval or for the sample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icated calculations not suitable for practical 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783-77D3-4D7E-B037-B843C3FA85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Research question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575"/>
              </a:spcBef>
              <a:buNone/>
              <a:tabLst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eveloping mathematical procedures for calculating Bayesian interval and sample size for different types of prior distribution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spcBef>
                <a:spcPts val="575"/>
              </a:spcBef>
              <a:buNone/>
              <a:tabLst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Writing a computer program(s) that performs those calculation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spcBef>
                <a:spcPts val="575"/>
              </a:spcBef>
              <a:buNone/>
              <a:tabLst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reating tables and/or charts for practical usage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729-2C2B-4C8D-A7B6-E35142E399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 sit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s for impr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79A-0551-4F93-9BFF-04398D51A9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resent situ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general ISO 2859-1 (Sampling procedures for inspection by attributes) is used.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SO 2859-1 was developed for production quality control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D4D-E247-425C-AA93-FBBFC6A418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.1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Sample size by ISO 2859-1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pends on the size of the lot and the inspection lev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Disadvantag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: Brings large sample sizes for big lots and rises the cost of the 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inspec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C6B-611E-4600-A1B6-976BDE4F0E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19320" y="2666880"/>
          <a:ext cx="6742080" cy="3560760"/>
        </p:xfrm>
        <a:graphic>
          <a:graphicData uri="http://schemas.openxmlformats.org/drawingml/2006/table">
            <a:tbl>
              <a:tblPr/>
              <a:tblGrid>
                <a:gridCol w="1554120"/>
                <a:gridCol w="1073160"/>
                <a:gridCol w="533160"/>
                <a:gridCol w="24386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to  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1 to     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to 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1 to     3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 to 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01 to   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 to 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1 to   3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 to 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001 to 1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 to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001 to 5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1 to 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 50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1 to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1182600" y="201780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r inspection level I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59E-0A05-4D2A-A13A-7C172EA552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logarithmic scaling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2514600"/>
          <a:ext cx="7004160" cy="36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700416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0F0-2157-4CF9-986C-2F43A63A36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deas for improvem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inomial distribu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ayesian statistic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17C-3BB1-4074-9EAB-FA3A681FFA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I.1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Binomial distribu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Sample siz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C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s the level of confidence (0.9, 0.95,…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500" spc="-1" strike="noStrike" baseline="-20000">
                <a:solidFill>
                  <a:srgbClr val="000000"/>
                </a:solidFill>
                <a:latin typeface="Times New Roman"/>
              </a:rPr>
              <a:t>LC</a:t>
            </a:r>
            <a:r>
              <a:rPr b="0" i="1" lang="en-US" sz="2500" spc="-1" strike="noStrike" baseline="-2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s the z-value for level of confidence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s a prior knowledge about the proportion of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fective items in the lot (if not know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=0.5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6224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s margin of erro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00400" y="2629080"/>
          <a:ext cx="243828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629080"/>
                    <a:ext cx="243828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F51-2947-45D2-9739-218C24BB29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considerations within Market Surveillance 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Referen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SO 11453 (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tatistical interpretation of data - Tests and confidence intervals relating to proportion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Advantage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ailor made sample sizes that does not depend on the size of the lot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or large lots implies smaller sample sizes than the ones obtained by ISO 2859-1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Disadvantag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t can be used only when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re bigger or equal to 5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642-CF54-4FB9-A980-9087B8BE07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07:35:52Z</dcterms:created>
  <dc:creator>Nikola Tuneski</dc:creator>
  <dc:description/>
  <dc:language>en-US</dc:language>
  <cp:lastModifiedBy>ONU</cp:lastModifiedBy>
  <dcterms:modified xsi:type="dcterms:W3CDTF">2008-11-03T14:00:47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