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666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66360"/>
              <a:gd name="textAreaBottom" fmla="*/ 9666000 h 9666360"/>
            </a:gdLst>
            <a:ahLst/>
            <a:rect l="textAreaLeft" t="textAreaTop" r="textAreaRight" b="textAreaBottom"/>
            <a:pathLst>
              <a:path w="21600" h="30445">
                <a:moveTo>
                  <a:pt x="5" y="0"/>
                </a:moveTo>
                <a:arcTo wR="5" hR="5" stAng="16200000" swAng="-5400000"/>
                <a:lnTo>
                  <a:pt x="0" y="30440"/>
                </a:lnTo>
                <a:arcTo wR="5" hR="5" stAng="10800000" swAng="-5400000"/>
                <a:lnTo>
                  <a:pt x="21595" y="304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-1440" y="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86200" y="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022400" y="731520"/>
            <a:ext cx="4811760" cy="36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2920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-144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1"/>
          </p:nvPr>
        </p:nvSpPr>
        <p:spPr>
          <a:xfrm>
            <a:off x="388584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1CF66-3A07-4FE4-BA56-CEF06FD9CF6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B5AC1-6708-45D0-BF70-D7620EF89858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2900E8-BDA2-4D48-AB4E-5246756B83A8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urpose of the worksh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U structures for implementing the PE Dir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-operation with stakeholders (economic operators, CAB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’s,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ther peer institutes in Europe of the authority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rket surveillance in EU: curr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rket surveillance in MK: step-by-step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2A049-C01C-4952-963E-4A44B428A200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C232E2-65D3-4F94-96F2-C35EBFD1F848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B5D38-AB59-4BD1-B6F7-E39CA71EDAF6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EA7C52-0180-46BA-9686-AFB2BD3517D9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D7FDF-3984-4B61-B532-076426326B68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4F1DB0-1FEA-4803-AAFC-1641535677F4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5457D-E913-4EDF-AE3F-5CCC0211A630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0C7EBE-65DF-4F35-AD49-E31777ED2A9E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86318-9689-440A-927A-0FBF95F46AD0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94C006-D1ED-4BF4-85A9-31DFCFB0AB53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621E6-957B-4EF9-B1D0-D982363F6673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B01C62-511C-40A8-A382-55BA645DC071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939BB-9F75-4F65-9ED6-1CA2274DD32E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A8C908-EC15-47E7-AB0A-D1C9EC6D6E55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2F3C5-FF69-475C-BDB6-808CADEAD726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4A11D2-F924-4F4D-BCB0-780FA634ADF0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C3F24-79F1-4611-AD0E-2617C827A046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839C3F-8FC0-46AB-B65F-D6810B8AB66D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3B67D-3D9C-431C-9F56-D6D21AFAFD87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156765-7C58-4CD5-BB3E-B8D7899A0B2B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21B40-769F-4439-9355-089A53402CDA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9C54FC-BEF7-417D-BE7E-A4EB09DEE21E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6F217-AF88-49C5-9CD6-83BBB837B69D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92DD0C-9967-41E3-91AE-AE51B041CCDF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9182160"/>
            <a:ext cx="297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3BF3B-563A-43EF-B623-6FCCC278368A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3886200" y="918216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82A7EB-A089-42CE-A103-F33BBC300E0B}" type="slidenum"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022400" y="73188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2960" y="4592520"/>
            <a:ext cx="5030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" y="415080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974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884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7404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28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884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7404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10960" y="228240"/>
            <a:ext cx="775512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74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280" y="415080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74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3884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74040" y="170964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28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3884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74040" y="4150800"/>
            <a:ext cx="25095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" y="228240"/>
            <a:ext cx="775512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97480" y="415080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97480" y="1709640"/>
            <a:ext cx="38037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4150800"/>
            <a:ext cx="779472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217440" y="1219320"/>
            <a:ext cx="774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8182080" y="6424560"/>
            <a:ext cx="8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01428E-1731-499B-8D39-2D7302BCDD6F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1"/>
          <p:cNvSpPr/>
          <p:nvPr/>
        </p:nvSpPr>
        <p:spPr>
          <a:xfrm>
            <a:off x="0" y="6102360"/>
            <a:ext cx="9142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2"/>
          <p:cNvSpPr/>
          <p:nvPr/>
        </p:nvSpPr>
        <p:spPr>
          <a:xfrm>
            <a:off x="7005600" y="6245280"/>
            <a:ext cx="1930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1  2008-10-28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03280" y="1709640"/>
            <a:ext cx="779472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0960" y="228240"/>
            <a:ext cx="77551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0" y="1025640"/>
            <a:ext cx="9144000" cy="43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ECE WP6 panel se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w Market Surveillance syst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 November 2008 - Gene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0" y="5508720"/>
            <a:ext cx="914400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139160" y="5580000"/>
            <a:ext cx="1031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. Hendrik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Ranking of MS system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Partial surveillance of harmonized legis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Surveillance of all harmonized legis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Surveillance of all harmonized legislation + non-regulated fiel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Fully integrated database (classified item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Participation to cross-border pro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Initializing and leading cross-border pro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Research in MS fie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 Classification of produ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500040" y="1571760"/>
            <a:ext cx="78706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28760" y="1785960"/>
          <a:ext cx="8143920" cy="4751280"/>
        </p:xfrm>
        <a:graphic>
          <a:graphicData uri="http://schemas.openxmlformats.org/drawingml/2006/table">
            <a:tbl>
              <a:tblPr/>
              <a:tblGrid>
                <a:gridCol w="1684080"/>
                <a:gridCol w="2176560"/>
                <a:gridCol w="2457360"/>
                <a:gridCol w="1825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 of produc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 of relevant feature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applicable legislatio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” (technical) produc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V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hold irone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6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complex” (technical) produc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VD, EMC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hold toaster (incl. electronic timer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” (technical) produc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VD, EMC, M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e too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 consumer produc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or mor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VD, EMC, Dang. Subst, R&amp;TT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gulate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harmonize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non-regulate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ligent textiles worn on people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l. Hazard/EMF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"/>
          <p:cNvSpPr/>
          <p:nvPr/>
        </p:nvSpPr>
        <p:spPr>
          <a:xfrm>
            <a:off x="539640" y="1357200"/>
            <a:ext cx="7871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Inherently safety critical features, user, complex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 Cost aspects of MS a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untry X, surveillance of 1 directive (LVD), product: household ironer, per y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he mark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Number of electric irons on marke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5000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ie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ample size (ISO 2859-1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1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ie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ssessment costs (AC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dministrative check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0 € x 31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945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esting (2 Er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400 € x 31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260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otal assessm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2205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ample costs, transport, etc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15 x100 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150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co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5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SA costs (staff fees, overhea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. 20% of A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4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direct costs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verall cost for 1 MS action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52448 €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 Cost aspects of MS a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77720" y="13161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re are much more household products on the market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ay 10 times m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→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0.5 M€/per MS a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re are 24 other directives… (not to count the estimated 30% non-harmonized produc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say 10 times more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→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5 M€/per MS a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Arial"/>
              </a:rPr>
              <a:t>The above figures are estima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 Preliminary conclusions and way forw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477720" y="1468440"/>
            <a:ext cx="787104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No classification of ERs in technical legis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No classification of critical safety requirements in applicable (product) 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A Business Plan approach to MS actions reveals substancial co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ssible way forwa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We need more data and a system approach to get a believable M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d adding valuable inputs of stakeholder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s of this pres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539640" y="1447920"/>
            <a:ext cx="719784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8040" indent="-608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-market control versus post-market surveill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ition of Market Surveill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nking of MS syst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ssification of produ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aspects of MS a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liminary conclusions and way forw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21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539640" y="161928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Some basic thoughts.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Market surveillance refers to actions when product is on the mark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re services included? (we assume not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Essential remark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New legislative trends vote for less pre-market involvement of authori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There are millions of products brought on the market each ye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Some kind of assessment of this large volume of products would mean a lot of costs/manpower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539640" y="161928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How does this translate to legal and practical implementations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We need a clear definition of what is Market Surveilla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Efforts needed cover interactions between countries/regions: we need a vision and budg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Existing legal field may be hampering an effective MS system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9640" y="161928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Some ideas to go forward.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Make a business plan for an effective MS syste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Develop a general procedure for different field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539640" y="161928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Some more advanced ideas to go forward.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Transparency for all players requires advanced reporting method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Classification of essential requireme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Simulation of stochastic data and introducing ‘what-if” scenarios would de-mystify the MS landscap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Linking essential requirements, risk assessment, statistic methods and conformity assessment resul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79280" y="-49320"/>
            <a:ext cx="77565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Pre-market control versus Post-market surveill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539640" y="15573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39640" y="1722600"/>
            <a:ext cx="8224920" cy="4397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876240" y="4975200"/>
            <a:ext cx="3274920" cy="136224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>
            <a:off x="4411800" y="1758960"/>
            <a:ext cx="77760" cy="3863880"/>
          </a:xfrm>
          <a:prstGeom prst="line">
            <a:avLst/>
          </a:prstGeom>
          <a:ln w="720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179280" y="0"/>
            <a:ext cx="77565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Pre-market control versus Post-market surveill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539640" y="1557360"/>
            <a:ext cx="78710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281160" y="2075040"/>
          <a:ext cx="7807320" cy="37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2075040"/>
                    <a:ext cx="780732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210960" y="228600"/>
            <a:ext cx="7756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Definition of Market Surveill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500040" y="1500120"/>
            <a:ext cx="787068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cording to latest definition of 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‘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arket surveillance’ shall mean the activities carried ou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nd measures taken by public authorities to ensure th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roducts comply with the requirements set out in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relevant Community harmonisation legisla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nd do no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ndanger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health, safety or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any other aspect of public intere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prote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(Regulation 765/2008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c</dc:creator>
  <dc:description/>
  <dc:language>en-US</dc:language>
  <cp:lastModifiedBy>Gebruiker</cp:lastModifiedBy>
  <dcterms:modified xsi:type="dcterms:W3CDTF">2008-10-30T11:07:13Z</dcterms:modified>
  <cp:revision>19</cp:revision>
  <dc:subject/>
  <dc:title>Technical Committee</dc:title>
</cp:coreProperties>
</file>