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666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6360"/>
              <a:gd name="textAreaBottom" fmla="*/ 9666000 h 9666360"/>
            </a:gdLst>
            <a:ahLst/>
            <a:rect l="textAreaLeft" t="textAreaTop" r="textAreaRight" b="textAreaBottom"/>
            <a:pathLst>
              <a:path w="21600" h="30445">
                <a:moveTo>
                  <a:pt x="5" y="0"/>
                </a:moveTo>
                <a:arcTo wR="5" hR="5" stAng="16200000" swAng="-5400000"/>
                <a:lnTo>
                  <a:pt x="0" y="30440"/>
                </a:lnTo>
                <a:arcTo wR="5" hR="5" stAng="10800000" swAng="-5400000"/>
                <a:lnTo>
                  <a:pt x="21595" y="304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-1440" y="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86200" y="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22400" y="731520"/>
            <a:ext cx="481176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2920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-144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388584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44AC1-16C9-47EB-9A7C-B8639D4D857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DD19E-D05A-4285-99CE-AC214761F72B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E71F25-5E4C-4E97-A999-D55DEF0F3E5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urpose of the worksh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U structures for implementing the PE Dir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-operation with stakeholders (economic operators, CA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’s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ther peer institutes in Europe of the authority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ket surveillance in EU: curr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ket surveillance in MK: step-by-step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A6A53-8C55-412F-BBE9-80C0C81973D3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9A851A-DADF-4D50-A827-840F09785959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70E9D-09C2-4230-8610-C45E8D04C92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1AF867-8CEB-40C1-85A3-4236F8728146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BDC74-8510-4CF7-AC29-86D42D84B9D1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3E3A06-859C-4044-B597-64FDD9FF792F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6A037-4DBF-4D2A-9CD4-084005EC3411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6596E3-A2A3-4CF9-B5B7-74B36E25EB1B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732FC-C152-4C8F-B18E-60C390E55CE5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1CCBB9-2938-4606-B63F-F66F68CC713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33D24-4B70-43DD-8130-6B85DBE93AC2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A8D6D6-1E34-4688-9A80-9F157B58C9F8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27405-1701-4006-8575-17B832A96714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A2721F-6E70-41BD-926A-E4E57C9D146C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03E1E-03AB-44E8-B6CD-A94FCC5A381F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2E9063-F28C-48AF-91F3-6AC459895082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13F5A-4AF3-4FC2-B31E-097B5927FBCA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00296A-AEF8-46C3-8CED-6124D86F5F6C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70C37-B7BC-4840-8E1B-B48D005BA207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C4A103-11DF-4A26-918D-AC6B4AB87E4A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04A15-E0FC-487D-A7D1-311982AAEB8A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C06AEA-62A4-400E-B28B-597568DC2BE6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5982F-ADC2-427F-A48F-DFEFA2B12593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08767E-E1CE-4D71-8005-B329A9594BCC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2F301-6B5E-4829-A874-C2CA9BB26BD1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C548A8-B963-481D-8792-A8467137D15B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88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740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88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740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10960" y="228240"/>
            <a:ext cx="775512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388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740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388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740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" y="228240"/>
            <a:ext cx="775512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217440" y="1219320"/>
            <a:ext cx="774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182080" y="642456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6C2BCD-6550-4094-B64E-BC5DE7EA674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1"/>
          <p:cNvSpPr/>
          <p:nvPr/>
        </p:nvSpPr>
        <p:spPr>
          <a:xfrm>
            <a:off x="0" y="6102360"/>
            <a:ext cx="9142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7005600" y="6245280"/>
            <a:ext cx="1930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1  2008-10-2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0" y="1025640"/>
            <a:ext cx="9144000" cy="43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ECE WP6 panel s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w Market Surveillance syst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 November 2008 - Gene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5508720"/>
            <a:ext cx="91440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139160" y="5580000"/>
            <a:ext cx="1031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. Hendrik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Ranking of MS syste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Partial surveillance of harmonized legis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Surveillance of all harmonized legis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Surveillance of all harmonized legislation + non-regulated fiel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Fully integrated database (classified item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Participation to cross-border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Initializing and leading cross-border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Research in MS fie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Classification of produ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500040" y="1571760"/>
            <a:ext cx="78706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1785960"/>
          <a:ext cx="8143920" cy="4751280"/>
        </p:xfrm>
        <a:graphic>
          <a:graphicData uri="http://schemas.openxmlformats.org/drawingml/2006/table">
            <a:tbl>
              <a:tblPr/>
              <a:tblGrid>
                <a:gridCol w="1684080"/>
                <a:gridCol w="2176560"/>
                <a:gridCol w="2457360"/>
                <a:gridCol w="1825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 of produc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of relevant featur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applicable legislat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” (technical) produc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hold irone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complex” (technical) produc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D, EM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hold toaster (incl. electronic timer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” (technical) produc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D, EMC, M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e too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 consumer produc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or mor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D, EMC, Dang. Subst, R&amp;T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gulat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harmoniz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non-regulat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igent textiles worn on people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l. Hazard/EMF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"/>
          <p:cNvSpPr/>
          <p:nvPr/>
        </p:nvSpPr>
        <p:spPr>
          <a:xfrm>
            <a:off x="539640" y="1357200"/>
            <a:ext cx="7871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herently safety critical features, user, complex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st aspects of MS 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untry X, surveillance of 1 directive (LVD), product: household ironer, per y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he mark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umber of electric irons on mark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5000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ie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ample size (ISO 2859-1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1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ie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ssessment costs (AC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dministrative check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0 € x 31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945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sting (2 Er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00 € x 31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26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otal assess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205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ample costs, transport, etc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5 x100 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5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co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5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SA costs (staff fees, overhea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. 20% of A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4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direct costs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all cost for 1 MS actio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52448 €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st aspects of MS 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re are much more household products on the market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ay 10 times m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→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0.5 M€/per MS 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re are 24 other directives… (not to count the estimated 30% non-harmonized produc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say 10 times more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→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5 M€/per MS 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Arial"/>
              </a:rPr>
              <a:t>The above figures are estim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 Preliminary conclusions and way forw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77720" y="1468440"/>
            <a:ext cx="787104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No classification of ERs in technical legis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No classification of critical safety requirements in applicable (product)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A Business Plan approach to MS actions reveals substancial co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ssible way forw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e need more data and a system approach to get a believable M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d adding valuable inputs of stakeholde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s of this pres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9640" y="1447920"/>
            <a:ext cx="719784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8040" indent="-608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-market control versus post-market surveill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tion of Market Surveill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nking of MS syst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ification of produ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aspects of MS a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liminary conclusions and way forw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Some basic thoughts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Market surveillance refers to actions when product is on the mark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re services included? (we assume not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Essential remark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New legislative trends vote for less pre-market involvement of authori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There are millions of products brought on the market each y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kind of assessment of this large volume of products would mean a lot of costs/manpowe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How does this translate to legal and practical implementations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We need a clear definition of what is Market Surveill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Efforts needed cover interactions between countries/regions: we need a vision and budg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Existing legal field may be hampering an effective MS system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Some ideas to go forward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Make a business plan for an effective M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evelop a general procedure for different fiel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Some more advanced ideas to go forward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Transparency for all players requires advanced reporting metho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lassification of essential requirem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imulation of stochastic data and introducing ‘what-if” scenarios would de-mystify the MS landscap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Linking essential requirements, risk assessment, statistic methods and conformity assessment resul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79280" y="-49320"/>
            <a:ext cx="77565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re-market control versus Post-market surveill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15573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39640" y="1722600"/>
            <a:ext cx="8224920" cy="4397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876240" y="4975200"/>
            <a:ext cx="3274920" cy="136224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>
            <a:off x="4411800" y="1758960"/>
            <a:ext cx="77760" cy="3863880"/>
          </a:xfrm>
          <a:prstGeom prst="line">
            <a:avLst/>
          </a:prstGeom>
          <a:ln w="720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79280" y="0"/>
            <a:ext cx="77565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re-market control versus Post-market surveill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539640" y="15573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281160" y="2075040"/>
          <a:ext cx="780732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2075040"/>
                    <a:ext cx="780732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Definition of Market Surveill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00040" y="1500120"/>
            <a:ext cx="787068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ording to latest definition of 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‘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arket surveillance’ shall mean the activities carried o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nd measures taken by public authorities to ensure th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s comply with the requirements set out in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relevant Community harmonisation legisla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nd do no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ndanger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health, safety or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ny other aspect of public inter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prote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(Regulation 765/2008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c</dc:creator>
  <dc:description/>
  <dc:language>en-US</dc:language>
  <cp:lastModifiedBy>Gebruiker</cp:lastModifiedBy>
  <dcterms:modified xsi:type="dcterms:W3CDTF">2008-10-30T11:07:13Z</dcterms:modified>
  <cp:revision>19</cp:revision>
  <dc:subject/>
  <dc:title>Technical Committee</dc:title>
</cp:coreProperties>
</file>