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666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6360"/>
              <a:gd name="textAreaBottom" fmla="*/ 9666000 h 9666360"/>
            </a:gdLst>
            <a:ahLst/>
            <a:rect l="textAreaLeft" t="textAreaTop" r="textAreaRight" b="textAreaBottom"/>
            <a:pathLst>
              <a:path w="21600" h="30445">
                <a:moveTo>
                  <a:pt x="5" y="0"/>
                </a:moveTo>
                <a:arcTo wR="5" hR="5" stAng="16200000" swAng="-5400000"/>
                <a:lnTo>
                  <a:pt x="0" y="30440"/>
                </a:lnTo>
                <a:arcTo wR="5" hR="5" stAng="10800000" swAng="-5400000"/>
                <a:lnTo>
                  <a:pt x="21595" y="304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440" y="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22400" y="731520"/>
            <a:ext cx="481176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292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4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388584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7287E-F275-4464-875C-ADEDEA5D39D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88496C-C1DB-43F7-8E7C-4B22AFC8792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urpose of the worksh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U structures for implementing the PE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-operation with stakeholders (economic operators, CA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’s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ther peer institutes in Europe of the authority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EU: curr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MK: step-by-step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6A5288-2CBF-4265-9C17-1E75C0A79D6A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8339C0-C2DE-43E1-BC96-CF94E675D8FE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3ED139-36C7-42B6-8930-81549AFDE29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54A1BD-4AEE-4122-8977-41BBAB9B45AA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F6A70C-C010-49A6-BC9E-C91F6822B3B4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A1545F-F0C1-4E73-854E-0E8CA5C0E38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1D1AFF-C683-4034-BF24-0792CAC8BB79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5BDC9F-5A93-469A-9332-F5A74BB4C78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0B5CF1-838F-4850-AF89-78349D71E69D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91C83E-183C-47F3-B64B-D841A6AB1F26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429B69-0374-4152-BE3A-DE8917F49A9C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1B4A2C-97B3-4322-964C-1503343F28F3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086F6C-880D-4EB6-819C-B612EE75F5F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21AA99-1124-4918-9D3D-C96CBC98C1B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E40C41-1E61-4AE9-A2B2-6A1397FA0729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FE1696-E061-466E-AD24-BF3AAF035DA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1219320"/>
            <a:ext cx="774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82080" y="642456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CE47D5-D23A-4FC9-9EA6-A9C26D4A5DF9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102360"/>
            <a:ext cx="914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05600" y="6245280"/>
            <a:ext cx="1930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1  2008-10-2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25640"/>
            <a:ext cx="9144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CE WP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nel s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ral MS proced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ft 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 November 2008 - Gene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08720"/>
            <a:ext cx="91440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39160" y="5580000"/>
            <a:ext cx="1031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. Hendrik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xt p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xplanations to the sections in the flow cha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7720" y="1386000"/>
            <a:ext cx="866628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nex 1: List of sub-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0 Sub-procedures were identif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79600" y="2106720"/>
            <a:ext cx="414036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development: not included in current dr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Further development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get more data/opinions from authorities, stakehold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estionnair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estionnair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Research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720" y="1574640"/>
            <a:ext cx="787104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earch question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a heterogeneous mass of products on the market (x) is considered, and if a limited sampling plan is used, how sure are we that these MS actions are appropri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SO 2859-1 statistical standard cannot be used directly as it was developed for 1 production run (homogeneous product mass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ISO 2859-1 is still used the number of samples, hence the costs become excessive hi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ossible deliverab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udying x as a function of independent random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ition of the type of distribution for 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aracteristics of the distribution (mean, stand.deviation,.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bability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Research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720" y="1574640"/>
            <a:ext cx="787104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earch ques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sidering the same distribution as described in research question 1, how can we model the effect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isk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easurement uncertain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ampling sche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sibility and its effect on MS effective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relation between above parameters has not been stud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ossible deliverab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dvanced model: possible to simulate what-if scenarios (cost of MS action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Impact mode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84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176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11342520" cy="7020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Preliminary conclusions and way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720" y="1468440"/>
            <a:ext cx="787104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rrent draft has been assessed by 1 authority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 questions how sampling is done (ISO 2859-1) parameters need to be defined or other sampling methods needs to be developed: complete new area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horities hesitating to provide data for questionnai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ssible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consortium for further development of GMSP (user group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hich secto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Research project 1:  new sampling proced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Research project 2:  advanced MS mod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disciplinary approach(authorities, industry, CABs, academia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ents of this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447920"/>
            <a:ext cx="719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8040" indent="-608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MSP draft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ope of the GMS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12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 general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12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0 or more sub-proced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12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mplat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rther development of the GMS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liminary conclusions and way forw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The GMSP draf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raft 1 developed in 2006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raft 1 provided to UNECE WG members begin 200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87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raft 2 takes into consideration new legal frame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Scope of the GMSP draf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on-food are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ally New Approach oriented but Old Approach and non-harmonized area are included, but not asses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87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VD has been taken as an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phases, each MS phase has sub-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4533840" cy="420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verall procedure (all 3 phases, sections 0-14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47840" y="1695600"/>
            <a:ext cx="4592520" cy="4895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(5): definition of technical legislation, harmonised standards, ERs, compliance criteria, sampling, test plan (Phase 1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9280" y="1925640"/>
            <a:ext cx="378000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(7): Execution of MS activity, administrative tasks, inspection, testing including in-situ sampling (Phase 2-1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38360" y="1905120"/>
            <a:ext cx="3959280" cy="4841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(7): Execution of MS activity, administrative tasks, inspection, testing including in-situ sampling (Phase 2-2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1925640"/>
            <a:ext cx="4140000" cy="477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c</dc:creator>
  <dc:description/>
  <dc:language>en-US</dc:language>
  <cp:lastModifiedBy>ivan hendrikx</cp:lastModifiedBy>
  <cp:revision>0</cp:revision>
  <dc:subject/>
  <dc:title>Technical Committee</dc:title>
</cp:coreProperties>
</file>