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56BD-7863-4860-8D36-58A46F6C3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489F-31C3-4C34-8A24-F013F9A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73A31-633B-499C-B782-F45FD78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75AB4-9789-4C3A-9497-5A293FF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8BE3A1-EE2F-495D-830E-63A04F4F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8B040-53C1-46BB-AA4F-8FA84B79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AD9B6-F2CE-45B4-93C4-F473D15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FB1812-BA59-4791-ABBF-4DC9A2CD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737D5-72A7-416C-AD7B-65695FC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51EB8-DDCB-4B35-ABDF-A36896C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F38FB-84A7-4EBF-A396-50342F2A3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4ACA-593B-48B9-8B2C-81714B40F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97BD-864A-4295-BFCF-606D9CE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673C-87EE-40FC-8788-D81A099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CBC4-AB89-4CDE-AB7A-51C1BBD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54040-750E-4187-8B96-98BA622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3C97-064C-4D35-944A-8F043B71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6A2E-C2D5-4FA5-A0BE-C0BABC25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7344-1B83-4EAC-BBEC-5B25ED7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4246-8DA4-46D1-B2AA-778D45E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783C-2C4F-48BB-BDFB-53B1302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4987-7221-4EE7-8BDC-8379579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5B8C-C394-44C4-A89E-D21D0D6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EA69-07F7-48F8-8A3D-2DB7929F2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562E-5305-48C4-AC04-DE7F1DF70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63E66-F68D-405D-96B4-58D3832CE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74A51-0F7B-4A9A-B0C4-18CBBBD8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9DD6B-DF18-41ED-9E65-422FCD1D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C2E3D-082A-4AB4-B9C0-48D34E7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3BD08-1A95-45CB-BF23-15A6920C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6B4D1-C29A-48BC-AE85-BB92A200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99990-6093-40E5-8874-679C029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0A91B-D5C4-4A59-A764-156B2BD7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53CDB-B4B8-4AE9-AAAD-812409D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7BA56-0C0B-4E4A-A1EA-238727E6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CC4B7-F759-495B-8EF8-51ED7BD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9EF22-E008-48F3-AA68-3EFE4F406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26585-1647-4353-B27A-FEB276DF62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9EDF78-A1B2-4F4F-9558-0BC639D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B3DDBB-4F16-42AE-8B9F-1825E57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3D9D1-0E4B-429F-B481-8E38FB1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B068D-EBB9-4DD9-A40C-B61965E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F6E22-CC2A-429E-83CA-A2E8541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D81B8-F183-4FA4-A7A2-107EB589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9D5ED-7F6A-432B-8A98-AAEFCF61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57C2A-C8B0-4D60-9C72-C0C40580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E133F0-EA34-4AC8-8807-58FC4560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9AFD8-E03E-4FE4-8B2E-109DA86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3EA92-E6CB-4BC9-8AB1-B8A0ED43B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4E8B-002A-47BA-94B0-B7B6316F2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6FA0-6BF8-446E-AF65-5C71704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469A5-52F6-4A02-8FB4-1029F3D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84F1-4C3A-4E27-8040-92A3F6E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D6B0E-08D0-44DE-986A-C65F53F1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3B03D-8984-42F3-96B0-771DE59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6FE7-1F4A-4597-86CB-0E832A7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213AE-7B46-4B31-9505-D028698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5A88F-88C1-4385-B4B9-95BA6A0E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D080A-EC79-47F0-88CE-BDFA538B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9B92E-9760-4686-9945-5662787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5AFA7-CF6B-4D45-A4E6-B1937D72A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1A6F-AFC5-4B59-AC2B-4D55442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BDDDE-B4DC-468E-933C-EFCD80EB5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646AC-EECC-4BBE-A825-A425939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5A997-03F3-4046-A49A-8ED095D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B6A9A-B713-4078-9C8C-3604959B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722C4-B730-441F-924B-79B76744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E8DB-7186-4FC9-AA76-949716A1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657DD-AE36-44B9-A827-F1B621A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CD490-0A30-4C55-89EB-C5C8732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39CC2-5E41-4344-BF7A-E8A9D3F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17363-D0BB-49CF-B295-6700BA50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6B17E-1139-42F4-BBBD-E551141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D03E-C336-4034-B2AB-21E793A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130ED-2D60-41B3-AD00-16AACE1E6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3EC5-CB27-47F5-9F10-0D957A594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8BE-69B3-4AFA-B799-59CDEC7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F6E5-11F8-4E42-B519-4E0F71D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3025-EC32-4362-9CA5-47EF695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E5F-0DFF-4378-808F-D20E846A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D07-4074-46A2-810D-1F01EBF2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D4AF-4E6D-4CBC-9378-C0E9133D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7129-7EAC-4215-A233-E60BA1B4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89E3-E724-4319-BD06-DD1DC653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7D4C-DAC2-4984-9848-87A40740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6680-4301-412C-92A2-372AE20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820F-43F4-44A3-B734-EE79FE8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1C39-5094-40ED-93CC-7F8F643FE5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AAC47-3914-443E-BD01-B15F1BBBD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3223-5A9C-41F8-B26C-A54BE3F6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61704-50F0-41EA-BE85-C105D55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35CCA-80CB-48EA-833E-6C92B1C8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FBB31-5D3E-4DAC-8AED-F07DF12F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76FAC-6E24-4804-802E-49F31612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3F084-272D-4A90-81DF-65618406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642AC-44B2-4AE9-AC72-B7959EC3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44881-9686-4F59-8EA3-01FACC4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F6E24-8A50-496E-970E-035D2AB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AE1C6-940C-40E8-949C-607975C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2D263-3707-4EEC-A23F-49B6482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88A6-2DAE-4A3B-8C1D-67C0A277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E4C9E-077D-4797-A052-189A092B03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519B1-7731-4795-ACA6-4529FE6C1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BDF95-4CB3-4DB3-A4BA-72BB90D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91199-0A63-40F8-873B-D61952F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829BE-3D03-4C65-9828-2BC63F2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BFFD1-D949-402D-9D5C-03E6D5EC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089C7-D6A9-4218-93E7-7F9F7903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4F373-4F9D-4BB5-AE84-E23EE9E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CB81B-3E0F-4DCD-986D-84B60EB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ED7E5-3400-402D-9A87-5D5042F8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1D01-C6D7-4747-96FA-D73C1C38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D210D-A954-4CF2-B59F-31562AFF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9EFF0-7157-4E24-95F4-E995816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15AF2-0E2E-402D-B719-FA0C923FF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6158-8C82-4FF3-91B1-2BF4CA9BB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4612-7482-4FEC-8CD8-D3F212B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251B-08BF-44CE-8E3B-67BB719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E6A1-E71A-4EE8-B3A3-34E0E6E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9378-67E1-454B-92C9-237B3895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8555-E6E9-449F-BFCA-42A7D15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7707-1A6B-4FC3-A296-A14A22D2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3583-664A-4963-A18C-13EE685F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E3D3F-5475-4F31-9FF4-63C9DEF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68C6-D6E6-4052-9032-709A63F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EEF6-13AB-4CCC-A38C-020C81F1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5C54-C6B7-4FC9-BBB8-500CE57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C296-F542-47B5-9C1E-EA1264AB6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6C283-F607-42F7-A36A-36ED5FA00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857F2-957F-4D97-B9C9-A0EC235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12196-708D-4D31-850E-0045F00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41D78-D581-4336-B241-464866E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40326-83ED-4BEA-B80A-36A9ABC1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8389-263F-4F33-8CD8-7E13DD90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4408B-4453-463D-AF23-6C3E941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87381-8021-411D-AE81-B8B46A1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61BC5-43D1-40C4-8EBF-B4791C7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B0569-D71B-409E-BDF0-B955346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CD1AB-9847-469C-BF03-6076DA9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1D043-3524-46A8-AB6D-6A647EE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0C2B2-177E-4B28-9315-152B80FF7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9750B-5C44-4925-BA6B-83AC2F37C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5057C-92EF-4B23-A393-B42C86DC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3DBEF-0E5B-45D3-B3E2-2C688DF0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92B931AA-47AE-498A-A673-DCE7E38EFD33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D2B-902A-45A5-9F45-6FA054351780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7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876E21F-0DD9-47CF-A1EE-7B3E38CCDC19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B5F-5B5C-49DE-8647-23CF362DD3E8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04A25964-E1DE-496C-98F8-F40556CB1542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0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B340-95DB-458D-B1B4-8782E6A04306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F21505C-EA88-4F73-A32B-05A24A33AECF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7AE-1FBF-42C1-A042-AB612CD0CAFB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9E7BCF6-3C27-4CE8-9489-FEB2FF7E343E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6451-9EE9-465B-94EC-3AF5CCC28F7C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ENMasterTitel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FB2860C-5E86-4A8B-A43D-0515C62EB3CB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0466-B555-4A74-BDE6-D154624A24B7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7DC18F3-75F7-47A8-B7F6-17ADF657312C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C17-E5B2-4609-9FB6-E10DFA9AFFA6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5965C664-DF93-4168-BFC5-27C031854C43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8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F23-B340-45A9-831E-637B6BA0E01A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9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DBD7AD42-78FE-4F00-921B-C23B9B333CE7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59AA-28BF-4804-A6C5-1109E3CDB131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F998B823-696F-419F-9C63-DD6820B26EAD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8286-920F-4988-A18D-8446C0B7D77B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6CB9D5A7-AB3A-4CDA-A6AC-43F8641844BD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E413-3257-43C1-9285-DB0547336441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5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7694BA2B-80F2-495C-AED2-680638883EAF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6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86F-E940-42A5-816D-7A79D5C3B291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Guido.DeJongh@cen.eu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979560" y="5381640"/>
            <a:ext cx="6400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714240" y="1857240"/>
            <a:ext cx="771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CE – WP 6 on Regulatory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nel Session 1 – Market surveillance model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720000" y="4429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va, 2008-11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785880" y="5357880"/>
            <a:ext cx="6400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y Guido De Jong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EN/Management Centre - Bruss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8880" y="428760"/>
            <a:ext cx="64404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how to better co-oper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ED74FC96-90C0-4091-8FFC-A7584475512A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BCC-6131-48EA-90EE-8CDFC8377905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85760" y="1541520"/>
            <a:ext cx="88869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eater involvement of market surveillance bodies in standardization at national and Europea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cooperation between Standardisation bodies and Market Surveillance bodies in order to keep standards up to date in their field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4B3658A5-B78D-4549-B0CF-42419B08AD00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584-7DE6-44E4-A2DB-48E1791E6715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522360" y="3125880"/>
            <a:ext cx="14842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6"/>
          <p:cNvSpPr/>
          <p:nvPr/>
        </p:nvSpPr>
        <p:spPr>
          <a:xfrm>
            <a:off x="7858080" y="2674800"/>
            <a:ext cx="117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5"/>
          <p:cNvSpPr/>
          <p:nvPr/>
        </p:nvSpPr>
        <p:spPr>
          <a:xfrm>
            <a:off x="6281640" y="2406600"/>
            <a:ext cx="117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556000" y="3662280"/>
            <a:ext cx="273672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/Technical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727360" y="1549440"/>
            <a:ext cx="237636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ive (NA, GPSD,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608280" y="4230720"/>
            <a:ext cx="649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502000" y="5270400"/>
            <a:ext cx="28796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Standards 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5867280" y="2519280"/>
            <a:ext cx="1513080" cy="82404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et Surveillance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6573960" y="33876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AutoShape 13"/>
          <p:cNvCxnSpPr>
            <a:stCxn id="560" idx="2"/>
            <a:endCxn id="559" idx="3"/>
          </p:cNvCxnSpPr>
          <p:nvPr/>
        </p:nvCxnSpPr>
        <p:spPr>
          <a:xfrm rot="5400000">
            <a:off x="4993560" y="3821040"/>
            <a:ext cx="2031120" cy="123120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63" name="AutoShape 14"/>
          <p:cNvCxnSpPr>
            <a:stCxn id="558" idx="2"/>
            <a:endCxn id="559" idx="0"/>
          </p:cNvCxnSpPr>
          <p:nvPr/>
        </p:nvCxnSpPr>
        <p:spPr>
          <a:xfrm>
            <a:off x="3933720" y="4605480"/>
            <a:ext cx="8640" cy="65304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64" name="AutoShape 16"/>
          <p:cNvCxnSpPr>
            <a:stCxn id="558" idx="0"/>
            <a:endCxn id="556" idx="2"/>
          </p:cNvCxnSpPr>
          <p:nvPr/>
        </p:nvCxnSpPr>
        <p:spPr>
          <a:xfrm flipH="1" flipV="1">
            <a:off x="3924000" y="4036320"/>
            <a:ext cx="10080" cy="1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5" name="AutoShape 17"/>
          <p:cNvCxnSpPr>
            <a:stCxn id="557" idx="2"/>
            <a:endCxn id="556" idx="0"/>
          </p:cNvCxnSpPr>
          <p:nvPr/>
        </p:nvCxnSpPr>
        <p:spPr>
          <a:xfrm>
            <a:off x="3916440" y="1923840"/>
            <a:ext cx="8640" cy="1726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66" name="Text Box 18"/>
          <p:cNvSpPr/>
          <p:nvPr/>
        </p:nvSpPr>
        <p:spPr>
          <a:xfrm>
            <a:off x="125280" y="37004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ys, P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chine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6227640" y="1343160"/>
            <a:ext cx="2016360" cy="580680"/>
          </a:xfrm>
          <a:prstGeom prst="rect">
            <a:avLst/>
          </a:prstGeom>
          <a:solidFill>
            <a:srgbClr val="5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ex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162000" y="1343160"/>
            <a:ext cx="1873080" cy="580680"/>
          </a:xfrm>
          <a:prstGeom prst="rect">
            <a:avLst/>
          </a:prstGeom>
          <a:solidFill>
            <a:srgbClr val="5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ex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9"/>
          <p:cNvSpPr/>
          <p:nvPr/>
        </p:nvSpPr>
        <p:spPr>
          <a:xfrm>
            <a:off x="3986280" y="6311880"/>
            <a:ext cx="3456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Market Surveillance Auth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0"/>
          <p:cNvSpPr/>
          <p:nvPr/>
        </p:nvSpPr>
        <p:spPr>
          <a:xfrm>
            <a:off x="925560" y="6319800"/>
            <a:ext cx="2746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Customs Auth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7667640" y="2808360"/>
            <a:ext cx="1297080" cy="58068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stom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AutoShape 34"/>
          <p:cNvCxnSpPr>
            <a:stCxn id="573" idx="2"/>
            <a:endCxn id="559" idx="1"/>
          </p:cNvCxnSpPr>
          <p:nvPr/>
        </p:nvCxnSpPr>
        <p:spPr>
          <a:xfrm flipH="1" rot="16200000">
            <a:off x="875160" y="3838320"/>
            <a:ext cx="1816920" cy="141012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74" name="AutoShape 41"/>
          <p:cNvCxnSpPr>
            <a:stCxn id="571" idx="2"/>
          </p:cNvCxnSpPr>
          <p:nvPr/>
        </p:nvCxnSpPr>
        <p:spPr>
          <a:xfrm rot="5400000">
            <a:off x="6502680" y="3578760"/>
            <a:ext cx="1953000" cy="1675800"/>
          </a:xfrm>
          <a:prstGeom prst="bentConnector3">
            <a:avLst>
              <a:gd name="adj1" fmla="val 102783"/>
            </a:avLst>
          </a:prstGeom>
          <a:ln w="25560">
            <a:solidFill>
              <a:srgbClr val="000000"/>
            </a:solidFill>
            <a:prstDash val="dash"/>
            <a:miter/>
          </a:ln>
        </p:spPr>
      </p:cxnSp>
      <p:cxnSp>
        <p:nvCxnSpPr>
          <p:cNvPr id="575" name="AutoShape 43"/>
          <p:cNvCxnSpPr>
            <a:stCxn id="573" idx="0"/>
            <a:endCxn id="568" idx="2"/>
          </p:cNvCxnSpPr>
          <p:nvPr/>
        </p:nvCxnSpPr>
        <p:spPr>
          <a:xfrm flipV="1">
            <a:off x="1079280" y="1923480"/>
            <a:ext cx="19800" cy="132444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6" name="AutoShape 44"/>
          <p:cNvCxnSpPr>
            <a:stCxn id="560" idx="0"/>
            <a:endCxn id="567" idx="2"/>
          </p:cNvCxnSpPr>
          <p:nvPr/>
        </p:nvCxnSpPr>
        <p:spPr>
          <a:xfrm flipH="1" flipV="1" rot="5400000">
            <a:off x="6645240" y="1902960"/>
            <a:ext cx="570600" cy="612000"/>
          </a:xfrm>
          <a:prstGeom prst="bentConnector3">
            <a:avLst>
              <a:gd name="adj1" fmla="val 47601"/>
            </a:avLst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7" name="AutoShape 45"/>
          <p:cNvCxnSpPr/>
          <p:nvPr/>
        </p:nvCxnSpPr>
        <p:spPr>
          <a:xfrm flipV="1" rot="16200000">
            <a:off x="7470360" y="1936080"/>
            <a:ext cx="558000" cy="113580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8" name="Text Box 47"/>
          <p:cNvSpPr/>
          <p:nvPr/>
        </p:nvSpPr>
        <p:spPr>
          <a:xfrm>
            <a:off x="1015920" y="36655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um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9"/>
          <p:cNvSpPr/>
          <p:nvPr/>
        </p:nvSpPr>
        <p:spPr>
          <a:xfrm>
            <a:off x="8263080" y="36576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AutoShape 50"/>
          <p:cNvCxnSpPr>
            <a:stCxn id="569" idx="0"/>
            <a:endCxn id="559" idx="2"/>
          </p:cNvCxnSpPr>
          <p:nvPr/>
        </p:nvCxnSpPr>
        <p:spPr>
          <a:xfrm flipH="1" flipV="1">
            <a:off x="3941280" y="5644800"/>
            <a:ext cx="1774080" cy="65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1" name="AutoShape 51"/>
          <p:cNvCxnSpPr>
            <a:stCxn id="570" idx="0"/>
            <a:endCxn id="559" idx="2"/>
          </p:cNvCxnSpPr>
          <p:nvPr/>
        </p:nvCxnSpPr>
        <p:spPr>
          <a:xfrm flipV="1">
            <a:off x="2298600" y="5645160"/>
            <a:ext cx="16437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Text Box 11"/>
          <p:cNvSpPr/>
          <p:nvPr/>
        </p:nvSpPr>
        <p:spPr>
          <a:xfrm>
            <a:off x="250920" y="3260880"/>
            <a:ext cx="1657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ified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37"/>
          <p:cNvSpPr/>
          <p:nvPr/>
        </p:nvSpPr>
        <p:spPr>
          <a:xfrm flipH="1">
            <a:off x="5292720" y="3432240"/>
            <a:ext cx="1279440" cy="41112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0"/>
          <p:cNvSpPr/>
          <p:nvPr/>
        </p:nvSpPr>
        <p:spPr>
          <a:xfrm flipH="1">
            <a:off x="5387760" y="3860640"/>
            <a:ext cx="2827080" cy="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6"/>
          <p:cNvSpPr/>
          <p:nvPr/>
        </p:nvSpPr>
        <p:spPr>
          <a:xfrm>
            <a:off x="2041560" y="3833640"/>
            <a:ext cx="458640" cy="972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8880" y="285840"/>
            <a:ext cx="64404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how to better co-oper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14200" y="1714320"/>
            <a:ext cx="8429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pretation of the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ed is for a quick and informal ad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-operation between Member States: EMAR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CFD04D99-8F8F-417B-A158-F241BCB5D21E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650E-078D-42C3-9ECB-0F11C4C53FB0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1"/>
          <p:cNvSpPr/>
          <p:nvPr/>
        </p:nvSpPr>
        <p:spPr>
          <a:xfrm>
            <a:off x="500040" y="428760"/>
            <a:ext cx="6440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Practical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8880" y="499680"/>
            <a:ext cx="694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confidence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2560" y="1750680"/>
            <a:ext cx="86374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ack of market surveillanc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also reduces the confidence in the CE-mark since products might be CE marked and circulate freely on the internal market even if they are not safe or in compliance with relevant directives. Th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eads to a situation where room is given to other labels, private and/or national, that require costly third party certification for manufacturer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 Those labels are often owned by one single company which means that the manufacturer must use a certain test house to get access to a certain market. As a result of lacking market surveillance a lot of producers are feel compelled to use costly ways to gain confidence for their products on the market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urce: study on 3 directives,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nikföretagen, the Association of Swedish Engineering Indu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2299"/>
              </a:lnSpc>
              <a:spcBef>
                <a:spcPts val="451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A6483268-575F-4A17-846E-524A4BF12F13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A63-12B9-4E74-BC4B-C1E845BD45BB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928800" y="1033560"/>
            <a:ext cx="4284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971640" y="2421000"/>
            <a:ext cx="67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50920" y="6076800"/>
            <a:ext cx="32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GB" sz="1400" spc="-1" strike="noStrike" u="sng">
                <a:solidFill>
                  <a:srgbClr val="e5e5e5"/>
                </a:solidFill>
                <a:uFillTx/>
                <a:latin typeface="Arial"/>
                <a:hlinkClick r:id="rId1"/>
              </a:rPr>
              <a:t>Guido.DeJongh@cen.e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09:57:18Z</dcterms:created>
  <dc:creator>Jessica Widmaier</dc:creator>
  <dc:description/>
  <cp:keywords/>
  <dc:language>en-US</dc:language>
  <cp:lastModifiedBy>CEN</cp:lastModifiedBy>
  <dcterms:modified xsi:type="dcterms:W3CDTF">2008-10-29T10:09:08Z</dcterms:modified>
  <cp:revision>123</cp:revision>
  <dc:subject/>
  <dc:title>A SUCCESS STORY</dc:title>
</cp:coreProperties>
</file>