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2EF2-36FE-4D5D-8B03-FAA2C27AA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E532-DF5C-4D23-8FC0-7A70CCBF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61D6F-04E3-4DF9-B7C6-350EC43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612C7-F050-4F05-BA3E-7733A6D4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393A5-1B34-4EEF-9551-B205D51B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100EF6-50F5-4723-843B-237B1B57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79768-88B6-4467-8DC6-D24E27C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51C03-F440-4F0D-BE67-5ED61FA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BEE5D-CEA1-4E07-A24E-75C504F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F3A85-7800-4F41-962F-4F2F8DF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58164-985B-46D4-B553-149C3DDAC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3454-57A2-4F00-9DA8-29866F3BA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7A74-4C06-4865-A76D-01E8A59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F6BA-50F3-48D7-A5D3-4F7E4F2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B09C-499E-43E3-AABB-77CEE8D5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174E-9400-4F3C-94C0-AADFA0D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9D99-6A64-4668-911B-8CA0A9B9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2D1A-2299-4B2D-A00D-254052DE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5300-40CB-4878-A529-9DEE021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5996-C35C-4D4B-A142-F8D5ACC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76B7C-2480-4E9E-8EFB-6DE106F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637C-911A-411D-A07D-1156FE9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4418-D14F-4582-A4E7-6283CFB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D2DC-D721-42F4-A3F5-71300CC6C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4A7B-8EC2-4179-844C-B76C69990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4B6AD-BE87-401D-8E01-F19FE8D86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DC8DD-A4A5-4BA5-8FD8-AFBE0C3A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26FCF-A828-496F-AE04-F0EAC63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3070D-BB6C-4DD2-A4EC-62B1D06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19994-8678-4267-B8E3-11957158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A96B0-1893-4E0D-BD35-40A6631F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A115B-5805-4293-BF0F-F684D78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2BB83-92A9-4CAA-8312-4303C5E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9268E-3A2C-4433-8F38-DEE71FBB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6F8DA-7E55-4E70-81F5-374DFD5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44998-3995-4AC7-AFEE-B3D9E3C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0BDDB-A4D7-441E-A81F-BDF0D0ADE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2E17A4-5FF8-4E64-AB3D-D219B069E8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F55D4F-DC54-404C-A54B-265B335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3D86C-7A1D-400D-8264-F84C976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9D8A29-CF90-41B5-BF92-65085AC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87232-9C6A-4A65-A6DC-1D4C0570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ED84B9-51D1-43FC-9A70-C6122F57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7CC9F-55F4-4CC7-91CA-5BBADD87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ACAE9-C19A-4220-8D0E-57B00CC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37D23-1755-4B95-81A6-8F4BD676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BD56A-1432-4BB8-B235-9325277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66CE39-78A1-4978-A62F-FA9387E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8085EB-D61E-4F07-A0F6-0D547D5F4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674C-B8BE-46B0-9CBF-147B2C0B3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A9FA-386F-4802-9FA4-02A4A81B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0FBD-B2A9-4F75-BAB7-95F42763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FB64-41CA-43FA-8375-A2DA908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3D31-C4CD-4A26-867F-EF147F30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4F7D-5F3B-4900-B3E4-4AD3A3B0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A285-3890-4070-94CC-9CC1363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D28AF-8099-41C5-AA81-0BC8945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06F7-AAC1-4985-994C-9CB9744A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6F84-292E-4440-8797-ACE0CF12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155FC-C2A8-4699-8CC9-6392BFA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C8749-B1CB-4062-92F5-6E16F6AE0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78F9-826C-4AA4-A73D-B6CAA65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AB1A2-773A-4AFA-81DA-8613B2D48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BB940-26DB-4FA6-9D86-E22C544E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6573-BA1F-4049-97DB-E8A8D76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38A21-F55E-48B0-944F-F8DF5B89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F2E30-EF7A-4DC3-9391-643136B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8469-2F49-48A5-A510-2A2DBA27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CAC64-6F20-4849-A5BF-9B1852F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6FAB8-5071-4AA7-BE87-489B025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6483-6A37-4DE5-9956-4B557501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6123A-F612-4BF6-B3F2-F61FCDC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C8B08-18FD-4132-B626-341F65F9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911D5-50D1-4F18-AED7-9ABFD13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8F0D5-285F-4356-8662-B88538C05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C48-4A05-4892-93F3-C71B7618F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CB85-A418-4A59-9205-CD52114E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F18E-D499-4A23-9F5F-1A5861D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23EE-93B1-44A7-9DE4-EE570DA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BD20-1E5C-4374-846D-C964671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8E6C-F588-4ED6-A797-0D540C5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57FA-C958-458E-8436-3287023F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B53E-2894-4F05-A857-B259612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23EF-A172-4705-BCDF-D451E05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F87-82F8-42F8-ACC5-08C4700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4D7-C9E2-42A6-ADE0-CB18A7D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143-0162-4A88-915E-3FBF672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03D-CF4C-440F-A346-1C508D31F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249D7-F6AD-4EDA-8C30-7C0F48D7D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FE38-5783-4921-B4C6-03FAFC09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5EE08-8F9A-4B60-AAC8-24BB731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E403B-DB5E-43F9-B499-48C81AF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EE393-958F-48EC-8BC4-670E561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920C3-26A7-48B2-85F1-B2C8DC10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B9903-83F3-40FE-AF45-4BE8E4FE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6336C-0BD8-4CD8-983B-E2A9095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208C2-7858-45E8-A39A-9287BDD9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D0DDD-7193-4F79-B7CA-609427C5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4E859-F4C1-401E-9B04-9AA2102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7BDC2-7930-443C-B023-9893D0C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C60E-B1FA-4311-9ED6-2A0FD447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03A46-9BBB-413A-8CDC-68B2C285F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C0A7E-3B2A-4100-86D4-39407904B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CAF70-3550-49E6-AF28-7DF2A44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F4E04-24BD-412E-BF2D-094ED3E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3B907-CEB6-41A6-BB2D-E2E8C55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4DCCC-1C70-482C-B693-CEA18B2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7DEBDE-2265-4852-9BB7-B0010706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F6A97-2750-419D-BE13-6D8271D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AF8BA-D4C5-4C05-81B8-FD8DCBC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30988-329C-4BD4-AF63-569228F8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489B-F6FF-420C-AA1D-B5088639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FA144-00DC-4D84-AA20-4BAB46B6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9145C-EA55-4EC9-837D-279719C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BD322-7D82-4A40-A3C3-184BFF6F3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AA98-CBA3-4223-B863-22DFB30C9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11AA-0B31-4744-A9C2-696B0661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53C0-5209-4AB0-9A67-CFF689AC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D8BC-ECE3-45F6-AAEE-FEE42DD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F634-C389-4DD8-B0D6-0BFE61E4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5C58-55AE-4386-B003-84BD54B7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9C56-00F7-4647-8EB3-CF80205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55F1-48CC-467B-8910-83B280F6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0EA3-8F00-4374-8E08-31A8455F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29B4-B017-46E6-A475-F8C6F99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38B3-7E8C-4105-B0B5-DF61A33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0C42-49C5-4E7A-9E27-BF6EB3E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A5ED-A4DE-49CC-9A4D-7E39B3B35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BE471-A361-47F4-A2FB-0E489D754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85C92-A673-4B2E-8EBC-BFECAFC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47FA2-3896-48A1-90A4-1BF97BE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6893B-6A1E-4C31-87D5-4C00ED0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EF203-7C9D-4234-88E8-372DFEEE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55B0-AEDA-4FB6-86B8-E15F8781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88520" y="499680"/>
            <a:ext cx="6443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C9FDE-5F98-46A4-87B0-00474B68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60268-0810-4A6F-A3B7-C57AF1AF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46035-9A94-437A-96EC-D65E78F2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6708D-DFA5-4DFD-84D4-DFEEBD7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20" y="3804840"/>
            <a:ext cx="8886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A630F-6901-48E5-9C01-F4D7B06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9760" y="13982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59760" y="3804840"/>
            <a:ext cx="43365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AB607-6F36-4F09-B997-9637FA4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1068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5600" y="13982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12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01068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5600" y="3804840"/>
            <a:ext cx="286128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0C51C-3D5F-4597-94F0-77833D784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87A2E-79D7-459F-9920-B66B534C88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3BFD3-15A5-4F35-99DE-CA8CDFB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4E5AE-00FF-4957-B6AF-EFC4D67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C1330B02-BE48-4559-9EC7-99794B23758F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677-09C1-44F3-A6B7-2F80DACC9383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7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5F003B6-997D-4FD6-B01D-14F563ADE05A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2B8-4931-4E5D-97F9-9B1AAB05CBEC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BCD1DAA-8074-4B77-8FE6-9361D95C24B8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0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AA60-A561-43F9-9D59-A87A0F3794D6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75DF9BDD-CD10-48C1-90E7-1485F75FBD3D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83B-3FA9-4DB1-974A-E99E9DB2C62B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D942B6D0-919A-45F0-BE41-2B4CE7612B0D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F79-4AC0-40D8-A867-A7A5745CCFD4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ENMasterTitel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2E2EE814-5D01-4F42-8774-4E8254DA722B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FA3-ACE9-43F0-BEF5-D5D94FF2661F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D6AE3443-599A-4414-BFC4-2CEB23D2587B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277-22B3-4F8E-B862-0167EE7CA757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4D402024-7BCE-4B59-9B04-1DD4CF93032E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8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839-8803-435B-B051-E7BE3261E3A7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9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4816C4B2-BAA9-4941-9D6B-DAAE3AEA1151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DD5E-6111-46DB-B218-BA59E0CC3DAF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1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D39E8C99-6419-47A2-BF4B-DBFEFB74333D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4D2-FB17-46FC-A92F-1ECCD604D216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8AC75271-18E4-408C-8E7D-DEC88FAD396F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4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DD5-B346-4A6F-9221-FC6152DD6E33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5"/>
          <p:cNvSpPr/>
          <p:nvPr/>
        </p:nvSpPr>
        <p:spPr>
          <a:xfrm>
            <a:off x="6934320" y="6521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5 CEN –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520" y="499680"/>
            <a:ext cx="644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0" y="1398240"/>
            <a:ext cx="8886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399960">
              <a:lnSpc>
                <a:spcPts val="3600"/>
              </a:lnSpc>
              <a:spcBef>
                <a:spcPts val="700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400320">
              <a:lnSpc>
                <a:spcPts val="3600"/>
              </a:lnSpc>
              <a:spcBef>
                <a:spcPts val="700"/>
              </a:spcBef>
              <a:buClr>
                <a:srgbClr val="95ae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400320">
              <a:lnSpc>
                <a:spcPts val="36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5"/>
          </p:nvPr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D1D08ED2-3E4A-4162-93C5-4B21576E00F8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6"/>
          </p:nvPr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1334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D5F-98BE-4F20-815D-0C27AF925347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Guido.DeJongh@cen.eu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979560" y="5381640"/>
            <a:ext cx="6400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714240" y="1857240"/>
            <a:ext cx="771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CE – WP 6 on Regulatory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nel Session 1 – Market surveillance model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720000" y="4429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va, 2008-11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785880" y="5357880"/>
            <a:ext cx="6400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y Guido De Jong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EN/Management Centre - Bruss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8880" y="428760"/>
            <a:ext cx="64404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how to better co-oper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008 CEN – all rights reserved </a:t>
            </a:r>
            <a:fld id="{58FCE26B-C686-4457-B6A4-073DAFF833B7}" type="datetime">
              <a:rPr b="0" lang="en-GB" sz="8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ACA-AD1B-4C25-BA9D-F57B7DFE3EC3}" type="slidenum">
              <a:rPr b="0" lang="en-GB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85760" y="1541520"/>
            <a:ext cx="88869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eater involvement of market surveillance bodies in standardization at national and Europea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cooperation between Standardisation bodies and Market Surveillance bodies in order to keep standards up to date in their field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FB35058C-6E80-4412-9A5B-2F91782A5435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438C-E227-461C-BC89-05E9CBF02B58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522360" y="3125880"/>
            <a:ext cx="14842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6"/>
          <p:cNvSpPr/>
          <p:nvPr/>
        </p:nvSpPr>
        <p:spPr>
          <a:xfrm>
            <a:off x="7858080" y="2674800"/>
            <a:ext cx="117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5"/>
          <p:cNvSpPr/>
          <p:nvPr/>
        </p:nvSpPr>
        <p:spPr>
          <a:xfrm>
            <a:off x="6281640" y="2406600"/>
            <a:ext cx="117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556000" y="3662280"/>
            <a:ext cx="273672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/Technical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727360" y="1549440"/>
            <a:ext cx="237636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ive (NA, GPSD,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608280" y="4230720"/>
            <a:ext cx="649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502000" y="5270400"/>
            <a:ext cx="28796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Standards 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5867280" y="2519280"/>
            <a:ext cx="1513080" cy="82404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et Surveillance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6573960" y="33876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AutoShape 13"/>
          <p:cNvCxnSpPr>
            <a:stCxn id="560" idx="2"/>
            <a:endCxn id="559" idx="3"/>
          </p:cNvCxnSpPr>
          <p:nvPr/>
        </p:nvCxnSpPr>
        <p:spPr>
          <a:xfrm rot="5400000">
            <a:off x="4993560" y="3821040"/>
            <a:ext cx="2031120" cy="123120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63" name="AutoShape 14"/>
          <p:cNvCxnSpPr>
            <a:stCxn id="558" idx="2"/>
            <a:endCxn id="559" idx="0"/>
          </p:cNvCxnSpPr>
          <p:nvPr/>
        </p:nvCxnSpPr>
        <p:spPr>
          <a:xfrm>
            <a:off x="3933720" y="4605480"/>
            <a:ext cx="8640" cy="65304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64" name="AutoShape 16"/>
          <p:cNvCxnSpPr>
            <a:stCxn id="558" idx="0"/>
            <a:endCxn id="556" idx="2"/>
          </p:cNvCxnSpPr>
          <p:nvPr/>
        </p:nvCxnSpPr>
        <p:spPr>
          <a:xfrm flipH="1" flipV="1">
            <a:off x="3924000" y="4036320"/>
            <a:ext cx="10080" cy="1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5" name="AutoShape 17"/>
          <p:cNvCxnSpPr>
            <a:stCxn id="557" idx="2"/>
            <a:endCxn id="556" idx="0"/>
          </p:cNvCxnSpPr>
          <p:nvPr/>
        </p:nvCxnSpPr>
        <p:spPr>
          <a:xfrm>
            <a:off x="3916440" y="1923840"/>
            <a:ext cx="8640" cy="17262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66" name="Text Box 18"/>
          <p:cNvSpPr/>
          <p:nvPr/>
        </p:nvSpPr>
        <p:spPr>
          <a:xfrm>
            <a:off x="125280" y="37004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ys, P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chine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6227640" y="1343160"/>
            <a:ext cx="2016360" cy="580680"/>
          </a:xfrm>
          <a:prstGeom prst="rect">
            <a:avLst/>
          </a:prstGeom>
          <a:solidFill>
            <a:srgbClr val="5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ex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162000" y="1343160"/>
            <a:ext cx="1873080" cy="580680"/>
          </a:xfrm>
          <a:prstGeom prst="rect">
            <a:avLst/>
          </a:prstGeom>
          <a:solidFill>
            <a:srgbClr val="5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ex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9"/>
          <p:cNvSpPr/>
          <p:nvPr/>
        </p:nvSpPr>
        <p:spPr>
          <a:xfrm>
            <a:off x="3986280" y="6311880"/>
            <a:ext cx="3456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Market Surveillance Auth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0"/>
          <p:cNvSpPr/>
          <p:nvPr/>
        </p:nvSpPr>
        <p:spPr>
          <a:xfrm>
            <a:off x="925560" y="6319800"/>
            <a:ext cx="2746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ional Customs Auth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7667640" y="2808360"/>
            <a:ext cx="1297080" cy="58068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stom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AutoShape 34"/>
          <p:cNvCxnSpPr>
            <a:stCxn id="573" idx="2"/>
            <a:endCxn id="559" idx="1"/>
          </p:cNvCxnSpPr>
          <p:nvPr/>
        </p:nvCxnSpPr>
        <p:spPr>
          <a:xfrm flipH="1" rot="16200000">
            <a:off x="875160" y="3838320"/>
            <a:ext cx="1816920" cy="141012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74" name="AutoShape 41"/>
          <p:cNvCxnSpPr>
            <a:stCxn id="571" idx="2"/>
          </p:cNvCxnSpPr>
          <p:nvPr/>
        </p:nvCxnSpPr>
        <p:spPr>
          <a:xfrm rot="5400000">
            <a:off x="6502680" y="3578760"/>
            <a:ext cx="1953000" cy="1675800"/>
          </a:xfrm>
          <a:prstGeom prst="bentConnector3">
            <a:avLst>
              <a:gd name="adj1" fmla="val 102783"/>
            </a:avLst>
          </a:prstGeom>
          <a:ln w="25560">
            <a:solidFill>
              <a:srgbClr val="000000"/>
            </a:solidFill>
            <a:prstDash val="dash"/>
            <a:miter/>
          </a:ln>
        </p:spPr>
      </p:cxnSp>
      <p:cxnSp>
        <p:nvCxnSpPr>
          <p:cNvPr id="575" name="AutoShape 43"/>
          <p:cNvCxnSpPr>
            <a:stCxn id="573" idx="0"/>
            <a:endCxn id="568" idx="2"/>
          </p:cNvCxnSpPr>
          <p:nvPr/>
        </p:nvCxnSpPr>
        <p:spPr>
          <a:xfrm flipV="1">
            <a:off x="1079280" y="1923480"/>
            <a:ext cx="19800" cy="132444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6" name="AutoShape 44"/>
          <p:cNvCxnSpPr>
            <a:stCxn id="560" idx="0"/>
            <a:endCxn id="567" idx="2"/>
          </p:cNvCxnSpPr>
          <p:nvPr/>
        </p:nvCxnSpPr>
        <p:spPr>
          <a:xfrm flipH="1" flipV="1" rot="5400000">
            <a:off x="6645240" y="1902960"/>
            <a:ext cx="570600" cy="612000"/>
          </a:xfrm>
          <a:prstGeom prst="bentConnector3">
            <a:avLst>
              <a:gd name="adj1" fmla="val 47601"/>
            </a:avLst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7" name="AutoShape 45"/>
          <p:cNvCxnSpPr/>
          <p:nvPr/>
        </p:nvCxnSpPr>
        <p:spPr>
          <a:xfrm flipV="1" rot="16200000">
            <a:off x="7470360" y="1936080"/>
            <a:ext cx="558000" cy="113580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8" name="Text Box 47"/>
          <p:cNvSpPr/>
          <p:nvPr/>
        </p:nvSpPr>
        <p:spPr>
          <a:xfrm>
            <a:off x="1015920" y="36655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um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9"/>
          <p:cNvSpPr/>
          <p:nvPr/>
        </p:nvSpPr>
        <p:spPr>
          <a:xfrm>
            <a:off x="8263080" y="36576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AutoShape 50"/>
          <p:cNvCxnSpPr>
            <a:stCxn id="569" idx="0"/>
            <a:endCxn id="559" idx="2"/>
          </p:cNvCxnSpPr>
          <p:nvPr/>
        </p:nvCxnSpPr>
        <p:spPr>
          <a:xfrm flipH="1" flipV="1">
            <a:off x="3941280" y="5644800"/>
            <a:ext cx="1774080" cy="65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1" name="AutoShape 51"/>
          <p:cNvCxnSpPr>
            <a:stCxn id="570" idx="0"/>
            <a:endCxn id="559" idx="2"/>
          </p:cNvCxnSpPr>
          <p:nvPr/>
        </p:nvCxnSpPr>
        <p:spPr>
          <a:xfrm flipV="1">
            <a:off x="2298600" y="5645160"/>
            <a:ext cx="16437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Text Box 11"/>
          <p:cNvSpPr/>
          <p:nvPr/>
        </p:nvSpPr>
        <p:spPr>
          <a:xfrm>
            <a:off x="250920" y="3260880"/>
            <a:ext cx="1657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ified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37"/>
          <p:cNvSpPr/>
          <p:nvPr/>
        </p:nvSpPr>
        <p:spPr>
          <a:xfrm flipH="1">
            <a:off x="5292720" y="3432240"/>
            <a:ext cx="1279440" cy="41112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0"/>
          <p:cNvSpPr/>
          <p:nvPr/>
        </p:nvSpPr>
        <p:spPr>
          <a:xfrm flipH="1">
            <a:off x="5387760" y="3860640"/>
            <a:ext cx="2827080" cy="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6"/>
          <p:cNvSpPr/>
          <p:nvPr/>
        </p:nvSpPr>
        <p:spPr>
          <a:xfrm>
            <a:off x="2041560" y="3833640"/>
            <a:ext cx="458640" cy="9720"/>
          </a:xfrm>
          <a:prstGeom prst="line">
            <a:avLst/>
          </a:prstGeom>
          <a:ln w="31680">
            <a:solidFill>
              <a:srgbClr val="5dd5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8880" y="285840"/>
            <a:ext cx="64404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how to better co-oper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14200" y="1714320"/>
            <a:ext cx="8429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pretation of the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ed is for a quick and informal ad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-operation between Member States: EMAR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spcBef>
                <a:spcPts val="550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E6B9FF1F-9D1E-4F82-AE0E-D18FC55C0A06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7857-BBF9-464E-A703-363197606288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1"/>
          <p:cNvSpPr/>
          <p:nvPr/>
        </p:nvSpPr>
        <p:spPr>
          <a:xfrm>
            <a:off x="500040" y="428760"/>
            <a:ext cx="6440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Standards: Practical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8880" y="499680"/>
            <a:ext cx="694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 surveillance and confidence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2560" y="1750680"/>
            <a:ext cx="86374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ts val="3600"/>
              </a:lnSpc>
              <a:spcBef>
                <a:spcPts val="499"/>
              </a:spcBef>
              <a:buClr>
                <a:srgbClr val="13508c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ack of market surveillanc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also reduces the confidence in the CE-mark since products might be CE marked and circulate freely on the internal market even if they are not safe or in compliance with relevant directives. Th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eads to a situation where room is given to other labels, private and/or national, that require costly third party certification for manufacturer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 Those labels are often owned by one single company which means that the manufacturer must use a certain test house to get access to a certain market. As a result of lacking market surveillance a lot of producers are feel compelled to use costly ways to gain confidence for their products on the market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urce: study on 3 directives,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nikföretagen, the Association of Swedish Engineering Indu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ts val="2299"/>
              </a:lnSpc>
              <a:spcBef>
                <a:spcPts val="451"/>
              </a:spcBef>
              <a:buClr>
                <a:srgbClr val="13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5562720" y="6675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2006 CEN – all rights reserved </a:t>
            </a:r>
            <a:fld id="{27EAB55E-A736-4BCB-B708-6BA2C7FF0DB7}" type="datetime">
              <a:rPr b="0" lang="de-DE" sz="8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124760" y="6470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1316-20F7-4F4D-8B55-F254A62CFA3B}" type="slidenum">
              <a:rPr b="0" lang="de-DE" sz="1100" spc="-1" strike="noStrike">
                <a:solidFill>
                  <a:srgbClr val="13349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928800" y="1033560"/>
            <a:ext cx="4284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971640" y="2421000"/>
            <a:ext cx="67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50920" y="6076800"/>
            <a:ext cx="32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GB" sz="1400" spc="-1" strike="noStrike" u="sng">
                <a:solidFill>
                  <a:srgbClr val="e5e5e5"/>
                </a:solidFill>
                <a:uFillTx/>
                <a:latin typeface="Arial"/>
                <a:hlinkClick r:id="rId1"/>
              </a:rPr>
              <a:t>Guido.DeJongh@cen.e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09:57:18Z</dcterms:created>
  <dc:creator>Jessica Widmaier</dc:creator>
  <dc:description/>
  <cp:keywords/>
  <dc:language>en-US</dc:language>
  <cp:lastModifiedBy>CEN</cp:lastModifiedBy>
  <dcterms:modified xsi:type="dcterms:W3CDTF">2008-10-29T10:09:08Z</dcterms:modified>
  <cp:revision>123</cp:revision>
  <dc:subject/>
  <dc:title>A SUCCESS STORY</dc:title>
</cp:coreProperties>
</file>