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9F9B-F2BB-4C44-B29F-0BA51613A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7892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A3DD-945B-4AF3-B2B3-86153E37F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4436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78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4436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13F2-A237-4E43-9EE5-3359895E5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2516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104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7892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2516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104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3C0D-1C64-40B1-A00E-8E70E9428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1A811-8006-40D0-B318-A887B9539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7892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2AA5E-ECDE-4B5B-B8C9-47432B3FC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4A79D-E6F9-4C54-928B-BE2701A98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436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4C30E-0161-4728-B980-C017F4F74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5836D-C29C-4C9B-80FB-734938F8D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403280" y="-360"/>
            <a:ext cx="7561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91F38-F5AF-4DAC-BFF7-143DDFCF3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436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8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33856-74C4-453E-B3AF-1744997A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7892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866B-1BAD-4431-BC09-1E9A14CAD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36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4436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16E67-A640-4C56-9DC8-0AD2638C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436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7892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A6D2C-A7EB-4008-859E-99989797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7892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2AE41-94ED-4747-A0E4-28BE5C11F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436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8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4436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C5F70-44FF-4E14-8CDD-421E9580C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12516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7104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7892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12516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7104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60C0E-A6F7-40A6-9DFD-75CAF132B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282B-D582-424D-8FB2-D2DDE819E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436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B048-6DBC-4D5D-BB4B-CE613F5B5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DF29-DA35-4B15-984F-6917318BE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403280" y="-360"/>
            <a:ext cx="7561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C401-8855-4EB8-95F6-749CA6D85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36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78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56B6-8E9E-45E2-A910-40F3E1FA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436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4436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6757-802F-4603-B09E-821FFC58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436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7892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A0A6-0CD8-45D2-B56A-1CB960FB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77480" cy="68612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0" y="0"/>
            <a:ext cx="9177480" cy="119700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>
            <a:lum bright="6000"/>
          </a:blip>
          <a:srcRect l="0" t="66165" r="0" b="0"/>
          <a:stretch/>
        </p:blipFill>
        <p:spPr>
          <a:xfrm>
            <a:off x="0" y="6453360"/>
            <a:ext cx="9177480" cy="404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178920" y="6532560"/>
            <a:ext cx="180036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2252520" y="6532560"/>
            <a:ext cx="467856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7203600" y="6533640"/>
            <a:ext cx="180036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15C45-156D-4951-8510-1E2E0408DA0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179280" y="165240"/>
            <a:ext cx="954360" cy="83016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4"/>
          <p:cNvSpPr>
            <a:spLocks noGrp="1"/>
          </p:cNvSpPr>
          <p:nvPr>
            <p:ph type="body"/>
          </p:nvPr>
        </p:nvSpPr>
        <p:spPr>
          <a:xfrm>
            <a:off x="17892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77480" cy="6861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>
            <a:lum bright="6000"/>
          </a:blip>
          <a:srcRect l="0" t="66165" r="0" b="0"/>
          <a:stretch/>
        </p:blipFill>
        <p:spPr>
          <a:xfrm>
            <a:off x="0" y="6453360"/>
            <a:ext cx="9177480" cy="404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0" y="0"/>
            <a:ext cx="9177480" cy="1197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467000" y="157320"/>
            <a:ext cx="742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International Organization of Legal Metr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Arial"/>
              </a:rPr>
              <a:t>Organisation Internationale de Métrologie Lég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179280" y="165240"/>
            <a:ext cx="954360" cy="8301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178920" y="6532560"/>
            <a:ext cx="180036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2252520" y="6532560"/>
            <a:ext cx="467856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203600" y="6533640"/>
            <a:ext cx="180036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5212-D43B-4548-87F7-1183D3246F19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90400"/>
            <a:ext cx="72694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IML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llem K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ML Assistant Dir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UNECE WP6, Gen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206C4-A454-4C93-8EB1-66AE12EA28F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8.11.04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onference and Committe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7 – 31 October 2008, Sydney, Austral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3th Confer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pproved 2009-2012 bud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nctioned new and revised OIML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43rd CIML Meet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pproved new and revised OIML Recommendations and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ithdrew Recommendations on hardness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ssociated meeting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ional Legal Metrology Organizations Round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rking Group on Conformity to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WP6, Gen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6E15-F1E9-427C-8990-B34E47F41A3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.11.04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OIML Recommend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a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rmonized technical and metrological requirements for measuring instr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st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st repor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del regulations: OIML Member States have a moral obligation to imp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ternational standards: Article 2.4 of the WTO/TBT Agre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WP6, Gen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67C6-A125-4DB7-BD6F-ED4CF84ECC6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.11.04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New Recommend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 56:2008 </a:t>
            </a: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Standard solutions reproducing the electrolytic condu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 71:2008 </a:t>
            </a: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Fixed storage tanks. General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 85:2008 </a:t>
            </a: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Automatic level gauges for measuring the level of liquid in stationary storage ta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 99:2008 </a:t>
            </a: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Instruments for measuring vehicle exhaust emissions (OIML-ISO joint public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 141:2008 </a:t>
            </a: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Procedure for calibration and verification of the main characteristics of thermographic instr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 142:2008 </a:t>
            </a: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Automated refractometers: Methods and means of 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WP6, Gen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AC7A-6F93-4C41-A0D3-890217D67D9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.11.04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New Docu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 29:2008 </a:t>
            </a: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Guide for the application of ISO/IEC Guide 65 to assessment of measuring instrument certification bodies in legal metr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 30:2008 </a:t>
            </a: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Guide for the application of ISO/IEC 17025 to the assessment of Testing Laboratories involved in legal metr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 31:2008 </a:t>
            </a: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General requirements for software controlled measuring instr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WP6, Gen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3794-7070-45C5-9704-737CF568C16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.11.04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OIML Public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l OIML Publications may be downloaded free of charge fro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www.oiml.org/publ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WP6, Gen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14EC-4DD9-4E6B-8B8A-AE20539036F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.11.04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Membershi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59 Member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57 Corresponding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w corresponding member in 200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nteneg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WP6, Gen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0F04-AC6A-429D-B0D1-C6C86A329AF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.11.04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OIML MA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87138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IML Mutual Acceptance Arrangement for Measuring Instruments (Type approval evalu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79280" y="2708280"/>
          <a:ext cx="8820000" cy="2722680"/>
        </p:xfrm>
        <a:graphic>
          <a:graphicData uri="http://schemas.openxmlformats.org/drawingml/2006/table">
            <a:tbl>
              <a:tblPr/>
              <a:tblGrid>
                <a:gridCol w="2952720"/>
                <a:gridCol w="2087280"/>
                <a:gridCol w="1944720"/>
                <a:gridCol w="183528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 49 DoM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Water meter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 60 DoM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load cell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 76 DoM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AWI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ipant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ssuing and Utilizing)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ing Participants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A Certificates issued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WP6, Gen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6E17-CD01-45F4-B385-7FF7D0A2F18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.11.04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Inform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4800" spc="-1" strike="noStrike">
                <a:solidFill>
                  <a:srgbClr val="000000"/>
                </a:solidFill>
                <a:latin typeface="Arial"/>
              </a:rPr>
              <a:t>www.oiml.or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WP6, Gen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B741-F193-449C-97AD-CC03EFCC8E5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.11.04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17:29:16Z</dcterms:created>
  <dc:creator>Willem Kool</dc:creator>
  <dc:description/>
  <dc:language>en-US</dc:language>
  <cp:lastModifiedBy>Willem Kool</cp:lastModifiedBy>
  <cp:lastPrinted>2007-01-26T14:18:47Z</cp:lastPrinted>
  <dcterms:modified xsi:type="dcterms:W3CDTF">2008-11-03T18:17:45Z</dcterms:modified>
  <cp:revision>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37957160</vt:r8>
  </property>
</Properties>
</file>