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9F88-0C83-4527-953E-B6FAB6023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7892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B792-09FD-49D5-8BEF-0EC64175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4436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78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4436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3849-C861-4A43-BCCA-04E713F3A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2516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104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7892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2516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104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C516-D17B-4285-8532-5CE1F1511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4340A-BC9E-49A0-9A6D-7E57AA8FA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7892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5F9BD-16C0-4FE9-A167-FF993BB8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F2397-3A68-4AEA-955C-E94448993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436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19712-48F3-48A6-AD07-A1F17EB55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BA7D9-880C-4F9B-9E1E-2407B5D64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403280" y="-360"/>
            <a:ext cx="7561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37C22-12EE-42AB-8A36-3D494C398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436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8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B69AE-9227-40BD-9CD9-E0A20980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7892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4289-F2D1-45CD-958E-A1ED30E7F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36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4436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01F5B-5390-49CC-B501-82325FF0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436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7892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3E5BC-1B8A-48C0-8625-8821E9FD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7892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A6698-44FC-442B-B845-5F5871998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436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8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4436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60FB4-01BA-44E1-AE19-5ACA96066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12516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7104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7892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12516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7104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780EA-36BC-40E6-82B2-CCDD5559F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0153-8D65-4A15-8C4E-21F36A456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436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52FD-F313-42E6-969B-5054EA1A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45A2-E28D-42F5-B76D-ACA1BC5AC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403280" y="-360"/>
            <a:ext cx="7561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E8E8-7557-4998-ACA1-9AF99A8D7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36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78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BFB0-5280-4504-BA71-C634D6F6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436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4436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74D8-7845-4BBB-9387-41C6D6C0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436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7892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FF93-23F8-4502-85EA-BFC6951A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77480" cy="68612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0" y="0"/>
            <a:ext cx="9177480" cy="119700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>
            <a:lum bright="6000"/>
          </a:blip>
          <a:srcRect l="0" t="66165" r="0" b="0"/>
          <a:stretch/>
        </p:blipFill>
        <p:spPr>
          <a:xfrm>
            <a:off x="0" y="6453360"/>
            <a:ext cx="9177480" cy="404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178920" y="6532560"/>
            <a:ext cx="180036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2252520" y="6532560"/>
            <a:ext cx="467856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7203600" y="6533640"/>
            <a:ext cx="180036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7E3EE-79DB-466C-A5D1-EA1A9220F075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179280" y="165240"/>
            <a:ext cx="954360" cy="83016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4"/>
          <p:cNvSpPr>
            <a:spLocks noGrp="1"/>
          </p:cNvSpPr>
          <p:nvPr>
            <p:ph type="body"/>
          </p:nvPr>
        </p:nvSpPr>
        <p:spPr>
          <a:xfrm>
            <a:off x="17892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77480" cy="6861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>
            <a:lum bright="6000"/>
          </a:blip>
          <a:srcRect l="0" t="66165" r="0" b="0"/>
          <a:stretch/>
        </p:blipFill>
        <p:spPr>
          <a:xfrm>
            <a:off x="0" y="6453360"/>
            <a:ext cx="9177480" cy="404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0" y="0"/>
            <a:ext cx="9177480" cy="1197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467000" y="157320"/>
            <a:ext cx="742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International Organization of Legal Metr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Arial"/>
              </a:rPr>
              <a:t>Organisation Internationale de Métrologie Lég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179280" y="165240"/>
            <a:ext cx="954360" cy="8301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178920" y="6532560"/>
            <a:ext cx="180036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2252520" y="6532560"/>
            <a:ext cx="467856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203600" y="6533640"/>
            <a:ext cx="180036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A26BC-B35B-4090-93CF-09EEDAB23616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90400"/>
            <a:ext cx="72694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IML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llem K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ML Assistant Dir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UNECE WP6, Gen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C6BD0-EB20-40D2-ADC7-0D07C379587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8.11.04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onference and Committe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7 – 31 October 2008, Sydney, Austral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3th Confer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pproved 2009-2012 bud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nctioned new and revised OIML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43rd CIML Meet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pproved new and revised OIML Recommendations and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ithdrew Recommendations on hardness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ssociated meeting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ional Legal Metrology Organizations Round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rking Group on Conformity to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WP6, Gen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241F-F56E-4DFD-88BE-9F0B797A5A7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.11.04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OIML Recommend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a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rmonized technical and metrological requirements for measuring instr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st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st repor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del regulations: OIML Member States have a moral obligation to imp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ternational standards: Article 2.4 of the WTO/TBT Agre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WP6, Gen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77B3-15A6-46A9-BBB3-76E887F3F30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.11.04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New Recommend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 56:2008 </a:t>
            </a: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Standard solutions reproducing the electrolytic condu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 71:2008 </a:t>
            </a: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Fixed storage tanks. General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 85:2008 </a:t>
            </a: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Automatic level gauges for measuring the level of liquid in stationary storage ta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 99:2008 </a:t>
            </a: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Instruments for measuring vehicle exhaust emissions (OIML-ISO joint public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 141:2008 </a:t>
            </a: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Procedure for calibration and verification of the main characteristics of thermographic instr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 142:2008 </a:t>
            </a: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Automated refractometers: Methods and means of 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WP6, Gen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C3DB-EFB1-4606-9DE7-49776FCF2DD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.11.04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New Docu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 29:2008 </a:t>
            </a: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Guide for the application of ISO/IEC Guide 65 to assessment of measuring instrument certification bodies in legal metr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 30:2008 </a:t>
            </a: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Guide for the application of ISO/IEC 17025 to the assessment of Testing Laboratories involved in legal metr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 31:2008 </a:t>
            </a: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General requirements for software controlled measuring instr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WP6, Gen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362C-15C3-4C64-A571-CD2CFDF413F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.11.04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OIML Public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l OIML Publications may be downloaded free of charge fro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www.oiml.org/publ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WP6, Gen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9ED1-3789-4933-BC01-AE722DEBA1E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.11.04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Membershi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59 Member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57 Corresponding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w corresponding member in 200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nteneg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WP6, Gen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5EC0-9107-43BC-AE9E-A8543650158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.11.04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OIML MA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87138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IML Mutual Acceptance Arrangement for Measuring Instruments (Type approval evalu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79280" y="2708280"/>
          <a:ext cx="8820000" cy="2722680"/>
        </p:xfrm>
        <a:graphic>
          <a:graphicData uri="http://schemas.openxmlformats.org/drawingml/2006/table">
            <a:tbl>
              <a:tblPr/>
              <a:tblGrid>
                <a:gridCol w="2952720"/>
                <a:gridCol w="2087280"/>
                <a:gridCol w="1944720"/>
                <a:gridCol w="183528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 49 DoM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Water meter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 60 DoM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load cell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 76 DoM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AWI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ipant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ssuing and Utilizing)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ing Participants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A Certificates issued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WP6, Gen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320B-542B-4528-9D4A-0646C05AC37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.11.04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Inform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4800" spc="-1" strike="noStrike">
                <a:solidFill>
                  <a:srgbClr val="000000"/>
                </a:solidFill>
                <a:latin typeface="Arial"/>
              </a:rPr>
              <a:t>www.oiml.or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WP6, Gen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846F-006E-481F-BFFD-36F64EF5150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.11.04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17:29:16Z</dcterms:created>
  <dc:creator>Willem Kool</dc:creator>
  <dc:description/>
  <dc:language>en-US</dc:language>
  <cp:lastModifiedBy>Willem Kool</cp:lastModifiedBy>
  <cp:lastPrinted>2007-01-26T14:18:47Z</cp:lastPrinted>
  <dcterms:modified xsi:type="dcterms:W3CDTF">2008-11-03T18:17:45Z</dcterms:modified>
  <cp:revision>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37957160</vt:r8>
  </property>
</Properties>
</file>