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36262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6262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7080" y="36262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6761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0040" y="16761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36262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36262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0040" y="36262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6262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6262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6262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6262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6262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6262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6761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6761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6262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6262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6262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36262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7080" y="36262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6262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302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905120" y="2514600"/>
            <a:ext cx="6553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ernational Model for Technical Harmonization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arth-Moving Machine Safety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4648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Roley/Jan Mimer/Kenzo Tan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3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ed Actions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ctoral Initiative Requests the Working Party to Revise the CROs That Were Adopted in 2004, Specifically As Regards the “Compliance Caus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Further Requests a Mandate to Develop Different Options That Can Be Used When Supplier’s Declaration of Conformity Is Not Judged to Be Accepta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ine of Present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 of International Model for Technical Harmonization for Earth-Mov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Experience in Promoting the International Model for Earth-Mov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al for Improving the International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980GWL" descr=""/>
          <p:cNvPicPr/>
          <p:nvPr/>
        </p:nvPicPr>
        <p:blipFill>
          <a:blip r:embed="rId1"/>
          <a:stretch/>
        </p:blipFill>
        <p:spPr>
          <a:xfrm>
            <a:off x="2914560" y="3879720"/>
            <a:ext cx="3257640" cy="2444760"/>
          </a:xfrm>
          <a:prstGeom prst="rect">
            <a:avLst/>
          </a:prstGeom>
          <a:ln w="0">
            <a:noFill/>
          </a:ln>
        </p:spPr>
      </p:pic>
      <p:pic>
        <p:nvPicPr>
          <p:cNvPr id="83" name="G710B%20-%20Grader" descr=""/>
          <p:cNvPicPr/>
          <p:nvPr/>
        </p:nvPicPr>
        <p:blipFill>
          <a:blip r:embed="rId2"/>
          <a:stretch/>
        </p:blipFill>
        <p:spPr>
          <a:xfrm>
            <a:off x="0" y="3962520"/>
            <a:ext cx="2895480" cy="2295360"/>
          </a:xfrm>
          <a:prstGeom prst="rect">
            <a:avLst/>
          </a:prstGeom>
          <a:ln w="0">
            <a:noFill/>
          </a:ln>
        </p:spPr>
      </p:pic>
      <p:pic>
        <p:nvPicPr>
          <p:cNvPr id="84" name="BL70%20-%20BHL%20III" descr=""/>
          <p:cNvPicPr/>
          <p:nvPr/>
        </p:nvPicPr>
        <p:blipFill>
          <a:blip r:embed="rId3"/>
          <a:stretch/>
        </p:blipFill>
        <p:spPr>
          <a:xfrm>
            <a:off x="6189840" y="3657600"/>
            <a:ext cx="2954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arth-Moving Machin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for Excavating, Loading, Transporting, Spreading and Compacting Earth and Other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11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61722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D11RTTT" descr=""/>
          <p:cNvPicPr/>
          <p:nvPr/>
        </p:nvPicPr>
        <p:blipFill>
          <a:blip r:embed="rId2"/>
          <a:srcRect l="4880" t="25361" r="8538" b="15506"/>
          <a:stretch/>
        </p:blipFill>
        <p:spPr>
          <a:xfrm>
            <a:off x="0" y="2438280"/>
            <a:ext cx="3276720" cy="2214720"/>
          </a:xfrm>
          <a:prstGeom prst="rect">
            <a:avLst/>
          </a:prstGeom>
          <a:ln w="0">
            <a:noFill/>
          </a:ln>
        </p:spPr>
      </p:pic>
      <p:pic>
        <p:nvPicPr>
          <p:cNvPr id="89" name="trucksm" descr=""/>
          <p:cNvPicPr/>
          <p:nvPr/>
        </p:nvPicPr>
        <p:blipFill>
          <a:blip r:embed="rId3">
            <a:lum bright="18000"/>
          </a:blip>
          <a:srcRect l="6900" t="46398" r="37512" b="10943"/>
          <a:stretch/>
        </p:blipFill>
        <p:spPr>
          <a:xfrm>
            <a:off x="6172200" y="2438280"/>
            <a:ext cx="2814480" cy="2129040"/>
          </a:xfrm>
          <a:prstGeom prst="rect">
            <a:avLst/>
          </a:prstGeom>
          <a:ln w="0">
            <a:noFill/>
          </a:ln>
        </p:spPr>
      </p:pic>
      <p:pic>
        <p:nvPicPr>
          <p:cNvPr id="90" name="scraper" descr=""/>
          <p:cNvPicPr/>
          <p:nvPr/>
        </p:nvPicPr>
        <p:blipFill>
          <a:blip r:embed="rId4"/>
          <a:srcRect l="4850" t="18226" r="8414" b="30449"/>
          <a:stretch/>
        </p:blipFill>
        <p:spPr>
          <a:xfrm>
            <a:off x="3200400" y="4876920"/>
            <a:ext cx="3048120" cy="1971720"/>
          </a:xfrm>
          <a:prstGeom prst="rect">
            <a:avLst/>
          </a:prstGeom>
          <a:ln w="0">
            <a:noFill/>
          </a:ln>
        </p:spPr>
      </p:pic>
      <p:pic>
        <p:nvPicPr>
          <p:cNvPr id="91" name="A25D%206x6%20-%20ART" descr=""/>
          <p:cNvPicPr/>
          <p:nvPr/>
        </p:nvPicPr>
        <p:blipFill>
          <a:blip r:embed="rId5"/>
          <a:stretch/>
        </p:blipFill>
        <p:spPr>
          <a:xfrm>
            <a:off x="3352680" y="2438280"/>
            <a:ext cx="2819520" cy="2718000"/>
          </a:xfrm>
          <a:prstGeom prst="rect">
            <a:avLst/>
          </a:prstGeom>
          <a:ln w="0">
            <a:noFill/>
          </a:ln>
        </p:spPr>
      </p:pic>
      <p:pic>
        <p:nvPicPr>
          <p:cNvPr id="92" name="BHLroading" descr=""/>
          <p:cNvPicPr/>
          <p:nvPr/>
        </p:nvPicPr>
        <p:blipFill>
          <a:blip r:embed="rId6"/>
          <a:stretch/>
        </p:blipFill>
        <p:spPr>
          <a:xfrm>
            <a:off x="76320" y="4508640"/>
            <a:ext cx="32004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ational Model 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cal Harmon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y Associations From EU, USA, and Japan Worked Together to Develop an International Model for Earth-Moving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ternational Model Outlines General Principles for Technical Regulations Following the WP 6 Guide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ternational Model Is Based on the Technical Requirements From the ISO/TC 127 Standards – ISO 2047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M International Model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371600"/>
            <a:ext cx="8229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cope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Applies to Earth-Moving Machines Defined by ISO 61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chnical Require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Minimize Machine Safety Risks During Lifetime of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 to ISO Standards for  Compli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ISO/TC 127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liance Clau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Use Supplier’s Declaration of Conformance (SD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rket Surveillance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National Level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Experience Promot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nternational Mode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Working With China, Russia,  India, and Chile.  Initial Contact with G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/TC 127 Standards Are Accepted as National Standards, With Some National Differences Due to Technolog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Work Within the Regulatory Process and the Format for Regulations in Each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Principles of the International Model Regulation Can Be Applied to Different Types of Regulatory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Guidance is Needed for the Compliance Clause in the Interna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ormity Assessment Experi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pan and the USA Accept SD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 Uses 93/465/EEC for Conformity Assessment and Cer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oC is Accepted for Earth-Mov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ew Procedure Is Being Developed to  Emphasize the Use of Harmonized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Recommends Conformity Assessment by the Manuf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DoC Not as Well Accepted in Developing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ormity Assessment - Challenges in Developing Count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facturers So Far Are Not Trusted to Do Their Own Compliance Declar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Small and Medium Manufacturers Are Considered to Need Help With Conformity Assessment and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urces for Market Surveillance Are Limited and a Third Party Conformity Assessment and Certification Process Is Considered As a Way to Compensate for the Challenges With Market Surveill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Compliance O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ufacturer Compliance Testing -  Supplier’s Declaration of Conform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rd Party - Conformity Assessment and Issuance of 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bined Pro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facturer – Complianc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rd Party:  Review Test Facilities and Quality Assurance Systems and Issue Compliance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O CASCO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EC Draft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1:32:46Z</dcterms:created>
  <dc:creator>Daniel G. Roley</dc:creator>
  <dc:description/>
  <dc:language>en-US</dc:language>
  <cp:lastModifiedBy>roleydg</cp:lastModifiedBy>
  <dcterms:modified xsi:type="dcterms:W3CDTF">2008-11-03T09:07:52Z</dcterms:modified>
  <cp:revision>64</cp:revision>
  <dc:subject/>
  <dc:title>PowerPoint Presentation</dc:title>
</cp:coreProperties>
</file>