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040" y="6205680"/>
            <a:ext cx="1700280" cy="27144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c.europa.eu/enterprise/newapproach/review_en.htm" TargetMode="External"/><Relationship Id="rId3" Type="http://schemas.openxmlformats.org/officeDocument/2006/relationships/hyperlink" Target="http://ec.europa.eu/enterprise/newapproach/review_en.htm" TargetMode="External"/><Relationship Id="rId4" Type="http://schemas.openxmlformats.org/officeDocument/2006/relationships/hyperlink" Target="http://ec.europa.eu/enterprise/newapproach/review_en.htm" TargetMode="External"/><Relationship Id="rId5" Type="http://schemas.openxmlformats.org/officeDocument/2006/relationships/hyperlink" Target="http://ec.europa.eu/enterprise/newapproach/review_en.htm" TargetMode="External"/><Relationship Id="rId6" Type="http://schemas.openxmlformats.org/officeDocument/2006/relationships/hyperlink" Target="http://ec.europa.eu/enterprise/regulation/internal_market_package/index_en.htm" TargetMode="External"/><Relationship Id="rId7" Type="http://schemas.openxmlformats.org/officeDocument/2006/relationships/hyperlink" Target="mailto:Entr-reg-approach-for-free-circ@ec.europa.eu" TargetMode="External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684360" y="141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a7100"/>
                </a:solidFill>
                <a:latin typeface="Arial"/>
              </a:rPr>
              <a:t>The New Legislativ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3645000"/>
            <a:ext cx="7982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ta L’Ab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t C1: Regulatory approach for the free movement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14400" y="5381640"/>
            <a:ext cx="350532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Regulation – Accreditation (1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iv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 create confidence in accredited certificates thus establishing trust in the market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 ensure ONE accreditation certificate for whole territory of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 introduce a horizontal framework for accreditation and to lay down principles for its operation and organisation at Community level to ensure unifor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Arial"/>
              </a:rPr>
              <a:t>Regulation – Accreditation (2)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78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redit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Assessment of competence of conformity assessment bodies (laboratories, testing and inspection bodie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pe: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 exemp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accreditation of all conformity assessment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sational framewor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no general obligation to be accred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ngle accredit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ody per Membe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Arial"/>
              </a:rPr>
              <a:t>Regulation – Accreditation (3)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78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reditation -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blic author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reditation in the Member State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s for accreditation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er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 (European co-operation for accreditation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Regulation – market surveillance (1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monised produc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ptions: food, feed, human blood, cells, tissues and agricultural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x speci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Regulation – market surveillance (2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Organisa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rastructures, resources,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aint procedures, monitoring of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surveillance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Regulation – market surveillance (3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urveillanc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priate product checks on </a:t>
            </a:r>
            <a:r>
              <a:rPr b="0" lang="en-GB" sz="2800" spc="-1" strike="noStrike">
                <a:solidFill>
                  <a:srgbClr val="aa7100"/>
                </a:solidFill>
                <a:latin typeface="Arial"/>
              </a:rPr>
              <a:t>“adequate sc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to</a:t>
            </a:r>
            <a:r>
              <a:rPr b="0" lang="en-GB" sz="2800" spc="-1" strike="noStrike">
                <a:solidFill>
                  <a:srgbClr val="aa7100"/>
                </a:solidFill>
                <a:latin typeface="Arial"/>
              </a:rPr>
              <a:t> enter premise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k for</a:t>
            </a:r>
            <a:r>
              <a:rPr b="0" lang="en-GB" sz="2800" spc="-1" strike="noStrike">
                <a:solidFill>
                  <a:srgbClr val="aa7100"/>
                </a:solidFill>
                <a:latin typeface="Arial"/>
              </a:rPr>
              <a:t>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a7100"/>
                </a:solidFill>
                <a:latin typeface="Arial"/>
              </a:rPr>
              <a:t>Warnin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Regulation – market surveillance (4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Restrictiv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drawal/recall products posing a </a:t>
            </a:r>
            <a:r>
              <a:rPr b="0" lang="en-GB" sz="2800" spc="-1" strike="noStrike">
                <a:solidFill>
                  <a:srgbClr val="aa7100"/>
                </a:solidFill>
                <a:latin typeface="Arial"/>
              </a:rPr>
              <a:t>“serious ris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a7100"/>
                </a:solidFill>
                <a:latin typeface="Arial"/>
              </a:rPr>
              <a:t>Rapid inform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ll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 economic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ility to </a:t>
            </a:r>
            <a:r>
              <a:rPr b="0" lang="en-GB" sz="2800" spc="-1" strike="noStrike">
                <a:solidFill>
                  <a:srgbClr val="aa7100"/>
                </a:solidFill>
                <a:latin typeface="Arial"/>
              </a:rPr>
              <a:t>destro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Arial"/>
              </a:rPr>
              <a:t>Regulation – market surveillance (5)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Communication and co-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change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pid information on dangerous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ligation to cooperate with other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initiatives, training programmes, sharing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Arial"/>
              </a:rPr>
              <a:t>Regulation – market surveillance (6)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a7100"/>
                </a:solidFill>
                <a:latin typeface="Arial"/>
              </a:rPr>
              <a:t>Control of products entering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s must carry out checks at external borders on an adequate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spension of release for free circulation if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not properly 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s a serious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of market surveillance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ility of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Regulation – CE marking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0549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ing – General principl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to rules in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on products for which affixing is foreseen in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fixing = responsibility for confor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 to other mark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gation for MS to protect 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332000" y="1700280"/>
            <a:ext cx="7920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w Legislative Framework (NL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ec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 pha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Arial"/>
              </a:rPr>
              <a:t>Decision – toolbox for future legislation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inciples and reference provisions for the drawing up of  Community harmo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guidelines for legi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sential requirements instead of technic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ice of conformity assessme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99"/>
                </a:solidFill>
                <a:latin typeface="Arial"/>
              </a:rPr>
              <a:t>Decision – model articles (1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cing on the market, manufacturer, importe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ligations of economic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iation according to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ufacturer, Authorised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rs and distributors </a:t>
            </a:r>
            <a:r>
              <a:rPr b="1" lang="en-GB" sz="2800" spc="-1" strike="noStrike">
                <a:solidFill>
                  <a:srgbClr val="006699"/>
                </a:solidFill>
                <a:latin typeface="Arial"/>
              </a:rPr>
              <a:t>NE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ceability provi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99"/>
                </a:solidFill>
                <a:latin typeface="Arial"/>
              </a:rPr>
              <a:t>Decision – model articles (2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formity asse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les and conditions for affixing – form of the 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187280" y="2997360"/>
            <a:ext cx="7304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Decision – model articles (3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fied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ments for notifying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ification criteria/ role of 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ification process – electronic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gation of notified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aries and sub-contr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 requirements COMM/MS de-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-ordination GN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Decision – model articles (4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03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guard claus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ification of measure – time for ob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objections – all MS must take relevan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on: Matter decided at EU level – Commission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99"/>
                </a:solidFill>
                <a:latin typeface="Arial"/>
              </a:rPr>
              <a:t>Implementation phase</a:t>
            </a:r>
            <a:r>
              <a:rPr b="1" lang="fr-FR" sz="3600" spc="-1" strike="noStrike">
                <a:solidFill>
                  <a:srgbClr val="aa71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6699"/>
                </a:solidFill>
                <a:latin typeface="Arial"/>
              </a:rPr>
              <a:t>- prioritie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8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ion – 1 Jan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Accredit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relationship with 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Market surveil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exchange systems (RAPEX and data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x specialis – how 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elines: e.g. market surveillance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” alignment of legislation under review (e.g. toys safe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a7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ignment of legislation not up for revi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Web site addresse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848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Legal Framework: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c.europa.eu/enterprise/newapproach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view_e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internal market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ec.europa.eu/enterprise/regulation/internal_market_package/index_en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ntr-reg-approach-for-free-circ@ec.europa.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03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New Legislative Framework - Text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060640"/>
            <a:ext cx="8424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01"/>
              </a:spcBef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a7100"/>
                </a:solidFill>
                <a:latin typeface="Arial"/>
              </a:rPr>
              <a:t>OJ L218 - 13.08.08 :</a:t>
            </a:r>
            <a:r>
              <a:rPr b="1" lang="en-GB" sz="4000" spc="-1" strike="noStrike">
                <a:solidFill>
                  <a:srgbClr val="006699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rial"/>
              </a:rPr>
              <a:t>Regulation 765/2008/E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requirements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credi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 surveill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lating to the marketing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rial"/>
              </a:rPr>
              <a:t>Decision 768/2008/E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on framewor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ing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Timeframe/Proces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b9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option :  9 July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b9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ublication in OJEU – 13 August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b9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ntry into force 20 days after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b9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ate of application of Regulation 765/2008 is 1 Ja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b9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cision ‘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ui gener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’ = by issue/by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Why did we propose the review?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31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erience shows Directives do not  function in the same way in all Member States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levels of controls in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qual treatment, distortion of compet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 conforming products bearing CE marking Lack of trust in 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ways of controlling notified bodies -  no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ing definitions, unclear obligations for importers distributo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Main elements covered by the Review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surveillan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reditation - Notified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le and significance of CE 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definitions &amp;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guard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Arial"/>
              </a:rPr>
              <a:t>NLF- 2 Complementary legislative tools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3960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a7100"/>
                </a:solidFill>
                <a:latin typeface="Arial"/>
              </a:rPr>
              <a:t>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Surveil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    princi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ncing element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Arial"/>
              </a:rPr>
              <a:t>Applicable 1 Ja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1557360"/>
            <a:ext cx="4716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a7100"/>
                </a:solidFill>
                <a:latin typeface="Arial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gations for economic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ormity Assess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ified 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feguard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Arial"/>
              </a:rPr>
              <a:t>Basis for future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1484280"/>
            <a:ext cx="0" cy="4176720"/>
          </a:xfrm>
          <a:prstGeom prst="line">
            <a:avLst/>
          </a:prstGeom>
          <a:ln w="507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932360" y="3933720"/>
            <a:ext cx="544680" cy="358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3789360"/>
            <a:ext cx="5446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99"/>
                </a:solidFill>
                <a:latin typeface="Arial"/>
              </a:rPr>
              <a:t>The Regulation &amp; the Decision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a7100"/>
                </a:solidFill>
                <a:latin typeface="Arial"/>
              </a:rPr>
              <a:t>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s elements not already included in sectoral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s direct rights and obligations for Member States and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law in all Member States on 1 Januar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 States need to be ready to app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557360"/>
            <a:ext cx="4176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a7100"/>
                </a:solidFill>
                <a:latin typeface="Arial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s elements already included in legis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ui Gener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ision -applies to EU legislator, Commi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immediate effects for Member States or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Regulation tool: model Articles  - “toolbo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es to new legislation or revisions of legisl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484280"/>
            <a:ext cx="0" cy="4465800"/>
          </a:xfrm>
          <a:prstGeom prst="line">
            <a:avLst/>
          </a:prstGeom>
          <a:ln w="507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99"/>
                </a:solidFill>
                <a:latin typeface="Arial"/>
              </a:rPr>
              <a:t>Regulation –main objective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han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tual confid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tificat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quality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formity assess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on transparent ru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assessing the competence of conformity assess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arket surveil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our internal market legislation more effective by ensur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ter contro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is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qual condi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economic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d coop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 exchan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mongst market surveillance authorities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abbatri</cp:lastModifiedBy>
  <cp:lastPrinted>2008-06-02T19:37:29Z</cp:lastPrinted>
  <dcterms:modified xsi:type="dcterms:W3CDTF">2008-10-31T17:50:35Z</dcterms:modified>
  <cp:revision>7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6553406</vt:r8>
  </property>
  <property fmtid="{D5CDD505-2E9C-101B-9397-08002B2CF9AE}" pid="3" name="_AuthorEmail">
    <vt:lpwstr>Birgit.WEIDEL@ec.europa.eu</vt:lpwstr>
  </property>
  <property fmtid="{D5CDD505-2E9C-101B-9397-08002B2CF9AE}" pid="4" name="_AuthorEmailDisplayName">
    <vt:lpwstr>WEIDEL Birgit (ENTR)</vt:lpwstr>
  </property>
  <property fmtid="{D5CDD505-2E9C-101B-9397-08002B2CF9AE}" pid="5" name="_EmailSubject">
    <vt:lpwstr>draft agenda SC meeting 081030.doc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