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969-6587-4152-936B-6120A44B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EC6-7D62-4F15-BB12-BD5B9B62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97D-8490-4377-8D41-FA9FE64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095-A2A3-4F2F-968D-254B6B85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8CC-048D-4943-937F-6B77F850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05D-12D7-470B-9C38-00A319C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80B-A294-4F44-8D45-A907C8CC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0C1-D398-44EB-8065-A487A1B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668-6914-4579-9FB3-6051206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AF9-0E27-41C8-A8AE-00AECE7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537-F0E7-4B3D-86DE-5470DAF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A1E-3A65-4BCF-8FA2-06E7564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E86-BDDD-417C-BD10-9EE6DA5E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_EA_QUADRI" descr=""/>
          <p:cNvPicPr/>
          <p:nvPr/>
        </p:nvPicPr>
        <p:blipFill>
          <a:blip r:embed="rId1"/>
          <a:stretch/>
        </p:blipFill>
        <p:spPr>
          <a:xfrm>
            <a:off x="0" y="228600"/>
            <a:ext cx="3581280" cy="83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219320"/>
            <a:ext cx="8839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general Assembly held on 7/8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w signatories to the MLA : Turkey and 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uropean Commission presented expectations to EA and EA members in the frame of the project aiming to enhance the application of the new approach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eparation of a cross frontier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scussions on how better influence the work at the worldwide level (ILAC, IA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1576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76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80880" y="1828800"/>
            <a:ext cx="83822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executive committee meeting held on 11/12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ork on the proficiency testing iss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PT Consultative   gro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operation with ISO, BIPM, OI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60020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executive committee meeting held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5/16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ategic planning discussions to improve the service granted by IAF and its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inuous work to provide guidance documents aiming harmonisation of accreditation over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oss frontier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OPER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7742160" y="0"/>
          <a:ext cx="140184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2160" y="0"/>
                    <a:ext cx="1401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09480" y="1447920"/>
            <a:ext cx="85345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Committee for Closer Cooperation held last meeting on 13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activiti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ining of peer evalu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aintenace of common procedures for peer evaluation and M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uidance on ISO/IEC 17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WG on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management of the M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OPER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76520"/>
            <a:ext cx="815364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 (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e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committee for support to developing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WG on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task force on « what is accreditabl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/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Working Group held last meeting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4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742160" y="0"/>
          <a:ext cx="140184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2160" y="0"/>
                    <a:ext cx="1401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0:27:31Z</dcterms:created>
  <dc:creator>MAT</dc:creator>
  <dc:description/>
  <dc:language>en-US</dc:language>
  <cp:lastModifiedBy>Rames</cp:lastModifiedBy>
  <dcterms:modified xsi:type="dcterms:W3CDTF">2006-06-15T09:31:01Z</dcterms:modified>
  <cp:revision>11</cp:revision>
  <dc:subject/>
  <dc:title>UPDATE</dc:title>
</cp:coreProperties>
</file>