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391-3004-4771-B3C1-591A0CF5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BE-EBC5-48E2-BACA-ABD7E48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CB5-E70D-43E5-BA56-36AF77ED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E52-8E8D-4B7D-8205-CBA2AA27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528-577D-47C5-9FAF-07665B35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AEF-D33D-42F5-851F-0BD90F0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CD1-C03A-4F7D-AC99-E0D6999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49D-E9B3-45FA-B036-4C017EF6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7F4-E7E2-4033-B0E9-C72BB119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FB9-1A14-45B5-8CEE-A575C60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8C5-EC5C-4071-9E64-B64A629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49F-9227-4B50-9E2A-E042647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43C-DFCE-4753-AEC7-73931BEF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_EA_QUADRI" descr=""/>
          <p:cNvPicPr/>
          <p:nvPr/>
        </p:nvPicPr>
        <p:blipFill>
          <a:blip r:embed="rId1"/>
          <a:stretch/>
        </p:blipFill>
        <p:spPr>
          <a:xfrm>
            <a:off x="0" y="228600"/>
            <a:ext cx="3581280" cy="83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219320"/>
            <a:ext cx="8839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general Assembly held on 7/8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w signatories to the MLA : Turkey and 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uropean Commission presented expectations to EA and EA members in the frame of the project aiming to enhance the application of the new approach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eparation of a cross frontier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scussions on how better influence the work at the worldwide level (ILAC, IA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1576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76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80880" y="1828800"/>
            <a:ext cx="83822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executive committee meeting held on 11/12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ork on the proficiency testing iss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PT Consultative   gro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operation with ISO, BIPM, OI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60020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st executive committee meeting held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5/16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ategic planning discussions to improve the service granted by IAF and its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inuous work to provide guidance documents aiming harmonisation of accreditation over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oss frontier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OPER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7742160" y="0"/>
          <a:ext cx="140184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2160" y="0"/>
                    <a:ext cx="1401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09480" y="1447920"/>
            <a:ext cx="85345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Committee for Closer Cooperation held last meeting on 13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activiti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ining of peer evalu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aintenace of common procedures for peer evaluation and M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uidance on ISO/IEC 17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WG on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management of the M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OPER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76520"/>
            <a:ext cx="815364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 (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e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committee for support to developing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WG on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task force on « what is accreditabl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AC/IAF/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Joint Working Group held last meeting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4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AF%20logo" descr=""/>
          <p:cNvPicPr/>
          <p:nvPr/>
        </p:nvPicPr>
        <p:blipFill>
          <a:blip r:embed="rId1"/>
          <a:stretch/>
        </p:blipFill>
        <p:spPr>
          <a:xfrm>
            <a:off x="0" y="228600"/>
            <a:ext cx="1784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742160" y="0"/>
          <a:ext cx="140184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2160" y="0"/>
                    <a:ext cx="1401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0:27:31Z</dcterms:created>
  <dc:creator>MAT</dc:creator>
  <dc:description/>
  <dc:language>en-US</dc:language>
  <cp:lastModifiedBy>Rames</cp:lastModifiedBy>
  <dcterms:modified xsi:type="dcterms:W3CDTF">2006-06-15T09:31:01Z</dcterms:modified>
  <cp:revision>11</cp:revision>
  <dc:subject/>
  <dc:title>UPDATE</dc:title>
</cp:coreProperties>
</file>